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2" name="PlaceHolder 2"/>
          <p:cNvSpPr>
            <a:spLocks noGrp="1"/>
          </p:cNvSpPr>
          <p:nvPr>
            <p:ph/>
          </p:nvPr>
        </p:nvSpPr>
        <p:spPr>
          <a:xfrm>
            <a:off x="1218960" y="320940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3" name="PlaceHolder 3"/>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5"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6"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7"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8" name="PlaceHolder 5"/>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30" name="PlaceHolder 2"/>
          <p:cNvSpPr>
            <a:spLocks noGrp="1"/>
          </p:cNvSpPr>
          <p:nvPr>
            <p:ph/>
          </p:nvPr>
        </p:nvSpPr>
        <p:spPr>
          <a:xfrm>
            <a:off x="121896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31" name="PlaceHolder 3"/>
          <p:cNvSpPr>
            <a:spLocks noGrp="1"/>
          </p:cNvSpPr>
          <p:nvPr>
            <p:ph/>
          </p:nvPr>
        </p:nvSpPr>
        <p:spPr>
          <a:xfrm>
            <a:off x="86382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32" name="PlaceHolder 4"/>
          <p:cNvSpPr>
            <a:spLocks noGrp="1"/>
          </p:cNvSpPr>
          <p:nvPr>
            <p:ph/>
          </p:nvPr>
        </p:nvSpPr>
        <p:spPr>
          <a:xfrm>
            <a:off x="160578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33" name="PlaceHolder 5"/>
          <p:cNvSpPr>
            <a:spLocks noGrp="1"/>
          </p:cNvSpPr>
          <p:nvPr>
            <p:ph/>
          </p:nvPr>
        </p:nvSpPr>
        <p:spPr>
          <a:xfrm>
            <a:off x="121896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34" name="PlaceHolder 6"/>
          <p:cNvSpPr>
            <a:spLocks noGrp="1"/>
          </p:cNvSpPr>
          <p:nvPr>
            <p:ph/>
          </p:nvPr>
        </p:nvSpPr>
        <p:spPr>
          <a:xfrm>
            <a:off x="86382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35" name="PlaceHolder 7"/>
          <p:cNvSpPr>
            <a:spLocks noGrp="1"/>
          </p:cNvSpPr>
          <p:nvPr>
            <p:ph/>
          </p:nvPr>
        </p:nvSpPr>
        <p:spPr>
          <a:xfrm>
            <a:off x="160578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38" name="PlaceHolder 2"/>
          <p:cNvSpPr>
            <a:spLocks noGrp="1"/>
          </p:cNvSpPr>
          <p:nvPr>
            <p:ph type="subTitle"/>
          </p:nvPr>
        </p:nvSpPr>
        <p:spPr>
          <a:xfrm>
            <a:off x="1218960" y="3209400"/>
            <a:ext cx="21944160" cy="795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40" name="PlaceHolder 2"/>
          <p:cNvSpPr>
            <a:spLocks noGrp="1"/>
          </p:cNvSpPr>
          <p:nvPr>
            <p:ph/>
          </p:nvPr>
        </p:nvSpPr>
        <p:spPr>
          <a:xfrm>
            <a:off x="1218960" y="3209400"/>
            <a:ext cx="219441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42"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43"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218960" y="547200"/>
            <a:ext cx="21944160" cy="10616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47"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48"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49"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 name="PlaceHolder 2"/>
          <p:cNvSpPr>
            <a:spLocks noGrp="1"/>
          </p:cNvSpPr>
          <p:nvPr>
            <p:ph type="subTitle"/>
          </p:nvPr>
        </p:nvSpPr>
        <p:spPr>
          <a:xfrm>
            <a:off x="1218960" y="3209400"/>
            <a:ext cx="21944160" cy="795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51"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52"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53" name="PlaceHolder 4"/>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55"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56"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57" name="PlaceHolder 4"/>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59" name="PlaceHolder 2"/>
          <p:cNvSpPr>
            <a:spLocks noGrp="1"/>
          </p:cNvSpPr>
          <p:nvPr>
            <p:ph/>
          </p:nvPr>
        </p:nvSpPr>
        <p:spPr>
          <a:xfrm>
            <a:off x="1218960" y="320940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0" name="PlaceHolder 3"/>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2"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3"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4"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5" name="PlaceHolder 5"/>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7" name="PlaceHolder 2"/>
          <p:cNvSpPr>
            <a:spLocks noGrp="1"/>
          </p:cNvSpPr>
          <p:nvPr>
            <p:ph/>
          </p:nvPr>
        </p:nvSpPr>
        <p:spPr>
          <a:xfrm>
            <a:off x="121896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8" name="PlaceHolder 3"/>
          <p:cNvSpPr>
            <a:spLocks noGrp="1"/>
          </p:cNvSpPr>
          <p:nvPr>
            <p:ph/>
          </p:nvPr>
        </p:nvSpPr>
        <p:spPr>
          <a:xfrm>
            <a:off x="86382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9" name="PlaceHolder 4"/>
          <p:cNvSpPr>
            <a:spLocks noGrp="1"/>
          </p:cNvSpPr>
          <p:nvPr>
            <p:ph/>
          </p:nvPr>
        </p:nvSpPr>
        <p:spPr>
          <a:xfrm>
            <a:off x="160578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70" name="PlaceHolder 5"/>
          <p:cNvSpPr>
            <a:spLocks noGrp="1"/>
          </p:cNvSpPr>
          <p:nvPr>
            <p:ph/>
          </p:nvPr>
        </p:nvSpPr>
        <p:spPr>
          <a:xfrm>
            <a:off x="121896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71" name="PlaceHolder 6"/>
          <p:cNvSpPr>
            <a:spLocks noGrp="1"/>
          </p:cNvSpPr>
          <p:nvPr>
            <p:ph/>
          </p:nvPr>
        </p:nvSpPr>
        <p:spPr>
          <a:xfrm>
            <a:off x="86382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72" name="PlaceHolder 7"/>
          <p:cNvSpPr>
            <a:spLocks noGrp="1"/>
          </p:cNvSpPr>
          <p:nvPr>
            <p:ph/>
          </p:nvPr>
        </p:nvSpPr>
        <p:spPr>
          <a:xfrm>
            <a:off x="160578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80" name="PlaceHolder 2"/>
          <p:cNvSpPr>
            <a:spLocks noGrp="1"/>
          </p:cNvSpPr>
          <p:nvPr>
            <p:ph type="subTitle"/>
          </p:nvPr>
        </p:nvSpPr>
        <p:spPr>
          <a:xfrm>
            <a:off x="1218960" y="3209400"/>
            <a:ext cx="21944160" cy="795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82" name="PlaceHolder 2"/>
          <p:cNvSpPr>
            <a:spLocks noGrp="1"/>
          </p:cNvSpPr>
          <p:nvPr>
            <p:ph/>
          </p:nvPr>
        </p:nvSpPr>
        <p:spPr>
          <a:xfrm>
            <a:off x="1218960" y="3209400"/>
            <a:ext cx="219441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84"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85"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3" name="PlaceHolder 2"/>
          <p:cNvSpPr>
            <a:spLocks noGrp="1"/>
          </p:cNvSpPr>
          <p:nvPr>
            <p:ph/>
          </p:nvPr>
        </p:nvSpPr>
        <p:spPr>
          <a:xfrm>
            <a:off x="1218960" y="3209400"/>
            <a:ext cx="219441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218960" y="547200"/>
            <a:ext cx="21944160" cy="10616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89"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90"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91"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93"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94"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95" name="PlaceHolder 4"/>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97"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98"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99" name="PlaceHolder 4"/>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1" name="PlaceHolder 2"/>
          <p:cNvSpPr>
            <a:spLocks noGrp="1"/>
          </p:cNvSpPr>
          <p:nvPr>
            <p:ph/>
          </p:nvPr>
        </p:nvSpPr>
        <p:spPr>
          <a:xfrm>
            <a:off x="1218960" y="320940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2" name="PlaceHolder 3"/>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4"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5"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6"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7" name="PlaceHolder 5"/>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9" name="PlaceHolder 2"/>
          <p:cNvSpPr>
            <a:spLocks noGrp="1"/>
          </p:cNvSpPr>
          <p:nvPr>
            <p:ph/>
          </p:nvPr>
        </p:nvSpPr>
        <p:spPr>
          <a:xfrm>
            <a:off x="121896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10" name="PlaceHolder 3"/>
          <p:cNvSpPr>
            <a:spLocks noGrp="1"/>
          </p:cNvSpPr>
          <p:nvPr>
            <p:ph/>
          </p:nvPr>
        </p:nvSpPr>
        <p:spPr>
          <a:xfrm>
            <a:off x="86382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11" name="PlaceHolder 4"/>
          <p:cNvSpPr>
            <a:spLocks noGrp="1"/>
          </p:cNvSpPr>
          <p:nvPr>
            <p:ph/>
          </p:nvPr>
        </p:nvSpPr>
        <p:spPr>
          <a:xfrm>
            <a:off x="160578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12" name="PlaceHolder 5"/>
          <p:cNvSpPr>
            <a:spLocks noGrp="1"/>
          </p:cNvSpPr>
          <p:nvPr>
            <p:ph/>
          </p:nvPr>
        </p:nvSpPr>
        <p:spPr>
          <a:xfrm>
            <a:off x="121896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13" name="PlaceHolder 6"/>
          <p:cNvSpPr>
            <a:spLocks noGrp="1"/>
          </p:cNvSpPr>
          <p:nvPr>
            <p:ph/>
          </p:nvPr>
        </p:nvSpPr>
        <p:spPr>
          <a:xfrm>
            <a:off x="86382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14" name="PlaceHolder 7"/>
          <p:cNvSpPr>
            <a:spLocks noGrp="1"/>
          </p:cNvSpPr>
          <p:nvPr>
            <p:ph/>
          </p:nvPr>
        </p:nvSpPr>
        <p:spPr>
          <a:xfrm>
            <a:off x="160578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28" name="PlaceHolder 2"/>
          <p:cNvSpPr>
            <a:spLocks noGrp="1"/>
          </p:cNvSpPr>
          <p:nvPr>
            <p:ph type="subTitle"/>
          </p:nvPr>
        </p:nvSpPr>
        <p:spPr>
          <a:xfrm>
            <a:off x="1218960" y="3209400"/>
            <a:ext cx="21944160" cy="795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30" name="PlaceHolder 2"/>
          <p:cNvSpPr>
            <a:spLocks noGrp="1"/>
          </p:cNvSpPr>
          <p:nvPr>
            <p:ph/>
          </p:nvPr>
        </p:nvSpPr>
        <p:spPr>
          <a:xfrm>
            <a:off x="1218960" y="3209400"/>
            <a:ext cx="219441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5"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32"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33"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18960" y="547200"/>
            <a:ext cx="21944160" cy="10616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37"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38"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39"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41"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42"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43" name="PlaceHolder 4"/>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45"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46"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47" name="PlaceHolder 4"/>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49" name="PlaceHolder 2"/>
          <p:cNvSpPr>
            <a:spLocks noGrp="1"/>
          </p:cNvSpPr>
          <p:nvPr>
            <p:ph/>
          </p:nvPr>
        </p:nvSpPr>
        <p:spPr>
          <a:xfrm>
            <a:off x="1218960" y="320940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0" name="PlaceHolder 3"/>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2"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3"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4"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5" name="PlaceHolder 5"/>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7" name="PlaceHolder 2"/>
          <p:cNvSpPr>
            <a:spLocks noGrp="1"/>
          </p:cNvSpPr>
          <p:nvPr>
            <p:ph/>
          </p:nvPr>
        </p:nvSpPr>
        <p:spPr>
          <a:xfrm>
            <a:off x="121896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8" name="PlaceHolder 3"/>
          <p:cNvSpPr>
            <a:spLocks noGrp="1"/>
          </p:cNvSpPr>
          <p:nvPr>
            <p:ph/>
          </p:nvPr>
        </p:nvSpPr>
        <p:spPr>
          <a:xfrm>
            <a:off x="86382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9" name="PlaceHolder 4"/>
          <p:cNvSpPr>
            <a:spLocks noGrp="1"/>
          </p:cNvSpPr>
          <p:nvPr>
            <p:ph/>
          </p:nvPr>
        </p:nvSpPr>
        <p:spPr>
          <a:xfrm>
            <a:off x="160578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60" name="PlaceHolder 5"/>
          <p:cNvSpPr>
            <a:spLocks noGrp="1"/>
          </p:cNvSpPr>
          <p:nvPr>
            <p:ph/>
          </p:nvPr>
        </p:nvSpPr>
        <p:spPr>
          <a:xfrm>
            <a:off x="121896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61" name="PlaceHolder 6"/>
          <p:cNvSpPr>
            <a:spLocks noGrp="1"/>
          </p:cNvSpPr>
          <p:nvPr>
            <p:ph/>
          </p:nvPr>
        </p:nvSpPr>
        <p:spPr>
          <a:xfrm>
            <a:off x="86382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62" name="PlaceHolder 7"/>
          <p:cNvSpPr>
            <a:spLocks noGrp="1"/>
          </p:cNvSpPr>
          <p:nvPr>
            <p:ph/>
          </p:nvPr>
        </p:nvSpPr>
        <p:spPr>
          <a:xfrm>
            <a:off x="160578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74" name="PlaceHolder 2"/>
          <p:cNvSpPr>
            <a:spLocks noGrp="1"/>
          </p:cNvSpPr>
          <p:nvPr>
            <p:ph type="subTitle"/>
          </p:nvPr>
        </p:nvSpPr>
        <p:spPr>
          <a:xfrm>
            <a:off x="1218960" y="3209400"/>
            <a:ext cx="21944160" cy="795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76" name="PlaceHolder 2"/>
          <p:cNvSpPr>
            <a:spLocks noGrp="1"/>
          </p:cNvSpPr>
          <p:nvPr>
            <p:ph/>
          </p:nvPr>
        </p:nvSpPr>
        <p:spPr>
          <a:xfrm>
            <a:off x="1218960" y="3209400"/>
            <a:ext cx="219441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78"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79"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18960" y="547200"/>
            <a:ext cx="21944160" cy="10616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83"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84"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85"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87"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88"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89" name="PlaceHolder 4"/>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91"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92"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93" name="PlaceHolder 4"/>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95" name="PlaceHolder 2"/>
          <p:cNvSpPr>
            <a:spLocks noGrp="1"/>
          </p:cNvSpPr>
          <p:nvPr>
            <p:ph/>
          </p:nvPr>
        </p:nvSpPr>
        <p:spPr>
          <a:xfrm>
            <a:off x="1218960" y="320940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96" name="PlaceHolder 3"/>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98"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99"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0"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1" name="PlaceHolder 5"/>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218960" y="547200"/>
            <a:ext cx="21944160" cy="10616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3" name="PlaceHolder 2"/>
          <p:cNvSpPr>
            <a:spLocks noGrp="1"/>
          </p:cNvSpPr>
          <p:nvPr>
            <p:ph/>
          </p:nvPr>
        </p:nvSpPr>
        <p:spPr>
          <a:xfrm>
            <a:off x="121896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4" name="PlaceHolder 3"/>
          <p:cNvSpPr>
            <a:spLocks noGrp="1"/>
          </p:cNvSpPr>
          <p:nvPr>
            <p:ph/>
          </p:nvPr>
        </p:nvSpPr>
        <p:spPr>
          <a:xfrm>
            <a:off x="86382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5" name="PlaceHolder 4"/>
          <p:cNvSpPr>
            <a:spLocks noGrp="1"/>
          </p:cNvSpPr>
          <p:nvPr>
            <p:ph/>
          </p:nvPr>
        </p:nvSpPr>
        <p:spPr>
          <a:xfrm>
            <a:off x="160578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6" name="PlaceHolder 5"/>
          <p:cNvSpPr>
            <a:spLocks noGrp="1"/>
          </p:cNvSpPr>
          <p:nvPr>
            <p:ph/>
          </p:nvPr>
        </p:nvSpPr>
        <p:spPr>
          <a:xfrm>
            <a:off x="121896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7" name="PlaceHolder 6"/>
          <p:cNvSpPr>
            <a:spLocks noGrp="1"/>
          </p:cNvSpPr>
          <p:nvPr>
            <p:ph/>
          </p:nvPr>
        </p:nvSpPr>
        <p:spPr>
          <a:xfrm>
            <a:off x="86382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8" name="PlaceHolder 7"/>
          <p:cNvSpPr>
            <a:spLocks noGrp="1"/>
          </p:cNvSpPr>
          <p:nvPr>
            <p:ph/>
          </p:nvPr>
        </p:nvSpPr>
        <p:spPr>
          <a:xfrm>
            <a:off x="160578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19" name="PlaceHolder 2"/>
          <p:cNvSpPr>
            <a:spLocks noGrp="1"/>
          </p:cNvSpPr>
          <p:nvPr>
            <p:ph type="subTitle"/>
          </p:nvPr>
        </p:nvSpPr>
        <p:spPr>
          <a:xfrm>
            <a:off x="1218960" y="3209400"/>
            <a:ext cx="21944160" cy="795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21" name="PlaceHolder 2"/>
          <p:cNvSpPr>
            <a:spLocks noGrp="1"/>
          </p:cNvSpPr>
          <p:nvPr>
            <p:ph/>
          </p:nvPr>
        </p:nvSpPr>
        <p:spPr>
          <a:xfrm>
            <a:off x="1218960" y="3209400"/>
            <a:ext cx="219441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23"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24"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18960" y="547200"/>
            <a:ext cx="21944160" cy="10616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28"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29"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30"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32"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33"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34" name="PlaceHolder 4"/>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36"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37"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38" name="PlaceHolder 4"/>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1"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2"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40" name="PlaceHolder 2"/>
          <p:cNvSpPr>
            <a:spLocks noGrp="1"/>
          </p:cNvSpPr>
          <p:nvPr>
            <p:ph/>
          </p:nvPr>
        </p:nvSpPr>
        <p:spPr>
          <a:xfrm>
            <a:off x="1218960" y="320940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41" name="PlaceHolder 3"/>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43"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44"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45"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46" name="PlaceHolder 5"/>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48" name="PlaceHolder 2"/>
          <p:cNvSpPr>
            <a:spLocks noGrp="1"/>
          </p:cNvSpPr>
          <p:nvPr>
            <p:ph/>
          </p:nvPr>
        </p:nvSpPr>
        <p:spPr>
          <a:xfrm>
            <a:off x="121896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49" name="PlaceHolder 3"/>
          <p:cNvSpPr>
            <a:spLocks noGrp="1"/>
          </p:cNvSpPr>
          <p:nvPr>
            <p:ph/>
          </p:nvPr>
        </p:nvSpPr>
        <p:spPr>
          <a:xfrm>
            <a:off x="86382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50" name="PlaceHolder 4"/>
          <p:cNvSpPr>
            <a:spLocks noGrp="1"/>
          </p:cNvSpPr>
          <p:nvPr>
            <p:ph/>
          </p:nvPr>
        </p:nvSpPr>
        <p:spPr>
          <a:xfrm>
            <a:off x="160578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51" name="PlaceHolder 5"/>
          <p:cNvSpPr>
            <a:spLocks noGrp="1"/>
          </p:cNvSpPr>
          <p:nvPr>
            <p:ph/>
          </p:nvPr>
        </p:nvSpPr>
        <p:spPr>
          <a:xfrm>
            <a:off x="121896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52" name="PlaceHolder 6"/>
          <p:cNvSpPr>
            <a:spLocks noGrp="1"/>
          </p:cNvSpPr>
          <p:nvPr>
            <p:ph/>
          </p:nvPr>
        </p:nvSpPr>
        <p:spPr>
          <a:xfrm>
            <a:off x="86382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53" name="PlaceHolder 7"/>
          <p:cNvSpPr>
            <a:spLocks noGrp="1"/>
          </p:cNvSpPr>
          <p:nvPr>
            <p:ph/>
          </p:nvPr>
        </p:nvSpPr>
        <p:spPr>
          <a:xfrm>
            <a:off x="160578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4"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6" name="PlaceHolder 4"/>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8"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9"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 name="PlaceHolder 4"/>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e"/>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e"/>
        </a:solidFill>
      </p:bgPr>
    </p:bg>
    <p:spTree>
      <p:nvGrpSpPr>
        <p:cNvPr id="1" name=""/>
        <p:cNvGrpSpPr/>
        <p:nvPr/>
      </p:nvGrpSpPr>
      <p:grpSpPr>
        <a:xfrm>
          <a:off x="0" y="0"/>
          <a:ext cx="0" cy="0"/>
          <a:chOff x="0" y="0"/>
          <a:chExt cx="0" cy="0"/>
        </a:xfrm>
      </p:grpSpPr>
      <p:sp>
        <p:nvSpPr>
          <p:cNvPr id="36" name="Rectangle 1"/>
          <p:cNvSpPr/>
          <p:nvPr/>
        </p:nvSpPr>
        <p:spPr>
          <a:xfrm>
            <a:off x="-50760" y="-50760"/>
            <a:ext cx="24612480" cy="13893840"/>
          </a:xfrm>
          <a:prstGeom prst="rect">
            <a:avLst/>
          </a:prstGeom>
          <a:solidFill>
            <a:srgbClr val="6878a3">
              <a:alpha val="10000"/>
            </a:srgbClr>
          </a:solidFill>
          <a:ln w="25560">
            <a:solidFill>
              <a:srgbClr val="e6e5e5">
                <a:alpha val="1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e"/>
        </a:solidFill>
      </p:bgPr>
    </p:bg>
    <p:spTree>
      <p:nvGrpSpPr>
        <p:cNvPr id="1" name=""/>
        <p:cNvGrpSpPr/>
        <p:nvPr/>
      </p:nvGrpSpPr>
      <p:grpSpPr>
        <a:xfrm>
          <a:off x="0" y="0"/>
          <a:ext cx="0" cy="0"/>
          <a:chOff x="0" y="0"/>
          <a:chExt cx="0" cy="0"/>
        </a:xfrm>
      </p:grpSpPr>
      <p:sp>
        <p:nvSpPr>
          <p:cNvPr id="73" name="Rectangle 1"/>
          <p:cNvSpPr/>
          <p:nvPr/>
        </p:nvSpPr>
        <p:spPr>
          <a:xfrm>
            <a:off x="0" y="-114480"/>
            <a:ext cx="24612480" cy="12039840"/>
          </a:xfrm>
          <a:prstGeom prst="rect">
            <a:avLst/>
          </a:prstGeom>
          <a:solidFill>
            <a:srgbClr val="6878a3">
              <a:alpha val="10000"/>
            </a:srgbClr>
          </a:solidFill>
          <a:ln w="25560">
            <a:solidFill>
              <a:srgbClr val="e6e5e5">
                <a:alpha val="1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4" name="AutoShape 2"/>
          <p:cNvSpPr/>
          <p:nvPr/>
        </p:nvSpPr>
        <p:spPr>
          <a:xfrm>
            <a:off x="609480" y="952560"/>
            <a:ext cx="406440" cy="406440"/>
          </a:xfrm>
          <a:prstGeom prst="roundRect">
            <a:avLst>
              <a:gd name="adj" fmla="val 18750"/>
            </a:avLst>
          </a:prstGeom>
          <a:noFill/>
          <a:ln w="25560">
            <a:solidFill>
              <a:srgbClr val="343333">
                <a:alpha val="7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5" name="AutoShape 3"/>
          <p:cNvSpPr/>
          <p:nvPr/>
        </p:nvSpPr>
        <p:spPr>
          <a:xfrm rot="5400000">
            <a:off x="726480" y="1091520"/>
            <a:ext cx="180720" cy="125280"/>
          </a:xfrm>
          <a:prstGeom prst="triangle">
            <a:avLst>
              <a:gd name="adj" fmla="val 50000"/>
            </a:avLst>
          </a:prstGeom>
          <a:solidFill>
            <a:srgbClr val="343333">
              <a:alpha val="7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76" name="Picture 4" descr=""/>
          <p:cNvPicPr/>
          <p:nvPr/>
        </p:nvPicPr>
        <p:blipFill>
          <a:blip r:embed="rId2"/>
          <a:stretch/>
        </p:blipFill>
        <p:spPr>
          <a:xfrm>
            <a:off x="22110840" y="888840"/>
            <a:ext cx="766800" cy="952560"/>
          </a:xfrm>
          <a:prstGeom prst="rect">
            <a:avLst/>
          </a:prstGeom>
          <a:ln w="0">
            <a:noFill/>
          </a:ln>
        </p:spPr>
      </p:pic>
      <p:sp>
        <p:nvSpPr>
          <p:cNvPr id="77" name="AutoShape 5"/>
          <p:cNvSpPr/>
          <p:nvPr/>
        </p:nvSpPr>
        <p:spPr>
          <a:xfrm>
            <a:off x="22148640" y="12534840"/>
            <a:ext cx="711360" cy="711360"/>
          </a:xfrm>
          <a:prstGeom prst="roundRect">
            <a:avLst>
              <a:gd name="adj" fmla="val 10713"/>
            </a:avLst>
          </a:prstGeom>
          <a:noFill/>
          <a:ln w="12600">
            <a:solidFill>
              <a:srgbClr val="b3b2b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8" name="Rectangle 6"/>
          <p:cNvSpPr/>
          <p:nvPr/>
        </p:nvSpPr>
        <p:spPr>
          <a:xfrm>
            <a:off x="1542960" y="12693240"/>
            <a:ext cx="353052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919"/>
                </a:solidFill>
                <a:latin typeface="Open Sans Bold"/>
                <a:ea typeface="ＭＳ Ｐゴシック"/>
              </a:rPr>
              <a:t>Presentation</a:t>
            </a:r>
            <a:r>
              <a:rPr b="0" lang="en-US" sz="2000" spc="-1" strike="noStrike">
                <a:solidFill>
                  <a:srgbClr val="1a1919"/>
                </a:solidFill>
                <a:latin typeface="Open Sans Light"/>
                <a:ea typeface="ＭＳ Ｐゴシック"/>
              </a:rPr>
              <a:t> name goes here</a:t>
            </a:r>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e"/>
        </a:solidFill>
      </p:bgPr>
    </p:bg>
    <p:spTree>
      <p:nvGrpSpPr>
        <p:cNvPr id="1" name=""/>
        <p:cNvGrpSpPr/>
        <p:nvPr/>
      </p:nvGrpSpPr>
      <p:grpSpPr>
        <a:xfrm>
          <a:off x="0" y="0"/>
          <a:ext cx="0" cy="0"/>
          <a:chOff x="0" y="0"/>
          <a:chExt cx="0" cy="0"/>
        </a:xfrm>
      </p:grpSpPr>
      <p:sp>
        <p:nvSpPr>
          <p:cNvPr id="115" name="Rectangle 1"/>
          <p:cNvSpPr/>
          <p:nvPr/>
        </p:nvSpPr>
        <p:spPr>
          <a:xfrm>
            <a:off x="-114480" y="2781360"/>
            <a:ext cx="24612840" cy="10972800"/>
          </a:xfrm>
          <a:prstGeom prst="rect">
            <a:avLst/>
          </a:prstGeom>
          <a:solidFill>
            <a:srgbClr val="6878a3">
              <a:alpha val="10000"/>
            </a:srgbClr>
          </a:solidFill>
          <a:ln w="25560">
            <a:solidFill>
              <a:srgbClr val="e6e5e5">
                <a:alpha val="1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nvGrpSpPr>
          <p:cNvPr id="116" name="Group 4"/>
          <p:cNvGrpSpPr/>
          <p:nvPr/>
        </p:nvGrpSpPr>
        <p:grpSpPr>
          <a:xfrm>
            <a:off x="609480" y="952560"/>
            <a:ext cx="406440" cy="406440"/>
            <a:chOff x="609480" y="952560"/>
            <a:chExt cx="406440" cy="406440"/>
          </a:xfrm>
        </p:grpSpPr>
        <p:sp>
          <p:nvSpPr>
            <p:cNvPr id="117" name="AutoShape 2"/>
            <p:cNvSpPr/>
            <p:nvPr/>
          </p:nvSpPr>
          <p:spPr>
            <a:xfrm>
              <a:off x="609480" y="952560"/>
              <a:ext cx="406440" cy="406440"/>
            </a:xfrm>
            <a:prstGeom prst="roundRect">
              <a:avLst>
                <a:gd name="adj" fmla="val 18750"/>
              </a:avLst>
            </a:prstGeom>
            <a:noFill/>
            <a:ln w="25560">
              <a:solidFill>
                <a:srgbClr val="343333">
                  <a:alpha val="7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8" name="AutoShape 3"/>
            <p:cNvSpPr/>
            <p:nvPr/>
          </p:nvSpPr>
          <p:spPr>
            <a:xfrm rot="5400000">
              <a:off x="725760" y="1091160"/>
              <a:ext cx="180720" cy="125640"/>
            </a:xfrm>
            <a:prstGeom prst="triangle">
              <a:avLst>
                <a:gd name="adj" fmla="val 50000"/>
              </a:avLst>
            </a:prstGeom>
            <a:solidFill>
              <a:srgbClr val="343333">
                <a:alpha val="7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pic>
        <p:nvPicPr>
          <p:cNvPr id="119" name="Picture 6" descr=""/>
          <p:cNvPicPr/>
          <p:nvPr/>
        </p:nvPicPr>
        <p:blipFill>
          <a:blip r:embed="rId2"/>
          <a:stretch/>
        </p:blipFill>
        <p:spPr>
          <a:xfrm>
            <a:off x="22110840" y="888840"/>
            <a:ext cx="766800" cy="952560"/>
          </a:xfrm>
          <a:prstGeom prst="rect">
            <a:avLst/>
          </a:prstGeom>
          <a:ln w="0">
            <a:noFill/>
          </a:ln>
        </p:spPr>
      </p:pic>
      <p:sp>
        <p:nvSpPr>
          <p:cNvPr id="120" name="AutoShape 1"/>
          <p:cNvSpPr/>
          <p:nvPr/>
        </p:nvSpPr>
        <p:spPr>
          <a:xfrm>
            <a:off x="0" y="2819520"/>
            <a:ext cx="24612480" cy="10896480"/>
          </a:xfrm>
          <a:custGeom>
            <a:avLst/>
            <a:gdLst/>
            <a:ahLst/>
            <a:rect l="l" t="t" r="r" b="b"/>
            <a:pathLst>
              <a:path w="21600" h="21600">
                <a:moveTo>
                  <a:pt x="0" y="0"/>
                </a:moveTo>
                <a:lnTo>
                  <a:pt x="21599" y="0"/>
                </a:lnTo>
                <a:lnTo>
                  <a:pt x="21599" y="21600"/>
                </a:lnTo>
                <a:lnTo>
                  <a:pt x="0" y="21600"/>
                </a:lnTo>
                <a:lnTo>
                  <a:pt x="0" y="0"/>
                </a:lnTo>
                <a:close/>
              </a:path>
            </a:pathLst>
          </a:custGeom>
          <a:solidFill>
            <a:srgbClr val="ebebeb">
              <a:alpha val="12000"/>
            </a:srgbClr>
          </a:solidFill>
          <a:ln w="25560">
            <a:solidFill>
              <a:srgbClr val="ebebeb">
                <a:alpha val="20000"/>
              </a:srgbClr>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1" name="Rectangle 10"/>
          <p:cNvSpPr/>
          <p:nvPr/>
        </p:nvSpPr>
        <p:spPr>
          <a:xfrm>
            <a:off x="11817360" y="3124080"/>
            <a:ext cx="121921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7f7f7f"/>
                </a:solidFill>
                <a:latin typeface="Gill Sans"/>
                <a:ea typeface="ＭＳ Ｐゴシック"/>
              </a:rPr>
              <a:t>Replace this overlay with your picture and set transparency to 80%</a:t>
            </a:r>
            <a:endParaRPr b="0" lang="en-US" sz="2400" spc="-1" strike="noStrike">
              <a:solidFill>
                <a:srgbClr val="000000"/>
              </a:solidFill>
              <a:latin typeface="Gill Sans"/>
            </a:endParaRPr>
          </a:p>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7f7f7f"/>
                </a:solidFill>
                <a:latin typeface="Gill Sans"/>
                <a:ea typeface="ＭＳ Ｐゴシック"/>
              </a:rPr>
              <a:t>Or simply delete it if you want plain background. </a:t>
            </a:r>
            <a:endParaRPr b="0" lang="en-US" sz="2400" spc="-1" strike="noStrike">
              <a:solidFill>
                <a:srgbClr val="000000"/>
              </a:solidFill>
              <a:latin typeface="Gill Sans"/>
            </a:endParaRPr>
          </a:p>
        </p:txBody>
      </p:sp>
      <p:sp>
        <p:nvSpPr>
          <p:cNvPr id="122" name="Line 5"/>
          <p:cNvSpPr/>
          <p:nvPr/>
        </p:nvSpPr>
        <p:spPr>
          <a:xfrm>
            <a:off x="1460520" y="12306240"/>
            <a:ext cx="21437640" cy="0"/>
          </a:xfrm>
          <a:prstGeom prst="line">
            <a:avLst/>
          </a:prstGeom>
          <a:ln w="12600">
            <a:solidFill>
              <a:srgbClr val="cdcc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3" name="AutoShape 7"/>
          <p:cNvSpPr/>
          <p:nvPr/>
        </p:nvSpPr>
        <p:spPr>
          <a:xfrm>
            <a:off x="22148640" y="12534840"/>
            <a:ext cx="711360" cy="711360"/>
          </a:xfrm>
          <a:prstGeom prst="roundRect">
            <a:avLst>
              <a:gd name="adj" fmla="val 10713"/>
            </a:avLst>
          </a:prstGeom>
          <a:noFill/>
          <a:ln w="12600">
            <a:solidFill>
              <a:srgbClr val="b3b2b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4" name="Rectangle 8"/>
          <p:cNvSpPr/>
          <p:nvPr/>
        </p:nvSpPr>
        <p:spPr>
          <a:xfrm>
            <a:off x="1542960" y="12693240"/>
            <a:ext cx="353052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919"/>
                </a:solidFill>
                <a:latin typeface="Open Sans Bold"/>
                <a:ea typeface="ＭＳ Ｐゴシック"/>
              </a:rPr>
              <a:t>Presentation</a:t>
            </a:r>
            <a:r>
              <a:rPr b="0" lang="en-US" sz="2000" spc="-1" strike="noStrike">
                <a:solidFill>
                  <a:srgbClr val="1a1919"/>
                </a:solidFill>
                <a:latin typeface="Open Sans Light"/>
                <a:ea typeface="ＭＳ Ｐゴシック"/>
              </a:rPr>
              <a:t> name goes here</a:t>
            </a:r>
            <a:endParaRPr b="0" lang="en-US" sz="2000" spc="-1" strike="noStrike">
              <a:solidFill>
                <a:srgbClr val="000000"/>
              </a:solidFill>
              <a:latin typeface="Gill Sans"/>
            </a:endParaRPr>
          </a:p>
        </p:txBody>
      </p:sp>
      <p:sp>
        <p:nvSpPr>
          <p:cNvPr id="125"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Regular"/>
              </a:rPr>
              <a:t>Click to edit the title text format</a:t>
            </a:r>
            <a:endParaRPr b="0" lang="en-US" sz="3600" spc="-1" strike="noStrike">
              <a:solidFill>
                <a:srgbClr val="000000"/>
              </a:solidFill>
              <a:latin typeface="Roboto Regular"/>
            </a:endParaRPr>
          </a:p>
        </p:txBody>
      </p:sp>
      <p:sp>
        <p:nvSpPr>
          <p:cNvPr id="126" name="PlaceHolder 2"/>
          <p:cNvSpPr>
            <a:spLocks noGrp="1"/>
          </p:cNvSpPr>
          <p:nvPr>
            <p:ph type="body"/>
          </p:nvPr>
        </p:nvSpPr>
        <p:spPr>
          <a:xfrm>
            <a:off x="1218960" y="3209400"/>
            <a:ext cx="21944160" cy="7954920"/>
          </a:xfrm>
          <a:prstGeom prst="rect">
            <a:avLst/>
          </a:prstGeom>
          <a:noFill/>
          <a:ln w="0">
            <a:noFill/>
          </a:ln>
        </p:spPr>
        <p:txBody>
          <a:bodyPr lIns="0" rIns="0" tIns="0" bIns="0" anchor="t">
            <a:normAutofit/>
          </a:bodyPr>
          <a:p>
            <a:pPr marL="343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Regular"/>
              </a:rPr>
              <a:t>Click to edit the outline text format</a:t>
            </a:r>
            <a:endParaRPr b="0" lang="en-US" sz="3600" spc="-1" strike="noStrike">
              <a:solidFill>
                <a:srgbClr val="000000"/>
              </a:solidFill>
              <a:latin typeface="Roboto Regular"/>
            </a:endParaRPr>
          </a:p>
          <a:p>
            <a:pPr lvl="1" marL="74304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Regular"/>
              </a:rPr>
              <a:t>Second Outline Level</a:t>
            </a:r>
            <a:endParaRPr b="0" lang="en-US" sz="3600" spc="-1" strike="noStrike">
              <a:solidFill>
                <a:srgbClr val="000000"/>
              </a:solidFill>
              <a:latin typeface="Roboto Regular"/>
            </a:endParaRPr>
          </a:p>
          <a:p>
            <a:pPr lvl="2" marL="1143000" indent="-228600" algn="ctr">
              <a:buClr>
                <a:srgbClr val="000000"/>
              </a:buClr>
              <a:buFont typeface="Roboto Regular"/>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Regular"/>
              </a:rPr>
              <a:t>Third Outline Level</a:t>
            </a:r>
            <a:endParaRPr b="0" lang="en-US" sz="3600" spc="-1" strike="noStrike">
              <a:solidFill>
                <a:srgbClr val="000000"/>
              </a:solidFill>
              <a:latin typeface="Roboto Regular"/>
            </a:endParaRPr>
          </a:p>
          <a:p>
            <a:pPr lvl="3" marL="1600200" indent="-228600" algn="ctr">
              <a:buClr>
                <a:srgbClr val="000000"/>
              </a:buClr>
              <a:buFont typeface="Roboto Regular"/>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Regular"/>
              </a:rPr>
              <a:t>Fourth Outline Level</a:t>
            </a:r>
            <a:endParaRPr b="0" lang="en-US" sz="3600" spc="-1" strike="noStrike">
              <a:solidFill>
                <a:srgbClr val="000000"/>
              </a:solidFill>
              <a:latin typeface="Roboto Regular"/>
            </a:endParaRPr>
          </a:p>
          <a:p>
            <a:pPr lvl="4" marL="2057400" indent="-228600" algn="ctr">
              <a:buClr>
                <a:srgbClr val="000000"/>
              </a:buClr>
              <a:buFont typeface="Roboto Regular"/>
              <a:buChar char="»"/>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Regular"/>
              </a:rPr>
              <a:t>Fifth Outline Level</a:t>
            </a:r>
            <a:endParaRPr b="0" lang="en-US" sz="3600" spc="-1" strike="noStrike">
              <a:solidFill>
                <a:srgbClr val="000000"/>
              </a:solidFill>
              <a:latin typeface="Roboto Regular"/>
            </a:endParaRPr>
          </a:p>
          <a:p>
            <a:pPr lvl="5" marL="2057400" indent="-228600">
              <a:spcBef>
                <a:spcPts val="901"/>
              </a:spcBef>
              <a:buClr>
                <a:srgbClr val="000000"/>
              </a:buClr>
              <a:buFont typeface="Robo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Regular"/>
              </a:rPr>
              <a:t>Sixth Outline Level</a:t>
            </a:r>
            <a:endParaRPr b="0" lang="en-US" sz="3600" spc="-1" strike="noStrike">
              <a:solidFill>
                <a:srgbClr val="000000"/>
              </a:solidFill>
              <a:latin typeface="Roboto Regular"/>
            </a:endParaRPr>
          </a:p>
          <a:p>
            <a:pPr lvl="6" marL="2057400" indent="-228600">
              <a:spcBef>
                <a:spcPts val="901"/>
              </a:spcBef>
              <a:buClr>
                <a:srgbClr val="000000"/>
              </a:buClr>
              <a:buFont typeface="Robo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Regular"/>
              </a:rPr>
              <a:t>Seventh Outline Level</a:t>
            </a:r>
            <a:endParaRPr b="0" lang="en-US" sz="3600" spc="-1" strike="noStrike">
              <a:solidFill>
                <a:srgbClr val="000000"/>
              </a:solidFill>
              <a:latin typeface="Roboto Regular"/>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e"/>
        </a:solidFill>
      </p:bgPr>
    </p:bg>
    <p:spTree>
      <p:nvGrpSpPr>
        <p:cNvPr id="1" name=""/>
        <p:cNvGrpSpPr/>
        <p:nvPr/>
      </p:nvGrpSpPr>
      <p:grpSpPr>
        <a:xfrm>
          <a:off x="0" y="0"/>
          <a:ext cx="0" cy="0"/>
          <a:chOff x="0" y="0"/>
          <a:chExt cx="0" cy="0"/>
        </a:xfrm>
      </p:grpSpPr>
      <p:sp>
        <p:nvSpPr>
          <p:cNvPr id="163" name="Rectangle 1"/>
          <p:cNvSpPr/>
          <p:nvPr/>
        </p:nvSpPr>
        <p:spPr>
          <a:xfrm>
            <a:off x="-114480" y="2781360"/>
            <a:ext cx="24612840" cy="10972800"/>
          </a:xfrm>
          <a:prstGeom prst="rect">
            <a:avLst/>
          </a:prstGeom>
          <a:gradFill rotWithShape="0">
            <a:gsLst>
              <a:gs pos="0">
                <a:srgbClr val="6af2b6"/>
              </a:gs>
              <a:gs pos="100000">
                <a:srgbClr val="1d9d7c"/>
              </a:gs>
            </a:gsLst>
            <a:lin ang="5580000"/>
          </a:gradFill>
          <a:ln w="25560">
            <a:solidFill>
              <a:srgbClr val="e6e5e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nvGrpSpPr>
          <p:cNvPr id="164" name="Group 4"/>
          <p:cNvGrpSpPr/>
          <p:nvPr/>
        </p:nvGrpSpPr>
        <p:grpSpPr>
          <a:xfrm>
            <a:off x="609480" y="952560"/>
            <a:ext cx="406440" cy="406440"/>
            <a:chOff x="609480" y="952560"/>
            <a:chExt cx="406440" cy="406440"/>
          </a:xfrm>
        </p:grpSpPr>
        <p:sp>
          <p:nvSpPr>
            <p:cNvPr id="165" name="AutoShape 2"/>
            <p:cNvSpPr/>
            <p:nvPr/>
          </p:nvSpPr>
          <p:spPr>
            <a:xfrm>
              <a:off x="609480" y="952560"/>
              <a:ext cx="406440" cy="406440"/>
            </a:xfrm>
            <a:prstGeom prst="roundRect">
              <a:avLst>
                <a:gd name="adj" fmla="val 18750"/>
              </a:avLst>
            </a:prstGeom>
            <a:noFill/>
            <a:ln w="25560">
              <a:solidFill>
                <a:srgbClr val="343333">
                  <a:alpha val="7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66" name="AutoShape 3"/>
            <p:cNvSpPr/>
            <p:nvPr/>
          </p:nvSpPr>
          <p:spPr>
            <a:xfrm rot="5400000">
              <a:off x="725760" y="1091160"/>
              <a:ext cx="180720" cy="125640"/>
            </a:xfrm>
            <a:prstGeom prst="triangle">
              <a:avLst>
                <a:gd name="adj" fmla="val 50000"/>
              </a:avLst>
            </a:prstGeom>
            <a:solidFill>
              <a:srgbClr val="343333">
                <a:alpha val="7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pic>
        <p:nvPicPr>
          <p:cNvPr id="167" name="Picture 5" descr=""/>
          <p:cNvPicPr/>
          <p:nvPr/>
        </p:nvPicPr>
        <p:blipFill>
          <a:blip r:embed="rId2"/>
          <a:stretch/>
        </p:blipFill>
        <p:spPr>
          <a:xfrm>
            <a:off x="22110840" y="888840"/>
            <a:ext cx="766800" cy="952560"/>
          </a:xfrm>
          <a:prstGeom prst="rect">
            <a:avLst/>
          </a:prstGeom>
          <a:ln w="0">
            <a:noFill/>
          </a:ln>
        </p:spPr>
      </p:pic>
      <p:sp>
        <p:nvSpPr>
          <p:cNvPr id="168" name="AutoShape 1"/>
          <p:cNvSpPr/>
          <p:nvPr/>
        </p:nvSpPr>
        <p:spPr>
          <a:xfrm>
            <a:off x="0" y="2819520"/>
            <a:ext cx="24612480" cy="10972800"/>
          </a:xfrm>
          <a:custGeom>
            <a:avLst/>
            <a:gdLst/>
            <a:ahLst/>
            <a:rect l="l" t="t" r="r" b="b"/>
            <a:pathLst>
              <a:path w="21600" h="21600">
                <a:moveTo>
                  <a:pt x="0" y="0"/>
                </a:moveTo>
                <a:lnTo>
                  <a:pt x="21599" y="0"/>
                </a:lnTo>
                <a:lnTo>
                  <a:pt x="21599" y="21600"/>
                </a:lnTo>
                <a:lnTo>
                  <a:pt x="0" y="21600"/>
                </a:lnTo>
                <a:lnTo>
                  <a:pt x="0" y="0"/>
                </a:lnTo>
                <a:close/>
              </a:path>
            </a:pathLst>
          </a:custGeom>
          <a:solidFill>
            <a:srgbClr val="ebebeb">
              <a:alpha val="12000"/>
            </a:srgbClr>
          </a:solidFill>
          <a:ln w="25560">
            <a:solidFill>
              <a:srgbClr val="ebebeb">
                <a:alpha val="20000"/>
              </a:srgbClr>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69" name="Rectangle 10"/>
          <p:cNvSpPr/>
          <p:nvPr/>
        </p:nvSpPr>
        <p:spPr>
          <a:xfrm>
            <a:off x="12188880" y="3048120"/>
            <a:ext cx="121921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ＭＳ Ｐゴシック"/>
              </a:rPr>
              <a:t>Replace this overlay with your picture and set transparency to 80%</a:t>
            </a:r>
            <a:endParaRPr b="0" lang="en-US" sz="2400" spc="-1" strike="noStrike">
              <a:solidFill>
                <a:srgbClr val="000000"/>
              </a:solidFill>
              <a:latin typeface="Gill Sans"/>
            </a:endParaRPr>
          </a:p>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ＭＳ Ｐゴシック"/>
              </a:rPr>
              <a:t>Or simply delete it if you want plain background </a:t>
            </a:r>
            <a:endParaRPr b="0" lang="en-US" sz="2400" spc="-1" strike="noStrike">
              <a:solidFill>
                <a:srgbClr val="000000"/>
              </a:solidFill>
              <a:latin typeface="Gill Sans"/>
            </a:endParaRPr>
          </a:p>
        </p:txBody>
      </p:sp>
      <p:sp>
        <p:nvSpPr>
          <p:cNvPr id="170" name="Line 6"/>
          <p:cNvSpPr/>
          <p:nvPr/>
        </p:nvSpPr>
        <p:spPr>
          <a:xfrm>
            <a:off x="1460520" y="12306240"/>
            <a:ext cx="21437640" cy="0"/>
          </a:xfrm>
          <a:prstGeom prst="line">
            <a:avLst/>
          </a:prstGeom>
          <a:ln w="12600">
            <a:solidFill>
              <a:srgbClr val="cdcc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71" name="AutoShape 7"/>
          <p:cNvSpPr/>
          <p:nvPr/>
        </p:nvSpPr>
        <p:spPr>
          <a:xfrm>
            <a:off x="22148640" y="12534840"/>
            <a:ext cx="711360" cy="711360"/>
          </a:xfrm>
          <a:prstGeom prst="roundRect">
            <a:avLst>
              <a:gd name="adj" fmla="val 10713"/>
            </a:avLst>
          </a:prstGeom>
          <a:noFill/>
          <a:ln w="12600">
            <a:solidFill>
              <a:srgbClr val="e6e5e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72" name="Rectangle 8"/>
          <p:cNvSpPr/>
          <p:nvPr/>
        </p:nvSpPr>
        <p:spPr>
          <a:xfrm>
            <a:off x="1542960" y="12693240"/>
            <a:ext cx="353052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efe"/>
                </a:solidFill>
                <a:latin typeface="Open Sans Bold"/>
                <a:ea typeface="ＭＳ Ｐゴシック"/>
              </a:rPr>
              <a:t>Presentation</a:t>
            </a:r>
            <a:r>
              <a:rPr b="0" lang="en-US" sz="2000" spc="-1" strike="noStrike">
                <a:solidFill>
                  <a:srgbClr val="fffefe"/>
                </a:solidFill>
                <a:latin typeface="Open Sans Light"/>
                <a:ea typeface="ＭＳ Ｐゴシック"/>
              </a:rPr>
              <a:t> name goes here</a:t>
            </a:r>
            <a:endParaRPr b="0" lang="en-US" sz="20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efe"/>
        </a:solidFill>
      </p:bgPr>
    </p:bg>
    <p:spTree>
      <p:nvGrpSpPr>
        <p:cNvPr id="1" name=""/>
        <p:cNvGrpSpPr/>
        <p:nvPr/>
      </p:nvGrpSpPr>
      <p:grpSpPr>
        <a:xfrm>
          <a:off x="0" y="0"/>
          <a:ext cx="0" cy="0"/>
          <a:chOff x="0" y="0"/>
          <a:chExt cx="0" cy="0"/>
        </a:xfrm>
      </p:grpSpPr>
      <p:sp>
        <p:nvSpPr>
          <p:cNvPr id="209" name="Rectangle 1"/>
          <p:cNvSpPr/>
          <p:nvPr/>
        </p:nvSpPr>
        <p:spPr>
          <a:xfrm>
            <a:off x="-114480" y="2781360"/>
            <a:ext cx="24612840" cy="10972800"/>
          </a:xfrm>
          <a:prstGeom prst="rect">
            <a:avLst/>
          </a:prstGeom>
          <a:solidFill>
            <a:srgbClr val="e6e5e5">
              <a:alpha val="30000"/>
            </a:srgbClr>
          </a:solidFill>
          <a:ln w="25560">
            <a:solidFill>
              <a:srgbClr val="e6e5e5">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10" name="Rectangle 2"/>
          <p:cNvSpPr/>
          <p:nvPr/>
        </p:nvSpPr>
        <p:spPr>
          <a:xfrm>
            <a:off x="-114480" y="-1460520"/>
            <a:ext cx="24612840" cy="10972800"/>
          </a:xfrm>
          <a:prstGeom prst="rect">
            <a:avLst/>
          </a:prstGeom>
          <a:gradFill rotWithShape="0">
            <a:gsLst>
              <a:gs pos="0">
                <a:srgbClr val="1d9d7c"/>
              </a:gs>
              <a:gs pos="100000">
                <a:srgbClr val="6af2b6"/>
              </a:gs>
            </a:gsLst>
            <a:lin ang="5580000"/>
          </a:gradFill>
          <a:ln w="25560">
            <a:solidFill>
              <a:srgbClr val="e6e5e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11" name="Rectangle 3"/>
          <p:cNvSpPr/>
          <p:nvPr/>
        </p:nvSpPr>
        <p:spPr>
          <a:xfrm>
            <a:off x="1403280" y="12693240"/>
            <a:ext cx="353052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919"/>
                </a:solidFill>
                <a:latin typeface="Open Sans Bold"/>
                <a:ea typeface="ＭＳ Ｐゴシック"/>
              </a:rPr>
              <a:t>Presentation</a:t>
            </a:r>
            <a:r>
              <a:rPr b="0" lang="en-US" sz="2000" spc="-1" strike="noStrike">
                <a:solidFill>
                  <a:srgbClr val="1a1919"/>
                </a:solidFill>
                <a:latin typeface="Open Sans Light"/>
                <a:ea typeface="ＭＳ Ｐゴシック"/>
              </a:rPr>
              <a:t> name goes here</a:t>
            </a:r>
            <a:endParaRPr b="0" lang="en-US" sz="2000" spc="-1" strike="noStrike">
              <a:solidFill>
                <a:srgbClr val="000000"/>
              </a:solidFill>
              <a:latin typeface="Gill Sans"/>
            </a:endParaRPr>
          </a:p>
        </p:txBody>
      </p:sp>
      <p:sp>
        <p:nvSpPr>
          <p:cNvPr id="212" name="AutoShape 7"/>
          <p:cNvSpPr/>
          <p:nvPr/>
        </p:nvSpPr>
        <p:spPr>
          <a:xfrm>
            <a:off x="22148640" y="12509640"/>
            <a:ext cx="711360" cy="711000"/>
          </a:xfrm>
          <a:prstGeom prst="roundRect">
            <a:avLst>
              <a:gd name="adj" fmla="val 21426"/>
            </a:avLst>
          </a:prstGeom>
          <a:noFill/>
          <a:ln w="25560">
            <a:solidFill>
              <a:srgbClr val="b3b2b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13" name="AutoShape 1"/>
          <p:cNvSpPr/>
          <p:nvPr/>
        </p:nvSpPr>
        <p:spPr>
          <a:xfrm>
            <a:off x="3240" y="-1447920"/>
            <a:ext cx="24612480" cy="10972800"/>
          </a:xfrm>
          <a:custGeom>
            <a:avLst/>
            <a:gdLst/>
            <a:ahLst/>
            <a:rect l="l" t="t" r="r" b="b"/>
            <a:pathLst>
              <a:path w="21600" h="21600">
                <a:moveTo>
                  <a:pt x="0" y="0"/>
                </a:moveTo>
                <a:lnTo>
                  <a:pt x="21599" y="0"/>
                </a:lnTo>
                <a:lnTo>
                  <a:pt x="21599" y="21600"/>
                </a:lnTo>
                <a:lnTo>
                  <a:pt x="0" y="21600"/>
                </a:lnTo>
                <a:lnTo>
                  <a:pt x="0" y="0"/>
                </a:lnTo>
                <a:close/>
              </a:path>
            </a:pathLst>
          </a:custGeom>
          <a:solidFill>
            <a:srgbClr val="ebebeb">
              <a:alpha val="12000"/>
            </a:srgbClr>
          </a:solidFill>
          <a:ln w="25560">
            <a:solidFill>
              <a:srgbClr val="ebebeb">
                <a:alpha val="20000"/>
              </a:srgbClr>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14" name="AutoShape 4"/>
          <p:cNvSpPr/>
          <p:nvPr/>
        </p:nvSpPr>
        <p:spPr>
          <a:xfrm>
            <a:off x="609480" y="952560"/>
            <a:ext cx="406440" cy="406440"/>
          </a:xfrm>
          <a:prstGeom prst="roundRect">
            <a:avLst>
              <a:gd name="adj" fmla="val 18750"/>
            </a:avLst>
          </a:prstGeom>
          <a:noFill/>
          <a:ln w="25560">
            <a:solidFill>
              <a:srgbClr val="fffefe">
                <a:alpha val="7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15" name="AutoShape 5"/>
          <p:cNvSpPr/>
          <p:nvPr/>
        </p:nvSpPr>
        <p:spPr>
          <a:xfrm rot="5400000">
            <a:off x="726480" y="1091520"/>
            <a:ext cx="180720" cy="125280"/>
          </a:xfrm>
          <a:prstGeom prst="triangle">
            <a:avLst>
              <a:gd name="adj" fmla="val 50000"/>
            </a:avLst>
          </a:prstGeom>
          <a:solidFill>
            <a:srgbClr val="fffefe">
              <a:alpha val="7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216" name="Picture 6" descr=""/>
          <p:cNvPicPr/>
          <p:nvPr/>
        </p:nvPicPr>
        <p:blipFill>
          <a:blip r:embed="rId2"/>
          <a:stretch/>
        </p:blipFill>
        <p:spPr>
          <a:xfrm>
            <a:off x="22110840" y="888840"/>
            <a:ext cx="766800" cy="952560"/>
          </a:xfrm>
          <a:prstGeom prst="rect">
            <a:avLst/>
          </a:prstGeom>
          <a:ln w="0">
            <a:noFill/>
          </a:ln>
        </p:spPr>
      </p:pic>
      <p:sp>
        <p:nvSpPr>
          <p:cNvPr id="217" name="Rectangle 13"/>
          <p:cNvSpPr/>
          <p:nvPr/>
        </p:nvSpPr>
        <p:spPr>
          <a:xfrm>
            <a:off x="12192120" y="-1219320"/>
            <a:ext cx="121917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ＭＳ Ｐゴシック"/>
              </a:rPr>
              <a:t>Replace this overlay with your picture and set transparency to 80%</a:t>
            </a:r>
            <a:endParaRPr b="0" lang="en-US" sz="2400" spc="-1" strike="noStrike">
              <a:solidFill>
                <a:srgbClr val="000000"/>
              </a:solidFill>
              <a:latin typeface="Gill Sans"/>
            </a:endParaRPr>
          </a:p>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ＭＳ Ｐゴシック"/>
              </a:rPr>
              <a:t>Or simply delete it if you want plain background </a:t>
            </a:r>
            <a:endParaRPr b="0" lang="en-US" sz="24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
          <p:cNvSpPr/>
          <p:nvPr/>
        </p:nvSpPr>
        <p:spPr>
          <a:xfrm>
            <a:off x="-114480" y="-88920"/>
            <a:ext cx="24612840" cy="13843080"/>
          </a:xfrm>
          <a:prstGeom prst="rect">
            <a:avLst/>
          </a:prstGeom>
          <a:solidFill>
            <a:srgbClr val="e6e5e5">
              <a:alpha val="70000"/>
            </a:srgbClr>
          </a:solidFill>
          <a:ln w="25560">
            <a:solidFill>
              <a:srgbClr val="e6e5e5">
                <a:alpha val="7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255" name="Picture 2" descr=""/>
          <p:cNvPicPr/>
          <p:nvPr/>
        </p:nvPicPr>
        <p:blipFill>
          <a:blip r:embed="rId1"/>
          <a:stretch/>
        </p:blipFill>
        <p:spPr>
          <a:xfrm>
            <a:off x="10706040" y="5008680"/>
            <a:ext cx="2984400" cy="37036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1"/>
          <p:cNvSpPr/>
          <p:nvPr/>
        </p:nvSpPr>
        <p:spPr>
          <a:xfrm>
            <a:off x="1681920" y="819000"/>
            <a:ext cx="486072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Meet The Executives</a:t>
            </a:r>
            <a:endParaRPr b="0" lang="en-US" sz="4000" spc="-1" strike="noStrike">
              <a:solidFill>
                <a:srgbClr val="000000"/>
              </a:solidFill>
              <a:latin typeface="Gill Sans"/>
            </a:endParaRPr>
          </a:p>
        </p:txBody>
      </p:sp>
      <p:sp>
        <p:nvSpPr>
          <p:cNvPr id="408" name="Rectangle 2"/>
          <p:cNvSpPr/>
          <p:nvPr/>
        </p:nvSpPr>
        <p:spPr>
          <a:xfrm>
            <a:off x="1399320" y="149220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nvGrpSpPr>
          <p:cNvPr id="409" name="Group 7"/>
          <p:cNvGrpSpPr/>
          <p:nvPr/>
        </p:nvGrpSpPr>
        <p:grpSpPr>
          <a:xfrm>
            <a:off x="3110040" y="3782880"/>
            <a:ext cx="4242960" cy="4241880"/>
            <a:chOff x="3110040" y="3782880"/>
            <a:chExt cx="4242960" cy="4241880"/>
          </a:xfrm>
        </p:grpSpPr>
        <p:sp>
          <p:nvSpPr>
            <p:cNvPr id="410" name="Oval 3"/>
            <p:cNvSpPr/>
            <p:nvPr/>
          </p:nvSpPr>
          <p:spPr>
            <a:xfrm>
              <a:off x="3110040" y="3782880"/>
              <a:ext cx="4242960" cy="4241880"/>
            </a:xfrm>
            <a:prstGeom prst="ellipse">
              <a:avLst/>
            </a:prstGeom>
            <a:gradFill rotWithShape="0">
              <a:gsLst>
                <a:gs pos="0">
                  <a:srgbClr val="23cb9e"/>
                </a:gs>
                <a:gs pos="100000">
                  <a:srgbClr val="1d9d7c"/>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11" name="Oval 4"/>
            <p:cNvSpPr/>
            <p:nvPr/>
          </p:nvSpPr>
          <p:spPr>
            <a:xfrm>
              <a:off x="3189240" y="3875040"/>
              <a:ext cx="4070160" cy="4068720"/>
            </a:xfrm>
            <a:prstGeom prst="ellipse">
              <a:avLst/>
            </a:prstGeom>
            <a:solidFill>
              <a:srgbClr val="f7f7f7"/>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12" name="Oval 5"/>
            <p:cNvSpPr/>
            <p:nvPr/>
          </p:nvSpPr>
          <p:spPr>
            <a:xfrm>
              <a:off x="3449880" y="4122720"/>
              <a:ext cx="3561840" cy="3560760"/>
            </a:xfrm>
            <a:prstGeom prst="ellipse">
              <a:avLst/>
            </a:prstGeom>
            <a:solidFill>
              <a:srgbClr val="e6e5e5"/>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413" name="Rectangle 8"/>
          <p:cNvSpPr/>
          <p:nvPr/>
        </p:nvSpPr>
        <p:spPr>
          <a:xfrm>
            <a:off x="4164480" y="8277840"/>
            <a:ext cx="218304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919"/>
                </a:solidFill>
                <a:latin typeface="Open Sans Bold"/>
                <a:ea typeface="ＭＳ Ｐゴシック"/>
              </a:rPr>
              <a:t>John</a:t>
            </a:r>
            <a:r>
              <a:rPr b="0" lang="en-US" sz="3200" spc="-1" strike="noStrike">
                <a:solidFill>
                  <a:srgbClr val="1a1919"/>
                </a:solidFill>
                <a:latin typeface="Open Sans Light"/>
                <a:ea typeface="ＭＳ Ｐゴシック"/>
              </a:rPr>
              <a:t> Alexis </a:t>
            </a:r>
            <a:endParaRPr b="0" lang="en-US" sz="3200" spc="-1" strike="noStrike">
              <a:solidFill>
                <a:srgbClr val="000000"/>
              </a:solidFill>
              <a:latin typeface="Gill Sans"/>
            </a:endParaRPr>
          </a:p>
        </p:txBody>
      </p:sp>
      <p:sp>
        <p:nvSpPr>
          <p:cNvPr id="414" name="Line 9"/>
          <p:cNvSpPr/>
          <p:nvPr/>
        </p:nvSpPr>
        <p:spPr>
          <a:xfrm>
            <a:off x="3276720" y="9855360"/>
            <a:ext cx="3948120" cy="0"/>
          </a:xfrm>
          <a:prstGeom prst="line">
            <a:avLst/>
          </a:prstGeom>
          <a:ln w="12600">
            <a:solidFill>
              <a:srgbClr val="cdcc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15" name="Rectangle 10"/>
          <p:cNvSpPr/>
          <p:nvPr/>
        </p:nvSpPr>
        <p:spPr>
          <a:xfrm>
            <a:off x="3201840" y="9861480"/>
            <a:ext cx="4102200" cy="1778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He is lorem ipsum dolor sit amet. He've been lorem ipsum with many ipsum constecture</a:t>
            </a:r>
            <a:endParaRPr b="0" lang="en-US" sz="2400" spc="-1" strike="noStrike">
              <a:solidFill>
                <a:srgbClr val="000000"/>
              </a:solidFill>
              <a:latin typeface="Gill Sans"/>
            </a:endParaRPr>
          </a:p>
        </p:txBody>
      </p:sp>
      <p:sp>
        <p:nvSpPr>
          <p:cNvPr id="416" name="AutoShape 11"/>
          <p:cNvSpPr/>
          <p:nvPr/>
        </p:nvSpPr>
        <p:spPr>
          <a:xfrm>
            <a:off x="4635360" y="8940960"/>
            <a:ext cx="1244880" cy="622080"/>
          </a:xfrm>
          <a:prstGeom prst="roundRect">
            <a:avLst>
              <a:gd name="adj" fmla="val 14282"/>
            </a:avLst>
          </a:prstGeom>
          <a:noFill/>
          <a:ln w="25560">
            <a:solidFill>
              <a:srgbClr val="3690e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90e2"/>
                </a:solidFill>
                <a:latin typeface="Source Sans Pro"/>
                <a:ea typeface="ＭＳ Ｐゴシック"/>
              </a:rPr>
              <a:t>CEO</a:t>
            </a:r>
            <a:endParaRPr b="0" lang="en-US" sz="2400" spc="-1" strike="noStrike">
              <a:solidFill>
                <a:srgbClr val="000000"/>
              </a:solidFill>
              <a:latin typeface="Gill Sans"/>
            </a:endParaRPr>
          </a:p>
        </p:txBody>
      </p:sp>
      <p:sp>
        <p:nvSpPr>
          <p:cNvPr id="417" name="Rectangle 12"/>
          <p:cNvSpPr/>
          <p:nvPr/>
        </p:nvSpPr>
        <p:spPr>
          <a:xfrm>
            <a:off x="10288440" y="3701880"/>
            <a:ext cx="10757160" cy="7785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919"/>
                </a:solidFill>
                <a:latin typeface="Open Sans Bold"/>
                <a:ea typeface="ＭＳ Ｐゴシック"/>
              </a:rPr>
              <a:t>Morbi leo risus,</a:t>
            </a:r>
            <a:r>
              <a:rPr b="0" lang="en-US" sz="3600" spc="-1" strike="noStrike">
                <a:solidFill>
                  <a:srgbClr val="1a1919"/>
                </a:solidFill>
                <a:latin typeface="Open Sans Light"/>
                <a:ea typeface="ＭＳ Ｐゴシック"/>
              </a:rPr>
              <a:t> porta ac consectetur ac, vestibulum at eros. ut id elit. </a:t>
            </a:r>
            <a:r>
              <a:rPr b="0" lang="en-US" sz="3600" spc="-1" strike="noStrike">
                <a:solidFill>
                  <a:srgbClr val="1a1919"/>
                </a:solidFill>
                <a:latin typeface="Open Sans Semibold Italic"/>
                <a:ea typeface="ＭＳ Ｐゴシック"/>
              </a:rPr>
              <a:t>Vestibulum id</a:t>
            </a:r>
            <a:r>
              <a:rPr b="0" lang="en-US" sz="3600" spc="-1" strike="noStrike">
                <a:solidFill>
                  <a:srgbClr val="1a1919"/>
                </a:solidFill>
                <a:latin typeface="Open Sans Light"/>
                <a:ea typeface="ＭＳ Ｐゴシック"/>
              </a:rPr>
              <a:t> ligula porta felis euismod semper.</a:t>
            </a:r>
            <a:r>
              <a:rPr b="0" lang="en-US" sz="2400" spc="-1" strike="noStrike">
                <a:solidFill>
                  <a:srgbClr val="1a1919"/>
                </a:solidFill>
                <a:latin typeface="Open Sans Light"/>
                <a:ea typeface="ＭＳ Ｐゴシック"/>
              </a:rPr>
              <a:t>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919"/>
                </a:solidFill>
                <a:latin typeface="Open Sans Light"/>
                <a:ea typeface="ＭＳ Ｐゴシック"/>
              </a:rPr>
              <a:t>Aenean lacinia bibendum nulla sed consea augue. Aenean eu leo quam. Pellentesque ornare sem lacinia quam venenatis vestibulum. Morbctetur. Nulla vitae elit libero, aero, a pharetra augue. Aeneanquam. Pellen vestibulus, porta ac consectetur ac, vestibulum at eros. ut id elit. Vestibulum id ligula porta felis euismod semper. Aenean lacinia bibendum nulla sed consectetur. Nulla vitae elit libero Pellentesque ornare sem lacinia quam venenatis vestibulum. Morbi leo risus, porta ac consectetur ac, vestibulum at eros.</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919"/>
                </a:solidFill>
                <a:latin typeface="Open Sans Light"/>
                <a:ea typeface="ＭＳ Ｐゴシック"/>
              </a:rPr>
              <a:t>Aeneanquam. Pellen vestibulus, porta ac consectetur ac, vestibulum at eros. ut id elit. Vestibulum id ligula porta felis euismod semper. Aenean lacinia bibendum nulla sed consectetur. Nulla vitae elit libero P sem lnenatis vestibulum. Morbi leo risus, porta ac consectetur ac, vestibulum at eros. Aenean lacinia bibendum nulla sed consectetur. Nulla vitae elit libero Pellentesque ornare sem lacinia quam venenatis vestibulum. Morbi leo risus, porta ac consectetur ac, vestibulum at eros.</a:t>
            </a:r>
            <a:endParaRPr b="0" lang="en-US" sz="2200" spc="-1" strike="noStrike">
              <a:solidFill>
                <a:srgbClr val="000000"/>
              </a:solidFill>
              <a:latin typeface="Gill Sans"/>
            </a:endParaRPr>
          </a:p>
        </p:txBody>
      </p:sp>
      <p:sp>
        <p:nvSpPr>
          <p:cNvPr id="418" name="Rectangle 13"/>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10</a:t>
            </a:r>
            <a:endParaRPr b="0" lang="en-US" sz="2400" spc="-1" strike="noStrike">
              <a:solidFill>
                <a:srgbClr val="000000"/>
              </a:solidFill>
              <a:latin typeface="Gill Sans"/>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1"/>
          <p:cNvSpPr/>
          <p:nvPr/>
        </p:nvSpPr>
        <p:spPr>
          <a:xfrm>
            <a:off x="1363680" y="819000"/>
            <a:ext cx="295560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What We Do</a:t>
            </a:r>
            <a:endParaRPr b="0" lang="en-US" sz="4000" spc="-1" strike="noStrike">
              <a:solidFill>
                <a:srgbClr val="000000"/>
              </a:solidFill>
              <a:latin typeface="Gill Sans"/>
            </a:endParaRPr>
          </a:p>
        </p:txBody>
      </p:sp>
      <p:sp>
        <p:nvSpPr>
          <p:cNvPr id="420" name="Rectangle 2"/>
          <p:cNvSpPr/>
          <p:nvPr/>
        </p:nvSpPr>
        <p:spPr>
          <a:xfrm>
            <a:off x="1225440" y="1492200"/>
            <a:ext cx="32468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We Deliver Dream</a:t>
            </a:r>
            <a:endParaRPr b="0" lang="en-US" sz="3000" spc="-1" strike="noStrike">
              <a:solidFill>
                <a:srgbClr val="000000"/>
              </a:solidFill>
              <a:latin typeface="Gill Sans"/>
            </a:endParaRPr>
          </a:p>
        </p:txBody>
      </p:sp>
      <p:sp>
        <p:nvSpPr>
          <p:cNvPr id="421" name="Rectangle 3"/>
          <p:cNvSpPr/>
          <p:nvPr/>
        </p:nvSpPr>
        <p:spPr>
          <a:xfrm>
            <a:off x="9460080" y="3314880"/>
            <a:ext cx="8745480" cy="3562200"/>
          </a:xfrm>
          <a:prstGeom prst="rect">
            <a:avLst/>
          </a:prstGeom>
          <a:solidFill>
            <a:srgbClr val="fffefe"/>
          </a:solidFill>
          <a:ln w="25560">
            <a:solidFill>
              <a:srgbClr val="e6e5e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22" name="Rectangle 4"/>
          <p:cNvSpPr/>
          <p:nvPr/>
        </p:nvSpPr>
        <p:spPr>
          <a:xfrm>
            <a:off x="9460080" y="7332840"/>
            <a:ext cx="8745480" cy="4578120"/>
          </a:xfrm>
          <a:prstGeom prst="rect">
            <a:avLst/>
          </a:prstGeom>
          <a:solidFill>
            <a:srgbClr val="fffefe"/>
          </a:solidFill>
          <a:ln w="25560">
            <a:solidFill>
              <a:srgbClr val="e6e5e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23" name="Rectangle 5"/>
          <p:cNvSpPr/>
          <p:nvPr/>
        </p:nvSpPr>
        <p:spPr>
          <a:xfrm>
            <a:off x="18614880" y="3313080"/>
            <a:ext cx="4168800" cy="8599680"/>
          </a:xfrm>
          <a:prstGeom prst="rect">
            <a:avLst/>
          </a:prstGeom>
          <a:solidFill>
            <a:srgbClr val="fffefe"/>
          </a:solidFill>
          <a:ln w="25560">
            <a:solidFill>
              <a:srgbClr val="e6e5e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24" name="Rectangle 6"/>
          <p:cNvSpPr/>
          <p:nvPr/>
        </p:nvSpPr>
        <p:spPr>
          <a:xfrm>
            <a:off x="14038200" y="3314880"/>
            <a:ext cx="4167360" cy="3562200"/>
          </a:xfrm>
          <a:prstGeom prst="rect">
            <a:avLst/>
          </a:prstGeom>
          <a:solidFill>
            <a:srgbClr val="9a9999"/>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25" name="Rectangle 7"/>
          <p:cNvSpPr/>
          <p:nvPr/>
        </p:nvSpPr>
        <p:spPr>
          <a:xfrm>
            <a:off x="18614880" y="7832880"/>
            <a:ext cx="4168800" cy="4079880"/>
          </a:xfrm>
          <a:prstGeom prst="rect">
            <a:avLst/>
          </a:prstGeom>
          <a:solidFill>
            <a:srgbClr val="9a9999"/>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26" name="Rectangle 8"/>
          <p:cNvSpPr/>
          <p:nvPr/>
        </p:nvSpPr>
        <p:spPr>
          <a:xfrm>
            <a:off x="1284120" y="6902280"/>
            <a:ext cx="6591600" cy="3454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sp>
        <p:nvSpPr>
          <p:cNvPr id="427" name="Rectangle 9"/>
          <p:cNvSpPr/>
          <p:nvPr/>
        </p:nvSpPr>
        <p:spPr>
          <a:xfrm>
            <a:off x="1282680" y="3327480"/>
            <a:ext cx="6591240" cy="29844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a1919"/>
                </a:solidFill>
                <a:latin typeface="Open Sans Semibold"/>
                <a:ea typeface="ＭＳ Ｐゴシック"/>
              </a:rPr>
              <a:t>The Secrets</a:t>
            </a:r>
            <a:r>
              <a:rPr b="0" lang="en-US" sz="6400" spc="-1" strike="noStrike">
                <a:solidFill>
                  <a:srgbClr val="1a1919"/>
                </a:solidFill>
                <a:latin typeface="Open Sans Light"/>
                <a:ea typeface="ＭＳ Ｐゴシック"/>
              </a:rPr>
              <a:t> of Our Success Story</a:t>
            </a:r>
            <a:endParaRPr b="0" lang="en-US" sz="6400" spc="-1" strike="noStrike">
              <a:solidFill>
                <a:srgbClr val="000000"/>
              </a:solidFill>
              <a:latin typeface="Gill Sans"/>
            </a:endParaRPr>
          </a:p>
        </p:txBody>
      </p:sp>
      <p:sp>
        <p:nvSpPr>
          <p:cNvPr id="428" name="Rectangle 10"/>
          <p:cNvSpPr/>
          <p:nvPr/>
        </p:nvSpPr>
        <p:spPr>
          <a:xfrm>
            <a:off x="9740880" y="4413240"/>
            <a:ext cx="3861000" cy="1130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3333"/>
                </a:solidFill>
                <a:latin typeface="Open Sans Light"/>
                <a:ea typeface="ＭＳ Ｐゴシック"/>
              </a:rPr>
              <a:t>Nullam id dolor id nibh ultricies vehicula ut id elit. Vestibulum id ligula porta felis euismod.</a:t>
            </a:r>
            <a:endParaRPr b="0" lang="en-US" sz="2000" spc="-1" strike="noStrike">
              <a:solidFill>
                <a:srgbClr val="000000"/>
              </a:solidFill>
              <a:latin typeface="Gill Sans"/>
            </a:endParaRPr>
          </a:p>
        </p:txBody>
      </p:sp>
      <p:sp>
        <p:nvSpPr>
          <p:cNvPr id="429" name="Rectangle 11"/>
          <p:cNvSpPr/>
          <p:nvPr/>
        </p:nvSpPr>
        <p:spPr>
          <a:xfrm>
            <a:off x="9740880" y="3714840"/>
            <a:ext cx="3861000" cy="584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919"/>
                </a:solidFill>
                <a:latin typeface="Open Sans Semibold"/>
                <a:ea typeface="ＭＳ Ｐゴシック"/>
              </a:rPr>
              <a:t>Learn Lorem Ipsum</a:t>
            </a:r>
            <a:endParaRPr b="0" lang="en-US" sz="2800" spc="-1" strike="noStrike">
              <a:solidFill>
                <a:srgbClr val="000000"/>
              </a:solidFill>
              <a:latin typeface="Gill Sans"/>
            </a:endParaRPr>
          </a:p>
        </p:txBody>
      </p:sp>
      <p:sp>
        <p:nvSpPr>
          <p:cNvPr id="430" name="AutoShape 12"/>
          <p:cNvSpPr/>
          <p:nvPr/>
        </p:nvSpPr>
        <p:spPr>
          <a:xfrm>
            <a:off x="9753480" y="5918040"/>
            <a:ext cx="1905120" cy="584280"/>
          </a:xfrm>
          <a:prstGeom prst="roundRect">
            <a:avLst>
              <a:gd name="adj" fmla="val 8694"/>
            </a:avLst>
          </a:prstGeom>
          <a:noFill/>
          <a:ln w="25560">
            <a:solidFill>
              <a:srgbClr val="b3b2b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9999"/>
                </a:solidFill>
                <a:latin typeface="Source Sans Pro"/>
                <a:ea typeface="ＭＳ Ｐゴシック"/>
              </a:rPr>
              <a:t>secret 01</a:t>
            </a:r>
            <a:endParaRPr b="0" lang="en-US" sz="2000" spc="-1" strike="noStrike">
              <a:solidFill>
                <a:srgbClr val="000000"/>
              </a:solidFill>
              <a:latin typeface="Gill Sans"/>
            </a:endParaRPr>
          </a:p>
        </p:txBody>
      </p:sp>
      <p:sp>
        <p:nvSpPr>
          <p:cNvPr id="431" name="Rectangle 13"/>
          <p:cNvSpPr/>
          <p:nvPr/>
        </p:nvSpPr>
        <p:spPr>
          <a:xfrm>
            <a:off x="9740880" y="8451720"/>
            <a:ext cx="8102520" cy="2159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3333"/>
                </a:solidFill>
                <a:latin typeface="Open Sans Light"/>
                <a:ea typeface="ＭＳ Ｐゴシック"/>
              </a:rPr>
              <a:t>Curabitur blandit tempus porttitor. Cras justo odio, dapibus ac facilisis in, egestas eget quam. Donec ullamcorper nulla non metus auctor fringilla. Praesent commodo cursus magna, vel scelerisque nisl consectetur et. Aenean eu leo quam. Pellentesque ornare sem lacinia quam venenatis vestibulum. Cras justo odio, dapibus ac facilisis in, egestas eget quam. </a:t>
            </a:r>
            <a:endParaRPr b="0" lang="en-US" sz="2000" spc="-1" strike="noStrike">
              <a:solidFill>
                <a:srgbClr val="000000"/>
              </a:solidFill>
              <a:latin typeface="Gill Sans"/>
            </a:endParaRPr>
          </a:p>
        </p:txBody>
      </p:sp>
      <p:sp>
        <p:nvSpPr>
          <p:cNvPr id="432" name="Rectangle 14"/>
          <p:cNvSpPr/>
          <p:nvPr/>
        </p:nvSpPr>
        <p:spPr>
          <a:xfrm>
            <a:off x="9740880" y="7721640"/>
            <a:ext cx="8102520" cy="584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919"/>
                </a:solidFill>
                <a:latin typeface="Open Sans Semibold"/>
                <a:ea typeface="ＭＳ Ｐゴシック"/>
              </a:rPr>
              <a:t>Always Dolor sit Amet</a:t>
            </a:r>
            <a:endParaRPr b="0" lang="en-US" sz="2800" spc="-1" strike="noStrike">
              <a:solidFill>
                <a:srgbClr val="000000"/>
              </a:solidFill>
              <a:latin typeface="Gill Sans"/>
            </a:endParaRPr>
          </a:p>
        </p:txBody>
      </p:sp>
      <p:sp>
        <p:nvSpPr>
          <p:cNvPr id="433" name="AutoShape 15"/>
          <p:cNvSpPr/>
          <p:nvPr/>
        </p:nvSpPr>
        <p:spPr>
          <a:xfrm>
            <a:off x="15925680" y="10985400"/>
            <a:ext cx="1905120" cy="584280"/>
          </a:xfrm>
          <a:prstGeom prst="roundRect">
            <a:avLst>
              <a:gd name="adj" fmla="val 8694"/>
            </a:avLst>
          </a:prstGeom>
          <a:noFill/>
          <a:ln w="25560">
            <a:solidFill>
              <a:srgbClr val="b3b2b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9999"/>
                </a:solidFill>
                <a:latin typeface="Source Sans Pro"/>
                <a:ea typeface="ＭＳ Ｐゴシック"/>
              </a:rPr>
              <a:t>secret 02</a:t>
            </a:r>
            <a:endParaRPr b="0" lang="en-US" sz="2000" spc="-1" strike="noStrike">
              <a:solidFill>
                <a:srgbClr val="000000"/>
              </a:solidFill>
              <a:latin typeface="Gill Sans"/>
            </a:endParaRPr>
          </a:p>
        </p:txBody>
      </p:sp>
      <p:sp>
        <p:nvSpPr>
          <p:cNvPr id="434" name="Rectangle 16"/>
          <p:cNvSpPr/>
          <p:nvPr/>
        </p:nvSpPr>
        <p:spPr>
          <a:xfrm>
            <a:off x="19037160" y="4425840"/>
            <a:ext cx="3353040" cy="1473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3333"/>
                </a:solidFill>
                <a:latin typeface="Open Sans Light"/>
                <a:ea typeface="ＭＳ Ｐゴシック"/>
              </a:rPr>
              <a:t>Nullam id dolor id nibh ultricies vehicula ut id elit. Vestibulum id ligula porta felis euismod.</a:t>
            </a:r>
            <a:endParaRPr b="0" lang="en-US" sz="2000" spc="-1" strike="noStrike">
              <a:solidFill>
                <a:srgbClr val="000000"/>
              </a:solidFill>
              <a:latin typeface="Gill Sans"/>
            </a:endParaRPr>
          </a:p>
        </p:txBody>
      </p:sp>
      <p:sp>
        <p:nvSpPr>
          <p:cNvPr id="435" name="Rectangle 17"/>
          <p:cNvSpPr/>
          <p:nvPr/>
        </p:nvSpPr>
        <p:spPr>
          <a:xfrm>
            <a:off x="19011960" y="3720960"/>
            <a:ext cx="3352680" cy="584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919"/>
                </a:solidFill>
                <a:latin typeface="Open Sans Semibold"/>
                <a:ea typeface="ＭＳ Ｐゴシック"/>
              </a:rPr>
              <a:t>Keep Lorem Ipsum</a:t>
            </a:r>
            <a:endParaRPr b="0" lang="en-US" sz="2800" spc="-1" strike="noStrike">
              <a:solidFill>
                <a:srgbClr val="000000"/>
              </a:solidFill>
              <a:latin typeface="Gill Sans"/>
            </a:endParaRPr>
          </a:p>
        </p:txBody>
      </p:sp>
      <p:sp>
        <p:nvSpPr>
          <p:cNvPr id="436" name="AutoShape 18"/>
          <p:cNvSpPr/>
          <p:nvPr/>
        </p:nvSpPr>
        <p:spPr>
          <a:xfrm>
            <a:off x="20472480" y="6921360"/>
            <a:ext cx="1904760" cy="584280"/>
          </a:xfrm>
          <a:prstGeom prst="roundRect">
            <a:avLst>
              <a:gd name="adj" fmla="val 8694"/>
            </a:avLst>
          </a:prstGeom>
          <a:noFill/>
          <a:ln w="25560">
            <a:solidFill>
              <a:srgbClr val="b3b2b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9999"/>
                </a:solidFill>
                <a:latin typeface="Source Sans Pro"/>
                <a:ea typeface="ＭＳ Ｐゴシック"/>
              </a:rPr>
              <a:t>secret 03</a:t>
            </a:r>
            <a:endParaRPr b="0" lang="en-US" sz="2000" spc="-1" strike="noStrike">
              <a:solidFill>
                <a:srgbClr val="000000"/>
              </a:solidFill>
              <a:latin typeface="Gill Sans"/>
            </a:endParaRPr>
          </a:p>
        </p:txBody>
      </p:sp>
      <p:sp>
        <p:nvSpPr>
          <p:cNvPr id="437" name="Rectangle 21"/>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11</a:t>
            </a:r>
            <a:endParaRPr b="0" lang="en-US" sz="2400" spc="-1" strike="noStrike">
              <a:solidFill>
                <a:srgbClr val="000000"/>
              </a:solidFill>
              <a:latin typeface="Gill Sans"/>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8" name="Group 9"/>
          <p:cNvGrpSpPr/>
          <p:nvPr/>
        </p:nvGrpSpPr>
        <p:grpSpPr>
          <a:xfrm>
            <a:off x="1308240" y="3340080"/>
            <a:ext cx="8743680" cy="7842240"/>
            <a:chOff x="1308240" y="3340080"/>
            <a:chExt cx="8743680" cy="7842240"/>
          </a:xfrm>
        </p:grpSpPr>
        <p:sp>
          <p:nvSpPr>
            <p:cNvPr id="439" name="Rectangle 1"/>
            <p:cNvSpPr/>
            <p:nvPr/>
          </p:nvSpPr>
          <p:spPr>
            <a:xfrm>
              <a:off x="1308240" y="3340080"/>
              <a:ext cx="8743680" cy="3562200"/>
            </a:xfrm>
            <a:prstGeom prst="rect">
              <a:avLst/>
            </a:prstGeom>
            <a:solidFill>
              <a:srgbClr val="fffefe"/>
            </a:solidFill>
            <a:ln w="25560">
              <a:solidFill>
                <a:srgbClr val="e6e5e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40" name="Rectangle 2"/>
            <p:cNvSpPr/>
            <p:nvPr/>
          </p:nvSpPr>
          <p:spPr>
            <a:xfrm>
              <a:off x="6032160" y="4438800"/>
              <a:ext cx="3860640" cy="1130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3333"/>
                  </a:solidFill>
                  <a:latin typeface="Open Sans Light"/>
                  <a:ea typeface="ＭＳ Ｐゴシック"/>
                </a:rPr>
                <a:t>Nullam id dolor id nibh ultricies vehicula ut id elit. Vestibulum id ligula porta felis euismod.</a:t>
              </a:r>
              <a:endParaRPr b="0" lang="en-US" sz="2000" spc="-1" strike="noStrike">
                <a:solidFill>
                  <a:srgbClr val="000000"/>
                </a:solidFill>
                <a:latin typeface="Gill Sans"/>
              </a:endParaRPr>
            </a:p>
          </p:txBody>
        </p:sp>
        <p:sp>
          <p:nvSpPr>
            <p:cNvPr id="441" name="Rectangle 3"/>
            <p:cNvSpPr/>
            <p:nvPr/>
          </p:nvSpPr>
          <p:spPr>
            <a:xfrm>
              <a:off x="6032160" y="3740040"/>
              <a:ext cx="3860640" cy="584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919"/>
                  </a:solidFill>
                  <a:latin typeface="Open Sans Bold"/>
                  <a:ea typeface="ＭＳ Ｐゴシック"/>
                </a:rPr>
                <a:t>Learn Lorem Ipsum</a:t>
              </a:r>
              <a:endParaRPr b="0" lang="en-US" sz="2800" spc="-1" strike="noStrike">
                <a:solidFill>
                  <a:srgbClr val="000000"/>
                </a:solidFill>
                <a:latin typeface="Gill Sans"/>
              </a:endParaRPr>
            </a:p>
          </p:txBody>
        </p:sp>
        <p:sp>
          <p:nvSpPr>
            <p:cNvPr id="442" name="AutoShape 4"/>
            <p:cNvSpPr/>
            <p:nvPr/>
          </p:nvSpPr>
          <p:spPr>
            <a:xfrm>
              <a:off x="6045120" y="5943600"/>
              <a:ext cx="1904400" cy="584280"/>
            </a:xfrm>
            <a:prstGeom prst="roundRect">
              <a:avLst>
                <a:gd name="adj" fmla="val 8694"/>
              </a:avLst>
            </a:prstGeom>
            <a:noFill/>
            <a:ln w="25560">
              <a:solidFill>
                <a:srgbClr val="23cb9e"/>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cb9e"/>
                  </a:solidFill>
                  <a:latin typeface="Source Sans Pro"/>
                  <a:ea typeface="ＭＳ Ｐゴシック"/>
                </a:rPr>
                <a:t>secret 01</a:t>
              </a:r>
              <a:endParaRPr b="0" lang="en-US" sz="2000" spc="-1" strike="noStrike">
                <a:solidFill>
                  <a:srgbClr val="000000"/>
                </a:solidFill>
                <a:latin typeface="Gill Sans"/>
              </a:endParaRPr>
            </a:p>
          </p:txBody>
        </p:sp>
        <p:sp>
          <p:nvSpPr>
            <p:cNvPr id="443" name="Rectangle 5"/>
            <p:cNvSpPr/>
            <p:nvPr/>
          </p:nvSpPr>
          <p:spPr>
            <a:xfrm>
              <a:off x="1308240" y="7620120"/>
              <a:ext cx="8743680" cy="3562200"/>
            </a:xfrm>
            <a:prstGeom prst="rect">
              <a:avLst/>
            </a:prstGeom>
            <a:solidFill>
              <a:srgbClr val="fffefe"/>
            </a:solidFill>
            <a:ln w="25560">
              <a:solidFill>
                <a:srgbClr val="e6e5e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44" name="Rectangle 6"/>
            <p:cNvSpPr/>
            <p:nvPr/>
          </p:nvSpPr>
          <p:spPr>
            <a:xfrm>
              <a:off x="6032160" y="8718480"/>
              <a:ext cx="3860640" cy="1130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3333"/>
                  </a:solidFill>
                  <a:latin typeface="Open Sans Light"/>
                  <a:ea typeface="ＭＳ Ｐゴシック"/>
                </a:rPr>
                <a:t>Nullam id dolor id nibh ultricies vehicula ut id elit. Vestibulum id ligula porta felis euismod.</a:t>
              </a:r>
              <a:endParaRPr b="0" lang="en-US" sz="2000" spc="-1" strike="noStrike">
                <a:solidFill>
                  <a:srgbClr val="000000"/>
                </a:solidFill>
                <a:latin typeface="Gill Sans"/>
              </a:endParaRPr>
            </a:p>
          </p:txBody>
        </p:sp>
        <p:sp>
          <p:nvSpPr>
            <p:cNvPr id="445" name="Rectangle 7"/>
            <p:cNvSpPr/>
            <p:nvPr/>
          </p:nvSpPr>
          <p:spPr>
            <a:xfrm>
              <a:off x="6032160" y="8020080"/>
              <a:ext cx="3860640" cy="584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919"/>
                  </a:solidFill>
                  <a:latin typeface="Open Sans Bold"/>
                  <a:ea typeface="ＭＳ Ｐゴシック"/>
                </a:rPr>
                <a:t>Learn Lorem Ipsum</a:t>
              </a:r>
              <a:endParaRPr b="0" lang="en-US" sz="2800" spc="-1" strike="noStrike">
                <a:solidFill>
                  <a:srgbClr val="000000"/>
                </a:solidFill>
                <a:latin typeface="Gill Sans"/>
              </a:endParaRPr>
            </a:p>
          </p:txBody>
        </p:sp>
        <p:sp>
          <p:nvSpPr>
            <p:cNvPr id="446" name="AutoShape 8"/>
            <p:cNvSpPr/>
            <p:nvPr/>
          </p:nvSpPr>
          <p:spPr>
            <a:xfrm>
              <a:off x="6045120" y="10223640"/>
              <a:ext cx="1904400" cy="583920"/>
            </a:xfrm>
            <a:prstGeom prst="roundRect">
              <a:avLst>
                <a:gd name="adj" fmla="val 8694"/>
              </a:avLst>
            </a:prstGeom>
            <a:noFill/>
            <a:ln w="25560">
              <a:solidFill>
                <a:srgbClr val="23cb9e"/>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3cb9e"/>
                  </a:solidFill>
                  <a:latin typeface="Source Sans Pro"/>
                  <a:ea typeface="ＭＳ Ｐゴシック"/>
                </a:rPr>
                <a:t>secret 02</a:t>
              </a:r>
              <a:endParaRPr b="0" lang="en-US" sz="2000" spc="-1" strike="noStrike">
                <a:solidFill>
                  <a:srgbClr val="000000"/>
                </a:solidFill>
                <a:latin typeface="Gill Sans"/>
              </a:endParaRPr>
            </a:p>
          </p:txBody>
        </p:sp>
      </p:grpSp>
      <p:sp>
        <p:nvSpPr>
          <p:cNvPr id="447" name="Rectangle 10"/>
          <p:cNvSpPr/>
          <p:nvPr/>
        </p:nvSpPr>
        <p:spPr>
          <a:xfrm>
            <a:off x="1363680" y="819000"/>
            <a:ext cx="295560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What We Do</a:t>
            </a:r>
            <a:endParaRPr b="0" lang="en-US" sz="4000" spc="-1" strike="noStrike">
              <a:solidFill>
                <a:srgbClr val="000000"/>
              </a:solidFill>
              <a:latin typeface="Gill Sans"/>
            </a:endParaRPr>
          </a:p>
        </p:txBody>
      </p:sp>
      <p:sp>
        <p:nvSpPr>
          <p:cNvPr id="448" name="Rectangle 11"/>
          <p:cNvSpPr/>
          <p:nvPr/>
        </p:nvSpPr>
        <p:spPr>
          <a:xfrm>
            <a:off x="1225440" y="1492200"/>
            <a:ext cx="32468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We Deliver Dream</a:t>
            </a:r>
            <a:endParaRPr b="0" lang="en-US" sz="3000" spc="-1" strike="noStrike">
              <a:solidFill>
                <a:srgbClr val="000000"/>
              </a:solidFill>
              <a:latin typeface="Gill Sans"/>
            </a:endParaRPr>
          </a:p>
        </p:txBody>
      </p:sp>
      <p:sp>
        <p:nvSpPr>
          <p:cNvPr id="449" name="Rectangle 14"/>
          <p:cNvSpPr/>
          <p:nvPr/>
        </p:nvSpPr>
        <p:spPr>
          <a:xfrm>
            <a:off x="11112480" y="3333600"/>
            <a:ext cx="11099880" cy="3289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919"/>
                </a:solidFill>
                <a:latin typeface="Open Sans Bold"/>
                <a:ea typeface="ＭＳ Ｐゴシック"/>
              </a:rPr>
              <a:t>Don</a:t>
            </a:r>
            <a:r>
              <a:rPr b="0" lang="ja-JP" sz="3600" spc="-1" strike="noStrike">
                <a:solidFill>
                  <a:srgbClr val="1a1919"/>
                </a:solidFill>
                <a:latin typeface="Arial"/>
                <a:ea typeface="ＭＳ Ｐゴシック"/>
              </a:rPr>
              <a:t>’</a:t>
            </a:r>
            <a:r>
              <a:rPr b="0" lang="en-US" sz="3600" spc="-1" strike="noStrike">
                <a:solidFill>
                  <a:srgbClr val="1a1919"/>
                </a:solidFill>
                <a:latin typeface="Open Sans Bold"/>
                <a:ea typeface="Open Sans Bold"/>
              </a:rPr>
              <a:t>t worry about people stealing your design work. Worry about the day they stop</a:t>
            </a: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919"/>
                </a:solidFill>
                <a:latin typeface="Open Sans Light"/>
                <a:ea typeface="Open Sans Light"/>
              </a:rPr>
              <a:t>Aenean lacinia bibendum nulla sed consea augue. Aenean eu leo quam. Pellentesque ornare sem lacinia quam venenatis vestibulum. Morbctetur. Nulla vitae elit libero, aero, a pharetra augue. Aeneanquam. Pellen vestibulus, porta ac consectetur ac, vestibulum at eros. ut id elit. </a:t>
            </a:r>
            <a:endParaRPr b="0" lang="en-US" sz="2200" spc="-1" strike="noStrike">
              <a:solidFill>
                <a:srgbClr val="000000"/>
              </a:solidFill>
              <a:latin typeface="Gill Sans"/>
            </a:endParaRPr>
          </a:p>
        </p:txBody>
      </p:sp>
      <p:sp>
        <p:nvSpPr>
          <p:cNvPr id="450" name="Rectangle 15"/>
          <p:cNvSpPr/>
          <p:nvPr/>
        </p:nvSpPr>
        <p:spPr>
          <a:xfrm>
            <a:off x="11112480" y="7620120"/>
            <a:ext cx="11099880" cy="3289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919"/>
                </a:solidFill>
                <a:latin typeface="Open Sans Bold"/>
                <a:ea typeface="ＭＳ Ｐゴシック"/>
              </a:rPr>
              <a:t>Chase the vision, not the money, the money will end up following you </a:t>
            </a: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919"/>
                </a:solidFill>
                <a:latin typeface="Open Sans Light"/>
                <a:ea typeface="ＭＳ Ｐゴシック"/>
              </a:rPr>
              <a:t>Aenean lacinia bibendum nulla sed consea augue. Aenean eu leo quam. Pellentesque ornare sem lacinia quam venenatis vestibulum. Morbctetur. Nulla vitae elit libero, aero, a pharetra augue. Aeneanquam. Pellen vestibulus, porta ac consectetur ac, vestibulum at eros. ut id elit. </a:t>
            </a:r>
            <a:endParaRPr b="0" lang="en-US" sz="2200" spc="-1" strike="noStrike">
              <a:solidFill>
                <a:srgbClr val="000000"/>
              </a:solidFill>
              <a:latin typeface="Gill Sans"/>
            </a:endParaRPr>
          </a:p>
        </p:txBody>
      </p:sp>
      <p:sp>
        <p:nvSpPr>
          <p:cNvPr id="451" name="Rectangle 16"/>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12</a:t>
            </a:r>
            <a:endParaRPr b="0" lang="en-US" sz="2400" spc="-1" strike="noStrike">
              <a:solidFill>
                <a:srgbClr val="000000"/>
              </a:solidFill>
              <a:latin typeface="Gill Sans"/>
            </a:endParaRPr>
          </a:p>
        </p:txBody>
      </p:sp>
      <p:sp>
        <p:nvSpPr>
          <p:cNvPr id="452" name="AutoShape 2"/>
          <p:cNvSpPr/>
          <p:nvPr/>
        </p:nvSpPr>
        <p:spPr>
          <a:xfrm>
            <a:off x="1295280" y="3352680"/>
            <a:ext cx="4191120" cy="3562560"/>
          </a:xfrm>
          <a:custGeom>
            <a:avLst/>
            <a:gdLst/>
            <a:ahLst/>
            <a:rect l="l" t="t" r="r" b="b"/>
            <a:pathLst>
              <a:path w="21600" h="21600">
                <a:moveTo>
                  <a:pt x="0" y="0"/>
                </a:moveTo>
                <a:lnTo>
                  <a:pt x="21600" y="0"/>
                </a:lnTo>
                <a:lnTo>
                  <a:pt x="21600" y="21600"/>
                </a:lnTo>
                <a:lnTo>
                  <a:pt x="0" y="21600"/>
                </a:lnTo>
                <a:lnTo>
                  <a:pt x="0" y="0"/>
                </a:lnTo>
                <a:close/>
              </a:path>
            </a:pathLst>
          </a:custGeom>
          <a:solidFill>
            <a:srgbClr val="7f7f7f"/>
          </a:solidFill>
          <a:ln w="25560">
            <a:solidFill>
              <a:srgbClr val="7f7f7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53" name="AutoShape 2"/>
          <p:cNvSpPr/>
          <p:nvPr/>
        </p:nvSpPr>
        <p:spPr>
          <a:xfrm>
            <a:off x="1295280" y="7620120"/>
            <a:ext cx="4191120" cy="3562200"/>
          </a:xfrm>
          <a:custGeom>
            <a:avLst/>
            <a:gdLst/>
            <a:ahLst/>
            <a:rect l="l" t="t" r="r" b="b"/>
            <a:pathLst>
              <a:path w="21600" h="21600">
                <a:moveTo>
                  <a:pt x="0" y="0"/>
                </a:moveTo>
                <a:lnTo>
                  <a:pt x="21600" y="0"/>
                </a:lnTo>
                <a:lnTo>
                  <a:pt x="21600" y="21600"/>
                </a:lnTo>
                <a:lnTo>
                  <a:pt x="0" y="21600"/>
                </a:lnTo>
                <a:lnTo>
                  <a:pt x="0" y="0"/>
                </a:lnTo>
                <a:close/>
              </a:path>
            </a:pathLst>
          </a:custGeom>
          <a:solidFill>
            <a:srgbClr val="7f7f7f"/>
          </a:solidFill>
          <a:ln w="25560">
            <a:solidFill>
              <a:srgbClr val="7f7f7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1"/>
          <p:cNvSpPr/>
          <p:nvPr/>
        </p:nvSpPr>
        <p:spPr>
          <a:xfrm>
            <a:off x="1369800" y="819000"/>
            <a:ext cx="20368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Timeline</a:t>
            </a:r>
            <a:endParaRPr b="0" lang="en-US" sz="4000" spc="-1" strike="noStrike">
              <a:solidFill>
                <a:srgbClr val="000000"/>
              </a:solidFill>
              <a:latin typeface="Gill Sans"/>
            </a:endParaRPr>
          </a:p>
        </p:txBody>
      </p:sp>
      <p:sp>
        <p:nvSpPr>
          <p:cNvPr id="455" name="Rectangle 2"/>
          <p:cNvSpPr/>
          <p:nvPr/>
        </p:nvSpPr>
        <p:spPr>
          <a:xfrm>
            <a:off x="1225440" y="1492200"/>
            <a:ext cx="32468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We Deliver Dream</a:t>
            </a:r>
            <a:endParaRPr b="0" lang="en-US" sz="3000" spc="-1" strike="noStrike">
              <a:solidFill>
                <a:srgbClr val="000000"/>
              </a:solidFill>
              <a:latin typeface="Gill Sans"/>
            </a:endParaRPr>
          </a:p>
        </p:txBody>
      </p:sp>
      <p:grpSp>
        <p:nvGrpSpPr>
          <p:cNvPr id="456" name="Group 7"/>
          <p:cNvGrpSpPr/>
          <p:nvPr/>
        </p:nvGrpSpPr>
        <p:grpSpPr>
          <a:xfrm>
            <a:off x="0" y="7543800"/>
            <a:ext cx="25501680" cy="152280"/>
            <a:chOff x="0" y="7543800"/>
            <a:chExt cx="25501680" cy="152280"/>
          </a:xfrm>
        </p:grpSpPr>
        <p:sp>
          <p:nvSpPr>
            <p:cNvPr id="457" name="Rectangle 3"/>
            <p:cNvSpPr/>
            <p:nvPr/>
          </p:nvSpPr>
          <p:spPr>
            <a:xfrm>
              <a:off x="0" y="7543800"/>
              <a:ext cx="4282920" cy="152280"/>
            </a:xfrm>
            <a:prstGeom prst="rect">
              <a:avLst/>
            </a:prstGeom>
            <a:solidFill>
              <a:srgbClr val="23cb9e"/>
            </a:solidFill>
            <a:ln w="25560">
              <a:solidFill>
                <a:srgbClr val="23cb9e"/>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58" name="Rectangle 4"/>
            <p:cNvSpPr/>
            <p:nvPr/>
          </p:nvSpPr>
          <p:spPr>
            <a:xfrm>
              <a:off x="4302000" y="7543800"/>
              <a:ext cx="5840640" cy="152280"/>
            </a:xfrm>
            <a:prstGeom prst="rect">
              <a:avLst/>
            </a:prstGeom>
            <a:solidFill>
              <a:srgbClr val="1d9d7c"/>
            </a:solidFill>
            <a:ln w="25560">
              <a:solidFill>
                <a:srgbClr val="1d9d7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59" name="Rectangle 5"/>
            <p:cNvSpPr/>
            <p:nvPr/>
          </p:nvSpPr>
          <p:spPr>
            <a:xfrm>
              <a:off x="10161720" y="7543800"/>
              <a:ext cx="7454880" cy="152280"/>
            </a:xfrm>
            <a:prstGeom prst="rect">
              <a:avLst/>
            </a:prstGeom>
            <a:solidFill>
              <a:srgbClr val="6af2b6"/>
            </a:solidFill>
            <a:ln w="25560">
              <a:solidFill>
                <a:srgbClr val="6af2b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60" name="Rectangle 6"/>
            <p:cNvSpPr/>
            <p:nvPr/>
          </p:nvSpPr>
          <p:spPr>
            <a:xfrm>
              <a:off x="17640360" y="7543800"/>
              <a:ext cx="7861320" cy="152280"/>
            </a:xfrm>
            <a:prstGeom prst="rect">
              <a:avLst/>
            </a:prstGeom>
            <a:solidFill>
              <a:srgbClr val="798687"/>
            </a:solidFill>
            <a:ln w="25560">
              <a:solidFill>
                <a:srgbClr val="798687"/>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461" name="AutoShape 8"/>
          <p:cNvSpPr/>
          <p:nvPr/>
        </p:nvSpPr>
        <p:spPr>
          <a:xfrm flipH="1" rot="10800000">
            <a:off x="16014600" y="8153280"/>
            <a:ext cx="5834160" cy="3463920"/>
          </a:xfrm>
          <a:custGeom>
            <a:avLst/>
            <a:gdLst/>
            <a:ahLst/>
            <a:rect l="l" t="t" r="r" b="b"/>
            <a:pathLst>
              <a:path w="21600" h="21600">
                <a:moveTo>
                  <a:pt x="0" y="139"/>
                </a:moveTo>
                <a:lnTo>
                  <a:pt x="0" y="19647"/>
                </a:lnTo>
                <a:lnTo>
                  <a:pt x="3450" y="19647"/>
                </a:lnTo>
                <a:lnTo>
                  <a:pt x="4610" y="21600"/>
                </a:lnTo>
                <a:lnTo>
                  <a:pt x="5728" y="19718"/>
                </a:lnTo>
                <a:lnTo>
                  <a:pt x="21600" y="19718"/>
                </a:lnTo>
                <a:lnTo>
                  <a:pt x="21600" y="0"/>
                </a:lnTo>
                <a:lnTo>
                  <a:pt x="0" y="139"/>
                </a:lnTo>
                <a:close/>
                <a:moveTo>
                  <a:pt x="0" y="139"/>
                </a:moveTo>
              </a:path>
            </a:pathLst>
          </a:custGeom>
          <a:solidFill>
            <a:srgbClr val="fffefe"/>
          </a:solidFill>
          <a:ln w="25560">
            <a:solidFill>
              <a:srgbClr val="fffefe"/>
            </a:solidFill>
            <a:miter/>
          </a:ln>
          <a:effectLst>
            <a:outerShdw dist="37996" dir="16789159"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62" name="AutoShape 9"/>
          <p:cNvSpPr/>
          <p:nvPr/>
        </p:nvSpPr>
        <p:spPr>
          <a:xfrm flipH="1" rot="10800000">
            <a:off x="6742800" y="8153280"/>
            <a:ext cx="5833800" cy="3463920"/>
          </a:xfrm>
          <a:custGeom>
            <a:avLst/>
            <a:gdLst/>
            <a:ahLst/>
            <a:rect l="l" t="t" r="r" b="b"/>
            <a:pathLst>
              <a:path w="21600" h="21600">
                <a:moveTo>
                  <a:pt x="0" y="139"/>
                </a:moveTo>
                <a:lnTo>
                  <a:pt x="0" y="19647"/>
                </a:lnTo>
                <a:lnTo>
                  <a:pt x="3450" y="19647"/>
                </a:lnTo>
                <a:lnTo>
                  <a:pt x="4610" y="21600"/>
                </a:lnTo>
                <a:lnTo>
                  <a:pt x="5728" y="19718"/>
                </a:lnTo>
                <a:lnTo>
                  <a:pt x="21600" y="19718"/>
                </a:lnTo>
                <a:lnTo>
                  <a:pt x="21600" y="0"/>
                </a:lnTo>
                <a:lnTo>
                  <a:pt x="0" y="139"/>
                </a:lnTo>
                <a:close/>
                <a:moveTo>
                  <a:pt x="0" y="139"/>
                </a:moveTo>
              </a:path>
            </a:pathLst>
          </a:custGeom>
          <a:solidFill>
            <a:srgbClr val="fffefe"/>
          </a:solidFill>
          <a:ln w="25560">
            <a:solidFill>
              <a:srgbClr val="fffefe"/>
            </a:solidFill>
            <a:miter/>
          </a:ln>
          <a:effectLst>
            <a:outerShdw dist="37996" dir="16789159"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63" name="AutoShape 10"/>
          <p:cNvSpPr/>
          <p:nvPr/>
        </p:nvSpPr>
        <p:spPr>
          <a:xfrm>
            <a:off x="2138400" y="3317760"/>
            <a:ext cx="5835600" cy="3463920"/>
          </a:xfrm>
          <a:custGeom>
            <a:avLst/>
            <a:gdLst/>
            <a:ahLst/>
            <a:rect l="l" t="t" r="r" b="b"/>
            <a:pathLst>
              <a:path w="21600" h="21600">
                <a:moveTo>
                  <a:pt x="0" y="139"/>
                </a:moveTo>
                <a:lnTo>
                  <a:pt x="0" y="19647"/>
                </a:lnTo>
                <a:lnTo>
                  <a:pt x="3450" y="19647"/>
                </a:lnTo>
                <a:lnTo>
                  <a:pt x="4610" y="21600"/>
                </a:lnTo>
                <a:lnTo>
                  <a:pt x="5728" y="19718"/>
                </a:lnTo>
                <a:lnTo>
                  <a:pt x="21600" y="19718"/>
                </a:lnTo>
                <a:lnTo>
                  <a:pt x="21600" y="0"/>
                </a:lnTo>
                <a:lnTo>
                  <a:pt x="0" y="139"/>
                </a:lnTo>
                <a:close/>
                <a:moveTo>
                  <a:pt x="0" y="139"/>
                </a:moveTo>
              </a:path>
            </a:pathLst>
          </a:custGeom>
          <a:solidFill>
            <a:srgbClr val="fffefe"/>
          </a:solidFill>
          <a:ln w="25560">
            <a:solidFill>
              <a:srgbClr val="fffefe"/>
            </a:solidFill>
            <a:miter/>
          </a:ln>
          <a:effectLst>
            <a:outerShdw dist="38160" dir="540000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64" name="AutoShape 11"/>
          <p:cNvSpPr/>
          <p:nvPr/>
        </p:nvSpPr>
        <p:spPr>
          <a:xfrm>
            <a:off x="11417400" y="3327480"/>
            <a:ext cx="5833800" cy="3463920"/>
          </a:xfrm>
          <a:custGeom>
            <a:avLst/>
            <a:gdLst/>
            <a:ahLst/>
            <a:rect l="l" t="t" r="r" b="b"/>
            <a:pathLst>
              <a:path w="21600" h="21600">
                <a:moveTo>
                  <a:pt x="0" y="139"/>
                </a:moveTo>
                <a:lnTo>
                  <a:pt x="0" y="19647"/>
                </a:lnTo>
                <a:lnTo>
                  <a:pt x="3450" y="19647"/>
                </a:lnTo>
                <a:lnTo>
                  <a:pt x="4610" y="21600"/>
                </a:lnTo>
                <a:lnTo>
                  <a:pt x="5728" y="19718"/>
                </a:lnTo>
                <a:lnTo>
                  <a:pt x="21600" y="19718"/>
                </a:lnTo>
                <a:lnTo>
                  <a:pt x="21600" y="0"/>
                </a:lnTo>
                <a:lnTo>
                  <a:pt x="0" y="139"/>
                </a:lnTo>
                <a:close/>
                <a:moveTo>
                  <a:pt x="0" y="139"/>
                </a:moveTo>
              </a:path>
            </a:pathLst>
          </a:custGeom>
          <a:solidFill>
            <a:srgbClr val="fffefe"/>
          </a:solidFill>
          <a:ln w="25560">
            <a:solidFill>
              <a:srgbClr val="fffefe"/>
            </a:solidFill>
            <a:miter/>
          </a:ln>
          <a:effectLst>
            <a:outerShdw dist="38160" dir="540000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nvGrpSpPr>
          <p:cNvPr id="465" name="Group 14"/>
          <p:cNvGrpSpPr/>
          <p:nvPr/>
        </p:nvGrpSpPr>
        <p:grpSpPr>
          <a:xfrm>
            <a:off x="2997360" y="7277040"/>
            <a:ext cx="711000" cy="711360"/>
            <a:chOff x="2997360" y="7277040"/>
            <a:chExt cx="711000" cy="711360"/>
          </a:xfrm>
        </p:grpSpPr>
        <p:sp>
          <p:nvSpPr>
            <p:cNvPr id="466" name="Oval 12"/>
            <p:cNvSpPr/>
            <p:nvPr/>
          </p:nvSpPr>
          <p:spPr>
            <a:xfrm>
              <a:off x="2997360" y="7277040"/>
              <a:ext cx="711000" cy="711360"/>
            </a:xfrm>
            <a:prstGeom prst="ellipse">
              <a:avLst/>
            </a:prstGeom>
            <a:solidFill>
              <a:srgbClr val="000000">
                <a:alpha val="30000"/>
              </a:srgbClr>
            </a:solidFill>
            <a:ln w="25560">
              <a:solidFill>
                <a:srgbClr val="000000">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67" name="Oval 13"/>
            <p:cNvSpPr/>
            <p:nvPr/>
          </p:nvSpPr>
          <p:spPr>
            <a:xfrm>
              <a:off x="3200040" y="7480080"/>
              <a:ext cx="304560" cy="304920"/>
            </a:xfrm>
            <a:prstGeom prst="ellipse">
              <a:avLst/>
            </a:prstGeom>
            <a:solidFill>
              <a:srgbClr val="343333"/>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468" name="Group 17"/>
          <p:cNvGrpSpPr/>
          <p:nvPr/>
        </p:nvGrpSpPr>
        <p:grpSpPr>
          <a:xfrm>
            <a:off x="7632720" y="7277040"/>
            <a:ext cx="711360" cy="711360"/>
            <a:chOff x="7632720" y="7277040"/>
            <a:chExt cx="711360" cy="711360"/>
          </a:xfrm>
        </p:grpSpPr>
        <p:sp>
          <p:nvSpPr>
            <p:cNvPr id="469" name="Oval 15"/>
            <p:cNvSpPr/>
            <p:nvPr/>
          </p:nvSpPr>
          <p:spPr>
            <a:xfrm>
              <a:off x="7632720" y="7277040"/>
              <a:ext cx="711360" cy="711360"/>
            </a:xfrm>
            <a:prstGeom prst="ellipse">
              <a:avLst/>
            </a:prstGeom>
            <a:solidFill>
              <a:srgbClr val="000000">
                <a:alpha val="30000"/>
              </a:srgbClr>
            </a:solidFill>
            <a:ln w="25560">
              <a:solidFill>
                <a:srgbClr val="000000">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70" name="Oval 16"/>
            <p:cNvSpPr/>
            <p:nvPr/>
          </p:nvSpPr>
          <p:spPr>
            <a:xfrm>
              <a:off x="7835760" y="7480080"/>
              <a:ext cx="304920" cy="304920"/>
            </a:xfrm>
            <a:prstGeom prst="ellipse">
              <a:avLst/>
            </a:prstGeom>
            <a:solidFill>
              <a:srgbClr val="343333"/>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471" name="Group 20"/>
          <p:cNvGrpSpPr/>
          <p:nvPr/>
        </p:nvGrpSpPr>
        <p:grpSpPr>
          <a:xfrm>
            <a:off x="12268080" y="7277040"/>
            <a:ext cx="711360" cy="711360"/>
            <a:chOff x="12268080" y="7277040"/>
            <a:chExt cx="711360" cy="711360"/>
          </a:xfrm>
        </p:grpSpPr>
        <p:sp>
          <p:nvSpPr>
            <p:cNvPr id="472" name="Oval 18"/>
            <p:cNvSpPr/>
            <p:nvPr/>
          </p:nvSpPr>
          <p:spPr>
            <a:xfrm>
              <a:off x="12268080" y="7277040"/>
              <a:ext cx="711360" cy="711360"/>
            </a:xfrm>
            <a:prstGeom prst="ellipse">
              <a:avLst/>
            </a:prstGeom>
            <a:solidFill>
              <a:srgbClr val="000000">
                <a:alpha val="30000"/>
              </a:srgbClr>
            </a:solidFill>
            <a:ln w="25560">
              <a:solidFill>
                <a:srgbClr val="000000">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73" name="Oval 19"/>
            <p:cNvSpPr/>
            <p:nvPr/>
          </p:nvSpPr>
          <p:spPr>
            <a:xfrm>
              <a:off x="12471120" y="7480080"/>
              <a:ext cx="304920" cy="304920"/>
            </a:xfrm>
            <a:prstGeom prst="ellipse">
              <a:avLst/>
            </a:prstGeom>
            <a:solidFill>
              <a:srgbClr val="343333"/>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474" name="Group 23"/>
          <p:cNvGrpSpPr/>
          <p:nvPr/>
        </p:nvGrpSpPr>
        <p:grpSpPr>
          <a:xfrm>
            <a:off x="16903800" y="7277040"/>
            <a:ext cx="711000" cy="711360"/>
            <a:chOff x="16903800" y="7277040"/>
            <a:chExt cx="711000" cy="711360"/>
          </a:xfrm>
        </p:grpSpPr>
        <p:sp>
          <p:nvSpPr>
            <p:cNvPr id="475" name="Oval 21"/>
            <p:cNvSpPr/>
            <p:nvPr/>
          </p:nvSpPr>
          <p:spPr>
            <a:xfrm>
              <a:off x="16903800" y="7277040"/>
              <a:ext cx="711000" cy="711360"/>
            </a:xfrm>
            <a:prstGeom prst="ellipse">
              <a:avLst/>
            </a:prstGeom>
            <a:solidFill>
              <a:srgbClr val="000000">
                <a:alpha val="30000"/>
              </a:srgbClr>
            </a:solidFill>
            <a:ln w="25560">
              <a:solidFill>
                <a:srgbClr val="000000">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76" name="Oval 22"/>
            <p:cNvSpPr/>
            <p:nvPr/>
          </p:nvSpPr>
          <p:spPr>
            <a:xfrm>
              <a:off x="17106480" y="7480080"/>
              <a:ext cx="304560" cy="304920"/>
            </a:xfrm>
            <a:prstGeom prst="ellipse">
              <a:avLst/>
            </a:prstGeom>
            <a:solidFill>
              <a:srgbClr val="343333"/>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477" name="Group 27"/>
          <p:cNvGrpSpPr/>
          <p:nvPr/>
        </p:nvGrpSpPr>
        <p:grpSpPr>
          <a:xfrm>
            <a:off x="5321160" y="3855600"/>
            <a:ext cx="2311560" cy="2265840"/>
            <a:chOff x="5321160" y="3855600"/>
            <a:chExt cx="2311560" cy="2265840"/>
          </a:xfrm>
        </p:grpSpPr>
        <p:sp>
          <p:nvSpPr>
            <p:cNvPr id="478" name="Rectangle 25"/>
            <p:cNvSpPr/>
            <p:nvPr/>
          </p:nvSpPr>
          <p:spPr>
            <a:xfrm>
              <a:off x="5321160" y="4953240"/>
              <a:ext cx="2311560" cy="1168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Bold"/>
                  <a:ea typeface="ＭＳ Ｐゴシック"/>
                </a:rPr>
                <a:t>Description </a:t>
              </a: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Light"/>
                  <a:ea typeface="ＭＳ Ｐゴシック"/>
                </a:rPr>
                <a:t>Nullam id dolor id nibh ultricies.</a:t>
              </a:r>
              <a:endParaRPr b="0" lang="en-US" sz="2100" spc="-1" strike="noStrike">
                <a:solidFill>
                  <a:srgbClr val="000000"/>
                </a:solidFill>
                <a:latin typeface="Gill Sans"/>
              </a:endParaRPr>
            </a:p>
          </p:txBody>
        </p:sp>
        <p:sp>
          <p:nvSpPr>
            <p:cNvPr id="479" name="Rectangle 26"/>
            <p:cNvSpPr/>
            <p:nvPr/>
          </p:nvSpPr>
          <p:spPr>
            <a:xfrm>
              <a:off x="5376240" y="3855600"/>
              <a:ext cx="1860120" cy="975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3cb9e"/>
                  </a:solidFill>
                  <a:latin typeface="Open Sans Light"/>
                  <a:ea typeface="ＭＳ Ｐゴシック"/>
                </a:rPr>
                <a:t>2011</a:t>
              </a:r>
              <a:endParaRPr b="0" lang="en-US" sz="6400" spc="-1" strike="noStrike">
                <a:solidFill>
                  <a:srgbClr val="000000"/>
                </a:solidFill>
                <a:latin typeface="Gill Sans"/>
              </a:endParaRPr>
            </a:p>
          </p:txBody>
        </p:sp>
      </p:grpSp>
      <p:grpSp>
        <p:nvGrpSpPr>
          <p:cNvPr id="480" name="Group 31"/>
          <p:cNvGrpSpPr/>
          <p:nvPr/>
        </p:nvGrpSpPr>
        <p:grpSpPr>
          <a:xfrm>
            <a:off x="14617800" y="3817440"/>
            <a:ext cx="2311200" cy="2265840"/>
            <a:chOff x="14617800" y="3817440"/>
            <a:chExt cx="2311200" cy="2265840"/>
          </a:xfrm>
        </p:grpSpPr>
        <p:sp>
          <p:nvSpPr>
            <p:cNvPr id="481" name="Rectangle 29"/>
            <p:cNvSpPr/>
            <p:nvPr/>
          </p:nvSpPr>
          <p:spPr>
            <a:xfrm>
              <a:off x="14617800" y="4915080"/>
              <a:ext cx="2311200" cy="1168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Bold"/>
                  <a:ea typeface="ＭＳ Ｐゴシック"/>
                </a:rPr>
                <a:t>Description </a:t>
              </a: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Light"/>
                  <a:ea typeface="ＭＳ Ｐゴシック"/>
                </a:rPr>
                <a:t>Nullam id dolor id nibh ultricies.</a:t>
              </a:r>
              <a:endParaRPr b="0" lang="en-US" sz="2100" spc="-1" strike="noStrike">
                <a:solidFill>
                  <a:srgbClr val="000000"/>
                </a:solidFill>
                <a:latin typeface="Gill Sans"/>
              </a:endParaRPr>
            </a:p>
          </p:txBody>
        </p:sp>
        <p:sp>
          <p:nvSpPr>
            <p:cNvPr id="482" name="Rectangle 30"/>
            <p:cNvSpPr/>
            <p:nvPr/>
          </p:nvSpPr>
          <p:spPr>
            <a:xfrm>
              <a:off x="14672520" y="3817440"/>
              <a:ext cx="1860120" cy="975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d9d7c"/>
                  </a:solidFill>
                  <a:latin typeface="Open Sans Light"/>
                  <a:ea typeface="ＭＳ Ｐゴシック"/>
                </a:rPr>
                <a:t>2013</a:t>
              </a:r>
              <a:endParaRPr b="0" lang="en-US" sz="6400" spc="-1" strike="noStrike">
                <a:solidFill>
                  <a:srgbClr val="000000"/>
                </a:solidFill>
                <a:latin typeface="Gill Sans"/>
              </a:endParaRPr>
            </a:p>
          </p:txBody>
        </p:sp>
      </p:grpSp>
      <p:sp>
        <p:nvSpPr>
          <p:cNvPr id="483" name="Rectangle 33"/>
          <p:cNvSpPr/>
          <p:nvPr/>
        </p:nvSpPr>
        <p:spPr>
          <a:xfrm>
            <a:off x="9944280" y="10032840"/>
            <a:ext cx="2311200" cy="116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Bold"/>
                <a:ea typeface="ＭＳ Ｐゴシック"/>
              </a:rPr>
              <a:t>Description </a:t>
            </a: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Light"/>
                <a:ea typeface="ＭＳ Ｐゴシック"/>
              </a:rPr>
              <a:t>Nullam id dolor id nibh ultricies.</a:t>
            </a:r>
            <a:endParaRPr b="0" lang="en-US" sz="2100" spc="-1" strike="noStrike">
              <a:solidFill>
                <a:srgbClr val="000000"/>
              </a:solidFill>
              <a:latin typeface="Gill Sans"/>
            </a:endParaRPr>
          </a:p>
        </p:txBody>
      </p:sp>
      <p:sp>
        <p:nvSpPr>
          <p:cNvPr id="484" name="Rectangle 34"/>
          <p:cNvSpPr/>
          <p:nvPr/>
        </p:nvSpPr>
        <p:spPr>
          <a:xfrm>
            <a:off x="9999000" y="8935560"/>
            <a:ext cx="1860120" cy="975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23cb9e"/>
                </a:solidFill>
                <a:latin typeface="Open Sans Light"/>
                <a:ea typeface="ＭＳ Ｐゴシック"/>
              </a:rPr>
              <a:t>2012</a:t>
            </a:r>
            <a:endParaRPr b="0" lang="en-US" sz="6400" spc="-1" strike="noStrike">
              <a:solidFill>
                <a:srgbClr val="000000"/>
              </a:solidFill>
              <a:latin typeface="Gill Sans"/>
            </a:endParaRPr>
          </a:p>
        </p:txBody>
      </p:sp>
      <p:sp>
        <p:nvSpPr>
          <p:cNvPr id="485" name="Rectangle 36"/>
          <p:cNvSpPr/>
          <p:nvPr/>
        </p:nvSpPr>
        <p:spPr>
          <a:xfrm>
            <a:off x="19215000" y="10032840"/>
            <a:ext cx="2311560" cy="116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Bold"/>
                <a:ea typeface="ＭＳ Ｐゴシック"/>
              </a:rPr>
              <a:t>Description </a:t>
            </a: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Light"/>
                <a:ea typeface="ＭＳ Ｐゴシック"/>
              </a:rPr>
              <a:t>Nullam id dolor id nibh ultricies.</a:t>
            </a:r>
            <a:endParaRPr b="0" lang="en-US" sz="2100" spc="-1" strike="noStrike">
              <a:solidFill>
                <a:srgbClr val="000000"/>
              </a:solidFill>
              <a:latin typeface="Gill Sans"/>
            </a:endParaRPr>
          </a:p>
        </p:txBody>
      </p:sp>
      <p:sp>
        <p:nvSpPr>
          <p:cNvPr id="486" name="Rectangle 37"/>
          <p:cNvSpPr/>
          <p:nvPr/>
        </p:nvSpPr>
        <p:spPr>
          <a:xfrm>
            <a:off x="19270080" y="8935560"/>
            <a:ext cx="1860120" cy="975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56464"/>
                </a:solidFill>
                <a:latin typeface="Open Sans Light"/>
                <a:ea typeface="ＭＳ Ｐゴシック"/>
              </a:rPr>
              <a:t>2014</a:t>
            </a:r>
            <a:endParaRPr b="0" lang="en-US" sz="6400" spc="-1" strike="noStrike">
              <a:solidFill>
                <a:srgbClr val="000000"/>
              </a:solidFill>
              <a:latin typeface="Gill Sans"/>
            </a:endParaRPr>
          </a:p>
        </p:txBody>
      </p:sp>
      <p:grpSp>
        <p:nvGrpSpPr>
          <p:cNvPr id="487" name="Group 40"/>
          <p:cNvGrpSpPr/>
          <p:nvPr/>
        </p:nvGrpSpPr>
        <p:grpSpPr>
          <a:xfrm>
            <a:off x="21539160" y="7277040"/>
            <a:ext cx="711360" cy="711360"/>
            <a:chOff x="21539160" y="7277040"/>
            <a:chExt cx="711360" cy="711360"/>
          </a:xfrm>
        </p:grpSpPr>
        <p:sp>
          <p:nvSpPr>
            <p:cNvPr id="488" name="Oval 38"/>
            <p:cNvSpPr/>
            <p:nvPr/>
          </p:nvSpPr>
          <p:spPr>
            <a:xfrm>
              <a:off x="21539160" y="7277040"/>
              <a:ext cx="711360" cy="711360"/>
            </a:xfrm>
            <a:prstGeom prst="ellipse">
              <a:avLst/>
            </a:prstGeom>
            <a:solidFill>
              <a:srgbClr val="000000">
                <a:alpha val="30000"/>
              </a:srgbClr>
            </a:solidFill>
            <a:ln w="25560">
              <a:solidFill>
                <a:srgbClr val="000000">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89" name="Oval 39"/>
            <p:cNvSpPr/>
            <p:nvPr/>
          </p:nvSpPr>
          <p:spPr>
            <a:xfrm>
              <a:off x="21742200" y="7480080"/>
              <a:ext cx="304920" cy="304920"/>
            </a:xfrm>
            <a:prstGeom prst="ellipse">
              <a:avLst/>
            </a:prstGeom>
            <a:solidFill>
              <a:srgbClr val="343333"/>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490" name="Rectangle 41"/>
          <p:cNvSpPr/>
          <p:nvPr/>
        </p:nvSpPr>
        <p:spPr>
          <a:xfrm>
            <a:off x="20959200" y="5525640"/>
            <a:ext cx="1860120" cy="975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9a9999"/>
                </a:solidFill>
                <a:latin typeface="Open Sans Light"/>
                <a:ea typeface="ＭＳ Ｐゴシック"/>
              </a:rPr>
              <a:t>2015</a:t>
            </a:r>
            <a:endParaRPr b="0" lang="en-US" sz="6400" spc="-1" strike="noStrike">
              <a:solidFill>
                <a:srgbClr val="000000"/>
              </a:solidFill>
              <a:latin typeface="Gill Sans"/>
            </a:endParaRPr>
          </a:p>
        </p:txBody>
      </p:sp>
      <p:grpSp>
        <p:nvGrpSpPr>
          <p:cNvPr id="491" name="Group 45"/>
          <p:cNvGrpSpPr/>
          <p:nvPr/>
        </p:nvGrpSpPr>
        <p:grpSpPr>
          <a:xfrm>
            <a:off x="21183480" y="4392720"/>
            <a:ext cx="1485720" cy="927000"/>
            <a:chOff x="21183480" y="4392720"/>
            <a:chExt cx="1485720" cy="927000"/>
          </a:xfrm>
        </p:grpSpPr>
        <p:sp>
          <p:nvSpPr>
            <p:cNvPr id="492" name="AutoShape 42"/>
            <p:cNvSpPr/>
            <p:nvPr/>
          </p:nvSpPr>
          <p:spPr>
            <a:xfrm>
              <a:off x="21183480" y="4392720"/>
              <a:ext cx="1485720" cy="927000"/>
            </a:xfrm>
            <a:custGeom>
              <a:avLst/>
              <a:gdLst/>
              <a:ahLst/>
              <a:rect l="l" t="t" r="r" b="b"/>
              <a:pathLst>
                <a:path w="21600" h="21600">
                  <a:moveTo>
                    <a:pt x="10800" y="19438"/>
                  </a:moveTo>
                  <a:cubicBezTo>
                    <a:pt x="7005" y="19438"/>
                    <a:pt x="3289" y="15989"/>
                    <a:pt x="1437" y="10797"/>
                  </a:cubicBezTo>
                  <a:cubicBezTo>
                    <a:pt x="3299" y="5599"/>
                    <a:pt x="7010" y="2162"/>
                    <a:pt x="10800" y="2162"/>
                  </a:cubicBezTo>
                  <a:cubicBezTo>
                    <a:pt x="14595" y="2162"/>
                    <a:pt x="18311" y="5611"/>
                    <a:pt x="20163" y="10803"/>
                  </a:cubicBezTo>
                  <a:cubicBezTo>
                    <a:pt x="18301" y="16000"/>
                    <a:pt x="14590" y="19438"/>
                    <a:pt x="10800" y="19438"/>
                  </a:cubicBezTo>
                  <a:moveTo>
                    <a:pt x="21576" y="10562"/>
                  </a:moveTo>
                  <a:cubicBezTo>
                    <a:pt x="21570" y="10516"/>
                    <a:pt x="21574" y="10468"/>
                    <a:pt x="21563" y="10423"/>
                  </a:cubicBezTo>
                  <a:cubicBezTo>
                    <a:pt x="21559" y="10406"/>
                    <a:pt x="21549" y="10395"/>
                    <a:pt x="21545" y="10378"/>
                  </a:cubicBezTo>
                  <a:cubicBezTo>
                    <a:pt x="21538" y="10352"/>
                    <a:pt x="21539" y="10323"/>
                    <a:pt x="21530" y="10298"/>
                  </a:cubicBezTo>
                  <a:cubicBezTo>
                    <a:pt x="19569" y="4298"/>
                    <a:pt x="15302" y="0"/>
                    <a:pt x="10800" y="0"/>
                  </a:cubicBezTo>
                  <a:cubicBezTo>
                    <a:pt x="6298" y="0"/>
                    <a:pt x="2031" y="4291"/>
                    <a:pt x="70" y="10290"/>
                  </a:cubicBezTo>
                  <a:cubicBezTo>
                    <a:pt x="61" y="10316"/>
                    <a:pt x="62" y="10344"/>
                    <a:pt x="55" y="10370"/>
                  </a:cubicBezTo>
                  <a:cubicBezTo>
                    <a:pt x="51" y="10388"/>
                    <a:pt x="41" y="10399"/>
                    <a:pt x="37" y="10416"/>
                  </a:cubicBezTo>
                  <a:cubicBezTo>
                    <a:pt x="26" y="10460"/>
                    <a:pt x="30" y="10509"/>
                    <a:pt x="24" y="10554"/>
                  </a:cubicBezTo>
                  <a:cubicBezTo>
                    <a:pt x="12" y="10635"/>
                    <a:pt x="0" y="10714"/>
                    <a:pt x="0" y="10796"/>
                  </a:cubicBezTo>
                  <a:cubicBezTo>
                    <a:pt x="0" y="10878"/>
                    <a:pt x="12" y="10956"/>
                    <a:pt x="24" y="11038"/>
                  </a:cubicBezTo>
                  <a:cubicBezTo>
                    <a:pt x="30" y="11084"/>
                    <a:pt x="26" y="11131"/>
                    <a:pt x="37" y="11175"/>
                  </a:cubicBezTo>
                  <a:cubicBezTo>
                    <a:pt x="41" y="11194"/>
                    <a:pt x="51" y="11205"/>
                    <a:pt x="55" y="11221"/>
                  </a:cubicBezTo>
                  <a:cubicBezTo>
                    <a:pt x="62" y="11248"/>
                    <a:pt x="61" y="11276"/>
                    <a:pt x="70" y="11302"/>
                  </a:cubicBezTo>
                  <a:cubicBezTo>
                    <a:pt x="2031" y="17300"/>
                    <a:pt x="6298" y="21600"/>
                    <a:pt x="10800" y="21600"/>
                  </a:cubicBezTo>
                  <a:cubicBezTo>
                    <a:pt x="15302" y="21600"/>
                    <a:pt x="19569" y="17308"/>
                    <a:pt x="21530" y="11310"/>
                  </a:cubicBezTo>
                  <a:cubicBezTo>
                    <a:pt x="21539" y="11284"/>
                    <a:pt x="21538" y="11256"/>
                    <a:pt x="21545" y="11229"/>
                  </a:cubicBezTo>
                  <a:cubicBezTo>
                    <a:pt x="21549" y="11212"/>
                    <a:pt x="21559" y="11201"/>
                    <a:pt x="21563" y="11183"/>
                  </a:cubicBezTo>
                  <a:cubicBezTo>
                    <a:pt x="21574" y="11139"/>
                    <a:pt x="21570" y="11090"/>
                    <a:pt x="21576" y="11045"/>
                  </a:cubicBezTo>
                  <a:cubicBezTo>
                    <a:pt x="21588" y="10964"/>
                    <a:pt x="21600" y="10886"/>
                    <a:pt x="21600" y="10804"/>
                  </a:cubicBezTo>
                  <a:cubicBezTo>
                    <a:pt x="21600" y="10722"/>
                    <a:pt x="21588" y="10643"/>
                    <a:pt x="21576" y="10562"/>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93" name="AutoShape 43"/>
            <p:cNvSpPr/>
            <p:nvPr/>
          </p:nvSpPr>
          <p:spPr>
            <a:xfrm>
              <a:off x="21741120" y="4670640"/>
              <a:ext cx="209520" cy="207720"/>
            </a:xfrm>
            <a:custGeom>
              <a:avLst/>
              <a:gdLst/>
              <a:ahLst/>
              <a:rect l="l" t="t" r="r" b="b"/>
              <a:pathLst>
                <a:path w="21600" h="21600">
                  <a:moveTo>
                    <a:pt x="19203" y="0"/>
                  </a:moveTo>
                  <a:cubicBezTo>
                    <a:pt x="19193" y="0"/>
                    <a:pt x="19184" y="5"/>
                    <a:pt x="19174" y="5"/>
                  </a:cubicBezTo>
                  <a:cubicBezTo>
                    <a:pt x="8586" y="23"/>
                    <a:pt x="0" y="8607"/>
                    <a:pt x="0" y="19198"/>
                  </a:cubicBezTo>
                  <a:cubicBezTo>
                    <a:pt x="0" y="20524"/>
                    <a:pt x="1077" y="21600"/>
                    <a:pt x="2402" y="21600"/>
                  </a:cubicBezTo>
                  <a:cubicBezTo>
                    <a:pt x="3723" y="21600"/>
                    <a:pt x="4799" y="20524"/>
                    <a:pt x="4799" y="19198"/>
                  </a:cubicBezTo>
                  <a:cubicBezTo>
                    <a:pt x="4799" y="11262"/>
                    <a:pt x="11262" y="4803"/>
                    <a:pt x="19203" y="4803"/>
                  </a:cubicBezTo>
                  <a:lnTo>
                    <a:pt x="19203" y="4798"/>
                  </a:lnTo>
                  <a:cubicBezTo>
                    <a:pt x="20523" y="4798"/>
                    <a:pt x="21600" y="3722"/>
                    <a:pt x="21600" y="2402"/>
                  </a:cubicBezTo>
                  <a:cubicBezTo>
                    <a:pt x="21600" y="1076"/>
                    <a:pt x="20523" y="0"/>
                    <a:pt x="19203"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94" name="AutoShape 44"/>
            <p:cNvSpPr/>
            <p:nvPr/>
          </p:nvSpPr>
          <p:spPr>
            <a:xfrm>
              <a:off x="21601440" y="4530960"/>
              <a:ext cx="651600" cy="649080"/>
            </a:xfrm>
            <a:custGeom>
              <a:avLst/>
              <a:gdLst/>
              <a:ahLst/>
              <a:rect l="l" t="t" r="r" b="b"/>
              <a:pathLst>
                <a:path w="21600" h="21600">
                  <a:moveTo>
                    <a:pt x="10800" y="20057"/>
                  </a:moveTo>
                  <a:cubicBezTo>
                    <a:pt x="5695" y="20057"/>
                    <a:pt x="1543" y="15905"/>
                    <a:pt x="1543" y="10800"/>
                  </a:cubicBezTo>
                  <a:cubicBezTo>
                    <a:pt x="1543" y="5695"/>
                    <a:pt x="5695" y="1543"/>
                    <a:pt x="10800" y="1543"/>
                  </a:cubicBezTo>
                  <a:cubicBezTo>
                    <a:pt x="15905" y="1543"/>
                    <a:pt x="20057" y="5695"/>
                    <a:pt x="20057" y="10800"/>
                  </a:cubicBezTo>
                  <a:cubicBezTo>
                    <a:pt x="20057" y="15905"/>
                    <a:pt x="15905" y="20057"/>
                    <a:pt x="10800" y="20057"/>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495" name="Rectangle 46"/>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13</a:t>
            </a:r>
            <a:endParaRPr b="0" lang="en-US" sz="2400" spc="-1" strike="noStrike">
              <a:solidFill>
                <a:srgbClr val="000000"/>
              </a:solidFill>
              <a:latin typeface="Gill Sans"/>
            </a:endParaRPr>
          </a:p>
        </p:txBody>
      </p:sp>
      <p:sp>
        <p:nvSpPr>
          <p:cNvPr id="496" name="AutoShape 2"/>
          <p:cNvSpPr/>
          <p:nvPr/>
        </p:nvSpPr>
        <p:spPr>
          <a:xfrm>
            <a:off x="2209680" y="3429000"/>
            <a:ext cx="2819520" cy="2971800"/>
          </a:xfrm>
          <a:custGeom>
            <a:avLst/>
            <a:gdLst/>
            <a:ahLst/>
            <a:rect l="l" t="t" r="r" b="b"/>
            <a:pathLst>
              <a:path w="21600" h="21600">
                <a:moveTo>
                  <a:pt x="0" y="0"/>
                </a:moveTo>
                <a:lnTo>
                  <a:pt x="21600" y="0"/>
                </a:lnTo>
                <a:lnTo>
                  <a:pt x="21600" y="21600"/>
                </a:lnTo>
                <a:lnTo>
                  <a:pt x="0" y="21600"/>
                </a:lnTo>
                <a:lnTo>
                  <a:pt x="0" y="0"/>
                </a:lnTo>
                <a:close/>
              </a:path>
            </a:pathLst>
          </a:custGeom>
          <a:solidFill>
            <a:srgbClr val="7f7f7f"/>
          </a:solidFill>
          <a:ln w="25560">
            <a:solidFill>
              <a:srgbClr val="7f7f7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97" name="AutoShape 2"/>
          <p:cNvSpPr/>
          <p:nvPr/>
        </p:nvSpPr>
        <p:spPr>
          <a:xfrm>
            <a:off x="11506320" y="3429000"/>
            <a:ext cx="2819160" cy="2971800"/>
          </a:xfrm>
          <a:custGeom>
            <a:avLst/>
            <a:gdLst/>
            <a:ahLst/>
            <a:rect l="l" t="t" r="r" b="b"/>
            <a:pathLst>
              <a:path w="21600" h="21600">
                <a:moveTo>
                  <a:pt x="0" y="0"/>
                </a:moveTo>
                <a:lnTo>
                  <a:pt x="21600" y="0"/>
                </a:lnTo>
                <a:lnTo>
                  <a:pt x="21600" y="21600"/>
                </a:lnTo>
                <a:lnTo>
                  <a:pt x="0" y="21600"/>
                </a:lnTo>
                <a:lnTo>
                  <a:pt x="0" y="0"/>
                </a:lnTo>
                <a:close/>
              </a:path>
            </a:pathLst>
          </a:custGeom>
          <a:solidFill>
            <a:srgbClr val="7f7f7f"/>
          </a:solidFill>
          <a:ln w="25560">
            <a:solidFill>
              <a:srgbClr val="7f7f7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98" name="AutoShape 2"/>
          <p:cNvSpPr/>
          <p:nvPr/>
        </p:nvSpPr>
        <p:spPr>
          <a:xfrm>
            <a:off x="6781680" y="8534520"/>
            <a:ext cx="2819520" cy="2971800"/>
          </a:xfrm>
          <a:custGeom>
            <a:avLst/>
            <a:gdLst/>
            <a:ahLst/>
            <a:rect l="l" t="t" r="r" b="b"/>
            <a:pathLst>
              <a:path w="21600" h="21600">
                <a:moveTo>
                  <a:pt x="0" y="0"/>
                </a:moveTo>
                <a:lnTo>
                  <a:pt x="21600" y="0"/>
                </a:lnTo>
                <a:lnTo>
                  <a:pt x="21600" y="21600"/>
                </a:lnTo>
                <a:lnTo>
                  <a:pt x="0" y="21600"/>
                </a:lnTo>
                <a:lnTo>
                  <a:pt x="0" y="0"/>
                </a:lnTo>
                <a:close/>
              </a:path>
            </a:pathLst>
          </a:custGeom>
          <a:solidFill>
            <a:srgbClr val="7f7f7f"/>
          </a:solidFill>
          <a:ln w="25560">
            <a:solidFill>
              <a:srgbClr val="7f7f7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99" name="AutoShape 2"/>
          <p:cNvSpPr/>
          <p:nvPr/>
        </p:nvSpPr>
        <p:spPr>
          <a:xfrm>
            <a:off x="16078320" y="8534520"/>
            <a:ext cx="2819160" cy="2971800"/>
          </a:xfrm>
          <a:custGeom>
            <a:avLst/>
            <a:gdLst/>
            <a:ahLst/>
            <a:rect l="l" t="t" r="r" b="b"/>
            <a:pathLst>
              <a:path w="21600" h="21600">
                <a:moveTo>
                  <a:pt x="0" y="0"/>
                </a:moveTo>
                <a:lnTo>
                  <a:pt x="21600" y="0"/>
                </a:lnTo>
                <a:lnTo>
                  <a:pt x="21600" y="21600"/>
                </a:lnTo>
                <a:lnTo>
                  <a:pt x="0" y="21600"/>
                </a:lnTo>
                <a:lnTo>
                  <a:pt x="0" y="0"/>
                </a:lnTo>
                <a:close/>
              </a:path>
            </a:pathLst>
          </a:custGeom>
          <a:solidFill>
            <a:srgbClr val="7f7f7f"/>
          </a:solidFill>
          <a:ln w="25560">
            <a:solidFill>
              <a:srgbClr val="7f7f7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1"/>
          <p:cNvSpPr/>
          <p:nvPr/>
        </p:nvSpPr>
        <p:spPr>
          <a:xfrm>
            <a:off x="1369800" y="819000"/>
            <a:ext cx="20368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Timeline</a:t>
            </a:r>
            <a:endParaRPr b="0" lang="en-US" sz="4000" spc="-1" strike="noStrike">
              <a:solidFill>
                <a:srgbClr val="000000"/>
              </a:solidFill>
              <a:latin typeface="Gill Sans"/>
            </a:endParaRPr>
          </a:p>
        </p:txBody>
      </p:sp>
      <p:sp>
        <p:nvSpPr>
          <p:cNvPr id="501" name="Rectangle 2"/>
          <p:cNvSpPr/>
          <p:nvPr/>
        </p:nvSpPr>
        <p:spPr>
          <a:xfrm>
            <a:off x="1225440" y="1492200"/>
            <a:ext cx="32468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We Deliver Dream</a:t>
            </a:r>
            <a:endParaRPr b="0" lang="en-US" sz="3000" spc="-1" strike="noStrike">
              <a:solidFill>
                <a:srgbClr val="000000"/>
              </a:solidFill>
              <a:latin typeface="Gill Sans"/>
            </a:endParaRPr>
          </a:p>
        </p:txBody>
      </p:sp>
      <p:grpSp>
        <p:nvGrpSpPr>
          <p:cNvPr id="502" name="Group 23"/>
          <p:cNvGrpSpPr/>
          <p:nvPr/>
        </p:nvGrpSpPr>
        <p:grpSpPr>
          <a:xfrm>
            <a:off x="-914400" y="4066920"/>
            <a:ext cx="25407720" cy="7230240"/>
            <a:chOff x="-914400" y="4066920"/>
            <a:chExt cx="25407720" cy="7230240"/>
          </a:xfrm>
        </p:grpSpPr>
        <p:grpSp>
          <p:nvGrpSpPr>
            <p:cNvPr id="503" name="Group 7"/>
            <p:cNvGrpSpPr/>
            <p:nvPr/>
          </p:nvGrpSpPr>
          <p:grpSpPr>
            <a:xfrm>
              <a:off x="-914400" y="4066920"/>
              <a:ext cx="25407720" cy="7230240"/>
              <a:chOff x="-914400" y="4066920"/>
              <a:chExt cx="25407720" cy="7230240"/>
            </a:xfrm>
          </p:grpSpPr>
          <p:sp>
            <p:nvSpPr>
              <p:cNvPr id="504" name="Rectangle 3"/>
              <p:cNvSpPr/>
              <p:nvPr/>
            </p:nvSpPr>
            <p:spPr>
              <a:xfrm rot="9861000">
                <a:off x="20132640" y="4661280"/>
                <a:ext cx="4425480" cy="126720"/>
              </a:xfrm>
              <a:prstGeom prst="rect">
                <a:avLst/>
              </a:prstGeom>
              <a:solidFill>
                <a:srgbClr val="19c38f"/>
              </a:solidFill>
              <a:ln w="25560">
                <a:solidFill>
                  <a:srgbClr val="19c38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05" name="Rectangle 4"/>
              <p:cNvSpPr/>
              <p:nvPr/>
            </p:nvSpPr>
            <p:spPr>
              <a:xfrm rot="9861000">
                <a:off x="14272920" y="6077160"/>
                <a:ext cx="6035400" cy="126720"/>
              </a:xfrm>
              <a:prstGeom prst="rect">
                <a:avLst/>
              </a:prstGeom>
              <a:solidFill>
                <a:srgbClr val="23cb9e"/>
              </a:solidFill>
              <a:ln w="25560">
                <a:solidFill>
                  <a:srgbClr val="23cb9e"/>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06" name="Rectangle 5"/>
              <p:cNvSpPr/>
              <p:nvPr/>
            </p:nvSpPr>
            <p:spPr>
              <a:xfrm rot="9861000">
                <a:off x="6805800" y="7935480"/>
                <a:ext cx="7703280" cy="126720"/>
              </a:xfrm>
              <a:prstGeom prst="rect">
                <a:avLst/>
              </a:prstGeom>
              <a:solidFill>
                <a:srgbClr val="1d9d7c"/>
              </a:solidFill>
              <a:ln w="25560">
                <a:solidFill>
                  <a:srgbClr val="1d9d7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07" name="Rectangle 6"/>
              <p:cNvSpPr/>
              <p:nvPr/>
            </p:nvSpPr>
            <p:spPr>
              <a:xfrm rot="9861000">
                <a:off x="-1047960" y="10076760"/>
                <a:ext cx="8124120" cy="126720"/>
              </a:xfrm>
              <a:prstGeom prst="rect">
                <a:avLst/>
              </a:prstGeom>
              <a:solidFill>
                <a:srgbClr val="798687"/>
              </a:solidFill>
              <a:ln w="25560">
                <a:solidFill>
                  <a:srgbClr val="798687"/>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508" name="Group 10"/>
            <p:cNvGrpSpPr/>
            <p:nvPr/>
          </p:nvGrpSpPr>
          <p:grpSpPr>
            <a:xfrm>
              <a:off x="19992240" y="4822560"/>
              <a:ext cx="876240" cy="876600"/>
              <a:chOff x="19992240" y="4822560"/>
              <a:chExt cx="876240" cy="876600"/>
            </a:xfrm>
          </p:grpSpPr>
          <p:sp>
            <p:nvSpPr>
              <p:cNvPr id="509" name="Oval 8"/>
              <p:cNvSpPr/>
              <p:nvPr/>
            </p:nvSpPr>
            <p:spPr>
              <a:xfrm rot="9861000">
                <a:off x="20075040" y="4905000"/>
                <a:ext cx="710640" cy="711000"/>
              </a:xfrm>
              <a:prstGeom prst="ellipse">
                <a:avLst/>
              </a:prstGeom>
              <a:solidFill>
                <a:srgbClr val="000000">
                  <a:alpha val="30000"/>
                </a:srgbClr>
              </a:solidFill>
              <a:ln w="25560">
                <a:solidFill>
                  <a:srgbClr val="000000">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0" name="Oval 9"/>
              <p:cNvSpPr/>
              <p:nvPr/>
            </p:nvSpPr>
            <p:spPr>
              <a:xfrm rot="9861000">
                <a:off x="20278440" y="5108760"/>
                <a:ext cx="304560" cy="304560"/>
              </a:xfrm>
              <a:prstGeom prst="ellipse">
                <a:avLst/>
              </a:prstGeom>
              <a:solidFill>
                <a:srgbClr val="343333"/>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511" name="Group 13"/>
            <p:cNvGrpSpPr/>
            <p:nvPr/>
          </p:nvGrpSpPr>
          <p:grpSpPr>
            <a:xfrm>
              <a:off x="15528600" y="6072840"/>
              <a:ext cx="876600" cy="876600"/>
              <a:chOff x="15528600" y="6072840"/>
              <a:chExt cx="876600" cy="876600"/>
            </a:xfrm>
          </p:grpSpPr>
          <p:sp>
            <p:nvSpPr>
              <p:cNvPr id="512" name="Oval 11"/>
              <p:cNvSpPr/>
              <p:nvPr/>
            </p:nvSpPr>
            <p:spPr>
              <a:xfrm rot="9861000">
                <a:off x="15611400" y="6155280"/>
                <a:ext cx="711000" cy="711000"/>
              </a:xfrm>
              <a:prstGeom prst="ellipse">
                <a:avLst/>
              </a:prstGeom>
              <a:solidFill>
                <a:srgbClr val="000000">
                  <a:alpha val="30000"/>
                </a:srgbClr>
              </a:solidFill>
              <a:ln w="25560">
                <a:solidFill>
                  <a:srgbClr val="000000">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3" name="Oval 12"/>
              <p:cNvSpPr/>
              <p:nvPr/>
            </p:nvSpPr>
            <p:spPr>
              <a:xfrm rot="9861000">
                <a:off x="15815160" y="6359040"/>
                <a:ext cx="304560" cy="304560"/>
              </a:xfrm>
              <a:prstGeom prst="ellipse">
                <a:avLst/>
              </a:prstGeom>
              <a:solidFill>
                <a:srgbClr val="343333"/>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514" name="Group 16"/>
            <p:cNvGrpSpPr/>
            <p:nvPr/>
          </p:nvGrpSpPr>
          <p:grpSpPr>
            <a:xfrm>
              <a:off x="11064960" y="7323480"/>
              <a:ext cx="876240" cy="876600"/>
              <a:chOff x="11064960" y="7323480"/>
              <a:chExt cx="876240" cy="876600"/>
            </a:xfrm>
          </p:grpSpPr>
          <p:sp>
            <p:nvSpPr>
              <p:cNvPr id="515" name="Oval 14"/>
              <p:cNvSpPr/>
              <p:nvPr/>
            </p:nvSpPr>
            <p:spPr>
              <a:xfrm rot="9861000">
                <a:off x="11147760" y="7405920"/>
                <a:ext cx="710640" cy="711000"/>
              </a:xfrm>
              <a:prstGeom prst="ellipse">
                <a:avLst/>
              </a:prstGeom>
              <a:solidFill>
                <a:srgbClr val="000000">
                  <a:alpha val="30000"/>
                </a:srgbClr>
              </a:solidFill>
              <a:ln w="25560">
                <a:solidFill>
                  <a:srgbClr val="000000">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6" name="Oval 15"/>
              <p:cNvSpPr/>
              <p:nvPr/>
            </p:nvSpPr>
            <p:spPr>
              <a:xfrm rot="9861000">
                <a:off x="11351160" y="7609320"/>
                <a:ext cx="304560" cy="304560"/>
              </a:xfrm>
              <a:prstGeom prst="ellipse">
                <a:avLst/>
              </a:prstGeom>
              <a:solidFill>
                <a:srgbClr val="343333"/>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517" name="Group 19"/>
            <p:cNvGrpSpPr/>
            <p:nvPr/>
          </p:nvGrpSpPr>
          <p:grpSpPr>
            <a:xfrm>
              <a:off x="6602040" y="8573760"/>
              <a:ext cx="876240" cy="876600"/>
              <a:chOff x="6602040" y="8573760"/>
              <a:chExt cx="876240" cy="876600"/>
            </a:xfrm>
          </p:grpSpPr>
          <p:sp>
            <p:nvSpPr>
              <p:cNvPr id="518" name="Oval 17"/>
              <p:cNvSpPr/>
              <p:nvPr/>
            </p:nvSpPr>
            <p:spPr>
              <a:xfrm rot="9861000">
                <a:off x="6684840" y="8656200"/>
                <a:ext cx="710640" cy="711000"/>
              </a:xfrm>
              <a:prstGeom prst="ellipse">
                <a:avLst/>
              </a:prstGeom>
              <a:solidFill>
                <a:srgbClr val="000000">
                  <a:alpha val="30000"/>
                </a:srgbClr>
              </a:solidFill>
              <a:ln w="25560">
                <a:solidFill>
                  <a:srgbClr val="000000">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9" name="Oval 18"/>
              <p:cNvSpPr/>
              <p:nvPr/>
            </p:nvSpPr>
            <p:spPr>
              <a:xfrm rot="9861000">
                <a:off x="6888240" y="8859960"/>
                <a:ext cx="304560" cy="304560"/>
              </a:xfrm>
              <a:prstGeom prst="ellipse">
                <a:avLst/>
              </a:prstGeom>
              <a:solidFill>
                <a:srgbClr val="343333"/>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520" name="Group 22"/>
            <p:cNvGrpSpPr/>
            <p:nvPr/>
          </p:nvGrpSpPr>
          <p:grpSpPr>
            <a:xfrm>
              <a:off x="2138400" y="9824040"/>
              <a:ext cx="876600" cy="876600"/>
              <a:chOff x="2138400" y="9824040"/>
              <a:chExt cx="876600" cy="876600"/>
            </a:xfrm>
          </p:grpSpPr>
          <p:sp>
            <p:nvSpPr>
              <p:cNvPr id="521" name="Oval 20"/>
              <p:cNvSpPr/>
              <p:nvPr/>
            </p:nvSpPr>
            <p:spPr>
              <a:xfrm rot="9861000">
                <a:off x="2221200" y="9906480"/>
                <a:ext cx="711000" cy="711000"/>
              </a:xfrm>
              <a:prstGeom prst="ellipse">
                <a:avLst/>
              </a:prstGeom>
              <a:solidFill>
                <a:srgbClr val="000000">
                  <a:alpha val="30000"/>
                </a:srgbClr>
              </a:solidFill>
              <a:ln w="25560">
                <a:solidFill>
                  <a:srgbClr val="000000">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22" name="Oval 21"/>
              <p:cNvSpPr/>
              <p:nvPr/>
            </p:nvSpPr>
            <p:spPr>
              <a:xfrm rot="9861000">
                <a:off x="2424960" y="10110240"/>
                <a:ext cx="304560" cy="304560"/>
              </a:xfrm>
              <a:prstGeom prst="ellipse">
                <a:avLst/>
              </a:prstGeom>
              <a:solidFill>
                <a:srgbClr val="343333"/>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sp>
        <p:nvSpPr>
          <p:cNvPr id="523" name="Rectangle 24"/>
          <p:cNvSpPr/>
          <p:nvPr/>
        </p:nvSpPr>
        <p:spPr>
          <a:xfrm>
            <a:off x="6899400" y="9593280"/>
            <a:ext cx="1628280" cy="853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556464"/>
                </a:solidFill>
                <a:latin typeface="Open Sans Light"/>
                <a:ea typeface="ＭＳ Ｐゴシック"/>
              </a:rPr>
              <a:t>2012</a:t>
            </a:r>
            <a:endParaRPr b="0" lang="en-US" sz="5600" spc="-1" strike="noStrike">
              <a:solidFill>
                <a:srgbClr val="000000"/>
              </a:solidFill>
              <a:latin typeface="Gill Sans"/>
            </a:endParaRPr>
          </a:p>
        </p:txBody>
      </p:sp>
      <p:sp>
        <p:nvSpPr>
          <p:cNvPr id="524" name="Rectangle 25"/>
          <p:cNvSpPr/>
          <p:nvPr/>
        </p:nvSpPr>
        <p:spPr>
          <a:xfrm>
            <a:off x="2441520" y="10844280"/>
            <a:ext cx="1628280" cy="853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798687"/>
                </a:solidFill>
                <a:latin typeface="Open Sans Light"/>
                <a:ea typeface="ＭＳ Ｐゴシック"/>
              </a:rPr>
              <a:t>2011</a:t>
            </a:r>
            <a:endParaRPr b="0" lang="en-US" sz="5600" spc="-1" strike="noStrike">
              <a:solidFill>
                <a:srgbClr val="000000"/>
              </a:solidFill>
              <a:latin typeface="Gill Sans"/>
            </a:endParaRPr>
          </a:p>
        </p:txBody>
      </p:sp>
      <p:sp>
        <p:nvSpPr>
          <p:cNvPr id="525" name="Rectangle 26"/>
          <p:cNvSpPr/>
          <p:nvPr/>
        </p:nvSpPr>
        <p:spPr>
          <a:xfrm>
            <a:off x="11369880" y="8418600"/>
            <a:ext cx="1628280" cy="853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1d9d7c"/>
                </a:solidFill>
                <a:latin typeface="Open Sans Light"/>
                <a:ea typeface="ＭＳ Ｐゴシック"/>
              </a:rPr>
              <a:t>2013</a:t>
            </a:r>
            <a:endParaRPr b="0" lang="en-US" sz="5600" spc="-1" strike="noStrike">
              <a:solidFill>
                <a:srgbClr val="000000"/>
              </a:solidFill>
              <a:latin typeface="Gill Sans"/>
            </a:endParaRPr>
          </a:p>
        </p:txBody>
      </p:sp>
      <p:sp>
        <p:nvSpPr>
          <p:cNvPr id="526" name="Rectangle 27"/>
          <p:cNvSpPr/>
          <p:nvPr/>
        </p:nvSpPr>
        <p:spPr>
          <a:xfrm>
            <a:off x="15967080" y="7262640"/>
            <a:ext cx="1628280" cy="853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23cb9e"/>
                </a:solidFill>
                <a:latin typeface="Open Sans Bold"/>
                <a:ea typeface="ＭＳ Ｐゴシック"/>
              </a:rPr>
              <a:t>2014</a:t>
            </a:r>
            <a:endParaRPr b="0" lang="en-US" sz="5600" spc="-1" strike="noStrike">
              <a:solidFill>
                <a:srgbClr val="000000"/>
              </a:solidFill>
              <a:latin typeface="Gill Sans"/>
            </a:endParaRPr>
          </a:p>
        </p:txBody>
      </p:sp>
      <p:sp>
        <p:nvSpPr>
          <p:cNvPr id="527" name="Rectangle 28"/>
          <p:cNvSpPr/>
          <p:nvPr/>
        </p:nvSpPr>
        <p:spPr>
          <a:xfrm>
            <a:off x="19662840" y="5916600"/>
            <a:ext cx="1628280" cy="853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b3b2b2"/>
                </a:solidFill>
                <a:latin typeface="Open Sans Light"/>
                <a:ea typeface="ＭＳ Ｐゴシック"/>
              </a:rPr>
              <a:t>2015</a:t>
            </a:r>
            <a:endParaRPr b="0" lang="en-US" sz="5600" spc="-1" strike="noStrike">
              <a:solidFill>
                <a:srgbClr val="000000"/>
              </a:solidFill>
              <a:latin typeface="Gill Sans"/>
            </a:endParaRPr>
          </a:p>
        </p:txBody>
      </p:sp>
      <p:sp>
        <p:nvSpPr>
          <p:cNvPr id="528" name="Rectangle 29"/>
          <p:cNvSpPr/>
          <p:nvPr/>
        </p:nvSpPr>
        <p:spPr>
          <a:xfrm>
            <a:off x="2438280" y="8242200"/>
            <a:ext cx="3721320" cy="1244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43333"/>
                </a:solidFill>
                <a:latin typeface="Open Sans Bold"/>
                <a:ea typeface="ＭＳ Ｐゴシック"/>
              </a:rPr>
              <a:t>Description</a:t>
            </a:r>
            <a:r>
              <a:rPr b="0" lang="en-US" sz="2100" spc="-1" strike="noStrike">
                <a:solidFill>
                  <a:srgbClr val="343333"/>
                </a:solidFill>
                <a:latin typeface="Open Sans Bold"/>
                <a:ea typeface="ＭＳ Ｐゴシック"/>
              </a:rPr>
              <a:t> </a:t>
            </a: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Light"/>
                <a:ea typeface="ＭＳ Ｐゴシック"/>
              </a:rPr>
              <a:t>Nullam id dolor id nibh ultricies.</a:t>
            </a:r>
            <a:endParaRPr b="0" lang="en-US" sz="2100" spc="-1" strike="noStrike">
              <a:solidFill>
                <a:srgbClr val="000000"/>
              </a:solidFill>
              <a:latin typeface="Gill Sans"/>
            </a:endParaRPr>
          </a:p>
        </p:txBody>
      </p:sp>
      <p:sp>
        <p:nvSpPr>
          <p:cNvPr id="529" name="Rectangle 30"/>
          <p:cNvSpPr/>
          <p:nvPr/>
        </p:nvSpPr>
        <p:spPr>
          <a:xfrm>
            <a:off x="15887880" y="4572000"/>
            <a:ext cx="3720960" cy="1244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43333"/>
                </a:solidFill>
                <a:latin typeface="Open Sans Bold"/>
                <a:ea typeface="ＭＳ Ｐゴシック"/>
              </a:rPr>
              <a:t>Description</a:t>
            </a:r>
            <a:r>
              <a:rPr b="0" lang="en-US" sz="2100" spc="-1" strike="noStrike">
                <a:solidFill>
                  <a:srgbClr val="343333"/>
                </a:solidFill>
                <a:latin typeface="Open Sans Bold"/>
                <a:ea typeface="ＭＳ Ｐゴシック"/>
              </a:rPr>
              <a:t> </a:t>
            </a: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Light"/>
                <a:ea typeface="ＭＳ Ｐゴシック"/>
              </a:rPr>
              <a:t>Nullam id dolor id nibh ultricies.</a:t>
            </a:r>
            <a:endParaRPr b="0" lang="en-US" sz="2100" spc="-1" strike="noStrike">
              <a:solidFill>
                <a:srgbClr val="000000"/>
              </a:solidFill>
              <a:latin typeface="Gill Sans"/>
            </a:endParaRPr>
          </a:p>
        </p:txBody>
      </p:sp>
      <p:sp>
        <p:nvSpPr>
          <p:cNvPr id="530" name="Rectangle 31"/>
          <p:cNvSpPr/>
          <p:nvPr/>
        </p:nvSpPr>
        <p:spPr>
          <a:xfrm>
            <a:off x="6845400" y="7061040"/>
            <a:ext cx="3720960" cy="1244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43333"/>
                </a:solidFill>
                <a:latin typeface="Open Sans Bold"/>
                <a:ea typeface="ＭＳ Ｐゴシック"/>
              </a:rPr>
              <a:t>Description</a:t>
            </a:r>
            <a:r>
              <a:rPr b="0" lang="en-US" sz="2100" spc="-1" strike="noStrike">
                <a:solidFill>
                  <a:srgbClr val="343333"/>
                </a:solidFill>
                <a:latin typeface="Open Sans Bold"/>
                <a:ea typeface="ＭＳ Ｐゴシック"/>
              </a:rPr>
              <a:t> </a:t>
            </a: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Light"/>
                <a:ea typeface="ＭＳ Ｐゴシック"/>
              </a:rPr>
              <a:t>Nullam id dolor id nibh ultricies.</a:t>
            </a:r>
            <a:endParaRPr b="0" lang="en-US" sz="2100" spc="-1" strike="noStrike">
              <a:solidFill>
                <a:srgbClr val="000000"/>
              </a:solidFill>
              <a:latin typeface="Gill Sans"/>
            </a:endParaRPr>
          </a:p>
        </p:txBody>
      </p:sp>
      <p:grpSp>
        <p:nvGrpSpPr>
          <p:cNvPr id="531" name="Group 35"/>
          <p:cNvGrpSpPr/>
          <p:nvPr/>
        </p:nvGrpSpPr>
        <p:grpSpPr>
          <a:xfrm>
            <a:off x="19850040" y="3782880"/>
            <a:ext cx="1257480" cy="787320"/>
            <a:chOff x="19850040" y="3782880"/>
            <a:chExt cx="1257480" cy="787320"/>
          </a:xfrm>
        </p:grpSpPr>
        <p:sp>
          <p:nvSpPr>
            <p:cNvPr id="532" name="AutoShape 32"/>
            <p:cNvSpPr/>
            <p:nvPr/>
          </p:nvSpPr>
          <p:spPr>
            <a:xfrm>
              <a:off x="19850040" y="3782880"/>
              <a:ext cx="1257480" cy="787320"/>
            </a:xfrm>
            <a:custGeom>
              <a:avLst/>
              <a:gdLst/>
              <a:ahLst/>
              <a:rect l="l" t="t" r="r" b="b"/>
              <a:pathLst>
                <a:path w="21600" h="21600">
                  <a:moveTo>
                    <a:pt x="10800" y="19438"/>
                  </a:moveTo>
                  <a:cubicBezTo>
                    <a:pt x="7005" y="19438"/>
                    <a:pt x="3289" y="15989"/>
                    <a:pt x="1437" y="10797"/>
                  </a:cubicBezTo>
                  <a:cubicBezTo>
                    <a:pt x="3299" y="5599"/>
                    <a:pt x="7010" y="2162"/>
                    <a:pt x="10800" y="2162"/>
                  </a:cubicBezTo>
                  <a:cubicBezTo>
                    <a:pt x="14595" y="2162"/>
                    <a:pt x="18311" y="5611"/>
                    <a:pt x="20163" y="10803"/>
                  </a:cubicBezTo>
                  <a:cubicBezTo>
                    <a:pt x="18301" y="16000"/>
                    <a:pt x="14590" y="19438"/>
                    <a:pt x="10800" y="19438"/>
                  </a:cubicBezTo>
                  <a:moveTo>
                    <a:pt x="21576" y="10562"/>
                  </a:moveTo>
                  <a:cubicBezTo>
                    <a:pt x="21570" y="10516"/>
                    <a:pt x="21574" y="10468"/>
                    <a:pt x="21563" y="10423"/>
                  </a:cubicBezTo>
                  <a:cubicBezTo>
                    <a:pt x="21559" y="10406"/>
                    <a:pt x="21548" y="10395"/>
                    <a:pt x="21545" y="10378"/>
                  </a:cubicBezTo>
                  <a:cubicBezTo>
                    <a:pt x="21538" y="10352"/>
                    <a:pt x="21539" y="10323"/>
                    <a:pt x="21530" y="10298"/>
                  </a:cubicBezTo>
                  <a:cubicBezTo>
                    <a:pt x="19569" y="4298"/>
                    <a:pt x="15302" y="0"/>
                    <a:pt x="10800" y="0"/>
                  </a:cubicBezTo>
                  <a:cubicBezTo>
                    <a:pt x="6298" y="0"/>
                    <a:pt x="2031" y="4291"/>
                    <a:pt x="70" y="10290"/>
                  </a:cubicBezTo>
                  <a:cubicBezTo>
                    <a:pt x="61" y="10316"/>
                    <a:pt x="62" y="10344"/>
                    <a:pt x="55" y="10370"/>
                  </a:cubicBezTo>
                  <a:cubicBezTo>
                    <a:pt x="51" y="10388"/>
                    <a:pt x="41" y="10399"/>
                    <a:pt x="37" y="10416"/>
                  </a:cubicBezTo>
                  <a:cubicBezTo>
                    <a:pt x="26" y="10460"/>
                    <a:pt x="30" y="10509"/>
                    <a:pt x="24" y="10554"/>
                  </a:cubicBezTo>
                  <a:cubicBezTo>
                    <a:pt x="12" y="10635"/>
                    <a:pt x="0" y="10714"/>
                    <a:pt x="0" y="10796"/>
                  </a:cubicBezTo>
                  <a:cubicBezTo>
                    <a:pt x="0" y="10878"/>
                    <a:pt x="12" y="10956"/>
                    <a:pt x="24" y="11038"/>
                  </a:cubicBezTo>
                  <a:cubicBezTo>
                    <a:pt x="30" y="11084"/>
                    <a:pt x="26" y="11131"/>
                    <a:pt x="37" y="11175"/>
                  </a:cubicBezTo>
                  <a:cubicBezTo>
                    <a:pt x="41" y="11194"/>
                    <a:pt x="51" y="11205"/>
                    <a:pt x="55" y="11221"/>
                  </a:cubicBezTo>
                  <a:cubicBezTo>
                    <a:pt x="62" y="11248"/>
                    <a:pt x="61" y="11276"/>
                    <a:pt x="70" y="11302"/>
                  </a:cubicBezTo>
                  <a:cubicBezTo>
                    <a:pt x="2031" y="17300"/>
                    <a:pt x="6298" y="21600"/>
                    <a:pt x="10800" y="21600"/>
                  </a:cubicBezTo>
                  <a:cubicBezTo>
                    <a:pt x="15302" y="21600"/>
                    <a:pt x="19569" y="17308"/>
                    <a:pt x="21530" y="11310"/>
                  </a:cubicBezTo>
                  <a:cubicBezTo>
                    <a:pt x="21539" y="11284"/>
                    <a:pt x="21538" y="11256"/>
                    <a:pt x="21545" y="11229"/>
                  </a:cubicBezTo>
                  <a:cubicBezTo>
                    <a:pt x="21548" y="11212"/>
                    <a:pt x="21559" y="11201"/>
                    <a:pt x="21563" y="11183"/>
                  </a:cubicBezTo>
                  <a:cubicBezTo>
                    <a:pt x="21574" y="11139"/>
                    <a:pt x="21570" y="11090"/>
                    <a:pt x="21576" y="11045"/>
                  </a:cubicBezTo>
                  <a:cubicBezTo>
                    <a:pt x="21588" y="10964"/>
                    <a:pt x="21600" y="10886"/>
                    <a:pt x="21600" y="10804"/>
                  </a:cubicBezTo>
                  <a:cubicBezTo>
                    <a:pt x="21600" y="10722"/>
                    <a:pt x="21588" y="10643"/>
                    <a:pt x="21576" y="10562"/>
                  </a:cubicBezTo>
                </a:path>
              </a:pathLst>
            </a:custGeom>
            <a:solidFill>
              <a:srgbClr val="b3b2b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33" name="AutoShape 33"/>
            <p:cNvSpPr/>
            <p:nvPr/>
          </p:nvSpPr>
          <p:spPr>
            <a:xfrm>
              <a:off x="20321640" y="4017960"/>
              <a:ext cx="176040" cy="177840"/>
            </a:xfrm>
            <a:custGeom>
              <a:avLst/>
              <a:gdLst/>
              <a:ahLst/>
              <a:rect l="l" t="t" r="r" b="b"/>
              <a:pathLst>
                <a:path w="21600" h="21600">
                  <a:moveTo>
                    <a:pt x="19203" y="0"/>
                  </a:moveTo>
                  <a:cubicBezTo>
                    <a:pt x="19193" y="0"/>
                    <a:pt x="19184" y="5"/>
                    <a:pt x="19174" y="5"/>
                  </a:cubicBezTo>
                  <a:cubicBezTo>
                    <a:pt x="8586" y="23"/>
                    <a:pt x="0" y="8607"/>
                    <a:pt x="0" y="19198"/>
                  </a:cubicBezTo>
                  <a:cubicBezTo>
                    <a:pt x="0" y="20524"/>
                    <a:pt x="1077" y="21600"/>
                    <a:pt x="2402" y="21600"/>
                  </a:cubicBezTo>
                  <a:cubicBezTo>
                    <a:pt x="3723" y="21600"/>
                    <a:pt x="4799" y="20524"/>
                    <a:pt x="4799" y="19198"/>
                  </a:cubicBezTo>
                  <a:cubicBezTo>
                    <a:pt x="4799" y="11262"/>
                    <a:pt x="11262" y="4803"/>
                    <a:pt x="19203" y="4803"/>
                  </a:cubicBezTo>
                  <a:lnTo>
                    <a:pt x="19203" y="4798"/>
                  </a:lnTo>
                  <a:cubicBezTo>
                    <a:pt x="20523" y="4798"/>
                    <a:pt x="21600" y="3722"/>
                    <a:pt x="21600" y="2402"/>
                  </a:cubicBezTo>
                  <a:cubicBezTo>
                    <a:pt x="21600" y="1076"/>
                    <a:pt x="20523" y="0"/>
                    <a:pt x="19203" y="0"/>
                  </a:cubicBezTo>
                </a:path>
              </a:pathLst>
            </a:custGeom>
            <a:solidFill>
              <a:srgbClr val="b3b2b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34" name="AutoShape 34"/>
            <p:cNvSpPr/>
            <p:nvPr/>
          </p:nvSpPr>
          <p:spPr>
            <a:xfrm>
              <a:off x="20203920" y="3900240"/>
              <a:ext cx="551160" cy="550800"/>
            </a:xfrm>
            <a:custGeom>
              <a:avLst/>
              <a:gdLst/>
              <a:ahLst/>
              <a:rect l="l" t="t" r="r" b="b"/>
              <a:pathLst>
                <a:path w="21600" h="21600">
                  <a:moveTo>
                    <a:pt x="10800" y="20057"/>
                  </a:moveTo>
                  <a:cubicBezTo>
                    <a:pt x="5695" y="20057"/>
                    <a:pt x="1543" y="15905"/>
                    <a:pt x="1543" y="10800"/>
                  </a:cubicBezTo>
                  <a:cubicBezTo>
                    <a:pt x="1543" y="5695"/>
                    <a:pt x="5695" y="1543"/>
                    <a:pt x="10800" y="1543"/>
                  </a:cubicBezTo>
                  <a:cubicBezTo>
                    <a:pt x="15905" y="1543"/>
                    <a:pt x="20057" y="5695"/>
                    <a:pt x="20057" y="10800"/>
                  </a:cubicBezTo>
                  <a:cubicBezTo>
                    <a:pt x="20057" y="15905"/>
                    <a:pt x="15905" y="20057"/>
                    <a:pt x="10800" y="20057"/>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path>
              </a:pathLst>
            </a:custGeom>
            <a:solidFill>
              <a:srgbClr val="b3b2b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535" name="Rectangle 39"/>
          <p:cNvSpPr/>
          <p:nvPr/>
        </p:nvSpPr>
        <p:spPr>
          <a:xfrm>
            <a:off x="11163240" y="5816520"/>
            <a:ext cx="3721320" cy="1244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343333"/>
                </a:solidFill>
                <a:latin typeface="Open Sans Bold"/>
                <a:ea typeface="ＭＳ Ｐゴシック"/>
              </a:rPr>
              <a:t>Description</a:t>
            </a:r>
            <a:r>
              <a:rPr b="0" lang="en-US" sz="2100" spc="-1" strike="noStrike">
                <a:solidFill>
                  <a:srgbClr val="343333"/>
                </a:solidFill>
                <a:latin typeface="Open Sans Bold"/>
                <a:ea typeface="ＭＳ Ｐゴシック"/>
              </a:rPr>
              <a:t> </a:t>
            </a: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Light"/>
                <a:ea typeface="ＭＳ Ｐゴシック"/>
              </a:rPr>
              <a:t>Nullam id dolor id nibh ultricies.</a:t>
            </a:r>
            <a:endParaRPr b="0" lang="en-US" sz="2100" spc="-1" strike="noStrike">
              <a:solidFill>
                <a:srgbClr val="000000"/>
              </a:solidFill>
              <a:latin typeface="Gill Sans"/>
            </a:endParaRPr>
          </a:p>
        </p:txBody>
      </p:sp>
      <p:sp>
        <p:nvSpPr>
          <p:cNvPr id="536" name="Rectangle 41"/>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14</a:t>
            </a:r>
            <a:endParaRPr b="0" lang="en-US" sz="2400" spc="-1" strike="noStrike">
              <a:solidFill>
                <a:srgbClr val="000000"/>
              </a:solidFill>
              <a:latin typeface="Gill Sans"/>
            </a:endParaRPr>
          </a:p>
        </p:txBody>
      </p:sp>
      <p:sp>
        <p:nvSpPr>
          <p:cNvPr id="537" name="Rectangular Callout 4"/>
          <p:cNvSpPr/>
          <p:nvPr/>
        </p:nvSpPr>
        <p:spPr>
          <a:xfrm>
            <a:off x="2438280" y="6019920"/>
            <a:ext cx="2743200" cy="2209680"/>
          </a:xfrm>
          <a:custGeom>
            <a:avLst/>
            <a:gdLst/>
            <a:ahLst/>
            <a:rect l="l" t="t" r="r" b="b"/>
            <a:pathLst>
              <a:path w="3352800" h="2571750">
                <a:moveTo>
                  <a:pt x="0" y="0"/>
                </a:moveTo>
                <a:lnTo>
                  <a:pt x="558800" y="0"/>
                </a:lnTo>
                <a:lnTo>
                  <a:pt x="1397000" y="0"/>
                </a:lnTo>
                <a:lnTo>
                  <a:pt x="3352800" y="0"/>
                </a:lnTo>
                <a:lnTo>
                  <a:pt x="3352800" y="1333500"/>
                </a:lnTo>
                <a:lnTo>
                  <a:pt x="3352800" y="1905000"/>
                </a:lnTo>
                <a:lnTo>
                  <a:pt x="3352800" y="2286000"/>
                </a:lnTo>
                <a:lnTo>
                  <a:pt x="1170207" y="2286000"/>
                </a:lnTo>
                <a:lnTo>
                  <a:pt x="977911" y="2571750"/>
                </a:lnTo>
                <a:lnTo>
                  <a:pt x="785593" y="2286000"/>
                </a:lnTo>
                <a:lnTo>
                  <a:pt x="0" y="2286000"/>
                </a:lnTo>
                <a:lnTo>
                  <a:pt x="0" y="1905000"/>
                </a:lnTo>
                <a:lnTo>
                  <a:pt x="0" y="1333500"/>
                </a:lnTo>
                <a:lnTo>
                  <a:pt x="0" y="0"/>
                </a:lnTo>
                <a:close/>
              </a:path>
            </a:pathLst>
          </a:custGeom>
          <a:solidFill>
            <a:srgbClr val="7f7f7f"/>
          </a:solidFill>
          <a:ln w="0">
            <a:noFill/>
          </a:ln>
        </p:spPr>
        <p:style>
          <a:lnRef idx="0"/>
          <a:fillRef idx="0"/>
          <a:effectRef idx="0"/>
          <a:fontRef idx="minor"/>
        </p:style>
        <p:txBody>
          <a:bodyPr lIns="37800" rIns="378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38" name="Rectangular Callout 4"/>
          <p:cNvSpPr/>
          <p:nvPr/>
        </p:nvSpPr>
        <p:spPr>
          <a:xfrm>
            <a:off x="6858000" y="4724280"/>
            <a:ext cx="2743200" cy="2210040"/>
          </a:xfrm>
          <a:custGeom>
            <a:avLst/>
            <a:gdLst/>
            <a:ahLst/>
            <a:rect l="l" t="t" r="r" b="b"/>
            <a:pathLst>
              <a:path w="3352800" h="2571750">
                <a:moveTo>
                  <a:pt x="0" y="0"/>
                </a:moveTo>
                <a:lnTo>
                  <a:pt x="558800" y="0"/>
                </a:lnTo>
                <a:lnTo>
                  <a:pt x="1397000" y="0"/>
                </a:lnTo>
                <a:lnTo>
                  <a:pt x="3352800" y="0"/>
                </a:lnTo>
                <a:lnTo>
                  <a:pt x="3352800" y="1333500"/>
                </a:lnTo>
                <a:lnTo>
                  <a:pt x="3352800" y="1905000"/>
                </a:lnTo>
                <a:lnTo>
                  <a:pt x="3352800" y="2286000"/>
                </a:lnTo>
                <a:lnTo>
                  <a:pt x="1170207" y="2286000"/>
                </a:lnTo>
                <a:lnTo>
                  <a:pt x="977911" y="2571750"/>
                </a:lnTo>
                <a:lnTo>
                  <a:pt x="785593" y="2286000"/>
                </a:lnTo>
                <a:lnTo>
                  <a:pt x="0" y="2286000"/>
                </a:lnTo>
                <a:lnTo>
                  <a:pt x="0" y="1905000"/>
                </a:lnTo>
                <a:lnTo>
                  <a:pt x="0" y="1333500"/>
                </a:lnTo>
                <a:lnTo>
                  <a:pt x="0" y="0"/>
                </a:lnTo>
                <a:close/>
              </a:path>
            </a:pathLst>
          </a:custGeom>
          <a:solidFill>
            <a:srgbClr val="7f7f7f"/>
          </a:solidFill>
          <a:ln w="0">
            <a:noFill/>
          </a:ln>
        </p:spPr>
        <p:style>
          <a:lnRef idx="0"/>
          <a:fillRef idx="0"/>
          <a:effectRef idx="0"/>
          <a:fontRef idx="minor"/>
        </p:style>
        <p:txBody>
          <a:bodyPr lIns="37800" rIns="378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39" name="Rectangular Callout 4"/>
          <p:cNvSpPr/>
          <p:nvPr/>
        </p:nvSpPr>
        <p:spPr>
          <a:xfrm>
            <a:off x="11125080" y="3505320"/>
            <a:ext cx="2743200" cy="2209680"/>
          </a:xfrm>
          <a:custGeom>
            <a:avLst/>
            <a:gdLst/>
            <a:ahLst/>
            <a:rect l="l" t="t" r="r" b="b"/>
            <a:pathLst>
              <a:path w="3352800" h="2571750">
                <a:moveTo>
                  <a:pt x="0" y="0"/>
                </a:moveTo>
                <a:lnTo>
                  <a:pt x="558800" y="0"/>
                </a:lnTo>
                <a:lnTo>
                  <a:pt x="1397000" y="0"/>
                </a:lnTo>
                <a:lnTo>
                  <a:pt x="3352800" y="0"/>
                </a:lnTo>
                <a:lnTo>
                  <a:pt x="3352800" y="1333500"/>
                </a:lnTo>
                <a:lnTo>
                  <a:pt x="3352800" y="1905000"/>
                </a:lnTo>
                <a:lnTo>
                  <a:pt x="3352800" y="2286000"/>
                </a:lnTo>
                <a:lnTo>
                  <a:pt x="1170207" y="2286000"/>
                </a:lnTo>
                <a:lnTo>
                  <a:pt x="977911" y="2571750"/>
                </a:lnTo>
                <a:lnTo>
                  <a:pt x="785593" y="2286000"/>
                </a:lnTo>
                <a:lnTo>
                  <a:pt x="0" y="2286000"/>
                </a:lnTo>
                <a:lnTo>
                  <a:pt x="0" y="1905000"/>
                </a:lnTo>
                <a:lnTo>
                  <a:pt x="0" y="1333500"/>
                </a:lnTo>
                <a:lnTo>
                  <a:pt x="0" y="0"/>
                </a:lnTo>
                <a:close/>
              </a:path>
            </a:pathLst>
          </a:custGeom>
          <a:solidFill>
            <a:srgbClr val="7f7f7f"/>
          </a:solidFill>
          <a:ln w="0">
            <a:noFill/>
          </a:ln>
        </p:spPr>
        <p:style>
          <a:lnRef idx="0"/>
          <a:fillRef idx="0"/>
          <a:effectRef idx="0"/>
          <a:fontRef idx="minor"/>
        </p:style>
        <p:txBody>
          <a:bodyPr lIns="37800" rIns="378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40" name="Rectangular Callout 4"/>
          <p:cNvSpPr/>
          <p:nvPr/>
        </p:nvSpPr>
        <p:spPr>
          <a:xfrm flipV="1">
            <a:off x="15925680" y="8305920"/>
            <a:ext cx="2743200" cy="2209680"/>
          </a:xfrm>
          <a:custGeom>
            <a:avLst/>
            <a:gdLst/>
            <a:ahLst/>
            <a:rect l="l" t="t" r="r" b="b"/>
            <a:pathLst>
              <a:path w="3352800" h="2571750">
                <a:moveTo>
                  <a:pt x="0" y="0"/>
                </a:moveTo>
                <a:lnTo>
                  <a:pt x="558800" y="0"/>
                </a:lnTo>
                <a:lnTo>
                  <a:pt x="1397000" y="0"/>
                </a:lnTo>
                <a:lnTo>
                  <a:pt x="3352800" y="0"/>
                </a:lnTo>
                <a:lnTo>
                  <a:pt x="3352800" y="1333500"/>
                </a:lnTo>
                <a:lnTo>
                  <a:pt x="3352800" y="1905000"/>
                </a:lnTo>
                <a:lnTo>
                  <a:pt x="3352800" y="2286000"/>
                </a:lnTo>
                <a:lnTo>
                  <a:pt x="1170207" y="2286000"/>
                </a:lnTo>
                <a:lnTo>
                  <a:pt x="977911" y="2571750"/>
                </a:lnTo>
                <a:lnTo>
                  <a:pt x="785593" y="2286000"/>
                </a:lnTo>
                <a:lnTo>
                  <a:pt x="0" y="2286000"/>
                </a:lnTo>
                <a:lnTo>
                  <a:pt x="0" y="1905000"/>
                </a:lnTo>
                <a:lnTo>
                  <a:pt x="0" y="1333500"/>
                </a:lnTo>
                <a:lnTo>
                  <a:pt x="0" y="0"/>
                </a:lnTo>
                <a:close/>
              </a:path>
            </a:pathLst>
          </a:custGeom>
          <a:solidFill>
            <a:srgbClr val="7f7f7f"/>
          </a:solidFill>
          <a:ln w="0">
            <a:noFill/>
          </a:ln>
        </p:spPr>
        <p:style>
          <a:lnRef idx="0"/>
          <a:fillRef idx="0"/>
          <a:effectRef idx="0"/>
          <a:fontRef idx="minor"/>
        </p:style>
        <p:txBody>
          <a:bodyPr lIns="37800" rIns="378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5"/>
          <p:cNvSpPr/>
          <p:nvPr/>
        </p:nvSpPr>
        <p:spPr>
          <a:xfrm>
            <a:off x="12268080" y="8229600"/>
            <a:ext cx="12598560" cy="5613480"/>
          </a:xfrm>
          <a:prstGeom prst="rect">
            <a:avLst/>
          </a:prstGeom>
          <a:solidFill>
            <a:srgbClr val="1d9d7c"/>
          </a:solidFill>
          <a:ln w="25560">
            <a:solidFill>
              <a:srgbClr val="1d9d7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42" name="Rectangle 1"/>
          <p:cNvSpPr/>
          <p:nvPr/>
        </p:nvSpPr>
        <p:spPr>
          <a:xfrm>
            <a:off x="-380880" y="8305920"/>
            <a:ext cx="12598200" cy="5613120"/>
          </a:xfrm>
          <a:prstGeom prst="rect">
            <a:avLst/>
          </a:prstGeom>
          <a:solidFill>
            <a:srgbClr val="798687"/>
          </a:solidFill>
          <a:ln w="25560">
            <a:solidFill>
              <a:srgbClr val="798687"/>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43" name="Rectangle 1"/>
          <p:cNvSpPr/>
          <p:nvPr/>
        </p:nvSpPr>
        <p:spPr>
          <a:xfrm>
            <a:off x="-380880" y="8229600"/>
            <a:ext cx="12598200" cy="5613480"/>
          </a:xfrm>
          <a:prstGeom prst="rect">
            <a:avLst/>
          </a:prstGeom>
          <a:solidFill>
            <a:srgbClr val="798687"/>
          </a:solidFill>
          <a:ln w="25560">
            <a:solidFill>
              <a:srgbClr val="798687"/>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44" name="Rectangle 3"/>
          <p:cNvSpPr/>
          <p:nvPr/>
        </p:nvSpPr>
        <p:spPr>
          <a:xfrm>
            <a:off x="-152280" y="-50760"/>
            <a:ext cx="24688800" cy="8217000"/>
          </a:xfrm>
          <a:prstGeom prst="rect">
            <a:avLst/>
          </a:prstGeom>
          <a:solidFill>
            <a:srgbClr val="23cb9e"/>
          </a:solidFill>
          <a:ln w="25560">
            <a:solidFill>
              <a:srgbClr val="23cb9e"/>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45" name="Rectangle 5"/>
          <p:cNvSpPr/>
          <p:nvPr/>
        </p:nvSpPr>
        <p:spPr>
          <a:xfrm>
            <a:off x="12268080" y="8242200"/>
            <a:ext cx="12598560" cy="5613480"/>
          </a:xfrm>
          <a:prstGeom prst="rect">
            <a:avLst/>
          </a:prstGeom>
          <a:solidFill>
            <a:srgbClr val="1d9d7c"/>
          </a:solidFill>
          <a:ln w="25560">
            <a:solidFill>
              <a:srgbClr val="1d9d7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46" name="Rectangle 7"/>
          <p:cNvSpPr/>
          <p:nvPr/>
        </p:nvSpPr>
        <p:spPr>
          <a:xfrm>
            <a:off x="1689120" y="9435960"/>
            <a:ext cx="8369280" cy="2248200"/>
          </a:xfrm>
          <a:prstGeom prst="rect">
            <a:avLst/>
          </a:prstGeom>
          <a:no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efe"/>
                </a:solidFill>
                <a:latin typeface="Open Sans Light"/>
                <a:ea typeface="ＭＳ Ｐゴシック"/>
              </a:rPr>
              <a:t>We creates business to business digital </a:t>
            </a:r>
            <a:r>
              <a:rPr b="0" lang="en-US" sz="4800" spc="-1" strike="noStrike">
                <a:solidFill>
                  <a:srgbClr val="fffefe"/>
                </a:solidFill>
                <a:latin typeface="Open Sans Bold"/>
                <a:ea typeface="ＭＳ Ｐゴシック"/>
              </a:rPr>
              <a:t>management</a:t>
            </a:r>
            <a:r>
              <a:rPr b="0" lang="en-US" sz="4800" spc="-1" strike="noStrike">
                <a:solidFill>
                  <a:srgbClr val="fffefe"/>
                </a:solidFill>
                <a:latin typeface="Open Sans Light"/>
                <a:ea typeface="ＭＳ Ｐゴシック"/>
              </a:rPr>
              <a:t> solution </a:t>
            </a:r>
            <a:endParaRPr b="0" lang="en-US" sz="4800" spc="-1" strike="noStrike">
              <a:solidFill>
                <a:srgbClr val="000000"/>
              </a:solidFill>
              <a:latin typeface="Gill Sans"/>
            </a:endParaRPr>
          </a:p>
        </p:txBody>
      </p:sp>
      <p:sp>
        <p:nvSpPr>
          <p:cNvPr id="547" name="Rectangle 8"/>
          <p:cNvSpPr/>
          <p:nvPr/>
        </p:nvSpPr>
        <p:spPr>
          <a:xfrm>
            <a:off x="14554080" y="9416880"/>
            <a:ext cx="7581960" cy="2248200"/>
          </a:xfrm>
          <a:prstGeom prst="rect">
            <a:avLst/>
          </a:prstGeom>
          <a:no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efe"/>
                </a:solidFill>
                <a:latin typeface="Open Sans Light"/>
                <a:ea typeface="ＭＳ Ｐゴシック"/>
              </a:rPr>
              <a:t>An </a:t>
            </a:r>
            <a:r>
              <a:rPr b="0" lang="en-US" sz="4800" spc="-1" strike="noStrike">
                <a:solidFill>
                  <a:srgbClr val="fffefe"/>
                </a:solidFill>
                <a:latin typeface="Open Sans Bold"/>
                <a:ea typeface="ＭＳ Ｐゴシック"/>
              </a:rPr>
              <a:t>award</a:t>
            </a:r>
            <a:r>
              <a:rPr b="0" lang="en-US" sz="4800" spc="-1" strike="noStrike">
                <a:solidFill>
                  <a:srgbClr val="fffefe"/>
                </a:solidFill>
                <a:latin typeface="Open Sans Light"/>
                <a:ea typeface="ＭＳ Ｐゴシック"/>
              </a:rPr>
              <a:t> winning server management from 2011 till today.</a:t>
            </a:r>
            <a:endParaRPr b="0" lang="en-US" sz="4800" spc="-1" strike="noStrike">
              <a:solidFill>
                <a:srgbClr val="000000"/>
              </a:solidFill>
              <a:latin typeface="Gill Sans"/>
            </a:endParaRPr>
          </a:p>
        </p:txBody>
      </p:sp>
      <p:sp>
        <p:nvSpPr>
          <p:cNvPr id="548" name="Rectangle 9"/>
          <p:cNvSpPr/>
          <p:nvPr/>
        </p:nvSpPr>
        <p:spPr>
          <a:xfrm>
            <a:off x="5295960" y="3124080"/>
            <a:ext cx="13817520" cy="2984760"/>
          </a:xfrm>
          <a:prstGeom prst="rect">
            <a:avLst/>
          </a:prstGeom>
          <a:no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efe"/>
                </a:solidFill>
                <a:latin typeface="Open Sans Light"/>
                <a:ea typeface="ＭＳ Ｐゴシック"/>
              </a:rPr>
              <a:t>From </a:t>
            </a:r>
            <a:r>
              <a:rPr b="0" lang="en-US" sz="6400" spc="-1" strike="noStrike">
                <a:solidFill>
                  <a:srgbClr val="fffefe"/>
                </a:solidFill>
                <a:latin typeface="Open Sans Italic"/>
                <a:ea typeface="ＭＳ Ｐゴシック"/>
              </a:rPr>
              <a:t>web</a:t>
            </a:r>
            <a:r>
              <a:rPr b="0" lang="en-US" sz="6400" spc="-1" strike="noStrike">
                <a:solidFill>
                  <a:srgbClr val="fffefe"/>
                </a:solidFill>
                <a:latin typeface="Open Sans Light"/>
                <a:ea typeface="ＭＳ Ｐゴシック"/>
              </a:rPr>
              <a:t> to prototype.</a:t>
            </a:r>
            <a:endParaRPr b="0" lang="en-US" sz="64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efe"/>
                </a:solidFill>
                <a:latin typeface="Open Sans Light"/>
                <a:ea typeface="ＭＳ Ｐゴシック"/>
              </a:rPr>
              <a:t>We create </a:t>
            </a:r>
            <a:r>
              <a:rPr b="0" lang="en-US" sz="6400" spc="-1" strike="noStrike">
                <a:solidFill>
                  <a:srgbClr val="fffefe"/>
                </a:solidFill>
                <a:latin typeface="Open Sans Bold"/>
                <a:ea typeface="ＭＳ Ｐゴシック"/>
              </a:rPr>
              <a:t>stunning</a:t>
            </a:r>
            <a:r>
              <a:rPr b="0" lang="en-US" sz="6400" spc="-1" strike="noStrike">
                <a:solidFill>
                  <a:srgbClr val="fffefe"/>
                </a:solidFill>
                <a:latin typeface="Open Sans Light"/>
                <a:ea typeface="ＭＳ Ｐゴシック"/>
              </a:rPr>
              <a:t> design. </a:t>
            </a:r>
            <a:endParaRPr b="0" lang="en-US" sz="64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efe"/>
                </a:solidFill>
                <a:latin typeface="Open Sans Light"/>
                <a:ea typeface="ＭＳ Ｐゴシック"/>
              </a:rPr>
              <a:t>We deliver </a:t>
            </a:r>
            <a:r>
              <a:rPr b="0" lang="en-US" sz="6400" spc="-1" strike="noStrike">
                <a:solidFill>
                  <a:srgbClr val="fffefe"/>
                </a:solidFill>
                <a:latin typeface="Open Sans Italic"/>
                <a:ea typeface="ＭＳ Ｐゴシック"/>
              </a:rPr>
              <a:t>dreams</a:t>
            </a:r>
            <a:r>
              <a:rPr b="0" lang="en-US" sz="6400" spc="-1" strike="noStrike">
                <a:solidFill>
                  <a:srgbClr val="fffefe"/>
                </a:solidFill>
                <a:latin typeface="Open Sans Light"/>
                <a:ea typeface="ＭＳ Ｐゴシック"/>
              </a:rPr>
              <a:t>.</a:t>
            </a:r>
            <a:endParaRPr b="0" lang="en-US" sz="6400" spc="-1" strike="noStrike">
              <a:solidFill>
                <a:srgbClr val="000000"/>
              </a:solidFill>
              <a:latin typeface="Gill Sans"/>
            </a:endParaRPr>
          </a:p>
        </p:txBody>
      </p:sp>
      <p:sp>
        <p:nvSpPr>
          <p:cNvPr id="549" name="Rectangle 10"/>
          <p:cNvSpPr/>
          <p:nvPr/>
        </p:nvSpPr>
        <p:spPr>
          <a:xfrm>
            <a:off x="6388200" y="6261120"/>
            <a:ext cx="11607840" cy="952560"/>
          </a:xfrm>
          <a:prstGeom prst="rect">
            <a:avLst/>
          </a:prstGeom>
          <a:no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efe"/>
                </a:solidFill>
                <a:latin typeface="Open Sans Light"/>
                <a:ea typeface="ＭＳ Ｐゴシック"/>
              </a:rPr>
              <a:t>Nullam id dolor id nibh ultricies vehicula ut id elit. Vestibulum id ligula porta felis euismod semper</a:t>
            </a:r>
            <a:endParaRPr b="0" lang="en-US" sz="2700" spc="-1" strike="noStrike">
              <a:solidFill>
                <a:srgbClr val="000000"/>
              </a:solidFill>
              <a:latin typeface="Gill Sans"/>
            </a:endParaRPr>
          </a:p>
        </p:txBody>
      </p:sp>
      <p:sp>
        <p:nvSpPr>
          <p:cNvPr id="550" name="Rectangle 11"/>
          <p:cNvSpPr/>
          <p:nvPr/>
        </p:nvSpPr>
        <p:spPr>
          <a:xfrm>
            <a:off x="1403280" y="12693240"/>
            <a:ext cx="353052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efe"/>
                </a:solidFill>
                <a:latin typeface="Open Sans Bold"/>
                <a:ea typeface="ＭＳ Ｐゴシック"/>
              </a:rPr>
              <a:t>Presentation</a:t>
            </a:r>
            <a:r>
              <a:rPr b="0" lang="en-US" sz="2000" spc="-1" strike="noStrike">
                <a:solidFill>
                  <a:srgbClr val="fffefe"/>
                </a:solidFill>
                <a:latin typeface="Open Sans Light"/>
                <a:ea typeface="ＭＳ Ｐゴシック"/>
              </a:rPr>
              <a:t> name goes here</a:t>
            </a:r>
            <a:endParaRPr b="0" lang="en-US" sz="2000" spc="-1" strike="noStrike">
              <a:solidFill>
                <a:srgbClr val="000000"/>
              </a:solidFill>
              <a:latin typeface="Gill Sans"/>
            </a:endParaRPr>
          </a:p>
        </p:txBody>
      </p:sp>
      <p:sp>
        <p:nvSpPr>
          <p:cNvPr id="551" name="Rectangle 12"/>
          <p:cNvSpPr/>
          <p:nvPr/>
        </p:nvSpPr>
        <p:spPr>
          <a:xfrm>
            <a:off x="1599480" y="819000"/>
            <a:ext cx="8029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efe"/>
                </a:solidFill>
                <a:latin typeface="Open Sans Bold"/>
                <a:ea typeface="ＭＳ Ｐゴシック"/>
              </a:rPr>
              <a:t>3 Times Award Winning Company</a:t>
            </a:r>
            <a:endParaRPr b="0" lang="en-US" sz="4000" spc="-1" strike="noStrike">
              <a:solidFill>
                <a:srgbClr val="000000"/>
              </a:solidFill>
              <a:latin typeface="Gill Sans"/>
            </a:endParaRPr>
          </a:p>
        </p:txBody>
      </p:sp>
      <p:grpSp>
        <p:nvGrpSpPr>
          <p:cNvPr id="552" name="Group 15"/>
          <p:cNvGrpSpPr/>
          <p:nvPr/>
        </p:nvGrpSpPr>
        <p:grpSpPr>
          <a:xfrm>
            <a:off x="609480" y="952560"/>
            <a:ext cx="406440" cy="406440"/>
            <a:chOff x="609480" y="952560"/>
            <a:chExt cx="406440" cy="406440"/>
          </a:xfrm>
        </p:grpSpPr>
        <p:sp>
          <p:nvSpPr>
            <p:cNvPr id="553" name="AutoShape 13"/>
            <p:cNvSpPr/>
            <p:nvPr/>
          </p:nvSpPr>
          <p:spPr>
            <a:xfrm>
              <a:off x="609480" y="952560"/>
              <a:ext cx="406440" cy="406440"/>
            </a:xfrm>
            <a:prstGeom prst="roundRect">
              <a:avLst>
                <a:gd name="adj" fmla="val 18750"/>
              </a:avLst>
            </a:prstGeom>
            <a:noFill/>
            <a:ln w="25560">
              <a:solidFill>
                <a:srgbClr val="fffefe">
                  <a:alpha val="7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54" name="AutoShape 14"/>
            <p:cNvSpPr/>
            <p:nvPr/>
          </p:nvSpPr>
          <p:spPr>
            <a:xfrm rot="5400000">
              <a:off x="725760" y="1091160"/>
              <a:ext cx="180720" cy="125640"/>
            </a:xfrm>
            <a:prstGeom prst="triangle">
              <a:avLst>
                <a:gd name="adj" fmla="val 50000"/>
              </a:avLst>
            </a:prstGeom>
            <a:solidFill>
              <a:srgbClr val="fffefe">
                <a:alpha val="7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555" name="Rectangle 16"/>
          <p:cNvSpPr/>
          <p:nvPr/>
        </p:nvSpPr>
        <p:spPr>
          <a:xfrm>
            <a:off x="1493640" y="1492200"/>
            <a:ext cx="30182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efe"/>
                </a:solidFill>
                <a:latin typeface="Open Sans Light"/>
                <a:ea typeface="ＭＳ Ｐゴシック"/>
              </a:rPr>
              <a:t>2012, 2013, 2014</a:t>
            </a:r>
            <a:endParaRPr b="0" lang="en-US" sz="3000" spc="-1" strike="noStrike">
              <a:solidFill>
                <a:srgbClr val="000000"/>
              </a:solidFill>
              <a:latin typeface="Gill Sans"/>
            </a:endParaRPr>
          </a:p>
        </p:txBody>
      </p:sp>
      <p:sp>
        <p:nvSpPr>
          <p:cNvPr id="556" name="Rectangle 17"/>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15</a:t>
            </a:r>
            <a:endParaRPr b="0" lang="en-US" sz="2400" spc="-1" strike="noStrike">
              <a:solidFill>
                <a:srgbClr val="000000"/>
              </a:solidFill>
              <a:latin typeface="Gill Sans"/>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Group 3"/>
          <p:cNvGrpSpPr/>
          <p:nvPr/>
        </p:nvGrpSpPr>
        <p:grpSpPr>
          <a:xfrm>
            <a:off x="1385640" y="819000"/>
            <a:ext cx="5618160" cy="1130040"/>
            <a:chOff x="1385640" y="819000"/>
            <a:chExt cx="5618160" cy="1130040"/>
          </a:xfrm>
        </p:grpSpPr>
        <p:sp>
          <p:nvSpPr>
            <p:cNvPr id="558" name="Rectangle 1"/>
            <p:cNvSpPr/>
            <p:nvPr/>
          </p:nvSpPr>
          <p:spPr>
            <a:xfrm>
              <a:off x="1596240" y="819000"/>
              <a:ext cx="299232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Our Services</a:t>
              </a:r>
              <a:endParaRPr b="0" lang="en-US" sz="4000" spc="-1" strike="noStrike">
                <a:solidFill>
                  <a:srgbClr val="000000"/>
                </a:solidFill>
                <a:latin typeface="Gill Sans"/>
              </a:endParaRPr>
            </a:p>
          </p:txBody>
        </p:sp>
        <p:sp>
          <p:nvSpPr>
            <p:cNvPr id="559"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560" name="Rectangle 4"/>
          <p:cNvSpPr/>
          <p:nvPr/>
        </p:nvSpPr>
        <p:spPr>
          <a:xfrm>
            <a:off x="1484280" y="3314880"/>
            <a:ext cx="8431200" cy="3562200"/>
          </a:xfrm>
          <a:prstGeom prst="rect">
            <a:avLst/>
          </a:prstGeom>
          <a:solidFill>
            <a:srgbClr val="1d9d7c"/>
          </a:solidFill>
          <a:ln w="25560">
            <a:solidFill>
              <a:srgbClr val="e6e5e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61" name="Rectangle 5"/>
          <p:cNvSpPr/>
          <p:nvPr/>
        </p:nvSpPr>
        <p:spPr>
          <a:xfrm>
            <a:off x="10067760" y="3313080"/>
            <a:ext cx="4237200" cy="8556480"/>
          </a:xfrm>
          <a:prstGeom prst="rect">
            <a:avLst/>
          </a:prstGeom>
          <a:solidFill>
            <a:srgbClr val="919fa1"/>
          </a:solidFill>
          <a:ln w="25560">
            <a:solidFill>
              <a:srgbClr val="e6e5e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62" name="Rectangle 6"/>
          <p:cNvSpPr/>
          <p:nvPr/>
        </p:nvSpPr>
        <p:spPr>
          <a:xfrm>
            <a:off x="1482840" y="7086600"/>
            <a:ext cx="8435880" cy="4786200"/>
          </a:xfrm>
          <a:prstGeom prst="rect">
            <a:avLst/>
          </a:prstGeom>
          <a:solidFill>
            <a:srgbClr val="23cb9e"/>
          </a:solidFill>
          <a:ln w="25560">
            <a:solidFill>
              <a:srgbClr val="e6e5e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63" name="Rectangle 7"/>
          <p:cNvSpPr/>
          <p:nvPr/>
        </p:nvSpPr>
        <p:spPr>
          <a:xfrm>
            <a:off x="14476320" y="8304120"/>
            <a:ext cx="8431200" cy="3562560"/>
          </a:xfrm>
          <a:prstGeom prst="rect">
            <a:avLst/>
          </a:prstGeom>
          <a:solidFill>
            <a:srgbClr val="28b355"/>
          </a:solidFill>
          <a:ln w="25560">
            <a:solidFill>
              <a:srgbClr val="e6e5e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64" name="Rectangle 8"/>
          <p:cNvSpPr/>
          <p:nvPr/>
        </p:nvSpPr>
        <p:spPr>
          <a:xfrm>
            <a:off x="14476320" y="3308400"/>
            <a:ext cx="8433000" cy="4813200"/>
          </a:xfrm>
          <a:prstGeom prst="rect">
            <a:avLst/>
          </a:prstGeom>
          <a:solidFill>
            <a:srgbClr val="34cb65"/>
          </a:solidFill>
          <a:ln w="25560">
            <a:solidFill>
              <a:srgbClr val="e6e5e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nvGrpSpPr>
          <p:cNvPr id="565" name="Group 12"/>
          <p:cNvGrpSpPr/>
          <p:nvPr/>
        </p:nvGrpSpPr>
        <p:grpSpPr>
          <a:xfrm>
            <a:off x="2451240" y="4089240"/>
            <a:ext cx="1143000" cy="1650960"/>
            <a:chOff x="2451240" y="4089240"/>
            <a:chExt cx="1143000" cy="1650960"/>
          </a:xfrm>
        </p:grpSpPr>
        <p:sp>
          <p:nvSpPr>
            <p:cNvPr id="566" name="AutoShape 9"/>
            <p:cNvSpPr/>
            <p:nvPr/>
          </p:nvSpPr>
          <p:spPr>
            <a:xfrm>
              <a:off x="2451240" y="4089240"/>
              <a:ext cx="1143000" cy="1650960"/>
            </a:xfrm>
            <a:custGeom>
              <a:avLst/>
              <a:gdLst/>
              <a:ahLst/>
              <a:rect l="l" t="t" r="r" b="b"/>
              <a:pathLst>
                <a:path w="21600" h="21600">
                  <a:moveTo>
                    <a:pt x="19636" y="3375"/>
                  </a:moveTo>
                  <a:lnTo>
                    <a:pt x="1964" y="3376"/>
                  </a:lnTo>
                  <a:lnTo>
                    <a:pt x="1964" y="2026"/>
                  </a:lnTo>
                  <a:cubicBezTo>
                    <a:pt x="1964" y="1653"/>
                    <a:pt x="2403" y="1351"/>
                    <a:pt x="2945" y="1351"/>
                  </a:cubicBezTo>
                  <a:lnTo>
                    <a:pt x="18655" y="1350"/>
                  </a:lnTo>
                  <a:cubicBezTo>
                    <a:pt x="19195" y="1350"/>
                    <a:pt x="19636" y="1653"/>
                    <a:pt x="19636" y="2025"/>
                  </a:cubicBezTo>
                  <a:cubicBezTo>
                    <a:pt x="19636" y="2025"/>
                    <a:pt x="19636" y="3375"/>
                    <a:pt x="19636" y="3375"/>
                  </a:cubicBezTo>
                  <a:close/>
                  <a:moveTo>
                    <a:pt x="19636" y="17547"/>
                  </a:moveTo>
                  <a:lnTo>
                    <a:pt x="1964" y="17547"/>
                  </a:lnTo>
                  <a:lnTo>
                    <a:pt x="1964" y="4051"/>
                  </a:lnTo>
                  <a:lnTo>
                    <a:pt x="19636" y="4050"/>
                  </a:lnTo>
                  <a:cubicBezTo>
                    <a:pt x="19636" y="4050"/>
                    <a:pt x="19636" y="17547"/>
                    <a:pt x="19636" y="17547"/>
                  </a:cubicBezTo>
                  <a:close/>
                  <a:moveTo>
                    <a:pt x="19636" y="19574"/>
                  </a:moveTo>
                  <a:cubicBezTo>
                    <a:pt x="19636" y="19947"/>
                    <a:pt x="19195" y="20249"/>
                    <a:pt x="18655" y="20249"/>
                  </a:cubicBezTo>
                  <a:lnTo>
                    <a:pt x="2945" y="20250"/>
                  </a:lnTo>
                  <a:cubicBezTo>
                    <a:pt x="2403" y="20250"/>
                    <a:pt x="1964" y="19947"/>
                    <a:pt x="1964" y="19575"/>
                  </a:cubicBezTo>
                  <a:lnTo>
                    <a:pt x="1964" y="18222"/>
                  </a:lnTo>
                  <a:lnTo>
                    <a:pt x="19636" y="18222"/>
                  </a:lnTo>
                  <a:cubicBezTo>
                    <a:pt x="19636" y="18222"/>
                    <a:pt x="19636" y="19574"/>
                    <a:pt x="19636" y="19574"/>
                  </a:cubicBezTo>
                  <a:close/>
                  <a:moveTo>
                    <a:pt x="18655" y="0"/>
                  </a:moveTo>
                  <a:lnTo>
                    <a:pt x="2945" y="1"/>
                  </a:lnTo>
                  <a:cubicBezTo>
                    <a:pt x="1317" y="1"/>
                    <a:pt x="0" y="907"/>
                    <a:pt x="0" y="2026"/>
                  </a:cubicBezTo>
                  <a:lnTo>
                    <a:pt x="0" y="19575"/>
                  </a:lnTo>
                  <a:cubicBezTo>
                    <a:pt x="0" y="20694"/>
                    <a:pt x="1317" y="21600"/>
                    <a:pt x="2945" y="21600"/>
                  </a:cubicBezTo>
                  <a:lnTo>
                    <a:pt x="18655" y="21599"/>
                  </a:lnTo>
                  <a:cubicBezTo>
                    <a:pt x="20281" y="21599"/>
                    <a:pt x="21600" y="20693"/>
                    <a:pt x="21600" y="19574"/>
                  </a:cubicBezTo>
                  <a:lnTo>
                    <a:pt x="21600" y="2025"/>
                  </a:lnTo>
                  <a:cubicBezTo>
                    <a:pt x="21600" y="906"/>
                    <a:pt x="20281" y="0"/>
                    <a:pt x="18655" y="0"/>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67" name="AutoShape 10"/>
            <p:cNvSpPr/>
            <p:nvPr/>
          </p:nvSpPr>
          <p:spPr>
            <a:xfrm>
              <a:off x="2917800" y="4243320"/>
              <a:ext cx="208080" cy="50760"/>
            </a:xfrm>
            <a:custGeom>
              <a:avLst/>
              <a:gdLst/>
              <a:ahLst/>
              <a:rect l="l" t="t" r="r" b="b"/>
              <a:pathLst>
                <a:path w="21600" h="21600">
                  <a:moveTo>
                    <a:pt x="21600" y="10800"/>
                  </a:moveTo>
                  <a:cubicBezTo>
                    <a:pt x="21600" y="16759"/>
                    <a:pt x="20387" y="21600"/>
                    <a:pt x="18900" y="21600"/>
                  </a:cubicBezTo>
                  <a:lnTo>
                    <a:pt x="2700" y="21600"/>
                  </a:lnTo>
                  <a:cubicBezTo>
                    <a:pt x="1202" y="21600"/>
                    <a:pt x="0" y="16759"/>
                    <a:pt x="0" y="10800"/>
                  </a:cubicBezTo>
                  <a:cubicBezTo>
                    <a:pt x="0" y="4841"/>
                    <a:pt x="1202" y="0"/>
                    <a:pt x="2700" y="0"/>
                  </a:cubicBezTo>
                  <a:lnTo>
                    <a:pt x="18900" y="0"/>
                  </a:lnTo>
                  <a:cubicBezTo>
                    <a:pt x="20387" y="0"/>
                    <a:pt x="21600" y="4841"/>
                    <a:pt x="21600" y="10800"/>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68" name="AutoShape 11"/>
            <p:cNvSpPr/>
            <p:nvPr/>
          </p:nvSpPr>
          <p:spPr>
            <a:xfrm>
              <a:off x="2970360" y="5532120"/>
              <a:ext cx="103320" cy="52560"/>
            </a:xfrm>
            <a:custGeom>
              <a:avLst/>
              <a:gdLst/>
              <a:ahLst/>
              <a:rect l="l" t="t" r="r" b="b"/>
              <a:pathLst>
                <a:path w="21600" h="21600">
                  <a:moveTo>
                    <a:pt x="21600" y="10800"/>
                  </a:moveTo>
                  <a:cubicBezTo>
                    <a:pt x="21600" y="16770"/>
                    <a:pt x="19174" y="21600"/>
                    <a:pt x="16200" y="21600"/>
                  </a:cubicBezTo>
                  <a:lnTo>
                    <a:pt x="5400" y="21600"/>
                  </a:lnTo>
                  <a:cubicBezTo>
                    <a:pt x="2405" y="21600"/>
                    <a:pt x="0" y="16770"/>
                    <a:pt x="0" y="10800"/>
                  </a:cubicBezTo>
                  <a:cubicBezTo>
                    <a:pt x="0" y="4830"/>
                    <a:pt x="2405" y="0"/>
                    <a:pt x="5400" y="0"/>
                  </a:cubicBezTo>
                  <a:lnTo>
                    <a:pt x="16200" y="0"/>
                  </a:lnTo>
                  <a:cubicBezTo>
                    <a:pt x="19174" y="0"/>
                    <a:pt x="21600" y="4830"/>
                    <a:pt x="21600" y="10800"/>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569" name="Rectangle 13"/>
          <p:cNvSpPr/>
          <p:nvPr/>
        </p:nvSpPr>
        <p:spPr>
          <a:xfrm>
            <a:off x="4560840" y="3860640"/>
            <a:ext cx="4762440" cy="15876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efe"/>
                </a:solidFill>
                <a:latin typeface="Open Sans Light"/>
                <a:ea typeface="ＭＳ Ｐゴシック"/>
              </a:rPr>
              <a:t>MOBILE SERVICES</a:t>
            </a:r>
            <a:endParaRPr b="0" lang="en-US" sz="4800" spc="-1" strike="noStrike">
              <a:solidFill>
                <a:srgbClr val="000000"/>
              </a:solidFill>
              <a:latin typeface="Gill Sans"/>
            </a:endParaRPr>
          </a:p>
        </p:txBody>
      </p:sp>
      <p:sp>
        <p:nvSpPr>
          <p:cNvPr id="570" name="Rectangle 14"/>
          <p:cNvSpPr/>
          <p:nvPr/>
        </p:nvSpPr>
        <p:spPr>
          <a:xfrm>
            <a:off x="4559400" y="5499000"/>
            <a:ext cx="4762440" cy="812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efe"/>
                </a:solidFill>
                <a:latin typeface="Open Sans Light"/>
                <a:ea typeface="ＭＳ Ｐゴシック"/>
              </a:rPr>
              <a:t>we've been lorem ipsum with many ipsum constecture</a:t>
            </a:r>
            <a:endParaRPr b="0" lang="en-US" sz="2100" spc="-1" strike="noStrike">
              <a:solidFill>
                <a:srgbClr val="000000"/>
              </a:solidFill>
              <a:latin typeface="Gill Sans"/>
            </a:endParaRPr>
          </a:p>
        </p:txBody>
      </p:sp>
      <p:sp>
        <p:nvSpPr>
          <p:cNvPr id="571" name="Rectangle 15"/>
          <p:cNvSpPr/>
          <p:nvPr/>
        </p:nvSpPr>
        <p:spPr>
          <a:xfrm>
            <a:off x="4559400" y="7658280"/>
            <a:ext cx="4762440" cy="158724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efe"/>
                </a:solidFill>
                <a:latin typeface="Open Sans Light"/>
                <a:ea typeface="ＭＳ Ｐゴシック"/>
              </a:rPr>
              <a:t>MOBILE SERVICES</a:t>
            </a:r>
            <a:endParaRPr b="0" lang="en-US" sz="4800" spc="-1" strike="noStrike">
              <a:solidFill>
                <a:srgbClr val="000000"/>
              </a:solidFill>
              <a:latin typeface="Gill Sans"/>
            </a:endParaRPr>
          </a:p>
        </p:txBody>
      </p:sp>
      <p:sp>
        <p:nvSpPr>
          <p:cNvPr id="572" name="Rectangle 16"/>
          <p:cNvSpPr/>
          <p:nvPr/>
        </p:nvSpPr>
        <p:spPr>
          <a:xfrm>
            <a:off x="4559400" y="9296280"/>
            <a:ext cx="4762440" cy="116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efe"/>
                </a:solidFill>
                <a:latin typeface="Open Sans Light"/>
                <a:ea typeface="ＭＳ Ｐゴシック"/>
              </a:rPr>
              <a:t>we've been lorem ipsum with many ipsum constecture. Maecenas faucibus mollis interdum.</a:t>
            </a:r>
            <a:endParaRPr b="0" lang="en-US" sz="2100" spc="-1" strike="noStrike">
              <a:solidFill>
                <a:srgbClr val="000000"/>
              </a:solidFill>
              <a:latin typeface="Gill Sans"/>
            </a:endParaRPr>
          </a:p>
        </p:txBody>
      </p:sp>
      <p:grpSp>
        <p:nvGrpSpPr>
          <p:cNvPr id="573" name="Group 19"/>
          <p:cNvGrpSpPr/>
          <p:nvPr/>
        </p:nvGrpSpPr>
        <p:grpSpPr>
          <a:xfrm>
            <a:off x="2311560" y="7923240"/>
            <a:ext cx="1409400" cy="1320840"/>
            <a:chOff x="2311560" y="7923240"/>
            <a:chExt cx="1409400" cy="1320840"/>
          </a:xfrm>
        </p:grpSpPr>
        <p:sp>
          <p:nvSpPr>
            <p:cNvPr id="574" name="AutoShape 17"/>
            <p:cNvSpPr/>
            <p:nvPr/>
          </p:nvSpPr>
          <p:spPr>
            <a:xfrm>
              <a:off x="2487240" y="8097840"/>
              <a:ext cx="1056960" cy="704880"/>
            </a:xfrm>
            <a:custGeom>
              <a:avLst/>
              <a:gdLst/>
              <a:ahLst/>
              <a:rect l="l" t="t" r="r" b="b"/>
              <a:pathLst>
                <a:path w="21600" h="21600">
                  <a:moveTo>
                    <a:pt x="20700" y="20255"/>
                  </a:moveTo>
                  <a:lnTo>
                    <a:pt x="900" y="20255"/>
                  </a:lnTo>
                  <a:lnTo>
                    <a:pt x="900" y="1350"/>
                  </a:lnTo>
                  <a:lnTo>
                    <a:pt x="20700" y="1350"/>
                  </a:lnTo>
                  <a:cubicBezTo>
                    <a:pt x="20700" y="1350"/>
                    <a:pt x="20700" y="20255"/>
                    <a:pt x="20700" y="20255"/>
                  </a:cubicBezTo>
                  <a:close/>
                  <a:moveTo>
                    <a:pt x="20700" y="0"/>
                  </a:moveTo>
                  <a:lnTo>
                    <a:pt x="900" y="5"/>
                  </a:lnTo>
                  <a:cubicBezTo>
                    <a:pt x="403" y="5"/>
                    <a:pt x="0" y="603"/>
                    <a:pt x="0" y="1350"/>
                  </a:cubicBezTo>
                  <a:lnTo>
                    <a:pt x="0" y="20250"/>
                  </a:lnTo>
                  <a:cubicBezTo>
                    <a:pt x="0" y="20996"/>
                    <a:pt x="403" y="21600"/>
                    <a:pt x="900" y="21600"/>
                  </a:cubicBezTo>
                  <a:lnTo>
                    <a:pt x="20700" y="21600"/>
                  </a:lnTo>
                  <a:cubicBezTo>
                    <a:pt x="21197" y="21600"/>
                    <a:pt x="21600" y="20996"/>
                    <a:pt x="21600" y="20250"/>
                  </a:cubicBezTo>
                  <a:lnTo>
                    <a:pt x="21600" y="1350"/>
                  </a:lnTo>
                  <a:cubicBezTo>
                    <a:pt x="21600" y="603"/>
                    <a:pt x="21197" y="0"/>
                    <a:pt x="20700" y="0"/>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75" name="AutoShape 18"/>
            <p:cNvSpPr/>
            <p:nvPr/>
          </p:nvSpPr>
          <p:spPr>
            <a:xfrm>
              <a:off x="2311560" y="7923240"/>
              <a:ext cx="1409400" cy="1320840"/>
            </a:xfrm>
            <a:custGeom>
              <a:avLst/>
              <a:gdLst/>
              <a:ahLst/>
              <a:rect l="l" t="t" r="r" b="b"/>
              <a:pathLst>
                <a:path w="21600" h="21600">
                  <a:moveTo>
                    <a:pt x="20250" y="16562"/>
                  </a:moveTo>
                  <a:cubicBezTo>
                    <a:pt x="20250" y="16959"/>
                    <a:pt x="19947" y="17282"/>
                    <a:pt x="19575" y="17282"/>
                  </a:cubicBezTo>
                  <a:lnTo>
                    <a:pt x="13500" y="17282"/>
                  </a:lnTo>
                  <a:lnTo>
                    <a:pt x="8100" y="17282"/>
                  </a:lnTo>
                  <a:lnTo>
                    <a:pt x="2025" y="17282"/>
                  </a:lnTo>
                  <a:cubicBezTo>
                    <a:pt x="1652" y="17282"/>
                    <a:pt x="1350" y="16959"/>
                    <a:pt x="1350" y="16562"/>
                  </a:cubicBezTo>
                  <a:lnTo>
                    <a:pt x="1350" y="2160"/>
                  </a:lnTo>
                  <a:cubicBezTo>
                    <a:pt x="1350" y="1763"/>
                    <a:pt x="1652" y="1440"/>
                    <a:pt x="2025" y="1440"/>
                  </a:cubicBezTo>
                  <a:lnTo>
                    <a:pt x="19575" y="1440"/>
                  </a:lnTo>
                  <a:cubicBezTo>
                    <a:pt x="19947" y="1440"/>
                    <a:pt x="20250" y="1763"/>
                    <a:pt x="20250" y="2160"/>
                  </a:cubicBezTo>
                  <a:cubicBezTo>
                    <a:pt x="20250" y="2160"/>
                    <a:pt x="20250" y="16562"/>
                    <a:pt x="20250" y="16562"/>
                  </a:cubicBezTo>
                  <a:close/>
                  <a:moveTo>
                    <a:pt x="19575" y="0"/>
                  </a:moveTo>
                  <a:lnTo>
                    <a:pt x="2025" y="0"/>
                  </a:lnTo>
                  <a:cubicBezTo>
                    <a:pt x="906" y="0"/>
                    <a:pt x="0" y="967"/>
                    <a:pt x="0" y="2160"/>
                  </a:cubicBezTo>
                  <a:lnTo>
                    <a:pt x="0" y="16562"/>
                  </a:lnTo>
                  <a:cubicBezTo>
                    <a:pt x="0" y="17753"/>
                    <a:pt x="903" y="18718"/>
                    <a:pt x="2018" y="18722"/>
                  </a:cubicBezTo>
                  <a:lnTo>
                    <a:pt x="8775" y="18722"/>
                  </a:lnTo>
                  <a:lnTo>
                    <a:pt x="8775" y="19597"/>
                  </a:lnTo>
                  <a:lnTo>
                    <a:pt x="4562" y="20181"/>
                  </a:lnTo>
                  <a:cubicBezTo>
                    <a:pt x="4261" y="20262"/>
                    <a:pt x="4050" y="20549"/>
                    <a:pt x="4050" y="20880"/>
                  </a:cubicBezTo>
                  <a:cubicBezTo>
                    <a:pt x="4050" y="21278"/>
                    <a:pt x="4352" y="21600"/>
                    <a:pt x="4725" y="21600"/>
                  </a:cubicBezTo>
                  <a:lnTo>
                    <a:pt x="16875" y="21600"/>
                  </a:lnTo>
                  <a:cubicBezTo>
                    <a:pt x="17248" y="21600"/>
                    <a:pt x="17550" y="21278"/>
                    <a:pt x="17550" y="20880"/>
                  </a:cubicBezTo>
                  <a:cubicBezTo>
                    <a:pt x="17550" y="20549"/>
                    <a:pt x="17339" y="20262"/>
                    <a:pt x="17038" y="20181"/>
                  </a:cubicBezTo>
                  <a:lnTo>
                    <a:pt x="12825" y="19597"/>
                  </a:lnTo>
                  <a:lnTo>
                    <a:pt x="12825" y="18722"/>
                  </a:lnTo>
                  <a:lnTo>
                    <a:pt x="19582" y="18722"/>
                  </a:lnTo>
                  <a:cubicBezTo>
                    <a:pt x="20697" y="18718"/>
                    <a:pt x="21600" y="17753"/>
                    <a:pt x="21600" y="16562"/>
                  </a:cubicBezTo>
                  <a:lnTo>
                    <a:pt x="21600" y="2160"/>
                  </a:lnTo>
                  <a:cubicBezTo>
                    <a:pt x="21600" y="967"/>
                    <a:pt x="20693" y="0"/>
                    <a:pt x="19575" y="0"/>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576" name="AutoShape 20"/>
          <p:cNvSpPr/>
          <p:nvPr/>
        </p:nvSpPr>
        <p:spPr>
          <a:xfrm>
            <a:off x="11442600" y="4089240"/>
            <a:ext cx="1143000" cy="1143000"/>
          </a:xfrm>
          <a:custGeom>
            <a:avLst/>
            <a:gdLst/>
            <a:ahLst/>
            <a:rect l="l" t="t" r="r" b="b"/>
            <a:pathLst>
              <a:path w="21543" h="21600">
                <a:moveTo>
                  <a:pt x="16976" y="19986"/>
                </a:moveTo>
                <a:lnTo>
                  <a:pt x="11226" y="17680"/>
                </a:lnTo>
                <a:cubicBezTo>
                  <a:pt x="11089" y="17626"/>
                  <a:pt x="10947" y="17608"/>
                  <a:pt x="10806" y="17600"/>
                </a:cubicBezTo>
                <a:lnTo>
                  <a:pt x="19660" y="3838"/>
                </a:lnTo>
                <a:cubicBezTo>
                  <a:pt x="19660" y="3838"/>
                  <a:pt x="16976" y="19986"/>
                  <a:pt x="16976" y="19986"/>
                </a:cubicBezTo>
                <a:close/>
                <a:moveTo>
                  <a:pt x="6859" y="16245"/>
                </a:moveTo>
                <a:cubicBezTo>
                  <a:pt x="6858" y="16242"/>
                  <a:pt x="6856" y="16241"/>
                  <a:pt x="6854" y="16238"/>
                </a:cubicBezTo>
                <a:lnTo>
                  <a:pt x="19607" y="2552"/>
                </a:lnTo>
                <a:lnTo>
                  <a:pt x="8735" y="19537"/>
                </a:lnTo>
                <a:cubicBezTo>
                  <a:pt x="8735" y="19537"/>
                  <a:pt x="6859" y="16245"/>
                  <a:pt x="6859" y="16245"/>
                </a:cubicBezTo>
                <a:close/>
                <a:moveTo>
                  <a:pt x="2111" y="14025"/>
                </a:moveTo>
                <a:lnTo>
                  <a:pt x="17713" y="3595"/>
                </a:lnTo>
                <a:lnTo>
                  <a:pt x="6369" y="15770"/>
                </a:lnTo>
                <a:cubicBezTo>
                  <a:pt x="6309" y="15735"/>
                  <a:pt x="6256" y="15687"/>
                  <a:pt x="6191" y="15661"/>
                </a:cubicBezTo>
                <a:cubicBezTo>
                  <a:pt x="6191" y="15661"/>
                  <a:pt x="2111" y="14025"/>
                  <a:pt x="2111" y="14025"/>
                </a:cubicBezTo>
                <a:close/>
                <a:moveTo>
                  <a:pt x="21234" y="108"/>
                </a:moveTo>
                <a:cubicBezTo>
                  <a:pt x="21123" y="36"/>
                  <a:pt x="20996" y="0"/>
                  <a:pt x="20869" y="0"/>
                </a:cubicBezTo>
                <a:cubicBezTo>
                  <a:pt x="20739" y="0"/>
                  <a:pt x="20609" y="37"/>
                  <a:pt x="20496" y="113"/>
                </a:cubicBezTo>
                <a:lnTo>
                  <a:pt x="299" y="13613"/>
                </a:lnTo>
                <a:cubicBezTo>
                  <a:pt x="91" y="13752"/>
                  <a:pt x="-23" y="13996"/>
                  <a:pt x="3" y="14245"/>
                </a:cubicBezTo>
                <a:cubicBezTo>
                  <a:pt x="29" y="14494"/>
                  <a:pt x="190" y="14709"/>
                  <a:pt x="423" y="14801"/>
                </a:cubicBezTo>
                <a:lnTo>
                  <a:pt x="5690" y="16914"/>
                </a:lnTo>
                <a:lnTo>
                  <a:pt x="8167" y="21260"/>
                </a:lnTo>
                <a:cubicBezTo>
                  <a:pt x="8285" y="21468"/>
                  <a:pt x="8505" y="21597"/>
                  <a:pt x="8744" y="21600"/>
                </a:cubicBezTo>
                <a:lnTo>
                  <a:pt x="8751" y="21600"/>
                </a:lnTo>
                <a:cubicBezTo>
                  <a:pt x="8987" y="21600"/>
                  <a:pt x="9207" y="21475"/>
                  <a:pt x="9329" y="21272"/>
                </a:cubicBezTo>
                <a:lnTo>
                  <a:pt x="10727" y="18934"/>
                </a:lnTo>
                <a:lnTo>
                  <a:pt x="17253" y="21551"/>
                </a:lnTo>
                <a:cubicBezTo>
                  <a:pt x="17333" y="21584"/>
                  <a:pt x="17418" y="21600"/>
                  <a:pt x="17503" y="21600"/>
                </a:cubicBezTo>
                <a:cubicBezTo>
                  <a:pt x="17617" y="21600"/>
                  <a:pt x="17731" y="21571"/>
                  <a:pt x="17833" y="21513"/>
                </a:cubicBezTo>
                <a:cubicBezTo>
                  <a:pt x="18010" y="21413"/>
                  <a:pt x="18134" y="21238"/>
                  <a:pt x="18167" y="21036"/>
                </a:cubicBezTo>
                <a:lnTo>
                  <a:pt x="21533" y="786"/>
                </a:lnTo>
                <a:cubicBezTo>
                  <a:pt x="21577" y="521"/>
                  <a:pt x="21460" y="254"/>
                  <a:pt x="21234" y="108"/>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77" name="Rectangle 21"/>
          <p:cNvSpPr/>
          <p:nvPr/>
        </p:nvSpPr>
        <p:spPr>
          <a:xfrm>
            <a:off x="10515600" y="5918040"/>
            <a:ext cx="3289320" cy="15876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efe"/>
                </a:solidFill>
                <a:latin typeface="Open Sans Light"/>
                <a:ea typeface="ＭＳ Ｐゴシック"/>
              </a:rPr>
              <a:t>MAIL SERVICES</a:t>
            </a:r>
            <a:endParaRPr b="0" lang="en-US" sz="4800" spc="-1" strike="noStrike">
              <a:solidFill>
                <a:srgbClr val="000000"/>
              </a:solidFill>
              <a:latin typeface="Gill Sans"/>
            </a:endParaRPr>
          </a:p>
        </p:txBody>
      </p:sp>
      <p:sp>
        <p:nvSpPr>
          <p:cNvPr id="578" name="Rectangle 22"/>
          <p:cNvSpPr/>
          <p:nvPr/>
        </p:nvSpPr>
        <p:spPr>
          <a:xfrm>
            <a:off x="10515600" y="7531200"/>
            <a:ext cx="3289320" cy="1523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efe"/>
                </a:solidFill>
                <a:latin typeface="Open Sans Light"/>
                <a:ea typeface="ＭＳ Ｐゴシック"/>
              </a:rPr>
              <a:t>we've been lorem ipsum with many ipsum constecture. Maecenas faucibus.</a:t>
            </a:r>
            <a:endParaRPr b="0" lang="en-US" sz="2100" spc="-1" strike="noStrike">
              <a:solidFill>
                <a:srgbClr val="000000"/>
              </a:solidFill>
              <a:latin typeface="Gill Sans"/>
            </a:endParaRPr>
          </a:p>
        </p:txBody>
      </p:sp>
      <p:sp>
        <p:nvSpPr>
          <p:cNvPr id="579" name="AutoShape 23"/>
          <p:cNvSpPr/>
          <p:nvPr/>
        </p:nvSpPr>
        <p:spPr>
          <a:xfrm>
            <a:off x="15430680" y="4089240"/>
            <a:ext cx="1143000" cy="1663920"/>
          </a:xfrm>
          <a:custGeom>
            <a:avLst/>
            <a:gdLst/>
            <a:ahLst/>
            <a:rect l="l" t="t" r="r" b="b"/>
            <a:pathLst>
              <a:path w="21600" h="21600">
                <a:moveTo>
                  <a:pt x="15387" y="14175"/>
                </a:moveTo>
                <a:lnTo>
                  <a:pt x="6224" y="14175"/>
                </a:lnTo>
                <a:cubicBezTo>
                  <a:pt x="5735" y="13447"/>
                  <a:pt x="5148" y="12717"/>
                  <a:pt x="4569" y="12004"/>
                </a:cubicBezTo>
                <a:cubicBezTo>
                  <a:pt x="3288" y="10428"/>
                  <a:pt x="1964" y="8797"/>
                  <a:pt x="1964" y="7425"/>
                </a:cubicBezTo>
                <a:cubicBezTo>
                  <a:pt x="1964" y="4075"/>
                  <a:pt x="5927" y="1350"/>
                  <a:pt x="10800" y="1350"/>
                </a:cubicBezTo>
                <a:cubicBezTo>
                  <a:pt x="15673" y="1350"/>
                  <a:pt x="19636" y="4075"/>
                  <a:pt x="19636" y="7425"/>
                </a:cubicBezTo>
                <a:cubicBezTo>
                  <a:pt x="19636" y="8787"/>
                  <a:pt x="18312" y="10426"/>
                  <a:pt x="17029" y="12012"/>
                </a:cubicBezTo>
                <a:cubicBezTo>
                  <a:pt x="16455" y="12723"/>
                  <a:pt x="15873" y="13450"/>
                  <a:pt x="15387" y="14175"/>
                </a:cubicBezTo>
                <a:moveTo>
                  <a:pt x="10800" y="20250"/>
                </a:moveTo>
                <a:cubicBezTo>
                  <a:pt x="9806" y="20250"/>
                  <a:pt x="9347" y="20172"/>
                  <a:pt x="8839" y="19406"/>
                </a:cubicBezTo>
                <a:lnTo>
                  <a:pt x="13000" y="19049"/>
                </a:lnTo>
                <a:cubicBezTo>
                  <a:pt x="12398" y="20164"/>
                  <a:pt x="11959" y="20250"/>
                  <a:pt x="10800" y="20250"/>
                </a:cubicBezTo>
                <a:moveTo>
                  <a:pt x="7596" y="16813"/>
                </a:moveTo>
                <a:cubicBezTo>
                  <a:pt x="7417" y="16407"/>
                  <a:pt x="7216" y="15978"/>
                  <a:pt x="6992" y="15525"/>
                </a:cubicBezTo>
                <a:lnTo>
                  <a:pt x="14616" y="15525"/>
                </a:lnTo>
                <a:cubicBezTo>
                  <a:pt x="14496" y="15767"/>
                  <a:pt x="14375" y="16010"/>
                  <a:pt x="14271" y="16240"/>
                </a:cubicBezTo>
                <a:cubicBezTo>
                  <a:pt x="14271" y="16240"/>
                  <a:pt x="7596" y="16813"/>
                  <a:pt x="7596" y="16813"/>
                </a:cubicBezTo>
                <a:close/>
                <a:moveTo>
                  <a:pt x="13346" y="18344"/>
                </a:moveTo>
                <a:lnTo>
                  <a:pt x="8477" y="18762"/>
                </a:lnTo>
                <a:cubicBezTo>
                  <a:pt x="8303" y="18416"/>
                  <a:pt x="8116" y="18012"/>
                  <a:pt x="7890" y="17484"/>
                </a:cubicBezTo>
                <a:cubicBezTo>
                  <a:pt x="7887" y="17478"/>
                  <a:pt x="7883" y="17470"/>
                  <a:pt x="7881" y="17463"/>
                </a:cubicBezTo>
                <a:lnTo>
                  <a:pt x="13957" y="16941"/>
                </a:lnTo>
                <a:cubicBezTo>
                  <a:pt x="13871" y="17141"/>
                  <a:pt x="13778" y="17350"/>
                  <a:pt x="13698" y="17537"/>
                </a:cubicBezTo>
                <a:cubicBezTo>
                  <a:pt x="13570" y="17841"/>
                  <a:pt x="13454" y="18104"/>
                  <a:pt x="13346" y="18344"/>
                </a:cubicBezTo>
                <a:moveTo>
                  <a:pt x="10800" y="0"/>
                </a:moveTo>
                <a:cubicBezTo>
                  <a:pt x="4835" y="0"/>
                  <a:pt x="0" y="3324"/>
                  <a:pt x="0" y="7425"/>
                </a:cubicBezTo>
                <a:cubicBezTo>
                  <a:pt x="0" y="10146"/>
                  <a:pt x="3621" y="13030"/>
                  <a:pt x="4940" y="15562"/>
                </a:cubicBezTo>
                <a:cubicBezTo>
                  <a:pt x="6906" y="19339"/>
                  <a:pt x="6689" y="21600"/>
                  <a:pt x="10800" y="21600"/>
                </a:cubicBezTo>
                <a:cubicBezTo>
                  <a:pt x="14973" y="21600"/>
                  <a:pt x="14693" y="19350"/>
                  <a:pt x="16660" y="15578"/>
                </a:cubicBezTo>
                <a:cubicBezTo>
                  <a:pt x="17983" y="13040"/>
                  <a:pt x="21600" y="10125"/>
                  <a:pt x="21600" y="7425"/>
                </a:cubicBezTo>
                <a:cubicBezTo>
                  <a:pt x="21600" y="3324"/>
                  <a:pt x="16765" y="0"/>
                  <a:pt x="10800" y="0"/>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80" name="AutoShape 24"/>
          <p:cNvSpPr/>
          <p:nvPr/>
        </p:nvSpPr>
        <p:spPr>
          <a:xfrm>
            <a:off x="15494040" y="5410080"/>
            <a:ext cx="82440" cy="82800"/>
          </a:xfrm>
          <a:custGeom>
            <a:avLst/>
            <a:gdLst/>
            <a:ahLst/>
            <a:rect l="l" t="t" r="r" b="b"/>
            <a:pathLst>
              <a:path w="21600" h="21600">
                <a:moveTo>
                  <a:pt x="19938" y="0"/>
                </a:moveTo>
                <a:cubicBezTo>
                  <a:pt x="8944" y="0"/>
                  <a:pt x="0" y="8942"/>
                  <a:pt x="0" y="19938"/>
                </a:cubicBezTo>
                <a:cubicBezTo>
                  <a:pt x="0" y="20855"/>
                  <a:pt x="743" y="21600"/>
                  <a:pt x="1662" y="21600"/>
                </a:cubicBezTo>
                <a:cubicBezTo>
                  <a:pt x="2580" y="21600"/>
                  <a:pt x="3323" y="20855"/>
                  <a:pt x="3323" y="19938"/>
                </a:cubicBezTo>
                <a:cubicBezTo>
                  <a:pt x="3323" y="10777"/>
                  <a:pt x="10777" y="3323"/>
                  <a:pt x="19938" y="3323"/>
                </a:cubicBezTo>
                <a:cubicBezTo>
                  <a:pt x="20857" y="3323"/>
                  <a:pt x="21600" y="2578"/>
                  <a:pt x="21600" y="1662"/>
                </a:cubicBezTo>
                <a:cubicBezTo>
                  <a:pt x="21600" y="745"/>
                  <a:pt x="20857" y="0"/>
                  <a:pt x="19938" y="0"/>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81" name="Rectangle 25"/>
          <p:cNvSpPr/>
          <p:nvPr/>
        </p:nvSpPr>
        <p:spPr>
          <a:xfrm>
            <a:off x="17310240" y="3860640"/>
            <a:ext cx="4762440" cy="15876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efe"/>
                </a:solidFill>
                <a:latin typeface="Open Sans Light"/>
                <a:ea typeface="ＭＳ Ｐゴシック"/>
              </a:rPr>
              <a:t>REBRANDING SERVICES</a:t>
            </a:r>
            <a:endParaRPr b="0" lang="en-US" sz="4800" spc="-1" strike="noStrike">
              <a:solidFill>
                <a:srgbClr val="000000"/>
              </a:solidFill>
              <a:latin typeface="Gill Sans"/>
            </a:endParaRPr>
          </a:p>
        </p:txBody>
      </p:sp>
      <p:sp>
        <p:nvSpPr>
          <p:cNvPr id="582" name="Rectangle 26"/>
          <p:cNvSpPr/>
          <p:nvPr/>
        </p:nvSpPr>
        <p:spPr>
          <a:xfrm>
            <a:off x="17310240" y="5499000"/>
            <a:ext cx="4762440" cy="116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efe"/>
                </a:solidFill>
                <a:latin typeface="Open Sans Light"/>
                <a:ea typeface="ＭＳ Ｐゴシック"/>
              </a:rPr>
              <a:t>we've been lorem ipsum with many ipsum constecture. Maecenas faucibus mollis interdum.</a:t>
            </a:r>
            <a:endParaRPr b="0" lang="en-US" sz="2100" spc="-1" strike="noStrike">
              <a:solidFill>
                <a:srgbClr val="000000"/>
              </a:solidFill>
              <a:latin typeface="Gill Sans"/>
            </a:endParaRPr>
          </a:p>
        </p:txBody>
      </p:sp>
      <p:sp>
        <p:nvSpPr>
          <p:cNvPr id="583" name="Rectangle 27"/>
          <p:cNvSpPr/>
          <p:nvPr/>
        </p:nvSpPr>
        <p:spPr>
          <a:xfrm>
            <a:off x="17310240" y="8813880"/>
            <a:ext cx="4762440" cy="15876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efe"/>
                </a:solidFill>
                <a:latin typeface="Open Sans Light"/>
                <a:ea typeface="ＭＳ Ｐゴシック"/>
              </a:rPr>
              <a:t>MOBILE SERVICES</a:t>
            </a:r>
            <a:endParaRPr b="0" lang="en-US" sz="4800" spc="-1" strike="noStrike">
              <a:solidFill>
                <a:srgbClr val="000000"/>
              </a:solidFill>
              <a:latin typeface="Gill Sans"/>
            </a:endParaRPr>
          </a:p>
        </p:txBody>
      </p:sp>
      <p:sp>
        <p:nvSpPr>
          <p:cNvPr id="584" name="Rectangle 28"/>
          <p:cNvSpPr/>
          <p:nvPr/>
        </p:nvSpPr>
        <p:spPr>
          <a:xfrm>
            <a:off x="17310240" y="10452240"/>
            <a:ext cx="4762440" cy="812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efe"/>
                </a:solidFill>
                <a:latin typeface="Open Sans Light"/>
                <a:ea typeface="ＭＳ Ｐゴシック"/>
              </a:rPr>
              <a:t>we've been lorem ipsum with many ipsum constecture</a:t>
            </a:r>
            <a:endParaRPr b="0" lang="en-US" sz="2100" spc="-1" strike="noStrike">
              <a:solidFill>
                <a:srgbClr val="000000"/>
              </a:solidFill>
              <a:latin typeface="Gill Sans"/>
            </a:endParaRPr>
          </a:p>
        </p:txBody>
      </p:sp>
      <p:sp>
        <p:nvSpPr>
          <p:cNvPr id="585" name="AutoShape 29"/>
          <p:cNvSpPr/>
          <p:nvPr/>
        </p:nvSpPr>
        <p:spPr>
          <a:xfrm>
            <a:off x="15430680" y="9042480"/>
            <a:ext cx="1143000" cy="1143000"/>
          </a:xfrm>
          <a:custGeom>
            <a:avLst/>
            <a:gdLst/>
            <a:ahLst/>
            <a:rect l="l" t="t" r="r" b="b"/>
            <a:pathLst>
              <a:path w="21600" h="21600">
                <a:moveTo>
                  <a:pt x="16875" y="17550"/>
                </a:moveTo>
                <a:cubicBezTo>
                  <a:pt x="15513" y="17550"/>
                  <a:pt x="14344" y="15612"/>
                  <a:pt x="13810" y="12825"/>
                </a:cubicBezTo>
                <a:lnTo>
                  <a:pt x="15525" y="12825"/>
                </a:lnTo>
                <a:cubicBezTo>
                  <a:pt x="17038" y="12825"/>
                  <a:pt x="18225" y="11343"/>
                  <a:pt x="18225" y="9450"/>
                </a:cubicBezTo>
                <a:cubicBezTo>
                  <a:pt x="18225" y="7558"/>
                  <a:pt x="17038" y="6075"/>
                  <a:pt x="15525" y="6075"/>
                </a:cubicBezTo>
                <a:lnTo>
                  <a:pt x="13810" y="6075"/>
                </a:lnTo>
                <a:cubicBezTo>
                  <a:pt x="14344" y="3289"/>
                  <a:pt x="15513" y="1350"/>
                  <a:pt x="16875" y="1350"/>
                </a:cubicBezTo>
                <a:cubicBezTo>
                  <a:pt x="18739" y="1350"/>
                  <a:pt x="20250" y="4977"/>
                  <a:pt x="20250" y="9450"/>
                </a:cubicBezTo>
                <a:cubicBezTo>
                  <a:pt x="20250" y="13923"/>
                  <a:pt x="18739" y="17550"/>
                  <a:pt x="16875" y="17550"/>
                </a:cubicBezTo>
                <a:moveTo>
                  <a:pt x="8927" y="11483"/>
                </a:moveTo>
                <a:lnTo>
                  <a:pt x="8775" y="11483"/>
                </a:lnTo>
                <a:lnTo>
                  <a:pt x="8775" y="11475"/>
                </a:lnTo>
                <a:cubicBezTo>
                  <a:pt x="8029" y="11475"/>
                  <a:pt x="7425" y="10569"/>
                  <a:pt x="7425" y="9450"/>
                </a:cubicBezTo>
                <a:cubicBezTo>
                  <a:pt x="7425" y="8332"/>
                  <a:pt x="8029" y="7425"/>
                  <a:pt x="8775" y="7425"/>
                </a:cubicBezTo>
                <a:lnTo>
                  <a:pt x="8927" y="7425"/>
                </a:lnTo>
                <a:cubicBezTo>
                  <a:pt x="10200" y="7425"/>
                  <a:pt x="11392" y="6924"/>
                  <a:pt x="12441" y="6063"/>
                </a:cubicBezTo>
                <a:cubicBezTo>
                  <a:pt x="12249" y="7149"/>
                  <a:pt x="12150" y="8300"/>
                  <a:pt x="12150" y="9450"/>
                </a:cubicBezTo>
                <a:cubicBezTo>
                  <a:pt x="12150" y="10604"/>
                  <a:pt x="12249" y="11758"/>
                  <a:pt x="12443" y="12846"/>
                </a:cubicBezTo>
                <a:cubicBezTo>
                  <a:pt x="11393" y="11984"/>
                  <a:pt x="10200" y="11483"/>
                  <a:pt x="8927" y="11483"/>
                </a:cubicBezTo>
                <a:moveTo>
                  <a:pt x="8096" y="20250"/>
                </a:moveTo>
                <a:lnTo>
                  <a:pt x="5396" y="20250"/>
                </a:lnTo>
                <a:lnTo>
                  <a:pt x="5396" y="14175"/>
                </a:lnTo>
                <a:cubicBezTo>
                  <a:pt x="5396" y="13683"/>
                  <a:pt x="5264" y="13223"/>
                  <a:pt x="5033" y="12825"/>
                </a:cubicBezTo>
                <a:lnTo>
                  <a:pt x="5505" y="12825"/>
                </a:lnTo>
                <a:lnTo>
                  <a:pt x="5505" y="12833"/>
                </a:lnTo>
                <a:lnTo>
                  <a:pt x="7536" y="12833"/>
                </a:lnTo>
                <a:cubicBezTo>
                  <a:pt x="7463" y="13043"/>
                  <a:pt x="7421" y="13265"/>
                  <a:pt x="7421" y="13500"/>
                </a:cubicBezTo>
                <a:lnTo>
                  <a:pt x="7421" y="18225"/>
                </a:lnTo>
                <a:cubicBezTo>
                  <a:pt x="7421" y="18875"/>
                  <a:pt x="7785" y="19307"/>
                  <a:pt x="8001" y="19566"/>
                </a:cubicBezTo>
                <a:cubicBezTo>
                  <a:pt x="8031" y="19601"/>
                  <a:pt x="8066" y="19638"/>
                  <a:pt x="8096" y="19678"/>
                </a:cubicBezTo>
                <a:cubicBezTo>
                  <a:pt x="8096" y="19678"/>
                  <a:pt x="8096" y="20250"/>
                  <a:pt x="8096" y="20250"/>
                </a:cubicBezTo>
                <a:close/>
                <a:moveTo>
                  <a:pt x="1350" y="9450"/>
                </a:moveTo>
                <a:cubicBezTo>
                  <a:pt x="1350" y="8332"/>
                  <a:pt x="1954" y="7425"/>
                  <a:pt x="2700" y="7425"/>
                </a:cubicBezTo>
                <a:lnTo>
                  <a:pt x="7434" y="7425"/>
                </a:lnTo>
                <a:cubicBezTo>
                  <a:pt x="7015" y="7917"/>
                  <a:pt x="6750" y="8631"/>
                  <a:pt x="6750" y="9450"/>
                </a:cubicBezTo>
                <a:cubicBezTo>
                  <a:pt x="6750" y="10270"/>
                  <a:pt x="7015" y="10985"/>
                  <a:pt x="7434" y="11475"/>
                </a:cubicBezTo>
                <a:lnTo>
                  <a:pt x="2700" y="11475"/>
                </a:lnTo>
                <a:cubicBezTo>
                  <a:pt x="1954" y="11475"/>
                  <a:pt x="1350" y="10569"/>
                  <a:pt x="1350" y="9450"/>
                </a:cubicBezTo>
                <a:moveTo>
                  <a:pt x="13500" y="9450"/>
                </a:moveTo>
                <a:cubicBezTo>
                  <a:pt x="13500" y="8750"/>
                  <a:pt x="13541" y="8074"/>
                  <a:pt x="13611" y="7425"/>
                </a:cubicBezTo>
                <a:lnTo>
                  <a:pt x="15525" y="7425"/>
                </a:lnTo>
                <a:cubicBezTo>
                  <a:pt x="16270" y="7425"/>
                  <a:pt x="16875" y="8332"/>
                  <a:pt x="16875" y="9450"/>
                </a:cubicBezTo>
                <a:cubicBezTo>
                  <a:pt x="16875" y="10569"/>
                  <a:pt x="16270" y="11475"/>
                  <a:pt x="15525" y="11475"/>
                </a:cubicBezTo>
                <a:lnTo>
                  <a:pt x="13611" y="11475"/>
                </a:lnTo>
                <a:cubicBezTo>
                  <a:pt x="13541" y="10826"/>
                  <a:pt x="13500" y="10151"/>
                  <a:pt x="13500" y="9450"/>
                </a:cubicBezTo>
                <a:moveTo>
                  <a:pt x="16875" y="0"/>
                </a:moveTo>
                <a:cubicBezTo>
                  <a:pt x="15489" y="0"/>
                  <a:pt x="14400" y="952"/>
                  <a:pt x="13619" y="2421"/>
                </a:cubicBezTo>
                <a:lnTo>
                  <a:pt x="13604" y="2413"/>
                </a:lnTo>
                <a:cubicBezTo>
                  <a:pt x="12469" y="4635"/>
                  <a:pt x="10779" y="6075"/>
                  <a:pt x="8927" y="6075"/>
                </a:cubicBezTo>
                <a:lnTo>
                  <a:pt x="8479" y="6075"/>
                </a:lnTo>
                <a:lnTo>
                  <a:pt x="5505" y="6075"/>
                </a:lnTo>
                <a:lnTo>
                  <a:pt x="2700" y="6075"/>
                </a:lnTo>
                <a:cubicBezTo>
                  <a:pt x="1185" y="6075"/>
                  <a:pt x="0" y="7558"/>
                  <a:pt x="0" y="9450"/>
                </a:cubicBezTo>
                <a:cubicBezTo>
                  <a:pt x="0" y="11343"/>
                  <a:pt x="1185" y="12825"/>
                  <a:pt x="2700" y="12825"/>
                </a:cubicBezTo>
                <a:cubicBezTo>
                  <a:pt x="3444" y="12828"/>
                  <a:pt x="4046" y="13430"/>
                  <a:pt x="4046" y="14175"/>
                </a:cubicBezTo>
                <a:lnTo>
                  <a:pt x="4046" y="20250"/>
                </a:lnTo>
                <a:cubicBezTo>
                  <a:pt x="4046" y="20996"/>
                  <a:pt x="4651" y="21600"/>
                  <a:pt x="5396" y="21600"/>
                </a:cubicBezTo>
                <a:lnTo>
                  <a:pt x="8096" y="21600"/>
                </a:lnTo>
                <a:cubicBezTo>
                  <a:pt x="8842" y="21600"/>
                  <a:pt x="9446" y="20996"/>
                  <a:pt x="9446" y="20250"/>
                </a:cubicBezTo>
                <a:lnTo>
                  <a:pt x="9446" y="19575"/>
                </a:lnTo>
                <a:cubicBezTo>
                  <a:pt x="9446" y="18900"/>
                  <a:pt x="8771" y="18598"/>
                  <a:pt x="8771" y="18225"/>
                </a:cubicBezTo>
                <a:lnTo>
                  <a:pt x="8771" y="13500"/>
                </a:lnTo>
                <a:cubicBezTo>
                  <a:pt x="8771" y="13484"/>
                  <a:pt x="8782" y="13474"/>
                  <a:pt x="8783" y="13458"/>
                </a:cubicBezTo>
                <a:cubicBezTo>
                  <a:pt x="8789" y="13362"/>
                  <a:pt x="8816" y="13272"/>
                  <a:pt x="8859" y="13191"/>
                </a:cubicBezTo>
                <a:cubicBezTo>
                  <a:pt x="8871" y="13169"/>
                  <a:pt x="8884" y="13152"/>
                  <a:pt x="8899" y="13132"/>
                </a:cubicBezTo>
                <a:cubicBezTo>
                  <a:pt x="8953" y="13052"/>
                  <a:pt x="9020" y="12986"/>
                  <a:pt x="9103" y="12934"/>
                </a:cubicBezTo>
                <a:cubicBezTo>
                  <a:pt x="9107" y="12932"/>
                  <a:pt x="9109" y="12928"/>
                  <a:pt x="9113" y="12925"/>
                </a:cubicBezTo>
                <a:cubicBezTo>
                  <a:pt x="9115" y="12925"/>
                  <a:pt x="9118" y="12923"/>
                  <a:pt x="9120" y="12923"/>
                </a:cubicBezTo>
                <a:cubicBezTo>
                  <a:pt x="9174" y="12892"/>
                  <a:pt x="9238" y="12886"/>
                  <a:pt x="9300" y="12868"/>
                </a:cubicBezTo>
                <a:cubicBezTo>
                  <a:pt x="11003" y="13049"/>
                  <a:pt x="12546" y="14424"/>
                  <a:pt x="13604" y="16496"/>
                </a:cubicBezTo>
                <a:lnTo>
                  <a:pt x="13621" y="16487"/>
                </a:lnTo>
                <a:cubicBezTo>
                  <a:pt x="14404" y="17951"/>
                  <a:pt x="15491" y="18900"/>
                  <a:pt x="16875" y="18900"/>
                </a:cubicBezTo>
                <a:cubicBezTo>
                  <a:pt x="19977" y="18900"/>
                  <a:pt x="21600" y="14146"/>
                  <a:pt x="21600" y="9450"/>
                </a:cubicBezTo>
                <a:cubicBezTo>
                  <a:pt x="21600" y="4754"/>
                  <a:pt x="19977" y="0"/>
                  <a:pt x="16875" y="0"/>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86" name="AutoShape 30"/>
          <p:cNvSpPr/>
          <p:nvPr/>
        </p:nvSpPr>
        <p:spPr>
          <a:xfrm rot="5400000">
            <a:off x="4523760" y="10794240"/>
            <a:ext cx="180720" cy="125280"/>
          </a:xfrm>
          <a:prstGeom prst="triangle">
            <a:avLst>
              <a:gd name="adj" fmla="val 50000"/>
            </a:avLst>
          </a:pr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87" name="Rectangle 31"/>
          <p:cNvSpPr/>
          <p:nvPr/>
        </p:nvSpPr>
        <p:spPr>
          <a:xfrm>
            <a:off x="4838760" y="10617120"/>
            <a:ext cx="4660920" cy="4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efe"/>
                </a:solidFill>
                <a:latin typeface="Open Sans Light"/>
                <a:ea typeface="ＭＳ Ｐゴシック"/>
              </a:rPr>
              <a:t>lorem ipsum with ipsum constecture</a:t>
            </a:r>
            <a:endParaRPr b="0" lang="en-US" sz="2100" spc="-1" strike="noStrike">
              <a:solidFill>
                <a:srgbClr val="000000"/>
              </a:solidFill>
              <a:latin typeface="Gill Sans"/>
            </a:endParaRPr>
          </a:p>
        </p:txBody>
      </p:sp>
      <p:sp>
        <p:nvSpPr>
          <p:cNvPr id="588" name="AutoShape 32"/>
          <p:cNvSpPr/>
          <p:nvPr/>
        </p:nvSpPr>
        <p:spPr>
          <a:xfrm rot="5400000">
            <a:off x="17281800" y="7075440"/>
            <a:ext cx="180720" cy="123840"/>
          </a:xfrm>
          <a:prstGeom prst="triangle">
            <a:avLst>
              <a:gd name="adj" fmla="val 50000"/>
            </a:avLst>
          </a:pr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89" name="Rectangle 33"/>
          <p:cNvSpPr/>
          <p:nvPr/>
        </p:nvSpPr>
        <p:spPr>
          <a:xfrm>
            <a:off x="17589600" y="6896160"/>
            <a:ext cx="4660920" cy="4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efe"/>
                </a:solidFill>
                <a:latin typeface="Open Sans Light"/>
                <a:ea typeface="ＭＳ Ｐゴシック"/>
              </a:rPr>
              <a:t>lorem ipsum with lorem ipsum</a:t>
            </a:r>
            <a:endParaRPr b="0" lang="en-US" sz="2100" spc="-1" strike="noStrike">
              <a:solidFill>
                <a:srgbClr val="000000"/>
              </a:solidFill>
              <a:latin typeface="Gill Sans"/>
            </a:endParaRPr>
          </a:p>
        </p:txBody>
      </p:sp>
      <p:sp>
        <p:nvSpPr>
          <p:cNvPr id="590" name="AutoShape 34"/>
          <p:cNvSpPr/>
          <p:nvPr/>
        </p:nvSpPr>
        <p:spPr>
          <a:xfrm>
            <a:off x="10528200" y="9385200"/>
            <a:ext cx="2235240" cy="698760"/>
          </a:xfrm>
          <a:prstGeom prst="roundRect">
            <a:avLst>
              <a:gd name="adj" fmla="val 7269"/>
            </a:avLst>
          </a:prstGeom>
          <a:noFill/>
          <a:ln w="12600">
            <a:solidFill>
              <a:srgbClr val="fffefe"/>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Open Sans Light"/>
                <a:ea typeface="ＭＳ Ｐゴシック"/>
              </a:rPr>
              <a:t>dedicated</a:t>
            </a:r>
            <a:endParaRPr b="0" lang="en-US" sz="2400" spc="-1" strike="noStrike">
              <a:solidFill>
                <a:srgbClr val="000000"/>
              </a:solidFill>
              <a:latin typeface="Gill Sans"/>
            </a:endParaRPr>
          </a:p>
        </p:txBody>
      </p:sp>
      <p:sp>
        <p:nvSpPr>
          <p:cNvPr id="591" name="Rectangle 35"/>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16</a:t>
            </a:r>
            <a:endParaRPr b="0" lang="en-US" sz="2400" spc="-1" strike="noStrike">
              <a:solidFill>
                <a:srgbClr val="000000"/>
              </a:solidFill>
              <a:latin typeface="Gill Sans"/>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2" name="Group 3"/>
          <p:cNvGrpSpPr/>
          <p:nvPr/>
        </p:nvGrpSpPr>
        <p:grpSpPr>
          <a:xfrm>
            <a:off x="1385640" y="819000"/>
            <a:ext cx="5618160" cy="1130040"/>
            <a:chOff x="1385640" y="819000"/>
            <a:chExt cx="5618160" cy="1130040"/>
          </a:xfrm>
        </p:grpSpPr>
        <p:sp>
          <p:nvSpPr>
            <p:cNvPr id="593" name="Rectangle 1"/>
            <p:cNvSpPr/>
            <p:nvPr/>
          </p:nvSpPr>
          <p:spPr>
            <a:xfrm>
              <a:off x="1596240" y="819000"/>
              <a:ext cx="299232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Our Services</a:t>
              </a:r>
              <a:endParaRPr b="0" lang="en-US" sz="4000" spc="-1" strike="noStrike">
                <a:solidFill>
                  <a:srgbClr val="000000"/>
                </a:solidFill>
                <a:latin typeface="Gill Sans"/>
              </a:endParaRPr>
            </a:p>
          </p:txBody>
        </p:sp>
        <p:sp>
          <p:nvSpPr>
            <p:cNvPr id="594"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595" name="Rectangle 4"/>
          <p:cNvSpPr/>
          <p:nvPr/>
        </p:nvSpPr>
        <p:spPr>
          <a:xfrm>
            <a:off x="1432080" y="3313080"/>
            <a:ext cx="4236840" cy="8556480"/>
          </a:xfrm>
          <a:prstGeom prst="rect">
            <a:avLst/>
          </a:prstGeom>
          <a:solidFill>
            <a:srgbClr val="919fa1"/>
          </a:solidFill>
          <a:ln w="25560">
            <a:solidFill>
              <a:srgbClr val="e6e5e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96" name="AutoShape 5"/>
          <p:cNvSpPr/>
          <p:nvPr/>
        </p:nvSpPr>
        <p:spPr>
          <a:xfrm>
            <a:off x="2806560" y="4089240"/>
            <a:ext cx="1143000" cy="1143000"/>
          </a:xfrm>
          <a:custGeom>
            <a:avLst/>
            <a:gdLst/>
            <a:ahLst/>
            <a:rect l="l" t="t" r="r" b="b"/>
            <a:pathLst>
              <a:path w="21543" h="21600">
                <a:moveTo>
                  <a:pt x="16976" y="19986"/>
                </a:moveTo>
                <a:lnTo>
                  <a:pt x="11226" y="17680"/>
                </a:lnTo>
                <a:cubicBezTo>
                  <a:pt x="11089" y="17626"/>
                  <a:pt x="10947" y="17608"/>
                  <a:pt x="10806" y="17600"/>
                </a:cubicBezTo>
                <a:lnTo>
                  <a:pt x="19660" y="3838"/>
                </a:lnTo>
                <a:cubicBezTo>
                  <a:pt x="19660" y="3838"/>
                  <a:pt x="16976" y="19986"/>
                  <a:pt x="16976" y="19986"/>
                </a:cubicBezTo>
                <a:close/>
                <a:moveTo>
                  <a:pt x="6859" y="16245"/>
                </a:moveTo>
                <a:cubicBezTo>
                  <a:pt x="6858" y="16242"/>
                  <a:pt x="6856" y="16241"/>
                  <a:pt x="6854" y="16238"/>
                </a:cubicBezTo>
                <a:lnTo>
                  <a:pt x="19607" y="2552"/>
                </a:lnTo>
                <a:lnTo>
                  <a:pt x="8735" y="19537"/>
                </a:lnTo>
                <a:cubicBezTo>
                  <a:pt x="8735" y="19537"/>
                  <a:pt x="6859" y="16245"/>
                  <a:pt x="6859" y="16245"/>
                </a:cubicBezTo>
                <a:close/>
                <a:moveTo>
                  <a:pt x="2111" y="14025"/>
                </a:moveTo>
                <a:lnTo>
                  <a:pt x="17713" y="3595"/>
                </a:lnTo>
                <a:lnTo>
                  <a:pt x="6369" y="15770"/>
                </a:lnTo>
                <a:cubicBezTo>
                  <a:pt x="6309" y="15735"/>
                  <a:pt x="6256" y="15687"/>
                  <a:pt x="6191" y="15661"/>
                </a:cubicBezTo>
                <a:cubicBezTo>
                  <a:pt x="6191" y="15661"/>
                  <a:pt x="2111" y="14025"/>
                  <a:pt x="2111" y="14025"/>
                </a:cubicBezTo>
                <a:close/>
                <a:moveTo>
                  <a:pt x="21234" y="108"/>
                </a:moveTo>
                <a:cubicBezTo>
                  <a:pt x="21123" y="36"/>
                  <a:pt x="20996" y="0"/>
                  <a:pt x="20869" y="0"/>
                </a:cubicBezTo>
                <a:cubicBezTo>
                  <a:pt x="20739" y="0"/>
                  <a:pt x="20609" y="37"/>
                  <a:pt x="20496" y="113"/>
                </a:cubicBezTo>
                <a:lnTo>
                  <a:pt x="299" y="13613"/>
                </a:lnTo>
                <a:cubicBezTo>
                  <a:pt x="91" y="13752"/>
                  <a:pt x="-23" y="13996"/>
                  <a:pt x="3" y="14245"/>
                </a:cubicBezTo>
                <a:cubicBezTo>
                  <a:pt x="29" y="14494"/>
                  <a:pt x="190" y="14709"/>
                  <a:pt x="423" y="14801"/>
                </a:cubicBezTo>
                <a:lnTo>
                  <a:pt x="5690" y="16914"/>
                </a:lnTo>
                <a:lnTo>
                  <a:pt x="8167" y="21260"/>
                </a:lnTo>
                <a:cubicBezTo>
                  <a:pt x="8285" y="21468"/>
                  <a:pt x="8505" y="21597"/>
                  <a:pt x="8744" y="21600"/>
                </a:cubicBezTo>
                <a:lnTo>
                  <a:pt x="8751" y="21600"/>
                </a:lnTo>
                <a:cubicBezTo>
                  <a:pt x="8987" y="21600"/>
                  <a:pt x="9207" y="21475"/>
                  <a:pt x="9329" y="21272"/>
                </a:cubicBezTo>
                <a:lnTo>
                  <a:pt x="10727" y="18934"/>
                </a:lnTo>
                <a:lnTo>
                  <a:pt x="17253" y="21551"/>
                </a:lnTo>
                <a:cubicBezTo>
                  <a:pt x="17333" y="21584"/>
                  <a:pt x="17418" y="21600"/>
                  <a:pt x="17503" y="21600"/>
                </a:cubicBezTo>
                <a:cubicBezTo>
                  <a:pt x="17617" y="21600"/>
                  <a:pt x="17731" y="21571"/>
                  <a:pt x="17833" y="21513"/>
                </a:cubicBezTo>
                <a:cubicBezTo>
                  <a:pt x="18010" y="21413"/>
                  <a:pt x="18134" y="21238"/>
                  <a:pt x="18167" y="21036"/>
                </a:cubicBezTo>
                <a:lnTo>
                  <a:pt x="21533" y="786"/>
                </a:lnTo>
                <a:cubicBezTo>
                  <a:pt x="21577" y="521"/>
                  <a:pt x="21460" y="254"/>
                  <a:pt x="21234" y="108"/>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97" name="Rectangle 6"/>
          <p:cNvSpPr/>
          <p:nvPr/>
        </p:nvSpPr>
        <p:spPr>
          <a:xfrm>
            <a:off x="1879560" y="5918040"/>
            <a:ext cx="3289320" cy="15876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efe"/>
                </a:solidFill>
                <a:latin typeface="Open Sans Light"/>
                <a:ea typeface="ＭＳ Ｐゴシック"/>
              </a:rPr>
              <a:t>MAIL SERVICES</a:t>
            </a:r>
            <a:endParaRPr b="0" lang="en-US" sz="4800" spc="-1" strike="noStrike">
              <a:solidFill>
                <a:srgbClr val="000000"/>
              </a:solidFill>
              <a:latin typeface="Gill Sans"/>
            </a:endParaRPr>
          </a:p>
        </p:txBody>
      </p:sp>
      <p:sp>
        <p:nvSpPr>
          <p:cNvPr id="598" name="Rectangle 7"/>
          <p:cNvSpPr/>
          <p:nvPr/>
        </p:nvSpPr>
        <p:spPr>
          <a:xfrm>
            <a:off x="1879560" y="7531200"/>
            <a:ext cx="3289320" cy="1523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efe"/>
                </a:solidFill>
                <a:latin typeface="Open Sans Light"/>
                <a:ea typeface="ＭＳ Ｐゴシック"/>
              </a:rPr>
              <a:t>we've been lorem ipsum with many ipsum constecture. Maecenas faucibus.</a:t>
            </a:r>
            <a:endParaRPr b="0" lang="en-US" sz="2100" spc="-1" strike="noStrike">
              <a:solidFill>
                <a:srgbClr val="000000"/>
              </a:solidFill>
              <a:latin typeface="Gill Sans"/>
            </a:endParaRPr>
          </a:p>
        </p:txBody>
      </p:sp>
      <p:sp>
        <p:nvSpPr>
          <p:cNvPr id="599" name="AutoShape 8"/>
          <p:cNvSpPr/>
          <p:nvPr/>
        </p:nvSpPr>
        <p:spPr>
          <a:xfrm>
            <a:off x="1892160" y="9385200"/>
            <a:ext cx="2235240" cy="698760"/>
          </a:xfrm>
          <a:prstGeom prst="roundRect">
            <a:avLst>
              <a:gd name="adj" fmla="val 7269"/>
            </a:avLst>
          </a:prstGeom>
          <a:noFill/>
          <a:ln w="12600">
            <a:solidFill>
              <a:srgbClr val="fffefe"/>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Open Sans Light"/>
                <a:ea typeface="ＭＳ Ｐゴシック"/>
              </a:rPr>
              <a:t>dedicated</a:t>
            </a:r>
            <a:endParaRPr b="0" lang="en-US" sz="2400" spc="-1" strike="noStrike">
              <a:solidFill>
                <a:srgbClr val="000000"/>
              </a:solidFill>
              <a:latin typeface="Gill Sans"/>
            </a:endParaRPr>
          </a:p>
        </p:txBody>
      </p:sp>
      <p:sp>
        <p:nvSpPr>
          <p:cNvPr id="600" name="Rectangle 9"/>
          <p:cNvSpPr/>
          <p:nvPr/>
        </p:nvSpPr>
        <p:spPr>
          <a:xfrm>
            <a:off x="6745320" y="6711840"/>
            <a:ext cx="6591240" cy="5131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 vehicula ut id elit. Vestibulum Nullam id dolor id nibh ultricies vehicula ut id elit. Vestibulum id ligula porta felis euismod semper. Aenean lacinia bibendum nulla sed consectetur. Nulla vitae elit libero, a pharetra augue. Aenean eu leo quam. Pellentesque ornare sem lacinia quam venenatis vestibulum. Morbi leo risus, porta ac consectetur ac, vestibulum at eros.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sp>
        <p:nvSpPr>
          <p:cNvPr id="601" name="Rectangle 10"/>
          <p:cNvSpPr/>
          <p:nvPr/>
        </p:nvSpPr>
        <p:spPr>
          <a:xfrm>
            <a:off x="6743880" y="3301920"/>
            <a:ext cx="6591240" cy="2984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a1919"/>
                </a:solidFill>
                <a:latin typeface="Open Sans Semibold"/>
                <a:ea typeface="ＭＳ Ｐゴシック"/>
              </a:rPr>
              <a:t>The Secrets</a:t>
            </a:r>
            <a:r>
              <a:rPr b="0" lang="en-US" sz="6400" spc="-1" strike="noStrike">
                <a:solidFill>
                  <a:srgbClr val="1a1919"/>
                </a:solidFill>
                <a:latin typeface="Open Sans Light"/>
                <a:ea typeface="ＭＳ Ｐゴシック"/>
              </a:rPr>
              <a:t> of Our Success Story</a:t>
            </a:r>
            <a:endParaRPr b="0" lang="en-US" sz="6400" spc="-1" strike="noStrike">
              <a:solidFill>
                <a:srgbClr val="000000"/>
              </a:solidFill>
              <a:latin typeface="Gill Sans"/>
            </a:endParaRPr>
          </a:p>
        </p:txBody>
      </p:sp>
      <p:sp>
        <p:nvSpPr>
          <p:cNvPr id="602" name="Rectangle 12"/>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17</a:t>
            </a:r>
            <a:endParaRPr b="0" lang="en-US" sz="2400" spc="-1" strike="noStrike">
              <a:solidFill>
                <a:srgbClr val="000000"/>
              </a:solidFill>
              <a:latin typeface="Gill Sans"/>
            </a:endParaRPr>
          </a:p>
        </p:txBody>
      </p:sp>
      <p:pic>
        <p:nvPicPr>
          <p:cNvPr id="603" name="Object 4" descr=""/>
          <p:cNvPicPr/>
          <p:nvPr/>
        </p:nvPicPr>
        <p:blipFill>
          <a:blip r:embed="rId1"/>
          <a:stretch/>
        </p:blipFill>
        <p:spPr>
          <a:xfrm>
            <a:off x="14325480" y="2768760"/>
            <a:ext cx="8585280" cy="915012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1"/>
          <p:cNvSpPr/>
          <p:nvPr/>
        </p:nvSpPr>
        <p:spPr>
          <a:xfrm>
            <a:off x="9931320" y="3324240"/>
            <a:ext cx="12954240" cy="3568680"/>
          </a:xfrm>
          <a:prstGeom prst="rect">
            <a:avLst/>
          </a:prstGeom>
          <a:solidFill>
            <a:srgbClr val="ced8e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aphicFrame>
        <p:nvGraphicFramePr>
          <p:cNvPr id="605" name=""/>
          <p:cNvGraphicFramePr/>
          <p:nvPr/>
        </p:nvGraphicFramePr>
        <p:xfrm>
          <a:off x="9918720" y="5510160"/>
          <a:ext cx="12966840" cy="6357960"/>
        </p:xfrm>
        <a:graphic>
          <a:graphicData uri="http://schemas.openxmlformats.org/drawingml/2006/table">
            <a:tbl>
              <a:tblPr/>
              <a:tblGrid>
                <a:gridCol w="4330800"/>
                <a:gridCol w="4317840"/>
                <a:gridCol w="4318200"/>
              </a:tblGrid>
              <a:tr h="1376280">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Semibold"/>
                          <a:ea typeface="Open Sans Semibold"/>
                        </a:rPr>
                        <a:t>Specification</a:t>
                      </a:r>
                      <a:endParaRPr b="0" lang="en-US" sz="2400" spc="-1" strike="noStrike">
                        <a:solidFill>
                          <a:srgbClr val="000000"/>
                        </a:solidFill>
                        <a:latin typeface="Gill Sans"/>
                      </a:endParaRPr>
                    </a:p>
                  </a:txBody>
                  <a:tcPr anchor="ctr" marL="63360" marR="63360">
                    <a:lnL w="12240">
                      <a:solidFill>
                        <a:srgbClr val="000000"/>
                      </a:solidFill>
                    </a:lnL>
                    <a:lnR w="12240">
                      <a:solidFill>
                        <a:srgbClr val="bac2cc"/>
                      </a:solidFill>
                    </a:lnR>
                    <a:lnT w="12240">
                      <a:solidFill>
                        <a:srgbClr val="bac2cc"/>
                      </a:solidFill>
                    </a:lnT>
                    <a:lnB w="12240">
                      <a:solidFill>
                        <a:srgbClr val="bac2cc"/>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Semibold"/>
                          <a:ea typeface="Open Sans Semibold"/>
                        </a:rPr>
                        <a:t>Specification</a:t>
                      </a:r>
                      <a:endParaRPr b="0" lang="en-US" sz="2400" spc="-1" strike="noStrike">
                        <a:solidFill>
                          <a:srgbClr val="000000"/>
                        </a:solidFill>
                        <a:latin typeface="Gill Sans"/>
                      </a:endParaRPr>
                    </a:p>
                  </a:txBody>
                  <a:tcPr anchor="ctr" marL="63360" marR="63360">
                    <a:lnL w="12240">
                      <a:solidFill>
                        <a:srgbClr val="bac2cc"/>
                      </a:solidFill>
                    </a:lnL>
                    <a:lnR w="12240">
                      <a:solidFill>
                        <a:srgbClr val="bac2cc"/>
                      </a:solidFill>
                    </a:lnR>
                    <a:lnT w="12240">
                      <a:solidFill>
                        <a:srgbClr val="bac2cc"/>
                      </a:solidFill>
                    </a:lnT>
                    <a:lnB w="12240">
                      <a:solidFill>
                        <a:srgbClr val="bac2cc"/>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Semibold"/>
                          <a:ea typeface="Open Sans Semibold"/>
                        </a:rPr>
                        <a:t>Specification</a:t>
                      </a:r>
                      <a:endParaRPr b="0" lang="en-US" sz="2400" spc="-1" strike="noStrike">
                        <a:solidFill>
                          <a:srgbClr val="000000"/>
                        </a:solidFill>
                        <a:latin typeface="Gill Sans"/>
                      </a:endParaRPr>
                    </a:p>
                  </a:txBody>
                  <a:tcPr anchor="ctr" marL="63360" marR="63360">
                    <a:lnL w="12240">
                      <a:solidFill>
                        <a:srgbClr val="bac2cc"/>
                      </a:solidFill>
                    </a:lnL>
                    <a:lnR w="12240">
                      <a:solidFill>
                        <a:srgbClr val="000000"/>
                      </a:solidFill>
                    </a:lnR>
                    <a:lnT w="12240">
                      <a:solidFill>
                        <a:srgbClr val="bac2cc"/>
                      </a:solidFill>
                    </a:lnT>
                    <a:lnB w="12240">
                      <a:solidFill>
                        <a:srgbClr val="bac2cc"/>
                      </a:solidFill>
                    </a:lnB>
                    <a:noFill/>
                  </a:tcPr>
                </a:tc>
              </a:tr>
              <a:tr h="1251000">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Open Sans Light"/>
                        </a:rPr>
                        <a:t>lorem ipsum</a:t>
                      </a:r>
                      <a:endParaRPr b="0" lang="en-US" sz="2400" spc="-1" strike="noStrike">
                        <a:solidFill>
                          <a:srgbClr val="000000"/>
                        </a:solidFill>
                        <a:latin typeface="Gill Sans"/>
                      </a:endParaRPr>
                    </a:p>
                  </a:txBody>
                  <a:tcPr anchor="ctr" marL="63360" marR="63360">
                    <a:lnL w="12240">
                      <a:solidFill>
                        <a:srgbClr val="000000"/>
                      </a:solidFill>
                    </a:lnL>
                    <a:lnR w="12240">
                      <a:solidFill>
                        <a:srgbClr val="bac2cc"/>
                      </a:solidFill>
                    </a:lnR>
                    <a:lnT w="12240">
                      <a:solidFill>
                        <a:srgbClr val="bac2cc"/>
                      </a:solidFill>
                    </a:lnT>
                    <a:lnB w="12240">
                      <a:solidFill>
                        <a:srgbClr val="bac2cc"/>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Open Sans Light"/>
                        </a:rPr>
                        <a:t>constectura diar alor</a:t>
                      </a:r>
                      <a:endParaRPr b="0" lang="en-US" sz="2400" spc="-1" strike="noStrike">
                        <a:solidFill>
                          <a:srgbClr val="000000"/>
                        </a:solidFill>
                        <a:latin typeface="Gill Sans"/>
                      </a:endParaRPr>
                    </a:p>
                  </a:txBody>
                  <a:tcPr anchor="ctr" marL="63360" marR="63360">
                    <a:lnL w="12240">
                      <a:solidFill>
                        <a:srgbClr val="bac2cc"/>
                      </a:solidFill>
                    </a:lnL>
                    <a:lnR w="12240">
                      <a:solidFill>
                        <a:srgbClr val="bac2cc"/>
                      </a:solidFill>
                    </a:lnR>
                    <a:lnT w="12240">
                      <a:solidFill>
                        <a:srgbClr val="bac2cc"/>
                      </a:solidFill>
                    </a:lnT>
                    <a:lnB w="12240">
                      <a:solidFill>
                        <a:srgbClr val="bac2cc"/>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Open Sans Light"/>
                        </a:rPr>
                        <a:t>lorem ipsum</a:t>
                      </a:r>
                      <a:endParaRPr b="0" lang="en-US" sz="2400" spc="-1" strike="noStrike">
                        <a:solidFill>
                          <a:srgbClr val="000000"/>
                        </a:solidFill>
                        <a:latin typeface="Gill Sans"/>
                      </a:endParaRPr>
                    </a:p>
                  </a:txBody>
                  <a:tcPr anchor="ctr" marL="63360" marR="63360">
                    <a:lnL w="12240">
                      <a:solidFill>
                        <a:srgbClr val="bac2cc"/>
                      </a:solidFill>
                    </a:lnL>
                    <a:lnR w="12240">
                      <a:solidFill>
                        <a:srgbClr val="000000"/>
                      </a:solidFill>
                    </a:lnR>
                    <a:lnT w="12240">
                      <a:solidFill>
                        <a:srgbClr val="bac2cc"/>
                      </a:solidFill>
                    </a:lnT>
                    <a:lnB w="12240">
                      <a:solidFill>
                        <a:srgbClr val="bac2cc"/>
                      </a:solidFill>
                    </a:lnB>
                    <a:noFill/>
                  </a:tcPr>
                </a:tc>
              </a:tr>
              <a:tr h="1187640">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Open Sans Light"/>
                        </a:rPr>
                        <a:t>constectura diar alor</a:t>
                      </a:r>
                      <a:endParaRPr b="0" lang="en-US" sz="2400" spc="-1" strike="noStrike">
                        <a:solidFill>
                          <a:srgbClr val="000000"/>
                        </a:solidFill>
                        <a:latin typeface="Gill Sans"/>
                      </a:endParaRPr>
                    </a:p>
                  </a:txBody>
                  <a:tcPr anchor="ctr" marL="63360" marR="63360">
                    <a:lnL w="12240">
                      <a:solidFill>
                        <a:srgbClr val="000000"/>
                      </a:solidFill>
                    </a:lnL>
                    <a:lnR w="12240">
                      <a:solidFill>
                        <a:srgbClr val="bac2cc"/>
                      </a:solidFill>
                    </a:lnR>
                    <a:lnT w="12240">
                      <a:solidFill>
                        <a:srgbClr val="bac2cc"/>
                      </a:solidFill>
                    </a:lnT>
                    <a:lnB w="12240">
                      <a:solidFill>
                        <a:srgbClr val="bac2cc"/>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Open Sans Light"/>
                        </a:rPr>
                        <a:t>lorem ipsum</a:t>
                      </a:r>
                      <a:endParaRPr b="0" lang="en-US" sz="2400" spc="-1" strike="noStrike">
                        <a:solidFill>
                          <a:srgbClr val="000000"/>
                        </a:solidFill>
                        <a:latin typeface="Gill Sans"/>
                      </a:endParaRPr>
                    </a:p>
                  </a:txBody>
                  <a:tcPr anchor="ctr" marL="63360" marR="63360">
                    <a:lnL w="12240">
                      <a:solidFill>
                        <a:srgbClr val="bac2cc"/>
                      </a:solidFill>
                    </a:lnL>
                    <a:lnR w="12240">
                      <a:solidFill>
                        <a:srgbClr val="bac2cc"/>
                      </a:solidFill>
                    </a:lnR>
                    <a:lnT w="12240">
                      <a:solidFill>
                        <a:srgbClr val="bac2cc"/>
                      </a:solidFill>
                    </a:lnT>
                    <a:lnB w="12240">
                      <a:solidFill>
                        <a:srgbClr val="bac2cc"/>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Open Sans Light"/>
                        </a:rPr>
                        <a:t>constectura diar alor</a:t>
                      </a:r>
                      <a:endParaRPr b="0" lang="en-US" sz="2400" spc="-1" strike="noStrike">
                        <a:solidFill>
                          <a:srgbClr val="000000"/>
                        </a:solidFill>
                        <a:latin typeface="Gill Sans"/>
                      </a:endParaRPr>
                    </a:p>
                  </a:txBody>
                  <a:tcPr anchor="ctr" marL="63360" marR="63360">
                    <a:lnL w="12240">
                      <a:solidFill>
                        <a:srgbClr val="bac2cc"/>
                      </a:solidFill>
                    </a:lnL>
                    <a:lnR w="12240">
                      <a:solidFill>
                        <a:srgbClr val="000000"/>
                      </a:solidFill>
                    </a:lnR>
                    <a:lnT w="12240">
                      <a:solidFill>
                        <a:srgbClr val="bac2cc"/>
                      </a:solidFill>
                    </a:lnT>
                    <a:lnB w="12240">
                      <a:solidFill>
                        <a:srgbClr val="bac2cc"/>
                      </a:solidFill>
                    </a:lnB>
                    <a:noFill/>
                  </a:tcPr>
                </a:tc>
              </a:tr>
              <a:tr h="1271520">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Open Sans Light"/>
                        </a:rPr>
                        <a:t>lorem ipsum</a:t>
                      </a:r>
                      <a:endParaRPr b="0" lang="en-US" sz="2400" spc="-1" strike="noStrike">
                        <a:solidFill>
                          <a:srgbClr val="000000"/>
                        </a:solidFill>
                        <a:latin typeface="Gill Sans"/>
                      </a:endParaRPr>
                    </a:p>
                  </a:txBody>
                  <a:tcPr anchor="ctr" marL="63360" marR="63360">
                    <a:lnL w="12240">
                      <a:solidFill>
                        <a:srgbClr val="000000"/>
                      </a:solidFill>
                    </a:lnL>
                    <a:lnR w="12240">
                      <a:solidFill>
                        <a:srgbClr val="bac2cc"/>
                      </a:solidFill>
                    </a:lnR>
                    <a:lnT w="12240">
                      <a:solidFill>
                        <a:srgbClr val="bac2cc"/>
                      </a:solidFill>
                    </a:lnT>
                    <a:lnB w="12240">
                      <a:solidFill>
                        <a:srgbClr val="bac2cc"/>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Open Sans Light"/>
                        </a:rPr>
                        <a:t>constectura diar alor</a:t>
                      </a:r>
                      <a:endParaRPr b="0" lang="en-US" sz="2400" spc="-1" strike="noStrike">
                        <a:solidFill>
                          <a:srgbClr val="000000"/>
                        </a:solidFill>
                        <a:latin typeface="Gill Sans"/>
                      </a:endParaRPr>
                    </a:p>
                  </a:txBody>
                  <a:tcPr anchor="ctr" marL="63360" marR="63360">
                    <a:lnL w="12240">
                      <a:solidFill>
                        <a:srgbClr val="bac2cc"/>
                      </a:solidFill>
                    </a:lnL>
                    <a:lnR w="12240">
                      <a:solidFill>
                        <a:srgbClr val="bac2cc"/>
                      </a:solidFill>
                    </a:lnR>
                    <a:lnT w="12240">
                      <a:solidFill>
                        <a:srgbClr val="bac2cc"/>
                      </a:solidFill>
                    </a:lnT>
                    <a:lnB w="12240">
                      <a:solidFill>
                        <a:srgbClr val="bac2cc"/>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Open Sans Light"/>
                        </a:rPr>
                        <a:t>lorem ipsum</a:t>
                      </a:r>
                      <a:endParaRPr b="0" lang="en-US" sz="2400" spc="-1" strike="noStrike">
                        <a:solidFill>
                          <a:srgbClr val="000000"/>
                        </a:solidFill>
                        <a:latin typeface="Gill Sans"/>
                      </a:endParaRPr>
                    </a:p>
                  </a:txBody>
                  <a:tcPr anchor="ctr" marL="63360" marR="63360">
                    <a:lnL w="12240">
                      <a:solidFill>
                        <a:srgbClr val="bac2cc"/>
                      </a:solidFill>
                    </a:lnL>
                    <a:lnR w="12240">
                      <a:solidFill>
                        <a:srgbClr val="000000"/>
                      </a:solidFill>
                    </a:lnR>
                    <a:lnT w="12240">
                      <a:solidFill>
                        <a:srgbClr val="bac2cc"/>
                      </a:solidFill>
                    </a:lnT>
                    <a:lnB w="12240">
                      <a:solidFill>
                        <a:srgbClr val="bac2cc"/>
                      </a:solidFill>
                    </a:lnB>
                    <a:noFill/>
                  </a:tcPr>
                </a:tc>
              </a:tr>
              <a:tr h="1271520">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Open Sans Light"/>
                        </a:rPr>
                        <a:t>constectura diar alor</a:t>
                      </a:r>
                      <a:endParaRPr b="0" lang="en-US" sz="2400" spc="-1" strike="noStrike">
                        <a:solidFill>
                          <a:srgbClr val="000000"/>
                        </a:solidFill>
                        <a:latin typeface="Gill Sans"/>
                      </a:endParaRPr>
                    </a:p>
                  </a:txBody>
                  <a:tcPr anchor="ctr" marL="63360" marR="63360">
                    <a:lnL w="12240">
                      <a:solidFill>
                        <a:srgbClr val="000000"/>
                      </a:solidFill>
                    </a:lnL>
                    <a:lnR w="12240">
                      <a:solidFill>
                        <a:srgbClr val="bac2cc"/>
                      </a:solidFill>
                    </a:lnR>
                    <a:lnT w="12240">
                      <a:solidFill>
                        <a:srgbClr val="bac2cc"/>
                      </a:solidFill>
                    </a:lnT>
                    <a:lnB w="12240">
                      <a:solidFill>
                        <a:srgbClr val="000000"/>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Open Sans Light"/>
                        </a:rPr>
                        <a:t>lorem ipsum</a:t>
                      </a:r>
                      <a:endParaRPr b="0" lang="en-US" sz="2400" spc="-1" strike="noStrike">
                        <a:solidFill>
                          <a:srgbClr val="000000"/>
                        </a:solidFill>
                        <a:latin typeface="Gill Sans"/>
                      </a:endParaRPr>
                    </a:p>
                  </a:txBody>
                  <a:tcPr anchor="ctr" marL="63360" marR="63360">
                    <a:lnL w="12240">
                      <a:solidFill>
                        <a:srgbClr val="bac2cc"/>
                      </a:solidFill>
                    </a:lnL>
                    <a:lnR w="12240">
                      <a:solidFill>
                        <a:srgbClr val="bac2cc"/>
                      </a:solidFill>
                    </a:lnR>
                    <a:lnT w="12240">
                      <a:solidFill>
                        <a:srgbClr val="bac2cc"/>
                      </a:solidFill>
                    </a:lnT>
                    <a:lnB w="12240">
                      <a:solidFill>
                        <a:srgbClr val="000000"/>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Open Sans Light"/>
                        </a:rPr>
                        <a:t>constectura diar alor</a:t>
                      </a:r>
                      <a:endParaRPr b="0" lang="en-US" sz="2400" spc="-1" strike="noStrike">
                        <a:solidFill>
                          <a:srgbClr val="000000"/>
                        </a:solidFill>
                        <a:latin typeface="Gill Sans"/>
                      </a:endParaRPr>
                    </a:p>
                  </a:txBody>
                  <a:tcPr anchor="ctr" marL="63360" marR="63360">
                    <a:lnL w="12240">
                      <a:solidFill>
                        <a:srgbClr val="bac2cc"/>
                      </a:solidFill>
                    </a:lnL>
                    <a:lnR w="12240">
                      <a:solidFill>
                        <a:srgbClr val="000000"/>
                      </a:solidFill>
                    </a:lnR>
                    <a:lnT w="12240">
                      <a:solidFill>
                        <a:srgbClr val="bac2cc"/>
                      </a:solidFill>
                    </a:lnT>
                    <a:lnB w="12240">
                      <a:solidFill>
                        <a:srgbClr val="000000"/>
                      </a:solidFill>
                    </a:lnB>
                    <a:noFill/>
                  </a:tcPr>
                </a:tc>
              </a:tr>
            </a:tbl>
          </a:graphicData>
        </a:graphic>
      </p:graphicFrame>
      <p:sp>
        <p:nvSpPr>
          <p:cNvPr id="606" name="Rectangle 56"/>
          <p:cNvSpPr/>
          <p:nvPr/>
        </p:nvSpPr>
        <p:spPr>
          <a:xfrm>
            <a:off x="12090240" y="4089240"/>
            <a:ext cx="8636040" cy="72396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43333"/>
                </a:solidFill>
                <a:latin typeface="Open Sans Light"/>
                <a:ea typeface="ＭＳ Ｐゴシック"/>
              </a:rPr>
              <a:t>Specification Table</a:t>
            </a:r>
            <a:endParaRPr b="0" lang="en-US" sz="3600" spc="-1" strike="noStrike">
              <a:solidFill>
                <a:srgbClr val="000000"/>
              </a:solidFill>
              <a:latin typeface="Gill Sans"/>
            </a:endParaRPr>
          </a:p>
        </p:txBody>
      </p:sp>
      <p:grpSp>
        <p:nvGrpSpPr>
          <p:cNvPr id="607" name="Group 59"/>
          <p:cNvGrpSpPr/>
          <p:nvPr/>
        </p:nvGrpSpPr>
        <p:grpSpPr>
          <a:xfrm>
            <a:off x="1385640" y="819000"/>
            <a:ext cx="5618160" cy="1130040"/>
            <a:chOff x="1385640" y="819000"/>
            <a:chExt cx="5618160" cy="1130040"/>
          </a:xfrm>
        </p:grpSpPr>
        <p:sp>
          <p:nvSpPr>
            <p:cNvPr id="608" name="Rectangle 57"/>
            <p:cNvSpPr/>
            <p:nvPr/>
          </p:nvSpPr>
          <p:spPr>
            <a:xfrm>
              <a:off x="1596240" y="819000"/>
              <a:ext cx="299232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Our Services</a:t>
              </a:r>
              <a:endParaRPr b="0" lang="en-US" sz="4000" spc="-1" strike="noStrike">
                <a:solidFill>
                  <a:srgbClr val="000000"/>
                </a:solidFill>
                <a:latin typeface="Gill Sans"/>
              </a:endParaRPr>
            </a:p>
          </p:txBody>
        </p:sp>
        <p:sp>
          <p:nvSpPr>
            <p:cNvPr id="609" name="Rectangle 58"/>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610" name="Rectangle 60"/>
          <p:cNvSpPr/>
          <p:nvPr/>
        </p:nvSpPr>
        <p:spPr>
          <a:xfrm>
            <a:off x="1484280" y="3314880"/>
            <a:ext cx="8431200" cy="3562200"/>
          </a:xfrm>
          <a:prstGeom prst="rect">
            <a:avLst/>
          </a:prstGeom>
          <a:solidFill>
            <a:srgbClr val="1d9d7c"/>
          </a:solidFill>
          <a:ln w="25560">
            <a:solidFill>
              <a:srgbClr val="1d9d7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nvGrpSpPr>
          <p:cNvPr id="611" name="Group 64"/>
          <p:cNvGrpSpPr/>
          <p:nvPr/>
        </p:nvGrpSpPr>
        <p:grpSpPr>
          <a:xfrm>
            <a:off x="2451240" y="4089240"/>
            <a:ext cx="1143000" cy="1650960"/>
            <a:chOff x="2451240" y="4089240"/>
            <a:chExt cx="1143000" cy="1650960"/>
          </a:xfrm>
        </p:grpSpPr>
        <p:sp>
          <p:nvSpPr>
            <p:cNvPr id="612" name="AutoShape 61"/>
            <p:cNvSpPr/>
            <p:nvPr/>
          </p:nvSpPr>
          <p:spPr>
            <a:xfrm>
              <a:off x="2451240" y="4089240"/>
              <a:ext cx="1143000" cy="1650960"/>
            </a:xfrm>
            <a:custGeom>
              <a:avLst/>
              <a:gdLst/>
              <a:ahLst/>
              <a:rect l="l" t="t" r="r" b="b"/>
              <a:pathLst>
                <a:path w="21600" h="21600">
                  <a:moveTo>
                    <a:pt x="19636" y="3375"/>
                  </a:moveTo>
                  <a:lnTo>
                    <a:pt x="1964" y="3376"/>
                  </a:lnTo>
                  <a:lnTo>
                    <a:pt x="1964" y="2026"/>
                  </a:lnTo>
                  <a:cubicBezTo>
                    <a:pt x="1964" y="1653"/>
                    <a:pt x="2403" y="1351"/>
                    <a:pt x="2945" y="1351"/>
                  </a:cubicBezTo>
                  <a:lnTo>
                    <a:pt x="18655" y="1350"/>
                  </a:lnTo>
                  <a:cubicBezTo>
                    <a:pt x="19195" y="1350"/>
                    <a:pt x="19636" y="1653"/>
                    <a:pt x="19636" y="2025"/>
                  </a:cubicBezTo>
                  <a:cubicBezTo>
                    <a:pt x="19636" y="2025"/>
                    <a:pt x="19636" y="3375"/>
                    <a:pt x="19636" y="3375"/>
                  </a:cubicBezTo>
                  <a:close/>
                  <a:moveTo>
                    <a:pt x="19636" y="17547"/>
                  </a:moveTo>
                  <a:lnTo>
                    <a:pt x="1964" y="17547"/>
                  </a:lnTo>
                  <a:lnTo>
                    <a:pt x="1964" y="4051"/>
                  </a:lnTo>
                  <a:lnTo>
                    <a:pt x="19636" y="4050"/>
                  </a:lnTo>
                  <a:cubicBezTo>
                    <a:pt x="19636" y="4050"/>
                    <a:pt x="19636" y="17547"/>
                    <a:pt x="19636" y="17547"/>
                  </a:cubicBezTo>
                  <a:close/>
                  <a:moveTo>
                    <a:pt x="19636" y="19574"/>
                  </a:moveTo>
                  <a:cubicBezTo>
                    <a:pt x="19636" y="19947"/>
                    <a:pt x="19195" y="20249"/>
                    <a:pt x="18655" y="20249"/>
                  </a:cubicBezTo>
                  <a:lnTo>
                    <a:pt x="2945" y="20250"/>
                  </a:lnTo>
                  <a:cubicBezTo>
                    <a:pt x="2403" y="20250"/>
                    <a:pt x="1964" y="19947"/>
                    <a:pt x="1964" y="19575"/>
                  </a:cubicBezTo>
                  <a:lnTo>
                    <a:pt x="1964" y="18222"/>
                  </a:lnTo>
                  <a:lnTo>
                    <a:pt x="19636" y="18222"/>
                  </a:lnTo>
                  <a:cubicBezTo>
                    <a:pt x="19636" y="18222"/>
                    <a:pt x="19636" y="19574"/>
                    <a:pt x="19636" y="19574"/>
                  </a:cubicBezTo>
                  <a:close/>
                  <a:moveTo>
                    <a:pt x="18655" y="0"/>
                  </a:moveTo>
                  <a:lnTo>
                    <a:pt x="2945" y="1"/>
                  </a:lnTo>
                  <a:cubicBezTo>
                    <a:pt x="1317" y="1"/>
                    <a:pt x="0" y="907"/>
                    <a:pt x="0" y="2026"/>
                  </a:cubicBezTo>
                  <a:lnTo>
                    <a:pt x="0" y="19575"/>
                  </a:lnTo>
                  <a:cubicBezTo>
                    <a:pt x="0" y="20694"/>
                    <a:pt x="1317" y="21600"/>
                    <a:pt x="2945" y="21600"/>
                  </a:cubicBezTo>
                  <a:lnTo>
                    <a:pt x="18655" y="21599"/>
                  </a:lnTo>
                  <a:cubicBezTo>
                    <a:pt x="20281" y="21599"/>
                    <a:pt x="21600" y="20693"/>
                    <a:pt x="21600" y="19574"/>
                  </a:cubicBezTo>
                  <a:lnTo>
                    <a:pt x="21600" y="2025"/>
                  </a:lnTo>
                  <a:cubicBezTo>
                    <a:pt x="21600" y="906"/>
                    <a:pt x="20281" y="0"/>
                    <a:pt x="18655" y="0"/>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13" name="AutoShape 62"/>
            <p:cNvSpPr/>
            <p:nvPr/>
          </p:nvSpPr>
          <p:spPr>
            <a:xfrm>
              <a:off x="2917800" y="4243320"/>
              <a:ext cx="208080" cy="50760"/>
            </a:xfrm>
            <a:custGeom>
              <a:avLst/>
              <a:gdLst/>
              <a:ahLst/>
              <a:rect l="l" t="t" r="r" b="b"/>
              <a:pathLst>
                <a:path w="21600" h="21600">
                  <a:moveTo>
                    <a:pt x="21600" y="10800"/>
                  </a:moveTo>
                  <a:cubicBezTo>
                    <a:pt x="21600" y="16759"/>
                    <a:pt x="20387" y="21600"/>
                    <a:pt x="18900" y="21600"/>
                  </a:cubicBezTo>
                  <a:lnTo>
                    <a:pt x="2700" y="21600"/>
                  </a:lnTo>
                  <a:cubicBezTo>
                    <a:pt x="1202" y="21600"/>
                    <a:pt x="0" y="16759"/>
                    <a:pt x="0" y="10800"/>
                  </a:cubicBezTo>
                  <a:cubicBezTo>
                    <a:pt x="0" y="4841"/>
                    <a:pt x="1202" y="0"/>
                    <a:pt x="2700" y="0"/>
                  </a:cubicBezTo>
                  <a:lnTo>
                    <a:pt x="18900" y="0"/>
                  </a:lnTo>
                  <a:cubicBezTo>
                    <a:pt x="20387" y="0"/>
                    <a:pt x="21600" y="4841"/>
                    <a:pt x="21600" y="10800"/>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14" name="AutoShape 63"/>
            <p:cNvSpPr/>
            <p:nvPr/>
          </p:nvSpPr>
          <p:spPr>
            <a:xfrm>
              <a:off x="2970360" y="5532120"/>
              <a:ext cx="103320" cy="52560"/>
            </a:xfrm>
            <a:custGeom>
              <a:avLst/>
              <a:gdLst/>
              <a:ahLst/>
              <a:rect l="l" t="t" r="r" b="b"/>
              <a:pathLst>
                <a:path w="21600" h="21600">
                  <a:moveTo>
                    <a:pt x="21600" y="10800"/>
                  </a:moveTo>
                  <a:cubicBezTo>
                    <a:pt x="21600" y="16770"/>
                    <a:pt x="19174" y="21600"/>
                    <a:pt x="16200" y="21600"/>
                  </a:cubicBezTo>
                  <a:lnTo>
                    <a:pt x="5400" y="21600"/>
                  </a:lnTo>
                  <a:cubicBezTo>
                    <a:pt x="2405" y="21600"/>
                    <a:pt x="0" y="16770"/>
                    <a:pt x="0" y="10800"/>
                  </a:cubicBezTo>
                  <a:cubicBezTo>
                    <a:pt x="0" y="4830"/>
                    <a:pt x="2405" y="0"/>
                    <a:pt x="5400" y="0"/>
                  </a:cubicBezTo>
                  <a:lnTo>
                    <a:pt x="16200" y="0"/>
                  </a:lnTo>
                  <a:cubicBezTo>
                    <a:pt x="19174" y="0"/>
                    <a:pt x="21600" y="4830"/>
                    <a:pt x="21600" y="10800"/>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615" name="Rectangle 65"/>
          <p:cNvSpPr/>
          <p:nvPr/>
        </p:nvSpPr>
        <p:spPr>
          <a:xfrm>
            <a:off x="4560840" y="3860640"/>
            <a:ext cx="4762440" cy="15876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efe"/>
                </a:solidFill>
                <a:latin typeface="Open Sans Light"/>
                <a:ea typeface="ＭＳ Ｐゴシック"/>
              </a:rPr>
              <a:t>MOBILE SERVICES</a:t>
            </a:r>
            <a:endParaRPr b="0" lang="en-US" sz="4800" spc="-1" strike="noStrike">
              <a:solidFill>
                <a:srgbClr val="000000"/>
              </a:solidFill>
              <a:latin typeface="Gill Sans"/>
            </a:endParaRPr>
          </a:p>
        </p:txBody>
      </p:sp>
      <p:sp>
        <p:nvSpPr>
          <p:cNvPr id="616" name="Rectangle 66"/>
          <p:cNvSpPr/>
          <p:nvPr/>
        </p:nvSpPr>
        <p:spPr>
          <a:xfrm>
            <a:off x="4559400" y="5499000"/>
            <a:ext cx="4762440" cy="812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efe"/>
                </a:solidFill>
                <a:latin typeface="Open Sans Light"/>
                <a:ea typeface="ＭＳ Ｐゴシック"/>
              </a:rPr>
              <a:t>we've been lorem ipsum with many ipsum constecture</a:t>
            </a:r>
            <a:endParaRPr b="0" lang="en-US" sz="2100" spc="-1" strike="noStrike">
              <a:solidFill>
                <a:srgbClr val="000000"/>
              </a:solidFill>
              <a:latin typeface="Gill Sans"/>
            </a:endParaRPr>
          </a:p>
        </p:txBody>
      </p:sp>
      <p:sp>
        <p:nvSpPr>
          <p:cNvPr id="617" name="AutoShape 67"/>
          <p:cNvSpPr/>
          <p:nvPr/>
        </p:nvSpPr>
        <p:spPr>
          <a:xfrm rot="5400000">
            <a:off x="4523760" y="10794240"/>
            <a:ext cx="180720" cy="125280"/>
          </a:xfrm>
          <a:prstGeom prst="triangle">
            <a:avLst>
              <a:gd name="adj" fmla="val 50000"/>
            </a:avLst>
          </a:pr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18" name="Rectangle 68"/>
          <p:cNvSpPr/>
          <p:nvPr/>
        </p:nvSpPr>
        <p:spPr>
          <a:xfrm>
            <a:off x="1474920" y="7372440"/>
            <a:ext cx="6591240" cy="3073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Nullam id dolor id nibh ultricies vehicula</a:t>
            </a:r>
            <a:r>
              <a:rPr b="0" lang="en-US" sz="2400" spc="-1" strike="noStrike">
                <a:solidFill>
                  <a:srgbClr val="343333"/>
                </a:solidFill>
                <a:latin typeface="Open Sans Light"/>
                <a:ea typeface="ＭＳ Ｐゴシック"/>
              </a:rPr>
              <a:t>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Light"/>
                <a:ea typeface="ＭＳ Ｐゴシック"/>
              </a:rPr>
              <a:t>ut id elit. Vestibulum id ligula porta felis euismod semper. Aenean lacinia bibendum nulla sed consectetur. Nulla vitae elit libero, a pharetra augue. Aenean eu leo quam. Pellentesque ornare sem lacinia quam venenatis vestibulum. Morbi leo risus, porta ac consectetur ac, vestibulum at eros.</a:t>
            </a:r>
            <a:endParaRPr b="0" lang="en-US" sz="2100" spc="-1" strike="noStrike">
              <a:solidFill>
                <a:srgbClr val="000000"/>
              </a:solidFill>
              <a:latin typeface="Gill Sans"/>
            </a:endParaRPr>
          </a:p>
        </p:txBody>
      </p:sp>
      <p:sp>
        <p:nvSpPr>
          <p:cNvPr id="619" name="Rectangle 69"/>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18</a:t>
            </a:r>
            <a:endParaRPr b="0" lang="en-US" sz="2400" spc="-1" strike="noStrike">
              <a:solidFill>
                <a:srgbClr val="000000"/>
              </a:solidFill>
              <a:latin typeface="Gill Sans"/>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1"/>
          <p:cNvSpPr/>
          <p:nvPr/>
        </p:nvSpPr>
        <p:spPr>
          <a:xfrm>
            <a:off x="-152280" y="-50760"/>
            <a:ext cx="24688800" cy="8217000"/>
          </a:xfrm>
          <a:prstGeom prst="rect">
            <a:avLst/>
          </a:prstGeom>
          <a:solidFill>
            <a:srgbClr val="23cb9e"/>
          </a:solidFill>
          <a:ln w="25560">
            <a:solidFill>
              <a:srgbClr val="23cb9e"/>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21" name="AutoShape 1"/>
          <p:cNvSpPr/>
          <p:nvPr/>
        </p:nvSpPr>
        <p:spPr>
          <a:xfrm>
            <a:off x="-152280" y="-50760"/>
            <a:ext cx="24688800" cy="8217000"/>
          </a:xfrm>
          <a:custGeom>
            <a:avLst/>
            <a:gdLst/>
            <a:ahLst/>
            <a:rect l="l" t="t" r="r" b="b"/>
            <a:pathLst>
              <a:path w="21600" h="21600">
                <a:moveTo>
                  <a:pt x="0" y="0"/>
                </a:moveTo>
                <a:lnTo>
                  <a:pt x="21599" y="0"/>
                </a:lnTo>
                <a:lnTo>
                  <a:pt x="21599" y="21600"/>
                </a:lnTo>
                <a:lnTo>
                  <a:pt x="0" y="21600"/>
                </a:lnTo>
                <a:lnTo>
                  <a:pt x="0" y="0"/>
                </a:lnTo>
                <a:close/>
              </a:path>
            </a:pathLst>
          </a:custGeom>
          <a:solidFill>
            <a:srgbClr val="fefefe">
              <a:alpha val="14000"/>
            </a:srgbClr>
          </a:solidFill>
          <a:ln w="25560">
            <a:solidFill>
              <a:srgbClr val="72759b"/>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22" name="Rectangle 17"/>
          <p:cNvSpPr/>
          <p:nvPr/>
        </p:nvSpPr>
        <p:spPr>
          <a:xfrm>
            <a:off x="11734920" y="457200"/>
            <a:ext cx="121917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5e5e5"/>
                </a:solidFill>
                <a:latin typeface="Gill Sans"/>
                <a:ea typeface="ＭＳ Ｐゴシック"/>
              </a:rPr>
              <a:t>Replace this overlay with your picture and set transparency to 80%</a:t>
            </a:r>
            <a:endParaRPr b="0" lang="en-US" sz="2400" spc="-1" strike="noStrike">
              <a:solidFill>
                <a:srgbClr val="000000"/>
              </a:solidFill>
              <a:latin typeface="Gill Sans"/>
            </a:endParaRPr>
          </a:p>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5e5e5"/>
                </a:solidFill>
                <a:latin typeface="Gill Sans"/>
                <a:ea typeface="ＭＳ Ｐゴシック"/>
              </a:rPr>
              <a:t>Or simply delete it if you want plain background </a:t>
            </a:r>
            <a:endParaRPr b="0" lang="en-US" sz="2400" spc="-1" strike="noStrike">
              <a:solidFill>
                <a:srgbClr val="000000"/>
              </a:solidFill>
              <a:latin typeface="Gill Sans"/>
            </a:endParaRPr>
          </a:p>
        </p:txBody>
      </p:sp>
      <p:sp>
        <p:nvSpPr>
          <p:cNvPr id="623" name="Rectangle 18"/>
          <p:cNvSpPr/>
          <p:nvPr/>
        </p:nvSpPr>
        <p:spPr>
          <a:xfrm>
            <a:off x="0" y="8305920"/>
            <a:ext cx="6016680" cy="541008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24" name="Rectangle 19"/>
          <p:cNvSpPr/>
          <p:nvPr/>
        </p:nvSpPr>
        <p:spPr>
          <a:xfrm>
            <a:off x="6130800" y="8302680"/>
            <a:ext cx="6016680" cy="541008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25" name="Rectangle 20"/>
          <p:cNvSpPr/>
          <p:nvPr/>
        </p:nvSpPr>
        <p:spPr>
          <a:xfrm>
            <a:off x="12261960" y="8307360"/>
            <a:ext cx="6018120" cy="541008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26" name="Rectangle 21"/>
          <p:cNvSpPr/>
          <p:nvPr/>
        </p:nvSpPr>
        <p:spPr>
          <a:xfrm>
            <a:off x="18367200" y="8300880"/>
            <a:ext cx="6016680" cy="541044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27" name="Rectangle 3"/>
          <p:cNvSpPr/>
          <p:nvPr/>
        </p:nvSpPr>
        <p:spPr>
          <a:xfrm>
            <a:off x="5295960" y="3124080"/>
            <a:ext cx="13817520" cy="2984760"/>
          </a:xfrm>
          <a:prstGeom prst="rect">
            <a:avLst/>
          </a:prstGeom>
          <a:no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efe"/>
                </a:solidFill>
                <a:latin typeface="Open Sans Light"/>
                <a:ea typeface="ＭＳ Ｐゴシック"/>
              </a:rPr>
              <a:t>From </a:t>
            </a:r>
            <a:r>
              <a:rPr b="0" lang="en-US" sz="6400" spc="-1" strike="noStrike">
                <a:solidFill>
                  <a:srgbClr val="fffefe"/>
                </a:solidFill>
                <a:latin typeface="Open Sans Italic"/>
                <a:ea typeface="ＭＳ Ｐゴシック"/>
              </a:rPr>
              <a:t>web</a:t>
            </a:r>
            <a:r>
              <a:rPr b="0" lang="en-US" sz="6400" spc="-1" strike="noStrike">
                <a:solidFill>
                  <a:srgbClr val="fffefe"/>
                </a:solidFill>
                <a:latin typeface="Open Sans Light"/>
                <a:ea typeface="ＭＳ Ｐゴシック"/>
              </a:rPr>
              <a:t> to prototype.</a:t>
            </a:r>
            <a:endParaRPr b="0" lang="en-US" sz="64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efe"/>
                </a:solidFill>
                <a:latin typeface="Open Sans Light"/>
                <a:ea typeface="ＭＳ Ｐゴシック"/>
              </a:rPr>
              <a:t>We create </a:t>
            </a:r>
            <a:r>
              <a:rPr b="0" lang="en-US" sz="6400" spc="-1" strike="noStrike">
                <a:solidFill>
                  <a:srgbClr val="fffefe"/>
                </a:solidFill>
                <a:latin typeface="Open Sans Bold"/>
                <a:ea typeface="ＭＳ Ｐゴシック"/>
              </a:rPr>
              <a:t>stunning</a:t>
            </a:r>
            <a:r>
              <a:rPr b="0" lang="en-US" sz="6400" spc="-1" strike="noStrike">
                <a:solidFill>
                  <a:srgbClr val="fffefe"/>
                </a:solidFill>
                <a:latin typeface="Open Sans Light"/>
                <a:ea typeface="ＭＳ Ｐゴシック"/>
              </a:rPr>
              <a:t> design. </a:t>
            </a:r>
            <a:endParaRPr b="0" lang="en-US" sz="64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efe"/>
                </a:solidFill>
                <a:latin typeface="Open Sans Light"/>
                <a:ea typeface="ＭＳ Ｐゴシック"/>
              </a:rPr>
              <a:t>We deliver </a:t>
            </a:r>
            <a:r>
              <a:rPr b="0" lang="en-US" sz="6400" spc="-1" strike="noStrike">
                <a:solidFill>
                  <a:srgbClr val="fffefe"/>
                </a:solidFill>
                <a:latin typeface="Open Sans Italic"/>
                <a:ea typeface="ＭＳ Ｐゴシック"/>
              </a:rPr>
              <a:t>dreams</a:t>
            </a:r>
            <a:r>
              <a:rPr b="0" lang="en-US" sz="6400" spc="-1" strike="noStrike">
                <a:solidFill>
                  <a:srgbClr val="fffefe"/>
                </a:solidFill>
                <a:latin typeface="Open Sans Light"/>
                <a:ea typeface="ＭＳ Ｐゴシック"/>
              </a:rPr>
              <a:t>.</a:t>
            </a:r>
            <a:endParaRPr b="0" lang="en-US" sz="6400" spc="-1" strike="noStrike">
              <a:solidFill>
                <a:srgbClr val="000000"/>
              </a:solidFill>
              <a:latin typeface="Gill Sans"/>
            </a:endParaRPr>
          </a:p>
        </p:txBody>
      </p:sp>
      <p:sp>
        <p:nvSpPr>
          <p:cNvPr id="628" name="Rectangle 4"/>
          <p:cNvSpPr/>
          <p:nvPr/>
        </p:nvSpPr>
        <p:spPr>
          <a:xfrm>
            <a:off x="6388200" y="6261120"/>
            <a:ext cx="11607840" cy="952560"/>
          </a:xfrm>
          <a:prstGeom prst="rect">
            <a:avLst/>
          </a:prstGeom>
          <a:no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efe"/>
                </a:solidFill>
                <a:latin typeface="Open Sans Light"/>
                <a:ea typeface="ＭＳ Ｐゴシック"/>
              </a:rPr>
              <a:t>Nullam id dolor id nibh ultricies vehicula ut id elit. Vestibulum id ligula porta felis euismod semper</a:t>
            </a:r>
            <a:endParaRPr b="0" lang="en-US" sz="2700" spc="-1" strike="noStrike">
              <a:solidFill>
                <a:srgbClr val="000000"/>
              </a:solidFill>
              <a:latin typeface="Gill Sans"/>
            </a:endParaRPr>
          </a:p>
        </p:txBody>
      </p:sp>
      <p:sp>
        <p:nvSpPr>
          <p:cNvPr id="629" name="Rectangle 5"/>
          <p:cNvSpPr/>
          <p:nvPr/>
        </p:nvSpPr>
        <p:spPr>
          <a:xfrm>
            <a:off x="1403280" y="12705840"/>
            <a:ext cx="353052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919"/>
                </a:solidFill>
                <a:latin typeface="Open Sans Bold"/>
                <a:ea typeface="ＭＳ Ｐゴシック"/>
              </a:rPr>
              <a:t>Presentation</a:t>
            </a:r>
            <a:r>
              <a:rPr b="0" lang="en-US" sz="2000" spc="-1" strike="noStrike">
                <a:solidFill>
                  <a:srgbClr val="1a1919"/>
                </a:solidFill>
                <a:latin typeface="Open Sans Light"/>
                <a:ea typeface="ＭＳ Ｐゴシック"/>
              </a:rPr>
              <a:t> name goes here</a:t>
            </a:r>
            <a:endParaRPr b="0" lang="en-US" sz="2000" spc="-1" strike="noStrike">
              <a:solidFill>
                <a:srgbClr val="000000"/>
              </a:solidFill>
              <a:latin typeface="Gill Sans"/>
            </a:endParaRPr>
          </a:p>
        </p:txBody>
      </p:sp>
      <p:sp>
        <p:nvSpPr>
          <p:cNvPr id="630" name="Rectangle 6"/>
          <p:cNvSpPr/>
          <p:nvPr/>
        </p:nvSpPr>
        <p:spPr>
          <a:xfrm>
            <a:off x="1599480" y="819000"/>
            <a:ext cx="8029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efe"/>
                </a:solidFill>
                <a:latin typeface="Open Sans Bold"/>
                <a:ea typeface="ＭＳ Ｐゴシック"/>
              </a:rPr>
              <a:t>3 Times Award Winning Company</a:t>
            </a:r>
            <a:endParaRPr b="0" lang="en-US" sz="4000" spc="-1" strike="noStrike">
              <a:solidFill>
                <a:srgbClr val="000000"/>
              </a:solidFill>
              <a:latin typeface="Gill Sans"/>
            </a:endParaRPr>
          </a:p>
        </p:txBody>
      </p:sp>
      <p:grpSp>
        <p:nvGrpSpPr>
          <p:cNvPr id="631" name="Group 9"/>
          <p:cNvGrpSpPr/>
          <p:nvPr/>
        </p:nvGrpSpPr>
        <p:grpSpPr>
          <a:xfrm>
            <a:off x="609480" y="952560"/>
            <a:ext cx="406440" cy="406440"/>
            <a:chOff x="609480" y="952560"/>
            <a:chExt cx="406440" cy="406440"/>
          </a:xfrm>
        </p:grpSpPr>
        <p:sp>
          <p:nvSpPr>
            <p:cNvPr id="632" name="AutoShape 7"/>
            <p:cNvSpPr/>
            <p:nvPr/>
          </p:nvSpPr>
          <p:spPr>
            <a:xfrm>
              <a:off x="609480" y="952560"/>
              <a:ext cx="406440" cy="406440"/>
            </a:xfrm>
            <a:prstGeom prst="roundRect">
              <a:avLst>
                <a:gd name="adj" fmla="val 18750"/>
              </a:avLst>
            </a:prstGeom>
            <a:noFill/>
            <a:ln w="25560">
              <a:solidFill>
                <a:srgbClr val="fffefe">
                  <a:alpha val="7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33" name="AutoShape 8"/>
            <p:cNvSpPr/>
            <p:nvPr/>
          </p:nvSpPr>
          <p:spPr>
            <a:xfrm rot="5400000">
              <a:off x="725760" y="1091160"/>
              <a:ext cx="180720" cy="125640"/>
            </a:xfrm>
            <a:prstGeom prst="triangle">
              <a:avLst>
                <a:gd name="adj" fmla="val 50000"/>
              </a:avLst>
            </a:prstGeom>
            <a:solidFill>
              <a:srgbClr val="fffefe">
                <a:alpha val="7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634" name="Rectangle 10"/>
          <p:cNvSpPr/>
          <p:nvPr/>
        </p:nvSpPr>
        <p:spPr>
          <a:xfrm>
            <a:off x="1493640" y="1492200"/>
            <a:ext cx="30182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efe"/>
                </a:solidFill>
                <a:latin typeface="Open Sans Light"/>
                <a:ea typeface="ＭＳ Ｐゴシック"/>
              </a:rPr>
              <a:t>2012, 2013, 2014</a:t>
            </a:r>
            <a:endParaRPr b="0" lang="en-US" sz="3000" spc="-1" strike="noStrike">
              <a:solidFill>
                <a:srgbClr val="000000"/>
              </a:solidFill>
              <a:latin typeface="Gill Sans"/>
            </a:endParaRPr>
          </a:p>
        </p:txBody>
      </p:sp>
      <p:sp>
        <p:nvSpPr>
          <p:cNvPr id="635" name="Rectangle 15"/>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efe"/>
                </a:solidFill>
                <a:latin typeface="Open Sans Bold"/>
                <a:ea typeface="ＭＳ Ｐゴシック"/>
              </a:rPr>
              <a:t>19</a:t>
            </a:r>
            <a:endParaRPr b="0" lang="en-US" sz="2400" spc="-1" strike="noStrike">
              <a:solidFill>
                <a:srgbClr val="000000"/>
              </a:solidFill>
              <a:latin typeface="Gill Sans"/>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 name="Group 8"/>
          <p:cNvGrpSpPr/>
          <p:nvPr/>
        </p:nvGrpSpPr>
        <p:grpSpPr>
          <a:xfrm>
            <a:off x="4813200" y="3174840"/>
            <a:ext cx="14760720" cy="7352640"/>
            <a:chOff x="4813200" y="3174840"/>
            <a:chExt cx="14760720" cy="7352640"/>
          </a:xfrm>
        </p:grpSpPr>
        <p:sp>
          <p:nvSpPr>
            <p:cNvPr id="257" name="Rectangle 2"/>
            <p:cNvSpPr/>
            <p:nvPr/>
          </p:nvSpPr>
          <p:spPr>
            <a:xfrm>
              <a:off x="8956440" y="3174840"/>
              <a:ext cx="10617480" cy="4102920"/>
            </a:xfrm>
            <a:prstGeom prst="rect">
              <a:avLst/>
            </a:prstGeom>
            <a:noFill/>
            <a:ln w="0">
              <a:noFill/>
            </a:ln>
          </p:spPr>
          <p:style>
            <a:lnRef idx="0"/>
            <a:fillRef idx="0"/>
            <a:effectRef idx="0"/>
            <a:fontRef idx="minor"/>
          </p:style>
          <p: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600" spc="-1" strike="noStrike">
                  <a:solidFill>
                    <a:srgbClr val="1a1919"/>
                  </a:solidFill>
                  <a:latin typeface="Open Sans Light"/>
                  <a:ea typeface="ＭＳ Ｐゴシック"/>
                </a:rPr>
                <a:t>Company Presentation</a:t>
              </a:r>
              <a:endParaRPr b="0" lang="en-US" sz="13600" spc="-1" strike="noStrike">
                <a:solidFill>
                  <a:srgbClr val="000000"/>
                </a:solidFill>
                <a:latin typeface="Gill Sans"/>
              </a:endParaRPr>
            </a:p>
          </p:txBody>
        </p:sp>
        <p:sp>
          <p:nvSpPr>
            <p:cNvPr id="258" name="Rectangle 3"/>
            <p:cNvSpPr/>
            <p:nvPr/>
          </p:nvSpPr>
          <p:spPr>
            <a:xfrm>
              <a:off x="8953560" y="8020800"/>
              <a:ext cx="10617120" cy="1931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a1919"/>
                  </a:solidFill>
                  <a:latin typeface="Open Sans Light"/>
                  <a:ea typeface="ＭＳ Ｐゴシック"/>
                </a:rPr>
                <a:t>By </a:t>
              </a:r>
              <a:r>
                <a:rPr b="0" lang="en-US" sz="6400" spc="-1" strike="noStrike">
                  <a:solidFill>
                    <a:srgbClr val="1a1919"/>
                  </a:solidFill>
                  <a:latin typeface="Open Sans Bold"/>
                  <a:ea typeface="ＭＳ Ｐゴシック"/>
                </a:rPr>
                <a:t>John Doe</a:t>
              </a:r>
              <a:endParaRPr b="0" lang="en-US" sz="6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a1919"/>
                  </a:solidFill>
                  <a:latin typeface="Open Sans Light Italic"/>
                  <a:ea typeface="ＭＳ Ｐゴシック"/>
                </a:rPr>
                <a:t>Product Manager</a:t>
              </a:r>
              <a:endParaRPr b="0" lang="en-US" sz="4200" spc="-1" strike="noStrike">
                <a:solidFill>
                  <a:srgbClr val="000000"/>
                </a:solidFill>
                <a:latin typeface="Gill Sans"/>
              </a:endParaRPr>
            </a:p>
          </p:txBody>
        </p:sp>
        <p:pic>
          <p:nvPicPr>
            <p:cNvPr id="259" name="Picture 4" descr=""/>
            <p:cNvPicPr/>
            <p:nvPr/>
          </p:nvPicPr>
          <p:blipFill>
            <a:blip r:embed="rId1"/>
            <a:stretch/>
          </p:blipFill>
          <p:spPr>
            <a:xfrm>
              <a:off x="4813200" y="3900240"/>
              <a:ext cx="3009960" cy="3734640"/>
            </a:xfrm>
            <a:prstGeom prst="rect">
              <a:avLst/>
            </a:prstGeom>
            <a:ln w="0">
              <a:noFill/>
            </a:ln>
          </p:spPr>
        </p:pic>
        <p:grpSp>
          <p:nvGrpSpPr>
            <p:cNvPr id="260" name="Group 7"/>
            <p:cNvGrpSpPr/>
            <p:nvPr/>
          </p:nvGrpSpPr>
          <p:grpSpPr>
            <a:xfrm>
              <a:off x="8964360" y="7620840"/>
              <a:ext cx="9816840" cy="2906640"/>
              <a:chOff x="8964360" y="7620840"/>
              <a:chExt cx="9816840" cy="2906640"/>
            </a:xfrm>
          </p:grpSpPr>
          <p:sp>
            <p:nvSpPr>
              <p:cNvPr id="261" name="Line 5"/>
              <p:cNvSpPr/>
              <p:nvPr/>
            </p:nvSpPr>
            <p:spPr>
              <a:xfrm>
                <a:off x="8967600" y="7620840"/>
                <a:ext cx="9813600" cy="0"/>
              </a:xfrm>
              <a:prstGeom prst="line">
                <a:avLst/>
              </a:prstGeom>
              <a:ln w="12600">
                <a:solidFill>
                  <a:srgbClr val="807f7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62" name="Line 6"/>
              <p:cNvSpPr/>
              <p:nvPr/>
            </p:nvSpPr>
            <p:spPr>
              <a:xfrm>
                <a:off x="8964360" y="10527480"/>
                <a:ext cx="9813600" cy="0"/>
              </a:xfrm>
              <a:prstGeom prst="line">
                <a:avLst/>
              </a:prstGeom>
              <a:ln w="12600">
                <a:solidFill>
                  <a:srgbClr val="807f7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sp>
        <p:nvSpPr>
          <p:cNvPr id="263" name="Rectangle 9"/>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02</a:t>
            </a:r>
            <a:endParaRPr b="0" lang="en-US" sz="2400" spc="-1" strike="noStrike">
              <a:solidFill>
                <a:srgbClr val="000000"/>
              </a:solidFill>
              <a:latin typeface="Gill Sans"/>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6" name="Group 5"/>
          <p:cNvGrpSpPr/>
          <p:nvPr/>
        </p:nvGrpSpPr>
        <p:grpSpPr>
          <a:xfrm>
            <a:off x="16341840" y="3314880"/>
            <a:ext cx="3765240" cy="6833520"/>
            <a:chOff x="16341840" y="3314880"/>
            <a:chExt cx="3765240" cy="6833520"/>
          </a:xfrm>
        </p:grpSpPr>
        <p:sp>
          <p:nvSpPr>
            <p:cNvPr id="637" name="AutoShape 1"/>
            <p:cNvSpPr/>
            <p:nvPr/>
          </p:nvSpPr>
          <p:spPr>
            <a:xfrm>
              <a:off x="16362360" y="5703840"/>
              <a:ext cx="3744720" cy="4444560"/>
            </a:xfrm>
            <a:custGeom>
              <a:avLst/>
              <a:gdLst/>
              <a:ahLst/>
              <a:rect l="l" t="t" r="r" b="b"/>
              <a:pathLst>
                <a:path w="21600" h="21600">
                  <a:moveTo>
                    <a:pt x="0" y="0"/>
                  </a:moveTo>
                  <a:lnTo>
                    <a:pt x="563" y="1137"/>
                  </a:lnTo>
                  <a:cubicBezTo>
                    <a:pt x="563" y="1137"/>
                    <a:pt x="787" y="2274"/>
                    <a:pt x="1350" y="2463"/>
                  </a:cubicBezTo>
                  <a:cubicBezTo>
                    <a:pt x="1912" y="2653"/>
                    <a:pt x="3262" y="5211"/>
                    <a:pt x="3262" y="5211"/>
                  </a:cubicBezTo>
                  <a:lnTo>
                    <a:pt x="3488" y="6821"/>
                  </a:lnTo>
                  <a:cubicBezTo>
                    <a:pt x="3488" y="6821"/>
                    <a:pt x="3375" y="7295"/>
                    <a:pt x="3825" y="7768"/>
                  </a:cubicBezTo>
                  <a:cubicBezTo>
                    <a:pt x="4275" y="8242"/>
                    <a:pt x="4837" y="9000"/>
                    <a:pt x="4837" y="9284"/>
                  </a:cubicBezTo>
                  <a:cubicBezTo>
                    <a:pt x="4837" y="9568"/>
                    <a:pt x="4500" y="10705"/>
                    <a:pt x="4387" y="10895"/>
                  </a:cubicBezTo>
                  <a:cubicBezTo>
                    <a:pt x="4275" y="11084"/>
                    <a:pt x="4388" y="12316"/>
                    <a:pt x="5175" y="13074"/>
                  </a:cubicBezTo>
                  <a:cubicBezTo>
                    <a:pt x="5962" y="13832"/>
                    <a:pt x="6525" y="14495"/>
                    <a:pt x="6525" y="14684"/>
                  </a:cubicBezTo>
                  <a:cubicBezTo>
                    <a:pt x="6525" y="14874"/>
                    <a:pt x="6525" y="15821"/>
                    <a:pt x="6525" y="16105"/>
                  </a:cubicBezTo>
                  <a:cubicBezTo>
                    <a:pt x="6525" y="16389"/>
                    <a:pt x="6637" y="16674"/>
                    <a:pt x="7200" y="17811"/>
                  </a:cubicBezTo>
                  <a:cubicBezTo>
                    <a:pt x="7762" y="18947"/>
                    <a:pt x="8550" y="19895"/>
                    <a:pt x="8775" y="20274"/>
                  </a:cubicBezTo>
                  <a:cubicBezTo>
                    <a:pt x="9000" y="20653"/>
                    <a:pt x="10125" y="21600"/>
                    <a:pt x="10125" y="21600"/>
                  </a:cubicBezTo>
                  <a:lnTo>
                    <a:pt x="11250" y="19800"/>
                  </a:lnTo>
                  <a:cubicBezTo>
                    <a:pt x="11250" y="19800"/>
                    <a:pt x="12938" y="17147"/>
                    <a:pt x="13612" y="16674"/>
                  </a:cubicBezTo>
                  <a:cubicBezTo>
                    <a:pt x="14287" y="16200"/>
                    <a:pt x="15300" y="14305"/>
                    <a:pt x="15300" y="14305"/>
                  </a:cubicBezTo>
                  <a:lnTo>
                    <a:pt x="15413" y="13074"/>
                  </a:lnTo>
                  <a:lnTo>
                    <a:pt x="16762" y="11937"/>
                  </a:lnTo>
                  <a:cubicBezTo>
                    <a:pt x="16762" y="11937"/>
                    <a:pt x="17100" y="8621"/>
                    <a:pt x="17212" y="8053"/>
                  </a:cubicBezTo>
                  <a:cubicBezTo>
                    <a:pt x="17325" y="7484"/>
                    <a:pt x="18000" y="6347"/>
                    <a:pt x="18112" y="6158"/>
                  </a:cubicBezTo>
                  <a:cubicBezTo>
                    <a:pt x="18225" y="5968"/>
                    <a:pt x="18338" y="4737"/>
                    <a:pt x="18225" y="4263"/>
                  </a:cubicBezTo>
                  <a:cubicBezTo>
                    <a:pt x="18112" y="3789"/>
                    <a:pt x="18113" y="3032"/>
                    <a:pt x="18450" y="2842"/>
                  </a:cubicBezTo>
                  <a:cubicBezTo>
                    <a:pt x="18787" y="2653"/>
                    <a:pt x="20025" y="1895"/>
                    <a:pt x="20025" y="1895"/>
                  </a:cubicBezTo>
                  <a:lnTo>
                    <a:pt x="20812" y="1232"/>
                  </a:lnTo>
                  <a:lnTo>
                    <a:pt x="21375" y="663"/>
                  </a:lnTo>
                  <a:lnTo>
                    <a:pt x="21600" y="95"/>
                  </a:lnTo>
                  <a:lnTo>
                    <a:pt x="0" y="0"/>
                  </a:lnTo>
                  <a:close/>
                  <a:moveTo>
                    <a:pt x="0" y="0"/>
                  </a:moveTo>
                </a:path>
              </a:pathLst>
            </a:custGeom>
            <a:solidFill>
              <a:srgbClr val="2969a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38" name="AutoShape 2"/>
            <p:cNvSpPr/>
            <p:nvPr/>
          </p:nvSpPr>
          <p:spPr>
            <a:xfrm>
              <a:off x="16381440" y="5686200"/>
              <a:ext cx="3686040" cy="4406760"/>
            </a:xfrm>
            <a:custGeom>
              <a:avLst/>
              <a:gdLst/>
              <a:ahLst/>
              <a:rect l="l" t="t" r="r" b="b"/>
              <a:pathLst>
                <a:path w="21600" h="21600">
                  <a:moveTo>
                    <a:pt x="20000" y="1338"/>
                  </a:moveTo>
                  <a:lnTo>
                    <a:pt x="17486" y="2867"/>
                  </a:lnTo>
                  <a:cubicBezTo>
                    <a:pt x="17486" y="2867"/>
                    <a:pt x="16800" y="3058"/>
                    <a:pt x="16457" y="4970"/>
                  </a:cubicBezTo>
                  <a:cubicBezTo>
                    <a:pt x="16114" y="6881"/>
                    <a:pt x="15657" y="7264"/>
                    <a:pt x="15657" y="7455"/>
                  </a:cubicBezTo>
                  <a:cubicBezTo>
                    <a:pt x="15657" y="7646"/>
                    <a:pt x="14971" y="8028"/>
                    <a:pt x="14971" y="8028"/>
                  </a:cubicBezTo>
                  <a:cubicBezTo>
                    <a:pt x="14971" y="8028"/>
                    <a:pt x="14971" y="10418"/>
                    <a:pt x="15086" y="10704"/>
                  </a:cubicBezTo>
                  <a:cubicBezTo>
                    <a:pt x="15200" y="10991"/>
                    <a:pt x="15886" y="12042"/>
                    <a:pt x="15086" y="13094"/>
                  </a:cubicBezTo>
                  <a:cubicBezTo>
                    <a:pt x="14286" y="14145"/>
                    <a:pt x="13486" y="14814"/>
                    <a:pt x="13486" y="14814"/>
                  </a:cubicBezTo>
                  <a:cubicBezTo>
                    <a:pt x="13486" y="14814"/>
                    <a:pt x="12800" y="15865"/>
                    <a:pt x="12686" y="16152"/>
                  </a:cubicBezTo>
                  <a:cubicBezTo>
                    <a:pt x="12571" y="16439"/>
                    <a:pt x="11771" y="17968"/>
                    <a:pt x="11771" y="17968"/>
                  </a:cubicBezTo>
                  <a:lnTo>
                    <a:pt x="10286" y="19593"/>
                  </a:lnTo>
                  <a:lnTo>
                    <a:pt x="10400" y="20549"/>
                  </a:lnTo>
                  <a:cubicBezTo>
                    <a:pt x="10400" y="20549"/>
                    <a:pt x="9829" y="19688"/>
                    <a:pt x="10286" y="18255"/>
                  </a:cubicBezTo>
                  <a:cubicBezTo>
                    <a:pt x="10743" y="16821"/>
                    <a:pt x="12114" y="14910"/>
                    <a:pt x="12114" y="14719"/>
                  </a:cubicBezTo>
                  <a:cubicBezTo>
                    <a:pt x="12114" y="14527"/>
                    <a:pt x="12800" y="12425"/>
                    <a:pt x="12800" y="12425"/>
                  </a:cubicBezTo>
                  <a:lnTo>
                    <a:pt x="12914" y="10800"/>
                  </a:lnTo>
                  <a:cubicBezTo>
                    <a:pt x="12914" y="10800"/>
                    <a:pt x="12800" y="9940"/>
                    <a:pt x="13143" y="9653"/>
                  </a:cubicBezTo>
                  <a:cubicBezTo>
                    <a:pt x="13486" y="9366"/>
                    <a:pt x="12571" y="8219"/>
                    <a:pt x="12571" y="8219"/>
                  </a:cubicBezTo>
                  <a:cubicBezTo>
                    <a:pt x="12571" y="8219"/>
                    <a:pt x="11657" y="7646"/>
                    <a:pt x="12343" y="6786"/>
                  </a:cubicBezTo>
                  <a:cubicBezTo>
                    <a:pt x="13029" y="5926"/>
                    <a:pt x="13600" y="5352"/>
                    <a:pt x="13829" y="5352"/>
                  </a:cubicBezTo>
                  <a:cubicBezTo>
                    <a:pt x="14057" y="5352"/>
                    <a:pt x="14971" y="4874"/>
                    <a:pt x="14971" y="4874"/>
                  </a:cubicBezTo>
                  <a:lnTo>
                    <a:pt x="15200" y="4396"/>
                  </a:lnTo>
                  <a:lnTo>
                    <a:pt x="13029" y="3632"/>
                  </a:lnTo>
                  <a:lnTo>
                    <a:pt x="13371" y="3058"/>
                  </a:lnTo>
                  <a:lnTo>
                    <a:pt x="14171" y="2772"/>
                  </a:lnTo>
                  <a:cubicBezTo>
                    <a:pt x="14171" y="2772"/>
                    <a:pt x="14171" y="1912"/>
                    <a:pt x="14400" y="1720"/>
                  </a:cubicBezTo>
                  <a:cubicBezTo>
                    <a:pt x="14629" y="1529"/>
                    <a:pt x="14629" y="860"/>
                    <a:pt x="14629" y="860"/>
                  </a:cubicBezTo>
                  <a:lnTo>
                    <a:pt x="13714" y="0"/>
                  </a:lnTo>
                  <a:cubicBezTo>
                    <a:pt x="13714" y="0"/>
                    <a:pt x="13143" y="2007"/>
                    <a:pt x="12686" y="2389"/>
                  </a:cubicBezTo>
                  <a:cubicBezTo>
                    <a:pt x="12229" y="2772"/>
                    <a:pt x="11543" y="3536"/>
                    <a:pt x="11543" y="3536"/>
                  </a:cubicBezTo>
                  <a:cubicBezTo>
                    <a:pt x="11543" y="3536"/>
                    <a:pt x="11543" y="4301"/>
                    <a:pt x="11657" y="4588"/>
                  </a:cubicBezTo>
                  <a:cubicBezTo>
                    <a:pt x="11771" y="4874"/>
                    <a:pt x="11314" y="5639"/>
                    <a:pt x="11200" y="6117"/>
                  </a:cubicBezTo>
                  <a:cubicBezTo>
                    <a:pt x="11086" y="6595"/>
                    <a:pt x="10971" y="7359"/>
                    <a:pt x="10971" y="7933"/>
                  </a:cubicBezTo>
                  <a:cubicBezTo>
                    <a:pt x="10971" y="8506"/>
                    <a:pt x="10629" y="8697"/>
                    <a:pt x="10971" y="10035"/>
                  </a:cubicBezTo>
                  <a:cubicBezTo>
                    <a:pt x="11314" y="11373"/>
                    <a:pt x="11086" y="12520"/>
                    <a:pt x="10971" y="12807"/>
                  </a:cubicBezTo>
                  <a:cubicBezTo>
                    <a:pt x="10857" y="13094"/>
                    <a:pt x="10857" y="13189"/>
                    <a:pt x="10857" y="13572"/>
                  </a:cubicBezTo>
                  <a:cubicBezTo>
                    <a:pt x="10857" y="13954"/>
                    <a:pt x="11086" y="14719"/>
                    <a:pt x="11086" y="14910"/>
                  </a:cubicBezTo>
                  <a:cubicBezTo>
                    <a:pt x="11086" y="15101"/>
                    <a:pt x="10629" y="15961"/>
                    <a:pt x="10514" y="16152"/>
                  </a:cubicBezTo>
                  <a:cubicBezTo>
                    <a:pt x="10400" y="16343"/>
                    <a:pt x="9257" y="19211"/>
                    <a:pt x="9257" y="19211"/>
                  </a:cubicBezTo>
                  <a:lnTo>
                    <a:pt x="8571" y="13476"/>
                  </a:lnTo>
                  <a:cubicBezTo>
                    <a:pt x="8571" y="13476"/>
                    <a:pt x="6286" y="11278"/>
                    <a:pt x="6171" y="11087"/>
                  </a:cubicBezTo>
                  <a:cubicBezTo>
                    <a:pt x="6057" y="10896"/>
                    <a:pt x="8114" y="10035"/>
                    <a:pt x="8914" y="9366"/>
                  </a:cubicBezTo>
                  <a:cubicBezTo>
                    <a:pt x="9714" y="8697"/>
                    <a:pt x="9143" y="8793"/>
                    <a:pt x="8686" y="7168"/>
                  </a:cubicBezTo>
                  <a:cubicBezTo>
                    <a:pt x="8229" y="5543"/>
                    <a:pt x="5943" y="5161"/>
                    <a:pt x="5943" y="5161"/>
                  </a:cubicBezTo>
                  <a:cubicBezTo>
                    <a:pt x="5943" y="5161"/>
                    <a:pt x="5029" y="4588"/>
                    <a:pt x="4914" y="4110"/>
                  </a:cubicBezTo>
                  <a:cubicBezTo>
                    <a:pt x="4800" y="3632"/>
                    <a:pt x="4229" y="1625"/>
                    <a:pt x="4229" y="1625"/>
                  </a:cubicBezTo>
                  <a:lnTo>
                    <a:pt x="7086" y="3727"/>
                  </a:lnTo>
                  <a:cubicBezTo>
                    <a:pt x="7086" y="3727"/>
                    <a:pt x="6057" y="1147"/>
                    <a:pt x="6514" y="573"/>
                  </a:cubicBezTo>
                  <a:cubicBezTo>
                    <a:pt x="6971" y="0"/>
                    <a:pt x="7657" y="478"/>
                    <a:pt x="7657" y="478"/>
                  </a:cubicBezTo>
                  <a:lnTo>
                    <a:pt x="8800" y="3058"/>
                  </a:lnTo>
                  <a:lnTo>
                    <a:pt x="9600" y="3919"/>
                  </a:lnTo>
                  <a:lnTo>
                    <a:pt x="9371" y="1338"/>
                  </a:lnTo>
                  <a:lnTo>
                    <a:pt x="9371" y="96"/>
                  </a:lnTo>
                  <a:lnTo>
                    <a:pt x="0" y="0"/>
                  </a:lnTo>
                  <a:cubicBezTo>
                    <a:pt x="0" y="0"/>
                    <a:pt x="914" y="956"/>
                    <a:pt x="1257" y="1720"/>
                  </a:cubicBezTo>
                  <a:cubicBezTo>
                    <a:pt x="1600" y="2485"/>
                    <a:pt x="3200" y="4588"/>
                    <a:pt x="3200" y="5161"/>
                  </a:cubicBezTo>
                  <a:cubicBezTo>
                    <a:pt x="3200" y="5735"/>
                    <a:pt x="3657" y="6786"/>
                    <a:pt x="4114" y="7742"/>
                  </a:cubicBezTo>
                  <a:cubicBezTo>
                    <a:pt x="4571" y="8697"/>
                    <a:pt x="4914" y="9749"/>
                    <a:pt x="4914" y="10322"/>
                  </a:cubicBezTo>
                  <a:cubicBezTo>
                    <a:pt x="4914" y="10896"/>
                    <a:pt x="4229" y="11851"/>
                    <a:pt x="4800" y="12425"/>
                  </a:cubicBezTo>
                  <a:cubicBezTo>
                    <a:pt x="5371" y="12998"/>
                    <a:pt x="5943" y="14432"/>
                    <a:pt x="6400" y="14719"/>
                  </a:cubicBezTo>
                  <a:cubicBezTo>
                    <a:pt x="6857" y="15005"/>
                    <a:pt x="6629" y="15292"/>
                    <a:pt x="6971" y="16439"/>
                  </a:cubicBezTo>
                  <a:cubicBezTo>
                    <a:pt x="7314" y="17586"/>
                    <a:pt x="7657" y="18542"/>
                    <a:pt x="8000" y="19115"/>
                  </a:cubicBezTo>
                  <a:cubicBezTo>
                    <a:pt x="8343" y="19688"/>
                    <a:pt x="10057" y="21600"/>
                    <a:pt x="10057" y="21600"/>
                  </a:cubicBezTo>
                  <a:cubicBezTo>
                    <a:pt x="10057" y="21600"/>
                    <a:pt x="15086" y="14910"/>
                    <a:pt x="15429" y="14336"/>
                  </a:cubicBezTo>
                  <a:cubicBezTo>
                    <a:pt x="15771" y="13763"/>
                    <a:pt x="15657" y="13094"/>
                    <a:pt x="15657" y="13094"/>
                  </a:cubicBezTo>
                  <a:lnTo>
                    <a:pt x="16457" y="11851"/>
                  </a:lnTo>
                  <a:lnTo>
                    <a:pt x="17371" y="9844"/>
                  </a:lnTo>
                  <a:cubicBezTo>
                    <a:pt x="17371" y="9844"/>
                    <a:pt x="17257" y="8506"/>
                    <a:pt x="17371" y="8028"/>
                  </a:cubicBezTo>
                  <a:cubicBezTo>
                    <a:pt x="17486" y="7550"/>
                    <a:pt x="18286" y="6117"/>
                    <a:pt x="18286" y="6117"/>
                  </a:cubicBezTo>
                  <a:lnTo>
                    <a:pt x="18400" y="2772"/>
                  </a:lnTo>
                  <a:lnTo>
                    <a:pt x="21029" y="956"/>
                  </a:lnTo>
                  <a:lnTo>
                    <a:pt x="21600" y="96"/>
                  </a:lnTo>
                  <a:lnTo>
                    <a:pt x="20000" y="1338"/>
                  </a:lnTo>
                  <a:close/>
                  <a:moveTo>
                    <a:pt x="20000" y="1338"/>
                  </a:moveTo>
                </a:path>
              </a:pathLst>
            </a:custGeom>
            <a:solidFill>
              <a:srgbClr val="65a0e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39" name="AutoShape 3"/>
            <p:cNvSpPr/>
            <p:nvPr/>
          </p:nvSpPr>
          <p:spPr>
            <a:xfrm>
              <a:off x="16341840" y="3314880"/>
              <a:ext cx="3765240" cy="2474640"/>
            </a:xfrm>
            <a:custGeom>
              <a:avLst/>
              <a:gdLst/>
              <a:ahLst/>
              <a:rect l="l" t="t" r="r" b="b"/>
              <a:pathLst>
                <a:path w="21495" h="21600">
                  <a:moveTo>
                    <a:pt x="118" y="21090"/>
                  </a:moveTo>
                  <a:cubicBezTo>
                    <a:pt x="118" y="21090"/>
                    <a:pt x="118" y="19389"/>
                    <a:pt x="6" y="19049"/>
                  </a:cubicBezTo>
                  <a:cubicBezTo>
                    <a:pt x="-105" y="18709"/>
                    <a:pt x="1231" y="17178"/>
                    <a:pt x="1231" y="17178"/>
                  </a:cubicBezTo>
                  <a:lnTo>
                    <a:pt x="1899" y="16498"/>
                  </a:lnTo>
                  <a:lnTo>
                    <a:pt x="1231" y="14967"/>
                  </a:lnTo>
                  <a:lnTo>
                    <a:pt x="2010" y="14287"/>
                  </a:lnTo>
                  <a:lnTo>
                    <a:pt x="3013" y="13436"/>
                  </a:lnTo>
                  <a:cubicBezTo>
                    <a:pt x="3013" y="13436"/>
                    <a:pt x="3347" y="12416"/>
                    <a:pt x="4794" y="11565"/>
                  </a:cubicBezTo>
                  <a:cubicBezTo>
                    <a:pt x="6241" y="10715"/>
                    <a:pt x="7132" y="9865"/>
                    <a:pt x="7132" y="9865"/>
                  </a:cubicBezTo>
                  <a:cubicBezTo>
                    <a:pt x="7132" y="9865"/>
                    <a:pt x="7577" y="9865"/>
                    <a:pt x="7911" y="8844"/>
                  </a:cubicBezTo>
                  <a:cubicBezTo>
                    <a:pt x="8246" y="7824"/>
                    <a:pt x="8357" y="7313"/>
                    <a:pt x="8357" y="6633"/>
                  </a:cubicBezTo>
                  <a:cubicBezTo>
                    <a:pt x="8357" y="5953"/>
                    <a:pt x="8023" y="5443"/>
                    <a:pt x="8580" y="4592"/>
                  </a:cubicBezTo>
                  <a:cubicBezTo>
                    <a:pt x="9136" y="3742"/>
                    <a:pt x="11697" y="0"/>
                    <a:pt x="11697" y="0"/>
                  </a:cubicBezTo>
                  <a:cubicBezTo>
                    <a:pt x="11697" y="0"/>
                    <a:pt x="11920" y="850"/>
                    <a:pt x="12476" y="1531"/>
                  </a:cubicBezTo>
                  <a:cubicBezTo>
                    <a:pt x="13033" y="2211"/>
                    <a:pt x="13256" y="2891"/>
                    <a:pt x="13256" y="3402"/>
                  </a:cubicBezTo>
                  <a:cubicBezTo>
                    <a:pt x="13256" y="3912"/>
                    <a:pt x="11920" y="2891"/>
                    <a:pt x="13367" y="4762"/>
                  </a:cubicBezTo>
                  <a:cubicBezTo>
                    <a:pt x="14815" y="6633"/>
                    <a:pt x="15037" y="7824"/>
                    <a:pt x="15149" y="8164"/>
                  </a:cubicBezTo>
                  <a:cubicBezTo>
                    <a:pt x="15260" y="8504"/>
                    <a:pt x="15149" y="9694"/>
                    <a:pt x="15483" y="10035"/>
                  </a:cubicBezTo>
                  <a:cubicBezTo>
                    <a:pt x="15817" y="10375"/>
                    <a:pt x="16930" y="11735"/>
                    <a:pt x="17153" y="11906"/>
                  </a:cubicBezTo>
                  <a:cubicBezTo>
                    <a:pt x="17375" y="12076"/>
                    <a:pt x="17709" y="14117"/>
                    <a:pt x="17709" y="14117"/>
                  </a:cubicBezTo>
                  <a:cubicBezTo>
                    <a:pt x="17709" y="14117"/>
                    <a:pt x="17932" y="14967"/>
                    <a:pt x="18155" y="15137"/>
                  </a:cubicBezTo>
                  <a:cubicBezTo>
                    <a:pt x="18377" y="15307"/>
                    <a:pt x="19602" y="15137"/>
                    <a:pt x="19602" y="15137"/>
                  </a:cubicBezTo>
                  <a:lnTo>
                    <a:pt x="20048" y="17008"/>
                  </a:lnTo>
                  <a:cubicBezTo>
                    <a:pt x="20048" y="17008"/>
                    <a:pt x="20048" y="18709"/>
                    <a:pt x="20382" y="18879"/>
                  </a:cubicBezTo>
                  <a:cubicBezTo>
                    <a:pt x="20716" y="19049"/>
                    <a:pt x="21384" y="19729"/>
                    <a:pt x="21384" y="20239"/>
                  </a:cubicBezTo>
                  <a:cubicBezTo>
                    <a:pt x="21384" y="20750"/>
                    <a:pt x="21495" y="21600"/>
                    <a:pt x="21495" y="21600"/>
                  </a:cubicBezTo>
                  <a:lnTo>
                    <a:pt x="118" y="21090"/>
                  </a:lnTo>
                  <a:close/>
                  <a:moveTo>
                    <a:pt x="118" y="21090"/>
                  </a:moveTo>
                </a:path>
              </a:pathLst>
            </a:custGeom>
            <a:solidFill>
              <a:srgbClr val="8ba1bf"/>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40" name="AutoShape 4"/>
            <p:cNvSpPr/>
            <p:nvPr/>
          </p:nvSpPr>
          <p:spPr>
            <a:xfrm>
              <a:off x="16381440" y="3433680"/>
              <a:ext cx="2515680" cy="2318760"/>
            </a:xfrm>
            <a:custGeom>
              <a:avLst/>
              <a:gdLst/>
              <a:ahLst/>
              <a:rect l="l" t="t" r="r" b="b"/>
              <a:pathLst>
                <a:path w="21600" h="21600">
                  <a:moveTo>
                    <a:pt x="16912" y="0"/>
                  </a:moveTo>
                  <a:lnTo>
                    <a:pt x="14735" y="3812"/>
                  </a:lnTo>
                  <a:lnTo>
                    <a:pt x="16577" y="2723"/>
                  </a:lnTo>
                  <a:cubicBezTo>
                    <a:pt x="16577" y="2723"/>
                    <a:pt x="16409" y="5808"/>
                    <a:pt x="15740" y="6171"/>
                  </a:cubicBezTo>
                  <a:cubicBezTo>
                    <a:pt x="15070" y="6534"/>
                    <a:pt x="17581" y="6353"/>
                    <a:pt x="17581" y="8168"/>
                  </a:cubicBezTo>
                  <a:cubicBezTo>
                    <a:pt x="17581" y="9983"/>
                    <a:pt x="17581" y="11072"/>
                    <a:pt x="16409" y="12706"/>
                  </a:cubicBezTo>
                  <a:cubicBezTo>
                    <a:pt x="15237" y="14339"/>
                    <a:pt x="17749" y="15973"/>
                    <a:pt x="17749" y="15973"/>
                  </a:cubicBezTo>
                  <a:lnTo>
                    <a:pt x="15740" y="16881"/>
                  </a:lnTo>
                  <a:lnTo>
                    <a:pt x="14065" y="16881"/>
                  </a:lnTo>
                  <a:cubicBezTo>
                    <a:pt x="14065" y="16881"/>
                    <a:pt x="13228" y="17788"/>
                    <a:pt x="15070" y="18151"/>
                  </a:cubicBezTo>
                  <a:cubicBezTo>
                    <a:pt x="16912" y="18514"/>
                    <a:pt x="17916" y="18333"/>
                    <a:pt x="18753" y="18696"/>
                  </a:cubicBezTo>
                  <a:cubicBezTo>
                    <a:pt x="19591" y="19059"/>
                    <a:pt x="20930" y="20511"/>
                    <a:pt x="20930" y="20511"/>
                  </a:cubicBezTo>
                  <a:lnTo>
                    <a:pt x="21600" y="21600"/>
                  </a:lnTo>
                  <a:lnTo>
                    <a:pt x="0" y="21418"/>
                  </a:lnTo>
                  <a:lnTo>
                    <a:pt x="167" y="18696"/>
                  </a:lnTo>
                  <a:lnTo>
                    <a:pt x="2512" y="16881"/>
                  </a:lnTo>
                  <a:lnTo>
                    <a:pt x="1842" y="15066"/>
                  </a:lnTo>
                  <a:lnTo>
                    <a:pt x="4186" y="14158"/>
                  </a:lnTo>
                  <a:lnTo>
                    <a:pt x="5693" y="12161"/>
                  </a:lnTo>
                  <a:lnTo>
                    <a:pt x="8037" y="10891"/>
                  </a:lnTo>
                  <a:lnTo>
                    <a:pt x="11553" y="9439"/>
                  </a:lnTo>
                  <a:lnTo>
                    <a:pt x="12223" y="7442"/>
                  </a:lnTo>
                  <a:lnTo>
                    <a:pt x="12223" y="5264"/>
                  </a:lnTo>
                  <a:lnTo>
                    <a:pt x="12223" y="4175"/>
                  </a:lnTo>
                  <a:lnTo>
                    <a:pt x="16912" y="0"/>
                  </a:lnTo>
                  <a:close/>
                  <a:moveTo>
                    <a:pt x="16912" y="0"/>
                  </a:moveTo>
                </a:path>
              </a:pathLst>
            </a:custGeom>
            <a:solidFill>
              <a:srgbClr val="fffef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641" name="Group 10"/>
          <p:cNvGrpSpPr/>
          <p:nvPr/>
        </p:nvGrpSpPr>
        <p:grpSpPr>
          <a:xfrm>
            <a:off x="14231880" y="4780080"/>
            <a:ext cx="1564920" cy="2842560"/>
            <a:chOff x="14231880" y="4780080"/>
            <a:chExt cx="1564920" cy="2842560"/>
          </a:xfrm>
        </p:grpSpPr>
        <p:sp>
          <p:nvSpPr>
            <p:cNvPr id="642" name="AutoShape 6"/>
            <p:cNvSpPr/>
            <p:nvPr/>
          </p:nvSpPr>
          <p:spPr>
            <a:xfrm>
              <a:off x="14239800" y="5773320"/>
              <a:ext cx="1557000" cy="1849320"/>
            </a:xfrm>
            <a:custGeom>
              <a:avLst/>
              <a:gdLst/>
              <a:ahLst/>
              <a:rect l="l" t="t" r="r" b="b"/>
              <a:pathLst>
                <a:path w="21600" h="21600">
                  <a:moveTo>
                    <a:pt x="0" y="0"/>
                  </a:moveTo>
                  <a:lnTo>
                    <a:pt x="563" y="1137"/>
                  </a:lnTo>
                  <a:cubicBezTo>
                    <a:pt x="563" y="1137"/>
                    <a:pt x="787" y="2274"/>
                    <a:pt x="1350" y="2463"/>
                  </a:cubicBezTo>
                  <a:cubicBezTo>
                    <a:pt x="1912" y="2653"/>
                    <a:pt x="3262" y="5211"/>
                    <a:pt x="3262" y="5211"/>
                  </a:cubicBezTo>
                  <a:lnTo>
                    <a:pt x="3487" y="6821"/>
                  </a:lnTo>
                  <a:cubicBezTo>
                    <a:pt x="3487" y="6821"/>
                    <a:pt x="3375" y="7295"/>
                    <a:pt x="3825" y="7768"/>
                  </a:cubicBezTo>
                  <a:cubicBezTo>
                    <a:pt x="4275" y="8242"/>
                    <a:pt x="4837" y="9000"/>
                    <a:pt x="4837" y="9284"/>
                  </a:cubicBezTo>
                  <a:cubicBezTo>
                    <a:pt x="4837" y="9568"/>
                    <a:pt x="4500" y="10705"/>
                    <a:pt x="4387" y="10895"/>
                  </a:cubicBezTo>
                  <a:cubicBezTo>
                    <a:pt x="4275" y="11084"/>
                    <a:pt x="4388" y="12316"/>
                    <a:pt x="5175" y="13074"/>
                  </a:cubicBezTo>
                  <a:cubicBezTo>
                    <a:pt x="5962" y="13832"/>
                    <a:pt x="6525" y="14495"/>
                    <a:pt x="6525" y="14684"/>
                  </a:cubicBezTo>
                  <a:cubicBezTo>
                    <a:pt x="6525" y="14874"/>
                    <a:pt x="6525" y="15821"/>
                    <a:pt x="6525" y="16105"/>
                  </a:cubicBezTo>
                  <a:cubicBezTo>
                    <a:pt x="6525" y="16389"/>
                    <a:pt x="6637" y="16674"/>
                    <a:pt x="7200" y="17811"/>
                  </a:cubicBezTo>
                  <a:cubicBezTo>
                    <a:pt x="7762" y="18947"/>
                    <a:pt x="8550" y="19895"/>
                    <a:pt x="8775" y="20274"/>
                  </a:cubicBezTo>
                  <a:cubicBezTo>
                    <a:pt x="9000" y="20653"/>
                    <a:pt x="10125" y="21600"/>
                    <a:pt x="10125" y="21600"/>
                  </a:cubicBezTo>
                  <a:lnTo>
                    <a:pt x="11250" y="19800"/>
                  </a:lnTo>
                  <a:cubicBezTo>
                    <a:pt x="11250" y="19800"/>
                    <a:pt x="12938" y="17147"/>
                    <a:pt x="13613" y="16674"/>
                  </a:cubicBezTo>
                  <a:cubicBezTo>
                    <a:pt x="14287" y="16200"/>
                    <a:pt x="15300" y="14305"/>
                    <a:pt x="15300" y="14305"/>
                  </a:cubicBezTo>
                  <a:lnTo>
                    <a:pt x="15413" y="13074"/>
                  </a:lnTo>
                  <a:lnTo>
                    <a:pt x="16762" y="11937"/>
                  </a:lnTo>
                  <a:cubicBezTo>
                    <a:pt x="16762" y="11937"/>
                    <a:pt x="17100" y="8621"/>
                    <a:pt x="17212" y="8053"/>
                  </a:cubicBezTo>
                  <a:cubicBezTo>
                    <a:pt x="17325" y="7484"/>
                    <a:pt x="18000" y="6347"/>
                    <a:pt x="18112" y="6158"/>
                  </a:cubicBezTo>
                  <a:cubicBezTo>
                    <a:pt x="18225" y="5968"/>
                    <a:pt x="18338" y="4737"/>
                    <a:pt x="18225" y="4263"/>
                  </a:cubicBezTo>
                  <a:cubicBezTo>
                    <a:pt x="18112" y="3789"/>
                    <a:pt x="18113" y="3032"/>
                    <a:pt x="18450" y="2842"/>
                  </a:cubicBezTo>
                  <a:cubicBezTo>
                    <a:pt x="18787" y="2653"/>
                    <a:pt x="20025" y="1895"/>
                    <a:pt x="20025" y="1895"/>
                  </a:cubicBezTo>
                  <a:lnTo>
                    <a:pt x="20812" y="1232"/>
                  </a:lnTo>
                  <a:lnTo>
                    <a:pt x="21375" y="663"/>
                  </a:lnTo>
                  <a:lnTo>
                    <a:pt x="21600" y="95"/>
                  </a:lnTo>
                  <a:lnTo>
                    <a:pt x="0" y="0"/>
                  </a:lnTo>
                  <a:close/>
                  <a:moveTo>
                    <a:pt x="0" y="0"/>
                  </a:moveTo>
                </a:path>
              </a:pathLst>
            </a:custGeom>
            <a:solidFill>
              <a:srgbClr val="2969a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43" name="AutoShape 7"/>
            <p:cNvSpPr/>
            <p:nvPr/>
          </p:nvSpPr>
          <p:spPr>
            <a:xfrm>
              <a:off x="14247720" y="5765400"/>
              <a:ext cx="1532880" cy="1833480"/>
            </a:xfrm>
            <a:custGeom>
              <a:avLst/>
              <a:gdLst/>
              <a:ahLst/>
              <a:rect l="l" t="t" r="r" b="b"/>
              <a:pathLst>
                <a:path w="21600" h="21600">
                  <a:moveTo>
                    <a:pt x="20000" y="1338"/>
                  </a:moveTo>
                  <a:lnTo>
                    <a:pt x="17486" y="2867"/>
                  </a:lnTo>
                  <a:cubicBezTo>
                    <a:pt x="17486" y="2867"/>
                    <a:pt x="16800" y="3058"/>
                    <a:pt x="16457" y="4970"/>
                  </a:cubicBezTo>
                  <a:cubicBezTo>
                    <a:pt x="16114" y="6881"/>
                    <a:pt x="15657" y="7264"/>
                    <a:pt x="15657" y="7455"/>
                  </a:cubicBezTo>
                  <a:cubicBezTo>
                    <a:pt x="15657" y="7646"/>
                    <a:pt x="14971" y="8028"/>
                    <a:pt x="14971" y="8028"/>
                  </a:cubicBezTo>
                  <a:cubicBezTo>
                    <a:pt x="14971" y="8028"/>
                    <a:pt x="14971" y="10418"/>
                    <a:pt x="15086" y="10704"/>
                  </a:cubicBezTo>
                  <a:cubicBezTo>
                    <a:pt x="15200" y="10991"/>
                    <a:pt x="15886" y="12042"/>
                    <a:pt x="15086" y="13094"/>
                  </a:cubicBezTo>
                  <a:cubicBezTo>
                    <a:pt x="14286" y="14145"/>
                    <a:pt x="13486" y="14814"/>
                    <a:pt x="13486" y="14814"/>
                  </a:cubicBezTo>
                  <a:cubicBezTo>
                    <a:pt x="13486" y="14814"/>
                    <a:pt x="12800" y="15865"/>
                    <a:pt x="12686" y="16152"/>
                  </a:cubicBezTo>
                  <a:cubicBezTo>
                    <a:pt x="12571" y="16439"/>
                    <a:pt x="11771" y="17968"/>
                    <a:pt x="11771" y="17968"/>
                  </a:cubicBezTo>
                  <a:lnTo>
                    <a:pt x="10286" y="19593"/>
                  </a:lnTo>
                  <a:lnTo>
                    <a:pt x="10400" y="20549"/>
                  </a:lnTo>
                  <a:cubicBezTo>
                    <a:pt x="10400" y="20549"/>
                    <a:pt x="9829" y="19688"/>
                    <a:pt x="10286" y="18255"/>
                  </a:cubicBezTo>
                  <a:cubicBezTo>
                    <a:pt x="10743" y="16821"/>
                    <a:pt x="12114" y="14910"/>
                    <a:pt x="12114" y="14719"/>
                  </a:cubicBezTo>
                  <a:cubicBezTo>
                    <a:pt x="12114" y="14527"/>
                    <a:pt x="12800" y="12425"/>
                    <a:pt x="12800" y="12425"/>
                  </a:cubicBezTo>
                  <a:lnTo>
                    <a:pt x="12914" y="10800"/>
                  </a:lnTo>
                  <a:cubicBezTo>
                    <a:pt x="12914" y="10800"/>
                    <a:pt x="12800" y="9940"/>
                    <a:pt x="13143" y="9653"/>
                  </a:cubicBezTo>
                  <a:cubicBezTo>
                    <a:pt x="13486" y="9366"/>
                    <a:pt x="12571" y="8219"/>
                    <a:pt x="12571" y="8219"/>
                  </a:cubicBezTo>
                  <a:cubicBezTo>
                    <a:pt x="12571" y="8219"/>
                    <a:pt x="11657" y="7646"/>
                    <a:pt x="12343" y="6786"/>
                  </a:cubicBezTo>
                  <a:cubicBezTo>
                    <a:pt x="13029" y="5926"/>
                    <a:pt x="13600" y="5352"/>
                    <a:pt x="13829" y="5352"/>
                  </a:cubicBezTo>
                  <a:cubicBezTo>
                    <a:pt x="14057" y="5352"/>
                    <a:pt x="14971" y="4874"/>
                    <a:pt x="14971" y="4874"/>
                  </a:cubicBezTo>
                  <a:lnTo>
                    <a:pt x="15200" y="4396"/>
                  </a:lnTo>
                  <a:lnTo>
                    <a:pt x="13029" y="3632"/>
                  </a:lnTo>
                  <a:lnTo>
                    <a:pt x="13371" y="3058"/>
                  </a:lnTo>
                  <a:lnTo>
                    <a:pt x="14171" y="2772"/>
                  </a:lnTo>
                  <a:cubicBezTo>
                    <a:pt x="14171" y="2772"/>
                    <a:pt x="14171" y="1912"/>
                    <a:pt x="14400" y="1720"/>
                  </a:cubicBezTo>
                  <a:cubicBezTo>
                    <a:pt x="14629" y="1529"/>
                    <a:pt x="14629" y="860"/>
                    <a:pt x="14629" y="860"/>
                  </a:cubicBezTo>
                  <a:lnTo>
                    <a:pt x="13714" y="0"/>
                  </a:lnTo>
                  <a:cubicBezTo>
                    <a:pt x="13714" y="0"/>
                    <a:pt x="13143" y="2007"/>
                    <a:pt x="12686" y="2389"/>
                  </a:cubicBezTo>
                  <a:cubicBezTo>
                    <a:pt x="12229" y="2772"/>
                    <a:pt x="11543" y="3536"/>
                    <a:pt x="11543" y="3536"/>
                  </a:cubicBezTo>
                  <a:cubicBezTo>
                    <a:pt x="11543" y="3536"/>
                    <a:pt x="11543" y="4301"/>
                    <a:pt x="11657" y="4588"/>
                  </a:cubicBezTo>
                  <a:cubicBezTo>
                    <a:pt x="11771" y="4874"/>
                    <a:pt x="11314" y="5639"/>
                    <a:pt x="11200" y="6117"/>
                  </a:cubicBezTo>
                  <a:cubicBezTo>
                    <a:pt x="11086" y="6595"/>
                    <a:pt x="10971" y="7359"/>
                    <a:pt x="10971" y="7933"/>
                  </a:cubicBezTo>
                  <a:cubicBezTo>
                    <a:pt x="10971" y="8506"/>
                    <a:pt x="10629" y="8697"/>
                    <a:pt x="10971" y="10035"/>
                  </a:cubicBezTo>
                  <a:cubicBezTo>
                    <a:pt x="11314" y="11373"/>
                    <a:pt x="11086" y="12520"/>
                    <a:pt x="10971" y="12807"/>
                  </a:cubicBezTo>
                  <a:cubicBezTo>
                    <a:pt x="10857" y="13094"/>
                    <a:pt x="10857" y="13189"/>
                    <a:pt x="10857" y="13572"/>
                  </a:cubicBezTo>
                  <a:cubicBezTo>
                    <a:pt x="10857" y="13954"/>
                    <a:pt x="11086" y="14719"/>
                    <a:pt x="11086" y="14910"/>
                  </a:cubicBezTo>
                  <a:cubicBezTo>
                    <a:pt x="11086" y="15101"/>
                    <a:pt x="10629" y="15961"/>
                    <a:pt x="10514" y="16152"/>
                  </a:cubicBezTo>
                  <a:cubicBezTo>
                    <a:pt x="10400" y="16343"/>
                    <a:pt x="9257" y="19211"/>
                    <a:pt x="9257" y="19211"/>
                  </a:cubicBezTo>
                  <a:lnTo>
                    <a:pt x="8571" y="13476"/>
                  </a:lnTo>
                  <a:cubicBezTo>
                    <a:pt x="8571" y="13476"/>
                    <a:pt x="6286" y="11278"/>
                    <a:pt x="6171" y="11087"/>
                  </a:cubicBezTo>
                  <a:cubicBezTo>
                    <a:pt x="6057" y="10896"/>
                    <a:pt x="8114" y="10035"/>
                    <a:pt x="8914" y="9366"/>
                  </a:cubicBezTo>
                  <a:cubicBezTo>
                    <a:pt x="9714" y="8697"/>
                    <a:pt x="9143" y="8793"/>
                    <a:pt x="8686" y="7168"/>
                  </a:cubicBezTo>
                  <a:cubicBezTo>
                    <a:pt x="8229" y="5543"/>
                    <a:pt x="5943" y="5161"/>
                    <a:pt x="5943" y="5161"/>
                  </a:cubicBezTo>
                  <a:cubicBezTo>
                    <a:pt x="5943" y="5161"/>
                    <a:pt x="5029" y="4588"/>
                    <a:pt x="4914" y="4110"/>
                  </a:cubicBezTo>
                  <a:cubicBezTo>
                    <a:pt x="4800" y="3632"/>
                    <a:pt x="4229" y="1625"/>
                    <a:pt x="4229" y="1625"/>
                  </a:cubicBezTo>
                  <a:lnTo>
                    <a:pt x="7086" y="3727"/>
                  </a:lnTo>
                  <a:cubicBezTo>
                    <a:pt x="7086" y="3727"/>
                    <a:pt x="6057" y="1147"/>
                    <a:pt x="6514" y="573"/>
                  </a:cubicBezTo>
                  <a:cubicBezTo>
                    <a:pt x="6971" y="0"/>
                    <a:pt x="7657" y="478"/>
                    <a:pt x="7657" y="478"/>
                  </a:cubicBezTo>
                  <a:lnTo>
                    <a:pt x="8800" y="3058"/>
                  </a:lnTo>
                  <a:lnTo>
                    <a:pt x="9600" y="3919"/>
                  </a:lnTo>
                  <a:lnTo>
                    <a:pt x="9371" y="1338"/>
                  </a:lnTo>
                  <a:lnTo>
                    <a:pt x="9371" y="96"/>
                  </a:lnTo>
                  <a:lnTo>
                    <a:pt x="0" y="0"/>
                  </a:lnTo>
                  <a:cubicBezTo>
                    <a:pt x="0" y="0"/>
                    <a:pt x="914" y="956"/>
                    <a:pt x="1257" y="1720"/>
                  </a:cubicBezTo>
                  <a:cubicBezTo>
                    <a:pt x="1600" y="2485"/>
                    <a:pt x="3200" y="4588"/>
                    <a:pt x="3200" y="5161"/>
                  </a:cubicBezTo>
                  <a:cubicBezTo>
                    <a:pt x="3200" y="5735"/>
                    <a:pt x="3657" y="6786"/>
                    <a:pt x="4114" y="7742"/>
                  </a:cubicBezTo>
                  <a:cubicBezTo>
                    <a:pt x="4571" y="8697"/>
                    <a:pt x="4914" y="9749"/>
                    <a:pt x="4914" y="10322"/>
                  </a:cubicBezTo>
                  <a:cubicBezTo>
                    <a:pt x="4914" y="10896"/>
                    <a:pt x="4229" y="11851"/>
                    <a:pt x="4800" y="12425"/>
                  </a:cubicBezTo>
                  <a:cubicBezTo>
                    <a:pt x="5371" y="12998"/>
                    <a:pt x="5943" y="14432"/>
                    <a:pt x="6400" y="14719"/>
                  </a:cubicBezTo>
                  <a:cubicBezTo>
                    <a:pt x="6857" y="15005"/>
                    <a:pt x="6629" y="15292"/>
                    <a:pt x="6971" y="16439"/>
                  </a:cubicBezTo>
                  <a:cubicBezTo>
                    <a:pt x="7314" y="17586"/>
                    <a:pt x="7657" y="18542"/>
                    <a:pt x="8000" y="19115"/>
                  </a:cubicBezTo>
                  <a:cubicBezTo>
                    <a:pt x="8343" y="19688"/>
                    <a:pt x="10057" y="21600"/>
                    <a:pt x="10057" y="21600"/>
                  </a:cubicBezTo>
                  <a:cubicBezTo>
                    <a:pt x="10057" y="21600"/>
                    <a:pt x="15086" y="14910"/>
                    <a:pt x="15429" y="14336"/>
                  </a:cubicBezTo>
                  <a:cubicBezTo>
                    <a:pt x="15771" y="13763"/>
                    <a:pt x="15657" y="13094"/>
                    <a:pt x="15657" y="13094"/>
                  </a:cubicBezTo>
                  <a:lnTo>
                    <a:pt x="16457" y="11851"/>
                  </a:lnTo>
                  <a:lnTo>
                    <a:pt x="17371" y="9844"/>
                  </a:lnTo>
                  <a:cubicBezTo>
                    <a:pt x="17371" y="9844"/>
                    <a:pt x="17257" y="8506"/>
                    <a:pt x="17371" y="8028"/>
                  </a:cubicBezTo>
                  <a:cubicBezTo>
                    <a:pt x="17486" y="7550"/>
                    <a:pt x="18286" y="6117"/>
                    <a:pt x="18286" y="6117"/>
                  </a:cubicBezTo>
                  <a:lnTo>
                    <a:pt x="18400" y="2772"/>
                  </a:lnTo>
                  <a:lnTo>
                    <a:pt x="21029" y="956"/>
                  </a:lnTo>
                  <a:lnTo>
                    <a:pt x="21600" y="96"/>
                  </a:lnTo>
                  <a:lnTo>
                    <a:pt x="20000" y="1338"/>
                  </a:lnTo>
                  <a:close/>
                  <a:moveTo>
                    <a:pt x="20000" y="1338"/>
                  </a:moveTo>
                </a:path>
              </a:pathLst>
            </a:custGeom>
            <a:solidFill>
              <a:srgbClr val="65a0e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44" name="AutoShape 8"/>
            <p:cNvSpPr/>
            <p:nvPr/>
          </p:nvSpPr>
          <p:spPr>
            <a:xfrm>
              <a:off x="14231880" y="4780080"/>
              <a:ext cx="1564920" cy="1028520"/>
            </a:xfrm>
            <a:custGeom>
              <a:avLst/>
              <a:gdLst/>
              <a:ahLst/>
              <a:rect l="l" t="t" r="r" b="b"/>
              <a:pathLst>
                <a:path w="21495" h="21600">
                  <a:moveTo>
                    <a:pt x="118" y="21090"/>
                  </a:moveTo>
                  <a:cubicBezTo>
                    <a:pt x="118" y="21090"/>
                    <a:pt x="118" y="19389"/>
                    <a:pt x="6" y="19049"/>
                  </a:cubicBezTo>
                  <a:cubicBezTo>
                    <a:pt x="-105" y="18709"/>
                    <a:pt x="1231" y="17178"/>
                    <a:pt x="1231" y="17178"/>
                  </a:cubicBezTo>
                  <a:lnTo>
                    <a:pt x="1899" y="16498"/>
                  </a:lnTo>
                  <a:lnTo>
                    <a:pt x="1231" y="14967"/>
                  </a:lnTo>
                  <a:lnTo>
                    <a:pt x="2010" y="14287"/>
                  </a:lnTo>
                  <a:lnTo>
                    <a:pt x="3013" y="13436"/>
                  </a:lnTo>
                  <a:cubicBezTo>
                    <a:pt x="3013" y="13436"/>
                    <a:pt x="3347" y="12416"/>
                    <a:pt x="4794" y="11565"/>
                  </a:cubicBezTo>
                  <a:cubicBezTo>
                    <a:pt x="6241" y="10715"/>
                    <a:pt x="7132" y="9865"/>
                    <a:pt x="7132" y="9865"/>
                  </a:cubicBezTo>
                  <a:cubicBezTo>
                    <a:pt x="7132" y="9865"/>
                    <a:pt x="7577" y="9865"/>
                    <a:pt x="7911" y="8844"/>
                  </a:cubicBezTo>
                  <a:cubicBezTo>
                    <a:pt x="8246" y="7824"/>
                    <a:pt x="8357" y="7313"/>
                    <a:pt x="8357" y="6633"/>
                  </a:cubicBezTo>
                  <a:cubicBezTo>
                    <a:pt x="8357" y="5953"/>
                    <a:pt x="8023" y="5443"/>
                    <a:pt x="8580" y="4592"/>
                  </a:cubicBezTo>
                  <a:cubicBezTo>
                    <a:pt x="9136" y="3742"/>
                    <a:pt x="11697" y="0"/>
                    <a:pt x="11697" y="0"/>
                  </a:cubicBezTo>
                  <a:cubicBezTo>
                    <a:pt x="11697" y="0"/>
                    <a:pt x="11920" y="850"/>
                    <a:pt x="12476" y="1531"/>
                  </a:cubicBezTo>
                  <a:cubicBezTo>
                    <a:pt x="13033" y="2211"/>
                    <a:pt x="13256" y="2891"/>
                    <a:pt x="13256" y="3402"/>
                  </a:cubicBezTo>
                  <a:cubicBezTo>
                    <a:pt x="13256" y="3912"/>
                    <a:pt x="11920" y="2891"/>
                    <a:pt x="13367" y="4762"/>
                  </a:cubicBezTo>
                  <a:cubicBezTo>
                    <a:pt x="14815" y="6633"/>
                    <a:pt x="15037" y="7824"/>
                    <a:pt x="15149" y="8164"/>
                  </a:cubicBezTo>
                  <a:cubicBezTo>
                    <a:pt x="15260" y="8504"/>
                    <a:pt x="15149" y="9694"/>
                    <a:pt x="15483" y="10035"/>
                  </a:cubicBezTo>
                  <a:cubicBezTo>
                    <a:pt x="15817" y="10375"/>
                    <a:pt x="16930" y="11735"/>
                    <a:pt x="17153" y="11906"/>
                  </a:cubicBezTo>
                  <a:cubicBezTo>
                    <a:pt x="17375" y="12076"/>
                    <a:pt x="17709" y="14117"/>
                    <a:pt x="17709" y="14117"/>
                  </a:cubicBezTo>
                  <a:cubicBezTo>
                    <a:pt x="17709" y="14117"/>
                    <a:pt x="17932" y="14967"/>
                    <a:pt x="18155" y="15137"/>
                  </a:cubicBezTo>
                  <a:cubicBezTo>
                    <a:pt x="18377" y="15307"/>
                    <a:pt x="19602" y="15137"/>
                    <a:pt x="19602" y="15137"/>
                  </a:cubicBezTo>
                  <a:lnTo>
                    <a:pt x="20048" y="17008"/>
                  </a:lnTo>
                  <a:cubicBezTo>
                    <a:pt x="20048" y="17008"/>
                    <a:pt x="20048" y="18709"/>
                    <a:pt x="20382" y="18879"/>
                  </a:cubicBezTo>
                  <a:cubicBezTo>
                    <a:pt x="20716" y="19049"/>
                    <a:pt x="21384" y="19729"/>
                    <a:pt x="21384" y="20239"/>
                  </a:cubicBezTo>
                  <a:cubicBezTo>
                    <a:pt x="21384" y="20750"/>
                    <a:pt x="21495" y="21600"/>
                    <a:pt x="21495" y="21600"/>
                  </a:cubicBezTo>
                  <a:lnTo>
                    <a:pt x="118" y="21090"/>
                  </a:lnTo>
                  <a:close/>
                  <a:moveTo>
                    <a:pt x="118" y="21090"/>
                  </a:moveTo>
                </a:path>
              </a:pathLst>
            </a:custGeom>
            <a:solidFill>
              <a:srgbClr val="8ba1bf"/>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45" name="AutoShape 9"/>
            <p:cNvSpPr/>
            <p:nvPr/>
          </p:nvSpPr>
          <p:spPr>
            <a:xfrm>
              <a:off x="14247720" y="4829040"/>
              <a:ext cx="1045440" cy="964800"/>
            </a:xfrm>
            <a:custGeom>
              <a:avLst/>
              <a:gdLst/>
              <a:ahLst/>
              <a:rect l="l" t="t" r="r" b="b"/>
              <a:pathLst>
                <a:path w="21600" h="21600">
                  <a:moveTo>
                    <a:pt x="16912" y="0"/>
                  </a:moveTo>
                  <a:lnTo>
                    <a:pt x="14735" y="3812"/>
                  </a:lnTo>
                  <a:lnTo>
                    <a:pt x="16577" y="2723"/>
                  </a:lnTo>
                  <a:cubicBezTo>
                    <a:pt x="16577" y="2723"/>
                    <a:pt x="16409" y="5808"/>
                    <a:pt x="15740" y="6171"/>
                  </a:cubicBezTo>
                  <a:cubicBezTo>
                    <a:pt x="15070" y="6534"/>
                    <a:pt x="17581" y="6353"/>
                    <a:pt x="17581" y="8168"/>
                  </a:cubicBezTo>
                  <a:cubicBezTo>
                    <a:pt x="17581" y="9983"/>
                    <a:pt x="17581" y="11072"/>
                    <a:pt x="16409" y="12706"/>
                  </a:cubicBezTo>
                  <a:cubicBezTo>
                    <a:pt x="15237" y="14339"/>
                    <a:pt x="17749" y="15973"/>
                    <a:pt x="17749" y="15973"/>
                  </a:cubicBezTo>
                  <a:lnTo>
                    <a:pt x="15740" y="16881"/>
                  </a:lnTo>
                  <a:lnTo>
                    <a:pt x="14065" y="16881"/>
                  </a:lnTo>
                  <a:cubicBezTo>
                    <a:pt x="14065" y="16881"/>
                    <a:pt x="13228" y="17788"/>
                    <a:pt x="15070" y="18151"/>
                  </a:cubicBezTo>
                  <a:cubicBezTo>
                    <a:pt x="16912" y="18514"/>
                    <a:pt x="17916" y="18333"/>
                    <a:pt x="18753" y="18696"/>
                  </a:cubicBezTo>
                  <a:cubicBezTo>
                    <a:pt x="19591" y="19059"/>
                    <a:pt x="20930" y="20511"/>
                    <a:pt x="20930" y="20511"/>
                  </a:cubicBezTo>
                  <a:lnTo>
                    <a:pt x="21600" y="21600"/>
                  </a:lnTo>
                  <a:lnTo>
                    <a:pt x="0" y="21418"/>
                  </a:lnTo>
                  <a:lnTo>
                    <a:pt x="167" y="18696"/>
                  </a:lnTo>
                  <a:lnTo>
                    <a:pt x="2512" y="16881"/>
                  </a:lnTo>
                  <a:lnTo>
                    <a:pt x="1842" y="15066"/>
                  </a:lnTo>
                  <a:lnTo>
                    <a:pt x="4186" y="14158"/>
                  </a:lnTo>
                  <a:lnTo>
                    <a:pt x="5693" y="12161"/>
                  </a:lnTo>
                  <a:lnTo>
                    <a:pt x="8037" y="10891"/>
                  </a:lnTo>
                  <a:lnTo>
                    <a:pt x="11553" y="9439"/>
                  </a:lnTo>
                  <a:lnTo>
                    <a:pt x="12223" y="7442"/>
                  </a:lnTo>
                  <a:lnTo>
                    <a:pt x="12223" y="5264"/>
                  </a:lnTo>
                  <a:lnTo>
                    <a:pt x="12223" y="4175"/>
                  </a:lnTo>
                  <a:lnTo>
                    <a:pt x="16912" y="0"/>
                  </a:lnTo>
                  <a:close/>
                  <a:moveTo>
                    <a:pt x="16912" y="0"/>
                  </a:moveTo>
                </a:path>
              </a:pathLst>
            </a:custGeom>
            <a:solidFill>
              <a:srgbClr val="fffef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646" name="Group 15"/>
          <p:cNvGrpSpPr/>
          <p:nvPr/>
        </p:nvGrpSpPr>
        <p:grpSpPr>
          <a:xfrm>
            <a:off x="20712240" y="4957920"/>
            <a:ext cx="1026720" cy="1866240"/>
            <a:chOff x="20712240" y="4957920"/>
            <a:chExt cx="1026720" cy="1866240"/>
          </a:xfrm>
        </p:grpSpPr>
        <p:sp>
          <p:nvSpPr>
            <p:cNvPr id="647" name="AutoShape 11"/>
            <p:cNvSpPr/>
            <p:nvPr/>
          </p:nvSpPr>
          <p:spPr>
            <a:xfrm>
              <a:off x="20716920" y="5609880"/>
              <a:ext cx="1022040" cy="1214280"/>
            </a:xfrm>
            <a:custGeom>
              <a:avLst/>
              <a:gdLst/>
              <a:ahLst/>
              <a:rect l="l" t="t" r="r" b="b"/>
              <a:pathLst>
                <a:path w="21600" h="21600">
                  <a:moveTo>
                    <a:pt x="0" y="0"/>
                  </a:moveTo>
                  <a:lnTo>
                    <a:pt x="563" y="1137"/>
                  </a:lnTo>
                  <a:cubicBezTo>
                    <a:pt x="563" y="1137"/>
                    <a:pt x="787" y="2274"/>
                    <a:pt x="1350" y="2463"/>
                  </a:cubicBezTo>
                  <a:cubicBezTo>
                    <a:pt x="1912" y="2653"/>
                    <a:pt x="3262" y="5211"/>
                    <a:pt x="3262" y="5211"/>
                  </a:cubicBezTo>
                  <a:lnTo>
                    <a:pt x="3488" y="6821"/>
                  </a:lnTo>
                  <a:cubicBezTo>
                    <a:pt x="3488" y="6821"/>
                    <a:pt x="3375" y="7295"/>
                    <a:pt x="3825" y="7768"/>
                  </a:cubicBezTo>
                  <a:cubicBezTo>
                    <a:pt x="4275" y="8242"/>
                    <a:pt x="4837" y="9000"/>
                    <a:pt x="4837" y="9284"/>
                  </a:cubicBezTo>
                  <a:cubicBezTo>
                    <a:pt x="4837" y="9568"/>
                    <a:pt x="4500" y="10705"/>
                    <a:pt x="4387" y="10895"/>
                  </a:cubicBezTo>
                  <a:cubicBezTo>
                    <a:pt x="4275" y="11084"/>
                    <a:pt x="4388" y="12316"/>
                    <a:pt x="5175" y="13074"/>
                  </a:cubicBezTo>
                  <a:cubicBezTo>
                    <a:pt x="5962" y="13832"/>
                    <a:pt x="6525" y="14495"/>
                    <a:pt x="6525" y="14684"/>
                  </a:cubicBezTo>
                  <a:cubicBezTo>
                    <a:pt x="6525" y="14874"/>
                    <a:pt x="6525" y="15821"/>
                    <a:pt x="6525" y="16105"/>
                  </a:cubicBezTo>
                  <a:cubicBezTo>
                    <a:pt x="6525" y="16389"/>
                    <a:pt x="6637" y="16674"/>
                    <a:pt x="7200" y="17811"/>
                  </a:cubicBezTo>
                  <a:cubicBezTo>
                    <a:pt x="7762" y="18947"/>
                    <a:pt x="8550" y="19895"/>
                    <a:pt x="8775" y="20274"/>
                  </a:cubicBezTo>
                  <a:cubicBezTo>
                    <a:pt x="9000" y="20653"/>
                    <a:pt x="10125" y="21600"/>
                    <a:pt x="10125" y="21600"/>
                  </a:cubicBezTo>
                  <a:lnTo>
                    <a:pt x="11250" y="19800"/>
                  </a:lnTo>
                  <a:cubicBezTo>
                    <a:pt x="11250" y="19800"/>
                    <a:pt x="12938" y="17147"/>
                    <a:pt x="13612" y="16674"/>
                  </a:cubicBezTo>
                  <a:cubicBezTo>
                    <a:pt x="14287" y="16200"/>
                    <a:pt x="15300" y="14305"/>
                    <a:pt x="15300" y="14305"/>
                  </a:cubicBezTo>
                  <a:lnTo>
                    <a:pt x="15413" y="13074"/>
                  </a:lnTo>
                  <a:lnTo>
                    <a:pt x="16762" y="11937"/>
                  </a:lnTo>
                  <a:cubicBezTo>
                    <a:pt x="16762" y="11937"/>
                    <a:pt x="17100" y="8621"/>
                    <a:pt x="17212" y="8053"/>
                  </a:cubicBezTo>
                  <a:cubicBezTo>
                    <a:pt x="17325" y="7484"/>
                    <a:pt x="18000" y="6347"/>
                    <a:pt x="18113" y="6158"/>
                  </a:cubicBezTo>
                  <a:cubicBezTo>
                    <a:pt x="18225" y="5968"/>
                    <a:pt x="18338" y="4737"/>
                    <a:pt x="18225" y="4263"/>
                  </a:cubicBezTo>
                  <a:cubicBezTo>
                    <a:pt x="18113" y="3789"/>
                    <a:pt x="18113" y="3032"/>
                    <a:pt x="18450" y="2842"/>
                  </a:cubicBezTo>
                  <a:cubicBezTo>
                    <a:pt x="18787" y="2653"/>
                    <a:pt x="20025" y="1895"/>
                    <a:pt x="20025" y="1895"/>
                  </a:cubicBezTo>
                  <a:lnTo>
                    <a:pt x="20812" y="1232"/>
                  </a:lnTo>
                  <a:lnTo>
                    <a:pt x="21375" y="663"/>
                  </a:lnTo>
                  <a:lnTo>
                    <a:pt x="21600" y="95"/>
                  </a:lnTo>
                  <a:lnTo>
                    <a:pt x="0" y="0"/>
                  </a:lnTo>
                  <a:close/>
                  <a:moveTo>
                    <a:pt x="0" y="0"/>
                  </a:moveTo>
                </a:path>
              </a:pathLst>
            </a:custGeom>
            <a:solidFill>
              <a:srgbClr val="2969a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48" name="AutoShape 12"/>
            <p:cNvSpPr/>
            <p:nvPr/>
          </p:nvSpPr>
          <p:spPr>
            <a:xfrm>
              <a:off x="20721600" y="5605200"/>
              <a:ext cx="1006200" cy="1203120"/>
            </a:xfrm>
            <a:custGeom>
              <a:avLst/>
              <a:gdLst/>
              <a:ahLst/>
              <a:rect l="l" t="t" r="r" b="b"/>
              <a:pathLst>
                <a:path w="21600" h="21600">
                  <a:moveTo>
                    <a:pt x="20000" y="1338"/>
                  </a:moveTo>
                  <a:lnTo>
                    <a:pt x="17486" y="2867"/>
                  </a:lnTo>
                  <a:cubicBezTo>
                    <a:pt x="17486" y="2867"/>
                    <a:pt x="16800" y="3058"/>
                    <a:pt x="16457" y="4970"/>
                  </a:cubicBezTo>
                  <a:cubicBezTo>
                    <a:pt x="16114" y="6881"/>
                    <a:pt x="15657" y="7264"/>
                    <a:pt x="15657" y="7455"/>
                  </a:cubicBezTo>
                  <a:cubicBezTo>
                    <a:pt x="15657" y="7646"/>
                    <a:pt x="14971" y="8028"/>
                    <a:pt x="14971" y="8028"/>
                  </a:cubicBezTo>
                  <a:cubicBezTo>
                    <a:pt x="14971" y="8028"/>
                    <a:pt x="14971" y="10418"/>
                    <a:pt x="15086" y="10704"/>
                  </a:cubicBezTo>
                  <a:cubicBezTo>
                    <a:pt x="15200" y="10991"/>
                    <a:pt x="15886" y="12042"/>
                    <a:pt x="15086" y="13094"/>
                  </a:cubicBezTo>
                  <a:cubicBezTo>
                    <a:pt x="14286" y="14145"/>
                    <a:pt x="13486" y="14814"/>
                    <a:pt x="13486" y="14814"/>
                  </a:cubicBezTo>
                  <a:cubicBezTo>
                    <a:pt x="13486" y="14814"/>
                    <a:pt x="12800" y="15865"/>
                    <a:pt x="12686" y="16152"/>
                  </a:cubicBezTo>
                  <a:cubicBezTo>
                    <a:pt x="12571" y="16439"/>
                    <a:pt x="11771" y="17968"/>
                    <a:pt x="11771" y="17968"/>
                  </a:cubicBezTo>
                  <a:lnTo>
                    <a:pt x="10286" y="19593"/>
                  </a:lnTo>
                  <a:lnTo>
                    <a:pt x="10400" y="20549"/>
                  </a:lnTo>
                  <a:cubicBezTo>
                    <a:pt x="10400" y="20549"/>
                    <a:pt x="9829" y="19688"/>
                    <a:pt x="10286" y="18255"/>
                  </a:cubicBezTo>
                  <a:cubicBezTo>
                    <a:pt x="10743" y="16821"/>
                    <a:pt x="12114" y="14910"/>
                    <a:pt x="12114" y="14719"/>
                  </a:cubicBezTo>
                  <a:cubicBezTo>
                    <a:pt x="12114" y="14527"/>
                    <a:pt x="12800" y="12425"/>
                    <a:pt x="12800" y="12425"/>
                  </a:cubicBezTo>
                  <a:lnTo>
                    <a:pt x="12914" y="10800"/>
                  </a:lnTo>
                  <a:cubicBezTo>
                    <a:pt x="12914" y="10800"/>
                    <a:pt x="12800" y="9940"/>
                    <a:pt x="13143" y="9653"/>
                  </a:cubicBezTo>
                  <a:cubicBezTo>
                    <a:pt x="13486" y="9366"/>
                    <a:pt x="12571" y="8219"/>
                    <a:pt x="12571" y="8219"/>
                  </a:cubicBezTo>
                  <a:cubicBezTo>
                    <a:pt x="12571" y="8219"/>
                    <a:pt x="11657" y="7646"/>
                    <a:pt x="12343" y="6786"/>
                  </a:cubicBezTo>
                  <a:cubicBezTo>
                    <a:pt x="13029" y="5926"/>
                    <a:pt x="13600" y="5352"/>
                    <a:pt x="13829" y="5352"/>
                  </a:cubicBezTo>
                  <a:cubicBezTo>
                    <a:pt x="14057" y="5352"/>
                    <a:pt x="14971" y="4874"/>
                    <a:pt x="14971" y="4874"/>
                  </a:cubicBezTo>
                  <a:lnTo>
                    <a:pt x="15200" y="4396"/>
                  </a:lnTo>
                  <a:lnTo>
                    <a:pt x="13029" y="3632"/>
                  </a:lnTo>
                  <a:lnTo>
                    <a:pt x="13371" y="3058"/>
                  </a:lnTo>
                  <a:lnTo>
                    <a:pt x="14171" y="2772"/>
                  </a:lnTo>
                  <a:cubicBezTo>
                    <a:pt x="14171" y="2772"/>
                    <a:pt x="14171" y="1911"/>
                    <a:pt x="14400" y="1720"/>
                  </a:cubicBezTo>
                  <a:cubicBezTo>
                    <a:pt x="14629" y="1529"/>
                    <a:pt x="14629" y="860"/>
                    <a:pt x="14629" y="860"/>
                  </a:cubicBezTo>
                  <a:lnTo>
                    <a:pt x="13714" y="0"/>
                  </a:lnTo>
                  <a:cubicBezTo>
                    <a:pt x="13714" y="0"/>
                    <a:pt x="13143" y="2007"/>
                    <a:pt x="12686" y="2389"/>
                  </a:cubicBezTo>
                  <a:cubicBezTo>
                    <a:pt x="12229" y="2772"/>
                    <a:pt x="11543" y="3536"/>
                    <a:pt x="11543" y="3536"/>
                  </a:cubicBezTo>
                  <a:cubicBezTo>
                    <a:pt x="11543" y="3536"/>
                    <a:pt x="11543" y="4301"/>
                    <a:pt x="11657" y="4588"/>
                  </a:cubicBezTo>
                  <a:cubicBezTo>
                    <a:pt x="11771" y="4874"/>
                    <a:pt x="11314" y="5639"/>
                    <a:pt x="11200" y="6117"/>
                  </a:cubicBezTo>
                  <a:cubicBezTo>
                    <a:pt x="11086" y="6595"/>
                    <a:pt x="10971" y="7359"/>
                    <a:pt x="10971" y="7933"/>
                  </a:cubicBezTo>
                  <a:cubicBezTo>
                    <a:pt x="10971" y="8506"/>
                    <a:pt x="10629" y="8697"/>
                    <a:pt x="10971" y="10035"/>
                  </a:cubicBezTo>
                  <a:cubicBezTo>
                    <a:pt x="11314" y="11373"/>
                    <a:pt x="11086" y="12520"/>
                    <a:pt x="10971" y="12807"/>
                  </a:cubicBezTo>
                  <a:cubicBezTo>
                    <a:pt x="10857" y="13094"/>
                    <a:pt x="10857" y="13189"/>
                    <a:pt x="10857" y="13572"/>
                  </a:cubicBezTo>
                  <a:cubicBezTo>
                    <a:pt x="10857" y="13954"/>
                    <a:pt x="11086" y="14719"/>
                    <a:pt x="11086" y="14910"/>
                  </a:cubicBezTo>
                  <a:cubicBezTo>
                    <a:pt x="11086" y="15101"/>
                    <a:pt x="10629" y="15961"/>
                    <a:pt x="10514" y="16152"/>
                  </a:cubicBezTo>
                  <a:cubicBezTo>
                    <a:pt x="10400" y="16343"/>
                    <a:pt x="9257" y="19211"/>
                    <a:pt x="9257" y="19211"/>
                  </a:cubicBezTo>
                  <a:lnTo>
                    <a:pt x="8571" y="13476"/>
                  </a:lnTo>
                  <a:cubicBezTo>
                    <a:pt x="8571" y="13476"/>
                    <a:pt x="6286" y="11278"/>
                    <a:pt x="6171" y="11087"/>
                  </a:cubicBezTo>
                  <a:cubicBezTo>
                    <a:pt x="6057" y="10896"/>
                    <a:pt x="8114" y="10035"/>
                    <a:pt x="8914" y="9366"/>
                  </a:cubicBezTo>
                  <a:cubicBezTo>
                    <a:pt x="9714" y="8697"/>
                    <a:pt x="9143" y="8793"/>
                    <a:pt x="8686" y="7168"/>
                  </a:cubicBezTo>
                  <a:cubicBezTo>
                    <a:pt x="8229" y="5543"/>
                    <a:pt x="5943" y="5161"/>
                    <a:pt x="5943" y="5161"/>
                  </a:cubicBezTo>
                  <a:cubicBezTo>
                    <a:pt x="5943" y="5161"/>
                    <a:pt x="5029" y="4588"/>
                    <a:pt x="4914" y="4110"/>
                  </a:cubicBezTo>
                  <a:cubicBezTo>
                    <a:pt x="4800" y="3632"/>
                    <a:pt x="4229" y="1625"/>
                    <a:pt x="4229" y="1625"/>
                  </a:cubicBezTo>
                  <a:lnTo>
                    <a:pt x="7086" y="3727"/>
                  </a:lnTo>
                  <a:cubicBezTo>
                    <a:pt x="7086" y="3727"/>
                    <a:pt x="6057" y="1147"/>
                    <a:pt x="6514" y="573"/>
                  </a:cubicBezTo>
                  <a:cubicBezTo>
                    <a:pt x="6971" y="0"/>
                    <a:pt x="7657" y="478"/>
                    <a:pt x="7657" y="478"/>
                  </a:cubicBezTo>
                  <a:lnTo>
                    <a:pt x="8800" y="3058"/>
                  </a:lnTo>
                  <a:lnTo>
                    <a:pt x="9600" y="3919"/>
                  </a:lnTo>
                  <a:lnTo>
                    <a:pt x="9371" y="1338"/>
                  </a:lnTo>
                  <a:lnTo>
                    <a:pt x="9371" y="96"/>
                  </a:lnTo>
                  <a:lnTo>
                    <a:pt x="0" y="0"/>
                  </a:lnTo>
                  <a:cubicBezTo>
                    <a:pt x="0" y="0"/>
                    <a:pt x="914" y="956"/>
                    <a:pt x="1257" y="1720"/>
                  </a:cubicBezTo>
                  <a:cubicBezTo>
                    <a:pt x="1600" y="2485"/>
                    <a:pt x="3200" y="4588"/>
                    <a:pt x="3200" y="5161"/>
                  </a:cubicBezTo>
                  <a:cubicBezTo>
                    <a:pt x="3200" y="5735"/>
                    <a:pt x="3657" y="6786"/>
                    <a:pt x="4114" y="7742"/>
                  </a:cubicBezTo>
                  <a:cubicBezTo>
                    <a:pt x="4571" y="8697"/>
                    <a:pt x="4914" y="9749"/>
                    <a:pt x="4914" y="10322"/>
                  </a:cubicBezTo>
                  <a:cubicBezTo>
                    <a:pt x="4914" y="10896"/>
                    <a:pt x="4229" y="11851"/>
                    <a:pt x="4800" y="12425"/>
                  </a:cubicBezTo>
                  <a:cubicBezTo>
                    <a:pt x="5371" y="12998"/>
                    <a:pt x="5943" y="14432"/>
                    <a:pt x="6400" y="14719"/>
                  </a:cubicBezTo>
                  <a:cubicBezTo>
                    <a:pt x="6857" y="15005"/>
                    <a:pt x="6629" y="15292"/>
                    <a:pt x="6971" y="16439"/>
                  </a:cubicBezTo>
                  <a:cubicBezTo>
                    <a:pt x="7314" y="17586"/>
                    <a:pt x="7657" y="18542"/>
                    <a:pt x="8000" y="19115"/>
                  </a:cubicBezTo>
                  <a:cubicBezTo>
                    <a:pt x="8343" y="19688"/>
                    <a:pt x="10057" y="21600"/>
                    <a:pt x="10057" y="21600"/>
                  </a:cubicBezTo>
                  <a:cubicBezTo>
                    <a:pt x="10057" y="21600"/>
                    <a:pt x="15086" y="14910"/>
                    <a:pt x="15429" y="14336"/>
                  </a:cubicBezTo>
                  <a:cubicBezTo>
                    <a:pt x="15771" y="13763"/>
                    <a:pt x="15657" y="13094"/>
                    <a:pt x="15657" y="13094"/>
                  </a:cubicBezTo>
                  <a:lnTo>
                    <a:pt x="16457" y="11851"/>
                  </a:lnTo>
                  <a:lnTo>
                    <a:pt x="17371" y="9844"/>
                  </a:lnTo>
                  <a:cubicBezTo>
                    <a:pt x="17371" y="9844"/>
                    <a:pt x="17257" y="8506"/>
                    <a:pt x="17371" y="8028"/>
                  </a:cubicBezTo>
                  <a:cubicBezTo>
                    <a:pt x="17486" y="7550"/>
                    <a:pt x="18286" y="6117"/>
                    <a:pt x="18286" y="6117"/>
                  </a:cubicBezTo>
                  <a:lnTo>
                    <a:pt x="18400" y="2772"/>
                  </a:lnTo>
                  <a:lnTo>
                    <a:pt x="21029" y="956"/>
                  </a:lnTo>
                  <a:lnTo>
                    <a:pt x="21600" y="96"/>
                  </a:lnTo>
                  <a:lnTo>
                    <a:pt x="20000" y="1338"/>
                  </a:lnTo>
                  <a:close/>
                  <a:moveTo>
                    <a:pt x="20000" y="1338"/>
                  </a:moveTo>
                </a:path>
              </a:pathLst>
            </a:custGeom>
            <a:solidFill>
              <a:srgbClr val="65a0e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49" name="AutoShape 13"/>
            <p:cNvSpPr/>
            <p:nvPr/>
          </p:nvSpPr>
          <p:spPr>
            <a:xfrm>
              <a:off x="20712240" y="4957920"/>
              <a:ext cx="1026720" cy="676080"/>
            </a:xfrm>
            <a:custGeom>
              <a:avLst/>
              <a:gdLst/>
              <a:ahLst/>
              <a:rect l="l" t="t" r="r" b="b"/>
              <a:pathLst>
                <a:path w="21495" h="21600">
                  <a:moveTo>
                    <a:pt x="118" y="21090"/>
                  </a:moveTo>
                  <a:cubicBezTo>
                    <a:pt x="118" y="21090"/>
                    <a:pt x="118" y="19389"/>
                    <a:pt x="6" y="19049"/>
                  </a:cubicBezTo>
                  <a:cubicBezTo>
                    <a:pt x="-105" y="18709"/>
                    <a:pt x="1231" y="17178"/>
                    <a:pt x="1231" y="17178"/>
                  </a:cubicBezTo>
                  <a:lnTo>
                    <a:pt x="1899" y="16498"/>
                  </a:lnTo>
                  <a:lnTo>
                    <a:pt x="1231" y="14967"/>
                  </a:lnTo>
                  <a:lnTo>
                    <a:pt x="2010" y="14287"/>
                  </a:lnTo>
                  <a:lnTo>
                    <a:pt x="3013" y="13436"/>
                  </a:lnTo>
                  <a:cubicBezTo>
                    <a:pt x="3013" y="13436"/>
                    <a:pt x="3347" y="12416"/>
                    <a:pt x="4794" y="11565"/>
                  </a:cubicBezTo>
                  <a:cubicBezTo>
                    <a:pt x="6241" y="10715"/>
                    <a:pt x="7132" y="9865"/>
                    <a:pt x="7132" y="9865"/>
                  </a:cubicBezTo>
                  <a:cubicBezTo>
                    <a:pt x="7132" y="9865"/>
                    <a:pt x="7577" y="9865"/>
                    <a:pt x="7911" y="8844"/>
                  </a:cubicBezTo>
                  <a:cubicBezTo>
                    <a:pt x="8246" y="7824"/>
                    <a:pt x="8357" y="7313"/>
                    <a:pt x="8357" y="6633"/>
                  </a:cubicBezTo>
                  <a:cubicBezTo>
                    <a:pt x="8357" y="5953"/>
                    <a:pt x="8023" y="5443"/>
                    <a:pt x="8580" y="4592"/>
                  </a:cubicBezTo>
                  <a:cubicBezTo>
                    <a:pt x="9136" y="3742"/>
                    <a:pt x="11697" y="0"/>
                    <a:pt x="11697" y="0"/>
                  </a:cubicBezTo>
                  <a:cubicBezTo>
                    <a:pt x="11697" y="0"/>
                    <a:pt x="11920" y="850"/>
                    <a:pt x="12476" y="1531"/>
                  </a:cubicBezTo>
                  <a:cubicBezTo>
                    <a:pt x="13033" y="2211"/>
                    <a:pt x="13256" y="2891"/>
                    <a:pt x="13256" y="3402"/>
                  </a:cubicBezTo>
                  <a:cubicBezTo>
                    <a:pt x="13256" y="3912"/>
                    <a:pt x="11920" y="2891"/>
                    <a:pt x="13367" y="4762"/>
                  </a:cubicBezTo>
                  <a:cubicBezTo>
                    <a:pt x="14815" y="6633"/>
                    <a:pt x="15037" y="7824"/>
                    <a:pt x="15149" y="8164"/>
                  </a:cubicBezTo>
                  <a:cubicBezTo>
                    <a:pt x="15260" y="8504"/>
                    <a:pt x="15149" y="9694"/>
                    <a:pt x="15483" y="10035"/>
                  </a:cubicBezTo>
                  <a:cubicBezTo>
                    <a:pt x="15817" y="10375"/>
                    <a:pt x="16930" y="11735"/>
                    <a:pt x="17153" y="11906"/>
                  </a:cubicBezTo>
                  <a:cubicBezTo>
                    <a:pt x="17375" y="12076"/>
                    <a:pt x="17709" y="14117"/>
                    <a:pt x="17709" y="14117"/>
                  </a:cubicBezTo>
                  <a:cubicBezTo>
                    <a:pt x="17709" y="14117"/>
                    <a:pt x="17932" y="14967"/>
                    <a:pt x="18155" y="15137"/>
                  </a:cubicBezTo>
                  <a:cubicBezTo>
                    <a:pt x="18377" y="15307"/>
                    <a:pt x="19602" y="15137"/>
                    <a:pt x="19602" y="15137"/>
                  </a:cubicBezTo>
                  <a:lnTo>
                    <a:pt x="20048" y="17008"/>
                  </a:lnTo>
                  <a:cubicBezTo>
                    <a:pt x="20048" y="17008"/>
                    <a:pt x="20048" y="18709"/>
                    <a:pt x="20382" y="18879"/>
                  </a:cubicBezTo>
                  <a:cubicBezTo>
                    <a:pt x="20716" y="19049"/>
                    <a:pt x="21384" y="19729"/>
                    <a:pt x="21384" y="20239"/>
                  </a:cubicBezTo>
                  <a:cubicBezTo>
                    <a:pt x="21384" y="20750"/>
                    <a:pt x="21495" y="21600"/>
                    <a:pt x="21495" y="21600"/>
                  </a:cubicBezTo>
                  <a:lnTo>
                    <a:pt x="118" y="21090"/>
                  </a:lnTo>
                  <a:close/>
                  <a:moveTo>
                    <a:pt x="118" y="21090"/>
                  </a:moveTo>
                </a:path>
              </a:pathLst>
            </a:custGeom>
            <a:solidFill>
              <a:srgbClr val="8ba1bf"/>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50" name="AutoShape 14"/>
            <p:cNvSpPr/>
            <p:nvPr/>
          </p:nvSpPr>
          <p:spPr>
            <a:xfrm>
              <a:off x="20721600" y="4989240"/>
              <a:ext cx="686520" cy="633240"/>
            </a:xfrm>
            <a:custGeom>
              <a:avLst/>
              <a:gdLst/>
              <a:ahLst/>
              <a:rect l="l" t="t" r="r" b="b"/>
              <a:pathLst>
                <a:path w="21600" h="21600">
                  <a:moveTo>
                    <a:pt x="16912" y="0"/>
                  </a:moveTo>
                  <a:lnTo>
                    <a:pt x="14735" y="3812"/>
                  </a:lnTo>
                  <a:lnTo>
                    <a:pt x="16577" y="2723"/>
                  </a:lnTo>
                  <a:cubicBezTo>
                    <a:pt x="16577" y="2723"/>
                    <a:pt x="16409" y="5808"/>
                    <a:pt x="15740" y="6171"/>
                  </a:cubicBezTo>
                  <a:cubicBezTo>
                    <a:pt x="15070" y="6534"/>
                    <a:pt x="17581" y="6353"/>
                    <a:pt x="17581" y="8168"/>
                  </a:cubicBezTo>
                  <a:cubicBezTo>
                    <a:pt x="17581" y="9983"/>
                    <a:pt x="17581" y="11072"/>
                    <a:pt x="16409" y="12706"/>
                  </a:cubicBezTo>
                  <a:cubicBezTo>
                    <a:pt x="15237" y="14339"/>
                    <a:pt x="17749" y="15973"/>
                    <a:pt x="17749" y="15973"/>
                  </a:cubicBezTo>
                  <a:lnTo>
                    <a:pt x="15740" y="16881"/>
                  </a:lnTo>
                  <a:lnTo>
                    <a:pt x="14065" y="16881"/>
                  </a:lnTo>
                  <a:cubicBezTo>
                    <a:pt x="14065" y="16881"/>
                    <a:pt x="13228" y="17788"/>
                    <a:pt x="15070" y="18151"/>
                  </a:cubicBezTo>
                  <a:cubicBezTo>
                    <a:pt x="16912" y="18514"/>
                    <a:pt x="17916" y="18333"/>
                    <a:pt x="18753" y="18696"/>
                  </a:cubicBezTo>
                  <a:cubicBezTo>
                    <a:pt x="19591" y="19059"/>
                    <a:pt x="20930" y="20511"/>
                    <a:pt x="20930" y="20511"/>
                  </a:cubicBezTo>
                  <a:lnTo>
                    <a:pt x="21600" y="21600"/>
                  </a:lnTo>
                  <a:lnTo>
                    <a:pt x="0" y="21418"/>
                  </a:lnTo>
                  <a:lnTo>
                    <a:pt x="167" y="18696"/>
                  </a:lnTo>
                  <a:lnTo>
                    <a:pt x="2512" y="16881"/>
                  </a:lnTo>
                  <a:lnTo>
                    <a:pt x="1842" y="15066"/>
                  </a:lnTo>
                  <a:lnTo>
                    <a:pt x="4186" y="14158"/>
                  </a:lnTo>
                  <a:lnTo>
                    <a:pt x="5693" y="12161"/>
                  </a:lnTo>
                  <a:lnTo>
                    <a:pt x="8037" y="10891"/>
                  </a:lnTo>
                  <a:lnTo>
                    <a:pt x="11553" y="9439"/>
                  </a:lnTo>
                  <a:lnTo>
                    <a:pt x="12223" y="7442"/>
                  </a:lnTo>
                  <a:lnTo>
                    <a:pt x="12223" y="5264"/>
                  </a:lnTo>
                  <a:lnTo>
                    <a:pt x="12223" y="4175"/>
                  </a:lnTo>
                  <a:lnTo>
                    <a:pt x="16912" y="0"/>
                  </a:lnTo>
                  <a:close/>
                  <a:moveTo>
                    <a:pt x="16912" y="0"/>
                  </a:moveTo>
                </a:path>
              </a:pathLst>
            </a:custGeom>
            <a:solidFill>
              <a:srgbClr val="fffef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651" name="Group 18"/>
          <p:cNvGrpSpPr/>
          <p:nvPr/>
        </p:nvGrpSpPr>
        <p:grpSpPr>
          <a:xfrm>
            <a:off x="1385640" y="819000"/>
            <a:ext cx="6035400" cy="1130040"/>
            <a:chOff x="1385640" y="819000"/>
            <a:chExt cx="6035400" cy="1130040"/>
          </a:xfrm>
        </p:grpSpPr>
        <p:sp>
          <p:nvSpPr>
            <p:cNvPr id="652" name="Rectangle 16"/>
            <p:cNvSpPr/>
            <p:nvPr/>
          </p:nvSpPr>
          <p:spPr>
            <a:xfrm>
              <a:off x="1650600" y="819000"/>
              <a:ext cx="577044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How We Solve Problems</a:t>
              </a:r>
              <a:endParaRPr b="0" lang="en-US" sz="4000" spc="-1" strike="noStrike">
                <a:solidFill>
                  <a:srgbClr val="000000"/>
                </a:solidFill>
                <a:latin typeface="Gill Sans"/>
              </a:endParaRPr>
            </a:p>
          </p:txBody>
        </p:sp>
        <p:sp>
          <p:nvSpPr>
            <p:cNvPr id="653" name="Rectangle 17"/>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654" name="Rectangle 19"/>
          <p:cNvSpPr/>
          <p:nvPr/>
        </p:nvSpPr>
        <p:spPr>
          <a:xfrm>
            <a:off x="1449360" y="6089760"/>
            <a:ext cx="11582280" cy="4762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Light"/>
                <a:ea typeface="ＭＳ Ｐゴシック"/>
              </a:rPr>
              <a:t>Morbi leo risus, elit. Vestibulum id Aenean lacinia bibendum nulla sed coetra augue. Aenean eu leo  Nulla vitae elit libero, a pharetra augue. Aenean eu leo quam. Pellentesque ornare sem lacinia quam venenatis vestibulum. Morbctetur. Nulla vitae elit libero, aero, a pharetra augue. Aeneanquam. Pellen vestibulus, porta ac consectetur ac, vestibulum at eros. ut id elit. Vestibulum id ligula porta felis euismod semper. Aenean lacinia bibendum nulla sed consectetur. Nulla vitae elit libero vestibulum. Morbi leo risus, elit. quam venenatis vestibulum. Morbctetur. Nulla vitae elit libero, aero, a pharetra augue. Aeneanquam. Pellen vestibulus, porta ac consectetur ac, vestibulum at eros. ut id elit. Vestibulum id ligula porta felis euismod semper. Aenean lacinia bibendum nulla sed consectetur. Nulla vitae elit libero </a:t>
            </a:r>
            <a:endParaRPr b="0" lang="en-US" sz="2400" spc="-1" strike="noStrike">
              <a:solidFill>
                <a:srgbClr val="000000"/>
              </a:solidFill>
              <a:latin typeface="Gill Sans"/>
            </a:endParaRPr>
          </a:p>
        </p:txBody>
      </p:sp>
      <p:sp>
        <p:nvSpPr>
          <p:cNvPr id="655" name="Rectangle 20"/>
          <p:cNvSpPr/>
          <p:nvPr/>
        </p:nvSpPr>
        <p:spPr>
          <a:xfrm>
            <a:off x="1447920" y="3645000"/>
            <a:ext cx="11582280" cy="19429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1a1919"/>
                </a:solidFill>
                <a:latin typeface="Open Sans Light"/>
                <a:ea typeface="ＭＳ Ｐゴシック"/>
              </a:rPr>
              <a:t>The Real Problem is Deep Inside the Frozen Water.</a:t>
            </a:r>
            <a:endParaRPr b="0" lang="en-US" sz="5600" spc="-1" strike="noStrike">
              <a:solidFill>
                <a:srgbClr val="000000"/>
              </a:solidFill>
              <a:latin typeface="Gill Sans"/>
            </a:endParaRPr>
          </a:p>
        </p:txBody>
      </p:sp>
      <p:sp>
        <p:nvSpPr>
          <p:cNvPr id="656" name="AutoShape 21"/>
          <p:cNvSpPr/>
          <p:nvPr/>
        </p:nvSpPr>
        <p:spPr>
          <a:xfrm>
            <a:off x="13555800" y="5621400"/>
            <a:ext cx="9367560" cy="5618160"/>
          </a:xfrm>
          <a:custGeom>
            <a:avLst/>
            <a:gdLst/>
            <a:ahLst/>
            <a:rect l="l" t="t" r="r" b="b"/>
            <a:pathLst>
              <a:path w="20402" h="21380">
                <a:moveTo>
                  <a:pt x="0" y="1487"/>
                </a:moveTo>
                <a:cubicBezTo>
                  <a:pt x="0" y="1487"/>
                  <a:pt x="3069" y="13091"/>
                  <a:pt x="4185" y="14146"/>
                </a:cubicBezTo>
                <a:cubicBezTo>
                  <a:pt x="5301" y="15201"/>
                  <a:pt x="5069" y="14470"/>
                  <a:pt x="5487" y="15363"/>
                </a:cubicBezTo>
                <a:cubicBezTo>
                  <a:pt x="5906" y="16256"/>
                  <a:pt x="6510" y="17310"/>
                  <a:pt x="7161" y="18609"/>
                </a:cubicBezTo>
                <a:cubicBezTo>
                  <a:pt x="7812" y="19907"/>
                  <a:pt x="7859" y="19826"/>
                  <a:pt x="8463" y="20475"/>
                </a:cubicBezTo>
                <a:cubicBezTo>
                  <a:pt x="9068" y="21124"/>
                  <a:pt x="9579" y="21449"/>
                  <a:pt x="10091" y="21368"/>
                </a:cubicBezTo>
                <a:cubicBezTo>
                  <a:pt x="10602" y="21287"/>
                  <a:pt x="11858" y="21287"/>
                  <a:pt x="12741" y="20394"/>
                </a:cubicBezTo>
                <a:cubicBezTo>
                  <a:pt x="13625" y="19501"/>
                  <a:pt x="15020" y="15850"/>
                  <a:pt x="15252" y="15444"/>
                </a:cubicBezTo>
                <a:cubicBezTo>
                  <a:pt x="15485" y="15038"/>
                  <a:pt x="15717" y="14795"/>
                  <a:pt x="16089" y="14470"/>
                </a:cubicBezTo>
                <a:cubicBezTo>
                  <a:pt x="16461" y="14146"/>
                  <a:pt x="17484" y="11955"/>
                  <a:pt x="17670" y="11468"/>
                </a:cubicBezTo>
                <a:cubicBezTo>
                  <a:pt x="17856" y="10981"/>
                  <a:pt x="17856" y="11062"/>
                  <a:pt x="18414" y="10332"/>
                </a:cubicBezTo>
                <a:cubicBezTo>
                  <a:pt x="18972" y="9601"/>
                  <a:pt x="20274" y="1730"/>
                  <a:pt x="20274" y="1324"/>
                </a:cubicBezTo>
                <a:cubicBezTo>
                  <a:pt x="20274" y="919"/>
                  <a:pt x="21600" y="-151"/>
                  <a:pt x="15705" y="18"/>
                </a:cubicBezTo>
                <a:cubicBezTo>
                  <a:pt x="12337" y="114"/>
                  <a:pt x="9611" y="809"/>
                  <a:pt x="8215" y="690"/>
                </a:cubicBezTo>
                <a:cubicBezTo>
                  <a:pt x="5219" y="437"/>
                  <a:pt x="4506" y="125"/>
                  <a:pt x="3576" y="693"/>
                </a:cubicBezTo>
                <a:cubicBezTo>
                  <a:pt x="2646" y="1261"/>
                  <a:pt x="372" y="-55"/>
                  <a:pt x="0" y="1487"/>
                </a:cubicBezTo>
                <a:close/>
                <a:moveTo>
                  <a:pt x="0" y="1487"/>
                </a:moveTo>
              </a:path>
            </a:pathLst>
          </a:custGeom>
          <a:solidFill>
            <a:srgbClr val="23cb9e">
              <a:alpha val="4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57" name="AutoShape 22"/>
          <p:cNvSpPr/>
          <p:nvPr/>
        </p:nvSpPr>
        <p:spPr>
          <a:xfrm>
            <a:off x="13866840" y="6861240"/>
            <a:ext cx="6680160" cy="4343400"/>
          </a:xfrm>
          <a:custGeom>
            <a:avLst/>
            <a:gdLst/>
            <a:ahLst/>
            <a:rect l="l" t="t" r="r" b="b"/>
            <a:pathLst>
              <a:path w="21600" h="21600">
                <a:moveTo>
                  <a:pt x="0" y="0"/>
                </a:moveTo>
                <a:cubicBezTo>
                  <a:pt x="0" y="0"/>
                  <a:pt x="6221" y="1543"/>
                  <a:pt x="9367" y="4078"/>
                </a:cubicBezTo>
                <a:cubicBezTo>
                  <a:pt x="12513" y="6612"/>
                  <a:pt x="21600" y="13224"/>
                  <a:pt x="21600" y="13224"/>
                </a:cubicBezTo>
                <a:cubicBezTo>
                  <a:pt x="21600" y="13224"/>
                  <a:pt x="18105" y="19506"/>
                  <a:pt x="17685" y="19947"/>
                </a:cubicBezTo>
                <a:cubicBezTo>
                  <a:pt x="17266" y="20388"/>
                  <a:pt x="14400" y="21600"/>
                  <a:pt x="13771" y="21600"/>
                </a:cubicBezTo>
                <a:cubicBezTo>
                  <a:pt x="13142" y="21600"/>
                  <a:pt x="11534" y="19947"/>
                  <a:pt x="10625" y="19065"/>
                </a:cubicBezTo>
                <a:cubicBezTo>
                  <a:pt x="9717" y="18184"/>
                  <a:pt x="7829" y="13665"/>
                  <a:pt x="7270" y="13445"/>
                </a:cubicBezTo>
                <a:cubicBezTo>
                  <a:pt x="6711" y="13224"/>
                  <a:pt x="4963" y="12233"/>
                  <a:pt x="4683" y="11902"/>
                </a:cubicBezTo>
                <a:cubicBezTo>
                  <a:pt x="4404" y="11571"/>
                  <a:pt x="0" y="0"/>
                  <a:pt x="0" y="0"/>
                </a:cubicBezTo>
                <a:close/>
                <a:moveTo>
                  <a:pt x="0" y="0"/>
                </a:moveTo>
              </a:path>
            </a:pathLst>
          </a:custGeom>
          <a:solidFill>
            <a:srgbClr val="fffefe">
              <a:alpha val="2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58" name="AutoShape 23"/>
          <p:cNvSpPr/>
          <p:nvPr/>
        </p:nvSpPr>
        <p:spPr>
          <a:xfrm>
            <a:off x="17071920" y="6122880"/>
            <a:ext cx="5649840" cy="5077080"/>
          </a:xfrm>
          <a:custGeom>
            <a:avLst/>
            <a:gdLst/>
            <a:ahLst/>
            <a:rect l="l" t="t" r="r" b="b"/>
            <a:pathLst>
              <a:path w="20756" h="20507">
                <a:moveTo>
                  <a:pt x="4692" y="20505"/>
                </a:moveTo>
                <a:cubicBezTo>
                  <a:pt x="4692" y="20505"/>
                  <a:pt x="8197" y="20684"/>
                  <a:pt x="10234" y="17906"/>
                </a:cubicBezTo>
                <a:cubicBezTo>
                  <a:pt x="12272" y="15127"/>
                  <a:pt x="13006" y="13693"/>
                  <a:pt x="13495" y="13424"/>
                </a:cubicBezTo>
                <a:cubicBezTo>
                  <a:pt x="13984" y="13155"/>
                  <a:pt x="14147" y="12976"/>
                  <a:pt x="14717" y="12259"/>
                </a:cubicBezTo>
                <a:cubicBezTo>
                  <a:pt x="15288" y="11542"/>
                  <a:pt x="17000" y="9660"/>
                  <a:pt x="17326" y="9301"/>
                </a:cubicBezTo>
                <a:cubicBezTo>
                  <a:pt x="17652" y="8943"/>
                  <a:pt x="18141" y="8764"/>
                  <a:pt x="18385" y="8405"/>
                </a:cubicBezTo>
                <a:cubicBezTo>
                  <a:pt x="18630" y="8047"/>
                  <a:pt x="20586" y="1235"/>
                  <a:pt x="20749" y="160"/>
                </a:cubicBezTo>
                <a:cubicBezTo>
                  <a:pt x="20912" y="-916"/>
                  <a:pt x="18467" y="3745"/>
                  <a:pt x="17326" y="4910"/>
                </a:cubicBezTo>
                <a:cubicBezTo>
                  <a:pt x="16184" y="6075"/>
                  <a:pt x="12027" y="9033"/>
                  <a:pt x="10642" y="9570"/>
                </a:cubicBezTo>
                <a:cubicBezTo>
                  <a:pt x="9256" y="10108"/>
                  <a:pt x="3469" y="12797"/>
                  <a:pt x="2817" y="13514"/>
                </a:cubicBezTo>
                <a:cubicBezTo>
                  <a:pt x="2165" y="14231"/>
                  <a:pt x="1594" y="15665"/>
                  <a:pt x="3143" y="15665"/>
                </a:cubicBezTo>
                <a:cubicBezTo>
                  <a:pt x="4692" y="15665"/>
                  <a:pt x="7626" y="13783"/>
                  <a:pt x="8033" y="14679"/>
                </a:cubicBezTo>
                <a:cubicBezTo>
                  <a:pt x="8441" y="15575"/>
                  <a:pt x="4284" y="17457"/>
                  <a:pt x="2898" y="17009"/>
                </a:cubicBezTo>
                <a:cubicBezTo>
                  <a:pt x="1513" y="16561"/>
                  <a:pt x="1024" y="15306"/>
                  <a:pt x="372" y="15755"/>
                </a:cubicBezTo>
                <a:cubicBezTo>
                  <a:pt x="-280" y="16203"/>
                  <a:pt x="-688" y="18891"/>
                  <a:pt x="4692" y="20505"/>
                </a:cubicBezTo>
                <a:close/>
                <a:moveTo>
                  <a:pt x="4692" y="20505"/>
                </a:moveTo>
              </a:path>
            </a:pathLst>
          </a:custGeom>
          <a:solidFill>
            <a:srgbClr val="5e5f88">
              <a:alpha val="1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59" name="Rectangle 24"/>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20</a:t>
            </a:r>
            <a:endParaRPr b="0" lang="en-US" sz="2400" spc="-1" strike="noStrike">
              <a:solidFill>
                <a:srgbClr val="000000"/>
              </a:solidFill>
              <a:latin typeface="Gill Sans"/>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0" name="Group 3"/>
          <p:cNvGrpSpPr/>
          <p:nvPr/>
        </p:nvGrpSpPr>
        <p:grpSpPr>
          <a:xfrm>
            <a:off x="1385640" y="819000"/>
            <a:ext cx="6035400" cy="1130040"/>
            <a:chOff x="1385640" y="819000"/>
            <a:chExt cx="6035400" cy="1130040"/>
          </a:xfrm>
        </p:grpSpPr>
        <p:sp>
          <p:nvSpPr>
            <p:cNvPr id="661" name="Rectangle 1"/>
            <p:cNvSpPr/>
            <p:nvPr/>
          </p:nvSpPr>
          <p:spPr>
            <a:xfrm>
              <a:off x="1650600" y="819000"/>
              <a:ext cx="577044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How We Solve Problems</a:t>
              </a:r>
              <a:endParaRPr b="0" lang="en-US" sz="4000" spc="-1" strike="noStrike">
                <a:solidFill>
                  <a:srgbClr val="000000"/>
                </a:solidFill>
                <a:latin typeface="Gill Sans"/>
              </a:endParaRPr>
            </a:p>
          </p:txBody>
        </p:sp>
        <p:sp>
          <p:nvSpPr>
            <p:cNvPr id="662"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grpSp>
        <p:nvGrpSpPr>
          <p:cNvPr id="663" name="Group 22"/>
          <p:cNvGrpSpPr/>
          <p:nvPr/>
        </p:nvGrpSpPr>
        <p:grpSpPr>
          <a:xfrm>
            <a:off x="7510320" y="3314880"/>
            <a:ext cx="9367560" cy="7924320"/>
            <a:chOff x="7510320" y="3314880"/>
            <a:chExt cx="9367560" cy="7924320"/>
          </a:xfrm>
        </p:grpSpPr>
        <p:grpSp>
          <p:nvGrpSpPr>
            <p:cNvPr id="664" name="Group 8"/>
            <p:cNvGrpSpPr/>
            <p:nvPr/>
          </p:nvGrpSpPr>
          <p:grpSpPr>
            <a:xfrm>
              <a:off x="10296720" y="3314880"/>
              <a:ext cx="3764520" cy="6834960"/>
              <a:chOff x="10296720" y="3314880"/>
              <a:chExt cx="3764520" cy="6834960"/>
            </a:xfrm>
          </p:grpSpPr>
          <p:sp>
            <p:nvSpPr>
              <p:cNvPr id="665" name="AutoShape 4"/>
              <p:cNvSpPr/>
              <p:nvPr/>
            </p:nvSpPr>
            <p:spPr>
              <a:xfrm>
                <a:off x="10317240" y="5704560"/>
                <a:ext cx="3744000" cy="4445280"/>
              </a:xfrm>
              <a:custGeom>
                <a:avLst/>
                <a:gdLst/>
                <a:ahLst/>
                <a:rect l="l" t="t" r="r" b="b"/>
                <a:pathLst>
                  <a:path w="21600" h="21600">
                    <a:moveTo>
                      <a:pt x="0" y="0"/>
                    </a:moveTo>
                    <a:lnTo>
                      <a:pt x="563" y="1137"/>
                    </a:lnTo>
                    <a:cubicBezTo>
                      <a:pt x="563" y="1137"/>
                      <a:pt x="787" y="2274"/>
                      <a:pt x="1350" y="2463"/>
                    </a:cubicBezTo>
                    <a:cubicBezTo>
                      <a:pt x="1912" y="2653"/>
                      <a:pt x="3262" y="5211"/>
                      <a:pt x="3262" y="5211"/>
                    </a:cubicBezTo>
                    <a:lnTo>
                      <a:pt x="3488" y="6821"/>
                    </a:lnTo>
                    <a:cubicBezTo>
                      <a:pt x="3488" y="6821"/>
                      <a:pt x="3375" y="7295"/>
                      <a:pt x="3825" y="7768"/>
                    </a:cubicBezTo>
                    <a:cubicBezTo>
                      <a:pt x="4275" y="8242"/>
                      <a:pt x="4837" y="9000"/>
                      <a:pt x="4837" y="9284"/>
                    </a:cubicBezTo>
                    <a:cubicBezTo>
                      <a:pt x="4837" y="9568"/>
                      <a:pt x="4500" y="10705"/>
                      <a:pt x="4387" y="10895"/>
                    </a:cubicBezTo>
                    <a:cubicBezTo>
                      <a:pt x="4275" y="11084"/>
                      <a:pt x="4388" y="12316"/>
                      <a:pt x="5175" y="13074"/>
                    </a:cubicBezTo>
                    <a:cubicBezTo>
                      <a:pt x="5962" y="13832"/>
                      <a:pt x="6525" y="14495"/>
                      <a:pt x="6525" y="14684"/>
                    </a:cubicBezTo>
                    <a:cubicBezTo>
                      <a:pt x="6525" y="14874"/>
                      <a:pt x="6525" y="15821"/>
                      <a:pt x="6525" y="16105"/>
                    </a:cubicBezTo>
                    <a:cubicBezTo>
                      <a:pt x="6525" y="16389"/>
                      <a:pt x="6637" y="16674"/>
                      <a:pt x="7200" y="17811"/>
                    </a:cubicBezTo>
                    <a:cubicBezTo>
                      <a:pt x="7762" y="18947"/>
                      <a:pt x="8550" y="19895"/>
                      <a:pt x="8775" y="20274"/>
                    </a:cubicBezTo>
                    <a:cubicBezTo>
                      <a:pt x="9000" y="20653"/>
                      <a:pt x="10125" y="21600"/>
                      <a:pt x="10125" y="21600"/>
                    </a:cubicBezTo>
                    <a:lnTo>
                      <a:pt x="11250" y="19800"/>
                    </a:lnTo>
                    <a:cubicBezTo>
                      <a:pt x="11250" y="19800"/>
                      <a:pt x="12938" y="17147"/>
                      <a:pt x="13612" y="16674"/>
                    </a:cubicBezTo>
                    <a:cubicBezTo>
                      <a:pt x="14287" y="16200"/>
                      <a:pt x="15300" y="14305"/>
                      <a:pt x="15300" y="14305"/>
                    </a:cubicBezTo>
                    <a:lnTo>
                      <a:pt x="15413" y="13074"/>
                    </a:lnTo>
                    <a:lnTo>
                      <a:pt x="16762" y="11937"/>
                    </a:lnTo>
                    <a:cubicBezTo>
                      <a:pt x="16762" y="11937"/>
                      <a:pt x="17100" y="8621"/>
                      <a:pt x="17212" y="8053"/>
                    </a:cubicBezTo>
                    <a:cubicBezTo>
                      <a:pt x="17325" y="7484"/>
                      <a:pt x="18000" y="6347"/>
                      <a:pt x="18112" y="6158"/>
                    </a:cubicBezTo>
                    <a:cubicBezTo>
                      <a:pt x="18225" y="5968"/>
                      <a:pt x="18338" y="4737"/>
                      <a:pt x="18225" y="4263"/>
                    </a:cubicBezTo>
                    <a:cubicBezTo>
                      <a:pt x="18112" y="3789"/>
                      <a:pt x="18113" y="3032"/>
                      <a:pt x="18450" y="2842"/>
                    </a:cubicBezTo>
                    <a:cubicBezTo>
                      <a:pt x="18787" y="2653"/>
                      <a:pt x="20025" y="1895"/>
                      <a:pt x="20025" y="1895"/>
                    </a:cubicBezTo>
                    <a:lnTo>
                      <a:pt x="20812" y="1232"/>
                    </a:lnTo>
                    <a:lnTo>
                      <a:pt x="21375" y="663"/>
                    </a:lnTo>
                    <a:lnTo>
                      <a:pt x="21600" y="95"/>
                    </a:lnTo>
                    <a:lnTo>
                      <a:pt x="0" y="0"/>
                    </a:lnTo>
                    <a:close/>
                    <a:moveTo>
                      <a:pt x="0" y="0"/>
                    </a:moveTo>
                  </a:path>
                </a:pathLst>
              </a:custGeom>
              <a:solidFill>
                <a:srgbClr val="2969a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66" name="AutoShape 5"/>
              <p:cNvSpPr/>
              <p:nvPr/>
            </p:nvSpPr>
            <p:spPr>
              <a:xfrm>
                <a:off x="10336320" y="5686920"/>
                <a:ext cx="3685320" cy="4407480"/>
              </a:xfrm>
              <a:custGeom>
                <a:avLst/>
                <a:gdLst/>
                <a:ahLst/>
                <a:rect l="l" t="t" r="r" b="b"/>
                <a:pathLst>
                  <a:path w="21600" h="21600">
                    <a:moveTo>
                      <a:pt x="20000" y="1338"/>
                    </a:moveTo>
                    <a:lnTo>
                      <a:pt x="17486" y="2867"/>
                    </a:lnTo>
                    <a:cubicBezTo>
                      <a:pt x="17486" y="2867"/>
                      <a:pt x="16800" y="3058"/>
                      <a:pt x="16457" y="4970"/>
                    </a:cubicBezTo>
                    <a:cubicBezTo>
                      <a:pt x="16114" y="6881"/>
                      <a:pt x="15657" y="7264"/>
                      <a:pt x="15657" y="7455"/>
                    </a:cubicBezTo>
                    <a:cubicBezTo>
                      <a:pt x="15657" y="7646"/>
                      <a:pt x="14971" y="8028"/>
                      <a:pt x="14971" y="8028"/>
                    </a:cubicBezTo>
                    <a:cubicBezTo>
                      <a:pt x="14971" y="8028"/>
                      <a:pt x="14971" y="10418"/>
                      <a:pt x="15086" y="10704"/>
                    </a:cubicBezTo>
                    <a:cubicBezTo>
                      <a:pt x="15200" y="10991"/>
                      <a:pt x="15886" y="12042"/>
                      <a:pt x="15086" y="13094"/>
                    </a:cubicBezTo>
                    <a:cubicBezTo>
                      <a:pt x="14286" y="14145"/>
                      <a:pt x="13486" y="14814"/>
                      <a:pt x="13486" y="14814"/>
                    </a:cubicBezTo>
                    <a:cubicBezTo>
                      <a:pt x="13486" y="14814"/>
                      <a:pt x="12800" y="15865"/>
                      <a:pt x="12686" y="16152"/>
                    </a:cubicBezTo>
                    <a:cubicBezTo>
                      <a:pt x="12571" y="16439"/>
                      <a:pt x="11771" y="17968"/>
                      <a:pt x="11771" y="17968"/>
                    </a:cubicBezTo>
                    <a:lnTo>
                      <a:pt x="10286" y="19593"/>
                    </a:lnTo>
                    <a:lnTo>
                      <a:pt x="10400" y="20549"/>
                    </a:lnTo>
                    <a:cubicBezTo>
                      <a:pt x="10400" y="20549"/>
                      <a:pt x="9829" y="19688"/>
                      <a:pt x="10286" y="18255"/>
                    </a:cubicBezTo>
                    <a:cubicBezTo>
                      <a:pt x="10743" y="16821"/>
                      <a:pt x="12114" y="14910"/>
                      <a:pt x="12114" y="14719"/>
                    </a:cubicBezTo>
                    <a:cubicBezTo>
                      <a:pt x="12114" y="14527"/>
                      <a:pt x="12800" y="12425"/>
                      <a:pt x="12800" y="12425"/>
                    </a:cubicBezTo>
                    <a:lnTo>
                      <a:pt x="12914" y="10800"/>
                    </a:lnTo>
                    <a:cubicBezTo>
                      <a:pt x="12914" y="10800"/>
                      <a:pt x="12800" y="9940"/>
                      <a:pt x="13143" y="9653"/>
                    </a:cubicBezTo>
                    <a:cubicBezTo>
                      <a:pt x="13486" y="9366"/>
                      <a:pt x="12571" y="8219"/>
                      <a:pt x="12571" y="8219"/>
                    </a:cubicBezTo>
                    <a:cubicBezTo>
                      <a:pt x="12571" y="8219"/>
                      <a:pt x="11657" y="7646"/>
                      <a:pt x="12343" y="6786"/>
                    </a:cubicBezTo>
                    <a:cubicBezTo>
                      <a:pt x="13029" y="5926"/>
                      <a:pt x="13600" y="5352"/>
                      <a:pt x="13829" y="5352"/>
                    </a:cubicBezTo>
                    <a:cubicBezTo>
                      <a:pt x="14057" y="5352"/>
                      <a:pt x="14971" y="4874"/>
                      <a:pt x="14971" y="4874"/>
                    </a:cubicBezTo>
                    <a:lnTo>
                      <a:pt x="15200" y="4396"/>
                    </a:lnTo>
                    <a:lnTo>
                      <a:pt x="13029" y="3632"/>
                    </a:lnTo>
                    <a:lnTo>
                      <a:pt x="13371" y="3058"/>
                    </a:lnTo>
                    <a:lnTo>
                      <a:pt x="14171" y="2772"/>
                    </a:lnTo>
                    <a:cubicBezTo>
                      <a:pt x="14171" y="2772"/>
                      <a:pt x="14171" y="1912"/>
                      <a:pt x="14400" y="1720"/>
                    </a:cubicBezTo>
                    <a:cubicBezTo>
                      <a:pt x="14629" y="1529"/>
                      <a:pt x="14629" y="860"/>
                      <a:pt x="14629" y="860"/>
                    </a:cubicBezTo>
                    <a:lnTo>
                      <a:pt x="13714" y="0"/>
                    </a:lnTo>
                    <a:cubicBezTo>
                      <a:pt x="13714" y="0"/>
                      <a:pt x="13143" y="2007"/>
                      <a:pt x="12686" y="2389"/>
                    </a:cubicBezTo>
                    <a:cubicBezTo>
                      <a:pt x="12229" y="2772"/>
                      <a:pt x="11543" y="3536"/>
                      <a:pt x="11543" y="3536"/>
                    </a:cubicBezTo>
                    <a:cubicBezTo>
                      <a:pt x="11543" y="3536"/>
                      <a:pt x="11543" y="4301"/>
                      <a:pt x="11657" y="4588"/>
                    </a:cubicBezTo>
                    <a:cubicBezTo>
                      <a:pt x="11771" y="4874"/>
                      <a:pt x="11314" y="5639"/>
                      <a:pt x="11200" y="6117"/>
                    </a:cubicBezTo>
                    <a:cubicBezTo>
                      <a:pt x="11086" y="6595"/>
                      <a:pt x="10971" y="7359"/>
                      <a:pt x="10971" y="7933"/>
                    </a:cubicBezTo>
                    <a:cubicBezTo>
                      <a:pt x="10971" y="8506"/>
                      <a:pt x="10629" y="8697"/>
                      <a:pt x="10971" y="10035"/>
                    </a:cubicBezTo>
                    <a:cubicBezTo>
                      <a:pt x="11314" y="11373"/>
                      <a:pt x="11086" y="12520"/>
                      <a:pt x="10971" y="12807"/>
                    </a:cubicBezTo>
                    <a:cubicBezTo>
                      <a:pt x="10857" y="13094"/>
                      <a:pt x="10857" y="13189"/>
                      <a:pt x="10857" y="13572"/>
                    </a:cubicBezTo>
                    <a:cubicBezTo>
                      <a:pt x="10857" y="13954"/>
                      <a:pt x="11086" y="14719"/>
                      <a:pt x="11086" y="14910"/>
                    </a:cubicBezTo>
                    <a:cubicBezTo>
                      <a:pt x="11086" y="15101"/>
                      <a:pt x="10629" y="15961"/>
                      <a:pt x="10514" y="16152"/>
                    </a:cubicBezTo>
                    <a:cubicBezTo>
                      <a:pt x="10400" y="16343"/>
                      <a:pt x="9257" y="19211"/>
                      <a:pt x="9257" y="19211"/>
                    </a:cubicBezTo>
                    <a:lnTo>
                      <a:pt x="8571" y="13476"/>
                    </a:lnTo>
                    <a:cubicBezTo>
                      <a:pt x="8571" y="13476"/>
                      <a:pt x="6286" y="11278"/>
                      <a:pt x="6171" y="11087"/>
                    </a:cubicBezTo>
                    <a:cubicBezTo>
                      <a:pt x="6057" y="10896"/>
                      <a:pt x="8114" y="10035"/>
                      <a:pt x="8914" y="9366"/>
                    </a:cubicBezTo>
                    <a:cubicBezTo>
                      <a:pt x="9714" y="8697"/>
                      <a:pt x="9143" y="8793"/>
                      <a:pt x="8686" y="7168"/>
                    </a:cubicBezTo>
                    <a:cubicBezTo>
                      <a:pt x="8229" y="5543"/>
                      <a:pt x="5943" y="5161"/>
                      <a:pt x="5943" y="5161"/>
                    </a:cubicBezTo>
                    <a:cubicBezTo>
                      <a:pt x="5943" y="5161"/>
                      <a:pt x="5029" y="4588"/>
                      <a:pt x="4914" y="4110"/>
                    </a:cubicBezTo>
                    <a:cubicBezTo>
                      <a:pt x="4800" y="3632"/>
                      <a:pt x="4229" y="1625"/>
                      <a:pt x="4229" y="1625"/>
                    </a:cubicBezTo>
                    <a:lnTo>
                      <a:pt x="7086" y="3727"/>
                    </a:lnTo>
                    <a:cubicBezTo>
                      <a:pt x="7086" y="3727"/>
                      <a:pt x="6057" y="1147"/>
                      <a:pt x="6514" y="573"/>
                    </a:cubicBezTo>
                    <a:cubicBezTo>
                      <a:pt x="6971" y="0"/>
                      <a:pt x="7657" y="478"/>
                      <a:pt x="7657" y="478"/>
                    </a:cubicBezTo>
                    <a:lnTo>
                      <a:pt x="8800" y="3058"/>
                    </a:lnTo>
                    <a:lnTo>
                      <a:pt x="9600" y="3919"/>
                    </a:lnTo>
                    <a:lnTo>
                      <a:pt x="9371" y="1338"/>
                    </a:lnTo>
                    <a:lnTo>
                      <a:pt x="9371" y="96"/>
                    </a:lnTo>
                    <a:lnTo>
                      <a:pt x="0" y="0"/>
                    </a:lnTo>
                    <a:cubicBezTo>
                      <a:pt x="0" y="0"/>
                      <a:pt x="914" y="956"/>
                      <a:pt x="1257" y="1720"/>
                    </a:cubicBezTo>
                    <a:cubicBezTo>
                      <a:pt x="1600" y="2485"/>
                      <a:pt x="3200" y="4588"/>
                      <a:pt x="3200" y="5161"/>
                    </a:cubicBezTo>
                    <a:cubicBezTo>
                      <a:pt x="3200" y="5735"/>
                      <a:pt x="3657" y="6786"/>
                      <a:pt x="4114" y="7742"/>
                    </a:cubicBezTo>
                    <a:cubicBezTo>
                      <a:pt x="4571" y="8697"/>
                      <a:pt x="4914" y="9749"/>
                      <a:pt x="4914" y="10322"/>
                    </a:cubicBezTo>
                    <a:cubicBezTo>
                      <a:pt x="4914" y="10896"/>
                      <a:pt x="4229" y="11851"/>
                      <a:pt x="4800" y="12425"/>
                    </a:cubicBezTo>
                    <a:cubicBezTo>
                      <a:pt x="5371" y="12998"/>
                      <a:pt x="5943" y="14432"/>
                      <a:pt x="6400" y="14719"/>
                    </a:cubicBezTo>
                    <a:cubicBezTo>
                      <a:pt x="6857" y="15005"/>
                      <a:pt x="6629" y="15292"/>
                      <a:pt x="6971" y="16439"/>
                    </a:cubicBezTo>
                    <a:cubicBezTo>
                      <a:pt x="7314" y="17586"/>
                      <a:pt x="7657" y="18542"/>
                      <a:pt x="8000" y="19115"/>
                    </a:cubicBezTo>
                    <a:cubicBezTo>
                      <a:pt x="8343" y="19688"/>
                      <a:pt x="10057" y="21600"/>
                      <a:pt x="10057" y="21600"/>
                    </a:cubicBezTo>
                    <a:cubicBezTo>
                      <a:pt x="10057" y="21600"/>
                      <a:pt x="15086" y="14910"/>
                      <a:pt x="15429" y="14336"/>
                    </a:cubicBezTo>
                    <a:cubicBezTo>
                      <a:pt x="15771" y="13763"/>
                      <a:pt x="15657" y="13094"/>
                      <a:pt x="15657" y="13094"/>
                    </a:cubicBezTo>
                    <a:lnTo>
                      <a:pt x="16457" y="11851"/>
                    </a:lnTo>
                    <a:lnTo>
                      <a:pt x="17371" y="9844"/>
                    </a:lnTo>
                    <a:cubicBezTo>
                      <a:pt x="17371" y="9844"/>
                      <a:pt x="17257" y="8506"/>
                      <a:pt x="17371" y="8028"/>
                    </a:cubicBezTo>
                    <a:cubicBezTo>
                      <a:pt x="17486" y="7550"/>
                      <a:pt x="18286" y="6117"/>
                      <a:pt x="18286" y="6117"/>
                    </a:cubicBezTo>
                    <a:lnTo>
                      <a:pt x="18400" y="2772"/>
                    </a:lnTo>
                    <a:lnTo>
                      <a:pt x="21029" y="956"/>
                    </a:lnTo>
                    <a:lnTo>
                      <a:pt x="21600" y="96"/>
                    </a:lnTo>
                    <a:lnTo>
                      <a:pt x="20000" y="1338"/>
                    </a:lnTo>
                    <a:close/>
                    <a:moveTo>
                      <a:pt x="20000" y="1338"/>
                    </a:moveTo>
                  </a:path>
                </a:pathLst>
              </a:custGeom>
              <a:solidFill>
                <a:srgbClr val="65a0e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67" name="AutoShape 6"/>
              <p:cNvSpPr/>
              <p:nvPr/>
            </p:nvSpPr>
            <p:spPr>
              <a:xfrm>
                <a:off x="10296720" y="3314880"/>
                <a:ext cx="3764520" cy="2475360"/>
              </a:xfrm>
              <a:custGeom>
                <a:avLst/>
                <a:gdLst/>
                <a:ahLst/>
                <a:rect l="l" t="t" r="r" b="b"/>
                <a:pathLst>
                  <a:path w="21495" h="21600">
                    <a:moveTo>
                      <a:pt x="118" y="21090"/>
                    </a:moveTo>
                    <a:cubicBezTo>
                      <a:pt x="118" y="21090"/>
                      <a:pt x="118" y="19389"/>
                      <a:pt x="6" y="19049"/>
                    </a:cubicBezTo>
                    <a:cubicBezTo>
                      <a:pt x="-105" y="18709"/>
                      <a:pt x="1231" y="17178"/>
                      <a:pt x="1231" y="17178"/>
                    </a:cubicBezTo>
                    <a:lnTo>
                      <a:pt x="1899" y="16498"/>
                    </a:lnTo>
                    <a:lnTo>
                      <a:pt x="1231" y="14967"/>
                    </a:lnTo>
                    <a:lnTo>
                      <a:pt x="2010" y="14287"/>
                    </a:lnTo>
                    <a:lnTo>
                      <a:pt x="3013" y="13436"/>
                    </a:lnTo>
                    <a:cubicBezTo>
                      <a:pt x="3013" y="13436"/>
                      <a:pt x="3347" y="12416"/>
                      <a:pt x="4794" y="11565"/>
                    </a:cubicBezTo>
                    <a:cubicBezTo>
                      <a:pt x="6241" y="10715"/>
                      <a:pt x="7132" y="9865"/>
                      <a:pt x="7132" y="9865"/>
                    </a:cubicBezTo>
                    <a:cubicBezTo>
                      <a:pt x="7132" y="9865"/>
                      <a:pt x="7577" y="9865"/>
                      <a:pt x="7911" y="8844"/>
                    </a:cubicBezTo>
                    <a:cubicBezTo>
                      <a:pt x="8246" y="7824"/>
                      <a:pt x="8357" y="7313"/>
                      <a:pt x="8357" y="6633"/>
                    </a:cubicBezTo>
                    <a:cubicBezTo>
                      <a:pt x="8357" y="5953"/>
                      <a:pt x="8023" y="5443"/>
                      <a:pt x="8580" y="4592"/>
                    </a:cubicBezTo>
                    <a:cubicBezTo>
                      <a:pt x="9136" y="3742"/>
                      <a:pt x="11697" y="0"/>
                      <a:pt x="11697" y="0"/>
                    </a:cubicBezTo>
                    <a:cubicBezTo>
                      <a:pt x="11697" y="0"/>
                      <a:pt x="11920" y="850"/>
                      <a:pt x="12476" y="1531"/>
                    </a:cubicBezTo>
                    <a:cubicBezTo>
                      <a:pt x="13033" y="2211"/>
                      <a:pt x="13256" y="2891"/>
                      <a:pt x="13256" y="3402"/>
                    </a:cubicBezTo>
                    <a:cubicBezTo>
                      <a:pt x="13256" y="3912"/>
                      <a:pt x="11920" y="2891"/>
                      <a:pt x="13367" y="4762"/>
                    </a:cubicBezTo>
                    <a:cubicBezTo>
                      <a:pt x="14815" y="6633"/>
                      <a:pt x="15037" y="7824"/>
                      <a:pt x="15149" y="8164"/>
                    </a:cubicBezTo>
                    <a:cubicBezTo>
                      <a:pt x="15260" y="8504"/>
                      <a:pt x="15149" y="9694"/>
                      <a:pt x="15483" y="10035"/>
                    </a:cubicBezTo>
                    <a:cubicBezTo>
                      <a:pt x="15817" y="10375"/>
                      <a:pt x="16930" y="11735"/>
                      <a:pt x="17153" y="11906"/>
                    </a:cubicBezTo>
                    <a:cubicBezTo>
                      <a:pt x="17375" y="12076"/>
                      <a:pt x="17709" y="14117"/>
                      <a:pt x="17709" y="14117"/>
                    </a:cubicBezTo>
                    <a:cubicBezTo>
                      <a:pt x="17709" y="14117"/>
                      <a:pt x="17932" y="14967"/>
                      <a:pt x="18155" y="15137"/>
                    </a:cubicBezTo>
                    <a:cubicBezTo>
                      <a:pt x="18377" y="15307"/>
                      <a:pt x="19602" y="15137"/>
                      <a:pt x="19602" y="15137"/>
                    </a:cubicBezTo>
                    <a:lnTo>
                      <a:pt x="20048" y="17008"/>
                    </a:lnTo>
                    <a:cubicBezTo>
                      <a:pt x="20048" y="17008"/>
                      <a:pt x="20048" y="18709"/>
                      <a:pt x="20382" y="18879"/>
                    </a:cubicBezTo>
                    <a:cubicBezTo>
                      <a:pt x="20716" y="19049"/>
                      <a:pt x="21384" y="19729"/>
                      <a:pt x="21384" y="20239"/>
                    </a:cubicBezTo>
                    <a:cubicBezTo>
                      <a:pt x="21384" y="20750"/>
                      <a:pt x="21495" y="21600"/>
                      <a:pt x="21495" y="21600"/>
                    </a:cubicBezTo>
                    <a:lnTo>
                      <a:pt x="118" y="21090"/>
                    </a:lnTo>
                    <a:close/>
                    <a:moveTo>
                      <a:pt x="118" y="21090"/>
                    </a:moveTo>
                  </a:path>
                </a:pathLst>
              </a:custGeom>
              <a:solidFill>
                <a:srgbClr val="8ba1bf"/>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68" name="AutoShape 7"/>
              <p:cNvSpPr/>
              <p:nvPr/>
            </p:nvSpPr>
            <p:spPr>
              <a:xfrm>
                <a:off x="10336320" y="3434040"/>
                <a:ext cx="2515320" cy="2319480"/>
              </a:xfrm>
              <a:custGeom>
                <a:avLst/>
                <a:gdLst/>
                <a:ahLst/>
                <a:rect l="l" t="t" r="r" b="b"/>
                <a:pathLst>
                  <a:path w="21600" h="21600">
                    <a:moveTo>
                      <a:pt x="16912" y="0"/>
                    </a:moveTo>
                    <a:lnTo>
                      <a:pt x="14735" y="3812"/>
                    </a:lnTo>
                    <a:lnTo>
                      <a:pt x="16577" y="2723"/>
                    </a:lnTo>
                    <a:cubicBezTo>
                      <a:pt x="16577" y="2723"/>
                      <a:pt x="16409" y="5808"/>
                      <a:pt x="15740" y="6171"/>
                    </a:cubicBezTo>
                    <a:cubicBezTo>
                      <a:pt x="15070" y="6534"/>
                      <a:pt x="17581" y="6353"/>
                      <a:pt x="17581" y="8168"/>
                    </a:cubicBezTo>
                    <a:cubicBezTo>
                      <a:pt x="17581" y="9983"/>
                      <a:pt x="17581" y="11072"/>
                      <a:pt x="16409" y="12706"/>
                    </a:cubicBezTo>
                    <a:cubicBezTo>
                      <a:pt x="15237" y="14339"/>
                      <a:pt x="17749" y="15973"/>
                      <a:pt x="17749" y="15973"/>
                    </a:cubicBezTo>
                    <a:lnTo>
                      <a:pt x="15740" y="16881"/>
                    </a:lnTo>
                    <a:lnTo>
                      <a:pt x="14065" y="16881"/>
                    </a:lnTo>
                    <a:cubicBezTo>
                      <a:pt x="14065" y="16881"/>
                      <a:pt x="13228" y="17788"/>
                      <a:pt x="15070" y="18151"/>
                    </a:cubicBezTo>
                    <a:cubicBezTo>
                      <a:pt x="16912" y="18514"/>
                      <a:pt x="17916" y="18333"/>
                      <a:pt x="18753" y="18696"/>
                    </a:cubicBezTo>
                    <a:cubicBezTo>
                      <a:pt x="19591" y="19059"/>
                      <a:pt x="20930" y="20511"/>
                      <a:pt x="20930" y="20511"/>
                    </a:cubicBezTo>
                    <a:lnTo>
                      <a:pt x="21600" y="21600"/>
                    </a:lnTo>
                    <a:lnTo>
                      <a:pt x="0" y="21418"/>
                    </a:lnTo>
                    <a:lnTo>
                      <a:pt x="167" y="18696"/>
                    </a:lnTo>
                    <a:lnTo>
                      <a:pt x="2512" y="16881"/>
                    </a:lnTo>
                    <a:lnTo>
                      <a:pt x="1842" y="15066"/>
                    </a:lnTo>
                    <a:lnTo>
                      <a:pt x="4186" y="14158"/>
                    </a:lnTo>
                    <a:lnTo>
                      <a:pt x="5693" y="12161"/>
                    </a:lnTo>
                    <a:lnTo>
                      <a:pt x="8037" y="10891"/>
                    </a:lnTo>
                    <a:lnTo>
                      <a:pt x="11553" y="9439"/>
                    </a:lnTo>
                    <a:lnTo>
                      <a:pt x="12223" y="7442"/>
                    </a:lnTo>
                    <a:lnTo>
                      <a:pt x="12223" y="5264"/>
                    </a:lnTo>
                    <a:lnTo>
                      <a:pt x="12223" y="4175"/>
                    </a:lnTo>
                    <a:lnTo>
                      <a:pt x="16912" y="0"/>
                    </a:lnTo>
                    <a:close/>
                    <a:moveTo>
                      <a:pt x="16912" y="0"/>
                    </a:moveTo>
                  </a:path>
                </a:pathLst>
              </a:custGeom>
              <a:solidFill>
                <a:srgbClr val="fffef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669" name="Group 13"/>
            <p:cNvGrpSpPr/>
            <p:nvPr/>
          </p:nvGrpSpPr>
          <p:grpSpPr>
            <a:xfrm>
              <a:off x="8186760" y="4778640"/>
              <a:ext cx="1563480" cy="2844720"/>
              <a:chOff x="8186760" y="4778640"/>
              <a:chExt cx="1563480" cy="2844720"/>
            </a:xfrm>
          </p:grpSpPr>
          <p:sp>
            <p:nvSpPr>
              <p:cNvPr id="670" name="AutoShape 9"/>
              <p:cNvSpPr/>
              <p:nvPr/>
            </p:nvSpPr>
            <p:spPr>
              <a:xfrm>
                <a:off x="8194320" y="5772600"/>
                <a:ext cx="1555560" cy="1850760"/>
              </a:xfrm>
              <a:custGeom>
                <a:avLst/>
                <a:gdLst/>
                <a:ahLst/>
                <a:rect l="l" t="t" r="r" b="b"/>
                <a:pathLst>
                  <a:path w="21600" h="21600">
                    <a:moveTo>
                      <a:pt x="0" y="0"/>
                    </a:moveTo>
                    <a:lnTo>
                      <a:pt x="563" y="1137"/>
                    </a:lnTo>
                    <a:cubicBezTo>
                      <a:pt x="563" y="1137"/>
                      <a:pt x="787" y="2274"/>
                      <a:pt x="1350" y="2463"/>
                    </a:cubicBezTo>
                    <a:cubicBezTo>
                      <a:pt x="1912" y="2653"/>
                      <a:pt x="3262" y="5211"/>
                      <a:pt x="3262" y="5211"/>
                    </a:cubicBezTo>
                    <a:lnTo>
                      <a:pt x="3487" y="6821"/>
                    </a:lnTo>
                    <a:cubicBezTo>
                      <a:pt x="3487" y="6821"/>
                      <a:pt x="3375" y="7295"/>
                      <a:pt x="3825" y="7768"/>
                    </a:cubicBezTo>
                    <a:cubicBezTo>
                      <a:pt x="4275" y="8242"/>
                      <a:pt x="4837" y="9000"/>
                      <a:pt x="4837" y="9284"/>
                    </a:cubicBezTo>
                    <a:cubicBezTo>
                      <a:pt x="4837" y="9568"/>
                      <a:pt x="4500" y="10705"/>
                      <a:pt x="4387" y="10895"/>
                    </a:cubicBezTo>
                    <a:cubicBezTo>
                      <a:pt x="4275" y="11084"/>
                      <a:pt x="4388" y="12316"/>
                      <a:pt x="5175" y="13074"/>
                    </a:cubicBezTo>
                    <a:cubicBezTo>
                      <a:pt x="5962" y="13832"/>
                      <a:pt x="6525" y="14495"/>
                      <a:pt x="6525" y="14684"/>
                    </a:cubicBezTo>
                    <a:cubicBezTo>
                      <a:pt x="6525" y="14874"/>
                      <a:pt x="6525" y="15821"/>
                      <a:pt x="6525" y="16105"/>
                    </a:cubicBezTo>
                    <a:cubicBezTo>
                      <a:pt x="6525" y="16389"/>
                      <a:pt x="6637" y="16674"/>
                      <a:pt x="7200" y="17811"/>
                    </a:cubicBezTo>
                    <a:cubicBezTo>
                      <a:pt x="7762" y="18947"/>
                      <a:pt x="8550" y="19895"/>
                      <a:pt x="8775" y="20274"/>
                    </a:cubicBezTo>
                    <a:cubicBezTo>
                      <a:pt x="9000" y="20653"/>
                      <a:pt x="10125" y="21600"/>
                      <a:pt x="10125" y="21600"/>
                    </a:cubicBezTo>
                    <a:lnTo>
                      <a:pt x="11250" y="19800"/>
                    </a:lnTo>
                    <a:cubicBezTo>
                      <a:pt x="11250" y="19800"/>
                      <a:pt x="12938" y="17147"/>
                      <a:pt x="13613" y="16674"/>
                    </a:cubicBezTo>
                    <a:cubicBezTo>
                      <a:pt x="14287" y="16200"/>
                      <a:pt x="15300" y="14305"/>
                      <a:pt x="15300" y="14305"/>
                    </a:cubicBezTo>
                    <a:lnTo>
                      <a:pt x="15413" y="13074"/>
                    </a:lnTo>
                    <a:lnTo>
                      <a:pt x="16762" y="11937"/>
                    </a:lnTo>
                    <a:cubicBezTo>
                      <a:pt x="16762" y="11937"/>
                      <a:pt x="17100" y="8621"/>
                      <a:pt x="17212" y="8053"/>
                    </a:cubicBezTo>
                    <a:cubicBezTo>
                      <a:pt x="17325" y="7484"/>
                      <a:pt x="18000" y="6347"/>
                      <a:pt x="18112" y="6158"/>
                    </a:cubicBezTo>
                    <a:cubicBezTo>
                      <a:pt x="18225" y="5968"/>
                      <a:pt x="18338" y="4737"/>
                      <a:pt x="18225" y="4263"/>
                    </a:cubicBezTo>
                    <a:cubicBezTo>
                      <a:pt x="18112" y="3789"/>
                      <a:pt x="18113" y="3032"/>
                      <a:pt x="18450" y="2842"/>
                    </a:cubicBezTo>
                    <a:cubicBezTo>
                      <a:pt x="18787" y="2653"/>
                      <a:pt x="20025" y="1895"/>
                      <a:pt x="20025" y="1895"/>
                    </a:cubicBezTo>
                    <a:lnTo>
                      <a:pt x="20812" y="1232"/>
                    </a:lnTo>
                    <a:lnTo>
                      <a:pt x="21375" y="663"/>
                    </a:lnTo>
                    <a:lnTo>
                      <a:pt x="21600" y="95"/>
                    </a:lnTo>
                    <a:lnTo>
                      <a:pt x="0" y="0"/>
                    </a:lnTo>
                    <a:close/>
                    <a:moveTo>
                      <a:pt x="0" y="0"/>
                    </a:moveTo>
                  </a:path>
                </a:pathLst>
              </a:custGeom>
              <a:solidFill>
                <a:srgbClr val="2969a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71" name="AutoShape 10"/>
              <p:cNvSpPr/>
              <p:nvPr/>
            </p:nvSpPr>
            <p:spPr>
              <a:xfrm>
                <a:off x="8202240" y="5764680"/>
                <a:ext cx="1531440" cy="1834920"/>
              </a:xfrm>
              <a:custGeom>
                <a:avLst/>
                <a:gdLst/>
                <a:ahLst/>
                <a:rect l="l" t="t" r="r" b="b"/>
                <a:pathLst>
                  <a:path w="21600" h="21600">
                    <a:moveTo>
                      <a:pt x="20000" y="1338"/>
                    </a:moveTo>
                    <a:lnTo>
                      <a:pt x="17486" y="2867"/>
                    </a:lnTo>
                    <a:cubicBezTo>
                      <a:pt x="17486" y="2867"/>
                      <a:pt x="16800" y="3058"/>
                      <a:pt x="16457" y="4970"/>
                    </a:cubicBezTo>
                    <a:cubicBezTo>
                      <a:pt x="16114" y="6881"/>
                      <a:pt x="15657" y="7264"/>
                      <a:pt x="15657" y="7455"/>
                    </a:cubicBezTo>
                    <a:cubicBezTo>
                      <a:pt x="15657" y="7646"/>
                      <a:pt x="14971" y="8028"/>
                      <a:pt x="14971" y="8028"/>
                    </a:cubicBezTo>
                    <a:cubicBezTo>
                      <a:pt x="14971" y="8028"/>
                      <a:pt x="14971" y="10418"/>
                      <a:pt x="15086" y="10704"/>
                    </a:cubicBezTo>
                    <a:cubicBezTo>
                      <a:pt x="15200" y="10991"/>
                      <a:pt x="15886" y="12042"/>
                      <a:pt x="15086" y="13094"/>
                    </a:cubicBezTo>
                    <a:cubicBezTo>
                      <a:pt x="14286" y="14145"/>
                      <a:pt x="13486" y="14814"/>
                      <a:pt x="13486" y="14814"/>
                    </a:cubicBezTo>
                    <a:cubicBezTo>
                      <a:pt x="13486" y="14814"/>
                      <a:pt x="12800" y="15865"/>
                      <a:pt x="12686" y="16152"/>
                    </a:cubicBezTo>
                    <a:cubicBezTo>
                      <a:pt x="12571" y="16439"/>
                      <a:pt x="11771" y="17968"/>
                      <a:pt x="11771" y="17968"/>
                    </a:cubicBezTo>
                    <a:lnTo>
                      <a:pt x="10286" y="19593"/>
                    </a:lnTo>
                    <a:lnTo>
                      <a:pt x="10400" y="20549"/>
                    </a:lnTo>
                    <a:cubicBezTo>
                      <a:pt x="10400" y="20549"/>
                      <a:pt x="9829" y="19688"/>
                      <a:pt x="10286" y="18255"/>
                    </a:cubicBezTo>
                    <a:cubicBezTo>
                      <a:pt x="10743" y="16821"/>
                      <a:pt x="12114" y="14910"/>
                      <a:pt x="12114" y="14719"/>
                    </a:cubicBezTo>
                    <a:cubicBezTo>
                      <a:pt x="12114" y="14527"/>
                      <a:pt x="12800" y="12425"/>
                      <a:pt x="12800" y="12425"/>
                    </a:cubicBezTo>
                    <a:lnTo>
                      <a:pt x="12914" y="10800"/>
                    </a:lnTo>
                    <a:cubicBezTo>
                      <a:pt x="12914" y="10800"/>
                      <a:pt x="12800" y="9940"/>
                      <a:pt x="13143" y="9653"/>
                    </a:cubicBezTo>
                    <a:cubicBezTo>
                      <a:pt x="13486" y="9366"/>
                      <a:pt x="12571" y="8219"/>
                      <a:pt x="12571" y="8219"/>
                    </a:cubicBezTo>
                    <a:cubicBezTo>
                      <a:pt x="12571" y="8219"/>
                      <a:pt x="11657" y="7646"/>
                      <a:pt x="12343" y="6786"/>
                    </a:cubicBezTo>
                    <a:cubicBezTo>
                      <a:pt x="13029" y="5926"/>
                      <a:pt x="13600" y="5352"/>
                      <a:pt x="13829" y="5352"/>
                    </a:cubicBezTo>
                    <a:cubicBezTo>
                      <a:pt x="14057" y="5352"/>
                      <a:pt x="14971" y="4874"/>
                      <a:pt x="14971" y="4874"/>
                    </a:cubicBezTo>
                    <a:lnTo>
                      <a:pt x="15200" y="4396"/>
                    </a:lnTo>
                    <a:lnTo>
                      <a:pt x="13029" y="3632"/>
                    </a:lnTo>
                    <a:lnTo>
                      <a:pt x="13371" y="3058"/>
                    </a:lnTo>
                    <a:lnTo>
                      <a:pt x="14171" y="2772"/>
                    </a:lnTo>
                    <a:cubicBezTo>
                      <a:pt x="14171" y="2772"/>
                      <a:pt x="14171" y="1912"/>
                      <a:pt x="14400" y="1720"/>
                    </a:cubicBezTo>
                    <a:cubicBezTo>
                      <a:pt x="14629" y="1529"/>
                      <a:pt x="14629" y="860"/>
                      <a:pt x="14629" y="860"/>
                    </a:cubicBezTo>
                    <a:lnTo>
                      <a:pt x="13714" y="0"/>
                    </a:lnTo>
                    <a:cubicBezTo>
                      <a:pt x="13714" y="0"/>
                      <a:pt x="13143" y="2007"/>
                      <a:pt x="12686" y="2389"/>
                    </a:cubicBezTo>
                    <a:cubicBezTo>
                      <a:pt x="12229" y="2772"/>
                      <a:pt x="11543" y="3536"/>
                      <a:pt x="11543" y="3536"/>
                    </a:cubicBezTo>
                    <a:cubicBezTo>
                      <a:pt x="11543" y="3536"/>
                      <a:pt x="11543" y="4301"/>
                      <a:pt x="11657" y="4588"/>
                    </a:cubicBezTo>
                    <a:cubicBezTo>
                      <a:pt x="11771" y="4874"/>
                      <a:pt x="11314" y="5639"/>
                      <a:pt x="11200" y="6117"/>
                    </a:cubicBezTo>
                    <a:cubicBezTo>
                      <a:pt x="11086" y="6595"/>
                      <a:pt x="10971" y="7359"/>
                      <a:pt x="10971" y="7933"/>
                    </a:cubicBezTo>
                    <a:cubicBezTo>
                      <a:pt x="10971" y="8506"/>
                      <a:pt x="10629" y="8697"/>
                      <a:pt x="10971" y="10035"/>
                    </a:cubicBezTo>
                    <a:cubicBezTo>
                      <a:pt x="11314" y="11373"/>
                      <a:pt x="11086" y="12520"/>
                      <a:pt x="10971" y="12807"/>
                    </a:cubicBezTo>
                    <a:cubicBezTo>
                      <a:pt x="10857" y="13094"/>
                      <a:pt x="10857" y="13189"/>
                      <a:pt x="10857" y="13572"/>
                    </a:cubicBezTo>
                    <a:cubicBezTo>
                      <a:pt x="10857" y="13954"/>
                      <a:pt x="11086" y="14719"/>
                      <a:pt x="11086" y="14910"/>
                    </a:cubicBezTo>
                    <a:cubicBezTo>
                      <a:pt x="11086" y="15101"/>
                      <a:pt x="10629" y="15961"/>
                      <a:pt x="10514" y="16152"/>
                    </a:cubicBezTo>
                    <a:cubicBezTo>
                      <a:pt x="10400" y="16343"/>
                      <a:pt x="9257" y="19211"/>
                      <a:pt x="9257" y="19211"/>
                    </a:cubicBezTo>
                    <a:lnTo>
                      <a:pt x="8571" y="13476"/>
                    </a:lnTo>
                    <a:cubicBezTo>
                      <a:pt x="8571" y="13476"/>
                      <a:pt x="6286" y="11278"/>
                      <a:pt x="6171" y="11087"/>
                    </a:cubicBezTo>
                    <a:cubicBezTo>
                      <a:pt x="6057" y="10896"/>
                      <a:pt x="8114" y="10035"/>
                      <a:pt x="8914" y="9366"/>
                    </a:cubicBezTo>
                    <a:cubicBezTo>
                      <a:pt x="9714" y="8697"/>
                      <a:pt x="9143" y="8793"/>
                      <a:pt x="8686" y="7168"/>
                    </a:cubicBezTo>
                    <a:cubicBezTo>
                      <a:pt x="8229" y="5543"/>
                      <a:pt x="5943" y="5161"/>
                      <a:pt x="5943" y="5161"/>
                    </a:cubicBezTo>
                    <a:cubicBezTo>
                      <a:pt x="5943" y="5161"/>
                      <a:pt x="5029" y="4588"/>
                      <a:pt x="4914" y="4110"/>
                    </a:cubicBezTo>
                    <a:cubicBezTo>
                      <a:pt x="4800" y="3632"/>
                      <a:pt x="4229" y="1625"/>
                      <a:pt x="4229" y="1625"/>
                    </a:cubicBezTo>
                    <a:lnTo>
                      <a:pt x="7086" y="3727"/>
                    </a:lnTo>
                    <a:cubicBezTo>
                      <a:pt x="7086" y="3727"/>
                      <a:pt x="6057" y="1147"/>
                      <a:pt x="6514" y="573"/>
                    </a:cubicBezTo>
                    <a:cubicBezTo>
                      <a:pt x="6971" y="0"/>
                      <a:pt x="7657" y="478"/>
                      <a:pt x="7657" y="478"/>
                    </a:cubicBezTo>
                    <a:lnTo>
                      <a:pt x="8800" y="3058"/>
                    </a:lnTo>
                    <a:lnTo>
                      <a:pt x="9600" y="3919"/>
                    </a:lnTo>
                    <a:lnTo>
                      <a:pt x="9371" y="1338"/>
                    </a:lnTo>
                    <a:lnTo>
                      <a:pt x="9371" y="96"/>
                    </a:lnTo>
                    <a:lnTo>
                      <a:pt x="0" y="0"/>
                    </a:lnTo>
                    <a:cubicBezTo>
                      <a:pt x="0" y="0"/>
                      <a:pt x="914" y="956"/>
                      <a:pt x="1257" y="1720"/>
                    </a:cubicBezTo>
                    <a:cubicBezTo>
                      <a:pt x="1600" y="2485"/>
                      <a:pt x="3200" y="4588"/>
                      <a:pt x="3200" y="5161"/>
                    </a:cubicBezTo>
                    <a:cubicBezTo>
                      <a:pt x="3200" y="5735"/>
                      <a:pt x="3657" y="6786"/>
                      <a:pt x="4114" y="7742"/>
                    </a:cubicBezTo>
                    <a:cubicBezTo>
                      <a:pt x="4571" y="8697"/>
                      <a:pt x="4914" y="9749"/>
                      <a:pt x="4914" y="10322"/>
                    </a:cubicBezTo>
                    <a:cubicBezTo>
                      <a:pt x="4914" y="10896"/>
                      <a:pt x="4229" y="11851"/>
                      <a:pt x="4800" y="12425"/>
                    </a:cubicBezTo>
                    <a:cubicBezTo>
                      <a:pt x="5371" y="12998"/>
                      <a:pt x="5943" y="14432"/>
                      <a:pt x="6400" y="14719"/>
                    </a:cubicBezTo>
                    <a:cubicBezTo>
                      <a:pt x="6857" y="15005"/>
                      <a:pt x="6629" y="15292"/>
                      <a:pt x="6971" y="16439"/>
                    </a:cubicBezTo>
                    <a:cubicBezTo>
                      <a:pt x="7314" y="17586"/>
                      <a:pt x="7657" y="18542"/>
                      <a:pt x="8000" y="19115"/>
                    </a:cubicBezTo>
                    <a:cubicBezTo>
                      <a:pt x="8343" y="19688"/>
                      <a:pt x="10057" y="21600"/>
                      <a:pt x="10057" y="21600"/>
                    </a:cubicBezTo>
                    <a:cubicBezTo>
                      <a:pt x="10057" y="21600"/>
                      <a:pt x="15086" y="14910"/>
                      <a:pt x="15429" y="14336"/>
                    </a:cubicBezTo>
                    <a:cubicBezTo>
                      <a:pt x="15771" y="13763"/>
                      <a:pt x="15657" y="13094"/>
                      <a:pt x="15657" y="13094"/>
                    </a:cubicBezTo>
                    <a:lnTo>
                      <a:pt x="16457" y="11851"/>
                    </a:lnTo>
                    <a:lnTo>
                      <a:pt x="17371" y="9844"/>
                    </a:lnTo>
                    <a:cubicBezTo>
                      <a:pt x="17371" y="9844"/>
                      <a:pt x="17257" y="8506"/>
                      <a:pt x="17371" y="8028"/>
                    </a:cubicBezTo>
                    <a:cubicBezTo>
                      <a:pt x="17486" y="7550"/>
                      <a:pt x="18286" y="6117"/>
                      <a:pt x="18286" y="6117"/>
                    </a:cubicBezTo>
                    <a:lnTo>
                      <a:pt x="18400" y="2772"/>
                    </a:lnTo>
                    <a:lnTo>
                      <a:pt x="21029" y="956"/>
                    </a:lnTo>
                    <a:lnTo>
                      <a:pt x="21600" y="96"/>
                    </a:lnTo>
                    <a:lnTo>
                      <a:pt x="20000" y="1338"/>
                    </a:lnTo>
                    <a:close/>
                    <a:moveTo>
                      <a:pt x="20000" y="1338"/>
                    </a:moveTo>
                  </a:path>
                </a:pathLst>
              </a:custGeom>
              <a:solidFill>
                <a:srgbClr val="65a0e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72" name="AutoShape 11"/>
              <p:cNvSpPr/>
              <p:nvPr/>
            </p:nvSpPr>
            <p:spPr>
              <a:xfrm>
                <a:off x="8186760" y="4778640"/>
                <a:ext cx="1563480" cy="1029240"/>
              </a:xfrm>
              <a:custGeom>
                <a:avLst/>
                <a:gdLst/>
                <a:ahLst/>
                <a:rect l="l" t="t" r="r" b="b"/>
                <a:pathLst>
                  <a:path w="21495" h="21600">
                    <a:moveTo>
                      <a:pt x="118" y="21090"/>
                    </a:moveTo>
                    <a:cubicBezTo>
                      <a:pt x="118" y="21090"/>
                      <a:pt x="118" y="19389"/>
                      <a:pt x="6" y="19049"/>
                    </a:cubicBezTo>
                    <a:cubicBezTo>
                      <a:pt x="-105" y="18709"/>
                      <a:pt x="1231" y="17178"/>
                      <a:pt x="1231" y="17178"/>
                    </a:cubicBezTo>
                    <a:lnTo>
                      <a:pt x="1899" y="16498"/>
                    </a:lnTo>
                    <a:lnTo>
                      <a:pt x="1231" y="14967"/>
                    </a:lnTo>
                    <a:lnTo>
                      <a:pt x="2010" y="14287"/>
                    </a:lnTo>
                    <a:lnTo>
                      <a:pt x="3013" y="13436"/>
                    </a:lnTo>
                    <a:cubicBezTo>
                      <a:pt x="3013" y="13436"/>
                      <a:pt x="3347" y="12416"/>
                      <a:pt x="4794" y="11565"/>
                    </a:cubicBezTo>
                    <a:cubicBezTo>
                      <a:pt x="6241" y="10715"/>
                      <a:pt x="7132" y="9865"/>
                      <a:pt x="7132" y="9865"/>
                    </a:cubicBezTo>
                    <a:cubicBezTo>
                      <a:pt x="7132" y="9865"/>
                      <a:pt x="7577" y="9865"/>
                      <a:pt x="7911" y="8844"/>
                    </a:cubicBezTo>
                    <a:cubicBezTo>
                      <a:pt x="8246" y="7824"/>
                      <a:pt x="8357" y="7313"/>
                      <a:pt x="8357" y="6633"/>
                    </a:cubicBezTo>
                    <a:cubicBezTo>
                      <a:pt x="8357" y="5953"/>
                      <a:pt x="8023" y="5443"/>
                      <a:pt x="8580" y="4592"/>
                    </a:cubicBezTo>
                    <a:cubicBezTo>
                      <a:pt x="9136" y="3742"/>
                      <a:pt x="11697" y="0"/>
                      <a:pt x="11697" y="0"/>
                    </a:cubicBezTo>
                    <a:cubicBezTo>
                      <a:pt x="11697" y="0"/>
                      <a:pt x="11920" y="850"/>
                      <a:pt x="12476" y="1531"/>
                    </a:cubicBezTo>
                    <a:cubicBezTo>
                      <a:pt x="13033" y="2211"/>
                      <a:pt x="13256" y="2891"/>
                      <a:pt x="13256" y="3402"/>
                    </a:cubicBezTo>
                    <a:cubicBezTo>
                      <a:pt x="13256" y="3912"/>
                      <a:pt x="11920" y="2891"/>
                      <a:pt x="13367" y="4762"/>
                    </a:cubicBezTo>
                    <a:cubicBezTo>
                      <a:pt x="14815" y="6633"/>
                      <a:pt x="15037" y="7824"/>
                      <a:pt x="15149" y="8164"/>
                    </a:cubicBezTo>
                    <a:cubicBezTo>
                      <a:pt x="15260" y="8504"/>
                      <a:pt x="15149" y="9694"/>
                      <a:pt x="15483" y="10035"/>
                    </a:cubicBezTo>
                    <a:cubicBezTo>
                      <a:pt x="15817" y="10375"/>
                      <a:pt x="16930" y="11735"/>
                      <a:pt x="17153" y="11906"/>
                    </a:cubicBezTo>
                    <a:cubicBezTo>
                      <a:pt x="17375" y="12076"/>
                      <a:pt x="17709" y="14117"/>
                      <a:pt x="17709" y="14117"/>
                    </a:cubicBezTo>
                    <a:cubicBezTo>
                      <a:pt x="17709" y="14117"/>
                      <a:pt x="17932" y="14967"/>
                      <a:pt x="18155" y="15137"/>
                    </a:cubicBezTo>
                    <a:cubicBezTo>
                      <a:pt x="18377" y="15307"/>
                      <a:pt x="19602" y="15137"/>
                      <a:pt x="19602" y="15137"/>
                    </a:cubicBezTo>
                    <a:lnTo>
                      <a:pt x="20048" y="17008"/>
                    </a:lnTo>
                    <a:cubicBezTo>
                      <a:pt x="20048" y="17008"/>
                      <a:pt x="20048" y="18709"/>
                      <a:pt x="20382" y="18879"/>
                    </a:cubicBezTo>
                    <a:cubicBezTo>
                      <a:pt x="20716" y="19049"/>
                      <a:pt x="21384" y="19729"/>
                      <a:pt x="21384" y="20239"/>
                    </a:cubicBezTo>
                    <a:cubicBezTo>
                      <a:pt x="21384" y="20750"/>
                      <a:pt x="21495" y="21600"/>
                      <a:pt x="21495" y="21600"/>
                    </a:cubicBezTo>
                    <a:lnTo>
                      <a:pt x="118" y="21090"/>
                    </a:lnTo>
                    <a:close/>
                    <a:moveTo>
                      <a:pt x="118" y="21090"/>
                    </a:moveTo>
                  </a:path>
                </a:pathLst>
              </a:custGeom>
              <a:solidFill>
                <a:srgbClr val="8ba1bf"/>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73" name="AutoShape 12"/>
              <p:cNvSpPr/>
              <p:nvPr/>
            </p:nvSpPr>
            <p:spPr>
              <a:xfrm>
                <a:off x="8202240" y="4827960"/>
                <a:ext cx="1044360" cy="965520"/>
              </a:xfrm>
              <a:custGeom>
                <a:avLst/>
                <a:gdLst/>
                <a:ahLst/>
                <a:rect l="l" t="t" r="r" b="b"/>
                <a:pathLst>
                  <a:path w="21600" h="21600">
                    <a:moveTo>
                      <a:pt x="16912" y="0"/>
                    </a:moveTo>
                    <a:lnTo>
                      <a:pt x="14735" y="3812"/>
                    </a:lnTo>
                    <a:lnTo>
                      <a:pt x="16577" y="2723"/>
                    </a:lnTo>
                    <a:cubicBezTo>
                      <a:pt x="16577" y="2723"/>
                      <a:pt x="16409" y="5808"/>
                      <a:pt x="15740" y="6171"/>
                    </a:cubicBezTo>
                    <a:cubicBezTo>
                      <a:pt x="15070" y="6534"/>
                      <a:pt x="17581" y="6353"/>
                      <a:pt x="17581" y="8168"/>
                    </a:cubicBezTo>
                    <a:cubicBezTo>
                      <a:pt x="17581" y="9983"/>
                      <a:pt x="17581" y="11072"/>
                      <a:pt x="16409" y="12706"/>
                    </a:cubicBezTo>
                    <a:cubicBezTo>
                      <a:pt x="15237" y="14339"/>
                      <a:pt x="17749" y="15973"/>
                      <a:pt x="17749" y="15973"/>
                    </a:cubicBezTo>
                    <a:lnTo>
                      <a:pt x="15740" y="16881"/>
                    </a:lnTo>
                    <a:lnTo>
                      <a:pt x="14065" y="16881"/>
                    </a:lnTo>
                    <a:cubicBezTo>
                      <a:pt x="14065" y="16881"/>
                      <a:pt x="13228" y="17788"/>
                      <a:pt x="15070" y="18151"/>
                    </a:cubicBezTo>
                    <a:cubicBezTo>
                      <a:pt x="16912" y="18514"/>
                      <a:pt x="17916" y="18333"/>
                      <a:pt x="18753" y="18696"/>
                    </a:cubicBezTo>
                    <a:cubicBezTo>
                      <a:pt x="19591" y="19059"/>
                      <a:pt x="20930" y="20511"/>
                      <a:pt x="20930" y="20511"/>
                    </a:cubicBezTo>
                    <a:lnTo>
                      <a:pt x="21600" y="21600"/>
                    </a:lnTo>
                    <a:lnTo>
                      <a:pt x="0" y="21418"/>
                    </a:lnTo>
                    <a:lnTo>
                      <a:pt x="167" y="18696"/>
                    </a:lnTo>
                    <a:lnTo>
                      <a:pt x="2512" y="16881"/>
                    </a:lnTo>
                    <a:lnTo>
                      <a:pt x="1842" y="15066"/>
                    </a:lnTo>
                    <a:lnTo>
                      <a:pt x="4186" y="14158"/>
                    </a:lnTo>
                    <a:lnTo>
                      <a:pt x="5693" y="12161"/>
                    </a:lnTo>
                    <a:lnTo>
                      <a:pt x="8037" y="10891"/>
                    </a:lnTo>
                    <a:lnTo>
                      <a:pt x="11553" y="9439"/>
                    </a:lnTo>
                    <a:lnTo>
                      <a:pt x="12223" y="7442"/>
                    </a:lnTo>
                    <a:lnTo>
                      <a:pt x="12223" y="5264"/>
                    </a:lnTo>
                    <a:lnTo>
                      <a:pt x="12223" y="4175"/>
                    </a:lnTo>
                    <a:lnTo>
                      <a:pt x="16912" y="0"/>
                    </a:lnTo>
                    <a:close/>
                    <a:moveTo>
                      <a:pt x="16912" y="0"/>
                    </a:moveTo>
                  </a:path>
                </a:pathLst>
              </a:custGeom>
              <a:solidFill>
                <a:srgbClr val="fffef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674" name="Group 18"/>
            <p:cNvGrpSpPr/>
            <p:nvPr/>
          </p:nvGrpSpPr>
          <p:grpSpPr>
            <a:xfrm>
              <a:off x="14666400" y="4956480"/>
              <a:ext cx="1026720" cy="1868040"/>
              <a:chOff x="14666400" y="4956480"/>
              <a:chExt cx="1026720" cy="1868040"/>
            </a:xfrm>
          </p:grpSpPr>
          <p:sp>
            <p:nvSpPr>
              <p:cNvPr id="675" name="AutoShape 14"/>
              <p:cNvSpPr/>
              <p:nvPr/>
            </p:nvSpPr>
            <p:spPr>
              <a:xfrm>
                <a:off x="14671080" y="5609160"/>
                <a:ext cx="1022040" cy="1215360"/>
              </a:xfrm>
              <a:custGeom>
                <a:avLst/>
                <a:gdLst/>
                <a:ahLst/>
                <a:rect l="l" t="t" r="r" b="b"/>
                <a:pathLst>
                  <a:path w="21600" h="21600">
                    <a:moveTo>
                      <a:pt x="0" y="0"/>
                    </a:moveTo>
                    <a:lnTo>
                      <a:pt x="563" y="1137"/>
                    </a:lnTo>
                    <a:cubicBezTo>
                      <a:pt x="563" y="1137"/>
                      <a:pt x="787" y="2274"/>
                      <a:pt x="1350" y="2463"/>
                    </a:cubicBezTo>
                    <a:cubicBezTo>
                      <a:pt x="1912" y="2653"/>
                      <a:pt x="3262" y="5211"/>
                      <a:pt x="3262" y="5211"/>
                    </a:cubicBezTo>
                    <a:lnTo>
                      <a:pt x="3488" y="6821"/>
                    </a:lnTo>
                    <a:cubicBezTo>
                      <a:pt x="3488" y="6821"/>
                      <a:pt x="3375" y="7295"/>
                      <a:pt x="3825" y="7768"/>
                    </a:cubicBezTo>
                    <a:cubicBezTo>
                      <a:pt x="4275" y="8242"/>
                      <a:pt x="4837" y="9000"/>
                      <a:pt x="4837" y="9284"/>
                    </a:cubicBezTo>
                    <a:cubicBezTo>
                      <a:pt x="4837" y="9568"/>
                      <a:pt x="4500" y="10705"/>
                      <a:pt x="4387" y="10895"/>
                    </a:cubicBezTo>
                    <a:cubicBezTo>
                      <a:pt x="4275" y="11084"/>
                      <a:pt x="4388" y="12316"/>
                      <a:pt x="5175" y="13074"/>
                    </a:cubicBezTo>
                    <a:cubicBezTo>
                      <a:pt x="5962" y="13832"/>
                      <a:pt x="6525" y="14495"/>
                      <a:pt x="6525" y="14684"/>
                    </a:cubicBezTo>
                    <a:cubicBezTo>
                      <a:pt x="6525" y="14874"/>
                      <a:pt x="6525" y="15821"/>
                      <a:pt x="6525" y="16105"/>
                    </a:cubicBezTo>
                    <a:cubicBezTo>
                      <a:pt x="6525" y="16389"/>
                      <a:pt x="6637" y="16674"/>
                      <a:pt x="7200" y="17811"/>
                    </a:cubicBezTo>
                    <a:cubicBezTo>
                      <a:pt x="7762" y="18947"/>
                      <a:pt x="8550" y="19895"/>
                      <a:pt x="8775" y="20274"/>
                    </a:cubicBezTo>
                    <a:cubicBezTo>
                      <a:pt x="9000" y="20653"/>
                      <a:pt x="10125" y="21600"/>
                      <a:pt x="10125" y="21600"/>
                    </a:cubicBezTo>
                    <a:lnTo>
                      <a:pt x="11250" y="19800"/>
                    </a:lnTo>
                    <a:cubicBezTo>
                      <a:pt x="11250" y="19800"/>
                      <a:pt x="12938" y="17147"/>
                      <a:pt x="13612" y="16674"/>
                    </a:cubicBezTo>
                    <a:cubicBezTo>
                      <a:pt x="14287" y="16200"/>
                      <a:pt x="15300" y="14305"/>
                      <a:pt x="15300" y="14305"/>
                    </a:cubicBezTo>
                    <a:lnTo>
                      <a:pt x="15413" y="13074"/>
                    </a:lnTo>
                    <a:lnTo>
                      <a:pt x="16762" y="11937"/>
                    </a:lnTo>
                    <a:cubicBezTo>
                      <a:pt x="16762" y="11937"/>
                      <a:pt x="17100" y="8621"/>
                      <a:pt x="17212" y="8053"/>
                    </a:cubicBezTo>
                    <a:cubicBezTo>
                      <a:pt x="17325" y="7484"/>
                      <a:pt x="18000" y="6347"/>
                      <a:pt x="18113" y="6158"/>
                    </a:cubicBezTo>
                    <a:cubicBezTo>
                      <a:pt x="18225" y="5968"/>
                      <a:pt x="18338" y="4737"/>
                      <a:pt x="18225" y="4263"/>
                    </a:cubicBezTo>
                    <a:cubicBezTo>
                      <a:pt x="18113" y="3789"/>
                      <a:pt x="18113" y="3032"/>
                      <a:pt x="18450" y="2842"/>
                    </a:cubicBezTo>
                    <a:cubicBezTo>
                      <a:pt x="18787" y="2653"/>
                      <a:pt x="20025" y="1895"/>
                      <a:pt x="20025" y="1895"/>
                    </a:cubicBezTo>
                    <a:lnTo>
                      <a:pt x="20812" y="1232"/>
                    </a:lnTo>
                    <a:lnTo>
                      <a:pt x="21375" y="663"/>
                    </a:lnTo>
                    <a:lnTo>
                      <a:pt x="21600" y="95"/>
                    </a:lnTo>
                    <a:lnTo>
                      <a:pt x="0" y="0"/>
                    </a:lnTo>
                    <a:close/>
                    <a:moveTo>
                      <a:pt x="0" y="0"/>
                    </a:moveTo>
                  </a:path>
                </a:pathLst>
              </a:custGeom>
              <a:solidFill>
                <a:srgbClr val="2969a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76" name="AutoShape 15"/>
              <p:cNvSpPr/>
              <p:nvPr/>
            </p:nvSpPr>
            <p:spPr>
              <a:xfrm>
                <a:off x="14675760" y="5604480"/>
                <a:ext cx="1006200" cy="1204200"/>
              </a:xfrm>
              <a:custGeom>
                <a:avLst/>
                <a:gdLst/>
                <a:ahLst/>
                <a:rect l="l" t="t" r="r" b="b"/>
                <a:pathLst>
                  <a:path w="21600" h="21600">
                    <a:moveTo>
                      <a:pt x="20000" y="1338"/>
                    </a:moveTo>
                    <a:lnTo>
                      <a:pt x="17486" y="2867"/>
                    </a:lnTo>
                    <a:cubicBezTo>
                      <a:pt x="17486" y="2867"/>
                      <a:pt x="16800" y="3058"/>
                      <a:pt x="16457" y="4970"/>
                    </a:cubicBezTo>
                    <a:cubicBezTo>
                      <a:pt x="16114" y="6881"/>
                      <a:pt x="15657" y="7264"/>
                      <a:pt x="15657" y="7455"/>
                    </a:cubicBezTo>
                    <a:cubicBezTo>
                      <a:pt x="15657" y="7646"/>
                      <a:pt x="14971" y="8028"/>
                      <a:pt x="14971" y="8028"/>
                    </a:cubicBezTo>
                    <a:cubicBezTo>
                      <a:pt x="14971" y="8028"/>
                      <a:pt x="14971" y="10418"/>
                      <a:pt x="15086" y="10704"/>
                    </a:cubicBezTo>
                    <a:cubicBezTo>
                      <a:pt x="15200" y="10991"/>
                      <a:pt x="15886" y="12042"/>
                      <a:pt x="15086" y="13094"/>
                    </a:cubicBezTo>
                    <a:cubicBezTo>
                      <a:pt x="14286" y="14145"/>
                      <a:pt x="13486" y="14814"/>
                      <a:pt x="13486" y="14814"/>
                    </a:cubicBezTo>
                    <a:cubicBezTo>
                      <a:pt x="13486" y="14814"/>
                      <a:pt x="12800" y="15865"/>
                      <a:pt x="12686" y="16152"/>
                    </a:cubicBezTo>
                    <a:cubicBezTo>
                      <a:pt x="12571" y="16439"/>
                      <a:pt x="11771" y="17968"/>
                      <a:pt x="11771" y="17968"/>
                    </a:cubicBezTo>
                    <a:lnTo>
                      <a:pt x="10286" y="19593"/>
                    </a:lnTo>
                    <a:lnTo>
                      <a:pt x="10400" y="20549"/>
                    </a:lnTo>
                    <a:cubicBezTo>
                      <a:pt x="10400" y="20549"/>
                      <a:pt x="9829" y="19688"/>
                      <a:pt x="10286" y="18255"/>
                    </a:cubicBezTo>
                    <a:cubicBezTo>
                      <a:pt x="10743" y="16821"/>
                      <a:pt x="12114" y="14910"/>
                      <a:pt x="12114" y="14719"/>
                    </a:cubicBezTo>
                    <a:cubicBezTo>
                      <a:pt x="12114" y="14527"/>
                      <a:pt x="12800" y="12425"/>
                      <a:pt x="12800" y="12425"/>
                    </a:cubicBezTo>
                    <a:lnTo>
                      <a:pt x="12914" y="10800"/>
                    </a:lnTo>
                    <a:cubicBezTo>
                      <a:pt x="12914" y="10800"/>
                      <a:pt x="12800" y="9940"/>
                      <a:pt x="13143" y="9653"/>
                    </a:cubicBezTo>
                    <a:cubicBezTo>
                      <a:pt x="13486" y="9366"/>
                      <a:pt x="12571" y="8219"/>
                      <a:pt x="12571" y="8219"/>
                    </a:cubicBezTo>
                    <a:cubicBezTo>
                      <a:pt x="12571" y="8219"/>
                      <a:pt x="11657" y="7646"/>
                      <a:pt x="12343" y="6786"/>
                    </a:cubicBezTo>
                    <a:cubicBezTo>
                      <a:pt x="13029" y="5926"/>
                      <a:pt x="13600" y="5352"/>
                      <a:pt x="13829" y="5352"/>
                    </a:cubicBezTo>
                    <a:cubicBezTo>
                      <a:pt x="14057" y="5352"/>
                      <a:pt x="14971" y="4874"/>
                      <a:pt x="14971" y="4874"/>
                    </a:cubicBezTo>
                    <a:lnTo>
                      <a:pt x="15200" y="4396"/>
                    </a:lnTo>
                    <a:lnTo>
                      <a:pt x="13029" y="3632"/>
                    </a:lnTo>
                    <a:lnTo>
                      <a:pt x="13371" y="3058"/>
                    </a:lnTo>
                    <a:lnTo>
                      <a:pt x="14171" y="2772"/>
                    </a:lnTo>
                    <a:cubicBezTo>
                      <a:pt x="14171" y="2772"/>
                      <a:pt x="14171" y="1911"/>
                      <a:pt x="14400" y="1720"/>
                    </a:cubicBezTo>
                    <a:cubicBezTo>
                      <a:pt x="14629" y="1529"/>
                      <a:pt x="14629" y="860"/>
                      <a:pt x="14629" y="860"/>
                    </a:cubicBezTo>
                    <a:lnTo>
                      <a:pt x="13714" y="0"/>
                    </a:lnTo>
                    <a:cubicBezTo>
                      <a:pt x="13714" y="0"/>
                      <a:pt x="13143" y="2007"/>
                      <a:pt x="12686" y="2389"/>
                    </a:cubicBezTo>
                    <a:cubicBezTo>
                      <a:pt x="12229" y="2772"/>
                      <a:pt x="11543" y="3536"/>
                      <a:pt x="11543" y="3536"/>
                    </a:cubicBezTo>
                    <a:cubicBezTo>
                      <a:pt x="11543" y="3536"/>
                      <a:pt x="11543" y="4301"/>
                      <a:pt x="11657" y="4588"/>
                    </a:cubicBezTo>
                    <a:cubicBezTo>
                      <a:pt x="11771" y="4874"/>
                      <a:pt x="11314" y="5639"/>
                      <a:pt x="11200" y="6117"/>
                    </a:cubicBezTo>
                    <a:cubicBezTo>
                      <a:pt x="11086" y="6595"/>
                      <a:pt x="10971" y="7359"/>
                      <a:pt x="10971" y="7933"/>
                    </a:cubicBezTo>
                    <a:cubicBezTo>
                      <a:pt x="10971" y="8506"/>
                      <a:pt x="10629" y="8697"/>
                      <a:pt x="10971" y="10035"/>
                    </a:cubicBezTo>
                    <a:cubicBezTo>
                      <a:pt x="11314" y="11373"/>
                      <a:pt x="11086" y="12520"/>
                      <a:pt x="10971" y="12807"/>
                    </a:cubicBezTo>
                    <a:cubicBezTo>
                      <a:pt x="10857" y="13094"/>
                      <a:pt x="10857" y="13189"/>
                      <a:pt x="10857" y="13572"/>
                    </a:cubicBezTo>
                    <a:cubicBezTo>
                      <a:pt x="10857" y="13954"/>
                      <a:pt x="11086" y="14719"/>
                      <a:pt x="11086" y="14910"/>
                    </a:cubicBezTo>
                    <a:cubicBezTo>
                      <a:pt x="11086" y="15101"/>
                      <a:pt x="10629" y="15961"/>
                      <a:pt x="10514" y="16152"/>
                    </a:cubicBezTo>
                    <a:cubicBezTo>
                      <a:pt x="10400" y="16343"/>
                      <a:pt x="9257" y="19211"/>
                      <a:pt x="9257" y="19211"/>
                    </a:cubicBezTo>
                    <a:lnTo>
                      <a:pt x="8571" y="13476"/>
                    </a:lnTo>
                    <a:cubicBezTo>
                      <a:pt x="8571" y="13476"/>
                      <a:pt x="6286" y="11278"/>
                      <a:pt x="6171" y="11087"/>
                    </a:cubicBezTo>
                    <a:cubicBezTo>
                      <a:pt x="6057" y="10896"/>
                      <a:pt x="8114" y="10035"/>
                      <a:pt x="8914" y="9366"/>
                    </a:cubicBezTo>
                    <a:cubicBezTo>
                      <a:pt x="9714" y="8697"/>
                      <a:pt x="9143" y="8793"/>
                      <a:pt x="8686" y="7168"/>
                    </a:cubicBezTo>
                    <a:cubicBezTo>
                      <a:pt x="8229" y="5543"/>
                      <a:pt x="5943" y="5161"/>
                      <a:pt x="5943" y="5161"/>
                    </a:cubicBezTo>
                    <a:cubicBezTo>
                      <a:pt x="5943" y="5161"/>
                      <a:pt x="5029" y="4588"/>
                      <a:pt x="4914" y="4110"/>
                    </a:cubicBezTo>
                    <a:cubicBezTo>
                      <a:pt x="4800" y="3632"/>
                      <a:pt x="4229" y="1625"/>
                      <a:pt x="4229" y="1625"/>
                    </a:cubicBezTo>
                    <a:lnTo>
                      <a:pt x="7086" y="3727"/>
                    </a:lnTo>
                    <a:cubicBezTo>
                      <a:pt x="7086" y="3727"/>
                      <a:pt x="6057" y="1147"/>
                      <a:pt x="6514" y="573"/>
                    </a:cubicBezTo>
                    <a:cubicBezTo>
                      <a:pt x="6971" y="0"/>
                      <a:pt x="7657" y="478"/>
                      <a:pt x="7657" y="478"/>
                    </a:cubicBezTo>
                    <a:lnTo>
                      <a:pt x="8800" y="3058"/>
                    </a:lnTo>
                    <a:lnTo>
                      <a:pt x="9600" y="3919"/>
                    </a:lnTo>
                    <a:lnTo>
                      <a:pt x="9371" y="1338"/>
                    </a:lnTo>
                    <a:lnTo>
                      <a:pt x="9371" y="96"/>
                    </a:lnTo>
                    <a:lnTo>
                      <a:pt x="0" y="0"/>
                    </a:lnTo>
                    <a:cubicBezTo>
                      <a:pt x="0" y="0"/>
                      <a:pt x="914" y="956"/>
                      <a:pt x="1257" y="1720"/>
                    </a:cubicBezTo>
                    <a:cubicBezTo>
                      <a:pt x="1600" y="2485"/>
                      <a:pt x="3200" y="4588"/>
                      <a:pt x="3200" y="5161"/>
                    </a:cubicBezTo>
                    <a:cubicBezTo>
                      <a:pt x="3200" y="5735"/>
                      <a:pt x="3657" y="6786"/>
                      <a:pt x="4114" y="7742"/>
                    </a:cubicBezTo>
                    <a:cubicBezTo>
                      <a:pt x="4571" y="8697"/>
                      <a:pt x="4914" y="9749"/>
                      <a:pt x="4914" y="10322"/>
                    </a:cubicBezTo>
                    <a:cubicBezTo>
                      <a:pt x="4914" y="10896"/>
                      <a:pt x="4229" y="11851"/>
                      <a:pt x="4800" y="12425"/>
                    </a:cubicBezTo>
                    <a:cubicBezTo>
                      <a:pt x="5371" y="12998"/>
                      <a:pt x="5943" y="14432"/>
                      <a:pt x="6400" y="14719"/>
                    </a:cubicBezTo>
                    <a:cubicBezTo>
                      <a:pt x="6857" y="15005"/>
                      <a:pt x="6629" y="15292"/>
                      <a:pt x="6971" y="16439"/>
                    </a:cubicBezTo>
                    <a:cubicBezTo>
                      <a:pt x="7314" y="17586"/>
                      <a:pt x="7657" y="18542"/>
                      <a:pt x="8000" y="19115"/>
                    </a:cubicBezTo>
                    <a:cubicBezTo>
                      <a:pt x="8343" y="19688"/>
                      <a:pt x="10057" y="21600"/>
                      <a:pt x="10057" y="21600"/>
                    </a:cubicBezTo>
                    <a:cubicBezTo>
                      <a:pt x="10057" y="21600"/>
                      <a:pt x="15086" y="14910"/>
                      <a:pt x="15429" y="14336"/>
                    </a:cubicBezTo>
                    <a:cubicBezTo>
                      <a:pt x="15771" y="13763"/>
                      <a:pt x="15657" y="13094"/>
                      <a:pt x="15657" y="13094"/>
                    </a:cubicBezTo>
                    <a:lnTo>
                      <a:pt x="16457" y="11851"/>
                    </a:lnTo>
                    <a:lnTo>
                      <a:pt x="17371" y="9844"/>
                    </a:lnTo>
                    <a:cubicBezTo>
                      <a:pt x="17371" y="9844"/>
                      <a:pt x="17257" y="8506"/>
                      <a:pt x="17371" y="8028"/>
                    </a:cubicBezTo>
                    <a:cubicBezTo>
                      <a:pt x="17486" y="7550"/>
                      <a:pt x="18286" y="6117"/>
                      <a:pt x="18286" y="6117"/>
                    </a:cubicBezTo>
                    <a:lnTo>
                      <a:pt x="18400" y="2772"/>
                    </a:lnTo>
                    <a:lnTo>
                      <a:pt x="21029" y="956"/>
                    </a:lnTo>
                    <a:lnTo>
                      <a:pt x="21600" y="96"/>
                    </a:lnTo>
                    <a:lnTo>
                      <a:pt x="20000" y="1338"/>
                    </a:lnTo>
                    <a:close/>
                    <a:moveTo>
                      <a:pt x="20000" y="1338"/>
                    </a:moveTo>
                  </a:path>
                </a:pathLst>
              </a:custGeom>
              <a:solidFill>
                <a:srgbClr val="65a0e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77" name="AutoShape 16"/>
              <p:cNvSpPr/>
              <p:nvPr/>
            </p:nvSpPr>
            <p:spPr>
              <a:xfrm>
                <a:off x="14666400" y="4956480"/>
                <a:ext cx="1026720" cy="676800"/>
              </a:xfrm>
              <a:custGeom>
                <a:avLst/>
                <a:gdLst/>
                <a:ahLst/>
                <a:rect l="l" t="t" r="r" b="b"/>
                <a:pathLst>
                  <a:path w="21495" h="21600">
                    <a:moveTo>
                      <a:pt x="118" y="21090"/>
                    </a:moveTo>
                    <a:cubicBezTo>
                      <a:pt x="118" y="21090"/>
                      <a:pt x="118" y="19389"/>
                      <a:pt x="6" y="19049"/>
                    </a:cubicBezTo>
                    <a:cubicBezTo>
                      <a:pt x="-105" y="18709"/>
                      <a:pt x="1231" y="17178"/>
                      <a:pt x="1231" y="17178"/>
                    </a:cubicBezTo>
                    <a:lnTo>
                      <a:pt x="1899" y="16498"/>
                    </a:lnTo>
                    <a:lnTo>
                      <a:pt x="1231" y="14967"/>
                    </a:lnTo>
                    <a:lnTo>
                      <a:pt x="2010" y="14287"/>
                    </a:lnTo>
                    <a:lnTo>
                      <a:pt x="3013" y="13436"/>
                    </a:lnTo>
                    <a:cubicBezTo>
                      <a:pt x="3013" y="13436"/>
                      <a:pt x="3347" y="12416"/>
                      <a:pt x="4794" y="11565"/>
                    </a:cubicBezTo>
                    <a:cubicBezTo>
                      <a:pt x="6241" y="10715"/>
                      <a:pt x="7132" y="9865"/>
                      <a:pt x="7132" y="9865"/>
                    </a:cubicBezTo>
                    <a:cubicBezTo>
                      <a:pt x="7132" y="9865"/>
                      <a:pt x="7577" y="9865"/>
                      <a:pt x="7911" y="8844"/>
                    </a:cubicBezTo>
                    <a:cubicBezTo>
                      <a:pt x="8246" y="7824"/>
                      <a:pt x="8357" y="7313"/>
                      <a:pt x="8357" y="6633"/>
                    </a:cubicBezTo>
                    <a:cubicBezTo>
                      <a:pt x="8357" y="5953"/>
                      <a:pt x="8023" y="5443"/>
                      <a:pt x="8580" y="4592"/>
                    </a:cubicBezTo>
                    <a:cubicBezTo>
                      <a:pt x="9136" y="3742"/>
                      <a:pt x="11697" y="0"/>
                      <a:pt x="11697" y="0"/>
                    </a:cubicBezTo>
                    <a:cubicBezTo>
                      <a:pt x="11697" y="0"/>
                      <a:pt x="11920" y="850"/>
                      <a:pt x="12476" y="1531"/>
                    </a:cubicBezTo>
                    <a:cubicBezTo>
                      <a:pt x="13033" y="2211"/>
                      <a:pt x="13256" y="2891"/>
                      <a:pt x="13256" y="3402"/>
                    </a:cubicBezTo>
                    <a:cubicBezTo>
                      <a:pt x="13256" y="3912"/>
                      <a:pt x="11920" y="2891"/>
                      <a:pt x="13367" y="4762"/>
                    </a:cubicBezTo>
                    <a:cubicBezTo>
                      <a:pt x="14815" y="6633"/>
                      <a:pt x="15037" y="7824"/>
                      <a:pt x="15149" y="8164"/>
                    </a:cubicBezTo>
                    <a:cubicBezTo>
                      <a:pt x="15260" y="8504"/>
                      <a:pt x="15149" y="9694"/>
                      <a:pt x="15483" y="10035"/>
                    </a:cubicBezTo>
                    <a:cubicBezTo>
                      <a:pt x="15817" y="10375"/>
                      <a:pt x="16930" y="11735"/>
                      <a:pt x="17153" y="11906"/>
                    </a:cubicBezTo>
                    <a:cubicBezTo>
                      <a:pt x="17375" y="12076"/>
                      <a:pt x="17709" y="14117"/>
                      <a:pt x="17709" y="14117"/>
                    </a:cubicBezTo>
                    <a:cubicBezTo>
                      <a:pt x="17709" y="14117"/>
                      <a:pt x="17932" y="14967"/>
                      <a:pt x="18155" y="15137"/>
                    </a:cubicBezTo>
                    <a:cubicBezTo>
                      <a:pt x="18377" y="15307"/>
                      <a:pt x="19602" y="15137"/>
                      <a:pt x="19602" y="15137"/>
                    </a:cubicBezTo>
                    <a:lnTo>
                      <a:pt x="20048" y="17008"/>
                    </a:lnTo>
                    <a:cubicBezTo>
                      <a:pt x="20048" y="17008"/>
                      <a:pt x="20048" y="18709"/>
                      <a:pt x="20382" y="18879"/>
                    </a:cubicBezTo>
                    <a:cubicBezTo>
                      <a:pt x="20716" y="19049"/>
                      <a:pt x="21384" y="19729"/>
                      <a:pt x="21384" y="20239"/>
                    </a:cubicBezTo>
                    <a:cubicBezTo>
                      <a:pt x="21384" y="20750"/>
                      <a:pt x="21495" y="21600"/>
                      <a:pt x="21495" y="21600"/>
                    </a:cubicBezTo>
                    <a:lnTo>
                      <a:pt x="118" y="21090"/>
                    </a:lnTo>
                    <a:close/>
                    <a:moveTo>
                      <a:pt x="118" y="21090"/>
                    </a:moveTo>
                  </a:path>
                </a:pathLst>
              </a:custGeom>
              <a:solidFill>
                <a:srgbClr val="8ba1bf"/>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78" name="AutoShape 17"/>
              <p:cNvSpPr/>
              <p:nvPr/>
            </p:nvSpPr>
            <p:spPr>
              <a:xfrm>
                <a:off x="14675760" y="4988160"/>
                <a:ext cx="686520" cy="633960"/>
              </a:xfrm>
              <a:custGeom>
                <a:avLst/>
                <a:gdLst/>
                <a:ahLst/>
                <a:rect l="l" t="t" r="r" b="b"/>
                <a:pathLst>
                  <a:path w="21600" h="21600">
                    <a:moveTo>
                      <a:pt x="16912" y="0"/>
                    </a:moveTo>
                    <a:lnTo>
                      <a:pt x="14735" y="3812"/>
                    </a:lnTo>
                    <a:lnTo>
                      <a:pt x="16577" y="2723"/>
                    </a:lnTo>
                    <a:cubicBezTo>
                      <a:pt x="16577" y="2723"/>
                      <a:pt x="16409" y="5808"/>
                      <a:pt x="15740" y="6171"/>
                    </a:cubicBezTo>
                    <a:cubicBezTo>
                      <a:pt x="15070" y="6534"/>
                      <a:pt x="17581" y="6353"/>
                      <a:pt x="17581" y="8168"/>
                    </a:cubicBezTo>
                    <a:cubicBezTo>
                      <a:pt x="17581" y="9983"/>
                      <a:pt x="17581" y="11072"/>
                      <a:pt x="16409" y="12706"/>
                    </a:cubicBezTo>
                    <a:cubicBezTo>
                      <a:pt x="15237" y="14339"/>
                      <a:pt x="17749" y="15973"/>
                      <a:pt x="17749" y="15973"/>
                    </a:cubicBezTo>
                    <a:lnTo>
                      <a:pt x="15740" y="16881"/>
                    </a:lnTo>
                    <a:lnTo>
                      <a:pt x="14065" y="16881"/>
                    </a:lnTo>
                    <a:cubicBezTo>
                      <a:pt x="14065" y="16881"/>
                      <a:pt x="13228" y="17788"/>
                      <a:pt x="15070" y="18151"/>
                    </a:cubicBezTo>
                    <a:cubicBezTo>
                      <a:pt x="16912" y="18514"/>
                      <a:pt x="17916" y="18333"/>
                      <a:pt x="18753" y="18696"/>
                    </a:cubicBezTo>
                    <a:cubicBezTo>
                      <a:pt x="19591" y="19059"/>
                      <a:pt x="20930" y="20511"/>
                      <a:pt x="20930" y="20511"/>
                    </a:cubicBezTo>
                    <a:lnTo>
                      <a:pt x="21600" y="21600"/>
                    </a:lnTo>
                    <a:lnTo>
                      <a:pt x="0" y="21418"/>
                    </a:lnTo>
                    <a:lnTo>
                      <a:pt x="167" y="18696"/>
                    </a:lnTo>
                    <a:lnTo>
                      <a:pt x="2512" y="16881"/>
                    </a:lnTo>
                    <a:lnTo>
                      <a:pt x="1842" y="15066"/>
                    </a:lnTo>
                    <a:lnTo>
                      <a:pt x="4186" y="14158"/>
                    </a:lnTo>
                    <a:lnTo>
                      <a:pt x="5693" y="12161"/>
                    </a:lnTo>
                    <a:lnTo>
                      <a:pt x="8037" y="10891"/>
                    </a:lnTo>
                    <a:lnTo>
                      <a:pt x="11553" y="9439"/>
                    </a:lnTo>
                    <a:lnTo>
                      <a:pt x="12223" y="7442"/>
                    </a:lnTo>
                    <a:lnTo>
                      <a:pt x="12223" y="5264"/>
                    </a:lnTo>
                    <a:lnTo>
                      <a:pt x="12223" y="4175"/>
                    </a:lnTo>
                    <a:lnTo>
                      <a:pt x="16912" y="0"/>
                    </a:lnTo>
                    <a:close/>
                    <a:moveTo>
                      <a:pt x="16912" y="0"/>
                    </a:moveTo>
                  </a:path>
                </a:pathLst>
              </a:custGeom>
              <a:solidFill>
                <a:srgbClr val="fffef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679" name="AutoShape 19"/>
            <p:cNvSpPr/>
            <p:nvPr/>
          </p:nvSpPr>
          <p:spPr>
            <a:xfrm>
              <a:off x="7510320" y="5621760"/>
              <a:ext cx="9367560" cy="5617440"/>
            </a:xfrm>
            <a:custGeom>
              <a:avLst/>
              <a:gdLst/>
              <a:ahLst/>
              <a:rect l="l" t="t" r="r" b="b"/>
              <a:pathLst>
                <a:path w="20402" h="21380">
                  <a:moveTo>
                    <a:pt x="0" y="1487"/>
                  </a:moveTo>
                  <a:cubicBezTo>
                    <a:pt x="0" y="1487"/>
                    <a:pt x="3069" y="13091"/>
                    <a:pt x="4185" y="14146"/>
                  </a:cubicBezTo>
                  <a:cubicBezTo>
                    <a:pt x="5301" y="15201"/>
                    <a:pt x="5069" y="14470"/>
                    <a:pt x="5487" y="15363"/>
                  </a:cubicBezTo>
                  <a:cubicBezTo>
                    <a:pt x="5906" y="16256"/>
                    <a:pt x="6510" y="17310"/>
                    <a:pt x="7161" y="18609"/>
                  </a:cubicBezTo>
                  <a:cubicBezTo>
                    <a:pt x="7812" y="19907"/>
                    <a:pt x="7859" y="19826"/>
                    <a:pt x="8463" y="20475"/>
                  </a:cubicBezTo>
                  <a:cubicBezTo>
                    <a:pt x="9068" y="21124"/>
                    <a:pt x="9579" y="21449"/>
                    <a:pt x="10091" y="21368"/>
                  </a:cubicBezTo>
                  <a:cubicBezTo>
                    <a:pt x="10602" y="21287"/>
                    <a:pt x="11858" y="21287"/>
                    <a:pt x="12741" y="20394"/>
                  </a:cubicBezTo>
                  <a:cubicBezTo>
                    <a:pt x="13625" y="19501"/>
                    <a:pt x="15020" y="15850"/>
                    <a:pt x="15252" y="15444"/>
                  </a:cubicBezTo>
                  <a:cubicBezTo>
                    <a:pt x="15485" y="15038"/>
                    <a:pt x="15717" y="14795"/>
                    <a:pt x="16089" y="14470"/>
                  </a:cubicBezTo>
                  <a:cubicBezTo>
                    <a:pt x="16461" y="14146"/>
                    <a:pt x="17484" y="11955"/>
                    <a:pt x="17670" y="11468"/>
                  </a:cubicBezTo>
                  <a:cubicBezTo>
                    <a:pt x="17856" y="10981"/>
                    <a:pt x="17856" y="11062"/>
                    <a:pt x="18414" y="10332"/>
                  </a:cubicBezTo>
                  <a:cubicBezTo>
                    <a:pt x="18972" y="9601"/>
                    <a:pt x="20274" y="1730"/>
                    <a:pt x="20274" y="1324"/>
                  </a:cubicBezTo>
                  <a:cubicBezTo>
                    <a:pt x="20274" y="919"/>
                    <a:pt x="21600" y="-151"/>
                    <a:pt x="15705" y="18"/>
                  </a:cubicBezTo>
                  <a:cubicBezTo>
                    <a:pt x="12337" y="114"/>
                    <a:pt x="9611" y="809"/>
                    <a:pt x="8215" y="690"/>
                  </a:cubicBezTo>
                  <a:cubicBezTo>
                    <a:pt x="5219" y="437"/>
                    <a:pt x="4506" y="125"/>
                    <a:pt x="3576" y="693"/>
                  </a:cubicBezTo>
                  <a:cubicBezTo>
                    <a:pt x="2646" y="1261"/>
                    <a:pt x="372" y="-55"/>
                    <a:pt x="0" y="1487"/>
                  </a:cubicBezTo>
                  <a:close/>
                  <a:moveTo>
                    <a:pt x="0" y="1487"/>
                  </a:moveTo>
                </a:path>
              </a:pathLst>
            </a:custGeom>
            <a:solidFill>
              <a:srgbClr val="23cb9e">
                <a:alpha val="4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80" name="AutoShape 20"/>
            <p:cNvSpPr/>
            <p:nvPr/>
          </p:nvSpPr>
          <p:spPr>
            <a:xfrm>
              <a:off x="7821360" y="6861600"/>
              <a:ext cx="6681240" cy="4344120"/>
            </a:xfrm>
            <a:custGeom>
              <a:avLst/>
              <a:gdLst/>
              <a:ahLst/>
              <a:rect l="l" t="t" r="r" b="b"/>
              <a:pathLst>
                <a:path w="21600" h="21600">
                  <a:moveTo>
                    <a:pt x="0" y="0"/>
                  </a:moveTo>
                  <a:cubicBezTo>
                    <a:pt x="0" y="0"/>
                    <a:pt x="6221" y="1543"/>
                    <a:pt x="9367" y="4078"/>
                  </a:cubicBezTo>
                  <a:cubicBezTo>
                    <a:pt x="12513" y="6612"/>
                    <a:pt x="21600" y="13224"/>
                    <a:pt x="21600" y="13224"/>
                  </a:cubicBezTo>
                  <a:cubicBezTo>
                    <a:pt x="21600" y="13224"/>
                    <a:pt x="18105" y="19506"/>
                    <a:pt x="17685" y="19947"/>
                  </a:cubicBezTo>
                  <a:cubicBezTo>
                    <a:pt x="17266" y="20388"/>
                    <a:pt x="14400" y="21600"/>
                    <a:pt x="13771" y="21600"/>
                  </a:cubicBezTo>
                  <a:cubicBezTo>
                    <a:pt x="13142" y="21600"/>
                    <a:pt x="11534" y="19947"/>
                    <a:pt x="10625" y="19065"/>
                  </a:cubicBezTo>
                  <a:cubicBezTo>
                    <a:pt x="9717" y="18184"/>
                    <a:pt x="7829" y="13665"/>
                    <a:pt x="7270" y="13445"/>
                  </a:cubicBezTo>
                  <a:cubicBezTo>
                    <a:pt x="6711" y="13224"/>
                    <a:pt x="4963" y="12233"/>
                    <a:pt x="4683" y="11902"/>
                  </a:cubicBezTo>
                  <a:cubicBezTo>
                    <a:pt x="4404" y="11571"/>
                    <a:pt x="0" y="0"/>
                    <a:pt x="0" y="0"/>
                  </a:cubicBezTo>
                  <a:close/>
                  <a:moveTo>
                    <a:pt x="0" y="0"/>
                  </a:moveTo>
                </a:path>
              </a:pathLst>
            </a:custGeom>
            <a:solidFill>
              <a:srgbClr val="fffefe">
                <a:alpha val="2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81" name="AutoShape 21"/>
            <p:cNvSpPr/>
            <p:nvPr/>
          </p:nvSpPr>
          <p:spPr>
            <a:xfrm>
              <a:off x="11025360" y="6121800"/>
              <a:ext cx="5650920" cy="5077800"/>
            </a:xfrm>
            <a:custGeom>
              <a:avLst/>
              <a:gdLst/>
              <a:ahLst/>
              <a:rect l="l" t="t" r="r" b="b"/>
              <a:pathLst>
                <a:path w="20756" h="20507">
                  <a:moveTo>
                    <a:pt x="4692" y="20505"/>
                  </a:moveTo>
                  <a:cubicBezTo>
                    <a:pt x="4692" y="20505"/>
                    <a:pt x="8197" y="20684"/>
                    <a:pt x="10234" y="17906"/>
                  </a:cubicBezTo>
                  <a:cubicBezTo>
                    <a:pt x="12272" y="15127"/>
                    <a:pt x="13006" y="13693"/>
                    <a:pt x="13495" y="13424"/>
                  </a:cubicBezTo>
                  <a:cubicBezTo>
                    <a:pt x="13984" y="13155"/>
                    <a:pt x="14147" y="12976"/>
                    <a:pt x="14717" y="12259"/>
                  </a:cubicBezTo>
                  <a:cubicBezTo>
                    <a:pt x="15288" y="11542"/>
                    <a:pt x="17000" y="9660"/>
                    <a:pt x="17326" y="9301"/>
                  </a:cubicBezTo>
                  <a:cubicBezTo>
                    <a:pt x="17652" y="8943"/>
                    <a:pt x="18141" y="8764"/>
                    <a:pt x="18385" y="8405"/>
                  </a:cubicBezTo>
                  <a:cubicBezTo>
                    <a:pt x="18630" y="8047"/>
                    <a:pt x="20586" y="1235"/>
                    <a:pt x="20749" y="160"/>
                  </a:cubicBezTo>
                  <a:cubicBezTo>
                    <a:pt x="20912" y="-916"/>
                    <a:pt x="18467" y="3745"/>
                    <a:pt x="17326" y="4910"/>
                  </a:cubicBezTo>
                  <a:cubicBezTo>
                    <a:pt x="16184" y="6075"/>
                    <a:pt x="12027" y="9033"/>
                    <a:pt x="10642" y="9570"/>
                  </a:cubicBezTo>
                  <a:cubicBezTo>
                    <a:pt x="9256" y="10108"/>
                    <a:pt x="3469" y="12797"/>
                    <a:pt x="2817" y="13514"/>
                  </a:cubicBezTo>
                  <a:cubicBezTo>
                    <a:pt x="2165" y="14231"/>
                    <a:pt x="1594" y="15665"/>
                    <a:pt x="3143" y="15665"/>
                  </a:cubicBezTo>
                  <a:cubicBezTo>
                    <a:pt x="4692" y="15665"/>
                    <a:pt x="7626" y="13783"/>
                    <a:pt x="8033" y="14679"/>
                  </a:cubicBezTo>
                  <a:cubicBezTo>
                    <a:pt x="8441" y="15575"/>
                    <a:pt x="4284" y="17457"/>
                    <a:pt x="2898" y="17009"/>
                  </a:cubicBezTo>
                  <a:cubicBezTo>
                    <a:pt x="1513" y="16561"/>
                    <a:pt x="1024" y="15306"/>
                    <a:pt x="372" y="15755"/>
                  </a:cubicBezTo>
                  <a:cubicBezTo>
                    <a:pt x="-280" y="16203"/>
                    <a:pt x="-688" y="18891"/>
                    <a:pt x="4692" y="20505"/>
                  </a:cubicBezTo>
                  <a:close/>
                  <a:moveTo>
                    <a:pt x="4692" y="20505"/>
                  </a:moveTo>
                </a:path>
              </a:pathLst>
            </a:custGeom>
            <a:solidFill>
              <a:srgbClr val="5e5f88">
                <a:alpha val="1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682" name="Group 25"/>
          <p:cNvGrpSpPr/>
          <p:nvPr/>
        </p:nvGrpSpPr>
        <p:grpSpPr>
          <a:xfrm>
            <a:off x="5569200" y="4368240"/>
            <a:ext cx="7309800" cy="7172640"/>
            <a:chOff x="5569200" y="4368240"/>
            <a:chExt cx="7309800" cy="7172640"/>
          </a:xfrm>
        </p:grpSpPr>
        <p:sp>
          <p:nvSpPr>
            <p:cNvPr id="683" name="AutoShape 23"/>
            <p:cNvSpPr/>
            <p:nvPr/>
          </p:nvSpPr>
          <p:spPr>
            <a:xfrm rot="8630400">
              <a:off x="6519960" y="5698440"/>
              <a:ext cx="5446440" cy="4617720"/>
            </a:xfrm>
            <a:custGeom>
              <a:avLst/>
              <a:gdLst/>
              <a:ahLst/>
              <a:rect l="l" t="t" r="r" b="b"/>
              <a:pathLst>
                <a:path w="21260" h="18967">
                  <a:moveTo>
                    <a:pt x="0" y="521"/>
                  </a:moveTo>
                  <a:cubicBezTo>
                    <a:pt x="0" y="521"/>
                    <a:pt x="9244" y="-2633"/>
                    <a:pt x="14966" y="6573"/>
                  </a:cubicBezTo>
                  <a:cubicBezTo>
                    <a:pt x="21600" y="17244"/>
                    <a:pt x="20915" y="18967"/>
                    <a:pt x="20915" y="18967"/>
                  </a:cubicBezTo>
                  <a:lnTo>
                    <a:pt x="21260" y="16441"/>
                  </a:lnTo>
                  <a:lnTo>
                    <a:pt x="21224" y="16385"/>
                  </a:lnTo>
                  <a:lnTo>
                    <a:pt x="20916" y="18875"/>
                  </a:lnTo>
                  <a:lnTo>
                    <a:pt x="18163" y="17065"/>
                  </a:lnTo>
                </a:path>
              </a:pathLst>
            </a:cu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684" name="Picture 24" descr=""/>
            <p:cNvPicPr/>
            <p:nvPr/>
          </p:nvPicPr>
          <p:blipFill>
            <a:blip r:embed="rId1"/>
            <a:stretch/>
          </p:blipFill>
          <p:spPr>
            <a:xfrm rot="19430400">
              <a:off x="6475320" y="5521320"/>
              <a:ext cx="5497200" cy="4866480"/>
            </a:xfrm>
            <a:prstGeom prst="rect">
              <a:avLst/>
            </a:prstGeom>
            <a:ln w="0">
              <a:noFill/>
            </a:ln>
          </p:spPr>
        </p:pic>
      </p:grpSp>
      <p:sp>
        <p:nvSpPr>
          <p:cNvPr id="685" name="Rectangle 26"/>
          <p:cNvSpPr/>
          <p:nvPr/>
        </p:nvSpPr>
        <p:spPr>
          <a:xfrm>
            <a:off x="17805240" y="3746520"/>
            <a:ext cx="4800600" cy="20192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919"/>
                </a:solidFill>
                <a:latin typeface="Open Sans Bold"/>
                <a:ea typeface="ＭＳ Ｐゴシック"/>
              </a:rPr>
              <a:t>This is what we see:</a:t>
            </a:r>
            <a:endParaRPr b="0" lang="en-US" sz="36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919"/>
                </a:solidFill>
                <a:latin typeface="Open Sans Light"/>
                <a:ea typeface="ＭＳ Ｐゴシック"/>
              </a:rPr>
              <a:t>The outside of the real problems. Some kind of lorem ipsum dolor sit amet.</a:t>
            </a:r>
            <a:endParaRPr b="0" lang="en-US" sz="2800" spc="-1" strike="noStrike">
              <a:solidFill>
                <a:srgbClr val="000000"/>
              </a:solidFill>
              <a:latin typeface="Gill Sans"/>
            </a:endParaRPr>
          </a:p>
        </p:txBody>
      </p:sp>
      <p:grpSp>
        <p:nvGrpSpPr>
          <p:cNvPr id="686" name="Group 29"/>
          <p:cNvGrpSpPr/>
          <p:nvPr/>
        </p:nvGrpSpPr>
        <p:grpSpPr>
          <a:xfrm>
            <a:off x="13067640" y="2036160"/>
            <a:ext cx="5238360" cy="5153760"/>
            <a:chOff x="13067640" y="2036160"/>
            <a:chExt cx="5238360" cy="5153760"/>
          </a:xfrm>
        </p:grpSpPr>
        <p:sp>
          <p:nvSpPr>
            <p:cNvPr id="687" name="AutoShape 27"/>
            <p:cNvSpPr/>
            <p:nvPr/>
          </p:nvSpPr>
          <p:spPr>
            <a:xfrm rot="19431000">
              <a:off x="13754880" y="2910240"/>
              <a:ext cx="3843000" cy="3397680"/>
            </a:xfrm>
            <a:custGeom>
              <a:avLst/>
              <a:gdLst/>
              <a:ahLst/>
              <a:rect l="l" t="t" r="r" b="b"/>
              <a:pathLst>
                <a:path w="21351" h="18956">
                  <a:moveTo>
                    <a:pt x="0" y="524"/>
                  </a:moveTo>
                  <a:cubicBezTo>
                    <a:pt x="0" y="524"/>
                    <a:pt x="9244" y="-2644"/>
                    <a:pt x="14966" y="6601"/>
                  </a:cubicBezTo>
                  <a:cubicBezTo>
                    <a:pt x="21600" y="17318"/>
                    <a:pt x="20485" y="17960"/>
                    <a:pt x="20485" y="17960"/>
                  </a:cubicBezTo>
                  <a:lnTo>
                    <a:pt x="20986" y="14807"/>
                  </a:lnTo>
                  <a:lnTo>
                    <a:pt x="21351" y="13884"/>
                  </a:lnTo>
                  <a:lnTo>
                    <a:pt x="20916" y="18956"/>
                  </a:lnTo>
                  <a:lnTo>
                    <a:pt x="18163" y="17138"/>
                  </a:lnTo>
                </a:path>
              </a:pathLst>
            </a:cu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688" name="Picture 28" descr=""/>
            <p:cNvPicPr/>
            <p:nvPr/>
          </p:nvPicPr>
          <p:blipFill>
            <a:blip r:embed="rId2"/>
            <a:stretch/>
          </p:blipFill>
          <p:spPr>
            <a:xfrm rot="19430400">
              <a:off x="13730040" y="2850840"/>
              <a:ext cx="3912840" cy="3523680"/>
            </a:xfrm>
            <a:prstGeom prst="rect">
              <a:avLst/>
            </a:prstGeom>
            <a:ln w="0">
              <a:noFill/>
            </a:ln>
          </p:spPr>
        </p:pic>
      </p:grpSp>
      <p:sp>
        <p:nvSpPr>
          <p:cNvPr id="689" name="Rectangle 30"/>
          <p:cNvSpPr/>
          <p:nvPr/>
        </p:nvSpPr>
        <p:spPr>
          <a:xfrm>
            <a:off x="1447920" y="7067520"/>
            <a:ext cx="4800600" cy="25779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919"/>
                </a:solidFill>
                <a:latin typeface="Open Sans Bold"/>
                <a:ea typeface="ＭＳ Ｐゴシック"/>
              </a:rPr>
              <a:t>This is the Real Problem:</a:t>
            </a:r>
            <a:endParaRPr b="0" lang="en-US" sz="36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919"/>
                </a:solidFill>
                <a:latin typeface="Open Sans Light"/>
                <a:ea typeface="ＭＳ Ｐゴシック"/>
              </a:rPr>
              <a:t>The deep inside of the real problems. Some kind of lorem ipsum dolor sit amet.</a:t>
            </a:r>
            <a:endParaRPr b="0" lang="en-US" sz="2800" spc="-1" strike="noStrike">
              <a:solidFill>
                <a:srgbClr val="000000"/>
              </a:solidFill>
              <a:latin typeface="Gill Sans"/>
            </a:endParaRPr>
          </a:p>
        </p:txBody>
      </p:sp>
      <p:grpSp>
        <p:nvGrpSpPr>
          <p:cNvPr id="690" name="Group 33"/>
          <p:cNvGrpSpPr/>
          <p:nvPr/>
        </p:nvGrpSpPr>
        <p:grpSpPr>
          <a:xfrm>
            <a:off x="16952760" y="6613560"/>
            <a:ext cx="584280" cy="4241880"/>
            <a:chOff x="16952760" y="6613560"/>
            <a:chExt cx="584280" cy="4241880"/>
          </a:xfrm>
        </p:grpSpPr>
        <p:sp>
          <p:nvSpPr>
            <p:cNvPr id="691" name="AutoShape 31"/>
            <p:cNvSpPr/>
            <p:nvPr/>
          </p:nvSpPr>
          <p:spPr>
            <a:xfrm>
              <a:off x="16956000" y="6613560"/>
              <a:ext cx="581040" cy="214308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92" name="AutoShape 32"/>
            <p:cNvSpPr/>
            <p:nvPr/>
          </p:nvSpPr>
          <p:spPr>
            <a:xfrm flipH="1" rot="10800000">
              <a:off x="16952760" y="8710560"/>
              <a:ext cx="579600" cy="214488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693" name="Rectangle 34"/>
          <p:cNvSpPr/>
          <p:nvPr/>
        </p:nvSpPr>
        <p:spPr>
          <a:xfrm>
            <a:off x="17805240" y="7943760"/>
            <a:ext cx="4800600" cy="158760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919"/>
                </a:solidFill>
                <a:latin typeface="Open Sans Bold"/>
                <a:ea typeface="ＭＳ Ｐゴシック"/>
              </a:rPr>
              <a:t>The problem area:</a:t>
            </a:r>
            <a:endParaRPr b="0" lang="en-US" sz="36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919"/>
                </a:solidFill>
                <a:latin typeface="Open Sans Light"/>
                <a:ea typeface="ＭＳ Ｐゴシック"/>
              </a:rPr>
              <a:t>Some kind of lorem ipsum dolor sit amet.</a:t>
            </a:r>
            <a:endParaRPr b="0" lang="en-US" sz="2800" spc="-1" strike="noStrike">
              <a:solidFill>
                <a:srgbClr val="000000"/>
              </a:solidFill>
              <a:latin typeface="Gill Sans"/>
            </a:endParaRPr>
          </a:p>
        </p:txBody>
      </p:sp>
      <p:sp>
        <p:nvSpPr>
          <p:cNvPr id="694" name="Rectangle 35"/>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21</a:t>
            </a:r>
            <a:endParaRPr b="0" lang="en-US" sz="2400" spc="-1" strike="noStrike">
              <a:solidFill>
                <a:srgbClr val="000000"/>
              </a:solidFill>
              <a:latin typeface="Gill Sans"/>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1"/>
          <p:cNvSpPr/>
          <p:nvPr/>
        </p:nvSpPr>
        <p:spPr>
          <a:xfrm>
            <a:off x="13579560" y="6622920"/>
            <a:ext cx="4259160" cy="5059440"/>
          </a:xfrm>
          <a:custGeom>
            <a:avLst/>
            <a:gdLst/>
            <a:ahLst/>
            <a:rect l="l" t="t" r="r" b="b"/>
            <a:pathLst>
              <a:path w="21600" h="21600">
                <a:moveTo>
                  <a:pt x="0" y="0"/>
                </a:moveTo>
                <a:lnTo>
                  <a:pt x="563" y="1137"/>
                </a:lnTo>
                <a:cubicBezTo>
                  <a:pt x="563" y="1137"/>
                  <a:pt x="787" y="2274"/>
                  <a:pt x="1350" y="2463"/>
                </a:cubicBezTo>
                <a:cubicBezTo>
                  <a:pt x="1912" y="2653"/>
                  <a:pt x="3262" y="5211"/>
                  <a:pt x="3262" y="5211"/>
                </a:cubicBezTo>
                <a:lnTo>
                  <a:pt x="3487" y="6821"/>
                </a:lnTo>
                <a:cubicBezTo>
                  <a:pt x="3487" y="6821"/>
                  <a:pt x="3375" y="7295"/>
                  <a:pt x="3825" y="7768"/>
                </a:cubicBezTo>
                <a:cubicBezTo>
                  <a:pt x="4275" y="8242"/>
                  <a:pt x="4837" y="9000"/>
                  <a:pt x="4837" y="9284"/>
                </a:cubicBezTo>
                <a:cubicBezTo>
                  <a:pt x="4837" y="9568"/>
                  <a:pt x="4500" y="10705"/>
                  <a:pt x="4387" y="10895"/>
                </a:cubicBezTo>
                <a:cubicBezTo>
                  <a:pt x="4275" y="11084"/>
                  <a:pt x="4388" y="12316"/>
                  <a:pt x="5175" y="13074"/>
                </a:cubicBezTo>
                <a:cubicBezTo>
                  <a:pt x="5962" y="13832"/>
                  <a:pt x="6525" y="14495"/>
                  <a:pt x="6525" y="14684"/>
                </a:cubicBezTo>
                <a:cubicBezTo>
                  <a:pt x="6525" y="14874"/>
                  <a:pt x="6525" y="15821"/>
                  <a:pt x="6525" y="16105"/>
                </a:cubicBezTo>
                <a:cubicBezTo>
                  <a:pt x="6525" y="16389"/>
                  <a:pt x="6637" y="16674"/>
                  <a:pt x="7200" y="17811"/>
                </a:cubicBezTo>
                <a:cubicBezTo>
                  <a:pt x="7762" y="18947"/>
                  <a:pt x="8550" y="19895"/>
                  <a:pt x="8775" y="20274"/>
                </a:cubicBezTo>
                <a:cubicBezTo>
                  <a:pt x="9000" y="20653"/>
                  <a:pt x="10125" y="21600"/>
                  <a:pt x="10125" y="21600"/>
                </a:cubicBezTo>
                <a:lnTo>
                  <a:pt x="11250" y="19800"/>
                </a:lnTo>
                <a:cubicBezTo>
                  <a:pt x="11250" y="19800"/>
                  <a:pt x="12938" y="17147"/>
                  <a:pt x="13613" y="16674"/>
                </a:cubicBezTo>
                <a:cubicBezTo>
                  <a:pt x="14287" y="16200"/>
                  <a:pt x="15300" y="14305"/>
                  <a:pt x="15300" y="14305"/>
                </a:cubicBezTo>
                <a:lnTo>
                  <a:pt x="15412" y="13074"/>
                </a:lnTo>
                <a:lnTo>
                  <a:pt x="16762" y="11937"/>
                </a:lnTo>
                <a:cubicBezTo>
                  <a:pt x="16762" y="11937"/>
                  <a:pt x="17100" y="8621"/>
                  <a:pt x="17212" y="8053"/>
                </a:cubicBezTo>
                <a:cubicBezTo>
                  <a:pt x="17325" y="7484"/>
                  <a:pt x="18000" y="6347"/>
                  <a:pt x="18112" y="6158"/>
                </a:cubicBezTo>
                <a:cubicBezTo>
                  <a:pt x="18225" y="5968"/>
                  <a:pt x="18338" y="4737"/>
                  <a:pt x="18225" y="4263"/>
                </a:cubicBezTo>
                <a:cubicBezTo>
                  <a:pt x="18112" y="3789"/>
                  <a:pt x="18113" y="3032"/>
                  <a:pt x="18450" y="2842"/>
                </a:cubicBezTo>
                <a:cubicBezTo>
                  <a:pt x="18787" y="2653"/>
                  <a:pt x="20025" y="1895"/>
                  <a:pt x="20025" y="1895"/>
                </a:cubicBezTo>
                <a:lnTo>
                  <a:pt x="20812" y="1232"/>
                </a:lnTo>
                <a:lnTo>
                  <a:pt x="21375" y="663"/>
                </a:lnTo>
                <a:lnTo>
                  <a:pt x="21600" y="95"/>
                </a:lnTo>
                <a:lnTo>
                  <a:pt x="0" y="0"/>
                </a:lnTo>
                <a:close/>
                <a:moveTo>
                  <a:pt x="0" y="0"/>
                </a:moveTo>
              </a:path>
            </a:pathLst>
          </a:custGeom>
          <a:solidFill>
            <a:srgbClr val="2969a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96" name="AutoShape 2"/>
          <p:cNvSpPr/>
          <p:nvPr/>
        </p:nvSpPr>
        <p:spPr>
          <a:xfrm>
            <a:off x="13601880" y="6603840"/>
            <a:ext cx="4194000" cy="5015160"/>
          </a:xfrm>
          <a:custGeom>
            <a:avLst/>
            <a:gdLst/>
            <a:ahLst/>
            <a:rect l="l" t="t" r="r" b="b"/>
            <a:pathLst>
              <a:path w="21600" h="21600">
                <a:moveTo>
                  <a:pt x="20000" y="1338"/>
                </a:moveTo>
                <a:lnTo>
                  <a:pt x="17486" y="2867"/>
                </a:lnTo>
                <a:cubicBezTo>
                  <a:pt x="17486" y="2867"/>
                  <a:pt x="16800" y="3058"/>
                  <a:pt x="16457" y="4970"/>
                </a:cubicBezTo>
                <a:cubicBezTo>
                  <a:pt x="16114" y="6881"/>
                  <a:pt x="15657" y="7264"/>
                  <a:pt x="15657" y="7455"/>
                </a:cubicBezTo>
                <a:cubicBezTo>
                  <a:pt x="15657" y="7646"/>
                  <a:pt x="14971" y="8028"/>
                  <a:pt x="14971" y="8028"/>
                </a:cubicBezTo>
                <a:cubicBezTo>
                  <a:pt x="14971" y="8028"/>
                  <a:pt x="14971" y="10418"/>
                  <a:pt x="15086" y="10704"/>
                </a:cubicBezTo>
                <a:cubicBezTo>
                  <a:pt x="15200" y="10991"/>
                  <a:pt x="15886" y="12042"/>
                  <a:pt x="15086" y="13094"/>
                </a:cubicBezTo>
                <a:cubicBezTo>
                  <a:pt x="14286" y="14145"/>
                  <a:pt x="13486" y="14814"/>
                  <a:pt x="13486" y="14814"/>
                </a:cubicBezTo>
                <a:cubicBezTo>
                  <a:pt x="13486" y="14814"/>
                  <a:pt x="12800" y="15865"/>
                  <a:pt x="12686" y="16152"/>
                </a:cubicBezTo>
                <a:cubicBezTo>
                  <a:pt x="12571" y="16439"/>
                  <a:pt x="11771" y="17968"/>
                  <a:pt x="11771" y="17968"/>
                </a:cubicBezTo>
                <a:lnTo>
                  <a:pt x="10286" y="19593"/>
                </a:lnTo>
                <a:lnTo>
                  <a:pt x="10400" y="20549"/>
                </a:lnTo>
                <a:cubicBezTo>
                  <a:pt x="10400" y="20549"/>
                  <a:pt x="9829" y="19688"/>
                  <a:pt x="10286" y="18255"/>
                </a:cubicBezTo>
                <a:cubicBezTo>
                  <a:pt x="10743" y="16821"/>
                  <a:pt x="12114" y="14910"/>
                  <a:pt x="12114" y="14719"/>
                </a:cubicBezTo>
                <a:cubicBezTo>
                  <a:pt x="12114" y="14527"/>
                  <a:pt x="12800" y="12425"/>
                  <a:pt x="12800" y="12425"/>
                </a:cubicBezTo>
                <a:lnTo>
                  <a:pt x="12914" y="10800"/>
                </a:lnTo>
                <a:cubicBezTo>
                  <a:pt x="12914" y="10800"/>
                  <a:pt x="12800" y="9940"/>
                  <a:pt x="13143" y="9653"/>
                </a:cubicBezTo>
                <a:cubicBezTo>
                  <a:pt x="13486" y="9366"/>
                  <a:pt x="12571" y="8219"/>
                  <a:pt x="12571" y="8219"/>
                </a:cubicBezTo>
                <a:cubicBezTo>
                  <a:pt x="12571" y="8219"/>
                  <a:pt x="11657" y="7646"/>
                  <a:pt x="12343" y="6786"/>
                </a:cubicBezTo>
                <a:cubicBezTo>
                  <a:pt x="13029" y="5926"/>
                  <a:pt x="13600" y="5352"/>
                  <a:pt x="13829" y="5352"/>
                </a:cubicBezTo>
                <a:cubicBezTo>
                  <a:pt x="14057" y="5352"/>
                  <a:pt x="14971" y="4874"/>
                  <a:pt x="14971" y="4874"/>
                </a:cubicBezTo>
                <a:lnTo>
                  <a:pt x="15200" y="4396"/>
                </a:lnTo>
                <a:lnTo>
                  <a:pt x="13029" y="3632"/>
                </a:lnTo>
                <a:lnTo>
                  <a:pt x="13371" y="3058"/>
                </a:lnTo>
                <a:lnTo>
                  <a:pt x="14171" y="2772"/>
                </a:lnTo>
                <a:cubicBezTo>
                  <a:pt x="14171" y="2772"/>
                  <a:pt x="14171" y="1912"/>
                  <a:pt x="14400" y="1720"/>
                </a:cubicBezTo>
                <a:cubicBezTo>
                  <a:pt x="14629" y="1529"/>
                  <a:pt x="14629" y="860"/>
                  <a:pt x="14629" y="860"/>
                </a:cubicBezTo>
                <a:lnTo>
                  <a:pt x="13714" y="0"/>
                </a:lnTo>
                <a:cubicBezTo>
                  <a:pt x="13714" y="0"/>
                  <a:pt x="13143" y="2007"/>
                  <a:pt x="12686" y="2389"/>
                </a:cubicBezTo>
                <a:cubicBezTo>
                  <a:pt x="12229" y="2772"/>
                  <a:pt x="11543" y="3536"/>
                  <a:pt x="11543" y="3536"/>
                </a:cubicBezTo>
                <a:cubicBezTo>
                  <a:pt x="11543" y="3536"/>
                  <a:pt x="11543" y="4301"/>
                  <a:pt x="11657" y="4588"/>
                </a:cubicBezTo>
                <a:cubicBezTo>
                  <a:pt x="11771" y="4874"/>
                  <a:pt x="11314" y="5639"/>
                  <a:pt x="11200" y="6117"/>
                </a:cubicBezTo>
                <a:cubicBezTo>
                  <a:pt x="11086" y="6595"/>
                  <a:pt x="10971" y="7359"/>
                  <a:pt x="10971" y="7933"/>
                </a:cubicBezTo>
                <a:cubicBezTo>
                  <a:pt x="10971" y="8506"/>
                  <a:pt x="10629" y="8697"/>
                  <a:pt x="10971" y="10035"/>
                </a:cubicBezTo>
                <a:cubicBezTo>
                  <a:pt x="11314" y="11373"/>
                  <a:pt x="11086" y="12520"/>
                  <a:pt x="10971" y="12807"/>
                </a:cubicBezTo>
                <a:cubicBezTo>
                  <a:pt x="10857" y="13094"/>
                  <a:pt x="10857" y="13189"/>
                  <a:pt x="10857" y="13572"/>
                </a:cubicBezTo>
                <a:cubicBezTo>
                  <a:pt x="10857" y="13954"/>
                  <a:pt x="11086" y="14719"/>
                  <a:pt x="11086" y="14910"/>
                </a:cubicBezTo>
                <a:cubicBezTo>
                  <a:pt x="11086" y="15101"/>
                  <a:pt x="10629" y="15961"/>
                  <a:pt x="10514" y="16152"/>
                </a:cubicBezTo>
                <a:cubicBezTo>
                  <a:pt x="10400" y="16343"/>
                  <a:pt x="9257" y="19211"/>
                  <a:pt x="9257" y="19211"/>
                </a:cubicBezTo>
                <a:lnTo>
                  <a:pt x="8571" y="13476"/>
                </a:lnTo>
                <a:cubicBezTo>
                  <a:pt x="8571" y="13476"/>
                  <a:pt x="6286" y="11278"/>
                  <a:pt x="6171" y="11087"/>
                </a:cubicBezTo>
                <a:cubicBezTo>
                  <a:pt x="6057" y="10896"/>
                  <a:pt x="8114" y="10035"/>
                  <a:pt x="8914" y="9366"/>
                </a:cubicBezTo>
                <a:cubicBezTo>
                  <a:pt x="9714" y="8697"/>
                  <a:pt x="9143" y="8793"/>
                  <a:pt x="8686" y="7168"/>
                </a:cubicBezTo>
                <a:cubicBezTo>
                  <a:pt x="8229" y="5543"/>
                  <a:pt x="5943" y="5161"/>
                  <a:pt x="5943" y="5161"/>
                </a:cubicBezTo>
                <a:cubicBezTo>
                  <a:pt x="5943" y="5161"/>
                  <a:pt x="5029" y="4588"/>
                  <a:pt x="4914" y="4110"/>
                </a:cubicBezTo>
                <a:cubicBezTo>
                  <a:pt x="4800" y="3632"/>
                  <a:pt x="4229" y="1625"/>
                  <a:pt x="4229" y="1625"/>
                </a:cubicBezTo>
                <a:lnTo>
                  <a:pt x="7086" y="3727"/>
                </a:lnTo>
                <a:cubicBezTo>
                  <a:pt x="7086" y="3727"/>
                  <a:pt x="6057" y="1147"/>
                  <a:pt x="6514" y="573"/>
                </a:cubicBezTo>
                <a:cubicBezTo>
                  <a:pt x="6971" y="0"/>
                  <a:pt x="7657" y="478"/>
                  <a:pt x="7657" y="478"/>
                </a:cubicBezTo>
                <a:lnTo>
                  <a:pt x="8800" y="3058"/>
                </a:lnTo>
                <a:lnTo>
                  <a:pt x="9600" y="3919"/>
                </a:lnTo>
                <a:lnTo>
                  <a:pt x="9371" y="1338"/>
                </a:lnTo>
                <a:lnTo>
                  <a:pt x="9371" y="96"/>
                </a:lnTo>
                <a:lnTo>
                  <a:pt x="0" y="0"/>
                </a:lnTo>
                <a:cubicBezTo>
                  <a:pt x="0" y="0"/>
                  <a:pt x="914" y="956"/>
                  <a:pt x="1257" y="1720"/>
                </a:cubicBezTo>
                <a:cubicBezTo>
                  <a:pt x="1600" y="2485"/>
                  <a:pt x="3200" y="4588"/>
                  <a:pt x="3200" y="5161"/>
                </a:cubicBezTo>
                <a:cubicBezTo>
                  <a:pt x="3200" y="5735"/>
                  <a:pt x="3657" y="6786"/>
                  <a:pt x="4114" y="7742"/>
                </a:cubicBezTo>
                <a:cubicBezTo>
                  <a:pt x="4571" y="8697"/>
                  <a:pt x="4914" y="9749"/>
                  <a:pt x="4914" y="10322"/>
                </a:cubicBezTo>
                <a:cubicBezTo>
                  <a:pt x="4914" y="10896"/>
                  <a:pt x="4229" y="11851"/>
                  <a:pt x="4800" y="12425"/>
                </a:cubicBezTo>
                <a:cubicBezTo>
                  <a:pt x="5371" y="12998"/>
                  <a:pt x="5943" y="14432"/>
                  <a:pt x="6400" y="14719"/>
                </a:cubicBezTo>
                <a:cubicBezTo>
                  <a:pt x="6857" y="15005"/>
                  <a:pt x="6629" y="15292"/>
                  <a:pt x="6971" y="16439"/>
                </a:cubicBezTo>
                <a:cubicBezTo>
                  <a:pt x="7314" y="17586"/>
                  <a:pt x="7657" y="18542"/>
                  <a:pt x="8000" y="19115"/>
                </a:cubicBezTo>
                <a:cubicBezTo>
                  <a:pt x="8343" y="19688"/>
                  <a:pt x="10057" y="21600"/>
                  <a:pt x="10057" y="21600"/>
                </a:cubicBezTo>
                <a:cubicBezTo>
                  <a:pt x="10057" y="21600"/>
                  <a:pt x="15086" y="14910"/>
                  <a:pt x="15429" y="14336"/>
                </a:cubicBezTo>
                <a:cubicBezTo>
                  <a:pt x="15771" y="13763"/>
                  <a:pt x="15657" y="13094"/>
                  <a:pt x="15657" y="13094"/>
                </a:cubicBezTo>
                <a:lnTo>
                  <a:pt x="16457" y="11851"/>
                </a:lnTo>
                <a:lnTo>
                  <a:pt x="17371" y="9844"/>
                </a:lnTo>
                <a:cubicBezTo>
                  <a:pt x="17371" y="9844"/>
                  <a:pt x="17257" y="8506"/>
                  <a:pt x="17371" y="8028"/>
                </a:cubicBezTo>
                <a:cubicBezTo>
                  <a:pt x="17486" y="7550"/>
                  <a:pt x="18286" y="6117"/>
                  <a:pt x="18286" y="6117"/>
                </a:cubicBezTo>
                <a:lnTo>
                  <a:pt x="18400" y="2772"/>
                </a:lnTo>
                <a:lnTo>
                  <a:pt x="21029" y="956"/>
                </a:lnTo>
                <a:lnTo>
                  <a:pt x="21600" y="96"/>
                </a:lnTo>
                <a:lnTo>
                  <a:pt x="20000" y="1338"/>
                </a:lnTo>
                <a:close/>
                <a:moveTo>
                  <a:pt x="20000" y="1338"/>
                </a:moveTo>
              </a:path>
            </a:pathLst>
          </a:custGeom>
          <a:solidFill>
            <a:srgbClr val="65a0e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97" name="Line 3"/>
          <p:cNvSpPr/>
          <p:nvPr/>
        </p:nvSpPr>
        <p:spPr>
          <a:xfrm>
            <a:off x="1866960" y="8369280"/>
            <a:ext cx="20648520" cy="0"/>
          </a:xfrm>
          <a:prstGeom prst="line">
            <a:avLst/>
          </a:prstGeom>
          <a:ln cap="rnd" w="25560">
            <a:solidFill>
              <a:srgbClr val="9a9999"/>
            </a:solidFill>
            <a:custDash>
              <a:ds d="100000" sp="1000"/>
            </a:cust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98" name="Line 4"/>
          <p:cNvSpPr/>
          <p:nvPr/>
        </p:nvSpPr>
        <p:spPr>
          <a:xfrm>
            <a:off x="1866960" y="10072800"/>
            <a:ext cx="20650320" cy="0"/>
          </a:xfrm>
          <a:prstGeom prst="line">
            <a:avLst/>
          </a:prstGeom>
          <a:ln cap="rnd" w="25560">
            <a:solidFill>
              <a:srgbClr val="9a9999"/>
            </a:solidFill>
            <a:custDash>
              <a:ds d="100000" sp="1000"/>
            </a:cust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99" name="Line 5"/>
          <p:cNvSpPr/>
          <p:nvPr/>
        </p:nvSpPr>
        <p:spPr>
          <a:xfrm>
            <a:off x="1889280" y="6643800"/>
            <a:ext cx="20628000" cy="0"/>
          </a:xfrm>
          <a:prstGeom prst="line">
            <a:avLst/>
          </a:prstGeom>
          <a:ln w="25560">
            <a:solidFill>
              <a:srgbClr val="b8bbc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00" name="AutoShape 6"/>
          <p:cNvSpPr/>
          <p:nvPr/>
        </p:nvSpPr>
        <p:spPr>
          <a:xfrm>
            <a:off x="11431440" y="6630840"/>
            <a:ext cx="7366320" cy="5220000"/>
          </a:xfrm>
          <a:custGeom>
            <a:avLst/>
            <a:gdLst/>
            <a:ahLst/>
            <a:rect l="l" t="t" r="r" b="b"/>
            <a:pathLst>
              <a:path w="21600" h="21448">
                <a:moveTo>
                  <a:pt x="0" y="0"/>
                </a:moveTo>
                <a:cubicBezTo>
                  <a:pt x="0" y="0"/>
                  <a:pt x="3284" y="3737"/>
                  <a:pt x="3745" y="4922"/>
                </a:cubicBezTo>
                <a:cubicBezTo>
                  <a:pt x="4207" y="6106"/>
                  <a:pt x="4720" y="9296"/>
                  <a:pt x="5233" y="11939"/>
                </a:cubicBezTo>
                <a:cubicBezTo>
                  <a:pt x="5746" y="14582"/>
                  <a:pt x="6310" y="15129"/>
                  <a:pt x="7696" y="16496"/>
                </a:cubicBezTo>
                <a:cubicBezTo>
                  <a:pt x="9081" y="17863"/>
                  <a:pt x="9594" y="17863"/>
                  <a:pt x="9748" y="18775"/>
                </a:cubicBezTo>
                <a:cubicBezTo>
                  <a:pt x="9902" y="19686"/>
                  <a:pt x="12211" y="21053"/>
                  <a:pt x="12980" y="21327"/>
                </a:cubicBezTo>
                <a:cubicBezTo>
                  <a:pt x="13750" y="21600"/>
                  <a:pt x="21600" y="21327"/>
                  <a:pt x="21600" y="21327"/>
                </a:cubicBezTo>
                <a:lnTo>
                  <a:pt x="21600" y="91"/>
                </a:lnTo>
                <a:lnTo>
                  <a:pt x="0" y="0"/>
                </a:lnTo>
                <a:close/>
                <a:moveTo>
                  <a:pt x="0" y="0"/>
                </a:moveTo>
              </a:path>
            </a:pathLst>
          </a:custGeom>
          <a:solidFill>
            <a:srgbClr val="23cb9e">
              <a:alpha val="3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nvGrpSpPr>
          <p:cNvPr id="701" name="Group 9"/>
          <p:cNvGrpSpPr/>
          <p:nvPr/>
        </p:nvGrpSpPr>
        <p:grpSpPr>
          <a:xfrm>
            <a:off x="1385640" y="819000"/>
            <a:ext cx="5618160" cy="1130040"/>
            <a:chOff x="1385640" y="819000"/>
            <a:chExt cx="5618160" cy="1130040"/>
          </a:xfrm>
        </p:grpSpPr>
        <p:sp>
          <p:nvSpPr>
            <p:cNvPr id="702" name="Rectangle 7"/>
            <p:cNvSpPr/>
            <p:nvPr/>
          </p:nvSpPr>
          <p:spPr>
            <a:xfrm>
              <a:off x="1576080" y="819000"/>
              <a:ext cx="402552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Iceberg Diagram</a:t>
              </a:r>
              <a:endParaRPr b="0" lang="en-US" sz="4000" spc="-1" strike="noStrike">
                <a:solidFill>
                  <a:srgbClr val="000000"/>
                </a:solidFill>
                <a:latin typeface="Gill Sans"/>
              </a:endParaRPr>
            </a:p>
          </p:txBody>
        </p:sp>
        <p:sp>
          <p:nvSpPr>
            <p:cNvPr id="703" name="Rectangle 8"/>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704" name="AutoShape 10"/>
          <p:cNvSpPr/>
          <p:nvPr/>
        </p:nvSpPr>
        <p:spPr>
          <a:xfrm>
            <a:off x="13555800" y="3903840"/>
            <a:ext cx="4282920" cy="2817720"/>
          </a:xfrm>
          <a:custGeom>
            <a:avLst/>
            <a:gdLst/>
            <a:ahLst/>
            <a:rect l="l" t="t" r="r" b="b"/>
            <a:pathLst>
              <a:path w="21495" h="21600">
                <a:moveTo>
                  <a:pt x="118" y="21090"/>
                </a:moveTo>
                <a:cubicBezTo>
                  <a:pt x="118" y="21090"/>
                  <a:pt x="118" y="19389"/>
                  <a:pt x="6" y="19049"/>
                </a:cubicBezTo>
                <a:cubicBezTo>
                  <a:pt x="-105" y="18709"/>
                  <a:pt x="1231" y="17178"/>
                  <a:pt x="1231" y="17178"/>
                </a:cubicBezTo>
                <a:lnTo>
                  <a:pt x="1899" y="16498"/>
                </a:lnTo>
                <a:lnTo>
                  <a:pt x="1231" y="14967"/>
                </a:lnTo>
                <a:lnTo>
                  <a:pt x="2010" y="14287"/>
                </a:lnTo>
                <a:lnTo>
                  <a:pt x="3013" y="13436"/>
                </a:lnTo>
                <a:cubicBezTo>
                  <a:pt x="3013" y="13436"/>
                  <a:pt x="3347" y="12416"/>
                  <a:pt x="4794" y="11565"/>
                </a:cubicBezTo>
                <a:cubicBezTo>
                  <a:pt x="6241" y="10715"/>
                  <a:pt x="7132" y="9865"/>
                  <a:pt x="7132" y="9865"/>
                </a:cubicBezTo>
                <a:cubicBezTo>
                  <a:pt x="7132" y="9865"/>
                  <a:pt x="7577" y="9865"/>
                  <a:pt x="7911" y="8844"/>
                </a:cubicBezTo>
                <a:cubicBezTo>
                  <a:pt x="8246" y="7824"/>
                  <a:pt x="8357" y="7313"/>
                  <a:pt x="8357" y="6633"/>
                </a:cubicBezTo>
                <a:cubicBezTo>
                  <a:pt x="8357" y="5953"/>
                  <a:pt x="8023" y="5443"/>
                  <a:pt x="8580" y="4592"/>
                </a:cubicBezTo>
                <a:cubicBezTo>
                  <a:pt x="9136" y="3742"/>
                  <a:pt x="11697" y="0"/>
                  <a:pt x="11697" y="0"/>
                </a:cubicBezTo>
                <a:cubicBezTo>
                  <a:pt x="11697" y="0"/>
                  <a:pt x="11920" y="850"/>
                  <a:pt x="12476" y="1531"/>
                </a:cubicBezTo>
                <a:cubicBezTo>
                  <a:pt x="13033" y="2211"/>
                  <a:pt x="13256" y="2891"/>
                  <a:pt x="13256" y="3402"/>
                </a:cubicBezTo>
                <a:cubicBezTo>
                  <a:pt x="13256" y="3912"/>
                  <a:pt x="11920" y="2891"/>
                  <a:pt x="13367" y="4762"/>
                </a:cubicBezTo>
                <a:cubicBezTo>
                  <a:pt x="14815" y="6633"/>
                  <a:pt x="15037" y="7824"/>
                  <a:pt x="15149" y="8164"/>
                </a:cubicBezTo>
                <a:cubicBezTo>
                  <a:pt x="15260" y="8504"/>
                  <a:pt x="15149" y="9694"/>
                  <a:pt x="15483" y="10035"/>
                </a:cubicBezTo>
                <a:cubicBezTo>
                  <a:pt x="15817" y="10375"/>
                  <a:pt x="16930" y="11735"/>
                  <a:pt x="17153" y="11906"/>
                </a:cubicBezTo>
                <a:cubicBezTo>
                  <a:pt x="17375" y="12076"/>
                  <a:pt x="17709" y="14117"/>
                  <a:pt x="17709" y="14117"/>
                </a:cubicBezTo>
                <a:cubicBezTo>
                  <a:pt x="17709" y="14117"/>
                  <a:pt x="17932" y="14967"/>
                  <a:pt x="18155" y="15137"/>
                </a:cubicBezTo>
                <a:cubicBezTo>
                  <a:pt x="18377" y="15307"/>
                  <a:pt x="19602" y="15137"/>
                  <a:pt x="19602" y="15137"/>
                </a:cubicBezTo>
                <a:lnTo>
                  <a:pt x="20048" y="17008"/>
                </a:lnTo>
                <a:cubicBezTo>
                  <a:pt x="20048" y="17008"/>
                  <a:pt x="20048" y="18709"/>
                  <a:pt x="20382" y="18879"/>
                </a:cubicBezTo>
                <a:cubicBezTo>
                  <a:pt x="20716" y="19049"/>
                  <a:pt x="21384" y="19729"/>
                  <a:pt x="21384" y="20239"/>
                </a:cubicBezTo>
                <a:cubicBezTo>
                  <a:pt x="21384" y="20750"/>
                  <a:pt x="21495" y="21600"/>
                  <a:pt x="21495" y="21600"/>
                </a:cubicBezTo>
                <a:lnTo>
                  <a:pt x="118" y="21090"/>
                </a:lnTo>
                <a:close/>
                <a:moveTo>
                  <a:pt x="118" y="21090"/>
                </a:moveTo>
              </a:path>
            </a:pathLst>
          </a:custGeom>
          <a:solidFill>
            <a:srgbClr val="8ba1bf"/>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05" name="AutoShape 11"/>
          <p:cNvSpPr/>
          <p:nvPr/>
        </p:nvSpPr>
        <p:spPr>
          <a:xfrm>
            <a:off x="13601880" y="4040280"/>
            <a:ext cx="2862000" cy="2639880"/>
          </a:xfrm>
          <a:custGeom>
            <a:avLst/>
            <a:gdLst/>
            <a:ahLst/>
            <a:rect l="l" t="t" r="r" b="b"/>
            <a:pathLst>
              <a:path w="21600" h="21600">
                <a:moveTo>
                  <a:pt x="16912" y="0"/>
                </a:moveTo>
                <a:lnTo>
                  <a:pt x="14735" y="3812"/>
                </a:lnTo>
                <a:lnTo>
                  <a:pt x="16577" y="2723"/>
                </a:lnTo>
                <a:cubicBezTo>
                  <a:pt x="16577" y="2723"/>
                  <a:pt x="16409" y="5808"/>
                  <a:pt x="15740" y="6171"/>
                </a:cubicBezTo>
                <a:cubicBezTo>
                  <a:pt x="15070" y="6534"/>
                  <a:pt x="17581" y="6353"/>
                  <a:pt x="17581" y="8168"/>
                </a:cubicBezTo>
                <a:cubicBezTo>
                  <a:pt x="17581" y="9983"/>
                  <a:pt x="17581" y="11072"/>
                  <a:pt x="16409" y="12706"/>
                </a:cubicBezTo>
                <a:cubicBezTo>
                  <a:pt x="15237" y="14339"/>
                  <a:pt x="17749" y="15973"/>
                  <a:pt x="17749" y="15973"/>
                </a:cubicBezTo>
                <a:lnTo>
                  <a:pt x="15740" y="16881"/>
                </a:lnTo>
                <a:lnTo>
                  <a:pt x="14065" y="16881"/>
                </a:lnTo>
                <a:cubicBezTo>
                  <a:pt x="14065" y="16881"/>
                  <a:pt x="13228" y="17788"/>
                  <a:pt x="15070" y="18151"/>
                </a:cubicBezTo>
                <a:cubicBezTo>
                  <a:pt x="16912" y="18514"/>
                  <a:pt x="17916" y="18333"/>
                  <a:pt x="18754" y="18696"/>
                </a:cubicBezTo>
                <a:cubicBezTo>
                  <a:pt x="19591" y="19059"/>
                  <a:pt x="20930" y="20511"/>
                  <a:pt x="20930" y="20511"/>
                </a:cubicBezTo>
                <a:lnTo>
                  <a:pt x="21600" y="21600"/>
                </a:lnTo>
                <a:lnTo>
                  <a:pt x="0" y="21418"/>
                </a:lnTo>
                <a:lnTo>
                  <a:pt x="167" y="18696"/>
                </a:lnTo>
                <a:lnTo>
                  <a:pt x="2512" y="16881"/>
                </a:lnTo>
                <a:lnTo>
                  <a:pt x="1842" y="15066"/>
                </a:lnTo>
                <a:lnTo>
                  <a:pt x="4186" y="14158"/>
                </a:lnTo>
                <a:lnTo>
                  <a:pt x="5693" y="12161"/>
                </a:lnTo>
                <a:lnTo>
                  <a:pt x="8037" y="10891"/>
                </a:lnTo>
                <a:lnTo>
                  <a:pt x="11553" y="9439"/>
                </a:lnTo>
                <a:lnTo>
                  <a:pt x="12223" y="7442"/>
                </a:lnTo>
                <a:lnTo>
                  <a:pt x="12223" y="5264"/>
                </a:lnTo>
                <a:lnTo>
                  <a:pt x="12223" y="4175"/>
                </a:lnTo>
                <a:lnTo>
                  <a:pt x="16912" y="0"/>
                </a:lnTo>
                <a:close/>
                <a:moveTo>
                  <a:pt x="16912" y="0"/>
                </a:moveTo>
              </a:path>
            </a:pathLst>
          </a:custGeom>
          <a:solidFill>
            <a:srgbClr val="ced8e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06" name="Line 12"/>
          <p:cNvSpPr/>
          <p:nvPr/>
        </p:nvSpPr>
        <p:spPr>
          <a:xfrm flipV="1">
            <a:off x="18808560" y="3300480"/>
            <a:ext cx="0" cy="8586720"/>
          </a:xfrm>
          <a:prstGeom prst="line">
            <a:avLst/>
          </a:prstGeom>
          <a:ln w="25560">
            <a:solidFill>
              <a:srgbClr val="b8bbc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07" name="Rectangle 13"/>
          <p:cNvSpPr/>
          <p:nvPr/>
        </p:nvSpPr>
        <p:spPr>
          <a:xfrm>
            <a:off x="1866960" y="3549600"/>
            <a:ext cx="6807240" cy="21337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1a1919"/>
                </a:solidFill>
                <a:latin typeface="Open Sans Light"/>
                <a:ea typeface="ＭＳ Ｐゴシック"/>
              </a:rPr>
              <a:t>What we see is only a </a:t>
            </a:r>
            <a:r>
              <a:rPr b="0" lang="en-US" sz="4200" spc="-1" strike="noStrike">
                <a:solidFill>
                  <a:srgbClr val="1a1919"/>
                </a:solidFill>
                <a:latin typeface="Open Sans Bold"/>
                <a:ea typeface="ＭＳ Ｐゴシック"/>
              </a:rPr>
              <a:t>perception</a:t>
            </a:r>
            <a:r>
              <a:rPr b="0" lang="en-US" sz="4200" spc="-1" strike="noStrike">
                <a:solidFill>
                  <a:srgbClr val="1a1919"/>
                </a:solidFill>
                <a:latin typeface="Open Sans Light"/>
                <a:ea typeface="ＭＳ Ｐゴシック"/>
              </a:rPr>
              <a:t>. What we hear is only an </a:t>
            </a:r>
            <a:r>
              <a:rPr b="0" lang="en-US" sz="4200" spc="-1" strike="noStrike">
                <a:solidFill>
                  <a:srgbClr val="1a1919"/>
                </a:solidFill>
                <a:latin typeface="Open Sans Bold"/>
                <a:ea typeface="ＭＳ Ｐゴシック"/>
              </a:rPr>
              <a:t>opinion</a:t>
            </a:r>
            <a:r>
              <a:rPr b="0" lang="en-US" sz="4200" spc="-1" strike="noStrike">
                <a:solidFill>
                  <a:srgbClr val="1a1919"/>
                </a:solidFill>
                <a:latin typeface="Open Sans Light"/>
                <a:ea typeface="ＭＳ Ｐゴシック"/>
              </a:rPr>
              <a:t>.</a:t>
            </a:r>
            <a:endParaRPr b="0" lang="en-US" sz="4200" spc="-1" strike="noStrike">
              <a:solidFill>
                <a:srgbClr val="000000"/>
              </a:solidFill>
              <a:latin typeface="Gill Sans"/>
            </a:endParaRPr>
          </a:p>
        </p:txBody>
      </p:sp>
      <p:grpSp>
        <p:nvGrpSpPr>
          <p:cNvPr id="708" name="Group 16"/>
          <p:cNvGrpSpPr/>
          <p:nvPr/>
        </p:nvGrpSpPr>
        <p:grpSpPr>
          <a:xfrm>
            <a:off x="12687480" y="4327560"/>
            <a:ext cx="1587240" cy="711000"/>
            <a:chOff x="12687480" y="4327560"/>
            <a:chExt cx="1587240" cy="711000"/>
          </a:xfrm>
        </p:grpSpPr>
        <p:sp>
          <p:nvSpPr>
            <p:cNvPr id="709" name="AutoShape 14"/>
            <p:cNvSpPr/>
            <p:nvPr/>
          </p:nvSpPr>
          <p:spPr>
            <a:xfrm>
              <a:off x="12725280" y="4365360"/>
              <a:ext cx="1498320" cy="621720"/>
            </a:xfrm>
            <a:custGeom>
              <a:avLst/>
              <a:gdLst/>
              <a:ahLst/>
              <a:rect l="l" t="t" r="r" b="b"/>
              <a:pathLst>
                <a:path w="20541" h="18120">
                  <a:moveTo>
                    <a:pt x="0" y="1020"/>
                  </a:moveTo>
                  <a:cubicBezTo>
                    <a:pt x="0" y="1020"/>
                    <a:pt x="8894" y="-3480"/>
                    <a:pt x="15247" y="6420"/>
                  </a:cubicBezTo>
                  <a:cubicBezTo>
                    <a:pt x="21600" y="16320"/>
                    <a:pt x="20118" y="16770"/>
                    <a:pt x="20118" y="16770"/>
                  </a:cubicBezTo>
                  <a:lnTo>
                    <a:pt x="20118" y="8220"/>
                  </a:lnTo>
                  <a:lnTo>
                    <a:pt x="19906" y="5070"/>
                  </a:lnTo>
                  <a:lnTo>
                    <a:pt x="20541" y="17670"/>
                  </a:lnTo>
                  <a:lnTo>
                    <a:pt x="16094" y="18120"/>
                  </a:lnTo>
                </a:path>
              </a:pathLst>
            </a:cu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710" name="Picture 15" descr=""/>
            <p:cNvPicPr/>
            <p:nvPr/>
          </p:nvPicPr>
          <p:blipFill>
            <a:blip r:embed="rId1"/>
            <a:stretch/>
          </p:blipFill>
          <p:spPr>
            <a:xfrm>
              <a:off x="12687480" y="4327560"/>
              <a:ext cx="1587240" cy="711000"/>
            </a:xfrm>
            <a:prstGeom prst="rect">
              <a:avLst/>
            </a:prstGeom>
            <a:ln w="0">
              <a:noFill/>
            </a:ln>
          </p:spPr>
        </p:pic>
      </p:grpSp>
      <p:sp>
        <p:nvSpPr>
          <p:cNvPr id="711" name="Rectangle 17"/>
          <p:cNvSpPr/>
          <p:nvPr/>
        </p:nvSpPr>
        <p:spPr>
          <a:xfrm>
            <a:off x="10531440" y="4158000"/>
            <a:ext cx="2041200" cy="37044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a1919"/>
                </a:solidFill>
                <a:latin typeface="Open Sans Bold"/>
                <a:ea typeface="ＭＳ Ｐゴシック"/>
              </a:rPr>
              <a:t>What we see</a:t>
            </a:r>
            <a:endParaRPr b="0" lang="en-US" sz="2700" spc="-1" strike="noStrike">
              <a:solidFill>
                <a:srgbClr val="000000"/>
              </a:solidFill>
              <a:latin typeface="Gill Sans"/>
            </a:endParaRPr>
          </a:p>
        </p:txBody>
      </p:sp>
      <p:sp>
        <p:nvSpPr>
          <p:cNvPr id="712" name="Rectangle 18"/>
          <p:cNvSpPr/>
          <p:nvPr/>
        </p:nvSpPr>
        <p:spPr>
          <a:xfrm>
            <a:off x="1892160" y="7238880"/>
            <a:ext cx="3213360" cy="5209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Bold"/>
                <a:ea typeface="ＭＳ Ｐゴシック"/>
              </a:rPr>
              <a:t>Actual</a:t>
            </a:r>
            <a:r>
              <a:rPr b="0" lang="en-US" sz="2400" spc="-1" strike="noStrike">
                <a:solidFill>
                  <a:srgbClr val="1a1919"/>
                </a:solidFill>
                <a:latin typeface="Open Sans Light"/>
                <a:ea typeface="ＭＳ Ｐゴシック"/>
              </a:rPr>
              <a:t> problem</a:t>
            </a:r>
            <a:endParaRPr b="0" lang="en-US" sz="2400" spc="-1" strike="noStrike">
              <a:solidFill>
                <a:srgbClr val="000000"/>
              </a:solidFill>
              <a:latin typeface="Gill Sans"/>
            </a:endParaRPr>
          </a:p>
        </p:txBody>
      </p:sp>
      <p:sp>
        <p:nvSpPr>
          <p:cNvPr id="713" name="Rectangle 19"/>
          <p:cNvSpPr/>
          <p:nvPr/>
        </p:nvSpPr>
        <p:spPr>
          <a:xfrm>
            <a:off x="1892160" y="8750160"/>
            <a:ext cx="3213360" cy="90180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Bold"/>
                <a:ea typeface="ＭＳ Ｐゴシック"/>
              </a:rPr>
              <a:t>The real </a:t>
            </a:r>
            <a:r>
              <a:rPr b="0" lang="en-US" sz="2400" spc="-1" strike="noStrike">
                <a:solidFill>
                  <a:srgbClr val="1a1919"/>
                </a:solidFill>
                <a:latin typeface="Open Sans Light"/>
                <a:ea typeface="ＭＳ Ｐゴシック"/>
              </a:rPr>
              <a:t>problem is here</a:t>
            </a:r>
            <a:endParaRPr b="0" lang="en-US" sz="2400" spc="-1" strike="noStrike">
              <a:solidFill>
                <a:srgbClr val="000000"/>
              </a:solidFill>
              <a:latin typeface="Gill Sans"/>
            </a:endParaRPr>
          </a:p>
        </p:txBody>
      </p:sp>
      <p:sp>
        <p:nvSpPr>
          <p:cNvPr id="714" name="Rectangle 20"/>
          <p:cNvSpPr/>
          <p:nvPr/>
        </p:nvSpPr>
        <p:spPr>
          <a:xfrm>
            <a:off x="1892160" y="10414080"/>
            <a:ext cx="3213360" cy="90180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Bold"/>
                <a:ea typeface="ＭＳ Ｐゴシック"/>
              </a:rPr>
              <a:t>The root </a:t>
            </a:r>
            <a:r>
              <a:rPr b="0" lang="en-US" sz="2400" spc="-1" strike="noStrike">
                <a:solidFill>
                  <a:srgbClr val="1a1919"/>
                </a:solidFill>
                <a:latin typeface="Open Sans Light"/>
                <a:ea typeface="ＭＳ Ｐゴシック"/>
              </a:rPr>
              <a:t>of all problems</a:t>
            </a:r>
            <a:endParaRPr b="0" lang="en-US" sz="2400" spc="-1" strike="noStrike">
              <a:solidFill>
                <a:srgbClr val="000000"/>
              </a:solidFill>
              <a:latin typeface="Gill Sans"/>
            </a:endParaRPr>
          </a:p>
        </p:txBody>
      </p:sp>
      <p:sp>
        <p:nvSpPr>
          <p:cNvPr id="715" name="Rectangle 21"/>
          <p:cNvSpPr/>
          <p:nvPr/>
        </p:nvSpPr>
        <p:spPr>
          <a:xfrm>
            <a:off x="19265760" y="5168880"/>
            <a:ext cx="2934000" cy="520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364f"/>
                </a:solidFill>
                <a:latin typeface="Open Sans Bold Italic"/>
                <a:ea typeface="ＭＳ Ｐゴシック"/>
              </a:rPr>
              <a:t>What we see area</a:t>
            </a:r>
            <a:endParaRPr b="0" lang="en-US" sz="2400" spc="-1" strike="noStrike">
              <a:solidFill>
                <a:srgbClr val="000000"/>
              </a:solidFill>
              <a:latin typeface="Gill Sans"/>
            </a:endParaRPr>
          </a:p>
        </p:txBody>
      </p:sp>
      <p:sp>
        <p:nvSpPr>
          <p:cNvPr id="716" name="Rectangle 22"/>
          <p:cNvSpPr/>
          <p:nvPr/>
        </p:nvSpPr>
        <p:spPr>
          <a:xfrm>
            <a:off x="19322280" y="7340760"/>
            <a:ext cx="2619000" cy="32940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364f"/>
                </a:solidFill>
                <a:latin typeface="Open Sans Bold Italic"/>
                <a:ea typeface="ＭＳ Ｐゴシック"/>
              </a:rPr>
              <a:t>Actual problem 01</a:t>
            </a:r>
            <a:endParaRPr b="0" lang="en-US" sz="2400" spc="-1" strike="noStrike">
              <a:solidFill>
                <a:srgbClr val="000000"/>
              </a:solidFill>
              <a:latin typeface="Gill Sans"/>
            </a:endParaRPr>
          </a:p>
        </p:txBody>
      </p:sp>
      <p:sp>
        <p:nvSpPr>
          <p:cNvPr id="717" name="Rectangle 23"/>
          <p:cNvSpPr/>
          <p:nvPr/>
        </p:nvSpPr>
        <p:spPr>
          <a:xfrm>
            <a:off x="19322280" y="9036360"/>
            <a:ext cx="2619000" cy="32940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364f"/>
                </a:solidFill>
                <a:latin typeface="Open Sans Bold Italic"/>
                <a:ea typeface="ＭＳ Ｐゴシック"/>
              </a:rPr>
              <a:t>Actual problem 02</a:t>
            </a:r>
            <a:endParaRPr b="0" lang="en-US" sz="2400" spc="-1" strike="noStrike">
              <a:solidFill>
                <a:srgbClr val="000000"/>
              </a:solidFill>
              <a:latin typeface="Gill Sans"/>
            </a:endParaRPr>
          </a:p>
        </p:txBody>
      </p:sp>
      <p:sp>
        <p:nvSpPr>
          <p:cNvPr id="718" name="Rectangle 24"/>
          <p:cNvSpPr/>
          <p:nvPr/>
        </p:nvSpPr>
        <p:spPr>
          <a:xfrm>
            <a:off x="19322280" y="10699920"/>
            <a:ext cx="2619000" cy="32940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364f"/>
                </a:solidFill>
                <a:latin typeface="Open Sans Bold Italic"/>
                <a:ea typeface="ＭＳ Ｐゴシック"/>
              </a:rPr>
              <a:t>Actual problem 03</a:t>
            </a:r>
            <a:endParaRPr b="0" lang="en-US" sz="2400" spc="-1" strike="noStrike">
              <a:solidFill>
                <a:srgbClr val="000000"/>
              </a:solidFill>
              <a:latin typeface="Gill Sans"/>
            </a:endParaRPr>
          </a:p>
        </p:txBody>
      </p:sp>
      <p:sp>
        <p:nvSpPr>
          <p:cNvPr id="719" name="Rectangle 25"/>
          <p:cNvSpPr/>
          <p:nvPr/>
        </p:nvSpPr>
        <p:spPr>
          <a:xfrm>
            <a:off x="5345280" y="7137360"/>
            <a:ext cx="6529320" cy="812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Light"/>
                <a:ea typeface="ＭＳ Ｐゴシック"/>
              </a:rPr>
              <a:t>id ligula porta felis euismod semper. Aenean lacinia bibendum nulla sed consectetur.</a:t>
            </a:r>
            <a:endParaRPr b="0" lang="en-US" sz="2100" spc="-1" strike="noStrike">
              <a:solidFill>
                <a:srgbClr val="000000"/>
              </a:solidFill>
              <a:latin typeface="Gill Sans"/>
            </a:endParaRPr>
          </a:p>
        </p:txBody>
      </p:sp>
      <p:sp>
        <p:nvSpPr>
          <p:cNvPr id="720" name="Rectangle 26"/>
          <p:cNvSpPr/>
          <p:nvPr/>
        </p:nvSpPr>
        <p:spPr>
          <a:xfrm>
            <a:off x="5345280" y="8813880"/>
            <a:ext cx="6529320" cy="812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Light"/>
                <a:ea typeface="ＭＳ Ｐゴシック"/>
              </a:rPr>
              <a:t>id ligula porta felis euismod semper. Aenean lacinia bibendum nulla sed consectetur.</a:t>
            </a:r>
            <a:endParaRPr b="0" lang="en-US" sz="2100" spc="-1" strike="noStrike">
              <a:solidFill>
                <a:srgbClr val="000000"/>
              </a:solidFill>
              <a:latin typeface="Gill Sans"/>
            </a:endParaRPr>
          </a:p>
        </p:txBody>
      </p:sp>
      <p:sp>
        <p:nvSpPr>
          <p:cNvPr id="721" name="Rectangle 27"/>
          <p:cNvSpPr/>
          <p:nvPr/>
        </p:nvSpPr>
        <p:spPr>
          <a:xfrm>
            <a:off x="5345280" y="10452240"/>
            <a:ext cx="6529320" cy="812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Light"/>
                <a:ea typeface="ＭＳ Ｐゴシック"/>
              </a:rPr>
              <a:t>id ligula porta felis euismod semper. Aenean lacinia bibendum nulla sed consectetur.</a:t>
            </a:r>
            <a:endParaRPr b="0" lang="en-US" sz="2100" spc="-1" strike="noStrike">
              <a:solidFill>
                <a:srgbClr val="000000"/>
              </a:solidFill>
              <a:latin typeface="Gill Sans"/>
            </a:endParaRPr>
          </a:p>
        </p:txBody>
      </p:sp>
      <p:sp>
        <p:nvSpPr>
          <p:cNvPr id="722" name="Rectangle 28"/>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22</a:t>
            </a:r>
            <a:endParaRPr b="0" lang="en-US" sz="2400" spc="-1" strike="noStrike">
              <a:solidFill>
                <a:srgbClr val="000000"/>
              </a:solidFill>
              <a:latin typeface="Gill Sans"/>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3" name="Group 3"/>
          <p:cNvGrpSpPr/>
          <p:nvPr/>
        </p:nvGrpSpPr>
        <p:grpSpPr>
          <a:xfrm>
            <a:off x="1385640" y="819000"/>
            <a:ext cx="5618160" cy="1130040"/>
            <a:chOff x="1385640" y="819000"/>
            <a:chExt cx="5618160" cy="1130040"/>
          </a:xfrm>
        </p:grpSpPr>
        <p:sp>
          <p:nvSpPr>
            <p:cNvPr id="724" name="Rectangle 1"/>
            <p:cNvSpPr/>
            <p:nvPr/>
          </p:nvSpPr>
          <p:spPr>
            <a:xfrm>
              <a:off x="1584000" y="819000"/>
              <a:ext cx="216936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Pie Chart</a:t>
              </a:r>
              <a:endParaRPr b="0" lang="en-US" sz="4000" spc="-1" strike="noStrike">
                <a:solidFill>
                  <a:srgbClr val="000000"/>
                </a:solidFill>
                <a:latin typeface="Gill Sans"/>
              </a:endParaRPr>
            </a:p>
          </p:txBody>
        </p:sp>
        <p:sp>
          <p:nvSpPr>
            <p:cNvPr id="725"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726" name="AutoShape 5"/>
          <p:cNvSpPr/>
          <p:nvPr/>
        </p:nvSpPr>
        <p:spPr>
          <a:xfrm>
            <a:off x="4245120" y="6039000"/>
            <a:ext cx="4259160" cy="5059080"/>
          </a:xfrm>
          <a:custGeom>
            <a:avLst/>
            <a:gdLst/>
            <a:ahLst/>
            <a:rect l="l" t="t" r="r" b="b"/>
            <a:pathLst>
              <a:path w="21600" h="21600">
                <a:moveTo>
                  <a:pt x="0" y="0"/>
                </a:moveTo>
                <a:lnTo>
                  <a:pt x="563" y="1137"/>
                </a:lnTo>
                <a:cubicBezTo>
                  <a:pt x="563" y="1137"/>
                  <a:pt x="787" y="2274"/>
                  <a:pt x="1350" y="2463"/>
                </a:cubicBezTo>
                <a:cubicBezTo>
                  <a:pt x="1912" y="2653"/>
                  <a:pt x="3262" y="5211"/>
                  <a:pt x="3262" y="5211"/>
                </a:cubicBezTo>
                <a:lnTo>
                  <a:pt x="3487" y="6821"/>
                </a:lnTo>
                <a:cubicBezTo>
                  <a:pt x="3487" y="6821"/>
                  <a:pt x="3375" y="7295"/>
                  <a:pt x="3825" y="7768"/>
                </a:cubicBezTo>
                <a:cubicBezTo>
                  <a:pt x="4275" y="8242"/>
                  <a:pt x="4837" y="9000"/>
                  <a:pt x="4837" y="9284"/>
                </a:cubicBezTo>
                <a:cubicBezTo>
                  <a:pt x="4837" y="9568"/>
                  <a:pt x="4500" y="10705"/>
                  <a:pt x="4387" y="10895"/>
                </a:cubicBezTo>
                <a:cubicBezTo>
                  <a:pt x="4275" y="11084"/>
                  <a:pt x="4388" y="12316"/>
                  <a:pt x="5175" y="13074"/>
                </a:cubicBezTo>
                <a:cubicBezTo>
                  <a:pt x="5962" y="13832"/>
                  <a:pt x="6525" y="14495"/>
                  <a:pt x="6525" y="14684"/>
                </a:cubicBezTo>
                <a:cubicBezTo>
                  <a:pt x="6525" y="14874"/>
                  <a:pt x="6525" y="15821"/>
                  <a:pt x="6525" y="16105"/>
                </a:cubicBezTo>
                <a:cubicBezTo>
                  <a:pt x="6525" y="16389"/>
                  <a:pt x="6637" y="16674"/>
                  <a:pt x="7200" y="17811"/>
                </a:cubicBezTo>
                <a:cubicBezTo>
                  <a:pt x="7762" y="18947"/>
                  <a:pt x="8550" y="19895"/>
                  <a:pt x="8775" y="20274"/>
                </a:cubicBezTo>
                <a:cubicBezTo>
                  <a:pt x="9000" y="20653"/>
                  <a:pt x="10125" y="21600"/>
                  <a:pt x="10125" y="21600"/>
                </a:cubicBezTo>
                <a:lnTo>
                  <a:pt x="11250" y="19800"/>
                </a:lnTo>
                <a:cubicBezTo>
                  <a:pt x="11250" y="19800"/>
                  <a:pt x="12938" y="17147"/>
                  <a:pt x="13613" y="16674"/>
                </a:cubicBezTo>
                <a:cubicBezTo>
                  <a:pt x="14287" y="16200"/>
                  <a:pt x="15300" y="14305"/>
                  <a:pt x="15300" y="14305"/>
                </a:cubicBezTo>
                <a:lnTo>
                  <a:pt x="15412" y="13074"/>
                </a:lnTo>
                <a:lnTo>
                  <a:pt x="16762" y="11937"/>
                </a:lnTo>
                <a:cubicBezTo>
                  <a:pt x="16762" y="11937"/>
                  <a:pt x="17100" y="8621"/>
                  <a:pt x="17212" y="8053"/>
                </a:cubicBezTo>
                <a:cubicBezTo>
                  <a:pt x="17325" y="7484"/>
                  <a:pt x="18000" y="6347"/>
                  <a:pt x="18112" y="6158"/>
                </a:cubicBezTo>
                <a:cubicBezTo>
                  <a:pt x="18225" y="5968"/>
                  <a:pt x="18338" y="4737"/>
                  <a:pt x="18225" y="4263"/>
                </a:cubicBezTo>
                <a:cubicBezTo>
                  <a:pt x="18112" y="3789"/>
                  <a:pt x="18113" y="3032"/>
                  <a:pt x="18450" y="2842"/>
                </a:cubicBezTo>
                <a:cubicBezTo>
                  <a:pt x="18787" y="2653"/>
                  <a:pt x="20025" y="1895"/>
                  <a:pt x="20025" y="1895"/>
                </a:cubicBezTo>
                <a:lnTo>
                  <a:pt x="20812" y="1232"/>
                </a:lnTo>
                <a:lnTo>
                  <a:pt x="21375" y="663"/>
                </a:lnTo>
                <a:lnTo>
                  <a:pt x="21600" y="95"/>
                </a:lnTo>
                <a:lnTo>
                  <a:pt x="0" y="0"/>
                </a:lnTo>
                <a:close/>
                <a:moveTo>
                  <a:pt x="0" y="0"/>
                </a:moveTo>
              </a:path>
            </a:pathLst>
          </a:custGeom>
          <a:solidFill>
            <a:srgbClr val="2969a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27" name="AutoShape 6"/>
          <p:cNvSpPr/>
          <p:nvPr/>
        </p:nvSpPr>
        <p:spPr>
          <a:xfrm>
            <a:off x="4267080" y="6019920"/>
            <a:ext cx="4194360" cy="5014800"/>
          </a:xfrm>
          <a:custGeom>
            <a:avLst/>
            <a:gdLst/>
            <a:ahLst/>
            <a:rect l="l" t="t" r="r" b="b"/>
            <a:pathLst>
              <a:path w="21600" h="21600">
                <a:moveTo>
                  <a:pt x="20000" y="1338"/>
                </a:moveTo>
                <a:lnTo>
                  <a:pt x="17486" y="2867"/>
                </a:lnTo>
                <a:cubicBezTo>
                  <a:pt x="17486" y="2867"/>
                  <a:pt x="16800" y="3058"/>
                  <a:pt x="16457" y="4970"/>
                </a:cubicBezTo>
                <a:cubicBezTo>
                  <a:pt x="16114" y="6881"/>
                  <a:pt x="15657" y="7264"/>
                  <a:pt x="15657" y="7455"/>
                </a:cubicBezTo>
                <a:cubicBezTo>
                  <a:pt x="15657" y="7646"/>
                  <a:pt x="14971" y="8028"/>
                  <a:pt x="14971" y="8028"/>
                </a:cubicBezTo>
                <a:cubicBezTo>
                  <a:pt x="14971" y="8028"/>
                  <a:pt x="14971" y="10418"/>
                  <a:pt x="15086" y="10704"/>
                </a:cubicBezTo>
                <a:cubicBezTo>
                  <a:pt x="15200" y="10991"/>
                  <a:pt x="15886" y="12042"/>
                  <a:pt x="15086" y="13094"/>
                </a:cubicBezTo>
                <a:cubicBezTo>
                  <a:pt x="14286" y="14145"/>
                  <a:pt x="13486" y="14814"/>
                  <a:pt x="13486" y="14814"/>
                </a:cubicBezTo>
                <a:cubicBezTo>
                  <a:pt x="13486" y="14814"/>
                  <a:pt x="12800" y="15865"/>
                  <a:pt x="12686" y="16152"/>
                </a:cubicBezTo>
                <a:cubicBezTo>
                  <a:pt x="12571" y="16439"/>
                  <a:pt x="11771" y="17968"/>
                  <a:pt x="11771" y="17968"/>
                </a:cubicBezTo>
                <a:lnTo>
                  <a:pt x="10286" y="19593"/>
                </a:lnTo>
                <a:lnTo>
                  <a:pt x="10400" y="20549"/>
                </a:lnTo>
                <a:cubicBezTo>
                  <a:pt x="10400" y="20549"/>
                  <a:pt x="9829" y="19688"/>
                  <a:pt x="10286" y="18255"/>
                </a:cubicBezTo>
                <a:cubicBezTo>
                  <a:pt x="10743" y="16821"/>
                  <a:pt x="12114" y="14910"/>
                  <a:pt x="12114" y="14719"/>
                </a:cubicBezTo>
                <a:cubicBezTo>
                  <a:pt x="12114" y="14527"/>
                  <a:pt x="12800" y="12425"/>
                  <a:pt x="12800" y="12425"/>
                </a:cubicBezTo>
                <a:lnTo>
                  <a:pt x="12914" y="10800"/>
                </a:lnTo>
                <a:cubicBezTo>
                  <a:pt x="12914" y="10800"/>
                  <a:pt x="12800" y="9940"/>
                  <a:pt x="13143" y="9653"/>
                </a:cubicBezTo>
                <a:cubicBezTo>
                  <a:pt x="13486" y="9366"/>
                  <a:pt x="12571" y="8219"/>
                  <a:pt x="12571" y="8219"/>
                </a:cubicBezTo>
                <a:cubicBezTo>
                  <a:pt x="12571" y="8219"/>
                  <a:pt x="11657" y="7646"/>
                  <a:pt x="12343" y="6786"/>
                </a:cubicBezTo>
                <a:cubicBezTo>
                  <a:pt x="13029" y="5926"/>
                  <a:pt x="13600" y="5352"/>
                  <a:pt x="13829" y="5352"/>
                </a:cubicBezTo>
                <a:cubicBezTo>
                  <a:pt x="14057" y="5352"/>
                  <a:pt x="14971" y="4874"/>
                  <a:pt x="14971" y="4874"/>
                </a:cubicBezTo>
                <a:lnTo>
                  <a:pt x="15200" y="4396"/>
                </a:lnTo>
                <a:lnTo>
                  <a:pt x="13029" y="3632"/>
                </a:lnTo>
                <a:lnTo>
                  <a:pt x="13371" y="3058"/>
                </a:lnTo>
                <a:lnTo>
                  <a:pt x="14171" y="2772"/>
                </a:lnTo>
                <a:cubicBezTo>
                  <a:pt x="14171" y="2772"/>
                  <a:pt x="14171" y="1912"/>
                  <a:pt x="14400" y="1720"/>
                </a:cubicBezTo>
                <a:cubicBezTo>
                  <a:pt x="14629" y="1529"/>
                  <a:pt x="14629" y="860"/>
                  <a:pt x="14629" y="860"/>
                </a:cubicBezTo>
                <a:lnTo>
                  <a:pt x="13714" y="0"/>
                </a:lnTo>
                <a:cubicBezTo>
                  <a:pt x="13714" y="0"/>
                  <a:pt x="13143" y="2007"/>
                  <a:pt x="12686" y="2389"/>
                </a:cubicBezTo>
                <a:cubicBezTo>
                  <a:pt x="12229" y="2772"/>
                  <a:pt x="11543" y="3536"/>
                  <a:pt x="11543" y="3536"/>
                </a:cubicBezTo>
                <a:cubicBezTo>
                  <a:pt x="11543" y="3536"/>
                  <a:pt x="11543" y="4301"/>
                  <a:pt x="11657" y="4588"/>
                </a:cubicBezTo>
                <a:cubicBezTo>
                  <a:pt x="11771" y="4874"/>
                  <a:pt x="11314" y="5639"/>
                  <a:pt x="11200" y="6117"/>
                </a:cubicBezTo>
                <a:cubicBezTo>
                  <a:pt x="11086" y="6595"/>
                  <a:pt x="10971" y="7359"/>
                  <a:pt x="10971" y="7933"/>
                </a:cubicBezTo>
                <a:cubicBezTo>
                  <a:pt x="10971" y="8506"/>
                  <a:pt x="10629" y="8697"/>
                  <a:pt x="10971" y="10035"/>
                </a:cubicBezTo>
                <a:cubicBezTo>
                  <a:pt x="11314" y="11373"/>
                  <a:pt x="11086" y="12520"/>
                  <a:pt x="10971" y="12807"/>
                </a:cubicBezTo>
                <a:cubicBezTo>
                  <a:pt x="10857" y="13094"/>
                  <a:pt x="10857" y="13189"/>
                  <a:pt x="10857" y="13572"/>
                </a:cubicBezTo>
                <a:cubicBezTo>
                  <a:pt x="10857" y="13954"/>
                  <a:pt x="11086" y="14719"/>
                  <a:pt x="11086" y="14910"/>
                </a:cubicBezTo>
                <a:cubicBezTo>
                  <a:pt x="11086" y="15101"/>
                  <a:pt x="10629" y="15961"/>
                  <a:pt x="10514" y="16152"/>
                </a:cubicBezTo>
                <a:cubicBezTo>
                  <a:pt x="10400" y="16343"/>
                  <a:pt x="9257" y="19211"/>
                  <a:pt x="9257" y="19211"/>
                </a:cubicBezTo>
                <a:lnTo>
                  <a:pt x="8571" y="13476"/>
                </a:lnTo>
                <a:cubicBezTo>
                  <a:pt x="8571" y="13476"/>
                  <a:pt x="6286" y="11278"/>
                  <a:pt x="6171" y="11087"/>
                </a:cubicBezTo>
                <a:cubicBezTo>
                  <a:pt x="6057" y="10896"/>
                  <a:pt x="8114" y="10035"/>
                  <a:pt x="8914" y="9366"/>
                </a:cubicBezTo>
                <a:cubicBezTo>
                  <a:pt x="9714" y="8697"/>
                  <a:pt x="9143" y="8793"/>
                  <a:pt x="8686" y="7168"/>
                </a:cubicBezTo>
                <a:cubicBezTo>
                  <a:pt x="8229" y="5543"/>
                  <a:pt x="5943" y="5161"/>
                  <a:pt x="5943" y="5161"/>
                </a:cubicBezTo>
                <a:cubicBezTo>
                  <a:pt x="5943" y="5161"/>
                  <a:pt x="5029" y="4588"/>
                  <a:pt x="4914" y="4110"/>
                </a:cubicBezTo>
                <a:cubicBezTo>
                  <a:pt x="4800" y="3632"/>
                  <a:pt x="4229" y="1625"/>
                  <a:pt x="4229" y="1625"/>
                </a:cubicBezTo>
                <a:lnTo>
                  <a:pt x="7086" y="3727"/>
                </a:lnTo>
                <a:cubicBezTo>
                  <a:pt x="7086" y="3727"/>
                  <a:pt x="6057" y="1147"/>
                  <a:pt x="6514" y="573"/>
                </a:cubicBezTo>
                <a:cubicBezTo>
                  <a:pt x="6971" y="0"/>
                  <a:pt x="7657" y="478"/>
                  <a:pt x="7657" y="478"/>
                </a:cubicBezTo>
                <a:lnTo>
                  <a:pt x="8800" y="3058"/>
                </a:lnTo>
                <a:lnTo>
                  <a:pt x="9600" y="3919"/>
                </a:lnTo>
                <a:lnTo>
                  <a:pt x="9371" y="1338"/>
                </a:lnTo>
                <a:lnTo>
                  <a:pt x="9371" y="96"/>
                </a:lnTo>
                <a:lnTo>
                  <a:pt x="0" y="0"/>
                </a:lnTo>
                <a:cubicBezTo>
                  <a:pt x="0" y="0"/>
                  <a:pt x="914" y="956"/>
                  <a:pt x="1257" y="1720"/>
                </a:cubicBezTo>
                <a:cubicBezTo>
                  <a:pt x="1600" y="2485"/>
                  <a:pt x="3200" y="4588"/>
                  <a:pt x="3200" y="5161"/>
                </a:cubicBezTo>
                <a:cubicBezTo>
                  <a:pt x="3200" y="5735"/>
                  <a:pt x="3657" y="6786"/>
                  <a:pt x="4114" y="7742"/>
                </a:cubicBezTo>
                <a:cubicBezTo>
                  <a:pt x="4571" y="8697"/>
                  <a:pt x="4914" y="9749"/>
                  <a:pt x="4914" y="10322"/>
                </a:cubicBezTo>
                <a:cubicBezTo>
                  <a:pt x="4914" y="10896"/>
                  <a:pt x="4229" y="11851"/>
                  <a:pt x="4800" y="12425"/>
                </a:cubicBezTo>
                <a:cubicBezTo>
                  <a:pt x="5371" y="12998"/>
                  <a:pt x="5943" y="14432"/>
                  <a:pt x="6400" y="14719"/>
                </a:cubicBezTo>
                <a:cubicBezTo>
                  <a:pt x="6857" y="15005"/>
                  <a:pt x="6629" y="15292"/>
                  <a:pt x="6971" y="16439"/>
                </a:cubicBezTo>
                <a:cubicBezTo>
                  <a:pt x="7314" y="17586"/>
                  <a:pt x="7657" y="18542"/>
                  <a:pt x="8000" y="19115"/>
                </a:cubicBezTo>
                <a:cubicBezTo>
                  <a:pt x="8343" y="19688"/>
                  <a:pt x="10057" y="21600"/>
                  <a:pt x="10057" y="21600"/>
                </a:cubicBezTo>
                <a:cubicBezTo>
                  <a:pt x="10057" y="21600"/>
                  <a:pt x="15086" y="14910"/>
                  <a:pt x="15429" y="14336"/>
                </a:cubicBezTo>
                <a:cubicBezTo>
                  <a:pt x="15771" y="13763"/>
                  <a:pt x="15657" y="13094"/>
                  <a:pt x="15657" y="13094"/>
                </a:cubicBezTo>
                <a:lnTo>
                  <a:pt x="16457" y="11851"/>
                </a:lnTo>
                <a:lnTo>
                  <a:pt x="17371" y="9844"/>
                </a:lnTo>
                <a:cubicBezTo>
                  <a:pt x="17371" y="9844"/>
                  <a:pt x="17257" y="8506"/>
                  <a:pt x="17371" y="8028"/>
                </a:cubicBezTo>
                <a:cubicBezTo>
                  <a:pt x="17486" y="7550"/>
                  <a:pt x="18286" y="6117"/>
                  <a:pt x="18286" y="6117"/>
                </a:cubicBezTo>
                <a:lnTo>
                  <a:pt x="18400" y="2772"/>
                </a:lnTo>
                <a:lnTo>
                  <a:pt x="21029" y="956"/>
                </a:lnTo>
                <a:lnTo>
                  <a:pt x="21600" y="96"/>
                </a:lnTo>
                <a:lnTo>
                  <a:pt x="20000" y="1338"/>
                </a:lnTo>
                <a:close/>
                <a:moveTo>
                  <a:pt x="20000" y="1338"/>
                </a:moveTo>
              </a:path>
            </a:pathLst>
          </a:custGeom>
          <a:solidFill>
            <a:srgbClr val="65a0e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28" name="AutoShape 7"/>
          <p:cNvSpPr/>
          <p:nvPr/>
        </p:nvSpPr>
        <p:spPr>
          <a:xfrm>
            <a:off x="1817640" y="6046920"/>
            <a:ext cx="7645320" cy="5219640"/>
          </a:xfrm>
          <a:custGeom>
            <a:avLst/>
            <a:gdLst/>
            <a:ahLst/>
            <a:rect l="l" t="t" r="r" b="b"/>
            <a:pathLst>
              <a:path w="21600" h="21448">
                <a:moveTo>
                  <a:pt x="0" y="0"/>
                </a:moveTo>
                <a:cubicBezTo>
                  <a:pt x="0" y="0"/>
                  <a:pt x="3284" y="3737"/>
                  <a:pt x="3745" y="4922"/>
                </a:cubicBezTo>
                <a:cubicBezTo>
                  <a:pt x="4207" y="6106"/>
                  <a:pt x="4720" y="9296"/>
                  <a:pt x="5233" y="11939"/>
                </a:cubicBezTo>
                <a:cubicBezTo>
                  <a:pt x="5746" y="14582"/>
                  <a:pt x="6310" y="15129"/>
                  <a:pt x="7696" y="16496"/>
                </a:cubicBezTo>
                <a:cubicBezTo>
                  <a:pt x="9081" y="17863"/>
                  <a:pt x="9594" y="17863"/>
                  <a:pt x="9748" y="18775"/>
                </a:cubicBezTo>
                <a:cubicBezTo>
                  <a:pt x="9902" y="19686"/>
                  <a:pt x="12211" y="21053"/>
                  <a:pt x="12980" y="21327"/>
                </a:cubicBezTo>
                <a:cubicBezTo>
                  <a:pt x="13750" y="21600"/>
                  <a:pt x="21600" y="21327"/>
                  <a:pt x="21600" y="21327"/>
                </a:cubicBezTo>
                <a:lnTo>
                  <a:pt x="21600" y="91"/>
                </a:lnTo>
                <a:lnTo>
                  <a:pt x="0" y="0"/>
                </a:lnTo>
                <a:close/>
                <a:moveTo>
                  <a:pt x="0" y="0"/>
                </a:moveTo>
              </a:path>
            </a:pathLst>
          </a:custGeom>
          <a:solidFill>
            <a:srgbClr val="19c38f">
              <a:alpha val="3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29" name="AutoShape 8"/>
          <p:cNvSpPr/>
          <p:nvPr/>
        </p:nvSpPr>
        <p:spPr>
          <a:xfrm>
            <a:off x="4221000" y="3319560"/>
            <a:ext cx="4283280" cy="2817720"/>
          </a:xfrm>
          <a:custGeom>
            <a:avLst/>
            <a:gdLst/>
            <a:ahLst/>
            <a:rect l="l" t="t" r="r" b="b"/>
            <a:pathLst>
              <a:path w="21495" h="21600">
                <a:moveTo>
                  <a:pt x="118" y="21090"/>
                </a:moveTo>
                <a:cubicBezTo>
                  <a:pt x="118" y="21090"/>
                  <a:pt x="118" y="19389"/>
                  <a:pt x="6" y="19049"/>
                </a:cubicBezTo>
                <a:cubicBezTo>
                  <a:pt x="-105" y="18709"/>
                  <a:pt x="1231" y="17178"/>
                  <a:pt x="1231" y="17178"/>
                </a:cubicBezTo>
                <a:lnTo>
                  <a:pt x="1899" y="16498"/>
                </a:lnTo>
                <a:lnTo>
                  <a:pt x="1231" y="14967"/>
                </a:lnTo>
                <a:lnTo>
                  <a:pt x="2010" y="14287"/>
                </a:lnTo>
                <a:lnTo>
                  <a:pt x="3013" y="13436"/>
                </a:lnTo>
                <a:cubicBezTo>
                  <a:pt x="3013" y="13436"/>
                  <a:pt x="3347" y="12416"/>
                  <a:pt x="4794" y="11565"/>
                </a:cubicBezTo>
                <a:cubicBezTo>
                  <a:pt x="6241" y="10715"/>
                  <a:pt x="7132" y="9865"/>
                  <a:pt x="7132" y="9865"/>
                </a:cubicBezTo>
                <a:cubicBezTo>
                  <a:pt x="7132" y="9865"/>
                  <a:pt x="7577" y="9865"/>
                  <a:pt x="7911" y="8844"/>
                </a:cubicBezTo>
                <a:cubicBezTo>
                  <a:pt x="8246" y="7824"/>
                  <a:pt x="8357" y="7313"/>
                  <a:pt x="8357" y="6633"/>
                </a:cubicBezTo>
                <a:cubicBezTo>
                  <a:pt x="8357" y="5953"/>
                  <a:pt x="8023" y="5443"/>
                  <a:pt x="8580" y="4592"/>
                </a:cubicBezTo>
                <a:cubicBezTo>
                  <a:pt x="9136" y="3742"/>
                  <a:pt x="11697" y="0"/>
                  <a:pt x="11697" y="0"/>
                </a:cubicBezTo>
                <a:cubicBezTo>
                  <a:pt x="11697" y="0"/>
                  <a:pt x="11920" y="850"/>
                  <a:pt x="12476" y="1531"/>
                </a:cubicBezTo>
                <a:cubicBezTo>
                  <a:pt x="13033" y="2211"/>
                  <a:pt x="13256" y="2891"/>
                  <a:pt x="13256" y="3402"/>
                </a:cubicBezTo>
                <a:cubicBezTo>
                  <a:pt x="13256" y="3912"/>
                  <a:pt x="11920" y="2891"/>
                  <a:pt x="13367" y="4762"/>
                </a:cubicBezTo>
                <a:cubicBezTo>
                  <a:pt x="14815" y="6633"/>
                  <a:pt x="15037" y="7824"/>
                  <a:pt x="15149" y="8164"/>
                </a:cubicBezTo>
                <a:cubicBezTo>
                  <a:pt x="15260" y="8504"/>
                  <a:pt x="15149" y="9694"/>
                  <a:pt x="15483" y="10035"/>
                </a:cubicBezTo>
                <a:cubicBezTo>
                  <a:pt x="15817" y="10375"/>
                  <a:pt x="16930" y="11735"/>
                  <a:pt x="17153" y="11906"/>
                </a:cubicBezTo>
                <a:cubicBezTo>
                  <a:pt x="17375" y="12076"/>
                  <a:pt x="17709" y="14117"/>
                  <a:pt x="17709" y="14117"/>
                </a:cubicBezTo>
                <a:cubicBezTo>
                  <a:pt x="17709" y="14117"/>
                  <a:pt x="17932" y="14967"/>
                  <a:pt x="18155" y="15137"/>
                </a:cubicBezTo>
                <a:cubicBezTo>
                  <a:pt x="18377" y="15307"/>
                  <a:pt x="19602" y="15137"/>
                  <a:pt x="19602" y="15137"/>
                </a:cubicBezTo>
                <a:lnTo>
                  <a:pt x="20048" y="17008"/>
                </a:lnTo>
                <a:cubicBezTo>
                  <a:pt x="20048" y="17008"/>
                  <a:pt x="20048" y="18709"/>
                  <a:pt x="20382" y="18879"/>
                </a:cubicBezTo>
                <a:cubicBezTo>
                  <a:pt x="20716" y="19049"/>
                  <a:pt x="21384" y="19729"/>
                  <a:pt x="21384" y="20239"/>
                </a:cubicBezTo>
                <a:cubicBezTo>
                  <a:pt x="21384" y="20750"/>
                  <a:pt x="21495" y="21600"/>
                  <a:pt x="21495" y="21600"/>
                </a:cubicBezTo>
                <a:lnTo>
                  <a:pt x="118" y="21090"/>
                </a:lnTo>
                <a:close/>
                <a:moveTo>
                  <a:pt x="118" y="21090"/>
                </a:moveTo>
              </a:path>
            </a:pathLst>
          </a:custGeom>
          <a:solidFill>
            <a:srgbClr val="8ba1bf"/>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30" name="AutoShape 9"/>
          <p:cNvSpPr/>
          <p:nvPr/>
        </p:nvSpPr>
        <p:spPr>
          <a:xfrm>
            <a:off x="4267080" y="3456000"/>
            <a:ext cx="2862360" cy="2639880"/>
          </a:xfrm>
          <a:custGeom>
            <a:avLst/>
            <a:gdLst/>
            <a:ahLst/>
            <a:rect l="l" t="t" r="r" b="b"/>
            <a:pathLst>
              <a:path w="21600" h="21600">
                <a:moveTo>
                  <a:pt x="16912" y="0"/>
                </a:moveTo>
                <a:lnTo>
                  <a:pt x="14735" y="3812"/>
                </a:lnTo>
                <a:lnTo>
                  <a:pt x="16577" y="2723"/>
                </a:lnTo>
                <a:cubicBezTo>
                  <a:pt x="16577" y="2723"/>
                  <a:pt x="16409" y="5808"/>
                  <a:pt x="15740" y="6171"/>
                </a:cubicBezTo>
                <a:cubicBezTo>
                  <a:pt x="15070" y="6534"/>
                  <a:pt x="17581" y="6353"/>
                  <a:pt x="17581" y="8168"/>
                </a:cubicBezTo>
                <a:cubicBezTo>
                  <a:pt x="17581" y="9983"/>
                  <a:pt x="17581" y="11072"/>
                  <a:pt x="16409" y="12706"/>
                </a:cubicBezTo>
                <a:cubicBezTo>
                  <a:pt x="15237" y="14339"/>
                  <a:pt x="17749" y="15973"/>
                  <a:pt x="17749" y="15973"/>
                </a:cubicBezTo>
                <a:lnTo>
                  <a:pt x="15740" y="16881"/>
                </a:lnTo>
                <a:lnTo>
                  <a:pt x="14065" y="16881"/>
                </a:lnTo>
                <a:cubicBezTo>
                  <a:pt x="14065" y="16881"/>
                  <a:pt x="13228" y="17788"/>
                  <a:pt x="15070" y="18151"/>
                </a:cubicBezTo>
                <a:cubicBezTo>
                  <a:pt x="16912" y="18514"/>
                  <a:pt x="17916" y="18333"/>
                  <a:pt x="18754" y="18696"/>
                </a:cubicBezTo>
                <a:cubicBezTo>
                  <a:pt x="19591" y="19059"/>
                  <a:pt x="20930" y="20511"/>
                  <a:pt x="20930" y="20511"/>
                </a:cubicBezTo>
                <a:lnTo>
                  <a:pt x="21600" y="21600"/>
                </a:lnTo>
                <a:lnTo>
                  <a:pt x="0" y="21418"/>
                </a:lnTo>
                <a:lnTo>
                  <a:pt x="167" y="18696"/>
                </a:lnTo>
                <a:lnTo>
                  <a:pt x="2512" y="16881"/>
                </a:lnTo>
                <a:lnTo>
                  <a:pt x="1842" y="15066"/>
                </a:lnTo>
                <a:lnTo>
                  <a:pt x="4186" y="14158"/>
                </a:lnTo>
                <a:lnTo>
                  <a:pt x="5693" y="12161"/>
                </a:lnTo>
                <a:lnTo>
                  <a:pt x="8037" y="10891"/>
                </a:lnTo>
                <a:lnTo>
                  <a:pt x="11553" y="9439"/>
                </a:lnTo>
                <a:lnTo>
                  <a:pt x="12223" y="7442"/>
                </a:lnTo>
                <a:lnTo>
                  <a:pt x="12223" y="5264"/>
                </a:lnTo>
                <a:lnTo>
                  <a:pt x="12223" y="4175"/>
                </a:lnTo>
                <a:lnTo>
                  <a:pt x="16912" y="0"/>
                </a:lnTo>
                <a:close/>
                <a:moveTo>
                  <a:pt x="16912" y="0"/>
                </a:moveTo>
              </a:path>
            </a:pathLst>
          </a:custGeom>
          <a:solidFill>
            <a:srgbClr val="ced8e2"/>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31" name="Rectangle 10"/>
          <p:cNvSpPr/>
          <p:nvPr/>
        </p:nvSpPr>
        <p:spPr>
          <a:xfrm>
            <a:off x="11417400" y="3301920"/>
            <a:ext cx="9359640" cy="181620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1a1919"/>
                </a:solidFill>
                <a:latin typeface="Open Sans Light"/>
                <a:ea typeface="ＭＳ Ｐゴシック"/>
              </a:rPr>
              <a:t>Our Data is Very </a:t>
            </a:r>
            <a:r>
              <a:rPr b="0" lang="en-US" sz="5200" spc="-1" strike="noStrike">
                <a:solidFill>
                  <a:srgbClr val="1a1919"/>
                </a:solidFill>
                <a:latin typeface="Open Sans Bold"/>
                <a:ea typeface="ＭＳ Ｐゴシック"/>
              </a:rPr>
              <a:t>Accurate</a:t>
            </a:r>
            <a:r>
              <a:rPr b="0" lang="en-US" sz="5200" spc="-1" strike="noStrike">
                <a:solidFill>
                  <a:srgbClr val="1a1919"/>
                </a:solidFill>
                <a:latin typeface="Open Sans Light"/>
                <a:ea typeface="ＭＳ Ｐゴシック"/>
              </a:rPr>
              <a:t>. We Even Count Lorem Ipsum.</a:t>
            </a:r>
            <a:endParaRPr b="0" lang="en-US" sz="5200" spc="-1" strike="noStrike">
              <a:solidFill>
                <a:srgbClr val="000000"/>
              </a:solidFill>
              <a:latin typeface="Gill Sans"/>
            </a:endParaRPr>
          </a:p>
        </p:txBody>
      </p:sp>
      <p:grpSp>
        <p:nvGrpSpPr>
          <p:cNvPr id="732" name="Group 13"/>
          <p:cNvGrpSpPr/>
          <p:nvPr/>
        </p:nvGrpSpPr>
        <p:grpSpPr>
          <a:xfrm>
            <a:off x="10145160" y="6397560"/>
            <a:ext cx="584280" cy="4241880"/>
            <a:chOff x="10145160" y="6397560"/>
            <a:chExt cx="584280" cy="4241880"/>
          </a:xfrm>
        </p:grpSpPr>
        <p:sp>
          <p:nvSpPr>
            <p:cNvPr id="733" name="AutoShape 11"/>
            <p:cNvSpPr/>
            <p:nvPr/>
          </p:nvSpPr>
          <p:spPr>
            <a:xfrm>
              <a:off x="10148760" y="6397560"/>
              <a:ext cx="580680" cy="214308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34" name="AutoShape 12"/>
            <p:cNvSpPr/>
            <p:nvPr/>
          </p:nvSpPr>
          <p:spPr>
            <a:xfrm flipH="1" rot="10800000">
              <a:off x="10144800" y="8494560"/>
              <a:ext cx="579240" cy="214488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735" name="Rectangle 14"/>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23</a:t>
            </a:r>
            <a:endParaRPr b="0" lang="en-US" sz="2400" spc="-1" strike="noStrike">
              <a:solidFill>
                <a:srgbClr val="000000"/>
              </a:solidFill>
              <a:latin typeface="Gill Sans"/>
            </a:endParaRPr>
          </a:p>
        </p:txBody>
      </p:sp>
      <p:pic>
        <p:nvPicPr>
          <p:cNvPr id="736" name="Object 4" descr=""/>
          <p:cNvPicPr/>
          <p:nvPr/>
        </p:nvPicPr>
        <p:blipFill>
          <a:blip r:embed="rId1"/>
          <a:stretch/>
        </p:blipFill>
        <p:spPr>
          <a:xfrm>
            <a:off x="11455560" y="5816520"/>
            <a:ext cx="11150280" cy="6255000"/>
          </a:xfrm>
          <a:prstGeom prst="rect">
            <a:avLst/>
          </a:prstGeom>
          <a:ln w="0">
            <a:noFill/>
          </a:ln>
        </p:spPr>
      </p:pic>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7" name="Object 5" descr=""/>
          <p:cNvPicPr/>
          <p:nvPr/>
        </p:nvPicPr>
        <p:blipFill>
          <a:blip r:embed="rId1"/>
          <a:stretch/>
        </p:blipFill>
        <p:spPr>
          <a:xfrm>
            <a:off x="16484760" y="3454560"/>
            <a:ext cx="6730920" cy="6045120"/>
          </a:xfrm>
          <a:prstGeom prst="rect">
            <a:avLst/>
          </a:prstGeom>
          <a:ln w="0">
            <a:noFill/>
          </a:ln>
        </p:spPr>
      </p:pic>
      <p:pic>
        <p:nvPicPr>
          <p:cNvPr id="738" name="Object 5" descr=""/>
          <p:cNvPicPr/>
          <p:nvPr/>
        </p:nvPicPr>
        <p:blipFill>
          <a:blip r:embed="rId2"/>
          <a:stretch/>
        </p:blipFill>
        <p:spPr>
          <a:xfrm>
            <a:off x="9398160" y="3454560"/>
            <a:ext cx="6730920" cy="6045120"/>
          </a:xfrm>
          <a:prstGeom prst="rect">
            <a:avLst/>
          </a:prstGeom>
          <a:ln w="0">
            <a:noFill/>
          </a:ln>
        </p:spPr>
      </p:pic>
      <p:pic>
        <p:nvPicPr>
          <p:cNvPr id="739" name="Object 5" descr=""/>
          <p:cNvPicPr/>
          <p:nvPr/>
        </p:nvPicPr>
        <p:blipFill>
          <a:blip r:embed="rId3"/>
          <a:stretch/>
        </p:blipFill>
        <p:spPr>
          <a:xfrm>
            <a:off x="2209680" y="1828800"/>
            <a:ext cx="6732720" cy="9869400"/>
          </a:xfrm>
          <a:prstGeom prst="rect">
            <a:avLst/>
          </a:prstGeom>
          <a:ln w="0">
            <a:noFill/>
          </a:ln>
        </p:spPr>
      </p:pic>
      <p:grpSp>
        <p:nvGrpSpPr>
          <p:cNvPr id="740" name="Group 3"/>
          <p:cNvGrpSpPr/>
          <p:nvPr/>
        </p:nvGrpSpPr>
        <p:grpSpPr>
          <a:xfrm>
            <a:off x="1385640" y="819000"/>
            <a:ext cx="5618160" cy="1130040"/>
            <a:chOff x="1385640" y="819000"/>
            <a:chExt cx="5618160" cy="1130040"/>
          </a:xfrm>
        </p:grpSpPr>
        <p:sp>
          <p:nvSpPr>
            <p:cNvPr id="741" name="Rectangle 1"/>
            <p:cNvSpPr/>
            <p:nvPr/>
          </p:nvSpPr>
          <p:spPr>
            <a:xfrm>
              <a:off x="1584000" y="819000"/>
              <a:ext cx="216936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Pie Chart</a:t>
              </a:r>
              <a:endParaRPr b="0" lang="en-US" sz="4000" spc="-1" strike="noStrike">
                <a:solidFill>
                  <a:srgbClr val="000000"/>
                </a:solidFill>
                <a:latin typeface="Gill Sans"/>
              </a:endParaRPr>
            </a:p>
          </p:txBody>
        </p:sp>
        <p:sp>
          <p:nvSpPr>
            <p:cNvPr id="742"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743" name="Oval 5"/>
          <p:cNvSpPr/>
          <p:nvPr/>
        </p:nvSpPr>
        <p:spPr>
          <a:xfrm>
            <a:off x="3573360" y="4489560"/>
            <a:ext cx="3008520" cy="3008160"/>
          </a:xfrm>
          <a:prstGeom prst="ellipse">
            <a:avLst/>
          </a:prstGeom>
          <a:solidFill>
            <a:srgbClr val="f7f7f7"/>
          </a:solidFill>
          <a:ln w="25560">
            <a:solidFill>
              <a:srgbClr val="f7f7f7"/>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44" name="Rectangle 6"/>
          <p:cNvSpPr/>
          <p:nvPr/>
        </p:nvSpPr>
        <p:spPr>
          <a:xfrm>
            <a:off x="2679840" y="8788320"/>
            <a:ext cx="4724280" cy="1778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Bold"/>
                <a:ea typeface="ＭＳ Ｐゴシック"/>
              </a:rPr>
              <a:t>Description Here</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Light"/>
                <a:ea typeface="ＭＳ Ｐゴシック"/>
              </a:rPr>
              <a:t>Aenean lacinia bibendum nulla sed coetra augue. Aenean eu leo  Nulla vitae elit libero</a:t>
            </a:r>
            <a:endParaRPr b="0" lang="en-US" sz="2400" spc="-1" strike="noStrike">
              <a:solidFill>
                <a:srgbClr val="000000"/>
              </a:solidFill>
              <a:latin typeface="Gill Sans"/>
            </a:endParaRPr>
          </a:p>
        </p:txBody>
      </p:sp>
      <p:sp>
        <p:nvSpPr>
          <p:cNvPr id="745" name="Oval 8"/>
          <p:cNvSpPr/>
          <p:nvPr/>
        </p:nvSpPr>
        <p:spPr>
          <a:xfrm>
            <a:off x="10710720" y="4451400"/>
            <a:ext cx="3008520" cy="3008160"/>
          </a:xfrm>
          <a:prstGeom prst="ellipse">
            <a:avLst/>
          </a:prstGeom>
          <a:solidFill>
            <a:srgbClr val="f7f7f7"/>
          </a:solidFill>
          <a:ln w="25560">
            <a:solidFill>
              <a:srgbClr val="f7f7f7"/>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46" name="Rectangle 9"/>
          <p:cNvSpPr/>
          <p:nvPr/>
        </p:nvSpPr>
        <p:spPr>
          <a:xfrm>
            <a:off x="9817200" y="8750160"/>
            <a:ext cx="4724280" cy="1778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Bold"/>
                <a:ea typeface="ＭＳ Ｐゴシック"/>
              </a:rPr>
              <a:t>Description Here</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Light"/>
                <a:ea typeface="ＭＳ Ｐゴシック"/>
              </a:rPr>
              <a:t>Aenean lacinia bibendum nulla sed coetra augue. Aenean eu leo  Nulla vitae elit libero</a:t>
            </a:r>
            <a:endParaRPr b="0" lang="en-US" sz="2400" spc="-1" strike="noStrike">
              <a:solidFill>
                <a:srgbClr val="000000"/>
              </a:solidFill>
              <a:latin typeface="Gill Sans"/>
            </a:endParaRPr>
          </a:p>
        </p:txBody>
      </p:sp>
      <p:sp>
        <p:nvSpPr>
          <p:cNvPr id="747" name="Oval 11"/>
          <p:cNvSpPr/>
          <p:nvPr/>
        </p:nvSpPr>
        <p:spPr>
          <a:xfrm>
            <a:off x="17848440" y="4451400"/>
            <a:ext cx="3008160" cy="3008160"/>
          </a:xfrm>
          <a:prstGeom prst="ellipse">
            <a:avLst/>
          </a:prstGeom>
          <a:solidFill>
            <a:srgbClr val="f7f7f7"/>
          </a:solidFill>
          <a:ln w="25560">
            <a:solidFill>
              <a:srgbClr val="f7f7f7"/>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48" name="Rectangle 12"/>
          <p:cNvSpPr/>
          <p:nvPr/>
        </p:nvSpPr>
        <p:spPr>
          <a:xfrm>
            <a:off x="16954560" y="8750160"/>
            <a:ext cx="4724280" cy="1778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Bold"/>
                <a:ea typeface="ＭＳ Ｐゴシック"/>
              </a:rPr>
              <a:t>Description Here</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Light"/>
                <a:ea typeface="ＭＳ Ｐゴシック"/>
              </a:rPr>
              <a:t>Aenean lacinia bibendum nulla sed coetra augue. Aenean eu leo  Nulla vitae elit libero</a:t>
            </a:r>
            <a:endParaRPr b="0" lang="en-US" sz="2400" spc="-1" strike="noStrike">
              <a:solidFill>
                <a:srgbClr val="000000"/>
              </a:solidFill>
              <a:latin typeface="Gill Sans"/>
            </a:endParaRPr>
          </a:p>
        </p:txBody>
      </p:sp>
      <p:sp>
        <p:nvSpPr>
          <p:cNvPr id="749" name="Rectangle 13"/>
          <p:cNvSpPr/>
          <p:nvPr/>
        </p:nvSpPr>
        <p:spPr>
          <a:xfrm>
            <a:off x="4154040" y="5521320"/>
            <a:ext cx="1824840" cy="767880"/>
          </a:xfrm>
          <a:prstGeom prst="rect">
            <a:avLst/>
          </a:prstGeom>
          <a:noFill/>
          <a:ln w="0">
            <a:noFill/>
          </a:ln>
        </p:spPr>
        <p:style>
          <a:lnRef idx="0"/>
          <a:fillRef idx="0"/>
          <a:effectRef idx="0"/>
          <a:fontRef idx="minor"/>
        </p:style>
        <p:txBody>
          <a:bodyPr wrap="none" lIns="0" rIns="0" tIns="0" bIns="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919"/>
                </a:solidFill>
                <a:latin typeface="Open Sans Bold"/>
                <a:ea typeface="ＭＳ Ｐゴシック"/>
              </a:rPr>
              <a:t>Pie</a:t>
            </a:r>
            <a:endParaRPr b="0" lang="en-US" sz="36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919"/>
                </a:solidFill>
                <a:latin typeface="Open Sans Light"/>
                <a:ea typeface="ＭＳ Ｐゴシック"/>
              </a:rPr>
              <a:t>Chart 01</a:t>
            </a:r>
            <a:endParaRPr b="0" lang="en-US" sz="3600" spc="-1" strike="noStrike">
              <a:solidFill>
                <a:srgbClr val="000000"/>
              </a:solidFill>
              <a:latin typeface="Gill Sans"/>
            </a:endParaRPr>
          </a:p>
        </p:txBody>
      </p:sp>
      <p:sp>
        <p:nvSpPr>
          <p:cNvPr id="750" name="Rectangle 14"/>
          <p:cNvSpPr/>
          <p:nvPr/>
        </p:nvSpPr>
        <p:spPr>
          <a:xfrm>
            <a:off x="11280240" y="5521320"/>
            <a:ext cx="1824840" cy="767880"/>
          </a:xfrm>
          <a:prstGeom prst="rect">
            <a:avLst/>
          </a:prstGeom>
          <a:noFill/>
          <a:ln w="0">
            <a:noFill/>
          </a:ln>
        </p:spPr>
        <p:style>
          <a:lnRef idx="0"/>
          <a:fillRef idx="0"/>
          <a:effectRef idx="0"/>
          <a:fontRef idx="minor"/>
        </p:style>
        <p:txBody>
          <a:bodyPr wrap="none" lIns="0" rIns="0" tIns="0" bIns="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919"/>
                </a:solidFill>
                <a:latin typeface="Open Sans Bold"/>
                <a:ea typeface="ＭＳ Ｐゴシック"/>
              </a:rPr>
              <a:t>Pie</a:t>
            </a:r>
            <a:endParaRPr b="0" lang="en-US" sz="36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919"/>
                </a:solidFill>
                <a:latin typeface="Open Sans Light"/>
                <a:ea typeface="ＭＳ Ｐゴシック"/>
              </a:rPr>
              <a:t>Chart 02</a:t>
            </a:r>
            <a:endParaRPr b="0" lang="en-US" sz="3600" spc="-1" strike="noStrike">
              <a:solidFill>
                <a:srgbClr val="000000"/>
              </a:solidFill>
              <a:latin typeface="Gill Sans"/>
            </a:endParaRPr>
          </a:p>
        </p:txBody>
      </p:sp>
      <p:sp>
        <p:nvSpPr>
          <p:cNvPr id="751" name="Rectangle 15"/>
          <p:cNvSpPr/>
          <p:nvPr/>
        </p:nvSpPr>
        <p:spPr>
          <a:xfrm>
            <a:off x="18430560" y="5521320"/>
            <a:ext cx="1824840" cy="767880"/>
          </a:xfrm>
          <a:prstGeom prst="rect">
            <a:avLst/>
          </a:prstGeom>
          <a:noFill/>
          <a:ln w="0">
            <a:noFill/>
          </a:ln>
        </p:spPr>
        <p:style>
          <a:lnRef idx="0"/>
          <a:fillRef idx="0"/>
          <a:effectRef idx="0"/>
          <a:fontRef idx="minor"/>
        </p:style>
        <p:txBody>
          <a:bodyPr wrap="none" lIns="0" rIns="0" tIns="0" bIns="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919"/>
                </a:solidFill>
                <a:latin typeface="Open Sans Bold"/>
                <a:ea typeface="ＭＳ Ｐゴシック"/>
              </a:rPr>
              <a:t>Pie</a:t>
            </a:r>
            <a:endParaRPr b="0" lang="en-US" sz="36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919"/>
                </a:solidFill>
                <a:latin typeface="Open Sans Light"/>
                <a:ea typeface="ＭＳ Ｐゴシック"/>
              </a:rPr>
              <a:t>Chart 03</a:t>
            </a:r>
            <a:endParaRPr b="0" lang="en-US" sz="3600" spc="-1" strike="noStrike">
              <a:solidFill>
                <a:srgbClr val="000000"/>
              </a:solidFill>
              <a:latin typeface="Gill Sans"/>
            </a:endParaRPr>
          </a:p>
        </p:txBody>
      </p:sp>
      <p:sp>
        <p:nvSpPr>
          <p:cNvPr id="752" name="Rectangle 16"/>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24</a:t>
            </a:r>
            <a:endParaRPr b="0" lang="en-US" sz="2400" spc="-1" strike="noStrike">
              <a:solidFill>
                <a:srgbClr val="000000"/>
              </a:solidFill>
              <a:latin typeface="Gill Sans"/>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3" name="Object 5" descr=""/>
          <p:cNvPicPr/>
          <p:nvPr/>
        </p:nvPicPr>
        <p:blipFill>
          <a:blip r:embed="rId1"/>
          <a:stretch/>
        </p:blipFill>
        <p:spPr>
          <a:xfrm>
            <a:off x="2921040" y="3759120"/>
            <a:ext cx="8651880" cy="8159760"/>
          </a:xfrm>
          <a:prstGeom prst="rect">
            <a:avLst/>
          </a:prstGeom>
          <a:ln w="0">
            <a:noFill/>
          </a:ln>
        </p:spPr>
      </p:pic>
      <p:grpSp>
        <p:nvGrpSpPr>
          <p:cNvPr id="754" name="Group 3"/>
          <p:cNvGrpSpPr/>
          <p:nvPr/>
        </p:nvGrpSpPr>
        <p:grpSpPr>
          <a:xfrm>
            <a:off x="1385640" y="819000"/>
            <a:ext cx="5618160" cy="1130040"/>
            <a:chOff x="1385640" y="819000"/>
            <a:chExt cx="5618160" cy="1130040"/>
          </a:xfrm>
        </p:grpSpPr>
        <p:sp>
          <p:nvSpPr>
            <p:cNvPr id="755" name="Rectangle 1"/>
            <p:cNvSpPr/>
            <p:nvPr/>
          </p:nvSpPr>
          <p:spPr>
            <a:xfrm>
              <a:off x="1584000" y="819000"/>
              <a:ext cx="216936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Pie Chart</a:t>
              </a:r>
              <a:endParaRPr b="0" lang="en-US" sz="4000" spc="-1" strike="noStrike">
                <a:solidFill>
                  <a:srgbClr val="000000"/>
                </a:solidFill>
                <a:latin typeface="Gill Sans"/>
              </a:endParaRPr>
            </a:p>
          </p:txBody>
        </p:sp>
        <p:sp>
          <p:nvSpPr>
            <p:cNvPr id="756"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757" name="Oval 5"/>
          <p:cNvSpPr/>
          <p:nvPr/>
        </p:nvSpPr>
        <p:spPr>
          <a:xfrm>
            <a:off x="4437000" y="5033880"/>
            <a:ext cx="4203720" cy="4205520"/>
          </a:xfrm>
          <a:prstGeom prst="ellipse">
            <a:avLst/>
          </a:prstGeom>
          <a:solidFill>
            <a:srgbClr val="f7f7f7"/>
          </a:solidFill>
          <a:ln w="25560">
            <a:solidFill>
              <a:srgbClr val="f7f7f7"/>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58" name="Rectangle 6"/>
          <p:cNvSpPr/>
          <p:nvPr/>
        </p:nvSpPr>
        <p:spPr>
          <a:xfrm>
            <a:off x="5627160" y="6677280"/>
            <a:ext cx="1824840" cy="767880"/>
          </a:xfrm>
          <a:prstGeom prst="rect">
            <a:avLst/>
          </a:prstGeom>
          <a:noFill/>
          <a:ln w="0">
            <a:noFill/>
          </a:ln>
        </p:spPr>
        <p:style>
          <a:lnRef idx="0"/>
          <a:fillRef idx="0"/>
          <a:effectRef idx="0"/>
          <a:fontRef idx="minor"/>
        </p:style>
        <p:txBody>
          <a:bodyPr wrap="none" lIns="0" rIns="0" tIns="0" bIns="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919"/>
                </a:solidFill>
                <a:latin typeface="Open Sans Bold"/>
                <a:ea typeface="ＭＳ Ｐゴシック"/>
              </a:rPr>
              <a:t>Pie</a:t>
            </a:r>
            <a:endParaRPr b="0" lang="en-US" sz="36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919"/>
                </a:solidFill>
                <a:latin typeface="Open Sans Light"/>
                <a:ea typeface="ＭＳ Ｐゴシック"/>
              </a:rPr>
              <a:t>Chart 01</a:t>
            </a:r>
            <a:endParaRPr b="0" lang="en-US" sz="3600" spc="-1" strike="noStrike">
              <a:solidFill>
                <a:srgbClr val="000000"/>
              </a:solidFill>
              <a:latin typeface="Gill Sans"/>
            </a:endParaRPr>
          </a:p>
        </p:txBody>
      </p:sp>
      <p:grpSp>
        <p:nvGrpSpPr>
          <p:cNvPr id="759" name="Group 9"/>
          <p:cNvGrpSpPr/>
          <p:nvPr/>
        </p:nvGrpSpPr>
        <p:grpSpPr>
          <a:xfrm>
            <a:off x="12611160" y="8255160"/>
            <a:ext cx="393480" cy="393480"/>
            <a:chOff x="12611160" y="8255160"/>
            <a:chExt cx="393480" cy="393480"/>
          </a:xfrm>
        </p:grpSpPr>
        <p:sp>
          <p:nvSpPr>
            <p:cNvPr id="760" name="AutoShape 7"/>
            <p:cNvSpPr/>
            <p:nvPr/>
          </p:nvSpPr>
          <p:spPr>
            <a:xfrm rot="5400000">
              <a:off x="12755160" y="8402400"/>
              <a:ext cx="12816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61" name="Oval 8"/>
            <p:cNvSpPr/>
            <p:nvPr/>
          </p:nvSpPr>
          <p:spPr>
            <a:xfrm>
              <a:off x="12611160" y="8255160"/>
              <a:ext cx="393480" cy="39348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762" name="Rectangle 10"/>
          <p:cNvSpPr/>
          <p:nvPr/>
        </p:nvSpPr>
        <p:spPr>
          <a:xfrm>
            <a:off x="12598560" y="3657600"/>
            <a:ext cx="9359640" cy="181620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1a1919"/>
                </a:solidFill>
                <a:latin typeface="Open Sans Light"/>
                <a:ea typeface="ＭＳ Ｐゴシック"/>
              </a:rPr>
              <a:t>Our Data is Very </a:t>
            </a:r>
            <a:r>
              <a:rPr b="0" lang="en-US" sz="5200" spc="-1" strike="noStrike">
                <a:solidFill>
                  <a:srgbClr val="1a1919"/>
                </a:solidFill>
                <a:latin typeface="Open Sans Bold"/>
                <a:ea typeface="ＭＳ Ｐゴシック"/>
              </a:rPr>
              <a:t>Accurate</a:t>
            </a:r>
            <a:r>
              <a:rPr b="0" lang="en-US" sz="5200" spc="-1" strike="noStrike">
                <a:solidFill>
                  <a:srgbClr val="1a1919"/>
                </a:solidFill>
                <a:latin typeface="Open Sans Light"/>
                <a:ea typeface="ＭＳ Ｐゴシック"/>
              </a:rPr>
              <a:t>. We Even Count Lorem Ipsum.</a:t>
            </a:r>
            <a:endParaRPr b="0" lang="en-US" sz="5200" spc="-1" strike="noStrike">
              <a:solidFill>
                <a:srgbClr val="000000"/>
              </a:solidFill>
              <a:latin typeface="Gill Sans"/>
            </a:endParaRPr>
          </a:p>
        </p:txBody>
      </p:sp>
      <p:sp>
        <p:nvSpPr>
          <p:cNvPr id="763" name="Rectangle 11"/>
          <p:cNvSpPr/>
          <p:nvPr/>
        </p:nvSpPr>
        <p:spPr>
          <a:xfrm>
            <a:off x="12598560" y="5816520"/>
            <a:ext cx="9359640" cy="1778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Nulla vitae elit libero, a pharetra augue. </a:t>
            </a:r>
            <a:endParaRPr b="0" lang="en-US" sz="2400" spc="-1" strike="noStrike">
              <a:solidFill>
                <a:srgbClr val="000000"/>
              </a:solidFill>
              <a:latin typeface="Gill Sans"/>
            </a:endParaRPr>
          </a:p>
        </p:txBody>
      </p:sp>
      <p:sp>
        <p:nvSpPr>
          <p:cNvPr id="764" name="Rectangle 12"/>
          <p:cNvSpPr/>
          <p:nvPr/>
        </p:nvSpPr>
        <p:spPr>
          <a:xfrm>
            <a:off x="13185720" y="8262360"/>
            <a:ext cx="70855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Nullam</a:t>
            </a:r>
            <a:r>
              <a:rPr b="0" lang="en-US" sz="2400" spc="-1" strike="noStrike">
                <a:solidFill>
                  <a:srgbClr val="343333"/>
                </a:solidFill>
                <a:latin typeface="Open Sans Light"/>
                <a:ea typeface="ＭＳ Ｐゴシック"/>
              </a:rPr>
              <a:t> id dolor id nibh ultricies vehicula ut id elit.</a:t>
            </a:r>
            <a:endParaRPr b="0" lang="en-US" sz="2400" spc="-1" strike="noStrike">
              <a:solidFill>
                <a:srgbClr val="000000"/>
              </a:solidFill>
              <a:latin typeface="Gill Sans"/>
            </a:endParaRPr>
          </a:p>
        </p:txBody>
      </p:sp>
      <p:grpSp>
        <p:nvGrpSpPr>
          <p:cNvPr id="765" name="Group 15"/>
          <p:cNvGrpSpPr/>
          <p:nvPr/>
        </p:nvGrpSpPr>
        <p:grpSpPr>
          <a:xfrm>
            <a:off x="12611160" y="9055080"/>
            <a:ext cx="393480" cy="393840"/>
            <a:chOff x="12611160" y="9055080"/>
            <a:chExt cx="393480" cy="393840"/>
          </a:xfrm>
        </p:grpSpPr>
        <p:sp>
          <p:nvSpPr>
            <p:cNvPr id="766" name="AutoShape 13"/>
            <p:cNvSpPr/>
            <p:nvPr/>
          </p:nvSpPr>
          <p:spPr>
            <a:xfrm rot="5400000">
              <a:off x="12754800" y="9202680"/>
              <a:ext cx="12852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67" name="Oval 14"/>
            <p:cNvSpPr/>
            <p:nvPr/>
          </p:nvSpPr>
          <p:spPr>
            <a:xfrm>
              <a:off x="12611160" y="9055080"/>
              <a:ext cx="393480" cy="39384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768" name="Rectangle 16"/>
          <p:cNvSpPr/>
          <p:nvPr/>
        </p:nvSpPr>
        <p:spPr>
          <a:xfrm>
            <a:off x="13182120" y="9068760"/>
            <a:ext cx="684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Vestibulum id ligula porta felis </a:t>
            </a:r>
            <a:r>
              <a:rPr b="0" lang="en-US" sz="2400" spc="-1" strike="noStrike">
                <a:solidFill>
                  <a:srgbClr val="343333"/>
                </a:solidFill>
                <a:latin typeface="Open Sans Bold"/>
                <a:ea typeface="ＭＳ Ｐゴシック"/>
              </a:rPr>
              <a:t>euismod</a:t>
            </a:r>
            <a:r>
              <a:rPr b="0" lang="en-US" sz="2400" spc="-1" strike="noStrike">
                <a:solidFill>
                  <a:srgbClr val="343333"/>
                </a:solidFill>
                <a:latin typeface="Open Sans Light"/>
                <a:ea typeface="ＭＳ Ｐゴシック"/>
              </a:rPr>
              <a:t> semper</a:t>
            </a:r>
            <a:endParaRPr b="0" lang="en-US" sz="2400" spc="-1" strike="noStrike">
              <a:solidFill>
                <a:srgbClr val="000000"/>
              </a:solidFill>
              <a:latin typeface="Gill Sans"/>
            </a:endParaRPr>
          </a:p>
        </p:txBody>
      </p:sp>
      <p:grpSp>
        <p:nvGrpSpPr>
          <p:cNvPr id="769" name="Group 19"/>
          <p:cNvGrpSpPr/>
          <p:nvPr/>
        </p:nvGrpSpPr>
        <p:grpSpPr>
          <a:xfrm>
            <a:off x="12611160" y="9867960"/>
            <a:ext cx="393480" cy="393480"/>
            <a:chOff x="12611160" y="9867960"/>
            <a:chExt cx="393480" cy="393480"/>
          </a:xfrm>
        </p:grpSpPr>
        <p:sp>
          <p:nvSpPr>
            <p:cNvPr id="770" name="AutoShape 17"/>
            <p:cNvSpPr/>
            <p:nvPr/>
          </p:nvSpPr>
          <p:spPr>
            <a:xfrm rot="5400000">
              <a:off x="12755160" y="10015200"/>
              <a:ext cx="12816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71" name="Oval 18"/>
            <p:cNvSpPr/>
            <p:nvPr/>
          </p:nvSpPr>
          <p:spPr>
            <a:xfrm>
              <a:off x="12611160" y="9867960"/>
              <a:ext cx="393480" cy="39348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772" name="Rectangle 20"/>
          <p:cNvSpPr/>
          <p:nvPr/>
        </p:nvSpPr>
        <p:spPr>
          <a:xfrm>
            <a:off x="13147920" y="9881640"/>
            <a:ext cx="7086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a:t>
            </a:r>
            <a:r>
              <a:rPr b="0" lang="en-US" sz="2400" spc="-1" strike="noStrike">
                <a:solidFill>
                  <a:srgbClr val="343333"/>
                </a:solidFill>
                <a:latin typeface="Open Sans Bold"/>
                <a:ea typeface="ＭＳ Ｐゴシック"/>
              </a:rPr>
              <a:t>dolor</a:t>
            </a:r>
            <a:r>
              <a:rPr b="0" lang="en-US" sz="2400" spc="-1" strike="noStrike">
                <a:solidFill>
                  <a:srgbClr val="343333"/>
                </a:solidFill>
                <a:latin typeface="Open Sans Light"/>
                <a:ea typeface="ＭＳ Ｐゴシック"/>
              </a:rPr>
              <a:t> id nibh ultricies vehicula ut id elit.</a:t>
            </a:r>
            <a:endParaRPr b="0" lang="en-US" sz="2400" spc="-1" strike="noStrike">
              <a:solidFill>
                <a:srgbClr val="000000"/>
              </a:solidFill>
              <a:latin typeface="Gill Sans"/>
            </a:endParaRPr>
          </a:p>
        </p:txBody>
      </p:sp>
      <p:grpSp>
        <p:nvGrpSpPr>
          <p:cNvPr id="773" name="Group 23"/>
          <p:cNvGrpSpPr/>
          <p:nvPr/>
        </p:nvGrpSpPr>
        <p:grpSpPr>
          <a:xfrm>
            <a:off x="12611160" y="10718640"/>
            <a:ext cx="393480" cy="393840"/>
            <a:chOff x="12611160" y="10718640"/>
            <a:chExt cx="393480" cy="393840"/>
          </a:xfrm>
        </p:grpSpPr>
        <p:sp>
          <p:nvSpPr>
            <p:cNvPr id="774" name="AutoShape 21"/>
            <p:cNvSpPr/>
            <p:nvPr/>
          </p:nvSpPr>
          <p:spPr>
            <a:xfrm rot="5400000">
              <a:off x="12754800" y="10866240"/>
              <a:ext cx="12852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75" name="Oval 22"/>
            <p:cNvSpPr/>
            <p:nvPr/>
          </p:nvSpPr>
          <p:spPr>
            <a:xfrm>
              <a:off x="12611160" y="10718640"/>
              <a:ext cx="393480" cy="39384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776" name="Rectangle 24"/>
          <p:cNvSpPr/>
          <p:nvPr/>
        </p:nvSpPr>
        <p:spPr>
          <a:xfrm>
            <a:off x="13147920" y="10732320"/>
            <a:ext cx="7086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a:t>
            </a:r>
            <a:r>
              <a:rPr b="0" lang="en-US" sz="2400" spc="-1" strike="noStrike">
                <a:solidFill>
                  <a:srgbClr val="343333"/>
                </a:solidFill>
                <a:latin typeface="Open Sans Bold"/>
                <a:ea typeface="ＭＳ Ｐゴシック"/>
              </a:rPr>
              <a:t>dolor</a:t>
            </a:r>
            <a:r>
              <a:rPr b="0" lang="en-US" sz="2400" spc="-1" strike="noStrike">
                <a:solidFill>
                  <a:srgbClr val="343333"/>
                </a:solidFill>
                <a:latin typeface="Open Sans Light"/>
                <a:ea typeface="ＭＳ Ｐゴシック"/>
              </a:rPr>
              <a:t> id nibh ultricies vehicula ut id elit.</a:t>
            </a:r>
            <a:endParaRPr b="0" lang="en-US" sz="2400" spc="-1" strike="noStrike">
              <a:solidFill>
                <a:srgbClr val="000000"/>
              </a:solidFill>
              <a:latin typeface="Gill Sans"/>
            </a:endParaRPr>
          </a:p>
        </p:txBody>
      </p:sp>
      <p:sp>
        <p:nvSpPr>
          <p:cNvPr id="777" name="Rectangle 25"/>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25</a:t>
            </a:r>
            <a:endParaRPr b="0" lang="en-US" sz="2400" spc="-1" strike="noStrike">
              <a:solidFill>
                <a:srgbClr val="000000"/>
              </a:solidFill>
              <a:latin typeface="Gill Sans"/>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8" name="Group 3"/>
          <p:cNvGrpSpPr/>
          <p:nvPr/>
        </p:nvGrpSpPr>
        <p:grpSpPr>
          <a:xfrm>
            <a:off x="1385640" y="819000"/>
            <a:ext cx="5618160" cy="1130040"/>
            <a:chOff x="1385640" y="819000"/>
            <a:chExt cx="5618160" cy="1130040"/>
          </a:xfrm>
        </p:grpSpPr>
        <p:sp>
          <p:nvSpPr>
            <p:cNvPr id="779" name="Rectangle 1"/>
            <p:cNvSpPr/>
            <p:nvPr/>
          </p:nvSpPr>
          <p:spPr>
            <a:xfrm>
              <a:off x="1584000" y="819000"/>
              <a:ext cx="216936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Pie Chart</a:t>
              </a:r>
              <a:endParaRPr b="0" lang="en-US" sz="4000" spc="-1" strike="noStrike">
                <a:solidFill>
                  <a:srgbClr val="000000"/>
                </a:solidFill>
                <a:latin typeface="Gill Sans"/>
              </a:endParaRPr>
            </a:p>
          </p:txBody>
        </p:sp>
        <p:sp>
          <p:nvSpPr>
            <p:cNvPr id="780"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grpSp>
        <p:nvGrpSpPr>
          <p:cNvPr id="781" name="Group 7"/>
          <p:cNvGrpSpPr/>
          <p:nvPr/>
        </p:nvGrpSpPr>
        <p:grpSpPr>
          <a:xfrm>
            <a:off x="12611160" y="8686800"/>
            <a:ext cx="393480" cy="393840"/>
            <a:chOff x="12611160" y="8686800"/>
            <a:chExt cx="393480" cy="393840"/>
          </a:xfrm>
        </p:grpSpPr>
        <p:sp>
          <p:nvSpPr>
            <p:cNvPr id="782" name="AutoShape 5"/>
            <p:cNvSpPr/>
            <p:nvPr/>
          </p:nvSpPr>
          <p:spPr>
            <a:xfrm rot="5400000">
              <a:off x="12754800" y="8834400"/>
              <a:ext cx="12852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83" name="Oval 6"/>
            <p:cNvSpPr/>
            <p:nvPr/>
          </p:nvSpPr>
          <p:spPr>
            <a:xfrm>
              <a:off x="12611160" y="8686800"/>
              <a:ext cx="393480" cy="39384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784" name="Rectangle 8"/>
          <p:cNvSpPr/>
          <p:nvPr/>
        </p:nvSpPr>
        <p:spPr>
          <a:xfrm>
            <a:off x="12598560" y="4089240"/>
            <a:ext cx="9359640" cy="181620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1a1919"/>
                </a:solidFill>
                <a:latin typeface="Open Sans Light"/>
                <a:ea typeface="ＭＳ Ｐゴシック"/>
              </a:rPr>
              <a:t>Our Data is Very </a:t>
            </a:r>
            <a:r>
              <a:rPr b="0" lang="en-US" sz="5200" spc="-1" strike="noStrike">
                <a:solidFill>
                  <a:srgbClr val="1a1919"/>
                </a:solidFill>
                <a:latin typeface="Open Sans Bold"/>
                <a:ea typeface="ＭＳ Ｐゴシック"/>
              </a:rPr>
              <a:t>Accurate</a:t>
            </a:r>
            <a:r>
              <a:rPr b="0" lang="en-US" sz="5200" spc="-1" strike="noStrike">
                <a:solidFill>
                  <a:srgbClr val="1a1919"/>
                </a:solidFill>
                <a:latin typeface="Open Sans Light"/>
                <a:ea typeface="ＭＳ Ｐゴシック"/>
              </a:rPr>
              <a:t>. We Even Count Lorem Ipsum.</a:t>
            </a:r>
            <a:endParaRPr b="0" lang="en-US" sz="5200" spc="-1" strike="noStrike">
              <a:solidFill>
                <a:srgbClr val="000000"/>
              </a:solidFill>
              <a:latin typeface="Gill Sans"/>
            </a:endParaRPr>
          </a:p>
        </p:txBody>
      </p:sp>
      <p:sp>
        <p:nvSpPr>
          <p:cNvPr id="785" name="Rectangle 9"/>
          <p:cNvSpPr/>
          <p:nvPr/>
        </p:nvSpPr>
        <p:spPr>
          <a:xfrm>
            <a:off x="12598560" y="6248520"/>
            <a:ext cx="9359640" cy="1778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Nulla vitae elit libero, a pharetra augue. </a:t>
            </a:r>
            <a:endParaRPr b="0" lang="en-US" sz="2400" spc="-1" strike="noStrike">
              <a:solidFill>
                <a:srgbClr val="000000"/>
              </a:solidFill>
              <a:latin typeface="Gill Sans"/>
            </a:endParaRPr>
          </a:p>
        </p:txBody>
      </p:sp>
      <p:sp>
        <p:nvSpPr>
          <p:cNvPr id="786" name="Rectangle 10"/>
          <p:cNvSpPr/>
          <p:nvPr/>
        </p:nvSpPr>
        <p:spPr>
          <a:xfrm>
            <a:off x="13185720" y="8694000"/>
            <a:ext cx="70855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Nullam</a:t>
            </a:r>
            <a:r>
              <a:rPr b="0" lang="en-US" sz="2400" spc="-1" strike="noStrike">
                <a:solidFill>
                  <a:srgbClr val="343333"/>
                </a:solidFill>
                <a:latin typeface="Open Sans Light"/>
                <a:ea typeface="ＭＳ Ｐゴシック"/>
              </a:rPr>
              <a:t> id dolor id nibh ultricies vehicula ut id elit.</a:t>
            </a:r>
            <a:endParaRPr b="0" lang="en-US" sz="2400" spc="-1" strike="noStrike">
              <a:solidFill>
                <a:srgbClr val="000000"/>
              </a:solidFill>
              <a:latin typeface="Gill Sans"/>
            </a:endParaRPr>
          </a:p>
        </p:txBody>
      </p:sp>
      <p:grpSp>
        <p:nvGrpSpPr>
          <p:cNvPr id="787" name="Group 13"/>
          <p:cNvGrpSpPr/>
          <p:nvPr/>
        </p:nvGrpSpPr>
        <p:grpSpPr>
          <a:xfrm>
            <a:off x="12611160" y="9487080"/>
            <a:ext cx="393480" cy="393480"/>
            <a:chOff x="12611160" y="9487080"/>
            <a:chExt cx="393480" cy="393480"/>
          </a:xfrm>
        </p:grpSpPr>
        <p:sp>
          <p:nvSpPr>
            <p:cNvPr id="788" name="AutoShape 11"/>
            <p:cNvSpPr/>
            <p:nvPr/>
          </p:nvSpPr>
          <p:spPr>
            <a:xfrm rot="5400000">
              <a:off x="12755160" y="9634320"/>
              <a:ext cx="12816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89" name="Oval 12"/>
            <p:cNvSpPr/>
            <p:nvPr/>
          </p:nvSpPr>
          <p:spPr>
            <a:xfrm>
              <a:off x="12611160" y="9487080"/>
              <a:ext cx="393480" cy="39348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790" name="Rectangle 14"/>
          <p:cNvSpPr/>
          <p:nvPr/>
        </p:nvSpPr>
        <p:spPr>
          <a:xfrm>
            <a:off x="13182120" y="9500760"/>
            <a:ext cx="69210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 </a:t>
            </a:r>
            <a:r>
              <a:rPr b="0" lang="en-US" sz="2400" spc="-1" strike="noStrike">
                <a:solidFill>
                  <a:srgbClr val="343333"/>
                </a:solidFill>
                <a:latin typeface="Open Sans Light"/>
                <a:ea typeface="ＭＳ Ｐゴシック"/>
              </a:rPr>
              <a:t>Vestibulum id ligula porta felis </a:t>
            </a:r>
            <a:r>
              <a:rPr b="0" lang="en-US" sz="2400" spc="-1" strike="noStrike">
                <a:solidFill>
                  <a:srgbClr val="343333"/>
                </a:solidFill>
                <a:latin typeface="Open Sans Bold"/>
                <a:ea typeface="ＭＳ Ｐゴシック"/>
              </a:rPr>
              <a:t>euismod</a:t>
            </a:r>
            <a:r>
              <a:rPr b="0" lang="en-US" sz="2400" spc="-1" strike="noStrike">
                <a:solidFill>
                  <a:srgbClr val="343333"/>
                </a:solidFill>
                <a:latin typeface="Open Sans Light"/>
                <a:ea typeface="ＭＳ Ｐゴシック"/>
              </a:rPr>
              <a:t> semper</a:t>
            </a:r>
            <a:endParaRPr b="0" lang="en-US" sz="2400" spc="-1" strike="noStrike">
              <a:solidFill>
                <a:srgbClr val="000000"/>
              </a:solidFill>
              <a:latin typeface="Gill Sans"/>
            </a:endParaRPr>
          </a:p>
        </p:txBody>
      </p:sp>
      <p:grpSp>
        <p:nvGrpSpPr>
          <p:cNvPr id="791" name="Group 17"/>
          <p:cNvGrpSpPr/>
          <p:nvPr/>
        </p:nvGrpSpPr>
        <p:grpSpPr>
          <a:xfrm>
            <a:off x="12611160" y="10299600"/>
            <a:ext cx="393480" cy="393840"/>
            <a:chOff x="12611160" y="10299600"/>
            <a:chExt cx="393480" cy="393840"/>
          </a:xfrm>
        </p:grpSpPr>
        <p:sp>
          <p:nvSpPr>
            <p:cNvPr id="792" name="AutoShape 15"/>
            <p:cNvSpPr/>
            <p:nvPr/>
          </p:nvSpPr>
          <p:spPr>
            <a:xfrm rot="5400000">
              <a:off x="12754800" y="10447200"/>
              <a:ext cx="12852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93" name="Oval 16"/>
            <p:cNvSpPr/>
            <p:nvPr/>
          </p:nvSpPr>
          <p:spPr>
            <a:xfrm>
              <a:off x="12611160" y="10299600"/>
              <a:ext cx="393480" cy="39384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794" name="Rectangle 18"/>
          <p:cNvSpPr/>
          <p:nvPr/>
        </p:nvSpPr>
        <p:spPr>
          <a:xfrm>
            <a:off x="13147920" y="10313280"/>
            <a:ext cx="7086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a:t>
            </a:r>
            <a:r>
              <a:rPr b="0" lang="en-US" sz="2400" spc="-1" strike="noStrike">
                <a:solidFill>
                  <a:srgbClr val="343333"/>
                </a:solidFill>
                <a:latin typeface="Open Sans Bold"/>
                <a:ea typeface="ＭＳ Ｐゴシック"/>
              </a:rPr>
              <a:t>dolor</a:t>
            </a:r>
            <a:r>
              <a:rPr b="0" lang="en-US" sz="2400" spc="-1" strike="noStrike">
                <a:solidFill>
                  <a:srgbClr val="343333"/>
                </a:solidFill>
                <a:latin typeface="Open Sans Light"/>
                <a:ea typeface="ＭＳ Ｐゴシック"/>
              </a:rPr>
              <a:t> id nibh ultricies vehicula ut id elit.</a:t>
            </a:r>
            <a:endParaRPr b="0" lang="en-US" sz="2400" spc="-1" strike="noStrike">
              <a:solidFill>
                <a:srgbClr val="000000"/>
              </a:solidFill>
              <a:latin typeface="Gill Sans"/>
            </a:endParaRPr>
          </a:p>
        </p:txBody>
      </p:sp>
      <p:sp>
        <p:nvSpPr>
          <p:cNvPr id="795" name="Rectangle 19"/>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26</a:t>
            </a:r>
            <a:endParaRPr b="0" lang="en-US" sz="2400" spc="-1" strike="noStrike">
              <a:solidFill>
                <a:srgbClr val="000000"/>
              </a:solidFill>
              <a:latin typeface="Gill Sans"/>
            </a:endParaRPr>
          </a:p>
        </p:txBody>
      </p:sp>
      <p:pic>
        <p:nvPicPr>
          <p:cNvPr id="796" name="Object 5" descr=""/>
          <p:cNvPicPr/>
          <p:nvPr/>
        </p:nvPicPr>
        <p:blipFill>
          <a:blip r:embed="rId1"/>
          <a:stretch/>
        </p:blipFill>
        <p:spPr>
          <a:xfrm>
            <a:off x="1549440" y="4521240"/>
            <a:ext cx="10236240" cy="7188120"/>
          </a:xfrm>
          <a:prstGeom prst="rect">
            <a:avLst/>
          </a:prstGeom>
          <a:ln w="0">
            <a:noFill/>
          </a:ln>
        </p:spPr>
      </p:pic>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7" name="Group 3"/>
          <p:cNvGrpSpPr/>
          <p:nvPr/>
        </p:nvGrpSpPr>
        <p:grpSpPr>
          <a:xfrm>
            <a:off x="1385640" y="819000"/>
            <a:ext cx="5618160" cy="1130040"/>
            <a:chOff x="1385640" y="819000"/>
            <a:chExt cx="5618160" cy="1130040"/>
          </a:xfrm>
        </p:grpSpPr>
        <p:sp>
          <p:nvSpPr>
            <p:cNvPr id="798" name="Rectangle 1"/>
            <p:cNvSpPr/>
            <p:nvPr/>
          </p:nvSpPr>
          <p:spPr>
            <a:xfrm>
              <a:off x="1584000" y="819000"/>
              <a:ext cx="216936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Pie Chart</a:t>
              </a:r>
              <a:endParaRPr b="0" lang="en-US" sz="4000" spc="-1" strike="noStrike">
                <a:solidFill>
                  <a:srgbClr val="000000"/>
                </a:solidFill>
                <a:latin typeface="Gill Sans"/>
              </a:endParaRPr>
            </a:p>
          </p:txBody>
        </p:sp>
        <p:sp>
          <p:nvSpPr>
            <p:cNvPr id="799"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grpSp>
        <p:nvGrpSpPr>
          <p:cNvPr id="800" name="Group 7"/>
          <p:cNvGrpSpPr/>
          <p:nvPr/>
        </p:nvGrpSpPr>
        <p:grpSpPr>
          <a:xfrm>
            <a:off x="12611160" y="8686800"/>
            <a:ext cx="393480" cy="393840"/>
            <a:chOff x="12611160" y="8686800"/>
            <a:chExt cx="393480" cy="393840"/>
          </a:xfrm>
        </p:grpSpPr>
        <p:sp>
          <p:nvSpPr>
            <p:cNvPr id="801" name="AutoShape 5"/>
            <p:cNvSpPr/>
            <p:nvPr/>
          </p:nvSpPr>
          <p:spPr>
            <a:xfrm rot="5400000">
              <a:off x="12754800" y="8834400"/>
              <a:ext cx="12852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02" name="Oval 6"/>
            <p:cNvSpPr/>
            <p:nvPr/>
          </p:nvSpPr>
          <p:spPr>
            <a:xfrm>
              <a:off x="12611160" y="8686800"/>
              <a:ext cx="393480" cy="39384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803" name="Rectangle 8"/>
          <p:cNvSpPr/>
          <p:nvPr/>
        </p:nvSpPr>
        <p:spPr>
          <a:xfrm>
            <a:off x="12598560" y="4089240"/>
            <a:ext cx="9359640" cy="181620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1a1919"/>
                </a:solidFill>
                <a:latin typeface="Open Sans Light"/>
                <a:ea typeface="ＭＳ Ｐゴシック"/>
              </a:rPr>
              <a:t>Our Data is Very </a:t>
            </a:r>
            <a:r>
              <a:rPr b="0" lang="en-US" sz="5200" spc="-1" strike="noStrike">
                <a:solidFill>
                  <a:srgbClr val="1a1919"/>
                </a:solidFill>
                <a:latin typeface="Open Sans Bold"/>
                <a:ea typeface="ＭＳ Ｐゴシック"/>
              </a:rPr>
              <a:t>Accurate</a:t>
            </a:r>
            <a:r>
              <a:rPr b="0" lang="en-US" sz="5200" spc="-1" strike="noStrike">
                <a:solidFill>
                  <a:srgbClr val="1a1919"/>
                </a:solidFill>
                <a:latin typeface="Open Sans Light"/>
                <a:ea typeface="ＭＳ Ｐゴシック"/>
              </a:rPr>
              <a:t>. We Even Count Lorem Ipsum.</a:t>
            </a:r>
            <a:endParaRPr b="0" lang="en-US" sz="5200" spc="-1" strike="noStrike">
              <a:solidFill>
                <a:srgbClr val="000000"/>
              </a:solidFill>
              <a:latin typeface="Gill Sans"/>
            </a:endParaRPr>
          </a:p>
        </p:txBody>
      </p:sp>
      <p:sp>
        <p:nvSpPr>
          <p:cNvPr id="804" name="Rectangle 9"/>
          <p:cNvSpPr/>
          <p:nvPr/>
        </p:nvSpPr>
        <p:spPr>
          <a:xfrm>
            <a:off x="12598560" y="6248520"/>
            <a:ext cx="9359640" cy="1778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Nulla vitae elit libero, a pharetra augue. </a:t>
            </a:r>
            <a:endParaRPr b="0" lang="en-US" sz="2400" spc="-1" strike="noStrike">
              <a:solidFill>
                <a:srgbClr val="000000"/>
              </a:solidFill>
              <a:latin typeface="Gill Sans"/>
            </a:endParaRPr>
          </a:p>
        </p:txBody>
      </p:sp>
      <p:sp>
        <p:nvSpPr>
          <p:cNvPr id="805" name="Rectangle 10"/>
          <p:cNvSpPr/>
          <p:nvPr/>
        </p:nvSpPr>
        <p:spPr>
          <a:xfrm>
            <a:off x="13185720" y="8694000"/>
            <a:ext cx="70855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Nullam</a:t>
            </a:r>
            <a:r>
              <a:rPr b="0" lang="en-US" sz="2400" spc="-1" strike="noStrike">
                <a:solidFill>
                  <a:srgbClr val="343333"/>
                </a:solidFill>
                <a:latin typeface="Open Sans Light"/>
                <a:ea typeface="ＭＳ Ｐゴシック"/>
              </a:rPr>
              <a:t> id dolor id nibh ultricies vehicula ut id elit.</a:t>
            </a:r>
            <a:endParaRPr b="0" lang="en-US" sz="2400" spc="-1" strike="noStrike">
              <a:solidFill>
                <a:srgbClr val="000000"/>
              </a:solidFill>
              <a:latin typeface="Gill Sans"/>
            </a:endParaRPr>
          </a:p>
        </p:txBody>
      </p:sp>
      <p:grpSp>
        <p:nvGrpSpPr>
          <p:cNvPr id="806" name="Group 13"/>
          <p:cNvGrpSpPr/>
          <p:nvPr/>
        </p:nvGrpSpPr>
        <p:grpSpPr>
          <a:xfrm>
            <a:off x="12611160" y="9487080"/>
            <a:ext cx="393480" cy="393480"/>
            <a:chOff x="12611160" y="9487080"/>
            <a:chExt cx="393480" cy="393480"/>
          </a:xfrm>
        </p:grpSpPr>
        <p:sp>
          <p:nvSpPr>
            <p:cNvPr id="807" name="AutoShape 11"/>
            <p:cNvSpPr/>
            <p:nvPr/>
          </p:nvSpPr>
          <p:spPr>
            <a:xfrm rot="5400000">
              <a:off x="12755160" y="9634320"/>
              <a:ext cx="12816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08" name="Oval 12"/>
            <p:cNvSpPr/>
            <p:nvPr/>
          </p:nvSpPr>
          <p:spPr>
            <a:xfrm>
              <a:off x="12611160" y="9487080"/>
              <a:ext cx="393480" cy="39348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809" name="Rectangle 14"/>
          <p:cNvSpPr/>
          <p:nvPr/>
        </p:nvSpPr>
        <p:spPr>
          <a:xfrm>
            <a:off x="13182120" y="9500760"/>
            <a:ext cx="69210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 </a:t>
            </a:r>
            <a:r>
              <a:rPr b="0" lang="en-US" sz="2400" spc="-1" strike="noStrike">
                <a:solidFill>
                  <a:srgbClr val="343333"/>
                </a:solidFill>
                <a:latin typeface="Open Sans Light"/>
                <a:ea typeface="ＭＳ Ｐゴシック"/>
              </a:rPr>
              <a:t>Vestibulum id ligula porta felis </a:t>
            </a:r>
            <a:r>
              <a:rPr b="0" lang="en-US" sz="2400" spc="-1" strike="noStrike">
                <a:solidFill>
                  <a:srgbClr val="343333"/>
                </a:solidFill>
                <a:latin typeface="Open Sans Bold"/>
                <a:ea typeface="ＭＳ Ｐゴシック"/>
              </a:rPr>
              <a:t>euismod</a:t>
            </a:r>
            <a:r>
              <a:rPr b="0" lang="en-US" sz="2400" spc="-1" strike="noStrike">
                <a:solidFill>
                  <a:srgbClr val="343333"/>
                </a:solidFill>
                <a:latin typeface="Open Sans Light"/>
                <a:ea typeface="ＭＳ Ｐゴシック"/>
              </a:rPr>
              <a:t> semper</a:t>
            </a:r>
            <a:endParaRPr b="0" lang="en-US" sz="2400" spc="-1" strike="noStrike">
              <a:solidFill>
                <a:srgbClr val="000000"/>
              </a:solidFill>
              <a:latin typeface="Gill Sans"/>
            </a:endParaRPr>
          </a:p>
        </p:txBody>
      </p:sp>
      <p:grpSp>
        <p:nvGrpSpPr>
          <p:cNvPr id="810" name="Group 17"/>
          <p:cNvGrpSpPr/>
          <p:nvPr/>
        </p:nvGrpSpPr>
        <p:grpSpPr>
          <a:xfrm>
            <a:off x="12611160" y="10299600"/>
            <a:ext cx="393480" cy="393840"/>
            <a:chOff x="12611160" y="10299600"/>
            <a:chExt cx="393480" cy="393840"/>
          </a:xfrm>
        </p:grpSpPr>
        <p:sp>
          <p:nvSpPr>
            <p:cNvPr id="811" name="AutoShape 15"/>
            <p:cNvSpPr/>
            <p:nvPr/>
          </p:nvSpPr>
          <p:spPr>
            <a:xfrm rot="5400000">
              <a:off x="12754800" y="10447200"/>
              <a:ext cx="12852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12" name="Oval 16"/>
            <p:cNvSpPr/>
            <p:nvPr/>
          </p:nvSpPr>
          <p:spPr>
            <a:xfrm>
              <a:off x="12611160" y="10299600"/>
              <a:ext cx="393480" cy="39384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813" name="Rectangle 18"/>
          <p:cNvSpPr/>
          <p:nvPr/>
        </p:nvSpPr>
        <p:spPr>
          <a:xfrm>
            <a:off x="13147920" y="10313280"/>
            <a:ext cx="7086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a:t>
            </a:r>
            <a:r>
              <a:rPr b="0" lang="en-US" sz="2400" spc="-1" strike="noStrike">
                <a:solidFill>
                  <a:srgbClr val="343333"/>
                </a:solidFill>
                <a:latin typeface="Open Sans Bold"/>
                <a:ea typeface="ＭＳ Ｐゴシック"/>
              </a:rPr>
              <a:t>dolor</a:t>
            </a:r>
            <a:r>
              <a:rPr b="0" lang="en-US" sz="2400" spc="-1" strike="noStrike">
                <a:solidFill>
                  <a:srgbClr val="343333"/>
                </a:solidFill>
                <a:latin typeface="Open Sans Light"/>
                <a:ea typeface="ＭＳ Ｐゴシック"/>
              </a:rPr>
              <a:t> id nibh ultricies vehicula ut id elit.</a:t>
            </a:r>
            <a:endParaRPr b="0" lang="en-US" sz="2400" spc="-1" strike="noStrike">
              <a:solidFill>
                <a:srgbClr val="000000"/>
              </a:solidFill>
              <a:latin typeface="Gill Sans"/>
            </a:endParaRPr>
          </a:p>
        </p:txBody>
      </p:sp>
      <p:sp>
        <p:nvSpPr>
          <p:cNvPr id="814" name="Rectangle 19"/>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27</a:t>
            </a:r>
            <a:endParaRPr b="0" lang="en-US" sz="2400" spc="-1" strike="noStrike">
              <a:solidFill>
                <a:srgbClr val="000000"/>
              </a:solidFill>
              <a:latin typeface="Gill Sans"/>
            </a:endParaRPr>
          </a:p>
        </p:txBody>
      </p:sp>
      <p:pic>
        <p:nvPicPr>
          <p:cNvPr id="815" name="Object 4" descr=""/>
          <p:cNvPicPr/>
          <p:nvPr/>
        </p:nvPicPr>
        <p:blipFill>
          <a:blip r:embed="rId1"/>
          <a:stretch/>
        </p:blipFill>
        <p:spPr>
          <a:xfrm>
            <a:off x="939960" y="3911760"/>
            <a:ext cx="10235880" cy="7619760"/>
          </a:xfrm>
          <a:prstGeom prst="rect">
            <a:avLst/>
          </a:prstGeom>
          <a:ln w="0">
            <a:noFill/>
          </a:ln>
        </p:spPr>
      </p:pic>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6" name="Group 3"/>
          <p:cNvGrpSpPr/>
          <p:nvPr/>
        </p:nvGrpSpPr>
        <p:grpSpPr>
          <a:xfrm>
            <a:off x="1385640" y="819000"/>
            <a:ext cx="5618160" cy="1130040"/>
            <a:chOff x="1385640" y="819000"/>
            <a:chExt cx="5618160" cy="1130040"/>
          </a:xfrm>
        </p:grpSpPr>
        <p:sp>
          <p:nvSpPr>
            <p:cNvPr id="817" name="Rectangle 1"/>
            <p:cNvSpPr/>
            <p:nvPr/>
          </p:nvSpPr>
          <p:spPr>
            <a:xfrm>
              <a:off x="1584000" y="819000"/>
              <a:ext cx="216936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Pie Chart</a:t>
              </a:r>
              <a:endParaRPr b="0" lang="en-US" sz="4000" spc="-1" strike="noStrike">
                <a:solidFill>
                  <a:srgbClr val="000000"/>
                </a:solidFill>
                <a:latin typeface="Gill Sans"/>
              </a:endParaRPr>
            </a:p>
          </p:txBody>
        </p:sp>
        <p:sp>
          <p:nvSpPr>
            <p:cNvPr id="818"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819" name="Rectangle 11"/>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28</a:t>
            </a:r>
            <a:endParaRPr b="0" lang="en-US" sz="2400" spc="-1" strike="noStrike">
              <a:solidFill>
                <a:srgbClr val="000000"/>
              </a:solidFill>
              <a:latin typeface="Gill Sans"/>
            </a:endParaRPr>
          </a:p>
        </p:txBody>
      </p:sp>
      <p:pic>
        <p:nvPicPr>
          <p:cNvPr id="820" name="Object 4" descr=""/>
          <p:cNvPicPr/>
          <p:nvPr/>
        </p:nvPicPr>
        <p:blipFill>
          <a:blip r:embed="rId1"/>
          <a:stretch/>
        </p:blipFill>
        <p:spPr>
          <a:xfrm>
            <a:off x="-584280" y="3225960"/>
            <a:ext cx="23571360" cy="9092880"/>
          </a:xfrm>
          <a:prstGeom prst="rect">
            <a:avLst/>
          </a:prstGeom>
          <a:ln w="0">
            <a:noFill/>
          </a:ln>
        </p:spPr>
      </p:pic>
      <p:grpSp>
        <p:nvGrpSpPr>
          <p:cNvPr id="821" name="Group 5"/>
          <p:cNvGrpSpPr/>
          <p:nvPr/>
        </p:nvGrpSpPr>
        <p:grpSpPr>
          <a:xfrm>
            <a:off x="4952880" y="5334120"/>
            <a:ext cx="3353040" cy="2571480"/>
            <a:chOff x="4952880" y="5334120"/>
            <a:chExt cx="3353040" cy="2571480"/>
          </a:xfrm>
        </p:grpSpPr>
        <p:sp>
          <p:nvSpPr>
            <p:cNvPr id="822" name="Rectangular Callout 4"/>
            <p:cNvSpPr/>
            <p:nvPr/>
          </p:nvSpPr>
          <p:spPr>
            <a:xfrm>
              <a:off x="4952880" y="5334120"/>
              <a:ext cx="3353040" cy="2571480"/>
            </a:xfrm>
            <a:custGeom>
              <a:avLst/>
              <a:gdLst/>
              <a:ahLst/>
              <a:rect l="l" t="t" r="r" b="b"/>
              <a:pathLst>
                <a:path w="3352800" h="2571750">
                  <a:moveTo>
                    <a:pt x="0" y="0"/>
                  </a:moveTo>
                  <a:lnTo>
                    <a:pt x="558800" y="0"/>
                  </a:lnTo>
                  <a:lnTo>
                    <a:pt x="1397000" y="0"/>
                  </a:lnTo>
                  <a:lnTo>
                    <a:pt x="3352800" y="0"/>
                  </a:lnTo>
                  <a:lnTo>
                    <a:pt x="3352800" y="1333500"/>
                  </a:lnTo>
                  <a:lnTo>
                    <a:pt x="3352800" y="1905000"/>
                  </a:lnTo>
                  <a:lnTo>
                    <a:pt x="3352800" y="2286000"/>
                  </a:lnTo>
                  <a:lnTo>
                    <a:pt x="1170207" y="2286000"/>
                  </a:lnTo>
                  <a:lnTo>
                    <a:pt x="977911" y="2571750"/>
                  </a:lnTo>
                  <a:lnTo>
                    <a:pt x="785593" y="2286000"/>
                  </a:lnTo>
                  <a:lnTo>
                    <a:pt x="0" y="2286000"/>
                  </a:lnTo>
                  <a:lnTo>
                    <a:pt x="0" y="1905000"/>
                  </a:lnTo>
                  <a:lnTo>
                    <a:pt x="0" y="1333500"/>
                  </a:lnTo>
                  <a:lnTo>
                    <a:pt x="0" y="0"/>
                  </a:lnTo>
                  <a:close/>
                </a:path>
              </a:pathLst>
            </a:custGeom>
            <a:solidFill>
              <a:srgbClr val="7f7f7f"/>
            </a:solidFill>
            <a:ln w="0">
              <a:noFill/>
            </a:ln>
          </p:spPr>
          <p:style>
            <a:lnRef idx="0"/>
            <a:fillRef idx="0"/>
            <a:effectRef idx="0"/>
            <a:fontRef idx="minor"/>
          </p:style>
          <p:txBody>
            <a:bodyPr lIns="37800" rIns="378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23" name="AutoShape 8"/>
            <p:cNvSpPr/>
            <p:nvPr/>
          </p:nvSpPr>
          <p:spPr>
            <a:xfrm>
              <a:off x="4952880" y="5334120"/>
              <a:ext cx="3327840" cy="812520"/>
            </a:xfrm>
            <a:prstGeom prst="pie">
              <a:avLst/>
            </a:prstGeom>
            <a:solidFill>
              <a:srgbClr val="ffffff">
                <a:alpha val="70000"/>
              </a:srgbClr>
            </a:solidFill>
            <a:ln w="25560">
              <a:solidFill>
                <a:srgbClr val="ffffff">
                  <a:alpha val="70000"/>
                </a:srgbClr>
              </a:solidFill>
              <a:miter/>
            </a:ln>
          </p:spPr>
          <p:style>
            <a:lnRef idx="0"/>
            <a:fillRef idx="0"/>
            <a:effectRef idx="0"/>
            <a:fontRef idx="minor"/>
          </p:style>
          <p:txBody>
            <a:bodyPr lIns="228600" rIns="228600" tIns="228600" bIns="228600" anchor="ctr">
              <a:noAutofit/>
            </a:bodyPr>
            <a:p>
              <a:pP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32323"/>
                  </a:solidFill>
                  <a:latin typeface="Open Sans"/>
                  <a:ea typeface="Open Sans"/>
                </a:rPr>
                <a:t>Description</a:t>
              </a:r>
              <a:endParaRPr b="0" lang="en-US" sz="2100" spc="-1" strike="noStrike">
                <a:solidFill>
                  <a:srgbClr val="000000"/>
                </a:solidFill>
                <a:latin typeface="Gill Sans"/>
              </a:endParaRPr>
            </a:p>
          </p:txBody>
        </p:sp>
      </p:grpSp>
      <p:grpSp>
        <p:nvGrpSpPr>
          <p:cNvPr id="824" name="Group 20"/>
          <p:cNvGrpSpPr/>
          <p:nvPr/>
        </p:nvGrpSpPr>
        <p:grpSpPr>
          <a:xfrm>
            <a:off x="16687800" y="3962520"/>
            <a:ext cx="3352680" cy="2571480"/>
            <a:chOff x="16687800" y="3962520"/>
            <a:chExt cx="3352680" cy="2571480"/>
          </a:xfrm>
        </p:grpSpPr>
        <p:sp>
          <p:nvSpPr>
            <p:cNvPr id="825" name="Rectangular Callout 4"/>
            <p:cNvSpPr/>
            <p:nvPr/>
          </p:nvSpPr>
          <p:spPr>
            <a:xfrm>
              <a:off x="16687800" y="3962520"/>
              <a:ext cx="3352680" cy="2571480"/>
            </a:xfrm>
            <a:custGeom>
              <a:avLst/>
              <a:gdLst/>
              <a:ahLst/>
              <a:rect l="l" t="t" r="r" b="b"/>
              <a:pathLst>
                <a:path w="3352800" h="2571750">
                  <a:moveTo>
                    <a:pt x="0" y="0"/>
                  </a:moveTo>
                  <a:lnTo>
                    <a:pt x="558800" y="0"/>
                  </a:lnTo>
                  <a:lnTo>
                    <a:pt x="1397000" y="0"/>
                  </a:lnTo>
                  <a:lnTo>
                    <a:pt x="3352800" y="0"/>
                  </a:lnTo>
                  <a:lnTo>
                    <a:pt x="3352800" y="1333500"/>
                  </a:lnTo>
                  <a:lnTo>
                    <a:pt x="3352800" y="1905000"/>
                  </a:lnTo>
                  <a:lnTo>
                    <a:pt x="3352800" y="2286000"/>
                  </a:lnTo>
                  <a:lnTo>
                    <a:pt x="1170207" y="2286000"/>
                  </a:lnTo>
                  <a:lnTo>
                    <a:pt x="977911" y="2571750"/>
                  </a:lnTo>
                  <a:lnTo>
                    <a:pt x="785593" y="2286000"/>
                  </a:lnTo>
                  <a:lnTo>
                    <a:pt x="0" y="2286000"/>
                  </a:lnTo>
                  <a:lnTo>
                    <a:pt x="0" y="1905000"/>
                  </a:lnTo>
                  <a:lnTo>
                    <a:pt x="0" y="1333500"/>
                  </a:lnTo>
                  <a:lnTo>
                    <a:pt x="0" y="0"/>
                  </a:lnTo>
                  <a:close/>
                </a:path>
              </a:pathLst>
            </a:custGeom>
            <a:solidFill>
              <a:srgbClr val="7f7f7f"/>
            </a:solidFill>
            <a:ln w="0">
              <a:noFill/>
            </a:ln>
          </p:spPr>
          <p:style>
            <a:lnRef idx="0"/>
            <a:fillRef idx="0"/>
            <a:effectRef idx="0"/>
            <a:fontRef idx="minor"/>
          </p:style>
          <p:txBody>
            <a:bodyPr lIns="37800" rIns="378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26" name="AutoShape 8"/>
            <p:cNvSpPr/>
            <p:nvPr/>
          </p:nvSpPr>
          <p:spPr>
            <a:xfrm>
              <a:off x="16687800" y="3962520"/>
              <a:ext cx="3327480" cy="812520"/>
            </a:xfrm>
            <a:prstGeom prst="pie">
              <a:avLst/>
            </a:prstGeom>
            <a:solidFill>
              <a:srgbClr val="ffffff">
                <a:alpha val="70000"/>
              </a:srgbClr>
            </a:solidFill>
            <a:ln w="25560">
              <a:solidFill>
                <a:srgbClr val="ffffff">
                  <a:alpha val="70000"/>
                </a:srgbClr>
              </a:solidFill>
              <a:miter/>
            </a:ln>
          </p:spPr>
          <p:style>
            <a:lnRef idx="0"/>
            <a:fillRef idx="0"/>
            <a:effectRef idx="0"/>
            <a:fontRef idx="minor"/>
          </p:style>
          <p:txBody>
            <a:bodyPr lIns="228600" rIns="228600" tIns="228600" bIns="228600" anchor="ctr">
              <a:noAutofit/>
            </a:bodyPr>
            <a:p>
              <a:pP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32323"/>
                  </a:solidFill>
                  <a:latin typeface="Open Sans"/>
                  <a:ea typeface="Open Sans"/>
                </a:rPr>
                <a:t>Description</a:t>
              </a:r>
              <a:endParaRPr b="0" lang="en-US" sz="2100" spc="-1" strike="noStrike">
                <a:solidFill>
                  <a:srgbClr val="000000"/>
                </a:solidFill>
                <a:latin typeface="Gill Sans"/>
              </a:endParaRPr>
            </a:p>
          </p:txBody>
        </p:sp>
      </p:grpSp>
      <p:grpSp>
        <p:nvGrpSpPr>
          <p:cNvPr id="827" name="Group 23"/>
          <p:cNvGrpSpPr/>
          <p:nvPr/>
        </p:nvGrpSpPr>
        <p:grpSpPr>
          <a:xfrm>
            <a:off x="11430000" y="7619760"/>
            <a:ext cx="3352680" cy="2571480"/>
            <a:chOff x="11430000" y="7619760"/>
            <a:chExt cx="3352680" cy="2571480"/>
          </a:xfrm>
        </p:grpSpPr>
        <p:sp>
          <p:nvSpPr>
            <p:cNvPr id="828" name="Rectangular Callout 4"/>
            <p:cNvSpPr/>
            <p:nvPr/>
          </p:nvSpPr>
          <p:spPr>
            <a:xfrm flipV="1">
              <a:off x="11430000" y="7619400"/>
              <a:ext cx="3352680" cy="2571480"/>
            </a:xfrm>
            <a:custGeom>
              <a:avLst/>
              <a:gdLst/>
              <a:ahLst/>
              <a:rect l="l" t="t" r="r" b="b"/>
              <a:pathLst>
                <a:path w="3352800" h="2571750">
                  <a:moveTo>
                    <a:pt x="0" y="0"/>
                  </a:moveTo>
                  <a:lnTo>
                    <a:pt x="558800" y="0"/>
                  </a:lnTo>
                  <a:lnTo>
                    <a:pt x="558800" y="0"/>
                  </a:lnTo>
                  <a:lnTo>
                    <a:pt x="1397000" y="0"/>
                  </a:lnTo>
                  <a:lnTo>
                    <a:pt x="3352800" y="0"/>
                  </a:lnTo>
                  <a:lnTo>
                    <a:pt x="3352800" y="1333500"/>
                  </a:lnTo>
                  <a:lnTo>
                    <a:pt x="3352800" y="1333500"/>
                  </a:lnTo>
                  <a:lnTo>
                    <a:pt x="3352800" y="1905000"/>
                  </a:lnTo>
                  <a:lnTo>
                    <a:pt x="3352800" y="2286000"/>
                  </a:lnTo>
                  <a:lnTo>
                    <a:pt x="1170207" y="2286000"/>
                  </a:lnTo>
                  <a:lnTo>
                    <a:pt x="977911" y="2571750"/>
                  </a:lnTo>
                  <a:lnTo>
                    <a:pt x="785593" y="2286000"/>
                  </a:lnTo>
                  <a:lnTo>
                    <a:pt x="0" y="2286000"/>
                  </a:lnTo>
                  <a:lnTo>
                    <a:pt x="0" y="1905000"/>
                  </a:lnTo>
                  <a:lnTo>
                    <a:pt x="0" y="1333500"/>
                  </a:lnTo>
                  <a:lnTo>
                    <a:pt x="0" y="1333500"/>
                  </a:lnTo>
                  <a:lnTo>
                    <a:pt x="0" y="0"/>
                  </a:lnTo>
                  <a:close/>
                </a:path>
              </a:pathLst>
            </a:custGeom>
            <a:solidFill>
              <a:srgbClr val="7f7f7f"/>
            </a:solidFill>
            <a:ln w="0">
              <a:noFill/>
            </a:ln>
          </p:spPr>
          <p:style>
            <a:lnRef idx="0"/>
            <a:fillRef idx="0"/>
            <a:effectRef idx="0"/>
            <a:fontRef idx="minor"/>
          </p:style>
          <p:txBody>
            <a:bodyPr lIns="37800" rIns="378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29" name="AutoShape 8"/>
            <p:cNvSpPr/>
            <p:nvPr/>
          </p:nvSpPr>
          <p:spPr>
            <a:xfrm>
              <a:off x="11430000" y="9372600"/>
              <a:ext cx="3327480" cy="812520"/>
            </a:xfrm>
            <a:prstGeom prst="pie">
              <a:avLst/>
            </a:prstGeom>
            <a:solidFill>
              <a:srgbClr val="ffffff">
                <a:alpha val="70000"/>
              </a:srgbClr>
            </a:solidFill>
            <a:ln w="25560">
              <a:solidFill>
                <a:srgbClr val="ffffff">
                  <a:alpha val="70000"/>
                </a:srgbClr>
              </a:solidFill>
              <a:miter/>
            </a:ln>
          </p:spPr>
          <p:style>
            <a:lnRef idx="0"/>
            <a:fillRef idx="0"/>
            <a:effectRef idx="0"/>
            <a:fontRef idx="minor"/>
          </p:style>
          <p:txBody>
            <a:bodyPr lIns="228600" rIns="228600" tIns="228600" bIns="228600" anchor="ctr">
              <a:noAutofit/>
            </a:bodyPr>
            <a:p>
              <a:pP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32323"/>
                  </a:solidFill>
                  <a:latin typeface="Open Sans"/>
                  <a:ea typeface="Open Sans"/>
                </a:rPr>
                <a:t>Description</a:t>
              </a:r>
              <a:endParaRPr b="0" lang="en-US" sz="2100" spc="-1" strike="noStrike">
                <a:solidFill>
                  <a:srgbClr val="000000"/>
                </a:solidFill>
                <a:latin typeface="Gill Sans"/>
              </a:endParaRPr>
            </a:p>
          </p:txBody>
        </p:sp>
      </p:gr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30" name="Group 3"/>
          <p:cNvGrpSpPr/>
          <p:nvPr/>
        </p:nvGrpSpPr>
        <p:grpSpPr>
          <a:xfrm>
            <a:off x="1385640" y="819000"/>
            <a:ext cx="5618160" cy="1130040"/>
            <a:chOff x="1385640" y="819000"/>
            <a:chExt cx="5618160" cy="1130040"/>
          </a:xfrm>
        </p:grpSpPr>
        <p:sp>
          <p:nvSpPr>
            <p:cNvPr id="831" name="Rectangle 1"/>
            <p:cNvSpPr/>
            <p:nvPr/>
          </p:nvSpPr>
          <p:spPr>
            <a:xfrm>
              <a:off x="1609200" y="819000"/>
              <a:ext cx="3826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Leaves Diagram</a:t>
              </a:r>
              <a:endParaRPr b="0" lang="en-US" sz="4000" spc="-1" strike="noStrike">
                <a:solidFill>
                  <a:srgbClr val="000000"/>
                </a:solidFill>
                <a:latin typeface="Gill Sans"/>
              </a:endParaRPr>
            </a:p>
          </p:txBody>
        </p:sp>
        <p:sp>
          <p:nvSpPr>
            <p:cNvPr id="832"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833" name="Rectangle 4"/>
          <p:cNvSpPr/>
          <p:nvPr/>
        </p:nvSpPr>
        <p:spPr>
          <a:xfrm>
            <a:off x="2832120" y="9848880"/>
            <a:ext cx="4546440" cy="1638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43333"/>
                </a:solidFill>
                <a:latin typeface="Open Sans Bold"/>
                <a:ea typeface="ＭＳ Ｐゴシック"/>
              </a:rPr>
              <a:t>Phase 01</a:t>
            </a:r>
            <a:endParaRPr b="0" lang="en-US" sz="2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Light"/>
                <a:ea typeface="ＭＳ Ｐゴシック"/>
              </a:rPr>
              <a:t>ut id elit. Vestibulum id ligula porta felis euismod semper. Aenean lacinia bibendum nulla sed consectetur.</a:t>
            </a:r>
            <a:endParaRPr b="0" lang="en-US" sz="2100" spc="-1" strike="noStrike">
              <a:solidFill>
                <a:srgbClr val="000000"/>
              </a:solidFill>
              <a:latin typeface="Gill Sans"/>
            </a:endParaRPr>
          </a:p>
        </p:txBody>
      </p:sp>
      <p:sp>
        <p:nvSpPr>
          <p:cNvPr id="834" name="Rectangle 5"/>
          <p:cNvSpPr/>
          <p:nvPr/>
        </p:nvSpPr>
        <p:spPr>
          <a:xfrm>
            <a:off x="9918720" y="9855360"/>
            <a:ext cx="4546440" cy="1638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43333"/>
                </a:solidFill>
                <a:latin typeface="Open Sans Bold"/>
                <a:ea typeface="ＭＳ Ｐゴシック"/>
              </a:rPr>
              <a:t>Phase 02</a:t>
            </a:r>
            <a:endParaRPr b="0" lang="en-US" sz="2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Light"/>
                <a:ea typeface="ＭＳ Ｐゴシック"/>
              </a:rPr>
              <a:t>ut id elit. Vestibulum id ligula porta felis euismod semper. Aenean lacinia bibendum nulla sed consectetur.</a:t>
            </a:r>
            <a:endParaRPr b="0" lang="en-US" sz="2100" spc="-1" strike="noStrike">
              <a:solidFill>
                <a:srgbClr val="000000"/>
              </a:solidFill>
              <a:latin typeface="Gill Sans"/>
            </a:endParaRPr>
          </a:p>
        </p:txBody>
      </p:sp>
      <p:sp>
        <p:nvSpPr>
          <p:cNvPr id="835" name="Rectangle 6"/>
          <p:cNvSpPr/>
          <p:nvPr/>
        </p:nvSpPr>
        <p:spPr>
          <a:xfrm>
            <a:off x="16700400" y="9855360"/>
            <a:ext cx="4546800" cy="1638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43333"/>
                </a:solidFill>
                <a:latin typeface="Open Sans Bold"/>
                <a:ea typeface="ＭＳ Ｐゴシック"/>
              </a:rPr>
              <a:t>Phase 03</a:t>
            </a:r>
            <a:endParaRPr b="0" lang="en-US" sz="2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Light"/>
                <a:ea typeface="ＭＳ Ｐゴシック"/>
              </a:rPr>
              <a:t>ut id elit. Vestibulum id ligula porta felis euismod semper. Aenean lacinia bibendum nulla sed consectetur.</a:t>
            </a:r>
            <a:endParaRPr b="0" lang="en-US" sz="2100" spc="-1" strike="noStrike">
              <a:solidFill>
                <a:srgbClr val="000000"/>
              </a:solidFill>
              <a:latin typeface="Gill Sans"/>
            </a:endParaRPr>
          </a:p>
        </p:txBody>
      </p:sp>
      <p:grpSp>
        <p:nvGrpSpPr>
          <p:cNvPr id="836" name="Group 9"/>
          <p:cNvGrpSpPr/>
          <p:nvPr/>
        </p:nvGrpSpPr>
        <p:grpSpPr>
          <a:xfrm>
            <a:off x="4753080" y="6866280"/>
            <a:ext cx="1747080" cy="1681200"/>
            <a:chOff x="4753080" y="6866280"/>
            <a:chExt cx="1747080" cy="1681200"/>
          </a:xfrm>
        </p:grpSpPr>
        <p:sp>
          <p:nvSpPr>
            <p:cNvPr id="837" name="AutoShape 7"/>
            <p:cNvSpPr/>
            <p:nvPr/>
          </p:nvSpPr>
          <p:spPr>
            <a:xfrm flipH="1" rot="19674600">
              <a:off x="5005800" y="7206480"/>
              <a:ext cx="1250280" cy="987840"/>
            </a:xfrm>
            <a:custGeom>
              <a:avLst/>
              <a:gdLst/>
              <a:ahLst/>
              <a:rect l="l" t="t" r="r" b="b"/>
              <a:pathLst>
                <a:path w="20541" h="18120">
                  <a:moveTo>
                    <a:pt x="0" y="1020"/>
                  </a:moveTo>
                  <a:cubicBezTo>
                    <a:pt x="0" y="1020"/>
                    <a:pt x="8894" y="-3480"/>
                    <a:pt x="15247" y="6420"/>
                  </a:cubicBezTo>
                  <a:cubicBezTo>
                    <a:pt x="21600" y="16320"/>
                    <a:pt x="20118" y="16770"/>
                    <a:pt x="20118" y="16770"/>
                  </a:cubicBezTo>
                  <a:lnTo>
                    <a:pt x="20118" y="8220"/>
                  </a:lnTo>
                  <a:lnTo>
                    <a:pt x="19906" y="5070"/>
                  </a:lnTo>
                  <a:lnTo>
                    <a:pt x="20541" y="17670"/>
                  </a:lnTo>
                  <a:lnTo>
                    <a:pt x="16094" y="18120"/>
                  </a:lnTo>
                </a:path>
              </a:pathLst>
            </a:cu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838" name="Picture 8" descr=""/>
            <p:cNvPicPr/>
            <p:nvPr/>
          </p:nvPicPr>
          <p:blipFill>
            <a:blip r:embed="rId1"/>
            <a:stretch/>
          </p:blipFill>
          <p:spPr>
            <a:xfrm rot="19674000">
              <a:off x="4952520" y="7137000"/>
              <a:ext cx="1347480" cy="1139400"/>
            </a:xfrm>
            <a:prstGeom prst="rect">
              <a:avLst/>
            </a:prstGeom>
            <a:ln w="0">
              <a:noFill/>
            </a:ln>
          </p:spPr>
        </p:pic>
      </p:grpSp>
      <p:sp>
        <p:nvSpPr>
          <p:cNvPr id="839" name="Rectangle 10"/>
          <p:cNvSpPr/>
          <p:nvPr/>
        </p:nvSpPr>
        <p:spPr>
          <a:xfrm>
            <a:off x="6350040" y="6388200"/>
            <a:ext cx="3568680" cy="1282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43333"/>
                </a:solidFill>
                <a:latin typeface="Open Sans Bold"/>
                <a:ea typeface="ＭＳ Ｐゴシック"/>
              </a:rPr>
              <a:t>Lorem ipsum!</a:t>
            </a:r>
            <a:endParaRPr b="0" lang="en-US" sz="2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Light"/>
                <a:ea typeface="ＭＳ Ｐゴシック"/>
              </a:rPr>
              <a:t>ut id elit. Vestibulum id ligula porta felis euismod semper.</a:t>
            </a:r>
            <a:endParaRPr b="0" lang="en-US" sz="2100" spc="-1" strike="noStrike">
              <a:solidFill>
                <a:srgbClr val="000000"/>
              </a:solidFill>
              <a:latin typeface="Gill Sans"/>
            </a:endParaRPr>
          </a:p>
        </p:txBody>
      </p:sp>
      <p:grpSp>
        <p:nvGrpSpPr>
          <p:cNvPr id="840" name="Group 15"/>
          <p:cNvGrpSpPr/>
          <p:nvPr/>
        </p:nvGrpSpPr>
        <p:grpSpPr>
          <a:xfrm>
            <a:off x="1447920" y="4457880"/>
            <a:ext cx="21424320" cy="5155560"/>
            <a:chOff x="1447920" y="4457880"/>
            <a:chExt cx="21424320" cy="5155560"/>
          </a:xfrm>
        </p:grpSpPr>
        <p:sp>
          <p:nvSpPr>
            <p:cNvPr id="841" name="Line 11"/>
            <p:cNvSpPr/>
            <p:nvPr/>
          </p:nvSpPr>
          <p:spPr>
            <a:xfrm flipV="1">
              <a:off x="1471680" y="9612000"/>
              <a:ext cx="21400560" cy="1440"/>
            </a:xfrm>
            <a:prstGeom prst="line">
              <a:avLst/>
            </a:prstGeom>
            <a:ln w="25560">
              <a:solidFill>
                <a:srgbClr val="b8bbc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42" name="Line 12"/>
            <p:cNvSpPr/>
            <p:nvPr/>
          </p:nvSpPr>
          <p:spPr>
            <a:xfrm>
              <a:off x="1447920" y="6310080"/>
              <a:ext cx="21424320" cy="0"/>
            </a:xfrm>
            <a:prstGeom prst="line">
              <a:avLst/>
            </a:prstGeom>
            <a:ln cap="rnd" w="25560">
              <a:solidFill>
                <a:srgbClr val="9a9999"/>
              </a:solidFill>
              <a:custDash>
                <a:ds d="100000" sp="1000"/>
              </a:cust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43" name="Line 13"/>
            <p:cNvSpPr/>
            <p:nvPr/>
          </p:nvSpPr>
          <p:spPr>
            <a:xfrm>
              <a:off x="1447920" y="8011800"/>
              <a:ext cx="21424320" cy="0"/>
            </a:xfrm>
            <a:prstGeom prst="line">
              <a:avLst/>
            </a:prstGeom>
            <a:ln cap="rnd" w="25560">
              <a:solidFill>
                <a:srgbClr val="9a9999"/>
              </a:solidFill>
              <a:custDash>
                <a:ds d="100000" sp="1000"/>
              </a:cust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44" name="Line 14"/>
            <p:cNvSpPr/>
            <p:nvPr/>
          </p:nvSpPr>
          <p:spPr>
            <a:xfrm>
              <a:off x="1447920" y="4457880"/>
              <a:ext cx="21424320" cy="0"/>
            </a:xfrm>
            <a:prstGeom prst="line">
              <a:avLst/>
            </a:prstGeom>
            <a:ln cap="rnd" w="25560">
              <a:solidFill>
                <a:srgbClr val="9a9999"/>
              </a:solidFill>
              <a:custDash>
                <a:ds d="100000" sp="1000"/>
              </a:cust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845" name="Group 18"/>
          <p:cNvGrpSpPr/>
          <p:nvPr/>
        </p:nvGrpSpPr>
        <p:grpSpPr>
          <a:xfrm>
            <a:off x="4815000" y="8528040"/>
            <a:ext cx="587520" cy="1085760"/>
            <a:chOff x="4815000" y="8528040"/>
            <a:chExt cx="587520" cy="1085760"/>
          </a:xfrm>
        </p:grpSpPr>
        <p:sp>
          <p:nvSpPr>
            <p:cNvPr id="846" name="AutoShape 16"/>
            <p:cNvSpPr/>
            <p:nvPr/>
          </p:nvSpPr>
          <p:spPr>
            <a:xfrm rot="244800">
              <a:off x="4973040" y="8834400"/>
              <a:ext cx="414360" cy="43488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47" name="AutoShape 17"/>
            <p:cNvSpPr/>
            <p:nvPr/>
          </p:nvSpPr>
          <p:spPr>
            <a:xfrm>
              <a:off x="4815000" y="8528040"/>
              <a:ext cx="244440" cy="1085760"/>
            </a:xfrm>
            <a:custGeom>
              <a:avLst/>
              <a:gdLst/>
              <a:ahLst/>
              <a:rect l="l" t="t" r="r" b="b"/>
              <a:pathLst>
                <a:path w="18640" h="21600">
                  <a:moveTo>
                    <a:pt x="543" y="21600"/>
                  </a:moveTo>
                  <a:lnTo>
                    <a:pt x="18640" y="21600"/>
                  </a:lnTo>
                  <a:cubicBezTo>
                    <a:pt x="18640" y="21600"/>
                    <a:pt x="8132" y="16959"/>
                    <a:pt x="9883" y="11603"/>
                  </a:cubicBezTo>
                  <a:cubicBezTo>
                    <a:pt x="11635" y="6248"/>
                    <a:pt x="11635" y="0"/>
                    <a:pt x="11635" y="0"/>
                  </a:cubicBezTo>
                  <a:cubicBezTo>
                    <a:pt x="11635" y="0"/>
                    <a:pt x="-2960" y="13031"/>
                    <a:pt x="543" y="21600"/>
                  </a:cubicBezTo>
                  <a:close/>
                  <a:moveTo>
                    <a:pt x="543" y="21600"/>
                  </a:moveTo>
                </a:path>
              </a:pathLst>
            </a:custGeom>
            <a:solidFill>
              <a:srgbClr val="1d9d7c"/>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848" name="Group 25"/>
          <p:cNvGrpSpPr/>
          <p:nvPr/>
        </p:nvGrpSpPr>
        <p:grpSpPr>
          <a:xfrm>
            <a:off x="10865160" y="5809680"/>
            <a:ext cx="2679840" cy="3803760"/>
            <a:chOff x="10865160" y="5809680"/>
            <a:chExt cx="2679840" cy="3803760"/>
          </a:xfrm>
        </p:grpSpPr>
        <p:grpSp>
          <p:nvGrpSpPr>
            <p:cNvPr id="849" name="Group 22"/>
            <p:cNvGrpSpPr/>
            <p:nvPr/>
          </p:nvGrpSpPr>
          <p:grpSpPr>
            <a:xfrm>
              <a:off x="11341800" y="5809680"/>
              <a:ext cx="1626840" cy="3803760"/>
              <a:chOff x="11341800" y="5809680"/>
              <a:chExt cx="1626840" cy="3803760"/>
            </a:xfrm>
          </p:grpSpPr>
          <p:sp>
            <p:nvSpPr>
              <p:cNvPr id="850" name="AutoShape 19"/>
              <p:cNvSpPr/>
              <p:nvPr/>
            </p:nvSpPr>
            <p:spPr>
              <a:xfrm rot="244200">
                <a:off x="11993400" y="6594480"/>
                <a:ext cx="943560" cy="92160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51" name="AutoShape 20"/>
              <p:cNvSpPr/>
              <p:nvPr/>
            </p:nvSpPr>
            <p:spPr>
              <a:xfrm>
                <a:off x="11611080" y="6520680"/>
                <a:ext cx="552600" cy="3092760"/>
              </a:xfrm>
              <a:custGeom>
                <a:avLst/>
                <a:gdLst/>
                <a:ahLst/>
                <a:rect l="l" t="t" r="r" b="b"/>
                <a:pathLst>
                  <a:path w="18640" h="21600">
                    <a:moveTo>
                      <a:pt x="543" y="21600"/>
                    </a:moveTo>
                    <a:lnTo>
                      <a:pt x="18640" y="21600"/>
                    </a:lnTo>
                    <a:cubicBezTo>
                      <a:pt x="18640" y="21600"/>
                      <a:pt x="8132" y="16959"/>
                      <a:pt x="9883" y="11603"/>
                    </a:cubicBezTo>
                    <a:cubicBezTo>
                      <a:pt x="11635" y="6248"/>
                      <a:pt x="11635" y="0"/>
                      <a:pt x="11635" y="0"/>
                    </a:cubicBezTo>
                    <a:cubicBezTo>
                      <a:pt x="11635" y="0"/>
                      <a:pt x="-2960" y="13031"/>
                      <a:pt x="543" y="21600"/>
                    </a:cubicBezTo>
                    <a:close/>
                    <a:moveTo>
                      <a:pt x="543" y="21600"/>
                    </a:moveTo>
                  </a:path>
                </a:pathLst>
              </a:custGeom>
              <a:solidFill>
                <a:srgbClr val="1d9d7c"/>
              </a:solidFill>
              <a:ln w="25560">
                <a:solidFill>
                  <a:srgbClr val="1d9d7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52" name="AutoShape 21"/>
              <p:cNvSpPr/>
              <p:nvPr/>
            </p:nvSpPr>
            <p:spPr>
              <a:xfrm flipH="1" rot="1208400">
                <a:off x="11432520" y="5904000"/>
                <a:ext cx="663120" cy="64548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853" name="AutoShape 23"/>
            <p:cNvSpPr/>
            <p:nvPr/>
          </p:nvSpPr>
          <p:spPr>
            <a:xfrm rot="244200">
              <a:off x="12049920" y="7497360"/>
              <a:ext cx="1443240" cy="150156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54" name="AutoShape 24"/>
            <p:cNvSpPr/>
            <p:nvPr/>
          </p:nvSpPr>
          <p:spPr>
            <a:xfrm flipH="1" rot="21363600">
              <a:off x="10895040" y="7062120"/>
              <a:ext cx="866880" cy="90180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855" name="Group 40"/>
          <p:cNvGrpSpPr/>
          <p:nvPr/>
        </p:nvGrpSpPr>
        <p:grpSpPr>
          <a:xfrm>
            <a:off x="16774560" y="3164760"/>
            <a:ext cx="4602240" cy="6450480"/>
            <a:chOff x="16774560" y="3164760"/>
            <a:chExt cx="4602240" cy="6450480"/>
          </a:xfrm>
        </p:grpSpPr>
        <p:sp>
          <p:nvSpPr>
            <p:cNvPr id="856" name="AutoShape 26"/>
            <p:cNvSpPr/>
            <p:nvPr/>
          </p:nvSpPr>
          <p:spPr>
            <a:xfrm rot="244200">
              <a:off x="19081440" y="5181120"/>
              <a:ext cx="1211040" cy="121680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57" name="AutoShape 27"/>
            <p:cNvSpPr/>
            <p:nvPr/>
          </p:nvSpPr>
          <p:spPr>
            <a:xfrm>
              <a:off x="18593640" y="4357440"/>
              <a:ext cx="703440" cy="5257800"/>
            </a:xfrm>
            <a:custGeom>
              <a:avLst/>
              <a:gdLst/>
              <a:ahLst/>
              <a:rect l="l" t="t" r="r" b="b"/>
              <a:pathLst>
                <a:path w="18640" h="21600">
                  <a:moveTo>
                    <a:pt x="543" y="21600"/>
                  </a:moveTo>
                  <a:lnTo>
                    <a:pt x="18640" y="21600"/>
                  </a:lnTo>
                  <a:cubicBezTo>
                    <a:pt x="18640" y="21600"/>
                    <a:pt x="8132" y="16959"/>
                    <a:pt x="9883" y="11603"/>
                  </a:cubicBezTo>
                  <a:cubicBezTo>
                    <a:pt x="11635" y="6248"/>
                    <a:pt x="11635" y="0"/>
                    <a:pt x="11635" y="0"/>
                  </a:cubicBezTo>
                  <a:cubicBezTo>
                    <a:pt x="11635" y="0"/>
                    <a:pt x="-2960" y="13031"/>
                    <a:pt x="543" y="21600"/>
                  </a:cubicBezTo>
                  <a:close/>
                  <a:moveTo>
                    <a:pt x="543" y="21600"/>
                  </a:moveTo>
                </a:path>
              </a:pathLst>
            </a:custGeom>
            <a:solidFill>
              <a:srgbClr val="1d9d7c"/>
            </a:solidFill>
            <a:ln w="25560">
              <a:solidFill>
                <a:srgbClr val="1d9d7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58" name="AutoShape 28"/>
            <p:cNvSpPr/>
            <p:nvPr/>
          </p:nvSpPr>
          <p:spPr>
            <a:xfrm flipH="1" rot="21386400">
              <a:off x="18045000" y="4362120"/>
              <a:ext cx="851400" cy="85428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59" name="AutoShape 29"/>
            <p:cNvSpPr/>
            <p:nvPr/>
          </p:nvSpPr>
          <p:spPr>
            <a:xfrm rot="1544400">
              <a:off x="19416960" y="6497280"/>
              <a:ext cx="1676880" cy="168480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60" name="AutoShape 30"/>
            <p:cNvSpPr/>
            <p:nvPr/>
          </p:nvSpPr>
          <p:spPr>
            <a:xfrm flipH="1" rot="21363000">
              <a:off x="17723880" y="6030720"/>
              <a:ext cx="952200" cy="96480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61" name="AutoShape 31"/>
            <p:cNvSpPr/>
            <p:nvPr/>
          </p:nvSpPr>
          <p:spPr>
            <a:xfrm flipH="1" rot="19968600">
              <a:off x="17008200" y="7184160"/>
              <a:ext cx="1313280" cy="131400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62" name="AutoShape 32"/>
            <p:cNvSpPr/>
            <p:nvPr/>
          </p:nvSpPr>
          <p:spPr>
            <a:xfrm flipH="1" rot="20335800">
              <a:off x="18388080" y="8589600"/>
              <a:ext cx="180360" cy="1017000"/>
            </a:xfrm>
            <a:custGeom>
              <a:avLst/>
              <a:gdLst/>
              <a:ahLst/>
              <a:rect l="l" t="t" r="r" b="b"/>
              <a:pathLst>
                <a:path w="18640" h="21600">
                  <a:moveTo>
                    <a:pt x="543" y="21600"/>
                  </a:moveTo>
                  <a:lnTo>
                    <a:pt x="18640" y="21600"/>
                  </a:lnTo>
                  <a:cubicBezTo>
                    <a:pt x="18640" y="21600"/>
                    <a:pt x="8132" y="16959"/>
                    <a:pt x="9883" y="11603"/>
                  </a:cubicBezTo>
                  <a:cubicBezTo>
                    <a:pt x="11635" y="6248"/>
                    <a:pt x="11635" y="0"/>
                    <a:pt x="11635" y="0"/>
                  </a:cubicBezTo>
                  <a:cubicBezTo>
                    <a:pt x="11635" y="0"/>
                    <a:pt x="-2960" y="13031"/>
                    <a:pt x="543" y="21600"/>
                  </a:cubicBezTo>
                  <a:close/>
                  <a:moveTo>
                    <a:pt x="543" y="21600"/>
                  </a:moveTo>
                </a:path>
              </a:pathLst>
            </a:custGeom>
            <a:solidFill>
              <a:srgbClr val="1d9d7c"/>
            </a:solidFill>
            <a:ln w="25560">
              <a:solidFill>
                <a:srgbClr val="1d9d7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63" name="AutoShape 33"/>
            <p:cNvSpPr/>
            <p:nvPr/>
          </p:nvSpPr>
          <p:spPr>
            <a:xfrm flipH="1" rot="20335800">
              <a:off x="18565920" y="5654160"/>
              <a:ext cx="182160" cy="1018080"/>
            </a:xfrm>
            <a:custGeom>
              <a:avLst/>
              <a:gdLst/>
              <a:ahLst/>
              <a:rect l="l" t="t" r="r" b="b"/>
              <a:pathLst>
                <a:path w="18640" h="21600">
                  <a:moveTo>
                    <a:pt x="543" y="21600"/>
                  </a:moveTo>
                  <a:lnTo>
                    <a:pt x="18640" y="21600"/>
                  </a:lnTo>
                  <a:cubicBezTo>
                    <a:pt x="18640" y="21600"/>
                    <a:pt x="8132" y="16959"/>
                    <a:pt x="9883" y="11603"/>
                  </a:cubicBezTo>
                  <a:cubicBezTo>
                    <a:pt x="11635" y="6248"/>
                    <a:pt x="11635" y="0"/>
                    <a:pt x="11635" y="0"/>
                  </a:cubicBezTo>
                  <a:cubicBezTo>
                    <a:pt x="11635" y="0"/>
                    <a:pt x="-2960" y="13031"/>
                    <a:pt x="543" y="21600"/>
                  </a:cubicBezTo>
                  <a:close/>
                  <a:moveTo>
                    <a:pt x="543" y="21600"/>
                  </a:moveTo>
                </a:path>
              </a:pathLst>
            </a:custGeom>
            <a:solidFill>
              <a:srgbClr val="1d9d7c"/>
            </a:solidFill>
            <a:ln w="25560">
              <a:solidFill>
                <a:srgbClr val="1d9d7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64" name="AutoShape 34"/>
            <p:cNvSpPr/>
            <p:nvPr/>
          </p:nvSpPr>
          <p:spPr>
            <a:xfrm flipH="1" rot="21386400">
              <a:off x="17396640" y="4844880"/>
              <a:ext cx="851400" cy="85284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65" name="AutoShape 35"/>
            <p:cNvSpPr/>
            <p:nvPr/>
          </p:nvSpPr>
          <p:spPr>
            <a:xfrm flipH="1" rot="20193000">
              <a:off x="17032320" y="6571440"/>
              <a:ext cx="853200" cy="85464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66" name="AutoShape 36"/>
            <p:cNvSpPr/>
            <p:nvPr/>
          </p:nvSpPr>
          <p:spPr>
            <a:xfrm rot="437400">
              <a:off x="20195640" y="5882400"/>
              <a:ext cx="852840" cy="85464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67" name="AutoShape 37"/>
            <p:cNvSpPr/>
            <p:nvPr/>
          </p:nvSpPr>
          <p:spPr>
            <a:xfrm rot="21385800">
              <a:off x="19255680" y="4314960"/>
              <a:ext cx="851400" cy="85284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68" name="AutoShape 38"/>
            <p:cNvSpPr/>
            <p:nvPr/>
          </p:nvSpPr>
          <p:spPr>
            <a:xfrm rot="19594800">
              <a:off x="18631800" y="3328560"/>
              <a:ext cx="851400" cy="85464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69" name="AutoShape 39"/>
            <p:cNvSpPr/>
            <p:nvPr/>
          </p:nvSpPr>
          <p:spPr>
            <a:xfrm flipH="1" rot="708600">
              <a:off x="16852320" y="5470200"/>
              <a:ext cx="851040" cy="85284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870" name="Rectangle 41"/>
          <p:cNvSpPr/>
          <p:nvPr/>
        </p:nvSpPr>
        <p:spPr>
          <a:xfrm>
            <a:off x="1555920" y="4017960"/>
            <a:ext cx="208116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9d7c"/>
                </a:solidFill>
                <a:latin typeface="Open Sans Bold"/>
                <a:ea typeface="ＭＳ Ｐゴシック"/>
              </a:rPr>
              <a:t>Top growth area</a:t>
            </a:r>
            <a:endParaRPr b="0" lang="en-US" sz="2100" spc="-1" strike="noStrike">
              <a:solidFill>
                <a:srgbClr val="000000"/>
              </a:solidFill>
              <a:latin typeface="Gill Sans"/>
            </a:endParaRPr>
          </a:p>
        </p:txBody>
      </p:sp>
      <p:sp>
        <p:nvSpPr>
          <p:cNvPr id="871" name="Rectangle 42"/>
          <p:cNvSpPr/>
          <p:nvPr/>
        </p:nvSpPr>
        <p:spPr>
          <a:xfrm>
            <a:off x="1562040" y="5910480"/>
            <a:ext cx="208260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9d7c"/>
                </a:solidFill>
                <a:latin typeface="Open Sans Bold"/>
                <a:ea typeface="ＭＳ Ｐゴシック"/>
              </a:rPr>
              <a:t>Mid growth area</a:t>
            </a:r>
            <a:endParaRPr b="0" lang="en-US" sz="2100" spc="-1" strike="noStrike">
              <a:solidFill>
                <a:srgbClr val="000000"/>
              </a:solidFill>
              <a:latin typeface="Gill Sans"/>
            </a:endParaRPr>
          </a:p>
        </p:txBody>
      </p:sp>
      <p:sp>
        <p:nvSpPr>
          <p:cNvPr id="872" name="Rectangle 43"/>
          <p:cNvSpPr/>
          <p:nvPr/>
        </p:nvSpPr>
        <p:spPr>
          <a:xfrm>
            <a:off x="1588320" y="7612200"/>
            <a:ext cx="253368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d9d7c"/>
                </a:solidFill>
                <a:latin typeface="Open Sans Bold"/>
                <a:ea typeface="ＭＳ Ｐゴシック"/>
              </a:rPr>
              <a:t>Startup growth area</a:t>
            </a:r>
            <a:endParaRPr b="0" lang="en-US" sz="2100" spc="-1" strike="noStrike">
              <a:solidFill>
                <a:srgbClr val="000000"/>
              </a:solidFill>
              <a:latin typeface="Gill Sans"/>
            </a:endParaRPr>
          </a:p>
        </p:txBody>
      </p:sp>
      <p:sp>
        <p:nvSpPr>
          <p:cNvPr id="873" name="Rectangle 44"/>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29</a:t>
            </a:r>
            <a:endParaRPr b="0" lang="en-US" sz="2400" spc="-1" strike="noStrike">
              <a:solidFill>
                <a:srgbClr val="000000"/>
              </a:solidFill>
              <a:latin typeface="Gill Sans"/>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 name="Group 4"/>
          <p:cNvGrpSpPr/>
          <p:nvPr/>
        </p:nvGrpSpPr>
        <p:grpSpPr>
          <a:xfrm>
            <a:off x="1385640" y="819000"/>
            <a:ext cx="5618160" cy="1130040"/>
            <a:chOff x="1385640" y="819000"/>
            <a:chExt cx="5618160" cy="1130040"/>
          </a:xfrm>
        </p:grpSpPr>
        <p:sp>
          <p:nvSpPr>
            <p:cNvPr id="265" name="Rectangle 2"/>
            <p:cNvSpPr/>
            <p:nvPr/>
          </p:nvSpPr>
          <p:spPr>
            <a:xfrm>
              <a:off x="1614960" y="819000"/>
              <a:ext cx="432576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Greetings from us</a:t>
              </a:r>
              <a:endParaRPr b="0" lang="en-US" sz="4000" spc="-1" strike="noStrike">
                <a:solidFill>
                  <a:srgbClr val="000000"/>
                </a:solidFill>
                <a:latin typeface="Gill Sans"/>
              </a:endParaRPr>
            </a:p>
          </p:txBody>
        </p:sp>
        <p:sp>
          <p:nvSpPr>
            <p:cNvPr id="266" name="Rectangle 3"/>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267" name="Rectangle 5"/>
          <p:cNvSpPr/>
          <p:nvPr/>
        </p:nvSpPr>
        <p:spPr>
          <a:xfrm>
            <a:off x="1447920" y="6280200"/>
            <a:ext cx="8026200" cy="4191120"/>
          </a:xfrm>
          <a:prstGeom prst="rect">
            <a:avLst/>
          </a:prstGeom>
          <a:noFill/>
          <a:ln w="0">
            <a:noFill/>
          </a:ln>
        </p:spPr>
        <p:style>
          <a:lnRef idx="0"/>
          <a:fillRef idx="0"/>
          <a:effectRef idx="0"/>
          <a:fontRef idx="minor"/>
        </p:style>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a1919"/>
                </a:solidFill>
                <a:latin typeface="Open Sans Light"/>
                <a:ea typeface="ＭＳ Ｐゴシック"/>
              </a:rPr>
              <a:t>What we see is only a perception. What we hear is only an opinion.</a:t>
            </a:r>
            <a:endParaRPr b="0" lang="en-US" sz="6400" spc="-1" strike="noStrike">
              <a:solidFill>
                <a:srgbClr val="000000"/>
              </a:solidFill>
              <a:latin typeface="Gill Sans"/>
            </a:endParaRPr>
          </a:p>
        </p:txBody>
      </p:sp>
      <p:grpSp>
        <p:nvGrpSpPr>
          <p:cNvPr id="268" name="Group 10"/>
          <p:cNvGrpSpPr/>
          <p:nvPr/>
        </p:nvGrpSpPr>
        <p:grpSpPr>
          <a:xfrm>
            <a:off x="6959160" y="3338640"/>
            <a:ext cx="2717640" cy="2717640"/>
            <a:chOff x="6959160" y="3338640"/>
            <a:chExt cx="2717640" cy="2717640"/>
          </a:xfrm>
        </p:grpSpPr>
        <p:sp>
          <p:nvSpPr>
            <p:cNvPr id="269" name="Oval 6"/>
            <p:cNvSpPr/>
            <p:nvPr/>
          </p:nvSpPr>
          <p:spPr>
            <a:xfrm flipH="1">
              <a:off x="6958800" y="3338640"/>
              <a:ext cx="2717640" cy="2717640"/>
            </a:xfrm>
            <a:prstGeom prst="ellipse">
              <a:avLst/>
            </a:prstGeom>
            <a:gradFill rotWithShape="0">
              <a:gsLst>
                <a:gs pos="0">
                  <a:srgbClr val="1d9d7c"/>
                </a:gs>
                <a:gs pos="100000">
                  <a:srgbClr val="23cb9e"/>
                </a:gs>
              </a:gsLst>
              <a:lin ang="1602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70" name="Oval 7"/>
            <p:cNvSpPr/>
            <p:nvPr/>
          </p:nvSpPr>
          <p:spPr>
            <a:xfrm flipH="1">
              <a:off x="7017480" y="3397320"/>
              <a:ext cx="2606760" cy="2606760"/>
            </a:xfrm>
            <a:prstGeom prst="ellipse">
              <a:avLst/>
            </a:prstGeom>
            <a:solidFill>
              <a:srgbClr val="f7f7f7"/>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71" name="Oval 8"/>
            <p:cNvSpPr/>
            <p:nvPr/>
          </p:nvSpPr>
          <p:spPr>
            <a:xfrm flipH="1">
              <a:off x="7176240" y="3556080"/>
              <a:ext cx="2281320" cy="2281320"/>
            </a:xfrm>
            <a:prstGeom prst="ellipse">
              <a:avLst/>
            </a:prstGeom>
            <a:solidFill>
              <a:srgbClr val="e6e5e5"/>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272" name="Rectangle 11"/>
          <p:cNvSpPr/>
          <p:nvPr/>
        </p:nvSpPr>
        <p:spPr>
          <a:xfrm>
            <a:off x="10949040" y="3498840"/>
            <a:ext cx="11925360" cy="7175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Bold"/>
                <a:ea typeface="ＭＳ Ｐゴシック"/>
              </a:rPr>
              <a:t>Morbi leo risus, porta ac consectetur ac, vestibulum at eros. ut id elit. Vestibulum id ligula porta felis euismod semper</a:t>
            </a:r>
            <a:r>
              <a:rPr b="0" lang="en-US" sz="2400" spc="-1" strike="noStrike">
                <a:solidFill>
                  <a:srgbClr val="1a1919"/>
                </a:solidFill>
                <a:latin typeface="Open Sans Light"/>
                <a:ea typeface="ＭＳ Ｐゴシック"/>
              </a:rPr>
              <a:t>.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Light"/>
                <a:ea typeface="ＭＳ Ｐゴシック"/>
              </a:rPr>
              <a:t>Aenean lacinia bibendum nulla sed consectetur. Nulla vitae elit libero, a pharetra augue. Aenean eu leo quam. Pellentesque ornarenean lacinia bibendum nulla sed consectetur. Nulla vitae elit libero, a pharetra augue. Aenean eu leo  Nulla vitae elit libero, a pharetra augue. Aenean eu leo quam. Pellentesque ornare sem lacinia quam venenatis vestibulum. Morbi leo risus, elit. Vestibulum id</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Light"/>
                <a:ea typeface="ＭＳ Ｐゴシック"/>
              </a:rPr>
              <a:t>Aenean lacinia bibendum nulla sed coetra augue. Aenean eu leo  Nulla vitae elit libero, a pharetra augue. Aenean eu leo quam. Pellentesque ornare sem lacinia quam venenatis vestibulum. Morbctetur. Nulla vitae elit libero, aero, a pharetra augue. Aeneanquam. Pellen vestibulus, porta ac consectetur ac, vestibulum at eros. ut id elit. Vestibulum id ligula porta felis euismod semper. Aenean lacinia bibendum nulla sed consectetur. Nulla vitae elit libero Pellentesque ornare sem lacinia quam venenatis vestibulum. Morbi leo risus, porta ac consectetur ac, vestibulum at eros.</a:t>
            </a:r>
            <a:endParaRPr b="0" lang="en-US" sz="2400" spc="-1" strike="noStrike">
              <a:solidFill>
                <a:srgbClr val="000000"/>
              </a:solidFill>
              <a:latin typeface="Gill Sans"/>
            </a:endParaRPr>
          </a:p>
        </p:txBody>
      </p:sp>
      <p:sp>
        <p:nvSpPr>
          <p:cNvPr id="273" name="Rectangle 12"/>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03</a:t>
            </a:r>
            <a:endParaRPr b="0" lang="en-US" sz="2400" spc="-1" strike="noStrike">
              <a:solidFill>
                <a:srgbClr val="000000"/>
              </a:solidFill>
              <a:latin typeface="Gill Sans"/>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Group 3"/>
          <p:cNvGrpSpPr/>
          <p:nvPr/>
        </p:nvGrpSpPr>
        <p:grpSpPr>
          <a:xfrm>
            <a:off x="1385640" y="819000"/>
            <a:ext cx="5618160" cy="1130040"/>
            <a:chOff x="1385640" y="819000"/>
            <a:chExt cx="5618160" cy="1130040"/>
          </a:xfrm>
        </p:grpSpPr>
        <p:sp>
          <p:nvSpPr>
            <p:cNvPr id="875" name="Rectangle 1"/>
            <p:cNvSpPr/>
            <p:nvPr/>
          </p:nvSpPr>
          <p:spPr>
            <a:xfrm>
              <a:off x="1609200" y="819000"/>
              <a:ext cx="3826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Leaves Diagram</a:t>
              </a:r>
              <a:endParaRPr b="0" lang="en-US" sz="4000" spc="-1" strike="noStrike">
                <a:solidFill>
                  <a:srgbClr val="000000"/>
                </a:solidFill>
                <a:latin typeface="Gill Sans"/>
              </a:endParaRPr>
            </a:p>
          </p:txBody>
        </p:sp>
        <p:sp>
          <p:nvSpPr>
            <p:cNvPr id="876"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grpSp>
        <p:nvGrpSpPr>
          <p:cNvPr id="877" name="Group 31"/>
          <p:cNvGrpSpPr/>
          <p:nvPr/>
        </p:nvGrpSpPr>
        <p:grpSpPr>
          <a:xfrm>
            <a:off x="10031040" y="4151160"/>
            <a:ext cx="12422160" cy="7719480"/>
            <a:chOff x="10031040" y="4151160"/>
            <a:chExt cx="12422160" cy="7719480"/>
          </a:xfrm>
        </p:grpSpPr>
        <p:sp>
          <p:nvSpPr>
            <p:cNvPr id="878" name="AutoShape 4"/>
            <p:cNvSpPr/>
            <p:nvPr/>
          </p:nvSpPr>
          <p:spPr>
            <a:xfrm>
              <a:off x="13554360" y="7979400"/>
              <a:ext cx="2311560" cy="787320"/>
            </a:xfrm>
            <a:custGeom>
              <a:avLst/>
              <a:gdLst/>
              <a:ahLst/>
              <a:rect l="l" t="t" r="r" b="b"/>
              <a:pathLst>
                <a:path w="21600" h="20321">
                  <a:moveTo>
                    <a:pt x="0" y="20321"/>
                  </a:moveTo>
                  <a:cubicBezTo>
                    <a:pt x="0" y="20321"/>
                    <a:pt x="3943" y="5542"/>
                    <a:pt x="11314" y="2132"/>
                  </a:cubicBezTo>
                  <a:cubicBezTo>
                    <a:pt x="18686" y="-1279"/>
                    <a:pt x="21600" y="426"/>
                    <a:pt x="21600" y="426"/>
                  </a:cubicBezTo>
                </a:path>
              </a:pathLst>
            </a:custGeom>
            <a:noFill/>
            <a:ln w="25560">
              <a:solidFill>
                <a:srgbClr val="9a9999"/>
              </a:solidFill>
              <a:prstDash val="sysDot"/>
              <a:miter/>
              <a:tailEnd len="med" type="arrow"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79" name="AutoShape 5"/>
            <p:cNvSpPr/>
            <p:nvPr/>
          </p:nvSpPr>
          <p:spPr>
            <a:xfrm>
              <a:off x="12926880" y="6108840"/>
              <a:ext cx="2933640" cy="787320"/>
            </a:xfrm>
            <a:custGeom>
              <a:avLst/>
              <a:gdLst/>
              <a:ahLst/>
              <a:rect l="l" t="t" r="r" b="b"/>
              <a:pathLst>
                <a:path w="21600" h="20321">
                  <a:moveTo>
                    <a:pt x="0" y="20321"/>
                  </a:moveTo>
                  <a:cubicBezTo>
                    <a:pt x="0" y="20321"/>
                    <a:pt x="3943" y="5542"/>
                    <a:pt x="11314" y="2132"/>
                  </a:cubicBezTo>
                  <a:cubicBezTo>
                    <a:pt x="18686" y="-1279"/>
                    <a:pt x="21600" y="426"/>
                    <a:pt x="21600" y="426"/>
                  </a:cubicBezTo>
                </a:path>
              </a:pathLst>
            </a:custGeom>
            <a:noFill/>
            <a:ln w="25560">
              <a:solidFill>
                <a:srgbClr val="9a9999"/>
              </a:solidFill>
              <a:prstDash val="sysDot"/>
              <a:miter/>
              <a:tailEnd len="med" type="arrow"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80" name="AutoShape 6"/>
            <p:cNvSpPr/>
            <p:nvPr/>
          </p:nvSpPr>
          <p:spPr>
            <a:xfrm>
              <a:off x="12380760" y="4394160"/>
              <a:ext cx="3480120" cy="787320"/>
            </a:xfrm>
            <a:custGeom>
              <a:avLst/>
              <a:gdLst/>
              <a:ahLst/>
              <a:rect l="l" t="t" r="r" b="b"/>
              <a:pathLst>
                <a:path w="21600" h="20321">
                  <a:moveTo>
                    <a:pt x="0" y="20321"/>
                  </a:moveTo>
                  <a:cubicBezTo>
                    <a:pt x="0" y="20321"/>
                    <a:pt x="3943" y="5542"/>
                    <a:pt x="11314" y="2132"/>
                  </a:cubicBezTo>
                  <a:cubicBezTo>
                    <a:pt x="18686" y="-1279"/>
                    <a:pt x="21600" y="426"/>
                    <a:pt x="21600" y="426"/>
                  </a:cubicBezTo>
                </a:path>
              </a:pathLst>
            </a:custGeom>
            <a:noFill/>
            <a:ln w="25560">
              <a:solidFill>
                <a:srgbClr val="9a9999"/>
              </a:solidFill>
              <a:prstDash val="sysDot"/>
              <a:miter/>
              <a:tailEnd len="med" type="arrow"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nvGrpSpPr>
            <p:cNvPr id="881" name="Group 21"/>
            <p:cNvGrpSpPr/>
            <p:nvPr/>
          </p:nvGrpSpPr>
          <p:grpSpPr>
            <a:xfrm>
              <a:off x="10031040" y="4242600"/>
              <a:ext cx="4601520" cy="7628040"/>
              <a:chOff x="10031040" y="4242600"/>
              <a:chExt cx="4601520" cy="7628040"/>
            </a:xfrm>
          </p:grpSpPr>
          <p:sp>
            <p:nvSpPr>
              <p:cNvPr id="882" name="AutoShape 7"/>
              <p:cNvSpPr/>
              <p:nvPr/>
            </p:nvSpPr>
            <p:spPr>
              <a:xfrm rot="244200">
                <a:off x="12338640" y="6252840"/>
                <a:ext cx="1211400" cy="121284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83" name="AutoShape 8"/>
              <p:cNvSpPr/>
              <p:nvPr/>
            </p:nvSpPr>
            <p:spPr>
              <a:xfrm>
                <a:off x="11848680" y="5432040"/>
                <a:ext cx="708840" cy="6438600"/>
              </a:xfrm>
              <a:custGeom>
                <a:avLst/>
                <a:gdLst/>
                <a:ahLst/>
                <a:rect l="l" t="t" r="r" b="b"/>
                <a:pathLst>
                  <a:path w="18640" h="21600">
                    <a:moveTo>
                      <a:pt x="543" y="21600"/>
                    </a:moveTo>
                    <a:lnTo>
                      <a:pt x="18640" y="21600"/>
                    </a:lnTo>
                    <a:cubicBezTo>
                      <a:pt x="18640" y="21600"/>
                      <a:pt x="8132" y="16959"/>
                      <a:pt x="9883" y="11603"/>
                    </a:cubicBezTo>
                    <a:cubicBezTo>
                      <a:pt x="11635" y="6248"/>
                      <a:pt x="11635" y="0"/>
                      <a:pt x="11635" y="0"/>
                    </a:cubicBezTo>
                    <a:cubicBezTo>
                      <a:pt x="11635" y="0"/>
                      <a:pt x="-2960" y="13031"/>
                      <a:pt x="543" y="21600"/>
                    </a:cubicBezTo>
                    <a:close/>
                    <a:moveTo>
                      <a:pt x="543" y="21600"/>
                    </a:moveTo>
                  </a:path>
                </a:pathLst>
              </a:custGeom>
              <a:solidFill>
                <a:srgbClr val="1d9d7c"/>
              </a:solidFill>
              <a:ln w="25560">
                <a:solidFill>
                  <a:srgbClr val="1d9d7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84" name="AutoShape 9"/>
              <p:cNvSpPr/>
              <p:nvPr/>
            </p:nvSpPr>
            <p:spPr>
              <a:xfrm flipH="1" rot="21386400">
                <a:off x="11300400" y="5436720"/>
                <a:ext cx="851400" cy="85140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85" name="AutoShape 10"/>
              <p:cNvSpPr/>
              <p:nvPr/>
            </p:nvSpPr>
            <p:spPr>
              <a:xfrm rot="1544400">
                <a:off x="12673440" y="7564680"/>
                <a:ext cx="1677240" cy="167940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86" name="AutoShape 11"/>
              <p:cNvSpPr/>
              <p:nvPr/>
            </p:nvSpPr>
            <p:spPr>
              <a:xfrm flipH="1" rot="21363000">
                <a:off x="10980360" y="7099560"/>
                <a:ext cx="952560" cy="96156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87" name="AutoShape 12"/>
              <p:cNvSpPr/>
              <p:nvPr/>
            </p:nvSpPr>
            <p:spPr>
              <a:xfrm flipH="1" rot="19968600">
                <a:off x="10264680" y="8249760"/>
                <a:ext cx="1313280" cy="130968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88" name="AutoShape 13"/>
              <p:cNvSpPr/>
              <p:nvPr/>
            </p:nvSpPr>
            <p:spPr>
              <a:xfrm flipH="1" rot="20335800">
                <a:off x="11644560" y="9650520"/>
                <a:ext cx="180360" cy="1013400"/>
              </a:xfrm>
              <a:custGeom>
                <a:avLst/>
                <a:gdLst/>
                <a:ahLst/>
                <a:rect l="l" t="t" r="r" b="b"/>
                <a:pathLst>
                  <a:path w="18640" h="21600">
                    <a:moveTo>
                      <a:pt x="543" y="21600"/>
                    </a:moveTo>
                    <a:lnTo>
                      <a:pt x="18640" y="21600"/>
                    </a:lnTo>
                    <a:cubicBezTo>
                      <a:pt x="18640" y="21600"/>
                      <a:pt x="8132" y="16959"/>
                      <a:pt x="9883" y="11603"/>
                    </a:cubicBezTo>
                    <a:cubicBezTo>
                      <a:pt x="11635" y="6248"/>
                      <a:pt x="11635" y="0"/>
                      <a:pt x="11635" y="0"/>
                    </a:cubicBezTo>
                    <a:cubicBezTo>
                      <a:pt x="11635" y="0"/>
                      <a:pt x="-2960" y="13031"/>
                      <a:pt x="543" y="21600"/>
                    </a:cubicBezTo>
                    <a:close/>
                    <a:moveTo>
                      <a:pt x="543" y="21600"/>
                    </a:moveTo>
                  </a:path>
                </a:pathLst>
              </a:custGeom>
              <a:solidFill>
                <a:srgbClr val="1d9d7c"/>
              </a:solidFill>
              <a:ln w="25560">
                <a:solidFill>
                  <a:srgbClr val="1d9d7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89" name="AutoShape 14"/>
              <p:cNvSpPr/>
              <p:nvPr/>
            </p:nvSpPr>
            <p:spPr>
              <a:xfrm flipH="1" rot="20335800">
                <a:off x="11822040" y="6723720"/>
                <a:ext cx="182160" cy="1014480"/>
              </a:xfrm>
              <a:custGeom>
                <a:avLst/>
                <a:gdLst/>
                <a:ahLst/>
                <a:rect l="l" t="t" r="r" b="b"/>
                <a:pathLst>
                  <a:path w="18640" h="21600">
                    <a:moveTo>
                      <a:pt x="543" y="21600"/>
                    </a:moveTo>
                    <a:lnTo>
                      <a:pt x="18640" y="21600"/>
                    </a:lnTo>
                    <a:cubicBezTo>
                      <a:pt x="18640" y="21600"/>
                      <a:pt x="8132" y="16959"/>
                      <a:pt x="9883" y="11603"/>
                    </a:cubicBezTo>
                    <a:cubicBezTo>
                      <a:pt x="11635" y="6248"/>
                      <a:pt x="11635" y="0"/>
                      <a:pt x="11635" y="0"/>
                    </a:cubicBezTo>
                    <a:cubicBezTo>
                      <a:pt x="11635" y="0"/>
                      <a:pt x="-2960" y="13031"/>
                      <a:pt x="543" y="21600"/>
                    </a:cubicBezTo>
                    <a:close/>
                    <a:moveTo>
                      <a:pt x="543" y="21600"/>
                    </a:moveTo>
                  </a:path>
                </a:pathLst>
              </a:custGeom>
              <a:solidFill>
                <a:srgbClr val="1d9d7c"/>
              </a:solidFill>
              <a:ln w="25560">
                <a:solidFill>
                  <a:srgbClr val="1d9d7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90" name="AutoShape 15"/>
              <p:cNvSpPr/>
              <p:nvPr/>
            </p:nvSpPr>
            <p:spPr>
              <a:xfrm flipH="1" rot="21386400">
                <a:off x="10652040" y="5917680"/>
                <a:ext cx="851400" cy="84996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91" name="AutoShape 16"/>
              <p:cNvSpPr/>
              <p:nvPr/>
            </p:nvSpPr>
            <p:spPr>
              <a:xfrm flipH="1" rot="20193000">
                <a:off x="10288800" y="7639200"/>
                <a:ext cx="853560" cy="85140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92" name="AutoShape 17"/>
              <p:cNvSpPr/>
              <p:nvPr/>
            </p:nvSpPr>
            <p:spPr>
              <a:xfrm rot="437400">
                <a:off x="13452480" y="6951960"/>
                <a:ext cx="853200" cy="85176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93" name="AutoShape 18"/>
              <p:cNvSpPr/>
              <p:nvPr/>
            </p:nvSpPr>
            <p:spPr>
              <a:xfrm rot="21385800">
                <a:off x="12512160" y="5389560"/>
                <a:ext cx="851400" cy="84996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94" name="AutoShape 19"/>
              <p:cNvSpPr/>
              <p:nvPr/>
            </p:nvSpPr>
            <p:spPr>
              <a:xfrm rot="19594800">
                <a:off x="11888280" y="4406760"/>
                <a:ext cx="851400" cy="85176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95" name="AutoShape 20"/>
              <p:cNvSpPr/>
              <p:nvPr/>
            </p:nvSpPr>
            <p:spPr>
              <a:xfrm flipH="1" rot="708600">
                <a:off x="10108440" y="6540840"/>
                <a:ext cx="851040" cy="84996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23cb9e"/>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896" name="Rectangle 22"/>
            <p:cNvSpPr/>
            <p:nvPr/>
          </p:nvSpPr>
          <p:spPr>
            <a:xfrm>
              <a:off x="16356600" y="4151160"/>
              <a:ext cx="5994720" cy="520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Description here</a:t>
              </a:r>
              <a:endParaRPr b="0" lang="en-US" sz="2400" spc="-1" strike="noStrike">
                <a:solidFill>
                  <a:srgbClr val="000000"/>
                </a:solidFill>
                <a:latin typeface="Gill Sans"/>
              </a:endParaRPr>
            </a:p>
          </p:txBody>
        </p:sp>
        <p:sp>
          <p:nvSpPr>
            <p:cNvPr id="897" name="Rectangle 23"/>
            <p:cNvSpPr/>
            <p:nvPr/>
          </p:nvSpPr>
          <p:spPr>
            <a:xfrm>
              <a:off x="16356600" y="4671720"/>
              <a:ext cx="5994720" cy="93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Description here Nullam id dolor id nibh ultricies. </a:t>
              </a:r>
              <a:endParaRPr b="0" lang="en-US" sz="2400" spc="-1" strike="noStrike">
                <a:solidFill>
                  <a:srgbClr val="000000"/>
                </a:solidFill>
                <a:latin typeface="Gill Sans"/>
              </a:endParaRPr>
            </a:p>
          </p:txBody>
        </p:sp>
        <p:sp>
          <p:nvSpPr>
            <p:cNvPr id="898" name="Rectangle 24"/>
            <p:cNvSpPr/>
            <p:nvPr/>
          </p:nvSpPr>
          <p:spPr>
            <a:xfrm>
              <a:off x="16356600" y="5764320"/>
              <a:ext cx="599472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Description here</a:t>
              </a:r>
              <a:endParaRPr b="0" lang="en-US" sz="2400" spc="-1" strike="noStrike">
                <a:solidFill>
                  <a:srgbClr val="000000"/>
                </a:solidFill>
                <a:latin typeface="Gill Sans"/>
              </a:endParaRPr>
            </a:p>
          </p:txBody>
        </p:sp>
        <p:sp>
          <p:nvSpPr>
            <p:cNvPr id="899" name="Rectangle 25"/>
            <p:cNvSpPr/>
            <p:nvPr/>
          </p:nvSpPr>
          <p:spPr>
            <a:xfrm>
              <a:off x="16356600" y="6285240"/>
              <a:ext cx="5994720" cy="93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Description here Nullam id dolor id nibh ultricies. </a:t>
              </a:r>
              <a:endParaRPr b="0" lang="en-US" sz="2400" spc="-1" strike="noStrike">
                <a:solidFill>
                  <a:srgbClr val="000000"/>
                </a:solidFill>
                <a:latin typeface="Gill Sans"/>
              </a:endParaRPr>
            </a:p>
          </p:txBody>
        </p:sp>
        <p:sp>
          <p:nvSpPr>
            <p:cNvPr id="900" name="Rectangle 26"/>
            <p:cNvSpPr/>
            <p:nvPr/>
          </p:nvSpPr>
          <p:spPr>
            <a:xfrm>
              <a:off x="16356600" y="7377840"/>
              <a:ext cx="5994720" cy="520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Description here</a:t>
              </a:r>
              <a:endParaRPr b="0" lang="en-US" sz="2400" spc="-1" strike="noStrike">
                <a:solidFill>
                  <a:srgbClr val="000000"/>
                </a:solidFill>
                <a:latin typeface="Gill Sans"/>
              </a:endParaRPr>
            </a:p>
          </p:txBody>
        </p:sp>
        <p:sp>
          <p:nvSpPr>
            <p:cNvPr id="901" name="Rectangle 27"/>
            <p:cNvSpPr/>
            <p:nvPr/>
          </p:nvSpPr>
          <p:spPr>
            <a:xfrm>
              <a:off x="16356600" y="7898400"/>
              <a:ext cx="5994720" cy="93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Description here Nullam id dolor id nibh ultricies. </a:t>
              </a:r>
              <a:endParaRPr b="0" lang="en-US" sz="2400" spc="-1" strike="noStrike">
                <a:solidFill>
                  <a:srgbClr val="000000"/>
                </a:solidFill>
                <a:latin typeface="Gill Sans"/>
              </a:endParaRPr>
            </a:p>
          </p:txBody>
        </p:sp>
        <p:sp>
          <p:nvSpPr>
            <p:cNvPr id="902" name="AutoShape 28"/>
            <p:cNvSpPr/>
            <p:nvPr/>
          </p:nvSpPr>
          <p:spPr>
            <a:xfrm>
              <a:off x="12584160" y="9448200"/>
              <a:ext cx="3276720" cy="787320"/>
            </a:xfrm>
            <a:custGeom>
              <a:avLst/>
              <a:gdLst/>
              <a:ahLst/>
              <a:rect l="l" t="t" r="r" b="b"/>
              <a:pathLst>
                <a:path w="21600" h="20321">
                  <a:moveTo>
                    <a:pt x="0" y="20321"/>
                  </a:moveTo>
                  <a:cubicBezTo>
                    <a:pt x="0" y="20321"/>
                    <a:pt x="3943" y="5542"/>
                    <a:pt x="11314" y="2132"/>
                  </a:cubicBezTo>
                  <a:cubicBezTo>
                    <a:pt x="18686" y="-1279"/>
                    <a:pt x="21600" y="426"/>
                    <a:pt x="21600" y="426"/>
                  </a:cubicBezTo>
                </a:path>
              </a:pathLst>
            </a:custGeom>
            <a:noFill/>
            <a:ln w="25560">
              <a:solidFill>
                <a:srgbClr val="9a9999"/>
              </a:solidFill>
              <a:prstDash val="sysDot"/>
              <a:miter/>
              <a:tailEnd len="med" type="arrow"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03" name="Rectangle 29"/>
            <p:cNvSpPr/>
            <p:nvPr/>
          </p:nvSpPr>
          <p:spPr>
            <a:xfrm>
              <a:off x="16458120" y="9079920"/>
              <a:ext cx="5995080" cy="520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Description here</a:t>
              </a:r>
              <a:endParaRPr b="0" lang="en-US" sz="2400" spc="-1" strike="noStrike">
                <a:solidFill>
                  <a:srgbClr val="000000"/>
                </a:solidFill>
                <a:latin typeface="Gill Sans"/>
              </a:endParaRPr>
            </a:p>
          </p:txBody>
        </p:sp>
        <p:sp>
          <p:nvSpPr>
            <p:cNvPr id="904" name="Rectangle 30"/>
            <p:cNvSpPr/>
            <p:nvPr/>
          </p:nvSpPr>
          <p:spPr>
            <a:xfrm>
              <a:off x="16458120" y="9600480"/>
              <a:ext cx="5995080" cy="93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Description here Nullam id dolor id nibh ultricies. </a:t>
              </a:r>
              <a:endParaRPr b="0" lang="en-US" sz="2400" spc="-1" strike="noStrike">
                <a:solidFill>
                  <a:srgbClr val="000000"/>
                </a:solidFill>
                <a:latin typeface="Gill Sans"/>
              </a:endParaRPr>
            </a:p>
          </p:txBody>
        </p:sp>
      </p:grpSp>
      <p:sp>
        <p:nvSpPr>
          <p:cNvPr id="905" name="Rectangle 32"/>
          <p:cNvSpPr/>
          <p:nvPr/>
        </p:nvSpPr>
        <p:spPr>
          <a:xfrm>
            <a:off x="1563840" y="6711840"/>
            <a:ext cx="6591240" cy="5131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 vehicula ut id elit. Vestibulum Nullam id dolor id nibh ultricies vehicula ut id elit. Vestibulum id ligula porta felis euismod semper. Aenean lacinia bibendum nulla sed consectetur. Nulla vitae elit libero, a pharetra augue. Aenean eu leo quam. Pellentesque ornare sem lacinia quam venenatis vestibulum. Morbi leo risus, porta ac consectetur ac, vestibulum at eros.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sp>
        <p:nvSpPr>
          <p:cNvPr id="906" name="Rectangle 33"/>
          <p:cNvSpPr/>
          <p:nvPr/>
        </p:nvSpPr>
        <p:spPr>
          <a:xfrm>
            <a:off x="1562040" y="3301920"/>
            <a:ext cx="6591240" cy="2984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a1919"/>
                </a:solidFill>
                <a:latin typeface="Open Sans Semibold"/>
                <a:ea typeface="ＭＳ Ｐゴシック"/>
              </a:rPr>
              <a:t>The Secrets</a:t>
            </a:r>
            <a:r>
              <a:rPr b="0" lang="en-US" sz="6400" spc="-1" strike="noStrike">
                <a:solidFill>
                  <a:srgbClr val="1a1919"/>
                </a:solidFill>
                <a:latin typeface="Open Sans Light"/>
                <a:ea typeface="ＭＳ Ｐゴシック"/>
              </a:rPr>
              <a:t> of Our Success Story</a:t>
            </a:r>
            <a:endParaRPr b="0" lang="en-US" sz="6400" spc="-1" strike="noStrike">
              <a:solidFill>
                <a:srgbClr val="000000"/>
              </a:solidFill>
              <a:latin typeface="Gill Sans"/>
            </a:endParaRPr>
          </a:p>
        </p:txBody>
      </p:sp>
      <p:sp>
        <p:nvSpPr>
          <p:cNvPr id="907" name="Rectangle 34"/>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30</a:t>
            </a:r>
            <a:endParaRPr b="0" lang="en-US" sz="2400" spc="-1" strike="noStrike">
              <a:solidFill>
                <a:srgbClr val="000000"/>
              </a:solidFill>
              <a:latin typeface="Gill Sans"/>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8" name="Group 3"/>
          <p:cNvGrpSpPr/>
          <p:nvPr/>
        </p:nvGrpSpPr>
        <p:grpSpPr>
          <a:xfrm>
            <a:off x="1385640" y="819000"/>
            <a:ext cx="5618160" cy="1130040"/>
            <a:chOff x="1385640" y="819000"/>
            <a:chExt cx="5618160" cy="1130040"/>
          </a:xfrm>
        </p:grpSpPr>
        <p:sp>
          <p:nvSpPr>
            <p:cNvPr id="909" name="Rectangle 1"/>
            <p:cNvSpPr/>
            <p:nvPr/>
          </p:nvSpPr>
          <p:spPr>
            <a:xfrm>
              <a:off x="1609200" y="819000"/>
              <a:ext cx="3826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Leaves Diagram</a:t>
              </a:r>
              <a:endParaRPr b="0" lang="en-US" sz="4000" spc="-1" strike="noStrike">
                <a:solidFill>
                  <a:srgbClr val="000000"/>
                </a:solidFill>
                <a:latin typeface="Gill Sans"/>
              </a:endParaRPr>
            </a:p>
          </p:txBody>
        </p:sp>
        <p:sp>
          <p:nvSpPr>
            <p:cNvPr id="910"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911" name="AutoShape 5"/>
          <p:cNvSpPr/>
          <p:nvPr/>
        </p:nvSpPr>
        <p:spPr>
          <a:xfrm>
            <a:off x="2521080" y="7926480"/>
            <a:ext cx="4824360" cy="336240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bcbb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12" name="Rectangle 6"/>
          <p:cNvSpPr/>
          <p:nvPr/>
        </p:nvSpPr>
        <p:spPr>
          <a:xfrm>
            <a:off x="4292640" y="8394840"/>
            <a:ext cx="2019240" cy="1041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efe"/>
                </a:solidFill>
                <a:latin typeface="Open Sans"/>
                <a:ea typeface="ＭＳ Ｐゴシック"/>
              </a:rPr>
              <a:t>Add your </a:t>
            </a:r>
            <a:r>
              <a:rPr b="0" lang="en-US" sz="2700" spc="-1" strike="noStrike">
                <a:solidFill>
                  <a:srgbClr val="fffefe"/>
                </a:solidFill>
                <a:latin typeface="Open Sans Bold"/>
                <a:ea typeface="ＭＳ Ｐゴシック"/>
              </a:rPr>
              <a:t>text here</a:t>
            </a:r>
            <a:endParaRPr b="0" lang="en-US" sz="2700" spc="-1" strike="noStrike">
              <a:solidFill>
                <a:srgbClr val="000000"/>
              </a:solidFill>
              <a:latin typeface="Gill Sans"/>
            </a:endParaRPr>
          </a:p>
        </p:txBody>
      </p:sp>
      <p:sp>
        <p:nvSpPr>
          <p:cNvPr id="913" name="AutoShape 8"/>
          <p:cNvSpPr/>
          <p:nvPr/>
        </p:nvSpPr>
        <p:spPr>
          <a:xfrm>
            <a:off x="5781600" y="7926480"/>
            <a:ext cx="4824360" cy="336240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23cb9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14" name="Rectangle 9"/>
          <p:cNvSpPr/>
          <p:nvPr/>
        </p:nvSpPr>
        <p:spPr>
          <a:xfrm>
            <a:off x="7556400" y="838188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efe"/>
                </a:solidFill>
                <a:latin typeface="Open Sans"/>
                <a:ea typeface="ＭＳ Ｐゴシック"/>
              </a:rPr>
              <a:t>Add your </a:t>
            </a:r>
            <a:r>
              <a:rPr b="0" lang="en-US" sz="2700" spc="-1" strike="noStrike">
                <a:solidFill>
                  <a:srgbClr val="fffefe"/>
                </a:solidFill>
                <a:latin typeface="Open Sans Bold"/>
                <a:ea typeface="ＭＳ Ｐゴシック"/>
              </a:rPr>
              <a:t>text here</a:t>
            </a:r>
            <a:endParaRPr b="0" lang="en-US" sz="2700" spc="-1" strike="noStrike">
              <a:solidFill>
                <a:srgbClr val="000000"/>
              </a:solidFill>
              <a:latin typeface="Gill Sans"/>
            </a:endParaRPr>
          </a:p>
        </p:txBody>
      </p:sp>
      <p:sp>
        <p:nvSpPr>
          <p:cNvPr id="915" name="AutoShape 11"/>
          <p:cNvSpPr/>
          <p:nvPr/>
        </p:nvSpPr>
        <p:spPr>
          <a:xfrm>
            <a:off x="9042480" y="7926480"/>
            <a:ext cx="4824360" cy="336240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1d9d7c"/>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16" name="Rectangle 12"/>
          <p:cNvSpPr/>
          <p:nvPr/>
        </p:nvSpPr>
        <p:spPr>
          <a:xfrm>
            <a:off x="10807560" y="8369280"/>
            <a:ext cx="201960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efe"/>
                </a:solidFill>
                <a:latin typeface="Open Sans"/>
                <a:ea typeface="ＭＳ Ｐゴシック"/>
              </a:rPr>
              <a:t>Add your </a:t>
            </a:r>
            <a:r>
              <a:rPr b="0" lang="en-US" sz="2700" spc="-1" strike="noStrike">
                <a:solidFill>
                  <a:srgbClr val="fffefe"/>
                </a:solidFill>
                <a:latin typeface="Open Sans Bold"/>
                <a:ea typeface="ＭＳ Ｐゴシック"/>
              </a:rPr>
              <a:t>text here</a:t>
            </a:r>
            <a:endParaRPr b="0" lang="en-US" sz="2700" spc="-1" strike="noStrike">
              <a:solidFill>
                <a:srgbClr val="000000"/>
              </a:solidFill>
              <a:latin typeface="Gill Sans"/>
            </a:endParaRPr>
          </a:p>
        </p:txBody>
      </p:sp>
      <p:sp>
        <p:nvSpPr>
          <p:cNvPr id="917" name="Rectangle 13"/>
          <p:cNvSpPr/>
          <p:nvPr/>
        </p:nvSpPr>
        <p:spPr>
          <a:xfrm>
            <a:off x="15492240" y="3600360"/>
            <a:ext cx="6363000" cy="8331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Open Sans Bold"/>
                <a:ea typeface="ＭＳ Ｐゴシック"/>
              </a:rPr>
              <a:t>Our Goal</a:t>
            </a:r>
            <a:r>
              <a:rPr b="0" lang="en-US" sz="4800" spc="-1" strike="noStrike">
                <a:solidFill>
                  <a:srgbClr val="000000"/>
                </a:solidFill>
                <a:latin typeface="Open Sans Light"/>
                <a:ea typeface="ＭＳ Ｐゴシック"/>
              </a:rPr>
              <a:t> is to Create Best Lorem Ipsum in The World</a:t>
            </a:r>
            <a:endParaRPr b="0" lang="en-US" sz="4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a:ea typeface="ＭＳ Ｐゴシック"/>
              </a:rPr>
              <a:t>Nullam quis risus eget urna mollis ornare vel eu leo. Nulla vitae elit libero, a pharetra augue. Praesent commodo cursus magna, vel scelerisque nisl consectetur et. Nullam id dolor id nibh ultricies vehicula ut id elit. Nulla vitae elit libero, a pharetra augue. Nullam quis risus eget urna mollis ornare vel eu leo. Nulla vitae elit libero, a pharetra augue. Praesent commodo cursus magna, vel scelerisque nisl consectetur et. Nullam id dolor id nibh ultricies vehicula ut id elit.</a:t>
            </a:r>
            <a:r>
              <a:rPr b="0" lang="en-US" sz="2800" spc="-1" strike="noStrike">
                <a:solidFill>
                  <a:srgbClr val="1a1919"/>
                </a:solidFill>
                <a:latin typeface="Open Sans"/>
                <a:ea typeface="ＭＳ Ｐゴシック"/>
              </a:rPr>
              <a:t> </a:t>
            </a:r>
            <a:endParaRPr b="0" lang="en-US" sz="2800" spc="-1" strike="noStrike">
              <a:solidFill>
                <a:srgbClr val="000000"/>
              </a:solidFill>
              <a:latin typeface="Gill Sans"/>
            </a:endParaRPr>
          </a:p>
        </p:txBody>
      </p:sp>
      <p:sp>
        <p:nvSpPr>
          <p:cNvPr id="918" name="Rectangle 14"/>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31</a:t>
            </a:r>
            <a:endParaRPr b="0" lang="en-US" sz="2400" spc="-1" strike="noStrike">
              <a:solidFill>
                <a:srgbClr val="000000"/>
              </a:solidFill>
              <a:latin typeface="Gill Sans"/>
            </a:endParaRPr>
          </a:p>
        </p:txBody>
      </p:sp>
      <p:sp>
        <p:nvSpPr>
          <p:cNvPr id="919" name="AutoShape 5"/>
          <p:cNvSpPr/>
          <p:nvPr/>
        </p:nvSpPr>
        <p:spPr>
          <a:xfrm flipV="1">
            <a:off x="2522520" y="4561920"/>
            <a:ext cx="4824360" cy="336204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f7f7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20" name="AutoShape 8"/>
          <p:cNvSpPr/>
          <p:nvPr/>
        </p:nvSpPr>
        <p:spPr>
          <a:xfrm flipV="1">
            <a:off x="5783400" y="4561920"/>
            <a:ext cx="4824360" cy="336204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f7f7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21" name="AutoShape 11"/>
          <p:cNvSpPr/>
          <p:nvPr/>
        </p:nvSpPr>
        <p:spPr>
          <a:xfrm flipV="1">
            <a:off x="9043920" y="4561920"/>
            <a:ext cx="4824360" cy="336204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f7f7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2" name="Group 3"/>
          <p:cNvGrpSpPr/>
          <p:nvPr/>
        </p:nvGrpSpPr>
        <p:grpSpPr>
          <a:xfrm>
            <a:off x="1385640" y="819000"/>
            <a:ext cx="5618160" cy="1130040"/>
            <a:chOff x="1385640" y="819000"/>
            <a:chExt cx="5618160" cy="1130040"/>
          </a:xfrm>
        </p:grpSpPr>
        <p:sp>
          <p:nvSpPr>
            <p:cNvPr id="923" name="Rectangle 1"/>
            <p:cNvSpPr/>
            <p:nvPr/>
          </p:nvSpPr>
          <p:spPr>
            <a:xfrm>
              <a:off x="1609200" y="819000"/>
              <a:ext cx="3826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Leaves Diagram</a:t>
              </a:r>
              <a:endParaRPr b="0" lang="en-US" sz="4000" spc="-1" strike="noStrike">
                <a:solidFill>
                  <a:srgbClr val="000000"/>
                </a:solidFill>
                <a:latin typeface="Gill Sans"/>
              </a:endParaRPr>
            </a:p>
          </p:txBody>
        </p:sp>
        <p:sp>
          <p:nvSpPr>
            <p:cNvPr id="924"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925" name="AutoShape 5"/>
          <p:cNvSpPr/>
          <p:nvPr/>
        </p:nvSpPr>
        <p:spPr>
          <a:xfrm>
            <a:off x="5200560" y="7367760"/>
            <a:ext cx="4824360" cy="336204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bcbb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26" name="Rectangle 6"/>
          <p:cNvSpPr/>
          <p:nvPr/>
        </p:nvSpPr>
        <p:spPr>
          <a:xfrm>
            <a:off x="6972480" y="783576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efe"/>
                </a:solidFill>
                <a:latin typeface="Open Sans"/>
                <a:ea typeface="ＭＳ Ｐゴシック"/>
              </a:rPr>
              <a:t>Add your </a:t>
            </a:r>
            <a:r>
              <a:rPr b="0" lang="en-US" sz="2700" spc="-1" strike="noStrike">
                <a:solidFill>
                  <a:srgbClr val="fffefe"/>
                </a:solidFill>
                <a:latin typeface="Open Sans Bold"/>
                <a:ea typeface="ＭＳ Ｐゴシック"/>
              </a:rPr>
              <a:t>text here</a:t>
            </a:r>
            <a:endParaRPr b="0" lang="en-US" sz="2700" spc="-1" strike="noStrike">
              <a:solidFill>
                <a:srgbClr val="000000"/>
              </a:solidFill>
              <a:latin typeface="Gill Sans"/>
            </a:endParaRPr>
          </a:p>
        </p:txBody>
      </p:sp>
      <p:sp>
        <p:nvSpPr>
          <p:cNvPr id="927" name="AutoShape 8"/>
          <p:cNvSpPr/>
          <p:nvPr/>
        </p:nvSpPr>
        <p:spPr>
          <a:xfrm>
            <a:off x="8461440" y="7367760"/>
            <a:ext cx="4824360" cy="336204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23cb9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28" name="Rectangle 9"/>
          <p:cNvSpPr/>
          <p:nvPr/>
        </p:nvSpPr>
        <p:spPr>
          <a:xfrm>
            <a:off x="10236240" y="782316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efe"/>
                </a:solidFill>
                <a:latin typeface="Open Sans"/>
                <a:ea typeface="ＭＳ Ｐゴシック"/>
              </a:rPr>
              <a:t>Add your </a:t>
            </a:r>
            <a:r>
              <a:rPr b="0" lang="en-US" sz="2700" spc="-1" strike="noStrike">
                <a:solidFill>
                  <a:srgbClr val="fffefe"/>
                </a:solidFill>
                <a:latin typeface="Open Sans Bold"/>
                <a:ea typeface="ＭＳ Ｐゴシック"/>
              </a:rPr>
              <a:t>text here</a:t>
            </a:r>
            <a:endParaRPr b="0" lang="en-US" sz="2700" spc="-1" strike="noStrike">
              <a:solidFill>
                <a:srgbClr val="000000"/>
              </a:solidFill>
              <a:latin typeface="Gill Sans"/>
            </a:endParaRPr>
          </a:p>
        </p:txBody>
      </p:sp>
      <p:sp>
        <p:nvSpPr>
          <p:cNvPr id="929" name="AutoShape 11"/>
          <p:cNvSpPr/>
          <p:nvPr/>
        </p:nvSpPr>
        <p:spPr>
          <a:xfrm>
            <a:off x="11721960" y="7367760"/>
            <a:ext cx="4824720" cy="336204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1d9d7c"/>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30" name="Rectangle 12"/>
          <p:cNvSpPr/>
          <p:nvPr/>
        </p:nvSpPr>
        <p:spPr>
          <a:xfrm>
            <a:off x="13487400" y="781056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efe"/>
                </a:solidFill>
                <a:latin typeface="Open Sans"/>
                <a:ea typeface="ＭＳ Ｐゴシック"/>
              </a:rPr>
              <a:t>Add your </a:t>
            </a:r>
            <a:r>
              <a:rPr b="0" lang="en-US" sz="2700" spc="-1" strike="noStrike">
                <a:solidFill>
                  <a:srgbClr val="fffefe"/>
                </a:solidFill>
                <a:latin typeface="Open Sans Bold"/>
                <a:ea typeface="ＭＳ Ｐゴシック"/>
              </a:rPr>
              <a:t>text here</a:t>
            </a:r>
            <a:endParaRPr b="0" lang="en-US" sz="2700" spc="-1" strike="noStrike">
              <a:solidFill>
                <a:srgbClr val="000000"/>
              </a:solidFill>
              <a:latin typeface="Gill Sans"/>
            </a:endParaRPr>
          </a:p>
        </p:txBody>
      </p:sp>
      <p:sp>
        <p:nvSpPr>
          <p:cNvPr id="931" name="AutoShape 14"/>
          <p:cNvSpPr/>
          <p:nvPr/>
        </p:nvSpPr>
        <p:spPr>
          <a:xfrm>
            <a:off x="1941480" y="7378560"/>
            <a:ext cx="4826160" cy="336240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b8bbc5"/>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32" name="Rectangle 15"/>
          <p:cNvSpPr/>
          <p:nvPr/>
        </p:nvSpPr>
        <p:spPr>
          <a:xfrm>
            <a:off x="3720960" y="7835760"/>
            <a:ext cx="201960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efe"/>
                </a:solidFill>
                <a:latin typeface="Open Sans"/>
                <a:ea typeface="ＭＳ Ｐゴシック"/>
              </a:rPr>
              <a:t>Add your </a:t>
            </a:r>
            <a:r>
              <a:rPr b="0" lang="en-US" sz="2700" spc="-1" strike="noStrike">
                <a:solidFill>
                  <a:srgbClr val="fffefe"/>
                </a:solidFill>
                <a:latin typeface="Open Sans Bold"/>
                <a:ea typeface="ＭＳ Ｐゴシック"/>
              </a:rPr>
              <a:t>text here</a:t>
            </a:r>
            <a:endParaRPr b="0" lang="en-US" sz="2700" spc="-1" strike="noStrike">
              <a:solidFill>
                <a:srgbClr val="000000"/>
              </a:solidFill>
              <a:latin typeface="Gill Sans"/>
            </a:endParaRPr>
          </a:p>
        </p:txBody>
      </p:sp>
      <p:grpSp>
        <p:nvGrpSpPr>
          <p:cNvPr id="933" name="Group 18"/>
          <p:cNvGrpSpPr/>
          <p:nvPr/>
        </p:nvGrpSpPr>
        <p:grpSpPr>
          <a:xfrm>
            <a:off x="17488080" y="4889520"/>
            <a:ext cx="4952880" cy="4952880"/>
            <a:chOff x="17488080" y="4889520"/>
            <a:chExt cx="4952880" cy="4952880"/>
          </a:xfrm>
        </p:grpSpPr>
        <p:sp>
          <p:nvSpPr>
            <p:cNvPr id="934" name="Oval 16"/>
            <p:cNvSpPr/>
            <p:nvPr/>
          </p:nvSpPr>
          <p:spPr>
            <a:xfrm>
              <a:off x="17645400" y="5049720"/>
              <a:ext cx="4643280" cy="4649760"/>
            </a:xfrm>
            <a:prstGeom prst="ellipse">
              <a:avLst/>
            </a:prstGeom>
            <a:solidFill>
              <a:srgbClr val="23cb9e"/>
            </a:solidFill>
            <a:ln w="25560">
              <a:solidFill>
                <a:srgbClr val="1d9d7c"/>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efefe"/>
                  </a:solidFill>
                  <a:latin typeface="Open Sans"/>
                  <a:ea typeface="ＭＳ Ｐゴシック"/>
                </a:rPr>
                <a:t>GOAL</a:t>
              </a:r>
              <a:endParaRPr b="0" lang="en-US" sz="4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efefe"/>
                  </a:solidFill>
                  <a:latin typeface="Open Sans"/>
                  <a:ea typeface="ＭＳ Ｐゴシック"/>
                </a:rPr>
                <a:t>Add your </a:t>
              </a:r>
              <a:r>
                <a:rPr b="0" lang="en-US" sz="2700" spc="-1" strike="noStrike">
                  <a:solidFill>
                    <a:srgbClr val="fefefe"/>
                  </a:solidFill>
                  <a:latin typeface="Open Sans Bold"/>
                  <a:ea typeface="ＭＳ Ｐゴシック"/>
                </a:rPr>
                <a:t>text here</a:t>
              </a:r>
              <a:endParaRPr b="0" lang="en-US" sz="2700" spc="-1" strike="noStrike">
                <a:solidFill>
                  <a:srgbClr val="000000"/>
                </a:solidFill>
                <a:latin typeface="Gill Sans"/>
              </a:endParaRPr>
            </a:p>
          </p:txBody>
        </p:sp>
        <p:sp>
          <p:nvSpPr>
            <p:cNvPr id="935" name="Oval 17"/>
            <p:cNvSpPr/>
            <p:nvPr/>
          </p:nvSpPr>
          <p:spPr>
            <a:xfrm>
              <a:off x="17488080" y="4889520"/>
              <a:ext cx="4952880" cy="4952880"/>
            </a:xfrm>
            <a:prstGeom prst="ellipse">
              <a:avLst/>
            </a:prstGeom>
            <a:noFill/>
            <a:ln w="25560">
              <a:solidFill>
                <a:srgbClr val="cdcc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936" name="AutoShape 19"/>
          <p:cNvSpPr/>
          <p:nvPr/>
        </p:nvSpPr>
        <p:spPr>
          <a:xfrm>
            <a:off x="19342080" y="6083280"/>
            <a:ext cx="1231920" cy="889200"/>
          </a:xfrm>
          <a:custGeom>
            <a:avLst/>
            <a:gdLst/>
            <a:ahLst/>
            <a:rect l="l" t="t" r="r" b="b"/>
            <a:pathLst>
              <a:path w="21600" h="21600">
                <a:moveTo>
                  <a:pt x="16538" y="19721"/>
                </a:moveTo>
                <a:lnTo>
                  <a:pt x="16538" y="19722"/>
                </a:lnTo>
                <a:lnTo>
                  <a:pt x="4388" y="19722"/>
                </a:lnTo>
                <a:cubicBezTo>
                  <a:pt x="2713" y="19721"/>
                  <a:pt x="1350" y="17825"/>
                  <a:pt x="1350" y="15495"/>
                </a:cubicBezTo>
                <a:cubicBezTo>
                  <a:pt x="1350" y="13992"/>
                  <a:pt x="1919" y="12635"/>
                  <a:pt x="2872" y="11863"/>
                </a:cubicBezTo>
                <a:cubicBezTo>
                  <a:pt x="3797" y="11123"/>
                  <a:pt x="3861" y="10976"/>
                  <a:pt x="3472" y="9648"/>
                </a:cubicBezTo>
                <a:cubicBezTo>
                  <a:pt x="3407" y="9374"/>
                  <a:pt x="3375" y="9137"/>
                  <a:pt x="3375" y="8922"/>
                </a:cubicBezTo>
                <a:cubicBezTo>
                  <a:pt x="3375" y="7627"/>
                  <a:pt x="4132" y="6574"/>
                  <a:pt x="5063" y="6574"/>
                </a:cubicBezTo>
                <a:cubicBezTo>
                  <a:pt x="5063" y="6574"/>
                  <a:pt x="5505" y="6530"/>
                  <a:pt x="5976" y="6790"/>
                </a:cubicBezTo>
                <a:cubicBezTo>
                  <a:pt x="6750" y="7219"/>
                  <a:pt x="6835" y="6809"/>
                  <a:pt x="7201" y="5702"/>
                </a:cubicBezTo>
                <a:cubicBezTo>
                  <a:pt x="7974" y="3380"/>
                  <a:pt x="9652" y="1878"/>
                  <a:pt x="11475" y="1878"/>
                </a:cubicBezTo>
                <a:cubicBezTo>
                  <a:pt x="13905" y="1878"/>
                  <a:pt x="15914" y="4436"/>
                  <a:pt x="16148" y="7827"/>
                </a:cubicBezTo>
                <a:cubicBezTo>
                  <a:pt x="16232" y="9172"/>
                  <a:pt x="16232" y="9172"/>
                  <a:pt x="17239" y="9492"/>
                </a:cubicBezTo>
                <a:cubicBezTo>
                  <a:pt x="18984" y="9956"/>
                  <a:pt x="20251" y="12086"/>
                  <a:pt x="20251" y="14556"/>
                </a:cubicBezTo>
                <a:cubicBezTo>
                  <a:pt x="20251" y="17404"/>
                  <a:pt x="18585" y="19721"/>
                  <a:pt x="16538" y="19721"/>
                </a:cubicBezTo>
                <a:moveTo>
                  <a:pt x="17492" y="7647"/>
                </a:moveTo>
                <a:cubicBezTo>
                  <a:pt x="17197" y="3362"/>
                  <a:pt x="14632" y="0"/>
                  <a:pt x="11475" y="0"/>
                </a:cubicBezTo>
                <a:cubicBezTo>
                  <a:pt x="9032" y="0"/>
                  <a:pt x="6940" y="2017"/>
                  <a:pt x="5976" y="4912"/>
                </a:cubicBezTo>
                <a:cubicBezTo>
                  <a:pt x="5686" y="4784"/>
                  <a:pt x="5384" y="4696"/>
                  <a:pt x="5063" y="4696"/>
                </a:cubicBezTo>
                <a:cubicBezTo>
                  <a:pt x="3385" y="4696"/>
                  <a:pt x="2025" y="6589"/>
                  <a:pt x="2025" y="8922"/>
                </a:cubicBezTo>
                <a:cubicBezTo>
                  <a:pt x="2025" y="9386"/>
                  <a:pt x="2092" y="9824"/>
                  <a:pt x="2191" y="10241"/>
                </a:cubicBezTo>
                <a:cubicBezTo>
                  <a:pt x="886" y="11299"/>
                  <a:pt x="0" y="13243"/>
                  <a:pt x="0" y="15495"/>
                </a:cubicBezTo>
                <a:cubicBezTo>
                  <a:pt x="0" y="18866"/>
                  <a:pt x="1964" y="21599"/>
                  <a:pt x="4388" y="21599"/>
                </a:cubicBezTo>
                <a:lnTo>
                  <a:pt x="4388" y="21600"/>
                </a:lnTo>
                <a:lnTo>
                  <a:pt x="16538" y="21600"/>
                </a:lnTo>
                <a:lnTo>
                  <a:pt x="16538" y="21599"/>
                </a:lnTo>
                <a:cubicBezTo>
                  <a:pt x="19335" y="21599"/>
                  <a:pt x="21600" y="18446"/>
                  <a:pt x="21600" y="14556"/>
                </a:cubicBezTo>
                <a:cubicBezTo>
                  <a:pt x="21600" y="11121"/>
                  <a:pt x="19831" y="8269"/>
                  <a:pt x="17492" y="7647"/>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37" name="Rectangle 20"/>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32</a:t>
            </a:r>
            <a:endParaRPr b="0" lang="en-US" sz="2400" spc="-1" strike="noStrike">
              <a:solidFill>
                <a:srgbClr val="000000"/>
              </a:solidFill>
              <a:latin typeface="Gill Sans"/>
            </a:endParaRPr>
          </a:p>
        </p:txBody>
      </p:sp>
      <p:sp>
        <p:nvSpPr>
          <p:cNvPr id="938" name="AutoShape 5"/>
          <p:cNvSpPr/>
          <p:nvPr/>
        </p:nvSpPr>
        <p:spPr>
          <a:xfrm flipH="1">
            <a:off x="5212800" y="4017960"/>
            <a:ext cx="4824360" cy="336240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f7f7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39" name="AutoShape 8"/>
          <p:cNvSpPr/>
          <p:nvPr/>
        </p:nvSpPr>
        <p:spPr>
          <a:xfrm flipH="1">
            <a:off x="8473320" y="4021200"/>
            <a:ext cx="4824360" cy="336240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f7f7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40" name="AutoShape 11"/>
          <p:cNvSpPr/>
          <p:nvPr/>
        </p:nvSpPr>
        <p:spPr>
          <a:xfrm flipH="1">
            <a:off x="11734200" y="4025880"/>
            <a:ext cx="4824360" cy="336240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f7f7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41" name="AutoShape 14"/>
          <p:cNvSpPr/>
          <p:nvPr/>
        </p:nvSpPr>
        <p:spPr>
          <a:xfrm flipH="1">
            <a:off x="1954080" y="4029120"/>
            <a:ext cx="4826160" cy="336240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f7f7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Oval 1"/>
          <p:cNvSpPr/>
          <p:nvPr/>
        </p:nvSpPr>
        <p:spPr>
          <a:xfrm>
            <a:off x="2616120" y="4419720"/>
            <a:ext cx="6642360" cy="6642000"/>
          </a:xfrm>
          <a:prstGeom prst="ellipse">
            <a:avLst/>
          </a:prstGeom>
          <a:noFill/>
          <a:ln w="25560">
            <a:solidFill>
              <a:srgbClr val="cdcc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nvGrpSpPr>
          <p:cNvPr id="943" name="Group 4"/>
          <p:cNvGrpSpPr/>
          <p:nvPr/>
        </p:nvGrpSpPr>
        <p:grpSpPr>
          <a:xfrm>
            <a:off x="1385640" y="819000"/>
            <a:ext cx="5618160" cy="1130040"/>
            <a:chOff x="1385640" y="819000"/>
            <a:chExt cx="5618160" cy="1130040"/>
          </a:xfrm>
        </p:grpSpPr>
        <p:sp>
          <p:nvSpPr>
            <p:cNvPr id="944" name="Rectangle 2"/>
            <p:cNvSpPr/>
            <p:nvPr/>
          </p:nvSpPr>
          <p:spPr>
            <a:xfrm>
              <a:off x="1609200" y="819000"/>
              <a:ext cx="3826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Leaves Diagram</a:t>
              </a:r>
              <a:endParaRPr b="0" lang="en-US" sz="4000" spc="-1" strike="noStrike">
                <a:solidFill>
                  <a:srgbClr val="000000"/>
                </a:solidFill>
                <a:latin typeface="Gill Sans"/>
              </a:endParaRPr>
            </a:p>
          </p:txBody>
        </p:sp>
        <p:sp>
          <p:nvSpPr>
            <p:cNvPr id="945" name="Rectangle 3"/>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946" name="Rectangle 5"/>
          <p:cNvSpPr/>
          <p:nvPr/>
        </p:nvSpPr>
        <p:spPr>
          <a:xfrm>
            <a:off x="15492240" y="3600360"/>
            <a:ext cx="6363000" cy="8331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Open Sans Bold"/>
                <a:ea typeface="ＭＳ Ｐゴシック"/>
              </a:rPr>
              <a:t>Our Goal</a:t>
            </a:r>
            <a:r>
              <a:rPr b="0" lang="en-US" sz="4800" spc="-1" strike="noStrike">
                <a:solidFill>
                  <a:srgbClr val="000000"/>
                </a:solidFill>
                <a:latin typeface="Open Sans Light"/>
                <a:ea typeface="ＭＳ Ｐゴシック"/>
              </a:rPr>
              <a:t> is to Create Best Lorem Ipsum in The World</a:t>
            </a:r>
            <a:endParaRPr b="0" lang="en-US" sz="4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a:ea typeface="ＭＳ Ｐゴシック"/>
              </a:rPr>
              <a:t>Nullam quis risus eget urna mollis ornare vel eu leo. Nulla vitae elit libero, a pharetra augue. Praesent commodo cursus magna, vel scelerisque nisl consectetur et. Nullam id dolor id nibh ultricies vehicula ut id elit. Nulla vitae elit libero, a pharetra augue. Nullam quis risus eget urna mollis ornare vel eu leo. Nulla vitae elit libero, a pharetra augue. Praesent commodo cursus magna, vel scelerisque nisl consectetur et. Nullam id dolor id nibh ultricies vehicula ut id elit.</a:t>
            </a:r>
            <a:r>
              <a:rPr b="0" lang="en-US" sz="2800" spc="-1" strike="noStrike">
                <a:solidFill>
                  <a:srgbClr val="1a1919"/>
                </a:solidFill>
                <a:latin typeface="Open Sans"/>
                <a:ea typeface="ＭＳ Ｐゴシック"/>
              </a:rPr>
              <a:t> </a:t>
            </a:r>
            <a:endParaRPr b="0" lang="en-US" sz="2800" spc="-1" strike="noStrike">
              <a:solidFill>
                <a:srgbClr val="000000"/>
              </a:solidFill>
              <a:latin typeface="Gill Sans"/>
            </a:endParaRPr>
          </a:p>
        </p:txBody>
      </p:sp>
      <p:sp>
        <p:nvSpPr>
          <p:cNvPr id="947" name="Oval 6"/>
          <p:cNvSpPr/>
          <p:nvPr/>
        </p:nvSpPr>
        <p:spPr>
          <a:xfrm>
            <a:off x="2832120" y="4633920"/>
            <a:ext cx="6226200" cy="6235560"/>
          </a:xfrm>
          <a:prstGeom prst="ellipse">
            <a:avLst/>
          </a:prstGeom>
          <a:solidFill>
            <a:srgbClr val="1d9d7c"/>
          </a:solidFill>
          <a:ln w="25560">
            <a:solidFill>
              <a:srgbClr val="1d9d7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48" name="Oval 7"/>
          <p:cNvSpPr/>
          <p:nvPr/>
        </p:nvSpPr>
        <p:spPr>
          <a:xfrm>
            <a:off x="6815160" y="4633920"/>
            <a:ext cx="6226200" cy="6235560"/>
          </a:xfrm>
          <a:prstGeom prst="ellipse">
            <a:avLst/>
          </a:prstGeom>
          <a:solidFill>
            <a:srgbClr val="23cb9e">
              <a:alpha val="50000"/>
            </a:srgbClr>
          </a:solidFill>
          <a:ln w="25560">
            <a:solidFill>
              <a:srgbClr val="23cb9e">
                <a:alpha val="5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49" name="Rectangle 8"/>
          <p:cNvSpPr/>
          <p:nvPr/>
        </p:nvSpPr>
        <p:spPr>
          <a:xfrm>
            <a:off x="9931320" y="826776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a1919"/>
                </a:solidFill>
                <a:latin typeface="Open Sans Bold"/>
                <a:ea typeface="ＭＳ Ｐゴシック"/>
              </a:rPr>
              <a:t>Add your </a:t>
            </a:r>
            <a:r>
              <a:rPr b="0" lang="en-US" sz="2700" spc="-1" strike="noStrike">
                <a:solidFill>
                  <a:srgbClr val="1a1919"/>
                </a:solidFill>
                <a:latin typeface="Open Sans"/>
                <a:ea typeface="ＭＳ Ｐゴシック"/>
              </a:rPr>
              <a:t>text here</a:t>
            </a:r>
            <a:endParaRPr b="0" lang="en-US" sz="2700" spc="-1" strike="noStrike">
              <a:solidFill>
                <a:srgbClr val="000000"/>
              </a:solidFill>
              <a:latin typeface="Gill Sans"/>
            </a:endParaRPr>
          </a:p>
        </p:txBody>
      </p:sp>
      <p:sp>
        <p:nvSpPr>
          <p:cNvPr id="950" name="Rectangle 9"/>
          <p:cNvSpPr/>
          <p:nvPr/>
        </p:nvSpPr>
        <p:spPr>
          <a:xfrm>
            <a:off x="3873600" y="826776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efe"/>
                </a:solidFill>
                <a:latin typeface="Open Sans Bold"/>
                <a:ea typeface="ＭＳ Ｐゴシック"/>
              </a:rPr>
              <a:t>Add your </a:t>
            </a:r>
            <a:r>
              <a:rPr b="0" lang="en-US" sz="2700" spc="-1" strike="noStrike">
                <a:solidFill>
                  <a:srgbClr val="fffefe"/>
                </a:solidFill>
                <a:latin typeface="Open Sans"/>
                <a:ea typeface="ＭＳ Ｐゴシック"/>
              </a:rPr>
              <a:t>text here</a:t>
            </a:r>
            <a:endParaRPr b="0" lang="en-US" sz="2700" spc="-1" strike="noStrike">
              <a:solidFill>
                <a:srgbClr val="000000"/>
              </a:solidFill>
              <a:latin typeface="Gill Sans"/>
            </a:endParaRPr>
          </a:p>
        </p:txBody>
      </p:sp>
      <p:sp>
        <p:nvSpPr>
          <p:cNvPr id="951" name="Rectangle 10"/>
          <p:cNvSpPr/>
          <p:nvPr/>
        </p:nvSpPr>
        <p:spPr>
          <a:xfrm>
            <a:off x="6934320" y="722628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efe"/>
                </a:solidFill>
                <a:latin typeface="Open Sans Bold"/>
                <a:ea typeface="ＭＳ Ｐゴシック"/>
              </a:rPr>
              <a:t>Add your </a:t>
            </a:r>
            <a:r>
              <a:rPr b="0" lang="en-US" sz="2700" spc="-1" strike="noStrike">
                <a:solidFill>
                  <a:srgbClr val="fffefe"/>
                </a:solidFill>
                <a:latin typeface="Open Sans"/>
                <a:ea typeface="ＭＳ Ｐゴシック"/>
              </a:rPr>
              <a:t>text here</a:t>
            </a:r>
            <a:endParaRPr b="0" lang="en-US" sz="2700" spc="-1" strike="noStrike">
              <a:solidFill>
                <a:srgbClr val="000000"/>
              </a:solidFill>
              <a:latin typeface="Gill Sans"/>
            </a:endParaRPr>
          </a:p>
        </p:txBody>
      </p:sp>
      <p:sp>
        <p:nvSpPr>
          <p:cNvPr id="952" name="Oval 11"/>
          <p:cNvSpPr/>
          <p:nvPr/>
        </p:nvSpPr>
        <p:spPr>
          <a:xfrm>
            <a:off x="6603840" y="4419720"/>
            <a:ext cx="6642360" cy="6642000"/>
          </a:xfrm>
          <a:prstGeom prst="ellipse">
            <a:avLst/>
          </a:prstGeom>
          <a:noFill/>
          <a:ln w="25560">
            <a:solidFill>
              <a:srgbClr val="cdcc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nvGrpSpPr>
          <p:cNvPr id="953" name="Group 14"/>
          <p:cNvGrpSpPr/>
          <p:nvPr/>
        </p:nvGrpSpPr>
        <p:grpSpPr>
          <a:xfrm>
            <a:off x="4051440" y="6248520"/>
            <a:ext cx="1841400" cy="1612440"/>
            <a:chOff x="4051440" y="6248520"/>
            <a:chExt cx="1841400" cy="1612440"/>
          </a:xfrm>
        </p:grpSpPr>
        <p:sp>
          <p:nvSpPr>
            <p:cNvPr id="954" name="AutoShape 12"/>
            <p:cNvSpPr/>
            <p:nvPr/>
          </p:nvSpPr>
          <p:spPr>
            <a:xfrm>
              <a:off x="4338720" y="6535800"/>
              <a:ext cx="662040" cy="432360"/>
            </a:xfrm>
            <a:custGeom>
              <a:avLst/>
              <a:gdLst/>
              <a:ahLst/>
              <a:rect l="l" t="t" r="r" b="b"/>
              <a:pathLst>
                <a:path w="21600" h="21600">
                  <a:moveTo>
                    <a:pt x="20661" y="0"/>
                  </a:moveTo>
                  <a:cubicBezTo>
                    <a:pt x="9461" y="0"/>
                    <a:pt x="0" y="9233"/>
                    <a:pt x="0" y="20160"/>
                  </a:cubicBezTo>
                  <a:cubicBezTo>
                    <a:pt x="0" y="20955"/>
                    <a:pt x="421" y="21600"/>
                    <a:pt x="939" y="21600"/>
                  </a:cubicBezTo>
                  <a:cubicBezTo>
                    <a:pt x="1457" y="21600"/>
                    <a:pt x="1878" y="20955"/>
                    <a:pt x="1878" y="20160"/>
                  </a:cubicBezTo>
                  <a:cubicBezTo>
                    <a:pt x="1878" y="10956"/>
                    <a:pt x="10655" y="2880"/>
                    <a:pt x="20661" y="2880"/>
                  </a:cubicBezTo>
                  <a:cubicBezTo>
                    <a:pt x="21179" y="2880"/>
                    <a:pt x="21600" y="2235"/>
                    <a:pt x="21600" y="1440"/>
                  </a:cubicBezTo>
                  <a:cubicBezTo>
                    <a:pt x="21600" y="645"/>
                    <a:pt x="21179" y="0"/>
                    <a:pt x="20661" y="0"/>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55" name="AutoShape 13"/>
            <p:cNvSpPr/>
            <p:nvPr/>
          </p:nvSpPr>
          <p:spPr>
            <a:xfrm>
              <a:off x="4051440" y="6248520"/>
              <a:ext cx="1841400" cy="1612440"/>
            </a:xfrm>
            <a:custGeom>
              <a:avLst/>
              <a:gdLst/>
              <a:ahLst/>
              <a:rect l="l" t="t" r="r" b="b"/>
              <a:pathLst>
                <a:path w="21600" h="21600">
                  <a:moveTo>
                    <a:pt x="10800" y="16971"/>
                  </a:moveTo>
                  <a:cubicBezTo>
                    <a:pt x="10181" y="16971"/>
                    <a:pt x="9547" y="16918"/>
                    <a:pt x="8913" y="16812"/>
                  </a:cubicBezTo>
                  <a:cubicBezTo>
                    <a:pt x="8847" y="16800"/>
                    <a:pt x="8782" y="16795"/>
                    <a:pt x="8717" y="16795"/>
                  </a:cubicBezTo>
                  <a:cubicBezTo>
                    <a:pt x="8316" y="16795"/>
                    <a:pt x="7932" y="16999"/>
                    <a:pt x="7674" y="17359"/>
                  </a:cubicBezTo>
                  <a:cubicBezTo>
                    <a:pt x="7384" y="17762"/>
                    <a:pt x="6563" y="18657"/>
                    <a:pt x="5591" y="19318"/>
                  </a:cubicBezTo>
                  <a:cubicBezTo>
                    <a:pt x="5854" y="18628"/>
                    <a:pt x="6061" y="17854"/>
                    <a:pt x="6074" y="17056"/>
                  </a:cubicBezTo>
                  <a:cubicBezTo>
                    <a:pt x="6078" y="17007"/>
                    <a:pt x="6080" y="16957"/>
                    <a:pt x="6080" y="16914"/>
                  </a:cubicBezTo>
                  <a:cubicBezTo>
                    <a:pt x="6080" y="16335"/>
                    <a:pt x="5796" y="15803"/>
                    <a:pt x="5345" y="15540"/>
                  </a:cubicBezTo>
                  <a:cubicBezTo>
                    <a:pt x="2843" y="14080"/>
                    <a:pt x="1350" y="11731"/>
                    <a:pt x="1350" y="9257"/>
                  </a:cubicBezTo>
                  <a:cubicBezTo>
                    <a:pt x="1350" y="5003"/>
                    <a:pt x="5589" y="1543"/>
                    <a:pt x="10800" y="1543"/>
                  </a:cubicBezTo>
                  <a:cubicBezTo>
                    <a:pt x="16011" y="1543"/>
                    <a:pt x="20250" y="5003"/>
                    <a:pt x="20250" y="9257"/>
                  </a:cubicBezTo>
                  <a:cubicBezTo>
                    <a:pt x="20250" y="13511"/>
                    <a:pt x="16011" y="16971"/>
                    <a:pt x="10800" y="16971"/>
                  </a:cubicBezTo>
                  <a:moveTo>
                    <a:pt x="10800" y="0"/>
                  </a:moveTo>
                  <a:cubicBezTo>
                    <a:pt x="4835" y="0"/>
                    <a:pt x="0" y="4145"/>
                    <a:pt x="0" y="9257"/>
                  </a:cubicBezTo>
                  <a:cubicBezTo>
                    <a:pt x="0" y="12441"/>
                    <a:pt x="1876" y="15248"/>
                    <a:pt x="4730" y="16914"/>
                  </a:cubicBezTo>
                  <a:cubicBezTo>
                    <a:pt x="4730" y="16935"/>
                    <a:pt x="4725" y="16949"/>
                    <a:pt x="4725" y="16971"/>
                  </a:cubicBezTo>
                  <a:cubicBezTo>
                    <a:pt x="4725" y="18355"/>
                    <a:pt x="3821" y="19843"/>
                    <a:pt x="3423" y="20625"/>
                  </a:cubicBezTo>
                  <a:lnTo>
                    <a:pt x="3425" y="20625"/>
                  </a:lnTo>
                  <a:cubicBezTo>
                    <a:pt x="3393" y="20710"/>
                    <a:pt x="3375" y="20803"/>
                    <a:pt x="3375" y="20901"/>
                  </a:cubicBezTo>
                  <a:cubicBezTo>
                    <a:pt x="3375" y="21287"/>
                    <a:pt x="3648" y="21600"/>
                    <a:pt x="3986" y="21600"/>
                  </a:cubicBezTo>
                  <a:cubicBezTo>
                    <a:pt x="4050" y="21600"/>
                    <a:pt x="4161" y="21580"/>
                    <a:pt x="4159" y="21590"/>
                  </a:cubicBezTo>
                  <a:cubicBezTo>
                    <a:pt x="6268" y="21195"/>
                    <a:pt x="8255" y="18980"/>
                    <a:pt x="8717" y="18338"/>
                  </a:cubicBezTo>
                  <a:cubicBezTo>
                    <a:pt x="9391" y="18451"/>
                    <a:pt x="10086" y="18514"/>
                    <a:pt x="10800" y="18514"/>
                  </a:cubicBezTo>
                  <a:cubicBezTo>
                    <a:pt x="16764" y="18514"/>
                    <a:pt x="21600" y="14369"/>
                    <a:pt x="21600" y="9257"/>
                  </a:cubicBezTo>
                  <a:cubicBezTo>
                    <a:pt x="21600" y="4145"/>
                    <a:pt x="16764" y="0"/>
                    <a:pt x="10800" y="0"/>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956" name="AutoShape 15"/>
          <p:cNvSpPr/>
          <p:nvPr/>
        </p:nvSpPr>
        <p:spPr>
          <a:xfrm>
            <a:off x="10020240" y="6248520"/>
            <a:ext cx="1612800" cy="1612800"/>
          </a:xfrm>
          <a:custGeom>
            <a:avLst/>
            <a:gdLst/>
            <a:ahLst/>
            <a:rect l="l" t="t" r="r" b="b"/>
            <a:pathLst>
              <a:path w="21543" h="21600">
                <a:moveTo>
                  <a:pt x="16976" y="19986"/>
                </a:moveTo>
                <a:lnTo>
                  <a:pt x="11226" y="17681"/>
                </a:lnTo>
                <a:cubicBezTo>
                  <a:pt x="11089" y="17626"/>
                  <a:pt x="10947" y="17608"/>
                  <a:pt x="10806" y="17600"/>
                </a:cubicBezTo>
                <a:lnTo>
                  <a:pt x="19660" y="3838"/>
                </a:lnTo>
                <a:cubicBezTo>
                  <a:pt x="19660" y="3838"/>
                  <a:pt x="16976" y="19986"/>
                  <a:pt x="16976" y="19986"/>
                </a:cubicBezTo>
                <a:close/>
                <a:moveTo>
                  <a:pt x="6859" y="16245"/>
                </a:moveTo>
                <a:cubicBezTo>
                  <a:pt x="6858" y="16242"/>
                  <a:pt x="6856" y="16241"/>
                  <a:pt x="6854" y="16238"/>
                </a:cubicBezTo>
                <a:lnTo>
                  <a:pt x="19607" y="2552"/>
                </a:lnTo>
                <a:lnTo>
                  <a:pt x="8735" y="19537"/>
                </a:lnTo>
                <a:cubicBezTo>
                  <a:pt x="8735" y="19537"/>
                  <a:pt x="6859" y="16245"/>
                  <a:pt x="6859" y="16245"/>
                </a:cubicBezTo>
                <a:close/>
                <a:moveTo>
                  <a:pt x="2111" y="14025"/>
                </a:moveTo>
                <a:lnTo>
                  <a:pt x="17713" y="3595"/>
                </a:lnTo>
                <a:lnTo>
                  <a:pt x="6369" y="15770"/>
                </a:lnTo>
                <a:cubicBezTo>
                  <a:pt x="6309" y="15735"/>
                  <a:pt x="6256" y="15687"/>
                  <a:pt x="6191" y="15661"/>
                </a:cubicBezTo>
                <a:cubicBezTo>
                  <a:pt x="6191" y="15661"/>
                  <a:pt x="2111" y="14025"/>
                  <a:pt x="2111" y="14025"/>
                </a:cubicBezTo>
                <a:close/>
                <a:moveTo>
                  <a:pt x="21234" y="108"/>
                </a:moveTo>
                <a:cubicBezTo>
                  <a:pt x="21123" y="36"/>
                  <a:pt x="20996" y="0"/>
                  <a:pt x="20869" y="0"/>
                </a:cubicBezTo>
                <a:cubicBezTo>
                  <a:pt x="20739" y="0"/>
                  <a:pt x="20609" y="37"/>
                  <a:pt x="20496" y="113"/>
                </a:cubicBezTo>
                <a:lnTo>
                  <a:pt x="299" y="13613"/>
                </a:lnTo>
                <a:cubicBezTo>
                  <a:pt x="91" y="13752"/>
                  <a:pt x="-23" y="13996"/>
                  <a:pt x="3" y="14245"/>
                </a:cubicBezTo>
                <a:cubicBezTo>
                  <a:pt x="29" y="14494"/>
                  <a:pt x="190" y="14709"/>
                  <a:pt x="423" y="14801"/>
                </a:cubicBezTo>
                <a:lnTo>
                  <a:pt x="5690" y="16915"/>
                </a:lnTo>
                <a:lnTo>
                  <a:pt x="8167" y="21260"/>
                </a:lnTo>
                <a:cubicBezTo>
                  <a:pt x="8285" y="21468"/>
                  <a:pt x="8505" y="21597"/>
                  <a:pt x="8744" y="21600"/>
                </a:cubicBezTo>
                <a:lnTo>
                  <a:pt x="8751" y="21600"/>
                </a:lnTo>
                <a:cubicBezTo>
                  <a:pt x="8987" y="21600"/>
                  <a:pt x="9207" y="21475"/>
                  <a:pt x="9329" y="21272"/>
                </a:cubicBezTo>
                <a:lnTo>
                  <a:pt x="10727" y="18934"/>
                </a:lnTo>
                <a:lnTo>
                  <a:pt x="17253" y="21551"/>
                </a:lnTo>
                <a:cubicBezTo>
                  <a:pt x="17333" y="21584"/>
                  <a:pt x="17418" y="21600"/>
                  <a:pt x="17503" y="21600"/>
                </a:cubicBezTo>
                <a:cubicBezTo>
                  <a:pt x="17617" y="21600"/>
                  <a:pt x="17731" y="21571"/>
                  <a:pt x="17833" y="21513"/>
                </a:cubicBezTo>
                <a:cubicBezTo>
                  <a:pt x="18010" y="21413"/>
                  <a:pt x="18134" y="21238"/>
                  <a:pt x="18167" y="21036"/>
                </a:cubicBezTo>
                <a:lnTo>
                  <a:pt x="21533" y="786"/>
                </a:lnTo>
                <a:cubicBezTo>
                  <a:pt x="21577" y="521"/>
                  <a:pt x="21460" y="254"/>
                  <a:pt x="21234" y="108"/>
                </a:cubicBezTo>
              </a:path>
            </a:pathLst>
          </a:custGeom>
          <a:solidFill>
            <a:srgbClr val="1a1919"/>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57" name="Rectangle 16"/>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33</a:t>
            </a:r>
            <a:endParaRPr b="0" lang="en-US" sz="2400" spc="-1" strike="noStrike">
              <a:solidFill>
                <a:srgbClr val="000000"/>
              </a:solidFill>
              <a:latin typeface="Gill Sans"/>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8" name="Group 3"/>
          <p:cNvGrpSpPr/>
          <p:nvPr/>
        </p:nvGrpSpPr>
        <p:grpSpPr>
          <a:xfrm>
            <a:off x="1385640" y="819000"/>
            <a:ext cx="5618160" cy="1130040"/>
            <a:chOff x="1385640" y="819000"/>
            <a:chExt cx="5618160" cy="1130040"/>
          </a:xfrm>
        </p:grpSpPr>
        <p:sp>
          <p:nvSpPr>
            <p:cNvPr id="959" name="Rectangle 1"/>
            <p:cNvSpPr/>
            <p:nvPr/>
          </p:nvSpPr>
          <p:spPr>
            <a:xfrm>
              <a:off x="1609200" y="819000"/>
              <a:ext cx="3826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Leaves Diagram</a:t>
              </a:r>
              <a:endParaRPr b="0" lang="en-US" sz="4000" spc="-1" strike="noStrike">
                <a:solidFill>
                  <a:srgbClr val="000000"/>
                </a:solidFill>
                <a:latin typeface="Gill Sans"/>
              </a:endParaRPr>
            </a:p>
          </p:txBody>
        </p:sp>
        <p:sp>
          <p:nvSpPr>
            <p:cNvPr id="960"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961" name="Oval 4"/>
          <p:cNvSpPr/>
          <p:nvPr/>
        </p:nvSpPr>
        <p:spPr>
          <a:xfrm>
            <a:off x="6883560" y="4419720"/>
            <a:ext cx="6642000" cy="6642000"/>
          </a:xfrm>
          <a:prstGeom prst="ellipse">
            <a:avLst/>
          </a:prstGeom>
          <a:noFill/>
          <a:ln w="25560">
            <a:solidFill>
              <a:srgbClr val="cdcc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62" name="Oval 5"/>
          <p:cNvSpPr/>
          <p:nvPr/>
        </p:nvSpPr>
        <p:spPr>
          <a:xfrm>
            <a:off x="7099200" y="4633920"/>
            <a:ext cx="6226200" cy="6235560"/>
          </a:xfrm>
          <a:prstGeom prst="ellipse">
            <a:avLst/>
          </a:prstGeom>
          <a:solidFill>
            <a:srgbClr val="1d9d7c"/>
          </a:solidFill>
          <a:ln w="25560">
            <a:solidFill>
              <a:srgbClr val="3780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63" name="Oval 6"/>
          <p:cNvSpPr/>
          <p:nvPr/>
        </p:nvSpPr>
        <p:spPr>
          <a:xfrm>
            <a:off x="11082240" y="4633920"/>
            <a:ext cx="6226200" cy="6235560"/>
          </a:xfrm>
          <a:prstGeom prst="ellipse">
            <a:avLst/>
          </a:prstGeom>
          <a:solidFill>
            <a:srgbClr val="23cb9e">
              <a:alpha val="50000"/>
            </a:srgbClr>
          </a:solidFill>
          <a:ln w="25560">
            <a:solidFill>
              <a:srgbClr val="378092">
                <a:alpha val="5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64" name="Rectangle 7"/>
          <p:cNvSpPr/>
          <p:nvPr/>
        </p:nvSpPr>
        <p:spPr>
          <a:xfrm>
            <a:off x="14287680" y="828036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a1919"/>
                </a:solidFill>
                <a:latin typeface="Open Sans Bold"/>
                <a:ea typeface="ＭＳ Ｐゴシック"/>
              </a:rPr>
              <a:t>Add your </a:t>
            </a:r>
            <a:r>
              <a:rPr b="0" lang="en-US" sz="2700" spc="-1" strike="noStrike">
                <a:solidFill>
                  <a:srgbClr val="1a1919"/>
                </a:solidFill>
                <a:latin typeface="Open Sans"/>
                <a:ea typeface="ＭＳ Ｐゴシック"/>
              </a:rPr>
              <a:t>text here</a:t>
            </a:r>
            <a:endParaRPr b="0" lang="en-US" sz="2700" spc="-1" strike="noStrike">
              <a:solidFill>
                <a:srgbClr val="000000"/>
              </a:solidFill>
              <a:latin typeface="Gill Sans"/>
            </a:endParaRPr>
          </a:p>
        </p:txBody>
      </p:sp>
      <p:sp>
        <p:nvSpPr>
          <p:cNvPr id="965" name="Rectangle 8"/>
          <p:cNvSpPr/>
          <p:nvPr/>
        </p:nvSpPr>
        <p:spPr>
          <a:xfrm>
            <a:off x="8140680" y="828036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efe"/>
                </a:solidFill>
                <a:latin typeface="Open Sans Bold"/>
                <a:ea typeface="ＭＳ Ｐゴシック"/>
              </a:rPr>
              <a:t>Add your </a:t>
            </a:r>
            <a:r>
              <a:rPr b="0" lang="en-US" sz="2700" spc="-1" strike="noStrike">
                <a:solidFill>
                  <a:srgbClr val="fffefe"/>
                </a:solidFill>
                <a:latin typeface="Open Sans"/>
                <a:ea typeface="ＭＳ Ｐゴシック"/>
              </a:rPr>
              <a:t>text here</a:t>
            </a:r>
            <a:endParaRPr b="0" lang="en-US" sz="2700" spc="-1" strike="noStrike">
              <a:solidFill>
                <a:srgbClr val="000000"/>
              </a:solidFill>
              <a:latin typeface="Gill Sans"/>
            </a:endParaRPr>
          </a:p>
        </p:txBody>
      </p:sp>
      <p:sp>
        <p:nvSpPr>
          <p:cNvPr id="966" name="Rectangle 9"/>
          <p:cNvSpPr/>
          <p:nvPr/>
        </p:nvSpPr>
        <p:spPr>
          <a:xfrm>
            <a:off x="11201400" y="722628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efe"/>
                </a:solidFill>
                <a:latin typeface="Open Sans Bold"/>
                <a:ea typeface="ＭＳ Ｐゴシック"/>
              </a:rPr>
              <a:t>Add your </a:t>
            </a:r>
            <a:r>
              <a:rPr b="0" lang="en-US" sz="2700" spc="-1" strike="noStrike">
                <a:solidFill>
                  <a:srgbClr val="fffefe"/>
                </a:solidFill>
                <a:latin typeface="Open Sans"/>
                <a:ea typeface="ＭＳ Ｐゴシック"/>
              </a:rPr>
              <a:t>text here</a:t>
            </a:r>
            <a:endParaRPr b="0" lang="en-US" sz="2700" spc="-1" strike="noStrike">
              <a:solidFill>
                <a:srgbClr val="000000"/>
              </a:solidFill>
              <a:latin typeface="Gill Sans"/>
            </a:endParaRPr>
          </a:p>
        </p:txBody>
      </p:sp>
      <p:sp>
        <p:nvSpPr>
          <p:cNvPr id="967" name="Oval 10"/>
          <p:cNvSpPr/>
          <p:nvPr/>
        </p:nvSpPr>
        <p:spPr>
          <a:xfrm>
            <a:off x="10871280" y="4419720"/>
            <a:ext cx="6642000" cy="6642000"/>
          </a:xfrm>
          <a:prstGeom prst="ellipse">
            <a:avLst/>
          </a:prstGeom>
          <a:noFill/>
          <a:ln w="25560">
            <a:solidFill>
              <a:srgbClr val="cdcc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68" name="Rectangle 11"/>
          <p:cNvSpPr/>
          <p:nvPr/>
        </p:nvSpPr>
        <p:spPr>
          <a:xfrm>
            <a:off x="18072000" y="3975120"/>
            <a:ext cx="4800600" cy="2222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919"/>
                </a:solidFill>
                <a:latin typeface="Open Sans Bold"/>
                <a:ea typeface="ＭＳ Ｐゴシック"/>
              </a:rPr>
              <a:t>Description</a:t>
            </a:r>
            <a:endParaRPr b="0" lang="en-US" sz="36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Light"/>
                <a:ea typeface="ＭＳ Ｐゴシック"/>
              </a:rPr>
              <a:t>Lorem ipsum dolor sit amet. Gundul-gundul pacul mangan tebu. The problem is constecture amatuer sit desimo.</a:t>
            </a:r>
            <a:endParaRPr b="0" lang="en-US" sz="2400" spc="-1" strike="noStrike">
              <a:solidFill>
                <a:srgbClr val="000000"/>
              </a:solidFill>
              <a:latin typeface="Gill Sans"/>
            </a:endParaRPr>
          </a:p>
        </p:txBody>
      </p:sp>
      <p:grpSp>
        <p:nvGrpSpPr>
          <p:cNvPr id="969" name="Group 14"/>
          <p:cNvGrpSpPr/>
          <p:nvPr/>
        </p:nvGrpSpPr>
        <p:grpSpPr>
          <a:xfrm>
            <a:off x="13029840" y="2319480"/>
            <a:ext cx="5323680" cy="5239440"/>
            <a:chOff x="13029840" y="2319480"/>
            <a:chExt cx="5323680" cy="5239440"/>
          </a:xfrm>
        </p:grpSpPr>
        <p:sp>
          <p:nvSpPr>
            <p:cNvPr id="970" name="AutoShape 12"/>
            <p:cNvSpPr/>
            <p:nvPr/>
          </p:nvSpPr>
          <p:spPr>
            <a:xfrm rot="19431000">
              <a:off x="13744800" y="3265200"/>
              <a:ext cx="3861720" cy="3359880"/>
            </a:xfrm>
            <a:custGeom>
              <a:avLst/>
              <a:gdLst/>
              <a:ahLst/>
              <a:rect l="l" t="t" r="r" b="b"/>
              <a:pathLst>
                <a:path w="21351" h="18956">
                  <a:moveTo>
                    <a:pt x="0" y="524"/>
                  </a:moveTo>
                  <a:cubicBezTo>
                    <a:pt x="0" y="524"/>
                    <a:pt x="9244" y="-2644"/>
                    <a:pt x="14966" y="6601"/>
                  </a:cubicBezTo>
                  <a:cubicBezTo>
                    <a:pt x="21600" y="17318"/>
                    <a:pt x="20485" y="17960"/>
                    <a:pt x="20485" y="17960"/>
                  </a:cubicBezTo>
                  <a:lnTo>
                    <a:pt x="20986" y="14807"/>
                  </a:lnTo>
                  <a:lnTo>
                    <a:pt x="21351" y="13884"/>
                  </a:lnTo>
                  <a:lnTo>
                    <a:pt x="20916" y="18956"/>
                  </a:lnTo>
                  <a:lnTo>
                    <a:pt x="18163" y="17138"/>
                  </a:lnTo>
                </a:path>
              </a:pathLst>
            </a:cu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971" name="Picture 13" descr=""/>
            <p:cNvPicPr/>
            <p:nvPr/>
          </p:nvPicPr>
          <p:blipFill>
            <a:blip r:embed="rId1"/>
            <a:stretch/>
          </p:blipFill>
          <p:spPr>
            <a:xfrm rot="19430400">
              <a:off x="13704840" y="3146040"/>
              <a:ext cx="3973320" cy="3585960"/>
            </a:xfrm>
            <a:prstGeom prst="rect">
              <a:avLst/>
            </a:prstGeom>
            <a:ln w="0">
              <a:noFill/>
            </a:ln>
          </p:spPr>
        </p:pic>
      </p:grpSp>
      <p:grpSp>
        <p:nvGrpSpPr>
          <p:cNvPr id="972" name="Group 17"/>
          <p:cNvGrpSpPr/>
          <p:nvPr/>
        </p:nvGrpSpPr>
        <p:grpSpPr>
          <a:xfrm>
            <a:off x="6032520" y="8040600"/>
            <a:ext cx="5311440" cy="5226840"/>
            <a:chOff x="6032520" y="8040600"/>
            <a:chExt cx="5311440" cy="5226840"/>
          </a:xfrm>
        </p:grpSpPr>
        <p:sp>
          <p:nvSpPr>
            <p:cNvPr id="973" name="AutoShape 15"/>
            <p:cNvSpPr/>
            <p:nvPr/>
          </p:nvSpPr>
          <p:spPr>
            <a:xfrm rot="8630400">
              <a:off x="6780960" y="8973000"/>
              <a:ext cx="3852720" cy="3374640"/>
            </a:xfrm>
            <a:custGeom>
              <a:avLst/>
              <a:gdLst/>
              <a:ahLst/>
              <a:rect l="l" t="t" r="r" b="b"/>
              <a:pathLst>
                <a:path w="21351" h="18956">
                  <a:moveTo>
                    <a:pt x="0" y="524"/>
                  </a:moveTo>
                  <a:cubicBezTo>
                    <a:pt x="0" y="524"/>
                    <a:pt x="9244" y="-2644"/>
                    <a:pt x="14966" y="6601"/>
                  </a:cubicBezTo>
                  <a:cubicBezTo>
                    <a:pt x="21600" y="17318"/>
                    <a:pt x="20485" y="17960"/>
                    <a:pt x="20485" y="17960"/>
                  </a:cubicBezTo>
                  <a:lnTo>
                    <a:pt x="20986" y="14807"/>
                  </a:lnTo>
                  <a:lnTo>
                    <a:pt x="21351" y="13884"/>
                  </a:lnTo>
                  <a:lnTo>
                    <a:pt x="20916" y="18956"/>
                  </a:lnTo>
                  <a:lnTo>
                    <a:pt x="18163" y="17138"/>
                  </a:lnTo>
                </a:path>
              </a:pathLst>
            </a:cu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974" name="Picture 16" descr=""/>
            <p:cNvPicPr/>
            <p:nvPr/>
          </p:nvPicPr>
          <p:blipFill>
            <a:blip r:embed="rId2"/>
            <a:stretch/>
          </p:blipFill>
          <p:spPr>
            <a:xfrm rot="19430400">
              <a:off x="6705360" y="8865720"/>
              <a:ext cx="3965040" cy="3576240"/>
            </a:xfrm>
            <a:prstGeom prst="rect">
              <a:avLst/>
            </a:prstGeom>
            <a:ln w="0">
              <a:noFill/>
            </a:ln>
          </p:spPr>
        </p:pic>
      </p:grpSp>
      <p:sp>
        <p:nvSpPr>
          <p:cNvPr id="975" name="Rectangle 18"/>
          <p:cNvSpPr/>
          <p:nvPr/>
        </p:nvSpPr>
        <p:spPr>
          <a:xfrm>
            <a:off x="1549440" y="9309240"/>
            <a:ext cx="4800600" cy="2222280"/>
          </a:xfrm>
          <a:prstGeom prst="rect">
            <a:avLst/>
          </a:prstGeom>
          <a:noFill/>
          <a:ln w="0">
            <a:noFill/>
          </a:ln>
        </p:spPr>
        <p:style>
          <a:lnRef idx="0"/>
          <a:fillRef idx="0"/>
          <a:effectRef idx="0"/>
          <a:fontRef idx="minor"/>
        </p:style>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a1919"/>
                </a:solidFill>
                <a:latin typeface="Open Sans Bold"/>
                <a:ea typeface="ＭＳ Ｐゴシック"/>
              </a:rPr>
              <a:t>Description</a:t>
            </a:r>
            <a:endParaRPr b="0" lang="en-US" sz="3600" spc="-1" strike="noStrike">
              <a:solidFill>
                <a:srgbClr val="000000"/>
              </a:solidFill>
              <a:latin typeface="Gill Sans"/>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Light"/>
                <a:ea typeface="ＭＳ Ｐゴシック"/>
              </a:rPr>
              <a:t>Lorem ipsum dolor sit amet. Gundul-gundul pacul mangan tebu. The problem is constecture amatuer sit desimo.</a:t>
            </a:r>
            <a:endParaRPr b="0" lang="en-US" sz="2400" spc="-1" strike="noStrike">
              <a:solidFill>
                <a:srgbClr val="000000"/>
              </a:solidFill>
              <a:latin typeface="Gill Sans"/>
            </a:endParaRPr>
          </a:p>
        </p:txBody>
      </p:sp>
      <p:grpSp>
        <p:nvGrpSpPr>
          <p:cNvPr id="976" name="Group 21"/>
          <p:cNvGrpSpPr/>
          <p:nvPr/>
        </p:nvGrpSpPr>
        <p:grpSpPr>
          <a:xfrm>
            <a:off x="8242200" y="6273720"/>
            <a:ext cx="1841400" cy="1612800"/>
            <a:chOff x="8242200" y="6273720"/>
            <a:chExt cx="1841400" cy="1612800"/>
          </a:xfrm>
        </p:grpSpPr>
        <p:sp>
          <p:nvSpPr>
            <p:cNvPr id="977" name="AutoShape 19"/>
            <p:cNvSpPr/>
            <p:nvPr/>
          </p:nvSpPr>
          <p:spPr>
            <a:xfrm>
              <a:off x="8529480" y="6561000"/>
              <a:ext cx="662040" cy="432360"/>
            </a:xfrm>
            <a:custGeom>
              <a:avLst/>
              <a:gdLst/>
              <a:ahLst/>
              <a:rect l="l" t="t" r="r" b="b"/>
              <a:pathLst>
                <a:path w="21600" h="21600">
                  <a:moveTo>
                    <a:pt x="20661" y="0"/>
                  </a:moveTo>
                  <a:cubicBezTo>
                    <a:pt x="9461" y="0"/>
                    <a:pt x="0" y="9233"/>
                    <a:pt x="0" y="20160"/>
                  </a:cubicBezTo>
                  <a:cubicBezTo>
                    <a:pt x="0" y="20955"/>
                    <a:pt x="421" y="21600"/>
                    <a:pt x="939" y="21600"/>
                  </a:cubicBezTo>
                  <a:cubicBezTo>
                    <a:pt x="1457" y="21600"/>
                    <a:pt x="1878" y="20955"/>
                    <a:pt x="1878" y="20160"/>
                  </a:cubicBezTo>
                  <a:cubicBezTo>
                    <a:pt x="1878" y="10956"/>
                    <a:pt x="10655" y="2880"/>
                    <a:pt x="20661" y="2880"/>
                  </a:cubicBezTo>
                  <a:cubicBezTo>
                    <a:pt x="21179" y="2880"/>
                    <a:pt x="21600" y="2235"/>
                    <a:pt x="21600" y="1440"/>
                  </a:cubicBezTo>
                  <a:cubicBezTo>
                    <a:pt x="21600" y="645"/>
                    <a:pt x="21179" y="0"/>
                    <a:pt x="20661" y="0"/>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78" name="AutoShape 20"/>
            <p:cNvSpPr/>
            <p:nvPr/>
          </p:nvSpPr>
          <p:spPr>
            <a:xfrm>
              <a:off x="8242200" y="6273720"/>
              <a:ext cx="1841400" cy="1612800"/>
            </a:xfrm>
            <a:custGeom>
              <a:avLst/>
              <a:gdLst/>
              <a:ahLst/>
              <a:rect l="l" t="t" r="r" b="b"/>
              <a:pathLst>
                <a:path w="21600" h="21600">
                  <a:moveTo>
                    <a:pt x="10800" y="16971"/>
                  </a:moveTo>
                  <a:cubicBezTo>
                    <a:pt x="10181" y="16971"/>
                    <a:pt x="9547" y="16918"/>
                    <a:pt x="8913" y="16812"/>
                  </a:cubicBezTo>
                  <a:cubicBezTo>
                    <a:pt x="8847" y="16800"/>
                    <a:pt x="8782" y="16795"/>
                    <a:pt x="8717" y="16795"/>
                  </a:cubicBezTo>
                  <a:cubicBezTo>
                    <a:pt x="8316" y="16795"/>
                    <a:pt x="7932" y="16999"/>
                    <a:pt x="7674" y="17359"/>
                  </a:cubicBezTo>
                  <a:cubicBezTo>
                    <a:pt x="7384" y="17762"/>
                    <a:pt x="6563" y="18657"/>
                    <a:pt x="5591" y="19318"/>
                  </a:cubicBezTo>
                  <a:cubicBezTo>
                    <a:pt x="5854" y="18628"/>
                    <a:pt x="6061" y="17854"/>
                    <a:pt x="6074" y="17056"/>
                  </a:cubicBezTo>
                  <a:cubicBezTo>
                    <a:pt x="6078" y="17007"/>
                    <a:pt x="6080" y="16957"/>
                    <a:pt x="6080" y="16914"/>
                  </a:cubicBezTo>
                  <a:cubicBezTo>
                    <a:pt x="6080" y="16335"/>
                    <a:pt x="5796" y="15803"/>
                    <a:pt x="5345" y="15540"/>
                  </a:cubicBezTo>
                  <a:cubicBezTo>
                    <a:pt x="2843" y="14080"/>
                    <a:pt x="1350" y="11731"/>
                    <a:pt x="1350" y="9257"/>
                  </a:cubicBezTo>
                  <a:cubicBezTo>
                    <a:pt x="1350" y="5003"/>
                    <a:pt x="5589" y="1543"/>
                    <a:pt x="10800" y="1543"/>
                  </a:cubicBezTo>
                  <a:cubicBezTo>
                    <a:pt x="16011" y="1543"/>
                    <a:pt x="20250" y="5003"/>
                    <a:pt x="20250" y="9257"/>
                  </a:cubicBezTo>
                  <a:cubicBezTo>
                    <a:pt x="20250" y="13511"/>
                    <a:pt x="16011" y="16971"/>
                    <a:pt x="10800" y="16971"/>
                  </a:cubicBezTo>
                  <a:moveTo>
                    <a:pt x="10800" y="0"/>
                  </a:moveTo>
                  <a:cubicBezTo>
                    <a:pt x="4835" y="0"/>
                    <a:pt x="0" y="4145"/>
                    <a:pt x="0" y="9257"/>
                  </a:cubicBezTo>
                  <a:cubicBezTo>
                    <a:pt x="0" y="12441"/>
                    <a:pt x="1876" y="15248"/>
                    <a:pt x="4730" y="16914"/>
                  </a:cubicBezTo>
                  <a:cubicBezTo>
                    <a:pt x="4730" y="16935"/>
                    <a:pt x="4725" y="16949"/>
                    <a:pt x="4725" y="16971"/>
                  </a:cubicBezTo>
                  <a:cubicBezTo>
                    <a:pt x="4725" y="18355"/>
                    <a:pt x="3821" y="19843"/>
                    <a:pt x="3423" y="20625"/>
                  </a:cubicBezTo>
                  <a:lnTo>
                    <a:pt x="3425" y="20625"/>
                  </a:lnTo>
                  <a:cubicBezTo>
                    <a:pt x="3393" y="20710"/>
                    <a:pt x="3375" y="20803"/>
                    <a:pt x="3375" y="20901"/>
                  </a:cubicBezTo>
                  <a:cubicBezTo>
                    <a:pt x="3375" y="21287"/>
                    <a:pt x="3648" y="21600"/>
                    <a:pt x="3986" y="21600"/>
                  </a:cubicBezTo>
                  <a:cubicBezTo>
                    <a:pt x="4050" y="21600"/>
                    <a:pt x="4161" y="21580"/>
                    <a:pt x="4159" y="21590"/>
                  </a:cubicBezTo>
                  <a:cubicBezTo>
                    <a:pt x="6268" y="21195"/>
                    <a:pt x="8255" y="18980"/>
                    <a:pt x="8717" y="18338"/>
                  </a:cubicBezTo>
                  <a:cubicBezTo>
                    <a:pt x="9391" y="18451"/>
                    <a:pt x="10086" y="18514"/>
                    <a:pt x="10800" y="18514"/>
                  </a:cubicBezTo>
                  <a:cubicBezTo>
                    <a:pt x="16764" y="18514"/>
                    <a:pt x="21600" y="14369"/>
                    <a:pt x="21600" y="9257"/>
                  </a:cubicBezTo>
                  <a:cubicBezTo>
                    <a:pt x="21600" y="4145"/>
                    <a:pt x="16764" y="0"/>
                    <a:pt x="10800" y="0"/>
                  </a:cubicBezTo>
                </a:path>
              </a:pathLst>
            </a:custGeom>
            <a:solidFill>
              <a:srgbClr val="fffefe"/>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979" name="AutoShape 22"/>
          <p:cNvSpPr/>
          <p:nvPr/>
        </p:nvSpPr>
        <p:spPr>
          <a:xfrm>
            <a:off x="14211360" y="6273720"/>
            <a:ext cx="1612800" cy="1613160"/>
          </a:xfrm>
          <a:custGeom>
            <a:avLst/>
            <a:gdLst/>
            <a:ahLst/>
            <a:rect l="l" t="t" r="r" b="b"/>
            <a:pathLst>
              <a:path w="21543" h="21600">
                <a:moveTo>
                  <a:pt x="16976" y="19986"/>
                </a:moveTo>
                <a:lnTo>
                  <a:pt x="11226" y="17681"/>
                </a:lnTo>
                <a:cubicBezTo>
                  <a:pt x="11089" y="17626"/>
                  <a:pt x="10947" y="17608"/>
                  <a:pt x="10806" y="17600"/>
                </a:cubicBezTo>
                <a:lnTo>
                  <a:pt x="19660" y="3838"/>
                </a:lnTo>
                <a:cubicBezTo>
                  <a:pt x="19660" y="3838"/>
                  <a:pt x="16976" y="19986"/>
                  <a:pt x="16976" y="19986"/>
                </a:cubicBezTo>
                <a:close/>
                <a:moveTo>
                  <a:pt x="6859" y="16245"/>
                </a:moveTo>
                <a:cubicBezTo>
                  <a:pt x="6858" y="16242"/>
                  <a:pt x="6856" y="16241"/>
                  <a:pt x="6854" y="16238"/>
                </a:cubicBezTo>
                <a:lnTo>
                  <a:pt x="19607" y="2552"/>
                </a:lnTo>
                <a:lnTo>
                  <a:pt x="8735" y="19537"/>
                </a:lnTo>
                <a:cubicBezTo>
                  <a:pt x="8735" y="19537"/>
                  <a:pt x="6859" y="16245"/>
                  <a:pt x="6859" y="16245"/>
                </a:cubicBezTo>
                <a:close/>
                <a:moveTo>
                  <a:pt x="2111" y="14025"/>
                </a:moveTo>
                <a:lnTo>
                  <a:pt x="17713" y="3595"/>
                </a:lnTo>
                <a:lnTo>
                  <a:pt x="6369" y="15770"/>
                </a:lnTo>
                <a:cubicBezTo>
                  <a:pt x="6309" y="15735"/>
                  <a:pt x="6256" y="15687"/>
                  <a:pt x="6191" y="15661"/>
                </a:cubicBezTo>
                <a:cubicBezTo>
                  <a:pt x="6191" y="15661"/>
                  <a:pt x="2111" y="14025"/>
                  <a:pt x="2111" y="14025"/>
                </a:cubicBezTo>
                <a:close/>
                <a:moveTo>
                  <a:pt x="21234" y="108"/>
                </a:moveTo>
                <a:cubicBezTo>
                  <a:pt x="21123" y="36"/>
                  <a:pt x="20996" y="0"/>
                  <a:pt x="20869" y="0"/>
                </a:cubicBezTo>
                <a:cubicBezTo>
                  <a:pt x="20739" y="0"/>
                  <a:pt x="20609" y="37"/>
                  <a:pt x="20496" y="113"/>
                </a:cubicBezTo>
                <a:lnTo>
                  <a:pt x="299" y="13613"/>
                </a:lnTo>
                <a:cubicBezTo>
                  <a:pt x="91" y="13752"/>
                  <a:pt x="-23" y="13996"/>
                  <a:pt x="3" y="14245"/>
                </a:cubicBezTo>
                <a:cubicBezTo>
                  <a:pt x="29" y="14494"/>
                  <a:pt x="190" y="14709"/>
                  <a:pt x="423" y="14801"/>
                </a:cubicBezTo>
                <a:lnTo>
                  <a:pt x="5690" y="16915"/>
                </a:lnTo>
                <a:lnTo>
                  <a:pt x="8167" y="21260"/>
                </a:lnTo>
                <a:cubicBezTo>
                  <a:pt x="8285" y="21468"/>
                  <a:pt x="8505" y="21597"/>
                  <a:pt x="8744" y="21600"/>
                </a:cubicBezTo>
                <a:lnTo>
                  <a:pt x="8751" y="21600"/>
                </a:lnTo>
                <a:cubicBezTo>
                  <a:pt x="8987" y="21600"/>
                  <a:pt x="9207" y="21475"/>
                  <a:pt x="9329" y="21272"/>
                </a:cubicBezTo>
                <a:lnTo>
                  <a:pt x="10727" y="18934"/>
                </a:lnTo>
                <a:lnTo>
                  <a:pt x="17253" y="21551"/>
                </a:lnTo>
                <a:cubicBezTo>
                  <a:pt x="17333" y="21584"/>
                  <a:pt x="17418" y="21600"/>
                  <a:pt x="17503" y="21600"/>
                </a:cubicBezTo>
                <a:cubicBezTo>
                  <a:pt x="17617" y="21600"/>
                  <a:pt x="17731" y="21571"/>
                  <a:pt x="17833" y="21513"/>
                </a:cubicBezTo>
                <a:cubicBezTo>
                  <a:pt x="18010" y="21413"/>
                  <a:pt x="18134" y="21238"/>
                  <a:pt x="18167" y="21036"/>
                </a:cubicBezTo>
                <a:lnTo>
                  <a:pt x="21533" y="786"/>
                </a:lnTo>
                <a:cubicBezTo>
                  <a:pt x="21577" y="521"/>
                  <a:pt x="21460" y="254"/>
                  <a:pt x="21234" y="108"/>
                </a:cubicBezTo>
              </a:path>
            </a:pathLst>
          </a:custGeom>
          <a:solidFill>
            <a:srgbClr val="1a1919"/>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80" name="Rectangle 23"/>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34</a:t>
            </a:r>
            <a:endParaRPr b="0" lang="en-US" sz="2400" spc="-1" strike="noStrike">
              <a:solidFill>
                <a:srgbClr val="000000"/>
              </a:solidFill>
              <a:latin typeface="Gill Sans"/>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1" name="Picture 1" descr=""/>
          <p:cNvPicPr/>
          <p:nvPr/>
        </p:nvPicPr>
        <p:blipFill>
          <a:blip r:embed="rId1">
            <a:grayscl/>
          </a:blip>
          <a:srcRect l="0" t="6971" r="0" b="6982"/>
          <a:stretch/>
        </p:blipFill>
        <p:spPr>
          <a:xfrm>
            <a:off x="-25560" y="2781360"/>
            <a:ext cx="24612840" cy="11912400"/>
          </a:xfrm>
          <a:prstGeom prst="rect">
            <a:avLst/>
          </a:prstGeom>
          <a:ln w="0">
            <a:noFill/>
          </a:ln>
        </p:spPr>
      </p:pic>
      <p:sp>
        <p:nvSpPr>
          <p:cNvPr id="982" name="Rectangle 2"/>
          <p:cNvSpPr/>
          <p:nvPr/>
        </p:nvSpPr>
        <p:spPr>
          <a:xfrm>
            <a:off x="1363680" y="819000"/>
            <a:ext cx="295560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What We Do</a:t>
            </a:r>
            <a:endParaRPr b="0" lang="en-US" sz="4000" spc="-1" strike="noStrike">
              <a:solidFill>
                <a:srgbClr val="000000"/>
              </a:solidFill>
              <a:latin typeface="Gill Sans"/>
            </a:endParaRPr>
          </a:p>
        </p:txBody>
      </p:sp>
      <p:sp>
        <p:nvSpPr>
          <p:cNvPr id="983" name="Rectangle 3"/>
          <p:cNvSpPr/>
          <p:nvPr/>
        </p:nvSpPr>
        <p:spPr>
          <a:xfrm>
            <a:off x="1225440" y="1492200"/>
            <a:ext cx="32468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We Deliver Dream</a:t>
            </a:r>
            <a:endParaRPr b="0" lang="en-US" sz="3000" spc="-1" strike="noStrike">
              <a:solidFill>
                <a:srgbClr val="000000"/>
              </a:solidFill>
              <a:latin typeface="Gill Sans"/>
            </a:endParaRPr>
          </a:p>
        </p:txBody>
      </p:sp>
      <p:sp>
        <p:nvSpPr>
          <p:cNvPr id="984" name="Rectangle 4"/>
          <p:cNvSpPr/>
          <p:nvPr/>
        </p:nvSpPr>
        <p:spPr>
          <a:xfrm>
            <a:off x="5283360" y="8610480"/>
            <a:ext cx="13817520" cy="2984760"/>
          </a:xfrm>
          <a:prstGeom prst="rect">
            <a:avLst/>
          </a:prstGeom>
          <a:no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efe"/>
                </a:solidFill>
                <a:latin typeface="Open Sans Light"/>
                <a:ea typeface="ＭＳ Ｐゴシック"/>
              </a:rPr>
              <a:t>From </a:t>
            </a:r>
            <a:r>
              <a:rPr b="0" lang="en-US" sz="6400" spc="-1" strike="noStrike">
                <a:solidFill>
                  <a:srgbClr val="fffefe"/>
                </a:solidFill>
                <a:latin typeface="Open Sans Italic"/>
                <a:ea typeface="ＭＳ Ｐゴシック"/>
              </a:rPr>
              <a:t>web</a:t>
            </a:r>
            <a:r>
              <a:rPr b="0" lang="en-US" sz="6400" spc="-1" strike="noStrike">
                <a:solidFill>
                  <a:srgbClr val="fffefe"/>
                </a:solidFill>
                <a:latin typeface="Open Sans Light"/>
                <a:ea typeface="ＭＳ Ｐゴシック"/>
              </a:rPr>
              <a:t> to device prototype.</a:t>
            </a:r>
            <a:endParaRPr b="0" lang="en-US" sz="64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efe"/>
                </a:solidFill>
                <a:latin typeface="Open Sans Light"/>
                <a:ea typeface="ＭＳ Ｐゴシック"/>
              </a:rPr>
              <a:t>We create </a:t>
            </a:r>
            <a:r>
              <a:rPr b="0" lang="en-US" sz="6400" spc="-1" strike="noStrike">
                <a:solidFill>
                  <a:srgbClr val="fffefe"/>
                </a:solidFill>
                <a:latin typeface="Open Sans Bold"/>
                <a:ea typeface="ＭＳ Ｐゴシック"/>
              </a:rPr>
              <a:t>stunning</a:t>
            </a:r>
            <a:r>
              <a:rPr b="0" lang="en-US" sz="6400" spc="-1" strike="noStrike">
                <a:solidFill>
                  <a:srgbClr val="fffefe"/>
                </a:solidFill>
                <a:latin typeface="Open Sans Light"/>
                <a:ea typeface="ＭＳ Ｐゴシック"/>
              </a:rPr>
              <a:t> design. </a:t>
            </a:r>
            <a:endParaRPr b="0" lang="en-US" sz="64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efe"/>
                </a:solidFill>
                <a:latin typeface="Open Sans Light"/>
                <a:ea typeface="ＭＳ Ｐゴシック"/>
              </a:rPr>
              <a:t>We deliver </a:t>
            </a:r>
            <a:r>
              <a:rPr b="0" lang="en-US" sz="6400" spc="-1" strike="noStrike">
                <a:solidFill>
                  <a:srgbClr val="fffefe"/>
                </a:solidFill>
                <a:latin typeface="Open Sans Italic"/>
                <a:ea typeface="ＭＳ Ｐゴシック"/>
              </a:rPr>
              <a:t>dreams</a:t>
            </a:r>
            <a:r>
              <a:rPr b="0" lang="en-US" sz="6400" spc="-1" strike="noStrike">
                <a:solidFill>
                  <a:srgbClr val="fffefe"/>
                </a:solidFill>
                <a:latin typeface="Open Sans Light"/>
                <a:ea typeface="ＭＳ Ｐゴシック"/>
              </a:rPr>
              <a:t>.</a:t>
            </a:r>
            <a:endParaRPr b="0" lang="en-US" sz="6400" spc="-1" strike="noStrike">
              <a:solidFill>
                <a:srgbClr val="000000"/>
              </a:solidFill>
              <a:latin typeface="Gill Sans"/>
            </a:endParaRPr>
          </a:p>
        </p:txBody>
      </p:sp>
      <p:grpSp>
        <p:nvGrpSpPr>
          <p:cNvPr id="985" name="Group 8"/>
          <p:cNvGrpSpPr/>
          <p:nvPr/>
        </p:nvGrpSpPr>
        <p:grpSpPr>
          <a:xfrm>
            <a:off x="10150560" y="4041720"/>
            <a:ext cx="4068360" cy="4068360"/>
            <a:chOff x="10150560" y="4041720"/>
            <a:chExt cx="4068360" cy="4068360"/>
          </a:xfrm>
        </p:grpSpPr>
        <p:sp>
          <p:nvSpPr>
            <p:cNvPr id="986" name="Oval 5"/>
            <p:cNvSpPr/>
            <p:nvPr/>
          </p:nvSpPr>
          <p:spPr>
            <a:xfrm>
              <a:off x="10150560" y="4041720"/>
              <a:ext cx="4068360" cy="4068360"/>
            </a:xfrm>
            <a:prstGeom prst="ellipse">
              <a:avLst/>
            </a:prstGeom>
            <a:noFill/>
            <a:ln w="633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87" name="Oval 6"/>
            <p:cNvSpPr/>
            <p:nvPr/>
          </p:nvSpPr>
          <p:spPr>
            <a:xfrm>
              <a:off x="10409400" y="4289400"/>
              <a:ext cx="3561840" cy="3561840"/>
            </a:xfrm>
            <a:prstGeom prst="ellipse">
              <a:avLst/>
            </a:prstGeom>
            <a:solidFill>
              <a:srgbClr val="e6e5e5"/>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988" name="Rectangle 9"/>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efe"/>
                </a:solidFill>
                <a:latin typeface="Open Sans Bold"/>
                <a:ea typeface="ＭＳ Ｐゴシック"/>
              </a:rPr>
              <a:t>35</a:t>
            </a:r>
            <a:endParaRPr b="0" lang="en-US" sz="2400" spc="-1" strike="noStrike">
              <a:solidFill>
                <a:srgbClr val="000000"/>
              </a:solidFill>
              <a:latin typeface="Gill Sans"/>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9" name="Picture 1" descr=""/>
          <p:cNvPicPr/>
          <p:nvPr/>
        </p:nvPicPr>
        <p:blipFill>
          <a:blip r:embed="rId1">
            <a:grayscl/>
          </a:blip>
          <a:srcRect l="0" t="0" r="0" b="19734"/>
          <a:stretch/>
        </p:blipFill>
        <p:spPr>
          <a:xfrm>
            <a:off x="-25560" y="-1650960"/>
            <a:ext cx="24612840" cy="11112480"/>
          </a:xfrm>
          <a:prstGeom prst="rect">
            <a:avLst/>
          </a:prstGeom>
          <a:ln w="0">
            <a:noFill/>
          </a:ln>
        </p:spPr>
      </p:pic>
      <p:sp>
        <p:nvSpPr>
          <p:cNvPr id="990" name="Rectangle 2"/>
          <p:cNvSpPr/>
          <p:nvPr/>
        </p:nvSpPr>
        <p:spPr>
          <a:xfrm>
            <a:off x="1363680" y="819000"/>
            <a:ext cx="295560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efe"/>
                </a:solidFill>
                <a:latin typeface="Open Sans Bold"/>
                <a:ea typeface="ＭＳ Ｐゴシック"/>
              </a:rPr>
              <a:t>What We Do</a:t>
            </a:r>
            <a:endParaRPr b="0" lang="en-US" sz="4000" spc="-1" strike="noStrike">
              <a:solidFill>
                <a:srgbClr val="000000"/>
              </a:solidFill>
              <a:latin typeface="Gill Sans"/>
            </a:endParaRPr>
          </a:p>
        </p:txBody>
      </p:sp>
      <p:sp>
        <p:nvSpPr>
          <p:cNvPr id="991" name="Rectangle 3"/>
          <p:cNvSpPr/>
          <p:nvPr/>
        </p:nvSpPr>
        <p:spPr>
          <a:xfrm>
            <a:off x="1225440" y="1492200"/>
            <a:ext cx="32468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efe"/>
                </a:solidFill>
                <a:latin typeface="Open Sans Light"/>
                <a:ea typeface="ＭＳ Ｐゴシック"/>
              </a:rPr>
              <a:t>We Deliver Dream</a:t>
            </a:r>
            <a:endParaRPr b="0" lang="en-US" sz="3000" spc="-1" strike="noStrike">
              <a:solidFill>
                <a:srgbClr val="000000"/>
              </a:solidFill>
              <a:latin typeface="Gill Sans"/>
            </a:endParaRPr>
          </a:p>
        </p:txBody>
      </p:sp>
      <p:sp>
        <p:nvSpPr>
          <p:cNvPr id="992" name="Rectangle 4"/>
          <p:cNvSpPr/>
          <p:nvPr/>
        </p:nvSpPr>
        <p:spPr>
          <a:xfrm>
            <a:off x="3683160" y="6095880"/>
            <a:ext cx="17106840" cy="5778720"/>
          </a:xfrm>
          <a:prstGeom prst="rect">
            <a:avLst/>
          </a:prstGeom>
          <a:solidFill>
            <a:srgbClr val="fffefe"/>
          </a:solidFill>
          <a:ln w="25560">
            <a:solidFill>
              <a:srgbClr val="e6e5e5"/>
            </a:solidFill>
            <a:miter/>
          </a:ln>
          <a:effectLst>
            <a:outerShdw dist="50765" dir="3236565" blurRad="0" rotWithShape="0">
              <a:srgbClr val="000000">
                <a:alpha val="7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93" name="Rectangle 5"/>
          <p:cNvSpPr/>
          <p:nvPr/>
        </p:nvSpPr>
        <p:spPr>
          <a:xfrm>
            <a:off x="3670200" y="3429000"/>
            <a:ext cx="17132400" cy="2273400"/>
          </a:xfrm>
          <a:prstGeom prst="rect">
            <a:avLst/>
          </a:prstGeom>
          <a:noFill/>
          <a:ln w="0">
            <a:noFill/>
          </a:ln>
          <a:effectLst>
            <a:outerShdw dist="50765" dir="3236565" blurRad="0" rotWithShape="0">
              <a:srgbClr val="000000">
                <a:alpha val="7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efe"/>
                </a:solidFill>
                <a:latin typeface="Open Sans Semibold"/>
                <a:ea typeface="ＭＳ Ｐゴシック"/>
              </a:rPr>
              <a:t>Our Core Services is Lorem Ipsum Dolor sit Amet Maecenas Faubius Mollis</a:t>
            </a:r>
            <a:endParaRPr b="0" lang="en-US" sz="4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efe"/>
                </a:solidFill>
                <a:latin typeface="Open Sans Light Italic"/>
                <a:ea typeface="ＭＳ Ｐゴシック"/>
              </a:rPr>
              <a:t>Lorem ipsum dolor sit amet</a:t>
            </a:r>
            <a:endParaRPr b="0" lang="en-US" sz="3000" spc="-1" strike="noStrike">
              <a:solidFill>
                <a:srgbClr val="000000"/>
              </a:solidFill>
              <a:latin typeface="Gill Sans"/>
            </a:endParaRPr>
          </a:p>
        </p:txBody>
      </p:sp>
      <p:grpSp>
        <p:nvGrpSpPr>
          <p:cNvPr id="994" name="Group 9"/>
          <p:cNvGrpSpPr/>
          <p:nvPr/>
        </p:nvGrpSpPr>
        <p:grpSpPr>
          <a:xfrm>
            <a:off x="8475840" y="9231480"/>
            <a:ext cx="914400" cy="1333440"/>
            <a:chOff x="8475840" y="9231480"/>
            <a:chExt cx="914400" cy="1333440"/>
          </a:xfrm>
        </p:grpSpPr>
        <p:sp>
          <p:nvSpPr>
            <p:cNvPr id="995" name="AutoShape 6"/>
            <p:cNvSpPr/>
            <p:nvPr/>
          </p:nvSpPr>
          <p:spPr>
            <a:xfrm>
              <a:off x="8475840" y="9231480"/>
              <a:ext cx="914400" cy="1333440"/>
            </a:xfrm>
            <a:custGeom>
              <a:avLst/>
              <a:gdLst/>
              <a:ahLst/>
              <a:rect l="l" t="t" r="r" b="b"/>
              <a:pathLst>
                <a:path w="21600" h="21600">
                  <a:moveTo>
                    <a:pt x="19636" y="3375"/>
                  </a:moveTo>
                  <a:lnTo>
                    <a:pt x="1964" y="3376"/>
                  </a:lnTo>
                  <a:lnTo>
                    <a:pt x="1964" y="2026"/>
                  </a:lnTo>
                  <a:cubicBezTo>
                    <a:pt x="1964" y="1653"/>
                    <a:pt x="2403" y="1351"/>
                    <a:pt x="2945" y="1351"/>
                  </a:cubicBezTo>
                  <a:lnTo>
                    <a:pt x="18655" y="1350"/>
                  </a:lnTo>
                  <a:cubicBezTo>
                    <a:pt x="19195" y="1350"/>
                    <a:pt x="19636" y="1653"/>
                    <a:pt x="19636" y="2025"/>
                  </a:cubicBezTo>
                  <a:cubicBezTo>
                    <a:pt x="19636" y="2025"/>
                    <a:pt x="19636" y="3375"/>
                    <a:pt x="19636" y="3375"/>
                  </a:cubicBezTo>
                  <a:close/>
                  <a:moveTo>
                    <a:pt x="19636" y="17547"/>
                  </a:moveTo>
                  <a:lnTo>
                    <a:pt x="1964" y="17547"/>
                  </a:lnTo>
                  <a:lnTo>
                    <a:pt x="1964" y="4051"/>
                  </a:lnTo>
                  <a:lnTo>
                    <a:pt x="19636" y="4050"/>
                  </a:lnTo>
                  <a:cubicBezTo>
                    <a:pt x="19636" y="4050"/>
                    <a:pt x="19636" y="17547"/>
                    <a:pt x="19636" y="17547"/>
                  </a:cubicBezTo>
                  <a:close/>
                  <a:moveTo>
                    <a:pt x="19636" y="19574"/>
                  </a:moveTo>
                  <a:cubicBezTo>
                    <a:pt x="19636" y="19947"/>
                    <a:pt x="19195" y="20249"/>
                    <a:pt x="18655" y="20249"/>
                  </a:cubicBezTo>
                  <a:lnTo>
                    <a:pt x="2945" y="20250"/>
                  </a:lnTo>
                  <a:cubicBezTo>
                    <a:pt x="2403" y="20250"/>
                    <a:pt x="1964" y="19947"/>
                    <a:pt x="1964" y="19575"/>
                  </a:cubicBezTo>
                  <a:lnTo>
                    <a:pt x="1964" y="18222"/>
                  </a:lnTo>
                  <a:lnTo>
                    <a:pt x="19636" y="18222"/>
                  </a:lnTo>
                  <a:cubicBezTo>
                    <a:pt x="19636" y="18222"/>
                    <a:pt x="19636" y="19574"/>
                    <a:pt x="19636" y="19574"/>
                  </a:cubicBezTo>
                  <a:close/>
                  <a:moveTo>
                    <a:pt x="18655" y="0"/>
                  </a:moveTo>
                  <a:lnTo>
                    <a:pt x="2945" y="1"/>
                  </a:lnTo>
                  <a:cubicBezTo>
                    <a:pt x="1317" y="1"/>
                    <a:pt x="0" y="907"/>
                    <a:pt x="0" y="2026"/>
                  </a:cubicBezTo>
                  <a:lnTo>
                    <a:pt x="0" y="19575"/>
                  </a:lnTo>
                  <a:cubicBezTo>
                    <a:pt x="0" y="20694"/>
                    <a:pt x="1317" y="21600"/>
                    <a:pt x="2945" y="21600"/>
                  </a:cubicBezTo>
                  <a:lnTo>
                    <a:pt x="18655" y="21599"/>
                  </a:lnTo>
                  <a:cubicBezTo>
                    <a:pt x="20281" y="21599"/>
                    <a:pt x="21600" y="20693"/>
                    <a:pt x="21600" y="19574"/>
                  </a:cubicBezTo>
                  <a:lnTo>
                    <a:pt x="21600" y="2025"/>
                  </a:lnTo>
                  <a:cubicBezTo>
                    <a:pt x="21600" y="906"/>
                    <a:pt x="20281" y="0"/>
                    <a:pt x="18655" y="0"/>
                  </a:cubicBezTo>
                </a:path>
              </a:pathLst>
            </a:custGeom>
            <a:solidFill>
              <a:srgbClr val="34353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96" name="AutoShape 7"/>
            <p:cNvSpPr/>
            <p:nvPr/>
          </p:nvSpPr>
          <p:spPr>
            <a:xfrm>
              <a:off x="8848800" y="9355320"/>
              <a:ext cx="166680" cy="41400"/>
            </a:xfrm>
            <a:custGeom>
              <a:avLst/>
              <a:gdLst/>
              <a:ahLst/>
              <a:rect l="l" t="t" r="r" b="b"/>
              <a:pathLst>
                <a:path w="21600" h="21600">
                  <a:moveTo>
                    <a:pt x="21600" y="10800"/>
                  </a:moveTo>
                  <a:cubicBezTo>
                    <a:pt x="21600" y="16759"/>
                    <a:pt x="20387" y="21600"/>
                    <a:pt x="18900" y="21600"/>
                  </a:cubicBezTo>
                  <a:lnTo>
                    <a:pt x="2700" y="21600"/>
                  </a:lnTo>
                  <a:cubicBezTo>
                    <a:pt x="1202" y="21600"/>
                    <a:pt x="0" y="16759"/>
                    <a:pt x="0" y="10800"/>
                  </a:cubicBezTo>
                  <a:cubicBezTo>
                    <a:pt x="0" y="4841"/>
                    <a:pt x="1202" y="0"/>
                    <a:pt x="2700" y="0"/>
                  </a:cubicBezTo>
                  <a:lnTo>
                    <a:pt x="18900" y="0"/>
                  </a:lnTo>
                  <a:cubicBezTo>
                    <a:pt x="20387" y="0"/>
                    <a:pt x="21600" y="4841"/>
                    <a:pt x="21600" y="10800"/>
                  </a:cubicBezTo>
                </a:path>
              </a:pathLst>
            </a:custGeom>
            <a:solidFill>
              <a:srgbClr val="34353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97" name="AutoShape 8"/>
            <p:cNvSpPr/>
            <p:nvPr/>
          </p:nvSpPr>
          <p:spPr>
            <a:xfrm>
              <a:off x="8890200" y="10396800"/>
              <a:ext cx="84240" cy="42840"/>
            </a:xfrm>
            <a:custGeom>
              <a:avLst/>
              <a:gdLst/>
              <a:ahLst/>
              <a:rect l="l" t="t" r="r" b="b"/>
              <a:pathLst>
                <a:path w="21600" h="21600">
                  <a:moveTo>
                    <a:pt x="21600" y="10800"/>
                  </a:moveTo>
                  <a:cubicBezTo>
                    <a:pt x="21600" y="16770"/>
                    <a:pt x="19174" y="21600"/>
                    <a:pt x="16200" y="21600"/>
                  </a:cubicBezTo>
                  <a:lnTo>
                    <a:pt x="5400" y="21600"/>
                  </a:lnTo>
                  <a:cubicBezTo>
                    <a:pt x="2405" y="21600"/>
                    <a:pt x="0" y="16770"/>
                    <a:pt x="0" y="10800"/>
                  </a:cubicBezTo>
                  <a:cubicBezTo>
                    <a:pt x="0" y="4830"/>
                    <a:pt x="2405" y="0"/>
                    <a:pt x="5400" y="0"/>
                  </a:cubicBezTo>
                  <a:lnTo>
                    <a:pt x="16200" y="0"/>
                  </a:lnTo>
                  <a:cubicBezTo>
                    <a:pt x="19174" y="0"/>
                    <a:pt x="21600" y="4830"/>
                    <a:pt x="21600" y="10800"/>
                  </a:cubicBezTo>
                </a:path>
              </a:pathLst>
            </a:custGeom>
            <a:solidFill>
              <a:srgbClr val="34353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998" name="Group 12"/>
          <p:cNvGrpSpPr/>
          <p:nvPr/>
        </p:nvGrpSpPr>
        <p:grpSpPr>
          <a:xfrm>
            <a:off x="4913280" y="7416720"/>
            <a:ext cx="3366720" cy="3152880"/>
            <a:chOff x="4913280" y="7416720"/>
            <a:chExt cx="3366720" cy="3152880"/>
          </a:xfrm>
        </p:grpSpPr>
        <p:sp>
          <p:nvSpPr>
            <p:cNvPr id="999" name="AutoShape 10"/>
            <p:cNvSpPr/>
            <p:nvPr/>
          </p:nvSpPr>
          <p:spPr>
            <a:xfrm>
              <a:off x="5334120" y="7835760"/>
              <a:ext cx="2524680" cy="1682640"/>
            </a:xfrm>
            <a:custGeom>
              <a:avLst/>
              <a:gdLst/>
              <a:ahLst/>
              <a:rect l="l" t="t" r="r" b="b"/>
              <a:pathLst>
                <a:path w="21600" h="21600">
                  <a:moveTo>
                    <a:pt x="20700" y="20255"/>
                  </a:moveTo>
                  <a:lnTo>
                    <a:pt x="900" y="20255"/>
                  </a:lnTo>
                  <a:lnTo>
                    <a:pt x="900" y="1350"/>
                  </a:lnTo>
                  <a:lnTo>
                    <a:pt x="20700" y="1350"/>
                  </a:lnTo>
                  <a:cubicBezTo>
                    <a:pt x="20700" y="1350"/>
                    <a:pt x="20700" y="20255"/>
                    <a:pt x="20700" y="20255"/>
                  </a:cubicBezTo>
                  <a:close/>
                  <a:moveTo>
                    <a:pt x="20700" y="0"/>
                  </a:moveTo>
                  <a:lnTo>
                    <a:pt x="900" y="5"/>
                  </a:lnTo>
                  <a:cubicBezTo>
                    <a:pt x="403" y="5"/>
                    <a:pt x="0" y="603"/>
                    <a:pt x="0" y="1350"/>
                  </a:cubicBezTo>
                  <a:lnTo>
                    <a:pt x="0" y="20250"/>
                  </a:lnTo>
                  <a:cubicBezTo>
                    <a:pt x="0" y="20996"/>
                    <a:pt x="403" y="21600"/>
                    <a:pt x="900" y="21600"/>
                  </a:cubicBezTo>
                  <a:lnTo>
                    <a:pt x="20700" y="21600"/>
                  </a:lnTo>
                  <a:cubicBezTo>
                    <a:pt x="21197" y="21600"/>
                    <a:pt x="21600" y="20996"/>
                    <a:pt x="21600" y="20250"/>
                  </a:cubicBezTo>
                  <a:lnTo>
                    <a:pt x="21600" y="1350"/>
                  </a:lnTo>
                  <a:cubicBezTo>
                    <a:pt x="21600" y="603"/>
                    <a:pt x="21197" y="0"/>
                    <a:pt x="20700" y="0"/>
                  </a:cubicBezTo>
                </a:path>
              </a:pathLst>
            </a:custGeom>
            <a:solidFill>
              <a:srgbClr val="34353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00" name="AutoShape 11"/>
            <p:cNvSpPr/>
            <p:nvPr/>
          </p:nvSpPr>
          <p:spPr>
            <a:xfrm>
              <a:off x="4913280" y="7416720"/>
              <a:ext cx="3366720" cy="3152880"/>
            </a:xfrm>
            <a:custGeom>
              <a:avLst/>
              <a:gdLst/>
              <a:ahLst/>
              <a:rect l="l" t="t" r="r" b="b"/>
              <a:pathLst>
                <a:path w="21600" h="21600">
                  <a:moveTo>
                    <a:pt x="20250" y="16562"/>
                  </a:moveTo>
                  <a:cubicBezTo>
                    <a:pt x="20250" y="16959"/>
                    <a:pt x="19947" y="17282"/>
                    <a:pt x="19575" y="17282"/>
                  </a:cubicBezTo>
                  <a:lnTo>
                    <a:pt x="13500" y="17282"/>
                  </a:lnTo>
                  <a:lnTo>
                    <a:pt x="8100" y="17282"/>
                  </a:lnTo>
                  <a:lnTo>
                    <a:pt x="2025" y="17282"/>
                  </a:lnTo>
                  <a:cubicBezTo>
                    <a:pt x="1652" y="17282"/>
                    <a:pt x="1350" y="16959"/>
                    <a:pt x="1350" y="16562"/>
                  </a:cubicBezTo>
                  <a:lnTo>
                    <a:pt x="1350" y="2160"/>
                  </a:lnTo>
                  <a:cubicBezTo>
                    <a:pt x="1350" y="1763"/>
                    <a:pt x="1652" y="1440"/>
                    <a:pt x="2025" y="1440"/>
                  </a:cubicBezTo>
                  <a:lnTo>
                    <a:pt x="19575" y="1440"/>
                  </a:lnTo>
                  <a:cubicBezTo>
                    <a:pt x="19947" y="1440"/>
                    <a:pt x="20250" y="1763"/>
                    <a:pt x="20250" y="2160"/>
                  </a:cubicBezTo>
                  <a:cubicBezTo>
                    <a:pt x="20250" y="2160"/>
                    <a:pt x="20250" y="16562"/>
                    <a:pt x="20250" y="16562"/>
                  </a:cubicBezTo>
                  <a:close/>
                  <a:moveTo>
                    <a:pt x="19575" y="0"/>
                  </a:moveTo>
                  <a:lnTo>
                    <a:pt x="2025" y="0"/>
                  </a:lnTo>
                  <a:cubicBezTo>
                    <a:pt x="906" y="0"/>
                    <a:pt x="0" y="967"/>
                    <a:pt x="0" y="2160"/>
                  </a:cubicBezTo>
                  <a:lnTo>
                    <a:pt x="0" y="16562"/>
                  </a:lnTo>
                  <a:cubicBezTo>
                    <a:pt x="0" y="17753"/>
                    <a:pt x="903" y="18718"/>
                    <a:pt x="2018" y="18722"/>
                  </a:cubicBezTo>
                  <a:lnTo>
                    <a:pt x="8775" y="18722"/>
                  </a:lnTo>
                  <a:lnTo>
                    <a:pt x="8775" y="19597"/>
                  </a:lnTo>
                  <a:lnTo>
                    <a:pt x="4562" y="20181"/>
                  </a:lnTo>
                  <a:cubicBezTo>
                    <a:pt x="4261" y="20262"/>
                    <a:pt x="4050" y="20549"/>
                    <a:pt x="4050" y="20880"/>
                  </a:cubicBezTo>
                  <a:cubicBezTo>
                    <a:pt x="4050" y="21278"/>
                    <a:pt x="4352" y="21600"/>
                    <a:pt x="4725" y="21600"/>
                  </a:cubicBezTo>
                  <a:lnTo>
                    <a:pt x="16875" y="21600"/>
                  </a:lnTo>
                  <a:cubicBezTo>
                    <a:pt x="17248" y="21600"/>
                    <a:pt x="17550" y="21278"/>
                    <a:pt x="17550" y="20880"/>
                  </a:cubicBezTo>
                  <a:cubicBezTo>
                    <a:pt x="17550" y="20549"/>
                    <a:pt x="17339" y="20262"/>
                    <a:pt x="17038" y="20181"/>
                  </a:cubicBezTo>
                  <a:lnTo>
                    <a:pt x="12825" y="19597"/>
                  </a:lnTo>
                  <a:lnTo>
                    <a:pt x="12825" y="18722"/>
                  </a:lnTo>
                  <a:lnTo>
                    <a:pt x="19582" y="18722"/>
                  </a:lnTo>
                  <a:cubicBezTo>
                    <a:pt x="20697" y="18718"/>
                    <a:pt x="21600" y="17753"/>
                    <a:pt x="21600" y="16562"/>
                  </a:cubicBezTo>
                  <a:lnTo>
                    <a:pt x="21600" y="2160"/>
                  </a:lnTo>
                  <a:cubicBezTo>
                    <a:pt x="21600" y="967"/>
                    <a:pt x="20693" y="0"/>
                    <a:pt x="19575" y="0"/>
                  </a:cubicBezTo>
                </a:path>
              </a:pathLst>
            </a:custGeom>
            <a:solidFill>
              <a:srgbClr val="343536"/>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01" name="Rectangle 13"/>
          <p:cNvSpPr/>
          <p:nvPr/>
        </p:nvSpPr>
        <p:spPr>
          <a:xfrm>
            <a:off x="10566360" y="8109000"/>
            <a:ext cx="9029880" cy="2450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43333"/>
                </a:solidFill>
                <a:latin typeface="Open Sans Light"/>
                <a:ea typeface="ＭＳ Ｐゴシック"/>
              </a:rPr>
              <a:t>Maecenas faucibus mollis interdum. Praesent commodo cursus magna, vel scelerisque nisl consectetur et. Aenean lacinia bibendum nulla sed consectetur. Maecenas faucibus mollis interdum. Sed posuere consectetur est at lobortis. Donec sed odio dui.</a:t>
            </a:r>
            <a:endParaRPr b="0" lang="en-US" sz="2700" spc="-1" strike="noStrike">
              <a:solidFill>
                <a:srgbClr val="000000"/>
              </a:solidFill>
              <a:latin typeface="Gill Sans"/>
            </a:endParaRPr>
          </a:p>
        </p:txBody>
      </p:sp>
      <p:sp>
        <p:nvSpPr>
          <p:cNvPr id="1002" name="Rectangle 14"/>
          <p:cNvSpPr/>
          <p:nvPr/>
        </p:nvSpPr>
        <p:spPr>
          <a:xfrm>
            <a:off x="10566360" y="7137360"/>
            <a:ext cx="8597880" cy="723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3cb9e"/>
                </a:solidFill>
                <a:latin typeface="Open Sans Semibold"/>
                <a:ea typeface="ＭＳ Ｐゴシック"/>
              </a:rPr>
              <a:t>We create </a:t>
            </a:r>
            <a:r>
              <a:rPr b="0" lang="en-US" sz="3600" spc="-1" strike="noStrike">
                <a:solidFill>
                  <a:srgbClr val="23cb9e"/>
                </a:solidFill>
                <a:latin typeface="Open Sans Bold"/>
                <a:ea typeface="ＭＳ Ｐゴシック"/>
              </a:rPr>
              <a:t>top notch</a:t>
            </a:r>
            <a:r>
              <a:rPr b="0" lang="en-US" sz="3600" spc="-1" strike="noStrike">
                <a:solidFill>
                  <a:srgbClr val="23cb9e"/>
                </a:solidFill>
                <a:latin typeface="Open Sans Semibold"/>
                <a:ea typeface="ＭＳ Ｐゴシック"/>
              </a:rPr>
              <a:t> lorem ipsum</a:t>
            </a:r>
            <a:endParaRPr b="0" lang="en-US" sz="3600" spc="-1" strike="noStrike">
              <a:solidFill>
                <a:srgbClr val="000000"/>
              </a:solidFill>
              <a:latin typeface="Gill Sans"/>
            </a:endParaRPr>
          </a:p>
        </p:txBody>
      </p:sp>
      <p:sp>
        <p:nvSpPr>
          <p:cNvPr id="1003" name="Rectangle 15"/>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36</a:t>
            </a:r>
            <a:endParaRPr b="0" lang="en-US" sz="2400" spc="-1" strike="noStrike">
              <a:solidFill>
                <a:srgbClr val="000000"/>
              </a:solidFill>
              <a:latin typeface="Gill Sans"/>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4" name="Group 3"/>
          <p:cNvGrpSpPr/>
          <p:nvPr/>
        </p:nvGrpSpPr>
        <p:grpSpPr>
          <a:xfrm>
            <a:off x="1385640" y="819000"/>
            <a:ext cx="5618160" cy="1130040"/>
            <a:chOff x="1385640" y="819000"/>
            <a:chExt cx="5618160" cy="1130040"/>
          </a:xfrm>
        </p:grpSpPr>
        <p:sp>
          <p:nvSpPr>
            <p:cNvPr id="1005" name="Rectangle 1"/>
            <p:cNvSpPr/>
            <p:nvPr/>
          </p:nvSpPr>
          <p:spPr>
            <a:xfrm>
              <a:off x="1589400" y="819000"/>
              <a:ext cx="20566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Portfolio</a:t>
              </a:r>
              <a:endParaRPr b="0" lang="en-US" sz="4000" spc="-1" strike="noStrike">
                <a:solidFill>
                  <a:srgbClr val="000000"/>
                </a:solidFill>
                <a:latin typeface="Gill Sans"/>
              </a:endParaRPr>
            </a:p>
          </p:txBody>
        </p:sp>
        <p:sp>
          <p:nvSpPr>
            <p:cNvPr id="1006"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pic>
        <p:nvPicPr>
          <p:cNvPr id="1007" name="Picture 4" descr=""/>
          <p:cNvPicPr/>
          <p:nvPr/>
        </p:nvPicPr>
        <p:blipFill>
          <a:blip r:embed="rId1"/>
          <a:stretch/>
        </p:blipFill>
        <p:spPr>
          <a:xfrm>
            <a:off x="12353760" y="3301920"/>
            <a:ext cx="9604440" cy="20142360"/>
          </a:xfrm>
          <a:prstGeom prst="rect">
            <a:avLst/>
          </a:prstGeom>
          <a:ln w="0">
            <a:noFill/>
          </a:ln>
        </p:spPr>
      </p:pic>
      <p:sp>
        <p:nvSpPr>
          <p:cNvPr id="1008" name="Rectangle 5"/>
          <p:cNvSpPr/>
          <p:nvPr/>
        </p:nvSpPr>
        <p:spPr>
          <a:xfrm>
            <a:off x="2440080" y="7804080"/>
            <a:ext cx="6591240" cy="3454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sp>
        <p:nvSpPr>
          <p:cNvPr id="1009" name="Rectangle 6"/>
          <p:cNvSpPr/>
          <p:nvPr/>
        </p:nvSpPr>
        <p:spPr>
          <a:xfrm>
            <a:off x="2438280" y="4444920"/>
            <a:ext cx="6591600" cy="2984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a1919"/>
                </a:solidFill>
                <a:latin typeface="Open Sans"/>
                <a:ea typeface="ＭＳ Ｐゴシック"/>
              </a:rPr>
              <a:t>We Creates Stuff That </a:t>
            </a:r>
            <a:r>
              <a:rPr b="0" lang="en-US" sz="6400" spc="-1" strike="noStrike">
                <a:solidFill>
                  <a:srgbClr val="1a1919"/>
                </a:solidFill>
                <a:latin typeface="Open Sans Semibold"/>
                <a:ea typeface="ＭＳ Ｐゴシック"/>
              </a:rPr>
              <a:t>Works</a:t>
            </a:r>
            <a:r>
              <a:rPr b="0" lang="en-US" sz="6400" spc="-1" strike="noStrike">
                <a:solidFill>
                  <a:srgbClr val="1a1919"/>
                </a:solidFill>
                <a:latin typeface="Open Sans"/>
                <a:ea typeface="ＭＳ Ｐゴシック"/>
              </a:rPr>
              <a:t>. Period.</a:t>
            </a:r>
            <a:endParaRPr b="0" lang="en-US" sz="6400" spc="-1" strike="noStrike">
              <a:solidFill>
                <a:srgbClr val="000000"/>
              </a:solidFill>
              <a:latin typeface="Gill Sans"/>
            </a:endParaRPr>
          </a:p>
        </p:txBody>
      </p:sp>
      <p:grpSp>
        <p:nvGrpSpPr>
          <p:cNvPr id="1010" name="Group 9"/>
          <p:cNvGrpSpPr/>
          <p:nvPr/>
        </p:nvGrpSpPr>
        <p:grpSpPr>
          <a:xfrm>
            <a:off x="10146600" y="4962600"/>
            <a:ext cx="581760" cy="2316960"/>
            <a:chOff x="10146600" y="4962600"/>
            <a:chExt cx="581760" cy="2316960"/>
          </a:xfrm>
        </p:grpSpPr>
        <p:sp>
          <p:nvSpPr>
            <p:cNvPr id="1011" name="AutoShape 7"/>
            <p:cNvSpPr/>
            <p:nvPr/>
          </p:nvSpPr>
          <p:spPr>
            <a:xfrm>
              <a:off x="10150560" y="4962600"/>
              <a:ext cx="577800" cy="117216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12" name="AutoShape 8"/>
            <p:cNvSpPr/>
            <p:nvPr/>
          </p:nvSpPr>
          <p:spPr>
            <a:xfrm flipH="1" rot="10800000">
              <a:off x="10146240" y="6107040"/>
              <a:ext cx="576360" cy="117252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13" name="Rectangle 10"/>
          <p:cNvSpPr/>
          <p:nvPr/>
        </p:nvSpPr>
        <p:spPr>
          <a:xfrm>
            <a:off x="13157280" y="6222960"/>
            <a:ext cx="8102520" cy="7581960"/>
          </a:xfrm>
          <a:prstGeom prst="rect">
            <a:avLst/>
          </a:prstGeom>
          <a:gradFill rotWithShape="0">
            <a:gsLst>
              <a:gs pos="0">
                <a:srgbClr val="4445d2"/>
              </a:gs>
              <a:gs pos="100000">
                <a:srgbClr val="3690e2"/>
              </a:gs>
            </a:gsLst>
            <a:lin ang="5580000"/>
          </a:gra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14" name="Rectangle 12"/>
          <p:cNvSpPr/>
          <p:nvPr/>
        </p:nvSpPr>
        <p:spPr>
          <a:xfrm>
            <a:off x="13843080" y="7035840"/>
            <a:ext cx="5321160" cy="5270400"/>
          </a:xfrm>
          <a:prstGeom prst="rect">
            <a:avLst/>
          </a:prstGeom>
          <a:noFill/>
          <a:ln w="0">
            <a:noFill/>
          </a:ln>
        </p:spPr>
        <p:style>
          <a:lnRef idx="0"/>
          <a:fillRef idx="0"/>
          <a:effectRef idx="0"/>
          <a:fontRef idx="minor"/>
        </p:style>
        <p: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efe"/>
                </a:solidFill>
                <a:latin typeface="Open Sans"/>
                <a:ea typeface="ＭＳ Ｐゴシック"/>
              </a:rPr>
              <a:t>The</a:t>
            </a:r>
            <a:endParaRPr b="0" lang="en-US" sz="96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efe"/>
                </a:solidFill>
                <a:latin typeface="Open Sans"/>
                <a:ea typeface="ＭＳ Ｐゴシック"/>
              </a:rPr>
              <a:t>Unique</a:t>
            </a:r>
            <a:endParaRPr b="0" lang="en-US" sz="96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efe"/>
                </a:solidFill>
                <a:latin typeface="Open Sans"/>
                <a:ea typeface="ＭＳ Ｐゴシック"/>
              </a:rPr>
              <a:t>Screen</a:t>
            </a:r>
            <a:endParaRPr b="0" lang="en-US" sz="96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efe"/>
                </a:solidFill>
                <a:latin typeface="Open Sans"/>
                <a:ea typeface="ＭＳ Ｐゴシック"/>
              </a:rPr>
              <a:t>Mockup</a:t>
            </a:r>
            <a:endParaRPr b="0" lang="en-US" sz="9600" spc="-1" strike="noStrike">
              <a:solidFill>
                <a:srgbClr val="000000"/>
              </a:solidFill>
              <a:latin typeface="Gill Sans"/>
            </a:endParaRPr>
          </a:p>
        </p:txBody>
      </p:sp>
      <p:sp>
        <p:nvSpPr>
          <p:cNvPr id="1015" name="Rectangle 13"/>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37</a:t>
            </a:r>
            <a:endParaRPr b="0" lang="en-US" sz="2400" spc="-1" strike="noStrike">
              <a:solidFill>
                <a:srgbClr val="000000"/>
              </a:solidFill>
              <a:latin typeface="Gill Sans"/>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16" name="Group 3"/>
          <p:cNvGrpSpPr/>
          <p:nvPr/>
        </p:nvGrpSpPr>
        <p:grpSpPr>
          <a:xfrm>
            <a:off x="1385640" y="819000"/>
            <a:ext cx="5618160" cy="1130040"/>
            <a:chOff x="1385640" y="819000"/>
            <a:chExt cx="5618160" cy="1130040"/>
          </a:xfrm>
        </p:grpSpPr>
        <p:sp>
          <p:nvSpPr>
            <p:cNvPr id="1017" name="Rectangle 1"/>
            <p:cNvSpPr/>
            <p:nvPr/>
          </p:nvSpPr>
          <p:spPr>
            <a:xfrm>
              <a:off x="1589400" y="819000"/>
              <a:ext cx="20566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Portfolio</a:t>
              </a:r>
              <a:endParaRPr b="0" lang="en-US" sz="4000" spc="-1" strike="noStrike">
                <a:solidFill>
                  <a:srgbClr val="000000"/>
                </a:solidFill>
                <a:latin typeface="Gill Sans"/>
              </a:endParaRPr>
            </a:p>
          </p:txBody>
        </p:sp>
        <p:sp>
          <p:nvSpPr>
            <p:cNvPr id="1018"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1019" name="Rectangle 4"/>
          <p:cNvSpPr/>
          <p:nvPr/>
        </p:nvSpPr>
        <p:spPr>
          <a:xfrm>
            <a:off x="13512960" y="3301920"/>
            <a:ext cx="9359640" cy="2984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a1919"/>
                </a:solidFill>
                <a:latin typeface="Open Sans"/>
                <a:ea typeface="ＭＳ Ｐゴシック"/>
              </a:rPr>
              <a:t>Many Peoples Said We Are </a:t>
            </a:r>
            <a:r>
              <a:rPr b="0" lang="en-US" sz="6400" spc="-1" strike="noStrike">
                <a:solidFill>
                  <a:srgbClr val="1a1919"/>
                </a:solidFill>
                <a:latin typeface="Open Sans Semibold"/>
                <a:ea typeface="ＭＳ Ｐゴシック"/>
              </a:rPr>
              <a:t>Dreamer</a:t>
            </a:r>
            <a:r>
              <a:rPr b="0" lang="en-US" sz="6400" spc="-1" strike="noStrike">
                <a:solidFill>
                  <a:srgbClr val="1a1919"/>
                </a:solidFill>
                <a:latin typeface="Open Sans"/>
                <a:ea typeface="ＭＳ Ｐゴシック"/>
              </a:rPr>
              <a:t>. But, Yes We are the Only </a:t>
            </a:r>
            <a:r>
              <a:rPr b="0" lang="en-US" sz="6400" spc="-1" strike="noStrike">
                <a:solidFill>
                  <a:srgbClr val="1a1919"/>
                </a:solidFill>
                <a:latin typeface="Open Sans Semibold"/>
                <a:ea typeface="ＭＳ Ｐゴシック"/>
              </a:rPr>
              <a:t>One</a:t>
            </a:r>
            <a:r>
              <a:rPr b="0" lang="en-US" sz="6400" spc="-1" strike="noStrike">
                <a:solidFill>
                  <a:srgbClr val="1a1919"/>
                </a:solidFill>
                <a:latin typeface="Open Sans"/>
                <a:ea typeface="ＭＳ Ｐゴシック"/>
              </a:rPr>
              <a:t>.</a:t>
            </a:r>
            <a:endParaRPr b="0" lang="en-US" sz="6400" spc="-1" strike="noStrike">
              <a:solidFill>
                <a:srgbClr val="000000"/>
              </a:solidFill>
              <a:latin typeface="Gill Sans"/>
            </a:endParaRPr>
          </a:p>
        </p:txBody>
      </p:sp>
      <p:sp>
        <p:nvSpPr>
          <p:cNvPr id="1020" name="Rectangle 5"/>
          <p:cNvSpPr/>
          <p:nvPr/>
        </p:nvSpPr>
        <p:spPr>
          <a:xfrm>
            <a:off x="13514400" y="6915240"/>
            <a:ext cx="9055080" cy="1778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Aenean lacinia bibendum nulla sed consectetur. Nulla vitae elit libero, a pharetra augue.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grpSp>
        <p:nvGrpSpPr>
          <p:cNvPr id="1021" name="Group 8"/>
          <p:cNvGrpSpPr/>
          <p:nvPr/>
        </p:nvGrpSpPr>
        <p:grpSpPr>
          <a:xfrm>
            <a:off x="13525560" y="9550440"/>
            <a:ext cx="393480" cy="393840"/>
            <a:chOff x="13525560" y="9550440"/>
            <a:chExt cx="393480" cy="393840"/>
          </a:xfrm>
        </p:grpSpPr>
        <p:sp>
          <p:nvSpPr>
            <p:cNvPr id="1022" name="AutoShape 6"/>
            <p:cNvSpPr/>
            <p:nvPr/>
          </p:nvSpPr>
          <p:spPr>
            <a:xfrm rot="5400000">
              <a:off x="13669200" y="9698040"/>
              <a:ext cx="12852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23" name="Oval 7"/>
            <p:cNvSpPr/>
            <p:nvPr/>
          </p:nvSpPr>
          <p:spPr>
            <a:xfrm>
              <a:off x="13525560" y="9550440"/>
              <a:ext cx="393480" cy="39384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24" name="Rectangle 9"/>
          <p:cNvSpPr/>
          <p:nvPr/>
        </p:nvSpPr>
        <p:spPr>
          <a:xfrm>
            <a:off x="14100120" y="9557640"/>
            <a:ext cx="70855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Nullam</a:t>
            </a:r>
            <a:r>
              <a:rPr b="0" lang="en-US" sz="2400" spc="-1" strike="noStrike">
                <a:solidFill>
                  <a:srgbClr val="343333"/>
                </a:solidFill>
                <a:latin typeface="Open Sans Light"/>
                <a:ea typeface="ＭＳ Ｐゴシック"/>
              </a:rPr>
              <a:t> id dolor id nibh ultricies vehicula ut id elit.</a:t>
            </a:r>
            <a:endParaRPr b="0" lang="en-US" sz="2400" spc="-1" strike="noStrike">
              <a:solidFill>
                <a:srgbClr val="000000"/>
              </a:solidFill>
              <a:latin typeface="Gill Sans"/>
            </a:endParaRPr>
          </a:p>
        </p:txBody>
      </p:sp>
      <p:grpSp>
        <p:nvGrpSpPr>
          <p:cNvPr id="1025" name="Group 12"/>
          <p:cNvGrpSpPr/>
          <p:nvPr/>
        </p:nvGrpSpPr>
        <p:grpSpPr>
          <a:xfrm>
            <a:off x="13525560" y="10350360"/>
            <a:ext cx="393480" cy="393840"/>
            <a:chOff x="13525560" y="10350360"/>
            <a:chExt cx="393480" cy="393840"/>
          </a:xfrm>
        </p:grpSpPr>
        <p:sp>
          <p:nvSpPr>
            <p:cNvPr id="1026" name="AutoShape 10"/>
            <p:cNvSpPr/>
            <p:nvPr/>
          </p:nvSpPr>
          <p:spPr>
            <a:xfrm rot="5400000">
              <a:off x="13669200" y="10497960"/>
              <a:ext cx="12852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27" name="Oval 11"/>
            <p:cNvSpPr/>
            <p:nvPr/>
          </p:nvSpPr>
          <p:spPr>
            <a:xfrm>
              <a:off x="13525560" y="10350360"/>
              <a:ext cx="393480" cy="39384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28" name="Rectangle 13"/>
          <p:cNvSpPr/>
          <p:nvPr/>
        </p:nvSpPr>
        <p:spPr>
          <a:xfrm>
            <a:off x="14096520" y="10364040"/>
            <a:ext cx="69210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 </a:t>
            </a:r>
            <a:r>
              <a:rPr b="0" lang="en-US" sz="2400" spc="-1" strike="noStrike">
                <a:solidFill>
                  <a:srgbClr val="343333"/>
                </a:solidFill>
                <a:latin typeface="Open Sans Light"/>
                <a:ea typeface="ＭＳ Ｐゴシック"/>
              </a:rPr>
              <a:t>Vestibulum id ligula porta felis </a:t>
            </a:r>
            <a:r>
              <a:rPr b="0" lang="en-US" sz="2400" spc="-1" strike="noStrike">
                <a:solidFill>
                  <a:srgbClr val="343333"/>
                </a:solidFill>
                <a:latin typeface="Open Sans Bold"/>
                <a:ea typeface="ＭＳ Ｐゴシック"/>
              </a:rPr>
              <a:t>euismod</a:t>
            </a:r>
            <a:r>
              <a:rPr b="0" lang="en-US" sz="2400" spc="-1" strike="noStrike">
                <a:solidFill>
                  <a:srgbClr val="343333"/>
                </a:solidFill>
                <a:latin typeface="Open Sans Light"/>
                <a:ea typeface="ＭＳ Ｐゴシック"/>
              </a:rPr>
              <a:t> semper</a:t>
            </a:r>
            <a:endParaRPr b="0" lang="en-US" sz="2400" spc="-1" strike="noStrike">
              <a:solidFill>
                <a:srgbClr val="000000"/>
              </a:solidFill>
              <a:latin typeface="Gill Sans"/>
            </a:endParaRPr>
          </a:p>
        </p:txBody>
      </p:sp>
      <p:grpSp>
        <p:nvGrpSpPr>
          <p:cNvPr id="1029" name="Group 16"/>
          <p:cNvGrpSpPr/>
          <p:nvPr/>
        </p:nvGrpSpPr>
        <p:grpSpPr>
          <a:xfrm>
            <a:off x="13525560" y="11163240"/>
            <a:ext cx="393480" cy="393840"/>
            <a:chOff x="13525560" y="11163240"/>
            <a:chExt cx="393480" cy="393840"/>
          </a:xfrm>
        </p:grpSpPr>
        <p:sp>
          <p:nvSpPr>
            <p:cNvPr id="1030" name="AutoShape 14"/>
            <p:cNvSpPr/>
            <p:nvPr/>
          </p:nvSpPr>
          <p:spPr>
            <a:xfrm rot="5400000">
              <a:off x="13669200" y="11310840"/>
              <a:ext cx="12852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31" name="Oval 15"/>
            <p:cNvSpPr/>
            <p:nvPr/>
          </p:nvSpPr>
          <p:spPr>
            <a:xfrm>
              <a:off x="13525560" y="11163240"/>
              <a:ext cx="393480" cy="39384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32" name="Rectangle 17"/>
          <p:cNvSpPr/>
          <p:nvPr/>
        </p:nvSpPr>
        <p:spPr>
          <a:xfrm>
            <a:off x="14062320" y="11176920"/>
            <a:ext cx="7086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a:t>
            </a:r>
            <a:r>
              <a:rPr b="0" lang="en-US" sz="2400" spc="-1" strike="noStrike">
                <a:solidFill>
                  <a:srgbClr val="343333"/>
                </a:solidFill>
                <a:latin typeface="Open Sans Bold"/>
                <a:ea typeface="ＭＳ Ｐゴシック"/>
              </a:rPr>
              <a:t>dolor</a:t>
            </a:r>
            <a:r>
              <a:rPr b="0" lang="en-US" sz="2400" spc="-1" strike="noStrike">
                <a:solidFill>
                  <a:srgbClr val="343333"/>
                </a:solidFill>
                <a:latin typeface="Open Sans Light"/>
                <a:ea typeface="ＭＳ Ｐゴシック"/>
              </a:rPr>
              <a:t> id nibh ultricies vehicula ut id elit.</a:t>
            </a:r>
            <a:endParaRPr b="0" lang="en-US" sz="2400" spc="-1" strike="noStrike">
              <a:solidFill>
                <a:srgbClr val="000000"/>
              </a:solidFill>
              <a:latin typeface="Gill Sans"/>
            </a:endParaRPr>
          </a:p>
        </p:txBody>
      </p:sp>
      <p:grpSp>
        <p:nvGrpSpPr>
          <p:cNvPr id="1033" name="Group 23"/>
          <p:cNvGrpSpPr/>
          <p:nvPr/>
        </p:nvGrpSpPr>
        <p:grpSpPr>
          <a:xfrm>
            <a:off x="8064360" y="3962520"/>
            <a:ext cx="3849840" cy="8076960"/>
            <a:chOff x="8064360" y="3962520"/>
            <a:chExt cx="3849840" cy="8076960"/>
          </a:xfrm>
        </p:grpSpPr>
        <p:grpSp>
          <p:nvGrpSpPr>
            <p:cNvPr id="1034" name="Group 20"/>
            <p:cNvGrpSpPr/>
            <p:nvPr/>
          </p:nvGrpSpPr>
          <p:grpSpPr>
            <a:xfrm>
              <a:off x="8064360" y="3962520"/>
              <a:ext cx="3849840" cy="8076960"/>
              <a:chOff x="8064360" y="3962520"/>
              <a:chExt cx="3849840" cy="8076960"/>
            </a:xfrm>
          </p:grpSpPr>
          <p:pic>
            <p:nvPicPr>
              <p:cNvPr id="1035" name="Picture 18" descr=""/>
              <p:cNvPicPr/>
              <p:nvPr/>
            </p:nvPicPr>
            <p:blipFill>
              <a:blip r:embed="rId1"/>
              <a:stretch/>
            </p:blipFill>
            <p:spPr>
              <a:xfrm>
                <a:off x="8064360" y="3962520"/>
                <a:ext cx="3849840" cy="8076960"/>
              </a:xfrm>
              <a:prstGeom prst="rect">
                <a:avLst/>
              </a:prstGeom>
              <a:ln w="0">
                <a:noFill/>
              </a:ln>
            </p:spPr>
          </p:pic>
          <p:sp>
            <p:nvSpPr>
              <p:cNvPr id="1036" name="Rectangle 19"/>
              <p:cNvSpPr/>
              <p:nvPr/>
            </p:nvSpPr>
            <p:spPr>
              <a:xfrm>
                <a:off x="8383320" y="5132160"/>
                <a:ext cx="3252960" cy="5752800"/>
              </a:xfrm>
              <a:prstGeom prst="rect">
                <a:avLst/>
              </a:prstGeom>
              <a:gradFill rotWithShape="0">
                <a:gsLst>
                  <a:gs pos="0">
                    <a:srgbClr val="4445d2"/>
                  </a:gs>
                  <a:gs pos="100000">
                    <a:srgbClr val="3690e2"/>
                  </a:gs>
                </a:gsLst>
                <a:lin ang="5580000"/>
              </a:gra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37" name="Rectangle 22"/>
            <p:cNvSpPr/>
            <p:nvPr/>
          </p:nvSpPr>
          <p:spPr>
            <a:xfrm>
              <a:off x="8570880" y="8123040"/>
              <a:ext cx="2171520" cy="2464920"/>
            </a:xfrm>
            <a:prstGeom prst="rect">
              <a:avLst/>
            </a:prstGeom>
            <a:noFill/>
            <a:ln w="0">
              <a:noFill/>
            </a:ln>
          </p:spPr>
          <p:style>
            <a:lnRef idx="0"/>
            <a:fillRef idx="0"/>
            <a:effectRef idx="0"/>
            <a:fontRef idx="minor"/>
          </p:style>
          <p: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efe"/>
                  </a:solidFill>
                  <a:latin typeface="Open Sans"/>
                  <a:ea typeface="ＭＳ Ｐゴシック"/>
                </a:rPr>
                <a:t>The</a:t>
              </a:r>
              <a:endParaRPr b="0" lang="en-US" sz="4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efe"/>
                  </a:solidFill>
                  <a:latin typeface="Open Sans"/>
                  <a:ea typeface="ＭＳ Ｐゴシック"/>
                </a:rPr>
                <a:t>Unique</a:t>
              </a:r>
              <a:endParaRPr b="0" lang="en-US" sz="4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efe"/>
                  </a:solidFill>
                  <a:latin typeface="Open Sans"/>
                  <a:ea typeface="ＭＳ Ｐゴシック"/>
                </a:rPr>
                <a:t>Screen</a:t>
              </a:r>
              <a:endParaRPr b="0" lang="en-US" sz="4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efe"/>
                  </a:solidFill>
                  <a:latin typeface="Open Sans"/>
                  <a:ea typeface="ＭＳ Ｐゴシック"/>
                </a:rPr>
                <a:t>Mockup</a:t>
              </a:r>
              <a:endParaRPr b="0" lang="en-US" sz="4200" spc="-1" strike="noStrike">
                <a:solidFill>
                  <a:srgbClr val="000000"/>
                </a:solidFill>
                <a:latin typeface="Gill Sans"/>
              </a:endParaRPr>
            </a:p>
          </p:txBody>
        </p:sp>
      </p:grpSp>
      <p:grpSp>
        <p:nvGrpSpPr>
          <p:cNvPr id="1038" name="Group 29"/>
          <p:cNvGrpSpPr/>
          <p:nvPr/>
        </p:nvGrpSpPr>
        <p:grpSpPr>
          <a:xfrm>
            <a:off x="2082960" y="3962520"/>
            <a:ext cx="3849480" cy="8076960"/>
            <a:chOff x="2082960" y="3962520"/>
            <a:chExt cx="3849480" cy="8076960"/>
          </a:xfrm>
        </p:grpSpPr>
        <p:grpSp>
          <p:nvGrpSpPr>
            <p:cNvPr id="1039" name="Group 26"/>
            <p:cNvGrpSpPr/>
            <p:nvPr/>
          </p:nvGrpSpPr>
          <p:grpSpPr>
            <a:xfrm>
              <a:off x="2082960" y="3962520"/>
              <a:ext cx="3849480" cy="8076960"/>
              <a:chOff x="2082960" y="3962520"/>
              <a:chExt cx="3849480" cy="8076960"/>
            </a:xfrm>
          </p:grpSpPr>
          <p:pic>
            <p:nvPicPr>
              <p:cNvPr id="1040" name="Picture 24" descr=""/>
              <p:cNvPicPr/>
              <p:nvPr/>
            </p:nvPicPr>
            <p:blipFill>
              <a:blip r:embed="rId2"/>
              <a:stretch/>
            </p:blipFill>
            <p:spPr>
              <a:xfrm>
                <a:off x="2082960" y="3962520"/>
                <a:ext cx="3849480" cy="8076960"/>
              </a:xfrm>
              <a:prstGeom prst="rect">
                <a:avLst/>
              </a:prstGeom>
              <a:ln w="0">
                <a:noFill/>
              </a:ln>
            </p:spPr>
          </p:pic>
          <p:sp>
            <p:nvSpPr>
              <p:cNvPr id="1041" name="Rectangle 25"/>
              <p:cNvSpPr/>
              <p:nvPr/>
            </p:nvSpPr>
            <p:spPr>
              <a:xfrm>
                <a:off x="2401560" y="5132160"/>
                <a:ext cx="3252600" cy="5752800"/>
              </a:xfrm>
              <a:prstGeom prst="rect">
                <a:avLst/>
              </a:prstGeom>
              <a:gradFill rotWithShape="0">
                <a:gsLst>
                  <a:gs pos="0">
                    <a:srgbClr val="4445d2"/>
                  </a:gs>
                  <a:gs pos="100000">
                    <a:srgbClr val="3690e2"/>
                  </a:gs>
                </a:gsLst>
                <a:lin ang="5580000"/>
              </a:gra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42" name="Rectangle 28"/>
            <p:cNvSpPr/>
            <p:nvPr/>
          </p:nvSpPr>
          <p:spPr>
            <a:xfrm>
              <a:off x="2589120" y="8123040"/>
              <a:ext cx="2171160" cy="2464920"/>
            </a:xfrm>
            <a:prstGeom prst="rect">
              <a:avLst/>
            </a:prstGeom>
            <a:noFill/>
            <a:ln w="0">
              <a:noFill/>
            </a:ln>
          </p:spPr>
          <p:style>
            <a:lnRef idx="0"/>
            <a:fillRef idx="0"/>
            <a:effectRef idx="0"/>
            <a:fontRef idx="minor"/>
          </p:style>
          <p: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efe"/>
                  </a:solidFill>
                  <a:latin typeface="Open Sans"/>
                  <a:ea typeface="ＭＳ Ｐゴシック"/>
                </a:rPr>
                <a:t>The</a:t>
              </a:r>
              <a:endParaRPr b="0" lang="en-US" sz="4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efe"/>
                  </a:solidFill>
                  <a:latin typeface="Open Sans"/>
                  <a:ea typeface="ＭＳ Ｐゴシック"/>
                </a:rPr>
                <a:t>Unique</a:t>
              </a:r>
              <a:endParaRPr b="0" lang="en-US" sz="4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efe"/>
                  </a:solidFill>
                  <a:latin typeface="Open Sans"/>
                  <a:ea typeface="ＭＳ Ｐゴシック"/>
                </a:rPr>
                <a:t>Screen</a:t>
              </a:r>
              <a:endParaRPr b="0" lang="en-US" sz="4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efe"/>
                  </a:solidFill>
                  <a:latin typeface="Open Sans"/>
                  <a:ea typeface="ＭＳ Ｐゴシック"/>
                </a:rPr>
                <a:t>Mockup</a:t>
              </a:r>
              <a:endParaRPr b="0" lang="en-US" sz="4200" spc="-1" strike="noStrike">
                <a:solidFill>
                  <a:srgbClr val="000000"/>
                </a:solidFill>
                <a:latin typeface="Gill Sans"/>
              </a:endParaRPr>
            </a:p>
          </p:txBody>
        </p:sp>
      </p:grpSp>
      <p:grpSp>
        <p:nvGrpSpPr>
          <p:cNvPr id="1043" name="Group 35"/>
          <p:cNvGrpSpPr/>
          <p:nvPr/>
        </p:nvGrpSpPr>
        <p:grpSpPr>
          <a:xfrm>
            <a:off x="4950000" y="3301920"/>
            <a:ext cx="4165560" cy="8737560"/>
            <a:chOff x="4950000" y="3301920"/>
            <a:chExt cx="4165560" cy="8737560"/>
          </a:xfrm>
        </p:grpSpPr>
        <p:grpSp>
          <p:nvGrpSpPr>
            <p:cNvPr id="1044" name="Group 32"/>
            <p:cNvGrpSpPr/>
            <p:nvPr/>
          </p:nvGrpSpPr>
          <p:grpSpPr>
            <a:xfrm>
              <a:off x="4950000" y="3301920"/>
              <a:ext cx="4165560" cy="8737560"/>
              <a:chOff x="4950000" y="3301920"/>
              <a:chExt cx="4165560" cy="8737560"/>
            </a:xfrm>
          </p:grpSpPr>
          <p:pic>
            <p:nvPicPr>
              <p:cNvPr id="1045" name="Picture 30" descr=""/>
              <p:cNvPicPr/>
              <p:nvPr/>
            </p:nvPicPr>
            <p:blipFill>
              <a:blip r:embed="rId3"/>
              <a:stretch/>
            </p:blipFill>
            <p:spPr>
              <a:xfrm>
                <a:off x="4950000" y="3301920"/>
                <a:ext cx="4165560" cy="8737560"/>
              </a:xfrm>
              <a:prstGeom prst="rect">
                <a:avLst/>
              </a:prstGeom>
              <a:ln w="0">
                <a:noFill/>
              </a:ln>
            </p:spPr>
          </p:pic>
          <p:sp>
            <p:nvSpPr>
              <p:cNvPr id="1046" name="Rectangle 31"/>
              <p:cNvSpPr/>
              <p:nvPr/>
            </p:nvSpPr>
            <p:spPr>
              <a:xfrm>
                <a:off x="5295960" y="4568760"/>
                <a:ext cx="3517920" cy="6222960"/>
              </a:xfrm>
              <a:prstGeom prst="rect">
                <a:avLst/>
              </a:prstGeom>
              <a:gradFill rotWithShape="0">
                <a:gsLst>
                  <a:gs pos="0">
                    <a:srgbClr val="4445d2"/>
                  </a:gs>
                  <a:gs pos="100000">
                    <a:srgbClr val="3690e2"/>
                  </a:gs>
                </a:gsLst>
                <a:lin ang="5580000"/>
              </a:gra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47" name="Rectangle 34"/>
            <p:cNvSpPr/>
            <p:nvPr/>
          </p:nvSpPr>
          <p:spPr>
            <a:xfrm>
              <a:off x="5497560" y="7518240"/>
              <a:ext cx="2349720" cy="3238560"/>
            </a:xfrm>
            <a:prstGeom prst="rect">
              <a:avLst/>
            </a:prstGeom>
            <a:noFill/>
            <a:ln w="0">
              <a:noFill/>
            </a:ln>
          </p:spPr>
          <p:style>
            <a:lnRef idx="0"/>
            <a:fillRef idx="0"/>
            <a:effectRef idx="0"/>
            <a:fontRef idx="minor"/>
          </p:style>
          <p: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efe"/>
                  </a:solidFill>
                  <a:latin typeface="Open Sans"/>
                  <a:ea typeface="ＭＳ Ｐゴシック"/>
                </a:rPr>
                <a:t>The</a:t>
              </a:r>
              <a:endParaRPr b="0" lang="en-US" sz="48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efe"/>
                  </a:solidFill>
                  <a:latin typeface="Open Sans"/>
                  <a:ea typeface="ＭＳ Ｐゴシック"/>
                </a:rPr>
                <a:t>Unique</a:t>
              </a:r>
              <a:endParaRPr b="0" lang="en-US" sz="48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efe"/>
                  </a:solidFill>
                  <a:latin typeface="Open Sans"/>
                  <a:ea typeface="ＭＳ Ｐゴシック"/>
                </a:rPr>
                <a:t>Screen</a:t>
              </a:r>
              <a:endParaRPr b="0" lang="en-US" sz="48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efe"/>
                  </a:solidFill>
                  <a:latin typeface="Open Sans"/>
                  <a:ea typeface="ＭＳ Ｐゴシック"/>
                </a:rPr>
                <a:t>Mockup</a:t>
              </a:r>
              <a:endParaRPr b="0" lang="en-US" sz="4800" spc="-1" strike="noStrike">
                <a:solidFill>
                  <a:srgbClr val="000000"/>
                </a:solidFill>
                <a:latin typeface="Gill Sans"/>
              </a:endParaRPr>
            </a:p>
          </p:txBody>
        </p:sp>
      </p:grpSp>
      <p:sp>
        <p:nvSpPr>
          <p:cNvPr id="1048" name="Rectangle 36"/>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38</a:t>
            </a:r>
            <a:endParaRPr b="0" lang="en-US" sz="2400" spc="-1" strike="noStrike">
              <a:solidFill>
                <a:srgbClr val="000000"/>
              </a:solidFill>
              <a:latin typeface="Gill Sans"/>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9" name="Group 3"/>
          <p:cNvGrpSpPr/>
          <p:nvPr/>
        </p:nvGrpSpPr>
        <p:grpSpPr>
          <a:xfrm>
            <a:off x="1385640" y="819000"/>
            <a:ext cx="5618160" cy="1130040"/>
            <a:chOff x="1385640" y="819000"/>
            <a:chExt cx="5618160" cy="1130040"/>
          </a:xfrm>
        </p:grpSpPr>
        <p:sp>
          <p:nvSpPr>
            <p:cNvPr id="1050" name="Rectangle 1"/>
            <p:cNvSpPr/>
            <p:nvPr/>
          </p:nvSpPr>
          <p:spPr>
            <a:xfrm>
              <a:off x="1589400" y="819000"/>
              <a:ext cx="20566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Portfolio</a:t>
              </a:r>
              <a:endParaRPr b="0" lang="en-US" sz="4000" spc="-1" strike="noStrike">
                <a:solidFill>
                  <a:srgbClr val="000000"/>
                </a:solidFill>
                <a:latin typeface="Gill Sans"/>
              </a:endParaRPr>
            </a:p>
          </p:txBody>
        </p:sp>
        <p:sp>
          <p:nvSpPr>
            <p:cNvPr id="1051"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1052" name="Rectangle 4"/>
          <p:cNvSpPr/>
          <p:nvPr/>
        </p:nvSpPr>
        <p:spPr>
          <a:xfrm>
            <a:off x="2440080" y="7804080"/>
            <a:ext cx="6591240" cy="3454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sp>
        <p:nvSpPr>
          <p:cNvPr id="1053" name="Rectangle 5"/>
          <p:cNvSpPr/>
          <p:nvPr/>
        </p:nvSpPr>
        <p:spPr>
          <a:xfrm>
            <a:off x="2438280" y="4444920"/>
            <a:ext cx="6591600" cy="2984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a1919"/>
                </a:solidFill>
                <a:latin typeface="Open Sans"/>
                <a:ea typeface="ＭＳ Ｐゴシック"/>
              </a:rPr>
              <a:t>We Creates Stuff That </a:t>
            </a:r>
            <a:r>
              <a:rPr b="0" lang="en-US" sz="6400" spc="-1" strike="noStrike">
                <a:solidFill>
                  <a:srgbClr val="1a1919"/>
                </a:solidFill>
                <a:latin typeface="Open Sans Semibold"/>
                <a:ea typeface="ＭＳ Ｐゴシック"/>
              </a:rPr>
              <a:t>Works</a:t>
            </a:r>
            <a:r>
              <a:rPr b="0" lang="en-US" sz="6400" spc="-1" strike="noStrike">
                <a:solidFill>
                  <a:srgbClr val="1a1919"/>
                </a:solidFill>
                <a:latin typeface="Open Sans"/>
                <a:ea typeface="ＭＳ Ｐゴシック"/>
              </a:rPr>
              <a:t>. Period.</a:t>
            </a:r>
            <a:endParaRPr b="0" lang="en-US" sz="6400" spc="-1" strike="noStrike">
              <a:solidFill>
                <a:srgbClr val="000000"/>
              </a:solidFill>
              <a:latin typeface="Gill Sans"/>
            </a:endParaRPr>
          </a:p>
        </p:txBody>
      </p:sp>
      <p:grpSp>
        <p:nvGrpSpPr>
          <p:cNvPr id="1054" name="Group 8"/>
          <p:cNvGrpSpPr/>
          <p:nvPr/>
        </p:nvGrpSpPr>
        <p:grpSpPr>
          <a:xfrm>
            <a:off x="10146600" y="4962600"/>
            <a:ext cx="581760" cy="2316960"/>
            <a:chOff x="10146600" y="4962600"/>
            <a:chExt cx="581760" cy="2316960"/>
          </a:xfrm>
        </p:grpSpPr>
        <p:sp>
          <p:nvSpPr>
            <p:cNvPr id="1055" name="AutoShape 6"/>
            <p:cNvSpPr/>
            <p:nvPr/>
          </p:nvSpPr>
          <p:spPr>
            <a:xfrm>
              <a:off x="10150560" y="4962600"/>
              <a:ext cx="577800" cy="117216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56" name="AutoShape 7"/>
            <p:cNvSpPr/>
            <p:nvPr/>
          </p:nvSpPr>
          <p:spPr>
            <a:xfrm flipH="1" rot="10800000">
              <a:off x="10146240" y="6107040"/>
              <a:ext cx="576360" cy="117252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pic>
        <p:nvPicPr>
          <p:cNvPr id="1057" name="Picture 9" descr=""/>
          <p:cNvPicPr/>
          <p:nvPr/>
        </p:nvPicPr>
        <p:blipFill>
          <a:blip r:embed="rId1"/>
          <a:stretch/>
        </p:blipFill>
        <p:spPr>
          <a:xfrm>
            <a:off x="11866680" y="3298680"/>
            <a:ext cx="13931640" cy="11547720"/>
          </a:xfrm>
          <a:prstGeom prst="rect">
            <a:avLst/>
          </a:prstGeom>
          <a:ln w="0">
            <a:noFill/>
          </a:ln>
        </p:spPr>
      </p:pic>
      <p:sp>
        <p:nvSpPr>
          <p:cNvPr id="1058" name="Rectangle 10"/>
          <p:cNvSpPr/>
          <p:nvPr/>
        </p:nvSpPr>
        <p:spPr>
          <a:xfrm>
            <a:off x="12395160" y="3848040"/>
            <a:ext cx="12039480" cy="7670880"/>
          </a:xfrm>
          <a:prstGeom prst="rect">
            <a:avLst/>
          </a:prstGeom>
          <a:gradFill rotWithShape="0">
            <a:gsLst>
              <a:gs pos="0">
                <a:srgbClr val="4445d2"/>
              </a:gs>
              <a:gs pos="100000">
                <a:srgbClr val="3690e2"/>
              </a:gs>
            </a:gsLst>
            <a:lin ang="5580000"/>
          </a:gra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59" name="Rectangle 12"/>
          <p:cNvSpPr/>
          <p:nvPr/>
        </p:nvSpPr>
        <p:spPr>
          <a:xfrm>
            <a:off x="13588920" y="4952880"/>
            <a:ext cx="5321520" cy="5270760"/>
          </a:xfrm>
          <a:prstGeom prst="rect">
            <a:avLst/>
          </a:prstGeom>
          <a:noFill/>
          <a:ln w="0">
            <a:noFill/>
          </a:ln>
        </p:spPr>
        <p:style>
          <a:lnRef idx="0"/>
          <a:fillRef idx="0"/>
          <a:effectRef idx="0"/>
          <a:fontRef idx="minor"/>
        </p:style>
        <p: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efe"/>
                </a:solidFill>
                <a:latin typeface="Open Sans"/>
                <a:ea typeface="ＭＳ Ｐゴシック"/>
              </a:rPr>
              <a:t>The</a:t>
            </a:r>
            <a:endParaRPr b="0" lang="en-US" sz="96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efe"/>
                </a:solidFill>
                <a:latin typeface="Open Sans"/>
                <a:ea typeface="ＭＳ Ｐゴシック"/>
              </a:rPr>
              <a:t>Unique</a:t>
            </a:r>
            <a:endParaRPr b="0" lang="en-US" sz="96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efe"/>
                </a:solidFill>
                <a:latin typeface="Open Sans"/>
                <a:ea typeface="ＭＳ Ｐゴシック"/>
              </a:rPr>
              <a:t>Screen</a:t>
            </a:r>
            <a:endParaRPr b="0" lang="en-US" sz="96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efe"/>
                </a:solidFill>
                <a:latin typeface="Open Sans"/>
                <a:ea typeface="ＭＳ Ｐゴシック"/>
              </a:rPr>
              <a:t>Mockup</a:t>
            </a:r>
            <a:endParaRPr b="0" lang="en-US" sz="9600" spc="-1" strike="noStrike">
              <a:solidFill>
                <a:srgbClr val="000000"/>
              </a:solidFill>
              <a:latin typeface="Gill Sans"/>
            </a:endParaRPr>
          </a:p>
        </p:txBody>
      </p:sp>
      <p:sp>
        <p:nvSpPr>
          <p:cNvPr id="1060" name="Rectangle 13"/>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39</a:t>
            </a:r>
            <a:endParaRPr b="0" lang="en-US" sz="2400" spc="-1" strike="noStrike">
              <a:solidFill>
                <a:srgbClr val="000000"/>
              </a:solidFill>
              <a:latin typeface="Gill Sans"/>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4" name="Group 4"/>
          <p:cNvGrpSpPr/>
          <p:nvPr/>
        </p:nvGrpSpPr>
        <p:grpSpPr>
          <a:xfrm>
            <a:off x="1385640" y="819000"/>
            <a:ext cx="5618160" cy="1130040"/>
            <a:chOff x="1385640" y="819000"/>
            <a:chExt cx="5618160" cy="1130040"/>
          </a:xfrm>
        </p:grpSpPr>
        <p:sp>
          <p:nvSpPr>
            <p:cNvPr id="275" name="Rectangle 2"/>
            <p:cNvSpPr/>
            <p:nvPr/>
          </p:nvSpPr>
          <p:spPr>
            <a:xfrm>
              <a:off x="1614960" y="819000"/>
              <a:ext cx="432576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Greetings from us</a:t>
              </a:r>
              <a:endParaRPr b="0" lang="en-US" sz="4000" spc="-1" strike="noStrike">
                <a:solidFill>
                  <a:srgbClr val="000000"/>
                </a:solidFill>
                <a:latin typeface="Gill Sans"/>
              </a:endParaRPr>
            </a:p>
          </p:txBody>
        </p:sp>
        <p:sp>
          <p:nvSpPr>
            <p:cNvPr id="276" name="Rectangle 3"/>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277" name="Rectangle 5"/>
          <p:cNvSpPr/>
          <p:nvPr/>
        </p:nvSpPr>
        <p:spPr>
          <a:xfrm>
            <a:off x="10949040" y="5607000"/>
            <a:ext cx="11925360" cy="519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919"/>
                </a:solidFill>
                <a:latin typeface="Open Sans Light"/>
                <a:ea typeface="ＭＳ Ｐゴシック"/>
              </a:rPr>
              <a:t>Morbi leo risus, elit. Vestibulum id Aenean lacinia bibendum nulla sed coetra augue. Aenean eu leo  Nulla vitae elit libero, a pharetra augue. Aenean eu leo quam. Pellentesque ornare sem lacinia quam venenatis vestibulum. Morbctetur. Nulla vitae elit libero, aero, a pharetra augue. Aeneanquam. Pellen vestibulus, porta ac consectetur ac, vestibulum at eros. ut id elit. Vestibulum id ligula porta felis euismod semper. Aenean lacinia bibendum nulla sed consectetur. Nulla vitae elit libero vestibulum. Morbi leo risus, elit. quam venenatis vestibulum. Morbctetur. Nulla vitae elit libero, aero, a pharetra augue. Aeneanquam. Pellen vestibulus, porta ac consectetur ac, vestibulum at eros. ut id elit. Vestibulum id ligula porta felis euismod semper. Aenean lacinia bibendum nulla sed consectetur. Nulla vitae elit libero </a:t>
            </a:r>
            <a:endParaRPr b="0" lang="en-US" sz="2400" spc="-1" strike="noStrike">
              <a:solidFill>
                <a:srgbClr val="000000"/>
              </a:solidFill>
              <a:latin typeface="Gill Sans"/>
            </a:endParaRPr>
          </a:p>
        </p:txBody>
      </p:sp>
      <p:sp>
        <p:nvSpPr>
          <p:cNvPr id="278" name="Rectangle 7"/>
          <p:cNvSpPr/>
          <p:nvPr/>
        </p:nvSpPr>
        <p:spPr>
          <a:xfrm>
            <a:off x="10947240" y="3333600"/>
            <a:ext cx="11925360" cy="16765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a1919"/>
                </a:solidFill>
                <a:latin typeface="Open Sans Light"/>
                <a:ea typeface="ＭＳ Ｐゴシック"/>
              </a:rPr>
              <a:t>What we </a:t>
            </a:r>
            <a:r>
              <a:rPr b="0" lang="en-US" sz="4800" spc="-1" strike="noStrike">
                <a:solidFill>
                  <a:srgbClr val="1a1919"/>
                </a:solidFill>
                <a:latin typeface="Open Sans Light Italic"/>
                <a:ea typeface="ＭＳ Ｐゴシック"/>
              </a:rPr>
              <a:t>see</a:t>
            </a:r>
            <a:r>
              <a:rPr b="0" lang="en-US" sz="4800" spc="-1" strike="noStrike">
                <a:solidFill>
                  <a:srgbClr val="1a1919"/>
                </a:solidFill>
                <a:latin typeface="Open Sans Light"/>
                <a:ea typeface="ＭＳ Ｐゴシック"/>
              </a:rPr>
              <a:t> is only </a:t>
            </a:r>
            <a:r>
              <a:rPr b="0" lang="en-US" sz="4800" spc="-1" strike="noStrike">
                <a:solidFill>
                  <a:srgbClr val="1a1919"/>
                </a:solidFill>
                <a:latin typeface="Open Sans Bold"/>
                <a:ea typeface="ＭＳ Ｐゴシック"/>
              </a:rPr>
              <a:t>a perception</a:t>
            </a:r>
            <a:r>
              <a:rPr b="0" lang="en-US" sz="4800" spc="-1" strike="noStrike">
                <a:solidFill>
                  <a:srgbClr val="1a1919"/>
                </a:solidFill>
                <a:latin typeface="Open Sans Light"/>
                <a:ea typeface="ＭＳ Ｐゴシック"/>
              </a:rPr>
              <a:t>. What we </a:t>
            </a:r>
            <a:r>
              <a:rPr b="0" lang="en-US" sz="4800" spc="-1" strike="noStrike">
                <a:solidFill>
                  <a:srgbClr val="1a1919"/>
                </a:solidFill>
                <a:latin typeface="Open Sans Light Italic"/>
                <a:ea typeface="ＭＳ Ｐゴシック"/>
              </a:rPr>
              <a:t>hear</a:t>
            </a:r>
            <a:r>
              <a:rPr b="0" lang="en-US" sz="4800" spc="-1" strike="noStrike">
                <a:solidFill>
                  <a:srgbClr val="1a1919"/>
                </a:solidFill>
                <a:latin typeface="Open Sans Light"/>
                <a:ea typeface="ＭＳ Ｐゴシック"/>
              </a:rPr>
              <a:t> is only </a:t>
            </a:r>
            <a:r>
              <a:rPr b="0" lang="en-US" sz="4800" spc="-1" strike="noStrike">
                <a:solidFill>
                  <a:srgbClr val="1a1919"/>
                </a:solidFill>
                <a:latin typeface="Open Sans Bold"/>
                <a:ea typeface="ＭＳ Ｐゴシック"/>
              </a:rPr>
              <a:t>an opinion</a:t>
            </a:r>
            <a:r>
              <a:rPr b="0" lang="en-US" sz="4800" spc="-1" strike="noStrike">
                <a:solidFill>
                  <a:srgbClr val="1a1919"/>
                </a:solidFill>
                <a:latin typeface="Open Sans Light"/>
                <a:ea typeface="ＭＳ Ｐゴシック"/>
              </a:rPr>
              <a:t>.</a:t>
            </a:r>
            <a:endParaRPr b="0" lang="en-US" sz="4800" spc="-1" strike="noStrike">
              <a:solidFill>
                <a:srgbClr val="000000"/>
              </a:solidFill>
              <a:latin typeface="Gill Sans"/>
            </a:endParaRPr>
          </a:p>
        </p:txBody>
      </p:sp>
      <p:sp>
        <p:nvSpPr>
          <p:cNvPr id="279" name="Rectangle 8"/>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04</a:t>
            </a:r>
            <a:endParaRPr b="0" lang="en-US" sz="2400" spc="-1" strike="noStrike">
              <a:solidFill>
                <a:srgbClr val="000000"/>
              </a:solidFill>
              <a:latin typeface="Gill Sans"/>
            </a:endParaRPr>
          </a:p>
        </p:txBody>
      </p:sp>
      <p:sp>
        <p:nvSpPr>
          <p:cNvPr id="280" name="Rectangle 9"/>
          <p:cNvSpPr/>
          <p:nvPr/>
        </p:nvSpPr>
        <p:spPr>
          <a:xfrm>
            <a:off x="1447920" y="3276720"/>
            <a:ext cx="8610480" cy="7543800"/>
          </a:xfrm>
          <a:prstGeom prst="rect">
            <a:avLst/>
          </a:prstGeom>
          <a:solidFill>
            <a:srgbClr val="7f7f7f"/>
          </a:solidFill>
          <a:ln w="25560">
            <a:solidFill>
              <a:srgbClr val="7f7f7f"/>
            </a:solidFill>
            <a:miter/>
          </a:ln>
        </p:spPr>
        <p:style>
          <a:lnRef idx="0"/>
          <a:fillRef idx="0"/>
          <a:effectRef idx="0"/>
          <a:fontRef idx="minor"/>
        </p:style>
        <p:txBody>
          <a:bodyPr lIns="50760" rIns="50760" tIns="50760" bIns="50760" anchor="ctr">
            <a:noAutofit/>
          </a:bodyPr>
          <a:p>
            <a:pPr marL="343080"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5600" spc="-1" strike="noStrike">
              <a:solidFill>
                <a:srgbClr val="000000"/>
              </a:solidFill>
              <a:latin typeface="Gill Sans"/>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61" name="Group 3"/>
          <p:cNvGrpSpPr/>
          <p:nvPr/>
        </p:nvGrpSpPr>
        <p:grpSpPr>
          <a:xfrm>
            <a:off x="1385640" y="819000"/>
            <a:ext cx="5618160" cy="1130040"/>
            <a:chOff x="1385640" y="819000"/>
            <a:chExt cx="5618160" cy="1130040"/>
          </a:xfrm>
        </p:grpSpPr>
        <p:sp>
          <p:nvSpPr>
            <p:cNvPr id="1062" name="Rectangle 1"/>
            <p:cNvSpPr/>
            <p:nvPr/>
          </p:nvSpPr>
          <p:spPr>
            <a:xfrm>
              <a:off x="1589400" y="819000"/>
              <a:ext cx="20566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Portfolio</a:t>
              </a:r>
              <a:endParaRPr b="0" lang="en-US" sz="4000" spc="-1" strike="noStrike">
                <a:solidFill>
                  <a:srgbClr val="000000"/>
                </a:solidFill>
                <a:latin typeface="Gill Sans"/>
              </a:endParaRPr>
            </a:p>
          </p:txBody>
        </p:sp>
        <p:sp>
          <p:nvSpPr>
            <p:cNvPr id="1063"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grpSp>
        <p:nvGrpSpPr>
          <p:cNvPr id="1064" name="Group 7"/>
          <p:cNvGrpSpPr/>
          <p:nvPr/>
        </p:nvGrpSpPr>
        <p:grpSpPr>
          <a:xfrm>
            <a:off x="2112840" y="3630600"/>
            <a:ext cx="9639360" cy="7989480"/>
            <a:chOff x="2112840" y="3630600"/>
            <a:chExt cx="9639360" cy="7989480"/>
          </a:xfrm>
        </p:grpSpPr>
        <p:pic>
          <p:nvPicPr>
            <p:cNvPr id="1065" name="Picture 4" descr=""/>
            <p:cNvPicPr/>
            <p:nvPr/>
          </p:nvPicPr>
          <p:blipFill>
            <a:blip r:embed="rId1"/>
            <a:stretch/>
          </p:blipFill>
          <p:spPr>
            <a:xfrm>
              <a:off x="2112840" y="3630600"/>
              <a:ext cx="9639360" cy="7989480"/>
            </a:xfrm>
            <a:prstGeom prst="rect">
              <a:avLst/>
            </a:prstGeom>
            <a:ln w="0">
              <a:noFill/>
            </a:ln>
          </p:spPr>
        </p:pic>
        <p:sp>
          <p:nvSpPr>
            <p:cNvPr id="1066" name="Rectangle 5"/>
            <p:cNvSpPr/>
            <p:nvPr/>
          </p:nvSpPr>
          <p:spPr>
            <a:xfrm>
              <a:off x="2477880" y="4008600"/>
              <a:ext cx="8839440" cy="5309280"/>
            </a:xfrm>
            <a:prstGeom prst="rect">
              <a:avLst/>
            </a:prstGeom>
            <a:gradFill rotWithShape="0">
              <a:gsLst>
                <a:gs pos="0">
                  <a:srgbClr val="4445d2"/>
                </a:gs>
                <a:gs pos="100000">
                  <a:srgbClr val="3690e2"/>
                </a:gs>
              </a:gsLst>
              <a:lin ang="5580000"/>
            </a:gra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67" name="Rectangle 8"/>
          <p:cNvSpPr/>
          <p:nvPr/>
        </p:nvSpPr>
        <p:spPr>
          <a:xfrm>
            <a:off x="3060720" y="4641840"/>
            <a:ext cx="5321160" cy="3962520"/>
          </a:xfrm>
          <a:prstGeom prst="rect">
            <a:avLst/>
          </a:prstGeom>
          <a:noFill/>
          <a:ln w="0">
            <a:noFill/>
          </a:ln>
        </p:spPr>
        <p:style>
          <a:lnRef idx="0"/>
          <a:fillRef idx="0"/>
          <a:effectRef idx="0"/>
          <a:fontRef idx="minor"/>
        </p:style>
        <p: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efe"/>
                </a:solidFill>
                <a:latin typeface="Open Sans"/>
                <a:ea typeface="ＭＳ Ｐゴシック"/>
              </a:rPr>
              <a:t>The</a:t>
            </a:r>
            <a:endParaRPr b="0" lang="en-US" sz="7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efe"/>
                </a:solidFill>
                <a:latin typeface="Open Sans"/>
                <a:ea typeface="ＭＳ Ｐゴシック"/>
              </a:rPr>
              <a:t>Unique</a:t>
            </a:r>
            <a:endParaRPr b="0" lang="en-US" sz="7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efe"/>
                </a:solidFill>
                <a:latin typeface="Open Sans"/>
                <a:ea typeface="ＭＳ Ｐゴシック"/>
              </a:rPr>
              <a:t>Screen</a:t>
            </a:r>
            <a:endParaRPr b="0" lang="en-US" sz="7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efe"/>
                </a:solidFill>
                <a:latin typeface="Open Sans"/>
                <a:ea typeface="ＭＳ Ｐゴシック"/>
              </a:rPr>
              <a:t>Mockup</a:t>
            </a:r>
            <a:endParaRPr b="0" lang="en-US" sz="7200" spc="-1" strike="noStrike">
              <a:solidFill>
                <a:srgbClr val="000000"/>
              </a:solidFill>
              <a:latin typeface="Gill Sans"/>
            </a:endParaRPr>
          </a:p>
        </p:txBody>
      </p:sp>
      <p:sp>
        <p:nvSpPr>
          <p:cNvPr id="1068" name="Rectangle 9"/>
          <p:cNvSpPr/>
          <p:nvPr/>
        </p:nvSpPr>
        <p:spPr>
          <a:xfrm>
            <a:off x="13512960" y="3301920"/>
            <a:ext cx="9359640" cy="2984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a1919"/>
                </a:solidFill>
                <a:latin typeface="Open Sans"/>
                <a:ea typeface="ＭＳ Ｐゴシック"/>
              </a:rPr>
              <a:t>Many Peoples Said We Are </a:t>
            </a:r>
            <a:r>
              <a:rPr b="0" lang="en-US" sz="6400" spc="-1" strike="noStrike">
                <a:solidFill>
                  <a:srgbClr val="1a1919"/>
                </a:solidFill>
                <a:latin typeface="Open Sans Semibold"/>
                <a:ea typeface="ＭＳ Ｐゴシック"/>
              </a:rPr>
              <a:t>Dreamer</a:t>
            </a:r>
            <a:r>
              <a:rPr b="0" lang="en-US" sz="6400" spc="-1" strike="noStrike">
                <a:solidFill>
                  <a:srgbClr val="1a1919"/>
                </a:solidFill>
                <a:latin typeface="Open Sans"/>
                <a:ea typeface="ＭＳ Ｐゴシック"/>
              </a:rPr>
              <a:t>. But, Yes We are the Only </a:t>
            </a:r>
            <a:r>
              <a:rPr b="0" lang="en-US" sz="6400" spc="-1" strike="noStrike">
                <a:solidFill>
                  <a:srgbClr val="1a1919"/>
                </a:solidFill>
                <a:latin typeface="Open Sans Semibold"/>
                <a:ea typeface="ＭＳ Ｐゴシック"/>
              </a:rPr>
              <a:t>One</a:t>
            </a:r>
            <a:r>
              <a:rPr b="0" lang="en-US" sz="6400" spc="-1" strike="noStrike">
                <a:solidFill>
                  <a:srgbClr val="1a1919"/>
                </a:solidFill>
                <a:latin typeface="Open Sans"/>
                <a:ea typeface="ＭＳ Ｐゴシック"/>
              </a:rPr>
              <a:t>.</a:t>
            </a:r>
            <a:endParaRPr b="0" lang="en-US" sz="6400" spc="-1" strike="noStrike">
              <a:solidFill>
                <a:srgbClr val="000000"/>
              </a:solidFill>
              <a:latin typeface="Gill Sans"/>
            </a:endParaRPr>
          </a:p>
        </p:txBody>
      </p:sp>
      <p:sp>
        <p:nvSpPr>
          <p:cNvPr id="1069" name="Rectangle 10"/>
          <p:cNvSpPr/>
          <p:nvPr/>
        </p:nvSpPr>
        <p:spPr>
          <a:xfrm>
            <a:off x="13514400" y="6915240"/>
            <a:ext cx="9055080" cy="1778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Aenean lacinia bibendum nulla sed consectetur. Nulla vitae elit libero, a pharetra augue.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grpSp>
        <p:nvGrpSpPr>
          <p:cNvPr id="1070" name="Group 13"/>
          <p:cNvGrpSpPr/>
          <p:nvPr/>
        </p:nvGrpSpPr>
        <p:grpSpPr>
          <a:xfrm>
            <a:off x="13525560" y="9550440"/>
            <a:ext cx="393480" cy="393840"/>
            <a:chOff x="13525560" y="9550440"/>
            <a:chExt cx="393480" cy="393840"/>
          </a:xfrm>
        </p:grpSpPr>
        <p:sp>
          <p:nvSpPr>
            <p:cNvPr id="1071" name="AutoShape 11"/>
            <p:cNvSpPr/>
            <p:nvPr/>
          </p:nvSpPr>
          <p:spPr>
            <a:xfrm rot="5400000">
              <a:off x="13669200" y="9698040"/>
              <a:ext cx="12852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72" name="Oval 12"/>
            <p:cNvSpPr/>
            <p:nvPr/>
          </p:nvSpPr>
          <p:spPr>
            <a:xfrm>
              <a:off x="13525560" y="9550440"/>
              <a:ext cx="393480" cy="39384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73" name="Rectangle 14"/>
          <p:cNvSpPr/>
          <p:nvPr/>
        </p:nvSpPr>
        <p:spPr>
          <a:xfrm>
            <a:off x="14100120" y="9557640"/>
            <a:ext cx="70855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Nullam</a:t>
            </a:r>
            <a:r>
              <a:rPr b="0" lang="en-US" sz="2400" spc="-1" strike="noStrike">
                <a:solidFill>
                  <a:srgbClr val="343333"/>
                </a:solidFill>
                <a:latin typeface="Open Sans Light"/>
                <a:ea typeface="ＭＳ Ｐゴシック"/>
              </a:rPr>
              <a:t> id dolor id nibh ultricies vehicula ut id elit.</a:t>
            </a:r>
            <a:endParaRPr b="0" lang="en-US" sz="2400" spc="-1" strike="noStrike">
              <a:solidFill>
                <a:srgbClr val="000000"/>
              </a:solidFill>
              <a:latin typeface="Gill Sans"/>
            </a:endParaRPr>
          </a:p>
        </p:txBody>
      </p:sp>
      <p:grpSp>
        <p:nvGrpSpPr>
          <p:cNvPr id="1074" name="Group 17"/>
          <p:cNvGrpSpPr/>
          <p:nvPr/>
        </p:nvGrpSpPr>
        <p:grpSpPr>
          <a:xfrm>
            <a:off x="13525560" y="10350360"/>
            <a:ext cx="393480" cy="393840"/>
            <a:chOff x="13525560" y="10350360"/>
            <a:chExt cx="393480" cy="393840"/>
          </a:xfrm>
        </p:grpSpPr>
        <p:sp>
          <p:nvSpPr>
            <p:cNvPr id="1075" name="AutoShape 15"/>
            <p:cNvSpPr/>
            <p:nvPr/>
          </p:nvSpPr>
          <p:spPr>
            <a:xfrm rot="5400000">
              <a:off x="13669200" y="10497960"/>
              <a:ext cx="12852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76" name="Oval 16"/>
            <p:cNvSpPr/>
            <p:nvPr/>
          </p:nvSpPr>
          <p:spPr>
            <a:xfrm>
              <a:off x="13525560" y="10350360"/>
              <a:ext cx="393480" cy="39384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77" name="Rectangle 18"/>
          <p:cNvSpPr/>
          <p:nvPr/>
        </p:nvSpPr>
        <p:spPr>
          <a:xfrm>
            <a:off x="14096520" y="10364040"/>
            <a:ext cx="69210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 </a:t>
            </a:r>
            <a:r>
              <a:rPr b="0" lang="en-US" sz="2400" spc="-1" strike="noStrike">
                <a:solidFill>
                  <a:srgbClr val="343333"/>
                </a:solidFill>
                <a:latin typeface="Open Sans Light"/>
                <a:ea typeface="ＭＳ Ｐゴシック"/>
              </a:rPr>
              <a:t>Vestibulum id ligula porta felis </a:t>
            </a:r>
            <a:r>
              <a:rPr b="0" lang="en-US" sz="2400" spc="-1" strike="noStrike">
                <a:solidFill>
                  <a:srgbClr val="343333"/>
                </a:solidFill>
                <a:latin typeface="Open Sans Bold"/>
                <a:ea typeface="ＭＳ Ｐゴシック"/>
              </a:rPr>
              <a:t>euismod</a:t>
            </a:r>
            <a:r>
              <a:rPr b="0" lang="en-US" sz="2400" spc="-1" strike="noStrike">
                <a:solidFill>
                  <a:srgbClr val="343333"/>
                </a:solidFill>
                <a:latin typeface="Open Sans Light"/>
                <a:ea typeface="ＭＳ Ｐゴシック"/>
              </a:rPr>
              <a:t> semper</a:t>
            </a:r>
            <a:endParaRPr b="0" lang="en-US" sz="2400" spc="-1" strike="noStrike">
              <a:solidFill>
                <a:srgbClr val="000000"/>
              </a:solidFill>
              <a:latin typeface="Gill Sans"/>
            </a:endParaRPr>
          </a:p>
        </p:txBody>
      </p:sp>
      <p:grpSp>
        <p:nvGrpSpPr>
          <p:cNvPr id="1078" name="Group 21"/>
          <p:cNvGrpSpPr/>
          <p:nvPr/>
        </p:nvGrpSpPr>
        <p:grpSpPr>
          <a:xfrm>
            <a:off x="13525560" y="11163240"/>
            <a:ext cx="393480" cy="393840"/>
            <a:chOff x="13525560" y="11163240"/>
            <a:chExt cx="393480" cy="393840"/>
          </a:xfrm>
        </p:grpSpPr>
        <p:sp>
          <p:nvSpPr>
            <p:cNvPr id="1079" name="AutoShape 19"/>
            <p:cNvSpPr/>
            <p:nvPr/>
          </p:nvSpPr>
          <p:spPr>
            <a:xfrm rot="5400000">
              <a:off x="13669200" y="11310840"/>
              <a:ext cx="12852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80" name="Oval 20"/>
            <p:cNvSpPr/>
            <p:nvPr/>
          </p:nvSpPr>
          <p:spPr>
            <a:xfrm>
              <a:off x="13525560" y="11163240"/>
              <a:ext cx="393480" cy="39384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81" name="Rectangle 22"/>
          <p:cNvSpPr/>
          <p:nvPr/>
        </p:nvSpPr>
        <p:spPr>
          <a:xfrm>
            <a:off x="14062320" y="11176920"/>
            <a:ext cx="7086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a:t>
            </a:r>
            <a:r>
              <a:rPr b="0" lang="en-US" sz="2400" spc="-1" strike="noStrike">
                <a:solidFill>
                  <a:srgbClr val="343333"/>
                </a:solidFill>
                <a:latin typeface="Open Sans Bold"/>
                <a:ea typeface="ＭＳ Ｐゴシック"/>
              </a:rPr>
              <a:t>dolor</a:t>
            </a:r>
            <a:r>
              <a:rPr b="0" lang="en-US" sz="2400" spc="-1" strike="noStrike">
                <a:solidFill>
                  <a:srgbClr val="343333"/>
                </a:solidFill>
                <a:latin typeface="Open Sans Light"/>
                <a:ea typeface="ＭＳ Ｐゴシック"/>
              </a:rPr>
              <a:t> id nibh ultricies vehicula ut id elit.</a:t>
            </a:r>
            <a:endParaRPr b="0" lang="en-US" sz="2400" spc="-1" strike="noStrike">
              <a:solidFill>
                <a:srgbClr val="000000"/>
              </a:solidFill>
              <a:latin typeface="Gill Sans"/>
            </a:endParaRPr>
          </a:p>
        </p:txBody>
      </p:sp>
      <p:sp>
        <p:nvSpPr>
          <p:cNvPr id="1082" name="Rectangle 23"/>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40</a:t>
            </a:r>
            <a:endParaRPr b="0" lang="en-US" sz="2400" spc="-1" strike="noStrike">
              <a:solidFill>
                <a:srgbClr val="000000"/>
              </a:solidFill>
              <a:latin typeface="Gill Sans"/>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3" name="Group 3"/>
          <p:cNvGrpSpPr/>
          <p:nvPr/>
        </p:nvGrpSpPr>
        <p:grpSpPr>
          <a:xfrm>
            <a:off x="1385640" y="819000"/>
            <a:ext cx="5618160" cy="1130040"/>
            <a:chOff x="1385640" y="819000"/>
            <a:chExt cx="5618160" cy="1130040"/>
          </a:xfrm>
        </p:grpSpPr>
        <p:sp>
          <p:nvSpPr>
            <p:cNvPr id="1084" name="Rectangle 1"/>
            <p:cNvSpPr/>
            <p:nvPr/>
          </p:nvSpPr>
          <p:spPr>
            <a:xfrm>
              <a:off x="1589400" y="819000"/>
              <a:ext cx="20566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Portfolio</a:t>
              </a:r>
              <a:endParaRPr b="0" lang="en-US" sz="4000" spc="-1" strike="noStrike">
                <a:solidFill>
                  <a:srgbClr val="000000"/>
                </a:solidFill>
                <a:latin typeface="Gill Sans"/>
              </a:endParaRPr>
            </a:p>
          </p:txBody>
        </p:sp>
        <p:sp>
          <p:nvSpPr>
            <p:cNvPr id="1085"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1086" name="Rectangle 23"/>
          <p:cNvSpPr/>
          <p:nvPr/>
        </p:nvSpPr>
        <p:spPr>
          <a:xfrm>
            <a:off x="15330600" y="7499520"/>
            <a:ext cx="6591240" cy="3454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sp>
        <p:nvSpPr>
          <p:cNvPr id="1087" name="Rectangle 24"/>
          <p:cNvSpPr/>
          <p:nvPr/>
        </p:nvSpPr>
        <p:spPr>
          <a:xfrm>
            <a:off x="15328800" y="4140360"/>
            <a:ext cx="6591240" cy="29844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a1919"/>
                </a:solidFill>
                <a:latin typeface="Open Sans"/>
                <a:ea typeface="ＭＳ Ｐゴシック"/>
              </a:rPr>
              <a:t>We Creates Stuff That </a:t>
            </a:r>
            <a:r>
              <a:rPr b="0" lang="en-US" sz="6400" spc="-1" strike="noStrike">
                <a:solidFill>
                  <a:srgbClr val="1a1919"/>
                </a:solidFill>
                <a:latin typeface="Open Sans Semibold"/>
                <a:ea typeface="ＭＳ Ｐゴシック"/>
              </a:rPr>
              <a:t>Works</a:t>
            </a:r>
            <a:r>
              <a:rPr b="0" lang="en-US" sz="6400" spc="-1" strike="noStrike">
                <a:solidFill>
                  <a:srgbClr val="1a1919"/>
                </a:solidFill>
                <a:latin typeface="Open Sans"/>
                <a:ea typeface="ＭＳ Ｐゴシック"/>
              </a:rPr>
              <a:t>. Period.</a:t>
            </a:r>
            <a:endParaRPr b="0" lang="en-US" sz="6400" spc="-1" strike="noStrike">
              <a:solidFill>
                <a:srgbClr val="000000"/>
              </a:solidFill>
              <a:latin typeface="Gill Sans"/>
            </a:endParaRPr>
          </a:p>
        </p:txBody>
      </p:sp>
      <p:grpSp>
        <p:nvGrpSpPr>
          <p:cNvPr id="1088" name="Group 27"/>
          <p:cNvGrpSpPr/>
          <p:nvPr/>
        </p:nvGrpSpPr>
        <p:grpSpPr>
          <a:xfrm>
            <a:off x="14020200" y="4581360"/>
            <a:ext cx="581760" cy="2317320"/>
            <a:chOff x="14020200" y="4581360"/>
            <a:chExt cx="581760" cy="2317320"/>
          </a:xfrm>
        </p:grpSpPr>
        <p:sp>
          <p:nvSpPr>
            <p:cNvPr id="1089" name="AutoShape 25"/>
            <p:cNvSpPr/>
            <p:nvPr/>
          </p:nvSpPr>
          <p:spPr>
            <a:xfrm>
              <a:off x="14024160" y="4581360"/>
              <a:ext cx="577800" cy="117216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90" name="AutoShape 26"/>
            <p:cNvSpPr/>
            <p:nvPr/>
          </p:nvSpPr>
          <p:spPr>
            <a:xfrm flipH="1" rot="10800000">
              <a:off x="14019840" y="5726160"/>
              <a:ext cx="576360" cy="117252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91" name="Rectangle 28"/>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41</a:t>
            </a:r>
            <a:endParaRPr b="0" lang="en-US" sz="2400" spc="-1" strike="noStrike">
              <a:solidFill>
                <a:srgbClr val="000000"/>
              </a:solidFill>
              <a:latin typeface="Gill Sans"/>
            </a:endParaRPr>
          </a:p>
        </p:txBody>
      </p:sp>
      <p:pic>
        <p:nvPicPr>
          <p:cNvPr id="1092" name="Picture 8" descr=""/>
          <p:cNvPicPr/>
          <p:nvPr/>
        </p:nvPicPr>
        <p:blipFill>
          <a:blip r:embed="rId1"/>
          <a:stretch/>
        </p:blipFill>
        <p:spPr>
          <a:xfrm>
            <a:off x="3235320" y="6175440"/>
            <a:ext cx="3879720" cy="4333680"/>
          </a:xfrm>
          <a:prstGeom prst="rect">
            <a:avLst/>
          </a:prstGeom>
          <a:ln w="0">
            <a:noFill/>
          </a:ln>
        </p:spPr>
      </p:pic>
      <p:sp>
        <p:nvSpPr>
          <p:cNvPr id="1093" name="Rectangle 31"/>
          <p:cNvSpPr/>
          <p:nvPr/>
        </p:nvSpPr>
        <p:spPr>
          <a:xfrm>
            <a:off x="3475080" y="6351480"/>
            <a:ext cx="3382920" cy="365616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1094" name="Picture 8" descr=""/>
          <p:cNvPicPr/>
          <p:nvPr/>
        </p:nvPicPr>
        <p:blipFill>
          <a:blip r:embed="rId2"/>
          <a:stretch/>
        </p:blipFill>
        <p:spPr>
          <a:xfrm>
            <a:off x="7848720" y="6531120"/>
            <a:ext cx="3879720" cy="4332240"/>
          </a:xfrm>
          <a:prstGeom prst="rect">
            <a:avLst/>
          </a:prstGeom>
          <a:ln w="0">
            <a:noFill/>
          </a:ln>
        </p:spPr>
      </p:pic>
      <p:sp>
        <p:nvSpPr>
          <p:cNvPr id="1095" name="Rectangle 33"/>
          <p:cNvSpPr/>
          <p:nvPr/>
        </p:nvSpPr>
        <p:spPr>
          <a:xfrm>
            <a:off x="8089920" y="6707160"/>
            <a:ext cx="3382920" cy="365616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1096" name="Picture 8" descr=""/>
          <p:cNvPicPr/>
          <p:nvPr/>
        </p:nvPicPr>
        <p:blipFill>
          <a:blip r:embed="rId3"/>
          <a:stretch/>
        </p:blipFill>
        <p:spPr>
          <a:xfrm rot="537600">
            <a:off x="5500800" y="7250040"/>
            <a:ext cx="3881160" cy="4332240"/>
          </a:xfrm>
          <a:prstGeom prst="rect">
            <a:avLst/>
          </a:prstGeom>
          <a:ln w="0">
            <a:noFill/>
          </a:ln>
        </p:spPr>
      </p:pic>
      <p:sp>
        <p:nvSpPr>
          <p:cNvPr id="1097" name="Rectangle 35"/>
          <p:cNvSpPr/>
          <p:nvPr/>
        </p:nvSpPr>
        <p:spPr>
          <a:xfrm rot="537600">
            <a:off x="5765760" y="7424280"/>
            <a:ext cx="3382920" cy="365940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1098" name="Picture 8" descr=""/>
          <p:cNvPicPr/>
          <p:nvPr/>
        </p:nvPicPr>
        <p:blipFill>
          <a:blip r:embed="rId4"/>
          <a:stretch/>
        </p:blipFill>
        <p:spPr>
          <a:xfrm rot="961800">
            <a:off x="3048120" y="4319280"/>
            <a:ext cx="3879720" cy="4333680"/>
          </a:xfrm>
          <a:prstGeom prst="rect">
            <a:avLst/>
          </a:prstGeom>
          <a:ln w="0">
            <a:noFill/>
          </a:ln>
        </p:spPr>
      </p:pic>
      <p:sp>
        <p:nvSpPr>
          <p:cNvPr id="1099" name="Rectangle 37"/>
          <p:cNvSpPr/>
          <p:nvPr/>
        </p:nvSpPr>
        <p:spPr>
          <a:xfrm rot="961800">
            <a:off x="3331800" y="4498560"/>
            <a:ext cx="3382920" cy="365940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1100" name="Picture 8" descr=""/>
          <p:cNvPicPr/>
          <p:nvPr/>
        </p:nvPicPr>
        <p:blipFill>
          <a:blip r:embed="rId5"/>
          <a:stretch/>
        </p:blipFill>
        <p:spPr>
          <a:xfrm rot="20241000">
            <a:off x="8089920" y="4449240"/>
            <a:ext cx="3881520" cy="4332600"/>
          </a:xfrm>
          <a:prstGeom prst="rect">
            <a:avLst/>
          </a:prstGeom>
          <a:ln w="0">
            <a:noFill/>
          </a:ln>
        </p:spPr>
      </p:pic>
      <p:sp>
        <p:nvSpPr>
          <p:cNvPr id="1101" name="Rectangle 39"/>
          <p:cNvSpPr/>
          <p:nvPr/>
        </p:nvSpPr>
        <p:spPr>
          <a:xfrm rot="20241000">
            <a:off x="8265600" y="4640040"/>
            <a:ext cx="3383280" cy="365760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1102" name="Picture 8" descr=""/>
          <p:cNvPicPr/>
          <p:nvPr/>
        </p:nvPicPr>
        <p:blipFill>
          <a:blip r:embed="rId6"/>
          <a:stretch/>
        </p:blipFill>
        <p:spPr>
          <a:xfrm rot="21181800">
            <a:off x="5522400" y="3733920"/>
            <a:ext cx="3881520" cy="4333680"/>
          </a:xfrm>
          <a:prstGeom prst="rect">
            <a:avLst/>
          </a:prstGeom>
          <a:ln w="0">
            <a:noFill/>
          </a:ln>
        </p:spPr>
      </p:pic>
      <p:sp>
        <p:nvSpPr>
          <p:cNvPr id="1103" name="Rectangle 41"/>
          <p:cNvSpPr/>
          <p:nvPr/>
        </p:nvSpPr>
        <p:spPr>
          <a:xfrm rot="21181800">
            <a:off x="5743440" y="3911760"/>
            <a:ext cx="3382920" cy="365580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Line 1"/>
          <p:cNvSpPr/>
          <p:nvPr/>
        </p:nvSpPr>
        <p:spPr>
          <a:xfrm flipV="1">
            <a:off x="1447920" y="11783520"/>
            <a:ext cx="21426480" cy="1800"/>
          </a:xfrm>
          <a:prstGeom prst="line">
            <a:avLst/>
          </a:prstGeom>
          <a:ln w="25560">
            <a:solidFill>
              <a:srgbClr val="9a9999"/>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05" name="Line 2"/>
          <p:cNvSpPr/>
          <p:nvPr/>
        </p:nvSpPr>
        <p:spPr>
          <a:xfrm>
            <a:off x="2723400" y="7275600"/>
            <a:ext cx="20142360" cy="0"/>
          </a:xfrm>
          <a:prstGeom prst="line">
            <a:avLst/>
          </a:prstGeom>
          <a:ln w="25560">
            <a:solidFill>
              <a:srgbClr val="9a9999"/>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nvGrpSpPr>
          <p:cNvPr id="1106" name="Group 5"/>
          <p:cNvGrpSpPr/>
          <p:nvPr/>
        </p:nvGrpSpPr>
        <p:grpSpPr>
          <a:xfrm>
            <a:off x="1385640" y="819000"/>
            <a:ext cx="5618160" cy="1130040"/>
            <a:chOff x="1385640" y="819000"/>
            <a:chExt cx="5618160" cy="1130040"/>
          </a:xfrm>
        </p:grpSpPr>
        <p:sp>
          <p:nvSpPr>
            <p:cNvPr id="1107" name="Rectangle 3"/>
            <p:cNvSpPr/>
            <p:nvPr/>
          </p:nvSpPr>
          <p:spPr>
            <a:xfrm>
              <a:off x="1589400" y="819000"/>
              <a:ext cx="20566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Portfolio</a:t>
              </a:r>
              <a:endParaRPr b="0" lang="en-US" sz="4000" spc="-1" strike="noStrike">
                <a:solidFill>
                  <a:srgbClr val="000000"/>
                </a:solidFill>
                <a:latin typeface="Gill Sans"/>
              </a:endParaRPr>
            </a:p>
          </p:txBody>
        </p:sp>
        <p:sp>
          <p:nvSpPr>
            <p:cNvPr id="1108" name="Rectangle 4"/>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1109" name="Rectangle 18"/>
          <p:cNvSpPr/>
          <p:nvPr/>
        </p:nvSpPr>
        <p:spPr>
          <a:xfrm>
            <a:off x="10020240" y="3632040"/>
            <a:ext cx="6591240" cy="2984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a1919"/>
                </a:solidFill>
                <a:latin typeface="Open Sans"/>
                <a:ea typeface="ＭＳ Ｐゴシック"/>
              </a:rPr>
              <a:t>We Creates Stuff That </a:t>
            </a:r>
            <a:r>
              <a:rPr b="0" lang="en-US" sz="6400" spc="-1" strike="noStrike">
                <a:solidFill>
                  <a:srgbClr val="1a1919"/>
                </a:solidFill>
                <a:latin typeface="Open Sans Semibold"/>
                <a:ea typeface="ＭＳ Ｐゴシック"/>
              </a:rPr>
              <a:t>Works</a:t>
            </a:r>
            <a:r>
              <a:rPr b="0" lang="en-US" sz="6400" spc="-1" strike="noStrike">
                <a:solidFill>
                  <a:srgbClr val="1a1919"/>
                </a:solidFill>
                <a:latin typeface="Open Sans"/>
                <a:ea typeface="ＭＳ Ｐゴシック"/>
              </a:rPr>
              <a:t>. Period.</a:t>
            </a:r>
            <a:endParaRPr b="0" lang="en-US" sz="6400" spc="-1" strike="noStrike">
              <a:solidFill>
                <a:srgbClr val="000000"/>
              </a:solidFill>
              <a:latin typeface="Gill Sans"/>
            </a:endParaRPr>
          </a:p>
        </p:txBody>
      </p:sp>
      <p:sp>
        <p:nvSpPr>
          <p:cNvPr id="1110" name="Rectangle 19"/>
          <p:cNvSpPr/>
          <p:nvPr/>
        </p:nvSpPr>
        <p:spPr>
          <a:xfrm>
            <a:off x="17197560" y="3873600"/>
            <a:ext cx="5676840" cy="3035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Pellentesque ornare sem lacinia quam.</a:t>
            </a:r>
            <a:endParaRPr b="0" lang="en-US" sz="2400" spc="-1" strike="noStrike">
              <a:solidFill>
                <a:srgbClr val="000000"/>
              </a:solidFill>
              <a:latin typeface="Gill Sans"/>
            </a:endParaRPr>
          </a:p>
        </p:txBody>
      </p:sp>
      <p:sp>
        <p:nvSpPr>
          <p:cNvPr id="1111" name="Rectangle 20"/>
          <p:cNvSpPr/>
          <p:nvPr/>
        </p:nvSpPr>
        <p:spPr>
          <a:xfrm>
            <a:off x="1447920" y="8318520"/>
            <a:ext cx="6591240" cy="2984400"/>
          </a:xfrm>
          <a:prstGeom prst="rect">
            <a:avLst/>
          </a:prstGeom>
          <a:noFill/>
          <a:ln w="0">
            <a:noFill/>
          </a:ln>
        </p:spPr>
        <p:style>
          <a:lnRef idx="0"/>
          <a:fillRef idx="0"/>
          <a:effectRef idx="0"/>
          <a:fontRef idx="minor"/>
        </p:style>
        <p:txBody>
          <a:bodyPr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a1919"/>
                </a:solidFill>
                <a:latin typeface="Open Sans"/>
                <a:ea typeface="ＭＳ Ｐゴシック"/>
              </a:rPr>
              <a:t>We Creates Stuff That </a:t>
            </a:r>
            <a:r>
              <a:rPr b="0" lang="en-US" sz="6400" spc="-1" strike="noStrike">
                <a:solidFill>
                  <a:srgbClr val="1a1919"/>
                </a:solidFill>
                <a:latin typeface="Open Sans Semibold"/>
                <a:ea typeface="ＭＳ Ｐゴシック"/>
              </a:rPr>
              <a:t>Works</a:t>
            </a:r>
            <a:r>
              <a:rPr b="0" lang="en-US" sz="6400" spc="-1" strike="noStrike">
                <a:solidFill>
                  <a:srgbClr val="1a1919"/>
                </a:solidFill>
                <a:latin typeface="Open Sans"/>
                <a:ea typeface="ＭＳ Ｐゴシック"/>
              </a:rPr>
              <a:t>. Period.</a:t>
            </a:r>
            <a:endParaRPr b="0" lang="en-US" sz="6400" spc="-1" strike="noStrike">
              <a:solidFill>
                <a:srgbClr val="000000"/>
              </a:solidFill>
              <a:latin typeface="Gill Sans"/>
            </a:endParaRPr>
          </a:p>
        </p:txBody>
      </p:sp>
      <p:sp>
        <p:nvSpPr>
          <p:cNvPr id="1112" name="Rectangle 21"/>
          <p:cNvSpPr/>
          <p:nvPr/>
        </p:nvSpPr>
        <p:spPr>
          <a:xfrm>
            <a:off x="8737560" y="8318520"/>
            <a:ext cx="5676840" cy="3035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Pellentesque ornare sem lacinia quam.</a:t>
            </a:r>
            <a:endParaRPr b="0" lang="en-US" sz="2400" spc="-1" strike="noStrike">
              <a:solidFill>
                <a:srgbClr val="000000"/>
              </a:solidFill>
              <a:latin typeface="Gill Sans"/>
            </a:endParaRPr>
          </a:p>
        </p:txBody>
      </p:sp>
      <p:sp>
        <p:nvSpPr>
          <p:cNvPr id="1113" name="Rectangle 22"/>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42</a:t>
            </a:r>
            <a:endParaRPr b="0" lang="en-US" sz="2400" spc="-1" strike="noStrike">
              <a:solidFill>
                <a:srgbClr val="000000"/>
              </a:solidFill>
              <a:latin typeface="Gill Sans"/>
            </a:endParaRPr>
          </a:p>
        </p:txBody>
      </p:sp>
      <p:pic>
        <p:nvPicPr>
          <p:cNvPr id="1114" name="Picture 8" descr=""/>
          <p:cNvPicPr/>
          <p:nvPr/>
        </p:nvPicPr>
        <p:blipFill>
          <a:blip r:embed="rId1"/>
          <a:stretch/>
        </p:blipFill>
        <p:spPr>
          <a:xfrm>
            <a:off x="1371600" y="3538440"/>
            <a:ext cx="3656160" cy="4081680"/>
          </a:xfrm>
          <a:prstGeom prst="rect">
            <a:avLst/>
          </a:prstGeom>
          <a:ln w="0">
            <a:noFill/>
          </a:ln>
        </p:spPr>
      </p:pic>
      <p:pic>
        <p:nvPicPr>
          <p:cNvPr id="1115" name="Picture 11" descr=""/>
          <p:cNvPicPr/>
          <p:nvPr/>
        </p:nvPicPr>
        <p:blipFill>
          <a:blip r:embed="rId2"/>
          <a:stretch/>
        </p:blipFill>
        <p:spPr>
          <a:xfrm>
            <a:off x="5175360" y="3530520"/>
            <a:ext cx="3655800" cy="4083120"/>
          </a:xfrm>
          <a:prstGeom prst="rect">
            <a:avLst/>
          </a:prstGeom>
          <a:ln w="0">
            <a:noFill/>
          </a:ln>
        </p:spPr>
      </p:pic>
      <p:sp>
        <p:nvSpPr>
          <p:cNvPr id="1116" name="Rectangle 26"/>
          <p:cNvSpPr/>
          <p:nvPr/>
        </p:nvSpPr>
        <p:spPr>
          <a:xfrm>
            <a:off x="1606680" y="3676680"/>
            <a:ext cx="3187440" cy="344016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17" name="Rectangle 27"/>
          <p:cNvSpPr/>
          <p:nvPr/>
        </p:nvSpPr>
        <p:spPr>
          <a:xfrm>
            <a:off x="5391000" y="3676680"/>
            <a:ext cx="3187800" cy="344016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1118" name="Picture 8" descr=""/>
          <p:cNvPicPr/>
          <p:nvPr/>
        </p:nvPicPr>
        <p:blipFill>
          <a:blip r:embed="rId3"/>
          <a:stretch/>
        </p:blipFill>
        <p:spPr>
          <a:xfrm>
            <a:off x="15544800" y="8083440"/>
            <a:ext cx="3656160" cy="4083120"/>
          </a:xfrm>
          <a:prstGeom prst="rect">
            <a:avLst/>
          </a:prstGeom>
          <a:ln w="0">
            <a:noFill/>
          </a:ln>
        </p:spPr>
      </p:pic>
      <p:pic>
        <p:nvPicPr>
          <p:cNvPr id="1119" name="Picture 11" descr=""/>
          <p:cNvPicPr/>
          <p:nvPr/>
        </p:nvPicPr>
        <p:blipFill>
          <a:blip r:embed="rId4"/>
          <a:stretch/>
        </p:blipFill>
        <p:spPr>
          <a:xfrm>
            <a:off x="19348560" y="8077320"/>
            <a:ext cx="3655800" cy="4081320"/>
          </a:xfrm>
          <a:prstGeom prst="rect">
            <a:avLst/>
          </a:prstGeom>
          <a:ln w="0">
            <a:noFill/>
          </a:ln>
        </p:spPr>
      </p:pic>
      <p:sp>
        <p:nvSpPr>
          <p:cNvPr id="1120" name="Rectangle 31"/>
          <p:cNvSpPr/>
          <p:nvPr/>
        </p:nvSpPr>
        <p:spPr>
          <a:xfrm>
            <a:off x="15779880" y="8221680"/>
            <a:ext cx="3187440" cy="344160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21" name="Rectangle 32"/>
          <p:cNvSpPr/>
          <p:nvPr/>
        </p:nvSpPr>
        <p:spPr>
          <a:xfrm>
            <a:off x="19564200" y="8221680"/>
            <a:ext cx="3187800" cy="344160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2" name="Group 3"/>
          <p:cNvGrpSpPr/>
          <p:nvPr/>
        </p:nvGrpSpPr>
        <p:grpSpPr>
          <a:xfrm>
            <a:off x="1385640" y="819000"/>
            <a:ext cx="5618160" cy="1130040"/>
            <a:chOff x="1385640" y="819000"/>
            <a:chExt cx="5618160" cy="1130040"/>
          </a:xfrm>
        </p:grpSpPr>
        <p:sp>
          <p:nvSpPr>
            <p:cNvPr id="1123" name="Rectangle 1"/>
            <p:cNvSpPr/>
            <p:nvPr/>
          </p:nvSpPr>
          <p:spPr>
            <a:xfrm>
              <a:off x="1589400" y="819000"/>
              <a:ext cx="20566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Portfolio</a:t>
              </a:r>
              <a:endParaRPr b="0" lang="en-US" sz="4000" spc="-1" strike="noStrike">
                <a:solidFill>
                  <a:srgbClr val="000000"/>
                </a:solidFill>
                <a:latin typeface="Gill Sans"/>
              </a:endParaRPr>
            </a:p>
          </p:txBody>
        </p:sp>
        <p:sp>
          <p:nvSpPr>
            <p:cNvPr id="1124"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1125" name="Rectangle 11"/>
          <p:cNvSpPr/>
          <p:nvPr/>
        </p:nvSpPr>
        <p:spPr>
          <a:xfrm>
            <a:off x="13512960" y="3352680"/>
            <a:ext cx="9359640" cy="2984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a1919"/>
                </a:solidFill>
                <a:latin typeface="Open Sans"/>
                <a:ea typeface="ＭＳ Ｐゴシック"/>
              </a:rPr>
              <a:t>Many Peoples Said We Are </a:t>
            </a:r>
            <a:r>
              <a:rPr b="0" lang="en-US" sz="6400" spc="-1" strike="noStrike">
                <a:solidFill>
                  <a:srgbClr val="1a1919"/>
                </a:solidFill>
                <a:latin typeface="Open Sans Semibold"/>
                <a:ea typeface="ＭＳ Ｐゴシック"/>
              </a:rPr>
              <a:t>Dreamer</a:t>
            </a:r>
            <a:r>
              <a:rPr b="0" lang="en-US" sz="6400" spc="-1" strike="noStrike">
                <a:solidFill>
                  <a:srgbClr val="1a1919"/>
                </a:solidFill>
                <a:latin typeface="Open Sans"/>
                <a:ea typeface="ＭＳ Ｐゴシック"/>
              </a:rPr>
              <a:t>. But, Yes We are the Only </a:t>
            </a:r>
            <a:r>
              <a:rPr b="0" lang="en-US" sz="6400" spc="-1" strike="noStrike">
                <a:solidFill>
                  <a:srgbClr val="1a1919"/>
                </a:solidFill>
                <a:latin typeface="Open Sans Semibold"/>
                <a:ea typeface="ＭＳ Ｐゴシック"/>
              </a:rPr>
              <a:t>One</a:t>
            </a:r>
            <a:r>
              <a:rPr b="0" lang="en-US" sz="6400" spc="-1" strike="noStrike">
                <a:solidFill>
                  <a:srgbClr val="1a1919"/>
                </a:solidFill>
                <a:latin typeface="Open Sans"/>
                <a:ea typeface="ＭＳ Ｐゴシック"/>
              </a:rPr>
              <a:t>.</a:t>
            </a:r>
            <a:endParaRPr b="0" lang="en-US" sz="6400" spc="-1" strike="noStrike">
              <a:solidFill>
                <a:srgbClr val="000000"/>
              </a:solidFill>
              <a:latin typeface="Gill Sans"/>
            </a:endParaRPr>
          </a:p>
        </p:txBody>
      </p:sp>
      <p:sp>
        <p:nvSpPr>
          <p:cNvPr id="1126" name="Rectangle 12"/>
          <p:cNvSpPr/>
          <p:nvPr/>
        </p:nvSpPr>
        <p:spPr>
          <a:xfrm>
            <a:off x="13514400" y="6966000"/>
            <a:ext cx="9055080" cy="1778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Aenean lacinia bibendum nulla sed consectetur. Nulla vitae elit libero, a pharetra augue.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grpSp>
        <p:nvGrpSpPr>
          <p:cNvPr id="1127" name="Group 15"/>
          <p:cNvGrpSpPr/>
          <p:nvPr/>
        </p:nvGrpSpPr>
        <p:grpSpPr>
          <a:xfrm>
            <a:off x="13525560" y="9601200"/>
            <a:ext cx="393480" cy="393840"/>
            <a:chOff x="13525560" y="9601200"/>
            <a:chExt cx="393480" cy="393840"/>
          </a:xfrm>
        </p:grpSpPr>
        <p:sp>
          <p:nvSpPr>
            <p:cNvPr id="1128" name="AutoShape 13"/>
            <p:cNvSpPr/>
            <p:nvPr/>
          </p:nvSpPr>
          <p:spPr>
            <a:xfrm rot="5400000">
              <a:off x="13669200" y="9748800"/>
              <a:ext cx="12852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29" name="Oval 14"/>
            <p:cNvSpPr/>
            <p:nvPr/>
          </p:nvSpPr>
          <p:spPr>
            <a:xfrm>
              <a:off x="13525560" y="9601200"/>
              <a:ext cx="393480" cy="39384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130" name="Rectangle 16"/>
          <p:cNvSpPr/>
          <p:nvPr/>
        </p:nvSpPr>
        <p:spPr>
          <a:xfrm>
            <a:off x="14100120" y="9608400"/>
            <a:ext cx="70855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Nullam</a:t>
            </a:r>
            <a:r>
              <a:rPr b="0" lang="en-US" sz="2400" spc="-1" strike="noStrike">
                <a:solidFill>
                  <a:srgbClr val="343333"/>
                </a:solidFill>
                <a:latin typeface="Open Sans Light"/>
                <a:ea typeface="ＭＳ Ｐゴシック"/>
              </a:rPr>
              <a:t> id dolor id nibh ultricies vehicula ut id elit.</a:t>
            </a:r>
            <a:endParaRPr b="0" lang="en-US" sz="2400" spc="-1" strike="noStrike">
              <a:solidFill>
                <a:srgbClr val="000000"/>
              </a:solidFill>
              <a:latin typeface="Gill Sans"/>
            </a:endParaRPr>
          </a:p>
        </p:txBody>
      </p:sp>
      <p:grpSp>
        <p:nvGrpSpPr>
          <p:cNvPr id="1131" name="Group 19"/>
          <p:cNvGrpSpPr/>
          <p:nvPr/>
        </p:nvGrpSpPr>
        <p:grpSpPr>
          <a:xfrm>
            <a:off x="13525560" y="10401480"/>
            <a:ext cx="393480" cy="393480"/>
            <a:chOff x="13525560" y="10401480"/>
            <a:chExt cx="393480" cy="393480"/>
          </a:xfrm>
        </p:grpSpPr>
        <p:sp>
          <p:nvSpPr>
            <p:cNvPr id="1132" name="AutoShape 17"/>
            <p:cNvSpPr/>
            <p:nvPr/>
          </p:nvSpPr>
          <p:spPr>
            <a:xfrm rot="5400000">
              <a:off x="13669560" y="10548720"/>
              <a:ext cx="12816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33" name="Oval 18"/>
            <p:cNvSpPr/>
            <p:nvPr/>
          </p:nvSpPr>
          <p:spPr>
            <a:xfrm>
              <a:off x="13525560" y="10401480"/>
              <a:ext cx="393480" cy="39348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134" name="Rectangle 20"/>
          <p:cNvSpPr/>
          <p:nvPr/>
        </p:nvSpPr>
        <p:spPr>
          <a:xfrm>
            <a:off x="14096520" y="10415160"/>
            <a:ext cx="69210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 </a:t>
            </a:r>
            <a:r>
              <a:rPr b="0" lang="en-US" sz="2400" spc="-1" strike="noStrike">
                <a:solidFill>
                  <a:srgbClr val="343333"/>
                </a:solidFill>
                <a:latin typeface="Open Sans Light"/>
                <a:ea typeface="ＭＳ Ｐゴシック"/>
              </a:rPr>
              <a:t>Vestibulum id ligula porta felis </a:t>
            </a:r>
            <a:r>
              <a:rPr b="0" lang="en-US" sz="2400" spc="-1" strike="noStrike">
                <a:solidFill>
                  <a:srgbClr val="343333"/>
                </a:solidFill>
                <a:latin typeface="Open Sans Bold"/>
                <a:ea typeface="ＭＳ Ｐゴシック"/>
              </a:rPr>
              <a:t>euismod</a:t>
            </a:r>
            <a:r>
              <a:rPr b="0" lang="en-US" sz="2400" spc="-1" strike="noStrike">
                <a:solidFill>
                  <a:srgbClr val="343333"/>
                </a:solidFill>
                <a:latin typeface="Open Sans Light"/>
                <a:ea typeface="ＭＳ Ｐゴシック"/>
              </a:rPr>
              <a:t> semper</a:t>
            </a:r>
            <a:endParaRPr b="0" lang="en-US" sz="2400" spc="-1" strike="noStrike">
              <a:solidFill>
                <a:srgbClr val="000000"/>
              </a:solidFill>
              <a:latin typeface="Gill Sans"/>
            </a:endParaRPr>
          </a:p>
        </p:txBody>
      </p:sp>
      <p:grpSp>
        <p:nvGrpSpPr>
          <p:cNvPr id="1135" name="Group 23"/>
          <p:cNvGrpSpPr/>
          <p:nvPr/>
        </p:nvGrpSpPr>
        <p:grpSpPr>
          <a:xfrm>
            <a:off x="13525560" y="11214000"/>
            <a:ext cx="393480" cy="393840"/>
            <a:chOff x="13525560" y="11214000"/>
            <a:chExt cx="393480" cy="393840"/>
          </a:xfrm>
        </p:grpSpPr>
        <p:sp>
          <p:nvSpPr>
            <p:cNvPr id="1136" name="AutoShape 21"/>
            <p:cNvSpPr/>
            <p:nvPr/>
          </p:nvSpPr>
          <p:spPr>
            <a:xfrm rot="5400000">
              <a:off x="13669200" y="11361600"/>
              <a:ext cx="128520" cy="96480"/>
            </a:xfrm>
            <a:prstGeom prst="triangle">
              <a:avLst>
                <a:gd name="adj" fmla="val 50000"/>
              </a:avLst>
            </a:prstGeom>
            <a:solidFill>
              <a:srgbClr val="b3b2b2"/>
            </a:solid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37" name="Oval 22"/>
            <p:cNvSpPr/>
            <p:nvPr/>
          </p:nvSpPr>
          <p:spPr>
            <a:xfrm>
              <a:off x="13525560" y="11214000"/>
              <a:ext cx="393480" cy="393840"/>
            </a:xfrm>
            <a:prstGeom prst="ellipse">
              <a:avLst/>
            </a:prstGeom>
            <a:noFill/>
            <a:ln w="25560">
              <a:solidFill>
                <a:srgbClr val="9a9999"/>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138" name="Rectangle 24"/>
          <p:cNvSpPr/>
          <p:nvPr/>
        </p:nvSpPr>
        <p:spPr>
          <a:xfrm>
            <a:off x="14062320" y="11227680"/>
            <a:ext cx="7086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a:t>
            </a:r>
            <a:r>
              <a:rPr b="0" lang="en-US" sz="2400" spc="-1" strike="noStrike">
                <a:solidFill>
                  <a:srgbClr val="343333"/>
                </a:solidFill>
                <a:latin typeface="Open Sans Bold"/>
                <a:ea typeface="ＭＳ Ｐゴシック"/>
              </a:rPr>
              <a:t>dolor</a:t>
            </a:r>
            <a:r>
              <a:rPr b="0" lang="en-US" sz="2400" spc="-1" strike="noStrike">
                <a:solidFill>
                  <a:srgbClr val="343333"/>
                </a:solidFill>
                <a:latin typeface="Open Sans Light"/>
                <a:ea typeface="ＭＳ Ｐゴシック"/>
              </a:rPr>
              <a:t> id nibh ultricies vehicula ut id elit.</a:t>
            </a:r>
            <a:endParaRPr b="0" lang="en-US" sz="2400" spc="-1" strike="noStrike">
              <a:solidFill>
                <a:srgbClr val="000000"/>
              </a:solidFill>
              <a:latin typeface="Gill Sans"/>
            </a:endParaRPr>
          </a:p>
        </p:txBody>
      </p:sp>
      <p:sp>
        <p:nvSpPr>
          <p:cNvPr id="1139" name="Rectangle 25"/>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43</a:t>
            </a:r>
            <a:endParaRPr b="0" lang="en-US" sz="2400" spc="-1" strike="noStrike">
              <a:solidFill>
                <a:srgbClr val="000000"/>
              </a:solidFill>
              <a:latin typeface="Gill Sans"/>
            </a:endParaRPr>
          </a:p>
        </p:txBody>
      </p:sp>
      <p:sp>
        <p:nvSpPr>
          <p:cNvPr id="1140" name="Rectangle 27"/>
          <p:cNvSpPr/>
          <p:nvPr/>
        </p:nvSpPr>
        <p:spPr>
          <a:xfrm>
            <a:off x="1447920" y="3352680"/>
            <a:ext cx="5159160" cy="419112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41" name="Rectangle 28"/>
          <p:cNvSpPr/>
          <p:nvPr/>
        </p:nvSpPr>
        <p:spPr>
          <a:xfrm>
            <a:off x="1447920" y="7696080"/>
            <a:ext cx="5159160" cy="419112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42" name="Rectangle 29"/>
          <p:cNvSpPr/>
          <p:nvPr/>
        </p:nvSpPr>
        <p:spPr>
          <a:xfrm>
            <a:off x="6804000" y="3352680"/>
            <a:ext cx="5159520" cy="419112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43" name="Rectangle 30"/>
          <p:cNvSpPr/>
          <p:nvPr/>
        </p:nvSpPr>
        <p:spPr>
          <a:xfrm>
            <a:off x="6804000" y="7696080"/>
            <a:ext cx="5159520" cy="4191120"/>
          </a:xfrm>
          <a:prstGeom prst="rect">
            <a:avLst/>
          </a:prstGeom>
          <a:solidFill>
            <a:srgbClr val="7f7f7f"/>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44" name="Group 3"/>
          <p:cNvGrpSpPr/>
          <p:nvPr/>
        </p:nvGrpSpPr>
        <p:grpSpPr>
          <a:xfrm>
            <a:off x="1446120" y="819000"/>
            <a:ext cx="2573280" cy="1130040"/>
            <a:chOff x="1446120" y="819000"/>
            <a:chExt cx="2573280" cy="1130040"/>
          </a:xfrm>
        </p:grpSpPr>
        <p:sp>
          <p:nvSpPr>
            <p:cNvPr id="1145" name="Rectangle 1"/>
            <p:cNvSpPr/>
            <p:nvPr/>
          </p:nvSpPr>
          <p:spPr>
            <a:xfrm>
              <a:off x="1553760" y="819000"/>
              <a:ext cx="1918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Icon Set</a:t>
              </a:r>
              <a:endParaRPr b="0" lang="en-US" sz="4000" spc="-1" strike="noStrike">
                <a:solidFill>
                  <a:srgbClr val="000000"/>
                </a:solidFill>
                <a:latin typeface="Gill Sans"/>
              </a:endParaRPr>
            </a:p>
          </p:txBody>
        </p:sp>
        <p:sp>
          <p:nvSpPr>
            <p:cNvPr id="1146" name="Rectangle 2"/>
            <p:cNvSpPr/>
            <p:nvPr/>
          </p:nvSpPr>
          <p:spPr>
            <a:xfrm>
              <a:off x="1446120" y="1491840"/>
              <a:ext cx="257328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Fully editable  </a:t>
              </a:r>
              <a:endParaRPr b="0" lang="en-US" sz="3000" spc="-1" strike="noStrike">
                <a:solidFill>
                  <a:srgbClr val="000000"/>
                </a:solidFill>
                <a:latin typeface="Gill Sans"/>
              </a:endParaRPr>
            </a:p>
          </p:txBody>
        </p:sp>
      </p:grpSp>
      <p:sp>
        <p:nvSpPr>
          <p:cNvPr id="1147" name="AutoShape 4"/>
          <p:cNvSpPr/>
          <p:nvPr/>
        </p:nvSpPr>
        <p:spPr>
          <a:xfrm>
            <a:off x="22035960" y="8899560"/>
            <a:ext cx="898560" cy="901800"/>
          </a:xfrm>
          <a:custGeom>
            <a:avLst/>
            <a:gdLst/>
            <a:ahLst/>
            <a:rect l="l" t="t" r="r" b="b"/>
            <a:pathLst>
              <a:path w="21600" h="21600">
                <a:moveTo>
                  <a:pt x="17429" y="17466"/>
                </a:moveTo>
                <a:cubicBezTo>
                  <a:pt x="16670" y="16924"/>
                  <a:pt x="15846" y="16465"/>
                  <a:pt x="14964" y="16121"/>
                </a:cubicBezTo>
                <a:cubicBezTo>
                  <a:pt x="15596" y="14610"/>
                  <a:pt x="15967" y="12928"/>
                  <a:pt x="16011" y="11148"/>
                </a:cubicBezTo>
                <a:lnTo>
                  <a:pt x="20189" y="11148"/>
                </a:lnTo>
                <a:cubicBezTo>
                  <a:pt x="20098" y="13612"/>
                  <a:pt x="19065" y="15839"/>
                  <a:pt x="17429" y="17466"/>
                </a:cubicBezTo>
                <a:moveTo>
                  <a:pt x="1411" y="11148"/>
                </a:moveTo>
                <a:lnTo>
                  <a:pt x="5589" y="11148"/>
                </a:lnTo>
                <a:cubicBezTo>
                  <a:pt x="5633" y="12928"/>
                  <a:pt x="6004" y="14610"/>
                  <a:pt x="6636" y="16121"/>
                </a:cubicBezTo>
                <a:cubicBezTo>
                  <a:pt x="5754" y="16465"/>
                  <a:pt x="4931" y="16924"/>
                  <a:pt x="4171" y="17466"/>
                </a:cubicBezTo>
                <a:cubicBezTo>
                  <a:pt x="2535" y="15839"/>
                  <a:pt x="1502" y="13612"/>
                  <a:pt x="1411" y="11148"/>
                </a:cubicBezTo>
                <a:moveTo>
                  <a:pt x="3786" y="4554"/>
                </a:moveTo>
                <a:cubicBezTo>
                  <a:pt x="4579" y="5170"/>
                  <a:pt x="5449" y="5692"/>
                  <a:pt x="6389" y="6085"/>
                </a:cubicBezTo>
                <a:cubicBezTo>
                  <a:pt x="5901" y="7434"/>
                  <a:pt x="5628" y="8908"/>
                  <a:pt x="5589" y="10452"/>
                </a:cubicBezTo>
                <a:lnTo>
                  <a:pt x="1411" y="10452"/>
                </a:lnTo>
                <a:cubicBezTo>
                  <a:pt x="1494" y="8190"/>
                  <a:pt x="2376" y="6136"/>
                  <a:pt x="3786" y="4554"/>
                </a:cubicBezTo>
                <a:moveTo>
                  <a:pt x="11148" y="10452"/>
                </a:moveTo>
                <a:lnTo>
                  <a:pt x="11148" y="6950"/>
                </a:lnTo>
                <a:cubicBezTo>
                  <a:pt x="12340" y="6914"/>
                  <a:pt x="13484" y="6697"/>
                  <a:pt x="14559" y="6324"/>
                </a:cubicBezTo>
                <a:cubicBezTo>
                  <a:pt x="15018" y="7599"/>
                  <a:pt x="15277" y="8993"/>
                  <a:pt x="15314" y="10452"/>
                </a:cubicBezTo>
                <a:cubicBezTo>
                  <a:pt x="15314" y="10452"/>
                  <a:pt x="11148" y="10452"/>
                  <a:pt x="11148" y="10452"/>
                </a:cubicBezTo>
                <a:close/>
                <a:moveTo>
                  <a:pt x="14311" y="15882"/>
                </a:moveTo>
                <a:cubicBezTo>
                  <a:pt x="13309" y="15560"/>
                  <a:pt x="12247" y="15380"/>
                  <a:pt x="11148" y="15347"/>
                </a:cubicBezTo>
                <a:lnTo>
                  <a:pt x="11148" y="11148"/>
                </a:lnTo>
                <a:lnTo>
                  <a:pt x="15314" y="11148"/>
                </a:lnTo>
                <a:cubicBezTo>
                  <a:pt x="15271" y="12845"/>
                  <a:pt x="14915" y="14446"/>
                  <a:pt x="14311" y="15882"/>
                </a:cubicBezTo>
                <a:moveTo>
                  <a:pt x="14684" y="16757"/>
                </a:moveTo>
                <a:cubicBezTo>
                  <a:pt x="15477" y="17063"/>
                  <a:pt x="16218" y="17466"/>
                  <a:pt x="16905" y="17942"/>
                </a:cubicBezTo>
                <a:cubicBezTo>
                  <a:pt x="15633" y="19031"/>
                  <a:pt x="14067" y="19782"/>
                  <a:pt x="12345" y="20068"/>
                </a:cubicBezTo>
                <a:cubicBezTo>
                  <a:pt x="13281" y="19136"/>
                  <a:pt x="14076" y="18017"/>
                  <a:pt x="14684" y="16757"/>
                </a:cubicBezTo>
                <a:moveTo>
                  <a:pt x="11148" y="20189"/>
                </a:moveTo>
                <a:lnTo>
                  <a:pt x="11148" y="16043"/>
                </a:lnTo>
                <a:cubicBezTo>
                  <a:pt x="12147" y="16075"/>
                  <a:pt x="13114" y="16231"/>
                  <a:pt x="14025" y="16516"/>
                </a:cubicBezTo>
                <a:cubicBezTo>
                  <a:pt x="13314" y="17971"/>
                  <a:pt x="12343" y="19223"/>
                  <a:pt x="11185" y="20187"/>
                </a:cubicBezTo>
                <a:cubicBezTo>
                  <a:pt x="11185" y="20187"/>
                  <a:pt x="11148" y="20189"/>
                  <a:pt x="11148" y="20189"/>
                </a:cubicBezTo>
                <a:close/>
                <a:moveTo>
                  <a:pt x="9255" y="20068"/>
                </a:moveTo>
                <a:cubicBezTo>
                  <a:pt x="7533" y="19782"/>
                  <a:pt x="5967" y="19031"/>
                  <a:pt x="4695" y="17942"/>
                </a:cubicBezTo>
                <a:cubicBezTo>
                  <a:pt x="5382" y="17466"/>
                  <a:pt x="6123" y="17063"/>
                  <a:pt x="6916" y="16757"/>
                </a:cubicBezTo>
                <a:cubicBezTo>
                  <a:pt x="7524" y="18017"/>
                  <a:pt x="8319" y="19136"/>
                  <a:pt x="9255" y="20068"/>
                </a:cubicBezTo>
                <a:moveTo>
                  <a:pt x="10452" y="11148"/>
                </a:moveTo>
                <a:lnTo>
                  <a:pt x="10452" y="15347"/>
                </a:lnTo>
                <a:cubicBezTo>
                  <a:pt x="9353" y="15380"/>
                  <a:pt x="8291" y="15560"/>
                  <a:pt x="7289" y="15882"/>
                </a:cubicBezTo>
                <a:cubicBezTo>
                  <a:pt x="6685" y="14446"/>
                  <a:pt x="6329" y="12845"/>
                  <a:pt x="6286" y="11148"/>
                </a:cubicBezTo>
                <a:cubicBezTo>
                  <a:pt x="6286" y="11148"/>
                  <a:pt x="10452" y="11148"/>
                  <a:pt x="10452" y="11148"/>
                </a:cubicBezTo>
                <a:close/>
                <a:moveTo>
                  <a:pt x="7041" y="6324"/>
                </a:moveTo>
                <a:cubicBezTo>
                  <a:pt x="8116" y="6697"/>
                  <a:pt x="9260" y="6914"/>
                  <a:pt x="10452" y="6950"/>
                </a:cubicBezTo>
                <a:lnTo>
                  <a:pt x="10452" y="10452"/>
                </a:lnTo>
                <a:lnTo>
                  <a:pt x="6286" y="10452"/>
                </a:lnTo>
                <a:cubicBezTo>
                  <a:pt x="6324" y="8993"/>
                  <a:pt x="6582" y="7599"/>
                  <a:pt x="7041" y="6324"/>
                </a:cubicBezTo>
                <a:moveTo>
                  <a:pt x="6651" y="5442"/>
                </a:moveTo>
                <a:cubicBezTo>
                  <a:pt x="5791" y="5084"/>
                  <a:pt x="4993" y="4609"/>
                  <a:pt x="4264" y="4050"/>
                </a:cubicBezTo>
                <a:cubicBezTo>
                  <a:pt x="5606" y="2750"/>
                  <a:pt x="7332" y="1851"/>
                  <a:pt x="9255" y="1532"/>
                </a:cubicBezTo>
                <a:cubicBezTo>
                  <a:pt x="8176" y="2610"/>
                  <a:pt x="7286" y="3939"/>
                  <a:pt x="6651" y="5442"/>
                </a:cubicBezTo>
                <a:moveTo>
                  <a:pt x="10452" y="1411"/>
                </a:moveTo>
                <a:lnTo>
                  <a:pt x="10452" y="6253"/>
                </a:lnTo>
                <a:cubicBezTo>
                  <a:pt x="9353" y="6218"/>
                  <a:pt x="8297" y="6021"/>
                  <a:pt x="7304" y="5682"/>
                </a:cubicBezTo>
                <a:cubicBezTo>
                  <a:pt x="8029" y="3972"/>
                  <a:pt x="9102" y="2507"/>
                  <a:pt x="10416" y="1413"/>
                </a:cubicBezTo>
                <a:cubicBezTo>
                  <a:pt x="10428" y="1413"/>
                  <a:pt x="10439" y="1412"/>
                  <a:pt x="10452" y="1411"/>
                </a:cubicBezTo>
                <a:moveTo>
                  <a:pt x="12345" y="1532"/>
                </a:moveTo>
                <a:cubicBezTo>
                  <a:pt x="14268" y="1851"/>
                  <a:pt x="15994" y="2750"/>
                  <a:pt x="17336" y="4050"/>
                </a:cubicBezTo>
                <a:cubicBezTo>
                  <a:pt x="16607" y="4609"/>
                  <a:pt x="15809" y="5084"/>
                  <a:pt x="14949" y="5442"/>
                </a:cubicBezTo>
                <a:cubicBezTo>
                  <a:pt x="14314" y="3939"/>
                  <a:pt x="13424" y="2610"/>
                  <a:pt x="12345" y="1532"/>
                </a:cubicBezTo>
                <a:moveTo>
                  <a:pt x="11184" y="1413"/>
                </a:moveTo>
                <a:cubicBezTo>
                  <a:pt x="12498" y="2507"/>
                  <a:pt x="13571" y="3972"/>
                  <a:pt x="14296" y="5682"/>
                </a:cubicBezTo>
                <a:cubicBezTo>
                  <a:pt x="13303" y="6021"/>
                  <a:pt x="12247" y="6218"/>
                  <a:pt x="11148" y="6253"/>
                </a:cubicBezTo>
                <a:lnTo>
                  <a:pt x="11148" y="1411"/>
                </a:lnTo>
                <a:cubicBezTo>
                  <a:pt x="11161" y="1412"/>
                  <a:pt x="11173" y="1413"/>
                  <a:pt x="11184" y="1413"/>
                </a:cubicBezTo>
                <a:moveTo>
                  <a:pt x="10415" y="20187"/>
                </a:moveTo>
                <a:cubicBezTo>
                  <a:pt x="9257" y="19223"/>
                  <a:pt x="8286" y="17971"/>
                  <a:pt x="7575" y="16516"/>
                </a:cubicBezTo>
                <a:cubicBezTo>
                  <a:pt x="8486" y="16231"/>
                  <a:pt x="9453" y="16075"/>
                  <a:pt x="10452" y="16043"/>
                </a:cubicBezTo>
                <a:lnTo>
                  <a:pt x="10452" y="20189"/>
                </a:lnTo>
                <a:cubicBezTo>
                  <a:pt x="10452" y="20189"/>
                  <a:pt x="10415" y="20187"/>
                  <a:pt x="10415" y="20187"/>
                </a:cubicBezTo>
                <a:close/>
                <a:moveTo>
                  <a:pt x="20189" y="10452"/>
                </a:moveTo>
                <a:lnTo>
                  <a:pt x="16011" y="10452"/>
                </a:lnTo>
                <a:cubicBezTo>
                  <a:pt x="15973" y="8908"/>
                  <a:pt x="15699" y="7434"/>
                  <a:pt x="15211" y="6085"/>
                </a:cubicBezTo>
                <a:cubicBezTo>
                  <a:pt x="16151" y="5692"/>
                  <a:pt x="17021" y="5170"/>
                  <a:pt x="17814" y="4554"/>
                </a:cubicBezTo>
                <a:cubicBezTo>
                  <a:pt x="19224" y="6136"/>
                  <a:pt x="20106" y="8190"/>
                  <a:pt x="20189" y="10452"/>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48" name="AutoShape 5"/>
          <p:cNvSpPr/>
          <p:nvPr/>
        </p:nvSpPr>
        <p:spPr>
          <a:xfrm>
            <a:off x="20786760" y="9190080"/>
            <a:ext cx="174600" cy="233280"/>
          </a:xfrm>
          <a:custGeom>
            <a:avLst/>
            <a:gdLst/>
            <a:ahLst/>
            <a:rect l="l" t="t" r="r" b="b"/>
            <a:pathLst>
              <a:path w="21600" h="21600">
                <a:moveTo>
                  <a:pt x="18000" y="18900"/>
                </a:moveTo>
                <a:lnTo>
                  <a:pt x="3600" y="18900"/>
                </a:lnTo>
                <a:lnTo>
                  <a:pt x="3600" y="2700"/>
                </a:lnTo>
                <a:lnTo>
                  <a:pt x="7200" y="2700"/>
                </a:lnTo>
                <a:lnTo>
                  <a:pt x="18000" y="14850"/>
                </a:lnTo>
                <a:cubicBezTo>
                  <a:pt x="18000" y="14850"/>
                  <a:pt x="18000" y="18900"/>
                  <a:pt x="18000" y="18900"/>
                </a:cubicBezTo>
                <a:close/>
                <a:moveTo>
                  <a:pt x="10195" y="1202"/>
                </a:moveTo>
                <a:cubicBezTo>
                  <a:pt x="9527" y="451"/>
                  <a:pt x="8402" y="0"/>
                  <a:pt x="7200" y="0"/>
                </a:cubicBezTo>
                <a:lnTo>
                  <a:pt x="3600" y="0"/>
                </a:lnTo>
                <a:cubicBezTo>
                  <a:pt x="1610" y="0"/>
                  <a:pt x="0" y="1208"/>
                  <a:pt x="0" y="2700"/>
                </a:cubicBezTo>
                <a:lnTo>
                  <a:pt x="0" y="18900"/>
                </a:lnTo>
                <a:cubicBezTo>
                  <a:pt x="0" y="20392"/>
                  <a:pt x="1610" y="21600"/>
                  <a:pt x="3600" y="21600"/>
                </a:cubicBezTo>
                <a:lnTo>
                  <a:pt x="18000" y="21600"/>
                </a:lnTo>
                <a:cubicBezTo>
                  <a:pt x="19990" y="21600"/>
                  <a:pt x="21600" y="20392"/>
                  <a:pt x="21600" y="18900"/>
                </a:cubicBezTo>
                <a:lnTo>
                  <a:pt x="21600" y="14850"/>
                </a:lnTo>
                <a:cubicBezTo>
                  <a:pt x="21600" y="14317"/>
                  <a:pt x="21389" y="13795"/>
                  <a:pt x="20995" y="13352"/>
                </a:cubicBezTo>
                <a:cubicBezTo>
                  <a:pt x="20995" y="13352"/>
                  <a:pt x="10195" y="1202"/>
                  <a:pt x="10195" y="1202"/>
                </a:cubicBezTo>
                <a:close/>
                <a:moveTo>
                  <a:pt x="10195" y="1202"/>
                </a:move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49" name="AutoShape 6"/>
          <p:cNvSpPr/>
          <p:nvPr/>
        </p:nvSpPr>
        <p:spPr>
          <a:xfrm>
            <a:off x="20148480" y="8958240"/>
            <a:ext cx="928800" cy="755640"/>
          </a:xfrm>
          <a:custGeom>
            <a:avLst/>
            <a:gdLst/>
            <a:ahLst/>
            <a:rect l="l" t="t" r="r" b="b"/>
            <a:pathLst>
              <a:path w="21600" h="21600">
                <a:moveTo>
                  <a:pt x="20250" y="16615"/>
                </a:moveTo>
                <a:cubicBezTo>
                  <a:pt x="20250" y="17075"/>
                  <a:pt x="19948" y="17446"/>
                  <a:pt x="19575" y="17446"/>
                </a:cubicBezTo>
                <a:lnTo>
                  <a:pt x="18804" y="17446"/>
                </a:lnTo>
                <a:cubicBezTo>
                  <a:pt x="18502" y="16017"/>
                  <a:pt x="17454" y="14954"/>
                  <a:pt x="16200" y="14954"/>
                </a:cubicBezTo>
                <a:cubicBezTo>
                  <a:pt x="14945" y="14954"/>
                  <a:pt x="13897" y="16017"/>
                  <a:pt x="13595" y="17446"/>
                </a:cubicBezTo>
                <a:lnTo>
                  <a:pt x="10029" y="17446"/>
                </a:lnTo>
                <a:cubicBezTo>
                  <a:pt x="9727" y="16017"/>
                  <a:pt x="8679" y="14954"/>
                  <a:pt x="7425" y="14954"/>
                </a:cubicBezTo>
                <a:cubicBezTo>
                  <a:pt x="6170" y="14954"/>
                  <a:pt x="5122" y="16017"/>
                  <a:pt x="4820" y="17446"/>
                </a:cubicBezTo>
                <a:lnTo>
                  <a:pt x="4051" y="17446"/>
                </a:lnTo>
                <a:cubicBezTo>
                  <a:pt x="3677" y="17446"/>
                  <a:pt x="3376" y="17075"/>
                  <a:pt x="3376" y="16615"/>
                </a:cubicBezTo>
                <a:lnTo>
                  <a:pt x="3376" y="14123"/>
                </a:lnTo>
                <a:lnTo>
                  <a:pt x="12150" y="14123"/>
                </a:lnTo>
                <a:cubicBezTo>
                  <a:pt x="13267" y="14123"/>
                  <a:pt x="14175" y="13005"/>
                  <a:pt x="14175" y="11631"/>
                </a:cubicBezTo>
                <a:lnTo>
                  <a:pt x="14175" y="5815"/>
                </a:lnTo>
                <a:lnTo>
                  <a:pt x="16875" y="5815"/>
                </a:lnTo>
                <a:cubicBezTo>
                  <a:pt x="17101" y="5815"/>
                  <a:pt x="17312" y="5954"/>
                  <a:pt x="17437" y="6185"/>
                </a:cubicBezTo>
                <a:lnTo>
                  <a:pt x="20137" y="11170"/>
                </a:lnTo>
                <a:cubicBezTo>
                  <a:pt x="20210" y="11306"/>
                  <a:pt x="20250" y="11467"/>
                  <a:pt x="20250" y="11631"/>
                </a:cubicBezTo>
                <a:cubicBezTo>
                  <a:pt x="20250" y="11631"/>
                  <a:pt x="20250" y="16615"/>
                  <a:pt x="20250" y="16615"/>
                </a:cubicBezTo>
                <a:close/>
                <a:moveTo>
                  <a:pt x="16200" y="19938"/>
                </a:moveTo>
                <a:cubicBezTo>
                  <a:pt x="15455" y="19938"/>
                  <a:pt x="14850" y="19194"/>
                  <a:pt x="14850" y="18277"/>
                </a:cubicBezTo>
                <a:cubicBezTo>
                  <a:pt x="14850" y="17360"/>
                  <a:pt x="15455" y="16615"/>
                  <a:pt x="16200" y="16615"/>
                </a:cubicBezTo>
                <a:cubicBezTo>
                  <a:pt x="16946" y="16615"/>
                  <a:pt x="17550" y="17360"/>
                  <a:pt x="17550" y="18277"/>
                </a:cubicBezTo>
                <a:cubicBezTo>
                  <a:pt x="17550" y="19194"/>
                  <a:pt x="16946" y="19938"/>
                  <a:pt x="16200" y="19938"/>
                </a:cubicBezTo>
                <a:moveTo>
                  <a:pt x="7425" y="19938"/>
                </a:moveTo>
                <a:cubicBezTo>
                  <a:pt x="6680" y="19938"/>
                  <a:pt x="6075" y="19194"/>
                  <a:pt x="6075" y="18277"/>
                </a:cubicBezTo>
                <a:cubicBezTo>
                  <a:pt x="6075" y="17360"/>
                  <a:pt x="6680" y="16615"/>
                  <a:pt x="7425" y="16615"/>
                </a:cubicBezTo>
                <a:cubicBezTo>
                  <a:pt x="8171" y="16615"/>
                  <a:pt x="8775" y="17360"/>
                  <a:pt x="8775" y="18277"/>
                </a:cubicBezTo>
                <a:cubicBezTo>
                  <a:pt x="8775" y="19194"/>
                  <a:pt x="8171" y="19938"/>
                  <a:pt x="7425" y="19938"/>
                </a:cubicBezTo>
                <a:moveTo>
                  <a:pt x="2025" y="12462"/>
                </a:moveTo>
                <a:cubicBezTo>
                  <a:pt x="1653" y="12462"/>
                  <a:pt x="1350" y="12090"/>
                  <a:pt x="1350" y="11631"/>
                </a:cubicBezTo>
                <a:lnTo>
                  <a:pt x="1350" y="2492"/>
                </a:lnTo>
                <a:cubicBezTo>
                  <a:pt x="1350" y="2033"/>
                  <a:pt x="1653" y="1662"/>
                  <a:pt x="2025" y="1662"/>
                </a:cubicBezTo>
                <a:lnTo>
                  <a:pt x="12150" y="1662"/>
                </a:lnTo>
                <a:cubicBezTo>
                  <a:pt x="12523" y="1662"/>
                  <a:pt x="12825" y="2033"/>
                  <a:pt x="12825" y="2492"/>
                </a:cubicBezTo>
                <a:lnTo>
                  <a:pt x="12825" y="4154"/>
                </a:lnTo>
                <a:lnTo>
                  <a:pt x="12825" y="5815"/>
                </a:lnTo>
                <a:lnTo>
                  <a:pt x="12825" y="11631"/>
                </a:lnTo>
                <a:cubicBezTo>
                  <a:pt x="12825" y="12090"/>
                  <a:pt x="12523" y="12462"/>
                  <a:pt x="12150" y="12462"/>
                </a:cubicBezTo>
                <a:cubicBezTo>
                  <a:pt x="12150" y="12462"/>
                  <a:pt x="2025" y="12462"/>
                  <a:pt x="2025" y="12462"/>
                </a:cubicBezTo>
                <a:close/>
                <a:moveTo>
                  <a:pt x="21260" y="10248"/>
                </a:moveTo>
                <a:lnTo>
                  <a:pt x="18560" y="5264"/>
                </a:lnTo>
                <a:cubicBezTo>
                  <a:pt x="18182" y="4568"/>
                  <a:pt x="17553" y="4154"/>
                  <a:pt x="16875" y="4154"/>
                </a:cubicBezTo>
                <a:lnTo>
                  <a:pt x="14175" y="4154"/>
                </a:lnTo>
                <a:lnTo>
                  <a:pt x="14175" y="2492"/>
                </a:lnTo>
                <a:cubicBezTo>
                  <a:pt x="14175" y="1118"/>
                  <a:pt x="13267" y="0"/>
                  <a:pt x="12150" y="0"/>
                </a:cubicBezTo>
                <a:lnTo>
                  <a:pt x="2025" y="0"/>
                </a:lnTo>
                <a:cubicBezTo>
                  <a:pt x="908" y="0"/>
                  <a:pt x="0" y="1118"/>
                  <a:pt x="0" y="2492"/>
                </a:cubicBezTo>
                <a:lnTo>
                  <a:pt x="0" y="11631"/>
                </a:lnTo>
                <a:cubicBezTo>
                  <a:pt x="0" y="13005"/>
                  <a:pt x="908" y="14123"/>
                  <a:pt x="2025" y="14123"/>
                </a:cubicBezTo>
                <a:lnTo>
                  <a:pt x="2026" y="14123"/>
                </a:lnTo>
                <a:lnTo>
                  <a:pt x="2026" y="16615"/>
                </a:lnTo>
                <a:cubicBezTo>
                  <a:pt x="2026" y="17990"/>
                  <a:pt x="2933" y="19108"/>
                  <a:pt x="4051" y="19108"/>
                </a:cubicBezTo>
                <a:lnTo>
                  <a:pt x="4820" y="19108"/>
                </a:lnTo>
                <a:cubicBezTo>
                  <a:pt x="5122" y="20537"/>
                  <a:pt x="6170" y="21600"/>
                  <a:pt x="7425" y="21600"/>
                </a:cubicBezTo>
                <a:cubicBezTo>
                  <a:pt x="8679" y="21600"/>
                  <a:pt x="9727" y="20537"/>
                  <a:pt x="10029" y="19108"/>
                </a:cubicBezTo>
                <a:lnTo>
                  <a:pt x="13595" y="19108"/>
                </a:lnTo>
                <a:cubicBezTo>
                  <a:pt x="13897" y="20537"/>
                  <a:pt x="14945" y="21600"/>
                  <a:pt x="16200" y="21600"/>
                </a:cubicBezTo>
                <a:cubicBezTo>
                  <a:pt x="17454" y="21600"/>
                  <a:pt x="18502" y="20537"/>
                  <a:pt x="18804" y="19108"/>
                </a:cubicBezTo>
                <a:lnTo>
                  <a:pt x="19575" y="19108"/>
                </a:lnTo>
                <a:cubicBezTo>
                  <a:pt x="20692" y="19108"/>
                  <a:pt x="21600" y="17990"/>
                  <a:pt x="21600" y="16615"/>
                </a:cubicBezTo>
                <a:lnTo>
                  <a:pt x="21600" y="11631"/>
                </a:lnTo>
                <a:cubicBezTo>
                  <a:pt x="21600" y="11138"/>
                  <a:pt x="21483" y="10659"/>
                  <a:pt x="21260" y="10248"/>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50" name="AutoShape 7"/>
          <p:cNvSpPr/>
          <p:nvPr/>
        </p:nvSpPr>
        <p:spPr>
          <a:xfrm>
            <a:off x="18291240" y="8871120"/>
            <a:ext cx="928800" cy="930240"/>
          </a:xfrm>
          <a:custGeom>
            <a:avLst/>
            <a:gdLst/>
            <a:ahLst/>
            <a:rect l="l" t="t" r="r" b="b"/>
            <a:pathLst>
              <a:path w="19058" h="19059">
                <a:moveTo>
                  <a:pt x="6431" y="17269"/>
                </a:moveTo>
                <a:cubicBezTo>
                  <a:pt x="2163" y="15560"/>
                  <a:pt x="83" y="10698"/>
                  <a:pt x="1790" y="6431"/>
                </a:cubicBezTo>
                <a:cubicBezTo>
                  <a:pt x="3499" y="2164"/>
                  <a:pt x="8361" y="82"/>
                  <a:pt x="12627" y="1791"/>
                </a:cubicBezTo>
                <a:cubicBezTo>
                  <a:pt x="16894" y="3500"/>
                  <a:pt x="18975" y="8362"/>
                  <a:pt x="17267" y="12628"/>
                </a:cubicBezTo>
                <a:cubicBezTo>
                  <a:pt x="15558" y="16896"/>
                  <a:pt x="10697" y="18977"/>
                  <a:pt x="6431" y="17269"/>
                </a:cubicBezTo>
                <a:moveTo>
                  <a:pt x="13070" y="685"/>
                </a:moveTo>
                <a:cubicBezTo>
                  <a:pt x="8186" y="-1270"/>
                  <a:pt x="2642" y="1104"/>
                  <a:pt x="686" y="5988"/>
                </a:cubicBezTo>
                <a:cubicBezTo>
                  <a:pt x="-1271" y="10873"/>
                  <a:pt x="1104" y="16418"/>
                  <a:pt x="5988" y="18374"/>
                </a:cubicBezTo>
                <a:cubicBezTo>
                  <a:pt x="10872" y="20330"/>
                  <a:pt x="16416" y="17956"/>
                  <a:pt x="18373" y="13071"/>
                </a:cubicBezTo>
                <a:cubicBezTo>
                  <a:pt x="20329" y="8187"/>
                  <a:pt x="17954" y="2642"/>
                  <a:pt x="13070" y="685"/>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51" name="AutoShape 8"/>
          <p:cNvSpPr/>
          <p:nvPr/>
        </p:nvSpPr>
        <p:spPr>
          <a:xfrm>
            <a:off x="18697680" y="9277200"/>
            <a:ext cx="115920" cy="115920"/>
          </a:xfrm>
          <a:custGeom>
            <a:avLst/>
            <a:gdLst/>
            <a:ahLst/>
            <a:rect l="l" t="t" r="r" b="b"/>
            <a:pathLst>
              <a:path w="19059" h="19056">
                <a:moveTo>
                  <a:pt x="7753" y="13951"/>
                </a:moveTo>
                <a:cubicBezTo>
                  <a:pt x="5315" y="12970"/>
                  <a:pt x="4129" y="10198"/>
                  <a:pt x="5101" y="7756"/>
                </a:cubicBezTo>
                <a:cubicBezTo>
                  <a:pt x="6083" y="5323"/>
                  <a:pt x="8860" y="4133"/>
                  <a:pt x="11298" y="5105"/>
                </a:cubicBezTo>
                <a:cubicBezTo>
                  <a:pt x="13736" y="6081"/>
                  <a:pt x="14927" y="8858"/>
                  <a:pt x="13950" y="11300"/>
                </a:cubicBezTo>
                <a:cubicBezTo>
                  <a:pt x="12973" y="13737"/>
                  <a:pt x="10196" y="14923"/>
                  <a:pt x="7753" y="13951"/>
                </a:cubicBezTo>
                <a:moveTo>
                  <a:pt x="13071" y="686"/>
                </a:moveTo>
                <a:cubicBezTo>
                  <a:pt x="8191" y="-1272"/>
                  <a:pt x="2640" y="1105"/>
                  <a:pt x="687" y="5988"/>
                </a:cubicBezTo>
                <a:cubicBezTo>
                  <a:pt x="-1272" y="10872"/>
                  <a:pt x="1105" y="16416"/>
                  <a:pt x="5985" y="18370"/>
                </a:cubicBezTo>
                <a:cubicBezTo>
                  <a:pt x="10870" y="20328"/>
                  <a:pt x="16416" y="17951"/>
                  <a:pt x="18374" y="13072"/>
                </a:cubicBezTo>
                <a:cubicBezTo>
                  <a:pt x="20328" y="8188"/>
                  <a:pt x="17960" y="2644"/>
                  <a:pt x="13071" y="686"/>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52" name="AutoShape 9"/>
          <p:cNvSpPr/>
          <p:nvPr/>
        </p:nvSpPr>
        <p:spPr>
          <a:xfrm>
            <a:off x="18579960" y="9161640"/>
            <a:ext cx="349560" cy="349200"/>
          </a:xfrm>
          <a:custGeom>
            <a:avLst/>
            <a:gdLst/>
            <a:ahLst/>
            <a:rect l="l" t="t" r="r" b="b"/>
            <a:pathLst>
              <a:path w="19059" h="19058">
                <a:moveTo>
                  <a:pt x="7170" y="15424"/>
                </a:moveTo>
                <a:cubicBezTo>
                  <a:pt x="3916" y="14123"/>
                  <a:pt x="2331" y="10417"/>
                  <a:pt x="3632" y="7167"/>
                </a:cubicBezTo>
                <a:cubicBezTo>
                  <a:pt x="4935" y="3917"/>
                  <a:pt x="8638" y="2331"/>
                  <a:pt x="11890" y="3632"/>
                </a:cubicBezTo>
                <a:cubicBezTo>
                  <a:pt x="15142" y="4935"/>
                  <a:pt x="16728" y="8640"/>
                  <a:pt x="15426" y="11891"/>
                </a:cubicBezTo>
                <a:cubicBezTo>
                  <a:pt x="14125" y="15141"/>
                  <a:pt x="10420" y="16728"/>
                  <a:pt x="7170" y="15424"/>
                </a:cubicBezTo>
                <a:moveTo>
                  <a:pt x="13072" y="686"/>
                </a:moveTo>
                <a:cubicBezTo>
                  <a:pt x="8187" y="-1271"/>
                  <a:pt x="2640" y="1105"/>
                  <a:pt x="686" y="5987"/>
                </a:cubicBezTo>
                <a:cubicBezTo>
                  <a:pt x="-1271" y="10872"/>
                  <a:pt x="1105" y="16417"/>
                  <a:pt x="5988" y="18372"/>
                </a:cubicBezTo>
                <a:cubicBezTo>
                  <a:pt x="10874" y="20329"/>
                  <a:pt x="16418" y="17955"/>
                  <a:pt x="18375" y="13071"/>
                </a:cubicBezTo>
                <a:cubicBezTo>
                  <a:pt x="20329" y="8186"/>
                  <a:pt x="17956" y="2641"/>
                  <a:pt x="13072" y="686"/>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53" name="AutoShape 10"/>
          <p:cNvSpPr/>
          <p:nvPr/>
        </p:nvSpPr>
        <p:spPr>
          <a:xfrm>
            <a:off x="18813600" y="9393120"/>
            <a:ext cx="144360" cy="149400"/>
          </a:xfrm>
          <a:custGeom>
            <a:avLst/>
            <a:gdLst/>
            <a:ahLst/>
            <a:rect l="l" t="t" r="r" b="b"/>
            <a:pathLst>
              <a:path w="21033" h="21043">
                <a:moveTo>
                  <a:pt x="20882" y="2825"/>
                </a:moveTo>
                <a:cubicBezTo>
                  <a:pt x="21312" y="1771"/>
                  <a:pt x="20787" y="572"/>
                  <a:pt x="19714" y="150"/>
                </a:cubicBezTo>
                <a:cubicBezTo>
                  <a:pt x="18636" y="-277"/>
                  <a:pt x="17415" y="238"/>
                  <a:pt x="16985" y="1296"/>
                </a:cubicBezTo>
                <a:lnTo>
                  <a:pt x="16981" y="1292"/>
                </a:lnTo>
                <a:cubicBezTo>
                  <a:pt x="13964" y="8692"/>
                  <a:pt x="8182" y="14185"/>
                  <a:pt x="1269" y="17090"/>
                </a:cubicBezTo>
                <a:cubicBezTo>
                  <a:pt x="208" y="17537"/>
                  <a:pt x="-288" y="18748"/>
                  <a:pt x="171" y="19790"/>
                </a:cubicBezTo>
                <a:cubicBezTo>
                  <a:pt x="630" y="20840"/>
                  <a:pt x="1863" y="21323"/>
                  <a:pt x="2925" y="20876"/>
                </a:cubicBezTo>
                <a:cubicBezTo>
                  <a:pt x="2962" y="20860"/>
                  <a:pt x="2982" y="20828"/>
                  <a:pt x="3015" y="20816"/>
                </a:cubicBezTo>
                <a:cubicBezTo>
                  <a:pt x="10875" y="17480"/>
                  <a:pt x="17452" y="11227"/>
                  <a:pt x="20878" y="2825"/>
                </a:cubicBezTo>
                <a:cubicBezTo>
                  <a:pt x="20878" y="2825"/>
                  <a:pt x="20882" y="2825"/>
                  <a:pt x="20882" y="2825"/>
                </a:cubicBezTo>
                <a:close/>
                <a:moveTo>
                  <a:pt x="20882" y="2825"/>
                </a:move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54" name="AutoShape 11"/>
          <p:cNvSpPr/>
          <p:nvPr/>
        </p:nvSpPr>
        <p:spPr>
          <a:xfrm>
            <a:off x="18870480" y="9451800"/>
            <a:ext cx="208080" cy="212760"/>
          </a:xfrm>
          <a:custGeom>
            <a:avLst/>
            <a:gdLst/>
            <a:ahLst/>
            <a:rect l="l" t="t" r="r" b="b"/>
            <a:pathLst>
              <a:path w="21201" h="21209">
                <a:moveTo>
                  <a:pt x="20268" y="104"/>
                </a:moveTo>
                <a:cubicBezTo>
                  <a:pt x="19509" y="-194"/>
                  <a:pt x="18646" y="169"/>
                  <a:pt x="18339" y="913"/>
                </a:cubicBezTo>
                <a:cubicBezTo>
                  <a:pt x="14991" y="9110"/>
                  <a:pt x="8568" y="15198"/>
                  <a:pt x="895" y="18420"/>
                </a:cubicBezTo>
                <a:cubicBezTo>
                  <a:pt x="144" y="18735"/>
                  <a:pt x="-203" y="19589"/>
                  <a:pt x="121" y="20327"/>
                </a:cubicBezTo>
                <a:cubicBezTo>
                  <a:pt x="443" y="21068"/>
                  <a:pt x="1314" y="21406"/>
                  <a:pt x="2067" y="21091"/>
                </a:cubicBezTo>
                <a:cubicBezTo>
                  <a:pt x="2102" y="21074"/>
                  <a:pt x="2125" y="21043"/>
                  <a:pt x="2160" y="21026"/>
                </a:cubicBezTo>
                <a:cubicBezTo>
                  <a:pt x="10491" y="17500"/>
                  <a:pt x="17462" y="10881"/>
                  <a:pt x="21096" y="1994"/>
                </a:cubicBezTo>
                <a:cubicBezTo>
                  <a:pt x="21397" y="1251"/>
                  <a:pt x="21026" y="405"/>
                  <a:pt x="20268" y="104"/>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55" name="AutoShape 12"/>
          <p:cNvSpPr/>
          <p:nvPr/>
        </p:nvSpPr>
        <p:spPr>
          <a:xfrm>
            <a:off x="18842040" y="9423360"/>
            <a:ext cx="176040" cy="179280"/>
          </a:xfrm>
          <a:custGeom>
            <a:avLst/>
            <a:gdLst/>
            <a:ahLst/>
            <a:rect l="l" t="t" r="r" b="b"/>
            <a:pathLst>
              <a:path w="21128" h="21141">
                <a:moveTo>
                  <a:pt x="20035" y="123"/>
                </a:moveTo>
                <a:cubicBezTo>
                  <a:pt x="19143" y="-227"/>
                  <a:pt x="18135" y="196"/>
                  <a:pt x="17778" y="1071"/>
                </a:cubicBezTo>
                <a:cubicBezTo>
                  <a:pt x="14571" y="8937"/>
                  <a:pt x="8412" y="14779"/>
                  <a:pt x="1052" y="17868"/>
                </a:cubicBezTo>
                <a:lnTo>
                  <a:pt x="1055" y="17868"/>
                </a:lnTo>
                <a:cubicBezTo>
                  <a:pt x="173" y="18241"/>
                  <a:pt x="-238" y="19243"/>
                  <a:pt x="142" y="20108"/>
                </a:cubicBezTo>
                <a:cubicBezTo>
                  <a:pt x="522" y="20974"/>
                  <a:pt x="1544" y="21373"/>
                  <a:pt x="2426" y="21004"/>
                </a:cubicBezTo>
                <a:cubicBezTo>
                  <a:pt x="2460" y="20987"/>
                  <a:pt x="2477" y="20957"/>
                  <a:pt x="2514" y="20937"/>
                </a:cubicBezTo>
                <a:cubicBezTo>
                  <a:pt x="10652" y="17492"/>
                  <a:pt x="17459" y="11027"/>
                  <a:pt x="21002" y="2339"/>
                </a:cubicBezTo>
                <a:cubicBezTo>
                  <a:pt x="21362" y="1464"/>
                  <a:pt x="20928" y="472"/>
                  <a:pt x="20035" y="123"/>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56" name="AutoShape 13"/>
          <p:cNvSpPr/>
          <p:nvPr/>
        </p:nvSpPr>
        <p:spPr>
          <a:xfrm>
            <a:off x="18551520" y="9132840"/>
            <a:ext cx="146160" cy="147600"/>
          </a:xfrm>
          <a:custGeom>
            <a:avLst/>
            <a:gdLst/>
            <a:ahLst/>
            <a:rect l="l" t="t" r="r" b="b"/>
            <a:pathLst>
              <a:path w="21039" h="21044">
                <a:moveTo>
                  <a:pt x="20871" y="1248"/>
                </a:moveTo>
                <a:cubicBezTo>
                  <a:pt x="20412" y="198"/>
                  <a:pt x="19178" y="-281"/>
                  <a:pt x="18112" y="170"/>
                </a:cubicBezTo>
                <a:cubicBezTo>
                  <a:pt x="18075" y="182"/>
                  <a:pt x="18051" y="214"/>
                  <a:pt x="18022" y="226"/>
                </a:cubicBezTo>
                <a:cubicBezTo>
                  <a:pt x="10159" y="3562"/>
                  <a:pt x="3584" y="9821"/>
                  <a:pt x="152" y="18220"/>
                </a:cubicBezTo>
                <a:lnTo>
                  <a:pt x="148" y="18220"/>
                </a:lnTo>
                <a:cubicBezTo>
                  <a:pt x="-278" y="19279"/>
                  <a:pt x="243" y="20474"/>
                  <a:pt x="1321" y="20896"/>
                </a:cubicBezTo>
                <a:cubicBezTo>
                  <a:pt x="2399" y="21319"/>
                  <a:pt x="3621" y="20804"/>
                  <a:pt x="4047" y="19749"/>
                </a:cubicBezTo>
                <a:lnTo>
                  <a:pt x="4051" y="19749"/>
                </a:lnTo>
                <a:cubicBezTo>
                  <a:pt x="7068" y="12356"/>
                  <a:pt x="12857" y="6859"/>
                  <a:pt x="19764" y="3957"/>
                </a:cubicBezTo>
                <a:cubicBezTo>
                  <a:pt x="20830" y="3506"/>
                  <a:pt x="21322" y="2299"/>
                  <a:pt x="20871" y="1248"/>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57" name="AutoShape 14"/>
          <p:cNvSpPr/>
          <p:nvPr/>
        </p:nvSpPr>
        <p:spPr>
          <a:xfrm>
            <a:off x="18435600" y="9016920"/>
            <a:ext cx="208080" cy="211320"/>
          </a:xfrm>
          <a:custGeom>
            <a:avLst/>
            <a:gdLst/>
            <a:ahLst/>
            <a:rect l="l" t="t" r="r" b="b"/>
            <a:pathLst>
              <a:path w="21199" h="21208">
                <a:moveTo>
                  <a:pt x="21078" y="880"/>
                </a:moveTo>
                <a:cubicBezTo>
                  <a:pt x="20753" y="143"/>
                  <a:pt x="19882" y="-198"/>
                  <a:pt x="19129" y="117"/>
                </a:cubicBezTo>
                <a:cubicBezTo>
                  <a:pt x="19097" y="131"/>
                  <a:pt x="19071" y="162"/>
                  <a:pt x="19039" y="179"/>
                </a:cubicBezTo>
                <a:cubicBezTo>
                  <a:pt x="10706" y="3707"/>
                  <a:pt x="3740" y="10322"/>
                  <a:pt x="106" y="19208"/>
                </a:cubicBezTo>
                <a:cubicBezTo>
                  <a:pt x="-198" y="19957"/>
                  <a:pt x="173" y="20803"/>
                  <a:pt x="934" y="21101"/>
                </a:cubicBezTo>
                <a:cubicBezTo>
                  <a:pt x="1690" y="21402"/>
                  <a:pt x="2553" y="21042"/>
                  <a:pt x="2860" y="20292"/>
                </a:cubicBezTo>
                <a:cubicBezTo>
                  <a:pt x="6207" y="12096"/>
                  <a:pt x="12626" y="6009"/>
                  <a:pt x="20302" y="2788"/>
                </a:cubicBezTo>
                <a:cubicBezTo>
                  <a:pt x="21052" y="2470"/>
                  <a:pt x="21402" y="1618"/>
                  <a:pt x="21078" y="88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58" name="AutoShape 15"/>
          <p:cNvSpPr/>
          <p:nvPr/>
        </p:nvSpPr>
        <p:spPr>
          <a:xfrm>
            <a:off x="18494280" y="9074160"/>
            <a:ext cx="176400" cy="181080"/>
          </a:xfrm>
          <a:custGeom>
            <a:avLst/>
            <a:gdLst/>
            <a:ahLst/>
            <a:rect l="l" t="t" r="r" b="b"/>
            <a:pathLst>
              <a:path w="21129" h="21141">
                <a:moveTo>
                  <a:pt x="20075" y="3268"/>
                </a:moveTo>
                <a:cubicBezTo>
                  <a:pt x="20954" y="2898"/>
                  <a:pt x="21368" y="1900"/>
                  <a:pt x="20988" y="1031"/>
                </a:cubicBezTo>
                <a:cubicBezTo>
                  <a:pt x="20611" y="169"/>
                  <a:pt x="19590" y="-234"/>
                  <a:pt x="18707" y="139"/>
                </a:cubicBezTo>
                <a:cubicBezTo>
                  <a:pt x="18670" y="152"/>
                  <a:pt x="18650" y="185"/>
                  <a:pt x="18616" y="199"/>
                </a:cubicBezTo>
                <a:cubicBezTo>
                  <a:pt x="10481" y="3647"/>
                  <a:pt x="3674" y="10118"/>
                  <a:pt x="124" y="18803"/>
                </a:cubicBezTo>
                <a:cubicBezTo>
                  <a:pt x="-232" y="19678"/>
                  <a:pt x="206" y="20667"/>
                  <a:pt x="1095" y="21020"/>
                </a:cubicBezTo>
                <a:cubicBezTo>
                  <a:pt x="1984" y="21366"/>
                  <a:pt x="2992" y="20947"/>
                  <a:pt x="3355" y="20071"/>
                </a:cubicBezTo>
                <a:cubicBezTo>
                  <a:pt x="6562" y="12205"/>
                  <a:pt x="12718" y="6360"/>
                  <a:pt x="20075" y="3274"/>
                </a:cubicBezTo>
                <a:cubicBezTo>
                  <a:pt x="20075" y="3274"/>
                  <a:pt x="20075" y="3268"/>
                  <a:pt x="20075" y="3268"/>
                </a:cubicBezTo>
                <a:close/>
                <a:moveTo>
                  <a:pt x="20075" y="3268"/>
                </a:move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59" name="AutoShape 16"/>
          <p:cNvSpPr/>
          <p:nvPr/>
        </p:nvSpPr>
        <p:spPr>
          <a:xfrm>
            <a:off x="16897320" y="9393120"/>
            <a:ext cx="115920" cy="117720"/>
          </a:xfrm>
          <a:custGeom>
            <a:avLst/>
            <a:gdLst/>
            <a:ahLst/>
            <a:rect l="l" t="t" r="r" b="b"/>
            <a:pathLst>
              <a:path w="21600" h="21600">
                <a:moveTo>
                  <a:pt x="10800" y="0"/>
                </a:moveTo>
                <a:cubicBezTo>
                  <a:pt x="4838" y="0"/>
                  <a:pt x="0" y="4841"/>
                  <a:pt x="0" y="10800"/>
                </a:cubicBezTo>
                <a:cubicBezTo>
                  <a:pt x="0" y="16759"/>
                  <a:pt x="4838" y="21600"/>
                  <a:pt x="10800" y="21600"/>
                </a:cubicBezTo>
                <a:cubicBezTo>
                  <a:pt x="16762" y="21600"/>
                  <a:pt x="21600" y="16759"/>
                  <a:pt x="21600" y="10800"/>
                </a:cubicBezTo>
                <a:cubicBezTo>
                  <a:pt x="21600" y="4841"/>
                  <a:pt x="16762"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60" name="AutoShape 17"/>
          <p:cNvSpPr/>
          <p:nvPr/>
        </p:nvSpPr>
        <p:spPr>
          <a:xfrm>
            <a:off x="16432200" y="8899560"/>
            <a:ext cx="928800" cy="901800"/>
          </a:xfrm>
          <a:custGeom>
            <a:avLst/>
            <a:gdLst/>
            <a:ahLst/>
            <a:rect l="l" t="t" r="r" b="b"/>
            <a:pathLst>
              <a:path w="20946" h="21600">
                <a:moveTo>
                  <a:pt x="18509" y="15329"/>
                </a:moveTo>
                <a:lnTo>
                  <a:pt x="11782" y="15329"/>
                </a:lnTo>
                <a:cubicBezTo>
                  <a:pt x="10699" y="15329"/>
                  <a:pt x="9818" y="14391"/>
                  <a:pt x="9818" y="13239"/>
                </a:cubicBezTo>
                <a:cubicBezTo>
                  <a:pt x="9818" y="12086"/>
                  <a:pt x="10699" y="11148"/>
                  <a:pt x="11782" y="11148"/>
                </a:cubicBezTo>
                <a:lnTo>
                  <a:pt x="17673" y="11148"/>
                </a:lnTo>
                <a:cubicBezTo>
                  <a:pt x="18078" y="11143"/>
                  <a:pt x="18478" y="10935"/>
                  <a:pt x="18722" y="10588"/>
                </a:cubicBezTo>
                <a:cubicBezTo>
                  <a:pt x="18790" y="10491"/>
                  <a:pt x="18842" y="10382"/>
                  <a:pt x="18886" y="10267"/>
                </a:cubicBezTo>
                <a:cubicBezTo>
                  <a:pt x="18891" y="10252"/>
                  <a:pt x="18902" y="10240"/>
                  <a:pt x="18907" y="10224"/>
                </a:cubicBezTo>
                <a:cubicBezTo>
                  <a:pt x="19378" y="10881"/>
                  <a:pt x="19637" y="11687"/>
                  <a:pt x="19637" y="12542"/>
                </a:cubicBezTo>
                <a:cubicBezTo>
                  <a:pt x="19637" y="13614"/>
                  <a:pt x="19230" y="14608"/>
                  <a:pt x="18509" y="15329"/>
                </a:cubicBezTo>
                <a:moveTo>
                  <a:pt x="17673" y="17768"/>
                </a:moveTo>
                <a:cubicBezTo>
                  <a:pt x="17673" y="19114"/>
                  <a:pt x="16647" y="20206"/>
                  <a:pt x="15382" y="20206"/>
                </a:cubicBezTo>
                <a:lnTo>
                  <a:pt x="3600" y="20206"/>
                </a:lnTo>
                <a:cubicBezTo>
                  <a:pt x="2335" y="20206"/>
                  <a:pt x="1309" y="19114"/>
                  <a:pt x="1309" y="17768"/>
                </a:cubicBezTo>
                <a:lnTo>
                  <a:pt x="1309" y="6786"/>
                </a:lnTo>
                <a:cubicBezTo>
                  <a:pt x="1931" y="7335"/>
                  <a:pt x="2730" y="7665"/>
                  <a:pt x="3600" y="7665"/>
                </a:cubicBezTo>
                <a:lnTo>
                  <a:pt x="14400" y="7665"/>
                </a:lnTo>
                <a:lnTo>
                  <a:pt x="17019" y="7665"/>
                </a:lnTo>
                <a:cubicBezTo>
                  <a:pt x="17379" y="7665"/>
                  <a:pt x="17673" y="7977"/>
                  <a:pt x="17673" y="8361"/>
                </a:cubicBezTo>
                <a:lnTo>
                  <a:pt x="17673" y="9755"/>
                </a:lnTo>
                <a:lnTo>
                  <a:pt x="11782" y="9755"/>
                </a:lnTo>
                <a:cubicBezTo>
                  <a:pt x="9974" y="9755"/>
                  <a:pt x="8509" y="11314"/>
                  <a:pt x="8509" y="13239"/>
                </a:cubicBezTo>
                <a:cubicBezTo>
                  <a:pt x="8509" y="15163"/>
                  <a:pt x="9974" y="16723"/>
                  <a:pt x="11782" y="16723"/>
                </a:cubicBezTo>
                <a:lnTo>
                  <a:pt x="17673" y="16723"/>
                </a:lnTo>
                <a:cubicBezTo>
                  <a:pt x="17673" y="16723"/>
                  <a:pt x="17673" y="17768"/>
                  <a:pt x="17673" y="17768"/>
                </a:cubicBezTo>
                <a:close/>
                <a:moveTo>
                  <a:pt x="16363" y="5574"/>
                </a:moveTo>
                <a:lnTo>
                  <a:pt x="16363" y="6271"/>
                </a:lnTo>
                <a:lnTo>
                  <a:pt x="14400" y="6271"/>
                </a:lnTo>
                <a:lnTo>
                  <a:pt x="3600" y="6271"/>
                </a:lnTo>
                <a:cubicBezTo>
                  <a:pt x="3247" y="6271"/>
                  <a:pt x="2916" y="6179"/>
                  <a:pt x="2618" y="6027"/>
                </a:cubicBezTo>
                <a:lnTo>
                  <a:pt x="2618" y="5574"/>
                </a:lnTo>
                <a:cubicBezTo>
                  <a:pt x="2618" y="5574"/>
                  <a:pt x="16363" y="5574"/>
                  <a:pt x="16363" y="5574"/>
                </a:cubicBezTo>
                <a:close/>
                <a:moveTo>
                  <a:pt x="16363" y="4877"/>
                </a:moveTo>
                <a:lnTo>
                  <a:pt x="2618" y="4877"/>
                </a:lnTo>
                <a:lnTo>
                  <a:pt x="2618" y="4181"/>
                </a:lnTo>
                <a:lnTo>
                  <a:pt x="16363" y="4181"/>
                </a:lnTo>
                <a:cubicBezTo>
                  <a:pt x="16363" y="4181"/>
                  <a:pt x="16363" y="4877"/>
                  <a:pt x="16363" y="4877"/>
                </a:cubicBezTo>
                <a:close/>
                <a:moveTo>
                  <a:pt x="16363" y="3484"/>
                </a:moveTo>
                <a:lnTo>
                  <a:pt x="2618" y="3484"/>
                </a:lnTo>
                <a:lnTo>
                  <a:pt x="2618" y="2787"/>
                </a:lnTo>
                <a:lnTo>
                  <a:pt x="16363" y="2787"/>
                </a:lnTo>
                <a:cubicBezTo>
                  <a:pt x="16363" y="2787"/>
                  <a:pt x="16363" y="3484"/>
                  <a:pt x="16363" y="3484"/>
                </a:cubicBezTo>
                <a:close/>
                <a:moveTo>
                  <a:pt x="3600" y="1394"/>
                </a:moveTo>
                <a:lnTo>
                  <a:pt x="14400" y="1394"/>
                </a:lnTo>
                <a:lnTo>
                  <a:pt x="17019" y="1394"/>
                </a:lnTo>
                <a:cubicBezTo>
                  <a:pt x="17379" y="1394"/>
                  <a:pt x="17673" y="1706"/>
                  <a:pt x="17673" y="2090"/>
                </a:cubicBezTo>
                <a:lnTo>
                  <a:pt x="17673" y="3832"/>
                </a:lnTo>
                <a:lnTo>
                  <a:pt x="17673" y="4181"/>
                </a:lnTo>
                <a:lnTo>
                  <a:pt x="17673" y="6399"/>
                </a:lnTo>
                <a:cubicBezTo>
                  <a:pt x="17467" y="6321"/>
                  <a:pt x="17249" y="6271"/>
                  <a:pt x="17019" y="6271"/>
                </a:cubicBezTo>
                <a:lnTo>
                  <a:pt x="17018" y="6271"/>
                </a:lnTo>
                <a:lnTo>
                  <a:pt x="17018" y="5574"/>
                </a:lnTo>
                <a:lnTo>
                  <a:pt x="17018" y="4181"/>
                </a:lnTo>
                <a:lnTo>
                  <a:pt x="17018" y="2787"/>
                </a:lnTo>
                <a:cubicBezTo>
                  <a:pt x="17018" y="2402"/>
                  <a:pt x="16725" y="2090"/>
                  <a:pt x="16363" y="2090"/>
                </a:cubicBezTo>
                <a:lnTo>
                  <a:pt x="2618" y="2090"/>
                </a:lnTo>
                <a:cubicBezTo>
                  <a:pt x="2256" y="2090"/>
                  <a:pt x="1963" y="2402"/>
                  <a:pt x="1963" y="2787"/>
                </a:cubicBezTo>
                <a:lnTo>
                  <a:pt x="1963" y="4181"/>
                </a:lnTo>
                <a:lnTo>
                  <a:pt x="1963" y="5535"/>
                </a:lnTo>
                <a:cubicBezTo>
                  <a:pt x="1559" y="5094"/>
                  <a:pt x="1309" y="4496"/>
                  <a:pt x="1309" y="3832"/>
                </a:cubicBezTo>
                <a:cubicBezTo>
                  <a:pt x="1309" y="2486"/>
                  <a:pt x="2335" y="1394"/>
                  <a:pt x="3600" y="1394"/>
                </a:cubicBezTo>
                <a:moveTo>
                  <a:pt x="18983" y="8361"/>
                </a:moveTo>
                <a:lnTo>
                  <a:pt x="18982" y="8361"/>
                </a:lnTo>
                <a:lnTo>
                  <a:pt x="18982" y="4181"/>
                </a:lnTo>
                <a:lnTo>
                  <a:pt x="18982" y="3832"/>
                </a:lnTo>
                <a:lnTo>
                  <a:pt x="18982" y="2090"/>
                </a:lnTo>
                <a:cubicBezTo>
                  <a:pt x="18982" y="936"/>
                  <a:pt x="18102" y="0"/>
                  <a:pt x="17019" y="0"/>
                </a:cubicBezTo>
                <a:lnTo>
                  <a:pt x="14400" y="0"/>
                </a:lnTo>
                <a:lnTo>
                  <a:pt x="3600" y="0"/>
                </a:lnTo>
                <a:cubicBezTo>
                  <a:pt x="1615" y="0"/>
                  <a:pt x="0" y="1719"/>
                  <a:pt x="0" y="3832"/>
                </a:cubicBezTo>
                <a:lnTo>
                  <a:pt x="0" y="17768"/>
                </a:lnTo>
                <a:cubicBezTo>
                  <a:pt x="0" y="19881"/>
                  <a:pt x="1615" y="21600"/>
                  <a:pt x="3600" y="21600"/>
                </a:cubicBezTo>
                <a:lnTo>
                  <a:pt x="15382" y="21600"/>
                </a:lnTo>
                <a:cubicBezTo>
                  <a:pt x="17367" y="21600"/>
                  <a:pt x="18982" y="19881"/>
                  <a:pt x="18982" y="17768"/>
                </a:cubicBezTo>
                <a:lnTo>
                  <a:pt x="18982" y="16723"/>
                </a:lnTo>
                <a:lnTo>
                  <a:pt x="18983" y="16723"/>
                </a:lnTo>
                <a:cubicBezTo>
                  <a:pt x="21600" y="14632"/>
                  <a:pt x="21600" y="10452"/>
                  <a:pt x="18983" y="8361"/>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61" name="AutoShape 18"/>
          <p:cNvSpPr/>
          <p:nvPr/>
        </p:nvSpPr>
        <p:spPr>
          <a:xfrm>
            <a:off x="14574960" y="8871120"/>
            <a:ext cx="928440" cy="930240"/>
          </a:xfrm>
          <a:custGeom>
            <a:avLst/>
            <a:gdLst/>
            <a:ahLst/>
            <a:rect l="l" t="t" r="r" b="b"/>
            <a:pathLst>
              <a:path w="21600" h="21600">
                <a:moveTo>
                  <a:pt x="20250" y="19800"/>
                </a:moveTo>
                <a:cubicBezTo>
                  <a:pt x="20250" y="20048"/>
                  <a:pt x="20048" y="20250"/>
                  <a:pt x="19800" y="20250"/>
                </a:cubicBezTo>
                <a:lnTo>
                  <a:pt x="1800" y="20250"/>
                </a:lnTo>
                <a:cubicBezTo>
                  <a:pt x="1552" y="20250"/>
                  <a:pt x="1350" y="20048"/>
                  <a:pt x="1350" y="19800"/>
                </a:cubicBezTo>
                <a:lnTo>
                  <a:pt x="1350" y="3825"/>
                </a:lnTo>
                <a:cubicBezTo>
                  <a:pt x="1350" y="3577"/>
                  <a:pt x="1552" y="3375"/>
                  <a:pt x="1800" y="3375"/>
                </a:cubicBezTo>
                <a:lnTo>
                  <a:pt x="4725" y="3375"/>
                </a:lnTo>
                <a:lnTo>
                  <a:pt x="4725" y="4725"/>
                </a:lnTo>
                <a:cubicBezTo>
                  <a:pt x="4725" y="5098"/>
                  <a:pt x="5028" y="5400"/>
                  <a:pt x="5400" y="5400"/>
                </a:cubicBezTo>
                <a:cubicBezTo>
                  <a:pt x="5772" y="5400"/>
                  <a:pt x="6075" y="5098"/>
                  <a:pt x="6075" y="4725"/>
                </a:cubicBezTo>
                <a:lnTo>
                  <a:pt x="6075" y="3375"/>
                </a:lnTo>
                <a:lnTo>
                  <a:pt x="10125" y="3375"/>
                </a:lnTo>
                <a:lnTo>
                  <a:pt x="10125" y="4725"/>
                </a:lnTo>
                <a:cubicBezTo>
                  <a:pt x="10125" y="5098"/>
                  <a:pt x="10428" y="5400"/>
                  <a:pt x="10800" y="5400"/>
                </a:cubicBezTo>
                <a:cubicBezTo>
                  <a:pt x="11172" y="5400"/>
                  <a:pt x="11475" y="5098"/>
                  <a:pt x="11475" y="4725"/>
                </a:cubicBezTo>
                <a:lnTo>
                  <a:pt x="11475" y="3375"/>
                </a:lnTo>
                <a:lnTo>
                  <a:pt x="15525" y="3375"/>
                </a:lnTo>
                <a:lnTo>
                  <a:pt x="15525" y="4725"/>
                </a:lnTo>
                <a:cubicBezTo>
                  <a:pt x="15525" y="5098"/>
                  <a:pt x="15828" y="5400"/>
                  <a:pt x="16200" y="5400"/>
                </a:cubicBezTo>
                <a:cubicBezTo>
                  <a:pt x="16572" y="5400"/>
                  <a:pt x="16875" y="5098"/>
                  <a:pt x="16875" y="4725"/>
                </a:cubicBezTo>
                <a:lnTo>
                  <a:pt x="16875" y="3375"/>
                </a:lnTo>
                <a:lnTo>
                  <a:pt x="19800" y="3375"/>
                </a:lnTo>
                <a:cubicBezTo>
                  <a:pt x="20048" y="3375"/>
                  <a:pt x="20250" y="3577"/>
                  <a:pt x="20250" y="3825"/>
                </a:cubicBezTo>
                <a:cubicBezTo>
                  <a:pt x="20250" y="3825"/>
                  <a:pt x="20250" y="19800"/>
                  <a:pt x="20250" y="19800"/>
                </a:cubicBezTo>
                <a:close/>
                <a:moveTo>
                  <a:pt x="19800" y="2025"/>
                </a:moveTo>
                <a:lnTo>
                  <a:pt x="16875" y="2025"/>
                </a:lnTo>
                <a:lnTo>
                  <a:pt x="16875" y="675"/>
                </a:lnTo>
                <a:cubicBezTo>
                  <a:pt x="16875" y="302"/>
                  <a:pt x="16572" y="0"/>
                  <a:pt x="16200" y="0"/>
                </a:cubicBezTo>
                <a:cubicBezTo>
                  <a:pt x="15828" y="0"/>
                  <a:pt x="15525" y="302"/>
                  <a:pt x="15525" y="675"/>
                </a:cubicBezTo>
                <a:lnTo>
                  <a:pt x="15525" y="2025"/>
                </a:lnTo>
                <a:lnTo>
                  <a:pt x="11475" y="2025"/>
                </a:lnTo>
                <a:lnTo>
                  <a:pt x="11475" y="675"/>
                </a:lnTo>
                <a:cubicBezTo>
                  <a:pt x="11475" y="302"/>
                  <a:pt x="11172" y="0"/>
                  <a:pt x="10800" y="0"/>
                </a:cubicBezTo>
                <a:cubicBezTo>
                  <a:pt x="10428" y="0"/>
                  <a:pt x="10125" y="302"/>
                  <a:pt x="10125" y="675"/>
                </a:cubicBezTo>
                <a:lnTo>
                  <a:pt x="10125" y="2025"/>
                </a:lnTo>
                <a:lnTo>
                  <a:pt x="6075" y="2025"/>
                </a:lnTo>
                <a:lnTo>
                  <a:pt x="6075" y="675"/>
                </a:lnTo>
                <a:cubicBezTo>
                  <a:pt x="6075" y="302"/>
                  <a:pt x="5772" y="0"/>
                  <a:pt x="5400" y="0"/>
                </a:cubicBezTo>
                <a:cubicBezTo>
                  <a:pt x="5028" y="0"/>
                  <a:pt x="4725" y="302"/>
                  <a:pt x="4725" y="675"/>
                </a:cubicBezTo>
                <a:lnTo>
                  <a:pt x="4725" y="2025"/>
                </a:lnTo>
                <a:lnTo>
                  <a:pt x="1800" y="2025"/>
                </a:lnTo>
                <a:cubicBezTo>
                  <a:pt x="806" y="2025"/>
                  <a:pt x="0" y="2831"/>
                  <a:pt x="0" y="3825"/>
                </a:cubicBezTo>
                <a:lnTo>
                  <a:pt x="0" y="19800"/>
                </a:lnTo>
                <a:cubicBezTo>
                  <a:pt x="0" y="20794"/>
                  <a:pt x="806" y="21600"/>
                  <a:pt x="1800" y="21600"/>
                </a:cubicBezTo>
                <a:lnTo>
                  <a:pt x="19800" y="21600"/>
                </a:lnTo>
                <a:cubicBezTo>
                  <a:pt x="20794" y="21600"/>
                  <a:pt x="21600" y="20794"/>
                  <a:pt x="21600" y="19800"/>
                </a:cubicBezTo>
                <a:lnTo>
                  <a:pt x="21600" y="3825"/>
                </a:lnTo>
                <a:cubicBezTo>
                  <a:pt x="21600" y="2831"/>
                  <a:pt x="20794" y="2025"/>
                  <a:pt x="19800" y="2025"/>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62" name="AutoShape 19"/>
          <p:cNvSpPr/>
          <p:nvPr/>
        </p:nvSpPr>
        <p:spPr>
          <a:xfrm>
            <a:off x="14778000" y="9220320"/>
            <a:ext cx="115920" cy="8712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63" name="AutoShape 20"/>
          <p:cNvSpPr/>
          <p:nvPr/>
        </p:nvSpPr>
        <p:spPr>
          <a:xfrm>
            <a:off x="14778000" y="9364680"/>
            <a:ext cx="115920" cy="8712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64" name="AutoShape 21"/>
          <p:cNvSpPr/>
          <p:nvPr/>
        </p:nvSpPr>
        <p:spPr>
          <a:xfrm>
            <a:off x="14778000" y="9510840"/>
            <a:ext cx="115920" cy="8568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65" name="AutoShape 22"/>
          <p:cNvSpPr/>
          <p:nvPr/>
        </p:nvSpPr>
        <p:spPr>
          <a:xfrm>
            <a:off x="14981400" y="9510840"/>
            <a:ext cx="115560" cy="8568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66" name="AutoShape 23"/>
          <p:cNvSpPr/>
          <p:nvPr/>
        </p:nvSpPr>
        <p:spPr>
          <a:xfrm>
            <a:off x="14981400" y="9364680"/>
            <a:ext cx="115560" cy="8712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67" name="AutoShape 24"/>
          <p:cNvSpPr/>
          <p:nvPr/>
        </p:nvSpPr>
        <p:spPr>
          <a:xfrm>
            <a:off x="14981400" y="9220320"/>
            <a:ext cx="115560" cy="8712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68" name="AutoShape 25"/>
          <p:cNvSpPr/>
          <p:nvPr/>
        </p:nvSpPr>
        <p:spPr>
          <a:xfrm>
            <a:off x="15184440" y="9510840"/>
            <a:ext cx="115920" cy="8568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69" name="AutoShape 26"/>
          <p:cNvSpPr/>
          <p:nvPr/>
        </p:nvSpPr>
        <p:spPr>
          <a:xfrm>
            <a:off x="15184440" y="9364680"/>
            <a:ext cx="115920" cy="8712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70" name="AutoShape 27"/>
          <p:cNvSpPr/>
          <p:nvPr/>
        </p:nvSpPr>
        <p:spPr>
          <a:xfrm>
            <a:off x="15184440" y="9220320"/>
            <a:ext cx="115920" cy="8712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71" name="AutoShape 28"/>
          <p:cNvSpPr/>
          <p:nvPr/>
        </p:nvSpPr>
        <p:spPr>
          <a:xfrm>
            <a:off x="12715920" y="8871120"/>
            <a:ext cx="930240" cy="930240"/>
          </a:xfrm>
          <a:custGeom>
            <a:avLst/>
            <a:gdLst/>
            <a:ahLst/>
            <a:rect l="l" t="t" r="r" b="b"/>
            <a:pathLst>
              <a:path w="21600" h="21600">
                <a:moveTo>
                  <a:pt x="20250" y="9450"/>
                </a:moveTo>
                <a:cubicBezTo>
                  <a:pt x="20250" y="9823"/>
                  <a:pt x="19947" y="10125"/>
                  <a:pt x="19575" y="10125"/>
                </a:cubicBezTo>
                <a:lnTo>
                  <a:pt x="18324" y="10125"/>
                </a:lnTo>
                <a:lnTo>
                  <a:pt x="15624" y="5400"/>
                </a:lnTo>
                <a:lnTo>
                  <a:pt x="17550" y="5400"/>
                </a:lnTo>
                <a:cubicBezTo>
                  <a:pt x="17763" y="5400"/>
                  <a:pt x="17962" y="5500"/>
                  <a:pt x="18090" y="5670"/>
                </a:cubicBezTo>
                <a:lnTo>
                  <a:pt x="20115" y="8370"/>
                </a:lnTo>
                <a:cubicBezTo>
                  <a:pt x="20203" y="8487"/>
                  <a:pt x="20250" y="8629"/>
                  <a:pt x="20250" y="8775"/>
                </a:cubicBezTo>
                <a:cubicBezTo>
                  <a:pt x="20250" y="8775"/>
                  <a:pt x="20250" y="9450"/>
                  <a:pt x="20250" y="9450"/>
                </a:cubicBezTo>
                <a:close/>
                <a:moveTo>
                  <a:pt x="18225" y="20250"/>
                </a:moveTo>
                <a:lnTo>
                  <a:pt x="14175" y="20250"/>
                </a:lnTo>
                <a:lnTo>
                  <a:pt x="14175" y="13500"/>
                </a:lnTo>
                <a:cubicBezTo>
                  <a:pt x="14175" y="13127"/>
                  <a:pt x="13872" y="12825"/>
                  <a:pt x="13500" y="12825"/>
                </a:cubicBezTo>
                <a:lnTo>
                  <a:pt x="8437" y="12825"/>
                </a:lnTo>
                <a:cubicBezTo>
                  <a:pt x="8064" y="12825"/>
                  <a:pt x="7762" y="13127"/>
                  <a:pt x="7762" y="13500"/>
                </a:cubicBezTo>
                <a:lnTo>
                  <a:pt x="7762" y="20250"/>
                </a:lnTo>
                <a:lnTo>
                  <a:pt x="3375" y="20250"/>
                </a:lnTo>
                <a:lnTo>
                  <a:pt x="3375" y="11475"/>
                </a:lnTo>
                <a:lnTo>
                  <a:pt x="18225" y="11475"/>
                </a:lnTo>
                <a:cubicBezTo>
                  <a:pt x="18225" y="11475"/>
                  <a:pt x="18225" y="20250"/>
                  <a:pt x="18225" y="20250"/>
                </a:cubicBezTo>
                <a:close/>
                <a:moveTo>
                  <a:pt x="13500" y="20250"/>
                </a:moveTo>
                <a:lnTo>
                  <a:pt x="8437" y="20250"/>
                </a:lnTo>
                <a:lnTo>
                  <a:pt x="8437" y="13500"/>
                </a:lnTo>
                <a:lnTo>
                  <a:pt x="13500" y="13500"/>
                </a:lnTo>
                <a:cubicBezTo>
                  <a:pt x="13500" y="13500"/>
                  <a:pt x="13500" y="20250"/>
                  <a:pt x="13500" y="20250"/>
                </a:cubicBezTo>
                <a:close/>
                <a:moveTo>
                  <a:pt x="1350" y="9450"/>
                </a:moveTo>
                <a:lnTo>
                  <a:pt x="1350" y="8775"/>
                </a:lnTo>
                <a:cubicBezTo>
                  <a:pt x="1350" y="8629"/>
                  <a:pt x="1397" y="8487"/>
                  <a:pt x="1485" y="8370"/>
                </a:cubicBezTo>
                <a:lnTo>
                  <a:pt x="3510" y="5670"/>
                </a:lnTo>
                <a:cubicBezTo>
                  <a:pt x="3638" y="5500"/>
                  <a:pt x="3837" y="5400"/>
                  <a:pt x="4050" y="5400"/>
                </a:cubicBezTo>
                <a:lnTo>
                  <a:pt x="5975" y="5400"/>
                </a:lnTo>
                <a:lnTo>
                  <a:pt x="3276" y="10125"/>
                </a:lnTo>
                <a:lnTo>
                  <a:pt x="2025" y="10125"/>
                </a:lnTo>
                <a:cubicBezTo>
                  <a:pt x="1653" y="10125"/>
                  <a:pt x="1350" y="9823"/>
                  <a:pt x="1350" y="9450"/>
                </a:cubicBezTo>
                <a:moveTo>
                  <a:pt x="13369" y="5400"/>
                </a:moveTo>
                <a:lnTo>
                  <a:pt x="14847" y="5400"/>
                </a:lnTo>
                <a:lnTo>
                  <a:pt x="17547" y="10125"/>
                </a:lnTo>
                <a:lnTo>
                  <a:pt x="14719" y="10125"/>
                </a:lnTo>
                <a:cubicBezTo>
                  <a:pt x="14719" y="10125"/>
                  <a:pt x="13369" y="5400"/>
                  <a:pt x="13369" y="5400"/>
                </a:cubicBezTo>
                <a:close/>
                <a:moveTo>
                  <a:pt x="11138" y="5400"/>
                </a:moveTo>
                <a:lnTo>
                  <a:pt x="12666" y="5400"/>
                </a:lnTo>
                <a:lnTo>
                  <a:pt x="14016" y="10125"/>
                </a:lnTo>
                <a:lnTo>
                  <a:pt x="11138" y="10125"/>
                </a:lnTo>
                <a:cubicBezTo>
                  <a:pt x="11138" y="10125"/>
                  <a:pt x="11138" y="5400"/>
                  <a:pt x="11138" y="5400"/>
                </a:cubicBezTo>
                <a:close/>
                <a:moveTo>
                  <a:pt x="8933" y="5400"/>
                </a:moveTo>
                <a:lnTo>
                  <a:pt x="10462" y="5400"/>
                </a:lnTo>
                <a:lnTo>
                  <a:pt x="10462" y="10125"/>
                </a:lnTo>
                <a:lnTo>
                  <a:pt x="7583" y="10125"/>
                </a:lnTo>
                <a:cubicBezTo>
                  <a:pt x="7583" y="10125"/>
                  <a:pt x="8933" y="5400"/>
                  <a:pt x="8933" y="5400"/>
                </a:cubicBezTo>
                <a:close/>
                <a:moveTo>
                  <a:pt x="6880" y="10125"/>
                </a:moveTo>
                <a:lnTo>
                  <a:pt x="4053" y="10125"/>
                </a:lnTo>
                <a:lnTo>
                  <a:pt x="6753" y="5400"/>
                </a:lnTo>
                <a:lnTo>
                  <a:pt x="8230" y="5400"/>
                </a:lnTo>
                <a:cubicBezTo>
                  <a:pt x="8230" y="5400"/>
                  <a:pt x="6880" y="10125"/>
                  <a:pt x="6880" y="10125"/>
                </a:cubicBezTo>
                <a:close/>
                <a:moveTo>
                  <a:pt x="17550" y="1350"/>
                </a:moveTo>
                <a:lnTo>
                  <a:pt x="17550" y="4050"/>
                </a:lnTo>
                <a:lnTo>
                  <a:pt x="4050" y="4050"/>
                </a:lnTo>
                <a:lnTo>
                  <a:pt x="4050" y="1350"/>
                </a:lnTo>
                <a:cubicBezTo>
                  <a:pt x="4050" y="1350"/>
                  <a:pt x="17550" y="1350"/>
                  <a:pt x="17550" y="1350"/>
                </a:cubicBezTo>
                <a:close/>
                <a:moveTo>
                  <a:pt x="21195" y="7560"/>
                </a:moveTo>
                <a:lnTo>
                  <a:pt x="19171" y="4861"/>
                </a:lnTo>
                <a:cubicBezTo>
                  <a:pt x="19092" y="4755"/>
                  <a:pt x="18997" y="4664"/>
                  <a:pt x="18900" y="4576"/>
                </a:cubicBezTo>
                <a:lnTo>
                  <a:pt x="18900" y="1350"/>
                </a:lnTo>
                <a:cubicBezTo>
                  <a:pt x="18900" y="605"/>
                  <a:pt x="18295" y="0"/>
                  <a:pt x="17550" y="0"/>
                </a:cubicBezTo>
                <a:lnTo>
                  <a:pt x="4050" y="0"/>
                </a:lnTo>
                <a:cubicBezTo>
                  <a:pt x="3304" y="0"/>
                  <a:pt x="2700" y="605"/>
                  <a:pt x="2700" y="1350"/>
                </a:cubicBezTo>
                <a:lnTo>
                  <a:pt x="2700" y="4577"/>
                </a:lnTo>
                <a:cubicBezTo>
                  <a:pt x="2603" y="4664"/>
                  <a:pt x="2509" y="4755"/>
                  <a:pt x="2430" y="4860"/>
                </a:cubicBezTo>
                <a:lnTo>
                  <a:pt x="406" y="7559"/>
                </a:lnTo>
                <a:cubicBezTo>
                  <a:pt x="144" y="7908"/>
                  <a:pt x="0" y="8339"/>
                  <a:pt x="0" y="8775"/>
                </a:cubicBezTo>
                <a:lnTo>
                  <a:pt x="0" y="9450"/>
                </a:lnTo>
                <a:cubicBezTo>
                  <a:pt x="0" y="10567"/>
                  <a:pt x="909" y="11475"/>
                  <a:pt x="2025" y="11475"/>
                </a:cubicBezTo>
                <a:lnTo>
                  <a:pt x="2025" y="20250"/>
                </a:lnTo>
                <a:cubicBezTo>
                  <a:pt x="2025" y="20995"/>
                  <a:pt x="2629" y="21600"/>
                  <a:pt x="3375" y="21600"/>
                </a:cubicBezTo>
                <a:lnTo>
                  <a:pt x="18225" y="21600"/>
                </a:lnTo>
                <a:cubicBezTo>
                  <a:pt x="18970" y="21600"/>
                  <a:pt x="19575" y="20995"/>
                  <a:pt x="19575" y="20250"/>
                </a:cubicBezTo>
                <a:lnTo>
                  <a:pt x="19575" y="11475"/>
                </a:lnTo>
                <a:cubicBezTo>
                  <a:pt x="20691" y="11475"/>
                  <a:pt x="21600" y="10567"/>
                  <a:pt x="21600" y="9450"/>
                </a:cubicBezTo>
                <a:lnTo>
                  <a:pt x="21600" y="8775"/>
                </a:lnTo>
                <a:cubicBezTo>
                  <a:pt x="21600" y="8339"/>
                  <a:pt x="21456" y="7908"/>
                  <a:pt x="21195" y="756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72" name="AutoShape 29"/>
          <p:cNvSpPr/>
          <p:nvPr/>
        </p:nvSpPr>
        <p:spPr>
          <a:xfrm>
            <a:off x="22006080" y="7042320"/>
            <a:ext cx="928440" cy="841320"/>
          </a:xfrm>
          <a:custGeom>
            <a:avLst/>
            <a:gdLst/>
            <a:ahLst/>
            <a:rect l="l" t="t" r="r" b="b"/>
            <a:pathLst>
              <a:path w="20595" h="20497">
                <a:moveTo>
                  <a:pt x="18898" y="1864"/>
                </a:moveTo>
                <a:cubicBezTo>
                  <a:pt x="16637" y="-621"/>
                  <a:pt x="12969" y="-621"/>
                  <a:pt x="10707" y="1864"/>
                </a:cubicBezTo>
                <a:lnTo>
                  <a:pt x="1317" y="12053"/>
                </a:lnTo>
                <a:cubicBezTo>
                  <a:pt x="-439" y="13982"/>
                  <a:pt x="-439" y="17121"/>
                  <a:pt x="1317" y="19051"/>
                </a:cubicBezTo>
                <a:cubicBezTo>
                  <a:pt x="3073" y="20979"/>
                  <a:pt x="5932" y="20979"/>
                  <a:pt x="7688" y="19051"/>
                </a:cubicBezTo>
                <a:lnTo>
                  <a:pt x="17078" y="8860"/>
                </a:lnTo>
                <a:cubicBezTo>
                  <a:pt x="18335" y="7480"/>
                  <a:pt x="18335" y="5243"/>
                  <a:pt x="17078" y="3863"/>
                </a:cubicBezTo>
                <a:cubicBezTo>
                  <a:pt x="15821" y="2483"/>
                  <a:pt x="13783" y="2483"/>
                  <a:pt x="12528" y="3863"/>
                </a:cubicBezTo>
                <a:lnTo>
                  <a:pt x="5468" y="11614"/>
                </a:lnTo>
                <a:cubicBezTo>
                  <a:pt x="5216" y="11891"/>
                  <a:pt x="5216" y="12338"/>
                  <a:pt x="5468" y="12614"/>
                </a:cubicBezTo>
                <a:cubicBezTo>
                  <a:pt x="5719" y="12890"/>
                  <a:pt x="6127" y="12890"/>
                  <a:pt x="6378" y="12614"/>
                </a:cubicBezTo>
                <a:lnTo>
                  <a:pt x="13438" y="4862"/>
                </a:lnTo>
                <a:cubicBezTo>
                  <a:pt x="14191" y="4036"/>
                  <a:pt x="15415" y="4036"/>
                  <a:pt x="16168" y="4862"/>
                </a:cubicBezTo>
                <a:cubicBezTo>
                  <a:pt x="16921" y="5689"/>
                  <a:pt x="16921" y="7034"/>
                  <a:pt x="16168" y="7861"/>
                </a:cubicBezTo>
                <a:lnTo>
                  <a:pt x="6778" y="18050"/>
                </a:lnTo>
                <a:cubicBezTo>
                  <a:pt x="5521" y="19431"/>
                  <a:pt x="3484" y="19431"/>
                  <a:pt x="2227" y="18050"/>
                </a:cubicBezTo>
                <a:cubicBezTo>
                  <a:pt x="970" y="16671"/>
                  <a:pt x="970" y="14433"/>
                  <a:pt x="2227" y="13053"/>
                </a:cubicBezTo>
                <a:lnTo>
                  <a:pt x="11526" y="2963"/>
                </a:lnTo>
                <a:cubicBezTo>
                  <a:pt x="13286" y="1031"/>
                  <a:pt x="16139" y="1031"/>
                  <a:pt x="17896" y="2963"/>
                </a:cubicBezTo>
                <a:cubicBezTo>
                  <a:pt x="19658" y="4897"/>
                  <a:pt x="19658" y="8027"/>
                  <a:pt x="17898" y="9960"/>
                </a:cubicBezTo>
                <a:lnTo>
                  <a:pt x="10930" y="17611"/>
                </a:lnTo>
                <a:cubicBezTo>
                  <a:pt x="10677" y="17888"/>
                  <a:pt x="10677" y="18335"/>
                  <a:pt x="10930" y="18611"/>
                </a:cubicBezTo>
                <a:cubicBezTo>
                  <a:pt x="11181" y="18888"/>
                  <a:pt x="11589" y="18888"/>
                  <a:pt x="11840" y="18611"/>
                </a:cubicBezTo>
                <a:lnTo>
                  <a:pt x="18898" y="10859"/>
                </a:lnTo>
                <a:cubicBezTo>
                  <a:pt x="21161" y="8375"/>
                  <a:pt x="21161" y="4348"/>
                  <a:pt x="18898" y="1864"/>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73" name="AutoShape 30"/>
          <p:cNvSpPr/>
          <p:nvPr/>
        </p:nvSpPr>
        <p:spPr>
          <a:xfrm>
            <a:off x="20292840" y="7012080"/>
            <a:ext cx="640080" cy="930240"/>
          </a:xfrm>
          <a:custGeom>
            <a:avLst/>
            <a:gdLst/>
            <a:ahLst/>
            <a:rect l="l" t="t" r="r" b="b"/>
            <a:pathLst>
              <a:path w="20767" h="21600">
                <a:moveTo>
                  <a:pt x="18567" y="16551"/>
                </a:moveTo>
                <a:cubicBezTo>
                  <a:pt x="17960" y="18285"/>
                  <a:pt x="17275" y="20250"/>
                  <a:pt x="9437" y="20250"/>
                </a:cubicBezTo>
                <a:cubicBezTo>
                  <a:pt x="4711" y="20250"/>
                  <a:pt x="1888" y="17810"/>
                  <a:pt x="1888" y="15451"/>
                </a:cubicBezTo>
                <a:cubicBezTo>
                  <a:pt x="1888" y="13645"/>
                  <a:pt x="2350" y="12162"/>
                  <a:pt x="2835" y="10592"/>
                </a:cubicBezTo>
                <a:cubicBezTo>
                  <a:pt x="3455" y="8601"/>
                  <a:pt x="4089" y="6563"/>
                  <a:pt x="3814" y="3868"/>
                </a:cubicBezTo>
                <a:cubicBezTo>
                  <a:pt x="6724" y="6750"/>
                  <a:pt x="7760" y="10567"/>
                  <a:pt x="7760" y="10567"/>
                </a:cubicBezTo>
                <a:cubicBezTo>
                  <a:pt x="7760" y="10567"/>
                  <a:pt x="10469" y="7847"/>
                  <a:pt x="11197" y="6583"/>
                </a:cubicBezTo>
                <a:cubicBezTo>
                  <a:pt x="11755" y="7395"/>
                  <a:pt x="12267" y="10125"/>
                  <a:pt x="12267" y="12825"/>
                </a:cubicBezTo>
                <a:cubicBezTo>
                  <a:pt x="12267" y="12825"/>
                  <a:pt x="14774" y="11348"/>
                  <a:pt x="16654" y="9127"/>
                </a:cubicBezTo>
                <a:cubicBezTo>
                  <a:pt x="18633" y="11666"/>
                  <a:pt x="19346" y="14321"/>
                  <a:pt x="18567" y="16551"/>
                </a:cubicBezTo>
                <a:moveTo>
                  <a:pt x="16042" y="6075"/>
                </a:moveTo>
                <a:cubicBezTo>
                  <a:pt x="15983" y="7880"/>
                  <a:pt x="14088" y="9405"/>
                  <a:pt x="14088" y="9405"/>
                </a:cubicBezTo>
                <a:cubicBezTo>
                  <a:pt x="14088" y="6047"/>
                  <a:pt x="10380" y="3375"/>
                  <a:pt x="10380" y="3375"/>
                </a:cubicBezTo>
                <a:cubicBezTo>
                  <a:pt x="10380" y="3375"/>
                  <a:pt x="10331" y="5374"/>
                  <a:pt x="8453" y="7389"/>
                </a:cubicBezTo>
                <a:cubicBezTo>
                  <a:pt x="6575" y="2687"/>
                  <a:pt x="939" y="0"/>
                  <a:pt x="939" y="0"/>
                </a:cubicBezTo>
                <a:cubicBezTo>
                  <a:pt x="3757" y="7389"/>
                  <a:pt x="0" y="10077"/>
                  <a:pt x="0" y="15451"/>
                </a:cubicBezTo>
                <a:cubicBezTo>
                  <a:pt x="0" y="18605"/>
                  <a:pt x="3731" y="21600"/>
                  <a:pt x="9437" y="21600"/>
                </a:cubicBezTo>
                <a:cubicBezTo>
                  <a:pt x="17888" y="21600"/>
                  <a:pt x="19523" y="19380"/>
                  <a:pt x="20397" y="16879"/>
                </a:cubicBezTo>
                <a:cubicBezTo>
                  <a:pt x="21600" y="13436"/>
                  <a:pt x="19798" y="9433"/>
                  <a:pt x="16042" y="6075"/>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74" name="AutoShape 31"/>
          <p:cNvSpPr/>
          <p:nvPr/>
        </p:nvSpPr>
        <p:spPr>
          <a:xfrm>
            <a:off x="20410560" y="7418520"/>
            <a:ext cx="411120" cy="333360"/>
          </a:xfrm>
          <a:custGeom>
            <a:avLst/>
            <a:gdLst/>
            <a:ahLst/>
            <a:rect l="l" t="t" r="r" b="b"/>
            <a:pathLst>
              <a:path w="21282" h="21600">
                <a:moveTo>
                  <a:pt x="20698" y="5891"/>
                </a:moveTo>
                <a:lnTo>
                  <a:pt x="19424" y="7749"/>
                </a:lnTo>
                <a:cubicBezTo>
                  <a:pt x="17846" y="10064"/>
                  <a:pt x="16353" y="12259"/>
                  <a:pt x="12365" y="14784"/>
                </a:cubicBezTo>
                <a:cubicBezTo>
                  <a:pt x="11794" y="12631"/>
                  <a:pt x="11276" y="10259"/>
                  <a:pt x="11276" y="6632"/>
                </a:cubicBezTo>
                <a:lnTo>
                  <a:pt x="11276" y="3409"/>
                </a:lnTo>
                <a:lnTo>
                  <a:pt x="9001" y="7893"/>
                </a:lnTo>
                <a:cubicBezTo>
                  <a:pt x="8234" y="9422"/>
                  <a:pt x="7598" y="10690"/>
                  <a:pt x="6650" y="12374"/>
                </a:cubicBezTo>
                <a:cubicBezTo>
                  <a:pt x="5212" y="8296"/>
                  <a:pt x="4196" y="5282"/>
                  <a:pt x="3423" y="2545"/>
                </a:cubicBezTo>
                <a:lnTo>
                  <a:pt x="2705" y="0"/>
                </a:lnTo>
                <a:lnTo>
                  <a:pt x="1927" y="2847"/>
                </a:lnTo>
                <a:cubicBezTo>
                  <a:pt x="937" y="6470"/>
                  <a:pt x="0" y="9891"/>
                  <a:pt x="0" y="18771"/>
                </a:cubicBezTo>
                <a:cubicBezTo>
                  <a:pt x="0" y="19292"/>
                  <a:pt x="334" y="19714"/>
                  <a:pt x="750" y="19714"/>
                </a:cubicBezTo>
                <a:cubicBezTo>
                  <a:pt x="1162" y="19714"/>
                  <a:pt x="1499" y="19292"/>
                  <a:pt x="1499" y="18771"/>
                </a:cubicBezTo>
                <a:cubicBezTo>
                  <a:pt x="1499" y="11965"/>
                  <a:pt x="2038" y="8595"/>
                  <a:pt x="2758" y="5681"/>
                </a:cubicBezTo>
                <a:cubicBezTo>
                  <a:pt x="3537" y="8175"/>
                  <a:pt x="4521" y="11009"/>
                  <a:pt x="5812" y="14639"/>
                </a:cubicBezTo>
                <a:lnTo>
                  <a:pt x="6339" y="16118"/>
                </a:lnTo>
                <a:lnTo>
                  <a:pt x="7100" y="14812"/>
                </a:lnTo>
                <a:cubicBezTo>
                  <a:pt x="8345" y="12681"/>
                  <a:pt x="9086" y="11248"/>
                  <a:pt x="9897" y="9639"/>
                </a:cubicBezTo>
                <a:cubicBezTo>
                  <a:pt x="10134" y="12429"/>
                  <a:pt x="10681" y="14429"/>
                  <a:pt x="11223" y="16409"/>
                </a:cubicBezTo>
                <a:lnTo>
                  <a:pt x="11495" y="17405"/>
                </a:lnTo>
                <a:lnTo>
                  <a:pt x="12254" y="16954"/>
                </a:lnTo>
                <a:cubicBezTo>
                  <a:pt x="16306" y="14532"/>
                  <a:pt x="18203" y="12328"/>
                  <a:pt x="19708" y="10212"/>
                </a:cubicBezTo>
                <a:cubicBezTo>
                  <a:pt x="19943" y="13727"/>
                  <a:pt x="19574" y="17574"/>
                  <a:pt x="18698" y="20305"/>
                </a:cubicBezTo>
                <a:cubicBezTo>
                  <a:pt x="18543" y="20788"/>
                  <a:pt x="18731" y="21337"/>
                  <a:pt x="19114" y="21532"/>
                </a:cubicBezTo>
                <a:cubicBezTo>
                  <a:pt x="19205" y="21578"/>
                  <a:pt x="19302" y="21600"/>
                  <a:pt x="19395" y="21600"/>
                </a:cubicBezTo>
                <a:cubicBezTo>
                  <a:pt x="19691" y="21600"/>
                  <a:pt x="19972" y="21377"/>
                  <a:pt x="20089" y="21009"/>
                </a:cubicBezTo>
                <a:cubicBezTo>
                  <a:pt x="21252" y="17381"/>
                  <a:pt x="21600" y="12213"/>
                  <a:pt x="20976" y="7841"/>
                </a:cubicBezTo>
                <a:cubicBezTo>
                  <a:pt x="20976" y="7841"/>
                  <a:pt x="20698" y="5891"/>
                  <a:pt x="20698" y="5891"/>
                </a:cubicBezTo>
                <a:close/>
                <a:moveTo>
                  <a:pt x="20698" y="5891"/>
                </a:move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75" name="AutoShape 32"/>
          <p:cNvSpPr/>
          <p:nvPr/>
        </p:nvSpPr>
        <p:spPr>
          <a:xfrm>
            <a:off x="18291240" y="7070760"/>
            <a:ext cx="928800" cy="812880"/>
          </a:xfrm>
          <a:custGeom>
            <a:avLst/>
            <a:gdLst/>
            <a:ahLst/>
            <a:rect l="l" t="t" r="r" b="b"/>
            <a:pathLst>
              <a:path w="21384" h="21600">
                <a:moveTo>
                  <a:pt x="18711" y="9257"/>
                </a:moveTo>
                <a:lnTo>
                  <a:pt x="16706" y="7714"/>
                </a:lnTo>
                <a:lnTo>
                  <a:pt x="16706" y="20057"/>
                </a:lnTo>
                <a:lnTo>
                  <a:pt x="4678" y="20057"/>
                </a:lnTo>
                <a:lnTo>
                  <a:pt x="4678" y="7714"/>
                </a:lnTo>
                <a:lnTo>
                  <a:pt x="2673" y="9257"/>
                </a:lnTo>
                <a:lnTo>
                  <a:pt x="1337" y="4629"/>
                </a:lnTo>
                <a:lnTo>
                  <a:pt x="4678" y="1543"/>
                </a:lnTo>
                <a:lnTo>
                  <a:pt x="7469" y="1543"/>
                </a:lnTo>
                <a:cubicBezTo>
                  <a:pt x="7842" y="2871"/>
                  <a:pt x="9137" y="3857"/>
                  <a:pt x="10692" y="3857"/>
                </a:cubicBezTo>
                <a:cubicBezTo>
                  <a:pt x="12247" y="3857"/>
                  <a:pt x="13542" y="2871"/>
                  <a:pt x="13915" y="1543"/>
                </a:cubicBezTo>
                <a:lnTo>
                  <a:pt x="16706" y="1543"/>
                </a:lnTo>
                <a:lnTo>
                  <a:pt x="20047" y="4629"/>
                </a:lnTo>
                <a:cubicBezTo>
                  <a:pt x="20047" y="4629"/>
                  <a:pt x="18711" y="9257"/>
                  <a:pt x="18711" y="9257"/>
                </a:cubicBezTo>
                <a:close/>
                <a:moveTo>
                  <a:pt x="13200" y="1543"/>
                </a:moveTo>
                <a:cubicBezTo>
                  <a:pt x="12832" y="2439"/>
                  <a:pt x="11852" y="3086"/>
                  <a:pt x="10692" y="3086"/>
                </a:cubicBezTo>
                <a:cubicBezTo>
                  <a:pt x="9532" y="3086"/>
                  <a:pt x="8552" y="2439"/>
                  <a:pt x="8184" y="1543"/>
                </a:cubicBezTo>
                <a:cubicBezTo>
                  <a:pt x="8184" y="1543"/>
                  <a:pt x="13200" y="1543"/>
                  <a:pt x="13200" y="1543"/>
                </a:cubicBezTo>
                <a:close/>
                <a:moveTo>
                  <a:pt x="20882" y="3424"/>
                </a:moveTo>
                <a:lnTo>
                  <a:pt x="17541" y="338"/>
                </a:lnTo>
                <a:cubicBezTo>
                  <a:pt x="17304" y="119"/>
                  <a:pt x="17010" y="0"/>
                  <a:pt x="16706" y="0"/>
                </a:cubicBezTo>
                <a:lnTo>
                  <a:pt x="4678" y="0"/>
                </a:lnTo>
                <a:cubicBezTo>
                  <a:pt x="4374" y="0"/>
                  <a:pt x="4080" y="119"/>
                  <a:pt x="3843" y="338"/>
                </a:cubicBezTo>
                <a:lnTo>
                  <a:pt x="501" y="3424"/>
                </a:lnTo>
                <a:cubicBezTo>
                  <a:pt x="64" y="3828"/>
                  <a:pt x="-108" y="4504"/>
                  <a:pt x="69" y="5117"/>
                </a:cubicBezTo>
                <a:lnTo>
                  <a:pt x="1405" y="9745"/>
                </a:lnTo>
                <a:cubicBezTo>
                  <a:pt x="1537" y="10201"/>
                  <a:pt x="1845" y="10560"/>
                  <a:pt x="2239" y="10716"/>
                </a:cubicBezTo>
                <a:cubicBezTo>
                  <a:pt x="2381" y="10772"/>
                  <a:pt x="2528" y="10800"/>
                  <a:pt x="2673" y="10800"/>
                </a:cubicBezTo>
                <a:cubicBezTo>
                  <a:pt x="2906" y="10800"/>
                  <a:pt x="3137" y="10730"/>
                  <a:pt x="3341" y="10594"/>
                </a:cubicBezTo>
                <a:lnTo>
                  <a:pt x="3341" y="20057"/>
                </a:lnTo>
                <a:cubicBezTo>
                  <a:pt x="3341" y="20908"/>
                  <a:pt x="3941" y="21600"/>
                  <a:pt x="4678" y="21600"/>
                </a:cubicBezTo>
                <a:lnTo>
                  <a:pt x="16706" y="21600"/>
                </a:lnTo>
                <a:cubicBezTo>
                  <a:pt x="17443" y="21600"/>
                  <a:pt x="18043" y="20908"/>
                  <a:pt x="18043" y="20057"/>
                </a:cubicBezTo>
                <a:lnTo>
                  <a:pt x="18043" y="10594"/>
                </a:lnTo>
                <a:cubicBezTo>
                  <a:pt x="18247" y="10730"/>
                  <a:pt x="18478" y="10800"/>
                  <a:pt x="18711" y="10800"/>
                </a:cubicBezTo>
                <a:cubicBezTo>
                  <a:pt x="18856" y="10800"/>
                  <a:pt x="19002" y="10772"/>
                  <a:pt x="19145" y="10716"/>
                </a:cubicBezTo>
                <a:cubicBezTo>
                  <a:pt x="19539" y="10560"/>
                  <a:pt x="19847" y="10201"/>
                  <a:pt x="19979" y="9745"/>
                </a:cubicBezTo>
                <a:lnTo>
                  <a:pt x="21315" y="5117"/>
                </a:lnTo>
                <a:cubicBezTo>
                  <a:pt x="21492" y="4504"/>
                  <a:pt x="21320" y="3828"/>
                  <a:pt x="20882" y="3424"/>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76" name="AutoShape 33"/>
          <p:cNvSpPr/>
          <p:nvPr/>
        </p:nvSpPr>
        <p:spPr>
          <a:xfrm>
            <a:off x="16432200" y="7361280"/>
            <a:ext cx="928800" cy="581040"/>
          </a:xfrm>
          <a:custGeom>
            <a:avLst/>
            <a:gdLst/>
            <a:ahLst/>
            <a:rect l="l" t="t" r="r" b="b"/>
            <a:pathLst>
              <a:path w="21505" h="21600">
                <a:moveTo>
                  <a:pt x="17472" y="17280"/>
                </a:moveTo>
                <a:lnTo>
                  <a:pt x="17472" y="18900"/>
                </a:lnTo>
                <a:cubicBezTo>
                  <a:pt x="17472" y="19198"/>
                  <a:pt x="17322" y="19440"/>
                  <a:pt x="17136" y="19440"/>
                </a:cubicBezTo>
                <a:lnTo>
                  <a:pt x="4368" y="19440"/>
                </a:lnTo>
                <a:cubicBezTo>
                  <a:pt x="4183" y="19440"/>
                  <a:pt x="4032" y="19198"/>
                  <a:pt x="4032" y="18900"/>
                </a:cubicBezTo>
                <a:lnTo>
                  <a:pt x="4032" y="17280"/>
                </a:lnTo>
                <a:lnTo>
                  <a:pt x="1344" y="12420"/>
                </a:lnTo>
                <a:cubicBezTo>
                  <a:pt x="1344" y="12122"/>
                  <a:pt x="1495" y="11880"/>
                  <a:pt x="1680" y="11880"/>
                </a:cubicBezTo>
                <a:lnTo>
                  <a:pt x="3360" y="11880"/>
                </a:lnTo>
                <a:lnTo>
                  <a:pt x="4032" y="11880"/>
                </a:lnTo>
                <a:lnTo>
                  <a:pt x="4704" y="11880"/>
                </a:lnTo>
                <a:lnTo>
                  <a:pt x="5376" y="11880"/>
                </a:lnTo>
                <a:lnTo>
                  <a:pt x="6048" y="11880"/>
                </a:lnTo>
                <a:lnTo>
                  <a:pt x="6720" y="11880"/>
                </a:lnTo>
                <a:lnTo>
                  <a:pt x="7392" y="11880"/>
                </a:lnTo>
                <a:lnTo>
                  <a:pt x="8064" y="11880"/>
                </a:lnTo>
                <a:lnTo>
                  <a:pt x="8736" y="11880"/>
                </a:lnTo>
                <a:lnTo>
                  <a:pt x="12768" y="11880"/>
                </a:lnTo>
                <a:lnTo>
                  <a:pt x="13440" y="11880"/>
                </a:lnTo>
                <a:lnTo>
                  <a:pt x="14112" y="11880"/>
                </a:lnTo>
                <a:lnTo>
                  <a:pt x="14784" y="11880"/>
                </a:lnTo>
                <a:lnTo>
                  <a:pt x="15456" y="11880"/>
                </a:lnTo>
                <a:lnTo>
                  <a:pt x="16128" y="11880"/>
                </a:lnTo>
                <a:lnTo>
                  <a:pt x="16800" y="11880"/>
                </a:lnTo>
                <a:lnTo>
                  <a:pt x="17472" y="11880"/>
                </a:lnTo>
                <a:lnTo>
                  <a:pt x="18144" y="11880"/>
                </a:lnTo>
                <a:lnTo>
                  <a:pt x="19824" y="11880"/>
                </a:lnTo>
                <a:cubicBezTo>
                  <a:pt x="20010" y="11880"/>
                  <a:pt x="20160" y="12122"/>
                  <a:pt x="20160" y="12420"/>
                </a:cubicBezTo>
                <a:cubicBezTo>
                  <a:pt x="20160" y="12420"/>
                  <a:pt x="17472" y="17280"/>
                  <a:pt x="17472" y="17280"/>
                </a:cubicBezTo>
                <a:close/>
                <a:moveTo>
                  <a:pt x="10752" y="4320"/>
                </a:moveTo>
                <a:cubicBezTo>
                  <a:pt x="8625" y="4320"/>
                  <a:pt x="6826" y="6601"/>
                  <a:pt x="6246" y="9720"/>
                </a:cubicBezTo>
                <a:lnTo>
                  <a:pt x="5553" y="9720"/>
                </a:lnTo>
                <a:cubicBezTo>
                  <a:pt x="6152" y="6000"/>
                  <a:pt x="8252" y="3240"/>
                  <a:pt x="10752" y="3240"/>
                </a:cubicBezTo>
                <a:cubicBezTo>
                  <a:pt x="12934" y="3240"/>
                  <a:pt x="14813" y="5344"/>
                  <a:pt x="15655" y="8353"/>
                </a:cubicBezTo>
                <a:lnTo>
                  <a:pt x="15054" y="8835"/>
                </a:lnTo>
                <a:cubicBezTo>
                  <a:pt x="14324" y="6180"/>
                  <a:pt x="12672" y="4320"/>
                  <a:pt x="10752" y="4320"/>
                </a:cubicBezTo>
                <a:moveTo>
                  <a:pt x="10752" y="8640"/>
                </a:moveTo>
                <a:cubicBezTo>
                  <a:pt x="10159" y="8640"/>
                  <a:pt x="9630" y="9062"/>
                  <a:pt x="9260" y="9720"/>
                </a:cubicBezTo>
                <a:lnTo>
                  <a:pt x="8438" y="9720"/>
                </a:lnTo>
                <a:cubicBezTo>
                  <a:pt x="8904" y="8435"/>
                  <a:pt x="9762" y="7560"/>
                  <a:pt x="10752" y="7560"/>
                </a:cubicBezTo>
                <a:cubicBezTo>
                  <a:pt x="11743" y="7560"/>
                  <a:pt x="12600" y="8435"/>
                  <a:pt x="13067" y="9720"/>
                </a:cubicBezTo>
                <a:lnTo>
                  <a:pt x="12244" y="9720"/>
                </a:lnTo>
                <a:cubicBezTo>
                  <a:pt x="11874" y="9062"/>
                  <a:pt x="11346" y="8640"/>
                  <a:pt x="10752" y="8640"/>
                </a:cubicBezTo>
                <a:moveTo>
                  <a:pt x="13828" y="9720"/>
                </a:moveTo>
                <a:cubicBezTo>
                  <a:pt x="13307" y="7816"/>
                  <a:pt x="12126" y="6480"/>
                  <a:pt x="10752" y="6480"/>
                </a:cubicBezTo>
                <a:cubicBezTo>
                  <a:pt x="9378" y="6480"/>
                  <a:pt x="8197" y="7816"/>
                  <a:pt x="7677" y="9720"/>
                </a:cubicBezTo>
                <a:lnTo>
                  <a:pt x="6955" y="9720"/>
                </a:lnTo>
                <a:cubicBezTo>
                  <a:pt x="7510" y="7208"/>
                  <a:pt x="9001" y="5400"/>
                  <a:pt x="10752" y="5400"/>
                </a:cubicBezTo>
                <a:cubicBezTo>
                  <a:pt x="12409" y="5400"/>
                  <a:pt x="13835" y="7016"/>
                  <a:pt x="14454" y="9317"/>
                </a:cubicBezTo>
                <a:lnTo>
                  <a:pt x="13954" y="9720"/>
                </a:lnTo>
                <a:cubicBezTo>
                  <a:pt x="13954" y="9720"/>
                  <a:pt x="13828" y="9720"/>
                  <a:pt x="13828" y="9720"/>
                </a:cubicBezTo>
                <a:close/>
                <a:moveTo>
                  <a:pt x="10752" y="1080"/>
                </a:moveTo>
                <a:cubicBezTo>
                  <a:pt x="13460" y="1080"/>
                  <a:pt x="15792" y="3672"/>
                  <a:pt x="16856" y="7388"/>
                </a:cubicBezTo>
                <a:lnTo>
                  <a:pt x="16257" y="7869"/>
                </a:lnTo>
                <a:cubicBezTo>
                  <a:pt x="15306" y="4505"/>
                  <a:pt x="13202" y="2160"/>
                  <a:pt x="10752" y="2160"/>
                </a:cubicBezTo>
                <a:cubicBezTo>
                  <a:pt x="7875" y="2160"/>
                  <a:pt x="5471" y="5393"/>
                  <a:pt x="4859" y="9720"/>
                </a:cubicBezTo>
                <a:lnTo>
                  <a:pt x="4168" y="9720"/>
                </a:lnTo>
                <a:cubicBezTo>
                  <a:pt x="4792" y="4797"/>
                  <a:pt x="7507" y="1080"/>
                  <a:pt x="10752" y="1080"/>
                </a:cubicBezTo>
                <a:moveTo>
                  <a:pt x="17337" y="9720"/>
                </a:moveTo>
                <a:lnTo>
                  <a:pt x="16959" y="9720"/>
                </a:lnTo>
                <a:lnTo>
                  <a:pt x="17294" y="9450"/>
                </a:lnTo>
                <a:cubicBezTo>
                  <a:pt x="17308" y="9541"/>
                  <a:pt x="17325" y="9628"/>
                  <a:pt x="17337" y="9720"/>
                </a:cubicBezTo>
                <a:moveTo>
                  <a:pt x="19824" y="9720"/>
                </a:moveTo>
                <a:lnTo>
                  <a:pt x="18016" y="9720"/>
                </a:lnTo>
                <a:cubicBezTo>
                  <a:pt x="17987" y="9462"/>
                  <a:pt x="17948" y="9210"/>
                  <a:pt x="17909" y="8957"/>
                </a:cubicBezTo>
                <a:lnTo>
                  <a:pt x="21133" y="6366"/>
                </a:lnTo>
                <a:cubicBezTo>
                  <a:pt x="21465" y="6099"/>
                  <a:pt x="21600" y="5451"/>
                  <a:pt x="21434" y="4917"/>
                </a:cubicBezTo>
                <a:cubicBezTo>
                  <a:pt x="21267" y="4383"/>
                  <a:pt x="20865" y="4169"/>
                  <a:pt x="20532" y="4434"/>
                </a:cubicBezTo>
                <a:lnTo>
                  <a:pt x="17456" y="6905"/>
                </a:lnTo>
                <a:cubicBezTo>
                  <a:pt x="16282" y="2836"/>
                  <a:pt x="13722" y="0"/>
                  <a:pt x="10752" y="0"/>
                </a:cubicBezTo>
                <a:cubicBezTo>
                  <a:pt x="7136" y="0"/>
                  <a:pt x="4123" y="4199"/>
                  <a:pt x="3488" y="9720"/>
                </a:cubicBezTo>
                <a:lnTo>
                  <a:pt x="1680" y="9720"/>
                </a:lnTo>
                <a:cubicBezTo>
                  <a:pt x="754" y="9720"/>
                  <a:pt x="0" y="10931"/>
                  <a:pt x="0" y="12420"/>
                </a:cubicBezTo>
                <a:cubicBezTo>
                  <a:pt x="0" y="12949"/>
                  <a:pt x="121" y="13460"/>
                  <a:pt x="339" y="13855"/>
                </a:cubicBezTo>
                <a:lnTo>
                  <a:pt x="2688" y="18102"/>
                </a:lnTo>
                <a:lnTo>
                  <a:pt x="2688" y="18900"/>
                </a:lnTo>
                <a:cubicBezTo>
                  <a:pt x="2688" y="20389"/>
                  <a:pt x="3442" y="21600"/>
                  <a:pt x="4368" y="21600"/>
                </a:cubicBezTo>
                <a:lnTo>
                  <a:pt x="17136" y="21600"/>
                </a:lnTo>
                <a:cubicBezTo>
                  <a:pt x="18062" y="21600"/>
                  <a:pt x="18816" y="20389"/>
                  <a:pt x="18816" y="18900"/>
                </a:cubicBezTo>
                <a:lnTo>
                  <a:pt x="18816" y="18102"/>
                </a:lnTo>
                <a:lnTo>
                  <a:pt x="21165" y="13855"/>
                </a:lnTo>
                <a:cubicBezTo>
                  <a:pt x="21383" y="13460"/>
                  <a:pt x="21505" y="12949"/>
                  <a:pt x="21505" y="12420"/>
                </a:cubicBezTo>
                <a:cubicBezTo>
                  <a:pt x="21505" y="10931"/>
                  <a:pt x="20750" y="9720"/>
                  <a:pt x="19824" y="972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77" name="AutoShape 34"/>
          <p:cNvSpPr/>
          <p:nvPr/>
        </p:nvSpPr>
        <p:spPr>
          <a:xfrm>
            <a:off x="16664040" y="7129440"/>
            <a:ext cx="66600" cy="217440"/>
          </a:xfrm>
          <a:custGeom>
            <a:avLst/>
            <a:gdLst/>
            <a:ahLst/>
            <a:rect l="l" t="t" r="r" b="b"/>
            <a:pathLst>
              <a:path w="16970" h="21600">
                <a:moveTo>
                  <a:pt x="1764" y="20770"/>
                </a:moveTo>
                <a:cubicBezTo>
                  <a:pt x="1786" y="20787"/>
                  <a:pt x="1800" y="20804"/>
                  <a:pt x="1822" y="20821"/>
                </a:cubicBezTo>
                <a:lnTo>
                  <a:pt x="1841" y="20821"/>
                </a:lnTo>
                <a:cubicBezTo>
                  <a:pt x="2472" y="21282"/>
                  <a:pt x="3720" y="21600"/>
                  <a:pt x="5169" y="21600"/>
                </a:cubicBezTo>
                <a:cubicBezTo>
                  <a:pt x="7250" y="21600"/>
                  <a:pt x="8949" y="20948"/>
                  <a:pt x="8949" y="20152"/>
                </a:cubicBezTo>
                <a:cubicBezTo>
                  <a:pt x="8949" y="20028"/>
                  <a:pt x="8890" y="19907"/>
                  <a:pt x="8813" y="19792"/>
                </a:cubicBezTo>
                <a:cubicBezTo>
                  <a:pt x="8828" y="19772"/>
                  <a:pt x="8828" y="19755"/>
                  <a:pt x="8806" y="19735"/>
                </a:cubicBezTo>
                <a:cubicBezTo>
                  <a:pt x="5995" y="17196"/>
                  <a:pt x="8670" y="14408"/>
                  <a:pt x="11955" y="11408"/>
                </a:cubicBezTo>
                <a:cubicBezTo>
                  <a:pt x="15518" y="8165"/>
                  <a:pt x="19327" y="4565"/>
                  <a:pt x="15125" y="903"/>
                </a:cubicBezTo>
                <a:cubicBezTo>
                  <a:pt x="14593" y="374"/>
                  <a:pt x="13265" y="0"/>
                  <a:pt x="11701" y="0"/>
                </a:cubicBezTo>
                <a:cubicBezTo>
                  <a:pt x="9672" y="0"/>
                  <a:pt x="8017" y="633"/>
                  <a:pt x="8017" y="1412"/>
                </a:cubicBezTo>
                <a:cubicBezTo>
                  <a:pt x="8017" y="1583"/>
                  <a:pt x="8109" y="1747"/>
                  <a:pt x="8259" y="1898"/>
                </a:cubicBezTo>
                <a:cubicBezTo>
                  <a:pt x="8259" y="1904"/>
                  <a:pt x="8259" y="1910"/>
                  <a:pt x="8266" y="1915"/>
                </a:cubicBezTo>
                <a:cubicBezTo>
                  <a:pt x="8274" y="1924"/>
                  <a:pt x="8281" y="1932"/>
                  <a:pt x="8296" y="1941"/>
                </a:cubicBezTo>
                <a:lnTo>
                  <a:pt x="8325" y="1974"/>
                </a:lnTo>
                <a:cubicBezTo>
                  <a:pt x="11360" y="4593"/>
                  <a:pt x="8424" y="7276"/>
                  <a:pt x="5107" y="10305"/>
                </a:cubicBezTo>
                <a:cubicBezTo>
                  <a:pt x="1606" y="13500"/>
                  <a:pt x="-2273" y="17041"/>
                  <a:pt x="1635" y="20649"/>
                </a:cubicBezTo>
                <a:cubicBezTo>
                  <a:pt x="1672" y="20692"/>
                  <a:pt x="1720" y="20731"/>
                  <a:pt x="1764" y="2077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78" name="AutoShape 35"/>
          <p:cNvSpPr/>
          <p:nvPr/>
        </p:nvSpPr>
        <p:spPr>
          <a:xfrm>
            <a:off x="17013240" y="7129440"/>
            <a:ext cx="65160" cy="217440"/>
          </a:xfrm>
          <a:custGeom>
            <a:avLst/>
            <a:gdLst/>
            <a:ahLst/>
            <a:rect l="l" t="t" r="r" b="b"/>
            <a:pathLst>
              <a:path w="16970" h="21600">
                <a:moveTo>
                  <a:pt x="1764" y="20770"/>
                </a:moveTo>
                <a:cubicBezTo>
                  <a:pt x="1786" y="20787"/>
                  <a:pt x="1800" y="20804"/>
                  <a:pt x="1822" y="20821"/>
                </a:cubicBezTo>
                <a:lnTo>
                  <a:pt x="1841" y="20821"/>
                </a:lnTo>
                <a:cubicBezTo>
                  <a:pt x="2472" y="21282"/>
                  <a:pt x="3720" y="21600"/>
                  <a:pt x="5169" y="21600"/>
                </a:cubicBezTo>
                <a:cubicBezTo>
                  <a:pt x="7250" y="21600"/>
                  <a:pt x="8949" y="20950"/>
                  <a:pt x="8949" y="20152"/>
                </a:cubicBezTo>
                <a:cubicBezTo>
                  <a:pt x="8949" y="20028"/>
                  <a:pt x="8890" y="19907"/>
                  <a:pt x="8813" y="19792"/>
                </a:cubicBezTo>
                <a:cubicBezTo>
                  <a:pt x="8828" y="19772"/>
                  <a:pt x="8828" y="19755"/>
                  <a:pt x="8806" y="19735"/>
                </a:cubicBezTo>
                <a:cubicBezTo>
                  <a:pt x="5995" y="17196"/>
                  <a:pt x="8670" y="14408"/>
                  <a:pt x="11955" y="11408"/>
                </a:cubicBezTo>
                <a:cubicBezTo>
                  <a:pt x="15518" y="8165"/>
                  <a:pt x="19327" y="4565"/>
                  <a:pt x="15125" y="903"/>
                </a:cubicBezTo>
                <a:cubicBezTo>
                  <a:pt x="14593" y="374"/>
                  <a:pt x="13265" y="0"/>
                  <a:pt x="11701" y="0"/>
                </a:cubicBezTo>
                <a:cubicBezTo>
                  <a:pt x="9672" y="0"/>
                  <a:pt x="8017" y="633"/>
                  <a:pt x="8017" y="1412"/>
                </a:cubicBezTo>
                <a:cubicBezTo>
                  <a:pt x="8017" y="1583"/>
                  <a:pt x="8109" y="1747"/>
                  <a:pt x="8259" y="1898"/>
                </a:cubicBezTo>
                <a:cubicBezTo>
                  <a:pt x="8259" y="1904"/>
                  <a:pt x="8259" y="1910"/>
                  <a:pt x="8266" y="1915"/>
                </a:cubicBezTo>
                <a:cubicBezTo>
                  <a:pt x="8274" y="1924"/>
                  <a:pt x="8281" y="1932"/>
                  <a:pt x="8296" y="1941"/>
                </a:cubicBezTo>
                <a:lnTo>
                  <a:pt x="8325" y="1974"/>
                </a:lnTo>
                <a:cubicBezTo>
                  <a:pt x="11360" y="4593"/>
                  <a:pt x="8424" y="7276"/>
                  <a:pt x="5107" y="10305"/>
                </a:cubicBezTo>
                <a:cubicBezTo>
                  <a:pt x="1606" y="13500"/>
                  <a:pt x="-2273" y="17041"/>
                  <a:pt x="1635" y="20649"/>
                </a:cubicBezTo>
                <a:cubicBezTo>
                  <a:pt x="1672" y="20692"/>
                  <a:pt x="1720" y="20731"/>
                  <a:pt x="1764" y="2077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79" name="AutoShape 36"/>
          <p:cNvSpPr/>
          <p:nvPr/>
        </p:nvSpPr>
        <p:spPr>
          <a:xfrm>
            <a:off x="16867080" y="7012080"/>
            <a:ext cx="66960" cy="218880"/>
          </a:xfrm>
          <a:custGeom>
            <a:avLst/>
            <a:gdLst/>
            <a:ahLst/>
            <a:rect l="l" t="t" r="r" b="b"/>
            <a:pathLst>
              <a:path w="16970" h="21600">
                <a:moveTo>
                  <a:pt x="1764" y="20770"/>
                </a:moveTo>
                <a:cubicBezTo>
                  <a:pt x="1786" y="20787"/>
                  <a:pt x="1800" y="20804"/>
                  <a:pt x="1822" y="20821"/>
                </a:cubicBezTo>
                <a:lnTo>
                  <a:pt x="1841" y="20821"/>
                </a:lnTo>
                <a:cubicBezTo>
                  <a:pt x="2472" y="21282"/>
                  <a:pt x="3720" y="21600"/>
                  <a:pt x="5169" y="21600"/>
                </a:cubicBezTo>
                <a:cubicBezTo>
                  <a:pt x="7250" y="21600"/>
                  <a:pt x="8949" y="20950"/>
                  <a:pt x="8949" y="20152"/>
                </a:cubicBezTo>
                <a:cubicBezTo>
                  <a:pt x="8949" y="20028"/>
                  <a:pt x="8890" y="19907"/>
                  <a:pt x="8813" y="19792"/>
                </a:cubicBezTo>
                <a:cubicBezTo>
                  <a:pt x="8828" y="19772"/>
                  <a:pt x="8828" y="19755"/>
                  <a:pt x="8806" y="19735"/>
                </a:cubicBezTo>
                <a:cubicBezTo>
                  <a:pt x="5995" y="17196"/>
                  <a:pt x="8670" y="14408"/>
                  <a:pt x="11955" y="11408"/>
                </a:cubicBezTo>
                <a:cubicBezTo>
                  <a:pt x="15518" y="8165"/>
                  <a:pt x="19327" y="4565"/>
                  <a:pt x="15125" y="903"/>
                </a:cubicBezTo>
                <a:cubicBezTo>
                  <a:pt x="14593" y="374"/>
                  <a:pt x="13265" y="0"/>
                  <a:pt x="11701" y="0"/>
                </a:cubicBezTo>
                <a:cubicBezTo>
                  <a:pt x="9672" y="0"/>
                  <a:pt x="8017" y="633"/>
                  <a:pt x="8017" y="1412"/>
                </a:cubicBezTo>
                <a:cubicBezTo>
                  <a:pt x="8017" y="1583"/>
                  <a:pt x="8109" y="1749"/>
                  <a:pt x="8259" y="1898"/>
                </a:cubicBezTo>
                <a:cubicBezTo>
                  <a:pt x="8259" y="1904"/>
                  <a:pt x="8259" y="1910"/>
                  <a:pt x="8266" y="1915"/>
                </a:cubicBezTo>
                <a:cubicBezTo>
                  <a:pt x="8274" y="1924"/>
                  <a:pt x="8281" y="1932"/>
                  <a:pt x="8296" y="1941"/>
                </a:cubicBezTo>
                <a:lnTo>
                  <a:pt x="8325" y="1974"/>
                </a:lnTo>
                <a:cubicBezTo>
                  <a:pt x="11360" y="4593"/>
                  <a:pt x="8424" y="7276"/>
                  <a:pt x="5107" y="10305"/>
                </a:cubicBezTo>
                <a:cubicBezTo>
                  <a:pt x="1606" y="13500"/>
                  <a:pt x="-2273" y="17041"/>
                  <a:pt x="1635" y="20649"/>
                </a:cubicBezTo>
                <a:cubicBezTo>
                  <a:pt x="1676" y="20692"/>
                  <a:pt x="1720" y="20731"/>
                  <a:pt x="1764" y="2077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80" name="AutoShape 37"/>
          <p:cNvSpPr/>
          <p:nvPr/>
        </p:nvSpPr>
        <p:spPr>
          <a:xfrm>
            <a:off x="14574960" y="7099200"/>
            <a:ext cx="846000" cy="843120"/>
          </a:xfrm>
          <a:custGeom>
            <a:avLst/>
            <a:gdLst/>
            <a:ahLst/>
            <a:rect l="l" t="t" r="r" b="b"/>
            <a:pathLst>
              <a:path w="21502" h="21600">
                <a:moveTo>
                  <a:pt x="19918" y="7880"/>
                </a:moveTo>
                <a:lnTo>
                  <a:pt x="18875" y="8933"/>
                </a:lnTo>
                <a:cubicBezTo>
                  <a:pt x="18731" y="9079"/>
                  <a:pt x="18497" y="9079"/>
                  <a:pt x="18353" y="8933"/>
                </a:cubicBezTo>
                <a:lnTo>
                  <a:pt x="17049" y="7617"/>
                </a:lnTo>
                <a:lnTo>
                  <a:pt x="15991" y="10290"/>
                </a:lnTo>
                <a:lnTo>
                  <a:pt x="16080" y="10065"/>
                </a:lnTo>
                <a:cubicBezTo>
                  <a:pt x="13860" y="7827"/>
                  <a:pt x="11602" y="7544"/>
                  <a:pt x="9565" y="7292"/>
                </a:cubicBezTo>
                <a:cubicBezTo>
                  <a:pt x="8910" y="7210"/>
                  <a:pt x="8277" y="7126"/>
                  <a:pt x="7652" y="6990"/>
                </a:cubicBezTo>
                <a:lnTo>
                  <a:pt x="13919" y="4457"/>
                </a:lnTo>
                <a:lnTo>
                  <a:pt x="12652" y="3179"/>
                </a:lnTo>
                <a:cubicBezTo>
                  <a:pt x="12508" y="3034"/>
                  <a:pt x="12508" y="2798"/>
                  <a:pt x="12653" y="2653"/>
                </a:cubicBezTo>
                <a:lnTo>
                  <a:pt x="13696" y="1599"/>
                </a:lnTo>
                <a:cubicBezTo>
                  <a:pt x="13840" y="1453"/>
                  <a:pt x="14074" y="1453"/>
                  <a:pt x="14217" y="1599"/>
                </a:cubicBezTo>
                <a:lnTo>
                  <a:pt x="19918" y="7354"/>
                </a:lnTo>
                <a:cubicBezTo>
                  <a:pt x="20063" y="7499"/>
                  <a:pt x="20063" y="7735"/>
                  <a:pt x="19918" y="7880"/>
                </a:cubicBezTo>
                <a:moveTo>
                  <a:pt x="12292" y="19639"/>
                </a:moveTo>
                <a:cubicBezTo>
                  <a:pt x="12201" y="19872"/>
                  <a:pt x="11999" y="20044"/>
                  <a:pt x="11756" y="20095"/>
                </a:cubicBezTo>
                <a:cubicBezTo>
                  <a:pt x="11701" y="20107"/>
                  <a:pt x="11644" y="20112"/>
                  <a:pt x="11587" y="20110"/>
                </a:cubicBezTo>
                <a:cubicBezTo>
                  <a:pt x="11400" y="20106"/>
                  <a:pt x="11219" y="20030"/>
                  <a:pt x="11084" y="19893"/>
                </a:cubicBezTo>
                <a:lnTo>
                  <a:pt x="1692" y="10517"/>
                </a:lnTo>
                <a:cubicBezTo>
                  <a:pt x="1519" y="10343"/>
                  <a:pt x="1443" y="10094"/>
                  <a:pt x="1488" y="9852"/>
                </a:cubicBezTo>
                <a:cubicBezTo>
                  <a:pt x="1533" y="9611"/>
                  <a:pt x="1695" y="9407"/>
                  <a:pt x="1918" y="9308"/>
                </a:cubicBezTo>
                <a:lnTo>
                  <a:pt x="6506" y="7453"/>
                </a:lnTo>
                <a:cubicBezTo>
                  <a:pt x="9597" y="8491"/>
                  <a:pt x="12689" y="7492"/>
                  <a:pt x="15781" y="10822"/>
                </a:cubicBezTo>
                <a:cubicBezTo>
                  <a:pt x="15781" y="10822"/>
                  <a:pt x="12292" y="19639"/>
                  <a:pt x="12292" y="19639"/>
                </a:cubicBezTo>
                <a:close/>
                <a:moveTo>
                  <a:pt x="15261" y="546"/>
                </a:moveTo>
                <a:cubicBezTo>
                  <a:pt x="14912" y="193"/>
                  <a:pt x="14449" y="0"/>
                  <a:pt x="13957" y="0"/>
                </a:cubicBezTo>
                <a:cubicBezTo>
                  <a:pt x="13464" y="0"/>
                  <a:pt x="13001" y="193"/>
                  <a:pt x="12651" y="546"/>
                </a:cubicBezTo>
                <a:lnTo>
                  <a:pt x="11611" y="1598"/>
                </a:lnTo>
                <a:cubicBezTo>
                  <a:pt x="11261" y="1949"/>
                  <a:pt x="11069" y="2417"/>
                  <a:pt x="11069" y="2915"/>
                </a:cubicBezTo>
                <a:cubicBezTo>
                  <a:pt x="11069" y="3266"/>
                  <a:pt x="11164" y="3602"/>
                  <a:pt x="11342" y="3894"/>
                </a:cubicBezTo>
                <a:lnTo>
                  <a:pt x="1324" y="7944"/>
                </a:lnTo>
                <a:cubicBezTo>
                  <a:pt x="655" y="8242"/>
                  <a:pt x="174" y="8851"/>
                  <a:pt x="39" y="9575"/>
                </a:cubicBezTo>
                <a:cubicBezTo>
                  <a:pt x="-98" y="10302"/>
                  <a:pt x="131" y="11049"/>
                  <a:pt x="655" y="11576"/>
                </a:cubicBezTo>
                <a:lnTo>
                  <a:pt x="10041" y="20946"/>
                </a:lnTo>
                <a:cubicBezTo>
                  <a:pt x="10445" y="21354"/>
                  <a:pt x="10982" y="21586"/>
                  <a:pt x="11550" y="21599"/>
                </a:cubicBezTo>
                <a:cubicBezTo>
                  <a:pt x="11563" y="21600"/>
                  <a:pt x="11594" y="21600"/>
                  <a:pt x="11606" y="21600"/>
                </a:cubicBezTo>
                <a:cubicBezTo>
                  <a:pt x="11755" y="21600"/>
                  <a:pt x="11906" y="21585"/>
                  <a:pt x="12057" y="21553"/>
                </a:cubicBezTo>
                <a:cubicBezTo>
                  <a:pt x="12789" y="21400"/>
                  <a:pt x="13391" y="20889"/>
                  <a:pt x="13662" y="20192"/>
                </a:cubicBezTo>
                <a:lnTo>
                  <a:pt x="17605" y="10229"/>
                </a:lnTo>
                <a:cubicBezTo>
                  <a:pt x="17903" y="10426"/>
                  <a:pt x="18250" y="10532"/>
                  <a:pt x="18614" y="10532"/>
                </a:cubicBezTo>
                <a:cubicBezTo>
                  <a:pt x="19107" y="10532"/>
                  <a:pt x="19571" y="10338"/>
                  <a:pt x="19918" y="9986"/>
                </a:cubicBezTo>
                <a:lnTo>
                  <a:pt x="20958" y="8938"/>
                </a:lnTo>
                <a:cubicBezTo>
                  <a:pt x="21309" y="8585"/>
                  <a:pt x="21502" y="8117"/>
                  <a:pt x="21502" y="7617"/>
                </a:cubicBezTo>
                <a:cubicBezTo>
                  <a:pt x="21502" y="7117"/>
                  <a:pt x="21309" y="6649"/>
                  <a:pt x="20962" y="6300"/>
                </a:cubicBezTo>
                <a:cubicBezTo>
                  <a:pt x="20962" y="6300"/>
                  <a:pt x="15261" y="546"/>
                  <a:pt x="15261" y="546"/>
                </a:cubicBezTo>
                <a:close/>
                <a:moveTo>
                  <a:pt x="15261" y="546"/>
                </a:move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81" name="AutoShape 38"/>
          <p:cNvSpPr/>
          <p:nvPr/>
        </p:nvSpPr>
        <p:spPr>
          <a:xfrm>
            <a:off x="14981400" y="7477200"/>
            <a:ext cx="144360" cy="145800"/>
          </a:xfrm>
          <a:custGeom>
            <a:avLst/>
            <a:gdLst/>
            <a:ahLst/>
            <a:rect l="l" t="t" r="r" b="b"/>
            <a:pathLst>
              <a:path w="21600" h="21600">
                <a:moveTo>
                  <a:pt x="10800" y="4320"/>
                </a:moveTo>
                <a:cubicBezTo>
                  <a:pt x="14382" y="4320"/>
                  <a:pt x="17280" y="7222"/>
                  <a:pt x="17280" y="10800"/>
                </a:cubicBezTo>
                <a:cubicBezTo>
                  <a:pt x="17280" y="14377"/>
                  <a:pt x="14382" y="17280"/>
                  <a:pt x="10800" y="17280"/>
                </a:cubicBezTo>
                <a:cubicBezTo>
                  <a:pt x="7218" y="17280"/>
                  <a:pt x="4320" y="14377"/>
                  <a:pt x="4320" y="10800"/>
                </a:cubicBezTo>
                <a:cubicBezTo>
                  <a:pt x="4320" y="7222"/>
                  <a:pt x="7218" y="4320"/>
                  <a:pt x="10800" y="4320"/>
                </a:cubicBezTo>
                <a:moveTo>
                  <a:pt x="10800" y="21600"/>
                </a:moveTo>
                <a:cubicBezTo>
                  <a:pt x="16753" y="21600"/>
                  <a:pt x="21600" y="16757"/>
                  <a:pt x="21600" y="10800"/>
                </a:cubicBezTo>
                <a:cubicBezTo>
                  <a:pt x="21600" y="4843"/>
                  <a:pt x="16753" y="0"/>
                  <a:pt x="10800" y="0"/>
                </a:cubicBezTo>
                <a:cubicBezTo>
                  <a:pt x="4847" y="0"/>
                  <a:pt x="0" y="4843"/>
                  <a:pt x="0" y="10800"/>
                </a:cubicBezTo>
                <a:cubicBezTo>
                  <a:pt x="0" y="16757"/>
                  <a:pt x="4847" y="21600"/>
                  <a:pt x="108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82" name="AutoShape 39"/>
          <p:cNvSpPr/>
          <p:nvPr/>
        </p:nvSpPr>
        <p:spPr>
          <a:xfrm>
            <a:off x="15359040" y="7012080"/>
            <a:ext cx="144360" cy="145800"/>
          </a:xfrm>
          <a:custGeom>
            <a:avLst/>
            <a:gdLst/>
            <a:ahLst/>
            <a:rect l="l" t="t" r="r" b="b"/>
            <a:pathLst>
              <a:path w="21600" h="21600">
                <a:moveTo>
                  <a:pt x="10800" y="17280"/>
                </a:moveTo>
                <a:cubicBezTo>
                  <a:pt x="7218" y="17280"/>
                  <a:pt x="4320" y="14377"/>
                  <a:pt x="4320" y="10800"/>
                </a:cubicBezTo>
                <a:cubicBezTo>
                  <a:pt x="4320" y="7223"/>
                  <a:pt x="7218" y="4320"/>
                  <a:pt x="10800" y="4320"/>
                </a:cubicBezTo>
                <a:cubicBezTo>
                  <a:pt x="14382" y="4320"/>
                  <a:pt x="17280" y="7223"/>
                  <a:pt x="17280" y="10800"/>
                </a:cubicBezTo>
                <a:cubicBezTo>
                  <a:pt x="17280" y="14377"/>
                  <a:pt x="14382" y="17280"/>
                  <a:pt x="10800" y="17280"/>
                </a:cubicBezTo>
                <a:moveTo>
                  <a:pt x="10800" y="0"/>
                </a:moveTo>
                <a:cubicBezTo>
                  <a:pt x="4847" y="0"/>
                  <a:pt x="0" y="4843"/>
                  <a:pt x="0" y="10800"/>
                </a:cubicBezTo>
                <a:cubicBezTo>
                  <a:pt x="0" y="16757"/>
                  <a:pt x="4847" y="21600"/>
                  <a:pt x="10800" y="21600"/>
                </a:cubicBezTo>
                <a:cubicBezTo>
                  <a:pt x="16753" y="21600"/>
                  <a:pt x="21600" y="16757"/>
                  <a:pt x="21600" y="10800"/>
                </a:cubicBezTo>
                <a:cubicBezTo>
                  <a:pt x="21600" y="4843"/>
                  <a:pt x="16753"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83" name="AutoShape 40"/>
          <p:cNvSpPr/>
          <p:nvPr/>
        </p:nvSpPr>
        <p:spPr>
          <a:xfrm>
            <a:off x="14806440" y="7448400"/>
            <a:ext cx="115920" cy="115920"/>
          </a:xfrm>
          <a:custGeom>
            <a:avLst/>
            <a:gdLst/>
            <a:ahLst/>
            <a:rect l="l" t="t" r="r" b="b"/>
            <a:pathLst>
              <a:path w="21600" h="21600">
                <a:moveTo>
                  <a:pt x="10800" y="5400"/>
                </a:moveTo>
                <a:cubicBezTo>
                  <a:pt x="13779" y="5400"/>
                  <a:pt x="16200" y="7815"/>
                  <a:pt x="16200" y="10800"/>
                </a:cubicBezTo>
                <a:cubicBezTo>
                  <a:pt x="16200" y="13785"/>
                  <a:pt x="13779" y="16200"/>
                  <a:pt x="10800" y="16200"/>
                </a:cubicBezTo>
                <a:cubicBezTo>
                  <a:pt x="7821" y="16200"/>
                  <a:pt x="5400" y="13785"/>
                  <a:pt x="5400" y="10800"/>
                </a:cubicBezTo>
                <a:cubicBezTo>
                  <a:pt x="5400" y="7815"/>
                  <a:pt x="7821" y="5400"/>
                  <a:pt x="10800" y="5400"/>
                </a:cubicBezTo>
                <a:moveTo>
                  <a:pt x="0" y="10800"/>
                </a:moveTo>
                <a:cubicBezTo>
                  <a:pt x="0" y="16754"/>
                  <a:pt x="4844" y="21600"/>
                  <a:pt x="10800" y="21600"/>
                </a:cubicBezTo>
                <a:cubicBezTo>
                  <a:pt x="16756" y="21600"/>
                  <a:pt x="21600" y="16754"/>
                  <a:pt x="21600" y="10800"/>
                </a:cubicBezTo>
                <a:cubicBezTo>
                  <a:pt x="21600" y="4846"/>
                  <a:pt x="16756" y="0"/>
                  <a:pt x="10800" y="0"/>
                </a:cubicBezTo>
                <a:cubicBezTo>
                  <a:pt x="4844" y="0"/>
                  <a:pt x="0" y="4846"/>
                  <a:pt x="0" y="108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84" name="AutoShape 41"/>
          <p:cNvSpPr/>
          <p:nvPr/>
        </p:nvSpPr>
        <p:spPr>
          <a:xfrm>
            <a:off x="14922360" y="7651800"/>
            <a:ext cx="59040" cy="57240"/>
          </a:xfrm>
          <a:custGeom>
            <a:avLst/>
            <a:gdLst/>
            <a:ahLst/>
            <a:rect l="l" t="t" r="r" b="b"/>
            <a:pathLst>
              <a:path w="21600" h="21600">
                <a:moveTo>
                  <a:pt x="10800" y="21600"/>
                </a:moveTo>
                <a:cubicBezTo>
                  <a:pt x="16759" y="21600"/>
                  <a:pt x="21600" y="16770"/>
                  <a:pt x="21600" y="10800"/>
                </a:cubicBezTo>
                <a:cubicBezTo>
                  <a:pt x="21600" y="4830"/>
                  <a:pt x="16759" y="0"/>
                  <a:pt x="10800" y="0"/>
                </a:cubicBezTo>
                <a:cubicBezTo>
                  <a:pt x="4841" y="0"/>
                  <a:pt x="0" y="4830"/>
                  <a:pt x="0" y="10800"/>
                </a:cubicBezTo>
                <a:cubicBezTo>
                  <a:pt x="0" y="16770"/>
                  <a:pt x="4841" y="21600"/>
                  <a:pt x="108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85" name="AutoShape 42"/>
          <p:cNvSpPr/>
          <p:nvPr/>
        </p:nvSpPr>
        <p:spPr>
          <a:xfrm>
            <a:off x="15387480" y="7215120"/>
            <a:ext cx="57240" cy="58680"/>
          </a:xfrm>
          <a:custGeom>
            <a:avLst/>
            <a:gdLst/>
            <a:ahLst/>
            <a:rect l="l" t="t" r="r" b="b"/>
            <a:pathLst>
              <a:path w="21600" h="21600">
                <a:moveTo>
                  <a:pt x="10800" y="0"/>
                </a:moveTo>
                <a:cubicBezTo>
                  <a:pt x="4841" y="0"/>
                  <a:pt x="0" y="4830"/>
                  <a:pt x="0" y="10800"/>
                </a:cubicBezTo>
                <a:cubicBezTo>
                  <a:pt x="0" y="16770"/>
                  <a:pt x="4841" y="21600"/>
                  <a:pt x="10800" y="21600"/>
                </a:cubicBezTo>
                <a:cubicBezTo>
                  <a:pt x="16759" y="21600"/>
                  <a:pt x="21600" y="16770"/>
                  <a:pt x="21600" y="10800"/>
                </a:cubicBezTo>
                <a:cubicBezTo>
                  <a:pt x="21600" y="4830"/>
                  <a:pt x="16759"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86" name="AutoShape 43"/>
          <p:cNvSpPr/>
          <p:nvPr/>
        </p:nvSpPr>
        <p:spPr>
          <a:xfrm>
            <a:off x="12715920" y="7070760"/>
            <a:ext cx="930240" cy="668160"/>
          </a:xfrm>
          <a:custGeom>
            <a:avLst/>
            <a:gdLst/>
            <a:ahLst/>
            <a:rect l="l" t="t" r="r" b="b"/>
            <a:pathLst>
              <a:path w="21600" h="21600">
                <a:moveTo>
                  <a:pt x="10952" y="9367"/>
                </a:moveTo>
                <a:cubicBezTo>
                  <a:pt x="10902" y="9383"/>
                  <a:pt x="10851" y="9391"/>
                  <a:pt x="10800" y="9391"/>
                </a:cubicBezTo>
                <a:cubicBezTo>
                  <a:pt x="10749" y="9391"/>
                  <a:pt x="10698" y="9383"/>
                  <a:pt x="10648" y="9367"/>
                </a:cubicBezTo>
                <a:lnTo>
                  <a:pt x="1873" y="6550"/>
                </a:lnTo>
                <a:cubicBezTo>
                  <a:pt x="1567" y="6453"/>
                  <a:pt x="1350" y="6072"/>
                  <a:pt x="1350" y="5635"/>
                </a:cubicBezTo>
                <a:cubicBezTo>
                  <a:pt x="1350" y="5197"/>
                  <a:pt x="1567" y="4818"/>
                  <a:pt x="1873" y="4719"/>
                </a:cubicBezTo>
                <a:lnTo>
                  <a:pt x="10648" y="1902"/>
                </a:lnTo>
                <a:cubicBezTo>
                  <a:pt x="10698" y="1887"/>
                  <a:pt x="10749" y="1878"/>
                  <a:pt x="10800" y="1878"/>
                </a:cubicBezTo>
                <a:cubicBezTo>
                  <a:pt x="10851" y="1878"/>
                  <a:pt x="10902" y="1887"/>
                  <a:pt x="10952" y="1902"/>
                </a:cubicBezTo>
                <a:lnTo>
                  <a:pt x="19727" y="4719"/>
                </a:lnTo>
                <a:cubicBezTo>
                  <a:pt x="20033" y="4818"/>
                  <a:pt x="20250" y="5197"/>
                  <a:pt x="20250" y="5635"/>
                </a:cubicBezTo>
                <a:cubicBezTo>
                  <a:pt x="20250" y="6072"/>
                  <a:pt x="20033" y="6453"/>
                  <a:pt x="19727" y="6550"/>
                </a:cubicBezTo>
                <a:cubicBezTo>
                  <a:pt x="19727" y="6550"/>
                  <a:pt x="10952" y="9367"/>
                  <a:pt x="10952" y="9367"/>
                </a:cubicBezTo>
                <a:close/>
                <a:moveTo>
                  <a:pt x="16875" y="16904"/>
                </a:moveTo>
                <a:cubicBezTo>
                  <a:pt x="16875" y="17943"/>
                  <a:pt x="14850" y="19722"/>
                  <a:pt x="10800" y="19722"/>
                </a:cubicBezTo>
                <a:cubicBezTo>
                  <a:pt x="6750" y="19722"/>
                  <a:pt x="4725" y="17943"/>
                  <a:pt x="4725" y="16904"/>
                </a:cubicBezTo>
                <a:lnTo>
                  <a:pt x="4725" y="9394"/>
                </a:lnTo>
                <a:lnTo>
                  <a:pt x="10353" y="11201"/>
                </a:lnTo>
                <a:cubicBezTo>
                  <a:pt x="10501" y="11247"/>
                  <a:pt x="10651" y="11270"/>
                  <a:pt x="10800" y="11270"/>
                </a:cubicBezTo>
                <a:cubicBezTo>
                  <a:pt x="10949" y="11270"/>
                  <a:pt x="11099" y="11247"/>
                  <a:pt x="11256" y="11198"/>
                </a:cubicBezTo>
                <a:lnTo>
                  <a:pt x="16875" y="9394"/>
                </a:lnTo>
                <a:cubicBezTo>
                  <a:pt x="16875" y="9394"/>
                  <a:pt x="16875" y="16904"/>
                  <a:pt x="16875" y="16904"/>
                </a:cubicBezTo>
                <a:close/>
                <a:moveTo>
                  <a:pt x="21600" y="5635"/>
                </a:moveTo>
                <a:cubicBezTo>
                  <a:pt x="21600" y="4314"/>
                  <a:pt x="20954" y="3185"/>
                  <a:pt x="20031" y="2889"/>
                </a:cubicBezTo>
                <a:lnTo>
                  <a:pt x="11247" y="69"/>
                </a:lnTo>
                <a:cubicBezTo>
                  <a:pt x="11099" y="23"/>
                  <a:pt x="10949" y="0"/>
                  <a:pt x="10800" y="0"/>
                </a:cubicBezTo>
                <a:cubicBezTo>
                  <a:pt x="10651" y="0"/>
                  <a:pt x="10501" y="23"/>
                  <a:pt x="10345" y="72"/>
                </a:cubicBezTo>
                <a:lnTo>
                  <a:pt x="1570" y="2889"/>
                </a:lnTo>
                <a:cubicBezTo>
                  <a:pt x="645" y="3185"/>
                  <a:pt x="0" y="4314"/>
                  <a:pt x="0" y="5635"/>
                </a:cubicBezTo>
                <a:cubicBezTo>
                  <a:pt x="0" y="6955"/>
                  <a:pt x="645" y="8084"/>
                  <a:pt x="1570" y="8381"/>
                </a:cubicBezTo>
                <a:lnTo>
                  <a:pt x="3375" y="8960"/>
                </a:lnTo>
                <a:lnTo>
                  <a:pt x="3375" y="16904"/>
                </a:lnTo>
                <a:cubicBezTo>
                  <a:pt x="3375" y="19397"/>
                  <a:pt x="5425" y="21600"/>
                  <a:pt x="10800" y="21600"/>
                </a:cubicBezTo>
                <a:cubicBezTo>
                  <a:pt x="16174" y="21600"/>
                  <a:pt x="18225" y="19397"/>
                  <a:pt x="18225" y="16904"/>
                </a:cubicBezTo>
                <a:lnTo>
                  <a:pt x="18225" y="8960"/>
                </a:lnTo>
                <a:lnTo>
                  <a:pt x="20030" y="8381"/>
                </a:lnTo>
                <a:cubicBezTo>
                  <a:pt x="20954" y="8084"/>
                  <a:pt x="21600" y="6955"/>
                  <a:pt x="21600" y="5635"/>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87" name="AutoShape 44"/>
          <p:cNvSpPr/>
          <p:nvPr/>
        </p:nvSpPr>
        <p:spPr>
          <a:xfrm>
            <a:off x="13558680" y="7361280"/>
            <a:ext cx="57240" cy="318960"/>
          </a:xfrm>
          <a:custGeom>
            <a:avLst/>
            <a:gdLst/>
            <a:ahLst/>
            <a:rect l="l" t="t" r="r" b="b"/>
            <a:pathLst>
              <a:path w="21600" h="21600">
                <a:moveTo>
                  <a:pt x="0" y="1964"/>
                </a:moveTo>
                <a:lnTo>
                  <a:pt x="0" y="19636"/>
                </a:lnTo>
                <a:cubicBezTo>
                  <a:pt x="0" y="20722"/>
                  <a:pt x="4841" y="21600"/>
                  <a:pt x="10800" y="21600"/>
                </a:cubicBezTo>
                <a:cubicBezTo>
                  <a:pt x="16759" y="21600"/>
                  <a:pt x="21600" y="20722"/>
                  <a:pt x="21600" y="19636"/>
                </a:cubicBezTo>
                <a:lnTo>
                  <a:pt x="21600" y="1964"/>
                </a:lnTo>
                <a:cubicBezTo>
                  <a:pt x="21600" y="878"/>
                  <a:pt x="16759" y="0"/>
                  <a:pt x="10800" y="0"/>
                </a:cubicBezTo>
                <a:cubicBezTo>
                  <a:pt x="4841" y="0"/>
                  <a:pt x="0" y="878"/>
                  <a:pt x="0" y="1964"/>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88" name="AutoShape 45"/>
          <p:cNvSpPr/>
          <p:nvPr/>
        </p:nvSpPr>
        <p:spPr>
          <a:xfrm>
            <a:off x="13528800" y="7709040"/>
            <a:ext cx="117360" cy="174600"/>
          </a:xfrm>
          <a:custGeom>
            <a:avLst/>
            <a:gdLst/>
            <a:ahLst/>
            <a:rect l="l" t="t" r="r" b="b"/>
            <a:pathLst>
              <a:path w="21600" h="21600">
                <a:moveTo>
                  <a:pt x="10800" y="0"/>
                </a:moveTo>
                <a:cubicBezTo>
                  <a:pt x="4838" y="0"/>
                  <a:pt x="0" y="10427"/>
                  <a:pt x="0" y="14400"/>
                </a:cubicBezTo>
                <a:cubicBezTo>
                  <a:pt x="0" y="18373"/>
                  <a:pt x="4838" y="21600"/>
                  <a:pt x="10800" y="21600"/>
                </a:cubicBezTo>
                <a:cubicBezTo>
                  <a:pt x="16762" y="21600"/>
                  <a:pt x="21600" y="18373"/>
                  <a:pt x="21600" y="14400"/>
                </a:cubicBezTo>
                <a:cubicBezTo>
                  <a:pt x="21600" y="10427"/>
                  <a:pt x="16762"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89" name="AutoShape 46"/>
          <p:cNvSpPr/>
          <p:nvPr/>
        </p:nvSpPr>
        <p:spPr>
          <a:xfrm>
            <a:off x="22006080" y="5154480"/>
            <a:ext cx="928440" cy="928800"/>
          </a:xfrm>
          <a:custGeom>
            <a:avLst/>
            <a:gdLst/>
            <a:ahLst/>
            <a:rect l="l" t="t" r="r" b="b"/>
            <a:pathLst>
              <a:path w="21600" h="21600">
                <a:moveTo>
                  <a:pt x="16875" y="17550"/>
                </a:moveTo>
                <a:cubicBezTo>
                  <a:pt x="15513" y="17550"/>
                  <a:pt x="14344" y="15612"/>
                  <a:pt x="13810" y="12825"/>
                </a:cubicBezTo>
                <a:lnTo>
                  <a:pt x="15525" y="12825"/>
                </a:lnTo>
                <a:cubicBezTo>
                  <a:pt x="17038" y="12825"/>
                  <a:pt x="18225" y="11343"/>
                  <a:pt x="18225" y="9450"/>
                </a:cubicBezTo>
                <a:cubicBezTo>
                  <a:pt x="18225" y="7558"/>
                  <a:pt x="17038" y="6075"/>
                  <a:pt x="15525" y="6075"/>
                </a:cubicBezTo>
                <a:lnTo>
                  <a:pt x="13810" y="6075"/>
                </a:lnTo>
                <a:cubicBezTo>
                  <a:pt x="14344" y="3289"/>
                  <a:pt x="15513" y="1350"/>
                  <a:pt x="16875" y="1350"/>
                </a:cubicBezTo>
                <a:cubicBezTo>
                  <a:pt x="18739" y="1350"/>
                  <a:pt x="20250" y="4977"/>
                  <a:pt x="20250" y="9450"/>
                </a:cubicBezTo>
                <a:cubicBezTo>
                  <a:pt x="20250" y="13923"/>
                  <a:pt x="18739" y="17550"/>
                  <a:pt x="16875" y="17550"/>
                </a:cubicBezTo>
                <a:moveTo>
                  <a:pt x="8927" y="11483"/>
                </a:moveTo>
                <a:lnTo>
                  <a:pt x="8775" y="11483"/>
                </a:lnTo>
                <a:lnTo>
                  <a:pt x="8775" y="11475"/>
                </a:lnTo>
                <a:cubicBezTo>
                  <a:pt x="8029" y="11475"/>
                  <a:pt x="7425" y="10569"/>
                  <a:pt x="7425" y="9450"/>
                </a:cubicBezTo>
                <a:cubicBezTo>
                  <a:pt x="7425" y="8332"/>
                  <a:pt x="8029" y="7425"/>
                  <a:pt x="8775" y="7425"/>
                </a:cubicBezTo>
                <a:lnTo>
                  <a:pt x="8927" y="7425"/>
                </a:lnTo>
                <a:cubicBezTo>
                  <a:pt x="10200" y="7425"/>
                  <a:pt x="11392" y="6924"/>
                  <a:pt x="12441" y="6063"/>
                </a:cubicBezTo>
                <a:cubicBezTo>
                  <a:pt x="12249" y="7149"/>
                  <a:pt x="12150" y="8300"/>
                  <a:pt x="12150" y="9450"/>
                </a:cubicBezTo>
                <a:cubicBezTo>
                  <a:pt x="12150" y="10604"/>
                  <a:pt x="12249" y="11758"/>
                  <a:pt x="12443" y="12846"/>
                </a:cubicBezTo>
                <a:cubicBezTo>
                  <a:pt x="11393" y="11984"/>
                  <a:pt x="10200" y="11483"/>
                  <a:pt x="8927" y="11483"/>
                </a:cubicBezTo>
                <a:moveTo>
                  <a:pt x="8096" y="20250"/>
                </a:moveTo>
                <a:lnTo>
                  <a:pt x="5396" y="20250"/>
                </a:lnTo>
                <a:lnTo>
                  <a:pt x="5396" y="14175"/>
                </a:lnTo>
                <a:cubicBezTo>
                  <a:pt x="5396" y="13683"/>
                  <a:pt x="5264" y="13223"/>
                  <a:pt x="5033" y="12825"/>
                </a:cubicBezTo>
                <a:lnTo>
                  <a:pt x="5505" y="12825"/>
                </a:lnTo>
                <a:lnTo>
                  <a:pt x="5505" y="12833"/>
                </a:lnTo>
                <a:lnTo>
                  <a:pt x="7536" y="12833"/>
                </a:lnTo>
                <a:cubicBezTo>
                  <a:pt x="7463" y="13043"/>
                  <a:pt x="7421" y="13265"/>
                  <a:pt x="7421" y="13500"/>
                </a:cubicBezTo>
                <a:lnTo>
                  <a:pt x="7421" y="18225"/>
                </a:lnTo>
                <a:cubicBezTo>
                  <a:pt x="7421" y="18875"/>
                  <a:pt x="7785" y="19307"/>
                  <a:pt x="8001" y="19566"/>
                </a:cubicBezTo>
                <a:cubicBezTo>
                  <a:pt x="8031" y="19601"/>
                  <a:pt x="8066" y="19638"/>
                  <a:pt x="8096" y="19678"/>
                </a:cubicBezTo>
                <a:cubicBezTo>
                  <a:pt x="8096" y="19678"/>
                  <a:pt x="8096" y="20250"/>
                  <a:pt x="8096" y="20250"/>
                </a:cubicBezTo>
                <a:close/>
                <a:moveTo>
                  <a:pt x="1350" y="9450"/>
                </a:moveTo>
                <a:cubicBezTo>
                  <a:pt x="1350" y="8332"/>
                  <a:pt x="1954" y="7425"/>
                  <a:pt x="2700" y="7425"/>
                </a:cubicBezTo>
                <a:lnTo>
                  <a:pt x="7434" y="7425"/>
                </a:lnTo>
                <a:cubicBezTo>
                  <a:pt x="7015" y="7917"/>
                  <a:pt x="6750" y="8631"/>
                  <a:pt x="6750" y="9450"/>
                </a:cubicBezTo>
                <a:cubicBezTo>
                  <a:pt x="6750" y="10270"/>
                  <a:pt x="7015" y="10985"/>
                  <a:pt x="7434" y="11475"/>
                </a:cubicBezTo>
                <a:lnTo>
                  <a:pt x="2700" y="11475"/>
                </a:lnTo>
                <a:cubicBezTo>
                  <a:pt x="1954" y="11475"/>
                  <a:pt x="1350" y="10569"/>
                  <a:pt x="1350" y="9450"/>
                </a:cubicBezTo>
                <a:moveTo>
                  <a:pt x="13500" y="9450"/>
                </a:moveTo>
                <a:cubicBezTo>
                  <a:pt x="13500" y="8750"/>
                  <a:pt x="13541" y="8074"/>
                  <a:pt x="13611" y="7425"/>
                </a:cubicBezTo>
                <a:lnTo>
                  <a:pt x="15525" y="7425"/>
                </a:lnTo>
                <a:cubicBezTo>
                  <a:pt x="16270" y="7425"/>
                  <a:pt x="16875" y="8332"/>
                  <a:pt x="16875" y="9450"/>
                </a:cubicBezTo>
                <a:cubicBezTo>
                  <a:pt x="16875" y="10569"/>
                  <a:pt x="16270" y="11475"/>
                  <a:pt x="15525" y="11475"/>
                </a:cubicBezTo>
                <a:lnTo>
                  <a:pt x="13611" y="11475"/>
                </a:lnTo>
                <a:cubicBezTo>
                  <a:pt x="13541" y="10826"/>
                  <a:pt x="13500" y="10151"/>
                  <a:pt x="13500" y="9450"/>
                </a:cubicBezTo>
                <a:moveTo>
                  <a:pt x="16875" y="0"/>
                </a:moveTo>
                <a:cubicBezTo>
                  <a:pt x="15489" y="0"/>
                  <a:pt x="14400" y="952"/>
                  <a:pt x="13619" y="2421"/>
                </a:cubicBezTo>
                <a:lnTo>
                  <a:pt x="13604" y="2413"/>
                </a:lnTo>
                <a:cubicBezTo>
                  <a:pt x="12469" y="4635"/>
                  <a:pt x="10779" y="6075"/>
                  <a:pt x="8927" y="6075"/>
                </a:cubicBezTo>
                <a:lnTo>
                  <a:pt x="8479" y="6075"/>
                </a:lnTo>
                <a:lnTo>
                  <a:pt x="5505" y="6075"/>
                </a:lnTo>
                <a:lnTo>
                  <a:pt x="2700" y="6075"/>
                </a:lnTo>
                <a:cubicBezTo>
                  <a:pt x="1185" y="6075"/>
                  <a:pt x="0" y="7558"/>
                  <a:pt x="0" y="9450"/>
                </a:cubicBezTo>
                <a:cubicBezTo>
                  <a:pt x="0" y="11343"/>
                  <a:pt x="1185" y="12825"/>
                  <a:pt x="2700" y="12825"/>
                </a:cubicBezTo>
                <a:cubicBezTo>
                  <a:pt x="3444" y="12828"/>
                  <a:pt x="4046" y="13430"/>
                  <a:pt x="4046" y="14175"/>
                </a:cubicBezTo>
                <a:lnTo>
                  <a:pt x="4046" y="20250"/>
                </a:lnTo>
                <a:cubicBezTo>
                  <a:pt x="4046" y="20996"/>
                  <a:pt x="4651" y="21600"/>
                  <a:pt x="5396" y="21600"/>
                </a:cubicBezTo>
                <a:lnTo>
                  <a:pt x="8096" y="21600"/>
                </a:lnTo>
                <a:cubicBezTo>
                  <a:pt x="8842" y="21600"/>
                  <a:pt x="9446" y="20996"/>
                  <a:pt x="9446" y="20250"/>
                </a:cubicBezTo>
                <a:lnTo>
                  <a:pt x="9446" y="19575"/>
                </a:lnTo>
                <a:cubicBezTo>
                  <a:pt x="9446" y="18900"/>
                  <a:pt x="8771" y="18598"/>
                  <a:pt x="8771" y="18225"/>
                </a:cubicBezTo>
                <a:lnTo>
                  <a:pt x="8771" y="13500"/>
                </a:lnTo>
                <a:cubicBezTo>
                  <a:pt x="8771" y="13484"/>
                  <a:pt x="8782" y="13474"/>
                  <a:pt x="8783" y="13458"/>
                </a:cubicBezTo>
                <a:cubicBezTo>
                  <a:pt x="8790" y="13362"/>
                  <a:pt x="8816" y="13272"/>
                  <a:pt x="8859" y="13192"/>
                </a:cubicBezTo>
                <a:cubicBezTo>
                  <a:pt x="8871" y="13169"/>
                  <a:pt x="8884" y="13152"/>
                  <a:pt x="8899" y="13132"/>
                </a:cubicBezTo>
                <a:cubicBezTo>
                  <a:pt x="8953" y="13052"/>
                  <a:pt x="9020" y="12986"/>
                  <a:pt x="9103" y="12934"/>
                </a:cubicBezTo>
                <a:cubicBezTo>
                  <a:pt x="9107" y="12932"/>
                  <a:pt x="9109" y="12928"/>
                  <a:pt x="9112" y="12925"/>
                </a:cubicBezTo>
                <a:cubicBezTo>
                  <a:pt x="9115" y="12925"/>
                  <a:pt x="9118" y="12923"/>
                  <a:pt x="9120" y="12923"/>
                </a:cubicBezTo>
                <a:cubicBezTo>
                  <a:pt x="9174" y="12892"/>
                  <a:pt x="9238" y="12886"/>
                  <a:pt x="9300" y="12869"/>
                </a:cubicBezTo>
                <a:cubicBezTo>
                  <a:pt x="11003" y="13049"/>
                  <a:pt x="12546" y="14424"/>
                  <a:pt x="13604" y="16496"/>
                </a:cubicBezTo>
                <a:lnTo>
                  <a:pt x="13621" y="16487"/>
                </a:lnTo>
                <a:cubicBezTo>
                  <a:pt x="14404" y="17951"/>
                  <a:pt x="15491" y="18900"/>
                  <a:pt x="16875" y="18900"/>
                </a:cubicBezTo>
                <a:cubicBezTo>
                  <a:pt x="19977" y="18900"/>
                  <a:pt x="21600" y="14146"/>
                  <a:pt x="21600" y="9450"/>
                </a:cubicBezTo>
                <a:cubicBezTo>
                  <a:pt x="21600" y="4754"/>
                  <a:pt x="19977" y="0"/>
                  <a:pt x="16875"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90" name="AutoShape 47"/>
          <p:cNvSpPr/>
          <p:nvPr/>
        </p:nvSpPr>
        <p:spPr>
          <a:xfrm>
            <a:off x="20148480" y="5154480"/>
            <a:ext cx="928800" cy="928800"/>
          </a:xfrm>
          <a:custGeom>
            <a:avLst/>
            <a:gdLst/>
            <a:ahLst/>
            <a:rect l="l" t="t" r="r" b="b"/>
            <a:pathLst>
              <a:path w="21493" h="21600">
                <a:moveTo>
                  <a:pt x="20123" y="3375"/>
                </a:moveTo>
                <a:lnTo>
                  <a:pt x="8704" y="5400"/>
                </a:lnTo>
                <a:lnTo>
                  <a:pt x="8704" y="4725"/>
                </a:lnTo>
                <a:lnTo>
                  <a:pt x="8704" y="3375"/>
                </a:lnTo>
                <a:lnTo>
                  <a:pt x="20123" y="1350"/>
                </a:lnTo>
                <a:lnTo>
                  <a:pt x="20123" y="2700"/>
                </a:lnTo>
                <a:cubicBezTo>
                  <a:pt x="20123" y="2700"/>
                  <a:pt x="20123" y="3375"/>
                  <a:pt x="20123" y="3375"/>
                </a:cubicBezTo>
                <a:close/>
                <a:moveTo>
                  <a:pt x="17901" y="18014"/>
                </a:moveTo>
                <a:cubicBezTo>
                  <a:pt x="16292" y="18553"/>
                  <a:pt x="14628" y="18026"/>
                  <a:pt x="14188" y="16839"/>
                </a:cubicBezTo>
                <a:cubicBezTo>
                  <a:pt x="13746" y="15652"/>
                  <a:pt x="14691" y="14251"/>
                  <a:pt x="16301" y="13712"/>
                </a:cubicBezTo>
                <a:cubicBezTo>
                  <a:pt x="17910" y="13173"/>
                  <a:pt x="19574" y="13699"/>
                  <a:pt x="20015" y="14887"/>
                </a:cubicBezTo>
                <a:cubicBezTo>
                  <a:pt x="20457" y="16075"/>
                  <a:pt x="19511" y="17475"/>
                  <a:pt x="17901" y="18014"/>
                </a:cubicBezTo>
                <a:moveTo>
                  <a:pt x="5163" y="20039"/>
                </a:moveTo>
                <a:cubicBezTo>
                  <a:pt x="3554" y="20578"/>
                  <a:pt x="1890" y="20051"/>
                  <a:pt x="1450" y="18864"/>
                </a:cubicBezTo>
                <a:cubicBezTo>
                  <a:pt x="1008" y="17677"/>
                  <a:pt x="1954" y="16276"/>
                  <a:pt x="3563" y="15737"/>
                </a:cubicBezTo>
                <a:cubicBezTo>
                  <a:pt x="5172" y="15198"/>
                  <a:pt x="6836" y="15724"/>
                  <a:pt x="7277" y="16912"/>
                </a:cubicBezTo>
                <a:cubicBezTo>
                  <a:pt x="7719" y="18100"/>
                  <a:pt x="6773" y="19500"/>
                  <a:pt x="5163" y="20039"/>
                </a:cubicBezTo>
                <a:moveTo>
                  <a:pt x="21013" y="316"/>
                </a:moveTo>
                <a:cubicBezTo>
                  <a:pt x="20770" y="111"/>
                  <a:pt x="20463" y="0"/>
                  <a:pt x="20150" y="0"/>
                </a:cubicBezTo>
                <a:cubicBezTo>
                  <a:pt x="20072" y="0"/>
                  <a:pt x="19994" y="7"/>
                  <a:pt x="19916" y="21"/>
                </a:cubicBezTo>
                <a:lnTo>
                  <a:pt x="8497" y="2046"/>
                </a:lnTo>
                <a:cubicBezTo>
                  <a:pt x="7856" y="2159"/>
                  <a:pt x="7387" y="2720"/>
                  <a:pt x="7387" y="3375"/>
                </a:cubicBezTo>
                <a:lnTo>
                  <a:pt x="7387" y="4725"/>
                </a:lnTo>
                <a:lnTo>
                  <a:pt x="7387" y="5400"/>
                </a:lnTo>
                <a:lnTo>
                  <a:pt x="7387" y="14965"/>
                </a:lnTo>
                <a:cubicBezTo>
                  <a:pt x="6706" y="14468"/>
                  <a:pt x="5822" y="14175"/>
                  <a:pt x="4839" y="14175"/>
                </a:cubicBezTo>
                <a:cubicBezTo>
                  <a:pt x="4268" y="14175"/>
                  <a:pt x="3697" y="14270"/>
                  <a:pt x="3140" y="14456"/>
                </a:cubicBezTo>
                <a:cubicBezTo>
                  <a:pt x="1866" y="14883"/>
                  <a:pt x="843" y="15740"/>
                  <a:pt x="336" y="16808"/>
                </a:cubicBezTo>
                <a:cubicBezTo>
                  <a:pt x="-56" y="17633"/>
                  <a:pt x="-107" y="18531"/>
                  <a:pt x="193" y="19336"/>
                </a:cubicBezTo>
                <a:cubicBezTo>
                  <a:pt x="703" y="20711"/>
                  <a:pt x="2156" y="21600"/>
                  <a:pt x="3892" y="21600"/>
                </a:cubicBezTo>
                <a:cubicBezTo>
                  <a:pt x="4463" y="21600"/>
                  <a:pt x="5033" y="21506"/>
                  <a:pt x="5590" y="21319"/>
                </a:cubicBezTo>
                <a:cubicBezTo>
                  <a:pt x="6865" y="20893"/>
                  <a:pt x="7887" y="20036"/>
                  <a:pt x="8395" y="18970"/>
                </a:cubicBezTo>
                <a:cubicBezTo>
                  <a:pt x="8612" y="18510"/>
                  <a:pt x="8715" y="18027"/>
                  <a:pt x="8719" y="17550"/>
                </a:cubicBezTo>
                <a:lnTo>
                  <a:pt x="8731" y="17550"/>
                </a:lnTo>
                <a:lnTo>
                  <a:pt x="8731" y="6750"/>
                </a:lnTo>
                <a:cubicBezTo>
                  <a:pt x="8808" y="6750"/>
                  <a:pt x="8887" y="6743"/>
                  <a:pt x="8964" y="6730"/>
                </a:cubicBezTo>
                <a:lnTo>
                  <a:pt x="20150" y="4746"/>
                </a:lnTo>
                <a:lnTo>
                  <a:pt x="20150" y="12940"/>
                </a:lnTo>
                <a:cubicBezTo>
                  <a:pt x="19469" y="12443"/>
                  <a:pt x="18585" y="12150"/>
                  <a:pt x="17601" y="12150"/>
                </a:cubicBezTo>
                <a:cubicBezTo>
                  <a:pt x="17030" y="12150"/>
                  <a:pt x="16460" y="12245"/>
                  <a:pt x="15902" y="12431"/>
                </a:cubicBezTo>
                <a:cubicBezTo>
                  <a:pt x="14628" y="12858"/>
                  <a:pt x="13606" y="13715"/>
                  <a:pt x="13099" y="14783"/>
                </a:cubicBezTo>
                <a:cubicBezTo>
                  <a:pt x="12707" y="15608"/>
                  <a:pt x="12657" y="16506"/>
                  <a:pt x="12956" y="17311"/>
                </a:cubicBezTo>
                <a:cubicBezTo>
                  <a:pt x="13466" y="18686"/>
                  <a:pt x="14918" y="19575"/>
                  <a:pt x="16654" y="19575"/>
                </a:cubicBezTo>
                <a:cubicBezTo>
                  <a:pt x="17224" y="19575"/>
                  <a:pt x="17796" y="19481"/>
                  <a:pt x="18353" y="19294"/>
                </a:cubicBezTo>
                <a:cubicBezTo>
                  <a:pt x="19628" y="18868"/>
                  <a:pt x="20650" y="18011"/>
                  <a:pt x="21157" y="16945"/>
                </a:cubicBezTo>
                <a:cubicBezTo>
                  <a:pt x="21375" y="16485"/>
                  <a:pt x="21477" y="16002"/>
                  <a:pt x="21481" y="15525"/>
                </a:cubicBezTo>
                <a:lnTo>
                  <a:pt x="21493" y="15525"/>
                </a:lnTo>
                <a:lnTo>
                  <a:pt x="21493" y="3375"/>
                </a:lnTo>
                <a:lnTo>
                  <a:pt x="21493" y="2700"/>
                </a:lnTo>
                <a:lnTo>
                  <a:pt x="21493" y="1350"/>
                </a:lnTo>
                <a:cubicBezTo>
                  <a:pt x="21493" y="952"/>
                  <a:pt x="21317" y="572"/>
                  <a:pt x="21013" y="316"/>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91" name="AutoShape 48"/>
          <p:cNvSpPr/>
          <p:nvPr/>
        </p:nvSpPr>
        <p:spPr>
          <a:xfrm>
            <a:off x="18348480" y="5154480"/>
            <a:ext cx="812520" cy="928800"/>
          </a:xfrm>
          <a:custGeom>
            <a:avLst/>
            <a:gdLst/>
            <a:ahLst/>
            <a:rect l="l" t="t" r="r" b="b"/>
            <a:pathLst>
              <a:path w="21600" h="21600">
                <a:moveTo>
                  <a:pt x="10800" y="7425"/>
                </a:moveTo>
                <a:cubicBezTo>
                  <a:pt x="5687" y="7425"/>
                  <a:pt x="1543" y="6064"/>
                  <a:pt x="1543" y="4387"/>
                </a:cubicBezTo>
                <a:cubicBezTo>
                  <a:pt x="1543" y="2709"/>
                  <a:pt x="5687" y="1350"/>
                  <a:pt x="10800" y="1350"/>
                </a:cubicBezTo>
                <a:cubicBezTo>
                  <a:pt x="15913" y="1350"/>
                  <a:pt x="20057" y="2709"/>
                  <a:pt x="20057" y="4387"/>
                </a:cubicBezTo>
                <a:cubicBezTo>
                  <a:pt x="20057" y="6064"/>
                  <a:pt x="15913" y="7425"/>
                  <a:pt x="10800" y="7425"/>
                </a:cubicBezTo>
                <a:moveTo>
                  <a:pt x="20057" y="9113"/>
                </a:moveTo>
                <a:lnTo>
                  <a:pt x="20054" y="9113"/>
                </a:lnTo>
                <a:cubicBezTo>
                  <a:pt x="20054" y="9119"/>
                  <a:pt x="20057" y="9127"/>
                  <a:pt x="20057" y="9134"/>
                </a:cubicBezTo>
                <a:cubicBezTo>
                  <a:pt x="20057" y="10800"/>
                  <a:pt x="15912" y="12150"/>
                  <a:pt x="10800" y="12150"/>
                </a:cubicBezTo>
                <a:cubicBezTo>
                  <a:pt x="5688" y="12150"/>
                  <a:pt x="1543" y="10800"/>
                  <a:pt x="1543" y="9134"/>
                </a:cubicBezTo>
                <a:cubicBezTo>
                  <a:pt x="1543" y="9127"/>
                  <a:pt x="1546" y="9119"/>
                  <a:pt x="1546" y="9113"/>
                </a:cubicBezTo>
                <a:lnTo>
                  <a:pt x="1543" y="9113"/>
                </a:lnTo>
                <a:lnTo>
                  <a:pt x="1543" y="6794"/>
                </a:lnTo>
                <a:cubicBezTo>
                  <a:pt x="3565" y="8141"/>
                  <a:pt x="7271" y="8775"/>
                  <a:pt x="10800" y="8775"/>
                </a:cubicBezTo>
                <a:cubicBezTo>
                  <a:pt x="14329" y="8775"/>
                  <a:pt x="18035" y="8141"/>
                  <a:pt x="20057" y="6794"/>
                </a:cubicBezTo>
                <a:cubicBezTo>
                  <a:pt x="20057" y="6794"/>
                  <a:pt x="20057" y="9113"/>
                  <a:pt x="20057" y="9113"/>
                </a:cubicBezTo>
                <a:close/>
                <a:moveTo>
                  <a:pt x="20057" y="13163"/>
                </a:moveTo>
                <a:lnTo>
                  <a:pt x="20054" y="13163"/>
                </a:lnTo>
                <a:cubicBezTo>
                  <a:pt x="20054" y="13169"/>
                  <a:pt x="20057" y="13177"/>
                  <a:pt x="20057" y="13184"/>
                </a:cubicBezTo>
                <a:cubicBezTo>
                  <a:pt x="20057" y="14850"/>
                  <a:pt x="15912" y="16200"/>
                  <a:pt x="10800" y="16200"/>
                </a:cubicBezTo>
                <a:cubicBezTo>
                  <a:pt x="5688" y="16200"/>
                  <a:pt x="1543" y="14850"/>
                  <a:pt x="1543" y="13184"/>
                </a:cubicBezTo>
                <a:cubicBezTo>
                  <a:pt x="1543" y="13177"/>
                  <a:pt x="1546" y="13169"/>
                  <a:pt x="1546" y="13163"/>
                </a:cubicBezTo>
                <a:lnTo>
                  <a:pt x="1543" y="13163"/>
                </a:lnTo>
                <a:lnTo>
                  <a:pt x="1543" y="10640"/>
                </a:lnTo>
                <a:cubicBezTo>
                  <a:pt x="3137" y="12077"/>
                  <a:pt x="6982" y="12825"/>
                  <a:pt x="10800" y="12825"/>
                </a:cubicBezTo>
                <a:cubicBezTo>
                  <a:pt x="14618" y="12825"/>
                  <a:pt x="18463" y="12077"/>
                  <a:pt x="20057" y="10640"/>
                </a:cubicBezTo>
                <a:cubicBezTo>
                  <a:pt x="20057" y="10640"/>
                  <a:pt x="20057" y="13163"/>
                  <a:pt x="20057" y="13163"/>
                </a:cubicBezTo>
                <a:close/>
                <a:moveTo>
                  <a:pt x="20057" y="17213"/>
                </a:moveTo>
                <a:cubicBezTo>
                  <a:pt x="20057" y="18889"/>
                  <a:pt x="15913" y="20250"/>
                  <a:pt x="10800" y="20250"/>
                </a:cubicBezTo>
                <a:cubicBezTo>
                  <a:pt x="5687" y="20250"/>
                  <a:pt x="1543" y="18889"/>
                  <a:pt x="1543" y="17213"/>
                </a:cubicBezTo>
                <a:lnTo>
                  <a:pt x="1543" y="14690"/>
                </a:lnTo>
                <a:cubicBezTo>
                  <a:pt x="3137" y="16127"/>
                  <a:pt x="6982" y="16875"/>
                  <a:pt x="10800" y="16875"/>
                </a:cubicBezTo>
                <a:cubicBezTo>
                  <a:pt x="14618" y="16875"/>
                  <a:pt x="18463" y="16127"/>
                  <a:pt x="20057" y="14690"/>
                </a:cubicBezTo>
                <a:cubicBezTo>
                  <a:pt x="20057" y="14690"/>
                  <a:pt x="20057" y="17213"/>
                  <a:pt x="20057" y="17213"/>
                </a:cubicBezTo>
                <a:close/>
                <a:moveTo>
                  <a:pt x="10800" y="0"/>
                </a:moveTo>
                <a:cubicBezTo>
                  <a:pt x="5598" y="0"/>
                  <a:pt x="0" y="1372"/>
                  <a:pt x="0" y="4387"/>
                </a:cubicBezTo>
                <a:lnTo>
                  <a:pt x="0" y="17213"/>
                </a:lnTo>
                <a:cubicBezTo>
                  <a:pt x="0" y="20226"/>
                  <a:pt x="5598" y="21600"/>
                  <a:pt x="10800" y="21600"/>
                </a:cubicBezTo>
                <a:cubicBezTo>
                  <a:pt x="16002" y="21600"/>
                  <a:pt x="21600" y="20226"/>
                  <a:pt x="21600" y="17213"/>
                </a:cubicBezTo>
                <a:lnTo>
                  <a:pt x="21600" y="4387"/>
                </a:lnTo>
                <a:cubicBezTo>
                  <a:pt x="21600" y="1372"/>
                  <a:pt x="16002"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92" name="AutoShape 49"/>
          <p:cNvSpPr/>
          <p:nvPr/>
        </p:nvSpPr>
        <p:spPr>
          <a:xfrm>
            <a:off x="18986400" y="5880240"/>
            <a:ext cx="58680" cy="56880"/>
          </a:xfrm>
          <a:custGeom>
            <a:avLst/>
            <a:gdLst/>
            <a:ahLst/>
            <a:rect l="l" t="t" r="r" b="b"/>
            <a:pathLst>
              <a:path w="21600" h="21600">
                <a:moveTo>
                  <a:pt x="10800" y="21600"/>
                </a:moveTo>
                <a:cubicBezTo>
                  <a:pt x="16770" y="21600"/>
                  <a:pt x="21600" y="16770"/>
                  <a:pt x="21600" y="10800"/>
                </a:cubicBezTo>
                <a:cubicBezTo>
                  <a:pt x="21600" y="4830"/>
                  <a:pt x="16770" y="0"/>
                  <a:pt x="10800" y="0"/>
                </a:cubicBezTo>
                <a:cubicBezTo>
                  <a:pt x="4830" y="0"/>
                  <a:pt x="0" y="4830"/>
                  <a:pt x="0" y="10800"/>
                </a:cubicBezTo>
                <a:cubicBezTo>
                  <a:pt x="0" y="16770"/>
                  <a:pt x="4830" y="21600"/>
                  <a:pt x="108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93" name="AutoShape 50"/>
          <p:cNvSpPr/>
          <p:nvPr/>
        </p:nvSpPr>
        <p:spPr>
          <a:xfrm>
            <a:off x="18986400" y="5705640"/>
            <a:ext cx="58680" cy="58680"/>
          </a:xfrm>
          <a:custGeom>
            <a:avLst/>
            <a:gdLst/>
            <a:ahLst/>
            <a:rect l="l" t="t" r="r" b="b"/>
            <a:pathLst>
              <a:path w="21600" h="21600">
                <a:moveTo>
                  <a:pt x="10800" y="21600"/>
                </a:moveTo>
                <a:cubicBezTo>
                  <a:pt x="16770" y="21600"/>
                  <a:pt x="21600" y="16770"/>
                  <a:pt x="21600" y="10800"/>
                </a:cubicBezTo>
                <a:cubicBezTo>
                  <a:pt x="21600" y="4830"/>
                  <a:pt x="16770" y="0"/>
                  <a:pt x="10800" y="0"/>
                </a:cubicBezTo>
                <a:cubicBezTo>
                  <a:pt x="4830" y="0"/>
                  <a:pt x="0" y="4830"/>
                  <a:pt x="0" y="10800"/>
                </a:cubicBezTo>
                <a:cubicBezTo>
                  <a:pt x="0" y="16770"/>
                  <a:pt x="4830" y="21600"/>
                  <a:pt x="108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94" name="AutoShape 51"/>
          <p:cNvSpPr/>
          <p:nvPr/>
        </p:nvSpPr>
        <p:spPr>
          <a:xfrm>
            <a:off x="18986400" y="5530680"/>
            <a:ext cx="58680" cy="59040"/>
          </a:xfrm>
          <a:custGeom>
            <a:avLst/>
            <a:gdLst/>
            <a:ahLst/>
            <a:rect l="l" t="t" r="r" b="b"/>
            <a:pathLst>
              <a:path w="21600" h="21600">
                <a:moveTo>
                  <a:pt x="10800" y="21600"/>
                </a:moveTo>
                <a:cubicBezTo>
                  <a:pt x="16770" y="21600"/>
                  <a:pt x="21600" y="16770"/>
                  <a:pt x="21600" y="10800"/>
                </a:cubicBezTo>
                <a:cubicBezTo>
                  <a:pt x="21600" y="4830"/>
                  <a:pt x="16770" y="0"/>
                  <a:pt x="10800" y="0"/>
                </a:cubicBezTo>
                <a:cubicBezTo>
                  <a:pt x="4830" y="0"/>
                  <a:pt x="0" y="4830"/>
                  <a:pt x="0" y="10800"/>
                </a:cubicBezTo>
                <a:cubicBezTo>
                  <a:pt x="0" y="16770"/>
                  <a:pt x="4830" y="21600"/>
                  <a:pt x="108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95" name="AutoShape 52"/>
          <p:cNvSpPr/>
          <p:nvPr/>
        </p:nvSpPr>
        <p:spPr>
          <a:xfrm>
            <a:off x="16432200" y="5154480"/>
            <a:ext cx="928800" cy="928800"/>
          </a:xfrm>
          <a:custGeom>
            <a:avLst/>
            <a:gdLst/>
            <a:ahLst/>
            <a:rect l="l" t="t" r="r" b="b"/>
            <a:pathLst>
              <a:path w="21426" h="21453">
                <a:moveTo>
                  <a:pt x="8035" y="20113"/>
                </a:moveTo>
                <a:cubicBezTo>
                  <a:pt x="5817" y="17892"/>
                  <a:pt x="3557" y="15628"/>
                  <a:pt x="1338" y="13409"/>
                </a:cubicBezTo>
                <a:cubicBezTo>
                  <a:pt x="3241" y="7240"/>
                  <a:pt x="11489" y="7510"/>
                  <a:pt x="13391" y="1341"/>
                </a:cubicBezTo>
                <a:cubicBezTo>
                  <a:pt x="15609" y="3561"/>
                  <a:pt x="17870" y="5825"/>
                  <a:pt x="20088" y="8045"/>
                </a:cubicBezTo>
                <a:cubicBezTo>
                  <a:pt x="18185" y="14213"/>
                  <a:pt x="9937" y="13944"/>
                  <a:pt x="8035" y="20113"/>
                </a:cubicBezTo>
                <a:moveTo>
                  <a:pt x="21034" y="7097"/>
                </a:moveTo>
                <a:lnTo>
                  <a:pt x="14339" y="393"/>
                </a:lnTo>
                <a:cubicBezTo>
                  <a:pt x="14006" y="61"/>
                  <a:pt x="13525" y="-73"/>
                  <a:pt x="13070" y="40"/>
                </a:cubicBezTo>
                <a:cubicBezTo>
                  <a:pt x="12829" y="99"/>
                  <a:pt x="12614" y="223"/>
                  <a:pt x="12444" y="393"/>
                </a:cubicBezTo>
                <a:cubicBezTo>
                  <a:pt x="12292" y="546"/>
                  <a:pt x="12178" y="734"/>
                  <a:pt x="12112" y="944"/>
                </a:cubicBezTo>
                <a:cubicBezTo>
                  <a:pt x="11808" y="1929"/>
                  <a:pt x="11284" y="2785"/>
                  <a:pt x="10508" y="3563"/>
                </a:cubicBezTo>
                <a:cubicBezTo>
                  <a:pt x="9472" y="4599"/>
                  <a:pt x="8122" y="5385"/>
                  <a:pt x="6693" y="6215"/>
                </a:cubicBezTo>
                <a:cubicBezTo>
                  <a:pt x="5177" y="7095"/>
                  <a:pt x="3612" y="8006"/>
                  <a:pt x="2328" y="9291"/>
                </a:cubicBezTo>
                <a:cubicBezTo>
                  <a:pt x="1237" y="10384"/>
                  <a:pt x="494" y="11600"/>
                  <a:pt x="59" y="13012"/>
                </a:cubicBezTo>
                <a:cubicBezTo>
                  <a:pt x="-87" y="13489"/>
                  <a:pt x="41" y="14004"/>
                  <a:pt x="392" y="14357"/>
                </a:cubicBezTo>
                <a:lnTo>
                  <a:pt x="7087" y="21061"/>
                </a:lnTo>
                <a:cubicBezTo>
                  <a:pt x="7420" y="21393"/>
                  <a:pt x="7901" y="21527"/>
                  <a:pt x="8356" y="21414"/>
                </a:cubicBezTo>
                <a:cubicBezTo>
                  <a:pt x="8597" y="21354"/>
                  <a:pt x="8812" y="21231"/>
                  <a:pt x="8982" y="21061"/>
                </a:cubicBezTo>
                <a:cubicBezTo>
                  <a:pt x="9134" y="20909"/>
                  <a:pt x="9248" y="20720"/>
                  <a:pt x="9314" y="20508"/>
                </a:cubicBezTo>
                <a:cubicBezTo>
                  <a:pt x="9618" y="19524"/>
                  <a:pt x="10142" y="18667"/>
                  <a:pt x="10919" y="17891"/>
                </a:cubicBezTo>
                <a:cubicBezTo>
                  <a:pt x="11955" y="16854"/>
                  <a:pt x="13304" y="16069"/>
                  <a:pt x="14733" y="15239"/>
                </a:cubicBezTo>
                <a:cubicBezTo>
                  <a:pt x="16249" y="14358"/>
                  <a:pt x="17814" y="13447"/>
                  <a:pt x="19098" y="12162"/>
                </a:cubicBezTo>
                <a:cubicBezTo>
                  <a:pt x="20189" y="11070"/>
                  <a:pt x="20932" y="9852"/>
                  <a:pt x="21367" y="8441"/>
                </a:cubicBezTo>
                <a:cubicBezTo>
                  <a:pt x="21513" y="7965"/>
                  <a:pt x="21385" y="7448"/>
                  <a:pt x="21034" y="7097"/>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96" name="AutoShape 53"/>
          <p:cNvSpPr/>
          <p:nvPr/>
        </p:nvSpPr>
        <p:spPr>
          <a:xfrm>
            <a:off x="16781400" y="5473800"/>
            <a:ext cx="250920" cy="260280"/>
          </a:xfrm>
          <a:custGeom>
            <a:avLst/>
            <a:gdLst/>
            <a:ahLst/>
            <a:rect l="l" t="t" r="r" b="b"/>
            <a:pathLst>
              <a:path w="21484" h="21516">
                <a:moveTo>
                  <a:pt x="17511" y="14987"/>
                </a:moveTo>
                <a:cubicBezTo>
                  <a:pt x="17288" y="15385"/>
                  <a:pt x="17032" y="15740"/>
                  <a:pt x="16731" y="16049"/>
                </a:cubicBezTo>
                <a:cubicBezTo>
                  <a:pt x="15341" y="14693"/>
                  <a:pt x="13948" y="13205"/>
                  <a:pt x="12560" y="11676"/>
                </a:cubicBezTo>
                <a:cubicBezTo>
                  <a:pt x="12912" y="11521"/>
                  <a:pt x="13287" y="11362"/>
                  <a:pt x="13690" y="11199"/>
                </a:cubicBezTo>
                <a:cubicBezTo>
                  <a:pt x="14092" y="11035"/>
                  <a:pt x="14495" y="10927"/>
                  <a:pt x="14896" y="10862"/>
                </a:cubicBezTo>
                <a:cubicBezTo>
                  <a:pt x="15308" y="10801"/>
                  <a:pt x="15715" y="10820"/>
                  <a:pt x="16123" y="10913"/>
                </a:cubicBezTo>
                <a:cubicBezTo>
                  <a:pt x="16528" y="11012"/>
                  <a:pt x="16910" y="11222"/>
                  <a:pt x="17262" y="11554"/>
                </a:cubicBezTo>
                <a:cubicBezTo>
                  <a:pt x="17613" y="11891"/>
                  <a:pt x="17836" y="12244"/>
                  <a:pt x="17923" y="12621"/>
                </a:cubicBezTo>
                <a:cubicBezTo>
                  <a:pt x="18020" y="13004"/>
                  <a:pt x="18025" y="13392"/>
                  <a:pt x="17958" y="13790"/>
                </a:cubicBezTo>
                <a:cubicBezTo>
                  <a:pt x="17883" y="14187"/>
                  <a:pt x="17739" y="14585"/>
                  <a:pt x="17511" y="14987"/>
                </a:cubicBezTo>
                <a:moveTo>
                  <a:pt x="5799" y="10193"/>
                </a:moveTo>
                <a:cubicBezTo>
                  <a:pt x="5096" y="10221"/>
                  <a:pt x="4483" y="9997"/>
                  <a:pt x="3947" y="9496"/>
                </a:cubicBezTo>
                <a:cubicBezTo>
                  <a:pt x="3718" y="9286"/>
                  <a:pt x="3559" y="9028"/>
                  <a:pt x="3462" y="8724"/>
                </a:cubicBezTo>
                <a:cubicBezTo>
                  <a:pt x="3360" y="8420"/>
                  <a:pt x="3326" y="8088"/>
                  <a:pt x="3366" y="7723"/>
                </a:cubicBezTo>
                <a:cubicBezTo>
                  <a:pt x="3398" y="7363"/>
                  <a:pt x="3509" y="6989"/>
                  <a:pt x="3703" y="6610"/>
                </a:cubicBezTo>
                <a:cubicBezTo>
                  <a:pt x="3890" y="6231"/>
                  <a:pt x="4160" y="5852"/>
                  <a:pt x="4511" y="5488"/>
                </a:cubicBezTo>
                <a:cubicBezTo>
                  <a:pt x="5769" y="6694"/>
                  <a:pt x="7023" y="8018"/>
                  <a:pt x="8282" y="9389"/>
                </a:cubicBezTo>
                <a:cubicBezTo>
                  <a:pt x="7331" y="9894"/>
                  <a:pt x="6501" y="10165"/>
                  <a:pt x="5799" y="10193"/>
                </a:cubicBezTo>
                <a:moveTo>
                  <a:pt x="19679" y="8570"/>
                </a:moveTo>
                <a:cubicBezTo>
                  <a:pt x="18869" y="7915"/>
                  <a:pt x="18055" y="7471"/>
                  <a:pt x="17236" y="7251"/>
                </a:cubicBezTo>
                <a:cubicBezTo>
                  <a:pt x="16421" y="7031"/>
                  <a:pt x="15604" y="6942"/>
                  <a:pt x="14779" y="6998"/>
                </a:cubicBezTo>
                <a:cubicBezTo>
                  <a:pt x="13965" y="7059"/>
                  <a:pt x="13131" y="7237"/>
                  <a:pt x="12297" y="7546"/>
                </a:cubicBezTo>
                <a:cubicBezTo>
                  <a:pt x="11462" y="7859"/>
                  <a:pt x="10626" y="8200"/>
                  <a:pt x="9782" y="8593"/>
                </a:cubicBezTo>
                <a:cubicBezTo>
                  <a:pt x="8448" y="7115"/>
                  <a:pt x="7115" y="5658"/>
                  <a:pt x="5779" y="4300"/>
                </a:cubicBezTo>
                <a:cubicBezTo>
                  <a:pt x="6382" y="3776"/>
                  <a:pt x="6963" y="3509"/>
                  <a:pt x="7527" y="3490"/>
                </a:cubicBezTo>
                <a:cubicBezTo>
                  <a:pt x="8088" y="3467"/>
                  <a:pt x="8631" y="3523"/>
                  <a:pt x="9145" y="3649"/>
                </a:cubicBezTo>
                <a:cubicBezTo>
                  <a:pt x="9669" y="3776"/>
                  <a:pt x="10149" y="3883"/>
                  <a:pt x="10591" y="3967"/>
                </a:cubicBezTo>
                <a:cubicBezTo>
                  <a:pt x="11038" y="4052"/>
                  <a:pt x="11425" y="3958"/>
                  <a:pt x="11765" y="3682"/>
                </a:cubicBezTo>
                <a:cubicBezTo>
                  <a:pt x="12123" y="3383"/>
                  <a:pt x="12322" y="2995"/>
                  <a:pt x="12351" y="2527"/>
                </a:cubicBezTo>
                <a:cubicBezTo>
                  <a:pt x="12377" y="2054"/>
                  <a:pt x="12190" y="1596"/>
                  <a:pt x="11782" y="1147"/>
                </a:cubicBezTo>
                <a:cubicBezTo>
                  <a:pt x="11259" y="569"/>
                  <a:pt x="10631" y="216"/>
                  <a:pt x="9873" y="85"/>
                </a:cubicBezTo>
                <a:cubicBezTo>
                  <a:pt x="9126" y="-41"/>
                  <a:pt x="8359" y="-29"/>
                  <a:pt x="7565" y="137"/>
                </a:cubicBezTo>
                <a:cubicBezTo>
                  <a:pt x="6780" y="310"/>
                  <a:pt x="6032" y="595"/>
                  <a:pt x="5324" y="997"/>
                </a:cubicBezTo>
                <a:cubicBezTo>
                  <a:pt x="4617" y="1400"/>
                  <a:pt x="4049" y="1811"/>
                  <a:pt x="3627" y="2213"/>
                </a:cubicBezTo>
                <a:cubicBezTo>
                  <a:pt x="3464" y="2066"/>
                  <a:pt x="3303" y="1919"/>
                  <a:pt x="3142" y="1774"/>
                </a:cubicBezTo>
                <a:cubicBezTo>
                  <a:pt x="2963" y="1615"/>
                  <a:pt x="2739" y="1531"/>
                  <a:pt x="2471" y="1535"/>
                </a:cubicBezTo>
                <a:cubicBezTo>
                  <a:pt x="2201" y="1535"/>
                  <a:pt x="1978" y="1648"/>
                  <a:pt x="1794" y="1853"/>
                </a:cubicBezTo>
                <a:cubicBezTo>
                  <a:pt x="1615" y="2054"/>
                  <a:pt x="1530" y="2288"/>
                  <a:pt x="1566" y="2536"/>
                </a:cubicBezTo>
                <a:cubicBezTo>
                  <a:pt x="1590" y="2793"/>
                  <a:pt x="1697" y="2990"/>
                  <a:pt x="1881" y="3140"/>
                </a:cubicBezTo>
                <a:cubicBezTo>
                  <a:pt x="2045" y="3271"/>
                  <a:pt x="2203" y="3402"/>
                  <a:pt x="2365" y="3537"/>
                </a:cubicBezTo>
                <a:cubicBezTo>
                  <a:pt x="1732" y="4276"/>
                  <a:pt x="1208" y="5095"/>
                  <a:pt x="796" y="5958"/>
                </a:cubicBezTo>
                <a:cubicBezTo>
                  <a:pt x="379" y="6821"/>
                  <a:pt x="130" y="7677"/>
                  <a:pt x="38" y="8509"/>
                </a:cubicBezTo>
                <a:cubicBezTo>
                  <a:pt x="-59" y="9346"/>
                  <a:pt x="33" y="10114"/>
                  <a:pt x="299" y="10824"/>
                </a:cubicBezTo>
                <a:cubicBezTo>
                  <a:pt x="567" y="11540"/>
                  <a:pt x="1056" y="12148"/>
                  <a:pt x="1774" y="12723"/>
                </a:cubicBezTo>
                <a:cubicBezTo>
                  <a:pt x="2943" y="13659"/>
                  <a:pt x="4321" y="14057"/>
                  <a:pt x="5916" y="13968"/>
                </a:cubicBezTo>
                <a:cubicBezTo>
                  <a:pt x="7508" y="13874"/>
                  <a:pt x="9223" y="13416"/>
                  <a:pt x="11065" y="12462"/>
                </a:cubicBezTo>
                <a:cubicBezTo>
                  <a:pt x="12533" y="14094"/>
                  <a:pt x="14002" y="15717"/>
                  <a:pt x="15471" y="17223"/>
                </a:cubicBezTo>
                <a:cubicBezTo>
                  <a:pt x="14850" y="17728"/>
                  <a:pt x="14305" y="18018"/>
                  <a:pt x="13827" y="18112"/>
                </a:cubicBezTo>
                <a:cubicBezTo>
                  <a:pt x="13344" y="18210"/>
                  <a:pt x="12917" y="18201"/>
                  <a:pt x="12530" y="18088"/>
                </a:cubicBezTo>
                <a:cubicBezTo>
                  <a:pt x="12143" y="17971"/>
                  <a:pt x="11782" y="17803"/>
                  <a:pt x="11455" y="17588"/>
                </a:cubicBezTo>
                <a:cubicBezTo>
                  <a:pt x="11125" y="17368"/>
                  <a:pt x="10799" y="17181"/>
                  <a:pt x="10474" y="17027"/>
                </a:cubicBezTo>
                <a:cubicBezTo>
                  <a:pt x="10154" y="16872"/>
                  <a:pt x="9823" y="16788"/>
                  <a:pt x="9486" y="16783"/>
                </a:cubicBezTo>
                <a:cubicBezTo>
                  <a:pt x="9145" y="16779"/>
                  <a:pt x="8785" y="16938"/>
                  <a:pt x="8389" y="17265"/>
                </a:cubicBezTo>
                <a:cubicBezTo>
                  <a:pt x="7982" y="17607"/>
                  <a:pt x="7778" y="18004"/>
                  <a:pt x="7778" y="18453"/>
                </a:cubicBezTo>
                <a:cubicBezTo>
                  <a:pt x="7778" y="18898"/>
                  <a:pt x="7991" y="19351"/>
                  <a:pt x="8408" y="19810"/>
                </a:cubicBezTo>
                <a:cubicBezTo>
                  <a:pt x="8830" y="20268"/>
                  <a:pt x="9379" y="20652"/>
                  <a:pt x="10043" y="20956"/>
                </a:cubicBezTo>
                <a:cubicBezTo>
                  <a:pt x="10708" y="21260"/>
                  <a:pt x="11455" y="21451"/>
                  <a:pt x="12280" y="21503"/>
                </a:cubicBezTo>
                <a:cubicBezTo>
                  <a:pt x="13104" y="21559"/>
                  <a:pt x="13971" y="21437"/>
                  <a:pt x="14886" y="21110"/>
                </a:cubicBezTo>
                <a:cubicBezTo>
                  <a:pt x="15808" y="20787"/>
                  <a:pt x="16722" y="20203"/>
                  <a:pt x="17618" y="19333"/>
                </a:cubicBezTo>
                <a:cubicBezTo>
                  <a:pt x="18052" y="19740"/>
                  <a:pt x="18489" y="20128"/>
                  <a:pt x="18921" y="20502"/>
                </a:cubicBezTo>
                <a:cubicBezTo>
                  <a:pt x="19108" y="20656"/>
                  <a:pt x="19328" y="20731"/>
                  <a:pt x="19601" y="20712"/>
                </a:cubicBezTo>
                <a:cubicBezTo>
                  <a:pt x="19862" y="20703"/>
                  <a:pt x="20091" y="20586"/>
                  <a:pt x="20269" y="20376"/>
                </a:cubicBezTo>
                <a:cubicBezTo>
                  <a:pt x="20456" y="20160"/>
                  <a:pt x="20532" y="19922"/>
                  <a:pt x="20503" y="19674"/>
                </a:cubicBezTo>
                <a:cubicBezTo>
                  <a:pt x="20478" y="19421"/>
                  <a:pt x="20371" y="19230"/>
                  <a:pt x="20193" y="19089"/>
                </a:cubicBezTo>
                <a:cubicBezTo>
                  <a:pt x="19755" y="18753"/>
                  <a:pt x="19321" y="18397"/>
                  <a:pt x="18885" y="18023"/>
                </a:cubicBezTo>
                <a:cubicBezTo>
                  <a:pt x="19627" y="17144"/>
                  <a:pt x="20222" y="16217"/>
                  <a:pt x="20664" y="15301"/>
                </a:cubicBezTo>
                <a:cubicBezTo>
                  <a:pt x="21103" y="14379"/>
                  <a:pt x="21368" y="13491"/>
                  <a:pt x="21454" y="12667"/>
                </a:cubicBezTo>
                <a:cubicBezTo>
                  <a:pt x="21541" y="11839"/>
                  <a:pt x="21439" y="11091"/>
                  <a:pt x="21159" y="10413"/>
                </a:cubicBezTo>
                <a:cubicBezTo>
                  <a:pt x="20880" y="9725"/>
                  <a:pt x="20387" y="9136"/>
                  <a:pt x="19679" y="857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97" name="AutoShape 54"/>
          <p:cNvSpPr/>
          <p:nvPr/>
        </p:nvSpPr>
        <p:spPr>
          <a:xfrm>
            <a:off x="16751160" y="5792760"/>
            <a:ext cx="141480" cy="147600"/>
          </a:xfrm>
          <a:custGeom>
            <a:avLst/>
            <a:gdLst/>
            <a:ahLst/>
            <a:rect l="l" t="t" r="r" b="b"/>
            <a:pathLst>
              <a:path w="21188" h="21203">
                <a:moveTo>
                  <a:pt x="17615" y="468"/>
                </a:moveTo>
                <a:lnTo>
                  <a:pt x="17607" y="468"/>
                </a:lnTo>
                <a:cubicBezTo>
                  <a:pt x="14871" y="2476"/>
                  <a:pt x="12201" y="4591"/>
                  <a:pt x="9728" y="6958"/>
                </a:cubicBezTo>
                <a:cubicBezTo>
                  <a:pt x="7349" y="9227"/>
                  <a:pt x="5200" y="11619"/>
                  <a:pt x="3330" y="14060"/>
                </a:cubicBezTo>
                <a:lnTo>
                  <a:pt x="342" y="17962"/>
                </a:lnTo>
                <a:lnTo>
                  <a:pt x="350" y="17970"/>
                </a:lnTo>
                <a:cubicBezTo>
                  <a:pt x="-197" y="18787"/>
                  <a:pt x="-105" y="19880"/>
                  <a:pt x="639" y="20591"/>
                </a:cubicBezTo>
                <a:cubicBezTo>
                  <a:pt x="1492" y="21407"/>
                  <a:pt x="2890" y="21407"/>
                  <a:pt x="3747" y="20591"/>
                </a:cubicBezTo>
                <a:cubicBezTo>
                  <a:pt x="3877" y="20460"/>
                  <a:pt x="3984" y="20321"/>
                  <a:pt x="4070" y="20174"/>
                </a:cubicBezTo>
                <a:lnTo>
                  <a:pt x="6868" y="16517"/>
                </a:lnTo>
                <a:cubicBezTo>
                  <a:pt x="8601" y="14256"/>
                  <a:pt x="10606" y="12027"/>
                  <a:pt x="12825" y="9913"/>
                </a:cubicBezTo>
                <a:cubicBezTo>
                  <a:pt x="15281" y="7570"/>
                  <a:pt x="17558" y="5758"/>
                  <a:pt x="20330" y="3750"/>
                </a:cubicBezTo>
                <a:lnTo>
                  <a:pt x="20321" y="3742"/>
                </a:lnTo>
                <a:cubicBezTo>
                  <a:pt x="20400" y="3685"/>
                  <a:pt x="20473" y="3636"/>
                  <a:pt x="20544" y="3570"/>
                </a:cubicBezTo>
                <a:cubicBezTo>
                  <a:pt x="21403" y="2754"/>
                  <a:pt x="21403" y="1427"/>
                  <a:pt x="20544" y="607"/>
                </a:cubicBezTo>
                <a:cubicBezTo>
                  <a:pt x="19742" y="-160"/>
                  <a:pt x="18472" y="-193"/>
                  <a:pt x="17615" y="468"/>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98" name="AutoShape 55"/>
          <p:cNvSpPr/>
          <p:nvPr/>
        </p:nvSpPr>
        <p:spPr>
          <a:xfrm>
            <a:off x="16897320" y="5299200"/>
            <a:ext cx="142920" cy="149040"/>
          </a:xfrm>
          <a:custGeom>
            <a:avLst/>
            <a:gdLst/>
            <a:ahLst/>
            <a:rect l="l" t="t" r="r" b="b"/>
            <a:pathLst>
              <a:path w="21180" h="21196">
                <a:moveTo>
                  <a:pt x="8372" y="11356"/>
                </a:moveTo>
                <a:cubicBezTo>
                  <a:pt x="6123" y="13509"/>
                  <a:pt x="3676" y="15445"/>
                  <a:pt x="1144" y="17292"/>
                </a:cubicBezTo>
                <a:cubicBezTo>
                  <a:pt x="963" y="17389"/>
                  <a:pt x="787" y="17493"/>
                  <a:pt x="637" y="17646"/>
                </a:cubicBezTo>
                <a:cubicBezTo>
                  <a:pt x="-213" y="18457"/>
                  <a:pt x="-213" y="19774"/>
                  <a:pt x="637" y="20586"/>
                </a:cubicBezTo>
                <a:cubicBezTo>
                  <a:pt x="1464" y="21381"/>
                  <a:pt x="2796" y="21397"/>
                  <a:pt x="3652" y="20642"/>
                </a:cubicBezTo>
                <a:lnTo>
                  <a:pt x="3665" y="20650"/>
                </a:lnTo>
                <a:cubicBezTo>
                  <a:pt x="6365" y="18674"/>
                  <a:pt x="8989" y="16581"/>
                  <a:pt x="11419" y="14264"/>
                </a:cubicBezTo>
                <a:cubicBezTo>
                  <a:pt x="13759" y="12031"/>
                  <a:pt x="15874" y="9685"/>
                  <a:pt x="17715" y="7284"/>
                </a:cubicBezTo>
                <a:lnTo>
                  <a:pt x="20663" y="3428"/>
                </a:lnTo>
                <a:lnTo>
                  <a:pt x="20655" y="3420"/>
                </a:lnTo>
                <a:cubicBezTo>
                  <a:pt x="21387" y="2600"/>
                  <a:pt x="21358" y="1379"/>
                  <a:pt x="20541" y="608"/>
                </a:cubicBezTo>
                <a:cubicBezTo>
                  <a:pt x="19697" y="-203"/>
                  <a:pt x="18323" y="-203"/>
                  <a:pt x="17469" y="608"/>
                </a:cubicBezTo>
                <a:cubicBezTo>
                  <a:pt x="17313" y="761"/>
                  <a:pt x="17197" y="938"/>
                  <a:pt x="17094" y="1114"/>
                </a:cubicBezTo>
                <a:lnTo>
                  <a:pt x="14228" y="4858"/>
                </a:lnTo>
                <a:cubicBezTo>
                  <a:pt x="12526" y="7091"/>
                  <a:pt x="10552" y="9276"/>
                  <a:pt x="8372" y="11356"/>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99" name="AutoShape 56"/>
          <p:cNvSpPr/>
          <p:nvPr/>
        </p:nvSpPr>
        <p:spPr>
          <a:xfrm>
            <a:off x="14574960" y="5154480"/>
            <a:ext cx="290520" cy="928800"/>
          </a:xfrm>
          <a:custGeom>
            <a:avLst/>
            <a:gdLst/>
            <a:ahLst/>
            <a:rect l="l" t="t" r="r" b="b"/>
            <a:pathLst>
              <a:path w="21600" h="21600">
                <a:moveTo>
                  <a:pt x="16989" y="7317"/>
                </a:moveTo>
                <a:cubicBezTo>
                  <a:pt x="16954" y="7352"/>
                  <a:pt x="16924" y="7387"/>
                  <a:pt x="16883" y="7424"/>
                </a:cubicBezTo>
                <a:cubicBezTo>
                  <a:pt x="16678" y="7602"/>
                  <a:pt x="16414" y="7770"/>
                  <a:pt x="16066" y="7921"/>
                </a:cubicBezTo>
                <a:cubicBezTo>
                  <a:pt x="16058" y="7925"/>
                  <a:pt x="16045" y="7927"/>
                  <a:pt x="16039" y="7931"/>
                </a:cubicBezTo>
                <a:cubicBezTo>
                  <a:pt x="15662" y="8092"/>
                  <a:pt x="15215" y="8234"/>
                  <a:pt x="14706" y="8354"/>
                </a:cubicBezTo>
                <a:cubicBezTo>
                  <a:pt x="14697" y="8357"/>
                  <a:pt x="14693" y="8358"/>
                  <a:pt x="14687" y="8360"/>
                </a:cubicBezTo>
                <a:cubicBezTo>
                  <a:pt x="14163" y="8482"/>
                  <a:pt x="13584" y="8581"/>
                  <a:pt x="12960" y="8650"/>
                </a:cubicBezTo>
                <a:cubicBezTo>
                  <a:pt x="12280" y="8726"/>
                  <a:pt x="11560" y="8775"/>
                  <a:pt x="10800" y="8775"/>
                </a:cubicBezTo>
                <a:cubicBezTo>
                  <a:pt x="10037" y="8775"/>
                  <a:pt x="9318" y="8726"/>
                  <a:pt x="8640" y="8650"/>
                </a:cubicBezTo>
                <a:cubicBezTo>
                  <a:pt x="8017" y="8581"/>
                  <a:pt x="7436" y="8482"/>
                  <a:pt x="6915" y="8360"/>
                </a:cubicBezTo>
                <a:cubicBezTo>
                  <a:pt x="6908" y="8358"/>
                  <a:pt x="6902" y="8357"/>
                  <a:pt x="6893" y="8354"/>
                </a:cubicBezTo>
                <a:cubicBezTo>
                  <a:pt x="6385" y="8234"/>
                  <a:pt x="5938" y="8092"/>
                  <a:pt x="5562" y="7931"/>
                </a:cubicBezTo>
                <a:cubicBezTo>
                  <a:pt x="5554" y="7927"/>
                  <a:pt x="5541" y="7925"/>
                  <a:pt x="5532" y="7921"/>
                </a:cubicBezTo>
                <a:cubicBezTo>
                  <a:pt x="5185" y="7770"/>
                  <a:pt x="4921" y="7602"/>
                  <a:pt x="4716" y="7424"/>
                </a:cubicBezTo>
                <a:cubicBezTo>
                  <a:pt x="4676" y="7387"/>
                  <a:pt x="4645" y="7352"/>
                  <a:pt x="4612" y="7317"/>
                </a:cubicBezTo>
                <a:cubicBezTo>
                  <a:pt x="4437" y="7136"/>
                  <a:pt x="4320" y="6948"/>
                  <a:pt x="4320" y="6750"/>
                </a:cubicBezTo>
                <a:cubicBezTo>
                  <a:pt x="4320" y="6551"/>
                  <a:pt x="4437" y="6362"/>
                  <a:pt x="4612" y="6182"/>
                </a:cubicBezTo>
                <a:cubicBezTo>
                  <a:pt x="4645" y="6146"/>
                  <a:pt x="4676" y="6111"/>
                  <a:pt x="4716" y="6076"/>
                </a:cubicBezTo>
                <a:cubicBezTo>
                  <a:pt x="4921" y="5898"/>
                  <a:pt x="5185" y="5730"/>
                  <a:pt x="5532" y="5578"/>
                </a:cubicBezTo>
                <a:cubicBezTo>
                  <a:pt x="5541" y="5574"/>
                  <a:pt x="5554" y="5571"/>
                  <a:pt x="5562" y="5567"/>
                </a:cubicBezTo>
                <a:cubicBezTo>
                  <a:pt x="5938" y="5408"/>
                  <a:pt x="6385" y="5264"/>
                  <a:pt x="6893" y="5144"/>
                </a:cubicBezTo>
                <a:cubicBezTo>
                  <a:pt x="6902" y="5143"/>
                  <a:pt x="6908" y="5140"/>
                  <a:pt x="6915" y="5139"/>
                </a:cubicBezTo>
                <a:cubicBezTo>
                  <a:pt x="7436" y="5018"/>
                  <a:pt x="8017" y="4919"/>
                  <a:pt x="8640" y="4849"/>
                </a:cubicBezTo>
                <a:cubicBezTo>
                  <a:pt x="9318" y="4774"/>
                  <a:pt x="10037" y="4725"/>
                  <a:pt x="10800" y="4725"/>
                </a:cubicBezTo>
                <a:cubicBezTo>
                  <a:pt x="11560" y="4725"/>
                  <a:pt x="12280" y="4774"/>
                  <a:pt x="12960" y="4849"/>
                </a:cubicBezTo>
                <a:cubicBezTo>
                  <a:pt x="13584" y="4919"/>
                  <a:pt x="14163" y="5018"/>
                  <a:pt x="14687" y="5139"/>
                </a:cubicBezTo>
                <a:cubicBezTo>
                  <a:pt x="14693" y="5140"/>
                  <a:pt x="14697" y="5143"/>
                  <a:pt x="14706" y="5144"/>
                </a:cubicBezTo>
                <a:cubicBezTo>
                  <a:pt x="15215" y="5264"/>
                  <a:pt x="15662" y="5408"/>
                  <a:pt x="16039" y="5567"/>
                </a:cubicBezTo>
                <a:cubicBezTo>
                  <a:pt x="16045" y="5571"/>
                  <a:pt x="16058" y="5574"/>
                  <a:pt x="16066" y="5578"/>
                </a:cubicBezTo>
                <a:cubicBezTo>
                  <a:pt x="16414" y="5730"/>
                  <a:pt x="16678" y="5898"/>
                  <a:pt x="16883" y="6076"/>
                </a:cubicBezTo>
                <a:cubicBezTo>
                  <a:pt x="16924" y="6111"/>
                  <a:pt x="16954" y="6146"/>
                  <a:pt x="16989" y="6182"/>
                </a:cubicBezTo>
                <a:cubicBezTo>
                  <a:pt x="17162" y="6362"/>
                  <a:pt x="17280" y="6551"/>
                  <a:pt x="17280" y="6750"/>
                </a:cubicBezTo>
                <a:cubicBezTo>
                  <a:pt x="17280" y="6948"/>
                  <a:pt x="17162" y="7136"/>
                  <a:pt x="16989" y="7317"/>
                </a:cubicBezTo>
                <a:moveTo>
                  <a:pt x="12960" y="19575"/>
                </a:moveTo>
                <a:cubicBezTo>
                  <a:pt x="12960" y="19948"/>
                  <a:pt x="11993" y="20250"/>
                  <a:pt x="10800" y="20250"/>
                </a:cubicBezTo>
                <a:cubicBezTo>
                  <a:pt x="9606" y="20250"/>
                  <a:pt x="8640" y="19948"/>
                  <a:pt x="8640" y="19575"/>
                </a:cubicBezTo>
                <a:lnTo>
                  <a:pt x="8640" y="10056"/>
                </a:lnTo>
                <a:cubicBezTo>
                  <a:pt x="9338" y="10101"/>
                  <a:pt x="10060" y="10125"/>
                  <a:pt x="10800" y="10125"/>
                </a:cubicBezTo>
                <a:cubicBezTo>
                  <a:pt x="11541" y="10125"/>
                  <a:pt x="12263" y="10101"/>
                  <a:pt x="12960" y="10056"/>
                </a:cubicBezTo>
                <a:cubicBezTo>
                  <a:pt x="12960" y="10056"/>
                  <a:pt x="12960" y="19575"/>
                  <a:pt x="12960" y="19575"/>
                </a:cubicBezTo>
                <a:close/>
                <a:moveTo>
                  <a:pt x="8640" y="2025"/>
                </a:moveTo>
                <a:cubicBezTo>
                  <a:pt x="8640" y="1652"/>
                  <a:pt x="9606" y="1350"/>
                  <a:pt x="10800" y="1350"/>
                </a:cubicBezTo>
                <a:cubicBezTo>
                  <a:pt x="11993" y="1350"/>
                  <a:pt x="12960" y="1652"/>
                  <a:pt x="12960" y="2025"/>
                </a:cubicBezTo>
                <a:lnTo>
                  <a:pt x="12960" y="3442"/>
                </a:lnTo>
                <a:cubicBezTo>
                  <a:pt x="12263" y="3399"/>
                  <a:pt x="11541" y="3375"/>
                  <a:pt x="10800" y="3375"/>
                </a:cubicBezTo>
                <a:cubicBezTo>
                  <a:pt x="10060" y="3375"/>
                  <a:pt x="9338" y="3399"/>
                  <a:pt x="8640" y="3442"/>
                </a:cubicBezTo>
                <a:cubicBezTo>
                  <a:pt x="8640" y="3442"/>
                  <a:pt x="8640" y="2025"/>
                  <a:pt x="8640" y="2025"/>
                </a:cubicBezTo>
                <a:close/>
                <a:moveTo>
                  <a:pt x="17280" y="4065"/>
                </a:moveTo>
                <a:lnTo>
                  <a:pt x="17280" y="2025"/>
                </a:lnTo>
                <a:cubicBezTo>
                  <a:pt x="17280" y="908"/>
                  <a:pt x="14373" y="0"/>
                  <a:pt x="10800" y="0"/>
                </a:cubicBezTo>
                <a:cubicBezTo>
                  <a:pt x="7226" y="0"/>
                  <a:pt x="4320" y="908"/>
                  <a:pt x="4320" y="2025"/>
                </a:cubicBezTo>
                <a:lnTo>
                  <a:pt x="4320" y="4065"/>
                </a:lnTo>
                <a:cubicBezTo>
                  <a:pt x="1711" y="4681"/>
                  <a:pt x="0" y="5649"/>
                  <a:pt x="0" y="6750"/>
                </a:cubicBezTo>
                <a:cubicBezTo>
                  <a:pt x="0" y="7851"/>
                  <a:pt x="1711" y="8819"/>
                  <a:pt x="4320" y="9434"/>
                </a:cubicBezTo>
                <a:lnTo>
                  <a:pt x="4320" y="19575"/>
                </a:lnTo>
                <a:cubicBezTo>
                  <a:pt x="4320" y="20692"/>
                  <a:pt x="7226" y="21600"/>
                  <a:pt x="10800" y="21600"/>
                </a:cubicBezTo>
                <a:cubicBezTo>
                  <a:pt x="14373" y="21600"/>
                  <a:pt x="17280" y="20692"/>
                  <a:pt x="17280" y="19575"/>
                </a:cubicBezTo>
                <a:lnTo>
                  <a:pt x="17280" y="9434"/>
                </a:lnTo>
                <a:cubicBezTo>
                  <a:pt x="19889" y="8819"/>
                  <a:pt x="21600" y="7851"/>
                  <a:pt x="21600" y="6750"/>
                </a:cubicBezTo>
                <a:cubicBezTo>
                  <a:pt x="21600" y="5649"/>
                  <a:pt x="19889" y="4681"/>
                  <a:pt x="17280" y="4065"/>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00" name="AutoShape 57"/>
          <p:cNvSpPr/>
          <p:nvPr/>
        </p:nvSpPr>
        <p:spPr>
          <a:xfrm>
            <a:off x="15212880" y="5154480"/>
            <a:ext cx="290520" cy="928800"/>
          </a:xfrm>
          <a:custGeom>
            <a:avLst/>
            <a:gdLst/>
            <a:ahLst/>
            <a:rect l="l" t="t" r="r" b="b"/>
            <a:pathLst>
              <a:path w="21600" h="21600">
                <a:moveTo>
                  <a:pt x="16989" y="7317"/>
                </a:moveTo>
                <a:cubicBezTo>
                  <a:pt x="16954" y="7352"/>
                  <a:pt x="16924" y="7387"/>
                  <a:pt x="16883" y="7424"/>
                </a:cubicBezTo>
                <a:cubicBezTo>
                  <a:pt x="16678" y="7602"/>
                  <a:pt x="16414" y="7770"/>
                  <a:pt x="16066" y="7921"/>
                </a:cubicBezTo>
                <a:cubicBezTo>
                  <a:pt x="16058" y="7925"/>
                  <a:pt x="16045" y="7927"/>
                  <a:pt x="16039" y="7931"/>
                </a:cubicBezTo>
                <a:cubicBezTo>
                  <a:pt x="15662" y="8092"/>
                  <a:pt x="15215" y="8234"/>
                  <a:pt x="14706" y="8354"/>
                </a:cubicBezTo>
                <a:cubicBezTo>
                  <a:pt x="14697" y="8357"/>
                  <a:pt x="14693" y="8358"/>
                  <a:pt x="14687" y="8360"/>
                </a:cubicBezTo>
                <a:cubicBezTo>
                  <a:pt x="14163" y="8482"/>
                  <a:pt x="13584" y="8581"/>
                  <a:pt x="12960" y="8650"/>
                </a:cubicBezTo>
                <a:cubicBezTo>
                  <a:pt x="12280" y="8726"/>
                  <a:pt x="11560" y="8775"/>
                  <a:pt x="10800" y="8775"/>
                </a:cubicBezTo>
                <a:cubicBezTo>
                  <a:pt x="10037" y="8775"/>
                  <a:pt x="9318" y="8726"/>
                  <a:pt x="8640" y="8650"/>
                </a:cubicBezTo>
                <a:cubicBezTo>
                  <a:pt x="8017" y="8581"/>
                  <a:pt x="7436" y="8482"/>
                  <a:pt x="6915" y="8360"/>
                </a:cubicBezTo>
                <a:cubicBezTo>
                  <a:pt x="6908" y="8358"/>
                  <a:pt x="6902" y="8357"/>
                  <a:pt x="6893" y="8354"/>
                </a:cubicBezTo>
                <a:cubicBezTo>
                  <a:pt x="6385" y="8234"/>
                  <a:pt x="5938" y="8092"/>
                  <a:pt x="5562" y="7931"/>
                </a:cubicBezTo>
                <a:cubicBezTo>
                  <a:pt x="5554" y="7927"/>
                  <a:pt x="5541" y="7925"/>
                  <a:pt x="5532" y="7921"/>
                </a:cubicBezTo>
                <a:cubicBezTo>
                  <a:pt x="5185" y="7770"/>
                  <a:pt x="4921" y="7602"/>
                  <a:pt x="4716" y="7424"/>
                </a:cubicBezTo>
                <a:cubicBezTo>
                  <a:pt x="4676" y="7387"/>
                  <a:pt x="4645" y="7352"/>
                  <a:pt x="4612" y="7317"/>
                </a:cubicBezTo>
                <a:cubicBezTo>
                  <a:pt x="4437" y="7136"/>
                  <a:pt x="4320" y="6948"/>
                  <a:pt x="4320" y="6750"/>
                </a:cubicBezTo>
                <a:cubicBezTo>
                  <a:pt x="4320" y="6551"/>
                  <a:pt x="4437" y="6362"/>
                  <a:pt x="4612" y="6182"/>
                </a:cubicBezTo>
                <a:cubicBezTo>
                  <a:pt x="4645" y="6146"/>
                  <a:pt x="4676" y="6111"/>
                  <a:pt x="4716" y="6076"/>
                </a:cubicBezTo>
                <a:cubicBezTo>
                  <a:pt x="4921" y="5898"/>
                  <a:pt x="5185" y="5730"/>
                  <a:pt x="5532" y="5578"/>
                </a:cubicBezTo>
                <a:cubicBezTo>
                  <a:pt x="5541" y="5574"/>
                  <a:pt x="5554" y="5571"/>
                  <a:pt x="5562" y="5567"/>
                </a:cubicBezTo>
                <a:cubicBezTo>
                  <a:pt x="5938" y="5408"/>
                  <a:pt x="6385" y="5264"/>
                  <a:pt x="6893" y="5144"/>
                </a:cubicBezTo>
                <a:cubicBezTo>
                  <a:pt x="6902" y="5143"/>
                  <a:pt x="6908" y="5140"/>
                  <a:pt x="6915" y="5139"/>
                </a:cubicBezTo>
                <a:cubicBezTo>
                  <a:pt x="7436" y="5018"/>
                  <a:pt x="8017" y="4919"/>
                  <a:pt x="8640" y="4849"/>
                </a:cubicBezTo>
                <a:cubicBezTo>
                  <a:pt x="9318" y="4774"/>
                  <a:pt x="10037" y="4725"/>
                  <a:pt x="10800" y="4725"/>
                </a:cubicBezTo>
                <a:cubicBezTo>
                  <a:pt x="11560" y="4725"/>
                  <a:pt x="12280" y="4774"/>
                  <a:pt x="12960" y="4849"/>
                </a:cubicBezTo>
                <a:cubicBezTo>
                  <a:pt x="13584" y="4919"/>
                  <a:pt x="14163" y="5018"/>
                  <a:pt x="14687" y="5139"/>
                </a:cubicBezTo>
                <a:cubicBezTo>
                  <a:pt x="14693" y="5140"/>
                  <a:pt x="14697" y="5143"/>
                  <a:pt x="14706" y="5144"/>
                </a:cubicBezTo>
                <a:cubicBezTo>
                  <a:pt x="15215" y="5264"/>
                  <a:pt x="15662" y="5408"/>
                  <a:pt x="16039" y="5567"/>
                </a:cubicBezTo>
                <a:cubicBezTo>
                  <a:pt x="16045" y="5571"/>
                  <a:pt x="16058" y="5574"/>
                  <a:pt x="16066" y="5578"/>
                </a:cubicBezTo>
                <a:cubicBezTo>
                  <a:pt x="16414" y="5730"/>
                  <a:pt x="16678" y="5898"/>
                  <a:pt x="16883" y="6076"/>
                </a:cubicBezTo>
                <a:cubicBezTo>
                  <a:pt x="16924" y="6111"/>
                  <a:pt x="16954" y="6146"/>
                  <a:pt x="16989" y="6182"/>
                </a:cubicBezTo>
                <a:cubicBezTo>
                  <a:pt x="17162" y="6362"/>
                  <a:pt x="17280" y="6551"/>
                  <a:pt x="17280" y="6750"/>
                </a:cubicBezTo>
                <a:cubicBezTo>
                  <a:pt x="17280" y="6948"/>
                  <a:pt x="17162" y="7136"/>
                  <a:pt x="16989" y="7317"/>
                </a:cubicBezTo>
                <a:moveTo>
                  <a:pt x="12960" y="19575"/>
                </a:moveTo>
                <a:cubicBezTo>
                  <a:pt x="12960" y="19948"/>
                  <a:pt x="11993" y="20250"/>
                  <a:pt x="10800" y="20250"/>
                </a:cubicBezTo>
                <a:cubicBezTo>
                  <a:pt x="9606" y="20250"/>
                  <a:pt x="8640" y="19948"/>
                  <a:pt x="8640" y="19575"/>
                </a:cubicBezTo>
                <a:lnTo>
                  <a:pt x="8640" y="10056"/>
                </a:lnTo>
                <a:cubicBezTo>
                  <a:pt x="9338" y="10101"/>
                  <a:pt x="10060" y="10125"/>
                  <a:pt x="10800" y="10125"/>
                </a:cubicBezTo>
                <a:cubicBezTo>
                  <a:pt x="11541" y="10125"/>
                  <a:pt x="12263" y="10101"/>
                  <a:pt x="12960" y="10056"/>
                </a:cubicBezTo>
                <a:cubicBezTo>
                  <a:pt x="12960" y="10056"/>
                  <a:pt x="12960" y="19575"/>
                  <a:pt x="12960" y="19575"/>
                </a:cubicBezTo>
                <a:close/>
                <a:moveTo>
                  <a:pt x="8640" y="2025"/>
                </a:moveTo>
                <a:cubicBezTo>
                  <a:pt x="8640" y="1652"/>
                  <a:pt x="9606" y="1350"/>
                  <a:pt x="10800" y="1350"/>
                </a:cubicBezTo>
                <a:cubicBezTo>
                  <a:pt x="11993" y="1350"/>
                  <a:pt x="12960" y="1652"/>
                  <a:pt x="12960" y="2025"/>
                </a:cubicBezTo>
                <a:lnTo>
                  <a:pt x="12960" y="3442"/>
                </a:lnTo>
                <a:cubicBezTo>
                  <a:pt x="12263" y="3399"/>
                  <a:pt x="11541" y="3375"/>
                  <a:pt x="10800" y="3375"/>
                </a:cubicBezTo>
                <a:cubicBezTo>
                  <a:pt x="10060" y="3375"/>
                  <a:pt x="9338" y="3399"/>
                  <a:pt x="8640" y="3442"/>
                </a:cubicBezTo>
                <a:cubicBezTo>
                  <a:pt x="8640" y="3442"/>
                  <a:pt x="8640" y="2025"/>
                  <a:pt x="8640" y="2025"/>
                </a:cubicBezTo>
                <a:close/>
                <a:moveTo>
                  <a:pt x="17280" y="4065"/>
                </a:moveTo>
                <a:lnTo>
                  <a:pt x="17280" y="2025"/>
                </a:lnTo>
                <a:cubicBezTo>
                  <a:pt x="17280" y="908"/>
                  <a:pt x="14373" y="0"/>
                  <a:pt x="10800" y="0"/>
                </a:cubicBezTo>
                <a:cubicBezTo>
                  <a:pt x="7226" y="0"/>
                  <a:pt x="4320" y="908"/>
                  <a:pt x="4320" y="2025"/>
                </a:cubicBezTo>
                <a:lnTo>
                  <a:pt x="4320" y="4065"/>
                </a:lnTo>
                <a:cubicBezTo>
                  <a:pt x="1711" y="4681"/>
                  <a:pt x="0" y="5649"/>
                  <a:pt x="0" y="6750"/>
                </a:cubicBezTo>
                <a:cubicBezTo>
                  <a:pt x="0" y="7851"/>
                  <a:pt x="1711" y="8819"/>
                  <a:pt x="4320" y="9434"/>
                </a:cubicBezTo>
                <a:lnTo>
                  <a:pt x="4320" y="19575"/>
                </a:lnTo>
                <a:cubicBezTo>
                  <a:pt x="4320" y="20692"/>
                  <a:pt x="7226" y="21600"/>
                  <a:pt x="10800" y="21600"/>
                </a:cubicBezTo>
                <a:cubicBezTo>
                  <a:pt x="14373" y="21600"/>
                  <a:pt x="17280" y="20692"/>
                  <a:pt x="17280" y="19575"/>
                </a:cubicBezTo>
                <a:lnTo>
                  <a:pt x="17280" y="9434"/>
                </a:lnTo>
                <a:cubicBezTo>
                  <a:pt x="19889" y="8819"/>
                  <a:pt x="21600" y="7851"/>
                  <a:pt x="21600" y="6750"/>
                </a:cubicBezTo>
                <a:cubicBezTo>
                  <a:pt x="21600" y="5649"/>
                  <a:pt x="19889" y="4681"/>
                  <a:pt x="17280" y="4065"/>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01" name="AutoShape 58"/>
          <p:cNvSpPr/>
          <p:nvPr/>
        </p:nvSpPr>
        <p:spPr>
          <a:xfrm>
            <a:off x="14893920" y="5154480"/>
            <a:ext cx="290520" cy="928800"/>
          </a:xfrm>
          <a:custGeom>
            <a:avLst/>
            <a:gdLst/>
            <a:ahLst/>
            <a:rect l="l" t="t" r="r" b="b"/>
            <a:pathLst>
              <a:path w="21600" h="21600">
                <a:moveTo>
                  <a:pt x="16989" y="15417"/>
                </a:moveTo>
                <a:cubicBezTo>
                  <a:pt x="16954" y="15452"/>
                  <a:pt x="16924" y="15487"/>
                  <a:pt x="16883" y="15524"/>
                </a:cubicBezTo>
                <a:cubicBezTo>
                  <a:pt x="16678" y="15702"/>
                  <a:pt x="16414" y="15870"/>
                  <a:pt x="16066" y="16021"/>
                </a:cubicBezTo>
                <a:cubicBezTo>
                  <a:pt x="16058" y="16025"/>
                  <a:pt x="16045" y="16027"/>
                  <a:pt x="16039" y="16031"/>
                </a:cubicBezTo>
                <a:cubicBezTo>
                  <a:pt x="15662" y="16192"/>
                  <a:pt x="15215" y="16334"/>
                  <a:pt x="14706" y="16454"/>
                </a:cubicBezTo>
                <a:cubicBezTo>
                  <a:pt x="14697" y="16457"/>
                  <a:pt x="14693" y="16458"/>
                  <a:pt x="14687" y="16460"/>
                </a:cubicBezTo>
                <a:cubicBezTo>
                  <a:pt x="14163" y="16582"/>
                  <a:pt x="13584" y="16681"/>
                  <a:pt x="12960" y="16750"/>
                </a:cubicBezTo>
                <a:cubicBezTo>
                  <a:pt x="12280" y="16826"/>
                  <a:pt x="11560" y="16875"/>
                  <a:pt x="10800" y="16875"/>
                </a:cubicBezTo>
                <a:cubicBezTo>
                  <a:pt x="10037" y="16875"/>
                  <a:pt x="9318" y="16826"/>
                  <a:pt x="8640" y="16750"/>
                </a:cubicBezTo>
                <a:cubicBezTo>
                  <a:pt x="8017" y="16681"/>
                  <a:pt x="7436" y="16582"/>
                  <a:pt x="6915" y="16460"/>
                </a:cubicBezTo>
                <a:cubicBezTo>
                  <a:pt x="6908" y="16458"/>
                  <a:pt x="6902" y="16457"/>
                  <a:pt x="6893" y="16454"/>
                </a:cubicBezTo>
                <a:cubicBezTo>
                  <a:pt x="6385" y="16334"/>
                  <a:pt x="5938" y="16192"/>
                  <a:pt x="5562" y="16031"/>
                </a:cubicBezTo>
                <a:cubicBezTo>
                  <a:pt x="5554" y="16027"/>
                  <a:pt x="5541" y="16025"/>
                  <a:pt x="5532" y="16021"/>
                </a:cubicBezTo>
                <a:cubicBezTo>
                  <a:pt x="5185" y="15870"/>
                  <a:pt x="4921" y="15702"/>
                  <a:pt x="4716" y="15524"/>
                </a:cubicBezTo>
                <a:cubicBezTo>
                  <a:pt x="4676" y="15487"/>
                  <a:pt x="4645" y="15452"/>
                  <a:pt x="4612" y="15417"/>
                </a:cubicBezTo>
                <a:cubicBezTo>
                  <a:pt x="4437" y="15236"/>
                  <a:pt x="4320" y="15048"/>
                  <a:pt x="4320" y="14850"/>
                </a:cubicBezTo>
                <a:cubicBezTo>
                  <a:pt x="4320" y="14651"/>
                  <a:pt x="4437" y="14462"/>
                  <a:pt x="4612" y="14282"/>
                </a:cubicBezTo>
                <a:cubicBezTo>
                  <a:pt x="4645" y="14246"/>
                  <a:pt x="4676" y="14211"/>
                  <a:pt x="4716" y="14176"/>
                </a:cubicBezTo>
                <a:cubicBezTo>
                  <a:pt x="4921" y="13998"/>
                  <a:pt x="5185" y="13830"/>
                  <a:pt x="5532" y="13678"/>
                </a:cubicBezTo>
                <a:cubicBezTo>
                  <a:pt x="5541" y="13674"/>
                  <a:pt x="5554" y="13671"/>
                  <a:pt x="5562" y="13667"/>
                </a:cubicBezTo>
                <a:cubicBezTo>
                  <a:pt x="5938" y="13508"/>
                  <a:pt x="6385" y="13364"/>
                  <a:pt x="6893" y="13244"/>
                </a:cubicBezTo>
                <a:cubicBezTo>
                  <a:pt x="6902" y="13243"/>
                  <a:pt x="6908" y="13240"/>
                  <a:pt x="6915" y="13239"/>
                </a:cubicBezTo>
                <a:cubicBezTo>
                  <a:pt x="7436" y="13118"/>
                  <a:pt x="8017" y="13019"/>
                  <a:pt x="8640" y="12949"/>
                </a:cubicBezTo>
                <a:cubicBezTo>
                  <a:pt x="9318" y="12874"/>
                  <a:pt x="10037" y="12825"/>
                  <a:pt x="10800" y="12825"/>
                </a:cubicBezTo>
                <a:cubicBezTo>
                  <a:pt x="11560" y="12825"/>
                  <a:pt x="12280" y="12874"/>
                  <a:pt x="12960" y="12949"/>
                </a:cubicBezTo>
                <a:cubicBezTo>
                  <a:pt x="13584" y="13019"/>
                  <a:pt x="14163" y="13118"/>
                  <a:pt x="14687" y="13239"/>
                </a:cubicBezTo>
                <a:cubicBezTo>
                  <a:pt x="14693" y="13240"/>
                  <a:pt x="14697" y="13243"/>
                  <a:pt x="14706" y="13244"/>
                </a:cubicBezTo>
                <a:cubicBezTo>
                  <a:pt x="15215" y="13364"/>
                  <a:pt x="15662" y="13508"/>
                  <a:pt x="16039" y="13667"/>
                </a:cubicBezTo>
                <a:cubicBezTo>
                  <a:pt x="16045" y="13671"/>
                  <a:pt x="16058" y="13674"/>
                  <a:pt x="16066" y="13678"/>
                </a:cubicBezTo>
                <a:cubicBezTo>
                  <a:pt x="16414" y="13830"/>
                  <a:pt x="16678" y="13998"/>
                  <a:pt x="16883" y="14176"/>
                </a:cubicBezTo>
                <a:cubicBezTo>
                  <a:pt x="16924" y="14211"/>
                  <a:pt x="16954" y="14246"/>
                  <a:pt x="16989" y="14282"/>
                </a:cubicBezTo>
                <a:cubicBezTo>
                  <a:pt x="17162" y="14462"/>
                  <a:pt x="17280" y="14651"/>
                  <a:pt x="17280" y="14850"/>
                </a:cubicBezTo>
                <a:cubicBezTo>
                  <a:pt x="17280" y="15048"/>
                  <a:pt x="17162" y="15236"/>
                  <a:pt x="16989" y="15417"/>
                </a:cubicBezTo>
                <a:moveTo>
                  <a:pt x="12960" y="19575"/>
                </a:moveTo>
                <a:cubicBezTo>
                  <a:pt x="12960" y="19948"/>
                  <a:pt x="11993" y="20250"/>
                  <a:pt x="10800" y="20250"/>
                </a:cubicBezTo>
                <a:cubicBezTo>
                  <a:pt x="9606" y="20250"/>
                  <a:pt x="8640" y="19948"/>
                  <a:pt x="8640" y="19575"/>
                </a:cubicBezTo>
                <a:lnTo>
                  <a:pt x="8640" y="18156"/>
                </a:lnTo>
                <a:cubicBezTo>
                  <a:pt x="9338" y="18201"/>
                  <a:pt x="10060" y="18225"/>
                  <a:pt x="10800" y="18225"/>
                </a:cubicBezTo>
                <a:cubicBezTo>
                  <a:pt x="11541" y="18225"/>
                  <a:pt x="12263" y="18201"/>
                  <a:pt x="12960" y="18156"/>
                </a:cubicBezTo>
                <a:cubicBezTo>
                  <a:pt x="12960" y="18156"/>
                  <a:pt x="12960" y="19575"/>
                  <a:pt x="12960" y="19575"/>
                </a:cubicBezTo>
                <a:close/>
                <a:moveTo>
                  <a:pt x="8640" y="2025"/>
                </a:moveTo>
                <a:cubicBezTo>
                  <a:pt x="8640" y="1652"/>
                  <a:pt x="9606" y="1350"/>
                  <a:pt x="10800" y="1350"/>
                </a:cubicBezTo>
                <a:cubicBezTo>
                  <a:pt x="11993" y="1350"/>
                  <a:pt x="12960" y="1652"/>
                  <a:pt x="12960" y="2025"/>
                </a:cubicBezTo>
                <a:lnTo>
                  <a:pt x="12960" y="11542"/>
                </a:lnTo>
                <a:cubicBezTo>
                  <a:pt x="12263" y="11499"/>
                  <a:pt x="11541" y="11475"/>
                  <a:pt x="10800" y="11475"/>
                </a:cubicBezTo>
                <a:cubicBezTo>
                  <a:pt x="10060" y="11475"/>
                  <a:pt x="9338" y="11499"/>
                  <a:pt x="8640" y="11542"/>
                </a:cubicBezTo>
                <a:cubicBezTo>
                  <a:pt x="8640" y="11542"/>
                  <a:pt x="8640" y="2025"/>
                  <a:pt x="8640" y="2025"/>
                </a:cubicBezTo>
                <a:close/>
                <a:moveTo>
                  <a:pt x="17280" y="12165"/>
                </a:moveTo>
                <a:lnTo>
                  <a:pt x="17280" y="2025"/>
                </a:lnTo>
                <a:cubicBezTo>
                  <a:pt x="17280" y="908"/>
                  <a:pt x="14373" y="0"/>
                  <a:pt x="10800" y="0"/>
                </a:cubicBezTo>
                <a:cubicBezTo>
                  <a:pt x="7226" y="0"/>
                  <a:pt x="4320" y="908"/>
                  <a:pt x="4320" y="2025"/>
                </a:cubicBezTo>
                <a:lnTo>
                  <a:pt x="4320" y="12165"/>
                </a:lnTo>
                <a:cubicBezTo>
                  <a:pt x="1711" y="12781"/>
                  <a:pt x="0" y="13749"/>
                  <a:pt x="0" y="14850"/>
                </a:cubicBezTo>
                <a:cubicBezTo>
                  <a:pt x="0" y="15951"/>
                  <a:pt x="1711" y="16919"/>
                  <a:pt x="4320" y="17534"/>
                </a:cubicBezTo>
                <a:lnTo>
                  <a:pt x="4320" y="19575"/>
                </a:lnTo>
                <a:cubicBezTo>
                  <a:pt x="4320" y="20692"/>
                  <a:pt x="7226" y="21600"/>
                  <a:pt x="10800" y="21600"/>
                </a:cubicBezTo>
                <a:cubicBezTo>
                  <a:pt x="14373" y="21600"/>
                  <a:pt x="17280" y="20692"/>
                  <a:pt x="17280" y="19575"/>
                </a:cubicBezTo>
                <a:lnTo>
                  <a:pt x="17280" y="17534"/>
                </a:lnTo>
                <a:cubicBezTo>
                  <a:pt x="19889" y="16919"/>
                  <a:pt x="21600" y="15951"/>
                  <a:pt x="21600" y="14850"/>
                </a:cubicBezTo>
                <a:cubicBezTo>
                  <a:pt x="21600" y="13749"/>
                  <a:pt x="19889" y="12781"/>
                  <a:pt x="17280" y="12165"/>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02" name="AutoShape 59"/>
          <p:cNvSpPr/>
          <p:nvPr/>
        </p:nvSpPr>
        <p:spPr>
          <a:xfrm>
            <a:off x="12715920" y="5154480"/>
            <a:ext cx="930240" cy="928800"/>
          </a:xfrm>
          <a:custGeom>
            <a:avLst/>
            <a:gdLst/>
            <a:ahLst/>
            <a:rect l="l" t="t" r="r" b="b"/>
            <a:pathLst>
              <a:path w="21543" h="21600">
                <a:moveTo>
                  <a:pt x="16976" y="19986"/>
                </a:moveTo>
                <a:lnTo>
                  <a:pt x="11226" y="17681"/>
                </a:lnTo>
                <a:cubicBezTo>
                  <a:pt x="11089" y="17626"/>
                  <a:pt x="10947" y="17608"/>
                  <a:pt x="10806" y="17600"/>
                </a:cubicBezTo>
                <a:lnTo>
                  <a:pt x="19660" y="3838"/>
                </a:lnTo>
                <a:cubicBezTo>
                  <a:pt x="19660" y="3838"/>
                  <a:pt x="16976" y="19986"/>
                  <a:pt x="16976" y="19986"/>
                </a:cubicBezTo>
                <a:close/>
                <a:moveTo>
                  <a:pt x="6859" y="16245"/>
                </a:moveTo>
                <a:cubicBezTo>
                  <a:pt x="6858" y="16242"/>
                  <a:pt x="6856" y="16241"/>
                  <a:pt x="6854" y="16238"/>
                </a:cubicBezTo>
                <a:lnTo>
                  <a:pt x="19607" y="2552"/>
                </a:lnTo>
                <a:lnTo>
                  <a:pt x="8735" y="19537"/>
                </a:lnTo>
                <a:cubicBezTo>
                  <a:pt x="8735" y="19537"/>
                  <a:pt x="6859" y="16245"/>
                  <a:pt x="6859" y="16245"/>
                </a:cubicBezTo>
                <a:close/>
                <a:moveTo>
                  <a:pt x="2111" y="14025"/>
                </a:moveTo>
                <a:lnTo>
                  <a:pt x="17713" y="3595"/>
                </a:lnTo>
                <a:lnTo>
                  <a:pt x="6369" y="15770"/>
                </a:lnTo>
                <a:cubicBezTo>
                  <a:pt x="6309" y="15735"/>
                  <a:pt x="6256" y="15687"/>
                  <a:pt x="6191" y="15661"/>
                </a:cubicBezTo>
                <a:cubicBezTo>
                  <a:pt x="6191" y="15661"/>
                  <a:pt x="2111" y="14025"/>
                  <a:pt x="2111" y="14025"/>
                </a:cubicBezTo>
                <a:close/>
                <a:moveTo>
                  <a:pt x="21234" y="108"/>
                </a:moveTo>
                <a:cubicBezTo>
                  <a:pt x="21123" y="36"/>
                  <a:pt x="20996" y="0"/>
                  <a:pt x="20869" y="0"/>
                </a:cubicBezTo>
                <a:cubicBezTo>
                  <a:pt x="20739" y="0"/>
                  <a:pt x="20609" y="37"/>
                  <a:pt x="20496" y="113"/>
                </a:cubicBezTo>
                <a:lnTo>
                  <a:pt x="299" y="13613"/>
                </a:lnTo>
                <a:cubicBezTo>
                  <a:pt x="91" y="13752"/>
                  <a:pt x="-23" y="13996"/>
                  <a:pt x="3" y="14245"/>
                </a:cubicBezTo>
                <a:cubicBezTo>
                  <a:pt x="29" y="14494"/>
                  <a:pt x="190" y="14709"/>
                  <a:pt x="423" y="14801"/>
                </a:cubicBezTo>
                <a:lnTo>
                  <a:pt x="5690" y="16915"/>
                </a:lnTo>
                <a:lnTo>
                  <a:pt x="8167" y="21260"/>
                </a:lnTo>
                <a:cubicBezTo>
                  <a:pt x="8285" y="21468"/>
                  <a:pt x="8505" y="21597"/>
                  <a:pt x="8744" y="21600"/>
                </a:cubicBezTo>
                <a:lnTo>
                  <a:pt x="8751" y="21600"/>
                </a:lnTo>
                <a:cubicBezTo>
                  <a:pt x="8987" y="21600"/>
                  <a:pt x="9207" y="21475"/>
                  <a:pt x="9329" y="21272"/>
                </a:cubicBezTo>
                <a:lnTo>
                  <a:pt x="10727" y="18934"/>
                </a:lnTo>
                <a:lnTo>
                  <a:pt x="17253" y="21551"/>
                </a:lnTo>
                <a:cubicBezTo>
                  <a:pt x="17333" y="21584"/>
                  <a:pt x="17418" y="21600"/>
                  <a:pt x="17503" y="21600"/>
                </a:cubicBezTo>
                <a:cubicBezTo>
                  <a:pt x="17617" y="21600"/>
                  <a:pt x="17731" y="21571"/>
                  <a:pt x="17833" y="21513"/>
                </a:cubicBezTo>
                <a:cubicBezTo>
                  <a:pt x="18010" y="21413"/>
                  <a:pt x="18134" y="21238"/>
                  <a:pt x="18167" y="21036"/>
                </a:cubicBezTo>
                <a:lnTo>
                  <a:pt x="21533" y="786"/>
                </a:lnTo>
                <a:cubicBezTo>
                  <a:pt x="21577" y="521"/>
                  <a:pt x="21460" y="254"/>
                  <a:pt x="21234" y="108"/>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03" name="AutoShape 60"/>
          <p:cNvSpPr/>
          <p:nvPr/>
        </p:nvSpPr>
        <p:spPr>
          <a:xfrm>
            <a:off x="22442400" y="3556080"/>
            <a:ext cx="57240" cy="58680"/>
          </a:xfrm>
          <a:custGeom>
            <a:avLst/>
            <a:gdLst/>
            <a:ahLst/>
            <a:rect l="l" t="t" r="r" b="b"/>
            <a:pathLst>
              <a:path w="21600" h="21600">
                <a:moveTo>
                  <a:pt x="10800" y="21600"/>
                </a:moveTo>
                <a:cubicBezTo>
                  <a:pt x="16770" y="21600"/>
                  <a:pt x="21600" y="16770"/>
                  <a:pt x="21600" y="10800"/>
                </a:cubicBezTo>
                <a:cubicBezTo>
                  <a:pt x="21600" y="4820"/>
                  <a:pt x="16770" y="0"/>
                  <a:pt x="10800" y="0"/>
                </a:cubicBezTo>
                <a:cubicBezTo>
                  <a:pt x="4830" y="0"/>
                  <a:pt x="0" y="4820"/>
                  <a:pt x="0" y="10800"/>
                </a:cubicBezTo>
                <a:cubicBezTo>
                  <a:pt x="0" y="16770"/>
                  <a:pt x="4830" y="21600"/>
                  <a:pt x="108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04" name="AutoShape 61"/>
          <p:cNvSpPr/>
          <p:nvPr/>
        </p:nvSpPr>
        <p:spPr>
          <a:xfrm>
            <a:off x="22442400" y="3905280"/>
            <a:ext cx="57240" cy="57240"/>
          </a:xfrm>
          <a:custGeom>
            <a:avLst/>
            <a:gdLst/>
            <a:ahLst/>
            <a:rect l="l" t="t" r="r" b="b"/>
            <a:pathLst>
              <a:path w="21600" h="21600">
                <a:moveTo>
                  <a:pt x="10800" y="0"/>
                </a:moveTo>
                <a:cubicBezTo>
                  <a:pt x="4830" y="0"/>
                  <a:pt x="0" y="4830"/>
                  <a:pt x="0" y="10800"/>
                </a:cubicBezTo>
                <a:cubicBezTo>
                  <a:pt x="0" y="16770"/>
                  <a:pt x="4830" y="21600"/>
                  <a:pt x="10800" y="21600"/>
                </a:cubicBezTo>
                <a:cubicBezTo>
                  <a:pt x="16770" y="21600"/>
                  <a:pt x="21600" y="16770"/>
                  <a:pt x="21600" y="10800"/>
                </a:cubicBezTo>
                <a:cubicBezTo>
                  <a:pt x="21600" y="4830"/>
                  <a:pt x="16770"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05" name="AutoShape 62"/>
          <p:cNvSpPr/>
          <p:nvPr/>
        </p:nvSpPr>
        <p:spPr>
          <a:xfrm>
            <a:off x="22267800" y="3730680"/>
            <a:ext cx="57240" cy="58680"/>
          </a:xfrm>
          <a:custGeom>
            <a:avLst/>
            <a:gdLst/>
            <a:ahLst/>
            <a:rect l="l" t="t" r="r" b="b"/>
            <a:pathLst>
              <a:path w="21600" h="21600">
                <a:moveTo>
                  <a:pt x="10800" y="0"/>
                </a:moveTo>
                <a:cubicBezTo>
                  <a:pt x="4830" y="0"/>
                  <a:pt x="0" y="4820"/>
                  <a:pt x="0" y="10800"/>
                </a:cubicBezTo>
                <a:cubicBezTo>
                  <a:pt x="0" y="16770"/>
                  <a:pt x="4830" y="21600"/>
                  <a:pt x="10800" y="21600"/>
                </a:cubicBezTo>
                <a:cubicBezTo>
                  <a:pt x="16770" y="21600"/>
                  <a:pt x="21600" y="16770"/>
                  <a:pt x="21600" y="10800"/>
                </a:cubicBezTo>
                <a:cubicBezTo>
                  <a:pt x="21600" y="4820"/>
                  <a:pt x="16770"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06" name="AutoShape 63"/>
          <p:cNvSpPr/>
          <p:nvPr/>
        </p:nvSpPr>
        <p:spPr>
          <a:xfrm>
            <a:off x="22615560" y="3730680"/>
            <a:ext cx="58680" cy="58680"/>
          </a:xfrm>
          <a:custGeom>
            <a:avLst/>
            <a:gdLst/>
            <a:ahLst/>
            <a:rect l="l" t="t" r="r" b="b"/>
            <a:pathLst>
              <a:path w="21600" h="21600">
                <a:moveTo>
                  <a:pt x="0" y="10800"/>
                </a:moveTo>
                <a:cubicBezTo>
                  <a:pt x="0" y="16770"/>
                  <a:pt x="4830" y="21600"/>
                  <a:pt x="10800" y="21600"/>
                </a:cubicBezTo>
                <a:cubicBezTo>
                  <a:pt x="16770" y="21600"/>
                  <a:pt x="21600" y="16770"/>
                  <a:pt x="21600" y="10800"/>
                </a:cubicBezTo>
                <a:cubicBezTo>
                  <a:pt x="21600" y="4820"/>
                  <a:pt x="16770" y="0"/>
                  <a:pt x="10800" y="0"/>
                </a:cubicBezTo>
                <a:cubicBezTo>
                  <a:pt x="4830" y="0"/>
                  <a:pt x="0" y="4820"/>
                  <a:pt x="0" y="108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07" name="AutoShape 64"/>
          <p:cNvSpPr/>
          <p:nvPr/>
        </p:nvSpPr>
        <p:spPr>
          <a:xfrm>
            <a:off x="22325040" y="3846600"/>
            <a:ext cx="58680" cy="58680"/>
          </a:xfrm>
          <a:custGeom>
            <a:avLst/>
            <a:gdLst/>
            <a:ahLst/>
            <a:rect l="l" t="t" r="r" b="b"/>
            <a:pathLst>
              <a:path w="19675" h="19678">
                <a:moveTo>
                  <a:pt x="2894" y="2882"/>
                </a:moveTo>
                <a:cubicBezTo>
                  <a:pt x="-965" y="6726"/>
                  <a:pt x="-965" y="12952"/>
                  <a:pt x="2894" y="16796"/>
                </a:cubicBezTo>
                <a:cubicBezTo>
                  <a:pt x="6734" y="20639"/>
                  <a:pt x="12936" y="20639"/>
                  <a:pt x="16795" y="16796"/>
                </a:cubicBezTo>
                <a:cubicBezTo>
                  <a:pt x="20635" y="12952"/>
                  <a:pt x="20635" y="6726"/>
                  <a:pt x="16795" y="2882"/>
                </a:cubicBezTo>
                <a:cubicBezTo>
                  <a:pt x="12936" y="-961"/>
                  <a:pt x="6734" y="-961"/>
                  <a:pt x="2894" y="2882"/>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08" name="AutoShape 65"/>
          <p:cNvSpPr/>
          <p:nvPr/>
        </p:nvSpPr>
        <p:spPr>
          <a:xfrm>
            <a:off x="22325040" y="3614760"/>
            <a:ext cx="58680" cy="58680"/>
          </a:xfrm>
          <a:custGeom>
            <a:avLst/>
            <a:gdLst/>
            <a:ahLst/>
            <a:rect l="l" t="t" r="r" b="b"/>
            <a:pathLst>
              <a:path w="19678" h="19673">
                <a:moveTo>
                  <a:pt x="2897" y="2894"/>
                </a:moveTo>
                <a:cubicBezTo>
                  <a:pt x="-962" y="6734"/>
                  <a:pt x="-962" y="12936"/>
                  <a:pt x="2878" y="16785"/>
                </a:cubicBezTo>
                <a:cubicBezTo>
                  <a:pt x="6737" y="20635"/>
                  <a:pt x="12939" y="20635"/>
                  <a:pt x="16798" y="16785"/>
                </a:cubicBezTo>
                <a:cubicBezTo>
                  <a:pt x="20638" y="12936"/>
                  <a:pt x="20638" y="6734"/>
                  <a:pt x="16798" y="2894"/>
                </a:cubicBezTo>
                <a:cubicBezTo>
                  <a:pt x="12939" y="-965"/>
                  <a:pt x="6737" y="-965"/>
                  <a:pt x="2897" y="2894"/>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09" name="AutoShape 66"/>
          <p:cNvSpPr/>
          <p:nvPr/>
        </p:nvSpPr>
        <p:spPr>
          <a:xfrm>
            <a:off x="22558320" y="3846600"/>
            <a:ext cx="57240" cy="58680"/>
          </a:xfrm>
          <a:custGeom>
            <a:avLst/>
            <a:gdLst/>
            <a:ahLst/>
            <a:rect l="l" t="t" r="r" b="b"/>
            <a:pathLst>
              <a:path w="19678" h="19678">
                <a:moveTo>
                  <a:pt x="2882" y="2882"/>
                </a:moveTo>
                <a:cubicBezTo>
                  <a:pt x="-961" y="6726"/>
                  <a:pt x="-961" y="12952"/>
                  <a:pt x="2882" y="16796"/>
                </a:cubicBezTo>
                <a:cubicBezTo>
                  <a:pt x="6726" y="20639"/>
                  <a:pt x="12952" y="20639"/>
                  <a:pt x="16796" y="16796"/>
                </a:cubicBezTo>
                <a:cubicBezTo>
                  <a:pt x="20639" y="12952"/>
                  <a:pt x="20639" y="6726"/>
                  <a:pt x="16796" y="2882"/>
                </a:cubicBezTo>
                <a:cubicBezTo>
                  <a:pt x="12952" y="-961"/>
                  <a:pt x="6726" y="-961"/>
                  <a:pt x="2882" y="2882"/>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10" name="AutoShape 67"/>
          <p:cNvSpPr/>
          <p:nvPr/>
        </p:nvSpPr>
        <p:spPr>
          <a:xfrm>
            <a:off x="22180680" y="3295800"/>
            <a:ext cx="637920" cy="928440"/>
          </a:xfrm>
          <a:custGeom>
            <a:avLst/>
            <a:gdLst/>
            <a:ahLst/>
            <a:rect l="l" t="t" r="r" b="b"/>
            <a:pathLst>
              <a:path w="21600" h="21600">
                <a:moveTo>
                  <a:pt x="9818" y="16200"/>
                </a:moveTo>
                <a:cubicBezTo>
                  <a:pt x="5486" y="16200"/>
                  <a:pt x="1964" y="13777"/>
                  <a:pt x="1964" y="10800"/>
                </a:cubicBezTo>
                <a:cubicBezTo>
                  <a:pt x="1964" y="7822"/>
                  <a:pt x="5486" y="5400"/>
                  <a:pt x="9818" y="5400"/>
                </a:cubicBezTo>
                <a:cubicBezTo>
                  <a:pt x="14148" y="5400"/>
                  <a:pt x="17673" y="7822"/>
                  <a:pt x="17673" y="10800"/>
                </a:cubicBezTo>
                <a:cubicBezTo>
                  <a:pt x="17673" y="13777"/>
                  <a:pt x="14148" y="16200"/>
                  <a:pt x="9818" y="16200"/>
                </a:cubicBezTo>
                <a:moveTo>
                  <a:pt x="13745" y="20250"/>
                </a:moveTo>
                <a:lnTo>
                  <a:pt x="5891" y="20250"/>
                </a:lnTo>
                <a:lnTo>
                  <a:pt x="4909" y="16614"/>
                </a:lnTo>
                <a:cubicBezTo>
                  <a:pt x="6359" y="17193"/>
                  <a:pt x="8019" y="17550"/>
                  <a:pt x="9818" y="17550"/>
                </a:cubicBezTo>
                <a:cubicBezTo>
                  <a:pt x="11615" y="17550"/>
                  <a:pt x="13278" y="17193"/>
                  <a:pt x="14727" y="16614"/>
                </a:cubicBezTo>
                <a:cubicBezTo>
                  <a:pt x="14727" y="16614"/>
                  <a:pt x="13745" y="20250"/>
                  <a:pt x="13745" y="20250"/>
                </a:cubicBezTo>
                <a:close/>
                <a:moveTo>
                  <a:pt x="5993" y="1350"/>
                </a:moveTo>
                <a:lnTo>
                  <a:pt x="13847" y="1350"/>
                </a:lnTo>
                <a:lnTo>
                  <a:pt x="14829" y="4985"/>
                </a:lnTo>
                <a:cubicBezTo>
                  <a:pt x="13379" y="4407"/>
                  <a:pt x="11719" y="4050"/>
                  <a:pt x="9920" y="4050"/>
                </a:cubicBezTo>
                <a:cubicBezTo>
                  <a:pt x="8123" y="4050"/>
                  <a:pt x="6460" y="4407"/>
                  <a:pt x="5011" y="4985"/>
                </a:cubicBezTo>
                <a:cubicBezTo>
                  <a:pt x="5011" y="4985"/>
                  <a:pt x="5993" y="1350"/>
                  <a:pt x="5993" y="1350"/>
                </a:cubicBezTo>
                <a:close/>
                <a:moveTo>
                  <a:pt x="19636" y="9450"/>
                </a:moveTo>
                <a:cubicBezTo>
                  <a:pt x="19567" y="9450"/>
                  <a:pt x="19510" y="9472"/>
                  <a:pt x="19443" y="9477"/>
                </a:cubicBezTo>
                <a:cubicBezTo>
                  <a:pt x="19101" y="8298"/>
                  <a:pt x="18294" y="7246"/>
                  <a:pt x="17188" y="6376"/>
                </a:cubicBezTo>
                <a:lnTo>
                  <a:pt x="15778" y="1103"/>
                </a:lnTo>
                <a:cubicBezTo>
                  <a:pt x="15606" y="464"/>
                  <a:pt x="14794" y="0"/>
                  <a:pt x="13847" y="0"/>
                </a:cubicBezTo>
                <a:lnTo>
                  <a:pt x="5993" y="0"/>
                </a:lnTo>
                <a:cubicBezTo>
                  <a:pt x="5047" y="0"/>
                  <a:pt x="4236" y="464"/>
                  <a:pt x="4062" y="1103"/>
                </a:cubicBezTo>
                <a:lnTo>
                  <a:pt x="2687" y="6198"/>
                </a:lnTo>
                <a:cubicBezTo>
                  <a:pt x="1037" y="7405"/>
                  <a:pt x="0" y="9012"/>
                  <a:pt x="0" y="10800"/>
                </a:cubicBezTo>
                <a:cubicBezTo>
                  <a:pt x="0" y="12543"/>
                  <a:pt x="995" y="14110"/>
                  <a:pt x="2573" y="15307"/>
                </a:cubicBezTo>
                <a:lnTo>
                  <a:pt x="3960" y="20497"/>
                </a:lnTo>
                <a:cubicBezTo>
                  <a:pt x="4132" y="21136"/>
                  <a:pt x="4944" y="21600"/>
                  <a:pt x="5891" y="21600"/>
                </a:cubicBezTo>
                <a:lnTo>
                  <a:pt x="13745" y="21600"/>
                </a:lnTo>
                <a:cubicBezTo>
                  <a:pt x="14691" y="21600"/>
                  <a:pt x="15502" y="21136"/>
                  <a:pt x="15676" y="20497"/>
                </a:cubicBezTo>
                <a:lnTo>
                  <a:pt x="17074" y="15311"/>
                </a:lnTo>
                <a:cubicBezTo>
                  <a:pt x="18242" y="14427"/>
                  <a:pt x="19090" y="13340"/>
                  <a:pt x="19443" y="12122"/>
                </a:cubicBezTo>
                <a:cubicBezTo>
                  <a:pt x="19510" y="12128"/>
                  <a:pt x="19567" y="12150"/>
                  <a:pt x="19636" y="12150"/>
                </a:cubicBezTo>
                <a:cubicBezTo>
                  <a:pt x="20720" y="12150"/>
                  <a:pt x="21600" y="11545"/>
                  <a:pt x="21600" y="10800"/>
                </a:cubicBezTo>
                <a:cubicBezTo>
                  <a:pt x="21600" y="10054"/>
                  <a:pt x="20720" y="9450"/>
                  <a:pt x="19636" y="945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11" name="AutoShape 68"/>
          <p:cNvSpPr/>
          <p:nvPr/>
        </p:nvSpPr>
        <p:spPr>
          <a:xfrm>
            <a:off x="22442400" y="3614760"/>
            <a:ext cx="174600" cy="176040"/>
          </a:xfrm>
          <a:custGeom>
            <a:avLst/>
            <a:gdLst/>
            <a:ahLst/>
            <a:rect l="l" t="t" r="r" b="b"/>
            <a:pathLst>
              <a:path w="21481" h="21480">
                <a:moveTo>
                  <a:pt x="21128" y="346"/>
                </a:moveTo>
                <a:cubicBezTo>
                  <a:pt x="20697" y="-82"/>
                  <a:pt x="20003" y="-120"/>
                  <a:pt x="19516" y="270"/>
                </a:cubicBezTo>
                <a:lnTo>
                  <a:pt x="1056" y="15433"/>
                </a:lnTo>
                <a:cubicBezTo>
                  <a:pt x="375" y="16114"/>
                  <a:pt x="0" y="17012"/>
                  <a:pt x="0" y="17973"/>
                </a:cubicBezTo>
                <a:cubicBezTo>
                  <a:pt x="0" y="18902"/>
                  <a:pt x="361" y="19783"/>
                  <a:pt x="1028" y="20447"/>
                </a:cubicBezTo>
                <a:cubicBezTo>
                  <a:pt x="1695" y="21103"/>
                  <a:pt x="2584" y="21473"/>
                  <a:pt x="3542" y="21480"/>
                </a:cubicBezTo>
                <a:cubicBezTo>
                  <a:pt x="4431" y="21473"/>
                  <a:pt x="5355" y="21145"/>
                  <a:pt x="6029" y="20495"/>
                </a:cubicBezTo>
                <a:lnTo>
                  <a:pt x="12599" y="12627"/>
                </a:lnTo>
                <a:lnTo>
                  <a:pt x="21225" y="1936"/>
                </a:lnTo>
                <a:cubicBezTo>
                  <a:pt x="21600" y="1463"/>
                  <a:pt x="21558" y="772"/>
                  <a:pt x="21128" y="346"/>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12" name="AutoShape 69"/>
          <p:cNvSpPr/>
          <p:nvPr/>
        </p:nvSpPr>
        <p:spPr>
          <a:xfrm>
            <a:off x="20148480" y="3295800"/>
            <a:ext cx="928800" cy="871560"/>
          </a:xfrm>
          <a:custGeom>
            <a:avLst/>
            <a:gdLst/>
            <a:ahLst/>
            <a:rect l="l" t="t" r="r" b="b"/>
            <a:pathLst>
              <a:path w="21600" h="21600">
                <a:moveTo>
                  <a:pt x="18224" y="5760"/>
                </a:moveTo>
                <a:lnTo>
                  <a:pt x="17549" y="5760"/>
                </a:lnTo>
                <a:cubicBezTo>
                  <a:pt x="16805" y="5760"/>
                  <a:pt x="16199" y="5115"/>
                  <a:pt x="16199" y="4320"/>
                </a:cubicBezTo>
                <a:lnTo>
                  <a:pt x="16200" y="4320"/>
                </a:lnTo>
                <a:lnTo>
                  <a:pt x="16200" y="1440"/>
                </a:lnTo>
                <a:lnTo>
                  <a:pt x="20250" y="5760"/>
                </a:lnTo>
                <a:cubicBezTo>
                  <a:pt x="20250" y="5760"/>
                  <a:pt x="18224" y="5760"/>
                  <a:pt x="18224" y="5760"/>
                </a:cubicBezTo>
                <a:close/>
                <a:moveTo>
                  <a:pt x="20250" y="19440"/>
                </a:moveTo>
                <a:cubicBezTo>
                  <a:pt x="20250" y="19838"/>
                  <a:pt x="19948" y="20160"/>
                  <a:pt x="19575" y="20160"/>
                </a:cubicBezTo>
                <a:lnTo>
                  <a:pt x="2025" y="20160"/>
                </a:lnTo>
                <a:cubicBezTo>
                  <a:pt x="1652" y="20160"/>
                  <a:pt x="1350" y="19838"/>
                  <a:pt x="1350" y="19440"/>
                </a:cubicBezTo>
                <a:lnTo>
                  <a:pt x="1350" y="2160"/>
                </a:lnTo>
                <a:cubicBezTo>
                  <a:pt x="1350" y="1762"/>
                  <a:pt x="1652" y="1440"/>
                  <a:pt x="2025" y="1440"/>
                </a:cubicBezTo>
                <a:lnTo>
                  <a:pt x="15525" y="1440"/>
                </a:lnTo>
                <a:lnTo>
                  <a:pt x="15525" y="4320"/>
                </a:lnTo>
                <a:lnTo>
                  <a:pt x="15524" y="4320"/>
                </a:lnTo>
                <a:cubicBezTo>
                  <a:pt x="15524" y="5513"/>
                  <a:pt x="16431" y="6480"/>
                  <a:pt x="17549" y="6480"/>
                </a:cubicBezTo>
                <a:lnTo>
                  <a:pt x="18224" y="6480"/>
                </a:lnTo>
                <a:lnTo>
                  <a:pt x="20250" y="6480"/>
                </a:lnTo>
                <a:cubicBezTo>
                  <a:pt x="20250" y="6480"/>
                  <a:pt x="20250" y="19440"/>
                  <a:pt x="20250" y="19440"/>
                </a:cubicBezTo>
                <a:close/>
                <a:moveTo>
                  <a:pt x="21205" y="4742"/>
                </a:moveTo>
                <a:lnTo>
                  <a:pt x="17155" y="422"/>
                </a:lnTo>
                <a:cubicBezTo>
                  <a:pt x="16902" y="152"/>
                  <a:pt x="16557" y="0"/>
                  <a:pt x="16200" y="0"/>
                </a:cubicBezTo>
                <a:lnTo>
                  <a:pt x="2025" y="0"/>
                </a:lnTo>
                <a:cubicBezTo>
                  <a:pt x="908" y="0"/>
                  <a:pt x="0" y="969"/>
                  <a:pt x="0" y="2160"/>
                </a:cubicBezTo>
                <a:lnTo>
                  <a:pt x="0" y="19440"/>
                </a:lnTo>
                <a:cubicBezTo>
                  <a:pt x="0" y="20631"/>
                  <a:pt x="908" y="21600"/>
                  <a:pt x="2025" y="21600"/>
                </a:cubicBezTo>
                <a:lnTo>
                  <a:pt x="19575" y="21600"/>
                </a:lnTo>
                <a:cubicBezTo>
                  <a:pt x="20692" y="21600"/>
                  <a:pt x="21600" y="20631"/>
                  <a:pt x="21600" y="19440"/>
                </a:cubicBezTo>
                <a:lnTo>
                  <a:pt x="21600" y="5760"/>
                </a:lnTo>
                <a:cubicBezTo>
                  <a:pt x="21600" y="5378"/>
                  <a:pt x="21458" y="5012"/>
                  <a:pt x="21205" y="4742"/>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13" name="AutoShape 70"/>
          <p:cNvSpPr/>
          <p:nvPr/>
        </p:nvSpPr>
        <p:spPr>
          <a:xfrm>
            <a:off x="20583360" y="3468600"/>
            <a:ext cx="174960" cy="30240"/>
          </a:xfrm>
          <a:custGeom>
            <a:avLst/>
            <a:gdLst/>
            <a:ahLst/>
            <a:rect l="l" t="t" r="r" b="b"/>
            <a:pathLst>
              <a:path w="21600" h="21600">
                <a:moveTo>
                  <a:pt x="1800" y="21600"/>
                </a:moveTo>
                <a:lnTo>
                  <a:pt x="19800" y="21600"/>
                </a:lnTo>
                <a:cubicBezTo>
                  <a:pt x="20791" y="21600"/>
                  <a:pt x="21600" y="16770"/>
                  <a:pt x="21600" y="10800"/>
                </a:cubicBezTo>
                <a:cubicBezTo>
                  <a:pt x="21600" y="4830"/>
                  <a:pt x="20791" y="0"/>
                  <a:pt x="19800" y="0"/>
                </a:cubicBezTo>
                <a:lnTo>
                  <a:pt x="1800" y="0"/>
                </a:lnTo>
                <a:cubicBezTo>
                  <a:pt x="802" y="0"/>
                  <a:pt x="0" y="4830"/>
                  <a:pt x="0" y="10800"/>
                </a:cubicBezTo>
                <a:cubicBezTo>
                  <a:pt x="0" y="16770"/>
                  <a:pt x="802" y="21600"/>
                  <a:pt x="18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14" name="AutoShape 71"/>
          <p:cNvSpPr/>
          <p:nvPr/>
        </p:nvSpPr>
        <p:spPr>
          <a:xfrm>
            <a:off x="20583360" y="3556080"/>
            <a:ext cx="174960" cy="30240"/>
          </a:xfrm>
          <a:custGeom>
            <a:avLst/>
            <a:gdLst/>
            <a:ahLst/>
            <a:rect l="l" t="t" r="r" b="b"/>
            <a:pathLst>
              <a:path w="21600" h="21600">
                <a:moveTo>
                  <a:pt x="1800" y="21600"/>
                </a:moveTo>
                <a:lnTo>
                  <a:pt x="19800" y="21600"/>
                </a:lnTo>
                <a:cubicBezTo>
                  <a:pt x="20791" y="21600"/>
                  <a:pt x="21600" y="16770"/>
                  <a:pt x="21600" y="10800"/>
                </a:cubicBezTo>
                <a:cubicBezTo>
                  <a:pt x="21600" y="4830"/>
                  <a:pt x="20791" y="0"/>
                  <a:pt x="19800" y="0"/>
                </a:cubicBezTo>
                <a:lnTo>
                  <a:pt x="1800" y="0"/>
                </a:lnTo>
                <a:cubicBezTo>
                  <a:pt x="802" y="0"/>
                  <a:pt x="0" y="4830"/>
                  <a:pt x="0" y="10800"/>
                </a:cubicBezTo>
                <a:cubicBezTo>
                  <a:pt x="0" y="16770"/>
                  <a:pt x="802" y="21600"/>
                  <a:pt x="18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15" name="AutoShape 72"/>
          <p:cNvSpPr/>
          <p:nvPr/>
        </p:nvSpPr>
        <p:spPr>
          <a:xfrm>
            <a:off x="20583360" y="3643200"/>
            <a:ext cx="378000" cy="30240"/>
          </a:xfrm>
          <a:custGeom>
            <a:avLst/>
            <a:gdLst/>
            <a:ahLst/>
            <a:rect l="l" t="t" r="r" b="b"/>
            <a:pathLst>
              <a:path w="21600" h="21600">
                <a:moveTo>
                  <a:pt x="0" y="10800"/>
                </a:moveTo>
                <a:cubicBezTo>
                  <a:pt x="0" y="16770"/>
                  <a:pt x="370" y="21600"/>
                  <a:pt x="831" y="21600"/>
                </a:cubicBezTo>
                <a:lnTo>
                  <a:pt x="20769" y="21600"/>
                </a:lnTo>
                <a:cubicBezTo>
                  <a:pt x="21227" y="21600"/>
                  <a:pt x="21600" y="16770"/>
                  <a:pt x="21600" y="10800"/>
                </a:cubicBezTo>
                <a:cubicBezTo>
                  <a:pt x="21600" y="4830"/>
                  <a:pt x="21227" y="0"/>
                  <a:pt x="20769" y="0"/>
                </a:cubicBezTo>
                <a:lnTo>
                  <a:pt x="831" y="0"/>
                </a:lnTo>
                <a:cubicBezTo>
                  <a:pt x="370" y="0"/>
                  <a:pt x="0" y="4830"/>
                  <a:pt x="0" y="108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16" name="AutoShape 73"/>
          <p:cNvSpPr/>
          <p:nvPr/>
        </p:nvSpPr>
        <p:spPr>
          <a:xfrm>
            <a:off x="20264400" y="3817800"/>
            <a:ext cx="696960" cy="28800"/>
          </a:xfrm>
          <a:custGeom>
            <a:avLst/>
            <a:gdLst/>
            <a:ahLst/>
            <a:rect l="l" t="t" r="r" b="b"/>
            <a:pathLst>
              <a:path w="21600" h="21600">
                <a:moveTo>
                  <a:pt x="21150" y="0"/>
                </a:moveTo>
                <a:lnTo>
                  <a:pt x="450" y="0"/>
                </a:lnTo>
                <a:cubicBezTo>
                  <a:pt x="201" y="0"/>
                  <a:pt x="0" y="4830"/>
                  <a:pt x="0" y="10800"/>
                </a:cubicBezTo>
                <a:cubicBezTo>
                  <a:pt x="0" y="16748"/>
                  <a:pt x="201" y="21600"/>
                  <a:pt x="450" y="21600"/>
                </a:cubicBezTo>
                <a:lnTo>
                  <a:pt x="21150" y="21600"/>
                </a:lnTo>
                <a:cubicBezTo>
                  <a:pt x="21398" y="21600"/>
                  <a:pt x="21600" y="16748"/>
                  <a:pt x="21600" y="10800"/>
                </a:cubicBezTo>
                <a:cubicBezTo>
                  <a:pt x="21600" y="4830"/>
                  <a:pt x="21398" y="0"/>
                  <a:pt x="2115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17" name="AutoShape 74"/>
          <p:cNvSpPr/>
          <p:nvPr/>
        </p:nvSpPr>
        <p:spPr>
          <a:xfrm>
            <a:off x="20264400" y="3905280"/>
            <a:ext cx="696960" cy="28440"/>
          </a:xfrm>
          <a:custGeom>
            <a:avLst/>
            <a:gdLst/>
            <a:ahLst/>
            <a:rect l="l" t="t" r="r" b="b"/>
            <a:pathLst>
              <a:path w="21600" h="21600">
                <a:moveTo>
                  <a:pt x="21150" y="0"/>
                </a:moveTo>
                <a:lnTo>
                  <a:pt x="450" y="0"/>
                </a:lnTo>
                <a:cubicBezTo>
                  <a:pt x="201" y="0"/>
                  <a:pt x="0" y="4830"/>
                  <a:pt x="0" y="10800"/>
                </a:cubicBezTo>
                <a:cubicBezTo>
                  <a:pt x="0" y="16748"/>
                  <a:pt x="201" y="21600"/>
                  <a:pt x="450" y="21600"/>
                </a:cubicBezTo>
                <a:lnTo>
                  <a:pt x="21150" y="21600"/>
                </a:lnTo>
                <a:cubicBezTo>
                  <a:pt x="21398" y="21600"/>
                  <a:pt x="21600" y="16748"/>
                  <a:pt x="21600" y="10800"/>
                </a:cubicBezTo>
                <a:cubicBezTo>
                  <a:pt x="21600" y="4830"/>
                  <a:pt x="21398" y="0"/>
                  <a:pt x="2115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18" name="AutoShape 75"/>
          <p:cNvSpPr/>
          <p:nvPr/>
        </p:nvSpPr>
        <p:spPr>
          <a:xfrm>
            <a:off x="20264400" y="3992400"/>
            <a:ext cx="696960" cy="28800"/>
          </a:xfrm>
          <a:custGeom>
            <a:avLst/>
            <a:gdLst/>
            <a:ahLst/>
            <a:rect l="l" t="t" r="r" b="b"/>
            <a:pathLst>
              <a:path w="21600" h="21600">
                <a:moveTo>
                  <a:pt x="21150" y="0"/>
                </a:moveTo>
                <a:lnTo>
                  <a:pt x="450" y="0"/>
                </a:lnTo>
                <a:cubicBezTo>
                  <a:pt x="201" y="0"/>
                  <a:pt x="0" y="4830"/>
                  <a:pt x="0" y="10800"/>
                </a:cubicBezTo>
                <a:cubicBezTo>
                  <a:pt x="0" y="16748"/>
                  <a:pt x="201" y="21600"/>
                  <a:pt x="450" y="21600"/>
                </a:cubicBezTo>
                <a:lnTo>
                  <a:pt x="21150" y="21600"/>
                </a:lnTo>
                <a:cubicBezTo>
                  <a:pt x="21398" y="21600"/>
                  <a:pt x="21600" y="16748"/>
                  <a:pt x="21600" y="10800"/>
                </a:cubicBezTo>
                <a:cubicBezTo>
                  <a:pt x="21600" y="4830"/>
                  <a:pt x="21398" y="0"/>
                  <a:pt x="2115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19" name="AutoShape 76"/>
          <p:cNvSpPr/>
          <p:nvPr/>
        </p:nvSpPr>
        <p:spPr>
          <a:xfrm>
            <a:off x="20264400" y="3730680"/>
            <a:ext cx="696960" cy="28440"/>
          </a:xfrm>
          <a:custGeom>
            <a:avLst/>
            <a:gdLst/>
            <a:ahLst/>
            <a:rect l="l" t="t" r="r" b="b"/>
            <a:pathLst>
              <a:path w="21600" h="21600">
                <a:moveTo>
                  <a:pt x="21150" y="0"/>
                </a:moveTo>
                <a:lnTo>
                  <a:pt x="450" y="0"/>
                </a:lnTo>
                <a:cubicBezTo>
                  <a:pt x="201" y="0"/>
                  <a:pt x="0" y="4830"/>
                  <a:pt x="0" y="10800"/>
                </a:cubicBezTo>
                <a:cubicBezTo>
                  <a:pt x="0" y="16770"/>
                  <a:pt x="201" y="21600"/>
                  <a:pt x="450" y="21600"/>
                </a:cubicBezTo>
                <a:lnTo>
                  <a:pt x="21150" y="21600"/>
                </a:lnTo>
                <a:cubicBezTo>
                  <a:pt x="21398" y="21600"/>
                  <a:pt x="21600" y="16770"/>
                  <a:pt x="21600" y="10800"/>
                </a:cubicBezTo>
                <a:cubicBezTo>
                  <a:pt x="21600" y="4830"/>
                  <a:pt x="21398" y="0"/>
                  <a:pt x="2115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20" name="AutoShape 77"/>
          <p:cNvSpPr/>
          <p:nvPr/>
        </p:nvSpPr>
        <p:spPr>
          <a:xfrm>
            <a:off x="20264400" y="3440160"/>
            <a:ext cx="262080" cy="233280"/>
          </a:xfrm>
          <a:custGeom>
            <a:avLst/>
            <a:gdLst/>
            <a:ahLst/>
            <a:rect l="l" t="t" r="r" b="b"/>
            <a:pathLst>
              <a:path w="21600" h="21600">
                <a:moveTo>
                  <a:pt x="4799" y="5400"/>
                </a:moveTo>
                <a:lnTo>
                  <a:pt x="16801" y="5400"/>
                </a:lnTo>
                <a:lnTo>
                  <a:pt x="16801" y="16200"/>
                </a:lnTo>
                <a:lnTo>
                  <a:pt x="4799" y="16200"/>
                </a:lnTo>
                <a:cubicBezTo>
                  <a:pt x="4799" y="16200"/>
                  <a:pt x="4799" y="5400"/>
                  <a:pt x="4799" y="5400"/>
                </a:cubicBezTo>
                <a:close/>
                <a:moveTo>
                  <a:pt x="2400" y="21600"/>
                </a:moveTo>
                <a:lnTo>
                  <a:pt x="19200" y="21600"/>
                </a:lnTo>
                <a:cubicBezTo>
                  <a:pt x="20527" y="21600"/>
                  <a:pt x="21600" y="20392"/>
                  <a:pt x="21600" y="18900"/>
                </a:cubicBezTo>
                <a:lnTo>
                  <a:pt x="21600" y="2700"/>
                </a:lnTo>
                <a:cubicBezTo>
                  <a:pt x="21600" y="1208"/>
                  <a:pt x="20527" y="0"/>
                  <a:pt x="19200" y="0"/>
                </a:cubicBezTo>
                <a:lnTo>
                  <a:pt x="2400" y="0"/>
                </a:lnTo>
                <a:cubicBezTo>
                  <a:pt x="1073" y="0"/>
                  <a:pt x="0" y="1208"/>
                  <a:pt x="0" y="2700"/>
                </a:cubicBezTo>
                <a:lnTo>
                  <a:pt x="0" y="18900"/>
                </a:lnTo>
                <a:cubicBezTo>
                  <a:pt x="0" y="20392"/>
                  <a:pt x="1073" y="21600"/>
                  <a:pt x="24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21" name="AutoShape 78"/>
          <p:cNvSpPr/>
          <p:nvPr/>
        </p:nvSpPr>
        <p:spPr>
          <a:xfrm>
            <a:off x="18319680" y="3295800"/>
            <a:ext cx="870120" cy="928440"/>
          </a:xfrm>
          <a:custGeom>
            <a:avLst/>
            <a:gdLst/>
            <a:ahLst/>
            <a:rect l="l" t="t" r="r" b="b"/>
            <a:pathLst>
              <a:path w="21600" h="21600">
                <a:moveTo>
                  <a:pt x="20160" y="18900"/>
                </a:moveTo>
                <a:cubicBezTo>
                  <a:pt x="20160" y="19644"/>
                  <a:pt x="19514" y="20250"/>
                  <a:pt x="18720" y="20250"/>
                </a:cubicBezTo>
                <a:lnTo>
                  <a:pt x="2880" y="20250"/>
                </a:lnTo>
                <a:cubicBezTo>
                  <a:pt x="2086" y="20250"/>
                  <a:pt x="1440" y="19644"/>
                  <a:pt x="1440" y="18900"/>
                </a:cubicBezTo>
                <a:lnTo>
                  <a:pt x="1440" y="2700"/>
                </a:lnTo>
                <a:cubicBezTo>
                  <a:pt x="1440" y="1956"/>
                  <a:pt x="2086" y="1350"/>
                  <a:pt x="2880" y="1350"/>
                </a:cubicBezTo>
                <a:lnTo>
                  <a:pt x="18720" y="1350"/>
                </a:lnTo>
                <a:cubicBezTo>
                  <a:pt x="19514" y="1350"/>
                  <a:pt x="20160" y="1956"/>
                  <a:pt x="20160" y="2700"/>
                </a:cubicBezTo>
                <a:cubicBezTo>
                  <a:pt x="20160" y="2700"/>
                  <a:pt x="20160" y="18900"/>
                  <a:pt x="20160" y="18900"/>
                </a:cubicBezTo>
                <a:close/>
                <a:moveTo>
                  <a:pt x="18720" y="0"/>
                </a:moveTo>
                <a:lnTo>
                  <a:pt x="2880" y="0"/>
                </a:lnTo>
                <a:cubicBezTo>
                  <a:pt x="1290" y="0"/>
                  <a:pt x="0" y="1209"/>
                  <a:pt x="0" y="2700"/>
                </a:cubicBezTo>
                <a:lnTo>
                  <a:pt x="0" y="18900"/>
                </a:lnTo>
                <a:cubicBezTo>
                  <a:pt x="0" y="20391"/>
                  <a:pt x="1290" y="21600"/>
                  <a:pt x="2880" y="21600"/>
                </a:cubicBezTo>
                <a:lnTo>
                  <a:pt x="18720" y="21600"/>
                </a:lnTo>
                <a:cubicBezTo>
                  <a:pt x="20310" y="21600"/>
                  <a:pt x="21600" y="20391"/>
                  <a:pt x="21600" y="18900"/>
                </a:cubicBezTo>
                <a:lnTo>
                  <a:pt x="21600" y="2700"/>
                </a:lnTo>
                <a:cubicBezTo>
                  <a:pt x="21600" y="1209"/>
                  <a:pt x="20310" y="0"/>
                  <a:pt x="1872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22" name="AutoShape 79"/>
          <p:cNvSpPr/>
          <p:nvPr/>
        </p:nvSpPr>
        <p:spPr>
          <a:xfrm>
            <a:off x="18435600" y="3411360"/>
            <a:ext cx="638280" cy="581040"/>
          </a:xfrm>
          <a:custGeom>
            <a:avLst/>
            <a:gdLst/>
            <a:ahLst/>
            <a:rect l="l" t="t" r="r" b="b"/>
            <a:pathLst>
              <a:path w="21600" h="21600">
                <a:moveTo>
                  <a:pt x="17419" y="20520"/>
                </a:moveTo>
                <a:lnTo>
                  <a:pt x="14053" y="16249"/>
                </a:lnTo>
                <a:lnTo>
                  <a:pt x="16691" y="12960"/>
                </a:lnTo>
                <a:lnTo>
                  <a:pt x="20618" y="17689"/>
                </a:lnTo>
                <a:lnTo>
                  <a:pt x="20618" y="20520"/>
                </a:lnTo>
                <a:cubicBezTo>
                  <a:pt x="20618" y="20520"/>
                  <a:pt x="17419" y="20520"/>
                  <a:pt x="17419" y="20520"/>
                </a:cubicBezTo>
                <a:close/>
                <a:moveTo>
                  <a:pt x="982" y="11447"/>
                </a:moveTo>
                <a:lnTo>
                  <a:pt x="4909" y="6480"/>
                </a:lnTo>
                <a:lnTo>
                  <a:pt x="12829" y="16354"/>
                </a:lnTo>
                <a:lnTo>
                  <a:pt x="13398" y="17065"/>
                </a:lnTo>
                <a:lnTo>
                  <a:pt x="16110" y="20520"/>
                </a:lnTo>
                <a:lnTo>
                  <a:pt x="982" y="20520"/>
                </a:lnTo>
                <a:cubicBezTo>
                  <a:pt x="982" y="20520"/>
                  <a:pt x="982" y="11447"/>
                  <a:pt x="982" y="11447"/>
                </a:cubicBezTo>
                <a:close/>
                <a:moveTo>
                  <a:pt x="20618" y="1080"/>
                </a:moveTo>
                <a:lnTo>
                  <a:pt x="20618" y="16059"/>
                </a:lnTo>
                <a:lnTo>
                  <a:pt x="17427" y="12245"/>
                </a:lnTo>
                <a:cubicBezTo>
                  <a:pt x="17240" y="12013"/>
                  <a:pt x="16973" y="11880"/>
                  <a:pt x="16691" y="11880"/>
                </a:cubicBezTo>
                <a:cubicBezTo>
                  <a:pt x="16409" y="11880"/>
                  <a:pt x="16142" y="12013"/>
                  <a:pt x="15955" y="12245"/>
                </a:cubicBezTo>
                <a:lnTo>
                  <a:pt x="13399" y="15432"/>
                </a:lnTo>
                <a:lnTo>
                  <a:pt x="5645" y="5765"/>
                </a:lnTo>
                <a:cubicBezTo>
                  <a:pt x="5458" y="5533"/>
                  <a:pt x="5191" y="5400"/>
                  <a:pt x="4909" y="5400"/>
                </a:cubicBezTo>
                <a:cubicBezTo>
                  <a:pt x="4627" y="5400"/>
                  <a:pt x="4360" y="5533"/>
                  <a:pt x="4173" y="5765"/>
                </a:cubicBezTo>
                <a:lnTo>
                  <a:pt x="982" y="9813"/>
                </a:lnTo>
                <a:lnTo>
                  <a:pt x="982" y="1080"/>
                </a:lnTo>
                <a:cubicBezTo>
                  <a:pt x="982" y="1080"/>
                  <a:pt x="20618" y="1080"/>
                  <a:pt x="20618" y="1080"/>
                </a:cubicBezTo>
                <a:close/>
                <a:moveTo>
                  <a:pt x="20618" y="0"/>
                </a:moveTo>
                <a:lnTo>
                  <a:pt x="982" y="0"/>
                </a:lnTo>
                <a:cubicBezTo>
                  <a:pt x="439" y="0"/>
                  <a:pt x="0" y="483"/>
                  <a:pt x="0" y="1080"/>
                </a:cubicBezTo>
                <a:lnTo>
                  <a:pt x="0" y="20520"/>
                </a:lnTo>
                <a:cubicBezTo>
                  <a:pt x="0" y="21117"/>
                  <a:pt x="439" y="21600"/>
                  <a:pt x="982" y="21600"/>
                </a:cubicBezTo>
                <a:lnTo>
                  <a:pt x="20618" y="21600"/>
                </a:lnTo>
                <a:cubicBezTo>
                  <a:pt x="21161" y="21600"/>
                  <a:pt x="21600" y="21117"/>
                  <a:pt x="21600" y="20520"/>
                </a:cubicBezTo>
                <a:lnTo>
                  <a:pt x="21600" y="1080"/>
                </a:lnTo>
                <a:cubicBezTo>
                  <a:pt x="21600" y="483"/>
                  <a:pt x="21161" y="0"/>
                  <a:pt x="20618"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23" name="AutoShape 80"/>
          <p:cNvSpPr/>
          <p:nvPr/>
        </p:nvSpPr>
        <p:spPr>
          <a:xfrm>
            <a:off x="18783360" y="3498840"/>
            <a:ext cx="174600" cy="174600"/>
          </a:xfrm>
          <a:custGeom>
            <a:avLst/>
            <a:gdLst/>
            <a:ahLst/>
            <a:rect l="l" t="t" r="r" b="b"/>
            <a:pathLst>
              <a:path w="21600" h="21600">
                <a:moveTo>
                  <a:pt x="10800" y="3600"/>
                </a:moveTo>
                <a:cubicBezTo>
                  <a:pt x="14769" y="3600"/>
                  <a:pt x="18000" y="6827"/>
                  <a:pt x="18000" y="10800"/>
                </a:cubicBezTo>
                <a:cubicBezTo>
                  <a:pt x="18000" y="14769"/>
                  <a:pt x="14769" y="18000"/>
                  <a:pt x="10800" y="18000"/>
                </a:cubicBezTo>
                <a:cubicBezTo>
                  <a:pt x="6831" y="18000"/>
                  <a:pt x="3600" y="14769"/>
                  <a:pt x="3600" y="10800"/>
                </a:cubicBezTo>
                <a:cubicBezTo>
                  <a:pt x="3600" y="6827"/>
                  <a:pt x="6831" y="3600"/>
                  <a:pt x="10800" y="3600"/>
                </a:cubicBezTo>
                <a:moveTo>
                  <a:pt x="10800" y="21600"/>
                </a:moveTo>
                <a:cubicBezTo>
                  <a:pt x="16766" y="21600"/>
                  <a:pt x="21600" y="16763"/>
                  <a:pt x="21600" y="10800"/>
                </a:cubicBezTo>
                <a:cubicBezTo>
                  <a:pt x="21600" y="4834"/>
                  <a:pt x="16766" y="0"/>
                  <a:pt x="10800" y="0"/>
                </a:cubicBezTo>
                <a:cubicBezTo>
                  <a:pt x="4834" y="0"/>
                  <a:pt x="0" y="4834"/>
                  <a:pt x="0" y="10800"/>
                </a:cubicBezTo>
                <a:cubicBezTo>
                  <a:pt x="0" y="16763"/>
                  <a:pt x="4834" y="21600"/>
                  <a:pt x="108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24" name="AutoShape 81"/>
          <p:cNvSpPr/>
          <p:nvPr/>
        </p:nvSpPr>
        <p:spPr>
          <a:xfrm>
            <a:off x="16432200" y="3295800"/>
            <a:ext cx="928800" cy="928440"/>
          </a:xfrm>
          <a:custGeom>
            <a:avLst/>
            <a:gdLst/>
            <a:ahLst/>
            <a:rect l="l" t="t" r="r" b="b"/>
            <a:pathLst>
              <a:path w="21600" h="21600">
                <a:moveTo>
                  <a:pt x="20235" y="9811"/>
                </a:moveTo>
                <a:cubicBezTo>
                  <a:pt x="20221" y="10145"/>
                  <a:pt x="20081" y="10800"/>
                  <a:pt x="18900" y="10800"/>
                </a:cubicBezTo>
                <a:lnTo>
                  <a:pt x="17550" y="10800"/>
                </a:lnTo>
                <a:cubicBezTo>
                  <a:pt x="17364" y="10800"/>
                  <a:pt x="17212" y="10951"/>
                  <a:pt x="17212" y="11138"/>
                </a:cubicBezTo>
                <a:cubicBezTo>
                  <a:pt x="17212" y="11324"/>
                  <a:pt x="17364" y="11475"/>
                  <a:pt x="17550" y="11475"/>
                </a:cubicBezTo>
                <a:lnTo>
                  <a:pt x="18858" y="11475"/>
                </a:lnTo>
                <a:cubicBezTo>
                  <a:pt x="19871" y="11475"/>
                  <a:pt x="20003" y="12315"/>
                  <a:pt x="19938" y="12720"/>
                </a:cubicBezTo>
                <a:cubicBezTo>
                  <a:pt x="19856" y="13223"/>
                  <a:pt x="19619" y="14175"/>
                  <a:pt x="18479" y="14175"/>
                </a:cubicBezTo>
                <a:lnTo>
                  <a:pt x="16875" y="14175"/>
                </a:lnTo>
                <a:cubicBezTo>
                  <a:pt x="16689" y="14175"/>
                  <a:pt x="16537" y="14326"/>
                  <a:pt x="16537" y="14513"/>
                </a:cubicBezTo>
                <a:cubicBezTo>
                  <a:pt x="16537" y="14699"/>
                  <a:pt x="16689" y="14850"/>
                  <a:pt x="16875" y="14850"/>
                </a:cubicBezTo>
                <a:lnTo>
                  <a:pt x="18204" y="14850"/>
                </a:lnTo>
                <a:cubicBezTo>
                  <a:pt x="19343" y="14850"/>
                  <a:pt x="19243" y="15719"/>
                  <a:pt x="19080" y="16238"/>
                </a:cubicBezTo>
                <a:cubicBezTo>
                  <a:pt x="18865" y="16919"/>
                  <a:pt x="18733" y="17550"/>
                  <a:pt x="17298" y="17550"/>
                </a:cubicBezTo>
                <a:lnTo>
                  <a:pt x="16197" y="17550"/>
                </a:lnTo>
                <a:cubicBezTo>
                  <a:pt x="16009" y="17550"/>
                  <a:pt x="15859" y="17701"/>
                  <a:pt x="15859" y="17888"/>
                </a:cubicBezTo>
                <a:cubicBezTo>
                  <a:pt x="15859" y="18073"/>
                  <a:pt x="16009" y="18225"/>
                  <a:pt x="16197" y="18225"/>
                </a:cubicBezTo>
                <a:lnTo>
                  <a:pt x="17255" y="18225"/>
                </a:lnTo>
                <a:cubicBezTo>
                  <a:pt x="17993" y="18225"/>
                  <a:pt x="18028" y="18924"/>
                  <a:pt x="17951" y="19174"/>
                </a:cubicBezTo>
                <a:cubicBezTo>
                  <a:pt x="17866" y="19448"/>
                  <a:pt x="17767" y="19651"/>
                  <a:pt x="17763" y="19661"/>
                </a:cubicBezTo>
                <a:cubicBezTo>
                  <a:pt x="17558" y="20029"/>
                  <a:pt x="17230" y="20250"/>
                  <a:pt x="16534" y="20250"/>
                </a:cubicBezTo>
                <a:lnTo>
                  <a:pt x="12844" y="20250"/>
                </a:lnTo>
                <a:cubicBezTo>
                  <a:pt x="10990" y="20250"/>
                  <a:pt x="9152" y="19829"/>
                  <a:pt x="9104" y="19819"/>
                </a:cubicBezTo>
                <a:cubicBezTo>
                  <a:pt x="6300" y="19173"/>
                  <a:pt x="6152" y="19123"/>
                  <a:pt x="5976" y="19073"/>
                </a:cubicBezTo>
                <a:cubicBezTo>
                  <a:pt x="5976" y="19073"/>
                  <a:pt x="5405" y="18976"/>
                  <a:pt x="5405" y="18478"/>
                </a:cubicBezTo>
                <a:lnTo>
                  <a:pt x="5400" y="9155"/>
                </a:lnTo>
                <a:cubicBezTo>
                  <a:pt x="5400" y="8840"/>
                  <a:pt x="5602" y="8553"/>
                  <a:pt x="5936" y="8452"/>
                </a:cubicBezTo>
                <a:cubicBezTo>
                  <a:pt x="5978" y="8436"/>
                  <a:pt x="6034" y="8419"/>
                  <a:pt x="6075" y="8401"/>
                </a:cubicBezTo>
                <a:cubicBezTo>
                  <a:pt x="9159" y="7125"/>
                  <a:pt x="10097" y="4324"/>
                  <a:pt x="10125" y="2025"/>
                </a:cubicBezTo>
                <a:cubicBezTo>
                  <a:pt x="10129" y="1702"/>
                  <a:pt x="10378" y="1350"/>
                  <a:pt x="10800" y="1350"/>
                </a:cubicBezTo>
                <a:cubicBezTo>
                  <a:pt x="11514" y="1350"/>
                  <a:pt x="12775" y="2782"/>
                  <a:pt x="12775" y="4555"/>
                </a:cubicBezTo>
                <a:cubicBezTo>
                  <a:pt x="12775" y="6155"/>
                  <a:pt x="12712" y="6432"/>
                  <a:pt x="12150" y="8100"/>
                </a:cubicBezTo>
                <a:cubicBezTo>
                  <a:pt x="18900" y="8100"/>
                  <a:pt x="18853" y="8197"/>
                  <a:pt x="19449" y="8353"/>
                </a:cubicBezTo>
                <a:cubicBezTo>
                  <a:pt x="20187" y="8564"/>
                  <a:pt x="20250" y="9176"/>
                  <a:pt x="20250" y="9387"/>
                </a:cubicBezTo>
                <a:cubicBezTo>
                  <a:pt x="20250" y="9618"/>
                  <a:pt x="20244" y="9584"/>
                  <a:pt x="20235" y="9811"/>
                </a:cubicBezTo>
                <a:moveTo>
                  <a:pt x="4725" y="19575"/>
                </a:moveTo>
                <a:cubicBezTo>
                  <a:pt x="4725" y="19948"/>
                  <a:pt x="4423" y="20250"/>
                  <a:pt x="4050" y="20250"/>
                </a:cubicBezTo>
                <a:lnTo>
                  <a:pt x="2025" y="20250"/>
                </a:lnTo>
                <a:cubicBezTo>
                  <a:pt x="1652" y="20250"/>
                  <a:pt x="1350" y="19948"/>
                  <a:pt x="1350" y="19575"/>
                </a:cubicBezTo>
                <a:lnTo>
                  <a:pt x="1350" y="8775"/>
                </a:lnTo>
                <a:cubicBezTo>
                  <a:pt x="1350" y="8402"/>
                  <a:pt x="1652" y="8100"/>
                  <a:pt x="2025" y="8100"/>
                </a:cubicBezTo>
                <a:lnTo>
                  <a:pt x="4050" y="8100"/>
                </a:lnTo>
                <a:cubicBezTo>
                  <a:pt x="4423" y="8100"/>
                  <a:pt x="4725" y="8402"/>
                  <a:pt x="4725" y="8775"/>
                </a:cubicBezTo>
                <a:cubicBezTo>
                  <a:pt x="4725" y="8775"/>
                  <a:pt x="4725" y="19575"/>
                  <a:pt x="4725" y="19575"/>
                </a:cubicBezTo>
                <a:close/>
                <a:moveTo>
                  <a:pt x="19686" y="7069"/>
                </a:moveTo>
                <a:cubicBezTo>
                  <a:pt x="18843" y="6847"/>
                  <a:pt x="16858" y="6850"/>
                  <a:pt x="13956" y="6773"/>
                </a:cubicBezTo>
                <a:cubicBezTo>
                  <a:pt x="14094" y="6140"/>
                  <a:pt x="14125" y="5569"/>
                  <a:pt x="14125" y="4555"/>
                </a:cubicBezTo>
                <a:cubicBezTo>
                  <a:pt x="14125" y="2133"/>
                  <a:pt x="12361" y="0"/>
                  <a:pt x="10800" y="0"/>
                </a:cubicBezTo>
                <a:cubicBezTo>
                  <a:pt x="9699" y="0"/>
                  <a:pt x="8789" y="901"/>
                  <a:pt x="8775" y="2009"/>
                </a:cubicBezTo>
                <a:cubicBezTo>
                  <a:pt x="8760" y="3368"/>
                  <a:pt x="8340" y="5716"/>
                  <a:pt x="6075" y="6907"/>
                </a:cubicBezTo>
                <a:cubicBezTo>
                  <a:pt x="5909" y="6995"/>
                  <a:pt x="5434" y="7229"/>
                  <a:pt x="5365" y="7260"/>
                </a:cubicBezTo>
                <a:lnTo>
                  <a:pt x="5400" y="7290"/>
                </a:lnTo>
                <a:cubicBezTo>
                  <a:pt x="5046" y="6985"/>
                  <a:pt x="4555" y="6750"/>
                  <a:pt x="4050" y="6750"/>
                </a:cubicBezTo>
                <a:lnTo>
                  <a:pt x="2025" y="6750"/>
                </a:lnTo>
                <a:cubicBezTo>
                  <a:pt x="909" y="6750"/>
                  <a:pt x="0" y="7658"/>
                  <a:pt x="0" y="8775"/>
                </a:cubicBezTo>
                <a:lnTo>
                  <a:pt x="0" y="19575"/>
                </a:lnTo>
                <a:cubicBezTo>
                  <a:pt x="0" y="20692"/>
                  <a:pt x="909" y="21600"/>
                  <a:pt x="2025" y="21600"/>
                </a:cubicBezTo>
                <a:lnTo>
                  <a:pt x="4050" y="21600"/>
                </a:lnTo>
                <a:cubicBezTo>
                  <a:pt x="4854" y="21600"/>
                  <a:pt x="5526" y="21115"/>
                  <a:pt x="5851" y="20435"/>
                </a:cubicBezTo>
                <a:cubicBezTo>
                  <a:pt x="5859" y="20437"/>
                  <a:pt x="5874" y="20441"/>
                  <a:pt x="5883" y="20442"/>
                </a:cubicBezTo>
                <a:cubicBezTo>
                  <a:pt x="5928" y="20454"/>
                  <a:pt x="5980" y="20468"/>
                  <a:pt x="6045" y="20485"/>
                </a:cubicBezTo>
                <a:cubicBezTo>
                  <a:pt x="6056" y="20487"/>
                  <a:pt x="6063" y="20489"/>
                  <a:pt x="6075" y="20493"/>
                </a:cubicBezTo>
                <a:cubicBezTo>
                  <a:pt x="6465" y="20589"/>
                  <a:pt x="7212" y="20768"/>
                  <a:pt x="8812" y="21136"/>
                </a:cubicBezTo>
                <a:cubicBezTo>
                  <a:pt x="9156" y="21214"/>
                  <a:pt x="10967" y="21600"/>
                  <a:pt x="12844" y="21600"/>
                </a:cubicBezTo>
                <a:lnTo>
                  <a:pt x="16534" y="21600"/>
                </a:lnTo>
                <a:cubicBezTo>
                  <a:pt x="17659" y="21600"/>
                  <a:pt x="18469" y="21168"/>
                  <a:pt x="18952" y="20299"/>
                </a:cubicBezTo>
                <a:cubicBezTo>
                  <a:pt x="18959" y="20286"/>
                  <a:pt x="19115" y="19982"/>
                  <a:pt x="19241" y="19572"/>
                </a:cubicBezTo>
                <a:cubicBezTo>
                  <a:pt x="19336" y="19264"/>
                  <a:pt x="19372" y="18827"/>
                  <a:pt x="19257" y="18385"/>
                </a:cubicBezTo>
                <a:cubicBezTo>
                  <a:pt x="19981" y="17886"/>
                  <a:pt x="20215" y="17133"/>
                  <a:pt x="20367" y="16644"/>
                </a:cubicBezTo>
                <a:cubicBezTo>
                  <a:pt x="20620" y="15839"/>
                  <a:pt x="20544" y="15236"/>
                  <a:pt x="20367" y="14803"/>
                </a:cubicBezTo>
                <a:cubicBezTo>
                  <a:pt x="20775" y="14418"/>
                  <a:pt x="21123" y="13832"/>
                  <a:pt x="21270" y="12936"/>
                </a:cubicBezTo>
                <a:cubicBezTo>
                  <a:pt x="21361" y="12381"/>
                  <a:pt x="21263" y="11810"/>
                  <a:pt x="21007" y="11335"/>
                </a:cubicBezTo>
                <a:cubicBezTo>
                  <a:pt x="21389" y="10905"/>
                  <a:pt x="21564" y="10366"/>
                  <a:pt x="21583" y="9866"/>
                </a:cubicBezTo>
                <a:lnTo>
                  <a:pt x="21591" y="9725"/>
                </a:lnTo>
                <a:cubicBezTo>
                  <a:pt x="21597" y="9636"/>
                  <a:pt x="21600" y="9581"/>
                  <a:pt x="21600" y="9387"/>
                </a:cubicBezTo>
                <a:cubicBezTo>
                  <a:pt x="21600" y="8534"/>
                  <a:pt x="21010" y="7447"/>
                  <a:pt x="19686" y="7069"/>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25" name="AutoShape 82"/>
          <p:cNvSpPr/>
          <p:nvPr/>
        </p:nvSpPr>
        <p:spPr>
          <a:xfrm>
            <a:off x="16519680" y="4049640"/>
            <a:ext cx="87120" cy="87480"/>
          </a:xfrm>
          <a:custGeom>
            <a:avLst/>
            <a:gdLst/>
            <a:ahLst/>
            <a:rect l="l" t="t" r="r" b="b"/>
            <a:pathLst>
              <a:path w="21600" h="21600">
                <a:moveTo>
                  <a:pt x="10800" y="14400"/>
                </a:moveTo>
                <a:cubicBezTo>
                  <a:pt x="8821" y="14400"/>
                  <a:pt x="7200" y="12783"/>
                  <a:pt x="7200" y="10800"/>
                </a:cubicBezTo>
                <a:cubicBezTo>
                  <a:pt x="7200" y="8817"/>
                  <a:pt x="8821" y="7200"/>
                  <a:pt x="10800" y="7200"/>
                </a:cubicBezTo>
                <a:cubicBezTo>
                  <a:pt x="12779" y="7200"/>
                  <a:pt x="14400" y="8817"/>
                  <a:pt x="14400" y="10800"/>
                </a:cubicBezTo>
                <a:cubicBezTo>
                  <a:pt x="14400" y="12783"/>
                  <a:pt x="12779" y="14400"/>
                  <a:pt x="10800" y="14400"/>
                </a:cubicBezTo>
                <a:moveTo>
                  <a:pt x="10800" y="0"/>
                </a:moveTo>
                <a:cubicBezTo>
                  <a:pt x="4837" y="0"/>
                  <a:pt x="0" y="4838"/>
                  <a:pt x="0" y="10800"/>
                </a:cubicBezTo>
                <a:cubicBezTo>
                  <a:pt x="0" y="16763"/>
                  <a:pt x="4837" y="21600"/>
                  <a:pt x="10800" y="21600"/>
                </a:cubicBezTo>
                <a:cubicBezTo>
                  <a:pt x="16762" y="21600"/>
                  <a:pt x="21600" y="16763"/>
                  <a:pt x="21600" y="10800"/>
                </a:cubicBezTo>
                <a:cubicBezTo>
                  <a:pt x="21600" y="4838"/>
                  <a:pt x="16762"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26" name="AutoShape 83"/>
          <p:cNvSpPr/>
          <p:nvPr/>
        </p:nvSpPr>
        <p:spPr>
          <a:xfrm>
            <a:off x="14574960" y="3440160"/>
            <a:ext cx="928440" cy="609480"/>
          </a:xfrm>
          <a:custGeom>
            <a:avLst/>
            <a:gdLst/>
            <a:ahLst/>
            <a:rect l="l" t="t" r="r" b="b"/>
            <a:pathLst>
              <a:path w="21600" h="21600">
                <a:moveTo>
                  <a:pt x="11610" y="13990"/>
                </a:moveTo>
                <a:cubicBezTo>
                  <a:pt x="11374" y="14259"/>
                  <a:pt x="11094" y="14401"/>
                  <a:pt x="10800" y="14401"/>
                </a:cubicBezTo>
                <a:cubicBezTo>
                  <a:pt x="10506" y="14401"/>
                  <a:pt x="10226" y="14259"/>
                  <a:pt x="9990" y="13990"/>
                </a:cubicBezTo>
                <a:lnTo>
                  <a:pt x="7199" y="10800"/>
                </a:lnTo>
                <a:lnTo>
                  <a:pt x="6637" y="10157"/>
                </a:lnTo>
                <a:lnTo>
                  <a:pt x="1350" y="4115"/>
                </a:lnTo>
                <a:lnTo>
                  <a:pt x="1350" y="4114"/>
                </a:lnTo>
                <a:cubicBezTo>
                  <a:pt x="1350" y="2980"/>
                  <a:pt x="1955" y="2057"/>
                  <a:pt x="2700" y="2057"/>
                </a:cubicBezTo>
                <a:lnTo>
                  <a:pt x="18900" y="2057"/>
                </a:lnTo>
                <a:cubicBezTo>
                  <a:pt x="19644" y="2057"/>
                  <a:pt x="20250" y="2980"/>
                  <a:pt x="20250" y="4114"/>
                </a:cubicBezTo>
                <a:cubicBezTo>
                  <a:pt x="20250" y="4114"/>
                  <a:pt x="11610" y="13990"/>
                  <a:pt x="11610" y="13990"/>
                </a:cubicBezTo>
                <a:close/>
                <a:moveTo>
                  <a:pt x="20250" y="16199"/>
                </a:moveTo>
                <a:lnTo>
                  <a:pt x="15526" y="10800"/>
                </a:lnTo>
                <a:lnTo>
                  <a:pt x="20250" y="5400"/>
                </a:lnTo>
                <a:cubicBezTo>
                  <a:pt x="20250" y="5400"/>
                  <a:pt x="20250" y="16199"/>
                  <a:pt x="20250" y="16199"/>
                </a:cubicBezTo>
                <a:close/>
                <a:moveTo>
                  <a:pt x="20250" y="17485"/>
                </a:moveTo>
                <a:cubicBezTo>
                  <a:pt x="20250" y="18621"/>
                  <a:pt x="19644" y="19542"/>
                  <a:pt x="18900" y="19542"/>
                </a:cubicBezTo>
                <a:lnTo>
                  <a:pt x="2700" y="19542"/>
                </a:lnTo>
                <a:cubicBezTo>
                  <a:pt x="1955" y="19542"/>
                  <a:pt x="1350" y="18621"/>
                  <a:pt x="1350" y="17485"/>
                </a:cubicBezTo>
                <a:lnTo>
                  <a:pt x="6637" y="11443"/>
                </a:lnTo>
                <a:lnTo>
                  <a:pt x="9585" y="14814"/>
                </a:lnTo>
                <a:cubicBezTo>
                  <a:pt x="9945" y="15223"/>
                  <a:pt x="10372" y="15430"/>
                  <a:pt x="10800" y="15430"/>
                </a:cubicBezTo>
                <a:cubicBezTo>
                  <a:pt x="11228" y="15430"/>
                  <a:pt x="11655" y="15223"/>
                  <a:pt x="12015" y="14814"/>
                </a:cubicBezTo>
                <a:lnTo>
                  <a:pt x="14963" y="11443"/>
                </a:lnTo>
                <a:cubicBezTo>
                  <a:pt x="14963" y="11443"/>
                  <a:pt x="20250" y="17485"/>
                  <a:pt x="20250" y="17485"/>
                </a:cubicBezTo>
                <a:close/>
                <a:moveTo>
                  <a:pt x="1350" y="5400"/>
                </a:moveTo>
                <a:lnTo>
                  <a:pt x="6074" y="10800"/>
                </a:lnTo>
                <a:lnTo>
                  <a:pt x="1350" y="16199"/>
                </a:lnTo>
                <a:cubicBezTo>
                  <a:pt x="1350" y="16199"/>
                  <a:pt x="1350" y="5400"/>
                  <a:pt x="1350" y="5400"/>
                </a:cubicBezTo>
                <a:close/>
                <a:moveTo>
                  <a:pt x="18900" y="0"/>
                </a:moveTo>
                <a:lnTo>
                  <a:pt x="2700" y="0"/>
                </a:lnTo>
                <a:cubicBezTo>
                  <a:pt x="1209" y="0"/>
                  <a:pt x="0" y="1842"/>
                  <a:pt x="0" y="4114"/>
                </a:cubicBezTo>
                <a:lnTo>
                  <a:pt x="0" y="17485"/>
                </a:lnTo>
                <a:cubicBezTo>
                  <a:pt x="0" y="19757"/>
                  <a:pt x="1209" y="21600"/>
                  <a:pt x="2700" y="21600"/>
                </a:cubicBezTo>
                <a:lnTo>
                  <a:pt x="18900" y="21600"/>
                </a:lnTo>
                <a:cubicBezTo>
                  <a:pt x="20391" y="21600"/>
                  <a:pt x="21600" y="19757"/>
                  <a:pt x="21600" y="17485"/>
                </a:cubicBezTo>
                <a:lnTo>
                  <a:pt x="21600" y="4114"/>
                </a:lnTo>
                <a:cubicBezTo>
                  <a:pt x="21600" y="1842"/>
                  <a:pt x="20391" y="0"/>
                  <a:pt x="189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27" name="AutoShape 84"/>
          <p:cNvSpPr/>
          <p:nvPr/>
        </p:nvSpPr>
        <p:spPr>
          <a:xfrm>
            <a:off x="12715920" y="3295800"/>
            <a:ext cx="930240" cy="928440"/>
          </a:xfrm>
          <a:custGeom>
            <a:avLst/>
            <a:gdLst/>
            <a:ahLst/>
            <a:rect l="l" t="t" r="r" b="b"/>
            <a:pathLst>
              <a:path w="21600" h="21600">
                <a:moveTo>
                  <a:pt x="20250" y="18900"/>
                </a:moveTo>
                <a:cubicBezTo>
                  <a:pt x="20250" y="19644"/>
                  <a:pt x="19645" y="20250"/>
                  <a:pt x="18900" y="20250"/>
                </a:cubicBezTo>
                <a:lnTo>
                  <a:pt x="2700" y="20250"/>
                </a:lnTo>
                <a:cubicBezTo>
                  <a:pt x="1955" y="20250"/>
                  <a:pt x="1350" y="19644"/>
                  <a:pt x="1350" y="18900"/>
                </a:cubicBezTo>
                <a:lnTo>
                  <a:pt x="1350" y="5400"/>
                </a:lnTo>
                <a:cubicBezTo>
                  <a:pt x="1350" y="5028"/>
                  <a:pt x="1653" y="4725"/>
                  <a:pt x="2025" y="4725"/>
                </a:cubicBezTo>
                <a:lnTo>
                  <a:pt x="2700" y="4725"/>
                </a:lnTo>
                <a:lnTo>
                  <a:pt x="2700" y="18225"/>
                </a:lnTo>
                <a:cubicBezTo>
                  <a:pt x="2700" y="18598"/>
                  <a:pt x="3002" y="18900"/>
                  <a:pt x="3375" y="18900"/>
                </a:cubicBezTo>
                <a:cubicBezTo>
                  <a:pt x="3748" y="18900"/>
                  <a:pt x="4050" y="18598"/>
                  <a:pt x="4050" y="18225"/>
                </a:cubicBezTo>
                <a:lnTo>
                  <a:pt x="4050" y="2025"/>
                </a:lnTo>
                <a:cubicBezTo>
                  <a:pt x="4050" y="1653"/>
                  <a:pt x="4353" y="1350"/>
                  <a:pt x="4725" y="1350"/>
                </a:cubicBezTo>
                <a:lnTo>
                  <a:pt x="19575" y="1350"/>
                </a:lnTo>
                <a:cubicBezTo>
                  <a:pt x="19947" y="1350"/>
                  <a:pt x="20250" y="1653"/>
                  <a:pt x="20250" y="2025"/>
                </a:cubicBezTo>
                <a:cubicBezTo>
                  <a:pt x="20250" y="2025"/>
                  <a:pt x="20250" y="18900"/>
                  <a:pt x="20250" y="18900"/>
                </a:cubicBezTo>
                <a:close/>
                <a:moveTo>
                  <a:pt x="19575" y="0"/>
                </a:moveTo>
                <a:lnTo>
                  <a:pt x="4725" y="0"/>
                </a:lnTo>
                <a:cubicBezTo>
                  <a:pt x="3606" y="0"/>
                  <a:pt x="2700" y="906"/>
                  <a:pt x="2700" y="2025"/>
                </a:cubicBezTo>
                <a:lnTo>
                  <a:pt x="2700" y="3375"/>
                </a:lnTo>
                <a:lnTo>
                  <a:pt x="2025" y="3375"/>
                </a:lnTo>
                <a:cubicBezTo>
                  <a:pt x="906" y="3375"/>
                  <a:pt x="0" y="4281"/>
                  <a:pt x="0" y="5400"/>
                </a:cubicBezTo>
                <a:lnTo>
                  <a:pt x="0" y="18900"/>
                </a:lnTo>
                <a:cubicBezTo>
                  <a:pt x="0" y="20391"/>
                  <a:pt x="1209" y="21600"/>
                  <a:pt x="2700" y="21600"/>
                </a:cubicBezTo>
                <a:lnTo>
                  <a:pt x="18900" y="21600"/>
                </a:lnTo>
                <a:cubicBezTo>
                  <a:pt x="20391" y="21600"/>
                  <a:pt x="21600" y="20391"/>
                  <a:pt x="21600" y="18900"/>
                </a:cubicBezTo>
                <a:lnTo>
                  <a:pt x="21600" y="2025"/>
                </a:lnTo>
                <a:cubicBezTo>
                  <a:pt x="21600" y="906"/>
                  <a:pt x="20694" y="0"/>
                  <a:pt x="19575"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28" name="AutoShape 85"/>
          <p:cNvSpPr/>
          <p:nvPr/>
        </p:nvSpPr>
        <p:spPr>
          <a:xfrm>
            <a:off x="13268160" y="3643200"/>
            <a:ext cx="260640" cy="30240"/>
          </a:xfrm>
          <a:custGeom>
            <a:avLst/>
            <a:gdLst/>
            <a:ahLst/>
            <a:rect l="l" t="t" r="r" b="b"/>
            <a:pathLst>
              <a:path w="21600" h="21600">
                <a:moveTo>
                  <a:pt x="1200" y="21600"/>
                </a:moveTo>
                <a:lnTo>
                  <a:pt x="20400" y="21600"/>
                </a:lnTo>
                <a:cubicBezTo>
                  <a:pt x="21062" y="21600"/>
                  <a:pt x="21600" y="16748"/>
                  <a:pt x="21600" y="10800"/>
                </a:cubicBezTo>
                <a:cubicBezTo>
                  <a:pt x="21600" y="4830"/>
                  <a:pt x="21062" y="0"/>
                  <a:pt x="20400" y="0"/>
                </a:cubicBezTo>
                <a:lnTo>
                  <a:pt x="1200" y="0"/>
                </a:lnTo>
                <a:cubicBezTo>
                  <a:pt x="538" y="0"/>
                  <a:pt x="0" y="4830"/>
                  <a:pt x="0" y="10800"/>
                </a:cubicBezTo>
                <a:cubicBezTo>
                  <a:pt x="0" y="16748"/>
                  <a:pt x="538" y="21600"/>
                  <a:pt x="12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29" name="AutoShape 86"/>
          <p:cNvSpPr/>
          <p:nvPr/>
        </p:nvSpPr>
        <p:spPr>
          <a:xfrm>
            <a:off x="13268160" y="3556080"/>
            <a:ext cx="260640" cy="30240"/>
          </a:xfrm>
          <a:custGeom>
            <a:avLst/>
            <a:gdLst/>
            <a:ahLst/>
            <a:rect l="l" t="t" r="r" b="b"/>
            <a:pathLst>
              <a:path w="21600" h="21600">
                <a:moveTo>
                  <a:pt x="1200" y="21600"/>
                </a:moveTo>
                <a:lnTo>
                  <a:pt x="20400" y="21600"/>
                </a:lnTo>
                <a:cubicBezTo>
                  <a:pt x="21062" y="21600"/>
                  <a:pt x="21600" y="16748"/>
                  <a:pt x="21600" y="10800"/>
                </a:cubicBezTo>
                <a:cubicBezTo>
                  <a:pt x="21600" y="4830"/>
                  <a:pt x="21062" y="0"/>
                  <a:pt x="20400" y="0"/>
                </a:cubicBezTo>
                <a:lnTo>
                  <a:pt x="1200" y="0"/>
                </a:lnTo>
                <a:cubicBezTo>
                  <a:pt x="538" y="0"/>
                  <a:pt x="0" y="4830"/>
                  <a:pt x="0" y="10800"/>
                </a:cubicBezTo>
                <a:cubicBezTo>
                  <a:pt x="0" y="16748"/>
                  <a:pt x="538" y="21600"/>
                  <a:pt x="12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30" name="AutoShape 87"/>
          <p:cNvSpPr/>
          <p:nvPr/>
        </p:nvSpPr>
        <p:spPr>
          <a:xfrm>
            <a:off x="13268160" y="3468600"/>
            <a:ext cx="260640" cy="30240"/>
          </a:xfrm>
          <a:custGeom>
            <a:avLst/>
            <a:gdLst/>
            <a:ahLst/>
            <a:rect l="l" t="t" r="r" b="b"/>
            <a:pathLst>
              <a:path w="21600" h="21600">
                <a:moveTo>
                  <a:pt x="1200" y="21600"/>
                </a:moveTo>
                <a:lnTo>
                  <a:pt x="20400" y="21600"/>
                </a:lnTo>
                <a:cubicBezTo>
                  <a:pt x="21062" y="21600"/>
                  <a:pt x="21600" y="16748"/>
                  <a:pt x="21600" y="10800"/>
                </a:cubicBezTo>
                <a:cubicBezTo>
                  <a:pt x="21600" y="4830"/>
                  <a:pt x="21062" y="0"/>
                  <a:pt x="20400" y="0"/>
                </a:cubicBezTo>
                <a:lnTo>
                  <a:pt x="1200" y="0"/>
                </a:lnTo>
                <a:cubicBezTo>
                  <a:pt x="538" y="0"/>
                  <a:pt x="0" y="4830"/>
                  <a:pt x="0" y="10800"/>
                </a:cubicBezTo>
                <a:cubicBezTo>
                  <a:pt x="0" y="16748"/>
                  <a:pt x="538" y="21600"/>
                  <a:pt x="12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31" name="AutoShape 88"/>
          <p:cNvSpPr/>
          <p:nvPr/>
        </p:nvSpPr>
        <p:spPr>
          <a:xfrm>
            <a:off x="12949200" y="4079880"/>
            <a:ext cx="260280" cy="28440"/>
          </a:xfrm>
          <a:custGeom>
            <a:avLst/>
            <a:gdLst/>
            <a:ahLst/>
            <a:rect l="l" t="t" r="r" b="b"/>
            <a:pathLst>
              <a:path w="21600" h="21600">
                <a:moveTo>
                  <a:pt x="20400" y="0"/>
                </a:moveTo>
                <a:lnTo>
                  <a:pt x="1200" y="0"/>
                </a:lnTo>
                <a:cubicBezTo>
                  <a:pt x="538" y="0"/>
                  <a:pt x="0" y="4852"/>
                  <a:pt x="0" y="10800"/>
                </a:cubicBezTo>
                <a:cubicBezTo>
                  <a:pt x="0" y="16791"/>
                  <a:pt x="538" y="21600"/>
                  <a:pt x="1200" y="21600"/>
                </a:cubicBezTo>
                <a:lnTo>
                  <a:pt x="20400" y="21600"/>
                </a:lnTo>
                <a:cubicBezTo>
                  <a:pt x="21062" y="21600"/>
                  <a:pt x="21600" y="16791"/>
                  <a:pt x="21600" y="10800"/>
                </a:cubicBezTo>
                <a:cubicBezTo>
                  <a:pt x="21600" y="4852"/>
                  <a:pt x="21062" y="0"/>
                  <a:pt x="204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32" name="AutoShape 89"/>
          <p:cNvSpPr/>
          <p:nvPr/>
        </p:nvSpPr>
        <p:spPr>
          <a:xfrm>
            <a:off x="12949200" y="3992400"/>
            <a:ext cx="260280" cy="28800"/>
          </a:xfrm>
          <a:custGeom>
            <a:avLst/>
            <a:gdLst/>
            <a:ahLst/>
            <a:rect l="l" t="t" r="r" b="b"/>
            <a:pathLst>
              <a:path w="21600" h="21600">
                <a:moveTo>
                  <a:pt x="20400" y="0"/>
                </a:moveTo>
                <a:lnTo>
                  <a:pt x="1200" y="0"/>
                </a:lnTo>
                <a:cubicBezTo>
                  <a:pt x="538" y="0"/>
                  <a:pt x="0" y="4852"/>
                  <a:pt x="0" y="10800"/>
                </a:cubicBezTo>
                <a:cubicBezTo>
                  <a:pt x="0" y="16791"/>
                  <a:pt x="538" y="21600"/>
                  <a:pt x="1200" y="21600"/>
                </a:cubicBezTo>
                <a:lnTo>
                  <a:pt x="20400" y="21600"/>
                </a:lnTo>
                <a:cubicBezTo>
                  <a:pt x="21062" y="21600"/>
                  <a:pt x="21600" y="16791"/>
                  <a:pt x="21600" y="10800"/>
                </a:cubicBezTo>
                <a:cubicBezTo>
                  <a:pt x="21600" y="4852"/>
                  <a:pt x="21062" y="0"/>
                  <a:pt x="204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33" name="AutoShape 90"/>
          <p:cNvSpPr/>
          <p:nvPr/>
        </p:nvSpPr>
        <p:spPr>
          <a:xfrm>
            <a:off x="12949200" y="3905280"/>
            <a:ext cx="260280" cy="28440"/>
          </a:xfrm>
          <a:custGeom>
            <a:avLst/>
            <a:gdLst/>
            <a:ahLst/>
            <a:rect l="l" t="t" r="r" b="b"/>
            <a:pathLst>
              <a:path w="21600" h="21600">
                <a:moveTo>
                  <a:pt x="20400" y="0"/>
                </a:moveTo>
                <a:lnTo>
                  <a:pt x="1200" y="0"/>
                </a:lnTo>
                <a:cubicBezTo>
                  <a:pt x="538" y="0"/>
                  <a:pt x="0" y="4852"/>
                  <a:pt x="0" y="10800"/>
                </a:cubicBezTo>
                <a:cubicBezTo>
                  <a:pt x="0" y="16791"/>
                  <a:pt x="538" y="21600"/>
                  <a:pt x="1200" y="21600"/>
                </a:cubicBezTo>
                <a:lnTo>
                  <a:pt x="20400" y="21600"/>
                </a:lnTo>
                <a:cubicBezTo>
                  <a:pt x="21062" y="21600"/>
                  <a:pt x="21600" y="16791"/>
                  <a:pt x="21600" y="10800"/>
                </a:cubicBezTo>
                <a:cubicBezTo>
                  <a:pt x="21600" y="4852"/>
                  <a:pt x="21062" y="0"/>
                  <a:pt x="204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34" name="AutoShape 91"/>
          <p:cNvSpPr/>
          <p:nvPr/>
        </p:nvSpPr>
        <p:spPr>
          <a:xfrm>
            <a:off x="13268160" y="4079880"/>
            <a:ext cx="260640" cy="28440"/>
          </a:xfrm>
          <a:custGeom>
            <a:avLst/>
            <a:gdLst/>
            <a:ahLst/>
            <a:rect l="l" t="t" r="r" b="b"/>
            <a:pathLst>
              <a:path w="21600" h="21600">
                <a:moveTo>
                  <a:pt x="20400" y="0"/>
                </a:moveTo>
                <a:lnTo>
                  <a:pt x="1200" y="0"/>
                </a:lnTo>
                <a:cubicBezTo>
                  <a:pt x="538" y="0"/>
                  <a:pt x="0" y="4852"/>
                  <a:pt x="0" y="10800"/>
                </a:cubicBezTo>
                <a:cubicBezTo>
                  <a:pt x="0" y="16791"/>
                  <a:pt x="538" y="21600"/>
                  <a:pt x="1200" y="21600"/>
                </a:cubicBezTo>
                <a:lnTo>
                  <a:pt x="20400" y="21600"/>
                </a:lnTo>
                <a:cubicBezTo>
                  <a:pt x="21062" y="21600"/>
                  <a:pt x="21600" y="16791"/>
                  <a:pt x="21600" y="10800"/>
                </a:cubicBezTo>
                <a:cubicBezTo>
                  <a:pt x="21600" y="4852"/>
                  <a:pt x="21062" y="0"/>
                  <a:pt x="204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35" name="AutoShape 92"/>
          <p:cNvSpPr/>
          <p:nvPr/>
        </p:nvSpPr>
        <p:spPr>
          <a:xfrm>
            <a:off x="13268160" y="3992400"/>
            <a:ext cx="260640" cy="28800"/>
          </a:xfrm>
          <a:custGeom>
            <a:avLst/>
            <a:gdLst/>
            <a:ahLst/>
            <a:rect l="l" t="t" r="r" b="b"/>
            <a:pathLst>
              <a:path w="21600" h="21600">
                <a:moveTo>
                  <a:pt x="20400" y="0"/>
                </a:moveTo>
                <a:lnTo>
                  <a:pt x="1200" y="0"/>
                </a:lnTo>
                <a:cubicBezTo>
                  <a:pt x="538" y="0"/>
                  <a:pt x="0" y="4852"/>
                  <a:pt x="0" y="10800"/>
                </a:cubicBezTo>
                <a:cubicBezTo>
                  <a:pt x="0" y="16791"/>
                  <a:pt x="538" y="21600"/>
                  <a:pt x="1200" y="21600"/>
                </a:cubicBezTo>
                <a:lnTo>
                  <a:pt x="20400" y="21600"/>
                </a:lnTo>
                <a:cubicBezTo>
                  <a:pt x="21062" y="21600"/>
                  <a:pt x="21600" y="16791"/>
                  <a:pt x="21600" y="10800"/>
                </a:cubicBezTo>
                <a:cubicBezTo>
                  <a:pt x="21600" y="4852"/>
                  <a:pt x="21062" y="0"/>
                  <a:pt x="204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36" name="AutoShape 93"/>
          <p:cNvSpPr/>
          <p:nvPr/>
        </p:nvSpPr>
        <p:spPr>
          <a:xfrm>
            <a:off x="13268160" y="3905280"/>
            <a:ext cx="260640" cy="28440"/>
          </a:xfrm>
          <a:custGeom>
            <a:avLst/>
            <a:gdLst/>
            <a:ahLst/>
            <a:rect l="l" t="t" r="r" b="b"/>
            <a:pathLst>
              <a:path w="21600" h="21600">
                <a:moveTo>
                  <a:pt x="20400" y="0"/>
                </a:moveTo>
                <a:lnTo>
                  <a:pt x="1200" y="0"/>
                </a:lnTo>
                <a:cubicBezTo>
                  <a:pt x="538" y="0"/>
                  <a:pt x="0" y="4852"/>
                  <a:pt x="0" y="10800"/>
                </a:cubicBezTo>
                <a:cubicBezTo>
                  <a:pt x="0" y="16791"/>
                  <a:pt x="538" y="21600"/>
                  <a:pt x="1200" y="21600"/>
                </a:cubicBezTo>
                <a:lnTo>
                  <a:pt x="20400" y="21600"/>
                </a:lnTo>
                <a:cubicBezTo>
                  <a:pt x="21062" y="21600"/>
                  <a:pt x="21600" y="16791"/>
                  <a:pt x="21600" y="10800"/>
                </a:cubicBezTo>
                <a:cubicBezTo>
                  <a:pt x="21600" y="4852"/>
                  <a:pt x="21062" y="0"/>
                  <a:pt x="204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37" name="AutoShape 94"/>
          <p:cNvSpPr/>
          <p:nvPr/>
        </p:nvSpPr>
        <p:spPr>
          <a:xfrm>
            <a:off x="12949200" y="3730680"/>
            <a:ext cx="579600" cy="28440"/>
          </a:xfrm>
          <a:custGeom>
            <a:avLst/>
            <a:gdLst/>
            <a:ahLst/>
            <a:rect l="l" t="t" r="r" b="b"/>
            <a:pathLst>
              <a:path w="21600" h="21600">
                <a:moveTo>
                  <a:pt x="21060" y="0"/>
                </a:moveTo>
                <a:lnTo>
                  <a:pt x="540" y="0"/>
                </a:lnTo>
                <a:cubicBezTo>
                  <a:pt x="242" y="0"/>
                  <a:pt x="0" y="4852"/>
                  <a:pt x="0" y="10800"/>
                </a:cubicBezTo>
                <a:cubicBezTo>
                  <a:pt x="0" y="16770"/>
                  <a:pt x="242" y="21600"/>
                  <a:pt x="540" y="21600"/>
                </a:cubicBezTo>
                <a:lnTo>
                  <a:pt x="21060" y="21600"/>
                </a:lnTo>
                <a:cubicBezTo>
                  <a:pt x="21358" y="21600"/>
                  <a:pt x="21600" y="16770"/>
                  <a:pt x="21600" y="10800"/>
                </a:cubicBezTo>
                <a:cubicBezTo>
                  <a:pt x="21600" y="4852"/>
                  <a:pt x="21358" y="0"/>
                  <a:pt x="2106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38" name="AutoShape 95"/>
          <p:cNvSpPr/>
          <p:nvPr/>
        </p:nvSpPr>
        <p:spPr>
          <a:xfrm>
            <a:off x="12949200" y="3817800"/>
            <a:ext cx="579600" cy="28800"/>
          </a:xfrm>
          <a:custGeom>
            <a:avLst/>
            <a:gdLst/>
            <a:ahLst/>
            <a:rect l="l" t="t" r="r" b="b"/>
            <a:pathLst>
              <a:path w="21600" h="21600">
                <a:moveTo>
                  <a:pt x="21060" y="0"/>
                </a:moveTo>
                <a:lnTo>
                  <a:pt x="540" y="0"/>
                </a:lnTo>
                <a:cubicBezTo>
                  <a:pt x="242" y="0"/>
                  <a:pt x="0" y="4852"/>
                  <a:pt x="0" y="10800"/>
                </a:cubicBezTo>
                <a:cubicBezTo>
                  <a:pt x="0" y="16791"/>
                  <a:pt x="242" y="21600"/>
                  <a:pt x="540" y="21600"/>
                </a:cubicBezTo>
                <a:lnTo>
                  <a:pt x="21060" y="21600"/>
                </a:lnTo>
                <a:cubicBezTo>
                  <a:pt x="21358" y="21600"/>
                  <a:pt x="21600" y="16791"/>
                  <a:pt x="21600" y="10800"/>
                </a:cubicBezTo>
                <a:cubicBezTo>
                  <a:pt x="21600" y="4852"/>
                  <a:pt x="21358" y="0"/>
                  <a:pt x="2106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39" name="AutoShape 96"/>
          <p:cNvSpPr/>
          <p:nvPr/>
        </p:nvSpPr>
        <p:spPr>
          <a:xfrm>
            <a:off x="12949200" y="3411360"/>
            <a:ext cx="260280" cy="260640"/>
          </a:xfrm>
          <a:custGeom>
            <a:avLst/>
            <a:gdLst/>
            <a:ahLst/>
            <a:rect l="l" t="t" r="r" b="b"/>
            <a:pathLst>
              <a:path w="21600" h="21600">
                <a:moveTo>
                  <a:pt x="4800" y="4793"/>
                </a:moveTo>
                <a:lnTo>
                  <a:pt x="16800" y="4793"/>
                </a:lnTo>
                <a:lnTo>
                  <a:pt x="16800" y="16798"/>
                </a:lnTo>
                <a:lnTo>
                  <a:pt x="4800" y="16798"/>
                </a:lnTo>
                <a:cubicBezTo>
                  <a:pt x="4800" y="16798"/>
                  <a:pt x="4800" y="4793"/>
                  <a:pt x="4800" y="4793"/>
                </a:cubicBezTo>
                <a:close/>
                <a:moveTo>
                  <a:pt x="2400" y="21600"/>
                </a:moveTo>
                <a:lnTo>
                  <a:pt x="19200" y="21600"/>
                </a:lnTo>
                <a:cubicBezTo>
                  <a:pt x="20528" y="21600"/>
                  <a:pt x="21600" y="20524"/>
                  <a:pt x="21600" y="19199"/>
                </a:cubicBezTo>
                <a:lnTo>
                  <a:pt x="21600" y="2401"/>
                </a:lnTo>
                <a:cubicBezTo>
                  <a:pt x="21600" y="1076"/>
                  <a:pt x="20528" y="0"/>
                  <a:pt x="19200" y="0"/>
                </a:cubicBezTo>
                <a:lnTo>
                  <a:pt x="2400" y="0"/>
                </a:lnTo>
                <a:cubicBezTo>
                  <a:pt x="1072" y="0"/>
                  <a:pt x="0" y="1076"/>
                  <a:pt x="0" y="2401"/>
                </a:cubicBezTo>
                <a:lnTo>
                  <a:pt x="0" y="19199"/>
                </a:lnTo>
                <a:cubicBezTo>
                  <a:pt x="0" y="20524"/>
                  <a:pt x="1072" y="21600"/>
                  <a:pt x="24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40" name="AutoShape 97"/>
          <p:cNvSpPr/>
          <p:nvPr/>
        </p:nvSpPr>
        <p:spPr>
          <a:xfrm>
            <a:off x="10882440" y="8880480"/>
            <a:ext cx="637920" cy="930240"/>
          </a:xfrm>
          <a:custGeom>
            <a:avLst/>
            <a:gdLst/>
            <a:ahLst/>
            <a:rect l="l" t="t" r="r" b="b"/>
            <a:pathLst>
              <a:path w="21600" h="21600">
                <a:moveTo>
                  <a:pt x="19636" y="3375"/>
                </a:moveTo>
                <a:lnTo>
                  <a:pt x="1964" y="3376"/>
                </a:lnTo>
                <a:lnTo>
                  <a:pt x="1964" y="2026"/>
                </a:lnTo>
                <a:cubicBezTo>
                  <a:pt x="1964" y="1653"/>
                  <a:pt x="2403" y="1351"/>
                  <a:pt x="2945" y="1351"/>
                </a:cubicBezTo>
                <a:lnTo>
                  <a:pt x="18655" y="1350"/>
                </a:lnTo>
                <a:cubicBezTo>
                  <a:pt x="19195" y="1350"/>
                  <a:pt x="19636" y="1653"/>
                  <a:pt x="19636" y="2025"/>
                </a:cubicBezTo>
                <a:cubicBezTo>
                  <a:pt x="19636" y="2025"/>
                  <a:pt x="19636" y="3375"/>
                  <a:pt x="19636" y="3375"/>
                </a:cubicBezTo>
                <a:close/>
                <a:moveTo>
                  <a:pt x="19636" y="17547"/>
                </a:moveTo>
                <a:lnTo>
                  <a:pt x="1964" y="17547"/>
                </a:lnTo>
                <a:lnTo>
                  <a:pt x="1964" y="4051"/>
                </a:lnTo>
                <a:lnTo>
                  <a:pt x="19636" y="4050"/>
                </a:lnTo>
                <a:cubicBezTo>
                  <a:pt x="19636" y="4050"/>
                  <a:pt x="19636" y="17547"/>
                  <a:pt x="19636" y="17547"/>
                </a:cubicBezTo>
                <a:close/>
                <a:moveTo>
                  <a:pt x="19636" y="19574"/>
                </a:moveTo>
                <a:cubicBezTo>
                  <a:pt x="19636" y="19947"/>
                  <a:pt x="19195" y="20249"/>
                  <a:pt x="18655" y="20249"/>
                </a:cubicBezTo>
                <a:lnTo>
                  <a:pt x="2945" y="20250"/>
                </a:lnTo>
                <a:cubicBezTo>
                  <a:pt x="2403" y="20250"/>
                  <a:pt x="1964" y="19947"/>
                  <a:pt x="1964" y="19575"/>
                </a:cubicBezTo>
                <a:lnTo>
                  <a:pt x="1964" y="18222"/>
                </a:lnTo>
                <a:lnTo>
                  <a:pt x="19636" y="18222"/>
                </a:lnTo>
                <a:cubicBezTo>
                  <a:pt x="19636" y="18222"/>
                  <a:pt x="19636" y="19574"/>
                  <a:pt x="19636" y="19574"/>
                </a:cubicBezTo>
                <a:close/>
                <a:moveTo>
                  <a:pt x="18655" y="0"/>
                </a:moveTo>
                <a:lnTo>
                  <a:pt x="2945" y="1"/>
                </a:lnTo>
                <a:cubicBezTo>
                  <a:pt x="1317" y="1"/>
                  <a:pt x="0" y="907"/>
                  <a:pt x="0" y="2026"/>
                </a:cubicBezTo>
                <a:lnTo>
                  <a:pt x="0" y="19575"/>
                </a:lnTo>
                <a:cubicBezTo>
                  <a:pt x="0" y="20694"/>
                  <a:pt x="1317" y="21600"/>
                  <a:pt x="2945" y="21600"/>
                </a:cubicBezTo>
                <a:lnTo>
                  <a:pt x="18655" y="21599"/>
                </a:lnTo>
                <a:cubicBezTo>
                  <a:pt x="20281" y="21599"/>
                  <a:pt x="21600" y="20693"/>
                  <a:pt x="21600" y="19574"/>
                </a:cubicBezTo>
                <a:lnTo>
                  <a:pt x="21600" y="2025"/>
                </a:lnTo>
                <a:cubicBezTo>
                  <a:pt x="21600" y="906"/>
                  <a:pt x="20281" y="0"/>
                  <a:pt x="18655"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41" name="AutoShape 98"/>
          <p:cNvSpPr/>
          <p:nvPr/>
        </p:nvSpPr>
        <p:spPr>
          <a:xfrm>
            <a:off x="11142720" y="8967960"/>
            <a:ext cx="117360" cy="28440"/>
          </a:xfrm>
          <a:custGeom>
            <a:avLst/>
            <a:gdLst/>
            <a:ahLst/>
            <a:rect l="l" t="t" r="r" b="b"/>
            <a:pathLst>
              <a:path w="21600" h="21600">
                <a:moveTo>
                  <a:pt x="21600" y="10800"/>
                </a:moveTo>
                <a:cubicBezTo>
                  <a:pt x="21600" y="16759"/>
                  <a:pt x="20387" y="21600"/>
                  <a:pt x="18900" y="21600"/>
                </a:cubicBezTo>
                <a:lnTo>
                  <a:pt x="2700" y="21600"/>
                </a:lnTo>
                <a:cubicBezTo>
                  <a:pt x="1202" y="21600"/>
                  <a:pt x="0" y="16759"/>
                  <a:pt x="0" y="10800"/>
                </a:cubicBezTo>
                <a:cubicBezTo>
                  <a:pt x="0" y="4841"/>
                  <a:pt x="1202" y="0"/>
                  <a:pt x="2700" y="0"/>
                </a:cubicBezTo>
                <a:lnTo>
                  <a:pt x="18900" y="0"/>
                </a:lnTo>
                <a:cubicBezTo>
                  <a:pt x="20387" y="0"/>
                  <a:pt x="21600" y="4841"/>
                  <a:pt x="21600" y="108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42" name="AutoShape 99"/>
          <p:cNvSpPr/>
          <p:nvPr/>
        </p:nvSpPr>
        <p:spPr>
          <a:xfrm>
            <a:off x="11172960" y="9694800"/>
            <a:ext cx="56880" cy="28800"/>
          </a:xfrm>
          <a:custGeom>
            <a:avLst/>
            <a:gdLst/>
            <a:ahLst/>
            <a:rect l="l" t="t" r="r" b="b"/>
            <a:pathLst>
              <a:path w="21600" h="21600">
                <a:moveTo>
                  <a:pt x="21600" y="10800"/>
                </a:moveTo>
                <a:cubicBezTo>
                  <a:pt x="21600" y="16770"/>
                  <a:pt x="19174" y="21600"/>
                  <a:pt x="16200" y="21600"/>
                </a:cubicBezTo>
                <a:lnTo>
                  <a:pt x="5400" y="21600"/>
                </a:lnTo>
                <a:cubicBezTo>
                  <a:pt x="2405" y="21600"/>
                  <a:pt x="0" y="16770"/>
                  <a:pt x="0" y="10800"/>
                </a:cubicBezTo>
                <a:cubicBezTo>
                  <a:pt x="0" y="4830"/>
                  <a:pt x="2405" y="0"/>
                  <a:pt x="5400" y="0"/>
                </a:cubicBezTo>
                <a:lnTo>
                  <a:pt x="16200" y="0"/>
                </a:lnTo>
                <a:cubicBezTo>
                  <a:pt x="19174" y="0"/>
                  <a:pt x="21600" y="4830"/>
                  <a:pt x="21600" y="108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43" name="AutoShape 100"/>
          <p:cNvSpPr/>
          <p:nvPr/>
        </p:nvSpPr>
        <p:spPr>
          <a:xfrm>
            <a:off x="8937720" y="8880480"/>
            <a:ext cx="812880" cy="930240"/>
          </a:xfrm>
          <a:custGeom>
            <a:avLst/>
            <a:gdLst/>
            <a:ahLst/>
            <a:rect l="l" t="t" r="r" b="b"/>
            <a:pathLst>
              <a:path w="21600" h="21600">
                <a:moveTo>
                  <a:pt x="20057" y="6750"/>
                </a:moveTo>
                <a:lnTo>
                  <a:pt x="1543" y="6750"/>
                </a:lnTo>
                <a:lnTo>
                  <a:pt x="1543" y="4725"/>
                </a:lnTo>
                <a:lnTo>
                  <a:pt x="20057" y="4725"/>
                </a:lnTo>
                <a:cubicBezTo>
                  <a:pt x="20057" y="4725"/>
                  <a:pt x="20057" y="6750"/>
                  <a:pt x="20057" y="6750"/>
                </a:cubicBezTo>
                <a:close/>
                <a:moveTo>
                  <a:pt x="17485" y="10125"/>
                </a:moveTo>
                <a:lnTo>
                  <a:pt x="4114" y="10125"/>
                </a:lnTo>
                <a:lnTo>
                  <a:pt x="3857" y="8100"/>
                </a:lnTo>
                <a:lnTo>
                  <a:pt x="17743" y="8100"/>
                </a:lnTo>
                <a:cubicBezTo>
                  <a:pt x="17743" y="8100"/>
                  <a:pt x="17485" y="10125"/>
                  <a:pt x="17485" y="10125"/>
                </a:cubicBezTo>
                <a:close/>
                <a:moveTo>
                  <a:pt x="16542" y="17550"/>
                </a:moveTo>
                <a:lnTo>
                  <a:pt x="5057" y="17550"/>
                </a:lnTo>
                <a:lnTo>
                  <a:pt x="4200" y="10800"/>
                </a:lnTo>
                <a:lnTo>
                  <a:pt x="17399" y="10800"/>
                </a:lnTo>
                <a:cubicBezTo>
                  <a:pt x="17399" y="10800"/>
                  <a:pt x="16542" y="17550"/>
                  <a:pt x="16542" y="17550"/>
                </a:cubicBezTo>
                <a:close/>
                <a:moveTo>
                  <a:pt x="5401" y="20250"/>
                </a:moveTo>
                <a:lnTo>
                  <a:pt x="5143" y="18225"/>
                </a:lnTo>
                <a:lnTo>
                  <a:pt x="16456" y="18225"/>
                </a:lnTo>
                <a:lnTo>
                  <a:pt x="16200" y="20250"/>
                </a:lnTo>
                <a:cubicBezTo>
                  <a:pt x="16200" y="20250"/>
                  <a:pt x="5401" y="20250"/>
                  <a:pt x="5401" y="20250"/>
                </a:cubicBezTo>
                <a:close/>
                <a:moveTo>
                  <a:pt x="3857" y="1350"/>
                </a:moveTo>
                <a:lnTo>
                  <a:pt x="17743" y="1350"/>
                </a:lnTo>
                <a:lnTo>
                  <a:pt x="18514" y="3375"/>
                </a:lnTo>
                <a:lnTo>
                  <a:pt x="3086" y="3375"/>
                </a:lnTo>
                <a:cubicBezTo>
                  <a:pt x="3086" y="3375"/>
                  <a:pt x="3857" y="1350"/>
                  <a:pt x="3857" y="1350"/>
                </a:cubicBezTo>
                <a:close/>
                <a:moveTo>
                  <a:pt x="20143" y="3390"/>
                </a:moveTo>
                <a:lnTo>
                  <a:pt x="19206" y="923"/>
                </a:lnTo>
                <a:cubicBezTo>
                  <a:pt x="18997" y="372"/>
                  <a:pt x="18407" y="0"/>
                  <a:pt x="17743" y="0"/>
                </a:cubicBezTo>
                <a:lnTo>
                  <a:pt x="3857" y="0"/>
                </a:lnTo>
                <a:cubicBezTo>
                  <a:pt x="3193" y="0"/>
                  <a:pt x="2603" y="372"/>
                  <a:pt x="2393" y="923"/>
                </a:cubicBezTo>
                <a:lnTo>
                  <a:pt x="1449" y="3391"/>
                </a:lnTo>
                <a:cubicBezTo>
                  <a:pt x="643" y="3437"/>
                  <a:pt x="0" y="4009"/>
                  <a:pt x="0" y="4725"/>
                </a:cubicBezTo>
                <a:lnTo>
                  <a:pt x="0" y="6750"/>
                </a:lnTo>
                <a:cubicBezTo>
                  <a:pt x="0" y="7495"/>
                  <a:pt x="691" y="8100"/>
                  <a:pt x="1543" y="8100"/>
                </a:cubicBezTo>
                <a:lnTo>
                  <a:pt x="2341" y="8100"/>
                </a:lnTo>
                <a:cubicBezTo>
                  <a:pt x="2341" y="8151"/>
                  <a:pt x="2317" y="8199"/>
                  <a:pt x="2324" y="8249"/>
                </a:cubicBezTo>
                <a:lnTo>
                  <a:pt x="3867" y="20399"/>
                </a:lnTo>
                <a:cubicBezTo>
                  <a:pt x="3953" y="21083"/>
                  <a:pt x="4614" y="21600"/>
                  <a:pt x="5401" y="21600"/>
                </a:cubicBezTo>
                <a:lnTo>
                  <a:pt x="16200" y="21600"/>
                </a:lnTo>
                <a:cubicBezTo>
                  <a:pt x="16987" y="21600"/>
                  <a:pt x="17647" y="21083"/>
                  <a:pt x="17732" y="20399"/>
                </a:cubicBezTo>
                <a:lnTo>
                  <a:pt x="19275" y="8249"/>
                </a:lnTo>
                <a:cubicBezTo>
                  <a:pt x="19283" y="8199"/>
                  <a:pt x="19259" y="8151"/>
                  <a:pt x="19259" y="8100"/>
                </a:cubicBezTo>
                <a:lnTo>
                  <a:pt x="20057" y="8100"/>
                </a:lnTo>
                <a:cubicBezTo>
                  <a:pt x="20908" y="8100"/>
                  <a:pt x="21600" y="7495"/>
                  <a:pt x="21600" y="6750"/>
                </a:cubicBezTo>
                <a:lnTo>
                  <a:pt x="21600" y="4725"/>
                </a:lnTo>
                <a:cubicBezTo>
                  <a:pt x="21600" y="4007"/>
                  <a:pt x="20952" y="3432"/>
                  <a:pt x="20143" y="339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44" name="AutoShape 101"/>
          <p:cNvSpPr/>
          <p:nvPr/>
        </p:nvSpPr>
        <p:spPr>
          <a:xfrm>
            <a:off x="7021440" y="8939160"/>
            <a:ext cx="928800" cy="812880"/>
          </a:xfrm>
          <a:custGeom>
            <a:avLst/>
            <a:gdLst/>
            <a:ahLst/>
            <a:rect l="l" t="t" r="r" b="b"/>
            <a:pathLst>
              <a:path w="21600" h="21600">
                <a:moveTo>
                  <a:pt x="20250" y="18514"/>
                </a:moveTo>
                <a:cubicBezTo>
                  <a:pt x="20250" y="19366"/>
                  <a:pt x="19644" y="20057"/>
                  <a:pt x="18900" y="20057"/>
                </a:cubicBezTo>
                <a:lnTo>
                  <a:pt x="2700" y="20057"/>
                </a:lnTo>
                <a:cubicBezTo>
                  <a:pt x="1956" y="20057"/>
                  <a:pt x="1350" y="19366"/>
                  <a:pt x="1350" y="18514"/>
                </a:cubicBezTo>
                <a:lnTo>
                  <a:pt x="1350" y="13114"/>
                </a:lnTo>
                <a:lnTo>
                  <a:pt x="4051" y="1542"/>
                </a:lnTo>
                <a:lnTo>
                  <a:pt x="17549" y="1542"/>
                </a:lnTo>
                <a:lnTo>
                  <a:pt x="20250" y="13114"/>
                </a:lnTo>
                <a:cubicBezTo>
                  <a:pt x="20250" y="13114"/>
                  <a:pt x="20250" y="18514"/>
                  <a:pt x="20250" y="18514"/>
                </a:cubicBezTo>
                <a:close/>
                <a:moveTo>
                  <a:pt x="21549" y="12694"/>
                </a:moveTo>
                <a:lnTo>
                  <a:pt x="18847" y="1118"/>
                </a:lnTo>
                <a:cubicBezTo>
                  <a:pt x="18684" y="461"/>
                  <a:pt x="18151" y="0"/>
                  <a:pt x="17550" y="0"/>
                </a:cubicBezTo>
                <a:lnTo>
                  <a:pt x="10800" y="0"/>
                </a:lnTo>
                <a:lnTo>
                  <a:pt x="4050" y="0"/>
                </a:lnTo>
                <a:cubicBezTo>
                  <a:pt x="3449" y="0"/>
                  <a:pt x="2916" y="461"/>
                  <a:pt x="2753" y="1118"/>
                </a:cubicBezTo>
                <a:lnTo>
                  <a:pt x="51" y="12694"/>
                </a:lnTo>
                <a:cubicBezTo>
                  <a:pt x="17" y="12835"/>
                  <a:pt x="0" y="12976"/>
                  <a:pt x="0" y="13114"/>
                </a:cubicBezTo>
                <a:lnTo>
                  <a:pt x="0" y="18514"/>
                </a:lnTo>
                <a:cubicBezTo>
                  <a:pt x="0" y="20218"/>
                  <a:pt x="1209" y="21600"/>
                  <a:pt x="2700" y="21600"/>
                </a:cubicBezTo>
                <a:lnTo>
                  <a:pt x="18900" y="21600"/>
                </a:lnTo>
                <a:cubicBezTo>
                  <a:pt x="20391" y="21600"/>
                  <a:pt x="21600" y="20218"/>
                  <a:pt x="21600" y="18514"/>
                </a:cubicBezTo>
                <a:lnTo>
                  <a:pt x="21600" y="13114"/>
                </a:lnTo>
                <a:cubicBezTo>
                  <a:pt x="21600" y="12976"/>
                  <a:pt x="21583" y="12835"/>
                  <a:pt x="21549" y="12694"/>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45" name="AutoShape 102"/>
          <p:cNvSpPr/>
          <p:nvPr/>
        </p:nvSpPr>
        <p:spPr>
          <a:xfrm>
            <a:off x="7137360" y="9055080"/>
            <a:ext cx="708120" cy="522360"/>
          </a:xfrm>
          <a:custGeom>
            <a:avLst/>
            <a:gdLst/>
            <a:ahLst/>
            <a:rect l="l" t="t" r="r" b="b"/>
            <a:pathLst>
              <a:path w="21519" h="21600">
                <a:moveTo>
                  <a:pt x="18071" y="14400"/>
                </a:moveTo>
                <a:lnTo>
                  <a:pt x="16604" y="14400"/>
                </a:lnTo>
                <a:cubicBezTo>
                  <a:pt x="15931" y="14400"/>
                  <a:pt x="15326" y="14907"/>
                  <a:pt x="15024" y="15726"/>
                </a:cubicBezTo>
                <a:lnTo>
                  <a:pt x="13746" y="19200"/>
                </a:lnTo>
                <a:lnTo>
                  <a:pt x="7774" y="19200"/>
                </a:lnTo>
                <a:lnTo>
                  <a:pt x="6496" y="15726"/>
                </a:lnTo>
                <a:cubicBezTo>
                  <a:pt x="6194" y="14907"/>
                  <a:pt x="5589" y="14400"/>
                  <a:pt x="4916" y="14400"/>
                </a:cubicBezTo>
                <a:lnTo>
                  <a:pt x="3449" y="14400"/>
                </a:lnTo>
                <a:lnTo>
                  <a:pt x="1344" y="14400"/>
                </a:lnTo>
                <a:lnTo>
                  <a:pt x="3925" y="1200"/>
                </a:lnTo>
                <a:lnTo>
                  <a:pt x="17595" y="1200"/>
                </a:lnTo>
                <a:lnTo>
                  <a:pt x="20176" y="14400"/>
                </a:lnTo>
                <a:cubicBezTo>
                  <a:pt x="20176" y="14400"/>
                  <a:pt x="18071" y="14400"/>
                  <a:pt x="18071" y="14400"/>
                </a:cubicBezTo>
                <a:close/>
                <a:moveTo>
                  <a:pt x="17595" y="0"/>
                </a:moveTo>
                <a:lnTo>
                  <a:pt x="3925" y="0"/>
                </a:lnTo>
                <a:cubicBezTo>
                  <a:pt x="3525" y="0"/>
                  <a:pt x="3175" y="366"/>
                  <a:pt x="3071" y="892"/>
                </a:cubicBezTo>
                <a:lnTo>
                  <a:pt x="29" y="15292"/>
                </a:lnTo>
                <a:cubicBezTo>
                  <a:pt x="-40" y="15652"/>
                  <a:pt x="16" y="16035"/>
                  <a:pt x="183" y="16331"/>
                </a:cubicBezTo>
                <a:cubicBezTo>
                  <a:pt x="351" y="16626"/>
                  <a:pt x="609" y="16800"/>
                  <a:pt x="883" y="16800"/>
                </a:cubicBezTo>
                <a:lnTo>
                  <a:pt x="3449" y="16800"/>
                </a:lnTo>
                <a:lnTo>
                  <a:pt x="4456" y="16800"/>
                </a:lnTo>
                <a:lnTo>
                  <a:pt x="4916" y="16800"/>
                </a:lnTo>
                <a:lnTo>
                  <a:pt x="6194" y="20274"/>
                </a:lnTo>
                <a:cubicBezTo>
                  <a:pt x="6493" y="21087"/>
                  <a:pt x="7105" y="21600"/>
                  <a:pt x="7774" y="21600"/>
                </a:cubicBezTo>
                <a:lnTo>
                  <a:pt x="13746" y="21600"/>
                </a:lnTo>
                <a:cubicBezTo>
                  <a:pt x="14415" y="21600"/>
                  <a:pt x="15027" y="21087"/>
                  <a:pt x="15326" y="20274"/>
                </a:cubicBezTo>
                <a:lnTo>
                  <a:pt x="16604" y="16800"/>
                </a:lnTo>
                <a:lnTo>
                  <a:pt x="17064" y="16800"/>
                </a:lnTo>
                <a:lnTo>
                  <a:pt x="18071" y="16800"/>
                </a:lnTo>
                <a:lnTo>
                  <a:pt x="20637" y="16800"/>
                </a:lnTo>
                <a:cubicBezTo>
                  <a:pt x="20911" y="16800"/>
                  <a:pt x="21169" y="16626"/>
                  <a:pt x="21337" y="16331"/>
                </a:cubicBezTo>
                <a:cubicBezTo>
                  <a:pt x="21504" y="16035"/>
                  <a:pt x="21560" y="15652"/>
                  <a:pt x="21490" y="15292"/>
                </a:cubicBezTo>
                <a:lnTo>
                  <a:pt x="18449" y="892"/>
                </a:lnTo>
                <a:cubicBezTo>
                  <a:pt x="18345" y="366"/>
                  <a:pt x="17995" y="0"/>
                  <a:pt x="17595"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46" name="AutoShape 103"/>
          <p:cNvSpPr/>
          <p:nvPr/>
        </p:nvSpPr>
        <p:spPr>
          <a:xfrm>
            <a:off x="5308560" y="9083520"/>
            <a:ext cx="333360" cy="219240"/>
          </a:xfrm>
          <a:custGeom>
            <a:avLst/>
            <a:gdLst/>
            <a:ahLst/>
            <a:rect l="l" t="t" r="r" b="b"/>
            <a:pathLst>
              <a:path w="21600" h="21600">
                <a:moveTo>
                  <a:pt x="20661" y="0"/>
                </a:moveTo>
                <a:cubicBezTo>
                  <a:pt x="9461" y="0"/>
                  <a:pt x="0" y="9233"/>
                  <a:pt x="0" y="20160"/>
                </a:cubicBezTo>
                <a:cubicBezTo>
                  <a:pt x="0" y="20955"/>
                  <a:pt x="421" y="21600"/>
                  <a:pt x="939" y="21600"/>
                </a:cubicBezTo>
                <a:cubicBezTo>
                  <a:pt x="1457" y="21600"/>
                  <a:pt x="1878" y="20955"/>
                  <a:pt x="1878" y="20160"/>
                </a:cubicBezTo>
                <a:cubicBezTo>
                  <a:pt x="1878" y="10956"/>
                  <a:pt x="10655" y="2880"/>
                  <a:pt x="20661" y="2880"/>
                </a:cubicBezTo>
                <a:cubicBezTo>
                  <a:pt x="21179" y="2880"/>
                  <a:pt x="21600" y="2235"/>
                  <a:pt x="21600" y="1440"/>
                </a:cubicBezTo>
                <a:cubicBezTo>
                  <a:pt x="21600" y="645"/>
                  <a:pt x="21179" y="0"/>
                  <a:pt x="20661"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47" name="AutoShape 104"/>
          <p:cNvSpPr/>
          <p:nvPr/>
        </p:nvSpPr>
        <p:spPr>
          <a:xfrm>
            <a:off x="5162400" y="8939160"/>
            <a:ext cx="928800" cy="812880"/>
          </a:xfrm>
          <a:custGeom>
            <a:avLst/>
            <a:gdLst/>
            <a:ahLst/>
            <a:rect l="l" t="t" r="r" b="b"/>
            <a:pathLst>
              <a:path w="21600" h="21600">
                <a:moveTo>
                  <a:pt x="10800" y="16971"/>
                </a:moveTo>
                <a:cubicBezTo>
                  <a:pt x="10181" y="16971"/>
                  <a:pt x="9547" y="16918"/>
                  <a:pt x="8913" y="16812"/>
                </a:cubicBezTo>
                <a:cubicBezTo>
                  <a:pt x="8847" y="16800"/>
                  <a:pt x="8782" y="16795"/>
                  <a:pt x="8717" y="16795"/>
                </a:cubicBezTo>
                <a:cubicBezTo>
                  <a:pt x="8316" y="16795"/>
                  <a:pt x="7932" y="16999"/>
                  <a:pt x="7674" y="17359"/>
                </a:cubicBezTo>
                <a:cubicBezTo>
                  <a:pt x="7384" y="17762"/>
                  <a:pt x="6563" y="18657"/>
                  <a:pt x="5591" y="19318"/>
                </a:cubicBezTo>
                <a:cubicBezTo>
                  <a:pt x="5854" y="18628"/>
                  <a:pt x="6061" y="17854"/>
                  <a:pt x="6074" y="17056"/>
                </a:cubicBezTo>
                <a:cubicBezTo>
                  <a:pt x="6078" y="17007"/>
                  <a:pt x="6080" y="16957"/>
                  <a:pt x="6080" y="16914"/>
                </a:cubicBezTo>
                <a:cubicBezTo>
                  <a:pt x="6080" y="16335"/>
                  <a:pt x="5796" y="15803"/>
                  <a:pt x="5345" y="15540"/>
                </a:cubicBezTo>
                <a:cubicBezTo>
                  <a:pt x="2843" y="14080"/>
                  <a:pt x="1350" y="11731"/>
                  <a:pt x="1350" y="9257"/>
                </a:cubicBezTo>
                <a:cubicBezTo>
                  <a:pt x="1350" y="5003"/>
                  <a:pt x="5589" y="1543"/>
                  <a:pt x="10800" y="1543"/>
                </a:cubicBezTo>
                <a:cubicBezTo>
                  <a:pt x="16011" y="1543"/>
                  <a:pt x="20250" y="5003"/>
                  <a:pt x="20250" y="9257"/>
                </a:cubicBezTo>
                <a:cubicBezTo>
                  <a:pt x="20250" y="13511"/>
                  <a:pt x="16011" y="16971"/>
                  <a:pt x="10800" y="16971"/>
                </a:cubicBezTo>
                <a:moveTo>
                  <a:pt x="10800" y="0"/>
                </a:moveTo>
                <a:cubicBezTo>
                  <a:pt x="4835" y="0"/>
                  <a:pt x="0" y="4145"/>
                  <a:pt x="0" y="9257"/>
                </a:cubicBezTo>
                <a:cubicBezTo>
                  <a:pt x="0" y="12441"/>
                  <a:pt x="1876" y="15248"/>
                  <a:pt x="4730" y="16914"/>
                </a:cubicBezTo>
                <a:cubicBezTo>
                  <a:pt x="4730" y="16935"/>
                  <a:pt x="4725" y="16949"/>
                  <a:pt x="4725" y="16971"/>
                </a:cubicBezTo>
                <a:cubicBezTo>
                  <a:pt x="4725" y="18355"/>
                  <a:pt x="3821" y="19843"/>
                  <a:pt x="3423" y="20625"/>
                </a:cubicBezTo>
                <a:lnTo>
                  <a:pt x="3425" y="20625"/>
                </a:lnTo>
                <a:cubicBezTo>
                  <a:pt x="3393" y="20710"/>
                  <a:pt x="3375" y="20803"/>
                  <a:pt x="3375" y="20901"/>
                </a:cubicBezTo>
                <a:cubicBezTo>
                  <a:pt x="3375" y="21287"/>
                  <a:pt x="3648" y="21600"/>
                  <a:pt x="3986" y="21600"/>
                </a:cubicBezTo>
                <a:cubicBezTo>
                  <a:pt x="4050" y="21600"/>
                  <a:pt x="4161" y="21580"/>
                  <a:pt x="4159" y="21590"/>
                </a:cubicBezTo>
                <a:cubicBezTo>
                  <a:pt x="6268" y="21195"/>
                  <a:pt x="8255" y="18980"/>
                  <a:pt x="8717" y="18338"/>
                </a:cubicBezTo>
                <a:cubicBezTo>
                  <a:pt x="9391" y="18451"/>
                  <a:pt x="10086" y="18514"/>
                  <a:pt x="10800" y="18514"/>
                </a:cubicBezTo>
                <a:cubicBezTo>
                  <a:pt x="16764" y="18514"/>
                  <a:pt x="21600" y="14369"/>
                  <a:pt x="21600" y="9257"/>
                </a:cubicBezTo>
                <a:cubicBezTo>
                  <a:pt x="21600" y="4145"/>
                  <a:pt x="16764"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48" name="AutoShape 105"/>
          <p:cNvSpPr/>
          <p:nvPr/>
        </p:nvSpPr>
        <p:spPr>
          <a:xfrm>
            <a:off x="3305160" y="9055080"/>
            <a:ext cx="927000" cy="581040"/>
          </a:xfrm>
          <a:custGeom>
            <a:avLst/>
            <a:gdLst/>
            <a:ahLst/>
            <a:rect l="l" t="t" r="r" b="b"/>
            <a:pathLst>
              <a:path w="21600" h="21600">
                <a:moveTo>
                  <a:pt x="10800" y="19438"/>
                </a:moveTo>
                <a:cubicBezTo>
                  <a:pt x="7005" y="19438"/>
                  <a:pt x="3289" y="15989"/>
                  <a:pt x="1437" y="10797"/>
                </a:cubicBezTo>
                <a:cubicBezTo>
                  <a:pt x="3299" y="5599"/>
                  <a:pt x="7010" y="2162"/>
                  <a:pt x="10800" y="2162"/>
                </a:cubicBezTo>
                <a:cubicBezTo>
                  <a:pt x="14595" y="2162"/>
                  <a:pt x="18311" y="5611"/>
                  <a:pt x="20163" y="10803"/>
                </a:cubicBezTo>
                <a:cubicBezTo>
                  <a:pt x="18301" y="16000"/>
                  <a:pt x="14590" y="19438"/>
                  <a:pt x="10800" y="19438"/>
                </a:cubicBezTo>
                <a:moveTo>
                  <a:pt x="21576" y="10562"/>
                </a:moveTo>
                <a:cubicBezTo>
                  <a:pt x="21570" y="10516"/>
                  <a:pt x="21574" y="10468"/>
                  <a:pt x="21563" y="10423"/>
                </a:cubicBezTo>
                <a:cubicBezTo>
                  <a:pt x="21559" y="10406"/>
                  <a:pt x="21549" y="10395"/>
                  <a:pt x="21545" y="10378"/>
                </a:cubicBezTo>
                <a:cubicBezTo>
                  <a:pt x="21538" y="10352"/>
                  <a:pt x="21539" y="10323"/>
                  <a:pt x="21530" y="10298"/>
                </a:cubicBezTo>
                <a:cubicBezTo>
                  <a:pt x="19569" y="4298"/>
                  <a:pt x="15302" y="0"/>
                  <a:pt x="10800" y="0"/>
                </a:cubicBezTo>
                <a:cubicBezTo>
                  <a:pt x="6298" y="0"/>
                  <a:pt x="2031" y="4291"/>
                  <a:pt x="70" y="10290"/>
                </a:cubicBezTo>
                <a:cubicBezTo>
                  <a:pt x="61" y="10316"/>
                  <a:pt x="62" y="10344"/>
                  <a:pt x="55" y="10370"/>
                </a:cubicBezTo>
                <a:cubicBezTo>
                  <a:pt x="51" y="10388"/>
                  <a:pt x="41" y="10399"/>
                  <a:pt x="37" y="10416"/>
                </a:cubicBezTo>
                <a:cubicBezTo>
                  <a:pt x="26" y="10460"/>
                  <a:pt x="30" y="10509"/>
                  <a:pt x="24" y="10554"/>
                </a:cubicBezTo>
                <a:cubicBezTo>
                  <a:pt x="12" y="10635"/>
                  <a:pt x="0" y="10714"/>
                  <a:pt x="0" y="10796"/>
                </a:cubicBezTo>
                <a:cubicBezTo>
                  <a:pt x="0" y="10878"/>
                  <a:pt x="12" y="10956"/>
                  <a:pt x="24" y="11038"/>
                </a:cubicBezTo>
                <a:cubicBezTo>
                  <a:pt x="30" y="11084"/>
                  <a:pt x="26" y="11131"/>
                  <a:pt x="37" y="11175"/>
                </a:cubicBezTo>
                <a:cubicBezTo>
                  <a:pt x="41" y="11194"/>
                  <a:pt x="51" y="11205"/>
                  <a:pt x="55" y="11221"/>
                </a:cubicBezTo>
                <a:cubicBezTo>
                  <a:pt x="62" y="11248"/>
                  <a:pt x="61" y="11276"/>
                  <a:pt x="70" y="11302"/>
                </a:cubicBezTo>
                <a:cubicBezTo>
                  <a:pt x="2031" y="17300"/>
                  <a:pt x="6298" y="21600"/>
                  <a:pt x="10800" y="21600"/>
                </a:cubicBezTo>
                <a:cubicBezTo>
                  <a:pt x="15302" y="21600"/>
                  <a:pt x="19569" y="17308"/>
                  <a:pt x="21530" y="11310"/>
                </a:cubicBezTo>
                <a:cubicBezTo>
                  <a:pt x="21539" y="11284"/>
                  <a:pt x="21538" y="11256"/>
                  <a:pt x="21545" y="11229"/>
                </a:cubicBezTo>
                <a:cubicBezTo>
                  <a:pt x="21549" y="11212"/>
                  <a:pt x="21559" y="11201"/>
                  <a:pt x="21563" y="11183"/>
                </a:cubicBezTo>
                <a:cubicBezTo>
                  <a:pt x="21574" y="11139"/>
                  <a:pt x="21570" y="11090"/>
                  <a:pt x="21576" y="11045"/>
                </a:cubicBezTo>
                <a:cubicBezTo>
                  <a:pt x="21588" y="10964"/>
                  <a:pt x="21600" y="10886"/>
                  <a:pt x="21600" y="10804"/>
                </a:cubicBezTo>
                <a:cubicBezTo>
                  <a:pt x="21600" y="10722"/>
                  <a:pt x="21588" y="10643"/>
                  <a:pt x="21576" y="10562"/>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49" name="AutoShape 106"/>
          <p:cNvSpPr/>
          <p:nvPr/>
        </p:nvSpPr>
        <p:spPr>
          <a:xfrm>
            <a:off x="3652920" y="9229680"/>
            <a:ext cx="131760" cy="130320"/>
          </a:xfrm>
          <a:custGeom>
            <a:avLst/>
            <a:gdLst/>
            <a:ahLst/>
            <a:rect l="l" t="t" r="r" b="b"/>
            <a:pathLst>
              <a:path w="21600" h="21600">
                <a:moveTo>
                  <a:pt x="19203" y="0"/>
                </a:moveTo>
                <a:cubicBezTo>
                  <a:pt x="19193" y="0"/>
                  <a:pt x="19184" y="5"/>
                  <a:pt x="19174" y="5"/>
                </a:cubicBezTo>
                <a:cubicBezTo>
                  <a:pt x="8586" y="23"/>
                  <a:pt x="0" y="8607"/>
                  <a:pt x="0" y="19198"/>
                </a:cubicBezTo>
                <a:cubicBezTo>
                  <a:pt x="0" y="20524"/>
                  <a:pt x="1077" y="21600"/>
                  <a:pt x="2402" y="21600"/>
                </a:cubicBezTo>
                <a:cubicBezTo>
                  <a:pt x="3723" y="21600"/>
                  <a:pt x="4799" y="20524"/>
                  <a:pt x="4799" y="19198"/>
                </a:cubicBezTo>
                <a:cubicBezTo>
                  <a:pt x="4799" y="11262"/>
                  <a:pt x="11262" y="4803"/>
                  <a:pt x="19203" y="4803"/>
                </a:cubicBezTo>
                <a:lnTo>
                  <a:pt x="19203" y="4798"/>
                </a:lnTo>
                <a:cubicBezTo>
                  <a:pt x="20523" y="4798"/>
                  <a:pt x="21600" y="3722"/>
                  <a:pt x="21600" y="2402"/>
                </a:cubicBezTo>
                <a:cubicBezTo>
                  <a:pt x="21600" y="1076"/>
                  <a:pt x="20523" y="0"/>
                  <a:pt x="19203"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50" name="AutoShape 107"/>
          <p:cNvSpPr/>
          <p:nvPr/>
        </p:nvSpPr>
        <p:spPr>
          <a:xfrm>
            <a:off x="3565440" y="9142560"/>
            <a:ext cx="406440" cy="406080"/>
          </a:xfrm>
          <a:custGeom>
            <a:avLst/>
            <a:gdLst/>
            <a:ahLst/>
            <a:rect l="l" t="t" r="r" b="b"/>
            <a:pathLst>
              <a:path w="21600" h="21600">
                <a:moveTo>
                  <a:pt x="10800" y="20057"/>
                </a:moveTo>
                <a:cubicBezTo>
                  <a:pt x="5695" y="20057"/>
                  <a:pt x="1543" y="15905"/>
                  <a:pt x="1543" y="10800"/>
                </a:cubicBezTo>
                <a:cubicBezTo>
                  <a:pt x="1543" y="5695"/>
                  <a:pt x="5695" y="1543"/>
                  <a:pt x="10800" y="1543"/>
                </a:cubicBezTo>
                <a:cubicBezTo>
                  <a:pt x="15905" y="1543"/>
                  <a:pt x="20057" y="5695"/>
                  <a:pt x="20057" y="10800"/>
                </a:cubicBezTo>
                <a:cubicBezTo>
                  <a:pt x="20057" y="15905"/>
                  <a:pt x="15905" y="20057"/>
                  <a:pt x="10800" y="20057"/>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51" name="AutoShape 108"/>
          <p:cNvSpPr/>
          <p:nvPr/>
        </p:nvSpPr>
        <p:spPr>
          <a:xfrm>
            <a:off x="1736640" y="9055080"/>
            <a:ext cx="349200" cy="349200"/>
          </a:xfrm>
          <a:custGeom>
            <a:avLst/>
            <a:gdLst/>
            <a:ahLst/>
            <a:rect l="l" t="t" r="r" b="b"/>
            <a:pathLst>
              <a:path w="21600" h="21600">
                <a:moveTo>
                  <a:pt x="10800" y="1800"/>
                </a:moveTo>
                <a:cubicBezTo>
                  <a:pt x="15764" y="1800"/>
                  <a:pt x="19800" y="5836"/>
                  <a:pt x="19800" y="10800"/>
                </a:cubicBezTo>
                <a:cubicBezTo>
                  <a:pt x="19800" y="15764"/>
                  <a:pt x="15764" y="19800"/>
                  <a:pt x="10800" y="19800"/>
                </a:cubicBezTo>
                <a:cubicBezTo>
                  <a:pt x="5836" y="19800"/>
                  <a:pt x="1800" y="15764"/>
                  <a:pt x="1800" y="10800"/>
                </a:cubicBezTo>
                <a:cubicBezTo>
                  <a:pt x="1800" y="5836"/>
                  <a:pt x="5836" y="1800"/>
                  <a:pt x="10800" y="1800"/>
                </a:cubicBezTo>
                <a:moveTo>
                  <a:pt x="10800" y="21600"/>
                </a:moveTo>
                <a:cubicBezTo>
                  <a:pt x="16756" y="21600"/>
                  <a:pt x="21600" y="16756"/>
                  <a:pt x="21600" y="10800"/>
                </a:cubicBezTo>
                <a:cubicBezTo>
                  <a:pt x="21600" y="4844"/>
                  <a:pt x="16756" y="0"/>
                  <a:pt x="10800" y="0"/>
                </a:cubicBezTo>
                <a:cubicBezTo>
                  <a:pt x="4844" y="0"/>
                  <a:pt x="0" y="4844"/>
                  <a:pt x="0" y="10800"/>
                </a:cubicBezTo>
                <a:cubicBezTo>
                  <a:pt x="0" y="16756"/>
                  <a:pt x="4844" y="21600"/>
                  <a:pt x="108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52" name="AutoShape 109"/>
          <p:cNvSpPr/>
          <p:nvPr/>
        </p:nvSpPr>
        <p:spPr>
          <a:xfrm>
            <a:off x="1563840" y="8880480"/>
            <a:ext cx="696600" cy="930240"/>
          </a:xfrm>
          <a:custGeom>
            <a:avLst/>
            <a:gdLst/>
            <a:ahLst/>
            <a:rect l="l" t="t" r="r" b="b"/>
            <a:pathLst>
              <a:path w="21600" h="21600">
                <a:moveTo>
                  <a:pt x="10905" y="20171"/>
                </a:moveTo>
                <a:cubicBezTo>
                  <a:pt x="10886" y="20184"/>
                  <a:pt x="10831" y="20215"/>
                  <a:pt x="10783" y="20237"/>
                </a:cubicBezTo>
                <a:cubicBezTo>
                  <a:pt x="10774" y="20218"/>
                  <a:pt x="10707" y="20179"/>
                  <a:pt x="10667" y="20147"/>
                </a:cubicBezTo>
                <a:cubicBezTo>
                  <a:pt x="7369" y="17301"/>
                  <a:pt x="1800" y="12497"/>
                  <a:pt x="1800" y="8101"/>
                </a:cubicBezTo>
                <a:cubicBezTo>
                  <a:pt x="1800" y="4379"/>
                  <a:pt x="5838" y="1350"/>
                  <a:pt x="10800" y="1350"/>
                </a:cubicBezTo>
                <a:cubicBezTo>
                  <a:pt x="15762" y="1350"/>
                  <a:pt x="19800" y="4379"/>
                  <a:pt x="19800" y="8101"/>
                </a:cubicBezTo>
                <a:cubicBezTo>
                  <a:pt x="19800" y="12497"/>
                  <a:pt x="14231" y="17301"/>
                  <a:pt x="10905" y="20171"/>
                </a:cubicBezTo>
                <a:moveTo>
                  <a:pt x="10800" y="0"/>
                </a:moveTo>
                <a:cubicBezTo>
                  <a:pt x="4845" y="0"/>
                  <a:pt x="0" y="3589"/>
                  <a:pt x="0" y="8101"/>
                </a:cubicBezTo>
                <a:cubicBezTo>
                  <a:pt x="0" y="12827"/>
                  <a:pt x="5400" y="17660"/>
                  <a:pt x="9338" y="21057"/>
                </a:cubicBezTo>
                <a:cubicBezTo>
                  <a:pt x="9352" y="21070"/>
                  <a:pt x="9985" y="21600"/>
                  <a:pt x="10766" y="21600"/>
                </a:cubicBezTo>
                <a:lnTo>
                  <a:pt x="10834" y="21600"/>
                </a:lnTo>
                <a:cubicBezTo>
                  <a:pt x="11616" y="21600"/>
                  <a:pt x="12247" y="21070"/>
                  <a:pt x="12262" y="21057"/>
                </a:cubicBezTo>
                <a:cubicBezTo>
                  <a:pt x="16200" y="17660"/>
                  <a:pt x="21600" y="12827"/>
                  <a:pt x="21600" y="8101"/>
                </a:cubicBezTo>
                <a:cubicBezTo>
                  <a:pt x="21600" y="3589"/>
                  <a:pt x="16756"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53" name="AutoShape 110"/>
          <p:cNvSpPr/>
          <p:nvPr/>
        </p:nvSpPr>
        <p:spPr>
          <a:xfrm>
            <a:off x="10853640" y="7196040"/>
            <a:ext cx="695520" cy="465120"/>
          </a:xfrm>
          <a:custGeom>
            <a:avLst/>
            <a:gdLst/>
            <a:ahLst/>
            <a:rect l="l" t="t" r="r" b="b"/>
            <a:pathLst>
              <a:path w="21600" h="21600">
                <a:moveTo>
                  <a:pt x="20700" y="20255"/>
                </a:moveTo>
                <a:lnTo>
                  <a:pt x="900" y="20255"/>
                </a:lnTo>
                <a:lnTo>
                  <a:pt x="900" y="1350"/>
                </a:lnTo>
                <a:lnTo>
                  <a:pt x="20700" y="1350"/>
                </a:lnTo>
                <a:cubicBezTo>
                  <a:pt x="20700" y="1350"/>
                  <a:pt x="20700" y="20255"/>
                  <a:pt x="20700" y="20255"/>
                </a:cubicBezTo>
                <a:close/>
                <a:moveTo>
                  <a:pt x="20700" y="0"/>
                </a:moveTo>
                <a:lnTo>
                  <a:pt x="900" y="5"/>
                </a:lnTo>
                <a:cubicBezTo>
                  <a:pt x="403" y="5"/>
                  <a:pt x="0" y="603"/>
                  <a:pt x="0" y="1350"/>
                </a:cubicBezTo>
                <a:lnTo>
                  <a:pt x="0" y="20250"/>
                </a:lnTo>
                <a:cubicBezTo>
                  <a:pt x="0" y="20996"/>
                  <a:pt x="403" y="21600"/>
                  <a:pt x="900" y="21600"/>
                </a:cubicBezTo>
                <a:lnTo>
                  <a:pt x="20700" y="21600"/>
                </a:lnTo>
                <a:cubicBezTo>
                  <a:pt x="21197" y="21600"/>
                  <a:pt x="21600" y="20996"/>
                  <a:pt x="21600" y="20250"/>
                </a:cubicBezTo>
                <a:lnTo>
                  <a:pt x="21600" y="1350"/>
                </a:lnTo>
                <a:cubicBezTo>
                  <a:pt x="21600" y="603"/>
                  <a:pt x="21197" y="0"/>
                  <a:pt x="207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54" name="AutoShape 111"/>
          <p:cNvSpPr/>
          <p:nvPr/>
        </p:nvSpPr>
        <p:spPr>
          <a:xfrm>
            <a:off x="10736280" y="7080120"/>
            <a:ext cx="930240" cy="871560"/>
          </a:xfrm>
          <a:custGeom>
            <a:avLst/>
            <a:gdLst/>
            <a:ahLst/>
            <a:rect l="l" t="t" r="r" b="b"/>
            <a:pathLst>
              <a:path w="21600" h="21600">
                <a:moveTo>
                  <a:pt x="20250" y="16562"/>
                </a:moveTo>
                <a:cubicBezTo>
                  <a:pt x="20250" y="16959"/>
                  <a:pt x="19947" y="17282"/>
                  <a:pt x="19575" y="17282"/>
                </a:cubicBezTo>
                <a:lnTo>
                  <a:pt x="13500" y="17282"/>
                </a:lnTo>
                <a:lnTo>
                  <a:pt x="8100" y="17282"/>
                </a:lnTo>
                <a:lnTo>
                  <a:pt x="2025" y="17282"/>
                </a:lnTo>
                <a:cubicBezTo>
                  <a:pt x="1652" y="17282"/>
                  <a:pt x="1350" y="16959"/>
                  <a:pt x="1350" y="16562"/>
                </a:cubicBezTo>
                <a:lnTo>
                  <a:pt x="1350" y="2160"/>
                </a:lnTo>
                <a:cubicBezTo>
                  <a:pt x="1350" y="1763"/>
                  <a:pt x="1652" y="1440"/>
                  <a:pt x="2025" y="1440"/>
                </a:cubicBezTo>
                <a:lnTo>
                  <a:pt x="19575" y="1440"/>
                </a:lnTo>
                <a:cubicBezTo>
                  <a:pt x="19947" y="1440"/>
                  <a:pt x="20250" y="1763"/>
                  <a:pt x="20250" y="2160"/>
                </a:cubicBezTo>
                <a:cubicBezTo>
                  <a:pt x="20250" y="2160"/>
                  <a:pt x="20250" y="16562"/>
                  <a:pt x="20250" y="16562"/>
                </a:cubicBezTo>
                <a:close/>
                <a:moveTo>
                  <a:pt x="19575" y="0"/>
                </a:moveTo>
                <a:lnTo>
                  <a:pt x="2025" y="0"/>
                </a:lnTo>
                <a:cubicBezTo>
                  <a:pt x="906" y="0"/>
                  <a:pt x="0" y="967"/>
                  <a:pt x="0" y="2160"/>
                </a:cubicBezTo>
                <a:lnTo>
                  <a:pt x="0" y="16562"/>
                </a:lnTo>
                <a:cubicBezTo>
                  <a:pt x="0" y="17753"/>
                  <a:pt x="903" y="18718"/>
                  <a:pt x="2018" y="18722"/>
                </a:cubicBezTo>
                <a:lnTo>
                  <a:pt x="8775" y="18722"/>
                </a:lnTo>
                <a:lnTo>
                  <a:pt x="8775" y="19597"/>
                </a:lnTo>
                <a:lnTo>
                  <a:pt x="4562" y="20181"/>
                </a:lnTo>
                <a:cubicBezTo>
                  <a:pt x="4261" y="20262"/>
                  <a:pt x="4050" y="20549"/>
                  <a:pt x="4050" y="20880"/>
                </a:cubicBezTo>
                <a:cubicBezTo>
                  <a:pt x="4050" y="21278"/>
                  <a:pt x="4352" y="21600"/>
                  <a:pt x="4725" y="21600"/>
                </a:cubicBezTo>
                <a:lnTo>
                  <a:pt x="16875" y="21600"/>
                </a:lnTo>
                <a:cubicBezTo>
                  <a:pt x="17248" y="21600"/>
                  <a:pt x="17550" y="21278"/>
                  <a:pt x="17550" y="20880"/>
                </a:cubicBezTo>
                <a:cubicBezTo>
                  <a:pt x="17550" y="20549"/>
                  <a:pt x="17339" y="20262"/>
                  <a:pt x="17038" y="20181"/>
                </a:cubicBezTo>
                <a:lnTo>
                  <a:pt x="12825" y="19597"/>
                </a:lnTo>
                <a:lnTo>
                  <a:pt x="12825" y="18722"/>
                </a:lnTo>
                <a:lnTo>
                  <a:pt x="19582" y="18722"/>
                </a:lnTo>
                <a:cubicBezTo>
                  <a:pt x="20697" y="18718"/>
                  <a:pt x="21600" y="17753"/>
                  <a:pt x="21600" y="16562"/>
                </a:cubicBezTo>
                <a:lnTo>
                  <a:pt x="21600" y="2160"/>
                </a:lnTo>
                <a:cubicBezTo>
                  <a:pt x="21600" y="967"/>
                  <a:pt x="20693" y="0"/>
                  <a:pt x="19575"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55" name="AutoShape 112"/>
          <p:cNvSpPr/>
          <p:nvPr/>
        </p:nvSpPr>
        <p:spPr>
          <a:xfrm>
            <a:off x="8879040" y="7021440"/>
            <a:ext cx="928440" cy="930240"/>
          </a:xfrm>
          <a:custGeom>
            <a:avLst/>
            <a:gdLst/>
            <a:ahLst/>
            <a:rect l="l" t="t" r="r" b="b"/>
            <a:pathLst>
              <a:path w="21020" h="21600">
                <a:moveTo>
                  <a:pt x="18847" y="7946"/>
                </a:moveTo>
                <a:lnTo>
                  <a:pt x="17741" y="9092"/>
                </a:lnTo>
                <a:cubicBezTo>
                  <a:pt x="17741" y="8940"/>
                  <a:pt x="17759" y="8792"/>
                  <a:pt x="17745" y="8637"/>
                </a:cubicBezTo>
                <a:cubicBezTo>
                  <a:pt x="17629" y="7331"/>
                  <a:pt x="17037" y="6068"/>
                  <a:pt x="16074" y="5081"/>
                </a:cubicBezTo>
                <a:cubicBezTo>
                  <a:pt x="15004" y="3980"/>
                  <a:pt x="13586" y="3349"/>
                  <a:pt x="12181" y="3345"/>
                </a:cubicBezTo>
                <a:lnTo>
                  <a:pt x="13269" y="2218"/>
                </a:lnTo>
                <a:cubicBezTo>
                  <a:pt x="13813" y="1660"/>
                  <a:pt x="14572" y="1350"/>
                  <a:pt x="15403" y="1350"/>
                </a:cubicBezTo>
                <a:cubicBezTo>
                  <a:pt x="16461" y="1350"/>
                  <a:pt x="17547" y="1841"/>
                  <a:pt x="18381" y="2697"/>
                </a:cubicBezTo>
                <a:cubicBezTo>
                  <a:pt x="19165" y="3501"/>
                  <a:pt x="19632" y="4500"/>
                  <a:pt x="19699" y="5510"/>
                </a:cubicBezTo>
                <a:cubicBezTo>
                  <a:pt x="19760" y="6453"/>
                  <a:pt x="19458" y="7318"/>
                  <a:pt x="18847" y="7946"/>
                </a:cubicBezTo>
                <a:moveTo>
                  <a:pt x="5829" y="19329"/>
                </a:moveTo>
                <a:cubicBezTo>
                  <a:pt x="5814" y="18424"/>
                  <a:pt x="5454" y="17482"/>
                  <a:pt x="4731" y="16739"/>
                </a:cubicBezTo>
                <a:cubicBezTo>
                  <a:pt x="4046" y="16035"/>
                  <a:pt x="3151" y="15629"/>
                  <a:pt x="2257" y="15593"/>
                </a:cubicBezTo>
                <a:lnTo>
                  <a:pt x="2912" y="13158"/>
                </a:lnTo>
                <a:cubicBezTo>
                  <a:pt x="2960" y="12995"/>
                  <a:pt x="3053" y="12836"/>
                  <a:pt x="3168" y="12695"/>
                </a:cubicBezTo>
                <a:cubicBezTo>
                  <a:pt x="4486" y="11727"/>
                  <a:pt x="6513" y="12012"/>
                  <a:pt x="7920" y="13460"/>
                </a:cubicBezTo>
                <a:cubicBezTo>
                  <a:pt x="9410" y="14990"/>
                  <a:pt x="9639" y="17231"/>
                  <a:pt x="8492" y="18569"/>
                </a:cubicBezTo>
                <a:cubicBezTo>
                  <a:pt x="8417" y="18610"/>
                  <a:pt x="8340" y="18649"/>
                  <a:pt x="8256" y="18675"/>
                </a:cubicBezTo>
                <a:cubicBezTo>
                  <a:pt x="8256" y="18675"/>
                  <a:pt x="5829" y="19329"/>
                  <a:pt x="5829" y="19329"/>
                </a:cubicBezTo>
                <a:close/>
                <a:moveTo>
                  <a:pt x="2738" y="20164"/>
                </a:moveTo>
                <a:cubicBezTo>
                  <a:pt x="2666" y="20181"/>
                  <a:pt x="2443" y="20239"/>
                  <a:pt x="2292" y="20250"/>
                </a:cubicBezTo>
                <a:cubicBezTo>
                  <a:pt x="1752" y="20244"/>
                  <a:pt x="1314" y="19792"/>
                  <a:pt x="1314" y="19238"/>
                </a:cubicBezTo>
                <a:cubicBezTo>
                  <a:pt x="1321" y="19125"/>
                  <a:pt x="1366" y="18929"/>
                  <a:pt x="1380" y="18857"/>
                </a:cubicBezTo>
                <a:lnTo>
                  <a:pt x="2072" y="16283"/>
                </a:lnTo>
                <a:cubicBezTo>
                  <a:pt x="2822" y="16261"/>
                  <a:pt x="3631" y="16563"/>
                  <a:pt x="4266" y="17216"/>
                </a:cubicBezTo>
                <a:cubicBezTo>
                  <a:pt x="4911" y="17879"/>
                  <a:pt x="5214" y="18725"/>
                  <a:pt x="5181" y="19505"/>
                </a:cubicBezTo>
                <a:cubicBezTo>
                  <a:pt x="5181" y="19505"/>
                  <a:pt x="2738" y="20164"/>
                  <a:pt x="2738" y="20164"/>
                </a:cubicBezTo>
                <a:close/>
                <a:moveTo>
                  <a:pt x="6889" y="11179"/>
                </a:moveTo>
                <a:cubicBezTo>
                  <a:pt x="6281" y="10928"/>
                  <a:pt x="5643" y="10784"/>
                  <a:pt x="5004" y="10775"/>
                </a:cubicBezTo>
                <a:lnTo>
                  <a:pt x="10064" y="5536"/>
                </a:lnTo>
                <a:cubicBezTo>
                  <a:pt x="10839" y="4760"/>
                  <a:pt x="11967" y="4536"/>
                  <a:pt x="13078" y="4820"/>
                </a:cubicBezTo>
                <a:cubicBezTo>
                  <a:pt x="13078" y="4820"/>
                  <a:pt x="6889" y="11179"/>
                  <a:pt x="6889" y="11179"/>
                </a:cubicBezTo>
                <a:close/>
                <a:moveTo>
                  <a:pt x="9718" y="13672"/>
                </a:moveTo>
                <a:cubicBezTo>
                  <a:pt x="9473" y="13258"/>
                  <a:pt x="9194" y="12860"/>
                  <a:pt x="8849" y="12506"/>
                </a:cubicBezTo>
                <a:cubicBezTo>
                  <a:pt x="8447" y="12093"/>
                  <a:pt x="7987" y="11771"/>
                  <a:pt x="7507" y="11499"/>
                </a:cubicBezTo>
                <a:lnTo>
                  <a:pt x="13768" y="5064"/>
                </a:lnTo>
                <a:cubicBezTo>
                  <a:pt x="14259" y="5289"/>
                  <a:pt x="14730" y="5608"/>
                  <a:pt x="15146" y="6035"/>
                </a:cubicBezTo>
                <a:cubicBezTo>
                  <a:pt x="15501" y="6399"/>
                  <a:pt x="15776" y="6807"/>
                  <a:pt x="15987" y="7230"/>
                </a:cubicBezTo>
                <a:cubicBezTo>
                  <a:pt x="15987" y="7230"/>
                  <a:pt x="9718" y="13672"/>
                  <a:pt x="9718" y="13672"/>
                </a:cubicBezTo>
                <a:close/>
                <a:moveTo>
                  <a:pt x="10519" y="16062"/>
                </a:moveTo>
                <a:cubicBezTo>
                  <a:pt x="10465" y="15452"/>
                  <a:pt x="10299" y="14855"/>
                  <a:pt x="10048" y="14288"/>
                </a:cubicBezTo>
                <a:lnTo>
                  <a:pt x="16258" y="7907"/>
                </a:lnTo>
                <a:cubicBezTo>
                  <a:pt x="16638" y="9140"/>
                  <a:pt x="16443" y="10430"/>
                  <a:pt x="15610" y="11285"/>
                </a:cubicBezTo>
                <a:cubicBezTo>
                  <a:pt x="15605" y="11290"/>
                  <a:pt x="15598" y="11293"/>
                  <a:pt x="15593" y="11299"/>
                </a:cubicBezTo>
                <a:lnTo>
                  <a:pt x="15602" y="11307"/>
                </a:lnTo>
                <a:lnTo>
                  <a:pt x="10526" y="16565"/>
                </a:lnTo>
                <a:cubicBezTo>
                  <a:pt x="10527" y="16398"/>
                  <a:pt x="10535" y="16232"/>
                  <a:pt x="10519" y="16062"/>
                </a:cubicBezTo>
                <a:moveTo>
                  <a:pt x="19309" y="1742"/>
                </a:moveTo>
                <a:cubicBezTo>
                  <a:pt x="18228" y="632"/>
                  <a:pt x="16806" y="0"/>
                  <a:pt x="15403" y="0"/>
                </a:cubicBezTo>
                <a:cubicBezTo>
                  <a:pt x="14221" y="0"/>
                  <a:pt x="13131" y="451"/>
                  <a:pt x="12336" y="1266"/>
                </a:cubicBezTo>
                <a:lnTo>
                  <a:pt x="9139" y="4577"/>
                </a:lnTo>
                <a:cubicBezTo>
                  <a:pt x="9130" y="4586"/>
                  <a:pt x="9118" y="4593"/>
                  <a:pt x="9108" y="4603"/>
                </a:cubicBezTo>
                <a:cubicBezTo>
                  <a:pt x="9103" y="4608"/>
                  <a:pt x="9100" y="4615"/>
                  <a:pt x="9095" y="4621"/>
                </a:cubicBezTo>
                <a:lnTo>
                  <a:pt x="9097" y="4622"/>
                </a:lnTo>
                <a:lnTo>
                  <a:pt x="2311" y="11647"/>
                </a:lnTo>
                <a:cubicBezTo>
                  <a:pt x="1998" y="11966"/>
                  <a:pt x="1771" y="12365"/>
                  <a:pt x="1646" y="12798"/>
                </a:cubicBezTo>
                <a:lnTo>
                  <a:pt x="103" y="18541"/>
                </a:lnTo>
                <a:cubicBezTo>
                  <a:pt x="101" y="18557"/>
                  <a:pt x="0" y="19009"/>
                  <a:pt x="0" y="19238"/>
                </a:cubicBezTo>
                <a:cubicBezTo>
                  <a:pt x="0" y="20542"/>
                  <a:pt x="1031" y="21600"/>
                  <a:pt x="2303" y="21600"/>
                </a:cubicBezTo>
                <a:cubicBezTo>
                  <a:pt x="2555" y="21600"/>
                  <a:pt x="3044" y="21476"/>
                  <a:pt x="3062" y="21473"/>
                </a:cubicBezTo>
                <a:lnTo>
                  <a:pt x="8631" y="19969"/>
                </a:lnTo>
                <a:cubicBezTo>
                  <a:pt x="9054" y="19840"/>
                  <a:pt x="9439" y="19605"/>
                  <a:pt x="9751" y="19283"/>
                </a:cubicBezTo>
                <a:lnTo>
                  <a:pt x="19777" y="8900"/>
                </a:lnTo>
                <a:cubicBezTo>
                  <a:pt x="21600" y="7024"/>
                  <a:pt x="21395" y="3881"/>
                  <a:pt x="19309" y="1742"/>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56" name="AutoShape 113"/>
          <p:cNvSpPr/>
          <p:nvPr/>
        </p:nvSpPr>
        <p:spPr>
          <a:xfrm>
            <a:off x="7165800" y="7021440"/>
            <a:ext cx="638280" cy="930240"/>
          </a:xfrm>
          <a:custGeom>
            <a:avLst/>
            <a:gdLst/>
            <a:ahLst/>
            <a:rect l="l" t="t" r="r" b="b"/>
            <a:pathLst>
              <a:path w="21600" h="21600">
                <a:moveTo>
                  <a:pt x="15387" y="14175"/>
                </a:moveTo>
                <a:lnTo>
                  <a:pt x="6224" y="14175"/>
                </a:lnTo>
                <a:cubicBezTo>
                  <a:pt x="5735" y="13447"/>
                  <a:pt x="5148" y="12717"/>
                  <a:pt x="4569" y="12004"/>
                </a:cubicBezTo>
                <a:cubicBezTo>
                  <a:pt x="3288" y="10428"/>
                  <a:pt x="1964" y="8797"/>
                  <a:pt x="1964" y="7425"/>
                </a:cubicBezTo>
                <a:cubicBezTo>
                  <a:pt x="1964" y="4075"/>
                  <a:pt x="5927" y="1350"/>
                  <a:pt x="10800" y="1350"/>
                </a:cubicBezTo>
                <a:cubicBezTo>
                  <a:pt x="15673" y="1350"/>
                  <a:pt x="19636" y="4075"/>
                  <a:pt x="19636" y="7425"/>
                </a:cubicBezTo>
                <a:cubicBezTo>
                  <a:pt x="19636" y="8787"/>
                  <a:pt x="18312" y="10426"/>
                  <a:pt x="17029" y="12012"/>
                </a:cubicBezTo>
                <a:cubicBezTo>
                  <a:pt x="16455" y="12723"/>
                  <a:pt x="15873" y="13450"/>
                  <a:pt x="15387" y="14175"/>
                </a:cubicBezTo>
                <a:moveTo>
                  <a:pt x="10800" y="20250"/>
                </a:moveTo>
                <a:cubicBezTo>
                  <a:pt x="9806" y="20250"/>
                  <a:pt x="9347" y="20172"/>
                  <a:pt x="8839" y="19406"/>
                </a:cubicBezTo>
                <a:lnTo>
                  <a:pt x="13000" y="19049"/>
                </a:lnTo>
                <a:cubicBezTo>
                  <a:pt x="12398" y="20164"/>
                  <a:pt x="11959" y="20250"/>
                  <a:pt x="10800" y="20250"/>
                </a:cubicBezTo>
                <a:moveTo>
                  <a:pt x="7596" y="16813"/>
                </a:moveTo>
                <a:cubicBezTo>
                  <a:pt x="7417" y="16407"/>
                  <a:pt x="7216" y="15979"/>
                  <a:pt x="6992" y="15525"/>
                </a:cubicBezTo>
                <a:lnTo>
                  <a:pt x="14616" y="15525"/>
                </a:lnTo>
                <a:cubicBezTo>
                  <a:pt x="14496" y="15767"/>
                  <a:pt x="14375" y="16010"/>
                  <a:pt x="14271" y="16240"/>
                </a:cubicBezTo>
                <a:cubicBezTo>
                  <a:pt x="14271" y="16240"/>
                  <a:pt x="7596" y="16813"/>
                  <a:pt x="7596" y="16813"/>
                </a:cubicBezTo>
                <a:close/>
                <a:moveTo>
                  <a:pt x="13346" y="18344"/>
                </a:moveTo>
                <a:lnTo>
                  <a:pt x="8477" y="18762"/>
                </a:lnTo>
                <a:cubicBezTo>
                  <a:pt x="8303" y="18416"/>
                  <a:pt x="8116" y="18012"/>
                  <a:pt x="7890" y="17484"/>
                </a:cubicBezTo>
                <a:cubicBezTo>
                  <a:pt x="7887" y="17478"/>
                  <a:pt x="7883" y="17470"/>
                  <a:pt x="7881" y="17463"/>
                </a:cubicBezTo>
                <a:lnTo>
                  <a:pt x="13957" y="16941"/>
                </a:lnTo>
                <a:cubicBezTo>
                  <a:pt x="13871" y="17141"/>
                  <a:pt x="13778" y="17350"/>
                  <a:pt x="13698" y="17537"/>
                </a:cubicBezTo>
                <a:cubicBezTo>
                  <a:pt x="13570" y="17841"/>
                  <a:pt x="13454" y="18104"/>
                  <a:pt x="13346" y="18344"/>
                </a:cubicBezTo>
                <a:moveTo>
                  <a:pt x="10800" y="0"/>
                </a:moveTo>
                <a:cubicBezTo>
                  <a:pt x="4835" y="0"/>
                  <a:pt x="0" y="3324"/>
                  <a:pt x="0" y="7425"/>
                </a:cubicBezTo>
                <a:cubicBezTo>
                  <a:pt x="0" y="10146"/>
                  <a:pt x="3621" y="13030"/>
                  <a:pt x="4940" y="15562"/>
                </a:cubicBezTo>
                <a:cubicBezTo>
                  <a:pt x="6906" y="19339"/>
                  <a:pt x="6689" y="21600"/>
                  <a:pt x="10800" y="21600"/>
                </a:cubicBezTo>
                <a:cubicBezTo>
                  <a:pt x="14973" y="21600"/>
                  <a:pt x="14693" y="19350"/>
                  <a:pt x="16660" y="15578"/>
                </a:cubicBezTo>
                <a:cubicBezTo>
                  <a:pt x="17983" y="13040"/>
                  <a:pt x="21600" y="10125"/>
                  <a:pt x="21600" y="7425"/>
                </a:cubicBezTo>
                <a:cubicBezTo>
                  <a:pt x="21600" y="3324"/>
                  <a:pt x="16765"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57" name="AutoShape 114"/>
          <p:cNvSpPr/>
          <p:nvPr/>
        </p:nvSpPr>
        <p:spPr>
          <a:xfrm>
            <a:off x="7310520" y="7167600"/>
            <a:ext cx="189000" cy="189000"/>
          </a:xfrm>
          <a:custGeom>
            <a:avLst/>
            <a:gdLst/>
            <a:ahLst/>
            <a:rect l="l" t="t" r="r" b="b"/>
            <a:pathLst>
              <a:path w="21600" h="21600">
                <a:moveTo>
                  <a:pt x="19938" y="0"/>
                </a:moveTo>
                <a:cubicBezTo>
                  <a:pt x="8944" y="0"/>
                  <a:pt x="0" y="8942"/>
                  <a:pt x="0" y="19938"/>
                </a:cubicBezTo>
                <a:cubicBezTo>
                  <a:pt x="0" y="20855"/>
                  <a:pt x="743" y="21600"/>
                  <a:pt x="1662" y="21600"/>
                </a:cubicBezTo>
                <a:cubicBezTo>
                  <a:pt x="2580" y="21600"/>
                  <a:pt x="3323" y="20855"/>
                  <a:pt x="3323" y="19938"/>
                </a:cubicBezTo>
                <a:cubicBezTo>
                  <a:pt x="3323" y="10777"/>
                  <a:pt x="10777" y="3323"/>
                  <a:pt x="19938" y="3323"/>
                </a:cubicBezTo>
                <a:cubicBezTo>
                  <a:pt x="20857" y="3323"/>
                  <a:pt x="21600" y="2578"/>
                  <a:pt x="21600" y="1662"/>
                </a:cubicBezTo>
                <a:cubicBezTo>
                  <a:pt x="21600" y="745"/>
                  <a:pt x="20857" y="0"/>
                  <a:pt x="19938"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58" name="AutoShape 115"/>
          <p:cNvSpPr/>
          <p:nvPr/>
        </p:nvSpPr>
        <p:spPr>
          <a:xfrm>
            <a:off x="5278320" y="7021440"/>
            <a:ext cx="696960" cy="930240"/>
          </a:xfrm>
          <a:custGeom>
            <a:avLst/>
            <a:gdLst/>
            <a:ahLst/>
            <a:rect l="l" t="t" r="r" b="b"/>
            <a:pathLst>
              <a:path w="21600" h="21600">
                <a:moveTo>
                  <a:pt x="19800" y="12825"/>
                </a:moveTo>
                <a:lnTo>
                  <a:pt x="19800" y="13500"/>
                </a:lnTo>
                <a:lnTo>
                  <a:pt x="19800" y="14850"/>
                </a:lnTo>
                <a:lnTo>
                  <a:pt x="19800" y="15525"/>
                </a:lnTo>
                <a:cubicBezTo>
                  <a:pt x="19800" y="18130"/>
                  <a:pt x="16973" y="20250"/>
                  <a:pt x="13500" y="20250"/>
                </a:cubicBezTo>
                <a:lnTo>
                  <a:pt x="8100" y="20250"/>
                </a:lnTo>
                <a:cubicBezTo>
                  <a:pt x="4627" y="20250"/>
                  <a:pt x="1800" y="18130"/>
                  <a:pt x="1800" y="15525"/>
                </a:cubicBezTo>
                <a:lnTo>
                  <a:pt x="1800" y="14850"/>
                </a:lnTo>
                <a:lnTo>
                  <a:pt x="1800" y="13500"/>
                </a:lnTo>
                <a:lnTo>
                  <a:pt x="1800" y="12825"/>
                </a:lnTo>
                <a:lnTo>
                  <a:pt x="1800" y="10800"/>
                </a:lnTo>
                <a:cubicBezTo>
                  <a:pt x="1800" y="10428"/>
                  <a:pt x="2203" y="10125"/>
                  <a:pt x="2700" y="10125"/>
                </a:cubicBezTo>
                <a:lnTo>
                  <a:pt x="4500" y="10125"/>
                </a:lnTo>
                <a:lnTo>
                  <a:pt x="17100" y="10125"/>
                </a:lnTo>
                <a:lnTo>
                  <a:pt x="18900" y="10125"/>
                </a:lnTo>
                <a:cubicBezTo>
                  <a:pt x="19397" y="10125"/>
                  <a:pt x="19800" y="10428"/>
                  <a:pt x="19800" y="10800"/>
                </a:cubicBezTo>
                <a:cubicBezTo>
                  <a:pt x="19800" y="10800"/>
                  <a:pt x="19800" y="12825"/>
                  <a:pt x="19800" y="12825"/>
                </a:cubicBezTo>
                <a:close/>
                <a:moveTo>
                  <a:pt x="14400" y="6075"/>
                </a:moveTo>
                <a:lnTo>
                  <a:pt x="14400" y="6077"/>
                </a:lnTo>
                <a:lnTo>
                  <a:pt x="14400" y="8775"/>
                </a:lnTo>
                <a:lnTo>
                  <a:pt x="7200" y="8775"/>
                </a:lnTo>
                <a:lnTo>
                  <a:pt x="7200" y="6077"/>
                </a:lnTo>
                <a:lnTo>
                  <a:pt x="7200" y="6075"/>
                </a:lnTo>
                <a:cubicBezTo>
                  <a:pt x="7200" y="4584"/>
                  <a:pt x="8812" y="3375"/>
                  <a:pt x="10800" y="3375"/>
                </a:cubicBezTo>
                <a:cubicBezTo>
                  <a:pt x="12788" y="3375"/>
                  <a:pt x="14400" y="4584"/>
                  <a:pt x="14400" y="6075"/>
                </a:cubicBezTo>
                <a:moveTo>
                  <a:pt x="4500" y="6075"/>
                </a:moveTo>
                <a:cubicBezTo>
                  <a:pt x="4500" y="3465"/>
                  <a:pt x="7320" y="1350"/>
                  <a:pt x="10800" y="1350"/>
                </a:cubicBezTo>
                <a:cubicBezTo>
                  <a:pt x="14280" y="1350"/>
                  <a:pt x="17100" y="3465"/>
                  <a:pt x="17100" y="6075"/>
                </a:cubicBezTo>
                <a:lnTo>
                  <a:pt x="17100" y="8775"/>
                </a:lnTo>
                <a:lnTo>
                  <a:pt x="15300" y="8775"/>
                </a:lnTo>
                <a:lnTo>
                  <a:pt x="15300" y="6077"/>
                </a:lnTo>
                <a:cubicBezTo>
                  <a:pt x="15300" y="4213"/>
                  <a:pt x="13286" y="2702"/>
                  <a:pt x="10800" y="2702"/>
                </a:cubicBezTo>
                <a:cubicBezTo>
                  <a:pt x="8314" y="2702"/>
                  <a:pt x="6300" y="4213"/>
                  <a:pt x="6300" y="6077"/>
                </a:cubicBezTo>
                <a:lnTo>
                  <a:pt x="6300" y="8775"/>
                </a:lnTo>
                <a:lnTo>
                  <a:pt x="4500" y="8775"/>
                </a:lnTo>
                <a:cubicBezTo>
                  <a:pt x="4500" y="8775"/>
                  <a:pt x="4500" y="6075"/>
                  <a:pt x="4500" y="6075"/>
                </a:cubicBezTo>
                <a:close/>
                <a:moveTo>
                  <a:pt x="18900" y="8775"/>
                </a:moveTo>
                <a:lnTo>
                  <a:pt x="18900" y="6075"/>
                </a:lnTo>
                <a:cubicBezTo>
                  <a:pt x="18900" y="2719"/>
                  <a:pt x="15274" y="0"/>
                  <a:pt x="10800" y="0"/>
                </a:cubicBezTo>
                <a:cubicBezTo>
                  <a:pt x="6326" y="0"/>
                  <a:pt x="2700" y="2719"/>
                  <a:pt x="2700" y="6075"/>
                </a:cubicBezTo>
                <a:lnTo>
                  <a:pt x="2700" y="8775"/>
                </a:lnTo>
                <a:cubicBezTo>
                  <a:pt x="1208" y="8775"/>
                  <a:pt x="0" y="9681"/>
                  <a:pt x="0" y="10800"/>
                </a:cubicBezTo>
                <a:lnTo>
                  <a:pt x="0" y="12825"/>
                </a:lnTo>
                <a:lnTo>
                  <a:pt x="0" y="13500"/>
                </a:lnTo>
                <a:lnTo>
                  <a:pt x="0" y="14850"/>
                </a:lnTo>
                <a:lnTo>
                  <a:pt x="0" y="15525"/>
                </a:lnTo>
                <a:cubicBezTo>
                  <a:pt x="0" y="18881"/>
                  <a:pt x="3626" y="21600"/>
                  <a:pt x="8100" y="21600"/>
                </a:cubicBezTo>
                <a:lnTo>
                  <a:pt x="13500" y="21600"/>
                </a:lnTo>
                <a:cubicBezTo>
                  <a:pt x="17974" y="21600"/>
                  <a:pt x="21600" y="18881"/>
                  <a:pt x="21600" y="15525"/>
                </a:cubicBezTo>
                <a:lnTo>
                  <a:pt x="21600" y="14850"/>
                </a:lnTo>
                <a:lnTo>
                  <a:pt x="21600" y="13500"/>
                </a:lnTo>
                <a:lnTo>
                  <a:pt x="21600" y="12825"/>
                </a:lnTo>
                <a:lnTo>
                  <a:pt x="21600" y="10800"/>
                </a:lnTo>
                <a:cubicBezTo>
                  <a:pt x="21600" y="9681"/>
                  <a:pt x="20392" y="8775"/>
                  <a:pt x="18900" y="8775"/>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59" name="AutoShape 116"/>
          <p:cNvSpPr/>
          <p:nvPr/>
        </p:nvSpPr>
        <p:spPr>
          <a:xfrm>
            <a:off x="5568840" y="7574040"/>
            <a:ext cx="115920" cy="174600"/>
          </a:xfrm>
          <a:custGeom>
            <a:avLst/>
            <a:gdLst/>
            <a:ahLst/>
            <a:rect l="l" t="t" r="r" b="b"/>
            <a:pathLst>
              <a:path w="21600" h="21600">
                <a:moveTo>
                  <a:pt x="10800" y="0"/>
                </a:moveTo>
                <a:cubicBezTo>
                  <a:pt x="4838" y="0"/>
                  <a:pt x="0" y="3226"/>
                  <a:pt x="0" y="7201"/>
                </a:cubicBezTo>
                <a:cubicBezTo>
                  <a:pt x="0" y="9390"/>
                  <a:pt x="1798" y="13537"/>
                  <a:pt x="3602" y="16821"/>
                </a:cubicBezTo>
                <a:cubicBezTo>
                  <a:pt x="5070" y="19494"/>
                  <a:pt x="6916" y="21600"/>
                  <a:pt x="10800" y="21600"/>
                </a:cubicBezTo>
                <a:cubicBezTo>
                  <a:pt x="15016" y="21600"/>
                  <a:pt x="16530" y="19515"/>
                  <a:pt x="18004" y="16858"/>
                </a:cubicBezTo>
                <a:cubicBezTo>
                  <a:pt x="19828" y="13567"/>
                  <a:pt x="21600" y="9397"/>
                  <a:pt x="21600" y="7201"/>
                </a:cubicBezTo>
                <a:cubicBezTo>
                  <a:pt x="21600" y="3226"/>
                  <a:pt x="16762"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60" name="AutoShape 117"/>
          <p:cNvSpPr/>
          <p:nvPr/>
        </p:nvSpPr>
        <p:spPr>
          <a:xfrm>
            <a:off x="3305160" y="7196040"/>
            <a:ext cx="928800" cy="696960"/>
          </a:xfrm>
          <a:custGeom>
            <a:avLst/>
            <a:gdLst/>
            <a:ahLst/>
            <a:rect l="l" t="t" r="r" b="b"/>
            <a:pathLst>
              <a:path w="21596" h="21600">
                <a:moveTo>
                  <a:pt x="4512" y="2152"/>
                </a:moveTo>
                <a:lnTo>
                  <a:pt x="6065" y="3878"/>
                </a:lnTo>
                <a:lnTo>
                  <a:pt x="4247" y="6303"/>
                </a:lnTo>
                <a:lnTo>
                  <a:pt x="1353" y="6303"/>
                </a:lnTo>
                <a:cubicBezTo>
                  <a:pt x="1353" y="6303"/>
                  <a:pt x="4512" y="2152"/>
                  <a:pt x="4512" y="2152"/>
                </a:cubicBezTo>
                <a:close/>
                <a:moveTo>
                  <a:pt x="17349" y="6303"/>
                </a:moveTo>
                <a:lnTo>
                  <a:pt x="15531" y="3878"/>
                </a:lnTo>
                <a:lnTo>
                  <a:pt x="17082" y="2154"/>
                </a:lnTo>
                <a:lnTo>
                  <a:pt x="20191" y="6303"/>
                </a:lnTo>
                <a:cubicBezTo>
                  <a:pt x="20191" y="6303"/>
                  <a:pt x="17349" y="6303"/>
                  <a:pt x="17349" y="6303"/>
                </a:cubicBezTo>
                <a:close/>
                <a:moveTo>
                  <a:pt x="17264" y="7203"/>
                </a:moveTo>
                <a:lnTo>
                  <a:pt x="19664" y="7203"/>
                </a:lnTo>
                <a:lnTo>
                  <a:pt x="13021" y="16639"/>
                </a:lnTo>
                <a:cubicBezTo>
                  <a:pt x="13021" y="16639"/>
                  <a:pt x="17264" y="7203"/>
                  <a:pt x="17264" y="7203"/>
                </a:cubicBezTo>
                <a:close/>
                <a:moveTo>
                  <a:pt x="8574" y="16638"/>
                </a:moveTo>
                <a:lnTo>
                  <a:pt x="1933" y="7203"/>
                </a:lnTo>
                <a:lnTo>
                  <a:pt x="4331" y="7203"/>
                </a:lnTo>
                <a:cubicBezTo>
                  <a:pt x="4331" y="7203"/>
                  <a:pt x="8574" y="16638"/>
                  <a:pt x="8574" y="16638"/>
                </a:cubicBezTo>
                <a:close/>
                <a:moveTo>
                  <a:pt x="8430" y="7203"/>
                </a:moveTo>
                <a:lnTo>
                  <a:pt x="10085" y="18250"/>
                </a:lnTo>
                <a:lnTo>
                  <a:pt x="5117" y="7203"/>
                </a:lnTo>
                <a:cubicBezTo>
                  <a:pt x="5117" y="7203"/>
                  <a:pt x="8430" y="7203"/>
                  <a:pt x="8430" y="7203"/>
                </a:cubicBezTo>
                <a:close/>
                <a:moveTo>
                  <a:pt x="6585" y="4457"/>
                </a:moveTo>
                <a:lnTo>
                  <a:pt x="8247" y="6303"/>
                </a:lnTo>
                <a:lnTo>
                  <a:pt x="5201" y="6303"/>
                </a:lnTo>
                <a:cubicBezTo>
                  <a:pt x="5201" y="6303"/>
                  <a:pt x="6585" y="4457"/>
                  <a:pt x="6585" y="4457"/>
                </a:cubicBezTo>
                <a:close/>
                <a:moveTo>
                  <a:pt x="6544" y="3239"/>
                </a:moveTo>
                <a:lnTo>
                  <a:pt x="5251" y="1801"/>
                </a:lnTo>
                <a:lnTo>
                  <a:pt x="7621" y="1801"/>
                </a:lnTo>
                <a:cubicBezTo>
                  <a:pt x="7621" y="1801"/>
                  <a:pt x="6544" y="3239"/>
                  <a:pt x="6544" y="3239"/>
                </a:cubicBezTo>
                <a:close/>
                <a:moveTo>
                  <a:pt x="10798" y="3466"/>
                </a:moveTo>
                <a:lnTo>
                  <a:pt x="9300" y="1801"/>
                </a:lnTo>
                <a:lnTo>
                  <a:pt x="12296" y="1801"/>
                </a:lnTo>
                <a:cubicBezTo>
                  <a:pt x="12296" y="1801"/>
                  <a:pt x="10798" y="3466"/>
                  <a:pt x="10798" y="3466"/>
                </a:cubicBezTo>
                <a:close/>
                <a:moveTo>
                  <a:pt x="13974" y="1801"/>
                </a:moveTo>
                <a:lnTo>
                  <a:pt x="16345" y="1801"/>
                </a:lnTo>
                <a:lnTo>
                  <a:pt x="15052" y="3239"/>
                </a:lnTo>
                <a:cubicBezTo>
                  <a:pt x="15052" y="3239"/>
                  <a:pt x="13974" y="1801"/>
                  <a:pt x="13974" y="1801"/>
                </a:cubicBezTo>
                <a:close/>
                <a:moveTo>
                  <a:pt x="13349" y="6303"/>
                </a:moveTo>
                <a:lnTo>
                  <a:pt x="15011" y="4457"/>
                </a:lnTo>
                <a:lnTo>
                  <a:pt x="16394" y="6303"/>
                </a:lnTo>
                <a:cubicBezTo>
                  <a:pt x="16394" y="6303"/>
                  <a:pt x="13349" y="6303"/>
                  <a:pt x="13349" y="6303"/>
                </a:cubicBezTo>
                <a:close/>
                <a:moveTo>
                  <a:pt x="13166" y="7203"/>
                </a:moveTo>
                <a:lnTo>
                  <a:pt x="16478" y="7203"/>
                </a:lnTo>
                <a:lnTo>
                  <a:pt x="11511" y="18250"/>
                </a:lnTo>
                <a:cubicBezTo>
                  <a:pt x="11511" y="18250"/>
                  <a:pt x="13166" y="7203"/>
                  <a:pt x="13166" y="7203"/>
                </a:cubicBezTo>
                <a:close/>
                <a:moveTo>
                  <a:pt x="12479" y="7203"/>
                </a:moveTo>
                <a:lnTo>
                  <a:pt x="10798" y="18414"/>
                </a:lnTo>
                <a:lnTo>
                  <a:pt x="9117" y="7203"/>
                </a:lnTo>
                <a:cubicBezTo>
                  <a:pt x="9117" y="7203"/>
                  <a:pt x="12479" y="7203"/>
                  <a:pt x="12479" y="7203"/>
                </a:cubicBezTo>
                <a:close/>
                <a:moveTo>
                  <a:pt x="8773" y="5717"/>
                </a:moveTo>
                <a:lnTo>
                  <a:pt x="7064" y="3818"/>
                </a:lnTo>
                <a:lnTo>
                  <a:pt x="8426" y="2001"/>
                </a:lnTo>
                <a:lnTo>
                  <a:pt x="10270" y="4052"/>
                </a:lnTo>
                <a:cubicBezTo>
                  <a:pt x="10270" y="4052"/>
                  <a:pt x="8773" y="5717"/>
                  <a:pt x="8773" y="5717"/>
                </a:cubicBezTo>
                <a:close/>
                <a:moveTo>
                  <a:pt x="11325" y="4052"/>
                </a:moveTo>
                <a:lnTo>
                  <a:pt x="13170" y="2001"/>
                </a:lnTo>
                <a:lnTo>
                  <a:pt x="14532" y="3818"/>
                </a:lnTo>
                <a:lnTo>
                  <a:pt x="12822" y="5717"/>
                </a:lnTo>
                <a:cubicBezTo>
                  <a:pt x="12822" y="5717"/>
                  <a:pt x="11325" y="4052"/>
                  <a:pt x="11325" y="4052"/>
                </a:cubicBezTo>
                <a:close/>
                <a:moveTo>
                  <a:pt x="12296" y="6303"/>
                </a:moveTo>
                <a:lnTo>
                  <a:pt x="9300" y="6303"/>
                </a:lnTo>
                <a:lnTo>
                  <a:pt x="10798" y="4638"/>
                </a:lnTo>
                <a:cubicBezTo>
                  <a:pt x="10798" y="4638"/>
                  <a:pt x="12296" y="6303"/>
                  <a:pt x="12296" y="6303"/>
                </a:cubicBezTo>
                <a:close/>
                <a:moveTo>
                  <a:pt x="21201" y="5102"/>
                </a:moveTo>
                <a:lnTo>
                  <a:pt x="17772" y="528"/>
                </a:lnTo>
                <a:cubicBezTo>
                  <a:pt x="17519" y="190"/>
                  <a:pt x="17176" y="0"/>
                  <a:pt x="16818" y="0"/>
                </a:cubicBezTo>
                <a:lnTo>
                  <a:pt x="4779" y="0"/>
                </a:lnTo>
                <a:cubicBezTo>
                  <a:pt x="4421" y="0"/>
                  <a:pt x="4077" y="190"/>
                  <a:pt x="3824" y="528"/>
                </a:cubicBezTo>
                <a:lnTo>
                  <a:pt x="396" y="5102"/>
                </a:lnTo>
                <a:cubicBezTo>
                  <a:pt x="131" y="5455"/>
                  <a:pt x="-1" y="5922"/>
                  <a:pt x="0" y="6387"/>
                </a:cubicBezTo>
                <a:cubicBezTo>
                  <a:pt x="2" y="6810"/>
                  <a:pt x="115" y="7234"/>
                  <a:pt x="341" y="7573"/>
                </a:cubicBezTo>
                <a:lnTo>
                  <a:pt x="9789" y="20996"/>
                </a:lnTo>
                <a:cubicBezTo>
                  <a:pt x="10045" y="21379"/>
                  <a:pt x="10412" y="21600"/>
                  <a:pt x="10798" y="21600"/>
                </a:cubicBezTo>
                <a:cubicBezTo>
                  <a:pt x="11184" y="21600"/>
                  <a:pt x="11551" y="21379"/>
                  <a:pt x="11807" y="20996"/>
                </a:cubicBezTo>
                <a:lnTo>
                  <a:pt x="21256" y="7573"/>
                </a:lnTo>
                <a:cubicBezTo>
                  <a:pt x="21486" y="7227"/>
                  <a:pt x="21599" y="6791"/>
                  <a:pt x="21596" y="6359"/>
                </a:cubicBezTo>
                <a:cubicBezTo>
                  <a:pt x="21594" y="5903"/>
                  <a:pt x="21460" y="5449"/>
                  <a:pt x="21201" y="5102"/>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61" name="AutoShape 118"/>
          <p:cNvSpPr/>
          <p:nvPr/>
        </p:nvSpPr>
        <p:spPr>
          <a:xfrm>
            <a:off x="1447920" y="7139160"/>
            <a:ext cx="928440" cy="696600"/>
          </a:xfrm>
          <a:custGeom>
            <a:avLst/>
            <a:gdLst/>
            <a:ahLst/>
            <a:rect l="l" t="t" r="r" b="b"/>
            <a:pathLst>
              <a:path w="21464" h="21600">
                <a:moveTo>
                  <a:pt x="19919" y="11754"/>
                </a:moveTo>
                <a:lnTo>
                  <a:pt x="16564" y="18955"/>
                </a:lnTo>
                <a:cubicBezTo>
                  <a:pt x="16318" y="19484"/>
                  <a:pt x="15893" y="19800"/>
                  <a:pt x="15427" y="19800"/>
                </a:cubicBezTo>
                <a:lnTo>
                  <a:pt x="2683" y="19800"/>
                </a:lnTo>
                <a:cubicBezTo>
                  <a:pt x="1943" y="19800"/>
                  <a:pt x="1342" y="18993"/>
                  <a:pt x="1342" y="18000"/>
                </a:cubicBezTo>
                <a:lnTo>
                  <a:pt x="1342" y="3600"/>
                </a:lnTo>
                <a:cubicBezTo>
                  <a:pt x="1342" y="2608"/>
                  <a:pt x="1943" y="1800"/>
                  <a:pt x="2683" y="1800"/>
                </a:cubicBezTo>
                <a:lnTo>
                  <a:pt x="15427" y="1800"/>
                </a:lnTo>
                <a:cubicBezTo>
                  <a:pt x="15893" y="1800"/>
                  <a:pt x="16318" y="2117"/>
                  <a:pt x="16564" y="2646"/>
                </a:cubicBezTo>
                <a:lnTo>
                  <a:pt x="19918" y="9846"/>
                </a:lnTo>
                <a:cubicBezTo>
                  <a:pt x="20188" y="10426"/>
                  <a:pt x="20188" y="11174"/>
                  <a:pt x="19919" y="11754"/>
                </a:cubicBezTo>
                <a:moveTo>
                  <a:pt x="21055" y="8892"/>
                </a:moveTo>
                <a:lnTo>
                  <a:pt x="17702" y="1692"/>
                </a:lnTo>
                <a:cubicBezTo>
                  <a:pt x="17212" y="640"/>
                  <a:pt x="16352" y="0"/>
                  <a:pt x="15427" y="0"/>
                </a:cubicBezTo>
                <a:lnTo>
                  <a:pt x="2683" y="0"/>
                </a:lnTo>
                <a:cubicBezTo>
                  <a:pt x="1201" y="0"/>
                  <a:pt x="0" y="1612"/>
                  <a:pt x="0" y="3600"/>
                </a:cubicBezTo>
                <a:lnTo>
                  <a:pt x="0" y="18000"/>
                </a:lnTo>
                <a:cubicBezTo>
                  <a:pt x="0" y="19988"/>
                  <a:pt x="1201" y="21600"/>
                  <a:pt x="2683" y="21600"/>
                </a:cubicBezTo>
                <a:lnTo>
                  <a:pt x="15427" y="21600"/>
                </a:lnTo>
                <a:cubicBezTo>
                  <a:pt x="16352" y="21600"/>
                  <a:pt x="17212" y="20960"/>
                  <a:pt x="17702" y="19909"/>
                </a:cubicBezTo>
                <a:lnTo>
                  <a:pt x="21055" y="12709"/>
                </a:lnTo>
                <a:cubicBezTo>
                  <a:pt x="21600" y="11542"/>
                  <a:pt x="21600" y="10060"/>
                  <a:pt x="21055" y="8892"/>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62" name="AutoShape 119"/>
          <p:cNvSpPr/>
          <p:nvPr/>
        </p:nvSpPr>
        <p:spPr>
          <a:xfrm>
            <a:off x="2027160" y="7399440"/>
            <a:ext cx="174600" cy="174600"/>
          </a:xfrm>
          <a:custGeom>
            <a:avLst/>
            <a:gdLst/>
            <a:ahLst/>
            <a:rect l="l" t="t" r="r" b="b"/>
            <a:pathLst>
              <a:path w="21600" h="21600">
                <a:moveTo>
                  <a:pt x="10800" y="18000"/>
                </a:moveTo>
                <a:cubicBezTo>
                  <a:pt x="6826" y="18000"/>
                  <a:pt x="3600" y="14774"/>
                  <a:pt x="3600" y="10800"/>
                </a:cubicBezTo>
                <a:cubicBezTo>
                  <a:pt x="3600" y="6826"/>
                  <a:pt x="6826" y="3600"/>
                  <a:pt x="10800" y="3600"/>
                </a:cubicBezTo>
                <a:cubicBezTo>
                  <a:pt x="14774" y="3600"/>
                  <a:pt x="18000" y="6826"/>
                  <a:pt x="18000" y="10800"/>
                </a:cubicBezTo>
                <a:cubicBezTo>
                  <a:pt x="18000" y="14774"/>
                  <a:pt x="14774" y="18000"/>
                  <a:pt x="10800" y="18000"/>
                </a:cubicBezTo>
                <a:moveTo>
                  <a:pt x="10800" y="0"/>
                </a:moveTo>
                <a:cubicBezTo>
                  <a:pt x="4834" y="0"/>
                  <a:pt x="0" y="4834"/>
                  <a:pt x="0" y="10800"/>
                </a:cubicBezTo>
                <a:cubicBezTo>
                  <a:pt x="0" y="16766"/>
                  <a:pt x="4834" y="21600"/>
                  <a:pt x="10800" y="21600"/>
                </a:cubicBezTo>
                <a:cubicBezTo>
                  <a:pt x="16766" y="21600"/>
                  <a:pt x="21600" y="16766"/>
                  <a:pt x="21600" y="10800"/>
                </a:cubicBezTo>
                <a:cubicBezTo>
                  <a:pt x="21600" y="4834"/>
                  <a:pt x="16766"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63" name="AutoShape 120"/>
          <p:cNvSpPr/>
          <p:nvPr/>
        </p:nvSpPr>
        <p:spPr>
          <a:xfrm>
            <a:off x="10969560" y="5454720"/>
            <a:ext cx="463680" cy="463320"/>
          </a:xfrm>
          <a:custGeom>
            <a:avLst/>
            <a:gdLst/>
            <a:ahLst/>
            <a:rect l="l" t="t" r="r" b="b"/>
            <a:pathLst>
              <a:path w="21600" h="21600">
                <a:moveTo>
                  <a:pt x="16949" y="16070"/>
                </a:moveTo>
                <a:cubicBezTo>
                  <a:pt x="14038" y="19468"/>
                  <a:pt x="8925" y="19860"/>
                  <a:pt x="5529" y="16949"/>
                </a:cubicBezTo>
                <a:cubicBezTo>
                  <a:pt x="2130" y="14039"/>
                  <a:pt x="1740" y="8925"/>
                  <a:pt x="4651" y="5528"/>
                </a:cubicBezTo>
                <a:cubicBezTo>
                  <a:pt x="7559" y="2131"/>
                  <a:pt x="12675" y="1740"/>
                  <a:pt x="16071" y="4651"/>
                </a:cubicBezTo>
                <a:cubicBezTo>
                  <a:pt x="19467" y="7560"/>
                  <a:pt x="19860" y="12673"/>
                  <a:pt x="16949" y="16070"/>
                </a:cubicBezTo>
                <a:moveTo>
                  <a:pt x="10800" y="0"/>
                </a:moveTo>
                <a:cubicBezTo>
                  <a:pt x="4833" y="0"/>
                  <a:pt x="0" y="4834"/>
                  <a:pt x="0" y="10800"/>
                </a:cubicBezTo>
                <a:cubicBezTo>
                  <a:pt x="0" y="16766"/>
                  <a:pt x="4833" y="21600"/>
                  <a:pt x="10800" y="21600"/>
                </a:cubicBezTo>
                <a:cubicBezTo>
                  <a:pt x="16764" y="21600"/>
                  <a:pt x="21600" y="16766"/>
                  <a:pt x="21600" y="10800"/>
                </a:cubicBezTo>
                <a:cubicBezTo>
                  <a:pt x="21600" y="4834"/>
                  <a:pt x="16764"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64" name="AutoShape 121"/>
          <p:cNvSpPr/>
          <p:nvPr/>
        </p:nvSpPr>
        <p:spPr>
          <a:xfrm>
            <a:off x="11085480" y="5570640"/>
            <a:ext cx="130320" cy="129960"/>
          </a:xfrm>
          <a:custGeom>
            <a:avLst/>
            <a:gdLst/>
            <a:ahLst/>
            <a:rect l="l" t="t" r="r" b="b"/>
            <a:pathLst>
              <a:path w="21600" h="21600">
                <a:moveTo>
                  <a:pt x="19200" y="0"/>
                </a:moveTo>
                <a:cubicBezTo>
                  <a:pt x="8597" y="0"/>
                  <a:pt x="0" y="8597"/>
                  <a:pt x="0" y="19195"/>
                </a:cubicBezTo>
                <a:lnTo>
                  <a:pt x="0" y="19200"/>
                </a:lnTo>
                <a:cubicBezTo>
                  <a:pt x="0" y="20524"/>
                  <a:pt x="1069" y="21600"/>
                  <a:pt x="2400" y="21600"/>
                </a:cubicBezTo>
                <a:cubicBezTo>
                  <a:pt x="3722" y="21600"/>
                  <a:pt x="4800" y="20524"/>
                  <a:pt x="4800" y="19200"/>
                </a:cubicBezTo>
                <a:lnTo>
                  <a:pt x="4800" y="19195"/>
                </a:lnTo>
                <a:cubicBezTo>
                  <a:pt x="4800" y="11248"/>
                  <a:pt x="11241" y="4800"/>
                  <a:pt x="19200" y="4800"/>
                </a:cubicBezTo>
                <a:cubicBezTo>
                  <a:pt x="20522" y="4800"/>
                  <a:pt x="21600" y="3724"/>
                  <a:pt x="21600" y="2400"/>
                </a:cubicBezTo>
                <a:cubicBezTo>
                  <a:pt x="21600" y="1076"/>
                  <a:pt x="20522" y="0"/>
                  <a:pt x="192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65" name="AutoShape 122"/>
          <p:cNvSpPr/>
          <p:nvPr/>
        </p:nvSpPr>
        <p:spPr>
          <a:xfrm>
            <a:off x="10736280" y="5251320"/>
            <a:ext cx="930240" cy="782640"/>
          </a:xfrm>
          <a:custGeom>
            <a:avLst/>
            <a:gdLst/>
            <a:ahLst/>
            <a:rect l="l" t="t" r="r" b="b"/>
            <a:pathLst>
              <a:path w="21600" h="21600">
                <a:moveTo>
                  <a:pt x="20250" y="19200"/>
                </a:moveTo>
                <a:cubicBezTo>
                  <a:pt x="20250" y="19642"/>
                  <a:pt x="19948" y="20000"/>
                  <a:pt x="19575" y="20000"/>
                </a:cubicBezTo>
                <a:lnTo>
                  <a:pt x="2025" y="20000"/>
                </a:lnTo>
                <a:cubicBezTo>
                  <a:pt x="1652" y="20000"/>
                  <a:pt x="1350" y="19642"/>
                  <a:pt x="1350" y="19200"/>
                </a:cubicBezTo>
                <a:lnTo>
                  <a:pt x="1350" y="7200"/>
                </a:lnTo>
                <a:cubicBezTo>
                  <a:pt x="1350" y="6809"/>
                  <a:pt x="1589" y="6475"/>
                  <a:pt x="1914" y="6412"/>
                </a:cubicBezTo>
                <a:lnTo>
                  <a:pt x="5589" y="5685"/>
                </a:lnTo>
                <a:lnTo>
                  <a:pt x="6797" y="2103"/>
                </a:lnTo>
                <a:cubicBezTo>
                  <a:pt x="6900" y="1799"/>
                  <a:pt x="7148" y="1600"/>
                  <a:pt x="7425" y="1600"/>
                </a:cubicBezTo>
                <a:lnTo>
                  <a:pt x="14175" y="1600"/>
                </a:lnTo>
                <a:cubicBezTo>
                  <a:pt x="14451" y="1600"/>
                  <a:pt x="14698" y="1799"/>
                  <a:pt x="14801" y="2103"/>
                </a:cubicBezTo>
                <a:lnTo>
                  <a:pt x="16010" y="5685"/>
                </a:lnTo>
                <a:lnTo>
                  <a:pt x="19686" y="6412"/>
                </a:lnTo>
                <a:cubicBezTo>
                  <a:pt x="20011" y="6475"/>
                  <a:pt x="20250" y="6809"/>
                  <a:pt x="20250" y="7200"/>
                </a:cubicBezTo>
                <a:cubicBezTo>
                  <a:pt x="20250" y="7200"/>
                  <a:pt x="20250" y="19200"/>
                  <a:pt x="20250" y="19200"/>
                </a:cubicBezTo>
                <a:close/>
                <a:moveTo>
                  <a:pt x="19907" y="4833"/>
                </a:moveTo>
                <a:lnTo>
                  <a:pt x="16982" y="4254"/>
                </a:lnTo>
                <a:lnTo>
                  <a:pt x="16055" y="1508"/>
                </a:lnTo>
                <a:cubicBezTo>
                  <a:pt x="15745" y="591"/>
                  <a:pt x="15007" y="0"/>
                  <a:pt x="14175" y="0"/>
                </a:cubicBezTo>
                <a:lnTo>
                  <a:pt x="7425" y="0"/>
                </a:lnTo>
                <a:cubicBezTo>
                  <a:pt x="6593" y="0"/>
                  <a:pt x="5855" y="591"/>
                  <a:pt x="5544" y="1509"/>
                </a:cubicBezTo>
                <a:lnTo>
                  <a:pt x="4618" y="4254"/>
                </a:lnTo>
                <a:lnTo>
                  <a:pt x="1693" y="4833"/>
                </a:lnTo>
                <a:cubicBezTo>
                  <a:pt x="712" y="5026"/>
                  <a:pt x="0" y="6021"/>
                  <a:pt x="0" y="7200"/>
                </a:cubicBezTo>
                <a:lnTo>
                  <a:pt x="0" y="19200"/>
                </a:lnTo>
                <a:cubicBezTo>
                  <a:pt x="0" y="20523"/>
                  <a:pt x="908" y="21600"/>
                  <a:pt x="2025" y="21600"/>
                </a:cubicBezTo>
                <a:lnTo>
                  <a:pt x="19575" y="21600"/>
                </a:lnTo>
                <a:cubicBezTo>
                  <a:pt x="20692" y="21600"/>
                  <a:pt x="21600" y="20523"/>
                  <a:pt x="21600" y="19200"/>
                </a:cubicBezTo>
                <a:lnTo>
                  <a:pt x="21600" y="7200"/>
                </a:lnTo>
                <a:cubicBezTo>
                  <a:pt x="21600" y="6021"/>
                  <a:pt x="20888" y="5026"/>
                  <a:pt x="19907" y="4833"/>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66" name="AutoShape 123"/>
          <p:cNvSpPr/>
          <p:nvPr/>
        </p:nvSpPr>
        <p:spPr>
          <a:xfrm>
            <a:off x="8879040" y="5164200"/>
            <a:ext cx="928440" cy="928800"/>
          </a:xfrm>
          <a:custGeom>
            <a:avLst/>
            <a:gdLst/>
            <a:ahLst/>
            <a:rect l="l" t="t" r="r" b="b"/>
            <a:pathLst>
              <a:path w="21600" h="21600">
                <a:moveTo>
                  <a:pt x="18180" y="12133"/>
                </a:moveTo>
                <a:cubicBezTo>
                  <a:pt x="17711" y="12226"/>
                  <a:pt x="17327" y="12561"/>
                  <a:pt x="17170" y="13013"/>
                </a:cubicBezTo>
                <a:cubicBezTo>
                  <a:pt x="17083" y="13262"/>
                  <a:pt x="16982" y="13503"/>
                  <a:pt x="16869" y="13738"/>
                </a:cubicBezTo>
                <a:cubicBezTo>
                  <a:pt x="16659" y="14169"/>
                  <a:pt x="16695" y="14678"/>
                  <a:pt x="16960" y="15075"/>
                </a:cubicBezTo>
                <a:lnTo>
                  <a:pt x="18132" y="16833"/>
                </a:lnTo>
                <a:lnTo>
                  <a:pt x="16833" y="18132"/>
                </a:lnTo>
                <a:lnTo>
                  <a:pt x="15076" y="16960"/>
                </a:lnTo>
                <a:cubicBezTo>
                  <a:pt x="14850" y="16810"/>
                  <a:pt x="14589" y="16733"/>
                  <a:pt x="14327" y="16733"/>
                </a:cubicBezTo>
                <a:cubicBezTo>
                  <a:pt x="14126" y="16733"/>
                  <a:pt x="13925" y="16778"/>
                  <a:pt x="13739" y="16868"/>
                </a:cubicBezTo>
                <a:cubicBezTo>
                  <a:pt x="13504" y="16982"/>
                  <a:pt x="13263" y="17084"/>
                  <a:pt x="13012" y="17171"/>
                </a:cubicBezTo>
                <a:cubicBezTo>
                  <a:pt x="12562" y="17327"/>
                  <a:pt x="12227" y="17712"/>
                  <a:pt x="12133" y="18181"/>
                </a:cubicBezTo>
                <a:lnTo>
                  <a:pt x="11718" y="20250"/>
                </a:lnTo>
                <a:lnTo>
                  <a:pt x="9881" y="20250"/>
                </a:lnTo>
                <a:lnTo>
                  <a:pt x="9468" y="18181"/>
                </a:lnTo>
                <a:cubicBezTo>
                  <a:pt x="9374" y="17712"/>
                  <a:pt x="9039" y="17327"/>
                  <a:pt x="8588" y="17171"/>
                </a:cubicBezTo>
                <a:cubicBezTo>
                  <a:pt x="8339" y="17084"/>
                  <a:pt x="8096" y="16983"/>
                  <a:pt x="7862" y="16869"/>
                </a:cubicBezTo>
                <a:cubicBezTo>
                  <a:pt x="7675" y="16778"/>
                  <a:pt x="7474" y="16733"/>
                  <a:pt x="7274" y="16733"/>
                </a:cubicBezTo>
                <a:cubicBezTo>
                  <a:pt x="7011" y="16733"/>
                  <a:pt x="6750" y="16810"/>
                  <a:pt x="6525" y="16960"/>
                </a:cubicBezTo>
                <a:lnTo>
                  <a:pt x="4767" y="18132"/>
                </a:lnTo>
                <a:lnTo>
                  <a:pt x="3468" y="16833"/>
                </a:lnTo>
                <a:lnTo>
                  <a:pt x="4640" y="15075"/>
                </a:lnTo>
                <a:cubicBezTo>
                  <a:pt x="4905" y="14678"/>
                  <a:pt x="4940" y="14170"/>
                  <a:pt x="4732" y="13739"/>
                </a:cubicBezTo>
                <a:cubicBezTo>
                  <a:pt x="4619" y="13505"/>
                  <a:pt x="4517" y="13263"/>
                  <a:pt x="4430" y="13014"/>
                </a:cubicBezTo>
                <a:cubicBezTo>
                  <a:pt x="4273" y="12562"/>
                  <a:pt x="3888" y="12227"/>
                  <a:pt x="3420" y="12133"/>
                </a:cubicBezTo>
                <a:lnTo>
                  <a:pt x="1351" y="11719"/>
                </a:lnTo>
                <a:lnTo>
                  <a:pt x="1350" y="9882"/>
                </a:lnTo>
                <a:lnTo>
                  <a:pt x="3420" y="9468"/>
                </a:lnTo>
                <a:cubicBezTo>
                  <a:pt x="3888" y="9375"/>
                  <a:pt x="4273" y="9040"/>
                  <a:pt x="4430" y="8588"/>
                </a:cubicBezTo>
                <a:cubicBezTo>
                  <a:pt x="4517" y="8339"/>
                  <a:pt x="4617" y="8097"/>
                  <a:pt x="4731" y="7862"/>
                </a:cubicBezTo>
                <a:cubicBezTo>
                  <a:pt x="4940" y="7432"/>
                  <a:pt x="4905" y="6923"/>
                  <a:pt x="4640" y="6525"/>
                </a:cubicBezTo>
                <a:lnTo>
                  <a:pt x="3468" y="4768"/>
                </a:lnTo>
                <a:lnTo>
                  <a:pt x="4767" y="3469"/>
                </a:lnTo>
                <a:lnTo>
                  <a:pt x="6525" y="4640"/>
                </a:lnTo>
                <a:cubicBezTo>
                  <a:pt x="6750" y="4791"/>
                  <a:pt x="7011" y="4867"/>
                  <a:pt x="7274" y="4867"/>
                </a:cubicBezTo>
                <a:cubicBezTo>
                  <a:pt x="7474" y="4867"/>
                  <a:pt x="7675" y="4822"/>
                  <a:pt x="7862" y="4733"/>
                </a:cubicBezTo>
                <a:cubicBezTo>
                  <a:pt x="8095" y="4619"/>
                  <a:pt x="8338" y="4517"/>
                  <a:pt x="8587" y="4430"/>
                </a:cubicBezTo>
                <a:cubicBezTo>
                  <a:pt x="9039" y="4273"/>
                  <a:pt x="9374" y="3889"/>
                  <a:pt x="9468" y="3420"/>
                </a:cubicBezTo>
                <a:lnTo>
                  <a:pt x="9881" y="1351"/>
                </a:lnTo>
                <a:lnTo>
                  <a:pt x="11718" y="1350"/>
                </a:lnTo>
                <a:lnTo>
                  <a:pt x="12132" y="3420"/>
                </a:lnTo>
                <a:cubicBezTo>
                  <a:pt x="12225" y="3889"/>
                  <a:pt x="12560" y="4273"/>
                  <a:pt x="13012" y="4430"/>
                </a:cubicBezTo>
                <a:cubicBezTo>
                  <a:pt x="13262" y="4517"/>
                  <a:pt x="13503" y="4618"/>
                  <a:pt x="13738" y="4732"/>
                </a:cubicBezTo>
                <a:cubicBezTo>
                  <a:pt x="13925" y="4822"/>
                  <a:pt x="14125" y="4867"/>
                  <a:pt x="14327" y="4867"/>
                </a:cubicBezTo>
                <a:cubicBezTo>
                  <a:pt x="14589" y="4867"/>
                  <a:pt x="14850" y="4791"/>
                  <a:pt x="15076" y="4640"/>
                </a:cubicBezTo>
                <a:lnTo>
                  <a:pt x="16833" y="3469"/>
                </a:lnTo>
                <a:lnTo>
                  <a:pt x="18132" y="4768"/>
                </a:lnTo>
                <a:lnTo>
                  <a:pt x="16960" y="6525"/>
                </a:lnTo>
                <a:cubicBezTo>
                  <a:pt x="16695" y="6923"/>
                  <a:pt x="16660" y="7431"/>
                  <a:pt x="16867" y="7862"/>
                </a:cubicBezTo>
                <a:cubicBezTo>
                  <a:pt x="16981" y="8096"/>
                  <a:pt x="17083" y="8338"/>
                  <a:pt x="17170" y="8587"/>
                </a:cubicBezTo>
                <a:cubicBezTo>
                  <a:pt x="17327" y="9039"/>
                  <a:pt x="17711" y="9374"/>
                  <a:pt x="18180" y="9467"/>
                </a:cubicBezTo>
                <a:lnTo>
                  <a:pt x="20249" y="9882"/>
                </a:lnTo>
                <a:lnTo>
                  <a:pt x="20250" y="11719"/>
                </a:lnTo>
                <a:cubicBezTo>
                  <a:pt x="20250" y="11719"/>
                  <a:pt x="18180" y="12133"/>
                  <a:pt x="18180" y="12133"/>
                </a:cubicBezTo>
                <a:close/>
                <a:moveTo>
                  <a:pt x="20514" y="8558"/>
                </a:moveTo>
                <a:lnTo>
                  <a:pt x="18445" y="8144"/>
                </a:lnTo>
                <a:cubicBezTo>
                  <a:pt x="18341" y="7844"/>
                  <a:pt x="18219" y="7555"/>
                  <a:pt x="18083" y="7274"/>
                </a:cubicBezTo>
                <a:lnTo>
                  <a:pt x="19255" y="5516"/>
                </a:lnTo>
                <a:cubicBezTo>
                  <a:pt x="19612" y="4981"/>
                  <a:pt x="19541" y="4268"/>
                  <a:pt x="19086" y="3813"/>
                </a:cubicBezTo>
                <a:lnTo>
                  <a:pt x="17787" y="2514"/>
                </a:lnTo>
                <a:cubicBezTo>
                  <a:pt x="17526" y="2253"/>
                  <a:pt x="17182" y="2119"/>
                  <a:pt x="16832" y="2119"/>
                </a:cubicBezTo>
                <a:cubicBezTo>
                  <a:pt x="16573" y="2119"/>
                  <a:pt x="16312" y="2193"/>
                  <a:pt x="16085" y="2346"/>
                </a:cubicBezTo>
                <a:lnTo>
                  <a:pt x="14327" y="3517"/>
                </a:lnTo>
                <a:cubicBezTo>
                  <a:pt x="14045" y="3381"/>
                  <a:pt x="13755" y="3259"/>
                  <a:pt x="13455" y="3155"/>
                </a:cubicBezTo>
                <a:lnTo>
                  <a:pt x="13041" y="1086"/>
                </a:lnTo>
                <a:cubicBezTo>
                  <a:pt x="12916" y="455"/>
                  <a:pt x="12361" y="0"/>
                  <a:pt x="11718" y="0"/>
                </a:cubicBezTo>
                <a:lnTo>
                  <a:pt x="9881" y="0"/>
                </a:lnTo>
                <a:cubicBezTo>
                  <a:pt x="9238" y="0"/>
                  <a:pt x="8684" y="455"/>
                  <a:pt x="8558" y="1086"/>
                </a:cubicBezTo>
                <a:lnTo>
                  <a:pt x="8144" y="3155"/>
                </a:lnTo>
                <a:cubicBezTo>
                  <a:pt x="7844" y="3259"/>
                  <a:pt x="7555" y="3381"/>
                  <a:pt x="7274" y="3517"/>
                </a:cubicBezTo>
                <a:lnTo>
                  <a:pt x="5517" y="2346"/>
                </a:lnTo>
                <a:cubicBezTo>
                  <a:pt x="5287" y="2193"/>
                  <a:pt x="5027" y="2119"/>
                  <a:pt x="4768" y="2119"/>
                </a:cubicBezTo>
                <a:cubicBezTo>
                  <a:pt x="4419" y="2119"/>
                  <a:pt x="4074" y="2253"/>
                  <a:pt x="3813" y="2514"/>
                </a:cubicBezTo>
                <a:lnTo>
                  <a:pt x="2514" y="3813"/>
                </a:lnTo>
                <a:cubicBezTo>
                  <a:pt x="2059" y="4268"/>
                  <a:pt x="1988" y="4981"/>
                  <a:pt x="2345" y="5516"/>
                </a:cubicBezTo>
                <a:lnTo>
                  <a:pt x="3517" y="7274"/>
                </a:lnTo>
                <a:cubicBezTo>
                  <a:pt x="3380" y="7555"/>
                  <a:pt x="3259" y="7845"/>
                  <a:pt x="3155" y="8144"/>
                </a:cubicBezTo>
                <a:lnTo>
                  <a:pt x="1086" y="8558"/>
                </a:lnTo>
                <a:cubicBezTo>
                  <a:pt x="454" y="8685"/>
                  <a:pt x="0" y="9239"/>
                  <a:pt x="0" y="9882"/>
                </a:cubicBezTo>
                <a:lnTo>
                  <a:pt x="0" y="11719"/>
                </a:lnTo>
                <a:cubicBezTo>
                  <a:pt x="0" y="12362"/>
                  <a:pt x="454" y="12916"/>
                  <a:pt x="1086" y="13043"/>
                </a:cubicBezTo>
                <a:lnTo>
                  <a:pt x="3155" y="13457"/>
                </a:lnTo>
                <a:cubicBezTo>
                  <a:pt x="3259" y="13756"/>
                  <a:pt x="3381" y="14046"/>
                  <a:pt x="3517" y="14327"/>
                </a:cubicBezTo>
                <a:lnTo>
                  <a:pt x="2345" y="16084"/>
                </a:lnTo>
                <a:cubicBezTo>
                  <a:pt x="1988" y="16619"/>
                  <a:pt x="2059" y="17333"/>
                  <a:pt x="2514" y="17788"/>
                </a:cubicBezTo>
                <a:lnTo>
                  <a:pt x="3813" y="19086"/>
                </a:lnTo>
                <a:cubicBezTo>
                  <a:pt x="4074" y="19347"/>
                  <a:pt x="4419" y="19482"/>
                  <a:pt x="4768" y="19482"/>
                </a:cubicBezTo>
                <a:cubicBezTo>
                  <a:pt x="5027" y="19482"/>
                  <a:pt x="5288" y="19407"/>
                  <a:pt x="5517" y="19255"/>
                </a:cubicBezTo>
                <a:lnTo>
                  <a:pt x="7274" y="18083"/>
                </a:lnTo>
                <a:cubicBezTo>
                  <a:pt x="7555" y="18220"/>
                  <a:pt x="7844" y="18341"/>
                  <a:pt x="8144" y="18446"/>
                </a:cubicBezTo>
                <a:lnTo>
                  <a:pt x="8558" y="20515"/>
                </a:lnTo>
                <a:cubicBezTo>
                  <a:pt x="8684" y="21146"/>
                  <a:pt x="9238" y="21600"/>
                  <a:pt x="9881" y="21600"/>
                </a:cubicBezTo>
                <a:lnTo>
                  <a:pt x="11718" y="21600"/>
                </a:lnTo>
                <a:cubicBezTo>
                  <a:pt x="12361" y="21600"/>
                  <a:pt x="12916" y="21146"/>
                  <a:pt x="13041" y="20515"/>
                </a:cubicBezTo>
                <a:lnTo>
                  <a:pt x="13457" y="18446"/>
                </a:lnTo>
                <a:cubicBezTo>
                  <a:pt x="13756" y="18341"/>
                  <a:pt x="14046" y="18220"/>
                  <a:pt x="14327" y="18083"/>
                </a:cubicBezTo>
                <a:lnTo>
                  <a:pt x="16085" y="19255"/>
                </a:lnTo>
                <a:cubicBezTo>
                  <a:pt x="16312" y="19407"/>
                  <a:pt x="16573" y="19482"/>
                  <a:pt x="16832" y="19482"/>
                </a:cubicBezTo>
                <a:cubicBezTo>
                  <a:pt x="17182" y="19482"/>
                  <a:pt x="17526" y="19347"/>
                  <a:pt x="17787" y="19086"/>
                </a:cubicBezTo>
                <a:lnTo>
                  <a:pt x="19086" y="17788"/>
                </a:lnTo>
                <a:cubicBezTo>
                  <a:pt x="19541" y="17333"/>
                  <a:pt x="19612" y="16619"/>
                  <a:pt x="19255" y="16084"/>
                </a:cubicBezTo>
                <a:lnTo>
                  <a:pt x="18083" y="14327"/>
                </a:lnTo>
                <a:cubicBezTo>
                  <a:pt x="18220" y="14045"/>
                  <a:pt x="18341" y="13755"/>
                  <a:pt x="18445" y="13456"/>
                </a:cubicBezTo>
                <a:lnTo>
                  <a:pt x="20514" y="13043"/>
                </a:lnTo>
                <a:cubicBezTo>
                  <a:pt x="21145" y="12916"/>
                  <a:pt x="21600" y="12362"/>
                  <a:pt x="21600" y="11719"/>
                </a:cubicBezTo>
                <a:lnTo>
                  <a:pt x="21600" y="9882"/>
                </a:lnTo>
                <a:cubicBezTo>
                  <a:pt x="21600" y="9239"/>
                  <a:pt x="21145" y="8685"/>
                  <a:pt x="20514" y="8558"/>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67" name="AutoShape 124"/>
          <p:cNvSpPr/>
          <p:nvPr/>
        </p:nvSpPr>
        <p:spPr>
          <a:xfrm>
            <a:off x="9140760" y="5424480"/>
            <a:ext cx="406440" cy="406440"/>
          </a:xfrm>
          <a:custGeom>
            <a:avLst/>
            <a:gdLst/>
            <a:ahLst/>
            <a:rect l="l" t="t" r="r" b="b"/>
            <a:pathLst>
              <a:path w="21600" h="21600">
                <a:moveTo>
                  <a:pt x="10800" y="20250"/>
                </a:moveTo>
                <a:cubicBezTo>
                  <a:pt x="5581" y="20250"/>
                  <a:pt x="1350" y="16018"/>
                  <a:pt x="1350" y="10800"/>
                </a:cubicBezTo>
                <a:cubicBezTo>
                  <a:pt x="1350" y="5582"/>
                  <a:pt x="5581" y="1350"/>
                  <a:pt x="10800" y="1350"/>
                </a:cubicBezTo>
                <a:cubicBezTo>
                  <a:pt x="16016" y="1350"/>
                  <a:pt x="20250" y="5582"/>
                  <a:pt x="20250" y="10800"/>
                </a:cubicBezTo>
                <a:cubicBezTo>
                  <a:pt x="20250" y="16018"/>
                  <a:pt x="16016" y="20250"/>
                  <a:pt x="10800" y="20250"/>
                </a:cubicBezTo>
                <a:moveTo>
                  <a:pt x="10800" y="0"/>
                </a:moveTo>
                <a:cubicBezTo>
                  <a:pt x="4836" y="0"/>
                  <a:pt x="0" y="4836"/>
                  <a:pt x="0" y="10800"/>
                </a:cubicBezTo>
                <a:cubicBezTo>
                  <a:pt x="0" y="16764"/>
                  <a:pt x="4836" y="21600"/>
                  <a:pt x="10800" y="21600"/>
                </a:cubicBezTo>
                <a:cubicBezTo>
                  <a:pt x="16764" y="21600"/>
                  <a:pt x="21600" y="16764"/>
                  <a:pt x="21600" y="10800"/>
                </a:cubicBezTo>
                <a:cubicBezTo>
                  <a:pt x="21600" y="4836"/>
                  <a:pt x="16764"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68" name="AutoShape 125"/>
          <p:cNvSpPr/>
          <p:nvPr/>
        </p:nvSpPr>
        <p:spPr>
          <a:xfrm>
            <a:off x="9226440" y="5511960"/>
            <a:ext cx="233640" cy="233280"/>
          </a:xfrm>
          <a:custGeom>
            <a:avLst/>
            <a:gdLst/>
            <a:ahLst/>
            <a:rect l="l" t="t" r="r" b="b"/>
            <a:pathLst>
              <a:path w="21600" h="21600">
                <a:moveTo>
                  <a:pt x="10800" y="18900"/>
                </a:moveTo>
                <a:cubicBezTo>
                  <a:pt x="6328" y="18900"/>
                  <a:pt x="2700" y="15272"/>
                  <a:pt x="2700" y="10800"/>
                </a:cubicBezTo>
                <a:cubicBezTo>
                  <a:pt x="2700" y="6329"/>
                  <a:pt x="6328" y="2700"/>
                  <a:pt x="10800" y="2700"/>
                </a:cubicBezTo>
                <a:cubicBezTo>
                  <a:pt x="15272" y="2700"/>
                  <a:pt x="18900" y="6329"/>
                  <a:pt x="18900" y="10800"/>
                </a:cubicBezTo>
                <a:cubicBezTo>
                  <a:pt x="18900" y="15272"/>
                  <a:pt x="15272" y="18900"/>
                  <a:pt x="10800" y="18900"/>
                </a:cubicBezTo>
                <a:moveTo>
                  <a:pt x="10800" y="0"/>
                </a:moveTo>
                <a:cubicBezTo>
                  <a:pt x="4830" y="0"/>
                  <a:pt x="0" y="4833"/>
                  <a:pt x="0" y="10800"/>
                </a:cubicBezTo>
                <a:cubicBezTo>
                  <a:pt x="0" y="16767"/>
                  <a:pt x="4830" y="21600"/>
                  <a:pt x="10800" y="21600"/>
                </a:cubicBezTo>
                <a:cubicBezTo>
                  <a:pt x="16764" y="21600"/>
                  <a:pt x="21600" y="16767"/>
                  <a:pt x="21600" y="10800"/>
                </a:cubicBezTo>
                <a:cubicBezTo>
                  <a:pt x="21600" y="4833"/>
                  <a:pt x="16764" y="0"/>
                  <a:pt x="108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69" name="AutoShape 126"/>
          <p:cNvSpPr/>
          <p:nvPr/>
        </p:nvSpPr>
        <p:spPr>
          <a:xfrm>
            <a:off x="7021440" y="5164200"/>
            <a:ext cx="928800" cy="928800"/>
          </a:xfrm>
          <a:custGeom>
            <a:avLst/>
            <a:gdLst/>
            <a:ahLst/>
            <a:rect l="l" t="t" r="r" b="b"/>
            <a:pathLst>
              <a:path w="21600" h="21600">
                <a:moveTo>
                  <a:pt x="13500" y="14850"/>
                </a:moveTo>
                <a:cubicBezTo>
                  <a:pt x="9772" y="14850"/>
                  <a:pt x="6750" y="11827"/>
                  <a:pt x="6750" y="8100"/>
                </a:cubicBezTo>
                <a:cubicBezTo>
                  <a:pt x="6750" y="4373"/>
                  <a:pt x="9772" y="1350"/>
                  <a:pt x="13500" y="1350"/>
                </a:cubicBezTo>
                <a:cubicBezTo>
                  <a:pt x="17228" y="1350"/>
                  <a:pt x="20250" y="4373"/>
                  <a:pt x="20250" y="8100"/>
                </a:cubicBezTo>
                <a:cubicBezTo>
                  <a:pt x="20250" y="11827"/>
                  <a:pt x="17228" y="14850"/>
                  <a:pt x="13500" y="14850"/>
                </a:cubicBezTo>
                <a:moveTo>
                  <a:pt x="3237" y="20042"/>
                </a:moveTo>
                <a:cubicBezTo>
                  <a:pt x="3019" y="20267"/>
                  <a:pt x="2718" y="20409"/>
                  <a:pt x="2382" y="20409"/>
                </a:cubicBezTo>
                <a:cubicBezTo>
                  <a:pt x="1724" y="20409"/>
                  <a:pt x="1191" y="19875"/>
                  <a:pt x="1191" y="19218"/>
                </a:cubicBezTo>
                <a:cubicBezTo>
                  <a:pt x="1191" y="18882"/>
                  <a:pt x="1333" y="18581"/>
                  <a:pt x="1558" y="18363"/>
                </a:cubicBezTo>
                <a:lnTo>
                  <a:pt x="1552" y="18358"/>
                </a:lnTo>
                <a:lnTo>
                  <a:pt x="6997" y="12913"/>
                </a:lnTo>
                <a:cubicBezTo>
                  <a:pt x="7472" y="13555"/>
                  <a:pt x="8039" y="14122"/>
                  <a:pt x="8680" y="14600"/>
                </a:cubicBezTo>
                <a:cubicBezTo>
                  <a:pt x="8680" y="14600"/>
                  <a:pt x="3237" y="20042"/>
                  <a:pt x="3237" y="20042"/>
                </a:cubicBezTo>
                <a:close/>
                <a:moveTo>
                  <a:pt x="13500" y="0"/>
                </a:moveTo>
                <a:cubicBezTo>
                  <a:pt x="9027" y="0"/>
                  <a:pt x="5400" y="3627"/>
                  <a:pt x="5400" y="8100"/>
                </a:cubicBezTo>
                <a:cubicBezTo>
                  <a:pt x="5400" y="9467"/>
                  <a:pt x="5742" y="10755"/>
                  <a:pt x="6341" y="11885"/>
                </a:cubicBezTo>
                <a:lnTo>
                  <a:pt x="709" y="17516"/>
                </a:lnTo>
                <a:lnTo>
                  <a:pt x="714" y="17520"/>
                </a:lnTo>
                <a:cubicBezTo>
                  <a:pt x="274" y="17953"/>
                  <a:pt x="0" y="18552"/>
                  <a:pt x="0" y="19218"/>
                </a:cubicBezTo>
                <a:cubicBezTo>
                  <a:pt x="0" y="20533"/>
                  <a:pt x="1067" y="21600"/>
                  <a:pt x="2382" y="21600"/>
                </a:cubicBezTo>
                <a:cubicBezTo>
                  <a:pt x="3047" y="21600"/>
                  <a:pt x="3647" y="21326"/>
                  <a:pt x="4080" y="20886"/>
                </a:cubicBezTo>
                <a:lnTo>
                  <a:pt x="4078" y="20884"/>
                </a:lnTo>
                <a:lnTo>
                  <a:pt x="9708" y="15256"/>
                </a:lnTo>
                <a:cubicBezTo>
                  <a:pt x="10840" y="15857"/>
                  <a:pt x="12129" y="16200"/>
                  <a:pt x="13500" y="16200"/>
                </a:cubicBezTo>
                <a:cubicBezTo>
                  <a:pt x="17973" y="16200"/>
                  <a:pt x="21600" y="12573"/>
                  <a:pt x="21600" y="8100"/>
                </a:cubicBezTo>
                <a:cubicBezTo>
                  <a:pt x="21600" y="3627"/>
                  <a:pt x="17973" y="0"/>
                  <a:pt x="135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70" name="AutoShape 127"/>
          <p:cNvSpPr/>
          <p:nvPr/>
        </p:nvSpPr>
        <p:spPr>
          <a:xfrm>
            <a:off x="7397640" y="5308560"/>
            <a:ext cx="219240" cy="217440"/>
          </a:xfrm>
          <a:custGeom>
            <a:avLst/>
            <a:gdLst/>
            <a:ahLst/>
            <a:rect l="l" t="t" r="r" b="b"/>
            <a:pathLst>
              <a:path w="21600" h="21600">
                <a:moveTo>
                  <a:pt x="20160" y="0"/>
                </a:moveTo>
                <a:cubicBezTo>
                  <a:pt x="9025" y="0"/>
                  <a:pt x="0" y="9025"/>
                  <a:pt x="0" y="20160"/>
                </a:cubicBezTo>
                <a:cubicBezTo>
                  <a:pt x="0" y="20955"/>
                  <a:pt x="644" y="21600"/>
                  <a:pt x="1440" y="21600"/>
                </a:cubicBezTo>
                <a:cubicBezTo>
                  <a:pt x="2236" y="21600"/>
                  <a:pt x="2880" y="20955"/>
                  <a:pt x="2880" y="20160"/>
                </a:cubicBezTo>
                <a:cubicBezTo>
                  <a:pt x="2880" y="10619"/>
                  <a:pt x="10617" y="2880"/>
                  <a:pt x="20160" y="2880"/>
                </a:cubicBezTo>
                <a:cubicBezTo>
                  <a:pt x="20956" y="2880"/>
                  <a:pt x="21600" y="2235"/>
                  <a:pt x="21600" y="1440"/>
                </a:cubicBezTo>
                <a:cubicBezTo>
                  <a:pt x="21600" y="645"/>
                  <a:pt x="20956" y="0"/>
                  <a:pt x="2016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71" name="AutoShape 128"/>
          <p:cNvSpPr/>
          <p:nvPr/>
        </p:nvSpPr>
        <p:spPr>
          <a:xfrm>
            <a:off x="5162400" y="5164200"/>
            <a:ext cx="930600" cy="928800"/>
          </a:xfrm>
          <a:custGeom>
            <a:avLst/>
            <a:gdLst/>
            <a:ahLst/>
            <a:rect l="l" t="t" r="r" b="b"/>
            <a:pathLst>
              <a:path w="21600" h="21600">
                <a:moveTo>
                  <a:pt x="14851" y="12150"/>
                </a:moveTo>
                <a:cubicBezTo>
                  <a:pt x="13852" y="12150"/>
                  <a:pt x="12927" y="11860"/>
                  <a:pt x="12124" y="11386"/>
                </a:cubicBezTo>
                <a:lnTo>
                  <a:pt x="11892" y="11618"/>
                </a:lnTo>
                <a:lnTo>
                  <a:pt x="11133" y="12377"/>
                </a:lnTo>
                <a:lnTo>
                  <a:pt x="9847" y="13663"/>
                </a:lnTo>
                <a:cubicBezTo>
                  <a:pt x="9594" y="13917"/>
                  <a:pt x="9451" y="14260"/>
                  <a:pt x="9451" y="14618"/>
                </a:cubicBezTo>
                <a:lnTo>
                  <a:pt x="9451" y="16200"/>
                </a:lnTo>
                <a:lnTo>
                  <a:pt x="8102" y="16200"/>
                </a:lnTo>
                <a:cubicBezTo>
                  <a:pt x="7357" y="16200"/>
                  <a:pt x="6752" y="16805"/>
                  <a:pt x="6752" y="17550"/>
                </a:cubicBezTo>
                <a:lnTo>
                  <a:pt x="6752" y="18900"/>
                </a:lnTo>
                <a:lnTo>
                  <a:pt x="5171" y="18900"/>
                </a:lnTo>
                <a:cubicBezTo>
                  <a:pt x="4813" y="18900"/>
                  <a:pt x="4469" y="19042"/>
                  <a:pt x="4216" y="19296"/>
                </a:cubicBezTo>
                <a:lnTo>
                  <a:pt x="3259" y="20253"/>
                </a:lnTo>
                <a:lnTo>
                  <a:pt x="1352" y="20250"/>
                </a:lnTo>
                <a:lnTo>
                  <a:pt x="1350" y="18327"/>
                </a:lnTo>
                <a:lnTo>
                  <a:pt x="9223" y="10467"/>
                </a:lnTo>
                <a:cubicBezTo>
                  <a:pt x="9223" y="10467"/>
                  <a:pt x="9223" y="10468"/>
                  <a:pt x="9224" y="10468"/>
                </a:cubicBezTo>
                <a:lnTo>
                  <a:pt x="10215" y="9477"/>
                </a:lnTo>
                <a:cubicBezTo>
                  <a:pt x="9742" y="8674"/>
                  <a:pt x="9451" y="7749"/>
                  <a:pt x="9451" y="6750"/>
                </a:cubicBezTo>
                <a:cubicBezTo>
                  <a:pt x="9451" y="3768"/>
                  <a:pt x="11869" y="1350"/>
                  <a:pt x="14851" y="1350"/>
                </a:cubicBezTo>
                <a:cubicBezTo>
                  <a:pt x="17833" y="1350"/>
                  <a:pt x="20250" y="3768"/>
                  <a:pt x="20250" y="6750"/>
                </a:cubicBezTo>
                <a:cubicBezTo>
                  <a:pt x="20250" y="9732"/>
                  <a:pt x="17833" y="12150"/>
                  <a:pt x="14851" y="12150"/>
                </a:cubicBezTo>
                <a:moveTo>
                  <a:pt x="14851" y="0"/>
                </a:moveTo>
                <a:cubicBezTo>
                  <a:pt x="11124" y="0"/>
                  <a:pt x="8102" y="3023"/>
                  <a:pt x="8102" y="6750"/>
                </a:cubicBezTo>
                <a:cubicBezTo>
                  <a:pt x="8102" y="7617"/>
                  <a:pt x="8283" y="8438"/>
                  <a:pt x="8583" y="9200"/>
                </a:cubicBezTo>
                <a:lnTo>
                  <a:pt x="383" y="17400"/>
                </a:lnTo>
                <a:cubicBezTo>
                  <a:pt x="147" y="17637"/>
                  <a:pt x="0" y="17863"/>
                  <a:pt x="0" y="18225"/>
                </a:cubicBezTo>
                <a:lnTo>
                  <a:pt x="0" y="20250"/>
                </a:lnTo>
                <a:cubicBezTo>
                  <a:pt x="0" y="20973"/>
                  <a:pt x="627" y="21600"/>
                  <a:pt x="1350" y="21600"/>
                </a:cubicBezTo>
                <a:lnTo>
                  <a:pt x="3375" y="21600"/>
                </a:lnTo>
                <a:cubicBezTo>
                  <a:pt x="3736" y="21600"/>
                  <a:pt x="3965" y="21456"/>
                  <a:pt x="4202" y="21219"/>
                </a:cubicBezTo>
                <a:lnTo>
                  <a:pt x="5171" y="20250"/>
                </a:lnTo>
                <a:lnTo>
                  <a:pt x="6752" y="20250"/>
                </a:lnTo>
                <a:cubicBezTo>
                  <a:pt x="7497" y="20250"/>
                  <a:pt x="8102" y="19645"/>
                  <a:pt x="8102" y="18900"/>
                </a:cubicBezTo>
                <a:lnTo>
                  <a:pt x="8102" y="17550"/>
                </a:lnTo>
                <a:lnTo>
                  <a:pt x="9451" y="17550"/>
                </a:lnTo>
                <a:cubicBezTo>
                  <a:pt x="10197" y="17550"/>
                  <a:pt x="10801" y="16945"/>
                  <a:pt x="10801" y="16200"/>
                </a:cubicBezTo>
                <a:lnTo>
                  <a:pt x="10801" y="14618"/>
                </a:lnTo>
                <a:lnTo>
                  <a:pt x="12401" y="13018"/>
                </a:lnTo>
                <a:cubicBezTo>
                  <a:pt x="13162" y="13318"/>
                  <a:pt x="13983" y="13500"/>
                  <a:pt x="14851" y="13500"/>
                </a:cubicBezTo>
                <a:cubicBezTo>
                  <a:pt x="18578" y="13500"/>
                  <a:pt x="21600" y="10477"/>
                  <a:pt x="21600" y="6750"/>
                </a:cubicBezTo>
                <a:cubicBezTo>
                  <a:pt x="21600" y="3023"/>
                  <a:pt x="18578" y="0"/>
                  <a:pt x="14851"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72" name="AutoShape 129"/>
          <p:cNvSpPr/>
          <p:nvPr/>
        </p:nvSpPr>
        <p:spPr>
          <a:xfrm>
            <a:off x="5743440" y="5280120"/>
            <a:ext cx="231840" cy="231840"/>
          </a:xfrm>
          <a:custGeom>
            <a:avLst/>
            <a:gdLst/>
            <a:ahLst/>
            <a:rect l="l" t="t" r="r" b="b"/>
            <a:pathLst>
              <a:path w="21600" h="21333">
                <a:moveTo>
                  <a:pt x="13008" y="18685"/>
                </a:moveTo>
                <a:cubicBezTo>
                  <a:pt x="9018" y="15850"/>
                  <a:pt x="5542" y="12415"/>
                  <a:pt x="2695" y="8570"/>
                </a:cubicBezTo>
                <a:cubicBezTo>
                  <a:pt x="3736" y="5629"/>
                  <a:pt x="5694" y="3698"/>
                  <a:pt x="8585" y="2647"/>
                </a:cubicBezTo>
                <a:cubicBezTo>
                  <a:pt x="12578" y="5490"/>
                  <a:pt x="16048" y="8911"/>
                  <a:pt x="18889" y="12810"/>
                </a:cubicBezTo>
                <a:cubicBezTo>
                  <a:pt x="17836" y="15730"/>
                  <a:pt x="15884" y="17647"/>
                  <a:pt x="13008" y="18685"/>
                </a:cubicBezTo>
                <a:moveTo>
                  <a:pt x="21111" y="11296"/>
                </a:moveTo>
                <a:cubicBezTo>
                  <a:pt x="18081" y="7130"/>
                  <a:pt x="14396" y="3496"/>
                  <a:pt x="10162" y="484"/>
                </a:cubicBezTo>
                <a:cubicBezTo>
                  <a:pt x="9468" y="-8"/>
                  <a:pt x="8580" y="-134"/>
                  <a:pt x="7778" y="146"/>
                </a:cubicBezTo>
                <a:cubicBezTo>
                  <a:pt x="4028" y="1451"/>
                  <a:pt x="1463" y="3983"/>
                  <a:pt x="145" y="7688"/>
                </a:cubicBezTo>
                <a:cubicBezTo>
                  <a:pt x="46" y="7962"/>
                  <a:pt x="0" y="8253"/>
                  <a:pt x="0" y="8538"/>
                </a:cubicBezTo>
                <a:cubicBezTo>
                  <a:pt x="0" y="9072"/>
                  <a:pt x="167" y="9596"/>
                  <a:pt x="488" y="10042"/>
                </a:cubicBezTo>
                <a:cubicBezTo>
                  <a:pt x="3525" y="14213"/>
                  <a:pt x="7211" y="17850"/>
                  <a:pt x="11431" y="20850"/>
                </a:cubicBezTo>
                <a:cubicBezTo>
                  <a:pt x="12122" y="21338"/>
                  <a:pt x="13011" y="21466"/>
                  <a:pt x="13812" y="21189"/>
                </a:cubicBezTo>
                <a:cubicBezTo>
                  <a:pt x="17563" y="19893"/>
                  <a:pt x="20134" y="17357"/>
                  <a:pt x="21451" y="13647"/>
                </a:cubicBezTo>
                <a:cubicBezTo>
                  <a:pt x="21551" y="13372"/>
                  <a:pt x="21600" y="13082"/>
                  <a:pt x="21600" y="12797"/>
                </a:cubicBezTo>
                <a:cubicBezTo>
                  <a:pt x="21600" y="12266"/>
                  <a:pt x="21430" y="11741"/>
                  <a:pt x="21111" y="11296"/>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73" name="AutoShape 130"/>
          <p:cNvSpPr/>
          <p:nvPr/>
        </p:nvSpPr>
        <p:spPr>
          <a:xfrm>
            <a:off x="3305160" y="5164200"/>
            <a:ext cx="928800" cy="928800"/>
          </a:xfrm>
          <a:custGeom>
            <a:avLst/>
            <a:gdLst/>
            <a:ahLst/>
            <a:rect l="l" t="t" r="r" b="b"/>
            <a:pathLst>
              <a:path w="21373" h="21600">
                <a:moveTo>
                  <a:pt x="1336" y="20250"/>
                </a:moveTo>
                <a:cubicBezTo>
                  <a:pt x="1429" y="20188"/>
                  <a:pt x="3691" y="18689"/>
                  <a:pt x="7071" y="17950"/>
                </a:cubicBezTo>
                <a:lnTo>
                  <a:pt x="8730" y="17587"/>
                </a:lnTo>
                <a:cubicBezTo>
                  <a:pt x="9322" y="17981"/>
                  <a:pt x="9972" y="18225"/>
                  <a:pt x="10687" y="18225"/>
                </a:cubicBezTo>
                <a:cubicBezTo>
                  <a:pt x="11402" y="18225"/>
                  <a:pt x="12052" y="17981"/>
                  <a:pt x="12644" y="17587"/>
                </a:cubicBezTo>
                <a:lnTo>
                  <a:pt x="14303" y="17950"/>
                </a:lnTo>
                <a:cubicBezTo>
                  <a:pt x="17657" y="18683"/>
                  <a:pt x="19911" y="20166"/>
                  <a:pt x="20038" y="20250"/>
                </a:cubicBezTo>
                <a:cubicBezTo>
                  <a:pt x="20038" y="20250"/>
                  <a:pt x="1336" y="20250"/>
                  <a:pt x="1336" y="20250"/>
                </a:cubicBezTo>
                <a:close/>
                <a:moveTo>
                  <a:pt x="13537" y="15794"/>
                </a:moveTo>
                <a:lnTo>
                  <a:pt x="13318" y="16074"/>
                </a:lnTo>
                <a:cubicBezTo>
                  <a:pt x="11726" y="17923"/>
                  <a:pt x="9648" y="17923"/>
                  <a:pt x="8056" y="16074"/>
                </a:cubicBezTo>
                <a:lnTo>
                  <a:pt x="7837" y="15794"/>
                </a:lnTo>
                <a:cubicBezTo>
                  <a:pt x="5977" y="13412"/>
                  <a:pt x="5054" y="10261"/>
                  <a:pt x="5451" y="7256"/>
                </a:cubicBezTo>
                <a:cubicBezTo>
                  <a:pt x="5816" y="4367"/>
                  <a:pt x="7454" y="1350"/>
                  <a:pt x="10687" y="1350"/>
                </a:cubicBezTo>
                <a:cubicBezTo>
                  <a:pt x="13920" y="1350"/>
                  <a:pt x="15558" y="4367"/>
                  <a:pt x="15923" y="7256"/>
                </a:cubicBezTo>
                <a:cubicBezTo>
                  <a:pt x="16318" y="10263"/>
                  <a:pt x="15399" y="13411"/>
                  <a:pt x="13537" y="15794"/>
                </a:cubicBezTo>
                <a:moveTo>
                  <a:pt x="20778" y="19127"/>
                </a:moveTo>
                <a:cubicBezTo>
                  <a:pt x="20645" y="19037"/>
                  <a:pt x="18209" y="17422"/>
                  <a:pt x="14586" y="16631"/>
                </a:cubicBezTo>
                <a:cubicBezTo>
                  <a:pt x="15915" y="14928"/>
                  <a:pt x="16768" y="12639"/>
                  <a:pt x="17130" y="11116"/>
                </a:cubicBezTo>
                <a:cubicBezTo>
                  <a:pt x="17633" y="9004"/>
                  <a:pt x="17438" y="4874"/>
                  <a:pt x="15432" y="2299"/>
                </a:cubicBezTo>
                <a:cubicBezTo>
                  <a:pt x="14260" y="795"/>
                  <a:pt x="12619" y="0"/>
                  <a:pt x="10687" y="0"/>
                </a:cubicBezTo>
                <a:cubicBezTo>
                  <a:pt x="8755" y="0"/>
                  <a:pt x="7114" y="795"/>
                  <a:pt x="5942" y="2299"/>
                </a:cubicBezTo>
                <a:cubicBezTo>
                  <a:pt x="3936" y="4874"/>
                  <a:pt x="3741" y="9004"/>
                  <a:pt x="4244" y="11116"/>
                </a:cubicBezTo>
                <a:cubicBezTo>
                  <a:pt x="4606" y="12639"/>
                  <a:pt x="5459" y="14928"/>
                  <a:pt x="6788" y="16631"/>
                </a:cubicBezTo>
                <a:cubicBezTo>
                  <a:pt x="3165" y="17422"/>
                  <a:pt x="729" y="19037"/>
                  <a:pt x="596" y="19127"/>
                </a:cubicBezTo>
                <a:cubicBezTo>
                  <a:pt x="106" y="19457"/>
                  <a:pt x="-113" y="20072"/>
                  <a:pt x="58" y="20641"/>
                </a:cubicBezTo>
                <a:cubicBezTo>
                  <a:pt x="228" y="21210"/>
                  <a:pt x="748" y="21600"/>
                  <a:pt x="1336" y="21600"/>
                </a:cubicBezTo>
                <a:lnTo>
                  <a:pt x="20038" y="21600"/>
                </a:lnTo>
                <a:cubicBezTo>
                  <a:pt x="20626" y="21600"/>
                  <a:pt x="21146" y="21210"/>
                  <a:pt x="21316" y="20641"/>
                </a:cubicBezTo>
                <a:cubicBezTo>
                  <a:pt x="21487" y="20072"/>
                  <a:pt x="21268" y="19457"/>
                  <a:pt x="20778" y="19127"/>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74" name="AutoShape 131"/>
          <p:cNvSpPr/>
          <p:nvPr/>
        </p:nvSpPr>
        <p:spPr>
          <a:xfrm>
            <a:off x="1504800" y="5164200"/>
            <a:ext cx="812880" cy="928800"/>
          </a:xfrm>
          <a:custGeom>
            <a:avLst/>
            <a:gdLst/>
            <a:ahLst/>
            <a:rect l="l" t="t" r="r" b="b"/>
            <a:pathLst>
              <a:path w="21600" h="21600">
                <a:moveTo>
                  <a:pt x="20057" y="5400"/>
                </a:moveTo>
                <a:lnTo>
                  <a:pt x="20057" y="6075"/>
                </a:lnTo>
                <a:lnTo>
                  <a:pt x="1543" y="6075"/>
                </a:lnTo>
                <a:lnTo>
                  <a:pt x="1543" y="5400"/>
                </a:lnTo>
                <a:lnTo>
                  <a:pt x="1543" y="4726"/>
                </a:lnTo>
                <a:cubicBezTo>
                  <a:pt x="1543" y="4353"/>
                  <a:pt x="1888" y="4051"/>
                  <a:pt x="2314" y="4051"/>
                </a:cubicBezTo>
                <a:lnTo>
                  <a:pt x="19286" y="4051"/>
                </a:lnTo>
                <a:cubicBezTo>
                  <a:pt x="19712" y="4051"/>
                  <a:pt x="20057" y="4353"/>
                  <a:pt x="20057" y="4726"/>
                </a:cubicBezTo>
                <a:cubicBezTo>
                  <a:pt x="20057" y="4726"/>
                  <a:pt x="20057" y="5400"/>
                  <a:pt x="20057" y="5400"/>
                </a:cubicBezTo>
                <a:close/>
                <a:moveTo>
                  <a:pt x="18514" y="18900"/>
                </a:moveTo>
                <a:cubicBezTo>
                  <a:pt x="18514" y="19645"/>
                  <a:pt x="17822" y="20250"/>
                  <a:pt x="16971" y="20250"/>
                </a:cubicBezTo>
                <a:lnTo>
                  <a:pt x="4629" y="20250"/>
                </a:lnTo>
                <a:cubicBezTo>
                  <a:pt x="3778" y="20250"/>
                  <a:pt x="3086" y="19645"/>
                  <a:pt x="3086" y="18900"/>
                </a:cubicBezTo>
                <a:lnTo>
                  <a:pt x="3086" y="7425"/>
                </a:lnTo>
                <a:lnTo>
                  <a:pt x="18514" y="7425"/>
                </a:lnTo>
                <a:cubicBezTo>
                  <a:pt x="18514" y="7425"/>
                  <a:pt x="18514" y="18900"/>
                  <a:pt x="18514" y="18900"/>
                </a:cubicBezTo>
                <a:close/>
                <a:moveTo>
                  <a:pt x="6171" y="2026"/>
                </a:moveTo>
                <a:cubicBezTo>
                  <a:pt x="6171" y="1653"/>
                  <a:pt x="6516" y="1351"/>
                  <a:pt x="6943" y="1351"/>
                </a:cubicBezTo>
                <a:lnTo>
                  <a:pt x="14657" y="1351"/>
                </a:lnTo>
                <a:cubicBezTo>
                  <a:pt x="15084" y="1351"/>
                  <a:pt x="15429" y="1653"/>
                  <a:pt x="15429" y="2026"/>
                </a:cubicBezTo>
                <a:lnTo>
                  <a:pt x="15429" y="2701"/>
                </a:lnTo>
                <a:lnTo>
                  <a:pt x="6171" y="2701"/>
                </a:lnTo>
                <a:cubicBezTo>
                  <a:pt x="6171" y="2701"/>
                  <a:pt x="6171" y="2026"/>
                  <a:pt x="6171" y="2026"/>
                </a:cubicBezTo>
                <a:close/>
                <a:moveTo>
                  <a:pt x="21585" y="4601"/>
                </a:moveTo>
                <a:cubicBezTo>
                  <a:pt x="21511" y="3542"/>
                  <a:pt x="20516" y="2701"/>
                  <a:pt x="19286" y="2701"/>
                </a:cubicBezTo>
                <a:lnTo>
                  <a:pt x="16971" y="2701"/>
                </a:lnTo>
                <a:lnTo>
                  <a:pt x="16971" y="2026"/>
                </a:lnTo>
                <a:lnTo>
                  <a:pt x="16971" y="2025"/>
                </a:lnTo>
                <a:cubicBezTo>
                  <a:pt x="16971" y="906"/>
                  <a:pt x="15936" y="0"/>
                  <a:pt x="14657" y="0"/>
                </a:cubicBezTo>
                <a:lnTo>
                  <a:pt x="6943" y="0"/>
                </a:lnTo>
                <a:cubicBezTo>
                  <a:pt x="5664" y="0"/>
                  <a:pt x="4629" y="906"/>
                  <a:pt x="4629" y="2025"/>
                </a:cubicBezTo>
                <a:lnTo>
                  <a:pt x="4629" y="2026"/>
                </a:lnTo>
                <a:lnTo>
                  <a:pt x="4629" y="2701"/>
                </a:lnTo>
                <a:lnTo>
                  <a:pt x="2314" y="2701"/>
                </a:lnTo>
                <a:cubicBezTo>
                  <a:pt x="1084" y="2701"/>
                  <a:pt x="89" y="3542"/>
                  <a:pt x="15" y="4601"/>
                </a:cubicBezTo>
                <a:lnTo>
                  <a:pt x="0" y="4601"/>
                </a:lnTo>
                <a:lnTo>
                  <a:pt x="0" y="5400"/>
                </a:lnTo>
                <a:lnTo>
                  <a:pt x="0" y="6075"/>
                </a:lnTo>
                <a:cubicBezTo>
                  <a:pt x="0" y="6820"/>
                  <a:pt x="691" y="7425"/>
                  <a:pt x="1543" y="7425"/>
                </a:cubicBezTo>
                <a:lnTo>
                  <a:pt x="1543" y="18900"/>
                </a:lnTo>
                <a:cubicBezTo>
                  <a:pt x="1543" y="20391"/>
                  <a:pt x="2924" y="21600"/>
                  <a:pt x="4629" y="21600"/>
                </a:cubicBezTo>
                <a:lnTo>
                  <a:pt x="16971" y="21600"/>
                </a:lnTo>
                <a:cubicBezTo>
                  <a:pt x="18676" y="21600"/>
                  <a:pt x="20057" y="20391"/>
                  <a:pt x="20057" y="18900"/>
                </a:cubicBezTo>
                <a:lnTo>
                  <a:pt x="20057" y="7425"/>
                </a:lnTo>
                <a:cubicBezTo>
                  <a:pt x="20909" y="7425"/>
                  <a:pt x="21600" y="6820"/>
                  <a:pt x="21600" y="6075"/>
                </a:cubicBezTo>
                <a:lnTo>
                  <a:pt x="21600" y="5400"/>
                </a:lnTo>
                <a:lnTo>
                  <a:pt x="21600" y="4601"/>
                </a:lnTo>
                <a:cubicBezTo>
                  <a:pt x="21600" y="4601"/>
                  <a:pt x="21585" y="4601"/>
                  <a:pt x="21585" y="4601"/>
                </a:cubicBezTo>
                <a:close/>
                <a:moveTo>
                  <a:pt x="21585" y="4601"/>
                </a:move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75" name="AutoShape 132"/>
          <p:cNvSpPr/>
          <p:nvPr/>
        </p:nvSpPr>
        <p:spPr>
          <a:xfrm>
            <a:off x="1679400" y="5540400"/>
            <a:ext cx="115920" cy="436680"/>
          </a:xfrm>
          <a:custGeom>
            <a:avLst/>
            <a:gdLst/>
            <a:ahLst/>
            <a:rect l="l" t="t" r="r" b="b"/>
            <a:pathLst>
              <a:path w="21600" h="21600">
                <a:moveTo>
                  <a:pt x="5400" y="1440"/>
                </a:moveTo>
                <a:lnTo>
                  <a:pt x="16200" y="1440"/>
                </a:lnTo>
                <a:lnTo>
                  <a:pt x="16200" y="20160"/>
                </a:lnTo>
                <a:lnTo>
                  <a:pt x="5400" y="20160"/>
                </a:lnTo>
                <a:cubicBezTo>
                  <a:pt x="5400" y="20160"/>
                  <a:pt x="5400" y="1440"/>
                  <a:pt x="5400" y="1440"/>
                </a:cubicBezTo>
                <a:close/>
                <a:moveTo>
                  <a:pt x="5400" y="21600"/>
                </a:moveTo>
                <a:lnTo>
                  <a:pt x="16200" y="21600"/>
                </a:lnTo>
                <a:cubicBezTo>
                  <a:pt x="19187" y="21600"/>
                  <a:pt x="21600" y="20957"/>
                  <a:pt x="21600" y="20160"/>
                </a:cubicBezTo>
                <a:lnTo>
                  <a:pt x="21600" y="1440"/>
                </a:lnTo>
                <a:cubicBezTo>
                  <a:pt x="21600" y="644"/>
                  <a:pt x="19187" y="0"/>
                  <a:pt x="16200" y="0"/>
                </a:cubicBezTo>
                <a:lnTo>
                  <a:pt x="5400" y="0"/>
                </a:lnTo>
                <a:cubicBezTo>
                  <a:pt x="2413" y="0"/>
                  <a:pt x="0" y="644"/>
                  <a:pt x="0" y="1440"/>
                </a:cubicBezTo>
                <a:lnTo>
                  <a:pt x="0" y="20160"/>
                </a:lnTo>
                <a:cubicBezTo>
                  <a:pt x="0" y="20957"/>
                  <a:pt x="2413" y="21600"/>
                  <a:pt x="54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76" name="AutoShape 133"/>
          <p:cNvSpPr/>
          <p:nvPr/>
        </p:nvSpPr>
        <p:spPr>
          <a:xfrm>
            <a:off x="1854360" y="5540400"/>
            <a:ext cx="115560" cy="436680"/>
          </a:xfrm>
          <a:custGeom>
            <a:avLst/>
            <a:gdLst/>
            <a:ahLst/>
            <a:rect l="l" t="t" r="r" b="b"/>
            <a:pathLst>
              <a:path w="21600" h="21600">
                <a:moveTo>
                  <a:pt x="5400" y="1440"/>
                </a:moveTo>
                <a:lnTo>
                  <a:pt x="16200" y="1440"/>
                </a:lnTo>
                <a:lnTo>
                  <a:pt x="16200" y="20160"/>
                </a:lnTo>
                <a:lnTo>
                  <a:pt x="5400" y="20160"/>
                </a:lnTo>
                <a:cubicBezTo>
                  <a:pt x="5400" y="20160"/>
                  <a:pt x="5400" y="1440"/>
                  <a:pt x="5400" y="1440"/>
                </a:cubicBezTo>
                <a:close/>
                <a:moveTo>
                  <a:pt x="5400" y="21600"/>
                </a:moveTo>
                <a:lnTo>
                  <a:pt x="16200" y="21600"/>
                </a:lnTo>
                <a:cubicBezTo>
                  <a:pt x="19187" y="21600"/>
                  <a:pt x="21600" y="20957"/>
                  <a:pt x="21600" y="20160"/>
                </a:cubicBezTo>
                <a:lnTo>
                  <a:pt x="21600" y="1440"/>
                </a:lnTo>
                <a:cubicBezTo>
                  <a:pt x="21600" y="644"/>
                  <a:pt x="19187" y="0"/>
                  <a:pt x="16200" y="0"/>
                </a:cubicBezTo>
                <a:lnTo>
                  <a:pt x="5400" y="0"/>
                </a:lnTo>
                <a:cubicBezTo>
                  <a:pt x="2413" y="0"/>
                  <a:pt x="0" y="644"/>
                  <a:pt x="0" y="1440"/>
                </a:cubicBezTo>
                <a:lnTo>
                  <a:pt x="0" y="20160"/>
                </a:lnTo>
                <a:cubicBezTo>
                  <a:pt x="0" y="20957"/>
                  <a:pt x="2413" y="21600"/>
                  <a:pt x="54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77" name="AutoShape 134"/>
          <p:cNvSpPr/>
          <p:nvPr/>
        </p:nvSpPr>
        <p:spPr>
          <a:xfrm>
            <a:off x="2027160" y="5540400"/>
            <a:ext cx="115920" cy="436680"/>
          </a:xfrm>
          <a:custGeom>
            <a:avLst/>
            <a:gdLst/>
            <a:ahLst/>
            <a:rect l="l" t="t" r="r" b="b"/>
            <a:pathLst>
              <a:path w="21600" h="21600">
                <a:moveTo>
                  <a:pt x="5400" y="1440"/>
                </a:moveTo>
                <a:lnTo>
                  <a:pt x="16200" y="1440"/>
                </a:lnTo>
                <a:lnTo>
                  <a:pt x="16200" y="20160"/>
                </a:lnTo>
                <a:lnTo>
                  <a:pt x="5400" y="20160"/>
                </a:lnTo>
                <a:cubicBezTo>
                  <a:pt x="5400" y="20160"/>
                  <a:pt x="5400" y="1440"/>
                  <a:pt x="5400" y="1440"/>
                </a:cubicBezTo>
                <a:close/>
                <a:moveTo>
                  <a:pt x="5400" y="21600"/>
                </a:moveTo>
                <a:lnTo>
                  <a:pt x="16200" y="21600"/>
                </a:lnTo>
                <a:cubicBezTo>
                  <a:pt x="19187" y="21600"/>
                  <a:pt x="21600" y="20957"/>
                  <a:pt x="21600" y="20160"/>
                </a:cubicBezTo>
                <a:lnTo>
                  <a:pt x="21600" y="1440"/>
                </a:lnTo>
                <a:cubicBezTo>
                  <a:pt x="21600" y="644"/>
                  <a:pt x="19187" y="0"/>
                  <a:pt x="16200" y="0"/>
                </a:cubicBezTo>
                <a:lnTo>
                  <a:pt x="5400" y="0"/>
                </a:lnTo>
                <a:cubicBezTo>
                  <a:pt x="2413" y="0"/>
                  <a:pt x="0" y="644"/>
                  <a:pt x="0" y="1440"/>
                </a:cubicBezTo>
                <a:lnTo>
                  <a:pt x="0" y="20160"/>
                </a:lnTo>
                <a:cubicBezTo>
                  <a:pt x="0" y="20957"/>
                  <a:pt x="2413" y="21600"/>
                  <a:pt x="54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78" name="AutoShape 135"/>
          <p:cNvSpPr/>
          <p:nvPr/>
        </p:nvSpPr>
        <p:spPr>
          <a:xfrm>
            <a:off x="10736280" y="3449520"/>
            <a:ext cx="930240" cy="639720"/>
          </a:xfrm>
          <a:custGeom>
            <a:avLst/>
            <a:gdLst/>
            <a:ahLst/>
            <a:rect l="l" t="t" r="r" b="b"/>
            <a:pathLst>
              <a:path w="21600" h="21600">
                <a:moveTo>
                  <a:pt x="20250" y="18682"/>
                </a:moveTo>
                <a:lnTo>
                  <a:pt x="19651" y="18682"/>
                </a:lnTo>
                <a:lnTo>
                  <a:pt x="19575" y="18682"/>
                </a:lnTo>
                <a:lnTo>
                  <a:pt x="16875" y="14755"/>
                </a:lnTo>
                <a:lnTo>
                  <a:pt x="16875" y="14727"/>
                </a:lnTo>
                <a:lnTo>
                  <a:pt x="16200" y="13745"/>
                </a:lnTo>
                <a:lnTo>
                  <a:pt x="16200" y="7855"/>
                </a:lnTo>
                <a:lnTo>
                  <a:pt x="19575" y="2945"/>
                </a:lnTo>
                <a:lnTo>
                  <a:pt x="19651" y="2945"/>
                </a:lnTo>
                <a:lnTo>
                  <a:pt x="20250" y="2945"/>
                </a:lnTo>
                <a:cubicBezTo>
                  <a:pt x="20250" y="2945"/>
                  <a:pt x="20250" y="18682"/>
                  <a:pt x="20250" y="18682"/>
                </a:cubicBezTo>
                <a:close/>
                <a:moveTo>
                  <a:pt x="2025" y="19636"/>
                </a:moveTo>
                <a:cubicBezTo>
                  <a:pt x="1652" y="19636"/>
                  <a:pt x="1350" y="19195"/>
                  <a:pt x="1350" y="18655"/>
                </a:cubicBezTo>
                <a:lnTo>
                  <a:pt x="1350" y="2945"/>
                </a:lnTo>
                <a:cubicBezTo>
                  <a:pt x="1350" y="2402"/>
                  <a:pt x="1652" y="1964"/>
                  <a:pt x="2025" y="1964"/>
                </a:cubicBezTo>
                <a:lnTo>
                  <a:pt x="14850" y="1964"/>
                </a:lnTo>
                <a:cubicBezTo>
                  <a:pt x="15222" y="1964"/>
                  <a:pt x="15525" y="2403"/>
                  <a:pt x="15525" y="2945"/>
                </a:cubicBezTo>
                <a:lnTo>
                  <a:pt x="15525" y="18655"/>
                </a:lnTo>
                <a:cubicBezTo>
                  <a:pt x="15525" y="19195"/>
                  <a:pt x="15222" y="19636"/>
                  <a:pt x="14850" y="19636"/>
                </a:cubicBezTo>
                <a:cubicBezTo>
                  <a:pt x="14850" y="19636"/>
                  <a:pt x="2025" y="19636"/>
                  <a:pt x="2025" y="19636"/>
                </a:cubicBezTo>
                <a:close/>
                <a:moveTo>
                  <a:pt x="20250" y="982"/>
                </a:moveTo>
                <a:lnTo>
                  <a:pt x="19651" y="982"/>
                </a:lnTo>
                <a:cubicBezTo>
                  <a:pt x="19297" y="982"/>
                  <a:pt x="18957" y="1185"/>
                  <a:pt x="18704" y="1547"/>
                </a:cubicBezTo>
                <a:lnTo>
                  <a:pt x="16875" y="4171"/>
                </a:lnTo>
                <a:lnTo>
                  <a:pt x="16875" y="2945"/>
                </a:lnTo>
                <a:cubicBezTo>
                  <a:pt x="16875" y="1317"/>
                  <a:pt x="15968" y="0"/>
                  <a:pt x="14850" y="0"/>
                </a:cubicBezTo>
                <a:lnTo>
                  <a:pt x="2025" y="0"/>
                </a:lnTo>
                <a:cubicBezTo>
                  <a:pt x="908" y="0"/>
                  <a:pt x="0" y="1320"/>
                  <a:pt x="0" y="2945"/>
                </a:cubicBezTo>
                <a:lnTo>
                  <a:pt x="0" y="9789"/>
                </a:lnTo>
                <a:lnTo>
                  <a:pt x="0" y="18655"/>
                </a:lnTo>
                <a:cubicBezTo>
                  <a:pt x="0" y="20281"/>
                  <a:pt x="906" y="21600"/>
                  <a:pt x="2025" y="21600"/>
                </a:cubicBezTo>
                <a:lnTo>
                  <a:pt x="14850" y="21600"/>
                </a:lnTo>
                <a:cubicBezTo>
                  <a:pt x="15968" y="21600"/>
                  <a:pt x="16875" y="20281"/>
                  <a:pt x="16875" y="18655"/>
                </a:cubicBezTo>
                <a:lnTo>
                  <a:pt x="16875" y="17457"/>
                </a:lnTo>
                <a:lnTo>
                  <a:pt x="18704" y="20080"/>
                </a:lnTo>
                <a:cubicBezTo>
                  <a:pt x="18957" y="20442"/>
                  <a:pt x="19297" y="20646"/>
                  <a:pt x="19651" y="20646"/>
                </a:cubicBezTo>
                <a:lnTo>
                  <a:pt x="20250" y="20646"/>
                </a:lnTo>
                <a:cubicBezTo>
                  <a:pt x="20995" y="20646"/>
                  <a:pt x="21600" y="19766"/>
                  <a:pt x="21600" y="18682"/>
                </a:cubicBezTo>
                <a:lnTo>
                  <a:pt x="21600" y="2945"/>
                </a:lnTo>
                <a:cubicBezTo>
                  <a:pt x="21600" y="1861"/>
                  <a:pt x="20995" y="982"/>
                  <a:pt x="20250" y="982"/>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79" name="AutoShape 136"/>
          <p:cNvSpPr/>
          <p:nvPr/>
        </p:nvSpPr>
        <p:spPr>
          <a:xfrm>
            <a:off x="9372600" y="3421080"/>
            <a:ext cx="304920" cy="304920"/>
          </a:xfrm>
          <a:custGeom>
            <a:avLst/>
            <a:gdLst/>
            <a:ahLst/>
            <a:rect l="l" t="t" r="r" b="b"/>
            <a:pathLst>
              <a:path w="21600" h="21600">
                <a:moveTo>
                  <a:pt x="19539" y="20579"/>
                </a:moveTo>
                <a:lnTo>
                  <a:pt x="19543" y="20579"/>
                </a:lnTo>
                <a:cubicBezTo>
                  <a:pt x="19547" y="21143"/>
                  <a:pt x="20005" y="21600"/>
                  <a:pt x="20571" y="21600"/>
                </a:cubicBezTo>
                <a:cubicBezTo>
                  <a:pt x="21138" y="21600"/>
                  <a:pt x="21600" y="21139"/>
                  <a:pt x="21600" y="20571"/>
                </a:cubicBezTo>
                <a:cubicBezTo>
                  <a:pt x="21600" y="20565"/>
                  <a:pt x="21596" y="20561"/>
                  <a:pt x="21596" y="20555"/>
                </a:cubicBezTo>
                <a:cubicBezTo>
                  <a:pt x="21584" y="9222"/>
                  <a:pt x="12411" y="41"/>
                  <a:pt x="1081" y="12"/>
                </a:cubicBezTo>
                <a:cubicBezTo>
                  <a:pt x="1065" y="10"/>
                  <a:pt x="1049" y="0"/>
                  <a:pt x="1029" y="0"/>
                </a:cubicBezTo>
                <a:cubicBezTo>
                  <a:pt x="458" y="0"/>
                  <a:pt x="0" y="461"/>
                  <a:pt x="0" y="1029"/>
                </a:cubicBezTo>
                <a:cubicBezTo>
                  <a:pt x="0" y="1594"/>
                  <a:pt x="458" y="2055"/>
                  <a:pt x="1025" y="2057"/>
                </a:cubicBezTo>
                <a:lnTo>
                  <a:pt x="1025" y="2065"/>
                </a:lnTo>
                <a:cubicBezTo>
                  <a:pt x="11234" y="2065"/>
                  <a:pt x="19539" y="10370"/>
                  <a:pt x="19539" y="20579"/>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80" name="AutoShape 137"/>
          <p:cNvSpPr/>
          <p:nvPr/>
        </p:nvSpPr>
        <p:spPr>
          <a:xfrm>
            <a:off x="8879040" y="3305160"/>
            <a:ext cx="928440" cy="928800"/>
          </a:xfrm>
          <a:custGeom>
            <a:avLst/>
            <a:gdLst/>
            <a:ahLst/>
            <a:rect l="l" t="t" r="r" b="b"/>
            <a:pathLst>
              <a:path w="21248" h="21600">
                <a:moveTo>
                  <a:pt x="19869" y="17133"/>
                </a:moveTo>
                <a:cubicBezTo>
                  <a:pt x="19766" y="17387"/>
                  <a:pt x="19525" y="17550"/>
                  <a:pt x="19255" y="17550"/>
                </a:cubicBezTo>
                <a:lnTo>
                  <a:pt x="19058" y="17550"/>
                </a:lnTo>
                <a:lnTo>
                  <a:pt x="3984" y="2226"/>
                </a:lnTo>
                <a:lnTo>
                  <a:pt x="3984" y="2025"/>
                </a:lnTo>
                <a:cubicBezTo>
                  <a:pt x="3984" y="1751"/>
                  <a:pt x="4144" y="1507"/>
                  <a:pt x="4393" y="1401"/>
                </a:cubicBezTo>
                <a:cubicBezTo>
                  <a:pt x="4475" y="1367"/>
                  <a:pt x="4560" y="1350"/>
                  <a:pt x="4647" y="1350"/>
                </a:cubicBezTo>
                <a:cubicBezTo>
                  <a:pt x="4825" y="1350"/>
                  <a:pt x="4991" y="1420"/>
                  <a:pt x="5116" y="1547"/>
                </a:cubicBezTo>
                <a:lnTo>
                  <a:pt x="19725" y="16398"/>
                </a:lnTo>
                <a:cubicBezTo>
                  <a:pt x="19916" y="16592"/>
                  <a:pt x="19973" y="16880"/>
                  <a:pt x="19869" y="17133"/>
                </a:cubicBezTo>
                <a:moveTo>
                  <a:pt x="10121" y="17550"/>
                </a:moveTo>
                <a:cubicBezTo>
                  <a:pt x="10017" y="17550"/>
                  <a:pt x="9923" y="17587"/>
                  <a:pt x="9824" y="17610"/>
                </a:cubicBezTo>
                <a:lnTo>
                  <a:pt x="3924" y="11613"/>
                </a:lnTo>
                <a:cubicBezTo>
                  <a:pt x="3947" y="11513"/>
                  <a:pt x="3983" y="11416"/>
                  <a:pt x="3983" y="11312"/>
                </a:cubicBezTo>
                <a:lnTo>
                  <a:pt x="3984" y="3181"/>
                </a:lnTo>
                <a:lnTo>
                  <a:pt x="18119" y="17550"/>
                </a:lnTo>
                <a:cubicBezTo>
                  <a:pt x="18119" y="17550"/>
                  <a:pt x="10121" y="17550"/>
                  <a:pt x="10121" y="17550"/>
                </a:cubicBezTo>
                <a:close/>
                <a:moveTo>
                  <a:pt x="9182" y="17946"/>
                </a:moveTo>
                <a:lnTo>
                  <a:pt x="7110" y="20052"/>
                </a:lnTo>
                <a:cubicBezTo>
                  <a:pt x="6940" y="20224"/>
                  <a:pt x="6743" y="20250"/>
                  <a:pt x="6640" y="20250"/>
                </a:cubicBezTo>
                <a:cubicBezTo>
                  <a:pt x="6538" y="20250"/>
                  <a:pt x="6339" y="20224"/>
                  <a:pt x="6171" y="20052"/>
                </a:cubicBezTo>
                <a:lnTo>
                  <a:pt x="1522" y="15327"/>
                </a:lnTo>
                <a:cubicBezTo>
                  <a:pt x="1353" y="15155"/>
                  <a:pt x="1328" y="14954"/>
                  <a:pt x="1328" y="14850"/>
                </a:cubicBezTo>
                <a:cubicBezTo>
                  <a:pt x="1328" y="14746"/>
                  <a:pt x="1353" y="14545"/>
                  <a:pt x="1522" y="14373"/>
                </a:cubicBezTo>
                <a:lnTo>
                  <a:pt x="3594" y="12266"/>
                </a:lnTo>
                <a:cubicBezTo>
                  <a:pt x="3600" y="12260"/>
                  <a:pt x="3602" y="12252"/>
                  <a:pt x="3608" y="12246"/>
                </a:cubicBezTo>
                <a:lnTo>
                  <a:pt x="9202" y="17933"/>
                </a:lnTo>
                <a:cubicBezTo>
                  <a:pt x="9197" y="17937"/>
                  <a:pt x="9187" y="17939"/>
                  <a:pt x="9182" y="17946"/>
                </a:cubicBezTo>
                <a:moveTo>
                  <a:pt x="6057" y="593"/>
                </a:moveTo>
                <a:cubicBezTo>
                  <a:pt x="5675" y="206"/>
                  <a:pt x="5166" y="0"/>
                  <a:pt x="4647" y="0"/>
                </a:cubicBezTo>
                <a:cubicBezTo>
                  <a:pt x="4391" y="0"/>
                  <a:pt x="4132" y="50"/>
                  <a:pt x="3886" y="155"/>
                </a:cubicBezTo>
                <a:cubicBezTo>
                  <a:pt x="3141" y="468"/>
                  <a:pt x="2656" y="1205"/>
                  <a:pt x="2656" y="2025"/>
                </a:cubicBezTo>
                <a:lnTo>
                  <a:pt x="2655" y="11312"/>
                </a:lnTo>
                <a:lnTo>
                  <a:pt x="583" y="13418"/>
                </a:lnTo>
                <a:cubicBezTo>
                  <a:pt x="-195" y="14209"/>
                  <a:pt x="-195" y="15491"/>
                  <a:pt x="583" y="16282"/>
                </a:cubicBezTo>
                <a:lnTo>
                  <a:pt x="5231" y="21007"/>
                </a:lnTo>
                <a:cubicBezTo>
                  <a:pt x="5621" y="21402"/>
                  <a:pt x="6131" y="21600"/>
                  <a:pt x="6640" y="21600"/>
                </a:cubicBezTo>
                <a:cubicBezTo>
                  <a:pt x="7150" y="21600"/>
                  <a:pt x="7660" y="21402"/>
                  <a:pt x="8049" y="21007"/>
                </a:cubicBezTo>
                <a:lnTo>
                  <a:pt x="10121" y="18900"/>
                </a:lnTo>
                <a:lnTo>
                  <a:pt x="19255" y="18900"/>
                </a:lnTo>
                <a:cubicBezTo>
                  <a:pt x="20062" y="18900"/>
                  <a:pt x="20788" y="18407"/>
                  <a:pt x="21096" y="17651"/>
                </a:cubicBezTo>
                <a:cubicBezTo>
                  <a:pt x="21405" y="16894"/>
                  <a:pt x="21234" y="16022"/>
                  <a:pt x="20664" y="15443"/>
                </a:cubicBezTo>
                <a:cubicBezTo>
                  <a:pt x="20664" y="15443"/>
                  <a:pt x="6057" y="593"/>
                  <a:pt x="6057" y="593"/>
                </a:cubicBezTo>
                <a:close/>
                <a:moveTo>
                  <a:pt x="6057" y="593"/>
                </a:move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81" name="AutoShape 138"/>
          <p:cNvSpPr/>
          <p:nvPr/>
        </p:nvSpPr>
        <p:spPr>
          <a:xfrm>
            <a:off x="9372600" y="3305160"/>
            <a:ext cx="434880" cy="434880"/>
          </a:xfrm>
          <a:custGeom>
            <a:avLst/>
            <a:gdLst/>
            <a:ahLst/>
            <a:rect l="l" t="t" r="r" b="b"/>
            <a:pathLst>
              <a:path w="21600" h="21600">
                <a:moveTo>
                  <a:pt x="1437" y="2880"/>
                </a:moveTo>
                <a:lnTo>
                  <a:pt x="1437" y="2886"/>
                </a:lnTo>
                <a:cubicBezTo>
                  <a:pt x="10966" y="2886"/>
                  <a:pt x="18717" y="10638"/>
                  <a:pt x="18717" y="20166"/>
                </a:cubicBezTo>
                <a:lnTo>
                  <a:pt x="18720" y="20166"/>
                </a:lnTo>
                <a:cubicBezTo>
                  <a:pt x="18723" y="20959"/>
                  <a:pt x="19367" y="21600"/>
                  <a:pt x="20160" y="21600"/>
                </a:cubicBezTo>
                <a:cubicBezTo>
                  <a:pt x="20956" y="21600"/>
                  <a:pt x="21600" y="20957"/>
                  <a:pt x="21600" y="20160"/>
                </a:cubicBezTo>
                <a:cubicBezTo>
                  <a:pt x="21600" y="20156"/>
                  <a:pt x="21597" y="20153"/>
                  <a:pt x="21597" y="20149"/>
                </a:cubicBezTo>
                <a:cubicBezTo>
                  <a:pt x="21589" y="9034"/>
                  <a:pt x="12589" y="29"/>
                  <a:pt x="1477" y="8"/>
                </a:cubicBezTo>
                <a:cubicBezTo>
                  <a:pt x="1465" y="7"/>
                  <a:pt x="1454" y="0"/>
                  <a:pt x="1440" y="0"/>
                </a:cubicBezTo>
                <a:cubicBezTo>
                  <a:pt x="644" y="0"/>
                  <a:pt x="0" y="644"/>
                  <a:pt x="0" y="1440"/>
                </a:cubicBezTo>
                <a:cubicBezTo>
                  <a:pt x="0" y="2235"/>
                  <a:pt x="644" y="2879"/>
                  <a:pt x="1437" y="288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82" name="AutoShape 139"/>
          <p:cNvSpPr/>
          <p:nvPr/>
        </p:nvSpPr>
        <p:spPr>
          <a:xfrm>
            <a:off x="7021440" y="3305160"/>
            <a:ext cx="928800" cy="900000"/>
          </a:xfrm>
          <a:custGeom>
            <a:avLst/>
            <a:gdLst/>
            <a:ahLst/>
            <a:rect l="l" t="t" r="r" b="b"/>
            <a:pathLst>
              <a:path w="21392" h="21600">
                <a:moveTo>
                  <a:pt x="15769" y="12795"/>
                </a:moveTo>
                <a:cubicBezTo>
                  <a:pt x="15427" y="13151"/>
                  <a:pt x="15271" y="13651"/>
                  <a:pt x="15350" y="14142"/>
                </a:cubicBezTo>
                <a:lnTo>
                  <a:pt x="16296" y="20032"/>
                </a:lnTo>
                <a:lnTo>
                  <a:pt x="11444" y="17309"/>
                </a:lnTo>
                <a:cubicBezTo>
                  <a:pt x="11210" y="17178"/>
                  <a:pt x="10953" y="17113"/>
                  <a:pt x="10696" y="17113"/>
                </a:cubicBezTo>
                <a:cubicBezTo>
                  <a:pt x="10439" y="17113"/>
                  <a:pt x="10182" y="17178"/>
                  <a:pt x="9949" y="17309"/>
                </a:cubicBezTo>
                <a:lnTo>
                  <a:pt x="5096" y="20032"/>
                </a:lnTo>
                <a:lnTo>
                  <a:pt x="6043" y="14142"/>
                </a:lnTo>
                <a:cubicBezTo>
                  <a:pt x="6122" y="13651"/>
                  <a:pt x="5966" y="13151"/>
                  <a:pt x="5624" y="12795"/>
                </a:cubicBezTo>
                <a:lnTo>
                  <a:pt x="1545" y="8550"/>
                </a:lnTo>
                <a:lnTo>
                  <a:pt x="7111" y="7686"/>
                </a:lnTo>
                <a:cubicBezTo>
                  <a:pt x="7620" y="7607"/>
                  <a:pt x="8058" y="7276"/>
                  <a:pt x="8277" y="6802"/>
                </a:cubicBezTo>
                <a:lnTo>
                  <a:pt x="10696" y="1568"/>
                </a:lnTo>
                <a:lnTo>
                  <a:pt x="13116" y="6802"/>
                </a:lnTo>
                <a:cubicBezTo>
                  <a:pt x="13335" y="7276"/>
                  <a:pt x="13772" y="7607"/>
                  <a:pt x="14281" y="7686"/>
                </a:cubicBezTo>
                <a:lnTo>
                  <a:pt x="19848" y="8550"/>
                </a:lnTo>
                <a:cubicBezTo>
                  <a:pt x="19848" y="8550"/>
                  <a:pt x="15769" y="12795"/>
                  <a:pt x="15769" y="12795"/>
                </a:cubicBezTo>
                <a:close/>
                <a:moveTo>
                  <a:pt x="21313" y="8052"/>
                </a:moveTo>
                <a:cubicBezTo>
                  <a:pt x="21128" y="7496"/>
                  <a:pt x="20653" y="7088"/>
                  <a:pt x="20081" y="7000"/>
                </a:cubicBezTo>
                <a:lnTo>
                  <a:pt x="14514" y="6136"/>
                </a:lnTo>
                <a:lnTo>
                  <a:pt x="12094" y="902"/>
                </a:lnTo>
                <a:cubicBezTo>
                  <a:pt x="11840" y="352"/>
                  <a:pt x="11295" y="0"/>
                  <a:pt x="10696" y="0"/>
                </a:cubicBezTo>
                <a:cubicBezTo>
                  <a:pt x="10097" y="0"/>
                  <a:pt x="9552" y="352"/>
                  <a:pt x="9298" y="902"/>
                </a:cubicBezTo>
                <a:lnTo>
                  <a:pt x="6878" y="6136"/>
                </a:lnTo>
                <a:lnTo>
                  <a:pt x="1311" y="7000"/>
                </a:lnTo>
                <a:cubicBezTo>
                  <a:pt x="739" y="7088"/>
                  <a:pt x="264" y="7496"/>
                  <a:pt x="80" y="8052"/>
                </a:cubicBezTo>
                <a:cubicBezTo>
                  <a:pt x="-104" y="8610"/>
                  <a:pt x="35" y="9224"/>
                  <a:pt x="439" y="9645"/>
                </a:cubicBezTo>
                <a:lnTo>
                  <a:pt x="4518" y="13890"/>
                </a:lnTo>
                <a:lnTo>
                  <a:pt x="3572" y="19778"/>
                </a:lnTo>
                <a:cubicBezTo>
                  <a:pt x="3476" y="20371"/>
                  <a:pt x="3723" y="20967"/>
                  <a:pt x="4206" y="21314"/>
                </a:cubicBezTo>
                <a:cubicBezTo>
                  <a:pt x="4472" y="21503"/>
                  <a:pt x="4784" y="21600"/>
                  <a:pt x="5096" y="21600"/>
                </a:cubicBezTo>
                <a:cubicBezTo>
                  <a:pt x="5352" y="21600"/>
                  <a:pt x="5610" y="21534"/>
                  <a:pt x="5843" y="21404"/>
                </a:cubicBezTo>
                <a:lnTo>
                  <a:pt x="10696" y="18681"/>
                </a:lnTo>
                <a:lnTo>
                  <a:pt x="15549" y="21404"/>
                </a:lnTo>
                <a:cubicBezTo>
                  <a:pt x="15783" y="21534"/>
                  <a:pt x="16040" y="21600"/>
                  <a:pt x="16296" y="21600"/>
                </a:cubicBezTo>
                <a:cubicBezTo>
                  <a:pt x="16609" y="21600"/>
                  <a:pt x="16920" y="21503"/>
                  <a:pt x="17187" y="21314"/>
                </a:cubicBezTo>
                <a:cubicBezTo>
                  <a:pt x="17670" y="20967"/>
                  <a:pt x="17916" y="20371"/>
                  <a:pt x="17820" y="19778"/>
                </a:cubicBezTo>
                <a:lnTo>
                  <a:pt x="16874" y="13890"/>
                </a:lnTo>
                <a:lnTo>
                  <a:pt x="20953" y="9645"/>
                </a:lnTo>
                <a:cubicBezTo>
                  <a:pt x="21358" y="9224"/>
                  <a:pt x="21496" y="8610"/>
                  <a:pt x="21313" y="8052"/>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83" name="AutoShape 140"/>
          <p:cNvSpPr/>
          <p:nvPr/>
        </p:nvSpPr>
        <p:spPr>
          <a:xfrm>
            <a:off x="5278320" y="3537000"/>
            <a:ext cx="581040" cy="471600"/>
          </a:xfrm>
          <a:custGeom>
            <a:avLst/>
            <a:gdLst/>
            <a:ahLst/>
            <a:rect l="l" t="t" r="r" b="b"/>
            <a:pathLst>
              <a:path w="20848" h="21600">
                <a:moveTo>
                  <a:pt x="18728" y="19178"/>
                </a:moveTo>
                <a:cubicBezTo>
                  <a:pt x="13192" y="20631"/>
                  <a:pt x="7654" y="20631"/>
                  <a:pt x="2118" y="19178"/>
                </a:cubicBezTo>
                <a:cubicBezTo>
                  <a:pt x="678" y="13593"/>
                  <a:pt x="678" y="8008"/>
                  <a:pt x="2118" y="2422"/>
                </a:cubicBezTo>
                <a:cubicBezTo>
                  <a:pt x="7654" y="969"/>
                  <a:pt x="13192" y="969"/>
                  <a:pt x="18728" y="2422"/>
                </a:cubicBezTo>
                <a:cubicBezTo>
                  <a:pt x="20168" y="8008"/>
                  <a:pt x="20168" y="13593"/>
                  <a:pt x="18728" y="19178"/>
                </a:cubicBezTo>
                <a:moveTo>
                  <a:pt x="18938" y="1116"/>
                </a:moveTo>
                <a:cubicBezTo>
                  <a:pt x="16114" y="375"/>
                  <a:pt x="13250" y="0"/>
                  <a:pt x="10423" y="0"/>
                </a:cubicBezTo>
                <a:cubicBezTo>
                  <a:pt x="7597" y="0"/>
                  <a:pt x="4733" y="375"/>
                  <a:pt x="1909" y="1116"/>
                </a:cubicBezTo>
                <a:cubicBezTo>
                  <a:pt x="1544" y="1214"/>
                  <a:pt x="1244" y="1552"/>
                  <a:pt x="1128" y="2005"/>
                </a:cubicBezTo>
                <a:cubicBezTo>
                  <a:pt x="-376" y="7842"/>
                  <a:pt x="-376" y="13759"/>
                  <a:pt x="1128" y="19594"/>
                </a:cubicBezTo>
                <a:cubicBezTo>
                  <a:pt x="1244" y="20048"/>
                  <a:pt x="1544" y="20387"/>
                  <a:pt x="1909" y="20482"/>
                </a:cubicBezTo>
                <a:cubicBezTo>
                  <a:pt x="4733" y="21225"/>
                  <a:pt x="7597" y="21600"/>
                  <a:pt x="10423" y="21600"/>
                </a:cubicBezTo>
                <a:cubicBezTo>
                  <a:pt x="13250" y="21600"/>
                  <a:pt x="16114" y="21225"/>
                  <a:pt x="18938" y="20482"/>
                </a:cubicBezTo>
                <a:cubicBezTo>
                  <a:pt x="19304" y="20387"/>
                  <a:pt x="19602" y="20048"/>
                  <a:pt x="19719" y="19594"/>
                </a:cubicBezTo>
                <a:cubicBezTo>
                  <a:pt x="21224" y="13759"/>
                  <a:pt x="21224" y="7842"/>
                  <a:pt x="19719" y="2005"/>
                </a:cubicBezTo>
                <a:cubicBezTo>
                  <a:pt x="19602" y="1552"/>
                  <a:pt x="19304" y="1214"/>
                  <a:pt x="18938" y="1116"/>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84" name="AutoShape 141"/>
          <p:cNvSpPr/>
          <p:nvPr/>
        </p:nvSpPr>
        <p:spPr>
          <a:xfrm>
            <a:off x="5162400" y="3421080"/>
            <a:ext cx="928800" cy="725400"/>
          </a:xfrm>
          <a:custGeom>
            <a:avLst/>
            <a:gdLst/>
            <a:ahLst/>
            <a:rect l="l" t="t" r="r" b="b"/>
            <a:pathLst>
              <a:path w="21096" h="21600">
                <a:moveTo>
                  <a:pt x="19056" y="18331"/>
                </a:moveTo>
                <a:cubicBezTo>
                  <a:pt x="13384" y="19233"/>
                  <a:pt x="7711" y="19233"/>
                  <a:pt x="2039" y="18331"/>
                </a:cubicBezTo>
                <a:cubicBezTo>
                  <a:pt x="1074" y="13022"/>
                  <a:pt x="1074" y="7714"/>
                  <a:pt x="2039" y="2404"/>
                </a:cubicBezTo>
                <a:cubicBezTo>
                  <a:pt x="7711" y="1502"/>
                  <a:pt x="13384" y="1502"/>
                  <a:pt x="19056" y="2404"/>
                </a:cubicBezTo>
                <a:cubicBezTo>
                  <a:pt x="20021" y="7714"/>
                  <a:pt x="20021" y="13022"/>
                  <a:pt x="19056" y="18331"/>
                </a:cubicBezTo>
                <a:moveTo>
                  <a:pt x="20339" y="2005"/>
                </a:moveTo>
                <a:cubicBezTo>
                  <a:pt x="20212" y="1301"/>
                  <a:pt x="19762" y="777"/>
                  <a:pt x="19215" y="689"/>
                </a:cubicBezTo>
                <a:cubicBezTo>
                  <a:pt x="16340" y="232"/>
                  <a:pt x="13424" y="0"/>
                  <a:pt x="10548" y="0"/>
                </a:cubicBezTo>
                <a:cubicBezTo>
                  <a:pt x="7671" y="0"/>
                  <a:pt x="4755" y="232"/>
                  <a:pt x="1880" y="689"/>
                </a:cubicBezTo>
                <a:cubicBezTo>
                  <a:pt x="1333" y="777"/>
                  <a:pt x="883" y="1301"/>
                  <a:pt x="756" y="2005"/>
                </a:cubicBezTo>
                <a:cubicBezTo>
                  <a:pt x="-252" y="7554"/>
                  <a:pt x="-252" y="13182"/>
                  <a:pt x="756" y="18731"/>
                </a:cubicBezTo>
                <a:cubicBezTo>
                  <a:pt x="883" y="19435"/>
                  <a:pt x="1333" y="19960"/>
                  <a:pt x="1880" y="20046"/>
                </a:cubicBezTo>
                <a:cubicBezTo>
                  <a:pt x="3266" y="20267"/>
                  <a:pt x="4660" y="20429"/>
                  <a:pt x="6055" y="20544"/>
                </a:cubicBezTo>
                <a:cubicBezTo>
                  <a:pt x="5980" y="20606"/>
                  <a:pt x="5932" y="20670"/>
                  <a:pt x="5932" y="20736"/>
                </a:cubicBezTo>
                <a:cubicBezTo>
                  <a:pt x="5932" y="21214"/>
                  <a:pt x="7998" y="21600"/>
                  <a:pt x="10548" y="21600"/>
                </a:cubicBezTo>
                <a:cubicBezTo>
                  <a:pt x="13097" y="21600"/>
                  <a:pt x="15164" y="21214"/>
                  <a:pt x="15164" y="20736"/>
                </a:cubicBezTo>
                <a:cubicBezTo>
                  <a:pt x="15164" y="20670"/>
                  <a:pt x="15115" y="20606"/>
                  <a:pt x="15040" y="20544"/>
                </a:cubicBezTo>
                <a:cubicBezTo>
                  <a:pt x="16435" y="20429"/>
                  <a:pt x="17830" y="20267"/>
                  <a:pt x="19215" y="20046"/>
                </a:cubicBezTo>
                <a:cubicBezTo>
                  <a:pt x="19762" y="19960"/>
                  <a:pt x="20212" y="19435"/>
                  <a:pt x="20339" y="18731"/>
                </a:cubicBezTo>
                <a:cubicBezTo>
                  <a:pt x="21348" y="13182"/>
                  <a:pt x="21348" y="7554"/>
                  <a:pt x="20339" y="2005"/>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85" name="AutoShape 142"/>
          <p:cNvSpPr/>
          <p:nvPr/>
        </p:nvSpPr>
        <p:spPr>
          <a:xfrm>
            <a:off x="5888160" y="3567240"/>
            <a:ext cx="87120" cy="85680"/>
          </a:xfrm>
          <a:custGeom>
            <a:avLst/>
            <a:gdLst/>
            <a:ahLst/>
            <a:rect l="l" t="t" r="r" b="b"/>
            <a:pathLst>
              <a:path w="21600" h="21600">
                <a:moveTo>
                  <a:pt x="10800" y="7200"/>
                </a:moveTo>
                <a:cubicBezTo>
                  <a:pt x="12779" y="7200"/>
                  <a:pt x="14400" y="8821"/>
                  <a:pt x="14400" y="10800"/>
                </a:cubicBezTo>
                <a:cubicBezTo>
                  <a:pt x="14400" y="12779"/>
                  <a:pt x="12779" y="14400"/>
                  <a:pt x="10800" y="14400"/>
                </a:cubicBezTo>
                <a:cubicBezTo>
                  <a:pt x="8821" y="14400"/>
                  <a:pt x="7200" y="12779"/>
                  <a:pt x="7200" y="10800"/>
                </a:cubicBezTo>
                <a:cubicBezTo>
                  <a:pt x="7200" y="8821"/>
                  <a:pt x="8821" y="7200"/>
                  <a:pt x="10800" y="7200"/>
                </a:cubicBezTo>
                <a:moveTo>
                  <a:pt x="10800" y="21600"/>
                </a:moveTo>
                <a:cubicBezTo>
                  <a:pt x="16762" y="21600"/>
                  <a:pt x="21600" y="16763"/>
                  <a:pt x="21600" y="10800"/>
                </a:cubicBezTo>
                <a:cubicBezTo>
                  <a:pt x="21600" y="4838"/>
                  <a:pt x="16762" y="0"/>
                  <a:pt x="10800" y="0"/>
                </a:cubicBezTo>
                <a:cubicBezTo>
                  <a:pt x="4837" y="0"/>
                  <a:pt x="0" y="4838"/>
                  <a:pt x="0" y="10800"/>
                </a:cubicBezTo>
                <a:cubicBezTo>
                  <a:pt x="0" y="16763"/>
                  <a:pt x="4837" y="21600"/>
                  <a:pt x="10800" y="2160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86" name="AutoShape 143"/>
          <p:cNvSpPr/>
          <p:nvPr/>
        </p:nvSpPr>
        <p:spPr>
          <a:xfrm>
            <a:off x="5859360" y="3943440"/>
            <a:ext cx="115920" cy="30240"/>
          </a:xfrm>
          <a:custGeom>
            <a:avLst/>
            <a:gdLst/>
            <a:ahLst/>
            <a:rect l="l" t="t" r="r" b="b"/>
            <a:pathLst>
              <a:path w="21600" h="21600">
                <a:moveTo>
                  <a:pt x="18900" y="0"/>
                </a:moveTo>
                <a:lnTo>
                  <a:pt x="2700" y="0"/>
                </a:lnTo>
                <a:cubicBezTo>
                  <a:pt x="1210" y="0"/>
                  <a:pt x="0" y="4841"/>
                  <a:pt x="0" y="10800"/>
                </a:cubicBezTo>
                <a:cubicBezTo>
                  <a:pt x="0" y="16759"/>
                  <a:pt x="1210" y="21600"/>
                  <a:pt x="2700" y="21600"/>
                </a:cubicBezTo>
                <a:lnTo>
                  <a:pt x="18900" y="21600"/>
                </a:lnTo>
                <a:cubicBezTo>
                  <a:pt x="20390" y="21600"/>
                  <a:pt x="21600" y="16759"/>
                  <a:pt x="21600" y="10800"/>
                </a:cubicBezTo>
                <a:cubicBezTo>
                  <a:pt x="21600" y="4841"/>
                  <a:pt x="20390" y="0"/>
                  <a:pt x="189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87" name="AutoShape 144"/>
          <p:cNvSpPr/>
          <p:nvPr/>
        </p:nvSpPr>
        <p:spPr>
          <a:xfrm>
            <a:off x="5888160" y="3855960"/>
            <a:ext cx="117360" cy="30240"/>
          </a:xfrm>
          <a:custGeom>
            <a:avLst/>
            <a:gdLst/>
            <a:ahLst/>
            <a:rect l="l" t="t" r="r" b="b"/>
            <a:pathLst>
              <a:path w="21600" h="21600">
                <a:moveTo>
                  <a:pt x="18900" y="0"/>
                </a:moveTo>
                <a:lnTo>
                  <a:pt x="2700" y="0"/>
                </a:lnTo>
                <a:cubicBezTo>
                  <a:pt x="1210" y="0"/>
                  <a:pt x="0" y="4841"/>
                  <a:pt x="0" y="10800"/>
                </a:cubicBezTo>
                <a:cubicBezTo>
                  <a:pt x="0" y="16759"/>
                  <a:pt x="1210" y="21600"/>
                  <a:pt x="2700" y="21600"/>
                </a:cubicBezTo>
                <a:lnTo>
                  <a:pt x="18900" y="21600"/>
                </a:lnTo>
                <a:cubicBezTo>
                  <a:pt x="20390" y="21600"/>
                  <a:pt x="21600" y="16759"/>
                  <a:pt x="21600" y="10800"/>
                </a:cubicBezTo>
                <a:cubicBezTo>
                  <a:pt x="21600" y="4841"/>
                  <a:pt x="20390" y="0"/>
                  <a:pt x="189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88" name="AutoShape 145"/>
          <p:cNvSpPr/>
          <p:nvPr/>
        </p:nvSpPr>
        <p:spPr>
          <a:xfrm>
            <a:off x="5888160" y="3770280"/>
            <a:ext cx="117360" cy="28440"/>
          </a:xfrm>
          <a:custGeom>
            <a:avLst/>
            <a:gdLst/>
            <a:ahLst/>
            <a:rect l="l" t="t" r="r" b="b"/>
            <a:pathLst>
              <a:path w="21600" h="21600">
                <a:moveTo>
                  <a:pt x="18900" y="0"/>
                </a:moveTo>
                <a:lnTo>
                  <a:pt x="2700" y="0"/>
                </a:lnTo>
                <a:cubicBezTo>
                  <a:pt x="1210" y="0"/>
                  <a:pt x="0" y="4841"/>
                  <a:pt x="0" y="10800"/>
                </a:cubicBezTo>
                <a:cubicBezTo>
                  <a:pt x="0" y="16759"/>
                  <a:pt x="1210" y="21600"/>
                  <a:pt x="2700" y="21600"/>
                </a:cubicBezTo>
                <a:lnTo>
                  <a:pt x="18900" y="21600"/>
                </a:lnTo>
                <a:cubicBezTo>
                  <a:pt x="20390" y="21600"/>
                  <a:pt x="21600" y="16759"/>
                  <a:pt x="21600" y="10800"/>
                </a:cubicBezTo>
                <a:cubicBezTo>
                  <a:pt x="21600" y="4841"/>
                  <a:pt x="20390" y="0"/>
                  <a:pt x="18900"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89" name="AutoShape 146"/>
          <p:cNvSpPr/>
          <p:nvPr/>
        </p:nvSpPr>
        <p:spPr>
          <a:xfrm>
            <a:off x="5396040" y="3652920"/>
            <a:ext cx="172800" cy="122040"/>
          </a:xfrm>
          <a:custGeom>
            <a:avLst/>
            <a:gdLst/>
            <a:ahLst/>
            <a:rect l="l" t="t" r="r" b="b"/>
            <a:pathLst>
              <a:path w="21556" h="21547">
                <a:moveTo>
                  <a:pt x="19751" y="2"/>
                </a:moveTo>
                <a:lnTo>
                  <a:pt x="3200" y="1845"/>
                </a:lnTo>
                <a:cubicBezTo>
                  <a:pt x="2215" y="2011"/>
                  <a:pt x="1272" y="3285"/>
                  <a:pt x="1107" y="4677"/>
                </a:cubicBezTo>
                <a:lnTo>
                  <a:pt x="2" y="18986"/>
                </a:lnTo>
                <a:cubicBezTo>
                  <a:pt x="-44" y="20398"/>
                  <a:pt x="724" y="21547"/>
                  <a:pt x="1713" y="21547"/>
                </a:cubicBezTo>
                <a:cubicBezTo>
                  <a:pt x="2698" y="21547"/>
                  <a:pt x="3542" y="20398"/>
                  <a:pt x="3583" y="18979"/>
                </a:cubicBezTo>
                <a:lnTo>
                  <a:pt x="4185" y="9251"/>
                </a:lnTo>
                <a:cubicBezTo>
                  <a:pt x="4319" y="7849"/>
                  <a:pt x="5236" y="6593"/>
                  <a:pt x="6221" y="6447"/>
                </a:cubicBezTo>
                <a:lnTo>
                  <a:pt x="19751" y="5128"/>
                </a:lnTo>
                <a:cubicBezTo>
                  <a:pt x="20744" y="5078"/>
                  <a:pt x="21556" y="3884"/>
                  <a:pt x="21556" y="2467"/>
                </a:cubicBezTo>
                <a:cubicBezTo>
                  <a:pt x="21556" y="1055"/>
                  <a:pt x="20744" y="-53"/>
                  <a:pt x="19751" y="2"/>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90" name="AutoShape 147"/>
          <p:cNvSpPr/>
          <p:nvPr/>
        </p:nvSpPr>
        <p:spPr>
          <a:xfrm>
            <a:off x="3305160" y="3362400"/>
            <a:ext cx="928800" cy="814320"/>
          </a:xfrm>
          <a:custGeom>
            <a:avLst/>
            <a:gdLst/>
            <a:ahLst/>
            <a:rect l="l" t="t" r="r" b="b"/>
            <a:pathLst>
              <a:path w="20407" h="20712">
                <a:moveTo>
                  <a:pt x="17707" y="10923"/>
                </a:moveTo>
                <a:lnTo>
                  <a:pt x="10657" y="19017"/>
                </a:lnTo>
                <a:cubicBezTo>
                  <a:pt x="10407" y="19306"/>
                  <a:pt x="9998" y="19306"/>
                  <a:pt x="9748" y="19017"/>
                </a:cubicBezTo>
                <a:lnTo>
                  <a:pt x="2699" y="10923"/>
                </a:lnTo>
                <a:cubicBezTo>
                  <a:pt x="818" y="8762"/>
                  <a:pt x="818" y="5248"/>
                  <a:pt x="2699" y="3088"/>
                </a:cubicBezTo>
                <a:cubicBezTo>
                  <a:pt x="4513" y="1005"/>
                  <a:pt x="7429" y="932"/>
                  <a:pt x="9338" y="2923"/>
                </a:cubicBezTo>
                <a:lnTo>
                  <a:pt x="10202" y="3826"/>
                </a:lnTo>
                <a:lnTo>
                  <a:pt x="11068" y="2923"/>
                </a:lnTo>
                <a:cubicBezTo>
                  <a:pt x="12977" y="932"/>
                  <a:pt x="15894" y="1005"/>
                  <a:pt x="17707" y="3088"/>
                </a:cubicBezTo>
                <a:cubicBezTo>
                  <a:pt x="19589" y="5248"/>
                  <a:pt x="19589" y="8762"/>
                  <a:pt x="17707" y="10923"/>
                </a:cubicBezTo>
                <a:moveTo>
                  <a:pt x="18617" y="2044"/>
                </a:moveTo>
                <a:cubicBezTo>
                  <a:pt x="16302" y="-617"/>
                  <a:pt x="12601" y="-672"/>
                  <a:pt x="10202" y="1831"/>
                </a:cubicBezTo>
                <a:cubicBezTo>
                  <a:pt x="7805" y="-672"/>
                  <a:pt x="4105" y="-617"/>
                  <a:pt x="1789" y="2044"/>
                </a:cubicBezTo>
                <a:cubicBezTo>
                  <a:pt x="-597" y="4784"/>
                  <a:pt x="-597" y="9226"/>
                  <a:pt x="1789" y="11967"/>
                </a:cubicBezTo>
                <a:cubicBezTo>
                  <a:pt x="2471" y="12750"/>
                  <a:pt x="8839" y="20062"/>
                  <a:pt x="8839" y="20062"/>
                </a:cubicBezTo>
                <a:cubicBezTo>
                  <a:pt x="9593" y="20928"/>
                  <a:pt x="10813" y="20928"/>
                  <a:pt x="11567" y="20062"/>
                </a:cubicBezTo>
                <a:cubicBezTo>
                  <a:pt x="11567" y="20062"/>
                  <a:pt x="18540" y="12056"/>
                  <a:pt x="18617" y="11967"/>
                </a:cubicBezTo>
                <a:cubicBezTo>
                  <a:pt x="21003" y="9226"/>
                  <a:pt x="21003" y="4784"/>
                  <a:pt x="18617" y="2044"/>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91" name="AutoShape 148"/>
          <p:cNvSpPr/>
          <p:nvPr/>
        </p:nvSpPr>
        <p:spPr>
          <a:xfrm>
            <a:off x="3449520" y="3508200"/>
            <a:ext cx="138240" cy="138240"/>
          </a:xfrm>
          <a:custGeom>
            <a:avLst/>
            <a:gdLst/>
            <a:ahLst/>
            <a:rect l="l" t="t" r="r" b="b"/>
            <a:pathLst>
              <a:path w="21600" h="21600">
                <a:moveTo>
                  <a:pt x="19326" y="0"/>
                </a:moveTo>
                <a:cubicBezTo>
                  <a:pt x="19317" y="0"/>
                  <a:pt x="19317" y="4"/>
                  <a:pt x="19309" y="4"/>
                </a:cubicBezTo>
                <a:cubicBezTo>
                  <a:pt x="8644" y="13"/>
                  <a:pt x="0" y="8660"/>
                  <a:pt x="0" y="19326"/>
                </a:cubicBezTo>
                <a:cubicBezTo>
                  <a:pt x="0" y="20581"/>
                  <a:pt x="1019" y="21600"/>
                  <a:pt x="2274" y="21600"/>
                </a:cubicBezTo>
                <a:cubicBezTo>
                  <a:pt x="3528" y="21600"/>
                  <a:pt x="4547" y="20581"/>
                  <a:pt x="4547" y="19326"/>
                </a:cubicBezTo>
                <a:lnTo>
                  <a:pt x="4547" y="19322"/>
                </a:lnTo>
                <a:cubicBezTo>
                  <a:pt x="4547" y="11164"/>
                  <a:pt x="11164" y="4547"/>
                  <a:pt x="19322" y="4547"/>
                </a:cubicBezTo>
                <a:lnTo>
                  <a:pt x="19326" y="4547"/>
                </a:lnTo>
                <a:cubicBezTo>
                  <a:pt x="20581" y="4547"/>
                  <a:pt x="21600" y="3528"/>
                  <a:pt x="21600" y="2274"/>
                </a:cubicBezTo>
                <a:cubicBezTo>
                  <a:pt x="21600" y="1019"/>
                  <a:pt x="20581" y="0"/>
                  <a:pt x="19326" y="0"/>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92" name="AutoShape 149"/>
          <p:cNvSpPr/>
          <p:nvPr/>
        </p:nvSpPr>
        <p:spPr>
          <a:xfrm>
            <a:off x="1447920" y="3421080"/>
            <a:ext cx="928440" cy="668160"/>
          </a:xfrm>
          <a:custGeom>
            <a:avLst/>
            <a:gdLst/>
            <a:ahLst/>
            <a:rect l="l" t="t" r="r" b="b"/>
            <a:pathLst>
              <a:path w="21600" h="21600">
                <a:moveTo>
                  <a:pt x="16538" y="19721"/>
                </a:moveTo>
                <a:lnTo>
                  <a:pt x="16538" y="19722"/>
                </a:lnTo>
                <a:lnTo>
                  <a:pt x="4388" y="19722"/>
                </a:lnTo>
                <a:cubicBezTo>
                  <a:pt x="2713" y="19721"/>
                  <a:pt x="1350" y="17825"/>
                  <a:pt x="1350" y="15495"/>
                </a:cubicBezTo>
                <a:cubicBezTo>
                  <a:pt x="1350" y="13992"/>
                  <a:pt x="1919" y="12635"/>
                  <a:pt x="2872" y="11863"/>
                </a:cubicBezTo>
                <a:cubicBezTo>
                  <a:pt x="3797" y="11123"/>
                  <a:pt x="3861" y="10976"/>
                  <a:pt x="3472" y="9648"/>
                </a:cubicBezTo>
                <a:cubicBezTo>
                  <a:pt x="3407" y="9374"/>
                  <a:pt x="3375" y="9137"/>
                  <a:pt x="3375" y="8922"/>
                </a:cubicBezTo>
                <a:cubicBezTo>
                  <a:pt x="3375" y="7627"/>
                  <a:pt x="4132" y="6574"/>
                  <a:pt x="5063" y="6574"/>
                </a:cubicBezTo>
                <a:cubicBezTo>
                  <a:pt x="5063" y="6574"/>
                  <a:pt x="5505" y="6530"/>
                  <a:pt x="5976" y="6790"/>
                </a:cubicBezTo>
                <a:cubicBezTo>
                  <a:pt x="6750" y="7219"/>
                  <a:pt x="6835" y="6809"/>
                  <a:pt x="7201" y="5702"/>
                </a:cubicBezTo>
                <a:cubicBezTo>
                  <a:pt x="7974" y="3380"/>
                  <a:pt x="9652" y="1878"/>
                  <a:pt x="11475" y="1878"/>
                </a:cubicBezTo>
                <a:cubicBezTo>
                  <a:pt x="13905" y="1878"/>
                  <a:pt x="15914" y="4436"/>
                  <a:pt x="16148" y="7827"/>
                </a:cubicBezTo>
                <a:cubicBezTo>
                  <a:pt x="16232" y="9172"/>
                  <a:pt x="16232" y="9172"/>
                  <a:pt x="17239" y="9492"/>
                </a:cubicBezTo>
                <a:cubicBezTo>
                  <a:pt x="18984" y="9956"/>
                  <a:pt x="20251" y="12086"/>
                  <a:pt x="20251" y="14556"/>
                </a:cubicBezTo>
                <a:cubicBezTo>
                  <a:pt x="20251" y="17404"/>
                  <a:pt x="18585" y="19721"/>
                  <a:pt x="16538" y="19721"/>
                </a:cubicBezTo>
                <a:moveTo>
                  <a:pt x="17492" y="7647"/>
                </a:moveTo>
                <a:cubicBezTo>
                  <a:pt x="17197" y="3362"/>
                  <a:pt x="14632" y="0"/>
                  <a:pt x="11475" y="0"/>
                </a:cubicBezTo>
                <a:cubicBezTo>
                  <a:pt x="9032" y="0"/>
                  <a:pt x="6940" y="2017"/>
                  <a:pt x="5976" y="4912"/>
                </a:cubicBezTo>
                <a:cubicBezTo>
                  <a:pt x="5686" y="4784"/>
                  <a:pt x="5384" y="4696"/>
                  <a:pt x="5063" y="4696"/>
                </a:cubicBezTo>
                <a:cubicBezTo>
                  <a:pt x="3385" y="4696"/>
                  <a:pt x="2025" y="6589"/>
                  <a:pt x="2025" y="8922"/>
                </a:cubicBezTo>
                <a:cubicBezTo>
                  <a:pt x="2025" y="9386"/>
                  <a:pt x="2092" y="9824"/>
                  <a:pt x="2191" y="10241"/>
                </a:cubicBezTo>
                <a:cubicBezTo>
                  <a:pt x="886" y="11299"/>
                  <a:pt x="0" y="13243"/>
                  <a:pt x="0" y="15495"/>
                </a:cubicBezTo>
                <a:cubicBezTo>
                  <a:pt x="0" y="18866"/>
                  <a:pt x="1964" y="21599"/>
                  <a:pt x="4388" y="21599"/>
                </a:cubicBezTo>
                <a:lnTo>
                  <a:pt x="4388" y="21600"/>
                </a:lnTo>
                <a:lnTo>
                  <a:pt x="16538" y="21600"/>
                </a:lnTo>
                <a:lnTo>
                  <a:pt x="16538" y="21599"/>
                </a:lnTo>
                <a:cubicBezTo>
                  <a:pt x="19335" y="21599"/>
                  <a:pt x="21600" y="18446"/>
                  <a:pt x="21600" y="14556"/>
                </a:cubicBezTo>
                <a:cubicBezTo>
                  <a:pt x="21600" y="11121"/>
                  <a:pt x="19831" y="8269"/>
                  <a:pt x="17492" y="7647"/>
                </a:cubicBezTo>
              </a:path>
            </a:pathLst>
          </a:custGeom>
          <a:solidFill>
            <a:srgbClr val="323232"/>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93" name="Rectangle 150"/>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44</a:t>
            </a:r>
            <a:endParaRPr b="0" lang="en-US" sz="2400" spc="-1" strike="noStrike">
              <a:solidFill>
                <a:srgbClr val="000000"/>
              </a:solidFill>
              <a:latin typeface="Gill Sans"/>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2"/>
          <p:cNvSpPr/>
          <p:nvPr/>
        </p:nvSpPr>
        <p:spPr>
          <a:xfrm>
            <a:off x="1420920" y="819000"/>
            <a:ext cx="478764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Business Landscape</a:t>
            </a:r>
            <a:endParaRPr b="0" lang="en-US" sz="4000" spc="-1" strike="noStrike">
              <a:solidFill>
                <a:srgbClr val="000000"/>
              </a:solidFill>
              <a:latin typeface="Gill Sans"/>
            </a:endParaRPr>
          </a:p>
        </p:txBody>
      </p:sp>
      <p:sp>
        <p:nvSpPr>
          <p:cNvPr id="282" name="Rectangle 3"/>
          <p:cNvSpPr/>
          <p:nvPr/>
        </p:nvSpPr>
        <p:spPr>
          <a:xfrm>
            <a:off x="1225440" y="1492200"/>
            <a:ext cx="32468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We Deliver Dream</a:t>
            </a:r>
            <a:endParaRPr b="0" lang="en-US" sz="3000" spc="-1" strike="noStrike">
              <a:solidFill>
                <a:srgbClr val="000000"/>
              </a:solidFill>
              <a:latin typeface="Gill Sans"/>
            </a:endParaRPr>
          </a:p>
        </p:txBody>
      </p:sp>
      <p:sp>
        <p:nvSpPr>
          <p:cNvPr id="283" name="Rectangle 4"/>
          <p:cNvSpPr/>
          <p:nvPr/>
        </p:nvSpPr>
        <p:spPr>
          <a:xfrm>
            <a:off x="1284120" y="6978600"/>
            <a:ext cx="6591600" cy="3454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sp>
        <p:nvSpPr>
          <p:cNvPr id="284" name="Rectangle 5"/>
          <p:cNvSpPr/>
          <p:nvPr/>
        </p:nvSpPr>
        <p:spPr>
          <a:xfrm>
            <a:off x="1282680" y="2889360"/>
            <a:ext cx="6591240" cy="386064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a1919"/>
                </a:solidFill>
                <a:latin typeface="Open Sans"/>
                <a:ea typeface="ＭＳ Ｐゴシック"/>
              </a:rPr>
              <a:t>Time Moves Fast. But We Still The Most </a:t>
            </a:r>
            <a:r>
              <a:rPr b="0" lang="en-US" sz="6400" spc="-1" strike="noStrike">
                <a:solidFill>
                  <a:srgbClr val="1a1919"/>
                </a:solidFill>
                <a:latin typeface="Open Sans Semibold"/>
                <a:ea typeface="ＭＳ Ｐゴシック"/>
              </a:rPr>
              <a:t>Leading</a:t>
            </a:r>
            <a:r>
              <a:rPr b="0" lang="en-US" sz="6400" spc="-1" strike="noStrike">
                <a:solidFill>
                  <a:srgbClr val="1a1919"/>
                </a:solidFill>
                <a:latin typeface="Open Sans"/>
                <a:ea typeface="ＭＳ Ｐゴシック"/>
              </a:rPr>
              <a:t>.</a:t>
            </a:r>
            <a:endParaRPr b="0" lang="en-US" sz="6400" spc="-1" strike="noStrike">
              <a:solidFill>
                <a:srgbClr val="000000"/>
              </a:solidFill>
              <a:latin typeface="Gill Sans"/>
            </a:endParaRPr>
          </a:p>
        </p:txBody>
      </p:sp>
      <p:grpSp>
        <p:nvGrpSpPr>
          <p:cNvPr id="285" name="Group 19"/>
          <p:cNvGrpSpPr/>
          <p:nvPr/>
        </p:nvGrpSpPr>
        <p:grpSpPr>
          <a:xfrm>
            <a:off x="9690120" y="4362480"/>
            <a:ext cx="12700080" cy="6470640"/>
            <a:chOff x="9690120" y="4362480"/>
            <a:chExt cx="12700080" cy="6470640"/>
          </a:xfrm>
        </p:grpSpPr>
        <p:grpSp>
          <p:nvGrpSpPr>
            <p:cNvPr id="286" name="Group 9"/>
            <p:cNvGrpSpPr/>
            <p:nvPr/>
          </p:nvGrpSpPr>
          <p:grpSpPr>
            <a:xfrm>
              <a:off x="9690120" y="7023240"/>
              <a:ext cx="12700080" cy="1104840"/>
              <a:chOff x="9690120" y="7023240"/>
              <a:chExt cx="12700080" cy="1104840"/>
            </a:xfrm>
          </p:grpSpPr>
          <p:sp>
            <p:nvSpPr>
              <p:cNvPr id="287" name="AutoShape 6"/>
              <p:cNvSpPr/>
              <p:nvPr/>
            </p:nvSpPr>
            <p:spPr>
              <a:xfrm>
                <a:off x="17462520" y="7023240"/>
                <a:ext cx="4927680" cy="1104840"/>
              </a:xfrm>
              <a:prstGeom prst="roundRect">
                <a:avLst>
                  <a:gd name="adj" fmla="val 50000"/>
                </a:avLst>
              </a:prstGeom>
              <a:solidFill>
                <a:srgbClr val="6af2b6">
                  <a:alpha val="7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88" name="AutoShape 7"/>
              <p:cNvSpPr/>
              <p:nvPr/>
            </p:nvSpPr>
            <p:spPr>
              <a:xfrm>
                <a:off x="12242880" y="7023240"/>
                <a:ext cx="6324480" cy="1104840"/>
              </a:xfrm>
              <a:prstGeom prst="roundRect">
                <a:avLst>
                  <a:gd name="adj" fmla="val 50000"/>
                </a:avLst>
              </a:prstGeom>
              <a:solidFill>
                <a:srgbClr val="1d9d7c">
                  <a:alpha val="7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89" name="AutoShape 8"/>
              <p:cNvSpPr/>
              <p:nvPr/>
            </p:nvSpPr>
            <p:spPr>
              <a:xfrm>
                <a:off x="9690120" y="7023240"/>
                <a:ext cx="3670200" cy="1104840"/>
              </a:xfrm>
              <a:prstGeom prst="roundRect">
                <a:avLst>
                  <a:gd name="adj" fmla="val 50000"/>
                </a:avLst>
              </a:prstGeom>
              <a:solidFill>
                <a:srgbClr val="23cb9e">
                  <a:alpha val="7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290" name="AutoShape 10"/>
            <p:cNvSpPr/>
            <p:nvPr/>
          </p:nvSpPr>
          <p:spPr>
            <a:xfrm>
              <a:off x="10031400" y="5983200"/>
              <a:ext cx="2844720" cy="774720"/>
            </a:xfrm>
            <a:custGeom>
              <a:avLst/>
              <a:gdLst/>
              <a:ahLst/>
              <a:rect l="l" t="t" r="r" b="b"/>
              <a:pathLst>
                <a:path w="21600" h="21600">
                  <a:moveTo>
                    <a:pt x="0" y="21600"/>
                  </a:moveTo>
                  <a:lnTo>
                    <a:pt x="0" y="17892"/>
                  </a:lnTo>
                  <a:lnTo>
                    <a:pt x="21577" y="17855"/>
                  </a:lnTo>
                  <a:lnTo>
                    <a:pt x="21600" y="21263"/>
                  </a:lnTo>
                  <a:lnTo>
                    <a:pt x="21577" y="17855"/>
                  </a:lnTo>
                  <a:lnTo>
                    <a:pt x="10852" y="17837"/>
                  </a:lnTo>
                  <a:lnTo>
                    <a:pt x="10884" y="0"/>
                  </a:lnTo>
                </a:path>
              </a:pathLst>
            </a:custGeom>
            <a:no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91" name="AutoShape 11"/>
            <p:cNvSpPr/>
            <p:nvPr/>
          </p:nvSpPr>
          <p:spPr>
            <a:xfrm flipH="1" rot="10800000">
              <a:off x="12787920" y="8394480"/>
              <a:ext cx="5143320" cy="825480"/>
            </a:xfrm>
            <a:custGeom>
              <a:avLst/>
              <a:gdLst/>
              <a:ahLst/>
              <a:rect l="l" t="t" r="r" b="b"/>
              <a:pathLst>
                <a:path w="21600" h="21600">
                  <a:moveTo>
                    <a:pt x="0" y="21600"/>
                  </a:moveTo>
                  <a:lnTo>
                    <a:pt x="0" y="18121"/>
                  </a:lnTo>
                  <a:lnTo>
                    <a:pt x="21577" y="18085"/>
                  </a:lnTo>
                  <a:lnTo>
                    <a:pt x="21600" y="21284"/>
                  </a:lnTo>
                  <a:lnTo>
                    <a:pt x="21577" y="18085"/>
                  </a:lnTo>
                  <a:lnTo>
                    <a:pt x="10852" y="18068"/>
                  </a:lnTo>
                  <a:lnTo>
                    <a:pt x="10827" y="0"/>
                  </a:lnTo>
                </a:path>
              </a:pathLst>
            </a:custGeom>
            <a:no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92" name="AutoShape 12"/>
            <p:cNvSpPr/>
            <p:nvPr/>
          </p:nvSpPr>
          <p:spPr>
            <a:xfrm>
              <a:off x="17957880" y="5981760"/>
              <a:ext cx="4140000" cy="774720"/>
            </a:xfrm>
            <a:custGeom>
              <a:avLst/>
              <a:gdLst/>
              <a:ahLst/>
              <a:rect l="l" t="t" r="r" b="b"/>
              <a:pathLst>
                <a:path w="21600" h="21600">
                  <a:moveTo>
                    <a:pt x="0" y="21600"/>
                  </a:moveTo>
                  <a:lnTo>
                    <a:pt x="0" y="17892"/>
                  </a:lnTo>
                  <a:lnTo>
                    <a:pt x="21577" y="17855"/>
                  </a:lnTo>
                  <a:lnTo>
                    <a:pt x="21600" y="21263"/>
                  </a:lnTo>
                  <a:lnTo>
                    <a:pt x="21577" y="17855"/>
                  </a:lnTo>
                  <a:lnTo>
                    <a:pt x="10852" y="17837"/>
                  </a:lnTo>
                  <a:lnTo>
                    <a:pt x="10884" y="0"/>
                  </a:lnTo>
                </a:path>
              </a:pathLst>
            </a:custGeom>
            <a:no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93" name="Rectangle 13"/>
            <p:cNvSpPr/>
            <p:nvPr/>
          </p:nvSpPr>
          <p:spPr>
            <a:xfrm>
              <a:off x="11059200" y="7373880"/>
              <a:ext cx="805320" cy="39024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fe"/>
                  </a:solidFill>
                  <a:latin typeface="Open Sans Semibold"/>
                  <a:ea typeface="ＭＳ Ｐゴシック"/>
                </a:rPr>
                <a:t>21%</a:t>
              </a:r>
              <a:endParaRPr b="0" lang="en-US" sz="3200" spc="-1" strike="noStrike">
                <a:solidFill>
                  <a:srgbClr val="000000"/>
                </a:solidFill>
                <a:latin typeface="Gill Sans"/>
              </a:endParaRPr>
            </a:p>
          </p:txBody>
        </p:sp>
        <p:sp>
          <p:nvSpPr>
            <p:cNvPr id="294" name="Rectangle 14"/>
            <p:cNvSpPr/>
            <p:nvPr/>
          </p:nvSpPr>
          <p:spPr>
            <a:xfrm>
              <a:off x="14958000" y="7380360"/>
              <a:ext cx="805320" cy="39024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fe"/>
                  </a:solidFill>
                  <a:latin typeface="Open Sans Semibold"/>
                  <a:ea typeface="ＭＳ Ｐゴシック"/>
                </a:rPr>
                <a:t>40%</a:t>
              </a:r>
              <a:endParaRPr b="0" lang="en-US" sz="3200" spc="-1" strike="noStrike">
                <a:solidFill>
                  <a:srgbClr val="000000"/>
                </a:solidFill>
                <a:latin typeface="Gill Sans"/>
              </a:endParaRPr>
            </a:p>
          </p:txBody>
        </p:sp>
        <p:sp>
          <p:nvSpPr>
            <p:cNvPr id="295" name="Rectangle 15"/>
            <p:cNvSpPr/>
            <p:nvPr/>
          </p:nvSpPr>
          <p:spPr>
            <a:xfrm>
              <a:off x="19746000" y="7380360"/>
              <a:ext cx="805320" cy="39024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fe"/>
                  </a:solidFill>
                  <a:latin typeface="Open Sans Semibold"/>
                  <a:ea typeface="ＭＳ Ｐゴシック"/>
                </a:rPr>
                <a:t>39%</a:t>
              </a:r>
              <a:endParaRPr b="0" lang="en-US" sz="3200" spc="-1" strike="noStrike">
                <a:solidFill>
                  <a:srgbClr val="000000"/>
                </a:solidFill>
                <a:latin typeface="Gill Sans"/>
              </a:endParaRPr>
            </a:p>
          </p:txBody>
        </p:sp>
        <p:sp>
          <p:nvSpPr>
            <p:cNvPr id="296" name="Rectangle 16"/>
            <p:cNvSpPr/>
            <p:nvPr/>
          </p:nvSpPr>
          <p:spPr>
            <a:xfrm>
              <a:off x="10109160" y="4362480"/>
              <a:ext cx="2870280" cy="1359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a:t>
              </a:r>
              <a:endParaRPr b="0" lang="en-US" sz="2400" spc="-1" strike="noStrike">
                <a:solidFill>
                  <a:srgbClr val="000000"/>
                </a:solidFill>
                <a:latin typeface="Gill Sans"/>
              </a:endParaRPr>
            </a:p>
          </p:txBody>
        </p:sp>
        <p:sp>
          <p:nvSpPr>
            <p:cNvPr id="297" name="Rectangle 17"/>
            <p:cNvSpPr/>
            <p:nvPr/>
          </p:nvSpPr>
          <p:spPr>
            <a:xfrm>
              <a:off x="13932000" y="9474120"/>
              <a:ext cx="2870280" cy="1359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a:t>
              </a:r>
              <a:endParaRPr b="0" lang="en-US" sz="2400" spc="-1" strike="noStrike">
                <a:solidFill>
                  <a:srgbClr val="000000"/>
                </a:solidFill>
                <a:latin typeface="Gill Sans"/>
              </a:endParaRPr>
            </a:p>
          </p:txBody>
        </p:sp>
        <p:sp>
          <p:nvSpPr>
            <p:cNvPr id="298" name="Rectangle 18"/>
            <p:cNvSpPr/>
            <p:nvPr/>
          </p:nvSpPr>
          <p:spPr>
            <a:xfrm>
              <a:off x="18681840" y="4368960"/>
              <a:ext cx="2869920" cy="1358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a:t>
              </a:r>
              <a:endParaRPr b="0" lang="en-US" sz="2400" spc="-1" strike="noStrike">
                <a:solidFill>
                  <a:srgbClr val="000000"/>
                </a:solidFill>
                <a:latin typeface="Gill Sans"/>
              </a:endParaRPr>
            </a:p>
          </p:txBody>
        </p:sp>
      </p:grpSp>
      <p:sp>
        <p:nvSpPr>
          <p:cNvPr id="299" name="Rectangle 20"/>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05</a:t>
            </a:r>
            <a:endParaRPr b="0" lang="en-US" sz="2400" spc="-1" strike="noStrike">
              <a:solidFill>
                <a:srgbClr val="000000"/>
              </a:solidFill>
              <a:latin typeface="Gill Sans"/>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1420920" y="819000"/>
            <a:ext cx="478764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Business Landscape</a:t>
            </a:r>
            <a:endParaRPr b="0" lang="en-US" sz="4000" spc="-1" strike="noStrike">
              <a:solidFill>
                <a:srgbClr val="000000"/>
              </a:solidFill>
              <a:latin typeface="Gill Sans"/>
            </a:endParaRPr>
          </a:p>
        </p:txBody>
      </p:sp>
      <p:sp>
        <p:nvSpPr>
          <p:cNvPr id="301" name="Rectangle 3"/>
          <p:cNvSpPr/>
          <p:nvPr/>
        </p:nvSpPr>
        <p:spPr>
          <a:xfrm>
            <a:off x="1225440" y="1492200"/>
            <a:ext cx="32468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We Deliver Dream</a:t>
            </a:r>
            <a:endParaRPr b="0" lang="en-US" sz="3000" spc="-1" strike="noStrike">
              <a:solidFill>
                <a:srgbClr val="000000"/>
              </a:solidFill>
              <a:latin typeface="Gill Sans"/>
            </a:endParaRPr>
          </a:p>
        </p:txBody>
      </p:sp>
      <p:sp>
        <p:nvSpPr>
          <p:cNvPr id="302" name="AutoShape 4"/>
          <p:cNvSpPr/>
          <p:nvPr/>
        </p:nvSpPr>
        <p:spPr>
          <a:xfrm>
            <a:off x="2665440" y="5983200"/>
            <a:ext cx="2844720" cy="774720"/>
          </a:xfrm>
          <a:custGeom>
            <a:avLst/>
            <a:gdLst/>
            <a:ahLst/>
            <a:rect l="l" t="t" r="r" b="b"/>
            <a:pathLst>
              <a:path w="21600" h="21600">
                <a:moveTo>
                  <a:pt x="0" y="21600"/>
                </a:moveTo>
                <a:lnTo>
                  <a:pt x="0" y="17892"/>
                </a:lnTo>
                <a:lnTo>
                  <a:pt x="21577" y="17855"/>
                </a:lnTo>
                <a:lnTo>
                  <a:pt x="21600" y="21263"/>
                </a:lnTo>
                <a:lnTo>
                  <a:pt x="21577" y="17855"/>
                </a:lnTo>
                <a:lnTo>
                  <a:pt x="10852" y="17837"/>
                </a:lnTo>
                <a:lnTo>
                  <a:pt x="10884" y="0"/>
                </a:lnTo>
              </a:path>
            </a:pathLst>
          </a:custGeom>
          <a:no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03" name="AutoShape 5"/>
          <p:cNvSpPr/>
          <p:nvPr/>
        </p:nvSpPr>
        <p:spPr>
          <a:xfrm flipH="1" rot="10800000">
            <a:off x="7263360" y="8394480"/>
            <a:ext cx="7289640" cy="825480"/>
          </a:xfrm>
          <a:custGeom>
            <a:avLst/>
            <a:gdLst/>
            <a:ahLst/>
            <a:rect l="l" t="t" r="r" b="b"/>
            <a:pathLst>
              <a:path w="21600" h="21600">
                <a:moveTo>
                  <a:pt x="0" y="21600"/>
                </a:moveTo>
                <a:lnTo>
                  <a:pt x="0" y="18121"/>
                </a:lnTo>
                <a:lnTo>
                  <a:pt x="21577" y="18085"/>
                </a:lnTo>
                <a:lnTo>
                  <a:pt x="21600" y="21284"/>
                </a:lnTo>
                <a:lnTo>
                  <a:pt x="21577" y="18085"/>
                </a:lnTo>
                <a:lnTo>
                  <a:pt x="10852" y="18068"/>
                </a:lnTo>
                <a:lnTo>
                  <a:pt x="10827" y="0"/>
                </a:lnTo>
              </a:path>
            </a:pathLst>
          </a:custGeom>
          <a:no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nvGrpSpPr>
          <p:cNvPr id="304" name="Group 9"/>
          <p:cNvGrpSpPr/>
          <p:nvPr/>
        </p:nvGrpSpPr>
        <p:grpSpPr>
          <a:xfrm>
            <a:off x="1359000" y="7023240"/>
            <a:ext cx="21029040" cy="1104840"/>
            <a:chOff x="1359000" y="7023240"/>
            <a:chExt cx="21029040" cy="1104840"/>
          </a:xfrm>
        </p:grpSpPr>
        <p:sp>
          <p:nvSpPr>
            <p:cNvPr id="305" name="AutoShape 6"/>
            <p:cNvSpPr/>
            <p:nvPr/>
          </p:nvSpPr>
          <p:spPr>
            <a:xfrm>
              <a:off x="14228640" y="7023240"/>
              <a:ext cx="8159400" cy="1104840"/>
            </a:xfrm>
            <a:prstGeom prst="roundRect">
              <a:avLst>
                <a:gd name="adj" fmla="val 50000"/>
              </a:avLst>
            </a:prstGeom>
            <a:solidFill>
              <a:srgbClr val="6af2b6">
                <a:alpha val="7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06" name="AutoShape 7"/>
            <p:cNvSpPr/>
            <p:nvPr/>
          </p:nvSpPr>
          <p:spPr>
            <a:xfrm>
              <a:off x="5584680" y="7023240"/>
              <a:ext cx="10473840" cy="1104840"/>
            </a:xfrm>
            <a:prstGeom prst="roundRect">
              <a:avLst>
                <a:gd name="adj" fmla="val 50000"/>
              </a:avLst>
            </a:prstGeom>
            <a:solidFill>
              <a:srgbClr val="1d9d7c">
                <a:alpha val="7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07" name="AutoShape 8"/>
            <p:cNvSpPr/>
            <p:nvPr/>
          </p:nvSpPr>
          <p:spPr>
            <a:xfrm>
              <a:off x="1359000" y="7023240"/>
              <a:ext cx="6076440" cy="1104840"/>
            </a:xfrm>
            <a:prstGeom prst="roundRect">
              <a:avLst>
                <a:gd name="adj" fmla="val 50000"/>
              </a:avLst>
            </a:prstGeom>
            <a:solidFill>
              <a:srgbClr val="23cb9e">
                <a:alpha val="7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308" name="Rectangle 10"/>
          <p:cNvSpPr/>
          <p:nvPr/>
        </p:nvSpPr>
        <p:spPr>
          <a:xfrm>
            <a:off x="3524400" y="7245360"/>
            <a:ext cx="1538280" cy="64764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fe"/>
                </a:solidFill>
                <a:latin typeface="Open Sans Semibold"/>
                <a:ea typeface="ＭＳ Ｐゴシック"/>
              </a:rPr>
              <a:t>21%</a:t>
            </a:r>
            <a:endParaRPr b="0" lang="en-US" sz="3200" spc="-1" strike="noStrike">
              <a:solidFill>
                <a:srgbClr val="000000"/>
              </a:solidFill>
              <a:latin typeface="Gill Sans"/>
            </a:endParaRPr>
          </a:p>
        </p:txBody>
      </p:sp>
      <p:sp>
        <p:nvSpPr>
          <p:cNvPr id="309" name="Rectangle 11"/>
          <p:cNvSpPr/>
          <p:nvPr/>
        </p:nvSpPr>
        <p:spPr>
          <a:xfrm>
            <a:off x="9980640" y="7251840"/>
            <a:ext cx="1538280" cy="64764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fe"/>
                </a:solidFill>
                <a:latin typeface="Open Sans Semibold"/>
                <a:ea typeface="ＭＳ Ｐゴシック"/>
              </a:rPr>
              <a:t>40%</a:t>
            </a:r>
            <a:endParaRPr b="0" lang="en-US" sz="3200" spc="-1" strike="noStrike">
              <a:solidFill>
                <a:srgbClr val="000000"/>
              </a:solidFill>
              <a:latin typeface="Gill Sans"/>
            </a:endParaRPr>
          </a:p>
        </p:txBody>
      </p:sp>
      <p:sp>
        <p:nvSpPr>
          <p:cNvPr id="310" name="Rectangle 12"/>
          <p:cNvSpPr/>
          <p:nvPr/>
        </p:nvSpPr>
        <p:spPr>
          <a:xfrm>
            <a:off x="17910000" y="7251840"/>
            <a:ext cx="1536840" cy="64764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efe"/>
                </a:solidFill>
                <a:latin typeface="Open Sans Semibold"/>
                <a:ea typeface="ＭＳ Ｐゴシック"/>
              </a:rPr>
              <a:t>39%</a:t>
            </a:r>
            <a:endParaRPr b="0" lang="en-US" sz="3200" spc="-1" strike="noStrike">
              <a:solidFill>
                <a:srgbClr val="000000"/>
              </a:solidFill>
              <a:latin typeface="Gill Sans"/>
            </a:endParaRPr>
          </a:p>
        </p:txBody>
      </p:sp>
      <p:sp>
        <p:nvSpPr>
          <p:cNvPr id="311" name="Rectangle 13"/>
          <p:cNvSpPr/>
          <p:nvPr/>
        </p:nvSpPr>
        <p:spPr>
          <a:xfrm>
            <a:off x="2743200" y="4362480"/>
            <a:ext cx="2870280" cy="1359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Nullam id dolor id nibh ultricies.</a:t>
            </a:r>
            <a:endParaRPr b="0" lang="en-US" sz="2400" spc="-1" strike="noStrike">
              <a:solidFill>
                <a:srgbClr val="000000"/>
              </a:solidFill>
              <a:latin typeface="Gill Sans"/>
            </a:endParaRPr>
          </a:p>
        </p:txBody>
      </p:sp>
      <p:sp>
        <p:nvSpPr>
          <p:cNvPr id="312" name="Rectangle 14"/>
          <p:cNvSpPr/>
          <p:nvPr/>
        </p:nvSpPr>
        <p:spPr>
          <a:xfrm>
            <a:off x="5803920" y="4368960"/>
            <a:ext cx="5156280" cy="1358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Description here Nullam id dolor id nibh ultricies. 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a:t>
            </a:r>
            <a:endParaRPr b="0" lang="en-US" sz="2400" spc="-1" strike="noStrike">
              <a:solidFill>
                <a:srgbClr val="000000"/>
              </a:solidFill>
              <a:latin typeface="Gill Sans"/>
            </a:endParaRPr>
          </a:p>
        </p:txBody>
      </p:sp>
      <p:sp>
        <p:nvSpPr>
          <p:cNvPr id="313" name="Rectangle 15"/>
          <p:cNvSpPr/>
          <p:nvPr/>
        </p:nvSpPr>
        <p:spPr>
          <a:xfrm>
            <a:off x="7277040" y="9474120"/>
            <a:ext cx="2870280" cy="1359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Nullam id dolor id nibh ultricies.</a:t>
            </a:r>
            <a:endParaRPr b="0" lang="en-US" sz="2400" spc="-1" strike="noStrike">
              <a:solidFill>
                <a:srgbClr val="000000"/>
              </a:solidFill>
              <a:latin typeface="Gill Sans"/>
            </a:endParaRPr>
          </a:p>
        </p:txBody>
      </p:sp>
      <p:sp>
        <p:nvSpPr>
          <p:cNvPr id="314" name="Rectangle 16"/>
          <p:cNvSpPr/>
          <p:nvPr/>
        </p:nvSpPr>
        <p:spPr>
          <a:xfrm>
            <a:off x="10312560" y="9474120"/>
            <a:ext cx="5155920" cy="1359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Description here Nullam id dolor id nibh ultricies. 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a:t>
            </a:r>
            <a:endParaRPr b="0" lang="en-US" sz="2400" spc="-1" strike="noStrike">
              <a:solidFill>
                <a:srgbClr val="000000"/>
              </a:solidFill>
              <a:latin typeface="Gill Sans"/>
            </a:endParaRPr>
          </a:p>
        </p:txBody>
      </p:sp>
      <p:sp>
        <p:nvSpPr>
          <p:cNvPr id="315" name="AutoShape 17"/>
          <p:cNvSpPr/>
          <p:nvPr/>
        </p:nvSpPr>
        <p:spPr>
          <a:xfrm>
            <a:off x="15328800" y="6070680"/>
            <a:ext cx="6693120" cy="774720"/>
          </a:xfrm>
          <a:custGeom>
            <a:avLst/>
            <a:gdLst/>
            <a:ahLst/>
            <a:rect l="l" t="t" r="r" b="b"/>
            <a:pathLst>
              <a:path w="21600" h="21600">
                <a:moveTo>
                  <a:pt x="0" y="21600"/>
                </a:moveTo>
                <a:lnTo>
                  <a:pt x="0" y="17892"/>
                </a:lnTo>
                <a:lnTo>
                  <a:pt x="21577" y="17855"/>
                </a:lnTo>
                <a:lnTo>
                  <a:pt x="21600" y="21263"/>
                </a:lnTo>
                <a:lnTo>
                  <a:pt x="21577" y="17855"/>
                </a:lnTo>
                <a:lnTo>
                  <a:pt x="10852" y="17837"/>
                </a:lnTo>
                <a:lnTo>
                  <a:pt x="10884" y="0"/>
                </a:lnTo>
              </a:path>
            </a:pathLst>
          </a:custGeom>
          <a:noFill/>
          <a:ln w="255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16" name="Rectangle 18"/>
          <p:cNvSpPr/>
          <p:nvPr/>
        </p:nvSpPr>
        <p:spPr>
          <a:xfrm>
            <a:off x="14567040" y="4457880"/>
            <a:ext cx="2869920" cy="1358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Nullam id dolor id nibh ultricies.</a:t>
            </a:r>
            <a:endParaRPr b="0" lang="en-US" sz="2400" spc="-1" strike="noStrike">
              <a:solidFill>
                <a:srgbClr val="000000"/>
              </a:solidFill>
              <a:latin typeface="Gill Sans"/>
            </a:endParaRPr>
          </a:p>
        </p:txBody>
      </p:sp>
      <p:sp>
        <p:nvSpPr>
          <p:cNvPr id="317" name="Rectangle 19"/>
          <p:cNvSpPr/>
          <p:nvPr/>
        </p:nvSpPr>
        <p:spPr>
          <a:xfrm>
            <a:off x="17627760" y="4457880"/>
            <a:ext cx="5155920" cy="1358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Description here Nullam id dolor id nibh ultricies. 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Nullam id dolor id nibh ultricies.</a:t>
            </a:r>
            <a:endParaRPr b="0" lang="en-US" sz="2400" spc="-1" strike="noStrike">
              <a:solidFill>
                <a:srgbClr val="000000"/>
              </a:solidFill>
              <a:latin typeface="Gill Sans"/>
            </a:endParaRPr>
          </a:p>
        </p:txBody>
      </p:sp>
      <p:sp>
        <p:nvSpPr>
          <p:cNvPr id="318" name="Rectangle 20"/>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06</a:t>
            </a:r>
            <a:endParaRPr b="0" lang="en-US" sz="2400" spc="-1" strike="noStrike">
              <a:solidFill>
                <a:srgbClr val="000000"/>
              </a:solidFill>
              <a:latin typeface="Gill Sans"/>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9" name="Group 10"/>
          <p:cNvGrpSpPr/>
          <p:nvPr/>
        </p:nvGrpSpPr>
        <p:grpSpPr>
          <a:xfrm>
            <a:off x="3110040" y="3782880"/>
            <a:ext cx="4242600" cy="7856280"/>
            <a:chOff x="3110040" y="3782880"/>
            <a:chExt cx="4242600" cy="7856280"/>
          </a:xfrm>
        </p:grpSpPr>
        <p:grpSp>
          <p:nvGrpSpPr>
            <p:cNvPr id="320" name="Group 5"/>
            <p:cNvGrpSpPr/>
            <p:nvPr/>
          </p:nvGrpSpPr>
          <p:grpSpPr>
            <a:xfrm>
              <a:off x="3110040" y="3782880"/>
              <a:ext cx="4242600" cy="4242240"/>
              <a:chOff x="3110040" y="3782880"/>
              <a:chExt cx="4242600" cy="4242240"/>
            </a:xfrm>
          </p:grpSpPr>
          <p:sp>
            <p:nvSpPr>
              <p:cNvPr id="321" name="Oval 1"/>
              <p:cNvSpPr/>
              <p:nvPr/>
            </p:nvSpPr>
            <p:spPr>
              <a:xfrm>
                <a:off x="3110040" y="3782880"/>
                <a:ext cx="4242600" cy="4242240"/>
              </a:xfrm>
              <a:prstGeom prst="ellipse">
                <a:avLst/>
              </a:prstGeom>
              <a:gradFill rotWithShape="0">
                <a:gsLst>
                  <a:gs pos="0">
                    <a:srgbClr val="23cb9e"/>
                  </a:gs>
                  <a:gs pos="100000">
                    <a:srgbClr val="1d9d7c"/>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22" name="Oval 2"/>
              <p:cNvSpPr/>
              <p:nvPr/>
            </p:nvSpPr>
            <p:spPr>
              <a:xfrm>
                <a:off x="3189240" y="3875040"/>
                <a:ext cx="4069800" cy="4069080"/>
              </a:xfrm>
              <a:prstGeom prst="ellipse">
                <a:avLst/>
              </a:prstGeom>
              <a:solidFill>
                <a:srgbClr val="f7f7f7"/>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23" name="Oval 3"/>
              <p:cNvSpPr/>
              <p:nvPr/>
            </p:nvSpPr>
            <p:spPr>
              <a:xfrm>
                <a:off x="3449880" y="4122720"/>
                <a:ext cx="3561480" cy="3562560"/>
              </a:xfrm>
              <a:prstGeom prst="ellipse">
                <a:avLst/>
              </a:prstGeom>
              <a:solidFill>
                <a:srgbClr val="e6e5e5"/>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324" name="Rectangle 6"/>
            <p:cNvSpPr/>
            <p:nvPr/>
          </p:nvSpPr>
          <p:spPr>
            <a:xfrm>
              <a:off x="4163400" y="8276760"/>
              <a:ext cx="218304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919"/>
                  </a:solidFill>
                  <a:latin typeface="Open Sans Bold"/>
                  <a:ea typeface="ＭＳ Ｐゴシック"/>
                </a:rPr>
                <a:t>John</a:t>
              </a:r>
              <a:r>
                <a:rPr b="0" lang="en-US" sz="3200" spc="-1" strike="noStrike">
                  <a:solidFill>
                    <a:srgbClr val="1a1919"/>
                  </a:solidFill>
                  <a:latin typeface="Open Sans Light"/>
                  <a:ea typeface="ＭＳ Ｐゴシック"/>
                </a:rPr>
                <a:t> Alexis </a:t>
              </a:r>
              <a:endParaRPr b="0" lang="en-US" sz="3200" spc="-1" strike="noStrike">
                <a:solidFill>
                  <a:srgbClr val="000000"/>
                </a:solidFill>
                <a:latin typeface="Gill Sans"/>
              </a:endParaRPr>
            </a:p>
          </p:txBody>
        </p:sp>
        <p:sp>
          <p:nvSpPr>
            <p:cNvPr id="325" name="Line 7"/>
            <p:cNvSpPr/>
            <p:nvPr/>
          </p:nvSpPr>
          <p:spPr>
            <a:xfrm>
              <a:off x="3275280" y="9854640"/>
              <a:ext cx="3949200" cy="0"/>
            </a:xfrm>
            <a:prstGeom prst="line">
              <a:avLst/>
            </a:prstGeom>
            <a:ln w="12600">
              <a:solidFill>
                <a:srgbClr val="cdcc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26" name="Rectangle 8"/>
            <p:cNvSpPr/>
            <p:nvPr/>
          </p:nvSpPr>
          <p:spPr>
            <a:xfrm>
              <a:off x="3200400" y="9860760"/>
              <a:ext cx="4103280" cy="1778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He is lorem ipsum dolor sit amet. He've been lorem ipsum with many ipsum constecture</a:t>
              </a:r>
              <a:endParaRPr b="0" lang="en-US" sz="2400" spc="-1" strike="noStrike">
                <a:solidFill>
                  <a:srgbClr val="000000"/>
                </a:solidFill>
                <a:latin typeface="Gill Sans"/>
              </a:endParaRPr>
            </a:p>
          </p:txBody>
        </p:sp>
        <p:sp>
          <p:nvSpPr>
            <p:cNvPr id="327" name="AutoShape 9"/>
            <p:cNvSpPr/>
            <p:nvPr/>
          </p:nvSpPr>
          <p:spPr>
            <a:xfrm>
              <a:off x="4634280" y="8940240"/>
              <a:ext cx="1245240" cy="622080"/>
            </a:xfrm>
            <a:prstGeom prst="roundRect">
              <a:avLst>
                <a:gd name="adj" fmla="val 14282"/>
              </a:avLst>
            </a:prstGeom>
            <a:noFill/>
            <a:ln w="25560">
              <a:solidFill>
                <a:srgbClr val="23cb9e"/>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cb9e"/>
                  </a:solidFill>
                  <a:latin typeface="Source Sans Pro"/>
                  <a:ea typeface="ＭＳ Ｐゴシック"/>
                </a:rPr>
                <a:t>CEO</a:t>
              </a:r>
              <a:endParaRPr b="0" lang="en-US" sz="2400" spc="-1" strike="noStrike">
                <a:solidFill>
                  <a:srgbClr val="000000"/>
                </a:solidFill>
                <a:latin typeface="Gill Sans"/>
              </a:endParaRPr>
            </a:p>
          </p:txBody>
        </p:sp>
      </p:grpSp>
      <p:sp>
        <p:nvSpPr>
          <p:cNvPr id="328" name="Rectangle 11"/>
          <p:cNvSpPr/>
          <p:nvPr/>
        </p:nvSpPr>
        <p:spPr>
          <a:xfrm>
            <a:off x="10945800" y="8283960"/>
            <a:ext cx="24937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919"/>
                </a:solidFill>
                <a:latin typeface="Open Sans Bold"/>
                <a:ea typeface="ＭＳ Ｐゴシック"/>
              </a:rPr>
              <a:t>Mikha</a:t>
            </a:r>
            <a:r>
              <a:rPr b="0" lang="en-US" sz="3200" spc="-1" strike="noStrike">
                <a:solidFill>
                  <a:srgbClr val="1a1919"/>
                </a:solidFill>
                <a:latin typeface="Open Sans Light"/>
                <a:ea typeface="ＭＳ Ｐゴシック"/>
              </a:rPr>
              <a:t> Alexis </a:t>
            </a:r>
            <a:endParaRPr b="0" lang="en-US" sz="3200" spc="-1" strike="noStrike">
              <a:solidFill>
                <a:srgbClr val="000000"/>
              </a:solidFill>
              <a:latin typeface="Gill Sans"/>
            </a:endParaRPr>
          </a:p>
        </p:txBody>
      </p:sp>
      <p:sp>
        <p:nvSpPr>
          <p:cNvPr id="329" name="Line 12"/>
          <p:cNvSpPr/>
          <p:nvPr/>
        </p:nvSpPr>
        <p:spPr>
          <a:xfrm>
            <a:off x="10210680" y="9855360"/>
            <a:ext cx="3948120" cy="0"/>
          </a:xfrm>
          <a:prstGeom prst="line">
            <a:avLst/>
          </a:prstGeom>
          <a:ln w="12600">
            <a:solidFill>
              <a:srgbClr val="cdcc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30" name="Rectangle 13"/>
          <p:cNvSpPr/>
          <p:nvPr/>
        </p:nvSpPr>
        <p:spPr>
          <a:xfrm>
            <a:off x="10134720" y="9867960"/>
            <a:ext cx="4101840" cy="1778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He is lorem ipsum dolor sit amet. He've been lorem ipsum with many ipsum constecture</a:t>
            </a:r>
            <a:endParaRPr b="0" lang="en-US" sz="2400" spc="-1" strike="noStrike">
              <a:solidFill>
                <a:srgbClr val="000000"/>
              </a:solidFill>
              <a:latin typeface="Gill Sans"/>
            </a:endParaRPr>
          </a:p>
        </p:txBody>
      </p:sp>
      <p:sp>
        <p:nvSpPr>
          <p:cNvPr id="331" name="AutoShape 14"/>
          <p:cNvSpPr/>
          <p:nvPr/>
        </p:nvSpPr>
        <p:spPr>
          <a:xfrm>
            <a:off x="11569680" y="8940960"/>
            <a:ext cx="1244520" cy="622080"/>
          </a:xfrm>
          <a:prstGeom prst="roundRect">
            <a:avLst>
              <a:gd name="adj" fmla="val 14282"/>
            </a:avLst>
          </a:prstGeom>
          <a:noFill/>
          <a:ln w="25560">
            <a:solidFill>
              <a:srgbClr val="23cb9e"/>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cb9e"/>
                </a:solidFill>
                <a:latin typeface="Source Sans Pro"/>
                <a:ea typeface="ＭＳ Ｐゴシック"/>
              </a:rPr>
              <a:t>CTO</a:t>
            </a:r>
            <a:endParaRPr b="0" lang="en-US" sz="2400" spc="-1" strike="noStrike">
              <a:solidFill>
                <a:srgbClr val="000000"/>
              </a:solidFill>
              <a:latin typeface="Gill Sans"/>
            </a:endParaRPr>
          </a:p>
        </p:txBody>
      </p:sp>
      <p:grpSp>
        <p:nvGrpSpPr>
          <p:cNvPr id="332" name="Group 19"/>
          <p:cNvGrpSpPr/>
          <p:nvPr/>
        </p:nvGrpSpPr>
        <p:grpSpPr>
          <a:xfrm>
            <a:off x="10147320" y="3782880"/>
            <a:ext cx="4241880" cy="4243320"/>
            <a:chOff x="10147320" y="3782880"/>
            <a:chExt cx="4241880" cy="4243320"/>
          </a:xfrm>
        </p:grpSpPr>
        <p:sp>
          <p:nvSpPr>
            <p:cNvPr id="333" name="Oval 15"/>
            <p:cNvSpPr/>
            <p:nvPr/>
          </p:nvSpPr>
          <p:spPr>
            <a:xfrm>
              <a:off x="10147320" y="3782880"/>
              <a:ext cx="4241880" cy="4243320"/>
            </a:xfrm>
            <a:prstGeom prst="ellipse">
              <a:avLst/>
            </a:prstGeom>
            <a:gradFill rotWithShape="0">
              <a:gsLst>
                <a:gs pos="0">
                  <a:srgbClr val="23cb9e"/>
                </a:gs>
                <a:gs pos="100000">
                  <a:srgbClr val="1d9d7c"/>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34" name="Oval 16"/>
            <p:cNvSpPr/>
            <p:nvPr/>
          </p:nvSpPr>
          <p:spPr>
            <a:xfrm>
              <a:off x="10226520" y="3875040"/>
              <a:ext cx="4069080" cy="4070160"/>
            </a:xfrm>
            <a:prstGeom prst="ellipse">
              <a:avLst/>
            </a:prstGeom>
            <a:solidFill>
              <a:srgbClr val="f7f7f7"/>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35" name="Oval 17"/>
            <p:cNvSpPr/>
            <p:nvPr/>
          </p:nvSpPr>
          <p:spPr>
            <a:xfrm>
              <a:off x="10487160" y="4122720"/>
              <a:ext cx="3560760" cy="3562200"/>
            </a:xfrm>
            <a:prstGeom prst="ellipse">
              <a:avLst/>
            </a:prstGeom>
            <a:solidFill>
              <a:srgbClr val="e6e5e5"/>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336" name="Rectangle 20"/>
          <p:cNvSpPr/>
          <p:nvPr/>
        </p:nvSpPr>
        <p:spPr>
          <a:xfrm>
            <a:off x="17908200" y="8283960"/>
            <a:ext cx="243288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919"/>
                </a:solidFill>
                <a:latin typeface="Open Sans Bold"/>
                <a:ea typeface="ＭＳ Ｐゴシック"/>
              </a:rPr>
              <a:t>Diana</a:t>
            </a:r>
            <a:r>
              <a:rPr b="0" lang="en-US" sz="3200" spc="-1" strike="noStrike">
                <a:solidFill>
                  <a:srgbClr val="1a1919"/>
                </a:solidFill>
                <a:latin typeface="Open Sans Light"/>
                <a:ea typeface="ＭＳ Ｐゴシック"/>
              </a:rPr>
              <a:t> Alexis </a:t>
            </a:r>
            <a:endParaRPr b="0" lang="en-US" sz="3200" spc="-1" strike="noStrike">
              <a:solidFill>
                <a:srgbClr val="000000"/>
              </a:solidFill>
              <a:latin typeface="Gill Sans"/>
            </a:endParaRPr>
          </a:p>
        </p:txBody>
      </p:sp>
      <p:sp>
        <p:nvSpPr>
          <p:cNvPr id="337" name="Line 21"/>
          <p:cNvSpPr/>
          <p:nvPr/>
        </p:nvSpPr>
        <p:spPr>
          <a:xfrm>
            <a:off x="17145000" y="9855360"/>
            <a:ext cx="3948120" cy="0"/>
          </a:xfrm>
          <a:prstGeom prst="line">
            <a:avLst/>
          </a:prstGeom>
          <a:ln w="12600">
            <a:solidFill>
              <a:srgbClr val="cdcc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38" name="Rectangle 22"/>
          <p:cNvSpPr/>
          <p:nvPr/>
        </p:nvSpPr>
        <p:spPr>
          <a:xfrm>
            <a:off x="17068680" y="9867960"/>
            <a:ext cx="4102200" cy="1778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He is lorem ipsum dolor sit amet. He've been lorem ipsum with many ipsum constecture</a:t>
            </a:r>
            <a:endParaRPr b="0" lang="en-US" sz="2400" spc="-1" strike="noStrike">
              <a:solidFill>
                <a:srgbClr val="000000"/>
              </a:solidFill>
              <a:latin typeface="Gill Sans"/>
            </a:endParaRPr>
          </a:p>
        </p:txBody>
      </p:sp>
      <p:sp>
        <p:nvSpPr>
          <p:cNvPr id="339" name="AutoShape 23"/>
          <p:cNvSpPr/>
          <p:nvPr/>
        </p:nvSpPr>
        <p:spPr>
          <a:xfrm>
            <a:off x="17932320" y="8940960"/>
            <a:ext cx="2349720" cy="622080"/>
          </a:xfrm>
          <a:prstGeom prst="roundRect">
            <a:avLst>
              <a:gd name="adj" fmla="val 14282"/>
            </a:avLst>
          </a:prstGeom>
          <a:noFill/>
          <a:ln w="25560">
            <a:solidFill>
              <a:srgbClr val="23cb9e"/>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cb9e"/>
                </a:solidFill>
                <a:latin typeface="Source Sans Pro"/>
                <a:ea typeface="ＭＳ Ｐゴシック"/>
              </a:rPr>
              <a:t>H.R Manager</a:t>
            </a:r>
            <a:endParaRPr b="0" lang="en-US" sz="2400" spc="-1" strike="noStrike">
              <a:solidFill>
                <a:srgbClr val="000000"/>
              </a:solidFill>
              <a:latin typeface="Gill Sans"/>
            </a:endParaRPr>
          </a:p>
        </p:txBody>
      </p:sp>
      <p:grpSp>
        <p:nvGrpSpPr>
          <p:cNvPr id="340" name="Group 28"/>
          <p:cNvGrpSpPr/>
          <p:nvPr/>
        </p:nvGrpSpPr>
        <p:grpSpPr>
          <a:xfrm>
            <a:off x="17081640" y="3782880"/>
            <a:ext cx="4241520" cy="4241880"/>
            <a:chOff x="17081640" y="3782880"/>
            <a:chExt cx="4241520" cy="4241880"/>
          </a:xfrm>
        </p:grpSpPr>
        <p:sp>
          <p:nvSpPr>
            <p:cNvPr id="341" name="Oval 24"/>
            <p:cNvSpPr/>
            <p:nvPr/>
          </p:nvSpPr>
          <p:spPr>
            <a:xfrm>
              <a:off x="17081640" y="3782880"/>
              <a:ext cx="4241520" cy="4241880"/>
            </a:xfrm>
            <a:prstGeom prst="ellipse">
              <a:avLst/>
            </a:prstGeom>
            <a:gradFill rotWithShape="0">
              <a:gsLst>
                <a:gs pos="0">
                  <a:srgbClr val="23cb9e"/>
                </a:gs>
                <a:gs pos="100000">
                  <a:srgbClr val="1d9d7c"/>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42" name="Oval 25"/>
            <p:cNvSpPr/>
            <p:nvPr/>
          </p:nvSpPr>
          <p:spPr>
            <a:xfrm>
              <a:off x="17160480" y="3875040"/>
              <a:ext cx="4068720" cy="4068720"/>
            </a:xfrm>
            <a:prstGeom prst="ellipse">
              <a:avLst/>
            </a:prstGeom>
            <a:solidFill>
              <a:srgbClr val="f7f7f7"/>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43" name="Oval 26"/>
            <p:cNvSpPr/>
            <p:nvPr/>
          </p:nvSpPr>
          <p:spPr>
            <a:xfrm>
              <a:off x="17421120" y="4122720"/>
              <a:ext cx="3560400" cy="3560760"/>
            </a:xfrm>
            <a:prstGeom prst="ellipse">
              <a:avLst/>
            </a:prstGeom>
            <a:solidFill>
              <a:srgbClr val="e6e5e5"/>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344" name="Rectangle 29"/>
          <p:cNvSpPr/>
          <p:nvPr/>
        </p:nvSpPr>
        <p:spPr>
          <a:xfrm>
            <a:off x="1681920" y="819000"/>
            <a:ext cx="486072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Meet The Executives</a:t>
            </a:r>
            <a:endParaRPr b="0" lang="en-US" sz="4000" spc="-1" strike="noStrike">
              <a:solidFill>
                <a:srgbClr val="000000"/>
              </a:solidFill>
              <a:latin typeface="Gill Sans"/>
            </a:endParaRPr>
          </a:p>
        </p:txBody>
      </p:sp>
      <p:sp>
        <p:nvSpPr>
          <p:cNvPr id="345" name="Rectangle 30"/>
          <p:cNvSpPr/>
          <p:nvPr/>
        </p:nvSpPr>
        <p:spPr>
          <a:xfrm>
            <a:off x="1399320" y="149220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sp>
        <p:nvSpPr>
          <p:cNvPr id="346" name="Rectangle 31"/>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07</a:t>
            </a:r>
            <a:endParaRPr b="0" lang="en-US" sz="2400" spc="-1" strike="noStrike">
              <a:solidFill>
                <a:srgbClr val="000000"/>
              </a:solidFill>
              <a:latin typeface="Gill Sans"/>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5"/>
          <p:cNvGrpSpPr/>
          <p:nvPr/>
        </p:nvGrpSpPr>
        <p:grpSpPr>
          <a:xfrm>
            <a:off x="9677520" y="3389400"/>
            <a:ext cx="4241520" cy="4241880"/>
            <a:chOff x="9677520" y="3389400"/>
            <a:chExt cx="4241520" cy="4241880"/>
          </a:xfrm>
        </p:grpSpPr>
        <p:sp>
          <p:nvSpPr>
            <p:cNvPr id="348" name="Oval 1"/>
            <p:cNvSpPr/>
            <p:nvPr/>
          </p:nvSpPr>
          <p:spPr>
            <a:xfrm flipH="1">
              <a:off x="9677520" y="3389400"/>
              <a:ext cx="4241520" cy="4241880"/>
            </a:xfrm>
            <a:prstGeom prst="ellipse">
              <a:avLst/>
            </a:prstGeom>
            <a:gradFill rotWithShape="0">
              <a:gsLst>
                <a:gs pos="0">
                  <a:srgbClr val="23cb9e"/>
                </a:gs>
                <a:gs pos="100000">
                  <a:srgbClr val="1d9d7c"/>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49" name="Oval 2"/>
            <p:cNvSpPr/>
            <p:nvPr/>
          </p:nvSpPr>
          <p:spPr>
            <a:xfrm flipH="1">
              <a:off x="9771480" y="3481560"/>
              <a:ext cx="4068720" cy="4068720"/>
            </a:xfrm>
            <a:prstGeom prst="ellipse">
              <a:avLst/>
            </a:prstGeom>
            <a:solidFill>
              <a:srgbClr val="f7f7f7"/>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50" name="Oval 3"/>
            <p:cNvSpPr/>
            <p:nvPr/>
          </p:nvSpPr>
          <p:spPr>
            <a:xfrm flipH="1">
              <a:off x="10019160" y="3729240"/>
              <a:ext cx="3560400" cy="3560760"/>
            </a:xfrm>
            <a:prstGeom prst="ellipse">
              <a:avLst/>
            </a:prstGeom>
            <a:solidFill>
              <a:srgbClr val="e6e5e5"/>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351" name="Group 10"/>
          <p:cNvGrpSpPr/>
          <p:nvPr/>
        </p:nvGrpSpPr>
        <p:grpSpPr>
          <a:xfrm>
            <a:off x="6311520" y="7696080"/>
            <a:ext cx="4241880" cy="4241880"/>
            <a:chOff x="6311520" y="7696080"/>
            <a:chExt cx="4241880" cy="4241880"/>
          </a:xfrm>
        </p:grpSpPr>
        <p:sp>
          <p:nvSpPr>
            <p:cNvPr id="352" name="Oval 6"/>
            <p:cNvSpPr/>
            <p:nvPr/>
          </p:nvSpPr>
          <p:spPr>
            <a:xfrm flipH="1">
              <a:off x="6311160" y="7696080"/>
              <a:ext cx="4241880" cy="4241880"/>
            </a:xfrm>
            <a:prstGeom prst="ellipse">
              <a:avLst/>
            </a:prstGeom>
            <a:gradFill rotWithShape="0">
              <a:gsLst>
                <a:gs pos="0">
                  <a:srgbClr val="23cb9e"/>
                </a:gs>
                <a:gs pos="100000">
                  <a:srgbClr val="1d9d7c"/>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53" name="Oval 7"/>
            <p:cNvSpPr/>
            <p:nvPr/>
          </p:nvSpPr>
          <p:spPr>
            <a:xfrm flipH="1">
              <a:off x="6404760" y="7788240"/>
              <a:ext cx="4069080" cy="4068720"/>
            </a:xfrm>
            <a:prstGeom prst="ellipse">
              <a:avLst/>
            </a:prstGeom>
            <a:solidFill>
              <a:srgbClr val="f7f7f7"/>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54" name="Oval 8"/>
            <p:cNvSpPr/>
            <p:nvPr/>
          </p:nvSpPr>
          <p:spPr>
            <a:xfrm flipH="1">
              <a:off x="6652440" y="8035920"/>
              <a:ext cx="3560760" cy="3560760"/>
            </a:xfrm>
            <a:prstGeom prst="ellipse">
              <a:avLst/>
            </a:prstGeom>
            <a:solidFill>
              <a:srgbClr val="e6e5e5"/>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355" name="Group 15"/>
          <p:cNvGrpSpPr/>
          <p:nvPr/>
        </p:nvGrpSpPr>
        <p:grpSpPr>
          <a:xfrm>
            <a:off x="13347360" y="7696080"/>
            <a:ext cx="4241880" cy="4241880"/>
            <a:chOff x="13347360" y="7696080"/>
            <a:chExt cx="4241880" cy="4241880"/>
          </a:xfrm>
        </p:grpSpPr>
        <p:sp>
          <p:nvSpPr>
            <p:cNvPr id="356" name="Oval 11"/>
            <p:cNvSpPr/>
            <p:nvPr/>
          </p:nvSpPr>
          <p:spPr>
            <a:xfrm flipH="1">
              <a:off x="13347000" y="7696080"/>
              <a:ext cx="4241880" cy="4241880"/>
            </a:xfrm>
            <a:prstGeom prst="ellipse">
              <a:avLst/>
            </a:prstGeom>
            <a:gradFill rotWithShape="0">
              <a:gsLst>
                <a:gs pos="0">
                  <a:srgbClr val="23cb9e"/>
                </a:gs>
                <a:gs pos="100000">
                  <a:srgbClr val="1d9d7c"/>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57" name="Oval 12"/>
            <p:cNvSpPr/>
            <p:nvPr/>
          </p:nvSpPr>
          <p:spPr>
            <a:xfrm flipH="1">
              <a:off x="13440600" y="7788240"/>
              <a:ext cx="4069080" cy="4068720"/>
            </a:xfrm>
            <a:prstGeom prst="ellipse">
              <a:avLst/>
            </a:prstGeom>
            <a:solidFill>
              <a:srgbClr val="f7f7f7"/>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58" name="Oval 13"/>
            <p:cNvSpPr/>
            <p:nvPr/>
          </p:nvSpPr>
          <p:spPr>
            <a:xfrm flipH="1">
              <a:off x="13688280" y="8035920"/>
              <a:ext cx="3560760" cy="3560760"/>
            </a:xfrm>
            <a:prstGeom prst="ellipse">
              <a:avLst/>
            </a:prstGeom>
            <a:solidFill>
              <a:srgbClr val="e6e5e5"/>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359" name="Group 20"/>
          <p:cNvGrpSpPr/>
          <p:nvPr/>
        </p:nvGrpSpPr>
        <p:grpSpPr>
          <a:xfrm>
            <a:off x="16611120" y="3389400"/>
            <a:ext cx="4241880" cy="4241880"/>
            <a:chOff x="16611120" y="3389400"/>
            <a:chExt cx="4241880" cy="4241880"/>
          </a:xfrm>
        </p:grpSpPr>
        <p:sp>
          <p:nvSpPr>
            <p:cNvPr id="360" name="Oval 16"/>
            <p:cNvSpPr/>
            <p:nvPr/>
          </p:nvSpPr>
          <p:spPr>
            <a:xfrm flipH="1">
              <a:off x="16610760" y="3389400"/>
              <a:ext cx="4241880" cy="4241880"/>
            </a:xfrm>
            <a:prstGeom prst="ellipse">
              <a:avLst/>
            </a:prstGeom>
            <a:gradFill rotWithShape="0">
              <a:gsLst>
                <a:gs pos="0">
                  <a:srgbClr val="23cb9e"/>
                </a:gs>
                <a:gs pos="100000">
                  <a:srgbClr val="1d9d7c"/>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61" name="Oval 17"/>
            <p:cNvSpPr/>
            <p:nvPr/>
          </p:nvSpPr>
          <p:spPr>
            <a:xfrm flipH="1">
              <a:off x="16704360" y="3481560"/>
              <a:ext cx="4069080" cy="4068720"/>
            </a:xfrm>
            <a:prstGeom prst="ellipse">
              <a:avLst/>
            </a:prstGeom>
            <a:solidFill>
              <a:srgbClr val="f7f7f7"/>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62" name="Oval 18"/>
            <p:cNvSpPr/>
            <p:nvPr/>
          </p:nvSpPr>
          <p:spPr>
            <a:xfrm flipH="1">
              <a:off x="16952040" y="3729240"/>
              <a:ext cx="3560760" cy="3560760"/>
            </a:xfrm>
            <a:prstGeom prst="ellipse">
              <a:avLst/>
            </a:prstGeom>
            <a:solidFill>
              <a:srgbClr val="e6e5e5"/>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363" name="Rectangle 21"/>
          <p:cNvSpPr/>
          <p:nvPr/>
        </p:nvSpPr>
        <p:spPr>
          <a:xfrm>
            <a:off x="1681920" y="819000"/>
            <a:ext cx="486072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Meet The Executives</a:t>
            </a:r>
            <a:endParaRPr b="0" lang="en-US" sz="4000" spc="-1" strike="noStrike">
              <a:solidFill>
                <a:srgbClr val="000000"/>
              </a:solidFill>
              <a:latin typeface="Gill Sans"/>
            </a:endParaRPr>
          </a:p>
        </p:txBody>
      </p:sp>
      <p:sp>
        <p:nvSpPr>
          <p:cNvPr id="364" name="Rectangle 22"/>
          <p:cNvSpPr/>
          <p:nvPr/>
        </p:nvSpPr>
        <p:spPr>
          <a:xfrm>
            <a:off x="1399320" y="149220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grpSp>
        <p:nvGrpSpPr>
          <p:cNvPr id="365" name="Group 27"/>
          <p:cNvGrpSpPr/>
          <p:nvPr/>
        </p:nvGrpSpPr>
        <p:grpSpPr>
          <a:xfrm>
            <a:off x="2640240" y="3389400"/>
            <a:ext cx="4243320" cy="4241880"/>
            <a:chOff x="2640240" y="3389400"/>
            <a:chExt cx="4243320" cy="4241880"/>
          </a:xfrm>
        </p:grpSpPr>
        <p:sp>
          <p:nvSpPr>
            <p:cNvPr id="366" name="Oval 23"/>
            <p:cNvSpPr/>
            <p:nvPr/>
          </p:nvSpPr>
          <p:spPr>
            <a:xfrm flipH="1">
              <a:off x="2639880" y="3389400"/>
              <a:ext cx="4243320" cy="4241880"/>
            </a:xfrm>
            <a:prstGeom prst="ellipse">
              <a:avLst/>
            </a:prstGeom>
            <a:gradFill rotWithShape="0">
              <a:gsLst>
                <a:gs pos="0">
                  <a:srgbClr val="23cb9e"/>
                </a:gs>
                <a:gs pos="100000">
                  <a:srgbClr val="1d9d7c"/>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67" name="Oval 24"/>
            <p:cNvSpPr/>
            <p:nvPr/>
          </p:nvSpPr>
          <p:spPr>
            <a:xfrm flipH="1">
              <a:off x="2733480" y="3481560"/>
              <a:ext cx="4070520" cy="4068720"/>
            </a:xfrm>
            <a:prstGeom prst="ellipse">
              <a:avLst/>
            </a:prstGeom>
            <a:solidFill>
              <a:srgbClr val="f7f7f7"/>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68" name="Oval 25"/>
            <p:cNvSpPr/>
            <p:nvPr/>
          </p:nvSpPr>
          <p:spPr>
            <a:xfrm flipH="1">
              <a:off x="2981160" y="3729240"/>
              <a:ext cx="3562200" cy="3560760"/>
            </a:xfrm>
            <a:prstGeom prst="ellipse">
              <a:avLst/>
            </a:prstGeom>
            <a:solidFill>
              <a:srgbClr val="e6e5e5"/>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369" name="AutoShape 28"/>
          <p:cNvSpPr/>
          <p:nvPr/>
        </p:nvSpPr>
        <p:spPr>
          <a:xfrm>
            <a:off x="6146640" y="5067360"/>
            <a:ext cx="1638360" cy="876240"/>
          </a:xfrm>
          <a:prstGeom prst="roundRect">
            <a:avLst>
              <a:gd name="adj" fmla="val 10144"/>
            </a:avLst>
          </a:prstGeom>
          <a:solidFill>
            <a:srgbClr val="000000">
              <a:alpha val="70000"/>
            </a:srgbClr>
          </a:solidFill>
          <a:ln w="25560">
            <a:solidFill>
              <a:srgbClr val="000000">
                <a:alpha val="70000"/>
              </a:srgbClr>
            </a:solidFill>
            <a:miter/>
          </a:ln>
        </p:spPr>
        <p:style>
          <a:lnRef idx="0"/>
          <a:fillRef idx="0"/>
          <a:effectRef idx="0"/>
          <a:fontRef idx="minor"/>
        </p:style>
        <p:txBody>
          <a:bodyPr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Source Sans Pro Bold"/>
                <a:ea typeface="ＭＳ Ｐゴシック"/>
              </a:rPr>
              <a:t>John</a:t>
            </a:r>
            <a:endParaRPr b="0" lang="en-US" sz="24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fefe"/>
                </a:solidFill>
                <a:latin typeface="Source Sans Pro"/>
                <a:ea typeface="ＭＳ Ｐゴシック"/>
              </a:rPr>
              <a:t>Designer</a:t>
            </a:r>
            <a:endParaRPr b="0" lang="en-US" sz="2100" spc="-1" strike="noStrike">
              <a:solidFill>
                <a:srgbClr val="000000"/>
              </a:solidFill>
              <a:latin typeface="Gill Sans"/>
            </a:endParaRPr>
          </a:p>
        </p:txBody>
      </p:sp>
      <p:sp>
        <p:nvSpPr>
          <p:cNvPr id="370" name="AutoShape 29"/>
          <p:cNvSpPr/>
          <p:nvPr/>
        </p:nvSpPr>
        <p:spPr>
          <a:xfrm>
            <a:off x="13182480" y="5067360"/>
            <a:ext cx="1638360" cy="876240"/>
          </a:xfrm>
          <a:prstGeom prst="roundRect">
            <a:avLst>
              <a:gd name="adj" fmla="val 10144"/>
            </a:avLst>
          </a:prstGeom>
          <a:solidFill>
            <a:srgbClr val="000000">
              <a:alpha val="70000"/>
            </a:srgbClr>
          </a:solidFill>
          <a:ln w="25560">
            <a:solidFill>
              <a:srgbClr val="000000">
                <a:alpha val="70000"/>
              </a:srgbClr>
            </a:solidFill>
            <a:miter/>
          </a:ln>
        </p:spPr>
        <p:style>
          <a:lnRef idx="0"/>
          <a:fillRef idx="0"/>
          <a:effectRef idx="0"/>
          <a:fontRef idx="minor"/>
        </p:style>
        <p:txBody>
          <a:bodyPr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Source Sans Pro Bold"/>
                <a:ea typeface="ＭＳ Ｐゴシック"/>
              </a:rPr>
              <a:t>Albert</a:t>
            </a:r>
            <a:endParaRPr b="0" lang="en-US" sz="24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fefe"/>
                </a:solidFill>
                <a:latin typeface="Source Sans Pro"/>
                <a:ea typeface="ＭＳ Ｐゴシック"/>
              </a:rPr>
              <a:t>Designer</a:t>
            </a:r>
            <a:endParaRPr b="0" lang="en-US" sz="2100" spc="-1" strike="noStrike">
              <a:solidFill>
                <a:srgbClr val="000000"/>
              </a:solidFill>
              <a:latin typeface="Gill Sans"/>
            </a:endParaRPr>
          </a:p>
        </p:txBody>
      </p:sp>
      <p:sp>
        <p:nvSpPr>
          <p:cNvPr id="371" name="AutoShape 30"/>
          <p:cNvSpPr/>
          <p:nvPr/>
        </p:nvSpPr>
        <p:spPr>
          <a:xfrm>
            <a:off x="20116800" y="5067360"/>
            <a:ext cx="1638360" cy="876240"/>
          </a:xfrm>
          <a:prstGeom prst="roundRect">
            <a:avLst>
              <a:gd name="adj" fmla="val 10144"/>
            </a:avLst>
          </a:prstGeom>
          <a:solidFill>
            <a:srgbClr val="000000">
              <a:alpha val="70000"/>
            </a:srgbClr>
          </a:solidFill>
          <a:ln w="25560">
            <a:solidFill>
              <a:srgbClr val="000000">
                <a:alpha val="70000"/>
              </a:srgbClr>
            </a:solidFill>
            <a:miter/>
          </a:ln>
        </p:spPr>
        <p:style>
          <a:lnRef idx="0"/>
          <a:fillRef idx="0"/>
          <a:effectRef idx="0"/>
          <a:fontRef idx="minor"/>
        </p:style>
        <p:txBody>
          <a:bodyPr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Source Sans Pro Bold"/>
                <a:ea typeface="ＭＳ Ｐゴシック"/>
              </a:rPr>
              <a:t>Nia</a:t>
            </a:r>
            <a:endParaRPr b="0" lang="en-US" sz="24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fefe"/>
                </a:solidFill>
                <a:latin typeface="Source Sans Pro"/>
                <a:ea typeface="ＭＳ Ｐゴシック"/>
              </a:rPr>
              <a:t>Designer</a:t>
            </a:r>
            <a:endParaRPr b="0" lang="en-US" sz="2100" spc="-1" strike="noStrike">
              <a:solidFill>
                <a:srgbClr val="000000"/>
              </a:solidFill>
              <a:latin typeface="Gill Sans"/>
            </a:endParaRPr>
          </a:p>
        </p:txBody>
      </p:sp>
      <p:sp>
        <p:nvSpPr>
          <p:cNvPr id="372" name="AutoShape 31"/>
          <p:cNvSpPr/>
          <p:nvPr/>
        </p:nvSpPr>
        <p:spPr>
          <a:xfrm>
            <a:off x="9829800" y="9372600"/>
            <a:ext cx="1638360" cy="876240"/>
          </a:xfrm>
          <a:prstGeom prst="roundRect">
            <a:avLst>
              <a:gd name="adj" fmla="val 10144"/>
            </a:avLst>
          </a:prstGeom>
          <a:solidFill>
            <a:srgbClr val="000000">
              <a:alpha val="70000"/>
            </a:srgbClr>
          </a:solidFill>
          <a:ln w="25560">
            <a:solidFill>
              <a:srgbClr val="000000">
                <a:alpha val="70000"/>
              </a:srgbClr>
            </a:solidFill>
            <a:miter/>
          </a:ln>
        </p:spPr>
        <p:style>
          <a:lnRef idx="0"/>
          <a:fillRef idx="0"/>
          <a:effectRef idx="0"/>
          <a:fontRef idx="minor"/>
        </p:style>
        <p:txBody>
          <a:bodyPr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Source Sans Pro Bold"/>
                <a:ea typeface="ＭＳ Ｐゴシック"/>
              </a:rPr>
              <a:t>Lara</a:t>
            </a:r>
            <a:endParaRPr b="0" lang="en-US" sz="24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fefe"/>
                </a:solidFill>
                <a:latin typeface="Source Sans Pro"/>
                <a:ea typeface="ＭＳ Ｐゴシック"/>
              </a:rPr>
              <a:t>Designer</a:t>
            </a:r>
            <a:endParaRPr b="0" lang="en-US" sz="2100" spc="-1" strike="noStrike">
              <a:solidFill>
                <a:srgbClr val="000000"/>
              </a:solidFill>
              <a:latin typeface="Gill Sans"/>
            </a:endParaRPr>
          </a:p>
        </p:txBody>
      </p:sp>
      <p:sp>
        <p:nvSpPr>
          <p:cNvPr id="373" name="AutoShape 32"/>
          <p:cNvSpPr/>
          <p:nvPr/>
        </p:nvSpPr>
        <p:spPr>
          <a:xfrm>
            <a:off x="16865640" y="9372600"/>
            <a:ext cx="1638360" cy="876240"/>
          </a:xfrm>
          <a:prstGeom prst="roundRect">
            <a:avLst>
              <a:gd name="adj" fmla="val 10144"/>
            </a:avLst>
          </a:prstGeom>
          <a:solidFill>
            <a:srgbClr val="000000">
              <a:alpha val="70000"/>
            </a:srgbClr>
          </a:solidFill>
          <a:ln w="25560">
            <a:solidFill>
              <a:srgbClr val="000000">
                <a:alpha val="70000"/>
              </a:srgbClr>
            </a:solidFill>
            <a:miter/>
          </a:ln>
        </p:spPr>
        <p:style>
          <a:lnRef idx="0"/>
          <a:fillRef idx="0"/>
          <a:effectRef idx="0"/>
          <a:fontRef idx="minor"/>
        </p:style>
        <p:txBody>
          <a:bodyPr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Source Sans Pro Bold"/>
                <a:ea typeface="ＭＳ Ｐゴシック"/>
              </a:rPr>
              <a:t>Sotic</a:t>
            </a:r>
            <a:endParaRPr b="0" lang="en-US" sz="24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efefe"/>
                </a:solidFill>
                <a:latin typeface="Source Sans Pro"/>
                <a:ea typeface="ＭＳ Ｐゴシック"/>
              </a:rPr>
              <a:t>Designer</a:t>
            </a:r>
            <a:endParaRPr b="0" lang="en-US" sz="2100" spc="-1" strike="noStrike">
              <a:solidFill>
                <a:srgbClr val="000000"/>
              </a:solidFill>
              <a:latin typeface="Gill Sans"/>
            </a:endParaRPr>
          </a:p>
        </p:txBody>
      </p:sp>
      <p:sp>
        <p:nvSpPr>
          <p:cNvPr id="374" name="Rectangle 33"/>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08</a:t>
            </a:r>
            <a:endParaRPr b="0" lang="en-US" sz="2400" spc="-1" strike="noStrike">
              <a:solidFill>
                <a:srgbClr val="000000"/>
              </a:solidFill>
              <a:latin typeface="Gill Sans"/>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1"/>
          <p:cNvSpPr/>
          <p:nvPr/>
        </p:nvSpPr>
        <p:spPr>
          <a:xfrm>
            <a:off x="1681920" y="819000"/>
            <a:ext cx="486072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919"/>
                </a:solidFill>
                <a:latin typeface="Open Sans Bold"/>
                <a:ea typeface="ＭＳ Ｐゴシック"/>
              </a:rPr>
              <a:t>Meet The Executives</a:t>
            </a:r>
            <a:endParaRPr b="0" lang="en-US" sz="4000" spc="-1" strike="noStrike">
              <a:solidFill>
                <a:srgbClr val="000000"/>
              </a:solidFill>
              <a:latin typeface="Gill Sans"/>
            </a:endParaRPr>
          </a:p>
        </p:txBody>
      </p:sp>
      <p:sp>
        <p:nvSpPr>
          <p:cNvPr id="376" name="Rectangle 2"/>
          <p:cNvSpPr/>
          <p:nvPr/>
        </p:nvSpPr>
        <p:spPr>
          <a:xfrm>
            <a:off x="1399320" y="149220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1a1919"/>
                </a:solidFill>
                <a:latin typeface="Open Sans Light"/>
                <a:ea typeface="ＭＳ Ｐゴシック"/>
              </a:rPr>
              <a:t>The lorem ipsum dolor sit amet</a:t>
            </a:r>
            <a:endParaRPr b="0" lang="en-US" sz="3000" spc="-1" strike="noStrike">
              <a:solidFill>
                <a:srgbClr val="000000"/>
              </a:solidFill>
              <a:latin typeface="Gill Sans"/>
            </a:endParaRPr>
          </a:p>
        </p:txBody>
      </p:sp>
      <p:sp>
        <p:nvSpPr>
          <p:cNvPr id="377" name="Rectangle 3"/>
          <p:cNvSpPr/>
          <p:nvPr/>
        </p:nvSpPr>
        <p:spPr>
          <a:xfrm>
            <a:off x="10147320" y="8280360"/>
            <a:ext cx="10248840" cy="116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343333"/>
                </a:solidFill>
                <a:latin typeface="Open Sans Bold"/>
                <a:ea typeface="ＭＳ Ｐゴシック"/>
              </a:rPr>
              <a:t>He is lorem ipsum dolor sit amet.</a:t>
            </a:r>
            <a:r>
              <a:rPr b="0" lang="en-US" sz="2100" spc="-1" strike="noStrike">
                <a:solidFill>
                  <a:srgbClr val="343333"/>
                </a:solidFill>
                <a:latin typeface="Open Sans Light"/>
                <a:ea typeface="ＭＳ Ｐゴシック"/>
              </a:rPr>
              <a:t> He've been lorem ipsum with many ipsum constecture. He is lorem ipsum dolor sit amet. He've been lorem ipsum with many ipsum constecture He is lorem ipsum dolor sit amet. </a:t>
            </a:r>
            <a:endParaRPr b="0" lang="en-US" sz="2100" spc="-1" strike="noStrike">
              <a:solidFill>
                <a:srgbClr val="000000"/>
              </a:solidFill>
              <a:latin typeface="Gill Sans"/>
            </a:endParaRPr>
          </a:p>
        </p:txBody>
      </p:sp>
      <p:sp>
        <p:nvSpPr>
          <p:cNvPr id="378" name="AutoShape 4"/>
          <p:cNvSpPr/>
          <p:nvPr/>
        </p:nvSpPr>
        <p:spPr>
          <a:xfrm>
            <a:off x="10159920" y="10083960"/>
            <a:ext cx="1654200" cy="622080"/>
          </a:xfrm>
          <a:prstGeom prst="roundRect">
            <a:avLst>
              <a:gd name="adj" fmla="val 14282"/>
            </a:avLst>
          </a:prstGeom>
          <a:noFill/>
          <a:ln w="25560">
            <a:solidFill>
              <a:srgbClr val="b3b2b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d4c4c"/>
                </a:solidFill>
                <a:latin typeface="Source Sans Pro"/>
                <a:ea typeface="ＭＳ Ｐゴシック"/>
              </a:rPr>
              <a:t>tinker</a:t>
            </a:r>
            <a:endParaRPr b="0" lang="en-US" sz="2100" spc="-1" strike="noStrike">
              <a:solidFill>
                <a:srgbClr val="000000"/>
              </a:solidFill>
              <a:latin typeface="Gill Sans"/>
            </a:endParaRPr>
          </a:p>
        </p:txBody>
      </p:sp>
      <p:sp>
        <p:nvSpPr>
          <p:cNvPr id="379" name="AutoShape 5"/>
          <p:cNvSpPr/>
          <p:nvPr/>
        </p:nvSpPr>
        <p:spPr>
          <a:xfrm>
            <a:off x="12004560" y="10083960"/>
            <a:ext cx="1963800" cy="622080"/>
          </a:xfrm>
          <a:prstGeom prst="roundRect">
            <a:avLst>
              <a:gd name="adj" fmla="val 14282"/>
            </a:avLst>
          </a:prstGeom>
          <a:noFill/>
          <a:ln w="25560">
            <a:solidFill>
              <a:srgbClr val="b3b2b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d4c4c"/>
                </a:solidFill>
                <a:latin typeface="Source Sans Pro"/>
                <a:ea typeface="ＭＳ Ｐゴシック"/>
              </a:rPr>
              <a:t>initiator</a:t>
            </a:r>
            <a:endParaRPr b="0" lang="en-US" sz="2100" spc="-1" strike="noStrike">
              <a:solidFill>
                <a:srgbClr val="000000"/>
              </a:solidFill>
              <a:latin typeface="Gill Sans"/>
            </a:endParaRPr>
          </a:p>
        </p:txBody>
      </p:sp>
      <p:sp>
        <p:nvSpPr>
          <p:cNvPr id="380" name="AutoShape 6"/>
          <p:cNvSpPr/>
          <p:nvPr/>
        </p:nvSpPr>
        <p:spPr>
          <a:xfrm>
            <a:off x="14166720" y="10083960"/>
            <a:ext cx="1656000" cy="622080"/>
          </a:xfrm>
          <a:prstGeom prst="roundRect">
            <a:avLst>
              <a:gd name="adj" fmla="val 14282"/>
            </a:avLst>
          </a:prstGeom>
          <a:noFill/>
          <a:ln w="25560">
            <a:solidFill>
              <a:srgbClr val="b3b2b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d4c4c"/>
                </a:solidFill>
                <a:latin typeface="Source Sans Pro"/>
                <a:ea typeface="ＭＳ Ｐゴシック"/>
              </a:rPr>
              <a:t>nuker</a:t>
            </a:r>
            <a:endParaRPr b="0" lang="en-US" sz="2100" spc="-1" strike="noStrike">
              <a:solidFill>
                <a:srgbClr val="000000"/>
              </a:solidFill>
              <a:latin typeface="Gill Sans"/>
            </a:endParaRPr>
          </a:p>
        </p:txBody>
      </p:sp>
      <p:sp>
        <p:nvSpPr>
          <p:cNvPr id="381" name="AutoShape 7"/>
          <p:cNvSpPr/>
          <p:nvPr/>
        </p:nvSpPr>
        <p:spPr>
          <a:xfrm>
            <a:off x="16022520" y="10083960"/>
            <a:ext cx="1654200" cy="622080"/>
          </a:xfrm>
          <a:prstGeom prst="roundRect">
            <a:avLst>
              <a:gd name="adj" fmla="val 14282"/>
            </a:avLst>
          </a:prstGeom>
          <a:noFill/>
          <a:ln w="25560">
            <a:solidFill>
              <a:srgbClr val="b3b2b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d4c4c"/>
                </a:solidFill>
                <a:latin typeface="Source Sans Pro"/>
                <a:ea typeface="ＭＳ Ｐゴシック"/>
              </a:rPr>
              <a:t>coding</a:t>
            </a:r>
            <a:endParaRPr b="0" lang="en-US" sz="2100" spc="-1" strike="noStrike">
              <a:solidFill>
                <a:srgbClr val="000000"/>
              </a:solidFill>
              <a:latin typeface="Gill Sans"/>
            </a:endParaRPr>
          </a:p>
        </p:txBody>
      </p:sp>
      <p:sp>
        <p:nvSpPr>
          <p:cNvPr id="382" name="AutoShape 8"/>
          <p:cNvSpPr/>
          <p:nvPr/>
        </p:nvSpPr>
        <p:spPr>
          <a:xfrm>
            <a:off x="10155240" y="10960200"/>
            <a:ext cx="1333440" cy="622080"/>
          </a:xfrm>
          <a:prstGeom prst="roundRect">
            <a:avLst>
              <a:gd name="adj" fmla="val 14282"/>
            </a:avLst>
          </a:prstGeom>
          <a:noFill/>
          <a:ln w="25560">
            <a:solidFill>
              <a:srgbClr val="b3b2b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d4c4c"/>
                </a:solidFill>
                <a:latin typeface="Source Sans Pro"/>
                <a:ea typeface="ＭＳ Ｐゴシック"/>
              </a:rPr>
              <a:t>iOS</a:t>
            </a:r>
            <a:endParaRPr b="0" lang="en-US" sz="2100" spc="-1" strike="noStrike">
              <a:solidFill>
                <a:srgbClr val="000000"/>
              </a:solidFill>
              <a:latin typeface="Gill Sans"/>
            </a:endParaRPr>
          </a:p>
        </p:txBody>
      </p:sp>
      <p:sp>
        <p:nvSpPr>
          <p:cNvPr id="383" name="AutoShape 9"/>
          <p:cNvSpPr/>
          <p:nvPr/>
        </p:nvSpPr>
        <p:spPr>
          <a:xfrm>
            <a:off x="11671200" y="10960200"/>
            <a:ext cx="1962360" cy="622080"/>
          </a:xfrm>
          <a:prstGeom prst="roundRect">
            <a:avLst>
              <a:gd name="adj" fmla="val 14282"/>
            </a:avLst>
          </a:prstGeom>
          <a:noFill/>
          <a:ln w="25560">
            <a:solidFill>
              <a:srgbClr val="b3b2b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d4c4c"/>
                </a:solidFill>
                <a:latin typeface="Source Sans Pro"/>
                <a:ea typeface="ＭＳ Ｐゴシック"/>
              </a:rPr>
              <a:t>keynote</a:t>
            </a:r>
            <a:endParaRPr b="0" lang="en-US" sz="2100" spc="-1" strike="noStrike">
              <a:solidFill>
                <a:srgbClr val="000000"/>
              </a:solidFill>
              <a:latin typeface="Gill Sans"/>
            </a:endParaRPr>
          </a:p>
        </p:txBody>
      </p:sp>
      <p:sp>
        <p:nvSpPr>
          <p:cNvPr id="384" name="AutoShape 10"/>
          <p:cNvSpPr/>
          <p:nvPr/>
        </p:nvSpPr>
        <p:spPr>
          <a:xfrm>
            <a:off x="10159920" y="4457880"/>
            <a:ext cx="10223640" cy="469800"/>
          </a:xfrm>
          <a:prstGeom prst="roundRect">
            <a:avLst>
              <a:gd name="adj" fmla="val 50000"/>
            </a:avLst>
          </a:prstGeom>
          <a:noFill/>
          <a:ln w="25560">
            <a:solidFill>
              <a:srgbClr val="cdcc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85" name="AutoShape 11"/>
          <p:cNvSpPr/>
          <p:nvPr/>
        </p:nvSpPr>
        <p:spPr>
          <a:xfrm>
            <a:off x="10299600" y="4597560"/>
            <a:ext cx="6464520" cy="190440"/>
          </a:xfrm>
          <a:prstGeom prst="roundRect">
            <a:avLst>
              <a:gd name="adj" fmla="val 50000"/>
            </a:avLst>
          </a:prstGeom>
          <a:solidFill>
            <a:srgbClr val="23cb9e"/>
          </a:solidFill>
          <a:ln w="25560">
            <a:solidFill>
              <a:srgbClr val="23cb9e"/>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86" name="Rectangle 12"/>
          <p:cNvSpPr/>
          <p:nvPr/>
        </p:nvSpPr>
        <p:spPr>
          <a:xfrm>
            <a:off x="10290240" y="3998880"/>
            <a:ext cx="254880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a1919"/>
                </a:solidFill>
                <a:latin typeface="Open Sans Bold"/>
                <a:ea typeface="ＭＳ Ｐゴシック"/>
              </a:rPr>
              <a:t>Artificial intelegence</a:t>
            </a:r>
            <a:endParaRPr b="0" lang="en-US" sz="2100" spc="-1" strike="noStrike">
              <a:solidFill>
                <a:srgbClr val="000000"/>
              </a:solidFill>
              <a:latin typeface="Gill Sans"/>
            </a:endParaRPr>
          </a:p>
        </p:txBody>
      </p:sp>
      <p:sp>
        <p:nvSpPr>
          <p:cNvPr id="387" name="AutoShape 13"/>
          <p:cNvSpPr/>
          <p:nvPr/>
        </p:nvSpPr>
        <p:spPr>
          <a:xfrm>
            <a:off x="10159920" y="5842080"/>
            <a:ext cx="10223640" cy="469800"/>
          </a:xfrm>
          <a:prstGeom prst="roundRect">
            <a:avLst>
              <a:gd name="adj" fmla="val 50000"/>
            </a:avLst>
          </a:prstGeom>
          <a:noFill/>
          <a:ln w="25560">
            <a:solidFill>
              <a:srgbClr val="cdcc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88" name="AutoShape 14"/>
          <p:cNvSpPr/>
          <p:nvPr/>
        </p:nvSpPr>
        <p:spPr>
          <a:xfrm>
            <a:off x="10299600" y="5981760"/>
            <a:ext cx="8699760" cy="203040"/>
          </a:xfrm>
          <a:prstGeom prst="roundRect">
            <a:avLst>
              <a:gd name="adj" fmla="val 50000"/>
            </a:avLst>
          </a:prstGeom>
          <a:solidFill>
            <a:srgbClr val="1d9d7c"/>
          </a:solidFill>
          <a:ln w="25560">
            <a:solidFill>
              <a:srgbClr val="1d9d7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89" name="Rectangle 15"/>
          <p:cNvSpPr/>
          <p:nvPr/>
        </p:nvSpPr>
        <p:spPr>
          <a:xfrm>
            <a:off x="10199520" y="5383440"/>
            <a:ext cx="150660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a1919"/>
                </a:solidFill>
                <a:latin typeface="Open Sans Bold"/>
                <a:ea typeface="ＭＳ Ｐゴシック"/>
              </a:rPr>
              <a:t>Web Design</a:t>
            </a:r>
            <a:endParaRPr b="0" lang="en-US" sz="2100" spc="-1" strike="noStrike">
              <a:solidFill>
                <a:srgbClr val="000000"/>
              </a:solidFill>
              <a:latin typeface="Gill Sans"/>
            </a:endParaRPr>
          </a:p>
        </p:txBody>
      </p:sp>
      <p:sp>
        <p:nvSpPr>
          <p:cNvPr id="390" name="AutoShape 16"/>
          <p:cNvSpPr/>
          <p:nvPr/>
        </p:nvSpPr>
        <p:spPr>
          <a:xfrm>
            <a:off x="10159920" y="7251840"/>
            <a:ext cx="10223640" cy="469800"/>
          </a:xfrm>
          <a:prstGeom prst="roundRect">
            <a:avLst>
              <a:gd name="adj" fmla="val 50000"/>
            </a:avLst>
          </a:prstGeom>
          <a:noFill/>
          <a:ln w="25560">
            <a:solidFill>
              <a:srgbClr val="cdcc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91" name="AutoShape 17"/>
          <p:cNvSpPr/>
          <p:nvPr/>
        </p:nvSpPr>
        <p:spPr>
          <a:xfrm>
            <a:off x="10299600" y="7391520"/>
            <a:ext cx="6464520" cy="190440"/>
          </a:xfrm>
          <a:prstGeom prst="roundRect">
            <a:avLst>
              <a:gd name="adj" fmla="val 50000"/>
            </a:avLst>
          </a:prstGeom>
          <a:solidFill>
            <a:srgbClr val="6af2b6"/>
          </a:solidFill>
          <a:ln w="25560">
            <a:solidFill>
              <a:srgbClr val="6af2b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92" name="Rectangle 18"/>
          <p:cNvSpPr/>
          <p:nvPr/>
        </p:nvSpPr>
        <p:spPr>
          <a:xfrm>
            <a:off x="10254600" y="6793200"/>
            <a:ext cx="262980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a1919"/>
                </a:solidFill>
                <a:latin typeface="Open Sans Bold"/>
                <a:ea typeface="ＭＳ Ｐゴシック"/>
              </a:rPr>
              <a:t>Project Management</a:t>
            </a:r>
            <a:endParaRPr b="0" lang="en-US" sz="2100" spc="-1" strike="noStrike">
              <a:solidFill>
                <a:srgbClr val="000000"/>
              </a:solidFill>
              <a:latin typeface="Gill Sans"/>
            </a:endParaRPr>
          </a:p>
        </p:txBody>
      </p:sp>
      <p:sp>
        <p:nvSpPr>
          <p:cNvPr id="393" name="Rectangle 19"/>
          <p:cNvSpPr/>
          <p:nvPr/>
        </p:nvSpPr>
        <p:spPr>
          <a:xfrm>
            <a:off x="20045520" y="4005360"/>
            <a:ext cx="30564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a1919"/>
                </a:solidFill>
                <a:latin typeface="Open Sans Bold"/>
                <a:ea typeface="ＭＳ Ｐゴシック"/>
              </a:rPr>
              <a:t>70</a:t>
            </a:r>
            <a:endParaRPr b="0" lang="en-US" sz="2100" spc="-1" strike="noStrike">
              <a:solidFill>
                <a:srgbClr val="000000"/>
              </a:solidFill>
              <a:latin typeface="Gill Sans"/>
            </a:endParaRPr>
          </a:p>
        </p:txBody>
      </p:sp>
      <p:sp>
        <p:nvSpPr>
          <p:cNvPr id="394" name="Rectangle 20"/>
          <p:cNvSpPr/>
          <p:nvPr/>
        </p:nvSpPr>
        <p:spPr>
          <a:xfrm>
            <a:off x="20032920" y="5415120"/>
            <a:ext cx="30564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a1919"/>
                </a:solidFill>
                <a:latin typeface="Open Sans Bold"/>
                <a:ea typeface="ＭＳ Ｐゴシック"/>
              </a:rPr>
              <a:t>80</a:t>
            </a:r>
            <a:endParaRPr b="0" lang="en-US" sz="2100" spc="-1" strike="noStrike">
              <a:solidFill>
                <a:srgbClr val="000000"/>
              </a:solidFill>
              <a:latin typeface="Gill Sans"/>
            </a:endParaRPr>
          </a:p>
        </p:txBody>
      </p:sp>
      <p:sp>
        <p:nvSpPr>
          <p:cNvPr id="395" name="Rectangle 21"/>
          <p:cNvSpPr/>
          <p:nvPr/>
        </p:nvSpPr>
        <p:spPr>
          <a:xfrm>
            <a:off x="20032920" y="6799320"/>
            <a:ext cx="30564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a1919"/>
                </a:solidFill>
                <a:latin typeface="Open Sans Bold"/>
                <a:ea typeface="ＭＳ Ｐゴシック"/>
              </a:rPr>
              <a:t>70</a:t>
            </a:r>
            <a:endParaRPr b="0" lang="en-US" sz="2100" spc="-1" strike="noStrike">
              <a:solidFill>
                <a:srgbClr val="000000"/>
              </a:solidFill>
              <a:latin typeface="Gill Sans"/>
            </a:endParaRPr>
          </a:p>
        </p:txBody>
      </p:sp>
      <p:grpSp>
        <p:nvGrpSpPr>
          <p:cNvPr id="396" name="Group 26"/>
          <p:cNvGrpSpPr/>
          <p:nvPr/>
        </p:nvGrpSpPr>
        <p:grpSpPr>
          <a:xfrm>
            <a:off x="3110040" y="3782880"/>
            <a:ext cx="4242960" cy="4241880"/>
            <a:chOff x="3110040" y="3782880"/>
            <a:chExt cx="4242960" cy="4241880"/>
          </a:xfrm>
        </p:grpSpPr>
        <p:sp>
          <p:nvSpPr>
            <p:cNvPr id="397" name="Oval 22"/>
            <p:cNvSpPr/>
            <p:nvPr/>
          </p:nvSpPr>
          <p:spPr>
            <a:xfrm>
              <a:off x="3110040" y="3782880"/>
              <a:ext cx="4242960" cy="4241880"/>
            </a:xfrm>
            <a:prstGeom prst="ellipse">
              <a:avLst/>
            </a:prstGeom>
            <a:gradFill rotWithShape="0">
              <a:gsLst>
                <a:gs pos="0">
                  <a:srgbClr val="23cb9e"/>
                </a:gs>
                <a:gs pos="100000">
                  <a:srgbClr val="1d9d7c"/>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98" name="Oval 23"/>
            <p:cNvSpPr/>
            <p:nvPr/>
          </p:nvSpPr>
          <p:spPr>
            <a:xfrm>
              <a:off x="3189240" y="3875040"/>
              <a:ext cx="4070160" cy="4068720"/>
            </a:xfrm>
            <a:prstGeom prst="ellipse">
              <a:avLst/>
            </a:prstGeom>
            <a:solidFill>
              <a:srgbClr val="f7f7f7"/>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99" name="Oval 24"/>
            <p:cNvSpPr/>
            <p:nvPr/>
          </p:nvSpPr>
          <p:spPr>
            <a:xfrm>
              <a:off x="3449880" y="4122720"/>
              <a:ext cx="3561840" cy="3560760"/>
            </a:xfrm>
            <a:prstGeom prst="ellipse">
              <a:avLst/>
            </a:prstGeom>
            <a:solidFill>
              <a:srgbClr val="e6e5e5"/>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400" name="Rectangle 27"/>
          <p:cNvSpPr/>
          <p:nvPr/>
        </p:nvSpPr>
        <p:spPr>
          <a:xfrm>
            <a:off x="4164480" y="8277840"/>
            <a:ext cx="218304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919"/>
                </a:solidFill>
                <a:latin typeface="Open Sans Bold"/>
                <a:ea typeface="ＭＳ Ｐゴシック"/>
              </a:rPr>
              <a:t>John</a:t>
            </a:r>
            <a:r>
              <a:rPr b="0" lang="en-US" sz="3200" spc="-1" strike="noStrike">
                <a:solidFill>
                  <a:srgbClr val="1a1919"/>
                </a:solidFill>
                <a:latin typeface="Open Sans Light"/>
                <a:ea typeface="ＭＳ Ｐゴシック"/>
              </a:rPr>
              <a:t> Alexis </a:t>
            </a:r>
            <a:endParaRPr b="0" lang="en-US" sz="3200" spc="-1" strike="noStrike">
              <a:solidFill>
                <a:srgbClr val="000000"/>
              </a:solidFill>
              <a:latin typeface="Gill Sans"/>
            </a:endParaRPr>
          </a:p>
        </p:txBody>
      </p:sp>
      <p:sp>
        <p:nvSpPr>
          <p:cNvPr id="401" name="Line 28"/>
          <p:cNvSpPr/>
          <p:nvPr/>
        </p:nvSpPr>
        <p:spPr>
          <a:xfrm>
            <a:off x="3276720" y="9855360"/>
            <a:ext cx="3948120" cy="0"/>
          </a:xfrm>
          <a:prstGeom prst="line">
            <a:avLst/>
          </a:prstGeom>
          <a:ln w="12600">
            <a:solidFill>
              <a:srgbClr val="cdcccc"/>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02" name="Rectangle 29"/>
          <p:cNvSpPr/>
          <p:nvPr/>
        </p:nvSpPr>
        <p:spPr>
          <a:xfrm>
            <a:off x="3201840" y="9861480"/>
            <a:ext cx="4102200" cy="1778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Light"/>
                <a:ea typeface="ＭＳ Ｐゴシック"/>
              </a:rPr>
              <a:t>He is lorem ipsum dolor sit amet. He've been lorem ipsum with many ipsum constecture</a:t>
            </a:r>
            <a:endParaRPr b="0" lang="en-US" sz="2400" spc="-1" strike="noStrike">
              <a:solidFill>
                <a:srgbClr val="000000"/>
              </a:solidFill>
              <a:latin typeface="Gill Sans"/>
            </a:endParaRPr>
          </a:p>
        </p:txBody>
      </p:sp>
      <p:sp>
        <p:nvSpPr>
          <p:cNvPr id="403" name="AutoShape 30"/>
          <p:cNvSpPr/>
          <p:nvPr/>
        </p:nvSpPr>
        <p:spPr>
          <a:xfrm>
            <a:off x="4635360" y="8940960"/>
            <a:ext cx="1244880" cy="622080"/>
          </a:xfrm>
          <a:prstGeom prst="roundRect">
            <a:avLst>
              <a:gd name="adj" fmla="val 14282"/>
            </a:avLst>
          </a:prstGeom>
          <a:noFill/>
          <a:ln w="25560">
            <a:solidFill>
              <a:srgbClr val="23cb9e"/>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3cb9e"/>
                </a:solidFill>
                <a:latin typeface="Source Sans Pro"/>
                <a:ea typeface="ＭＳ Ｐゴシック"/>
              </a:rPr>
              <a:t>CEO</a:t>
            </a:r>
            <a:endParaRPr b="0" lang="en-US" sz="2400" spc="-1" strike="noStrike">
              <a:solidFill>
                <a:srgbClr val="000000"/>
              </a:solidFill>
              <a:latin typeface="Gill Sans"/>
            </a:endParaRPr>
          </a:p>
        </p:txBody>
      </p:sp>
      <p:sp>
        <p:nvSpPr>
          <p:cNvPr id="404" name="AutoShape 31"/>
          <p:cNvSpPr/>
          <p:nvPr/>
        </p:nvSpPr>
        <p:spPr>
          <a:xfrm>
            <a:off x="17843400" y="10083960"/>
            <a:ext cx="1962360" cy="622080"/>
          </a:xfrm>
          <a:prstGeom prst="roundRect">
            <a:avLst>
              <a:gd name="adj" fmla="val 14282"/>
            </a:avLst>
          </a:prstGeom>
          <a:noFill/>
          <a:ln w="25560">
            <a:solidFill>
              <a:srgbClr val="b3b2b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d4c4c"/>
                </a:solidFill>
                <a:latin typeface="Source Sans Pro"/>
                <a:ea typeface="ＭＳ Ｐゴシック"/>
              </a:rPr>
              <a:t>initiator</a:t>
            </a:r>
            <a:endParaRPr b="0" lang="en-US" sz="2100" spc="-1" strike="noStrike">
              <a:solidFill>
                <a:srgbClr val="000000"/>
              </a:solidFill>
              <a:latin typeface="Gill Sans"/>
            </a:endParaRPr>
          </a:p>
        </p:txBody>
      </p:sp>
      <p:sp>
        <p:nvSpPr>
          <p:cNvPr id="405" name="AutoShape 32"/>
          <p:cNvSpPr/>
          <p:nvPr/>
        </p:nvSpPr>
        <p:spPr>
          <a:xfrm>
            <a:off x="13855680" y="10960200"/>
            <a:ext cx="1333440" cy="622080"/>
          </a:xfrm>
          <a:prstGeom prst="roundRect">
            <a:avLst>
              <a:gd name="adj" fmla="val 14282"/>
            </a:avLst>
          </a:prstGeom>
          <a:noFill/>
          <a:ln w="25560">
            <a:solidFill>
              <a:srgbClr val="b3b2b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d4c4c"/>
                </a:solidFill>
                <a:latin typeface="Source Sans Pro"/>
                <a:ea typeface="ＭＳ Ｐゴシック"/>
              </a:rPr>
              <a:t>iOS</a:t>
            </a:r>
            <a:endParaRPr b="0" lang="en-US" sz="2100" spc="-1" strike="noStrike">
              <a:solidFill>
                <a:srgbClr val="000000"/>
              </a:solidFill>
              <a:latin typeface="Gill Sans"/>
            </a:endParaRPr>
          </a:p>
        </p:txBody>
      </p:sp>
      <p:sp>
        <p:nvSpPr>
          <p:cNvPr id="406" name="Rectangle 33"/>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333"/>
                </a:solidFill>
                <a:latin typeface="Open Sans Bold"/>
                <a:ea typeface="ＭＳ Ｐゴシック"/>
              </a:rPr>
              <a:t>09</a:t>
            </a:r>
            <a:endParaRPr b="0" lang="en-US" sz="2400" spc="-1" strike="noStrike">
              <a:solidFill>
                <a:srgbClr val="000000"/>
              </a:solidFill>
              <a:latin typeface="Gill Sans"/>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ac Pro</cp:lastModifiedBy>
  <dcterms:modified xsi:type="dcterms:W3CDTF">2014-05-01T15:24:14Z</dcterms:modified>
  <cp:revision>4</cp:revision>
  <dc:subject/>
  <dc:title>PowerPoint Presentation</dc:title>
</cp:coreProperties>
</file>