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</p:sldMasterIdLst>
  <p:sldIdLst>
    <p:sldId id="256" r:id="rId54"/>
    <p:sldId id="257" r:id="rId55"/>
    <p:sldId id="258" r:id="rId56"/>
    <p:sldId id="259" r:id="rId57"/>
    <p:sldId id="260" r:id="rId58"/>
    <p:sldId id="261" r:id="rId59"/>
    <p:sldId id="262" r:id="rId60"/>
    <p:sldId id="263" r:id="rId61"/>
    <p:sldId id="264" r:id="rId62"/>
    <p:sldId id="265" r:id="rId63"/>
    <p:sldId id="266" r:id="rId64"/>
    <p:sldId id="267" r:id="rId65"/>
    <p:sldId id="268" r:id="rId66"/>
    <p:sldId id="269" r:id="rId67"/>
    <p:sldId id="270" r:id="rId68"/>
    <p:sldId id="271" r:id="rId69"/>
    <p:sldId id="272" r:id="rId70"/>
    <p:sldId id="273" r:id="rId71"/>
    <p:sldId id="274" r:id="rId72"/>
    <p:sldId id="275" r:id="rId73"/>
    <p:sldId id="276" r:id="rId74"/>
    <p:sldId id="277" r:id="rId75"/>
    <p:sldId id="278" r:id="rId76"/>
    <p:sldId id="279" r:id="rId77"/>
    <p:sldId id="280" r:id="rId78"/>
    <p:sldId id="281" r:id="rId79"/>
    <p:sldId id="282" r:id="rId80"/>
    <p:sldId id="283" r:id="rId81"/>
    <p:sldId id="284" r:id="rId82"/>
    <p:sldId id="285" r:id="rId83"/>
    <p:sldId id="286" r:id="rId84"/>
    <p:sldId id="287" r:id="rId85"/>
    <p:sldId id="288" r:id="rId86"/>
    <p:sldId id="289" r:id="rId87"/>
    <p:sldId id="290" r:id="rId88"/>
    <p:sldId id="291" r:id="rId89"/>
    <p:sldId id="292" r:id="rId90"/>
    <p:sldId id="293" r:id="rId91"/>
    <p:sldId id="294" r:id="rId92"/>
    <p:sldId id="295" r:id="rId93"/>
    <p:sldId id="296" r:id="rId94"/>
    <p:sldId id="297" r:id="rId95"/>
    <p:sldId id="298" r:id="rId96"/>
    <p:sldId id="299" r:id="rId97"/>
    <p:sldId id="300" r:id="rId98"/>
    <p:sldId id="301" r:id="rId99"/>
    <p:sldId id="302" r:id="rId100"/>
    <p:sldId id="303" r:id="rId101"/>
    <p:sldId id="304" r:id="rId102"/>
    <p:sldId id="305" r:id="rId103"/>
    <p:sldId id="306" r:id="rId104"/>
    <p:sldId id="307" r:id="rId105"/>
    <p:sldId id="308" r:id="rId106"/>
    <p:sldId id="309" r:id="rId107"/>
    <p:sldId id="310" r:id="rId108"/>
    <p:sldId id="311" r:id="rId10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" Target="slides/slide1.xml"/><Relationship Id="rId55" Type="http://schemas.openxmlformats.org/officeDocument/2006/relationships/slide" Target="slides/slide2.xml"/><Relationship Id="rId56" Type="http://schemas.openxmlformats.org/officeDocument/2006/relationships/slide" Target="slides/slide3.xml"/><Relationship Id="rId57" Type="http://schemas.openxmlformats.org/officeDocument/2006/relationships/slide" Target="slides/slide4.xml"/><Relationship Id="rId58" Type="http://schemas.openxmlformats.org/officeDocument/2006/relationships/slide" Target="slides/slide5.xml"/><Relationship Id="rId59" Type="http://schemas.openxmlformats.org/officeDocument/2006/relationships/slide" Target="slides/slide6.xml"/><Relationship Id="rId60" Type="http://schemas.openxmlformats.org/officeDocument/2006/relationships/slide" Target="slides/slide7.xml"/><Relationship Id="rId61" Type="http://schemas.openxmlformats.org/officeDocument/2006/relationships/slide" Target="slides/slide8.xml"/><Relationship Id="rId62" Type="http://schemas.openxmlformats.org/officeDocument/2006/relationships/slide" Target="slides/slide9.xml"/><Relationship Id="rId63" Type="http://schemas.openxmlformats.org/officeDocument/2006/relationships/slide" Target="slides/slide10.xml"/><Relationship Id="rId64" Type="http://schemas.openxmlformats.org/officeDocument/2006/relationships/slide" Target="slides/slide11.xml"/><Relationship Id="rId65" Type="http://schemas.openxmlformats.org/officeDocument/2006/relationships/slide" Target="slides/slide12.xml"/><Relationship Id="rId66" Type="http://schemas.openxmlformats.org/officeDocument/2006/relationships/slide" Target="slides/slide13.xml"/><Relationship Id="rId67" Type="http://schemas.openxmlformats.org/officeDocument/2006/relationships/slide" Target="slides/slide14.xml"/><Relationship Id="rId68" Type="http://schemas.openxmlformats.org/officeDocument/2006/relationships/slide" Target="slides/slide15.xml"/><Relationship Id="rId69" Type="http://schemas.openxmlformats.org/officeDocument/2006/relationships/slide" Target="slides/slide16.xml"/><Relationship Id="rId70" Type="http://schemas.openxmlformats.org/officeDocument/2006/relationships/slide" Target="slides/slide17.xml"/><Relationship Id="rId71" Type="http://schemas.openxmlformats.org/officeDocument/2006/relationships/slide" Target="slides/slide18.xml"/><Relationship Id="rId72" Type="http://schemas.openxmlformats.org/officeDocument/2006/relationships/slide" Target="slides/slide19.xml"/><Relationship Id="rId73" Type="http://schemas.openxmlformats.org/officeDocument/2006/relationships/slide" Target="slides/slide20.xml"/><Relationship Id="rId74" Type="http://schemas.openxmlformats.org/officeDocument/2006/relationships/slide" Target="slides/slide21.xml"/><Relationship Id="rId75" Type="http://schemas.openxmlformats.org/officeDocument/2006/relationships/slide" Target="slides/slide22.xml"/><Relationship Id="rId76" Type="http://schemas.openxmlformats.org/officeDocument/2006/relationships/slide" Target="slides/slide23.xml"/><Relationship Id="rId77" Type="http://schemas.openxmlformats.org/officeDocument/2006/relationships/slide" Target="slides/slide24.xml"/><Relationship Id="rId78" Type="http://schemas.openxmlformats.org/officeDocument/2006/relationships/slide" Target="slides/slide25.xml"/><Relationship Id="rId79" Type="http://schemas.openxmlformats.org/officeDocument/2006/relationships/slide" Target="slides/slide26.xml"/><Relationship Id="rId80" Type="http://schemas.openxmlformats.org/officeDocument/2006/relationships/slide" Target="slides/slide27.xml"/><Relationship Id="rId81" Type="http://schemas.openxmlformats.org/officeDocument/2006/relationships/slide" Target="slides/slide28.xml"/><Relationship Id="rId82" Type="http://schemas.openxmlformats.org/officeDocument/2006/relationships/slide" Target="slides/slide29.xml"/><Relationship Id="rId83" Type="http://schemas.openxmlformats.org/officeDocument/2006/relationships/slide" Target="slides/slide30.xml"/><Relationship Id="rId84" Type="http://schemas.openxmlformats.org/officeDocument/2006/relationships/slide" Target="slides/slide31.xml"/><Relationship Id="rId85" Type="http://schemas.openxmlformats.org/officeDocument/2006/relationships/slide" Target="slides/slide32.xml"/><Relationship Id="rId86" Type="http://schemas.openxmlformats.org/officeDocument/2006/relationships/slide" Target="slides/slide33.xml"/><Relationship Id="rId87" Type="http://schemas.openxmlformats.org/officeDocument/2006/relationships/slide" Target="slides/slide34.xml"/><Relationship Id="rId88" Type="http://schemas.openxmlformats.org/officeDocument/2006/relationships/slide" Target="slides/slide35.xml"/><Relationship Id="rId89" Type="http://schemas.openxmlformats.org/officeDocument/2006/relationships/slide" Target="slides/slide36.xml"/><Relationship Id="rId90" Type="http://schemas.openxmlformats.org/officeDocument/2006/relationships/slide" Target="slides/slide37.xml"/><Relationship Id="rId91" Type="http://schemas.openxmlformats.org/officeDocument/2006/relationships/slide" Target="slides/slide38.xml"/><Relationship Id="rId92" Type="http://schemas.openxmlformats.org/officeDocument/2006/relationships/slide" Target="slides/slide39.xml"/><Relationship Id="rId93" Type="http://schemas.openxmlformats.org/officeDocument/2006/relationships/slide" Target="slides/slide40.xml"/><Relationship Id="rId94" Type="http://schemas.openxmlformats.org/officeDocument/2006/relationships/slide" Target="slides/slide41.xml"/><Relationship Id="rId95" Type="http://schemas.openxmlformats.org/officeDocument/2006/relationships/slide" Target="slides/slide42.xml"/><Relationship Id="rId96" Type="http://schemas.openxmlformats.org/officeDocument/2006/relationships/slide" Target="slides/slide43.xml"/><Relationship Id="rId97" Type="http://schemas.openxmlformats.org/officeDocument/2006/relationships/slide" Target="slides/slide44.xml"/><Relationship Id="rId98" Type="http://schemas.openxmlformats.org/officeDocument/2006/relationships/slide" Target="slides/slide45.xml"/><Relationship Id="rId99" Type="http://schemas.openxmlformats.org/officeDocument/2006/relationships/slide" Target="slides/slide46.xml"/><Relationship Id="rId100" Type="http://schemas.openxmlformats.org/officeDocument/2006/relationships/slide" Target="slides/slide47.xml"/><Relationship Id="rId101" Type="http://schemas.openxmlformats.org/officeDocument/2006/relationships/slide" Target="slides/slide48.xml"/><Relationship Id="rId102" Type="http://schemas.openxmlformats.org/officeDocument/2006/relationships/slide" Target="slides/slide49.xml"/><Relationship Id="rId103" Type="http://schemas.openxmlformats.org/officeDocument/2006/relationships/slide" Target="slides/slide50.xml"/><Relationship Id="rId104" Type="http://schemas.openxmlformats.org/officeDocument/2006/relationships/slide" Target="slides/slide51.xml"/><Relationship Id="rId105" Type="http://schemas.openxmlformats.org/officeDocument/2006/relationships/slide" Target="slides/slide52.xml"/><Relationship Id="rId106" Type="http://schemas.openxmlformats.org/officeDocument/2006/relationships/slide" Target="slides/slide53.xml"/><Relationship Id="rId107" Type="http://schemas.openxmlformats.org/officeDocument/2006/relationships/slide" Target="slides/slide54.xml"/><Relationship Id="rId108" Type="http://schemas.openxmlformats.org/officeDocument/2006/relationships/slide" Target="slides/slide55.xml"/><Relationship Id="rId109" Type="http://schemas.openxmlformats.org/officeDocument/2006/relationships/slide" Target="slides/slide56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49D-88D3-4319-86C9-05A7F7AA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29F-EF06-4D00-88CF-ED7FF464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B32-2157-4E65-9849-670A493A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AD9-946A-4648-A8E7-ECAA5CF0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05E-3411-41EF-9292-199F3831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017-B4E6-4B3C-9A79-CDA637C1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860-15AB-41F9-AA4B-FCC3F0B6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A99-A013-4333-92A0-6F17D31B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214-1FEF-4CCE-B3BC-2CDA00D7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4DD-8A68-4AF5-86A4-D248680B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FC2-51A1-46C2-B806-7197411D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D11-38C1-40E4-95F9-4BF546D9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AD1E-3D9F-441D-B415-65F174846AF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5" name="Connector: Elbow 6"/>
          <p:cNvCxnSpPr/>
          <p:nvPr/>
        </p:nvCxnSpPr>
        <p:spPr>
          <a:xfrm>
            <a:off x="1003320" y="2932200"/>
            <a:ext cx="11189520" cy="699120"/>
          </a:xfrm>
          <a:prstGeom prst="bentConnector3">
            <a:avLst>
              <a:gd name="adj1" fmla="val 49998"/>
            </a:avLst>
          </a:prstGeom>
          <a:ln w="12600">
            <a:solidFill>
              <a:srgbClr val="d9d9d9"/>
            </a:solidFill>
            <a:miter/>
          </a:ln>
        </p:spPr>
      </p:cxn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6"/>
          <p:cNvSpPr/>
          <p:nvPr/>
        </p:nvSpPr>
        <p:spPr>
          <a:xfrm>
            <a:off x="7346880" y="800280"/>
            <a:ext cx="4845240" cy="5257800"/>
          </a:xfrm>
          <a:prstGeom prst="rect">
            <a:avLst/>
          </a:prstGeom>
          <a:solidFill>
            <a:srgbClr val="f7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6"/>
          <p:cNvGrpSpPr/>
          <p:nvPr/>
        </p:nvGrpSpPr>
        <p:grpSpPr>
          <a:xfrm>
            <a:off x="4280040" y="0"/>
            <a:ext cx="5502240" cy="6858000"/>
            <a:chOff x="4280040" y="0"/>
            <a:chExt cx="5502240" cy="6858000"/>
          </a:xfrm>
        </p:grpSpPr>
        <p:sp>
          <p:nvSpPr>
            <p:cNvPr id="576" name="Freeform: Shape 7"/>
            <p:cNvSpPr/>
            <p:nvPr/>
          </p:nvSpPr>
          <p:spPr>
            <a:xfrm rot="5400000">
              <a:off x="4641120" y="-361080"/>
              <a:ext cx="1041840" cy="1764000"/>
            </a:xfrm>
            <a:custGeom>
              <a:avLst/>
              <a:gdLst/>
              <a:ahLst/>
              <a:rect l="l" t="t" r="r" b="b"/>
              <a:pathLst>
                <a:path w="1042016" h="1763734">
                  <a:moveTo>
                    <a:pt x="0" y="1763734"/>
                  </a:moveTo>
                  <a:lnTo>
                    <a:pt x="0" y="0"/>
                  </a:lnTo>
                  <a:lnTo>
                    <a:pt x="601083" y="0"/>
                  </a:lnTo>
                  <a:lnTo>
                    <a:pt x="1042016" y="881867"/>
                  </a:lnTo>
                  <a:lnTo>
                    <a:pt x="601083" y="1763734"/>
                  </a:lnTo>
                  <a:lnTo>
                    <a:pt x="0" y="176373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Hexagon 8"/>
            <p:cNvSpPr/>
            <p:nvPr/>
          </p:nvSpPr>
          <p:spPr>
            <a:xfrm rot="5400000">
              <a:off x="5076360" y="841680"/>
              <a:ext cx="2045880" cy="1764000"/>
            </a:xfrm>
            <a:prstGeom prst="hexagon">
              <a:avLst>
                <a:gd name="adj" fmla="val 24994"/>
                <a:gd name="vf" fmla="val 11547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Hexagon 9"/>
            <p:cNvSpPr/>
            <p:nvPr/>
          </p:nvSpPr>
          <p:spPr>
            <a:xfrm rot="5400000">
              <a:off x="6006240" y="2546640"/>
              <a:ext cx="2045880" cy="1764000"/>
            </a:xfrm>
            <a:prstGeom prst="hexagon">
              <a:avLst>
                <a:gd name="adj" fmla="val 24994"/>
                <a:gd name="vf" fmla="val 11547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Hexagon 10"/>
            <p:cNvSpPr/>
            <p:nvPr/>
          </p:nvSpPr>
          <p:spPr>
            <a:xfrm rot="5400000">
              <a:off x="6943680" y="4251960"/>
              <a:ext cx="2045880" cy="1764000"/>
            </a:xfrm>
            <a:prstGeom prst="hexagon">
              <a:avLst>
                <a:gd name="adj" fmla="val 24994"/>
                <a:gd name="vf" fmla="val 11547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: Shape 11"/>
            <p:cNvSpPr/>
            <p:nvPr/>
          </p:nvSpPr>
          <p:spPr>
            <a:xfrm>
              <a:off x="8018280" y="5816160"/>
              <a:ext cx="1764000" cy="1041840"/>
            </a:xfrm>
            <a:custGeom>
              <a:avLst/>
              <a:gdLst/>
              <a:ahLst/>
              <a:rect l="l" t="t" r="r" b="b"/>
              <a:pathLst>
                <a:path w="1763734" h="1042016">
                  <a:moveTo>
                    <a:pt x="881867" y="0"/>
                  </a:moveTo>
                  <a:lnTo>
                    <a:pt x="1763734" y="440934"/>
                  </a:lnTo>
                  <a:lnTo>
                    <a:pt x="1763734" y="1042016"/>
                  </a:lnTo>
                  <a:lnTo>
                    <a:pt x="0" y="1042016"/>
                  </a:lnTo>
                  <a:lnTo>
                    <a:pt x="0" y="440934"/>
                  </a:lnTo>
                  <a:lnTo>
                    <a:pt x="881867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6"/>
          <p:cNvSpPr/>
          <p:nvPr/>
        </p:nvSpPr>
        <p:spPr>
          <a:xfrm>
            <a:off x="0" y="1596960"/>
            <a:ext cx="12192120" cy="4762440"/>
          </a:xfrm>
          <a:prstGeom prst="rect">
            <a:avLst/>
          </a:prstGeom>
          <a:solidFill>
            <a:srgbClr val="f7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6"/>
          <p:cNvSpPr/>
          <p:nvPr/>
        </p:nvSpPr>
        <p:spPr>
          <a:xfrm>
            <a:off x="3720960" y="0"/>
            <a:ext cx="8471160" cy="2322360"/>
          </a:xfrm>
          <a:prstGeom prst="rect">
            <a:avLst/>
          </a:prstGeom>
          <a:solidFill>
            <a:srgbClr val="f7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6"/>
          <p:cNvSpPr/>
          <p:nvPr/>
        </p:nvSpPr>
        <p:spPr>
          <a:xfrm>
            <a:off x="5511960" y="0"/>
            <a:ext cx="6680160" cy="6858000"/>
          </a:xfrm>
          <a:prstGeom prst="rect">
            <a:avLst/>
          </a:prstGeom>
          <a:solidFill>
            <a:srgbClr val="f7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6"/>
          <p:cNvGrpSpPr/>
          <p:nvPr/>
        </p:nvGrpSpPr>
        <p:grpSpPr>
          <a:xfrm>
            <a:off x="425520" y="436680"/>
            <a:ext cx="11341080" cy="5984640"/>
            <a:chOff x="425520" y="436680"/>
            <a:chExt cx="11341080" cy="5984640"/>
          </a:xfrm>
        </p:grpSpPr>
        <p:sp>
          <p:nvSpPr>
            <p:cNvPr id="1383" name="Right Triangle 7"/>
            <p:cNvSpPr/>
            <p:nvPr/>
          </p:nvSpPr>
          <p:spPr>
            <a:xfrm>
              <a:off x="425520" y="6067800"/>
              <a:ext cx="353520" cy="35352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Right Triangle 8"/>
            <p:cNvSpPr/>
            <p:nvPr/>
          </p:nvSpPr>
          <p:spPr>
            <a:xfrm rot="10800000">
              <a:off x="11413080" y="436680"/>
              <a:ext cx="353520" cy="353520"/>
            </a:xfrm>
            <a:prstGeom prst="rtTriangl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6"/>
          <p:cNvSpPr/>
          <p:nvPr/>
        </p:nvSpPr>
        <p:spPr>
          <a:xfrm>
            <a:off x="5029200" y="4572000"/>
            <a:ext cx="716292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Straight Connector 6"/>
          <p:cNvSpPr/>
          <p:nvPr/>
        </p:nvSpPr>
        <p:spPr>
          <a:xfrm>
            <a:off x="4087800" y="1089000"/>
            <a:ext cx="0" cy="4680000"/>
          </a:xfrm>
          <a:prstGeom prst="line">
            <a:avLst/>
          </a:prstGeom>
          <a:ln w="648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Straight Connector 7"/>
          <p:cNvSpPr/>
          <p:nvPr/>
        </p:nvSpPr>
        <p:spPr>
          <a:xfrm>
            <a:off x="8175600" y="1089000"/>
            <a:ext cx="0" cy="4680000"/>
          </a:xfrm>
          <a:prstGeom prst="line">
            <a:avLst/>
          </a:prstGeom>
          <a:ln w="648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6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7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0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5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0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1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TextBox 19"/>
          <p:cNvSpPr/>
          <p:nvPr/>
        </p:nvSpPr>
        <p:spPr>
          <a:xfrm>
            <a:off x="5079600" y="54936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Questrial"/>
              </a:rPr>
              <a:t>©2020 MINIMAL &amp; C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TextBox 20"/>
          <p:cNvSpPr/>
          <p:nvPr/>
        </p:nvSpPr>
        <p:spPr>
          <a:xfrm>
            <a:off x="5054760" y="6035760"/>
            <a:ext cx="20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Questrial"/>
              </a:rPr>
              <a:t>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8" name="Group 6"/>
          <p:cNvGrpSpPr/>
          <p:nvPr/>
        </p:nvGrpSpPr>
        <p:grpSpPr>
          <a:xfrm>
            <a:off x="4138560" y="2781360"/>
            <a:ext cx="3915000" cy="1295280"/>
            <a:chOff x="4138560" y="2781360"/>
            <a:chExt cx="3915000" cy="1295280"/>
          </a:xfrm>
        </p:grpSpPr>
        <p:sp>
          <p:nvSpPr>
            <p:cNvPr id="1999" name="Rectangle 5"/>
            <p:cNvSpPr/>
            <p:nvPr/>
          </p:nvSpPr>
          <p:spPr>
            <a:xfrm>
              <a:off x="4138560" y="2781360"/>
              <a:ext cx="39150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Questrial"/>
                </a:rPr>
                <a:t>MIMI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0" name="Group 1"/>
            <p:cNvGrpSpPr/>
            <p:nvPr/>
          </p:nvGrpSpPr>
          <p:grpSpPr>
            <a:xfrm>
              <a:off x="4793040" y="3624480"/>
              <a:ext cx="2433600" cy="97560"/>
              <a:chOff x="4793040" y="3624480"/>
              <a:chExt cx="2433600" cy="97560"/>
            </a:xfrm>
          </p:grpSpPr>
          <p:sp>
            <p:nvSpPr>
              <p:cNvPr id="2001" name="Isosceles Triangle 28"/>
              <p:cNvSpPr/>
              <p:nvPr/>
            </p:nvSpPr>
            <p:spPr>
              <a:xfrm rot="5400000">
                <a:off x="4786200" y="3631320"/>
                <a:ext cx="97560" cy="83880"/>
              </a:xfrm>
              <a:prstGeom prst="triangle">
                <a:avLst>
                  <a:gd name="adj" fmla="val 10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Isosceles Triangle 29"/>
              <p:cNvSpPr/>
              <p:nvPr/>
            </p:nvSpPr>
            <p:spPr>
              <a:xfrm rot="5400000">
                <a:off x="7135920" y="3631320"/>
                <a:ext cx="97560" cy="83880"/>
              </a:xfrm>
              <a:prstGeom prst="triangle">
                <a:avLst>
                  <a:gd name="adj" fmla="val 10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TextBox 2"/>
          <p:cNvSpPr/>
          <p:nvPr/>
        </p:nvSpPr>
        <p:spPr>
          <a:xfrm>
            <a:off x="1258920" y="1835280"/>
            <a:ext cx="16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estrial"/>
              </a:rPr>
              <a:t>Our Vis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TextBox 7"/>
          <p:cNvSpPr/>
          <p:nvPr/>
        </p:nvSpPr>
        <p:spPr>
          <a:xfrm>
            <a:off x="1258920" y="3138480"/>
            <a:ext cx="27954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win provide a robust synopsis for high level overviews. Iterative approaches to corporate strategy foster collaborative thinking to further the value proposition grow the is holisti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3" name="Group 50"/>
          <p:cNvGrpSpPr/>
          <p:nvPr/>
        </p:nvGrpSpPr>
        <p:grpSpPr>
          <a:xfrm>
            <a:off x="7958160" y="1328760"/>
            <a:ext cx="3622680" cy="4472640"/>
            <a:chOff x="7958160" y="1328760"/>
            <a:chExt cx="3622680" cy="4472640"/>
          </a:xfrm>
        </p:grpSpPr>
        <p:pic>
          <p:nvPicPr>
            <p:cNvPr id="2094" name="Graphic 27" descr="Hold Gesture"/>
            <p:cNvPicPr/>
            <p:nvPr/>
          </p:nvPicPr>
          <p:blipFill>
            <a:blip r:embed="rId1"/>
            <a:stretch/>
          </p:blipFill>
          <p:spPr>
            <a:xfrm>
              <a:off x="8000640" y="1512360"/>
              <a:ext cx="645480" cy="75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5" name="Group 38"/>
            <p:cNvGrpSpPr/>
            <p:nvPr/>
          </p:nvGrpSpPr>
          <p:grpSpPr>
            <a:xfrm>
              <a:off x="8916840" y="1328760"/>
              <a:ext cx="2664000" cy="1390320"/>
              <a:chOff x="8916840" y="1328760"/>
              <a:chExt cx="2664000" cy="1390320"/>
            </a:xfrm>
          </p:grpSpPr>
          <p:sp>
            <p:nvSpPr>
              <p:cNvPr id="2096" name="TextBox 20"/>
              <p:cNvSpPr/>
              <p:nvPr/>
            </p:nvSpPr>
            <p:spPr>
              <a:xfrm>
                <a:off x="8916840" y="1328760"/>
                <a:ext cx="26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Questrial"/>
                  </a:rPr>
                  <a:t>VISION ON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7" name="TextBox 21"/>
              <p:cNvSpPr/>
              <p:nvPr/>
            </p:nvSpPr>
            <p:spPr>
              <a:xfrm>
                <a:off x="8916840" y="1621440"/>
                <a:ext cx="26640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Leverage agile frameworks to providea  synopsis for high Organically grow the holistic diversity and empowerment.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98" name="Graphic 23" descr="Bank"/>
            <p:cNvPicPr/>
            <p:nvPr/>
          </p:nvPicPr>
          <p:blipFill>
            <a:blip r:embed="rId2"/>
            <a:stretch/>
          </p:blipFill>
          <p:spPr>
            <a:xfrm>
              <a:off x="7958160" y="3084480"/>
              <a:ext cx="725040" cy="68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9" name="Group 37"/>
            <p:cNvGrpSpPr/>
            <p:nvPr/>
          </p:nvGrpSpPr>
          <p:grpSpPr>
            <a:xfrm>
              <a:off x="8916840" y="2869920"/>
              <a:ext cx="2664000" cy="1390320"/>
              <a:chOff x="8916840" y="2869920"/>
              <a:chExt cx="2664000" cy="1390320"/>
            </a:xfrm>
          </p:grpSpPr>
          <p:sp>
            <p:nvSpPr>
              <p:cNvPr id="2100" name="TextBox 32"/>
              <p:cNvSpPr/>
              <p:nvPr/>
            </p:nvSpPr>
            <p:spPr>
              <a:xfrm>
                <a:off x="8916840" y="2869920"/>
                <a:ext cx="26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Questrial"/>
                  </a:rPr>
                  <a:t>VISION TWO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1" name="TextBox 33"/>
              <p:cNvSpPr/>
              <p:nvPr/>
            </p:nvSpPr>
            <p:spPr>
              <a:xfrm>
                <a:off x="8916840" y="3162600"/>
                <a:ext cx="26640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Leverage agile frameworks to providea  synopsis for high Organically grow the holistic diversity and empowerment.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02" name="Graphic 25" descr="Gears"/>
            <p:cNvPicPr/>
            <p:nvPr/>
          </p:nvPicPr>
          <p:blipFill>
            <a:blip r:embed="rId3"/>
            <a:stretch/>
          </p:blipFill>
          <p:spPr>
            <a:xfrm>
              <a:off x="8012880" y="4596120"/>
              <a:ext cx="621360" cy="74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3" name="Group 36"/>
            <p:cNvGrpSpPr/>
            <p:nvPr/>
          </p:nvGrpSpPr>
          <p:grpSpPr>
            <a:xfrm>
              <a:off x="8916840" y="4411080"/>
              <a:ext cx="2664000" cy="1390320"/>
              <a:chOff x="8916840" y="4411080"/>
              <a:chExt cx="2664000" cy="1390320"/>
            </a:xfrm>
          </p:grpSpPr>
          <p:sp>
            <p:nvSpPr>
              <p:cNvPr id="2104" name="TextBox 34"/>
              <p:cNvSpPr/>
              <p:nvPr/>
            </p:nvSpPr>
            <p:spPr>
              <a:xfrm>
                <a:off x="8916840" y="4411080"/>
                <a:ext cx="26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Questrial"/>
                  </a:rPr>
                  <a:t>VISION THRE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5" name="TextBox 35"/>
              <p:cNvSpPr/>
              <p:nvPr/>
            </p:nvSpPr>
            <p:spPr>
              <a:xfrm>
                <a:off x="8916840" y="4703760"/>
                <a:ext cx="26640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Leverage agile frameworks to providea  synopsis for high Organically grow the holistic diversity and empowerment.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6" name="Isosceles Triangle 52"/>
          <p:cNvSpPr/>
          <p:nvPr/>
        </p:nvSpPr>
        <p:spPr>
          <a:xfrm rot="5400000">
            <a:off x="991440" y="5793480"/>
            <a:ext cx="169920" cy="146160"/>
          </a:xfrm>
          <a:prstGeom prst="triangle">
            <a:avLst>
              <a:gd name="adj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7" name="Group 57"/>
          <p:cNvGrpSpPr/>
          <p:nvPr/>
        </p:nvGrpSpPr>
        <p:grpSpPr>
          <a:xfrm>
            <a:off x="5618160" y="4471920"/>
            <a:ext cx="1355760" cy="1355760"/>
            <a:chOff x="5618160" y="4471920"/>
            <a:chExt cx="1355760" cy="1355760"/>
          </a:xfrm>
        </p:grpSpPr>
        <p:sp>
          <p:nvSpPr>
            <p:cNvPr id="2108" name="Rectangle 54"/>
            <p:cNvSpPr/>
            <p:nvPr/>
          </p:nvSpPr>
          <p:spPr>
            <a:xfrm>
              <a:off x="5618160" y="4471920"/>
              <a:ext cx="1355760" cy="135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9" name="TextBox 56"/>
            <p:cNvSpPr/>
            <p:nvPr/>
          </p:nvSpPr>
          <p:spPr>
            <a:xfrm>
              <a:off x="5747040" y="4780080"/>
              <a:ext cx="1097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2020 MINIMAL &amp; CLE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0" name="Rectangle 7"/>
          <p:cNvGrpSpPr/>
          <p:nvPr/>
        </p:nvGrpSpPr>
        <p:grpSpPr>
          <a:xfrm>
            <a:off x="6864480" y="811080"/>
            <a:ext cx="2146320" cy="5248440"/>
            <a:chOff x="6864480" y="811080"/>
            <a:chExt cx="2146320" cy="5248440"/>
          </a:xfrm>
        </p:grpSpPr>
        <p:pic>
          <p:nvPicPr>
            <p:cNvPr id="2111" name="Rectangle 7" descr=""/>
            <p:cNvPicPr/>
            <p:nvPr/>
          </p:nvPicPr>
          <p:blipFill>
            <a:blip r:embed="rId1"/>
            <a:stretch/>
          </p:blipFill>
          <p:spPr>
            <a:xfrm>
              <a:off x="6867360" y="811080"/>
              <a:ext cx="214308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2" name=""/>
            <p:cNvSpPr/>
            <p:nvPr/>
          </p:nvSpPr>
          <p:spPr>
            <a:xfrm>
              <a:off x="6864480" y="811080"/>
              <a:ext cx="2146320" cy="52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3" name="Rectangle 8"/>
          <p:cNvGrpSpPr/>
          <p:nvPr/>
        </p:nvGrpSpPr>
        <p:grpSpPr>
          <a:xfrm>
            <a:off x="9010800" y="811080"/>
            <a:ext cx="2151000" cy="5248440"/>
            <a:chOff x="9010800" y="811080"/>
            <a:chExt cx="2151000" cy="5248440"/>
          </a:xfrm>
        </p:grpSpPr>
        <p:pic>
          <p:nvPicPr>
            <p:cNvPr id="2114" name="Rectangle 8" descr=""/>
            <p:cNvPicPr/>
            <p:nvPr/>
          </p:nvPicPr>
          <p:blipFill>
            <a:blip r:embed="rId2"/>
            <a:stretch/>
          </p:blipFill>
          <p:spPr>
            <a:xfrm>
              <a:off x="9010800" y="811080"/>
              <a:ext cx="215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5" name=""/>
            <p:cNvSpPr/>
            <p:nvPr/>
          </p:nvSpPr>
          <p:spPr>
            <a:xfrm>
              <a:off x="9010800" y="811080"/>
              <a:ext cx="2149200" cy="52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6" name="Rectangle 6"/>
          <p:cNvGrpSpPr/>
          <p:nvPr/>
        </p:nvGrpSpPr>
        <p:grpSpPr>
          <a:xfrm>
            <a:off x="4711680" y="811080"/>
            <a:ext cx="2152800" cy="5248440"/>
            <a:chOff x="4711680" y="811080"/>
            <a:chExt cx="2152800" cy="5248440"/>
          </a:xfrm>
        </p:grpSpPr>
        <p:pic>
          <p:nvPicPr>
            <p:cNvPr id="2117" name="Rectangle 6" descr=""/>
            <p:cNvPicPr/>
            <p:nvPr/>
          </p:nvPicPr>
          <p:blipFill>
            <a:blip r:embed="rId3"/>
            <a:stretch/>
          </p:blipFill>
          <p:spPr>
            <a:xfrm>
              <a:off x="4711680" y="811080"/>
              <a:ext cx="21528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8" name=""/>
            <p:cNvSpPr/>
            <p:nvPr/>
          </p:nvSpPr>
          <p:spPr>
            <a:xfrm>
              <a:off x="4711680" y="811080"/>
              <a:ext cx="2149560" cy="52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9" name="TextBox 9"/>
          <p:cNvSpPr/>
          <p:nvPr/>
        </p:nvSpPr>
        <p:spPr>
          <a:xfrm rot="16200000">
            <a:off x="6364080" y="21416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Quest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TextBox 10"/>
          <p:cNvSpPr/>
          <p:nvPr/>
        </p:nvSpPr>
        <p:spPr>
          <a:xfrm rot="16200000">
            <a:off x="4214520" y="21416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Questrial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TextBox 11"/>
          <p:cNvSpPr/>
          <p:nvPr/>
        </p:nvSpPr>
        <p:spPr>
          <a:xfrm rot="16200000">
            <a:off x="8513640" y="21416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Quest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2" name="Graphic 117" descr="Future"/>
          <p:cNvPicPr/>
          <p:nvPr/>
        </p:nvPicPr>
        <p:blipFill>
          <a:blip r:embed="rId4"/>
          <a:stretch/>
        </p:blipFill>
        <p:spPr>
          <a:xfrm>
            <a:off x="9845640" y="4267080"/>
            <a:ext cx="480960" cy="487440"/>
          </a:xfrm>
          <a:prstGeom prst="rect">
            <a:avLst/>
          </a:prstGeom>
          <a:ln w="0">
            <a:noFill/>
          </a:ln>
        </p:spPr>
      </p:pic>
      <p:pic>
        <p:nvPicPr>
          <p:cNvPr id="2123" name="Graphic 119" descr="Gambling Chips"/>
          <p:cNvPicPr/>
          <p:nvPr/>
        </p:nvPicPr>
        <p:blipFill>
          <a:blip r:embed="rId5"/>
          <a:stretch/>
        </p:blipFill>
        <p:spPr>
          <a:xfrm>
            <a:off x="7680240" y="4254480"/>
            <a:ext cx="513000" cy="512640"/>
          </a:xfrm>
          <a:prstGeom prst="rect">
            <a:avLst/>
          </a:prstGeom>
          <a:ln w="0">
            <a:noFill/>
          </a:ln>
        </p:spPr>
      </p:pic>
      <p:pic>
        <p:nvPicPr>
          <p:cNvPr id="2124" name="Graphic 121" descr="Single gear"/>
          <p:cNvPicPr/>
          <p:nvPr/>
        </p:nvPicPr>
        <p:blipFill>
          <a:blip r:embed="rId6"/>
          <a:stretch/>
        </p:blipFill>
        <p:spPr>
          <a:xfrm>
            <a:off x="5559480" y="4280040"/>
            <a:ext cx="457200" cy="463320"/>
          </a:xfrm>
          <a:prstGeom prst="rect">
            <a:avLst/>
          </a:prstGeom>
          <a:ln w="0">
            <a:noFill/>
          </a:ln>
        </p:spPr>
      </p:pic>
      <p:sp>
        <p:nvSpPr>
          <p:cNvPr id="2125" name="TextBox 2"/>
          <p:cNvSpPr/>
          <p:nvPr/>
        </p:nvSpPr>
        <p:spPr>
          <a:xfrm>
            <a:off x="1031760" y="1471680"/>
            <a:ext cx="27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estrial"/>
              </a:rPr>
              <a:t>Our Go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4"/>
          <p:cNvSpPr/>
          <p:nvPr/>
        </p:nvSpPr>
        <p:spPr>
          <a:xfrm>
            <a:off x="1031760" y="4307040"/>
            <a:ext cx="27702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win provide a robust synopsis for high level overviews. Iterative approaches to corporate strategy value proposition grow the is holisti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TextBox 152"/>
          <p:cNvSpPr/>
          <p:nvPr/>
        </p:nvSpPr>
        <p:spPr>
          <a:xfrm>
            <a:off x="1031760" y="2908440"/>
            <a:ext cx="2770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Questrial"/>
              </a:rPr>
              <a:t>Minimalism as a lifestyle is an art of letting 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8" name="Group 163"/>
          <p:cNvGrpSpPr/>
          <p:nvPr/>
        </p:nvGrpSpPr>
        <p:grpSpPr>
          <a:xfrm>
            <a:off x="1125360" y="2722680"/>
            <a:ext cx="2532240" cy="1101600"/>
            <a:chOff x="1125360" y="2722680"/>
            <a:chExt cx="2532240" cy="1101600"/>
          </a:xfrm>
        </p:grpSpPr>
        <p:sp>
          <p:nvSpPr>
            <p:cNvPr id="2129" name="Straight Connector 159"/>
            <p:cNvSpPr/>
            <p:nvPr/>
          </p:nvSpPr>
          <p:spPr>
            <a:xfrm>
              <a:off x="1125360" y="3824280"/>
              <a:ext cx="2532240" cy="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0" name="Straight Connector 161"/>
            <p:cNvSpPr/>
            <p:nvPr/>
          </p:nvSpPr>
          <p:spPr>
            <a:xfrm>
              <a:off x="1125360" y="2722680"/>
              <a:ext cx="2532240" cy="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1" name="Rectangle 31"/>
          <p:cNvGrpSpPr/>
          <p:nvPr/>
        </p:nvGrpSpPr>
        <p:grpSpPr>
          <a:xfrm>
            <a:off x="0" y="2627280"/>
            <a:ext cx="12192120" cy="4230720"/>
            <a:chOff x="0" y="2627280"/>
            <a:chExt cx="12192120" cy="4230720"/>
          </a:xfrm>
        </p:grpSpPr>
        <p:pic>
          <p:nvPicPr>
            <p:cNvPr id="2132" name="Rectangle 31" descr=""/>
            <p:cNvPicPr/>
            <p:nvPr/>
          </p:nvPicPr>
          <p:blipFill>
            <a:blip r:embed="rId1"/>
            <a:stretch/>
          </p:blipFill>
          <p:spPr>
            <a:xfrm>
              <a:off x="0" y="2627280"/>
              <a:ext cx="1219212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3" name=""/>
            <p:cNvSpPr/>
            <p:nvPr/>
          </p:nvSpPr>
          <p:spPr>
            <a:xfrm>
              <a:off x="0" y="2627280"/>
              <a:ext cx="12192120" cy="42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4" name="TextBox 2"/>
          <p:cNvSpPr/>
          <p:nvPr/>
        </p:nvSpPr>
        <p:spPr>
          <a:xfrm>
            <a:off x="4464000" y="954000"/>
            <a:ext cx="32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estrial"/>
              </a:rPr>
              <a:t>Achiev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TextBox 4"/>
          <p:cNvSpPr/>
          <p:nvPr/>
        </p:nvSpPr>
        <p:spPr>
          <a:xfrm>
            <a:off x="4464000" y="1600200"/>
            <a:ext cx="3264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win provi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Rectangle 53"/>
          <p:cNvSpPr/>
          <p:nvPr/>
        </p:nvSpPr>
        <p:spPr>
          <a:xfrm>
            <a:off x="4597560" y="2614680"/>
            <a:ext cx="2997000" cy="322560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f7fbf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Rectangle 59"/>
          <p:cNvSpPr/>
          <p:nvPr/>
        </p:nvSpPr>
        <p:spPr>
          <a:xfrm>
            <a:off x="1022400" y="2614680"/>
            <a:ext cx="2997000" cy="322560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f7fbf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Rectangle 60"/>
          <p:cNvSpPr/>
          <p:nvPr/>
        </p:nvSpPr>
        <p:spPr>
          <a:xfrm>
            <a:off x="8172360" y="2614680"/>
            <a:ext cx="2997360" cy="322560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f7fbf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TextBox 7"/>
          <p:cNvSpPr/>
          <p:nvPr/>
        </p:nvSpPr>
        <p:spPr>
          <a:xfrm>
            <a:off x="1149480" y="4027320"/>
            <a:ext cx="27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Questrial"/>
              </a:rPr>
              <a:t>Successful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TextBox 9"/>
          <p:cNvSpPr/>
          <p:nvPr/>
        </p:nvSpPr>
        <p:spPr>
          <a:xfrm>
            <a:off x="1149480" y="4363920"/>
            <a:ext cx="2741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 synopsis for high Organically grow the holistic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TextBox 10"/>
          <p:cNvSpPr/>
          <p:nvPr/>
        </p:nvSpPr>
        <p:spPr>
          <a:xfrm>
            <a:off x="1766880" y="310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Questrial"/>
              </a:rPr>
              <a:t>2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TextBox 15"/>
          <p:cNvSpPr/>
          <p:nvPr/>
        </p:nvSpPr>
        <p:spPr>
          <a:xfrm>
            <a:off x="4726080" y="4027320"/>
            <a:ext cx="27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Questrial"/>
              </a:rPr>
              <a:t>Happy Custom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TextBox 16"/>
          <p:cNvSpPr/>
          <p:nvPr/>
        </p:nvSpPr>
        <p:spPr>
          <a:xfrm>
            <a:off x="4726080" y="4363920"/>
            <a:ext cx="2739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 synopsis for high Organically grow the holistic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TextBox 17"/>
          <p:cNvSpPr/>
          <p:nvPr/>
        </p:nvSpPr>
        <p:spPr>
          <a:xfrm>
            <a:off x="5342040" y="310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Questrial"/>
              </a:rPr>
              <a:t>1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TextBox 18"/>
          <p:cNvSpPr/>
          <p:nvPr/>
        </p:nvSpPr>
        <p:spPr>
          <a:xfrm>
            <a:off x="8300880" y="4027320"/>
            <a:ext cx="27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Questrial"/>
              </a:rPr>
              <a:t>Global Cli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TextBox 19"/>
          <p:cNvSpPr/>
          <p:nvPr/>
        </p:nvSpPr>
        <p:spPr>
          <a:xfrm>
            <a:off x="8300880" y="4363920"/>
            <a:ext cx="2741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 synopsis for high Organically grow the holistic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TextBox 20"/>
          <p:cNvSpPr/>
          <p:nvPr/>
        </p:nvSpPr>
        <p:spPr>
          <a:xfrm>
            <a:off x="8712360" y="3105000"/>
            <a:ext cx="19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Questrial"/>
              </a:rPr>
              <a:t>2000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Straight Connector 44"/>
          <p:cNvSpPr/>
          <p:nvPr/>
        </p:nvSpPr>
        <p:spPr>
          <a:xfrm>
            <a:off x="2176560" y="5392800"/>
            <a:ext cx="68904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Straight Connector 46"/>
          <p:cNvSpPr/>
          <p:nvPr/>
        </p:nvSpPr>
        <p:spPr>
          <a:xfrm>
            <a:off x="5751360" y="5392800"/>
            <a:ext cx="68904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Straight Connector 47"/>
          <p:cNvSpPr/>
          <p:nvPr/>
        </p:nvSpPr>
        <p:spPr>
          <a:xfrm>
            <a:off x="9326520" y="5392800"/>
            <a:ext cx="68904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TextBox 2"/>
          <p:cNvSpPr/>
          <p:nvPr/>
        </p:nvSpPr>
        <p:spPr>
          <a:xfrm>
            <a:off x="1093680" y="1868400"/>
            <a:ext cx="197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About Our Compa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TextBox 6"/>
          <p:cNvSpPr/>
          <p:nvPr/>
        </p:nvSpPr>
        <p:spPr>
          <a:xfrm>
            <a:off x="1093680" y="2247840"/>
            <a:ext cx="3117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TextBox 51"/>
          <p:cNvSpPr/>
          <p:nvPr/>
        </p:nvSpPr>
        <p:spPr>
          <a:xfrm>
            <a:off x="1093680" y="3908520"/>
            <a:ext cx="31863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high Organically grow the holistic world view of disruptive innovation workplace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4" name="Group 4"/>
          <p:cNvGrpSpPr/>
          <p:nvPr/>
        </p:nvGrpSpPr>
        <p:grpSpPr>
          <a:xfrm>
            <a:off x="0" y="0"/>
            <a:ext cx="12192120" cy="4467240"/>
            <a:chOff x="0" y="0"/>
            <a:chExt cx="12192120" cy="4467240"/>
          </a:xfrm>
        </p:grpSpPr>
        <p:sp>
          <p:nvSpPr>
            <p:cNvPr id="2155" name="Rectangle 6"/>
            <p:cNvSpPr/>
            <p:nvPr/>
          </p:nvSpPr>
          <p:spPr>
            <a:xfrm>
              <a:off x="0" y="0"/>
              <a:ext cx="12192120" cy="4467240"/>
            </a:xfrm>
            <a:prstGeom prst="rect">
              <a:avLst/>
            </a:prstGeom>
            <a:solidFill>
              <a:srgbClr val="0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6" name="Rectangle 50"/>
            <p:cNvSpPr/>
            <p:nvPr/>
          </p:nvSpPr>
          <p:spPr>
            <a:xfrm>
              <a:off x="0" y="3122280"/>
              <a:ext cx="12192120" cy="1344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7" name="TextBox 3"/>
          <p:cNvSpPr/>
          <p:nvPr/>
        </p:nvSpPr>
        <p:spPr>
          <a:xfrm>
            <a:off x="4143240" y="1284120"/>
            <a:ext cx="39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Questrial"/>
              </a:rPr>
              <a:t>Company Histo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TextBox 11"/>
          <p:cNvSpPr/>
          <p:nvPr/>
        </p:nvSpPr>
        <p:spPr>
          <a:xfrm>
            <a:off x="412920" y="4829040"/>
            <a:ext cx="2741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 synopsis for high Organically grow the holistic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TextBox 14"/>
          <p:cNvSpPr/>
          <p:nvPr/>
        </p:nvSpPr>
        <p:spPr>
          <a:xfrm>
            <a:off x="3287880" y="4829040"/>
            <a:ext cx="2741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 synopsis for high Organically grow the holistic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TextBox 17"/>
          <p:cNvSpPr/>
          <p:nvPr/>
        </p:nvSpPr>
        <p:spPr>
          <a:xfrm>
            <a:off x="6162840" y="4829040"/>
            <a:ext cx="2741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 synopsis for high Organically grow the holistic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TextBox 20"/>
          <p:cNvSpPr/>
          <p:nvPr/>
        </p:nvSpPr>
        <p:spPr>
          <a:xfrm>
            <a:off x="9037800" y="4829040"/>
            <a:ext cx="2741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 synopsis for high Organically grow the holistic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Rectangle 45"/>
          <p:cNvSpPr/>
          <p:nvPr/>
        </p:nvSpPr>
        <p:spPr>
          <a:xfrm>
            <a:off x="3997440" y="984240"/>
            <a:ext cx="4197240" cy="1152360"/>
          </a:xfrm>
          <a:prstGeom prst="rect">
            <a:avLst/>
          </a:prstGeom>
          <a:noFill/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TextBox 12"/>
          <p:cNvSpPr/>
          <p:nvPr/>
        </p:nvSpPr>
        <p:spPr>
          <a:xfrm>
            <a:off x="504720" y="35337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Quest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TextBox 21"/>
          <p:cNvSpPr/>
          <p:nvPr/>
        </p:nvSpPr>
        <p:spPr>
          <a:xfrm>
            <a:off x="9129600" y="35337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Questrial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Oval 30"/>
          <p:cNvSpPr/>
          <p:nvPr/>
        </p:nvSpPr>
        <p:spPr>
          <a:xfrm>
            <a:off x="4502160" y="4313160"/>
            <a:ext cx="307800" cy="30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Oval 31"/>
          <p:cNvSpPr/>
          <p:nvPr/>
        </p:nvSpPr>
        <p:spPr>
          <a:xfrm>
            <a:off x="7381800" y="4313160"/>
            <a:ext cx="308160" cy="30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Oval 32"/>
          <p:cNvSpPr/>
          <p:nvPr/>
        </p:nvSpPr>
        <p:spPr>
          <a:xfrm>
            <a:off x="10255320" y="4313160"/>
            <a:ext cx="307800" cy="30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Oval 29"/>
          <p:cNvSpPr/>
          <p:nvPr/>
        </p:nvSpPr>
        <p:spPr>
          <a:xfrm>
            <a:off x="1628640" y="4313160"/>
            <a:ext cx="308160" cy="30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Oval 13"/>
          <p:cNvSpPr/>
          <p:nvPr/>
        </p:nvSpPr>
        <p:spPr>
          <a:xfrm>
            <a:off x="1704960" y="4379760"/>
            <a:ext cx="157320" cy="1573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15"/>
          <p:cNvSpPr/>
          <p:nvPr/>
        </p:nvSpPr>
        <p:spPr>
          <a:xfrm>
            <a:off x="3379680" y="35337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Questrial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Oval 16"/>
          <p:cNvSpPr/>
          <p:nvPr/>
        </p:nvSpPr>
        <p:spPr>
          <a:xfrm>
            <a:off x="4579920" y="4379760"/>
            <a:ext cx="157320" cy="1573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TextBox 18"/>
          <p:cNvSpPr/>
          <p:nvPr/>
        </p:nvSpPr>
        <p:spPr>
          <a:xfrm>
            <a:off x="6254640" y="35337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Questrial"/>
              </a:rPr>
              <a:t>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Oval 19"/>
          <p:cNvSpPr/>
          <p:nvPr/>
        </p:nvSpPr>
        <p:spPr>
          <a:xfrm>
            <a:off x="7454880" y="4379760"/>
            <a:ext cx="157320" cy="1573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Oval 22"/>
          <p:cNvSpPr/>
          <p:nvPr/>
        </p:nvSpPr>
        <p:spPr>
          <a:xfrm>
            <a:off x="10329840" y="4379760"/>
            <a:ext cx="157320" cy="1573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TextBox 2"/>
          <p:cNvSpPr/>
          <p:nvPr/>
        </p:nvSpPr>
        <p:spPr>
          <a:xfrm>
            <a:off x="760320" y="4114800"/>
            <a:ext cx="26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estrial"/>
              </a:rPr>
              <a:t>Our Minimalist Time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Straight Connector 6"/>
          <p:cNvSpPr/>
          <p:nvPr/>
        </p:nvSpPr>
        <p:spPr>
          <a:xfrm flipH="1">
            <a:off x="2068200" y="2448000"/>
            <a:ext cx="10123560" cy="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Rectangle 18"/>
          <p:cNvSpPr/>
          <p:nvPr/>
        </p:nvSpPr>
        <p:spPr>
          <a:xfrm>
            <a:off x="868320" y="1847880"/>
            <a:ext cx="1200240" cy="1200240"/>
          </a:xfrm>
          <a:prstGeom prst="rect">
            <a:avLst/>
          </a:prstGeom>
          <a:noFill/>
          <a:ln w="1260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8" name="Graphic 20" descr="Daily calendar"/>
          <p:cNvPicPr/>
          <p:nvPr/>
        </p:nvPicPr>
        <p:blipFill>
          <a:blip r:embed="rId1"/>
          <a:stretch/>
        </p:blipFill>
        <p:spPr>
          <a:xfrm>
            <a:off x="1262160" y="2243160"/>
            <a:ext cx="414360" cy="407880"/>
          </a:xfrm>
          <a:prstGeom prst="rect">
            <a:avLst/>
          </a:prstGeom>
          <a:ln w="0">
            <a:noFill/>
          </a:ln>
        </p:spPr>
      </p:pic>
      <p:sp>
        <p:nvSpPr>
          <p:cNvPr id="2179" name="TextBox 4"/>
          <p:cNvSpPr/>
          <p:nvPr/>
        </p:nvSpPr>
        <p:spPr>
          <a:xfrm>
            <a:off x="3936960" y="2733840"/>
            <a:ext cx="27957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win provide a robust synopsis for high level overviews. Iterative approaches to corporate strategy value proposition grow the is holisti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Oval 25"/>
          <p:cNvSpPr/>
          <p:nvPr/>
        </p:nvSpPr>
        <p:spPr>
          <a:xfrm flipV="1">
            <a:off x="4016520" y="2370960"/>
            <a:ext cx="152280" cy="1522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1" name="Group 30"/>
          <p:cNvGrpSpPr/>
          <p:nvPr/>
        </p:nvGrpSpPr>
        <p:grpSpPr>
          <a:xfrm>
            <a:off x="4016160" y="1098720"/>
            <a:ext cx="2716560" cy="1020600"/>
            <a:chOff x="4016160" y="1098720"/>
            <a:chExt cx="2716560" cy="1020600"/>
          </a:xfrm>
        </p:grpSpPr>
        <p:sp>
          <p:nvSpPr>
            <p:cNvPr id="2182" name="Rectangle 27"/>
            <p:cNvSpPr/>
            <p:nvPr/>
          </p:nvSpPr>
          <p:spPr>
            <a:xfrm>
              <a:off x="4016520" y="1098720"/>
              <a:ext cx="2716200" cy="88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TextBox 9"/>
            <p:cNvSpPr/>
            <p:nvPr/>
          </p:nvSpPr>
          <p:spPr>
            <a:xfrm>
              <a:off x="4311000" y="1279080"/>
              <a:ext cx="110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Questrial"/>
                </a:rPr>
                <a:t>20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TextBox 24"/>
            <p:cNvSpPr/>
            <p:nvPr/>
          </p:nvSpPr>
          <p:spPr>
            <a:xfrm>
              <a:off x="5310000" y="1325520"/>
              <a:ext cx="1230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Your awesome title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Right Triangle 28"/>
            <p:cNvSpPr/>
            <p:nvPr/>
          </p:nvSpPr>
          <p:spPr>
            <a:xfrm rot="5400000">
              <a:off x="4029120" y="1954080"/>
              <a:ext cx="151920" cy="17820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6" name="Oval 34"/>
          <p:cNvSpPr/>
          <p:nvPr/>
        </p:nvSpPr>
        <p:spPr>
          <a:xfrm flipV="1">
            <a:off x="7451640" y="2370960"/>
            <a:ext cx="152640" cy="1522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7" name="Group 35"/>
          <p:cNvGrpSpPr/>
          <p:nvPr/>
        </p:nvGrpSpPr>
        <p:grpSpPr>
          <a:xfrm>
            <a:off x="7451280" y="1098720"/>
            <a:ext cx="2716560" cy="1020600"/>
            <a:chOff x="7451280" y="1098720"/>
            <a:chExt cx="2716560" cy="1020600"/>
          </a:xfrm>
        </p:grpSpPr>
        <p:sp>
          <p:nvSpPr>
            <p:cNvPr id="2188" name="Rectangle 36"/>
            <p:cNvSpPr/>
            <p:nvPr/>
          </p:nvSpPr>
          <p:spPr>
            <a:xfrm>
              <a:off x="7451640" y="1098720"/>
              <a:ext cx="2716200" cy="882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TextBox 37"/>
            <p:cNvSpPr/>
            <p:nvPr/>
          </p:nvSpPr>
          <p:spPr>
            <a:xfrm>
              <a:off x="7746120" y="1279080"/>
              <a:ext cx="110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Questrial"/>
                </a:rPr>
                <a:t>20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TextBox 38"/>
            <p:cNvSpPr/>
            <p:nvPr/>
          </p:nvSpPr>
          <p:spPr>
            <a:xfrm>
              <a:off x="8745120" y="1325520"/>
              <a:ext cx="1230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Your awesome title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Right Triangle 39"/>
            <p:cNvSpPr/>
            <p:nvPr/>
          </p:nvSpPr>
          <p:spPr>
            <a:xfrm rot="5400000">
              <a:off x="7464240" y="1954080"/>
              <a:ext cx="151920" cy="17820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2" name="TextBox 40"/>
          <p:cNvSpPr/>
          <p:nvPr/>
        </p:nvSpPr>
        <p:spPr>
          <a:xfrm>
            <a:off x="7346880" y="2733840"/>
            <a:ext cx="27957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win provide a robust synopsis for high level overviews. Iterative approaches to corporate strategy value proposition grow the is holisti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Oval 64"/>
          <p:cNvSpPr/>
          <p:nvPr/>
        </p:nvSpPr>
        <p:spPr>
          <a:xfrm flipV="1">
            <a:off x="10887120" y="2370960"/>
            <a:ext cx="150840" cy="1522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4" name="Group 65"/>
          <p:cNvGrpSpPr/>
          <p:nvPr/>
        </p:nvGrpSpPr>
        <p:grpSpPr>
          <a:xfrm>
            <a:off x="10886760" y="1098720"/>
            <a:ext cx="2715120" cy="1020600"/>
            <a:chOff x="10886760" y="1098720"/>
            <a:chExt cx="2715120" cy="1020600"/>
          </a:xfrm>
        </p:grpSpPr>
        <p:sp>
          <p:nvSpPr>
            <p:cNvPr id="2195" name="Rectangle 66"/>
            <p:cNvSpPr/>
            <p:nvPr/>
          </p:nvSpPr>
          <p:spPr>
            <a:xfrm>
              <a:off x="10887120" y="1098720"/>
              <a:ext cx="2714760" cy="88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6" name="TextBox 67"/>
            <p:cNvSpPr/>
            <p:nvPr/>
          </p:nvSpPr>
          <p:spPr>
            <a:xfrm>
              <a:off x="11181600" y="1279080"/>
              <a:ext cx="110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Questrial"/>
                </a:rPr>
                <a:t>20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7" name="TextBox 68"/>
            <p:cNvSpPr/>
            <p:nvPr/>
          </p:nvSpPr>
          <p:spPr>
            <a:xfrm>
              <a:off x="12180240" y="1325520"/>
              <a:ext cx="122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Your awesome title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8" name="Right Triangle 69"/>
            <p:cNvSpPr/>
            <p:nvPr/>
          </p:nvSpPr>
          <p:spPr>
            <a:xfrm rot="5400000">
              <a:off x="10899720" y="1954080"/>
              <a:ext cx="151920" cy="17820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9" name="TextBox 70"/>
          <p:cNvSpPr/>
          <p:nvPr/>
        </p:nvSpPr>
        <p:spPr>
          <a:xfrm>
            <a:off x="10782360" y="2733840"/>
            <a:ext cx="27954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win provide a robust synopsis for high level overviews. Iterative approaches to corporate strategy value proposition grow the is holisti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TextBox 2"/>
          <p:cNvSpPr/>
          <p:nvPr/>
        </p:nvSpPr>
        <p:spPr>
          <a:xfrm flipH="1">
            <a:off x="8826480" y="4114800"/>
            <a:ext cx="26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estrial"/>
              </a:rPr>
              <a:t>Our Minimalist Time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Straight Connector 3"/>
          <p:cNvSpPr/>
          <p:nvPr/>
        </p:nvSpPr>
        <p:spPr>
          <a:xfrm>
            <a:off x="0" y="2448000"/>
            <a:ext cx="10123560" cy="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Rectangle 4"/>
          <p:cNvSpPr/>
          <p:nvPr/>
        </p:nvSpPr>
        <p:spPr>
          <a:xfrm flipH="1">
            <a:off x="10123560" y="1847880"/>
            <a:ext cx="1200240" cy="1200240"/>
          </a:xfrm>
          <a:prstGeom prst="rect">
            <a:avLst/>
          </a:prstGeom>
          <a:noFill/>
          <a:ln w="1260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TextBox 38"/>
          <p:cNvSpPr/>
          <p:nvPr/>
        </p:nvSpPr>
        <p:spPr>
          <a:xfrm>
            <a:off x="5337000" y="2733840"/>
            <a:ext cx="27957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win provide a robust synopsis for high level overviews. Iterative approaches to corporate strategy value proposition grow the is holisti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Oval 39"/>
          <p:cNvSpPr/>
          <p:nvPr/>
        </p:nvSpPr>
        <p:spPr>
          <a:xfrm flipV="1">
            <a:off x="5418000" y="2370960"/>
            <a:ext cx="150840" cy="1522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5" name="Group 40"/>
          <p:cNvGrpSpPr/>
          <p:nvPr/>
        </p:nvGrpSpPr>
        <p:grpSpPr>
          <a:xfrm>
            <a:off x="5417640" y="1098720"/>
            <a:ext cx="2715120" cy="1020600"/>
            <a:chOff x="5417640" y="1098720"/>
            <a:chExt cx="2715120" cy="1020600"/>
          </a:xfrm>
        </p:grpSpPr>
        <p:sp>
          <p:nvSpPr>
            <p:cNvPr id="2206" name="Rectangle 42"/>
            <p:cNvSpPr/>
            <p:nvPr/>
          </p:nvSpPr>
          <p:spPr>
            <a:xfrm>
              <a:off x="5418000" y="1098720"/>
              <a:ext cx="2714760" cy="882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7" name="TextBox 43"/>
            <p:cNvSpPr/>
            <p:nvPr/>
          </p:nvSpPr>
          <p:spPr>
            <a:xfrm>
              <a:off x="5712480" y="1279080"/>
              <a:ext cx="110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Questrial"/>
                </a:rPr>
                <a:t>20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8" name="TextBox 44"/>
            <p:cNvSpPr/>
            <p:nvPr/>
          </p:nvSpPr>
          <p:spPr>
            <a:xfrm>
              <a:off x="6711120" y="1325520"/>
              <a:ext cx="122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Your awesome title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9" name="Right Triangle 45"/>
            <p:cNvSpPr/>
            <p:nvPr/>
          </p:nvSpPr>
          <p:spPr>
            <a:xfrm rot="5400000">
              <a:off x="5430600" y="1954080"/>
              <a:ext cx="151920" cy="178200"/>
            </a:xfrm>
            <a:prstGeom prst="rtTriangl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0" name="Oval 47"/>
          <p:cNvSpPr/>
          <p:nvPr/>
        </p:nvSpPr>
        <p:spPr>
          <a:xfrm flipV="1">
            <a:off x="2006640" y="2370960"/>
            <a:ext cx="152280" cy="1522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1" name="Group 48"/>
          <p:cNvGrpSpPr/>
          <p:nvPr/>
        </p:nvGrpSpPr>
        <p:grpSpPr>
          <a:xfrm>
            <a:off x="2006280" y="1098720"/>
            <a:ext cx="2716560" cy="1020600"/>
            <a:chOff x="2006280" y="1098720"/>
            <a:chExt cx="2716560" cy="1020600"/>
          </a:xfrm>
        </p:grpSpPr>
        <p:sp>
          <p:nvSpPr>
            <p:cNvPr id="2212" name="Rectangle 51"/>
            <p:cNvSpPr/>
            <p:nvPr/>
          </p:nvSpPr>
          <p:spPr>
            <a:xfrm>
              <a:off x="2006640" y="1098720"/>
              <a:ext cx="2716200" cy="882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3" name="TextBox 52"/>
            <p:cNvSpPr/>
            <p:nvPr/>
          </p:nvSpPr>
          <p:spPr>
            <a:xfrm>
              <a:off x="2301120" y="1279080"/>
              <a:ext cx="110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Questrial"/>
                </a:rPr>
                <a:t>20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TextBox 53"/>
            <p:cNvSpPr/>
            <p:nvPr/>
          </p:nvSpPr>
          <p:spPr>
            <a:xfrm>
              <a:off x="3300120" y="1325520"/>
              <a:ext cx="1230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Your awesome title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Right Triangle 54"/>
            <p:cNvSpPr/>
            <p:nvPr/>
          </p:nvSpPr>
          <p:spPr>
            <a:xfrm rot="5400000">
              <a:off x="2019240" y="1954080"/>
              <a:ext cx="151920" cy="178200"/>
            </a:xfrm>
            <a:prstGeom prst="rtTriangl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6" name="TextBox 49"/>
          <p:cNvSpPr/>
          <p:nvPr/>
        </p:nvSpPr>
        <p:spPr>
          <a:xfrm>
            <a:off x="1903320" y="2733840"/>
            <a:ext cx="27957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win provide a robust synopsis for high level overviews. Iterative approaches to corporate strategy value proposition grow the is holisti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Oval 56"/>
          <p:cNvSpPr/>
          <p:nvPr/>
        </p:nvSpPr>
        <p:spPr>
          <a:xfrm flipV="1">
            <a:off x="-1403280" y="2370960"/>
            <a:ext cx="152280" cy="1522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8" name="Group 57"/>
          <p:cNvGrpSpPr/>
          <p:nvPr/>
        </p:nvGrpSpPr>
        <p:grpSpPr>
          <a:xfrm>
            <a:off x="-1403640" y="1098720"/>
            <a:ext cx="2716920" cy="1020600"/>
            <a:chOff x="-1403640" y="1098720"/>
            <a:chExt cx="2716920" cy="1020600"/>
          </a:xfrm>
        </p:grpSpPr>
        <p:sp>
          <p:nvSpPr>
            <p:cNvPr id="2219" name="Rectangle 60"/>
            <p:cNvSpPr/>
            <p:nvPr/>
          </p:nvSpPr>
          <p:spPr>
            <a:xfrm>
              <a:off x="-1402920" y="1098720"/>
              <a:ext cx="2716200" cy="88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TextBox 61"/>
            <p:cNvSpPr/>
            <p:nvPr/>
          </p:nvSpPr>
          <p:spPr>
            <a:xfrm>
              <a:off x="-1108440" y="1279080"/>
              <a:ext cx="110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Questrial"/>
                </a:rPr>
                <a:t>20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TextBox 62"/>
            <p:cNvSpPr/>
            <p:nvPr/>
          </p:nvSpPr>
          <p:spPr>
            <a:xfrm>
              <a:off x="-109440" y="1325520"/>
              <a:ext cx="1230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Your awesome title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2" name="Right Triangle 63"/>
            <p:cNvSpPr/>
            <p:nvPr/>
          </p:nvSpPr>
          <p:spPr>
            <a:xfrm rot="5400000">
              <a:off x="-1390320" y="1954080"/>
              <a:ext cx="151920" cy="17820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3" name="TextBox 58"/>
          <p:cNvSpPr/>
          <p:nvPr/>
        </p:nvSpPr>
        <p:spPr>
          <a:xfrm>
            <a:off x="-1508040" y="2733840"/>
            <a:ext cx="27954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win provide a robust synopsis for high level overviews. Iterative approaches to corporate strategy value proposition grow the is holisti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4" name="Graphic 15" descr="Illustrator"/>
          <p:cNvPicPr/>
          <p:nvPr/>
        </p:nvPicPr>
        <p:blipFill>
          <a:blip r:embed="rId1"/>
          <a:stretch/>
        </p:blipFill>
        <p:spPr>
          <a:xfrm>
            <a:off x="10460160" y="2225520"/>
            <a:ext cx="525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TextBox 2"/>
          <p:cNvSpPr/>
          <p:nvPr/>
        </p:nvSpPr>
        <p:spPr>
          <a:xfrm>
            <a:off x="1854360" y="3817800"/>
            <a:ext cx="8483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Questrial"/>
              </a:rPr>
              <a:t>Creativity is allowing yourself to make mistakes. Art is knowing which ones to kee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TextBox 6"/>
          <p:cNvSpPr/>
          <p:nvPr/>
        </p:nvSpPr>
        <p:spPr>
          <a:xfrm>
            <a:off x="5108400" y="5172120"/>
            <a:ext cx="197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Questrial"/>
              </a:rPr>
              <a:t>Scoot Ada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Straight Connector 9"/>
          <p:cNvSpPr/>
          <p:nvPr/>
        </p:nvSpPr>
        <p:spPr>
          <a:xfrm>
            <a:off x="5500800" y="5003640"/>
            <a:ext cx="119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Rectangle 8"/>
          <p:cNvSpPr/>
          <p:nvPr/>
        </p:nvSpPr>
        <p:spPr>
          <a:xfrm>
            <a:off x="0" y="0"/>
            <a:ext cx="69469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TextBox 23"/>
          <p:cNvSpPr/>
          <p:nvPr/>
        </p:nvSpPr>
        <p:spPr>
          <a:xfrm>
            <a:off x="736560" y="4906800"/>
            <a:ext cx="16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</a:rPr>
              <a:t>Samuel Car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TextBox 25"/>
          <p:cNvSpPr/>
          <p:nvPr/>
        </p:nvSpPr>
        <p:spPr>
          <a:xfrm>
            <a:off x="736560" y="5164200"/>
            <a:ext cx="1650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Web Desig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TextBox 28"/>
          <p:cNvSpPr/>
          <p:nvPr/>
        </p:nvSpPr>
        <p:spPr>
          <a:xfrm>
            <a:off x="2558880" y="49068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</a:rPr>
              <a:t>Margaret Muno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TextBox 29"/>
          <p:cNvSpPr/>
          <p:nvPr/>
        </p:nvSpPr>
        <p:spPr>
          <a:xfrm>
            <a:off x="2558880" y="5164200"/>
            <a:ext cx="16513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Copywri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TextBox 30"/>
          <p:cNvSpPr/>
          <p:nvPr/>
        </p:nvSpPr>
        <p:spPr>
          <a:xfrm>
            <a:off x="4444920" y="4906800"/>
            <a:ext cx="16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</a:rPr>
              <a:t>Roger Hugho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TextBox 31"/>
          <p:cNvSpPr/>
          <p:nvPr/>
        </p:nvSpPr>
        <p:spPr>
          <a:xfrm>
            <a:off x="4444920" y="5164200"/>
            <a:ext cx="1650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UI Desig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TextBox 2"/>
          <p:cNvSpPr/>
          <p:nvPr/>
        </p:nvSpPr>
        <p:spPr>
          <a:xfrm>
            <a:off x="8326440" y="2212920"/>
            <a:ext cx="27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estrial"/>
              </a:rPr>
              <a:t>Creative Team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TextBox 33"/>
          <p:cNvSpPr/>
          <p:nvPr/>
        </p:nvSpPr>
        <p:spPr>
          <a:xfrm>
            <a:off x="8128080" y="3565440"/>
            <a:ext cx="31878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high Organically grow the holistic world view of disruptive innovation workplace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Rectangle: Rounded Corners 1"/>
          <p:cNvSpPr/>
          <p:nvPr/>
        </p:nvSpPr>
        <p:spPr>
          <a:xfrm>
            <a:off x="6904080" y="2982960"/>
            <a:ext cx="85680" cy="892080"/>
          </a:xfrm>
          <a:custGeom>
            <a:avLst/>
            <a:gdLst>
              <a:gd name="textAreaLeft" fmla="*/ 12600 w 85680"/>
              <a:gd name="textAreaRight" fmla="*/ 73080 w 85680"/>
              <a:gd name="textAreaTop" fmla="*/ 12600 h 892080"/>
              <a:gd name="textAreaBottom" fmla="*/ 879480 h 892080"/>
            </a:gdLst>
            <a:ahLst/>
            <a:rect l="textAreaLeft" t="textAreaTop" r="textAreaRight" b="textAreaBottom"/>
            <a:pathLst>
              <a:path w="21600" h="224044">
                <a:moveTo>
                  <a:pt x="10800" y="0"/>
                </a:moveTo>
                <a:arcTo wR="10800" hR="10800" stAng="16200000" swAng="-5400000"/>
                <a:lnTo>
                  <a:pt x="0" y="213244"/>
                </a:lnTo>
                <a:arcTo wR="10800" hR="10800" stAng="10800000" swAng="-5400000"/>
                <a:lnTo>
                  <a:pt x="10800" y="2240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TextBox 115"/>
          <p:cNvSpPr/>
          <p:nvPr/>
        </p:nvSpPr>
        <p:spPr>
          <a:xfrm>
            <a:off x="1449360" y="4943520"/>
            <a:ext cx="2792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Questrial"/>
              </a:rPr>
              <a:t>Creative Team Wor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TextBox 117"/>
          <p:cNvSpPr/>
          <p:nvPr/>
        </p:nvSpPr>
        <p:spPr>
          <a:xfrm>
            <a:off x="4390920" y="4946760"/>
            <a:ext cx="31863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high Organically grow the holistic world view of disruptive innovation workplace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TextBox 118"/>
          <p:cNvSpPr/>
          <p:nvPr/>
        </p:nvSpPr>
        <p:spPr>
          <a:xfrm>
            <a:off x="7726320" y="4946760"/>
            <a:ext cx="3186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high Organically grow the holistic world view of disruptive innovation workplace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Isosceles Triangle 125"/>
          <p:cNvSpPr/>
          <p:nvPr/>
        </p:nvSpPr>
        <p:spPr>
          <a:xfrm rot="5400000">
            <a:off x="1140840" y="5792400"/>
            <a:ext cx="169920" cy="147960"/>
          </a:xfrm>
          <a:prstGeom prst="triangle">
            <a:avLst>
              <a:gd name="adj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2" name="" descr=""/>
          <p:cNvPicPr/>
          <p:nvPr/>
        </p:nvPicPr>
        <p:blipFill>
          <a:blip r:embed="rId1"/>
          <a:stretch/>
        </p:blipFill>
        <p:spPr>
          <a:xfrm>
            <a:off x="3107880" y="0"/>
            <a:ext cx="2916360" cy="4005360"/>
          </a:xfrm>
          <a:prstGeom prst="rect">
            <a:avLst/>
          </a:prstGeom>
          <a:ln w="0">
            <a:noFill/>
          </a:ln>
        </p:spPr>
      </p:pic>
      <p:pic>
        <p:nvPicPr>
          <p:cNvPr id="2243" name="" descr=""/>
          <p:cNvPicPr/>
          <p:nvPr/>
        </p:nvPicPr>
        <p:blipFill>
          <a:blip r:embed="rId2"/>
          <a:stretch/>
        </p:blipFill>
        <p:spPr>
          <a:xfrm>
            <a:off x="9275400" y="0"/>
            <a:ext cx="2916360" cy="4005360"/>
          </a:xfrm>
          <a:prstGeom prst="rect">
            <a:avLst/>
          </a:prstGeom>
          <a:ln w="0">
            <a:noFill/>
          </a:ln>
        </p:spPr>
      </p:pic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-360" y="0"/>
            <a:ext cx="2941560" cy="4005360"/>
          </a:xfrm>
          <a:prstGeom prst="rect">
            <a:avLst/>
          </a:prstGeom>
          <a:ln w="0">
            <a:noFill/>
          </a:ln>
        </p:spPr>
      </p:pic>
      <p:pic>
        <p:nvPicPr>
          <p:cNvPr id="2245" name="" descr=""/>
          <p:cNvPicPr/>
          <p:nvPr/>
        </p:nvPicPr>
        <p:blipFill>
          <a:blip r:embed="rId4"/>
          <a:stretch/>
        </p:blipFill>
        <p:spPr>
          <a:xfrm>
            <a:off x="6192360" y="0"/>
            <a:ext cx="29163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Rectangle 110"/>
          <p:cNvSpPr/>
          <p:nvPr/>
        </p:nvSpPr>
        <p:spPr>
          <a:xfrm>
            <a:off x="7338960" y="0"/>
            <a:ext cx="485316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TextBox 18"/>
          <p:cNvSpPr/>
          <p:nvPr/>
        </p:nvSpPr>
        <p:spPr>
          <a:xfrm>
            <a:off x="2374920" y="1536840"/>
            <a:ext cx="22176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50920">
              <a:lnSpc>
                <a:spcPct val="150000"/>
              </a:lnSpc>
              <a:buClr>
                <a:srgbClr val="000000"/>
              </a:buClr>
              <a:buSzPct val="80000"/>
              <a:buFont typeface="Quest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0920">
              <a:lnSpc>
                <a:spcPct val="150000"/>
              </a:lnSpc>
              <a:buClr>
                <a:srgbClr val="000000"/>
              </a:buClr>
              <a:buSzPct val="80000"/>
              <a:buFont typeface="Quest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About 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0920">
              <a:lnSpc>
                <a:spcPct val="150000"/>
              </a:lnSpc>
              <a:buClr>
                <a:srgbClr val="000000"/>
              </a:buClr>
              <a:buSzPct val="80000"/>
              <a:buFont typeface="Quest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Experts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0920">
              <a:lnSpc>
                <a:spcPct val="150000"/>
              </a:lnSpc>
              <a:buClr>
                <a:srgbClr val="000000"/>
              </a:buClr>
              <a:buSzPct val="80000"/>
              <a:buFont typeface="Quest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0920">
              <a:lnSpc>
                <a:spcPct val="150000"/>
              </a:lnSpc>
              <a:buClr>
                <a:srgbClr val="000000"/>
              </a:buClr>
              <a:buSzPct val="80000"/>
              <a:buFont typeface="Quest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Our Portfol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0920">
              <a:lnSpc>
                <a:spcPct val="150000"/>
              </a:lnSpc>
              <a:buClr>
                <a:srgbClr val="000000"/>
              </a:buClr>
              <a:buSzPct val="80000"/>
              <a:buFont typeface="Quest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Testimoni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0920">
              <a:lnSpc>
                <a:spcPct val="150000"/>
              </a:lnSpc>
              <a:buClr>
                <a:srgbClr val="000000"/>
              </a:buClr>
              <a:buSzPct val="80000"/>
              <a:buFont typeface="Quest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Pricing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0920">
              <a:lnSpc>
                <a:spcPct val="150000"/>
              </a:lnSpc>
              <a:buClr>
                <a:srgbClr val="000000"/>
              </a:buClr>
              <a:buSzPct val="80000"/>
              <a:buFont typeface="Quest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Mockup De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0920">
              <a:lnSpc>
                <a:spcPct val="150000"/>
              </a:lnSpc>
              <a:buClr>
                <a:srgbClr val="000000"/>
              </a:buClr>
              <a:buSzPct val="80000"/>
              <a:buFont typeface="Quest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Contact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TextBox 26"/>
          <p:cNvSpPr/>
          <p:nvPr/>
        </p:nvSpPr>
        <p:spPr>
          <a:xfrm>
            <a:off x="5773680" y="1536840"/>
            <a:ext cx="6066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6" name="Group 32"/>
          <p:cNvGrpSpPr/>
          <p:nvPr/>
        </p:nvGrpSpPr>
        <p:grpSpPr>
          <a:xfrm>
            <a:off x="4092480" y="1828800"/>
            <a:ext cx="1616040" cy="3274920"/>
            <a:chOff x="4092480" y="1828800"/>
            <a:chExt cx="1616040" cy="3274920"/>
          </a:xfrm>
        </p:grpSpPr>
        <p:sp>
          <p:nvSpPr>
            <p:cNvPr id="2007" name="Straight Connector 12"/>
            <p:cNvSpPr/>
            <p:nvPr/>
          </p:nvSpPr>
          <p:spPr>
            <a:xfrm>
              <a:off x="4383000" y="1828800"/>
              <a:ext cx="1325520" cy="0"/>
            </a:xfrm>
            <a:prstGeom prst="line">
              <a:avLst/>
            </a:prstGeom>
            <a:ln cap="rnd" w="15840">
              <a:solidFill>
                <a:srgbClr val="7f7f7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8" name="Straight Connector 30"/>
            <p:cNvSpPr/>
            <p:nvPr/>
          </p:nvSpPr>
          <p:spPr>
            <a:xfrm>
              <a:off x="4092480" y="2235960"/>
              <a:ext cx="1616040" cy="0"/>
            </a:xfrm>
            <a:prstGeom prst="line">
              <a:avLst/>
            </a:prstGeom>
            <a:ln cap="rnd" w="15840">
              <a:solidFill>
                <a:srgbClr val="7f7f7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9" name="Straight Connector 34"/>
            <p:cNvSpPr/>
            <p:nvPr/>
          </p:nvSpPr>
          <p:spPr>
            <a:xfrm>
              <a:off x="4469400" y="2638440"/>
              <a:ext cx="1239120" cy="0"/>
            </a:xfrm>
            <a:prstGeom prst="line">
              <a:avLst/>
            </a:prstGeom>
            <a:ln cap="rnd" w="15840">
              <a:solidFill>
                <a:srgbClr val="7f7f7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Straight Connector 36"/>
            <p:cNvSpPr/>
            <p:nvPr/>
          </p:nvSpPr>
          <p:spPr>
            <a:xfrm>
              <a:off x="4383000" y="3065040"/>
              <a:ext cx="1325520" cy="0"/>
            </a:xfrm>
            <a:prstGeom prst="line">
              <a:avLst/>
            </a:prstGeom>
            <a:ln cap="rnd" w="15840">
              <a:solidFill>
                <a:srgbClr val="7f7f7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Straight Connector 38"/>
            <p:cNvSpPr/>
            <p:nvPr/>
          </p:nvSpPr>
          <p:spPr>
            <a:xfrm>
              <a:off x="4298040" y="3472200"/>
              <a:ext cx="1410480" cy="0"/>
            </a:xfrm>
            <a:prstGeom prst="line">
              <a:avLst/>
            </a:prstGeom>
            <a:ln cap="rnd" w="15840">
              <a:solidFill>
                <a:srgbClr val="7f7f7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Straight Connector 40"/>
            <p:cNvSpPr/>
            <p:nvPr/>
          </p:nvSpPr>
          <p:spPr>
            <a:xfrm>
              <a:off x="4298040" y="3884400"/>
              <a:ext cx="1410480" cy="0"/>
            </a:xfrm>
            <a:prstGeom prst="line">
              <a:avLst/>
            </a:prstGeom>
            <a:ln cap="rnd" w="15840">
              <a:solidFill>
                <a:srgbClr val="7f7f7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Straight Connector 43"/>
            <p:cNvSpPr/>
            <p:nvPr/>
          </p:nvSpPr>
          <p:spPr>
            <a:xfrm>
              <a:off x="4298040" y="4286880"/>
              <a:ext cx="1410480" cy="0"/>
            </a:xfrm>
            <a:prstGeom prst="line">
              <a:avLst/>
            </a:prstGeom>
            <a:ln cap="rnd" w="15840">
              <a:solidFill>
                <a:srgbClr val="7f7f7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Straight Connector 44"/>
            <p:cNvSpPr/>
            <p:nvPr/>
          </p:nvSpPr>
          <p:spPr>
            <a:xfrm>
              <a:off x="4658400" y="4719600"/>
              <a:ext cx="1050120" cy="0"/>
            </a:xfrm>
            <a:prstGeom prst="line">
              <a:avLst/>
            </a:prstGeom>
            <a:ln cap="rnd" w="15840">
              <a:solidFill>
                <a:srgbClr val="7f7f7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Straight Connector 45"/>
            <p:cNvSpPr/>
            <p:nvPr/>
          </p:nvSpPr>
          <p:spPr>
            <a:xfrm>
              <a:off x="4191120" y="5103720"/>
              <a:ext cx="1517400" cy="0"/>
            </a:xfrm>
            <a:prstGeom prst="line">
              <a:avLst/>
            </a:prstGeom>
            <a:ln cap="rnd" w="15840">
              <a:solidFill>
                <a:srgbClr val="7f7f7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6" name="Group 75"/>
          <p:cNvGrpSpPr/>
          <p:nvPr/>
        </p:nvGrpSpPr>
        <p:grpSpPr>
          <a:xfrm>
            <a:off x="647640" y="1589040"/>
            <a:ext cx="835200" cy="3679920"/>
            <a:chOff x="647640" y="1589040"/>
            <a:chExt cx="835200" cy="3679920"/>
          </a:xfrm>
        </p:grpSpPr>
        <p:sp>
          <p:nvSpPr>
            <p:cNvPr id="2017" name="Rectangle 1053"/>
            <p:cNvSpPr/>
            <p:nvPr/>
          </p:nvSpPr>
          <p:spPr>
            <a:xfrm>
              <a:off x="647640" y="1589040"/>
              <a:ext cx="835200" cy="3679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18" name="TextBox 64" descr=""/>
            <p:cNvPicPr/>
            <p:nvPr/>
          </p:nvPicPr>
          <p:blipFill>
            <a:blip r:embed="rId1"/>
            <a:stretch/>
          </p:blipFill>
          <p:spPr>
            <a:xfrm>
              <a:off x="835560" y="1791360"/>
              <a:ext cx="506520" cy="34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9" name="Group 6"/>
          <p:cNvGrpSpPr/>
          <p:nvPr/>
        </p:nvGrpSpPr>
        <p:grpSpPr>
          <a:xfrm>
            <a:off x="8901000" y="1589040"/>
            <a:ext cx="1727280" cy="3679920"/>
            <a:chOff x="8901000" y="1589040"/>
            <a:chExt cx="1727280" cy="3679920"/>
          </a:xfrm>
        </p:grpSpPr>
        <p:sp>
          <p:nvSpPr>
            <p:cNvPr id="2020" name="TextBox 1"/>
            <p:cNvSpPr/>
            <p:nvPr/>
          </p:nvSpPr>
          <p:spPr>
            <a:xfrm>
              <a:off x="9133200" y="1784880"/>
              <a:ext cx="1277640" cy="32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Questrial"/>
                </a:rPr>
                <a:t>A presentation maké it real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1" name="Rectangle 7"/>
            <p:cNvSpPr/>
            <p:nvPr/>
          </p:nvSpPr>
          <p:spPr>
            <a:xfrm rot="5400000">
              <a:off x="7924680" y="2565360"/>
              <a:ext cx="3679920" cy="1727280"/>
            </a:xfrm>
            <a:prstGeom prst="rect">
              <a:avLst/>
            </a:prstGeom>
            <a:noFill/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2" name="Straight Connector 85"/>
            <p:cNvSpPr/>
            <p:nvPr/>
          </p:nvSpPr>
          <p:spPr>
            <a:xfrm>
              <a:off x="9473040" y="4374720"/>
              <a:ext cx="0" cy="45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6" name="Rectangle 92"/>
          <p:cNvGrpSpPr/>
          <p:nvPr/>
        </p:nvGrpSpPr>
        <p:grpSpPr>
          <a:xfrm>
            <a:off x="4863960" y="1749600"/>
            <a:ext cx="2206440" cy="1675800"/>
            <a:chOff x="4863960" y="1749600"/>
            <a:chExt cx="2206440" cy="1675800"/>
          </a:xfrm>
        </p:grpSpPr>
        <p:pic>
          <p:nvPicPr>
            <p:cNvPr id="2247" name="Rectangle 92" descr=""/>
            <p:cNvPicPr/>
            <p:nvPr/>
          </p:nvPicPr>
          <p:blipFill>
            <a:blip r:embed="rId1"/>
            <a:stretch/>
          </p:blipFill>
          <p:spPr>
            <a:xfrm>
              <a:off x="4863960" y="1749600"/>
              <a:ext cx="2205360" cy="16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8" name=""/>
            <p:cNvSpPr/>
            <p:nvPr/>
          </p:nvSpPr>
          <p:spPr>
            <a:xfrm>
              <a:off x="4866840" y="1752120"/>
              <a:ext cx="220356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9" name="Rectangle 93"/>
          <p:cNvGrpSpPr/>
          <p:nvPr/>
        </p:nvGrpSpPr>
        <p:grpSpPr>
          <a:xfrm>
            <a:off x="7070760" y="1749600"/>
            <a:ext cx="2206440" cy="1675800"/>
            <a:chOff x="7070760" y="1749600"/>
            <a:chExt cx="2206440" cy="1675800"/>
          </a:xfrm>
        </p:grpSpPr>
        <p:pic>
          <p:nvPicPr>
            <p:cNvPr id="2250" name="Rectangle 93" descr=""/>
            <p:cNvPicPr/>
            <p:nvPr/>
          </p:nvPicPr>
          <p:blipFill>
            <a:blip r:embed="rId2"/>
            <a:stretch/>
          </p:blipFill>
          <p:spPr>
            <a:xfrm>
              <a:off x="7070760" y="1749600"/>
              <a:ext cx="2206440" cy="16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1" name=""/>
            <p:cNvSpPr/>
            <p:nvPr/>
          </p:nvSpPr>
          <p:spPr>
            <a:xfrm>
              <a:off x="7072200" y="1752120"/>
              <a:ext cx="220356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2" name="Rectangle 94"/>
          <p:cNvGrpSpPr/>
          <p:nvPr/>
        </p:nvGrpSpPr>
        <p:grpSpPr>
          <a:xfrm>
            <a:off x="9277200" y="1749600"/>
            <a:ext cx="2202120" cy="1675800"/>
            <a:chOff x="9277200" y="1749600"/>
            <a:chExt cx="2202120" cy="1675800"/>
          </a:xfrm>
        </p:grpSpPr>
        <p:pic>
          <p:nvPicPr>
            <p:cNvPr id="2253" name="Rectangle 94" descr=""/>
            <p:cNvPicPr/>
            <p:nvPr/>
          </p:nvPicPr>
          <p:blipFill>
            <a:blip r:embed="rId3"/>
            <a:stretch/>
          </p:blipFill>
          <p:spPr>
            <a:xfrm>
              <a:off x="9278280" y="1749600"/>
              <a:ext cx="2199240" cy="16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4" name=""/>
            <p:cNvSpPr/>
            <p:nvPr/>
          </p:nvSpPr>
          <p:spPr>
            <a:xfrm>
              <a:off x="9277200" y="1752120"/>
              <a:ext cx="220212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5" name="Group 32"/>
          <p:cNvGrpSpPr/>
          <p:nvPr/>
        </p:nvGrpSpPr>
        <p:grpSpPr>
          <a:xfrm>
            <a:off x="839880" y="1308240"/>
            <a:ext cx="3187440" cy="4510440"/>
            <a:chOff x="839880" y="1308240"/>
            <a:chExt cx="3187440" cy="4510440"/>
          </a:xfrm>
        </p:grpSpPr>
        <p:sp>
          <p:nvSpPr>
            <p:cNvPr id="2256" name="TextBox 2"/>
            <p:cNvSpPr/>
            <p:nvPr/>
          </p:nvSpPr>
          <p:spPr>
            <a:xfrm>
              <a:off x="839880" y="1308240"/>
              <a:ext cx="2793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Questrial"/>
                </a:rPr>
                <a:t>Creative Team Work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TextBox 4"/>
            <p:cNvSpPr/>
            <p:nvPr/>
          </p:nvSpPr>
          <p:spPr>
            <a:xfrm>
              <a:off x="839880" y="4470120"/>
              <a:ext cx="3187440" cy="13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 of disruptive innovation workplace diversity and empowerment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8" name="TextBox 21"/>
          <p:cNvSpPr/>
          <p:nvPr/>
        </p:nvSpPr>
        <p:spPr>
          <a:xfrm>
            <a:off x="5143680" y="2598840"/>
            <a:ext cx="16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  <a:ea typeface="Roboto Medium"/>
              </a:rPr>
              <a:t>Samuel Car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TextBox 23"/>
          <p:cNvSpPr/>
          <p:nvPr/>
        </p:nvSpPr>
        <p:spPr>
          <a:xfrm>
            <a:off x="5143680" y="2897280"/>
            <a:ext cx="165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 Light"/>
                <a:ea typeface="Roboto Light"/>
              </a:rPr>
              <a:t>Senior Departem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36"/>
          <p:cNvSpPr/>
          <p:nvPr/>
        </p:nvSpPr>
        <p:spPr>
          <a:xfrm>
            <a:off x="7348680" y="2598840"/>
            <a:ext cx="16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  <a:ea typeface="Roboto Medium"/>
              </a:rPr>
              <a:t>Tom Bry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37"/>
          <p:cNvSpPr/>
          <p:nvPr/>
        </p:nvSpPr>
        <p:spPr>
          <a:xfrm>
            <a:off x="7348680" y="2897280"/>
            <a:ext cx="165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 Light"/>
                <a:ea typeface="Roboto Light"/>
              </a:rPr>
              <a:t>Product Manag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TextBox 38"/>
          <p:cNvSpPr/>
          <p:nvPr/>
        </p:nvSpPr>
        <p:spPr>
          <a:xfrm>
            <a:off x="9553680" y="2598840"/>
            <a:ext cx="16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  <a:ea typeface="Roboto Medium"/>
              </a:rPr>
              <a:t>Roger Hugh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TextBox 39"/>
          <p:cNvSpPr/>
          <p:nvPr/>
        </p:nvSpPr>
        <p:spPr>
          <a:xfrm>
            <a:off x="9553680" y="2897280"/>
            <a:ext cx="165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 Light"/>
                <a:ea typeface="Roboto Light"/>
              </a:rPr>
              <a:t>Graphic Desig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4" name="Rectangle 95"/>
          <p:cNvGrpSpPr/>
          <p:nvPr/>
        </p:nvGrpSpPr>
        <p:grpSpPr>
          <a:xfrm>
            <a:off x="4863960" y="4468680"/>
            <a:ext cx="2206440" cy="1676160"/>
            <a:chOff x="4863960" y="4468680"/>
            <a:chExt cx="2206440" cy="1676160"/>
          </a:xfrm>
        </p:grpSpPr>
        <p:pic>
          <p:nvPicPr>
            <p:cNvPr id="2265" name="Rectangle 95" descr=""/>
            <p:cNvPicPr/>
            <p:nvPr/>
          </p:nvPicPr>
          <p:blipFill>
            <a:blip r:embed="rId4"/>
            <a:stretch/>
          </p:blipFill>
          <p:spPr>
            <a:xfrm>
              <a:off x="4863960" y="4468680"/>
              <a:ext cx="220536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6" name=""/>
            <p:cNvSpPr/>
            <p:nvPr/>
          </p:nvSpPr>
          <p:spPr>
            <a:xfrm>
              <a:off x="4866840" y="4470120"/>
              <a:ext cx="220356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7" name="Rectangle 96"/>
          <p:cNvGrpSpPr/>
          <p:nvPr/>
        </p:nvGrpSpPr>
        <p:grpSpPr>
          <a:xfrm>
            <a:off x="7070760" y="4468680"/>
            <a:ext cx="2206440" cy="1676160"/>
            <a:chOff x="7070760" y="4468680"/>
            <a:chExt cx="2206440" cy="1676160"/>
          </a:xfrm>
        </p:grpSpPr>
        <p:pic>
          <p:nvPicPr>
            <p:cNvPr id="2268" name="Rectangle 96" descr=""/>
            <p:cNvPicPr/>
            <p:nvPr/>
          </p:nvPicPr>
          <p:blipFill>
            <a:blip r:embed="rId5"/>
            <a:stretch/>
          </p:blipFill>
          <p:spPr>
            <a:xfrm>
              <a:off x="7070760" y="4468680"/>
              <a:ext cx="220644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9" name=""/>
            <p:cNvSpPr/>
            <p:nvPr/>
          </p:nvSpPr>
          <p:spPr>
            <a:xfrm>
              <a:off x="7072200" y="4470120"/>
              <a:ext cx="220356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0" name="Rectangle 97"/>
          <p:cNvGrpSpPr/>
          <p:nvPr/>
        </p:nvGrpSpPr>
        <p:grpSpPr>
          <a:xfrm>
            <a:off x="9277200" y="4468680"/>
            <a:ext cx="2202120" cy="1676160"/>
            <a:chOff x="9277200" y="4468680"/>
            <a:chExt cx="2202120" cy="1676160"/>
          </a:xfrm>
        </p:grpSpPr>
        <p:pic>
          <p:nvPicPr>
            <p:cNvPr id="2271" name="Rectangle 97" descr=""/>
            <p:cNvPicPr/>
            <p:nvPr/>
          </p:nvPicPr>
          <p:blipFill>
            <a:blip r:embed="rId6"/>
            <a:stretch/>
          </p:blipFill>
          <p:spPr>
            <a:xfrm>
              <a:off x="9278280" y="4468680"/>
              <a:ext cx="219924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2" name=""/>
            <p:cNvSpPr/>
            <p:nvPr/>
          </p:nvSpPr>
          <p:spPr>
            <a:xfrm>
              <a:off x="9277200" y="4470120"/>
              <a:ext cx="220212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3" name="TextBox 40"/>
          <p:cNvSpPr/>
          <p:nvPr/>
        </p:nvSpPr>
        <p:spPr>
          <a:xfrm>
            <a:off x="5143680" y="5316480"/>
            <a:ext cx="16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  <a:ea typeface="Roboto Medium"/>
              </a:rPr>
              <a:t>Harley Charls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TextBox 41"/>
          <p:cNvSpPr/>
          <p:nvPr/>
        </p:nvSpPr>
        <p:spPr>
          <a:xfrm>
            <a:off x="5143680" y="5614920"/>
            <a:ext cx="165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 Light"/>
                <a:ea typeface="Roboto Light"/>
              </a:rPr>
              <a:t>Copywri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5" name="Group 89"/>
          <p:cNvGrpSpPr/>
          <p:nvPr/>
        </p:nvGrpSpPr>
        <p:grpSpPr>
          <a:xfrm>
            <a:off x="9553680" y="5316480"/>
            <a:ext cx="1650960" cy="560160"/>
            <a:chOff x="9553680" y="5316480"/>
            <a:chExt cx="1650960" cy="560160"/>
          </a:xfrm>
        </p:grpSpPr>
        <p:sp>
          <p:nvSpPr>
            <p:cNvPr id="2276" name="TextBox 42"/>
            <p:cNvSpPr/>
            <p:nvPr/>
          </p:nvSpPr>
          <p:spPr>
            <a:xfrm>
              <a:off x="9553680" y="5316480"/>
              <a:ext cx="165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Questrial"/>
                  <a:ea typeface="Roboto Medium"/>
                </a:rPr>
                <a:t>Jenita Smit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TextBox 43"/>
            <p:cNvSpPr/>
            <p:nvPr/>
          </p:nvSpPr>
          <p:spPr>
            <a:xfrm>
              <a:off x="9553680" y="5615280"/>
              <a:ext cx="16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oboto Light"/>
                  <a:ea typeface="Roboto Light"/>
                </a:rPr>
                <a:t>UI/UX Desig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8" name="Group 88"/>
          <p:cNvGrpSpPr/>
          <p:nvPr/>
        </p:nvGrpSpPr>
        <p:grpSpPr>
          <a:xfrm>
            <a:off x="7348680" y="5316480"/>
            <a:ext cx="1650960" cy="560160"/>
            <a:chOff x="7348680" y="5316480"/>
            <a:chExt cx="1650960" cy="560160"/>
          </a:xfrm>
        </p:grpSpPr>
        <p:sp>
          <p:nvSpPr>
            <p:cNvPr id="2279" name="TextBox 44"/>
            <p:cNvSpPr/>
            <p:nvPr/>
          </p:nvSpPr>
          <p:spPr>
            <a:xfrm>
              <a:off x="7348680" y="5316480"/>
              <a:ext cx="165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Questrial"/>
                  <a:ea typeface="Roboto Medium"/>
                </a:rPr>
                <a:t>Harry Topp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TextBox 45"/>
            <p:cNvSpPr/>
            <p:nvPr/>
          </p:nvSpPr>
          <p:spPr>
            <a:xfrm>
              <a:off x="7348680" y="5615280"/>
              <a:ext cx="16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oboto Light"/>
                  <a:ea typeface="Roboto Light"/>
                </a:rPr>
                <a:t>Web Desig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2"/>
          <p:cNvSpPr/>
          <p:nvPr/>
        </p:nvSpPr>
        <p:spPr>
          <a:xfrm>
            <a:off x="5361120" y="0"/>
            <a:ext cx="3009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TextBox 5"/>
          <p:cNvSpPr/>
          <p:nvPr/>
        </p:nvSpPr>
        <p:spPr>
          <a:xfrm>
            <a:off x="1093680" y="4165560"/>
            <a:ext cx="26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Questrial"/>
              </a:rPr>
              <a:t>Margaret Mun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TextBox 7"/>
          <p:cNvSpPr/>
          <p:nvPr/>
        </p:nvSpPr>
        <p:spPr>
          <a:xfrm>
            <a:off x="1093680" y="4503600"/>
            <a:ext cx="30099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high Organically grow the holistic world view of disruptive innovation workplace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TextBox 18"/>
          <p:cNvSpPr/>
          <p:nvPr/>
        </p:nvSpPr>
        <p:spPr>
          <a:xfrm>
            <a:off x="1093680" y="1200240"/>
            <a:ext cx="3117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5" name="Group 12"/>
          <p:cNvGrpSpPr/>
          <p:nvPr/>
        </p:nvGrpSpPr>
        <p:grpSpPr>
          <a:xfrm>
            <a:off x="6068880" y="765000"/>
            <a:ext cx="1594080" cy="5327640"/>
            <a:chOff x="6068880" y="765000"/>
            <a:chExt cx="1594080" cy="5327640"/>
          </a:xfrm>
        </p:grpSpPr>
        <p:grpSp>
          <p:nvGrpSpPr>
            <p:cNvPr id="2286" name="Group 11"/>
            <p:cNvGrpSpPr/>
            <p:nvPr/>
          </p:nvGrpSpPr>
          <p:grpSpPr>
            <a:xfrm>
              <a:off x="6068880" y="765000"/>
              <a:ext cx="1594080" cy="1502280"/>
              <a:chOff x="6068880" y="765000"/>
              <a:chExt cx="1594080" cy="1502280"/>
            </a:xfrm>
          </p:grpSpPr>
          <p:grpSp>
            <p:nvGrpSpPr>
              <p:cNvPr id="2287" name="Group 22"/>
              <p:cNvGrpSpPr/>
              <p:nvPr/>
            </p:nvGrpSpPr>
            <p:grpSpPr>
              <a:xfrm>
                <a:off x="6279120" y="765000"/>
                <a:ext cx="1173240" cy="1173600"/>
                <a:chOff x="6279120" y="765000"/>
                <a:chExt cx="1173240" cy="1173600"/>
              </a:xfrm>
            </p:grpSpPr>
            <p:sp>
              <p:nvSpPr>
                <p:cNvPr id="2288" name="Oval 26"/>
                <p:cNvSpPr/>
                <p:nvPr/>
              </p:nvSpPr>
              <p:spPr>
                <a:xfrm>
                  <a:off x="6279120" y="765000"/>
                  <a:ext cx="1173240" cy="1173600"/>
                </a:xfrm>
                <a:prstGeom prst="ellipse">
                  <a:avLst/>
                </a:prstGeom>
                <a:noFill/>
                <a:ln w="38160">
                  <a:solidFill>
                    <a:srgbClr val="a6a6a6">
                      <a:alpha val="2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9" name="Arc 27"/>
                <p:cNvSpPr/>
                <p:nvPr/>
              </p:nvSpPr>
              <p:spPr>
                <a:xfrm>
                  <a:off x="6279120" y="765000"/>
                  <a:ext cx="1173240" cy="1173600"/>
                </a:xfrm>
                <a:custGeom>
                  <a:avLst/>
                  <a:gdLst/>
                  <a:ahLst/>
                  <a:rect l="l" t="t" r="r" b="b"/>
                  <a:pathLst>
                    <a:path stroke="0" w="862307" h="862304">
                      <a:moveTo>
                        <a:pt x="862063" y="416649"/>
                      </a:moveTo>
                      <a:cubicBezTo>
                        <a:pt x="867939" y="591215"/>
                        <a:pt x="767913" y="752079"/>
                        <a:pt x="608754" y="824027"/>
                      </a:cubicBezTo>
                      <a:cubicBezTo>
                        <a:pt x="449596" y="895975"/>
                        <a:pt x="262755" y="864791"/>
                        <a:pt x="135589" y="745056"/>
                      </a:cubicBezTo>
                      <a:cubicBezTo>
                        <a:pt x="8422" y="625320"/>
                        <a:pt x="-33940" y="440691"/>
                        <a:pt x="28309" y="277495"/>
                      </a:cubicBezTo>
                      <a:cubicBezTo>
                        <a:pt x="90558" y="114300"/>
                        <a:pt x="245117" y="4784"/>
                        <a:pt x="419720" y="152"/>
                      </a:cubicBezTo>
                      <a:lnTo>
                        <a:pt x="431154" y="431152"/>
                      </a:lnTo>
                      <a:lnTo>
                        <a:pt x="862063" y="416649"/>
                      </a:lnTo>
                      <a:close/>
                    </a:path>
                    <a:path fill="none" w="862307" h="862304">
                      <a:moveTo>
                        <a:pt x="862063" y="416649"/>
                      </a:moveTo>
                      <a:cubicBezTo>
                        <a:pt x="867939" y="591215"/>
                        <a:pt x="767913" y="752079"/>
                        <a:pt x="608754" y="824027"/>
                      </a:cubicBezTo>
                      <a:cubicBezTo>
                        <a:pt x="449596" y="895975"/>
                        <a:pt x="262755" y="864791"/>
                        <a:pt x="135589" y="745056"/>
                      </a:cubicBezTo>
                      <a:cubicBezTo>
                        <a:pt x="8422" y="625320"/>
                        <a:pt x="-33940" y="440691"/>
                        <a:pt x="28309" y="277495"/>
                      </a:cubicBezTo>
                      <a:cubicBezTo>
                        <a:pt x="90558" y="114300"/>
                        <a:pt x="245117" y="4784"/>
                        <a:pt x="419720" y="152"/>
                      </a:cubicBezTo>
                    </a:path>
                  </a:pathLst>
                </a:custGeom>
                <a:noFill/>
                <a:ln cap="rnd" w="381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90" name="TextBox 24"/>
              <p:cNvSpPr/>
              <p:nvPr/>
            </p:nvSpPr>
            <p:spPr>
              <a:xfrm>
                <a:off x="6435000" y="1121040"/>
                <a:ext cx="86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Questrial"/>
                    <a:ea typeface="Poppins SemiBold"/>
                  </a:rPr>
                  <a:t>75%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1" name="TextBox 8"/>
              <p:cNvSpPr/>
              <p:nvPr/>
            </p:nvSpPr>
            <p:spPr>
              <a:xfrm>
                <a:off x="6068880" y="1990800"/>
                <a:ext cx="159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Questrial"/>
                  </a:rPr>
                  <a:t>Statistic On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92" name="Group 10"/>
            <p:cNvGrpSpPr/>
            <p:nvPr/>
          </p:nvGrpSpPr>
          <p:grpSpPr>
            <a:xfrm>
              <a:off x="6068880" y="2652480"/>
              <a:ext cx="1594080" cy="1553760"/>
              <a:chOff x="6068880" y="2652480"/>
              <a:chExt cx="1594080" cy="1553760"/>
            </a:xfrm>
          </p:grpSpPr>
          <p:grpSp>
            <p:nvGrpSpPr>
              <p:cNvPr id="2293" name="Group 29"/>
              <p:cNvGrpSpPr/>
              <p:nvPr/>
            </p:nvGrpSpPr>
            <p:grpSpPr>
              <a:xfrm>
                <a:off x="6279120" y="2652480"/>
                <a:ext cx="1173240" cy="1173960"/>
                <a:chOff x="6279120" y="2652480"/>
                <a:chExt cx="1173240" cy="1173960"/>
              </a:xfrm>
            </p:grpSpPr>
            <p:sp>
              <p:nvSpPr>
                <p:cNvPr id="2294" name="Oval 33"/>
                <p:cNvSpPr/>
                <p:nvPr/>
              </p:nvSpPr>
              <p:spPr>
                <a:xfrm>
                  <a:off x="6279120" y="2652480"/>
                  <a:ext cx="1173240" cy="1173960"/>
                </a:xfrm>
                <a:prstGeom prst="ellipse">
                  <a:avLst/>
                </a:prstGeom>
                <a:noFill/>
                <a:ln w="38160">
                  <a:solidFill>
                    <a:srgbClr val="a6a6a6">
                      <a:alpha val="2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5" name="Arc 34"/>
                <p:cNvSpPr/>
                <p:nvPr/>
              </p:nvSpPr>
              <p:spPr>
                <a:xfrm>
                  <a:off x="6279120" y="2652480"/>
                  <a:ext cx="1173240" cy="1173960"/>
                </a:xfrm>
                <a:custGeom>
                  <a:avLst/>
                  <a:gdLst/>
                  <a:ahLst/>
                  <a:rect l="l" t="t" r="r" b="b"/>
                  <a:pathLst>
                    <a:path stroke="0" w="862307" h="862304">
                      <a:moveTo>
                        <a:pt x="874" y="403708"/>
                      </a:moveTo>
                      <a:cubicBezTo>
                        <a:pt x="15073" y="181094"/>
                        <a:pt x="196732" y="6066"/>
                        <a:pt x="419721" y="152"/>
                      </a:cubicBezTo>
                      <a:lnTo>
                        <a:pt x="431154" y="431152"/>
                      </a:lnTo>
                      <a:lnTo>
                        <a:pt x="874" y="403708"/>
                      </a:lnTo>
                      <a:close/>
                    </a:path>
                    <a:path fill="none" w="862307" h="862304">
                      <a:moveTo>
                        <a:pt x="874" y="403708"/>
                      </a:moveTo>
                      <a:cubicBezTo>
                        <a:pt x="15073" y="181094"/>
                        <a:pt x="196732" y="6066"/>
                        <a:pt x="419721" y="152"/>
                      </a:cubicBezTo>
                    </a:path>
                  </a:pathLst>
                </a:custGeom>
                <a:noFill/>
                <a:ln cap="rnd" w="381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96" name="TextBox 31"/>
              <p:cNvSpPr/>
              <p:nvPr/>
            </p:nvSpPr>
            <p:spPr>
              <a:xfrm>
                <a:off x="6435000" y="3008520"/>
                <a:ext cx="86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Questrial"/>
                    <a:ea typeface="Poppins SemiBold"/>
                  </a:rPr>
                  <a:t>25%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7" name="TextBox 43"/>
              <p:cNvSpPr/>
              <p:nvPr/>
            </p:nvSpPr>
            <p:spPr>
              <a:xfrm>
                <a:off x="6068880" y="3929760"/>
                <a:ext cx="159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Questrial"/>
                  </a:rPr>
                  <a:t>Statistic Two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98" name="Group 9"/>
            <p:cNvGrpSpPr/>
            <p:nvPr/>
          </p:nvGrpSpPr>
          <p:grpSpPr>
            <a:xfrm>
              <a:off x="6068880" y="4591080"/>
              <a:ext cx="1594080" cy="1501560"/>
              <a:chOff x="6068880" y="4591080"/>
              <a:chExt cx="1594080" cy="1501560"/>
            </a:xfrm>
          </p:grpSpPr>
          <p:grpSp>
            <p:nvGrpSpPr>
              <p:cNvPr id="2299" name="Group 36"/>
              <p:cNvGrpSpPr/>
              <p:nvPr/>
            </p:nvGrpSpPr>
            <p:grpSpPr>
              <a:xfrm>
                <a:off x="6279120" y="4591080"/>
                <a:ext cx="1173240" cy="1173960"/>
                <a:chOff x="6279120" y="4591080"/>
                <a:chExt cx="1173240" cy="1173960"/>
              </a:xfrm>
            </p:grpSpPr>
            <p:sp>
              <p:nvSpPr>
                <p:cNvPr id="2300" name="Oval 40"/>
                <p:cNvSpPr/>
                <p:nvPr/>
              </p:nvSpPr>
              <p:spPr>
                <a:xfrm>
                  <a:off x="6279120" y="4591080"/>
                  <a:ext cx="1173240" cy="1173960"/>
                </a:xfrm>
                <a:prstGeom prst="ellipse">
                  <a:avLst/>
                </a:prstGeom>
                <a:noFill/>
                <a:ln w="38160">
                  <a:solidFill>
                    <a:srgbClr val="a6a6a6">
                      <a:alpha val="2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1" name="Arc 41"/>
                <p:cNvSpPr/>
                <p:nvPr/>
              </p:nvSpPr>
              <p:spPr>
                <a:xfrm>
                  <a:off x="6279120" y="4591080"/>
                  <a:ext cx="1173240" cy="1173960"/>
                </a:xfrm>
                <a:custGeom>
                  <a:avLst/>
                  <a:gdLst/>
                  <a:ahLst/>
                  <a:rect l="l" t="t" r="r" b="b"/>
                  <a:pathLst>
                    <a:path stroke="0" w="862307" h="862304">
                      <a:moveTo>
                        <a:pt x="401539" y="861286"/>
                      </a:moveTo>
                      <a:cubicBezTo>
                        <a:pt x="171943" y="845479"/>
                        <a:pt x="-4763" y="652137"/>
                        <a:pt x="96" y="422051"/>
                      </a:cubicBezTo>
                      <a:cubicBezTo>
                        <a:pt x="4954" y="191964"/>
                        <a:pt x="189663" y="6254"/>
                        <a:pt x="419721" y="152"/>
                      </a:cubicBezTo>
                      <a:lnTo>
                        <a:pt x="431154" y="431152"/>
                      </a:lnTo>
                      <a:lnTo>
                        <a:pt x="401539" y="861286"/>
                      </a:lnTo>
                      <a:close/>
                    </a:path>
                    <a:path fill="none" w="862307" h="862304">
                      <a:moveTo>
                        <a:pt x="401539" y="861286"/>
                      </a:moveTo>
                      <a:cubicBezTo>
                        <a:pt x="171943" y="845479"/>
                        <a:pt x="-4763" y="652137"/>
                        <a:pt x="96" y="422051"/>
                      </a:cubicBezTo>
                      <a:cubicBezTo>
                        <a:pt x="4954" y="191964"/>
                        <a:pt x="189663" y="6254"/>
                        <a:pt x="419721" y="152"/>
                      </a:cubicBezTo>
                    </a:path>
                  </a:pathLst>
                </a:custGeom>
                <a:noFill/>
                <a:ln cap="rnd" w="381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02" name="TextBox 38"/>
              <p:cNvSpPr/>
              <p:nvPr/>
            </p:nvSpPr>
            <p:spPr>
              <a:xfrm>
                <a:off x="6435000" y="4947120"/>
                <a:ext cx="86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Questrial"/>
                    <a:ea typeface="Poppins SemiBold"/>
                  </a:rPr>
                  <a:t>50%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3" name="TextBox 44"/>
              <p:cNvSpPr/>
              <p:nvPr/>
            </p:nvSpPr>
            <p:spPr>
              <a:xfrm>
                <a:off x="6068880" y="5816160"/>
                <a:ext cx="159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Questrial"/>
                  </a:rPr>
                  <a:t>Statistic Thre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04" name="Isosceles Triangle 13"/>
          <p:cNvSpPr/>
          <p:nvPr/>
        </p:nvSpPr>
        <p:spPr>
          <a:xfrm rot="5400000">
            <a:off x="1204200" y="3355200"/>
            <a:ext cx="171360" cy="147600"/>
          </a:xfrm>
          <a:prstGeom prst="triangle">
            <a:avLst>
              <a:gd name="adj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Rectangle: Rounded Corners 1"/>
          <p:cNvSpPr/>
          <p:nvPr/>
        </p:nvSpPr>
        <p:spPr>
          <a:xfrm>
            <a:off x="5319720" y="2982960"/>
            <a:ext cx="84240" cy="89208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892080"/>
              <a:gd name="textAreaBottom" fmla="*/ 879840 h 892080"/>
            </a:gdLst>
            <a:ahLst/>
            <a:rect l="textAreaLeft" t="textAreaTop" r="textAreaRight" b="textAreaBottom"/>
            <a:pathLst>
              <a:path w="21600" h="227857">
                <a:moveTo>
                  <a:pt x="10800" y="0"/>
                </a:moveTo>
                <a:arcTo wR="10800" hR="10800" stAng="16200000" swAng="-5400000"/>
                <a:lnTo>
                  <a:pt x="0" y="217057"/>
                </a:lnTo>
                <a:arcTo wR="10800" hR="10800" stAng="10800000" swAng="-5400000"/>
                <a:lnTo>
                  <a:pt x="10800" y="2278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6" name="" descr=""/>
          <p:cNvPicPr/>
          <p:nvPr/>
        </p:nvPicPr>
        <p:blipFill>
          <a:blip r:embed="rId1"/>
          <a:stretch/>
        </p:blipFill>
        <p:spPr>
          <a:xfrm>
            <a:off x="8370360" y="0"/>
            <a:ext cx="38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Oval 7"/>
          <p:cNvSpPr/>
          <p:nvPr/>
        </p:nvSpPr>
        <p:spPr>
          <a:xfrm>
            <a:off x="4230720" y="1987560"/>
            <a:ext cx="1535040" cy="153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TextBox 8"/>
          <p:cNvSpPr/>
          <p:nvPr/>
        </p:nvSpPr>
        <p:spPr>
          <a:xfrm>
            <a:off x="4172040" y="2624040"/>
            <a:ext cx="165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Roboto"/>
              </a:rPr>
              <a:t>UI/UX Desig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TextBox 4"/>
          <p:cNvSpPr/>
          <p:nvPr/>
        </p:nvSpPr>
        <p:spPr>
          <a:xfrm>
            <a:off x="6858000" y="1617840"/>
            <a:ext cx="37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estrial"/>
                <a:ea typeface="Roboto Medium"/>
              </a:rPr>
              <a:t>Tamara Charl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Rectangle: Rounded Corners 34"/>
          <p:cNvSpPr/>
          <p:nvPr/>
        </p:nvSpPr>
        <p:spPr>
          <a:xfrm>
            <a:off x="6934320" y="3890880"/>
            <a:ext cx="3733560" cy="76320"/>
          </a:xfrm>
          <a:prstGeom prst="roundRect">
            <a:avLst>
              <a:gd name="adj" fmla="val 50000"/>
            </a:avLst>
          </a:prstGeom>
          <a:solidFill>
            <a:srgbClr val="bfbfb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Rectangle: Rounded Corners 35"/>
          <p:cNvSpPr/>
          <p:nvPr/>
        </p:nvSpPr>
        <p:spPr>
          <a:xfrm>
            <a:off x="6934320" y="3890880"/>
            <a:ext cx="2927160" cy="763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TextBox 32"/>
          <p:cNvSpPr/>
          <p:nvPr/>
        </p:nvSpPr>
        <p:spPr>
          <a:xfrm>
            <a:off x="6858000" y="35892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Roboto"/>
                <a:ea typeface="Roboto"/>
              </a:rPr>
              <a:t>User Exper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TextBox 33"/>
          <p:cNvSpPr/>
          <p:nvPr/>
        </p:nvSpPr>
        <p:spPr>
          <a:xfrm>
            <a:off x="9982080" y="3589200"/>
            <a:ext cx="7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boto"/>
                <a:ea typeface="Roboto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Rectangle: Rounded Corners 40"/>
          <p:cNvSpPr/>
          <p:nvPr/>
        </p:nvSpPr>
        <p:spPr>
          <a:xfrm>
            <a:off x="6934320" y="4527720"/>
            <a:ext cx="3733560" cy="75960"/>
          </a:xfrm>
          <a:prstGeom prst="roundRect">
            <a:avLst>
              <a:gd name="adj" fmla="val 50000"/>
            </a:avLst>
          </a:prstGeom>
          <a:solidFill>
            <a:srgbClr val="bfbfb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Rectangle: Rounded Corners 41"/>
          <p:cNvSpPr/>
          <p:nvPr/>
        </p:nvSpPr>
        <p:spPr>
          <a:xfrm>
            <a:off x="6934320" y="4527720"/>
            <a:ext cx="3111480" cy="759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TextBox 38"/>
          <p:cNvSpPr/>
          <p:nvPr/>
        </p:nvSpPr>
        <p:spPr>
          <a:xfrm>
            <a:off x="6858000" y="42274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Roboto"/>
                <a:ea typeface="Roboto"/>
              </a:rPr>
              <a:t>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TextBox 39"/>
          <p:cNvSpPr/>
          <p:nvPr/>
        </p:nvSpPr>
        <p:spPr>
          <a:xfrm>
            <a:off x="9982080" y="4227480"/>
            <a:ext cx="7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boto"/>
                <a:ea typeface="Roboto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TextBox 53"/>
          <p:cNvSpPr/>
          <p:nvPr/>
        </p:nvSpPr>
        <p:spPr>
          <a:xfrm>
            <a:off x="6858000" y="2293920"/>
            <a:ext cx="3873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high Organically grow the holistic world view of disruptive innovation workplace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Rectangle: Rounded Corners 55"/>
          <p:cNvSpPr/>
          <p:nvPr/>
        </p:nvSpPr>
        <p:spPr>
          <a:xfrm>
            <a:off x="6934320" y="5164200"/>
            <a:ext cx="3733560" cy="75960"/>
          </a:xfrm>
          <a:prstGeom prst="roundRect">
            <a:avLst>
              <a:gd name="adj" fmla="val 50000"/>
            </a:avLst>
          </a:prstGeom>
          <a:solidFill>
            <a:srgbClr val="bfbfb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Rectangle: Rounded Corners 56"/>
          <p:cNvSpPr/>
          <p:nvPr/>
        </p:nvSpPr>
        <p:spPr>
          <a:xfrm>
            <a:off x="6934320" y="5164200"/>
            <a:ext cx="3111480" cy="759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TextBox 57"/>
          <p:cNvSpPr/>
          <p:nvPr/>
        </p:nvSpPr>
        <p:spPr>
          <a:xfrm>
            <a:off x="6858000" y="48639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Roboto"/>
                <a:ea typeface="Roboto"/>
              </a:rPr>
              <a:t>Graphic Desig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TextBox 58"/>
          <p:cNvSpPr/>
          <p:nvPr/>
        </p:nvSpPr>
        <p:spPr>
          <a:xfrm>
            <a:off x="9982080" y="4863960"/>
            <a:ext cx="7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boto"/>
                <a:ea typeface="Roboto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Graphic 6"/>
          <p:cNvSpPr/>
          <p:nvPr/>
        </p:nvSpPr>
        <p:spPr>
          <a:xfrm flipH="1">
            <a:off x="707400" y="3351240"/>
            <a:ext cx="2819160" cy="2489040"/>
          </a:xfrm>
          <a:custGeom>
            <a:avLst/>
            <a:gdLst/>
            <a:ahLst/>
            <a:rect l="l" t="t" r="r" b="b"/>
            <a:pathLst>
              <a:path w="1307782" h="1154259">
                <a:moveTo>
                  <a:pt x="0" y="548469"/>
                </a:moveTo>
                <a:lnTo>
                  <a:pt x="0" y="1094252"/>
                </a:lnTo>
                <a:cubicBezTo>
                  <a:pt x="0" y="1127590"/>
                  <a:pt x="26670" y="1154260"/>
                  <a:pt x="60008" y="1154260"/>
                </a:cubicBezTo>
                <a:lnTo>
                  <a:pt x="1247775" y="1154260"/>
                </a:lnTo>
                <a:cubicBezTo>
                  <a:pt x="1281113" y="1154260"/>
                  <a:pt x="1307783" y="1127590"/>
                  <a:pt x="1307783" y="1094252"/>
                </a:cubicBezTo>
                <a:lnTo>
                  <a:pt x="1307783" y="59837"/>
                </a:lnTo>
                <a:cubicBezTo>
                  <a:pt x="1307783" y="16975"/>
                  <a:pt x="1263968" y="-11600"/>
                  <a:pt x="1224915" y="4592"/>
                </a:cubicBezTo>
                <a:lnTo>
                  <a:pt x="37148" y="493225"/>
                </a:lnTo>
                <a:cubicBezTo>
                  <a:pt x="14288" y="501797"/>
                  <a:pt x="0" y="523705"/>
                  <a:pt x="0" y="54846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Graphic 6"/>
          <p:cNvSpPr/>
          <p:nvPr/>
        </p:nvSpPr>
        <p:spPr>
          <a:xfrm>
            <a:off x="8664480" y="3351240"/>
            <a:ext cx="2819520" cy="2489040"/>
          </a:xfrm>
          <a:custGeom>
            <a:avLst/>
            <a:gdLst/>
            <a:ahLst/>
            <a:rect l="l" t="t" r="r" b="b"/>
            <a:pathLst>
              <a:path w="1307782" h="1154259">
                <a:moveTo>
                  <a:pt x="0" y="548469"/>
                </a:moveTo>
                <a:lnTo>
                  <a:pt x="0" y="1094252"/>
                </a:lnTo>
                <a:cubicBezTo>
                  <a:pt x="0" y="1127590"/>
                  <a:pt x="26670" y="1154260"/>
                  <a:pt x="60008" y="1154260"/>
                </a:cubicBezTo>
                <a:lnTo>
                  <a:pt x="1247775" y="1154260"/>
                </a:lnTo>
                <a:cubicBezTo>
                  <a:pt x="1281113" y="1154260"/>
                  <a:pt x="1307783" y="1127590"/>
                  <a:pt x="1307783" y="1094252"/>
                </a:cubicBezTo>
                <a:lnTo>
                  <a:pt x="1307783" y="59837"/>
                </a:lnTo>
                <a:cubicBezTo>
                  <a:pt x="1307783" y="16975"/>
                  <a:pt x="1263968" y="-11600"/>
                  <a:pt x="1224915" y="4592"/>
                </a:cubicBezTo>
                <a:lnTo>
                  <a:pt x="37148" y="493225"/>
                </a:lnTo>
                <a:cubicBezTo>
                  <a:pt x="14288" y="501797"/>
                  <a:pt x="0" y="523705"/>
                  <a:pt x="0" y="54846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5" name="Group 49"/>
          <p:cNvGrpSpPr/>
          <p:nvPr/>
        </p:nvGrpSpPr>
        <p:grpSpPr>
          <a:xfrm>
            <a:off x="1292400" y="4630680"/>
            <a:ext cx="1650960" cy="609120"/>
            <a:chOff x="1292400" y="4630680"/>
            <a:chExt cx="1650960" cy="609120"/>
          </a:xfrm>
        </p:grpSpPr>
        <p:sp>
          <p:nvSpPr>
            <p:cNvPr id="2326" name="TextBox 44"/>
            <p:cNvSpPr/>
            <p:nvPr/>
          </p:nvSpPr>
          <p:spPr>
            <a:xfrm>
              <a:off x="1292400" y="4630680"/>
              <a:ext cx="165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Questrial"/>
                  <a:ea typeface="Roboto Medium"/>
                </a:rPr>
                <a:t>Samuel Car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TextBox 45"/>
            <p:cNvSpPr/>
            <p:nvPr/>
          </p:nvSpPr>
          <p:spPr>
            <a:xfrm>
              <a:off x="1292400" y="4978440"/>
              <a:ext cx="16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oboto Light"/>
                  <a:ea typeface="Roboto Light"/>
                </a:rPr>
                <a:t>Web Designe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8" name="Group 46"/>
          <p:cNvGrpSpPr/>
          <p:nvPr/>
        </p:nvGrpSpPr>
        <p:grpSpPr>
          <a:xfrm>
            <a:off x="9248760" y="4630680"/>
            <a:ext cx="1650960" cy="609120"/>
            <a:chOff x="9248760" y="4630680"/>
            <a:chExt cx="1650960" cy="609120"/>
          </a:xfrm>
        </p:grpSpPr>
        <p:sp>
          <p:nvSpPr>
            <p:cNvPr id="2329" name="TextBox 47"/>
            <p:cNvSpPr/>
            <p:nvPr/>
          </p:nvSpPr>
          <p:spPr>
            <a:xfrm>
              <a:off x="9248760" y="4630680"/>
              <a:ext cx="165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Questrial"/>
                  <a:ea typeface="Roboto Medium"/>
                </a:rPr>
                <a:t>Jenita Smit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TextBox 48"/>
            <p:cNvSpPr/>
            <p:nvPr/>
          </p:nvSpPr>
          <p:spPr>
            <a:xfrm>
              <a:off x="9248760" y="4978440"/>
              <a:ext cx="16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oboto Light"/>
                  <a:ea typeface="Roboto Light"/>
                </a:rPr>
                <a:t>UI/UX Desig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1" name="Group 50"/>
          <p:cNvGrpSpPr/>
          <p:nvPr/>
        </p:nvGrpSpPr>
        <p:grpSpPr>
          <a:xfrm>
            <a:off x="4278240" y="1292400"/>
            <a:ext cx="3635280" cy="2616120"/>
            <a:chOff x="4278240" y="1292400"/>
            <a:chExt cx="3635280" cy="2616120"/>
          </a:xfrm>
        </p:grpSpPr>
        <p:sp>
          <p:nvSpPr>
            <p:cNvPr id="2332" name="TextBox 2"/>
            <p:cNvSpPr/>
            <p:nvPr/>
          </p:nvSpPr>
          <p:spPr>
            <a:xfrm>
              <a:off x="4278240" y="1292400"/>
              <a:ext cx="3635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Questrial"/>
                  <a:ea typeface="Poppins SemiBold"/>
                </a:rPr>
                <a:t>The creative crew behind agenc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TextBox 43"/>
            <p:cNvSpPr/>
            <p:nvPr/>
          </p:nvSpPr>
          <p:spPr>
            <a:xfrm>
              <a:off x="4502880" y="2559960"/>
              <a:ext cx="3185640" cy="13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 of disruptive innovation workplace diversity and empowerment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4" name="Group 126"/>
          <p:cNvGrpSpPr/>
          <p:nvPr/>
        </p:nvGrpSpPr>
        <p:grpSpPr>
          <a:xfrm>
            <a:off x="4390920" y="4199040"/>
            <a:ext cx="3409920" cy="1640880"/>
            <a:chOff x="4390920" y="4199040"/>
            <a:chExt cx="3409920" cy="1640880"/>
          </a:xfrm>
        </p:grpSpPr>
        <p:grpSp>
          <p:nvGrpSpPr>
            <p:cNvPr id="2335" name="Group 108"/>
            <p:cNvGrpSpPr/>
            <p:nvPr/>
          </p:nvGrpSpPr>
          <p:grpSpPr>
            <a:xfrm>
              <a:off x="4390920" y="4199040"/>
              <a:ext cx="1594440" cy="1640880"/>
              <a:chOff x="4390920" y="4199040"/>
              <a:chExt cx="1594440" cy="1640880"/>
            </a:xfrm>
          </p:grpSpPr>
          <p:grpSp>
            <p:nvGrpSpPr>
              <p:cNvPr id="2336" name="Group 121"/>
              <p:cNvGrpSpPr/>
              <p:nvPr/>
            </p:nvGrpSpPr>
            <p:grpSpPr>
              <a:xfrm>
                <a:off x="4601160" y="4199040"/>
                <a:ext cx="1173600" cy="1173960"/>
                <a:chOff x="4601160" y="4199040"/>
                <a:chExt cx="1173600" cy="1173960"/>
              </a:xfrm>
            </p:grpSpPr>
            <p:sp>
              <p:nvSpPr>
                <p:cNvPr id="2337" name="Oval 124"/>
                <p:cNvSpPr/>
                <p:nvPr/>
              </p:nvSpPr>
              <p:spPr>
                <a:xfrm>
                  <a:off x="4601160" y="4199040"/>
                  <a:ext cx="1173600" cy="1173960"/>
                </a:xfrm>
                <a:prstGeom prst="ellipse">
                  <a:avLst/>
                </a:prstGeom>
                <a:noFill/>
                <a:ln w="38160">
                  <a:solidFill>
                    <a:srgbClr val="a6a6a6">
                      <a:alpha val="2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8" name="Arc 125"/>
                <p:cNvSpPr/>
                <p:nvPr/>
              </p:nvSpPr>
              <p:spPr>
                <a:xfrm>
                  <a:off x="4601160" y="4199040"/>
                  <a:ext cx="1173600" cy="1173960"/>
                </a:xfrm>
                <a:custGeom>
                  <a:avLst/>
                  <a:gdLst/>
                  <a:ahLst/>
                  <a:rect l="l" t="t" r="r" b="b"/>
                  <a:pathLst>
                    <a:path stroke="0" w="862307" h="862304">
                      <a:moveTo>
                        <a:pt x="862063" y="416649"/>
                      </a:moveTo>
                      <a:cubicBezTo>
                        <a:pt x="867939" y="591215"/>
                        <a:pt x="767913" y="752079"/>
                        <a:pt x="608754" y="824027"/>
                      </a:cubicBezTo>
                      <a:cubicBezTo>
                        <a:pt x="449596" y="895975"/>
                        <a:pt x="262755" y="864791"/>
                        <a:pt x="135589" y="745056"/>
                      </a:cubicBezTo>
                      <a:cubicBezTo>
                        <a:pt x="8422" y="625320"/>
                        <a:pt x="-33940" y="440691"/>
                        <a:pt x="28309" y="277495"/>
                      </a:cubicBezTo>
                      <a:cubicBezTo>
                        <a:pt x="90558" y="114300"/>
                        <a:pt x="245117" y="4784"/>
                        <a:pt x="419720" y="152"/>
                      </a:cubicBezTo>
                      <a:lnTo>
                        <a:pt x="431154" y="431152"/>
                      </a:lnTo>
                      <a:lnTo>
                        <a:pt x="862063" y="416649"/>
                      </a:lnTo>
                      <a:close/>
                    </a:path>
                    <a:path fill="none" w="862307" h="862304">
                      <a:moveTo>
                        <a:pt x="862063" y="416649"/>
                      </a:moveTo>
                      <a:cubicBezTo>
                        <a:pt x="867939" y="591215"/>
                        <a:pt x="767913" y="752079"/>
                        <a:pt x="608754" y="824027"/>
                      </a:cubicBezTo>
                      <a:cubicBezTo>
                        <a:pt x="449596" y="895975"/>
                        <a:pt x="262755" y="864791"/>
                        <a:pt x="135589" y="745056"/>
                      </a:cubicBezTo>
                      <a:cubicBezTo>
                        <a:pt x="8422" y="625320"/>
                        <a:pt x="-33940" y="440691"/>
                        <a:pt x="28309" y="277495"/>
                      </a:cubicBezTo>
                      <a:cubicBezTo>
                        <a:pt x="90558" y="114300"/>
                        <a:pt x="245117" y="4784"/>
                        <a:pt x="419720" y="152"/>
                      </a:cubicBezTo>
                    </a:path>
                  </a:pathLst>
                </a:custGeom>
                <a:noFill/>
                <a:ln cap="rnd" w="381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39" name="TextBox 122"/>
              <p:cNvSpPr/>
              <p:nvPr/>
            </p:nvSpPr>
            <p:spPr>
              <a:xfrm>
                <a:off x="4757040" y="4555080"/>
                <a:ext cx="86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Questrial"/>
                    <a:ea typeface="Poppins SemiBold"/>
                  </a:rPr>
                  <a:t>75%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0" name="TextBox 123"/>
              <p:cNvSpPr/>
              <p:nvPr/>
            </p:nvSpPr>
            <p:spPr>
              <a:xfrm>
                <a:off x="4390920" y="5563440"/>
                <a:ext cx="1594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Questrial"/>
                  </a:rPr>
                  <a:t>Statistic On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41" name="Group 110"/>
            <p:cNvGrpSpPr/>
            <p:nvPr/>
          </p:nvGrpSpPr>
          <p:grpSpPr>
            <a:xfrm>
              <a:off x="6206400" y="4199400"/>
              <a:ext cx="1594440" cy="1640160"/>
              <a:chOff x="6206400" y="4199400"/>
              <a:chExt cx="1594440" cy="1640160"/>
            </a:xfrm>
          </p:grpSpPr>
          <p:grpSp>
            <p:nvGrpSpPr>
              <p:cNvPr id="2342" name="Group 111"/>
              <p:cNvGrpSpPr/>
              <p:nvPr/>
            </p:nvGrpSpPr>
            <p:grpSpPr>
              <a:xfrm>
                <a:off x="6416640" y="4199400"/>
                <a:ext cx="1173600" cy="1174320"/>
                <a:chOff x="6416640" y="4199400"/>
                <a:chExt cx="1173600" cy="1174320"/>
              </a:xfrm>
            </p:grpSpPr>
            <p:sp>
              <p:nvSpPr>
                <p:cNvPr id="2343" name="Oval 114"/>
                <p:cNvSpPr/>
                <p:nvPr/>
              </p:nvSpPr>
              <p:spPr>
                <a:xfrm>
                  <a:off x="6416640" y="4199400"/>
                  <a:ext cx="1173600" cy="1174320"/>
                </a:xfrm>
                <a:prstGeom prst="ellipse">
                  <a:avLst/>
                </a:prstGeom>
                <a:noFill/>
                <a:ln w="38160">
                  <a:solidFill>
                    <a:srgbClr val="a6a6a6">
                      <a:alpha val="2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4" name="Arc 115"/>
                <p:cNvSpPr/>
                <p:nvPr/>
              </p:nvSpPr>
              <p:spPr>
                <a:xfrm>
                  <a:off x="6416640" y="4199400"/>
                  <a:ext cx="1173600" cy="1174320"/>
                </a:xfrm>
                <a:custGeom>
                  <a:avLst/>
                  <a:gdLst/>
                  <a:ahLst/>
                  <a:rect l="l" t="t" r="r" b="b"/>
                  <a:pathLst>
                    <a:path stroke="0" w="862307" h="862304">
                      <a:moveTo>
                        <a:pt x="401539" y="861286"/>
                      </a:moveTo>
                      <a:cubicBezTo>
                        <a:pt x="171943" y="845479"/>
                        <a:pt x="-4763" y="652137"/>
                        <a:pt x="96" y="422051"/>
                      </a:cubicBezTo>
                      <a:cubicBezTo>
                        <a:pt x="4954" y="191964"/>
                        <a:pt x="189663" y="6254"/>
                        <a:pt x="419721" y="152"/>
                      </a:cubicBezTo>
                      <a:lnTo>
                        <a:pt x="431154" y="431152"/>
                      </a:lnTo>
                      <a:lnTo>
                        <a:pt x="401539" y="861286"/>
                      </a:lnTo>
                      <a:close/>
                    </a:path>
                    <a:path fill="none" w="862307" h="862304">
                      <a:moveTo>
                        <a:pt x="401539" y="861286"/>
                      </a:moveTo>
                      <a:cubicBezTo>
                        <a:pt x="171943" y="845479"/>
                        <a:pt x="-4763" y="652137"/>
                        <a:pt x="96" y="422051"/>
                      </a:cubicBezTo>
                      <a:cubicBezTo>
                        <a:pt x="4954" y="191964"/>
                        <a:pt x="189663" y="6254"/>
                        <a:pt x="419721" y="152"/>
                      </a:cubicBezTo>
                    </a:path>
                  </a:pathLst>
                </a:custGeom>
                <a:noFill/>
                <a:ln cap="rnd" w="381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45" name="TextBox 112"/>
              <p:cNvSpPr/>
              <p:nvPr/>
            </p:nvSpPr>
            <p:spPr>
              <a:xfrm>
                <a:off x="6572520" y="4555440"/>
                <a:ext cx="86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Questrial"/>
                    <a:ea typeface="Poppins SemiBold"/>
                  </a:rPr>
                  <a:t>50%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6" name="TextBox 113"/>
              <p:cNvSpPr/>
              <p:nvPr/>
            </p:nvSpPr>
            <p:spPr>
              <a:xfrm>
                <a:off x="6206400" y="5563080"/>
                <a:ext cx="1594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Questrial"/>
                  </a:rPr>
                  <a:t>Statistic Two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35"/>
          <p:cNvSpPr/>
          <p:nvPr/>
        </p:nvSpPr>
        <p:spPr>
          <a:xfrm>
            <a:off x="4919760" y="0"/>
            <a:ext cx="7272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Rectangle: Rounded Corners 68"/>
          <p:cNvSpPr/>
          <p:nvPr/>
        </p:nvSpPr>
        <p:spPr>
          <a:xfrm>
            <a:off x="4892760" y="2982960"/>
            <a:ext cx="83880" cy="89208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892080"/>
              <a:gd name="textAreaBottom" fmla="*/ 879840 h 892080"/>
            </a:gdLst>
            <a:ahLst/>
            <a:rect l="textAreaLeft" t="textAreaTop" r="textAreaRight" b="textAreaBottom"/>
            <a:pathLst>
              <a:path w="21600" h="228831">
                <a:moveTo>
                  <a:pt x="10800" y="0"/>
                </a:moveTo>
                <a:arcTo wR="10800" hR="10800" stAng="16200000" swAng="-5400000"/>
                <a:lnTo>
                  <a:pt x="0" y="218031"/>
                </a:lnTo>
                <a:arcTo wR="10800" hR="10800" stAng="10800000" swAng="-5400000"/>
                <a:lnTo>
                  <a:pt x="10800" y="2288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9" name="Group 85"/>
          <p:cNvGrpSpPr/>
          <p:nvPr/>
        </p:nvGrpSpPr>
        <p:grpSpPr>
          <a:xfrm>
            <a:off x="765000" y="3525840"/>
            <a:ext cx="3349800" cy="1184760"/>
            <a:chOff x="765000" y="3525840"/>
            <a:chExt cx="3349800" cy="1184760"/>
          </a:xfrm>
        </p:grpSpPr>
        <p:sp>
          <p:nvSpPr>
            <p:cNvPr id="2350" name="TextBox 70"/>
            <p:cNvSpPr/>
            <p:nvPr/>
          </p:nvSpPr>
          <p:spPr>
            <a:xfrm>
              <a:off x="1138680" y="3525840"/>
              <a:ext cx="260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Biograph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TextBox 71"/>
            <p:cNvSpPr/>
            <p:nvPr/>
          </p:nvSpPr>
          <p:spPr>
            <a:xfrm>
              <a:off x="765000" y="3863880"/>
              <a:ext cx="334980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diversity and professional in job empowerment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2" name="Group 84"/>
          <p:cNvGrpSpPr/>
          <p:nvPr/>
        </p:nvGrpSpPr>
        <p:grpSpPr>
          <a:xfrm>
            <a:off x="487440" y="5079960"/>
            <a:ext cx="3905280" cy="500760"/>
            <a:chOff x="487440" y="5079960"/>
            <a:chExt cx="3905280" cy="500760"/>
          </a:xfrm>
        </p:grpSpPr>
        <p:grpSp>
          <p:nvGrpSpPr>
            <p:cNvPr id="2353" name="Group 82"/>
            <p:cNvGrpSpPr/>
            <p:nvPr/>
          </p:nvGrpSpPr>
          <p:grpSpPr>
            <a:xfrm>
              <a:off x="487440" y="5079960"/>
              <a:ext cx="1504800" cy="500760"/>
              <a:chOff x="487440" y="5079960"/>
              <a:chExt cx="1504800" cy="500760"/>
            </a:xfrm>
          </p:grpSpPr>
          <p:sp>
            <p:nvSpPr>
              <p:cNvPr id="2354" name="TextBox 73"/>
              <p:cNvSpPr/>
              <p:nvPr/>
            </p:nvSpPr>
            <p:spPr>
              <a:xfrm>
                <a:off x="487440" y="5079960"/>
                <a:ext cx="1504800" cy="25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Questrial"/>
                    <a:ea typeface="Adobe Gothic Std B"/>
                  </a:rPr>
                  <a:t>Age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5" name="TextBox 74"/>
              <p:cNvSpPr/>
              <p:nvPr/>
            </p:nvSpPr>
            <p:spPr>
              <a:xfrm>
                <a:off x="487440" y="5334480"/>
                <a:ext cx="150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D" sz="10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26 years ol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6" name="Group 81"/>
            <p:cNvGrpSpPr/>
            <p:nvPr/>
          </p:nvGrpSpPr>
          <p:grpSpPr>
            <a:xfrm>
              <a:off x="1687680" y="5079960"/>
              <a:ext cx="1504800" cy="500760"/>
              <a:chOff x="1687680" y="5079960"/>
              <a:chExt cx="1504800" cy="500760"/>
            </a:xfrm>
          </p:grpSpPr>
          <p:sp>
            <p:nvSpPr>
              <p:cNvPr id="2357" name="TextBox 76"/>
              <p:cNvSpPr/>
              <p:nvPr/>
            </p:nvSpPr>
            <p:spPr>
              <a:xfrm>
                <a:off x="1687680" y="5079960"/>
                <a:ext cx="1504800" cy="25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Questrial"/>
                    <a:ea typeface="Adobe Gothic Std B"/>
                  </a:rPr>
                  <a:t>Job Title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8" name="TextBox 77"/>
              <p:cNvSpPr/>
              <p:nvPr/>
            </p:nvSpPr>
            <p:spPr>
              <a:xfrm>
                <a:off x="1687680" y="5334480"/>
                <a:ext cx="150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D" sz="10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Full stack enginer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9" name="Group 83"/>
            <p:cNvGrpSpPr/>
            <p:nvPr/>
          </p:nvGrpSpPr>
          <p:grpSpPr>
            <a:xfrm>
              <a:off x="2887920" y="5079960"/>
              <a:ext cx="1504800" cy="500760"/>
              <a:chOff x="2887920" y="5079960"/>
              <a:chExt cx="1504800" cy="500760"/>
            </a:xfrm>
          </p:grpSpPr>
          <p:sp>
            <p:nvSpPr>
              <p:cNvPr id="2360" name="TextBox 79"/>
              <p:cNvSpPr/>
              <p:nvPr/>
            </p:nvSpPr>
            <p:spPr>
              <a:xfrm>
                <a:off x="2887920" y="5079960"/>
                <a:ext cx="1504800" cy="25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Questrial"/>
                    <a:ea typeface="Adobe Gothic Std B"/>
                  </a:rPr>
                  <a:t>Location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1" name="TextBox 80"/>
              <p:cNvSpPr/>
              <p:nvPr/>
            </p:nvSpPr>
            <p:spPr>
              <a:xfrm>
                <a:off x="2887920" y="5334480"/>
                <a:ext cx="150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D" sz="10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San Jose. CA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62" name="Group 97"/>
          <p:cNvGrpSpPr/>
          <p:nvPr/>
        </p:nvGrpSpPr>
        <p:grpSpPr>
          <a:xfrm>
            <a:off x="6703920" y="1220760"/>
            <a:ext cx="3873600" cy="4416480"/>
            <a:chOff x="6703920" y="1220760"/>
            <a:chExt cx="3873600" cy="4416480"/>
          </a:xfrm>
        </p:grpSpPr>
        <p:sp>
          <p:nvSpPr>
            <p:cNvPr id="2363" name="TextBox 41"/>
            <p:cNvSpPr/>
            <p:nvPr/>
          </p:nvSpPr>
          <p:spPr>
            <a:xfrm>
              <a:off x="6703920" y="1220760"/>
              <a:ext cx="375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Questrial"/>
                  <a:ea typeface="Roboto Medium"/>
                </a:rPr>
                <a:t>Tamara Charlso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Rectangle: Rounded Corners 43"/>
            <p:cNvSpPr/>
            <p:nvPr/>
          </p:nvSpPr>
          <p:spPr>
            <a:xfrm>
              <a:off x="6779880" y="3571560"/>
              <a:ext cx="3733920" cy="75960"/>
            </a:xfrm>
            <a:prstGeom prst="roundRect">
              <a:avLst>
                <a:gd name="adj" fmla="val 50000"/>
              </a:avLst>
            </a:prstGeom>
            <a:solidFill>
              <a:srgbClr val="bfbfb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Rectangle: Rounded Corners 45"/>
            <p:cNvSpPr/>
            <p:nvPr/>
          </p:nvSpPr>
          <p:spPr>
            <a:xfrm>
              <a:off x="6779880" y="3571560"/>
              <a:ext cx="2928600" cy="75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TextBox 47"/>
            <p:cNvSpPr/>
            <p:nvPr/>
          </p:nvSpPr>
          <p:spPr>
            <a:xfrm>
              <a:off x="6703920" y="3270600"/>
              <a:ext cx="151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Roboto"/>
                  <a:ea typeface="Roboto"/>
                </a:rPr>
                <a:t>User Experienc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TextBox 49"/>
            <p:cNvSpPr/>
            <p:nvPr/>
          </p:nvSpPr>
          <p:spPr>
            <a:xfrm>
              <a:off x="9828360" y="327060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Roboto"/>
                  <a:ea typeface="Roboto"/>
                </a:rPr>
                <a:t>75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Rectangle: Rounded Corners 51"/>
            <p:cNvSpPr/>
            <p:nvPr/>
          </p:nvSpPr>
          <p:spPr>
            <a:xfrm>
              <a:off x="6779880" y="4208400"/>
              <a:ext cx="3733920" cy="75960"/>
            </a:xfrm>
            <a:prstGeom prst="roundRect">
              <a:avLst>
                <a:gd name="adj" fmla="val 50000"/>
              </a:avLst>
            </a:prstGeom>
            <a:solidFill>
              <a:srgbClr val="bfbfb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Rectangle: Rounded Corners 53"/>
            <p:cNvSpPr/>
            <p:nvPr/>
          </p:nvSpPr>
          <p:spPr>
            <a:xfrm>
              <a:off x="6779880" y="4208400"/>
              <a:ext cx="3111840" cy="75960"/>
            </a:xfrm>
            <a:prstGeom prst="roundRect">
              <a:avLst>
                <a:gd name="adj" fmla="val 50000"/>
              </a:avLst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TextBox 55"/>
            <p:cNvSpPr/>
            <p:nvPr/>
          </p:nvSpPr>
          <p:spPr>
            <a:xfrm>
              <a:off x="6703920" y="3907800"/>
              <a:ext cx="151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Roboto"/>
                  <a:ea typeface="Roboto"/>
                </a:rPr>
                <a:t>Cod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TextBox 57"/>
            <p:cNvSpPr/>
            <p:nvPr/>
          </p:nvSpPr>
          <p:spPr>
            <a:xfrm>
              <a:off x="9828360" y="390780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Roboto"/>
                  <a:ea typeface="Roboto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TextBox 59"/>
            <p:cNvSpPr/>
            <p:nvPr/>
          </p:nvSpPr>
          <p:spPr>
            <a:xfrm>
              <a:off x="6703920" y="1897920"/>
              <a:ext cx="3873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 of disruptive innovation workplace diversity and empowerment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Rectangle: Rounded Corners 61"/>
            <p:cNvSpPr/>
            <p:nvPr/>
          </p:nvSpPr>
          <p:spPr>
            <a:xfrm>
              <a:off x="6779880" y="4845240"/>
              <a:ext cx="3733920" cy="75960"/>
            </a:xfrm>
            <a:prstGeom prst="roundRect">
              <a:avLst>
                <a:gd name="adj" fmla="val 50000"/>
              </a:avLst>
            </a:prstGeom>
            <a:solidFill>
              <a:srgbClr val="bfbfb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Rectangle: Rounded Corners 63"/>
            <p:cNvSpPr/>
            <p:nvPr/>
          </p:nvSpPr>
          <p:spPr>
            <a:xfrm>
              <a:off x="6779880" y="4845240"/>
              <a:ext cx="3111840" cy="759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TextBox 65"/>
            <p:cNvSpPr/>
            <p:nvPr/>
          </p:nvSpPr>
          <p:spPr>
            <a:xfrm>
              <a:off x="6703920" y="4544640"/>
              <a:ext cx="151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Roboto"/>
                  <a:ea typeface="Roboto"/>
                </a:rPr>
                <a:t>Graphic Design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TextBox 67"/>
            <p:cNvSpPr/>
            <p:nvPr/>
          </p:nvSpPr>
          <p:spPr>
            <a:xfrm>
              <a:off x="9828360" y="45446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Roboto"/>
                  <a:ea typeface="Roboto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7" name="Group 95" descr=""/>
            <p:cNvPicPr/>
            <p:nvPr/>
          </p:nvPicPr>
          <p:blipFill>
            <a:blip r:embed="rId1"/>
            <a:stretch/>
          </p:blipFill>
          <p:spPr>
            <a:xfrm>
              <a:off x="6777720" y="5357160"/>
              <a:ext cx="1585080" cy="28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Rectangle 76"/>
          <p:cNvSpPr/>
          <p:nvPr/>
        </p:nvSpPr>
        <p:spPr>
          <a:xfrm>
            <a:off x="0" y="2679840"/>
            <a:ext cx="12192120" cy="4178160"/>
          </a:xfrm>
          <a:prstGeom prst="rect">
            <a:avLst/>
          </a:prstGeom>
          <a:solidFill>
            <a:srgbClr val="f7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9" name="Group 17"/>
          <p:cNvGrpSpPr/>
          <p:nvPr/>
        </p:nvGrpSpPr>
        <p:grpSpPr>
          <a:xfrm>
            <a:off x="887400" y="4724280"/>
            <a:ext cx="2529000" cy="1436040"/>
            <a:chOff x="887400" y="4724280"/>
            <a:chExt cx="2529000" cy="1436040"/>
          </a:xfrm>
        </p:grpSpPr>
        <p:sp>
          <p:nvSpPr>
            <p:cNvPr id="2380" name="TextBox 4"/>
            <p:cNvSpPr/>
            <p:nvPr/>
          </p:nvSpPr>
          <p:spPr>
            <a:xfrm>
              <a:off x="887400" y="4724280"/>
              <a:ext cx="25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Photoghraph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TextBox 5"/>
            <p:cNvSpPr/>
            <p:nvPr/>
          </p:nvSpPr>
          <p:spPr>
            <a:xfrm>
              <a:off x="887400" y="5062680"/>
              <a:ext cx="2529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2" name="Group 16"/>
          <p:cNvGrpSpPr/>
          <p:nvPr/>
        </p:nvGrpSpPr>
        <p:grpSpPr>
          <a:xfrm>
            <a:off x="3517920" y="4724280"/>
            <a:ext cx="2527200" cy="1436040"/>
            <a:chOff x="3517920" y="4724280"/>
            <a:chExt cx="2527200" cy="1436040"/>
          </a:xfrm>
        </p:grpSpPr>
        <p:sp>
          <p:nvSpPr>
            <p:cNvPr id="2383" name="TextBox 6"/>
            <p:cNvSpPr/>
            <p:nvPr/>
          </p:nvSpPr>
          <p:spPr>
            <a:xfrm>
              <a:off x="3517920" y="4724280"/>
              <a:ext cx="252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Create New Ide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TextBox 7"/>
            <p:cNvSpPr/>
            <p:nvPr/>
          </p:nvSpPr>
          <p:spPr>
            <a:xfrm>
              <a:off x="3517920" y="5062680"/>
              <a:ext cx="2527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5" name="Group 13"/>
          <p:cNvGrpSpPr/>
          <p:nvPr/>
        </p:nvGrpSpPr>
        <p:grpSpPr>
          <a:xfrm>
            <a:off x="6146640" y="4724280"/>
            <a:ext cx="2527560" cy="1436040"/>
            <a:chOff x="6146640" y="4724280"/>
            <a:chExt cx="2527560" cy="1436040"/>
          </a:xfrm>
        </p:grpSpPr>
        <p:sp>
          <p:nvSpPr>
            <p:cNvPr id="2386" name="TextBox 8"/>
            <p:cNvSpPr/>
            <p:nvPr/>
          </p:nvSpPr>
          <p:spPr>
            <a:xfrm>
              <a:off x="6146640" y="4724280"/>
              <a:ext cx="252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Business Pla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TextBox 9"/>
            <p:cNvSpPr/>
            <p:nvPr/>
          </p:nvSpPr>
          <p:spPr>
            <a:xfrm>
              <a:off x="6146640" y="5062680"/>
              <a:ext cx="25275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8" name="Group 12"/>
          <p:cNvGrpSpPr/>
          <p:nvPr/>
        </p:nvGrpSpPr>
        <p:grpSpPr>
          <a:xfrm>
            <a:off x="8775720" y="4724280"/>
            <a:ext cx="2529000" cy="1436040"/>
            <a:chOff x="8775720" y="4724280"/>
            <a:chExt cx="2529000" cy="1436040"/>
          </a:xfrm>
        </p:grpSpPr>
        <p:sp>
          <p:nvSpPr>
            <p:cNvPr id="2389" name="TextBox 10"/>
            <p:cNvSpPr/>
            <p:nvPr/>
          </p:nvSpPr>
          <p:spPr>
            <a:xfrm>
              <a:off x="8775720" y="4724280"/>
              <a:ext cx="25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Ongoing Suppor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0" name="TextBox 11"/>
            <p:cNvSpPr/>
            <p:nvPr/>
          </p:nvSpPr>
          <p:spPr>
            <a:xfrm>
              <a:off x="8775720" y="5062680"/>
              <a:ext cx="2529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1" name="Group 70"/>
          <p:cNvGrpSpPr/>
          <p:nvPr/>
        </p:nvGrpSpPr>
        <p:grpSpPr>
          <a:xfrm>
            <a:off x="3594240" y="3522600"/>
            <a:ext cx="690480" cy="690480"/>
            <a:chOff x="3594240" y="3522600"/>
            <a:chExt cx="690480" cy="690480"/>
          </a:xfrm>
        </p:grpSpPr>
        <p:sp>
          <p:nvSpPr>
            <p:cNvPr id="2392" name="Rectangle: Rounded Corners 23"/>
            <p:cNvSpPr/>
            <p:nvPr/>
          </p:nvSpPr>
          <p:spPr>
            <a:xfrm>
              <a:off x="3594240" y="3522600"/>
              <a:ext cx="690480" cy="6904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93" name="Group 168" descr=""/>
            <p:cNvPicPr/>
            <p:nvPr/>
          </p:nvPicPr>
          <p:blipFill>
            <a:blip r:embed="rId1"/>
            <a:stretch/>
          </p:blipFill>
          <p:spPr>
            <a:xfrm>
              <a:off x="3816360" y="3687840"/>
              <a:ext cx="243360" cy="35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4" name="Group 72"/>
          <p:cNvGrpSpPr/>
          <p:nvPr/>
        </p:nvGrpSpPr>
        <p:grpSpPr>
          <a:xfrm>
            <a:off x="8861400" y="3522600"/>
            <a:ext cx="692280" cy="690480"/>
            <a:chOff x="8861400" y="3522600"/>
            <a:chExt cx="692280" cy="690480"/>
          </a:xfrm>
        </p:grpSpPr>
        <p:sp>
          <p:nvSpPr>
            <p:cNvPr id="2395" name="Rectangle: Rounded Corners 25"/>
            <p:cNvSpPr/>
            <p:nvPr/>
          </p:nvSpPr>
          <p:spPr>
            <a:xfrm>
              <a:off x="8861400" y="3522600"/>
              <a:ext cx="692280" cy="6904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90"/>
            <p:cNvSpPr/>
            <p:nvPr/>
          </p:nvSpPr>
          <p:spPr>
            <a:xfrm>
              <a:off x="9027720" y="3688560"/>
              <a:ext cx="359280" cy="3582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96" y="0"/>
                  </a:moveTo>
                  <a:cubicBezTo>
                    <a:pt x="88" y="0"/>
                    <a:pt x="82" y="5"/>
                    <a:pt x="77" y="14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1" y="26"/>
                    <a:pt x="61" y="34"/>
                    <a:pt x="51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7" y="34"/>
                    <a:pt x="0" y="43"/>
                    <a:pt x="0" y="54"/>
                  </a:cubicBezTo>
                  <a:cubicBezTo>
                    <a:pt x="0" y="64"/>
                    <a:pt x="7" y="73"/>
                    <a:pt x="15" y="73"/>
                  </a:cubicBezTo>
                  <a:cubicBezTo>
                    <a:pt x="20" y="73"/>
                    <a:pt x="23" y="76"/>
                    <a:pt x="23" y="80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23" y="119"/>
                    <a:pt x="26" y="123"/>
                    <a:pt x="31" y="123"/>
                  </a:cubicBezTo>
                  <a:cubicBezTo>
                    <a:pt x="46" y="123"/>
                    <a:pt x="46" y="123"/>
                    <a:pt x="46" y="123"/>
                  </a:cubicBezTo>
                  <a:cubicBezTo>
                    <a:pt x="50" y="123"/>
                    <a:pt x="54" y="119"/>
                    <a:pt x="54" y="115"/>
                  </a:cubicBezTo>
                  <a:cubicBezTo>
                    <a:pt x="54" y="111"/>
                    <a:pt x="54" y="111"/>
                    <a:pt x="54" y="111"/>
                  </a:cubicBezTo>
                  <a:cubicBezTo>
                    <a:pt x="54" y="107"/>
                    <a:pt x="50" y="106"/>
                    <a:pt x="50" y="103"/>
                  </a:cubicBezTo>
                  <a:cubicBezTo>
                    <a:pt x="50" y="77"/>
                    <a:pt x="50" y="77"/>
                    <a:pt x="50" y="77"/>
                  </a:cubicBezTo>
                  <a:cubicBezTo>
                    <a:pt x="50" y="76"/>
                    <a:pt x="50" y="76"/>
                    <a:pt x="50" y="76"/>
                  </a:cubicBezTo>
                  <a:cubicBezTo>
                    <a:pt x="50" y="76"/>
                    <a:pt x="50" y="75"/>
                    <a:pt x="50" y="75"/>
                  </a:cubicBezTo>
                  <a:cubicBezTo>
                    <a:pt x="50" y="75"/>
                    <a:pt x="51" y="75"/>
                    <a:pt x="51" y="74"/>
                  </a:cubicBezTo>
                  <a:cubicBezTo>
                    <a:pt x="51" y="74"/>
                    <a:pt x="51" y="74"/>
                    <a:pt x="52" y="73"/>
                  </a:cubicBezTo>
                  <a:cubicBezTo>
                    <a:pt x="52" y="73"/>
                    <a:pt x="52" y="73"/>
                    <a:pt x="52" y="73"/>
                  </a:cubicBezTo>
                  <a:cubicBezTo>
                    <a:pt x="52" y="73"/>
                    <a:pt x="52" y="73"/>
                    <a:pt x="52" y="73"/>
                  </a:cubicBezTo>
                  <a:cubicBezTo>
                    <a:pt x="52" y="73"/>
                    <a:pt x="53" y="73"/>
                    <a:pt x="53" y="73"/>
                  </a:cubicBezTo>
                  <a:cubicBezTo>
                    <a:pt x="63" y="74"/>
                    <a:pt x="71" y="82"/>
                    <a:pt x="77" y="94"/>
                  </a:cubicBezTo>
                  <a:cubicBezTo>
                    <a:pt x="77" y="94"/>
                    <a:pt x="77" y="94"/>
                    <a:pt x="77" y="94"/>
                  </a:cubicBezTo>
                  <a:cubicBezTo>
                    <a:pt x="82" y="102"/>
                    <a:pt x="88" y="107"/>
                    <a:pt x="96" y="107"/>
                  </a:cubicBezTo>
                  <a:cubicBezTo>
                    <a:pt x="114" y="107"/>
                    <a:pt x="123" y="80"/>
                    <a:pt x="123" y="54"/>
                  </a:cubicBezTo>
                  <a:cubicBezTo>
                    <a:pt x="123" y="27"/>
                    <a:pt x="114" y="0"/>
                    <a:pt x="96" y="0"/>
                  </a:cubicBezTo>
                  <a:close/>
                  <a:moveTo>
                    <a:pt x="77" y="54"/>
                  </a:moveTo>
                  <a:cubicBezTo>
                    <a:pt x="77" y="50"/>
                    <a:pt x="77" y="46"/>
                    <a:pt x="77" y="42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92" y="42"/>
                    <a:pt x="96" y="47"/>
                    <a:pt x="96" y="54"/>
                  </a:cubicBezTo>
                  <a:cubicBezTo>
                    <a:pt x="96" y="60"/>
                    <a:pt x="92" y="65"/>
                    <a:pt x="88" y="65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61"/>
                    <a:pt x="77" y="58"/>
                    <a:pt x="77" y="54"/>
                  </a:cubicBezTo>
                  <a:close/>
                  <a:moveTo>
                    <a:pt x="8" y="54"/>
                  </a:moveTo>
                  <a:cubicBezTo>
                    <a:pt x="8" y="47"/>
                    <a:pt x="11" y="42"/>
                    <a:pt x="15" y="42"/>
                  </a:cubicBezTo>
                  <a:cubicBezTo>
                    <a:pt x="42" y="42"/>
                    <a:pt x="42" y="42"/>
                    <a:pt x="42" y="42"/>
                  </a:cubicBezTo>
                  <a:cubicBezTo>
                    <a:pt x="40" y="45"/>
                    <a:pt x="38" y="49"/>
                    <a:pt x="38" y="54"/>
                  </a:cubicBezTo>
                  <a:cubicBezTo>
                    <a:pt x="38" y="58"/>
                    <a:pt x="40" y="62"/>
                    <a:pt x="42" y="65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1" y="65"/>
                    <a:pt x="8" y="60"/>
                    <a:pt x="8" y="54"/>
                  </a:cubicBezTo>
                  <a:close/>
                  <a:moveTo>
                    <a:pt x="46" y="115"/>
                  </a:moveTo>
                  <a:cubicBezTo>
                    <a:pt x="31" y="115"/>
                    <a:pt x="31" y="115"/>
                    <a:pt x="31" y="115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1" y="78"/>
                    <a:pt x="30" y="75"/>
                    <a:pt x="29" y="73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2" y="74"/>
                    <a:pt x="42" y="75"/>
                    <a:pt x="42" y="77"/>
                  </a:cubicBezTo>
                  <a:cubicBezTo>
                    <a:pt x="42" y="103"/>
                    <a:pt x="42" y="103"/>
                    <a:pt x="42" y="103"/>
                  </a:cubicBezTo>
                  <a:cubicBezTo>
                    <a:pt x="42" y="107"/>
                    <a:pt x="44" y="110"/>
                    <a:pt x="46" y="111"/>
                  </a:cubicBezTo>
                  <a:cubicBezTo>
                    <a:pt x="46" y="111"/>
                    <a:pt x="46" y="111"/>
                    <a:pt x="46" y="112"/>
                  </a:cubicBezTo>
                  <a:lnTo>
                    <a:pt x="46" y="115"/>
                  </a:lnTo>
                  <a:close/>
                  <a:moveTo>
                    <a:pt x="51" y="65"/>
                  </a:move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46" y="65"/>
                    <a:pt x="42" y="60"/>
                    <a:pt x="42" y="54"/>
                  </a:cubicBezTo>
                  <a:cubicBezTo>
                    <a:pt x="42" y="47"/>
                    <a:pt x="46" y="42"/>
                    <a:pt x="50" y="4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58" y="42"/>
                    <a:pt x="65" y="39"/>
                    <a:pt x="71" y="34"/>
                  </a:cubicBezTo>
                  <a:cubicBezTo>
                    <a:pt x="70" y="40"/>
                    <a:pt x="69" y="47"/>
                    <a:pt x="69" y="54"/>
                  </a:cubicBezTo>
                  <a:cubicBezTo>
                    <a:pt x="69" y="60"/>
                    <a:pt x="70" y="67"/>
                    <a:pt x="71" y="73"/>
                  </a:cubicBezTo>
                  <a:cubicBezTo>
                    <a:pt x="65" y="68"/>
                    <a:pt x="58" y="65"/>
                    <a:pt x="51" y="65"/>
                  </a:cubicBezTo>
                  <a:close/>
                  <a:moveTo>
                    <a:pt x="96" y="100"/>
                  </a:moveTo>
                  <a:cubicBezTo>
                    <a:pt x="88" y="100"/>
                    <a:pt x="82" y="89"/>
                    <a:pt x="79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97" y="73"/>
                    <a:pt x="104" y="64"/>
                    <a:pt x="104" y="54"/>
                  </a:cubicBezTo>
                  <a:cubicBezTo>
                    <a:pt x="104" y="43"/>
                    <a:pt x="97" y="34"/>
                    <a:pt x="88" y="34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2" y="19"/>
                    <a:pt x="88" y="8"/>
                    <a:pt x="96" y="8"/>
                  </a:cubicBezTo>
                  <a:cubicBezTo>
                    <a:pt x="107" y="8"/>
                    <a:pt x="115" y="28"/>
                    <a:pt x="115" y="54"/>
                  </a:cubicBezTo>
                  <a:cubicBezTo>
                    <a:pt x="115" y="79"/>
                    <a:pt x="107" y="100"/>
                    <a:pt x="96" y="100"/>
                  </a:cubicBezTo>
                  <a:close/>
                  <a:moveTo>
                    <a:pt x="96" y="100"/>
                  </a:moveTo>
                  <a:cubicBezTo>
                    <a:pt x="96" y="100"/>
                    <a:pt x="96" y="100"/>
                    <a:pt x="96" y="1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7" name="Group 73"/>
          <p:cNvGrpSpPr/>
          <p:nvPr/>
        </p:nvGrpSpPr>
        <p:grpSpPr>
          <a:xfrm>
            <a:off x="988920" y="3522600"/>
            <a:ext cx="692280" cy="690480"/>
            <a:chOff x="988920" y="3522600"/>
            <a:chExt cx="692280" cy="690480"/>
          </a:xfrm>
        </p:grpSpPr>
        <p:sp>
          <p:nvSpPr>
            <p:cNvPr id="2398" name="Rectangle: Rounded Corners 22"/>
            <p:cNvSpPr/>
            <p:nvPr/>
          </p:nvSpPr>
          <p:spPr>
            <a:xfrm>
              <a:off x="988920" y="3522600"/>
              <a:ext cx="692280" cy="6904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99" name="Group 172" descr=""/>
            <p:cNvPicPr/>
            <p:nvPr/>
          </p:nvPicPr>
          <p:blipFill>
            <a:blip r:embed="rId2"/>
            <a:stretch/>
          </p:blipFill>
          <p:spPr>
            <a:xfrm>
              <a:off x="1157400" y="3718440"/>
              <a:ext cx="353880" cy="29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0" name="Group 71"/>
          <p:cNvGrpSpPr/>
          <p:nvPr/>
        </p:nvGrpSpPr>
        <p:grpSpPr>
          <a:xfrm>
            <a:off x="6237360" y="3522600"/>
            <a:ext cx="690480" cy="690480"/>
            <a:chOff x="6237360" y="3522600"/>
            <a:chExt cx="690480" cy="690480"/>
          </a:xfrm>
        </p:grpSpPr>
        <p:sp>
          <p:nvSpPr>
            <p:cNvPr id="2401" name="Rectangle: Rounded Corners 24"/>
            <p:cNvSpPr/>
            <p:nvPr/>
          </p:nvSpPr>
          <p:spPr>
            <a:xfrm>
              <a:off x="6237360" y="3522600"/>
              <a:ext cx="690480" cy="6904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53"/>
            <p:cNvSpPr/>
            <p:nvPr/>
          </p:nvSpPr>
          <p:spPr>
            <a:xfrm>
              <a:off x="6445800" y="3710520"/>
              <a:ext cx="273240" cy="31428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53" y="0"/>
                  </a:moveTo>
                  <a:cubicBezTo>
                    <a:pt x="27" y="0"/>
                    <a:pt x="0" y="8"/>
                    <a:pt x="0" y="2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15"/>
                    <a:pt x="27" y="123"/>
                    <a:pt x="53" y="123"/>
                  </a:cubicBezTo>
                  <a:cubicBezTo>
                    <a:pt x="79" y="123"/>
                    <a:pt x="107" y="115"/>
                    <a:pt x="107" y="98"/>
                  </a:cubicBezTo>
                  <a:cubicBezTo>
                    <a:pt x="107" y="25"/>
                    <a:pt x="107" y="25"/>
                    <a:pt x="107" y="25"/>
                  </a:cubicBezTo>
                  <a:cubicBezTo>
                    <a:pt x="107" y="8"/>
                    <a:pt x="79" y="0"/>
                    <a:pt x="53" y="0"/>
                  </a:cubicBezTo>
                  <a:close/>
                  <a:moveTo>
                    <a:pt x="99" y="98"/>
                  </a:moveTo>
                  <a:cubicBezTo>
                    <a:pt x="99" y="107"/>
                    <a:pt x="79" y="115"/>
                    <a:pt x="53" y="115"/>
                  </a:cubicBezTo>
                  <a:cubicBezTo>
                    <a:pt x="28" y="115"/>
                    <a:pt x="7" y="107"/>
                    <a:pt x="7" y="98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15" y="92"/>
                    <a:pt x="34" y="96"/>
                    <a:pt x="53" y="96"/>
                  </a:cubicBezTo>
                  <a:cubicBezTo>
                    <a:pt x="72" y="96"/>
                    <a:pt x="91" y="92"/>
                    <a:pt x="99" y="83"/>
                  </a:cubicBezTo>
                  <a:lnTo>
                    <a:pt x="99" y="98"/>
                  </a:lnTo>
                  <a:close/>
                  <a:moveTo>
                    <a:pt x="99" y="75"/>
                  </a:moveTo>
                  <a:cubicBezTo>
                    <a:pt x="99" y="75"/>
                    <a:pt x="99" y="75"/>
                    <a:pt x="99" y="75"/>
                  </a:cubicBezTo>
                  <a:cubicBezTo>
                    <a:pt x="99" y="75"/>
                    <a:pt x="99" y="75"/>
                    <a:pt x="99" y="75"/>
                  </a:cubicBezTo>
                  <a:cubicBezTo>
                    <a:pt x="99" y="84"/>
                    <a:pt x="79" y="92"/>
                    <a:pt x="53" y="92"/>
                  </a:cubicBezTo>
                  <a:cubicBezTo>
                    <a:pt x="28" y="92"/>
                    <a:pt x="7" y="84"/>
                    <a:pt x="7" y="75"/>
                  </a:cubicBezTo>
                  <a:cubicBezTo>
                    <a:pt x="7" y="75"/>
                    <a:pt x="7" y="75"/>
                    <a:pt x="7" y="75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15" y="69"/>
                    <a:pt x="34" y="73"/>
                    <a:pt x="53" y="73"/>
                  </a:cubicBezTo>
                  <a:cubicBezTo>
                    <a:pt x="72" y="73"/>
                    <a:pt x="91" y="69"/>
                    <a:pt x="99" y="60"/>
                  </a:cubicBezTo>
                  <a:lnTo>
                    <a:pt x="99" y="75"/>
                  </a:lnTo>
                  <a:close/>
                  <a:moveTo>
                    <a:pt x="99" y="52"/>
                  </a:moveTo>
                  <a:cubicBezTo>
                    <a:pt x="99" y="52"/>
                    <a:pt x="99" y="52"/>
                    <a:pt x="99" y="52"/>
                  </a:cubicBezTo>
                  <a:cubicBezTo>
                    <a:pt x="99" y="52"/>
                    <a:pt x="99" y="52"/>
                    <a:pt x="99" y="52"/>
                  </a:cubicBezTo>
                  <a:cubicBezTo>
                    <a:pt x="99" y="61"/>
                    <a:pt x="79" y="69"/>
                    <a:pt x="53" y="69"/>
                  </a:cubicBezTo>
                  <a:cubicBezTo>
                    <a:pt x="28" y="69"/>
                    <a:pt x="7" y="61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17" y="46"/>
                    <a:pt x="36" y="50"/>
                    <a:pt x="53" y="50"/>
                  </a:cubicBezTo>
                  <a:cubicBezTo>
                    <a:pt x="71" y="50"/>
                    <a:pt x="89" y="46"/>
                    <a:pt x="99" y="39"/>
                  </a:cubicBezTo>
                  <a:lnTo>
                    <a:pt x="99" y="52"/>
                  </a:lnTo>
                  <a:close/>
                  <a:moveTo>
                    <a:pt x="53" y="42"/>
                  </a:moveTo>
                  <a:cubicBezTo>
                    <a:pt x="28" y="42"/>
                    <a:pt x="7" y="34"/>
                    <a:pt x="7" y="25"/>
                  </a:cubicBezTo>
                  <a:cubicBezTo>
                    <a:pt x="7" y="15"/>
                    <a:pt x="28" y="8"/>
                    <a:pt x="53" y="8"/>
                  </a:cubicBezTo>
                  <a:cubicBezTo>
                    <a:pt x="79" y="8"/>
                    <a:pt x="99" y="15"/>
                    <a:pt x="99" y="25"/>
                  </a:cubicBezTo>
                  <a:cubicBezTo>
                    <a:pt x="99" y="34"/>
                    <a:pt x="79" y="42"/>
                    <a:pt x="53" y="42"/>
                  </a:cubicBezTo>
                  <a:close/>
                  <a:moveTo>
                    <a:pt x="53" y="42"/>
                  </a:moveTo>
                  <a:cubicBezTo>
                    <a:pt x="53" y="42"/>
                    <a:pt x="53" y="42"/>
                    <a:pt x="53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3" name="TextBox 48"/>
          <p:cNvSpPr/>
          <p:nvPr/>
        </p:nvSpPr>
        <p:spPr>
          <a:xfrm>
            <a:off x="8394840" y="1098720"/>
            <a:ext cx="29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TextBox 2"/>
          <p:cNvSpPr/>
          <p:nvPr/>
        </p:nvSpPr>
        <p:spPr>
          <a:xfrm>
            <a:off x="887400" y="1098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estrial"/>
              </a:rPr>
              <a:t>Great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TextBox 2"/>
          <p:cNvSpPr/>
          <p:nvPr/>
        </p:nvSpPr>
        <p:spPr>
          <a:xfrm>
            <a:off x="2441520" y="663480"/>
            <a:ext cx="73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Questrial"/>
              </a:rPr>
              <a:t>Great services our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6" name="Group 4"/>
          <p:cNvGrpSpPr/>
          <p:nvPr/>
        </p:nvGrpSpPr>
        <p:grpSpPr>
          <a:xfrm>
            <a:off x="3138480" y="2403360"/>
            <a:ext cx="2527200" cy="1436400"/>
            <a:chOff x="3138480" y="2403360"/>
            <a:chExt cx="2527200" cy="1436400"/>
          </a:xfrm>
        </p:grpSpPr>
        <p:sp>
          <p:nvSpPr>
            <p:cNvPr id="2407" name="TextBox 5"/>
            <p:cNvSpPr/>
            <p:nvPr/>
          </p:nvSpPr>
          <p:spPr>
            <a:xfrm>
              <a:off x="3138480" y="2403360"/>
              <a:ext cx="252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Photoghraph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8" name="TextBox 6"/>
            <p:cNvSpPr/>
            <p:nvPr/>
          </p:nvSpPr>
          <p:spPr>
            <a:xfrm>
              <a:off x="3138480" y="2742120"/>
              <a:ext cx="2527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9" name="Group 7"/>
          <p:cNvGrpSpPr/>
          <p:nvPr/>
        </p:nvGrpSpPr>
        <p:grpSpPr>
          <a:xfrm>
            <a:off x="3138480" y="4387680"/>
            <a:ext cx="2527200" cy="1436040"/>
            <a:chOff x="3138480" y="4387680"/>
            <a:chExt cx="2527200" cy="1436040"/>
          </a:xfrm>
        </p:grpSpPr>
        <p:sp>
          <p:nvSpPr>
            <p:cNvPr id="2410" name="TextBox 8"/>
            <p:cNvSpPr/>
            <p:nvPr/>
          </p:nvSpPr>
          <p:spPr>
            <a:xfrm>
              <a:off x="3138480" y="4387680"/>
              <a:ext cx="252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Create New Ide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1" name="TextBox 9"/>
            <p:cNvSpPr/>
            <p:nvPr/>
          </p:nvSpPr>
          <p:spPr>
            <a:xfrm>
              <a:off x="3138480" y="4726080"/>
              <a:ext cx="2527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2" name="Group 10"/>
          <p:cNvGrpSpPr/>
          <p:nvPr/>
        </p:nvGrpSpPr>
        <p:grpSpPr>
          <a:xfrm>
            <a:off x="8261280" y="4387680"/>
            <a:ext cx="2529000" cy="1436040"/>
            <a:chOff x="8261280" y="4387680"/>
            <a:chExt cx="2529000" cy="1436040"/>
          </a:xfrm>
        </p:grpSpPr>
        <p:sp>
          <p:nvSpPr>
            <p:cNvPr id="2413" name="TextBox 11"/>
            <p:cNvSpPr/>
            <p:nvPr/>
          </p:nvSpPr>
          <p:spPr>
            <a:xfrm>
              <a:off x="8261280" y="4387680"/>
              <a:ext cx="25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Business Pla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4" name="TextBox 12"/>
            <p:cNvSpPr/>
            <p:nvPr/>
          </p:nvSpPr>
          <p:spPr>
            <a:xfrm>
              <a:off x="8261280" y="4726080"/>
              <a:ext cx="2529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5" name="Group 13"/>
          <p:cNvGrpSpPr/>
          <p:nvPr/>
        </p:nvGrpSpPr>
        <p:grpSpPr>
          <a:xfrm>
            <a:off x="8261280" y="2403360"/>
            <a:ext cx="2529000" cy="1436400"/>
            <a:chOff x="8261280" y="2403360"/>
            <a:chExt cx="2529000" cy="1436400"/>
          </a:xfrm>
        </p:grpSpPr>
        <p:sp>
          <p:nvSpPr>
            <p:cNvPr id="2416" name="TextBox 14"/>
            <p:cNvSpPr/>
            <p:nvPr/>
          </p:nvSpPr>
          <p:spPr>
            <a:xfrm>
              <a:off x="8261280" y="2403360"/>
              <a:ext cx="25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Ongoing Suppor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7" name="TextBox 15"/>
            <p:cNvSpPr/>
            <p:nvPr/>
          </p:nvSpPr>
          <p:spPr>
            <a:xfrm>
              <a:off x="8261280" y="2742120"/>
              <a:ext cx="2529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8" name="Rectangle: Rounded Corners 29"/>
          <p:cNvSpPr/>
          <p:nvPr/>
        </p:nvSpPr>
        <p:spPr>
          <a:xfrm>
            <a:off x="1965240" y="4654440"/>
            <a:ext cx="631800" cy="6303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9" name="Group 168" descr=""/>
          <p:cNvPicPr/>
          <p:nvPr/>
        </p:nvPicPr>
        <p:blipFill>
          <a:blip r:embed="rId1"/>
          <a:stretch/>
        </p:blipFill>
        <p:spPr>
          <a:xfrm>
            <a:off x="2189160" y="4840200"/>
            <a:ext cx="182520" cy="262080"/>
          </a:xfrm>
          <a:prstGeom prst="rect">
            <a:avLst/>
          </a:prstGeom>
          <a:ln w="0">
            <a:noFill/>
          </a:ln>
        </p:spPr>
      </p:pic>
      <p:sp>
        <p:nvSpPr>
          <p:cNvPr id="2420" name="Rectangle: Rounded Corners 31"/>
          <p:cNvSpPr/>
          <p:nvPr/>
        </p:nvSpPr>
        <p:spPr>
          <a:xfrm>
            <a:off x="7043760" y="2670120"/>
            <a:ext cx="631800" cy="63180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Freeform 90"/>
          <p:cNvSpPr/>
          <p:nvPr/>
        </p:nvSpPr>
        <p:spPr>
          <a:xfrm>
            <a:off x="7227720" y="2854440"/>
            <a:ext cx="263520" cy="26352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Rectangle: Rounded Corners 28"/>
          <p:cNvSpPr/>
          <p:nvPr/>
        </p:nvSpPr>
        <p:spPr>
          <a:xfrm>
            <a:off x="1965240" y="2670120"/>
            <a:ext cx="631800" cy="631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3" name="Group 172" descr=""/>
          <p:cNvPicPr/>
          <p:nvPr/>
        </p:nvPicPr>
        <p:blipFill>
          <a:blip r:embed="rId2"/>
          <a:stretch/>
        </p:blipFill>
        <p:spPr>
          <a:xfrm>
            <a:off x="2152800" y="2876400"/>
            <a:ext cx="261720" cy="220680"/>
          </a:xfrm>
          <a:prstGeom prst="rect">
            <a:avLst/>
          </a:prstGeom>
          <a:ln w="0">
            <a:noFill/>
          </a:ln>
        </p:spPr>
      </p:pic>
      <p:sp>
        <p:nvSpPr>
          <p:cNvPr id="2424" name="Rectangle: Rounded Corners 30"/>
          <p:cNvSpPr/>
          <p:nvPr/>
        </p:nvSpPr>
        <p:spPr>
          <a:xfrm>
            <a:off x="7043760" y="4654440"/>
            <a:ext cx="631800" cy="630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Freeform 53"/>
          <p:cNvSpPr/>
          <p:nvPr/>
        </p:nvSpPr>
        <p:spPr>
          <a:xfrm>
            <a:off x="7259760" y="4854600"/>
            <a:ext cx="199800" cy="23004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TextBox 4"/>
          <p:cNvSpPr/>
          <p:nvPr/>
        </p:nvSpPr>
        <p:spPr>
          <a:xfrm>
            <a:off x="1193760" y="1171440"/>
            <a:ext cx="29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Questrial"/>
              </a:rPr>
              <a:t>Great services our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TextBox 5"/>
          <p:cNvSpPr/>
          <p:nvPr/>
        </p:nvSpPr>
        <p:spPr>
          <a:xfrm>
            <a:off x="1193760" y="4484520"/>
            <a:ext cx="27702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win provide a robust synopsis for high level overviews. Iterative approaches to corporate strategy value proposition grow the is holistic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TextBox 6"/>
          <p:cNvSpPr/>
          <p:nvPr/>
        </p:nvSpPr>
        <p:spPr>
          <a:xfrm>
            <a:off x="1193760" y="3086280"/>
            <a:ext cx="2770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Questrial"/>
              </a:rPr>
              <a:t>Minimalism as a lifestyle is an art of letting 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9" name="Group 7"/>
          <p:cNvGrpSpPr/>
          <p:nvPr/>
        </p:nvGrpSpPr>
        <p:grpSpPr>
          <a:xfrm>
            <a:off x="1287360" y="2900520"/>
            <a:ext cx="2532240" cy="1101600"/>
            <a:chOff x="1287360" y="2900520"/>
            <a:chExt cx="2532240" cy="1101600"/>
          </a:xfrm>
        </p:grpSpPr>
        <p:sp>
          <p:nvSpPr>
            <p:cNvPr id="2430" name="Straight Connector 8"/>
            <p:cNvSpPr/>
            <p:nvPr/>
          </p:nvSpPr>
          <p:spPr>
            <a:xfrm>
              <a:off x="1287360" y="4002120"/>
              <a:ext cx="2532240" cy="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1" name="Straight Connector 9"/>
            <p:cNvSpPr/>
            <p:nvPr/>
          </p:nvSpPr>
          <p:spPr>
            <a:xfrm>
              <a:off x="1287360" y="2900520"/>
              <a:ext cx="2532240" cy="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2" name="Rectangle 10"/>
          <p:cNvSpPr/>
          <p:nvPr/>
        </p:nvSpPr>
        <p:spPr>
          <a:xfrm>
            <a:off x="9448920" y="0"/>
            <a:ext cx="27432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Rectangle 11"/>
          <p:cNvSpPr/>
          <p:nvPr/>
        </p:nvSpPr>
        <p:spPr>
          <a:xfrm>
            <a:off x="9448920" y="3429000"/>
            <a:ext cx="2743200" cy="3429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4" name="Group 32"/>
          <p:cNvGrpSpPr/>
          <p:nvPr/>
        </p:nvGrpSpPr>
        <p:grpSpPr>
          <a:xfrm>
            <a:off x="9853560" y="795240"/>
            <a:ext cx="1933560" cy="2113560"/>
            <a:chOff x="9853560" y="795240"/>
            <a:chExt cx="1933560" cy="2113560"/>
          </a:xfrm>
        </p:grpSpPr>
        <p:sp>
          <p:nvSpPr>
            <p:cNvPr id="2435" name="TextBox 13"/>
            <p:cNvSpPr/>
            <p:nvPr/>
          </p:nvSpPr>
          <p:spPr>
            <a:xfrm>
              <a:off x="9853560" y="1723680"/>
              <a:ext cx="19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Questrial"/>
                </a:rPr>
                <a:t>Photoghraph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6" name="TextBox 14"/>
            <p:cNvSpPr/>
            <p:nvPr/>
          </p:nvSpPr>
          <p:spPr>
            <a:xfrm>
              <a:off x="9853560" y="2062080"/>
              <a:ext cx="193356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oboto Light"/>
                  <a:ea typeface="Roboto Light"/>
                </a:rPr>
                <a:t>Leverage agile frameworks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37" name="Group 23"/>
            <p:cNvGrpSpPr/>
            <p:nvPr/>
          </p:nvGrpSpPr>
          <p:grpSpPr>
            <a:xfrm>
              <a:off x="10474200" y="795240"/>
              <a:ext cx="691920" cy="691200"/>
              <a:chOff x="10474200" y="795240"/>
              <a:chExt cx="691920" cy="691200"/>
            </a:xfrm>
          </p:grpSpPr>
          <p:sp>
            <p:nvSpPr>
              <p:cNvPr id="2438" name="Rectangle: Rounded Corners 24"/>
              <p:cNvSpPr/>
              <p:nvPr/>
            </p:nvSpPr>
            <p:spPr>
              <a:xfrm>
                <a:off x="10474200" y="795240"/>
                <a:ext cx="691920" cy="691200"/>
              </a:xfrm>
              <a:prstGeom prst="roundRect">
                <a:avLst>
                  <a:gd name="adj" fmla="val 16667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439" name="Group 17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43040" y="987840"/>
                <a:ext cx="353880" cy="30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40" name="Group 33"/>
          <p:cNvGrpSpPr/>
          <p:nvPr/>
        </p:nvGrpSpPr>
        <p:grpSpPr>
          <a:xfrm>
            <a:off x="9853560" y="4267080"/>
            <a:ext cx="1933560" cy="2027160"/>
            <a:chOff x="9853560" y="4267080"/>
            <a:chExt cx="1933560" cy="2027160"/>
          </a:xfrm>
        </p:grpSpPr>
        <p:sp>
          <p:nvSpPr>
            <p:cNvPr id="2441" name="TextBox 16"/>
            <p:cNvSpPr/>
            <p:nvPr/>
          </p:nvSpPr>
          <p:spPr>
            <a:xfrm>
              <a:off x="9853560" y="5108760"/>
              <a:ext cx="19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Questrial"/>
                </a:rPr>
                <a:t>Business Pla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2" name="TextBox 17"/>
            <p:cNvSpPr/>
            <p:nvPr/>
          </p:nvSpPr>
          <p:spPr>
            <a:xfrm>
              <a:off x="9853560" y="5447520"/>
              <a:ext cx="193356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oboto Light"/>
                  <a:ea typeface="Roboto Light"/>
                </a:rPr>
                <a:t>Leverage agile frameworks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43" name="Group 29"/>
            <p:cNvGrpSpPr/>
            <p:nvPr/>
          </p:nvGrpSpPr>
          <p:grpSpPr>
            <a:xfrm>
              <a:off x="10474200" y="4267080"/>
              <a:ext cx="691920" cy="691920"/>
              <a:chOff x="10474200" y="4267080"/>
              <a:chExt cx="691920" cy="691920"/>
            </a:xfrm>
          </p:grpSpPr>
          <p:sp>
            <p:nvSpPr>
              <p:cNvPr id="2444" name="Rectangle: Rounded Corners 30"/>
              <p:cNvSpPr/>
              <p:nvPr/>
            </p:nvSpPr>
            <p:spPr>
              <a:xfrm>
                <a:off x="10474200" y="4267080"/>
                <a:ext cx="691920" cy="691920"/>
              </a:xfrm>
              <a:prstGeom prst="roundRect">
                <a:avLst>
                  <a:gd name="adj" fmla="val 16667"/>
                </a:avLst>
              </a:prstGeom>
              <a:solidFill>
                <a:srgbClr val="262626"/>
              </a:solidFill>
              <a:ln w="1260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5" name="Freeform 53"/>
              <p:cNvSpPr/>
              <p:nvPr/>
            </p:nvSpPr>
            <p:spPr>
              <a:xfrm>
                <a:off x="10683000" y="4455360"/>
                <a:ext cx="273960" cy="315000"/>
              </a:xfrm>
              <a:custGeom>
                <a:avLst/>
                <a:gdLst/>
                <a:ahLst/>
                <a:rect l="l" t="t" r="r" b="b"/>
                <a:pathLst>
                  <a:path w="107" h="123">
                    <a:moveTo>
                      <a:pt x="53" y="0"/>
                    </a:moveTo>
                    <a:cubicBezTo>
                      <a:pt x="27" y="0"/>
                      <a:pt x="0" y="8"/>
                      <a:pt x="0" y="25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0" y="115"/>
                      <a:pt x="27" y="123"/>
                      <a:pt x="53" y="123"/>
                    </a:cubicBezTo>
                    <a:cubicBezTo>
                      <a:pt x="79" y="123"/>
                      <a:pt x="107" y="115"/>
                      <a:pt x="107" y="98"/>
                    </a:cubicBezTo>
                    <a:cubicBezTo>
                      <a:pt x="107" y="25"/>
                      <a:pt x="107" y="25"/>
                      <a:pt x="107" y="25"/>
                    </a:cubicBezTo>
                    <a:cubicBezTo>
                      <a:pt x="107" y="8"/>
                      <a:pt x="79" y="0"/>
                      <a:pt x="53" y="0"/>
                    </a:cubicBezTo>
                    <a:close/>
                    <a:moveTo>
                      <a:pt x="99" y="98"/>
                    </a:moveTo>
                    <a:cubicBezTo>
                      <a:pt x="99" y="107"/>
                      <a:pt x="79" y="115"/>
                      <a:pt x="53" y="115"/>
                    </a:cubicBezTo>
                    <a:cubicBezTo>
                      <a:pt x="28" y="115"/>
                      <a:pt x="7" y="107"/>
                      <a:pt x="7" y="98"/>
                    </a:cubicBezTo>
                    <a:cubicBezTo>
                      <a:pt x="7" y="83"/>
                      <a:pt x="7" y="83"/>
                      <a:pt x="7" y="83"/>
                    </a:cubicBezTo>
                    <a:cubicBezTo>
                      <a:pt x="15" y="92"/>
                      <a:pt x="34" y="96"/>
                      <a:pt x="53" y="96"/>
                    </a:cubicBezTo>
                    <a:cubicBezTo>
                      <a:pt x="72" y="96"/>
                      <a:pt x="91" y="92"/>
                      <a:pt x="99" y="83"/>
                    </a:cubicBezTo>
                    <a:lnTo>
                      <a:pt x="99" y="98"/>
                    </a:lnTo>
                    <a:close/>
                    <a:moveTo>
                      <a:pt x="99" y="75"/>
                    </a:moveTo>
                    <a:cubicBezTo>
                      <a:pt x="99" y="75"/>
                      <a:pt x="99" y="75"/>
                      <a:pt x="99" y="75"/>
                    </a:cubicBezTo>
                    <a:cubicBezTo>
                      <a:pt x="99" y="75"/>
                      <a:pt x="99" y="75"/>
                      <a:pt x="99" y="75"/>
                    </a:cubicBezTo>
                    <a:cubicBezTo>
                      <a:pt x="99" y="84"/>
                      <a:pt x="79" y="92"/>
                      <a:pt x="53" y="92"/>
                    </a:cubicBezTo>
                    <a:cubicBezTo>
                      <a:pt x="28" y="92"/>
                      <a:pt x="7" y="84"/>
                      <a:pt x="7" y="75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7" y="60"/>
                      <a:pt x="7" y="60"/>
                      <a:pt x="7" y="60"/>
                    </a:cubicBezTo>
                    <a:cubicBezTo>
                      <a:pt x="15" y="69"/>
                      <a:pt x="34" y="73"/>
                      <a:pt x="53" y="73"/>
                    </a:cubicBezTo>
                    <a:cubicBezTo>
                      <a:pt x="72" y="73"/>
                      <a:pt x="91" y="69"/>
                      <a:pt x="99" y="60"/>
                    </a:cubicBezTo>
                    <a:lnTo>
                      <a:pt x="99" y="75"/>
                    </a:lnTo>
                    <a:close/>
                    <a:moveTo>
                      <a:pt x="99" y="52"/>
                    </a:moveTo>
                    <a:cubicBezTo>
                      <a:pt x="99" y="52"/>
                      <a:pt x="99" y="52"/>
                      <a:pt x="99" y="52"/>
                    </a:cubicBezTo>
                    <a:cubicBezTo>
                      <a:pt x="99" y="52"/>
                      <a:pt x="99" y="52"/>
                      <a:pt x="99" y="52"/>
                    </a:cubicBezTo>
                    <a:cubicBezTo>
                      <a:pt x="99" y="61"/>
                      <a:pt x="79" y="69"/>
                      <a:pt x="53" y="69"/>
                    </a:cubicBezTo>
                    <a:cubicBezTo>
                      <a:pt x="28" y="69"/>
                      <a:pt x="7" y="61"/>
                      <a:pt x="7" y="52"/>
                    </a:cubicBezTo>
                    <a:cubicBezTo>
                      <a:pt x="7" y="52"/>
                      <a:pt x="7" y="52"/>
                      <a:pt x="7" y="52"/>
                    </a:cubicBezTo>
                    <a:cubicBezTo>
                      <a:pt x="7" y="39"/>
                      <a:pt x="7" y="39"/>
                      <a:pt x="7" y="39"/>
                    </a:cubicBezTo>
                    <a:cubicBezTo>
                      <a:pt x="17" y="46"/>
                      <a:pt x="36" y="50"/>
                      <a:pt x="53" y="50"/>
                    </a:cubicBezTo>
                    <a:cubicBezTo>
                      <a:pt x="71" y="50"/>
                      <a:pt x="89" y="46"/>
                      <a:pt x="99" y="39"/>
                    </a:cubicBezTo>
                    <a:lnTo>
                      <a:pt x="99" y="52"/>
                    </a:lnTo>
                    <a:close/>
                    <a:moveTo>
                      <a:pt x="53" y="42"/>
                    </a:moveTo>
                    <a:cubicBezTo>
                      <a:pt x="28" y="42"/>
                      <a:pt x="7" y="34"/>
                      <a:pt x="7" y="25"/>
                    </a:cubicBezTo>
                    <a:cubicBezTo>
                      <a:pt x="7" y="15"/>
                      <a:pt x="28" y="8"/>
                      <a:pt x="53" y="8"/>
                    </a:cubicBezTo>
                    <a:cubicBezTo>
                      <a:pt x="79" y="8"/>
                      <a:pt x="99" y="15"/>
                      <a:pt x="99" y="25"/>
                    </a:cubicBezTo>
                    <a:cubicBezTo>
                      <a:pt x="99" y="34"/>
                      <a:pt x="79" y="42"/>
                      <a:pt x="53" y="42"/>
                    </a:cubicBezTo>
                    <a:close/>
                    <a:moveTo>
                      <a:pt x="53" y="42"/>
                    </a:moveTo>
                    <a:cubicBezTo>
                      <a:pt x="53" y="42"/>
                      <a:pt x="53" y="42"/>
                      <a:pt x="53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446" name="" descr=""/>
          <p:cNvPicPr/>
          <p:nvPr/>
        </p:nvPicPr>
        <p:blipFill>
          <a:blip r:embed="rId2"/>
          <a:stretch/>
        </p:blipFill>
        <p:spPr>
          <a:xfrm>
            <a:off x="5156280" y="0"/>
            <a:ext cx="429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TextBox 13"/>
          <p:cNvSpPr/>
          <p:nvPr/>
        </p:nvSpPr>
        <p:spPr>
          <a:xfrm>
            <a:off x="8896320" y="5062680"/>
            <a:ext cx="25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Questrial"/>
              </a:rPr>
              <a:t>Business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TextBox 14"/>
          <p:cNvSpPr/>
          <p:nvPr/>
        </p:nvSpPr>
        <p:spPr>
          <a:xfrm>
            <a:off x="8896320" y="5400720"/>
            <a:ext cx="252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high Organically grow the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9" name="Group 29"/>
          <p:cNvGrpSpPr/>
          <p:nvPr/>
        </p:nvGrpSpPr>
        <p:grpSpPr>
          <a:xfrm>
            <a:off x="4832280" y="650880"/>
            <a:ext cx="2527200" cy="2398680"/>
            <a:chOff x="4832280" y="650880"/>
            <a:chExt cx="2527200" cy="2398680"/>
          </a:xfrm>
        </p:grpSpPr>
        <p:grpSp>
          <p:nvGrpSpPr>
            <p:cNvPr id="2450" name="Group 9"/>
            <p:cNvGrpSpPr/>
            <p:nvPr/>
          </p:nvGrpSpPr>
          <p:grpSpPr>
            <a:xfrm>
              <a:off x="4832280" y="1613160"/>
              <a:ext cx="2527200" cy="1436400"/>
              <a:chOff x="4832280" y="1613160"/>
              <a:chExt cx="2527200" cy="1436400"/>
            </a:xfrm>
          </p:grpSpPr>
          <p:sp>
            <p:nvSpPr>
              <p:cNvPr id="2451" name="TextBox 10"/>
              <p:cNvSpPr/>
              <p:nvPr/>
            </p:nvSpPr>
            <p:spPr>
              <a:xfrm>
                <a:off x="4832280" y="1613160"/>
                <a:ext cx="252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Questrial"/>
                  </a:rPr>
                  <a:t>Create New Idea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2" name="TextBox 11"/>
              <p:cNvSpPr/>
              <p:nvPr/>
            </p:nvSpPr>
            <p:spPr>
              <a:xfrm>
                <a:off x="4832280" y="1951920"/>
                <a:ext cx="252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Leverage agile frameworks to provide a robust synopsis for high Organically grow the holistic world view.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53" name="Group 15"/>
            <p:cNvGrpSpPr/>
            <p:nvPr/>
          </p:nvGrpSpPr>
          <p:grpSpPr>
            <a:xfrm>
              <a:off x="5750280" y="650880"/>
              <a:ext cx="691200" cy="691560"/>
              <a:chOff x="5750280" y="650880"/>
              <a:chExt cx="691200" cy="691560"/>
            </a:xfrm>
          </p:grpSpPr>
          <p:sp>
            <p:nvSpPr>
              <p:cNvPr id="2454" name="Rectangle: Rounded Corners 16"/>
              <p:cNvSpPr/>
              <p:nvPr/>
            </p:nvSpPr>
            <p:spPr>
              <a:xfrm>
                <a:off x="5750280" y="650880"/>
                <a:ext cx="691200" cy="691560"/>
              </a:xfrm>
              <a:custGeom>
                <a:avLst/>
                <a:gdLst>
                  <a:gd name="textAreaLeft" fmla="*/ 33480 w 691200"/>
                  <a:gd name="textAreaRight" fmla="*/ 657720 w 691200"/>
                  <a:gd name="textAreaTop" fmla="*/ 33480 h 691560"/>
                  <a:gd name="textAreaBottom" fmla="*/ 658080 h 691560"/>
                </a:gdLst>
                <a:ahLst/>
                <a:rect l="textAreaLeft" t="textAreaTop" r="textAreaRight" b="textAreaBottom"/>
                <a:pathLst>
                  <a:path w="21600" h="21611">
                    <a:moveTo>
                      <a:pt x="3600" y="0"/>
                    </a:moveTo>
                    <a:arcTo wR="3600" hR="3600" stAng="16200000" swAng="-5400000"/>
                    <a:lnTo>
                      <a:pt x="0" y="18011"/>
                    </a:lnTo>
                    <a:arcTo wR="3600" hR="3600" stAng="10800000" swAng="-5400000"/>
                    <a:lnTo>
                      <a:pt x="18000" y="216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455" name="Group 168" descr=""/>
              <p:cNvPicPr/>
              <p:nvPr/>
            </p:nvPicPr>
            <p:blipFill>
              <a:blip r:embed="rId1"/>
              <a:stretch/>
            </p:blipFill>
            <p:spPr>
              <a:xfrm>
                <a:off x="5973840" y="816480"/>
                <a:ext cx="243720" cy="35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56" name="Group 30"/>
          <p:cNvGrpSpPr/>
          <p:nvPr/>
        </p:nvGrpSpPr>
        <p:grpSpPr>
          <a:xfrm>
            <a:off x="768240" y="4079880"/>
            <a:ext cx="2527560" cy="2398680"/>
            <a:chOff x="768240" y="4079880"/>
            <a:chExt cx="2527560" cy="2398680"/>
          </a:xfrm>
        </p:grpSpPr>
        <p:grpSp>
          <p:nvGrpSpPr>
            <p:cNvPr id="2457" name="Group 6"/>
            <p:cNvGrpSpPr/>
            <p:nvPr/>
          </p:nvGrpSpPr>
          <p:grpSpPr>
            <a:xfrm>
              <a:off x="768240" y="5042160"/>
              <a:ext cx="2527560" cy="1436400"/>
              <a:chOff x="768240" y="5042160"/>
              <a:chExt cx="2527560" cy="1436400"/>
            </a:xfrm>
          </p:grpSpPr>
          <p:sp>
            <p:nvSpPr>
              <p:cNvPr id="2458" name="TextBox 7"/>
              <p:cNvSpPr/>
              <p:nvPr/>
            </p:nvSpPr>
            <p:spPr>
              <a:xfrm>
                <a:off x="768240" y="5042160"/>
                <a:ext cx="252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Questrial"/>
                  </a:rPr>
                  <a:t>Photoghraphy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9" name="TextBox 8"/>
              <p:cNvSpPr/>
              <p:nvPr/>
            </p:nvSpPr>
            <p:spPr>
              <a:xfrm>
                <a:off x="768240" y="5380920"/>
                <a:ext cx="2527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Leverage agile frameworks to provide a robust synopsis for high Organically grow the holistic world view.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60" name="Group 20"/>
            <p:cNvGrpSpPr/>
            <p:nvPr/>
          </p:nvGrpSpPr>
          <p:grpSpPr>
            <a:xfrm>
              <a:off x="1686240" y="4079880"/>
              <a:ext cx="691200" cy="691560"/>
              <a:chOff x="1686240" y="4079880"/>
              <a:chExt cx="691200" cy="691560"/>
            </a:xfrm>
          </p:grpSpPr>
          <p:sp>
            <p:nvSpPr>
              <p:cNvPr id="2461" name="Rectangle: Rounded Corners 21"/>
              <p:cNvSpPr/>
              <p:nvPr/>
            </p:nvSpPr>
            <p:spPr>
              <a:xfrm>
                <a:off x="1686240" y="4079880"/>
                <a:ext cx="691200" cy="691560"/>
              </a:xfrm>
              <a:custGeom>
                <a:avLst/>
                <a:gdLst>
                  <a:gd name="textAreaLeft" fmla="*/ 33480 w 691200"/>
                  <a:gd name="textAreaRight" fmla="*/ 657720 w 691200"/>
                  <a:gd name="textAreaTop" fmla="*/ 33480 h 691560"/>
                  <a:gd name="textAreaBottom" fmla="*/ 658080 h 691560"/>
                </a:gdLst>
                <a:ahLst/>
                <a:rect l="textAreaLeft" t="textAreaTop" r="textAreaRight" b="textAreaBottom"/>
                <a:pathLst>
                  <a:path w="21600" h="21611">
                    <a:moveTo>
                      <a:pt x="3600" y="0"/>
                    </a:moveTo>
                    <a:arcTo wR="3600" hR="3600" stAng="16200000" swAng="-5400000"/>
                    <a:lnTo>
                      <a:pt x="0" y="18011"/>
                    </a:lnTo>
                    <a:arcTo wR="3600" hR="3600" stAng="10800000" swAng="-5400000"/>
                    <a:lnTo>
                      <a:pt x="18000" y="216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462" name="Group 17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52920" y="4272840"/>
                <a:ext cx="35964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63" name="Group 26"/>
          <p:cNvGrpSpPr/>
          <p:nvPr/>
        </p:nvGrpSpPr>
        <p:grpSpPr>
          <a:xfrm>
            <a:off x="9813960" y="4100400"/>
            <a:ext cx="692280" cy="692280"/>
            <a:chOff x="9813960" y="4100400"/>
            <a:chExt cx="692280" cy="692280"/>
          </a:xfrm>
        </p:grpSpPr>
        <p:sp>
          <p:nvSpPr>
            <p:cNvPr id="2464" name="Rectangle: Rounded Corners 27"/>
            <p:cNvSpPr/>
            <p:nvPr/>
          </p:nvSpPr>
          <p:spPr>
            <a:xfrm>
              <a:off x="9813960" y="4100400"/>
              <a:ext cx="692280" cy="692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5" name="Freeform 53"/>
            <p:cNvSpPr/>
            <p:nvPr/>
          </p:nvSpPr>
          <p:spPr>
            <a:xfrm>
              <a:off x="10023120" y="4288680"/>
              <a:ext cx="273960" cy="31536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53" y="0"/>
                  </a:moveTo>
                  <a:cubicBezTo>
                    <a:pt x="27" y="0"/>
                    <a:pt x="0" y="8"/>
                    <a:pt x="0" y="2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15"/>
                    <a:pt x="27" y="123"/>
                    <a:pt x="53" y="123"/>
                  </a:cubicBezTo>
                  <a:cubicBezTo>
                    <a:pt x="79" y="123"/>
                    <a:pt x="107" y="115"/>
                    <a:pt x="107" y="98"/>
                  </a:cubicBezTo>
                  <a:cubicBezTo>
                    <a:pt x="107" y="25"/>
                    <a:pt x="107" y="25"/>
                    <a:pt x="107" y="25"/>
                  </a:cubicBezTo>
                  <a:cubicBezTo>
                    <a:pt x="107" y="8"/>
                    <a:pt x="79" y="0"/>
                    <a:pt x="53" y="0"/>
                  </a:cubicBezTo>
                  <a:close/>
                  <a:moveTo>
                    <a:pt x="99" y="98"/>
                  </a:moveTo>
                  <a:cubicBezTo>
                    <a:pt x="99" y="107"/>
                    <a:pt x="79" y="115"/>
                    <a:pt x="53" y="115"/>
                  </a:cubicBezTo>
                  <a:cubicBezTo>
                    <a:pt x="28" y="115"/>
                    <a:pt x="7" y="107"/>
                    <a:pt x="7" y="98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15" y="92"/>
                    <a:pt x="34" y="96"/>
                    <a:pt x="53" y="96"/>
                  </a:cubicBezTo>
                  <a:cubicBezTo>
                    <a:pt x="72" y="96"/>
                    <a:pt x="91" y="92"/>
                    <a:pt x="99" y="83"/>
                  </a:cubicBezTo>
                  <a:lnTo>
                    <a:pt x="99" y="98"/>
                  </a:lnTo>
                  <a:close/>
                  <a:moveTo>
                    <a:pt x="99" y="75"/>
                  </a:moveTo>
                  <a:cubicBezTo>
                    <a:pt x="99" y="75"/>
                    <a:pt x="99" y="75"/>
                    <a:pt x="99" y="75"/>
                  </a:cubicBezTo>
                  <a:cubicBezTo>
                    <a:pt x="99" y="75"/>
                    <a:pt x="99" y="75"/>
                    <a:pt x="99" y="75"/>
                  </a:cubicBezTo>
                  <a:cubicBezTo>
                    <a:pt x="99" y="84"/>
                    <a:pt x="79" y="92"/>
                    <a:pt x="53" y="92"/>
                  </a:cubicBezTo>
                  <a:cubicBezTo>
                    <a:pt x="28" y="92"/>
                    <a:pt x="7" y="84"/>
                    <a:pt x="7" y="75"/>
                  </a:cubicBezTo>
                  <a:cubicBezTo>
                    <a:pt x="7" y="75"/>
                    <a:pt x="7" y="75"/>
                    <a:pt x="7" y="75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15" y="69"/>
                    <a:pt x="34" y="73"/>
                    <a:pt x="53" y="73"/>
                  </a:cubicBezTo>
                  <a:cubicBezTo>
                    <a:pt x="72" y="73"/>
                    <a:pt x="91" y="69"/>
                    <a:pt x="99" y="60"/>
                  </a:cubicBezTo>
                  <a:lnTo>
                    <a:pt x="99" y="75"/>
                  </a:lnTo>
                  <a:close/>
                  <a:moveTo>
                    <a:pt x="99" y="52"/>
                  </a:moveTo>
                  <a:cubicBezTo>
                    <a:pt x="99" y="52"/>
                    <a:pt x="99" y="52"/>
                    <a:pt x="99" y="52"/>
                  </a:cubicBezTo>
                  <a:cubicBezTo>
                    <a:pt x="99" y="52"/>
                    <a:pt x="99" y="52"/>
                    <a:pt x="99" y="52"/>
                  </a:cubicBezTo>
                  <a:cubicBezTo>
                    <a:pt x="99" y="61"/>
                    <a:pt x="79" y="69"/>
                    <a:pt x="53" y="69"/>
                  </a:cubicBezTo>
                  <a:cubicBezTo>
                    <a:pt x="28" y="69"/>
                    <a:pt x="7" y="61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17" y="46"/>
                    <a:pt x="36" y="50"/>
                    <a:pt x="53" y="50"/>
                  </a:cubicBezTo>
                  <a:cubicBezTo>
                    <a:pt x="71" y="50"/>
                    <a:pt x="89" y="46"/>
                    <a:pt x="99" y="39"/>
                  </a:cubicBezTo>
                  <a:lnTo>
                    <a:pt x="99" y="52"/>
                  </a:lnTo>
                  <a:close/>
                  <a:moveTo>
                    <a:pt x="53" y="42"/>
                  </a:moveTo>
                  <a:cubicBezTo>
                    <a:pt x="28" y="42"/>
                    <a:pt x="7" y="34"/>
                    <a:pt x="7" y="25"/>
                  </a:cubicBezTo>
                  <a:cubicBezTo>
                    <a:pt x="7" y="15"/>
                    <a:pt x="28" y="8"/>
                    <a:pt x="53" y="8"/>
                  </a:cubicBezTo>
                  <a:cubicBezTo>
                    <a:pt x="79" y="8"/>
                    <a:pt x="99" y="15"/>
                    <a:pt x="99" y="25"/>
                  </a:cubicBezTo>
                  <a:cubicBezTo>
                    <a:pt x="99" y="34"/>
                    <a:pt x="79" y="42"/>
                    <a:pt x="53" y="42"/>
                  </a:cubicBezTo>
                  <a:close/>
                  <a:moveTo>
                    <a:pt x="53" y="42"/>
                  </a:moveTo>
                  <a:cubicBezTo>
                    <a:pt x="53" y="42"/>
                    <a:pt x="53" y="42"/>
                    <a:pt x="53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10"/>
          <p:cNvSpPr/>
          <p:nvPr/>
        </p:nvSpPr>
        <p:spPr>
          <a:xfrm>
            <a:off x="0" y="0"/>
            <a:ext cx="45338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TextBox 8"/>
          <p:cNvSpPr/>
          <p:nvPr/>
        </p:nvSpPr>
        <p:spPr>
          <a:xfrm>
            <a:off x="704880" y="2090880"/>
            <a:ext cx="3124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Questrial"/>
              </a:rPr>
              <a:t>Creativity is allowing yourself to make mistakes. Art is knowing which ones to kee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8" name="Group 15"/>
          <p:cNvGrpSpPr/>
          <p:nvPr/>
        </p:nvGrpSpPr>
        <p:grpSpPr>
          <a:xfrm>
            <a:off x="1101600" y="5611680"/>
            <a:ext cx="2330640" cy="92160"/>
            <a:chOff x="1101600" y="5611680"/>
            <a:chExt cx="2330640" cy="92160"/>
          </a:xfrm>
        </p:grpSpPr>
        <p:sp>
          <p:nvSpPr>
            <p:cNvPr id="2469" name="Isosceles Triangle 16"/>
            <p:cNvSpPr/>
            <p:nvPr/>
          </p:nvSpPr>
          <p:spPr>
            <a:xfrm rot="5400000">
              <a:off x="1094760" y="5618520"/>
              <a:ext cx="92160" cy="7848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0" name="Straight Connector 17"/>
            <p:cNvSpPr/>
            <p:nvPr/>
          </p:nvSpPr>
          <p:spPr>
            <a:xfrm>
              <a:off x="1101600" y="5703840"/>
              <a:ext cx="2330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1" name="Group 18"/>
          <p:cNvGrpSpPr/>
          <p:nvPr/>
        </p:nvGrpSpPr>
        <p:grpSpPr>
          <a:xfrm>
            <a:off x="1101600" y="1154160"/>
            <a:ext cx="2330640" cy="92160"/>
            <a:chOff x="1101600" y="1154160"/>
            <a:chExt cx="2330640" cy="92160"/>
          </a:xfrm>
        </p:grpSpPr>
        <p:sp>
          <p:nvSpPr>
            <p:cNvPr id="2472" name="Isosceles Triangle 19"/>
            <p:cNvSpPr/>
            <p:nvPr/>
          </p:nvSpPr>
          <p:spPr>
            <a:xfrm rot="16200000">
              <a:off x="3346920" y="1161000"/>
              <a:ext cx="92160" cy="7848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3" name="Straight Connector 20"/>
            <p:cNvSpPr/>
            <p:nvPr/>
          </p:nvSpPr>
          <p:spPr>
            <a:xfrm flipH="1">
              <a:off x="1101600" y="1154160"/>
              <a:ext cx="2330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4" name="Group 46"/>
          <p:cNvGrpSpPr/>
          <p:nvPr/>
        </p:nvGrpSpPr>
        <p:grpSpPr>
          <a:xfrm>
            <a:off x="8915400" y="4622760"/>
            <a:ext cx="2527200" cy="1435680"/>
            <a:chOff x="8915400" y="4622760"/>
            <a:chExt cx="2527200" cy="1435680"/>
          </a:xfrm>
        </p:grpSpPr>
        <p:sp>
          <p:nvSpPr>
            <p:cNvPr id="2475" name="TextBox 22"/>
            <p:cNvSpPr/>
            <p:nvPr/>
          </p:nvSpPr>
          <p:spPr>
            <a:xfrm>
              <a:off x="8915400" y="4622760"/>
              <a:ext cx="252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Growth Busin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6" name="TextBox 23"/>
            <p:cNvSpPr/>
            <p:nvPr/>
          </p:nvSpPr>
          <p:spPr>
            <a:xfrm>
              <a:off x="8915400" y="4960800"/>
              <a:ext cx="2527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7" name="Group 25"/>
          <p:cNvGrpSpPr/>
          <p:nvPr/>
        </p:nvGrpSpPr>
        <p:grpSpPr>
          <a:xfrm>
            <a:off x="8915400" y="1058760"/>
            <a:ext cx="2527200" cy="1436040"/>
            <a:chOff x="8915400" y="1058760"/>
            <a:chExt cx="2527200" cy="1436040"/>
          </a:xfrm>
        </p:grpSpPr>
        <p:sp>
          <p:nvSpPr>
            <p:cNvPr id="2478" name="TextBox 31"/>
            <p:cNvSpPr/>
            <p:nvPr/>
          </p:nvSpPr>
          <p:spPr>
            <a:xfrm>
              <a:off x="8915400" y="1058760"/>
              <a:ext cx="252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Full Cust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9" name="TextBox 32"/>
            <p:cNvSpPr/>
            <p:nvPr/>
          </p:nvSpPr>
          <p:spPr>
            <a:xfrm>
              <a:off x="8915400" y="1397160"/>
              <a:ext cx="2527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0" name="Group 34"/>
          <p:cNvGrpSpPr/>
          <p:nvPr/>
        </p:nvGrpSpPr>
        <p:grpSpPr>
          <a:xfrm>
            <a:off x="8915400" y="2840040"/>
            <a:ext cx="2527200" cy="1436400"/>
            <a:chOff x="8915400" y="2840040"/>
            <a:chExt cx="2527200" cy="1436400"/>
          </a:xfrm>
        </p:grpSpPr>
        <p:sp>
          <p:nvSpPr>
            <p:cNvPr id="2481" name="TextBox 41"/>
            <p:cNvSpPr/>
            <p:nvPr/>
          </p:nvSpPr>
          <p:spPr>
            <a:xfrm>
              <a:off x="8915400" y="2840040"/>
              <a:ext cx="252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Full Suppor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2" name="TextBox 42"/>
            <p:cNvSpPr/>
            <p:nvPr/>
          </p:nvSpPr>
          <p:spPr>
            <a:xfrm>
              <a:off x="8915400" y="3178800"/>
              <a:ext cx="2527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3" name="TextBox 68"/>
          <p:cNvSpPr/>
          <p:nvPr/>
        </p:nvSpPr>
        <p:spPr>
          <a:xfrm>
            <a:off x="4734000" y="1033560"/>
            <a:ext cx="323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Questrial"/>
              </a:rPr>
              <a:t>2020 MINIMAL &amp; C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TextBox 47"/>
          <p:cNvSpPr/>
          <p:nvPr/>
        </p:nvSpPr>
        <p:spPr>
          <a:xfrm>
            <a:off x="6234120" y="450216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Questrial"/>
              </a:rPr>
              <a:t>©2020 MINIMAL &amp; C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TextBox 2"/>
          <p:cNvSpPr/>
          <p:nvPr/>
        </p:nvSpPr>
        <p:spPr>
          <a:xfrm>
            <a:off x="6234120" y="2104920"/>
            <a:ext cx="420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Questrial"/>
              </a:rPr>
              <a:t>Decorating brand for </a:t>
            </a:r>
            <a:r>
              <a:rPr b="1" lang="en-US" sz="4400" spc="-1" strike="noStrike">
                <a:solidFill>
                  <a:srgbClr val="000000"/>
                </a:solidFill>
                <a:latin typeface="Questrial"/>
              </a:rPr>
              <a:t>bright futur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5" name="Group 1049"/>
          <p:cNvGrpSpPr/>
          <p:nvPr/>
        </p:nvGrpSpPr>
        <p:grpSpPr>
          <a:xfrm>
            <a:off x="7918560" y="3833640"/>
            <a:ext cx="2330280" cy="92160"/>
            <a:chOff x="7918560" y="3833640"/>
            <a:chExt cx="2330280" cy="92160"/>
          </a:xfrm>
        </p:grpSpPr>
        <p:sp>
          <p:nvSpPr>
            <p:cNvPr id="2026" name="Isosceles Triangle 1042"/>
            <p:cNvSpPr/>
            <p:nvPr/>
          </p:nvSpPr>
          <p:spPr>
            <a:xfrm rot="5400000">
              <a:off x="7911720" y="3840480"/>
              <a:ext cx="92160" cy="78480"/>
            </a:xfrm>
            <a:prstGeom prst="triangle">
              <a:avLst>
                <a:gd name="adj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7" name="Straight Connector 1047"/>
            <p:cNvSpPr/>
            <p:nvPr/>
          </p:nvSpPr>
          <p:spPr>
            <a:xfrm>
              <a:off x="7918560" y="3925800"/>
              <a:ext cx="233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4"/>
          <p:cNvSpPr/>
          <p:nvPr/>
        </p:nvSpPr>
        <p:spPr>
          <a:xfrm>
            <a:off x="0" y="4286160"/>
            <a:ext cx="2765520" cy="257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5" name="Group 78"/>
          <p:cNvGrpSpPr/>
          <p:nvPr/>
        </p:nvGrpSpPr>
        <p:grpSpPr>
          <a:xfrm>
            <a:off x="7521480" y="1704960"/>
            <a:ext cx="3116520" cy="3716640"/>
            <a:chOff x="7521480" y="1704960"/>
            <a:chExt cx="3116520" cy="3716640"/>
          </a:xfrm>
        </p:grpSpPr>
        <p:sp>
          <p:nvSpPr>
            <p:cNvPr id="2486" name="TextBox 8"/>
            <p:cNvSpPr/>
            <p:nvPr/>
          </p:nvSpPr>
          <p:spPr>
            <a:xfrm>
              <a:off x="7521480" y="1704960"/>
              <a:ext cx="31165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Questrial"/>
                </a:rPr>
                <a:t>Minimalism as a lifestyle is an art of letting go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87" name="Group 9"/>
            <p:cNvGrpSpPr/>
            <p:nvPr/>
          </p:nvGrpSpPr>
          <p:grpSpPr>
            <a:xfrm>
              <a:off x="7521480" y="3734640"/>
              <a:ext cx="3009240" cy="1686960"/>
              <a:chOff x="7521480" y="3734640"/>
              <a:chExt cx="3009240" cy="1686960"/>
            </a:xfrm>
          </p:grpSpPr>
          <p:sp>
            <p:nvSpPr>
              <p:cNvPr id="2488" name="TextBox 10"/>
              <p:cNvSpPr/>
              <p:nvPr/>
            </p:nvSpPr>
            <p:spPr>
              <a:xfrm>
                <a:off x="7521480" y="3734640"/>
                <a:ext cx="260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Questrial"/>
                  </a:rPr>
                  <a:t>Get a special service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9" name="TextBox 11"/>
              <p:cNvSpPr/>
              <p:nvPr/>
            </p:nvSpPr>
            <p:spPr>
              <a:xfrm>
                <a:off x="7521480" y="4073040"/>
                <a:ext cx="3009240" cy="13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Leverage agile frameworks to provide a robust synopsis for high Organically grow the holistic world view of disruptive innovation workplace diversity and empowerment.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90" name="Group 26"/>
          <p:cNvGrpSpPr/>
          <p:nvPr/>
        </p:nvGrpSpPr>
        <p:grpSpPr>
          <a:xfrm>
            <a:off x="247680" y="4761000"/>
            <a:ext cx="2270160" cy="1896840"/>
            <a:chOff x="247680" y="4761000"/>
            <a:chExt cx="2270160" cy="1896840"/>
          </a:xfrm>
        </p:grpSpPr>
        <p:sp>
          <p:nvSpPr>
            <p:cNvPr id="2491" name="TextBox 21"/>
            <p:cNvSpPr/>
            <p:nvPr/>
          </p:nvSpPr>
          <p:spPr>
            <a:xfrm>
              <a:off x="247680" y="550296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Questrial"/>
                </a:rPr>
                <a:t>Successful Proje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2" name="TextBox 23"/>
            <p:cNvSpPr/>
            <p:nvPr/>
          </p:nvSpPr>
          <p:spPr>
            <a:xfrm>
              <a:off x="419040" y="5811120"/>
              <a:ext cx="192744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oboto Light"/>
                  <a:ea typeface="Roboto Light"/>
                </a:rPr>
                <a:t>Leverage agile frameworks to provide a  synopsis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3" name="TextBox 25"/>
            <p:cNvSpPr/>
            <p:nvPr/>
          </p:nvSpPr>
          <p:spPr>
            <a:xfrm>
              <a:off x="628560" y="4761000"/>
              <a:ext cx="150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Questrial"/>
                </a:rPr>
                <a:t>300k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2"/>
          <p:cNvSpPr/>
          <p:nvPr/>
        </p:nvSpPr>
        <p:spPr>
          <a:xfrm>
            <a:off x="1238400" y="3262320"/>
            <a:ext cx="3225600" cy="246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Rectangle 7"/>
          <p:cNvSpPr/>
          <p:nvPr/>
        </p:nvSpPr>
        <p:spPr>
          <a:xfrm>
            <a:off x="4464000" y="3262320"/>
            <a:ext cx="6489720" cy="24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6" name="Group 11"/>
          <p:cNvGrpSpPr/>
          <p:nvPr/>
        </p:nvGrpSpPr>
        <p:grpSpPr>
          <a:xfrm>
            <a:off x="1587600" y="4341960"/>
            <a:ext cx="2527200" cy="934560"/>
            <a:chOff x="1587600" y="4341960"/>
            <a:chExt cx="2527200" cy="934560"/>
          </a:xfrm>
        </p:grpSpPr>
        <p:sp>
          <p:nvSpPr>
            <p:cNvPr id="2497" name="TextBox 12"/>
            <p:cNvSpPr/>
            <p:nvPr/>
          </p:nvSpPr>
          <p:spPr>
            <a:xfrm>
              <a:off x="1587600" y="4341960"/>
              <a:ext cx="252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Questrial"/>
                </a:rPr>
                <a:t>Product Design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8" name="TextBox 13"/>
            <p:cNvSpPr/>
            <p:nvPr/>
          </p:nvSpPr>
          <p:spPr>
            <a:xfrm>
              <a:off x="1587600" y="4680720"/>
              <a:ext cx="252720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Roboto Light"/>
                  <a:ea typeface="Roboto Light"/>
                </a:rPr>
                <a:t>Leverage agile frameworks provide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99" name="Graphic 15" descr="Illustrator"/>
          <p:cNvPicPr/>
          <p:nvPr/>
        </p:nvPicPr>
        <p:blipFill>
          <a:blip r:embed="rId1"/>
          <a:stretch/>
        </p:blipFill>
        <p:spPr>
          <a:xfrm>
            <a:off x="2590920" y="3736800"/>
            <a:ext cx="523800" cy="444600"/>
          </a:xfrm>
          <a:prstGeom prst="rect">
            <a:avLst/>
          </a:prstGeom>
          <a:ln w="0">
            <a:noFill/>
          </a:ln>
        </p:spPr>
      </p:pic>
      <p:grpSp>
        <p:nvGrpSpPr>
          <p:cNvPr id="2500" name="Group 29"/>
          <p:cNvGrpSpPr/>
          <p:nvPr/>
        </p:nvGrpSpPr>
        <p:grpSpPr>
          <a:xfrm>
            <a:off x="5288040" y="3600360"/>
            <a:ext cx="5138640" cy="2062080"/>
            <a:chOff x="5288040" y="3600360"/>
            <a:chExt cx="5138640" cy="2062080"/>
          </a:xfrm>
        </p:grpSpPr>
        <p:sp>
          <p:nvSpPr>
            <p:cNvPr id="2501" name="TextBox 10"/>
            <p:cNvSpPr/>
            <p:nvPr/>
          </p:nvSpPr>
          <p:spPr>
            <a:xfrm>
              <a:off x="5288040" y="3600360"/>
              <a:ext cx="471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Questrial"/>
                </a:rPr>
                <a:t>Minimalism as a lifestyle is an art of letting go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2" name="TextBox 21"/>
            <p:cNvSpPr/>
            <p:nvPr/>
          </p:nvSpPr>
          <p:spPr>
            <a:xfrm>
              <a:off x="5288040" y="4564800"/>
              <a:ext cx="5138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level overviews. Iterative approaches to corporate strategy foster collaborative thinking to further the value proposition grow the is holistic world view via workplace diversity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3" name="Straight Connector 27"/>
          <p:cNvSpPr/>
          <p:nvPr/>
        </p:nvSpPr>
        <p:spPr>
          <a:xfrm>
            <a:off x="2451240" y="5386320"/>
            <a:ext cx="79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TextBox 34"/>
          <p:cNvSpPr/>
          <p:nvPr/>
        </p:nvSpPr>
        <p:spPr>
          <a:xfrm>
            <a:off x="5079600" y="614052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Questrial"/>
              </a:rPr>
              <a:t>©2020 MINIMAL &amp; C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TextBox 3"/>
          <p:cNvSpPr/>
          <p:nvPr/>
        </p:nvSpPr>
        <p:spPr>
          <a:xfrm>
            <a:off x="4745160" y="330048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Photoghraph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TextBox 4"/>
          <p:cNvSpPr/>
          <p:nvPr/>
        </p:nvSpPr>
        <p:spPr>
          <a:xfrm>
            <a:off x="4745160" y="3587760"/>
            <a:ext cx="1962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s frameworks to provide a robust synopsis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TextBox 6"/>
          <p:cNvSpPr/>
          <p:nvPr/>
        </p:nvSpPr>
        <p:spPr>
          <a:xfrm>
            <a:off x="4745160" y="506556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Create New Ide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TextBox 7"/>
          <p:cNvSpPr/>
          <p:nvPr/>
        </p:nvSpPr>
        <p:spPr>
          <a:xfrm>
            <a:off x="4745160" y="5353200"/>
            <a:ext cx="1962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s frameworks to provide a robust synopsis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9" name="Group 168" descr=""/>
          <p:cNvPicPr/>
          <p:nvPr/>
        </p:nvPicPr>
        <p:blipFill>
          <a:blip r:embed="rId1"/>
          <a:stretch/>
        </p:blipFill>
        <p:spPr>
          <a:xfrm>
            <a:off x="4840200" y="4595760"/>
            <a:ext cx="195480" cy="287280"/>
          </a:xfrm>
          <a:prstGeom prst="rect">
            <a:avLst/>
          </a:prstGeom>
          <a:ln w="0">
            <a:noFill/>
          </a:ln>
        </p:spPr>
      </p:pic>
      <p:pic>
        <p:nvPicPr>
          <p:cNvPr id="2510" name="Group 172" descr=""/>
          <p:cNvPicPr/>
          <p:nvPr/>
        </p:nvPicPr>
        <p:blipFill>
          <a:blip r:embed="rId2"/>
          <a:stretch/>
        </p:blipFill>
        <p:spPr>
          <a:xfrm>
            <a:off x="4840200" y="2901960"/>
            <a:ext cx="285840" cy="237960"/>
          </a:xfrm>
          <a:prstGeom prst="rect">
            <a:avLst/>
          </a:prstGeom>
          <a:ln w="0">
            <a:noFill/>
          </a:ln>
        </p:spPr>
      </p:pic>
      <p:sp>
        <p:nvSpPr>
          <p:cNvPr id="2511" name="TextBox 9"/>
          <p:cNvSpPr/>
          <p:nvPr/>
        </p:nvSpPr>
        <p:spPr>
          <a:xfrm>
            <a:off x="7056360" y="5065560"/>
            <a:ext cx="19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Business Pl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TextBox 10"/>
          <p:cNvSpPr/>
          <p:nvPr/>
        </p:nvSpPr>
        <p:spPr>
          <a:xfrm>
            <a:off x="7056360" y="5353200"/>
            <a:ext cx="1962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s frameworks to provide a robust synopsis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TextBox 12"/>
          <p:cNvSpPr/>
          <p:nvPr/>
        </p:nvSpPr>
        <p:spPr>
          <a:xfrm>
            <a:off x="7056360" y="3300480"/>
            <a:ext cx="19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Ongoing Sup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TextBox 13"/>
          <p:cNvSpPr/>
          <p:nvPr/>
        </p:nvSpPr>
        <p:spPr>
          <a:xfrm>
            <a:off x="7056360" y="3587760"/>
            <a:ext cx="1962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s frameworks to provide a robust synopsis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Freeform 90"/>
          <p:cNvSpPr/>
          <p:nvPr/>
        </p:nvSpPr>
        <p:spPr>
          <a:xfrm>
            <a:off x="7165800" y="2854440"/>
            <a:ext cx="287640" cy="2854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Freeform 53"/>
          <p:cNvSpPr/>
          <p:nvPr/>
        </p:nvSpPr>
        <p:spPr>
          <a:xfrm>
            <a:off x="7165800" y="4595760"/>
            <a:ext cx="249480" cy="2872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TextBox 32"/>
          <p:cNvSpPr/>
          <p:nvPr/>
        </p:nvSpPr>
        <p:spPr>
          <a:xfrm>
            <a:off x="9367920" y="506556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Marketing Targ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TextBox 33"/>
          <p:cNvSpPr/>
          <p:nvPr/>
        </p:nvSpPr>
        <p:spPr>
          <a:xfrm>
            <a:off x="9367920" y="5353200"/>
            <a:ext cx="1962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s frameworks to provide a robust synopsis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TextBox 35"/>
          <p:cNvSpPr/>
          <p:nvPr/>
        </p:nvSpPr>
        <p:spPr>
          <a:xfrm>
            <a:off x="9367920" y="330048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Business Analy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TextBox 36"/>
          <p:cNvSpPr/>
          <p:nvPr/>
        </p:nvSpPr>
        <p:spPr>
          <a:xfrm>
            <a:off x="9367920" y="3587760"/>
            <a:ext cx="1962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s frameworks to provide a robust synopsis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Freeform 72"/>
          <p:cNvSpPr/>
          <p:nvPr/>
        </p:nvSpPr>
        <p:spPr>
          <a:xfrm>
            <a:off x="9428040" y="2854440"/>
            <a:ext cx="285840" cy="2854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2" name="Group 165" descr=""/>
          <p:cNvPicPr/>
          <p:nvPr/>
        </p:nvPicPr>
        <p:blipFill>
          <a:blip r:embed="rId3"/>
          <a:stretch/>
        </p:blipFill>
        <p:spPr>
          <a:xfrm>
            <a:off x="9429840" y="4595760"/>
            <a:ext cx="287280" cy="287280"/>
          </a:xfrm>
          <a:prstGeom prst="rect">
            <a:avLst/>
          </a:prstGeom>
          <a:ln w="0">
            <a:noFill/>
          </a:ln>
        </p:spPr>
      </p:pic>
      <p:grpSp>
        <p:nvGrpSpPr>
          <p:cNvPr id="2523" name="Group 69"/>
          <p:cNvGrpSpPr/>
          <p:nvPr/>
        </p:nvGrpSpPr>
        <p:grpSpPr>
          <a:xfrm>
            <a:off x="9809280" y="482760"/>
            <a:ext cx="1357200" cy="1357200"/>
            <a:chOff x="9809280" y="482760"/>
            <a:chExt cx="1357200" cy="1357200"/>
          </a:xfrm>
        </p:grpSpPr>
        <p:sp>
          <p:nvSpPr>
            <p:cNvPr id="2524" name="Rectangle 66"/>
            <p:cNvSpPr/>
            <p:nvPr/>
          </p:nvSpPr>
          <p:spPr>
            <a:xfrm>
              <a:off x="9809280" y="482760"/>
              <a:ext cx="1357200" cy="13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5" name="TextBox 68"/>
            <p:cNvSpPr/>
            <p:nvPr/>
          </p:nvSpPr>
          <p:spPr>
            <a:xfrm>
              <a:off x="9938160" y="791280"/>
              <a:ext cx="10990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©2020 MINIMAL &amp; CLE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6" name="Group 85"/>
          <p:cNvGrpSpPr/>
          <p:nvPr/>
        </p:nvGrpSpPr>
        <p:grpSpPr>
          <a:xfrm>
            <a:off x="4691160" y="527040"/>
            <a:ext cx="4425840" cy="1260000"/>
            <a:chOff x="4691160" y="527040"/>
            <a:chExt cx="4425840" cy="1260000"/>
          </a:xfrm>
        </p:grpSpPr>
        <p:sp>
          <p:nvSpPr>
            <p:cNvPr id="2527" name="TextBox 48"/>
            <p:cNvSpPr/>
            <p:nvPr/>
          </p:nvSpPr>
          <p:spPr>
            <a:xfrm>
              <a:off x="4691160" y="839880"/>
              <a:ext cx="4425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Questrial"/>
                </a:rPr>
                <a:t>Minimalism as a lifestyle is an art of letting go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8" name="TextBox 64"/>
            <p:cNvSpPr/>
            <p:nvPr/>
          </p:nvSpPr>
          <p:spPr>
            <a:xfrm>
              <a:off x="4691160" y="527040"/>
              <a:ext cx="432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Questrial"/>
                </a:rPr>
                <a:t>Great Servic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9" name="Straight Connector 80"/>
            <p:cNvSpPr/>
            <p:nvPr/>
          </p:nvSpPr>
          <p:spPr>
            <a:xfrm flipH="1">
              <a:off x="6095880" y="680760"/>
              <a:ext cx="758880" cy="0"/>
            </a:xfrm>
            <a:prstGeom prst="line">
              <a:avLst/>
            </a:prstGeom>
            <a:ln w="25560">
              <a:solidFill>
                <a:srgbClr val="af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72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1" name="Group 1"/>
          <p:cNvGrpSpPr/>
          <p:nvPr/>
        </p:nvGrpSpPr>
        <p:grpSpPr>
          <a:xfrm>
            <a:off x="695160" y="695160"/>
            <a:ext cx="1357560" cy="1357560"/>
            <a:chOff x="695160" y="695160"/>
            <a:chExt cx="1357560" cy="1357560"/>
          </a:xfrm>
        </p:grpSpPr>
        <p:sp>
          <p:nvSpPr>
            <p:cNvPr id="2532" name="Rectangle 2"/>
            <p:cNvSpPr/>
            <p:nvPr/>
          </p:nvSpPr>
          <p:spPr>
            <a:xfrm>
              <a:off x="695160" y="695160"/>
              <a:ext cx="1357560" cy="135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3" name="TextBox 3"/>
            <p:cNvSpPr/>
            <p:nvPr/>
          </p:nvSpPr>
          <p:spPr>
            <a:xfrm>
              <a:off x="824400" y="1004040"/>
              <a:ext cx="10990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©2020 MINIMAL &amp; CLE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4" name="TextBox 5"/>
          <p:cNvSpPr/>
          <p:nvPr/>
        </p:nvSpPr>
        <p:spPr>
          <a:xfrm>
            <a:off x="6400800" y="896760"/>
            <a:ext cx="50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TextBox 10"/>
          <p:cNvSpPr/>
          <p:nvPr/>
        </p:nvSpPr>
        <p:spPr>
          <a:xfrm>
            <a:off x="6400800" y="1944720"/>
            <a:ext cx="5095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high level overviews. Iterative approaches to corporate strategy foster collaborative thinking to further the value proposition grow the is holistic world view via workplace diversit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6" name="Group 12"/>
          <p:cNvGrpSpPr/>
          <p:nvPr/>
        </p:nvGrpSpPr>
        <p:grpSpPr>
          <a:xfrm>
            <a:off x="504720" y="4092480"/>
            <a:ext cx="1594080" cy="1641240"/>
            <a:chOff x="504720" y="4092480"/>
            <a:chExt cx="1594080" cy="1641240"/>
          </a:xfrm>
        </p:grpSpPr>
        <p:grpSp>
          <p:nvGrpSpPr>
            <p:cNvPr id="2537" name="Group 19"/>
            <p:cNvGrpSpPr/>
            <p:nvPr/>
          </p:nvGrpSpPr>
          <p:grpSpPr>
            <a:xfrm>
              <a:off x="714960" y="4092480"/>
              <a:ext cx="1173240" cy="1174320"/>
              <a:chOff x="714960" y="4092480"/>
              <a:chExt cx="1173240" cy="1174320"/>
            </a:xfrm>
          </p:grpSpPr>
          <p:sp>
            <p:nvSpPr>
              <p:cNvPr id="2538" name="Oval 22"/>
              <p:cNvSpPr/>
              <p:nvPr/>
            </p:nvSpPr>
            <p:spPr>
              <a:xfrm>
                <a:off x="714960" y="4092480"/>
                <a:ext cx="1173240" cy="1174320"/>
              </a:xfrm>
              <a:prstGeom prst="ellipse">
                <a:avLst/>
              </a:prstGeom>
              <a:noFill/>
              <a:ln w="38160">
                <a:solidFill>
                  <a:srgbClr val="a6a6a6">
                    <a:alpha val="2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Arc 23"/>
              <p:cNvSpPr/>
              <p:nvPr/>
            </p:nvSpPr>
            <p:spPr>
              <a:xfrm>
                <a:off x="714960" y="4092480"/>
                <a:ext cx="1173240" cy="1174320"/>
              </a:xfrm>
              <a:custGeom>
                <a:avLst/>
                <a:gdLst/>
                <a:ahLst/>
                <a:rect l="l" t="t" r="r" b="b"/>
                <a:pathLst>
                  <a:path stroke="0" w="862307" h="862304">
                    <a:moveTo>
                      <a:pt x="862063" y="416649"/>
                    </a:moveTo>
                    <a:cubicBezTo>
                      <a:pt x="867939" y="591215"/>
                      <a:pt x="767913" y="752079"/>
                      <a:pt x="608754" y="824027"/>
                    </a:cubicBezTo>
                    <a:cubicBezTo>
                      <a:pt x="449596" y="895975"/>
                      <a:pt x="262755" y="864791"/>
                      <a:pt x="135589" y="745056"/>
                    </a:cubicBezTo>
                    <a:cubicBezTo>
                      <a:pt x="8422" y="625320"/>
                      <a:pt x="-33940" y="440691"/>
                      <a:pt x="28309" y="277495"/>
                    </a:cubicBezTo>
                    <a:cubicBezTo>
                      <a:pt x="90558" y="114300"/>
                      <a:pt x="245117" y="4784"/>
                      <a:pt x="419720" y="152"/>
                    </a:cubicBezTo>
                    <a:lnTo>
                      <a:pt x="431154" y="431152"/>
                    </a:lnTo>
                    <a:lnTo>
                      <a:pt x="862063" y="416649"/>
                    </a:lnTo>
                    <a:close/>
                  </a:path>
                  <a:path fill="none" w="862307" h="862304">
                    <a:moveTo>
                      <a:pt x="862063" y="416649"/>
                    </a:moveTo>
                    <a:cubicBezTo>
                      <a:pt x="867939" y="591215"/>
                      <a:pt x="767913" y="752079"/>
                      <a:pt x="608754" y="824027"/>
                    </a:cubicBezTo>
                    <a:cubicBezTo>
                      <a:pt x="449596" y="895975"/>
                      <a:pt x="262755" y="864791"/>
                      <a:pt x="135589" y="745056"/>
                    </a:cubicBezTo>
                    <a:cubicBezTo>
                      <a:pt x="8422" y="625320"/>
                      <a:pt x="-33940" y="440691"/>
                      <a:pt x="28309" y="277495"/>
                    </a:cubicBezTo>
                    <a:cubicBezTo>
                      <a:pt x="90558" y="114300"/>
                      <a:pt x="245117" y="4784"/>
                      <a:pt x="419720" y="152"/>
                    </a:cubicBezTo>
                  </a:path>
                </a:pathLst>
              </a:custGeom>
              <a:noFill/>
              <a:ln cap="rnd" w="381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40" name="TextBox 20"/>
            <p:cNvSpPr/>
            <p:nvPr/>
          </p:nvSpPr>
          <p:spPr>
            <a:xfrm>
              <a:off x="870840" y="444852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Questrial"/>
                  <a:ea typeface="Poppins SemiBold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1" name="TextBox 21"/>
            <p:cNvSpPr/>
            <p:nvPr/>
          </p:nvSpPr>
          <p:spPr>
            <a:xfrm>
              <a:off x="504720" y="5457240"/>
              <a:ext cx="159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Questrial"/>
                </a:rPr>
                <a:t>Statistic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2" name="Group 13"/>
          <p:cNvGrpSpPr/>
          <p:nvPr/>
        </p:nvGrpSpPr>
        <p:grpSpPr>
          <a:xfrm>
            <a:off x="2286000" y="4092480"/>
            <a:ext cx="1595520" cy="1639800"/>
            <a:chOff x="2286000" y="4092480"/>
            <a:chExt cx="1595520" cy="1639800"/>
          </a:xfrm>
        </p:grpSpPr>
        <p:grpSp>
          <p:nvGrpSpPr>
            <p:cNvPr id="2543" name="Group 14"/>
            <p:cNvGrpSpPr/>
            <p:nvPr/>
          </p:nvGrpSpPr>
          <p:grpSpPr>
            <a:xfrm>
              <a:off x="2496600" y="4092480"/>
              <a:ext cx="1174320" cy="1173960"/>
              <a:chOff x="2496600" y="4092480"/>
              <a:chExt cx="1174320" cy="1173960"/>
            </a:xfrm>
          </p:grpSpPr>
          <p:sp>
            <p:nvSpPr>
              <p:cNvPr id="2544" name="Oval 17"/>
              <p:cNvSpPr/>
              <p:nvPr/>
            </p:nvSpPr>
            <p:spPr>
              <a:xfrm>
                <a:off x="2496600" y="4092480"/>
                <a:ext cx="1174320" cy="1173960"/>
              </a:xfrm>
              <a:prstGeom prst="ellipse">
                <a:avLst/>
              </a:prstGeom>
              <a:noFill/>
              <a:ln w="38160">
                <a:solidFill>
                  <a:srgbClr val="a6a6a6">
                    <a:alpha val="2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Arc 18"/>
              <p:cNvSpPr/>
              <p:nvPr/>
            </p:nvSpPr>
            <p:spPr>
              <a:xfrm>
                <a:off x="2496600" y="4092480"/>
                <a:ext cx="1174320" cy="1173960"/>
              </a:xfrm>
              <a:custGeom>
                <a:avLst/>
                <a:gdLst/>
                <a:ahLst/>
                <a:rect l="l" t="t" r="r" b="b"/>
                <a:pathLst>
                  <a:path stroke="0" w="862307" h="862304">
                    <a:moveTo>
                      <a:pt x="401539" y="861286"/>
                    </a:moveTo>
                    <a:cubicBezTo>
                      <a:pt x="171943" y="845479"/>
                      <a:pt x="-4763" y="652137"/>
                      <a:pt x="96" y="422051"/>
                    </a:cubicBezTo>
                    <a:cubicBezTo>
                      <a:pt x="4954" y="191964"/>
                      <a:pt x="189663" y="6254"/>
                      <a:pt x="419721" y="152"/>
                    </a:cubicBezTo>
                    <a:lnTo>
                      <a:pt x="431154" y="431152"/>
                    </a:lnTo>
                    <a:lnTo>
                      <a:pt x="401539" y="861286"/>
                    </a:lnTo>
                    <a:close/>
                  </a:path>
                  <a:path fill="none" w="862307" h="862304">
                    <a:moveTo>
                      <a:pt x="401539" y="861286"/>
                    </a:moveTo>
                    <a:cubicBezTo>
                      <a:pt x="171943" y="845479"/>
                      <a:pt x="-4763" y="652137"/>
                      <a:pt x="96" y="422051"/>
                    </a:cubicBezTo>
                    <a:cubicBezTo>
                      <a:pt x="4954" y="191964"/>
                      <a:pt x="189663" y="6254"/>
                      <a:pt x="419721" y="152"/>
                    </a:cubicBezTo>
                  </a:path>
                </a:pathLst>
              </a:custGeom>
              <a:noFill/>
              <a:ln cap="rnd" w="381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46" name="TextBox 15"/>
            <p:cNvSpPr/>
            <p:nvPr/>
          </p:nvSpPr>
          <p:spPr>
            <a:xfrm>
              <a:off x="2652480" y="4448520"/>
              <a:ext cx="8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Questrial"/>
                  <a:ea typeface="Poppins SemiBold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7" name="TextBox 16"/>
            <p:cNvSpPr/>
            <p:nvPr/>
          </p:nvSpPr>
          <p:spPr>
            <a:xfrm>
              <a:off x="2286000" y="5455800"/>
              <a:ext cx="159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Questrial"/>
                </a:rPr>
                <a:t>Statistic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8" name="Group 7"/>
          <p:cNvGrpSpPr/>
          <p:nvPr/>
        </p:nvGrpSpPr>
        <p:grpSpPr>
          <a:xfrm>
            <a:off x="4573440" y="3352680"/>
            <a:ext cx="681120" cy="3505320"/>
            <a:chOff x="4573440" y="3352680"/>
            <a:chExt cx="681120" cy="3505320"/>
          </a:xfrm>
        </p:grpSpPr>
        <p:sp>
          <p:nvSpPr>
            <p:cNvPr id="2549" name="Rectangle 28"/>
            <p:cNvSpPr/>
            <p:nvPr/>
          </p:nvSpPr>
          <p:spPr>
            <a:xfrm>
              <a:off x="4573440" y="3352680"/>
              <a:ext cx="681120" cy="3505320"/>
            </a:xfrm>
            <a:prstGeom prst="rect">
              <a:avLst/>
            </a:prstGeom>
            <a:solidFill>
              <a:srgbClr val="2626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50" name="TextBox 29" descr=""/>
            <p:cNvPicPr/>
            <p:nvPr/>
          </p:nvPicPr>
          <p:blipFill>
            <a:blip r:embed="rId1"/>
            <a:stretch/>
          </p:blipFill>
          <p:spPr>
            <a:xfrm>
              <a:off x="4700160" y="4248720"/>
              <a:ext cx="439200" cy="174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TextBox 2"/>
          <p:cNvSpPr/>
          <p:nvPr/>
        </p:nvSpPr>
        <p:spPr>
          <a:xfrm>
            <a:off x="9194760" y="4664160"/>
            <a:ext cx="182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TextBox 4"/>
          <p:cNvSpPr/>
          <p:nvPr/>
        </p:nvSpPr>
        <p:spPr>
          <a:xfrm>
            <a:off x="1114560" y="4611600"/>
            <a:ext cx="2022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approaches to corporat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TextBox 11"/>
          <p:cNvSpPr/>
          <p:nvPr/>
        </p:nvSpPr>
        <p:spPr>
          <a:xfrm>
            <a:off x="1114560" y="432756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Questrial"/>
              </a:rPr>
              <a:t>Your title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TextBox 13"/>
          <p:cNvSpPr/>
          <p:nvPr/>
        </p:nvSpPr>
        <p:spPr>
          <a:xfrm>
            <a:off x="1114560" y="3576600"/>
            <a:ext cx="15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estrial"/>
              </a:rPr>
              <a:t>300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TextBox 14"/>
          <p:cNvSpPr/>
          <p:nvPr/>
        </p:nvSpPr>
        <p:spPr>
          <a:xfrm>
            <a:off x="3260880" y="432756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Questrial"/>
              </a:rPr>
              <a:t>Your title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TextBox 15"/>
          <p:cNvSpPr/>
          <p:nvPr/>
        </p:nvSpPr>
        <p:spPr>
          <a:xfrm>
            <a:off x="3260880" y="3576600"/>
            <a:ext cx="15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est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TextBox 17"/>
          <p:cNvSpPr/>
          <p:nvPr/>
        </p:nvSpPr>
        <p:spPr>
          <a:xfrm>
            <a:off x="1069920" y="1420920"/>
            <a:ext cx="526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Creativity is allowing yourself to make mistakes. Art is knowing which ones to kee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TextBox 18"/>
          <p:cNvSpPr/>
          <p:nvPr/>
        </p:nvSpPr>
        <p:spPr>
          <a:xfrm>
            <a:off x="3260880" y="4611600"/>
            <a:ext cx="2022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approaches to corporat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9" name="Group 271"/>
          <p:cNvGrpSpPr/>
          <p:nvPr/>
        </p:nvGrpSpPr>
        <p:grpSpPr>
          <a:xfrm>
            <a:off x="9089640" y="4438800"/>
            <a:ext cx="2032560" cy="1374480"/>
            <a:chOff x="9089640" y="4438800"/>
            <a:chExt cx="2032560" cy="1374480"/>
          </a:xfrm>
        </p:grpSpPr>
        <p:sp>
          <p:nvSpPr>
            <p:cNvPr id="2560" name="Isosceles Triangle 269"/>
            <p:cNvSpPr/>
            <p:nvPr/>
          </p:nvSpPr>
          <p:spPr>
            <a:xfrm rot="10800000">
              <a:off x="9089640" y="4438800"/>
              <a:ext cx="97560" cy="84240"/>
            </a:xfrm>
            <a:prstGeom prst="triangle">
              <a:avLst>
                <a:gd name="adj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1" name="Isosceles Triangle 270"/>
            <p:cNvSpPr/>
            <p:nvPr/>
          </p:nvSpPr>
          <p:spPr>
            <a:xfrm>
              <a:off x="11024640" y="5729040"/>
              <a:ext cx="97560" cy="84240"/>
            </a:xfrm>
            <a:prstGeom prst="triangle">
              <a:avLst>
                <a:gd name="adj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Freeform: Shape 48"/>
          <p:cNvSpPr/>
          <p:nvPr/>
        </p:nvSpPr>
        <p:spPr>
          <a:xfrm flipH="1">
            <a:off x="-720" y="0"/>
            <a:ext cx="8774280" cy="6858000"/>
          </a:xfrm>
          <a:custGeom>
            <a:avLst/>
            <a:gdLst/>
            <a:ahLst/>
            <a:rect l="l" t="t" r="r" b="b"/>
            <a:pathLst>
              <a:path w="8774790" h="6858000">
                <a:moveTo>
                  <a:pt x="8774790" y="0"/>
                </a:moveTo>
                <a:lnTo>
                  <a:pt x="6822407" y="0"/>
                </a:lnTo>
                <a:lnTo>
                  <a:pt x="0" y="6858000"/>
                </a:lnTo>
                <a:lnTo>
                  <a:pt x="5369592" y="6858000"/>
                </a:lnTo>
                <a:lnTo>
                  <a:pt x="8774790" y="3435037"/>
                </a:lnTo>
                <a:lnTo>
                  <a:pt x="8774790" y="0"/>
                </a:lnTo>
                <a:close/>
              </a:path>
            </a:pathLst>
          </a:cu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TextBox 32"/>
          <p:cNvSpPr/>
          <p:nvPr/>
        </p:nvSpPr>
        <p:spPr>
          <a:xfrm>
            <a:off x="1041480" y="2292480"/>
            <a:ext cx="309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Questrial"/>
              </a:rPr>
              <a:t>Let’s Take A Brea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TextBox 36"/>
          <p:cNvSpPr/>
          <p:nvPr/>
        </p:nvSpPr>
        <p:spPr>
          <a:xfrm>
            <a:off x="3195720" y="5154480"/>
            <a:ext cx="3098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 Light"/>
                <a:ea typeface="Roboto Light"/>
              </a:rPr>
              <a:t>Leverage agile frameworks to provide a robust synopsis strategy foster collaborative thinking holistic world view via workplace diversit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5" name="Graphic 38" descr="Coffee"/>
          <p:cNvPicPr/>
          <p:nvPr/>
        </p:nvPicPr>
        <p:blipFill>
          <a:blip r:embed="rId1"/>
          <a:stretch/>
        </p:blipFill>
        <p:spPr>
          <a:xfrm>
            <a:off x="3292560" y="4211640"/>
            <a:ext cx="341280" cy="433440"/>
          </a:xfrm>
          <a:prstGeom prst="rect">
            <a:avLst/>
          </a:prstGeom>
          <a:ln w="0">
            <a:noFill/>
          </a:ln>
        </p:spPr>
      </p:pic>
      <p:sp>
        <p:nvSpPr>
          <p:cNvPr id="2566" name="TextBox 45"/>
          <p:cNvSpPr/>
          <p:nvPr/>
        </p:nvSpPr>
        <p:spPr>
          <a:xfrm>
            <a:off x="3195720" y="4816440"/>
            <a:ext cx="23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Questrial"/>
              </a:rPr>
              <a:t>Coffee Time 5-minu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39"/>
          <p:cNvSpPr/>
          <p:nvPr/>
        </p:nvSpPr>
        <p:spPr>
          <a:xfrm>
            <a:off x="2514600" y="2286000"/>
            <a:ext cx="2514600" cy="2286000"/>
          </a:xfrm>
          <a:prstGeom prst="rect">
            <a:avLst/>
          </a:prstGeom>
          <a:solidFill>
            <a:srgbClr val="26262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Rectangle 70"/>
          <p:cNvSpPr/>
          <p:nvPr/>
        </p:nvSpPr>
        <p:spPr>
          <a:xfrm>
            <a:off x="6373800" y="3940200"/>
            <a:ext cx="4730760" cy="17143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TextBox 19"/>
          <p:cNvSpPr/>
          <p:nvPr/>
        </p:nvSpPr>
        <p:spPr>
          <a:xfrm>
            <a:off x="6373800" y="2082960"/>
            <a:ext cx="47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TextBox 23"/>
          <p:cNvSpPr/>
          <p:nvPr/>
        </p:nvSpPr>
        <p:spPr>
          <a:xfrm>
            <a:off x="6373800" y="177012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1" name="Group 55"/>
          <p:cNvGrpSpPr/>
          <p:nvPr/>
        </p:nvGrpSpPr>
        <p:grpSpPr>
          <a:xfrm>
            <a:off x="2943360" y="2695680"/>
            <a:ext cx="1657080" cy="1713960"/>
            <a:chOff x="2943360" y="2695680"/>
            <a:chExt cx="1657080" cy="1713960"/>
          </a:xfrm>
        </p:grpSpPr>
        <p:sp>
          <p:nvSpPr>
            <p:cNvPr id="2572" name="TextBox 22"/>
            <p:cNvSpPr/>
            <p:nvPr/>
          </p:nvSpPr>
          <p:spPr>
            <a:xfrm>
              <a:off x="2943360" y="3402720"/>
              <a:ext cx="16570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Roboto Light"/>
                  <a:ea typeface="Roboto Light"/>
                </a:rPr>
                <a:t>Lorem ipsum dolor amet, consectetuer dolore elita. Maecenas congue dron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3" name="TextBox 25"/>
            <p:cNvSpPr/>
            <p:nvPr/>
          </p:nvSpPr>
          <p:spPr>
            <a:xfrm>
              <a:off x="2943360" y="3141000"/>
              <a:ext cx="158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Questrial"/>
                  <a:ea typeface="Poppins SemiBold"/>
                </a:rPr>
                <a:t>YOUR TEXT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4" name="Shape 2615"/>
            <p:cNvSpPr/>
            <p:nvPr/>
          </p:nvSpPr>
          <p:spPr>
            <a:xfrm>
              <a:off x="3013920" y="2695680"/>
              <a:ext cx="343800" cy="34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5" name="Rectangle 35"/>
          <p:cNvSpPr/>
          <p:nvPr/>
        </p:nvSpPr>
        <p:spPr>
          <a:xfrm>
            <a:off x="0" y="0"/>
            <a:ext cx="2514600" cy="2286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6" name="Group 56"/>
          <p:cNvGrpSpPr/>
          <p:nvPr/>
        </p:nvGrpSpPr>
        <p:grpSpPr>
          <a:xfrm>
            <a:off x="477720" y="328680"/>
            <a:ext cx="1595520" cy="1639440"/>
            <a:chOff x="477720" y="328680"/>
            <a:chExt cx="1595520" cy="1639440"/>
          </a:xfrm>
        </p:grpSpPr>
        <p:grpSp>
          <p:nvGrpSpPr>
            <p:cNvPr id="2577" name="Group 57"/>
            <p:cNvGrpSpPr/>
            <p:nvPr/>
          </p:nvGrpSpPr>
          <p:grpSpPr>
            <a:xfrm>
              <a:off x="688320" y="328680"/>
              <a:ext cx="1174320" cy="1173240"/>
              <a:chOff x="688320" y="328680"/>
              <a:chExt cx="1174320" cy="1173240"/>
            </a:xfrm>
          </p:grpSpPr>
          <p:sp>
            <p:nvSpPr>
              <p:cNvPr id="2578" name="Oval 60"/>
              <p:cNvSpPr/>
              <p:nvPr/>
            </p:nvSpPr>
            <p:spPr>
              <a:xfrm>
                <a:off x="688320" y="328680"/>
                <a:ext cx="1174320" cy="1173240"/>
              </a:xfrm>
              <a:prstGeom prst="ellipse">
                <a:avLst/>
              </a:prstGeom>
              <a:noFill/>
              <a:ln w="38160">
                <a:solidFill>
                  <a:srgbClr val="a6a6a6">
                    <a:alpha val="2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9" name="Arc 61"/>
              <p:cNvSpPr/>
              <p:nvPr/>
            </p:nvSpPr>
            <p:spPr>
              <a:xfrm>
                <a:off x="688320" y="328680"/>
                <a:ext cx="1174320" cy="1173240"/>
              </a:xfrm>
              <a:custGeom>
                <a:avLst/>
                <a:gdLst/>
                <a:ahLst/>
                <a:rect l="l" t="t" r="r" b="b"/>
                <a:pathLst>
                  <a:path stroke="0" w="862307" h="862304">
                    <a:moveTo>
                      <a:pt x="862063" y="416649"/>
                    </a:moveTo>
                    <a:cubicBezTo>
                      <a:pt x="867939" y="591215"/>
                      <a:pt x="767913" y="752079"/>
                      <a:pt x="608754" y="824027"/>
                    </a:cubicBezTo>
                    <a:cubicBezTo>
                      <a:pt x="449596" y="895975"/>
                      <a:pt x="262755" y="864791"/>
                      <a:pt x="135589" y="745056"/>
                    </a:cubicBezTo>
                    <a:cubicBezTo>
                      <a:pt x="8422" y="625320"/>
                      <a:pt x="-33940" y="440691"/>
                      <a:pt x="28309" y="277495"/>
                    </a:cubicBezTo>
                    <a:cubicBezTo>
                      <a:pt x="90558" y="114300"/>
                      <a:pt x="245117" y="4784"/>
                      <a:pt x="419720" y="152"/>
                    </a:cubicBezTo>
                    <a:lnTo>
                      <a:pt x="431154" y="431152"/>
                    </a:lnTo>
                    <a:lnTo>
                      <a:pt x="862063" y="416649"/>
                    </a:lnTo>
                    <a:close/>
                  </a:path>
                  <a:path fill="none" w="862307" h="862304">
                    <a:moveTo>
                      <a:pt x="862063" y="416649"/>
                    </a:moveTo>
                    <a:cubicBezTo>
                      <a:pt x="867939" y="591215"/>
                      <a:pt x="767913" y="752079"/>
                      <a:pt x="608754" y="824027"/>
                    </a:cubicBezTo>
                    <a:cubicBezTo>
                      <a:pt x="449596" y="895975"/>
                      <a:pt x="262755" y="864791"/>
                      <a:pt x="135589" y="745056"/>
                    </a:cubicBezTo>
                    <a:cubicBezTo>
                      <a:pt x="8422" y="625320"/>
                      <a:pt x="-33940" y="440691"/>
                      <a:pt x="28309" y="277495"/>
                    </a:cubicBezTo>
                    <a:cubicBezTo>
                      <a:pt x="90558" y="114300"/>
                      <a:pt x="245117" y="4784"/>
                      <a:pt x="419720" y="152"/>
                    </a:cubicBezTo>
                  </a:path>
                </a:pathLst>
              </a:custGeom>
              <a:noFill/>
              <a:ln cap="rnd" w="381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80" name="TextBox 58"/>
            <p:cNvSpPr/>
            <p:nvPr/>
          </p:nvSpPr>
          <p:spPr>
            <a:xfrm>
              <a:off x="844200" y="684360"/>
              <a:ext cx="8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Questrial"/>
                  <a:ea typeface="Poppins SemiBold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TextBox 59"/>
            <p:cNvSpPr/>
            <p:nvPr/>
          </p:nvSpPr>
          <p:spPr>
            <a:xfrm>
              <a:off x="477720" y="1691640"/>
              <a:ext cx="159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Statistic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2" name="Group 73"/>
          <p:cNvGrpSpPr/>
          <p:nvPr/>
        </p:nvGrpSpPr>
        <p:grpSpPr>
          <a:xfrm>
            <a:off x="6967440" y="4363920"/>
            <a:ext cx="3832200" cy="1136520"/>
            <a:chOff x="6967440" y="4363920"/>
            <a:chExt cx="3832200" cy="1136520"/>
          </a:xfrm>
        </p:grpSpPr>
        <p:sp>
          <p:nvSpPr>
            <p:cNvPr id="2583" name="Shape 2545"/>
            <p:cNvSpPr/>
            <p:nvPr/>
          </p:nvSpPr>
          <p:spPr>
            <a:xfrm>
              <a:off x="6967440" y="4520880"/>
              <a:ext cx="371160" cy="37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9"/>
                  </a:moveTo>
                  <a:cubicBezTo>
                    <a:pt x="5377" y="20619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3336" y="982"/>
                    <a:pt x="15638" y="1950"/>
                    <a:pt x="17377" y="3529"/>
                  </a:cubicBezTo>
                  <a:lnTo>
                    <a:pt x="10453" y="10453"/>
                  </a:lnTo>
                  <a:cubicBezTo>
                    <a:pt x="10364" y="10542"/>
                    <a:pt x="10309" y="10665"/>
                    <a:pt x="10309" y="10800"/>
                  </a:cubicBezTo>
                  <a:cubicBezTo>
                    <a:pt x="10309" y="11072"/>
                    <a:pt x="10529" y="11291"/>
                    <a:pt x="10800" y="11291"/>
                  </a:cubicBezTo>
                  <a:lnTo>
                    <a:pt x="20594" y="11291"/>
                  </a:lnTo>
                  <a:cubicBezTo>
                    <a:pt x="20336" y="16484"/>
                    <a:pt x="16057" y="20619"/>
                    <a:pt x="10800" y="20619"/>
                  </a:cubicBezTo>
                  <a:moveTo>
                    <a:pt x="20594" y="10309"/>
                  </a:moveTo>
                  <a:lnTo>
                    <a:pt x="11985" y="10309"/>
                  </a:lnTo>
                  <a:lnTo>
                    <a:pt x="18071" y="4223"/>
                  </a:lnTo>
                  <a:cubicBezTo>
                    <a:pt x="19541" y="5852"/>
                    <a:pt x="20477" y="7971"/>
                    <a:pt x="20594" y="10309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TextBox 63"/>
            <p:cNvSpPr/>
            <p:nvPr/>
          </p:nvSpPr>
          <p:spPr>
            <a:xfrm>
              <a:off x="7413840" y="4949280"/>
              <a:ext cx="150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Your Title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TextBox 65"/>
            <p:cNvSpPr/>
            <p:nvPr/>
          </p:nvSpPr>
          <p:spPr>
            <a:xfrm>
              <a:off x="7413840" y="4363920"/>
              <a:ext cx="150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Questrial"/>
                </a:rPr>
                <a:t>300k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TextBox 72"/>
            <p:cNvSpPr/>
            <p:nvPr/>
          </p:nvSpPr>
          <p:spPr>
            <a:xfrm>
              <a:off x="8884080" y="4402800"/>
              <a:ext cx="19155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Roboto Light"/>
                  <a:ea typeface="Roboto Light"/>
                </a:rPr>
                <a:t>Leverage agile frameworks to provide grow the holistic world view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Rectangle 58"/>
          <p:cNvSpPr/>
          <p:nvPr/>
        </p:nvSpPr>
        <p:spPr>
          <a:xfrm>
            <a:off x="2541600" y="888840"/>
            <a:ext cx="1768320" cy="5080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TextBox 19"/>
          <p:cNvSpPr/>
          <p:nvPr/>
        </p:nvSpPr>
        <p:spPr>
          <a:xfrm>
            <a:off x="8605800" y="4091040"/>
            <a:ext cx="28242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Iterative approaches to corporate strategy foster collaborative thinking to further the value proposition grow the is holistic world view via workplace diversity and leverage agile frameworks to provide a robus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TextBox 23"/>
          <p:cNvSpPr/>
          <p:nvPr/>
        </p:nvSpPr>
        <p:spPr>
          <a:xfrm>
            <a:off x="8605800" y="1584360"/>
            <a:ext cx="282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TextBox 24"/>
          <p:cNvSpPr/>
          <p:nvPr/>
        </p:nvSpPr>
        <p:spPr>
          <a:xfrm>
            <a:off x="8605800" y="1278000"/>
            <a:ext cx="28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TextBox 35"/>
          <p:cNvSpPr/>
          <p:nvPr/>
        </p:nvSpPr>
        <p:spPr>
          <a:xfrm>
            <a:off x="2795760" y="4087800"/>
            <a:ext cx="13078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boto Light"/>
                <a:ea typeface="Roboto Light"/>
              </a:rPr>
              <a:t>Leverage agile frameworks to provide a robust approaches to corpora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TextBox 36"/>
          <p:cNvSpPr/>
          <p:nvPr/>
        </p:nvSpPr>
        <p:spPr>
          <a:xfrm>
            <a:off x="2795760" y="3298680"/>
            <a:ext cx="130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Questrial"/>
              </a:rPr>
              <a:t>Building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3" name="Graphic 39" descr="Building"/>
          <p:cNvPicPr/>
          <p:nvPr/>
        </p:nvPicPr>
        <p:blipFill>
          <a:blip r:embed="rId1"/>
          <a:stretch/>
        </p:blipFill>
        <p:spPr>
          <a:xfrm>
            <a:off x="2876400" y="1494000"/>
            <a:ext cx="366840" cy="5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54"/>
          <p:cNvSpPr/>
          <p:nvPr/>
        </p:nvSpPr>
        <p:spPr>
          <a:xfrm>
            <a:off x="3048120" y="0"/>
            <a:ext cx="304776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5" name="Group 79"/>
          <p:cNvGrpSpPr/>
          <p:nvPr/>
        </p:nvGrpSpPr>
        <p:grpSpPr>
          <a:xfrm>
            <a:off x="3514680" y="896760"/>
            <a:ext cx="2114640" cy="1621800"/>
            <a:chOff x="3514680" y="896760"/>
            <a:chExt cx="2114640" cy="1621800"/>
          </a:xfrm>
        </p:grpSpPr>
        <p:sp>
          <p:nvSpPr>
            <p:cNvPr id="2596" name="TextBox 72"/>
            <p:cNvSpPr/>
            <p:nvPr/>
          </p:nvSpPr>
          <p:spPr>
            <a:xfrm>
              <a:off x="3590640" y="1739880"/>
              <a:ext cx="19623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Roboto Light"/>
                  <a:ea typeface="Roboto Light"/>
                </a:rPr>
                <a:t>Leverage agile frameworks to provide a robust approaches to corporate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TextBox 74"/>
            <p:cNvSpPr/>
            <p:nvPr/>
          </p:nvSpPr>
          <p:spPr>
            <a:xfrm>
              <a:off x="3514680" y="1377360"/>
              <a:ext cx="21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Questrial"/>
                </a:rPr>
                <a:t>Photography Projec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98" name="Group 172" descr=""/>
            <p:cNvPicPr/>
            <p:nvPr/>
          </p:nvPicPr>
          <p:blipFill>
            <a:blip r:embed="rId1"/>
            <a:stretch/>
          </p:blipFill>
          <p:spPr>
            <a:xfrm>
              <a:off x="4431600" y="896760"/>
              <a:ext cx="28044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9" name="TextBox 68"/>
          <p:cNvSpPr/>
          <p:nvPr/>
        </p:nvSpPr>
        <p:spPr>
          <a:xfrm>
            <a:off x="7450200" y="1584360"/>
            <a:ext cx="282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TextBox 70"/>
          <p:cNvSpPr/>
          <p:nvPr/>
        </p:nvSpPr>
        <p:spPr>
          <a:xfrm>
            <a:off x="7450200" y="1278000"/>
            <a:ext cx="28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TextBox 81"/>
          <p:cNvSpPr/>
          <p:nvPr/>
        </p:nvSpPr>
        <p:spPr>
          <a:xfrm>
            <a:off x="7450200" y="4246560"/>
            <a:ext cx="369864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s synopsis for high level overviews iterative approaches to corporate strategy foster collaborative thinking to further the value proposition grow the is holistic world view via workplace company industries diversit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Rectangle: Rounded Corners 83"/>
          <p:cNvSpPr/>
          <p:nvPr/>
        </p:nvSpPr>
        <p:spPr>
          <a:xfrm>
            <a:off x="7550280" y="3757680"/>
            <a:ext cx="3444840" cy="75960"/>
          </a:xfrm>
          <a:prstGeom prst="roundRect">
            <a:avLst>
              <a:gd name="adj" fmla="val 50000"/>
            </a:avLst>
          </a:prstGeom>
          <a:solidFill>
            <a:srgbClr val="bfbfb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Rectangle: Rounded Corners 85"/>
          <p:cNvSpPr/>
          <p:nvPr/>
        </p:nvSpPr>
        <p:spPr>
          <a:xfrm>
            <a:off x="7550280" y="3757680"/>
            <a:ext cx="2779560" cy="759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TextBox 87"/>
          <p:cNvSpPr/>
          <p:nvPr/>
        </p:nvSpPr>
        <p:spPr>
          <a:xfrm>
            <a:off x="7473960" y="3456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Roboto"/>
                <a:ea typeface="Roboto"/>
              </a:rPr>
              <a:t>Project 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TextBox 89"/>
          <p:cNvSpPr/>
          <p:nvPr/>
        </p:nvSpPr>
        <p:spPr>
          <a:xfrm>
            <a:off x="10329840" y="345600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boto"/>
                <a:ea typeface="Roboto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6" name="" descr=""/>
          <p:cNvPicPr/>
          <p:nvPr/>
        </p:nvPicPr>
        <p:blipFill>
          <a:blip r:embed="rId2"/>
          <a:stretch/>
        </p:blipFill>
        <p:spPr>
          <a:xfrm>
            <a:off x="-360" y="-360"/>
            <a:ext cx="3048120" cy="3429000"/>
          </a:xfrm>
          <a:prstGeom prst="rect">
            <a:avLst/>
          </a:prstGeom>
          <a:ln w="0">
            <a:noFill/>
          </a:ln>
        </p:spPr>
      </p:pic>
      <p:pic>
        <p:nvPicPr>
          <p:cNvPr id="2607" name="" descr=""/>
          <p:cNvPicPr/>
          <p:nvPr/>
        </p:nvPicPr>
        <p:blipFill>
          <a:blip r:embed="rId3"/>
          <a:stretch/>
        </p:blipFill>
        <p:spPr>
          <a:xfrm>
            <a:off x="-360" y="3428640"/>
            <a:ext cx="3048120" cy="3429000"/>
          </a:xfrm>
          <a:prstGeom prst="rect">
            <a:avLst/>
          </a:prstGeom>
          <a:ln w="0">
            <a:noFill/>
          </a:ln>
        </p:spPr>
      </p:pic>
      <p:pic>
        <p:nvPicPr>
          <p:cNvPr id="2608" name="" descr=""/>
          <p:cNvPicPr/>
          <p:nvPr/>
        </p:nvPicPr>
        <p:blipFill>
          <a:blip r:embed="rId4"/>
          <a:stretch/>
        </p:blipFill>
        <p:spPr>
          <a:xfrm>
            <a:off x="3048120" y="342864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25"/>
          <p:cNvSpPr/>
          <p:nvPr/>
        </p:nvSpPr>
        <p:spPr>
          <a:xfrm flipH="1">
            <a:off x="-720" y="1089000"/>
            <a:ext cx="4016520" cy="367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TextBox 15"/>
          <p:cNvSpPr/>
          <p:nvPr/>
        </p:nvSpPr>
        <p:spPr>
          <a:xfrm>
            <a:off x="4235400" y="49402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</a:rPr>
              <a:t>Your title he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TextBox 17"/>
          <p:cNvSpPr/>
          <p:nvPr/>
        </p:nvSpPr>
        <p:spPr>
          <a:xfrm>
            <a:off x="4235400" y="5197320"/>
            <a:ext cx="2592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TextBox 31"/>
          <p:cNvSpPr/>
          <p:nvPr/>
        </p:nvSpPr>
        <p:spPr>
          <a:xfrm>
            <a:off x="8323200" y="49402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</a:rPr>
              <a:t>Your title her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TextBox 32"/>
          <p:cNvSpPr/>
          <p:nvPr/>
        </p:nvSpPr>
        <p:spPr>
          <a:xfrm>
            <a:off x="8323200" y="5197320"/>
            <a:ext cx="2592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Straight Connector 42"/>
          <p:cNvSpPr/>
          <p:nvPr/>
        </p:nvSpPr>
        <p:spPr>
          <a:xfrm>
            <a:off x="0" y="1089000"/>
            <a:ext cx="4016520" cy="3679920"/>
          </a:xfrm>
          <a:prstGeom prst="line">
            <a:avLst/>
          </a:prstGeom>
          <a:ln w="1260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TextBox 11"/>
          <p:cNvSpPr/>
          <p:nvPr/>
        </p:nvSpPr>
        <p:spPr>
          <a:xfrm>
            <a:off x="625320" y="2328840"/>
            <a:ext cx="2765520" cy="18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Questrial"/>
              </a:rPr>
              <a:t>Minimalism as a lifestyle is an art of letting 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TextBox 41"/>
          <p:cNvSpPr/>
          <p:nvPr/>
        </p:nvSpPr>
        <p:spPr>
          <a:xfrm>
            <a:off x="10576080" y="5637240"/>
            <a:ext cx="1218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Questrial"/>
              </a:rPr>
              <a:t>2020 MINIMAL &amp; C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9" name="Group 46"/>
          <p:cNvGrpSpPr/>
          <p:nvPr/>
        </p:nvGrpSpPr>
        <p:grpSpPr>
          <a:xfrm>
            <a:off x="4938840" y="2001960"/>
            <a:ext cx="1743120" cy="465120"/>
            <a:chOff x="4938840" y="2001960"/>
            <a:chExt cx="1743120" cy="465120"/>
          </a:xfrm>
        </p:grpSpPr>
        <p:sp>
          <p:nvSpPr>
            <p:cNvPr id="2030" name="Rectangle 34"/>
            <p:cNvSpPr/>
            <p:nvPr/>
          </p:nvSpPr>
          <p:spPr>
            <a:xfrm>
              <a:off x="4938840" y="2001960"/>
              <a:ext cx="1743120" cy="46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1" name="TextBox 2"/>
            <p:cNvSpPr/>
            <p:nvPr/>
          </p:nvSpPr>
          <p:spPr>
            <a:xfrm>
              <a:off x="5027040" y="2095920"/>
              <a:ext cx="156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Welcomé Messag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2" name="TextBox 4"/>
          <p:cNvSpPr/>
          <p:nvPr/>
        </p:nvSpPr>
        <p:spPr>
          <a:xfrm>
            <a:off x="4871880" y="4600440"/>
            <a:ext cx="2963880" cy="3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Questrial"/>
                <a:ea typeface="Adobe Gothic Std B"/>
              </a:rPr>
              <a:t>Seva Nadya </a:t>
            </a:r>
            <a:r>
              <a:rPr b="0" lang="en-ID" sz="1600" spc="-1" strike="noStrike">
                <a:solidFill>
                  <a:srgbClr val="000000"/>
                </a:solidFill>
                <a:latin typeface="Questrial"/>
                <a:ea typeface="Roboto Light"/>
              </a:rPr>
              <a:t>| CEO &amp; Foun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TextBox 9"/>
          <p:cNvSpPr/>
          <p:nvPr/>
        </p:nvSpPr>
        <p:spPr>
          <a:xfrm>
            <a:off x="4871880" y="2657520"/>
            <a:ext cx="607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We start our process by deeping our understanding through collaborative research and ide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4" name="Group 45"/>
          <p:cNvGrpSpPr/>
          <p:nvPr/>
        </p:nvGrpSpPr>
        <p:grpSpPr>
          <a:xfrm>
            <a:off x="4946760" y="4332240"/>
            <a:ext cx="5835600" cy="90360"/>
            <a:chOff x="4946760" y="4332240"/>
            <a:chExt cx="5835600" cy="90360"/>
          </a:xfrm>
        </p:grpSpPr>
        <p:sp>
          <p:nvSpPr>
            <p:cNvPr id="2035" name="Straight Connector 13"/>
            <p:cNvSpPr/>
            <p:nvPr/>
          </p:nvSpPr>
          <p:spPr>
            <a:xfrm>
              <a:off x="4946760" y="4422600"/>
              <a:ext cx="583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6" name="Isosceles Triangle 43"/>
            <p:cNvSpPr/>
            <p:nvPr/>
          </p:nvSpPr>
          <p:spPr>
            <a:xfrm rot="5400000">
              <a:off x="4940640" y="4338000"/>
              <a:ext cx="90360" cy="78480"/>
            </a:xfrm>
            <a:prstGeom prst="triangle">
              <a:avLst>
                <a:gd name="adj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TextBox 3"/>
          <p:cNvSpPr/>
          <p:nvPr/>
        </p:nvSpPr>
        <p:spPr>
          <a:xfrm>
            <a:off x="1150920" y="1330200"/>
            <a:ext cx="409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TextBox 5"/>
          <p:cNvSpPr/>
          <p:nvPr/>
        </p:nvSpPr>
        <p:spPr>
          <a:xfrm>
            <a:off x="1150920" y="1023840"/>
            <a:ext cx="28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Rectangle 8"/>
          <p:cNvSpPr/>
          <p:nvPr/>
        </p:nvSpPr>
        <p:spPr>
          <a:xfrm>
            <a:off x="9294840" y="3429000"/>
            <a:ext cx="2897280" cy="3429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TextBox 36"/>
          <p:cNvSpPr/>
          <p:nvPr/>
        </p:nvSpPr>
        <p:spPr>
          <a:xfrm>
            <a:off x="6916680" y="4809960"/>
            <a:ext cx="19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Photoghraph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TextBox 37"/>
          <p:cNvSpPr/>
          <p:nvPr/>
        </p:nvSpPr>
        <p:spPr>
          <a:xfrm>
            <a:off x="6916680" y="5097600"/>
            <a:ext cx="1962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1" name="Group 172" descr=""/>
          <p:cNvPicPr/>
          <p:nvPr/>
        </p:nvPicPr>
        <p:blipFill>
          <a:blip r:embed="rId1"/>
          <a:stretch/>
        </p:blipFill>
        <p:spPr>
          <a:xfrm>
            <a:off x="7010280" y="4413240"/>
            <a:ext cx="285840" cy="237960"/>
          </a:xfrm>
          <a:prstGeom prst="rect">
            <a:avLst/>
          </a:prstGeom>
          <a:ln w="0">
            <a:noFill/>
          </a:ln>
        </p:spPr>
      </p:pic>
      <p:sp>
        <p:nvSpPr>
          <p:cNvPr id="2622" name="TextBox 42"/>
          <p:cNvSpPr/>
          <p:nvPr/>
        </p:nvSpPr>
        <p:spPr>
          <a:xfrm>
            <a:off x="9896400" y="4809960"/>
            <a:ext cx="19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</a:rPr>
              <a:t>Business Analy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TextBox 43"/>
          <p:cNvSpPr/>
          <p:nvPr/>
        </p:nvSpPr>
        <p:spPr>
          <a:xfrm>
            <a:off x="9896400" y="5097600"/>
            <a:ext cx="1962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 Light"/>
                <a:ea typeface="Roboto Light"/>
              </a:rPr>
              <a:t>Leverage agile frameworks to provide a robust synopsis holistic world vie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Freeform 72"/>
          <p:cNvSpPr/>
          <p:nvPr/>
        </p:nvSpPr>
        <p:spPr>
          <a:xfrm>
            <a:off x="9955080" y="4363920"/>
            <a:ext cx="287640" cy="2858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5" name="Group 12"/>
          <p:cNvGrpSpPr/>
          <p:nvPr/>
        </p:nvGrpSpPr>
        <p:grpSpPr>
          <a:xfrm>
            <a:off x="6950160" y="1465200"/>
            <a:ext cx="4327560" cy="1771920"/>
            <a:chOff x="6950160" y="1465200"/>
            <a:chExt cx="4327560" cy="1771920"/>
          </a:xfrm>
        </p:grpSpPr>
        <p:sp>
          <p:nvSpPr>
            <p:cNvPr id="2626" name="TextBox 9"/>
            <p:cNvSpPr/>
            <p:nvPr/>
          </p:nvSpPr>
          <p:spPr>
            <a:xfrm>
              <a:off x="6950160" y="1772640"/>
              <a:ext cx="42822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Questrial"/>
                </a:rPr>
                <a:t>Minimalism as a lifestyle is an art of letting go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7" name="TextBox 11"/>
            <p:cNvSpPr/>
            <p:nvPr/>
          </p:nvSpPr>
          <p:spPr>
            <a:xfrm>
              <a:off x="6950160" y="1465200"/>
              <a:ext cx="432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Questrial"/>
                </a:rPr>
                <a:t>Portfoli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8" name="TextBox 14"/>
          <p:cNvSpPr/>
          <p:nvPr/>
        </p:nvSpPr>
        <p:spPr>
          <a:xfrm>
            <a:off x="1152360" y="469116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Questrial"/>
              </a:rPr>
              <a:t>Your title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TextBox 16"/>
          <p:cNvSpPr/>
          <p:nvPr/>
        </p:nvSpPr>
        <p:spPr>
          <a:xfrm>
            <a:off x="1152360" y="393876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est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TextBox 18"/>
          <p:cNvSpPr/>
          <p:nvPr/>
        </p:nvSpPr>
        <p:spPr>
          <a:xfrm>
            <a:off x="1152360" y="4975200"/>
            <a:ext cx="2022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approaches to corporat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TextBox 10"/>
          <p:cNvSpPr/>
          <p:nvPr/>
        </p:nvSpPr>
        <p:spPr>
          <a:xfrm>
            <a:off x="1071720" y="2827440"/>
            <a:ext cx="534960" cy="422280"/>
          </a:xfrm>
          <a:custGeom>
            <a:avLst/>
            <a:gdLst/>
            <a:ahLst/>
            <a:rect l="l" t="t" r="r" b="b"/>
            <a:pathLst>
              <a:path w="113747" h="89827">
                <a:moveTo>
                  <a:pt x="90344" y="0"/>
                </a:moveTo>
                <a:lnTo>
                  <a:pt x="113747" y="13594"/>
                </a:lnTo>
                <a:cubicBezTo>
                  <a:pt x="103881" y="29196"/>
                  <a:pt x="98776" y="45028"/>
                  <a:pt x="98432" y="61089"/>
                </a:cubicBezTo>
                <a:lnTo>
                  <a:pt x="98432" y="89827"/>
                </a:lnTo>
                <a:lnTo>
                  <a:pt x="59025" y="89827"/>
                </a:lnTo>
                <a:lnTo>
                  <a:pt x="59025" y="64014"/>
                </a:lnTo>
                <a:cubicBezTo>
                  <a:pt x="59025" y="53230"/>
                  <a:pt x="62036" y="41730"/>
                  <a:pt x="68059" y="29512"/>
                </a:cubicBezTo>
                <a:cubicBezTo>
                  <a:pt x="74082" y="17294"/>
                  <a:pt x="81510" y="7456"/>
                  <a:pt x="90344" y="0"/>
                </a:cubicBezTo>
                <a:close/>
                <a:moveTo>
                  <a:pt x="31319" y="0"/>
                </a:moveTo>
                <a:lnTo>
                  <a:pt x="54723" y="13594"/>
                </a:lnTo>
                <a:cubicBezTo>
                  <a:pt x="44857" y="29196"/>
                  <a:pt x="39751" y="45028"/>
                  <a:pt x="39407" y="61089"/>
                </a:cubicBezTo>
                <a:lnTo>
                  <a:pt x="39407" y="89827"/>
                </a:lnTo>
                <a:lnTo>
                  <a:pt x="0" y="89827"/>
                </a:lnTo>
                <a:lnTo>
                  <a:pt x="0" y="64014"/>
                </a:lnTo>
                <a:cubicBezTo>
                  <a:pt x="0" y="53230"/>
                  <a:pt x="3012" y="41730"/>
                  <a:pt x="9035" y="29512"/>
                </a:cubicBezTo>
                <a:cubicBezTo>
                  <a:pt x="15058" y="17294"/>
                  <a:pt x="22486" y="7456"/>
                  <a:pt x="31319" y="0"/>
                </a:cubicBezTo>
                <a:close/>
              </a:path>
            </a:pathLst>
          </a:custGeom>
          <a:solidFill>
            <a:srgbClr val="f7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TextBox 2"/>
          <p:cNvSpPr/>
          <p:nvPr/>
        </p:nvSpPr>
        <p:spPr>
          <a:xfrm>
            <a:off x="981000" y="1471680"/>
            <a:ext cx="482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Trusted by </a:t>
            </a:r>
            <a:r>
              <a:rPr b="1" lang="en-US" sz="2800" spc="-1" strike="noStrike">
                <a:solidFill>
                  <a:srgbClr val="000000"/>
                </a:solidFill>
                <a:latin typeface="Questrial"/>
              </a:rPr>
              <a:t>25,000+</a:t>
            </a: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 business in over </a:t>
            </a:r>
            <a:r>
              <a:rPr b="1" lang="en-US" sz="2800" spc="-1" strike="noStrike">
                <a:solidFill>
                  <a:srgbClr val="000000"/>
                </a:solidFill>
                <a:latin typeface="Questrial"/>
              </a:rPr>
              <a:t>50 </a:t>
            </a: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TextBox 5"/>
          <p:cNvSpPr/>
          <p:nvPr/>
        </p:nvSpPr>
        <p:spPr>
          <a:xfrm>
            <a:off x="981000" y="2874960"/>
            <a:ext cx="3992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Roboto Light"/>
                <a:ea typeface="Roboto Light"/>
              </a:rPr>
              <a:t>Very easy to use. We were treated like royalty. I will let my mum know about this, she could really make use of design Leverage agile frameworks to provide a robust synopsis for approaches to corporate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TextBox 6"/>
          <p:cNvSpPr/>
          <p:nvPr/>
        </p:nvSpPr>
        <p:spPr>
          <a:xfrm>
            <a:off x="2075040" y="4826160"/>
            <a:ext cx="195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  <a:ea typeface="Roboto Light"/>
              </a:rPr>
              <a:t>Alicea F. of Garab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TextBox 18"/>
          <p:cNvSpPr/>
          <p:nvPr/>
        </p:nvSpPr>
        <p:spPr>
          <a:xfrm>
            <a:off x="3684600" y="94140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Questrial"/>
              </a:rPr>
              <a:t>What Our Clients 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7" name="Group 53"/>
          <p:cNvGrpSpPr/>
          <p:nvPr/>
        </p:nvGrpSpPr>
        <p:grpSpPr>
          <a:xfrm>
            <a:off x="4473720" y="2581200"/>
            <a:ext cx="3244680" cy="1469880"/>
            <a:chOff x="4473720" y="2581200"/>
            <a:chExt cx="3244680" cy="1469880"/>
          </a:xfrm>
        </p:grpSpPr>
        <p:sp>
          <p:nvSpPr>
            <p:cNvPr id="2638" name="Rectangle: Rounded Corners 20"/>
            <p:cNvSpPr/>
            <p:nvPr/>
          </p:nvSpPr>
          <p:spPr>
            <a:xfrm>
              <a:off x="4473720" y="2581200"/>
              <a:ext cx="3244680" cy="1361160"/>
            </a:xfrm>
            <a:prstGeom prst="roundRect">
              <a:avLst>
                <a:gd name="adj" fmla="val 4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9" name="Isosceles Triangle 21"/>
            <p:cNvSpPr/>
            <p:nvPr/>
          </p:nvSpPr>
          <p:spPr>
            <a:xfrm rot="10800000">
              <a:off x="5991840" y="3942000"/>
              <a:ext cx="207720" cy="109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0" name="TextBox 24"/>
          <p:cNvSpPr/>
          <p:nvPr/>
        </p:nvSpPr>
        <p:spPr>
          <a:xfrm>
            <a:off x="4697280" y="2816280"/>
            <a:ext cx="279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Roboto"/>
                <a:ea typeface="Roboto"/>
              </a:rPr>
              <a:t>"Best. Product. Ever! The very best. After using minimalist my business skyrocketed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1" name="Group 27"/>
          <p:cNvGrpSpPr/>
          <p:nvPr/>
        </p:nvGrpSpPr>
        <p:grpSpPr>
          <a:xfrm>
            <a:off x="5769000" y="4410000"/>
            <a:ext cx="654120" cy="652680"/>
            <a:chOff x="5769000" y="4410000"/>
            <a:chExt cx="654120" cy="652680"/>
          </a:xfrm>
        </p:grpSpPr>
        <p:sp>
          <p:nvSpPr>
            <p:cNvPr id="2642" name="Oval 25"/>
            <p:cNvSpPr/>
            <p:nvPr/>
          </p:nvSpPr>
          <p:spPr>
            <a:xfrm>
              <a:off x="5769000" y="4410000"/>
              <a:ext cx="654120" cy="6526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3" name="TextBox 26"/>
            <p:cNvSpPr/>
            <p:nvPr/>
          </p:nvSpPr>
          <p:spPr>
            <a:xfrm>
              <a:off x="5842800" y="4566960"/>
              <a:ext cx="50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Questrial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4" name="Group 52"/>
          <p:cNvGrpSpPr/>
          <p:nvPr/>
        </p:nvGrpSpPr>
        <p:grpSpPr>
          <a:xfrm>
            <a:off x="727200" y="2581200"/>
            <a:ext cx="3243240" cy="1469880"/>
            <a:chOff x="727200" y="2581200"/>
            <a:chExt cx="3243240" cy="1469880"/>
          </a:xfrm>
        </p:grpSpPr>
        <p:sp>
          <p:nvSpPr>
            <p:cNvPr id="2645" name="Rectangle: Rounded Corners 29"/>
            <p:cNvSpPr/>
            <p:nvPr/>
          </p:nvSpPr>
          <p:spPr>
            <a:xfrm>
              <a:off x="727200" y="2581200"/>
              <a:ext cx="3243240" cy="1361160"/>
            </a:xfrm>
            <a:prstGeom prst="roundRect">
              <a:avLst>
                <a:gd name="adj" fmla="val 4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Isosceles Triangle 30"/>
            <p:cNvSpPr/>
            <p:nvPr/>
          </p:nvSpPr>
          <p:spPr>
            <a:xfrm rot="10800000">
              <a:off x="2244600" y="3942000"/>
              <a:ext cx="207720" cy="109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7" name="TextBox 31"/>
          <p:cNvSpPr/>
          <p:nvPr/>
        </p:nvSpPr>
        <p:spPr>
          <a:xfrm>
            <a:off x="1035000" y="2816280"/>
            <a:ext cx="2627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Roboto"/>
                <a:ea typeface="Roboto"/>
              </a:rPr>
              <a:t>"Minimalist impressed me on multiple levels. It's the perfect solution for our busine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8" name="Group 32"/>
          <p:cNvGrpSpPr/>
          <p:nvPr/>
        </p:nvGrpSpPr>
        <p:grpSpPr>
          <a:xfrm>
            <a:off x="2022480" y="4410000"/>
            <a:ext cx="652320" cy="652680"/>
            <a:chOff x="2022480" y="4410000"/>
            <a:chExt cx="652320" cy="652680"/>
          </a:xfrm>
        </p:grpSpPr>
        <p:sp>
          <p:nvSpPr>
            <p:cNvPr id="2649" name="Oval 33"/>
            <p:cNvSpPr/>
            <p:nvPr/>
          </p:nvSpPr>
          <p:spPr>
            <a:xfrm>
              <a:off x="2022480" y="4410000"/>
              <a:ext cx="652320" cy="6526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TextBox 34"/>
            <p:cNvSpPr/>
            <p:nvPr/>
          </p:nvSpPr>
          <p:spPr>
            <a:xfrm>
              <a:off x="2096280" y="456696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Questrial"/>
                </a:rPr>
                <a:t>N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1" name="Group 54"/>
          <p:cNvGrpSpPr/>
          <p:nvPr/>
        </p:nvGrpSpPr>
        <p:grpSpPr>
          <a:xfrm>
            <a:off x="8221680" y="2581200"/>
            <a:ext cx="3243240" cy="1469880"/>
            <a:chOff x="8221680" y="2581200"/>
            <a:chExt cx="3243240" cy="1469880"/>
          </a:xfrm>
        </p:grpSpPr>
        <p:sp>
          <p:nvSpPr>
            <p:cNvPr id="2652" name="Rectangle: Rounded Corners 36"/>
            <p:cNvSpPr/>
            <p:nvPr/>
          </p:nvSpPr>
          <p:spPr>
            <a:xfrm>
              <a:off x="8221680" y="2581200"/>
              <a:ext cx="3243240" cy="1361160"/>
            </a:xfrm>
            <a:prstGeom prst="roundRect">
              <a:avLst>
                <a:gd name="adj" fmla="val 4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Isosceles Triangle 37"/>
            <p:cNvSpPr/>
            <p:nvPr/>
          </p:nvSpPr>
          <p:spPr>
            <a:xfrm rot="10800000">
              <a:off x="9739080" y="3942000"/>
              <a:ext cx="207720" cy="109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4" name="TextBox 38"/>
          <p:cNvSpPr/>
          <p:nvPr/>
        </p:nvSpPr>
        <p:spPr>
          <a:xfrm>
            <a:off x="8529480" y="2816280"/>
            <a:ext cx="2627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Roboto"/>
                <a:ea typeface="Roboto"/>
              </a:rPr>
              <a:t>"I like minimalist more and more each day because it makes my life a lot easier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5" name="Group 39"/>
          <p:cNvGrpSpPr/>
          <p:nvPr/>
        </p:nvGrpSpPr>
        <p:grpSpPr>
          <a:xfrm>
            <a:off x="9516960" y="4410000"/>
            <a:ext cx="652680" cy="652680"/>
            <a:chOff x="9516960" y="4410000"/>
            <a:chExt cx="652680" cy="652680"/>
          </a:xfrm>
        </p:grpSpPr>
        <p:sp>
          <p:nvSpPr>
            <p:cNvPr id="2656" name="Oval 40"/>
            <p:cNvSpPr/>
            <p:nvPr/>
          </p:nvSpPr>
          <p:spPr>
            <a:xfrm>
              <a:off x="9516960" y="4410000"/>
              <a:ext cx="652680" cy="6526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TextBox 41"/>
            <p:cNvSpPr/>
            <p:nvPr/>
          </p:nvSpPr>
          <p:spPr>
            <a:xfrm>
              <a:off x="9590760" y="4566960"/>
              <a:ext cx="5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Questrial"/>
                </a:rPr>
                <a:t>DJ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8" name="TextBox 43"/>
          <p:cNvSpPr/>
          <p:nvPr/>
        </p:nvSpPr>
        <p:spPr>
          <a:xfrm>
            <a:off x="5219640" y="51703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  <a:ea typeface="Roboto Light"/>
              </a:rPr>
              <a:t>Handy Yosie BlueBo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TextBox 44"/>
          <p:cNvSpPr/>
          <p:nvPr/>
        </p:nvSpPr>
        <p:spPr>
          <a:xfrm>
            <a:off x="1562040" y="5170320"/>
            <a:ext cx="15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  <a:ea typeface="Roboto Light"/>
              </a:rPr>
              <a:t>Nikke Louis Gob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TextBox 45"/>
          <p:cNvSpPr/>
          <p:nvPr/>
        </p:nvSpPr>
        <p:spPr>
          <a:xfrm>
            <a:off x="9056520" y="5170320"/>
            <a:ext cx="157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Questrial"/>
                <a:ea typeface="Roboto Light"/>
              </a:rPr>
              <a:t>Daniel Jackson Infin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TextBox 51"/>
          <p:cNvSpPr/>
          <p:nvPr/>
        </p:nvSpPr>
        <p:spPr>
          <a:xfrm>
            <a:off x="2943360" y="1506600"/>
            <a:ext cx="63054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 Light"/>
                <a:ea typeface="Roboto Light"/>
              </a:rPr>
              <a:t>Leverage agile frameworks to provide a robust synopsis for high Organically grow the holistic world view of disruptive innovation workplace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2" name="Group 58"/>
          <p:cNvGrpSpPr/>
          <p:nvPr/>
        </p:nvGrpSpPr>
        <p:grpSpPr>
          <a:xfrm>
            <a:off x="727200" y="6156360"/>
            <a:ext cx="10737720" cy="84240"/>
            <a:chOff x="727200" y="6156360"/>
            <a:chExt cx="10737720" cy="84240"/>
          </a:xfrm>
        </p:grpSpPr>
        <p:sp>
          <p:nvSpPr>
            <p:cNvPr id="2663" name="Straight Connector 48"/>
            <p:cNvSpPr/>
            <p:nvPr/>
          </p:nvSpPr>
          <p:spPr>
            <a:xfrm>
              <a:off x="727200" y="6198480"/>
              <a:ext cx="10737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Rectangle: Rounded Corners 57"/>
            <p:cNvSpPr/>
            <p:nvPr/>
          </p:nvSpPr>
          <p:spPr>
            <a:xfrm rot="5400000">
              <a:off x="6053760" y="5752080"/>
              <a:ext cx="84240" cy="892800"/>
            </a:xfrm>
            <a:custGeom>
              <a:avLst/>
              <a:gdLst>
                <a:gd name="textAreaLeft" fmla="*/ 12240 w 84240"/>
                <a:gd name="textAreaRight" fmla="*/ 72000 w 84240"/>
                <a:gd name="textAreaTop" fmla="*/ 12240 h 892800"/>
                <a:gd name="textAreaBottom" fmla="*/ 880560 h 892800"/>
              </a:gdLst>
              <a:ahLst/>
              <a:rect l="textAreaLeft" t="textAreaTop" r="textAreaRight" b="textAreaBottom"/>
              <a:pathLst>
                <a:path w="21600" h="228041">
                  <a:moveTo>
                    <a:pt x="10800" y="0"/>
                  </a:moveTo>
                  <a:arcTo wR="10800" hR="10800" stAng="16200000" swAng="-5400000"/>
                  <a:lnTo>
                    <a:pt x="0" y="217241"/>
                  </a:lnTo>
                  <a:arcTo wR="10800" hR="10800" stAng="10800000" swAng="-5400000"/>
                  <a:lnTo>
                    <a:pt x="10800" y="22804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5" name="Group 4"/>
          <p:cNvGrpSpPr/>
          <p:nvPr/>
        </p:nvGrpSpPr>
        <p:grpSpPr>
          <a:xfrm>
            <a:off x="658440" y="1728720"/>
            <a:ext cx="2732040" cy="4508640"/>
            <a:chOff x="658440" y="1728720"/>
            <a:chExt cx="2732040" cy="4508640"/>
          </a:xfrm>
        </p:grpSpPr>
        <p:grpSp>
          <p:nvGrpSpPr>
            <p:cNvPr id="2666" name="Group 56"/>
            <p:cNvGrpSpPr/>
            <p:nvPr/>
          </p:nvGrpSpPr>
          <p:grpSpPr>
            <a:xfrm>
              <a:off x="658800" y="3622320"/>
              <a:ext cx="2718360" cy="2615040"/>
              <a:chOff x="658800" y="3622320"/>
              <a:chExt cx="2718360" cy="2615040"/>
            </a:xfrm>
          </p:grpSpPr>
          <p:sp>
            <p:nvSpPr>
              <p:cNvPr id="2667" name="Rectangle 7"/>
              <p:cNvSpPr/>
              <p:nvPr/>
            </p:nvSpPr>
            <p:spPr>
              <a:xfrm>
                <a:off x="658800" y="3622320"/>
                <a:ext cx="271836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8" name="Rectangle 11"/>
              <p:cNvSpPr/>
              <p:nvPr/>
            </p:nvSpPr>
            <p:spPr>
              <a:xfrm>
                <a:off x="658800" y="4008600"/>
                <a:ext cx="2718360" cy="386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9" name="Rectangle 16"/>
              <p:cNvSpPr/>
              <p:nvPr/>
            </p:nvSpPr>
            <p:spPr>
              <a:xfrm>
                <a:off x="658800" y="4395240"/>
                <a:ext cx="271836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0" name="Rectangle 20"/>
              <p:cNvSpPr/>
              <p:nvPr/>
            </p:nvSpPr>
            <p:spPr>
              <a:xfrm>
                <a:off x="658800" y="4781880"/>
                <a:ext cx="2718360" cy="386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1" name="Rectangle 24"/>
              <p:cNvSpPr/>
              <p:nvPr/>
            </p:nvSpPr>
            <p:spPr>
              <a:xfrm>
                <a:off x="658800" y="5168160"/>
                <a:ext cx="271836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2" name="Rectangle 28"/>
              <p:cNvSpPr/>
              <p:nvPr/>
            </p:nvSpPr>
            <p:spPr>
              <a:xfrm>
                <a:off x="658800" y="5554800"/>
                <a:ext cx="2718360" cy="682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73" name="Rectangle 70"/>
            <p:cNvSpPr/>
            <p:nvPr/>
          </p:nvSpPr>
          <p:spPr>
            <a:xfrm flipH="1">
              <a:off x="658080" y="1728720"/>
              <a:ext cx="2732040" cy="18936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4" name="Group 3"/>
          <p:cNvGrpSpPr/>
          <p:nvPr/>
        </p:nvGrpSpPr>
        <p:grpSpPr>
          <a:xfrm>
            <a:off x="3376440" y="1728720"/>
            <a:ext cx="2719440" cy="4508640"/>
            <a:chOff x="3376440" y="1728720"/>
            <a:chExt cx="2719440" cy="4508640"/>
          </a:xfrm>
        </p:grpSpPr>
        <p:grpSp>
          <p:nvGrpSpPr>
            <p:cNvPr id="2675" name="Group 62"/>
            <p:cNvGrpSpPr/>
            <p:nvPr/>
          </p:nvGrpSpPr>
          <p:grpSpPr>
            <a:xfrm>
              <a:off x="3376440" y="3622320"/>
              <a:ext cx="2719440" cy="2615040"/>
              <a:chOff x="3376440" y="3622320"/>
              <a:chExt cx="2719440" cy="2615040"/>
            </a:xfrm>
          </p:grpSpPr>
          <p:sp>
            <p:nvSpPr>
              <p:cNvPr id="2676" name="Rectangle 8"/>
              <p:cNvSpPr/>
              <p:nvPr/>
            </p:nvSpPr>
            <p:spPr>
              <a:xfrm>
                <a:off x="3376440" y="3622320"/>
                <a:ext cx="271944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7" name="Rectangle 12"/>
              <p:cNvSpPr/>
              <p:nvPr/>
            </p:nvSpPr>
            <p:spPr>
              <a:xfrm>
                <a:off x="3376440" y="4008600"/>
                <a:ext cx="2719440" cy="386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8" name="Rectangle 17"/>
              <p:cNvSpPr/>
              <p:nvPr/>
            </p:nvSpPr>
            <p:spPr>
              <a:xfrm>
                <a:off x="3376440" y="4395240"/>
                <a:ext cx="271944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9" name="Rectangle 21"/>
              <p:cNvSpPr/>
              <p:nvPr/>
            </p:nvSpPr>
            <p:spPr>
              <a:xfrm>
                <a:off x="3376440" y="4781880"/>
                <a:ext cx="2719440" cy="386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0" name="Rectangle 25"/>
              <p:cNvSpPr/>
              <p:nvPr/>
            </p:nvSpPr>
            <p:spPr>
              <a:xfrm>
                <a:off x="3376440" y="5168160"/>
                <a:ext cx="271944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1" name="Rectangle 29"/>
              <p:cNvSpPr/>
              <p:nvPr/>
            </p:nvSpPr>
            <p:spPr>
              <a:xfrm>
                <a:off x="3376440" y="5554800"/>
                <a:ext cx="2719440" cy="682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2" name="Rectangle 71"/>
            <p:cNvSpPr/>
            <p:nvPr/>
          </p:nvSpPr>
          <p:spPr>
            <a:xfrm flipH="1">
              <a:off x="3376440" y="1728720"/>
              <a:ext cx="2719440" cy="18936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3" name="Group 5"/>
          <p:cNvGrpSpPr/>
          <p:nvPr/>
        </p:nvGrpSpPr>
        <p:grpSpPr>
          <a:xfrm>
            <a:off x="6095880" y="1728720"/>
            <a:ext cx="2719440" cy="4508640"/>
            <a:chOff x="6095880" y="1728720"/>
            <a:chExt cx="2719440" cy="4508640"/>
          </a:xfrm>
        </p:grpSpPr>
        <p:grpSp>
          <p:nvGrpSpPr>
            <p:cNvPr id="2684" name="Group 65"/>
            <p:cNvGrpSpPr/>
            <p:nvPr/>
          </p:nvGrpSpPr>
          <p:grpSpPr>
            <a:xfrm>
              <a:off x="6095880" y="3622320"/>
              <a:ext cx="2719440" cy="2615040"/>
              <a:chOff x="6095880" y="3622320"/>
              <a:chExt cx="2719440" cy="2615040"/>
            </a:xfrm>
          </p:grpSpPr>
          <p:sp>
            <p:nvSpPr>
              <p:cNvPr id="2685" name="Rectangle 9"/>
              <p:cNvSpPr/>
              <p:nvPr/>
            </p:nvSpPr>
            <p:spPr>
              <a:xfrm>
                <a:off x="6095880" y="3622320"/>
                <a:ext cx="2719440" cy="38628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Rectangle 13"/>
              <p:cNvSpPr/>
              <p:nvPr/>
            </p:nvSpPr>
            <p:spPr>
              <a:xfrm>
                <a:off x="6095880" y="4008600"/>
                <a:ext cx="2719440" cy="38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Rectangle 18"/>
              <p:cNvSpPr/>
              <p:nvPr/>
            </p:nvSpPr>
            <p:spPr>
              <a:xfrm>
                <a:off x="6095880" y="4395240"/>
                <a:ext cx="2719440" cy="38628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Rectangle 22"/>
              <p:cNvSpPr/>
              <p:nvPr/>
            </p:nvSpPr>
            <p:spPr>
              <a:xfrm>
                <a:off x="6095880" y="4781880"/>
                <a:ext cx="2719440" cy="38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Rectangle 26"/>
              <p:cNvSpPr/>
              <p:nvPr/>
            </p:nvSpPr>
            <p:spPr>
              <a:xfrm>
                <a:off x="6095880" y="5168160"/>
                <a:ext cx="2719440" cy="38628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Rectangle 30"/>
              <p:cNvSpPr/>
              <p:nvPr/>
            </p:nvSpPr>
            <p:spPr>
              <a:xfrm>
                <a:off x="6095880" y="5554800"/>
                <a:ext cx="2719440" cy="68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91" name="Rectangle 73"/>
            <p:cNvSpPr/>
            <p:nvPr/>
          </p:nvSpPr>
          <p:spPr>
            <a:xfrm flipH="1">
              <a:off x="6095880" y="1728720"/>
              <a:ext cx="2719440" cy="189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469800" dir="5400000" blurRad="0" rotWithShape="0">
                <a:srgbClr val="000000">
                  <a:alpha val="1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2" name="Group 6"/>
          <p:cNvGrpSpPr/>
          <p:nvPr/>
        </p:nvGrpSpPr>
        <p:grpSpPr>
          <a:xfrm>
            <a:off x="8815320" y="1728720"/>
            <a:ext cx="2718000" cy="4508640"/>
            <a:chOff x="8815320" y="1728720"/>
            <a:chExt cx="2718000" cy="4508640"/>
          </a:xfrm>
        </p:grpSpPr>
        <p:grpSp>
          <p:nvGrpSpPr>
            <p:cNvPr id="2693" name="Group 67"/>
            <p:cNvGrpSpPr/>
            <p:nvPr/>
          </p:nvGrpSpPr>
          <p:grpSpPr>
            <a:xfrm>
              <a:off x="8815320" y="3622320"/>
              <a:ext cx="2718000" cy="2615040"/>
              <a:chOff x="8815320" y="3622320"/>
              <a:chExt cx="2718000" cy="2615040"/>
            </a:xfrm>
          </p:grpSpPr>
          <p:sp>
            <p:nvSpPr>
              <p:cNvPr id="2694" name="Rectangle 10"/>
              <p:cNvSpPr/>
              <p:nvPr/>
            </p:nvSpPr>
            <p:spPr>
              <a:xfrm>
                <a:off x="8815320" y="3622320"/>
                <a:ext cx="271800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Rectangle 14"/>
              <p:cNvSpPr/>
              <p:nvPr/>
            </p:nvSpPr>
            <p:spPr>
              <a:xfrm>
                <a:off x="8815320" y="4008600"/>
                <a:ext cx="2718000" cy="386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Rectangle 19"/>
              <p:cNvSpPr/>
              <p:nvPr/>
            </p:nvSpPr>
            <p:spPr>
              <a:xfrm>
                <a:off x="8815320" y="4395240"/>
                <a:ext cx="271800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Rectangle 23"/>
              <p:cNvSpPr/>
              <p:nvPr/>
            </p:nvSpPr>
            <p:spPr>
              <a:xfrm>
                <a:off x="8815320" y="4781880"/>
                <a:ext cx="2718000" cy="386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Rectangle 27"/>
              <p:cNvSpPr/>
              <p:nvPr/>
            </p:nvSpPr>
            <p:spPr>
              <a:xfrm>
                <a:off x="8815320" y="5168160"/>
                <a:ext cx="271800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Rectangle 31"/>
              <p:cNvSpPr/>
              <p:nvPr/>
            </p:nvSpPr>
            <p:spPr>
              <a:xfrm>
                <a:off x="8815320" y="5554800"/>
                <a:ext cx="2718000" cy="682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0" name="Rectangle 72"/>
            <p:cNvSpPr/>
            <p:nvPr/>
          </p:nvSpPr>
          <p:spPr>
            <a:xfrm flipH="1">
              <a:off x="8815320" y="1728720"/>
              <a:ext cx="2718000" cy="18936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1" name="TextBox 33"/>
          <p:cNvSpPr/>
          <p:nvPr/>
        </p:nvSpPr>
        <p:spPr>
          <a:xfrm>
            <a:off x="3178080" y="696960"/>
            <a:ext cx="58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Questrial"/>
                <a:ea typeface="Poppins"/>
              </a:rPr>
              <a:t>Choose Pricing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TextBox 41"/>
          <p:cNvSpPr/>
          <p:nvPr/>
        </p:nvSpPr>
        <p:spPr>
          <a:xfrm>
            <a:off x="868320" y="370044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Questrial"/>
                <a:ea typeface="Poppins"/>
              </a:rPr>
              <a:t>20 Email Acco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TextBox 42"/>
          <p:cNvSpPr/>
          <p:nvPr/>
        </p:nvSpPr>
        <p:spPr>
          <a:xfrm>
            <a:off x="868320" y="408636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Questrial"/>
                <a:ea typeface="Poppins"/>
              </a:rPr>
              <a:t>100GB Spa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TextBox 43"/>
          <p:cNvSpPr/>
          <p:nvPr/>
        </p:nvSpPr>
        <p:spPr>
          <a:xfrm>
            <a:off x="868320" y="447372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Questrial"/>
                <a:ea typeface="Poppins"/>
              </a:rPr>
              <a:t>1 Domain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TextBox 44"/>
          <p:cNvSpPr/>
          <p:nvPr/>
        </p:nvSpPr>
        <p:spPr>
          <a:xfrm>
            <a:off x="868320" y="485928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Questrial"/>
                <a:ea typeface="Poppins"/>
              </a:rPr>
              <a:t>Unlimited Cop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TextBox 45"/>
          <p:cNvSpPr/>
          <p:nvPr/>
        </p:nvSpPr>
        <p:spPr>
          <a:xfrm>
            <a:off x="868320" y="524664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Questrial"/>
                <a:ea typeface="Poppins"/>
              </a:rPr>
              <a:t>Free Shipp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TextBox 46"/>
          <p:cNvSpPr/>
          <p:nvPr/>
        </p:nvSpPr>
        <p:spPr>
          <a:xfrm>
            <a:off x="868320" y="577368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Questrial"/>
                <a:ea typeface="Poppins"/>
              </a:rPr>
              <a:t>READ MO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8" name="Group 2"/>
          <p:cNvGrpSpPr/>
          <p:nvPr/>
        </p:nvGrpSpPr>
        <p:grpSpPr>
          <a:xfrm>
            <a:off x="868320" y="2109960"/>
            <a:ext cx="2300400" cy="1154520"/>
            <a:chOff x="868320" y="2109960"/>
            <a:chExt cx="2300400" cy="1154520"/>
          </a:xfrm>
        </p:grpSpPr>
        <p:sp>
          <p:nvSpPr>
            <p:cNvPr id="2709" name="TextBox 38"/>
            <p:cNvSpPr/>
            <p:nvPr/>
          </p:nvSpPr>
          <p:spPr>
            <a:xfrm>
              <a:off x="868320" y="2109960"/>
              <a:ext cx="187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Questrial"/>
                  <a:ea typeface="Poppins"/>
                </a:rPr>
                <a:t>YOUR TITLE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0" name="TextBox 40"/>
            <p:cNvSpPr/>
            <p:nvPr/>
          </p:nvSpPr>
          <p:spPr>
            <a:xfrm>
              <a:off x="868320" y="2417760"/>
              <a:ext cx="230040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orem ipsum dolor sites amet busine consectetuer porttitor congue massa magna se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1" name="Rectangle: Rounded Corners 79"/>
          <p:cNvSpPr/>
          <p:nvPr/>
        </p:nvSpPr>
        <p:spPr>
          <a:xfrm flipH="1">
            <a:off x="4014000" y="5702400"/>
            <a:ext cx="1444680" cy="387360"/>
          </a:xfrm>
          <a:prstGeom prst="roundRect">
            <a:avLst>
              <a:gd name="adj" fmla="val 6810"/>
            </a:avLst>
          </a:prstGeom>
          <a:solidFill>
            <a:srgbClr val="ffffff"/>
          </a:solidFill>
          <a:ln w="1260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Questrial"/>
              </a:rPr>
              <a:t>BUY N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Group 96"/>
          <p:cNvGrpSpPr/>
          <p:nvPr/>
        </p:nvGrpSpPr>
        <p:grpSpPr>
          <a:xfrm>
            <a:off x="4638600" y="3751200"/>
            <a:ext cx="195480" cy="1684440"/>
            <a:chOff x="4638600" y="3751200"/>
            <a:chExt cx="195480" cy="1684440"/>
          </a:xfrm>
        </p:grpSpPr>
        <p:sp>
          <p:nvSpPr>
            <p:cNvPr id="2713" name="Freeform: Shape 90"/>
            <p:cNvSpPr/>
            <p:nvPr/>
          </p:nvSpPr>
          <p:spPr>
            <a:xfrm>
              <a:off x="4638600" y="3751200"/>
              <a:ext cx="195480" cy="148320"/>
            </a:xfrm>
            <a:custGeom>
              <a:avLst/>
              <a:gdLst/>
              <a:ahLst/>
              <a:rect l="l" t="t" r="r" b="b"/>
              <a:pathLst>
                <a:path w="602933" h="457200">
                  <a:moveTo>
                    <a:pt x="230206" y="328224"/>
                  </a:moveTo>
                  <a:lnTo>
                    <a:pt x="256222" y="346710"/>
                  </a:lnTo>
                  <a:lnTo>
                    <a:pt x="256223" y="346710"/>
                  </a:lnTo>
                  <a:lnTo>
                    <a:pt x="230206" y="328224"/>
                  </a:lnTo>
                  <a:close/>
                  <a:moveTo>
                    <a:pt x="602933" y="0"/>
                  </a:moveTo>
                  <a:lnTo>
                    <a:pt x="256223" y="414338"/>
                  </a:lnTo>
                  <a:lnTo>
                    <a:pt x="220028" y="457200"/>
                  </a:lnTo>
                  <a:lnTo>
                    <a:pt x="188595" y="414338"/>
                  </a:lnTo>
                  <a:lnTo>
                    <a:pt x="0" y="158115"/>
                  </a:lnTo>
                  <a:lnTo>
                    <a:pt x="220027" y="320992"/>
                  </a:lnTo>
                  <a:lnTo>
                    <a:pt x="220027" y="320992"/>
                  </a:lnTo>
                  <a:lnTo>
                    <a:pt x="220028" y="320993"/>
                  </a:lnTo>
                  <a:lnTo>
                    <a:pt x="6029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Freeform: Shape 91"/>
            <p:cNvSpPr/>
            <p:nvPr/>
          </p:nvSpPr>
          <p:spPr>
            <a:xfrm>
              <a:off x="4638600" y="4514400"/>
              <a:ext cx="195480" cy="148320"/>
            </a:xfrm>
            <a:custGeom>
              <a:avLst/>
              <a:gdLst/>
              <a:ahLst/>
              <a:rect l="l" t="t" r="r" b="b"/>
              <a:pathLst>
                <a:path w="602933" h="457200">
                  <a:moveTo>
                    <a:pt x="230206" y="328224"/>
                  </a:moveTo>
                  <a:lnTo>
                    <a:pt x="256222" y="346710"/>
                  </a:lnTo>
                  <a:lnTo>
                    <a:pt x="256223" y="346710"/>
                  </a:lnTo>
                  <a:lnTo>
                    <a:pt x="230206" y="328224"/>
                  </a:lnTo>
                  <a:close/>
                  <a:moveTo>
                    <a:pt x="602933" y="0"/>
                  </a:moveTo>
                  <a:lnTo>
                    <a:pt x="256223" y="414338"/>
                  </a:lnTo>
                  <a:lnTo>
                    <a:pt x="220028" y="457200"/>
                  </a:lnTo>
                  <a:lnTo>
                    <a:pt x="188595" y="414338"/>
                  </a:lnTo>
                  <a:lnTo>
                    <a:pt x="0" y="158115"/>
                  </a:lnTo>
                  <a:lnTo>
                    <a:pt x="220027" y="320992"/>
                  </a:lnTo>
                  <a:lnTo>
                    <a:pt x="220027" y="320992"/>
                  </a:lnTo>
                  <a:lnTo>
                    <a:pt x="220028" y="320993"/>
                  </a:lnTo>
                  <a:lnTo>
                    <a:pt x="6029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Freeform: Shape 93"/>
            <p:cNvSpPr/>
            <p:nvPr/>
          </p:nvSpPr>
          <p:spPr>
            <a:xfrm>
              <a:off x="4638600" y="4900680"/>
              <a:ext cx="195480" cy="148320"/>
            </a:xfrm>
            <a:custGeom>
              <a:avLst/>
              <a:gdLst/>
              <a:ahLst/>
              <a:rect l="l" t="t" r="r" b="b"/>
              <a:pathLst>
                <a:path w="602933" h="457200">
                  <a:moveTo>
                    <a:pt x="230206" y="328224"/>
                  </a:moveTo>
                  <a:lnTo>
                    <a:pt x="256222" y="346710"/>
                  </a:lnTo>
                  <a:lnTo>
                    <a:pt x="256223" y="346710"/>
                  </a:lnTo>
                  <a:lnTo>
                    <a:pt x="230206" y="328224"/>
                  </a:lnTo>
                  <a:close/>
                  <a:moveTo>
                    <a:pt x="602933" y="0"/>
                  </a:moveTo>
                  <a:lnTo>
                    <a:pt x="256223" y="414338"/>
                  </a:lnTo>
                  <a:lnTo>
                    <a:pt x="220028" y="457200"/>
                  </a:lnTo>
                  <a:lnTo>
                    <a:pt x="188595" y="414338"/>
                  </a:lnTo>
                  <a:lnTo>
                    <a:pt x="0" y="158115"/>
                  </a:lnTo>
                  <a:lnTo>
                    <a:pt x="220027" y="320992"/>
                  </a:lnTo>
                  <a:lnTo>
                    <a:pt x="220027" y="320992"/>
                  </a:lnTo>
                  <a:lnTo>
                    <a:pt x="220028" y="320993"/>
                  </a:lnTo>
                  <a:lnTo>
                    <a:pt x="602933" y="0"/>
                  </a:lnTo>
                  <a:close/>
                </a:path>
              </a:pathLst>
            </a:cu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Freeform: Shape 94"/>
            <p:cNvSpPr/>
            <p:nvPr/>
          </p:nvSpPr>
          <p:spPr>
            <a:xfrm>
              <a:off x="4638600" y="4127760"/>
              <a:ext cx="195480" cy="148320"/>
            </a:xfrm>
            <a:custGeom>
              <a:avLst/>
              <a:gdLst/>
              <a:ahLst/>
              <a:rect l="l" t="t" r="r" b="b"/>
              <a:pathLst>
                <a:path w="602933" h="457200">
                  <a:moveTo>
                    <a:pt x="230206" y="328224"/>
                  </a:moveTo>
                  <a:lnTo>
                    <a:pt x="256222" y="346710"/>
                  </a:lnTo>
                  <a:lnTo>
                    <a:pt x="256223" y="346710"/>
                  </a:lnTo>
                  <a:lnTo>
                    <a:pt x="230206" y="328224"/>
                  </a:lnTo>
                  <a:close/>
                  <a:moveTo>
                    <a:pt x="602933" y="0"/>
                  </a:moveTo>
                  <a:lnTo>
                    <a:pt x="256223" y="414338"/>
                  </a:lnTo>
                  <a:lnTo>
                    <a:pt x="220028" y="457200"/>
                  </a:lnTo>
                  <a:lnTo>
                    <a:pt x="188595" y="414338"/>
                  </a:lnTo>
                  <a:lnTo>
                    <a:pt x="0" y="158115"/>
                  </a:lnTo>
                  <a:lnTo>
                    <a:pt x="220027" y="320992"/>
                  </a:lnTo>
                  <a:lnTo>
                    <a:pt x="220027" y="320992"/>
                  </a:lnTo>
                  <a:lnTo>
                    <a:pt x="220028" y="320993"/>
                  </a:lnTo>
                  <a:lnTo>
                    <a:pt x="6029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Freeform: Shape 95"/>
            <p:cNvSpPr/>
            <p:nvPr/>
          </p:nvSpPr>
          <p:spPr>
            <a:xfrm>
              <a:off x="4638600" y="5287320"/>
              <a:ext cx="195480" cy="148320"/>
            </a:xfrm>
            <a:custGeom>
              <a:avLst/>
              <a:gdLst/>
              <a:ahLst/>
              <a:rect l="l" t="t" r="r" b="b"/>
              <a:pathLst>
                <a:path w="602933" h="457200">
                  <a:moveTo>
                    <a:pt x="230206" y="328224"/>
                  </a:moveTo>
                  <a:lnTo>
                    <a:pt x="256222" y="346710"/>
                  </a:lnTo>
                  <a:lnTo>
                    <a:pt x="256223" y="346710"/>
                  </a:lnTo>
                  <a:lnTo>
                    <a:pt x="230206" y="328224"/>
                  </a:lnTo>
                  <a:close/>
                  <a:moveTo>
                    <a:pt x="602933" y="0"/>
                  </a:moveTo>
                  <a:lnTo>
                    <a:pt x="256223" y="414338"/>
                  </a:lnTo>
                  <a:lnTo>
                    <a:pt x="220028" y="457200"/>
                  </a:lnTo>
                  <a:lnTo>
                    <a:pt x="188595" y="414338"/>
                  </a:lnTo>
                  <a:lnTo>
                    <a:pt x="0" y="158115"/>
                  </a:lnTo>
                  <a:lnTo>
                    <a:pt x="220027" y="320992"/>
                  </a:lnTo>
                  <a:lnTo>
                    <a:pt x="220027" y="320992"/>
                  </a:lnTo>
                  <a:lnTo>
                    <a:pt x="220028" y="320993"/>
                  </a:lnTo>
                  <a:lnTo>
                    <a:pt x="602933" y="0"/>
                  </a:lnTo>
                  <a:close/>
                </a:path>
              </a:pathLst>
            </a:cu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8" name="TextBox 47"/>
          <p:cNvSpPr/>
          <p:nvPr/>
        </p:nvSpPr>
        <p:spPr>
          <a:xfrm>
            <a:off x="3763800" y="209880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  <a:ea typeface="Poppin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TextBox 48"/>
          <p:cNvSpPr/>
          <p:nvPr/>
        </p:nvSpPr>
        <p:spPr>
          <a:xfrm>
            <a:off x="3763800" y="241128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estrial"/>
                <a:ea typeface="Poppins"/>
              </a:rPr>
              <a:t>$30.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TextBox 49"/>
          <p:cNvSpPr/>
          <p:nvPr/>
        </p:nvSpPr>
        <p:spPr>
          <a:xfrm>
            <a:off x="4111560" y="297648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Roboto Light"/>
                <a:ea typeface="Roboto Light"/>
              </a:rPr>
              <a:t>Per Mon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Rectangle: Rounded Corners 81"/>
          <p:cNvSpPr/>
          <p:nvPr/>
        </p:nvSpPr>
        <p:spPr>
          <a:xfrm flipH="1">
            <a:off x="6732720" y="5702400"/>
            <a:ext cx="1444320" cy="387360"/>
          </a:xfrm>
          <a:prstGeom prst="roundRect">
            <a:avLst>
              <a:gd name="adj" fmla="val 681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Questrial"/>
              </a:rPr>
              <a:t>BUY N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2" name="Group 97" descr=""/>
          <p:cNvPicPr/>
          <p:nvPr/>
        </p:nvPicPr>
        <p:blipFill>
          <a:blip r:embed="rId1"/>
          <a:stretch/>
        </p:blipFill>
        <p:spPr>
          <a:xfrm>
            <a:off x="7358040" y="3749760"/>
            <a:ext cx="195120" cy="1687320"/>
          </a:xfrm>
          <a:prstGeom prst="rect">
            <a:avLst/>
          </a:prstGeom>
          <a:ln w="0">
            <a:noFill/>
          </a:ln>
        </p:spPr>
      </p:pic>
      <p:sp>
        <p:nvSpPr>
          <p:cNvPr id="2723" name="TextBox 51"/>
          <p:cNvSpPr/>
          <p:nvPr/>
        </p:nvSpPr>
        <p:spPr>
          <a:xfrm>
            <a:off x="6519960" y="20988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Questrial"/>
                <a:ea typeface="Poppins"/>
              </a:rPr>
              <a:t>STAND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TextBox 52"/>
          <p:cNvSpPr/>
          <p:nvPr/>
        </p:nvSpPr>
        <p:spPr>
          <a:xfrm>
            <a:off x="6519960" y="2411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Questrial"/>
                <a:ea typeface="Poppins"/>
              </a:rPr>
              <a:t>$50.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TextBox 53"/>
          <p:cNvSpPr/>
          <p:nvPr/>
        </p:nvSpPr>
        <p:spPr>
          <a:xfrm>
            <a:off x="6865920" y="297648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 Light"/>
                <a:ea typeface="Roboto Light"/>
              </a:rPr>
              <a:t>Per Mon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Rectangle: Rounded Corners 80"/>
          <p:cNvSpPr/>
          <p:nvPr/>
        </p:nvSpPr>
        <p:spPr>
          <a:xfrm flipH="1">
            <a:off x="9451080" y="5702400"/>
            <a:ext cx="1444680" cy="387360"/>
          </a:xfrm>
          <a:prstGeom prst="roundRect">
            <a:avLst>
              <a:gd name="adj" fmla="val 6810"/>
            </a:avLst>
          </a:prstGeom>
          <a:solidFill>
            <a:srgbClr val="ffffff"/>
          </a:solidFill>
          <a:ln w="1260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Questrial"/>
              </a:rPr>
              <a:t>BUY N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7" name="Group 104" descr=""/>
          <p:cNvPicPr/>
          <p:nvPr/>
        </p:nvPicPr>
        <p:blipFill>
          <a:blip r:embed="rId2"/>
          <a:stretch/>
        </p:blipFill>
        <p:spPr>
          <a:xfrm>
            <a:off x="10077480" y="3749760"/>
            <a:ext cx="193680" cy="1687320"/>
          </a:xfrm>
          <a:prstGeom prst="rect">
            <a:avLst/>
          </a:prstGeom>
          <a:ln w="0">
            <a:noFill/>
          </a:ln>
        </p:spPr>
      </p:pic>
      <p:sp>
        <p:nvSpPr>
          <p:cNvPr id="2728" name="TextBox 58"/>
          <p:cNvSpPr/>
          <p:nvPr/>
        </p:nvSpPr>
        <p:spPr>
          <a:xfrm>
            <a:off x="9237600" y="20988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  <a:ea typeface="Poppins"/>
              </a:rPr>
              <a:t>PROFESS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TextBox 59"/>
          <p:cNvSpPr/>
          <p:nvPr/>
        </p:nvSpPr>
        <p:spPr>
          <a:xfrm>
            <a:off x="9237600" y="2411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estrial"/>
                <a:ea typeface="Poppins"/>
              </a:rPr>
              <a:t>$60.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TextBox 60"/>
          <p:cNvSpPr/>
          <p:nvPr/>
        </p:nvSpPr>
        <p:spPr>
          <a:xfrm>
            <a:off x="9585360" y="297648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Roboto Light"/>
                <a:ea typeface="Roboto Light"/>
              </a:rPr>
              <a:t>Per Mon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1" name="TextBox 8" descr=""/>
          <p:cNvPicPr/>
          <p:nvPr/>
        </p:nvPicPr>
        <p:blipFill>
          <a:blip r:embed="rId1"/>
          <a:stretch/>
        </p:blipFill>
        <p:spPr>
          <a:xfrm>
            <a:off x="669960" y="1096920"/>
            <a:ext cx="750960" cy="4664160"/>
          </a:xfrm>
          <a:prstGeom prst="rect">
            <a:avLst/>
          </a:prstGeom>
          <a:ln w="0">
            <a:noFill/>
          </a:ln>
        </p:spPr>
      </p:pic>
      <p:sp>
        <p:nvSpPr>
          <p:cNvPr id="2732" name="Rectangle 10"/>
          <p:cNvSpPr/>
          <p:nvPr/>
        </p:nvSpPr>
        <p:spPr>
          <a:xfrm flipH="1">
            <a:off x="2058840" y="558720"/>
            <a:ext cx="9545760" cy="1731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6980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TextBox 12"/>
          <p:cNvSpPr/>
          <p:nvPr/>
        </p:nvSpPr>
        <p:spPr>
          <a:xfrm>
            <a:off x="2585880" y="84780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  <a:ea typeface="Poppin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TextBox 14"/>
          <p:cNvSpPr/>
          <p:nvPr/>
        </p:nvSpPr>
        <p:spPr>
          <a:xfrm>
            <a:off x="2585880" y="1160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estrial"/>
                <a:ea typeface="Poppins"/>
              </a:rPr>
              <a:t>$30.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TextBox 16"/>
          <p:cNvSpPr/>
          <p:nvPr/>
        </p:nvSpPr>
        <p:spPr>
          <a:xfrm>
            <a:off x="2585880" y="172548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Roboto Light"/>
                <a:ea typeface="Roboto Light"/>
              </a:rPr>
              <a:t>Per Mon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Rectangle 18"/>
          <p:cNvSpPr/>
          <p:nvPr/>
        </p:nvSpPr>
        <p:spPr>
          <a:xfrm flipH="1">
            <a:off x="2058840" y="2563920"/>
            <a:ext cx="9545760" cy="17301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46980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TextBox 20"/>
          <p:cNvSpPr/>
          <p:nvPr/>
        </p:nvSpPr>
        <p:spPr>
          <a:xfrm>
            <a:off x="2585880" y="285120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Questrial"/>
                <a:ea typeface="Poppins"/>
              </a:rPr>
              <a:t>STAND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TextBox 22"/>
          <p:cNvSpPr/>
          <p:nvPr/>
        </p:nvSpPr>
        <p:spPr>
          <a:xfrm>
            <a:off x="2585880" y="31640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Questrial"/>
                <a:ea typeface="Poppins"/>
              </a:rPr>
              <a:t>$50.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TextBox 24"/>
          <p:cNvSpPr/>
          <p:nvPr/>
        </p:nvSpPr>
        <p:spPr>
          <a:xfrm>
            <a:off x="2585880" y="373068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 Light"/>
                <a:ea typeface="Roboto Light"/>
              </a:rPr>
              <a:t>Per Mon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Rectangle 26"/>
          <p:cNvSpPr/>
          <p:nvPr/>
        </p:nvSpPr>
        <p:spPr>
          <a:xfrm flipH="1">
            <a:off x="2058840" y="4567320"/>
            <a:ext cx="9545760" cy="1731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6980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TextBox 28"/>
          <p:cNvSpPr/>
          <p:nvPr/>
        </p:nvSpPr>
        <p:spPr>
          <a:xfrm>
            <a:off x="2585880" y="485604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  <a:ea typeface="Poppins"/>
              </a:rPr>
              <a:t>PROFESS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TextBox 30"/>
          <p:cNvSpPr/>
          <p:nvPr/>
        </p:nvSpPr>
        <p:spPr>
          <a:xfrm>
            <a:off x="2585880" y="516888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estrial"/>
                <a:ea typeface="Poppins"/>
              </a:rPr>
              <a:t>$60.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TextBox 32"/>
          <p:cNvSpPr/>
          <p:nvPr/>
        </p:nvSpPr>
        <p:spPr>
          <a:xfrm>
            <a:off x="2585880" y="573408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Roboto Light"/>
                <a:ea typeface="Roboto Light"/>
              </a:rPr>
              <a:t>Per Mon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4" name="Group 51"/>
          <p:cNvGrpSpPr/>
          <p:nvPr/>
        </p:nvGrpSpPr>
        <p:grpSpPr>
          <a:xfrm>
            <a:off x="5184720" y="907920"/>
            <a:ext cx="3468600" cy="1033560"/>
            <a:chOff x="5184720" y="907920"/>
            <a:chExt cx="3468600" cy="1033560"/>
          </a:xfrm>
        </p:grpSpPr>
        <p:sp>
          <p:nvSpPr>
            <p:cNvPr id="2745" name="TextBox 38"/>
            <p:cNvSpPr/>
            <p:nvPr/>
          </p:nvSpPr>
          <p:spPr>
            <a:xfrm>
              <a:off x="5184720" y="90792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20 Email Accou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6" name="TextBox 40"/>
            <p:cNvSpPr/>
            <p:nvPr/>
          </p:nvSpPr>
          <p:spPr>
            <a:xfrm>
              <a:off x="5184720" y="130140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100GB Spa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7" name="TextBox 42"/>
            <p:cNvSpPr/>
            <p:nvPr/>
          </p:nvSpPr>
          <p:spPr>
            <a:xfrm>
              <a:off x="5184720" y="169524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1 Domain Nam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8" name="TextBox 44"/>
            <p:cNvSpPr/>
            <p:nvPr/>
          </p:nvSpPr>
          <p:spPr>
            <a:xfrm>
              <a:off x="7005960" y="90792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Unlimited Copi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9" name="TextBox 46"/>
            <p:cNvSpPr/>
            <p:nvPr/>
          </p:nvSpPr>
          <p:spPr>
            <a:xfrm>
              <a:off x="7005960" y="169524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Free Shipp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0" name="TextBox 47"/>
            <p:cNvSpPr/>
            <p:nvPr/>
          </p:nvSpPr>
          <p:spPr>
            <a:xfrm>
              <a:off x="7005960" y="130140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Light &amp; Dark Them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1" name="Rectangle: Rounded Corners 50"/>
          <p:cNvSpPr/>
          <p:nvPr/>
        </p:nvSpPr>
        <p:spPr>
          <a:xfrm flipH="1">
            <a:off x="9350280" y="1192320"/>
            <a:ext cx="1648080" cy="465120"/>
          </a:xfrm>
          <a:prstGeom prst="roundRect">
            <a:avLst>
              <a:gd name="adj" fmla="val 6810"/>
            </a:avLst>
          </a:prstGeom>
          <a:solidFill>
            <a:srgbClr val="ffffff"/>
          </a:solidFill>
          <a:ln w="1260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Questrial"/>
              </a:rPr>
              <a:t>BUY N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2" name="Group 53"/>
          <p:cNvGrpSpPr/>
          <p:nvPr/>
        </p:nvGrpSpPr>
        <p:grpSpPr>
          <a:xfrm>
            <a:off x="5184720" y="2913120"/>
            <a:ext cx="3468600" cy="1032120"/>
            <a:chOff x="5184720" y="2913120"/>
            <a:chExt cx="3468600" cy="1032120"/>
          </a:xfrm>
        </p:grpSpPr>
        <p:sp>
          <p:nvSpPr>
            <p:cNvPr id="2753" name="TextBox 54"/>
            <p:cNvSpPr/>
            <p:nvPr/>
          </p:nvSpPr>
          <p:spPr>
            <a:xfrm>
              <a:off x="5184720" y="291312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2f2f2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2f2f2"/>
                  </a:solidFill>
                  <a:latin typeface="Questrial"/>
                  <a:ea typeface="Poppins"/>
                </a:rPr>
                <a:t>20 Email Accou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4" name="TextBox 55"/>
            <p:cNvSpPr/>
            <p:nvPr/>
          </p:nvSpPr>
          <p:spPr>
            <a:xfrm>
              <a:off x="5184720" y="330588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2f2f2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2f2f2"/>
                  </a:solidFill>
                  <a:latin typeface="Questrial"/>
                  <a:ea typeface="Poppins"/>
                </a:rPr>
                <a:t>200GB Spa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5" name="TextBox 56"/>
            <p:cNvSpPr/>
            <p:nvPr/>
          </p:nvSpPr>
          <p:spPr>
            <a:xfrm>
              <a:off x="5184720" y="369900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2f2f2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2f2f2"/>
                  </a:solidFill>
                  <a:latin typeface="Questrial"/>
                  <a:ea typeface="Poppins"/>
                </a:rPr>
                <a:t>5 Domain Nam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6" name="TextBox 57"/>
            <p:cNvSpPr/>
            <p:nvPr/>
          </p:nvSpPr>
          <p:spPr>
            <a:xfrm>
              <a:off x="7005960" y="291312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2f2f2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2f2f2"/>
                  </a:solidFill>
                  <a:latin typeface="Questrial"/>
                  <a:ea typeface="Poppins"/>
                </a:rPr>
                <a:t>Unlimited Copi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7" name="TextBox 58"/>
            <p:cNvSpPr/>
            <p:nvPr/>
          </p:nvSpPr>
          <p:spPr>
            <a:xfrm>
              <a:off x="7005960" y="369900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2f2f2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2f2f2"/>
                  </a:solidFill>
                  <a:latin typeface="Questrial"/>
                  <a:ea typeface="Poppins"/>
                </a:rPr>
                <a:t>Free Shipp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8" name="TextBox 59"/>
            <p:cNvSpPr/>
            <p:nvPr/>
          </p:nvSpPr>
          <p:spPr>
            <a:xfrm>
              <a:off x="7005960" y="330588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2f2f2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2f2f2"/>
                  </a:solidFill>
                  <a:latin typeface="Questrial"/>
                  <a:ea typeface="Poppins"/>
                </a:rPr>
                <a:t>Light &amp; Dark Them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9" name="Rectangle: Rounded Corners 61"/>
          <p:cNvSpPr/>
          <p:nvPr/>
        </p:nvSpPr>
        <p:spPr>
          <a:xfrm flipH="1">
            <a:off x="9321120" y="3197160"/>
            <a:ext cx="1647720" cy="463680"/>
          </a:xfrm>
          <a:prstGeom prst="roundRect">
            <a:avLst>
              <a:gd name="adj" fmla="val 681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Questrial"/>
              </a:rPr>
              <a:t>BUY N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0" name="Group 63"/>
          <p:cNvGrpSpPr/>
          <p:nvPr/>
        </p:nvGrpSpPr>
        <p:grpSpPr>
          <a:xfrm>
            <a:off x="5184720" y="4916520"/>
            <a:ext cx="3468600" cy="1033560"/>
            <a:chOff x="5184720" y="4916520"/>
            <a:chExt cx="3468600" cy="1033560"/>
          </a:xfrm>
        </p:grpSpPr>
        <p:sp>
          <p:nvSpPr>
            <p:cNvPr id="2761" name="TextBox 64"/>
            <p:cNvSpPr/>
            <p:nvPr/>
          </p:nvSpPr>
          <p:spPr>
            <a:xfrm>
              <a:off x="5184720" y="491652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20 Email Accou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2" name="TextBox 65"/>
            <p:cNvSpPr/>
            <p:nvPr/>
          </p:nvSpPr>
          <p:spPr>
            <a:xfrm>
              <a:off x="5184720" y="531000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500GB Spa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3" name="TextBox 66"/>
            <p:cNvSpPr/>
            <p:nvPr/>
          </p:nvSpPr>
          <p:spPr>
            <a:xfrm>
              <a:off x="5184720" y="570384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20 Domain Nam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4" name="TextBox 67"/>
            <p:cNvSpPr/>
            <p:nvPr/>
          </p:nvSpPr>
          <p:spPr>
            <a:xfrm>
              <a:off x="7005960" y="491652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Unlimited Copi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5" name="TextBox 68"/>
            <p:cNvSpPr/>
            <p:nvPr/>
          </p:nvSpPr>
          <p:spPr>
            <a:xfrm>
              <a:off x="7005960" y="570384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Free Shipp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6" name="TextBox 69"/>
            <p:cNvSpPr/>
            <p:nvPr/>
          </p:nvSpPr>
          <p:spPr>
            <a:xfrm>
              <a:off x="7005960" y="5310000"/>
              <a:ext cx="16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7f7f7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Questrial"/>
                  <a:ea typeface="Poppins"/>
                </a:rPr>
                <a:t>Light &amp; Dark Them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7" name="Rectangle: Rounded Corners 70"/>
          <p:cNvSpPr/>
          <p:nvPr/>
        </p:nvSpPr>
        <p:spPr>
          <a:xfrm flipH="1">
            <a:off x="9350280" y="5200560"/>
            <a:ext cx="1648080" cy="465120"/>
          </a:xfrm>
          <a:prstGeom prst="roundRect">
            <a:avLst>
              <a:gd name="adj" fmla="val 6810"/>
            </a:avLst>
          </a:prstGeom>
          <a:solidFill>
            <a:srgbClr val="ffffff"/>
          </a:solidFill>
          <a:ln w="12600">
            <a:solidFill>
              <a:srgbClr val="d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Questrial"/>
              </a:rPr>
              <a:t>BUY N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TextBox 1"/>
          <p:cNvSpPr/>
          <p:nvPr/>
        </p:nvSpPr>
        <p:spPr>
          <a:xfrm>
            <a:off x="1685880" y="86364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TextBox 15"/>
          <p:cNvSpPr/>
          <p:nvPr/>
        </p:nvSpPr>
        <p:spPr>
          <a:xfrm>
            <a:off x="7610400" y="2259000"/>
            <a:ext cx="19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Create New Ide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TextBox 16"/>
          <p:cNvSpPr/>
          <p:nvPr/>
        </p:nvSpPr>
        <p:spPr>
          <a:xfrm>
            <a:off x="6678720" y="2527200"/>
            <a:ext cx="3827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e synopsis incoe proposition grow the is holistic workplace diversit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1" name="Group 168" descr=""/>
          <p:cNvPicPr/>
          <p:nvPr/>
        </p:nvPicPr>
        <p:blipFill>
          <a:blip r:embed="rId1"/>
          <a:stretch/>
        </p:blipFill>
        <p:spPr>
          <a:xfrm>
            <a:off x="8491680" y="1914480"/>
            <a:ext cx="201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772" name="Graphic 1"/>
          <p:cNvGrpSpPr/>
          <p:nvPr/>
        </p:nvGrpSpPr>
        <p:grpSpPr>
          <a:xfrm>
            <a:off x="6375240" y="3419640"/>
            <a:ext cx="4434120" cy="2574720"/>
            <a:chOff x="6375240" y="3419640"/>
            <a:chExt cx="4434120" cy="2574720"/>
          </a:xfrm>
        </p:grpSpPr>
        <p:sp>
          <p:nvSpPr>
            <p:cNvPr id="2773" name="Freeform: Shape 4"/>
            <p:cNvSpPr/>
            <p:nvPr/>
          </p:nvSpPr>
          <p:spPr>
            <a:xfrm>
              <a:off x="6791040" y="3419640"/>
              <a:ext cx="3602520" cy="2448360"/>
            </a:xfrm>
            <a:custGeom>
              <a:avLst/>
              <a:gdLst/>
              <a:ahLst/>
              <a:rect l="l" t="t" r="r" b="b"/>
              <a:pathLst>
                <a:path w="4290059" h="2915602">
                  <a:moveTo>
                    <a:pt x="4213860" y="2915603"/>
                  </a:moveTo>
                  <a:lnTo>
                    <a:pt x="77152" y="2915603"/>
                  </a:lnTo>
                  <a:cubicBezTo>
                    <a:pt x="34290" y="2915603"/>
                    <a:pt x="0" y="2881313"/>
                    <a:pt x="0" y="2838450"/>
                  </a:cubicBezTo>
                  <a:lnTo>
                    <a:pt x="0" y="146685"/>
                  </a:lnTo>
                  <a:cubicBezTo>
                    <a:pt x="0" y="65723"/>
                    <a:pt x="65723" y="0"/>
                    <a:pt x="146685" y="0"/>
                  </a:cubicBezTo>
                  <a:lnTo>
                    <a:pt x="4143375" y="0"/>
                  </a:lnTo>
                  <a:cubicBezTo>
                    <a:pt x="4224338" y="0"/>
                    <a:pt x="4290060" y="65723"/>
                    <a:pt x="4290060" y="146685"/>
                  </a:cubicBezTo>
                  <a:lnTo>
                    <a:pt x="4290060" y="2838450"/>
                  </a:lnTo>
                  <a:cubicBezTo>
                    <a:pt x="4290060" y="2880360"/>
                    <a:pt x="4255770" y="2915603"/>
                    <a:pt x="4213860" y="2915603"/>
                  </a:cubicBezTo>
                  <a:close/>
                </a:path>
              </a:pathLst>
            </a:custGeom>
            <a:solidFill>
              <a:srgbClr val="dfe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4" name="Freeform: Shape 5"/>
            <p:cNvSpPr/>
            <p:nvPr/>
          </p:nvSpPr>
          <p:spPr>
            <a:xfrm>
              <a:off x="6375240" y="5868000"/>
              <a:ext cx="4434120" cy="83880"/>
            </a:xfrm>
            <a:custGeom>
              <a:avLst/>
              <a:gdLst/>
              <a:ahLst/>
              <a:rect l="l" t="t" r="r" b="b"/>
              <a:pathLst>
                <a:path w="5280660" h="100012">
                  <a:moveTo>
                    <a:pt x="0" y="0"/>
                  </a:moveTo>
                  <a:lnTo>
                    <a:pt x="5280660" y="0"/>
                  </a:lnTo>
                  <a:lnTo>
                    <a:pt x="5280660" y="100013"/>
                  </a:lnTo>
                  <a:lnTo>
                    <a:pt x="0" y="1000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5" name="Freeform: Shape 6"/>
            <p:cNvSpPr/>
            <p:nvPr/>
          </p:nvSpPr>
          <p:spPr>
            <a:xfrm>
              <a:off x="6375240" y="5952240"/>
              <a:ext cx="4434120" cy="42120"/>
            </a:xfrm>
            <a:custGeom>
              <a:avLst/>
              <a:gdLst/>
              <a:ahLst/>
              <a:rect l="l" t="t" r="r" b="b"/>
              <a:pathLst>
                <a:path w="5280660" h="50482">
                  <a:moveTo>
                    <a:pt x="2659380" y="0"/>
                  </a:moveTo>
                  <a:lnTo>
                    <a:pt x="2621280" y="0"/>
                  </a:lnTo>
                  <a:lnTo>
                    <a:pt x="0" y="0"/>
                  </a:lnTo>
                  <a:lnTo>
                    <a:pt x="56198" y="27622"/>
                  </a:lnTo>
                  <a:cubicBezTo>
                    <a:pt x="86678" y="42863"/>
                    <a:pt x="119063" y="50482"/>
                    <a:pt x="152400" y="50482"/>
                  </a:cubicBezTo>
                  <a:lnTo>
                    <a:pt x="2621280" y="50482"/>
                  </a:lnTo>
                  <a:lnTo>
                    <a:pt x="2659380" y="50482"/>
                  </a:lnTo>
                  <a:lnTo>
                    <a:pt x="5128260" y="50482"/>
                  </a:lnTo>
                  <a:cubicBezTo>
                    <a:pt x="5161598" y="50482"/>
                    <a:pt x="5194935" y="42863"/>
                    <a:pt x="5224463" y="27622"/>
                  </a:cubicBezTo>
                  <a:lnTo>
                    <a:pt x="5280660" y="0"/>
                  </a:lnTo>
                  <a:lnTo>
                    <a:pt x="2659380" y="0"/>
                  </a:lnTo>
                  <a:close/>
                </a:path>
              </a:pathLst>
            </a:custGeom>
            <a:solidFill>
              <a:srgbClr val="dfe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Freeform: Shape 7"/>
            <p:cNvSpPr/>
            <p:nvPr/>
          </p:nvSpPr>
          <p:spPr>
            <a:xfrm>
              <a:off x="8282880" y="5868000"/>
              <a:ext cx="620640" cy="41400"/>
            </a:xfrm>
            <a:custGeom>
              <a:avLst/>
              <a:gdLst/>
              <a:ahLst/>
              <a:rect l="l" t="t" r="r" b="b"/>
              <a:pathLst>
                <a:path w="739140" h="49529">
                  <a:moveTo>
                    <a:pt x="0" y="0"/>
                  </a:moveTo>
                  <a:lnTo>
                    <a:pt x="21908" y="29528"/>
                  </a:lnTo>
                  <a:cubicBezTo>
                    <a:pt x="31433" y="41910"/>
                    <a:pt x="45720" y="49530"/>
                    <a:pt x="61913" y="49530"/>
                  </a:cubicBezTo>
                  <a:lnTo>
                    <a:pt x="668655" y="49530"/>
                  </a:lnTo>
                  <a:cubicBezTo>
                    <a:pt x="686753" y="49530"/>
                    <a:pt x="703897" y="41910"/>
                    <a:pt x="714375" y="29528"/>
                  </a:cubicBezTo>
                  <a:lnTo>
                    <a:pt x="7391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Freeform: Shape 8"/>
            <p:cNvSpPr/>
            <p:nvPr/>
          </p:nvSpPr>
          <p:spPr>
            <a:xfrm>
              <a:off x="10528920" y="5901840"/>
              <a:ext cx="127080" cy="15840"/>
            </a:xfrm>
            <a:custGeom>
              <a:avLst/>
              <a:gdLst/>
              <a:ahLst/>
              <a:rect l="l" t="t" r="r" b="b"/>
              <a:pathLst>
                <a:path w="151447" h="19050">
                  <a:moveTo>
                    <a:pt x="0" y="0"/>
                  </a:moveTo>
                  <a:lnTo>
                    <a:pt x="151448" y="0"/>
                  </a:lnTo>
                  <a:lnTo>
                    <a:pt x="151448" y="19050"/>
                  </a:lnTo>
                  <a:lnTo>
                    <a:pt x="0" y="190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78" name="TextBox 13"/>
          <p:cNvSpPr/>
          <p:nvPr/>
        </p:nvSpPr>
        <p:spPr>
          <a:xfrm>
            <a:off x="2619360" y="522144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Photoghraph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14"/>
          <p:cNvSpPr/>
          <p:nvPr/>
        </p:nvSpPr>
        <p:spPr>
          <a:xfrm>
            <a:off x="1644480" y="5489640"/>
            <a:ext cx="37562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e synopsis incoe proposition grow the is holistic workplace diversit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0" name="Group 172" descr=""/>
          <p:cNvPicPr/>
          <p:nvPr/>
        </p:nvPicPr>
        <p:blipFill>
          <a:blip r:embed="rId2"/>
          <a:stretch/>
        </p:blipFill>
        <p:spPr>
          <a:xfrm>
            <a:off x="3456000" y="4900680"/>
            <a:ext cx="287280" cy="237960"/>
          </a:xfrm>
          <a:prstGeom prst="rect">
            <a:avLst/>
          </a:prstGeom>
          <a:ln w="0">
            <a:noFill/>
          </a:ln>
        </p:spPr>
      </p:pic>
      <p:grpSp>
        <p:nvGrpSpPr>
          <p:cNvPr id="2781" name="Graphic 1"/>
          <p:cNvGrpSpPr/>
          <p:nvPr/>
        </p:nvGrpSpPr>
        <p:grpSpPr>
          <a:xfrm>
            <a:off x="1382760" y="1917720"/>
            <a:ext cx="4433760" cy="2575080"/>
            <a:chOff x="1382760" y="1917720"/>
            <a:chExt cx="4433760" cy="2575080"/>
          </a:xfrm>
        </p:grpSpPr>
        <p:sp>
          <p:nvSpPr>
            <p:cNvPr id="2782" name="Freeform: Shape 27"/>
            <p:cNvSpPr/>
            <p:nvPr/>
          </p:nvSpPr>
          <p:spPr>
            <a:xfrm>
              <a:off x="1798560" y="1917720"/>
              <a:ext cx="3602160" cy="2448720"/>
            </a:xfrm>
            <a:custGeom>
              <a:avLst/>
              <a:gdLst/>
              <a:ahLst/>
              <a:rect l="l" t="t" r="r" b="b"/>
              <a:pathLst>
                <a:path w="4290059" h="2915602">
                  <a:moveTo>
                    <a:pt x="4213860" y="2915603"/>
                  </a:moveTo>
                  <a:lnTo>
                    <a:pt x="77152" y="2915603"/>
                  </a:lnTo>
                  <a:cubicBezTo>
                    <a:pt x="34290" y="2915603"/>
                    <a:pt x="0" y="2881313"/>
                    <a:pt x="0" y="2838450"/>
                  </a:cubicBezTo>
                  <a:lnTo>
                    <a:pt x="0" y="146685"/>
                  </a:lnTo>
                  <a:cubicBezTo>
                    <a:pt x="0" y="65723"/>
                    <a:pt x="65723" y="0"/>
                    <a:pt x="146685" y="0"/>
                  </a:cubicBezTo>
                  <a:lnTo>
                    <a:pt x="4143375" y="0"/>
                  </a:lnTo>
                  <a:cubicBezTo>
                    <a:pt x="4224338" y="0"/>
                    <a:pt x="4290060" y="65723"/>
                    <a:pt x="4290060" y="146685"/>
                  </a:cubicBezTo>
                  <a:lnTo>
                    <a:pt x="4290060" y="2838450"/>
                  </a:lnTo>
                  <a:cubicBezTo>
                    <a:pt x="4290060" y="2880360"/>
                    <a:pt x="4255770" y="2915603"/>
                    <a:pt x="4213860" y="2915603"/>
                  </a:cubicBezTo>
                  <a:close/>
                </a:path>
              </a:pathLst>
            </a:custGeom>
            <a:solidFill>
              <a:srgbClr val="dfe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Freeform: Shape 28"/>
            <p:cNvSpPr/>
            <p:nvPr/>
          </p:nvSpPr>
          <p:spPr>
            <a:xfrm>
              <a:off x="1382760" y="4366440"/>
              <a:ext cx="4433760" cy="83880"/>
            </a:xfrm>
            <a:custGeom>
              <a:avLst/>
              <a:gdLst/>
              <a:ahLst/>
              <a:rect l="l" t="t" r="r" b="b"/>
              <a:pathLst>
                <a:path w="5280660" h="100012">
                  <a:moveTo>
                    <a:pt x="0" y="0"/>
                  </a:moveTo>
                  <a:lnTo>
                    <a:pt x="5280660" y="0"/>
                  </a:lnTo>
                  <a:lnTo>
                    <a:pt x="5280660" y="100013"/>
                  </a:lnTo>
                  <a:lnTo>
                    <a:pt x="0" y="1000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Freeform: Shape 29"/>
            <p:cNvSpPr/>
            <p:nvPr/>
          </p:nvSpPr>
          <p:spPr>
            <a:xfrm>
              <a:off x="1382760" y="4450680"/>
              <a:ext cx="4433760" cy="42120"/>
            </a:xfrm>
            <a:custGeom>
              <a:avLst/>
              <a:gdLst/>
              <a:ahLst/>
              <a:rect l="l" t="t" r="r" b="b"/>
              <a:pathLst>
                <a:path w="5280660" h="50482">
                  <a:moveTo>
                    <a:pt x="2659380" y="0"/>
                  </a:moveTo>
                  <a:lnTo>
                    <a:pt x="2621280" y="0"/>
                  </a:lnTo>
                  <a:lnTo>
                    <a:pt x="0" y="0"/>
                  </a:lnTo>
                  <a:lnTo>
                    <a:pt x="56198" y="27622"/>
                  </a:lnTo>
                  <a:cubicBezTo>
                    <a:pt x="86678" y="42863"/>
                    <a:pt x="119063" y="50482"/>
                    <a:pt x="152400" y="50482"/>
                  </a:cubicBezTo>
                  <a:lnTo>
                    <a:pt x="2621280" y="50482"/>
                  </a:lnTo>
                  <a:lnTo>
                    <a:pt x="2659380" y="50482"/>
                  </a:lnTo>
                  <a:lnTo>
                    <a:pt x="5128260" y="50482"/>
                  </a:lnTo>
                  <a:cubicBezTo>
                    <a:pt x="5161598" y="50482"/>
                    <a:pt x="5194935" y="42863"/>
                    <a:pt x="5224463" y="27622"/>
                  </a:cubicBezTo>
                  <a:lnTo>
                    <a:pt x="5280660" y="0"/>
                  </a:lnTo>
                  <a:lnTo>
                    <a:pt x="2659380" y="0"/>
                  </a:lnTo>
                  <a:close/>
                </a:path>
              </a:pathLst>
            </a:custGeom>
            <a:solidFill>
              <a:srgbClr val="dfe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Freeform: Shape 30"/>
            <p:cNvSpPr/>
            <p:nvPr/>
          </p:nvSpPr>
          <p:spPr>
            <a:xfrm>
              <a:off x="3290040" y="4366440"/>
              <a:ext cx="620640" cy="41400"/>
            </a:xfrm>
            <a:custGeom>
              <a:avLst/>
              <a:gdLst/>
              <a:ahLst/>
              <a:rect l="l" t="t" r="r" b="b"/>
              <a:pathLst>
                <a:path w="739140" h="49529">
                  <a:moveTo>
                    <a:pt x="0" y="0"/>
                  </a:moveTo>
                  <a:lnTo>
                    <a:pt x="21908" y="29528"/>
                  </a:lnTo>
                  <a:cubicBezTo>
                    <a:pt x="31433" y="41910"/>
                    <a:pt x="45720" y="49530"/>
                    <a:pt x="61913" y="49530"/>
                  </a:cubicBezTo>
                  <a:lnTo>
                    <a:pt x="668655" y="49530"/>
                  </a:lnTo>
                  <a:cubicBezTo>
                    <a:pt x="686753" y="49530"/>
                    <a:pt x="703897" y="41910"/>
                    <a:pt x="714375" y="29528"/>
                  </a:cubicBezTo>
                  <a:lnTo>
                    <a:pt x="7391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Freeform: Shape 31"/>
            <p:cNvSpPr/>
            <p:nvPr/>
          </p:nvSpPr>
          <p:spPr>
            <a:xfrm>
              <a:off x="5536080" y="4400280"/>
              <a:ext cx="127080" cy="15840"/>
            </a:xfrm>
            <a:custGeom>
              <a:avLst/>
              <a:gdLst/>
              <a:ahLst/>
              <a:rect l="l" t="t" r="r" b="b"/>
              <a:pathLst>
                <a:path w="151447" h="19050">
                  <a:moveTo>
                    <a:pt x="0" y="0"/>
                  </a:moveTo>
                  <a:lnTo>
                    <a:pt x="151448" y="0"/>
                  </a:lnTo>
                  <a:lnTo>
                    <a:pt x="151448" y="19050"/>
                  </a:lnTo>
                  <a:lnTo>
                    <a:pt x="0" y="190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7" name="Graphic 1"/>
          <p:cNvGrpSpPr/>
          <p:nvPr/>
        </p:nvGrpSpPr>
        <p:grpSpPr>
          <a:xfrm>
            <a:off x="5187960" y="1612800"/>
            <a:ext cx="6545160" cy="3800520"/>
            <a:chOff x="5187960" y="1612800"/>
            <a:chExt cx="6545160" cy="3800520"/>
          </a:xfrm>
        </p:grpSpPr>
        <p:sp>
          <p:nvSpPr>
            <p:cNvPr id="2788" name="Freeform: Shape 9"/>
            <p:cNvSpPr/>
            <p:nvPr/>
          </p:nvSpPr>
          <p:spPr>
            <a:xfrm>
              <a:off x="5801760" y="1612800"/>
              <a:ext cx="5317560" cy="3614040"/>
            </a:xfrm>
            <a:custGeom>
              <a:avLst/>
              <a:gdLst/>
              <a:ahLst/>
              <a:rect l="l" t="t" r="r" b="b"/>
              <a:pathLst>
                <a:path w="4290059" h="2915602">
                  <a:moveTo>
                    <a:pt x="4213860" y="2915603"/>
                  </a:moveTo>
                  <a:lnTo>
                    <a:pt x="77152" y="2915603"/>
                  </a:lnTo>
                  <a:cubicBezTo>
                    <a:pt x="34290" y="2915603"/>
                    <a:pt x="0" y="2881313"/>
                    <a:pt x="0" y="2838450"/>
                  </a:cubicBezTo>
                  <a:lnTo>
                    <a:pt x="0" y="146685"/>
                  </a:lnTo>
                  <a:cubicBezTo>
                    <a:pt x="0" y="65723"/>
                    <a:pt x="65723" y="0"/>
                    <a:pt x="146685" y="0"/>
                  </a:cubicBezTo>
                  <a:lnTo>
                    <a:pt x="4143375" y="0"/>
                  </a:lnTo>
                  <a:cubicBezTo>
                    <a:pt x="4224338" y="0"/>
                    <a:pt x="4290060" y="65723"/>
                    <a:pt x="4290060" y="146685"/>
                  </a:cubicBezTo>
                  <a:lnTo>
                    <a:pt x="4290060" y="2838450"/>
                  </a:lnTo>
                  <a:cubicBezTo>
                    <a:pt x="4290060" y="2880360"/>
                    <a:pt x="4255770" y="2915603"/>
                    <a:pt x="4213860" y="2915603"/>
                  </a:cubicBezTo>
                  <a:close/>
                </a:path>
              </a:pathLst>
            </a:custGeom>
            <a:solidFill>
              <a:srgbClr val="dfe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Freeform: Shape 10"/>
            <p:cNvSpPr/>
            <p:nvPr/>
          </p:nvSpPr>
          <p:spPr>
            <a:xfrm>
              <a:off x="5187960" y="5226840"/>
              <a:ext cx="6545160" cy="123840"/>
            </a:xfrm>
            <a:custGeom>
              <a:avLst/>
              <a:gdLst/>
              <a:ahLst/>
              <a:rect l="l" t="t" r="r" b="b"/>
              <a:pathLst>
                <a:path w="5280660" h="100012">
                  <a:moveTo>
                    <a:pt x="0" y="0"/>
                  </a:moveTo>
                  <a:lnTo>
                    <a:pt x="5280660" y="0"/>
                  </a:lnTo>
                  <a:lnTo>
                    <a:pt x="5280660" y="100013"/>
                  </a:lnTo>
                  <a:lnTo>
                    <a:pt x="0" y="1000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Freeform: Shape 11"/>
            <p:cNvSpPr/>
            <p:nvPr/>
          </p:nvSpPr>
          <p:spPr>
            <a:xfrm>
              <a:off x="5187960" y="5351040"/>
              <a:ext cx="6545160" cy="62280"/>
            </a:xfrm>
            <a:custGeom>
              <a:avLst/>
              <a:gdLst/>
              <a:ahLst/>
              <a:rect l="l" t="t" r="r" b="b"/>
              <a:pathLst>
                <a:path w="5280660" h="50482">
                  <a:moveTo>
                    <a:pt x="2659380" y="0"/>
                  </a:moveTo>
                  <a:lnTo>
                    <a:pt x="2621280" y="0"/>
                  </a:lnTo>
                  <a:lnTo>
                    <a:pt x="0" y="0"/>
                  </a:lnTo>
                  <a:lnTo>
                    <a:pt x="56198" y="27622"/>
                  </a:lnTo>
                  <a:cubicBezTo>
                    <a:pt x="86678" y="42863"/>
                    <a:pt x="119063" y="50482"/>
                    <a:pt x="152400" y="50482"/>
                  </a:cubicBezTo>
                  <a:lnTo>
                    <a:pt x="2621280" y="50482"/>
                  </a:lnTo>
                  <a:lnTo>
                    <a:pt x="2659380" y="50482"/>
                  </a:lnTo>
                  <a:lnTo>
                    <a:pt x="5128260" y="50482"/>
                  </a:lnTo>
                  <a:cubicBezTo>
                    <a:pt x="5161598" y="50482"/>
                    <a:pt x="5194935" y="42863"/>
                    <a:pt x="5224463" y="27622"/>
                  </a:cubicBezTo>
                  <a:lnTo>
                    <a:pt x="5280660" y="0"/>
                  </a:lnTo>
                  <a:lnTo>
                    <a:pt x="2659380" y="0"/>
                  </a:lnTo>
                  <a:close/>
                </a:path>
              </a:pathLst>
            </a:custGeom>
            <a:solidFill>
              <a:srgbClr val="dfe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Freeform: Shape 12"/>
            <p:cNvSpPr/>
            <p:nvPr/>
          </p:nvSpPr>
          <p:spPr>
            <a:xfrm>
              <a:off x="8003520" y="5226840"/>
              <a:ext cx="915840" cy="61200"/>
            </a:xfrm>
            <a:custGeom>
              <a:avLst/>
              <a:gdLst/>
              <a:ahLst/>
              <a:rect l="l" t="t" r="r" b="b"/>
              <a:pathLst>
                <a:path w="739140" h="49529">
                  <a:moveTo>
                    <a:pt x="0" y="0"/>
                  </a:moveTo>
                  <a:lnTo>
                    <a:pt x="21908" y="29528"/>
                  </a:lnTo>
                  <a:cubicBezTo>
                    <a:pt x="31433" y="41910"/>
                    <a:pt x="45720" y="49530"/>
                    <a:pt x="61913" y="49530"/>
                  </a:cubicBezTo>
                  <a:lnTo>
                    <a:pt x="668655" y="49530"/>
                  </a:lnTo>
                  <a:cubicBezTo>
                    <a:pt x="686753" y="49530"/>
                    <a:pt x="703897" y="41910"/>
                    <a:pt x="714375" y="29528"/>
                  </a:cubicBezTo>
                  <a:lnTo>
                    <a:pt x="7391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Freeform: Shape 13"/>
            <p:cNvSpPr/>
            <p:nvPr/>
          </p:nvSpPr>
          <p:spPr>
            <a:xfrm>
              <a:off x="11318760" y="5276520"/>
              <a:ext cx="187560" cy="23400"/>
            </a:xfrm>
            <a:custGeom>
              <a:avLst/>
              <a:gdLst/>
              <a:ahLst/>
              <a:rect l="l" t="t" r="r" b="b"/>
              <a:pathLst>
                <a:path w="151447" h="19050">
                  <a:moveTo>
                    <a:pt x="0" y="0"/>
                  </a:moveTo>
                  <a:lnTo>
                    <a:pt x="151448" y="0"/>
                  </a:lnTo>
                  <a:lnTo>
                    <a:pt x="151448" y="19050"/>
                  </a:lnTo>
                  <a:lnTo>
                    <a:pt x="0" y="190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3" name="Group 15"/>
          <p:cNvGrpSpPr/>
          <p:nvPr/>
        </p:nvGrpSpPr>
        <p:grpSpPr>
          <a:xfrm>
            <a:off x="698400" y="1459080"/>
            <a:ext cx="4327560" cy="1732320"/>
            <a:chOff x="698400" y="1459080"/>
            <a:chExt cx="4327560" cy="1732320"/>
          </a:xfrm>
        </p:grpSpPr>
        <p:sp>
          <p:nvSpPr>
            <p:cNvPr id="2794" name="TextBox 16"/>
            <p:cNvSpPr/>
            <p:nvPr/>
          </p:nvSpPr>
          <p:spPr>
            <a:xfrm>
              <a:off x="698400" y="1772280"/>
              <a:ext cx="42346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Questrial"/>
                </a:rPr>
                <a:t>Minimalism as a lifestyle is an art of letting go.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TextBox 17"/>
            <p:cNvSpPr/>
            <p:nvPr/>
          </p:nvSpPr>
          <p:spPr>
            <a:xfrm>
              <a:off x="698400" y="1459080"/>
              <a:ext cx="432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Questrial"/>
                </a:rPr>
                <a:t>Device Mockup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Straight Connector 18"/>
            <p:cNvSpPr/>
            <p:nvPr/>
          </p:nvSpPr>
          <p:spPr>
            <a:xfrm flipH="1">
              <a:off x="2103120" y="1612800"/>
              <a:ext cx="758880" cy="0"/>
            </a:xfrm>
            <a:prstGeom prst="line">
              <a:avLst/>
            </a:prstGeom>
            <a:ln w="25560">
              <a:solidFill>
                <a:srgbClr val="af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7" name="TextBox 38"/>
          <p:cNvSpPr/>
          <p:nvPr/>
        </p:nvSpPr>
        <p:spPr>
          <a:xfrm>
            <a:off x="712800" y="4629240"/>
            <a:ext cx="423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s synopsis for high level overviews iterative approaches to corporate strategy foster holistic world view via workplace company industries diversit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8" name="Group 56"/>
          <p:cNvGrpSpPr/>
          <p:nvPr/>
        </p:nvGrpSpPr>
        <p:grpSpPr>
          <a:xfrm>
            <a:off x="817560" y="3100320"/>
            <a:ext cx="3941640" cy="1184400"/>
            <a:chOff x="817560" y="3100320"/>
            <a:chExt cx="3941640" cy="1184400"/>
          </a:xfrm>
        </p:grpSpPr>
        <p:grpSp>
          <p:nvGrpSpPr>
            <p:cNvPr id="2799" name="Group 51"/>
            <p:cNvGrpSpPr/>
            <p:nvPr/>
          </p:nvGrpSpPr>
          <p:grpSpPr>
            <a:xfrm>
              <a:off x="817560" y="3100320"/>
              <a:ext cx="1184040" cy="1184400"/>
              <a:chOff x="817560" y="3100320"/>
              <a:chExt cx="1184040" cy="1184400"/>
            </a:xfrm>
          </p:grpSpPr>
          <p:grpSp>
            <p:nvGrpSpPr>
              <p:cNvPr id="2800" name="Group 20"/>
              <p:cNvGrpSpPr/>
              <p:nvPr/>
            </p:nvGrpSpPr>
            <p:grpSpPr>
              <a:xfrm>
                <a:off x="817560" y="3100320"/>
                <a:ext cx="1184040" cy="1184400"/>
                <a:chOff x="817560" y="3100320"/>
                <a:chExt cx="1184040" cy="1184400"/>
              </a:xfrm>
            </p:grpSpPr>
            <p:sp>
              <p:nvSpPr>
                <p:cNvPr id="2801" name="Oval 23"/>
                <p:cNvSpPr/>
                <p:nvPr/>
              </p:nvSpPr>
              <p:spPr>
                <a:xfrm>
                  <a:off x="817560" y="3100320"/>
                  <a:ext cx="1184040" cy="1184400"/>
                </a:xfrm>
                <a:prstGeom prst="ellipse">
                  <a:avLst/>
                </a:prstGeom>
                <a:noFill/>
                <a:ln w="38160">
                  <a:solidFill>
                    <a:srgbClr val="a6a6a6">
                      <a:alpha val="2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2" name="Arc 24"/>
                <p:cNvSpPr/>
                <p:nvPr/>
              </p:nvSpPr>
              <p:spPr>
                <a:xfrm>
                  <a:off x="817560" y="3100320"/>
                  <a:ext cx="1184040" cy="1184400"/>
                </a:xfrm>
                <a:custGeom>
                  <a:avLst/>
                  <a:gdLst/>
                  <a:ahLst/>
                  <a:rect l="l" t="t" r="r" b="b"/>
                  <a:pathLst>
                    <a:path stroke="0" w="862307" h="862304">
                      <a:moveTo>
                        <a:pt x="862063" y="416649"/>
                      </a:moveTo>
                      <a:cubicBezTo>
                        <a:pt x="867939" y="591215"/>
                        <a:pt x="767913" y="752079"/>
                        <a:pt x="608754" y="824027"/>
                      </a:cubicBezTo>
                      <a:cubicBezTo>
                        <a:pt x="449596" y="895975"/>
                        <a:pt x="262755" y="864791"/>
                        <a:pt x="135589" y="745056"/>
                      </a:cubicBezTo>
                      <a:cubicBezTo>
                        <a:pt x="8422" y="625320"/>
                        <a:pt x="-33940" y="440691"/>
                        <a:pt x="28309" y="277495"/>
                      </a:cubicBezTo>
                      <a:cubicBezTo>
                        <a:pt x="90558" y="114300"/>
                        <a:pt x="245117" y="4784"/>
                        <a:pt x="419720" y="152"/>
                      </a:cubicBezTo>
                      <a:lnTo>
                        <a:pt x="431154" y="431152"/>
                      </a:lnTo>
                      <a:lnTo>
                        <a:pt x="862063" y="416649"/>
                      </a:lnTo>
                      <a:close/>
                    </a:path>
                    <a:path fill="none" w="862307" h="862304">
                      <a:moveTo>
                        <a:pt x="862063" y="416649"/>
                      </a:moveTo>
                      <a:cubicBezTo>
                        <a:pt x="867939" y="591215"/>
                        <a:pt x="767913" y="752079"/>
                        <a:pt x="608754" y="824027"/>
                      </a:cubicBezTo>
                      <a:cubicBezTo>
                        <a:pt x="449596" y="895975"/>
                        <a:pt x="262755" y="864791"/>
                        <a:pt x="135589" y="745056"/>
                      </a:cubicBezTo>
                      <a:cubicBezTo>
                        <a:pt x="8422" y="625320"/>
                        <a:pt x="-33940" y="440691"/>
                        <a:pt x="28309" y="277495"/>
                      </a:cubicBezTo>
                      <a:cubicBezTo>
                        <a:pt x="90558" y="114300"/>
                        <a:pt x="245117" y="4784"/>
                        <a:pt x="419720" y="152"/>
                      </a:cubicBezTo>
                    </a:path>
                  </a:pathLst>
                </a:custGeom>
                <a:noFill/>
                <a:ln cap="rnd" w="381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03" name="Group 43"/>
              <p:cNvGrpSpPr/>
              <p:nvPr/>
            </p:nvGrpSpPr>
            <p:grpSpPr>
              <a:xfrm>
                <a:off x="846360" y="3349800"/>
                <a:ext cx="1126440" cy="684720"/>
                <a:chOff x="846360" y="3349800"/>
                <a:chExt cx="1126440" cy="684720"/>
              </a:xfrm>
            </p:grpSpPr>
            <p:sp>
              <p:nvSpPr>
                <p:cNvPr id="2804" name="TextBox 21"/>
                <p:cNvSpPr/>
                <p:nvPr/>
              </p:nvSpPr>
              <p:spPr>
                <a:xfrm>
                  <a:off x="978120" y="3349800"/>
                  <a:ext cx="86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Questrial"/>
                      <a:ea typeface="Poppins SemiBold"/>
                    </a:rPr>
                    <a:t>75%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5" name="TextBox 22"/>
                <p:cNvSpPr/>
                <p:nvPr/>
              </p:nvSpPr>
              <p:spPr>
                <a:xfrm>
                  <a:off x="846360" y="3773160"/>
                  <a:ext cx="11264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95959"/>
                      </a:solidFill>
                      <a:latin typeface="Questrial"/>
                    </a:rPr>
                    <a:t>Statistic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806" name="Group 50"/>
            <p:cNvGrpSpPr/>
            <p:nvPr/>
          </p:nvGrpSpPr>
          <p:grpSpPr>
            <a:xfrm>
              <a:off x="2196360" y="3100320"/>
              <a:ext cx="1184040" cy="1184400"/>
              <a:chOff x="2196360" y="3100320"/>
              <a:chExt cx="1184040" cy="1184400"/>
            </a:xfrm>
          </p:grpSpPr>
          <p:grpSp>
            <p:nvGrpSpPr>
              <p:cNvPr id="2807" name="Group 26"/>
              <p:cNvGrpSpPr/>
              <p:nvPr/>
            </p:nvGrpSpPr>
            <p:grpSpPr>
              <a:xfrm>
                <a:off x="2196360" y="3100320"/>
                <a:ext cx="1184040" cy="1184400"/>
                <a:chOff x="2196360" y="3100320"/>
                <a:chExt cx="1184040" cy="1184400"/>
              </a:xfrm>
            </p:grpSpPr>
            <p:sp>
              <p:nvSpPr>
                <p:cNvPr id="2808" name="Oval 29"/>
                <p:cNvSpPr/>
                <p:nvPr/>
              </p:nvSpPr>
              <p:spPr>
                <a:xfrm>
                  <a:off x="2196360" y="3100320"/>
                  <a:ext cx="1184040" cy="1184400"/>
                </a:xfrm>
                <a:prstGeom prst="ellipse">
                  <a:avLst/>
                </a:prstGeom>
                <a:noFill/>
                <a:ln w="38160">
                  <a:solidFill>
                    <a:srgbClr val="a6a6a6">
                      <a:alpha val="2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9" name="Arc 30"/>
                <p:cNvSpPr/>
                <p:nvPr/>
              </p:nvSpPr>
              <p:spPr>
                <a:xfrm>
                  <a:off x="2196360" y="3100320"/>
                  <a:ext cx="1184040" cy="1184400"/>
                </a:xfrm>
                <a:custGeom>
                  <a:avLst/>
                  <a:gdLst/>
                  <a:ahLst/>
                  <a:rect l="l" t="t" r="r" b="b"/>
                  <a:pathLst>
                    <a:path stroke="0" w="862307" h="862304">
                      <a:moveTo>
                        <a:pt x="401539" y="861286"/>
                      </a:moveTo>
                      <a:cubicBezTo>
                        <a:pt x="171943" y="845479"/>
                        <a:pt x="-4763" y="652137"/>
                        <a:pt x="96" y="422051"/>
                      </a:cubicBezTo>
                      <a:cubicBezTo>
                        <a:pt x="4954" y="191964"/>
                        <a:pt x="189663" y="6254"/>
                        <a:pt x="419721" y="152"/>
                      </a:cubicBezTo>
                      <a:lnTo>
                        <a:pt x="431154" y="431152"/>
                      </a:lnTo>
                      <a:lnTo>
                        <a:pt x="401539" y="861286"/>
                      </a:lnTo>
                      <a:close/>
                    </a:path>
                    <a:path fill="none" w="862307" h="862304">
                      <a:moveTo>
                        <a:pt x="401539" y="861286"/>
                      </a:moveTo>
                      <a:cubicBezTo>
                        <a:pt x="171943" y="845479"/>
                        <a:pt x="-4763" y="652137"/>
                        <a:pt x="96" y="422051"/>
                      </a:cubicBezTo>
                      <a:cubicBezTo>
                        <a:pt x="4954" y="191964"/>
                        <a:pt x="189663" y="6254"/>
                        <a:pt x="419721" y="152"/>
                      </a:cubicBezTo>
                    </a:path>
                  </a:pathLst>
                </a:custGeom>
                <a:noFill/>
                <a:ln cap="rnd" w="381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0" name="Group 42"/>
              <p:cNvGrpSpPr/>
              <p:nvPr/>
            </p:nvGrpSpPr>
            <p:grpSpPr>
              <a:xfrm>
                <a:off x="2225160" y="3350520"/>
                <a:ext cx="1126440" cy="683640"/>
                <a:chOff x="2225160" y="3350520"/>
                <a:chExt cx="1126440" cy="683640"/>
              </a:xfrm>
            </p:grpSpPr>
            <p:sp>
              <p:nvSpPr>
                <p:cNvPr id="2811" name="TextBox 27"/>
                <p:cNvSpPr/>
                <p:nvPr/>
              </p:nvSpPr>
              <p:spPr>
                <a:xfrm>
                  <a:off x="2356920" y="3350520"/>
                  <a:ext cx="86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Questrial"/>
                      <a:ea typeface="Poppins SemiBold"/>
                    </a:rPr>
                    <a:t>50%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12" name="TextBox 28"/>
                <p:cNvSpPr/>
                <p:nvPr/>
              </p:nvSpPr>
              <p:spPr>
                <a:xfrm>
                  <a:off x="2225160" y="3772800"/>
                  <a:ext cx="11264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95959"/>
                      </a:solidFill>
                      <a:latin typeface="Questrial"/>
                    </a:rPr>
                    <a:t>Statistic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813" name="Group 52"/>
            <p:cNvGrpSpPr/>
            <p:nvPr/>
          </p:nvGrpSpPr>
          <p:grpSpPr>
            <a:xfrm>
              <a:off x="3575160" y="3100320"/>
              <a:ext cx="1184040" cy="1184400"/>
              <a:chOff x="3575160" y="3100320"/>
              <a:chExt cx="1184040" cy="1184400"/>
            </a:xfrm>
          </p:grpSpPr>
          <p:grpSp>
            <p:nvGrpSpPr>
              <p:cNvPr id="2814" name="Group 44"/>
              <p:cNvGrpSpPr/>
              <p:nvPr/>
            </p:nvGrpSpPr>
            <p:grpSpPr>
              <a:xfrm>
                <a:off x="3575160" y="3100320"/>
                <a:ext cx="1184040" cy="1184400"/>
                <a:chOff x="3575160" y="3100320"/>
                <a:chExt cx="1184040" cy="1184400"/>
              </a:xfrm>
            </p:grpSpPr>
            <p:sp>
              <p:nvSpPr>
                <p:cNvPr id="2815" name="Oval 45"/>
                <p:cNvSpPr/>
                <p:nvPr/>
              </p:nvSpPr>
              <p:spPr>
                <a:xfrm>
                  <a:off x="3575160" y="3100320"/>
                  <a:ext cx="1184040" cy="1184400"/>
                </a:xfrm>
                <a:prstGeom prst="ellipse">
                  <a:avLst/>
                </a:prstGeom>
                <a:noFill/>
                <a:ln w="38160">
                  <a:solidFill>
                    <a:srgbClr val="a6a6a6">
                      <a:alpha val="2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16" name="Arc 46"/>
                <p:cNvSpPr/>
                <p:nvPr/>
              </p:nvSpPr>
              <p:spPr>
                <a:xfrm>
                  <a:off x="3575160" y="3100320"/>
                  <a:ext cx="1184040" cy="1184400"/>
                </a:xfrm>
                <a:custGeom>
                  <a:avLst/>
                  <a:gdLst/>
                  <a:ahLst/>
                  <a:rect l="l" t="t" r="r" b="b"/>
                  <a:pathLst>
                    <a:path stroke="0" w="862307" h="862304">
                      <a:moveTo>
                        <a:pt x="642369" y="55279"/>
                      </a:moveTo>
                      <a:cubicBezTo>
                        <a:pt x="830463" y="160974"/>
                        <a:pt x="911470" y="389433"/>
                        <a:pt x="831975" y="590010"/>
                      </a:cubicBezTo>
                      <a:cubicBezTo>
                        <a:pt x="752480" y="790586"/>
                        <a:pt x="536961" y="901521"/>
                        <a:pt x="327529" y="849666"/>
                      </a:cubicBezTo>
                      <a:cubicBezTo>
                        <a:pt x="118097" y="797811"/>
                        <a:pt x="-20762" y="599131"/>
                        <a:pt x="2516" y="384635"/>
                      </a:cubicBezTo>
                      <a:cubicBezTo>
                        <a:pt x="25794" y="170139"/>
                        <a:pt x="204040" y="5873"/>
                        <a:pt x="419721" y="152"/>
                      </a:cubicBezTo>
                      <a:lnTo>
                        <a:pt x="431154" y="431152"/>
                      </a:lnTo>
                      <a:lnTo>
                        <a:pt x="642369" y="55279"/>
                      </a:lnTo>
                      <a:close/>
                    </a:path>
                    <a:path fill="none" w="862307" h="862304">
                      <a:moveTo>
                        <a:pt x="642369" y="55279"/>
                      </a:moveTo>
                      <a:cubicBezTo>
                        <a:pt x="830463" y="160974"/>
                        <a:pt x="911470" y="389433"/>
                        <a:pt x="831975" y="590010"/>
                      </a:cubicBezTo>
                      <a:cubicBezTo>
                        <a:pt x="752480" y="790586"/>
                        <a:pt x="536961" y="901521"/>
                        <a:pt x="327529" y="849666"/>
                      </a:cubicBezTo>
                      <a:cubicBezTo>
                        <a:pt x="118097" y="797811"/>
                        <a:pt x="-20762" y="599131"/>
                        <a:pt x="2516" y="384635"/>
                      </a:cubicBezTo>
                      <a:cubicBezTo>
                        <a:pt x="25794" y="170139"/>
                        <a:pt x="204040" y="5873"/>
                        <a:pt x="419721" y="152"/>
                      </a:cubicBezTo>
                    </a:path>
                  </a:pathLst>
                </a:custGeom>
                <a:noFill/>
                <a:ln cap="rnd" w="381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7" name="Group 47"/>
              <p:cNvGrpSpPr/>
              <p:nvPr/>
            </p:nvGrpSpPr>
            <p:grpSpPr>
              <a:xfrm>
                <a:off x="3603960" y="3350520"/>
                <a:ext cx="1126440" cy="683640"/>
                <a:chOff x="3603960" y="3350520"/>
                <a:chExt cx="1126440" cy="683640"/>
              </a:xfrm>
            </p:grpSpPr>
            <p:sp>
              <p:nvSpPr>
                <p:cNvPr id="2818" name="TextBox 48"/>
                <p:cNvSpPr/>
                <p:nvPr/>
              </p:nvSpPr>
              <p:spPr>
                <a:xfrm>
                  <a:off x="3735720" y="3350520"/>
                  <a:ext cx="86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Questrial"/>
                      <a:ea typeface="Poppins SemiBold"/>
                    </a:rPr>
                    <a:t>90%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19" name="TextBox 49"/>
                <p:cNvSpPr/>
                <p:nvPr/>
              </p:nvSpPr>
              <p:spPr>
                <a:xfrm>
                  <a:off x="3603960" y="3772800"/>
                  <a:ext cx="11264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95959"/>
                      </a:solidFill>
                      <a:latin typeface="Questrial"/>
                    </a:rPr>
                    <a:t>Statistic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Rectangle 102"/>
          <p:cNvSpPr/>
          <p:nvPr/>
        </p:nvSpPr>
        <p:spPr>
          <a:xfrm>
            <a:off x="7810560" y="0"/>
            <a:ext cx="438156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Rectangle: Rounded Corners 3"/>
          <p:cNvSpPr/>
          <p:nvPr/>
        </p:nvSpPr>
        <p:spPr>
          <a:xfrm>
            <a:off x="6657840" y="977760"/>
            <a:ext cx="2357640" cy="4902480"/>
          </a:xfrm>
          <a:custGeom>
            <a:avLst/>
            <a:gdLst>
              <a:gd name="textAreaLeft" fmla="*/ 95760 w 2357640"/>
              <a:gd name="textAreaRight" fmla="*/ 2261880 w 2357640"/>
              <a:gd name="textAreaTop" fmla="*/ 95760 h 4902480"/>
              <a:gd name="textAreaBottom" fmla="*/ 4806720 h 4902480"/>
            </a:gdLst>
            <a:ahLst/>
            <a:rect l="textAreaLeft" t="textAreaTop" r="textAreaRight" b="textAreaBottom"/>
            <a:pathLst>
              <a:path w="21600" h="44912">
                <a:moveTo>
                  <a:pt x="2996" y="0"/>
                </a:moveTo>
                <a:arcTo wR="2996" hR="2996" stAng="16200000" swAng="-5400000"/>
                <a:lnTo>
                  <a:pt x="0" y="41916"/>
                </a:lnTo>
                <a:arcTo wR="2996" hR="2996" stAng="10800000" swAng="-5400000"/>
                <a:lnTo>
                  <a:pt x="18604" y="44912"/>
                </a:lnTo>
                <a:arcTo wR="2996" hR="2996" stAng="5400000" swAng="-5400000"/>
                <a:lnTo>
                  <a:pt x="21600" y="2996"/>
                </a:lnTo>
                <a:arcTo wR="2996" hR="2996" stAng="0" swAng="-5400000"/>
                <a:close/>
              </a:path>
            </a:pathLst>
          </a:custGeom>
          <a:solidFill>
            <a:srgbClr val="f7fbfb"/>
          </a:solidFill>
          <a:ln w="0">
            <a:noFill/>
          </a:ln>
          <a:effectLst>
            <a:outerShdw dist="380819" dir="8100000" blurRad="0" rotWithShape="0">
              <a:srgbClr val="1c2225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2" name="Group 115"/>
          <p:cNvGrpSpPr/>
          <p:nvPr/>
        </p:nvGrpSpPr>
        <p:grpSpPr>
          <a:xfrm>
            <a:off x="9767880" y="1557360"/>
            <a:ext cx="1593720" cy="3742920"/>
            <a:chOff x="9767880" y="1557360"/>
            <a:chExt cx="1593720" cy="3742920"/>
          </a:xfrm>
        </p:grpSpPr>
        <p:grpSp>
          <p:nvGrpSpPr>
            <p:cNvPr id="2823" name="Group 103"/>
            <p:cNvGrpSpPr/>
            <p:nvPr/>
          </p:nvGrpSpPr>
          <p:grpSpPr>
            <a:xfrm>
              <a:off x="9767880" y="1557360"/>
              <a:ext cx="1593720" cy="1640520"/>
              <a:chOff x="9767880" y="1557360"/>
              <a:chExt cx="1593720" cy="1640520"/>
            </a:xfrm>
          </p:grpSpPr>
          <p:grpSp>
            <p:nvGrpSpPr>
              <p:cNvPr id="2824" name="Group 104"/>
              <p:cNvGrpSpPr/>
              <p:nvPr/>
            </p:nvGrpSpPr>
            <p:grpSpPr>
              <a:xfrm>
                <a:off x="9978120" y="1557360"/>
                <a:ext cx="1172880" cy="1173960"/>
                <a:chOff x="9978120" y="1557360"/>
                <a:chExt cx="1172880" cy="1173960"/>
              </a:xfrm>
            </p:grpSpPr>
            <p:sp>
              <p:nvSpPr>
                <p:cNvPr id="2825" name="Oval 107"/>
                <p:cNvSpPr/>
                <p:nvPr/>
              </p:nvSpPr>
              <p:spPr>
                <a:xfrm>
                  <a:off x="9978120" y="1557360"/>
                  <a:ext cx="1172880" cy="1173960"/>
                </a:xfrm>
                <a:prstGeom prst="ellipse">
                  <a:avLst/>
                </a:prstGeom>
                <a:noFill/>
                <a:ln w="38160">
                  <a:solidFill>
                    <a:srgbClr val="a6a6a6">
                      <a:alpha val="2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6" name="Arc 108"/>
                <p:cNvSpPr/>
                <p:nvPr/>
              </p:nvSpPr>
              <p:spPr>
                <a:xfrm>
                  <a:off x="9978120" y="1557360"/>
                  <a:ext cx="1172880" cy="1173960"/>
                </a:xfrm>
                <a:custGeom>
                  <a:avLst/>
                  <a:gdLst/>
                  <a:ahLst/>
                  <a:rect l="l" t="t" r="r" b="b"/>
                  <a:pathLst>
                    <a:path stroke="0" w="862307" h="862304">
                      <a:moveTo>
                        <a:pt x="862063" y="416649"/>
                      </a:moveTo>
                      <a:cubicBezTo>
                        <a:pt x="867939" y="591215"/>
                        <a:pt x="767913" y="752079"/>
                        <a:pt x="608754" y="824027"/>
                      </a:cubicBezTo>
                      <a:cubicBezTo>
                        <a:pt x="449596" y="895975"/>
                        <a:pt x="262755" y="864791"/>
                        <a:pt x="135589" y="745056"/>
                      </a:cubicBezTo>
                      <a:cubicBezTo>
                        <a:pt x="8422" y="625320"/>
                        <a:pt x="-33940" y="440691"/>
                        <a:pt x="28309" y="277495"/>
                      </a:cubicBezTo>
                      <a:cubicBezTo>
                        <a:pt x="90558" y="114300"/>
                        <a:pt x="245117" y="4784"/>
                        <a:pt x="419720" y="152"/>
                      </a:cubicBezTo>
                      <a:lnTo>
                        <a:pt x="431154" y="431152"/>
                      </a:lnTo>
                      <a:lnTo>
                        <a:pt x="862063" y="416649"/>
                      </a:lnTo>
                      <a:close/>
                    </a:path>
                    <a:path fill="none" w="862307" h="862304">
                      <a:moveTo>
                        <a:pt x="862063" y="416649"/>
                      </a:moveTo>
                      <a:cubicBezTo>
                        <a:pt x="867939" y="591215"/>
                        <a:pt x="767913" y="752079"/>
                        <a:pt x="608754" y="824027"/>
                      </a:cubicBezTo>
                      <a:cubicBezTo>
                        <a:pt x="449596" y="895975"/>
                        <a:pt x="262755" y="864791"/>
                        <a:pt x="135589" y="745056"/>
                      </a:cubicBezTo>
                      <a:cubicBezTo>
                        <a:pt x="8422" y="625320"/>
                        <a:pt x="-33940" y="440691"/>
                        <a:pt x="28309" y="277495"/>
                      </a:cubicBezTo>
                      <a:cubicBezTo>
                        <a:pt x="90558" y="114300"/>
                        <a:pt x="245117" y="4784"/>
                        <a:pt x="419720" y="152"/>
                      </a:cubicBezTo>
                    </a:path>
                  </a:pathLst>
                </a:custGeom>
                <a:noFill/>
                <a:ln cap="rnd" w="381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827" name="TextBox 105"/>
              <p:cNvSpPr/>
              <p:nvPr/>
            </p:nvSpPr>
            <p:spPr>
              <a:xfrm>
                <a:off x="10133640" y="1913400"/>
                <a:ext cx="86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Questrial"/>
                    <a:ea typeface="Poppins SemiBold"/>
                  </a:rPr>
                  <a:t>75%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8" name="TextBox 106"/>
              <p:cNvSpPr/>
              <p:nvPr/>
            </p:nvSpPr>
            <p:spPr>
              <a:xfrm>
                <a:off x="9767880" y="2921400"/>
                <a:ext cx="1593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Questrial"/>
                  </a:rPr>
                  <a:t>Statistic On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29" name="Group 109"/>
            <p:cNvGrpSpPr/>
            <p:nvPr/>
          </p:nvGrpSpPr>
          <p:grpSpPr>
            <a:xfrm>
              <a:off x="9767880" y="3660840"/>
              <a:ext cx="1593720" cy="1639440"/>
              <a:chOff x="9767880" y="3660840"/>
              <a:chExt cx="1593720" cy="1639440"/>
            </a:xfrm>
          </p:grpSpPr>
          <p:grpSp>
            <p:nvGrpSpPr>
              <p:cNvPr id="2830" name="Group 110"/>
              <p:cNvGrpSpPr/>
              <p:nvPr/>
            </p:nvGrpSpPr>
            <p:grpSpPr>
              <a:xfrm>
                <a:off x="9978120" y="3660840"/>
                <a:ext cx="1172880" cy="1173600"/>
                <a:chOff x="9978120" y="3660840"/>
                <a:chExt cx="1172880" cy="1173600"/>
              </a:xfrm>
            </p:grpSpPr>
            <p:sp>
              <p:nvSpPr>
                <p:cNvPr id="2831" name="Oval 113"/>
                <p:cNvSpPr/>
                <p:nvPr/>
              </p:nvSpPr>
              <p:spPr>
                <a:xfrm>
                  <a:off x="9978120" y="3660840"/>
                  <a:ext cx="1172880" cy="1173600"/>
                </a:xfrm>
                <a:prstGeom prst="ellipse">
                  <a:avLst/>
                </a:prstGeom>
                <a:noFill/>
                <a:ln w="38160">
                  <a:solidFill>
                    <a:srgbClr val="a6a6a6">
                      <a:alpha val="2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2" name="Arc 114"/>
                <p:cNvSpPr/>
                <p:nvPr/>
              </p:nvSpPr>
              <p:spPr>
                <a:xfrm>
                  <a:off x="9978120" y="3660840"/>
                  <a:ext cx="1172880" cy="1173600"/>
                </a:xfrm>
                <a:custGeom>
                  <a:avLst/>
                  <a:gdLst/>
                  <a:ahLst/>
                  <a:rect l="l" t="t" r="r" b="b"/>
                  <a:pathLst>
                    <a:path stroke="0" w="862307" h="862304">
                      <a:moveTo>
                        <a:pt x="401539" y="861286"/>
                      </a:moveTo>
                      <a:cubicBezTo>
                        <a:pt x="171943" y="845479"/>
                        <a:pt x="-4763" y="652137"/>
                        <a:pt x="96" y="422051"/>
                      </a:cubicBezTo>
                      <a:cubicBezTo>
                        <a:pt x="4954" y="191964"/>
                        <a:pt x="189663" y="6254"/>
                        <a:pt x="419721" y="152"/>
                      </a:cubicBezTo>
                      <a:lnTo>
                        <a:pt x="431154" y="431152"/>
                      </a:lnTo>
                      <a:lnTo>
                        <a:pt x="401539" y="861286"/>
                      </a:lnTo>
                      <a:close/>
                    </a:path>
                    <a:path fill="none" w="862307" h="862304">
                      <a:moveTo>
                        <a:pt x="401539" y="861286"/>
                      </a:moveTo>
                      <a:cubicBezTo>
                        <a:pt x="171943" y="845479"/>
                        <a:pt x="-4763" y="652137"/>
                        <a:pt x="96" y="422051"/>
                      </a:cubicBezTo>
                      <a:cubicBezTo>
                        <a:pt x="4954" y="191964"/>
                        <a:pt x="189663" y="6254"/>
                        <a:pt x="419721" y="152"/>
                      </a:cubicBezTo>
                    </a:path>
                  </a:pathLst>
                </a:custGeom>
                <a:noFill/>
                <a:ln cap="rnd" w="381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833" name="TextBox 111"/>
              <p:cNvSpPr/>
              <p:nvPr/>
            </p:nvSpPr>
            <p:spPr>
              <a:xfrm>
                <a:off x="10133640" y="4016880"/>
                <a:ext cx="86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Questrial"/>
                    <a:ea typeface="Poppins SemiBold"/>
                  </a:rPr>
                  <a:t>50%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4" name="TextBox 112"/>
              <p:cNvSpPr/>
              <p:nvPr/>
            </p:nvSpPr>
            <p:spPr>
              <a:xfrm>
                <a:off x="9767880" y="5023800"/>
                <a:ext cx="1593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Questrial"/>
                  </a:rPr>
                  <a:t>Statistic Two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35" name="TextBox 11"/>
          <p:cNvSpPr/>
          <p:nvPr/>
        </p:nvSpPr>
        <p:spPr>
          <a:xfrm>
            <a:off x="1395360" y="1725480"/>
            <a:ext cx="3699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Questrial"/>
              </a:rPr>
              <a:t>Download The Mimin Mobile App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TextBox 117"/>
          <p:cNvSpPr/>
          <p:nvPr/>
        </p:nvSpPr>
        <p:spPr>
          <a:xfrm>
            <a:off x="1395360" y="3798720"/>
            <a:ext cx="36990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s synopsis for high level overviews iterative approaches to corporate strategy foster collaborative thinking to further the value proposition grow the is holistic world view via workplace company industries diversit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Rectangle: Rounded Corners 131"/>
          <p:cNvSpPr/>
          <p:nvPr/>
        </p:nvSpPr>
        <p:spPr>
          <a:xfrm>
            <a:off x="1495440" y="3382920"/>
            <a:ext cx="3444840" cy="76320"/>
          </a:xfrm>
          <a:prstGeom prst="roundRect">
            <a:avLst>
              <a:gd name="adj" fmla="val 50000"/>
            </a:avLst>
          </a:prstGeom>
          <a:solidFill>
            <a:srgbClr val="bfbfb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Rectangle: Rounded Corners 133"/>
          <p:cNvSpPr/>
          <p:nvPr/>
        </p:nvSpPr>
        <p:spPr>
          <a:xfrm>
            <a:off x="1495440" y="3382920"/>
            <a:ext cx="2779560" cy="763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TextBox 135"/>
          <p:cNvSpPr/>
          <p:nvPr/>
        </p:nvSpPr>
        <p:spPr>
          <a:xfrm>
            <a:off x="1419120" y="30812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Roboto"/>
                <a:ea typeface="Roboto"/>
              </a:rPr>
              <a:t>Your 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TextBox 137"/>
          <p:cNvSpPr/>
          <p:nvPr/>
        </p:nvSpPr>
        <p:spPr>
          <a:xfrm>
            <a:off x="4275000" y="3081240"/>
            <a:ext cx="7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boto"/>
                <a:ea typeface="Roboto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Rectangle 41"/>
          <p:cNvSpPr/>
          <p:nvPr/>
        </p:nvSpPr>
        <p:spPr>
          <a:xfrm>
            <a:off x="0" y="0"/>
            <a:ext cx="12192120" cy="4324320"/>
          </a:xfrm>
          <a:prstGeom prst="rect">
            <a:avLst/>
          </a:prstGeom>
          <a:solidFill>
            <a:srgbClr val="f7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TextBox 21"/>
          <p:cNvSpPr/>
          <p:nvPr/>
        </p:nvSpPr>
        <p:spPr>
          <a:xfrm>
            <a:off x="1685880" y="67320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Minimalism as a lifestyle is an art of letting 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3" name="Group 39"/>
          <p:cNvGrpSpPr/>
          <p:nvPr/>
        </p:nvGrpSpPr>
        <p:grpSpPr>
          <a:xfrm>
            <a:off x="2089080" y="1700280"/>
            <a:ext cx="8013600" cy="1606680"/>
            <a:chOff x="2089080" y="1700280"/>
            <a:chExt cx="8013600" cy="1606680"/>
          </a:xfrm>
        </p:grpSpPr>
        <p:grpSp>
          <p:nvGrpSpPr>
            <p:cNvPr id="2844" name="Group 22"/>
            <p:cNvGrpSpPr/>
            <p:nvPr/>
          </p:nvGrpSpPr>
          <p:grpSpPr>
            <a:xfrm>
              <a:off x="7575120" y="2121480"/>
              <a:ext cx="2527560" cy="1185480"/>
              <a:chOff x="7575120" y="2121480"/>
              <a:chExt cx="2527560" cy="1185480"/>
            </a:xfrm>
          </p:grpSpPr>
          <p:sp>
            <p:nvSpPr>
              <p:cNvPr id="2845" name="TextBox 23"/>
              <p:cNvSpPr/>
              <p:nvPr/>
            </p:nvSpPr>
            <p:spPr>
              <a:xfrm>
                <a:off x="7575120" y="2121480"/>
                <a:ext cx="252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Questrial"/>
                  </a:rPr>
                  <a:t>Growth Busines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6" name="TextBox 24"/>
              <p:cNvSpPr/>
              <p:nvPr/>
            </p:nvSpPr>
            <p:spPr>
              <a:xfrm>
                <a:off x="7575120" y="2460240"/>
                <a:ext cx="252756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Leverage agile frameworks to provide grow the holistic world view.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47" name="Group 25"/>
            <p:cNvGrpSpPr/>
            <p:nvPr/>
          </p:nvGrpSpPr>
          <p:grpSpPr>
            <a:xfrm>
              <a:off x="2089080" y="2121480"/>
              <a:ext cx="2527560" cy="1185480"/>
              <a:chOff x="2089080" y="2121480"/>
              <a:chExt cx="2527560" cy="1185480"/>
            </a:xfrm>
          </p:grpSpPr>
          <p:sp>
            <p:nvSpPr>
              <p:cNvPr id="2848" name="TextBox 26"/>
              <p:cNvSpPr/>
              <p:nvPr/>
            </p:nvSpPr>
            <p:spPr>
              <a:xfrm>
                <a:off x="2089080" y="2121480"/>
                <a:ext cx="252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Questrial"/>
                  </a:rPr>
                  <a:t>Full Custom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9" name="TextBox 27"/>
              <p:cNvSpPr/>
              <p:nvPr/>
            </p:nvSpPr>
            <p:spPr>
              <a:xfrm>
                <a:off x="2089080" y="2460240"/>
                <a:ext cx="252756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Leverage agile frameworks to provide grow the holistic world view.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0" name="Group 28"/>
            <p:cNvGrpSpPr/>
            <p:nvPr/>
          </p:nvGrpSpPr>
          <p:grpSpPr>
            <a:xfrm>
              <a:off x="4831920" y="2121480"/>
              <a:ext cx="2527560" cy="1185480"/>
              <a:chOff x="4831920" y="2121480"/>
              <a:chExt cx="2527560" cy="1185480"/>
            </a:xfrm>
          </p:grpSpPr>
          <p:sp>
            <p:nvSpPr>
              <p:cNvPr id="2851" name="TextBox 29"/>
              <p:cNvSpPr/>
              <p:nvPr/>
            </p:nvSpPr>
            <p:spPr>
              <a:xfrm>
                <a:off x="4831920" y="2121480"/>
                <a:ext cx="252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Questrial"/>
                  </a:rPr>
                  <a:t>Full Suppor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2" name="TextBox 30"/>
              <p:cNvSpPr/>
              <p:nvPr/>
            </p:nvSpPr>
            <p:spPr>
              <a:xfrm>
                <a:off x="4831920" y="2460240"/>
                <a:ext cx="252756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Roboto Light"/>
                    <a:ea typeface="Roboto Light"/>
                  </a:rPr>
                  <a:t>Leverage agile frameworks to provide grow the holistic world view.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53" name="Freeform 90"/>
            <p:cNvSpPr/>
            <p:nvPr/>
          </p:nvSpPr>
          <p:spPr>
            <a:xfrm>
              <a:off x="5952600" y="1700280"/>
              <a:ext cx="286200" cy="2862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96" y="0"/>
                  </a:moveTo>
                  <a:cubicBezTo>
                    <a:pt x="88" y="0"/>
                    <a:pt x="82" y="5"/>
                    <a:pt x="77" y="14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1" y="26"/>
                    <a:pt x="61" y="34"/>
                    <a:pt x="51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7" y="34"/>
                    <a:pt x="0" y="43"/>
                    <a:pt x="0" y="54"/>
                  </a:cubicBezTo>
                  <a:cubicBezTo>
                    <a:pt x="0" y="64"/>
                    <a:pt x="7" y="73"/>
                    <a:pt x="15" y="73"/>
                  </a:cubicBezTo>
                  <a:cubicBezTo>
                    <a:pt x="20" y="73"/>
                    <a:pt x="23" y="76"/>
                    <a:pt x="23" y="80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23" y="119"/>
                    <a:pt x="26" y="123"/>
                    <a:pt x="31" y="123"/>
                  </a:cubicBezTo>
                  <a:cubicBezTo>
                    <a:pt x="46" y="123"/>
                    <a:pt x="46" y="123"/>
                    <a:pt x="46" y="123"/>
                  </a:cubicBezTo>
                  <a:cubicBezTo>
                    <a:pt x="50" y="123"/>
                    <a:pt x="54" y="119"/>
                    <a:pt x="54" y="115"/>
                  </a:cubicBezTo>
                  <a:cubicBezTo>
                    <a:pt x="54" y="111"/>
                    <a:pt x="54" y="111"/>
                    <a:pt x="54" y="111"/>
                  </a:cubicBezTo>
                  <a:cubicBezTo>
                    <a:pt x="54" y="107"/>
                    <a:pt x="50" y="106"/>
                    <a:pt x="50" y="103"/>
                  </a:cubicBezTo>
                  <a:cubicBezTo>
                    <a:pt x="50" y="77"/>
                    <a:pt x="50" y="77"/>
                    <a:pt x="50" y="77"/>
                  </a:cubicBezTo>
                  <a:cubicBezTo>
                    <a:pt x="50" y="76"/>
                    <a:pt x="50" y="76"/>
                    <a:pt x="50" y="76"/>
                  </a:cubicBezTo>
                  <a:cubicBezTo>
                    <a:pt x="50" y="76"/>
                    <a:pt x="50" y="75"/>
                    <a:pt x="50" y="75"/>
                  </a:cubicBezTo>
                  <a:cubicBezTo>
                    <a:pt x="50" y="75"/>
                    <a:pt x="51" y="75"/>
                    <a:pt x="51" y="74"/>
                  </a:cubicBezTo>
                  <a:cubicBezTo>
                    <a:pt x="51" y="74"/>
                    <a:pt x="51" y="74"/>
                    <a:pt x="52" y="73"/>
                  </a:cubicBezTo>
                  <a:cubicBezTo>
                    <a:pt x="52" y="73"/>
                    <a:pt x="52" y="73"/>
                    <a:pt x="52" y="73"/>
                  </a:cubicBezTo>
                  <a:cubicBezTo>
                    <a:pt x="52" y="73"/>
                    <a:pt x="52" y="73"/>
                    <a:pt x="52" y="73"/>
                  </a:cubicBezTo>
                  <a:cubicBezTo>
                    <a:pt x="52" y="73"/>
                    <a:pt x="53" y="73"/>
                    <a:pt x="53" y="73"/>
                  </a:cubicBezTo>
                  <a:cubicBezTo>
                    <a:pt x="63" y="74"/>
                    <a:pt x="71" y="82"/>
                    <a:pt x="77" y="94"/>
                  </a:cubicBezTo>
                  <a:cubicBezTo>
                    <a:pt x="77" y="94"/>
                    <a:pt x="77" y="94"/>
                    <a:pt x="77" y="94"/>
                  </a:cubicBezTo>
                  <a:cubicBezTo>
                    <a:pt x="82" y="102"/>
                    <a:pt x="88" y="107"/>
                    <a:pt x="96" y="107"/>
                  </a:cubicBezTo>
                  <a:cubicBezTo>
                    <a:pt x="114" y="107"/>
                    <a:pt x="123" y="80"/>
                    <a:pt x="123" y="54"/>
                  </a:cubicBezTo>
                  <a:cubicBezTo>
                    <a:pt x="123" y="27"/>
                    <a:pt x="114" y="0"/>
                    <a:pt x="96" y="0"/>
                  </a:cubicBezTo>
                  <a:close/>
                  <a:moveTo>
                    <a:pt x="77" y="54"/>
                  </a:moveTo>
                  <a:cubicBezTo>
                    <a:pt x="77" y="50"/>
                    <a:pt x="77" y="46"/>
                    <a:pt x="77" y="42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92" y="42"/>
                    <a:pt x="96" y="47"/>
                    <a:pt x="96" y="54"/>
                  </a:cubicBezTo>
                  <a:cubicBezTo>
                    <a:pt x="96" y="60"/>
                    <a:pt x="92" y="65"/>
                    <a:pt x="88" y="65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61"/>
                    <a:pt x="77" y="58"/>
                    <a:pt x="77" y="54"/>
                  </a:cubicBezTo>
                  <a:close/>
                  <a:moveTo>
                    <a:pt x="8" y="54"/>
                  </a:moveTo>
                  <a:cubicBezTo>
                    <a:pt x="8" y="47"/>
                    <a:pt x="11" y="42"/>
                    <a:pt x="15" y="42"/>
                  </a:cubicBezTo>
                  <a:cubicBezTo>
                    <a:pt x="42" y="42"/>
                    <a:pt x="42" y="42"/>
                    <a:pt x="42" y="42"/>
                  </a:cubicBezTo>
                  <a:cubicBezTo>
                    <a:pt x="40" y="45"/>
                    <a:pt x="38" y="49"/>
                    <a:pt x="38" y="54"/>
                  </a:cubicBezTo>
                  <a:cubicBezTo>
                    <a:pt x="38" y="58"/>
                    <a:pt x="40" y="62"/>
                    <a:pt x="42" y="65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1" y="65"/>
                    <a:pt x="8" y="60"/>
                    <a:pt x="8" y="54"/>
                  </a:cubicBezTo>
                  <a:close/>
                  <a:moveTo>
                    <a:pt x="46" y="115"/>
                  </a:moveTo>
                  <a:cubicBezTo>
                    <a:pt x="31" y="115"/>
                    <a:pt x="31" y="115"/>
                    <a:pt x="31" y="115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1" y="78"/>
                    <a:pt x="30" y="75"/>
                    <a:pt x="29" y="73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2" y="74"/>
                    <a:pt x="42" y="75"/>
                    <a:pt x="42" y="77"/>
                  </a:cubicBezTo>
                  <a:cubicBezTo>
                    <a:pt x="42" y="103"/>
                    <a:pt x="42" y="103"/>
                    <a:pt x="42" y="103"/>
                  </a:cubicBezTo>
                  <a:cubicBezTo>
                    <a:pt x="42" y="107"/>
                    <a:pt x="44" y="110"/>
                    <a:pt x="46" y="111"/>
                  </a:cubicBezTo>
                  <a:cubicBezTo>
                    <a:pt x="46" y="111"/>
                    <a:pt x="46" y="111"/>
                    <a:pt x="46" y="112"/>
                  </a:cubicBezTo>
                  <a:lnTo>
                    <a:pt x="46" y="115"/>
                  </a:lnTo>
                  <a:close/>
                  <a:moveTo>
                    <a:pt x="51" y="65"/>
                  </a:move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46" y="65"/>
                    <a:pt x="42" y="60"/>
                    <a:pt x="42" y="54"/>
                  </a:cubicBezTo>
                  <a:cubicBezTo>
                    <a:pt x="42" y="47"/>
                    <a:pt x="46" y="42"/>
                    <a:pt x="50" y="4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58" y="42"/>
                    <a:pt x="65" y="39"/>
                    <a:pt x="71" y="34"/>
                  </a:cubicBezTo>
                  <a:cubicBezTo>
                    <a:pt x="70" y="40"/>
                    <a:pt x="69" y="47"/>
                    <a:pt x="69" y="54"/>
                  </a:cubicBezTo>
                  <a:cubicBezTo>
                    <a:pt x="69" y="60"/>
                    <a:pt x="70" y="67"/>
                    <a:pt x="71" y="73"/>
                  </a:cubicBezTo>
                  <a:cubicBezTo>
                    <a:pt x="65" y="68"/>
                    <a:pt x="58" y="65"/>
                    <a:pt x="51" y="65"/>
                  </a:cubicBezTo>
                  <a:close/>
                  <a:moveTo>
                    <a:pt x="96" y="100"/>
                  </a:moveTo>
                  <a:cubicBezTo>
                    <a:pt x="88" y="100"/>
                    <a:pt x="82" y="89"/>
                    <a:pt x="79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97" y="73"/>
                    <a:pt x="104" y="64"/>
                    <a:pt x="104" y="54"/>
                  </a:cubicBezTo>
                  <a:cubicBezTo>
                    <a:pt x="104" y="43"/>
                    <a:pt x="97" y="34"/>
                    <a:pt x="88" y="34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2" y="19"/>
                    <a:pt x="88" y="8"/>
                    <a:pt x="96" y="8"/>
                  </a:cubicBezTo>
                  <a:cubicBezTo>
                    <a:pt x="107" y="8"/>
                    <a:pt x="115" y="28"/>
                    <a:pt x="115" y="54"/>
                  </a:cubicBezTo>
                  <a:cubicBezTo>
                    <a:pt x="115" y="79"/>
                    <a:pt x="107" y="100"/>
                    <a:pt x="96" y="100"/>
                  </a:cubicBezTo>
                  <a:close/>
                  <a:moveTo>
                    <a:pt x="96" y="100"/>
                  </a:moveTo>
                  <a:cubicBezTo>
                    <a:pt x="96" y="100"/>
                    <a:pt x="96" y="100"/>
                    <a:pt x="96" y="10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Freeform 53"/>
            <p:cNvSpPr/>
            <p:nvPr/>
          </p:nvSpPr>
          <p:spPr>
            <a:xfrm>
              <a:off x="8714520" y="1700280"/>
              <a:ext cx="248760" cy="28620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53" y="0"/>
                  </a:moveTo>
                  <a:cubicBezTo>
                    <a:pt x="27" y="0"/>
                    <a:pt x="0" y="8"/>
                    <a:pt x="0" y="2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15"/>
                    <a:pt x="27" y="123"/>
                    <a:pt x="53" y="123"/>
                  </a:cubicBezTo>
                  <a:cubicBezTo>
                    <a:pt x="79" y="123"/>
                    <a:pt x="107" y="115"/>
                    <a:pt x="107" y="98"/>
                  </a:cubicBezTo>
                  <a:cubicBezTo>
                    <a:pt x="107" y="25"/>
                    <a:pt x="107" y="25"/>
                    <a:pt x="107" y="25"/>
                  </a:cubicBezTo>
                  <a:cubicBezTo>
                    <a:pt x="107" y="8"/>
                    <a:pt x="79" y="0"/>
                    <a:pt x="53" y="0"/>
                  </a:cubicBezTo>
                  <a:close/>
                  <a:moveTo>
                    <a:pt x="99" y="98"/>
                  </a:moveTo>
                  <a:cubicBezTo>
                    <a:pt x="99" y="107"/>
                    <a:pt x="79" y="115"/>
                    <a:pt x="53" y="115"/>
                  </a:cubicBezTo>
                  <a:cubicBezTo>
                    <a:pt x="28" y="115"/>
                    <a:pt x="7" y="107"/>
                    <a:pt x="7" y="98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15" y="92"/>
                    <a:pt x="34" y="96"/>
                    <a:pt x="53" y="96"/>
                  </a:cubicBezTo>
                  <a:cubicBezTo>
                    <a:pt x="72" y="96"/>
                    <a:pt x="91" y="92"/>
                    <a:pt x="99" y="83"/>
                  </a:cubicBezTo>
                  <a:lnTo>
                    <a:pt x="99" y="98"/>
                  </a:lnTo>
                  <a:close/>
                  <a:moveTo>
                    <a:pt x="99" y="75"/>
                  </a:moveTo>
                  <a:cubicBezTo>
                    <a:pt x="99" y="75"/>
                    <a:pt x="99" y="75"/>
                    <a:pt x="99" y="75"/>
                  </a:cubicBezTo>
                  <a:cubicBezTo>
                    <a:pt x="99" y="75"/>
                    <a:pt x="99" y="75"/>
                    <a:pt x="99" y="75"/>
                  </a:cubicBezTo>
                  <a:cubicBezTo>
                    <a:pt x="99" y="84"/>
                    <a:pt x="79" y="92"/>
                    <a:pt x="53" y="92"/>
                  </a:cubicBezTo>
                  <a:cubicBezTo>
                    <a:pt x="28" y="92"/>
                    <a:pt x="7" y="84"/>
                    <a:pt x="7" y="75"/>
                  </a:cubicBezTo>
                  <a:cubicBezTo>
                    <a:pt x="7" y="75"/>
                    <a:pt x="7" y="75"/>
                    <a:pt x="7" y="75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15" y="69"/>
                    <a:pt x="34" y="73"/>
                    <a:pt x="53" y="73"/>
                  </a:cubicBezTo>
                  <a:cubicBezTo>
                    <a:pt x="72" y="73"/>
                    <a:pt x="91" y="69"/>
                    <a:pt x="99" y="60"/>
                  </a:cubicBezTo>
                  <a:lnTo>
                    <a:pt x="99" y="75"/>
                  </a:lnTo>
                  <a:close/>
                  <a:moveTo>
                    <a:pt x="99" y="52"/>
                  </a:moveTo>
                  <a:cubicBezTo>
                    <a:pt x="99" y="52"/>
                    <a:pt x="99" y="52"/>
                    <a:pt x="99" y="52"/>
                  </a:cubicBezTo>
                  <a:cubicBezTo>
                    <a:pt x="99" y="52"/>
                    <a:pt x="99" y="52"/>
                    <a:pt x="99" y="52"/>
                  </a:cubicBezTo>
                  <a:cubicBezTo>
                    <a:pt x="99" y="61"/>
                    <a:pt x="79" y="69"/>
                    <a:pt x="53" y="69"/>
                  </a:cubicBezTo>
                  <a:cubicBezTo>
                    <a:pt x="28" y="69"/>
                    <a:pt x="7" y="61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17" y="46"/>
                    <a:pt x="36" y="50"/>
                    <a:pt x="53" y="50"/>
                  </a:cubicBezTo>
                  <a:cubicBezTo>
                    <a:pt x="71" y="50"/>
                    <a:pt x="89" y="46"/>
                    <a:pt x="99" y="39"/>
                  </a:cubicBezTo>
                  <a:lnTo>
                    <a:pt x="99" y="52"/>
                  </a:lnTo>
                  <a:close/>
                  <a:moveTo>
                    <a:pt x="53" y="42"/>
                  </a:moveTo>
                  <a:cubicBezTo>
                    <a:pt x="28" y="42"/>
                    <a:pt x="7" y="34"/>
                    <a:pt x="7" y="25"/>
                  </a:cubicBezTo>
                  <a:cubicBezTo>
                    <a:pt x="7" y="15"/>
                    <a:pt x="28" y="8"/>
                    <a:pt x="53" y="8"/>
                  </a:cubicBezTo>
                  <a:cubicBezTo>
                    <a:pt x="79" y="8"/>
                    <a:pt x="99" y="15"/>
                    <a:pt x="99" y="25"/>
                  </a:cubicBezTo>
                  <a:cubicBezTo>
                    <a:pt x="99" y="34"/>
                    <a:pt x="79" y="42"/>
                    <a:pt x="53" y="42"/>
                  </a:cubicBezTo>
                  <a:close/>
                  <a:moveTo>
                    <a:pt x="53" y="42"/>
                  </a:moveTo>
                  <a:cubicBezTo>
                    <a:pt x="53" y="42"/>
                    <a:pt x="53" y="42"/>
                    <a:pt x="53" y="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Freeform 72"/>
            <p:cNvSpPr/>
            <p:nvPr/>
          </p:nvSpPr>
          <p:spPr>
            <a:xfrm>
              <a:off x="3209760" y="1700280"/>
              <a:ext cx="286200" cy="2862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121" y="1"/>
                  </a:moveTo>
                  <a:cubicBezTo>
                    <a:pt x="120" y="0"/>
                    <a:pt x="119" y="0"/>
                    <a:pt x="119" y="0"/>
                  </a:cubicBezTo>
                  <a:cubicBezTo>
                    <a:pt x="118" y="0"/>
                    <a:pt x="117" y="0"/>
                    <a:pt x="117" y="1"/>
                  </a:cubicBezTo>
                  <a:cubicBezTo>
                    <a:pt x="2" y="77"/>
                    <a:pt x="2" y="77"/>
                    <a:pt x="2" y="77"/>
                  </a:cubicBezTo>
                  <a:cubicBezTo>
                    <a:pt x="0" y="78"/>
                    <a:pt x="0" y="79"/>
                    <a:pt x="0" y="81"/>
                  </a:cubicBezTo>
                  <a:cubicBezTo>
                    <a:pt x="0" y="82"/>
                    <a:pt x="1" y="83"/>
                    <a:pt x="2" y="84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6" y="121"/>
                    <a:pt x="46" y="121"/>
                    <a:pt x="46" y="121"/>
                  </a:cubicBezTo>
                  <a:cubicBezTo>
                    <a:pt x="47" y="122"/>
                    <a:pt x="48" y="123"/>
                    <a:pt x="50" y="123"/>
                  </a:cubicBezTo>
                  <a:cubicBezTo>
                    <a:pt x="50" y="123"/>
                    <a:pt x="50" y="123"/>
                    <a:pt x="50" y="123"/>
                  </a:cubicBezTo>
                  <a:cubicBezTo>
                    <a:pt x="51" y="123"/>
                    <a:pt x="52" y="122"/>
                    <a:pt x="53" y="121"/>
                  </a:cubicBezTo>
                  <a:cubicBezTo>
                    <a:pt x="61" y="107"/>
                    <a:pt x="61" y="107"/>
                    <a:pt x="61" y="107"/>
                  </a:cubicBezTo>
                  <a:cubicBezTo>
                    <a:pt x="98" y="122"/>
                    <a:pt x="98" y="122"/>
                    <a:pt x="98" y="122"/>
                  </a:cubicBezTo>
                  <a:cubicBezTo>
                    <a:pt x="99" y="123"/>
                    <a:pt x="99" y="123"/>
                    <a:pt x="100" y="123"/>
                  </a:cubicBezTo>
                  <a:cubicBezTo>
                    <a:pt x="100" y="123"/>
                    <a:pt x="101" y="122"/>
                    <a:pt x="101" y="122"/>
                  </a:cubicBezTo>
                  <a:cubicBezTo>
                    <a:pt x="102" y="122"/>
                    <a:pt x="103" y="121"/>
                    <a:pt x="103" y="119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3"/>
                    <a:pt x="122" y="1"/>
                    <a:pt x="121" y="1"/>
                  </a:cubicBezTo>
                  <a:close/>
                  <a:moveTo>
                    <a:pt x="12" y="80"/>
                  </a:moveTo>
                  <a:cubicBezTo>
                    <a:pt x="101" y="20"/>
                    <a:pt x="101" y="20"/>
                    <a:pt x="101" y="20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6" y="89"/>
                    <a:pt x="35" y="89"/>
                    <a:pt x="35" y="89"/>
                  </a:cubicBezTo>
                  <a:lnTo>
                    <a:pt x="12" y="80"/>
                  </a:lnTo>
                  <a:close/>
                  <a:moveTo>
                    <a:pt x="39" y="92"/>
                  </a:moveTo>
                  <a:cubicBezTo>
                    <a:pt x="39" y="92"/>
                    <a:pt x="39" y="92"/>
                    <a:pt x="39" y="92"/>
                  </a:cubicBezTo>
                  <a:cubicBezTo>
                    <a:pt x="112" y="14"/>
                    <a:pt x="112" y="14"/>
                    <a:pt x="112" y="14"/>
                  </a:cubicBezTo>
                  <a:cubicBezTo>
                    <a:pt x="50" y="111"/>
                    <a:pt x="50" y="111"/>
                    <a:pt x="50" y="111"/>
                  </a:cubicBezTo>
                  <a:lnTo>
                    <a:pt x="39" y="92"/>
                  </a:lnTo>
                  <a:close/>
                  <a:moveTo>
                    <a:pt x="97" y="113"/>
                  </a:moveTo>
                  <a:cubicBezTo>
                    <a:pt x="64" y="100"/>
                    <a:pt x="64" y="100"/>
                    <a:pt x="64" y="100"/>
                  </a:cubicBezTo>
                  <a:cubicBezTo>
                    <a:pt x="63" y="100"/>
                    <a:pt x="62" y="100"/>
                    <a:pt x="61" y="100"/>
                  </a:cubicBezTo>
                  <a:cubicBezTo>
                    <a:pt x="112" y="22"/>
                    <a:pt x="112" y="22"/>
                    <a:pt x="112" y="22"/>
                  </a:cubicBezTo>
                  <a:lnTo>
                    <a:pt x="97" y="113"/>
                  </a:lnTo>
                  <a:close/>
                  <a:moveTo>
                    <a:pt x="97" y="113"/>
                  </a:moveTo>
                  <a:cubicBezTo>
                    <a:pt x="97" y="113"/>
                    <a:pt x="97" y="113"/>
                    <a:pt x="97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6" name="Group 55"/>
          <p:cNvGrpSpPr/>
          <p:nvPr/>
        </p:nvGrpSpPr>
        <p:grpSpPr>
          <a:xfrm>
            <a:off x="2089080" y="3448080"/>
            <a:ext cx="8013600" cy="876240"/>
            <a:chOff x="2089080" y="3448080"/>
            <a:chExt cx="8013600" cy="876240"/>
          </a:xfrm>
        </p:grpSpPr>
        <p:grpSp>
          <p:nvGrpSpPr>
            <p:cNvPr id="2857" name="Group 18"/>
            <p:cNvGrpSpPr/>
            <p:nvPr/>
          </p:nvGrpSpPr>
          <p:grpSpPr>
            <a:xfrm>
              <a:off x="2089080" y="3448080"/>
              <a:ext cx="8013600" cy="876240"/>
              <a:chOff x="2089080" y="3448080"/>
              <a:chExt cx="8013600" cy="876240"/>
            </a:xfrm>
          </p:grpSpPr>
          <p:sp>
            <p:nvSpPr>
              <p:cNvPr id="2858" name="Freeform: Shape 2"/>
              <p:cNvSpPr/>
              <p:nvPr/>
            </p:nvSpPr>
            <p:spPr>
              <a:xfrm>
                <a:off x="2089080" y="3448080"/>
                <a:ext cx="8013600" cy="423360"/>
              </a:xfrm>
              <a:custGeom>
                <a:avLst/>
                <a:gdLst/>
                <a:ahLst/>
                <a:rect l="l" t="t" r="r" b="b"/>
                <a:pathLst>
                  <a:path w="4446270" h="217170">
                    <a:moveTo>
                      <a:pt x="0" y="0"/>
                    </a:moveTo>
                    <a:lnTo>
                      <a:pt x="4446270" y="0"/>
                    </a:lnTo>
                    <a:lnTo>
                      <a:pt x="4446270" y="217170"/>
                    </a:lnTo>
                    <a:lnTo>
                      <a:pt x="0" y="2171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9" name="Freeform: Shape 3"/>
              <p:cNvSpPr/>
              <p:nvPr/>
            </p:nvSpPr>
            <p:spPr>
              <a:xfrm>
                <a:off x="2089080" y="3533400"/>
                <a:ext cx="8013600" cy="790920"/>
              </a:xfrm>
              <a:custGeom>
                <a:avLst/>
                <a:gdLst/>
                <a:ahLst/>
                <a:rect l="l" t="t" r="r" b="b"/>
                <a:pathLst>
                  <a:path w="4446269" h="405765">
                    <a:moveTo>
                      <a:pt x="4446270" y="173355"/>
                    </a:moveTo>
                    <a:lnTo>
                      <a:pt x="4446270" y="405765"/>
                    </a:lnTo>
                    <a:lnTo>
                      <a:pt x="0" y="405765"/>
                    </a:lnTo>
                    <a:lnTo>
                      <a:pt x="0" y="173355"/>
                    </a:lnTo>
                    <a:lnTo>
                      <a:pt x="480060" y="173355"/>
                    </a:lnTo>
                    <a:cubicBezTo>
                      <a:pt x="489585" y="173355"/>
                      <a:pt x="498158" y="166688"/>
                      <a:pt x="501015" y="156210"/>
                    </a:cubicBezTo>
                    <a:lnTo>
                      <a:pt x="521970" y="56198"/>
                    </a:lnTo>
                    <a:cubicBezTo>
                      <a:pt x="528638" y="23813"/>
                      <a:pt x="557213" y="0"/>
                      <a:pt x="590550" y="0"/>
                    </a:cubicBezTo>
                    <a:lnTo>
                      <a:pt x="1226820" y="0"/>
                    </a:lnTo>
                    <a:cubicBezTo>
                      <a:pt x="1261110" y="0"/>
                      <a:pt x="1290638" y="24765"/>
                      <a:pt x="1296353" y="58103"/>
                    </a:cubicBezTo>
                    <a:lnTo>
                      <a:pt x="1313498" y="156210"/>
                    </a:lnTo>
                    <a:cubicBezTo>
                      <a:pt x="1315403" y="166688"/>
                      <a:pt x="1323975" y="173355"/>
                      <a:pt x="1334453" y="173355"/>
                    </a:cubicBezTo>
                    <a:lnTo>
                      <a:pt x="4446270" y="173355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0" name="Freeform: Shape 4"/>
              <p:cNvSpPr/>
              <p:nvPr/>
            </p:nvSpPr>
            <p:spPr>
              <a:xfrm>
                <a:off x="2240280" y="3960360"/>
                <a:ext cx="7263360" cy="289440"/>
              </a:xfrm>
              <a:custGeom>
                <a:avLst/>
                <a:gdLst/>
                <a:ahLst/>
                <a:rect l="l" t="t" r="r" b="b"/>
                <a:pathLst>
                  <a:path w="3628072" h="148590">
                    <a:moveTo>
                      <a:pt x="3609023" y="148590"/>
                    </a:moveTo>
                    <a:lnTo>
                      <a:pt x="19050" y="148590"/>
                    </a:lnTo>
                    <a:cubicBezTo>
                      <a:pt x="8573" y="148590"/>
                      <a:pt x="0" y="140017"/>
                      <a:pt x="0" y="129540"/>
                    </a:cubicBezTo>
                    <a:lnTo>
                      <a:pt x="0" y="19050"/>
                    </a:lnTo>
                    <a:cubicBezTo>
                      <a:pt x="0" y="8572"/>
                      <a:pt x="8573" y="0"/>
                      <a:pt x="19050" y="0"/>
                    </a:cubicBezTo>
                    <a:lnTo>
                      <a:pt x="3609023" y="0"/>
                    </a:lnTo>
                    <a:cubicBezTo>
                      <a:pt x="3619500" y="0"/>
                      <a:pt x="3628073" y="8572"/>
                      <a:pt x="3628073" y="19050"/>
                    </a:cubicBezTo>
                    <a:lnTo>
                      <a:pt x="3628073" y="130492"/>
                    </a:lnTo>
                    <a:cubicBezTo>
                      <a:pt x="3628073" y="140017"/>
                      <a:pt x="3619500" y="148590"/>
                      <a:pt x="3609023" y="14859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861" name="Graphic 7" descr=""/>
              <p:cNvPicPr/>
              <p:nvPr/>
            </p:nvPicPr>
            <p:blipFill>
              <a:blip r:embed="rId1"/>
              <a:stretch/>
            </p:blipFill>
            <p:spPr>
              <a:xfrm>
                <a:off x="9716760" y="4023000"/>
                <a:ext cx="188640" cy="17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2" name="Group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37040" y="3644640"/>
                <a:ext cx="499680" cy="10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63" name="TextBox 54"/>
            <p:cNvSpPr/>
            <p:nvPr/>
          </p:nvSpPr>
          <p:spPr>
            <a:xfrm>
              <a:off x="3250800" y="3567960"/>
              <a:ext cx="92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Mimi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7"/>
          <p:cNvSpPr/>
          <p:nvPr/>
        </p:nvSpPr>
        <p:spPr>
          <a:xfrm>
            <a:off x="2046240" y="2978280"/>
            <a:ext cx="8977320" cy="1977840"/>
          </a:xfrm>
          <a:prstGeom prst="rect">
            <a:avLst/>
          </a:prstGeom>
          <a:solidFill>
            <a:srgbClr val="f7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TextBox 3"/>
          <p:cNvSpPr/>
          <p:nvPr/>
        </p:nvSpPr>
        <p:spPr>
          <a:xfrm>
            <a:off x="6492960" y="1682640"/>
            <a:ext cx="366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Questrial"/>
              </a:rPr>
              <a:t>We are creativé design st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TextBox 4"/>
          <p:cNvSpPr/>
          <p:nvPr/>
        </p:nvSpPr>
        <p:spPr>
          <a:xfrm>
            <a:off x="6492960" y="3300480"/>
            <a:ext cx="414792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high level overviews. Iterative approaches to corporate strategy foster collaborative thinking to further the value proposition grow the is holistic world view via workplace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0" name="Group 48"/>
          <p:cNvGrpSpPr/>
          <p:nvPr/>
        </p:nvGrpSpPr>
        <p:grpSpPr>
          <a:xfrm>
            <a:off x="1204920" y="2712960"/>
            <a:ext cx="700200" cy="700200"/>
            <a:chOff x="1204920" y="2712960"/>
            <a:chExt cx="700200" cy="700200"/>
          </a:xfrm>
        </p:grpSpPr>
        <p:sp>
          <p:nvSpPr>
            <p:cNvPr id="2041" name="TextBox 35"/>
            <p:cNvSpPr/>
            <p:nvPr/>
          </p:nvSpPr>
          <p:spPr>
            <a:xfrm>
              <a:off x="1242720" y="2801160"/>
              <a:ext cx="6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Questrial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ame 37"/>
            <p:cNvSpPr/>
            <p:nvPr/>
          </p:nvSpPr>
          <p:spPr>
            <a:xfrm>
              <a:off x="1204920" y="2712960"/>
              <a:ext cx="700200" cy="700200"/>
            </a:xfrm>
            <a:custGeom>
              <a:avLst/>
              <a:gdLst/>
              <a:ahLst/>
              <a:rect l="l" t="t" r="r" b="b"/>
              <a:pathLst>
                <a:path w="700088" h="700088">
                  <a:moveTo>
                    <a:pt x="0" y="0"/>
                  </a:moveTo>
                  <a:lnTo>
                    <a:pt x="700088" y="0"/>
                  </a:lnTo>
                  <a:lnTo>
                    <a:pt x="700088" y="700088"/>
                  </a:lnTo>
                  <a:lnTo>
                    <a:pt x="0" y="700088"/>
                  </a:lnTo>
                  <a:lnTo>
                    <a:pt x="0" y="0"/>
                  </a:lnTo>
                  <a:close/>
                  <a:moveTo>
                    <a:pt x="30363" y="30363"/>
                  </a:moveTo>
                  <a:lnTo>
                    <a:pt x="30363" y="669725"/>
                  </a:lnTo>
                  <a:lnTo>
                    <a:pt x="669725" y="669725"/>
                  </a:lnTo>
                  <a:lnTo>
                    <a:pt x="669725" y="30363"/>
                  </a:lnTo>
                  <a:lnTo>
                    <a:pt x="30363" y="30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3" name="Rectangle 49"/>
          <p:cNvSpPr/>
          <p:nvPr/>
        </p:nvSpPr>
        <p:spPr>
          <a:xfrm>
            <a:off x="2046240" y="3527280"/>
            <a:ext cx="3780000" cy="14288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Isosceles Triangle 53"/>
          <p:cNvSpPr/>
          <p:nvPr/>
        </p:nvSpPr>
        <p:spPr>
          <a:xfrm rot="5400000">
            <a:off x="5999400" y="5667840"/>
            <a:ext cx="192240" cy="165240"/>
          </a:xfrm>
          <a:prstGeom prst="triangle">
            <a:avLst>
              <a:gd name="adj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Rectangle 54"/>
          <p:cNvSpPr/>
          <p:nvPr/>
        </p:nvSpPr>
        <p:spPr>
          <a:xfrm>
            <a:off x="1168560" y="3527280"/>
            <a:ext cx="877680" cy="1428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TextBox 2"/>
          <p:cNvSpPr/>
          <p:nvPr/>
        </p:nvSpPr>
        <p:spPr>
          <a:xfrm>
            <a:off x="2590920" y="404172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Questrial"/>
              </a:rPr>
              <a:t>WHO WE 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Straight Connector 55"/>
          <p:cNvSpPr/>
          <p:nvPr/>
        </p:nvSpPr>
        <p:spPr>
          <a:xfrm flipV="1">
            <a:off x="11026800" y="999720"/>
            <a:ext cx="0" cy="484668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4" name="Chart 3"/>
          <p:cNvGraphicFramePr/>
          <p:nvPr/>
        </p:nvGraphicFramePr>
        <p:xfrm>
          <a:off x="-690480" y="546120"/>
          <a:ext cx="8547120" cy="57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5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0480" y="546120"/>
                    <a:ext cx="854712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6" name="Oval 41"/>
          <p:cNvSpPr/>
          <p:nvPr/>
        </p:nvSpPr>
        <p:spPr>
          <a:xfrm>
            <a:off x="2681280" y="2511360"/>
            <a:ext cx="1801800" cy="180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7" name="Group 13"/>
          <p:cNvGrpSpPr/>
          <p:nvPr/>
        </p:nvGrpSpPr>
        <p:grpSpPr>
          <a:xfrm>
            <a:off x="2836800" y="2884320"/>
            <a:ext cx="1490760" cy="1049760"/>
            <a:chOff x="2836800" y="2884320"/>
            <a:chExt cx="1490760" cy="1049760"/>
          </a:xfrm>
        </p:grpSpPr>
        <p:sp>
          <p:nvSpPr>
            <p:cNvPr id="2868" name="TextBox 5"/>
            <p:cNvSpPr/>
            <p:nvPr/>
          </p:nvSpPr>
          <p:spPr>
            <a:xfrm>
              <a:off x="2836800" y="3353400"/>
              <a:ext cx="1490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Questrial"/>
                </a:rPr>
                <a:t>Business Analytic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Freeform 72"/>
            <p:cNvSpPr/>
            <p:nvPr/>
          </p:nvSpPr>
          <p:spPr>
            <a:xfrm>
              <a:off x="3383280" y="2884320"/>
              <a:ext cx="397440" cy="3974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121" y="1"/>
                  </a:moveTo>
                  <a:cubicBezTo>
                    <a:pt x="120" y="0"/>
                    <a:pt x="119" y="0"/>
                    <a:pt x="119" y="0"/>
                  </a:cubicBezTo>
                  <a:cubicBezTo>
                    <a:pt x="118" y="0"/>
                    <a:pt x="117" y="0"/>
                    <a:pt x="117" y="1"/>
                  </a:cubicBezTo>
                  <a:cubicBezTo>
                    <a:pt x="2" y="77"/>
                    <a:pt x="2" y="77"/>
                    <a:pt x="2" y="77"/>
                  </a:cubicBezTo>
                  <a:cubicBezTo>
                    <a:pt x="0" y="78"/>
                    <a:pt x="0" y="79"/>
                    <a:pt x="0" y="81"/>
                  </a:cubicBezTo>
                  <a:cubicBezTo>
                    <a:pt x="0" y="82"/>
                    <a:pt x="1" y="83"/>
                    <a:pt x="2" y="84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6" y="121"/>
                    <a:pt x="46" y="121"/>
                    <a:pt x="46" y="121"/>
                  </a:cubicBezTo>
                  <a:cubicBezTo>
                    <a:pt x="47" y="122"/>
                    <a:pt x="48" y="123"/>
                    <a:pt x="50" y="123"/>
                  </a:cubicBezTo>
                  <a:cubicBezTo>
                    <a:pt x="50" y="123"/>
                    <a:pt x="50" y="123"/>
                    <a:pt x="50" y="123"/>
                  </a:cubicBezTo>
                  <a:cubicBezTo>
                    <a:pt x="51" y="123"/>
                    <a:pt x="52" y="122"/>
                    <a:pt x="53" y="121"/>
                  </a:cubicBezTo>
                  <a:cubicBezTo>
                    <a:pt x="61" y="107"/>
                    <a:pt x="61" y="107"/>
                    <a:pt x="61" y="107"/>
                  </a:cubicBezTo>
                  <a:cubicBezTo>
                    <a:pt x="98" y="122"/>
                    <a:pt x="98" y="122"/>
                    <a:pt x="98" y="122"/>
                  </a:cubicBezTo>
                  <a:cubicBezTo>
                    <a:pt x="99" y="123"/>
                    <a:pt x="99" y="123"/>
                    <a:pt x="100" y="123"/>
                  </a:cubicBezTo>
                  <a:cubicBezTo>
                    <a:pt x="100" y="123"/>
                    <a:pt x="101" y="122"/>
                    <a:pt x="101" y="122"/>
                  </a:cubicBezTo>
                  <a:cubicBezTo>
                    <a:pt x="102" y="122"/>
                    <a:pt x="103" y="121"/>
                    <a:pt x="103" y="119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3"/>
                    <a:pt x="122" y="1"/>
                    <a:pt x="121" y="1"/>
                  </a:cubicBezTo>
                  <a:close/>
                  <a:moveTo>
                    <a:pt x="12" y="80"/>
                  </a:moveTo>
                  <a:cubicBezTo>
                    <a:pt x="101" y="20"/>
                    <a:pt x="101" y="20"/>
                    <a:pt x="101" y="20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6" y="89"/>
                    <a:pt x="35" y="89"/>
                    <a:pt x="35" y="89"/>
                  </a:cubicBezTo>
                  <a:lnTo>
                    <a:pt x="12" y="80"/>
                  </a:lnTo>
                  <a:close/>
                  <a:moveTo>
                    <a:pt x="39" y="92"/>
                  </a:moveTo>
                  <a:cubicBezTo>
                    <a:pt x="39" y="92"/>
                    <a:pt x="39" y="92"/>
                    <a:pt x="39" y="92"/>
                  </a:cubicBezTo>
                  <a:cubicBezTo>
                    <a:pt x="112" y="14"/>
                    <a:pt x="112" y="14"/>
                    <a:pt x="112" y="14"/>
                  </a:cubicBezTo>
                  <a:cubicBezTo>
                    <a:pt x="50" y="111"/>
                    <a:pt x="50" y="111"/>
                    <a:pt x="50" y="111"/>
                  </a:cubicBezTo>
                  <a:lnTo>
                    <a:pt x="39" y="92"/>
                  </a:lnTo>
                  <a:close/>
                  <a:moveTo>
                    <a:pt x="97" y="113"/>
                  </a:moveTo>
                  <a:cubicBezTo>
                    <a:pt x="64" y="100"/>
                    <a:pt x="64" y="100"/>
                    <a:pt x="64" y="100"/>
                  </a:cubicBezTo>
                  <a:cubicBezTo>
                    <a:pt x="63" y="100"/>
                    <a:pt x="62" y="100"/>
                    <a:pt x="61" y="100"/>
                  </a:cubicBezTo>
                  <a:cubicBezTo>
                    <a:pt x="112" y="22"/>
                    <a:pt x="112" y="22"/>
                    <a:pt x="112" y="22"/>
                  </a:cubicBezTo>
                  <a:lnTo>
                    <a:pt x="97" y="113"/>
                  </a:lnTo>
                  <a:close/>
                  <a:moveTo>
                    <a:pt x="97" y="113"/>
                  </a:moveTo>
                  <a:cubicBezTo>
                    <a:pt x="97" y="113"/>
                    <a:pt x="97" y="113"/>
                    <a:pt x="97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0" name="Group 39"/>
          <p:cNvGrpSpPr/>
          <p:nvPr/>
        </p:nvGrpSpPr>
        <p:grpSpPr>
          <a:xfrm>
            <a:off x="6958080" y="1368360"/>
            <a:ext cx="3998880" cy="4395960"/>
            <a:chOff x="6958080" y="1368360"/>
            <a:chExt cx="3998880" cy="4395960"/>
          </a:xfrm>
        </p:grpSpPr>
        <p:sp>
          <p:nvSpPr>
            <p:cNvPr id="2871" name="TextBox 16"/>
            <p:cNvSpPr/>
            <p:nvPr/>
          </p:nvSpPr>
          <p:spPr>
            <a:xfrm>
              <a:off x="6958080" y="1368360"/>
              <a:ext cx="36302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Questrial"/>
                </a:rPr>
                <a:t>Doughnut chart data slide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TextBox 21"/>
            <p:cNvSpPr/>
            <p:nvPr/>
          </p:nvSpPr>
          <p:spPr>
            <a:xfrm>
              <a:off x="6958080" y="4917600"/>
              <a:ext cx="187776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approaches to corporate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3" name="TextBox 23"/>
            <p:cNvSpPr/>
            <p:nvPr/>
          </p:nvSpPr>
          <p:spPr>
            <a:xfrm>
              <a:off x="6958080" y="4632840"/>
              <a:ext cx="150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95959"/>
                  </a:solidFill>
                  <a:latin typeface="Questrial"/>
                </a:rPr>
                <a:t>Your title her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4" name="TextBox 25"/>
            <p:cNvSpPr/>
            <p:nvPr/>
          </p:nvSpPr>
          <p:spPr>
            <a:xfrm>
              <a:off x="6958080" y="3966480"/>
              <a:ext cx="150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Questrial"/>
                </a:rPr>
                <a:t>300k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5" name="TextBox 27"/>
            <p:cNvSpPr/>
            <p:nvPr/>
          </p:nvSpPr>
          <p:spPr>
            <a:xfrm>
              <a:off x="9079200" y="4632840"/>
              <a:ext cx="150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95959"/>
                  </a:solidFill>
                  <a:latin typeface="Questrial"/>
                </a:rPr>
                <a:t>Your title her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6" name="TextBox 29"/>
            <p:cNvSpPr/>
            <p:nvPr/>
          </p:nvSpPr>
          <p:spPr>
            <a:xfrm>
              <a:off x="9079200" y="3966480"/>
              <a:ext cx="150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Questrial"/>
                </a:rPr>
                <a:t>60%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7" name="TextBox 31"/>
            <p:cNvSpPr/>
            <p:nvPr/>
          </p:nvSpPr>
          <p:spPr>
            <a:xfrm>
              <a:off x="9079200" y="4917600"/>
              <a:ext cx="187776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approaches to corporate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8" name="TextBox 33"/>
            <p:cNvSpPr/>
            <p:nvPr/>
          </p:nvSpPr>
          <p:spPr>
            <a:xfrm>
              <a:off x="6958080" y="2465640"/>
              <a:ext cx="3700080" cy="13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s synopsis for high level overviews iterative approaches to corporate proposition grow the is holistic world view via workplace company industries diversity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9" name="Straight Connector 36"/>
            <p:cNvSpPr/>
            <p:nvPr/>
          </p:nvSpPr>
          <p:spPr>
            <a:xfrm>
              <a:off x="7059600" y="3792600"/>
              <a:ext cx="3872160" cy="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Rectangle 92"/>
          <p:cNvSpPr/>
          <p:nvPr/>
        </p:nvSpPr>
        <p:spPr>
          <a:xfrm>
            <a:off x="1241280" y="1027080"/>
            <a:ext cx="9709200" cy="583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TextBox 3"/>
          <p:cNvSpPr/>
          <p:nvPr/>
        </p:nvSpPr>
        <p:spPr>
          <a:xfrm>
            <a:off x="1728720" y="1585800"/>
            <a:ext cx="45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Sample charts data sli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82" name=""/>
          <p:cNvGraphicFramePr/>
          <p:nvPr/>
        </p:nvGraphicFramePr>
        <p:xfrm>
          <a:off x="2103480" y="2832120"/>
          <a:ext cx="7985160" cy="2624040"/>
        </p:xfrm>
        <a:graphic>
          <a:graphicData uri="http://schemas.openxmlformats.org/drawingml/2006/table">
            <a:tbl>
              <a:tblPr/>
              <a:tblGrid>
                <a:gridCol w="665280"/>
                <a:gridCol w="664920"/>
                <a:gridCol w="665280"/>
                <a:gridCol w="666720"/>
                <a:gridCol w="665280"/>
                <a:gridCol w="664920"/>
                <a:gridCol w="665280"/>
                <a:gridCol w="665280"/>
                <a:gridCol w="666720"/>
                <a:gridCol w="664920"/>
                <a:gridCol w="665280"/>
                <a:gridCol w="66528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d0cece"/>
                      </a:solidFill>
                    </a:lnL>
                    <a:lnR w="5760">
                      <a:solidFill>
                        <a:srgbClr val="d0cece"/>
                      </a:solidFill>
                    </a:lnR>
                    <a:lnT w="5760">
                      <a:solidFill>
                        <a:srgbClr val="d0cece"/>
                      </a:solidFill>
                    </a:lnT>
                    <a:lnB w="5760">
                      <a:solidFill>
                        <a:srgbClr val="d0cec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83" name="Group 96"/>
          <p:cNvGrpSpPr/>
          <p:nvPr/>
        </p:nvGrpSpPr>
        <p:grpSpPr>
          <a:xfrm>
            <a:off x="7743960" y="2212920"/>
            <a:ext cx="1382400" cy="3722760"/>
            <a:chOff x="7743960" y="2212920"/>
            <a:chExt cx="1382400" cy="3722760"/>
          </a:xfrm>
        </p:grpSpPr>
        <p:sp>
          <p:nvSpPr>
            <p:cNvPr id="2884" name="Graphic 2050"/>
            <p:cNvSpPr/>
            <p:nvPr/>
          </p:nvSpPr>
          <p:spPr>
            <a:xfrm>
              <a:off x="8188560" y="2902320"/>
              <a:ext cx="495360" cy="30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27080" dir="5400000" blurRad="0" rotWithShape="0">
                <a:srgbClr val="000000">
                  <a:alpha val="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85" name="Group 46" descr=""/>
            <p:cNvPicPr/>
            <p:nvPr/>
          </p:nvPicPr>
          <p:blipFill>
            <a:blip r:embed="rId1"/>
            <a:stretch/>
          </p:blipFill>
          <p:spPr>
            <a:xfrm>
              <a:off x="7743960" y="2212920"/>
              <a:ext cx="1382400" cy="10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6" name="TextBox 47"/>
            <p:cNvSpPr/>
            <p:nvPr/>
          </p:nvSpPr>
          <p:spPr>
            <a:xfrm>
              <a:off x="7966800" y="2492640"/>
              <a:ext cx="93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Questrial"/>
                  <a:ea typeface="Open Sans"/>
                </a:rPr>
                <a:t>6,532.00 US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7" name="Group 43"/>
          <p:cNvGrpSpPr/>
          <p:nvPr/>
        </p:nvGrpSpPr>
        <p:grpSpPr>
          <a:xfrm>
            <a:off x="2287440" y="2970360"/>
            <a:ext cx="7726680" cy="2489040"/>
            <a:chOff x="2287440" y="2970360"/>
            <a:chExt cx="7726680" cy="2489040"/>
          </a:xfrm>
        </p:grpSpPr>
        <p:sp>
          <p:nvSpPr>
            <p:cNvPr id="2888" name="Rectangle 6"/>
            <p:cNvSpPr/>
            <p:nvPr/>
          </p:nvSpPr>
          <p:spPr>
            <a:xfrm>
              <a:off x="2287440" y="5212440"/>
              <a:ext cx="217440" cy="2469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9" name="Rectangle 8"/>
            <p:cNvSpPr/>
            <p:nvPr/>
          </p:nvSpPr>
          <p:spPr>
            <a:xfrm>
              <a:off x="2504880" y="4939560"/>
              <a:ext cx="217440" cy="519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0" name="Rectangle 11"/>
            <p:cNvSpPr/>
            <p:nvPr/>
          </p:nvSpPr>
          <p:spPr>
            <a:xfrm>
              <a:off x="2946960" y="5020560"/>
              <a:ext cx="217440" cy="4388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1" name="Rectangle 12"/>
            <p:cNvSpPr/>
            <p:nvPr/>
          </p:nvSpPr>
          <p:spPr>
            <a:xfrm>
              <a:off x="3164400" y="4536000"/>
              <a:ext cx="217440" cy="9234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2" name="Rectangle 14"/>
            <p:cNvSpPr/>
            <p:nvPr/>
          </p:nvSpPr>
          <p:spPr>
            <a:xfrm>
              <a:off x="3611520" y="5111280"/>
              <a:ext cx="21744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3" name="Rectangle 15"/>
            <p:cNvSpPr/>
            <p:nvPr/>
          </p:nvSpPr>
          <p:spPr>
            <a:xfrm>
              <a:off x="3829320" y="4637880"/>
              <a:ext cx="217440" cy="821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4" name="Rectangle 17"/>
            <p:cNvSpPr/>
            <p:nvPr/>
          </p:nvSpPr>
          <p:spPr>
            <a:xfrm>
              <a:off x="4271400" y="5315400"/>
              <a:ext cx="217440" cy="144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5" name="Rectangle 18"/>
            <p:cNvSpPr/>
            <p:nvPr/>
          </p:nvSpPr>
          <p:spPr>
            <a:xfrm>
              <a:off x="4488840" y="4939560"/>
              <a:ext cx="217440" cy="519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6" name="Rectangle 20"/>
            <p:cNvSpPr/>
            <p:nvPr/>
          </p:nvSpPr>
          <p:spPr>
            <a:xfrm>
              <a:off x="4935960" y="5212440"/>
              <a:ext cx="217440" cy="2469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7" name="Rectangle 21"/>
            <p:cNvSpPr/>
            <p:nvPr/>
          </p:nvSpPr>
          <p:spPr>
            <a:xfrm>
              <a:off x="5153400" y="4703040"/>
              <a:ext cx="217440" cy="7563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8" name="Rectangle 23"/>
            <p:cNvSpPr/>
            <p:nvPr/>
          </p:nvSpPr>
          <p:spPr>
            <a:xfrm>
              <a:off x="5586480" y="4703040"/>
              <a:ext cx="217440" cy="756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9" name="Rectangle 24"/>
            <p:cNvSpPr/>
            <p:nvPr/>
          </p:nvSpPr>
          <p:spPr>
            <a:xfrm>
              <a:off x="5804280" y="4299480"/>
              <a:ext cx="217440" cy="11599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0" name="Rectangle 26"/>
            <p:cNvSpPr/>
            <p:nvPr/>
          </p:nvSpPr>
          <p:spPr>
            <a:xfrm>
              <a:off x="6260400" y="4981320"/>
              <a:ext cx="217440" cy="478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1" name="Rectangle 27"/>
            <p:cNvSpPr/>
            <p:nvPr/>
          </p:nvSpPr>
          <p:spPr>
            <a:xfrm>
              <a:off x="6477840" y="4141440"/>
              <a:ext cx="217440" cy="13179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2" name="Rectangle 29"/>
            <p:cNvSpPr/>
            <p:nvPr/>
          </p:nvSpPr>
          <p:spPr>
            <a:xfrm>
              <a:off x="6932160" y="4703040"/>
              <a:ext cx="217440" cy="756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3" name="Rectangle 30"/>
            <p:cNvSpPr/>
            <p:nvPr/>
          </p:nvSpPr>
          <p:spPr>
            <a:xfrm>
              <a:off x="7149600" y="4003560"/>
              <a:ext cx="217440" cy="1455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4" name="Rectangle 32"/>
            <p:cNvSpPr/>
            <p:nvPr/>
          </p:nvSpPr>
          <p:spPr>
            <a:xfrm>
              <a:off x="7584840" y="4637880"/>
              <a:ext cx="217440" cy="8215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5" name="Rectangle 33"/>
            <p:cNvSpPr/>
            <p:nvPr/>
          </p:nvSpPr>
          <p:spPr>
            <a:xfrm>
              <a:off x="7802280" y="3975480"/>
              <a:ext cx="217440" cy="14839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6" name="Rectangle 35"/>
            <p:cNvSpPr/>
            <p:nvPr/>
          </p:nvSpPr>
          <p:spPr>
            <a:xfrm>
              <a:off x="8244360" y="4042080"/>
              <a:ext cx="217440" cy="14173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7" name="Rectangle 36"/>
            <p:cNvSpPr/>
            <p:nvPr/>
          </p:nvSpPr>
          <p:spPr>
            <a:xfrm>
              <a:off x="8461800" y="3381480"/>
              <a:ext cx="217440" cy="20779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8" name="Rectangle 38"/>
            <p:cNvSpPr/>
            <p:nvPr/>
          </p:nvSpPr>
          <p:spPr>
            <a:xfrm>
              <a:off x="8926560" y="4939560"/>
              <a:ext cx="217440" cy="5198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9" name="Rectangle 39"/>
            <p:cNvSpPr/>
            <p:nvPr/>
          </p:nvSpPr>
          <p:spPr>
            <a:xfrm>
              <a:off x="9144360" y="3589560"/>
              <a:ext cx="217440" cy="1869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0" name="Rectangle 41"/>
            <p:cNvSpPr/>
            <p:nvPr/>
          </p:nvSpPr>
          <p:spPr>
            <a:xfrm>
              <a:off x="9579240" y="4504680"/>
              <a:ext cx="217440" cy="954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1" name="Rectangle 42"/>
            <p:cNvSpPr/>
            <p:nvPr/>
          </p:nvSpPr>
          <p:spPr>
            <a:xfrm>
              <a:off x="9796680" y="2970360"/>
              <a:ext cx="217440" cy="24890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2" name="Group 90"/>
          <p:cNvGrpSpPr/>
          <p:nvPr/>
        </p:nvGrpSpPr>
        <p:grpSpPr>
          <a:xfrm>
            <a:off x="2147760" y="5568840"/>
            <a:ext cx="7986960" cy="261360"/>
            <a:chOff x="2147760" y="5568840"/>
            <a:chExt cx="7986960" cy="261360"/>
          </a:xfrm>
        </p:grpSpPr>
        <p:sp>
          <p:nvSpPr>
            <p:cNvPr id="2913" name="TextBox 51"/>
            <p:cNvSpPr/>
            <p:nvPr/>
          </p:nvSpPr>
          <p:spPr>
            <a:xfrm>
              <a:off x="214776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J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4" name="TextBox 52"/>
            <p:cNvSpPr/>
            <p:nvPr/>
          </p:nvSpPr>
          <p:spPr>
            <a:xfrm>
              <a:off x="281916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Feb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5" name="TextBox 53"/>
            <p:cNvSpPr/>
            <p:nvPr/>
          </p:nvSpPr>
          <p:spPr>
            <a:xfrm>
              <a:off x="347544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Ma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6" name="TextBox 54"/>
            <p:cNvSpPr/>
            <p:nvPr/>
          </p:nvSpPr>
          <p:spPr>
            <a:xfrm>
              <a:off x="414684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Ap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7" name="TextBox 55"/>
            <p:cNvSpPr/>
            <p:nvPr/>
          </p:nvSpPr>
          <p:spPr>
            <a:xfrm>
              <a:off x="480168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Ma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TextBox 56"/>
            <p:cNvSpPr/>
            <p:nvPr/>
          </p:nvSpPr>
          <p:spPr>
            <a:xfrm>
              <a:off x="546696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Ju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TextBox 57"/>
            <p:cNvSpPr/>
            <p:nvPr/>
          </p:nvSpPr>
          <p:spPr>
            <a:xfrm>
              <a:off x="614448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Ju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TextBox 58"/>
            <p:cNvSpPr/>
            <p:nvPr/>
          </p:nvSpPr>
          <p:spPr>
            <a:xfrm>
              <a:off x="681480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Aug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TextBox 59"/>
            <p:cNvSpPr/>
            <p:nvPr/>
          </p:nvSpPr>
          <p:spPr>
            <a:xfrm>
              <a:off x="748980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Sep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TextBox 60"/>
            <p:cNvSpPr/>
            <p:nvPr/>
          </p:nvSpPr>
          <p:spPr>
            <a:xfrm>
              <a:off x="807876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Oc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TextBox 61"/>
            <p:cNvSpPr/>
            <p:nvPr/>
          </p:nvSpPr>
          <p:spPr>
            <a:xfrm>
              <a:off x="879732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Nov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TextBox 62"/>
            <p:cNvSpPr/>
            <p:nvPr/>
          </p:nvSpPr>
          <p:spPr>
            <a:xfrm>
              <a:off x="9464760" y="5568840"/>
              <a:ext cx="66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De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5" name="Group 89"/>
          <p:cNvGrpSpPr/>
          <p:nvPr/>
        </p:nvGrpSpPr>
        <p:grpSpPr>
          <a:xfrm>
            <a:off x="1711440" y="2701800"/>
            <a:ext cx="422280" cy="2824200"/>
            <a:chOff x="1711440" y="2701800"/>
            <a:chExt cx="422280" cy="2824200"/>
          </a:xfrm>
        </p:grpSpPr>
        <p:sp>
          <p:nvSpPr>
            <p:cNvPr id="2926" name="TextBox 63"/>
            <p:cNvSpPr/>
            <p:nvPr/>
          </p:nvSpPr>
          <p:spPr>
            <a:xfrm>
              <a:off x="1711440" y="5264640"/>
              <a:ext cx="422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TextBox 64"/>
            <p:cNvSpPr/>
            <p:nvPr/>
          </p:nvSpPr>
          <p:spPr>
            <a:xfrm>
              <a:off x="1711440" y="4799520"/>
              <a:ext cx="422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1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TextBox 66"/>
            <p:cNvSpPr/>
            <p:nvPr/>
          </p:nvSpPr>
          <p:spPr>
            <a:xfrm>
              <a:off x="1711440" y="4286880"/>
              <a:ext cx="422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2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TextBox 67"/>
            <p:cNvSpPr/>
            <p:nvPr/>
          </p:nvSpPr>
          <p:spPr>
            <a:xfrm>
              <a:off x="1711440" y="3779640"/>
              <a:ext cx="422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4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TextBox 68"/>
            <p:cNvSpPr/>
            <p:nvPr/>
          </p:nvSpPr>
          <p:spPr>
            <a:xfrm>
              <a:off x="1711440" y="3236760"/>
              <a:ext cx="422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6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TextBox 69"/>
            <p:cNvSpPr/>
            <p:nvPr/>
          </p:nvSpPr>
          <p:spPr>
            <a:xfrm>
              <a:off x="1711440" y="2701800"/>
              <a:ext cx="422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Questrial"/>
                  <a:ea typeface="Open Sans"/>
                </a:rPr>
                <a:t>8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2" name="TextBox 86"/>
          <p:cNvSpPr/>
          <p:nvPr/>
        </p:nvSpPr>
        <p:spPr>
          <a:xfrm>
            <a:off x="1978200" y="2392200"/>
            <a:ext cx="16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Questrial"/>
                <a:ea typeface="Open Sans"/>
              </a:rPr>
              <a:t>Market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3" name="Chart 3"/>
          <p:cNvGraphicFramePr/>
          <p:nvPr/>
        </p:nvGraphicFramePr>
        <p:xfrm>
          <a:off x="4975200" y="1301760"/>
          <a:ext cx="6456240" cy="42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34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5200" y="1301760"/>
                    <a:ext cx="645624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5" name="TextBox 5"/>
          <p:cNvSpPr/>
          <p:nvPr/>
        </p:nvSpPr>
        <p:spPr>
          <a:xfrm>
            <a:off x="811080" y="1447920"/>
            <a:ext cx="354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Line chart column data sli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TextBox 12"/>
          <p:cNvSpPr/>
          <p:nvPr/>
        </p:nvSpPr>
        <p:spPr>
          <a:xfrm>
            <a:off x="811080" y="4106880"/>
            <a:ext cx="35499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s high level overviews iterative synopsis for proposition grow the is holistic world via markering workplace company approaches to corporate industries diversit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TextBox 15"/>
          <p:cNvSpPr/>
          <p:nvPr/>
        </p:nvSpPr>
        <p:spPr>
          <a:xfrm>
            <a:off x="811080" y="3429000"/>
            <a:ext cx="13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  <a:ea typeface="Open Sans"/>
              </a:rPr>
              <a:t>Market Potent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TextBox 17"/>
          <p:cNvSpPr/>
          <p:nvPr/>
        </p:nvSpPr>
        <p:spPr>
          <a:xfrm>
            <a:off x="811080" y="2844720"/>
            <a:ext cx="14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estrial"/>
                <a:ea typeface="Open Sans"/>
              </a:rPr>
              <a:t>4.3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TextBox 19"/>
          <p:cNvSpPr/>
          <p:nvPr/>
        </p:nvSpPr>
        <p:spPr>
          <a:xfrm>
            <a:off x="2784600" y="3416400"/>
            <a:ext cx="137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  <a:ea typeface="Open Sans"/>
              </a:rPr>
              <a:t>Market Volu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TextBox 21"/>
          <p:cNvSpPr/>
          <p:nvPr/>
        </p:nvSpPr>
        <p:spPr>
          <a:xfrm>
            <a:off x="2784600" y="2832120"/>
            <a:ext cx="14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estrial"/>
                <a:ea typeface="Open Sans"/>
              </a:rPr>
              <a:t>2.2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1" name="Chart 2"/>
          <p:cNvGraphicFramePr/>
          <p:nvPr/>
        </p:nvGraphicFramePr>
        <p:xfrm>
          <a:off x="4970520" y="787320"/>
          <a:ext cx="6534000" cy="528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2" name="Char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0520" y="787320"/>
                    <a:ext cx="65340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3" name="TextBox 4"/>
          <p:cNvSpPr/>
          <p:nvPr/>
        </p:nvSpPr>
        <p:spPr>
          <a:xfrm>
            <a:off x="738360" y="1079640"/>
            <a:ext cx="368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Sample data charts column sli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TextBox 6"/>
          <p:cNvSpPr/>
          <p:nvPr/>
        </p:nvSpPr>
        <p:spPr>
          <a:xfrm>
            <a:off x="738360" y="4699080"/>
            <a:ext cx="36986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s synopsis for high level overviews iterative approaches to corporate strategy foster collaborative thinking to further the value company industries diversit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TextBox 8"/>
          <p:cNvSpPr/>
          <p:nvPr/>
        </p:nvSpPr>
        <p:spPr>
          <a:xfrm>
            <a:off x="738360" y="439092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Questrial"/>
              </a:rPr>
              <a:t>Your awesome title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TextBox 21"/>
          <p:cNvSpPr/>
          <p:nvPr/>
        </p:nvSpPr>
        <p:spPr>
          <a:xfrm>
            <a:off x="3419640" y="787320"/>
            <a:ext cx="53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Questrial"/>
              </a:rPr>
              <a:t>MIM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Rectangle 63"/>
          <p:cNvSpPr/>
          <p:nvPr/>
        </p:nvSpPr>
        <p:spPr>
          <a:xfrm>
            <a:off x="3419640" y="619200"/>
            <a:ext cx="5352840" cy="1904760"/>
          </a:xfrm>
          <a:prstGeom prst="rect">
            <a:avLst/>
          </a:prstGeom>
          <a:noFill/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8" name="Group 83"/>
          <p:cNvGrpSpPr/>
          <p:nvPr/>
        </p:nvGrpSpPr>
        <p:grpSpPr>
          <a:xfrm>
            <a:off x="595440" y="5637240"/>
            <a:ext cx="11001240" cy="750600"/>
            <a:chOff x="595440" y="5637240"/>
            <a:chExt cx="11001240" cy="750600"/>
          </a:xfrm>
        </p:grpSpPr>
        <p:sp>
          <p:nvSpPr>
            <p:cNvPr id="2949" name="TextBox 60"/>
            <p:cNvSpPr/>
            <p:nvPr/>
          </p:nvSpPr>
          <p:spPr>
            <a:xfrm>
              <a:off x="595440" y="5637240"/>
              <a:ext cx="11887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2020 MINIMAL &amp; CLE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0" name="TextBox 65"/>
            <p:cNvSpPr/>
            <p:nvPr/>
          </p:nvSpPr>
          <p:spPr>
            <a:xfrm>
              <a:off x="10043640" y="5637240"/>
              <a:ext cx="1553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Questrial"/>
                </a:rPr>
                <a:t>ART COMPANY NEW YOR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1" name="Group 82"/>
          <p:cNvGrpSpPr/>
          <p:nvPr/>
        </p:nvGrpSpPr>
        <p:grpSpPr>
          <a:xfrm>
            <a:off x="4343040" y="1828800"/>
            <a:ext cx="3303720" cy="152280"/>
            <a:chOff x="4343040" y="1828800"/>
            <a:chExt cx="3303720" cy="152280"/>
          </a:xfrm>
        </p:grpSpPr>
        <p:sp>
          <p:nvSpPr>
            <p:cNvPr id="2952" name="Isosceles Triangle 80"/>
            <p:cNvSpPr/>
            <p:nvPr/>
          </p:nvSpPr>
          <p:spPr>
            <a:xfrm rot="5400000">
              <a:off x="7505280" y="1839600"/>
              <a:ext cx="152280" cy="13068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3" name="Isosceles Triangle 81"/>
            <p:cNvSpPr/>
            <p:nvPr/>
          </p:nvSpPr>
          <p:spPr>
            <a:xfrm rot="5400000">
              <a:off x="4332240" y="1839600"/>
              <a:ext cx="152280" cy="13068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4" name="Group 65"/>
          <p:cNvGrpSpPr/>
          <p:nvPr/>
        </p:nvGrpSpPr>
        <p:grpSpPr>
          <a:xfrm>
            <a:off x="2090880" y="4551120"/>
            <a:ext cx="8010360" cy="1759320"/>
            <a:chOff x="2090880" y="4551120"/>
            <a:chExt cx="8010360" cy="1759320"/>
          </a:xfrm>
        </p:grpSpPr>
        <p:grpSp>
          <p:nvGrpSpPr>
            <p:cNvPr id="2955" name="Group 63"/>
            <p:cNvGrpSpPr/>
            <p:nvPr/>
          </p:nvGrpSpPr>
          <p:grpSpPr>
            <a:xfrm>
              <a:off x="2575440" y="5979240"/>
              <a:ext cx="7345800" cy="331200"/>
              <a:chOff x="2575440" y="5979240"/>
              <a:chExt cx="7345800" cy="331200"/>
            </a:xfrm>
          </p:grpSpPr>
          <p:grpSp>
            <p:nvGrpSpPr>
              <p:cNvPr id="2956" name="Group 33"/>
              <p:cNvGrpSpPr/>
              <p:nvPr/>
            </p:nvGrpSpPr>
            <p:grpSpPr>
              <a:xfrm>
                <a:off x="4592520" y="5979240"/>
                <a:ext cx="1300680" cy="331200"/>
                <a:chOff x="4592520" y="5979240"/>
                <a:chExt cx="1300680" cy="331200"/>
              </a:xfrm>
            </p:grpSpPr>
            <p:sp>
              <p:nvSpPr>
                <p:cNvPr id="2957" name="TextBox 21"/>
                <p:cNvSpPr/>
                <p:nvPr/>
              </p:nvSpPr>
              <p:spPr>
                <a:xfrm>
                  <a:off x="4953240" y="5979240"/>
                  <a:ext cx="93996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95959"/>
                      </a:solidFill>
                      <a:latin typeface="Questrial"/>
                      <a:ea typeface="Open Sans"/>
                    </a:rPr>
                    <a:t>instagram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58" name="Freeform 11"/>
                <p:cNvSpPr/>
                <p:nvPr/>
              </p:nvSpPr>
              <p:spPr>
                <a:xfrm>
                  <a:off x="4592520" y="6008040"/>
                  <a:ext cx="254160" cy="254520"/>
                </a:xfrm>
                <a:custGeom>
                  <a:avLst/>
                  <a:gdLst/>
                  <a:ahLst/>
                  <a:rect l="l" t="t" r="r" b="b"/>
                  <a:pathLst>
                    <a:path w="609" h="609">
                      <a:moveTo>
                        <a:pt x="530" y="608"/>
                      </a:moveTo>
                      <a:lnTo>
                        <a:pt x="530" y="608"/>
                      </a:lnTo>
                      <a:cubicBezTo>
                        <a:pt x="78" y="608"/>
                        <a:pt x="78" y="608"/>
                        <a:pt x="78" y="608"/>
                      </a:cubicBezTo>
                      <a:cubicBezTo>
                        <a:pt x="36" y="608"/>
                        <a:pt x="0" y="572"/>
                        <a:pt x="0" y="530"/>
                      </a:cubicBezTo>
                      <a:cubicBezTo>
                        <a:pt x="0" y="78"/>
                        <a:pt x="0" y="78"/>
                        <a:pt x="0" y="78"/>
                      </a:cubicBezTo>
                      <a:cubicBezTo>
                        <a:pt x="0" y="35"/>
                        <a:pt x="36" y="0"/>
                        <a:pt x="78" y="0"/>
                      </a:cubicBezTo>
                      <a:cubicBezTo>
                        <a:pt x="530" y="0"/>
                        <a:pt x="530" y="0"/>
                        <a:pt x="530" y="0"/>
                      </a:cubicBezTo>
                      <a:cubicBezTo>
                        <a:pt x="573" y="0"/>
                        <a:pt x="608" y="35"/>
                        <a:pt x="608" y="78"/>
                      </a:cubicBezTo>
                      <a:cubicBezTo>
                        <a:pt x="608" y="530"/>
                        <a:pt x="608" y="530"/>
                        <a:pt x="608" y="530"/>
                      </a:cubicBezTo>
                      <a:cubicBezTo>
                        <a:pt x="608" y="572"/>
                        <a:pt x="573" y="608"/>
                        <a:pt x="530" y="608"/>
                      </a:cubicBezTo>
                      <a:close/>
                      <a:moveTo>
                        <a:pt x="304" y="184"/>
                      </a:moveTo>
                      <a:lnTo>
                        <a:pt x="304" y="184"/>
                      </a:lnTo>
                      <a:cubicBezTo>
                        <a:pt x="254" y="184"/>
                        <a:pt x="219" y="212"/>
                        <a:pt x="198" y="254"/>
                      </a:cubicBezTo>
                      <a:lnTo>
                        <a:pt x="198" y="254"/>
                      </a:lnTo>
                      <a:lnTo>
                        <a:pt x="198" y="254"/>
                      </a:lnTo>
                      <a:cubicBezTo>
                        <a:pt x="198" y="261"/>
                        <a:pt x="198" y="261"/>
                        <a:pt x="191" y="261"/>
                      </a:cubicBezTo>
                      <a:lnTo>
                        <a:pt x="191" y="269"/>
                      </a:lnTo>
                      <a:lnTo>
                        <a:pt x="191" y="276"/>
                      </a:lnTo>
                      <a:cubicBezTo>
                        <a:pt x="191" y="276"/>
                        <a:pt x="191" y="276"/>
                        <a:pt x="191" y="283"/>
                      </a:cubicBezTo>
                      <a:cubicBezTo>
                        <a:pt x="191" y="283"/>
                        <a:pt x="191" y="283"/>
                        <a:pt x="191" y="290"/>
                      </a:cubicBezTo>
                      <a:lnTo>
                        <a:pt x="191" y="290"/>
                      </a:lnTo>
                      <a:cubicBezTo>
                        <a:pt x="191" y="297"/>
                        <a:pt x="184" y="297"/>
                        <a:pt x="184" y="304"/>
                      </a:cubicBezTo>
                      <a:cubicBezTo>
                        <a:pt x="184" y="367"/>
                        <a:pt x="240" y="424"/>
                        <a:pt x="304" y="424"/>
                      </a:cubicBezTo>
                      <a:cubicBezTo>
                        <a:pt x="368" y="424"/>
                        <a:pt x="424" y="367"/>
                        <a:pt x="424" y="304"/>
                      </a:cubicBezTo>
                      <a:cubicBezTo>
                        <a:pt x="424" y="297"/>
                        <a:pt x="417" y="297"/>
                        <a:pt x="417" y="290"/>
                      </a:cubicBezTo>
                      <a:lnTo>
                        <a:pt x="417" y="290"/>
                      </a:lnTo>
                      <a:cubicBezTo>
                        <a:pt x="417" y="283"/>
                        <a:pt x="417" y="283"/>
                        <a:pt x="417" y="283"/>
                      </a:cubicBezTo>
                      <a:cubicBezTo>
                        <a:pt x="417" y="276"/>
                        <a:pt x="417" y="276"/>
                        <a:pt x="417" y="276"/>
                      </a:cubicBezTo>
                      <a:lnTo>
                        <a:pt x="417" y="269"/>
                      </a:lnTo>
                      <a:lnTo>
                        <a:pt x="417" y="261"/>
                      </a:lnTo>
                      <a:cubicBezTo>
                        <a:pt x="410" y="261"/>
                        <a:pt x="410" y="261"/>
                        <a:pt x="410" y="254"/>
                      </a:cubicBezTo>
                      <a:lnTo>
                        <a:pt x="410" y="254"/>
                      </a:lnTo>
                      <a:lnTo>
                        <a:pt x="410" y="254"/>
                      </a:lnTo>
                      <a:cubicBezTo>
                        <a:pt x="389" y="212"/>
                        <a:pt x="354" y="184"/>
                        <a:pt x="304" y="184"/>
                      </a:cubicBezTo>
                      <a:close/>
                      <a:moveTo>
                        <a:pt x="537" y="99"/>
                      </a:moveTo>
                      <a:lnTo>
                        <a:pt x="537" y="99"/>
                      </a:lnTo>
                      <a:cubicBezTo>
                        <a:pt x="537" y="85"/>
                        <a:pt x="523" y="71"/>
                        <a:pt x="509" y="71"/>
                      </a:cubicBezTo>
                      <a:cubicBezTo>
                        <a:pt x="445" y="71"/>
                        <a:pt x="445" y="71"/>
                        <a:pt x="445" y="71"/>
                      </a:cubicBezTo>
                      <a:cubicBezTo>
                        <a:pt x="431" y="71"/>
                        <a:pt x="417" y="85"/>
                        <a:pt x="417" y="99"/>
                      </a:cubicBezTo>
                      <a:cubicBezTo>
                        <a:pt x="417" y="162"/>
                        <a:pt x="417" y="162"/>
                        <a:pt x="417" y="162"/>
                      </a:cubicBezTo>
                      <a:cubicBezTo>
                        <a:pt x="417" y="177"/>
                        <a:pt x="431" y="191"/>
                        <a:pt x="445" y="191"/>
                      </a:cubicBezTo>
                      <a:cubicBezTo>
                        <a:pt x="509" y="191"/>
                        <a:pt x="509" y="191"/>
                        <a:pt x="509" y="191"/>
                      </a:cubicBezTo>
                      <a:cubicBezTo>
                        <a:pt x="523" y="191"/>
                        <a:pt x="537" y="177"/>
                        <a:pt x="537" y="162"/>
                      </a:cubicBezTo>
                      <a:lnTo>
                        <a:pt x="537" y="99"/>
                      </a:lnTo>
                      <a:close/>
                      <a:moveTo>
                        <a:pt x="537" y="254"/>
                      </a:moveTo>
                      <a:lnTo>
                        <a:pt x="537" y="254"/>
                      </a:lnTo>
                      <a:cubicBezTo>
                        <a:pt x="481" y="254"/>
                        <a:pt x="481" y="254"/>
                        <a:pt x="481" y="254"/>
                      </a:cubicBezTo>
                      <a:cubicBezTo>
                        <a:pt x="488" y="269"/>
                        <a:pt x="488" y="290"/>
                        <a:pt x="488" y="304"/>
                      </a:cubicBezTo>
                      <a:cubicBezTo>
                        <a:pt x="488" y="403"/>
                        <a:pt x="403" y="488"/>
                        <a:pt x="304" y="488"/>
                      </a:cubicBezTo>
                      <a:cubicBezTo>
                        <a:pt x="205" y="488"/>
                        <a:pt x="120" y="403"/>
                        <a:pt x="120" y="304"/>
                      </a:cubicBezTo>
                      <a:cubicBezTo>
                        <a:pt x="120" y="290"/>
                        <a:pt x="120" y="269"/>
                        <a:pt x="127" y="254"/>
                      </a:cubicBezTo>
                      <a:cubicBezTo>
                        <a:pt x="71" y="254"/>
                        <a:pt x="71" y="254"/>
                        <a:pt x="71" y="254"/>
                      </a:cubicBezTo>
                      <a:cubicBezTo>
                        <a:pt x="71" y="509"/>
                        <a:pt x="71" y="509"/>
                        <a:pt x="71" y="509"/>
                      </a:cubicBezTo>
                      <a:cubicBezTo>
                        <a:pt x="71" y="523"/>
                        <a:pt x="85" y="537"/>
                        <a:pt x="99" y="537"/>
                      </a:cubicBezTo>
                      <a:cubicBezTo>
                        <a:pt x="509" y="537"/>
                        <a:pt x="509" y="537"/>
                        <a:pt x="509" y="537"/>
                      </a:cubicBezTo>
                      <a:cubicBezTo>
                        <a:pt x="523" y="537"/>
                        <a:pt x="537" y="523"/>
                        <a:pt x="537" y="509"/>
                      </a:cubicBezTo>
                      <a:lnTo>
                        <a:pt x="537" y="25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59" name="Group 34"/>
              <p:cNvGrpSpPr/>
              <p:nvPr/>
            </p:nvGrpSpPr>
            <p:grpSpPr>
              <a:xfrm>
                <a:off x="6603840" y="5979240"/>
                <a:ext cx="1306080" cy="331200"/>
                <a:chOff x="6603840" y="5979240"/>
                <a:chExt cx="1306080" cy="331200"/>
              </a:xfrm>
            </p:grpSpPr>
            <p:sp>
              <p:nvSpPr>
                <p:cNvPr id="2960" name="TextBox 24"/>
                <p:cNvSpPr/>
                <p:nvPr/>
              </p:nvSpPr>
              <p:spPr>
                <a:xfrm>
                  <a:off x="6969960" y="5979240"/>
                  <a:ext cx="93996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95959"/>
                      </a:solidFill>
                      <a:latin typeface="Questrial"/>
                      <a:ea typeface="Open Sans"/>
                    </a:rPr>
                    <a:t>twit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61" name="Freeform 12"/>
                <p:cNvSpPr/>
                <p:nvPr/>
              </p:nvSpPr>
              <p:spPr>
                <a:xfrm>
                  <a:off x="6603840" y="6026760"/>
                  <a:ext cx="264960" cy="216720"/>
                </a:xfrm>
                <a:custGeom>
                  <a:avLst/>
                  <a:gdLst/>
                  <a:ahLst/>
                  <a:rect l="l" t="t" r="r" b="b"/>
                  <a:pathLst>
                    <a:path w="602" h="496">
                      <a:moveTo>
                        <a:pt x="410" y="0"/>
                      </a:moveTo>
                      <a:lnTo>
                        <a:pt x="410" y="0"/>
                      </a:lnTo>
                      <a:cubicBezTo>
                        <a:pt x="459" y="0"/>
                        <a:pt x="481" y="22"/>
                        <a:pt x="509" y="43"/>
                      </a:cubicBezTo>
                      <a:cubicBezTo>
                        <a:pt x="530" y="43"/>
                        <a:pt x="558" y="29"/>
                        <a:pt x="572" y="22"/>
                      </a:cubicBezTo>
                      <a:cubicBezTo>
                        <a:pt x="580" y="15"/>
                        <a:pt x="580" y="15"/>
                        <a:pt x="587" y="15"/>
                      </a:cubicBezTo>
                      <a:cubicBezTo>
                        <a:pt x="580" y="36"/>
                        <a:pt x="565" y="57"/>
                        <a:pt x="544" y="71"/>
                      </a:cubicBezTo>
                      <a:cubicBezTo>
                        <a:pt x="544" y="71"/>
                        <a:pt x="537" y="78"/>
                        <a:pt x="530" y="78"/>
                      </a:cubicBezTo>
                      <a:lnTo>
                        <a:pt x="530" y="78"/>
                      </a:lnTo>
                      <a:cubicBezTo>
                        <a:pt x="558" y="78"/>
                        <a:pt x="580" y="64"/>
                        <a:pt x="601" y="64"/>
                      </a:cubicBezTo>
                      <a:lnTo>
                        <a:pt x="601" y="64"/>
                      </a:lnTo>
                      <a:cubicBezTo>
                        <a:pt x="594" y="78"/>
                        <a:pt x="580" y="99"/>
                        <a:pt x="558" y="106"/>
                      </a:cubicBezTo>
                      <a:cubicBezTo>
                        <a:pt x="551" y="113"/>
                        <a:pt x="551" y="121"/>
                        <a:pt x="544" y="128"/>
                      </a:cubicBezTo>
                      <a:cubicBezTo>
                        <a:pt x="544" y="156"/>
                        <a:pt x="544" y="177"/>
                        <a:pt x="537" y="205"/>
                      </a:cubicBezTo>
                      <a:cubicBezTo>
                        <a:pt x="502" y="340"/>
                        <a:pt x="424" y="439"/>
                        <a:pt x="297" y="481"/>
                      </a:cubicBezTo>
                      <a:cubicBezTo>
                        <a:pt x="247" y="495"/>
                        <a:pt x="170" y="495"/>
                        <a:pt x="120" y="488"/>
                      </a:cubicBezTo>
                      <a:cubicBezTo>
                        <a:pt x="92" y="481"/>
                        <a:pt x="71" y="474"/>
                        <a:pt x="42" y="460"/>
                      </a:cubicBezTo>
                      <a:cubicBezTo>
                        <a:pt x="35" y="453"/>
                        <a:pt x="21" y="453"/>
                        <a:pt x="14" y="446"/>
                      </a:cubicBezTo>
                      <a:cubicBezTo>
                        <a:pt x="7" y="439"/>
                        <a:pt x="7" y="439"/>
                        <a:pt x="0" y="439"/>
                      </a:cubicBezTo>
                      <a:cubicBezTo>
                        <a:pt x="14" y="439"/>
                        <a:pt x="28" y="439"/>
                        <a:pt x="42" y="439"/>
                      </a:cubicBezTo>
                      <a:cubicBezTo>
                        <a:pt x="50" y="439"/>
                        <a:pt x="64" y="439"/>
                        <a:pt x="78" y="432"/>
                      </a:cubicBezTo>
                      <a:cubicBezTo>
                        <a:pt x="106" y="424"/>
                        <a:pt x="127" y="417"/>
                        <a:pt x="148" y="410"/>
                      </a:cubicBezTo>
                      <a:cubicBezTo>
                        <a:pt x="163" y="403"/>
                        <a:pt x="177" y="396"/>
                        <a:pt x="184" y="382"/>
                      </a:cubicBezTo>
                      <a:cubicBezTo>
                        <a:pt x="170" y="382"/>
                        <a:pt x="156" y="382"/>
                        <a:pt x="148" y="382"/>
                      </a:cubicBezTo>
                      <a:cubicBezTo>
                        <a:pt x="106" y="368"/>
                        <a:pt x="85" y="340"/>
                        <a:pt x="71" y="297"/>
                      </a:cubicBezTo>
                      <a:cubicBezTo>
                        <a:pt x="78" y="304"/>
                        <a:pt x="113" y="304"/>
                        <a:pt x="120" y="297"/>
                      </a:cubicBezTo>
                      <a:cubicBezTo>
                        <a:pt x="106" y="297"/>
                        <a:pt x="92" y="290"/>
                        <a:pt x="85" y="283"/>
                      </a:cubicBezTo>
                      <a:cubicBezTo>
                        <a:pt x="50" y="262"/>
                        <a:pt x="21" y="227"/>
                        <a:pt x="21" y="177"/>
                      </a:cubicBezTo>
                      <a:cubicBezTo>
                        <a:pt x="28" y="177"/>
                        <a:pt x="35" y="177"/>
                        <a:pt x="35" y="184"/>
                      </a:cubicBezTo>
                      <a:cubicBezTo>
                        <a:pt x="42" y="184"/>
                        <a:pt x="50" y="184"/>
                        <a:pt x="64" y="191"/>
                      </a:cubicBezTo>
                      <a:lnTo>
                        <a:pt x="78" y="191"/>
                      </a:lnTo>
                      <a:lnTo>
                        <a:pt x="78" y="191"/>
                      </a:lnTo>
                      <a:cubicBezTo>
                        <a:pt x="71" y="184"/>
                        <a:pt x="64" y="177"/>
                        <a:pt x="57" y="170"/>
                      </a:cubicBezTo>
                      <a:cubicBezTo>
                        <a:pt x="35" y="142"/>
                        <a:pt x="14" y="106"/>
                        <a:pt x="28" y="57"/>
                      </a:cubicBezTo>
                      <a:cubicBezTo>
                        <a:pt x="28" y="43"/>
                        <a:pt x="35" y="36"/>
                        <a:pt x="42" y="29"/>
                      </a:cubicBezTo>
                      <a:lnTo>
                        <a:pt x="42" y="29"/>
                      </a:lnTo>
                      <a:cubicBezTo>
                        <a:pt x="42" y="29"/>
                        <a:pt x="50" y="36"/>
                        <a:pt x="57" y="36"/>
                      </a:cubicBezTo>
                      <a:cubicBezTo>
                        <a:pt x="64" y="50"/>
                        <a:pt x="78" y="64"/>
                        <a:pt x="92" y="71"/>
                      </a:cubicBezTo>
                      <a:cubicBezTo>
                        <a:pt x="134" y="106"/>
                        <a:pt x="177" y="128"/>
                        <a:pt x="240" y="149"/>
                      </a:cubicBezTo>
                      <a:cubicBezTo>
                        <a:pt x="261" y="149"/>
                        <a:pt x="276" y="156"/>
                        <a:pt x="297" y="156"/>
                      </a:cubicBezTo>
                      <a:cubicBezTo>
                        <a:pt x="290" y="135"/>
                        <a:pt x="290" y="113"/>
                        <a:pt x="297" y="99"/>
                      </a:cubicBezTo>
                      <a:cubicBezTo>
                        <a:pt x="311" y="57"/>
                        <a:pt x="332" y="29"/>
                        <a:pt x="368" y="15"/>
                      </a:cubicBezTo>
                      <a:cubicBezTo>
                        <a:pt x="375" y="8"/>
                        <a:pt x="389" y="8"/>
                        <a:pt x="396" y="8"/>
                      </a:cubicBezTo>
                      <a:cubicBezTo>
                        <a:pt x="403" y="8"/>
                        <a:pt x="403" y="0"/>
                        <a:pt x="410" y="0"/>
                      </a:cubicBez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62" name="Group 32"/>
              <p:cNvGrpSpPr/>
              <p:nvPr/>
            </p:nvGrpSpPr>
            <p:grpSpPr>
              <a:xfrm>
                <a:off x="2575440" y="5979240"/>
                <a:ext cx="1306080" cy="331200"/>
                <a:chOff x="2575440" y="5979240"/>
                <a:chExt cx="1306080" cy="331200"/>
              </a:xfrm>
            </p:grpSpPr>
            <p:sp>
              <p:nvSpPr>
                <p:cNvPr id="2963" name="TextBox 27"/>
                <p:cNvSpPr/>
                <p:nvPr/>
              </p:nvSpPr>
              <p:spPr>
                <a:xfrm>
                  <a:off x="2941560" y="5979240"/>
                  <a:ext cx="93996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95959"/>
                      </a:solidFill>
                      <a:latin typeface="Questrial"/>
                      <a:ea typeface="Open Sans"/>
                    </a:rPr>
                    <a:t>facebook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64" name="Freeform 13"/>
                <p:cNvSpPr/>
                <p:nvPr/>
              </p:nvSpPr>
              <p:spPr>
                <a:xfrm>
                  <a:off x="2575440" y="6003360"/>
                  <a:ext cx="265680" cy="263880"/>
                </a:xfrm>
                <a:custGeom>
                  <a:avLst/>
                  <a:gdLst/>
                  <a:ahLst/>
                  <a:rect l="l" t="t" r="r" b="b"/>
                  <a:pathLst>
                    <a:path w="602" h="601">
                      <a:moveTo>
                        <a:pt x="551" y="600"/>
                      </a:moveTo>
                      <a:lnTo>
                        <a:pt x="551" y="600"/>
                      </a:lnTo>
                      <a:cubicBezTo>
                        <a:pt x="42" y="600"/>
                        <a:pt x="42" y="600"/>
                        <a:pt x="42" y="600"/>
                      </a:cubicBezTo>
                      <a:cubicBezTo>
                        <a:pt x="21" y="600"/>
                        <a:pt x="0" y="586"/>
                        <a:pt x="0" y="558"/>
                      </a:cubicBezTo>
                      <a:cubicBezTo>
                        <a:pt x="0" y="49"/>
                        <a:pt x="0" y="49"/>
                        <a:pt x="0" y="49"/>
                      </a:cubicBezTo>
                      <a:cubicBezTo>
                        <a:pt x="0" y="21"/>
                        <a:pt x="21" y="0"/>
                        <a:pt x="42" y="0"/>
                      </a:cubicBezTo>
                      <a:cubicBezTo>
                        <a:pt x="551" y="0"/>
                        <a:pt x="551" y="0"/>
                        <a:pt x="551" y="0"/>
                      </a:cubicBezTo>
                      <a:cubicBezTo>
                        <a:pt x="580" y="0"/>
                        <a:pt x="601" y="21"/>
                        <a:pt x="601" y="49"/>
                      </a:cubicBezTo>
                      <a:cubicBezTo>
                        <a:pt x="601" y="558"/>
                        <a:pt x="601" y="558"/>
                        <a:pt x="601" y="558"/>
                      </a:cubicBezTo>
                      <a:cubicBezTo>
                        <a:pt x="601" y="586"/>
                        <a:pt x="580" y="600"/>
                        <a:pt x="551" y="600"/>
                      </a:cubicBezTo>
                      <a:close/>
                      <a:moveTo>
                        <a:pt x="255" y="113"/>
                      </a:moveTo>
                      <a:lnTo>
                        <a:pt x="255" y="113"/>
                      </a:lnTo>
                      <a:cubicBezTo>
                        <a:pt x="226" y="113"/>
                        <a:pt x="198" y="120"/>
                        <a:pt x="184" y="127"/>
                      </a:cubicBezTo>
                      <a:cubicBezTo>
                        <a:pt x="163" y="141"/>
                        <a:pt x="148" y="155"/>
                        <a:pt x="141" y="169"/>
                      </a:cubicBezTo>
                      <a:cubicBezTo>
                        <a:pt x="141" y="184"/>
                        <a:pt x="134" y="198"/>
                        <a:pt x="134" y="226"/>
                      </a:cubicBezTo>
                      <a:cubicBezTo>
                        <a:pt x="134" y="254"/>
                        <a:pt x="134" y="254"/>
                        <a:pt x="134" y="254"/>
                      </a:cubicBezTo>
                      <a:cubicBezTo>
                        <a:pt x="92" y="254"/>
                        <a:pt x="92" y="254"/>
                        <a:pt x="92" y="254"/>
                      </a:cubicBezTo>
                      <a:cubicBezTo>
                        <a:pt x="92" y="325"/>
                        <a:pt x="92" y="325"/>
                        <a:pt x="92" y="325"/>
                      </a:cubicBezTo>
                      <a:cubicBezTo>
                        <a:pt x="134" y="325"/>
                        <a:pt x="134" y="325"/>
                        <a:pt x="134" y="325"/>
                      </a:cubicBezTo>
                      <a:cubicBezTo>
                        <a:pt x="134" y="558"/>
                        <a:pt x="134" y="558"/>
                        <a:pt x="134" y="558"/>
                      </a:cubicBezTo>
                      <a:cubicBezTo>
                        <a:pt x="233" y="558"/>
                        <a:pt x="233" y="558"/>
                        <a:pt x="233" y="558"/>
                      </a:cubicBezTo>
                      <a:cubicBezTo>
                        <a:pt x="233" y="325"/>
                        <a:pt x="233" y="325"/>
                        <a:pt x="233" y="325"/>
                      </a:cubicBezTo>
                      <a:cubicBezTo>
                        <a:pt x="290" y="325"/>
                        <a:pt x="290" y="325"/>
                        <a:pt x="290" y="325"/>
                      </a:cubicBezTo>
                      <a:cubicBezTo>
                        <a:pt x="311" y="254"/>
                        <a:pt x="311" y="254"/>
                        <a:pt x="311" y="254"/>
                      </a:cubicBezTo>
                      <a:cubicBezTo>
                        <a:pt x="233" y="254"/>
                        <a:pt x="233" y="254"/>
                        <a:pt x="233" y="254"/>
                      </a:cubicBezTo>
                      <a:cubicBezTo>
                        <a:pt x="233" y="226"/>
                        <a:pt x="233" y="226"/>
                        <a:pt x="233" y="226"/>
                      </a:cubicBezTo>
                      <a:cubicBezTo>
                        <a:pt x="233" y="212"/>
                        <a:pt x="233" y="198"/>
                        <a:pt x="240" y="191"/>
                      </a:cubicBezTo>
                      <a:cubicBezTo>
                        <a:pt x="248" y="191"/>
                        <a:pt x="262" y="184"/>
                        <a:pt x="276" y="184"/>
                      </a:cubicBezTo>
                      <a:cubicBezTo>
                        <a:pt x="290" y="184"/>
                        <a:pt x="297" y="191"/>
                        <a:pt x="311" y="198"/>
                      </a:cubicBezTo>
                      <a:cubicBezTo>
                        <a:pt x="332" y="134"/>
                        <a:pt x="332" y="134"/>
                        <a:pt x="332" y="134"/>
                      </a:cubicBezTo>
                      <a:cubicBezTo>
                        <a:pt x="304" y="127"/>
                        <a:pt x="283" y="113"/>
                        <a:pt x="255" y="113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65" name="Group 35"/>
              <p:cNvGrpSpPr/>
              <p:nvPr/>
            </p:nvGrpSpPr>
            <p:grpSpPr>
              <a:xfrm>
                <a:off x="8620560" y="5979240"/>
                <a:ext cx="1300680" cy="331200"/>
                <a:chOff x="8620560" y="5979240"/>
                <a:chExt cx="1300680" cy="331200"/>
              </a:xfrm>
            </p:grpSpPr>
            <p:sp>
              <p:nvSpPr>
                <p:cNvPr id="2966" name="TextBox 30"/>
                <p:cNvSpPr/>
                <p:nvPr/>
              </p:nvSpPr>
              <p:spPr>
                <a:xfrm>
                  <a:off x="8981280" y="5979240"/>
                  <a:ext cx="93996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95959"/>
                      </a:solidFill>
                      <a:latin typeface="Questrial"/>
                      <a:ea typeface="Open Sans"/>
                    </a:rPr>
                    <a:t>linkedin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67" name="Freeform 104"/>
                <p:cNvSpPr/>
                <p:nvPr/>
              </p:nvSpPr>
              <p:spPr>
                <a:xfrm>
                  <a:off x="8620560" y="6009840"/>
                  <a:ext cx="250200" cy="250560"/>
                </a:xfrm>
                <a:custGeom>
                  <a:avLst/>
                  <a:gdLst/>
                  <a:ahLst/>
                  <a:rect l="l" t="t" r="r" b="b"/>
                  <a:pathLst>
                    <a:path w="62" h="62">
                      <a:moveTo>
                        <a:pt x="62" y="51"/>
                      </a:moveTo>
                      <a:cubicBezTo>
                        <a:pt x="62" y="57"/>
                        <a:pt x="57" y="62"/>
                        <a:pt x="51" y="62"/>
                      </a:cubicBezTo>
                      <a:cubicBezTo>
                        <a:pt x="12" y="62"/>
                        <a:pt x="12" y="62"/>
                        <a:pt x="12" y="62"/>
                      </a:cubicBezTo>
                      <a:cubicBezTo>
                        <a:pt x="6" y="62"/>
                        <a:pt x="0" y="57"/>
                        <a:pt x="0" y="5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6"/>
                        <a:pt x="6" y="0"/>
                        <a:pt x="12" y="0"/>
                      </a:cubicBezTo>
                      <a:cubicBezTo>
                        <a:pt x="51" y="0"/>
                        <a:pt x="51" y="0"/>
                        <a:pt x="51" y="0"/>
                      </a:cubicBezTo>
                      <a:cubicBezTo>
                        <a:pt x="57" y="0"/>
                        <a:pt x="62" y="6"/>
                        <a:pt x="62" y="12"/>
                      </a:cubicBezTo>
                      <a:lnTo>
                        <a:pt x="62" y="51"/>
                      </a:lnTo>
                      <a:close/>
                      <a:moveTo>
                        <a:pt x="15" y="11"/>
                      </a:moveTo>
                      <a:cubicBezTo>
                        <a:pt x="12" y="11"/>
                        <a:pt x="9" y="13"/>
                        <a:pt x="9" y="16"/>
                      </a:cubicBezTo>
                      <a:cubicBezTo>
                        <a:pt x="9" y="18"/>
                        <a:pt x="11" y="20"/>
                        <a:pt x="15" y="20"/>
                      </a:cubicBezTo>
                      <a:cubicBezTo>
                        <a:pt x="15" y="20"/>
                        <a:pt x="15" y="20"/>
                        <a:pt x="15" y="20"/>
                      </a:cubicBezTo>
                      <a:cubicBezTo>
                        <a:pt x="18" y="20"/>
                        <a:pt x="20" y="18"/>
                        <a:pt x="20" y="16"/>
                      </a:cubicBezTo>
                      <a:cubicBezTo>
                        <a:pt x="20" y="13"/>
                        <a:pt x="18" y="11"/>
                        <a:pt x="15" y="11"/>
                      </a:cubicBezTo>
                      <a:close/>
                      <a:moveTo>
                        <a:pt x="19" y="52"/>
                      </a:moveTo>
                      <a:cubicBezTo>
                        <a:pt x="19" y="24"/>
                        <a:pt x="19" y="24"/>
                        <a:pt x="19" y="24"/>
                      </a:cubicBezTo>
                      <a:cubicBezTo>
                        <a:pt x="10" y="24"/>
                        <a:pt x="10" y="24"/>
                        <a:pt x="10" y="24"/>
                      </a:cubicBezTo>
                      <a:cubicBezTo>
                        <a:pt x="10" y="52"/>
                        <a:pt x="10" y="52"/>
                        <a:pt x="10" y="52"/>
                      </a:cubicBezTo>
                      <a:lnTo>
                        <a:pt x="19" y="52"/>
                      </a:lnTo>
                      <a:close/>
                      <a:moveTo>
                        <a:pt x="53" y="52"/>
                      </a:moveTo>
                      <a:cubicBezTo>
                        <a:pt x="53" y="36"/>
                        <a:pt x="53" y="36"/>
                        <a:pt x="53" y="36"/>
                      </a:cubicBezTo>
                      <a:cubicBezTo>
                        <a:pt x="53" y="28"/>
                        <a:pt x="48" y="24"/>
                        <a:pt x="42" y="24"/>
                      </a:cubicBezTo>
                      <a:cubicBezTo>
                        <a:pt x="37" y="24"/>
                        <a:pt x="35" y="26"/>
                        <a:pt x="34" y="28"/>
                      </a:cubicBezTo>
                      <a:cubicBezTo>
                        <a:pt x="34" y="28"/>
                        <a:pt x="34" y="28"/>
                        <a:pt x="34" y="28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24" y="24"/>
                        <a:pt x="24" y="24"/>
                        <a:pt x="24" y="24"/>
                      </a:cubicBezTo>
                      <a:cubicBezTo>
                        <a:pt x="24" y="24"/>
                        <a:pt x="24" y="27"/>
                        <a:pt x="24" y="52"/>
                      </a:cubicBezTo>
                      <a:cubicBezTo>
                        <a:pt x="34" y="52"/>
                        <a:pt x="34" y="52"/>
                        <a:pt x="34" y="52"/>
                      </a:cubicBezTo>
                      <a:cubicBezTo>
                        <a:pt x="34" y="37"/>
                        <a:pt x="34" y="37"/>
                        <a:pt x="34" y="37"/>
                      </a:cubicBezTo>
                      <a:cubicBezTo>
                        <a:pt x="34" y="36"/>
                        <a:pt x="34" y="35"/>
                        <a:pt x="34" y="34"/>
                      </a:cubicBezTo>
                      <a:cubicBezTo>
                        <a:pt x="35" y="33"/>
                        <a:pt x="36" y="31"/>
                        <a:pt x="39" y="31"/>
                      </a:cubicBezTo>
                      <a:cubicBezTo>
                        <a:pt x="42" y="31"/>
                        <a:pt x="43" y="33"/>
                        <a:pt x="43" y="37"/>
                      </a:cubicBezTo>
                      <a:cubicBezTo>
                        <a:pt x="43" y="52"/>
                        <a:pt x="43" y="52"/>
                        <a:pt x="43" y="52"/>
                      </a:cubicBezTo>
                      <a:lnTo>
                        <a:pt x="53" y="5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68" name="Group 64"/>
            <p:cNvGrpSpPr/>
            <p:nvPr/>
          </p:nvGrpSpPr>
          <p:grpSpPr>
            <a:xfrm>
              <a:off x="2090880" y="4551120"/>
              <a:ext cx="8010360" cy="1109880"/>
              <a:chOff x="2090880" y="4551120"/>
              <a:chExt cx="8010360" cy="1109880"/>
            </a:xfrm>
          </p:grpSpPr>
          <p:grpSp>
            <p:nvGrpSpPr>
              <p:cNvPr id="2969" name="Group 44"/>
              <p:cNvGrpSpPr/>
              <p:nvPr/>
            </p:nvGrpSpPr>
            <p:grpSpPr>
              <a:xfrm>
                <a:off x="4876920" y="4551480"/>
                <a:ext cx="2438280" cy="890640"/>
                <a:chOff x="4876920" y="4551480"/>
                <a:chExt cx="2438280" cy="890640"/>
              </a:xfrm>
            </p:grpSpPr>
            <p:sp>
              <p:nvSpPr>
                <p:cNvPr id="2970" name="TextBox 8"/>
                <p:cNvSpPr/>
                <p:nvPr/>
              </p:nvSpPr>
              <p:spPr>
                <a:xfrm>
                  <a:off x="4876920" y="4551480"/>
                  <a:ext cx="243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Questrial"/>
                      <a:ea typeface="Open Sans"/>
                    </a:rPr>
                    <a:t>Phone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71" name="TextBox 10"/>
                <p:cNvSpPr/>
                <p:nvPr/>
              </p:nvSpPr>
              <p:spPr>
                <a:xfrm>
                  <a:off x="4939560" y="4910400"/>
                  <a:ext cx="231300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95959"/>
                      </a:solidFill>
                      <a:latin typeface="Roboto Light"/>
                      <a:ea typeface="Roboto Light"/>
                    </a:rPr>
                    <a:t>+621857457161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95959"/>
                      </a:solidFill>
                      <a:latin typeface="Roboto Light"/>
                      <a:ea typeface="Roboto Light"/>
                    </a:rPr>
                    <a:t>+621857457161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72" name="Group 45"/>
              <p:cNvGrpSpPr/>
              <p:nvPr/>
            </p:nvGrpSpPr>
            <p:grpSpPr>
              <a:xfrm>
                <a:off x="2090880" y="4551480"/>
                <a:ext cx="2438280" cy="1109520"/>
                <a:chOff x="2090880" y="4551480"/>
                <a:chExt cx="2438280" cy="1109520"/>
              </a:xfrm>
            </p:grpSpPr>
            <p:sp>
              <p:nvSpPr>
                <p:cNvPr id="2973" name="TextBox 2"/>
                <p:cNvSpPr/>
                <p:nvPr/>
              </p:nvSpPr>
              <p:spPr>
                <a:xfrm>
                  <a:off x="2397240" y="4910400"/>
                  <a:ext cx="182520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95959"/>
                      </a:solidFill>
                      <a:latin typeface="Roboto Light"/>
                      <a:ea typeface="Roboto Light"/>
                    </a:rPr>
                    <a:t>Street Sumobito No. 21 Jombang - Indonesia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74" name="TextBox 4"/>
                <p:cNvSpPr/>
                <p:nvPr/>
              </p:nvSpPr>
              <p:spPr>
                <a:xfrm>
                  <a:off x="2090880" y="4551480"/>
                  <a:ext cx="243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Questrial"/>
                      <a:ea typeface="Open Sans"/>
                    </a:rPr>
                    <a:t>Address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75" name="Group 47"/>
              <p:cNvGrpSpPr/>
              <p:nvPr/>
            </p:nvGrpSpPr>
            <p:grpSpPr>
              <a:xfrm>
                <a:off x="7662960" y="4551480"/>
                <a:ext cx="2438280" cy="890640"/>
                <a:chOff x="7662960" y="4551480"/>
                <a:chExt cx="2438280" cy="890640"/>
              </a:xfrm>
            </p:grpSpPr>
            <p:sp>
              <p:nvSpPr>
                <p:cNvPr id="2976" name="TextBox 12"/>
                <p:cNvSpPr/>
                <p:nvPr/>
              </p:nvSpPr>
              <p:spPr>
                <a:xfrm>
                  <a:off x="7662960" y="4551480"/>
                  <a:ext cx="243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Questrial"/>
                      <a:ea typeface="Open Sans"/>
                    </a:rPr>
                    <a:t>E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77" name="TextBox 14"/>
                <p:cNvSpPr/>
                <p:nvPr/>
              </p:nvSpPr>
              <p:spPr>
                <a:xfrm>
                  <a:off x="7725600" y="4910400"/>
                  <a:ext cx="231300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95959"/>
                      </a:solidFill>
                      <a:latin typeface="Roboto Light"/>
                      <a:ea typeface="Roboto Light"/>
                    </a:rPr>
                    <a:t>example@yourdomain.com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95959"/>
                      </a:solidFill>
                      <a:latin typeface="Roboto Light"/>
                      <a:ea typeface="Roboto Light"/>
                    </a:rPr>
                    <a:t>example@yourdomain.com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78" name="Group 52"/>
              <p:cNvGrpSpPr/>
              <p:nvPr/>
            </p:nvGrpSpPr>
            <p:grpSpPr>
              <a:xfrm>
                <a:off x="2534760" y="4551120"/>
                <a:ext cx="7386480" cy="1048320"/>
                <a:chOff x="2534760" y="4551120"/>
                <a:chExt cx="7386480" cy="1048320"/>
              </a:xfrm>
            </p:grpSpPr>
            <p:grpSp>
              <p:nvGrpSpPr>
                <p:cNvPr id="2979" name="Group 51"/>
                <p:cNvGrpSpPr/>
                <p:nvPr/>
              </p:nvGrpSpPr>
              <p:grpSpPr>
                <a:xfrm>
                  <a:off x="4702680" y="4551120"/>
                  <a:ext cx="2786040" cy="1047960"/>
                  <a:chOff x="4702680" y="4551120"/>
                  <a:chExt cx="2786040" cy="1047960"/>
                </a:xfrm>
              </p:grpSpPr>
              <p:sp>
                <p:nvSpPr>
                  <p:cNvPr id="2980" name="Straight Connector 41"/>
                  <p:cNvSpPr/>
                  <p:nvPr/>
                </p:nvSpPr>
                <p:spPr>
                  <a:xfrm flipV="1">
                    <a:off x="4702680" y="4551120"/>
                    <a:ext cx="0" cy="1047960"/>
                  </a:xfrm>
                  <a:prstGeom prst="line">
                    <a:avLst/>
                  </a:prstGeom>
                  <a:ln w="12600">
                    <a:solidFill>
                      <a:srgbClr val="d9d9d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81" name="Straight Connector 43"/>
                  <p:cNvSpPr/>
                  <p:nvPr/>
                </p:nvSpPr>
                <p:spPr>
                  <a:xfrm flipV="1">
                    <a:off x="7488720" y="4551120"/>
                    <a:ext cx="0" cy="1047960"/>
                  </a:xfrm>
                  <a:prstGeom prst="line">
                    <a:avLst/>
                  </a:prstGeom>
                  <a:ln w="12600">
                    <a:solidFill>
                      <a:srgbClr val="d9d9d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82" name="Straight Connector 49"/>
                <p:cNvSpPr/>
                <p:nvPr/>
              </p:nvSpPr>
              <p:spPr>
                <a:xfrm flipH="1">
                  <a:off x="2534760" y="5599440"/>
                  <a:ext cx="7386480" cy="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983" name="Freeform: Shape 54"/>
          <p:cNvSpPr/>
          <p:nvPr/>
        </p:nvSpPr>
        <p:spPr>
          <a:xfrm>
            <a:off x="3368520" y="0"/>
            <a:ext cx="5454720" cy="2901960"/>
          </a:xfrm>
          <a:custGeom>
            <a:avLst/>
            <a:gdLst/>
            <a:ahLst/>
            <a:rect l="l" t="t" r="r" b="b"/>
            <a:pathLst>
              <a:path w="5454928" h="2902228">
                <a:moveTo>
                  <a:pt x="8825" y="0"/>
                </a:moveTo>
                <a:lnTo>
                  <a:pt x="5446103" y="0"/>
                </a:lnTo>
                <a:lnTo>
                  <a:pt x="5454928" y="174764"/>
                </a:lnTo>
                <a:cubicBezTo>
                  <a:pt x="5454928" y="1681101"/>
                  <a:pt x="4233801" y="2902228"/>
                  <a:pt x="2727464" y="2902228"/>
                </a:cubicBezTo>
                <a:cubicBezTo>
                  <a:pt x="1221127" y="2902228"/>
                  <a:pt x="0" y="1681101"/>
                  <a:pt x="0" y="174764"/>
                </a:cubicBezTo>
                <a:lnTo>
                  <a:pt x="8825" y="0"/>
                </a:lnTo>
                <a:close/>
              </a:path>
            </a:pathLst>
          </a:custGeom>
          <a:solidFill>
            <a:srgbClr val="f7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TextBox 6"/>
          <p:cNvSpPr/>
          <p:nvPr/>
        </p:nvSpPr>
        <p:spPr>
          <a:xfrm>
            <a:off x="4840200" y="1306440"/>
            <a:ext cx="2511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boto Light"/>
                <a:ea typeface="Roboto Light"/>
              </a:rPr>
              <a:t>Get in Touch with us to get the new inform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TextBox 16"/>
          <p:cNvSpPr/>
          <p:nvPr/>
        </p:nvSpPr>
        <p:spPr>
          <a:xfrm>
            <a:off x="4065480" y="706320"/>
            <a:ext cx="40608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estrial"/>
              </a:rPr>
              <a:t>Contact Us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6" name="Isosceles Triangle 61"/>
          <p:cNvSpPr/>
          <p:nvPr/>
        </p:nvSpPr>
        <p:spPr>
          <a:xfrm rot="10800000">
            <a:off x="6049800" y="1982880"/>
            <a:ext cx="92160" cy="79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7" name="Rectangle 16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2988" name="Rectangle 1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9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0" name="TextBox 18"/>
          <p:cNvSpPr/>
          <p:nvPr/>
        </p:nvSpPr>
        <p:spPr>
          <a:xfrm>
            <a:off x="5079600" y="54936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Questrial"/>
              </a:rPr>
              <a:t>©2020 MINIMAL &amp; C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TextBox 20"/>
          <p:cNvSpPr/>
          <p:nvPr/>
        </p:nvSpPr>
        <p:spPr>
          <a:xfrm>
            <a:off x="5054760" y="6035760"/>
            <a:ext cx="20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Questrial"/>
              </a:rPr>
              <a:t>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TextBox 7"/>
          <p:cNvSpPr/>
          <p:nvPr/>
        </p:nvSpPr>
        <p:spPr>
          <a:xfrm>
            <a:off x="4089240" y="2367000"/>
            <a:ext cx="401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Quest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3" name="Group 9"/>
          <p:cNvGrpSpPr/>
          <p:nvPr/>
        </p:nvGrpSpPr>
        <p:grpSpPr>
          <a:xfrm>
            <a:off x="4316400" y="2195640"/>
            <a:ext cx="3559320" cy="2466720"/>
            <a:chOff x="4316400" y="2195640"/>
            <a:chExt cx="3559320" cy="2466720"/>
          </a:xfrm>
        </p:grpSpPr>
        <p:sp>
          <p:nvSpPr>
            <p:cNvPr id="2994" name="Straight Connector 10"/>
            <p:cNvSpPr/>
            <p:nvPr/>
          </p:nvSpPr>
          <p:spPr>
            <a:xfrm>
              <a:off x="4316400" y="4662360"/>
              <a:ext cx="355932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Straight Connector 11"/>
            <p:cNvSpPr/>
            <p:nvPr/>
          </p:nvSpPr>
          <p:spPr>
            <a:xfrm>
              <a:off x="4316400" y="2195640"/>
              <a:ext cx="355932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TextBox 2"/>
          <p:cNvSpPr/>
          <p:nvPr/>
        </p:nvSpPr>
        <p:spPr>
          <a:xfrm>
            <a:off x="1081080" y="2343240"/>
            <a:ext cx="31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estrial"/>
              </a:rPr>
              <a:t>We strive to improve your compa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TextBox 5"/>
          <p:cNvSpPr/>
          <p:nvPr/>
        </p:nvSpPr>
        <p:spPr>
          <a:xfrm>
            <a:off x="1081080" y="4478400"/>
            <a:ext cx="3186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robust synopsis for high Organically grow the holistic world view of disruptive innovation workplace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7099200" y="4141800"/>
            <a:ext cx="20304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TextBox 11"/>
          <p:cNvSpPr/>
          <p:nvPr/>
        </p:nvSpPr>
        <p:spPr>
          <a:xfrm>
            <a:off x="7362720" y="4417920"/>
            <a:ext cx="1427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Questrial"/>
                <a:ea typeface="Adobe Gothic Std B"/>
              </a:rPr>
              <a:t>Minimalist House Image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2" name="Group 32"/>
          <p:cNvGrpSpPr/>
          <p:nvPr/>
        </p:nvGrpSpPr>
        <p:grpSpPr>
          <a:xfrm>
            <a:off x="1182600" y="1298520"/>
            <a:ext cx="700200" cy="700200"/>
            <a:chOff x="1182600" y="1298520"/>
            <a:chExt cx="700200" cy="700200"/>
          </a:xfrm>
        </p:grpSpPr>
        <p:sp>
          <p:nvSpPr>
            <p:cNvPr id="2053" name="TextBox 33"/>
            <p:cNvSpPr/>
            <p:nvPr/>
          </p:nvSpPr>
          <p:spPr>
            <a:xfrm>
              <a:off x="1220400" y="1386720"/>
              <a:ext cx="6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Questrial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4" name="Frame 34"/>
            <p:cNvSpPr/>
            <p:nvPr/>
          </p:nvSpPr>
          <p:spPr>
            <a:xfrm>
              <a:off x="1182600" y="1298520"/>
              <a:ext cx="700200" cy="700200"/>
            </a:xfrm>
            <a:custGeom>
              <a:avLst/>
              <a:gdLst/>
              <a:ahLst/>
              <a:rect l="l" t="t" r="r" b="b"/>
              <a:pathLst>
                <a:path w="700088" h="700088">
                  <a:moveTo>
                    <a:pt x="0" y="0"/>
                  </a:moveTo>
                  <a:lnTo>
                    <a:pt x="700088" y="0"/>
                  </a:lnTo>
                  <a:lnTo>
                    <a:pt x="700088" y="700088"/>
                  </a:lnTo>
                  <a:lnTo>
                    <a:pt x="0" y="700088"/>
                  </a:lnTo>
                  <a:lnTo>
                    <a:pt x="0" y="0"/>
                  </a:lnTo>
                  <a:close/>
                  <a:moveTo>
                    <a:pt x="30363" y="30363"/>
                  </a:moveTo>
                  <a:lnTo>
                    <a:pt x="30363" y="669725"/>
                  </a:lnTo>
                  <a:lnTo>
                    <a:pt x="669725" y="669725"/>
                  </a:lnTo>
                  <a:lnTo>
                    <a:pt x="669725" y="30363"/>
                  </a:lnTo>
                  <a:lnTo>
                    <a:pt x="30363" y="30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5" name="TextBox 36"/>
          <p:cNvSpPr/>
          <p:nvPr/>
        </p:nvSpPr>
        <p:spPr>
          <a:xfrm>
            <a:off x="7362720" y="521352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Quest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Arrow: Chevron 40"/>
          <p:cNvSpPr/>
          <p:nvPr/>
        </p:nvSpPr>
        <p:spPr>
          <a:xfrm>
            <a:off x="8570880" y="5402160"/>
            <a:ext cx="119160" cy="181080"/>
          </a:xfrm>
          <a:custGeom>
            <a:avLst/>
            <a:gdLst>
              <a:gd name="textAreaLeft" fmla="*/ 0 w 119160"/>
              <a:gd name="textAreaRight" fmla="*/ 119520 w 119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630" y="0"/>
                </a:lnTo>
                <a:lnTo>
                  <a:pt x="21600" y="10800"/>
                </a:lnTo>
                <a:lnTo>
                  <a:pt x="7630" y="21600"/>
                </a:lnTo>
                <a:lnTo>
                  <a:pt x="0" y="21600"/>
                </a:lnTo>
                <a:lnTo>
                  <a:pt x="1397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Isosceles Triangle 47"/>
          <p:cNvSpPr/>
          <p:nvPr/>
        </p:nvSpPr>
        <p:spPr>
          <a:xfrm rot="10800000">
            <a:off x="952200" y="1049400"/>
            <a:ext cx="98280" cy="84240"/>
          </a:xfrm>
          <a:prstGeom prst="triangle">
            <a:avLst>
              <a:gd name="adj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Rectangle 54"/>
          <p:cNvSpPr/>
          <p:nvPr/>
        </p:nvSpPr>
        <p:spPr>
          <a:xfrm>
            <a:off x="4359240" y="3630600"/>
            <a:ext cx="681120" cy="23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TextBox 2"/>
          <p:cNvSpPr/>
          <p:nvPr/>
        </p:nvSpPr>
        <p:spPr>
          <a:xfrm>
            <a:off x="893880" y="906480"/>
            <a:ext cx="3117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Questrial"/>
              </a:rPr>
              <a:t>Minimalism as a lifestyle is an art of letting 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0" name="TextBox 18" descr=""/>
          <p:cNvPicPr/>
          <p:nvPr/>
        </p:nvPicPr>
        <p:blipFill>
          <a:blip r:embed="rId1"/>
          <a:stretch/>
        </p:blipFill>
        <p:spPr>
          <a:xfrm>
            <a:off x="4505400" y="4035600"/>
            <a:ext cx="390600" cy="1792080"/>
          </a:xfrm>
          <a:prstGeom prst="rect">
            <a:avLst/>
          </a:prstGeom>
          <a:ln w="0">
            <a:noFill/>
          </a:ln>
        </p:spPr>
      </p:pic>
      <p:grpSp>
        <p:nvGrpSpPr>
          <p:cNvPr id="2061" name="Group 38"/>
          <p:cNvGrpSpPr/>
          <p:nvPr/>
        </p:nvGrpSpPr>
        <p:grpSpPr>
          <a:xfrm>
            <a:off x="10598040" y="906480"/>
            <a:ext cx="700200" cy="700200"/>
            <a:chOff x="10598040" y="906480"/>
            <a:chExt cx="700200" cy="700200"/>
          </a:xfrm>
        </p:grpSpPr>
        <p:sp>
          <p:nvSpPr>
            <p:cNvPr id="2062" name="TextBox 39"/>
            <p:cNvSpPr/>
            <p:nvPr/>
          </p:nvSpPr>
          <p:spPr>
            <a:xfrm>
              <a:off x="10635840" y="994680"/>
              <a:ext cx="6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Questrial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ame 40"/>
            <p:cNvSpPr/>
            <p:nvPr/>
          </p:nvSpPr>
          <p:spPr>
            <a:xfrm>
              <a:off x="10598040" y="906480"/>
              <a:ext cx="700200" cy="700200"/>
            </a:xfrm>
            <a:custGeom>
              <a:avLst/>
              <a:gdLst/>
              <a:ahLst/>
              <a:rect l="l" t="t" r="r" b="b"/>
              <a:pathLst>
                <a:path w="700088" h="700088">
                  <a:moveTo>
                    <a:pt x="0" y="0"/>
                  </a:moveTo>
                  <a:lnTo>
                    <a:pt x="700088" y="0"/>
                  </a:lnTo>
                  <a:lnTo>
                    <a:pt x="700088" y="700088"/>
                  </a:lnTo>
                  <a:lnTo>
                    <a:pt x="0" y="700088"/>
                  </a:lnTo>
                  <a:lnTo>
                    <a:pt x="0" y="0"/>
                  </a:lnTo>
                  <a:close/>
                  <a:moveTo>
                    <a:pt x="30363" y="30363"/>
                  </a:moveTo>
                  <a:lnTo>
                    <a:pt x="30363" y="669725"/>
                  </a:lnTo>
                  <a:lnTo>
                    <a:pt x="669725" y="669725"/>
                  </a:lnTo>
                  <a:lnTo>
                    <a:pt x="669725" y="30363"/>
                  </a:lnTo>
                  <a:lnTo>
                    <a:pt x="30363" y="30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4" name="Straight Connector 41"/>
          <p:cNvSpPr/>
          <p:nvPr/>
        </p:nvSpPr>
        <p:spPr>
          <a:xfrm flipV="1">
            <a:off x="4700520" y="381132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5" name="Group 8"/>
          <p:cNvGrpSpPr/>
          <p:nvPr/>
        </p:nvGrpSpPr>
        <p:grpSpPr>
          <a:xfrm>
            <a:off x="8364600" y="4319640"/>
            <a:ext cx="3186000" cy="1686960"/>
            <a:chOff x="8364600" y="4319640"/>
            <a:chExt cx="3186000" cy="1686960"/>
          </a:xfrm>
        </p:grpSpPr>
        <p:sp>
          <p:nvSpPr>
            <p:cNvPr id="2066" name="TextBox 4"/>
            <p:cNvSpPr/>
            <p:nvPr/>
          </p:nvSpPr>
          <p:spPr>
            <a:xfrm>
              <a:off x="8364600" y="4319640"/>
              <a:ext cx="269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Questrial"/>
                </a:rPr>
                <a:t>ABOUT U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TextBox 6"/>
            <p:cNvSpPr/>
            <p:nvPr/>
          </p:nvSpPr>
          <p:spPr>
            <a:xfrm>
              <a:off x="8364600" y="4658040"/>
              <a:ext cx="3186000" cy="13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Organically grow the holistic world view of disruptive innovation workplace diversity and empowerment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8" name="Isosceles Triangle 51"/>
          <p:cNvSpPr/>
          <p:nvPr/>
        </p:nvSpPr>
        <p:spPr>
          <a:xfrm rot="5400000">
            <a:off x="991440" y="5793480"/>
            <a:ext cx="169920" cy="146160"/>
          </a:xfrm>
          <a:prstGeom prst="triangle">
            <a:avLst>
              <a:gd name="adj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Rectangle 174"/>
          <p:cNvSpPr/>
          <p:nvPr/>
        </p:nvSpPr>
        <p:spPr>
          <a:xfrm>
            <a:off x="839880" y="4340160"/>
            <a:ext cx="135720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0" name="TextBox 2" descr=""/>
          <p:cNvPicPr/>
          <p:nvPr/>
        </p:nvPicPr>
        <p:blipFill>
          <a:blip r:embed="rId1"/>
          <a:stretch/>
        </p:blipFill>
        <p:spPr>
          <a:xfrm>
            <a:off x="639720" y="1090440"/>
            <a:ext cx="1731960" cy="3024360"/>
          </a:xfrm>
          <a:prstGeom prst="rect">
            <a:avLst/>
          </a:prstGeom>
          <a:ln w="0">
            <a:noFill/>
          </a:ln>
        </p:spPr>
      </p:pic>
      <p:sp>
        <p:nvSpPr>
          <p:cNvPr id="2071" name="Straight Connector 20"/>
          <p:cNvSpPr/>
          <p:nvPr/>
        </p:nvSpPr>
        <p:spPr>
          <a:xfrm>
            <a:off x="2870280" y="4340160"/>
            <a:ext cx="932184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Isosceles Triangle 24"/>
          <p:cNvSpPr/>
          <p:nvPr/>
        </p:nvSpPr>
        <p:spPr>
          <a:xfrm rot="10800000">
            <a:off x="952200" y="1049400"/>
            <a:ext cx="98280" cy="84240"/>
          </a:xfrm>
          <a:prstGeom prst="triangle">
            <a:avLst>
              <a:gd name="adj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3" name="Group 177"/>
          <p:cNvGrpSpPr/>
          <p:nvPr/>
        </p:nvGrpSpPr>
        <p:grpSpPr>
          <a:xfrm>
            <a:off x="2870280" y="4618080"/>
            <a:ext cx="8580240" cy="1348560"/>
            <a:chOff x="2870280" y="4618080"/>
            <a:chExt cx="8580240" cy="1348560"/>
          </a:xfrm>
        </p:grpSpPr>
        <p:sp>
          <p:nvSpPr>
            <p:cNvPr id="2074" name="TextBox 19"/>
            <p:cNvSpPr/>
            <p:nvPr/>
          </p:nvSpPr>
          <p:spPr>
            <a:xfrm>
              <a:off x="2870280" y="4656960"/>
              <a:ext cx="1301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Questrial"/>
                </a:rPr>
                <a:t>ABÓUT US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5" name="TextBox 169"/>
            <p:cNvSpPr/>
            <p:nvPr/>
          </p:nvSpPr>
          <p:spPr>
            <a:xfrm>
              <a:off x="4390560" y="4618080"/>
              <a:ext cx="4147920" cy="13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level overviews. Iterative approaches to corporate strategy foster collaborative thinking to further the value proposition grow the is holistic world view via workplace diversity and empowerment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6" name="TextBox 170"/>
            <p:cNvSpPr/>
            <p:nvPr/>
          </p:nvSpPr>
          <p:spPr>
            <a:xfrm>
              <a:off x="8691840" y="4618080"/>
              <a:ext cx="2758680" cy="13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Roboto Light"/>
                  <a:ea typeface="Roboto Light"/>
                </a:rPr>
                <a:t>Leverage agile frameworks to provide a robust synopsis for high level overviews. Iterative approaches to corporate strategy foster collaborative thinking to further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7" name="TextBox 173"/>
          <p:cNvSpPr/>
          <p:nvPr/>
        </p:nvSpPr>
        <p:spPr>
          <a:xfrm>
            <a:off x="969840" y="4649760"/>
            <a:ext cx="109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Questrial"/>
              </a:rPr>
              <a:t>2020 MINIMAL &amp; C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Rectangle 49"/>
          <p:cNvSpPr/>
          <p:nvPr/>
        </p:nvSpPr>
        <p:spPr>
          <a:xfrm>
            <a:off x="4394160" y="2921040"/>
            <a:ext cx="3403800" cy="2930400"/>
          </a:xfrm>
          <a:prstGeom prst="rect">
            <a:avLst/>
          </a:prstGeom>
          <a:solidFill>
            <a:srgbClr val="f7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TextBox 10"/>
          <p:cNvSpPr/>
          <p:nvPr/>
        </p:nvSpPr>
        <p:spPr>
          <a:xfrm>
            <a:off x="1424160" y="1479600"/>
            <a:ext cx="285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estrial"/>
              </a:rPr>
              <a:t>Our Miss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14"/>
          <p:cNvSpPr/>
          <p:nvPr/>
        </p:nvSpPr>
        <p:spPr>
          <a:xfrm>
            <a:off x="4505400" y="4392720"/>
            <a:ext cx="31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</a:rPr>
              <a:t>MISSION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15"/>
          <p:cNvSpPr/>
          <p:nvPr/>
        </p:nvSpPr>
        <p:spPr>
          <a:xfrm>
            <a:off x="4727520" y="4730760"/>
            <a:ext cx="2741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 synopsis for high Organically grow the holistic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2" name="Graphic 23" descr="Bank"/>
          <p:cNvPicPr/>
          <p:nvPr/>
        </p:nvPicPr>
        <p:blipFill>
          <a:blip r:embed="rId1"/>
          <a:stretch/>
        </p:blipFill>
        <p:spPr>
          <a:xfrm>
            <a:off x="5735520" y="3309840"/>
            <a:ext cx="725760" cy="689040"/>
          </a:xfrm>
          <a:prstGeom prst="rect">
            <a:avLst/>
          </a:prstGeom>
          <a:ln w="0">
            <a:noFill/>
          </a:ln>
        </p:spPr>
      </p:pic>
      <p:sp>
        <p:nvSpPr>
          <p:cNvPr id="2083" name="TextBox 16"/>
          <p:cNvSpPr/>
          <p:nvPr/>
        </p:nvSpPr>
        <p:spPr>
          <a:xfrm>
            <a:off x="7913520" y="4408560"/>
            <a:ext cx="31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</a:rPr>
              <a:t>MISSION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TextBox 17"/>
          <p:cNvSpPr/>
          <p:nvPr/>
        </p:nvSpPr>
        <p:spPr>
          <a:xfrm>
            <a:off x="8136000" y="4746600"/>
            <a:ext cx="2741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 synopsis for high Organically grow the holistic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5" name="Graphic 25" descr="Gears"/>
          <p:cNvPicPr/>
          <p:nvPr/>
        </p:nvPicPr>
        <p:blipFill>
          <a:blip r:embed="rId2"/>
          <a:stretch/>
        </p:blipFill>
        <p:spPr>
          <a:xfrm>
            <a:off x="9253440" y="3297240"/>
            <a:ext cx="622440" cy="750960"/>
          </a:xfrm>
          <a:prstGeom prst="rect">
            <a:avLst/>
          </a:prstGeom>
          <a:ln w="0">
            <a:noFill/>
          </a:ln>
        </p:spPr>
      </p:pic>
      <p:sp>
        <p:nvSpPr>
          <p:cNvPr id="2086" name="TextBox 12"/>
          <p:cNvSpPr/>
          <p:nvPr/>
        </p:nvSpPr>
        <p:spPr>
          <a:xfrm>
            <a:off x="1096920" y="4410000"/>
            <a:ext cx="31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estrial"/>
              </a:rPr>
              <a:t>MISSION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TextBox 13"/>
          <p:cNvSpPr/>
          <p:nvPr/>
        </p:nvSpPr>
        <p:spPr>
          <a:xfrm>
            <a:off x="1319040" y="4748040"/>
            <a:ext cx="2741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 Light"/>
                <a:ea typeface="Roboto Light"/>
              </a:rPr>
              <a:t>Leverage agile frameworks to provide a  synopsis for high Organically grow the holistic diversity and empowerm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8" name="Graphic 27" descr="Hold Gesture"/>
          <p:cNvPicPr/>
          <p:nvPr/>
        </p:nvPicPr>
        <p:blipFill>
          <a:blip r:embed="rId3"/>
          <a:stretch/>
        </p:blipFill>
        <p:spPr>
          <a:xfrm>
            <a:off x="2243160" y="3297240"/>
            <a:ext cx="646200" cy="757080"/>
          </a:xfrm>
          <a:prstGeom prst="rect">
            <a:avLst/>
          </a:prstGeom>
          <a:ln w="0">
            <a:noFill/>
          </a:ln>
        </p:spPr>
      </p:pic>
      <p:sp>
        <p:nvSpPr>
          <p:cNvPr id="2089" name="Frame 68"/>
          <p:cNvSpPr/>
          <p:nvPr/>
        </p:nvSpPr>
        <p:spPr>
          <a:xfrm>
            <a:off x="7510320" y="1284120"/>
            <a:ext cx="3257640" cy="968400"/>
          </a:xfrm>
          <a:custGeom>
            <a:avLst/>
            <a:gdLst/>
            <a:ahLst/>
            <a:rect l="l" t="t" r="r" b="b"/>
            <a:pathLst>
              <a:path w="3257551" h="967408">
                <a:moveTo>
                  <a:pt x="0" y="0"/>
                </a:moveTo>
                <a:lnTo>
                  <a:pt x="3257551" y="0"/>
                </a:lnTo>
                <a:lnTo>
                  <a:pt x="3257551" y="967408"/>
                </a:lnTo>
                <a:lnTo>
                  <a:pt x="0" y="967408"/>
                </a:lnTo>
                <a:lnTo>
                  <a:pt x="0" y="0"/>
                </a:lnTo>
                <a:close/>
                <a:moveTo>
                  <a:pt x="20586" y="20586"/>
                </a:moveTo>
                <a:lnTo>
                  <a:pt x="20586" y="946822"/>
                </a:lnTo>
                <a:lnTo>
                  <a:pt x="3236965" y="946822"/>
                </a:lnTo>
                <a:lnTo>
                  <a:pt x="3236965" y="20586"/>
                </a:lnTo>
                <a:lnTo>
                  <a:pt x="20586" y="205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TextBox 70"/>
          <p:cNvSpPr/>
          <p:nvPr/>
        </p:nvSpPr>
        <p:spPr>
          <a:xfrm>
            <a:off x="7819920" y="1444680"/>
            <a:ext cx="26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Questrial"/>
              </a:rPr>
              <a:t>minimalism as a lifestyle is an art of letting 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7T05:57:23Z</dcterms:created>
  <dc:creator>Yossy Made Yulian</dc:creator>
  <dc:description/>
  <dc:language>en-US</dc:language>
  <cp:lastModifiedBy>Yossy Made Yulian</cp:lastModifiedBy>
  <dcterms:modified xsi:type="dcterms:W3CDTF">2020-11-16T12:22:53Z</dcterms:modified>
  <cp:revision>710</cp:revision>
  <dc:subject/>
  <dc:title>PowerPoint Presentation</dc:title>
</cp:coreProperties>
</file>