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59274-87A2-4C93-A755-18DE6A2BB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A9823-C875-497A-8F45-D3A485B6C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5DF3F-3E67-4FA3-889C-3BE3D083E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BD773-78F5-45C4-8486-206758DB6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9E8AF-53E5-437C-99AE-E55330E3C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782B1-45BA-46C0-A09C-A46B28F21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7C4D9-473E-4A99-AE07-D9E42AD73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AC367-5BC1-4EEA-8172-CC1785788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F1CC8-0926-456A-AF55-FB749A68A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AB4EA-7BEE-4899-BED6-06F24B0DD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F1D6-2AB3-4774-91B5-A10ED20C4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9EF04-D109-4B9E-97C1-0C3E877E6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03EA-4DA8-44C5-9B04-E49A7C0C724E}" type="slidenum">
              <a:rPr b="0" lang="id-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Picture 6" descr="iPhone6_mockup_front_white.png"/>
          <p:cNvPicPr/>
          <p:nvPr/>
        </p:nvPicPr>
        <p:blipFill>
          <a:blip r:embed="rId2"/>
          <a:stretch/>
        </p:blipFill>
        <p:spPr>
          <a:xfrm>
            <a:off x="3760920" y="328680"/>
            <a:ext cx="3908160" cy="6111720"/>
          </a:xfrm>
          <a:prstGeom prst="rect">
            <a:avLst/>
          </a:prstGeom>
          <a:ln w="0">
            <a:noFill/>
          </a:ln>
        </p:spPr>
      </p:pic>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3" name="Group 6"/>
          <p:cNvGrpSpPr/>
          <p:nvPr/>
        </p:nvGrpSpPr>
        <p:grpSpPr>
          <a:xfrm>
            <a:off x="781200" y="1760400"/>
            <a:ext cx="6302160" cy="3560760"/>
            <a:chOff x="781200" y="1760400"/>
            <a:chExt cx="6302160" cy="3560760"/>
          </a:xfrm>
        </p:grpSpPr>
        <p:pic>
          <p:nvPicPr>
            <p:cNvPr id="804" name="Picture 6" descr=""/>
            <p:cNvPicPr/>
            <p:nvPr/>
          </p:nvPicPr>
          <p:blipFill>
            <a:blip r:embed="rId2"/>
            <a:stretch/>
          </p:blipFill>
          <p:spPr>
            <a:xfrm>
              <a:off x="781200" y="1760400"/>
              <a:ext cx="6302160" cy="3560760"/>
            </a:xfrm>
            <a:prstGeom prst="rect">
              <a:avLst/>
            </a:prstGeom>
            <a:ln w="0">
              <a:noFill/>
            </a:ln>
          </p:spPr>
        </p:pic>
        <p:sp>
          <p:nvSpPr>
            <p:cNvPr id="805" name="Rectangle 8"/>
            <p:cNvSpPr/>
            <p:nvPr/>
          </p:nvSpPr>
          <p:spPr>
            <a:xfrm>
              <a:off x="1695600" y="1983960"/>
              <a:ext cx="4446360" cy="28879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Picture 6" descr="iPhone6_mockup_front_black.png"/>
          <p:cNvPicPr/>
          <p:nvPr/>
        </p:nvPicPr>
        <p:blipFill>
          <a:blip r:embed="rId2"/>
          <a:stretch/>
        </p:blipFill>
        <p:spPr>
          <a:xfrm>
            <a:off x="4075200" y="552600"/>
            <a:ext cx="3217680" cy="5762520"/>
          </a:xfrm>
          <a:prstGeom prst="rect">
            <a:avLst/>
          </a:prstGeom>
          <a:ln w="0">
            <a:noFill/>
          </a:ln>
        </p:spPr>
      </p:pic>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3" name="Group 6"/>
          <p:cNvGrpSpPr/>
          <p:nvPr/>
        </p:nvGrpSpPr>
        <p:grpSpPr>
          <a:xfrm>
            <a:off x="-2087640" y="1663560"/>
            <a:ext cx="8156520" cy="4529160"/>
            <a:chOff x="-2087640" y="1663560"/>
            <a:chExt cx="8156520" cy="4529160"/>
          </a:xfrm>
        </p:grpSpPr>
        <p:pic>
          <p:nvPicPr>
            <p:cNvPr id="884" name="Picture 6" descr=""/>
            <p:cNvPicPr/>
            <p:nvPr/>
          </p:nvPicPr>
          <p:blipFill>
            <a:blip r:embed="rId2"/>
            <a:stretch/>
          </p:blipFill>
          <p:spPr>
            <a:xfrm>
              <a:off x="-2087640" y="1663560"/>
              <a:ext cx="8156520" cy="4529160"/>
            </a:xfrm>
            <a:prstGeom prst="rect">
              <a:avLst/>
            </a:prstGeom>
            <a:ln w="0">
              <a:noFill/>
            </a:ln>
          </p:spPr>
        </p:pic>
        <p:sp>
          <p:nvSpPr>
            <p:cNvPr id="885" name="Rectangle 8"/>
            <p:cNvSpPr/>
            <p:nvPr/>
          </p:nvSpPr>
          <p:spPr>
            <a:xfrm>
              <a:off x="-904680" y="1947600"/>
              <a:ext cx="5754600" cy="36752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6"/>
          <p:cNvSpPr/>
          <p:nvPr/>
        </p:nvSpPr>
        <p:spPr>
          <a:xfrm>
            <a:off x="5765760" y="0"/>
            <a:ext cx="3175200" cy="6858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Hexagon 6"/>
          <p:cNvSpPr/>
          <p:nvPr/>
        </p:nvSpPr>
        <p:spPr>
          <a:xfrm>
            <a:off x="7715160" y="1162080"/>
            <a:ext cx="1467000" cy="1238400"/>
          </a:xfrm>
          <a:prstGeom prst="hexagon">
            <a:avLst>
              <a:gd name="adj" fmla="val 24997"/>
              <a:gd name="vf" fmla="val 115470"/>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8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0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65.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7.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3"/>
          <p:cNvSpPr/>
          <p:nvPr/>
        </p:nvSpPr>
        <p:spPr>
          <a:xfrm>
            <a:off x="0" y="0"/>
            <a:ext cx="12192120" cy="6858000"/>
          </a:xfrm>
          <a:prstGeom prst="rect">
            <a:avLst/>
          </a:prstGeom>
          <a:solidFill>
            <a:srgbClr val="0d0d0d">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Subtitle 2"/>
          <p:cNvSpPr/>
          <p:nvPr/>
        </p:nvSpPr>
        <p:spPr>
          <a:xfrm>
            <a:off x="3286080" y="2735280"/>
            <a:ext cx="5619960" cy="138744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600" spc="-1" strike="noStrike">
                <a:solidFill>
                  <a:srgbClr val="ffffff"/>
                </a:solidFill>
                <a:latin typeface="Kelson Sans"/>
                <a:ea typeface="Lato"/>
              </a:rPr>
              <a:t>MATRIX</a:t>
            </a:r>
            <a:endParaRPr b="0" lang="en-US" sz="9600" spc="-1" strike="noStrike">
              <a:solidFill>
                <a:srgbClr val="000000"/>
              </a:solidFill>
              <a:latin typeface="Calibri"/>
            </a:endParaRPr>
          </a:p>
        </p:txBody>
      </p:sp>
      <p:sp>
        <p:nvSpPr>
          <p:cNvPr id="1041" name="Subtitle 2"/>
          <p:cNvSpPr/>
          <p:nvPr/>
        </p:nvSpPr>
        <p:spPr>
          <a:xfrm>
            <a:off x="4748040" y="1363680"/>
            <a:ext cx="2695680" cy="324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Lato"/>
                <a:ea typeface="Lato"/>
              </a:rPr>
              <a:t>INTRODUCTION</a:t>
            </a:r>
            <a:endParaRPr b="0" lang="en-US" sz="1200" spc="-1" strike="noStrike">
              <a:solidFill>
                <a:srgbClr val="000000"/>
              </a:solidFill>
              <a:latin typeface="Calibri"/>
            </a:endParaRPr>
          </a:p>
        </p:txBody>
      </p:sp>
      <p:grpSp>
        <p:nvGrpSpPr>
          <p:cNvPr id="1042" name="Group 9"/>
          <p:cNvGrpSpPr/>
          <p:nvPr/>
        </p:nvGrpSpPr>
        <p:grpSpPr>
          <a:xfrm>
            <a:off x="4719600" y="4878360"/>
            <a:ext cx="2752920" cy="407880"/>
            <a:chOff x="4719600" y="4878360"/>
            <a:chExt cx="2752920" cy="407880"/>
          </a:xfrm>
        </p:grpSpPr>
        <p:sp>
          <p:nvSpPr>
            <p:cNvPr id="1043" name="Subtitle 2"/>
            <p:cNvSpPr/>
            <p:nvPr/>
          </p:nvSpPr>
          <p:spPr>
            <a:xfrm>
              <a:off x="4748040" y="4941720"/>
              <a:ext cx="2696040" cy="325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Kelson Sans"/>
                  <a:ea typeface="Lato"/>
                </a:rPr>
                <a:t>PRESENTATION</a:t>
              </a:r>
              <a:endParaRPr b="0" lang="en-US" sz="1200" spc="-1" strike="noStrike">
                <a:solidFill>
                  <a:srgbClr val="000000"/>
                </a:solidFill>
                <a:latin typeface="Calibri"/>
              </a:endParaRPr>
            </a:p>
          </p:txBody>
        </p:sp>
        <p:sp>
          <p:nvSpPr>
            <p:cNvPr id="1044" name="Rectangle 1"/>
            <p:cNvSpPr/>
            <p:nvPr/>
          </p:nvSpPr>
          <p:spPr>
            <a:xfrm>
              <a:off x="4719600" y="4878360"/>
              <a:ext cx="2752920" cy="4078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45"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1"/>
          <p:cNvSpPr/>
          <p:nvPr/>
        </p:nvSpPr>
        <p:spPr>
          <a:xfrm>
            <a:off x="1184400" y="2367000"/>
            <a:ext cx="990432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 placerat libero. Malesuada proin tortor penatibus dolor, sapien etiam turpis wisi ut tortor ut, turpis turpis tempus non lectus euultrices vel sit curae consequat. </a:t>
            </a:r>
            <a:endParaRPr b="0" lang="en-US" sz="900" spc="-1" strike="noStrike">
              <a:solidFill>
                <a:srgbClr val="000000"/>
              </a:solidFill>
              <a:latin typeface="Calibri"/>
            </a:endParaRPr>
          </a:p>
        </p:txBody>
      </p:sp>
      <p:sp>
        <p:nvSpPr>
          <p:cNvPr id="1097" name="Rectangle 2"/>
          <p:cNvSpPr/>
          <p:nvPr/>
        </p:nvSpPr>
        <p:spPr>
          <a:xfrm>
            <a:off x="1184400" y="3570120"/>
            <a:ext cx="9904320" cy="276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a:t>
            </a:r>
            <a:endParaRPr b="0" lang="en-US" sz="9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a:t>
            </a:r>
            <a:endParaRPr b="0" lang="en-US" sz="9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a:t>
            </a:r>
            <a:endParaRPr b="0" lang="en-US" sz="900" spc="-1" strike="noStrike">
              <a:solidFill>
                <a:srgbClr val="000000"/>
              </a:solidFill>
              <a:latin typeface="Calibri"/>
            </a:endParaRPr>
          </a:p>
        </p:txBody>
      </p:sp>
      <p:sp>
        <p:nvSpPr>
          <p:cNvPr id="1098" name="Subtitle 2"/>
          <p:cNvSpPr/>
          <p:nvPr/>
        </p:nvSpPr>
        <p:spPr>
          <a:xfrm>
            <a:off x="3944880" y="1201680"/>
            <a:ext cx="4383000" cy="58896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81717"/>
                </a:solidFill>
                <a:latin typeface="Kelson Sans"/>
                <a:ea typeface="Lato"/>
              </a:rPr>
              <a:t>Sample Column Tex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1"/>
          <p:cNvSpPr/>
          <p:nvPr/>
        </p:nvSpPr>
        <p:spPr>
          <a:xfrm>
            <a:off x="5219640" y="1898640"/>
            <a:ext cx="533880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 placerat libero. Malesuada proin tortor penatibus dolor, sapien etiam turpis wisi ut tortor ut, turpis turpis tempus non lectus euultrices vel sit curae consequat. </a:t>
            </a:r>
            <a:endParaRPr b="0" lang="en-US" sz="900" spc="-1" strike="noStrike">
              <a:solidFill>
                <a:srgbClr val="000000"/>
              </a:solidFill>
              <a:latin typeface="Calibri"/>
            </a:endParaRPr>
          </a:p>
        </p:txBody>
      </p:sp>
      <p:sp>
        <p:nvSpPr>
          <p:cNvPr id="1100" name="Rectangle 2"/>
          <p:cNvSpPr/>
          <p:nvPr/>
        </p:nvSpPr>
        <p:spPr>
          <a:xfrm>
            <a:off x="5219640" y="3772080"/>
            <a:ext cx="53388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a:t>
            </a:r>
            <a:endParaRPr b="0" lang="en-US" sz="900" spc="-1" strike="noStrike">
              <a:solidFill>
                <a:srgbClr val="000000"/>
              </a:solidFill>
              <a:latin typeface="Calibri"/>
            </a:endParaRPr>
          </a:p>
        </p:txBody>
      </p:sp>
      <p:sp>
        <p:nvSpPr>
          <p:cNvPr id="1101" name="Rectangle 3"/>
          <p:cNvSpPr/>
          <p:nvPr/>
        </p:nvSpPr>
        <p:spPr>
          <a:xfrm>
            <a:off x="5219640" y="4398840"/>
            <a:ext cx="5338800" cy="153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a:t>
            </a:r>
            <a:endParaRPr b="0" lang="en-US" sz="900" spc="-1" strike="noStrike">
              <a:solidFill>
                <a:srgbClr val="000000"/>
              </a:solidFill>
              <a:latin typeface="Calibri"/>
            </a:endParaRPr>
          </a:p>
        </p:txBody>
      </p:sp>
      <p:sp>
        <p:nvSpPr>
          <p:cNvPr id="1102" name="Rectangle 4"/>
          <p:cNvSpPr/>
          <p:nvPr/>
        </p:nvSpPr>
        <p:spPr>
          <a:xfrm>
            <a:off x="1174680" y="1890720"/>
            <a:ext cx="3340080" cy="2971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 placerat libero. Malesuada proin tortor penatibus dolor, sapien etiam turpis wisi ut tortor ut, turpis turpis tempus non lectus euultrices vel sit curae consequat. </a:t>
            </a:r>
            <a:endParaRPr b="0" lang="en-US" sz="900" spc="-1" strike="noStrike">
              <a:solidFill>
                <a:srgbClr val="000000"/>
              </a:solidFill>
              <a:latin typeface="Calibri"/>
            </a:endParaRPr>
          </a:p>
        </p:txBody>
      </p:sp>
      <p:sp>
        <p:nvSpPr>
          <p:cNvPr id="1103" name="Rectangle 5"/>
          <p:cNvSpPr/>
          <p:nvPr/>
        </p:nvSpPr>
        <p:spPr>
          <a:xfrm>
            <a:off x="1174680" y="4649760"/>
            <a:ext cx="334008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a:t>
            </a:r>
            <a:endParaRPr b="0" lang="en-US" sz="900" spc="-1" strike="noStrike">
              <a:solidFill>
                <a:srgbClr val="000000"/>
              </a:solidFill>
              <a:latin typeface="Calibri"/>
            </a:endParaRPr>
          </a:p>
        </p:txBody>
      </p:sp>
      <p:sp>
        <p:nvSpPr>
          <p:cNvPr id="1104" name="Subtitle 2"/>
          <p:cNvSpPr/>
          <p:nvPr/>
        </p:nvSpPr>
        <p:spPr>
          <a:xfrm>
            <a:off x="4046400" y="858960"/>
            <a:ext cx="4003920" cy="5889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81717"/>
                </a:solidFill>
                <a:latin typeface="Kelson Sans"/>
                <a:ea typeface="Lato"/>
              </a:rPr>
              <a:t>Two Column Text</a:t>
            </a:r>
            <a:endParaRPr b="0" lang="en-US" sz="3600" spc="-1" strike="noStrike">
              <a:solidFill>
                <a:srgbClr val="000000"/>
              </a:solidFill>
              <a:latin typeface="Calibri"/>
            </a:endParaRPr>
          </a:p>
        </p:txBody>
      </p:sp>
      <p:sp>
        <p:nvSpPr>
          <p:cNvPr id="1105" name="Straight Connector 7"/>
          <p:cNvSpPr/>
          <p:nvPr/>
        </p:nvSpPr>
        <p:spPr>
          <a:xfrm>
            <a:off x="4867200" y="2031840"/>
            <a:ext cx="0" cy="224820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1"/>
          <p:cNvSpPr/>
          <p:nvPr/>
        </p:nvSpPr>
        <p:spPr>
          <a:xfrm>
            <a:off x="1103400" y="2482920"/>
            <a:ext cx="3033720" cy="317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 placerat libero. Malesuada proin tortor penatibus dolor, sapien etiam turpis wisi ut tortor ut, turpis turpis tempus non lectus euultrices vel sit curae consequat. </a:t>
            </a:r>
            <a:endParaRPr b="0" lang="en-US" sz="900" spc="-1" strike="noStrike">
              <a:solidFill>
                <a:srgbClr val="000000"/>
              </a:solidFill>
              <a:latin typeface="Calibri"/>
            </a:endParaRPr>
          </a:p>
        </p:txBody>
      </p:sp>
      <p:sp>
        <p:nvSpPr>
          <p:cNvPr id="1107" name="Rectangle 2"/>
          <p:cNvSpPr/>
          <p:nvPr/>
        </p:nvSpPr>
        <p:spPr>
          <a:xfrm>
            <a:off x="4721400" y="2482920"/>
            <a:ext cx="282564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a:t>
            </a:r>
            <a:endParaRPr b="0" lang="en-US" sz="900" spc="-1" strike="noStrike">
              <a:solidFill>
                <a:srgbClr val="000000"/>
              </a:solidFill>
              <a:latin typeface="Calibri"/>
            </a:endParaRPr>
          </a:p>
        </p:txBody>
      </p:sp>
      <p:sp>
        <p:nvSpPr>
          <p:cNvPr id="1108" name="Rectangle 3"/>
          <p:cNvSpPr/>
          <p:nvPr/>
        </p:nvSpPr>
        <p:spPr>
          <a:xfrm>
            <a:off x="4721400" y="3367080"/>
            <a:ext cx="2825640" cy="276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a:t>
            </a:r>
            <a:endParaRPr b="0" lang="en-US" sz="900" spc="-1" strike="noStrike">
              <a:solidFill>
                <a:srgbClr val="000000"/>
              </a:solidFill>
              <a:latin typeface="Calibri"/>
            </a:endParaRPr>
          </a:p>
        </p:txBody>
      </p:sp>
      <p:sp>
        <p:nvSpPr>
          <p:cNvPr id="1109" name="Rectangle 4"/>
          <p:cNvSpPr/>
          <p:nvPr/>
        </p:nvSpPr>
        <p:spPr>
          <a:xfrm>
            <a:off x="8131320" y="2482920"/>
            <a:ext cx="282564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a:t>
            </a:r>
            <a:endParaRPr b="0" lang="en-US" sz="900" spc="-1" strike="noStrike">
              <a:solidFill>
                <a:srgbClr val="000000"/>
              </a:solidFill>
              <a:latin typeface="Calibri"/>
            </a:endParaRPr>
          </a:p>
        </p:txBody>
      </p:sp>
      <p:sp>
        <p:nvSpPr>
          <p:cNvPr id="1110" name="Rectangle 5"/>
          <p:cNvSpPr/>
          <p:nvPr/>
        </p:nvSpPr>
        <p:spPr>
          <a:xfrm>
            <a:off x="8131320" y="3367080"/>
            <a:ext cx="2825640" cy="276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a:t>
            </a:r>
            <a:endParaRPr b="0" lang="en-US" sz="900" spc="-1" strike="noStrike">
              <a:solidFill>
                <a:srgbClr val="000000"/>
              </a:solidFill>
              <a:latin typeface="Calibri"/>
            </a:endParaRPr>
          </a:p>
        </p:txBody>
      </p:sp>
      <p:sp>
        <p:nvSpPr>
          <p:cNvPr id="1111" name="Subtitle 2"/>
          <p:cNvSpPr/>
          <p:nvPr/>
        </p:nvSpPr>
        <p:spPr>
          <a:xfrm>
            <a:off x="4046400" y="1158840"/>
            <a:ext cx="4003920" cy="58896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81717"/>
                </a:solidFill>
                <a:latin typeface="Kelson Sans"/>
                <a:ea typeface="Lato"/>
              </a:rPr>
              <a:t>Three Column Text</a:t>
            </a:r>
            <a:endParaRPr b="0" lang="en-US" sz="3600" spc="-1" strike="noStrike">
              <a:solidFill>
                <a:srgbClr val="000000"/>
              </a:solidFill>
              <a:latin typeface="Calibri"/>
            </a:endParaRPr>
          </a:p>
        </p:txBody>
      </p:sp>
      <p:sp>
        <p:nvSpPr>
          <p:cNvPr id="1112" name="Straight Connector 7"/>
          <p:cNvSpPr/>
          <p:nvPr/>
        </p:nvSpPr>
        <p:spPr>
          <a:xfrm>
            <a:off x="4381560" y="2619360"/>
            <a:ext cx="0" cy="22478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3" name="Straight Connector 8"/>
          <p:cNvSpPr/>
          <p:nvPr/>
        </p:nvSpPr>
        <p:spPr>
          <a:xfrm>
            <a:off x="7819920" y="2619360"/>
            <a:ext cx="0" cy="22478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1"/>
          <p:cNvSpPr/>
          <p:nvPr/>
        </p:nvSpPr>
        <p:spPr>
          <a:xfrm>
            <a:off x="5073480" y="3484440"/>
            <a:ext cx="6139080" cy="153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 placerat libero. Malesuada proin tortor penatibus dolor, sapien etiam turpis wisi ut tortor ut, turpis turpis tempus non lectus euultrices vel sit curae consequat. </a:t>
            </a:r>
            <a:endParaRPr b="0" lang="en-US" sz="900" spc="-1" strike="noStrike">
              <a:solidFill>
                <a:srgbClr val="000000"/>
              </a:solidFill>
              <a:latin typeface="Calibri"/>
            </a:endParaRPr>
          </a:p>
        </p:txBody>
      </p:sp>
      <p:sp>
        <p:nvSpPr>
          <p:cNvPr id="1115" name="Subtitle 2"/>
          <p:cNvSpPr/>
          <p:nvPr/>
        </p:nvSpPr>
        <p:spPr>
          <a:xfrm>
            <a:off x="1239840" y="2239920"/>
            <a:ext cx="3103560" cy="151308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81717"/>
                </a:solidFill>
                <a:latin typeface="Kelson Sans"/>
                <a:ea typeface="Lato"/>
              </a:rPr>
              <a:t>Another Simple Text Slide</a:t>
            </a:r>
            <a:endParaRPr b="0" lang="en-US" sz="3600" spc="-1" strike="noStrike">
              <a:solidFill>
                <a:srgbClr val="000000"/>
              </a:solidFill>
              <a:latin typeface="Calibri"/>
            </a:endParaRPr>
          </a:p>
        </p:txBody>
      </p:sp>
      <p:sp>
        <p:nvSpPr>
          <p:cNvPr id="1116" name="Rectangle 3"/>
          <p:cNvSpPr/>
          <p:nvPr/>
        </p:nvSpPr>
        <p:spPr>
          <a:xfrm>
            <a:off x="5073480" y="2239920"/>
            <a:ext cx="6139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3"/>
          <p:cNvSpPr/>
          <p:nvPr/>
        </p:nvSpPr>
        <p:spPr>
          <a:xfrm>
            <a:off x="0" y="0"/>
            <a:ext cx="12192120" cy="6858000"/>
          </a:xfrm>
          <a:prstGeom prst="rect">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8" name="Rectangle 4"/>
          <p:cNvSpPr/>
          <p:nvPr/>
        </p:nvSpPr>
        <p:spPr>
          <a:xfrm>
            <a:off x="1776240" y="2521080"/>
            <a:ext cx="86392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2f2f2"/>
                </a:solidFill>
                <a:latin typeface="Kelson Sans"/>
                <a:ea typeface="Lato"/>
              </a:rPr>
              <a:t>“</a:t>
            </a:r>
            <a:r>
              <a:rPr b="0" lang="id-ID" sz="2800" spc="-1" strike="noStrike">
                <a:solidFill>
                  <a:srgbClr val="f2f2f2"/>
                </a:solidFill>
                <a:latin typeface="Kelson Sans"/>
                <a:ea typeface="Lato"/>
              </a:rPr>
              <a:t>I like people. They're entertaining. I just may laugh at different things than most people. I laugh at mistakes. I laugh at how you recover from mistakes. ”</a:t>
            </a:r>
            <a:endParaRPr b="0" lang="en-US" sz="2800" spc="-1" strike="noStrike">
              <a:solidFill>
                <a:srgbClr val="000000"/>
              </a:solidFill>
              <a:latin typeface="Calibri"/>
            </a:endParaRPr>
          </a:p>
        </p:txBody>
      </p:sp>
      <p:pic>
        <p:nvPicPr>
          <p:cNvPr id="1119"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23"/>
          <p:cNvSpPr/>
          <p:nvPr/>
        </p:nvSpPr>
        <p:spPr>
          <a:xfrm>
            <a:off x="0" y="0"/>
            <a:ext cx="12192120" cy="3359160"/>
          </a:xfrm>
          <a:prstGeom prst="rect">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1" name="Subtitle 2"/>
          <p:cNvSpPr/>
          <p:nvPr/>
        </p:nvSpPr>
        <p:spPr>
          <a:xfrm>
            <a:off x="3984480" y="1411200"/>
            <a:ext cx="4222800" cy="611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Kelson Sans"/>
                <a:ea typeface="Lato"/>
              </a:rPr>
              <a:t>Achievements</a:t>
            </a:r>
            <a:endParaRPr b="0" lang="en-US" sz="4000" spc="-1" strike="noStrike">
              <a:solidFill>
                <a:srgbClr val="000000"/>
              </a:solidFill>
              <a:latin typeface="Calibri"/>
            </a:endParaRPr>
          </a:p>
        </p:txBody>
      </p:sp>
      <p:sp>
        <p:nvSpPr>
          <p:cNvPr id="1122" name="Rectangle 5"/>
          <p:cNvSpPr/>
          <p:nvPr/>
        </p:nvSpPr>
        <p:spPr>
          <a:xfrm>
            <a:off x="3489480" y="2214720"/>
            <a:ext cx="52131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a:t>
            </a:r>
            <a:endParaRPr b="0" lang="en-US" sz="1000" spc="-1" strike="noStrike">
              <a:solidFill>
                <a:srgbClr val="000000"/>
              </a:solidFill>
              <a:latin typeface="Calibri"/>
            </a:endParaRPr>
          </a:p>
        </p:txBody>
      </p:sp>
      <p:grpSp>
        <p:nvGrpSpPr>
          <p:cNvPr id="1123" name="Group 35"/>
          <p:cNvGrpSpPr/>
          <p:nvPr/>
        </p:nvGrpSpPr>
        <p:grpSpPr>
          <a:xfrm>
            <a:off x="4406760" y="4262400"/>
            <a:ext cx="3372120" cy="1957320"/>
            <a:chOff x="4406760" y="4262400"/>
            <a:chExt cx="3372120" cy="1957320"/>
          </a:xfrm>
        </p:grpSpPr>
        <p:sp>
          <p:nvSpPr>
            <p:cNvPr id="1124" name="Rounded Rectangle 32"/>
            <p:cNvSpPr/>
            <p:nvPr/>
          </p:nvSpPr>
          <p:spPr>
            <a:xfrm>
              <a:off x="4406760" y="4262400"/>
              <a:ext cx="3372120" cy="1957320"/>
            </a:xfrm>
            <a:prstGeom prst="roundRect">
              <a:avLst>
                <a:gd name="adj" fmla="val 16667"/>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5" name="Subtitle 2"/>
            <p:cNvSpPr/>
            <p:nvPr/>
          </p:nvSpPr>
          <p:spPr>
            <a:xfrm>
              <a:off x="4966920" y="4965480"/>
              <a:ext cx="2251440" cy="2761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181717"/>
                  </a:solidFill>
                  <a:latin typeface="Lato"/>
                  <a:ea typeface="Lato"/>
                </a:rPr>
                <a:t>Subtitle here</a:t>
              </a:r>
              <a:endParaRPr b="0" lang="en-US" sz="1400" spc="-1" strike="noStrike">
                <a:solidFill>
                  <a:srgbClr val="000000"/>
                </a:solidFill>
                <a:latin typeface="Calibri"/>
              </a:endParaRPr>
            </a:p>
          </p:txBody>
        </p:sp>
        <p:sp>
          <p:nvSpPr>
            <p:cNvPr id="1126" name="Rectangle 15"/>
            <p:cNvSpPr/>
            <p:nvPr/>
          </p:nvSpPr>
          <p:spPr>
            <a:xfrm>
              <a:off x="4911480" y="5241960"/>
              <a:ext cx="23623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81717"/>
                  </a:solidFill>
                  <a:latin typeface="Lato"/>
                  <a:ea typeface="Lato"/>
                </a:rPr>
                <a:t>Lorem ipsum dolor sit amet, lacus nulla ac netus nibh aliquet, porttitor ligula justo libero vivamus</a:t>
              </a:r>
              <a:endParaRPr b="0" lang="en-US" sz="1000" spc="-1" strike="noStrike">
                <a:solidFill>
                  <a:srgbClr val="000000"/>
                </a:solidFill>
                <a:latin typeface="Calibri"/>
              </a:endParaRPr>
            </a:p>
          </p:txBody>
        </p:sp>
        <p:sp>
          <p:nvSpPr>
            <p:cNvPr id="1127" name="Shape 4631"/>
            <p:cNvSpPr/>
            <p:nvPr/>
          </p:nvSpPr>
          <p:spPr>
            <a:xfrm>
              <a:off x="5943600" y="4437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44479" y="30662"/>
                  </a:moveTo>
                  <a:lnTo>
                    <a:pt x="44479" y="30662"/>
                  </a:lnTo>
                  <a:cubicBezTo>
                    <a:pt x="47318" y="30662"/>
                    <a:pt x="47318" y="28012"/>
                    <a:pt x="47318" y="28012"/>
                  </a:cubicBezTo>
                  <a:cubicBezTo>
                    <a:pt x="47318" y="25173"/>
                    <a:pt x="47318" y="22334"/>
                    <a:pt x="44479" y="22334"/>
                  </a:cubicBezTo>
                  <a:cubicBezTo>
                    <a:pt x="24984" y="22334"/>
                    <a:pt x="24984" y="22334"/>
                    <a:pt x="24984" y="22334"/>
                  </a:cubicBezTo>
                  <a:cubicBezTo>
                    <a:pt x="24984" y="22334"/>
                    <a:pt x="24984" y="22334"/>
                    <a:pt x="22145" y="25173"/>
                  </a:cubicBezTo>
                  <a:cubicBezTo>
                    <a:pt x="22145" y="25173"/>
                    <a:pt x="22145" y="25173"/>
                    <a:pt x="22145" y="28012"/>
                  </a:cubicBezTo>
                  <a:cubicBezTo>
                    <a:pt x="22145" y="44668"/>
                    <a:pt x="22145" y="44668"/>
                    <a:pt x="22145" y="44668"/>
                  </a:cubicBezTo>
                  <a:cubicBezTo>
                    <a:pt x="22145" y="47507"/>
                    <a:pt x="24984" y="50347"/>
                    <a:pt x="24984" y="50347"/>
                  </a:cubicBezTo>
                  <a:cubicBezTo>
                    <a:pt x="27823" y="50347"/>
                    <a:pt x="30662" y="47507"/>
                    <a:pt x="30662" y="44668"/>
                  </a:cubicBezTo>
                  <a:cubicBezTo>
                    <a:pt x="30662" y="36340"/>
                    <a:pt x="30662" y="36340"/>
                    <a:pt x="30662" y="36340"/>
                  </a:cubicBezTo>
                  <a:cubicBezTo>
                    <a:pt x="47318" y="52996"/>
                    <a:pt x="47318" y="52996"/>
                    <a:pt x="47318" y="52996"/>
                  </a:cubicBezTo>
                  <a:cubicBezTo>
                    <a:pt x="52807" y="47507"/>
                    <a:pt x="52807" y="47507"/>
                    <a:pt x="52807" y="47507"/>
                  </a:cubicBezTo>
                  <a:cubicBezTo>
                    <a:pt x="33312" y="30662"/>
                    <a:pt x="33312" y="30662"/>
                    <a:pt x="33312" y="30662"/>
                  </a:cubicBezTo>
                  <a:lnTo>
                    <a:pt x="44479" y="30662"/>
                  </a:lnTo>
                  <a:close/>
                  <a:moveTo>
                    <a:pt x="91798" y="72492"/>
                  </a:moveTo>
                  <a:lnTo>
                    <a:pt x="91798" y="72492"/>
                  </a:lnTo>
                  <a:cubicBezTo>
                    <a:pt x="91798" y="72492"/>
                    <a:pt x="89148" y="72492"/>
                    <a:pt x="89148" y="75331"/>
                  </a:cubicBezTo>
                  <a:cubicBezTo>
                    <a:pt x="89148" y="83659"/>
                    <a:pt x="89148" y="83659"/>
                    <a:pt x="89148" y="83659"/>
                  </a:cubicBezTo>
                  <a:cubicBezTo>
                    <a:pt x="72492" y="67003"/>
                    <a:pt x="72492" y="67003"/>
                    <a:pt x="72492" y="67003"/>
                  </a:cubicBezTo>
                  <a:cubicBezTo>
                    <a:pt x="66813" y="72492"/>
                    <a:pt x="66813" y="72492"/>
                    <a:pt x="66813" y="72492"/>
                  </a:cubicBezTo>
                  <a:cubicBezTo>
                    <a:pt x="83470" y="89148"/>
                    <a:pt x="83470" y="89148"/>
                    <a:pt x="83470" y="89148"/>
                  </a:cubicBezTo>
                  <a:cubicBezTo>
                    <a:pt x="75141" y="89148"/>
                    <a:pt x="75141" y="89148"/>
                    <a:pt x="75141" y="89148"/>
                  </a:cubicBezTo>
                  <a:cubicBezTo>
                    <a:pt x="72492" y="89148"/>
                    <a:pt x="69463" y="91987"/>
                    <a:pt x="69463" y="94826"/>
                  </a:cubicBezTo>
                  <a:cubicBezTo>
                    <a:pt x="69463" y="94826"/>
                    <a:pt x="72492" y="97665"/>
                    <a:pt x="75141" y="97665"/>
                  </a:cubicBezTo>
                  <a:cubicBezTo>
                    <a:pt x="91798" y="97665"/>
                    <a:pt x="91798" y="97665"/>
                    <a:pt x="91798" y="97665"/>
                  </a:cubicBezTo>
                  <a:cubicBezTo>
                    <a:pt x="94637" y="97665"/>
                    <a:pt x="94637" y="97665"/>
                    <a:pt x="94637" y="97665"/>
                  </a:cubicBezTo>
                  <a:cubicBezTo>
                    <a:pt x="97476" y="94826"/>
                    <a:pt x="97476" y="94826"/>
                    <a:pt x="97476" y="94826"/>
                  </a:cubicBezTo>
                  <a:cubicBezTo>
                    <a:pt x="97476" y="75331"/>
                    <a:pt x="97476" y="75331"/>
                    <a:pt x="97476" y="75331"/>
                  </a:cubicBezTo>
                  <a:cubicBezTo>
                    <a:pt x="97476" y="72492"/>
                    <a:pt x="94637" y="72492"/>
                    <a:pt x="91798" y="72492"/>
                  </a:cubicBezTo>
                  <a:close/>
                  <a:moveTo>
                    <a:pt x="47318" y="67003"/>
                  </a:moveTo>
                  <a:lnTo>
                    <a:pt x="47318" y="67003"/>
                  </a:lnTo>
                  <a:cubicBezTo>
                    <a:pt x="30662" y="83659"/>
                    <a:pt x="30662" y="83659"/>
                    <a:pt x="30662" y="83659"/>
                  </a:cubicBezTo>
                  <a:cubicBezTo>
                    <a:pt x="30662" y="75331"/>
                    <a:pt x="30662" y="75331"/>
                    <a:pt x="30662" y="75331"/>
                  </a:cubicBezTo>
                  <a:cubicBezTo>
                    <a:pt x="30662" y="72492"/>
                    <a:pt x="27823" y="72492"/>
                    <a:pt x="24984" y="72492"/>
                  </a:cubicBezTo>
                  <a:cubicBezTo>
                    <a:pt x="24984" y="72492"/>
                    <a:pt x="22145" y="72492"/>
                    <a:pt x="22145" y="75331"/>
                  </a:cubicBezTo>
                  <a:cubicBezTo>
                    <a:pt x="22145" y="94826"/>
                    <a:pt x="22145" y="94826"/>
                    <a:pt x="22145" y="94826"/>
                  </a:cubicBezTo>
                  <a:cubicBezTo>
                    <a:pt x="22145" y="94826"/>
                    <a:pt x="22145" y="94826"/>
                    <a:pt x="22145" y="97665"/>
                  </a:cubicBezTo>
                  <a:cubicBezTo>
                    <a:pt x="24984" y="97665"/>
                    <a:pt x="24984" y="97665"/>
                    <a:pt x="24984" y="97665"/>
                  </a:cubicBezTo>
                  <a:cubicBezTo>
                    <a:pt x="44479" y="97665"/>
                    <a:pt x="44479" y="97665"/>
                    <a:pt x="44479" y="97665"/>
                  </a:cubicBezTo>
                  <a:cubicBezTo>
                    <a:pt x="47318" y="97665"/>
                    <a:pt x="47318" y="94826"/>
                    <a:pt x="47318" y="94826"/>
                  </a:cubicBezTo>
                  <a:cubicBezTo>
                    <a:pt x="47318" y="91987"/>
                    <a:pt x="47318" y="89148"/>
                    <a:pt x="44479" y="89148"/>
                  </a:cubicBezTo>
                  <a:cubicBezTo>
                    <a:pt x="33312" y="89148"/>
                    <a:pt x="33312" y="89148"/>
                    <a:pt x="33312" y="89148"/>
                  </a:cubicBezTo>
                  <a:cubicBezTo>
                    <a:pt x="52807" y="72492"/>
                    <a:pt x="52807" y="72492"/>
                    <a:pt x="52807" y="72492"/>
                  </a:cubicBezTo>
                  <a:lnTo>
                    <a:pt x="47318" y="67003"/>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moveTo>
                    <a:pt x="91798" y="22334"/>
                  </a:moveTo>
                  <a:lnTo>
                    <a:pt x="91798" y="22334"/>
                  </a:lnTo>
                  <a:cubicBezTo>
                    <a:pt x="75141" y="22334"/>
                    <a:pt x="75141" y="22334"/>
                    <a:pt x="75141" y="22334"/>
                  </a:cubicBezTo>
                  <a:cubicBezTo>
                    <a:pt x="72492" y="22334"/>
                    <a:pt x="69463" y="25173"/>
                    <a:pt x="69463" y="28012"/>
                  </a:cubicBezTo>
                  <a:cubicBezTo>
                    <a:pt x="69463" y="28012"/>
                    <a:pt x="72492" y="30662"/>
                    <a:pt x="75141" y="30662"/>
                  </a:cubicBezTo>
                  <a:cubicBezTo>
                    <a:pt x="83470" y="30662"/>
                    <a:pt x="83470" y="30662"/>
                    <a:pt x="83470" y="30662"/>
                  </a:cubicBezTo>
                  <a:cubicBezTo>
                    <a:pt x="66813" y="47507"/>
                    <a:pt x="66813" y="47507"/>
                    <a:pt x="66813" y="47507"/>
                  </a:cubicBezTo>
                  <a:cubicBezTo>
                    <a:pt x="72492" y="52996"/>
                    <a:pt x="72492" y="52996"/>
                    <a:pt x="72492" y="52996"/>
                  </a:cubicBezTo>
                  <a:cubicBezTo>
                    <a:pt x="89148" y="36340"/>
                    <a:pt x="89148" y="36340"/>
                    <a:pt x="89148" y="36340"/>
                  </a:cubicBezTo>
                  <a:cubicBezTo>
                    <a:pt x="89148" y="44668"/>
                    <a:pt x="89148" y="44668"/>
                    <a:pt x="89148" y="44668"/>
                  </a:cubicBezTo>
                  <a:cubicBezTo>
                    <a:pt x="89148" y="47507"/>
                    <a:pt x="91798" y="50347"/>
                    <a:pt x="91798" y="50347"/>
                  </a:cubicBezTo>
                  <a:cubicBezTo>
                    <a:pt x="94637" y="50347"/>
                    <a:pt x="97476" y="47507"/>
                    <a:pt x="97476" y="44668"/>
                  </a:cubicBezTo>
                  <a:cubicBezTo>
                    <a:pt x="97476" y="28012"/>
                    <a:pt x="97476" y="28012"/>
                    <a:pt x="97476" y="28012"/>
                  </a:cubicBezTo>
                  <a:cubicBezTo>
                    <a:pt x="97476" y="25173"/>
                    <a:pt x="97476" y="25173"/>
                    <a:pt x="94637" y="25173"/>
                  </a:cubicBezTo>
                  <a:cubicBezTo>
                    <a:pt x="94637" y="22334"/>
                    <a:pt x="94637" y="22334"/>
                    <a:pt x="91798" y="22334"/>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28" name="Group 36"/>
          <p:cNvGrpSpPr/>
          <p:nvPr/>
        </p:nvGrpSpPr>
        <p:grpSpPr>
          <a:xfrm>
            <a:off x="8282160" y="4262400"/>
            <a:ext cx="3371760" cy="1986480"/>
            <a:chOff x="8282160" y="4262400"/>
            <a:chExt cx="3371760" cy="1986480"/>
          </a:xfrm>
        </p:grpSpPr>
        <p:sp>
          <p:nvSpPr>
            <p:cNvPr id="1129" name="Rounded Rectangle 33"/>
            <p:cNvSpPr/>
            <p:nvPr/>
          </p:nvSpPr>
          <p:spPr>
            <a:xfrm>
              <a:off x="8282160" y="4262400"/>
              <a:ext cx="3371760" cy="1957320"/>
            </a:xfrm>
            <a:prstGeom prst="roundRect">
              <a:avLst>
                <a:gd name="adj" fmla="val 16667"/>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0" name="Shape 4600"/>
            <p:cNvSpPr/>
            <p:nvPr/>
          </p:nvSpPr>
          <p:spPr>
            <a:xfrm>
              <a:off x="9828000" y="4435920"/>
              <a:ext cx="304920" cy="306720"/>
            </a:xfrm>
            <a:custGeom>
              <a:avLst/>
              <a:gdLst>
                <a:gd name="textAreaLeft" fmla="*/ 0 w 304920"/>
                <a:gd name="textAreaRight" fmla="*/ 305280 w 304920"/>
                <a:gd name="textAreaTop" fmla="*/ 0 h 306720"/>
                <a:gd name="textAreaBottom" fmla="*/ 307080 h 30672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31" name="Subtitle 2"/>
            <p:cNvSpPr/>
            <p:nvPr/>
          </p:nvSpPr>
          <p:spPr>
            <a:xfrm>
              <a:off x="8855280" y="4965480"/>
              <a:ext cx="2251080" cy="2761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181717"/>
                  </a:solidFill>
                  <a:latin typeface="Lato"/>
                  <a:ea typeface="Lato"/>
                </a:rPr>
                <a:t>Subtitle here</a:t>
              </a:r>
              <a:endParaRPr b="0" lang="en-US" sz="1400" spc="-1" strike="noStrike">
                <a:solidFill>
                  <a:srgbClr val="000000"/>
                </a:solidFill>
                <a:latin typeface="Calibri"/>
              </a:endParaRPr>
            </a:p>
          </p:txBody>
        </p:sp>
        <p:sp>
          <p:nvSpPr>
            <p:cNvPr id="1132" name="Rectangle 28"/>
            <p:cNvSpPr/>
            <p:nvPr/>
          </p:nvSpPr>
          <p:spPr>
            <a:xfrm>
              <a:off x="8786880" y="5241960"/>
              <a:ext cx="236232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81717"/>
                  </a:solidFill>
                  <a:latin typeface="Lato"/>
                  <a:ea typeface="Lato"/>
                </a:rPr>
                <a:t>Lorem ipsum dolor sit amet, lacus nulla ac netus nibh aliquet, portt ligula justo libero vivamus porttitor dolor</a:t>
              </a:r>
              <a:endParaRPr b="0" lang="en-US" sz="1000" spc="-1" strike="noStrike">
                <a:solidFill>
                  <a:srgbClr val="000000"/>
                </a:solidFill>
                <a:latin typeface="Calibri"/>
              </a:endParaRPr>
            </a:p>
          </p:txBody>
        </p:sp>
      </p:grpSp>
      <p:grpSp>
        <p:nvGrpSpPr>
          <p:cNvPr id="1133" name="Group 34"/>
          <p:cNvGrpSpPr/>
          <p:nvPr/>
        </p:nvGrpSpPr>
        <p:grpSpPr>
          <a:xfrm>
            <a:off x="530280" y="4262400"/>
            <a:ext cx="3371760" cy="1957320"/>
            <a:chOff x="530280" y="4262400"/>
            <a:chExt cx="3371760" cy="1957320"/>
          </a:xfrm>
        </p:grpSpPr>
        <p:sp>
          <p:nvSpPr>
            <p:cNvPr id="1134" name="Rounded Rectangle 31"/>
            <p:cNvSpPr/>
            <p:nvPr/>
          </p:nvSpPr>
          <p:spPr>
            <a:xfrm>
              <a:off x="530280" y="4262400"/>
              <a:ext cx="3371760" cy="1957320"/>
            </a:xfrm>
            <a:prstGeom prst="roundRect">
              <a:avLst>
                <a:gd name="adj" fmla="val 16667"/>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Shape 4713"/>
            <p:cNvSpPr/>
            <p:nvPr/>
          </p:nvSpPr>
          <p:spPr>
            <a:xfrm>
              <a:off x="2067840" y="4437000"/>
              <a:ext cx="296280" cy="304920"/>
            </a:xfrm>
            <a:custGeom>
              <a:avLst/>
              <a:gdLst>
                <a:gd name="textAreaLeft" fmla="*/ 0 w 296280"/>
                <a:gd name="textAreaRight" fmla="*/ 296640 w 296280"/>
                <a:gd name="textAreaTop" fmla="*/ 0 h 304920"/>
                <a:gd name="textAreaBottom" fmla="*/ 305280 h 304920"/>
              </a:gdLst>
              <a:ahLst/>
              <a:rect l="textAreaLeft" t="textAreaTop" r="textAreaRight" b="textAreaBottom"/>
              <a:pathLst>
                <a:path w="120000" h="120000">
                  <a:moveTo>
                    <a:pt x="102746" y="97476"/>
                  </a:moveTo>
                  <a:lnTo>
                    <a:pt x="102746" y="97476"/>
                  </a:lnTo>
                  <a:cubicBezTo>
                    <a:pt x="99838" y="97476"/>
                    <a:pt x="96930" y="100315"/>
                    <a:pt x="96930" y="100315"/>
                  </a:cubicBezTo>
                  <a:cubicBezTo>
                    <a:pt x="96930" y="103154"/>
                    <a:pt x="99838" y="105993"/>
                    <a:pt x="102746" y="105993"/>
                  </a:cubicBezTo>
                  <a:cubicBezTo>
                    <a:pt x="102746" y="105993"/>
                    <a:pt x="105654" y="103154"/>
                    <a:pt x="105654" y="100315"/>
                  </a:cubicBezTo>
                  <a:lnTo>
                    <a:pt x="102746" y="97476"/>
                  </a:lnTo>
                  <a:close/>
                  <a:moveTo>
                    <a:pt x="17059" y="22334"/>
                  </a:moveTo>
                  <a:lnTo>
                    <a:pt x="17059" y="22334"/>
                  </a:lnTo>
                  <a:cubicBezTo>
                    <a:pt x="19967" y="22334"/>
                    <a:pt x="22875" y="22334"/>
                    <a:pt x="22875" y="19495"/>
                  </a:cubicBezTo>
                  <a:cubicBezTo>
                    <a:pt x="22875" y="16656"/>
                    <a:pt x="19967" y="16656"/>
                    <a:pt x="17059" y="16656"/>
                  </a:cubicBezTo>
                  <a:cubicBezTo>
                    <a:pt x="17059" y="16656"/>
                    <a:pt x="14345" y="16656"/>
                    <a:pt x="14345" y="19495"/>
                  </a:cubicBezTo>
                  <a:cubicBezTo>
                    <a:pt x="14345" y="22334"/>
                    <a:pt x="17059" y="22334"/>
                    <a:pt x="17059" y="22334"/>
                  </a:cubicBezTo>
                  <a:close/>
                  <a:moveTo>
                    <a:pt x="17059" y="97476"/>
                  </a:moveTo>
                  <a:lnTo>
                    <a:pt x="17059" y="97476"/>
                  </a:lnTo>
                  <a:lnTo>
                    <a:pt x="14345" y="100315"/>
                  </a:lnTo>
                  <a:cubicBezTo>
                    <a:pt x="14345" y="103154"/>
                    <a:pt x="17059" y="105993"/>
                    <a:pt x="17059" y="105993"/>
                  </a:cubicBezTo>
                  <a:cubicBezTo>
                    <a:pt x="19967" y="105993"/>
                    <a:pt x="22875" y="103154"/>
                    <a:pt x="22875" y="100315"/>
                  </a:cubicBezTo>
                  <a:cubicBezTo>
                    <a:pt x="22875" y="100315"/>
                    <a:pt x="19967" y="97476"/>
                    <a:pt x="17059" y="97476"/>
                  </a:cubicBezTo>
                  <a:close/>
                  <a:moveTo>
                    <a:pt x="59903" y="16656"/>
                  </a:moveTo>
                  <a:lnTo>
                    <a:pt x="59903" y="16656"/>
                  </a:lnTo>
                  <a:cubicBezTo>
                    <a:pt x="34313" y="16656"/>
                    <a:pt x="14345" y="36340"/>
                    <a:pt x="14345" y="61324"/>
                  </a:cubicBezTo>
                  <a:cubicBezTo>
                    <a:pt x="14345" y="86309"/>
                    <a:pt x="34313" y="105993"/>
                    <a:pt x="59903" y="105993"/>
                  </a:cubicBezTo>
                  <a:cubicBezTo>
                    <a:pt x="85492" y="105993"/>
                    <a:pt x="105654" y="86309"/>
                    <a:pt x="105654" y="61324"/>
                  </a:cubicBezTo>
                  <a:cubicBezTo>
                    <a:pt x="105654" y="36340"/>
                    <a:pt x="85492" y="16656"/>
                    <a:pt x="59903" y="16656"/>
                  </a:cubicBezTo>
                  <a:close/>
                  <a:moveTo>
                    <a:pt x="59903" y="97476"/>
                  </a:moveTo>
                  <a:lnTo>
                    <a:pt x="59903" y="97476"/>
                  </a:lnTo>
                  <a:cubicBezTo>
                    <a:pt x="39935" y="97476"/>
                    <a:pt x="22875" y="80820"/>
                    <a:pt x="22875" y="61324"/>
                  </a:cubicBezTo>
                  <a:cubicBezTo>
                    <a:pt x="22875" y="38990"/>
                    <a:pt x="39935" y="22334"/>
                    <a:pt x="59903" y="22334"/>
                  </a:cubicBezTo>
                  <a:cubicBezTo>
                    <a:pt x="79870" y="22334"/>
                    <a:pt x="96930" y="38990"/>
                    <a:pt x="96930" y="61324"/>
                  </a:cubicBezTo>
                  <a:cubicBezTo>
                    <a:pt x="96930" y="80820"/>
                    <a:pt x="79870" y="97476"/>
                    <a:pt x="59903" y="97476"/>
                  </a:cubicBezTo>
                  <a:close/>
                  <a:moveTo>
                    <a:pt x="59903" y="38990"/>
                  </a:moveTo>
                  <a:lnTo>
                    <a:pt x="59903" y="38990"/>
                  </a:lnTo>
                  <a:cubicBezTo>
                    <a:pt x="48465" y="38990"/>
                    <a:pt x="37027" y="47507"/>
                    <a:pt x="37027" y="61324"/>
                  </a:cubicBezTo>
                  <a:cubicBezTo>
                    <a:pt x="37027" y="72492"/>
                    <a:pt x="48465" y="83659"/>
                    <a:pt x="59903" y="83659"/>
                  </a:cubicBezTo>
                  <a:cubicBezTo>
                    <a:pt x="71340" y="83659"/>
                    <a:pt x="82778" y="72492"/>
                    <a:pt x="82778" y="61324"/>
                  </a:cubicBezTo>
                  <a:cubicBezTo>
                    <a:pt x="82778" y="47507"/>
                    <a:pt x="71340" y="38990"/>
                    <a:pt x="59903" y="38990"/>
                  </a:cubicBezTo>
                  <a:close/>
                  <a:moveTo>
                    <a:pt x="59903" y="75331"/>
                  </a:moveTo>
                  <a:lnTo>
                    <a:pt x="59903" y="75331"/>
                  </a:lnTo>
                  <a:cubicBezTo>
                    <a:pt x="51373" y="75331"/>
                    <a:pt x="45751" y="69652"/>
                    <a:pt x="45751" y="61324"/>
                  </a:cubicBezTo>
                  <a:cubicBezTo>
                    <a:pt x="45751" y="52996"/>
                    <a:pt x="51373" y="44479"/>
                    <a:pt x="59903" y="44479"/>
                  </a:cubicBezTo>
                  <a:cubicBezTo>
                    <a:pt x="68432" y="44479"/>
                    <a:pt x="74248" y="52996"/>
                    <a:pt x="74248" y="61324"/>
                  </a:cubicBezTo>
                  <a:cubicBezTo>
                    <a:pt x="74248" y="69652"/>
                    <a:pt x="68432" y="75331"/>
                    <a:pt x="59903" y="75331"/>
                  </a:cubicBezTo>
                  <a:close/>
                  <a:moveTo>
                    <a:pt x="105654" y="0"/>
                  </a:moveTo>
                  <a:lnTo>
                    <a:pt x="105654" y="0"/>
                  </a:lnTo>
                  <a:cubicBezTo>
                    <a:pt x="14345" y="0"/>
                    <a:pt x="14345" y="0"/>
                    <a:pt x="14345" y="0"/>
                  </a:cubicBezTo>
                  <a:cubicBezTo>
                    <a:pt x="5621" y="0"/>
                    <a:pt x="0" y="8328"/>
                    <a:pt x="0" y="16656"/>
                  </a:cubicBezTo>
                  <a:cubicBezTo>
                    <a:pt x="0" y="105993"/>
                    <a:pt x="0" y="105993"/>
                    <a:pt x="0" y="105993"/>
                  </a:cubicBezTo>
                  <a:cubicBezTo>
                    <a:pt x="0" y="114321"/>
                    <a:pt x="5621" y="119810"/>
                    <a:pt x="14345" y="119810"/>
                  </a:cubicBezTo>
                  <a:cubicBezTo>
                    <a:pt x="105654" y="119810"/>
                    <a:pt x="105654" y="119810"/>
                    <a:pt x="105654" y="119810"/>
                  </a:cubicBezTo>
                  <a:cubicBezTo>
                    <a:pt x="114184" y="119810"/>
                    <a:pt x="119806" y="114321"/>
                    <a:pt x="119806" y="105993"/>
                  </a:cubicBezTo>
                  <a:cubicBezTo>
                    <a:pt x="119806" y="16656"/>
                    <a:pt x="119806" y="16656"/>
                    <a:pt x="119806" y="16656"/>
                  </a:cubicBezTo>
                  <a:cubicBezTo>
                    <a:pt x="119806" y="8328"/>
                    <a:pt x="114184" y="0"/>
                    <a:pt x="105654" y="0"/>
                  </a:cubicBezTo>
                  <a:close/>
                  <a:moveTo>
                    <a:pt x="114184" y="105993"/>
                  </a:moveTo>
                  <a:lnTo>
                    <a:pt x="114184" y="105993"/>
                  </a:lnTo>
                  <a:cubicBezTo>
                    <a:pt x="114184" y="108643"/>
                    <a:pt x="108368" y="111482"/>
                    <a:pt x="105654" y="111482"/>
                  </a:cubicBezTo>
                  <a:cubicBezTo>
                    <a:pt x="14345" y="111482"/>
                    <a:pt x="14345" y="111482"/>
                    <a:pt x="14345" y="111482"/>
                  </a:cubicBezTo>
                  <a:cubicBezTo>
                    <a:pt x="11437" y="111482"/>
                    <a:pt x="5621" y="108643"/>
                    <a:pt x="5621" y="105993"/>
                  </a:cubicBezTo>
                  <a:cubicBezTo>
                    <a:pt x="5621" y="16656"/>
                    <a:pt x="5621" y="16656"/>
                    <a:pt x="5621" y="16656"/>
                  </a:cubicBezTo>
                  <a:cubicBezTo>
                    <a:pt x="5621" y="11167"/>
                    <a:pt x="11437" y="8328"/>
                    <a:pt x="14345" y="8328"/>
                  </a:cubicBezTo>
                  <a:cubicBezTo>
                    <a:pt x="105654" y="8328"/>
                    <a:pt x="105654" y="8328"/>
                    <a:pt x="105654" y="8328"/>
                  </a:cubicBezTo>
                  <a:cubicBezTo>
                    <a:pt x="108368" y="8328"/>
                    <a:pt x="114184" y="11167"/>
                    <a:pt x="114184" y="16656"/>
                  </a:cubicBezTo>
                  <a:lnTo>
                    <a:pt x="114184" y="105993"/>
                  </a:lnTo>
                  <a:close/>
                  <a:moveTo>
                    <a:pt x="102746" y="16656"/>
                  </a:moveTo>
                  <a:lnTo>
                    <a:pt x="102746" y="16656"/>
                  </a:lnTo>
                  <a:cubicBezTo>
                    <a:pt x="99838" y="16656"/>
                    <a:pt x="96930" y="16656"/>
                    <a:pt x="96930" y="19495"/>
                  </a:cubicBezTo>
                  <a:cubicBezTo>
                    <a:pt x="96930" y="22334"/>
                    <a:pt x="99838" y="22334"/>
                    <a:pt x="102746" y="22334"/>
                  </a:cubicBezTo>
                  <a:cubicBezTo>
                    <a:pt x="102746" y="22334"/>
                    <a:pt x="105654" y="22334"/>
                    <a:pt x="105654" y="19495"/>
                  </a:cubicBezTo>
                  <a:cubicBezTo>
                    <a:pt x="105654" y="16656"/>
                    <a:pt x="102746" y="16656"/>
                    <a:pt x="102746" y="16656"/>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36" name="Subtitle 2"/>
            <p:cNvSpPr/>
            <p:nvPr/>
          </p:nvSpPr>
          <p:spPr>
            <a:xfrm>
              <a:off x="1090440" y="4965480"/>
              <a:ext cx="2251080" cy="2761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181717"/>
                  </a:solidFill>
                  <a:latin typeface="Lato"/>
                  <a:ea typeface="Lato"/>
                </a:rPr>
                <a:t>Subtitle here</a:t>
              </a:r>
              <a:endParaRPr b="0" lang="en-US" sz="1400" spc="-1" strike="noStrike">
                <a:solidFill>
                  <a:srgbClr val="000000"/>
                </a:solidFill>
                <a:latin typeface="Calibri"/>
              </a:endParaRPr>
            </a:p>
          </p:txBody>
        </p:sp>
        <p:sp>
          <p:nvSpPr>
            <p:cNvPr id="1137" name="Rectangle 30"/>
            <p:cNvSpPr/>
            <p:nvPr/>
          </p:nvSpPr>
          <p:spPr>
            <a:xfrm>
              <a:off x="1035000" y="5241960"/>
              <a:ext cx="23623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81717"/>
                  </a:solidFill>
                  <a:latin typeface="Lato"/>
                  <a:ea typeface="Lato"/>
                </a:rPr>
                <a:t>Lorem ipsum dolor sit amet, lacus nulla ac netus nibh aliquet, porttitor ligula justo libero</a:t>
              </a:r>
              <a:endParaRPr b="0" lang="en-US" sz="1000" spc="-1" strike="noStrike">
                <a:solidFill>
                  <a:srgbClr val="000000"/>
                </a:solidFill>
                <a:latin typeface="Calibri"/>
              </a:endParaRPr>
            </a:p>
          </p:txBody>
        </p:sp>
      </p:grpSp>
      <p:pic>
        <p:nvPicPr>
          <p:cNvPr id="1138" name="" descr=""/>
          <p:cNvPicPr/>
          <p:nvPr/>
        </p:nvPicPr>
        <p:blipFill>
          <a:blip r:embed="rId1"/>
          <a:stretch/>
        </p:blipFill>
        <p:spPr>
          <a:xfrm>
            <a:off x="-360" y="-360"/>
            <a:ext cx="12192120" cy="335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23"/>
          <p:cNvSpPr/>
          <p:nvPr/>
        </p:nvSpPr>
        <p:spPr>
          <a:xfrm>
            <a:off x="0" y="-6480"/>
            <a:ext cx="12192120" cy="3359160"/>
          </a:xfrm>
          <a:prstGeom prst="rect">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Subtitle 2"/>
          <p:cNvSpPr/>
          <p:nvPr/>
        </p:nvSpPr>
        <p:spPr>
          <a:xfrm>
            <a:off x="3984480" y="1411200"/>
            <a:ext cx="4222800" cy="611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Kelson Sans"/>
                <a:ea typeface="Lato"/>
              </a:rPr>
              <a:t>Achievements</a:t>
            </a:r>
            <a:endParaRPr b="0" lang="en-US" sz="4000" spc="-1" strike="noStrike">
              <a:solidFill>
                <a:srgbClr val="000000"/>
              </a:solidFill>
              <a:latin typeface="Calibri"/>
            </a:endParaRPr>
          </a:p>
        </p:txBody>
      </p:sp>
      <p:sp>
        <p:nvSpPr>
          <p:cNvPr id="1141" name="Rectangle 5"/>
          <p:cNvSpPr/>
          <p:nvPr/>
        </p:nvSpPr>
        <p:spPr>
          <a:xfrm>
            <a:off x="3489480" y="2214720"/>
            <a:ext cx="52131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a:t>
            </a:r>
            <a:endParaRPr b="0" lang="en-US" sz="1000" spc="-1" strike="noStrike">
              <a:solidFill>
                <a:srgbClr val="000000"/>
              </a:solidFill>
              <a:latin typeface="Calibri"/>
            </a:endParaRPr>
          </a:p>
        </p:txBody>
      </p:sp>
      <p:grpSp>
        <p:nvGrpSpPr>
          <p:cNvPr id="1142" name="Group 3"/>
          <p:cNvGrpSpPr/>
          <p:nvPr/>
        </p:nvGrpSpPr>
        <p:grpSpPr>
          <a:xfrm>
            <a:off x="1192320" y="4110120"/>
            <a:ext cx="2558880" cy="1958760"/>
            <a:chOff x="1192320" y="4110120"/>
            <a:chExt cx="2558880" cy="1958760"/>
          </a:xfrm>
        </p:grpSpPr>
        <p:sp>
          <p:nvSpPr>
            <p:cNvPr id="1143" name="Rounded Rectangle 31"/>
            <p:cNvSpPr/>
            <p:nvPr/>
          </p:nvSpPr>
          <p:spPr>
            <a:xfrm>
              <a:off x="1192320" y="4110120"/>
              <a:ext cx="2558880" cy="1958760"/>
            </a:xfrm>
            <a:prstGeom prst="roundRect">
              <a:avLst>
                <a:gd name="adj" fmla="val 16667"/>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Subtitle 2"/>
            <p:cNvSpPr/>
            <p:nvPr/>
          </p:nvSpPr>
          <p:spPr>
            <a:xfrm>
              <a:off x="1342800" y="4815000"/>
              <a:ext cx="2251080" cy="27432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181717"/>
                  </a:solidFill>
                  <a:latin typeface="Lato"/>
                  <a:ea typeface="Lato"/>
                </a:rPr>
                <a:t>Clients</a:t>
              </a:r>
              <a:endParaRPr b="0" lang="en-US" sz="1400" spc="-1" strike="noStrike">
                <a:solidFill>
                  <a:srgbClr val="000000"/>
                </a:solidFill>
                <a:latin typeface="Calibri"/>
              </a:endParaRPr>
            </a:p>
          </p:txBody>
        </p:sp>
        <p:sp>
          <p:nvSpPr>
            <p:cNvPr id="1145" name="Rectangle 30"/>
            <p:cNvSpPr/>
            <p:nvPr/>
          </p:nvSpPr>
          <p:spPr>
            <a:xfrm>
              <a:off x="1484280" y="5089320"/>
              <a:ext cx="197496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81717"/>
                  </a:solidFill>
                  <a:latin typeface="Lato"/>
                  <a:ea typeface="Lato"/>
                </a:rPr>
                <a:t>Lorem ipsum dolor sit amet, lacus nulla ac netus nibh aliquet, porttitor ligula justo libero</a:t>
              </a:r>
              <a:endParaRPr b="0" lang="en-US" sz="900" spc="-1" strike="noStrike">
                <a:solidFill>
                  <a:srgbClr val="000000"/>
                </a:solidFill>
                <a:latin typeface="Calibri"/>
              </a:endParaRPr>
            </a:p>
          </p:txBody>
        </p:sp>
        <p:sp>
          <p:nvSpPr>
            <p:cNvPr id="1146" name="Subtitle 2"/>
            <p:cNvSpPr/>
            <p:nvPr/>
          </p:nvSpPr>
          <p:spPr>
            <a:xfrm>
              <a:off x="1984320" y="4410000"/>
              <a:ext cx="968400" cy="4842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181717"/>
                  </a:solidFill>
                  <a:latin typeface="Lato"/>
                  <a:ea typeface="Lato"/>
                </a:rPr>
                <a:t>892</a:t>
              </a:r>
              <a:endParaRPr b="0" lang="en-US" sz="2800" spc="-1" strike="noStrike">
                <a:solidFill>
                  <a:srgbClr val="000000"/>
                </a:solidFill>
                <a:latin typeface="Calibri"/>
              </a:endParaRPr>
            </a:p>
          </p:txBody>
        </p:sp>
      </p:grpSp>
      <p:grpSp>
        <p:nvGrpSpPr>
          <p:cNvPr id="1147" name="Group 6"/>
          <p:cNvGrpSpPr/>
          <p:nvPr/>
        </p:nvGrpSpPr>
        <p:grpSpPr>
          <a:xfrm>
            <a:off x="4786200" y="4110120"/>
            <a:ext cx="2560680" cy="1958760"/>
            <a:chOff x="4786200" y="4110120"/>
            <a:chExt cx="2560680" cy="1958760"/>
          </a:xfrm>
        </p:grpSpPr>
        <p:sp>
          <p:nvSpPr>
            <p:cNvPr id="1148" name="Rounded Rectangle 40"/>
            <p:cNvSpPr/>
            <p:nvPr/>
          </p:nvSpPr>
          <p:spPr>
            <a:xfrm>
              <a:off x="4786200" y="4110120"/>
              <a:ext cx="2560680" cy="1958760"/>
            </a:xfrm>
            <a:prstGeom prst="roundRect">
              <a:avLst>
                <a:gd name="adj" fmla="val 16667"/>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9" name="Subtitle 2"/>
            <p:cNvSpPr/>
            <p:nvPr/>
          </p:nvSpPr>
          <p:spPr>
            <a:xfrm>
              <a:off x="4966920" y="4815000"/>
              <a:ext cx="2251080" cy="27432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181717"/>
                  </a:solidFill>
                  <a:latin typeface="Lato"/>
                  <a:ea typeface="Lato"/>
                </a:rPr>
                <a:t>Product</a:t>
              </a:r>
              <a:endParaRPr b="0" lang="en-US" sz="1400" spc="-1" strike="noStrike">
                <a:solidFill>
                  <a:srgbClr val="000000"/>
                </a:solidFill>
                <a:latin typeface="Calibri"/>
              </a:endParaRPr>
            </a:p>
          </p:txBody>
        </p:sp>
        <p:sp>
          <p:nvSpPr>
            <p:cNvPr id="1150" name="Rectangle 15"/>
            <p:cNvSpPr/>
            <p:nvPr/>
          </p:nvSpPr>
          <p:spPr>
            <a:xfrm>
              <a:off x="4910040" y="5089320"/>
              <a:ext cx="23641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81717"/>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151" name="Subtitle 2"/>
            <p:cNvSpPr/>
            <p:nvPr/>
          </p:nvSpPr>
          <p:spPr>
            <a:xfrm>
              <a:off x="5572080" y="4410000"/>
              <a:ext cx="968400" cy="4842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181717"/>
                  </a:solidFill>
                  <a:latin typeface="Lato"/>
                  <a:ea typeface="Lato"/>
                </a:rPr>
                <a:t>522</a:t>
              </a:r>
              <a:endParaRPr b="0" lang="en-US" sz="2800" spc="-1" strike="noStrike">
                <a:solidFill>
                  <a:srgbClr val="000000"/>
                </a:solidFill>
                <a:latin typeface="Calibri"/>
              </a:endParaRPr>
            </a:p>
          </p:txBody>
        </p:sp>
      </p:grpSp>
      <p:grpSp>
        <p:nvGrpSpPr>
          <p:cNvPr id="1152" name="Group 7"/>
          <p:cNvGrpSpPr/>
          <p:nvPr/>
        </p:nvGrpSpPr>
        <p:grpSpPr>
          <a:xfrm>
            <a:off x="8381880" y="4110120"/>
            <a:ext cx="2559240" cy="1958760"/>
            <a:chOff x="8381880" y="4110120"/>
            <a:chExt cx="2559240" cy="1958760"/>
          </a:xfrm>
        </p:grpSpPr>
        <p:sp>
          <p:nvSpPr>
            <p:cNvPr id="1153" name="Rounded Rectangle 43"/>
            <p:cNvSpPr/>
            <p:nvPr/>
          </p:nvSpPr>
          <p:spPr>
            <a:xfrm>
              <a:off x="8381880" y="4110120"/>
              <a:ext cx="2559240" cy="1958760"/>
            </a:xfrm>
            <a:prstGeom prst="roundRect">
              <a:avLst>
                <a:gd name="adj" fmla="val 16667"/>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4" name="Subtitle 2"/>
            <p:cNvSpPr/>
            <p:nvPr/>
          </p:nvSpPr>
          <p:spPr>
            <a:xfrm>
              <a:off x="8532720" y="4815000"/>
              <a:ext cx="2249640" cy="27432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181717"/>
                  </a:solidFill>
                  <a:latin typeface="Lato"/>
                  <a:ea typeface="Lato"/>
                </a:rPr>
                <a:t>Sales</a:t>
              </a:r>
              <a:endParaRPr b="0" lang="en-US" sz="1400" spc="-1" strike="noStrike">
                <a:solidFill>
                  <a:srgbClr val="000000"/>
                </a:solidFill>
                <a:latin typeface="Calibri"/>
              </a:endParaRPr>
            </a:p>
          </p:txBody>
        </p:sp>
        <p:sp>
          <p:nvSpPr>
            <p:cNvPr id="1155" name="Rectangle 28"/>
            <p:cNvSpPr/>
            <p:nvPr/>
          </p:nvSpPr>
          <p:spPr>
            <a:xfrm>
              <a:off x="8577000" y="5089320"/>
              <a:ext cx="23626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81717"/>
                  </a:solidFill>
                  <a:latin typeface="Lato"/>
                  <a:ea typeface="Lato"/>
                </a:rPr>
                <a:t>Lorem ipsum dolor sit amet, lacus nulla ac netus nibh aliquet, portt ligula justo libero vivamus porttitor dolor</a:t>
              </a:r>
              <a:endParaRPr b="0" lang="en-US" sz="900" spc="-1" strike="noStrike">
                <a:solidFill>
                  <a:srgbClr val="000000"/>
                </a:solidFill>
                <a:latin typeface="Calibri"/>
              </a:endParaRPr>
            </a:p>
          </p:txBody>
        </p:sp>
        <p:sp>
          <p:nvSpPr>
            <p:cNvPr id="1156" name="Subtitle 2"/>
            <p:cNvSpPr/>
            <p:nvPr/>
          </p:nvSpPr>
          <p:spPr>
            <a:xfrm>
              <a:off x="9026280" y="4410000"/>
              <a:ext cx="1262160" cy="4842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181717"/>
                  </a:solidFill>
                  <a:latin typeface="Lato"/>
                  <a:ea typeface="Lato"/>
                </a:rPr>
                <a:t>$9841</a:t>
              </a:r>
              <a:endParaRPr b="0" lang="en-US" sz="2800" spc="-1" strike="noStrike">
                <a:solidFill>
                  <a:srgbClr val="000000"/>
                </a:solidFill>
                <a:latin typeface="Calibri"/>
              </a:endParaRPr>
            </a:p>
          </p:txBody>
        </p:sp>
      </p:grpSp>
      <p:pic>
        <p:nvPicPr>
          <p:cNvPr id="1157" name="" descr=""/>
          <p:cNvPicPr/>
          <p:nvPr/>
        </p:nvPicPr>
        <p:blipFill>
          <a:blip r:embed="rId1"/>
          <a:stretch/>
        </p:blipFill>
        <p:spPr>
          <a:xfrm>
            <a:off x="-360" y="-360"/>
            <a:ext cx="1219212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8" name="Group 3"/>
          <p:cNvGrpSpPr/>
          <p:nvPr/>
        </p:nvGrpSpPr>
        <p:grpSpPr>
          <a:xfrm>
            <a:off x="6975360" y="4884840"/>
            <a:ext cx="812880" cy="812520"/>
            <a:chOff x="6975360" y="4884840"/>
            <a:chExt cx="812880" cy="812520"/>
          </a:xfrm>
        </p:grpSpPr>
        <p:sp>
          <p:nvSpPr>
            <p:cNvPr id="1159" name="Rectangle 4"/>
            <p:cNvSpPr/>
            <p:nvPr/>
          </p:nvSpPr>
          <p:spPr>
            <a:xfrm>
              <a:off x="6975360" y="4884840"/>
              <a:ext cx="812880" cy="8125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0" name="Shape 4674"/>
            <p:cNvSpPr/>
            <p:nvPr/>
          </p:nvSpPr>
          <p:spPr>
            <a:xfrm>
              <a:off x="7229160" y="5141880"/>
              <a:ext cx="305280" cy="298080"/>
            </a:xfrm>
            <a:custGeom>
              <a:avLst/>
              <a:gdLst>
                <a:gd name="textAreaLeft" fmla="*/ 0 w 305280"/>
                <a:gd name="textAreaRight" fmla="*/ 305640 w 305280"/>
                <a:gd name="textAreaTop" fmla="*/ 0 h 298080"/>
                <a:gd name="textAreaBottom" fmla="*/ 298440 h 29808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1" name="Group 6"/>
          <p:cNvGrpSpPr/>
          <p:nvPr/>
        </p:nvGrpSpPr>
        <p:grpSpPr>
          <a:xfrm>
            <a:off x="6975360" y="1803240"/>
            <a:ext cx="812880" cy="812880"/>
            <a:chOff x="6975360" y="1803240"/>
            <a:chExt cx="812880" cy="812880"/>
          </a:xfrm>
        </p:grpSpPr>
        <p:sp>
          <p:nvSpPr>
            <p:cNvPr id="1162" name="Rectangle 7"/>
            <p:cNvSpPr/>
            <p:nvPr/>
          </p:nvSpPr>
          <p:spPr>
            <a:xfrm>
              <a:off x="6975360" y="1803240"/>
              <a:ext cx="812880" cy="81288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Shape 4738"/>
            <p:cNvSpPr/>
            <p:nvPr/>
          </p:nvSpPr>
          <p:spPr>
            <a:xfrm>
              <a:off x="7229160" y="2059560"/>
              <a:ext cx="305280" cy="296280"/>
            </a:xfrm>
            <a:custGeom>
              <a:avLst/>
              <a:gdLst>
                <a:gd name="textAreaLeft" fmla="*/ 0 w 305280"/>
                <a:gd name="textAreaRight" fmla="*/ 305640 w 305280"/>
                <a:gd name="textAreaTop" fmla="*/ 0 h 296280"/>
                <a:gd name="textAreaBottom" fmla="*/ 296640 h 29628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4" name="Group 9"/>
          <p:cNvGrpSpPr/>
          <p:nvPr/>
        </p:nvGrpSpPr>
        <p:grpSpPr>
          <a:xfrm>
            <a:off x="6975360" y="3343320"/>
            <a:ext cx="812880" cy="812880"/>
            <a:chOff x="6975360" y="3343320"/>
            <a:chExt cx="812880" cy="812880"/>
          </a:xfrm>
        </p:grpSpPr>
        <p:sp>
          <p:nvSpPr>
            <p:cNvPr id="1165" name="Rectangle 10"/>
            <p:cNvSpPr/>
            <p:nvPr/>
          </p:nvSpPr>
          <p:spPr>
            <a:xfrm>
              <a:off x="6975360" y="3343320"/>
              <a:ext cx="812880" cy="81288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4741"/>
            <p:cNvSpPr/>
            <p:nvPr/>
          </p:nvSpPr>
          <p:spPr>
            <a:xfrm>
              <a:off x="7258320" y="3601440"/>
              <a:ext cx="246960" cy="296280"/>
            </a:xfrm>
            <a:custGeom>
              <a:avLst/>
              <a:gdLst>
                <a:gd name="textAreaLeft" fmla="*/ 0 w 246960"/>
                <a:gd name="textAreaRight" fmla="*/ 247320 w 246960"/>
                <a:gd name="textAreaTop" fmla="*/ 0 h 296280"/>
                <a:gd name="textAreaBottom" fmla="*/ 296640 h 296280"/>
              </a:gdLst>
              <a:ahLst/>
              <a:rect l="textAreaLeft" t="textAreaTop" r="textAreaRight" b="textAreaBottom"/>
              <a:pathLst>
                <a:path w="120000" h="120000">
                  <a:moveTo>
                    <a:pt x="116286" y="45557"/>
                  </a:moveTo>
                  <a:lnTo>
                    <a:pt x="116286" y="45557"/>
                  </a:lnTo>
                  <a:cubicBezTo>
                    <a:pt x="102591" y="22681"/>
                    <a:pt x="102591" y="22681"/>
                    <a:pt x="102591" y="22681"/>
                  </a:cubicBezTo>
                  <a:cubicBezTo>
                    <a:pt x="102591" y="22681"/>
                    <a:pt x="102591" y="22681"/>
                    <a:pt x="99110" y="22681"/>
                  </a:cubicBezTo>
                  <a:cubicBezTo>
                    <a:pt x="71721" y="22681"/>
                    <a:pt x="71721" y="22681"/>
                    <a:pt x="71721" y="22681"/>
                  </a:cubicBezTo>
                  <a:cubicBezTo>
                    <a:pt x="71721" y="14151"/>
                    <a:pt x="71721" y="14151"/>
                    <a:pt x="71721" y="14151"/>
                  </a:cubicBezTo>
                  <a:cubicBezTo>
                    <a:pt x="71721" y="5621"/>
                    <a:pt x="64990" y="0"/>
                    <a:pt x="54777" y="0"/>
                  </a:cubicBezTo>
                  <a:cubicBezTo>
                    <a:pt x="44564" y="0"/>
                    <a:pt x="44564" y="0"/>
                    <a:pt x="44564" y="0"/>
                  </a:cubicBezTo>
                  <a:cubicBezTo>
                    <a:pt x="34352" y="0"/>
                    <a:pt x="27388" y="5621"/>
                    <a:pt x="27388" y="14151"/>
                  </a:cubicBezTo>
                  <a:cubicBezTo>
                    <a:pt x="27388" y="22681"/>
                    <a:pt x="27388" y="22681"/>
                    <a:pt x="27388" y="22681"/>
                  </a:cubicBezTo>
                  <a:cubicBezTo>
                    <a:pt x="10444" y="22681"/>
                    <a:pt x="10444" y="22681"/>
                    <a:pt x="10444" y="22681"/>
                  </a:cubicBezTo>
                  <a:cubicBezTo>
                    <a:pt x="3481" y="22681"/>
                    <a:pt x="0" y="25589"/>
                    <a:pt x="0" y="28497"/>
                  </a:cubicBezTo>
                  <a:cubicBezTo>
                    <a:pt x="0" y="68432"/>
                    <a:pt x="0" y="68432"/>
                    <a:pt x="0" y="68432"/>
                  </a:cubicBezTo>
                  <a:cubicBezTo>
                    <a:pt x="0" y="71147"/>
                    <a:pt x="3481" y="74054"/>
                    <a:pt x="10444" y="74054"/>
                  </a:cubicBezTo>
                  <a:cubicBezTo>
                    <a:pt x="27388" y="74054"/>
                    <a:pt x="27388" y="74054"/>
                    <a:pt x="27388" y="74054"/>
                  </a:cubicBezTo>
                  <a:cubicBezTo>
                    <a:pt x="27388" y="105460"/>
                    <a:pt x="27388" y="105460"/>
                    <a:pt x="27388" y="105460"/>
                  </a:cubicBezTo>
                  <a:cubicBezTo>
                    <a:pt x="27388" y="113990"/>
                    <a:pt x="34352" y="119806"/>
                    <a:pt x="44564" y="119806"/>
                  </a:cubicBezTo>
                  <a:cubicBezTo>
                    <a:pt x="54777" y="119806"/>
                    <a:pt x="54777" y="119806"/>
                    <a:pt x="54777" y="119806"/>
                  </a:cubicBezTo>
                  <a:cubicBezTo>
                    <a:pt x="64990" y="119806"/>
                    <a:pt x="71721" y="113990"/>
                    <a:pt x="71721" y="105460"/>
                  </a:cubicBezTo>
                  <a:cubicBezTo>
                    <a:pt x="71721" y="74054"/>
                    <a:pt x="71721" y="74054"/>
                    <a:pt x="71721" y="74054"/>
                  </a:cubicBezTo>
                  <a:cubicBezTo>
                    <a:pt x="99110" y="74054"/>
                    <a:pt x="99110" y="74054"/>
                    <a:pt x="99110" y="74054"/>
                  </a:cubicBezTo>
                  <a:cubicBezTo>
                    <a:pt x="102591" y="74054"/>
                    <a:pt x="102591" y="74054"/>
                    <a:pt x="102591" y="74054"/>
                  </a:cubicBezTo>
                  <a:cubicBezTo>
                    <a:pt x="116286" y="51179"/>
                    <a:pt x="116286" y="51179"/>
                    <a:pt x="116286" y="51179"/>
                  </a:cubicBezTo>
                  <a:cubicBezTo>
                    <a:pt x="119767" y="48465"/>
                    <a:pt x="119767" y="48465"/>
                    <a:pt x="119767" y="48465"/>
                  </a:cubicBezTo>
                  <a:cubicBezTo>
                    <a:pt x="119767" y="48465"/>
                    <a:pt x="119767" y="45557"/>
                    <a:pt x="116286" y="45557"/>
                  </a:cubicBezTo>
                  <a:close/>
                  <a:moveTo>
                    <a:pt x="37601" y="14151"/>
                  </a:moveTo>
                  <a:lnTo>
                    <a:pt x="37601" y="14151"/>
                  </a:lnTo>
                  <a:cubicBezTo>
                    <a:pt x="37601" y="11243"/>
                    <a:pt x="41083" y="5621"/>
                    <a:pt x="44564" y="5621"/>
                  </a:cubicBezTo>
                  <a:cubicBezTo>
                    <a:pt x="54777" y="5621"/>
                    <a:pt x="54777" y="5621"/>
                    <a:pt x="54777" y="5621"/>
                  </a:cubicBezTo>
                  <a:cubicBezTo>
                    <a:pt x="58259" y="5621"/>
                    <a:pt x="64990" y="11243"/>
                    <a:pt x="64990" y="14151"/>
                  </a:cubicBezTo>
                  <a:cubicBezTo>
                    <a:pt x="64990" y="22681"/>
                    <a:pt x="64990" y="22681"/>
                    <a:pt x="64990" y="22681"/>
                  </a:cubicBezTo>
                  <a:cubicBezTo>
                    <a:pt x="37601" y="22681"/>
                    <a:pt x="37601" y="22681"/>
                    <a:pt x="37601" y="22681"/>
                  </a:cubicBezTo>
                  <a:lnTo>
                    <a:pt x="37601" y="14151"/>
                  </a:lnTo>
                  <a:close/>
                  <a:moveTo>
                    <a:pt x="64990" y="105460"/>
                  </a:moveTo>
                  <a:lnTo>
                    <a:pt x="64990" y="105460"/>
                  </a:lnTo>
                  <a:cubicBezTo>
                    <a:pt x="64990" y="108368"/>
                    <a:pt x="58259" y="113990"/>
                    <a:pt x="54777" y="113990"/>
                  </a:cubicBezTo>
                  <a:cubicBezTo>
                    <a:pt x="44564" y="113990"/>
                    <a:pt x="44564" y="113990"/>
                    <a:pt x="44564" y="113990"/>
                  </a:cubicBezTo>
                  <a:cubicBezTo>
                    <a:pt x="41083" y="113990"/>
                    <a:pt x="37601" y="108368"/>
                    <a:pt x="37601" y="105460"/>
                  </a:cubicBezTo>
                  <a:cubicBezTo>
                    <a:pt x="37601" y="74054"/>
                    <a:pt x="37601" y="74054"/>
                    <a:pt x="37601" y="74054"/>
                  </a:cubicBezTo>
                  <a:cubicBezTo>
                    <a:pt x="64990" y="74054"/>
                    <a:pt x="64990" y="74054"/>
                    <a:pt x="64990" y="74054"/>
                  </a:cubicBezTo>
                  <a:lnTo>
                    <a:pt x="64990" y="105460"/>
                  </a:lnTo>
                  <a:close/>
                  <a:moveTo>
                    <a:pt x="99110" y="65525"/>
                  </a:moveTo>
                  <a:lnTo>
                    <a:pt x="99110" y="65525"/>
                  </a:lnTo>
                  <a:cubicBezTo>
                    <a:pt x="99110" y="68432"/>
                    <a:pt x="95860" y="68432"/>
                    <a:pt x="95860" y="68432"/>
                  </a:cubicBezTo>
                  <a:cubicBezTo>
                    <a:pt x="13694" y="68432"/>
                    <a:pt x="13694" y="68432"/>
                    <a:pt x="13694" y="68432"/>
                  </a:cubicBezTo>
                  <a:cubicBezTo>
                    <a:pt x="10444" y="68432"/>
                    <a:pt x="10444" y="65525"/>
                    <a:pt x="10444" y="62617"/>
                  </a:cubicBezTo>
                  <a:cubicBezTo>
                    <a:pt x="10444" y="34119"/>
                    <a:pt x="10444" y="34119"/>
                    <a:pt x="10444" y="34119"/>
                  </a:cubicBezTo>
                  <a:cubicBezTo>
                    <a:pt x="10444" y="31405"/>
                    <a:pt x="10444" y="28497"/>
                    <a:pt x="13694" y="28497"/>
                  </a:cubicBezTo>
                  <a:cubicBezTo>
                    <a:pt x="95860" y="28497"/>
                    <a:pt x="95860" y="28497"/>
                    <a:pt x="95860" y="28497"/>
                  </a:cubicBezTo>
                  <a:cubicBezTo>
                    <a:pt x="95860" y="28497"/>
                    <a:pt x="99110" y="28497"/>
                    <a:pt x="99110" y="31405"/>
                  </a:cubicBezTo>
                  <a:cubicBezTo>
                    <a:pt x="109555" y="48465"/>
                    <a:pt x="109555" y="48465"/>
                    <a:pt x="109555" y="48465"/>
                  </a:cubicBezTo>
                  <a:lnTo>
                    <a:pt x="99110" y="655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67" name="Rectangle 12"/>
          <p:cNvSpPr/>
          <p:nvPr/>
        </p:nvSpPr>
        <p:spPr>
          <a:xfrm>
            <a:off x="8016840" y="4959360"/>
            <a:ext cx="19591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168" name="Rectangle 13"/>
          <p:cNvSpPr/>
          <p:nvPr/>
        </p:nvSpPr>
        <p:spPr>
          <a:xfrm>
            <a:off x="8077320" y="344160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169" name="Rectangle 14"/>
          <p:cNvSpPr/>
          <p:nvPr/>
        </p:nvSpPr>
        <p:spPr>
          <a:xfrm>
            <a:off x="8062920" y="1936800"/>
            <a:ext cx="19591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Sapien nam suspendisse, tincidunt</a:t>
            </a:r>
            <a:endParaRPr b="0" lang="en-US" sz="900" spc="-1" strike="noStrike">
              <a:solidFill>
                <a:srgbClr val="000000"/>
              </a:solidFill>
              <a:latin typeface="Calibri"/>
            </a:endParaRPr>
          </a:p>
        </p:txBody>
      </p:sp>
      <p:sp>
        <p:nvSpPr>
          <p:cNvPr id="1170" name="Rectangle 15"/>
          <p:cNvSpPr/>
          <p:nvPr/>
        </p:nvSpPr>
        <p:spPr>
          <a:xfrm>
            <a:off x="7886880" y="47815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Lato"/>
                <a:ea typeface="Lato"/>
              </a:rPr>
              <a:t>3. FULL CUSTOMIZED</a:t>
            </a:r>
            <a:endParaRPr b="0" lang="en-US" sz="1200" spc="-1" strike="noStrike">
              <a:solidFill>
                <a:srgbClr val="000000"/>
              </a:solidFill>
              <a:latin typeface="Calibri"/>
            </a:endParaRPr>
          </a:p>
        </p:txBody>
      </p:sp>
      <p:sp>
        <p:nvSpPr>
          <p:cNvPr id="1171" name="Rectangle 16"/>
          <p:cNvSpPr/>
          <p:nvPr/>
        </p:nvSpPr>
        <p:spPr>
          <a:xfrm>
            <a:off x="7888320" y="17622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Lato"/>
                <a:ea typeface="Lato"/>
              </a:rPr>
              <a:t>1. LAYERED FILES</a:t>
            </a:r>
            <a:endParaRPr b="0" lang="en-US" sz="1200" spc="-1" strike="noStrike">
              <a:solidFill>
                <a:srgbClr val="000000"/>
              </a:solidFill>
              <a:latin typeface="Calibri"/>
            </a:endParaRPr>
          </a:p>
        </p:txBody>
      </p:sp>
      <p:sp>
        <p:nvSpPr>
          <p:cNvPr id="1172" name="Rectangle 17"/>
          <p:cNvSpPr/>
          <p:nvPr/>
        </p:nvSpPr>
        <p:spPr>
          <a:xfrm>
            <a:off x="7886880" y="326556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Lato"/>
                <a:ea typeface="Lato"/>
              </a:rPr>
              <a:t>2. UNLIMITED OPTIONS</a:t>
            </a:r>
            <a:endParaRPr b="0" lang="en-US" sz="1200" spc="-1" strike="noStrike">
              <a:solidFill>
                <a:srgbClr val="000000"/>
              </a:solidFill>
              <a:latin typeface="Calibri"/>
            </a:endParaRPr>
          </a:p>
        </p:txBody>
      </p:sp>
      <p:pic>
        <p:nvPicPr>
          <p:cNvPr id="1173" name="" descr=""/>
          <p:cNvPicPr/>
          <p:nvPr/>
        </p:nvPicPr>
        <p:blipFill>
          <a:blip r:embed="rId1"/>
          <a:stretch/>
        </p:blipFill>
        <p:spPr>
          <a:xfrm>
            <a:off x="1117440" y="1536480"/>
            <a:ext cx="6159600" cy="452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30"/>
          <p:cNvSpPr/>
          <p:nvPr/>
        </p:nvSpPr>
        <p:spPr>
          <a:xfrm>
            <a:off x="0" y="1154160"/>
            <a:ext cx="12192120" cy="2286000"/>
          </a:xfrm>
          <a:prstGeom prst="rect">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5" name="Subtitle 2"/>
          <p:cNvSpPr/>
          <p:nvPr/>
        </p:nvSpPr>
        <p:spPr>
          <a:xfrm>
            <a:off x="3984480" y="1704960"/>
            <a:ext cx="4222800" cy="611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ffffff"/>
                </a:solidFill>
                <a:latin typeface="Kelson Sans"/>
                <a:ea typeface="Lato"/>
              </a:rPr>
              <a:t>Our Service</a:t>
            </a:r>
            <a:endParaRPr b="0" lang="en-US" sz="4000" spc="-1" strike="noStrike">
              <a:solidFill>
                <a:srgbClr val="000000"/>
              </a:solidFill>
              <a:latin typeface="Calibri"/>
            </a:endParaRPr>
          </a:p>
        </p:txBody>
      </p:sp>
      <p:sp>
        <p:nvSpPr>
          <p:cNvPr id="1176" name="Rectangle 32"/>
          <p:cNvSpPr/>
          <p:nvPr/>
        </p:nvSpPr>
        <p:spPr>
          <a:xfrm>
            <a:off x="3916440" y="2344680"/>
            <a:ext cx="4359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a:t>
            </a:r>
            <a:endParaRPr b="0" lang="en-US" sz="1000" spc="-1" strike="noStrike">
              <a:solidFill>
                <a:srgbClr val="000000"/>
              </a:solidFill>
              <a:latin typeface="Calibri"/>
            </a:endParaRPr>
          </a:p>
        </p:txBody>
      </p:sp>
      <p:grpSp>
        <p:nvGrpSpPr>
          <p:cNvPr id="1177" name="Group 21"/>
          <p:cNvGrpSpPr/>
          <p:nvPr/>
        </p:nvGrpSpPr>
        <p:grpSpPr>
          <a:xfrm>
            <a:off x="1065240" y="5272200"/>
            <a:ext cx="3260520" cy="1094760"/>
            <a:chOff x="1065240" y="5272200"/>
            <a:chExt cx="3260520" cy="1094760"/>
          </a:xfrm>
        </p:grpSpPr>
        <p:grpSp>
          <p:nvGrpSpPr>
            <p:cNvPr id="1178" name="Group 33"/>
            <p:cNvGrpSpPr/>
            <p:nvPr/>
          </p:nvGrpSpPr>
          <p:grpSpPr>
            <a:xfrm>
              <a:off x="1065240" y="5375160"/>
              <a:ext cx="812880" cy="812880"/>
              <a:chOff x="1065240" y="5375160"/>
              <a:chExt cx="812880" cy="812880"/>
            </a:xfrm>
          </p:grpSpPr>
          <p:sp>
            <p:nvSpPr>
              <p:cNvPr id="1179" name="Rectangle 34"/>
              <p:cNvSpPr/>
              <p:nvPr/>
            </p:nvSpPr>
            <p:spPr>
              <a:xfrm>
                <a:off x="1065240" y="5375160"/>
                <a:ext cx="812880" cy="81288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0" name="Shape 4674"/>
              <p:cNvSpPr/>
              <p:nvPr/>
            </p:nvSpPr>
            <p:spPr>
              <a:xfrm>
                <a:off x="1319040" y="5632560"/>
                <a:ext cx="305280" cy="298080"/>
              </a:xfrm>
              <a:custGeom>
                <a:avLst/>
                <a:gdLst>
                  <a:gd name="textAreaLeft" fmla="*/ 0 w 305280"/>
                  <a:gd name="textAreaRight" fmla="*/ 305640 w 305280"/>
                  <a:gd name="textAreaTop" fmla="*/ 0 h 298080"/>
                  <a:gd name="textAreaBottom" fmla="*/ 298440 h 29808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81" name="Rectangle 42"/>
            <p:cNvSpPr/>
            <p:nvPr/>
          </p:nvSpPr>
          <p:spPr>
            <a:xfrm>
              <a:off x="2106360" y="5450760"/>
              <a:ext cx="19591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182" name="Rectangle 45"/>
            <p:cNvSpPr/>
            <p:nvPr/>
          </p:nvSpPr>
          <p:spPr>
            <a:xfrm>
              <a:off x="1976400" y="52722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Lato"/>
                  <a:ea typeface="Lato"/>
                </a:rPr>
                <a:t>3. FULL CUSTOMIZED</a:t>
              </a:r>
              <a:endParaRPr b="0" lang="en-US" sz="1200" spc="-1" strike="noStrike">
                <a:solidFill>
                  <a:srgbClr val="000000"/>
                </a:solidFill>
                <a:latin typeface="Calibri"/>
              </a:endParaRPr>
            </a:p>
          </p:txBody>
        </p:sp>
      </p:grpSp>
      <p:grpSp>
        <p:nvGrpSpPr>
          <p:cNvPr id="1183" name="Group 53"/>
          <p:cNvGrpSpPr/>
          <p:nvPr/>
        </p:nvGrpSpPr>
        <p:grpSpPr>
          <a:xfrm>
            <a:off x="1063800" y="4094280"/>
            <a:ext cx="3261960" cy="1090440"/>
            <a:chOff x="1063800" y="4094280"/>
            <a:chExt cx="3261960" cy="1090440"/>
          </a:xfrm>
        </p:grpSpPr>
        <p:grpSp>
          <p:nvGrpSpPr>
            <p:cNvPr id="1184" name="Group 36"/>
            <p:cNvGrpSpPr/>
            <p:nvPr/>
          </p:nvGrpSpPr>
          <p:grpSpPr>
            <a:xfrm>
              <a:off x="1063800" y="4135680"/>
              <a:ext cx="812880" cy="813600"/>
              <a:chOff x="1063800" y="4135680"/>
              <a:chExt cx="812880" cy="813600"/>
            </a:xfrm>
          </p:grpSpPr>
          <p:sp>
            <p:nvSpPr>
              <p:cNvPr id="1185" name="Rectangle 37"/>
              <p:cNvSpPr/>
              <p:nvPr/>
            </p:nvSpPr>
            <p:spPr>
              <a:xfrm>
                <a:off x="1063800" y="4135680"/>
                <a:ext cx="812880" cy="8136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6" name="Shape 4738"/>
              <p:cNvSpPr/>
              <p:nvPr/>
            </p:nvSpPr>
            <p:spPr>
              <a:xfrm>
                <a:off x="1317600" y="4392000"/>
                <a:ext cx="305280" cy="296280"/>
              </a:xfrm>
              <a:custGeom>
                <a:avLst/>
                <a:gdLst>
                  <a:gd name="textAreaLeft" fmla="*/ 0 w 305280"/>
                  <a:gd name="textAreaRight" fmla="*/ 305640 w 305280"/>
                  <a:gd name="textAreaTop" fmla="*/ 0 h 296280"/>
                  <a:gd name="textAreaBottom" fmla="*/ 296640 h 29628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87" name="Rectangle 44"/>
            <p:cNvSpPr/>
            <p:nvPr/>
          </p:nvSpPr>
          <p:spPr>
            <a:xfrm>
              <a:off x="2150640" y="4268520"/>
              <a:ext cx="19591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Sapien nam suspendisse, tincidunt</a:t>
              </a:r>
              <a:endParaRPr b="0" lang="en-US" sz="900" spc="-1" strike="noStrike">
                <a:solidFill>
                  <a:srgbClr val="000000"/>
                </a:solidFill>
                <a:latin typeface="Calibri"/>
              </a:endParaRPr>
            </a:p>
          </p:txBody>
        </p:sp>
        <p:sp>
          <p:nvSpPr>
            <p:cNvPr id="1188" name="Rectangle 46"/>
            <p:cNvSpPr/>
            <p:nvPr/>
          </p:nvSpPr>
          <p:spPr>
            <a:xfrm>
              <a:off x="1976400" y="40942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Lato"/>
                  <a:ea typeface="Lato"/>
                </a:rPr>
                <a:t>1. LAYERED FILES</a:t>
              </a:r>
              <a:endParaRPr b="0" lang="en-US" sz="1200" spc="-1" strike="noStrike">
                <a:solidFill>
                  <a:srgbClr val="000000"/>
                </a:solidFill>
                <a:latin typeface="Calibri"/>
              </a:endParaRPr>
            </a:p>
          </p:txBody>
        </p:sp>
      </p:grpSp>
      <p:grpSp>
        <p:nvGrpSpPr>
          <p:cNvPr id="1189" name="Group 26"/>
          <p:cNvGrpSpPr/>
          <p:nvPr/>
        </p:nvGrpSpPr>
        <p:grpSpPr>
          <a:xfrm>
            <a:off x="7226280" y="4094280"/>
            <a:ext cx="3260880" cy="1091880"/>
            <a:chOff x="7226280" y="4094280"/>
            <a:chExt cx="3260880" cy="1091880"/>
          </a:xfrm>
        </p:grpSpPr>
        <p:grpSp>
          <p:nvGrpSpPr>
            <p:cNvPr id="1190" name="Group 39"/>
            <p:cNvGrpSpPr/>
            <p:nvPr/>
          </p:nvGrpSpPr>
          <p:grpSpPr>
            <a:xfrm>
              <a:off x="7226280" y="4172400"/>
              <a:ext cx="812880" cy="813960"/>
              <a:chOff x="7226280" y="4172400"/>
              <a:chExt cx="812880" cy="813960"/>
            </a:xfrm>
          </p:grpSpPr>
          <p:sp>
            <p:nvSpPr>
              <p:cNvPr id="1191" name="Rectangle 40"/>
              <p:cNvSpPr/>
              <p:nvPr/>
            </p:nvSpPr>
            <p:spPr>
              <a:xfrm>
                <a:off x="7226280" y="4172400"/>
                <a:ext cx="812880" cy="81396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2" name="Shape 4741"/>
              <p:cNvSpPr/>
              <p:nvPr/>
            </p:nvSpPr>
            <p:spPr>
              <a:xfrm>
                <a:off x="7509240" y="4431240"/>
                <a:ext cx="246960" cy="296640"/>
              </a:xfrm>
              <a:custGeom>
                <a:avLst/>
                <a:gdLst>
                  <a:gd name="textAreaLeft" fmla="*/ 0 w 246960"/>
                  <a:gd name="textAreaRight" fmla="*/ 247320 w 246960"/>
                  <a:gd name="textAreaTop" fmla="*/ 0 h 296640"/>
                  <a:gd name="textAreaBottom" fmla="*/ 297000 h 296640"/>
                </a:gdLst>
                <a:ahLst/>
                <a:rect l="textAreaLeft" t="textAreaTop" r="textAreaRight" b="textAreaBottom"/>
                <a:pathLst>
                  <a:path w="120000" h="120000">
                    <a:moveTo>
                      <a:pt x="116286" y="45557"/>
                    </a:moveTo>
                    <a:lnTo>
                      <a:pt x="116286" y="45557"/>
                    </a:lnTo>
                    <a:cubicBezTo>
                      <a:pt x="102591" y="22681"/>
                      <a:pt x="102591" y="22681"/>
                      <a:pt x="102591" y="22681"/>
                    </a:cubicBezTo>
                    <a:cubicBezTo>
                      <a:pt x="102591" y="22681"/>
                      <a:pt x="102591" y="22681"/>
                      <a:pt x="99110" y="22681"/>
                    </a:cubicBezTo>
                    <a:cubicBezTo>
                      <a:pt x="71721" y="22681"/>
                      <a:pt x="71721" y="22681"/>
                      <a:pt x="71721" y="22681"/>
                    </a:cubicBezTo>
                    <a:cubicBezTo>
                      <a:pt x="71721" y="14151"/>
                      <a:pt x="71721" y="14151"/>
                      <a:pt x="71721" y="14151"/>
                    </a:cubicBezTo>
                    <a:cubicBezTo>
                      <a:pt x="71721" y="5621"/>
                      <a:pt x="64990" y="0"/>
                      <a:pt x="54777" y="0"/>
                    </a:cubicBezTo>
                    <a:cubicBezTo>
                      <a:pt x="44564" y="0"/>
                      <a:pt x="44564" y="0"/>
                      <a:pt x="44564" y="0"/>
                    </a:cubicBezTo>
                    <a:cubicBezTo>
                      <a:pt x="34352" y="0"/>
                      <a:pt x="27388" y="5621"/>
                      <a:pt x="27388" y="14151"/>
                    </a:cubicBezTo>
                    <a:cubicBezTo>
                      <a:pt x="27388" y="22681"/>
                      <a:pt x="27388" y="22681"/>
                      <a:pt x="27388" y="22681"/>
                    </a:cubicBezTo>
                    <a:cubicBezTo>
                      <a:pt x="10444" y="22681"/>
                      <a:pt x="10444" y="22681"/>
                      <a:pt x="10444" y="22681"/>
                    </a:cubicBezTo>
                    <a:cubicBezTo>
                      <a:pt x="3481" y="22681"/>
                      <a:pt x="0" y="25589"/>
                      <a:pt x="0" y="28497"/>
                    </a:cubicBezTo>
                    <a:cubicBezTo>
                      <a:pt x="0" y="68432"/>
                      <a:pt x="0" y="68432"/>
                      <a:pt x="0" y="68432"/>
                    </a:cubicBezTo>
                    <a:cubicBezTo>
                      <a:pt x="0" y="71147"/>
                      <a:pt x="3481" y="74054"/>
                      <a:pt x="10444" y="74054"/>
                    </a:cubicBezTo>
                    <a:cubicBezTo>
                      <a:pt x="27388" y="74054"/>
                      <a:pt x="27388" y="74054"/>
                      <a:pt x="27388" y="74054"/>
                    </a:cubicBezTo>
                    <a:cubicBezTo>
                      <a:pt x="27388" y="105460"/>
                      <a:pt x="27388" y="105460"/>
                      <a:pt x="27388" y="105460"/>
                    </a:cubicBezTo>
                    <a:cubicBezTo>
                      <a:pt x="27388" y="113990"/>
                      <a:pt x="34352" y="119806"/>
                      <a:pt x="44564" y="119806"/>
                    </a:cubicBezTo>
                    <a:cubicBezTo>
                      <a:pt x="54777" y="119806"/>
                      <a:pt x="54777" y="119806"/>
                      <a:pt x="54777" y="119806"/>
                    </a:cubicBezTo>
                    <a:cubicBezTo>
                      <a:pt x="64990" y="119806"/>
                      <a:pt x="71721" y="113990"/>
                      <a:pt x="71721" y="105460"/>
                    </a:cubicBezTo>
                    <a:cubicBezTo>
                      <a:pt x="71721" y="74054"/>
                      <a:pt x="71721" y="74054"/>
                      <a:pt x="71721" y="74054"/>
                    </a:cubicBezTo>
                    <a:cubicBezTo>
                      <a:pt x="99110" y="74054"/>
                      <a:pt x="99110" y="74054"/>
                      <a:pt x="99110" y="74054"/>
                    </a:cubicBezTo>
                    <a:cubicBezTo>
                      <a:pt x="102591" y="74054"/>
                      <a:pt x="102591" y="74054"/>
                      <a:pt x="102591" y="74054"/>
                    </a:cubicBezTo>
                    <a:cubicBezTo>
                      <a:pt x="116286" y="51179"/>
                      <a:pt x="116286" y="51179"/>
                      <a:pt x="116286" y="51179"/>
                    </a:cubicBezTo>
                    <a:cubicBezTo>
                      <a:pt x="119767" y="48465"/>
                      <a:pt x="119767" y="48465"/>
                      <a:pt x="119767" y="48465"/>
                    </a:cubicBezTo>
                    <a:cubicBezTo>
                      <a:pt x="119767" y="48465"/>
                      <a:pt x="119767" y="45557"/>
                      <a:pt x="116286" y="45557"/>
                    </a:cubicBezTo>
                    <a:close/>
                    <a:moveTo>
                      <a:pt x="37601" y="14151"/>
                    </a:moveTo>
                    <a:lnTo>
                      <a:pt x="37601" y="14151"/>
                    </a:lnTo>
                    <a:cubicBezTo>
                      <a:pt x="37601" y="11243"/>
                      <a:pt x="41083" y="5621"/>
                      <a:pt x="44564" y="5621"/>
                    </a:cubicBezTo>
                    <a:cubicBezTo>
                      <a:pt x="54777" y="5621"/>
                      <a:pt x="54777" y="5621"/>
                      <a:pt x="54777" y="5621"/>
                    </a:cubicBezTo>
                    <a:cubicBezTo>
                      <a:pt x="58259" y="5621"/>
                      <a:pt x="64990" y="11243"/>
                      <a:pt x="64990" y="14151"/>
                    </a:cubicBezTo>
                    <a:cubicBezTo>
                      <a:pt x="64990" y="22681"/>
                      <a:pt x="64990" y="22681"/>
                      <a:pt x="64990" y="22681"/>
                    </a:cubicBezTo>
                    <a:cubicBezTo>
                      <a:pt x="37601" y="22681"/>
                      <a:pt x="37601" y="22681"/>
                      <a:pt x="37601" y="22681"/>
                    </a:cubicBezTo>
                    <a:lnTo>
                      <a:pt x="37601" y="14151"/>
                    </a:lnTo>
                    <a:close/>
                    <a:moveTo>
                      <a:pt x="64990" y="105460"/>
                    </a:moveTo>
                    <a:lnTo>
                      <a:pt x="64990" y="105460"/>
                    </a:lnTo>
                    <a:cubicBezTo>
                      <a:pt x="64990" y="108368"/>
                      <a:pt x="58259" y="113990"/>
                      <a:pt x="54777" y="113990"/>
                    </a:cubicBezTo>
                    <a:cubicBezTo>
                      <a:pt x="44564" y="113990"/>
                      <a:pt x="44564" y="113990"/>
                      <a:pt x="44564" y="113990"/>
                    </a:cubicBezTo>
                    <a:cubicBezTo>
                      <a:pt x="41083" y="113990"/>
                      <a:pt x="37601" y="108368"/>
                      <a:pt x="37601" y="105460"/>
                    </a:cubicBezTo>
                    <a:cubicBezTo>
                      <a:pt x="37601" y="74054"/>
                      <a:pt x="37601" y="74054"/>
                      <a:pt x="37601" y="74054"/>
                    </a:cubicBezTo>
                    <a:cubicBezTo>
                      <a:pt x="64990" y="74054"/>
                      <a:pt x="64990" y="74054"/>
                      <a:pt x="64990" y="74054"/>
                    </a:cubicBezTo>
                    <a:lnTo>
                      <a:pt x="64990" y="105460"/>
                    </a:lnTo>
                    <a:close/>
                    <a:moveTo>
                      <a:pt x="99110" y="65525"/>
                    </a:moveTo>
                    <a:lnTo>
                      <a:pt x="99110" y="65525"/>
                    </a:lnTo>
                    <a:cubicBezTo>
                      <a:pt x="99110" y="68432"/>
                      <a:pt x="95860" y="68432"/>
                      <a:pt x="95860" y="68432"/>
                    </a:cubicBezTo>
                    <a:cubicBezTo>
                      <a:pt x="13694" y="68432"/>
                      <a:pt x="13694" y="68432"/>
                      <a:pt x="13694" y="68432"/>
                    </a:cubicBezTo>
                    <a:cubicBezTo>
                      <a:pt x="10444" y="68432"/>
                      <a:pt x="10444" y="65525"/>
                      <a:pt x="10444" y="62617"/>
                    </a:cubicBezTo>
                    <a:cubicBezTo>
                      <a:pt x="10444" y="34119"/>
                      <a:pt x="10444" y="34119"/>
                      <a:pt x="10444" y="34119"/>
                    </a:cubicBezTo>
                    <a:cubicBezTo>
                      <a:pt x="10444" y="31405"/>
                      <a:pt x="10444" y="28497"/>
                      <a:pt x="13694" y="28497"/>
                    </a:cubicBezTo>
                    <a:cubicBezTo>
                      <a:pt x="95860" y="28497"/>
                      <a:pt x="95860" y="28497"/>
                      <a:pt x="95860" y="28497"/>
                    </a:cubicBezTo>
                    <a:cubicBezTo>
                      <a:pt x="95860" y="28497"/>
                      <a:pt x="99110" y="28497"/>
                      <a:pt x="99110" y="31405"/>
                    </a:cubicBezTo>
                    <a:cubicBezTo>
                      <a:pt x="109555" y="48465"/>
                      <a:pt x="109555" y="48465"/>
                      <a:pt x="109555" y="48465"/>
                    </a:cubicBezTo>
                    <a:lnTo>
                      <a:pt x="99110" y="655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93" name="Rectangle 43"/>
            <p:cNvSpPr/>
            <p:nvPr/>
          </p:nvSpPr>
          <p:spPr>
            <a:xfrm>
              <a:off x="8328600" y="4269960"/>
              <a:ext cx="194364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194" name="Rectangle 47"/>
            <p:cNvSpPr/>
            <p:nvPr/>
          </p:nvSpPr>
          <p:spPr>
            <a:xfrm>
              <a:off x="8137440" y="4094280"/>
              <a:ext cx="234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Lato"/>
                  <a:ea typeface="Lato"/>
                </a:rPr>
                <a:t>2. UNLIMITED OPTIONS</a:t>
              </a:r>
              <a:endParaRPr b="0" lang="en-US" sz="1200" spc="-1" strike="noStrike">
                <a:solidFill>
                  <a:srgbClr val="000000"/>
                </a:solidFill>
                <a:latin typeface="Calibri"/>
              </a:endParaRPr>
            </a:p>
          </p:txBody>
        </p:sp>
      </p:grpSp>
      <p:grpSp>
        <p:nvGrpSpPr>
          <p:cNvPr id="1195" name="Group 23"/>
          <p:cNvGrpSpPr/>
          <p:nvPr/>
        </p:nvGrpSpPr>
        <p:grpSpPr>
          <a:xfrm>
            <a:off x="7226280" y="5272200"/>
            <a:ext cx="3260880" cy="1094760"/>
            <a:chOff x="7226280" y="5272200"/>
            <a:chExt cx="3260880" cy="1094760"/>
          </a:xfrm>
        </p:grpSpPr>
        <p:sp>
          <p:nvSpPr>
            <p:cNvPr id="1196" name="Rectangle 48"/>
            <p:cNvSpPr/>
            <p:nvPr/>
          </p:nvSpPr>
          <p:spPr>
            <a:xfrm>
              <a:off x="8267400" y="5450760"/>
              <a:ext cx="195912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197" name="Rectangle 49"/>
            <p:cNvSpPr/>
            <p:nvPr/>
          </p:nvSpPr>
          <p:spPr>
            <a:xfrm>
              <a:off x="8137440" y="5272200"/>
              <a:ext cx="234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Lato"/>
                  <a:ea typeface="Lato"/>
                </a:rPr>
                <a:t>4. FULL CUSTOMIZED</a:t>
              </a:r>
              <a:endParaRPr b="0" lang="en-US" sz="1200" spc="-1" strike="noStrike">
                <a:solidFill>
                  <a:srgbClr val="000000"/>
                </a:solidFill>
                <a:latin typeface="Calibri"/>
              </a:endParaRPr>
            </a:p>
          </p:txBody>
        </p:sp>
        <p:grpSp>
          <p:nvGrpSpPr>
            <p:cNvPr id="1198" name="Group 50"/>
            <p:cNvGrpSpPr/>
            <p:nvPr/>
          </p:nvGrpSpPr>
          <p:grpSpPr>
            <a:xfrm>
              <a:off x="7226280" y="5375160"/>
              <a:ext cx="812880" cy="812880"/>
              <a:chOff x="7226280" y="5375160"/>
              <a:chExt cx="812880" cy="812880"/>
            </a:xfrm>
          </p:grpSpPr>
          <p:sp>
            <p:nvSpPr>
              <p:cNvPr id="1199" name="Rectangle 51"/>
              <p:cNvSpPr/>
              <p:nvPr/>
            </p:nvSpPr>
            <p:spPr>
              <a:xfrm>
                <a:off x="7226280" y="5375160"/>
                <a:ext cx="812880" cy="81288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0" name="Shape 4631"/>
              <p:cNvSpPr/>
              <p:nvPr/>
            </p:nvSpPr>
            <p:spPr>
              <a:xfrm>
                <a:off x="7435800" y="5584680"/>
                <a:ext cx="393840" cy="393840"/>
              </a:xfrm>
              <a:custGeom>
                <a:avLst/>
                <a:gdLst>
                  <a:gd name="textAreaLeft" fmla="*/ 0 w 393840"/>
                  <a:gd name="textAreaRight" fmla="*/ 394200 w 393840"/>
                  <a:gd name="textAreaTop" fmla="*/ 0 h 393840"/>
                  <a:gd name="textAreaBottom" fmla="*/ 394200 h 393840"/>
                </a:gdLst>
                <a:ahLst/>
                <a:rect l="textAreaLeft" t="textAreaTop" r="textAreaRight" b="textAreaBottom"/>
                <a:pathLst>
                  <a:path w="120000" h="120000">
                    <a:moveTo>
                      <a:pt x="44479" y="30662"/>
                    </a:moveTo>
                    <a:lnTo>
                      <a:pt x="44479" y="30662"/>
                    </a:lnTo>
                    <a:cubicBezTo>
                      <a:pt x="47318" y="30662"/>
                      <a:pt x="47318" y="28012"/>
                      <a:pt x="47318" y="28012"/>
                    </a:cubicBezTo>
                    <a:cubicBezTo>
                      <a:pt x="47318" y="25173"/>
                      <a:pt x="47318" y="22334"/>
                      <a:pt x="44479" y="22334"/>
                    </a:cubicBezTo>
                    <a:cubicBezTo>
                      <a:pt x="24984" y="22334"/>
                      <a:pt x="24984" y="22334"/>
                      <a:pt x="24984" y="22334"/>
                    </a:cubicBezTo>
                    <a:cubicBezTo>
                      <a:pt x="24984" y="22334"/>
                      <a:pt x="24984" y="22334"/>
                      <a:pt x="22145" y="25173"/>
                    </a:cubicBezTo>
                    <a:cubicBezTo>
                      <a:pt x="22145" y="25173"/>
                      <a:pt x="22145" y="25173"/>
                      <a:pt x="22145" y="28012"/>
                    </a:cubicBezTo>
                    <a:cubicBezTo>
                      <a:pt x="22145" y="44668"/>
                      <a:pt x="22145" y="44668"/>
                      <a:pt x="22145" y="44668"/>
                    </a:cubicBezTo>
                    <a:cubicBezTo>
                      <a:pt x="22145" y="47507"/>
                      <a:pt x="24984" y="50347"/>
                      <a:pt x="24984" y="50347"/>
                    </a:cubicBezTo>
                    <a:cubicBezTo>
                      <a:pt x="27823" y="50347"/>
                      <a:pt x="30662" y="47507"/>
                      <a:pt x="30662" y="44668"/>
                    </a:cubicBezTo>
                    <a:cubicBezTo>
                      <a:pt x="30662" y="36340"/>
                      <a:pt x="30662" y="36340"/>
                      <a:pt x="30662" y="36340"/>
                    </a:cubicBezTo>
                    <a:cubicBezTo>
                      <a:pt x="47318" y="52996"/>
                      <a:pt x="47318" y="52996"/>
                      <a:pt x="47318" y="52996"/>
                    </a:cubicBezTo>
                    <a:cubicBezTo>
                      <a:pt x="52807" y="47507"/>
                      <a:pt x="52807" y="47507"/>
                      <a:pt x="52807" y="47507"/>
                    </a:cubicBezTo>
                    <a:cubicBezTo>
                      <a:pt x="33312" y="30662"/>
                      <a:pt x="33312" y="30662"/>
                      <a:pt x="33312" y="30662"/>
                    </a:cubicBezTo>
                    <a:lnTo>
                      <a:pt x="44479" y="30662"/>
                    </a:lnTo>
                    <a:close/>
                    <a:moveTo>
                      <a:pt x="91798" y="72492"/>
                    </a:moveTo>
                    <a:lnTo>
                      <a:pt x="91798" y="72492"/>
                    </a:lnTo>
                    <a:cubicBezTo>
                      <a:pt x="91798" y="72492"/>
                      <a:pt x="89148" y="72492"/>
                      <a:pt x="89148" y="75331"/>
                    </a:cubicBezTo>
                    <a:cubicBezTo>
                      <a:pt x="89148" y="83659"/>
                      <a:pt x="89148" y="83659"/>
                      <a:pt x="89148" y="83659"/>
                    </a:cubicBezTo>
                    <a:cubicBezTo>
                      <a:pt x="72492" y="67003"/>
                      <a:pt x="72492" y="67003"/>
                      <a:pt x="72492" y="67003"/>
                    </a:cubicBezTo>
                    <a:cubicBezTo>
                      <a:pt x="66813" y="72492"/>
                      <a:pt x="66813" y="72492"/>
                      <a:pt x="66813" y="72492"/>
                    </a:cubicBezTo>
                    <a:cubicBezTo>
                      <a:pt x="83470" y="89148"/>
                      <a:pt x="83470" y="89148"/>
                      <a:pt x="83470" y="89148"/>
                    </a:cubicBezTo>
                    <a:cubicBezTo>
                      <a:pt x="75141" y="89148"/>
                      <a:pt x="75141" y="89148"/>
                      <a:pt x="75141" y="89148"/>
                    </a:cubicBezTo>
                    <a:cubicBezTo>
                      <a:pt x="72492" y="89148"/>
                      <a:pt x="69463" y="91987"/>
                      <a:pt x="69463" y="94826"/>
                    </a:cubicBezTo>
                    <a:cubicBezTo>
                      <a:pt x="69463" y="94826"/>
                      <a:pt x="72492" y="97665"/>
                      <a:pt x="75141" y="97665"/>
                    </a:cubicBezTo>
                    <a:cubicBezTo>
                      <a:pt x="91798" y="97665"/>
                      <a:pt x="91798" y="97665"/>
                      <a:pt x="91798" y="97665"/>
                    </a:cubicBezTo>
                    <a:cubicBezTo>
                      <a:pt x="94637" y="97665"/>
                      <a:pt x="94637" y="97665"/>
                      <a:pt x="94637" y="97665"/>
                    </a:cubicBezTo>
                    <a:cubicBezTo>
                      <a:pt x="97476" y="94826"/>
                      <a:pt x="97476" y="94826"/>
                      <a:pt x="97476" y="94826"/>
                    </a:cubicBezTo>
                    <a:cubicBezTo>
                      <a:pt x="97476" y="75331"/>
                      <a:pt x="97476" y="75331"/>
                      <a:pt x="97476" y="75331"/>
                    </a:cubicBezTo>
                    <a:cubicBezTo>
                      <a:pt x="97476" y="72492"/>
                      <a:pt x="94637" y="72492"/>
                      <a:pt x="91798" y="72492"/>
                    </a:cubicBezTo>
                    <a:close/>
                    <a:moveTo>
                      <a:pt x="47318" y="67003"/>
                    </a:moveTo>
                    <a:lnTo>
                      <a:pt x="47318" y="67003"/>
                    </a:lnTo>
                    <a:cubicBezTo>
                      <a:pt x="30662" y="83659"/>
                      <a:pt x="30662" y="83659"/>
                      <a:pt x="30662" y="83659"/>
                    </a:cubicBezTo>
                    <a:cubicBezTo>
                      <a:pt x="30662" y="75331"/>
                      <a:pt x="30662" y="75331"/>
                      <a:pt x="30662" y="75331"/>
                    </a:cubicBezTo>
                    <a:cubicBezTo>
                      <a:pt x="30662" y="72492"/>
                      <a:pt x="27823" y="72492"/>
                      <a:pt x="24984" y="72492"/>
                    </a:cubicBezTo>
                    <a:cubicBezTo>
                      <a:pt x="24984" y="72492"/>
                      <a:pt x="22145" y="72492"/>
                      <a:pt x="22145" y="75331"/>
                    </a:cubicBezTo>
                    <a:cubicBezTo>
                      <a:pt x="22145" y="94826"/>
                      <a:pt x="22145" y="94826"/>
                      <a:pt x="22145" y="94826"/>
                    </a:cubicBezTo>
                    <a:cubicBezTo>
                      <a:pt x="22145" y="94826"/>
                      <a:pt x="22145" y="94826"/>
                      <a:pt x="22145" y="97665"/>
                    </a:cubicBezTo>
                    <a:cubicBezTo>
                      <a:pt x="24984" y="97665"/>
                      <a:pt x="24984" y="97665"/>
                      <a:pt x="24984" y="97665"/>
                    </a:cubicBezTo>
                    <a:cubicBezTo>
                      <a:pt x="44479" y="97665"/>
                      <a:pt x="44479" y="97665"/>
                      <a:pt x="44479" y="97665"/>
                    </a:cubicBezTo>
                    <a:cubicBezTo>
                      <a:pt x="47318" y="97665"/>
                      <a:pt x="47318" y="94826"/>
                      <a:pt x="47318" y="94826"/>
                    </a:cubicBezTo>
                    <a:cubicBezTo>
                      <a:pt x="47318" y="91987"/>
                      <a:pt x="47318" y="89148"/>
                      <a:pt x="44479" y="89148"/>
                    </a:cubicBezTo>
                    <a:cubicBezTo>
                      <a:pt x="33312" y="89148"/>
                      <a:pt x="33312" y="89148"/>
                      <a:pt x="33312" y="89148"/>
                    </a:cubicBezTo>
                    <a:cubicBezTo>
                      <a:pt x="52807" y="72492"/>
                      <a:pt x="52807" y="72492"/>
                      <a:pt x="52807" y="72492"/>
                    </a:cubicBezTo>
                    <a:lnTo>
                      <a:pt x="47318" y="67003"/>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moveTo>
                      <a:pt x="91798" y="22334"/>
                    </a:moveTo>
                    <a:lnTo>
                      <a:pt x="91798" y="22334"/>
                    </a:lnTo>
                    <a:cubicBezTo>
                      <a:pt x="75141" y="22334"/>
                      <a:pt x="75141" y="22334"/>
                      <a:pt x="75141" y="22334"/>
                    </a:cubicBezTo>
                    <a:cubicBezTo>
                      <a:pt x="72492" y="22334"/>
                      <a:pt x="69463" y="25173"/>
                      <a:pt x="69463" y="28012"/>
                    </a:cubicBezTo>
                    <a:cubicBezTo>
                      <a:pt x="69463" y="28012"/>
                      <a:pt x="72492" y="30662"/>
                      <a:pt x="75141" y="30662"/>
                    </a:cubicBezTo>
                    <a:cubicBezTo>
                      <a:pt x="83470" y="30662"/>
                      <a:pt x="83470" y="30662"/>
                      <a:pt x="83470" y="30662"/>
                    </a:cubicBezTo>
                    <a:cubicBezTo>
                      <a:pt x="66813" y="47507"/>
                      <a:pt x="66813" y="47507"/>
                      <a:pt x="66813" y="47507"/>
                    </a:cubicBezTo>
                    <a:cubicBezTo>
                      <a:pt x="72492" y="52996"/>
                      <a:pt x="72492" y="52996"/>
                      <a:pt x="72492" y="52996"/>
                    </a:cubicBezTo>
                    <a:cubicBezTo>
                      <a:pt x="89148" y="36340"/>
                      <a:pt x="89148" y="36340"/>
                      <a:pt x="89148" y="36340"/>
                    </a:cubicBezTo>
                    <a:cubicBezTo>
                      <a:pt x="89148" y="44668"/>
                      <a:pt x="89148" y="44668"/>
                      <a:pt x="89148" y="44668"/>
                    </a:cubicBezTo>
                    <a:cubicBezTo>
                      <a:pt x="89148" y="47507"/>
                      <a:pt x="91798" y="50347"/>
                      <a:pt x="91798" y="50347"/>
                    </a:cubicBezTo>
                    <a:cubicBezTo>
                      <a:pt x="94637" y="50347"/>
                      <a:pt x="97476" y="47507"/>
                      <a:pt x="97476" y="44668"/>
                    </a:cubicBezTo>
                    <a:cubicBezTo>
                      <a:pt x="97476" y="28012"/>
                      <a:pt x="97476" y="28012"/>
                      <a:pt x="97476" y="28012"/>
                    </a:cubicBezTo>
                    <a:cubicBezTo>
                      <a:pt x="97476" y="25173"/>
                      <a:pt x="97476" y="25173"/>
                      <a:pt x="94637" y="25173"/>
                    </a:cubicBezTo>
                    <a:cubicBezTo>
                      <a:pt x="94637" y="22334"/>
                      <a:pt x="94637" y="22334"/>
                      <a:pt x="91798" y="22334"/>
                    </a:cubicBezTo>
                    <a:close/>
                  </a:path>
                </a:pathLst>
              </a:custGeom>
              <a:solidFill>
                <a:srgbClr val="f2f2f2"/>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pic>
        <p:nvPicPr>
          <p:cNvPr id="1201" name="" descr=""/>
          <p:cNvPicPr/>
          <p:nvPr/>
        </p:nvPicPr>
        <p:blipFill>
          <a:blip r:embed="rId1"/>
          <a:stretch/>
        </p:blipFill>
        <p:spPr>
          <a:xfrm>
            <a:off x="-360" y="1152360"/>
            <a:ext cx="1219212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29"/>
          <p:cNvSpPr/>
          <p:nvPr/>
        </p:nvSpPr>
        <p:spPr>
          <a:xfrm>
            <a:off x="-9360" y="0"/>
            <a:ext cx="4327200" cy="6858000"/>
          </a:xfrm>
          <a:prstGeom prst="rect">
            <a:avLst/>
          </a:prstGeom>
          <a:solidFill>
            <a:srgbClr val="000000">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3" name="Subtitle 2"/>
          <p:cNvSpPr/>
          <p:nvPr/>
        </p:nvSpPr>
        <p:spPr>
          <a:xfrm>
            <a:off x="758880" y="2219400"/>
            <a:ext cx="2279520" cy="1052280"/>
          </a:xfrm>
          <a:prstGeom prst="rect">
            <a:avLst/>
          </a:prstGeom>
          <a:noFill/>
          <a:ln w="0">
            <a:noFill/>
          </a:ln>
        </p:spPr>
        <p:style>
          <a:lnRef idx="0"/>
          <a:fillRef idx="0"/>
          <a:effectRef idx="0"/>
          <a:fontRef idx="minor"/>
        </p:style>
        <p:txBody>
          <a:bodyPr lIns="90000" rIns="90000" tIns="46800" bIns="46800" anchor="t">
            <a:normAutofit fontScale="97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ffffff"/>
                </a:solidFill>
                <a:latin typeface="Kelson Sans"/>
                <a:ea typeface="Lato"/>
              </a:rPr>
              <a:t>OUR SERVICE</a:t>
            </a:r>
            <a:endParaRPr b="0" lang="en-US" sz="3600" spc="-1" strike="noStrike">
              <a:solidFill>
                <a:srgbClr val="000000"/>
              </a:solidFill>
              <a:latin typeface="Calibri"/>
            </a:endParaRPr>
          </a:p>
        </p:txBody>
      </p:sp>
      <p:sp>
        <p:nvSpPr>
          <p:cNvPr id="1204" name="Rectangle 40"/>
          <p:cNvSpPr/>
          <p:nvPr/>
        </p:nvSpPr>
        <p:spPr>
          <a:xfrm>
            <a:off x="758880" y="3840120"/>
            <a:ext cx="308916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 Lorem ipsum dolor sit amet, lacus nulla ac netus nibh aliquet, porttitor ligula</a:t>
            </a:r>
            <a:endParaRPr b="0" lang="en-US" sz="900" spc="-1" strike="noStrike">
              <a:solidFill>
                <a:srgbClr val="000000"/>
              </a:solidFill>
              <a:latin typeface="Calibri"/>
            </a:endParaRPr>
          </a:p>
        </p:txBody>
      </p:sp>
      <p:sp>
        <p:nvSpPr>
          <p:cNvPr id="1205" name="Rectangle 41"/>
          <p:cNvSpPr/>
          <p:nvPr/>
        </p:nvSpPr>
        <p:spPr>
          <a:xfrm>
            <a:off x="758880" y="3559320"/>
            <a:ext cx="1235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Kelson Sans"/>
                <a:ea typeface="Lato"/>
              </a:rPr>
              <a:t>Subtitle here</a:t>
            </a:r>
            <a:endParaRPr b="0" lang="en-US" sz="1400" spc="-1" strike="noStrike">
              <a:solidFill>
                <a:srgbClr val="000000"/>
              </a:solidFill>
              <a:latin typeface="Calibri"/>
            </a:endParaRPr>
          </a:p>
        </p:txBody>
      </p:sp>
      <p:grpSp>
        <p:nvGrpSpPr>
          <p:cNvPr id="1206" name="Group 66"/>
          <p:cNvGrpSpPr/>
          <p:nvPr/>
        </p:nvGrpSpPr>
        <p:grpSpPr>
          <a:xfrm>
            <a:off x="5853240" y="987480"/>
            <a:ext cx="1739880" cy="1808280"/>
            <a:chOff x="5853240" y="987480"/>
            <a:chExt cx="1739880" cy="1808280"/>
          </a:xfrm>
        </p:grpSpPr>
        <p:sp>
          <p:nvSpPr>
            <p:cNvPr id="1207" name="Rectangle 43"/>
            <p:cNvSpPr/>
            <p:nvPr/>
          </p:nvSpPr>
          <p:spPr>
            <a:xfrm>
              <a:off x="5853240" y="2336760"/>
              <a:ext cx="17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181717"/>
                  </a:solidFill>
                  <a:latin typeface="Lato"/>
                  <a:ea typeface="Lato"/>
                </a:rPr>
                <a:t>Lorem ipsum dolor sit amet, lacus nulla ac netus nibh aliquet, </a:t>
              </a:r>
              <a:endParaRPr b="0" lang="en-US" sz="800" spc="-1" strike="noStrike">
                <a:solidFill>
                  <a:srgbClr val="000000"/>
                </a:solidFill>
                <a:latin typeface="Calibri"/>
              </a:endParaRPr>
            </a:p>
          </p:txBody>
        </p:sp>
        <p:sp>
          <p:nvSpPr>
            <p:cNvPr id="1208" name="Rectangle 44"/>
            <p:cNvSpPr/>
            <p:nvPr/>
          </p:nvSpPr>
          <p:spPr>
            <a:xfrm>
              <a:off x="6235560" y="211932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181717"/>
                  </a:solidFill>
                  <a:latin typeface="Kelson Sans"/>
                  <a:ea typeface="Lato"/>
                </a:rPr>
                <a:t>Subtitle Here</a:t>
              </a:r>
              <a:endParaRPr b="0" lang="en-US" sz="1100" spc="-1" strike="noStrike">
                <a:solidFill>
                  <a:srgbClr val="000000"/>
                </a:solidFill>
                <a:latin typeface="Calibri"/>
              </a:endParaRPr>
            </a:p>
          </p:txBody>
        </p:sp>
        <p:grpSp>
          <p:nvGrpSpPr>
            <p:cNvPr id="1209" name="Group 45"/>
            <p:cNvGrpSpPr/>
            <p:nvPr/>
          </p:nvGrpSpPr>
          <p:grpSpPr>
            <a:xfrm>
              <a:off x="6184800" y="987480"/>
              <a:ext cx="1076760" cy="1076760"/>
              <a:chOff x="6184800" y="987480"/>
              <a:chExt cx="1076760" cy="1076760"/>
            </a:xfrm>
          </p:grpSpPr>
          <p:sp>
            <p:nvSpPr>
              <p:cNvPr id="1210" name="Oval 46"/>
              <p:cNvSpPr/>
              <p:nvPr/>
            </p:nvSpPr>
            <p:spPr>
              <a:xfrm>
                <a:off x="6184800" y="987480"/>
                <a:ext cx="1076760" cy="1076760"/>
              </a:xfrm>
              <a:prstGeom prst="ellipse">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Shape 4742"/>
              <p:cNvSpPr/>
              <p:nvPr/>
            </p:nvSpPr>
            <p:spPr>
              <a:xfrm>
                <a:off x="6612120" y="1373400"/>
                <a:ext cx="222120" cy="291960"/>
              </a:xfrm>
              <a:custGeom>
                <a:avLst/>
                <a:gdLst>
                  <a:gd name="textAreaLeft" fmla="*/ 0 w 222120"/>
                  <a:gd name="textAreaRight" fmla="*/ 222480 w 222120"/>
                  <a:gd name="textAreaTop" fmla="*/ 0 h 291960"/>
                  <a:gd name="textAreaBottom" fmla="*/ 292320 h 29196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grpSp>
        <p:nvGrpSpPr>
          <p:cNvPr id="1212" name="Group 87"/>
          <p:cNvGrpSpPr/>
          <p:nvPr/>
        </p:nvGrpSpPr>
        <p:grpSpPr>
          <a:xfrm>
            <a:off x="8745480" y="987480"/>
            <a:ext cx="1739880" cy="1808280"/>
            <a:chOff x="8745480" y="987480"/>
            <a:chExt cx="1739880" cy="1808280"/>
          </a:xfrm>
        </p:grpSpPr>
        <p:grpSp>
          <p:nvGrpSpPr>
            <p:cNvPr id="1213" name="Group 79"/>
            <p:cNvGrpSpPr/>
            <p:nvPr/>
          </p:nvGrpSpPr>
          <p:grpSpPr>
            <a:xfrm>
              <a:off x="8745480" y="987480"/>
              <a:ext cx="1739880" cy="1808280"/>
              <a:chOff x="8745480" y="987480"/>
              <a:chExt cx="1739880" cy="1808280"/>
            </a:xfrm>
          </p:grpSpPr>
          <p:sp>
            <p:nvSpPr>
              <p:cNvPr id="1214" name="Rectangle 80"/>
              <p:cNvSpPr/>
              <p:nvPr/>
            </p:nvSpPr>
            <p:spPr>
              <a:xfrm>
                <a:off x="8745480" y="2336760"/>
                <a:ext cx="17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181717"/>
                    </a:solidFill>
                    <a:latin typeface="Lato"/>
                    <a:ea typeface="Lato"/>
                  </a:rPr>
                  <a:t>Lorem ipsum dolor sit amet, lacus nulla ac netus nibh aliquet, </a:t>
                </a:r>
                <a:endParaRPr b="0" lang="en-US" sz="800" spc="-1" strike="noStrike">
                  <a:solidFill>
                    <a:srgbClr val="000000"/>
                  </a:solidFill>
                  <a:latin typeface="Calibri"/>
                </a:endParaRPr>
              </a:p>
            </p:txBody>
          </p:sp>
          <p:sp>
            <p:nvSpPr>
              <p:cNvPr id="1215" name="Rectangle 81"/>
              <p:cNvSpPr/>
              <p:nvPr/>
            </p:nvSpPr>
            <p:spPr>
              <a:xfrm>
                <a:off x="9127800" y="211932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181717"/>
                    </a:solidFill>
                    <a:latin typeface="Kelson Sans"/>
                    <a:ea typeface="Lato"/>
                  </a:rPr>
                  <a:t>Subtitle Here</a:t>
                </a:r>
                <a:endParaRPr b="0" lang="en-US" sz="1100" spc="-1" strike="noStrike">
                  <a:solidFill>
                    <a:srgbClr val="000000"/>
                  </a:solidFill>
                  <a:latin typeface="Calibri"/>
                </a:endParaRPr>
              </a:p>
            </p:txBody>
          </p:sp>
          <p:sp>
            <p:nvSpPr>
              <p:cNvPr id="1216" name="Oval 83"/>
              <p:cNvSpPr/>
              <p:nvPr/>
            </p:nvSpPr>
            <p:spPr>
              <a:xfrm>
                <a:off x="9077040" y="987480"/>
                <a:ext cx="1076400" cy="1076400"/>
              </a:xfrm>
              <a:prstGeom prst="ellipse">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17" name="Shape 4738"/>
            <p:cNvSpPr/>
            <p:nvPr/>
          </p:nvSpPr>
          <p:spPr>
            <a:xfrm>
              <a:off x="9466200" y="1379520"/>
              <a:ext cx="298440" cy="291960"/>
            </a:xfrm>
            <a:custGeom>
              <a:avLst/>
              <a:gdLst>
                <a:gd name="textAreaLeft" fmla="*/ 0 w 298440"/>
                <a:gd name="textAreaRight" fmla="*/ 298800 w 298440"/>
                <a:gd name="textAreaTop" fmla="*/ 0 h 291960"/>
                <a:gd name="textAreaBottom" fmla="*/ 292320 h 29196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18" name="Group 95"/>
          <p:cNvGrpSpPr/>
          <p:nvPr/>
        </p:nvGrpSpPr>
        <p:grpSpPr>
          <a:xfrm>
            <a:off x="5853240" y="3624120"/>
            <a:ext cx="1739880" cy="1808640"/>
            <a:chOff x="5853240" y="3624120"/>
            <a:chExt cx="1739880" cy="1808640"/>
          </a:xfrm>
        </p:grpSpPr>
        <p:grpSp>
          <p:nvGrpSpPr>
            <p:cNvPr id="1219" name="Group 89"/>
            <p:cNvGrpSpPr/>
            <p:nvPr/>
          </p:nvGrpSpPr>
          <p:grpSpPr>
            <a:xfrm>
              <a:off x="5853240" y="3624120"/>
              <a:ext cx="1739880" cy="1808640"/>
              <a:chOff x="5853240" y="3624120"/>
              <a:chExt cx="1739880" cy="1808640"/>
            </a:xfrm>
          </p:grpSpPr>
          <p:sp>
            <p:nvSpPr>
              <p:cNvPr id="1220" name="Rectangle 91"/>
              <p:cNvSpPr/>
              <p:nvPr/>
            </p:nvSpPr>
            <p:spPr>
              <a:xfrm>
                <a:off x="5853240" y="4973760"/>
                <a:ext cx="17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181717"/>
                    </a:solidFill>
                    <a:latin typeface="Lato"/>
                    <a:ea typeface="Lato"/>
                  </a:rPr>
                  <a:t>Lorem ipsum dolor sit amet, lacus nulla ac netus nibh aliquet, </a:t>
                </a:r>
                <a:endParaRPr b="0" lang="en-US" sz="800" spc="-1" strike="noStrike">
                  <a:solidFill>
                    <a:srgbClr val="000000"/>
                  </a:solidFill>
                  <a:latin typeface="Calibri"/>
                </a:endParaRPr>
              </a:p>
            </p:txBody>
          </p:sp>
          <p:sp>
            <p:nvSpPr>
              <p:cNvPr id="1221" name="Rectangle 92"/>
              <p:cNvSpPr/>
              <p:nvPr/>
            </p:nvSpPr>
            <p:spPr>
              <a:xfrm>
                <a:off x="6235560" y="475632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181717"/>
                    </a:solidFill>
                    <a:latin typeface="Kelson Sans"/>
                    <a:ea typeface="Lato"/>
                  </a:rPr>
                  <a:t>Subtitle Here</a:t>
                </a:r>
                <a:endParaRPr b="0" lang="en-US" sz="1100" spc="-1" strike="noStrike">
                  <a:solidFill>
                    <a:srgbClr val="000000"/>
                  </a:solidFill>
                  <a:latin typeface="Calibri"/>
                </a:endParaRPr>
              </a:p>
            </p:txBody>
          </p:sp>
          <p:sp>
            <p:nvSpPr>
              <p:cNvPr id="1222" name="Oval 93"/>
              <p:cNvSpPr/>
              <p:nvPr/>
            </p:nvSpPr>
            <p:spPr>
              <a:xfrm>
                <a:off x="6184800" y="3624120"/>
                <a:ext cx="1076400" cy="1076400"/>
              </a:xfrm>
              <a:prstGeom prst="ellipse">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3" name="Shape 4707"/>
            <p:cNvSpPr/>
            <p:nvPr/>
          </p:nvSpPr>
          <p:spPr>
            <a:xfrm>
              <a:off x="6583320" y="4025520"/>
              <a:ext cx="279360" cy="263520"/>
            </a:xfrm>
            <a:custGeom>
              <a:avLst/>
              <a:gdLst>
                <a:gd name="textAreaLeft" fmla="*/ 0 w 279360"/>
                <a:gd name="textAreaRight" fmla="*/ 279720 w 279360"/>
                <a:gd name="textAreaTop" fmla="*/ 0 h 263520"/>
                <a:gd name="textAreaBottom" fmla="*/ 263880 h 263520"/>
              </a:gdLst>
              <a:ahLst/>
              <a:rect l="textAreaLeft" t="textAreaTop" r="textAreaRight" b="textAreaBottom"/>
              <a:pathLst>
                <a:path w="120000" h="120000">
                  <a:moveTo>
                    <a:pt x="101694" y="69304"/>
                  </a:moveTo>
                  <a:lnTo>
                    <a:pt x="101694" y="69304"/>
                  </a:lnTo>
                  <a:cubicBezTo>
                    <a:pt x="101694" y="6417"/>
                    <a:pt x="101694" y="6417"/>
                    <a:pt x="101694" y="6417"/>
                  </a:cubicBezTo>
                  <a:cubicBezTo>
                    <a:pt x="101694" y="3208"/>
                    <a:pt x="101694" y="0"/>
                    <a:pt x="98847" y="0"/>
                  </a:cubicBezTo>
                  <a:cubicBezTo>
                    <a:pt x="95796" y="0"/>
                    <a:pt x="95796" y="3208"/>
                    <a:pt x="95796" y="6417"/>
                  </a:cubicBezTo>
                  <a:cubicBezTo>
                    <a:pt x="95796" y="69304"/>
                    <a:pt x="95796" y="69304"/>
                    <a:pt x="95796" y="69304"/>
                  </a:cubicBezTo>
                  <a:cubicBezTo>
                    <a:pt x="86847" y="69304"/>
                    <a:pt x="77694" y="78716"/>
                    <a:pt x="77694" y="88128"/>
                  </a:cubicBezTo>
                  <a:cubicBezTo>
                    <a:pt x="77694" y="100748"/>
                    <a:pt x="86847" y="107165"/>
                    <a:pt x="95796" y="110160"/>
                  </a:cubicBezTo>
                  <a:cubicBezTo>
                    <a:pt x="95796" y="113368"/>
                    <a:pt x="95796" y="113368"/>
                    <a:pt x="95796" y="113368"/>
                  </a:cubicBezTo>
                  <a:cubicBezTo>
                    <a:pt x="95796" y="116577"/>
                    <a:pt x="95796" y="119786"/>
                    <a:pt x="98847" y="119786"/>
                  </a:cubicBezTo>
                  <a:cubicBezTo>
                    <a:pt x="101694" y="119786"/>
                    <a:pt x="101694" y="116577"/>
                    <a:pt x="101694" y="113368"/>
                  </a:cubicBezTo>
                  <a:cubicBezTo>
                    <a:pt x="101694" y="110160"/>
                    <a:pt x="101694" y="110160"/>
                    <a:pt x="101694" y="110160"/>
                  </a:cubicBezTo>
                  <a:cubicBezTo>
                    <a:pt x="110847" y="107165"/>
                    <a:pt x="119796" y="100748"/>
                    <a:pt x="119796" y="88128"/>
                  </a:cubicBezTo>
                  <a:cubicBezTo>
                    <a:pt x="119796" y="78716"/>
                    <a:pt x="110847" y="69304"/>
                    <a:pt x="101694" y="69304"/>
                  </a:cubicBezTo>
                  <a:close/>
                  <a:moveTo>
                    <a:pt x="98847" y="100748"/>
                  </a:moveTo>
                  <a:lnTo>
                    <a:pt x="98847" y="100748"/>
                  </a:lnTo>
                  <a:cubicBezTo>
                    <a:pt x="92745" y="100748"/>
                    <a:pt x="86847" y="97540"/>
                    <a:pt x="86847" y="88128"/>
                  </a:cubicBezTo>
                  <a:cubicBezTo>
                    <a:pt x="86847" y="81925"/>
                    <a:pt x="92745" y="75508"/>
                    <a:pt x="98847" y="75508"/>
                  </a:cubicBezTo>
                  <a:cubicBezTo>
                    <a:pt x="104745" y="75508"/>
                    <a:pt x="110847" y="81925"/>
                    <a:pt x="110847" y="88128"/>
                  </a:cubicBezTo>
                  <a:cubicBezTo>
                    <a:pt x="110847" y="97540"/>
                    <a:pt x="104745" y="100748"/>
                    <a:pt x="98847" y="100748"/>
                  </a:cubicBezTo>
                  <a:close/>
                  <a:moveTo>
                    <a:pt x="62847" y="9411"/>
                  </a:moveTo>
                  <a:lnTo>
                    <a:pt x="62847" y="9411"/>
                  </a:lnTo>
                  <a:cubicBezTo>
                    <a:pt x="62847" y="6417"/>
                    <a:pt x="62847" y="6417"/>
                    <a:pt x="62847" y="6417"/>
                  </a:cubicBezTo>
                  <a:cubicBezTo>
                    <a:pt x="62847" y="3208"/>
                    <a:pt x="59796" y="0"/>
                    <a:pt x="59796" y="0"/>
                  </a:cubicBezTo>
                  <a:cubicBezTo>
                    <a:pt x="56949" y="0"/>
                    <a:pt x="53898" y="3208"/>
                    <a:pt x="53898" y="6417"/>
                  </a:cubicBezTo>
                  <a:cubicBezTo>
                    <a:pt x="53898" y="9411"/>
                    <a:pt x="53898" y="9411"/>
                    <a:pt x="53898" y="9411"/>
                  </a:cubicBezTo>
                  <a:cubicBezTo>
                    <a:pt x="44949" y="12620"/>
                    <a:pt x="38847" y="18823"/>
                    <a:pt x="38847" y="31443"/>
                  </a:cubicBezTo>
                  <a:cubicBezTo>
                    <a:pt x="38847" y="41069"/>
                    <a:pt x="44949" y="50267"/>
                    <a:pt x="53898" y="50267"/>
                  </a:cubicBezTo>
                  <a:cubicBezTo>
                    <a:pt x="53898" y="113368"/>
                    <a:pt x="53898" y="113368"/>
                    <a:pt x="53898" y="113368"/>
                  </a:cubicBezTo>
                  <a:cubicBezTo>
                    <a:pt x="53898" y="116577"/>
                    <a:pt x="56949" y="119786"/>
                    <a:pt x="59796" y="119786"/>
                  </a:cubicBezTo>
                  <a:cubicBezTo>
                    <a:pt x="59796" y="119786"/>
                    <a:pt x="62847" y="116577"/>
                    <a:pt x="62847" y="113368"/>
                  </a:cubicBezTo>
                  <a:cubicBezTo>
                    <a:pt x="62847" y="50267"/>
                    <a:pt x="62847" y="50267"/>
                    <a:pt x="62847" y="50267"/>
                  </a:cubicBezTo>
                  <a:cubicBezTo>
                    <a:pt x="71796" y="50267"/>
                    <a:pt x="77694" y="41069"/>
                    <a:pt x="77694" y="31443"/>
                  </a:cubicBezTo>
                  <a:cubicBezTo>
                    <a:pt x="77694" y="18823"/>
                    <a:pt x="71796" y="12620"/>
                    <a:pt x="62847" y="9411"/>
                  </a:cubicBezTo>
                  <a:close/>
                  <a:moveTo>
                    <a:pt x="59796" y="44064"/>
                  </a:moveTo>
                  <a:lnTo>
                    <a:pt x="59796" y="44064"/>
                  </a:lnTo>
                  <a:cubicBezTo>
                    <a:pt x="50847" y="44064"/>
                    <a:pt x="47796" y="37860"/>
                    <a:pt x="47796" y="31443"/>
                  </a:cubicBezTo>
                  <a:cubicBezTo>
                    <a:pt x="47796" y="22032"/>
                    <a:pt x="50847" y="18823"/>
                    <a:pt x="59796" y="18823"/>
                  </a:cubicBezTo>
                  <a:cubicBezTo>
                    <a:pt x="65898" y="18823"/>
                    <a:pt x="71796" y="22032"/>
                    <a:pt x="71796" y="31443"/>
                  </a:cubicBezTo>
                  <a:cubicBezTo>
                    <a:pt x="71796" y="37860"/>
                    <a:pt x="65898" y="44064"/>
                    <a:pt x="59796" y="44064"/>
                  </a:cubicBezTo>
                  <a:close/>
                  <a:moveTo>
                    <a:pt x="24000" y="50267"/>
                  </a:moveTo>
                  <a:lnTo>
                    <a:pt x="24000" y="50267"/>
                  </a:lnTo>
                  <a:cubicBezTo>
                    <a:pt x="24000" y="6417"/>
                    <a:pt x="24000" y="6417"/>
                    <a:pt x="24000" y="6417"/>
                  </a:cubicBezTo>
                  <a:cubicBezTo>
                    <a:pt x="24000" y="3208"/>
                    <a:pt x="20949" y="0"/>
                    <a:pt x="17898" y="0"/>
                  </a:cubicBezTo>
                  <a:cubicBezTo>
                    <a:pt x="17898" y="0"/>
                    <a:pt x="14847" y="3208"/>
                    <a:pt x="14847" y="6417"/>
                  </a:cubicBezTo>
                  <a:cubicBezTo>
                    <a:pt x="14847" y="50267"/>
                    <a:pt x="14847" y="50267"/>
                    <a:pt x="14847" y="50267"/>
                  </a:cubicBezTo>
                  <a:cubicBezTo>
                    <a:pt x="5898" y="53475"/>
                    <a:pt x="0" y="62887"/>
                    <a:pt x="0" y="72513"/>
                  </a:cubicBezTo>
                  <a:cubicBezTo>
                    <a:pt x="0" y="81925"/>
                    <a:pt x="5898" y="91336"/>
                    <a:pt x="14847" y="94545"/>
                  </a:cubicBezTo>
                  <a:cubicBezTo>
                    <a:pt x="14847" y="113368"/>
                    <a:pt x="14847" y="113368"/>
                    <a:pt x="14847" y="113368"/>
                  </a:cubicBezTo>
                  <a:cubicBezTo>
                    <a:pt x="14847" y="116577"/>
                    <a:pt x="17898" y="119786"/>
                    <a:pt x="17898" y="119786"/>
                  </a:cubicBezTo>
                  <a:cubicBezTo>
                    <a:pt x="20949" y="119786"/>
                    <a:pt x="24000" y="116577"/>
                    <a:pt x="24000" y="113368"/>
                  </a:cubicBezTo>
                  <a:cubicBezTo>
                    <a:pt x="24000" y="94545"/>
                    <a:pt x="24000" y="94545"/>
                    <a:pt x="24000" y="94545"/>
                  </a:cubicBezTo>
                  <a:cubicBezTo>
                    <a:pt x="32949" y="91336"/>
                    <a:pt x="38847" y="81925"/>
                    <a:pt x="38847" y="72513"/>
                  </a:cubicBezTo>
                  <a:cubicBezTo>
                    <a:pt x="38847" y="62887"/>
                    <a:pt x="32949" y="53475"/>
                    <a:pt x="24000" y="50267"/>
                  </a:cubicBezTo>
                  <a:close/>
                  <a:moveTo>
                    <a:pt x="17898" y="84919"/>
                  </a:moveTo>
                  <a:lnTo>
                    <a:pt x="17898" y="84919"/>
                  </a:lnTo>
                  <a:cubicBezTo>
                    <a:pt x="12000" y="84919"/>
                    <a:pt x="5898" y="78716"/>
                    <a:pt x="5898" y="72513"/>
                  </a:cubicBezTo>
                  <a:cubicBezTo>
                    <a:pt x="5898" y="66096"/>
                    <a:pt x="12000" y="59893"/>
                    <a:pt x="17898" y="59893"/>
                  </a:cubicBezTo>
                  <a:cubicBezTo>
                    <a:pt x="26847" y="59893"/>
                    <a:pt x="29898" y="66096"/>
                    <a:pt x="29898" y="72513"/>
                  </a:cubicBezTo>
                  <a:cubicBezTo>
                    <a:pt x="29898" y="78716"/>
                    <a:pt x="26847" y="84919"/>
                    <a:pt x="17898" y="8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24" name="Group 103"/>
          <p:cNvGrpSpPr/>
          <p:nvPr/>
        </p:nvGrpSpPr>
        <p:grpSpPr>
          <a:xfrm>
            <a:off x="8745480" y="3629160"/>
            <a:ext cx="1739880" cy="1808280"/>
            <a:chOff x="8745480" y="3629160"/>
            <a:chExt cx="1739880" cy="1808280"/>
          </a:xfrm>
        </p:grpSpPr>
        <p:grpSp>
          <p:nvGrpSpPr>
            <p:cNvPr id="1225" name="Group 97"/>
            <p:cNvGrpSpPr/>
            <p:nvPr/>
          </p:nvGrpSpPr>
          <p:grpSpPr>
            <a:xfrm>
              <a:off x="8745480" y="3629160"/>
              <a:ext cx="1739880" cy="1808280"/>
              <a:chOff x="8745480" y="3629160"/>
              <a:chExt cx="1739880" cy="1808280"/>
            </a:xfrm>
          </p:grpSpPr>
          <p:sp>
            <p:nvSpPr>
              <p:cNvPr id="1226" name="Rectangle 99"/>
              <p:cNvSpPr/>
              <p:nvPr/>
            </p:nvSpPr>
            <p:spPr>
              <a:xfrm>
                <a:off x="8745480" y="4978440"/>
                <a:ext cx="1739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181717"/>
                    </a:solidFill>
                    <a:latin typeface="Lato"/>
                    <a:ea typeface="Lato"/>
                  </a:rPr>
                  <a:t>Lorem ipsum dolor sit amet, lacus nulla ac netus nibh aliquet, </a:t>
                </a:r>
                <a:endParaRPr b="0" lang="en-US" sz="800" spc="-1" strike="noStrike">
                  <a:solidFill>
                    <a:srgbClr val="000000"/>
                  </a:solidFill>
                  <a:latin typeface="Calibri"/>
                </a:endParaRPr>
              </a:p>
            </p:txBody>
          </p:sp>
          <p:sp>
            <p:nvSpPr>
              <p:cNvPr id="1227" name="Rectangle 100"/>
              <p:cNvSpPr/>
              <p:nvPr/>
            </p:nvSpPr>
            <p:spPr>
              <a:xfrm>
                <a:off x="9127800" y="476100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181717"/>
                    </a:solidFill>
                    <a:latin typeface="Kelson Sans"/>
                    <a:ea typeface="Lato"/>
                  </a:rPr>
                  <a:t>Subtitle Here</a:t>
                </a:r>
                <a:endParaRPr b="0" lang="en-US" sz="1100" spc="-1" strike="noStrike">
                  <a:solidFill>
                    <a:srgbClr val="000000"/>
                  </a:solidFill>
                  <a:latin typeface="Calibri"/>
                </a:endParaRPr>
              </a:p>
            </p:txBody>
          </p:sp>
          <p:sp>
            <p:nvSpPr>
              <p:cNvPr id="1228" name="Oval 101"/>
              <p:cNvSpPr/>
              <p:nvPr/>
            </p:nvSpPr>
            <p:spPr>
              <a:xfrm>
                <a:off x="9077040" y="3629160"/>
                <a:ext cx="1076400" cy="1076400"/>
              </a:xfrm>
              <a:prstGeom prst="ellipse">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9" name="Shape 4667"/>
            <p:cNvSpPr/>
            <p:nvPr/>
          </p:nvSpPr>
          <p:spPr>
            <a:xfrm>
              <a:off x="9462960" y="4025880"/>
              <a:ext cx="301680" cy="299880"/>
            </a:xfrm>
            <a:custGeom>
              <a:avLst/>
              <a:gdLst>
                <a:gd name="textAreaLeft" fmla="*/ 0 w 301680"/>
                <a:gd name="textAreaRight" fmla="*/ 302040 w 301680"/>
                <a:gd name="textAreaTop" fmla="*/ 0 h 299880"/>
                <a:gd name="textAreaBottom" fmla="*/ 300240 h 299880"/>
              </a:gdLst>
              <a:ahLst/>
              <a:rect l="textAreaLeft" t="textAreaTop" r="textAreaRight" b="textAreaBottom"/>
              <a:pathLst>
                <a:path w="120000" h="120000">
                  <a:moveTo>
                    <a:pt x="72492" y="25133"/>
                  </a:moveTo>
                  <a:lnTo>
                    <a:pt x="72492" y="25133"/>
                  </a:lnTo>
                  <a:cubicBezTo>
                    <a:pt x="67003" y="30803"/>
                    <a:pt x="67003" y="39118"/>
                    <a:pt x="72492" y="47433"/>
                  </a:cubicBezTo>
                  <a:cubicBezTo>
                    <a:pt x="81009" y="52913"/>
                    <a:pt x="89148" y="52913"/>
                    <a:pt x="94826" y="47433"/>
                  </a:cubicBezTo>
                  <a:cubicBezTo>
                    <a:pt x="100315" y="39118"/>
                    <a:pt x="100315" y="30803"/>
                    <a:pt x="94826" y="25133"/>
                  </a:cubicBezTo>
                  <a:cubicBezTo>
                    <a:pt x="89148" y="19653"/>
                    <a:pt x="81009" y="19653"/>
                    <a:pt x="72492" y="25133"/>
                  </a:cubicBezTo>
                  <a:close/>
                  <a:moveTo>
                    <a:pt x="89148" y="41763"/>
                  </a:moveTo>
                  <a:lnTo>
                    <a:pt x="89148" y="41763"/>
                  </a:lnTo>
                  <a:cubicBezTo>
                    <a:pt x="86498" y="44598"/>
                    <a:pt x="81009" y="44598"/>
                    <a:pt x="77981" y="41763"/>
                  </a:cubicBezTo>
                  <a:cubicBezTo>
                    <a:pt x="75331" y="39118"/>
                    <a:pt x="75331" y="33448"/>
                    <a:pt x="77981" y="30803"/>
                  </a:cubicBezTo>
                  <a:cubicBezTo>
                    <a:pt x="81009" y="27968"/>
                    <a:pt x="86498" y="27968"/>
                    <a:pt x="89148" y="30803"/>
                  </a:cubicBezTo>
                  <a:cubicBezTo>
                    <a:pt x="91987" y="33448"/>
                    <a:pt x="91987" y="39118"/>
                    <a:pt x="89148" y="41763"/>
                  </a:cubicBezTo>
                  <a:close/>
                  <a:moveTo>
                    <a:pt x="111482" y="0"/>
                  </a:moveTo>
                  <a:lnTo>
                    <a:pt x="111482" y="0"/>
                  </a:lnTo>
                  <a:cubicBezTo>
                    <a:pt x="64164" y="0"/>
                    <a:pt x="64164" y="0"/>
                    <a:pt x="64164" y="0"/>
                  </a:cubicBezTo>
                  <a:cubicBezTo>
                    <a:pt x="58675" y="0"/>
                    <a:pt x="58675" y="2834"/>
                    <a:pt x="55835" y="5669"/>
                  </a:cubicBezTo>
                  <a:cubicBezTo>
                    <a:pt x="5678" y="55748"/>
                    <a:pt x="5678" y="55748"/>
                    <a:pt x="5678" y="55748"/>
                  </a:cubicBezTo>
                  <a:cubicBezTo>
                    <a:pt x="0" y="61417"/>
                    <a:pt x="0" y="69543"/>
                    <a:pt x="5678" y="75212"/>
                  </a:cubicBezTo>
                  <a:cubicBezTo>
                    <a:pt x="44668" y="114141"/>
                    <a:pt x="44668" y="114141"/>
                    <a:pt x="44668" y="114141"/>
                  </a:cubicBezTo>
                  <a:cubicBezTo>
                    <a:pt x="50157" y="119811"/>
                    <a:pt x="58675" y="119811"/>
                    <a:pt x="64164" y="114141"/>
                  </a:cubicBezTo>
                  <a:cubicBezTo>
                    <a:pt x="114321" y="64062"/>
                    <a:pt x="114321" y="64062"/>
                    <a:pt x="114321" y="64062"/>
                  </a:cubicBezTo>
                  <a:cubicBezTo>
                    <a:pt x="117160" y="61417"/>
                    <a:pt x="119810" y="61417"/>
                    <a:pt x="119810" y="55748"/>
                  </a:cubicBezTo>
                  <a:cubicBezTo>
                    <a:pt x="119810" y="8503"/>
                    <a:pt x="119810" y="8503"/>
                    <a:pt x="119810" y="8503"/>
                  </a:cubicBezTo>
                  <a:cubicBezTo>
                    <a:pt x="119810" y="2834"/>
                    <a:pt x="117160" y="0"/>
                    <a:pt x="111482" y="0"/>
                  </a:cubicBezTo>
                  <a:close/>
                  <a:moveTo>
                    <a:pt x="61324" y="108661"/>
                  </a:moveTo>
                  <a:lnTo>
                    <a:pt x="61324" y="108661"/>
                  </a:lnTo>
                  <a:cubicBezTo>
                    <a:pt x="55835" y="111307"/>
                    <a:pt x="52996" y="111307"/>
                    <a:pt x="50157" y="108661"/>
                  </a:cubicBezTo>
                  <a:cubicBezTo>
                    <a:pt x="11167" y="69543"/>
                    <a:pt x="11167" y="69543"/>
                    <a:pt x="11167" y="69543"/>
                  </a:cubicBezTo>
                  <a:cubicBezTo>
                    <a:pt x="8517" y="66897"/>
                    <a:pt x="8517" y="64062"/>
                    <a:pt x="11167" y="61417"/>
                  </a:cubicBezTo>
                  <a:cubicBezTo>
                    <a:pt x="16845" y="55748"/>
                    <a:pt x="16845" y="55748"/>
                    <a:pt x="16845" y="55748"/>
                  </a:cubicBezTo>
                  <a:cubicBezTo>
                    <a:pt x="64164" y="102992"/>
                    <a:pt x="64164" y="102992"/>
                    <a:pt x="64164" y="102992"/>
                  </a:cubicBezTo>
                  <a:lnTo>
                    <a:pt x="61324" y="108661"/>
                  </a:lnTo>
                  <a:close/>
                  <a:moveTo>
                    <a:pt x="111482" y="52913"/>
                  </a:moveTo>
                  <a:lnTo>
                    <a:pt x="111482" y="52913"/>
                  </a:lnTo>
                  <a:cubicBezTo>
                    <a:pt x="111482" y="55748"/>
                    <a:pt x="111482" y="58582"/>
                    <a:pt x="108832" y="61417"/>
                  </a:cubicBezTo>
                  <a:cubicBezTo>
                    <a:pt x="69842" y="97511"/>
                    <a:pt x="69842" y="97511"/>
                    <a:pt x="69842" y="97511"/>
                  </a:cubicBezTo>
                  <a:cubicBezTo>
                    <a:pt x="22334" y="50267"/>
                    <a:pt x="22334" y="50267"/>
                    <a:pt x="22334" y="50267"/>
                  </a:cubicBezTo>
                  <a:cubicBezTo>
                    <a:pt x="61324" y="11149"/>
                    <a:pt x="61324" y="11149"/>
                    <a:pt x="61324" y="11149"/>
                  </a:cubicBezTo>
                  <a:cubicBezTo>
                    <a:pt x="61324" y="8503"/>
                    <a:pt x="64164" y="8503"/>
                    <a:pt x="67003" y="8503"/>
                  </a:cubicBezTo>
                  <a:cubicBezTo>
                    <a:pt x="108832" y="8503"/>
                    <a:pt x="108832" y="8503"/>
                    <a:pt x="108832" y="8503"/>
                  </a:cubicBezTo>
                  <a:cubicBezTo>
                    <a:pt x="111482" y="8503"/>
                    <a:pt x="111482" y="8503"/>
                    <a:pt x="111482" y="11149"/>
                  </a:cubicBezTo>
                  <a:lnTo>
                    <a:pt x="111482" y="52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pic>
        <p:nvPicPr>
          <p:cNvPr id="1230" name="" descr=""/>
          <p:cNvPicPr/>
          <p:nvPr/>
        </p:nvPicPr>
        <p:blipFill>
          <a:blip r:embed="rId1"/>
          <a:stretch/>
        </p:blipFill>
        <p:spPr>
          <a:xfrm>
            <a:off x="0" y="0"/>
            <a:ext cx="43308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4"/>
          <p:cNvSpPr/>
          <p:nvPr/>
        </p:nvSpPr>
        <p:spPr>
          <a:xfrm>
            <a:off x="4659480" y="2390760"/>
            <a:ext cx="2836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Kelson Sans"/>
                <a:ea typeface="Lato Black"/>
              </a:rPr>
              <a:t>WELCOME TO MATRIX</a:t>
            </a:r>
            <a:endParaRPr b="0" lang="en-US" sz="4400" spc="-1" strike="noStrike">
              <a:solidFill>
                <a:srgbClr val="000000"/>
              </a:solidFill>
              <a:latin typeface="Calibri"/>
            </a:endParaRPr>
          </a:p>
        </p:txBody>
      </p:sp>
      <p:sp>
        <p:nvSpPr>
          <p:cNvPr id="1047" name="Rectangle 8"/>
          <p:cNvSpPr/>
          <p:nvPr/>
        </p:nvSpPr>
        <p:spPr>
          <a:xfrm>
            <a:off x="6954840" y="4581360"/>
            <a:ext cx="437364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 </a:t>
            </a:r>
            <a:endParaRPr b="0" lang="en-US" sz="900" spc="-1" strike="noStrike">
              <a:solidFill>
                <a:srgbClr val="000000"/>
              </a:solidFill>
              <a:latin typeface="Calibri"/>
            </a:endParaRPr>
          </a:p>
        </p:txBody>
      </p:sp>
      <p:pic>
        <p:nvPicPr>
          <p:cNvPr id="1048" name="" descr=""/>
          <p:cNvPicPr/>
          <p:nvPr/>
        </p:nvPicPr>
        <p:blipFill>
          <a:blip r:embed="rId1"/>
          <a:stretch/>
        </p:blipFill>
        <p:spPr>
          <a:xfrm>
            <a:off x="0" y="0"/>
            <a:ext cx="57276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774720" y="3470400"/>
            <a:ext cx="274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OUR SERVICE</a:t>
            </a:r>
            <a:endParaRPr b="0" lang="en-US" sz="3600" spc="-1" strike="noStrike">
              <a:solidFill>
                <a:srgbClr val="000000"/>
              </a:solidFill>
              <a:latin typeface="Calibri"/>
            </a:endParaRPr>
          </a:p>
        </p:txBody>
      </p:sp>
      <p:sp>
        <p:nvSpPr>
          <p:cNvPr id="1232" name="Rectangle 7"/>
          <p:cNvSpPr/>
          <p:nvPr/>
        </p:nvSpPr>
        <p:spPr>
          <a:xfrm>
            <a:off x="774720" y="4532400"/>
            <a:ext cx="3664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233" name="Rectangle 20"/>
          <p:cNvSpPr/>
          <p:nvPr/>
        </p:nvSpPr>
        <p:spPr>
          <a:xfrm>
            <a:off x="774720" y="425592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nvGrpSpPr>
          <p:cNvPr id="1234" name="Group 24"/>
          <p:cNvGrpSpPr/>
          <p:nvPr/>
        </p:nvGrpSpPr>
        <p:grpSpPr>
          <a:xfrm>
            <a:off x="5331240" y="4031280"/>
            <a:ext cx="1753200" cy="1753560"/>
            <a:chOff x="5331240" y="4031280"/>
            <a:chExt cx="1753200" cy="1753560"/>
          </a:xfrm>
        </p:grpSpPr>
        <p:sp>
          <p:nvSpPr>
            <p:cNvPr id="1235" name="Rounded Rectangle 11"/>
            <p:cNvSpPr/>
            <p:nvPr/>
          </p:nvSpPr>
          <p:spPr>
            <a:xfrm rot="2700000">
              <a:off x="5587920" y="4287960"/>
              <a:ext cx="1239840" cy="1239840"/>
            </a:xfrm>
            <a:prstGeom prst="roundRect">
              <a:avLst>
                <a:gd name="adj" fmla="val 18037"/>
              </a:avLst>
            </a:prstGeom>
            <a:solidFill>
              <a:srgbClr val="f8f8f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6" name="Shape 4917"/>
            <p:cNvSpPr/>
            <p:nvPr/>
          </p:nvSpPr>
          <p:spPr>
            <a:xfrm>
              <a:off x="6030720" y="4527720"/>
              <a:ext cx="344520" cy="341280"/>
            </a:xfrm>
            <a:custGeom>
              <a:avLst/>
              <a:gdLst>
                <a:gd name="textAreaLeft" fmla="*/ 0 w 344520"/>
                <a:gd name="textAreaRight" fmla="*/ 344880 w 344520"/>
                <a:gd name="textAreaTop" fmla="*/ 0 h 341280"/>
                <a:gd name="textAreaBottom" fmla="*/ 341640 h 341280"/>
              </a:gdLst>
              <a:ahLst/>
              <a:rect l="textAreaLeft" t="textAreaTop" r="textAreaRight" b="textAreaBottom"/>
              <a:pathLst>
                <a:path w="120000" h="120000">
                  <a:moveTo>
                    <a:pt x="103054" y="71960"/>
                  </a:moveTo>
                  <a:lnTo>
                    <a:pt x="103054" y="71960"/>
                  </a:lnTo>
                  <a:cubicBezTo>
                    <a:pt x="103054" y="76146"/>
                    <a:pt x="101674" y="78936"/>
                    <a:pt x="98916" y="81727"/>
                  </a:cubicBezTo>
                  <a:cubicBezTo>
                    <a:pt x="98916" y="83122"/>
                    <a:pt x="108571" y="94485"/>
                    <a:pt x="103054" y="100066"/>
                  </a:cubicBezTo>
                  <a:cubicBezTo>
                    <a:pt x="100295" y="104252"/>
                    <a:pt x="100295" y="104252"/>
                    <a:pt x="100295" y="104252"/>
                  </a:cubicBezTo>
                  <a:cubicBezTo>
                    <a:pt x="96157" y="108438"/>
                    <a:pt x="84926" y="101461"/>
                    <a:pt x="82167" y="98671"/>
                  </a:cubicBezTo>
                  <a:cubicBezTo>
                    <a:pt x="79408" y="101461"/>
                    <a:pt x="75270" y="102857"/>
                    <a:pt x="71133" y="104252"/>
                  </a:cubicBezTo>
                  <a:cubicBezTo>
                    <a:pt x="72512" y="104252"/>
                    <a:pt x="72512" y="104252"/>
                    <a:pt x="72512" y="104252"/>
                  </a:cubicBezTo>
                  <a:cubicBezTo>
                    <a:pt x="72512" y="104252"/>
                    <a:pt x="69753" y="119800"/>
                    <a:pt x="61280" y="119800"/>
                  </a:cubicBezTo>
                  <a:cubicBezTo>
                    <a:pt x="58522" y="119800"/>
                    <a:pt x="58522" y="119800"/>
                    <a:pt x="58522" y="119800"/>
                  </a:cubicBezTo>
                  <a:cubicBezTo>
                    <a:pt x="51625" y="119800"/>
                    <a:pt x="48669" y="105647"/>
                    <a:pt x="47290" y="102857"/>
                  </a:cubicBezTo>
                  <a:cubicBezTo>
                    <a:pt x="44532" y="102857"/>
                    <a:pt x="40394" y="101461"/>
                    <a:pt x="37635" y="98671"/>
                  </a:cubicBezTo>
                  <a:cubicBezTo>
                    <a:pt x="37635" y="100066"/>
                    <a:pt x="37635" y="100066"/>
                    <a:pt x="37635" y="100066"/>
                  </a:cubicBezTo>
                  <a:cubicBezTo>
                    <a:pt x="37635" y="100066"/>
                    <a:pt x="25024" y="109833"/>
                    <a:pt x="19507" y="102857"/>
                  </a:cubicBezTo>
                  <a:cubicBezTo>
                    <a:pt x="16748" y="101461"/>
                    <a:pt x="16748" y="101461"/>
                    <a:pt x="16748" y="101461"/>
                  </a:cubicBezTo>
                  <a:cubicBezTo>
                    <a:pt x="12610" y="95880"/>
                    <a:pt x="19507" y="84518"/>
                    <a:pt x="20886" y="81727"/>
                  </a:cubicBezTo>
                  <a:cubicBezTo>
                    <a:pt x="19507" y="78936"/>
                    <a:pt x="18128" y="76146"/>
                    <a:pt x="16748" y="71960"/>
                  </a:cubicBezTo>
                  <a:cubicBezTo>
                    <a:pt x="13990" y="71960"/>
                    <a:pt x="0" y="67574"/>
                    <a:pt x="0" y="60598"/>
                  </a:cubicBezTo>
                  <a:cubicBezTo>
                    <a:pt x="0" y="57807"/>
                    <a:pt x="0" y="57807"/>
                    <a:pt x="0" y="57807"/>
                  </a:cubicBezTo>
                  <a:cubicBezTo>
                    <a:pt x="0" y="50830"/>
                    <a:pt x="13990" y="47840"/>
                    <a:pt x="16748" y="47840"/>
                  </a:cubicBezTo>
                  <a:cubicBezTo>
                    <a:pt x="18128" y="43654"/>
                    <a:pt x="19507" y="40863"/>
                    <a:pt x="20886" y="36677"/>
                  </a:cubicBezTo>
                  <a:cubicBezTo>
                    <a:pt x="19507" y="35282"/>
                    <a:pt x="11231" y="22524"/>
                    <a:pt x="16748" y="18338"/>
                  </a:cubicBezTo>
                  <a:cubicBezTo>
                    <a:pt x="19507" y="15548"/>
                    <a:pt x="19507" y="15548"/>
                    <a:pt x="19507" y="15548"/>
                  </a:cubicBezTo>
                  <a:cubicBezTo>
                    <a:pt x="23645" y="9966"/>
                    <a:pt x="34876" y="18338"/>
                    <a:pt x="37635" y="19734"/>
                  </a:cubicBezTo>
                  <a:cubicBezTo>
                    <a:pt x="40394" y="18338"/>
                    <a:pt x="44532" y="16943"/>
                    <a:pt x="47290" y="15548"/>
                  </a:cubicBezTo>
                  <a:cubicBezTo>
                    <a:pt x="48669" y="12757"/>
                    <a:pt x="53004" y="0"/>
                    <a:pt x="58522" y="0"/>
                  </a:cubicBezTo>
                  <a:cubicBezTo>
                    <a:pt x="61280" y="0"/>
                    <a:pt x="61280" y="0"/>
                    <a:pt x="61280" y="0"/>
                  </a:cubicBezTo>
                  <a:cubicBezTo>
                    <a:pt x="68177" y="0"/>
                    <a:pt x="71133" y="11362"/>
                    <a:pt x="72512" y="15548"/>
                  </a:cubicBezTo>
                  <a:cubicBezTo>
                    <a:pt x="75270" y="16943"/>
                    <a:pt x="79408" y="18338"/>
                    <a:pt x="82167" y="19734"/>
                  </a:cubicBezTo>
                  <a:cubicBezTo>
                    <a:pt x="84926" y="18338"/>
                    <a:pt x="96157" y="11362"/>
                    <a:pt x="100295" y="15548"/>
                  </a:cubicBezTo>
                  <a:cubicBezTo>
                    <a:pt x="103054" y="18338"/>
                    <a:pt x="103054" y="18338"/>
                    <a:pt x="103054" y="18338"/>
                  </a:cubicBezTo>
                  <a:cubicBezTo>
                    <a:pt x="108571" y="23920"/>
                    <a:pt x="101674" y="33887"/>
                    <a:pt x="98916" y="36677"/>
                  </a:cubicBezTo>
                  <a:cubicBezTo>
                    <a:pt x="101674" y="40863"/>
                    <a:pt x="103054" y="43654"/>
                    <a:pt x="103054" y="47840"/>
                  </a:cubicBezTo>
                  <a:cubicBezTo>
                    <a:pt x="104433" y="47840"/>
                    <a:pt x="119802" y="49435"/>
                    <a:pt x="119802" y="57807"/>
                  </a:cubicBezTo>
                  <a:cubicBezTo>
                    <a:pt x="119802" y="60598"/>
                    <a:pt x="119802" y="60598"/>
                    <a:pt x="119802" y="60598"/>
                  </a:cubicBezTo>
                  <a:cubicBezTo>
                    <a:pt x="119802" y="67574"/>
                    <a:pt x="107192" y="70365"/>
                    <a:pt x="103054" y="71960"/>
                  </a:cubicBezTo>
                  <a:close/>
                  <a:moveTo>
                    <a:pt x="59901" y="25315"/>
                  </a:moveTo>
                  <a:lnTo>
                    <a:pt x="59901" y="25315"/>
                  </a:lnTo>
                  <a:cubicBezTo>
                    <a:pt x="41773" y="25315"/>
                    <a:pt x="26403" y="40863"/>
                    <a:pt x="26403" y="59202"/>
                  </a:cubicBezTo>
                  <a:cubicBezTo>
                    <a:pt x="26403" y="78936"/>
                    <a:pt x="41773" y="93089"/>
                    <a:pt x="59901" y="93089"/>
                  </a:cubicBezTo>
                  <a:cubicBezTo>
                    <a:pt x="78029" y="93089"/>
                    <a:pt x="93399" y="78936"/>
                    <a:pt x="93399" y="59202"/>
                  </a:cubicBezTo>
                  <a:cubicBezTo>
                    <a:pt x="93399" y="40863"/>
                    <a:pt x="78029" y="25315"/>
                    <a:pt x="59901" y="25315"/>
                  </a:cubicBezTo>
                  <a:close/>
                  <a:moveTo>
                    <a:pt x="59901" y="81727"/>
                  </a:moveTo>
                  <a:lnTo>
                    <a:pt x="59901" y="81727"/>
                  </a:lnTo>
                  <a:cubicBezTo>
                    <a:pt x="47290" y="81727"/>
                    <a:pt x="37635" y="71960"/>
                    <a:pt x="37635" y="59202"/>
                  </a:cubicBezTo>
                  <a:cubicBezTo>
                    <a:pt x="37635" y="46445"/>
                    <a:pt x="47290" y="36677"/>
                    <a:pt x="59901" y="36677"/>
                  </a:cubicBezTo>
                  <a:cubicBezTo>
                    <a:pt x="72512" y="36677"/>
                    <a:pt x="82167" y="46445"/>
                    <a:pt x="82167" y="59202"/>
                  </a:cubicBezTo>
                  <a:cubicBezTo>
                    <a:pt x="82167" y="71960"/>
                    <a:pt x="72512" y="81727"/>
                    <a:pt x="59901" y="81727"/>
                  </a:cubicBezTo>
                  <a:close/>
                  <a:moveTo>
                    <a:pt x="59901" y="47840"/>
                  </a:moveTo>
                  <a:lnTo>
                    <a:pt x="59901" y="47840"/>
                  </a:lnTo>
                  <a:cubicBezTo>
                    <a:pt x="54384" y="47840"/>
                    <a:pt x="48669" y="53621"/>
                    <a:pt x="48669" y="59202"/>
                  </a:cubicBezTo>
                  <a:cubicBezTo>
                    <a:pt x="48669" y="66179"/>
                    <a:pt x="54384" y="70365"/>
                    <a:pt x="59901" y="70365"/>
                  </a:cubicBezTo>
                  <a:cubicBezTo>
                    <a:pt x="65418" y="70365"/>
                    <a:pt x="71133" y="66179"/>
                    <a:pt x="71133" y="59202"/>
                  </a:cubicBezTo>
                  <a:cubicBezTo>
                    <a:pt x="71133" y="53621"/>
                    <a:pt x="65418" y="47840"/>
                    <a:pt x="59901" y="4784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Rectangle 21"/>
            <p:cNvSpPr/>
            <p:nvPr/>
          </p:nvSpPr>
          <p:spPr>
            <a:xfrm>
              <a:off x="5685480" y="490788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grpSp>
        <p:nvGrpSpPr>
          <p:cNvPr id="1238" name="Group 26"/>
          <p:cNvGrpSpPr/>
          <p:nvPr/>
        </p:nvGrpSpPr>
        <p:grpSpPr>
          <a:xfrm>
            <a:off x="7263360" y="4031280"/>
            <a:ext cx="1753200" cy="1753560"/>
            <a:chOff x="7263360" y="4031280"/>
            <a:chExt cx="1753200" cy="1753560"/>
          </a:xfrm>
        </p:grpSpPr>
        <p:sp>
          <p:nvSpPr>
            <p:cNvPr id="1239" name="Rounded Rectangle 12"/>
            <p:cNvSpPr/>
            <p:nvPr/>
          </p:nvSpPr>
          <p:spPr>
            <a:xfrm rot="2700000">
              <a:off x="7520040" y="4287960"/>
              <a:ext cx="1239840" cy="1239840"/>
            </a:xfrm>
            <a:prstGeom prst="roundRect">
              <a:avLst>
                <a:gd name="adj" fmla="val 18037"/>
              </a:avLst>
            </a:prstGeom>
            <a:solidFill>
              <a:srgbClr val="f8f8f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0" name="Shape 4951"/>
            <p:cNvSpPr/>
            <p:nvPr/>
          </p:nvSpPr>
          <p:spPr>
            <a:xfrm>
              <a:off x="7964280" y="4527000"/>
              <a:ext cx="359280" cy="340920"/>
            </a:xfrm>
            <a:custGeom>
              <a:avLst/>
              <a:gdLst>
                <a:gd name="textAreaLeft" fmla="*/ 0 w 359280"/>
                <a:gd name="textAreaRight" fmla="*/ 359640 w 359280"/>
                <a:gd name="textAreaTop" fmla="*/ 0 h 340920"/>
                <a:gd name="textAreaBottom" fmla="*/ 341280 h 340920"/>
              </a:gdLst>
              <a:ahLst/>
              <a:rect l="textAreaLeft" t="textAreaTop" r="textAreaRight" b="textAreaBottom"/>
              <a:pathLst>
                <a:path w="120000" h="120000">
                  <a:moveTo>
                    <a:pt x="119800" y="63664"/>
                  </a:moveTo>
                  <a:lnTo>
                    <a:pt x="119800" y="63664"/>
                  </a:lnTo>
                  <a:cubicBezTo>
                    <a:pt x="119800" y="66596"/>
                    <a:pt x="118405" y="69528"/>
                    <a:pt x="114219" y="69528"/>
                  </a:cubicBezTo>
                  <a:cubicBezTo>
                    <a:pt x="112823" y="69528"/>
                    <a:pt x="111428" y="68062"/>
                    <a:pt x="111428" y="68062"/>
                  </a:cubicBezTo>
                  <a:cubicBezTo>
                    <a:pt x="60598" y="14869"/>
                    <a:pt x="60598" y="14869"/>
                    <a:pt x="60598" y="14869"/>
                  </a:cubicBezTo>
                  <a:cubicBezTo>
                    <a:pt x="9966" y="68062"/>
                    <a:pt x="9966" y="68062"/>
                    <a:pt x="9966" y="68062"/>
                  </a:cubicBezTo>
                  <a:cubicBezTo>
                    <a:pt x="8571" y="68062"/>
                    <a:pt x="7176" y="69528"/>
                    <a:pt x="5780" y="69528"/>
                  </a:cubicBezTo>
                  <a:cubicBezTo>
                    <a:pt x="2990" y="69528"/>
                    <a:pt x="0" y="66596"/>
                    <a:pt x="0" y="63664"/>
                  </a:cubicBezTo>
                  <a:cubicBezTo>
                    <a:pt x="0" y="62198"/>
                    <a:pt x="0" y="60523"/>
                    <a:pt x="1395" y="59057"/>
                  </a:cubicBezTo>
                  <a:cubicBezTo>
                    <a:pt x="56411" y="1465"/>
                    <a:pt x="56411" y="1465"/>
                    <a:pt x="56411" y="1465"/>
                  </a:cubicBezTo>
                  <a:cubicBezTo>
                    <a:pt x="57807" y="0"/>
                    <a:pt x="59202" y="0"/>
                    <a:pt x="60598" y="0"/>
                  </a:cubicBezTo>
                  <a:cubicBezTo>
                    <a:pt x="61993" y="0"/>
                    <a:pt x="63388" y="1465"/>
                    <a:pt x="64784" y="1465"/>
                  </a:cubicBezTo>
                  <a:cubicBezTo>
                    <a:pt x="85913" y="25130"/>
                    <a:pt x="85913" y="25130"/>
                    <a:pt x="85913" y="25130"/>
                  </a:cubicBezTo>
                  <a:cubicBezTo>
                    <a:pt x="85913" y="19267"/>
                    <a:pt x="85913" y="19267"/>
                    <a:pt x="85913" y="19267"/>
                  </a:cubicBezTo>
                  <a:cubicBezTo>
                    <a:pt x="85913" y="16335"/>
                    <a:pt x="88903" y="13193"/>
                    <a:pt x="91694" y="13193"/>
                  </a:cubicBezTo>
                  <a:cubicBezTo>
                    <a:pt x="95880" y="13193"/>
                    <a:pt x="97275" y="16335"/>
                    <a:pt x="97275" y="19267"/>
                  </a:cubicBezTo>
                  <a:cubicBezTo>
                    <a:pt x="97275" y="36858"/>
                    <a:pt x="97275" y="36858"/>
                    <a:pt x="97275" y="36858"/>
                  </a:cubicBezTo>
                  <a:cubicBezTo>
                    <a:pt x="118405" y="59057"/>
                    <a:pt x="118405" y="59057"/>
                    <a:pt x="118405" y="59057"/>
                  </a:cubicBezTo>
                  <a:cubicBezTo>
                    <a:pt x="119800" y="60523"/>
                    <a:pt x="119800" y="62198"/>
                    <a:pt x="119800" y="63664"/>
                  </a:cubicBezTo>
                  <a:close/>
                  <a:moveTo>
                    <a:pt x="108438" y="72460"/>
                  </a:moveTo>
                  <a:lnTo>
                    <a:pt x="108438" y="72460"/>
                  </a:lnTo>
                  <a:cubicBezTo>
                    <a:pt x="108438" y="90261"/>
                    <a:pt x="108438" y="90261"/>
                    <a:pt x="108438" y="90261"/>
                  </a:cubicBezTo>
                  <a:cubicBezTo>
                    <a:pt x="108438" y="99057"/>
                    <a:pt x="108438" y="99057"/>
                    <a:pt x="108438" y="99057"/>
                  </a:cubicBezTo>
                  <a:cubicBezTo>
                    <a:pt x="108438" y="113926"/>
                    <a:pt x="108438" y="113926"/>
                    <a:pt x="108438" y="113926"/>
                  </a:cubicBezTo>
                  <a:cubicBezTo>
                    <a:pt x="108438" y="118324"/>
                    <a:pt x="107043" y="119790"/>
                    <a:pt x="102857" y="119790"/>
                  </a:cubicBezTo>
                  <a:cubicBezTo>
                    <a:pt x="91694" y="119790"/>
                    <a:pt x="91694" y="119790"/>
                    <a:pt x="91694" y="119790"/>
                  </a:cubicBezTo>
                  <a:cubicBezTo>
                    <a:pt x="91694" y="72460"/>
                    <a:pt x="91694" y="72460"/>
                    <a:pt x="91694" y="72460"/>
                  </a:cubicBezTo>
                  <a:cubicBezTo>
                    <a:pt x="69169" y="72460"/>
                    <a:pt x="69169" y="72460"/>
                    <a:pt x="69169" y="72460"/>
                  </a:cubicBezTo>
                  <a:cubicBezTo>
                    <a:pt x="69169" y="119790"/>
                    <a:pt x="69169" y="119790"/>
                    <a:pt x="69169" y="119790"/>
                  </a:cubicBezTo>
                  <a:cubicBezTo>
                    <a:pt x="16943" y="119790"/>
                    <a:pt x="16943" y="119790"/>
                    <a:pt x="16943" y="119790"/>
                  </a:cubicBezTo>
                  <a:cubicBezTo>
                    <a:pt x="14152" y="119790"/>
                    <a:pt x="11362" y="118324"/>
                    <a:pt x="11362" y="113926"/>
                  </a:cubicBezTo>
                  <a:cubicBezTo>
                    <a:pt x="11362" y="99057"/>
                    <a:pt x="11362" y="99057"/>
                    <a:pt x="11362" y="99057"/>
                  </a:cubicBezTo>
                  <a:cubicBezTo>
                    <a:pt x="11362" y="90261"/>
                    <a:pt x="11362" y="90261"/>
                    <a:pt x="11362" y="90261"/>
                  </a:cubicBezTo>
                  <a:cubicBezTo>
                    <a:pt x="11362" y="72460"/>
                    <a:pt x="11362" y="72460"/>
                    <a:pt x="11362" y="72460"/>
                  </a:cubicBezTo>
                  <a:cubicBezTo>
                    <a:pt x="60598" y="22198"/>
                    <a:pt x="60598" y="22198"/>
                    <a:pt x="60598" y="22198"/>
                  </a:cubicBezTo>
                  <a:lnTo>
                    <a:pt x="108438" y="72460"/>
                  </a:lnTo>
                  <a:close/>
                  <a:moveTo>
                    <a:pt x="50830" y="72460"/>
                  </a:moveTo>
                  <a:lnTo>
                    <a:pt x="50830" y="72460"/>
                  </a:lnTo>
                  <a:cubicBezTo>
                    <a:pt x="28305" y="72460"/>
                    <a:pt x="28305" y="72460"/>
                    <a:pt x="28305" y="72460"/>
                  </a:cubicBezTo>
                  <a:cubicBezTo>
                    <a:pt x="28305" y="96125"/>
                    <a:pt x="28305" y="96125"/>
                    <a:pt x="28305" y="96125"/>
                  </a:cubicBezTo>
                  <a:cubicBezTo>
                    <a:pt x="50830" y="96125"/>
                    <a:pt x="50830" y="96125"/>
                    <a:pt x="50830" y="96125"/>
                  </a:cubicBezTo>
                  <a:lnTo>
                    <a:pt x="50830" y="72460"/>
                  </a:ln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Rectangle 22"/>
            <p:cNvSpPr/>
            <p:nvPr/>
          </p:nvSpPr>
          <p:spPr>
            <a:xfrm>
              <a:off x="7627320" y="490788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grpSp>
        <p:nvGrpSpPr>
          <p:cNvPr id="1242" name="Group 27"/>
          <p:cNvGrpSpPr/>
          <p:nvPr/>
        </p:nvGrpSpPr>
        <p:grpSpPr>
          <a:xfrm>
            <a:off x="9203400" y="4008960"/>
            <a:ext cx="1753200" cy="1753560"/>
            <a:chOff x="9203400" y="4008960"/>
            <a:chExt cx="1753200" cy="1753560"/>
          </a:xfrm>
        </p:grpSpPr>
        <p:sp>
          <p:nvSpPr>
            <p:cNvPr id="1243" name="Rounded Rectangle 13"/>
            <p:cNvSpPr/>
            <p:nvPr/>
          </p:nvSpPr>
          <p:spPr>
            <a:xfrm rot="2700000">
              <a:off x="9460080" y="4265640"/>
              <a:ext cx="1239840" cy="1239840"/>
            </a:xfrm>
            <a:prstGeom prst="roundRect">
              <a:avLst>
                <a:gd name="adj" fmla="val 18037"/>
              </a:avLst>
            </a:prstGeom>
            <a:solidFill>
              <a:srgbClr val="f8f8f8"/>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4" name="Shape 4903"/>
            <p:cNvSpPr/>
            <p:nvPr/>
          </p:nvSpPr>
          <p:spPr>
            <a:xfrm>
              <a:off x="9893520" y="4527360"/>
              <a:ext cx="372600" cy="326520"/>
            </a:xfrm>
            <a:custGeom>
              <a:avLst/>
              <a:gdLst>
                <a:gd name="textAreaLeft" fmla="*/ 0 w 372600"/>
                <a:gd name="textAreaRight" fmla="*/ 372960 w 372600"/>
                <a:gd name="textAreaTop" fmla="*/ 0 h 326520"/>
                <a:gd name="textAreaBottom" fmla="*/ 326880 h 326520"/>
              </a:gdLst>
              <a:ahLst/>
              <a:rect l="textAreaLeft" t="textAreaTop" r="textAreaRight" b="textAreaBottom"/>
              <a:pathLst>
                <a:path w="120000" h="120000">
                  <a:moveTo>
                    <a:pt x="117009" y="65310"/>
                  </a:moveTo>
                  <a:lnTo>
                    <a:pt x="117009" y="65310"/>
                  </a:lnTo>
                  <a:cubicBezTo>
                    <a:pt x="61993" y="91073"/>
                    <a:pt x="61993" y="91073"/>
                    <a:pt x="61993" y="91073"/>
                  </a:cubicBezTo>
                  <a:cubicBezTo>
                    <a:pt x="61993" y="92655"/>
                    <a:pt x="60598" y="92655"/>
                    <a:pt x="60598" y="92655"/>
                  </a:cubicBezTo>
                  <a:cubicBezTo>
                    <a:pt x="59202" y="92655"/>
                    <a:pt x="59202" y="92655"/>
                    <a:pt x="57807" y="91073"/>
                  </a:cubicBezTo>
                  <a:cubicBezTo>
                    <a:pt x="2990" y="65310"/>
                    <a:pt x="2990" y="65310"/>
                    <a:pt x="2990" y="65310"/>
                  </a:cubicBezTo>
                  <a:cubicBezTo>
                    <a:pt x="1395" y="65310"/>
                    <a:pt x="0" y="62146"/>
                    <a:pt x="0" y="60564"/>
                  </a:cubicBezTo>
                  <a:cubicBezTo>
                    <a:pt x="0" y="55819"/>
                    <a:pt x="2990" y="54237"/>
                    <a:pt x="5780" y="54237"/>
                  </a:cubicBezTo>
                  <a:cubicBezTo>
                    <a:pt x="7176" y="54237"/>
                    <a:pt x="7176" y="54237"/>
                    <a:pt x="8571" y="54237"/>
                  </a:cubicBezTo>
                  <a:cubicBezTo>
                    <a:pt x="60598" y="78192"/>
                    <a:pt x="60598" y="78192"/>
                    <a:pt x="60598" y="78192"/>
                  </a:cubicBezTo>
                  <a:cubicBezTo>
                    <a:pt x="112823" y="54237"/>
                    <a:pt x="112823" y="54237"/>
                    <a:pt x="112823" y="54237"/>
                  </a:cubicBezTo>
                  <a:lnTo>
                    <a:pt x="114219" y="54237"/>
                  </a:lnTo>
                  <a:cubicBezTo>
                    <a:pt x="118405" y="54237"/>
                    <a:pt x="119800" y="55819"/>
                    <a:pt x="119800" y="60564"/>
                  </a:cubicBezTo>
                  <a:cubicBezTo>
                    <a:pt x="119800" y="62146"/>
                    <a:pt x="118405" y="65310"/>
                    <a:pt x="117009" y="65310"/>
                  </a:cubicBezTo>
                  <a:close/>
                  <a:moveTo>
                    <a:pt x="117009" y="38192"/>
                  </a:moveTo>
                  <a:lnTo>
                    <a:pt x="117009" y="38192"/>
                  </a:lnTo>
                  <a:cubicBezTo>
                    <a:pt x="61993" y="63728"/>
                    <a:pt x="61993" y="63728"/>
                    <a:pt x="61993" y="63728"/>
                  </a:cubicBezTo>
                  <a:lnTo>
                    <a:pt x="60598" y="63728"/>
                  </a:lnTo>
                  <a:cubicBezTo>
                    <a:pt x="59202" y="63728"/>
                    <a:pt x="59202" y="63728"/>
                    <a:pt x="57807" y="63728"/>
                  </a:cubicBezTo>
                  <a:cubicBezTo>
                    <a:pt x="2990" y="38192"/>
                    <a:pt x="2990" y="38192"/>
                    <a:pt x="2990" y="38192"/>
                  </a:cubicBezTo>
                  <a:cubicBezTo>
                    <a:pt x="1395" y="36610"/>
                    <a:pt x="0" y="35028"/>
                    <a:pt x="0" y="31864"/>
                  </a:cubicBezTo>
                  <a:cubicBezTo>
                    <a:pt x="0" y="30282"/>
                    <a:pt x="1395" y="27118"/>
                    <a:pt x="2990" y="27118"/>
                  </a:cubicBezTo>
                  <a:cubicBezTo>
                    <a:pt x="57807" y="1581"/>
                    <a:pt x="57807" y="1581"/>
                    <a:pt x="57807" y="1581"/>
                  </a:cubicBezTo>
                  <a:cubicBezTo>
                    <a:pt x="59202" y="0"/>
                    <a:pt x="59202" y="0"/>
                    <a:pt x="60598" y="0"/>
                  </a:cubicBezTo>
                  <a:cubicBezTo>
                    <a:pt x="60598" y="0"/>
                    <a:pt x="61993" y="0"/>
                    <a:pt x="61993" y="1581"/>
                  </a:cubicBezTo>
                  <a:cubicBezTo>
                    <a:pt x="117009" y="27118"/>
                    <a:pt x="117009" y="27118"/>
                    <a:pt x="117009" y="27118"/>
                  </a:cubicBezTo>
                  <a:cubicBezTo>
                    <a:pt x="118405" y="27118"/>
                    <a:pt x="119800" y="30282"/>
                    <a:pt x="119800" y="31864"/>
                  </a:cubicBezTo>
                  <a:cubicBezTo>
                    <a:pt x="119800" y="35028"/>
                    <a:pt x="118405" y="36610"/>
                    <a:pt x="117009" y="38192"/>
                  </a:cubicBezTo>
                  <a:close/>
                  <a:moveTo>
                    <a:pt x="5780" y="81355"/>
                  </a:moveTo>
                  <a:lnTo>
                    <a:pt x="5780" y="81355"/>
                  </a:lnTo>
                  <a:cubicBezTo>
                    <a:pt x="7176" y="81355"/>
                    <a:pt x="7176" y="81355"/>
                    <a:pt x="8571" y="81355"/>
                  </a:cubicBezTo>
                  <a:cubicBezTo>
                    <a:pt x="60598" y="106892"/>
                    <a:pt x="60598" y="106892"/>
                    <a:pt x="60598" y="106892"/>
                  </a:cubicBezTo>
                  <a:cubicBezTo>
                    <a:pt x="112823" y="81355"/>
                    <a:pt x="112823" y="81355"/>
                    <a:pt x="112823" y="81355"/>
                  </a:cubicBezTo>
                  <a:lnTo>
                    <a:pt x="114219" y="81355"/>
                  </a:lnTo>
                  <a:cubicBezTo>
                    <a:pt x="118405" y="81355"/>
                    <a:pt x="119800" y="84519"/>
                    <a:pt x="119800" y="87683"/>
                  </a:cubicBezTo>
                  <a:cubicBezTo>
                    <a:pt x="119800" y="91073"/>
                    <a:pt x="118405" y="92655"/>
                    <a:pt x="117009" y="94237"/>
                  </a:cubicBezTo>
                  <a:cubicBezTo>
                    <a:pt x="61993" y="119774"/>
                    <a:pt x="61993" y="119774"/>
                    <a:pt x="61993" y="119774"/>
                  </a:cubicBezTo>
                  <a:lnTo>
                    <a:pt x="60598" y="119774"/>
                  </a:lnTo>
                  <a:cubicBezTo>
                    <a:pt x="59202" y="119774"/>
                    <a:pt x="59202" y="119774"/>
                    <a:pt x="57807" y="119774"/>
                  </a:cubicBezTo>
                  <a:cubicBezTo>
                    <a:pt x="2990" y="94237"/>
                    <a:pt x="2990" y="94237"/>
                    <a:pt x="2990" y="94237"/>
                  </a:cubicBezTo>
                  <a:cubicBezTo>
                    <a:pt x="1395" y="92655"/>
                    <a:pt x="0" y="91073"/>
                    <a:pt x="0" y="87683"/>
                  </a:cubicBezTo>
                  <a:cubicBezTo>
                    <a:pt x="0" y="84519"/>
                    <a:pt x="2990" y="81355"/>
                    <a:pt x="5780" y="81355"/>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Rectangle 23"/>
            <p:cNvSpPr/>
            <p:nvPr/>
          </p:nvSpPr>
          <p:spPr>
            <a:xfrm>
              <a:off x="9567360" y="490824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grpSp>
      <p:pic>
        <p:nvPicPr>
          <p:cNvPr id="1246" name="" descr=""/>
          <p:cNvPicPr/>
          <p:nvPr/>
        </p:nvPicPr>
        <p:blipFill>
          <a:blip r:embed="rId1"/>
          <a:stretch/>
        </p:blipFill>
        <p:spPr>
          <a:xfrm>
            <a:off x="-360" y="0"/>
            <a:ext cx="12192120" cy="302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3"/>
          <p:cNvSpPr/>
          <p:nvPr/>
        </p:nvSpPr>
        <p:spPr>
          <a:xfrm>
            <a:off x="0" y="0"/>
            <a:ext cx="12192120" cy="6858000"/>
          </a:xfrm>
          <a:prstGeom prst="rect">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8" name="Rectangle 4"/>
          <p:cNvSpPr/>
          <p:nvPr/>
        </p:nvSpPr>
        <p:spPr>
          <a:xfrm>
            <a:off x="2673360" y="2736720"/>
            <a:ext cx="6843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Kelson Sans"/>
                <a:ea typeface="Lato"/>
              </a:rPr>
              <a:t>“</a:t>
            </a:r>
            <a:r>
              <a:rPr b="0" lang="en-US" sz="2800" spc="-1" strike="noStrike">
                <a:solidFill>
                  <a:srgbClr val="ffffff"/>
                </a:solidFill>
                <a:latin typeface="Kelson Sans"/>
                <a:ea typeface="Lato"/>
              </a:rPr>
              <a:t>I am blessed to have so many great things in my life - family, friends and God. All will be in my thoughts daily.</a:t>
            </a:r>
            <a:r>
              <a:rPr b="0" lang="id-ID" sz="2800" spc="-1" strike="noStrike">
                <a:solidFill>
                  <a:srgbClr val="ffffff"/>
                </a:solidFill>
                <a:latin typeface="Kelson Sans"/>
                <a:ea typeface="Lato"/>
              </a:rPr>
              <a:t>”</a:t>
            </a:r>
            <a:endParaRPr b="0" lang="en-US" sz="2800" spc="-1" strike="noStrike">
              <a:solidFill>
                <a:srgbClr val="000000"/>
              </a:solidFill>
              <a:latin typeface="Calibri"/>
            </a:endParaRPr>
          </a:p>
        </p:txBody>
      </p:sp>
      <p:pic>
        <p:nvPicPr>
          <p:cNvPr id="1249"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9"/>
          <p:cNvSpPr/>
          <p:nvPr/>
        </p:nvSpPr>
        <p:spPr>
          <a:xfrm>
            <a:off x="5931000" y="1955880"/>
            <a:ext cx="2844720" cy="3797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Lato"/>
                <a:ea typeface="Lato"/>
              </a:rPr>
              <a:t>“</a:t>
            </a:r>
            <a:r>
              <a:rPr b="1" lang="id-ID" sz="1800" spc="-1" strike="noStrike">
                <a:solidFill>
                  <a:srgbClr val="ffffff"/>
                </a:solidFill>
                <a:latin typeface="Lato"/>
                <a:ea typeface="Lato"/>
              </a:rPr>
              <a:t>nibh aliquet, porttitor ligula justo libero vivamus porttitor dolor, conubia mollit. Sapien nam suspendisse, tincidunt eget ante tincidunt, eros in Lorem ipsum dolor”</a:t>
            </a:r>
            <a:endParaRPr b="0" lang="en-US" sz="1800" spc="-1" strike="noStrike">
              <a:solidFill>
                <a:srgbClr val="000000"/>
              </a:solidFill>
              <a:latin typeface="Calibri"/>
            </a:endParaRPr>
          </a:p>
        </p:txBody>
      </p:sp>
      <p:sp>
        <p:nvSpPr>
          <p:cNvPr id="1251" name="Subtitle 2"/>
          <p:cNvSpPr/>
          <p:nvPr/>
        </p:nvSpPr>
        <p:spPr>
          <a:xfrm>
            <a:off x="871560" y="2058840"/>
            <a:ext cx="3362400" cy="62388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181717"/>
                </a:solidFill>
                <a:latin typeface="Kelson Sans"/>
                <a:ea typeface="Lato"/>
              </a:rPr>
              <a:t>Victoria Pamella</a:t>
            </a:r>
            <a:endParaRPr b="0" lang="en-US" sz="3200" spc="-1" strike="noStrike">
              <a:solidFill>
                <a:srgbClr val="000000"/>
              </a:solidFill>
              <a:latin typeface="Calibri"/>
            </a:endParaRPr>
          </a:p>
        </p:txBody>
      </p:sp>
      <p:sp>
        <p:nvSpPr>
          <p:cNvPr id="1252" name="Rectangle 12"/>
          <p:cNvSpPr/>
          <p:nvPr/>
        </p:nvSpPr>
        <p:spPr>
          <a:xfrm>
            <a:off x="871560" y="3324240"/>
            <a:ext cx="414828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Lorem ipsum dolor sit amet, lacus nulla ac netus nibh aliquet, porttitor </a:t>
            </a:r>
            <a:endParaRPr b="0" lang="en-US" sz="900" spc="-1" strike="noStrike">
              <a:solidFill>
                <a:srgbClr val="000000"/>
              </a:solidFill>
              <a:latin typeface="Calibri"/>
            </a:endParaRPr>
          </a:p>
        </p:txBody>
      </p:sp>
      <p:grpSp>
        <p:nvGrpSpPr>
          <p:cNvPr id="1253" name="Group 25"/>
          <p:cNvGrpSpPr/>
          <p:nvPr/>
        </p:nvGrpSpPr>
        <p:grpSpPr>
          <a:xfrm>
            <a:off x="871560" y="4633920"/>
            <a:ext cx="4192560" cy="1220760"/>
            <a:chOff x="871560" y="4633920"/>
            <a:chExt cx="4192560" cy="1220760"/>
          </a:xfrm>
        </p:grpSpPr>
        <p:grpSp>
          <p:nvGrpSpPr>
            <p:cNvPr id="1254" name="Group 23"/>
            <p:cNvGrpSpPr/>
            <p:nvPr/>
          </p:nvGrpSpPr>
          <p:grpSpPr>
            <a:xfrm>
              <a:off x="871560" y="4633920"/>
              <a:ext cx="4192560" cy="378000"/>
              <a:chOff x="871560" y="4633920"/>
              <a:chExt cx="4192560" cy="378000"/>
            </a:xfrm>
          </p:grpSpPr>
          <p:grpSp>
            <p:nvGrpSpPr>
              <p:cNvPr id="1255" name="Group 15"/>
              <p:cNvGrpSpPr/>
              <p:nvPr/>
            </p:nvGrpSpPr>
            <p:grpSpPr>
              <a:xfrm>
                <a:off x="961200" y="4948560"/>
                <a:ext cx="4101840" cy="63360"/>
                <a:chOff x="961200" y="4948560"/>
                <a:chExt cx="4101840" cy="63360"/>
              </a:xfrm>
            </p:grpSpPr>
            <p:sp>
              <p:nvSpPr>
                <p:cNvPr id="1256" name="Rounded Rectangle 13"/>
                <p:cNvSpPr/>
                <p:nvPr/>
              </p:nvSpPr>
              <p:spPr>
                <a:xfrm>
                  <a:off x="961200" y="4948560"/>
                  <a:ext cx="4101840" cy="6336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7" name="Rounded Rectangle 14"/>
                <p:cNvSpPr/>
                <p:nvPr/>
              </p:nvSpPr>
              <p:spPr>
                <a:xfrm>
                  <a:off x="961200" y="4948560"/>
                  <a:ext cx="3628800" cy="63360"/>
                </a:xfrm>
                <a:prstGeom prst="roundRect">
                  <a:avLst>
                    <a:gd name="adj" fmla="val 16667"/>
                  </a:avLst>
                </a:prstGeom>
                <a:solidFill>
                  <a:srgbClr val="0d0d0d"/>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8" name="Rectangle 19"/>
              <p:cNvSpPr/>
              <p:nvPr/>
            </p:nvSpPr>
            <p:spPr>
              <a:xfrm>
                <a:off x="871560" y="4633920"/>
                <a:ext cx="74628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Explore</a:t>
                </a:r>
                <a:endParaRPr b="0" lang="en-US" sz="1100" spc="-1" strike="noStrike">
                  <a:solidFill>
                    <a:srgbClr val="000000"/>
                  </a:solidFill>
                  <a:latin typeface="Calibri"/>
                </a:endParaRPr>
              </a:p>
            </p:txBody>
          </p:sp>
          <p:sp>
            <p:nvSpPr>
              <p:cNvPr id="1259" name="Rectangle 21"/>
              <p:cNvSpPr/>
              <p:nvPr/>
            </p:nvSpPr>
            <p:spPr>
              <a:xfrm>
                <a:off x="4589640" y="4642920"/>
                <a:ext cx="4744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93%</a:t>
                </a:r>
                <a:endParaRPr b="0" lang="en-US" sz="1100" spc="-1" strike="noStrike">
                  <a:solidFill>
                    <a:srgbClr val="000000"/>
                  </a:solidFill>
                  <a:latin typeface="Calibri"/>
                </a:endParaRPr>
              </a:p>
            </p:txBody>
          </p:sp>
        </p:grpSp>
        <p:grpSp>
          <p:nvGrpSpPr>
            <p:cNvPr id="1260" name="Group 24"/>
            <p:cNvGrpSpPr/>
            <p:nvPr/>
          </p:nvGrpSpPr>
          <p:grpSpPr>
            <a:xfrm>
              <a:off x="871560" y="5230440"/>
              <a:ext cx="4192560" cy="624240"/>
              <a:chOff x="871560" y="5230440"/>
              <a:chExt cx="4192560" cy="624240"/>
            </a:xfrm>
          </p:grpSpPr>
          <p:grpSp>
            <p:nvGrpSpPr>
              <p:cNvPr id="1261" name="Group 16"/>
              <p:cNvGrpSpPr/>
              <p:nvPr/>
            </p:nvGrpSpPr>
            <p:grpSpPr>
              <a:xfrm>
                <a:off x="961200" y="5548320"/>
                <a:ext cx="4101840" cy="63360"/>
                <a:chOff x="961200" y="5548320"/>
                <a:chExt cx="4101840" cy="63360"/>
              </a:xfrm>
            </p:grpSpPr>
            <p:sp>
              <p:nvSpPr>
                <p:cNvPr id="1262" name="Rounded Rectangle 17"/>
                <p:cNvSpPr/>
                <p:nvPr/>
              </p:nvSpPr>
              <p:spPr>
                <a:xfrm>
                  <a:off x="961200" y="5548320"/>
                  <a:ext cx="4101840" cy="6336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3" name="Rounded Rectangle 18"/>
                <p:cNvSpPr/>
                <p:nvPr/>
              </p:nvSpPr>
              <p:spPr>
                <a:xfrm>
                  <a:off x="961200" y="5548320"/>
                  <a:ext cx="3578040" cy="63360"/>
                </a:xfrm>
                <a:prstGeom prst="roundRect">
                  <a:avLst>
                    <a:gd name="adj" fmla="val 16667"/>
                  </a:avLst>
                </a:prstGeom>
                <a:solidFill>
                  <a:srgbClr val="0d0d0d"/>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4" name="Rectangle 20"/>
              <p:cNvSpPr/>
              <p:nvPr/>
            </p:nvSpPr>
            <p:spPr>
              <a:xfrm>
                <a:off x="871560" y="5258880"/>
                <a:ext cx="10396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Photography</a:t>
                </a:r>
                <a:endParaRPr b="0" lang="en-US" sz="1100" spc="-1" strike="noStrike">
                  <a:solidFill>
                    <a:srgbClr val="000000"/>
                  </a:solidFill>
                  <a:latin typeface="Calibri"/>
                </a:endParaRPr>
              </a:p>
            </p:txBody>
          </p:sp>
          <p:sp>
            <p:nvSpPr>
              <p:cNvPr id="1265" name="Rectangle 22"/>
              <p:cNvSpPr/>
              <p:nvPr/>
            </p:nvSpPr>
            <p:spPr>
              <a:xfrm>
                <a:off x="4589640" y="5230440"/>
                <a:ext cx="4744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90%</a:t>
                </a:r>
                <a:endParaRPr b="0" lang="en-US" sz="1100" spc="-1" strike="noStrike">
                  <a:solidFill>
                    <a:srgbClr val="000000"/>
                  </a:solidFill>
                  <a:latin typeface="Calibri"/>
                </a:endParaRPr>
              </a:p>
            </p:txBody>
          </p:sp>
        </p:grpSp>
      </p:grpSp>
      <p:sp>
        <p:nvSpPr>
          <p:cNvPr id="1266" name="Subtitle 2"/>
          <p:cNvSpPr/>
          <p:nvPr/>
        </p:nvSpPr>
        <p:spPr>
          <a:xfrm>
            <a:off x="871560" y="2639880"/>
            <a:ext cx="1501920" cy="333360"/>
          </a:xfrm>
          <a:prstGeom prst="rect">
            <a:avLst/>
          </a:prstGeom>
          <a:noFill/>
          <a:ln w="0">
            <a:noFill/>
          </a:ln>
        </p:spPr>
        <p:style>
          <a:lnRef idx="0"/>
          <a:fillRef idx="0"/>
          <a:effectRef idx="0"/>
          <a:fontRef idx="minor"/>
        </p:style>
        <p:txBody>
          <a:bodyPr lIns="90000" rIns="90000" tIns="46800" bIns="46800" anchor="t">
            <a:normAutofit fontScale="87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181717"/>
                </a:solidFill>
                <a:latin typeface="Kelson Sans"/>
                <a:ea typeface="Lato"/>
              </a:rPr>
              <a:t>Adventure</a:t>
            </a:r>
            <a:endParaRPr b="0" lang="en-US" sz="2000" spc="-1" strike="noStrike">
              <a:solidFill>
                <a:srgbClr val="000000"/>
              </a:solidFill>
              <a:latin typeface="Calibri"/>
            </a:endParaRPr>
          </a:p>
        </p:txBody>
      </p:sp>
      <p:pic>
        <p:nvPicPr>
          <p:cNvPr id="1267" name="" descr=""/>
          <p:cNvPicPr/>
          <p:nvPr/>
        </p:nvPicPr>
        <p:blipFill>
          <a:blip r:embed="rId1"/>
          <a:stretch/>
        </p:blipFill>
        <p:spPr>
          <a:xfrm>
            <a:off x="8940600" y="0"/>
            <a:ext cx="32511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Subtitle 2"/>
          <p:cNvSpPr/>
          <p:nvPr/>
        </p:nvSpPr>
        <p:spPr>
          <a:xfrm>
            <a:off x="4437000" y="855720"/>
            <a:ext cx="3317760" cy="6253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81717"/>
                </a:solidFill>
                <a:latin typeface="Kelson Sans"/>
                <a:ea typeface="Lato"/>
              </a:rPr>
              <a:t>Our Team</a:t>
            </a:r>
            <a:endParaRPr b="0" lang="en-US" sz="3600" spc="-1" strike="noStrike">
              <a:solidFill>
                <a:srgbClr val="000000"/>
              </a:solidFill>
              <a:latin typeface="Calibri"/>
            </a:endParaRPr>
          </a:p>
        </p:txBody>
      </p:sp>
      <p:sp>
        <p:nvSpPr>
          <p:cNvPr id="1269" name="Rectangle 23"/>
          <p:cNvSpPr/>
          <p:nvPr/>
        </p:nvSpPr>
        <p:spPr>
          <a:xfrm>
            <a:off x="1444680" y="4997520"/>
            <a:ext cx="1542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Kelson Sans"/>
                <a:ea typeface="Lato"/>
              </a:rPr>
              <a:t>Hernandez</a:t>
            </a:r>
            <a:endParaRPr b="0" lang="en-US" sz="1600" spc="-1" strike="noStrike">
              <a:solidFill>
                <a:srgbClr val="000000"/>
              </a:solidFill>
              <a:latin typeface="Calibri"/>
            </a:endParaRPr>
          </a:p>
        </p:txBody>
      </p:sp>
      <p:sp>
        <p:nvSpPr>
          <p:cNvPr id="1270" name="Rectangle 24"/>
          <p:cNvSpPr/>
          <p:nvPr/>
        </p:nvSpPr>
        <p:spPr>
          <a:xfrm>
            <a:off x="4073400" y="5024520"/>
            <a:ext cx="1543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Kelson Sans"/>
                <a:ea typeface="Lato"/>
              </a:rPr>
              <a:t>Tom Jerry</a:t>
            </a:r>
            <a:endParaRPr b="0" lang="en-US" sz="1600" spc="-1" strike="noStrike">
              <a:solidFill>
                <a:srgbClr val="000000"/>
              </a:solidFill>
              <a:latin typeface="Calibri"/>
            </a:endParaRPr>
          </a:p>
        </p:txBody>
      </p:sp>
      <p:sp>
        <p:nvSpPr>
          <p:cNvPr id="1271" name="Rectangle 25"/>
          <p:cNvSpPr/>
          <p:nvPr/>
        </p:nvSpPr>
        <p:spPr>
          <a:xfrm>
            <a:off x="6715080" y="4997520"/>
            <a:ext cx="1542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Kelson Sans"/>
                <a:ea typeface="Lato"/>
              </a:rPr>
              <a:t>Victor Gal</a:t>
            </a:r>
            <a:endParaRPr b="0" lang="en-US" sz="1600" spc="-1" strike="noStrike">
              <a:solidFill>
                <a:srgbClr val="000000"/>
              </a:solidFill>
              <a:latin typeface="Calibri"/>
            </a:endParaRPr>
          </a:p>
        </p:txBody>
      </p:sp>
      <p:sp>
        <p:nvSpPr>
          <p:cNvPr id="1272" name="Rectangle 26"/>
          <p:cNvSpPr/>
          <p:nvPr/>
        </p:nvSpPr>
        <p:spPr>
          <a:xfrm>
            <a:off x="9358200" y="4997520"/>
            <a:ext cx="1544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Kelson Sans"/>
                <a:ea typeface="Lato"/>
              </a:rPr>
              <a:t>Luis Vindel</a:t>
            </a:r>
            <a:endParaRPr b="0" lang="en-US" sz="1600" spc="-1" strike="noStrike">
              <a:solidFill>
                <a:srgbClr val="000000"/>
              </a:solidFill>
              <a:latin typeface="Calibri"/>
            </a:endParaRPr>
          </a:p>
        </p:txBody>
      </p:sp>
      <p:sp>
        <p:nvSpPr>
          <p:cNvPr id="1273" name="Rectangle 27"/>
          <p:cNvSpPr/>
          <p:nvPr/>
        </p:nvSpPr>
        <p:spPr>
          <a:xfrm>
            <a:off x="1622520" y="5364000"/>
            <a:ext cx="1187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Kelson Sans"/>
              </a:rPr>
              <a:t>Photography</a:t>
            </a:r>
            <a:endParaRPr b="0" lang="en-US" sz="1100" spc="-1" strike="noStrike">
              <a:solidFill>
                <a:srgbClr val="000000"/>
              </a:solidFill>
              <a:latin typeface="Calibri"/>
            </a:endParaRPr>
          </a:p>
        </p:txBody>
      </p:sp>
      <p:sp>
        <p:nvSpPr>
          <p:cNvPr id="1274" name="Rectangle 28"/>
          <p:cNvSpPr/>
          <p:nvPr/>
        </p:nvSpPr>
        <p:spPr>
          <a:xfrm>
            <a:off x="4251240" y="5357880"/>
            <a:ext cx="118764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Kelson Sans"/>
                <a:ea typeface="Lato"/>
              </a:rPr>
              <a:t>Editor</a:t>
            </a:r>
            <a:endParaRPr b="0" lang="en-US" sz="1100" spc="-1" strike="noStrike">
              <a:solidFill>
                <a:srgbClr val="000000"/>
              </a:solidFill>
              <a:latin typeface="Calibri"/>
            </a:endParaRPr>
          </a:p>
        </p:txBody>
      </p:sp>
      <p:sp>
        <p:nvSpPr>
          <p:cNvPr id="1275" name="Rectangle 29"/>
          <p:cNvSpPr/>
          <p:nvPr/>
        </p:nvSpPr>
        <p:spPr>
          <a:xfrm>
            <a:off x="6889680" y="5357880"/>
            <a:ext cx="118764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Kelson Sans"/>
                <a:ea typeface="Lato"/>
              </a:rPr>
              <a:t>Explorer</a:t>
            </a:r>
            <a:endParaRPr b="0" lang="en-US" sz="1100" spc="-1" strike="noStrike">
              <a:solidFill>
                <a:srgbClr val="000000"/>
              </a:solidFill>
              <a:latin typeface="Calibri"/>
            </a:endParaRPr>
          </a:p>
        </p:txBody>
      </p:sp>
      <p:sp>
        <p:nvSpPr>
          <p:cNvPr id="1276" name="Rectangle 30"/>
          <p:cNvSpPr/>
          <p:nvPr/>
        </p:nvSpPr>
        <p:spPr>
          <a:xfrm>
            <a:off x="9491760" y="5357880"/>
            <a:ext cx="127296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Kelson Sans"/>
              </a:rPr>
              <a:t>Executive</a:t>
            </a:r>
            <a:endParaRPr b="0" lang="en-US" sz="1100" spc="-1" strike="noStrike">
              <a:solidFill>
                <a:srgbClr val="000000"/>
              </a:solidFill>
              <a:latin typeface="Calibri"/>
            </a:endParaRPr>
          </a:p>
        </p:txBody>
      </p:sp>
      <p:sp>
        <p:nvSpPr>
          <p:cNvPr id="1277" name="Rectangle 31"/>
          <p:cNvSpPr/>
          <p:nvPr/>
        </p:nvSpPr>
        <p:spPr>
          <a:xfrm>
            <a:off x="2470320" y="1481040"/>
            <a:ext cx="725148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Lorem ipsum dolor sit amet, lacus nulla ac netus nibh aliquet, porttitor </a:t>
            </a:r>
            <a:endParaRPr b="0" lang="en-US" sz="900" spc="-1" strike="noStrike">
              <a:solidFill>
                <a:srgbClr val="000000"/>
              </a:solidFill>
              <a:latin typeface="Calibri"/>
            </a:endParaRPr>
          </a:p>
        </p:txBody>
      </p:sp>
      <p:pic>
        <p:nvPicPr>
          <p:cNvPr id="1278" name="" descr=""/>
          <p:cNvPicPr/>
          <p:nvPr/>
        </p:nvPicPr>
        <p:blipFill>
          <a:blip r:embed="rId1"/>
          <a:stretch/>
        </p:blipFill>
        <p:spPr>
          <a:xfrm>
            <a:off x="1053720" y="2565000"/>
            <a:ext cx="2298600" cy="2298600"/>
          </a:xfrm>
          <a:prstGeom prst="rect">
            <a:avLst/>
          </a:prstGeom>
          <a:ln w="0">
            <a:noFill/>
          </a:ln>
        </p:spPr>
      </p:pic>
      <p:pic>
        <p:nvPicPr>
          <p:cNvPr id="1279" name="" descr=""/>
          <p:cNvPicPr/>
          <p:nvPr/>
        </p:nvPicPr>
        <p:blipFill>
          <a:blip r:embed="rId2"/>
          <a:stretch/>
        </p:blipFill>
        <p:spPr>
          <a:xfrm>
            <a:off x="3695400" y="2565000"/>
            <a:ext cx="2298600" cy="2298600"/>
          </a:xfrm>
          <a:prstGeom prst="rect">
            <a:avLst/>
          </a:prstGeom>
          <a:ln w="0">
            <a:noFill/>
          </a:ln>
        </p:spPr>
      </p:pic>
      <p:pic>
        <p:nvPicPr>
          <p:cNvPr id="1280" name="" descr=""/>
          <p:cNvPicPr/>
          <p:nvPr/>
        </p:nvPicPr>
        <p:blipFill>
          <a:blip r:embed="rId3"/>
          <a:stretch/>
        </p:blipFill>
        <p:spPr>
          <a:xfrm>
            <a:off x="6337080" y="2565000"/>
            <a:ext cx="2298600" cy="2298600"/>
          </a:xfrm>
          <a:prstGeom prst="rect">
            <a:avLst/>
          </a:prstGeom>
          <a:ln w="0">
            <a:noFill/>
          </a:ln>
        </p:spPr>
      </p:pic>
      <p:pic>
        <p:nvPicPr>
          <p:cNvPr id="1281" name="" descr=""/>
          <p:cNvPicPr/>
          <p:nvPr/>
        </p:nvPicPr>
        <p:blipFill>
          <a:blip r:embed="rId4"/>
          <a:stretch/>
        </p:blipFill>
        <p:spPr>
          <a:xfrm>
            <a:off x="8978760" y="2565000"/>
            <a:ext cx="2298960" cy="229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17"/>
          <p:cNvSpPr/>
          <p:nvPr/>
        </p:nvSpPr>
        <p:spPr>
          <a:xfrm>
            <a:off x="9360" y="0"/>
            <a:ext cx="12192120" cy="685800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3" name="Rectangle 11"/>
          <p:cNvSpPr/>
          <p:nvPr/>
        </p:nvSpPr>
        <p:spPr>
          <a:xfrm>
            <a:off x="1077840" y="5127480"/>
            <a:ext cx="228600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Kelson Sans"/>
                <a:ea typeface="Lato"/>
              </a:rPr>
              <a:t>Sarah Victor</a:t>
            </a:r>
            <a:endParaRPr b="0" lang="en-US" sz="2800" spc="-1" strike="noStrike">
              <a:solidFill>
                <a:srgbClr val="000000"/>
              </a:solidFill>
              <a:latin typeface="Calibri"/>
            </a:endParaRPr>
          </a:p>
        </p:txBody>
      </p:sp>
      <p:sp>
        <p:nvSpPr>
          <p:cNvPr id="1284" name="Rectangle 12"/>
          <p:cNvSpPr/>
          <p:nvPr/>
        </p:nvSpPr>
        <p:spPr>
          <a:xfrm>
            <a:off x="4943520" y="5122800"/>
            <a:ext cx="228600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Kelson Sans"/>
                <a:ea typeface="Lato"/>
              </a:rPr>
              <a:t>Pamella Jr</a:t>
            </a:r>
            <a:endParaRPr b="0" lang="en-US" sz="2800" spc="-1" strike="noStrike">
              <a:solidFill>
                <a:srgbClr val="000000"/>
              </a:solidFill>
              <a:latin typeface="Calibri"/>
            </a:endParaRPr>
          </a:p>
        </p:txBody>
      </p:sp>
      <p:sp>
        <p:nvSpPr>
          <p:cNvPr id="1285" name="Rectangle 13"/>
          <p:cNvSpPr/>
          <p:nvPr/>
        </p:nvSpPr>
        <p:spPr>
          <a:xfrm>
            <a:off x="9010800" y="5122800"/>
            <a:ext cx="228600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Kelson Sans"/>
                <a:ea typeface="Lato"/>
              </a:rPr>
              <a:t>Shinta selx</a:t>
            </a:r>
            <a:endParaRPr b="0" lang="en-US" sz="2800" spc="-1" strike="noStrike">
              <a:solidFill>
                <a:srgbClr val="000000"/>
              </a:solidFill>
              <a:latin typeface="Calibri"/>
            </a:endParaRPr>
          </a:p>
        </p:txBody>
      </p:sp>
      <p:sp>
        <p:nvSpPr>
          <p:cNvPr id="1286" name="Rectangle 14"/>
          <p:cNvSpPr/>
          <p:nvPr/>
        </p:nvSpPr>
        <p:spPr>
          <a:xfrm>
            <a:off x="1501920" y="5651640"/>
            <a:ext cx="1439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Kelson Sans"/>
                <a:ea typeface="Lato"/>
              </a:rPr>
              <a:t>Talent Model</a:t>
            </a:r>
            <a:endParaRPr b="0" lang="en-US" sz="1600" spc="-1" strike="noStrike">
              <a:solidFill>
                <a:srgbClr val="000000"/>
              </a:solidFill>
              <a:latin typeface="Calibri"/>
            </a:endParaRPr>
          </a:p>
        </p:txBody>
      </p:sp>
      <p:sp>
        <p:nvSpPr>
          <p:cNvPr id="1287" name="Rectangle 15"/>
          <p:cNvSpPr/>
          <p:nvPr/>
        </p:nvSpPr>
        <p:spPr>
          <a:xfrm>
            <a:off x="5452920" y="5654520"/>
            <a:ext cx="1285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Kelson Sans"/>
                <a:ea typeface="Lato"/>
              </a:rPr>
              <a:t>Talent Model</a:t>
            </a:r>
            <a:endParaRPr b="0" lang="en-US" sz="1600" spc="-1" strike="noStrike">
              <a:solidFill>
                <a:srgbClr val="000000"/>
              </a:solidFill>
              <a:latin typeface="Calibri"/>
            </a:endParaRPr>
          </a:p>
        </p:txBody>
      </p:sp>
      <p:sp>
        <p:nvSpPr>
          <p:cNvPr id="1288" name="Rectangle 16"/>
          <p:cNvSpPr/>
          <p:nvPr/>
        </p:nvSpPr>
        <p:spPr>
          <a:xfrm>
            <a:off x="9510840" y="5654520"/>
            <a:ext cx="1361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Kelson Sans"/>
                <a:ea typeface="Lato"/>
              </a:rPr>
              <a:t>Talent Model</a:t>
            </a:r>
            <a:endParaRPr b="0" lang="en-US" sz="1600" spc="-1" strike="noStrike">
              <a:solidFill>
                <a:srgbClr val="000000"/>
              </a:solidFill>
              <a:latin typeface="Calibri"/>
            </a:endParaRPr>
          </a:p>
        </p:txBody>
      </p:sp>
      <p:pic>
        <p:nvPicPr>
          <p:cNvPr id="1289" name="" descr=""/>
          <p:cNvPicPr/>
          <p:nvPr/>
        </p:nvPicPr>
        <p:blipFill>
          <a:blip r:embed="rId1"/>
          <a:stretch/>
        </p:blipFill>
        <p:spPr>
          <a:xfrm>
            <a:off x="-360" y="0"/>
            <a:ext cx="4057560" cy="6858000"/>
          </a:xfrm>
          <a:prstGeom prst="rect">
            <a:avLst/>
          </a:prstGeom>
          <a:ln w="0">
            <a:noFill/>
          </a:ln>
        </p:spPr>
      </p:pic>
      <p:pic>
        <p:nvPicPr>
          <p:cNvPr id="1290" name="" descr=""/>
          <p:cNvPicPr/>
          <p:nvPr/>
        </p:nvPicPr>
        <p:blipFill>
          <a:blip r:embed="rId2"/>
          <a:stretch/>
        </p:blipFill>
        <p:spPr>
          <a:xfrm>
            <a:off x="4057560" y="0"/>
            <a:ext cx="4057920" cy="6858000"/>
          </a:xfrm>
          <a:prstGeom prst="rect">
            <a:avLst/>
          </a:prstGeom>
          <a:ln w="0">
            <a:noFill/>
          </a:ln>
        </p:spPr>
      </p:pic>
      <p:pic>
        <p:nvPicPr>
          <p:cNvPr id="1291" name="" descr=""/>
          <p:cNvPicPr/>
          <p:nvPr/>
        </p:nvPicPr>
        <p:blipFill>
          <a:blip r:embed="rId3"/>
          <a:stretch/>
        </p:blipFill>
        <p:spPr>
          <a:xfrm>
            <a:off x="8115480" y="0"/>
            <a:ext cx="407664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5"/>
          <p:cNvSpPr/>
          <p:nvPr/>
        </p:nvSpPr>
        <p:spPr>
          <a:xfrm>
            <a:off x="1028880" y="4889520"/>
            <a:ext cx="2374560" cy="7873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3" name="Rectangle 6"/>
          <p:cNvSpPr/>
          <p:nvPr/>
        </p:nvSpPr>
        <p:spPr>
          <a:xfrm>
            <a:off x="3619440" y="4889520"/>
            <a:ext cx="2374920" cy="7873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4" name="Rectangle 7"/>
          <p:cNvSpPr/>
          <p:nvPr/>
        </p:nvSpPr>
        <p:spPr>
          <a:xfrm>
            <a:off x="6210360" y="4889520"/>
            <a:ext cx="2374920" cy="7873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5" name="Rectangle 8"/>
          <p:cNvSpPr/>
          <p:nvPr/>
        </p:nvSpPr>
        <p:spPr>
          <a:xfrm>
            <a:off x="8801280" y="4889520"/>
            <a:ext cx="2374560" cy="7873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6" name="Rectangle 21"/>
          <p:cNvSpPr/>
          <p:nvPr/>
        </p:nvSpPr>
        <p:spPr>
          <a:xfrm>
            <a:off x="1552680" y="5094360"/>
            <a:ext cx="132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Kelson Sans"/>
                <a:ea typeface="Lato"/>
              </a:rPr>
              <a:t>PROJECT 1</a:t>
            </a:r>
            <a:endParaRPr b="0" lang="en-US" sz="1400" spc="-1" strike="noStrike">
              <a:solidFill>
                <a:srgbClr val="000000"/>
              </a:solidFill>
              <a:latin typeface="Calibri"/>
            </a:endParaRPr>
          </a:p>
        </p:txBody>
      </p:sp>
      <p:sp>
        <p:nvSpPr>
          <p:cNvPr id="1297" name="Rectangle 23"/>
          <p:cNvSpPr/>
          <p:nvPr/>
        </p:nvSpPr>
        <p:spPr>
          <a:xfrm>
            <a:off x="4143240" y="5094360"/>
            <a:ext cx="1327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Kelson Sans"/>
                <a:ea typeface="Lato"/>
              </a:rPr>
              <a:t>PROJECT 2</a:t>
            </a:r>
            <a:endParaRPr b="0" lang="en-US" sz="1400" spc="-1" strike="noStrike">
              <a:solidFill>
                <a:srgbClr val="000000"/>
              </a:solidFill>
              <a:latin typeface="Calibri"/>
            </a:endParaRPr>
          </a:p>
        </p:txBody>
      </p:sp>
      <p:sp>
        <p:nvSpPr>
          <p:cNvPr id="1298" name="Rectangle 24"/>
          <p:cNvSpPr/>
          <p:nvPr/>
        </p:nvSpPr>
        <p:spPr>
          <a:xfrm>
            <a:off x="6734160" y="5094360"/>
            <a:ext cx="1327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Kelson Sans"/>
                <a:ea typeface="Lato"/>
              </a:rPr>
              <a:t>PROJECT 3</a:t>
            </a:r>
            <a:endParaRPr b="0" lang="en-US" sz="1400" spc="-1" strike="noStrike">
              <a:solidFill>
                <a:srgbClr val="000000"/>
              </a:solidFill>
              <a:latin typeface="Calibri"/>
            </a:endParaRPr>
          </a:p>
        </p:txBody>
      </p:sp>
      <p:sp>
        <p:nvSpPr>
          <p:cNvPr id="1299" name="Rectangle 25"/>
          <p:cNvSpPr/>
          <p:nvPr/>
        </p:nvSpPr>
        <p:spPr>
          <a:xfrm>
            <a:off x="9325080" y="5094360"/>
            <a:ext cx="132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Kelson Sans"/>
                <a:ea typeface="Lato"/>
              </a:rPr>
              <a:t>PROJECT 4</a:t>
            </a:r>
            <a:endParaRPr b="0" lang="en-US" sz="1400" spc="-1" strike="noStrike">
              <a:solidFill>
                <a:srgbClr val="000000"/>
              </a:solidFill>
              <a:latin typeface="Calibri"/>
            </a:endParaRPr>
          </a:p>
        </p:txBody>
      </p:sp>
      <p:pic>
        <p:nvPicPr>
          <p:cNvPr id="1300" name="" descr=""/>
          <p:cNvPicPr/>
          <p:nvPr/>
        </p:nvPicPr>
        <p:blipFill>
          <a:blip r:embed="rId1"/>
          <a:stretch/>
        </p:blipFill>
        <p:spPr>
          <a:xfrm>
            <a:off x="1028880" y="812880"/>
            <a:ext cx="2374560" cy="4076640"/>
          </a:xfrm>
          <a:prstGeom prst="rect">
            <a:avLst/>
          </a:prstGeom>
          <a:ln w="0">
            <a:noFill/>
          </a:ln>
        </p:spPr>
      </p:pic>
      <p:pic>
        <p:nvPicPr>
          <p:cNvPr id="1301" name="" descr=""/>
          <p:cNvPicPr/>
          <p:nvPr/>
        </p:nvPicPr>
        <p:blipFill>
          <a:blip r:embed="rId2"/>
          <a:stretch/>
        </p:blipFill>
        <p:spPr>
          <a:xfrm>
            <a:off x="3619080" y="812880"/>
            <a:ext cx="2374920" cy="4076640"/>
          </a:xfrm>
          <a:prstGeom prst="rect">
            <a:avLst/>
          </a:prstGeom>
          <a:ln w="0">
            <a:noFill/>
          </a:ln>
        </p:spPr>
      </p:pic>
      <p:pic>
        <p:nvPicPr>
          <p:cNvPr id="1302" name="" descr=""/>
          <p:cNvPicPr/>
          <p:nvPr/>
        </p:nvPicPr>
        <p:blipFill>
          <a:blip r:embed="rId3"/>
          <a:stretch/>
        </p:blipFill>
        <p:spPr>
          <a:xfrm>
            <a:off x="6210000" y="812880"/>
            <a:ext cx="2374920" cy="4076640"/>
          </a:xfrm>
          <a:prstGeom prst="rect">
            <a:avLst/>
          </a:prstGeom>
          <a:ln w="0">
            <a:noFill/>
          </a:ln>
        </p:spPr>
      </p:pic>
      <p:pic>
        <p:nvPicPr>
          <p:cNvPr id="1303" name="" descr=""/>
          <p:cNvPicPr/>
          <p:nvPr/>
        </p:nvPicPr>
        <p:blipFill>
          <a:blip r:embed="rId4"/>
          <a:stretch/>
        </p:blipFill>
        <p:spPr>
          <a:xfrm>
            <a:off x="8801280" y="812880"/>
            <a:ext cx="2374560" cy="407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10"/>
          <p:cNvSpPr/>
          <p:nvPr/>
        </p:nvSpPr>
        <p:spPr>
          <a:xfrm>
            <a:off x="4464000" y="987480"/>
            <a:ext cx="326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305" name="Rectangle 11"/>
          <p:cNvSpPr/>
          <p:nvPr/>
        </p:nvSpPr>
        <p:spPr>
          <a:xfrm>
            <a:off x="2903400" y="4799160"/>
            <a:ext cx="638496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pic>
        <p:nvPicPr>
          <p:cNvPr id="1306" name="" descr=""/>
          <p:cNvPicPr/>
          <p:nvPr/>
        </p:nvPicPr>
        <p:blipFill>
          <a:blip r:embed="rId1"/>
          <a:stretch/>
        </p:blipFill>
        <p:spPr>
          <a:xfrm>
            <a:off x="4368600" y="2165400"/>
            <a:ext cx="3454200" cy="2101680"/>
          </a:xfrm>
          <a:prstGeom prst="rect">
            <a:avLst/>
          </a:prstGeom>
          <a:ln w="0">
            <a:noFill/>
          </a:ln>
        </p:spPr>
      </p:pic>
      <p:pic>
        <p:nvPicPr>
          <p:cNvPr id="1307" name="" descr=""/>
          <p:cNvPicPr/>
          <p:nvPr/>
        </p:nvPicPr>
        <p:blipFill>
          <a:blip r:embed="rId2"/>
          <a:stretch/>
        </p:blipFill>
        <p:spPr>
          <a:xfrm>
            <a:off x="8001000" y="2165400"/>
            <a:ext cx="4191120" cy="2101680"/>
          </a:xfrm>
          <a:prstGeom prst="rect">
            <a:avLst/>
          </a:prstGeom>
          <a:ln w="0">
            <a:noFill/>
          </a:ln>
        </p:spPr>
      </p:pic>
      <p:pic>
        <p:nvPicPr>
          <p:cNvPr id="1308" name="" descr=""/>
          <p:cNvPicPr/>
          <p:nvPr/>
        </p:nvPicPr>
        <p:blipFill>
          <a:blip r:embed="rId3"/>
          <a:stretch/>
        </p:blipFill>
        <p:spPr>
          <a:xfrm>
            <a:off x="0" y="2165400"/>
            <a:ext cx="4191120" cy="2101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9" name="" descr=""/>
          <p:cNvPicPr/>
          <p:nvPr/>
        </p:nvPicPr>
        <p:blipFill>
          <a:blip r:embed="rId1"/>
          <a:stretch/>
        </p:blipFill>
        <p:spPr>
          <a:xfrm>
            <a:off x="800280" y="800280"/>
            <a:ext cx="4673520" cy="2387520"/>
          </a:xfrm>
          <a:prstGeom prst="rect">
            <a:avLst/>
          </a:prstGeom>
          <a:ln w="0">
            <a:noFill/>
          </a:ln>
        </p:spPr>
      </p:pic>
      <p:pic>
        <p:nvPicPr>
          <p:cNvPr id="1310" name="" descr=""/>
          <p:cNvPicPr/>
          <p:nvPr/>
        </p:nvPicPr>
        <p:blipFill>
          <a:blip r:embed="rId2"/>
          <a:stretch/>
        </p:blipFill>
        <p:spPr>
          <a:xfrm>
            <a:off x="800280" y="3340080"/>
            <a:ext cx="2234880" cy="2718000"/>
          </a:xfrm>
          <a:prstGeom prst="rect">
            <a:avLst/>
          </a:prstGeom>
          <a:ln w="0">
            <a:noFill/>
          </a:ln>
        </p:spPr>
      </p:pic>
      <p:pic>
        <p:nvPicPr>
          <p:cNvPr id="1311" name="" descr=""/>
          <p:cNvPicPr/>
          <p:nvPr/>
        </p:nvPicPr>
        <p:blipFill>
          <a:blip r:embed="rId3"/>
          <a:stretch/>
        </p:blipFill>
        <p:spPr>
          <a:xfrm>
            <a:off x="5702400" y="799920"/>
            <a:ext cx="2781360" cy="5257800"/>
          </a:xfrm>
          <a:prstGeom prst="rect">
            <a:avLst/>
          </a:prstGeom>
          <a:ln w="0">
            <a:noFill/>
          </a:ln>
        </p:spPr>
      </p:pic>
      <p:pic>
        <p:nvPicPr>
          <p:cNvPr id="1312" name="" descr=""/>
          <p:cNvPicPr/>
          <p:nvPr/>
        </p:nvPicPr>
        <p:blipFill>
          <a:blip r:embed="rId4"/>
          <a:stretch/>
        </p:blipFill>
        <p:spPr>
          <a:xfrm>
            <a:off x="8712000" y="799920"/>
            <a:ext cx="2679480" cy="1942920"/>
          </a:xfrm>
          <a:prstGeom prst="rect">
            <a:avLst/>
          </a:prstGeom>
          <a:ln w="0">
            <a:noFill/>
          </a:ln>
        </p:spPr>
      </p:pic>
      <p:pic>
        <p:nvPicPr>
          <p:cNvPr id="1313" name="" descr=""/>
          <p:cNvPicPr/>
          <p:nvPr/>
        </p:nvPicPr>
        <p:blipFill>
          <a:blip r:embed="rId5"/>
          <a:stretch/>
        </p:blipFill>
        <p:spPr>
          <a:xfrm>
            <a:off x="8712000" y="2997360"/>
            <a:ext cx="2679480" cy="3060720"/>
          </a:xfrm>
          <a:prstGeom prst="rect">
            <a:avLst/>
          </a:prstGeom>
          <a:ln w="0">
            <a:noFill/>
          </a:ln>
        </p:spPr>
      </p:pic>
      <p:pic>
        <p:nvPicPr>
          <p:cNvPr id="1314" name="" descr=""/>
          <p:cNvPicPr/>
          <p:nvPr/>
        </p:nvPicPr>
        <p:blipFill>
          <a:blip r:embed="rId6"/>
          <a:stretch/>
        </p:blipFill>
        <p:spPr>
          <a:xfrm>
            <a:off x="3263400" y="3340080"/>
            <a:ext cx="2235240" cy="271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7061040" y="2782800"/>
            <a:ext cx="326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316" name="Rectangle 10"/>
          <p:cNvSpPr/>
          <p:nvPr/>
        </p:nvSpPr>
        <p:spPr>
          <a:xfrm>
            <a:off x="7061040" y="3854520"/>
            <a:ext cx="3502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pic>
        <p:nvPicPr>
          <p:cNvPr id="1317" name="" descr=""/>
          <p:cNvPicPr/>
          <p:nvPr/>
        </p:nvPicPr>
        <p:blipFill>
          <a:blip r:embed="rId1"/>
          <a:stretch/>
        </p:blipFill>
        <p:spPr>
          <a:xfrm>
            <a:off x="674640" y="695160"/>
            <a:ext cx="5376960" cy="2610000"/>
          </a:xfrm>
          <a:prstGeom prst="rect">
            <a:avLst/>
          </a:prstGeom>
          <a:ln w="0">
            <a:noFill/>
          </a:ln>
        </p:spPr>
      </p:pic>
      <p:pic>
        <p:nvPicPr>
          <p:cNvPr id="1318" name="" descr=""/>
          <p:cNvPicPr/>
          <p:nvPr/>
        </p:nvPicPr>
        <p:blipFill>
          <a:blip r:embed="rId2"/>
          <a:stretch/>
        </p:blipFill>
        <p:spPr>
          <a:xfrm>
            <a:off x="674640" y="3395160"/>
            <a:ext cx="2597040" cy="2786040"/>
          </a:xfrm>
          <a:prstGeom prst="rect">
            <a:avLst/>
          </a:prstGeom>
          <a:ln w="0">
            <a:noFill/>
          </a:ln>
        </p:spPr>
      </p:pic>
      <p:pic>
        <p:nvPicPr>
          <p:cNvPr id="1319" name="" descr=""/>
          <p:cNvPicPr/>
          <p:nvPr/>
        </p:nvPicPr>
        <p:blipFill>
          <a:blip r:embed="rId3"/>
          <a:stretch/>
        </p:blipFill>
        <p:spPr>
          <a:xfrm>
            <a:off x="3395520" y="3395160"/>
            <a:ext cx="2656080" cy="278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29"/>
          <p:cNvSpPr/>
          <p:nvPr/>
        </p:nvSpPr>
        <p:spPr>
          <a:xfrm>
            <a:off x="6084720" y="555480"/>
            <a:ext cx="4749840" cy="2538720"/>
          </a:xfrm>
          <a:prstGeom prst="rect">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1" name="Rectangle 31"/>
          <p:cNvSpPr/>
          <p:nvPr/>
        </p:nvSpPr>
        <p:spPr>
          <a:xfrm>
            <a:off x="6540480" y="1739880"/>
            <a:ext cx="274176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ffffff"/>
                </a:solidFill>
                <a:latin typeface="Lato"/>
                <a:ea typeface="Lato"/>
              </a:rPr>
              <a:t>Lorem ipsum dolor sit amet, lacus nulla ac netus nibh aliquet, porttitor ligula justo libero vivamus porttitor dolor, conubia mollit. Sapien nam suspendisse, tincidunt eget</a:t>
            </a:r>
            <a:endParaRPr b="0" lang="en-US" sz="900" spc="-1" strike="noStrike">
              <a:solidFill>
                <a:srgbClr val="000000"/>
              </a:solidFill>
              <a:latin typeface="Calibri"/>
            </a:endParaRPr>
          </a:p>
        </p:txBody>
      </p:sp>
      <p:sp>
        <p:nvSpPr>
          <p:cNvPr id="1322" name="Rectangle 32"/>
          <p:cNvSpPr/>
          <p:nvPr/>
        </p:nvSpPr>
        <p:spPr>
          <a:xfrm>
            <a:off x="6540480" y="1432080"/>
            <a:ext cx="123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Kelson Sans"/>
                <a:ea typeface="Lato"/>
              </a:rPr>
              <a:t>Subtitle here</a:t>
            </a:r>
            <a:endParaRPr b="0" lang="en-US" sz="1400" spc="-1" strike="noStrike">
              <a:solidFill>
                <a:srgbClr val="000000"/>
              </a:solidFill>
              <a:latin typeface="Calibri"/>
            </a:endParaRPr>
          </a:p>
        </p:txBody>
      </p:sp>
      <p:sp>
        <p:nvSpPr>
          <p:cNvPr id="1323" name="Rectangle 28"/>
          <p:cNvSpPr/>
          <p:nvPr/>
        </p:nvSpPr>
        <p:spPr>
          <a:xfrm>
            <a:off x="1357200" y="3870360"/>
            <a:ext cx="4611960" cy="2416320"/>
          </a:xfrm>
          <a:prstGeom prst="rect">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4" name="Subtitle 2"/>
          <p:cNvSpPr/>
          <p:nvPr/>
        </p:nvSpPr>
        <p:spPr>
          <a:xfrm>
            <a:off x="1743120" y="4373640"/>
            <a:ext cx="1768320" cy="140976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Kelson Sans"/>
                <a:ea typeface="Lato"/>
              </a:rPr>
              <a:t>GRID GALLERY SL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Subtitle 2"/>
          <p:cNvSpPr/>
          <p:nvPr/>
        </p:nvSpPr>
        <p:spPr>
          <a:xfrm>
            <a:off x="4094280" y="4743360"/>
            <a:ext cx="4003560" cy="43812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181717"/>
                </a:solidFill>
                <a:latin typeface="Kelson Sans"/>
                <a:ea typeface="Lato"/>
              </a:rPr>
              <a:t>Alexander Julio</a:t>
            </a:r>
            <a:endParaRPr b="0" lang="en-US" sz="2800" spc="-1" strike="noStrike">
              <a:solidFill>
                <a:srgbClr val="000000"/>
              </a:solidFill>
              <a:latin typeface="Calibri"/>
            </a:endParaRPr>
          </a:p>
        </p:txBody>
      </p:sp>
      <p:sp>
        <p:nvSpPr>
          <p:cNvPr id="1050" name="Rectangle 8"/>
          <p:cNvSpPr/>
          <p:nvPr/>
        </p:nvSpPr>
        <p:spPr>
          <a:xfrm>
            <a:off x="1668600" y="5460840"/>
            <a:ext cx="88549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81717"/>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vivamus porttitor dolor, conubia mollit. Sapien</a:t>
            </a:r>
            <a:endParaRPr b="0" lang="en-US" sz="1000" spc="-1" strike="noStrike">
              <a:solidFill>
                <a:srgbClr val="000000"/>
              </a:solidFill>
              <a:latin typeface="Calibri"/>
            </a:endParaRPr>
          </a:p>
        </p:txBody>
      </p:sp>
      <p:sp>
        <p:nvSpPr>
          <p:cNvPr id="1051" name="Subtitle 2"/>
          <p:cNvSpPr/>
          <p:nvPr/>
        </p:nvSpPr>
        <p:spPr>
          <a:xfrm>
            <a:off x="5815080" y="5149800"/>
            <a:ext cx="561960" cy="3430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181717"/>
                </a:solidFill>
                <a:latin typeface="Kelson Sans"/>
                <a:ea typeface="Lato"/>
              </a:rPr>
              <a:t>CE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15"/>
          <p:cNvSpPr/>
          <p:nvPr/>
        </p:nvSpPr>
        <p:spPr>
          <a:xfrm>
            <a:off x="938160" y="4313160"/>
            <a:ext cx="317664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a:t>
            </a:r>
            <a:endParaRPr b="0" lang="en-US" sz="900" spc="-1" strike="noStrike">
              <a:solidFill>
                <a:srgbClr val="000000"/>
              </a:solidFill>
              <a:latin typeface="Calibri"/>
            </a:endParaRPr>
          </a:p>
        </p:txBody>
      </p:sp>
      <p:sp>
        <p:nvSpPr>
          <p:cNvPr id="1326" name="Rectangle 16"/>
          <p:cNvSpPr/>
          <p:nvPr/>
        </p:nvSpPr>
        <p:spPr>
          <a:xfrm>
            <a:off x="938160" y="3935520"/>
            <a:ext cx="1528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d0d0d"/>
                </a:solidFill>
                <a:latin typeface="Kelson Sans"/>
                <a:ea typeface="Lato"/>
              </a:rPr>
              <a:t>YOUR SUBTITLE HERE</a:t>
            </a:r>
            <a:endParaRPr b="0" lang="en-US" sz="1200" spc="-1" strike="noStrike">
              <a:solidFill>
                <a:srgbClr val="000000"/>
              </a:solidFill>
              <a:latin typeface="Calibri"/>
            </a:endParaRPr>
          </a:p>
        </p:txBody>
      </p:sp>
      <p:sp>
        <p:nvSpPr>
          <p:cNvPr id="1327" name="Subtitle 2"/>
          <p:cNvSpPr/>
          <p:nvPr/>
        </p:nvSpPr>
        <p:spPr>
          <a:xfrm>
            <a:off x="938160" y="2117880"/>
            <a:ext cx="2833920" cy="1455480"/>
          </a:xfrm>
          <a:prstGeom prst="rect">
            <a:avLst/>
          </a:prstGeom>
          <a:noFill/>
          <a:ln w="0">
            <a:noFill/>
          </a:ln>
        </p:spPr>
        <p:style>
          <a:lnRef idx="0"/>
          <a:fillRef idx="0"/>
          <a:effectRef idx="0"/>
          <a:fontRef idx="minor"/>
        </p:style>
        <p:txBody>
          <a:bodyPr lIns="90000" rIns="90000" tIns="46800" bIns="46800" anchor="t">
            <a:normAutofit fontScale="83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41318"/>
                </a:solidFill>
                <a:latin typeface="Kelson Sans"/>
                <a:ea typeface="Lato"/>
              </a:rPr>
              <a:t>Phone Device Mockup Slide</a:t>
            </a:r>
            <a:endParaRPr b="0" lang="en-US" sz="3600" spc="-1" strike="noStrike">
              <a:solidFill>
                <a:srgbClr val="000000"/>
              </a:solidFill>
              <a:latin typeface="Calibri"/>
            </a:endParaRPr>
          </a:p>
        </p:txBody>
      </p:sp>
      <p:sp>
        <p:nvSpPr>
          <p:cNvPr id="1328" name="Rounded Rectangle 18"/>
          <p:cNvSpPr/>
          <p:nvPr/>
        </p:nvSpPr>
        <p:spPr>
          <a:xfrm>
            <a:off x="8140680" y="3865680"/>
            <a:ext cx="1951200" cy="1949400"/>
          </a:xfrm>
          <a:prstGeom prst="roundRect">
            <a:avLst>
              <a:gd name="adj" fmla="val 5921"/>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9" name="Rounded Rectangle 19"/>
          <p:cNvSpPr/>
          <p:nvPr/>
        </p:nvSpPr>
        <p:spPr>
          <a:xfrm>
            <a:off x="8140680" y="1143000"/>
            <a:ext cx="1951200" cy="1949400"/>
          </a:xfrm>
          <a:prstGeom prst="roundRect">
            <a:avLst>
              <a:gd name="adj" fmla="val 5921"/>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30" name="Group 20"/>
          <p:cNvGrpSpPr/>
          <p:nvPr/>
        </p:nvGrpSpPr>
        <p:grpSpPr>
          <a:xfrm>
            <a:off x="8825040" y="4219560"/>
            <a:ext cx="574560" cy="574560"/>
            <a:chOff x="8825040" y="4219560"/>
            <a:chExt cx="574560" cy="574560"/>
          </a:xfrm>
        </p:grpSpPr>
        <p:sp>
          <p:nvSpPr>
            <p:cNvPr id="1331" name="Shape 4707"/>
            <p:cNvSpPr/>
            <p:nvPr/>
          </p:nvSpPr>
          <p:spPr>
            <a:xfrm>
              <a:off x="8999640" y="4400280"/>
              <a:ext cx="225360" cy="212760"/>
            </a:xfrm>
            <a:custGeom>
              <a:avLst/>
              <a:gdLst>
                <a:gd name="textAreaLeft" fmla="*/ 0 w 225360"/>
                <a:gd name="textAreaRight" fmla="*/ 225720 w 225360"/>
                <a:gd name="textAreaTop" fmla="*/ 0 h 212760"/>
                <a:gd name="textAreaBottom" fmla="*/ 213120 h 212760"/>
              </a:gdLst>
              <a:ahLst/>
              <a:rect l="textAreaLeft" t="textAreaTop" r="textAreaRight" b="textAreaBottom"/>
              <a:pathLst>
                <a:path w="120000" h="120000">
                  <a:moveTo>
                    <a:pt x="101694" y="69304"/>
                  </a:moveTo>
                  <a:lnTo>
                    <a:pt x="101694" y="69304"/>
                  </a:lnTo>
                  <a:cubicBezTo>
                    <a:pt x="101694" y="6417"/>
                    <a:pt x="101694" y="6417"/>
                    <a:pt x="101694" y="6417"/>
                  </a:cubicBezTo>
                  <a:cubicBezTo>
                    <a:pt x="101694" y="3208"/>
                    <a:pt x="101694" y="0"/>
                    <a:pt x="98847" y="0"/>
                  </a:cubicBezTo>
                  <a:cubicBezTo>
                    <a:pt x="95796" y="0"/>
                    <a:pt x="95796" y="3208"/>
                    <a:pt x="95796" y="6417"/>
                  </a:cubicBezTo>
                  <a:cubicBezTo>
                    <a:pt x="95796" y="69304"/>
                    <a:pt x="95796" y="69304"/>
                    <a:pt x="95796" y="69304"/>
                  </a:cubicBezTo>
                  <a:cubicBezTo>
                    <a:pt x="86847" y="69304"/>
                    <a:pt x="77694" y="78716"/>
                    <a:pt x="77694" y="88128"/>
                  </a:cubicBezTo>
                  <a:cubicBezTo>
                    <a:pt x="77694" y="100748"/>
                    <a:pt x="86847" y="107165"/>
                    <a:pt x="95796" y="110160"/>
                  </a:cubicBezTo>
                  <a:cubicBezTo>
                    <a:pt x="95796" y="113368"/>
                    <a:pt x="95796" y="113368"/>
                    <a:pt x="95796" y="113368"/>
                  </a:cubicBezTo>
                  <a:cubicBezTo>
                    <a:pt x="95796" y="116577"/>
                    <a:pt x="95796" y="119786"/>
                    <a:pt x="98847" y="119786"/>
                  </a:cubicBezTo>
                  <a:cubicBezTo>
                    <a:pt x="101694" y="119786"/>
                    <a:pt x="101694" y="116577"/>
                    <a:pt x="101694" y="113368"/>
                  </a:cubicBezTo>
                  <a:cubicBezTo>
                    <a:pt x="101694" y="110160"/>
                    <a:pt x="101694" y="110160"/>
                    <a:pt x="101694" y="110160"/>
                  </a:cubicBezTo>
                  <a:cubicBezTo>
                    <a:pt x="110847" y="107165"/>
                    <a:pt x="119796" y="100748"/>
                    <a:pt x="119796" y="88128"/>
                  </a:cubicBezTo>
                  <a:cubicBezTo>
                    <a:pt x="119796" y="78716"/>
                    <a:pt x="110847" y="69304"/>
                    <a:pt x="101694" y="69304"/>
                  </a:cubicBezTo>
                  <a:close/>
                  <a:moveTo>
                    <a:pt x="98847" y="100748"/>
                  </a:moveTo>
                  <a:lnTo>
                    <a:pt x="98847" y="100748"/>
                  </a:lnTo>
                  <a:cubicBezTo>
                    <a:pt x="92745" y="100748"/>
                    <a:pt x="86847" y="97540"/>
                    <a:pt x="86847" y="88128"/>
                  </a:cubicBezTo>
                  <a:cubicBezTo>
                    <a:pt x="86847" y="81925"/>
                    <a:pt x="92745" y="75508"/>
                    <a:pt x="98847" y="75508"/>
                  </a:cubicBezTo>
                  <a:cubicBezTo>
                    <a:pt x="104745" y="75508"/>
                    <a:pt x="110847" y="81925"/>
                    <a:pt x="110847" y="88128"/>
                  </a:cubicBezTo>
                  <a:cubicBezTo>
                    <a:pt x="110847" y="97540"/>
                    <a:pt x="104745" y="100748"/>
                    <a:pt x="98847" y="100748"/>
                  </a:cubicBezTo>
                  <a:close/>
                  <a:moveTo>
                    <a:pt x="62847" y="9411"/>
                  </a:moveTo>
                  <a:lnTo>
                    <a:pt x="62847" y="9411"/>
                  </a:lnTo>
                  <a:cubicBezTo>
                    <a:pt x="62847" y="6417"/>
                    <a:pt x="62847" y="6417"/>
                    <a:pt x="62847" y="6417"/>
                  </a:cubicBezTo>
                  <a:cubicBezTo>
                    <a:pt x="62847" y="3208"/>
                    <a:pt x="59796" y="0"/>
                    <a:pt x="59796" y="0"/>
                  </a:cubicBezTo>
                  <a:cubicBezTo>
                    <a:pt x="56949" y="0"/>
                    <a:pt x="53898" y="3208"/>
                    <a:pt x="53898" y="6417"/>
                  </a:cubicBezTo>
                  <a:cubicBezTo>
                    <a:pt x="53898" y="9411"/>
                    <a:pt x="53898" y="9411"/>
                    <a:pt x="53898" y="9411"/>
                  </a:cubicBezTo>
                  <a:cubicBezTo>
                    <a:pt x="44949" y="12620"/>
                    <a:pt x="38847" y="18823"/>
                    <a:pt x="38847" y="31443"/>
                  </a:cubicBezTo>
                  <a:cubicBezTo>
                    <a:pt x="38847" y="41069"/>
                    <a:pt x="44949" y="50267"/>
                    <a:pt x="53898" y="50267"/>
                  </a:cubicBezTo>
                  <a:cubicBezTo>
                    <a:pt x="53898" y="113368"/>
                    <a:pt x="53898" y="113368"/>
                    <a:pt x="53898" y="113368"/>
                  </a:cubicBezTo>
                  <a:cubicBezTo>
                    <a:pt x="53898" y="116577"/>
                    <a:pt x="56949" y="119786"/>
                    <a:pt x="59796" y="119786"/>
                  </a:cubicBezTo>
                  <a:cubicBezTo>
                    <a:pt x="59796" y="119786"/>
                    <a:pt x="62847" y="116577"/>
                    <a:pt x="62847" y="113368"/>
                  </a:cubicBezTo>
                  <a:cubicBezTo>
                    <a:pt x="62847" y="50267"/>
                    <a:pt x="62847" y="50267"/>
                    <a:pt x="62847" y="50267"/>
                  </a:cubicBezTo>
                  <a:cubicBezTo>
                    <a:pt x="71796" y="50267"/>
                    <a:pt x="77694" y="41069"/>
                    <a:pt x="77694" y="31443"/>
                  </a:cubicBezTo>
                  <a:cubicBezTo>
                    <a:pt x="77694" y="18823"/>
                    <a:pt x="71796" y="12620"/>
                    <a:pt x="62847" y="9411"/>
                  </a:cubicBezTo>
                  <a:close/>
                  <a:moveTo>
                    <a:pt x="59796" y="44064"/>
                  </a:moveTo>
                  <a:lnTo>
                    <a:pt x="59796" y="44064"/>
                  </a:lnTo>
                  <a:cubicBezTo>
                    <a:pt x="50847" y="44064"/>
                    <a:pt x="47796" y="37860"/>
                    <a:pt x="47796" y="31443"/>
                  </a:cubicBezTo>
                  <a:cubicBezTo>
                    <a:pt x="47796" y="22032"/>
                    <a:pt x="50847" y="18823"/>
                    <a:pt x="59796" y="18823"/>
                  </a:cubicBezTo>
                  <a:cubicBezTo>
                    <a:pt x="65898" y="18823"/>
                    <a:pt x="71796" y="22032"/>
                    <a:pt x="71796" y="31443"/>
                  </a:cubicBezTo>
                  <a:cubicBezTo>
                    <a:pt x="71796" y="37860"/>
                    <a:pt x="65898" y="44064"/>
                    <a:pt x="59796" y="44064"/>
                  </a:cubicBezTo>
                  <a:close/>
                  <a:moveTo>
                    <a:pt x="24000" y="50267"/>
                  </a:moveTo>
                  <a:lnTo>
                    <a:pt x="24000" y="50267"/>
                  </a:lnTo>
                  <a:cubicBezTo>
                    <a:pt x="24000" y="6417"/>
                    <a:pt x="24000" y="6417"/>
                    <a:pt x="24000" y="6417"/>
                  </a:cubicBezTo>
                  <a:cubicBezTo>
                    <a:pt x="24000" y="3208"/>
                    <a:pt x="20949" y="0"/>
                    <a:pt x="17898" y="0"/>
                  </a:cubicBezTo>
                  <a:cubicBezTo>
                    <a:pt x="17898" y="0"/>
                    <a:pt x="14847" y="3208"/>
                    <a:pt x="14847" y="6417"/>
                  </a:cubicBezTo>
                  <a:cubicBezTo>
                    <a:pt x="14847" y="50267"/>
                    <a:pt x="14847" y="50267"/>
                    <a:pt x="14847" y="50267"/>
                  </a:cubicBezTo>
                  <a:cubicBezTo>
                    <a:pt x="5898" y="53475"/>
                    <a:pt x="0" y="62887"/>
                    <a:pt x="0" y="72513"/>
                  </a:cubicBezTo>
                  <a:cubicBezTo>
                    <a:pt x="0" y="81925"/>
                    <a:pt x="5898" y="91336"/>
                    <a:pt x="14847" y="94545"/>
                  </a:cubicBezTo>
                  <a:cubicBezTo>
                    <a:pt x="14847" y="113368"/>
                    <a:pt x="14847" y="113368"/>
                    <a:pt x="14847" y="113368"/>
                  </a:cubicBezTo>
                  <a:cubicBezTo>
                    <a:pt x="14847" y="116577"/>
                    <a:pt x="17898" y="119786"/>
                    <a:pt x="17898" y="119786"/>
                  </a:cubicBezTo>
                  <a:cubicBezTo>
                    <a:pt x="20949" y="119786"/>
                    <a:pt x="24000" y="116577"/>
                    <a:pt x="24000" y="113368"/>
                  </a:cubicBezTo>
                  <a:cubicBezTo>
                    <a:pt x="24000" y="94545"/>
                    <a:pt x="24000" y="94545"/>
                    <a:pt x="24000" y="94545"/>
                  </a:cubicBezTo>
                  <a:cubicBezTo>
                    <a:pt x="32949" y="91336"/>
                    <a:pt x="38847" y="81925"/>
                    <a:pt x="38847" y="72513"/>
                  </a:cubicBezTo>
                  <a:cubicBezTo>
                    <a:pt x="38847" y="62887"/>
                    <a:pt x="32949" y="53475"/>
                    <a:pt x="24000" y="50267"/>
                  </a:cubicBezTo>
                  <a:close/>
                  <a:moveTo>
                    <a:pt x="17898" y="84919"/>
                  </a:moveTo>
                  <a:lnTo>
                    <a:pt x="17898" y="84919"/>
                  </a:lnTo>
                  <a:cubicBezTo>
                    <a:pt x="12000" y="84919"/>
                    <a:pt x="5898" y="78716"/>
                    <a:pt x="5898" y="72513"/>
                  </a:cubicBezTo>
                  <a:cubicBezTo>
                    <a:pt x="5898" y="66096"/>
                    <a:pt x="12000" y="59893"/>
                    <a:pt x="17898" y="59893"/>
                  </a:cubicBezTo>
                  <a:cubicBezTo>
                    <a:pt x="26847" y="59893"/>
                    <a:pt x="29898" y="66096"/>
                    <a:pt x="29898" y="72513"/>
                  </a:cubicBezTo>
                  <a:cubicBezTo>
                    <a:pt x="29898" y="78716"/>
                    <a:pt x="26847" y="84919"/>
                    <a:pt x="17898" y="8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Oval 22"/>
            <p:cNvSpPr/>
            <p:nvPr/>
          </p:nvSpPr>
          <p:spPr>
            <a:xfrm>
              <a:off x="8825040" y="4219560"/>
              <a:ext cx="574560" cy="574560"/>
            </a:xfrm>
            <a:prstGeom prst="ellipse">
              <a:avLst/>
            </a:prstGeom>
            <a:noFill/>
            <a:ln w="1260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33" name="Group 23"/>
          <p:cNvGrpSpPr/>
          <p:nvPr/>
        </p:nvGrpSpPr>
        <p:grpSpPr>
          <a:xfrm>
            <a:off x="8825040" y="1438200"/>
            <a:ext cx="574560" cy="574920"/>
            <a:chOff x="8825040" y="1438200"/>
            <a:chExt cx="574560" cy="574920"/>
          </a:xfrm>
        </p:grpSpPr>
        <p:sp>
          <p:nvSpPr>
            <p:cNvPr id="1334" name="Shape 4667"/>
            <p:cNvSpPr/>
            <p:nvPr/>
          </p:nvSpPr>
          <p:spPr>
            <a:xfrm>
              <a:off x="8991720" y="1619280"/>
              <a:ext cx="241200" cy="241200"/>
            </a:xfrm>
            <a:custGeom>
              <a:avLst/>
              <a:gdLst>
                <a:gd name="textAreaLeft" fmla="*/ 0 w 241200"/>
                <a:gd name="textAreaRight" fmla="*/ 241560 w 241200"/>
                <a:gd name="textAreaTop" fmla="*/ 0 h 241200"/>
                <a:gd name="textAreaBottom" fmla="*/ 241560 h 241200"/>
              </a:gdLst>
              <a:ahLst/>
              <a:rect l="textAreaLeft" t="textAreaTop" r="textAreaRight" b="textAreaBottom"/>
              <a:pathLst>
                <a:path w="120000" h="120000">
                  <a:moveTo>
                    <a:pt x="72492" y="25133"/>
                  </a:moveTo>
                  <a:lnTo>
                    <a:pt x="72492" y="25133"/>
                  </a:lnTo>
                  <a:cubicBezTo>
                    <a:pt x="67003" y="30803"/>
                    <a:pt x="67003" y="39118"/>
                    <a:pt x="72492" y="47433"/>
                  </a:cubicBezTo>
                  <a:cubicBezTo>
                    <a:pt x="81009" y="52913"/>
                    <a:pt x="89148" y="52913"/>
                    <a:pt x="94826" y="47433"/>
                  </a:cubicBezTo>
                  <a:cubicBezTo>
                    <a:pt x="100315" y="39118"/>
                    <a:pt x="100315" y="30803"/>
                    <a:pt x="94826" y="25133"/>
                  </a:cubicBezTo>
                  <a:cubicBezTo>
                    <a:pt x="89148" y="19653"/>
                    <a:pt x="81009" y="19653"/>
                    <a:pt x="72492" y="25133"/>
                  </a:cubicBezTo>
                  <a:close/>
                  <a:moveTo>
                    <a:pt x="89148" y="41763"/>
                  </a:moveTo>
                  <a:lnTo>
                    <a:pt x="89148" y="41763"/>
                  </a:lnTo>
                  <a:cubicBezTo>
                    <a:pt x="86498" y="44598"/>
                    <a:pt x="81009" y="44598"/>
                    <a:pt x="77981" y="41763"/>
                  </a:cubicBezTo>
                  <a:cubicBezTo>
                    <a:pt x="75331" y="39118"/>
                    <a:pt x="75331" y="33448"/>
                    <a:pt x="77981" y="30803"/>
                  </a:cubicBezTo>
                  <a:cubicBezTo>
                    <a:pt x="81009" y="27968"/>
                    <a:pt x="86498" y="27968"/>
                    <a:pt x="89148" y="30803"/>
                  </a:cubicBezTo>
                  <a:cubicBezTo>
                    <a:pt x="91987" y="33448"/>
                    <a:pt x="91987" y="39118"/>
                    <a:pt x="89148" y="41763"/>
                  </a:cubicBezTo>
                  <a:close/>
                  <a:moveTo>
                    <a:pt x="111482" y="0"/>
                  </a:moveTo>
                  <a:lnTo>
                    <a:pt x="111482" y="0"/>
                  </a:lnTo>
                  <a:cubicBezTo>
                    <a:pt x="64164" y="0"/>
                    <a:pt x="64164" y="0"/>
                    <a:pt x="64164" y="0"/>
                  </a:cubicBezTo>
                  <a:cubicBezTo>
                    <a:pt x="58675" y="0"/>
                    <a:pt x="58675" y="2834"/>
                    <a:pt x="55835" y="5669"/>
                  </a:cubicBezTo>
                  <a:cubicBezTo>
                    <a:pt x="5678" y="55748"/>
                    <a:pt x="5678" y="55748"/>
                    <a:pt x="5678" y="55748"/>
                  </a:cubicBezTo>
                  <a:cubicBezTo>
                    <a:pt x="0" y="61417"/>
                    <a:pt x="0" y="69543"/>
                    <a:pt x="5678" y="75212"/>
                  </a:cubicBezTo>
                  <a:cubicBezTo>
                    <a:pt x="44668" y="114141"/>
                    <a:pt x="44668" y="114141"/>
                    <a:pt x="44668" y="114141"/>
                  </a:cubicBezTo>
                  <a:cubicBezTo>
                    <a:pt x="50157" y="119811"/>
                    <a:pt x="58675" y="119811"/>
                    <a:pt x="64164" y="114141"/>
                  </a:cubicBezTo>
                  <a:cubicBezTo>
                    <a:pt x="114321" y="64062"/>
                    <a:pt x="114321" y="64062"/>
                    <a:pt x="114321" y="64062"/>
                  </a:cubicBezTo>
                  <a:cubicBezTo>
                    <a:pt x="117160" y="61417"/>
                    <a:pt x="119810" y="61417"/>
                    <a:pt x="119810" y="55748"/>
                  </a:cubicBezTo>
                  <a:cubicBezTo>
                    <a:pt x="119810" y="8503"/>
                    <a:pt x="119810" y="8503"/>
                    <a:pt x="119810" y="8503"/>
                  </a:cubicBezTo>
                  <a:cubicBezTo>
                    <a:pt x="119810" y="2834"/>
                    <a:pt x="117160" y="0"/>
                    <a:pt x="111482" y="0"/>
                  </a:cubicBezTo>
                  <a:close/>
                  <a:moveTo>
                    <a:pt x="61324" y="108661"/>
                  </a:moveTo>
                  <a:lnTo>
                    <a:pt x="61324" y="108661"/>
                  </a:lnTo>
                  <a:cubicBezTo>
                    <a:pt x="55835" y="111307"/>
                    <a:pt x="52996" y="111307"/>
                    <a:pt x="50157" y="108661"/>
                  </a:cubicBezTo>
                  <a:cubicBezTo>
                    <a:pt x="11167" y="69543"/>
                    <a:pt x="11167" y="69543"/>
                    <a:pt x="11167" y="69543"/>
                  </a:cubicBezTo>
                  <a:cubicBezTo>
                    <a:pt x="8517" y="66897"/>
                    <a:pt x="8517" y="64062"/>
                    <a:pt x="11167" y="61417"/>
                  </a:cubicBezTo>
                  <a:cubicBezTo>
                    <a:pt x="16845" y="55748"/>
                    <a:pt x="16845" y="55748"/>
                    <a:pt x="16845" y="55748"/>
                  </a:cubicBezTo>
                  <a:cubicBezTo>
                    <a:pt x="64164" y="102992"/>
                    <a:pt x="64164" y="102992"/>
                    <a:pt x="64164" y="102992"/>
                  </a:cubicBezTo>
                  <a:lnTo>
                    <a:pt x="61324" y="108661"/>
                  </a:lnTo>
                  <a:close/>
                  <a:moveTo>
                    <a:pt x="111482" y="52913"/>
                  </a:moveTo>
                  <a:lnTo>
                    <a:pt x="111482" y="52913"/>
                  </a:lnTo>
                  <a:cubicBezTo>
                    <a:pt x="111482" y="55748"/>
                    <a:pt x="111482" y="58582"/>
                    <a:pt x="108832" y="61417"/>
                  </a:cubicBezTo>
                  <a:cubicBezTo>
                    <a:pt x="69842" y="97511"/>
                    <a:pt x="69842" y="97511"/>
                    <a:pt x="69842" y="97511"/>
                  </a:cubicBezTo>
                  <a:cubicBezTo>
                    <a:pt x="22334" y="50267"/>
                    <a:pt x="22334" y="50267"/>
                    <a:pt x="22334" y="50267"/>
                  </a:cubicBezTo>
                  <a:cubicBezTo>
                    <a:pt x="61324" y="11149"/>
                    <a:pt x="61324" y="11149"/>
                    <a:pt x="61324" y="11149"/>
                  </a:cubicBezTo>
                  <a:cubicBezTo>
                    <a:pt x="61324" y="8503"/>
                    <a:pt x="64164" y="8503"/>
                    <a:pt x="67003" y="8503"/>
                  </a:cubicBezTo>
                  <a:cubicBezTo>
                    <a:pt x="108832" y="8503"/>
                    <a:pt x="108832" y="8503"/>
                    <a:pt x="108832" y="8503"/>
                  </a:cubicBezTo>
                  <a:cubicBezTo>
                    <a:pt x="111482" y="8503"/>
                    <a:pt x="111482" y="8503"/>
                    <a:pt x="111482" y="11149"/>
                  </a:cubicBezTo>
                  <a:lnTo>
                    <a:pt x="111482" y="52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Oval 25"/>
            <p:cNvSpPr/>
            <p:nvPr/>
          </p:nvSpPr>
          <p:spPr>
            <a:xfrm>
              <a:off x="8825040" y="1438200"/>
              <a:ext cx="574560" cy="574920"/>
            </a:xfrm>
            <a:prstGeom prst="ellipse">
              <a:avLst/>
            </a:prstGeom>
            <a:noFill/>
            <a:ln w="12600">
              <a:solidFill>
                <a:srgbClr val="0d0d0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36" name="Group 26"/>
          <p:cNvGrpSpPr/>
          <p:nvPr/>
        </p:nvGrpSpPr>
        <p:grpSpPr>
          <a:xfrm>
            <a:off x="8240760" y="4840200"/>
            <a:ext cx="1760400" cy="650880"/>
            <a:chOff x="8240760" y="4840200"/>
            <a:chExt cx="1760400" cy="650880"/>
          </a:xfrm>
        </p:grpSpPr>
        <p:sp>
          <p:nvSpPr>
            <p:cNvPr id="1337" name="Rectangle 27"/>
            <p:cNvSpPr/>
            <p:nvPr/>
          </p:nvSpPr>
          <p:spPr>
            <a:xfrm>
              <a:off x="8240760" y="5032080"/>
              <a:ext cx="1760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181717"/>
                  </a:solidFill>
                  <a:latin typeface="Lato"/>
                  <a:ea typeface="Lato"/>
                </a:rPr>
                <a:t>Lorem ipsum dolor sit amet, lacus nulla ac netus nibh aliquet</a:t>
              </a:r>
              <a:endParaRPr b="0" lang="en-US" sz="800" spc="-1" strike="noStrike">
                <a:solidFill>
                  <a:srgbClr val="000000"/>
                </a:solidFill>
                <a:latin typeface="Calibri"/>
              </a:endParaRPr>
            </a:p>
          </p:txBody>
        </p:sp>
        <p:sp>
          <p:nvSpPr>
            <p:cNvPr id="1338" name="Rectangle 28"/>
            <p:cNvSpPr/>
            <p:nvPr/>
          </p:nvSpPr>
          <p:spPr>
            <a:xfrm>
              <a:off x="8461440" y="4840200"/>
              <a:ext cx="1319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Kelson Sans"/>
                  <a:ea typeface="Lato"/>
                </a:rPr>
                <a:t>SUBTITLE HERE</a:t>
              </a:r>
              <a:endParaRPr b="0" lang="en-US" sz="1200" spc="-1" strike="noStrike">
                <a:solidFill>
                  <a:srgbClr val="000000"/>
                </a:solidFill>
                <a:latin typeface="Calibri"/>
              </a:endParaRPr>
            </a:p>
          </p:txBody>
        </p:sp>
      </p:grpSp>
      <p:grpSp>
        <p:nvGrpSpPr>
          <p:cNvPr id="1339" name="Group 29"/>
          <p:cNvGrpSpPr/>
          <p:nvPr/>
        </p:nvGrpSpPr>
        <p:grpSpPr>
          <a:xfrm>
            <a:off x="8231040" y="2117880"/>
            <a:ext cx="1760760" cy="650880"/>
            <a:chOff x="8231040" y="2117880"/>
            <a:chExt cx="1760760" cy="650880"/>
          </a:xfrm>
        </p:grpSpPr>
        <p:sp>
          <p:nvSpPr>
            <p:cNvPr id="1340" name="Rectangle 30"/>
            <p:cNvSpPr/>
            <p:nvPr/>
          </p:nvSpPr>
          <p:spPr>
            <a:xfrm>
              <a:off x="8231040" y="2309760"/>
              <a:ext cx="1760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181717"/>
                  </a:solidFill>
                  <a:latin typeface="Lato"/>
                  <a:ea typeface="Lato"/>
                </a:rPr>
                <a:t>Lorem ipsum dolor sit amet, lacus nulla ac netus nibh aliquet</a:t>
              </a:r>
              <a:endParaRPr b="0" lang="en-US" sz="800" spc="-1" strike="noStrike">
                <a:solidFill>
                  <a:srgbClr val="000000"/>
                </a:solidFill>
                <a:latin typeface="Calibri"/>
              </a:endParaRPr>
            </a:p>
          </p:txBody>
        </p:sp>
        <p:sp>
          <p:nvSpPr>
            <p:cNvPr id="1341" name="Rectangle 31"/>
            <p:cNvSpPr/>
            <p:nvPr/>
          </p:nvSpPr>
          <p:spPr>
            <a:xfrm>
              <a:off x="8451720" y="2117880"/>
              <a:ext cx="1319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Kelson Sans"/>
                  <a:ea typeface="Lato"/>
                </a:rPr>
                <a:t>SUBTITLE HERE</a:t>
              </a:r>
              <a:endParaRPr b="0" lang="en-US" sz="1200" spc="-1" strike="noStrike">
                <a:solidFill>
                  <a:srgbClr val="000000"/>
                </a:solidFill>
                <a:latin typeface="Calibri"/>
              </a:endParaRPr>
            </a:p>
          </p:txBody>
        </p:sp>
      </p:grpSp>
      <p:pic>
        <p:nvPicPr>
          <p:cNvPr id="1342" name="" descr=""/>
          <p:cNvPicPr/>
          <p:nvPr/>
        </p:nvPicPr>
        <p:blipFill>
          <a:blip r:embed="rId1"/>
          <a:stretch/>
        </p:blipFill>
        <p:spPr>
          <a:xfrm>
            <a:off x="4535280" y="1310760"/>
            <a:ext cx="2320920" cy="4132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3" name="Group 30"/>
          <p:cNvGrpSpPr/>
          <p:nvPr/>
        </p:nvGrpSpPr>
        <p:grpSpPr>
          <a:xfrm>
            <a:off x="7413480" y="4363920"/>
            <a:ext cx="3259440" cy="1094760"/>
            <a:chOff x="7413480" y="4363920"/>
            <a:chExt cx="3259440" cy="1094760"/>
          </a:xfrm>
        </p:grpSpPr>
        <p:grpSp>
          <p:nvGrpSpPr>
            <p:cNvPr id="1344" name="Group 29"/>
            <p:cNvGrpSpPr/>
            <p:nvPr/>
          </p:nvGrpSpPr>
          <p:grpSpPr>
            <a:xfrm>
              <a:off x="7413480" y="4435920"/>
              <a:ext cx="812520" cy="812520"/>
              <a:chOff x="7413480" y="4435920"/>
              <a:chExt cx="812520" cy="812520"/>
            </a:xfrm>
          </p:grpSpPr>
          <p:sp>
            <p:nvSpPr>
              <p:cNvPr id="1345" name="Rectangle 7"/>
              <p:cNvSpPr/>
              <p:nvPr/>
            </p:nvSpPr>
            <p:spPr>
              <a:xfrm>
                <a:off x="7413480" y="4435920"/>
                <a:ext cx="812520" cy="812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Shape 4674"/>
              <p:cNvSpPr/>
              <p:nvPr/>
            </p:nvSpPr>
            <p:spPr>
              <a:xfrm>
                <a:off x="7666920" y="4693680"/>
                <a:ext cx="304920" cy="297720"/>
              </a:xfrm>
              <a:custGeom>
                <a:avLst/>
                <a:gdLst>
                  <a:gd name="textAreaLeft" fmla="*/ 0 w 304920"/>
                  <a:gd name="textAreaRight" fmla="*/ 305280 w 304920"/>
                  <a:gd name="textAreaTop" fmla="*/ 0 h 297720"/>
                  <a:gd name="textAreaBottom" fmla="*/ 298080 h 29772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347" name="Rectangle 15"/>
            <p:cNvSpPr/>
            <p:nvPr/>
          </p:nvSpPr>
          <p:spPr>
            <a:xfrm>
              <a:off x="8454240" y="4542480"/>
              <a:ext cx="195840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348" name="Rectangle 18"/>
            <p:cNvSpPr/>
            <p:nvPr/>
          </p:nvSpPr>
          <p:spPr>
            <a:xfrm>
              <a:off x="8324640" y="4363920"/>
              <a:ext cx="234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Lato"/>
                  <a:ea typeface="Lato"/>
                </a:rPr>
                <a:t>3. FULL CUSTOMIZED</a:t>
              </a:r>
              <a:endParaRPr b="0" lang="en-US" sz="1200" spc="-1" strike="noStrike">
                <a:solidFill>
                  <a:srgbClr val="000000"/>
                </a:solidFill>
                <a:latin typeface="Calibri"/>
              </a:endParaRPr>
            </a:p>
          </p:txBody>
        </p:sp>
      </p:grpSp>
      <p:grpSp>
        <p:nvGrpSpPr>
          <p:cNvPr id="1349" name="Group 32"/>
          <p:cNvGrpSpPr/>
          <p:nvPr/>
        </p:nvGrpSpPr>
        <p:grpSpPr>
          <a:xfrm>
            <a:off x="7413480" y="1762200"/>
            <a:ext cx="3260880" cy="1090080"/>
            <a:chOff x="7413480" y="1762200"/>
            <a:chExt cx="3260880" cy="1090080"/>
          </a:xfrm>
        </p:grpSpPr>
        <p:grpSp>
          <p:nvGrpSpPr>
            <p:cNvPr id="1350" name="Group 27"/>
            <p:cNvGrpSpPr/>
            <p:nvPr/>
          </p:nvGrpSpPr>
          <p:grpSpPr>
            <a:xfrm>
              <a:off x="7413480" y="1803600"/>
              <a:ext cx="812520" cy="812160"/>
              <a:chOff x="7413480" y="1803600"/>
              <a:chExt cx="812520" cy="812160"/>
            </a:xfrm>
          </p:grpSpPr>
          <p:sp>
            <p:nvSpPr>
              <p:cNvPr id="1351" name="Rectangle 10"/>
              <p:cNvSpPr/>
              <p:nvPr/>
            </p:nvSpPr>
            <p:spPr>
              <a:xfrm>
                <a:off x="7413480" y="1803600"/>
                <a:ext cx="812520" cy="8121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2" name="Shape 4738"/>
              <p:cNvSpPr/>
              <p:nvPr/>
            </p:nvSpPr>
            <p:spPr>
              <a:xfrm>
                <a:off x="7667280" y="2059560"/>
                <a:ext cx="304920" cy="295920"/>
              </a:xfrm>
              <a:custGeom>
                <a:avLst/>
                <a:gdLst>
                  <a:gd name="textAreaLeft" fmla="*/ 0 w 304920"/>
                  <a:gd name="textAreaRight" fmla="*/ 305280 w 304920"/>
                  <a:gd name="textAreaTop" fmla="*/ 0 h 295920"/>
                  <a:gd name="textAreaBottom" fmla="*/ 296280 h 29592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353" name="Rectangle 17"/>
            <p:cNvSpPr/>
            <p:nvPr/>
          </p:nvSpPr>
          <p:spPr>
            <a:xfrm>
              <a:off x="8499960" y="1936080"/>
              <a:ext cx="195840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Sapien nam suspendisse, tincidunt</a:t>
              </a:r>
              <a:endParaRPr b="0" lang="en-US" sz="900" spc="-1" strike="noStrike">
                <a:solidFill>
                  <a:srgbClr val="000000"/>
                </a:solidFill>
                <a:latin typeface="Calibri"/>
              </a:endParaRPr>
            </a:p>
          </p:txBody>
        </p:sp>
        <p:sp>
          <p:nvSpPr>
            <p:cNvPr id="1354" name="Rectangle 19"/>
            <p:cNvSpPr/>
            <p:nvPr/>
          </p:nvSpPr>
          <p:spPr>
            <a:xfrm>
              <a:off x="8324640" y="1762200"/>
              <a:ext cx="234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Lato"/>
                  <a:ea typeface="Lato"/>
                </a:rPr>
                <a:t>1. LAYERED FILES</a:t>
              </a:r>
              <a:endParaRPr b="0" lang="en-US" sz="1200" spc="-1" strike="noStrike">
                <a:solidFill>
                  <a:srgbClr val="000000"/>
                </a:solidFill>
                <a:latin typeface="Calibri"/>
              </a:endParaRPr>
            </a:p>
          </p:txBody>
        </p:sp>
      </p:grpSp>
      <p:grpSp>
        <p:nvGrpSpPr>
          <p:cNvPr id="1355" name="Group 31"/>
          <p:cNvGrpSpPr/>
          <p:nvPr/>
        </p:nvGrpSpPr>
        <p:grpSpPr>
          <a:xfrm>
            <a:off x="7413480" y="3063960"/>
            <a:ext cx="3259440" cy="1091520"/>
            <a:chOff x="7413480" y="3063960"/>
            <a:chExt cx="3259440" cy="1091520"/>
          </a:xfrm>
        </p:grpSpPr>
        <p:grpSp>
          <p:nvGrpSpPr>
            <p:cNvPr id="1356" name="Group 28"/>
            <p:cNvGrpSpPr/>
            <p:nvPr/>
          </p:nvGrpSpPr>
          <p:grpSpPr>
            <a:xfrm>
              <a:off x="7413480" y="3142080"/>
              <a:ext cx="812520" cy="812520"/>
              <a:chOff x="7413480" y="3142080"/>
              <a:chExt cx="812520" cy="812520"/>
            </a:xfrm>
          </p:grpSpPr>
          <p:sp>
            <p:nvSpPr>
              <p:cNvPr id="1357" name="Rectangle 13"/>
              <p:cNvSpPr/>
              <p:nvPr/>
            </p:nvSpPr>
            <p:spPr>
              <a:xfrm>
                <a:off x="7413480" y="3142080"/>
                <a:ext cx="812520" cy="812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8" name="Shape 4741"/>
              <p:cNvSpPr/>
              <p:nvPr/>
            </p:nvSpPr>
            <p:spPr>
              <a:xfrm>
                <a:off x="7696080" y="3400560"/>
                <a:ext cx="246600" cy="295920"/>
              </a:xfrm>
              <a:custGeom>
                <a:avLst/>
                <a:gdLst>
                  <a:gd name="textAreaLeft" fmla="*/ 0 w 246600"/>
                  <a:gd name="textAreaRight" fmla="*/ 246960 w 246600"/>
                  <a:gd name="textAreaTop" fmla="*/ 0 h 295920"/>
                  <a:gd name="textAreaBottom" fmla="*/ 296280 h 295920"/>
                </a:gdLst>
                <a:ahLst/>
                <a:rect l="textAreaLeft" t="textAreaTop" r="textAreaRight" b="textAreaBottom"/>
                <a:pathLst>
                  <a:path w="120000" h="120000">
                    <a:moveTo>
                      <a:pt x="116286" y="45557"/>
                    </a:moveTo>
                    <a:lnTo>
                      <a:pt x="116286" y="45557"/>
                    </a:lnTo>
                    <a:cubicBezTo>
                      <a:pt x="102591" y="22681"/>
                      <a:pt x="102591" y="22681"/>
                      <a:pt x="102591" y="22681"/>
                    </a:cubicBezTo>
                    <a:cubicBezTo>
                      <a:pt x="102591" y="22681"/>
                      <a:pt x="102591" y="22681"/>
                      <a:pt x="99110" y="22681"/>
                    </a:cubicBezTo>
                    <a:cubicBezTo>
                      <a:pt x="71721" y="22681"/>
                      <a:pt x="71721" y="22681"/>
                      <a:pt x="71721" y="22681"/>
                    </a:cubicBezTo>
                    <a:cubicBezTo>
                      <a:pt x="71721" y="14151"/>
                      <a:pt x="71721" y="14151"/>
                      <a:pt x="71721" y="14151"/>
                    </a:cubicBezTo>
                    <a:cubicBezTo>
                      <a:pt x="71721" y="5621"/>
                      <a:pt x="64990" y="0"/>
                      <a:pt x="54777" y="0"/>
                    </a:cubicBezTo>
                    <a:cubicBezTo>
                      <a:pt x="44564" y="0"/>
                      <a:pt x="44564" y="0"/>
                      <a:pt x="44564" y="0"/>
                    </a:cubicBezTo>
                    <a:cubicBezTo>
                      <a:pt x="34352" y="0"/>
                      <a:pt x="27388" y="5621"/>
                      <a:pt x="27388" y="14151"/>
                    </a:cubicBezTo>
                    <a:cubicBezTo>
                      <a:pt x="27388" y="22681"/>
                      <a:pt x="27388" y="22681"/>
                      <a:pt x="27388" y="22681"/>
                    </a:cubicBezTo>
                    <a:cubicBezTo>
                      <a:pt x="10444" y="22681"/>
                      <a:pt x="10444" y="22681"/>
                      <a:pt x="10444" y="22681"/>
                    </a:cubicBezTo>
                    <a:cubicBezTo>
                      <a:pt x="3481" y="22681"/>
                      <a:pt x="0" y="25589"/>
                      <a:pt x="0" y="28497"/>
                    </a:cubicBezTo>
                    <a:cubicBezTo>
                      <a:pt x="0" y="68432"/>
                      <a:pt x="0" y="68432"/>
                      <a:pt x="0" y="68432"/>
                    </a:cubicBezTo>
                    <a:cubicBezTo>
                      <a:pt x="0" y="71147"/>
                      <a:pt x="3481" y="74054"/>
                      <a:pt x="10444" y="74054"/>
                    </a:cubicBezTo>
                    <a:cubicBezTo>
                      <a:pt x="27388" y="74054"/>
                      <a:pt x="27388" y="74054"/>
                      <a:pt x="27388" y="74054"/>
                    </a:cubicBezTo>
                    <a:cubicBezTo>
                      <a:pt x="27388" y="105460"/>
                      <a:pt x="27388" y="105460"/>
                      <a:pt x="27388" y="105460"/>
                    </a:cubicBezTo>
                    <a:cubicBezTo>
                      <a:pt x="27388" y="113990"/>
                      <a:pt x="34352" y="119806"/>
                      <a:pt x="44564" y="119806"/>
                    </a:cubicBezTo>
                    <a:cubicBezTo>
                      <a:pt x="54777" y="119806"/>
                      <a:pt x="54777" y="119806"/>
                      <a:pt x="54777" y="119806"/>
                    </a:cubicBezTo>
                    <a:cubicBezTo>
                      <a:pt x="64990" y="119806"/>
                      <a:pt x="71721" y="113990"/>
                      <a:pt x="71721" y="105460"/>
                    </a:cubicBezTo>
                    <a:cubicBezTo>
                      <a:pt x="71721" y="74054"/>
                      <a:pt x="71721" y="74054"/>
                      <a:pt x="71721" y="74054"/>
                    </a:cubicBezTo>
                    <a:cubicBezTo>
                      <a:pt x="99110" y="74054"/>
                      <a:pt x="99110" y="74054"/>
                      <a:pt x="99110" y="74054"/>
                    </a:cubicBezTo>
                    <a:cubicBezTo>
                      <a:pt x="102591" y="74054"/>
                      <a:pt x="102591" y="74054"/>
                      <a:pt x="102591" y="74054"/>
                    </a:cubicBezTo>
                    <a:cubicBezTo>
                      <a:pt x="116286" y="51179"/>
                      <a:pt x="116286" y="51179"/>
                      <a:pt x="116286" y="51179"/>
                    </a:cubicBezTo>
                    <a:cubicBezTo>
                      <a:pt x="119767" y="48465"/>
                      <a:pt x="119767" y="48465"/>
                      <a:pt x="119767" y="48465"/>
                    </a:cubicBezTo>
                    <a:cubicBezTo>
                      <a:pt x="119767" y="48465"/>
                      <a:pt x="119767" y="45557"/>
                      <a:pt x="116286" y="45557"/>
                    </a:cubicBezTo>
                    <a:close/>
                    <a:moveTo>
                      <a:pt x="37601" y="14151"/>
                    </a:moveTo>
                    <a:lnTo>
                      <a:pt x="37601" y="14151"/>
                    </a:lnTo>
                    <a:cubicBezTo>
                      <a:pt x="37601" y="11243"/>
                      <a:pt x="41083" y="5621"/>
                      <a:pt x="44564" y="5621"/>
                    </a:cubicBezTo>
                    <a:cubicBezTo>
                      <a:pt x="54777" y="5621"/>
                      <a:pt x="54777" y="5621"/>
                      <a:pt x="54777" y="5621"/>
                    </a:cubicBezTo>
                    <a:cubicBezTo>
                      <a:pt x="58259" y="5621"/>
                      <a:pt x="64990" y="11243"/>
                      <a:pt x="64990" y="14151"/>
                    </a:cubicBezTo>
                    <a:cubicBezTo>
                      <a:pt x="64990" y="22681"/>
                      <a:pt x="64990" y="22681"/>
                      <a:pt x="64990" y="22681"/>
                    </a:cubicBezTo>
                    <a:cubicBezTo>
                      <a:pt x="37601" y="22681"/>
                      <a:pt x="37601" y="22681"/>
                      <a:pt x="37601" y="22681"/>
                    </a:cubicBezTo>
                    <a:lnTo>
                      <a:pt x="37601" y="14151"/>
                    </a:lnTo>
                    <a:close/>
                    <a:moveTo>
                      <a:pt x="64990" y="105460"/>
                    </a:moveTo>
                    <a:lnTo>
                      <a:pt x="64990" y="105460"/>
                    </a:lnTo>
                    <a:cubicBezTo>
                      <a:pt x="64990" y="108368"/>
                      <a:pt x="58259" y="113990"/>
                      <a:pt x="54777" y="113990"/>
                    </a:cubicBezTo>
                    <a:cubicBezTo>
                      <a:pt x="44564" y="113990"/>
                      <a:pt x="44564" y="113990"/>
                      <a:pt x="44564" y="113990"/>
                    </a:cubicBezTo>
                    <a:cubicBezTo>
                      <a:pt x="41083" y="113990"/>
                      <a:pt x="37601" y="108368"/>
                      <a:pt x="37601" y="105460"/>
                    </a:cubicBezTo>
                    <a:cubicBezTo>
                      <a:pt x="37601" y="74054"/>
                      <a:pt x="37601" y="74054"/>
                      <a:pt x="37601" y="74054"/>
                    </a:cubicBezTo>
                    <a:cubicBezTo>
                      <a:pt x="64990" y="74054"/>
                      <a:pt x="64990" y="74054"/>
                      <a:pt x="64990" y="74054"/>
                    </a:cubicBezTo>
                    <a:lnTo>
                      <a:pt x="64990" y="105460"/>
                    </a:lnTo>
                    <a:close/>
                    <a:moveTo>
                      <a:pt x="99110" y="65525"/>
                    </a:moveTo>
                    <a:lnTo>
                      <a:pt x="99110" y="65525"/>
                    </a:lnTo>
                    <a:cubicBezTo>
                      <a:pt x="99110" y="68432"/>
                      <a:pt x="95860" y="68432"/>
                      <a:pt x="95860" y="68432"/>
                    </a:cubicBezTo>
                    <a:cubicBezTo>
                      <a:pt x="13694" y="68432"/>
                      <a:pt x="13694" y="68432"/>
                      <a:pt x="13694" y="68432"/>
                    </a:cubicBezTo>
                    <a:cubicBezTo>
                      <a:pt x="10444" y="68432"/>
                      <a:pt x="10444" y="65525"/>
                      <a:pt x="10444" y="62617"/>
                    </a:cubicBezTo>
                    <a:cubicBezTo>
                      <a:pt x="10444" y="34119"/>
                      <a:pt x="10444" y="34119"/>
                      <a:pt x="10444" y="34119"/>
                    </a:cubicBezTo>
                    <a:cubicBezTo>
                      <a:pt x="10444" y="31405"/>
                      <a:pt x="10444" y="28497"/>
                      <a:pt x="13694" y="28497"/>
                    </a:cubicBezTo>
                    <a:cubicBezTo>
                      <a:pt x="95860" y="28497"/>
                      <a:pt x="95860" y="28497"/>
                      <a:pt x="95860" y="28497"/>
                    </a:cubicBezTo>
                    <a:cubicBezTo>
                      <a:pt x="95860" y="28497"/>
                      <a:pt x="99110" y="28497"/>
                      <a:pt x="99110" y="31405"/>
                    </a:cubicBezTo>
                    <a:cubicBezTo>
                      <a:pt x="109555" y="48465"/>
                      <a:pt x="109555" y="48465"/>
                      <a:pt x="109555" y="48465"/>
                    </a:cubicBezTo>
                    <a:lnTo>
                      <a:pt x="99110" y="655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359" name="Rectangle 16"/>
            <p:cNvSpPr/>
            <p:nvPr/>
          </p:nvSpPr>
          <p:spPr>
            <a:xfrm>
              <a:off x="8515440" y="3239280"/>
              <a:ext cx="2057040" cy="916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360" name="Rectangle 20"/>
            <p:cNvSpPr/>
            <p:nvPr/>
          </p:nvSpPr>
          <p:spPr>
            <a:xfrm>
              <a:off x="8324640" y="3063960"/>
              <a:ext cx="234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Lato"/>
                  <a:ea typeface="Lato"/>
                </a:rPr>
                <a:t>2. UNLIMITED OPTIONS</a:t>
              </a:r>
              <a:endParaRPr b="0" lang="en-US" sz="1200" spc="-1" strike="noStrike">
                <a:solidFill>
                  <a:srgbClr val="000000"/>
                </a:solidFill>
                <a:latin typeface="Calibri"/>
              </a:endParaRPr>
            </a:p>
          </p:txBody>
        </p:sp>
      </p:grpSp>
      <p:sp>
        <p:nvSpPr>
          <p:cNvPr id="1361" name="Rectangle 23"/>
          <p:cNvSpPr/>
          <p:nvPr/>
        </p:nvSpPr>
        <p:spPr>
          <a:xfrm>
            <a:off x="1155600" y="4370400"/>
            <a:ext cx="291960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a:t>
            </a:r>
            <a:endParaRPr b="0" lang="en-US" sz="900" spc="-1" strike="noStrike">
              <a:solidFill>
                <a:srgbClr val="000000"/>
              </a:solidFill>
              <a:latin typeface="Calibri"/>
            </a:endParaRPr>
          </a:p>
        </p:txBody>
      </p:sp>
      <p:sp>
        <p:nvSpPr>
          <p:cNvPr id="1362" name="Subtitle 2"/>
          <p:cNvSpPr/>
          <p:nvPr/>
        </p:nvSpPr>
        <p:spPr>
          <a:xfrm>
            <a:off x="1155600" y="1433520"/>
            <a:ext cx="2381400" cy="196848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41318"/>
                </a:solidFill>
                <a:latin typeface="Kelson Sans"/>
                <a:ea typeface="Lato"/>
              </a:rPr>
              <a:t>Phone Device Mockup Slide</a:t>
            </a:r>
            <a:endParaRPr b="0" lang="en-US" sz="3600" spc="-1" strike="noStrike">
              <a:solidFill>
                <a:srgbClr val="000000"/>
              </a:solidFill>
              <a:latin typeface="Calibri"/>
            </a:endParaRPr>
          </a:p>
        </p:txBody>
      </p:sp>
      <p:sp>
        <p:nvSpPr>
          <p:cNvPr id="1363" name="Rectangle 36"/>
          <p:cNvSpPr/>
          <p:nvPr/>
        </p:nvSpPr>
        <p:spPr>
          <a:xfrm>
            <a:off x="1155600" y="3548160"/>
            <a:ext cx="135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d0d0d"/>
                </a:solidFill>
                <a:latin typeface="Kelson Sans"/>
                <a:ea typeface="Lato"/>
              </a:rPr>
              <a:t>Mockup Section</a:t>
            </a:r>
            <a:endParaRPr b="0" lang="en-US" sz="1200" spc="-1" strike="noStrike">
              <a:solidFill>
                <a:srgbClr val="000000"/>
              </a:solidFill>
              <a:latin typeface="Calibri"/>
            </a:endParaRPr>
          </a:p>
        </p:txBody>
      </p:sp>
      <p:pic>
        <p:nvPicPr>
          <p:cNvPr id="1364" name="" descr=""/>
          <p:cNvPicPr/>
          <p:nvPr/>
        </p:nvPicPr>
        <p:blipFill>
          <a:blip r:embed="rId1"/>
          <a:stretch/>
        </p:blipFill>
        <p:spPr>
          <a:xfrm>
            <a:off x="4673160" y="1523520"/>
            <a:ext cx="2095560" cy="3784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Subtitle 2"/>
          <p:cNvSpPr/>
          <p:nvPr/>
        </p:nvSpPr>
        <p:spPr>
          <a:xfrm>
            <a:off x="5610240" y="1809720"/>
            <a:ext cx="2085840" cy="1974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d0d0d"/>
                </a:solidFill>
                <a:latin typeface="Kelson Sans"/>
                <a:ea typeface="Lato"/>
              </a:rPr>
              <a:t>Laptop Device Mockup Slide</a:t>
            </a:r>
            <a:endParaRPr b="0" lang="en-US" sz="3200" spc="-1" strike="noStrike">
              <a:solidFill>
                <a:srgbClr val="000000"/>
              </a:solidFill>
              <a:latin typeface="Calibri"/>
            </a:endParaRPr>
          </a:p>
        </p:txBody>
      </p:sp>
      <p:sp>
        <p:nvSpPr>
          <p:cNvPr id="1366" name="Rectangle 4"/>
          <p:cNvSpPr/>
          <p:nvPr/>
        </p:nvSpPr>
        <p:spPr>
          <a:xfrm>
            <a:off x="5610240" y="3784680"/>
            <a:ext cx="135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d0d0d"/>
                </a:solidFill>
                <a:latin typeface="Kelson Sans"/>
                <a:ea typeface="Lato"/>
              </a:rPr>
              <a:t>Mockup Section</a:t>
            </a:r>
            <a:endParaRPr b="0" lang="en-US" sz="1200" spc="-1" strike="noStrike">
              <a:solidFill>
                <a:srgbClr val="000000"/>
              </a:solidFill>
              <a:latin typeface="Calibri"/>
            </a:endParaRPr>
          </a:p>
        </p:txBody>
      </p:sp>
      <p:sp>
        <p:nvSpPr>
          <p:cNvPr id="1367" name="Rectangle 5"/>
          <p:cNvSpPr/>
          <p:nvPr/>
        </p:nvSpPr>
        <p:spPr>
          <a:xfrm>
            <a:off x="5610240" y="4313160"/>
            <a:ext cx="3000240" cy="1327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a:t>
            </a:r>
            <a:endParaRPr b="0" lang="en-US" sz="900" spc="-1" strike="noStrike">
              <a:solidFill>
                <a:srgbClr val="000000"/>
              </a:solidFill>
              <a:latin typeface="Calibri"/>
            </a:endParaRPr>
          </a:p>
        </p:txBody>
      </p:sp>
      <p:sp>
        <p:nvSpPr>
          <p:cNvPr id="1368" name="Rectangle 6"/>
          <p:cNvSpPr/>
          <p:nvPr/>
        </p:nvSpPr>
        <p:spPr>
          <a:xfrm>
            <a:off x="8953560" y="4313160"/>
            <a:ext cx="245736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a:t>
            </a:r>
            <a:endParaRPr b="0" lang="en-US" sz="900" spc="-1" strike="noStrike">
              <a:solidFill>
                <a:srgbClr val="000000"/>
              </a:solidFill>
              <a:latin typeface="Calibri"/>
            </a:endParaRPr>
          </a:p>
        </p:txBody>
      </p:sp>
      <p:pic>
        <p:nvPicPr>
          <p:cNvPr id="1369" name="" descr=""/>
          <p:cNvPicPr/>
          <p:nvPr/>
        </p:nvPicPr>
        <p:blipFill>
          <a:blip r:embed="rId1"/>
          <a:stretch/>
        </p:blipFill>
        <p:spPr>
          <a:xfrm>
            <a:off x="-900000" y="1947960"/>
            <a:ext cx="5749920" cy="367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9"/>
          <p:cNvSpPr/>
          <p:nvPr/>
        </p:nvSpPr>
        <p:spPr>
          <a:xfrm>
            <a:off x="7670880" y="4238640"/>
            <a:ext cx="359712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41318"/>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a:t>
            </a:r>
            <a:endParaRPr b="0" lang="en-US" sz="900" spc="-1" strike="noStrike">
              <a:solidFill>
                <a:srgbClr val="000000"/>
              </a:solidFill>
              <a:latin typeface="Calibri"/>
            </a:endParaRPr>
          </a:p>
        </p:txBody>
      </p:sp>
      <p:sp>
        <p:nvSpPr>
          <p:cNvPr id="1371" name="Rectangle 10"/>
          <p:cNvSpPr/>
          <p:nvPr/>
        </p:nvSpPr>
        <p:spPr>
          <a:xfrm>
            <a:off x="7670880" y="3860640"/>
            <a:ext cx="1527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d0d0d"/>
                </a:solidFill>
                <a:latin typeface="Kelson Sans"/>
                <a:ea typeface="Lato"/>
              </a:rPr>
              <a:t>YOUR SUBTITLE HERE</a:t>
            </a:r>
            <a:endParaRPr b="0" lang="en-US" sz="1200" spc="-1" strike="noStrike">
              <a:solidFill>
                <a:srgbClr val="000000"/>
              </a:solidFill>
              <a:latin typeface="Calibri"/>
            </a:endParaRPr>
          </a:p>
        </p:txBody>
      </p:sp>
      <p:sp>
        <p:nvSpPr>
          <p:cNvPr id="1372" name="Subtitle 2"/>
          <p:cNvSpPr/>
          <p:nvPr/>
        </p:nvSpPr>
        <p:spPr>
          <a:xfrm>
            <a:off x="7693200" y="1984320"/>
            <a:ext cx="2936880" cy="1455840"/>
          </a:xfrm>
          <a:prstGeom prst="rect">
            <a:avLst/>
          </a:prstGeom>
          <a:noFill/>
          <a:ln w="0">
            <a:noFill/>
          </a:ln>
        </p:spPr>
        <p:style>
          <a:lnRef idx="0"/>
          <a:fillRef idx="0"/>
          <a:effectRef idx="0"/>
          <a:fontRef idx="minor"/>
        </p:style>
        <p:txBody>
          <a:bodyPr lIns="90000" rIns="90000" tIns="46800" bIns="46800" anchor="t">
            <a:normAutofit fontScale="83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41318"/>
                </a:solidFill>
                <a:latin typeface="Kelson Sans"/>
                <a:ea typeface="Lato"/>
              </a:rPr>
              <a:t>Laptop Device Mockup Slide</a:t>
            </a:r>
            <a:endParaRPr b="0" lang="en-US" sz="3600" spc="-1" strike="noStrike">
              <a:solidFill>
                <a:srgbClr val="000000"/>
              </a:solidFill>
              <a:latin typeface="Calibri"/>
            </a:endParaRPr>
          </a:p>
        </p:txBody>
      </p:sp>
      <p:pic>
        <p:nvPicPr>
          <p:cNvPr id="1373" name="" descr=""/>
          <p:cNvPicPr/>
          <p:nvPr/>
        </p:nvPicPr>
        <p:blipFill>
          <a:blip r:embed="rId1"/>
          <a:stretch/>
        </p:blipFill>
        <p:spPr>
          <a:xfrm>
            <a:off x="1695240" y="1983960"/>
            <a:ext cx="4446360" cy="288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15"/>
          <p:cNvSpPr/>
          <p:nvPr/>
        </p:nvSpPr>
        <p:spPr>
          <a:xfrm>
            <a:off x="0" y="0"/>
            <a:ext cx="12192120" cy="6858000"/>
          </a:xfrm>
          <a:prstGeom prst="rect">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Subtitle 2"/>
          <p:cNvSpPr/>
          <p:nvPr/>
        </p:nvSpPr>
        <p:spPr>
          <a:xfrm>
            <a:off x="3608280" y="5643720"/>
            <a:ext cx="4964400" cy="323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Lato Light"/>
                <a:ea typeface="Lato Light"/>
              </a:rPr>
              <a:t>MULTIPURPOSE PRESENTATION</a:t>
            </a:r>
            <a:endParaRPr b="0" lang="en-US" sz="1200" spc="-1" strike="noStrike">
              <a:solidFill>
                <a:srgbClr val="000000"/>
              </a:solidFill>
              <a:latin typeface="Calibri"/>
            </a:endParaRPr>
          </a:p>
        </p:txBody>
      </p:sp>
      <p:sp>
        <p:nvSpPr>
          <p:cNvPr id="1376" name="Rectangle 6"/>
          <p:cNvSpPr/>
          <p:nvPr/>
        </p:nvSpPr>
        <p:spPr>
          <a:xfrm>
            <a:off x="3357720" y="2828880"/>
            <a:ext cx="59277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0" spc="-1" strike="noStrike">
                <a:solidFill>
                  <a:srgbClr val="ffffff"/>
                </a:solidFill>
                <a:latin typeface="Kelson Sans"/>
                <a:ea typeface="Lato"/>
              </a:rPr>
              <a:t>THANK YOU</a:t>
            </a:r>
            <a:endParaRPr b="0" lang="en-US" sz="8000" spc="-1" strike="noStrike">
              <a:solidFill>
                <a:srgbClr val="000000"/>
              </a:solidFill>
              <a:latin typeface="Calibri"/>
            </a:endParaRPr>
          </a:p>
        </p:txBody>
      </p:sp>
      <p:sp>
        <p:nvSpPr>
          <p:cNvPr id="1377" name="Rectangle 5"/>
          <p:cNvSpPr/>
          <p:nvPr/>
        </p:nvSpPr>
        <p:spPr>
          <a:xfrm>
            <a:off x="4011480" y="1111320"/>
            <a:ext cx="416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ffffff"/>
                </a:solidFill>
                <a:latin typeface="Lato Light"/>
                <a:ea typeface="Lato Light"/>
              </a:rPr>
              <a:t>YOU ARE THE BEST CHOICE</a:t>
            </a:r>
            <a:endParaRPr b="0" lang="en-US" sz="1200" spc="-1" strike="noStrike">
              <a:solidFill>
                <a:srgbClr val="000000"/>
              </a:solidFill>
              <a:latin typeface="Calibri"/>
            </a:endParaRPr>
          </a:p>
        </p:txBody>
      </p:sp>
      <p:pic>
        <p:nvPicPr>
          <p:cNvPr id="137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5"/>
          <p:cNvSpPr/>
          <p:nvPr/>
        </p:nvSpPr>
        <p:spPr>
          <a:xfrm>
            <a:off x="6208560" y="4670280"/>
            <a:ext cx="41068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81717"/>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a:t>
            </a:r>
            <a:endParaRPr b="0" lang="en-US" sz="1000" spc="-1" strike="noStrike">
              <a:solidFill>
                <a:srgbClr val="000000"/>
              </a:solidFill>
              <a:latin typeface="Calibri"/>
            </a:endParaRPr>
          </a:p>
        </p:txBody>
      </p:sp>
      <p:sp>
        <p:nvSpPr>
          <p:cNvPr id="1053" name="Subtitle 2"/>
          <p:cNvSpPr/>
          <p:nvPr/>
        </p:nvSpPr>
        <p:spPr>
          <a:xfrm>
            <a:off x="6208560" y="1523880"/>
            <a:ext cx="4003920" cy="587520"/>
          </a:xfrm>
          <a:prstGeom prst="rect">
            <a:avLst/>
          </a:prstGeom>
          <a:noFill/>
          <a:ln w="0">
            <a:noFill/>
          </a:ln>
        </p:spPr>
        <p:style>
          <a:lnRef idx="0"/>
          <a:fillRef idx="0"/>
          <a:effectRef idx="0"/>
          <a:fontRef idx="minor"/>
        </p:style>
        <p:txBody>
          <a:bodyPr lIns="90000" rIns="90000" tIns="46800" bIns="46800" anchor="t">
            <a:normAutofit fontScale="83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181717"/>
                </a:solidFill>
                <a:latin typeface="Kelson Sans"/>
                <a:ea typeface="Lato"/>
              </a:rPr>
              <a:t>Introduction Word</a:t>
            </a:r>
            <a:endParaRPr b="0" lang="en-US" sz="3600" spc="-1" strike="noStrike">
              <a:solidFill>
                <a:srgbClr val="000000"/>
              </a:solidFill>
              <a:latin typeface="Calibri"/>
            </a:endParaRPr>
          </a:p>
        </p:txBody>
      </p:sp>
      <p:sp>
        <p:nvSpPr>
          <p:cNvPr id="1054" name="Rectangle 7"/>
          <p:cNvSpPr/>
          <p:nvPr/>
        </p:nvSpPr>
        <p:spPr>
          <a:xfrm>
            <a:off x="6208560" y="2806560"/>
            <a:ext cx="3875400" cy="191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81717"/>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vivamus porttitor dolor, conubia mollit. Sapien nam suspendisse, tincidunt eget ante tincidunt, eros in auctor fringilla praesent at diam vivamus porttitor dolor, conubia mollit. praesent at diam</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55" name="Subtitle 2"/>
          <p:cNvSpPr/>
          <p:nvPr/>
        </p:nvSpPr>
        <p:spPr>
          <a:xfrm>
            <a:off x="6208560" y="1339920"/>
            <a:ext cx="1713240" cy="18396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181717"/>
                </a:solidFill>
                <a:latin typeface="Lato"/>
                <a:ea typeface="Lato"/>
              </a:rPr>
              <a:t>LOREM IPSUM</a:t>
            </a:r>
            <a:endParaRPr b="0" lang="en-US" sz="800" spc="-1" strike="noStrike">
              <a:solidFill>
                <a:srgbClr val="000000"/>
              </a:solidFill>
              <a:latin typeface="Calibri"/>
            </a:endParaRPr>
          </a:p>
        </p:txBody>
      </p:sp>
      <p:sp>
        <p:nvSpPr>
          <p:cNvPr id="1056" name="Straight Connector 10"/>
          <p:cNvSpPr/>
          <p:nvPr/>
        </p:nvSpPr>
        <p:spPr>
          <a:xfrm>
            <a:off x="6324480" y="2266920"/>
            <a:ext cx="784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57" name="" descr=""/>
          <p:cNvPicPr/>
          <p:nvPr/>
        </p:nvPicPr>
        <p:blipFill>
          <a:blip r:embed="rId1"/>
          <a:stretch/>
        </p:blipFill>
        <p:spPr>
          <a:xfrm>
            <a:off x="0" y="0"/>
            <a:ext cx="5727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Subtitle 2"/>
          <p:cNvSpPr/>
          <p:nvPr/>
        </p:nvSpPr>
        <p:spPr>
          <a:xfrm>
            <a:off x="946080" y="1114560"/>
            <a:ext cx="3130560" cy="1717560"/>
          </a:xfrm>
          <a:prstGeom prst="rect">
            <a:avLst/>
          </a:prstGeom>
          <a:noFill/>
          <a:ln w="0">
            <a:noFill/>
          </a:ln>
        </p:spPr>
        <p:style>
          <a:lnRef idx="0"/>
          <a:fillRef idx="0"/>
          <a:effectRef idx="0"/>
          <a:fontRef idx="minor"/>
        </p:style>
        <p:txBody>
          <a:bodyPr lIns="90000" rIns="90000" tIns="46800" bIns="46800"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181717"/>
                </a:solidFill>
                <a:latin typeface="Kelson Sans"/>
                <a:ea typeface="Lato"/>
              </a:rPr>
              <a:t>Introduction Text Slide Here</a:t>
            </a:r>
            <a:endParaRPr b="0" lang="en-US" sz="4000" spc="-1" strike="noStrike">
              <a:solidFill>
                <a:srgbClr val="000000"/>
              </a:solidFill>
              <a:latin typeface="Calibri"/>
            </a:endParaRPr>
          </a:p>
        </p:txBody>
      </p:sp>
      <p:sp>
        <p:nvSpPr>
          <p:cNvPr id="1059" name="Rectangle 9"/>
          <p:cNvSpPr/>
          <p:nvPr/>
        </p:nvSpPr>
        <p:spPr>
          <a:xfrm>
            <a:off x="5238720" y="2330280"/>
            <a:ext cx="594036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81717"/>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a:t>
            </a:r>
            <a:endParaRPr b="0" lang="en-US" sz="1000" spc="-1" strike="noStrike">
              <a:solidFill>
                <a:srgbClr val="000000"/>
              </a:solidFill>
              <a:latin typeface="Calibri"/>
            </a:endParaRPr>
          </a:p>
        </p:txBody>
      </p:sp>
      <p:sp>
        <p:nvSpPr>
          <p:cNvPr id="1060" name="Rectangle 10"/>
          <p:cNvSpPr/>
          <p:nvPr/>
        </p:nvSpPr>
        <p:spPr>
          <a:xfrm>
            <a:off x="5238720" y="1114560"/>
            <a:ext cx="5940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181717"/>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vivamus porttitor dolor, conubia mollit. Sapien nam suspendisse, tincidunt eget ante tincidunt, eros in auctor fringilla praesent at diam vivamus porttitor dolor, conubia mollit. praesent at diam</a:t>
            </a:r>
            <a:endParaRPr b="0" lang="en-US" sz="1000" spc="-1" strike="noStrike">
              <a:solidFill>
                <a:srgbClr val="000000"/>
              </a:solidFill>
              <a:latin typeface="Calibri"/>
            </a:endParaRPr>
          </a:p>
        </p:txBody>
      </p:sp>
      <p:pic>
        <p:nvPicPr>
          <p:cNvPr id="1061" name="" descr=""/>
          <p:cNvPicPr/>
          <p:nvPr/>
        </p:nvPicPr>
        <p:blipFill>
          <a:blip r:embed="rId1"/>
          <a:stretch/>
        </p:blipFill>
        <p:spPr>
          <a:xfrm>
            <a:off x="-360" y="3403440"/>
            <a:ext cx="12192120" cy="345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5"/>
          <p:cNvSpPr/>
          <p:nvPr/>
        </p:nvSpPr>
        <p:spPr>
          <a:xfrm>
            <a:off x="1001880" y="608040"/>
            <a:ext cx="10188360" cy="5641920"/>
          </a:xfrm>
          <a:prstGeom prst="rect">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3" name="Subtitle 2"/>
          <p:cNvSpPr/>
          <p:nvPr/>
        </p:nvSpPr>
        <p:spPr>
          <a:xfrm>
            <a:off x="1598760" y="1876320"/>
            <a:ext cx="3179520" cy="193536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Kelson Sans"/>
                <a:ea typeface="Lato"/>
              </a:rPr>
              <a:t>We Create New Digital Solution</a:t>
            </a:r>
            <a:endParaRPr b="0" lang="en-US" sz="4400" spc="-1" strike="noStrike">
              <a:solidFill>
                <a:srgbClr val="000000"/>
              </a:solidFill>
              <a:latin typeface="Calibri"/>
            </a:endParaRPr>
          </a:p>
        </p:txBody>
      </p:sp>
      <p:sp>
        <p:nvSpPr>
          <p:cNvPr id="1064" name="Rectangle 7"/>
          <p:cNvSpPr/>
          <p:nvPr/>
        </p:nvSpPr>
        <p:spPr>
          <a:xfrm>
            <a:off x="1598760" y="4456080"/>
            <a:ext cx="52149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a:t>
            </a:r>
            <a:endParaRPr b="0" lang="en-US" sz="1000" spc="-1" strike="noStrike">
              <a:solidFill>
                <a:srgbClr val="000000"/>
              </a:solidFill>
              <a:latin typeface="Calibri"/>
            </a:endParaRPr>
          </a:p>
        </p:txBody>
      </p:sp>
      <p:sp>
        <p:nvSpPr>
          <p:cNvPr id="1065" name="Straight Connector 8"/>
          <p:cNvSpPr/>
          <p:nvPr/>
        </p:nvSpPr>
        <p:spPr>
          <a:xfrm>
            <a:off x="1735200" y="4160880"/>
            <a:ext cx="7840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66"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3"/>
          <p:cNvSpPr/>
          <p:nvPr/>
        </p:nvSpPr>
        <p:spPr>
          <a:xfrm>
            <a:off x="5265720" y="2527200"/>
            <a:ext cx="277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ABOUT SLIDE</a:t>
            </a:r>
            <a:endParaRPr b="0" lang="en-US" sz="3600" spc="-1" strike="noStrike">
              <a:solidFill>
                <a:srgbClr val="000000"/>
              </a:solidFill>
              <a:latin typeface="Calibri"/>
            </a:endParaRPr>
          </a:p>
        </p:txBody>
      </p:sp>
      <p:sp>
        <p:nvSpPr>
          <p:cNvPr id="1068" name="Rectangle 4"/>
          <p:cNvSpPr/>
          <p:nvPr/>
        </p:nvSpPr>
        <p:spPr>
          <a:xfrm>
            <a:off x="5265720" y="3662280"/>
            <a:ext cx="357984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069" name="Rectangle 5"/>
          <p:cNvSpPr/>
          <p:nvPr/>
        </p:nvSpPr>
        <p:spPr>
          <a:xfrm>
            <a:off x="9056520" y="3662280"/>
            <a:ext cx="262116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070" name="Rectangle 6"/>
          <p:cNvSpPr/>
          <p:nvPr/>
        </p:nvSpPr>
        <p:spPr>
          <a:xfrm>
            <a:off x="5265720" y="4794120"/>
            <a:ext cx="3579840" cy="505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a:t>
            </a:r>
            <a:endParaRPr b="0" lang="en-US" sz="900" spc="-1" strike="noStrike">
              <a:solidFill>
                <a:srgbClr val="000000"/>
              </a:solidFill>
              <a:latin typeface="Calibri"/>
            </a:endParaRPr>
          </a:p>
        </p:txBody>
      </p:sp>
      <p:pic>
        <p:nvPicPr>
          <p:cNvPr id="1071" name="" descr=""/>
          <p:cNvPicPr/>
          <p:nvPr/>
        </p:nvPicPr>
        <p:blipFill>
          <a:blip r:embed="rId1"/>
          <a:stretch/>
        </p:blipFill>
        <p:spPr>
          <a:xfrm>
            <a:off x="0" y="0"/>
            <a:ext cx="48196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6"/>
          <p:cNvSpPr/>
          <p:nvPr/>
        </p:nvSpPr>
        <p:spPr>
          <a:xfrm>
            <a:off x="1231920" y="3286080"/>
            <a:ext cx="274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OUR HISTORY</a:t>
            </a:r>
            <a:endParaRPr b="0" lang="en-US" sz="3600" spc="-1" strike="noStrike">
              <a:solidFill>
                <a:srgbClr val="000000"/>
              </a:solidFill>
              <a:latin typeface="Calibri"/>
            </a:endParaRPr>
          </a:p>
        </p:txBody>
      </p:sp>
      <p:sp>
        <p:nvSpPr>
          <p:cNvPr id="1073" name="Rectangle 7"/>
          <p:cNvSpPr/>
          <p:nvPr/>
        </p:nvSpPr>
        <p:spPr>
          <a:xfrm>
            <a:off x="1231920" y="426888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sp>
        <p:nvSpPr>
          <p:cNvPr id="1074" name="Rectangle 8"/>
          <p:cNvSpPr/>
          <p:nvPr/>
        </p:nvSpPr>
        <p:spPr>
          <a:xfrm>
            <a:off x="1231920" y="4486320"/>
            <a:ext cx="435924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075" name="Rectangle 9"/>
          <p:cNvSpPr/>
          <p:nvPr/>
        </p:nvSpPr>
        <p:spPr>
          <a:xfrm>
            <a:off x="6013440" y="4486320"/>
            <a:ext cx="400680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pic>
        <p:nvPicPr>
          <p:cNvPr id="1076" name="" descr=""/>
          <p:cNvPicPr/>
          <p:nvPr/>
        </p:nvPicPr>
        <p:blipFill>
          <a:blip r:embed="rId1"/>
          <a:stretch/>
        </p:blipFill>
        <p:spPr>
          <a:xfrm>
            <a:off x="-360" y="0"/>
            <a:ext cx="12192120" cy="28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19"/>
          <p:cNvSpPr/>
          <p:nvPr/>
        </p:nvSpPr>
        <p:spPr>
          <a:xfrm>
            <a:off x="7147080" y="2530440"/>
            <a:ext cx="177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Black"/>
              </a:rPr>
              <a:t>MISSION</a:t>
            </a:r>
            <a:endParaRPr b="0" lang="en-US" sz="3600" spc="-1" strike="noStrike">
              <a:solidFill>
                <a:srgbClr val="000000"/>
              </a:solidFill>
              <a:latin typeface="Calibri"/>
            </a:endParaRPr>
          </a:p>
        </p:txBody>
      </p:sp>
      <p:sp>
        <p:nvSpPr>
          <p:cNvPr id="1078" name="Rectangle 20"/>
          <p:cNvSpPr/>
          <p:nvPr/>
        </p:nvSpPr>
        <p:spPr>
          <a:xfrm>
            <a:off x="7147080" y="3916440"/>
            <a:ext cx="352080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079" name="Rectangle 21"/>
          <p:cNvSpPr/>
          <p:nvPr/>
        </p:nvSpPr>
        <p:spPr>
          <a:xfrm>
            <a:off x="7147080" y="3638520"/>
            <a:ext cx="103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Black"/>
              </a:rPr>
              <a:t>Subtitle Here</a:t>
            </a:r>
            <a:endParaRPr b="0" lang="en-US" sz="1200" spc="-1" strike="noStrike">
              <a:solidFill>
                <a:srgbClr val="000000"/>
              </a:solidFill>
              <a:latin typeface="Calibri"/>
            </a:endParaRPr>
          </a:p>
        </p:txBody>
      </p:sp>
      <p:sp>
        <p:nvSpPr>
          <p:cNvPr id="1080" name="Rectangle 9"/>
          <p:cNvSpPr/>
          <p:nvPr/>
        </p:nvSpPr>
        <p:spPr>
          <a:xfrm>
            <a:off x="1171440" y="1190520"/>
            <a:ext cx="2203560" cy="2016360"/>
          </a:xfrm>
          <a:prstGeom prst="rect">
            <a:avLst/>
          </a:prstGeom>
          <a:solidFill>
            <a:srgbClr val="0d0d0d">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Rectangle 22"/>
          <p:cNvSpPr/>
          <p:nvPr/>
        </p:nvSpPr>
        <p:spPr>
          <a:xfrm>
            <a:off x="3870360" y="1190520"/>
            <a:ext cx="2203560" cy="2016360"/>
          </a:xfrm>
          <a:prstGeom prst="rect">
            <a:avLst/>
          </a:prstGeom>
          <a:solidFill>
            <a:srgbClr val="0d0d0d">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Rectangle 23"/>
          <p:cNvSpPr/>
          <p:nvPr/>
        </p:nvSpPr>
        <p:spPr>
          <a:xfrm>
            <a:off x="3870360" y="3638520"/>
            <a:ext cx="2203560" cy="2016000"/>
          </a:xfrm>
          <a:prstGeom prst="rect">
            <a:avLst/>
          </a:prstGeom>
          <a:solidFill>
            <a:srgbClr val="0d0d0d">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3" name="Rectangle 24"/>
          <p:cNvSpPr/>
          <p:nvPr/>
        </p:nvSpPr>
        <p:spPr>
          <a:xfrm>
            <a:off x="1163520" y="3651120"/>
            <a:ext cx="2203560" cy="2016360"/>
          </a:xfrm>
          <a:prstGeom prst="rect">
            <a:avLst/>
          </a:prstGeom>
          <a:solidFill>
            <a:srgbClr val="0d0d0d">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4" name="Shape 5060"/>
          <p:cNvSpPr/>
          <p:nvPr/>
        </p:nvSpPr>
        <p:spPr>
          <a:xfrm>
            <a:off x="4759200" y="1986120"/>
            <a:ext cx="425520" cy="425160"/>
          </a:xfrm>
          <a:custGeom>
            <a:avLst/>
            <a:gdLst>
              <a:gd name="textAreaLeft" fmla="*/ 0 w 425520"/>
              <a:gd name="textAreaRight" fmla="*/ 425880 w 425520"/>
              <a:gd name="textAreaTop" fmla="*/ 0 h 425160"/>
              <a:gd name="textAreaBottom" fmla="*/ 425520 h 42516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5" name="Shape 5064"/>
          <p:cNvSpPr/>
          <p:nvPr/>
        </p:nvSpPr>
        <p:spPr>
          <a:xfrm>
            <a:off x="2084400" y="2009880"/>
            <a:ext cx="377640" cy="377640"/>
          </a:xfrm>
          <a:custGeom>
            <a:avLst/>
            <a:gdLst>
              <a:gd name="textAreaLeft" fmla="*/ 0 w 377640"/>
              <a:gd name="textAreaRight" fmla="*/ 378000 w 377640"/>
              <a:gd name="textAreaTop" fmla="*/ 0 h 377640"/>
              <a:gd name="textAreaBottom" fmla="*/ 378000 h 37764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6" name="Shape 5076"/>
          <p:cNvSpPr/>
          <p:nvPr/>
        </p:nvSpPr>
        <p:spPr>
          <a:xfrm>
            <a:off x="4751280" y="4484520"/>
            <a:ext cx="441360" cy="349560"/>
          </a:xfrm>
          <a:custGeom>
            <a:avLst/>
            <a:gdLst>
              <a:gd name="textAreaLeft" fmla="*/ 0 w 441360"/>
              <a:gd name="textAreaRight" fmla="*/ 441720 w 441360"/>
              <a:gd name="textAreaTop" fmla="*/ 0 h 349560"/>
              <a:gd name="textAreaBottom" fmla="*/ 349920 h 34956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7" name="Shape 5081"/>
          <p:cNvSpPr/>
          <p:nvPr/>
        </p:nvSpPr>
        <p:spPr>
          <a:xfrm>
            <a:off x="2068560" y="4456080"/>
            <a:ext cx="393480" cy="406440"/>
          </a:xfrm>
          <a:custGeom>
            <a:avLst/>
            <a:gdLst>
              <a:gd name="textAreaLeft" fmla="*/ 0 w 393480"/>
              <a:gd name="textAreaRight" fmla="*/ 393840 w 393480"/>
              <a:gd name="textAreaTop" fmla="*/ 0 h 406440"/>
              <a:gd name="textAreaBottom" fmla="*/ 406800 h 40644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8" name="Rectangle 31"/>
          <p:cNvSpPr/>
          <p:nvPr/>
        </p:nvSpPr>
        <p:spPr>
          <a:xfrm>
            <a:off x="1747800" y="2513160"/>
            <a:ext cx="1035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Kelson Sans"/>
                <a:ea typeface="Lato Black"/>
              </a:rPr>
              <a:t>TARGET</a:t>
            </a:r>
            <a:endParaRPr b="0" lang="en-US" sz="1200" spc="-1" strike="noStrike">
              <a:solidFill>
                <a:srgbClr val="000000"/>
              </a:solidFill>
              <a:latin typeface="Calibri"/>
            </a:endParaRPr>
          </a:p>
        </p:txBody>
      </p:sp>
      <p:sp>
        <p:nvSpPr>
          <p:cNvPr id="1089" name="Rectangle 32"/>
          <p:cNvSpPr/>
          <p:nvPr/>
        </p:nvSpPr>
        <p:spPr>
          <a:xfrm>
            <a:off x="1762200" y="4987800"/>
            <a:ext cx="1035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Kelson Sans"/>
                <a:ea typeface="Lato Black"/>
              </a:rPr>
              <a:t>CHAMPION</a:t>
            </a:r>
            <a:endParaRPr b="0" lang="en-US" sz="1200" spc="-1" strike="noStrike">
              <a:solidFill>
                <a:srgbClr val="000000"/>
              </a:solidFill>
              <a:latin typeface="Calibri"/>
            </a:endParaRPr>
          </a:p>
        </p:txBody>
      </p:sp>
      <p:sp>
        <p:nvSpPr>
          <p:cNvPr id="1090" name="Rectangle 33"/>
          <p:cNvSpPr/>
          <p:nvPr/>
        </p:nvSpPr>
        <p:spPr>
          <a:xfrm>
            <a:off x="4454640" y="4987800"/>
            <a:ext cx="1035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Kelson Sans"/>
                <a:ea typeface="Lato Black"/>
              </a:rPr>
              <a:t>GALLERY</a:t>
            </a:r>
            <a:endParaRPr b="0" lang="en-US" sz="1200" spc="-1" strike="noStrike">
              <a:solidFill>
                <a:srgbClr val="000000"/>
              </a:solidFill>
              <a:latin typeface="Calibri"/>
            </a:endParaRPr>
          </a:p>
        </p:txBody>
      </p:sp>
      <p:sp>
        <p:nvSpPr>
          <p:cNvPr id="1091" name="Rectangle 34"/>
          <p:cNvSpPr/>
          <p:nvPr/>
        </p:nvSpPr>
        <p:spPr>
          <a:xfrm>
            <a:off x="4448160" y="2513160"/>
            <a:ext cx="1035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Kelson Sans"/>
                <a:ea typeface="Lato Black"/>
              </a:rPr>
              <a:t>COMPAS</a:t>
            </a:r>
            <a:endParaRPr b="0" lang="en-US" sz="1200" spc="-1" strike="noStrike">
              <a:solidFill>
                <a:srgbClr val="000000"/>
              </a:solidFill>
              <a:latin typeface="Calibri"/>
            </a:endParaRPr>
          </a:p>
        </p:txBody>
      </p:sp>
      <p:pic>
        <p:nvPicPr>
          <p:cNvPr id="1092" name="" descr=""/>
          <p:cNvPicPr/>
          <p:nvPr/>
        </p:nvPicPr>
        <p:blipFill>
          <a:blip r:embed="rId1"/>
          <a:stretch/>
        </p:blipFill>
        <p:spPr>
          <a:xfrm>
            <a:off x="968400" y="1004400"/>
            <a:ext cx="2610000" cy="2387880"/>
          </a:xfrm>
          <a:prstGeom prst="rect">
            <a:avLst/>
          </a:prstGeom>
          <a:ln w="0">
            <a:noFill/>
          </a:ln>
        </p:spPr>
      </p:pic>
      <p:pic>
        <p:nvPicPr>
          <p:cNvPr id="1093" name="" descr=""/>
          <p:cNvPicPr/>
          <p:nvPr/>
        </p:nvPicPr>
        <p:blipFill>
          <a:blip r:embed="rId2"/>
          <a:stretch/>
        </p:blipFill>
        <p:spPr>
          <a:xfrm>
            <a:off x="3666960" y="1004400"/>
            <a:ext cx="2610000" cy="2387880"/>
          </a:xfrm>
          <a:prstGeom prst="rect">
            <a:avLst/>
          </a:prstGeom>
          <a:ln w="0">
            <a:noFill/>
          </a:ln>
        </p:spPr>
      </p:pic>
      <p:pic>
        <p:nvPicPr>
          <p:cNvPr id="1094" name="" descr=""/>
          <p:cNvPicPr/>
          <p:nvPr/>
        </p:nvPicPr>
        <p:blipFill>
          <a:blip r:embed="rId3"/>
          <a:stretch/>
        </p:blipFill>
        <p:spPr>
          <a:xfrm>
            <a:off x="3666960" y="3465000"/>
            <a:ext cx="2610000" cy="2387880"/>
          </a:xfrm>
          <a:prstGeom prst="rect">
            <a:avLst/>
          </a:prstGeom>
          <a:ln w="0">
            <a:noFill/>
          </a:ln>
        </p:spPr>
      </p:pic>
      <p:pic>
        <p:nvPicPr>
          <p:cNvPr id="1095" name="" descr=""/>
          <p:cNvPicPr/>
          <p:nvPr/>
        </p:nvPicPr>
        <p:blipFill>
          <a:blip r:embed="rId4"/>
          <a:stretch/>
        </p:blipFill>
        <p:spPr>
          <a:xfrm>
            <a:off x="968400" y="3465000"/>
            <a:ext cx="2610000" cy="238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4T07:18:46Z</dcterms:created>
  <dc:creator>OFFICIAL ONESTUDIO</dc:creator>
  <dc:description/>
  <dc:language>en-US</dc:language>
  <cp:lastModifiedBy>muse</cp:lastModifiedBy>
  <dcterms:modified xsi:type="dcterms:W3CDTF">2018-09-04T07:09:24Z</dcterms:modified>
  <cp:revision>16</cp:revision>
  <dc:subject/>
  <dc:title>PowerPoint Presentation</dc:title>
</cp:coreProperties>
</file>