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8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9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9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9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9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0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0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0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0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1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1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1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1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1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2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2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2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Libre Frankli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6991200" y="4286160"/>
            <a:ext cx="5200920" cy="257184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6095880" y="0"/>
            <a:ext cx="6096240" cy="6858000"/>
          </a:xfrm>
          <a:prstGeom prst="rect">
            <a:avLst/>
          </a:prstGeom>
          <a:solidFill>
            <a:srgbClr val="434e61">
              <a:alpha val="9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a:off x="1486080" y="0"/>
            <a:ext cx="9239040" cy="685800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1812960" y="2081160"/>
            <a:ext cx="2502000" cy="3748320"/>
          </a:xfrm>
          <a:prstGeom prst="rect">
            <a:avLst/>
          </a:prstGeom>
          <a:solidFill>
            <a:srgbClr val="ffffff"/>
          </a:solidFill>
          <a:ln w="0">
            <a:noFill/>
          </a:ln>
          <a:effectLst>
            <a:outerShdw dist="153753"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148" name="Rectangle 2"/>
          <p:cNvSpPr/>
          <p:nvPr/>
        </p:nvSpPr>
        <p:spPr>
          <a:xfrm>
            <a:off x="4844880" y="2081160"/>
            <a:ext cx="2502000" cy="3748320"/>
          </a:xfrm>
          <a:prstGeom prst="rect">
            <a:avLst/>
          </a:prstGeom>
          <a:solidFill>
            <a:srgbClr val="434e61"/>
          </a:solidFill>
          <a:ln w="0">
            <a:noFill/>
          </a:ln>
          <a:effectLst>
            <a:outerShdw dist="153753"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149" name="Rectangle 3"/>
          <p:cNvSpPr/>
          <p:nvPr/>
        </p:nvSpPr>
        <p:spPr>
          <a:xfrm>
            <a:off x="7877160" y="2081160"/>
            <a:ext cx="2502000" cy="3748320"/>
          </a:xfrm>
          <a:prstGeom prst="rect">
            <a:avLst/>
          </a:prstGeom>
          <a:solidFill>
            <a:srgbClr val="ffffff"/>
          </a:solidFill>
          <a:ln w="0">
            <a:noFill/>
          </a:ln>
          <a:effectLst>
            <a:outerShdw dist="153753" dir="2700000" blurRad="0" rotWithShape="0">
              <a:srgbClr val="000000">
                <a:alpha val="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2181240" y="855720"/>
            <a:ext cx="8688240" cy="524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
          <p:cNvSpPr/>
          <p:nvPr/>
        </p:nvSpPr>
        <p:spPr>
          <a:xfrm>
            <a:off x="552600" y="628560"/>
            <a:ext cx="11086920" cy="560088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3"/>
          <p:cNvSpPr/>
          <p:nvPr/>
        </p:nvSpPr>
        <p:spPr>
          <a:xfrm>
            <a:off x="10890720" y="4578480"/>
            <a:ext cx="1037520" cy="249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Libre Franklin"/>
              </a:rPr>
              <a:t>Page </a:t>
            </a:r>
            <a:fld id="{FE7BA14F-F547-445F-A3F1-A8A5C9A16F5D}" type="slidenum">
              <a:rPr b="0" lang="en-US" sz="900" spc="-1" strike="noStrike">
                <a:solidFill>
                  <a:srgbClr val="b2b2b2"/>
                </a:solidFill>
                <a:latin typeface="Libre Franklin"/>
              </a:rPr>
              <a:t>&lt;number&gt;</a:t>
            </a:fld>
            <a:endParaRPr b="0" lang="en-US" sz="900" spc="-1" strike="noStrike">
              <a:solidFill>
                <a:srgbClr val="3f3f3f"/>
              </a:solidFill>
              <a:latin typeface="Libre Franklin"/>
            </a:endParaRPr>
          </a:p>
        </p:txBody>
      </p:sp>
      <p:sp>
        <p:nvSpPr>
          <p:cNvPr id="261" name="Rectangle 4"/>
          <p:cNvSpPr/>
          <p:nvPr/>
        </p:nvSpPr>
        <p:spPr>
          <a:xfrm>
            <a:off x="11536200" y="4884840"/>
            <a:ext cx="19080" cy="1020600"/>
          </a:xfrm>
          <a:prstGeom prst="rect">
            <a:avLst/>
          </a:prstGeom>
          <a:solidFill>
            <a:srgbClr val="3a43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262" name="TextBox 5"/>
          <p:cNvSpPr/>
          <p:nvPr/>
        </p:nvSpPr>
        <p:spPr>
          <a:xfrm>
            <a:off x="11072520" y="6021360"/>
            <a:ext cx="60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Libre Franklin"/>
              </a:rPr>
              <a:t>Page 36</a:t>
            </a:r>
            <a:endParaRPr b="0" lang="en-US" sz="900" spc="-1" strike="noStrike">
              <a:solidFill>
                <a:srgbClr val="3f3f3f"/>
              </a:solidFill>
              <a:latin typeface="Libre Franklin"/>
            </a:endParaRPr>
          </a:p>
        </p:txBody>
      </p:sp>
      <p:sp>
        <p:nvSpPr>
          <p:cNvPr id="263" name="TextBox 6"/>
          <p:cNvSpPr/>
          <p:nvPr/>
        </p:nvSpPr>
        <p:spPr>
          <a:xfrm>
            <a:off x="5786280" y="2122560"/>
            <a:ext cx="561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f3f3f"/>
                </a:solidFill>
                <a:latin typeface="Montserrat Black"/>
              </a:rPr>
              <a:t>FLORESIA</a:t>
            </a:r>
            <a:endParaRPr b="0" lang="en-US" sz="7200" spc="-1" strike="noStrike">
              <a:solidFill>
                <a:srgbClr val="3f3f3f"/>
              </a:solidFill>
              <a:latin typeface="Libre Franklin"/>
            </a:endParaRPr>
          </a:p>
        </p:txBody>
      </p:sp>
      <p:sp>
        <p:nvSpPr>
          <p:cNvPr id="264" name="TextBox 7"/>
          <p:cNvSpPr/>
          <p:nvPr/>
        </p:nvSpPr>
        <p:spPr>
          <a:xfrm>
            <a:off x="5857920" y="3294000"/>
            <a:ext cx="322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Libre Franklin"/>
              </a:rPr>
              <a:t>Let’s Start Your Minimal With Us</a:t>
            </a:r>
            <a:endParaRPr b="0" lang="en-US" sz="1600" spc="-1" strike="noStrike">
              <a:solidFill>
                <a:srgbClr val="3f3f3f"/>
              </a:solidFill>
              <a:latin typeface="Libre Franklin"/>
            </a:endParaRPr>
          </a:p>
        </p:txBody>
      </p:sp>
      <p:sp>
        <p:nvSpPr>
          <p:cNvPr id="265" name="TextBox 8"/>
          <p:cNvSpPr/>
          <p:nvPr/>
        </p:nvSpPr>
        <p:spPr>
          <a:xfrm>
            <a:off x="5842080" y="4299120"/>
            <a:ext cx="26175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b2b2b2"/>
                </a:solidFill>
                <a:latin typeface="Libre Franklin"/>
              </a:rPr>
              <a:t>121 King Street, Melbourne</a:t>
            </a:r>
            <a:br>
              <a:rPr sz="1400"/>
            </a:br>
            <a:r>
              <a:rPr b="0" lang="en-ID" sz="1400" spc="-1" strike="noStrike">
                <a:solidFill>
                  <a:srgbClr val="b2b2b2"/>
                </a:solidFill>
                <a:latin typeface="Libre Franklin"/>
              </a:rPr>
              <a:t>Victoria 3000 Australia</a:t>
            </a:r>
            <a:endParaRPr b="0" lang="en-US" sz="1400" spc="-1" strike="noStrike">
              <a:solidFill>
                <a:srgbClr val="3f3f3f"/>
              </a:solidFill>
              <a:latin typeface="Libre Franklin"/>
            </a:endParaRPr>
          </a:p>
        </p:txBody>
      </p:sp>
      <p:sp>
        <p:nvSpPr>
          <p:cNvPr id="266" name="TextBox 9"/>
          <p:cNvSpPr/>
          <p:nvPr/>
        </p:nvSpPr>
        <p:spPr>
          <a:xfrm>
            <a:off x="7513920" y="531720"/>
            <a:ext cx="505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cccc"/>
                </a:solidFill>
                <a:latin typeface="Libre Franklin"/>
              </a:rPr>
              <a:t>Home</a:t>
            </a:r>
            <a:endParaRPr b="0" lang="en-US" sz="900" spc="-1" strike="noStrike">
              <a:solidFill>
                <a:srgbClr val="3f3f3f"/>
              </a:solidFill>
              <a:latin typeface="Libre Franklin"/>
            </a:endParaRPr>
          </a:p>
        </p:txBody>
      </p:sp>
      <p:sp>
        <p:nvSpPr>
          <p:cNvPr id="267" name="TextBox 10"/>
          <p:cNvSpPr/>
          <p:nvPr/>
        </p:nvSpPr>
        <p:spPr>
          <a:xfrm>
            <a:off x="8347320" y="531720"/>
            <a:ext cx="672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cccc"/>
                </a:solidFill>
                <a:latin typeface="Libre Franklin"/>
              </a:rPr>
              <a:t>About Us</a:t>
            </a:r>
            <a:endParaRPr b="0" lang="en-US" sz="900" spc="-1" strike="noStrike">
              <a:solidFill>
                <a:srgbClr val="3f3f3f"/>
              </a:solidFill>
              <a:latin typeface="Libre Franklin"/>
            </a:endParaRPr>
          </a:p>
        </p:txBody>
      </p:sp>
      <p:sp>
        <p:nvSpPr>
          <p:cNvPr id="268" name="TextBox 11"/>
          <p:cNvSpPr/>
          <p:nvPr/>
        </p:nvSpPr>
        <p:spPr>
          <a:xfrm>
            <a:off x="9351360" y="531720"/>
            <a:ext cx="615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cc"/>
                </a:solidFill>
                <a:uFillTx/>
                <a:latin typeface="Libre Franklin"/>
              </a:rPr>
              <a:t>Services</a:t>
            </a:r>
            <a:endParaRPr b="0" lang="en-US" sz="900" spc="-1" strike="noStrike">
              <a:solidFill>
                <a:srgbClr val="3f3f3f"/>
              </a:solidFill>
              <a:latin typeface="Libre Franklin"/>
            </a:endParaRPr>
          </a:p>
        </p:txBody>
      </p:sp>
      <p:sp>
        <p:nvSpPr>
          <p:cNvPr id="269" name="TextBox 12"/>
          <p:cNvSpPr/>
          <p:nvPr/>
        </p:nvSpPr>
        <p:spPr>
          <a:xfrm>
            <a:off x="10293840" y="531720"/>
            <a:ext cx="64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cccc"/>
                </a:solidFill>
                <a:latin typeface="Libre Franklin"/>
              </a:rPr>
              <a:t>Portfolio</a:t>
            </a:r>
            <a:endParaRPr b="0" lang="en-US" sz="900" spc="-1" strike="noStrike">
              <a:solidFill>
                <a:srgbClr val="3f3f3f"/>
              </a:solidFill>
              <a:latin typeface="Libre Franklin"/>
            </a:endParaRPr>
          </a:p>
        </p:txBody>
      </p:sp>
      <p:sp>
        <p:nvSpPr>
          <p:cNvPr id="270" name="TextBox 13"/>
          <p:cNvSpPr/>
          <p:nvPr/>
        </p:nvSpPr>
        <p:spPr>
          <a:xfrm>
            <a:off x="11250360" y="531720"/>
            <a:ext cx="429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cccc"/>
                </a:solidFill>
                <a:latin typeface="Libre Franklin"/>
              </a:rPr>
              <a:t>Help</a:t>
            </a:r>
            <a:endParaRPr b="0" lang="en-US" sz="9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20920" y="3670200"/>
            <a:ext cx="44654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a:t>
            </a:r>
            <a:r>
              <a:rPr b="0" lang="en-US" sz="1100" spc="-1" strike="noStrike">
                <a:solidFill>
                  <a:srgbClr val="7f7f7f"/>
                </a:solidFill>
                <a:latin typeface="Libre Franklin"/>
                <a:ea typeface="Times New Roman"/>
              </a:rPr>
              <a:t>lisa </a:t>
            </a:r>
            <a:r>
              <a:rPr b="0" lang="id-ID" sz="1100" spc="-1" strike="noStrike">
                <a:solidFill>
                  <a:srgbClr val="7f7f7f"/>
                </a:solidFill>
                <a:latin typeface="Libre Franklin"/>
                <a:ea typeface="Times New Roman"/>
              </a:rPr>
              <a:t>tristique magna sit amet. Risus pretium</a:t>
            </a:r>
            <a:r>
              <a:rPr b="0" lang="en-US" sz="1100" spc="-1" strike="noStrike">
                <a:solidFill>
                  <a:srgbClr val="7f7f7f"/>
                </a:solidFill>
                <a:latin typeface="Libre Franklin"/>
                <a:ea typeface="Times New Roman"/>
              </a:rPr>
              <a:t> micasa lo</a:t>
            </a:r>
            <a:r>
              <a:rPr b="0" lang="id-ID" sz="1100" spc="-1" strike="noStrike">
                <a:solidFill>
                  <a:srgbClr val="7f7f7f"/>
                </a:solidFill>
                <a:latin typeface="Libre Franklin"/>
                <a:ea typeface="Times New Roman"/>
              </a:rPr>
              <a:t> quam vulputate dignissim.</a:t>
            </a:r>
            <a:r>
              <a:rPr b="0" lang="en-US" sz="1100" spc="-1" strike="noStrike">
                <a:solidFill>
                  <a:srgbClr val="7f7f7f"/>
                </a:solidFill>
                <a:latin typeface="Libre Franklin"/>
                <a:ea typeface="Times New Roman"/>
              </a:rPr>
              <a:t> e</a:t>
            </a:r>
            <a:r>
              <a:rPr b="0" lang="id-ID" sz="1100" spc="-1" strike="noStrike">
                <a:solidFill>
                  <a:srgbClr val="7f7f7f"/>
                </a:solidFill>
                <a:latin typeface="Libre Franklin"/>
                <a:ea typeface="Times New Roman"/>
              </a:rPr>
              <a:t>nim nec du</a:t>
            </a:r>
            <a:r>
              <a:rPr b="0" lang="en-US" sz="1100" spc="-1" strike="noStrike">
                <a:solidFill>
                  <a:srgbClr val="7f7f7f"/>
                </a:solidFill>
                <a:latin typeface="Libre Franklin"/>
                <a:ea typeface="Times New Roman"/>
              </a:rPr>
              <a:t>i elit magna ipli.</a:t>
            </a:r>
            <a:endParaRPr b="0" lang="en-US" sz="1100" spc="-1" strike="noStrike">
              <a:solidFill>
                <a:srgbClr val="3f3f3f"/>
              </a:solidFill>
              <a:latin typeface="Libre Franklin"/>
            </a:endParaRPr>
          </a:p>
        </p:txBody>
      </p:sp>
      <p:sp>
        <p:nvSpPr>
          <p:cNvPr id="331" name="Rectangle 36"/>
          <p:cNvSpPr/>
          <p:nvPr/>
        </p:nvSpPr>
        <p:spPr>
          <a:xfrm>
            <a:off x="1420920" y="3009960"/>
            <a:ext cx="20192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rPr>
              <a:t>Element Dune</a:t>
            </a:r>
            <a:endParaRPr b="0" lang="en-US" sz="1600" spc="-1" strike="noStrike">
              <a:solidFill>
                <a:srgbClr val="3f3f3f"/>
              </a:solidFill>
              <a:latin typeface="Libre Franklin"/>
            </a:endParaRPr>
          </a:p>
        </p:txBody>
      </p:sp>
      <p:sp>
        <p:nvSpPr>
          <p:cNvPr id="332" name="Rectangle 4"/>
          <p:cNvSpPr/>
          <p:nvPr/>
        </p:nvSpPr>
        <p:spPr>
          <a:xfrm>
            <a:off x="1424160" y="3397320"/>
            <a:ext cx="2400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Marketing Manager</a:t>
            </a:r>
            <a:endParaRPr b="0" lang="en-US" sz="1100" spc="-1" strike="noStrike">
              <a:solidFill>
                <a:srgbClr val="3f3f3f"/>
              </a:solidFill>
              <a:latin typeface="Libre Franklin"/>
            </a:endParaRPr>
          </a:p>
        </p:txBody>
      </p:sp>
      <p:sp>
        <p:nvSpPr>
          <p:cNvPr id="333" name="Rectangle 5"/>
          <p:cNvSpPr/>
          <p:nvPr/>
        </p:nvSpPr>
        <p:spPr>
          <a:xfrm>
            <a:off x="1515960" y="4737240"/>
            <a:ext cx="3473640" cy="63360"/>
          </a:xfrm>
          <a:prstGeom prst="rect">
            <a:avLst/>
          </a:prstGeom>
          <a:solidFill>
            <a:srgbClr val="f2f2f2"/>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34" name="Rectangle 6"/>
          <p:cNvSpPr/>
          <p:nvPr/>
        </p:nvSpPr>
        <p:spPr>
          <a:xfrm>
            <a:off x="1515960" y="4737240"/>
            <a:ext cx="3154320" cy="63360"/>
          </a:xfrm>
          <a:prstGeom prst="rect">
            <a:avLst/>
          </a:prstGeom>
          <a:solidFill>
            <a:srgbClr val="a6a6a6"/>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35" name="TextBox 7"/>
          <p:cNvSpPr/>
          <p:nvPr/>
        </p:nvSpPr>
        <p:spPr>
          <a:xfrm flipH="1">
            <a:off x="5209560" y="46134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7f7f7f"/>
                </a:solidFill>
                <a:latin typeface="Libre Franklin"/>
                <a:ea typeface="Lato Medium"/>
              </a:rPr>
              <a:t>90%</a:t>
            </a:r>
            <a:endParaRPr b="0" lang="en-US" sz="1200" spc="-1" strike="noStrike">
              <a:solidFill>
                <a:srgbClr val="3f3f3f"/>
              </a:solidFill>
              <a:latin typeface="Libre Franklin"/>
            </a:endParaRPr>
          </a:p>
        </p:txBody>
      </p:sp>
      <p:sp>
        <p:nvSpPr>
          <p:cNvPr id="336" name="TextBox 8"/>
          <p:cNvSpPr/>
          <p:nvPr/>
        </p:nvSpPr>
        <p:spPr>
          <a:xfrm flipH="1">
            <a:off x="1521000" y="438624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ibre Franklin"/>
                <a:ea typeface="Lato Medium"/>
              </a:rPr>
              <a:t>Type Your Skill Here</a:t>
            </a:r>
            <a:endParaRPr b="0" lang="en-US" sz="1100" spc="-1" strike="noStrike">
              <a:solidFill>
                <a:srgbClr val="3f3f3f"/>
              </a:solidFill>
              <a:latin typeface="Libre Franklin"/>
            </a:endParaRPr>
          </a:p>
        </p:txBody>
      </p:sp>
      <p:sp>
        <p:nvSpPr>
          <p:cNvPr id="337" name="Rectangle 9"/>
          <p:cNvSpPr/>
          <p:nvPr/>
        </p:nvSpPr>
        <p:spPr>
          <a:xfrm>
            <a:off x="1549440" y="5367240"/>
            <a:ext cx="3473280" cy="63720"/>
          </a:xfrm>
          <a:prstGeom prst="rect">
            <a:avLst/>
          </a:prstGeom>
          <a:solidFill>
            <a:srgbClr val="f2f2f2"/>
          </a:solidFill>
          <a:ln w="0">
            <a:noFill/>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38" name="Rectangle 10"/>
          <p:cNvSpPr/>
          <p:nvPr/>
        </p:nvSpPr>
        <p:spPr>
          <a:xfrm>
            <a:off x="1515960" y="5367240"/>
            <a:ext cx="2743200" cy="63720"/>
          </a:xfrm>
          <a:prstGeom prst="rect">
            <a:avLst/>
          </a:prstGeom>
          <a:solidFill>
            <a:srgbClr val="a6a6a6"/>
          </a:solidFill>
          <a:ln w="0">
            <a:noFill/>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39" name="TextBox 11"/>
          <p:cNvSpPr/>
          <p:nvPr/>
        </p:nvSpPr>
        <p:spPr>
          <a:xfrm flipH="1">
            <a:off x="5214240" y="5257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ibre Franklin"/>
                <a:ea typeface="Lato Medium"/>
              </a:rPr>
              <a:t>80</a:t>
            </a:r>
            <a:r>
              <a:rPr b="0" lang="en-ID" sz="1200" spc="-1" strike="noStrike">
                <a:solidFill>
                  <a:srgbClr val="7f7f7f"/>
                </a:solidFill>
                <a:latin typeface="Libre Franklin"/>
                <a:ea typeface="Lato Medium"/>
              </a:rPr>
              <a:t>%</a:t>
            </a:r>
            <a:endParaRPr b="0" lang="en-US" sz="1200" spc="-1" strike="noStrike">
              <a:solidFill>
                <a:srgbClr val="3f3f3f"/>
              </a:solidFill>
              <a:latin typeface="Libre Franklin"/>
            </a:endParaRPr>
          </a:p>
        </p:txBody>
      </p:sp>
      <p:sp>
        <p:nvSpPr>
          <p:cNvPr id="340" name="TextBox 12"/>
          <p:cNvSpPr/>
          <p:nvPr/>
        </p:nvSpPr>
        <p:spPr>
          <a:xfrm flipH="1">
            <a:off x="1517760" y="501012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ibre Franklin"/>
                <a:ea typeface="Lato Medium"/>
              </a:rPr>
              <a:t>Type Your Skill Here</a:t>
            </a:r>
            <a:endParaRPr b="0" lang="en-US" sz="1100" spc="-1" strike="noStrike">
              <a:solidFill>
                <a:srgbClr val="3f3f3f"/>
              </a:solidFill>
              <a:latin typeface="Libre Franklin"/>
            </a:endParaRPr>
          </a:p>
        </p:txBody>
      </p:sp>
      <p:sp>
        <p:nvSpPr>
          <p:cNvPr id="341" name="TextBox 13"/>
          <p:cNvSpPr/>
          <p:nvPr/>
        </p:nvSpPr>
        <p:spPr>
          <a:xfrm>
            <a:off x="1409760" y="1353960"/>
            <a:ext cx="394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OUR MARKETING MANAGER HERE</a:t>
            </a:r>
            <a:endParaRPr b="0" lang="en-US" sz="2800" spc="-1" strike="noStrike">
              <a:solidFill>
                <a:srgbClr val="3f3f3f"/>
              </a:solidFill>
              <a:latin typeface="Libre Franklin"/>
            </a:endParaRPr>
          </a:p>
        </p:txBody>
      </p:sp>
      <p:sp>
        <p:nvSpPr>
          <p:cNvPr id="342" name="TextBox 14"/>
          <p:cNvSpPr/>
          <p:nvPr/>
        </p:nvSpPr>
        <p:spPr>
          <a:xfrm>
            <a:off x="1441080" y="23083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6183360" y="3975120"/>
            <a:ext cx="44654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a:t>
            </a:r>
            <a:r>
              <a:rPr b="0" lang="en-US" sz="1100" spc="-1" strike="noStrike">
                <a:solidFill>
                  <a:srgbClr val="7f7f7f"/>
                </a:solidFill>
                <a:latin typeface="Libre Franklin"/>
                <a:ea typeface="Times New Roman"/>
              </a:rPr>
              <a:t>lisa </a:t>
            </a:r>
            <a:r>
              <a:rPr b="0" lang="id-ID" sz="1100" spc="-1" strike="noStrike">
                <a:solidFill>
                  <a:srgbClr val="7f7f7f"/>
                </a:solidFill>
                <a:latin typeface="Libre Franklin"/>
                <a:ea typeface="Times New Roman"/>
              </a:rPr>
              <a:t>tristique magna sit amet. Risus pretium</a:t>
            </a:r>
            <a:r>
              <a:rPr b="0" lang="en-US" sz="1100" spc="-1" strike="noStrike">
                <a:solidFill>
                  <a:srgbClr val="7f7f7f"/>
                </a:solidFill>
                <a:latin typeface="Libre Franklin"/>
                <a:ea typeface="Times New Roman"/>
              </a:rPr>
              <a:t> micasa lo</a:t>
            </a:r>
            <a:r>
              <a:rPr b="0" lang="id-ID" sz="1100" spc="-1" strike="noStrike">
                <a:solidFill>
                  <a:srgbClr val="7f7f7f"/>
                </a:solidFill>
                <a:latin typeface="Libre Franklin"/>
                <a:ea typeface="Times New Roman"/>
              </a:rPr>
              <a:t> quam vulputate dignissim.</a:t>
            </a:r>
            <a:r>
              <a:rPr b="0" lang="en-US" sz="1100" spc="-1" strike="noStrike">
                <a:solidFill>
                  <a:srgbClr val="7f7f7f"/>
                </a:solidFill>
                <a:latin typeface="Libre Franklin"/>
                <a:ea typeface="Times New Roman"/>
              </a:rPr>
              <a:t> e</a:t>
            </a:r>
            <a:r>
              <a:rPr b="0" lang="id-ID" sz="1100" spc="-1" strike="noStrike">
                <a:solidFill>
                  <a:srgbClr val="7f7f7f"/>
                </a:solidFill>
                <a:latin typeface="Libre Franklin"/>
                <a:ea typeface="Times New Roman"/>
              </a:rPr>
              <a:t>nim nec du</a:t>
            </a:r>
            <a:r>
              <a:rPr b="0" lang="en-US" sz="1100" spc="-1" strike="noStrike">
                <a:solidFill>
                  <a:srgbClr val="7f7f7f"/>
                </a:solidFill>
                <a:latin typeface="Libre Franklin"/>
                <a:ea typeface="Times New Roman"/>
              </a:rPr>
              <a:t>i elit magna ipli.</a:t>
            </a:r>
            <a:endParaRPr b="0" lang="en-US" sz="1100" spc="-1" strike="noStrike">
              <a:solidFill>
                <a:srgbClr val="3f3f3f"/>
              </a:solidFill>
              <a:latin typeface="Libre Franklin"/>
            </a:endParaRPr>
          </a:p>
        </p:txBody>
      </p:sp>
      <p:sp>
        <p:nvSpPr>
          <p:cNvPr id="344" name="Rectangle 36"/>
          <p:cNvSpPr/>
          <p:nvPr/>
        </p:nvSpPr>
        <p:spPr>
          <a:xfrm>
            <a:off x="6183360" y="3314880"/>
            <a:ext cx="20192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rPr>
              <a:t>Georgia Dune</a:t>
            </a:r>
            <a:endParaRPr b="0" lang="en-US" sz="1600" spc="-1" strike="noStrike">
              <a:solidFill>
                <a:srgbClr val="3f3f3f"/>
              </a:solidFill>
              <a:latin typeface="Libre Franklin"/>
            </a:endParaRPr>
          </a:p>
        </p:txBody>
      </p:sp>
      <p:sp>
        <p:nvSpPr>
          <p:cNvPr id="345" name="Rectangle 4"/>
          <p:cNvSpPr/>
          <p:nvPr/>
        </p:nvSpPr>
        <p:spPr>
          <a:xfrm>
            <a:off x="6186600" y="3701880"/>
            <a:ext cx="2400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The Best Designer</a:t>
            </a:r>
            <a:endParaRPr b="0" lang="en-US" sz="1100" spc="-1" strike="noStrike">
              <a:solidFill>
                <a:srgbClr val="3f3f3f"/>
              </a:solidFill>
              <a:latin typeface="Libre Franklin"/>
            </a:endParaRPr>
          </a:p>
        </p:txBody>
      </p:sp>
      <p:sp>
        <p:nvSpPr>
          <p:cNvPr id="346" name="Rectangle 5"/>
          <p:cNvSpPr/>
          <p:nvPr/>
        </p:nvSpPr>
        <p:spPr>
          <a:xfrm>
            <a:off x="6278400" y="5041800"/>
            <a:ext cx="3473640" cy="63720"/>
          </a:xfrm>
          <a:prstGeom prst="rect">
            <a:avLst/>
          </a:prstGeom>
          <a:solidFill>
            <a:srgbClr val="f2f2f2"/>
          </a:solidFill>
          <a:ln w="0">
            <a:noFill/>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47" name="Rectangle 6"/>
          <p:cNvSpPr/>
          <p:nvPr/>
        </p:nvSpPr>
        <p:spPr>
          <a:xfrm>
            <a:off x="6278400" y="5041800"/>
            <a:ext cx="3154680" cy="63720"/>
          </a:xfrm>
          <a:prstGeom prst="rect">
            <a:avLst/>
          </a:prstGeom>
          <a:solidFill>
            <a:srgbClr val="a6a6a6"/>
          </a:solidFill>
          <a:ln w="0">
            <a:noFill/>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48" name="TextBox 7"/>
          <p:cNvSpPr/>
          <p:nvPr/>
        </p:nvSpPr>
        <p:spPr>
          <a:xfrm flipH="1">
            <a:off x="9972000" y="491796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7f7f7f"/>
                </a:solidFill>
                <a:latin typeface="Libre Franklin"/>
                <a:ea typeface="Lato Medium"/>
              </a:rPr>
              <a:t>90%</a:t>
            </a:r>
            <a:endParaRPr b="0" lang="en-US" sz="1200" spc="-1" strike="noStrike">
              <a:solidFill>
                <a:srgbClr val="3f3f3f"/>
              </a:solidFill>
              <a:latin typeface="Libre Franklin"/>
            </a:endParaRPr>
          </a:p>
        </p:txBody>
      </p:sp>
      <p:sp>
        <p:nvSpPr>
          <p:cNvPr id="349" name="TextBox 8"/>
          <p:cNvSpPr/>
          <p:nvPr/>
        </p:nvSpPr>
        <p:spPr>
          <a:xfrm flipH="1">
            <a:off x="6283440" y="469116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ibre Franklin"/>
                <a:ea typeface="Lato Medium"/>
              </a:rPr>
              <a:t>Type Your Skill Here</a:t>
            </a:r>
            <a:endParaRPr b="0" lang="en-US" sz="1100" spc="-1" strike="noStrike">
              <a:solidFill>
                <a:srgbClr val="3f3f3f"/>
              </a:solidFill>
              <a:latin typeface="Libre Franklin"/>
            </a:endParaRPr>
          </a:p>
        </p:txBody>
      </p:sp>
      <p:sp>
        <p:nvSpPr>
          <p:cNvPr id="350" name="Rectangle 9"/>
          <p:cNvSpPr/>
          <p:nvPr/>
        </p:nvSpPr>
        <p:spPr>
          <a:xfrm>
            <a:off x="6311880" y="5672160"/>
            <a:ext cx="3473640" cy="63360"/>
          </a:xfrm>
          <a:prstGeom prst="rect">
            <a:avLst/>
          </a:prstGeom>
          <a:solidFill>
            <a:srgbClr val="f2f2f2"/>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51" name="Rectangle 10"/>
          <p:cNvSpPr/>
          <p:nvPr/>
        </p:nvSpPr>
        <p:spPr>
          <a:xfrm>
            <a:off x="6278400" y="5672160"/>
            <a:ext cx="2743200" cy="63360"/>
          </a:xfrm>
          <a:prstGeom prst="rect">
            <a:avLst/>
          </a:prstGeom>
          <a:solidFill>
            <a:srgbClr val="a6a6a6"/>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52" name="TextBox 11"/>
          <p:cNvSpPr/>
          <p:nvPr/>
        </p:nvSpPr>
        <p:spPr>
          <a:xfrm flipH="1">
            <a:off x="9976680" y="55627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ibre Franklin"/>
                <a:ea typeface="Lato Medium"/>
              </a:rPr>
              <a:t>80</a:t>
            </a:r>
            <a:r>
              <a:rPr b="0" lang="en-ID" sz="1200" spc="-1" strike="noStrike">
                <a:solidFill>
                  <a:srgbClr val="7f7f7f"/>
                </a:solidFill>
                <a:latin typeface="Libre Franklin"/>
                <a:ea typeface="Lato Medium"/>
              </a:rPr>
              <a:t>%</a:t>
            </a:r>
            <a:endParaRPr b="0" lang="en-US" sz="1200" spc="-1" strike="noStrike">
              <a:solidFill>
                <a:srgbClr val="3f3f3f"/>
              </a:solidFill>
              <a:latin typeface="Libre Franklin"/>
            </a:endParaRPr>
          </a:p>
        </p:txBody>
      </p:sp>
      <p:sp>
        <p:nvSpPr>
          <p:cNvPr id="353" name="TextBox 12"/>
          <p:cNvSpPr/>
          <p:nvPr/>
        </p:nvSpPr>
        <p:spPr>
          <a:xfrm flipH="1">
            <a:off x="6280200" y="531504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ibre Franklin"/>
                <a:ea typeface="Lato Medium"/>
              </a:rPr>
              <a:t>Type Your Skill Here</a:t>
            </a:r>
            <a:endParaRPr b="0" lang="en-US" sz="1100" spc="-1" strike="noStrike">
              <a:solidFill>
                <a:srgbClr val="3f3f3f"/>
              </a:solidFill>
              <a:latin typeface="Libre Franklin"/>
            </a:endParaRPr>
          </a:p>
        </p:txBody>
      </p:sp>
      <p:sp>
        <p:nvSpPr>
          <p:cNvPr id="354" name="TextBox 13"/>
          <p:cNvSpPr/>
          <p:nvPr/>
        </p:nvSpPr>
        <p:spPr>
          <a:xfrm>
            <a:off x="6172200" y="1658880"/>
            <a:ext cx="394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MEET OUR BEST DEIGNER HERE</a:t>
            </a:r>
            <a:endParaRPr b="0" lang="en-US" sz="2800" spc="-1" strike="noStrike">
              <a:solidFill>
                <a:srgbClr val="3f3f3f"/>
              </a:solidFill>
              <a:latin typeface="Libre Franklin"/>
            </a:endParaRPr>
          </a:p>
        </p:txBody>
      </p:sp>
      <p:sp>
        <p:nvSpPr>
          <p:cNvPr id="355" name="TextBox 14"/>
          <p:cNvSpPr/>
          <p:nvPr/>
        </p:nvSpPr>
        <p:spPr>
          <a:xfrm>
            <a:off x="6203520" y="261288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1420920" y="3670200"/>
            <a:ext cx="44654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a:t>
            </a:r>
            <a:r>
              <a:rPr b="0" lang="en-US" sz="1100" spc="-1" strike="noStrike">
                <a:solidFill>
                  <a:srgbClr val="7f7f7f"/>
                </a:solidFill>
                <a:latin typeface="Libre Franklin"/>
                <a:ea typeface="Times New Roman"/>
              </a:rPr>
              <a:t>lisa </a:t>
            </a:r>
            <a:r>
              <a:rPr b="0" lang="id-ID" sz="1100" spc="-1" strike="noStrike">
                <a:solidFill>
                  <a:srgbClr val="7f7f7f"/>
                </a:solidFill>
                <a:latin typeface="Libre Franklin"/>
                <a:ea typeface="Times New Roman"/>
              </a:rPr>
              <a:t>tristique magna sit amet. Risus pretium</a:t>
            </a:r>
            <a:r>
              <a:rPr b="0" lang="en-US" sz="1100" spc="-1" strike="noStrike">
                <a:solidFill>
                  <a:srgbClr val="7f7f7f"/>
                </a:solidFill>
                <a:latin typeface="Libre Franklin"/>
                <a:ea typeface="Times New Roman"/>
              </a:rPr>
              <a:t> micasa lo</a:t>
            </a:r>
            <a:r>
              <a:rPr b="0" lang="id-ID" sz="1100" spc="-1" strike="noStrike">
                <a:solidFill>
                  <a:srgbClr val="7f7f7f"/>
                </a:solidFill>
                <a:latin typeface="Libre Franklin"/>
                <a:ea typeface="Times New Roman"/>
              </a:rPr>
              <a:t> quam vulputate dignissim.</a:t>
            </a:r>
            <a:r>
              <a:rPr b="0" lang="en-US" sz="1100" spc="-1" strike="noStrike">
                <a:solidFill>
                  <a:srgbClr val="7f7f7f"/>
                </a:solidFill>
                <a:latin typeface="Libre Franklin"/>
                <a:ea typeface="Times New Roman"/>
              </a:rPr>
              <a:t> e</a:t>
            </a:r>
            <a:r>
              <a:rPr b="0" lang="id-ID" sz="1100" spc="-1" strike="noStrike">
                <a:solidFill>
                  <a:srgbClr val="7f7f7f"/>
                </a:solidFill>
                <a:latin typeface="Libre Franklin"/>
                <a:ea typeface="Times New Roman"/>
              </a:rPr>
              <a:t>nim nec du</a:t>
            </a:r>
            <a:r>
              <a:rPr b="0" lang="en-US" sz="1100" spc="-1" strike="noStrike">
                <a:solidFill>
                  <a:srgbClr val="7f7f7f"/>
                </a:solidFill>
                <a:latin typeface="Libre Franklin"/>
                <a:ea typeface="Times New Roman"/>
              </a:rPr>
              <a:t>i elit magna ipli.</a:t>
            </a:r>
            <a:endParaRPr b="0" lang="en-US" sz="1100" spc="-1" strike="noStrike">
              <a:solidFill>
                <a:srgbClr val="3f3f3f"/>
              </a:solidFill>
              <a:latin typeface="Libre Franklin"/>
            </a:endParaRPr>
          </a:p>
        </p:txBody>
      </p:sp>
      <p:sp>
        <p:nvSpPr>
          <p:cNvPr id="357" name="Rectangle 36"/>
          <p:cNvSpPr/>
          <p:nvPr/>
        </p:nvSpPr>
        <p:spPr>
          <a:xfrm>
            <a:off x="1420920" y="3009960"/>
            <a:ext cx="20192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rPr>
              <a:t>Pixel Dune</a:t>
            </a:r>
            <a:endParaRPr b="0" lang="en-US" sz="1600" spc="-1" strike="noStrike">
              <a:solidFill>
                <a:srgbClr val="3f3f3f"/>
              </a:solidFill>
              <a:latin typeface="Libre Franklin"/>
            </a:endParaRPr>
          </a:p>
        </p:txBody>
      </p:sp>
      <p:sp>
        <p:nvSpPr>
          <p:cNvPr id="358" name="Rectangle 4"/>
          <p:cNvSpPr/>
          <p:nvPr/>
        </p:nvSpPr>
        <p:spPr>
          <a:xfrm>
            <a:off x="1424160" y="3397320"/>
            <a:ext cx="2400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CEO And Founder</a:t>
            </a:r>
            <a:endParaRPr b="0" lang="en-US" sz="1100" spc="-1" strike="noStrike">
              <a:solidFill>
                <a:srgbClr val="3f3f3f"/>
              </a:solidFill>
              <a:latin typeface="Libre Franklin"/>
            </a:endParaRPr>
          </a:p>
        </p:txBody>
      </p:sp>
      <p:sp>
        <p:nvSpPr>
          <p:cNvPr id="359" name="Rectangle 5"/>
          <p:cNvSpPr/>
          <p:nvPr/>
        </p:nvSpPr>
        <p:spPr>
          <a:xfrm>
            <a:off x="1515960" y="4737240"/>
            <a:ext cx="3473640" cy="63360"/>
          </a:xfrm>
          <a:prstGeom prst="rect">
            <a:avLst/>
          </a:prstGeom>
          <a:solidFill>
            <a:srgbClr val="f2f2f2"/>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60" name="Rectangle 6"/>
          <p:cNvSpPr/>
          <p:nvPr/>
        </p:nvSpPr>
        <p:spPr>
          <a:xfrm>
            <a:off x="1515960" y="4737240"/>
            <a:ext cx="3154320" cy="63360"/>
          </a:xfrm>
          <a:prstGeom prst="rect">
            <a:avLst/>
          </a:prstGeom>
          <a:solidFill>
            <a:srgbClr val="a6a6a6"/>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61" name="TextBox 7"/>
          <p:cNvSpPr/>
          <p:nvPr/>
        </p:nvSpPr>
        <p:spPr>
          <a:xfrm flipH="1">
            <a:off x="5209560" y="46134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7f7f7f"/>
                </a:solidFill>
                <a:latin typeface="Libre Franklin"/>
                <a:ea typeface="Lato Medium"/>
              </a:rPr>
              <a:t>90%</a:t>
            </a:r>
            <a:endParaRPr b="0" lang="en-US" sz="1200" spc="-1" strike="noStrike">
              <a:solidFill>
                <a:srgbClr val="3f3f3f"/>
              </a:solidFill>
              <a:latin typeface="Libre Franklin"/>
            </a:endParaRPr>
          </a:p>
        </p:txBody>
      </p:sp>
      <p:sp>
        <p:nvSpPr>
          <p:cNvPr id="362" name="TextBox 8"/>
          <p:cNvSpPr/>
          <p:nvPr/>
        </p:nvSpPr>
        <p:spPr>
          <a:xfrm flipH="1">
            <a:off x="1521000" y="438624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ibre Franklin"/>
                <a:ea typeface="Lato Medium"/>
              </a:rPr>
              <a:t>Type Your Skill Here</a:t>
            </a:r>
            <a:endParaRPr b="0" lang="en-US" sz="1100" spc="-1" strike="noStrike">
              <a:solidFill>
                <a:srgbClr val="3f3f3f"/>
              </a:solidFill>
              <a:latin typeface="Libre Franklin"/>
            </a:endParaRPr>
          </a:p>
        </p:txBody>
      </p:sp>
      <p:sp>
        <p:nvSpPr>
          <p:cNvPr id="363" name="Rectangle 9"/>
          <p:cNvSpPr/>
          <p:nvPr/>
        </p:nvSpPr>
        <p:spPr>
          <a:xfrm>
            <a:off x="1549440" y="5367240"/>
            <a:ext cx="3473280" cy="63720"/>
          </a:xfrm>
          <a:prstGeom prst="rect">
            <a:avLst/>
          </a:prstGeom>
          <a:solidFill>
            <a:srgbClr val="f2f2f2"/>
          </a:solidFill>
          <a:ln w="0">
            <a:noFill/>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64" name="Rectangle 10"/>
          <p:cNvSpPr/>
          <p:nvPr/>
        </p:nvSpPr>
        <p:spPr>
          <a:xfrm>
            <a:off x="1515960" y="5367240"/>
            <a:ext cx="2743200" cy="63720"/>
          </a:xfrm>
          <a:prstGeom prst="rect">
            <a:avLst/>
          </a:prstGeom>
          <a:solidFill>
            <a:srgbClr val="a6a6a6"/>
          </a:solidFill>
          <a:ln w="0">
            <a:noFill/>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365" name="TextBox 11"/>
          <p:cNvSpPr/>
          <p:nvPr/>
        </p:nvSpPr>
        <p:spPr>
          <a:xfrm flipH="1">
            <a:off x="5214240" y="5257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ibre Franklin"/>
                <a:ea typeface="Lato Medium"/>
              </a:rPr>
              <a:t>80</a:t>
            </a:r>
            <a:r>
              <a:rPr b="0" lang="en-ID" sz="1200" spc="-1" strike="noStrike">
                <a:solidFill>
                  <a:srgbClr val="7f7f7f"/>
                </a:solidFill>
                <a:latin typeface="Libre Franklin"/>
                <a:ea typeface="Lato Medium"/>
              </a:rPr>
              <a:t>%</a:t>
            </a:r>
            <a:endParaRPr b="0" lang="en-US" sz="1200" spc="-1" strike="noStrike">
              <a:solidFill>
                <a:srgbClr val="3f3f3f"/>
              </a:solidFill>
              <a:latin typeface="Libre Franklin"/>
            </a:endParaRPr>
          </a:p>
        </p:txBody>
      </p:sp>
      <p:sp>
        <p:nvSpPr>
          <p:cNvPr id="366" name="TextBox 12"/>
          <p:cNvSpPr/>
          <p:nvPr/>
        </p:nvSpPr>
        <p:spPr>
          <a:xfrm flipH="1">
            <a:off x="1517760" y="501012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ibre Franklin"/>
                <a:ea typeface="Lato Medium"/>
              </a:rPr>
              <a:t>Type Your Skill Here</a:t>
            </a:r>
            <a:endParaRPr b="0" lang="en-US" sz="1100" spc="-1" strike="noStrike">
              <a:solidFill>
                <a:srgbClr val="3f3f3f"/>
              </a:solidFill>
              <a:latin typeface="Libre Franklin"/>
            </a:endParaRPr>
          </a:p>
        </p:txBody>
      </p:sp>
      <p:sp>
        <p:nvSpPr>
          <p:cNvPr id="367" name="TextBox 13"/>
          <p:cNvSpPr/>
          <p:nvPr/>
        </p:nvSpPr>
        <p:spPr>
          <a:xfrm>
            <a:off x="1409760" y="1353960"/>
            <a:ext cx="394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MEET OUR CEO AND FOUNDER</a:t>
            </a:r>
            <a:endParaRPr b="0" lang="en-US" sz="2800" spc="-1" strike="noStrike">
              <a:solidFill>
                <a:srgbClr val="3f3f3f"/>
              </a:solidFill>
              <a:latin typeface="Libre Franklin"/>
            </a:endParaRPr>
          </a:p>
        </p:txBody>
      </p:sp>
      <p:sp>
        <p:nvSpPr>
          <p:cNvPr id="368" name="TextBox 14"/>
          <p:cNvSpPr/>
          <p:nvPr/>
        </p:nvSpPr>
        <p:spPr>
          <a:xfrm>
            <a:off x="1441080" y="23083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Box 7"/>
          <p:cNvSpPr/>
          <p:nvPr/>
        </p:nvSpPr>
        <p:spPr>
          <a:xfrm>
            <a:off x="3348000" y="2747880"/>
            <a:ext cx="224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Montserrat"/>
              </a:rPr>
              <a:t>01. Services Here</a:t>
            </a:r>
            <a:endParaRPr b="0" lang="en-US" sz="1600" spc="-1" strike="noStrike">
              <a:solidFill>
                <a:srgbClr val="3f3f3f"/>
              </a:solidFill>
              <a:latin typeface="Libre Franklin"/>
            </a:endParaRPr>
          </a:p>
        </p:txBody>
      </p:sp>
      <p:sp>
        <p:nvSpPr>
          <p:cNvPr id="370" name="TextBox 8"/>
          <p:cNvSpPr/>
          <p:nvPr/>
        </p:nvSpPr>
        <p:spPr>
          <a:xfrm>
            <a:off x="3348000" y="3040200"/>
            <a:ext cx="2243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9f9f9f"/>
                </a:solidFill>
                <a:latin typeface="Libre Franklin"/>
              </a:rPr>
              <a:t>The Detail Of Services Here</a:t>
            </a:r>
            <a:endParaRPr b="0" lang="en-US" sz="900" spc="-1" strike="noStrike">
              <a:solidFill>
                <a:srgbClr val="3f3f3f"/>
              </a:solidFill>
              <a:latin typeface="Libre Franklin"/>
            </a:endParaRPr>
          </a:p>
        </p:txBody>
      </p:sp>
      <p:sp>
        <p:nvSpPr>
          <p:cNvPr id="371" name="Rectangle 9"/>
          <p:cNvSpPr/>
          <p:nvPr/>
        </p:nvSpPr>
        <p:spPr>
          <a:xfrm>
            <a:off x="3348000" y="3233880"/>
            <a:ext cx="22431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72" name="TextBox 13"/>
          <p:cNvSpPr/>
          <p:nvPr/>
        </p:nvSpPr>
        <p:spPr>
          <a:xfrm>
            <a:off x="8809200" y="2747880"/>
            <a:ext cx="2242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Montserrat"/>
              </a:rPr>
              <a:t>02. Services Here</a:t>
            </a:r>
            <a:endParaRPr b="0" lang="en-US" sz="1600" spc="-1" strike="noStrike">
              <a:solidFill>
                <a:srgbClr val="3f3f3f"/>
              </a:solidFill>
              <a:latin typeface="Libre Franklin"/>
            </a:endParaRPr>
          </a:p>
        </p:txBody>
      </p:sp>
      <p:sp>
        <p:nvSpPr>
          <p:cNvPr id="373" name="TextBox 14"/>
          <p:cNvSpPr/>
          <p:nvPr/>
        </p:nvSpPr>
        <p:spPr>
          <a:xfrm>
            <a:off x="8809200" y="3040200"/>
            <a:ext cx="2242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ffffff"/>
                </a:solidFill>
                <a:latin typeface="Libre Franklin"/>
              </a:rPr>
              <a:t>The Detail Of Services Here</a:t>
            </a:r>
            <a:endParaRPr b="0" lang="en-US" sz="900" spc="-1" strike="noStrike">
              <a:solidFill>
                <a:srgbClr val="3f3f3f"/>
              </a:solidFill>
              <a:latin typeface="Libre Franklin"/>
            </a:endParaRPr>
          </a:p>
        </p:txBody>
      </p:sp>
      <p:sp>
        <p:nvSpPr>
          <p:cNvPr id="374" name="Rectangle 15"/>
          <p:cNvSpPr/>
          <p:nvPr/>
        </p:nvSpPr>
        <p:spPr>
          <a:xfrm>
            <a:off x="8809200" y="3233880"/>
            <a:ext cx="2242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75" name="TextBox 10"/>
          <p:cNvSpPr/>
          <p:nvPr/>
        </p:nvSpPr>
        <p:spPr>
          <a:xfrm>
            <a:off x="3348000" y="4502160"/>
            <a:ext cx="224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Montserrat"/>
              </a:rPr>
              <a:t>03. Services Here</a:t>
            </a:r>
            <a:endParaRPr b="0" lang="en-US" sz="1600" spc="-1" strike="noStrike">
              <a:solidFill>
                <a:srgbClr val="3f3f3f"/>
              </a:solidFill>
              <a:latin typeface="Libre Franklin"/>
            </a:endParaRPr>
          </a:p>
        </p:txBody>
      </p:sp>
      <p:sp>
        <p:nvSpPr>
          <p:cNvPr id="376" name="TextBox 11"/>
          <p:cNvSpPr/>
          <p:nvPr/>
        </p:nvSpPr>
        <p:spPr>
          <a:xfrm>
            <a:off x="3348000" y="4794120"/>
            <a:ext cx="1920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9f9f9f"/>
                </a:solidFill>
                <a:latin typeface="Libre Franklin"/>
              </a:rPr>
              <a:t>The Detail Of Services Here</a:t>
            </a:r>
            <a:endParaRPr b="0" lang="en-US" sz="900" spc="-1" strike="noStrike">
              <a:solidFill>
                <a:srgbClr val="3f3f3f"/>
              </a:solidFill>
              <a:latin typeface="Libre Franklin"/>
            </a:endParaRPr>
          </a:p>
        </p:txBody>
      </p:sp>
      <p:sp>
        <p:nvSpPr>
          <p:cNvPr id="377" name="Rectangle 12"/>
          <p:cNvSpPr/>
          <p:nvPr/>
        </p:nvSpPr>
        <p:spPr>
          <a:xfrm>
            <a:off x="3348000" y="4987800"/>
            <a:ext cx="22431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78" name="TextBox 16"/>
          <p:cNvSpPr/>
          <p:nvPr/>
        </p:nvSpPr>
        <p:spPr>
          <a:xfrm>
            <a:off x="8809200" y="4502160"/>
            <a:ext cx="2242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Montserrat"/>
              </a:rPr>
              <a:t>04 Services Here</a:t>
            </a:r>
            <a:endParaRPr b="0" lang="en-US" sz="1600" spc="-1" strike="noStrike">
              <a:solidFill>
                <a:srgbClr val="3f3f3f"/>
              </a:solidFill>
              <a:latin typeface="Libre Franklin"/>
            </a:endParaRPr>
          </a:p>
        </p:txBody>
      </p:sp>
      <p:sp>
        <p:nvSpPr>
          <p:cNvPr id="379" name="TextBox 17"/>
          <p:cNvSpPr/>
          <p:nvPr/>
        </p:nvSpPr>
        <p:spPr>
          <a:xfrm>
            <a:off x="8809200" y="4794120"/>
            <a:ext cx="2242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ffffff"/>
                </a:solidFill>
                <a:latin typeface="Libre Franklin"/>
              </a:rPr>
              <a:t>The Detail Of Services Here</a:t>
            </a:r>
            <a:endParaRPr b="0" lang="en-US" sz="900" spc="-1" strike="noStrike">
              <a:solidFill>
                <a:srgbClr val="3f3f3f"/>
              </a:solidFill>
              <a:latin typeface="Libre Franklin"/>
            </a:endParaRPr>
          </a:p>
        </p:txBody>
      </p:sp>
      <p:sp>
        <p:nvSpPr>
          <p:cNvPr id="380" name="Rectangle 18"/>
          <p:cNvSpPr/>
          <p:nvPr/>
        </p:nvSpPr>
        <p:spPr>
          <a:xfrm>
            <a:off x="8809200" y="4987800"/>
            <a:ext cx="2242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81" name="TextBox 24"/>
          <p:cNvSpPr/>
          <p:nvPr/>
        </p:nvSpPr>
        <p:spPr>
          <a:xfrm>
            <a:off x="1209600" y="1193760"/>
            <a:ext cx="343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OUR SERVICES</a:t>
            </a:r>
            <a:endParaRPr b="0" lang="en-US" sz="2800" spc="-1" strike="noStrike">
              <a:solidFill>
                <a:srgbClr val="3f3f3f"/>
              </a:solidFill>
              <a:latin typeface="Libre Franklin"/>
            </a:endParaRPr>
          </a:p>
        </p:txBody>
      </p:sp>
      <p:sp>
        <p:nvSpPr>
          <p:cNvPr id="382" name="TextBox 25"/>
          <p:cNvSpPr/>
          <p:nvPr/>
        </p:nvSpPr>
        <p:spPr>
          <a:xfrm>
            <a:off x="1240920" y="169704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3"/>
          <p:cNvSpPr/>
          <p:nvPr/>
        </p:nvSpPr>
        <p:spPr>
          <a:xfrm>
            <a:off x="1474920" y="335448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384" name="TextBox 4"/>
          <p:cNvSpPr/>
          <p:nvPr/>
        </p:nvSpPr>
        <p:spPr>
          <a:xfrm>
            <a:off x="1474920" y="300348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Product Design</a:t>
            </a:r>
            <a:endParaRPr b="0" lang="en-US" sz="1600" spc="-1" strike="noStrike">
              <a:solidFill>
                <a:srgbClr val="3f3f3f"/>
              </a:solidFill>
              <a:latin typeface="Libre Franklin"/>
            </a:endParaRPr>
          </a:p>
        </p:txBody>
      </p:sp>
      <p:sp>
        <p:nvSpPr>
          <p:cNvPr id="385" name="TextBox 5"/>
          <p:cNvSpPr/>
          <p:nvPr/>
        </p:nvSpPr>
        <p:spPr>
          <a:xfrm>
            <a:off x="1474920" y="473076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386" name="TextBox 6"/>
          <p:cNvSpPr/>
          <p:nvPr/>
        </p:nvSpPr>
        <p:spPr>
          <a:xfrm>
            <a:off x="1474920" y="4402080"/>
            <a:ext cx="23000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3D Illustration</a:t>
            </a:r>
            <a:endParaRPr b="0" lang="en-US" sz="1600" spc="-1" strike="noStrike">
              <a:solidFill>
                <a:srgbClr val="3f3f3f"/>
              </a:solidFill>
              <a:latin typeface="Libre Franklin"/>
            </a:endParaRPr>
          </a:p>
        </p:txBody>
      </p:sp>
      <p:sp>
        <p:nvSpPr>
          <p:cNvPr id="387" name="TextBox 7"/>
          <p:cNvSpPr/>
          <p:nvPr/>
        </p:nvSpPr>
        <p:spPr>
          <a:xfrm>
            <a:off x="4160880" y="3362400"/>
            <a:ext cx="2481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388" name="TextBox 8"/>
          <p:cNvSpPr/>
          <p:nvPr/>
        </p:nvSpPr>
        <p:spPr>
          <a:xfrm>
            <a:off x="4160880" y="302724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UI/UX Design</a:t>
            </a:r>
            <a:endParaRPr b="0" lang="en-US" sz="1600" spc="-1" strike="noStrike">
              <a:solidFill>
                <a:srgbClr val="3f3f3f"/>
              </a:solidFill>
              <a:latin typeface="Libre Franklin"/>
            </a:endParaRPr>
          </a:p>
        </p:txBody>
      </p:sp>
      <p:sp>
        <p:nvSpPr>
          <p:cNvPr id="389" name="TextBox 9"/>
          <p:cNvSpPr/>
          <p:nvPr/>
        </p:nvSpPr>
        <p:spPr>
          <a:xfrm>
            <a:off x="4160880" y="4738680"/>
            <a:ext cx="2481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390" name="TextBox 10"/>
          <p:cNvSpPr/>
          <p:nvPr/>
        </p:nvSpPr>
        <p:spPr>
          <a:xfrm>
            <a:off x="4160880" y="440208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Custom Typeface</a:t>
            </a:r>
            <a:endParaRPr b="0" lang="en-US" sz="1600" spc="-1" strike="noStrike">
              <a:solidFill>
                <a:srgbClr val="3f3f3f"/>
              </a:solidFill>
              <a:latin typeface="Libre Franklin"/>
            </a:endParaRPr>
          </a:p>
        </p:txBody>
      </p:sp>
      <p:sp>
        <p:nvSpPr>
          <p:cNvPr id="391" name="TextBox 11"/>
          <p:cNvSpPr/>
          <p:nvPr/>
        </p:nvSpPr>
        <p:spPr>
          <a:xfrm>
            <a:off x="1447920" y="1292400"/>
            <a:ext cx="440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WE ARE CREATING THE BEST DESIGN</a:t>
            </a:r>
            <a:endParaRPr b="0" lang="en-US" sz="2800" spc="-1" strike="noStrike">
              <a:solidFill>
                <a:srgbClr val="3f3f3f"/>
              </a:solidFill>
              <a:latin typeface="Libre Franklin"/>
            </a:endParaRPr>
          </a:p>
        </p:txBody>
      </p:sp>
      <p:sp>
        <p:nvSpPr>
          <p:cNvPr id="392" name="TextBox 12"/>
          <p:cNvSpPr/>
          <p:nvPr/>
        </p:nvSpPr>
        <p:spPr>
          <a:xfrm>
            <a:off x="1479240" y="224640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4"/>
          <p:cNvSpPr/>
          <p:nvPr/>
        </p:nvSpPr>
        <p:spPr>
          <a:xfrm>
            <a:off x="3867120" y="3706920"/>
            <a:ext cx="4610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ibre Franklin"/>
                <a:ea typeface="Times New Roman"/>
              </a:rPr>
              <a:t>Quis varius quam quisque id diam vel. Ut enim blandit volutpat maecenas volutpat blandit aliquam etiam erat. Vel eros donec ac odio tempor orci dapibus ultrices ullamc</a:t>
            </a:r>
            <a:endParaRPr b="0" lang="en-US" sz="1100" spc="-1" strike="noStrike">
              <a:solidFill>
                <a:srgbClr val="3f3f3f"/>
              </a:solidFill>
              <a:latin typeface="Libre Franklin"/>
            </a:endParaRPr>
          </a:p>
        </p:txBody>
      </p:sp>
      <p:sp>
        <p:nvSpPr>
          <p:cNvPr id="394" name="TextBox 5"/>
          <p:cNvSpPr/>
          <p:nvPr/>
        </p:nvSpPr>
        <p:spPr>
          <a:xfrm>
            <a:off x="3867120" y="4651200"/>
            <a:ext cx="4610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ibre Franklin"/>
                <a:ea typeface="Times New Roman"/>
              </a:rPr>
              <a:t>Quis varius quam quisque id diam vel. Ut enim blandit volutpat maecenas volutpat blandit aliquam etiam erat. Vel eros donec ac odio tempor orci dapibus ultrices ullamc</a:t>
            </a:r>
            <a:endParaRPr b="0" lang="en-US" sz="1100" spc="-1" strike="noStrike">
              <a:solidFill>
                <a:srgbClr val="3f3f3f"/>
              </a:solidFill>
              <a:latin typeface="Libre Franklin"/>
            </a:endParaRPr>
          </a:p>
        </p:txBody>
      </p:sp>
      <p:sp>
        <p:nvSpPr>
          <p:cNvPr id="395" name="TextBox 6"/>
          <p:cNvSpPr/>
          <p:nvPr/>
        </p:nvSpPr>
        <p:spPr>
          <a:xfrm>
            <a:off x="3867120" y="3029040"/>
            <a:ext cx="3697200" cy="65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7000"/>
              </a:lnSpc>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Libre Franklin"/>
                <a:ea typeface="Calibri"/>
              </a:rPr>
              <a:t>Minimal Style Bring The Health</a:t>
            </a:r>
            <a:endParaRPr b="0" lang="en-US" sz="1400" spc="-1" strike="noStrike">
              <a:solidFill>
                <a:srgbClr val="3f3f3f"/>
              </a:solidFill>
              <a:latin typeface="Libre Franklin"/>
            </a:endParaRPr>
          </a:p>
          <a:p>
            <a:pPr marL="285840" indent="-285840">
              <a:lnSpc>
                <a:spcPct val="107000"/>
              </a:lnSpc>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ibre Franklin"/>
                <a:ea typeface="Calibri"/>
              </a:rPr>
              <a:t>Simple And Elegant Is Clean</a:t>
            </a:r>
            <a:endParaRPr b="0" lang="en-US" sz="1400" spc="-1" strike="noStrike">
              <a:solidFill>
                <a:srgbClr val="3f3f3f"/>
              </a:solidFill>
              <a:latin typeface="Libre Franklin"/>
            </a:endParaRPr>
          </a:p>
        </p:txBody>
      </p:sp>
      <p:sp>
        <p:nvSpPr>
          <p:cNvPr id="396" name="TextBox 7"/>
          <p:cNvSpPr/>
          <p:nvPr/>
        </p:nvSpPr>
        <p:spPr>
          <a:xfrm>
            <a:off x="3867120" y="1246320"/>
            <a:ext cx="4459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Black"/>
              </a:rPr>
              <a:t>CREATING CLEAN AND ELEGANT SPACE</a:t>
            </a:r>
            <a:endParaRPr b="0" lang="en-US" sz="2800" spc="-1" strike="noStrike">
              <a:solidFill>
                <a:srgbClr val="3f3f3f"/>
              </a:solidFill>
              <a:latin typeface="Libre Franklin"/>
            </a:endParaRPr>
          </a:p>
        </p:txBody>
      </p:sp>
      <p:sp>
        <p:nvSpPr>
          <p:cNvPr id="397" name="TextBox 8"/>
          <p:cNvSpPr/>
          <p:nvPr/>
        </p:nvSpPr>
        <p:spPr>
          <a:xfrm>
            <a:off x="3898440" y="22003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The Best Minimal Style Presentation</a:t>
            </a:r>
            <a:endParaRPr b="0" lang="en-US" sz="1100" spc="-1" strike="noStrike">
              <a:solidFill>
                <a:srgbClr val="3f3f3f"/>
              </a:solidFill>
              <a:latin typeface="Libre Frankli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3"/>
          <p:cNvSpPr/>
          <p:nvPr/>
        </p:nvSpPr>
        <p:spPr>
          <a:xfrm>
            <a:off x="2808360" y="3298680"/>
            <a:ext cx="2481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399" name="TextBox 4"/>
          <p:cNvSpPr/>
          <p:nvPr/>
        </p:nvSpPr>
        <p:spPr>
          <a:xfrm>
            <a:off x="2808360" y="2948040"/>
            <a:ext cx="2101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1. Services Here</a:t>
            </a:r>
            <a:endParaRPr b="0" lang="en-US" sz="1600" spc="-1" strike="noStrike">
              <a:solidFill>
                <a:srgbClr val="3f3f3f"/>
              </a:solidFill>
              <a:latin typeface="Libre Franklin"/>
            </a:endParaRPr>
          </a:p>
        </p:txBody>
      </p:sp>
      <p:sp>
        <p:nvSpPr>
          <p:cNvPr id="400" name="TextBox 5"/>
          <p:cNvSpPr/>
          <p:nvPr/>
        </p:nvSpPr>
        <p:spPr>
          <a:xfrm>
            <a:off x="2808360" y="4786200"/>
            <a:ext cx="2481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01" name="TextBox 6"/>
          <p:cNvSpPr/>
          <p:nvPr/>
        </p:nvSpPr>
        <p:spPr>
          <a:xfrm>
            <a:off x="2808360" y="4459320"/>
            <a:ext cx="23018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3. Services Here</a:t>
            </a:r>
            <a:endParaRPr b="0" lang="en-US" sz="1600" spc="-1" strike="noStrike">
              <a:solidFill>
                <a:srgbClr val="3f3f3f"/>
              </a:solidFill>
              <a:latin typeface="Libre Franklin"/>
            </a:endParaRPr>
          </a:p>
        </p:txBody>
      </p:sp>
      <p:sp>
        <p:nvSpPr>
          <p:cNvPr id="402" name="TextBox 7"/>
          <p:cNvSpPr/>
          <p:nvPr/>
        </p:nvSpPr>
        <p:spPr>
          <a:xfrm>
            <a:off x="5495760" y="330660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03" name="TextBox 8"/>
          <p:cNvSpPr/>
          <p:nvPr/>
        </p:nvSpPr>
        <p:spPr>
          <a:xfrm>
            <a:off x="5495760" y="2971800"/>
            <a:ext cx="2100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2. Services Here</a:t>
            </a:r>
            <a:endParaRPr b="0" lang="en-US" sz="1600" spc="-1" strike="noStrike">
              <a:solidFill>
                <a:srgbClr val="3f3f3f"/>
              </a:solidFill>
              <a:latin typeface="Libre Franklin"/>
            </a:endParaRPr>
          </a:p>
        </p:txBody>
      </p:sp>
      <p:sp>
        <p:nvSpPr>
          <p:cNvPr id="404" name="TextBox 9"/>
          <p:cNvSpPr/>
          <p:nvPr/>
        </p:nvSpPr>
        <p:spPr>
          <a:xfrm>
            <a:off x="5495760" y="479412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05" name="TextBox 10"/>
          <p:cNvSpPr/>
          <p:nvPr/>
        </p:nvSpPr>
        <p:spPr>
          <a:xfrm>
            <a:off x="549576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4. Services Here</a:t>
            </a:r>
            <a:endParaRPr b="0" lang="en-US" sz="1600" spc="-1" strike="noStrike">
              <a:solidFill>
                <a:srgbClr val="3f3f3f"/>
              </a:solidFill>
              <a:latin typeface="Libre Franklin"/>
            </a:endParaRPr>
          </a:p>
        </p:txBody>
      </p:sp>
      <p:sp>
        <p:nvSpPr>
          <p:cNvPr id="406" name="TextBox 11"/>
          <p:cNvSpPr/>
          <p:nvPr/>
        </p:nvSpPr>
        <p:spPr>
          <a:xfrm>
            <a:off x="2782800" y="1236600"/>
            <a:ext cx="440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SIMPLE LIFE AND HAPPY EVERYDAY</a:t>
            </a:r>
            <a:endParaRPr b="0" lang="en-US" sz="2800" spc="-1" strike="noStrike">
              <a:solidFill>
                <a:srgbClr val="3f3f3f"/>
              </a:solidFill>
              <a:latin typeface="Libre Franklin"/>
            </a:endParaRPr>
          </a:p>
        </p:txBody>
      </p:sp>
      <p:sp>
        <p:nvSpPr>
          <p:cNvPr id="407" name="TextBox 12"/>
          <p:cNvSpPr/>
          <p:nvPr/>
        </p:nvSpPr>
        <p:spPr>
          <a:xfrm>
            <a:off x="2814120" y="219060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3"/>
          <p:cNvSpPr/>
          <p:nvPr/>
        </p:nvSpPr>
        <p:spPr>
          <a:xfrm>
            <a:off x="6827760" y="2660760"/>
            <a:ext cx="587520" cy="363600"/>
          </a:xfrm>
          <a:prstGeom prst="rect">
            <a:avLst/>
          </a:prstGeom>
          <a:solidFill>
            <a:srgbClr val="323b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09" name="Rectangle 4"/>
          <p:cNvSpPr/>
          <p:nvPr/>
        </p:nvSpPr>
        <p:spPr>
          <a:xfrm>
            <a:off x="6373800" y="1976400"/>
            <a:ext cx="588960" cy="363600"/>
          </a:xfrm>
          <a:prstGeom prst="rect">
            <a:avLst/>
          </a:prstGeom>
          <a:solidFill>
            <a:srgbClr val="323b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10" name="TextBox 1"/>
          <p:cNvSpPr/>
          <p:nvPr/>
        </p:nvSpPr>
        <p:spPr>
          <a:xfrm>
            <a:off x="3714840" y="743040"/>
            <a:ext cx="4762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PRICING TABLES</a:t>
            </a:r>
            <a:endParaRPr b="0" lang="en-US" sz="2800" spc="-1" strike="noStrike">
              <a:solidFill>
                <a:srgbClr val="3f3f3f"/>
              </a:solidFill>
              <a:latin typeface="Libre Franklin"/>
            </a:endParaRPr>
          </a:p>
        </p:txBody>
      </p:sp>
      <p:sp>
        <p:nvSpPr>
          <p:cNvPr id="411" name="TextBox 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412" name="TextBox 11"/>
          <p:cNvSpPr/>
          <p:nvPr/>
        </p:nvSpPr>
        <p:spPr>
          <a:xfrm>
            <a:off x="2001960" y="402444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Vulputate dignissim</a:t>
            </a:r>
            <a:endParaRPr b="0" lang="en-US" sz="1100" spc="-1" strike="noStrike">
              <a:solidFill>
                <a:srgbClr val="3f3f3f"/>
              </a:solidFill>
              <a:latin typeface="Libre Franklin"/>
            </a:endParaRPr>
          </a:p>
        </p:txBody>
      </p:sp>
      <p:sp>
        <p:nvSpPr>
          <p:cNvPr id="413" name="TextBox 12"/>
          <p:cNvSpPr/>
          <p:nvPr/>
        </p:nvSpPr>
        <p:spPr>
          <a:xfrm>
            <a:off x="2001960" y="429732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en</a:t>
            </a:r>
            <a:endParaRPr b="0" lang="en-US" sz="1100" spc="-1" strike="noStrike">
              <a:solidFill>
                <a:srgbClr val="3f3f3f"/>
              </a:solidFill>
              <a:latin typeface="Libre Franklin"/>
            </a:endParaRPr>
          </a:p>
        </p:txBody>
      </p:sp>
      <p:sp>
        <p:nvSpPr>
          <p:cNvPr id="414" name="TextBox 13"/>
          <p:cNvSpPr/>
          <p:nvPr/>
        </p:nvSpPr>
        <p:spPr>
          <a:xfrm>
            <a:off x="2001960" y="457056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Incididunt ut labore</a:t>
            </a:r>
            <a:endParaRPr b="0" lang="en-US" sz="1100" spc="-1" strike="noStrike">
              <a:solidFill>
                <a:srgbClr val="3f3f3f"/>
              </a:solidFill>
              <a:latin typeface="Libre Franklin"/>
            </a:endParaRPr>
          </a:p>
        </p:txBody>
      </p:sp>
      <p:sp>
        <p:nvSpPr>
          <p:cNvPr id="415" name="TextBox 14"/>
          <p:cNvSpPr/>
          <p:nvPr/>
        </p:nvSpPr>
        <p:spPr>
          <a:xfrm>
            <a:off x="2057400" y="3292560"/>
            <a:ext cx="2013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e61"/>
                </a:solidFill>
                <a:latin typeface="Libre Franklin"/>
                <a:ea typeface="Times New Roman"/>
              </a:rPr>
              <a:t>$350</a:t>
            </a:r>
            <a:r>
              <a:rPr b="1" lang="en-US" sz="900" spc="-1" strike="noStrike">
                <a:solidFill>
                  <a:srgbClr val="595959"/>
                </a:solidFill>
                <a:latin typeface="Libre Franklin"/>
                <a:ea typeface="Times New Roman"/>
              </a:rPr>
              <a:t>,00</a:t>
            </a:r>
            <a:endParaRPr b="0" lang="en-US" sz="900" spc="-1" strike="noStrike">
              <a:solidFill>
                <a:srgbClr val="3f3f3f"/>
              </a:solidFill>
              <a:latin typeface="Libre Franklin"/>
            </a:endParaRPr>
          </a:p>
        </p:txBody>
      </p:sp>
      <p:sp>
        <p:nvSpPr>
          <p:cNvPr id="416" name="Rectangle 15"/>
          <p:cNvSpPr/>
          <p:nvPr/>
        </p:nvSpPr>
        <p:spPr>
          <a:xfrm>
            <a:off x="2382840" y="5156280"/>
            <a:ext cx="1362240" cy="430200"/>
          </a:xfrm>
          <a:prstGeom prst="rect">
            <a:avLst/>
          </a:prstGeom>
          <a:noFill/>
          <a:ln w="12600">
            <a:solidFill>
              <a:srgbClr val="e5e5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Libre Franklin"/>
              </a:rPr>
              <a:t>Purchase Now</a:t>
            </a:r>
            <a:endParaRPr b="0" lang="en-US" sz="900" spc="-1" strike="noStrike">
              <a:solidFill>
                <a:srgbClr val="3f3f3f"/>
              </a:solidFill>
              <a:latin typeface="Libre Franklin"/>
            </a:endParaRPr>
          </a:p>
        </p:txBody>
      </p:sp>
      <p:sp>
        <p:nvSpPr>
          <p:cNvPr id="417" name="TextBox 16"/>
          <p:cNvSpPr/>
          <p:nvPr/>
        </p:nvSpPr>
        <p:spPr>
          <a:xfrm>
            <a:off x="2066760" y="2549520"/>
            <a:ext cx="19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Times New Roman"/>
              </a:rPr>
              <a:t>Basic Services</a:t>
            </a:r>
            <a:endParaRPr b="0" lang="en-US" sz="1600" spc="-1" strike="noStrike">
              <a:solidFill>
                <a:srgbClr val="3f3f3f"/>
              </a:solidFill>
              <a:latin typeface="Libre Franklin"/>
            </a:endParaRPr>
          </a:p>
        </p:txBody>
      </p:sp>
      <p:sp>
        <p:nvSpPr>
          <p:cNvPr id="418" name="TextBox 17"/>
          <p:cNvSpPr/>
          <p:nvPr/>
        </p:nvSpPr>
        <p:spPr>
          <a:xfrm>
            <a:off x="5033880" y="402444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ibre Franklin"/>
                <a:ea typeface="Times New Roman"/>
              </a:rPr>
              <a:t>Vulputate dignissim</a:t>
            </a:r>
            <a:endParaRPr b="0" lang="en-US" sz="1100" spc="-1" strike="noStrike">
              <a:solidFill>
                <a:srgbClr val="3f3f3f"/>
              </a:solidFill>
              <a:latin typeface="Libre Franklin"/>
            </a:endParaRPr>
          </a:p>
        </p:txBody>
      </p:sp>
      <p:sp>
        <p:nvSpPr>
          <p:cNvPr id="419" name="TextBox 18"/>
          <p:cNvSpPr/>
          <p:nvPr/>
        </p:nvSpPr>
        <p:spPr>
          <a:xfrm>
            <a:off x="5033880" y="429732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ibre Franklin"/>
                <a:ea typeface="Times New Roman"/>
              </a:rPr>
              <a:t>Enim ut tellus </a:t>
            </a:r>
            <a:r>
              <a:rPr b="0" lang="en-US" sz="1100" spc="-1" strike="noStrike">
                <a:solidFill>
                  <a:srgbClr val="ffffff"/>
                </a:solidFill>
                <a:latin typeface="Libre Franklin"/>
                <a:ea typeface="Times New Roman"/>
              </a:rPr>
              <a:t>ma</a:t>
            </a:r>
            <a:r>
              <a:rPr b="0" lang="id-ID" sz="1100" spc="-1" strike="noStrike">
                <a:solidFill>
                  <a:srgbClr val="ffffff"/>
                </a:solidFill>
                <a:latin typeface="Libre Franklin"/>
                <a:ea typeface="Times New Roman"/>
              </a:rPr>
              <a:t>elemen</a:t>
            </a:r>
            <a:endParaRPr b="0" lang="en-US" sz="1100" spc="-1" strike="noStrike">
              <a:solidFill>
                <a:srgbClr val="3f3f3f"/>
              </a:solidFill>
              <a:latin typeface="Libre Franklin"/>
            </a:endParaRPr>
          </a:p>
        </p:txBody>
      </p:sp>
      <p:sp>
        <p:nvSpPr>
          <p:cNvPr id="420" name="TextBox 19"/>
          <p:cNvSpPr/>
          <p:nvPr/>
        </p:nvSpPr>
        <p:spPr>
          <a:xfrm>
            <a:off x="5033880" y="457056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Incididunt ut labore</a:t>
            </a:r>
            <a:endParaRPr b="0" lang="en-US" sz="1100" spc="-1" strike="noStrike">
              <a:solidFill>
                <a:srgbClr val="3f3f3f"/>
              </a:solidFill>
              <a:latin typeface="Libre Franklin"/>
            </a:endParaRPr>
          </a:p>
        </p:txBody>
      </p:sp>
      <p:sp>
        <p:nvSpPr>
          <p:cNvPr id="421" name="TextBox 20"/>
          <p:cNvSpPr/>
          <p:nvPr/>
        </p:nvSpPr>
        <p:spPr>
          <a:xfrm>
            <a:off x="5089680" y="3292560"/>
            <a:ext cx="2012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ibre Franklin"/>
                <a:ea typeface="Times New Roman"/>
              </a:rPr>
              <a:t>$650</a:t>
            </a:r>
            <a:r>
              <a:rPr b="1" lang="en-US" sz="900" spc="-1" strike="noStrike">
                <a:solidFill>
                  <a:srgbClr val="ffffff"/>
                </a:solidFill>
                <a:latin typeface="Libre Franklin"/>
                <a:ea typeface="Times New Roman"/>
              </a:rPr>
              <a:t>,00</a:t>
            </a:r>
            <a:endParaRPr b="0" lang="en-US" sz="900" spc="-1" strike="noStrike">
              <a:solidFill>
                <a:srgbClr val="3f3f3f"/>
              </a:solidFill>
              <a:latin typeface="Libre Franklin"/>
            </a:endParaRPr>
          </a:p>
        </p:txBody>
      </p:sp>
      <p:sp>
        <p:nvSpPr>
          <p:cNvPr id="422" name="Rectangle 21"/>
          <p:cNvSpPr/>
          <p:nvPr/>
        </p:nvSpPr>
        <p:spPr>
          <a:xfrm>
            <a:off x="5415120" y="5156280"/>
            <a:ext cx="1361880" cy="430200"/>
          </a:xfrm>
          <a:prstGeom prst="rect">
            <a:avLst/>
          </a:prstGeom>
          <a:noFill/>
          <a:ln w="12600">
            <a:solidFill>
              <a:srgbClr val="e5e5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Libre Franklin"/>
              </a:rPr>
              <a:t>Purchase Now</a:t>
            </a:r>
            <a:endParaRPr b="0" lang="en-US" sz="900" spc="-1" strike="noStrike">
              <a:solidFill>
                <a:srgbClr val="3f3f3f"/>
              </a:solidFill>
              <a:latin typeface="Libre Franklin"/>
            </a:endParaRPr>
          </a:p>
        </p:txBody>
      </p:sp>
      <p:sp>
        <p:nvSpPr>
          <p:cNvPr id="423" name="TextBox 22"/>
          <p:cNvSpPr/>
          <p:nvPr/>
        </p:nvSpPr>
        <p:spPr>
          <a:xfrm>
            <a:off x="5097600" y="2549520"/>
            <a:ext cx="199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Times New Roman"/>
              </a:rPr>
              <a:t>Middle Services</a:t>
            </a:r>
            <a:endParaRPr b="0" lang="en-US" sz="1600" spc="-1" strike="noStrike">
              <a:solidFill>
                <a:srgbClr val="3f3f3f"/>
              </a:solidFill>
              <a:latin typeface="Libre Franklin"/>
            </a:endParaRPr>
          </a:p>
        </p:txBody>
      </p:sp>
      <p:sp>
        <p:nvSpPr>
          <p:cNvPr id="424" name="TextBox 23"/>
          <p:cNvSpPr/>
          <p:nvPr/>
        </p:nvSpPr>
        <p:spPr>
          <a:xfrm>
            <a:off x="8066160" y="402444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Vulputate dignissim</a:t>
            </a:r>
            <a:endParaRPr b="0" lang="en-US" sz="1100" spc="-1" strike="noStrike">
              <a:solidFill>
                <a:srgbClr val="3f3f3f"/>
              </a:solidFill>
              <a:latin typeface="Libre Franklin"/>
            </a:endParaRPr>
          </a:p>
        </p:txBody>
      </p:sp>
      <p:sp>
        <p:nvSpPr>
          <p:cNvPr id="425" name="TextBox 24"/>
          <p:cNvSpPr/>
          <p:nvPr/>
        </p:nvSpPr>
        <p:spPr>
          <a:xfrm>
            <a:off x="8066160" y="429732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en</a:t>
            </a:r>
            <a:endParaRPr b="0" lang="en-US" sz="1100" spc="-1" strike="noStrike">
              <a:solidFill>
                <a:srgbClr val="3f3f3f"/>
              </a:solidFill>
              <a:latin typeface="Libre Franklin"/>
            </a:endParaRPr>
          </a:p>
        </p:txBody>
      </p:sp>
      <p:sp>
        <p:nvSpPr>
          <p:cNvPr id="426" name="TextBox 25"/>
          <p:cNvSpPr/>
          <p:nvPr/>
        </p:nvSpPr>
        <p:spPr>
          <a:xfrm>
            <a:off x="8066160" y="4570560"/>
            <a:ext cx="2193840" cy="34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Incididunt ut labore</a:t>
            </a:r>
            <a:endParaRPr b="0" lang="en-US" sz="1100" spc="-1" strike="noStrike">
              <a:solidFill>
                <a:srgbClr val="3f3f3f"/>
              </a:solidFill>
              <a:latin typeface="Libre Franklin"/>
            </a:endParaRPr>
          </a:p>
        </p:txBody>
      </p:sp>
      <p:sp>
        <p:nvSpPr>
          <p:cNvPr id="427" name="TextBox 26"/>
          <p:cNvSpPr/>
          <p:nvPr/>
        </p:nvSpPr>
        <p:spPr>
          <a:xfrm>
            <a:off x="8121600" y="3292560"/>
            <a:ext cx="2013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e61"/>
                </a:solidFill>
                <a:latin typeface="Libre Franklin"/>
                <a:ea typeface="Times New Roman"/>
              </a:rPr>
              <a:t>$450</a:t>
            </a:r>
            <a:r>
              <a:rPr b="1" lang="en-US" sz="900" spc="-1" strike="noStrike">
                <a:solidFill>
                  <a:srgbClr val="595959"/>
                </a:solidFill>
                <a:latin typeface="Libre Franklin"/>
                <a:ea typeface="Times New Roman"/>
              </a:rPr>
              <a:t>,00</a:t>
            </a:r>
            <a:endParaRPr b="0" lang="en-US" sz="900" spc="-1" strike="noStrike">
              <a:solidFill>
                <a:srgbClr val="3f3f3f"/>
              </a:solidFill>
              <a:latin typeface="Libre Franklin"/>
            </a:endParaRPr>
          </a:p>
        </p:txBody>
      </p:sp>
      <p:sp>
        <p:nvSpPr>
          <p:cNvPr id="428" name="Rectangle 27"/>
          <p:cNvSpPr/>
          <p:nvPr/>
        </p:nvSpPr>
        <p:spPr>
          <a:xfrm>
            <a:off x="8447040" y="5156280"/>
            <a:ext cx="1362240" cy="430200"/>
          </a:xfrm>
          <a:prstGeom prst="rect">
            <a:avLst/>
          </a:prstGeom>
          <a:noFill/>
          <a:ln w="12600">
            <a:solidFill>
              <a:srgbClr val="e5e5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Libre Franklin"/>
              </a:rPr>
              <a:t>Purchase Now</a:t>
            </a:r>
            <a:endParaRPr b="0" lang="en-US" sz="900" spc="-1" strike="noStrike">
              <a:solidFill>
                <a:srgbClr val="3f3f3f"/>
              </a:solidFill>
              <a:latin typeface="Libre Franklin"/>
            </a:endParaRPr>
          </a:p>
        </p:txBody>
      </p:sp>
      <p:sp>
        <p:nvSpPr>
          <p:cNvPr id="429" name="TextBox 28"/>
          <p:cNvSpPr/>
          <p:nvPr/>
        </p:nvSpPr>
        <p:spPr>
          <a:xfrm>
            <a:off x="8129520" y="2549520"/>
            <a:ext cx="19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Times New Roman"/>
              </a:rPr>
              <a:t>Full Services</a:t>
            </a:r>
            <a:endParaRPr b="0" lang="en-US" sz="1600" spc="-1" strike="noStrike">
              <a:solidFill>
                <a:srgbClr val="3f3f3f"/>
              </a:solidFill>
              <a:latin typeface="Libre Franklin"/>
            </a:endParaRPr>
          </a:p>
        </p:txBody>
      </p:sp>
      <p:sp>
        <p:nvSpPr>
          <p:cNvPr id="430" name="Diagonal Stripe 29"/>
          <p:cNvSpPr/>
          <p:nvPr/>
        </p:nvSpPr>
        <p:spPr>
          <a:xfrm flipH="1">
            <a:off x="6373800" y="1976400"/>
            <a:ext cx="1047600" cy="1047960"/>
          </a:xfrm>
          <a:custGeom>
            <a:avLst/>
            <a:gdLst/>
            <a:ahLst/>
            <a:rect l="l" t="t" r="r" b="b"/>
            <a:pathLst>
              <a:path w="1047098" h="1047100">
                <a:moveTo>
                  <a:pt x="0" y="444033"/>
                </a:moveTo>
                <a:lnTo>
                  <a:pt x="444032" y="0"/>
                </a:lnTo>
                <a:lnTo>
                  <a:pt x="1047098" y="0"/>
                </a:lnTo>
                <a:lnTo>
                  <a:pt x="0" y="1047100"/>
                </a:lnTo>
                <a:lnTo>
                  <a:pt x="0" y="444033"/>
                </a:lnTo>
                <a:close/>
              </a:path>
            </a:pathLst>
          </a:custGeom>
          <a:solidFill>
            <a:srgbClr val="434e6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431" name="TextBox 30"/>
          <p:cNvSpPr/>
          <p:nvPr/>
        </p:nvSpPr>
        <p:spPr>
          <a:xfrm rot="2713800">
            <a:off x="6474600" y="2177640"/>
            <a:ext cx="11458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SemiBold"/>
                <a:ea typeface="Open Sans SemiBold"/>
              </a:rPr>
              <a:t>Featured</a:t>
            </a:r>
            <a:endParaRPr b="0" lang="en-US" sz="1000" spc="-1" strike="noStrike">
              <a:solidFill>
                <a:srgbClr val="3f3f3f"/>
              </a:solidFill>
              <a:latin typeface="Libre Frankli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4572000" y="2000160"/>
            <a:ext cx="3048120" cy="186048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33" name="Rectangle 6"/>
          <p:cNvSpPr/>
          <p:nvPr/>
        </p:nvSpPr>
        <p:spPr>
          <a:xfrm>
            <a:off x="1062000" y="4254480"/>
            <a:ext cx="3046320" cy="186048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34" name="Rectangle 8"/>
          <p:cNvSpPr/>
          <p:nvPr/>
        </p:nvSpPr>
        <p:spPr>
          <a:xfrm>
            <a:off x="8083440" y="4254480"/>
            <a:ext cx="3046680" cy="186048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35" name="TextBox 13"/>
          <p:cNvSpPr/>
          <p:nvPr/>
        </p:nvSpPr>
        <p:spPr>
          <a:xfrm>
            <a:off x="3714840" y="743040"/>
            <a:ext cx="4762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OUR PROJECT</a:t>
            </a:r>
            <a:endParaRPr b="0" lang="en-US" sz="2800" spc="-1" strike="noStrike">
              <a:solidFill>
                <a:srgbClr val="3f3f3f"/>
              </a:solidFill>
              <a:latin typeface="Libre Franklin"/>
            </a:endParaRPr>
          </a:p>
        </p:txBody>
      </p:sp>
      <p:sp>
        <p:nvSpPr>
          <p:cNvPr id="436" name="TextBox 14"/>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437" name="TextBox 16"/>
          <p:cNvSpPr/>
          <p:nvPr/>
        </p:nvSpPr>
        <p:spPr>
          <a:xfrm>
            <a:off x="4975200" y="2395440"/>
            <a:ext cx="2241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Montserrat"/>
              </a:rPr>
              <a:t>Project, Feb 2021</a:t>
            </a:r>
            <a:endParaRPr b="0" lang="en-US" sz="1600" spc="-1" strike="noStrike">
              <a:solidFill>
                <a:srgbClr val="3f3f3f"/>
              </a:solidFill>
              <a:latin typeface="Libre Franklin"/>
            </a:endParaRPr>
          </a:p>
        </p:txBody>
      </p:sp>
      <p:sp>
        <p:nvSpPr>
          <p:cNvPr id="438" name="TextBox 17"/>
          <p:cNvSpPr/>
          <p:nvPr/>
        </p:nvSpPr>
        <p:spPr>
          <a:xfrm>
            <a:off x="4975200" y="2687760"/>
            <a:ext cx="22417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ffffff"/>
                </a:solidFill>
                <a:latin typeface="Libre Franklin"/>
              </a:rPr>
              <a:t>The Detail Of Project</a:t>
            </a:r>
            <a:endParaRPr b="0" lang="en-US" sz="900" spc="-1" strike="noStrike">
              <a:solidFill>
                <a:srgbClr val="3f3f3f"/>
              </a:solidFill>
              <a:latin typeface="Libre Franklin"/>
            </a:endParaRPr>
          </a:p>
        </p:txBody>
      </p:sp>
      <p:sp>
        <p:nvSpPr>
          <p:cNvPr id="439" name="Rectangle 18"/>
          <p:cNvSpPr/>
          <p:nvPr/>
        </p:nvSpPr>
        <p:spPr>
          <a:xfrm>
            <a:off x="4808520" y="2949480"/>
            <a:ext cx="25750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Lorem ipsum dolor misit amet, con secte tur jsao adipiscing it</a:t>
            </a:r>
            <a:endParaRPr b="0" lang="en-US" sz="1100" spc="-1" strike="noStrike">
              <a:solidFill>
                <a:srgbClr val="3f3f3f"/>
              </a:solidFill>
              <a:latin typeface="Libre Franklin"/>
            </a:endParaRPr>
          </a:p>
        </p:txBody>
      </p:sp>
      <p:sp>
        <p:nvSpPr>
          <p:cNvPr id="440" name="TextBox 21"/>
          <p:cNvSpPr/>
          <p:nvPr/>
        </p:nvSpPr>
        <p:spPr>
          <a:xfrm>
            <a:off x="8485200" y="4649760"/>
            <a:ext cx="224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Montserrat"/>
              </a:rPr>
              <a:t>Project, Mar 2021</a:t>
            </a:r>
            <a:endParaRPr b="0" lang="en-US" sz="1600" spc="-1" strike="noStrike">
              <a:solidFill>
                <a:srgbClr val="3f3f3f"/>
              </a:solidFill>
              <a:latin typeface="Libre Franklin"/>
            </a:endParaRPr>
          </a:p>
        </p:txBody>
      </p:sp>
      <p:sp>
        <p:nvSpPr>
          <p:cNvPr id="441" name="TextBox 22"/>
          <p:cNvSpPr/>
          <p:nvPr/>
        </p:nvSpPr>
        <p:spPr>
          <a:xfrm>
            <a:off x="8485200" y="4941720"/>
            <a:ext cx="22431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ffffff"/>
                </a:solidFill>
                <a:latin typeface="Libre Franklin"/>
              </a:rPr>
              <a:t>The Detail Of Project</a:t>
            </a:r>
            <a:endParaRPr b="0" lang="en-US" sz="900" spc="-1" strike="noStrike">
              <a:solidFill>
                <a:srgbClr val="3f3f3f"/>
              </a:solidFill>
              <a:latin typeface="Libre Franklin"/>
            </a:endParaRPr>
          </a:p>
        </p:txBody>
      </p:sp>
      <p:sp>
        <p:nvSpPr>
          <p:cNvPr id="442" name="Rectangle 23"/>
          <p:cNvSpPr/>
          <p:nvPr/>
        </p:nvSpPr>
        <p:spPr>
          <a:xfrm>
            <a:off x="8318520" y="5203800"/>
            <a:ext cx="25765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Lorem ipsum dolor misit amet, con secte tur jsao adipiscing it</a:t>
            </a:r>
            <a:endParaRPr b="0" lang="en-US" sz="1100" spc="-1" strike="noStrike">
              <a:solidFill>
                <a:srgbClr val="3f3f3f"/>
              </a:solidFill>
              <a:latin typeface="Libre Franklin"/>
            </a:endParaRPr>
          </a:p>
        </p:txBody>
      </p:sp>
      <p:sp>
        <p:nvSpPr>
          <p:cNvPr id="443" name="TextBox 25"/>
          <p:cNvSpPr/>
          <p:nvPr/>
        </p:nvSpPr>
        <p:spPr>
          <a:xfrm>
            <a:off x="1463760" y="4649760"/>
            <a:ext cx="224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Montserrat"/>
              </a:rPr>
              <a:t>Project, Jan 2021</a:t>
            </a:r>
            <a:endParaRPr b="0" lang="en-US" sz="1600" spc="-1" strike="noStrike">
              <a:solidFill>
                <a:srgbClr val="3f3f3f"/>
              </a:solidFill>
              <a:latin typeface="Libre Franklin"/>
            </a:endParaRPr>
          </a:p>
        </p:txBody>
      </p:sp>
      <p:sp>
        <p:nvSpPr>
          <p:cNvPr id="444" name="TextBox 26"/>
          <p:cNvSpPr/>
          <p:nvPr/>
        </p:nvSpPr>
        <p:spPr>
          <a:xfrm>
            <a:off x="1463760" y="4941720"/>
            <a:ext cx="22431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ffffff"/>
                </a:solidFill>
                <a:latin typeface="Libre Franklin"/>
              </a:rPr>
              <a:t>The Detail Of Project</a:t>
            </a:r>
            <a:endParaRPr b="0" lang="en-US" sz="900" spc="-1" strike="noStrike">
              <a:solidFill>
                <a:srgbClr val="3f3f3f"/>
              </a:solidFill>
              <a:latin typeface="Libre Franklin"/>
            </a:endParaRPr>
          </a:p>
        </p:txBody>
      </p:sp>
      <p:sp>
        <p:nvSpPr>
          <p:cNvPr id="445" name="Rectangle 27"/>
          <p:cNvSpPr/>
          <p:nvPr/>
        </p:nvSpPr>
        <p:spPr>
          <a:xfrm>
            <a:off x="1297080" y="5203800"/>
            <a:ext cx="25765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Lorem ipsum dolor misit amet, con secte tur jsao adipiscing it</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5"/>
          <p:cNvSpPr/>
          <p:nvPr/>
        </p:nvSpPr>
        <p:spPr>
          <a:xfrm>
            <a:off x="6934320" y="1739880"/>
            <a:ext cx="430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WE ARE FOCUSING AT USABLELITY</a:t>
            </a:r>
            <a:endParaRPr b="0" lang="en-US" sz="2800" spc="-1" strike="noStrike">
              <a:solidFill>
                <a:srgbClr val="3f3f3f"/>
              </a:solidFill>
              <a:latin typeface="Libre Franklin"/>
            </a:endParaRPr>
          </a:p>
        </p:txBody>
      </p:sp>
      <p:sp>
        <p:nvSpPr>
          <p:cNvPr id="447" name="TextBox 6"/>
          <p:cNvSpPr/>
          <p:nvPr/>
        </p:nvSpPr>
        <p:spPr>
          <a:xfrm>
            <a:off x="6965640" y="269388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448" name="TextBox 7"/>
          <p:cNvSpPr/>
          <p:nvPr/>
        </p:nvSpPr>
        <p:spPr>
          <a:xfrm>
            <a:off x="6941880" y="3479760"/>
            <a:ext cx="336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Just Simple And Save The World</a:t>
            </a:r>
            <a:endParaRPr b="0" lang="en-US" sz="1600" spc="-1" strike="noStrike">
              <a:solidFill>
                <a:srgbClr val="3f3f3f"/>
              </a:solidFill>
              <a:latin typeface="Libre Franklin"/>
            </a:endParaRPr>
          </a:p>
        </p:txBody>
      </p:sp>
      <p:sp>
        <p:nvSpPr>
          <p:cNvPr id="449" name="TextBox 8"/>
          <p:cNvSpPr/>
          <p:nvPr/>
        </p:nvSpPr>
        <p:spPr>
          <a:xfrm>
            <a:off x="6934320" y="3784680"/>
            <a:ext cx="4305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a:t>
            </a:r>
            <a:r>
              <a:rPr b="0" lang="en-US" sz="1100" spc="-1" strike="noStrike">
                <a:solidFill>
                  <a:srgbClr val="7f7f7f"/>
                </a:solidFill>
                <a:latin typeface="Libre Franklin"/>
                <a:ea typeface="Times New Roman"/>
              </a:rPr>
              <a:t>da</a:t>
            </a:r>
            <a:r>
              <a:rPr b="0" lang="id-ID" sz="1100" spc="-1" strike="noStrike">
                <a:solidFill>
                  <a:srgbClr val="7f7f7f"/>
                </a:solidFill>
                <a:latin typeface="Libre Franklin"/>
                <a:ea typeface="Times New Roman"/>
              </a:rPr>
              <a:t>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 bargan eli</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 ba</a:t>
            </a:r>
            <a:r>
              <a:rPr b="0" lang="id-ID" sz="1100" spc="-1" strike="noStrike">
                <a:solidFill>
                  <a:srgbClr val="7f7f7f"/>
                </a:solidFill>
                <a:latin typeface="Libre Franklin"/>
                <a:ea typeface="Times New Roman"/>
              </a:rPr>
              <a:t>dui ultrices.</a:t>
            </a:r>
            <a:r>
              <a:rPr b="0" lang="en-US" sz="1100" spc="-1" strike="noStrike">
                <a:solidFill>
                  <a:srgbClr val="7f7f7f"/>
                </a:solidFill>
                <a:latin typeface="Libre Franklin"/>
              </a:rPr>
              <a:t> consectetur adipiscing elit,s sed tollo dolorel eiusmod tempor incididunt ut labore </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2"/>
          <p:cNvSpPr/>
          <p:nvPr/>
        </p:nvSpPr>
        <p:spPr>
          <a:xfrm>
            <a:off x="1447920" y="1644480"/>
            <a:ext cx="447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FLORESIA MINIMAL STYLE</a:t>
            </a:r>
            <a:endParaRPr b="0" lang="en-US" sz="2800" spc="-1" strike="noStrike">
              <a:solidFill>
                <a:srgbClr val="3f3f3f"/>
              </a:solidFill>
              <a:latin typeface="Libre Franklin"/>
            </a:endParaRPr>
          </a:p>
        </p:txBody>
      </p:sp>
      <p:sp>
        <p:nvSpPr>
          <p:cNvPr id="272" name="TextBox 3"/>
          <p:cNvSpPr/>
          <p:nvPr/>
        </p:nvSpPr>
        <p:spPr>
          <a:xfrm>
            <a:off x="1479240" y="259884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273" name="TextBox 4"/>
          <p:cNvSpPr/>
          <p:nvPr/>
        </p:nvSpPr>
        <p:spPr>
          <a:xfrm>
            <a:off x="1317600" y="3479760"/>
            <a:ext cx="289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Introduction The Company</a:t>
            </a:r>
            <a:endParaRPr b="0" lang="en-US" sz="1600" spc="-1" strike="noStrike">
              <a:solidFill>
                <a:srgbClr val="3f3f3f"/>
              </a:solidFill>
              <a:latin typeface="Libre Franklin"/>
            </a:endParaRPr>
          </a:p>
        </p:txBody>
      </p:sp>
      <p:sp>
        <p:nvSpPr>
          <p:cNvPr id="274" name="TextBox 5"/>
          <p:cNvSpPr/>
          <p:nvPr/>
        </p:nvSpPr>
        <p:spPr>
          <a:xfrm>
            <a:off x="1447920" y="3784680"/>
            <a:ext cx="4305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a:t>
            </a:r>
            <a:r>
              <a:rPr b="0" lang="en-US" sz="1100" spc="-1" strike="noStrike">
                <a:solidFill>
                  <a:srgbClr val="7f7f7f"/>
                </a:solidFill>
                <a:latin typeface="Libre Franklin"/>
                <a:ea typeface="Times New Roman"/>
              </a:rPr>
              <a:t>da</a:t>
            </a:r>
            <a:r>
              <a:rPr b="0" lang="id-ID" sz="1100" spc="-1" strike="noStrike">
                <a:solidFill>
                  <a:srgbClr val="7f7f7f"/>
                </a:solidFill>
                <a:latin typeface="Libre Franklin"/>
                <a:ea typeface="Times New Roman"/>
              </a:rPr>
              <a:t>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 bargan eli</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 ba</a:t>
            </a:r>
            <a:r>
              <a:rPr b="0" lang="id-ID" sz="1100" spc="-1" strike="noStrike">
                <a:solidFill>
                  <a:srgbClr val="7f7f7f"/>
                </a:solidFill>
                <a:latin typeface="Libre Franklin"/>
                <a:ea typeface="Times New Roman"/>
              </a:rPr>
              <a:t>dui ultrices.</a:t>
            </a:r>
            <a:r>
              <a:rPr b="0" lang="en-US" sz="1100" spc="-1" strike="noStrike">
                <a:solidFill>
                  <a:srgbClr val="7f7f7f"/>
                </a:solidFill>
                <a:latin typeface="Libre Franklin"/>
              </a:rPr>
              <a:t> consectetur adipiscing elit,s sed tollo dolorel eiusmod tempor incididunt ut labore </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Box 6"/>
          <p:cNvSpPr/>
          <p:nvPr/>
        </p:nvSpPr>
        <p:spPr>
          <a:xfrm>
            <a:off x="743040" y="1644480"/>
            <a:ext cx="447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FLORESIA NEWEST PROJECT</a:t>
            </a:r>
            <a:endParaRPr b="0" lang="en-US" sz="2800" spc="-1" strike="noStrike">
              <a:solidFill>
                <a:srgbClr val="3f3f3f"/>
              </a:solidFill>
              <a:latin typeface="Libre Franklin"/>
            </a:endParaRPr>
          </a:p>
        </p:txBody>
      </p:sp>
      <p:sp>
        <p:nvSpPr>
          <p:cNvPr id="451" name="TextBox 7"/>
          <p:cNvSpPr/>
          <p:nvPr/>
        </p:nvSpPr>
        <p:spPr>
          <a:xfrm>
            <a:off x="774360" y="259884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452" name="TextBox 8"/>
          <p:cNvSpPr/>
          <p:nvPr/>
        </p:nvSpPr>
        <p:spPr>
          <a:xfrm>
            <a:off x="612720" y="3479760"/>
            <a:ext cx="289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Introduction The Company</a:t>
            </a:r>
            <a:endParaRPr b="0" lang="en-US" sz="1600" spc="-1" strike="noStrike">
              <a:solidFill>
                <a:srgbClr val="3f3f3f"/>
              </a:solidFill>
              <a:latin typeface="Libre Franklin"/>
            </a:endParaRPr>
          </a:p>
        </p:txBody>
      </p:sp>
      <p:sp>
        <p:nvSpPr>
          <p:cNvPr id="453" name="TextBox 9"/>
          <p:cNvSpPr/>
          <p:nvPr/>
        </p:nvSpPr>
        <p:spPr>
          <a:xfrm>
            <a:off x="743040" y="3784680"/>
            <a:ext cx="4305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a:t>
            </a:r>
            <a:r>
              <a:rPr b="0" lang="en-US" sz="1100" spc="-1" strike="noStrike">
                <a:solidFill>
                  <a:srgbClr val="7f7f7f"/>
                </a:solidFill>
                <a:latin typeface="Libre Franklin"/>
                <a:ea typeface="Times New Roman"/>
              </a:rPr>
              <a:t>da</a:t>
            </a:r>
            <a:r>
              <a:rPr b="0" lang="id-ID" sz="1100" spc="-1" strike="noStrike">
                <a:solidFill>
                  <a:srgbClr val="7f7f7f"/>
                </a:solidFill>
                <a:latin typeface="Libre Franklin"/>
                <a:ea typeface="Times New Roman"/>
              </a:rPr>
              <a:t>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 bargan eli</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 ba</a:t>
            </a:r>
            <a:r>
              <a:rPr b="0" lang="id-ID" sz="1100" spc="-1" strike="noStrike">
                <a:solidFill>
                  <a:srgbClr val="7f7f7f"/>
                </a:solidFill>
                <a:latin typeface="Libre Franklin"/>
                <a:ea typeface="Times New Roman"/>
              </a:rPr>
              <a:t>dui ultrices.</a:t>
            </a:r>
            <a:r>
              <a:rPr b="0" lang="en-US" sz="1100" spc="-1" strike="noStrike">
                <a:solidFill>
                  <a:srgbClr val="7f7f7f"/>
                </a:solidFill>
                <a:latin typeface="Libre Franklin"/>
              </a:rPr>
              <a:t> consectetur adipiscing elit,s sed tollo dolorel eiusmod tempor incididunt ut labore </a:t>
            </a:r>
            <a:endParaRPr b="0" lang="en-US" sz="1100" spc="-1" strike="noStrike">
              <a:solidFill>
                <a:srgbClr val="3f3f3f"/>
              </a:solidFill>
              <a:latin typeface="Libre Franklin"/>
            </a:endParaRPr>
          </a:p>
        </p:txBody>
      </p:sp>
      <p:grpSp>
        <p:nvGrpSpPr>
          <p:cNvPr id="454" name="Group 12"/>
          <p:cNvGrpSpPr/>
          <p:nvPr/>
        </p:nvGrpSpPr>
        <p:grpSpPr>
          <a:xfrm>
            <a:off x="8534520" y="1492200"/>
            <a:ext cx="2952720" cy="1403640"/>
            <a:chOff x="8534520" y="1492200"/>
            <a:chExt cx="2952720" cy="1403640"/>
          </a:xfrm>
        </p:grpSpPr>
        <p:sp>
          <p:nvSpPr>
            <p:cNvPr id="455" name="TextBox 10"/>
            <p:cNvSpPr/>
            <p:nvPr/>
          </p:nvSpPr>
          <p:spPr>
            <a:xfrm>
              <a:off x="8534520" y="1798200"/>
              <a:ext cx="2952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a:t>
              </a:r>
              <a:r>
                <a:rPr b="0" lang="en-US" sz="1100" spc="-1" strike="noStrike">
                  <a:solidFill>
                    <a:srgbClr val="7f7f7f"/>
                  </a:solidFill>
                  <a:latin typeface="Libre Franklin"/>
                  <a:ea typeface="Times New Roman"/>
                </a:rPr>
                <a:t>oil</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amet nilis ilno </a:t>
              </a:r>
              <a:r>
                <a:rPr b="0" lang="id-ID" sz="1100" spc="-1" strike="noStrike">
                  <a:solidFill>
                    <a:srgbClr val="7f7f7f"/>
                  </a:solidFill>
                  <a:latin typeface="Libre Franklin"/>
                  <a:ea typeface="Times New Roman"/>
                </a:rPr>
                <a:t>praesent tris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ique magna sit</a:t>
              </a:r>
              <a:r>
                <a:rPr b="0" lang="en-US" sz="1100" spc="-1" strike="noStrike">
                  <a:solidFill>
                    <a:srgbClr val="7f7f7f"/>
                  </a:solidFill>
                  <a:latin typeface="Libre Franklin"/>
                  <a:ea typeface="Times New Roman"/>
                </a:rPr>
                <a:t>a metani r</a:t>
              </a:r>
              <a:r>
                <a:rPr b="0" lang="id-ID" sz="1100" spc="-1" strike="noStrike">
                  <a:solidFill>
                    <a:srgbClr val="7f7f7f"/>
                  </a:solidFill>
                  <a:latin typeface="Libre Franklin"/>
                  <a:ea typeface="Times New Roman"/>
                </a:rPr>
                <a:t>isus </a:t>
              </a:r>
              <a:r>
                <a:rPr b="0" lang="en-US" sz="1100" spc="-1" strike="noStrike">
                  <a:solidFill>
                    <a:srgbClr val="7f7f7f"/>
                  </a:solidFill>
                  <a:latin typeface="Libre Franklin"/>
                  <a:ea typeface="Times New Roman"/>
                </a:rPr>
                <a:t>mag </a:t>
              </a:r>
              <a:r>
                <a:rPr b="0" lang="id-ID" sz="1100" spc="-1" strike="noStrike">
                  <a:solidFill>
                    <a:srgbClr val="7f7f7f"/>
                  </a:solidFill>
                  <a:latin typeface="Libre Franklin"/>
                  <a:ea typeface="Times New Roman"/>
                </a:rPr>
                <a:t>pretium</a:t>
              </a:r>
              <a:r>
                <a:rPr b="0" lang="en-US" sz="1100" spc="-1" strike="noStrike">
                  <a:solidFill>
                    <a:srgbClr val="7f7f7f"/>
                  </a:solidFill>
                  <a:latin typeface="Libre Franklin"/>
                  <a:ea typeface="Times New Roman"/>
                </a:rPr>
                <a:t> amet dui</a:t>
              </a:r>
              <a:r>
                <a:rPr b="0" lang="id-ID" sz="1100" spc="-1" strike="noStrike">
                  <a:solidFill>
                    <a:srgbClr val="7f7f7f"/>
                  </a:solidFill>
                  <a:latin typeface="Libre Franklin"/>
                  <a:ea typeface="Times New Roman"/>
                </a:rPr>
                <a:t> q</a:t>
              </a:r>
              <a:r>
                <a:rPr b="0" lang="en-US" sz="1100" spc="-1" strike="noStrike">
                  <a:solidFill>
                    <a:srgbClr val="7f7f7f"/>
                  </a:solidFill>
                  <a:latin typeface="Libre Franklin"/>
                  <a:ea typeface="Times New Roman"/>
                </a:rPr>
                <a:t>siaaisn sao </a:t>
              </a:r>
              <a:r>
                <a:rPr b="0" lang="id-ID" sz="1100" spc="-1" strike="noStrike">
                  <a:solidFill>
                    <a:srgbClr val="7f7f7f"/>
                  </a:solidFill>
                  <a:latin typeface="Libre Franklin"/>
                  <a:ea typeface="Times New Roman"/>
                </a:rPr>
                <a:t>ua</a:t>
              </a:r>
              <a:r>
                <a:rPr b="0" lang="en-US" sz="1100" spc="-1" strike="noStrike">
                  <a:solidFill>
                    <a:srgbClr val="7f7f7f"/>
                  </a:solidFill>
                  <a:latin typeface="Libre Franklin"/>
                  <a:ea typeface="Times New Roman"/>
                </a:rPr>
                <a:t>mis netail.</a:t>
              </a:r>
              <a:endParaRPr b="0" lang="en-US" sz="1100" spc="-1" strike="noStrike">
                <a:solidFill>
                  <a:srgbClr val="3f3f3f"/>
                </a:solidFill>
                <a:latin typeface="Libre Franklin"/>
              </a:endParaRPr>
            </a:p>
          </p:txBody>
        </p:sp>
        <p:sp>
          <p:nvSpPr>
            <p:cNvPr id="456" name="TextBox 11"/>
            <p:cNvSpPr/>
            <p:nvPr/>
          </p:nvSpPr>
          <p:spPr>
            <a:xfrm>
              <a:off x="8547120" y="1492200"/>
              <a:ext cx="22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Project, 12 Mar 2021</a:t>
              </a:r>
              <a:endParaRPr b="0" lang="en-US" sz="1600" spc="-1" strike="noStrike">
                <a:solidFill>
                  <a:srgbClr val="3f3f3f"/>
                </a:solidFill>
                <a:latin typeface="Libre Franklin"/>
              </a:endParaRPr>
            </a:p>
          </p:txBody>
        </p:sp>
      </p:grpSp>
      <p:grpSp>
        <p:nvGrpSpPr>
          <p:cNvPr id="457" name="Group 13"/>
          <p:cNvGrpSpPr/>
          <p:nvPr/>
        </p:nvGrpSpPr>
        <p:grpSpPr>
          <a:xfrm>
            <a:off x="8534520" y="4235400"/>
            <a:ext cx="2952720" cy="1403640"/>
            <a:chOff x="8534520" y="4235400"/>
            <a:chExt cx="2952720" cy="1403640"/>
          </a:xfrm>
        </p:grpSpPr>
        <p:sp>
          <p:nvSpPr>
            <p:cNvPr id="458" name="TextBox 14"/>
            <p:cNvSpPr/>
            <p:nvPr/>
          </p:nvSpPr>
          <p:spPr>
            <a:xfrm>
              <a:off x="8534520" y="4541400"/>
              <a:ext cx="2952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a:t>
              </a:r>
              <a:r>
                <a:rPr b="0" lang="en-US" sz="1100" spc="-1" strike="noStrike">
                  <a:solidFill>
                    <a:srgbClr val="7f7f7f"/>
                  </a:solidFill>
                  <a:latin typeface="Libre Franklin"/>
                  <a:ea typeface="Times New Roman"/>
                </a:rPr>
                <a:t>oil</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amet nilis ilno </a:t>
              </a:r>
              <a:r>
                <a:rPr b="0" lang="id-ID" sz="1100" spc="-1" strike="noStrike">
                  <a:solidFill>
                    <a:srgbClr val="7f7f7f"/>
                  </a:solidFill>
                  <a:latin typeface="Libre Franklin"/>
                  <a:ea typeface="Times New Roman"/>
                </a:rPr>
                <a:t>praesent tris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ique magna sit</a:t>
              </a:r>
              <a:r>
                <a:rPr b="0" lang="en-US" sz="1100" spc="-1" strike="noStrike">
                  <a:solidFill>
                    <a:srgbClr val="7f7f7f"/>
                  </a:solidFill>
                  <a:latin typeface="Libre Franklin"/>
                  <a:ea typeface="Times New Roman"/>
                </a:rPr>
                <a:t>a metani r</a:t>
              </a:r>
              <a:r>
                <a:rPr b="0" lang="id-ID" sz="1100" spc="-1" strike="noStrike">
                  <a:solidFill>
                    <a:srgbClr val="7f7f7f"/>
                  </a:solidFill>
                  <a:latin typeface="Libre Franklin"/>
                  <a:ea typeface="Times New Roman"/>
                </a:rPr>
                <a:t>isus </a:t>
              </a:r>
              <a:r>
                <a:rPr b="0" lang="en-US" sz="1100" spc="-1" strike="noStrike">
                  <a:solidFill>
                    <a:srgbClr val="7f7f7f"/>
                  </a:solidFill>
                  <a:latin typeface="Libre Franklin"/>
                  <a:ea typeface="Times New Roman"/>
                </a:rPr>
                <a:t>mag </a:t>
              </a:r>
              <a:r>
                <a:rPr b="0" lang="id-ID" sz="1100" spc="-1" strike="noStrike">
                  <a:solidFill>
                    <a:srgbClr val="7f7f7f"/>
                  </a:solidFill>
                  <a:latin typeface="Libre Franklin"/>
                  <a:ea typeface="Times New Roman"/>
                </a:rPr>
                <a:t>pretium</a:t>
              </a:r>
              <a:r>
                <a:rPr b="0" lang="en-US" sz="1100" spc="-1" strike="noStrike">
                  <a:solidFill>
                    <a:srgbClr val="7f7f7f"/>
                  </a:solidFill>
                  <a:latin typeface="Libre Franklin"/>
                  <a:ea typeface="Times New Roman"/>
                </a:rPr>
                <a:t> amet dui</a:t>
              </a:r>
              <a:r>
                <a:rPr b="0" lang="id-ID" sz="1100" spc="-1" strike="noStrike">
                  <a:solidFill>
                    <a:srgbClr val="7f7f7f"/>
                  </a:solidFill>
                  <a:latin typeface="Libre Franklin"/>
                  <a:ea typeface="Times New Roman"/>
                </a:rPr>
                <a:t> q</a:t>
              </a:r>
              <a:r>
                <a:rPr b="0" lang="en-US" sz="1100" spc="-1" strike="noStrike">
                  <a:solidFill>
                    <a:srgbClr val="7f7f7f"/>
                  </a:solidFill>
                  <a:latin typeface="Libre Franklin"/>
                  <a:ea typeface="Times New Roman"/>
                </a:rPr>
                <a:t>siaaisn sao </a:t>
              </a:r>
              <a:r>
                <a:rPr b="0" lang="id-ID" sz="1100" spc="-1" strike="noStrike">
                  <a:solidFill>
                    <a:srgbClr val="7f7f7f"/>
                  </a:solidFill>
                  <a:latin typeface="Libre Franklin"/>
                  <a:ea typeface="Times New Roman"/>
                </a:rPr>
                <a:t>ua</a:t>
              </a:r>
              <a:r>
                <a:rPr b="0" lang="en-US" sz="1100" spc="-1" strike="noStrike">
                  <a:solidFill>
                    <a:srgbClr val="7f7f7f"/>
                  </a:solidFill>
                  <a:latin typeface="Libre Franklin"/>
                  <a:ea typeface="Times New Roman"/>
                </a:rPr>
                <a:t>mis netail.</a:t>
              </a:r>
              <a:endParaRPr b="0" lang="en-US" sz="1100" spc="-1" strike="noStrike">
                <a:solidFill>
                  <a:srgbClr val="3f3f3f"/>
                </a:solidFill>
                <a:latin typeface="Libre Franklin"/>
              </a:endParaRPr>
            </a:p>
          </p:txBody>
        </p:sp>
        <p:sp>
          <p:nvSpPr>
            <p:cNvPr id="459" name="TextBox 15"/>
            <p:cNvSpPr/>
            <p:nvPr/>
          </p:nvSpPr>
          <p:spPr>
            <a:xfrm>
              <a:off x="8547120" y="4235400"/>
              <a:ext cx="22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Project, 12 Mar 2021</a:t>
              </a:r>
              <a:endParaRPr b="0" lang="en-US" sz="1600" spc="-1" strike="noStrike">
                <a:solidFill>
                  <a:srgbClr val="3f3f3f"/>
                </a:solidFill>
                <a:latin typeface="Libre Frankli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Box 2"/>
          <p:cNvSpPr/>
          <p:nvPr/>
        </p:nvSpPr>
        <p:spPr>
          <a:xfrm>
            <a:off x="5770440" y="335448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61" name="TextBox 3"/>
          <p:cNvSpPr/>
          <p:nvPr/>
        </p:nvSpPr>
        <p:spPr>
          <a:xfrm>
            <a:off x="5770440" y="300348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Name, Jan 2021</a:t>
            </a:r>
            <a:endParaRPr b="0" lang="en-US" sz="1600" spc="-1" strike="noStrike">
              <a:solidFill>
                <a:srgbClr val="3f3f3f"/>
              </a:solidFill>
              <a:latin typeface="Libre Franklin"/>
            </a:endParaRPr>
          </a:p>
        </p:txBody>
      </p:sp>
      <p:sp>
        <p:nvSpPr>
          <p:cNvPr id="462" name="TextBox 4"/>
          <p:cNvSpPr/>
          <p:nvPr/>
        </p:nvSpPr>
        <p:spPr>
          <a:xfrm>
            <a:off x="5770440" y="478800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63" name="TextBox 5"/>
          <p:cNvSpPr/>
          <p:nvPr/>
        </p:nvSpPr>
        <p:spPr>
          <a:xfrm>
            <a:off x="577044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Name, Mar 2021</a:t>
            </a:r>
            <a:endParaRPr b="0" lang="en-US" sz="1600" spc="-1" strike="noStrike">
              <a:solidFill>
                <a:srgbClr val="3f3f3f"/>
              </a:solidFill>
              <a:latin typeface="Libre Franklin"/>
            </a:endParaRPr>
          </a:p>
        </p:txBody>
      </p:sp>
      <p:sp>
        <p:nvSpPr>
          <p:cNvPr id="464" name="TextBox 6"/>
          <p:cNvSpPr/>
          <p:nvPr/>
        </p:nvSpPr>
        <p:spPr>
          <a:xfrm>
            <a:off x="8551800" y="3362400"/>
            <a:ext cx="2481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65" name="TextBox 7"/>
          <p:cNvSpPr/>
          <p:nvPr/>
        </p:nvSpPr>
        <p:spPr>
          <a:xfrm>
            <a:off x="8551800" y="302724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Name, Feb 2021</a:t>
            </a:r>
            <a:endParaRPr b="0" lang="en-US" sz="1600" spc="-1" strike="noStrike">
              <a:solidFill>
                <a:srgbClr val="3f3f3f"/>
              </a:solidFill>
              <a:latin typeface="Libre Franklin"/>
            </a:endParaRPr>
          </a:p>
        </p:txBody>
      </p:sp>
      <p:sp>
        <p:nvSpPr>
          <p:cNvPr id="466" name="TextBox 8"/>
          <p:cNvSpPr/>
          <p:nvPr/>
        </p:nvSpPr>
        <p:spPr>
          <a:xfrm>
            <a:off x="8551800" y="4795920"/>
            <a:ext cx="2481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467" name="TextBox 9"/>
          <p:cNvSpPr/>
          <p:nvPr/>
        </p:nvSpPr>
        <p:spPr>
          <a:xfrm>
            <a:off x="855180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Name, Apr 2021</a:t>
            </a:r>
            <a:endParaRPr b="0" lang="en-US" sz="1600" spc="-1" strike="noStrike">
              <a:solidFill>
                <a:srgbClr val="3f3f3f"/>
              </a:solidFill>
              <a:latin typeface="Libre Franklin"/>
            </a:endParaRPr>
          </a:p>
        </p:txBody>
      </p:sp>
      <p:sp>
        <p:nvSpPr>
          <p:cNvPr id="468" name="TextBox 10"/>
          <p:cNvSpPr/>
          <p:nvPr/>
        </p:nvSpPr>
        <p:spPr>
          <a:xfrm>
            <a:off x="5743440" y="1292400"/>
            <a:ext cx="431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LWAYS TRUSTED BY ALL CLIENTS</a:t>
            </a:r>
            <a:endParaRPr b="0" lang="en-US" sz="2800" spc="-1" strike="noStrike">
              <a:solidFill>
                <a:srgbClr val="3f3f3f"/>
              </a:solidFill>
              <a:latin typeface="Libre Franklin"/>
            </a:endParaRPr>
          </a:p>
        </p:txBody>
      </p:sp>
      <p:sp>
        <p:nvSpPr>
          <p:cNvPr id="469" name="TextBox 11"/>
          <p:cNvSpPr/>
          <p:nvPr/>
        </p:nvSpPr>
        <p:spPr>
          <a:xfrm>
            <a:off x="5774760" y="224640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2"/>
          <p:cNvSpPr/>
          <p:nvPr/>
        </p:nvSpPr>
        <p:spPr>
          <a:xfrm flipH="1">
            <a:off x="1494720" y="4133880"/>
            <a:ext cx="2779560" cy="203832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71" name="TextBox 16"/>
          <p:cNvSpPr/>
          <p:nvPr/>
        </p:nvSpPr>
        <p:spPr>
          <a:xfrm>
            <a:off x="1763640" y="5164200"/>
            <a:ext cx="224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Montserrat"/>
              </a:rPr>
              <a:t>Best Simple Style</a:t>
            </a:r>
            <a:endParaRPr b="0" lang="en-US" sz="1600" spc="-1" strike="noStrike">
              <a:solidFill>
                <a:srgbClr val="3f3f3f"/>
              </a:solidFill>
              <a:latin typeface="Libre Franklin"/>
            </a:endParaRPr>
          </a:p>
        </p:txBody>
      </p:sp>
      <p:sp>
        <p:nvSpPr>
          <p:cNvPr id="472" name="TextBox 17"/>
          <p:cNvSpPr/>
          <p:nvPr/>
        </p:nvSpPr>
        <p:spPr>
          <a:xfrm>
            <a:off x="1763640" y="5456160"/>
            <a:ext cx="22431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900" spc="-1" strike="noStrike">
                <a:solidFill>
                  <a:srgbClr val="ffffff"/>
                </a:solidFill>
                <a:latin typeface="Libre Franklin"/>
              </a:rPr>
              <a:t>The Detail Of Achievement</a:t>
            </a:r>
            <a:endParaRPr b="0" lang="en-US" sz="900" spc="-1" strike="noStrike">
              <a:solidFill>
                <a:srgbClr val="3f3f3f"/>
              </a:solidFill>
              <a:latin typeface="Libre Franklin"/>
            </a:endParaRPr>
          </a:p>
        </p:txBody>
      </p:sp>
      <p:sp>
        <p:nvSpPr>
          <p:cNvPr id="473" name="Graphic 19"/>
          <p:cNvSpPr/>
          <p:nvPr/>
        </p:nvSpPr>
        <p:spPr>
          <a:xfrm>
            <a:off x="2717640" y="4565520"/>
            <a:ext cx="333360" cy="374760"/>
          </a:xfrm>
          <a:custGeom>
            <a:avLst/>
            <a:gdLst/>
            <a:ahLst/>
            <a:rect l="l" t="t" r="r" b="b"/>
            <a:pathLst>
              <a:path w="666750" h="751522">
                <a:moveTo>
                  <a:pt x="570548" y="361950"/>
                </a:moveTo>
                <a:cubicBezTo>
                  <a:pt x="537210" y="396240"/>
                  <a:pt x="505778" y="418148"/>
                  <a:pt x="437198" y="425768"/>
                </a:cubicBezTo>
                <a:cubicBezTo>
                  <a:pt x="455295" y="407670"/>
                  <a:pt x="476250" y="389573"/>
                  <a:pt x="494348" y="367665"/>
                </a:cubicBezTo>
                <a:cubicBezTo>
                  <a:pt x="501967" y="359093"/>
                  <a:pt x="516255" y="340043"/>
                  <a:pt x="516255" y="339090"/>
                </a:cubicBezTo>
                <a:cubicBezTo>
                  <a:pt x="532448" y="312420"/>
                  <a:pt x="541973" y="281940"/>
                  <a:pt x="541973" y="248602"/>
                </a:cubicBezTo>
                <a:lnTo>
                  <a:pt x="541973" y="124778"/>
                </a:lnTo>
                <a:lnTo>
                  <a:pt x="608648" y="124778"/>
                </a:lnTo>
                <a:lnTo>
                  <a:pt x="608648" y="269558"/>
                </a:lnTo>
                <a:cubicBezTo>
                  <a:pt x="609600" y="271463"/>
                  <a:pt x="611505" y="319088"/>
                  <a:pt x="570548" y="361950"/>
                </a:cubicBezTo>
                <a:close/>
                <a:moveTo>
                  <a:pt x="97155" y="361950"/>
                </a:moveTo>
                <a:cubicBezTo>
                  <a:pt x="55245" y="319088"/>
                  <a:pt x="57150" y="271463"/>
                  <a:pt x="57150" y="269558"/>
                </a:cubicBezTo>
                <a:lnTo>
                  <a:pt x="57150" y="123825"/>
                </a:lnTo>
                <a:lnTo>
                  <a:pt x="123825" y="123825"/>
                </a:lnTo>
                <a:lnTo>
                  <a:pt x="123825" y="247650"/>
                </a:lnTo>
                <a:cubicBezTo>
                  <a:pt x="123825" y="280988"/>
                  <a:pt x="133350" y="311468"/>
                  <a:pt x="149543" y="338138"/>
                </a:cubicBezTo>
                <a:cubicBezTo>
                  <a:pt x="149543" y="339090"/>
                  <a:pt x="163830" y="359093"/>
                  <a:pt x="171450" y="366713"/>
                </a:cubicBezTo>
                <a:cubicBezTo>
                  <a:pt x="190500" y="388620"/>
                  <a:pt x="210502" y="406718"/>
                  <a:pt x="228600" y="424815"/>
                </a:cubicBezTo>
                <a:cubicBezTo>
                  <a:pt x="161925" y="417195"/>
                  <a:pt x="129540" y="395288"/>
                  <a:pt x="97155" y="361950"/>
                </a:cubicBezTo>
                <a:close/>
                <a:moveTo>
                  <a:pt x="666750" y="266700"/>
                </a:moveTo>
                <a:lnTo>
                  <a:pt x="666750" y="66675"/>
                </a:lnTo>
                <a:lnTo>
                  <a:pt x="542925" y="66675"/>
                </a:lnTo>
                <a:lnTo>
                  <a:pt x="542925" y="0"/>
                </a:lnTo>
                <a:lnTo>
                  <a:pt x="333375" y="0"/>
                </a:lnTo>
                <a:lnTo>
                  <a:pt x="123825" y="0"/>
                </a:lnTo>
                <a:lnTo>
                  <a:pt x="123825" y="66675"/>
                </a:lnTo>
                <a:lnTo>
                  <a:pt x="0" y="66675"/>
                </a:lnTo>
                <a:lnTo>
                  <a:pt x="0" y="265748"/>
                </a:lnTo>
                <a:cubicBezTo>
                  <a:pt x="0" y="275273"/>
                  <a:pt x="0" y="340995"/>
                  <a:pt x="54293" y="399098"/>
                </a:cubicBezTo>
                <a:cubicBezTo>
                  <a:pt x="106680" y="454343"/>
                  <a:pt x="170498" y="482918"/>
                  <a:pt x="281940" y="484823"/>
                </a:cubicBezTo>
                <a:cubicBezTo>
                  <a:pt x="290513" y="499110"/>
                  <a:pt x="295275" y="515303"/>
                  <a:pt x="295275" y="532448"/>
                </a:cubicBezTo>
                <a:lnTo>
                  <a:pt x="295275" y="656273"/>
                </a:lnTo>
                <a:lnTo>
                  <a:pt x="247650" y="656273"/>
                </a:lnTo>
                <a:cubicBezTo>
                  <a:pt x="226695" y="656273"/>
                  <a:pt x="209550" y="673418"/>
                  <a:pt x="209550" y="694373"/>
                </a:cubicBezTo>
                <a:lnTo>
                  <a:pt x="161925" y="694373"/>
                </a:lnTo>
                <a:cubicBezTo>
                  <a:pt x="140970" y="694373"/>
                  <a:pt x="123825" y="711518"/>
                  <a:pt x="123825" y="732473"/>
                </a:cubicBezTo>
                <a:lnTo>
                  <a:pt x="123825" y="751523"/>
                </a:lnTo>
                <a:lnTo>
                  <a:pt x="542925" y="751523"/>
                </a:lnTo>
                <a:lnTo>
                  <a:pt x="542925" y="732473"/>
                </a:lnTo>
                <a:cubicBezTo>
                  <a:pt x="542925" y="711518"/>
                  <a:pt x="525780" y="694373"/>
                  <a:pt x="504825" y="694373"/>
                </a:cubicBezTo>
                <a:lnTo>
                  <a:pt x="457200" y="694373"/>
                </a:lnTo>
                <a:cubicBezTo>
                  <a:pt x="457200" y="673418"/>
                  <a:pt x="440055" y="656273"/>
                  <a:pt x="419100" y="656273"/>
                </a:cubicBezTo>
                <a:lnTo>
                  <a:pt x="371475" y="656273"/>
                </a:lnTo>
                <a:lnTo>
                  <a:pt x="371475" y="533400"/>
                </a:lnTo>
                <a:cubicBezTo>
                  <a:pt x="371475" y="516255"/>
                  <a:pt x="376238" y="500063"/>
                  <a:pt x="384810" y="485775"/>
                </a:cubicBezTo>
                <a:cubicBezTo>
                  <a:pt x="496253" y="483870"/>
                  <a:pt x="560070" y="454343"/>
                  <a:pt x="612458" y="400050"/>
                </a:cubicBezTo>
                <a:cubicBezTo>
                  <a:pt x="666750" y="342900"/>
                  <a:pt x="666750" y="276225"/>
                  <a:pt x="666750" y="2667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474" name="TextBox 21"/>
          <p:cNvSpPr/>
          <p:nvPr/>
        </p:nvSpPr>
        <p:spPr>
          <a:xfrm>
            <a:off x="3714840" y="743040"/>
            <a:ext cx="4762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OUR GALERY</a:t>
            </a:r>
            <a:endParaRPr b="0" lang="en-US" sz="2800" spc="-1" strike="noStrike">
              <a:solidFill>
                <a:srgbClr val="3f3f3f"/>
              </a:solidFill>
              <a:latin typeface="Libre Franklin"/>
            </a:endParaRPr>
          </a:p>
        </p:txBody>
      </p:sp>
      <p:sp>
        <p:nvSpPr>
          <p:cNvPr id="475" name="TextBox 2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
          <p:cNvSpPr/>
          <p:nvPr/>
        </p:nvSpPr>
        <p:spPr>
          <a:xfrm>
            <a:off x="6095880" y="712800"/>
            <a:ext cx="5486400" cy="5459400"/>
          </a:xfrm>
          <a:prstGeom prst="rect">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77" name="TextBox 4"/>
          <p:cNvSpPr/>
          <p:nvPr/>
        </p:nvSpPr>
        <p:spPr>
          <a:xfrm>
            <a:off x="6538680" y="3073320"/>
            <a:ext cx="222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Open Sans SemiBold"/>
              </a:rPr>
              <a:t>01. The Reason Here</a:t>
            </a:r>
            <a:endParaRPr b="0" lang="en-US" sz="1600" spc="-1" strike="noStrike">
              <a:solidFill>
                <a:srgbClr val="3f3f3f"/>
              </a:solidFill>
              <a:latin typeface="Libre Franklin"/>
            </a:endParaRPr>
          </a:p>
        </p:txBody>
      </p:sp>
      <p:sp>
        <p:nvSpPr>
          <p:cNvPr id="478" name="TextBox 5"/>
          <p:cNvSpPr/>
          <p:nvPr/>
        </p:nvSpPr>
        <p:spPr>
          <a:xfrm>
            <a:off x="6543720" y="3349800"/>
            <a:ext cx="461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ibre Franklin"/>
                <a:ea typeface="Times New Roman"/>
              </a:rPr>
              <a:t>Aliquet nibh praesent tristiq</a:t>
            </a:r>
            <a:r>
              <a:rPr b="0" lang="en-US" sz="1100" spc="-1" strike="noStrike">
                <a:solidFill>
                  <a:srgbClr val="ffffff"/>
                </a:solidFill>
                <a:latin typeface="Libre Franklin"/>
                <a:ea typeface="Times New Roman"/>
              </a:rPr>
              <a:t> </a:t>
            </a:r>
            <a:r>
              <a:rPr b="0" lang="id-ID" sz="1100" spc="-1" strike="noStrike">
                <a:solidFill>
                  <a:srgbClr val="ffffff"/>
                </a:solidFill>
                <a:latin typeface="Libre Franklin"/>
                <a:ea typeface="Times New Roman"/>
              </a:rPr>
              <a:t>ue</a:t>
            </a:r>
            <a:r>
              <a:rPr b="0" lang="en-US" sz="1100" spc="-1" strike="noStrike">
                <a:solidFill>
                  <a:srgbClr val="ffffff"/>
                </a:solidFill>
                <a:latin typeface="Libre Franklin"/>
                <a:ea typeface="Times New Roman"/>
              </a:rPr>
              <a:t>i</a:t>
            </a:r>
            <a:r>
              <a:rPr b="0" lang="id-ID" sz="1100" spc="-1" strike="noStrike">
                <a:solidFill>
                  <a:srgbClr val="ffffff"/>
                </a:solidFill>
                <a:latin typeface="Libre Franklin"/>
                <a:ea typeface="Times New Roman"/>
              </a:rPr>
              <a:t> magna </a:t>
            </a:r>
            <a:r>
              <a:rPr b="0" lang="en-US" sz="1100" spc="-1" strike="noStrike">
                <a:solidFill>
                  <a:srgbClr val="ffffff"/>
                </a:solidFill>
                <a:latin typeface="Libre Franklin"/>
                <a:ea typeface="Times New Roman"/>
              </a:rPr>
              <a:t>silka magnna</a:t>
            </a:r>
            <a:r>
              <a:rPr b="0" lang="id-ID" sz="1100" spc="-1" strike="noStrike">
                <a:solidFill>
                  <a:srgbClr val="ffffff"/>
                </a:solidFill>
                <a:latin typeface="Libre Franklin"/>
                <a:ea typeface="Times New Roman"/>
              </a:rPr>
              <a:t>si</a:t>
            </a:r>
            <a:r>
              <a:rPr b="0" lang="en-US" sz="1100" spc="-1" strike="noStrike">
                <a:solidFill>
                  <a:srgbClr val="ffffff"/>
                </a:solidFill>
                <a:latin typeface="Libre Franklin"/>
                <a:ea typeface="Times New Roman"/>
              </a:rPr>
              <a:t>k ilitaai kio</a:t>
            </a:r>
            <a:r>
              <a:rPr b="0" lang="id-ID" sz="1100" spc="-1" strike="noStrike">
                <a:solidFill>
                  <a:srgbClr val="ffffff"/>
                </a:solidFill>
                <a:latin typeface="Libre Franklin"/>
                <a:ea typeface="Times New Roman"/>
              </a:rPr>
              <a:t> a</a:t>
            </a:r>
            <a:r>
              <a:rPr b="0" lang="en-US" sz="1100" spc="-1" strike="noStrike">
                <a:solidFill>
                  <a:srgbClr val="ffffff"/>
                </a:solidFill>
                <a:latin typeface="Libre Franklin"/>
                <a:ea typeface="Times New Roman"/>
              </a:rPr>
              <a:t>ia</a:t>
            </a:r>
            <a:r>
              <a:rPr b="0" lang="id-ID" sz="1100" spc="-1" strike="noStrike">
                <a:solidFill>
                  <a:srgbClr val="ffffff"/>
                </a:solidFill>
                <a:latin typeface="Libre Franklin"/>
                <a:ea typeface="Times New Roman"/>
              </a:rPr>
              <a:t>met. Risus pretium quam</a:t>
            </a:r>
            <a:r>
              <a:rPr b="0" lang="en-US" sz="1100" spc="-1" strike="noStrike">
                <a:solidFill>
                  <a:srgbClr val="ffffff"/>
                </a:solidFill>
                <a:latin typeface="Libre Franklin"/>
                <a:ea typeface="Times New Roman"/>
              </a:rPr>
              <a:t>is altoi</a:t>
            </a:r>
            <a:r>
              <a:rPr b="0" lang="id-ID" sz="1100" spc="-1" strike="noStrike">
                <a:solidFill>
                  <a:srgbClr val="ffffff"/>
                </a:solidFill>
                <a:latin typeface="Libre Franklin"/>
                <a:ea typeface="Times New Roman"/>
              </a:rPr>
              <a:t> vulput</a:t>
            </a:r>
            <a:r>
              <a:rPr b="0" lang="en-US" sz="1100" spc="-1" strike="noStrike">
                <a:solidFill>
                  <a:srgbClr val="ffffff"/>
                </a:solidFill>
                <a:latin typeface="Libre Franklin"/>
                <a:ea typeface="Times New Roman"/>
              </a:rPr>
              <a:t> </a:t>
            </a:r>
            <a:r>
              <a:rPr b="0" lang="id-ID" sz="1100" spc="-1" strike="noStrike">
                <a:solidFill>
                  <a:srgbClr val="ffffff"/>
                </a:solidFill>
                <a:latin typeface="Libre Franklin"/>
                <a:ea typeface="Times New Roman"/>
              </a:rPr>
              <a:t>ate</a:t>
            </a:r>
            <a:r>
              <a:rPr b="0" lang="en-US" sz="1100" spc="-1" strike="noStrike">
                <a:solidFill>
                  <a:srgbClr val="ffffff"/>
                </a:solidFill>
                <a:latin typeface="Libre Franklin"/>
                <a:ea typeface="Times New Roman"/>
              </a:rPr>
              <a:t>l ini inil</a:t>
            </a:r>
            <a:r>
              <a:rPr b="0" lang="id-ID" sz="1100" spc="-1" strike="noStrike">
                <a:solidFill>
                  <a:srgbClr val="ffffff"/>
                </a:solidFill>
                <a:latin typeface="Libre Franklin"/>
                <a:ea typeface="Times New Roman"/>
              </a:rPr>
              <a:t> dignissim. Enim</a:t>
            </a:r>
            <a:r>
              <a:rPr b="0" lang="en-US" sz="1100" spc="-1" strike="noStrike">
                <a:solidFill>
                  <a:srgbClr val="ffffff"/>
                </a:solidFill>
                <a:latin typeface="Libre Franklin"/>
                <a:ea typeface="Times New Roman"/>
              </a:rPr>
              <a:t> agil</a:t>
            </a:r>
            <a:r>
              <a:rPr b="0" lang="id-ID" sz="1100" spc="-1" strike="noStrike">
                <a:solidFill>
                  <a:srgbClr val="ffffff"/>
                </a:solidFill>
                <a:latin typeface="Libre Franklin"/>
                <a:ea typeface="Times New Roman"/>
              </a:rPr>
              <a:t> nec</a:t>
            </a:r>
            <a:r>
              <a:rPr b="0" lang="en-US" sz="1100" spc="-1" strike="noStrike">
                <a:solidFill>
                  <a:srgbClr val="ffffff"/>
                </a:solidFill>
                <a:latin typeface="Libre Franklin"/>
                <a:ea typeface="Times New Roman"/>
              </a:rPr>
              <a:t>is</a:t>
            </a:r>
            <a:r>
              <a:rPr b="0" lang="id-ID" sz="1100" spc="-1" strike="noStrike">
                <a:solidFill>
                  <a:srgbClr val="ffffff"/>
                </a:solidFill>
                <a:latin typeface="Libre Franklin"/>
                <a:ea typeface="Times New Roman"/>
              </a:rPr>
              <a:t> </a:t>
            </a:r>
            <a:r>
              <a:rPr b="0" lang="en-US" sz="1100" spc="-1" strike="noStrike">
                <a:solidFill>
                  <a:srgbClr val="ffffff"/>
                </a:solidFill>
                <a:latin typeface="Libre Franklin"/>
                <a:ea typeface="Times New Roman"/>
              </a:rPr>
              <a:t>ba</a:t>
            </a:r>
            <a:r>
              <a:rPr b="0" lang="id-ID" sz="1100" spc="-1" strike="noStrike">
                <a:solidFill>
                  <a:srgbClr val="ffffff"/>
                </a:solidFill>
                <a:latin typeface="Libre Franklin"/>
                <a:ea typeface="Times New Roman"/>
              </a:rPr>
              <a:t>dui nunc</a:t>
            </a:r>
            <a:r>
              <a:rPr b="0" lang="en-US" sz="1100" spc="-1" strike="noStrike">
                <a:solidFill>
                  <a:srgbClr val="ffffff"/>
                </a:solidFill>
                <a:latin typeface="Libre Franklin"/>
                <a:ea typeface="Times New Roman"/>
              </a:rPr>
              <a:t>ik amil bgauguaguubagna sitani magna.</a:t>
            </a:r>
            <a:endParaRPr b="0" lang="en-US" sz="1100" spc="-1" strike="noStrike">
              <a:solidFill>
                <a:srgbClr val="3f3f3f"/>
              </a:solidFill>
              <a:latin typeface="Libre Franklin"/>
            </a:endParaRPr>
          </a:p>
        </p:txBody>
      </p:sp>
      <p:sp>
        <p:nvSpPr>
          <p:cNvPr id="479" name="TextBox 6"/>
          <p:cNvSpPr/>
          <p:nvPr/>
        </p:nvSpPr>
        <p:spPr>
          <a:xfrm>
            <a:off x="6552000" y="4413240"/>
            <a:ext cx="222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ibre Franklin"/>
                <a:ea typeface="Open Sans SemiBold"/>
              </a:rPr>
              <a:t>02. The Reason Here</a:t>
            </a:r>
            <a:endParaRPr b="0" lang="en-US" sz="1600" spc="-1" strike="noStrike">
              <a:solidFill>
                <a:srgbClr val="3f3f3f"/>
              </a:solidFill>
              <a:latin typeface="Libre Franklin"/>
            </a:endParaRPr>
          </a:p>
        </p:txBody>
      </p:sp>
      <p:sp>
        <p:nvSpPr>
          <p:cNvPr id="480" name="TextBox 7"/>
          <p:cNvSpPr/>
          <p:nvPr/>
        </p:nvSpPr>
        <p:spPr>
          <a:xfrm>
            <a:off x="6543720" y="4689360"/>
            <a:ext cx="461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ibre Franklin"/>
                <a:ea typeface="Times New Roman"/>
              </a:rPr>
              <a:t>Aliquet nibh praesent tristiq</a:t>
            </a:r>
            <a:r>
              <a:rPr b="0" lang="en-US" sz="1100" spc="-1" strike="noStrike">
                <a:solidFill>
                  <a:srgbClr val="ffffff"/>
                </a:solidFill>
                <a:latin typeface="Libre Franklin"/>
                <a:ea typeface="Times New Roman"/>
              </a:rPr>
              <a:t> </a:t>
            </a:r>
            <a:r>
              <a:rPr b="0" lang="id-ID" sz="1100" spc="-1" strike="noStrike">
                <a:solidFill>
                  <a:srgbClr val="ffffff"/>
                </a:solidFill>
                <a:latin typeface="Libre Franklin"/>
                <a:ea typeface="Times New Roman"/>
              </a:rPr>
              <a:t>ue</a:t>
            </a:r>
            <a:r>
              <a:rPr b="0" lang="en-US" sz="1100" spc="-1" strike="noStrike">
                <a:solidFill>
                  <a:srgbClr val="ffffff"/>
                </a:solidFill>
                <a:latin typeface="Libre Franklin"/>
                <a:ea typeface="Times New Roman"/>
              </a:rPr>
              <a:t>i</a:t>
            </a:r>
            <a:r>
              <a:rPr b="0" lang="id-ID" sz="1100" spc="-1" strike="noStrike">
                <a:solidFill>
                  <a:srgbClr val="ffffff"/>
                </a:solidFill>
                <a:latin typeface="Libre Franklin"/>
                <a:ea typeface="Times New Roman"/>
              </a:rPr>
              <a:t> magna </a:t>
            </a:r>
            <a:r>
              <a:rPr b="0" lang="en-US" sz="1100" spc="-1" strike="noStrike">
                <a:solidFill>
                  <a:srgbClr val="ffffff"/>
                </a:solidFill>
                <a:latin typeface="Libre Franklin"/>
                <a:ea typeface="Times New Roman"/>
              </a:rPr>
              <a:t>silka magnna</a:t>
            </a:r>
            <a:r>
              <a:rPr b="0" lang="id-ID" sz="1100" spc="-1" strike="noStrike">
                <a:solidFill>
                  <a:srgbClr val="ffffff"/>
                </a:solidFill>
                <a:latin typeface="Libre Franklin"/>
                <a:ea typeface="Times New Roman"/>
              </a:rPr>
              <a:t>si</a:t>
            </a:r>
            <a:r>
              <a:rPr b="0" lang="en-US" sz="1100" spc="-1" strike="noStrike">
                <a:solidFill>
                  <a:srgbClr val="ffffff"/>
                </a:solidFill>
                <a:latin typeface="Libre Franklin"/>
                <a:ea typeface="Times New Roman"/>
              </a:rPr>
              <a:t>k ilitaai kio</a:t>
            </a:r>
            <a:r>
              <a:rPr b="0" lang="id-ID" sz="1100" spc="-1" strike="noStrike">
                <a:solidFill>
                  <a:srgbClr val="ffffff"/>
                </a:solidFill>
                <a:latin typeface="Libre Franklin"/>
                <a:ea typeface="Times New Roman"/>
              </a:rPr>
              <a:t> a</a:t>
            </a:r>
            <a:r>
              <a:rPr b="0" lang="en-US" sz="1100" spc="-1" strike="noStrike">
                <a:solidFill>
                  <a:srgbClr val="ffffff"/>
                </a:solidFill>
                <a:latin typeface="Libre Franklin"/>
                <a:ea typeface="Times New Roman"/>
              </a:rPr>
              <a:t>ia</a:t>
            </a:r>
            <a:r>
              <a:rPr b="0" lang="id-ID" sz="1100" spc="-1" strike="noStrike">
                <a:solidFill>
                  <a:srgbClr val="ffffff"/>
                </a:solidFill>
                <a:latin typeface="Libre Franklin"/>
                <a:ea typeface="Times New Roman"/>
              </a:rPr>
              <a:t>met. Risus pretium quam</a:t>
            </a:r>
            <a:r>
              <a:rPr b="0" lang="en-US" sz="1100" spc="-1" strike="noStrike">
                <a:solidFill>
                  <a:srgbClr val="ffffff"/>
                </a:solidFill>
                <a:latin typeface="Libre Franklin"/>
                <a:ea typeface="Times New Roman"/>
              </a:rPr>
              <a:t>is altoi</a:t>
            </a:r>
            <a:r>
              <a:rPr b="0" lang="id-ID" sz="1100" spc="-1" strike="noStrike">
                <a:solidFill>
                  <a:srgbClr val="ffffff"/>
                </a:solidFill>
                <a:latin typeface="Libre Franklin"/>
                <a:ea typeface="Times New Roman"/>
              </a:rPr>
              <a:t> vulput</a:t>
            </a:r>
            <a:r>
              <a:rPr b="0" lang="en-US" sz="1100" spc="-1" strike="noStrike">
                <a:solidFill>
                  <a:srgbClr val="ffffff"/>
                </a:solidFill>
                <a:latin typeface="Libre Franklin"/>
                <a:ea typeface="Times New Roman"/>
              </a:rPr>
              <a:t> </a:t>
            </a:r>
            <a:r>
              <a:rPr b="0" lang="id-ID" sz="1100" spc="-1" strike="noStrike">
                <a:solidFill>
                  <a:srgbClr val="ffffff"/>
                </a:solidFill>
                <a:latin typeface="Libre Franklin"/>
                <a:ea typeface="Times New Roman"/>
              </a:rPr>
              <a:t>ate</a:t>
            </a:r>
            <a:r>
              <a:rPr b="0" lang="en-US" sz="1100" spc="-1" strike="noStrike">
                <a:solidFill>
                  <a:srgbClr val="ffffff"/>
                </a:solidFill>
                <a:latin typeface="Libre Franklin"/>
                <a:ea typeface="Times New Roman"/>
              </a:rPr>
              <a:t>l ini inil</a:t>
            </a:r>
            <a:r>
              <a:rPr b="0" lang="id-ID" sz="1100" spc="-1" strike="noStrike">
                <a:solidFill>
                  <a:srgbClr val="ffffff"/>
                </a:solidFill>
                <a:latin typeface="Libre Franklin"/>
                <a:ea typeface="Times New Roman"/>
              </a:rPr>
              <a:t> dignissim. Enim</a:t>
            </a:r>
            <a:r>
              <a:rPr b="0" lang="en-US" sz="1100" spc="-1" strike="noStrike">
                <a:solidFill>
                  <a:srgbClr val="ffffff"/>
                </a:solidFill>
                <a:latin typeface="Libre Franklin"/>
                <a:ea typeface="Times New Roman"/>
              </a:rPr>
              <a:t> agil</a:t>
            </a:r>
            <a:r>
              <a:rPr b="0" lang="id-ID" sz="1100" spc="-1" strike="noStrike">
                <a:solidFill>
                  <a:srgbClr val="ffffff"/>
                </a:solidFill>
                <a:latin typeface="Libre Franklin"/>
                <a:ea typeface="Times New Roman"/>
              </a:rPr>
              <a:t> nec</a:t>
            </a:r>
            <a:r>
              <a:rPr b="0" lang="en-US" sz="1100" spc="-1" strike="noStrike">
                <a:solidFill>
                  <a:srgbClr val="ffffff"/>
                </a:solidFill>
                <a:latin typeface="Libre Franklin"/>
                <a:ea typeface="Times New Roman"/>
              </a:rPr>
              <a:t>is</a:t>
            </a:r>
            <a:r>
              <a:rPr b="0" lang="id-ID" sz="1100" spc="-1" strike="noStrike">
                <a:solidFill>
                  <a:srgbClr val="ffffff"/>
                </a:solidFill>
                <a:latin typeface="Libre Franklin"/>
                <a:ea typeface="Times New Roman"/>
              </a:rPr>
              <a:t> </a:t>
            </a:r>
            <a:r>
              <a:rPr b="0" lang="en-US" sz="1100" spc="-1" strike="noStrike">
                <a:solidFill>
                  <a:srgbClr val="ffffff"/>
                </a:solidFill>
                <a:latin typeface="Libre Franklin"/>
                <a:ea typeface="Times New Roman"/>
              </a:rPr>
              <a:t>ba</a:t>
            </a:r>
            <a:r>
              <a:rPr b="0" lang="id-ID" sz="1100" spc="-1" strike="noStrike">
                <a:solidFill>
                  <a:srgbClr val="ffffff"/>
                </a:solidFill>
                <a:latin typeface="Libre Franklin"/>
                <a:ea typeface="Times New Roman"/>
              </a:rPr>
              <a:t>dui nunc</a:t>
            </a:r>
            <a:r>
              <a:rPr b="0" lang="en-US" sz="1100" spc="-1" strike="noStrike">
                <a:solidFill>
                  <a:srgbClr val="ffffff"/>
                </a:solidFill>
                <a:latin typeface="Libre Franklin"/>
                <a:ea typeface="Times New Roman"/>
              </a:rPr>
              <a:t>ik amil bgauguaguubagna sitani magna.</a:t>
            </a:r>
            <a:endParaRPr b="0" lang="en-US" sz="1100" spc="-1" strike="noStrike">
              <a:solidFill>
                <a:srgbClr val="3f3f3f"/>
              </a:solidFill>
              <a:latin typeface="Libre Franklin"/>
            </a:endParaRPr>
          </a:p>
        </p:txBody>
      </p:sp>
      <p:sp>
        <p:nvSpPr>
          <p:cNvPr id="481" name="TextBox 8"/>
          <p:cNvSpPr/>
          <p:nvPr/>
        </p:nvSpPr>
        <p:spPr>
          <a:xfrm>
            <a:off x="6524640" y="1343160"/>
            <a:ext cx="462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Black"/>
              </a:rPr>
              <a:t>LET’S START YOUR SIMPLE WITH US</a:t>
            </a:r>
            <a:endParaRPr b="0" lang="en-US" sz="2800" spc="-1" strike="noStrike">
              <a:solidFill>
                <a:srgbClr val="3f3f3f"/>
              </a:solidFill>
              <a:latin typeface="Libre Franklin"/>
            </a:endParaRPr>
          </a:p>
        </p:txBody>
      </p:sp>
      <p:sp>
        <p:nvSpPr>
          <p:cNvPr id="482" name="TextBox 9"/>
          <p:cNvSpPr/>
          <p:nvPr/>
        </p:nvSpPr>
        <p:spPr>
          <a:xfrm>
            <a:off x="6555960" y="229716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3"/>
          <p:cNvSpPr/>
          <p:nvPr/>
        </p:nvSpPr>
        <p:spPr>
          <a:xfrm>
            <a:off x="1905120" y="261612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f3f3f"/>
                </a:solidFill>
                <a:latin typeface="Montserrat Black"/>
              </a:rPr>
              <a:t>BREAK TIME</a:t>
            </a:r>
            <a:endParaRPr b="0" lang="en-US" sz="8800" spc="-1" strike="noStrike">
              <a:solidFill>
                <a:srgbClr val="3f3f3f"/>
              </a:solidFill>
              <a:latin typeface="Libre Franklin"/>
            </a:endParaRPr>
          </a:p>
        </p:txBody>
      </p:sp>
      <p:sp>
        <p:nvSpPr>
          <p:cNvPr id="484" name="TextBox 4"/>
          <p:cNvSpPr/>
          <p:nvPr/>
        </p:nvSpPr>
        <p:spPr>
          <a:xfrm>
            <a:off x="4348080" y="4025880"/>
            <a:ext cx="349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Libre Franklin"/>
              </a:rPr>
              <a:t>Let’s Take A Break Now</a:t>
            </a:r>
            <a:endParaRPr b="0" lang="en-US" sz="2400" spc="-1" strike="noStrike">
              <a:solidFill>
                <a:srgbClr val="3f3f3f"/>
              </a:solidFill>
              <a:latin typeface="Libre Franklin"/>
            </a:endParaRPr>
          </a:p>
        </p:txBody>
      </p:sp>
      <p:sp>
        <p:nvSpPr>
          <p:cNvPr id="485" name="TextBox 5"/>
          <p:cNvSpPr/>
          <p:nvPr/>
        </p:nvSpPr>
        <p:spPr>
          <a:xfrm>
            <a:off x="7476120" y="627120"/>
            <a:ext cx="505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Home</a:t>
            </a:r>
            <a:endParaRPr b="0" lang="en-US" sz="900" spc="-1" strike="noStrike">
              <a:solidFill>
                <a:srgbClr val="3f3f3f"/>
              </a:solidFill>
              <a:latin typeface="Libre Franklin"/>
            </a:endParaRPr>
          </a:p>
        </p:txBody>
      </p:sp>
      <p:sp>
        <p:nvSpPr>
          <p:cNvPr id="486" name="TextBox 6"/>
          <p:cNvSpPr/>
          <p:nvPr/>
        </p:nvSpPr>
        <p:spPr>
          <a:xfrm>
            <a:off x="8322480" y="627120"/>
            <a:ext cx="672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About Us</a:t>
            </a:r>
            <a:endParaRPr b="0" lang="en-US" sz="900" spc="-1" strike="noStrike">
              <a:solidFill>
                <a:srgbClr val="3f3f3f"/>
              </a:solidFill>
              <a:latin typeface="Libre Franklin"/>
            </a:endParaRPr>
          </a:p>
        </p:txBody>
      </p:sp>
      <p:sp>
        <p:nvSpPr>
          <p:cNvPr id="487" name="TextBox 7"/>
          <p:cNvSpPr/>
          <p:nvPr/>
        </p:nvSpPr>
        <p:spPr>
          <a:xfrm>
            <a:off x="9322920" y="627120"/>
            <a:ext cx="615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7f7f7f"/>
                </a:solidFill>
                <a:uFillTx/>
                <a:latin typeface="Libre Franklin"/>
              </a:rPr>
              <a:t>Services</a:t>
            </a:r>
            <a:endParaRPr b="0" lang="en-US" sz="900" spc="-1" strike="noStrike">
              <a:solidFill>
                <a:srgbClr val="3f3f3f"/>
              </a:solidFill>
              <a:latin typeface="Libre Franklin"/>
            </a:endParaRPr>
          </a:p>
        </p:txBody>
      </p:sp>
      <p:sp>
        <p:nvSpPr>
          <p:cNvPr id="488" name="TextBox 8"/>
          <p:cNvSpPr/>
          <p:nvPr/>
        </p:nvSpPr>
        <p:spPr>
          <a:xfrm>
            <a:off x="10265760" y="627120"/>
            <a:ext cx="64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Portfolio</a:t>
            </a:r>
            <a:endParaRPr b="0" lang="en-US" sz="900" spc="-1" strike="noStrike">
              <a:solidFill>
                <a:srgbClr val="3f3f3f"/>
              </a:solidFill>
              <a:latin typeface="Libre Franklin"/>
            </a:endParaRPr>
          </a:p>
        </p:txBody>
      </p:sp>
      <p:sp>
        <p:nvSpPr>
          <p:cNvPr id="489" name="TextBox 9"/>
          <p:cNvSpPr/>
          <p:nvPr/>
        </p:nvSpPr>
        <p:spPr>
          <a:xfrm>
            <a:off x="11216160" y="627120"/>
            <a:ext cx="429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Help</a:t>
            </a:r>
            <a:endParaRPr b="0" lang="en-US" sz="900" spc="-1" strike="noStrike">
              <a:solidFill>
                <a:srgbClr val="3f3f3f"/>
              </a:solidFill>
              <a:latin typeface="Libre Franklin"/>
            </a:endParaRPr>
          </a:p>
        </p:txBody>
      </p:sp>
      <p:sp>
        <p:nvSpPr>
          <p:cNvPr id="490" name="TextBox 10"/>
          <p:cNvSpPr/>
          <p:nvPr/>
        </p:nvSpPr>
        <p:spPr>
          <a:xfrm>
            <a:off x="10878120" y="4578480"/>
            <a:ext cx="1037520" cy="249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Page </a:t>
            </a:r>
            <a:fld id="{1B520AEF-F6B7-4EFE-A3A8-7F7CE25926B0}" type="slidenum">
              <a:rPr b="0" lang="en-US" sz="900" spc="-1" strike="noStrike">
                <a:solidFill>
                  <a:srgbClr val="7f7f7f"/>
                </a:solidFill>
                <a:latin typeface="Libre Franklin"/>
              </a:rPr>
              <a:t>&lt;number&gt;</a:t>
            </a:fld>
            <a:endParaRPr b="0" lang="en-US" sz="900" spc="-1" strike="noStrike">
              <a:solidFill>
                <a:srgbClr val="3f3f3f"/>
              </a:solidFill>
              <a:latin typeface="Libre Franklin"/>
            </a:endParaRPr>
          </a:p>
        </p:txBody>
      </p:sp>
      <p:sp>
        <p:nvSpPr>
          <p:cNvPr id="491" name="Rectangle 11"/>
          <p:cNvSpPr/>
          <p:nvPr/>
        </p:nvSpPr>
        <p:spPr>
          <a:xfrm>
            <a:off x="11536200" y="4884840"/>
            <a:ext cx="19080" cy="1020600"/>
          </a:xfrm>
          <a:prstGeom prst="rect">
            <a:avLst/>
          </a:prstGeom>
          <a:solidFill>
            <a:srgbClr val="3a43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92" name="TextBox 12"/>
          <p:cNvSpPr/>
          <p:nvPr/>
        </p:nvSpPr>
        <p:spPr>
          <a:xfrm>
            <a:off x="11053800" y="6021360"/>
            <a:ext cx="60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Page 36</a:t>
            </a:r>
            <a:endParaRPr b="0" lang="en-US" sz="900" spc="-1" strike="noStrike">
              <a:solidFill>
                <a:srgbClr val="3f3f3f"/>
              </a:solidFill>
              <a:latin typeface="Libre Franklin"/>
            </a:endParaRPr>
          </a:p>
        </p:txBody>
      </p:sp>
      <p:sp>
        <p:nvSpPr>
          <p:cNvPr id="493" name="TextBox 13"/>
          <p:cNvSpPr/>
          <p:nvPr/>
        </p:nvSpPr>
        <p:spPr>
          <a:xfrm>
            <a:off x="554760" y="6019920"/>
            <a:ext cx="1656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Libre Franklin"/>
              </a:rPr>
              <a:t>Minimal Style For Usablelity</a:t>
            </a:r>
            <a:endParaRPr b="0" lang="en-US" sz="900" spc="-1" strike="noStrike">
              <a:solidFill>
                <a:srgbClr val="3f3f3f"/>
              </a:solidFill>
              <a:latin typeface="Libre Franklin"/>
            </a:endParaRPr>
          </a:p>
        </p:txBody>
      </p:sp>
      <p:sp>
        <p:nvSpPr>
          <p:cNvPr id="494" name="Oval 14"/>
          <p:cNvSpPr/>
          <p:nvPr/>
        </p:nvSpPr>
        <p:spPr>
          <a:xfrm>
            <a:off x="628560" y="2847960"/>
            <a:ext cx="76320" cy="76320"/>
          </a:xfrm>
          <a:prstGeom prst="ellipse">
            <a:avLst/>
          </a:prstGeom>
          <a:solidFill>
            <a:srgbClr val="e5e5e5"/>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95" name="Oval 15"/>
          <p:cNvSpPr/>
          <p:nvPr/>
        </p:nvSpPr>
        <p:spPr>
          <a:xfrm>
            <a:off x="628560" y="3146400"/>
            <a:ext cx="76320" cy="76320"/>
          </a:xfrm>
          <a:prstGeom prst="ellipse">
            <a:avLst/>
          </a:prstGeom>
          <a:solidFill>
            <a:srgbClr val="3a4354"/>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96" name="Oval 16"/>
          <p:cNvSpPr/>
          <p:nvPr/>
        </p:nvSpPr>
        <p:spPr>
          <a:xfrm>
            <a:off x="628560" y="3444840"/>
            <a:ext cx="76320" cy="76320"/>
          </a:xfrm>
          <a:prstGeom prst="ellipse">
            <a:avLst/>
          </a:prstGeom>
          <a:solidFill>
            <a:srgbClr val="e5e5e5"/>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97" name="Oval 17"/>
          <p:cNvSpPr/>
          <p:nvPr/>
        </p:nvSpPr>
        <p:spPr>
          <a:xfrm>
            <a:off x="628560" y="3743280"/>
            <a:ext cx="76320" cy="76320"/>
          </a:xfrm>
          <a:prstGeom prst="ellipse">
            <a:avLst/>
          </a:prstGeom>
          <a:solidFill>
            <a:srgbClr val="e5e5e5"/>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498" name="TextBox 18"/>
          <p:cNvSpPr/>
          <p:nvPr/>
        </p:nvSpPr>
        <p:spPr>
          <a:xfrm>
            <a:off x="545400" y="638280"/>
            <a:ext cx="12474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Best Services For All</a:t>
            </a:r>
            <a:endParaRPr b="0" lang="en-US" sz="9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5" descr=""/>
          <p:cNvPicPr/>
          <p:nvPr/>
        </p:nvPicPr>
        <p:blipFill>
          <a:blip r:embed="rId1"/>
          <a:stretch/>
        </p:blipFill>
        <p:spPr>
          <a:xfrm>
            <a:off x="955800" y="2062080"/>
            <a:ext cx="4546440" cy="3767400"/>
          </a:xfrm>
          <a:prstGeom prst="rect">
            <a:avLst/>
          </a:prstGeom>
          <a:ln w="0">
            <a:noFill/>
          </a:ln>
        </p:spPr>
      </p:pic>
      <p:sp>
        <p:nvSpPr>
          <p:cNvPr id="500" name="TextBox 12"/>
          <p:cNvSpPr/>
          <p:nvPr/>
        </p:nvSpPr>
        <p:spPr>
          <a:xfrm>
            <a:off x="5827680" y="335448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01" name="TextBox 13"/>
          <p:cNvSpPr/>
          <p:nvPr/>
        </p:nvSpPr>
        <p:spPr>
          <a:xfrm>
            <a:off x="5827680" y="300348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1. Topic Here</a:t>
            </a:r>
            <a:endParaRPr b="0" lang="en-US" sz="1600" spc="-1" strike="noStrike">
              <a:solidFill>
                <a:srgbClr val="3f3f3f"/>
              </a:solidFill>
              <a:latin typeface="Libre Franklin"/>
            </a:endParaRPr>
          </a:p>
        </p:txBody>
      </p:sp>
      <p:sp>
        <p:nvSpPr>
          <p:cNvPr id="502" name="TextBox 14"/>
          <p:cNvSpPr/>
          <p:nvPr/>
        </p:nvSpPr>
        <p:spPr>
          <a:xfrm>
            <a:off x="5827680" y="478800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03" name="TextBox 15"/>
          <p:cNvSpPr/>
          <p:nvPr/>
        </p:nvSpPr>
        <p:spPr>
          <a:xfrm>
            <a:off x="582768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3. Topic Here</a:t>
            </a:r>
            <a:endParaRPr b="0" lang="en-US" sz="1600" spc="-1" strike="noStrike">
              <a:solidFill>
                <a:srgbClr val="3f3f3f"/>
              </a:solidFill>
              <a:latin typeface="Libre Franklin"/>
            </a:endParaRPr>
          </a:p>
        </p:txBody>
      </p:sp>
      <p:sp>
        <p:nvSpPr>
          <p:cNvPr id="504" name="TextBox 16"/>
          <p:cNvSpPr/>
          <p:nvPr/>
        </p:nvSpPr>
        <p:spPr>
          <a:xfrm>
            <a:off x="8609040" y="3362400"/>
            <a:ext cx="2481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05" name="TextBox 17"/>
          <p:cNvSpPr/>
          <p:nvPr/>
        </p:nvSpPr>
        <p:spPr>
          <a:xfrm>
            <a:off x="8609040" y="302724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2. Topic Here</a:t>
            </a:r>
            <a:endParaRPr b="0" lang="en-US" sz="1600" spc="-1" strike="noStrike">
              <a:solidFill>
                <a:srgbClr val="3f3f3f"/>
              </a:solidFill>
              <a:latin typeface="Libre Franklin"/>
            </a:endParaRPr>
          </a:p>
        </p:txBody>
      </p:sp>
      <p:sp>
        <p:nvSpPr>
          <p:cNvPr id="506" name="TextBox 18"/>
          <p:cNvSpPr/>
          <p:nvPr/>
        </p:nvSpPr>
        <p:spPr>
          <a:xfrm>
            <a:off x="8609040" y="4795920"/>
            <a:ext cx="2481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07" name="TextBox 19"/>
          <p:cNvSpPr/>
          <p:nvPr/>
        </p:nvSpPr>
        <p:spPr>
          <a:xfrm>
            <a:off x="860904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4. Topic Here</a:t>
            </a:r>
            <a:endParaRPr b="0" lang="en-US" sz="1600" spc="-1" strike="noStrike">
              <a:solidFill>
                <a:srgbClr val="3f3f3f"/>
              </a:solidFill>
              <a:latin typeface="Libre Franklin"/>
            </a:endParaRPr>
          </a:p>
        </p:txBody>
      </p:sp>
      <p:sp>
        <p:nvSpPr>
          <p:cNvPr id="508" name="TextBox 20"/>
          <p:cNvSpPr/>
          <p:nvPr/>
        </p:nvSpPr>
        <p:spPr>
          <a:xfrm>
            <a:off x="5800680" y="1292400"/>
            <a:ext cx="431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MONITOR MOCKUP DEVICES</a:t>
            </a:r>
            <a:endParaRPr b="0" lang="en-US" sz="2800" spc="-1" strike="noStrike">
              <a:solidFill>
                <a:srgbClr val="3f3f3f"/>
              </a:solidFill>
              <a:latin typeface="Libre Franklin"/>
            </a:endParaRPr>
          </a:p>
        </p:txBody>
      </p:sp>
      <p:sp>
        <p:nvSpPr>
          <p:cNvPr id="509" name="TextBox 21"/>
          <p:cNvSpPr/>
          <p:nvPr/>
        </p:nvSpPr>
        <p:spPr>
          <a:xfrm>
            <a:off x="5832000" y="224640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4" descr=""/>
          <p:cNvPicPr/>
          <p:nvPr/>
        </p:nvPicPr>
        <p:blipFill>
          <a:blip r:embed="rId1"/>
          <a:stretch/>
        </p:blipFill>
        <p:spPr>
          <a:xfrm>
            <a:off x="5640480" y="406440"/>
            <a:ext cx="6045120" cy="6045120"/>
          </a:xfrm>
          <a:prstGeom prst="rect">
            <a:avLst/>
          </a:prstGeom>
          <a:ln w="0">
            <a:noFill/>
          </a:ln>
        </p:spPr>
      </p:pic>
      <p:sp>
        <p:nvSpPr>
          <p:cNvPr id="511" name="TextBox 8"/>
          <p:cNvSpPr/>
          <p:nvPr/>
        </p:nvSpPr>
        <p:spPr>
          <a:xfrm>
            <a:off x="1595880" y="3044880"/>
            <a:ext cx="202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1. The Topic Here</a:t>
            </a:r>
            <a:endParaRPr b="0" lang="en-US" sz="1600" spc="-1" strike="noStrike">
              <a:solidFill>
                <a:srgbClr val="3f3f3f"/>
              </a:solidFill>
              <a:latin typeface="Libre Franklin"/>
            </a:endParaRPr>
          </a:p>
        </p:txBody>
      </p:sp>
      <p:sp>
        <p:nvSpPr>
          <p:cNvPr id="512" name="TextBox 9"/>
          <p:cNvSpPr/>
          <p:nvPr/>
        </p:nvSpPr>
        <p:spPr>
          <a:xfrm>
            <a:off x="1592280" y="3321000"/>
            <a:ext cx="461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 amil bgauguaguubagna sitani magna.</a:t>
            </a:r>
            <a:endParaRPr b="0" lang="en-US" sz="1100" spc="-1" strike="noStrike">
              <a:solidFill>
                <a:srgbClr val="3f3f3f"/>
              </a:solidFill>
              <a:latin typeface="Libre Franklin"/>
            </a:endParaRPr>
          </a:p>
        </p:txBody>
      </p:sp>
      <p:sp>
        <p:nvSpPr>
          <p:cNvPr id="513" name="TextBox 10"/>
          <p:cNvSpPr/>
          <p:nvPr/>
        </p:nvSpPr>
        <p:spPr>
          <a:xfrm>
            <a:off x="1609200" y="4384800"/>
            <a:ext cx="202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2. The Topic Here</a:t>
            </a:r>
            <a:endParaRPr b="0" lang="en-US" sz="1600" spc="-1" strike="noStrike">
              <a:solidFill>
                <a:srgbClr val="3f3f3f"/>
              </a:solidFill>
              <a:latin typeface="Libre Franklin"/>
            </a:endParaRPr>
          </a:p>
        </p:txBody>
      </p:sp>
      <p:sp>
        <p:nvSpPr>
          <p:cNvPr id="514" name="TextBox 11"/>
          <p:cNvSpPr/>
          <p:nvPr/>
        </p:nvSpPr>
        <p:spPr>
          <a:xfrm>
            <a:off x="1592280" y="4660920"/>
            <a:ext cx="461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 amil bgauguaguubagna sitani magna.</a:t>
            </a:r>
            <a:endParaRPr b="0" lang="en-US" sz="1100" spc="-1" strike="noStrike">
              <a:solidFill>
                <a:srgbClr val="3f3f3f"/>
              </a:solidFill>
              <a:latin typeface="Libre Franklin"/>
            </a:endParaRPr>
          </a:p>
        </p:txBody>
      </p:sp>
      <p:sp>
        <p:nvSpPr>
          <p:cNvPr id="515" name="TextBox 12"/>
          <p:cNvSpPr/>
          <p:nvPr/>
        </p:nvSpPr>
        <p:spPr>
          <a:xfrm>
            <a:off x="1573200" y="1352520"/>
            <a:ext cx="4343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PHONE MOCKUP DEVICES</a:t>
            </a:r>
            <a:endParaRPr b="0" lang="en-US" sz="2800" spc="-1" strike="noStrike">
              <a:solidFill>
                <a:srgbClr val="3f3f3f"/>
              </a:solidFill>
              <a:latin typeface="Libre Franklin"/>
            </a:endParaRPr>
          </a:p>
        </p:txBody>
      </p:sp>
      <p:sp>
        <p:nvSpPr>
          <p:cNvPr id="516" name="TextBox 13"/>
          <p:cNvSpPr/>
          <p:nvPr/>
        </p:nvSpPr>
        <p:spPr>
          <a:xfrm>
            <a:off x="1604520" y="23065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1"/>
          <p:cNvSpPr/>
          <p:nvPr/>
        </p:nvSpPr>
        <p:spPr>
          <a:xfrm>
            <a:off x="6659640" y="1644480"/>
            <a:ext cx="447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LAPTOP MOCKUP DEVICES</a:t>
            </a:r>
            <a:endParaRPr b="0" lang="en-US" sz="2800" spc="-1" strike="noStrike">
              <a:solidFill>
                <a:srgbClr val="3f3f3f"/>
              </a:solidFill>
              <a:latin typeface="Libre Franklin"/>
            </a:endParaRPr>
          </a:p>
        </p:txBody>
      </p:sp>
      <p:sp>
        <p:nvSpPr>
          <p:cNvPr id="518" name="TextBox 12"/>
          <p:cNvSpPr/>
          <p:nvPr/>
        </p:nvSpPr>
        <p:spPr>
          <a:xfrm>
            <a:off x="6690960" y="259884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519" name="TextBox 13"/>
          <p:cNvSpPr/>
          <p:nvPr/>
        </p:nvSpPr>
        <p:spPr>
          <a:xfrm>
            <a:off x="6654600" y="3479760"/>
            <a:ext cx="328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We Always Bring The Solutions</a:t>
            </a:r>
            <a:endParaRPr b="0" lang="en-US" sz="1600" spc="-1" strike="noStrike">
              <a:solidFill>
                <a:srgbClr val="3f3f3f"/>
              </a:solidFill>
              <a:latin typeface="Libre Franklin"/>
            </a:endParaRPr>
          </a:p>
        </p:txBody>
      </p:sp>
      <p:sp>
        <p:nvSpPr>
          <p:cNvPr id="520" name="TextBox 14"/>
          <p:cNvSpPr/>
          <p:nvPr/>
        </p:nvSpPr>
        <p:spPr>
          <a:xfrm>
            <a:off x="6659640" y="3784680"/>
            <a:ext cx="4476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a:t>
            </a:r>
            <a:r>
              <a:rPr b="0" lang="en-US" sz="1100" spc="-1" strike="noStrike">
                <a:solidFill>
                  <a:srgbClr val="7f7f7f"/>
                </a:solidFill>
                <a:latin typeface="Libre Franklin"/>
                <a:ea typeface="Times New Roman"/>
              </a:rPr>
              <a:t>da</a:t>
            </a:r>
            <a:r>
              <a:rPr b="0" lang="id-ID" sz="1100" spc="-1" strike="noStrike">
                <a:solidFill>
                  <a:srgbClr val="7f7f7f"/>
                </a:solidFill>
                <a:latin typeface="Libre Franklin"/>
                <a:ea typeface="Times New Roman"/>
              </a:rPr>
              <a:t>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 bargan eli</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 ba</a:t>
            </a:r>
            <a:r>
              <a:rPr b="0" lang="id-ID" sz="1100" spc="-1" strike="noStrike">
                <a:solidFill>
                  <a:srgbClr val="7f7f7f"/>
                </a:solidFill>
                <a:latin typeface="Libre Franklin"/>
                <a:ea typeface="Times New Roman"/>
              </a:rPr>
              <a:t>dui ultrices.</a:t>
            </a:r>
            <a:r>
              <a:rPr b="0" lang="en-US" sz="1100" spc="-1" strike="noStrike">
                <a:solidFill>
                  <a:srgbClr val="7f7f7f"/>
                </a:solidFill>
                <a:latin typeface="Libre Franklin"/>
              </a:rPr>
              <a:t> consectetur adipiscing elit,s sed tollo dolorel eiusmod tempor incididunt ut labore </a:t>
            </a:r>
            <a:r>
              <a:rPr b="0" lang="id-ID" sz="1100" spc="-1" strike="noStrike">
                <a:solidFill>
                  <a:srgbClr val="7f7f7f"/>
                </a:solidFill>
                <a:latin typeface="Libre Franklin"/>
                <a:ea typeface="Times New Roman"/>
              </a:rPr>
              <a:t>sit </a:t>
            </a:r>
            <a:r>
              <a:rPr b="0" lang="en-US" sz="1100" spc="-1" strike="noStrike">
                <a:solidFill>
                  <a:srgbClr val="7f7f7f"/>
                </a:solidFill>
                <a:latin typeface="Libre Franklin"/>
                <a:ea typeface="Times New Roman"/>
              </a:rPr>
              <a:t>enlig dolopi</a:t>
            </a:r>
            <a:endParaRPr b="0" lang="en-US" sz="1100" spc="-1" strike="noStrike">
              <a:solidFill>
                <a:srgbClr val="3f3f3f"/>
              </a:solidFill>
              <a:latin typeface="Libre Frankli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9" descr=""/>
          <p:cNvPicPr/>
          <p:nvPr/>
        </p:nvPicPr>
        <p:blipFill>
          <a:blip r:embed="rId1"/>
          <a:stretch/>
        </p:blipFill>
        <p:spPr>
          <a:xfrm>
            <a:off x="6302520" y="965160"/>
            <a:ext cx="5195880" cy="5194440"/>
          </a:xfrm>
          <a:prstGeom prst="rect">
            <a:avLst/>
          </a:prstGeom>
          <a:ln w="0">
            <a:noFill/>
          </a:ln>
        </p:spPr>
      </p:pic>
      <p:sp>
        <p:nvSpPr>
          <p:cNvPr id="522" name="TextBox 6"/>
          <p:cNvSpPr/>
          <p:nvPr/>
        </p:nvSpPr>
        <p:spPr>
          <a:xfrm>
            <a:off x="1427040" y="335448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23" name="TextBox 7"/>
          <p:cNvSpPr/>
          <p:nvPr/>
        </p:nvSpPr>
        <p:spPr>
          <a:xfrm>
            <a:off x="1427040" y="300348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1. Topic Here</a:t>
            </a:r>
            <a:endParaRPr b="0" lang="en-US" sz="1600" spc="-1" strike="noStrike">
              <a:solidFill>
                <a:srgbClr val="3f3f3f"/>
              </a:solidFill>
              <a:latin typeface="Libre Franklin"/>
            </a:endParaRPr>
          </a:p>
        </p:txBody>
      </p:sp>
      <p:sp>
        <p:nvSpPr>
          <p:cNvPr id="524" name="TextBox 8"/>
          <p:cNvSpPr/>
          <p:nvPr/>
        </p:nvSpPr>
        <p:spPr>
          <a:xfrm>
            <a:off x="1427040" y="4788000"/>
            <a:ext cx="2479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25" name="TextBox 11"/>
          <p:cNvSpPr/>
          <p:nvPr/>
        </p:nvSpPr>
        <p:spPr>
          <a:xfrm>
            <a:off x="142704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3. Topic Here</a:t>
            </a:r>
            <a:endParaRPr b="0" lang="en-US" sz="1600" spc="-1" strike="noStrike">
              <a:solidFill>
                <a:srgbClr val="3f3f3f"/>
              </a:solidFill>
              <a:latin typeface="Libre Franklin"/>
            </a:endParaRPr>
          </a:p>
        </p:txBody>
      </p:sp>
      <p:sp>
        <p:nvSpPr>
          <p:cNvPr id="526" name="TextBox 12"/>
          <p:cNvSpPr/>
          <p:nvPr/>
        </p:nvSpPr>
        <p:spPr>
          <a:xfrm>
            <a:off x="4208400" y="3362400"/>
            <a:ext cx="2481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27" name="TextBox 13"/>
          <p:cNvSpPr/>
          <p:nvPr/>
        </p:nvSpPr>
        <p:spPr>
          <a:xfrm>
            <a:off x="4208400" y="302724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2. Topic Here</a:t>
            </a:r>
            <a:endParaRPr b="0" lang="en-US" sz="1600" spc="-1" strike="noStrike">
              <a:solidFill>
                <a:srgbClr val="3f3f3f"/>
              </a:solidFill>
              <a:latin typeface="Libre Franklin"/>
            </a:endParaRPr>
          </a:p>
        </p:txBody>
      </p:sp>
      <p:sp>
        <p:nvSpPr>
          <p:cNvPr id="528" name="TextBox 14"/>
          <p:cNvSpPr/>
          <p:nvPr/>
        </p:nvSpPr>
        <p:spPr>
          <a:xfrm>
            <a:off x="4208400" y="4795920"/>
            <a:ext cx="24814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 facilisi</a:t>
            </a:r>
            <a:r>
              <a:rPr b="0" lang="en-US" sz="1100" spc="-1" strike="noStrike">
                <a:solidFill>
                  <a:srgbClr val="7f7f7f"/>
                </a:solidFill>
                <a:latin typeface="Libre Franklin"/>
                <a:ea typeface="Roboto"/>
              </a:rPr>
              <a:t> conse</a:t>
            </a:r>
            <a:endParaRPr b="0" lang="en-US" sz="1100" spc="-1" strike="noStrike">
              <a:solidFill>
                <a:srgbClr val="3f3f3f"/>
              </a:solidFill>
              <a:latin typeface="Libre Franklin"/>
            </a:endParaRPr>
          </a:p>
        </p:txBody>
      </p:sp>
      <p:sp>
        <p:nvSpPr>
          <p:cNvPr id="529" name="TextBox 15"/>
          <p:cNvSpPr/>
          <p:nvPr/>
        </p:nvSpPr>
        <p:spPr>
          <a:xfrm>
            <a:off x="4208400" y="4459320"/>
            <a:ext cx="2300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4. Topic Here</a:t>
            </a:r>
            <a:endParaRPr b="0" lang="en-US" sz="1600" spc="-1" strike="noStrike">
              <a:solidFill>
                <a:srgbClr val="3f3f3f"/>
              </a:solidFill>
              <a:latin typeface="Libre Franklin"/>
            </a:endParaRPr>
          </a:p>
        </p:txBody>
      </p:sp>
      <p:sp>
        <p:nvSpPr>
          <p:cNvPr id="530" name="TextBox 16"/>
          <p:cNvSpPr/>
          <p:nvPr/>
        </p:nvSpPr>
        <p:spPr>
          <a:xfrm>
            <a:off x="1400040" y="1292400"/>
            <a:ext cx="431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ABOUT TABLET MOCKUP DEVICES</a:t>
            </a:r>
            <a:endParaRPr b="0" lang="en-US" sz="2800" spc="-1" strike="noStrike">
              <a:solidFill>
                <a:srgbClr val="3f3f3f"/>
              </a:solidFill>
              <a:latin typeface="Libre Franklin"/>
            </a:endParaRPr>
          </a:p>
        </p:txBody>
      </p:sp>
      <p:sp>
        <p:nvSpPr>
          <p:cNvPr id="531" name="TextBox 17"/>
          <p:cNvSpPr/>
          <p:nvPr/>
        </p:nvSpPr>
        <p:spPr>
          <a:xfrm>
            <a:off x="1431360" y="224640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3181320" y="743040"/>
            <a:ext cx="582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COMPANY INFOGRAPHIC</a:t>
            </a:r>
            <a:endParaRPr b="0" lang="en-US" sz="2800" spc="-1" strike="noStrike">
              <a:solidFill>
                <a:srgbClr val="3f3f3f"/>
              </a:solidFill>
              <a:latin typeface="Libre Franklin"/>
            </a:endParaRPr>
          </a:p>
        </p:txBody>
      </p:sp>
      <p:sp>
        <p:nvSpPr>
          <p:cNvPr id="533" name="TextBox 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534" name="Freeform: Shape 4"/>
          <p:cNvSpPr/>
          <p:nvPr/>
        </p:nvSpPr>
        <p:spPr>
          <a:xfrm rot="2700000">
            <a:off x="6427440" y="3240000"/>
            <a:ext cx="1231920" cy="1860480"/>
          </a:xfrm>
          <a:custGeom>
            <a:avLst/>
            <a:gdLst/>
            <a:ahLst/>
            <a:rect l="l" t="t" r="r" b="b"/>
            <a:pathLst>
              <a:path w="1081548" h="1634887">
                <a:moveTo>
                  <a:pt x="260101" y="150119"/>
                </a:moveTo>
                <a:cubicBezTo>
                  <a:pt x="275762" y="134458"/>
                  <a:pt x="297485" y="124355"/>
                  <a:pt x="321735" y="123344"/>
                </a:cubicBezTo>
                <a:cubicBezTo>
                  <a:pt x="370233" y="121323"/>
                  <a:pt x="412670" y="159718"/>
                  <a:pt x="414691" y="210237"/>
                </a:cubicBezTo>
                <a:lnTo>
                  <a:pt x="414691" y="806368"/>
                </a:lnTo>
                <a:cubicBezTo>
                  <a:pt x="414691" y="818492"/>
                  <a:pt x="422774" y="826575"/>
                  <a:pt x="434898" y="826575"/>
                </a:cubicBezTo>
                <a:cubicBezTo>
                  <a:pt x="447023" y="826575"/>
                  <a:pt x="455106" y="818492"/>
                  <a:pt x="455106" y="806368"/>
                </a:cubicBezTo>
                <a:lnTo>
                  <a:pt x="455106" y="86970"/>
                </a:lnTo>
                <a:cubicBezTo>
                  <a:pt x="457127" y="38471"/>
                  <a:pt x="495522" y="76"/>
                  <a:pt x="544021" y="76"/>
                </a:cubicBezTo>
                <a:cubicBezTo>
                  <a:pt x="592519" y="-1945"/>
                  <a:pt x="634956" y="36450"/>
                  <a:pt x="636977" y="86970"/>
                </a:cubicBezTo>
                <a:lnTo>
                  <a:pt x="636977" y="806368"/>
                </a:lnTo>
                <a:cubicBezTo>
                  <a:pt x="636977" y="818492"/>
                  <a:pt x="645060" y="826575"/>
                  <a:pt x="657184" y="826575"/>
                </a:cubicBezTo>
                <a:cubicBezTo>
                  <a:pt x="669309" y="826575"/>
                  <a:pt x="677392" y="818492"/>
                  <a:pt x="677392" y="806368"/>
                </a:cubicBezTo>
                <a:lnTo>
                  <a:pt x="677392" y="210237"/>
                </a:lnTo>
                <a:cubicBezTo>
                  <a:pt x="677392" y="155676"/>
                  <a:pt x="721849" y="113240"/>
                  <a:pt x="776410" y="119302"/>
                </a:cubicBezTo>
                <a:cubicBezTo>
                  <a:pt x="824909" y="125365"/>
                  <a:pt x="859262" y="165780"/>
                  <a:pt x="859262" y="214279"/>
                </a:cubicBezTo>
                <a:lnTo>
                  <a:pt x="859262" y="806368"/>
                </a:lnTo>
                <a:cubicBezTo>
                  <a:pt x="859262" y="818492"/>
                  <a:pt x="867345" y="826575"/>
                  <a:pt x="879470" y="826575"/>
                </a:cubicBezTo>
                <a:cubicBezTo>
                  <a:pt x="891595" y="826575"/>
                  <a:pt x="899678" y="818492"/>
                  <a:pt x="899678" y="806368"/>
                </a:cubicBezTo>
                <a:lnTo>
                  <a:pt x="899678" y="410295"/>
                </a:lnTo>
                <a:cubicBezTo>
                  <a:pt x="899678" y="361796"/>
                  <a:pt x="940094" y="321380"/>
                  <a:pt x="990613" y="321380"/>
                </a:cubicBezTo>
                <a:cubicBezTo>
                  <a:pt x="1041133" y="321380"/>
                  <a:pt x="1081548" y="361796"/>
                  <a:pt x="1081548" y="412315"/>
                </a:cubicBezTo>
                <a:lnTo>
                  <a:pt x="1081548" y="1109485"/>
                </a:lnTo>
                <a:cubicBezTo>
                  <a:pt x="1081548" y="1380269"/>
                  <a:pt x="919886" y="1390373"/>
                  <a:pt x="919886" y="1533848"/>
                </a:cubicBezTo>
                <a:lnTo>
                  <a:pt x="919886" y="1634887"/>
                </a:lnTo>
                <a:lnTo>
                  <a:pt x="333859" y="1634887"/>
                </a:lnTo>
                <a:lnTo>
                  <a:pt x="333859" y="1483329"/>
                </a:lnTo>
                <a:lnTo>
                  <a:pt x="111574" y="1311563"/>
                </a:lnTo>
                <a:cubicBezTo>
                  <a:pt x="93387" y="1297417"/>
                  <a:pt x="79241" y="1277209"/>
                  <a:pt x="73179" y="1254981"/>
                </a:cubicBezTo>
                <a:lnTo>
                  <a:pt x="0" y="925677"/>
                </a:lnTo>
                <a:lnTo>
                  <a:pt x="31092" y="885441"/>
                </a:lnTo>
                <a:lnTo>
                  <a:pt x="182650" y="885441"/>
                </a:lnTo>
                <a:lnTo>
                  <a:pt x="182650" y="808713"/>
                </a:lnTo>
                <a:lnTo>
                  <a:pt x="230800" y="1020570"/>
                </a:lnTo>
                <a:cubicBezTo>
                  <a:pt x="230800" y="1022591"/>
                  <a:pt x="234841" y="1022591"/>
                  <a:pt x="234841" y="1020570"/>
                </a:cubicBezTo>
                <a:lnTo>
                  <a:pt x="234841" y="210237"/>
                </a:lnTo>
                <a:cubicBezTo>
                  <a:pt x="234841" y="186998"/>
                  <a:pt x="244439" y="165780"/>
                  <a:pt x="260101" y="150119"/>
                </a:cubicBez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35" name="Freeform: Shape 5"/>
          <p:cNvSpPr/>
          <p:nvPr/>
        </p:nvSpPr>
        <p:spPr>
          <a:xfrm rot="18900000">
            <a:off x="5589360" y="2184480"/>
            <a:ext cx="1230120" cy="1860480"/>
          </a:xfrm>
          <a:custGeom>
            <a:avLst/>
            <a:gdLst/>
            <a:ahLst/>
            <a:rect l="l" t="t" r="r" b="b"/>
            <a:pathLst>
              <a:path w="1081548" h="1634887">
                <a:moveTo>
                  <a:pt x="260101" y="150119"/>
                </a:moveTo>
                <a:cubicBezTo>
                  <a:pt x="275762" y="134458"/>
                  <a:pt x="297485" y="124355"/>
                  <a:pt x="321735" y="123344"/>
                </a:cubicBezTo>
                <a:cubicBezTo>
                  <a:pt x="370233" y="121323"/>
                  <a:pt x="412670" y="159718"/>
                  <a:pt x="414691" y="210237"/>
                </a:cubicBezTo>
                <a:lnTo>
                  <a:pt x="414691" y="806368"/>
                </a:lnTo>
                <a:cubicBezTo>
                  <a:pt x="414691" y="818492"/>
                  <a:pt x="422774" y="826575"/>
                  <a:pt x="434898" y="826575"/>
                </a:cubicBezTo>
                <a:cubicBezTo>
                  <a:pt x="447023" y="826575"/>
                  <a:pt x="455106" y="818492"/>
                  <a:pt x="455106" y="806368"/>
                </a:cubicBezTo>
                <a:lnTo>
                  <a:pt x="455106" y="86970"/>
                </a:lnTo>
                <a:cubicBezTo>
                  <a:pt x="457127" y="38471"/>
                  <a:pt x="495522" y="76"/>
                  <a:pt x="544021" y="76"/>
                </a:cubicBezTo>
                <a:cubicBezTo>
                  <a:pt x="592519" y="-1945"/>
                  <a:pt x="634956" y="36450"/>
                  <a:pt x="636977" y="86970"/>
                </a:cubicBezTo>
                <a:lnTo>
                  <a:pt x="636977" y="806368"/>
                </a:lnTo>
                <a:cubicBezTo>
                  <a:pt x="636977" y="818492"/>
                  <a:pt x="645060" y="826575"/>
                  <a:pt x="657184" y="826575"/>
                </a:cubicBezTo>
                <a:cubicBezTo>
                  <a:pt x="669309" y="826575"/>
                  <a:pt x="677392" y="818492"/>
                  <a:pt x="677392" y="806368"/>
                </a:cubicBezTo>
                <a:lnTo>
                  <a:pt x="677392" y="210237"/>
                </a:lnTo>
                <a:cubicBezTo>
                  <a:pt x="677392" y="155676"/>
                  <a:pt x="721849" y="113240"/>
                  <a:pt x="776410" y="119302"/>
                </a:cubicBezTo>
                <a:cubicBezTo>
                  <a:pt x="824909" y="125365"/>
                  <a:pt x="859262" y="165780"/>
                  <a:pt x="859262" y="214279"/>
                </a:cubicBezTo>
                <a:lnTo>
                  <a:pt x="859262" y="806368"/>
                </a:lnTo>
                <a:cubicBezTo>
                  <a:pt x="859262" y="818492"/>
                  <a:pt x="867345" y="826575"/>
                  <a:pt x="879470" y="826575"/>
                </a:cubicBezTo>
                <a:cubicBezTo>
                  <a:pt x="891595" y="826575"/>
                  <a:pt x="899678" y="818492"/>
                  <a:pt x="899678" y="806368"/>
                </a:cubicBezTo>
                <a:lnTo>
                  <a:pt x="899678" y="410295"/>
                </a:lnTo>
                <a:cubicBezTo>
                  <a:pt x="899678" y="361796"/>
                  <a:pt x="940094" y="321380"/>
                  <a:pt x="990613" y="321380"/>
                </a:cubicBezTo>
                <a:cubicBezTo>
                  <a:pt x="1041133" y="321380"/>
                  <a:pt x="1081548" y="361796"/>
                  <a:pt x="1081548" y="412315"/>
                </a:cubicBezTo>
                <a:lnTo>
                  <a:pt x="1081548" y="1109485"/>
                </a:lnTo>
                <a:cubicBezTo>
                  <a:pt x="1081548" y="1380269"/>
                  <a:pt x="919886" y="1390373"/>
                  <a:pt x="919886" y="1533848"/>
                </a:cubicBezTo>
                <a:lnTo>
                  <a:pt x="919886" y="1634887"/>
                </a:lnTo>
                <a:lnTo>
                  <a:pt x="333859" y="1634887"/>
                </a:lnTo>
                <a:lnTo>
                  <a:pt x="333859" y="1483329"/>
                </a:lnTo>
                <a:lnTo>
                  <a:pt x="111574" y="1311563"/>
                </a:lnTo>
                <a:cubicBezTo>
                  <a:pt x="93387" y="1297417"/>
                  <a:pt x="79241" y="1277209"/>
                  <a:pt x="73179" y="1254981"/>
                </a:cubicBezTo>
                <a:lnTo>
                  <a:pt x="0" y="925677"/>
                </a:lnTo>
                <a:lnTo>
                  <a:pt x="31092" y="885441"/>
                </a:lnTo>
                <a:lnTo>
                  <a:pt x="182650" y="885441"/>
                </a:lnTo>
                <a:lnTo>
                  <a:pt x="182650" y="808713"/>
                </a:lnTo>
                <a:lnTo>
                  <a:pt x="230800" y="1020570"/>
                </a:lnTo>
                <a:cubicBezTo>
                  <a:pt x="230800" y="1022591"/>
                  <a:pt x="234841" y="1022591"/>
                  <a:pt x="234841" y="1020570"/>
                </a:cubicBezTo>
                <a:lnTo>
                  <a:pt x="234841" y="210237"/>
                </a:lnTo>
                <a:cubicBezTo>
                  <a:pt x="234841" y="186998"/>
                  <a:pt x="244439" y="165780"/>
                  <a:pt x="260101" y="150119"/>
                </a:cubicBezTo>
                <a:close/>
              </a:path>
            </a:pathLst>
          </a:custGeom>
          <a:solidFill>
            <a:srgbClr val="242a3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36" name="Freeform: Shape 6"/>
          <p:cNvSpPr/>
          <p:nvPr/>
        </p:nvSpPr>
        <p:spPr>
          <a:xfrm rot="13500000">
            <a:off x="4532400" y="3020760"/>
            <a:ext cx="1231920" cy="1860480"/>
          </a:xfrm>
          <a:custGeom>
            <a:avLst/>
            <a:gdLst/>
            <a:ahLst/>
            <a:rect l="l" t="t" r="r" b="b"/>
            <a:pathLst>
              <a:path w="1081548" h="1634887">
                <a:moveTo>
                  <a:pt x="260101" y="150119"/>
                </a:moveTo>
                <a:cubicBezTo>
                  <a:pt x="275762" y="134458"/>
                  <a:pt x="297485" y="124355"/>
                  <a:pt x="321735" y="123344"/>
                </a:cubicBezTo>
                <a:cubicBezTo>
                  <a:pt x="370233" y="121323"/>
                  <a:pt x="412670" y="159718"/>
                  <a:pt x="414691" y="210237"/>
                </a:cubicBezTo>
                <a:lnTo>
                  <a:pt x="414691" y="806368"/>
                </a:lnTo>
                <a:cubicBezTo>
                  <a:pt x="414691" y="818492"/>
                  <a:pt x="422774" y="826575"/>
                  <a:pt x="434898" y="826575"/>
                </a:cubicBezTo>
                <a:cubicBezTo>
                  <a:pt x="447023" y="826575"/>
                  <a:pt x="455106" y="818492"/>
                  <a:pt x="455106" y="806368"/>
                </a:cubicBezTo>
                <a:lnTo>
                  <a:pt x="455106" y="86970"/>
                </a:lnTo>
                <a:cubicBezTo>
                  <a:pt x="457127" y="38471"/>
                  <a:pt x="495522" y="76"/>
                  <a:pt x="544021" y="76"/>
                </a:cubicBezTo>
                <a:cubicBezTo>
                  <a:pt x="592519" y="-1945"/>
                  <a:pt x="634956" y="36450"/>
                  <a:pt x="636977" y="86970"/>
                </a:cubicBezTo>
                <a:lnTo>
                  <a:pt x="636977" y="806368"/>
                </a:lnTo>
                <a:cubicBezTo>
                  <a:pt x="636977" y="818492"/>
                  <a:pt x="645060" y="826575"/>
                  <a:pt x="657184" y="826575"/>
                </a:cubicBezTo>
                <a:cubicBezTo>
                  <a:pt x="669309" y="826575"/>
                  <a:pt x="677392" y="818492"/>
                  <a:pt x="677392" y="806368"/>
                </a:cubicBezTo>
                <a:lnTo>
                  <a:pt x="677392" y="210237"/>
                </a:lnTo>
                <a:cubicBezTo>
                  <a:pt x="677392" y="155676"/>
                  <a:pt x="721849" y="113240"/>
                  <a:pt x="776410" y="119302"/>
                </a:cubicBezTo>
                <a:cubicBezTo>
                  <a:pt x="824909" y="125365"/>
                  <a:pt x="859262" y="165780"/>
                  <a:pt x="859262" y="214279"/>
                </a:cubicBezTo>
                <a:lnTo>
                  <a:pt x="859262" y="806368"/>
                </a:lnTo>
                <a:cubicBezTo>
                  <a:pt x="859262" y="818492"/>
                  <a:pt x="867345" y="826575"/>
                  <a:pt x="879470" y="826575"/>
                </a:cubicBezTo>
                <a:cubicBezTo>
                  <a:pt x="891595" y="826575"/>
                  <a:pt x="899678" y="818492"/>
                  <a:pt x="899678" y="806368"/>
                </a:cubicBezTo>
                <a:lnTo>
                  <a:pt x="899678" y="410295"/>
                </a:lnTo>
                <a:cubicBezTo>
                  <a:pt x="899678" y="361796"/>
                  <a:pt x="940094" y="321380"/>
                  <a:pt x="990613" y="321380"/>
                </a:cubicBezTo>
                <a:cubicBezTo>
                  <a:pt x="1041133" y="321380"/>
                  <a:pt x="1081548" y="361796"/>
                  <a:pt x="1081548" y="412315"/>
                </a:cubicBezTo>
                <a:lnTo>
                  <a:pt x="1081548" y="1109485"/>
                </a:lnTo>
                <a:cubicBezTo>
                  <a:pt x="1081548" y="1380269"/>
                  <a:pt x="919886" y="1390373"/>
                  <a:pt x="919886" y="1533848"/>
                </a:cubicBezTo>
                <a:lnTo>
                  <a:pt x="919886" y="1634887"/>
                </a:lnTo>
                <a:lnTo>
                  <a:pt x="333859" y="1634887"/>
                </a:lnTo>
                <a:lnTo>
                  <a:pt x="333859" y="1483329"/>
                </a:lnTo>
                <a:lnTo>
                  <a:pt x="111574" y="1311563"/>
                </a:lnTo>
                <a:cubicBezTo>
                  <a:pt x="93387" y="1297417"/>
                  <a:pt x="79241" y="1277209"/>
                  <a:pt x="73179" y="1254981"/>
                </a:cubicBezTo>
                <a:lnTo>
                  <a:pt x="0" y="925677"/>
                </a:lnTo>
                <a:lnTo>
                  <a:pt x="31092" y="885441"/>
                </a:lnTo>
                <a:lnTo>
                  <a:pt x="182650" y="885441"/>
                </a:lnTo>
                <a:lnTo>
                  <a:pt x="182650" y="808713"/>
                </a:lnTo>
                <a:lnTo>
                  <a:pt x="230800" y="1020570"/>
                </a:lnTo>
                <a:cubicBezTo>
                  <a:pt x="230800" y="1022591"/>
                  <a:pt x="234841" y="1022591"/>
                  <a:pt x="234841" y="1020570"/>
                </a:cubicBezTo>
                <a:lnTo>
                  <a:pt x="234841" y="210237"/>
                </a:lnTo>
                <a:cubicBezTo>
                  <a:pt x="234841" y="186998"/>
                  <a:pt x="244439" y="165780"/>
                  <a:pt x="260101" y="150119"/>
                </a:cubicBezTo>
                <a:close/>
              </a:path>
            </a:pathLst>
          </a:custGeom>
          <a:solidFill>
            <a:srgbClr val="30384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37" name="Freeform: Shape 7"/>
          <p:cNvSpPr/>
          <p:nvPr/>
        </p:nvSpPr>
        <p:spPr>
          <a:xfrm rot="8100000">
            <a:off x="5371920" y="4074840"/>
            <a:ext cx="1230120" cy="1860480"/>
          </a:xfrm>
          <a:custGeom>
            <a:avLst/>
            <a:gdLst/>
            <a:ahLst/>
            <a:rect l="l" t="t" r="r" b="b"/>
            <a:pathLst>
              <a:path w="1081548" h="1634887">
                <a:moveTo>
                  <a:pt x="260101" y="150119"/>
                </a:moveTo>
                <a:cubicBezTo>
                  <a:pt x="275762" y="134458"/>
                  <a:pt x="297485" y="124355"/>
                  <a:pt x="321735" y="123344"/>
                </a:cubicBezTo>
                <a:cubicBezTo>
                  <a:pt x="370233" y="121323"/>
                  <a:pt x="412670" y="159718"/>
                  <a:pt x="414691" y="210237"/>
                </a:cubicBezTo>
                <a:lnTo>
                  <a:pt x="414691" y="806368"/>
                </a:lnTo>
                <a:cubicBezTo>
                  <a:pt x="414691" y="818492"/>
                  <a:pt x="422774" y="826575"/>
                  <a:pt x="434898" y="826575"/>
                </a:cubicBezTo>
                <a:cubicBezTo>
                  <a:pt x="447023" y="826575"/>
                  <a:pt x="455106" y="818492"/>
                  <a:pt x="455106" y="806368"/>
                </a:cubicBezTo>
                <a:lnTo>
                  <a:pt x="455106" y="86970"/>
                </a:lnTo>
                <a:cubicBezTo>
                  <a:pt x="457127" y="38471"/>
                  <a:pt x="495522" y="76"/>
                  <a:pt x="544021" y="76"/>
                </a:cubicBezTo>
                <a:cubicBezTo>
                  <a:pt x="592519" y="-1945"/>
                  <a:pt x="634956" y="36450"/>
                  <a:pt x="636977" y="86970"/>
                </a:cubicBezTo>
                <a:lnTo>
                  <a:pt x="636977" y="806368"/>
                </a:lnTo>
                <a:cubicBezTo>
                  <a:pt x="636977" y="818492"/>
                  <a:pt x="645060" y="826575"/>
                  <a:pt x="657184" y="826575"/>
                </a:cubicBezTo>
                <a:cubicBezTo>
                  <a:pt x="669309" y="826575"/>
                  <a:pt x="677392" y="818492"/>
                  <a:pt x="677392" y="806368"/>
                </a:cubicBezTo>
                <a:lnTo>
                  <a:pt x="677392" y="210237"/>
                </a:lnTo>
                <a:cubicBezTo>
                  <a:pt x="677392" y="155676"/>
                  <a:pt x="721849" y="113240"/>
                  <a:pt x="776410" y="119302"/>
                </a:cubicBezTo>
                <a:cubicBezTo>
                  <a:pt x="824909" y="125365"/>
                  <a:pt x="859262" y="165780"/>
                  <a:pt x="859262" y="214279"/>
                </a:cubicBezTo>
                <a:lnTo>
                  <a:pt x="859262" y="806368"/>
                </a:lnTo>
                <a:cubicBezTo>
                  <a:pt x="859262" y="818492"/>
                  <a:pt x="867345" y="826575"/>
                  <a:pt x="879470" y="826575"/>
                </a:cubicBezTo>
                <a:cubicBezTo>
                  <a:pt x="891595" y="826575"/>
                  <a:pt x="899678" y="818492"/>
                  <a:pt x="899678" y="806368"/>
                </a:cubicBezTo>
                <a:lnTo>
                  <a:pt x="899678" y="410295"/>
                </a:lnTo>
                <a:cubicBezTo>
                  <a:pt x="899678" y="361796"/>
                  <a:pt x="940094" y="321380"/>
                  <a:pt x="990613" y="321380"/>
                </a:cubicBezTo>
                <a:cubicBezTo>
                  <a:pt x="1041133" y="321380"/>
                  <a:pt x="1081548" y="361796"/>
                  <a:pt x="1081548" y="412315"/>
                </a:cubicBezTo>
                <a:lnTo>
                  <a:pt x="1081548" y="1109485"/>
                </a:lnTo>
                <a:cubicBezTo>
                  <a:pt x="1081548" y="1380269"/>
                  <a:pt x="919886" y="1390373"/>
                  <a:pt x="919886" y="1533848"/>
                </a:cubicBezTo>
                <a:lnTo>
                  <a:pt x="919886" y="1634887"/>
                </a:lnTo>
                <a:lnTo>
                  <a:pt x="333859" y="1634887"/>
                </a:lnTo>
                <a:lnTo>
                  <a:pt x="333859" y="1483329"/>
                </a:lnTo>
                <a:lnTo>
                  <a:pt x="111574" y="1311563"/>
                </a:lnTo>
                <a:cubicBezTo>
                  <a:pt x="93387" y="1297417"/>
                  <a:pt x="79241" y="1277209"/>
                  <a:pt x="73179" y="1254981"/>
                </a:cubicBezTo>
                <a:lnTo>
                  <a:pt x="0" y="925677"/>
                </a:lnTo>
                <a:lnTo>
                  <a:pt x="31092" y="885441"/>
                </a:lnTo>
                <a:lnTo>
                  <a:pt x="182650" y="885441"/>
                </a:lnTo>
                <a:lnTo>
                  <a:pt x="182650" y="808713"/>
                </a:lnTo>
                <a:lnTo>
                  <a:pt x="230800" y="1020570"/>
                </a:lnTo>
                <a:cubicBezTo>
                  <a:pt x="230800" y="1022591"/>
                  <a:pt x="234841" y="1022591"/>
                  <a:pt x="234841" y="1020570"/>
                </a:cubicBezTo>
                <a:lnTo>
                  <a:pt x="234841" y="210237"/>
                </a:lnTo>
                <a:cubicBezTo>
                  <a:pt x="234841" y="186998"/>
                  <a:pt x="244439" y="165780"/>
                  <a:pt x="260101" y="150119"/>
                </a:cubicBezTo>
                <a:close/>
              </a:path>
            </a:pathLst>
          </a:custGeom>
          <a:solidFill>
            <a:srgbClr val="3a435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38" name="TextBox 16"/>
          <p:cNvSpPr/>
          <p:nvPr/>
        </p:nvSpPr>
        <p:spPr>
          <a:xfrm>
            <a:off x="1149480" y="260208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39" name="TextBox 17"/>
          <p:cNvSpPr/>
          <p:nvPr/>
        </p:nvSpPr>
        <p:spPr>
          <a:xfrm>
            <a:off x="1665360" y="22622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540" name="TextBox 18"/>
          <p:cNvSpPr/>
          <p:nvPr/>
        </p:nvSpPr>
        <p:spPr>
          <a:xfrm>
            <a:off x="1149480" y="471312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41" name="TextBox 19"/>
          <p:cNvSpPr/>
          <p:nvPr/>
        </p:nvSpPr>
        <p:spPr>
          <a:xfrm>
            <a:off x="1665360" y="43736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542" name="TextBox 20"/>
          <p:cNvSpPr/>
          <p:nvPr/>
        </p:nvSpPr>
        <p:spPr>
          <a:xfrm>
            <a:off x="8264520" y="260208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43" name="TextBox 21"/>
          <p:cNvSpPr/>
          <p:nvPr/>
        </p:nvSpPr>
        <p:spPr>
          <a:xfrm>
            <a:off x="8264520" y="22622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544" name="TextBox 22"/>
          <p:cNvSpPr/>
          <p:nvPr/>
        </p:nvSpPr>
        <p:spPr>
          <a:xfrm>
            <a:off x="8264520" y="471312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45" name="TextBox 23"/>
          <p:cNvSpPr/>
          <p:nvPr/>
        </p:nvSpPr>
        <p:spPr>
          <a:xfrm>
            <a:off x="8264520" y="43736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Box 7"/>
          <p:cNvSpPr/>
          <p:nvPr/>
        </p:nvSpPr>
        <p:spPr>
          <a:xfrm>
            <a:off x="6149520" y="3044880"/>
            <a:ext cx="202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Story, 02 Mar 2017</a:t>
            </a:r>
            <a:endParaRPr b="0" lang="en-US" sz="1600" spc="-1" strike="noStrike">
              <a:solidFill>
                <a:srgbClr val="3f3f3f"/>
              </a:solidFill>
              <a:latin typeface="Libre Franklin"/>
            </a:endParaRPr>
          </a:p>
        </p:txBody>
      </p:sp>
      <p:sp>
        <p:nvSpPr>
          <p:cNvPr id="276" name="TextBox 8"/>
          <p:cNvSpPr/>
          <p:nvPr/>
        </p:nvSpPr>
        <p:spPr>
          <a:xfrm>
            <a:off x="6114960" y="3321000"/>
            <a:ext cx="461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 amil bgauguaguubagna sitani magna.</a:t>
            </a:r>
            <a:endParaRPr b="0" lang="en-US" sz="1100" spc="-1" strike="noStrike">
              <a:solidFill>
                <a:srgbClr val="3f3f3f"/>
              </a:solidFill>
              <a:latin typeface="Libre Franklin"/>
            </a:endParaRPr>
          </a:p>
        </p:txBody>
      </p:sp>
      <p:sp>
        <p:nvSpPr>
          <p:cNvPr id="277" name="TextBox 9"/>
          <p:cNvSpPr/>
          <p:nvPr/>
        </p:nvSpPr>
        <p:spPr>
          <a:xfrm>
            <a:off x="6163200" y="4384800"/>
            <a:ext cx="195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Story, 30 Jun 2018</a:t>
            </a:r>
            <a:endParaRPr b="0" lang="en-US" sz="1600" spc="-1" strike="noStrike">
              <a:solidFill>
                <a:srgbClr val="3f3f3f"/>
              </a:solidFill>
              <a:latin typeface="Libre Franklin"/>
            </a:endParaRPr>
          </a:p>
        </p:txBody>
      </p:sp>
      <p:sp>
        <p:nvSpPr>
          <p:cNvPr id="278" name="TextBox 10"/>
          <p:cNvSpPr/>
          <p:nvPr/>
        </p:nvSpPr>
        <p:spPr>
          <a:xfrm>
            <a:off x="6114960" y="4660920"/>
            <a:ext cx="4610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 amil bgauguaguubagna sitani magna.</a:t>
            </a:r>
            <a:endParaRPr b="0" lang="en-US" sz="1100" spc="-1" strike="noStrike">
              <a:solidFill>
                <a:srgbClr val="3f3f3f"/>
              </a:solidFill>
              <a:latin typeface="Libre Franklin"/>
            </a:endParaRPr>
          </a:p>
        </p:txBody>
      </p:sp>
      <p:sp>
        <p:nvSpPr>
          <p:cNvPr id="279" name="TextBox 11"/>
          <p:cNvSpPr/>
          <p:nvPr/>
        </p:nvSpPr>
        <p:spPr>
          <a:xfrm>
            <a:off x="6095880" y="1352520"/>
            <a:ext cx="4343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THE STORY OF FLORESIA MINIMAL</a:t>
            </a:r>
            <a:endParaRPr b="0" lang="en-US" sz="2800" spc="-1" strike="noStrike">
              <a:solidFill>
                <a:srgbClr val="3f3f3f"/>
              </a:solidFill>
              <a:latin typeface="Libre Franklin"/>
            </a:endParaRPr>
          </a:p>
        </p:txBody>
      </p:sp>
      <p:sp>
        <p:nvSpPr>
          <p:cNvPr id="280" name="TextBox 12"/>
          <p:cNvSpPr/>
          <p:nvPr/>
        </p:nvSpPr>
        <p:spPr>
          <a:xfrm>
            <a:off x="6127200" y="23065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281" name="TextBox 14"/>
          <p:cNvSpPr/>
          <p:nvPr/>
        </p:nvSpPr>
        <p:spPr>
          <a:xfrm>
            <a:off x="1427040" y="5006880"/>
            <a:ext cx="3849840" cy="65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7000"/>
              </a:lnSpc>
              <a:spcAft>
                <a:spcPts val="7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595959"/>
                </a:solidFill>
                <a:latin typeface="Libre Franklin"/>
                <a:ea typeface="Calibri"/>
              </a:rPr>
              <a:t>Bring The Solutions</a:t>
            </a:r>
            <a:endParaRPr b="0" lang="en-US" sz="1400" spc="-1" strike="noStrike">
              <a:solidFill>
                <a:srgbClr val="3f3f3f"/>
              </a:solidFill>
              <a:latin typeface="Libre Franklin"/>
            </a:endParaRPr>
          </a:p>
          <a:p>
            <a:pPr marL="285840" indent="-285840">
              <a:lnSpc>
                <a:spcPct val="107000"/>
              </a:lnSpc>
              <a:spcAft>
                <a:spcPts val="7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Libre Franklin"/>
                <a:ea typeface="Calibri"/>
              </a:rPr>
              <a:t>Modern And Elegant Style</a:t>
            </a:r>
            <a:endParaRPr b="0" lang="en-US" sz="14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1"/>
          <p:cNvSpPr/>
          <p:nvPr/>
        </p:nvSpPr>
        <p:spPr>
          <a:xfrm>
            <a:off x="3181320" y="743040"/>
            <a:ext cx="582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COMPANY INFOGRAPHIC</a:t>
            </a:r>
            <a:endParaRPr b="0" lang="en-US" sz="2800" spc="-1" strike="noStrike">
              <a:solidFill>
                <a:srgbClr val="3f3f3f"/>
              </a:solidFill>
              <a:latin typeface="Libre Franklin"/>
            </a:endParaRPr>
          </a:p>
        </p:txBody>
      </p:sp>
      <p:sp>
        <p:nvSpPr>
          <p:cNvPr id="547" name="TextBox 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548" name="Freeform: Shape 3"/>
          <p:cNvSpPr/>
          <p:nvPr/>
        </p:nvSpPr>
        <p:spPr>
          <a:xfrm>
            <a:off x="6794640" y="3430440"/>
            <a:ext cx="1145880" cy="1195560"/>
          </a:xfrm>
          <a:custGeom>
            <a:avLst/>
            <a:gdLst/>
            <a:ahLst/>
            <a:rect l="l" t="t" r="r" b="b"/>
            <a:pathLst>
              <a:path w="228600" h="238125">
                <a:moveTo>
                  <a:pt x="6" y="96525"/>
                </a:moveTo>
                <a:lnTo>
                  <a:pt x="158135" y="0"/>
                </a:lnTo>
                <a:lnTo>
                  <a:pt x="228988" y="139539"/>
                </a:lnTo>
                <a:cubicBezTo>
                  <a:pt x="246102" y="215776"/>
                  <a:pt x="152317" y="243757"/>
                  <a:pt x="77013" y="239205"/>
                </a:cubicBezTo>
                <a:lnTo>
                  <a:pt x="0" y="96525"/>
                </a:lnTo>
                <a:lnTo>
                  <a:pt x="6" y="96525"/>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49" name="Freeform: Shape 4"/>
          <p:cNvSpPr/>
          <p:nvPr/>
        </p:nvSpPr>
        <p:spPr>
          <a:xfrm>
            <a:off x="6197760" y="4414680"/>
            <a:ext cx="1671480" cy="1481400"/>
          </a:xfrm>
          <a:custGeom>
            <a:avLst/>
            <a:gdLst/>
            <a:ahLst/>
            <a:rect l="l" t="t" r="r" b="b"/>
            <a:pathLst>
              <a:path w="333375" h="295275">
                <a:moveTo>
                  <a:pt x="83173" y="5"/>
                </a:moveTo>
                <a:lnTo>
                  <a:pt x="0" y="150031"/>
                </a:lnTo>
                <a:lnTo>
                  <a:pt x="83173" y="302155"/>
                </a:lnTo>
                <a:lnTo>
                  <a:pt x="85227" y="241304"/>
                </a:lnTo>
                <a:lnTo>
                  <a:pt x="161214" y="241304"/>
                </a:lnTo>
                <a:cubicBezTo>
                  <a:pt x="188938" y="243752"/>
                  <a:pt x="224878" y="225217"/>
                  <a:pt x="238227" y="198290"/>
                </a:cubicBezTo>
                <a:lnTo>
                  <a:pt x="335778" y="15737"/>
                </a:lnTo>
                <a:cubicBezTo>
                  <a:pt x="303605" y="48260"/>
                  <a:pt x="262233" y="56653"/>
                  <a:pt x="214614" y="56653"/>
                </a:cubicBezTo>
                <a:lnTo>
                  <a:pt x="86262" y="56653"/>
                </a:lnTo>
                <a:lnTo>
                  <a:pt x="83181" y="0"/>
                </a:lnTo>
                <a:lnTo>
                  <a:pt x="83173" y="5"/>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50" name="Freeform: Shape 5"/>
          <p:cNvSpPr/>
          <p:nvPr/>
        </p:nvSpPr>
        <p:spPr>
          <a:xfrm>
            <a:off x="4883040" y="2266920"/>
            <a:ext cx="1193760" cy="1193760"/>
          </a:xfrm>
          <a:custGeom>
            <a:avLst/>
            <a:gdLst/>
            <a:ahLst/>
            <a:rect l="l" t="t" r="r" b="b"/>
            <a:pathLst>
              <a:path w="238125" h="238125">
                <a:moveTo>
                  <a:pt x="159347" y="243615"/>
                </a:moveTo>
                <a:lnTo>
                  <a:pt x="0" y="149207"/>
                </a:lnTo>
                <a:lnTo>
                  <a:pt x="85012" y="18190"/>
                </a:lnTo>
                <a:cubicBezTo>
                  <a:pt x="141943" y="-34102"/>
                  <a:pt x="211409" y="36095"/>
                  <a:pt x="244064" y="105568"/>
                </a:cubicBezTo>
                <a:lnTo>
                  <a:pt x="159349" y="243620"/>
                </a:lnTo>
                <a:lnTo>
                  <a:pt x="159347" y="243615"/>
                </a:lnTo>
                <a:close/>
              </a:path>
            </a:pathLst>
          </a:custGeom>
          <a:solidFill>
            <a:srgbClr val="1d222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51" name="Freeform: Shape 6"/>
          <p:cNvSpPr/>
          <p:nvPr/>
        </p:nvSpPr>
        <p:spPr>
          <a:xfrm>
            <a:off x="5649840" y="2228760"/>
            <a:ext cx="1814760" cy="1146240"/>
          </a:xfrm>
          <a:custGeom>
            <a:avLst/>
            <a:gdLst/>
            <a:ahLst/>
            <a:rect l="l" t="t" r="r" b="b"/>
            <a:pathLst>
              <a:path w="361950" h="228600">
                <a:moveTo>
                  <a:pt x="109150" y="234791"/>
                </a:moveTo>
                <a:lnTo>
                  <a:pt x="277900" y="236269"/>
                </a:lnTo>
                <a:lnTo>
                  <a:pt x="367704" y="88133"/>
                </a:lnTo>
                <a:lnTo>
                  <a:pt x="314637" y="115835"/>
                </a:lnTo>
                <a:lnTo>
                  <a:pt x="277754" y="47957"/>
                </a:lnTo>
                <a:cubicBezTo>
                  <a:pt x="266392" y="22003"/>
                  <a:pt x="233086" y="-1105"/>
                  <a:pt x="203564" y="41"/>
                </a:cubicBezTo>
                <a:lnTo>
                  <a:pt x="0" y="1508"/>
                </a:lnTo>
                <a:cubicBezTo>
                  <a:pt x="43448" y="14463"/>
                  <a:pt x="70711" y="47346"/>
                  <a:pt x="93824" y="89885"/>
                </a:cubicBezTo>
                <a:lnTo>
                  <a:pt x="156125" y="204545"/>
                </a:lnTo>
                <a:lnTo>
                  <a:pt x="109141" y="234796"/>
                </a:lnTo>
                <a:lnTo>
                  <a:pt x="109150" y="234791"/>
                </a:lnTo>
                <a:close/>
              </a:path>
            </a:pathLst>
          </a:custGeom>
          <a:solidFill>
            <a:srgbClr val="3a435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52" name="Freeform: Shape 7"/>
          <p:cNvSpPr/>
          <p:nvPr/>
        </p:nvSpPr>
        <p:spPr>
          <a:xfrm>
            <a:off x="4251240" y="3441600"/>
            <a:ext cx="1289160" cy="1193760"/>
          </a:xfrm>
          <a:custGeom>
            <a:avLst/>
            <a:gdLst/>
            <a:ahLst/>
            <a:rect l="l" t="t" r="r" b="b"/>
            <a:pathLst>
              <a:path w="257175" h="238125">
                <a:moveTo>
                  <a:pt x="4098" y="1483"/>
                </a:moveTo>
                <a:lnTo>
                  <a:pt x="53472" y="40059"/>
                </a:lnTo>
                <a:lnTo>
                  <a:pt x="7002" y="129082"/>
                </a:lnTo>
                <a:cubicBezTo>
                  <a:pt x="-16232" y="170131"/>
                  <a:pt x="23683" y="210120"/>
                  <a:pt x="49115" y="224036"/>
                </a:cubicBezTo>
                <a:cubicBezTo>
                  <a:pt x="74151" y="237738"/>
                  <a:pt x="113011" y="239368"/>
                  <a:pt x="149315" y="238873"/>
                </a:cubicBezTo>
                <a:lnTo>
                  <a:pt x="214663" y="132048"/>
                </a:lnTo>
                <a:lnTo>
                  <a:pt x="264036" y="158755"/>
                </a:lnTo>
                <a:lnTo>
                  <a:pt x="178359" y="0"/>
                </a:lnTo>
                <a:lnTo>
                  <a:pt x="4100" y="1483"/>
                </a:lnTo>
                <a:lnTo>
                  <a:pt x="4098" y="1483"/>
                </a:lnTo>
                <a:close/>
              </a:path>
            </a:pathLst>
          </a:custGeom>
          <a:solidFill>
            <a:srgbClr val="181c2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53" name="Freeform: Shape 8"/>
          <p:cNvSpPr/>
          <p:nvPr/>
        </p:nvSpPr>
        <p:spPr>
          <a:xfrm>
            <a:off x="4308480" y="4483080"/>
            <a:ext cx="1576440" cy="1096920"/>
          </a:xfrm>
          <a:custGeom>
            <a:avLst/>
            <a:gdLst/>
            <a:ahLst/>
            <a:rect l="l" t="t" r="r" b="b"/>
            <a:pathLst>
              <a:path w="314325" h="219075">
                <a:moveTo>
                  <a:pt x="0" y="1"/>
                </a:moveTo>
                <a:lnTo>
                  <a:pt x="106004" y="195853"/>
                </a:lnTo>
                <a:cubicBezTo>
                  <a:pt x="127302" y="223055"/>
                  <a:pt x="167479" y="229484"/>
                  <a:pt x="209110" y="228495"/>
                </a:cubicBezTo>
                <a:lnTo>
                  <a:pt x="320927" y="228495"/>
                </a:lnTo>
                <a:lnTo>
                  <a:pt x="320927" y="43027"/>
                </a:lnTo>
                <a:lnTo>
                  <a:pt x="108910" y="41544"/>
                </a:lnTo>
                <a:cubicBezTo>
                  <a:pt x="75995" y="43522"/>
                  <a:pt x="32914" y="36598"/>
                  <a:pt x="0" y="0"/>
                </a:cubicBezTo>
                <a:lnTo>
                  <a:pt x="0" y="1"/>
                </a:lnTo>
                <a:close/>
              </a:path>
            </a:pathLst>
          </a:custGeom>
          <a:solidFill>
            <a:srgbClr val="30384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Libre Franklin"/>
            </a:endParaRPr>
          </a:p>
        </p:txBody>
      </p:sp>
      <p:sp>
        <p:nvSpPr>
          <p:cNvPr id="554" name="TextBox 21"/>
          <p:cNvSpPr/>
          <p:nvPr/>
        </p:nvSpPr>
        <p:spPr>
          <a:xfrm>
            <a:off x="1149480" y="260208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55" name="TextBox 22"/>
          <p:cNvSpPr/>
          <p:nvPr/>
        </p:nvSpPr>
        <p:spPr>
          <a:xfrm>
            <a:off x="1665360" y="22622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556" name="TextBox 23"/>
          <p:cNvSpPr/>
          <p:nvPr/>
        </p:nvSpPr>
        <p:spPr>
          <a:xfrm>
            <a:off x="1149480" y="471312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57" name="TextBox 24"/>
          <p:cNvSpPr/>
          <p:nvPr/>
        </p:nvSpPr>
        <p:spPr>
          <a:xfrm>
            <a:off x="1665360" y="43736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558" name="TextBox 25"/>
          <p:cNvSpPr/>
          <p:nvPr/>
        </p:nvSpPr>
        <p:spPr>
          <a:xfrm>
            <a:off x="8264520" y="260208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59" name="TextBox 26"/>
          <p:cNvSpPr/>
          <p:nvPr/>
        </p:nvSpPr>
        <p:spPr>
          <a:xfrm>
            <a:off x="8264520" y="22622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560" name="TextBox 27"/>
          <p:cNvSpPr/>
          <p:nvPr/>
        </p:nvSpPr>
        <p:spPr>
          <a:xfrm>
            <a:off x="8264520" y="471312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561" name="TextBox 28"/>
          <p:cNvSpPr/>
          <p:nvPr/>
        </p:nvSpPr>
        <p:spPr>
          <a:xfrm>
            <a:off x="8264520" y="43736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3181320" y="743040"/>
            <a:ext cx="582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COMPANY INFOGRAPHIC</a:t>
            </a:r>
            <a:endParaRPr b="0" lang="en-US" sz="2800" spc="-1" strike="noStrike">
              <a:solidFill>
                <a:srgbClr val="3f3f3f"/>
              </a:solidFill>
              <a:latin typeface="Libre Franklin"/>
            </a:endParaRPr>
          </a:p>
        </p:txBody>
      </p:sp>
      <p:sp>
        <p:nvSpPr>
          <p:cNvPr id="563" name="TextBox 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564" name="Freeform 6"/>
          <p:cNvSpPr/>
          <p:nvPr/>
        </p:nvSpPr>
        <p:spPr>
          <a:xfrm>
            <a:off x="4952880" y="2927520"/>
            <a:ext cx="3013200" cy="2725560"/>
          </a:xfrm>
          <a:custGeom>
            <a:avLst/>
            <a:gdLst/>
            <a:ahLst/>
            <a:rect l="l" t="t" r="r" b="b"/>
            <a:pathLst>
              <a:path w="9034" h="8175">
                <a:moveTo>
                  <a:pt x="8898" y="4087"/>
                </a:moveTo>
                <a:lnTo>
                  <a:pt x="8869" y="4193"/>
                </a:lnTo>
                <a:lnTo>
                  <a:pt x="8802" y="4402"/>
                </a:lnTo>
                <a:lnTo>
                  <a:pt x="8724" y="4608"/>
                </a:lnTo>
                <a:lnTo>
                  <a:pt x="8636" y="4812"/>
                </a:lnTo>
                <a:lnTo>
                  <a:pt x="8539" y="5011"/>
                </a:lnTo>
                <a:lnTo>
                  <a:pt x="8432" y="5207"/>
                </a:lnTo>
                <a:lnTo>
                  <a:pt x="8317" y="5399"/>
                </a:lnTo>
                <a:lnTo>
                  <a:pt x="8193" y="5587"/>
                </a:lnTo>
                <a:lnTo>
                  <a:pt x="8060" y="5771"/>
                </a:lnTo>
                <a:lnTo>
                  <a:pt x="7920" y="5948"/>
                </a:lnTo>
                <a:lnTo>
                  <a:pt x="7773" y="6123"/>
                </a:lnTo>
                <a:lnTo>
                  <a:pt x="7618" y="6292"/>
                </a:lnTo>
                <a:lnTo>
                  <a:pt x="7456" y="6454"/>
                </a:lnTo>
                <a:lnTo>
                  <a:pt x="7288" y="6612"/>
                </a:lnTo>
                <a:lnTo>
                  <a:pt x="7113" y="6764"/>
                </a:lnTo>
                <a:lnTo>
                  <a:pt x="6933" y="6909"/>
                </a:lnTo>
                <a:lnTo>
                  <a:pt x="6747" y="7047"/>
                </a:lnTo>
                <a:lnTo>
                  <a:pt x="6556" y="7180"/>
                </a:lnTo>
                <a:lnTo>
                  <a:pt x="6360" y="7304"/>
                </a:lnTo>
                <a:lnTo>
                  <a:pt x="6160" y="7422"/>
                </a:lnTo>
                <a:lnTo>
                  <a:pt x="5956" y="7532"/>
                </a:lnTo>
                <a:lnTo>
                  <a:pt x="5748" y="7635"/>
                </a:lnTo>
                <a:lnTo>
                  <a:pt x="5536" y="7729"/>
                </a:lnTo>
                <a:lnTo>
                  <a:pt x="5322" y="7815"/>
                </a:lnTo>
                <a:lnTo>
                  <a:pt x="5104" y="7893"/>
                </a:lnTo>
                <a:lnTo>
                  <a:pt x="4885" y="7961"/>
                </a:lnTo>
                <a:lnTo>
                  <a:pt x="4662" y="8021"/>
                </a:lnTo>
                <a:lnTo>
                  <a:pt x="4439" y="8071"/>
                </a:lnTo>
                <a:lnTo>
                  <a:pt x="4215" y="8113"/>
                </a:lnTo>
                <a:lnTo>
                  <a:pt x="3988" y="8143"/>
                </a:lnTo>
                <a:lnTo>
                  <a:pt x="3761" y="8165"/>
                </a:lnTo>
                <a:lnTo>
                  <a:pt x="3534" y="8175"/>
                </a:lnTo>
                <a:lnTo>
                  <a:pt x="3422" y="8175"/>
                </a:lnTo>
                <a:lnTo>
                  <a:pt x="3309" y="8175"/>
                </a:lnTo>
                <a:lnTo>
                  <a:pt x="3087" y="8165"/>
                </a:lnTo>
                <a:lnTo>
                  <a:pt x="2872" y="8143"/>
                </a:lnTo>
                <a:lnTo>
                  <a:pt x="2663" y="8113"/>
                </a:lnTo>
                <a:lnTo>
                  <a:pt x="2460" y="8071"/>
                </a:lnTo>
                <a:lnTo>
                  <a:pt x="2263" y="8021"/>
                </a:lnTo>
                <a:lnTo>
                  <a:pt x="2074" y="7961"/>
                </a:lnTo>
                <a:lnTo>
                  <a:pt x="1891" y="7893"/>
                </a:lnTo>
                <a:lnTo>
                  <a:pt x="1715" y="7815"/>
                </a:lnTo>
                <a:lnTo>
                  <a:pt x="1546" y="7729"/>
                </a:lnTo>
                <a:lnTo>
                  <a:pt x="1385" y="7635"/>
                </a:lnTo>
                <a:lnTo>
                  <a:pt x="1232" y="7532"/>
                </a:lnTo>
                <a:lnTo>
                  <a:pt x="1087" y="7422"/>
                </a:lnTo>
                <a:lnTo>
                  <a:pt x="950" y="7304"/>
                </a:lnTo>
                <a:lnTo>
                  <a:pt x="820" y="7180"/>
                </a:lnTo>
                <a:lnTo>
                  <a:pt x="701" y="7047"/>
                </a:lnTo>
                <a:lnTo>
                  <a:pt x="590" y="6909"/>
                </a:lnTo>
                <a:lnTo>
                  <a:pt x="487" y="6764"/>
                </a:lnTo>
                <a:lnTo>
                  <a:pt x="394" y="6612"/>
                </a:lnTo>
                <a:lnTo>
                  <a:pt x="310" y="6454"/>
                </a:lnTo>
                <a:lnTo>
                  <a:pt x="234" y="6292"/>
                </a:lnTo>
                <a:lnTo>
                  <a:pt x="170" y="6123"/>
                </a:lnTo>
                <a:lnTo>
                  <a:pt x="115" y="5950"/>
                </a:lnTo>
                <a:lnTo>
                  <a:pt x="71" y="5771"/>
                </a:lnTo>
                <a:lnTo>
                  <a:pt x="37" y="5587"/>
                </a:lnTo>
                <a:lnTo>
                  <a:pt x="14" y="5399"/>
                </a:lnTo>
                <a:lnTo>
                  <a:pt x="1" y="5207"/>
                </a:lnTo>
                <a:lnTo>
                  <a:pt x="0" y="5011"/>
                </a:lnTo>
                <a:lnTo>
                  <a:pt x="9" y="4812"/>
                </a:lnTo>
                <a:lnTo>
                  <a:pt x="31" y="4608"/>
                </a:lnTo>
                <a:lnTo>
                  <a:pt x="63" y="4402"/>
                </a:lnTo>
                <a:lnTo>
                  <a:pt x="109" y="4193"/>
                </a:lnTo>
                <a:lnTo>
                  <a:pt x="136" y="4088"/>
                </a:lnTo>
                <a:lnTo>
                  <a:pt x="164" y="3982"/>
                </a:lnTo>
                <a:lnTo>
                  <a:pt x="232" y="3773"/>
                </a:lnTo>
                <a:lnTo>
                  <a:pt x="310" y="3567"/>
                </a:lnTo>
                <a:lnTo>
                  <a:pt x="398" y="3364"/>
                </a:lnTo>
                <a:lnTo>
                  <a:pt x="495" y="3164"/>
                </a:lnTo>
                <a:lnTo>
                  <a:pt x="601" y="2969"/>
                </a:lnTo>
                <a:lnTo>
                  <a:pt x="717" y="2777"/>
                </a:lnTo>
                <a:lnTo>
                  <a:pt x="841" y="2589"/>
                </a:lnTo>
                <a:lnTo>
                  <a:pt x="973" y="2405"/>
                </a:lnTo>
                <a:lnTo>
                  <a:pt x="1113" y="2226"/>
                </a:lnTo>
                <a:lnTo>
                  <a:pt x="1261" y="2052"/>
                </a:lnTo>
                <a:lnTo>
                  <a:pt x="1415" y="1884"/>
                </a:lnTo>
                <a:lnTo>
                  <a:pt x="1577" y="1720"/>
                </a:lnTo>
                <a:lnTo>
                  <a:pt x="1746" y="1564"/>
                </a:lnTo>
                <a:lnTo>
                  <a:pt x="1921" y="1412"/>
                </a:lnTo>
                <a:lnTo>
                  <a:pt x="2101" y="1267"/>
                </a:lnTo>
                <a:lnTo>
                  <a:pt x="2286" y="1128"/>
                </a:lnTo>
                <a:lnTo>
                  <a:pt x="2478" y="996"/>
                </a:lnTo>
                <a:lnTo>
                  <a:pt x="2674" y="871"/>
                </a:lnTo>
                <a:lnTo>
                  <a:pt x="2873" y="753"/>
                </a:lnTo>
                <a:lnTo>
                  <a:pt x="3078" y="643"/>
                </a:lnTo>
                <a:lnTo>
                  <a:pt x="3285" y="541"/>
                </a:lnTo>
                <a:lnTo>
                  <a:pt x="3498" y="446"/>
                </a:lnTo>
                <a:lnTo>
                  <a:pt x="3712" y="361"/>
                </a:lnTo>
                <a:lnTo>
                  <a:pt x="3930" y="283"/>
                </a:lnTo>
                <a:lnTo>
                  <a:pt x="4149" y="214"/>
                </a:lnTo>
                <a:lnTo>
                  <a:pt x="4372" y="155"/>
                </a:lnTo>
                <a:lnTo>
                  <a:pt x="4595" y="104"/>
                </a:lnTo>
                <a:lnTo>
                  <a:pt x="4820" y="63"/>
                </a:lnTo>
                <a:lnTo>
                  <a:pt x="5046" y="33"/>
                </a:lnTo>
                <a:lnTo>
                  <a:pt x="5272" y="11"/>
                </a:lnTo>
                <a:lnTo>
                  <a:pt x="5499" y="0"/>
                </a:lnTo>
                <a:lnTo>
                  <a:pt x="5612" y="0"/>
                </a:lnTo>
                <a:lnTo>
                  <a:pt x="5725" y="0"/>
                </a:lnTo>
                <a:lnTo>
                  <a:pt x="5946" y="11"/>
                </a:lnTo>
                <a:lnTo>
                  <a:pt x="6162" y="33"/>
                </a:lnTo>
                <a:lnTo>
                  <a:pt x="6372" y="63"/>
                </a:lnTo>
                <a:lnTo>
                  <a:pt x="6574" y="104"/>
                </a:lnTo>
                <a:lnTo>
                  <a:pt x="6771" y="155"/>
                </a:lnTo>
                <a:lnTo>
                  <a:pt x="6960" y="214"/>
                </a:lnTo>
                <a:lnTo>
                  <a:pt x="7143" y="283"/>
                </a:lnTo>
                <a:lnTo>
                  <a:pt x="7319" y="361"/>
                </a:lnTo>
                <a:lnTo>
                  <a:pt x="7488" y="446"/>
                </a:lnTo>
                <a:lnTo>
                  <a:pt x="7648" y="541"/>
                </a:lnTo>
                <a:lnTo>
                  <a:pt x="7801" y="643"/>
                </a:lnTo>
                <a:lnTo>
                  <a:pt x="7946" y="753"/>
                </a:lnTo>
                <a:lnTo>
                  <a:pt x="8084" y="871"/>
                </a:lnTo>
                <a:lnTo>
                  <a:pt x="8213" y="996"/>
                </a:lnTo>
                <a:lnTo>
                  <a:pt x="8333" y="1128"/>
                </a:lnTo>
                <a:lnTo>
                  <a:pt x="8444" y="1267"/>
                </a:lnTo>
                <a:lnTo>
                  <a:pt x="8546" y="1412"/>
                </a:lnTo>
                <a:lnTo>
                  <a:pt x="8641" y="1564"/>
                </a:lnTo>
                <a:lnTo>
                  <a:pt x="8724" y="1720"/>
                </a:lnTo>
                <a:lnTo>
                  <a:pt x="8799" y="1884"/>
                </a:lnTo>
                <a:lnTo>
                  <a:pt x="8864" y="2052"/>
                </a:lnTo>
                <a:lnTo>
                  <a:pt x="8918" y="2226"/>
                </a:lnTo>
                <a:lnTo>
                  <a:pt x="8963" y="2405"/>
                </a:lnTo>
                <a:lnTo>
                  <a:pt x="8996" y="2589"/>
                </a:lnTo>
                <a:lnTo>
                  <a:pt x="9020" y="2777"/>
                </a:lnTo>
                <a:lnTo>
                  <a:pt x="9033" y="2969"/>
                </a:lnTo>
                <a:lnTo>
                  <a:pt x="9034" y="3164"/>
                </a:lnTo>
                <a:lnTo>
                  <a:pt x="9025" y="3364"/>
                </a:lnTo>
                <a:lnTo>
                  <a:pt x="9003" y="3567"/>
                </a:lnTo>
                <a:lnTo>
                  <a:pt x="8970" y="3773"/>
                </a:lnTo>
                <a:lnTo>
                  <a:pt x="8926" y="3982"/>
                </a:lnTo>
                <a:lnTo>
                  <a:pt x="8898" y="4087"/>
                </a:lnTo>
                <a:close/>
              </a:path>
            </a:pathLst>
          </a:custGeom>
          <a:solidFill>
            <a:srgbClr val="222730"/>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65" name="Freeform 7"/>
          <p:cNvSpPr/>
          <p:nvPr/>
        </p:nvSpPr>
        <p:spPr>
          <a:xfrm>
            <a:off x="4917960" y="2884320"/>
            <a:ext cx="3013200" cy="2725920"/>
          </a:xfrm>
          <a:custGeom>
            <a:avLst/>
            <a:gdLst/>
            <a:ahLst/>
            <a:rect l="l" t="t" r="r" b="b"/>
            <a:pathLst>
              <a:path w="9034" h="8176">
                <a:moveTo>
                  <a:pt x="8898" y="4088"/>
                </a:moveTo>
                <a:lnTo>
                  <a:pt x="8870" y="4193"/>
                </a:lnTo>
                <a:lnTo>
                  <a:pt x="8802" y="4403"/>
                </a:lnTo>
                <a:lnTo>
                  <a:pt x="8724" y="4609"/>
                </a:lnTo>
                <a:lnTo>
                  <a:pt x="8636" y="4811"/>
                </a:lnTo>
                <a:lnTo>
                  <a:pt x="8539" y="5011"/>
                </a:lnTo>
                <a:lnTo>
                  <a:pt x="8433" y="5206"/>
                </a:lnTo>
                <a:lnTo>
                  <a:pt x="8317" y="5400"/>
                </a:lnTo>
                <a:lnTo>
                  <a:pt x="8193" y="5587"/>
                </a:lnTo>
                <a:lnTo>
                  <a:pt x="8061" y="5770"/>
                </a:lnTo>
                <a:lnTo>
                  <a:pt x="7921" y="5949"/>
                </a:lnTo>
                <a:lnTo>
                  <a:pt x="7773" y="6123"/>
                </a:lnTo>
                <a:lnTo>
                  <a:pt x="7619" y="6291"/>
                </a:lnTo>
                <a:lnTo>
                  <a:pt x="7457" y="6455"/>
                </a:lnTo>
                <a:lnTo>
                  <a:pt x="7288" y="6611"/>
                </a:lnTo>
                <a:lnTo>
                  <a:pt x="7113" y="6763"/>
                </a:lnTo>
                <a:lnTo>
                  <a:pt x="6933" y="6908"/>
                </a:lnTo>
                <a:lnTo>
                  <a:pt x="6748" y="7047"/>
                </a:lnTo>
                <a:lnTo>
                  <a:pt x="6556" y="7179"/>
                </a:lnTo>
                <a:lnTo>
                  <a:pt x="6360" y="7304"/>
                </a:lnTo>
                <a:lnTo>
                  <a:pt x="6161" y="7421"/>
                </a:lnTo>
                <a:lnTo>
                  <a:pt x="5956" y="7532"/>
                </a:lnTo>
                <a:lnTo>
                  <a:pt x="5748" y="7634"/>
                </a:lnTo>
                <a:lnTo>
                  <a:pt x="5536" y="7729"/>
                </a:lnTo>
                <a:lnTo>
                  <a:pt x="5322" y="7815"/>
                </a:lnTo>
                <a:lnTo>
                  <a:pt x="5104" y="7892"/>
                </a:lnTo>
                <a:lnTo>
                  <a:pt x="4885" y="7961"/>
                </a:lnTo>
                <a:lnTo>
                  <a:pt x="4662" y="8022"/>
                </a:lnTo>
                <a:lnTo>
                  <a:pt x="4439" y="8071"/>
                </a:lnTo>
                <a:lnTo>
                  <a:pt x="4215" y="8112"/>
                </a:lnTo>
                <a:lnTo>
                  <a:pt x="3988" y="8143"/>
                </a:lnTo>
                <a:lnTo>
                  <a:pt x="3761" y="8164"/>
                </a:lnTo>
                <a:lnTo>
                  <a:pt x="3535" y="8175"/>
                </a:lnTo>
                <a:lnTo>
                  <a:pt x="3422" y="8176"/>
                </a:lnTo>
                <a:lnTo>
                  <a:pt x="3309" y="8175"/>
                </a:lnTo>
                <a:lnTo>
                  <a:pt x="3088" y="8164"/>
                </a:lnTo>
                <a:lnTo>
                  <a:pt x="2872" y="8143"/>
                </a:lnTo>
                <a:lnTo>
                  <a:pt x="2664" y="8112"/>
                </a:lnTo>
                <a:lnTo>
                  <a:pt x="2460" y="8071"/>
                </a:lnTo>
                <a:lnTo>
                  <a:pt x="2263" y="8022"/>
                </a:lnTo>
                <a:lnTo>
                  <a:pt x="2074" y="7961"/>
                </a:lnTo>
                <a:lnTo>
                  <a:pt x="1891" y="7892"/>
                </a:lnTo>
                <a:lnTo>
                  <a:pt x="1715" y="7815"/>
                </a:lnTo>
                <a:lnTo>
                  <a:pt x="1546" y="7729"/>
                </a:lnTo>
                <a:lnTo>
                  <a:pt x="1386" y="7634"/>
                </a:lnTo>
                <a:lnTo>
                  <a:pt x="1233" y="7532"/>
                </a:lnTo>
                <a:lnTo>
                  <a:pt x="1088" y="7421"/>
                </a:lnTo>
                <a:lnTo>
                  <a:pt x="950" y="7304"/>
                </a:lnTo>
                <a:lnTo>
                  <a:pt x="821" y="7179"/>
                </a:lnTo>
                <a:lnTo>
                  <a:pt x="701" y="7047"/>
                </a:lnTo>
                <a:lnTo>
                  <a:pt x="590" y="6908"/>
                </a:lnTo>
                <a:lnTo>
                  <a:pt x="487" y="6763"/>
                </a:lnTo>
                <a:lnTo>
                  <a:pt x="394" y="6611"/>
                </a:lnTo>
                <a:lnTo>
                  <a:pt x="310" y="6455"/>
                </a:lnTo>
                <a:lnTo>
                  <a:pt x="235" y="6291"/>
                </a:lnTo>
                <a:lnTo>
                  <a:pt x="170" y="6123"/>
                </a:lnTo>
                <a:lnTo>
                  <a:pt x="115" y="5949"/>
                </a:lnTo>
                <a:lnTo>
                  <a:pt x="71" y="5770"/>
                </a:lnTo>
                <a:lnTo>
                  <a:pt x="38" y="5587"/>
                </a:lnTo>
                <a:lnTo>
                  <a:pt x="14" y="5400"/>
                </a:lnTo>
                <a:lnTo>
                  <a:pt x="1" y="5208"/>
                </a:lnTo>
                <a:lnTo>
                  <a:pt x="0" y="5011"/>
                </a:lnTo>
                <a:lnTo>
                  <a:pt x="9" y="4811"/>
                </a:lnTo>
                <a:lnTo>
                  <a:pt x="31" y="4609"/>
                </a:lnTo>
                <a:lnTo>
                  <a:pt x="64" y="4403"/>
                </a:lnTo>
                <a:lnTo>
                  <a:pt x="108" y="4193"/>
                </a:lnTo>
                <a:lnTo>
                  <a:pt x="136" y="4088"/>
                </a:lnTo>
                <a:lnTo>
                  <a:pt x="165" y="3982"/>
                </a:lnTo>
                <a:lnTo>
                  <a:pt x="232" y="3773"/>
                </a:lnTo>
                <a:lnTo>
                  <a:pt x="310" y="3567"/>
                </a:lnTo>
                <a:lnTo>
                  <a:pt x="398" y="3365"/>
                </a:lnTo>
                <a:lnTo>
                  <a:pt x="495" y="3165"/>
                </a:lnTo>
                <a:lnTo>
                  <a:pt x="602" y="2968"/>
                </a:lnTo>
                <a:lnTo>
                  <a:pt x="717" y="2776"/>
                </a:lnTo>
                <a:lnTo>
                  <a:pt x="841" y="2588"/>
                </a:lnTo>
                <a:lnTo>
                  <a:pt x="974" y="2405"/>
                </a:lnTo>
                <a:lnTo>
                  <a:pt x="1113" y="2227"/>
                </a:lnTo>
                <a:lnTo>
                  <a:pt x="1261" y="2053"/>
                </a:lnTo>
                <a:lnTo>
                  <a:pt x="1415" y="1884"/>
                </a:lnTo>
                <a:lnTo>
                  <a:pt x="1578" y="1721"/>
                </a:lnTo>
                <a:lnTo>
                  <a:pt x="1746" y="1564"/>
                </a:lnTo>
                <a:lnTo>
                  <a:pt x="1921" y="1413"/>
                </a:lnTo>
                <a:lnTo>
                  <a:pt x="2101" y="1267"/>
                </a:lnTo>
                <a:lnTo>
                  <a:pt x="2286" y="1129"/>
                </a:lnTo>
                <a:lnTo>
                  <a:pt x="2478" y="997"/>
                </a:lnTo>
                <a:lnTo>
                  <a:pt x="2674" y="871"/>
                </a:lnTo>
                <a:lnTo>
                  <a:pt x="2874" y="754"/>
                </a:lnTo>
                <a:lnTo>
                  <a:pt x="3078" y="644"/>
                </a:lnTo>
                <a:lnTo>
                  <a:pt x="3286" y="542"/>
                </a:lnTo>
                <a:lnTo>
                  <a:pt x="3498" y="447"/>
                </a:lnTo>
                <a:lnTo>
                  <a:pt x="3712" y="360"/>
                </a:lnTo>
                <a:lnTo>
                  <a:pt x="3930" y="282"/>
                </a:lnTo>
                <a:lnTo>
                  <a:pt x="4149" y="214"/>
                </a:lnTo>
                <a:lnTo>
                  <a:pt x="4372" y="154"/>
                </a:lnTo>
                <a:lnTo>
                  <a:pt x="4595" y="104"/>
                </a:lnTo>
                <a:lnTo>
                  <a:pt x="4820" y="63"/>
                </a:lnTo>
                <a:lnTo>
                  <a:pt x="5046" y="32"/>
                </a:lnTo>
                <a:lnTo>
                  <a:pt x="5273" y="11"/>
                </a:lnTo>
                <a:lnTo>
                  <a:pt x="5500" y="1"/>
                </a:lnTo>
                <a:lnTo>
                  <a:pt x="5612" y="0"/>
                </a:lnTo>
                <a:lnTo>
                  <a:pt x="5725" y="1"/>
                </a:lnTo>
                <a:lnTo>
                  <a:pt x="5947" y="11"/>
                </a:lnTo>
                <a:lnTo>
                  <a:pt x="6162" y="32"/>
                </a:lnTo>
                <a:lnTo>
                  <a:pt x="6372" y="63"/>
                </a:lnTo>
                <a:lnTo>
                  <a:pt x="6574" y="104"/>
                </a:lnTo>
                <a:lnTo>
                  <a:pt x="6771" y="154"/>
                </a:lnTo>
                <a:lnTo>
                  <a:pt x="6960" y="214"/>
                </a:lnTo>
                <a:lnTo>
                  <a:pt x="7143" y="282"/>
                </a:lnTo>
                <a:lnTo>
                  <a:pt x="7319" y="360"/>
                </a:lnTo>
                <a:lnTo>
                  <a:pt x="7488" y="447"/>
                </a:lnTo>
                <a:lnTo>
                  <a:pt x="7649" y="542"/>
                </a:lnTo>
                <a:lnTo>
                  <a:pt x="7802" y="644"/>
                </a:lnTo>
                <a:lnTo>
                  <a:pt x="7947" y="754"/>
                </a:lnTo>
                <a:lnTo>
                  <a:pt x="8084" y="871"/>
                </a:lnTo>
                <a:lnTo>
                  <a:pt x="8214" y="997"/>
                </a:lnTo>
                <a:lnTo>
                  <a:pt x="8333" y="1129"/>
                </a:lnTo>
                <a:lnTo>
                  <a:pt x="8444" y="1267"/>
                </a:lnTo>
                <a:lnTo>
                  <a:pt x="8547" y="1413"/>
                </a:lnTo>
                <a:lnTo>
                  <a:pt x="8641" y="1564"/>
                </a:lnTo>
                <a:lnTo>
                  <a:pt x="8724" y="1721"/>
                </a:lnTo>
                <a:lnTo>
                  <a:pt x="8800" y="1884"/>
                </a:lnTo>
                <a:lnTo>
                  <a:pt x="8864" y="2053"/>
                </a:lnTo>
                <a:lnTo>
                  <a:pt x="8919" y="2227"/>
                </a:lnTo>
                <a:lnTo>
                  <a:pt x="8963" y="2405"/>
                </a:lnTo>
                <a:lnTo>
                  <a:pt x="8997" y="2588"/>
                </a:lnTo>
                <a:lnTo>
                  <a:pt x="9020" y="2776"/>
                </a:lnTo>
                <a:lnTo>
                  <a:pt x="9033" y="2968"/>
                </a:lnTo>
                <a:lnTo>
                  <a:pt x="9034" y="3165"/>
                </a:lnTo>
                <a:lnTo>
                  <a:pt x="9025" y="3365"/>
                </a:lnTo>
                <a:lnTo>
                  <a:pt x="9003" y="3567"/>
                </a:lnTo>
                <a:lnTo>
                  <a:pt x="8971" y="3773"/>
                </a:lnTo>
                <a:lnTo>
                  <a:pt x="8927" y="3982"/>
                </a:lnTo>
                <a:lnTo>
                  <a:pt x="8898" y="4088"/>
                </a:lnTo>
                <a:close/>
              </a:path>
            </a:pathLst>
          </a:custGeom>
          <a:solidFill>
            <a:srgbClr val="323b49"/>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66" name="Freeform 5"/>
          <p:cNvSpPr/>
          <p:nvPr/>
        </p:nvSpPr>
        <p:spPr>
          <a:xfrm>
            <a:off x="4875120" y="2830680"/>
            <a:ext cx="3011760" cy="2725560"/>
          </a:xfrm>
          <a:custGeom>
            <a:avLst/>
            <a:gdLst/>
            <a:ahLst/>
            <a:rect l="l" t="t" r="r" b="b"/>
            <a:pathLst>
              <a:path w="3584575" h="3244850">
                <a:moveTo>
                  <a:pt x="2181933" y="0"/>
                </a:moveTo>
                <a:lnTo>
                  <a:pt x="2226770" y="0"/>
                </a:lnTo>
                <a:lnTo>
                  <a:pt x="2271606" y="0"/>
                </a:lnTo>
                <a:lnTo>
                  <a:pt x="2359296" y="3969"/>
                </a:lnTo>
                <a:lnTo>
                  <a:pt x="2444606" y="13097"/>
                </a:lnTo>
                <a:lnTo>
                  <a:pt x="2527931" y="24606"/>
                </a:lnTo>
                <a:lnTo>
                  <a:pt x="2608082" y="41275"/>
                </a:lnTo>
                <a:lnTo>
                  <a:pt x="2686249" y="61119"/>
                </a:lnTo>
                <a:lnTo>
                  <a:pt x="2761639" y="84931"/>
                </a:lnTo>
                <a:lnTo>
                  <a:pt x="2833854" y="112316"/>
                </a:lnTo>
                <a:lnTo>
                  <a:pt x="2904085" y="142875"/>
                </a:lnTo>
                <a:lnTo>
                  <a:pt x="2970745" y="177006"/>
                </a:lnTo>
                <a:lnTo>
                  <a:pt x="3034628" y="214709"/>
                </a:lnTo>
                <a:lnTo>
                  <a:pt x="3095337" y="255191"/>
                </a:lnTo>
                <a:lnTo>
                  <a:pt x="3152871" y="298847"/>
                </a:lnTo>
                <a:lnTo>
                  <a:pt x="3207231" y="345678"/>
                </a:lnTo>
                <a:lnTo>
                  <a:pt x="3258813" y="395288"/>
                </a:lnTo>
                <a:lnTo>
                  <a:pt x="3306031" y="447675"/>
                </a:lnTo>
                <a:lnTo>
                  <a:pt x="3350471" y="502444"/>
                </a:lnTo>
                <a:lnTo>
                  <a:pt x="3390943" y="560388"/>
                </a:lnTo>
                <a:lnTo>
                  <a:pt x="3428241" y="620316"/>
                </a:lnTo>
                <a:lnTo>
                  <a:pt x="3461571" y="683022"/>
                </a:lnTo>
                <a:lnTo>
                  <a:pt x="3491330" y="747316"/>
                </a:lnTo>
                <a:lnTo>
                  <a:pt x="3517121" y="814388"/>
                </a:lnTo>
                <a:lnTo>
                  <a:pt x="3538548" y="883444"/>
                </a:lnTo>
                <a:lnTo>
                  <a:pt x="3556006" y="954088"/>
                </a:lnTo>
                <a:lnTo>
                  <a:pt x="3569497" y="1027113"/>
                </a:lnTo>
                <a:lnTo>
                  <a:pt x="3578623" y="1101725"/>
                </a:lnTo>
                <a:lnTo>
                  <a:pt x="3583781" y="1177925"/>
                </a:lnTo>
                <a:lnTo>
                  <a:pt x="3584575" y="1255713"/>
                </a:lnTo>
                <a:lnTo>
                  <a:pt x="3580607" y="1335088"/>
                </a:lnTo>
                <a:lnTo>
                  <a:pt x="3571878" y="1415653"/>
                </a:lnTo>
                <a:lnTo>
                  <a:pt x="3559181" y="1497410"/>
                </a:lnTo>
                <a:lnTo>
                  <a:pt x="3541722" y="1580356"/>
                </a:lnTo>
                <a:lnTo>
                  <a:pt x="3530215" y="1622425"/>
                </a:lnTo>
                <a:lnTo>
                  <a:pt x="3519105" y="1664097"/>
                </a:lnTo>
                <a:lnTo>
                  <a:pt x="3492521" y="1747044"/>
                </a:lnTo>
                <a:lnTo>
                  <a:pt x="3461571" y="1828800"/>
                </a:lnTo>
                <a:lnTo>
                  <a:pt x="3426654" y="1909366"/>
                </a:lnTo>
                <a:lnTo>
                  <a:pt x="3387769" y="1988741"/>
                </a:lnTo>
                <a:lnTo>
                  <a:pt x="3345709" y="2066528"/>
                </a:lnTo>
                <a:lnTo>
                  <a:pt x="3300079" y="2142331"/>
                </a:lnTo>
                <a:lnTo>
                  <a:pt x="3250480" y="2216944"/>
                </a:lnTo>
                <a:lnTo>
                  <a:pt x="3198104" y="2289969"/>
                </a:lnTo>
                <a:lnTo>
                  <a:pt x="3142554" y="2361010"/>
                </a:lnTo>
                <a:lnTo>
                  <a:pt x="3083830" y="2430066"/>
                </a:lnTo>
                <a:lnTo>
                  <a:pt x="3022725" y="2497138"/>
                </a:lnTo>
                <a:lnTo>
                  <a:pt x="2958445" y="2561828"/>
                </a:lnTo>
                <a:lnTo>
                  <a:pt x="2891785" y="2624138"/>
                </a:lnTo>
                <a:lnTo>
                  <a:pt x="2822347" y="2684066"/>
                </a:lnTo>
                <a:lnTo>
                  <a:pt x="2750925" y="2741613"/>
                </a:lnTo>
                <a:lnTo>
                  <a:pt x="2677123" y="2796778"/>
                </a:lnTo>
                <a:lnTo>
                  <a:pt x="2600940" y="2849166"/>
                </a:lnTo>
                <a:lnTo>
                  <a:pt x="2523566" y="2898775"/>
                </a:lnTo>
                <a:lnTo>
                  <a:pt x="2444209" y="2945606"/>
                </a:lnTo>
                <a:lnTo>
                  <a:pt x="2362868" y="2989263"/>
                </a:lnTo>
                <a:lnTo>
                  <a:pt x="2280733" y="3029744"/>
                </a:lnTo>
                <a:lnTo>
                  <a:pt x="2196217" y="3067447"/>
                </a:lnTo>
                <a:lnTo>
                  <a:pt x="2111304" y="3101181"/>
                </a:lnTo>
                <a:lnTo>
                  <a:pt x="2025202" y="3132138"/>
                </a:lnTo>
                <a:lnTo>
                  <a:pt x="1938305" y="3159522"/>
                </a:lnTo>
                <a:lnTo>
                  <a:pt x="1849822" y="3183335"/>
                </a:lnTo>
                <a:lnTo>
                  <a:pt x="1761338" y="3203178"/>
                </a:lnTo>
                <a:lnTo>
                  <a:pt x="1672458" y="3219847"/>
                </a:lnTo>
                <a:lnTo>
                  <a:pt x="1582387" y="3232150"/>
                </a:lnTo>
                <a:lnTo>
                  <a:pt x="1492317" y="3240088"/>
                </a:lnTo>
                <a:lnTo>
                  <a:pt x="1402246" y="3244453"/>
                </a:lnTo>
                <a:lnTo>
                  <a:pt x="1357409" y="3244850"/>
                </a:lnTo>
                <a:lnTo>
                  <a:pt x="1312969" y="3244453"/>
                </a:lnTo>
                <a:lnTo>
                  <a:pt x="1224882" y="3240088"/>
                </a:lnTo>
                <a:lnTo>
                  <a:pt x="1139573" y="3232150"/>
                </a:lnTo>
                <a:lnTo>
                  <a:pt x="1056644" y="3219847"/>
                </a:lnTo>
                <a:lnTo>
                  <a:pt x="976097" y="3203178"/>
                </a:lnTo>
                <a:lnTo>
                  <a:pt x="897930" y="3183335"/>
                </a:lnTo>
                <a:lnTo>
                  <a:pt x="822540" y="3159522"/>
                </a:lnTo>
                <a:lnTo>
                  <a:pt x="750325" y="3132138"/>
                </a:lnTo>
                <a:lnTo>
                  <a:pt x="680093" y="3101181"/>
                </a:lnTo>
                <a:lnTo>
                  <a:pt x="613433" y="3067447"/>
                </a:lnTo>
                <a:lnTo>
                  <a:pt x="549550" y="3029744"/>
                </a:lnTo>
                <a:lnTo>
                  <a:pt x="488842" y="2989263"/>
                </a:lnTo>
                <a:lnTo>
                  <a:pt x="431308" y="2945606"/>
                </a:lnTo>
                <a:lnTo>
                  <a:pt x="376948" y="2898775"/>
                </a:lnTo>
                <a:lnTo>
                  <a:pt x="325366" y="2849166"/>
                </a:lnTo>
                <a:lnTo>
                  <a:pt x="278148" y="2796778"/>
                </a:lnTo>
                <a:lnTo>
                  <a:pt x="262560" y="2777428"/>
                </a:lnTo>
                <a:lnTo>
                  <a:pt x="253395" y="2766616"/>
                </a:lnTo>
                <a:lnTo>
                  <a:pt x="248651" y="2760162"/>
                </a:lnTo>
                <a:lnTo>
                  <a:pt x="233708" y="2741613"/>
                </a:lnTo>
                <a:lnTo>
                  <a:pt x="204700" y="2700367"/>
                </a:lnTo>
                <a:lnTo>
                  <a:pt x="201762" y="2696369"/>
                </a:lnTo>
                <a:lnTo>
                  <a:pt x="200780" y="2694793"/>
                </a:lnTo>
                <a:lnTo>
                  <a:pt x="193236" y="2684066"/>
                </a:lnTo>
                <a:lnTo>
                  <a:pt x="156334" y="2624138"/>
                </a:lnTo>
                <a:lnTo>
                  <a:pt x="122607" y="2561828"/>
                </a:lnTo>
                <a:lnTo>
                  <a:pt x="92848" y="2497138"/>
                </a:lnTo>
                <a:lnTo>
                  <a:pt x="67057" y="2430066"/>
                </a:lnTo>
                <a:lnTo>
                  <a:pt x="45631" y="2361010"/>
                </a:lnTo>
                <a:lnTo>
                  <a:pt x="28172" y="2289969"/>
                </a:lnTo>
                <a:lnTo>
                  <a:pt x="14681" y="2216944"/>
                </a:lnTo>
                <a:lnTo>
                  <a:pt x="13091" y="2203943"/>
                </a:lnTo>
                <a:lnTo>
                  <a:pt x="12308" y="2199481"/>
                </a:lnTo>
                <a:lnTo>
                  <a:pt x="6350" y="2152650"/>
                </a:lnTo>
                <a:lnTo>
                  <a:pt x="6869" y="2153071"/>
                </a:lnTo>
                <a:lnTo>
                  <a:pt x="5555" y="2142331"/>
                </a:lnTo>
                <a:lnTo>
                  <a:pt x="397" y="2066528"/>
                </a:lnTo>
                <a:lnTo>
                  <a:pt x="0" y="1988741"/>
                </a:lnTo>
                <a:lnTo>
                  <a:pt x="3571" y="1909366"/>
                </a:lnTo>
                <a:lnTo>
                  <a:pt x="12301" y="1828800"/>
                </a:lnTo>
                <a:lnTo>
                  <a:pt x="24998" y="1747044"/>
                </a:lnTo>
                <a:lnTo>
                  <a:pt x="42456" y="1664097"/>
                </a:lnTo>
                <a:lnTo>
                  <a:pt x="53963" y="1622425"/>
                </a:lnTo>
                <a:lnTo>
                  <a:pt x="65073" y="1580356"/>
                </a:lnTo>
                <a:lnTo>
                  <a:pt x="92055" y="1497410"/>
                </a:lnTo>
                <a:lnTo>
                  <a:pt x="122607" y="1415653"/>
                </a:lnTo>
                <a:lnTo>
                  <a:pt x="157525" y="1335088"/>
                </a:lnTo>
                <a:lnTo>
                  <a:pt x="196410" y="1255713"/>
                </a:lnTo>
                <a:lnTo>
                  <a:pt x="238469" y="1177925"/>
                </a:lnTo>
                <a:lnTo>
                  <a:pt x="284100" y="1101725"/>
                </a:lnTo>
                <a:lnTo>
                  <a:pt x="333698" y="1027113"/>
                </a:lnTo>
                <a:lnTo>
                  <a:pt x="386074" y="954088"/>
                </a:lnTo>
                <a:lnTo>
                  <a:pt x="441624" y="883841"/>
                </a:lnTo>
                <a:lnTo>
                  <a:pt x="500349" y="814388"/>
                </a:lnTo>
                <a:lnTo>
                  <a:pt x="561454" y="747316"/>
                </a:lnTo>
                <a:lnTo>
                  <a:pt x="625734" y="683022"/>
                </a:lnTo>
                <a:lnTo>
                  <a:pt x="692394" y="620316"/>
                </a:lnTo>
                <a:lnTo>
                  <a:pt x="761832" y="560388"/>
                </a:lnTo>
                <a:lnTo>
                  <a:pt x="833650" y="502444"/>
                </a:lnTo>
                <a:lnTo>
                  <a:pt x="907056" y="447675"/>
                </a:lnTo>
                <a:lnTo>
                  <a:pt x="983239" y="395288"/>
                </a:lnTo>
                <a:lnTo>
                  <a:pt x="1060612" y="345678"/>
                </a:lnTo>
                <a:lnTo>
                  <a:pt x="1139970" y="298847"/>
                </a:lnTo>
                <a:lnTo>
                  <a:pt x="1221311" y="255191"/>
                </a:lnTo>
                <a:lnTo>
                  <a:pt x="1303446" y="214709"/>
                </a:lnTo>
                <a:lnTo>
                  <a:pt x="1387962" y="177006"/>
                </a:lnTo>
                <a:lnTo>
                  <a:pt x="1472874" y="142875"/>
                </a:lnTo>
                <a:lnTo>
                  <a:pt x="1558977" y="112316"/>
                </a:lnTo>
                <a:lnTo>
                  <a:pt x="1645873" y="84931"/>
                </a:lnTo>
                <a:lnTo>
                  <a:pt x="1734357" y="61119"/>
                </a:lnTo>
                <a:lnTo>
                  <a:pt x="1822840" y="41275"/>
                </a:lnTo>
                <a:lnTo>
                  <a:pt x="1912117" y="24606"/>
                </a:lnTo>
                <a:lnTo>
                  <a:pt x="2001791" y="13097"/>
                </a:lnTo>
                <a:lnTo>
                  <a:pt x="2091862" y="3969"/>
                </a:lnTo>
                <a:lnTo>
                  <a:pt x="2181933" y="0"/>
                </a:lnTo>
                <a:close/>
              </a:path>
            </a:pathLst>
          </a:custGeom>
          <a:solidFill>
            <a:srgbClr val="434e61"/>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67" name="Freeform 6"/>
          <p:cNvSpPr/>
          <p:nvPr/>
        </p:nvSpPr>
        <p:spPr>
          <a:xfrm>
            <a:off x="5160960" y="3087720"/>
            <a:ext cx="2441520" cy="2209680"/>
          </a:xfrm>
          <a:custGeom>
            <a:avLst/>
            <a:gdLst/>
            <a:ahLst/>
            <a:rect l="l" t="t" r="r" b="b"/>
            <a:pathLst>
              <a:path w="2906713" h="2630488">
                <a:moveTo>
                  <a:pt x="1769114" y="0"/>
                </a:moveTo>
                <a:lnTo>
                  <a:pt x="1805631" y="0"/>
                </a:lnTo>
                <a:lnTo>
                  <a:pt x="1842149" y="0"/>
                </a:lnTo>
                <a:lnTo>
                  <a:pt x="1913199" y="3572"/>
                </a:lnTo>
                <a:lnTo>
                  <a:pt x="1982662" y="10320"/>
                </a:lnTo>
                <a:lnTo>
                  <a:pt x="2050140" y="19847"/>
                </a:lnTo>
                <a:lnTo>
                  <a:pt x="2115633" y="33343"/>
                </a:lnTo>
                <a:lnTo>
                  <a:pt x="2178348" y="49220"/>
                </a:lnTo>
                <a:lnTo>
                  <a:pt x="2239475" y="69067"/>
                </a:lnTo>
                <a:lnTo>
                  <a:pt x="2298617" y="90898"/>
                </a:lnTo>
                <a:lnTo>
                  <a:pt x="2355378" y="115905"/>
                </a:lnTo>
                <a:lnTo>
                  <a:pt x="2409361" y="143691"/>
                </a:lnTo>
                <a:lnTo>
                  <a:pt x="2461358" y="173858"/>
                </a:lnTo>
                <a:lnTo>
                  <a:pt x="2510181" y="206803"/>
                </a:lnTo>
                <a:lnTo>
                  <a:pt x="2557018" y="242130"/>
                </a:lnTo>
                <a:lnTo>
                  <a:pt x="2601078" y="280236"/>
                </a:lnTo>
                <a:lnTo>
                  <a:pt x="2642755" y="320327"/>
                </a:lnTo>
                <a:lnTo>
                  <a:pt x="2681257" y="363196"/>
                </a:lnTo>
                <a:lnTo>
                  <a:pt x="2717378" y="407255"/>
                </a:lnTo>
                <a:lnTo>
                  <a:pt x="2750323" y="454094"/>
                </a:lnTo>
                <a:lnTo>
                  <a:pt x="2755816" y="463175"/>
                </a:lnTo>
                <a:lnTo>
                  <a:pt x="2773277" y="490687"/>
                </a:lnTo>
                <a:lnTo>
                  <a:pt x="2779246" y="501913"/>
                </a:lnTo>
                <a:lnTo>
                  <a:pt x="2780093" y="503314"/>
                </a:lnTo>
                <a:lnTo>
                  <a:pt x="2807481" y="553724"/>
                </a:lnTo>
                <a:lnTo>
                  <a:pt x="2811529" y="562630"/>
                </a:lnTo>
                <a:lnTo>
                  <a:pt x="2815803" y="570669"/>
                </a:lnTo>
                <a:lnTo>
                  <a:pt x="2825840" y="594116"/>
                </a:lnTo>
                <a:lnTo>
                  <a:pt x="2831296" y="606120"/>
                </a:lnTo>
                <a:lnTo>
                  <a:pt x="2852334" y="660500"/>
                </a:lnTo>
                <a:lnTo>
                  <a:pt x="2869798" y="716071"/>
                </a:lnTo>
                <a:lnTo>
                  <a:pt x="2883691" y="773626"/>
                </a:lnTo>
                <a:lnTo>
                  <a:pt x="2894805" y="832770"/>
                </a:lnTo>
                <a:lnTo>
                  <a:pt x="2901950" y="893104"/>
                </a:lnTo>
                <a:lnTo>
                  <a:pt x="2906316" y="955026"/>
                </a:lnTo>
                <a:lnTo>
                  <a:pt x="2906713" y="1018138"/>
                </a:lnTo>
                <a:lnTo>
                  <a:pt x="2903538" y="1082442"/>
                </a:lnTo>
                <a:lnTo>
                  <a:pt x="2896790" y="1147936"/>
                </a:lnTo>
                <a:lnTo>
                  <a:pt x="2886073" y="1214224"/>
                </a:lnTo>
                <a:lnTo>
                  <a:pt x="2871783" y="1280909"/>
                </a:lnTo>
                <a:lnTo>
                  <a:pt x="2863051" y="1315443"/>
                </a:lnTo>
                <a:lnTo>
                  <a:pt x="2853922" y="1349579"/>
                </a:lnTo>
                <a:lnTo>
                  <a:pt x="2832090" y="1416264"/>
                </a:lnTo>
                <a:lnTo>
                  <a:pt x="2807084" y="1482552"/>
                </a:lnTo>
                <a:lnTo>
                  <a:pt x="2779299" y="1548047"/>
                </a:lnTo>
                <a:lnTo>
                  <a:pt x="2747941" y="1612350"/>
                </a:lnTo>
                <a:lnTo>
                  <a:pt x="2713409" y="1675463"/>
                </a:lnTo>
                <a:lnTo>
                  <a:pt x="2676097" y="1737385"/>
                </a:lnTo>
                <a:lnTo>
                  <a:pt x="2636007" y="1797719"/>
                </a:lnTo>
                <a:lnTo>
                  <a:pt x="2593933" y="1856862"/>
                </a:lnTo>
                <a:lnTo>
                  <a:pt x="2548683" y="1914418"/>
                </a:lnTo>
                <a:lnTo>
                  <a:pt x="2500654" y="1969988"/>
                </a:lnTo>
                <a:lnTo>
                  <a:pt x="2451435" y="2024368"/>
                </a:lnTo>
                <a:lnTo>
                  <a:pt x="2399041" y="2076764"/>
                </a:lnTo>
                <a:lnTo>
                  <a:pt x="2345058" y="2127175"/>
                </a:lnTo>
                <a:lnTo>
                  <a:pt x="2288694" y="2176395"/>
                </a:lnTo>
                <a:lnTo>
                  <a:pt x="2230743" y="2222836"/>
                </a:lnTo>
                <a:lnTo>
                  <a:pt x="2171203" y="2267293"/>
                </a:lnTo>
                <a:lnTo>
                  <a:pt x="2109282" y="2310162"/>
                </a:lnTo>
                <a:lnTo>
                  <a:pt x="2046567" y="2350252"/>
                </a:lnTo>
                <a:lnTo>
                  <a:pt x="1982265" y="2388358"/>
                </a:lnTo>
                <a:lnTo>
                  <a:pt x="1916375" y="2423685"/>
                </a:lnTo>
                <a:lnTo>
                  <a:pt x="1849691" y="2456631"/>
                </a:lnTo>
                <a:lnTo>
                  <a:pt x="1781022" y="2486798"/>
                </a:lnTo>
                <a:lnTo>
                  <a:pt x="1711956" y="2514583"/>
                </a:lnTo>
                <a:lnTo>
                  <a:pt x="1642097" y="2539590"/>
                </a:lnTo>
                <a:lnTo>
                  <a:pt x="1571840" y="2561421"/>
                </a:lnTo>
                <a:lnTo>
                  <a:pt x="1499996" y="2581268"/>
                </a:lnTo>
                <a:lnTo>
                  <a:pt x="1428152" y="2597146"/>
                </a:lnTo>
                <a:lnTo>
                  <a:pt x="1356307" y="2610244"/>
                </a:lnTo>
                <a:lnTo>
                  <a:pt x="1282876" y="2620168"/>
                </a:lnTo>
                <a:lnTo>
                  <a:pt x="1210634" y="2626916"/>
                </a:lnTo>
                <a:lnTo>
                  <a:pt x="1137599" y="2630488"/>
                </a:lnTo>
                <a:lnTo>
                  <a:pt x="1101082" y="2630488"/>
                </a:lnTo>
                <a:lnTo>
                  <a:pt x="1064564" y="2630488"/>
                </a:lnTo>
                <a:lnTo>
                  <a:pt x="993514" y="2626916"/>
                </a:lnTo>
                <a:lnTo>
                  <a:pt x="924052" y="2620168"/>
                </a:lnTo>
                <a:lnTo>
                  <a:pt x="856574" y="2610244"/>
                </a:lnTo>
                <a:lnTo>
                  <a:pt x="791080" y="2597146"/>
                </a:lnTo>
                <a:lnTo>
                  <a:pt x="728365" y="2581268"/>
                </a:lnTo>
                <a:lnTo>
                  <a:pt x="667238" y="2561421"/>
                </a:lnTo>
                <a:lnTo>
                  <a:pt x="608096" y="2539590"/>
                </a:lnTo>
                <a:lnTo>
                  <a:pt x="551335" y="2514583"/>
                </a:lnTo>
                <a:lnTo>
                  <a:pt x="497353" y="2486798"/>
                </a:lnTo>
                <a:lnTo>
                  <a:pt x="445355" y="2456631"/>
                </a:lnTo>
                <a:lnTo>
                  <a:pt x="396533" y="2423685"/>
                </a:lnTo>
                <a:lnTo>
                  <a:pt x="349695" y="2388358"/>
                </a:lnTo>
                <a:lnTo>
                  <a:pt x="305636" y="2350252"/>
                </a:lnTo>
                <a:lnTo>
                  <a:pt x="263958" y="2310162"/>
                </a:lnTo>
                <a:lnTo>
                  <a:pt x="225456" y="2267293"/>
                </a:lnTo>
                <a:lnTo>
                  <a:pt x="189336" y="2222836"/>
                </a:lnTo>
                <a:lnTo>
                  <a:pt x="156390" y="2176395"/>
                </a:lnTo>
                <a:lnTo>
                  <a:pt x="126621" y="2127175"/>
                </a:lnTo>
                <a:lnTo>
                  <a:pt x="99233" y="2076764"/>
                </a:lnTo>
                <a:lnTo>
                  <a:pt x="75417" y="2024368"/>
                </a:lnTo>
                <a:lnTo>
                  <a:pt x="54380" y="1969988"/>
                </a:lnTo>
                <a:lnTo>
                  <a:pt x="36915" y="1914418"/>
                </a:lnTo>
                <a:lnTo>
                  <a:pt x="35898" y="1910206"/>
                </a:lnTo>
                <a:lnTo>
                  <a:pt x="34491" y="1905604"/>
                </a:lnTo>
                <a:lnTo>
                  <a:pt x="25400" y="1867713"/>
                </a:lnTo>
                <a:lnTo>
                  <a:pt x="25602" y="1867549"/>
                </a:lnTo>
                <a:lnTo>
                  <a:pt x="23022" y="1856862"/>
                </a:lnTo>
                <a:lnTo>
                  <a:pt x="11908" y="1797719"/>
                </a:lnTo>
                <a:lnTo>
                  <a:pt x="4763" y="1737385"/>
                </a:lnTo>
                <a:lnTo>
                  <a:pt x="397" y="1675463"/>
                </a:lnTo>
                <a:lnTo>
                  <a:pt x="0" y="1612350"/>
                </a:lnTo>
                <a:lnTo>
                  <a:pt x="3176" y="1548047"/>
                </a:lnTo>
                <a:lnTo>
                  <a:pt x="9923" y="1482552"/>
                </a:lnTo>
                <a:lnTo>
                  <a:pt x="20641" y="1416264"/>
                </a:lnTo>
                <a:lnTo>
                  <a:pt x="34930" y="1349579"/>
                </a:lnTo>
                <a:lnTo>
                  <a:pt x="43662" y="1315443"/>
                </a:lnTo>
                <a:lnTo>
                  <a:pt x="52792" y="1280909"/>
                </a:lnTo>
                <a:lnTo>
                  <a:pt x="74623" y="1214224"/>
                </a:lnTo>
                <a:lnTo>
                  <a:pt x="99629" y="1147936"/>
                </a:lnTo>
                <a:lnTo>
                  <a:pt x="127415" y="1082442"/>
                </a:lnTo>
                <a:lnTo>
                  <a:pt x="158772" y="1018138"/>
                </a:lnTo>
                <a:lnTo>
                  <a:pt x="193305" y="955026"/>
                </a:lnTo>
                <a:lnTo>
                  <a:pt x="230616" y="893104"/>
                </a:lnTo>
                <a:lnTo>
                  <a:pt x="270706" y="832770"/>
                </a:lnTo>
                <a:lnTo>
                  <a:pt x="312780" y="773626"/>
                </a:lnTo>
                <a:lnTo>
                  <a:pt x="358030" y="716071"/>
                </a:lnTo>
                <a:lnTo>
                  <a:pt x="406059" y="660500"/>
                </a:lnTo>
                <a:lnTo>
                  <a:pt x="455278" y="606120"/>
                </a:lnTo>
                <a:lnTo>
                  <a:pt x="507673" y="553724"/>
                </a:lnTo>
                <a:lnTo>
                  <a:pt x="561655" y="503314"/>
                </a:lnTo>
                <a:lnTo>
                  <a:pt x="618019" y="454094"/>
                </a:lnTo>
                <a:lnTo>
                  <a:pt x="675971" y="407255"/>
                </a:lnTo>
                <a:lnTo>
                  <a:pt x="735510" y="363196"/>
                </a:lnTo>
                <a:lnTo>
                  <a:pt x="797431" y="320327"/>
                </a:lnTo>
                <a:lnTo>
                  <a:pt x="860146" y="280236"/>
                </a:lnTo>
                <a:lnTo>
                  <a:pt x="924448" y="242130"/>
                </a:lnTo>
                <a:lnTo>
                  <a:pt x="990339" y="206803"/>
                </a:lnTo>
                <a:lnTo>
                  <a:pt x="1057023" y="173858"/>
                </a:lnTo>
                <a:lnTo>
                  <a:pt x="1125692" y="143691"/>
                </a:lnTo>
                <a:lnTo>
                  <a:pt x="1194757" y="115905"/>
                </a:lnTo>
                <a:lnTo>
                  <a:pt x="1264617" y="90898"/>
                </a:lnTo>
                <a:lnTo>
                  <a:pt x="1334873" y="69067"/>
                </a:lnTo>
                <a:lnTo>
                  <a:pt x="1406717" y="49220"/>
                </a:lnTo>
                <a:lnTo>
                  <a:pt x="1478562" y="33343"/>
                </a:lnTo>
                <a:lnTo>
                  <a:pt x="1550406" y="19847"/>
                </a:lnTo>
                <a:lnTo>
                  <a:pt x="1623838" y="10320"/>
                </a:lnTo>
                <a:lnTo>
                  <a:pt x="1696079" y="3572"/>
                </a:lnTo>
                <a:lnTo>
                  <a:pt x="1769114"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68" name="Freeform 7"/>
          <p:cNvSpPr/>
          <p:nvPr/>
        </p:nvSpPr>
        <p:spPr>
          <a:xfrm>
            <a:off x="5321160" y="3233880"/>
            <a:ext cx="2121120" cy="1919160"/>
          </a:xfrm>
          <a:custGeom>
            <a:avLst/>
            <a:gdLst/>
            <a:ahLst/>
            <a:rect l="l" t="t" r="r" b="b"/>
            <a:pathLst>
              <a:path w="2524125" h="2284413">
                <a:moveTo>
                  <a:pt x="1536062" y="0"/>
                </a:moveTo>
                <a:lnTo>
                  <a:pt x="1568204" y="0"/>
                </a:lnTo>
                <a:lnTo>
                  <a:pt x="1599552" y="0"/>
                </a:lnTo>
                <a:lnTo>
                  <a:pt x="1661851" y="3175"/>
                </a:lnTo>
                <a:lnTo>
                  <a:pt x="1721770" y="8730"/>
                </a:lnTo>
                <a:lnTo>
                  <a:pt x="1780102" y="17460"/>
                </a:lnTo>
                <a:lnTo>
                  <a:pt x="1837243" y="28967"/>
                </a:lnTo>
                <a:lnTo>
                  <a:pt x="1891606" y="43252"/>
                </a:lnTo>
                <a:lnTo>
                  <a:pt x="1944382" y="59918"/>
                </a:lnTo>
                <a:lnTo>
                  <a:pt x="1995968" y="79361"/>
                </a:lnTo>
                <a:lnTo>
                  <a:pt x="2044776" y="100789"/>
                </a:lnTo>
                <a:lnTo>
                  <a:pt x="2091996" y="124597"/>
                </a:lnTo>
                <a:lnTo>
                  <a:pt x="2136836" y="151183"/>
                </a:lnTo>
                <a:lnTo>
                  <a:pt x="2179692" y="179753"/>
                </a:lnTo>
                <a:lnTo>
                  <a:pt x="2220167" y="210704"/>
                </a:lnTo>
                <a:lnTo>
                  <a:pt x="2258657" y="243242"/>
                </a:lnTo>
                <a:lnTo>
                  <a:pt x="2294767" y="278558"/>
                </a:lnTo>
                <a:lnTo>
                  <a:pt x="2328100" y="315461"/>
                </a:lnTo>
                <a:lnTo>
                  <a:pt x="2359448" y="353951"/>
                </a:lnTo>
                <a:lnTo>
                  <a:pt x="2368347" y="366682"/>
                </a:lnTo>
                <a:lnTo>
                  <a:pt x="2381927" y="384998"/>
                </a:lnTo>
                <a:lnTo>
                  <a:pt x="2412525" y="433477"/>
                </a:lnTo>
                <a:lnTo>
                  <a:pt x="2439548" y="483943"/>
                </a:lnTo>
                <a:lnTo>
                  <a:pt x="2462993" y="536793"/>
                </a:lnTo>
                <a:lnTo>
                  <a:pt x="2473325" y="564211"/>
                </a:lnTo>
                <a:lnTo>
                  <a:pt x="2472946" y="564489"/>
                </a:lnTo>
                <a:lnTo>
                  <a:pt x="2476508" y="573782"/>
                </a:lnTo>
                <a:lnTo>
                  <a:pt x="2491983" y="621795"/>
                </a:lnTo>
                <a:lnTo>
                  <a:pt x="2504284" y="671793"/>
                </a:lnTo>
                <a:lnTo>
                  <a:pt x="2513808" y="723378"/>
                </a:lnTo>
                <a:lnTo>
                  <a:pt x="2520157" y="775756"/>
                </a:lnTo>
                <a:lnTo>
                  <a:pt x="2523728" y="829325"/>
                </a:lnTo>
                <a:lnTo>
                  <a:pt x="2524125" y="884084"/>
                </a:lnTo>
                <a:lnTo>
                  <a:pt x="2521744" y="939637"/>
                </a:lnTo>
                <a:lnTo>
                  <a:pt x="2515395" y="996777"/>
                </a:lnTo>
                <a:lnTo>
                  <a:pt x="2506269" y="1054314"/>
                </a:lnTo>
                <a:lnTo>
                  <a:pt x="2493967" y="1112645"/>
                </a:lnTo>
                <a:lnTo>
                  <a:pt x="2486031" y="1142405"/>
                </a:lnTo>
                <a:lnTo>
                  <a:pt x="2478095" y="1171769"/>
                </a:lnTo>
                <a:lnTo>
                  <a:pt x="2459445" y="1229702"/>
                </a:lnTo>
                <a:lnTo>
                  <a:pt x="2437620" y="1287636"/>
                </a:lnTo>
                <a:lnTo>
                  <a:pt x="2413018" y="1344379"/>
                </a:lnTo>
                <a:lnTo>
                  <a:pt x="2386034" y="1399932"/>
                </a:lnTo>
                <a:lnTo>
                  <a:pt x="2355877" y="1455088"/>
                </a:lnTo>
                <a:lnTo>
                  <a:pt x="2324132" y="1508657"/>
                </a:lnTo>
                <a:lnTo>
                  <a:pt x="2289212" y="1561036"/>
                </a:lnTo>
                <a:lnTo>
                  <a:pt x="2252308" y="1612620"/>
                </a:lnTo>
                <a:lnTo>
                  <a:pt x="2213024" y="1662221"/>
                </a:lnTo>
                <a:lnTo>
                  <a:pt x="2171756" y="1710631"/>
                </a:lnTo>
                <a:lnTo>
                  <a:pt x="2128503" y="1758248"/>
                </a:lnTo>
                <a:lnTo>
                  <a:pt x="2060251" y="1826102"/>
                </a:lnTo>
                <a:lnTo>
                  <a:pt x="1962635" y="1910225"/>
                </a:lnTo>
                <a:lnTo>
                  <a:pt x="1858670" y="1987999"/>
                </a:lnTo>
                <a:lnTo>
                  <a:pt x="1749547" y="2057837"/>
                </a:lnTo>
                <a:lnTo>
                  <a:pt x="1664232" y="2104660"/>
                </a:lnTo>
                <a:lnTo>
                  <a:pt x="1606298" y="2132833"/>
                </a:lnTo>
                <a:lnTo>
                  <a:pt x="1547173" y="2159816"/>
                </a:lnTo>
                <a:lnTo>
                  <a:pt x="1486857" y="2183228"/>
                </a:lnTo>
                <a:lnTo>
                  <a:pt x="1426145" y="2205449"/>
                </a:lnTo>
                <a:lnTo>
                  <a:pt x="1365036" y="2224495"/>
                </a:lnTo>
                <a:lnTo>
                  <a:pt x="1302736" y="2241161"/>
                </a:lnTo>
                <a:lnTo>
                  <a:pt x="1240436" y="2255446"/>
                </a:lnTo>
                <a:lnTo>
                  <a:pt x="1177740" y="2266557"/>
                </a:lnTo>
                <a:lnTo>
                  <a:pt x="1114647" y="2275287"/>
                </a:lnTo>
                <a:lnTo>
                  <a:pt x="1051157" y="2281239"/>
                </a:lnTo>
                <a:lnTo>
                  <a:pt x="988064" y="2284413"/>
                </a:lnTo>
                <a:lnTo>
                  <a:pt x="955922" y="2284413"/>
                </a:lnTo>
                <a:lnTo>
                  <a:pt x="924574" y="2284413"/>
                </a:lnTo>
                <a:lnTo>
                  <a:pt x="862274" y="2281239"/>
                </a:lnTo>
                <a:lnTo>
                  <a:pt x="802355" y="2275287"/>
                </a:lnTo>
                <a:lnTo>
                  <a:pt x="744024" y="2266557"/>
                </a:lnTo>
                <a:lnTo>
                  <a:pt x="686883" y="2255446"/>
                </a:lnTo>
                <a:lnTo>
                  <a:pt x="632520" y="2241161"/>
                </a:lnTo>
                <a:lnTo>
                  <a:pt x="579743" y="2224495"/>
                </a:lnTo>
                <a:lnTo>
                  <a:pt x="528158" y="2205449"/>
                </a:lnTo>
                <a:lnTo>
                  <a:pt x="479350" y="2183228"/>
                </a:lnTo>
                <a:lnTo>
                  <a:pt x="432129" y="2159816"/>
                </a:lnTo>
                <a:lnTo>
                  <a:pt x="387289" y="2132833"/>
                </a:lnTo>
                <a:lnTo>
                  <a:pt x="344434" y="2104660"/>
                </a:lnTo>
                <a:lnTo>
                  <a:pt x="303959" y="2073709"/>
                </a:lnTo>
                <a:lnTo>
                  <a:pt x="265468" y="2040774"/>
                </a:lnTo>
                <a:lnTo>
                  <a:pt x="229358" y="2005855"/>
                </a:lnTo>
                <a:lnTo>
                  <a:pt x="196026" y="1968952"/>
                </a:lnTo>
                <a:lnTo>
                  <a:pt x="164677" y="1930462"/>
                </a:lnTo>
                <a:lnTo>
                  <a:pt x="136107" y="1889591"/>
                </a:lnTo>
                <a:lnTo>
                  <a:pt x="109917" y="1847530"/>
                </a:lnTo>
                <a:lnTo>
                  <a:pt x="86505" y="1803484"/>
                </a:lnTo>
                <a:lnTo>
                  <a:pt x="65871" y="1758248"/>
                </a:lnTo>
                <a:lnTo>
                  <a:pt x="47618" y="1710631"/>
                </a:lnTo>
                <a:lnTo>
                  <a:pt x="32142" y="1662221"/>
                </a:lnTo>
                <a:lnTo>
                  <a:pt x="19841" y="1612620"/>
                </a:lnTo>
                <a:lnTo>
                  <a:pt x="10317" y="1561036"/>
                </a:lnTo>
                <a:lnTo>
                  <a:pt x="3968" y="1508657"/>
                </a:lnTo>
                <a:lnTo>
                  <a:pt x="397" y="1455088"/>
                </a:lnTo>
                <a:lnTo>
                  <a:pt x="0" y="1399932"/>
                </a:lnTo>
                <a:lnTo>
                  <a:pt x="2381" y="1344379"/>
                </a:lnTo>
                <a:lnTo>
                  <a:pt x="8730" y="1287636"/>
                </a:lnTo>
                <a:lnTo>
                  <a:pt x="17857" y="1229702"/>
                </a:lnTo>
                <a:lnTo>
                  <a:pt x="30158" y="1171769"/>
                </a:lnTo>
                <a:lnTo>
                  <a:pt x="38094" y="1142405"/>
                </a:lnTo>
                <a:lnTo>
                  <a:pt x="46031" y="1112645"/>
                </a:lnTo>
                <a:lnTo>
                  <a:pt x="64681" y="1054314"/>
                </a:lnTo>
                <a:lnTo>
                  <a:pt x="86505" y="996777"/>
                </a:lnTo>
                <a:lnTo>
                  <a:pt x="111108" y="939637"/>
                </a:lnTo>
                <a:lnTo>
                  <a:pt x="138091" y="884084"/>
                </a:lnTo>
                <a:lnTo>
                  <a:pt x="168249" y="829325"/>
                </a:lnTo>
                <a:lnTo>
                  <a:pt x="199994" y="775756"/>
                </a:lnTo>
                <a:lnTo>
                  <a:pt x="234913" y="723378"/>
                </a:lnTo>
                <a:lnTo>
                  <a:pt x="271817" y="671793"/>
                </a:lnTo>
                <a:lnTo>
                  <a:pt x="311101" y="621795"/>
                </a:lnTo>
                <a:lnTo>
                  <a:pt x="352370" y="573782"/>
                </a:lnTo>
                <a:lnTo>
                  <a:pt x="395622" y="526165"/>
                </a:lnTo>
                <a:lnTo>
                  <a:pt x="463874" y="458311"/>
                </a:lnTo>
                <a:lnTo>
                  <a:pt x="561490" y="374188"/>
                </a:lnTo>
                <a:lnTo>
                  <a:pt x="665455" y="296414"/>
                </a:lnTo>
                <a:lnTo>
                  <a:pt x="774578" y="226576"/>
                </a:lnTo>
                <a:lnTo>
                  <a:pt x="859893" y="179753"/>
                </a:lnTo>
                <a:lnTo>
                  <a:pt x="917828" y="151183"/>
                </a:lnTo>
                <a:lnTo>
                  <a:pt x="976953" y="124597"/>
                </a:lnTo>
                <a:lnTo>
                  <a:pt x="1037268" y="100789"/>
                </a:lnTo>
                <a:lnTo>
                  <a:pt x="1097981" y="79361"/>
                </a:lnTo>
                <a:lnTo>
                  <a:pt x="1159090" y="59918"/>
                </a:lnTo>
                <a:lnTo>
                  <a:pt x="1221389" y="43252"/>
                </a:lnTo>
                <a:lnTo>
                  <a:pt x="1283689" y="28967"/>
                </a:lnTo>
                <a:lnTo>
                  <a:pt x="1346385" y="17460"/>
                </a:lnTo>
                <a:lnTo>
                  <a:pt x="1409875" y="8730"/>
                </a:lnTo>
                <a:lnTo>
                  <a:pt x="1472969" y="3175"/>
                </a:lnTo>
                <a:lnTo>
                  <a:pt x="1536062" y="0"/>
                </a:lnTo>
                <a:close/>
              </a:path>
            </a:pathLst>
          </a:custGeom>
          <a:solidFill>
            <a:srgbClr val="434e61"/>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69" name="Freeform 8"/>
          <p:cNvSpPr/>
          <p:nvPr/>
        </p:nvSpPr>
        <p:spPr>
          <a:xfrm>
            <a:off x="5541840" y="3429000"/>
            <a:ext cx="1679760" cy="1527120"/>
          </a:xfrm>
          <a:custGeom>
            <a:avLst/>
            <a:gdLst/>
            <a:ahLst/>
            <a:rect l="l" t="t" r="r" b="b"/>
            <a:pathLst>
              <a:path w="2000250" h="1817688">
                <a:moveTo>
                  <a:pt x="1244053" y="0"/>
                </a:moveTo>
                <a:lnTo>
                  <a:pt x="1293276" y="794"/>
                </a:lnTo>
                <a:lnTo>
                  <a:pt x="1388941" y="9920"/>
                </a:lnTo>
                <a:lnTo>
                  <a:pt x="1478653" y="28172"/>
                </a:lnTo>
                <a:lnTo>
                  <a:pt x="1562410" y="54757"/>
                </a:lnTo>
                <a:lnTo>
                  <a:pt x="1621556" y="80151"/>
                </a:lnTo>
                <a:lnTo>
                  <a:pt x="1658870" y="99594"/>
                </a:lnTo>
                <a:lnTo>
                  <a:pt x="1694199" y="120227"/>
                </a:lnTo>
                <a:lnTo>
                  <a:pt x="1728337" y="143241"/>
                </a:lnTo>
                <a:lnTo>
                  <a:pt x="1760490" y="167445"/>
                </a:lnTo>
                <a:lnTo>
                  <a:pt x="1791056" y="193633"/>
                </a:lnTo>
                <a:lnTo>
                  <a:pt x="1819239" y="221408"/>
                </a:lnTo>
                <a:lnTo>
                  <a:pt x="1845835" y="250770"/>
                </a:lnTo>
                <a:lnTo>
                  <a:pt x="1870049" y="281720"/>
                </a:lnTo>
                <a:lnTo>
                  <a:pt x="1892676" y="313860"/>
                </a:lnTo>
                <a:lnTo>
                  <a:pt x="1913714" y="347587"/>
                </a:lnTo>
                <a:lnTo>
                  <a:pt x="1932371" y="382504"/>
                </a:lnTo>
                <a:lnTo>
                  <a:pt x="1949043" y="419009"/>
                </a:lnTo>
                <a:lnTo>
                  <a:pt x="1962937" y="456704"/>
                </a:lnTo>
                <a:lnTo>
                  <a:pt x="1975242" y="495192"/>
                </a:lnTo>
                <a:lnTo>
                  <a:pt x="1984769" y="534871"/>
                </a:lnTo>
                <a:lnTo>
                  <a:pt x="1991914" y="575343"/>
                </a:lnTo>
                <a:lnTo>
                  <a:pt x="1997075" y="617403"/>
                </a:lnTo>
                <a:lnTo>
                  <a:pt x="1999853" y="660256"/>
                </a:lnTo>
                <a:lnTo>
                  <a:pt x="2000250" y="703506"/>
                </a:lnTo>
                <a:lnTo>
                  <a:pt x="1998265" y="747946"/>
                </a:lnTo>
                <a:lnTo>
                  <a:pt x="1993105" y="792784"/>
                </a:lnTo>
                <a:lnTo>
                  <a:pt x="1985960" y="839208"/>
                </a:lnTo>
                <a:lnTo>
                  <a:pt x="1976036" y="885235"/>
                </a:lnTo>
                <a:lnTo>
                  <a:pt x="1970082" y="909043"/>
                </a:lnTo>
                <a:lnTo>
                  <a:pt x="1956585" y="955864"/>
                </a:lnTo>
                <a:lnTo>
                  <a:pt x="1922050" y="1047522"/>
                </a:lnTo>
                <a:lnTo>
                  <a:pt x="1878782" y="1136006"/>
                </a:lnTo>
                <a:lnTo>
                  <a:pt x="1827972" y="1221315"/>
                </a:lnTo>
                <a:lnTo>
                  <a:pt x="1768826" y="1303054"/>
                </a:lnTo>
                <a:lnTo>
                  <a:pt x="1703329" y="1380031"/>
                </a:lnTo>
                <a:lnTo>
                  <a:pt x="1631877" y="1452643"/>
                </a:lnTo>
                <a:lnTo>
                  <a:pt x="1554074" y="1520097"/>
                </a:lnTo>
                <a:lnTo>
                  <a:pt x="1471905" y="1581599"/>
                </a:lnTo>
                <a:lnTo>
                  <a:pt x="1385369" y="1637149"/>
                </a:lnTo>
                <a:lnTo>
                  <a:pt x="1294863" y="1686351"/>
                </a:lnTo>
                <a:lnTo>
                  <a:pt x="1201182" y="1728411"/>
                </a:lnTo>
                <a:lnTo>
                  <a:pt x="1105119" y="1762931"/>
                </a:lnTo>
                <a:lnTo>
                  <a:pt x="1006675" y="1789516"/>
                </a:lnTo>
                <a:lnTo>
                  <a:pt x="907040" y="1807372"/>
                </a:lnTo>
                <a:lnTo>
                  <a:pt x="806610" y="1816895"/>
                </a:lnTo>
                <a:lnTo>
                  <a:pt x="756197" y="1817688"/>
                </a:lnTo>
                <a:lnTo>
                  <a:pt x="706975" y="1816895"/>
                </a:lnTo>
                <a:lnTo>
                  <a:pt x="611309" y="1807372"/>
                </a:lnTo>
                <a:lnTo>
                  <a:pt x="521597" y="1789516"/>
                </a:lnTo>
                <a:lnTo>
                  <a:pt x="437840" y="1762931"/>
                </a:lnTo>
                <a:lnTo>
                  <a:pt x="378694" y="1737537"/>
                </a:lnTo>
                <a:lnTo>
                  <a:pt x="341380" y="1718094"/>
                </a:lnTo>
                <a:lnTo>
                  <a:pt x="306052" y="1697461"/>
                </a:lnTo>
                <a:lnTo>
                  <a:pt x="271914" y="1674448"/>
                </a:lnTo>
                <a:lnTo>
                  <a:pt x="239760" y="1650243"/>
                </a:lnTo>
                <a:lnTo>
                  <a:pt x="209195" y="1624055"/>
                </a:lnTo>
                <a:lnTo>
                  <a:pt x="181011" y="1596280"/>
                </a:lnTo>
                <a:lnTo>
                  <a:pt x="154415" y="1566918"/>
                </a:lnTo>
                <a:lnTo>
                  <a:pt x="130201" y="1535968"/>
                </a:lnTo>
                <a:lnTo>
                  <a:pt x="107575" y="1503432"/>
                </a:lnTo>
                <a:lnTo>
                  <a:pt x="86536" y="1470101"/>
                </a:lnTo>
                <a:lnTo>
                  <a:pt x="67879" y="1435184"/>
                </a:lnTo>
                <a:lnTo>
                  <a:pt x="51207" y="1398680"/>
                </a:lnTo>
                <a:lnTo>
                  <a:pt x="37314" y="1360985"/>
                </a:lnTo>
                <a:lnTo>
                  <a:pt x="25008" y="1322496"/>
                </a:lnTo>
                <a:lnTo>
                  <a:pt x="15481" y="1282817"/>
                </a:lnTo>
                <a:lnTo>
                  <a:pt x="10545" y="1254858"/>
                </a:lnTo>
                <a:lnTo>
                  <a:pt x="7167" y="1237457"/>
                </a:lnTo>
                <a:lnTo>
                  <a:pt x="4376" y="1210070"/>
                </a:lnTo>
                <a:lnTo>
                  <a:pt x="3176" y="1200285"/>
                </a:lnTo>
                <a:lnTo>
                  <a:pt x="2820" y="1194791"/>
                </a:lnTo>
                <a:lnTo>
                  <a:pt x="1991" y="1186657"/>
                </a:lnTo>
                <a:lnTo>
                  <a:pt x="1556" y="1175307"/>
                </a:lnTo>
                <a:lnTo>
                  <a:pt x="397" y="1157432"/>
                </a:lnTo>
                <a:lnTo>
                  <a:pt x="248" y="1141126"/>
                </a:lnTo>
                <a:lnTo>
                  <a:pt x="0" y="1134666"/>
                </a:lnTo>
                <a:lnTo>
                  <a:pt x="144" y="1129833"/>
                </a:lnTo>
                <a:lnTo>
                  <a:pt x="0" y="1114182"/>
                </a:lnTo>
                <a:lnTo>
                  <a:pt x="1985" y="1069345"/>
                </a:lnTo>
                <a:lnTo>
                  <a:pt x="3218" y="1058727"/>
                </a:lnTo>
                <a:lnTo>
                  <a:pt x="3583" y="1053703"/>
                </a:lnTo>
                <a:lnTo>
                  <a:pt x="3822" y="1053529"/>
                </a:lnTo>
                <a:lnTo>
                  <a:pt x="7145" y="1024905"/>
                </a:lnTo>
                <a:lnTo>
                  <a:pt x="14291" y="978877"/>
                </a:lnTo>
                <a:lnTo>
                  <a:pt x="24214" y="932056"/>
                </a:lnTo>
                <a:lnTo>
                  <a:pt x="30169" y="909043"/>
                </a:lnTo>
                <a:lnTo>
                  <a:pt x="43665" y="861825"/>
                </a:lnTo>
                <a:lnTo>
                  <a:pt x="78200" y="770167"/>
                </a:lnTo>
                <a:lnTo>
                  <a:pt x="121468" y="681683"/>
                </a:lnTo>
                <a:lnTo>
                  <a:pt x="172278" y="596373"/>
                </a:lnTo>
                <a:lnTo>
                  <a:pt x="231424" y="514635"/>
                </a:lnTo>
                <a:lnTo>
                  <a:pt x="296922" y="437658"/>
                </a:lnTo>
                <a:lnTo>
                  <a:pt x="368373" y="365046"/>
                </a:lnTo>
                <a:lnTo>
                  <a:pt x="446176" y="297591"/>
                </a:lnTo>
                <a:lnTo>
                  <a:pt x="528346" y="235692"/>
                </a:lnTo>
                <a:lnTo>
                  <a:pt x="614882" y="180142"/>
                </a:lnTo>
                <a:lnTo>
                  <a:pt x="705387" y="131337"/>
                </a:lnTo>
                <a:lnTo>
                  <a:pt x="799068" y="89278"/>
                </a:lnTo>
                <a:lnTo>
                  <a:pt x="895131" y="54757"/>
                </a:lnTo>
                <a:lnTo>
                  <a:pt x="993575" y="28172"/>
                </a:lnTo>
                <a:lnTo>
                  <a:pt x="1093211" y="9920"/>
                </a:lnTo>
                <a:lnTo>
                  <a:pt x="1193640" y="794"/>
                </a:lnTo>
                <a:lnTo>
                  <a:pt x="1244053"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0" name="Freeform 9"/>
          <p:cNvSpPr/>
          <p:nvPr/>
        </p:nvSpPr>
        <p:spPr>
          <a:xfrm>
            <a:off x="5722920" y="3589200"/>
            <a:ext cx="1317600" cy="1206720"/>
          </a:xfrm>
          <a:custGeom>
            <a:avLst/>
            <a:gdLst/>
            <a:ahLst/>
            <a:rect l="l" t="t" r="r" b="b"/>
            <a:pathLst>
              <a:path w="1568450" h="1436688">
                <a:moveTo>
                  <a:pt x="976463" y="0"/>
                </a:moveTo>
                <a:lnTo>
                  <a:pt x="1015743" y="397"/>
                </a:lnTo>
                <a:lnTo>
                  <a:pt x="1090337" y="7547"/>
                </a:lnTo>
                <a:lnTo>
                  <a:pt x="1160566" y="21846"/>
                </a:lnTo>
                <a:lnTo>
                  <a:pt x="1226430" y="43295"/>
                </a:lnTo>
                <a:lnTo>
                  <a:pt x="1287137" y="70305"/>
                </a:lnTo>
                <a:lnTo>
                  <a:pt x="1343082" y="104068"/>
                </a:lnTo>
                <a:lnTo>
                  <a:pt x="1393076" y="142596"/>
                </a:lnTo>
                <a:lnTo>
                  <a:pt x="1437911" y="186289"/>
                </a:lnTo>
                <a:lnTo>
                  <a:pt x="1476398" y="235145"/>
                </a:lnTo>
                <a:lnTo>
                  <a:pt x="1508934" y="288370"/>
                </a:lnTo>
                <a:lnTo>
                  <a:pt x="1511141" y="293455"/>
                </a:lnTo>
                <a:lnTo>
                  <a:pt x="1521174" y="313174"/>
                </a:lnTo>
                <a:lnTo>
                  <a:pt x="1540259" y="361282"/>
                </a:lnTo>
                <a:lnTo>
                  <a:pt x="1547813" y="385932"/>
                </a:lnTo>
                <a:lnTo>
                  <a:pt x="1546688" y="386674"/>
                </a:lnTo>
                <a:lnTo>
                  <a:pt x="1552976" y="406737"/>
                </a:lnTo>
                <a:lnTo>
                  <a:pt x="1564482" y="471084"/>
                </a:lnTo>
                <a:lnTo>
                  <a:pt x="1568450" y="539006"/>
                </a:lnTo>
                <a:lnTo>
                  <a:pt x="1565276" y="608914"/>
                </a:lnTo>
                <a:lnTo>
                  <a:pt x="1553770" y="681603"/>
                </a:lnTo>
                <a:lnTo>
                  <a:pt x="1544247" y="718543"/>
                </a:lnTo>
                <a:lnTo>
                  <a:pt x="1533534" y="755086"/>
                </a:lnTo>
                <a:lnTo>
                  <a:pt x="1506950" y="827774"/>
                </a:lnTo>
                <a:lnTo>
                  <a:pt x="1472431" y="898079"/>
                </a:lnTo>
                <a:lnTo>
                  <a:pt x="1462956" y="914044"/>
                </a:lnTo>
                <a:lnTo>
                  <a:pt x="1463676" y="915988"/>
                </a:lnTo>
                <a:lnTo>
                  <a:pt x="1448966" y="941388"/>
                </a:lnTo>
                <a:lnTo>
                  <a:pt x="1415966" y="991394"/>
                </a:lnTo>
                <a:lnTo>
                  <a:pt x="1379389" y="1039813"/>
                </a:lnTo>
                <a:lnTo>
                  <a:pt x="1340028" y="1086247"/>
                </a:lnTo>
                <a:lnTo>
                  <a:pt x="1319354" y="1108076"/>
                </a:lnTo>
                <a:lnTo>
                  <a:pt x="1317498" y="1108076"/>
                </a:lnTo>
                <a:lnTo>
                  <a:pt x="1278408" y="1148318"/>
                </a:lnTo>
                <a:lnTo>
                  <a:pt x="1217701" y="1201543"/>
                </a:lnTo>
                <a:lnTo>
                  <a:pt x="1153027" y="1250399"/>
                </a:lnTo>
                <a:lnTo>
                  <a:pt x="1085179" y="1294092"/>
                </a:lnTo>
                <a:lnTo>
                  <a:pt x="1014156" y="1332621"/>
                </a:lnTo>
                <a:lnTo>
                  <a:pt x="940753" y="1366383"/>
                </a:lnTo>
                <a:lnTo>
                  <a:pt x="864969" y="1393393"/>
                </a:lnTo>
                <a:lnTo>
                  <a:pt x="787995" y="1414445"/>
                </a:lnTo>
                <a:lnTo>
                  <a:pt x="709830" y="1429141"/>
                </a:lnTo>
                <a:lnTo>
                  <a:pt x="631665" y="1436291"/>
                </a:lnTo>
                <a:lnTo>
                  <a:pt x="591988" y="1436688"/>
                </a:lnTo>
                <a:lnTo>
                  <a:pt x="552707" y="1436291"/>
                </a:lnTo>
                <a:lnTo>
                  <a:pt x="478114" y="1429141"/>
                </a:lnTo>
                <a:lnTo>
                  <a:pt x="407885" y="1414445"/>
                </a:lnTo>
                <a:lnTo>
                  <a:pt x="342020" y="1393393"/>
                </a:lnTo>
                <a:lnTo>
                  <a:pt x="281313" y="1366383"/>
                </a:lnTo>
                <a:lnTo>
                  <a:pt x="225368" y="1332621"/>
                </a:lnTo>
                <a:lnTo>
                  <a:pt x="175375" y="1294092"/>
                </a:lnTo>
                <a:lnTo>
                  <a:pt x="130539" y="1250399"/>
                </a:lnTo>
                <a:lnTo>
                  <a:pt x="92052" y="1201543"/>
                </a:lnTo>
                <a:lnTo>
                  <a:pt x="59516" y="1148318"/>
                </a:lnTo>
                <a:lnTo>
                  <a:pt x="34520" y="1090723"/>
                </a:lnTo>
                <a:lnTo>
                  <a:pt x="15474" y="1029951"/>
                </a:lnTo>
                <a:lnTo>
                  <a:pt x="7235" y="983877"/>
                </a:lnTo>
                <a:lnTo>
                  <a:pt x="6726" y="984250"/>
                </a:lnTo>
                <a:lnTo>
                  <a:pt x="4727" y="969847"/>
                </a:lnTo>
                <a:lnTo>
                  <a:pt x="3968" y="965604"/>
                </a:lnTo>
                <a:lnTo>
                  <a:pt x="3843" y="963483"/>
                </a:lnTo>
                <a:lnTo>
                  <a:pt x="2374" y="952897"/>
                </a:lnTo>
                <a:lnTo>
                  <a:pt x="941" y="914097"/>
                </a:lnTo>
                <a:lnTo>
                  <a:pt x="0" y="898079"/>
                </a:lnTo>
                <a:lnTo>
                  <a:pt x="193" y="893816"/>
                </a:lnTo>
                <a:lnTo>
                  <a:pt x="0" y="888603"/>
                </a:lnTo>
                <a:lnTo>
                  <a:pt x="1789" y="858447"/>
                </a:lnTo>
                <a:lnTo>
                  <a:pt x="3174" y="827774"/>
                </a:lnTo>
                <a:lnTo>
                  <a:pt x="3857" y="823607"/>
                </a:lnTo>
                <a:lnTo>
                  <a:pt x="3956" y="821928"/>
                </a:lnTo>
                <a:lnTo>
                  <a:pt x="12710" y="769543"/>
                </a:lnTo>
                <a:lnTo>
                  <a:pt x="15078" y="755086"/>
                </a:lnTo>
                <a:lnTo>
                  <a:pt x="15224" y="754500"/>
                </a:lnTo>
                <a:lnTo>
                  <a:pt x="15430" y="753269"/>
                </a:lnTo>
                <a:lnTo>
                  <a:pt x="24133" y="718344"/>
                </a:lnTo>
                <a:lnTo>
                  <a:pt x="29276" y="700485"/>
                </a:lnTo>
                <a:lnTo>
                  <a:pt x="34419" y="682228"/>
                </a:lnTo>
                <a:lnTo>
                  <a:pt x="34818" y="681942"/>
                </a:lnTo>
                <a:lnTo>
                  <a:pt x="34916" y="681603"/>
                </a:lnTo>
                <a:lnTo>
                  <a:pt x="61500" y="608914"/>
                </a:lnTo>
                <a:lnTo>
                  <a:pt x="96020" y="539006"/>
                </a:lnTo>
                <a:lnTo>
                  <a:pt x="136094" y="471084"/>
                </a:lnTo>
                <a:lnTo>
                  <a:pt x="182120" y="406737"/>
                </a:lnTo>
                <a:lnTo>
                  <a:pt x="234097" y="345965"/>
                </a:lnTo>
                <a:lnTo>
                  <a:pt x="290042" y="288370"/>
                </a:lnTo>
                <a:lnTo>
                  <a:pt x="350749" y="235145"/>
                </a:lnTo>
                <a:lnTo>
                  <a:pt x="415423" y="186289"/>
                </a:lnTo>
                <a:lnTo>
                  <a:pt x="483272" y="142596"/>
                </a:lnTo>
                <a:lnTo>
                  <a:pt x="554294" y="104068"/>
                </a:lnTo>
                <a:lnTo>
                  <a:pt x="627698" y="70305"/>
                </a:lnTo>
                <a:lnTo>
                  <a:pt x="703482" y="43295"/>
                </a:lnTo>
                <a:lnTo>
                  <a:pt x="780456" y="21846"/>
                </a:lnTo>
                <a:lnTo>
                  <a:pt x="858620" y="7547"/>
                </a:lnTo>
                <a:lnTo>
                  <a:pt x="936785" y="397"/>
                </a:lnTo>
                <a:lnTo>
                  <a:pt x="976463" y="0"/>
                </a:lnTo>
                <a:close/>
              </a:path>
            </a:pathLst>
          </a:custGeom>
          <a:solidFill>
            <a:srgbClr val="434e61"/>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1" name="Freeform 10"/>
          <p:cNvSpPr/>
          <p:nvPr/>
        </p:nvSpPr>
        <p:spPr>
          <a:xfrm>
            <a:off x="5900760" y="3746520"/>
            <a:ext cx="961920" cy="892080"/>
          </a:xfrm>
          <a:custGeom>
            <a:avLst/>
            <a:gdLst/>
            <a:ahLst/>
            <a:rect l="l" t="t" r="r" b="b"/>
            <a:pathLst>
              <a:path w="1146175" h="1062038">
                <a:moveTo>
                  <a:pt x="715616" y="0"/>
                </a:moveTo>
                <a:lnTo>
                  <a:pt x="743765" y="397"/>
                </a:lnTo>
                <a:lnTo>
                  <a:pt x="798081" y="6348"/>
                </a:lnTo>
                <a:lnTo>
                  <a:pt x="849621" y="16663"/>
                </a:lnTo>
                <a:lnTo>
                  <a:pt x="897196" y="32532"/>
                </a:lnTo>
                <a:lnTo>
                  <a:pt x="941997" y="52368"/>
                </a:lnTo>
                <a:lnTo>
                  <a:pt x="982832" y="76568"/>
                </a:lnTo>
                <a:lnTo>
                  <a:pt x="1019307" y="105529"/>
                </a:lnTo>
                <a:lnTo>
                  <a:pt x="1051420" y="138061"/>
                </a:lnTo>
                <a:lnTo>
                  <a:pt x="1079966" y="173767"/>
                </a:lnTo>
                <a:lnTo>
                  <a:pt x="1102961" y="213439"/>
                </a:lnTo>
                <a:lnTo>
                  <a:pt x="1118980" y="250377"/>
                </a:lnTo>
                <a:lnTo>
                  <a:pt x="1120378" y="249238"/>
                </a:lnTo>
                <a:lnTo>
                  <a:pt x="1127125" y="267891"/>
                </a:lnTo>
                <a:lnTo>
                  <a:pt x="1137840" y="307181"/>
                </a:lnTo>
                <a:lnTo>
                  <a:pt x="1141412" y="327422"/>
                </a:lnTo>
                <a:lnTo>
                  <a:pt x="1139914" y="328393"/>
                </a:lnTo>
                <a:lnTo>
                  <a:pt x="1143400" y="348326"/>
                </a:lnTo>
                <a:lnTo>
                  <a:pt x="1146175" y="397917"/>
                </a:lnTo>
                <a:lnTo>
                  <a:pt x="1143400" y="449888"/>
                </a:lnTo>
                <a:lnTo>
                  <a:pt x="1134678" y="503447"/>
                </a:lnTo>
                <a:lnTo>
                  <a:pt x="1127938" y="531218"/>
                </a:lnTo>
                <a:lnTo>
                  <a:pt x="1120009" y="558592"/>
                </a:lnTo>
                <a:lnTo>
                  <a:pt x="1119126" y="560929"/>
                </a:lnTo>
                <a:lnTo>
                  <a:pt x="1120378" y="561975"/>
                </a:lnTo>
                <a:lnTo>
                  <a:pt x="1110059" y="590947"/>
                </a:lnTo>
                <a:lnTo>
                  <a:pt x="1085056" y="647700"/>
                </a:lnTo>
                <a:lnTo>
                  <a:pt x="1054497" y="702072"/>
                </a:lnTo>
                <a:lnTo>
                  <a:pt x="1018381" y="754063"/>
                </a:lnTo>
                <a:lnTo>
                  <a:pt x="978297" y="803672"/>
                </a:lnTo>
                <a:lnTo>
                  <a:pt x="933847" y="849313"/>
                </a:lnTo>
                <a:lnTo>
                  <a:pt x="885825" y="891382"/>
                </a:lnTo>
                <a:lnTo>
                  <a:pt x="833834" y="930276"/>
                </a:lnTo>
                <a:lnTo>
                  <a:pt x="807243" y="947738"/>
                </a:lnTo>
                <a:lnTo>
                  <a:pt x="806257" y="946717"/>
                </a:lnTo>
                <a:lnTo>
                  <a:pt x="791341" y="956509"/>
                </a:lnTo>
                <a:lnTo>
                  <a:pt x="739008" y="985470"/>
                </a:lnTo>
                <a:lnTo>
                  <a:pt x="685485" y="1009273"/>
                </a:lnTo>
                <a:lnTo>
                  <a:pt x="630773" y="1029507"/>
                </a:lnTo>
                <a:lnTo>
                  <a:pt x="574079" y="1045376"/>
                </a:lnTo>
                <a:lnTo>
                  <a:pt x="516988" y="1055691"/>
                </a:lnTo>
                <a:lnTo>
                  <a:pt x="459501" y="1061245"/>
                </a:lnTo>
                <a:lnTo>
                  <a:pt x="430559" y="1062038"/>
                </a:lnTo>
                <a:lnTo>
                  <a:pt x="402410" y="1061245"/>
                </a:lnTo>
                <a:lnTo>
                  <a:pt x="348095" y="1055691"/>
                </a:lnTo>
                <a:lnTo>
                  <a:pt x="296555" y="1045376"/>
                </a:lnTo>
                <a:lnTo>
                  <a:pt x="248979" y="1029507"/>
                </a:lnTo>
                <a:lnTo>
                  <a:pt x="204179" y="1009273"/>
                </a:lnTo>
                <a:lnTo>
                  <a:pt x="163740" y="985470"/>
                </a:lnTo>
                <a:lnTo>
                  <a:pt x="126868" y="956509"/>
                </a:lnTo>
                <a:lnTo>
                  <a:pt x="94755" y="923977"/>
                </a:lnTo>
                <a:lnTo>
                  <a:pt x="67003" y="888272"/>
                </a:lnTo>
                <a:lnTo>
                  <a:pt x="43215" y="848599"/>
                </a:lnTo>
                <a:lnTo>
                  <a:pt x="24977" y="806546"/>
                </a:lnTo>
                <a:lnTo>
                  <a:pt x="11498" y="760922"/>
                </a:lnTo>
                <a:lnTo>
                  <a:pt x="2775" y="713712"/>
                </a:lnTo>
                <a:lnTo>
                  <a:pt x="0" y="664121"/>
                </a:lnTo>
                <a:lnTo>
                  <a:pt x="912" y="647039"/>
                </a:lnTo>
                <a:lnTo>
                  <a:pt x="0" y="647700"/>
                </a:lnTo>
                <a:lnTo>
                  <a:pt x="812" y="627558"/>
                </a:lnTo>
                <a:lnTo>
                  <a:pt x="5680" y="587274"/>
                </a:lnTo>
                <a:lnTo>
                  <a:pt x="9331" y="566737"/>
                </a:lnTo>
                <a:lnTo>
                  <a:pt x="10016" y="567689"/>
                </a:lnTo>
                <a:lnTo>
                  <a:pt x="11498" y="558592"/>
                </a:lnTo>
                <a:lnTo>
                  <a:pt x="18238" y="531218"/>
                </a:lnTo>
                <a:lnTo>
                  <a:pt x="26167" y="503447"/>
                </a:lnTo>
                <a:lnTo>
                  <a:pt x="26989" y="501269"/>
                </a:lnTo>
                <a:lnTo>
                  <a:pt x="32192" y="484421"/>
                </a:lnTo>
                <a:lnTo>
                  <a:pt x="40581" y="463628"/>
                </a:lnTo>
                <a:lnTo>
                  <a:pt x="41399" y="463098"/>
                </a:lnTo>
                <a:lnTo>
                  <a:pt x="46386" y="449888"/>
                </a:lnTo>
                <a:lnTo>
                  <a:pt x="70967" y="397917"/>
                </a:lnTo>
                <a:lnTo>
                  <a:pt x="100702" y="348326"/>
                </a:lnTo>
                <a:lnTo>
                  <a:pt x="134401" y="300719"/>
                </a:lnTo>
                <a:lnTo>
                  <a:pt x="172462" y="255492"/>
                </a:lnTo>
                <a:lnTo>
                  <a:pt x="213297" y="213439"/>
                </a:lnTo>
                <a:lnTo>
                  <a:pt x="258098" y="173767"/>
                </a:lnTo>
                <a:lnTo>
                  <a:pt x="305277" y="138061"/>
                </a:lnTo>
                <a:lnTo>
                  <a:pt x="354835" y="105529"/>
                </a:lnTo>
                <a:lnTo>
                  <a:pt x="407168" y="76568"/>
                </a:lnTo>
                <a:lnTo>
                  <a:pt x="460690" y="52368"/>
                </a:lnTo>
                <a:lnTo>
                  <a:pt x="515402" y="32532"/>
                </a:lnTo>
                <a:lnTo>
                  <a:pt x="572097" y="16663"/>
                </a:lnTo>
                <a:lnTo>
                  <a:pt x="629187" y="6348"/>
                </a:lnTo>
                <a:lnTo>
                  <a:pt x="686674" y="397"/>
                </a:lnTo>
                <a:lnTo>
                  <a:pt x="715616"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2" name="Freeform 11"/>
          <p:cNvSpPr/>
          <p:nvPr/>
        </p:nvSpPr>
        <p:spPr>
          <a:xfrm>
            <a:off x="6149880" y="3983040"/>
            <a:ext cx="463680" cy="420840"/>
          </a:xfrm>
          <a:custGeom>
            <a:avLst/>
            <a:gdLst/>
            <a:ahLst/>
            <a:rect l="l" t="t" r="r" b="b"/>
            <a:pathLst>
              <a:path w="552450" h="500063">
                <a:moveTo>
                  <a:pt x="343243" y="0"/>
                </a:moveTo>
                <a:lnTo>
                  <a:pt x="343289" y="1"/>
                </a:lnTo>
                <a:lnTo>
                  <a:pt x="343352" y="0"/>
                </a:lnTo>
                <a:lnTo>
                  <a:pt x="357266" y="397"/>
                </a:lnTo>
                <a:lnTo>
                  <a:pt x="383502" y="3175"/>
                </a:lnTo>
                <a:lnTo>
                  <a:pt x="408149" y="7938"/>
                </a:lnTo>
                <a:lnTo>
                  <a:pt x="431603" y="15478"/>
                </a:lnTo>
                <a:lnTo>
                  <a:pt x="453069" y="24606"/>
                </a:lnTo>
                <a:lnTo>
                  <a:pt x="472548" y="36116"/>
                </a:lnTo>
                <a:lnTo>
                  <a:pt x="490834" y="50006"/>
                </a:lnTo>
                <a:lnTo>
                  <a:pt x="506337" y="64691"/>
                </a:lnTo>
                <a:lnTo>
                  <a:pt x="520251" y="81756"/>
                </a:lnTo>
                <a:lnTo>
                  <a:pt x="531381" y="100410"/>
                </a:lnTo>
                <a:lnTo>
                  <a:pt x="540127" y="120253"/>
                </a:lnTo>
                <a:lnTo>
                  <a:pt x="546885" y="141685"/>
                </a:lnTo>
                <a:lnTo>
                  <a:pt x="550860" y="164307"/>
                </a:lnTo>
                <a:lnTo>
                  <a:pt x="552450" y="187325"/>
                </a:lnTo>
                <a:lnTo>
                  <a:pt x="552447" y="187427"/>
                </a:lnTo>
                <a:lnTo>
                  <a:pt x="552450" y="187474"/>
                </a:lnTo>
                <a:lnTo>
                  <a:pt x="551655" y="212100"/>
                </a:lnTo>
                <a:lnTo>
                  <a:pt x="547280" y="236726"/>
                </a:lnTo>
                <a:lnTo>
                  <a:pt x="544496" y="250230"/>
                </a:lnTo>
                <a:lnTo>
                  <a:pt x="540518" y="263338"/>
                </a:lnTo>
                <a:lnTo>
                  <a:pt x="535792" y="275530"/>
                </a:lnTo>
                <a:lnTo>
                  <a:pt x="530984" y="288132"/>
                </a:lnTo>
                <a:lnTo>
                  <a:pt x="526563" y="296771"/>
                </a:lnTo>
                <a:lnTo>
                  <a:pt x="512677" y="324505"/>
                </a:lnTo>
                <a:lnTo>
                  <a:pt x="480461" y="369387"/>
                </a:lnTo>
                <a:lnTo>
                  <a:pt x="440687" y="409504"/>
                </a:lnTo>
                <a:lnTo>
                  <a:pt x="425271" y="420983"/>
                </a:lnTo>
                <a:lnTo>
                  <a:pt x="417689" y="427038"/>
                </a:lnTo>
                <a:lnTo>
                  <a:pt x="417740" y="426590"/>
                </a:lnTo>
                <a:lnTo>
                  <a:pt x="395346" y="443265"/>
                </a:lnTo>
                <a:lnTo>
                  <a:pt x="345232" y="470274"/>
                </a:lnTo>
                <a:lnTo>
                  <a:pt x="292333" y="489339"/>
                </a:lnTo>
                <a:lnTo>
                  <a:pt x="250969" y="496886"/>
                </a:lnTo>
                <a:lnTo>
                  <a:pt x="223128" y="499269"/>
                </a:lnTo>
                <a:lnTo>
                  <a:pt x="209207" y="500063"/>
                </a:lnTo>
                <a:lnTo>
                  <a:pt x="195287" y="499269"/>
                </a:lnTo>
                <a:lnTo>
                  <a:pt x="169036" y="496886"/>
                </a:lnTo>
                <a:lnTo>
                  <a:pt x="144377" y="492119"/>
                </a:lnTo>
                <a:lnTo>
                  <a:pt x="120911" y="484970"/>
                </a:lnTo>
                <a:lnTo>
                  <a:pt x="99433" y="475437"/>
                </a:lnTo>
                <a:lnTo>
                  <a:pt x="79944" y="463919"/>
                </a:lnTo>
                <a:lnTo>
                  <a:pt x="61649" y="450414"/>
                </a:lnTo>
                <a:lnTo>
                  <a:pt x="46137" y="434924"/>
                </a:lnTo>
                <a:lnTo>
                  <a:pt x="32217" y="418242"/>
                </a:lnTo>
                <a:lnTo>
                  <a:pt x="21080" y="399574"/>
                </a:lnTo>
                <a:lnTo>
                  <a:pt x="12330" y="379317"/>
                </a:lnTo>
                <a:lnTo>
                  <a:pt x="5569" y="358266"/>
                </a:lnTo>
                <a:lnTo>
                  <a:pt x="1591" y="335626"/>
                </a:lnTo>
                <a:lnTo>
                  <a:pt x="0" y="312589"/>
                </a:lnTo>
                <a:lnTo>
                  <a:pt x="796" y="287963"/>
                </a:lnTo>
                <a:lnTo>
                  <a:pt x="5171" y="263338"/>
                </a:lnTo>
                <a:lnTo>
                  <a:pt x="8353" y="250230"/>
                </a:lnTo>
                <a:lnTo>
                  <a:pt x="11932" y="236726"/>
                </a:lnTo>
                <a:lnTo>
                  <a:pt x="21478" y="212100"/>
                </a:lnTo>
                <a:lnTo>
                  <a:pt x="39773" y="175558"/>
                </a:lnTo>
                <a:lnTo>
                  <a:pt x="71990" y="130676"/>
                </a:lnTo>
                <a:lnTo>
                  <a:pt x="78414" y="124197"/>
                </a:lnTo>
                <a:lnTo>
                  <a:pt x="79396" y="123032"/>
                </a:lnTo>
                <a:lnTo>
                  <a:pt x="86604" y="115935"/>
                </a:lnTo>
                <a:lnTo>
                  <a:pt x="111763" y="90560"/>
                </a:lnTo>
                <a:lnTo>
                  <a:pt x="124385" y="81272"/>
                </a:lnTo>
                <a:lnTo>
                  <a:pt x="138627" y="69453"/>
                </a:lnTo>
                <a:lnTo>
                  <a:pt x="150911" y="61753"/>
                </a:lnTo>
                <a:lnTo>
                  <a:pt x="157104" y="57196"/>
                </a:lnTo>
                <a:lnTo>
                  <a:pt x="165539" y="52583"/>
                </a:lnTo>
                <a:lnTo>
                  <a:pt x="172814" y="48022"/>
                </a:lnTo>
                <a:lnTo>
                  <a:pt x="191678" y="38288"/>
                </a:lnTo>
                <a:lnTo>
                  <a:pt x="207219" y="29789"/>
                </a:lnTo>
                <a:lnTo>
                  <a:pt x="226492" y="22843"/>
                </a:lnTo>
                <a:lnTo>
                  <a:pt x="245959" y="15478"/>
                </a:lnTo>
                <a:lnTo>
                  <a:pt x="249342" y="14608"/>
                </a:lnTo>
                <a:lnTo>
                  <a:pt x="260117" y="10724"/>
                </a:lnTo>
                <a:lnTo>
                  <a:pt x="274955" y="8017"/>
                </a:lnTo>
                <a:lnTo>
                  <a:pt x="284519" y="5556"/>
                </a:lnTo>
                <a:lnTo>
                  <a:pt x="298462" y="3728"/>
                </a:lnTo>
                <a:lnTo>
                  <a:pt x="301481" y="3178"/>
                </a:lnTo>
                <a:lnTo>
                  <a:pt x="306445" y="2682"/>
                </a:lnTo>
                <a:lnTo>
                  <a:pt x="323874" y="397"/>
                </a:lnTo>
                <a:lnTo>
                  <a:pt x="342971" y="8"/>
                </a:lnTo>
                <a:lnTo>
                  <a:pt x="343243" y="0"/>
                </a:lnTo>
                <a:close/>
              </a:path>
            </a:pathLst>
          </a:custGeom>
          <a:solidFill>
            <a:srgbClr val="434e61"/>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3" name="Freeform 42"/>
          <p:cNvSpPr/>
          <p:nvPr/>
        </p:nvSpPr>
        <p:spPr>
          <a:xfrm>
            <a:off x="5111640" y="5183280"/>
            <a:ext cx="36720" cy="42840"/>
          </a:xfrm>
          <a:custGeom>
            <a:avLst/>
            <a:gdLst/>
            <a:ahLst/>
            <a:rect l="l" t="t" r="r" b="b"/>
            <a:pathLst>
              <a:path w="106" h="129">
                <a:moveTo>
                  <a:pt x="102" y="129"/>
                </a:moveTo>
                <a:lnTo>
                  <a:pt x="50" y="66"/>
                </a:lnTo>
                <a:lnTo>
                  <a:pt x="0" y="0"/>
                </a:lnTo>
                <a:lnTo>
                  <a:pt x="52" y="59"/>
                </a:lnTo>
                <a:lnTo>
                  <a:pt x="106" y="116"/>
                </a:lnTo>
                <a:lnTo>
                  <a:pt x="105" y="123"/>
                </a:lnTo>
                <a:lnTo>
                  <a:pt x="102" y="129"/>
                </a:lnTo>
                <a:close/>
              </a:path>
            </a:pathLst>
          </a:custGeom>
          <a:solidFill>
            <a:srgbClr val="611216"/>
          </a:solidFill>
          <a:ln w="0">
            <a:noFill/>
          </a:ln>
        </p:spPr>
        <p:style>
          <a:lnRef idx="0"/>
          <a:fillRef idx="0"/>
          <a:effectRef idx="0"/>
          <a:fontRef idx="minor"/>
        </p:style>
        <p:txBody>
          <a:bodyPr tIns="-2880" bIns="-2880" anchor="t">
            <a:noAutofit/>
          </a:bodyPr>
          <a:p>
            <a:endParaRPr b="0" lang="en-US" sz="1800" spc="-1" strike="noStrike">
              <a:solidFill>
                <a:srgbClr val="3f3f3f"/>
              </a:solidFill>
              <a:latin typeface="Libre Franklin"/>
            </a:endParaRPr>
          </a:p>
        </p:txBody>
      </p:sp>
      <p:grpSp>
        <p:nvGrpSpPr>
          <p:cNvPr id="574" name="Group 36"/>
          <p:cNvGrpSpPr/>
          <p:nvPr/>
        </p:nvGrpSpPr>
        <p:grpSpPr>
          <a:xfrm>
            <a:off x="4226040" y="2690640"/>
            <a:ext cx="1461960" cy="1492560"/>
            <a:chOff x="4226040" y="2690640"/>
            <a:chExt cx="1461960" cy="1492560"/>
          </a:xfrm>
        </p:grpSpPr>
        <p:sp>
          <p:nvSpPr>
            <p:cNvPr id="575" name="Freeform 61"/>
            <p:cNvSpPr/>
            <p:nvPr/>
          </p:nvSpPr>
          <p:spPr>
            <a:xfrm>
              <a:off x="5537520" y="4028400"/>
              <a:ext cx="150480" cy="154800"/>
            </a:xfrm>
            <a:custGeom>
              <a:avLst/>
              <a:gdLst/>
              <a:ahLst/>
              <a:rect l="l" t="t" r="r" b="b"/>
              <a:pathLst>
                <a:path w="451" h="466">
                  <a:moveTo>
                    <a:pt x="370" y="364"/>
                  </a:moveTo>
                  <a:lnTo>
                    <a:pt x="287" y="271"/>
                  </a:lnTo>
                  <a:lnTo>
                    <a:pt x="187" y="161"/>
                  </a:lnTo>
                  <a:lnTo>
                    <a:pt x="136" y="104"/>
                  </a:lnTo>
                  <a:lnTo>
                    <a:pt x="89" y="52"/>
                  </a:lnTo>
                  <a:lnTo>
                    <a:pt x="60" y="25"/>
                  </a:lnTo>
                  <a:lnTo>
                    <a:pt x="33" y="0"/>
                  </a:lnTo>
                  <a:lnTo>
                    <a:pt x="26" y="13"/>
                  </a:lnTo>
                  <a:lnTo>
                    <a:pt x="19" y="27"/>
                  </a:lnTo>
                  <a:lnTo>
                    <a:pt x="9" y="42"/>
                  </a:lnTo>
                  <a:lnTo>
                    <a:pt x="0" y="56"/>
                  </a:lnTo>
                  <a:lnTo>
                    <a:pt x="25" y="85"/>
                  </a:lnTo>
                  <a:lnTo>
                    <a:pt x="52" y="114"/>
                  </a:lnTo>
                  <a:lnTo>
                    <a:pt x="104" y="161"/>
                  </a:lnTo>
                  <a:lnTo>
                    <a:pt x="158" y="209"/>
                  </a:lnTo>
                  <a:lnTo>
                    <a:pt x="267" y="306"/>
                  </a:lnTo>
                  <a:lnTo>
                    <a:pt x="357" y="387"/>
                  </a:lnTo>
                  <a:lnTo>
                    <a:pt x="431" y="450"/>
                  </a:lnTo>
                  <a:lnTo>
                    <a:pt x="449" y="466"/>
                  </a:lnTo>
                  <a:lnTo>
                    <a:pt x="451" y="459"/>
                  </a:lnTo>
                  <a:lnTo>
                    <a:pt x="436" y="440"/>
                  </a:lnTo>
                  <a:lnTo>
                    <a:pt x="370" y="364"/>
                  </a:lnTo>
                  <a:close/>
                </a:path>
              </a:pathLst>
            </a:custGeom>
            <a:solidFill>
              <a:srgbClr val="e5e5e5"/>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6" name="Freeform 62"/>
            <p:cNvSpPr/>
            <p:nvPr/>
          </p:nvSpPr>
          <p:spPr>
            <a:xfrm>
              <a:off x="5198400" y="3659760"/>
              <a:ext cx="366840" cy="432360"/>
            </a:xfrm>
            <a:custGeom>
              <a:avLst/>
              <a:gdLst/>
              <a:ahLst/>
              <a:rect l="l" t="t" r="r" b="b"/>
              <a:pathLst>
                <a:path w="1103" h="1294">
                  <a:moveTo>
                    <a:pt x="1102" y="845"/>
                  </a:moveTo>
                  <a:lnTo>
                    <a:pt x="257" y="0"/>
                  </a:lnTo>
                  <a:lnTo>
                    <a:pt x="263" y="8"/>
                  </a:lnTo>
                  <a:lnTo>
                    <a:pt x="269" y="29"/>
                  </a:lnTo>
                  <a:lnTo>
                    <a:pt x="269" y="73"/>
                  </a:lnTo>
                  <a:lnTo>
                    <a:pt x="251" y="149"/>
                  </a:lnTo>
                  <a:lnTo>
                    <a:pt x="214" y="240"/>
                  </a:lnTo>
                  <a:lnTo>
                    <a:pt x="188" y="287"/>
                  </a:lnTo>
                  <a:lnTo>
                    <a:pt x="162" y="331"/>
                  </a:lnTo>
                  <a:lnTo>
                    <a:pt x="107" y="401"/>
                  </a:lnTo>
                  <a:lnTo>
                    <a:pt x="57" y="445"/>
                  </a:lnTo>
                  <a:lnTo>
                    <a:pt x="25" y="458"/>
                  </a:lnTo>
                  <a:lnTo>
                    <a:pt x="8" y="457"/>
                  </a:lnTo>
                  <a:lnTo>
                    <a:pt x="0" y="453"/>
                  </a:lnTo>
                  <a:lnTo>
                    <a:pt x="841" y="1294"/>
                  </a:lnTo>
                  <a:lnTo>
                    <a:pt x="853" y="1293"/>
                  </a:lnTo>
                  <a:lnTo>
                    <a:pt x="925" y="1256"/>
                  </a:lnTo>
                  <a:lnTo>
                    <a:pt x="986" y="1202"/>
                  </a:lnTo>
                  <a:lnTo>
                    <a:pt x="1017" y="1159"/>
                  </a:lnTo>
                  <a:lnTo>
                    <a:pt x="1026" y="1145"/>
                  </a:lnTo>
                  <a:lnTo>
                    <a:pt x="1036" y="1130"/>
                  </a:lnTo>
                  <a:lnTo>
                    <a:pt x="1043" y="1116"/>
                  </a:lnTo>
                  <a:lnTo>
                    <a:pt x="1050" y="1103"/>
                  </a:lnTo>
                  <a:lnTo>
                    <a:pt x="1073" y="1051"/>
                  </a:lnTo>
                  <a:lnTo>
                    <a:pt x="1098" y="959"/>
                  </a:lnTo>
                  <a:lnTo>
                    <a:pt x="1103" y="860"/>
                  </a:lnTo>
                  <a:lnTo>
                    <a:pt x="1102" y="845"/>
                  </a:lnTo>
                  <a:close/>
                </a:path>
              </a:pathLst>
            </a:custGeom>
            <a:solidFill>
              <a:srgbClr val="e5e5e5"/>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7" name="Freeform 63"/>
            <p:cNvSpPr/>
            <p:nvPr/>
          </p:nvSpPr>
          <p:spPr>
            <a:xfrm>
              <a:off x="5193000" y="3658680"/>
              <a:ext cx="94680" cy="154800"/>
            </a:xfrm>
            <a:custGeom>
              <a:avLst/>
              <a:gdLst/>
              <a:ahLst/>
              <a:rect l="l" t="t" r="r" b="b"/>
              <a:pathLst>
                <a:path w="286" h="464">
                  <a:moveTo>
                    <a:pt x="274" y="6"/>
                  </a:moveTo>
                  <a:lnTo>
                    <a:pt x="266" y="0"/>
                  </a:lnTo>
                  <a:lnTo>
                    <a:pt x="242" y="0"/>
                  </a:lnTo>
                  <a:lnTo>
                    <a:pt x="214" y="13"/>
                  </a:lnTo>
                  <a:lnTo>
                    <a:pt x="182" y="40"/>
                  </a:lnTo>
                  <a:lnTo>
                    <a:pt x="165" y="57"/>
                  </a:lnTo>
                  <a:lnTo>
                    <a:pt x="198" y="91"/>
                  </a:lnTo>
                  <a:lnTo>
                    <a:pt x="206" y="97"/>
                  </a:lnTo>
                  <a:lnTo>
                    <a:pt x="207" y="102"/>
                  </a:lnTo>
                  <a:lnTo>
                    <a:pt x="206" y="123"/>
                  </a:lnTo>
                  <a:lnTo>
                    <a:pt x="205" y="148"/>
                  </a:lnTo>
                  <a:lnTo>
                    <a:pt x="185" y="216"/>
                  </a:lnTo>
                  <a:lnTo>
                    <a:pt x="165" y="258"/>
                  </a:lnTo>
                  <a:lnTo>
                    <a:pt x="140" y="295"/>
                  </a:lnTo>
                  <a:lnTo>
                    <a:pt x="96" y="335"/>
                  </a:lnTo>
                  <a:lnTo>
                    <a:pt x="80" y="342"/>
                  </a:lnTo>
                  <a:lnTo>
                    <a:pt x="66" y="346"/>
                  </a:lnTo>
                  <a:lnTo>
                    <a:pt x="62" y="346"/>
                  </a:lnTo>
                  <a:lnTo>
                    <a:pt x="54" y="339"/>
                  </a:lnTo>
                  <a:lnTo>
                    <a:pt x="22" y="303"/>
                  </a:lnTo>
                  <a:lnTo>
                    <a:pt x="13" y="330"/>
                  </a:lnTo>
                  <a:lnTo>
                    <a:pt x="3" y="378"/>
                  </a:lnTo>
                  <a:lnTo>
                    <a:pt x="0" y="418"/>
                  </a:lnTo>
                  <a:lnTo>
                    <a:pt x="7" y="447"/>
                  </a:lnTo>
                  <a:lnTo>
                    <a:pt x="14" y="456"/>
                  </a:lnTo>
                  <a:lnTo>
                    <a:pt x="17" y="459"/>
                  </a:lnTo>
                  <a:lnTo>
                    <a:pt x="25" y="463"/>
                  </a:lnTo>
                  <a:lnTo>
                    <a:pt x="42" y="464"/>
                  </a:lnTo>
                  <a:lnTo>
                    <a:pt x="74" y="451"/>
                  </a:lnTo>
                  <a:lnTo>
                    <a:pt x="124" y="407"/>
                  </a:lnTo>
                  <a:lnTo>
                    <a:pt x="179" y="337"/>
                  </a:lnTo>
                  <a:lnTo>
                    <a:pt x="205" y="293"/>
                  </a:lnTo>
                  <a:lnTo>
                    <a:pt x="231" y="246"/>
                  </a:lnTo>
                  <a:lnTo>
                    <a:pt x="268" y="155"/>
                  </a:lnTo>
                  <a:lnTo>
                    <a:pt x="286" y="79"/>
                  </a:lnTo>
                  <a:lnTo>
                    <a:pt x="286" y="35"/>
                  </a:lnTo>
                  <a:lnTo>
                    <a:pt x="280" y="14"/>
                  </a:lnTo>
                  <a:lnTo>
                    <a:pt x="274" y="6"/>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8" name="Freeform 64"/>
            <p:cNvSpPr/>
            <p:nvPr/>
          </p:nvSpPr>
          <p:spPr>
            <a:xfrm>
              <a:off x="4226040" y="3016440"/>
              <a:ext cx="349560" cy="294840"/>
            </a:xfrm>
            <a:custGeom>
              <a:avLst/>
              <a:gdLst/>
              <a:ahLst/>
              <a:rect l="l" t="t" r="r" b="b"/>
              <a:pathLst>
                <a:path w="1049" h="883">
                  <a:moveTo>
                    <a:pt x="413" y="302"/>
                  </a:moveTo>
                  <a:lnTo>
                    <a:pt x="438" y="264"/>
                  </a:lnTo>
                  <a:lnTo>
                    <a:pt x="497" y="202"/>
                  </a:lnTo>
                  <a:lnTo>
                    <a:pt x="567" y="158"/>
                  </a:lnTo>
                  <a:lnTo>
                    <a:pt x="648" y="128"/>
                  </a:lnTo>
                  <a:lnTo>
                    <a:pt x="733" y="114"/>
                  </a:lnTo>
                  <a:lnTo>
                    <a:pt x="823" y="111"/>
                  </a:lnTo>
                  <a:lnTo>
                    <a:pt x="915" y="122"/>
                  </a:lnTo>
                  <a:lnTo>
                    <a:pt x="1005" y="144"/>
                  </a:lnTo>
                  <a:lnTo>
                    <a:pt x="1049" y="158"/>
                  </a:lnTo>
                  <a:lnTo>
                    <a:pt x="1048" y="154"/>
                  </a:lnTo>
                  <a:lnTo>
                    <a:pt x="1049" y="152"/>
                  </a:lnTo>
                  <a:lnTo>
                    <a:pt x="1008" y="128"/>
                  </a:lnTo>
                  <a:lnTo>
                    <a:pt x="920" y="88"/>
                  </a:lnTo>
                  <a:lnTo>
                    <a:pt x="830" y="53"/>
                  </a:lnTo>
                  <a:lnTo>
                    <a:pt x="741" y="26"/>
                  </a:lnTo>
                  <a:lnTo>
                    <a:pt x="650" y="8"/>
                  </a:lnTo>
                  <a:lnTo>
                    <a:pt x="563" y="0"/>
                  </a:lnTo>
                  <a:lnTo>
                    <a:pt x="479" y="3"/>
                  </a:lnTo>
                  <a:lnTo>
                    <a:pt x="400" y="18"/>
                  </a:lnTo>
                  <a:lnTo>
                    <a:pt x="364" y="31"/>
                  </a:lnTo>
                  <a:lnTo>
                    <a:pt x="298" y="58"/>
                  </a:lnTo>
                  <a:lnTo>
                    <a:pt x="190" y="119"/>
                  </a:lnTo>
                  <a:lnTo>
                    <a:pt x="111" y="185"/>
                  </a:lnTo>
                  <a:lnTo>
                    <a:pt x="54" y="257"/>
                  </a:lnTo>
                  <a:lnTo>
                    <a:pt x="19" y="333"/>
                  </a:lnTo>
                  <a:lnTo>
                    <a:pt x="2" y="415"/>
                  </a:lnTo>
                  <a:lnTo>
                    <a:pt x="0" y="500"/>
                  </a:lnTo>
                  <a:lnTo>
                    <a:pt x="9" y="588"/>
                  </a:lnTo>
                  <a:lnTo>
                    <a:pt x="16" y="635"/>
                  </a:lnTo>
                  <a:lnTo>
                    <a:pt x="22" y="660"/>
                  </a:lnTo>
                  <a:lnTo>
                    <a:pt x="40" y="706"/>
                  </a:lnTo>
                  <a:lnTo>
                    <a:pt x="64" y="748"/>
                  </a:lnTo>
                  <a:lnTo>
                    <a:pt x="97" y="784"/>
                  </a:lnTo>
                  <a:lnTo>
                    <a:pt x="136" y="815"/>
                  </a:lnTo>
                  <a:lnTo>
                    <a:pt x="180" y="841"/>
                  </a:lnTo>
                  <a:lnTo>
                    <a:pt x="229" y="862"/>
                  </a:lnTo>
                  <a:lnTo>
                    <a:pt x="285" y="877"/>
                  </a:lnTo>
                  <a:lnTo>
                    <a:pt x="313" y="883"/>
                  </a:lnTo>
                  <a:lnTo>
                    <a:pt x="308" y="846"/>
                  </a:lnTo>
                  <a:lnTo>
                    <a:pt x="302" y="772"/>
                  </a:lnTo>
                  <a:lnTo>
                    <a:pt x="302" y="699"/>
                  </a:lnTo>
                  <a:lnTo>
                    <a:pt x="308" y="623"/>
                  </a:lnTo>
                  <a:lnTo>
                    <a:pt x="320" y="548"/>
                  </a:lnTo>
                  <a:lnTo>
                    <a:pt x="339" y="476"/>
                  </a:lnTo>
                  <a:lnTo>
                    <a:pt x="364" y="404"/>
                  </a:lnTo>
                  <a:lnTo>
                    <a:pt x="395" y="336"/>
                  </a:lnTo>
                  <a:lnTo>
                    <a:pt x="413" y="302"/>
                  </a:lnTo>
                  <a:close/>
                </a:path>
              </a:pathLst>
            </a:custGeom>
            <a:solidFill>
              <a:srgbClr val="242a3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79" name="Freeform 65"/>
            <p:cNvSpPr/>
            <p:nvPr/>
          </p:nvSpPr>
          <p:spPr>
            <a:xfrm>
              <a:off x="4484880" y="2717280"/>
              <a:ext cx="131760" cy="349560"/>
            </a:xfrm>
            <a:custGeom>
              <a:avLst/>
              <a:gdLst/>
              <a:ahLst/>
              <a:rect l="l" t="t" r="r" b="b"/>
              <a:pathLst>
                <a:path w="397" h="1047">
                  <a:moveTo>
                    <a:pt x="213" y="204"/>
                  </a:moveTo>
                  <a:lnTo>
                    <a:pt x="232" y="171"/>
                  </a:lnTo>
                  <a:lnTo>
                    <a:pt x="275" y="113"/>
                  </a:lnTo>
                  <a:lnTo>
                    <a:pt x="321" y="61"/>
                  </a:lnTo>
                  <a:lnTo>
                    <a:pt x="371" y="18"/>
                  </a:lnTo>
                  <a:lnTo>
                    <a:pt x="397" y="0"/>
                  </a:lnTo>
                  <a:lnTo>
                    <a:pt x="354" y="10"/>
                  </a:lnTo>
                  <a:lnTo>
                    <a:pt x="273" y="36"/>
                  </a:lnTo>
                  <a:lnTo>
                    <a:pt x="201" y="73"/>
                  </a:lnTo>
                  <a:lnTo>
                    <a:pt x="137" y="121"/>
                  </a:lnTo>
                  <a:lnTo>
                    <a:pt x="84" y="181"/>
                  </a:lnTo>
                  <a:lnTo>
                    <a:pt x="43" y="259"/>
                  </a:lnTo>
                  <a:lnTo>
                    <a:pt x="14" y="356"/>
                  </a:lnTo>
                  <a:lnTo>
                    <a:pt x="0" y="474"/>
                  </a:lnTo>
                  <a:lnTo>
                    <a:pt x="0" y="543"/>
                  </a:lnTo>
                  <a:lnTo>
                    <a:pt x="1" y="574"/>
                  </a:lnTo>
                  <a:lnTo>
                    <a:pt x="12" y="640"/>
                  </a:lnTo>
                  <a:lnTo>
                    <a:pt x="32" y="706"/>
                  </a:lnTo>
                  <a:lnTo>
                    <a:pt x="62" y="771"/>
                  </a:lnTo>
                  <a:lnTo>
                    <a:pt x="119" y="867"/>
                  </a:lnTo>
                  <a:lnTo>
                    <a:pt x="218" y="990"/>
                  </a:lnTo>
                  <a:lnTo>
                    <a:pt x="275" y="1047"/>
                  </a:lnTo>
                  <a:lnTo>
                    <a:pt x="276" y="1046"/>
                  </a:lnTo>
                  <a:lnTo>
                    <a:pt x="254" y="994"/>
                  </a:lnTo>
                  <a:lnTo>
                    <a:pt x="214" y="885"/>
                  </a:lnTo>
                  <a:lnTo>
                    <a:pt x="181" y="773"/>
                  </a:lnTo>
                  <a:lnTo>
                    <a:pt x="159" y="658"/>
                  </a:lnTo>
                  <a:lnTo>
                    <a:pt x="148" y="546"/>
                  </a:lnTo>
                  <a:lnTo>
                    <a:pt x="148" y="438"/>
                  </a:lnTo>
                  <a:lnTo>
                    <a:pt x="162" y="336"/>
                  </a:lnTo>
                  <a:lnTo>
                    <a:pt x="191" y="245"/>
                  </a:lnTo>
                  <a:lnTo>
                    <a:pt x="213" y="204"/>
                  </a:lnTo>
                  <a:close/>
                </a:path>
              </a:pathLst>
            </a:custGeom>
            <a:solidFill>
              <a:srgbClr val="242a3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0" name="Freeform 66"/>
            <p:cNvSpPr/>
            <p:nvPr/>
          </p:nvSpPr>
          <p:spPr>
            <a:xfrm>
              <a:off x="4325760" y="3053520"/>
              <a:ext cx="377280" cy="424440"/>
            </a:xfrm>
            <a:custGeom>
              <a:avLst/>
              <a:gdLst/>
              <a:ahLst/>
              <a:rect l="l" t="t" r="r" b="b"/>
              <a:pathLst>
                <a:path w="1130" h="1272">
                  <a:moveTo>
                    <a:pt x="1049" y="410"/>
                  </a:moveTo>
                  <a:lnTo>
                    <a:pt x="944" y="291"/>
                  </a:lnTo>
                  <a:lnTo>
                    <a:pt x="811" y="138"/>
                  </a:lnTo>
                  <a:lnTo>
                    <a:pt x="757" y="66"/>
                  </a:lnTo>
                  <a:lnTo>
                    <a:pt x="747" y="47"/>
                  </a:lnTo>
                  <a:lnTo>
                    <a:pt x="703" y="33"/>
                  </a:lnTo>
                  <a:lnTo>
                    <a:pt x="613" y="11"/>
                  </a:lnTo>
                  <a:lnTo>
                    <a:pt x="521" y="0"/>
                  </a:lnTo>
                  <a:lnTo>
                    <a:pt x="431" y="3"/>
                  </a:lnTo>
                  <a:lnTo>
                    <a:pt x="346" y="17"/>
                  </a:lnTo>
                  <a:lnTo>
                    <a:pt x="265" y="47"/>
                  </a:lnTo>
                  <a:lnTo>
                    <a:pt x="195" y="91"/>
                  </a:lnTo>
                  <a:lnTo>
                    <a:pt x="136" y="153"/>
                  </a:lnTo>
                  <a:lnTo>
                    <a:pt x="111" y="191"/>
                  </a:lnTo>
                  <a:lnTo>
                    <a:pt x="93" y="225"/>
                  </a:lnTo>
                  <a:lnTo>
                    <a:pt x="62" y="293"/>
                  </a:lnTo>
                  <a:lnTo>
                    <a:pt x="37" y="365"/>
                  </a:lnTo>
                  <a:lnTo>
                    <a:pt x="18" y="437"/>
                  </a:lnTo>
                  <a:lnTo>
                    <a:pt x="6" y="512"/>
                  </a:lnTo>
                  <a:lnTo>
                    <a:pt x="0" y="588"/>
                  </a:lnTo>
                  <a:lnTo>
                    <a:pt x="0" y="661"/>
                  </a:lnTo>
                  <a:lnTo>
                    <a:pt x="6" y="735"/>
                  </a:lnTo>
                  <a:lnTo>
                    <a:pt x="11" y="772"/>
                  </a:lnTo>
                  <a:lnTo>
                    <a:pt x="22" y="826"/>
                  </a:lnTo>
                  <a:lnTo>
                    <a:pt x="53" y="928"/>
                  </a:lnTo>
                  <a:lnTo>
                    <a:pt x="98" y="1023"/>
                  </a:lnTo>
                  <a:lnTo>
                    <a:pt x="156" y="1107"/>
                  </a:lnTo>
                  <a:lnTo>
                    <a:pt x="190" y="1144"/>
                  </a:lnTo>
                  <a:lnTo>
                    <a:pt x="211" y="1164"/>
                  </a:lnTo>
                  <a:lnTo>
                    <a:pt x="255" y="1198"/>
                  </a:lnTo>
                  <a:lnTo>
                    <a:pt x="300" y="1227"/>
                  </a:lnTo>
                  <a:lnTo>
                    <a:pt x="347" y="1247"/>
                  </a:lnTo>
                  <a:lnTo>
                    <a:pt x="395" y="1262"/>
                  </a:lnTo>
                  <a:lnTo>
                    <a:pt x="443" y="1271"/>
                  </a:lnTo>
                  <a:lnTo>
                    <a:pt x="492" y="1272"/>
                  </a:lnTo>
                  <a:lnTo>
                    <a:pt x="541" y="1268"/>
                  </a:lnTo>
                  <a:lnTo>
                    <a:pt x="614" y="1251"/>
                  </a:lnTo>
                  <a:lnTo>
                    <a:pt x="709" y="1206"/>
                  </a:lnTo>
                  <a:lnTo>
                    <a:pt x="795" y="1136"/>
                  </a:lnTo>
                  <a:lnTo>
                    <a:pt x="874" y="1044"/>
                  </a:lnTo>
                  <a:lnTo>
                    <a:pt x="908" y="988"/>
                  </a:lnTo>
                  <a:lnTo>
                    <a:pt x="981" y="864"/>
                  </a:lnTo>
                  <a:lnTo>
                    <a:pt x="1069" y="689"/>
                  </a:lnTo>
                  <a:lnTo>
                    <a:pt x="1108" y="578"/>
                  </a:lnTo>
                  <a:lnTo>
                    <a:pt x="1118" y="525"/>
                  </a:lnTo>
                  <a:lnTo>
                    <a:pt x="1125" y="512"/>
                  </a:lnTo>
                  <a:lnTo>
                    <a:pt x="1130" y="499"/>
                  </a:lnTo>
                  <a:lnTo>
                    <a:pt x="1126" y="496"/>
                  </a:lnTo>
                  <a:lnTo>
                    <a:pt x="1122" y="490"/>
                  </a:lnTo>
                  <a:lnTo>
                    <a:pt x="1086" y="449"/>
                  </a:lnTo>
                  <a:lnTo>
                    <a:pt x="1049" y="410"/>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1" name="Freeform 67"/>
            <p:cNvSpPr/>
            <p:nvPr/>
          </p:nvSpPr>
          <p:spPr>
            <a:xfrm>
              <a:off x="4534200" y="2690640"/>
              <a:ext cx="324000" cy="496440"/>
            </a:xfrm>
            <a:custGeom>
              <a:avLst/>
              <a:gdLst/>
              <a:ahLst/>
              <a:rect l="l" t="t" r="r" b="b"/>
              <a:pathLst>
                <a:path w="974" h="1486">
                  <a:moveTo>
                    <a:pt x="65" y="284"/>
                  </a:moveTo>
                  <a:lnTo>
                    <a:pt x="43" y="325"/>
                  </a:lnTo>
                  <a:lnTo>
                    <a:pt x="14" y="416"/>
                  </a:lnTo>
                  <a:lnTo>
                    <a:pt x="0" y="518"/>
                  </a:lnTo>
                  <a:lnTo>
                    <a:pt x="0" y="626"/>
                  </a:lnTo>
                  <a:lnTo>
                    <a:pt x="11" y="738"/>
                  </a:lnTo>
                  <a:lnTo>
                    <a:pt x="33" y="853"/>
                  </a:lnTo>
                  <a:lnTo>
                    <a:pt x="66" y="965"/>
                  </a:lnTo>
                  <a:lnTo>
                    <a:pt x="106" y="1074"/>
                  </a:lnTo>
                  <a:lnTo>
                    <a:pt x="128" y="1126"/>
                  </a:lnTo>
                  <a:lnTo>
                    <a:pt x="137" y="1129"/>
                  </a:lnTo>
                  <a:lnTo>
                    <a:pt x="175" y="1157"/>
                  </a:lnTo>
                  <a:lnTo>
                    <a:pt x="262" y="1230"/>
                  </a:lnTo>
                  <a:lnTo>
                    <a:pt x="330" y="1291"/>
                  </a:lnTo>
                  <a:lnTo>
                    <a:pt x="391" y="1342"/>
                  </a:lnTo>
                  <a:lnTo>
                    <a:pt x="460" y="1403"/>
                  </a:lnTo>
                  <a:lnTo>
                    <a:pt x="468" y="1411"/>
                  </a:lnTo>
                  <a:lnTo>
                    <a:pt x="477" y="1419"/>
                  </a:lnTo>
                  <a:lnTo>
                    <a:pt x="514" y="1453"/>
                  </a:lnTo>
                  <a:lnTo>
                    <a:pt x="552" y="1486"/>
                  </a:lnTo>
                  <a:lnTo>
                    <a:pt x="573" y="1476"/>
                  </a:lnTo>
                  <a:lnTo>
                    <a:pt x="612" y="1445"/>
                  </a:lnTo>
                  <a:lnTo>
                    <a:pt x="669" y="1384"/>
                  </a:lnTo>
                  <a:lnTo>
                    <a:pt x="745" y="1276"/>
                  </a:lnTo>
                  <a:lnTo>
                    <a:pt x="821" y="1149"/>
                  </a:lnTo>
                  <a:lnTo>
                    <a:pt x="862" y="1081"/>
                  </a:lnTo>
                  <a:lnTo>
                    <a:pt x="893" y="1022"/>
                  </a:lnTo>
                  <a:lnTo>
                    <a:pt x="939" y="898"/>
                  </a:lnTo>
                  <a:lnTo>
                    <a:pt x="967" y="768"/>
                  </a:lnTo>
                  <a:lnTo>
                    <a:pt x="974" y="637"/>
                  </a:lnTo>
                  <a:lnTo>
                    <a:pt x="964" y="508"/>
                  </a:lnTo>
                  <a:lnTo>
                    <a:pt x="934" y="385"/>
                  </a:lnTo>
                  <a:lnTo>
                    <a:pt x="888" y="272"/>
                  </a:lnTo>
                  <a:lnTo>
                    <a:pt x="840" y="195"/>
                  </a:lnTo>
                  <a:lnTo>
                    <a:pt x="803" y="150"/>
                  </a:lnTo>
                  <a:lnTo>
                    <a:pt x="783" y="128"/>
                  </a:lnTo>
                  <a:lnTo>
                    <a:pt x="753" y="101"/>
                  </a:lnTo>
                  <a:lnTo>
                    <a:pt x="689" y="55"/>
                  </a:lnTo>
                  <a:lnTo>
                    <a:pt x="623" y="24"/>
                  </a:lnTo>
                  <a:lnTo>
                    <a:pt x="556" y="5"/>
                  </a:lnTo>
                  <a:lnTo>
                    <a:pt x="486" y="0"/>
                  </a:lnTo>
                  <a:lnTo>
                    <a:pt x="416" y="7"/>
                  </a:lnTo>
                  <a:lnTo>
                    <a:pt x="347" y="27"/>
                  </a:lnTo>
                  <a:lnTo>
                    <a:pt x="281" y="59"/>
                  </a:lnTo>
                  <a:lnTo>
                    <a:pt x="249" y="80"/>
                  </a:lnTo>
                  <a:lnTo>
                    <a:pt x="223" y="98"/>
                  </a:lnTo>
                  <a:lnTo>
                    <a:pt x="173" y="141"/>
                  </a:lnTo>
                  <a:lnTo>
                    <a:pt x="127" y="193"/>
                  </a:lnTo>
                  <a:lnTo>
                    <a:pt x="84" y="251"/>
                  </a:lnTo>
                  <a:lnTo>
                    <a:pt x="65" y="284"/>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2" name="Freeform 68"/>
            <p:cNvSpPr/>
            <p:nvPr/>
          </p:nvSpPr>
          <p:spPr>
            <a:xfrm>
              <a:off x="4575600" y="3067200"/>
              <a:ext cx="685440" cy="706320"/>
            </a:xfrm>
            <a:custGeom>
              <a:avLst/>
              <a:gdLst/>
              <a:ahLst/>
              <a:rect l="l" t="t" r="r" b="b"/>
              <a:pathLst>
                <a:path w="2058" h="2118">
                  <a:moveTo>
                    <a:pt x="2057" y="1869"/>
                  </a:moveTo>
                  <a:lnTo>
                    <a:pt x="2049" y="1863"/>
                  </a:lnTo>
                  <a:lnTo>
                    <a:pt x="2016" y="1829"/>
                  </a:lnTo>
                  <a:lnTo>
                    <a:pt x="1784" y="1611"/>
                  </a:lnTo>
                  <a:lnTo>
                    <a:pt x="865" y="757"/>
                  </a:lnTo>
                  <a:lnTo>
                    <a:pt x="428" y="360"/>
                  </a:lnTo>
                  <a:lnTo>
                    <a:pt x="390" y="327"/>
                  </a:lnTo>
                  <a:lnTo>
                    <a:pt x="353" y="293"/>
                  </a:lnTo>
                  <a:lnTo>
                    <a:pt x="344" y="285"/>
                  </a:lnTo>
                  <a:lnTo>
                    <a:pt x="336" y="277"/>
                  </a:lnTo>
                  <a:lnTo>
                    <a:pt x="267" y="216"/>
                  </a:lnTo>
                  <a:lnTo>
                    <a:pt x="206" y="165"/>
                  </a:lnTo>
                  <a:lnTo>
                    <a:pt x="138" y="104"/>
                  </a:lnTo>
                  <a:lnTo>
                    <a:pt x="51" y="31"/>
                  </a:lnTo>
                  <a:lnTo>
                    <a:pt x="13" y="3"/>
                  </a:lnTo>
                  <a:lnTo>
                    <a:pt x="4" y="0"/>
                  </a:lnTo>
                  <a:lnTo>
                    <a:pt x="3" y="1"/>
                  </a:lnTo>
                  <a:lnTo>
                    <a:pt x="1" y="1"/>
                  </a:lnTo>
                  <a:lnTo>
                    <a:pt x="1" y="3"/>
                  </a:lnTo>
                  <a:lnTo>
                    <a:pt x="0" y="5"/>
                  </a:lnTo>
                  <a:lnTo>
                    <a:pt x="1" y="9"/>
                  </a:lnTo>
                  <a:lnTo>
                    <a:pt x="11" y="28"/>
                  </a:lnTo>
                  <a:lnTo>
                    <a:pt x="65" y="100"/>
                  </a:lnTo>
                  <a:lnTo>
                    <a:pt x="198" y="253"/>
                  </a:lnTo>
                  <a:lnTo>
                    <a:pt x="303" y="372"/>
                  </a:lnTo>
                  <a:lnTo>
                    <a:pt x="340" y="411"/>
                  </a:lnTo>
                  <a:lnTo>
                    <a:pt x="376" y="452"/>
                  </a:lnTo>
                  <a:lnTo>
                    <a:pt x="380" y="458"/>
                  </a:lnTo>
                  <a:lnTo>
                    <a:pt x="384" y="461"/>
                  </a:lnTo>
                  <a:lnTo>
                    <a:pt x="790" y="910"/>
                  </a:lnTo>
                  <a:lnTo>
                    <a:pt x="1654" y="1840"/>
                  </a:lnTo>
                  <a:lnTo>
                    <a:pt x="1873" y="2075"/>
                  </a:lnTo>
                  <a:lnTo>
                    <a:pt x="1905" y="2111"/>
                  </a:lnTo>
                  <a:lnTo>
                    <a:pt x="1913" y="2118"/>
                  </a:lnTo>
                  <a:lnTo>
                    <a:pt x="1917" y="2118"/>
                  </a:lnTo>
                  <a:lnTo>
                    <a:pt x="1931" y="2114"/>
                  </a:lnTo>
                  <a:lnTo>
                    <a:pt x="1947" y="2107"/>
                  </a:lnTo>
                  <a:lnTo>
                    <a:pt x="1991" y="2067"/>
                  </a:lnTo>
                  <a:lnTo>
                    <a:pt x="2016" y="2030"/>
                  </a:lnTo>
                  <a:lnTo>
                    <a:pt x="2036" y="1988"/>
                  </a:lnTo>
                  <a:lnTo>
                    <a:pt x="2056" y="1920"/>
                  </a:lnTo>
                  <a:lnTo>
                    <a:pt x="2057" y="1895"/>
                  </a:lnTo>
                  <a:lnTo>
                    <a:pt x="2058" y="1874"/>
                  </a:lnTo>
                  <a:lnTo>
                    <a:pt x="2057" y="1869"/>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3" name="Freeform 70"/>
            <p:cNvSpPr/>
            <p:nvPr/>
          </p:nvSpPr>
          <p:spPr>
            <a:xfrm>
              <a:off x="5685480" y="4182120"/>
              <a:ext cx="1080" cy="1080"/>
            </a:xfrm>
            <a:custGeom>
              <a:avLst/>
              <a:gdLst/>
              <a:ahLst/>
              <a:rect l="l" t="t" r="r" b="b"/>
              <a:pathLst>
                <a:path w="4" h="6">
                  <a:moveTo>
                    <a:pt x="4" y="6"/>
                  </a:moveTo>
                  <a:lnTo>
                    <a:pt x="3" y="4"/>
                  </a:lnTo>
                  <a:lnTo>
                    <a:pt x="0" y="2"/>
                  </a:lnTo>
                  <a:lnTo>
                    <a:pt x="0" y="2"/>
                  </a:lnTo>
                  <a:lnTo>
                    <a:pt x="1" y="0"/>
                  </a:lnTo>
                  <a:lnTo>
                    <a:pt x="4" y="4"/>
                  </a:lnTo>
                  <a:lnTo>
                    <a:pt x="4" y="6"/>
                  </a:lnTo>
                  <a:close/>
                </a:path>
              </a:pathLst>
            </a:custGeom>
            <a:solidFill>
              <a:srgbClr val="6a6e70"/>
            </a:solidFill>
            <a:ln w="0">
              <a:noFill/>
            </a:ln>
          </p:spPr>
          <p:style>
            <a:lnRef idx="0"/>
            <a:fillRef idx="0"/>
            <a:effectRef idx="0"/>
            <a:fontRef idx="minor"/>
          </p:style>
          <p:txBody>
            <a:bodyPr tIns="-44640" bIns="-44640" anchor="t">
              <a:noAutofit/>
            </a:bodyPr>
            <a:p>
              <a:endParaRPr b="0" lang="en-US" sz="1800" spc="-1" strike="noStrike">
                <a:solidFill>
                  <a:srgbClr val="3f3f3f"/>
                </a:solidFill>
                <a:latin typeface="Libre Franklin"/>
              </a:endParaRPr>
            </a:p>
          </p:txBody>
        </p:sp>
      </p:grpSp>
      <p:grpSp>
        <p:nvGrpSpPr>
          <p:cNvPr id="584" name="Group 35"/>
          <p:cNvGrpSpPr/>
          <p:nvPr/>
        </p:nvGrpSpPr>
        <p:grpSpPr>
          <a:xfrm>
            <a:off x="6221520" y="2031840"/>
            <a:ext cx="1461960" cy="1490760"/>
            <a:chOff x="6221520" y="2031840"/>
            <a:chExt cx="1461960" cy="1490760"/>
          </a:xfrm>
        </p:grpSpPr>
        <p:sp>
          <p:nvSpPr>
            <p:cNvPr id="585" name="Freeform 15"/>
            <p:cNvSpPr/>
            <p:nvPr/>
          </p:nvSpPr>
          <p:spPr>
            <a:xfrm>
              <a:off x="7533000" y="3368160"/>
              <a:ext cx="150480" cy="154440"/>
            </a:xfrm>
            <a:custGeom>
              <a:avLst/>
              <a:gdLst/>
              <a:ahLst/>
              <a:rect l="l" t="t" r="r" b="b"/>
              <a:pathLst>
                <a:path w="452" h="464">
                  <a:moveTo>
                    <a:pt x="369" y="364"/>
                  </a:moveTo>
                  <a:lnTo>
                    <a:pt x="288" y="271"/>
                  </a:lnTo>
                  <a:lnTo>
                    <a:pt x="187" y="159"/>
                  </a:lnTo>
                  <a:lnTo>
                    <a:pt x="137" y="103"/>
                  </a:lnTo>
                  <a:lnTo>
                    <a:pt x="90" y="50"/>
                  </a:lnTo>
                  <a:lnTo>
                    <a:pt x="61" y="23"/>
                  </a:lnTo>
                  <a:lnTo>
                    <a:pt x="34" y="0"/>
                  </a:lnTo>
                  <a:lnTo>
                    <a:pt x="27" y="13"/>
                  </a:lnTo>
                  <a:lnTo>
                    <a:pt x="20" y="26"/>
                  </a:lnTo>
                  <a:lnTo>
                    <a:pt x="10" y="41"/>
                  </a:lnTo>
                  <a:lnTo>
                    <a:pt x="0" y="55"/>
                  </a:lnTo>
                  <a:lnTo>
                    <a:pt x="26" y="84"/>
                  </a:lnTo>
                  <a:lnTo>
                    <a:pt x="53" y="112"/>
                  </a:lnTo>
                  <a:lnTo>
                    <a:pt x="105" y="160"/>
                  </a:lnTo>
                  <a:lnTo>
                    <a:pt x="160" y="207"/>
                  </a:lnTo>
                  <a:lnTo>
                    <a:pt x="267" y="306"/>
                  </a:lnTo>
                  <a:lnTo>
                    <a:pt x="358" y="385"/>
                  </a:lnTo>
                  <a:lnTo>
                    <a:pt x="430" y="448"/>
                  </a:lnTo>
                  <a:lnTo>
                    <a:pt x="449" y="464"/>
                  </a:lnTo>
                  <a:lnTo>
                    <a:pt x="452" y="459"/>
                  </a:lnTo>
                  <a:lnTo>
                    <a:pt x="436" y="439"/>
                  </a:lnTo>
                  <a:lnTo>
                    <a:pt x="369" y="364"/>
                  </a:lnTo>
                  <a:close/>
                </a:path>
              </a:pathLst>
            </a:custGeom>
            <a:solidFill>
              <a:srgbClr val="e5e5e5"/>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6" name="Freeform 16"/>
            <p:cNvSpPr/>
            <p:nvPr/>
          </p:nvSpPr>
          <p:spPr>
            <a:xfrm>
              <a:off x="7194600" y="2999880"/>
              <a:ext cx="366480" cy="430560"/>
            </a:xfrm>
            <a:custGeom>
              <a:avLst/>
              <a:gdLst/>
              <a:ahLst/>
              <a:rect l="l" t="t" r="r" b="b"/>
              <a:pathLst>
                <a:path w="1103" h="1293">
                  <a:moveTo>
                    <a:pt x="1100" y="843"/>
                  </a:moveTo>
                  <a:lnTo>
                    <a:pt x="257" y="0"/>
                  </a:lnTo>
                  <a:lnTo>
                    <a:pt x="262" y="6"/>
                  </a:lnTo>
                  <a:lnTo>
                    <a:pt x="270" y="27"/>
                  </a:lnTo>
                  <a:lnTo>
                    <a:pt x="270" y="71"/>
                  </a:lnTo>
                  <a:lnTo>
                    <a:pt x="250" y="149"/>
                  </a:lnTo>
                  <a:lnTo>
                    <a:pt x="214" y="238"/>
                  </a:lnTo>
                  <a:lnTo>
                    <a:pt x="188" y="285"/>
                  </a:lnTo>
                  <a:lnTo>
                    <a:pt x="161" y="329"/>
                  </a:lnTo>
                  <a:lnTo>
                    <a:pt x="106" y="399"/>
                  </a:lnTo>
                  <a:lnTo>
                    <a:pt x="56" y="444"/>
                  </a:lnTo>
                  <a:lnTo>
                    <a:pt x="25" y="457"/>
                  </a:lnTo>
                  <a:lnTo>
                    <a:pt x="6" y="456"/>
                  </a:lnTo>
                  <a:lnTo>
                    <a:pt x="0" y="451"/>
                  </a:lnTo>
                  <a:lnTo>
                    <a:pt x="841" y="1293"/>
                  </a:lnTo>
                  <a:lnTo>
                    <a:pt x="853" y="1291"/>
                  </a:lnTo>
                  <a:lnTo>
                    <a:pt x="924" y="1256"/>
                  </a:lnTo>
                  <a:lnTo>
                    <a:pt x="985" y="1201"/>
                  </a:lnTo>
                  <a:lnTo>
                    <a:pt x="1016" y="1158"/>
                  </a:lnTo>
                  <a:lnTo>
                    <a:pt x="1026" y="1144"/>
                  </a:lnTo>
                  <a:lnTo>
                    <a:pt x="1036" y="1129"/>
                  </a:lnTo>
                  <a:lnTo>
                    <a:pt x="1043" y="1116"/>
                  </a:lnTo>
                  <a:lnTo>
                    <a:pt x="1050" y="1103"/>
                  </a:lnTo>
                  <a:lnTo>
                    <a:pt x="1073" y="1051"/>
                  </a:lnTo>
                  <a:lnTo>
                    <a:pt x="1096" y="959"/>
                  </a:lnTo>
                  <a:lnTo>
                    <a:pt x="1103" y="859"/>
                  </a:lnTo>
                  <a:lnTo>
                    <a:pt x="1100" y="843"/>
                  </a:lnTo>
                  <a:close/>
                </a:path>
              </a:pathLst>
            </a:custGeom>
            <a:solidFill>
              <a:srgbClr val="e5e5e5"/>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7" name="Freeform 17"/>
            <p:cNvSpPr/>
            <p:nvPr/>
          </p:nvSpPr>
          <p:spPr>
            <a:xfrm>
              <a:off x="7189200" y="2997360"/>
              <a:ext cx="94320" cy="154440"/>
            </a:xfrm>
            <a:custGeom>
              <a:avLst/>
              <a:gdLst/>
              <a:ahLst/>
              <a:rect l="l" t="t" r="r" b="b"/>
              <a:pathLst>
                <a:path w="287" h="465">
                  <a:moveTo>
                    <a:pt x="274" y="8"/>
                  </a:moveTo>
                  <a:lnTo>
                    <a:pt x="264" y="1"/>
                  </a:lnTo>
                  <a:lnTo>
                    <a:pt x="241" y="0"/>
                  </a:lnTo>
                  <a:lnTo>
                    <a:pt x="213" y="14"/>
                  </a:lnTo>
                  <a:lnTo>
                    <a:pt x="182" y="40"/>
                  </a:lnTo>
                  <a:lnTo>
                    <a:pt x="163" y="58"/>
                  </a:lnTo>
                  <a:lnTo>
                    <a:pt x="198" y="91"/>
                  </a:lnTo>
                  <a:lnTo>
                    <a:pt x="206" y="98"/>
                  </a:lnTo>
                  <a:lnTo>
                    <a:pt x="206" y="102"/>
                  </a:lnTo>
                  <a:lnTo>
                    <a:pt x="206" y="124"/>
                  </a:lnTo>
                  <a:lnTo>
                    <a:pt x="204" y="148"/>
                  </a:lnTo>
                  <a:lnTo>
                    <a:pt x="185" y="216"/>
                  </a:lnTo>
                  <a:lnTo>
                    <a:pt x="163" y="258"/>
                  </a:lnTo>
                  <a:lnTo>
                    <a:pt x="139" y="297"/>
                  </a:lnTo>
                  <a:lnTo>
                    <a:pt x="96" y="336"/>
                  </a:lnTo>
                  <a:lnTo>
                    <a:pt x="79" y="343"/>
                  </a:lnTo>
                  <a:lnTo>
                    <a:pt x="65" y="347"/>
                  </a:lnTo>
                  <a:lnTo>
                    <a:pt x="62" y="347"/>
                  </a:lnTo>
                  <a:lnTo>
                    <a:pt x="55" y="340"/>
                  </a:lnTo>
                  <a:lnTo>
                    <a:pt x="22" y="305"/>
                  </a:lnTo>
                  <a:lnTo>
                    <a:pt x="13" y="330"/>
                  </a:lnTo>
                  <a:lnTo>
                    <a:pt x="3" y="380"/>
                  </a:lnTo>
                  <a:lnTo>
                    <a:pt x="0" y="419"/>
                  </a:lnTo>
                  <a:lnTo>
                    <a:pt x="7" y="448"/>
                  </a:lnTo>
                  <a:lnTo>
                    <a:pt x="14" y="457"/>
                  </a:lnTo>
                  <a:lnTo>
                    <a:pt x="17" y="459"/>
                  </a:lnTo>
                  <a:lnTo>
                    <a:pt x="23" y="464"/>
                  </a:lnTo>
                  <a:lnTo>
                    <a:pt x="42" y="465"/>
                  </a:lnTo>
                  <a:lnTo>
                    <a:pt x="73" y="452"/>
                  </a:lnTo>
                  <a:lnTo>
                    <a:pt x="123" y="407"/>
                  </a:lnTo>
                  <a:lnTo>
                    <a:pt x="178" y="337"/>
                  </a:lnTo>
                  <a:lnTo>
                    <a:pt x="205" y="293"/>
                  </a:lnTo>
                  <a:lnTo>
                    <a:pt x="231" y="246"/>
                  </a:lnTo>
                  <a:lnTo>
                    <a:pt x="267" y="157"/>
                  </a:lnTo>
                  <a:lnTo>
                    <a:pt x="287" y="79"/>
                  </a:lnTo>
                  <a:lnTo>
                    <a:pt x="287" y="35"/>
                  </a:lnTo>
                  <a:lnTo>
                    <a:pt x="279" y="14"/>
                  </a:lnTo>
                  <a:lnTo>
                    <a:pt x="274" y="8"/>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8" name="Freeform 18"/>
            <p:cNvSpPr/>
            <p:nvPr/>
          </p:nvSpPr>
          <p:spPr>
            <a:xfrm>
              <a:off x="6221520" y="2356920"/>
              <a:ext cx="350280" cy="294480"/>
            </a:xfrm>
            <a:custGeom>
              <a:avLst/>
              <a:gdLst/>
              <a:ahLst/>
              <a:rect l="l" t="t" r="r" b="b"/>
              <a:pathLst>
                <a:path w="1051" h="884">
                  <a:moveTo>
                    <a:pt x="415" y="303"/>
                  </a:moveTo>
                  <a:lnTo>
                    <a:pt x="440" y="264"/>
                  </a:lnTo>
                  <a:lnTo>
                    <a:pt x="498" y="204"/>
                  </a:lnTo>
                  <a:lnTo>
                    <a:pt x="569" y="158"/>
                  </a:lnTo>
                  <a:lnTo>
                    <a:pt x="648" y="130"/>
                  </a:lnTo>
                  <a:lnTo>
                    <a:pt x="735" y="114"/>
                  </a:lnTo>
                  <a:lnTo>
                    <a:pt x="825" y="113"/>
                  </a:lnTo>
                  <a:lnTo>
                    <a:pt x="917" y="123"/>
                  </a:lnTo>
                  <a:lnTo>
                    <a:pt x="1007" y="144"/>
                  </a:lnTo>
                  <a:lnTo>
                    <a:pt x="1051" y="160"/>
                  </a:lnTo>
                  <a:lnTo>
                    <a:pt x="1050" y="154"/>
                  </a:lnTo>
                  <a:lnTo>
                    <a:pt x="1051" y="152"/>
                  </a:lnTo>
                  <a:lnTo>
                    <a:pt x="1009" y="130"/>
                  </a:lnTo>
                  <a:lnTo>
                    <a:pt x="922" y="88"/>
                  </a:lnTo>
                  <a:lnTo>
                    <a:pt x="832" y="55"/>
                  </a:lnTo>
                  <a:lnTo>
                    <a:pt x="742" y="27"/>
                  </a:lnTo>
                  <a:lnTo>
                    <a:pt x="652" y="9"/>
                  </a:lnTo>
                  <a:lnTo>
                    <a:pt x="564" y="0"/>
                  </a:lnTo>
                  <a:lnTo>
                    <a:pt x="481" y="3"/>
                  </a:lnTo>
                  <a:lnTo>
                    <a:pt x="402" y="18"/>
                  </a:lnTo>
                  <a:lnTo>
                    <a:pt x="366" y="31"/>
                  </a:lnTo>
                  <a:lnTo>
                    <a:pt x="300" y="60"/>
                  </a:lnTo>
                  <a:lnTo>
                    <a:pt x="192" y="119"/>
                  </a:lnTo>
                  <a:lnTo>
                    <a:pt x="112" y="185"/>
                  </a:lnTo>
                  <a:lnTo>
                    <a:pt x="56" y="258"/>
                  </a:lnTo>
                  <a:lnTo>
                    <a:pt x="21" y="334"/>
                  </a:lnTo>
                  <a:lnTo>
                    <a:pt x="3" y="415"/>
                  </a:lnTo>
                  <a:lnTo>
                    <a:pt x="0" y="500"/>
                  </a:lnTo>
                  <a:lnTo>
                    <a:pt x="9" y="590"/>
                  </a:lnTo>
                  <a:lnTo>
                    <a:pt x="18" y="636"/>
                  </a:lnTo>
                  <a:lnTo>
                    <a:pt x="24" y="661"/>
                  </a:lnTo>
                  <a:lnTo>
                    <a:pt x="41" y="708"/>
                  </a:lnTo>
                  <a:lnTo>
                    <a:pt x="66" y="748"/>
                  </a:lnTo>
                  <a:lnTo>
                    <a:pt x="99" y="786"/>
                  </a:lnTo>
                  <a:lnTo>
                    <a:pt x="136" y="817"/>
                  </a:lnTo>
                  <a:lnTo>
                    <a:pt x="180" y="843"/>
                  </a:lnTo>
                  <a:lnTo>
                    <a:pt x="231" y="863"/>
                  </a:lnTo>
                  <a:lnTo>
                    <a:pt x="285" y="879"/>
                  </a:lnTo>
                  <a:lnTo>
                    <a:pt x="315" y="884"/>
                  </a:lnTo>
                  <a:lnTo>
                    <a:pt x="309" y="848"/>
                  </a:lnTo>
                  <a:lnTo>
                    <a:pt x="304" y="774"/>
                  </a:lnTo>
                  <a:lnTo>
                    <a:pt x="304" y="699"/>
                  </a:lnTo>
                  <a:lnTo>
                    <a:pt x="309" y="624"/>
                  </a:lnTo>
                  <a:lnTo>
                    <a:pt x="322" y="550"/>
                  </a:lnTo>
                  <a:lnTo>
                    <a:pt x="340" y="476"/>
                  </a:lnTo>
                  <a:lnTo>
                    <a:pt x="366" y="404"/>
                  </a:lnTo>
                  <a:lnTo>
                    <a:pt x="397" y="336"/>
                  </a:lnTo>
                  <a:lnTo>
                    <a:pt x="415" y="303"/>
                  </a:lnTo>
                  <a:close/>
                </a:path>
              </a:pathLst>
            </a:custGeom>
            <a:solidFill>
              <a:srgbClr val="242a3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89" name="Freeform 19"/>
            <p:cNvSpPr/>
            <p:nvPr/>
          </p:nvSpPr>
          <p:spPr>
            <a:xfrm>
              <a:off x="6480000" y="2058480"/>
              <a:ext cx="133200" cy="347760"/>
            </a:xfrm>
            <a:custGeom>
              <a:avLst/>
              <a:gdLst/>
              <a:ahLst/>
              <a:rect l="l" t="t" r="r" b="b"/>
              <a:pathLst>
                <a:path w="396" h="1047">
                  <a:moveTo>
                    <a:pt x="212" y="205"/>
                  </a:moveTo>
                  <a:lnTo>
                    <a:pt x="232" y="173"/>
                  </a:lnTo>
                  <a:lnTo>
                    <a:pt x="274" y="113"/>
                  </a:lnTo>
                  <a:lnTo>
                    <a:pt x="321" y="62"/>
                  </a:lnTo>
                  <a:lnTo>
                    <a:pt x="370" y="20"/>
                  </a:lnTo>
                  <a:lnTo>
                    <a:pt x="396" y="0"/>
                  </a:lnTo>
                  <a:lnTo>
                    <a:pt x="354" y="11"/>
                  </a:lnTo>
                  <a:lnTo>
                    <a:pt x="274" y="38"/>
                  </a:lnTo>
                  <a:lnTo>
                    <a:pt x="202" y="74"/>
                  </a:lnTo>
                  <a:lnTo>
                    <a:pt x="138" y="121"/>
                  </a:lnTo>
                  <a:lnTo>
                    <a:pt x="85" y="183"/>
                  </a:lnTo>
                  <a:lnTo>
                    <a:pt x="44" y="261"/>
                  </a:lnTo>
                  <a:lnTo>
                    <a:pt x="15" y="357"/>
                  </a:lnTo>
                  <a:lnTo>
                    <a:pt x="1" y="475"/>
                  </a:lnTo>
                  <a:lnTo>
                    <a:pt x="0" y="543"/>
                  </a:lnTo>
                  <a:lnTo>
                    <a:pt x="1" y="576"/>
                  </a:lnTo>
                  <a:lnTo>
                    <a:pt x="13" y="640"/>
                  </a:lnTo>
                  <a:lnTo>
                    <a:pt x="33" y="707"/>
                  </a:lnTo>
                  <a:lnTo>
                    <a:pt x="63" y="771"/>
                  </a:lnTo>
                  <a:lnTo>
                    <a:pt x="120" y="869"/>
                  </a:lnTo>
                  <a:lnTo>
                    <a:pt x="217" y="990"/>
                  </a:lnTo>
                  <a:lnTo>
                    <a:pt x="274" y="1047"/>
                  </a:lnTo>
                  <a:lnTo>
                    <a:pt x="277" y="1047"/>
                  </a:lnTo>
                  <a:lnTo>
                    <a:pt x="254" y="996"/>
                  </a:lnTo>
                  <a:lnTo>
                    <a:pt x="215" y="887"/>
                  </a:lnTo>
                  <a:lnTo>
                    <a:pt x="182" y="773"/>
                  </a:lnTo>
                  <a:lnTo>
                    <a:pt x="159" y="659"/>
                  </a:lnTo>
                  <a:lnTo>
                    <a:pt x="147" y="547"/>
                  </a:lnTo>
                  <a:lnTo>
                    <a:pt x="149" y="438"/>
                  </a:lnTo>
                  <a:lnTo>
                    <a:pt x="162" y="337"/>
                  </a:lnTo>
                  <a:lnTo>
                    <a:pt x="192" y="245"/>
                  </a:lnTo>
                  <a:lnTo>
                    <a:pt x="212" y="205"/>
                  </a:lnTo>
                  <a:close/>
                </a:path>
              </a:pathLst>
            </a:custGeom>
            <a:solidFill>
              <a:srgbClr val="242a3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0" name="Freeform 20"/>
            <p:cNvSpPr/>
            <p:nvPr/>
          </p:nvSpPr>
          <p:spPr>
            <a:xfrm>
              <a:off x="6322680" y="2394360"/>
              <a:ext cx="376920" cy="424080"/>
            </a:xfrm>
            <a:custGeom>
              <a:avLst/>
              <a:gdLst/>
              <a:ahLst/>
              <a:rect l="l" t="t" r="r" b="b"/>
              <a:pathLst>
                <a:path w="1130" h="1271">
                  <a:moveTo>
                    <a:pt x="1049" y="408"/>
                  </a:moveTo>
                  <a:lnTo>
                    <a:pt x="945" y="290"/>
                  </a:lnTo>
                  <a:lnTo>
                    <a:pt x="811" y="136"/>
                  </a:lnTo>
                  <a:lnTo>
                    <a:pt x="757" y="66"/>
                  </a:lnTo>
                  <a:lnTo>
                    <a:pt x="747" y="47"/>
                  </a:lnTo>
                  <a:lnTo>
                    <a:pt x="703" y="31"/>
                  </a:lnTo>
                  <a:lnTo>
                    <a:pt x="613" y="10"/>
                  </a:lnTo>
                  <a:lnTo>
                    <a:pt x="521" y="0"/>
                  </a:lnTo>
                  <a:lnTo>
                    <a:pt x="431" y="1"/>
                  </a:lnTo>
                  <a:lnTo>
                    <a:pt x="344" y="17"/>
                  </a:lnTo>
                  <a:lnTo>
                    <a:pt x="265" y="45"/>
                  </a:lnTo>
                  <a:lnTo>
                    <a:pt x="194" y="91"/>
                  </a:lnTo>
                  <a:lnTo>
                    <a:pt x="136" y="151"/>
                  </a:lnTo>
                  <a:lnTo>
                    <a:pt x="111" y="190"/>
                  </a:lnTo>
                  <a:lnTo>
                    <a:pt x="93" y="223"/>
                  </a:lnTo>
                  <a:lnTo>
                    <a:pt x="62" y="291"/>
                  </a:lnTo>
                  <a:lnTo>
                    <a:pt x="36" y="363"/>
                  </a:lnTo>
                  <a:lnTo>
                    <a:pt x="18" y="437"/>
                  </a:lnTo>
                  <a:lnTo>
                    <a:pt x="5" y="511"/>
                  </a:lnTo>
                  <a:lnTo>
                    <a:pt x="0" y="586"/>
                  </a:lnTo>
                  <a:lnTo>
                    <a:pt x="0" y="661"/>
                  </a:lnTo>
                  <a:lnTo>
                    <a:pt x="5" y="735"/>
                  </a:lnTo>
                  <a:lnTo>
                    <a:pt x="11" y="771"/>
                  </a:lnTo>
                  <a:lnTo>
                    <a:pt x="20" y="824"/>
                  </a:lnTo>
                  <a:lnTo>
                    <a:pt x="53" y="928"/>
                  </a:lnTo>
                  <a:lnTo>
                    <a:pt x="97" y="1022"/>
                  </a:lnTo>
                  <a:lnTo>
                    <a:pt x="155" y="1105"/>
                  </a:lnTo>
                  <a:lnTo>
                    <a:pt x="190" y="1143"/>
                  </a:lnTo>
                  <a:lnTo>
                    <a:pt x="211" y="1162"/>
                  </a:lnTo>
                  <a:lnTo>
                    <a:pt x="254" y="1197"/>
                  </a:lnTo>
                  <a:lnTo>
                    <a:pt x="299" y="1225"/>
                  </a:lnTo>
                  <a:lnTo>
                    <a:pt x="346" y="1247"/>
                  </a:lnTo>
                  <a:lnTo>
                    <a:pt x="394" y="1261"/>
                  </a:lnTo>
                  <a:lnTo>
                    <a:pt x="443" y="1269"/>
                  </a:lnTo>
                  <a:lnTo>
                    <a:pt x="492" y="1271"/>
                  </a:lnTo>
                  <a:lnTo>
                    <a:pt x="540" y="1267"/>
                  </a:lnTo>
                  <a:lnTo>
                    <a:pt x="614" y="1249"/>
                  </a:lnTo>
                  <a:lnTo>
                    <a:pt x="707" y="1204"/>
                  </a:lnTo>
                  <a:lnTo>
                    <a:pt x="795" y="1135"/>
                  </a:lnTo>
                  <a:lnTo>
                    <a:pt x="873" y="1043"/>
                  </a:lnTo>
                  <a:lnTo>
                    <a:pt x="908" y="987"/>
                  </a:lnTo>
                  <a:lnTo>
                    <a:pt x="979" y="862"/>
                  </a:lnTo>
                  <a:lnTo>
                    <a:pt x="1068" y="687"/>
                  </a:lnTo>
                  <a:lnTo>
                    <a:pt x="1107" y="577"/>
                  </a:lnTo>
                  <a:lnTo>
                    <a:pt x="1118" y="523"/>
                  </a:lnTo>
                  <a:lnTo>
                    <a:pt x="1125" y="512"/>
                  </a:lnTo>
                  <a:lnTo>
                    <a:pt x="1130" y="498"/>
                  </a:lnTo>
                  <a:lnTo>
                    <a:pt x="1126" y="494"/>
                  </a:lnTo>
                  <a:lnTo>
                    <a:pt x="1122" y="490"/>
                  </a:lnTo>
                  <a:lnTo>
                    <a:pt x="1084" y="448"/>
                  </a:lnTo>
                  <a:lnTo>
                    <a:pt x="1049" y="408"/>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1" name="Freeform 21"/>
            <p:cNvSpPr/>
            <p:nvPr/>
          </p:nvSpPr>
          <p:spPr>
            <a:xfrm>
              <a:off x="6529320" y="2031840"/>
              <a:ext cx="325080" cy="494640"/>
            </a:xfrm>
            <a:custGeom>
              <a:avLst/>
              <a:gdLst/>
              <a:ahLst/>
              <a:rect l="l" t="t" r="r" b="b"/>
              <a:pathLst>
                <a:path w="975" h="1487">
                  <a:moveTo>
                    <a:pt x="65" y="284"/>
                  </a:moveTo>
                  <a:lnTo>
                    <a:pt x="45" y="324"/>
                  </a:lnTo>
                  <a:lnTo>
                    <a:pt x="15" y="416"/>
                  </a:lnTo>
                  <a:lnTo>
                    <a:pt x="2" y="517"/>
                  </a:lnTo>
                  <a:lnTo>
                    <a:pt x="0" y="626"/>
                  </a:lnTo>
                  <a:lnTo>
                    <a:pt x="12" y="738"/>
                  </a:lnTo>
                  <a:lnTo>
                    <a:pt x="35" y="852"/>
                  </a:lnTo>
                  <a:lnTo>
                    <a:pt x="68" y="966"/>
                  </a:lnTo>
                  <a:lnTo>
                    <a:pt x="107" y="1075"/>
                  </a:lnTo>
                  <a:lnTo>
                    <a:pt x="130" y="1126"/>
                  </a:lnTo>
                  <a:lnTo>
                    <a:pt x="139" y="1129"/>
                  </a:lnTo>
                  <a:lnTo>
                    <a:pt x="177" y="1156"/>
                  </a:lnTo>
                  <a:lnTo>
                    <a:pt x="262" y="1230"/>
                  </a:lnTo>
                  <a:lnTo>
                    <a:pt x="332" y="1291"/>
                  </a:lnTo>
                  <a:lnTo>
                    <a:pt x="392" y="1343"/>
                  </a:lnTo>
                  <a:lnTo>
                    <a:pt x="461" y="1404"/>
                  </a:lnTo>
                  <a:lnTo>
                    <a:pt x="470" y="1412"/>
                  </a:lnTo>
                  <a:lnTo>
                    <a:pt x="479" y="1419"/>
                  </a:lnTo>
                  <a:lnTo>
                    <a:pt x="515" y="1452"/>
                  </a:lnTo>
                  <a:lnTo>
                    <a:pt x="554" y="1487"/>
                  </a:lnTo>
                  <a:lnTo>
                    <a:pt x="573" y="1475"/>
                  </a:lnTo>
                  <a:lnTo>
                    <a:pt x="614" y="1445"/>
                  </a:lnTo>
                  <a:lnTo>
                    <a:pt x="671" y="1383"/>
                  </a:lnTo>
                  <a:lnTo>
                    <a:pt x="746" y="1277"/>
                  </a:lnTo>
                  <a:lnTo>
                    <a:pt x="824" y="1150"/>
                  </a:lnTo>
                  <a:lnTo>
                    <a:pt x="862" y="1081"/>
                  </a:lnTo>
                  <a:lnTo>
                    <a:pt x="894" y="1023"/>
                  </a:lnTo>
                  <a:lnTo>
                    <a:pt x="940" y="898"/>
                  </a:lnTo>
                  <a:lnTo>
                    <a:pt x="967" y="769"/>
                  </a:lnTo>
                  <a:lnTo>
                    <a:pt x="975" y="638"/>
                  </a:lnTo>
                  <a:lnTo>
                    <a:pt x="965" y="508"/>
                  </a:lnTo>
                  <a:lnTo>
                    <a:pt x="936" y="385"/>
                  </a:lnTo>
                  <a:lnTo>
                    <a:pt x="888" y="271"/>
                  </a:lnTo>
                  <a:lnTo>
                    <a:pt x="842" y="196"/>
                  </a:lnTo>
                  <a:lnTo>
                    <a:pt x="804" y="149"/>
                  </a:lnTo>
                  <a:lnTo>
                    <a:pt x="783" y="128"/>
                  </a:lnTo>
                  <a:lnTo>
                    <a:pt x="755" y="100"/>
                  </a:lnTo>
                  <a:lnTo>
                    <a:pt x="691" y="56"/>
                  </a:lnTo>
                  <a:lnTo>
                    <a:pt x="625" y="23"/>
                  </a:lnTo>
                  <a:lnTo>
                    <a:pt x="557" y="5"/>
                  </a:lnTo>
                  <a:lnTo>
                    <a:pt x="488" y="0"/>
                  </a:lnTo>
                  <a:lnTo>
                    <a:pt x="418" y="7"/>
                  </a:lnTo>
                  <a:lnTo>
                    <a:pt x="349" y="27"/>
                  </a:lnTo>
                  <a:lnTo>
                    <a:pt x="282" y="58"/>
                  </a:lnTo>
                  <a:lnTo>
                    <a:pt x="249" y="79"/>
                  </a:lnTo>
                  <a:lnTo>
                    <a:pt x="223" y="99"/>
                  </a:lnTo>
                  <a:lnTo>
                    <a:pt x="174" y="141"/>
                  </a:lnTo>
                  <a:lnTo>
                    <a:pt x="127" y="192"/>
                  </a:lnTo>
                  <a:lnTo>
                    <a:pt x="85" y="252"/>
                  </a:lnTo>
                  <a:lnTo>
                    <a:pt x="65" y="284"/>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2" name="Freeform 22"/>
            <p:cNvSpPr/>
            <p:nvPr/>
          </p:nvSpPr>
          <p:spPr>
            <a:xfrm>
              <a:off x="6571800" y="2406600"/>
              <a:ext cx="685080" cy="706680"/>
            </a:xfrm>
            <a:custGeom>
              <a:avLst/>
              <a:gdLst/>
              <a:ahLst/>
              <a:rect l="l" t="t" r="r" b="b"/>
              <a:pathLst>
                <a:path w="2057" h="2118">
                  <a:moveTo>
                    <a:pt x="2057" y="1869"/>
                  </a:moveTo>
                  <a:lnTo>
                    <a:pt x="2049" y="1862"/>
                  </a:lnTo>
                  <a:lnTo>
                    <a:pt x="2014" y="1829"/>
                  </a:lnTo>
                  <a:lnTo>
                    <a:pt x="1782" y="1612"/>
                  </a:lnTo>
                  <a:lnTo>
                    <a:pt x="865" y="757"/>
                  </a:lnTo>
                  <a:lnTo>
                    <a:pt x="428" y="361"/>
                  </a:lnTo>
                  <a:lnTo>
                    <a:pt x="389" y="326"/>
                  </a:lnTo>
                  <a:lnTo>
                    <a:pt x="353" y="293"/>
                  </a:lnTo>
                  <a:lnTo>
                    <a:pt x="344" y="286"/>
                  </a:lnTo>
                  <a:lnTo>
                    <a:pt x="335" y="278"/>
                  </a:lnTo>
                  <a:lnTo>
                    <a:pt x="266" y="217"/>
                  </a:lnTo>
                  <a:lnTo>
                    <a:pt x="206" y="165"/>
                  </a:lnTo>
                  <a:lnTo>
                    <a:pt x="136" y="104"/>
                  </a:lnTo>
                  <a:lnTo>
                    <a:pt x="51" y="30"/>
                  </a:lnTo>
                  <a:lnTo>
                    <a:pt x="13" y="3"/>
                  </a:lnTo>
                  <a:lnTo>
                    <a:pt x="4" y="0"/>
                  </a:lnTo>
                  <a:lnTo>
                    <a:pt x="1" y="0"/>
                  </a:lnTo>
                  <a:lnTo>
                    <a:pt x="1" y="0"/>
                  </a:lnTo>
                  <a:lnTo>
                    <a:pt x="1" y="2"/>
                  </a:lnTo>
                  <a:lnTo>
                    <a:pt x="0" y="4"/>
                  </a:lnTo>
                  <a:lnTo>
                    <a:pt x="1" y="10"/>
                  </a:lnTo>
                  <a:lnTo>
                    <a:pt x="11" y="29"/>
                  </a:lnTo>
                  <a:lnTo>
                    <a:pt x="65" y="99"/>
                  </a:lnTo>
                  <a:lnTo>
                    <a:pt x="199" y="253"/>
                  </a:lnTo>
                  <a:lnTo>
                    <a:pt x="303" y="371"/>
                  </a:lnTo>
                  <a:lnTo>
                    <a:pt x="338" y="411"/>
                  </a:lnTo>
                  <a:lnTo>
                    <a:pt x="376" y="453"/>
                  </a:lnTo>
                  <a:lnTo>
                    <a:pt x="380" y="457"/>
                  </a:lnTo>
                  <a:lnTo>
                    <a:pt x="384" y="461"/>
                  </a:lnTo>
                  <a:lnTo>
                    <a:pt x="790" y="909"/>
                  </a:lnTo>
                  <a:lnTo>
                    <a:pt x="1653" y="1841"/>
                  </a:lnTo>
                  <a:lnTo>
                    <a:pt x="1873" y="2076"/>
                  </a:lnTo>
                  <a:lnTo>
                    <a:pt x="1906" y="2111"/>
                  </a:lnTo>
                  <a:lnTo>
                    <a:pt x="1913" y="2118"/>
                  </a:lnTo>
                  <a:lnTo>
                    <a:pt x="1916" y="2118"/>
                  </a:lnTo>
                  <a:lnTo>
                    <a:pt x="1930" y="2114"/>
                  </a:lnTo>
                  <a:lnTo>
                    <a:pt x="1947" y="2107"/>
                  </a:lnTo>
                  <a:lnTo>
                    <a:pt x="1990" y="2068"/>
                  </a:lnTo>
                  <a:lnTo>
                    <a:pt x="2014" y="2029"/>
                  </a:lnTo>
                  <a:lnTo>
                    <a:pt x="2036" y="1987"/>
                  </a:lnTo>
                  <a:lnTo>
                    <a:pt x="2055" y="1919"/>
                  </a:lnTo>
                  <a:lnTo>
                    <a:pt x="2057" y="1895"/>
                  </a:lnTo>
                  <a:lnTo>
                    <a:pt x="2057" y="1873"/>
                  </a:lnTo>
                  <a:lnTo>
                    <a:pt x="2057" y="1869"/>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3" name="Freeform 32"/>
            <p:cNvSpPr/>
            <p:nvPr/>
          </p:nvSpPr>
          <p:spPr>
            <a:xfrm>
              <a:off x="7680960" y="3521520"/>
              <a:ext cx="1080" cy="1080"/>
            </a:xfrm>
            <a:custGeom>
              <a:avLst/>
              <a:gdLst/>
              <a:ahLst/>
              <a:rect l="l" t="t" r="r" b="b"/>
              <a:pathLst>
                <a:path w="5" h="4">
                  <a:moveTo>
                    <a:pt x="4" y="4"/>
                  </a:moveTo>
                  <a:lnTo>
                    <a:pt x="4" y="4"/>
                  </a:lnTo>
                  <a:lnTo>
                    <a:pt x="0" y="1"/>
                  </a:lnTo>
                  <a:lnTo>
                    <a:pt x="1" y="0"/>
                  </a:lnTo>
                  <a:lnTo>
                    <a:pt x="1" y="0"/>
                  </a:lnTo>
                  <a:lnTo>
                    <a:pt x="5" y="2"/>
                  </a:lnTo>
                  <a:lnTo>
                    <a:pt x="4" y="4"/>
                  </a:lnTo>
                  <a:close/>
                </a:path>
              </a:pathLst>
            </a:custGeom>
            <a:solidFill>
              <a:srgbClr val="6a6e70"/>
            </a:solidFill>
            <a:ln w="0">
              <a:noFill/>
            </a:ln>
          </p:spPr>
          <p:style>
            <a:lnRef idx="0"/>
            <a:fillRef idx="0"/>
            <a:effectRef idx="0"/>
            <a:fontRef idx="minor"/>
          </p:style>
          <p:txBody>
            <a:bodyPr tIns="-44640" bIns="-44640" anchor="t">
              <a:noAutofit/>
            </a:bodyPr>
            <a:p>
              <a:endParaRPr b="0" lang="en-US" sz="1800" spc="-1" strike="noStrike">
                <a:solidFill>
                  <a:srgbClr val="3f3f3f"/>
                </a:solidFill>
                <a:latin typeface="Libre Franklin"/>
              </a:endParaRPr>
            </a:p>
          </p:txBody>
        </p:sp>
      </p:grpSp>
      <p:grpSp>
        <p:nvGrpSpPr>
          <p:cNvPr id="594" name="Group 37"/>
          <p:cNvGrpSpPr/>
          <p:nvPr/>
        </p:nvGrpSpPr>
        <p:grpSpPr>
          <a:xfrm>
            <a:off x="5583240" y="3222720"/>
            <a:ext cx="1461960" cy="1490400"/>
            <a:chOff x="5583240" y="3222720"/>
            <a:chExt cx="1461960" cy="1490400"/>
          </a:xfrm>
        </p:grpSpPr>
        <p:sp>
          <p:nvSpPr>
            <p:cNvPr id="595" name="Freeform 61"/>
            <p:cNvSpPr/>
            <p:nvPr/>
          </p:nvSpPr>
          <p:spPr>
            <a:xfrm>
              <a:off x="6894720" y="4558680"/>
              <a:ext cx="150480" cy="154440"/>
            </a:xfrm>
            <a:custGeom>
              <a:avLst/>
              <a:gdLst/>
              <a:ahLst/>
              <a:rect l="l" t="t" r="r" b="b"/>
              <a:pathLst>
                <a:path w="451" h="466">
                  <a:moveTo>
                    <a:pt x="370" y="364"/>
                  </a:moveTo>
                  <a:lnTo>
                    <a:pt x="287" y="271"/>
                  </a:lnTo>
                  <a:lnTo>
                    <a:pt x="187" y="161"/>
                  </a:lnTo>
                  <a:lnTo>
                    <a:pt x="136" y="104"/>
                  </a:lnTo>
                  <a:lnTo>
                    <a:pt x="89" y="52"/>
                  </a:lnTo>
                  <a:lnTo>
                    <a:pt x="60" y="25"/>
                  </a:lnTo>
                  <a:lnTo>
                    <a:pt x="33" y="0"/>
                  </a:lnTo>
                  <a:lnTo>
                    <a:pt x="26" y="13"/>
                  </a:lnTo>
                  <a:lnTo>
                    <a:pt x="19" y="27"/>
                  </a:lnTo>
                  <a:lnTo>
                    <a:pt x="9" y="42"/>
                  </a:lnTo>
                  <a:lnTo>
                    <a:pt x="0" y="56"/>
                  </a:lnTo>
                  <a:lnTo>
                    <a:pt x="25" y="85"/>
                  </a:lnTo>
                  <a:lnTo>
                    <a:pt x="52" y="114"/>
                  </a:lnTo>
                  <a:lnTo>
                    <a:pt x="104" y="161"/>
                  </a:lnTo>
                  <a:lnTo>
                    <a:pt x="158" y="209"/>
                  </a:lnTo>
                  <a:lnTo>
                    <a:pt x="267" y="306"/>
                  </a:lnTo>
                  <a:lnTo>
                    <a:pt x="357" y="387"/>
                  </a:lnTo>
                  <a:lnTo>
                    <a:pt x="431" y="450"/>
                  </a:lnTo>
                  <a:lnTo>
                    <a:pt x="449" y="466"/>
                  </a:lnTo>
                  <a:lnTo>
                    <a:pt x="451" y="459"/>
                  </a:lnTo>
                  <a:lnTo>
                    <a:pt x="436" y="440"/>
                  </a:lnTo>
                  <a:lnTo>
                    <a:pt x="370" y="364"/>
                  </a:lnTo>
                  <a:close/>
                </a:path>
              </a:pathLst>
            </a:custGeom>
            <a:solidFill>
              <a:srgbClr val="e5e5e5"/>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6" name="Freeform 62"/>
            <p:cNvSpPr/>
            <p:nvPr/>
          </p:nvSpPr>
          <p:spPr>
            <a:xfrm>
              <a:off x="6555600" y="4190760"/>
              <a:ext cx="366840" cy="432000"/>
            </a:xfrm>
            <a:custGeom>
              <a:avLst/>
              <a:gdLst/>
              <a:ahLst/>
              <a:rect l="l" t="t" r="r" b="b"/>
              <a:pathLst>
                <a:path w="1103" h="1294">
                  <a:moveTo>
                    <a:pt x="1102" y="845"/>
                  </a:moveTo>
                  <a:lnTo>
                    <a:pt x="257" y="0"/>
                  </a:lnTo>
                  <a:lnTo>
                    <a:pt x="263" y="8"/>
                  </a:lnTo>
                  <a:lnTo>
                    <a:pt x="269" y="29"/>
                  </a:lnTo>
                  <a:lnTo>
                    <a:pt x="269" y="73"/>
                  </a:lnTo>
                  <a:lnTo>
                    <a:pt x="251" y="149"/>
                  </a:lnTo>
                  <a:lnTo>
                    <a:pt x="214" y="240"/>
                  </a:lnTo>
                  <a:lnTo>
                    <a:pt x="188" y="287"/>
                  </a:lnTo>
                  <a:lnTo>
                    <a:pt x="162" y="331"/>
                  </a:lnTo>
                  <a:lnTo>
                    <a:pt x="107" y="401"/>
                  </a:lnTo>
                  <a:lnTo>
                    <a:pt x="57" y="445"/>
                  </a:lnTo>
                  <a:lnTo>
                    <a:pt x="25" y="458"/>
                  </a:lnTo>
                  <a:lnTo>
                    <a:pt x="8" y="457"/>
                  </a:lnTo>
                  <a:lnTo>
                    <a:pt x="0" y="453"/>
                  </a:lnTo>
                  <a:lnTo>
                    <a:pt x="841" y="1294"/>
                  </a:lnTo>
                  <a:lnTo>
                    <a:pt x="853" y="1293"/>
                  </a:lnTo>
                  <a:lnTo>
                    <a:pt x="925" y="1256"/>
                  </a:lnTo>
                  <a:lnTo>
                    <a:pt x="986" y="1202"/>
                  </a:lnTo>
                  <a:lnTo>
                    <a:pt x="1017" y="1159"/>
                  </a:lnTo>
                  <a:lnTo>
                    <a:pt x="1026" y="1145"/>
                  </a:lnTo>
                  <a:lnTo>
                    <a:pt x="1036" y="1130"/>
                  </a:lnTo>
                  <a:lnTo>
                    <a:pt x="1043" y="1116"/>
                  </a:lnTo>
                  <a:lnTo>
                    <a:pt x="1050" y="1103"/>
                  </a:lnTo>
                  <a:lnTo>
                    <a:pt x="1073" y="1051"/>
                  </a:lnTo>
                  <a:lnTo>
                    <a:pt x="1098" y="959"/>
                  </a:lnTo>
                  <a:lnTo>
                    <a:pt x="1103" y="860"/>
                  </a:lnTo>
                  <a:lnTo>
                    <a:pt x="1102" y="845"/>
                  </a:lnTo>
                  <a:close/>
                </a:path>
              </a:pathLst>
            </a:custGeom>
            <a:solidFill>
              <a:srgbClr val="e5e5e5"/>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7" name="Freeform 63"/>
            <p:cNvSpPr/>
            <p:nvPr/>
          </p:nvSpPr>
          <p:spPr>
            <a:xfrm>
              <a:off x="6550200" y="4189320"/>
              <a:ext cx="94680" cy="154440"/>
            </a:xfrm>
            <a:custGeom>
              <a:avLst/>
              <a:gdLst/>
              <a:ahLst/>
              <a:rect l="l" t="t" r="r" b="b"/>
              <a:pathLst>
                <a:path w="286" h="464">
                  <a:moveTo>
                    <a:pt x="274" y="6"/>
                  </a:moveTo>
                  <a:lnTo>
                    <a:pt x="266" y="0"/>
                  </a:lnTo>
                  <a:lnTo>
                    <a:pt x="242" y="0"/>
                  </a:lnTo>
                  <a:lnTo>
                    <a:pt x="214" y="13"/>
                  </a:lnTo>
                  <a:lnTo>
                    <a:pt x="182" y="40"/>
                  </a:lnTo>
                  <a:lnTo>
                    <a:pt x="165" y="57"/>
                  </a:lnTo>
                  <a:lnTo>
                    <a:pt x="198" y="91"/>
                  </a:lnTo>
                  <a:lnTo>
                    <a:pt x="206" y="97"/>
                  </a:lnTo>
                  <a:lnTo>
                    <a:pt x="207" y="102"/>
                  </a:lnTo>
                  <a:lnTo>
                    <a:pt x="206" y="123"/>
                  </a:lnTo>
                  <a:lnTo>
                    <a:pt x="205" y="148"/>
                  </a:lnTo>
                  <a:lnTo>
                    <a:pt x="185" y="216"/>
                  </a:lnTo>
                  <a:lnTo>
                    <a:pt x="165" y="258"/>
                  </a:lnTo>
                  <a:lnTo>
                    <a:pt x="140" y="295"/>
                  </a:lnTo>
                  <a:lnTo>
                    <a:pt x="96" y="335"/>
                  </a:lnTo>
                  <a:lnTo>
                    <a:pt x="80" y="342"/>
                  </a:lnTo>
                  <a:lnTo>
                    <a:pt x="66" y="346"/>
                  </a:lnTo>
                  <a:lnTo>
                    <a:pt x="62" y="346"/>
                  </a:lnTo>
                  <a:lnTo>
                    <a:pt x="54" y="339"/>
                  </a:lnTo>
                  <a:lnTo>
                    <a:pt x="22" y="303"/>
                  </a:lnTo>
                  <a:lnTo>
                    <a:pt x="13" y="330"/>
                  </a:lnTo>
                  <a:lnTo>
                    <a:pt x="3" y="378"/>
                  </a:lnTo>
                  <a:lnTo>
                    <a:pt x="0" y="418"/>
                  </a:lnTo>
                  <a:lnTo>
                    <a:pt x="7" y="447"/>
                  </a:lnTo>
                  <a:lnTo>
                    <a:pt x="14" y="456"/>
                  </a:lnTo>
                  <a:lnTo>
                    <a:pt x="17" y="459"/>
                  </a:lnTo>
                  <a:lnTo>
                    <a:pt x="25" y="463"/>
                  </a:lnTo>
                  <a:lnTo>
                    <a:pt x="42" y="464"/>
                  </a:lnTo>
                  <a:lnTo>
                    <a:pt x="74" y="451"/>
                  </a:lnTo>
                  <a:lnTo>
                    <a:pt x="124" y="407"/>
                  </a:lnTo>
                  <a:lnTo>
                    <a:pt x="179" y="337"/>
                  </a:lnTo>
                  <a:lnTo>
                    <a:pt x="205" y="293"/>
                  </a:lnTo>
                  <a:lnTo>
                    <a:pt x="231" y="246"/>
                  </a:lnTo>
                  <a:lnTo>
                    <a:pt x="268" y="155"/>
                  </a:lnTo>
                  <a:lnTo>
                    <a:pt x="286" y="79"/>
                  </a:lnTo>
                  <a:lnTo>
                    <a:pt x="286" y="35"/>
                  </a:lnTo>
                  <a:lnTo>
                    <a:pt x="280" y="14"/>
                  </a:lnTo>
                  <a:lnTo>
                    <a:pt x="274" y="6"/>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8" name="Freeform 64"/>
            <p:cNvSpPr/>
            <p:nvPr/>
          </p:nvSpPr>
          <p:spPr>
            <a:xfrm>
              <a:off x="5583240" y="3547800"/>
              <a:ext cx="349560" cy="294480"/>
            </a:xfrm>
            <a:custGeom>
              <a:avLst/>
              <a:gdLst/>
              <a:ahLst/>
              <a:rect l="l" t="t" r="r" b="b"/>
              <a:pathLst>
                <a:path w="1049" h="883">
                  <a:moveTo>
                    <a:pt x="413" y="302"/>
                  </a:moveTo>
                  <a:lnTo>
                    <a:pt x="438" y="264"/>
                  </a:lnTo>
                  <a:lnTo>
                    <a:pt x="497" y="202"/>
                  </a:lnTo>
                  <a:lnTo>
                    <a:pt x="567" y="158"/>
                  </a:lnTo>
                  <a:lnTo>
                    <a:pt x="648" y="128"/>
                  </a:lnTo>
                  <a:lnTo>
                    <a:pt x="733" y="114"/>
                  </a:lnTo>
                  <a:lnTo>
                    <a:pt x="823" y="111"/>
                  </a:lnTo>
                  <a:lnTo>
                    <a:pt x="915" y="122"/>
                  </a:lnTo>
                  <a:lnTo>
                    <a:pt x="1005" y="144"/>
                  </a:lnTo>
                  <a:lnTo>
                    <a:pt x="1049" y="158"/>
                  </a:lnTo>
                  <a:lnTo>
                    <a:pt x="1048" y="154"/>
                  </a:lnTo>
                  <a:lnTo>
                    <a:pt x="1049" y="152"/>
                  </a:lnTo>
                  <a:lnTo>
                    <a:pt x="1008" y="128"/>
                  </a:lnTo>
                  <a:lnTo>
                    <a:pt x="920" y="88"/>
                  </a:lnTo>
                  <a:lnTo>
                    <a:pt x="830" y="53"/>
                  </a:lnTo>
                  <a:lnTo>
                    <a:pt x="741" y="26"/>
                  </a:lnTo>
                  <a:lnTo>
                    <a:pt x="650" y="8"/>
                  </a:lnTo>
                  <a:lnTo>
                    <a:pt x="563" y="0"/>
                  </a:lnTo>
                  <a:lnTo>
                    <a:pt x="479" y="3"/>
                  </a:lnTo>
                  <a:lnTo>
                    <a:pt x="400" y="18"/>
                  </a:lnTo>
                  <a:lnTo>
                    <a:pt x="364" y="31"/>
                  </a:lnTo>
                  <a:lnTo>
                    <a:pt x="298" y="58"/>
                  </a:lnTo>
                  <a:lnTo>
                    <a:pt x="190" y="119"/>
                  </a:lnTo>
                  <a:lnTo>
                    <a:pt x="111" y="185"/>
                  </a:lnTo>
                  <a:lnTo>
                    <a:pt x="54" y="257"/>
                  </a:lnTo>
                  <a:lnTo>
                    <a:pt x="19" y="333"/>
                  </a:lnTo>
                  <a:lnTo>
                    <a:pt x="2" y="415"/>
                  </a:lnTo>
                  <a:lnTo>
                    <a:pt x="0" y="500"/>
                  </a:lnTo>
                  <a:lnTo>
                    <a:pt x="9" y="588"/>
                  </a:lnTo>
                  <a:lnTo>
                    <a:pt x="16" y="635"/>
                  </a:lnTo>
                  <a:lnTo>
                    <a:pt x="22" y="660"/>
                  </a:lnTo>
                  <a:lnTo>
                    <a:pt x="40" y="706"/>
                  </a:lnTo>
                  <a:lnTo>
                    <a:pt x="64" y="748"/>
                  </a:lnTo>
                  <a:lnTo>
                    <a:pt x="97" y="784"/>
                  </a:lnTo>
                  <a:lnTo>
                    <a:pt x="136" y="815"/>
                  </a:lnTo>
                  <a:lnTo>
                    <a:pt x="180" y="841"/>
                  </a:lnTo>
                  <a:lnTo>
                    <a:pt x="229" y="862"/>
                  </a:lnTo>
                  <a:lnTo>
                    <a:pt x="285" y="877"/>
                  </a:lnTo>
                  <a:lnTo>
                    <a:pt x="313" y="883"/>
                  </a:lnTo>
                  <a:lnTo>
                    <a:pt x="308" y="846"/>
                  </a:lnTo>
                  <a:lnTo>
                    <a:pt x="302" y="772"/>
                  </a:lnTo>
                  <a:lnTo>
                    <a:pt x="302" y="699"/>
                  </a:lnTo>
                  <a:lnTo>
                    <a:pt x="308" y="623"/>
                  </a:lnTo>
                  <a:lnTo>
                    <a:pt x="320" y="548"/>
                  </a:lnTo>
                  <a:lnTo>
                    <a:pt x="339" y="476"/>
                  </a:lnTo>
                  <a:lnTo>
                    <a:pt x="364" y="404"/>
                  </a:lnTo>
                  <a:lnTo>
                    <a:pt x="395" y="336"/>
                  </a:lnTo>
                  <a:lnTo>
                    <a:pt x="413" y="302"/>
                  </a:lnTo>
                  <a:close/>
                </a:path>
              </a:pathLst>
            </a:custGeom>
            <a:solidFill>
              <a:srgbClr val="242a3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599" name="Freeform 65"/>
            <p:cNvSpPr/>
            <p:nvPr/>
          </p:nvSpPr>
          <p:spPr>
            <a:xfrm>
              <a:off x="5842080" y="3249360"/>
              <a:ext cx="131760" cy="349200"/>
            </a:xfrm>
            <a:custGeom>
              <a:avLst/>
              <a:gdLst/>
              <a:ahLst/>
              <a:rect l="l" t="t" r="r" b="b"/>
              <a:pathLst>
                <a:path w="397" h="1047">
                  <a:moveTo>
                    <a:pt x="213" y="204"/>
                  </a:moveTo>
                  <a:lnTo>
                    <a:pt x="232" y="171"/>
                  </a:lnTo>
                  <a:lnTo>
                    <a:pt x="275" y="113"/>
                  </a:lnTo>
                  <a:lnTo>
                    <a:pt x="321" y="61"/>
                  </a:lnTo>
                  <a:lnTo>
                    <a:pt x="371" y="18"/>
                  </a:lnTo>
                  <a:lnTo>
                    <a:pt x="397" y="0"/>
                  </a:lnTo>
                  <a:lnTo>
                    <a:pt x="354" y="10"/>
                  </a:lnTo>
                  <a:lnTo>
                    <a:pt x="273" y="36"/>
                  </a:lnTo>
                  <a:lnTo>
                    <a:pt x="201" y="73"/>
                  </a:lnTo>
                  <a:lnTo>
                    <a:pt x="137" y="121"/>
                  </a:lnTo>
                  <a:lnTo>
                    <a:pt x="84" y="181"/>
                  </a:lnTo>
                  <a:lnTo>
                    <a:pt x="43" y="259"/>
                  </a:lnTo>
                  <a:lnTo>
                    <a:pt x="14" y="356"/>
                  </a:lnTo>
                  <a:lnTo>
                    <a:pt x="0" y="474"/>
                  </a:lnTo>
                  <a:lnTo>
                    <a:pt x="0" y="543"/>
                  </a:lnTo>
                  <a:lnTo>
                    <a:pt x="1" y="574"/>
                  </a:lnTo>
                  <a:lnTo>
                    <a:pt x="12" y="640"/>
                  </a:lnTo>
                  <a:lnTo>
                    <a:pt x="32" y="706"/>
                  </a:lnTo>
                  <a:lnTo>
                    <a:pt x="62" y="771"/>
                  </a:lnTo>
                  <a:lnTo>
                    <a:pt x="119" y="867"/>
                  </a:lnTo>
                  <a:lnTo>
                    <a:pt x="218" y="990"/>
                  </a:lnTo>
                  <a:lnTo>
                    <a:pt x="275" y="1047"/>
                  </a:lnTo>
                  <a:lnTo>
                    <a:pt x="276" y="1046"/>
                  </a:lnTo>
                  <a:lnTo>
                    <a:pt x="254" y="994"/>
                  </a:lnTo>
                  <a:lnTo>
                    <a:pt x="214" y="885"/>
                  </a:lnTo>
                  <a:lnTo>
                    <a:pt x="181" y="773"/>
                  </a:lnTo>
                  <a:lnTo>
                    <a:pt x="159" y="658"/>
                  </a:lnTo>
                  <a:lnTo>
                    <a:pt x="148" y="546"/>
                  </a:lnTo>
                  <a:lnTo>
                    <a:pt x="148" y="438"/>
                  </a:lnTo>
                  <a:lnTo>
                    <a:pt x="162" y="336"/>
                  </a:lnTo>
                  <a:lnTo>
                    <a:pt x="191" y="245"/>
                  </a:lnTo>
                  <a:lnTo>
                    <a:pt x="213" y="204"/>
                  </a:lnTo>
                  <a:close/>
                </a:path>
              </a:pathLst>
            </a:custGeom>
            <a:solidFill>
              <a:srgbClr val="242a3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00" name="Freeform 66"/>
            <p:cNvSpPr/>
            <p:nvPr/>
          </p:nvSpPr>
          <p:spPr>
            <a:xfrm>
              <a:off x="5682960" y="3585240"/>
              <a:ext cx="377280" cy="423720"/>
            </a:xfrm>
            <a:custGeom>
              <a:avLst/>
              <a:gdLst/>
              <a:ahLst/>
              <a:rect l="l" t="t" r="r" b="b"/>
              <a:pathLst>
                <a:path w="1130" h="1272">
                  <a:moveTo>
                    <a:pt x="1049" y="410"/>
                  </a:moveTo>
                  <a:lnTo>
                    <a:pt x="944" y="291"/>
                  </a:lnTo>
                  <a:lnTo>
                    <a:pt x="811" y="138"/>
                  </a:lnTo>
                  <a:lnTo>
                    <a:pt x="757" y="66"/>
                  </a:lnTo>
                  <a:lnTo>
                    <a:pt x="747" y="47"/>
                  </a:lnTo>
                  <a:lnTo>
                    <a:pt x="703" y="33"/>
                  </a:lnTo>
                  <a:lnTo>
                    <a:pt x="613" y="11"/>
                  </a:lnTo>
                  <a:lnTo>
                    <a:pt x="521" y="0"/>
                  </a:lnTo>
                  <a:lnTo>
                    <a:pt x="431" y="3"/>
                  </a:lnTo>
                  <a:lnTo>
                    <a:pt x="346" y="17"/>
                  </a:lnTo>
                  <a:lnTo>
                    <a:pt x="265" y="47"/>
                  </a:lnTo>
                  <a:lnTo>
                    <a:pt x="195" y="91"/>
                  </a:lnTo>
                  <a:lnTo>
                    <a:pt x="136" y="153"/>
                  </a:lnTo>
                  <a:lnTo>
                    <a:pt x="111" y="191"/>
                  </a:lnTo>
                  <a:lnTo>
                    <a:pt x="93" y="225"/>
                  </a:lnTo>
                  <a:lnTo>
                    <a:pt x="62" y="293"/>
                  </a:lnTo>
                  <a:lnTo>
                    <a:pt x="37" y="365"/>
                  </a:lnTo>
                  <a:lnTo>
                    <a:pt x="18" y="437"/>
                  </a:lnTo>
                  <a:lnTo>
                    <a:pt x="6" y="512"/>
                  </a:lnTo>
                  <a:lnTo>
                    <a:pt x="0" y="588"/>
                  </a:lnTo>
                  <a:lnTo>
                    <a:pt x="0" y="661"/>
                  </a:lnTo>
                  <a:lnTo>
                    <a:pt x="6" y="735"/>
                  </a:lnTo>
                  <a:lnTo>
                    <a:pt x="11" y="772"/>
                  </a:lnTo>
                  <a:lnTo>
                    <a:pt x="22" y="826"/>
                  </a:lnTo>
                  <a:lnTo>
                    <a:pt x="53" y="928"/>
                  </a:lnTo>
                  <a:lnTo>
                    <a:pt x="98" y="1023"/>
                  </a:lnTo>
                  <a:lnTo>
                    <a:pt x="156" y="1107"/>
                  </a:lnTo>
                  <a:lnTo>
                    <a:pt x="190" y="1144"/>
                  </a:lnTo>
                  <a:lnTo>
                    <a:pt x="211" y="1164"/>
                  </a:lnTo>
                  <a:lnTo>
                    <a:pt x="255" y="1198"/>
                  </a:lnTo>
                  <a:lnTo>
                    <a:pt x="300" y="1227"/>
                  </a:lnTo>
                  <a:lnTo>
                    <a:pt x="347" y="1247"/>
                  </a:lnTo>
                  <a:lnTo>
                    <a:pt x="395" y="1262"/>
                  </a:lnTo>
                  <a:lnTo>
                    <a:pt x="443" y="1271"/>
                  </a:lnTo>
                  <a:lnTo>
                    <a:pt x="492" y="1272"/>
                  </a:lnTo>
                  <a:lnTo>
                    <a:pt x="541" y="1268"/>
                  </a:lnTo>
                  <a:lnTo>
                    <a:pt x="614" y="1251"/>
                  </a:lnTo>
                  <a:lnTo>
                    <a:pt x="709" y="1206"/>
                  </a:lnTo>
                  <a:lnTo>
                    <a:pt x="795" y="1136"/>
                  </a:lnTo>
                  <a:lnTo>
                    <a:pt x="874" y="1044"/>
                  </a:lnTo>
                  <a:lnTo>
                    <a:pt x="908" y="988"/>
                  </a:lnTo>
                  <a:lnTo>
                    <a:pt x="981" y="864"/>
                  </a:lnTo>
                  <a:lnTo>
                    <a:pt x="1069" y="689"/>
                  </a:lnTo>
                  <a:lnTo>
                    <a:pt x="1108" y="578"/>
                  </a:lnTo>
                  <a:lnTo>
                    <a:pt x="1118" y="525"/>
                  </a:lnTo>
                  <a:lnTo>
                    <a:pt x="1125" y="512"/>
                  </a:lnTo>
                  <a:lnTo>
                    <a:pt x="1130" y="499"/>
                  </a:lnTo>
                  <a:lnTo>
                    <a:pt x="1126" y="496"/>
                  </a:lnTo>
                  <a:lnTo>
                    <a:pt x="1122" y="490"/>
                  </a:lnTo>
                  <a:lnTo>
                    <a:pt x="1086" y="449"/>
                  </a:lnTo>
                  <a:lnTo>
                    <a:pt x="1049" y="410"/>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01" name="Freeform 67"/>
            <p:cNvSpPr/>
            <p:nvPr/>
          </p:nvSpPr>
          <p:spPr>
            <a:xfrm>
              <a:off x="5891400" y="3222720"/>
              <a:ext cx="324000" cy="495720"/>
            </a:xfrm>
            <a:custGeom>
              <a:avLst/>
              <a:gdLst/>
              <a:ahLst/>
              <a:rect l="l" t="t" r="r" b="b"/>
              <a:pathLst>
                <a:path w="974" h="1486">
                  <a:moveTo>
                    <a:pt x="65" y="284"/>
                  </a:moveTo>
                  <a:lnTo>
                    <a:pt x="43" y="325"/>
                  </a:lnTo>
                  <a:lnTo>
                    <a:pt x="14" y="416"/>
                  </a:lnTo>
                  <a:lnTo>
                    <a:pt x="0" y="518"/>
                  </a:lnTo>
                  <a:lnTo>
                    <a:pt x="0" y="626"/>
                  </a:lnTo>
                  <a:lnTo>
                    <a:pt x="11" y="738"/>
                  </a:lnTo>
                  <a:lnTo>
                    <a:pt x="33" y="853"/>
                  </a:lnTo>
                  <a:lnTo>
                    <a:pt x="66" y="965"/>
                  </a:lnTo>
                  <a:lnTo>
                    <a:pt x="106" y="1074"/>
                  </a:lnTo>
                  <a:lnTo>
                    <a:pt x="128" y="1126"/>
                  </a:lnTo>
                  <a:lnTo>
                    <a:pt x="137" y="1129"/>
                  </a:lnTo>
                  <a:lnTo>
                    <a:pt x="175" y="1157"/>
                  </a:lnTo>
                  <a:lnTo>
                    <a:pt x="262" y="1230"/>
                  </a:lnTo>
                  <a:lnTo>
                    <a:pt x="330" y="1291"/>
                  </a:lnTo>
                  <a:lnTo>
                    <a:pt x="391" y="1342"/>
                  </a:lnTo>
                  <a:lnTo>
                    <a:pt x="460" y="1403"/>
                  </a:lnTo>
                  <a:lnTo>
                    <a:pt x="468" y="1411"/>
                  </a:lnTo>
                  <a:lnTo>
                    <a:pt x="477" y="1419"/>
                  </a:lnTo>
                  <a:lnTo>
                    <a:pt x="514" y="1453"/>
                  </a:lnTo>
                  <a:lnTo>
                    <a:pt x="552" y="1486"/>
                  </a:lnTo>
                  <a:lnTo>
                    <a:pt x="573" y="1476"/>
                  </a:lnTo>
                  <a:lnTo>
                    <a:pt x="612" y="1445"/>
                  </a:lnTo>
                  <a:lnTo>
                    <a:pt x="669" y="1384"/>
                  </a:lnTo>
                  <a:lnTo>
                    <a:pt x="745" y="1276"/>
                  </a:lnTo>
                  <a:lnTo>
                    <a:pt x="821" y="1149"/>
                  </a:lnTo>
                  <a:lnTo>
                    <a:pt x="862" y="1081"/>
                  </a:lnTo>
                  <a:lnTo>
                    <a:pt x="893" y="1022"/>
                  </a:lnTo>
                  <a:lnTo>
                    <a:pt x="939" y="898"/>
                  </a:lnTo>
                  <a:lnTo>
                    <a:pt x="967" y="768"/>
                  </a:lnTo>
                  <a:lnTo>
                    <a:pt x="974" y="637"/>
                  </a:lnTo>
                  <a:lnTo>
                    <a:pt x="964" y="508"/>
                  </a:lnTo>
                  <a:lnTo>
                    <a:pt x="934" y="385"/>
                  </a:lnTo>
                  <a:lnTo>
                    <a:pt x="888" y="272"/>
                  </a:lnTo>
                  <a:lnTo>
                    <a:pt x="840" y="195"/>
                  </a:lnTo>
                  <a:lnTo>
                    <a:pt x="803" y="150"/>
                  </a:lnTo>
                  <a:lnTo>
                    <a:pt x="783" y="128"/>
                  </a:lnTo>
                  <a:lnTo>
                    <a:pt x="753" y="101"/>
                  </a:lnTo>
                  <a:lnTo>
                    <a:pt x="689" y="55"/>
                  </a:lnTo>
                  <a:lnTo>
                    <a:pt x="623" y="24"/>
                  </a:lnTo>
                  <a:lnTo>
                    <a:pt x="556" y="5"/>
                  </a:lnTo>
                  <a:lnTo>
                    <a:pt x="486" y="0"/>
                  </a:lnTo>
                  <a:lnTo>
                    <a:pt x="416" y="7"/>
                  </a:lnTo>
                  <a:lnTo>
                    <a:pt x="347" y="27"/>
                  </a:lnTo>
                  <a:lnTo>
                    <a:pt x="281" y="59"/>
                  </a:lnTo>
                  <a:lnTo>
                    <a:pt x="249" y="80"/>
                  </a:lnTo>
                  <a:lnTo>
                    <a:pt x="223" y="98"/>
                  </a:lnTo>
                  <a:lnTo>
                    <a:pt x="173" y="141"/>
                  </a:lnTo>
                  <a:lnTo>
                    <a:pt x="127" y="193"/>
                  </a:lnTo>
                  <a:lnTo>
                    <a:pt x="84" y="251"/>
                  </a:lnTo>
                  <a:lnTo>
                    <a:pt x="65" y="284"/>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02" name="Freeform 68"/>
            <p:cNvSpPr/>
            <p:nvPr/>
          </p:nvSpPr>
          <p:spPr>
            <a:xfrm>
              <a:off x="5932800" y="3598560"/>
              <a:ext cx="685440" cy="705240"/>
            </a:xfrm>
            <a:custGeom>
              <a:avLst/>
              <a:gdLst/>
              <a:ahLst/>
              <a:rect l="l" t="t" r="r" b="b"/>
              <a:pathLst>
                <a:path w="2058" h="2118">
                  <a:moveTo>
                    <a:pt x="2057" y="1869"/>
                  </a:moveTo>
                  <a:lnTo>
                    <a:pt x="2049" y="1863"/>
                  </a:lnTo>
                  <a:lnTo>
                    <a:pt x="2016" y="1829"/>
                  </a:lnTo>
                  <a:lnTo>
                    <a:pt x="1784" y="1611"/>
                  </a:lnTo>
                  <a:lnTo>
                    <a:pt x="865" y="757"/>
                  </a:lnTo>
                  <a:lnTo>
                    <a:pt x="428" y="360"/>
                  </a:lnTo>
                  <a:lnTo>
                    <a:pt x="390" y="327"/>
                  </a:lnTo>
                  <a:lnTo>
                    <a:pt x="353" y="293"/>
                  </a:lnTo>
                  <a:lnTo>
                    <a:pt x="344" y="285"/>
                  </a:lnTo>
                  <a:lnTo>
                    <a:pt x="336" y="277"/>
                  </a:lnTo>
                  <a:lnTo>
                    <a:pt x="267" y="216"/>
                  </a:lnTo>
                  <a:lnTo>
                    <a:pt x="206" y="165"/>
                  </a:lnTo>
                  <a:lnTo>
                    <a:pt x="138" y="104"/>
                  </a:lnTo>
                  <a:lnTo>
                    <a:pt x="51" y="31"/>
                  </a:lnTo>
                  <a:lnTo>
                    <a:pt x="13" y="3"/>
                  </a:lnTo>
                  <a:lnTo>
                    <a:pt x="4" y="0"/>
                  </a:lnTo>
                  <a:lnTo>
                    <a:pt x="3" y="1"/>
                  </a:lnTo>
                  <a:lnTo>
                    <a:pt x="1" y="1"/>
                  </a:lnTo>
                  <a:lnTo>
                    <a:pt x="1" y="3"/>
                  </a:lnTo>
                  <a:lnTo>
                    <a:pt x="0" y="5"/>
                  </a:lnTo>
                  <a:lnTo>
                    <a:pt x="1" y="9"/>
                  </a:lnTo>
                  <a:lnTo>
                    <a:pt x="11" y="28"/>
                  </a:lnTo>
                  <a:lnTo>
                    <a:pt x="65" y="100"/>
                  </a:lnTo>
                  <a:lnTo>
                    <a:pt x="198" y="253"/>
                  </a:lnTo>
                  <a:lnTo>
                    <a:pt x="303" y="372"/>
                  </a:lnTo>
                  <a:lnTo>
                    <a:pt x="340" y="411"/>
                  </a:lnTo>
                  <a:lnTo>
                    <a:pt x="376" y="452"/>
                  </a:lnTo>
                  <a:lnTo>
                    <a:pt x="380" y="458"/>
                  </a:lnTo>
                  <a:lnTo>
                    <a:pt x="384" y="461"/>
                  </a:lnTo>
                  <a:lnTo>
                    <a:pt x="790" y="910"/>
                  </a:lnTo>
                  <a:lnTo>
                    <a:pt x="1654" y="1840"/>
                  </a:lnTo>
                  <a:lnTo>
                    <a:pt x="1873" y="2075"/>
                  </a:lnTo>
                  <a:lnTo>
                    <a:pt x="1905" y="2111"/>
                  </a:lnTo>
                  <a:lnTo>
                    <a:pt x="1913" y="2118"/>
                  </a:lnTo>
                  <a:lnTo>
                    <a:pt x="1917" y="2118"/>
                  </a:lnTo>
                  <a:lnTo>
                    <a:pt x="1931" y="2114"/>
                  </a:lnTo>
                  <a:lnTo>
                    <a:pt x="1947" y="2107"/>
                  </a:lnTo>
                  <a:lnTo>
                    <a:pt x="1991" y="2067"/>
                  </a:lnTo>
                  <a:lnTo>
                    <a:pt x="2016" y="2030"/>
                  </a:lnTo>
                  <a:lnTo>
                    <a:pt x="2036" y="1988"/>
                  </a:lnTo>
                  <a:lnTo>
                    <a:pt x="2056" y="1920"/>
                  </a:lnTo>
                  <a:lnTo>
                    <a:pt x="2057" y="1895"/>
                  </a:lnTo>
                  <a:lnTo>
                    <a:pt x="2058" y="1874"/>
                  </a:lnTo>
                  <a:lnTo>
                    <a:pt x="2057" y="1869"/>
                  </a:lnTo>
                  <a:close/>
                </a:path>
              </a:pathLst>
            </a:custGeom>
            <a:solidFill>
              <a:srgbClr val="3a4354"/>
            </a:solidFill>
            <a:ln w="0">
              <a:noFill/>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03" name="Freeform 70"/>
            <p:cNvSpPr/>
            <p:nvPr/>
          </p:nvSpPr>
          <p:spPr>
            <a:xfrm>
              <a:off x="7042680" y="4712040"/>
              <a:ext cx="1080" cy="1080"/>
            </a:xfrm>
            <a:custGeom>
              <a:avLst/>
              <a:gdLst/>
              <a:ahLst/>
              <a:rect l="l" t="t" r="r" b="b"/>
              <a:pathLst>
                <a:path w="4" h="6">
                  <a:moveTo>
                    <a:pt x="4" y="6"/>
                  </a:moveTo>
                  <a:lnTo>
                    <a:pt x="3" y="4"/>
                  </a:lnTo>
                  <a:lnTo>
                    <a:pt x="0" y="2"/>
                  </a:lnTo>
                  <a:lnTo>
                    <a:pt x="0" y="2"/>
                  </a:lnTo>
                  <a:lnTo>
                    <a:pt x="1" y="0"/>
                  </a:lnTo>
                  <a:lnTo>
                    <a:pt x="4" y="4"/>
                  </a:lnTo>
                  <a:lnTo>
                    <a:pt x="4" y="6"/>
                  </a:lnTo>
                  <a:close/>
                </a:path>
              </a:pathLst>
            </a:custGeom>
            <a:solidFill>
              <a:srgbClr val="6a6e70"/>
            </a:solidFill>
            <a:ln w="0">
              <a:noFill/>
            </a:ln>
          </p:spPr>
          <p:style>
            <a:lnRef idx="0"/>
            <a:fillRef idx="0"/>
            <a:effectRef idx="0"/>
            <a:fontRef idx="minor"/>
          </p:style>
          <p:txBody>
            <a:bodyPr tIns="-44640" bIns="-44640" anchor="t">
              <a:noAutofit/>
            </a:bodyPr>
            <a:p>
              <a:endParaRPr b="0" lang="en-US" sz="1800" spc="-1" strike="noStrike">
                <a:solidFill>
                  <a:srgbClr val="3f3f3f"/>
                </a:solidFill>
                <a:latin typeface="Libre Franklin"/>
              </a:endParaRPr>
            </a:p>
          </p:txBody>
        </p:sp>
      </p:grpSp>
      <p:sp>
        <p:nvSpPr>
          <p:cNvPr id="604" name="TextBox 57"/>
          <p:cNvSpPr/>
          <p:nvPr/>
        </p:nvSpPr>
        <p:spPr>
          <a:xfrm>
            <a:off x="1149480" y="260208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05" name="TextBox 58"/>
          <p:cNvSpPr/>
          <p:nvPr/>
        </p:nvSpPr>
        <p:spPr>
          <a:xfrm>
            <a:off x="1665360" y="22622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606" name="TextBox 59"/>
          <p:cNvSpPr/>
          <p:nvPr/>
        </p:nvSpPr>
        <p:spPr>
          <a:xfrm>
            <a:off x="1149480" y="471312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07" name="TextBox 60"/>
          <p:cNvSpPr/>
          <p:nvPr/>
        </p:nvSpPr>
        <p:spPr>
          <a:xfrm>
            <a:off x="1665360" y="43736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608" name="TextBox 61"/>
          <p:cNvSpPr/>
          <p:nvPr/>
        </p:nvSpPr>
        <p:spPr>
          <a:xfrm>
            <a:off x="8264520" y="260208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09" name="TextBox 62"/>
          <p:cNvSpPr/>
          <p:nvPr/>
        </p:nvSpPr>
        <p:spPr>
          <a:xfrm>
            <a:off x="8264520" y="22622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610" name="TextBox 63"/>
          <p:cNvSpPr/>
          <p:nvPr/>
        </p:nvSpPr>
        <p:spPr>
          <a:xfrm>
            <a:off x="8264520" y="471312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11" name="TextBox 64"/>
          <p:cNvSpPr/>
          <p:nvPr/>
        </p:nvSpPr>
        <p:spPr>
          <a:xfrm>
            <a:off x="8264520" y="43736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Box 1"/>
          <p:cNvSpPr/>
          <p:nvPr/>
        </p:nvSpPr>
        <p:spPr>
          <a:xfrm>
            <a:off x="3181320" y="743040"/>
            <a:ext cx="582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COMPANY INFOGRAPHIC</a:t>
            </a:r>
            <a:endParaRPr b="0" lang="en-US" sz="2800" spc="-1" strike="noStrike">
              <a:solidFill>
                <a:srgbClr val="3f3f3f"/>
              </a:solidFill>
              <a:latin typeface="Libre Franklin"/>
            </a:endParaRPr>
          </a:p>
        </p:txBody>
      </p:sp>
      <p:sp>
        <p:nvSpPr>
          <p:cNvPr id="613" name="Freeform: Shape 4"/>
          <p:cNvSpPr/>
          <p:nvPr/>
        </p:nvSpPr>
        <p:spPr>
          <a:xfrm>
            <a:off x="5830920" y="2187720"/>
            <a:ext cx="2193840" cy="2368440"/>
          </a:xfrm>
          <a:custGeom>
            <a:avLst/>
            <a:gdLst/>
            <a:ahLst/>
            <a:rect l="l" t="t" r="r" b="b"/>
            <a:pathLst>
              <a:path w="1818241" h="1962683">
                <a:moveTo>
                  <a:pt x="605613" y="287"/>
                </a:moveTo>
                <a:cubicBezTo>
                  <a:pt x="664484" y="1729"/>
                  <a:pt x="725358" y="8619"/>
                  <a:pt x="786873" y="21438"/>
                </a:cubicBezTo>
                <a:cubicBezTo>
                  <a:pt x="1145709" y="95786"/>
                  <a:pt x="1396894" y="339341"/>
                  <a:pt x="1363574" y="570077"/>
                </a:cubicBezTo>
                <a:cubicBezTo>
                  <a:pt x="1530176" y="593151"/>
                  <a:pt x="1689090" y="716210"/>
                  <a:pt x="1768546" y="905926"/>
                </a:cubicBezTo>
                <a:cubicBezTo>
                  <a:pt x="1813401" y="1009758"/>
                  <a:pt x="1826857" y="1117434"/>
                  <a:pt x="1813080" y="1215817"/>
                </a:cubicBezTo>
                <a:lnTo>
                  <a:pt x="1809826" y="1231027"/>
                </a:lnTo>
                <a:lnTo>
                  <a:pt x="1805511" y="1251190"/>
                </a:lnTo>
                <a:lnTo>
                  <a:pt x="1794891" y="1295159"/>
                </a:lnTo>
                <a:lnTo>
                  <a:pt x="1787075" y="1315982"/>
                </a:lnTo>
                <a:lnTo>
                  <a:pt x="1769073" y="1360854"/>
                </a:lnTo>
                <a:lnTo>
                  <a:pt x="1767039" y="1364448"/>
                </a:lnTo>
                <a:lnTo>
                  <a:pt x="1735658" y="1418482"/>
                </a:lnTo>
                <a:lnTo>
                  <a:pt x="1725911" y="1430759"/>
                </a:lnTo>
                <a:lnTo>
                  <a:pt x="1694216" y="1469948"/>
                </a:lnTo>
                <a:cubicBezTo>
                  <a:pt x="1724973" y="1505840"/>
                  <a:pt x="1748041" y="1544296"/>
                  <a:pt x="1768546" y="1590443"/>
                </a:cubicBezTo>
                <a:lnTo>
                  <a:pt x="1777169" y="1616318"/>
                </a:lnTo>
                <a:lnTo>
                  <a:pt x="1793793" y="1671059"/>
                </a:lnTo>
                <a:lnTo>
                  <a:pt x="1802607" y="1725346"/>
                </a:lnTo>
                <a:lnTo>
                  <a:pt x="1803607" y="1737986"/>
                </a:lnTo>
                <a:lnTo>
                  <a:pt x="1798463" y="1746796"/>
                </a:lnTo>
                <a:cubicBezTo>
                  <a:pt x="1776596" y="1792257"/>
                  <a:pt x="1693895" y="1973401"/>
                  <a:pt x="1440467" y="1962185"/>
                </a:cubicBezTo>
                <a:cubicBezTo>
                  <a:pt x="1271302" y="1954493"/>
                  <a:pt x="1161088" y="1841689"/>
                  <a:pt x="1181593" y="1680174"/>
                </a:cubicBezTo>
                <a:cubicBezTo>
                  <a:pt x="1099573" y="1654536"/>
                  <a:pt x="1025243" y="1608389"/>
                  <a:pt x="968854" y="1544296"/>
                </a:cubicBezTo>
                <a:cubicBezTo>
                  <a:pt x="871456" y="1434055"/>
                  <a:pt x="835572" y="1290486"/>
                  <a:pt x="856077" y="1144353"/>
                </a:cubicBezTo>
                <a:lnTo>
                  <a:pt x="838064" y="1146064"/>
                </a:lnTo>
                <a:lnTo>
                  <a:pt x="775939" y="1151964"/>
                </a:lnTo>
                <a:cubicBezTo>
                  <a:pt x="694601" y="1155570"/>
                  <a:pt x="610018" y="1146917"/>
                  <a:pt x="525435" y="1123843"/>
                </a:cubicBezTo>
                <a:cubicBezTo>
                  <a:pt x="156347" y="1018730"/>
                  <a:pt x="-71771" y="670063"/>
                  <a:pt x="20501" y="344468"/>
                </a:cubicBezTo>
                <a:cubicBezTo>
                  <a:pt x="46133" y="254738"/>
                  <a:pt x="161473" y="118860"/>
                  <a:pt x="166599" y="121423"/>
                </a:cubicBezTo>
                <a:cubicBezTo>
                  <a:pt x="270405" y="40666"/>
                  <a:pt x="428998" y="-4039"/>
                  <a:pt x="605613" y="287"/>
                </a:cubicBezTo>
                <a:close/>
              </a:path>
            </a:pathLst>
          </a:custGeom>
          <a:solidFill>
            <a:srgbClr val="3a4354"/>
          </a:solidFill>
          <a:ln w="38160">
            <a:solidFill>
              <a:srgbClr val="f2f2f2"/>
            </a:solidFill>
            <a:round/>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14" name="Freeform: Shape 5"/>
          <p:cNvSpPr/>
          <p:nvPr/>
        </p:nvSpPr>
        <p:spPr>
          <a:xfrm>
            <a:off x="4950000" y="3568680"/>
            <a:ext cx="3062160" cy="2021040"/>
          </a:xfrm>
          <a:custGeom>
            <a:avLst/>
            <a:gdLst/>
            <a:ahLst/>
            <a:rect l="l" t="t" r="r" b="b"/>
            <a:pathLst>
              <a:path w="2539038" h="1674225">
                <a:moveTo>
                  <a:pt x="1587093" y="0"/>
                </a:moveTo>
                <a:cubicBezTo>
                  <a:pt x="1566588" y="146133"/>
                  <a:pt x="1602472" y="289702"/>
                  <a:pt x="1699870" y="399943"/>
                </a:cubicBezTo>
                <a:cubicBezTo>
                  <a:pt x="1756259" y="464036"/>
                  <a:pt x="1830589" y="510183"/>
                  <a:pt x="1912609" y="535821"/>
                </a:cubicBezTo>
                <a:cubicBezTo>
                  <a:pt x="1892104" y="697336"/>
                  <a:pt x="2002318" y="810140"/>
                  <a:pt x="2171483" y="817832"/>
                </a:cubicBezTo>
                <a:cubicBezTo>
                  <a:pt x="2424911" y="829048"/>
                  <a:pt x="2507612" y="647904"/>
                  <a:pt x="2529479" y="602443"/>
                </a:cubicBezTo>
                <a:lnTo>
                  <a:pt x="2534623" y="593633"/>
                </a:lnTo>
                <a:lnTo>
                  <a:pt x="2539038" y="649425"/>
                </a:lnTo>
                <a:cubicBezTo>
                  <a:pt x="2533629" y="854481"/>
                  <a:pt x="2400921" y="1053047"/>
                  <a:pt x="2187434" y="1143435"/>
                </a:cubicBezTo>
                <a:cubicBezTo>
                  <a:pt x="2013055" y="1217797"/>
                  <a:pt x="1823290" y="1202411"/>
                  <a:pt x="1677119" y="1115228"/>
                </a:cubicBezTo>
                <a:cubicBezTo>
                  <a:pt x="1674554" y="1122921"/>
                  <a:pt x="1674554" y="1128049"/>
                  <a:pt x="1674554" y="1135742"/>
                </a:cubicBezTo>
                <a:cubicBezTo>
                  <a:pt x="1674554" y="1346007"/>
                  <a:pt x="1815596" y="1525501"/>
                  <a:pt x="2007926" y="1584478"/>
                </a:cubicBezTo>
                <a:cubicBezTo>
                  <a:pt x="2007926" y="1584478"/>
                  <a:pt x="2010491" y="1587042"/>
                  <a:pt x="2010491" y="1587042"/>
                </a:cubicBezTo>
                <a:cubicBezTo>
                  <a:pt x="2010491" y="1587042"/>
                  <a:pt x="2010491" y="1587042"/>
                  <a:pt x="1915608" y="1674225"/>
                </a:cubicBezTo>
                <a:cubicBezTo>
                  <a:pt x="1705327" y="1646019"/>
                  <a:pt x="1497611" y="1502423"/>
                  <a:pt x="1377084" y="1274209"/>
                </a:cubicBezTo>
                <a:cubicBezTo>
                  <a:pt x="1354004" y="1230618"/>
                  <a:pt x="1336053" y="1184462"/>
                  <a:pt x="1320667" y="1135742"/>
                </a:cubicBezTo>
                <a:cubicBezTo>
                  <a:pt x="1200140" y="1174205"/>
                  <a:pt x="1071920" y="1138306"/>
                  <a:pt x="994988" y="1053687"/>
                </a:cubicBezTo>
                <a:cubicBezTo>
                  <a:pt x="984730" y="1058816"/>
                  <a:pt x="974473" y="1063944"/>
                  <a:pt x="966780" y="1066508"/>
                </a:cubicBezTo>
                <a:cubicBezTo>
                  <a:pt x="682131" y="1187026"/>
                  <a:pt x="359016" y="1071637"/>
                  <a:pt x="246183" y="807524"/>
                </a:cubicBezTo>
                <a:cubicBezTo>
                  <a:pt x="241054" y="794703"/>
                  <a:pt x="238490" y="781882"/>
                  <a:pt x="233361" y="771625"/>
                </a:cubicBezTo>
                <a:cubicBezTo>
                  <a:pt x="212846" y="781882"/>
                  <a:pt x="189766" y="792138"/>
                  <a:pt x="169251" y="802395"/>
                </a:cubicBezTo>
                <a:cubicBezTo>
                  <a:pt x="112834" y="825473"/>
                  <a:pt x="56417" y="840858"/>
                  <a:pt x="0" y="845987"/>
                </a:cubicBezTo>
                <a:cubicBezTo>
                  <a:pt x="230796" y="497255"/>
                  <a:pt x="753934" y="322889"/>
                  <a:pt x="1295023" y="453663"/>
                </a:cubicBezTo>
                <a:cubicBezTo>
                  <a:pt x="1310409" y="458792"/>
                  <a:pt x="1328360" y="461356"/>
                  <a:pt x="1343747" y="466484"/>
                </a:cubicBezTo>
                <a:cubicBezTo>
                  <a:pt x="1343747" y="317760"/>
                  <a:pt x="1392470" y="181857"/>
                  <a:pt x="1487353" y="74161"/>
                </a:cubicBezTo>
                <a:lnTo>
                  <a:pt x="1569080" y="1711"/>
                </a:lnTo>
                <a:lnTo>
                  <a:pt x="1587093" y="0"/>
                </a:lnTo>
                <a:close/>
              </a:path>
            </a:pathLst>
          </a:custGeom>
          <a:solidFill>
            <a:srgbClr val="434e61"/>
          </a:solidFill>
          <a:ln w="38160">
            <a:solidFill>
              <a:srgbClr val="f2f2f2"/>
            </a:solidFill>
            <a:round/>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15" name="Freeform 10"/>
          <p:cNvSpPr/>
          <p:nvPr/>
        </p:nvSpPr>
        <p:spPr>
          <a:xfrm>
            <a:off x="4167360" y="3119400"/>
            <a:ext cx="1280880" cy="1563840"/>
          </a:xfrm>
          <a:custGeom>
            <a:avLst/>
            <a:gdLst/>
            <a:ahLst/>
            <a:rect l="l" t="t" r="r" b="b"/>
            <a:pathLst>
              <a:path w="414" h="505">
                <a:moveTo>
                  <a:pt x="377" y="215"/>
                </a:moveTo>
                <a:cubicBezTo>
                  <a:pt x="414" y="174"/>
                  <a:pt x="413" y="110"/>
                  <a:pt x="374" y="70"/>
                </a:cubicBezTo>
                <a:cubicBezTo>
                  <a:pt x="340" y="35"/>
                  <a:pt x="289" y="28"/>
                  <a:pt x="249" y="49"/>
                </a:cubicBezTo>
                <a:cubicBezTo>
                  <a:pt x="219" y="19"/>
                  <a:pt x="178" y="0"/>
                  <a:pt x="132" y="0"/>
                </a:cubicBezTo>
                <a:cubicBezTo>
                  <a:pt x="124" y="0"/>
                  <a:pt x="108" y="3"/>
                  <a:pt x="108" y="4"/>
                </a:cubicBezTo>
                <a:cubicBezTo>
                  <a:pt x="54" y="18"/>
                  <a:pt x="12" y="62"/>
                  <a:pt x="5" y="120"/>
                </a:cubicBezTo>
                <a:cubicBezTo>
                  <a:pt x="0" y="157"/>
                  <a:pt x="11" y="193"/>
                  <a:pt x="33" y="221"/>
                </a:cubicBezTo>
                <a:cubicBezTo>
                  <a:pt x="19" y="265"/>
                  <a:pt x="20" y="312"/>
                  <a:pt x="38" y="357"/>
                </a:cubicBezTo>
                <a:cubicBezTo>
                  <a:pt x="82" y="460"/>
                  <a:pt x="208" y="505"/>
                  <a:pt x="319" y="458"/>
                </a:cubicBezTo>
                <a:cubicBezTo>
                  <a:pt x="327" y="454"/>
                  <a:pt x="336" y="450"/>
                  <a:pt x="344" y="446"/>
                </a:cubicBezTo>
                <a:cubicBezTo>
                  <a:pt x="344" y="446"/>
                  <a:pt x="404" y="391"/>
                  <a:pt x="398" y="307"/>
                </a:cubicBezTo>
                <a:cubicBezTo>
                  <a:pt x="396" y="274"/>
                  <a:pt x="391" y="242"/>
                  <a:pt x="377" y="215"/>
                </a:cubicBezTo>
                <a:close/>
              </a:path>
            </a:pathLst>
          </a:custGeom>
          <a:solidFill>
            <a:srgbClr val="303846"/>
          </a:solidFill>
          <a:ln w="38160">
            <a:solidFill>
              <a:srgbClr val="f2f2f2"/>
            </a:solidFill>
            <a:round/>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16" name="Freeform: Shape 7"/>
          <p:cNvSpPr/>
          <p:nvPr/>
        </p:nvSpPr>
        <p:spPr>
          <a:xfrm>
            <a:off x="4500720" y="2268360"/>
            <a:ext cx="2341440" cy="1949760"/>
          </a:xfrm>
          <a:custGeom>
            <a:avLst/>
            <a:gdLst/>
            <a:ahLst/>
            <a:rect l="l" t="t" r="r" b="b"/>
            <a:pathLst>
              <a:path w="1940535" h="1615678">
                <a:moveTo>
                  <a:pt x="1014635" y="2279"/>
                </a:moveTo>
                <a:cubicBezTo>
                  <a:pt x="1074090" y="-3890"/>
                  <a:pt x="1133224" y="2600"/>
                  <a:pt x="1188833" y="20146"/>
                </a:cubicBezTo>
                <a:lnTo>
                  <a:pt x="1269119" y="54522"/>
                </a:lnTo>
                <a:cubicBezTo>
                  <a:pt x="1269103" y="54532"/>
                  <a:pt x="1269087" y="54541"/>
                  <a:pt x="1269071" y="54551"/>
                </a:cubicBezTo>
                <a:cubicBezTo>
                  <a:pt x="1263945" y="51987"/>
                  <a:pt x="1148605" y="187865"/>
                  <a:pt x="1122973" y="277596"/>
                </a:cubicBezTo>
                <a:cubicBezTo>
                  <a:pt x="1030701" y="603190"/>
                  <a:pt x="1258819" y="951858"/>
                  <a:pt x="1627907" y="1056971"/>
                </a:cubicBezTo>
                <a:cubicBezTo>
                  <a:pt x="1712490" y="1080045"/>
                  <a:pt x="1797073" y="1088698"/>
                  <a:pt x="1878412" y="1085092"/>
                </a:cubicBezTo>
                <a:lnTo>
                  <a:pt x="1940535" y="1079192"/>
                </a:lnTo>
                <a:lnTo>
                  <a:pt x="1858809" y="1151642"/>
                </a:lnTo>
                <a:cubicBezTo>
                  <a:pt x="1763926" y="1259338"/>
                  <a:pt x="1715203" y="1395241"/>
                  <a:pt x="1715203" y="1543965"/>
                </a:cubicBezTo>
                <a:cubicBezTo>
                  <a:pt x="1699816" y="1538837"/>
                  <a:pt x="1681865" y="1536273"/>
                  <a:pt x="1666479" y="1531144"/>
                </a:cubicBezTo>
                <a:cubicBezTo>
                  <a:pt x="1328299" y="1449410"/>
                  <a:pt x="997130" y="1486872"/>
                  <a:pt x="739964" y="1611601"/>
                </a:cubicBezTo>
                <a:lnTo>
                  <a:pt x="733019" y="1615678"/>
                </a:lnTo>
                <a:lnTo>
                  <a:pt x="742011" y="1569837"/>
                </a:lnTo>
                <a:cubicBezTo>
                  <a:pt x="744745" y="1545372"/>
                  <a:pt x="745466" y="1519616"/>
                  <a:pt x="743543" y="1492698"/>
                </a:cubicBezTo>
                <a:cubicBezTo>
                  <a:pt x="738415" y="1408098"/>
                  <a:pt x="725595" y="1326062"/>
                  <a:pt x="689699" y="1256843"/>
                </a:cubicBezTo>
                <a:cubicBezTo>
                  <a:pt x="784568" y="1151734"/>
                  <a:pt x="782004" y="987662"/>
                  <a:pt x="682006" y="885116"/>
                </a:cubicBezTo>
                <a:cubicBezTo>
                  <a:pt x="594829" y="795389"/>
                  <a:pt x="464062" y="777444"/>
                  <a:pt x="361500" y="831280"/>
                </a:cubicBezTo>
                <a:cubicBezTo>
                  <a:pt x="284579" y="754371"/>
                  <a:pt x="179453" y="705662"/>
                  <a:pt x="61507" y="705662"/>
                </a:cubicBezTo>
                <a:cubicBezTo>
                  <a:pt x="46123" y="705662"/>
                  <a:pt x="19200" y="709988"/>
                  <a:pt x="6701" y="713233"/>
                </a:cubicBezTo>
                <a:lnTo>
                  <a:pt x="0" y="715904"/>
                </a:lnTo>
                <a:lnTo>
                  <a:pt x="21970" y="608104"/>
                </a:lnTo>
                <a:cubicBezTo>
                  <a:pt x="56225" y="500663"/>
                  <a:pt x="126898" y="396828"/>
                  <a:pt x="230744" y="316068"/>
                </a:cubicBezTo>
                <a:cubicBezTo>
                  <a:pt x="376897" y="200695"/>
                  <a:pt x="551255" y="157110"/>
                  <a:pt x="699973" y="187876"/>
                </a:cubicBezTo>
                <a:cubicBezTo>
                  <a:pt x="751254" y="113525"/>
                  <a:pt x="830741" y="51993"/>
                  <a:pt x="925613" y="21227"/>
                </a:cubicBezTo>
                <a:cubicBezTo>
                  <a:pt x="955100" y="11613"/>
                  <a:pt x="984908" y="5364"/>
                  <a:pt x="1014635" y="2279"/>
                </a:cubicBezTo>
                <a:close/>
              </a:path>
            </a:pathLst>
          </a:custGeom>
          <a:solidFill>
            <a:srgbClr val="242a34"/>
          </a:solidFill>
          <a:ln w="38160">
            <a:solidFill>
              <a:srgbClr val="f2f2f2"/>
            </a:solidFill>
            <a:round/>
          </a:ln>
        </p:spPr>
        <p:style>
          <a:lnRef idx="0"/>
          <a:fillRef idx="0"/>
          <a:effectRef idx="0"/>
          <a:fontRef idx="minor"/>
        </p:style>
        <p:txBody>
          <a:bodyPr anchor="t">
            <a:noAutofit/>
          </a:bodyPr>
          <a:p>
            <a:endParaRPr b="0" lang="en-US" sz="1800" spc="-1" strike="noStrike">
              <a:solidFill>
                <a:srgbClr val="3f3f3f"/>
              </a:solidFill>
              <a:latin typeface="Libre Franklin"/>
            </a:endParaRPr>
          </a:p>
        </p:txBody>
      </p:sp>
      <p:sp>
        <p:nvSpPr>
          <p:cNvPr id="617" name="TextBox 1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618" name="TextBox 21"/>
          <p:cNvSpPr/>
          <p:nvPr/>
        </p:nvSpPr>
        <p:spPr>
          <a:xfrm>
            <a:off x="1149480" y="260208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19" name="TextBox 22"/>
          <p:cNvSpPr/>
          <p:nvPr/>
        </p:nvSpPr>
        <p:spPr>
          <a:xfrm>
            <a:off x="1665360" y="22622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620" name="TextBox 23"/>
          <p:cNvSpPr/>
          <p:nvPr/>
        </p:nvSpPr>
        <p:spPr>
          <a:xfrm>
            <a:off x="1149480" y="4713120"/>
            <a:ext cx="2778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21" name="TextBox 24"/>
          <p:cNvSpPr/>
          <p:nvPr/>
        </p:nvSpPr>
        <p:spPr>
          <a:xfrm>
            <a:off x="1665360" y="4373640"/>
            <a:ext cx="22622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622" name="TextBox 25"/>
          <p:cNvSpPr/>
          <p:nvPr/>
        </p:nvSpPr>
        <p:spPr>
          <a:xfrm>
            <a:off x="8264520" y="260208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23" name="TextBox 26"/>
          <p:cNvSpPr/>
          <p:nvPr/>
        </p:nvSpPr>
        <p:spPr>
          <a:xfrm>
            <a:off x="8264520" y="22622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
        <p:nvSpPr>
          <p:cNvPr id="624" name="TextBox 27"/>
          <p:cNvSpPr/>
          <p:nvPr/>
        </p:nvSpPr>
        <p:spPr>
          <a:xfrm>
            <a:off x="8264520" y="4713120"/>
            <a:ext cx="2778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ue magna sit amet. Risus </a:t>
            </a:r>
            <a:r>
              <a:rPr b="0" lang="en-US" sz="1100" spc="-1" strike="noStrike">
                <a:solidFill>
                  <a:srgbClr val="7f7f7f"/>
                </a:solidFill>
                <a:latin typeface="Libre Franklin"/>
                <a:ea typeface="Times New Roman"/>
              </a:rPr>
              <a:t>venti la </a:t>
            </a:r>
            <a:r>
              <a:rPr b="0" lang="id-ID" sz="1100" spc="-1" strike="noStrike">
                <a:solidFill>
                  <a:srgbClr val="7f7f7f"/>
                </a:solidFill>
                <a:latin typeface="Libre Franklin"/>
                <a:ea typeface="Times New Roman"/>
              </a:rPr>
              <a:t>pretium quam vulputate dign tempor incididu</a:t>
            </a:r>
            <a:r>
              <a:rPr b="0" lang="en-US" sz="1100" spc="-1" strike="noStrike">
                <a:solidFill>
                  <a:srgbClr val="7f7f7f"/>
                </a:solidFill>
                <a:latin typeface="Libre Franklin"/>
                <a:ea typeface="Times New Roman"/>
              </a:rPr>
              <a:t>.</a:t>
            </a:r>
            <a:endParaRPr b="0" lang="en-US" sz="1100" spc="-1" strike="noStrike">
              <a:solidFill>
                <a:srgbClr val="3f3f3f"/>
              </a:solidFill>
              <a:latin typeface="Libre Franklin"/>
            </a:endParaRPr>
          </a:p>
        </p:txBody>
      </p:sp>
      <p:sp>
        <p:nvSpPr>
          <p:cNvPr id="625" name="TextBox 28"/>
          <p:cNvSpPr/>
          <p:nvPr/>
        </p:nvSpPr>
        <p:spPr>
          <a:xfrm>
            <a:off x="8264520" y="4373640"/>
            <a:ext cx="2262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The Topic Here</a:t>
            </a:r>
            <a:endParaRPr b="0" lang="en-US" sz="16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3181320" y="743040"/>
            <a:ext cx="582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COMPANY INFOGRAPHIC</a:t>
            </a:r>
            <a:endParaRPr b="0" lang="en-US" sz="2800" spc="-1" strike="noStrike">
              <a:solidFill>
                <a:srgbClr val="3f3f3f"/>
              </a:solidFill>
              <a:latin typeface="Libre Franklin"/>
            </a:endParaRPr>
          </a:p>
        </p:txBody>
      </p:sp>
      <p:sp>
        <p:nvSpPr>
          <p:cNvPr id="627" name="TextBox 2"/>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graphicFrame>
        <p:nvGraphicFramePr>
          <p:cNvPr id="628" name="Chart 3"/>
          <p:cNvGraphicFramePr/>
          <p:nvPr/>
        </p:nvGraphicFramePr>
        <p:xfrm>
          <a:off x="6229440" y="2222640"/>
          <a:ext cx="4802040" cy="3238200"/>
        </p:xfrm>
        <a:graphic>
          <a:graphicData uri="http://schemas.openxmlformats.org/presentationml/2006/ole">
            <p:oleObj progId="Excel.Sheet.12" r:id="rId1" spid="">
              <p:embed/>
              <p:pic>
                <p:nvPicPr>
                  <p:cNvPr id="629" name="Chart 3" descr=""/>
                  <p:cNvPicPr/>
                  <p:nvPr/>
                </p:nvPicPr>
                <p:blipFill>
                  <a:blip r:embed="rId2"/>
                  <a:stretch/>
                </p:blipFill>
                <p:spPr>
                  <a:xfrm>
                    <a:off x="6229440" y="2222640"/>
                    <a:ext cx="4802040" cy="3238200"/>
                  </a:xfrm>
                  <a:prstGeom prst="rect">
                    <a:avLst/>
                  </a:prstGeom>
                  <a:ln w="0">
                    <a:noFill/>
                  </a:ln>
                </p:spPr>
              </p:pic>
            </p:oleObj>
          </a:graphicData>
        </a:graphic>
      </p:graphicFrame>
      <p:sp>
        <p:nvSpPr>
          <p:cNvPr id="630" name="TextBox 4"/>
          <p:cNvSpPr/>
          <p:nvPr/>
        </p:nvSpPr>
        <p:spPr>
          <a:xfrm>
            <a:off x="1459080" y="2841480"/>
            <a:ext cx="2255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a:t>
            </a:r>
            <a:endParaRPr b="0" lang="en-US" sz="1100" spc="-1" strike="noStrike">
              <a:solidFill>
                <a:srgbClr val="3f3f3f"/>
              </a:solidFill>
              <a:latin typeface="Libre Franklin"/>
            </a:endParaRPr>
          </a:p>
        </p:txBody>
      </p:sp>
      <p:sp>
        <p:nvSpPr>
          <p:cNvPr id="631" name="TextBox 5"/>
          <p:cNvSpPr/>
          <p:nvPr/>
        </p:nvSpPr>
        <p:spPr>
          <a:xfrm>
            <a:off x="1459080" y="2490840"/>
            <a:ext cx="2101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UI/UX Services</a:t>
            </a:r>
            <a:endParaRPr b="0" lang="en-US" sz="1600" spc="-1" strike="noStrike">
              <a:solidFill>
                <a:srgbClr val="3f3f3f"/>
              </a:solidFill>
              <a:latin typeface="Libre Franklin"/>
            </a:endParaRPr>
          </a:p>
        </p:txBody>
      </p:sp>
      <p:sp>
        <p:nvSpPr>
          <p:cNvPr id="632" name="TextBox 6"/>
          <p:cNvSpPr/>
          <p:nvPr/>
        </p:nvSpPr>
        <p:spPr>
          <a:xfrm>
            <a:off x="3887640" y="2841480"/>
            <a:ext cx="2256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a:t>
            </a:r>
            <a:endParaRPr b="0" lang="en-US" sz="1100" spc="-1" strike="noStrike">
              <a:solidFill>
                <a:srgbClr val="3f3f3f"/>
              </a:solidFill>
              <a:latin typeface="Libre Franklin"/>
            </a:endParaRPr>
          </a:p>
        </p:txBody>
      </p:sp>
      <p:sp>
        <p:nvSpPr>
          <p:cNvPr id="633" name="TextBox 7"/>
          <p:cNvSpPr/>
          <p:nvPr/>
        </p:nvSpPr>
        <p:spPr>
          <a:xfrm>
            <a:off x="3887640" y="249084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Web Theme</a:t>
            </a:r>
            <a:endParaRPr b="0" lang="en-US" sz="1600" spc="-1" strike="noStrike">
              <a:solidFill>
                <a:srgbClr val="3f3f3f"/>
              </a:solidFill>
              <a:latin typeface="Libre Franklin"/>
            </a:endParaRPr>
          </a:p>
        </p:txBody>
      </p:sp>
      <p:sp>
        <p:nvSpPr>
          <p:cNvPr id="634" name="TextBox 8"/>
          <p:cNvSpPr/>
          <p:nvPr/>
        </p:nvSpPr>
        <p:spPr>
          <a:xfrm>
            <a:off x="1459080" y="4403880"/>
            <a:ext cx="2255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a:t>
            </a:r>
            <a:endParaRPr b="0" lang="en-US" sz="1100" spc="-1" strike="noStrike">
              <a:solidFill>
                <a:srgbClr val="3f3f3f"/>
              </a:solidFill>
              <a:latin typeface="Libre Franklin"/>
            </a:endParaRPr>
          </a:p>
        </p:txBody>
      </p:sp>
      <p:sp>
        <p:nvSpPr>
          <p:cNvPr id="635" name="TextBox 9"/>
          <p:cNvSpPr/>
          <p:nvPr/>
        </p:nvSpPr>
        <p:spPr>
          <a:xfrm>
            <a:off x="1459080" y="4052880"/>
            <a:ext cx="2101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Print Layout</a:t>
            </a:r>
            <a:endParaRPr b="0" lang="en-US" sz="1600" spc="-1" strike="noStrike">
              <a:solidFill>
                <a:srgbClr val="3f3f3f"/>
              </a:solidFill>
              <a:latin typeface="Libre Franklin"/>
            </a:endParaRPr>
          </a:p>
        </p:txBody>
      </p:sp>
      <p:sp>
        <p:nvSpPr>
          <p:cNvPr id="636" name="TextBox 10"/>
          <p:cNvSpPr/>
          <p:nvPr/>
        </p:nvSpPr>
        <p:spPr>
          <a:xfrm>
            <a:off x="3887640" y="4403880"/>
            <a:ext cx="22561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 at auctor urna nunc id. Maecen</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s acc</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msan lacus vel</a:t>
            </a:r>
            <a:endParaRPr b="0" lang="en-US" sz="1100" spc="-1" strike="noStrike">
              <a:solidFill>
                <a:srgbClr val="3f3f3f"/>
              </a:solidFill>
              <a:latin typeface="Libre Franklin"/>
            </a:endParaRPr>
          </a:p>
        </p:txBody>
      </p:sp>
      <p:sp>
        <p:nvSpPr>
          <p:cNvPr id="637" name="TextBox 11"/>
          <p:cNvSpPr/>
          <p:nvPr/>
        </p:nvSpPr>
        <p:spPr>
          <a:xfrm>
            <a:off x="3887640" y="405288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Branding Services</a:t>
            </a:r>
            <a:endParaRPr b="0" lang="en-US" sz="16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Box 4"/>
          <p:cNvSpPr/>
          <p:nvPr/>
        </p:nvSpPr>
        <p:spPr>
          <a:xfrm>
            <a:off x="5200560" y="2644920"/>
            <a:ext cx="5695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ibre Franklin"/>
              </a:rPr>
              <a:t>Simplicity involves unburdening your life, and living more lightly with fewer distractions that interfere with a high quality life, as defined uniquely by each individual.</a:t>
            </a:r>
            <a:endParaRPr b="0" lang="en-US" sz="2000" spc="-1" strike="noStrike">
              <a:solidFill>
                <a:srgbClr val="3f3f3f"/>
              </a:solidFill>
              <a:latin typeface="Libre Franklin"/>
            </a:endParaRPr>
          </a:p>
        </p:txBody>
      </p:sp>
      <p:sp>
        <p:nvSpPr>
          <p:cNvPr id="639" name="TextBox 5"/>
          <p:cNvSpPr/>
          <p:nvPr/>
        </p:nvSpPr>
        <p:spPr>
          <a:xfrm>
            <a:off x="5210280" y="2021040"/>
            <a:ext cx="65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Libre Franklin"/>
              </a:rPr>
              <a:t>“</a:t>
            </a:r>
            <a:endParaRPr b="0" lang="en-US" sz="5400" spc="-1" strike="noStrike">
              <a:solidFill>
                <a:srgbClr val="3f3f3f"/>
              </a:solidFill>
              <a:latin typeface="Libre Franklin"/>
            </a:endParaRPr>
          </a:p>
        </p:txBody>
      </p:sp>
      <p:sp>
        <p:nvSpPr>
          <p:cNvPr id="640" name="Rectangle 6"/>
          <p:cNvSpPr/>
          <p:nvPr/>
        </p:nvSpPr>
        <p:spPr>
          <a:xfrm>
            <a:off x="5280840" y="4309920"/>
            <a:ext cx="1477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D" sz="1100" spc="-1" strike="noStrike">
                <a:solidFill>
                  <a:srgbClr val="ffffff"/>
                </a:solidFill>
                <a:latin typeface="Libre Franklin"/>
                <a:ea typeface="Calibri"/>
              </a:rPr>
              <a:t>Quote By Your Name</a:t>
            </a:r>
            <a:endParaRPr b="0" lang="en-US" sz="1100" spc="-1" strike="noStrike">
              <a:solidFill>
                <a:srgbClr val="3f3f3f"/>
              </a:solidFill>
              <a:latin typeface="Libre Franklin"/>
            </a:endParaRPr>
          </a:p>
        </p:txBody>
      </p:sp>
      <p:sp>
        <p:nvSpPr>
          <p:cNvPr id="641" name="Rectangle 7"/>
          <p:cNvSpPr/>
          <p:nvPr/>
        </p:nvSpPr>
        <p:spPr>
          <a:xfrm>
            <a:off x="6761160" y="4457880"/>
            <a:ext cx="1371600" cy="28440"/>
          </a:xfrm>
          <a:prstGeom prst="rect">
            <a:avLst/>
          </a:prstGeom>
          <a:solidFill>
            <a:srgbClr val="ffffff"/>
          </a:solidFill>
          <a:ln w="0">
            <a:noFill/>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Box 2"/>
          <p:cNvSpPr/>
          <p:nvPr/>
        </p:nvSpPr>
        <p:spPr>
          <a:xfrm>
            <a:off x="1422360" y="2568600"/>
            <a:ext cx="4673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i</a:t>
            </a:r>
            <a:endParaRPr b="0" lang="en-US" sz="1100" spc="-1" strike="noStrike">
              <a:solidFill>
                <a:srgbClr val="3f3f3f"/>
              </a:solidFill>
              <a:latin typeface="Libre Franklin"/>
            </a:endParaRPr>
          </a:p>
        </p:txBody>
      </p:sp>
      <p:sp>
        <p:nvSpPr>
          <p:cNvPr id="643" name="TextBox 12"/>
          <p:cNvSpPr/>
          <p:nvPr/>
        </p:nvSpPr>
        <p:spPr>
          <a:xfrm>
            <a:off x="1440000" y="353700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Address</a:t>
            </a:r>
            <a:endParaRPr b="0" lang="en-US" sz="1600" spc="-1" strike="noStrike">
              <a:solidFill>
                <a:srgbClr val="3f3f3f"/>
              </a:solidFill>
              <a:latin typeface="Libre Franklin"/>
            </a:endParaRPr>
          </a:p>
        </p:txBody>
      </p:sp>
      <p:sp>
        <p:nvSpPr>
          <p:cNvPr id="644" name="TextBox 4"/>
          <p:cNvSpPr/>
          <p:nvPr/>
        </p:nvSpPr>
        <p:spPr>
          <a:xfrm>
            <a:off x="3011400" y="3570120"/>
            <a:ext cx="24116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7f7f7f"/>
                </a:solidFill>
                <a:latin typeface="Libre Franklin"/>
              </a:rPr>
              <a:t>121 King Street, Melbourne</a:t>
            </a:r>
            <a:br>
              <a:rPr sz="1100"/>
            </a:br>
            <a:r>
              <a:rPr b="0" lang="en-ID" sz="1100" spc="-1" strike="noStrike">
                <a:solidFill>
                  <a:srgbClr val="7f7f7f"/>
                </a:solidFill>
                <a:latin typeface="Libre Franklin"/>
              </a:rPr>
              <a:t>Victoria 3000 Australia</a:t>
            </a:r>
            <a:endParaRPr b="0" lang="en-US" sz="1100" spc="-1" strike="noStrike">
              <a:solidFill>
                <a:srgbClr val="3f3f3f"/>
              </a:solidFill>
              <a:latin typeface="Libre Franklin"/>
            </a:endParaRPr>
          </a:p>
        </p:txBody>
      </p:sp>
      <p:sp>
        <p:nvSpPr>
          <p:cNvPr id="645" name="TextBox 12"/>
          <p:cNvSpPr/>
          <p:nvPr/>
        </p:nvSpPr>
        <p:spPr>
          <a:xfrm>
            <a:off x="1440000" y="416880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Phone</a:t>
            </a:r>
            <a:endParaRPr b="0" lang="en-US" sz="1600" spc="-1" strike="noStrike">
              <a:solidFill>
                <a:srgbClr val="3f3f3f"/>
              </a:solidFill>
              <a:latin typeface="Libre Franklin"/>
            </a:endParaRPr>
          </a:p>
        </p:txBody>
      </p:sp>
      <p:sp>
        <p:nvSpPr>
          <p:cNvPr id="646" name="TextBox 6"/>
          <p:cNvSpPr/>
          <p:nvPr/>
        </p:nvSpPr>
        <p:spPr>
          <a:xfrm>
            <a:off x="3011400" y="4202280"/>
            <a:ext cx="2411640" cy="61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rPr>
              <a:t>(+62) 000 0000 0000</a:t>
            </a:r>
            <a:endParaRPr b="0" lang="en-US" sz="1100" spc="-1" strike="noStrike">
              <a:solidFill>
                <a:srgbClr val="3f3f3f"/>
              </a:solidFill>
              <a:latin typeface="Libre Franklin"/>
            </a:endParaRPr>
          </a:p>
          <a:p>
            <a:pPr algn="just">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rPr>
              <a:t>(0725) 00000</a:t>
            </a:r>
            <a:endParaRPr b="0" lang="en-US" sz="1100" spc="-1" strike="noStrike">
              <a:solidFill>
                <a:srgbClr val="3f3f3f"/>
              </a:solidFill>
              <a:latin typeface="Libre Franklin"/>
            </a:endParaRPr>
          </a:p>
        </p:txBody>
      </p:sp>
      <p:sp>
        <p:nvSpPr>
          <p:cNvPr id="647" name="TextBox 12"/>
          <p:cNvSpPr/>
          <p:nvPr/>
        </p:nvSpPr>
        <p:spPr>
          <a:xfrm>
            <a:off x="1440000" y="480204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Times New Roman"/>
              </a:rPr>
              <a:t>Office Hour</a:t>
            </a:r>
            <a:endParaRPr b="0" lang="en-US" sz="1600" spc="-1" strike="noStrike">
              <a:solidFill>
                <a:srgbClr val="3f3f3f"/>
              </a:solidFill>
              <a:latin typeface="Libre Franklin"/>
            </a:endParaRPr>
          </a:p>
        </p:txBody>
      </p:sp>
      <p:sp>
        <p:nvSpPr>
          <p:cNvPr id="648" name="TextBox 8"/>
          <p:cNvSpPr/>
          <p:nvPr/>
        </p:nvSpPr>
        <p:spPr>
          <a:xfrm>
            <a:off x="3011400" y="4834080"/>
            <a:ext cx="2411640" cy="61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Monday – Saturday</a:t>
            </a:r>
            <a:endParaRPr b="0" lang="en-US" sz="1100" spc="-1" strike="noStrike">
              <a:solidFill>
                <a:srgbClr val="3f3f3f"/>
              </a:solidFill>
              <a:latin typeface="Libre Franklin"/>
            </a:endParaRPr>
          </a:p>
          <a:p>
            <a:pPr algn="just">
              <a:lnSpc>
                <a:spcPct val="15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08.00 AM – </a:t>
            </a:r>
            <a:r>
              <a:rPr b="0" lang="en-US" sz="1100" spc="-1" strike="noStrike">
                <a:solidFill>
                  <a:srgbClr val="7f7f7f"/>
                </a:solidFill>
                <a:latin typeface="Libre Franklin"/>
                <a:ea typeface="Times New Roman"/>
              </a:rPr>
              <a:t>05</a:t>
            </a:r>
            <a:r>
              <a:rPr b="0" lang="id-ID" sz="1100" spc="-1" strike="noStrike">
                <a:solidFill>
                  <a:srgbClr val="7f7f7f"/>
                </a:solidFill>
                <a:latin typeface="Libre Franklin"/>
                <a:ea typeface="Times New Roman"/>
              </a:rPr>
              <a:t>.00 PM</a:t>
            </a:r>
            <a:endParaRPr b="0" lang="en-US" sz="1100" spc="-1" strike="noStrike">
              <a:solidFill>
                <a:srgbClr val="3f3f3f"/>
              </a:solidFill>
              <a:latin typeface="Libre Franklin"/>
            </a:endParaRPr>
          </a:p>
        </p:txBody>
      </p:sp>
      <p:sp>
        <p:nvSpPr>
          <p:cNvPr id="649" name="TextBox 9"/>
          <p:cNvSpPr/>
          <p:nvPr/>
        </p:nvSpPr>
        <p:spPr>
          <a:xfrm>
            <a:off x="1390680" y="142704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GET IN TOUCH</a:t>
            </a:r>
            <a:endParaRPr b="0" lang="en-US" sz="2800" spc="-1" strike="noStrike">
              <a:solidFill>
                <a:srgbClr val="3f3f3f"/>
              </a:solidFill>
              <a:latin typeface="Libre Franklin"/>
            </a:endParaRPr>
          </a:p>
        </p:txBody>
      </p:sp>
      <p:sp>
        <p:nvSpPr>
          <p:cNvPr id="650" name="TextBox 10"/>
          <p:cNvSpPr/>
          <p:nvPr/>
        </p:nvSpPr>
        <p:spPr>
          <a:xfrm>
            <a:off x="1422000" y="19303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Box 4"/>
          <p:cNvSpPr/>
          <p:nvPr/>
        </p:nvSpPr>
        <p:spPr>
          <a:xfrm>
            <a:off x="6357960" y="2185920"/>
            <a:ext cx="561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f3f3f"/>
                </a:solidFill>
                <a:latin typeface="Montserrat Black"/>
              </a:rPr>
              <a:t>THANKS</a:t>
            </a:r>
            <a:endParaRPr b="0" lang="en-US" sz="7200" spc="-1" strike="noStrike">
              <a:solidFill>
                <a:srgbClr val="3f3f3f"/>
              </a:solidFill>
              <a:latin typeface="Libre Franklin"/>
            </a:endParaRPr>
          </a:p>
        </p:txBody>
      </p:sp>
      <p:sp>
        <p:nvSpPr>
          <p:cNvPr id="652" name="TextBox 5"/>
          <p:cNvSpPr/>
          <p:nvPr/>
        </p:nvSpPr>
        <p:spPr>
          <a:xfrm>
            <a:off x="6431760" y="3357720"/>
            <a:ext cx="239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Libre Franklin"/>
              </a:rPr>
              <a:t>And See You Next Time</a:t>
            </a:r>
            <a:endParaRPr b="0" lang="en-US" sz="1600" spc="-1" strike="noStrike">
              <a:solidFill>
                <a:srgbClr val="3f3f3f"/>
              </a:solidFill>
              <a:latin typeface="Libre Franklin"/>
            </a:endParaRPr>
          </a:p>
        </p:txBody>
      </p:sp>
      <p:sp>
        <p:nvSpPr>
          <p:cNvPr id="653" name="TextBox 6"/>
          <p:cNvSpPr/>
          <p:nvPr/>
        </p:nvSpPr>
        <p:spPr>
          <a:xfrm>
            <a:off x="10878120" y="4578480"/>
            <a:ext cx="1037520" cy="249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Page </a:t>
            </a:r>
            <a:fld id="{5F2897C5-0548-4922-812B-9DFD867B15E3}" type="slidenum">
              <a:rPr b="0" lang="en-US" sz="900" spc="-1" strike="noStrike">
                <a:solidFill>
                  <a:srgbClr val="7f7f7f"/>
                </a:solidFill>
                <a:latin typeface="Libre Franklin"/>
              </a:rPr>
              <a:t>&lt;number&gt;</a:t>
            </a:fld>
            <a:endParaRPr b="0" lang="en-US" sz="900" spc="-1" strike="noStrike">
              <a:solidFill>
                <a:srgbClr val="3f3f3f"/>
              </a:solidFill>
              <a:latin typeface="Libre Franklin"/>
            </a:endParaRPr>
          </a:p>
        </p:txBody>
      </p:sp>
      <p:sp>
        <p:nvSpPr>
          <p:cNvPr id="654" name="Rectangle 7"/>
          <p:cNvSpPr/>
          <p:nvPr/>
        </p:nvSpPr>
        <p:spPr>
          <a:xfrm>
            <a:off x="11536200" y="4884840"/>
            <a:ext cx="19080" cy="1020600"/>
          </a:xfrm>
          <a:prstGeom prst="rect">
            <a:avLst/>
          </a:prstGeom>
          <a:solidFill>
            <a:srgbClr val="3a43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Libre Franklin"/>
            </a:endParaRPr>
          </a:p>
        </p:txBody>
      </p:sp>
      <p:sp>
        <p:nvSpPr>
          <p:cNvPr id="655" name="TextBox 8"/>
          <p:cNvSpPr/>
          <p:nvPr/>
        </p:nvSpPr>
        <p:spPr>
          <a:xfrm>
            <a:off x="11053800" y="6021360"/>
            <a:ext cx="60912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ibre Franklin"/>
              </a:rPr>
              <a:t>Page 36</a:t>
            </a:r>
            <a:endParaRPr b="0" lang="en-US" sz="900" spc="-1" strike="noStrike">
              <a:solidFill>
                <a:srgbClr val="3f3f3f"/>
              </a:solidFill>
              <a:latin typeface="Libre Franklin"/>
            </a:endParaRPr>
          </a:p>
        </p:txBody>
      </p:sp>
      <p:sp>
        <p:nvSpPr>
          <p:cNvPr id="656" name="TextBox 9"/>
          <p:cNvSpPr/>
          <p:nvPr/>
        </p:nvSpPr>
        <p:spPr>
          <a:xfrm>
            <a:off x="6413400" y="4400640"/>
            <a:ext cx="26179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400" spc="-1" strike="noStrike">
                <a:solidFill>
                  <a:srgbClr val="b2b2b2"/>
                </a:solidFill>
                <a:latin typeface="Libre Franklin"/>
              </a:rPr>
              <a:t>121 King Street, Melbourne</a:t>
            </a:r>
            <a:br>
              <a:rPr sz="1400"/>
            </a:br>
            <a:r>
              <a:rPr b="0" lang="en-ID" sz="1400" spc="-1" strike="noStrike">
                <a:solidFill>
                  <a:srgbClr val="b2b2b2"/>
                </a:solidFill>
                <a:latin typeface="Libre Franklin"/>
              </a:rPr>
              <a:t>Victoria 3000 Australia</a:t>
            </a:r>
            <a:endParaRPr b="0" lang="en-US" sz="1400" spc="-1" strike="noStrike">
              <a:solidFill>
                <a:srgbClr val="3f3f3f"/>
              </a:solidFill>
              <a:latin typeface="Libre Franklin"/>
            </a:endParaRPr>
          </a:p>
        </p:txBody>
      </p:sp>
      <p:sp>
        <p:nvSpPr>
          <p:cNvPr id="657" name="TextBox 10"/>
          <p:cNvSpPr/>
          <p:nvPr/>
        </p:nvSpPr>
        <p:spPr>
          <a:xfrm>
            <a:off x="7513920" y="531720"/>
            <a:ext cx="505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f5f5f"/>
                </a:solidFill>
                <a:latin typeface="Libre Franklin"/>
              </a:rPr>
              <a:t>Home</a:t>
            </a:r>
            <a:endParaRPr b="0" lang="en-US" sz="900" spc="-1" strike="noStrike">
              <a:solidFill>
                <a:srgbClr val="3f3f3f"/>
              </a:solidFill>
              <a:latin typeface="Libre Franklin"/>
            </a:endParaRPr>
          </a:p>
        </p:txBody>
      </p:sp>
      <p:sp>
        <p:nvSpPr>
          <p:cNvPr id="658" name="TextBox 11"/>
          <p:cNvSpPr/>
          <p:nvPr/>
        </p:nvSpPr>
        <p:spPr>
          <a:xfrm>
            <a:off x="8360640" y="531720"/>
            <a:ext cx="672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f5f5f"/>
                </a:solidFill>
                <a:latin typeface="Libre Franklin"/>
              </a:rPr>
              <a:t>About Us</a:t>
            </a:r>
            <a:endParaRPr b="0" lang="en-US" sz="900" spc="-1" strike="noStrike">
              <a:solidFill>
                <a:srgbClr val="3f3f3f"/>
              </a:solidFill>
              <a:latin typeface="Libre Franklin"/>
            </a:endParaRPr>
          </a:p>
        </p:txBody>
      </p:sp>
      <p:sp>
        <p:nvSpPr>
          <p:cNvPr id="659" name="TextBox 12"/>
          <p:cNvSpPr/>
          <p:nvPr/>
        </p:nvSpPr>
        <p:spPr>
          <a:xfrm>
            <a:off x="9361080" y="531720"/>
            <a:ext cx="615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5f5f5f"/>
                </a:solidFill>
                <a:uFillTx/>
                <a:latin typeface="Libre Franklin"/>
              </a:rPr>
              <a:t>Services</a:t>
            </a:r>
            <a:endParaRPr b="0" lang="en-US" sz="900" spc="-1" strike="noStrike">
              <a:solidFill>
                <a:srgbClr val="3f3f3f"/>
              </a:solidFill>
              <a:latin typeface="Libre Franklin"/>
            </a:endParaRPr>
          </a:p>
        </p:txBody>
      </p:sp>
      <p:sp>
        <p:nvSpPr>
          <p:cNvPr id="660" name="TextBox 13"/>
          <p:cNvSpPr/>
          <p:nvPr/>
        </p:nvSpPr>
        <p:spPr>
          <a:xfrm>
            <a:off x="10303920" y="531720"/>
            <a:ext cx="640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f5f5f"/>
                </a:solidFill>
                <a:latin typeface="Libre Franklin"/>
              </a:rPr>
              <a:t>Portfolio</a:t>
            </a:r>
            <a:endParaRPr b="0" lang="en-US" sz="900" spc="-1" strike="noStrike">
              <a:solidFill>
                <a:srgbClr val="3f3f3f"/>
              </a:solidFill>
              <a:latin typeface="Libre Franklin"/>
            </a:endParaRPr>
          </a:p>
        </p:txBody>
      </p:sp>
      <p:sp>
        <p:nvSpPr>
          <p:cNvPr id="661" name="TextBox 14"/>
          <p:cNvSpPr/>
          <p:nvPr/>
        </p:nvSpPr>
        <p:spPr>
          <a:xfrm>
            <a:off x="11254320" y="531720"/>
            <a:ext cx="4291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f5f5f"/>
                </a:solidFill>
                <a:latin typeface="Libre Franklin"/>
              </a:rPr>
              <a:t>Help</a:t>
            </a:r>
            <a:endParaRPr b="0" lang="en-US" sz="9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2"/>
          <p:cNvSpPr/>
          <p:nvPr/>
        </p:nvSpPr>
        <p:spPr>
          <a:xfrm>
            <a:off x="1430280" y="2954160"/>
            <a:ext cx="47768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tor at auctor urna nunc id. Maecenas accumsan lacus vel facilisis volutpat est velit egestas dui. Libero enim sed faucibus turpis. Et tortor consequat id porta nibh ven</a:t>
            </a:r>
            <a:endParaRPr b="0" lang="en-US" sz="1100" spc="-1" strike="noStrike">
              <a:solidFill>
                <a:srgbClr val="3f3f3f"/>
              </a:solidFill>
              <a:latin typeface="Libre Franklin"/>
            </a:endParaRPr>
          </a:p>
        </p:txBody>
      </p:sp>
      <p:sp>
        <p:nvSpPr>
          <p:cNvPr id="283" name="Oval 3"/>
          <p:cNvSpPr/>
          <p:nvPr/>
        </p:nvSpPr>
        <p:spPr>
          <a:xfrm>
            <a:off x="1490760" y="3909960"/>
            <a:ext cx="687240" cy="687600"/>
          </a:xfrm>
          <a:prstGeom prst="ellipse">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ibre Franklin"/>
              </a:rPr>
              <a:t>01</a:t>
            </a:r>
            <a:endParaRPr b="0" lang="en-US" sz="1400" spc="-1" strike="noStrike">
              <a:solidFill>
                <a:srgbClr val="3f3f3f"/>
              </a:solidFill>
              <a:latin typeface="Libre Franklin"/>
            </a:endParaRPr>
          </a:p>
        </p:txBody>
      </p:sp>
      <p:sp>
        <p:nvSpPr>
          <p:cNvPr id="284" name="TextBox 4"/>
          <p:cNvSpPr/>
          <p:nvPr/>
        </p:nvSpPr>
        <p:spPr>
          <a:xfrm>
            <a:off x="2292480" y="391176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The Minimal Style</a:t>
            </a:r>
            <a:endParaRPr b="0" lang="en-US" sz="1600" spc="-1" strike="noStrike">
              <a:solidFill>
                <a:srgbClr val="3f3f3f"/>
              </a:solidFill>
              <a:latin typeface="Libre Franklin"/>
            </a:endParaRPr>
          </a:p>
        </p:txBody>
      </p:sp>
      <p:sp>
        <p:nvSpPr>
          <p:cNvPr id="285" name="TextBox 5"/>
          <p:cNvSpPr/>
          <p:nvPr/>
        </p:nvSpPr>
        <p:spPr>
          <a:xfrm>
            <a:off x="2292480" y="4264200"/>
            <a:ext cx="2998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tor at auctor</a:t>
            </a:r>
            <a:endParaRPr b="0" lang="en-US" sz="1100" spc="-1" strike="noStrike">
              <a:solidFill>
                <a:srgbClr val="3f3f3f"/>
              </a:solidFill>
              <a:latin typeface="Libre Franklin"/>
            </a:endParaRPr>
          </a:p>
        </p:txBody>
      </p:sp>
      <p:sp>
        <p:nvSpPr>
          <p:cNvPr id="286" name="Oval 6"/>
          <p:cNvSpPr/>
          <p:nvPr/>
        </p:nvSpPr>
        <p:spPr>
          <a:xfrm>
            <a:off x="1490760" y="4849920"/>
            <a:ext cx="687240" cy="687240"/>
          </a:xfrm>
          <a:prstGeom prst="ellipse">
            <a:avLst/>
          </a:prstGeom>
          <a:solidFill>
            <a:srgbClr val="434e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ibre Franklin"/>
              </a:rPr>
              <a:t>02</a:t>
            </a:r>
            <a:endParaRPr b="0" lang="en-US" sz="1400" spc="-1" strike="noStrike">
              <a:solidFill>
                <a:srgbClr val="3f3f3f"/>
              </a:solidFill>
              <a:latin typeface="Libre Franklin"/>
            </a:endParaRPr>
          </a:p>
        </p:txBody>
      </p:sp>
      <p:sp>
        <p:nvSpPr>
          <p:cNvPr id="287" name="TextBox 7"/>
          <p:cNvSpPr/>
          <p:nvPr/>
        </p:nvSpPr>
        <p:spPr>
          <a:xfrm>
            <a:off x="2292480" y="4851360"/>
            <a:ext cx="2100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The Modern Look</a:t>
            </a:r>
            <a:endParaRPr b="0" lang="en-US" sz="1600" spc="-1" strike="noStrike">
              <a:solidFill>
                <a:srgbClr val="3f3f3f"/>
              </a:solidFill>
              <a:latin typeface="Libre Franklin"/>
            </a:endParaRPr>
          </a:p>
        </p:txBody>
      </p:sp>
      <p:sp>
        <p:nvSpPr>
          <p:cNvPr id="288" name="TextBox 8"/>
          <p:cNvSpPr/>
          <p:nvPr/>
        </p:nvSpPr>
        <p:spPr>
          <a:xfrm>
            <a:off x="2292480" y="5203800"/>
            <a:ext cx="2998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Tristique nulla aliquet enim tortor at auctor</a:t>
            </a:r>
            <a:endParaRPr b="0" lang="en-US" sz="1100" spc="-1" strike="noStrike">
              <a:solidFill>
                <a:srgbClr val="3f3f3f"/>
              </a:solidFill>
              <a:latin typeface="Libre Franklin"/>
            </a:endParaRPr>
          </a:p>
        </p:txBody>
      </p:sp>
      <p:sp>
        <p:nvSpPr>
          <p:cNvPr id="289" name="TextBox 34"/>
          <p:cNvSpPr/>
          <p:nvPr/>
        </p:nvSpPr>
        <p:spPr>
          <a:xfrm>
            <a:off x="1428840" y="1415880"/>
            <a:ext cx="440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THE BEST VALUE OF FLORESIA HERE</a:t>
            </a:r>
            <a:endParaRPr b="0" lang="en-US" sz="2800" spc="-1" strike="noStrike">
              <a:solidFill>
                <a:srgbClr val="3f3f3f"/>
              </a:solidFill>
              <a:latin typeface="Libre Franklin"/>
            </a:endParaRPr>
          </a:p>
        </p:txBody>
      </p:sp>
      <p:sp>
        <p:nvSpPr>
          <p:cNvPr id="290" name="TextBox 35"/>
          <p:cNvSpPr/>
          <p:nvPr/>
        </p:nvSpPr>
        <p:spPr>
          <a:xfrm>
            <a:off x="1460160" y="237024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4"/>
          <p:cNvSpPr/>
          <p:nvPr/>
        </p:nvSpPr>
        <p:spPr>
          <a:xfrm>
            <a:off x="3867120" y="3706920"/>
            <a:ext cx="4610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Quis varius quam quisque id diam vel. Ut enim blandit volutpat maecenas volutpat blandit aliquam etiam erat. Vel eros donec ac odio tempor orci dapibus ultrices ullamc</a:t>
            </a:r>
            <a:endParaRPr b="0" lang="en-US" sz="1100" spc="-1" strike="noStrike">
              <a:solidFill>
                <a:srgbClr val="3f3f3f"/>
              </a:solidFill>
              <a:latin typeface="Libre Franklin"/>
            </a:endParaRPr>
          </a:p>
        </p:txBody>
      </p:sp>
      <p:sp>
        <p:nvSpPr>
          <p:cNvPr id="292" name="TextBox 5"/>
          <p:cNvSpPr/>
          <p:nvPr/>
        </p:nvSpPr>
        <p:spPr>
          <a:xfrm>
            <a:off x="3867120" y="4651200"/>
            <a:ext cx="4610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Quis varius quam quisque id diam vel. Ut enim blandit volutpat maecenas volutpat blandit aliquam etiam erat. Vel eros donec ac odio tempor orci dapibus ultrices ullamc</a:t>
            </a:r>
            <a:endParaRPr b="0" lang="en-US" sz="1100" spc="-1" strike="noStrike">
              <a:solidFill>
                <a:srgbClr val="3f3f3f"/>
              </a:solidFill>
              <a:latin typeface="Libre Franklin"/>
            </a:endParaRPr>
          </a:p>
        </p:txBody>
      </p:sp>
      <p:sp>
        <p:nvSpPr>
          <p:cNvPr id="293" name="TextBox 6"/>
          <p:cNvSpPr/>
          <p:nvPr/>
        </p:nvSpPr>
        <p:spPr>
          <a:xfrm>
            <a:off x="3867120" y="3029040"/>
            <a:ext cx="3697200" cy="65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7000"/>
              </a:lnSpc>
              <a:spcAft>
                <a:spcPts val="7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595959"/>
                </a:solidFill>
                <a:latin typeface="Libre Franklin"/>
                <a:ea typeface="Calibri"/>
              </a:rPr>
              <a:t>Professional Design Style</a:t>
            </a:r>
            <a:endParaRPr b="0" lang="en-US" sz="1400" spc="-1" strike="noStrike">
              <a:solidFill>
                <a:srgbClr val="3f3f3f"/>
              </a:solidFill>
              <a:latin typeface="Libre Franklin"/>
            </a:endParaRPr>
          </a:p>
          <a:p>
            <a:pPr marL="285840" indent="-285840">
              <a:lnSpc>
                <a:spcPct val="107000"/>
              </a:lnSpc>
              <a:spcAft>
                <a:spcPts val="7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Libre Franklin"/>
                <a:ea typeface="Calibri"/>
              </a:rPr>
              <a:t>The Best Value For Everyone</a:t>
            </a:r>
            <a:endParaRPr b="0" lang="en-US" sz="1400" spc="-1" strike="noStrike">
              <a:solidFill>
                <a:srgbClr val="3f3f3f"/>
              </a:solidFill>
              <a:latin typeface="Libre Franklin"/>
            </a:endParaRPr>
          </a:p>
        </p:txBody>
      </p:sp>
      <p:sp>
        <p:nvSpPr>
          <p:cNvPr id="294" name="TextBox 7"/>
          <p:cNvSpPr/>
          <p:nvPr/>
        </p:nvSpPr>
        <p:spPr>
          <a:xfrm>
            <a:off x="3867120" y="1246320"/>
            <a:ext cx="421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GOOD SOLUTION FOR MINIMAL STYLE</a:t>
            </a:r>
            <a:endParaRPr b="0" lang="en-US" sz="2800" spc="-1" strike="noStrike">
              <a:solidFill>
                <a:srgbClr val="3f3f3f"/>
              </a:solidFill>
              <a:latin typeface="Libre Franklin"/>
            </a:endParaRPr>
          </a:p>
        </p:txBody>
      </p:sp>
      <p:sp>
        <p:nvSpPr>
          <p:cNvPr id="295" name="TextBox 8"/>
          <p:cNvSpPr/>
          <p:nvPr/>
        </p:nvSpPr>
        <p:spPr>
          <a:xfrm>
            <a:off x="3898440" y="220032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3"/>
          <p:cNvSpPr/>
          <p:nvPr/>
        </p:nvSpPr>
        <p:spPr>
          <a:xfrm>
            <a:off x="1428840" y="1216080"/>
            <a:ext cx="440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WHAT WE DO?</a:t>
            </a:r>
            <a:endParaRPr b="0" lang="en-US" sz="2800" spc="-1" strike="noStrike">
              <a:solidFill>
                <a:srgbClr val="3f3f3f"/>
              </a:solidFill>
              <a:latin typeface="Libre Franklin"/>
            </a:endParaRPr>
          </a:p>
        </p:txBody>
      </p:sp>
      <p:sp>
        <p:nvSpPr>
          <p:cNvPr id="297" name="TextBox 4"/>
          <p:cNvSpPr/>
          <p:nvPr/>
        </p:nvSpPr>
        <p:spPr>
          <a:xfrm>
            <a:off x="1460160" y="172080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298" name="TextBox 9"/>
          <p:cNvSpPr/>
          <p:nvPr/>
        </p:nvSpPr>
        <p:spPr>
          <a:xfrm>
            <a:off x="1437840" y="2462040"/>
            <a:ext cx="289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We Are Creating To Inspire</a:t>
            </a:r>
            <a:endParaRPr b="0" lang="en-US" sz="1600" spc="-1" strike="noStrike">
              <a:solidFill>
                <a:srgbClr val="3f3f3f"/>
              </a:solidFill>
              <a:latin typeface="Libre Franklin"/>
            </a:endParaRPr>
          </a:p>
        </p:txBody>
      </p:sp>
      <p:sp>
        <p:nvSpPr>
          <p:cNvPr id="299" name="TextBox 10"/>
          <p:cNvSpPr/>
          <p:nvPr/>
        </p:nvSpPr>
        <p:spPr>
          <a:xfrm>
            <a:off x="1447920" y="2768760"/>
            <a:ext cx="49147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a:t>
            </a:r>
            <a:r>
              <a:rPr b="0" lang="en-US" sz="1100" spc="-1" strike="noStrike">
                <a:solidFill>
                  <a:srgbClr val="7f7f7f"/>
                </a:solidFill>
                <a:latin typeface="Libre Franklin"/>
                <a:ea typeface="Times New Roman"/>
              </a:rPr>
              <a:t>da</a:t>
            </a:r>
            <a:r>
              <a:rPr b="0" lang="id-ID" sz="1100" spc="-1" strike="noStrike">
                <a:solidFill>
                  <a:srgbClr val="7f7f7f"/>
                </a:solidFill>
                <a:latin typeface="Libre Franklin"/>
                <a:ea typeface="Times New Roman"/>
              </a:rPr>
              <a:t>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 bargan eli</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 ba</a:t>
            </a:r>
            <a:r>
              <a:rPr b="0" lang="id-ID" sz="1100" spc="-1" strike="noStrike">
                <a:solidFill>
                  <a:srgbClr val="7f7f7f"/>
                </a:solidFill>
                <a:latin typeface="Libre Franklin"/>
                <a:ea typeface="Times New Roman"/>
              </a:rPr>
              <a:t>dui ultrices.</a:t>
            </a:r>
            <a:r>
              <a:rPr b="0" lang="en-US" sz="1100" spc="-1" strike="noStrike">
                <a:solidFill>
                  <a:srgbClr val="7f7f7f"/>
                </a:solidFill>
                <a:latin typeface="Libre Franklin"/>
              </a:rPr>
              <a:t> consectetur adipiscing elit,s sed tollo dolorel eiusm</a:t>
            </a:r>
            <a:endParaRPr b="0" lang="en-US" sz="1100" spc="-1" strike="noStrike">
              <a:solidFill>
                <a:srgbClr val="3f3f3f"/>
              </a:solidFill>
              <a:latin typeface="Libre Franklin"/>
            </a:endParaRPr>
          </a:p>
        </p:txBody>
      </p:sp>
      <p:sp>
        <p:nvSpPr>
          <p:cNvPr id="300" name="TextBox 12"/>
          <p:cNvSpPr/>
          <p:nvPr/>
        </p:nvSpPr>
        <p:spPr>
          <a:xfrm>
            <a:off x="7553160" y="5076720"/>
            <a:ext cx="199404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ibre Franklin"/>
                <a:ea typeface="Times New Roman"/>
              </a:rPr>
              <a:t>967K</a:t>
            </a:r>
            <a:endParaRPr b="0" lang="en-US" sz="2800" spc="-1" strike="noStrike">
              <a:solidFill>
                <a:srgbClr val="3f3f3f"/>
              </a:solidFill>
              <a:latin typeface="Libre Franklin"/>
            </a:endParaRPr>
          </a:p>
        </p:txBody>
      </p:sp>
      <p:sp>
        <p:nvSpPr>
          <p:cNvPr id="301" name="TextBox 13"/>
          <p:cNvSpPr/>
          <p:nvPr/>
        </p:nvSpPr>
        <p:spPr>
          <a:xfrm>
            <a:off x="7553160" y="5686560"/>
            <a:ext cx="1994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ibre Franklin"/>
                <a:ea typeface="Times New Roman"/>
              </a:rPr>
              <a:t>Total Happy Client</a:t>
            </a:r>
            <a:endParaRPr b="0" lang="en-US" sz="1400" spc="-1" strike="noStrike">
              <a:solidFill>
                <a:srgbClr val="3f3f3f"/>
              </a:solidFill>
              <a:latin typeface="Libre Franklin"/>
            </a:endParaRPr>
          </a:p>
        </p:txBody>
      </p:sp>
      <p:sp>
        <p:nvSpPr>
          <p:cNvPr id="302" name="TextBox 14"/>
          <p:cNvSpPr/>
          <p:nvPr/>
        </p:nvSpPr>
        <p:spPr>
          <a:xfrm>
            <a:off x="9636120" y="5076720"/>
            <a:ext cx="199404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ibre Franklin"/>
                <a:ea typeface="Times New Roman"/>
              </a:rPr>
              <a:t>100%</a:t>
            </a:r>
            <a:endParaRPr b="0" lang="en-US" sz="2800" spc="-1" strike="noStrike">
              <a:solidFill>
                <a:srgbClr val="3f3f3f"/>
              </a:solidFill>
              <a:latin typeface="Libre Franklin"/>
            </a:endParaRPr>
          </a:p>
        </p:txBody>
      </p:sp>
      <p:sp>
        <p:nvSpPr>
          <p:cNvPr id="303" name="TextBox 15"/>
          <p:cNvSpPr/>
          <p:nvPr/>
        </p:nvSpPr>
        <p:spPr>
          <a:xfrm>
            <a:off x="9636120" y="5686560"/>
            <a:ext cx="1994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ibre Franklin"/>
                <a:ea typeface="Times New Roman"/>
              </a:rPr>
              <a:t>Creative Thinking</a:t>
            </a:r>
            <a:endParaRPr b="0" lang="en-US" sz="1400" spc="-1" strike="noStrike">
              <a:solidFill>
                <a:srgbClr val="3f3f3f"/>
              </a:solidFill>
              <a:latin typeface="Libre Frankli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Box 7"/>
          <p:cNvSpPr/>
          <p:nvPr/>
        </p:nvSpPr>
        <p:spPr>
          <a:xfrm>
            <a:off x="1428840" y="1216080"/>
            <a:ext cx="440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THE MISSIONS OF FLORESIA HERE</a:t>
            </a:r>
            <a:endParaRPr b="0" lang="en-US" sz="2800" spc="-1" strike="noStrike">
              <a:solidFill>
                <a:srgbClr val="3f3f3f"/>
              </a:solidFill>
              <a:latin typeface="Libre Franklin"/>
            </a:endParaRPr>
          </a:p>
        </p:txBody>
      </p:sp>
      <p:sp>
        <p:nvSpPr>
          <p:cNvPr id="305" name="TextBox 8"/>
          <p:cNvSpPr/>
          <p:nvPr/>
        </p:nvSpPr>
        <p:spPr>
          <a:xfrm>
            <a:off x="1460160" y="217008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306" name="TextBox 9"/>
          <p:cNvSpPr/>
          <p:nvPr/>
        </p:nvSpPr>
        <p:spPr>
          <a:xfrm>
            <a:off x="6985440" y="1330200"/>
            <a:ext cx="236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1. The Missions Here</a:t>
            </a:r>
            <a:endParaRPr b="0" lang="en-US" sz="1600" spc="-1" strike="noStrike">
              <a:solidFill>
                <a:srgbClr val="3f3f3f"/>
              </a:solidFill>
              <a:latin typeface="Libre Franklin"/>
            </a:endParaRPr>
          </a:p>
        </p:txBody>
      </p:sp>
      <p:sp>
        <p:nvSpPr>
          <p:cNvPr id="307" name="TextBox 10"/>
          <p:cNvSpPr/>
          <p:nvPr/>
        </p:nvSpPr>
        <p:spPr>
          <a:xfrm>
            <a:off x="7010280" y="1606680"/>
            <a:ext cx="3753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a:t>
            </a:r>
            <a:endParaRPr b="0" lang="en-US" sz="1100" spc="-1" strike="noStrike">
              <a:solidFill>
                <a:srgbClr val="3f3f3f"/>
              </a:solidFill>
              <a:latin typeface="Libre Franklin"/>
            </a:endParaRPr>
          </a:p>
        </p:txBody>
      </p:sp>
      <p:sp>
        <p:nvSpPr>
          <p:cNvPr id="308" name="TextBox 13"/>
          <p:cNvSpPr/>
          <p:nvPr/>
        </p:nvSpPr>
        <p:spPr>
          <a:xfrm>
            <a:off x="6998760" y="2954160"/>
            <a:ext cx="236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2. The Missions Here</a:t>
            </a:r>
            <a:endParaRPr b="0" lang="en-US" sz="1600" spc="-1" strike="noStrike">
              <a:solidFill>
                <a:srgbClr val="3f3f3f"/>
              </a:solidFill>
              <a:latin typeface="Libre Franklin"/>
            </a:endParaRPr>
          </a:p>
        </p:txBody>
      </p:sp>
      <p:sp>
        <p:nvSpPr>
          <p:cNvPr id="309" name="TextBox 14"/>
          <p:cNvSpPr/>
          <p:nvPr/>
        </p:nvSpPr>
        <p:spPr>
          <a:xfrm>
            <a:off x="7010280" y="3230640"/>
            <a:ext cx="3753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a:t>
            </a:r>
            <a:endParaRPr b="0" lang="en-US" sz="1100" spc="-1" strike="noStrike">
              <a:solidFill>
                <a:srgbClr val="3f3f3f"/>
              </a:solidFill>
              <a:latin typeface="Libre Franklin"/>
            </a:endParaRPr>
          </a:p>
        </p:txBody>
      </p:sp>
      <p:sp>
        <p:nvSpPr>
          <p:cNvPr id="310" name="TextBox 16"/>
          <p:cNvSpPr/>
          <p:nvPr/>
        </p:nvSpPr>
        <p:spPr>
          <a:xfrm>
            <a:off x="7000920" y="4578480"/>
            <a:ext cx="236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03. The Missions Here</a:t>
            </a:r>
            <a:endParaRPr b="0" lang="en-US" sz="1600" spc="-1" strike="noStrike">
              <a:solidFill>
                <a:srgbClr val="3f3f3f"/>
              </a:solidFill>
              <a:latin typeface="Libre Franklin"/>
            </a:endParaRPr>
          </a:p>
        </p:txBody>
      </p:sp>
      <p:sp>
        <p:nvSpPr>
          <p:cNvPr id="311" name="TextBox 17"/>
          <p:cNvSpPr/>
          <p:nvPr/>
        </p:nvSpPr>
        <p:spPr>
          <a:xfrm>
            <a:off x="7010280" y="4854600"/>
            <a:ext cx="37530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et nibh praesent tristiq</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e</a:t>
            </a:r>
            <a:r>
              <a:rPr b="0" lang="en-US" sz="1100" spc="-1" strike="noStrike">
                <a:solidFill>
                  <a:srgbClr val="7f7f7f"/>
                </a:solidFill>
                <a:latin typeface="Libre Franklin"/>
                <a:ea typeface="Times New Roman"/>
              </a:rPr>
              <a:t>i</a:t>
            </a:r>
            <a:r>
              <a:rPr b="0" lang="id-ID" sz="1100" spc="-1" strike="noStrike">
                <a:solidFill>
                  <a:srgbClr val="7f7f7f"/>
                </a:solidFill>
                <a:latin typeface="Libre Franklin"/>
                <a:ea typeface="Times New Roman"/>
              </a:rPr>
              <a:t> magna </a:t>
            </a:r>
            <a:r>
              <a:rPr b="0" lang="en-US" sz="1100" spc="-1" strike="noStrike">
                <a:solidFill>
                  <a:srgbClr val="7f7f7f"/>
                </a:solidFill>
                <a:latin typeface="Libre Franklin"/>
                <a:ea typeface="Times New Roman"/>
              </a:rPr>
              <a:t>silka magnna</a:t>
            </a:r>
            <a:r>
              <a:rPr b="0" lang="id-ID" sz="1100" spc="-1" strike="noStrike">
                <a:solidFill>
                  <a:srgbClr val="7f7f7f"/>
                </a:solidFill>
                <a:latin typeface="Libre Franklin"/>
                <a:ea typeface="Times New Roman"/>
              </a:rPr>
              <a:t>si</a:t>
            </a:r>
            <a:r>
              <a:rPr b="0" lang="en-US" sz="1100" spc="-1" strike="noStrike">
                <a:solidFill>
                  <a:srgbClr val="7f7f7f"/>
                </a:solidFill>
                <a:latin typeface="Libre Franklin"/>
                <a:ea typeface="Times New Roman"/>
              </a:rPr>
              <a:t>k ilitaai kio</a:t>
            </a:r>
            <a:r>
              <a:rPr b="0" lang="id-ID" sz="1100" spc="-1" strike="noStrike">
                <a:solidFill>
                  <a:srgbClr val="7f7f7f"/>
                </a:solidFill>
                <a:latin typeface="Libre Franklin"/>
                <a:ea typeface="Times New Roman"/>
              </a:rPr>
              <a:t> a</a:t>
            </a:r>
            <a:r>
              <a:rPr b="0" lang="en-US" sz="1100" spc="-1" strike="noStrike">
                <a:solidFill>
                  <a:srgbClr val="7f7f7f"/>
                </a:solidFill>
                <a:latin typeface="Libre Franklin"/>
                <a:ea typeface="Times New Roman"/>
              </a:rPr>
              <a:t>ia</a:t>
            </a:r>
            <a:r>
              <a:rPr b="0" lang="id-ID" sz="1100" spc="-1" strike="noStrike">
                <a:solidFill>
                  <a:srgbClr val="7f7f7f"/>
                </a:solidFill>
                <a:latin typeface="Libre Franklin"/>
                <a:ea typeface="Times New Roman"/>
              </a:rPr>
              <a:t>met. Risus pretium quam</a:t>
            </a:r>
            <a:r>
              <a:rPr b="0" lang="en-US" sz="1100" spc="-1" strike="noStrike">
                <a:solidFill>
                  <a:srgbClr val="7f7f7f"/>
                </a:solidFill>
                <a:latin typeface="Libre Franklin"/>
                <a:ea typeface="Times New Roman"/>
              </a:rPr>
              <a:t>is altoi</a:t>
            </a:r>
            <a:r>
              <a:rPr b="0" lang="id-ID" sz="1100" spc="-1" strike="noStrike">
                <a:solidFill>
                  <a:srgbClr val="7f7f7f"/>
                </a:solidFill>
                <a:latin typeface="Libre Franklin"/>
                <a:ea typeface="Times New Roman"/>
              </a:rPr>
              <a:t> vulput</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ate</a:t>
            </a:r>
            <a:r>
              <a:rPr b="0" lang="en-US" sz="1100" spc="-1" strike="noStrike">
                <a:solidFill>
                  <a:srgbClr val="7f7f7f"/>
                </a:solidFill>
                <a:latin typeface="Libre Franklin"/>
                <a:ea typeface="Times New Roman"/>
              </a:rPr>
              <a:t>l ini inil</a:t>
            </a:r>
            <a:r>
              <a:rPr b="0" lang="id-ID" sz="1100" spc="-1" strike="noStrike">
                <a:solidFill>
                  <a:srgbClr val="7f7f7f"/>
                </a:solidFill>
                <a:latin typeface="Libre Franklin"/>
                <a:ea typeface="Times New Roman"/>
              </a:rPr>
              <a:t> dignissim. Enim</a:t>
            </a:r>
            <a:r>
              <a:rPr b="0" lang="en-US" sz="1100" spc="-1" strike="noStrike">
                <a:solidFill>
                  <a:srgbClr val="7f7f7f"/>
                </a:solidFill>
                <a:latin typeface="Libre Franklin"/>
                <a:ea typeface="Times New Roman"/>
              </a:rPr>
              <a:t> agil</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nunc</a:t>
            </a:r>
            <a:r>
              <a:rPr b="0" lang="en-US" sz="1100" spc="-1" strike="noStrike">
                <a:solidFill>
                  <a:srgbClr val="7f7f7f"/>
                </a:solidFill>
                <a:latin typeface="Libre Franklin"/>
                <a:ea typeface="Times New Roman"/>
              </a:rPr>
              <a:t>ik</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6"/>
          <p:cNvSpPr/>
          <p:nvPr/>
        </p:nvSpPr>
        <p:spPr>
          <a:xfrm>
            <a:off x="1447920" y="1739880"/>
            <a:ext cx="394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THE PHILOSOPHY OF FLORESIA HERE</a:t>
            </a:r>
            <a:endParaRPr b="0" lang="en-US" sz="2800" spc="-1" strike="noStrike">
              <a:solidFill>
                <a:srgbClr val="3f3f3f"/>
              </a:solidFill>
              <a:latin typeface="Libre Franklin"/>
            </a:endParaRPr>
          </a:p>
        </p:txBody>
      </p:sp>
      <p:sp>
        <p:nvSpPr>
          <p:cNvPr id="313" name="TextBox 7"/>
          <p:cNvSpPr/>
          <p:nvPr/>
        </p:nvSpPr>
        <p:spPr>
          <a:xfrm>
            <a:off x="1479240" y="2693880"/>
            <a:ext cx="2552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
        <p:nvSpPr>
          <p:cNvPr id="314" name="TextBox 8"/>
          <p:cNvSpPr/>
          <p:nvPr/>
        </p:nvSpPr>
        <p:spPr>
          <a:xfrm>
            <a:off x="1415160" y="3479760"/>
            <a:ext cx="324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Open Sans SemiBold"/>
              </a:rPr>
              <a:t>Be Modern With Minimal Style</a:t>
            </a:r>
            <a:endParaRPr b="0" lang="en-US" sz="1600" spc="-1" strike="noStrike">
              <a:solidFill>
                <a:srgbClr val="3f3f3f"/>
              </a:solidFill>
              <a:latin typeface="Libre Franklin"/>
            </a:endParaRPr>
          </a:p>
        </p:txBody>
      </p:sp>
      <p:sp>
        <p:nvSpPr>
          <p:cNvPr id="315" name="TextBox 9"/>
          <p:cNvSpPr/>
          <p:nvPr/>
        </p:nvSpPr>
        <p:spPr>
          <a:xfrm>
            <a:off x="1447920" y="3784680"/>
            <a:ext cx="4305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ibre Franklin"/>
                <a:ea typeface="Times New Roman"/>
              </a:rPr>
              <a:t>Aliqu</a:t>
            </a:r>
            <a:r>
              <a:rPr b="0" lang="en-US" sz="1100" spc="-1" strike="noStrike">
                <a:solidFill>
                  <a:srgbClr val="7f7f7f"/>
                </a:solidFill>
                <a:latin typeface="Libre Franklin"/>
                <a:ea typeface="Times New Roman"/>
              </a:rPr>
              <a:t>a</a:t>
            </a:r>
            <a:r>
              <a:rPr b="0" lang="id-ID" sz="1100" spc="-1" strike="noStrike">
                <a:solidFill>
                  <a:srgbClr val="7f7f7f"/>
                </a:solidFill>
                <a:latin typeface="Libre Franklin"/>
                <a:ea typeface="Times New Roman"/>
              </a:rPr>
              <a:t>et nibh praesent tristique magna sit </a:t>
            </a:r>
            <a:r>
              <a:rPr b="0" lang="en-US" sz="1100" spc="-1" strike="noStrike">
                <a:solidFill>
                  <a:srgbClr val="7f7f7f"/>
                </a:solidFill>
                <a:latin typeface="Libre Franklin"/>
                <a:ea typeface="Times New Roman"/>
              </a:rPr>
              <a:t>enlig dolor </a:t>
            </a:r>
            <a:r>
              <a:rPr b="0" lang="id-ID" sz="1100" spc="-1" strike="noStrike">
                <a:solidFill>
                  <a:srgbClr val="7f7f7f"/>
                </a:solidFill>
                <a:latin typeface="Libre Franklin"/>
                <a:ea typeface="Times New Roman"/>
              </a:rPr>
              <a:t>amet. Ris</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us pretium quam vulputate dignissim. Enim</a:t>
            </a:r>
            <a:r>
              <a:rPr b="0" lang="en-US" sz="1100" spc="-1" strike="noStrike">
                <a:solidFill>
                  <a:srgbClr val="7f7f7f"/>
                </a:solidFill>
                <a:latin typeface="Libre Franklin"/>
                <a:ea typeface="Times New Roman"/>
              </a:rPr>
              <a:t>agi</a:t>
            </a:r>
            <a:r>
              <a:rPr b="0" lang="id-ID" sz="1100" spc="-1" strike="noStrike">
                <a:solidFill>
                  <a:srgbClr val="7f7f7f"/>
                </a:solidFill>
                <a:latin typeface="Libre Franklin"/>
                <a:ea typeface="Times New Roman"/>
              </a:rPr>
              <a:t> </a:t>
            </a:r>
            <a:r>
              <a:rPr b="0" lang="en-US" sz="1100" spc="-1" strike="noStrike">
                <a:solidFill>
                  <a:srgbClr val="7f7f7f"/>
                </a:solidFill>
                <a:latin typeface="Libre Franklin"/>
                <a:ea typeface="Times New Roman"/>
              </a:rPr>
              <a:t>ci</a:t>
            </a:r>
            <a:r>
              <a:rPr b="0" lang="id-ID" sz="1100" spc="-1" strike="noStrike">
                <a:solidFill>
                  <a:srgbClr val="7f7f7f"/>
                </a:solidFill>
                <a:latin typeface="Libre Franklin"/>
                <a:ea typeface="Times New Roman"/>
              </a:rPr>
              <a:t>nec </a:t>
            </a:r>
            <a:r>
              <a:rPr b="0" lang="en-US" sz="1100" spc="-1" strike="noStrike">
                <a:solidFill>
                  <a:srgbClr val="7f7f7f"/>
                </a:solidFill>
                <a:latin typeface="Libre Franklin"/>
                <a:ea typeface="Times New Roman"/>
              </a:rPr>
              <a:t>ba</a:t>
            </a:r>
            <a:r>
              <a:rPr b="0" lang="id-ID" sz="1100" spc="-1" strike="noStrike">
                <a:solidFill>
                  <a:srgbClr val="7f7f7f"/>
                </a:solidFill>
                <a:latin typeface="Libre Franklin"/>
                <a:ea typeface="Times New Roman"/>
              </a:rPr>
              <a:t>dui </a:t>
            </a:r>
            <a:r>
              <a:rPr b="0" lang="en-US" sz="1100" spc="-1" strike="noStrike">
                <a:solidFill>
                  <a:srgbClr val="7f7f7f"/>
                </a:solidFill>
                <a:latin typeface="Libre Franklin"/>
                <a:ea typeface="Times New Roman"/>
              </a:rPr>
              <a:t>da</a:t>
            </a:r>
            <a:r>
              <a:rPr b="0" lang="id-ID" sz="1100" spc="-1" strike="noStrike">
                <a:solidFill>
                  <a:srgbClr val="7f7f7f"/>
                </a:solidFill>
                <a:latin typeface="Libre Franklin"/>
                <a:ea typeface="Times New Roman"/>
              </a:rPr>
              <a:t> mattis enim ut tellus </a:t>
            </a:r>
            <a:r>
              <a:rPr b="0" lang="en-US" sz="1100" spc="-1" strike="noStrike">
                <a:solidFill>
                  <a:srgbClr val="7f7f7f"/>
                </a:solidFill>
                <a:latin typeface="Libre Franklin"/>
                <a:ea typeface="Times New Roman"/>
              </a:rPr>
              <a:t>ma</a:t>
            </a:r>
            <a:r>
              <a:rPr b="0" lang="id-ID" sz="1100" spc="-1" strike="noStrike">
                <a:solidFill>
                  <a:srgbClr val="7f7f7f"/>
                </a:solidFill>
                <a:latin typeface="Libre Franklin"/>
                <a:ea typeface="Times New Roman"/>
              </a:rPr>
              <a:t>elem</a:t>
            </a:r>
            <a:r>
              <a:rPr b="0" lang="en-US" sz="1100" spc="-1" strike="noStrike">
                <a:solidFill>
                  <a:srgbClr val="7f7f7f"/>
                </a:solidFill>
                <a:latin typeface="Libre Franklin"/>
                <a:ea typeface="Times New Roman"/>
              </a:rPr>
              <a:t> </a:t>
            </a:r>
            <a:r>
              <a:rPr b="0" lang="id-ID" sz="1100" spc="-1" strike="noStrike">
                <a:solidFill>
                  <a:srgbClr val="7f7f7f"/>
                </a:solidFill>
                <a:latin typeface="Libre Franklin"/>
                <a:ea typeface="Times New Roman"/>
              </a:rPr>
              <a:t>entum</a:t>
            </a:r>
            <a:r>
              <a:rPr b="0" lang="en-US" sz="1100" spc="-1" strike="noStrike">
                <a:solidFill>
                  <a:srgbClr val="7f7f7f"/>
                </a:solidFill>
                <a:latin typeface="Libre Franklin"/>
                <a:ea typeface="Times New Roman"/>
              </a:rPr>
              <a:t> ien alain mamad sita nec bargan eli</a:t>
            </a:r>
            <a:r>
              <a:rPr b="0" lang="id-ID" sz="1100" spc="-1" strike="noStrike">
                <a:solidFill>
                  <a:srgbClr val="7f7f7f"/>
                </a:solidFill>
                <a:latin typeface="Libre Franklin"/>
                <a:ea typeface="Times New Roman"/>
              </a:rPr>
              <a:t> nec</a:t>
            </a:r>
            <a:r>
              <a:rPr b="0" lang="en-US" sz="1100" spc="-1" strike="noStrike">
                <a:solidFill>
                  <a:srgbClr val="7f7f7f"/>
                </a:solidFill>
                <a:latin typeface="Libre Franklin"/>
                <a:ea typeface="Times New Roman"/>
              </a:rPr>
              <a:t>is ba</a:t>
            </a:r>
            <a:r>
              <a:rPr b="0" lang="id-ID" sz="1100" spc="-1" strike="noStrike">
                <a:solidFill>
                  <a:srgbClr val="7f7f7f"/>
                </a:solidFill>
                <a:latin typeface="Libre Franklin"/>
                <a:ea typeface="Times New Roman"/>
              </a:rPr>
              <a:t>dui ultrices.</a:t>
            </a:r>
            <a:r>
              <a:rPr b="0" lang="en-US" sz="1100" spc="-1" strike="noStrike">
                <a:solidFill>
                  <a:srgbClr val="7f7f7f"/>
                </a:solidFill>
                <a:latin typeface="Libre Franklin"/>
              </a:rPr>
              <a:t> consectetur adipiscing elit,s sed tollo dolorel eiusmod tempor incididunt ut labore </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Google Shape;236;p14"/>
          <p:cNvSpPr/>
          <p:nvPr/>
        </p:nvSpPr>
        <p:spPr>
          <a:xfrm>
            <a:off x="698400" y="4599000"/>
            <a:ext cx="219420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Roboto"/>
              </a:rPr>
              <a:t>Element Dune</a:t>
            </a:r>
            <a:endParaRPr b="0" lang="en-US" sz="1600" spc="-1" strike="noStrike">
              <a:solidFill>
                <a:srgbClr val="3f3f3f"/>
              </a:solidFill>
              <a:latin typeface="Libre Franklin"/>
            </a:endParaRPr>
          </a:p>
        </p:txBody>
      </p:sp>
      <p:sp>
        <p:nvSpPr>
          <p:cNvPr id="317" name="Google Shape;237;p14"/>
          <p:cNvSpPr/>
          <p:nvPr/>
        </p:nvSpPr>
        <p:spPr>
          <a:xfrm>
            <a:off x="858960" y="4871880"/>
            <a:ext cx="1873080" cy="2779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Marketing Manager</a:t>
            </a:r>
            <a:endParaRPr b="0" lang="en-US" sz="1100" spc="-1" strike="noStrike">
              <a:solidFill>
                <a:srgbClr val="3f3f3f"/>
              </a:solidFill>
              <a:latin typeface="Libre Franklin"/>
            </a:endParaRPr>
          </a:p>
        </p:txBody>
      </p:sp>
      <p:sp>
        <p:nvSpPr>
          <p:cNvPr id="318" name="Rectangle 34"/>
          <p:cNvSpPr/>
          <p:nvPr/>
        </p:nvSpPr>
        <p:spPr>
          <a:xfrm>
            <a:off x="674640" y="5162400"/>
            <a:ext cx="2243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19" name="Google Shape;236;p14"/>
          <p:cNvSpPr/>
          <p:nvPr/>
        </p:nvSpPr>
        <p:spPr>
          <a:xfrm>
            <a:off x="3565440" y="4599000"/>
            <a:ext cx="219384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Roboto"/>
              </a:rPr>
              <a:t>Vector Dune</a:t>
            </a:r>
            <a:endParaRPr b="0" lang="en-US" sz="1600" spc="-1" strike="noStrike">
              <a:solidFill>
                <a:srgbClr val="3f3f3f"/>
              </a:solidFill>
              <a:latin typeface="Libre Franklin"/>
            </a:endParaRPr>
          </a:p>
        </p:txBody>
      </p:sp>
      <p:sp>
        <p:nvSpPr>
          <p:cNvPr id="320" name="Google Shape;237;p14"/>
          <p:cNvSpPr/>
          <p:nvPr/>
        </p:nvSpPr>
        <p:spPr>
          <a:xfrm>
            <a:off x="3726000" y="4871880"/>
            <a:ext cx="1873080" cy="2779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Sales manager</a:t>
            </a:r>
            <a:endParaRPr b="0" lang="en-US" sz="1100" spc="-1" strike="noStrike">
              <a:solidFill>
                <a:srgbClr val="3f3f3f"/>
              </a:solidFill>
              <a:latin typeface="Libre Franklin"/>
            </a:endParaRPr>
          </a:p>
        </p:txBody>
      </p:sp>
      <p:sp>
        <p:nvSpPr>
          <p:cNvPr id="321" name="Rectangle 46"/>
          <p:cNvSpPr/>
          <p:nvPr/>
        </p:nvSpPr>
        <p:spPr>
          <a:xfrm>
            <a:off x="3541680" y="5162400"/>
            <a:ext cx="22417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22" name="Google Shape;236;p14"/>
          <p:cNvSpPr/>
          <p:nvPr/>
        </p:nvSpPr>
        <p:spPr>
          <a:xfrm>
            <a:off x="6432480" y="4599000"/>
            <a:ext cx="219384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Roboto"/>
              </a:rPr>
              <a:t>Pixel Dune</a:t>
            </a:r>
            <a:endParaRPr b="0" lang="en-US" sz="1600" spc="-1" strike="noStrike">
              <a:solidFill>
                <a:srgbClr val="3f3f3f"/>
              </a:solidFill>
              <a:latin typeface="Libre Franklin"/>
            </a:endParaRPr>
          </a:p>
        </p:txBody>
      </p:sp>
      <p:sp>
        <p:nvSpPr>
          <p:cNvPr id="323" name="Google Shape;237;p14"/>
          <p:cNvSpPr/>
          <p:nvPr/>
        </p:nvSpPr>
        <p:spPr>
          <a:xfrm>
            <a:off x="6593040" y="4871880"/>
            <a:ext cx="1873080" cy="2779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CEO And Founder</a:t>
            </a:r>
            <a:endParaRPr b="0" lang="en-US" sz="1100" spc="-1" strike="noStrike">
              <a:solidFill>
                <a:srgbClr val="3f3f3f"/>
              </a:solidFill>
              <a:latin typeface="Libre Franklin"/>
            </a:endParaRPr>
          </a:p>
        </p:txBody>
      </p:sp>
      <p:sp>
        <p:nvSpPr>
          <p:cNvPr id="324" name="Rectangle 52"/>
          <p:cNvSpPr/>
          <p:nvPr/>
        </p:nvSpPr>
        <p:spPr>
          <a:xfrm>
            <a:off x="6408720" y="5162400"/>
            <a:ext cx="22417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25" name="Google Shape;236;p14"/>
          <p:cNvSpPr/>
          <p:nvPr/>
        </p:nvSpPr>
        <p:spPr>
          <a:xfrm>
            <a:off x="9299520" y="4599000"/>
            <a:ext cx="219384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Libre Franklin"/>
                <a:ea typeface="Roboto"/>
              </a:rPr>
              <a:t>Georgia Dune</a:t>
            </a:r>
            <a:endParaRPr b="0" lang="en-US" sz="1600" spc="-1" strike="noStrike">
              <a:solidFill>
                <a:srgbClr val="3f3f3f"/>
              </a:solidFill>
              <a:latin typeface="Libre Franklin"/>
            </a:endParaRPr>
          </a:p>
        </p:txBody>
      </p:sp>
      <p:sp>
        <p:nvSpPr>
          <p:cNvPr id="326" name="Google Shape;237;p14"/>
          <p:cNvSpPr/>
          <p:nvPr/>
        </p:nvSpPr>
        <p:spPr>
          <a:xfrm>
            <a:off x="9460080" y="4871880"/>
            <a:ext cx="1873080" cy="2779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2b2b2"/>
                </a:solidFill>
                <a:latin typeface="Libre Franklin"/>
                <a:ea typeface="Roboto"/>
              </a:rPr>
              <a:t>Our Designer</a:t>
            </a:r>
            <a:endParaRPr b="0" lang="en-US" sz="1100" spc="-1" strike="noStrike">
              <a:solidFill>
                <a:srgbClr val="3f3f3f"/>
              </a:solidFill>
              <a:latin typeface="Libre Franklin"/>
            </a:endParaRPr>
          </a:p>
        </p:txBody>
      </p:sp>
      <p:sp>
        <p:nvSpPr>
          <p:cNvPr id="327" name="Rectangle 58"/>
          <p:cNvSpPr/>
          <p:nvPr/>
        </p:nvSpPr>
        <p:spPr>
          <a:xfrm>
            <a:off x="9274320" y="5162400"/>
            <a:ext cx="2243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Libre Franklin"/>
              </a:rPr>
              <a:t>Lorem ipsum dolor misit amet, consectetur adipiscing it.</a:t>
            </a:r>
            <a:endParaRPr b="0" lang="en-US" sz="1100" spc="-1" strike="noStrike">
              <a:solidFill>
                <a:srgbClr val="3f3f3f"/>
              </a:solidFill>
              <a:latin typeface="Libre Franklin"/>
            </a:endParaRPr>
          </a:p>
        </p:txBody>
      </p:sp>
      <p:sp>
        <p:nvSpPr>
          <p:cNvPr id="328" name="TextBox 60"/>
          <p:cNvSpPr/>
          <p:nvPr/>
        </p:nvSpPr>
        <p:spPr>
          <a:xfrm>
            <a:off x="3714840" y="743040"/>
            <a:ext cx="4762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Montserrat Black"/>
              </a:rPr>
              <a:t>MEET OUR TEAM</a:t>
            </a:r>
            <a:endParaRPr b="0" lang="en-US" sz="2800" spc="-1" strike="noStrike">
              <a:solidFill>
                <a:srgbClr val="3f3f3f"/>
              </a:solidFill>
              <a:latin typeface="Libre Franklin"/>
            </a:endParaRPr>
          </a:p>
        </p:txBody>
      </p:sp>
      <p:sp>
        <p:nvSpPr>
          <p:cNvPr id="329" name="TextBox 61"/>
          <p:cNvSpPr/>
          <p:nvPr/>
        </p:nvSpPr>
        <p:spPr>
          <a:xfrm>
            <a:off x="4820040" y="1247760"/>
            <a:ext cx="2552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2b2b2"/>
                </a:solidFill>
                <a:latin typeface="Libre Franklin"/>
              </a:rPr>
              <a:t>The Best Minimal Style Presentation</a:t>
            </a:r>
            <a:endParaRPr b="0" lang="en-US" sz="1100" spc="-1" strike="noStrike">
              <a:solidFill>
                <a:srgbClr val="3f3f3f"/>
              </a:solidFill>
              <a:latin typeface="Libre Frankli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6T13:09:56Z</dcterms:created>
  <dc:creator>LENOVO</dc:creator>
  <dc:description/>
  <dc:language>en-US</dc:language>
  <cp:lastModifiedBy>David Ma</cp:lastModifiedBy>
  <dcterms:modified xsi:type="dcterms:W3CDTF">2021-02-11T07:13:46Z</dcterms:modified>
  <cp:revision>1694</cp:revision>
  <dc:subject/>
  <dc:title>PowerPoint Presentation</dc:title>
</cp:coreProperties>
</file>