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2.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9.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10.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8.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76.xml" ContentType="application/vnd.openxmlformats-officedocument.presentationml.slideLayout+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174.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3.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6.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415.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4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208.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90.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2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Lst>
  <p:sldIdLst>
    <p:sldId id="256" r:id="rId37"/>
    <p:sldId id="257" r:id="rId38"/>
    <p:sldId id="258" r:id="rId39"/>
    <p:sldId id="259" r:id="rId40"/>
    <p:sldId id="260" r:id="rId41"/>
    <p:sldId id="261" r:id="rId42"/>
    <p:sldId id="262" r:id="rId43"/>
    <p:sldId id="263" r:id="rId44"/>
    <p:sldId id="264" r:id="rId45"/>
    <p:sldId id="265" r:id="rId46"/>
    <p:sldId id="266" r:id="rId47"/>
    <p:sldId id="267" r:id="rId48"/>
    <p:sldId id="268" r:id="rId49"/>
    <p:sldId id="269" r:id="rId50"/>
    <p:sldId id="270" r:id="rId51"/>
    <p:sldId id="271" r:id="rId52"/>
    <p:sldId id="272" r:id="rId53"/>
    <p:sldId id="273" r:id="rId54"/>
    <p:sldId id="274" r:id="rId55"/>
    <p:sldId id="275" r:id="rId56"/>
    <p:sldId id="276" r:id="rId57"/>
    <p:sldId id="277" r:id="rId58"/>
    <p:sldId id="278" r:id="rId59"/>
    <p:sldId id="279" r:id="rId60"/>
    <p:sldId id="280" r:id="rId61"/>
    <p:sldId id="281" r:id="rId62"/>
    <p:sldId id="282" r:id="rId63"/>
    <p:sldId id="283" r:id="rId64"/>
    <p:sldId id="284" r:id="rId65"/>
    <p:sldId id="285" r:id="rId66"/>
    <p:sldId id="286" r:id="rId67"/>
    <p:sldId id="287" r:id="rId68"/>
    <p:sldId id="288" r:id="rId69"/>
    <p:sldId id="289" r:id="rId70"/>
    <p:sldId id="290" r:id="rId71"/>
    <p:sldId id="291" r:id="rId7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 Target="slides/slide1.xml"/><Relationship Id="rId38" Type="http://schemas.openxmlformats.org/officeDocument/2006/relationships/slide" Target="slides/slide2.xml"/><Relationship Id="rId39" Type="http://schemas.openxmlformats.org/officeDocument/2006/relationships/slide" Target="slides/slide3.xml"/><Relationship Id="rId40" Type="http://schemas.openxmlformats.org/officeDocument/2006/relationships/slide" Target="slides/slide4.xml"/><Relationship Id="rId41" Type="http://schemas.openxmlformats.org/officeDocument/2006/relationships/slide" Target="slides/slide5.xml"/><Relationship Id="rId42" Type="http://schemas.openxmlformats.org/officeDocument/2006/relationships/slide" Target="slides/slide6.xml"/><Relationship Id="rId43" Type="http://schemas.openxmlformats.org/officeDocument/2006/relationships/slide" Target="slides/slide7.xml"/><Relationship Id="rId44" Type="http://schemas.openxmlformats.org/officeDocument/2006/relationships/slide" Target="slides/slide8.xml"/><Relationship Id="rId45" Type="http://schemas.openxmlformats.org/officeDocument/2006/relationships/slide" Target="slides/slide9.xml"/><Relationship Id="rId46" Type="http://schemas.openxmlformats.org/officeDocument/2006/relationships/slide" Target="slides/slide10.xml"/><Relationship Id="rId47" Type="http://schemas.openxmlformats.org/officeDocument/2006/relationships/slide" Target="slides/slide11.xml"/><Relationship Id="rId48" Type="http://schemas.openxmlformats.org/officeDocument/2006/relationships/slide" Target="slides/slide12.xml"/><Relationship Id="rId49" Type="http://schemas.openxmlformats.org/officeDocument/2006/relationships/slide" Target="slides/slide13.xml"/><Relationship Id="rId50" Type="http://schemas.openxmlformats.org/officeDocument/2006/relationships/slide" Target="slides/slide14.xml"/><Relationship Id="rId51" Type="http://schemas.openxmlformats.org/officeDocument/2006/relationships/slide" Target="slides/slide15.xml"/><Relationship Id="rId52" Type="http://schemas.openxmlformats.org/officeDocument/2006/relationships/slide" Target="slides/slide16.xml"/><Relationship Id="rId53" Type="http://schemas.openxmlformats.org/officeDocument/2006/relationships/slide" Target="slides/slide17.xml"/><Relationship Id="rId54" Type="http://schemas.openxmlformats.org/officeDocument/2006/relationships/slide" Target="slides/slide18.xml"/><Relationship Id="rId55" Type="http://schemas.openxmlformats.org/officeDocument/2006/relationships/slide" Target="slides/slide19.xml"/><Relationship Id="rId56" Type="http://schemas.openxmlformats.org/officeDocument/2006/relationships/slide" Target="slides/slide20.xml"/><Relationship Id="rId57" Type="http://schemas.openxmlformats.org/officeDocument/2006/relationships/slide" Target="slides/slide21.xml"/><Relationship Id="rId58" Type="http://schemas.openxmlformats.org/officeDocument/2006/relationships/slide" Target="slides/slide22.xml"/><Relationship Id="rId59" Type="http://schemas.openxmlformats.org/officeDocument/2006/relationships/slide" Target="slides/slide23.xml"/><Relationship Id="rId60" Type="http://schemas.openxmlformats.org/officeDocument/2006/relationships/slide" Target="slides/slide24.xml"/><Relationship Id="rId61" Type="http://schemas.openxmlformats.org/officeDocument/2006/relationships/slide" Target="slides/slide25.xml"/><Relationship Id="rId62" Type="http://schemas.openxmlformats.org/officeDocument/2006/relationships/slide" Target="slides/slide26.xml"/><Relationship Id="rId63" Type="http://schemas.openxmlformats.org/officeDocument/2006/relationships/slide" Target="slides/slide27.xml"/><Relationship Id="rId64" Type="http://schemas.openxmlformats.org/officeDocument/2006/relationships/slide" Target="slides/slide28.xml"/><Relationship Id="rId65" Type="http://schemas.openxmlformats.org/officeDocument/2006/relationships/slide" Target="slides/slide29.xml"/><Relationship Id="rId66" Type="http://schemas.openxmlformats.org/officeDocument/2006/relationships/slide" Target="slides/slide30.xml"/><Relationship Id="rId67" Type="http://schemas.openxmlformats.org/officeDocument/2006/relationships/slide" Target="slides/slide31.xml"/><Relationship Id="rId68" Type="http://schemas.openxmlformats.org/officeDocument/2006/relationships/slide" Target="slides/slide32.xml"/><Relationship Id="rId69" Type="http://schemas.openxmlformats.org/officeDocument/2006/relationships/slide" Target="slides/slide33.xml"/><Relationship Id="rId70" Type="http://schemas.openxmlformats.org/officeDocument/2006/relationships/slide" Target="slides/slide34.xml"/><Relationship Id="rId71" Type="http://schemas.openxmlformats.org/officeDocument/2006/relationships/slide" Target="slides/slide35.xml"/><Relationship Id="rId72" Type="http://schemas.openxmlformats.org/officeDocument/2006/relationships/slide" Target="slides/slide3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4CF07-F3BF-40C4-BA1D-B386E09FA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569F4-BD8B-4B2A-BDC1-EAB8D6DF8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BE7DA-6BD2-44BE-BB31-3D872D753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E875A-83B1-4F93-BC86-FDB872911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9D780-AF28-48D6-98E0-C99995B94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19C33-831A-4AF0-83A4-EA2E73994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FA7BF-0E8D-4866-BEF0-86192AAB8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A11EC-49A8-4A30-A7E1-2DD717486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BB167-3A90-4E16-B6E6-FE7B578C9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FCBDC-A3CB-4717-87D9-81FD4E4A1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A13B4-D38E-4A8A-85F1-238677384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70BCB-428C-464C-97F6-D5C5589D4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78D8-CD20-404A-A802-66F0E2840D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Rectangle 6"/>
          <p:cNvSpPr/>
          <p:nvPr/>
        </p:nvSpPr>
        <p:spPr>
          <a:xfrm>
            <a:off x="1600200" y="1714680"/>
            <a:ext cx="9029880" cy="34290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0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2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5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9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9"/>
          <p:cNvSpPr/>
          <p:nvPr/>
        </p:nvSpPr>
        <p:spPr>
          <a:xfrm>
            <a:off x="4321080" y="2894040"/>
            <a:ext cx="3549600" cy="106992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5" name="TextBox 10"/>
          <p:cNvSpPr/>
          <p:nvPr/>
        </p:nvSpPr>
        <p:spPr>
          <a:xfrm>
            <a:off x="4788720" y="3013200"/>
            <a:ext cx="26146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Feminist</a:t>
            </a:r>
            <a:endParaRPr b="0" lang="en-US" sz="4800" spc="-1" strike="noStrike">
              <a:solidFill>
                <a:srgbClr val="000000"/>
              </a:solidFill>
              <a:latin typeface="Calibri"/>
            </a:endParaRPr>
          </a:p>
        </p:txBody>
      </p:sp>
      <p:sp>
        <p:nvSpPr>
          <p:cNvPr id="1336" name="TextBox 11"/>
          <p:cNvSpPr/>
          <p:nvPr/>
        </p:nvSpPr>
        <p:spPr>
          <a:xfrm>
            <a:off x="847800" y="79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838"/>
                </a:solidFill>
                <a:latin typeface="Open Sans"/>
                <a:ea typeface="Open Sans"/>
              </a:rPr>
              <a:t>Introducing_</a:t>
            </a:r>
            <a:endParaRPr b="0" lang="en-US" sz="1200" spc="-1" strike="noStrike">
              <a:solidFill>
                <a:srgbClr val="000000"/>
              </a:solidFill>
              <a:latin typeface="Calibri"/>
            </a:endParaRPr>
          </a:p>
        </p:txBody>
      </p:sp>
      <p:sp>
        <p:nvSpPr>
          <p:cNvPr id="1337" name="TextBox 13"/>
          <p:cNvSpPr/>
          <p:nvPr/>
        </p:nvSpPr>
        <p:spPr>
          <a:xfrm>
            <a:off x="9530640" y="5599080"/>
            <a:ext cx="1809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838"/>
                </a:solidFill>
                <a:latin typeface="Open Sans"/>
                <a:ea typeface="Open Sans"/>
              </a:rPr>
              <a:t>Minimal</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838"/>
                </a:solidFill>
                <a:latin typeface="Open Sans"/>
                <a:ea typeface="Open Sans"/>
              </a:rPr>
              <a:t>Presentation Templat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TextBox 1"/>
          <p:cNvSpPr/>
          <p:nvPr/>
        </p:nvSpPr>
        <p:spPr>
          <a:xfrm>
            <a:off x="5545440" y="930240"/>
            <a:ext cx="1101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PRESENTATION</a:t>
            </a:r>
            <a:endParaRPr b="0" lang="en-US" sz="1000" spc="-1" strike="noStrike">
              <a:solidFill>
                <a:srgbClr val="000000"/>
              </a:solidFill>
              <a:latin typeface="Calibri"/>
            </a:endParaRPr>
          </a:p>
        </p:txBody>
      </p:sp>
      <p:sp>
        <p:nvSpPr>
          <p:cNvPr id="1387" name="TextBox 2"/>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
        <p:nvSpPr>
          <p:cNvPr id="1388" name="Rectangle 4"/>
          <p:cNvSpPr/>
          <p:nvPr/>
        </p:nvSpPr>
        <p:spPr>
          <a:xfrm>
            <a:off x="5595840" y="5856120"/>
            <a:ext cx="1000080" cy="100188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9" name="TextBox 5"/>
          <p:cNvSpPr/>
          <p:nvPr/>
        </p:nvSpPr>
        <p:spPr>
          <a:xfrm>
            <a:off x="6090840" y="617364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MINIMAL_</a:t>
            </a:r>
            <a:endParaRPr b="0" lang="en-US" sz="1400" spc="-1" strike="noStrike">
              <a:solidFill>
                <a:srgbClr val="000000"/>
              </a:solidFill>
              <a:latin typeface="Calibri"/>
            </a:endParaRPr>
          </a:p>
        </p:txBody>
      </p:sp>
      <p:sp>
        <p:nvSpPr>
          <p:cNvPr id="1390" name="TextBox 9"/>
          <p:cNvSpPr/>
          <p:nvPr/>
        </p:nvSpPr>
        <p:spPr>
          <a:xfrm>
            <a:off x="4132440" y="2424240"/>
            <a:ext cx="392688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SemiBold"/>
              </a:rPr>
              <a:t>The Business</a:t>
            </a:r>
            <a:endParaRPr b="0" lang="en-US" sz="4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SemiBold"/>
              </a:rPr>
              <a:t>Overview</a:t>
            </a:r>
            <a:endParaRPr b="0" lang="en-US" sz="4800" spc="-1" strike="noStrike">
              <a:solidFill>
                <a:srgbClr val="000000"/>
              </a:solidFill>
              <a:latin typeface="Calibri"/>
            </a:endParaRPr>
          </a:p>
        </p:txBody>
      </p:sp>
      <p:sp>
        <p:nvSpPr>
          <p:cNvPr id="1391" name="TextBox 10"/>
          <p:cNvSpPr/>
          <p:nvPr/>
        </p:nvSpPr>
        <p:spPr>
          <a:xfrm>
            <a:off x="4083840" y="4351320"/>
            <a:ext cx="4024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MINIMAL &amp; </a:t>
            </a:r>
            <a:r>
              <a:rPr b="1" lang="en-US" sz="1400" spc="-1" strike="noStrike">
                <a:solidFill>
                  <a:srgbClr val="ffffff"/>
                </a:solidFill>
                <a:latin typeface="Open Sans"/>
                <a:ea typeface="Open Sans"/>
              </a:rPr>
              <a:t>SIMPLE DESIGN PRESENTATION</a:t>
            </a:r>
            <a:endParaRPr b="0" lang="en-US" sz="1400" spc="-1" strike="noStrike">
              <a:solidFill>
                <a:srgbClr val="000000"/>
              </a:solidFill>
              <a:latin typeface="Calibri"/>
            </a:endParaRPr>
          </a:p>
        </p:txBody>
      </p:sp>
      <p:sp>
        <p:nvSpPr>
          <p:cNvPr id="1392" name="TextBox 11"/>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1"/>
          <p:cNvSpPr/>
          <p:nvPr/>
        </p:nvSpPr>
        <p:spPr>
          <a:xfrm>
            <a:off x="5524560" y="0"/>
            <a:ext cx="6667560" cy="68580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4" name="TextBox 5"/>
          <p:cNvSpPr/>
          <p:nvPr/>
        </p:nvSpPr>
        <p:spPr>
          <a:xfrm>
            <a:off x="1463760" y="1409760"/>
            <a:ext cx="4060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Market Trend</a:t>
            </a:r>
            <a:endParaRPr b="0" lang="en-US" sz="4800" spc="-1" strike="noStrike">
              <a:solidFill>
                <a:srgbClr val="000000"/>
              </a:solidFill>
              <a:latin typeface="Calibri"/>
            </a:endParaRPr>
          </a:p>
        </p:txBody>
      </p:sp>
      <p:sp>
        <p:nvSpPr>
          <p:cNvPr id="1395" name="Rectangle 6"/>
          <p:cNvSpPr/>
          <p:nvPr/>
        </p:nvSpPr>
        <p:spPr>
          <a:xfrm>
            <a:off x="1297080" y="4757760"/>
            <a:ext cx="33321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a:t>
            </a:r>
            <a:endParaRPr b="0" lang="en-US" sz="1000" spc="-1" strike="noStrike">
              <a:solidFill>
                <a:srgbClr val="000000"/>
              </a:solidFill>
              <a:latin typeface="Calibri"/>
            </a:endParaRPr>
          </a:p>
        </p:txBody>
      </p:sp>
      <p:sp>
        <p:nvSpPr>
          <p:cNvPr id="1396" name="TextBox 7"/>
          <p:cNvSpPr/>
          <p:nvPr/>
        </p:nvSpPr>
        <p:spPr>
          <a:xfrm>
            <a:off x="1285920" y="3659040"/>
            <a:ext cx="1651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Your big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deas typography</a:t>
            </a:r>
            <a:endParaRPr b="0" lang="en-US" sz="1400" spc="-1" strike="noStrike">
              <a:solidFill>
                <a:srgbClr val="000000"/>
              </a:solidFill>
              <a:latin typeface="Calibri"/>
            </a:endParaRPr>
          </a:p>
        </p:txBody>
      </p:sp>
      <p:sp>
        <p:nvSpPr>
          <p:cNvPr id="1397" name="TextBox 13"/>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1"/>
          <p:cNvSpPr/>
          <p:nvPr/>
        </p:nvSpPr>
        <p:spPr>
          <a:xfrm>
            <a:off x="0" y="0"/>
            <a:ext cx="4853160" cy="53910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9" name="TextBox 4"/>
          <p:cNvSpPr/>
          <p:nvPr/>
        </p:nvSpPr>
        <p:spPr>
          <a:xfrm>
            <a:off x="6081840" y="1050840"/>
            <a:ext cx="29527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Guiding</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Principles</a:t>
            </a:r>
            <a:endParaRPr b="0" lang="en-US" sz="4800" spc="-1" strike="noStrike">
              <a:solidFill>
                <a:srgbClr val="000000"/>
              </a:solidFill>
              <a:latin typeface="Calibri"/>
            </a:endParaRPr>
          </a:p>
        </p:txBody>
      </p:sp>
      <p:sp>
        <p:nvSpPr>
          <p:cNvPr id="1400" name="TextBox 5"/>
          <p:cNvSpPr/>
          <p:nvPr/>
        </p:nvSpPr>
        <p:spPr>
          <a:xfrm>
            <a:off x="2334960" y="585000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MINIMAL_</a:t>
            </a:r>
            <a:endParaRPr b="0" lang="en-US" sz="1400" spc="-1" strike="noStrike">
              <a:solidFill>
                <a:srgbClr val="000000"/>
              </a:solidFill>
              <a:latin typeface="Calibri"/>
            </a:endParaRPr>
          </a:p>
        </p:txBody>
      </p:sp>
      <p:sp>
        <p:nvSpPr>
          <p:cNvPr id="1401" name="Rectangle 6"/>
          <p:cNvSpPr/>
          <p:nvPr/>
        </p:nvSpPr>
        <p:spPr>
          <a:xfrm>
            <a:off x="5919840" y="4859280"/>
            <a:ext cx="21765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dolor conubia mollit Sapien nam suspendisse tincidunt eget ante tincidunt  eros in auctor fringilla praesent at diam</a:t>
            </a:r>
            <a:endParaRPr b="0" lang="en-US" sz="1000" spc="-1" strike="noStrike">
              <a:solidFill>
                <a:srgbClr val="000000"/>
              </a:solidFill>
              <a:latin typeface="Calibri"/>
            </a:endParaRPr>
          </a:p>
        </p:txBody>
      </p:sp>
      <p:sp>
        <p:nvSpPr>
          <p:cNvPr id="1402" name="Rectangle 7"/>
          <p:cNvSpPr/>
          <p:nvPr/>
        </p:nvSpPr>
        <p:spPr>
          <a:xfrm>
            <a:off x="8758080" y="4859280"/>
            <a:ext cx="21765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dolor conubia mollit Sapien nam suspendisse tincidunt eget ante tincidunt  eros in auctor fringilla praesent at diam</a:t>
            </a:r>
            <a:endParaRPr b="0" lang="en-US" sz="1000" spc="-1" strike="noStrike">
              <a:solidFill>
                <a:srgbClr val="000000"/>
              </a:solidFill>
              <a:latin typeface="Calibri"/>
            </a:endParaRPr>
          </a:p>
        </p:txBody>
      </p:sp>
      <p:sp>
        <p:nvSpPr>
          <p:cNvPr id="1403" name="TextBox 8"/>
          <p:cNvSpPr/>
          <p:nvPr/>
        </p:nvSpPr>
        <p:spPr>
          <a:xfrm>
            <a:off x="5922000" y="4303800"/>
            <a:ext cx="92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Creative</a:t>
            </a:r>
            <a:endParaRPr b="0" lang="en-US" sz="1400" spc="-1" strike="noStrike">
              <a:solidFill>
                <a:srgbClr val="000000"/>
              </a:solidFill>
              <a:latin typeface="Calibri"/>
            </a:endParaRPr>
          </a:p>
        </p:txBody>
      </p:sp>
      <p:sp>
        <p:nvSpPr>
          <p:cNvPr id="1404" name="TextBox 9"/>
          <p:cNvSpPr/>
          <p:nvPr/>
        </p:nvSpPr>
        <p:spPr>
          <a:xfrm>
            <a:off x="8755920" y="4303800"/>
            <a:ext cx="79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Design</a:t>
            </a:r>
            <a:endParaRPr b="0" lang="en-US" sz="1400" spc="-1" strike="noStrike">
              <a:solidFill>
                <a:srgbClr val="000000"/>
              </a:solidFill>
              <a:latin typeface="Calibri"/>
            </a:endParaRPr>
          </a:p>
        </p:txBody>
      </p:sp>
      <p:sp>
        <p:nvSpPr>
          <p:cNvPr id="1405" name="Freeform 10"/>
          <p:cNvSpPr/>
          <p:nvPr/>
        </p:nvSpPr>
        <p:spPr>
          <a:xfrm>
            <a:off x="8737560" y="3525840"/>
            <a:ext cx="403200" cy="530280"/>
          </a:xfrm>
          <a:custGeom>
            <a:avLst/>
            <a:gdLst/>
            <a:ahLst/>
            <a:rect l="l" t="t" r="r" b="b"/>
            <a:pathLst>
              <a:path w="480" h="631">
                <a:moveTo>
                  <a:pt x="316" y="260"/>
                </a:moveTo>
                <a:cubicBezTo>
                  <a:pt x="355" y="234"/>
                  <a:pt x="381" y="191"/>
                  <a:pt x="381" y="141"/>
                </a:cubicBezTo>
                <a:cubicBezTo>
                  <a:pt x="381" y="63"/>
                  <a:pt x="318" y="0"/>
                  <a:pt x="240" y="0"/>
                </a:cubicBezTo>
                <a:cubicBezTo>
                  <a:pt x="162" y="0"/>
                  <a:pt x="99" y="63"/>
                  <a:pt x="99" y="141"/>
                </a:cubicBezTo>
                <a:cubicBezTo>
                  <a:pt x="99" y="191"/>
                  <a:pt x="125" y="234"/>
                  <a:pt x="164" y="260"/>
                </a:cubicBezTo>
                <a:cubicBezTo>
                  <a:pt x="72" y="268"/>
                  <a:pt x="0" y="345"/>
                  <a:pt x="0" y="439"/>
                </a:cubicBezTo>
                <a:lnTo>
                  <a:pt x="0" y="586"/>
                </a:lnTo>
                <a:lnTo>
                  <a:pt x="0" y="588"/>
                </a:lnTo>
                <a:lnTo>
                  <a:pt x="10" y="591"/>
                </a:lnTo>
                <a:cubicBezTo>
                  <a:pt x="105" y="621"/>
                  <a:pt x="188" y="631"/>
                  <a:pt x="256" y="631"/>
                </a:cubicBezTo>
                <a:cubicBezTo>
                  <a:pt x="388" y="631"/>
                  <a:pt x="465" y="593"/>
                  <a:pt x="470" y="590"/>
                </a:cubicBezTo>
                <a:lnTo>
                  <a:pt x="479" y="586"/>
                </a:lnTo>
                <a:lnTo>
                  <a:pt x="480" y="586"/>
                </a:lnTo>
                <a:lnTo>
                  <a:pt x="480" y="439"/>
                </a:lnTo>
                <a:cubicBezTo>
                  <a:pt x="480" y="345"/>
                  <a:pt x="408" y="268"/>
                  <a:pt x="316" y="260"/>
                </a:cubicBezTo>
                <a:close/>
              </a:path>
            </a:pathLst>
          </a:custGeom>
          <a:solidFill>
            <a:srgbClr val="d9d9d9"/>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406" name="Freeform 11"/>
          <p:cNvSpPr/>
          <p:nvPr/>
        </p:nvSpPr>
        <p:spPr>
          <a:xfrm>
            <a:off x="5919840" y="3532320"/>
            <a:ext cx="455400" cy="487080"/>
          </a:xfrm>
          <a:custGeom>
            <a:avLst/>
            <a:gdLst/>
            <a:ahLst/>
            <a:rect l="l" t="t" r="r" b="b"/>
            <a:pathLst>
              <a:path w="543" h="574">
                <a:moveTo>
                  <a:pt x="350" y="393"/>
                </a:moveTo>
                <a:lnTo>
                  <a:pt x="368" y="382"/>
                </a:lnTo>
                <a:lnTo>
                  <a:pt x="385" y="370"/>
                </a:lnTo>
                <a:lnTo>
                  <a:pt x="415" y="346"/>
                </a:lnTo>
                <a:lnTo>
                  <a:pt x="442" y="322"/>
                </a:lnTo>
                <a:lnTo>
                  <a:pt x="465" y="297"/>
                </a:lnTo>
                <a:lnTo>
                  <a:pt x="483" y="273"/>
                </a:lnTo>
                <a:lnTo>
                  <a:pt x="499" y="250"/>
                </a:lnTo>
                <a:lnTo>
                  <a:pt x="511" y="227"/>
                </a:lnTo>
                <a:lnTo>
                  <a:pt x="521" y="206"/>
                </a:lnTo>
                <a:lnTo>
                  <a:pt x="529" y="186"/>
                </a:lnTo>
                <a:lnTo>
                  <a:pt x="534" y="168"/>
                </a:lnTo>
                <a:lnTo>
                  <a:pt x="538" y="152"/>
                </a:lnTo>
                <a:lnTo>
                  <a:pt x="540" y="139"/>
                </a:lnTo>
                <a:lnTo>
                  <a:pt x="541" y="126"/>
                </a:lnTo>
                <a:lnTo>
                  <a:pt x="543" y="118"/>
                </a:lnTo>
                <a:lnTo>
                  <a:pt x="543" y="113"/>
                </a:lnTo>
                <a:lnTo>
                  <a:pt x="543" y="112"/>
                </a:lnTo>
                <a:lnTo>
                  <a:pt x="543" y="105"/>
                </a:lnTo>
                <a:lnTo>
                  <a:pt x="543" y="99"/>
                </a:lnTo>
                <a:lnTo>
                  <a:pt x="543" y="95"/>
                </a:lnTo>
                <a:lnTo>
                  <a:pt x="543" y="93"/>
                </a:lnTo>
                <a:lnTo>
                  <a:pt x="543" y="90"/>
                </a:lnTo>
                <a:lnTo>
                  <a:pt x="543" y="90"/>
                </a:lnTo>
                <a:lnTo>
                  <a:pt x="543" y="88"/>
                </a:lnTo>
                <a:lnTo>
                  <a:pt x="541" y="83"/>
                </a:lnTo>
                <a:lnTo>
                  <a:pt x="540" y="76"/>
                </a:lnTo>
                <a:lnTo>
                  <a:pt x="537" y="67"/>
                </a:lnTo>
                <a:lnTo>
                  <a:pt x="532" y="57"/>
                </a:lnTo>
                <a:lnTo>
                  <a:pt x="524" y="50"/>
                </a:lnTo>
                <a:lnTo>
                  <a:pt x="514" y="45"/>
                </a:lnTo>
                <a:lnTo>
                  <a:pt x="499" y="43"/>
                </a:lnTo>
                <a:lnTo>
                  <a:pt x="491" y="43"/>
                </a:lnTo>
                <a:lnTo>
                  <a:pt x="482" y="43"/>
                </a:lnTo>
                <a:lnTo>
                  <a:pt x="476" y="43"/>
                </a:lnTo>
                <a:lnTo>
                  <a:pt x="474" y="43"/>
                </a:lnTo>
                <a:lnTo>
                  <a:pt x="468" y="44"/>
                </a:lnTo>
                <a:lnTo>
                  <a:pt x="461" y="47"/>
                </a:lnTo>
                <a:lnTo>
                  <a:pt x="458" y="50"/>
                </a:lnTo>
                <a:lnTo>
                  <a:pt x="455" y="54"/>
                </a:lnTo>
                <a:lnTo>
                  <a:pt x="453" y="61"/>
                </a:lnTo>
                <a:lnTo>
                  <a:pt x="453" y="63"/>
                </a:lnTo>
                <a:lnTo>
                  <a:pt x="453" y="65"/>
                </a:lnTo>
                <a:lnTo>
                  <a:pt x="451" y="65"/>
                </a:lnTo>
                <a:lnTo>
                  <a:pt x="446" y="66"/>
                </a:lnTo>
                <a:lnTo>
                  <a:pt x="438" y="68"/>
                </a:lnTo>
                <a:lnTo>
                  <a:pt x="428" y="68"/>
                </a:lnTo>
                <a:lnTo>
                  <a:pt x="428" y="61"/>
                </a:lnTo>
                <a:lnTo>
                  <a:pt x="428" y="50"/>
                </a:lnTo>
                <a:lnTo>
                  <a:pt x="429" y="39"/>
                </a:lnTo>
                <a:lnTo>
                  <a:pt x="429" y="28"/>
                </a:lnTo>
                <a:lnTo>
                  <a:pt x="430" y="17"/>
                </a:lnTo>
                <a:lnTo>
                  <a:pt x="431" y="9"/>
                </a:lnTo>
                <a:lnTo>
                  <a:pt x="431" y="3"/>
                </a:lnTo>
                <a:lnTo>
                  <a:pt x="431" y="0"/>
                </a:lnTo>
                <a:lnTo>
                  <a:pt x="396" y="4"/>
                </a:lnTo>
                <a:lnTo>
                  <a:pt x="361" y="8"/>
                </a:lnTo>
                <a:lnTo>
                  <a:pt x="329" y="10"/>
                </a:lnTo>
                <a:lnTo>
                  <a:pt x="299" y="11"/>
                </a:lnTo>
                <a:lnTo>
                  <a:pt x="271" y="11"/>
                </a:lnTo>
                <a:lnTo>
                  <a:pt x="245" y="11"/>
                </a:lnTo>
                <a:lnTo>
                  <a:pt x="222" y="10"/>
                </a:lnTo>
                <a:lnTo>
                  <a:pt x="200" y="10"/>
                </a:lnTo>
                <a:lnTo>
                  <a:pt x="180" y="9"/>
                </a:lnTo>
                <a:lnTo>
                  <a:pt x="163" y="7"/>
                </a:lnTo>
                <a:lnTo>
                  <a:pt x="149" y="5"/>
                </a:lnTo>
                <a:lnTo>
                  <a:pt x="137" y="4"/>
                </a:lnTo>
                <a:lnTo>
                  <a:pt x="128" y="2"/>
                </a:lnTo>
                <a:lnTo>
                  <a:pt x="121" y="2"/>
                </a:lnTo>
                <a:lnTo>
                  <a:pt x="117" y="0"/>
                </a:lnTo>
                <a:lnTo>
                  <a:pt x="115" y="0"/>
                </a:lnTo>
                <a:lnTo>
                  <a:pt x="115" y="13"/>
                </a:lnTo>
                <a:lnTo>
                  <a:pt x="115" y="22"/>
                </a:lnTo>
                <a:lnTo>
                  <a:pt x="115" y="32"/>
                </a:lnTo>
                <a:lnTo>
                  <a:pt x="115" y="39"/>
                </a:lnTo>
                <a:lnTo>
                  <a:pt x="115" y="51"/>
                </a:lnTo>
                <a:lnTo>
                  <a:pt x="115" y="60"/>
                </a:lnTo>
                <a:lnTo>
                  <a:pt x="115" y="65"/>
                </a:lnTo>
                <a:lnTo>
                  <a:pt x="115" y="67"/>
                </a:lnTo>
                <a:lnTo>
                  <a:pt x="115" y="68"/>
                </a:lnTo>
                <a:lnTo>
                  <a:pt x="115" y="68"/>
                </a:lnTo>
                <a:lnTo>
                  <a:pt x="105" y="68"/>
                </a:lnTo>
                <a:lnTo>
                  <a:pt x="98" y="66"/>
                </a:lnTo>
                <a:lnTo>
                  <a:pt x="96" y="65"/>
                </a:lnTo>
                <a:lnTo>
                  <a:pt x="94" y="65"/>
                </a:lnTo>
                <a:lnTo>
                  <a:pt x="94" y="63"/>
                </a:lnTo>
                <a:lnTo>
                  <a:pt x="93" y="61"/>
                </a:lnTo>
                <a:lnTo>
                  <a:pt x="89" y="54"/>
                </a:lnTo>
                <a:lnTo>
                  <a:pt x="83" y="47"/>
                </a:lnTo>
                <a:lnTo>
                  <a:pt x="79" y="44"/>
                </a:lnTo>
                <a:lnTo>
                  <a:pt x="73" y="43"/>
                </a:lnTo>
                <a:lnTo>
                  <a:pt x="70" y="43"/>
                </a:lnTo>
                <a:lnTo>
                  <a:pt x="65" y="43"/>
                </a:lnTo>
                <a:lnTo>
                  <a:pt x="57" y="43"/>
                </a:lnTo>
                <a:lnTo>
                  <a:pt x="47" y="43"/>
                </a:lnTo>
                <a:lnTo>
                  <a:pt x="33" y="45"/>
                </a:lnTo>
                <a:lnTo>
                  <a:pt x="22" y="50"/>
                </a:lnTo>
                <a:lnTo>
                  <a:pt x="13" y="57"/>
                </a:lnTo>
                <a:lnTo>
                  <a:pt x="8" y="67"/>
                </a:lnTo>
                <a:lnTo>
                  <a:pt x="3" y="76"/>
                </a:lnTo>
                <a:lnTo>
                  <a:pt x="2" y="83"/>
                </a:lnTo>
                <a:lnTo>
                  <a:pt x="1" y="88"/>
                </a:lnTo>
                <a:lnTo>
                  <a:pt x="0" y="90"/>
                </a:lnTo>
                <a:lnTo>
                  <a:pt x="0" y="97"/>
                </a:lnTo>
                <a:lnTo>
                  <a:pt x="0" y="102"/>
                </a:lnTo>
                <a:lnTo>
                  <a:pt x="0" y="106"/>
                </a:lnTo>
                <a:lnTo>
                  <a:pt x="0" y="108"/>
                </a:lnTo>
                <a:lnTo>
                  <a:pt x="0" y="111"/>
                </a:lnTo>
                <a:lnTo>
                  <a:pt x="0" y="112"/>
                </a:lnTo>
                <a:lnTo>
                  <a:pt x="0" y="113"/>
                </a:lnTo>
                <a:lnTo>
                  <a:pt x="1" y="118"/>
                </a:lnTo>
                <a:lnTo>
                  <a:pt x="1" y="126"/>
                </a:lnTo>
                <a:lnTo>
                  <a:pt x="2" y="139"/>
                </a:lnTo>
                <a:lnTo>
                  <a:pt x="6" y="152"/>
                </a:lnTo>
                <a:lnTo>
                  <a:pt x="9" y="168"/>
                </a:lnTo>
                <a:lnTo>
                  <a:pt x="16" y="186"/>
                </a:lnTo>
                <a:lnTo>
                  <a:pt x="23" y="206"/>
                </a:lnTo>
                <a:lnTo>
                  <a:pt x="34" y="227"/>
                </a:lnTo>
                <a:lnTo>
                  <a:pt x="46" y="250"/>
                </a:lnTo>
                <a:lnTo>
                  <a:pt x="62" y="273"/>
                </a:lnTo>
                <a:lnTo>
                  <a:pt x="81" y="297"/>
                </a:lnTo>
                <a:lnTo>
                  <a:pt x="104" y="322"/>
                </a:lnTo>
                <a:lnTo>
                  <a:pt x="131" y="346"/>
                </a:lnTo>
                <a:lnTo>
                  <a:pt x="161" y="370"/>
                </a:lnTo>
                <a:lnTo>
                  <a:pt x="196" y="393"/>
                </a:lnTo>
                <a:lnTo>
                  <a:pt x="197" y="394"/>
                </a:lnTo>
                <a:lnTo>
                  <a:pt x="201" y="397"/>
                </a:lnTo>
                <a:lnTo>
                  <a:pt x="205" y="400"/>
                </a:lnTo>
                <a:lnTo>
                  <a:pt x="211" y="404"/>
                </a:lnTo>
                <a:lnTo>
                  <a:pt x="218" y="409"/>
                </a:lnTo>
                <a:lnTo>
                  <a:pt x="228" y="411"/>
                </a:lnTo>
                <a:lnTo>
                  <a:pt x="237" y="414"/>
                </a:lnTo>
                <a:lnTo>
                  <a:pt x="248" y="415"/>
                </a:lnTo>
                <a:lnTo>
                  <a:pt x="248" y="423"/>
                </a:lnTo>
                <a:lnTo>
                  <a:pt x="248" y="429"/>
                </a:lnTo>
                <a:lnTo>
                  <a:pt x="248" y="434"/>
                </a:lnTo>
                <a:lnTo>
                  <a:pt x="248" y="438"/>
                </a:lnTo>
                <a:lnTo>
                  <a:pt x="248" y="440"/>
                </a:lnTo>
                <a:lnTo>
                  <a:pt x="248" y="440"/>
                </a:lnTo>
                <a:lnTo>
                  <a:pt x="247" y="440"/>
                </a:lnTo>
                <a:lnTo>
                  <a:pt x="245" y="440"/>
                </a:lnTo>
                <a:lnTo>
                  <a:pt x="237" y="440"/>
                </a:lnTo>
                <a:lnTo>
                  <a:pt x="230" y="443"/>
                </a:lnTo>
                <a:lnTo>
                  <a:pt x="228" y="445"/>
                </a:lnTo>
                <a:lnTo>
                  <a:pt x="226" y="449"/>
                </a:lnTo>
                <a:lnTo>
                  <a:pt x="228" y="455"/>
                </a:lnTo>
                <a:lnTo>
                  <a:pt x="230" y="459"/>
                </a:lnTo>
                <a:lnTo>
                  <a:pt x="234" y="461"/>
                </a:lnTo>
                <a:lnTo>
                  <a:pt x="237" y="462"/>
                </a:lnTo>
                <a:lnTo>
                  <a:pt x="245" y="462"/>
                </a:lnTo>
                <a:lnTo>
                  <a:pt x="247" y="462"/>
                </a:lnTo>
                <a:lnTo>
                  <a:pt x="248" y="462"/>
                </a:lnTo>
                <a:lnTo>
                  <a:pt x="248" y="471"/>
                </a:lnTo>
                <a:lnTo>
                  <a:pt x="248" y="477"/>
                </a:lnTo>
                <a:lnTo>
                  <a:pt x="248" y="482"/>
                </a:lnTo>
                <a:lnTo>
                  <a:pt x="248" y="485"/>
                </a:lnTo>
                <a:lnTo>
                  <a:pt x="248" y="488"/>
                </a:lnTo>
                <a:lnTo>
                  <a:pt x="248" y="488"/>
                </a:lnTo>
                <a:lnTo>
                  <a:pt x="247" y="489"/>
                </a:lnTo>
                <a:lnTo>
                  <a:pt x="247" y="491"/>
                </a:lnTo>
                <a:lnTo>
                  <a:pt x="245" y="498"/>
                </a:lnTo>
                <a:lnTo>
                  <a:pt x="239" y="506"/>
                </a:lnTo>
                <a:lnTo>
                  <a:pt x="235" y="508"/>
                </a:lnTo>
                <a:lnTo>
                  <a:pt x="231" y="509"/>
                </a:lnTo>
                <a:lnTo>
                  <a:pt x="230" y="517"/>
                </a:lnTo>
                <a:lnTo>
                  <a:pt x="226" y="522"/>
                </a:lnTo>
                <a:lnTo>
                  <a:pt x="223" y="525"/>
                </a:lnTo>
                <a:lnTo>
                  <a:pt x="218" y="528"/>
                </a:lnTo>
                <a:lnTo>
                  <a:pt x="209" y="530"/>
                </a:lnTo>
                <a:lnTo>
                  <a:pt x="206" y="530"/>
                </a:lnTo>
                <a:lnTo>
                  <a:pt x="205" y="530"/>
                </a:lnTo>
                <a:lnTo>
                  <a:pt x="205" y="531"/>
                </a:lnTo>
                <a:lnTo>
                  <a:pt x="202" y="531"/>
                </a:lnTo>
                <a:lnTo>
                  <a:pt x="195" y="535"/>
                </a:lnTo>
                <a:lnTo>
                  <a:pt x="188" y="541"/>
                </a:lnTo>
                <a:lnTo>
                  <a:pt x="185" y="546"/>
                </a:lnTo>
                <a:lnTo>
                  <a:pt x="184" y="552"/>
                </a:lnTo>
                <a:lnTo>
                  <a:pt x="184" y="553"/>
                </a:lnTo>
                <a:lnTo>
                  <a:pt x="184" y="555"/>
                </a:lnTo>
                <a:lnTo>
                  <a:pt x="185" y="563"/>
                </a:lnTo>
                <a:lnTo>
                  <a:pt x="188" y="566"/>
                </a:lnTo>
                <a:lnTo>
                  <a:pt x="191" y="570"/>
                </a:lnTo>
                <a:lnTo>
                  <a:pt x="197" y="572"/>
                </a:lnTo>
                <a:lnTo>
                  <a:pt x="205" y="574"/>
                </a:lnTo>
                <a:lnTo>
                  <a:pt x="212" y="574"/>
                </a:lnTo>
                <a:lnTo>
                  <a:pt x="220" y="574"/>
                </a:lnTo>
                <a:lnTo>
                  <a:pt x="240" y="574"/>
                </a:lnTo>
                <a:lnTo>
                  <a:pt x="262" y="574"/>
                </a:lnTo>
                <a:lnTo>
                  <a:pt x="285" y="574"/>
                </a:lnTo>
                <a:lnTo>
                  <a:pt x="305" y="574"/>
                </a:lnTo>
                <a:lnTo>
                  <a:pt x="314" y="574"/>
                </a:lnTo>
                <a:lnTo>
                  <a:pt x="322" y="574"/>
                </a:lnTo>
                <a:lnTo>
                  <a:pt x="328" y="574"/>
                </a:lnTo>
                <a:lnTo>
                  <a:pt x="333" y="574"/>
                </a:lnTo>
                <a:lnTo>
                  <a:pt x="337" y="574"/>
                </a:lnTo>
                <a:lnTo>
                  <a:pt x="338" y="574"/>
                </a:lnTo>
                <a:lnTo>
                  <a:pt x="345" y="572"/>
                </a:lnTo>
                <a:lnTo>
                  <a:pt x="350" y="570"/>
                </a:lnTo>
                <a:lnTo>
                  <a:pt x="355" y="566"/>
                </a:lnTo>
                <a:lnTo>
                  <a:pt x="358" y="563"/>
                </a:lnTo>
                <a:lnTo>
                  <a:pt x="362" y="555"/>
                </a:lnTo>
                <a:lnTo>
                  <a:pt x="362" y="553"/>
                </a:lnTo>
                <a:lnTo>
                  <a:pt x="363" y="552"/>
                </a:lnTo>
                <a:lnTo>
                  <a:pt x="363" y="551"/>
                </a:lnTo>
                <a:lnTo>
                  <a:pt x="362" y="548"/>
                </a:lnTo>
                <a:lnTo>
                  <a:pt x="360" y="541"/>
                </a:lnTo>
                <a:lnTo>
                  <a:pt x="357" y="537"/>
                </a:lnTo>
                <a:lnTo>
                  <a:pt x="352" y="534"/>
                </a:lnTo>
                <a:lnTo>
                  <a:pt x="346" y="531"/>
                </a:lnTo>
                <a:lnTo>
                  <a:pt x="338" y="530"/>
                </a:lnTo>
                <a:lnTo>
                  <a:pt x="331" y="530"/>
                </a:lnTo>
                <a:lnTo>
                  <a:pt x="325" y="526"/>
                </a:lnTo>
                <a:lnTo>
                  <a:pt x="321" y="523"/>
                </a:lnTo>
                <a:lnTo>
                  <a:pt x="318" y="518"/>
                </a:lnTo>
                <a:lnTo>
                  <a:pt x="316" y="509"/>
                </a:lnTo>
                <a:lnTo>
                  <a:pt x="316" y="506"/>
                </a:lnTo>
                <a:lnTo>
                  <a:pt x="316" y="505"/>
                </a:lnTo>
                <a:lnTo>
                  <a:pt x="315" y="506"/>
                </a:lnTo>
                <a:lnTo>
                  <a:pt x="312" y="506"/>
                </a:lnTo>
                <a:lnTo>
                  <a:pt x="305" y="505"/>
                </a:lnTo>
                <a:lnTo>
                  <a:pt x="302" y="502"/>
                </a:lnTo>
                <a:lnTo>
                  <a:pt x="298" y="500"/>
                </a:lnTo>
                <a:lnTo>
                  <a:pt x="295" y="495"/>
                </a:lnTo>
                <a:lnTo>
                  <a:pt x="294" y="488"/>
                </a:lnTo>
                <a:lnTo>
                  <a:pt x="294" y="479"/>
                </a:lnTo>
                <a:lnTo>
                  <a:pt x="294" y="473"/>
                </a:lnTo>
                <a:lnTo>
                  <a:pt x="294" y="468"/>
                </a:lnTo>
                <a:lnTo>
                  <a:pt x="294" y="466"/>
                </a:lnTo>
                <a:lnTo>
                  <a:pt x="294" y="462"/>
                </a:lnTo>
                <a:lnTo>
                  <a:pt x="294" y="462"/>
                </a:lnTo>
                <a:lnTo>
                  <a:pt x="295" y="462"/>
                </a:lnTo>
                <a:lnTo>
                  <a:pt x="298" y="462"/>
                </a:lnTo>
                <a:lnTo>
                  <a:pt x="305" y="462"/>
                </a:lnTo>
                <a:lnTo>
                  <a:pt x="309" y="461"/>
                </a:lnTo>
                <a:lnTo>
                  <a:pt x="312" y="459"/>
                </a:lnTo>
                <a:lnTo>
                  <a:pt x="315" y="455"/>
                </a:lnTo>
                <a:lnTo>
                  <a:pt x="316" y="449"/>
                </a:lnTo>
                <a:lnTo>
                  <a:pt x="315" y="445"/>
                </a:lnTo>
                <a:lnTo>
                  <a:pt x="312" y="443"/>
                </a:lnTo>
                <a:lnTo>
                  <a:pt x="305" y="440"/>
                </a:lnTo>
                <a:lnTo>
                  <a:pt x="298" y="440"/>
                </a:lnTo>
                <a:lnTo>
                  <a:pt x="295" y="440"/>
                </a:lnTo>
                <a:lnTo>
                  <a:pt x="294" y="440"/>
                </a:lnTo>
                <a:lnTo>
                  <a:pt x="294" y="432"/>
                </a:lnTo>
                <a:lnTo>
                  <a:pt x="294" y="426"/>
                </a:lnTo>
                <a:lnTo>
                  <a:pt x="294" y="421"/>
                </a:lnTo>
                <a:lnTo>
                  <a:pt x="294" y="419"/>
                </a:lnTo>
                <a:lnTo>
                  <a:pt x="294" y="415"/>
                </a:lnTo>
                <a:lnTo>
                  <a:pt x="294" y="415"/>
                </a:lnTo>
                <a:lnTo>
                  <a:pt x="310" y="414"/>
                </a:lnTo>
                <a:lnTo>
                  <a:pt x="325" y="409"/>
                </a:lnTo>
                <a:lnTo>
                  <a:pt x="338" y="403"/>
                </a:lnTo>
                <a:lnTo>
                  <a:pt x="350" y="393"/>
                </a:lnTo>
                <a:close/>
                <a:moveTo>
                  <a:pt x="431" y="90"/>
                </a:moveTo>
                <a:lnTo>
                  <a:pt x="436" y="90"/>
                </a:lnTo>
                <a:lnTo>
                  <a:pt x="443" y="90"/>
                </a:lnTo>
                <a:lnTo>
                  <a:pt x="449" y="90"/>
                </a:lnTo>
                <a:lnTo>
                  <a:pt x="452" y="90"/>
                </a:lnTo>
                <a:lnTo>
                  <a:pt x="453" y="90"/>
                </a:lnTo>
                <a:lnTo>
                  <a:pt x="460" y="89"/>
                </a:lnTo>
                <a:lnTo>
                  <a:pt x="465" y="87"/>
                </a:lnTo>
                <a:lnTo>
                  <a:pt x="470" y="83"/>
                </a:lnTo>
                <a:lnTo>
                  <a:pt x="474" y="79"/>
                </a:lnTo>
                <a:lnTo>
                  <a:pt x="477" y="72"/>
                </a:lnTo>
                <a:lnTo>
                  <a:pt x="478" y="70"/>
                </a:lnTo>
                <a:lnTo>
                  <a:pt x="478" y="68"/>
                </a:lnTo>
                <a:lnTo>
                  <a:pt x="486" y="70"/>
                </a:lnTo>
                <a:lnTo>
                  <a:pt x="491" y="72"/>
                </a:lnTo>
                <a:lnTo>
                  <a:pt x="494" y="76"/>
                </a:lnTo>
                <a:lnTo>
                  <a:pt x="497" y="79"/>
                </a:lnTo>
                <a:lnTo>
                  <a:pt x="499" y="87"/>
                </a:lnTo>
                <a:lnTo>
                  <a:pt x="499" y="89"/>
                </a:lnTo>
                <a:lnTo>
                  <a:pt x="499" y="90"/>
                </a:lnTo>
                <a:lnTo>
                  <a:pt x="499" y="97"/>
                </a:lnTo>
                <a:lnTo>
                  <a:pt x="499" y="102"/>
                </a:lnTo>
                <a:lnTo>
                  <a:pt x="499" y="106"/>
                </a:lnTo>
                <a:lnTo>
                  <a:pt x="499" y="108"/>
                </a:lnTo>
                <a:lnTo>
                  <a:pt x="499" y="111"/>
                </a:lnTo>
                <a:lnTo>
                  <a:pt x="499" y="112"/>
                </a:lnTo>
                <a:lnTo>
                  <a:pt x="499" y="113"/>
                </a:lnTo>
                <a:lnTo>
                  <a:pt x="499" y="116"/>
                </a:lnTo>
                <a:lnTo>
                  <a:pt x="498" y="120"/>
                </a:lnTo>
                <a:lnTo>
                  <a:pt x="497" y="128"/>
                </a:lnTo>
                <a:lnTo>
                  <a:pt x="494" y="135"/>
                </a:lnTo>
                <a:lnTo>
                  <a:pt x="492" y="146"/>
                </a:lnTo>
                <a:lnTo>
                  <a:pt x="487" y="157"/>
                </a:lnTo>
                <a:lnTo>
                  <a:pt x="482" y="169"/>
                </a:lnTo>
                <a:lnTo>
                  <a:pt x="476" y="183"/>
                </a:lnTo>
                <a:lnTo>
                  <a:pt x="468" y="198"/>
                </a:lnTo>
                <a:lnTo>
                  <a:pt x="458" y="214"/>
                </a:lnTo>
                <a:lnTo>
                  <a:pt x="447" y="231"/>
                </a:lnTo>
                <a:lnTo>
                  <a:pt x="435" y="248"/>
                </a:lnTo>
                <a:lnTo>
                  <a:pt x="420" y="266"/>
                </a:lnTo>
                <a:lnTo>
                  <a:pt x="403" y="285"/>
                </a:lnTo>
                <a:lnTo>
                  <a:pt x="384" y="303"/>
                </a:lnTo>
                <a:lnTo>
                  <a:pt x="389" y="295"/>
                </a:lnTo>
                <a:lnTo>
                  <a:pt x="394" y="285"/>
                </a:lnTo>
                <a:lnTo>
                  <a:pt x="402" y="262"/>
                </a:lnTo>
                <a:lnTo>
                  <a:pt x="411" y="237"/>
                </a:lnTo>
                <a:lnTo>
                  <a:pt x="418" y="208"/>
                </a:lnTo>
                <a:lnTo>
                  <a:pt x="423" y="179"/>
                </a:lnTo>
                <a:lnTo>
                  <a:pt x="428" y="148"/>
                </a:lnTo>
                <a:lnTo>
                  <a:pt x="430" y="118"/>
                </a:lnTo>
                <a:lnTo>
                  <a:pt x="431" y="90"/>
                </a:lnTo>
                <a:close/>
                <a:moveTo>
                  <a:pt x="154" y="308"/>
                </a:moveTo>
                <a:lnTo>
                  <a:pt x="134" y="289"/>
                </a:lnTo>
                <a:lnTo>
                  <a:pt x="117" y="271"/>
                </a:lnTo>
                <a:lnTo>
                  <a:pt x="102" y="253"/>
                </a:lnTo>
                <a:lnTo>
                  <a:pt x="89" y="234"/>
                </a:lnTo>
                <a:lnTo>
                  <a:pt x="77" y="219"/>
                </a:lnTo>
                <a:lnTo>
                  <a:pt x="69" y="202"/>
                </a:lnTo>
                <a:lnTo>
                  <a:pt x="60" y="187"/>
                </a:lnTo>
                <a:lnTo>
                  <a:pt x="54" y="174"/>
                </a:lnTo>
                <a:lnTo>
                  <a:pt x="49" y="160"/>
                </a:lnTo>
                <a:lnTo>
                  <a:pt x="46" y="150"/>
                </a:lnTo>
                <a:lnTo>
                  <a:pt x="43" y="140"/>
                </a:lnTo>
                <a:lnTo>
                  <a:pt x="41" y="131"/>
                </a:lnTo>
                <a:lnTo>
                  <a:pt x="40" y="125"/>
                </a:lnTo>
                <a:lnTo>
                  <a:pt x="39" y="120"/>
                </a:lnTo>
                <a:lnTo>
                  <a:pt x="39" y="117"/>
                </a:lnTo>
                <a:lnTo>
                  <a:pt x="39" y="116"/>
                </a:lnTo>
                <a:lnTo>
                  <a:pt x="39" y="108"/>
                </a:lnTo>
                <a:lnTo>
                  <a:pt x="39" y="103"/>
                </a:lnTo>
                <a:lnTo>
                  <a:pt x="39" y="100"/>
                </a:lnTo>
                <a:lnTo>
                  <a:pt x="39" y="97"/>
                </a:lnTo>
                <a:lnTo>
                  <a:pt x="39" y="95"/>
                </a:lnTo>
                <a:lnTo>
                  <a:pt x="39" y="94"/>
                </a:lnTo>
                <a:lnTo>
                  <a:pt x="39" y="93"/>
                </a:lnTo>
                <a:lnTo>
                  <a:pt x="39" y="90"/>
                </a:lnTo>
                <a:lnTo>
                  <a:pt x="41" y="82"/>
                </a:lnTo>
                <a:lnTo>
                  <a:pt x="43" y="77"/>
                </a:lnTo>
                <a:lnTo>
                  <a:pt x="47" y="72"/>
                </a:lnTo>
                <a:lnTo>
                  <a:pt x="53" y="70"/>
                </a:lnTo>
                <a:lnTo>
                  <a:pt x="60" y="68"/>
                </a:lnTo>
                <a:lnTo>
                  <a:pt x="60" y="70"/>
                </a:lnTo>
                <a:lnTo>
                  <a:pt x="60" y="72"/>
                </a:lnTo>
                <a:lnTo>
                  <a:pt x="63" y="82"/>
                </a:lnTo>
                <a:lnTo>
                  <a:pt x="66" y="87"/>
                </a:lnTo>
                <a:lnTo>
                  <a:pt x="71" y="90"/>
                </a:lnTo>
                <a:lnTo>
                  <a:pt x="77" y="93"/>
                </a:lnTo>
                <a:lnTo>
                  <a:pt x="86" y="94"/>
                </a:lnTo>
                <a:lnTo>
                  <a:pt x="86" y="94"/>
                </a:lnTo>
                <a:lnTo>
                  <a:pt x="88" y="94"/>
                </a:lnTo>
                <a:lnTo>
                  <a:pt x="94" y="94"/>
                </a:lnTo>
                <a:lnTo>
                  <a:pt x="102" y="94"/>
                </a:lnTo>
                <a:lnTo>
                  <a:pt x="105" y="94"/>
                </a:lnTo>
                <a:lnTo>
                  <a:pt x="106" y="94"/>
                </a:lnTo>
                <a:lnTo>
                  <a:pt x="108" y="123"/>
                </a:lnTo>
                <a:lnTo>
                  <a:pt x="110" y="152"/>
                </a:lnTo>
                <a:lnTo>
                  <a:pt x="115" y="182"/>
                </a:lnTo>
                <a:lnTo>
                  <a:pt x="121" y="213"/>
                </a:lnTo>
                <a:lnTo>
                  <a:pt x="128" y="240"/>
                </a:lnTo>
                <a:lnTo>
                  <a:pt x="136" y="267"/>
                </a:lnTo>
                <a:lnTo>
                  <a:pt x="144" y="290"/>
                </a:lnTo>
                <a:lnTo>
                  <a:pt x="149" y="300"/>
                </a:lnTo>
                <a:lnTo>
                  <a:pt x="154" y="308"/>
                </a:lnTo>
                <a:close/>
              </a:path>
            </a:pathLst>
          </a:custGeom>
          <a:solidFill>
            <a:srgbClr val="d9d9d9"/>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407" name="TextBox 12"/>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
        <p:nvSpPr>
          <p:cNvPr id="1408" name="TextBox 14"/>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2"/>
          <p:cNvSpPr/>
          <p:nvPr/>
        </p:nvSpPr>
        <p:spPr>
          <a:xfrm>
            <a:off x="4722840" y="3395520"/>
            <a:ext cx="2781360" cy="251964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0" name="TextBox 3"/>
          <p:cNvSpPr/>
          <p:nvPr/>
        </p:nvSpPr>
        <p:spPr>
          <a:xfrm>
            <a:off x="5210280" y="4070520"/>
            <a:ext cx="1806120" cy="11883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Our Company</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Business Overview</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Competition</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Creative Design</a:t>
            </a:r>
            <a:endParaRPr b="0" lang="en-US" sz="1200" spc="-1" strike="noStrike">
              <a:solidFill>
                <a:srgbClr val="000000"/>
              </a:solidFill>
              <a:latin typeface="Calibri"/>
            </a:endParaRPr>
          </a:p>
        </p:txBody>
      </p:sp>
      <p:sp>
        <p:nvSpPr>
          <p:cNvPr id="1411" name="TextBox 4"/>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
        <p:nvSpPr>
          <p:cNvPr id="1412" name="Freeform 288"/>
          <p:cNvSpPr/>
          <p:nvPr/>
        </p:nvSpPr>
        <p:spPr>
          <a:xfrm>
            <a:off x="5869080" y="1635120"/>
            <a:ext cx="488880" cy="825480"/>
          </a:xfrm>
          <a:custGeom>
            <a:avLst/>
            <a:gdLst/>
            <a:ahLst/>
            <a:rect l="l" t="t" r="r" b="b"/>
            <a:pathLst>
              <a:path w="426" h="718">
                <a:moveTo>
                  <a:pt x="191" y="597"/>
                </a:moveTo>
                <a:cubicBezTo>
                  <a:pt x="210" y="597"/>
                  <a:pt x="226" y="603"/>
                  <a:pt x="239" y="615"/>
                </a:cubicBezTo>
                <a:cubicBezTo>
                  <a:pt x="253" y="626"/>
                  <a:pt x="259" y="640"/>
                  <a:pt x="259" y="656"/>
                </a:cubicBezTo>
                <a:cubicBezTo>
                  <a:pt x="259" y="673"/>
                  <a:pt x="253" y="688"/>
                  <a:pt x="239" y="700"/>
                </a:cubicBezTo>
                <a:cubicBezTo>
                  <a:pt x="226" y="712"/>
                  <a:pt x="210" y="718"/>
                  <a:pt x="191" y="718"/>
                </a:cubicBezTo>
                <a:cubicBezTo>
                  <a:pt x="172" y="718"/>
                  <a:pt x="156" y="712"/>
                  <a:pt x="143" y="700"/>
                </a:cubicBezTo>
                <a:cubicBezTo>
                  <a:pt x="130" y="688"/>
                  <a:pt x="123" y="674"/>
                  <a:pt x="123" y="656"/>
                </a:cubicBezTo>
                <a:cubicBezTo>
                  <a:pt x="123" y="640"/>
                  <a:pt x="130" y="626"/>
                  <a:pt x="143" y="614"/>
                </a:cubicBezTo>
                <a:cubicBezTo>
                  <a:pt x="156" y="603"/>
                  <a:pt x="172" y="597"/>
                  <a:pt x="191" y="597"/>
                </a:cubicBezTo>
                <a:close/>
                <a:moveTo>
                  <a:pt x="205" y="537"/>
                </a:moveTo>
                <a:lnTo>
                  <a:pt x="175" y="537"/>
                </a:lnTo>
                <a:cubicBezTo>
                  <a:pt x="175" y="499"/>
                  <a:pt x="177" y="468"/>
                  <a:pt x="182" y="445"/>
                </a:cubicBezTo>
                <a:cubicBezTo>
                  <a:pt x="187" y="423"/>
                  <a:pt x="193" y="405"/>
                  <a:pt x="200" y="392"/>
                </a:cubicBezTo>
                <a:cubicBezTo>
                  <a:pt x="207" y="379"/>
                  <a:pt x="226" y="355"/>
                  <a:pt x="256" y="320"/>
                </a:cubicBezTo>
                <a:cubicBezTo>
                  <a:pt x="280" y="293"/>
                  <a:pt x="297" y="268"/>
                  <a:pt x="306" y="244"/>
                </a:cubicBezTo>
                <a:cubicBezTo>
                  <a:pt x="316" y="220"/>
                  <a:pt x="321" y="193"/>
                  <a:pt x="321" y="164"/>
                </a:cubicBezTo>
                <a:cubicBezTo>
                  <a:pt x="321" y="126"/>
                  <a:pt x="308" y="94"/>
                  <a:pt x="283" y="70"/>
                </a:cubicBezTo>
                <a:cubicBezTo>
                  <a:pt x="258" y="46"/>
                  <a:pt x="227" y="35"/>
                  <a:pt x="191" y="35"/>
                </a:cubicBezTo>
                <a:cubicBezTo>
                  <a:pt x="160" y="35"/>
                  <a:pt x="134" y="41"/>
                  <a:pt x="113" y="55"/>
                </a:cubicBezTo>
                <a:cubicBezTo>
                  <a:pt x="92" y="68"/>
                  <a:pt x="81" y="82"/>
                  <a:pt x="81" y="97"/>
                </a:cubicBezTo>
                <a:cubicBezTo>
                  <a:pt x="81" y="105"/>
                  <a:pt x="89" y="113"/>
                  <a:pt x="103" y="123"/>
                </a:cubicBezTo>
                <a:cubicBezTo>
                  <a:pt x="126" y="139"/>
                  <a:pt x="137" y="155"/>
                  <a:pt x="137" y="173"/>
                </a:cubicBezTo>
                <a:cubicBezTo>
                  <a:pt x="137" y="189"/>
                  <a:pt x="131" y="202"/>
                  <a:pt x="119" y="213"/>
                </a:cubicBezTo>
                <a:cubicBezTo>
                  <a:pt x="108" y="223"/>
                  <a:pt x="93" y="228"/>
                  <a:pt x="75" y="228"/>
                </a:cubicBezTo>
                <a:cubicBezTo>
                  <a:pt x="54" y="228"/>
                  <a:pt x="36" y="221"/>
                  <a:pt x="22" y="206"/>
                </a:cubicBezTo>
                <a:cubicBezTo>
                  <a:pt x="7" y="191"/>
                  <a:pt x="0" y="172"/>
                  <a:pt x="0" y="148"/>
                </a:cubicBezTo>
                <a:cubicBezTo>
                  <a:pt x="0" y="110"/>
                  <a:pt x="20" y="75"/>
                  <a:pt x="60" y="45"/>
                </a:cubicBezTo>
                <a:cubicBezTo>
                  <a:pt x="100" y="15"/>
                  <a:pt x="150" y="0"/>
                  <a:pt x="211" y="0"/>
                </a:cubicBezTo>
                <a:cubicBezTo>
                  <a:pt x="273" y="0"/>
                  <a:pt x="325" y="17"/>
                  <a:pt x="365" y="50"/>
                </a:cubicBezTo>
                <a:cubicBezTo>
                  <a:pt x="406" y="84"/>
                  <a:pt x="426" y="125"/>
                  <a:pt x="426" y="174"/>
                </a:cubicBezTo>
                <a:cubicBezTo>
                  <a:pt x="426" y="205"/>
                  <a:pt x="419" y="233"/>
                  <a:pt x="405" y="258"/>
                </a:cubicBezTo>
                <a:cubicBezTo>
                  <a:pt x="394" y="277"/>
                  <a:pt x="368" y="304"/>
                  <a:pt x="325" y="338"/>
                </a:cubicBezTo>
                <a:cubicBezTo>
                  <a:pt x="270" y="381"/>
                  <a:pt x="236" y="414"/>
                  <a:pt x="224" y="434"/>
                </a:cubicBezTo>
                <a:cubicBezTo>
                  <a:pt x="212" y="455"/>
                  <a:pt x="206" y="490"/>
                  <a:pt x="205" y="537"/>
                </a:cubicBezTo>
                <a:close/>
              </a:path>
            </a:pathLst>
          </a:custGeom>
          <a:solidFill>
            <a:srgbClr val="d9d9d9"/>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413" name="TextBox 6"/>
          <p:cNvSpPr/>
          <p:nvPr/>
        </p:nvSpPr>
        <p:spPr>
          <a:xfrm>
            <a:off x="1274760" y="1630440"/>
            <a:ext cx="308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Questions</a:t>
            </a:r>
            <a:endParaRPr b="0" lang="en-US" sz="4800" spc="-1" strike="noStrike">
              <a:solidFill>
                <a:srgbClr val="000000"/>
              </a:solidFill>
              <a:latin typeface="Calibri"/>
            </a:endParaRPr>
          </a:p>
        </p:txBody>
      </p:sp>
      <p:sp>
        <p:nvSpPr>
          <p:cNvPr id="1414" name="Rectangle 7"/>
          <p:cNvSpPr/>
          <p:nvPr/>
        </p:nvSpPr>
        <p:spPr>
          <a:xfrm>
            <a:off x="1155600" y="4718160"/>
            <a:ext cx="295776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a:t>
            </a:r>
            <a:endParaRPr b="0" lang="en-US" sz="1000" spc="-1" strike="noStrike">
              <a:solidFill>
                <a:srgbClr val="000000"/>
              </a:solidFill>
              <a:latin typeface="Calibri"/>
            </a:endParaRPr>
          </a:p>
        </p:txBody>
      </p:sp>
      <p:sp>
        <p:nvSpPr>
          <p:cNvPr id="1415" name="TextBox 8"/>
          <p:cNvSpPr/>
          <p:nvPr/>
        </p:nvSpPr>
        <p:spPr>
          <a:xfrm>
            <a:off x="1144440" y="3395520"/>
            <a:ext cx="1651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Your big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deas typograph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5"/>
          <p:cNvSpPr/>
          <p:nvPr/>
        </p:nvSpPr>
        <p:spPr>
          <a:xfrm>
            <a:off x="4281480" y="4687920"/>
            <a:ext cx="25542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417" name="TextBox 6"/>
          <p:cNvSpPr/>
          <p:nvPr/>
        </p:nvSpPr>
        <p:spPr>
          <a:xfrm>
            <a:off x="4270320" y="4164120"/>
            <a:ext cx="165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deas typography</a:t>
            </a:r>
            <a:endParaRPr b="0" lang="en-US" sz="1400" spc="-1" strike="noStrike">
              <a:solidFill>
                <a:srgbClr val="000000"/>
              </a:solidFill>
              <a:latin typeface="Calibri"/>
            </a:endParaRPr>
          </a:p>
        </p:txBody>
      </p:sp>
      <p:sp>
        <p:nvSpPr>
          <p:cNvPr id="1418" name="TextBox 7"/>
          <p:cNvSpPr/>
          <p:nvPr/>
        </p:nvSpPr>
        <p:spPr>
          <a:xfrm>
            <a:off x="9981720" y="5710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MINIMAL_</a:t>
            </a:r>
            <a:endParaRPr b="0" lang="en-US" sz="1400" spc="-1" strike="noStrike">
              <a:solidFill>
                <a:srgbClr val="000000"/>
              </a:solidFill>
              <a:latin typeface="Calibri"/>
            </a:endParaRPr>
          </a:p>
        </p:txBody>
      </p:sp>
      <p:sp>
        <p:nvSpPr>
          <p:cNvPr id="1419" name="TextBox 8"/>
          <p:cNvSpPr/>
          <p:nvPr/>
        </p:nvSpPr>
        <p:spPr>
          <a:xfrm>
            <a:off x="8221680" y="1816200"/>
            <a:ext cx="2738160" cy="825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Different</a:t>
            </a:r>
            <a:endParaRPr b="0" lang="en-US" sz="4800" spc="-1" strike="noStrike">
              <a:solidFill>
                <a:srgbClr val="000000"/>
              </a:solidFill>
              <a:latin typeface="Calibri"/>
            </a:endParaRPr>
          </a:p>
        </p:txBody>
      </p:sp>
      <p:sp>
        <p:nvSpPr>
          <p:cNvPr id="1420" name="TextBox 9"/>
          <p:cNvSpPr/>
          <p:nvPr/>
        </p:nvSpPr>
        <p:spPr>
          <a:xfrm>
            <a:off x="819360" y="1816200"/>
            <a:ext cx="1755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Think</a:t>
            </a:r>
            <a:endParaRPr b="0" lang="en-US" sz="4800" spc="-1" strike="noStrike">
              <a:solidFill>
                <a:srgbClr val="000000"/>
              </a:solidFill>
              <a:latin typeface="Calibri"/>
            </a:endParaRPr>
          </a:p>
        </p:txBody>
      </p:sp>
      <p:sp>
        <p:nvSpPr>
          <p:cNvPr id="1421" name="TextBox 11"/>
          <p:cNvSpPr/>
          <p:nvPr/>
        </p:nvSpPr>
        <p:spPr>
          <a:xfrm>
            <a:off x="1086840" y="800280"/>
            <a:ext cx="1101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PRESENT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TextBox 1"/>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
        <p:nvSpPr>
          <p:cNvPr id="1423" name="Rectangle 3"/>
          <p:cNvSpPr/>
          <p:nvPr/>
        </p:nvSpPr>
        <p:spPr>
          <a:xfrm>
            <a:off x="9699480" y="2720880"/>
            <a:ext cx="1414440" cy="141624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4" name="TextBox 4"/>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
        <p:nvSpPr>
          <p:cNvPr id="1425" name="Freeform 344"/>
          <p:cNvSpPr/>
          <p:nvPr/>
        </p:nvSpPr>
        <p:spPr>
          <a:xfrm>
            <a:off x="10072800" y="3011400"/>
            <a:ext cx="666720" cy="733680"/>
          </a:xfrm>
          <a:custGeom>
            <a:avLst/>
            <a:gdLst/>
            <a:ahLst/>
            <a:rect l="l" t="t" r="r" b="b"/>
            <a:pathLst>
              <a:path w="731" h="808">
                <a:moveTo>
                  <a:pt x="365" y="124"/>
                </a:moveTo>
                <a:cubicBezTo>
                  <a:pt x="230" y="124"/>
                  <a:pt x="119" y="231"/>
                  <a:pt x="119" y="362"/>
                </a:cubicBezTo>
                <a:cubicBezTo>
                  <a:pt x="119" y="447"/>
                  <a:pt x="154" y="498"/>
                  <a:pt x="179" y="535"/>
                </a:cubicBezTo>
                <a:cubicBezTo>
                  <a:pt x="195" y="558"/>
                  <a:pt x="204" y="571"/>
                  <a:pt x="204" y="585"/>
                </a:cubicBezTo>
                <a:cubicBezTo>
                  <a:pt x="204" y="616"/>
                  <a:pt x="220" y="645"/>
                  <a:pt x="250" y="667"/>
                </a:cubicBezTo>
                <a:cubicBezTo>
                  <a:pt x="250" y="685"/>
                  <a:pt x="253" y="730"/>
                  <a:pt x="253" y="730"/>
                </a:cubicBezTo>
                <a:lnTo>
                  <a:pt x="253" y="730"/>
                </a:lnTo>
                <a:cubicBezTo>
                  <a:pt x="254" y="743"/>
                  <a:pt x="260" y="769"/>
                  <a:pt x="304" y="783"/>
                </a:cubicBezTo>
                <a:cubicBezTo>
                  <a:pt x="309" y="791"/>
                  <a:pt x="316" y="797"/>
                  <a:pt x="324" y="803"/>
                </a:cubicBezTo>
                <a:cubicBezTo>
                  <a:pt x="329" y="806"/>
                  <a:pt x="335" y="808"/>
                  <a:pt x="341" y="808"/>
                </a:cubicBezTo>
                <a:lnTo>
                  <a:pt x="389" y="808"/>
                </a:lnTo>
                <a:cubicBezTo>
                  <a:pt x="395" y="808"/>
                  <a:pt x="401" y="806"/>
                  <a:pt x="406" y="803"/>
                </a:cubicBezTo>
                <a:cubicBezTo>
                  <a:pt x="415" y="797"/>
                  <a:pt x="421" y="791"/>
                  <a:pt x="427" y="783"/>
                </a:cubicBezTo>
                <a:cubicBezTo>
                  <a:pt x="471" y="768"/>
                  <a:pt x="477" y="742"/>
                  <a:pt x="477" y="730"/>
                </a:cubicBezTo>
                <a:cubicBezTo>
                  <a:pt x="477" y="730"/>
                  <a:pt x="480" y="685"/>
                  <a:pt x="481" y="667"/>
                </a:cubicBezTo>
                <a:cubicBezTo>
                  <a:pt x="510" y="645"/>
                  <a:pt x="527" y="616"/>
                  <a:pt x="527" y="585"/>
                </a:cubicBezTo>
                <a:cubicBezTo>
                  <a:pt x="527" y="572"/>
                  <a:pt x="536" y="558"/>
                  <a:pt x="551" y="535"/>
                </a:cubicBezTo>
                <a:cubicBezTo>
                  <a:pt x="577" y="498"/>
                  <a:pt x="611" y="447"/>
                  <a:pt x="611" y="362"/>
                </a:cubicBezTo>
                <a:cubicBezTo>
                  <a:pt x="611" y="231"/>
                  <a:pt x="501" y="124"/>
                  <a:pt x="365" y="124"/>
                </a:cubicBezTo>
                <a:close/>
                <a:moveTo>
                  <a:pt x="509" y="116"/>
                </a:moveTo>
                <a:cubicBezTo>
                  <a:pt x="512" y="118"/>
                  <a:pt x="514" y="118"/>
                  <a:pt x="517" y="118"/>
                </a:cubicBezTo>
                <a:cubicBezTo>
                  <a:pt x="522" y="118"/>
                  <a:pt x="527" y="115"/>
                  <a:pt x="530" y="111"/>
                </a:cubicBezTo>
                <a:lnTo>
                  <a:pt x="554" y="70"/>
                </a:lnTo>
                <a:cubicBezTo>
                  <a:pt x="558" y="63"/>
                  <a:pt x="555" y="53"/>
                  <a:pt x="548" y="49"/>
                </a:cubicBezTo>
                <a:cubicBezTo>
                  <a:pt x="541" y="45"/>
                  <a:pt x="531" y="47"/>
                  <a:pt x="527" y="55"/>
                </a:cubicBezTo>
                <a:lnTo>
                  <a:pt x="503" y="95"/>
                </a:lnTo>
                <a:cubicBezTo>
                  <a:pt x="499" y="102"/>
                  <a:pt x="502" y="112"/>
                  <a:pt x="509" y="116"/>
                </a:cubicBezTo>
                <a:close/>
                <a:moveTo>
                  <a:pt x="628" y="229"/>
                </a:moveTo>
                <a:cubicBezTo>
                  <a:pt x="631" y="229"/>
                  <a:pt x="633" y="229"/>
                  <a:pt x="636" y="227"/>
                </a:cubicBezTo>
                <a:lnTo>
                  <a:pt x="676" y="204"/>
                </a:lnTo>
                <a:cubicBezTo>
                  <a:pt x="684" y="200"/>
                  <a:pt x="686" y="190"/>
                  <a:pt x="682" y="183"/>
                </a:cubicBezTo>
                <a:cubicBezTo>
                  <a:pt x="678" y="175"/>
                  <a:pt x="668" y="173"/>
                  <a:pt x="661" y="177"/>
                </a:cubicBezTo>
                <a:lnTo>
                  <a:pt x="620" y="200"/>
                </a:lnTo>
                <a:cubicBezTo>
                  <a:pt x="613" y="205"/>
                  <a:pt x="610" y="214"/>
                  <a:pt x="615" y="221"/>
                </a:cubicBezTo>
                <a:cubicBezTo>
                  <a:pt x="617" y="226"/>
                  <a:pt x="623" y="229"/>
                  <a:pt x="628" y="229"/>
                </a:cubicBezTo>
                <a:close/>
                <a:moveTo>
                  <a:pt x="715" y="350"/>
                </a:moveTo>
                <a:lnTo>
                  <a:pt x="669" y="350"/>
                </a:lnTo>
                <a:cubicBezTo>
                  <a:pt x="660" y="350"/>
                  <a:pt x="653" y="357"/>
                  <a:pt x="653" y="365"/>
                </a:cubicBezTo>
                <a:cubicBezTo>
                  <a:pt x="653" y="374"/>
                  <a:pt x="660" y="381"/>
                  <a:pt x="669" y="381"/>
                </a:cubicBezTo>
                <a:lnTo>
                  <a:pt x="715" y="381"/>
                </a:lnTo>
                <a:cubicBezTo>
                  <a:pt x="724" y="381"/>
                  <a:pt x="731" y="374"/>
                  <a:pt x="731" y="365"/>
                </a:cubicBezTo>
                <a:cubicBezTo>
                  <a:pt x="731" y="357"/>
                  <a:pt x="724" y="350"/>
                  <a:pt x="715" y="350"/>
                </a:cubicBezTo>
                <a:close/>
                <a:moveTo>
                  <a:pt x="676" y="527"/>
                </a:moveTo>
                <a:lnTo>
                  <a:pt x="636" y="504"/>
                </a:lnTo>
                <a:cubicBezTo>
                  <a:pt x="628" y="499"/>
                  <a:pt x="619" y="502"/>
                  <a:pt x="615" y="509"/>
                </a:cubicBezTo>
                <a:cubicBezTo>
                  <a:pt x="610" y="517"/>
                  <a:pt x="613" y="526"/>
                  <a:pt x="620" y="531"/>
                </a:cubicBezTo>
                <a:lnTo>
                  <a:pt x="661" y="554"/>
                </a:lnTo>
                <a:cubicBezTo>
                  <a:pt x="663" y="555"/>
                  <a:pt x="666" y="556"/>
                  <a:pt x="668" y="556"/>
                </a:cubicBezTo>
                <a:cubicBezTo>
                  <a:pt x="674" y="556"/>
                  <a:pt x="679" y="553"/>
                  <a:pt x="682" y="548"/>
                </a:cubicBezTo>
                <a:cubicBezTo>
                  <a:pt x="686" y="541"/>
                  <a:pt x="684" y="531"/>
                  <a:pt x="676" y="527"/>
                </a:cubicBezTo>
                <a:close/>
                <a:moveTo>
                  <a:pt x="95" y="504"/>
                </a:moveTo>
                <a:lnTo>
                  <a:pt x="54" y="527"/>
                </a:lnTo>
                <a:cubicBezTo>
                  <a:pt x="47" y="531"/>
                  <a:pt x="44" y="541"/>
                  <a:pt x="49" y="548"/>
                </a:cubicBezTo>
                <a:cubicBezTo>
                  <a:pt x="52" y="553"/>
                  <a:pt x="57" y="556"/>
                  <a:pt x="62" y="556"/>
                </a:cubicBezTo>
                <a:cubicBezTo>
                  <a:pt x="65" y="556"/>
                  <a:pt x="68" y="555"/>
                  <a:pt x="70" y="554"/>
                </a:cubicBezTo>
                <a:lnTo>
                  <a:pt x="110" y="531"/>
                </a:lnTo>
                <a:cubicBezTo>
                  <a:pt x="118" y="526"/>
                  <a:pt x="120" y="517"/>
                  <a:pt x="116" y="509"/>
                </a:cubicBezTo>
                <a:cubicBezTo>
                  <a:pt x="112" y="502"/>
                  <a:pt x="102" y="499"/>
                  <a:pt x="95" y="504"/>
                </a:cubicBezTo>
                <a:close/>
                <a:moveTo>
                  <a:pt x="77" y="365"/>
                </a:moveTo>
                <a:cubicBezTo>
                  <a:pt x="77" y="357"/>
                  <a:pt x="71" y="350"/>
                  <a:pt x="62" y="350"/>
                </a:cubicBezTo>
                <a:lnTo>
                  <a:pt x="15" y="350"/>
                </a:lnTo>
                <a:cubicBezTo>
                  <a:pt x="7" y="350"/>
                  <a:pt x="0" y="357"/>
                  <a:pt x="0" y="365"/>
                </a:cubicBezTo>
                <a:cubicBezTo>
                  <a:pt x="0" y="374"/>
                  <a:pt x="7" y="381"/>
                  <a:pt x="15" y="381"/>
                </a:cubicBezTo>
                <a:lnTo>
                  <a:pt x="62" y="381"/>
                </a:lnTo>
                <a:cubicBezTo>
                  <a:pt x="71" y="381"/>
                  <a:pt x="77" y="374"/>
                  <a:pt x="77" y="365"/>
                </a:cubicBezTo>
                <a:close/>
                <a:moveTo>
                  <a:pt x="110" y="200"/>
                </a:moveTo>
                <a:lnTo>
                  <a:pt x="70" y="177"/>
                </a:lnTo>
                <a:cubicBezTo>
                  <a:pt x="63" y="173"/>
                  <a:pt x="53" y="175"/>
                  <a:pt x="49" y="183"/>
                </a:cubicBezTo>
                <a:cubicBezTo>
                  <a:pt x="44" y="190"/>
                  <a:pt x="47" y="200"/>
                  <a:pt x="54" y="204"/>
                </a:cubicBezTo>
                <a:lnTo>
                  <a:pt x="95" y="227"/>
                </a:lnTo>
                <a:cubicBezTo>
                  <a:pt x="97" y="229"/>
                  <a:pt x="100" y="229"/>
                  <a:pt x="103" y="229"/>
                </a:cubicBezTo>
                <a:cubicBezTo>
                  <a:pt x="108" y="229"/>
                  <a:pt x="113" y="227"/>
                  <a:pt x="116" y="221"/>
                </a:cubicBezTo>
                <a:cubicBezTo>
                  <a:pt x="120" y="214"/>
                  <a:pt x="118" y="205"/>
                  <a:pt x="110" y="200"/>
                </a:cubicBezTo>
                <a:close/>
                <a:moveTo>
                  <a:pt x="200" y="111"/>
                </a:moveTo>
                <a:cubicBezTo>
                  <a:pt x="203" y="115"/>
                  <a:pt x="208" y="118"/>
                  <a:pt x="214" y="118"/>
                </a:cubicBezTo>
                <a:cubicBezTo>
                  <a:pt x="216" y="118"/>
                  <a:pt x="219" y="118"/>
                  <a:pt x="221" y="116"/>
                </a:cubicBezTo>
                <a:cubicBezTo>
                  <a:pt x="229" y="112"/>
                  <a:pt x="231" y="102"/>
                  <a:pt x="227" y="95"/>
                </a:cubicBezTo>
                <a:lnTo>
                  <a:pt x="204" y="55"/>
                </a:lnTo>
                <a:cubicBezTo>
                  <a:pt x="199" y="47"/>
                  <a:pt x="190" y="45"/>
                  <a:pt x="182" y="49"/>
                </a:cubicBezTo>
                <a:cubicBezTo>
                  <a:pt x="175" y="53"/>
                  <a:pt x="173" y="63"/>
                  <a:pt x="177" y="70"/>
                </a:cubicBezTo>
                <a:lnTo>
                  <a:pt x="200" y="111"/>
                </a:lnTo>
                <a:close/>
                <a:moveTo>
                  <a:pt x="365" y="78"/>
                </a:moveTo>
                <a:cubicBezTo>
                  <a:pt x="374" y="78"/>
                  <a:pt x="381" y="71"/>
                  <a:pt x="381" y="62"/>
                </a:cubicBezTo>
                <a:lnTo>
                  <a:pt x="381" y="15"/>
                </a:lnTo>
                <a:cubicBezTo>
                  <a:pt x="381" y="7"/>
                  <a:pt x="374" y="0"/>
                  <a:pt x="365" y="0"/>
                </a:cubicBezTo>
                <a:cubicBezTo>
                  <a:pt x="357" y="0"/>
                  <a:pt x="350" y="7"/>
                  <a:pt x="350" y="15"/>
                </a:cubicBezTo>
                <a:lnTo>
                  <a:pt x="350" y="62"/>
                </a:lnTo>
                <a:cubicBezTo>
                  <a:pt x="350" y="71"/>
                  <a:pt x="357" y="78"/>
                  <a:pt x="365" y="78"/>
                </a:cubicBezTo>
                <a:close/>
                <a:moveTo>
                  <a:pt x="500" y="500"/>
                </a:moveTo>
                <a:cubicBezTo>
                  <a:pt x="482" y="527"/>
                  <a:pt x="465" y="552"/>
                  <a:pt x="465" y="585"/>
                </a:cubicBezTo>
                <a:cubicBezTo>
                  <a:pt x="465" y="600"/>
                  <a:pt x="451" y="612"/>
                  <a:pt x="441" y="619"/>
                </a:cubicBezTo>
                <a:lnTo>
                  <a:pt x="289" y="619"/>
                </a:lnTo>
                <a:cubicBezTo>
                  <a:pt x="279" y="612"/>
                  <a:pt x="266" y="600"/>
                  <a:pt x="266" y="585"/>
                </a:cubicBezTo>
                <a:cubicBezTo>
                  <a:pt x="266" y="552"/>
                  <a:pt x="249" y="527"/>
                  <a:pt x="231" y="500"/>
                </a:cubicBezTo>
                <a:cubicBezTo>
                  <a:pt x="208" y="466"/>
                  <a:pt x="182" y="428"/>
                  <a:pt x="182" y="362"/>
                </a:cubicBezTo>
                <a:cubicBezTo>
                  <a:pt x="182" y="265"/>
                  <a:pt x="264" y="186"/>
                  <a:pt x="365" y="186"/>
                </a:cubicBezTo>
                <a:cubicBezTo>
                  <a:pt x="467" y="186"/>
                  <a:pt x="549" y="265"/>
                  <a:pt x="549" y="362"/>
                </a:cubicBezTo>
                <a:cubicBezTo>
                  <a:pt x="549" y="428"/>
                  <a:pt x="523" y="466"/>
                  <a:pt x="500" y="500"/>
                </a:cubicBezTo>
                <a:close/>
              </a:path>
            </a:pathLst>
          </a:custGeom>
          <a:solidFill>
            <a:srgbClr val="767171"/>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426" name="TextBox 6"/>
          <p:cNvSpPr/>
          <p:nvPr/>
        </p:nvSpPr>
        <p:spPr>
          <a:xfrm>
            <a:off x="1670400" y="606600"/>
            <a:ext cx="3161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Minimalist</a:t>
            </a:r>
            <a:endParaRPr b="0" lang="en-US" sz="4800" spc="-1" strike="noStrike">
              <a:solidFill>
                <a:srgbClr val="000000"/>
              </a:solidFill>
              <a:latin typeface="Calibri"/>
            </a:endParaRPr>
          </a:p>
        </p:txBody>
      </p:sp>
      <p:sp>
        <p:nvSpPr>
          <p:cNvPr id="1427" name="Rectangle 7"/>
          <p:cNvSpPr/>
          <p:nvPr/>
        </p:nvSpPr>
        <p:spPr>
          <a:xfrm>
            <a:off x="1508040" y="3129120"/>
            <a:ext cx="217656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dolor conubia mollit Sapien nam suspendisse tincidunt</a:t>
            </a:r>
            <a:endParaRPr b="0" lang="en-US" sz="1000" spc="-1" strike="noStrike">
              <a:solidFill>
                <a:srgbClr val="000000"/>
              </a:solidFill>
              <a:latin typeface="Calibri"/>
            </a:endParaRPr>
          </a:p>
        </p:txBody>
      </p:sp>
      <p:sp>
        <p:nvSpPr>
          <p:cNvPr id="1428" name="Rectangle 8"/>
          <p:cNvSpPr/>
          <p:nvPr/>
        </p:nvSpPr>
        <p:spPr>
          <a:xfrm>
            <a:off x="4346640" y="3129120"/>
            <a:ext cx="217656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dolor conubia mollit Sapien nam suspendisse tincidunt</a:t>
            </a:r>
            <a:endParaRPr b="0" lang="en-US" sz="1000" spc="-1" strike="noStrike">
              <a:solidFill>
                <a:srgbClr val="000000"/>
              </a:solidFill>
              <a:latin typeface="Calibri"/>
            </a:endParaRPr>
          </a:p>
        </p:txBody>
      </p:sp>
      <p:sp>
        <p:nvSpPr>
          <p:cNvPr id="1429" name="TextBox 9"/>
          <p:cNvSpPr/>
          <p:nvPr/>
        </p:nvSpPr>
        <p:spPr>
          <a:xfrm>
            <a:off x="1509480" y="2664000"/>
            <a:ext cx="92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Creative</a:t>
            </a:r>
            <a:endParaRPr b="0" lang="en-US" sz="1400" spc="-1" strike="noStrike">
              <a:solidFill>
                <a:srgbClr val="000000"/>
              </a:solidFill>
              <a:latin typeface="Calibri"/>
            </a:endParaRPr>
          </a:p>
        </p:txBody>
      </p:sp>
      <p:sp>
        <p:nvSpPr>
          <p:cNvPr id="1430" name="TextBox 10"/>
          <p:cNvSpPr/>
          <p:nvPr/>
        </p:nvSpPr>
        <p:spPr>
          <a:xfrm>
            <a:off x="4344480" y="2664000"/>
            <a:ext cx="79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Design</a:t>
            </a:r>
            <a:endParaRPr b="0" lang="en-US" sz="1400" spc="-1" strike="noStrike">
              <a:solidFill>
                <a:srgbClr val="000000"/>
              </a:solidFill>
              <a:latin typeface="Calibri"/>
            </a:endParaRPr>
          </a:p>
        </p:txBody>
      </p:sp>
      <p:sp>
        <p:nvSpPr>
          <p:cNvPr id="1431" name="Freeform 11"/>
          <p:cNvSpPr/>
          <p:nvPr/>
        </p:nvSpPr>
        <p:spPr>
          <a:xfrm>
            <a:off x="4429080" y="1976400"/>
            <a:ext cx="403200" cy="530280"/>
          </a:xfrm>
          <a:custGeom>
            <a:avLst/>
            <a:gdLst/>
            <a:ahLst/>
            <a:rect l="l" t="t" r="r" b="b"/>
            <a:pathLst>
              <a:path w="480" h="631">
                <a:moveTo>
                  <a:pt x="316" y="260"/>
                </a:moveTo>
                <a:cubicBezTo>
                  <a:pt x="355" y="234"/>
                  <a:pt x="381" y="191"/>
                  <a:pt x="381" y="141"/>
                </a:cubicBezTo>
                <a:cubicBezTo>
                  <a:pt x="381" y="63"/>
                  <a:pt x="318" y="0"/>
                  <a:pt x="240" y="0"/>
                </a:cubicBezTo>
                <a:cubicBezTo>
                  <a:pt x="162" y="0"/>
                  <a:pt x="99" y="63"/>
                  <a:pt x="99" y="141"/>
                </a:cubicBezTo>
                <a:cubicBezTo>
                  <a:pt x="99" y="191"/>
                  <a:pt x="125" y="234"/>
                  <a:pt x="164" y="260"/>
                </a:cubicBezTo>
                <a:cubicBezTo>
                  <a:pt x="72" y="268"/>
                  <a:pt x="0" y="345"/>
                  <a:pt x="0" y="439"/>
                </a:cubicBezTo>
                <a:lnTo>
                  <a:pt x="0" y="586"/>
                </a:lnTo>
                <a:lnTo>
                  <a:pt x="0" y="588"/>
                </a:lnTo>
                <a:lnTo>
                  <a:pt x="10" y="591"/>
                </a:lnTo>
                <a:cubicBezTo>
                  <a:pt x="105" y="621"/>
                  <a:pt x="188" y="631"/>
                  <a:pt x="256" y="631"/>
                </a:cubicBezTo>
                <a:cubicBezTo>
                  <a:pt x="388" y="631"/>
                  <a:pt x="465" y="593"/>
                  <a:pt x="470" y="590"/>
                </a:cubicBezTo>
                <a:lnTo>
                  <a:pt x="479" y="586"/>
                </a:lnTo>
                <a:lnTo>
                  <a:pt x="480" y="586"/>
                </a:lnTo>
                <a:lnTo>
                  <a:pt x="480" y="439"/>
                </a:lnTo>
                <a:cubicBezTo>
                  <a:pt x="480" y="345"/>
                  <a:pt x="408" y="268"/>
                  <a:pt x="316" y="260"/>
                </a:cubicBezTo>
                <a:close/>
              </a:path>
            </a:pathLst>
          </a:custGeom>
          <a:solidFill>
            <a:srgbClr val="d9d9d9"/>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432" name="Freeform 12"/>
          <p:cNvSpPr/>
          <p:nvPr/>
        </p:nvSpPr>
        <p:spPr>
          <a:xfrm>
            <a:off x="1508040" y="1984320"/>
            <a:ext cx="455760" cy="486000"/>
          </a:xfrm>
          <a:custGeom>
            <a:avLst/>
            <a:gdLst/>
            <a:ahLst/>
            <a:rect l="l" t="t" r="r" b="b"/>
            <a:pathLst>
              <a:path w="543" h="574">
                <a:moveTo>
                  <a:pt x="350" y="393"/>
                </a:moveTo>
                <a:lnTo>
                  <a:pt x="368" y="382"/>
                </a:lnTo>
                <a:lnTo>
                  <a:pt x="385" y="370"/>
                </a:lnTo>
                <a:lnTo>
                  <a:pt x="415" y="346"/>
                </a:lnTo>
                <a:lnTo>
                  <a:pt x="442" y="322"/>
                </a:lnTo>
                <a:lnTo>
                  <a:pt x="465" y="297"/>
                </a:lnTo>
                <a:lnTo>
                  <a:pt x="483" y="273"/>
                </a:lnTo>
                <a:lnTo>
                  <a:pt x="499" y="250"/>
                </a:lnTo>
                <a:lnTo>
                  <a:pt x="511" y="227"/>
                </a:lnTo>
                <a:lnTo>
                  <a:pt x="521" y="206"/>
                </a:lnTo>
                <a:lnTo>
                  <a:pt x="529" y="186"/>
                </a:lnTo>
                <a:lnTo>
                  <a:pt x="534" y="168"/>
                </a:lnTo>
                <a:lnTo>
                  <a:pt x="538" y="152"/>
                </a:lnTo>
                <a:lnTo>
                  <a:pt x="540" y="139"/>
                </a:lnTo>
                <a:lnTo>
                  <a:pt x="541" y="126"/>
                </a:lnTo>
                <a:lnTo>
                  <a:pt x="543" y="118"/>
                </a:lnTo>
                <a:lnTo>
                  <a:pt x="543" y="113"/>
                </a:lnTo>
                <a:lnTo>
                  <a:pt x="543" y="112"/>
                </a:lnTo>
                <a:lnTo>
                  <a:pt x="543" y="105"/>
                </a:lnTo>
                <a:lnTo>
                  <a:pt x="543" y="99"/>
                </a:lnTo>
                <a:lnTo>
                  <a:pt x="543" y="95"/>
                </a:lnTo>
                <a:lnTo>
                  <a:pt x="543" y="93"/>
                </a:lnTo>
                <a:lnTo>
                  <a:pt x="543" y="90"/>
                </a:lnTo>
                <a:lnTo>
                  <a:pt x="543" y="90"/>
                </a:lnTo>
                <a:lnTo>
                  <a:pt x="543" y="88"/>
                </a:lnTo>
                <a:lnTo>
                  <a:pt x="541" y="83"/>
                </a:lnTo>
                <a:lnTo>
                  <a:pt x="540" y="76"/>
                </a:lnTo>
                <a:lnTo>
                  <a:pt x="537" y="67"/>
                </a:lnTo>
                <a:lnTo>
                  <a:pt x="532" y="57"/>
                </a:lnTo>
                <a:lnTo>
                  <a:pt x="524" y="50"/>
                </a:lnTo>
                <a:lnTo>
                  <a:pt x="514" y="45"/>
                </a:lnTo>
                <a:lnTo>
                  <a:pt x="499" y="43"/>
                </a:lnTo>
                <a:lnTo>
                  <a:pt x="491" y="43"/>
                </a:lnTo>
                <a:lnTo>
                  <a:pt x="482" y="43"/>
                </a:lnTo>
                <a:lnTo>
                  <a:pt x="476" y="43"/>
                </a:lnTo>
                <a:lnTo>
                  <a:pt x="474" y="43"/>
                </a:lnTo>
                <a:lnTo>
                  <a:pt x="468" y="44"/>
                </a:lnTo>
                <a:lnTo>
                  <a:pt x="461" y="47"/>
                </a:lnTo>
                <a:lnTo>
                  <a:pt x="458" y="50"/>
                </a:lnTo>
                <a:lnTo>
                  <a:pt x="455" y="54"/>
                </a:lnTo>
                <a:lnTo>
                  <a:pt x="453" y="61"/>
                </a:lnTo>
                <a:lnTo>
                  <a:pt x="453" y="63"/>
                </a:lnTo>
                <a:lnTo>
                  <a:pt x="453" y="65"/>
                </a:lnTo>
                <a:lnTo>
                  <a:pt x="451" y="65"/>
                </a:lnTo>
                <a:lnTo>
                  <a:pt x="446" y="66"/>
                </a:lnTo>
                <a:lnTo>
                  <a:pt x="438" y="68"/>
                </a:lnTo>
                <a:lnTo>
                  <a:pt x="428" y="68"/>
                </a:lnTo>
                <a:lnTo>
                  <a:pt x="428" y="61"/>
                </a:lnTo>
                <a:lnTo>
                  <a:pt x="428" y="50"/>
                </a:lnTo>
                <a:lnTo>
                  <a:pt x="429" y="39"/>
                </a:lnTo>
                <a:lnTo>
                  <a:pt x="429" y="28"/>
                </a:lnTo>
                <a:lnTo>
                  <a:pt x="430" y="17"/>
                </a:lnTo>
                <a:lnTo>
                  <a:pt x="431" y="9"/>
                </a:lnTo>
                <a:lnTo>
                  <a:pt x="431" y="3"/>
                </a:lnTo>
                <a:lnTo>
                  <a:pt x="431" y="0"/>
                </a:lnTo>
                <a:lnTo>
                  <a:pt x="396" y="4"/>
                </a:lnTo>
                <a:lnTo>
                  <a:pt x="361" y="8"/>
                </a:lnTo>
                <a:lnTo>
                  <a:pt x="329" y="10"/>
                </a:lnTo>
                <a:lnTo>
                  <a:pt x="299" y="11"/>
                </a:lnTo>
                <a:lnTo>
                  <a:pt x="271" y="11"/>
                </a:lnTo>
                <a:lnTo>
                  <a:pt x="245" y="11"/>
                </a:lnTo>
                <a:lnTo>
                  <a:pt x="222" y="10"/>
                </a:lnTo>
                <a:lnTo>
                  <a:pt x="200" y="10"/>
                </a:lnTo>
                <a:lnTo>
                  <a:pt x="180" y="9"/>
                </a:lnTo>
                <a:lnTo>
                  <a:pt x="163" y="7"/>
                </a:lnTo>
                <a:lnTo>
                  <a:pt x="149" y="5"/>
                </a:lnTo>
                <a:lnTo>
                  <a:pt x="137" y="4"/>
                </a:lnTo>
                <a:lnTo>
                  <a:pt x="128" y="2"/>
                </a:lnTo>
                <a:lnTo>
                  <a:pt x="121" y="2"/>
                </a:lnTo>
                <a:lnTo>
                  <a:pt x="117" y="0"/>
                </a:lnTo>
                <a:lnTo>
                  <a:pt x="115" y="0"/>
                </a:lnTo>
                <a:lnTo>
                  <a:pt x="115" y="13"/>
                </a:lnTo>
                <a:lnTo>
                  <a:pt x="115" y="22"/>
                </a:lnTo>
                <a:lnTo>
                  <a:pt x="115" y="32"/>
                </a:lnTo>
                <a:lnTo>
                  <a:pt x="115" y="39"/>
                </a:lnTo>
                <a:lnTo>
                  <a:pt x="115" y="51"/>
                </a:lnTo>
                <a:lnTo>
                  <a:pt x="115" y="60"/>
                </a:lnTo>
                <a:lnTo>
                  <a:pt x="115" y="65"/>
                </a:lnTo>
                <a:lnTo>
                  <a:pt x="115" y="67"/>
                </a:lnTo>
                <a:lnTo>
                  <a:pt x="115" y="68"/>
                </a:lnTo>
                <a:lnTo>
                  <a:pt x="115" y="68"/>
                </a:lnTo>
                <a:lnTo>
                  <a:pt x="105" y="68"/>
                </a:lnTo>
                <a:lnTo>
                  <a:pt x="98" y="66"/>
                </a:lnTo>
                <a:lnTo>
                  <a:pt x="96" y="65"/>
                </a:lnTo>
                <a:lnTo>
                  <a:pt x="94" y="65"/>
                </a:lnTo>
                <a:lnTo>
                  <a:pt x="94" y="63"/>
                </a:lnTo>
                <a:lnTo>
                  <a:pt x="93" y="61"/>
                </a:lnTo>
                <a:lnTo>
                  <a:pt x="89" y="54"/>
                </a:lnTo>
                <a:lnTo>
                  <a:pt x="83" y="47"/>
                </a:lnTo>
                <a:lnTo>
                  <a:pt x="79" y="44"/>
                </a:lnTo>
                <a:lnTo>
                  <a:pt x="73" y="43"/>
                </a:lnTo>
                <a:lnTo>
                  <a:pt x="70" y="43"/>
                </a:lnTo>
                <a:lnTo>
                  <a:pt x="65" y="43"/>
                </a:lnTo>
                <a:lnTo>
                  <a:pt x="57" y="43"/>
                </a:lnTo>
                <a:lnTo>
                  <a:pt x="47" y="43"/>
                </a:lnTo>
                <a:lnTo>
                  <a:pt x="33" y="45"/>
                </a:lnTo>
                <a:lnTo>
                  <a:pt x="22" y="50"/>
                </a:lnTo>
                <a:lnTo>
                  <a:pt x="13" y="57"/>
                </a:lnTo>
                <a:lnTo>
                  <a:pt x="8" y="67"/>
                </a:lnTo>
                <a:lnTo>
                  <a:pt x="3" y="76"/>
                </a:lnTo>
                <a:lnTo>
                  <a:pt x="2" y="83"/>
                </a:lnTo>
                <a:lnTo>
                  <a:pt x="1" y="88"/>
                </a:lnTo>
                <a:lnTo>
                  <a:pt x="0" y="90"/>
                </a:lnTo>
                <a:lnTo>
                  <a:pt x="0" y="97"/>
                </a:lnTo>
                <a:lnTo>
                  <a:pt x="0" y="102"/>
                </a:lnTo>
                <a:lnTo>
                  <a:pt x="0" y="106"/>
                </a:lnTo>
                <a:lnTo>
                  <a:pt x="0" y="108"/>
                </a:lnTo>
                <a:lnTo>
                  <a:pt x="0" y="111"/>
                </a:lnTo>
                <a:lnTo>
                  <a:pt x="0" y="112"/>
                </a:lnTo>
                <a:lnTo>
                  <a:pt x="0" y="113"/>
                </a:lnTo>
                <a:lnTo>
                  <a:pt x="1" y="118"/>
                </a:lnTo>
                <a:lnTo>
                  <a:pt x="1" y="126"/>
                </a:lnTo>
                <a:lnTo>
                  <a:pt x="2" y="139"/>
                </a:lnTo>
                <a:lnTo>
                  <a:pt x="6" y="152"/>
                </a:lnTo>
                <a:lnTo>
                  <a:pt x="9" y="168"/>
                </a:lnTo>
                <a:lnTo>
                  <a:pt x="16" y="186"/>
                </a:lnTo>
                <a:lnTo>
                  <a:pt x="23" y="206"/>
                </a:lnTo>
                <a:lnTo>
                  <a:pt x="34" y="227"/>
                </a:lnTo>
                <a:lnTo>
                  <a:pt x="46" y="250"/>
                </a:lnTo>
                <a:lnTo>
                  <a:pt x="62" y="273"/>
                </a:lnTo>
                <a:lnTo>
                  <a:pt x="81" y="297"/>
                </a:lnTo>
                <a:lnTo>
                  <a:pt x="104" y="322"/>
                </a:lnTo>
                <a:lnTo>
                  <a:pt x="131" y="346"/>
                </a:lnTo>
                <a:lnTo>
                  <a:pt x="161" y="370"/>
                </a:lnTo>
                <a:lnTo>
                  <a:pt x="196" y="393"/>
                </a:lnTo>
                <a:lnTo>
                  <a:pt x="197" y="394"/>
                </a:lnTo>
                <a:lnTo>
                  <a:pt x="201" y="397"/>
                </a:lnTo>
                <a:lnTo>
                  <a:pt x="205" y="400"/>
                </a:lnTo>
                <a:lnTo>
                  <a:pt x="211" y="404"/>
                </a:lnTo>
                <a:lnTo>
                  <a:pt x="218" y="409"/>
                </a:lnTo>
                <a:lnTo>
                  <a:pt x="228" y="411"/>
                </a:lnTo>
                <a:lnTo>
                  <a:pt x="237" y="414"/>
                </a:lnTo>
                <a:lnTo>
                  <a:pt x="248" y="415"/>
                </a:lnTo>
                <a:lnTo>
                  <a:pt x="248" y="423"/>
                </a:lnTo>
                <a:lnTo>
                  <a:pt x="248" y="429"/>
                </a:lnTo>
                <a:lnTo>
                  <a:pt x="248" y="434"/>
                </a:lnTo>
                <a:lnTo>
                  <a:pt x="248" y="438"/>
                </a:lnTo>
                <a:lnTo>
                  <a:pt x="248" y="440"/>
                </a:lnTo>
                <a:lnTo>
                  <a:pt x="248" y="440"/>
                </a:lnTo>
                <a:lnTo>
                  <a:pt x="247" y="440"/>
                </a:lnTo>
                <a:lnTo>
                  <a:pt x="245" y="440"/>
                </a:lnTo>
                <a:lnTo>
                  <a:pt x="237" y="440"/>
                </a:lnTo>
                <a:lnTo>
                  <a:pt x="230" y="443"/>
                </a:lnTo>
                <a:lnTo>
                  <a:pt x="228" y="445"/>
                </a:lnTo>
                <a:lnTo>
                  <a:pt x="226" y="449"/>
                </a:lnTo>
                <a:lnTo>
                  <a:pt x="228" y="455"/>
                </a:lnTo>
                <a:lnTo>
                  <a:pt x="230" y="459"/>
                </a:lnTo>
                <a:lnTo>
                  <a:pt x="234" y="461"/>
                </a:lnTo>
                <a:lnTo>
                  <a:pt x="237" y="462"/>
                </a:lnTo>
                <a:lnTo>
                  <a:pt x="245" y="462"/>
                </a:lnTo>
                <a:lnTo>
                  <a:pt x="247" y="462"/>
                </a:lnTo>
                <a:lnTo>
                  <a:pt x="248" y="462"/>
                </a:lnTo>
                <a:lnTo>
                  <a:pt x="248" y="471"/>
                </a:lnTo>
                <a:lnTo>
                  <a:pt x="248" y="477"/>
                </a:lnTo>
                <a:lnTo>
                  <a:pt x="248" y="482"/>
                </a:lnTo>
                <a:lnTo>
                  <a:pt x="248" y="485"/>
                </a:lnTo>
                <a:lnTo>
                  <a:pt x="248" y="488"/>
                </a:lnTo>
                <a:lnTo>
                  <a:pt x="248" y="488"/>
                </a:lnTo>
                <a:lnTo>
                  <a:pt x="247" y="489"/>
                </a:lnTo>
                <a:lnTo>
                  <a:pt x="247" y="491"/>
                </a:lnTo>
                <a:lnTo>
                  <a:pt x="245" y="498"/>
                </a:lnTo>
                <a:lnTo>
                  <a:pt x="239" y="506"/>
                </a:lnTo>
                <a:lnTo>
                  <a:pt x="235" y="508"/>
                </a:lnTo>
                <a:lnTo>
                  <a:pt x="231" y="509"/>
                </a:lnTo>
                <a:lnTo>
                  <a:pt x="230" y="517"/>
                </a:lnTo>
                <a:lnTo>
                  <a:pt x="226" y="522"/>
                </a:lnTo>
                <a:lnTo>
                  <a:pt x="223" y="525"/>
                </a:lnTo>
                <a:lnTo>
                  <a:pt x="218" y="528"/>
                </a:lnTo>
                <a:lnTo>
                  <a:pt x="209" y="530"/>
                </a:lnTo>
                <a:lnTo>
                  <a:pt x="206" y="530"/>
                </a:lnTo>
                <a:lnTo>
                  <a:pt x="205" y="530"/>
                </a:lnTo>
                <a:lnTo>
                  <a:pt x="205" y="531"/>
                </a:lnTo>
                <a:lnTo>
                  <a:pt x="202" y="531"/>
                </a:lnTo>
                <a:lnTo>
                  <a:pt x="195" y="535"/>
                </a:lnTo>
                <a:lnTo>
                  <a:pt x="188" y="541"/>
                </a:lnTo>
                <a:lnTo>
                  <a:pt x="185" y="546"/>
                </a:lnTo>
                <a:lnTo>
                  <a:pt x="184" y="552"/>
                </a:lnTo>
                <a:lnTo>
                  <a:pt x="184" y="553"/>
                </a:lnTo>
                <a:lnTo>
                  <a:pt x="184" y="555"/>
                </a:lnTo>
                <a:lnTo>
                  <a:pt x="185" y="563"/>
                </a:lnTo>
                <a:lnTo>
                  <a:pt x="188" y="566"/>
                </a:lnTo>
                <a:lnTo>
                  <a:pt x="191" y="570"/>
                </a:lnTo>
                <a:lnTo>
                  <a:pt x="197" y="572"/>
                </a:lnTo>
                <a:lnTo>
                  <a:pt x="205" y="574"/>
                </a:lnTo>
                <a:lnTo>
                  <a:pt x="212" y="574"/>
                </a:lnTo>
                <a:lnTo>
                  <a:pt x="220" y="574"/>
                </a:lnTo>
                <a:lnTo>
                  <a:pt x="240" y="574"/>
                </a:lnTo>
                <a:lnTo>
                  <a:pt x="262" y="574"/>
                </a:lnTo>
                <a:lnTo>
                  <a:pt x="285" y="574"/>
                </a:lnTo>
                <a:lnTo>
                  <a:pt x="305" y="574"/>
                </a:lnTo>
                <a:lnTo>
                  <a:pt x="314" y="574"/>
                </a:lnTo>
                <a:lnTo>
                  <a:pt x="322" y="574"/>
                </a:lnTo>
                <a:lnTo>
                  <a:pt x="328" y="574"/>
                </a:lnTo>
                <a:lnTo>
                  <a:pt x="333" y="574"/>
                </a:lnTo>
                <a:lnTo>
                  <a:pt x="337" y="574"/>
                </a:lnTo>
                <a:lnTo>
                  <a:pt x="338" y="574"/>
                </a:lnTo>
                <a:lnTo>
                  <a:pt x="345" y="572"/>
                </a:lnTo>
                <a:lnTo>
                  <a:pt x="350" y="570"/>
                </a:lnTo>
                <a:lnTo>
                  <a:pt x="355" y="566"/>
                </a:lnTo>
                <a:lnTo>
                  <a:pt x="358" y="563"/>
                </a:lnTo>
                <a:lnTo>
                  <a:pt x="362" y="555"/>
                </a:lnTo>
                <a:lnTo>
                  <a:pt x="362" y="553"/>
                </a:lnTo>
                <a:lnTo>
                  <a:pt x="363" y="552"/>
                </a:lnTo>
                <a:lnTo>
                  <a:pt x="363" y="551"/>
                </a:lnTo>
                <a:lnTo>
                  <a:pt x="362" y="548"/>
                </a:lnTo>
                <a:lnTo>
                  <a:pt x="360" y="541"/>
                </a:lnTo>
                <a:lnTo>
                  <a:pt x="357" y="537"/>
                </a:lnTo>
                <a:lnTo>
                  <a:pt x="352" y="534"/>
                </a:lnTo>
                <a:lnTo>
                  <a:pt x="346" y="531"/>
                </a:lnTo>
                <a:lnTo>
                  <a:pt x="338" y="530"/>
                </a:lnTo>
                <a:lnTo>
                  <a:pt x="331" y="530"/>
                </a:lnTo>
                <a:lnTo>
                  <a:pt x="325" y="526"/>
                </a:lnTo>
                <a:lnTo>
                  <a:pt x="321" y="523"/>
                </a:lnTo>
                <a:lnTo>
                  <a:pt x="318" y="518"/>
                </a:lnTo>
                <a:lnTo>
                  <a:pt x="316" y="509"/>
                </a:lnTo>
                <a:lnTo>
                  <a:pt x="316" y="506"/>
                </a:lnTo>
                <a:lnTo>
                  <a:pt x="316" y="505"/>
                </a:lnTo>
                <a:lnTo>
                  <a:pt x="315" y="506"/>
                </a:lnTo>
                <a:lnTo>
                  <a:pt x="312" y="506"/>
                </a:lnTo>
                <a:lnTo>
                  <a:pt x="305" y="505"/>
                </a:lnTo>
                <a:lnTo>
                  <a:pt x="302" y="502"/>
                </a:lnTo>
                <a:lnTo>
                  <a:pt x="298" y="500"/>
                </a:lnTo>
                <a:lnTo>
                  <a:pt x="295" y="495"/>
                </a:lnTo>
                <a:lnTo>
                  <a:pt x="294" y="488"/>
                </a:lnTo>
                <a:lnTo>
                  <a:pt x="294" y="479"/>
                </a:lnTo>
                <a:lnTo>
                  <a:pt x="294" y="473"/>
                </a:lnTo>
                <a:lnTo>
                  <a:pt x="294" y="468"/>
                </a:lnTo>
                <a:lnTo>
                  <a:pt x="294" y="466"/>
                </a:lnTo>
                <a:lnTo>
                  <a:pt x="294" y="462"/>
                </a:lnTo>
                <a:lnTo>
                  <a:pt x="294" y="462"/>
                </a:lnTo>
                <a:lnTo>
                  <a:pt x="295" y="462"/>
                </a:lnTo>
                <a:lnTo>
                  <a:pt x="298" y="462"/>
                </a:lnTo>
                <a:lnTo>
                  <a:pt x="305" y="462"/>
                </a:lnTo>
                <a:lnTo>
                  <a:pt x="309" y="461"/>
                </a:lnTo>
                <a:lnTo>
                  <a:pt x="312" y="459"/>
                </a:lnTo>
                <a:lnTo>
                  <a:pt x="315" y="455"/>
                </a:lnTo>
                <a:lnTo>
                  <a:pt x="316" y="449"/>
                </a:lnTo>
                <a:lnTo>
                  <a:pt x="315" y="445"/>
                </a:lnTo>
                <a:lnTo>
                  <a:pt x="312" y="443"/>
                </a:lnTo>
                <a:lnTo>
                  <a:pt x="305" y="440"/>
                </a:lnTo>
                <a:lnTo>
                  <a:pt x="298" y="440"/>
                </a:lnTo>
                <a:lnTo>
                  <a:pt x="295" y="440"/>
                </a:lnTo>
                <a:lnTo>
                  <a:pt x="294" y="440"/>
                </a:lnTo>
                <a:lnTo>
                  <a:pt x="294" y="432"/>
                </a:lnTo>
                <a:lnTo>
                  <a:pt x="294" y="426"/>
                </a:lnTo>
                <a:lnTo>
                  <a:pt x="294" y="421"/>
                </a:lnTo>
                <a:lnTo>
                  <a:pt x="294" y="419"/>
                </a:lnTo>
                <a:lnTo>
                  <a:pt x="294" y="415"/>
                </a:lnTo>
                <a:lnTo>
                  <a:pt x="294" y="415"/>
                </a:lnTo>
                <a:lnTo>
                  <a:pt x="310" y="414"/>
                </a:lnTo>
                <a:lnTo>
                  <a:pt x="325" y="409"/>
                </a:lnTo>
                <a:lnTo>
                  <a:pt x="338" y="403"/>
                </a:lnTo>
                <a:lnTo>
                  <a:pt x="350" y="393"/>
                </a:lnTo>
                <a:close/>
                <a:moveTo>
                  <a:pt x="431" y="90"/>
                </a:moveTo>
                <a:lnTo>
                  <a:pt x="436" y="90"/>
                </a:lnTo>
                <a:lnTo>
                  <a:pt x="443" y="90"/>
                </a:lnTo>
                <a:lnTo>
                  <a:pt x="449" y="90"/>
                </a:lnTo>
                <a:lnTo>
                  <a:pt x="452" y="90"/>
                </a:lnTo>
                <a:lnTo>
                  <a:pt x="453" y="90"/>
                </a:lnTo>
                <a:lnTo>
                  <a:pt x="460" y="89"/>
                </a:lnTo>
                <a:lnTo>
                  <a:pt x="465" y="87"/>
                </a:lnTo>
                <a:lnTo>
                  <a:pt x="470" y="83"/>
                </a:lnTo>
                <a:lnTo>
                  <a:pt x="474" y="79"/>
                </a:lnTo>
                <a:lnTo>
                  <a:pt x="477" y="72"/>
                </a:lnTo>
                <a:lnTo>
                  <a:pt x="478" y="70"/>
                </a:lnTo>
                <a:lnTo>
                  <a:pt x="478" y="68"/>
                </a:lnTo>
                <a:lnTo>
                  <a:pt x="486" y="70"/>
                </a:lnTo>
                <a:lnTo>
                  <a:pt x="491" y="72"/>
                </a:lnTo>
                <a:lnTo>
                  <a:pt x="494" y="76"/>
                </a:lnTo>
                <a:lnTo>
                  <a:pt x="497" y="79"/>
                </a:lnTo>
                <a:lnTo>
                  <a:pt x="499" y="87"/>
                </a:lnTo>
                <a:lnTo>
                  <a:pt x="499" y="89"/>
                </a:lnTo>
                <a:lnTo>
                  <a:pt x="499" y="90"/>
                </a:lnTo>
                <a:lnTo>
                  <a:pt x="499" y="97"/>
                </a:lnTo>
                <a:lnTo>
                  <a:pt x="499" y="102"/>
                </a:lnTo>
                <a:lnTo>
                  <a:pt x="499" y="106"/>
                </a:lnTo>
                <a:lnTo>
                  <a:pt x="499" y="108"/>
                </a:lnTo>
                <a:lnTo>
                  <a:pt x="499" y="111"/>
                </a:lnTo>
                <a:lnTo>
                  <a:pt x="499" y="112"/>
                </a:lnTo>
                <a:lnTo>
                  <a:pt x="499" y="113"/>
                </a:lnTo>
                <a:lnTo>
                  <a:pt x="499" y="116"/>
                </a:lnTo>
                <a:lnTo>
                  <a:pt x="498" y="120"/>
                </a:lnTo>
                <a:lnTo>
                  <a:pt x="497" y="128"/>
                </a:lnTo>
                <a:lnTo>
                  <a:pt x="494" y="135"/>
                </a:lnTo>
                <a:lnTo>
                  <a:pt x="492" y="146"/>
                </a:lnTo>
                <a:lnTo>
                  <a:pt x="487" y="157"/>
                </a:lnTo>
                <a:lnTo>
                  <a:pt x="482" y="169"/>
                </a:lnTo>
                <a:lnTo>
                  <a:pt x="476" y="183"/>
                </a:lnTo>
                <a:lnTo>
                  <a:pt x="468" y="198"/>
                </a:lnTo>
                <a:lnTo>
                  <a:pt x="458" y="214"/>
                </a:lnTo>
                <a:lnTo>
                  <a:pt x="447" y="231"/>
                </a:lnTo>
                <a:lnTo>
                  <a:pt x="435" y="248"/>
                </a:lnTo>
                <a:lnTo>
                  <a:pt x="420" y="266"/>
                </a:lnTo>
                <a:lnTo>
                  <a:pt x="403" y="285"/>
                </a:lnTo>
                <a:lnTo>
                  <a:pt x="384" y="303"/>
                </a:lnTo>
                <a:lnTo>
                  <a:pt x="389" y="295"/>
                </a:lnTo>
                <a:lnTo>
                  <a:pt x="394" y="285"/>
                </a:lnTo>
                <a:lnTo>
                  <a:pt x="402" y="262"/>
                </a:lnTo>
                <a:lnTo>
                  <a:pt x="411" y="237"/>
                </a:lnTo>
                <a:lnTo>
                  <a:pt x="418" y="208"/>
                </a:lnTo>
                <a:lnTo>
                  <a:pt x="423" y="179"/>
                </a:lnTo>
                <a:lnTo>
                  <a:pt x="428" y="148"/>
                </a:lnTo>
                <a:lnTo>
                  <a:pt x="430" y="118"/>
                </a:lnTo>
                <a:lnTo>
                  <a:pt x="431" y="90"/>
                </a:lnTo>
                <a:close/>
                <a:moveTo>
                  <a:pt x="154" y="308"/>
                </a:moveTo>
                <a:lnTo>
                  <a:pt x="134" y="289"/>
                </a:lnTo>
                <a:lnTo>
                  <a:pt x="117" y="271"/>
                </a:lnTo>
                <a:lnTo>
                  <a:pt x="102" y="253"/>
                </a:lnTo>
                <a:lnTo>
                  <a:pt x="89" y="234"/>
                </a:lnTo>
                <a:lnTo>
                  <a:pt x="77" y="219"/>
                </a:lnTo>
                <a:lnTo>
                  <a:pt x="69" y="202"/>
                </a:lnTo>
                <a:lnTo>
                  <a:pt x="60" y="187"/>
                </a:lnTo>
                <a:lnTo>
                  <a:pt x="54" y="174"/>
                </a:lnTo>
                <a:lnTo>
                  <a:pt x="49" y="160"/>
                </a:lnTo>
                <a:lnTo>
                  <a:pt x="46" y="150"/>
                </a:lnTo>
                <a:lnTo>
                  <a:pt x="43" y="140"/>
                </a:lnTo>
                <a:lnTo>
                  <a:pt x="41" y="131"/>
                </a:lnTo>
                <a:lnTo>
                  <a:pt x="40" y="125"/>
                </a:lnTo>
                <a:lnTo>
                  <a:pt x="39" y="120"/>
                </a:lnTo>
                <a:lnTo>
                  <a:pt x="39" y="117"/>
                </a:lnTo>
                <a:lnTo>
                  <a:pt x="39" y="116"/>
                </a:lnTo>
                <a:lnTo>
                  <a:pt x="39" y="108"/>
                </a:lnTo>
                <a:lnTo>
                  <a:pt x="39" y="103"/>
                </a:lnTo>
                <a:lnTo>
                  <a:pt x="39" y="100"/>
                </a:lnTo>
                <a:lnTo>
                  <a:pt x="39" y="97"/>
                </a:lnTo>
                <a:lnTo>
                  <a:pt x="39" y="95"/>
                </a:lnTo>
                <a:lnTo>
                  <a:pt x="39" y="94"/>
                </a:lnTo>
                <a:lnTo>
                  <a:pt x="39" y="93"/>
                </a:lnTo>
                <a:lnTo>
                  <a:pt x="39" y="90"/>
                </a:lnTo>
                <a:lnTo>
                  <a:pt x="41" y="82"/>
                </a:lnTo>
                <a:lnTo>
                  <a:pt x="43" y="77"/>
                </a:lnTo>
                <a:lnTo>
                  <a:pt x="47" y="72"/>
                </a:lnTo>
                <a:lnTo>
                  <a:pt x="53" y="70"/>
                </a:lnTo>
                <a:lnTo>
                  <a:pt x="60" y="68"/>
                </a:lnTo>
                <a:lnTo>
                  <a:pt x="60" y="70"/>
                </a:lnTo>
                <a:lnTo>
                  <a:pt x="60" y="72"/>
                </a:lnTo>
                <a:lnTo>
                  <a:pt x="63" y="82"/>
                </a:lnTo>
                <a:lnTo>
                  <a:pt x="66" y="87"/>
                </a:lnTo>
                <a:lnTo>
                  <a:pt x="71" y="90"/>
                </a:lnTo>
                <a:lnTo>
                  <a:pt x="77" y="93"/>
                </a:lnTo>
                <a:lnTo>
                  <a:pt x="86" y="94"/>
                </a:lnTo>
                <a:lnTo>
                  <a:pt x="86" y="94"/>
                </a:lnTo>
                <a:lnTo>
                  <a:pt x="88" y="94"/>
                </a:lnTo>
                <a:lnTo>
                  <a:pt x="94" y="94"/>
                </a:lnTo>
                <a:lnTo>
                  <a:pt x="102" y="94"/>
                </a:lnTo>
                <a:lnTo>
                  <a:pt x="105" y="94"/>
                </a:lnTo>
                <a:lnTo>
                  <a:pt x="106" y="94"/>
                </a:lnTo>
                <a:lnTo>
                  <a:pt x="108" y="123"/>
                </a:lnTo>
                <a:lnTo>
                  <a:pt x="110" y="152"/>
                </a:lnTo>
                <a:lnTo>
                  <a:pt x="115" y="182"/>
                </a:lnTo>
                <a:lnTo>
                  <a:pt x="121" y="213"/>
                </a:lnTo>
                <a:lnTo>
                  <a:pt x="128" y="240"/>
                </a:lnTo>
                <a:lnTo>
                  <a:pt x="136" y="267"/>
                </a:lnTo>
                <a:lnTo>
                  <a:pt x="144" y="290"/>
                </a:lnTo>
                <a:lnTo>
                  <a:pt x="149" y="300"/>
                </a:lnTo>
                <a:lnTo>
                  <a:pt x="154" y="308"/>
                </a:lnTo>
                <a:close/>
              </a:path>
            </a:pathLst>
          </a:custGeom>
          <a:solidFill>
            <a:srgbClr val="d9d9d9"/>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433" name="Rectangle 13"/>
          <p:cNvSpPr/>
          <p:nvPr/>
        </p:nvSpPr>
        <p:spPr>
          <a:xfrm>
            <a:off x="1508040" y="5451480"/>
            <a:ext cx="217656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dolor conubia mollit Sapien nam suspendisse tincidunt</a:t>
            </a:r>
            <a:endParaRPr b="0" lang="en-US" sz="1000" spc="-1" strike="noStrike">
              <a:solidFill>
                <a:srgbClr val="000000"/>
              </a:solidFill>
              <a:latin typeface="Calibri"/>
            </a:endParaRPr>
          </a:p>
        </p:txBody>
      </p:sp>
      <p:sp>
        <p:nvSpPr>
          <p:cNvPr id="1434" name="Rectangle 14"/>
          <p:cNvSpPr/>
          <p:nvPr/>
        </p:nvSpPr>
        <p:spPr>
          <a:xfrm>
            <a:off x="4346640" y="5451480"/>
            <a:ext cx="217656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dolor conubia mollit Sapien nam suspendisse tincidunt</a:t>
            </a:r>
            <a:endParaRPr b="0" lang="en-US" sz="1000" spc="-1" strike="noStrike">
              <a:solidFill>
                <a:srgbClr val="000000"/>
              </a:solidFill>
              <a:latin typeface="Calibri"/>
            </a:endParaRPr>
          </a:p>
        </p:txBody>
      </p:sp>
      <p:sp>
        <p:nvSpPr>
          <p:cNvPr id="1435" name="TextBox 15"/>
          <p:cNvSpPr/>
          <p:nvPr/>
        </p:nvSpPr>
        <p:spPr>
          <a:xfrm>
            <a:off x="1509480" y="4987800"/>
            <a:ext cx="92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Creative</a:t>
            </a:r>
            <a:endParaRPr b="0" lang="en-US" sz="1400" spc="-1" strike="noStrike">
              <a:solidFill>
                <a:srgbClr val="000000"/>
              </a:solidFill>
              <a:latin typeface="Calibri"/>
            </a:endParaRPr>
          </a:p>
        </p:txBody>
      </p:sp>
      <p:sp>
        <p:nvSpPr>
          <p:cNvPr id="1436" name="TextBox 16"/>
          <p:cNvSpPr/>
          <p:nvPr/>
        </p:nvSpPr>
        <p:spPr>
          <a:xfrm>
            <a:off x="4344480" y="4987800"/>
            <a:ext cx="79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Design</a:t>
            </a:r>
            <a:endParaRPr b="0" lang="en-US" sz="1400" spc="-1" strike="noStrike">
              <a:solidFill>
                <a:srgbClr val="000000"/>
              </a:solidFill>
              <a:latin typeface="Calibri"/>
            </a:endParaRPr>
          </a:p>
        </p:txBody>
      </p:sp>
      <p:sp>
        <p:nvSpPr>
          <p:cNvPr id="1437" name="Freeform 290"/>
          <p:cNvSpPr/>
          <p:nvPr/>
        </p:nvSpPr>
        <p:spPr>
          <a:xfrm>
            <a:off x="4473720" y="4295880"/>
            <a:ext cx="384120" cy="500040"/>
          </a:xfrm>
          <a:custGeom>
            <a:avLst/>
            <a:gdLst/>
            <a:ahLst/>
            <a:rect l="l" t="t" r="r" b="b"/>
            <a:pathLst>
              <a:path w="506" h="655">
                <a:moveTo>
                  <a:pt x="437" y="144"/>
                </a:moveTo>
                <a:lnTo>
                  <a:pt x="472" y="76"/>
                </a:lnTo>
                <a:lnTo>
                  <a:pt x="504" y="6"/>
                </a:lnTo>
                <a:lnTo>
                  <a:pt x="424" y="3"/>
                </a:lnTo>
                <a:lnTo>
                  <a:pt x="343" y="0"/>
                </a:lnTo>
                <a:lnTo>
                  <a:pt x="375" y="40"/>
                </a:lnTo>
                <a:lnTo>
                  <a:pt x="6" y="259"/>
                </a:lnTo>
                <a:lnTo>
                  <a:pt x="2" y="349"/>
                </a:lnTo>
                <a:lnTo>
                  <a:pt x="403" y="99"/>
                </a:lnTo>
                <a:lnTo>
                  <a:pt x="437" y="144"/>
                </a:lnTo>
                <a:close/>
                <a:moveTo>
                  <a:pt x="356" y="181"/>
                </a:moveTo>
                <a:lnTo>
                  <a:pt x="506" y="181"/>
                </a:lnTo>
                <a:lnTo>
                  <a:pt x="506" y="655"/>
                </a:lnTo>
                <a:lnTo>
                  <a:pt x="356" y="655"/>
                </a:lnTo>
                <a:lnTo>
                  <a:pt x="356" y="181"/>
                </a:lnTo>
                <a:close/>
                <a:moveTo>
                  <a:pt x="178" y="280"/>
                </a:moveTo>
                <a:lnTo>
                  <a:pt x="328" y="280"/>
                </a:lnTo>
                <a:lnTo>
                  <a:pt x="328" y="655"/>
                </a:lnTo>
                <a:lnTo>
                  <a:pt x="178" y="655"/>
                </a:lnTo>
                <a:lnTo>
                  <a:pt x="178" y="280"/>
                </a:lnTo>
                <a:close/>
                <a:moveTo>
                  <a:pt x="0" y="381"/>
                </a:moveTo>
                <a:lnTo>
                  <a:pt x="150" y="381"/>
                </a:lnTo>
                <a:lnTo>
                  <a:pt x="150" y="655"/>
                </a:lnTo>
                <a:lnTo>
                  <a:pt x="0" y="655"/>
                </a:lnTo>
                <a:lnTo>
                  <a:pt x="0" y="381"/>
                </a:lnTo>
                <a:close/>
              </a:path>
            </a:pathLst>
          </a:custGeom>
          <a:solidFill>
            <a:srgbClr val="d9d9d9"/>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438" name="Freeform 338"/>
          <p:cNvSpPr/>
          <p:nvPr/>
        </p:nvSpPr>
        <p:spPr>
          <a:xfrm>
            <a:off x="1582560" y="4419720"/>
            <a:ext cx="476280" cy="376200"/>
          </a:xfrm>
          <a:custGeom>
            <a:avLst/>
            <a:gdLst/>
            <a:ahLst/>
            <a:rect l="l" t="t" r="r" b="b"/>
            <a:pathLst>
              <a:path w="624" h="492">
                <a:moveTo>
                  <a:pt x="624" y="354"/>
                </a:moveTo>
                <a:cubicBezTo>
                  <a:pt x="624" y="390"/>
                  <a:pt x="595" y="419"/>
                  <a:pt x="559" y="419"/>
                </a:cubicBezTo>
                <a:lnTo>
                  <a:pt x="526" y="419"/>
                </a:lnTo>
                <a:cubicBezTo>
                  <a:pt x="518" y="419"/>
                  <a:pt x="512" y="425"/>
                  <a:pt x="512" y="433"/>
                </a:cubicBezTo>
                <a:lnTo>
                  <a:pt x="512" y="492"/>
                </a:lnTo>
                <a:lnTo>
                  <a:pt x="455" y="424"/>
                </a:lnTo>
                <a:cubicBezTo>
                  <a:pt x="452" y="421"/>
                  <a:pt x="448" y="419"/>
                  <a:pt x="444" y="419"/>
                </a:cubicBezTo>
                <a:lnTo>
                  <a:pt x="65" y="419"/>
                </a:lnTo>
                <a:cubicBezTo>
                  <a:pt x="29" y="419"/>
                  <a:pt x="0" y="390"/>
                  <a:pt x="0" y="354"/>
                </a:cubicBezTo>
                <a:lnTo>
                  <a:pt x="0" y="312"/>
                </a:lnTo>
                <a:lnTo>
                  <a:pt x="0" y="285"/>
                </a:lnTo>
                <a:lnTo>
                  <a:pt x="0" y="65"/>
                </a:lnTo>
                <a:cubicBezTo>
                  <a:pt x="0" y="29"/>
                  <a:pt x="29" y="0"/>
                  <a:pt x="65" y="0"/>
                </a:cubicBezTo>
                <a:lnTo>
                  <a:pt x="490" y="0"/>
                </a:lnTo>
                <a:lnTo>
                  <a:pt x="518" y="0"/>
                </a:lnTo>
                <a:lnTo>
                  <a:pt x="559" y="0"/>
                </a:lnTo>
                <a:cubicBezTo>
                  <a:pt x="595" y="0"/>
                  <a:pt x="624" y="29"/>
                  <a:pt x="624" y="65"/>
                </a:cubicBezTo>
                <a:lnTo>
                  <a:pt x="624" y="354"/>
                </a:lnTo>
                <a:close/>
              </a:path>
            </a:pathLst>
          </a:custGeom>
          <a:solidFill>
            <a:srgbClr val="d9d9d9"/>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Rectangle 6"/>
          <p:cNvSpPr/>
          <p:nvPr/>
        </p:nvSpPr>
        <p:spPr>
          <a:xfrm>
            <a:off x="5584680" y="1442880"/>
            <a:ext cx="5342040" cy="251784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0" name="TextBox 4"/>
          <p:cNvSpPr/>
          <p:nvPr/>
        </p:nvSpPr>
        <p:spPr>
          <a:xfrm>
            <a:off x="1378800" y="4659480"/>
            <a:ext cx="25336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Creative</a:t>
            </a:r>
            <a:endParaRPr b="0" lang="en-US" sz="4800" spc="-1" strike="noStrike">
              <a:solidFill>
                <a:srgbClr val="000000"/>
              </a:solidFill>
              <a:latin typeface="Calibri"/>
            </a:endParaRPr>
          </a:p>
        </p:txBody>
      </p:sp>
      <p:sp>
        <p:nvSpPr>
          <p:cNvPr id="1441" name="TextBox 5"/>
          <p:cNvSpPr/>
          <p:nvPr/>
        </p:nvSpPr>
        <p:spPr>
          <a:xfrm>
            <a:off x="1268640" y="1725480"/>
            <a:ext cx="1806120" cy="11883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Our Company</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Business Overview</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Competition</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Creative Design</a:t>
            </a:r>
            <a:endParaRPr b="0" lang="en-US" sz="1200" spc="-1" strike="noStrike">
              <a:solidFill>
                <a:srgbClr val="000000"/>
              </a:solidFill>
              <a:latin typeface="Calibri"/>
            </a:endParaRPr>
          </a:p>
        </p:txBody>
      </p:sp>
      <p:sp>
        <p:nvSpPr>
          <p:cNvPr id="1442" name="TextBox 7"/>
          <p:cNvSpPr/>
          <p:nvPr/>
        </p:nvSpPr>
        <p:spPr>
          <a:xfrm>
            <a:off x="7781400" y="2225520"/>
            <a:ext cx="2171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Design</a:t>
            </a:r>
            <a:endParaRPr b="0" lang="en-US" sz="4800" spc="-1" strike="noStrike">
              <a:solidFill>
                <a:srgbClr val="000000"/>
              </a:solidFill>
              <a:latin typeface="Calibri"/>
            </a:endParaRPr>
          </a:p>
        </p:txBody>
      </p:sp>
      <p:sp>
        <p:nvSpPr>
          <p:cNvPr id="1443" name="Rectangle 8"/>
          <p:cNvSpPr/>
          <p:nvPr/>
        </p:nvSpPr>
        <p:spPr>
          <a:xfrm>
            <a:off x="7596360" y="4405320"/>
            <a:ext cx="33303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a:t>
            </a:r>
            <a:endParaRPr b="0" lang="en-US" sz="1000" spc="-1" strike="noStrike">
              <a:solidFill>
                <a:srgbClr val="000000"/>
              </a:solidFill>
              <a:latin typeface="Calibri"/>
            </a:endParaRPr>
          </a:p>
        </p:txBody>
      </p:sp>
      <p:sp>
        <p:nvSpPr>
          <p:cNvPr id="1444" name="TextBox 12"/>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
        <p:nvSpPr>
          <p:cNvPr id="1445" name="TextBox 13"/>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1"/>
          <p:cNvSpPr/>
          <p:nvPr/>
        </p:nvSpPr>
        <p:spPr>
          <a:xfrm>
            <a:off x="1312920" y="873000"/>
            <a:ext cx="4432320" cy="59850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7" name="TextBox 2"/>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
        <p:nvSpPr>
          <p:cNvPr id="1448" name="TextBox 5"/>
          <p:cNvSpPr/>
          <p:nvPr/>
        </p:nvSpPr>
        <p:spPr>
          <a:xfrm>
            <a:off x="6795360" y="873000"/>
            <a:ext cx="3733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Competitors</a:t>
            </a:r>
            <a:endParaRPr b="0" lang="en-US" sz="4800" spc="-1" strike="noStrike">
              <a:solidFill>
                <a:srgbClr val="000000"/>
              </a:solidFill>
              <a:latin typeface="Calibri"/>
            </a:endParaRPr>
          </a:p>
        </p:txBody>
      </p:sp>
      <p:sp>
        <p:nvSpPr>
          <p:cNvPr id="1449" name="Rectangle 6"/>
          <p:cNvSpPr/>
          <p:nvPr/>
        </p:nvSpPr>
        <p:spPr>
          <a:xfrm>
            <a:off x="6615000" y="5268960"/>
            <a:ext cx="16401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dolor conubia mollit Sapien nam suspendisse tincidunt</a:t>
            </a:r>
            <a:endParaRPr b="0" lang="en-US" sz="1000" spc="-1" strike="noStrike">
              <a:solidFill>
                <a:srgbClr val="000000"/>
              </a:solidFill>
              <a:latin typeface="Calibri"/>
            </a:endParaRPr>
          </a:p>
        </p:txBody>
      </p:sp>
      <p:sp>
        <p:nvSpPr>
          <p:cNvPr id="1450" name="Rectangle 7"/>
          <p:cNvSpPr/>
          <p:nvPr/>
        </p:nvSpPr>
        <p:spPr>
          <a:xfrm>
            <a:off x="9196560" y="5268960"/>
            <a:ext cx="16398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dolor conubia mollit Sapien nam suspendisse tincidunt</a:t>
            </a:r>
            <a:endParaRPr b="0" lang="en-US" sz="1000" spc="-1" strike="noStrike">
              <a:solidFill>
                <a:srgbClr val="000000"/>
              </a:solidFill>
              <a:latin typeface="Calibri"/>
            </a:endParaRPr>
          </a:p>
        </p:txBody>
      </p:sp>
      <p:sp>
        <p:nvSpPr>
          <p:cNvPr id="1451" name="TextBox 8"/>
          <p:cNvSpPr/>
          <p:nvPr/>
        </p:nvSpPr>
        <p:spPr>
          <a:xfrm>
            <a:off x="6616440" y="4805280"/>
            <a:ext cx="92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Creative</a:t>
            </a:r>
            <a:endParaRPr b="0" lang="en-US" sz="1400" spc="-1" strike="noStrike">
              <a:solidFill>
                <a:srgbClr val="000000"/>
              </a:solidFill>
              <a:latin typeface="Calibri"/>
            </a:endParaRPr>
          </a:p>
        </p:txBody>
      </p:sp>
      <p:sp>
        <p:nvSpPr>
          <p:cNvPr id="1452" name="TextBox 9"/>
          <p:cNvSpPr/>
          <p:nvPr/>
        </p:nvSpPr>
        <p:spPr>
          <a:xfrm>
            <a:off x="9194400" y="4805280"/>
            <a:ext cx="79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Design</a:t>
            </a:r>
            <a:endParaRPr b="0" lang="en-US" sz="1400" spc="-1" strike="noStrike">
              <a:solidFill>
                <a:srgbClr val="000000"/>
              </a:solidFill>
              <a:latin typeface="Calibri"/>
            </a:endParaRPr>
          </a:p>
        </p:txBody>
      </p:sp>
      <p:sp>
        <p:nvSpPr>
          <p:cNvPr id="1453" name="Rectangle 18"/>
          <p:cNvSpPr/>
          <p:nvPr/>
        </p:nvSpPr>
        <p:spPr>
          <a:xfrm>
            <a:off x="6615000" y="2725560"/>
            <a:ext cx="422136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a:t>
            </a:r>
            <a:endParaRPr b="0" lang="en-US" sz="1000" spc="-1" strike="noStrike">
              <a:solidFill>
                <a:srgbClr val="000000"/>
              </a:solidFill>
              <a:latin typeface="Calibri"/>
            </a:endParaRPr>
          </a:p>
        </p:txBody>
      </p:sp>
      <p:sp>
        <p:nvSpPr>
          <p:cNvPr id="1454" name="TextBox 19"/>
          <p:cNvSpPr/>
          <p:nvPr/>
        </p:nvSpPr>
        <p:spPr>
          <a:xfrm>
            <a:off x="6603120" y="2212920"/>
            <a:ext cx="165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deas typography</a:t>
            </a:r>
            <a:endParaRPr b="0" lang="en-US" sz="1400" spc="-1" strike="noStrike">
              <a:solidFill>
                <a:srgbClr val="000000"/>
              </a:solidFill>
              <a:latin typeface="Calibri"/>
            </a:endParaRPr>
          </a:p>
        </p:txBody>
      </p:sp>
      <p:sp>
        <p:nvSpPr>
          <p:cNvPr id="1455" name="Freeform 20"/>
          <p:cNvSpPr/>
          <p:nvPr/>
        </p:nvSpPr>
        <p:spPr>
          <a:xfrm>
            <a:off x="9196560" y="4157640"/>
            <a:ext cx="406080" cy="339840"/>
          </a:xfrm>
          <a:custGeom>
            <a:avLst/>
            <a:gdLst/>
            <a:ahLst/>
            <a:rect l="l" t="t" r="r" b="b"/>
            <a:pathLst>
              <a:path w="658" h="544">
                <a:moveTo>
                  <a:pt x="539" y="0"/>
                </a:moveTo>
                <a:lnTo>
                  <a:pt x="234" y="305"/>
                </a:lnTo>
                <a:lnTo>
                  <a:pt x="119" y="190"/>
                </a:lnTo>
                <a:lnTo>
                  <a:pt x="0" y="309"/>
                </a:lnTo>
                <a:lnTo>
                  <a:pt x="115" y="424"/>
                </a:lnTo>
                <a:lnTo>
                  <a:pt x="234" y="544"/>
                </a:lnTo>
                <a:lnTo>
                  <a:pt x="354" y="424"/>
                </a:lnTo>
                <a:lnTo>
                  <a:pt x="658" y="120"/>
                </a:lnTo>
                <a:lnTo>
                  <a:pt x="539" y="0"/>
                </a:lnTo>
                <a:close/>
              </a:path>
            </a:pathLst>
          </a:custGeom>
          <a:solidFill>
            <a:srgbClr val="d9d9d9"/>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456" name="Freeform 21"/>
          <p:cNvSpPr/>
          <p:nvPr/>
        </p:nvSpPr>
        <p:spPr>
          <a:xfrm>
            <a:off x="6615000" y="4032360"/>
            <a:ext cx="446040" cy="463320"/>
          </a:xfrm>
          <a:custGeom>
            <a:avLst/>
            <a:gdLst/>
            <a:ahLst/>
            <a:rect l="l" t="t" r="r" b="b"/>
            <a:pathLst>
              <a:path w="723" h="745">
                <a:moveTo>
                  <a:pt x="650" y="478"/>
                </a:moveTo>
                <a:lnTo>
                  <a:pt x="519" y="347"/>
                </a:lnTo>
                <a:cubicBezTo>
                  <a:pt x="507" y="335"/>
                  <a:pt x="497" y="325"/>
                  <a:pt x="497" y="325"/>
                </a:cubicBezTo>
                <a:cubicBezTo>
                  <a:pt x="497" y="324"/>
                  <a:pt x="444" y="225"/>
                  <a:pt x="367" y="174"/>
                </a:cubicBezTo>
                <a:cubicBezTo>
                  <a:pt x="289" y="123"/>
                  <a:pt x="311" y="85"/>
                  <a:pt x="311" y="44"/>
                </a:cubicBezTo>
                <a:cubicBezTo>
                  <a:pt x="311" y="9"/>
                  <a:pt x="268" y="0"/>
                  <a:pt x="238" y="39"/>
                </a:cubicBezTo>
                <a:cubicBezTo>
                  <a:pt x="228" y="53"/>
                  <a:pt x="218" y="79"/>
                  <a:pt x="216" y="96"/>
                </a:cubicBezTo>
                <a:cubicBezTo>
                  <a:pt x="210" y="147"/>
                  <a:pt x="243" y="177"/>
                  <a:pt x="255" y="196"/>
                </a:cubicBezTo>
                <a:cubicBezTo>
                  <a:pt x="264" y="208"/>
                  <a:pt x="269" y="231"/>
                  <a:pt x="260" y="260"/>
                </a:cubicBezTo>
                <a:lnTo>
                  <a:pt x="61" y="260"/>
                </a:lnTo>
                <a:cubicBezTo>
                  <a:pt x="22" y="260"/>
                  <a:pt x="0" y="290"/>
                  <a:pt x="14" y="327"/>
                </a:cubicBezTo>
                <a:lnTo>
                  <a:pt x="115" y="608"/>
                </a:lnTo>
                <a:cubicBezTo>
                  <a:pt x="121" y="624"/>
                  <a:pt x="139" y="637"/>
                  <a:pt x="156" y="637"/>
                </a:cubicBezTo>
                <a:lnTo>
                  <a:pt x="395" y="637"/>
                </a:lnTo>
                <a:cubicBezTo>
                  <a:pt x="412" y="637"/>
                  <a:pt x="436" y="647"/>
                  <a:pt x="448" y="659"/>
                </a:cubicBezTo>
                <a:lnTo>
                  <a:pt x="459" y="670"/>
                </a:lnTo>
                <a:cubicBezTo>
                  <a:pt x="471" y="682"/>
                  <a:pt x="490" y="682"/>
                  <a:pt x="502" y="670"/>
                </a:cubicBezTo>
                <a:lnTo>
                  <a:pt x="650" y="522"/>
                </a:lnTo>
                <a:cubicBezTo>
                  <a:pt x="662" y="510"/>
                  <a:pt x="662" y="490"/>
                  <a:pt x="650" y="478"/>
                </a:cubicBezTo>
                <a:close/>
                <a:moveTo>
                  <a:pt x="547" y="745"/>
                </a:moveTo>
                <a:lnTo>
                  <a:pt x="507" y="705"/>
                </a:lnTo>
                <a:lnTo>
                  <a:pt x="682" y="529"/>
                </a:lnTo>
                <a:lnTo>
                  <a:pt x="723" y="569"/>
                </a:lnTo>
                <a:lnTo>
                  <a:pt x="547" y="745"/>
                </a:lnTo>
                <a:close/>
              </a:path>
            </a:pathLst>
          </a:custGeom>
          <a:solidFill>
            <a:srgbClr val="d9d9d9"/>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457" name="TextBox 22"/>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TextBox 10"/>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
        <p:nvSpPr>
          <p:cNvPr id="1459" name="TextBox 16"/>
          <p:cNvSpPr/>
          <p:nvPr/>
        </p:nvSpPr>
        <p:spPr>
          <a:xfrm>
            <a:off x="10432800" y="544680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MINIMAL_</a:t>
            </a:r>
            <a:endParaRPr b="0" lang="en-US" sz="1400" spc="-1" strike="noStrike">
              <a:solidFill>
                <a:srgbClr val="000000"/>
              </a:solidFill>
              <a:latin typeface="Calibri"/>
            </a:endParaRPr>
          </a:p>
        </p:txBody>
      </p:sp>
      <p:sp>
        <p:nvSpPr>
          <p:cNvPr id="1460" name="Rectangle 17"/>
          <p:cNvSpPr/>
          <p:nvPr/>
        </p:nvSpPr>
        <p:spPr>
          <a:xfrm>
            <a:off x="6699240" y="2709720"/>
            <a:ext cx="33210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a:t>
            </a:r>
            <a:endParaRPr b="0" lang="en-US" sz="1000" spc="-1" strike="noStrike">
              <a:solidFill>
                <a:srgbClr val="000000"/>
              </a:solidFill>
              <a:latin typeface="Calibri"/>
            </a:endParaRPr>
          </a:p>
        </p:txBody>
      </p:sp>
      <p:sp>
        <p:nvSpPr>
          <p:cNvPr id="1461" name="TextBox 18"/>
          <p:cNvSpPr/>
          <p:nvPr/>
        </p:nvSpPr>
        <p:spPr>
          <a:xfrm>
            <a:off x="6688080" y="2195640"/>
            <a:ext cx="165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deas typography</a:t>
            </a:r>
            <a:endParaRPr b="0" lang="en-US" sz="1400" spc="-1" strike="noStrike">
              <a:solidFill>
                <a:srgbClr val="000000"/>
              </a:solidFill>
              <a:latin typeface="Calibri"/>
            </a:endParaRPr>
          </a:p>
        </p:txBody>
      </p:sp>
      <p:sp>
        <p:nvSpPr>
          <p:cNvPr id="1462" name="TextBox 19"/>
          <p:cNvSpPr/>
          <p:nvPr/>
        </p:nvSpPr>
        <p:spPr>
          <a:xfrm>
            <a:off x="7592400" y="746280"/>
            <a:ext cx="2171160" cy="825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Design</a:t>
            </a:r>
            <a:endParaRPr b="0" lang="en-US" sz="4800" spc="-1" strike="noStrike">
              <a:solidFill>
                <a:srgbClr val="000000"/>
              </a:solidFill>
              <a:latin typeface="Calibri"/>
            </a:endParaRPr>
          </a:p>
        </p:txBody>
      </p:sp>
      <p:sp>
        <p:nvSpPr>
          <p:cNvPr id="1463" name="Rectangle 21"/>
          <p:cNvSpPr/>
          <p:nvPr/>
        </p:nvSpPr>
        <p:spPr>
          <a:xfrm>
            <a:off x="2590920" y="2971800"/>
            <a:ext cx="914400" cy="9144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4" name="Freeform 22"/>
          <p:cNvSpPr/>
          <p:nvPr/>
        </p:nvSpPr>
        <p:spPr>
          <a:xfrm>
            <a:off x="2784600" y="3218040"/>
            <a:ext cx="498240" cy="421920"/>
          </a:xfrm>
          <a:custGeom>
            <a:avLst/>
            <a:gdLst/>
            <a:ahLst/>
            <a:rect l="l" t="t" r="r" b="b"/>
            <a:pathLst>
              <a:path w="752" h="642">
                <a:moveTo>
                  <a:pt x="288" y="524"/>
                </a:moveTo>
                <a:cubicBezTo>
                  <a:pt x="320" y="524"/>
                  <a:pt x="347" y="550"/>
                  <a:pt x="347" y="583"/>
                </a:cubicBezTo>
                <a:cubicBezTo>
                  <a:pt x="347" y="616"/>
                  <a:pt x="320" y="642"/>
                  <a:pt x="288" y="642"/>
                </a:cubicBezTo>
                <a:cubicBezTo>
                  <a:pt x="255" y="642"/>
                  <a:pt x="228" y="616"/>
                  <a:pt x="228" y="583"/>
                </a:cubicBezTo>
                <a:cubicBezTo>
                  <a:pt x="228" y="550"/>
                  <a:pt x="255" y="524"/>
                  <a:pt x="288" y="524"/>
                </a:cubicBezTo>
                <a:close/>
                <a:moveTo>
                  <a:pt x="698" y="199"/>
                </a:moveTo>
                <a:cubicBezTo>
                  <a:pt x="622" y="199"/>
                  <a:pt x="332" y="199"/>
                  <a:pt x="332" y="199"/>
                </a:cubicBezTo>
                <a:cubicBezTo>
                  <a:pt x="332" y="199"/>
                  <a:pt x="310" y="204"/>
                  <a:pt x="310" y="228"/>
                </a:cubicBezTo>
                <a:cubicBezTo>
                  <a:pt x="310" y="251"/>
                  <a:pt x="332" y="258"/>
                  <a:pt x="332" y="258"/>
                </a:cubicBezTo>
                <a:lnTo>
                  <a:pt x="660" y="258"/>
                </a:lnTo>
                <a:lnTo>
                  <a:pt x="641" y="321"/>
                </a:lnTo>
                <a:cubicBezTo>
                  <a:pt x="551" y="321"/>
                  <a:pt x="319" y="321"/>
                  <a:pt x="319" y="321"/>
                </a:cubicBezTo>
                <a:cubicBezTo>
                  <a:pt x="319" y="321"/>
                  <a:pt x="299" y="325"/>
                  <a:pt x="299" y="347"/>
                </a:cubicBezTo>
                <a:cubicBezTo>
                  <a:pt x="299" y="370"/>
                  <a:pt x="319" y="376"/>
                  <a:pt x="319" y="376"/>
                </a:cubicBezTo>
                <a:lnTo>
                  <a:pt x="624" y="376"/>
                </a:lnTo>
                <a:lnTo>
                  <a:pt x="625" y="376"/>
                </a:lnTo>
                <a:lnTo>
                  <a:pt x="608" y="434"/>
                </a:lnTo>
                <a:lnTo>
                  <a:pt x="275" y="434"/>
                </a:lnTo>
                <a:lnTo>
                  <a:pt x="252" y="258"/>
                </a:lnTo>
                <a:lnTo>
                  <a:pt x="245" y="199"/>
                </a:lnTo>
                <a:cubicBezTo>
                  <a:pt x="245" y="199"/>
                  <a:pt x="239" y="144"/>
                  <a:pt x="235" y="121"/>
                </a:cubicBezTo>
                <a:cubicBezTo>
                  <a:pt x="232" y="99"/>
                  <a:pt x="175" y="70"/>
                  <a:pt x="52" y="12"/>
                </a:cubicBezTo>
                <a:cubicBezTo>
                  <a:pt x="24" y="0"/>
                  <a:pt x="0" y="53"/>
                  <a:pt x="52" y="81"/>
                </a:cubicBezTo>
                <a:lnTo>
                  <a:pt x="149" y="126"/>
                </a:lnTo>
                <a:cubicBezTo>
                  <a:pt x="149" y="126"/>
                  <a:pt x="171" y="139"/>
                  <a:pt x="173" y="156"/>
                </a:cubicBezTo>
                <a:cubicBezTo>
                  <a:pt x="175" y="174"/>
                  <a:pt x="214" y="464"/>
                  <a:pt x="214" y="464"/>
                </a:cubicBezTo>
                <a:cubicBezTo>
                  <a:pt x="214" y="464"/>
                  <a:pt x="216" y="504"/>
                  <a:pt x="253" y="504"/>
                </a:cubicBezTo>
                <a:cubicBezTo>
                  <a:pt x="289" y="504"/>
                  <a:pt x="590" y="504"/>
                  <a:pt x="621" y="504"/>
                </a:cubicBezTo>
                <a:cubicBezTo>
                  <a:pt x="651" y="504"/>
                  <a:pt x="657" y="472"/>
                  <a:pt x="657" y="472"/>
                </a:cubicBezTo>
                <a:lnTo>
                  <a:pt x="730" y="255"/>
                </a:lnTo>
                <a:cubicBezTo>
                  <a:pt x="730" y="255"/>
                  <a:pt x="752" y="199"/>
                  <a:pt x="698" y="199"/>
                </a:cubicBezTo>
                <a:close/>
                <a:moveTo>
                  <a:pt x="546" y="524"/>
                </a:moveTo>
                <a:cubicBezTo>
                  <a:pt x="579" y="524"/>
                  <a:pt x="606" y="550"/>
                  <a:pt x="606" y="583"/>
                </a:cubicBezTo>
                <a:cubicBezTo>
                  <a:pt x="606" y="616"/>
                  <a:pt x="579" y="642"/>
                  <a:pt x="546" y="642"/>
                </a:cubicBezTo>
                <a:cubicBezTo>
                  <a:pt x="514" y="642"/>
                  <a:pt x="487" y="616"/>
                  <a:pt x="487" y="583"/>
                </a:cubicBezTo>
                <a:cubicBezTo>
                  <a:pt x="487" y="550"/>
                  <a:pt x="514" y="524"/>
                  <a:pt x="546" y="524"/>
                </a:cubicBezTo>
                <a:close/>
              </a:path>
            </a:pathLst>
          </a:custGeom>
          <a:solidFill>
            <a:srgbClr val="767171"/>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TextBox 2"/>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
        <p:nvSpPr>
          <p:cNvPr id="1466" name="Rectangle 3"/>
          <p:cNvSpPr/>
          <p:nvPr/>
        </p:nvSpPr>
        <p:spPr>
          <a:xfrm>
            <a:off x="7230960" y="4906800"/>
            <a:ext cx="3110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a:t>
            </a:r>
            <a:endParaRPr b="0" lang="en-US" sz="1000" spc="-1" strike="noStrike">
              <a:solidFill>
                <a:srgbClr val="000000"/>
              </a:solidFill>
              <a:latin typeface="Calibri"/>
            </a:endParaRPr>
          </a:p>
        </p:txBody>
      </p:sp>
      <p:sp>
        <p:nvSpPr>
          <p:cNvPr id="1467" name="TextBox 4"/>
          <p:cNvSpPr/>
          <p:nvPr/>
        </p:nvSpPr>
        <p:spPr>
          <a:xfrm>
            <a:off x="7226280" y="3443400"/>
            <a:ext cx="1576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Good Ide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Make Everyth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s Better</a:t>
            </a:r>
            <a:endParaRPr b="0" lang="en-US" sz="1400" spc="-1" strike="noStrike">
              <a:solidFill>
                <a:srgbClr val="000000"/>
              </a:solidFill>
              <a:latin typeface="Calibri"/>
            </a:endParaRPr>
          </a:p>
        </p:txBody>
      </p:sp>
      <p:sp>
        <p:nvSpPr>
          <p:cNvPr id="1468" name="TextBox 5"/>
          <p:cNvSpPr/>
          <p:nvPr/>
        </p:nvSpPr>
        <p:spPr>
          <a:xfrm>
            <a:off x="7356600" y="704880"/>
            <a:ext cx="2433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Product</a:t>
            </a:r>
            <a:endParaRPr b="0" lang="en-US" sz="4800" spc="-1" strike="noStrike">
              <a:solidFill>
                <a:srgbClr val="000000"/>
              </a:solidFill>
              <a:latin typeface="Calibri"/>
            </a:endParaRPr>
          </a:p>
        </p:txBody>
      </p:sp>
      <p:sp>
        <p:nvSpPr>
          <p:cNvPr id="1469" name="TextBox 6"/>
          <p:cNvSpPr/>
          <p:nvPr/>
        </p:nvSpPr>
        <p:spPr>
          <a:xfrm>
            <a:off x="7364160" y="1430280"/>
            <a:ext cx="2543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Concept</a:t>
            </a:r>
            <a:endParaRPr b="0" lang="en-US" sz="4800" spc="-1" strike="noStrike">
              <a:solidFill>
                <a:srgbClr val="000000"/>
              </a:solidFill>
              <a:latin typeface="Calibri"/>
            </a:endParaRPr>
          </a:p>
        </p:txBody>
      </p:sp>
      <p:sp>
        <p:nvSpPr>
          <p:cNvPr id="1470" name="TextBox 7"/>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
        <p:nvSpPr>
          <p:cNvPr id="1471" name="Rectangle 8"/>
          <p:cNvSpPr/>
          <p:nvPr/>
        </p:nvSpPr>
        <p:spPr>
          <a:xfrm>
            <a:off x="5132520" y="2971800"/>
            <a:ext cx="914400" cy="9144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2" name="Freeform 14"/>
          <p:cNvSpPr/>
          <p:nvPr/>
        </p:nvSpPr>
        <p:spPr>
          <a:xfrm>
            <a:off x="5326200" y="3218040"/>
            <a:ext cx="496800" cy="421920"/>
          </a:xfrm>
          <a:custGeom>
            <a:avLst/>
            <a:gdLst/>
            <a:ahLst/>
            <a:rect l="l" t="t" r="r" b="b"/>
            <a:pathLst>
              <a:path w="752" h="642">
                <a:moveTo>
                  <a:pt x="288" y="524"/>
                </a:moveTo>
                <a:cubicBezTo>
                  <a:pt x="320" y="524"/>
                  <a:pt x="347" y="550"/>
                  <a:pt x="347" y="583"/>
                </a:cubicBezTo>
                <a:cubicBezTo>
                  <a:pt x="347" y="616"/>
                  <a:pt x="320" y="642"/>
                  <a:pt x="288" y="642"/>
                </a:cubicBezTo>
                <a:cubicBezTo>
                  <a:pt x="255" y="642"/>
                  <a:pt x="228" y="616"/>
                  <a:pt x="228" y="583"/>
                </a:cubicBezTo>
                <a:cubicBezTo>
                  <a:pt x="228" y="550"/>
                  <a:pt x="255" y="524"/>
                  <a:pt x="288" y="524"/>
                </a:cubicBezTo>
                <a:close/>
                <a:moveTo>
                  <a:pt x="698" y="199"/>
                </a:moveTo>
                <a:cubicBezTo>
                  <a:pt x="622" y="199"/>
                  <a:pt x="332" y="199"/>
                  <a:pt x="332" y="199"/>
                </a:cubicBezTo>
                <a:cubicBezTo>
                  <a:pt x="332" y="199"/>
                  <a:pt x="310" y="204"/>
                  <a:pt x="310" y="228"/>
                </a:cubicBezTo>
                <a:cubicBezTo>
                  <a:pt x="310" y="251"/>
                  <a:pt x="332" y="258"/>
                  <a:pt x="332" y="258"/>
                </a:cubicBezTo>
                <a:lnTo>
                  <a:pt x="660" y="258"/>
                </a:lnTo>
                <a:lnTo>
                  <a:pt x="641" y="321"/>
                </a:lnTo>
                <a:cubicBezTo>
                  <a:pt x="551" y="321"/>
                  <a:pt x="319" y="321"/>
                  <a:pt x="319" y="321"/>
                </a:cubicBezTo>
                <a:cubicBezTo>
                  <a:pt x="319" y="321"/>
                  <a:pt x="299" y="325"/>
                  <a:pt x="299" y="347"/>
                </a:cubicBezTo>
                <a:cubicBezTo>
                  <a:pt x="299" y="370"/>
                  <a:pt x="319" y="376"/>
                  <a:pt x="319" y="376"/>
                </a:cubicBezTo>
                <a:lnTo>
                  <a:pt x="624" y="376"/>
                </a:lnTo>
                <a:lnTo>
                  <a:pt x="625" y="376"/>
                </a:lnTo>
                <a:lnTo>
                  <a:pt x="608" y="434"/>
                </a:lnTo>
                <a:lnTo>
                  <a:pt x="275" y="434"/>
                </a:lnTo>
                <a:lnTo>
                  <a:pt x="252" y="258"/>
                </a:lnTo>
                <a:lnTo>
                  <a:pt x="245" y="199"/>
                </a:lnTo>
                <a:cubicBezTo>
                  <a:pt x="245" y="199"/>
                  <a:pt x="239" y="144"/>
                  <a:pt x="235" y="121"/>
                </a:cubicBezTo>
                <a:cubicBezTo>
                  <a:pt x="232" y="99"/>
                  <a:pt x="175" y="70"/>
                  <a:pt x="52" y="12"/>
                </a:cubicBezTo>
                <a:cubicBezTo>
                  <a:pt x="24" y="0"/>
                  <a:pt x="0" y="53"/>
                  <a:pt x="52" y="81"/>
                </a:cubicBezTo>
                <a:lnTo>
                  <a:pt x="149" y="126"/>
                </a:lnTo>
                <a:cubicBezTo>
                  <a:pt x="149" y="126"/>
                  <a:pt x="171" y="139"/>
                  <a:pt x="173" y="156"/>
                </a:cubicBezTo>
                <a:cubicBezTo>
                  <a:pt x="175" y="174"/>
                  <a:pt x="214" y="464"/>
                  <a:pt x="214" y="464"/>
                </a:cubicBezTo>
                <a:cubicBezTo>
                  <a:pt x="214" y="464"/>
                  <a:pt x="216" y="504"/>
                  <a:pt x="253" y="504"/>
                </a:cubicBezTo>
                <a:cubicBezTo>
                  <a:pt x="289" y="504"/>
                  <a:pt x="590" y="504"/>
                  <a:pt x="621" y="504"/>
                </a:cubicBezTo>
                <a:cubicBezTo>
                  <a:pt x="651" y="504"/>
                  <a:pt x="657" y="472"/>
                  <a:pt x="657" y="472"/>
                </a:cubicBezTo>
                <a:lnTo>
                  <a:pt x="730" y="255"/>
                </a:lnTo>
                <a:cubicBezTo>
                  <a:pt x="730" y="255"/>
                  <a:pt x="752" y="199"/>
                  <a:pt x="698" y="199"/>
                </a:cubicBezTo>
                <a:close/>
                <a:moveTo>
                  <a:pt x="546" y="524"/>
                </a:moveTo>
                <a:cubicBezTo>
                  <a:pt x="579" y="524"/>
                  <a:pt x="606" y="550"/>
                  <a:pt x="606" y="583"/>
                </a:cubicBezTo>
                <a:cubicBezTo>
                  <a:pt x="606" y="616"/>
                  <a:pt x="579" y="642"/>
                  <a:pt x="546" y="642"/>
                </a:cubicBezTo>
                <a:cubicBezTo>
                  <a:pt x="514" y="642"/>
                  <a:pt x="487" y="616"/>
                  <a:pt x="487" y="583"/>
                </a:cubicBezTo>
                <a:cubicBezTo>
                  <a:pt x="487" y="550"/>
                  <a:pt x="514" y="524"/>
                  <a:pt x="546" y="524"/>
                </a:cubicBezTo>
                <a:close/>
              </a:path>
            </a:pathLst>
          </a:custGeom>
          <a:solidFill>
            <a:srgbClr val="767171"/>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TextBox 4"/>
          <p:cNvSpPr/>
          <p:nvPr/>
        </p:nvSpPr>
        <p:spPr>
          <a:xfrm>
            <a:off x="6936840" y="930240"/>
            <a:ext cx="1101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PRESENTATION</a:t>
            </a:r>
            <a:endParaRPr b="0" lang="en-US" sz="1000" spc="-1" strike="noStrike">
              <a:solidFill>
                <a:srgbClr val="000000"/>
              </a:solidFill>
              <a:latin typeface="Calibri"/>
            </a:endParaRPr>
          </a:p>
        </p:txBody>
      </p:sp>
      <p:sp>
        <p:nvSpPr>
          <p:cNvPr id="1339" name="TextBox 5"/>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
        <p:nvSpPr>
          <p:cNvPr id="1340" name="Rectangle 7"/>
          <p:cNvSpPr/>
          <p:nvPr/>
        </p:nvSpPr>
        <p:spPr>
          <a:xfrm>
            <a:off x="4732200" y="3274920"/>
            <a:ext cx="6153120" cy="192564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1" name="TextBox 8"/>
          <p:cNvSpPr/>
          <p:nvPr/>
        </p:nvSpPr>
        <p:spPr>
          <a:xfrm>
            <a:off x="6864120" y="1984320"/>
            <a:ext cx="2824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Welcome</a:t>
            </a:r>
            <a:endParaRPr b="0" lang="en-US" sz="4800" spc="-1" strike="noStrike">
              <a:solidFill>
                <a:srgbClr val="000000"/>
              </a:solidFill>
              <a:latin typeface="Calibri"/>
            </a:endParaRPr>
          </a:p>
        </p:txBody>
      </p:sp>
      <p:sp>
        <p:nvSpPr>
          <p:cNvPr id="1342" name="TextBox 9"/>
          <p:cNvSpPr/>
          <p:nvPr/>
        </p:nvSpPr>
        <p:spPr>
          <a:xfrm>
            <a:off x="5895000" y="3724200"/>
            <a:ext cx="382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b3838"/>
                </a:solidFill>
                <a:latin typeface="Montserrat SemiBold"/>
                <a:ea typeface="Open Sans"/>
              </a:rPr>
              <a:t>MINIMAL &amp; SIMPLE DESIGN</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b3838"/>
                </a:solidFill>
                <a:latin typeface="Montserrat SemiBold"/>
                <a:ea typeface="Open Sans"/>
              </a:rPr>
              <a:t>PRESENTATION</a:t>
            </a:r>
            <a:endParaRPr b="0" lang="en-US" sz="2200" spc="-1" strike="noStrike">
              <a:solidFill>
                <a:srgbClr val="000000"/>
              </a:solidFill>
              <a:latin typeface="Calibri"/>
            </a:endParaRPr>
          </a:p>
        </p:txBody>
      </p:sp>
      <p:sp>
        <p:nvSpPr>
          <p:cNvPr id="1343" name="TextBox 10"/>
          <p:cNvSpPr/>
          <p:nvPr/>
        </p:nvSpPr>
        <p:spPr>
          <a:xfrm>
            <a:off x="5758200" y="4635360"/>
            <a:ext cx="297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b3838"/>
                </a:solidFill>
                <a:latin typeface="Open Sans"/>
                <a:ea typeface="Open Sans"/>
              </a:rPr>
              <a:t>Creative Design Presentation Template</a:t>
            </a:r>
            <a:endParaRPr b="0" lang="en-US" sz="1200" spc="-1" strike="noStrike">
              <a:solidFill>
                <a:srgbClr val="000000"/>
              </a:solidFill>
              <a:latin typeface="Calibri"/>
            </a:endParaRPr>
          </a:p>
        </p:txBody>
      </p:sp>
      <p:sp>
        <p:nvSpPr>
          <p:cNvPr id="1344" name="TextBox 22"/>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TextBox 5"/>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
        <p:nvSpPr>
          <p:cNvPr id="1474" name="TextBox 7"/>
          <p:cNvSpPr/>
          <p:nvPr/>
        </p:nvSpPr>
        <p:spPr>
          <a:xfrm>
            <a:off x="1709280" y="260028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MINIMAL_</a:t>
            </a:r>
            <a:endParaRPr b="0" lang="en-US" sz="1400" spc="-1" strike="noStrike">
              <a:solidFill>
                <a:srgbClr val="000000"/>
              </a:solidFill>
              <a:latin typeface="Calibri"/>
            </a:endParaRPr>
          </a:p>
        </p:txBody>
      </p:sp>
      <p:sp>
        <p:nvSpPr>
          <p:cNvPr id="1475" name="TextBox 8"/>
          <p:cNvSpPr/>
          <p:nvPr/>
        </p:nvSpPr>
        <p:spPr>
          <a:xfrm>
            <a:off x="1133280" y="773280"/>
            <a:ext cx="46292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Creative layout.</a:t>
            </a:r>
            <a:endParaRPr b="0" lang="en-US" sz="4800" spc="-1" strike="noStrike">
              <a:solidFill>
                <a:srgbClr val="000000"/>
              </a:solidFill>
              <a:latin typeface="Calibri"/>
            </a:endParaRPr>
          </a:p>
        </p:txBody>
      </p:sp>
      <p:sp>
        <p:nvSpPr>
          <p:cNvPr id="1476" name="Rectangle 9"/>
          <p:cNvSpPr/>
          <p:nvPr/>
        </p:nvSpPr>
        <p:spPr>
          <a:xfrm>
            <a:off x="7053120" y="2685960"/>
            <a:ext cx="369108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a:t>
            </a:r>
            <a:endParaRPr b="0" lang="en-US" sz="1000" spc="-1" strike="noStrike">
              <a:solidFill>
                <a:srgbClr val="000000"/>
              </a:solidFill>
              <a:latin typeface="Calibri"/>
            </a:endParaRPr>
          </a:p>
        </p:txBody>
      </p:sp>
      <p:sp>
        <p:nvSpPr>
          <p:cNvPr id="1477" name="TextBox 10"/>
          <p:cNvSpPr/>
          <p:nvPr/>
        </p:nvSpPr>
        <p:spPr>
          <a:xfrm>
            <a:off x="7041240" y="2173320"/>
            <a:ext cx="165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deas typography</a:t>
            </a:r>
            <a:endParaRPr b="0" lang="en-US" sz="1400" spc="-1" strike="noStrike">
              <a:solidFill>
                <a:srgbClr val="000000"/>
              </a:solidFill>
              <a:latin typeface="Calibri"/>
            </a:endParaRPr>
          </a:p>
        </p:txBody>
      </p:sp>
      <p:sp>
        <p:nvSpPr>
          <p:cNvPr id="1478" name="Rectangle 11"/>
          <p:cNvSpPr/>
          <p:nvPr/>
        </p:nvSpPr>
        <p:spPr>
          <a:xfrm>
            <a:off x="7053120" y="4152960"/>
            <a:ext cx="685800" cy="6858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9" name="TextBox 13"/>
          <p:cNvSpPr/>
          <p:nvPr/>
        </p:nvSpPr>
        <p:spPr>
          <a:xfrm>
            <a:off x="8062560" y="4227480"/>
            <a:ext cx="114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838"/>
                </a:solidFill>
                <a:latin typeface="Open Sans"/>
                <a:ea typeface="Open Sans"/>
              </a:rPr>
              <a:t>150K</a:t>
            </a:r>
            <a:endParaRPr b="0" lang="en-US" sz="3200" spc="-1" strike="noStrike">
              <a:solidFill>
                <a:srgbClr val="000000"/>
              </a:solidFill>
              <a:latin typeface="Calibri"/>
            </a:endParaRPr>
          </a:p>
        </p:txBody>
      </p:sp>
      <p:sp>
        <p:nvSpPr>
          <p:cNvPr id="1480" name="Rectangle 14"/>
          <p:cNvSpPr/>
          <p:nvPr/>
        </p:nvSpPr>
        <p:spPr>
          <a:xfrm>
            <a:off x="7053120" y="5221440"/>
            <a:ext cx="685800" cy="6858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1" name="TextBox 16"/>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
        <p:nvSpPr>
          <p:cNvPr id="1482" name="TextBox 17"/>
          <p:cNvSpPr/>
          <p:nvPr/>
        </p:nvSpPr>
        <p:spPr>
          <a:xfrm>
            <a:off x="8061840" y="527220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838"/>
                </a:solidFill>
                <a:latin typeface="Open Sans"/>
                <a:ea typeface="Open Sans"/>
              </a:rPr>
              <a:t>1982</a:t>
            </a:r>
            <a:endParaRPr b="0" lang="en-US" sz="3200" spc="-1" strike="noStrike">
              <a:solidFill>
                <a:srgbClr val="000000"/>
              </a:solidFill>
              <a:latin typeface="Calibri"/>
            </a:endParaRPr>
          </a:p>
        </p:txBody>
      </p:sp>
      <p:sp>
        <p:nvSpPr>
          <p:cNvPr id="1483" name="TextBox 18"/>
          <p:cNvSpPr/>
          <p:nvPr/>
        </p:nvSpPr>
        <p:spPr>
          <a:xfrm>
            <a:off x="9661680" y="431964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Number_</a:t>
            </a:r>
            <a:endParaRPr b="0" lang="en-US" sz="1400" spc="-1" strike="noStrike">
              <a:solidFill>
                <a:srgbClr val="000000"/>
              </a:solidFill>
              <a:latin typeface="Calibri"/>
            </a:endParaRPr>
          </a:p>
        </p:txBody>
      </p:sp>
      <p:sp>
        <p:nvSpPr>
          <p:cNvPr id="1484" name="TextBox 19"/>
          <p:cNvSpPr/>
          <p:nvPr/>
        </p:nvSpPr>
        <p:spPr>
          <a:xfrm>
            <a:off x="9661680" y="541008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Number_</a:t>
            </a:r>
            <a:endParaRPr b="0" lang="en-US" sz="1400" spc="-1" strike="noStrike">
              <a:solidFill>
                <a:srgbClr val="000000"/>
              </a:solidFill>
              <a:latin typeface="Calibri"/>
            </a:endParaRPr>
          </a:p>
        </p:txBody>
      </p:sp>
      <p:sp>
        <p:nvSpPr>
          <p:cNvPr id="1485" name="Freeform 20"/>
          <p:cNvSpPr/>
          <p:nvPr/>
        </p:nvSpPr>
        <p:spPr>
          <a:xfrm>
            <a:off x="7183440" y="4294080"/>
            <a:ext cx="433440" cy="360360"/>
          </a:xfrm>
          <a:custGeom>
            <a:avLst/>
            <a:gdLst/>
            <a:ahLst/>
            <a:rect l="l" t="t" r="r" b="b"/>
            <a:pathLst>
              <a:path w="658" h="544">
                <a:moveTo>
                  <a:pt x="539" y="0"/>
                </a:moveTo>
                <a:lnTo>
                  <a:pt x="234" y="305"/>
                </a:lnTo>
                <a:lnTo>
                  <a:pt x="119" y="190"/>
                </a:lnTo>
                <a:lnTo>
                  <a:pt x="0" y="309"/>
                </a:lnTo>
                <a:lnTo>
                  <a:pt x="115" y="424"/>
                </a:lnTo>
                <a:lnTo>
                  <a:pt x="234" y="544"/>
                </a:lnTo>
                <a:lnTo>
                  <a:pt x="354" y="424"/>
                </a:lnTo>
                <a:lnTo>
                  <a:pt x="658" y="120"/>
                </a:lnTo>
                <a:lnTo>
                  <a:pt x="539"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486" name="Freeform 21"/>
          <p:cNvSpPr/>
          <p:nvPr/>
        </p:nvSpPr>
        <p:spPr>
          <a:xfrm>
            <a:off x="7183440" y="5356080"/>
            <a:ext cx="433440" cy="362160"/>
          </a:xfrm>
          <a:custGeom>
            <a:avLst/>
            <a:gdLst/>
            <a:ahLst/>
            <a:rect l="l" t="t" r="r" b="b"/>
            <a:pathLst>
              <a:path w="658" h="544">
                <a:moveTo>
                  <a:pt x="539" y="0"/>
                </a:moveTo>
                <a:lnTo>
                  <a:pt x="234" y="305"/>
                </a:lnTo>
                <a:lnTo>
                  <a:pt x="119" y="190"/>
                </a:lnTo>
                <a:lnTo>
                  <a:pt x="0" y="309"/>
                </a:lnTo>
                <a:lnTo>
                  <a:pt x="115" y="424"/>
                </a:lnTo>
                <a:lnTo>
                  <a:pt x="234" y="544"/>
                </a:lnTo>
                <a:lnTo>
                  <a:pt x="354" y="424"/>
                </a:lnTo>
                <a:lnTo>
                  <a:pt x="658" y="120"/>
                </a:lnTo>
                <a:lnTo>
                  <a:pt x="539"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1"/>
          <p:cNvSpPr/>
          <p:nvPr/>
        </p:nvSpPr>
        <p:spPr>
          <a:xfrm>
            <a:off x="0" y="0"/>
            <a:ext cx="5391000" cy="68580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8" name="TextBox 4"/>
          <p:cNvSpPr/>
          <p:nvPr/>
        </p:nvSpPr>
        <p:spPr>
          <a:xfrm>
            <a:off x="1279440" y="773280"/>
            <a:ext cx="2832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Solutions</a:t>
            </a:r>
            <a:endParaRPr b="0" lang="en-US" sz="4800" spc="-1" strike="noStrike">
              <a:solidFill>
                <a:srgbClr val="000000"/>
              </a:solidFill>
              <a:latin typeface="Calibri"/>
            </a:endParaRPr>
          </a:p>
        </p:txBody>
      </p:sp>
      <p:sp>
        <p:nvSpPr>
          <p:cNvPr id="1489" name="TextBox 6"/>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
        <p:nvSpPr>
          <p:cNvPr id="1490" name="TextBox 7"/>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
        <p:nvSpPr>
          <p:cNvPr id="1491" name="TextBox 8"/>
          <p:cNvSpPr/>
          <p:nvPr/>
        </p:nvSpPr>
        <p:spPr>
          <a:xfrm>
            <a:off x="9134640" y="4443480"/>
            <a:ext cx="1806120" cy="11883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Our Company</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Business Overview</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Competition</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Creative Design</a:t>
            </a:r>
            <a:endParaRPr b="0" lang="en-US" sz="1200" spc="-1" strike="noStrike">
              <a:solidFill>
                <a:srgbClr val="000000"/>
              </a:solidFill>
              <a:latin typeface="Calibri"/>
            </a:endParaRPr>
          </a:p>
        </p:txBody>
      </p:sp>
      <p:sp>
        <p:nvSpPr>
          <p:cNvPr id="1492" name="TextBox 9"/>
          <p:cNvSpPr/>
          <p:nvPr/>
        </p:nvSpPr>
        <p:spPr>
          <a:xfrm>
            <a:off x="2114640" y="5029200"/>
            <a:ext cx="161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Features Design</a:t>
            </a:r>
            <a:endParaRPr b="0" lang="en-US" sz="1400" spc="-1" strike="noStrike">
              <a:solidFill>
                <a:srgbClr val="000000"/>
              </a:solidFill>
              <a:latin typeface="Calibri"/>
            </a:endParaRPr>
          </a:p>
        </p:txBody>
      </p:sp>
      <p:sp>
        <p:nvSpPr>
          <p:cNvPr id="1493" name="Rectangle 10"/>
          <p:cNvSpPr/>
          <p:nvPr/>
        </p:nvSpPr>
        <p:spPr>
          <a:xfrm>
            <a:off x="6524640" y="2081160"/>
            <a:ext cx="3692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a:t>
            </a:r>
            <a:r>
              <a:rPr b="0" lang="en-US" sz="1000" spc="-1" strike="noStrike">
                <a:solidFill>
                  <a:srgbClr val="7f7f7f"/>
                </a:solidFill>
                <a:latin typeface="Open Sans"/>
                <a:ea typeface="Open Sans"/>
              </a:rPr>
              <a:t> </a:t>
            </a: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a:t>
            </a:r>
            <a:endParaRPr b="0" lang="en-US" sz="1000" spc="-1" strike="noStrike">
              <a:solidFill>
                <a:srgbClr val="000000"/>
              </a:solidFill>
              <a:latin typeface="Calibri"/>
            </a:endParaRPr>
          </a:p>
        </p:txBody>
      </p:sp>
      <p:sp>
        <p:nvSpPr>
          <p:cNvPr id="1494" name="TextBox 13"/>
          <p:cNvSpPr/>
          <p:nvPr/>
        </p:nvSpPr>
        <p:spPr>
          <a:xfrm>
            <a:off x="6519600" y="819000"/>
            <a:ext cx="1576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Good Ide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Make Everyth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s Bette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TextBox 5"/>
          <p:cNvSpPr/>
          <p:nvPr/>
        </p:nvSpPr>
        <p:spPr>
          <a:xfrm>
            <a:off x="1297080" y="773280"/>
            <a:ext cx="2667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Features</a:t>
            </a:r>
            <a:endParaRPr b="0" lang="en-US" sz="4800" spc="-1" strike="noStrike">
              <a:solidFill>
                <a:srgbClr val="000000"/>
              </a:solidFill>
              <a:latin typeface="Calibri"/>
            </a:endParaRPr>
          </a:p>
        </p:txBody>
      </p:sp>
      <p:sp>
        <p:nvSpPr>
          <p:cNvPr id="1496" name="Oval 1"/>
          <p:cNvSpPr/>
          <p:nvPr/>
        </p:nvSpPr>
        <p:spPr>
          <a:xfrm>
            <a:off x="1455840" y="2266920"/>
            <a:ext cx="1428480" cy="1428840"/>
          </a:xfrm>
          <a:prstGeom prst="ellipse">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7" name="TextBox 6"/>
          <p:cNvSpPr/>
          <p:nvPr/>
        </p:nvSpPr>
        <p:spPr>
          <a:xfrm>
            <a:off x="1188000" y="4152960"/>
            <a:ext cx="196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3838"/>
                </a:solidFill>
                <a:latin typeface="Open Sans"/>
                <a:ea typeface="Open Sans"/>
              </a:rPr>
              <a:t>Good Typography</a:t>
            </a:r>
            <a:endParaRPr b="0" lang="en-US" sz="1600" spc="-1" strike="noStrike">
              <a:solidFill>
                <a:srgbClr val="000000"/>
              </a:solidFill>
              <a:latin typeface="Calibri"/>
            </a:endParaRPr>
          </a:p>
        </p:txBody>
      </p:sp>
      <p:sp>
        <p:nvSpPr>
          <p:cNvPr id="1498" name="Rectangle 7"/>
          <p:cNvSpPr/>
          <p:nvPr/>
        </p:nvSpPr>
        <p:spPr>
          <a:xfrm>
            <a:off x="1185840" y="4762440"/>
            <a:ext cx="196704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a:t>
            </a:r>
            <a:endParaRPr b="0" lang="en-US" sz="1000" spc="-1" strike="noStrike">
              <a:solidFill>
                <a:srgbClr val="000000"/>
              </a:solidFill>
              <a:latin typeface="Calibri"/>
            </a:endParaRPr>
          </a:p>
        </p:txBody>
      </p:sp>
      <p:sp>
        <p:nvSpPr>
          <p:cNvPr id="1499" name="Oval 8"/>
          <p:cNvSpPr/>
          <p:nvPr/>
        </p:nvSpPr>
        <p:spPr>
          <a:xfrm>
            <a:off x="4073400" y="2266920"/>
            <a:ext cx="1428840" cy="1428840"/>
          </a:xfrm>
          <a:prstGeom prst="ellipse">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0" name="TextBox 9"/>
          <p:cNvSpPr/>
          <p:nvPr/>
        </p:nvSpPr>
        <p:spPr>
          <a:xfrm>
            <a:off x="3805920" y="4152960"/>
            <a:ext cx="196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3838"/>
                </a:solidFill>
                <a:latin typeface="Open Sans"/>
                <a:ea typeface="Open Sans"/>
              </a:rPr>
              <a:t>Good Typography</a:t>
            </a:r>
            <a:endParaRPr b="0" lang="en-US" sz="1600" spc="-1" strike="noStrike">
              <a:solidFill>
                <a:srgbClr val="000000"/>
              </a:solidFill>
              <a:latin typeface="Calibri"/>
            </a:endParaRPr>
          </a:p>
        </p:txBody>
      </p:sp>
      <p:sp>
        <p:nvSpPr>
          <p:cNvPr id="1501" name="Rectangle 10"/>
          <p:cNvSpPr/>
          <p:nvPr/>
        </p:nvSpPr>
        <p:spPr>
          <a:xfrm>
            <a:off x="3803760" y="4762440"/>
            <a:ext cx="1966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a:t>
            </a:r>
            <a:endParaRPr b="0" lang="en-US" sz="1000" spc="-1" strike="noStrike">
              <a:solidFill>
                <a:srgbClr val="000000"/>
              </a:solidFill>
              <a:latin typeface="Calibri"/>
            </a:endParaRPr>
          </a:p>
        </p:txBody>
      </p:sp>
      <p:sp>
        <p:nvSpPr>
          <p:cNvPr id="1502" name="Oval 18"/>
          <p:cNvSpPr/>
          <p:nvPr/>
        </p:nvSpPr>
        <p:spPr>
          <a:xfrm>
            <a:off x="6689880" y="2266920"/>
            <a:ext cx="1428480" cy="1428840"/>
          </a:xfrm>
          <a:prstGeom prst="ellipse">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3" name="TextBox 19"/>
          <p:cNvSpPr/>
          <p:nvPr/>
        </p:nvSpPr>
        <p:spPr>
          <a:xfrm>
            <a:off x="6423480" y="4152960"/>
            <a:ext cx="196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3838"/>
                </a:solidFill>
                <a:latin typeface="Open Sans"/>
                <a:ea typeface="Open Sans"/>
              </a:rPr>
              <a:t>Good Typography</a:t>
            </a:r>
            <a:endParaRPr b="0" lang="en-US" sz="1600" spc="-1" strike="noStrike">
              <a:solidFill>
                <a:srgbClr val="000000"/>
              </a:solidFill>
              <a:latin typeface="Calibri"/>
            </a:endParaRPr>
          </a:p>
        </p:txBody>
      </p:sp>
      <p:sp>
        <p:nvSpPr>
          <p:cNvPr id="1504" name="Rectangle 20"/>
          <p:cNvSpPr/>
          <p:nvPr/>
        </p:nvSpPr>
        <p:spPr>
          <a:xfrm>
            <a:off x="6421320" y="4762440"/>
            <a:ext cx="196704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a:t>
            </a:r>
            <a:endParaRPr b="0" lang="en-US" sz="1000" spc="-1" strike="noStrike">
              <a:solidFill>
                <a:srgbClr val="000000"/>
              </a:solidFill>
              <a:latin typeface="Calibri"/>
            </a:endParaRPr>
          </a:p>
        </p:txBody>
      </p:sp>
      <p:sp>
        <p:nvSpPr>
          <p:cNvPr id="1505" name="Oval 21"/>
          <p:cNvSpPr/>
          <p:nvPr/>
        </p:nvSpPr>
        <p:spPr>
          <a:xfrm>
            <a:off x="9307440" y="2266920"/>
            <a:ext cx="1428840" cy="1428840"/>
          </a:xfrm>
          <a:prstGeom prst="ellipse">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6" name="TextBox 22"/>
          <p:cNvSpPr/>
          <p:nvPr/>
        </p:nvSpPr>
        <p:spPr>
          <a:xfrm>
            <a:off x="9041400" y="4152960"/>
            <a:ext cx="1962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3838"/>
                </a:solidFill>
                <a:latin typeface="Open Sans"/>
                <a:ea typeface="Open Sans"/>
              </a:rPr>
              <a:t>Good Typography</a:t>
            </a:r>
            <a:endParaRPr b="0" lang="en-US" sz="1600" spc="-1" strike="noStrike">
              <a:solidFill>
                <a:srgbClr val="000000"/>
              </a:solidFill>
              <a:latin typeface="Calibri"/>
            </a:endParaRPr>
          </a:p>
        </p:txBody>
      </p:sp>
      <p:sp>
        <p:nvSpPr>
          <p:cNvPr id="1507" name="Rectangle 23"/>
          <p:cNvSpPr/>
          <p:nvPr/>
        </p:nvSpPr>
        <p:spPr>
          <a:xfrm>
            <a:off x="9039240" y="4762440"/>
            <a:ext cx="196704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a:t>
            </a:r>
            <a:endParaRPr b="0" lang="en-US" sz="1000" spc="-1" strike="noStrike">
              <a:solidFill>
                <a:srgbClr val="000000"/>
              </a:solidFill>
              <a:latin typeface="Calibri"/>
            </a:endParaRPr>
          </a:p>
        </p:txBody>
      </p:sp>
      <p:sp>
        <p:nvSpPr>
          <p:cNvPr id="1508" name="Freeform 25"/>
          <p:cNvSpPr/>
          <p:nvPr/>
        </p:nvSpPr>
        <p:spPr>
          <a:xfrm>
            <a:off x="1987560" y="2711520"/>
            <a:ext cx="365040" cy="471240"/>
          </a:xfrm>
          <a:custGeom>
            <a:avLst/>
            <a:gdLst/>
            <a:ahLst/>
            <a:rect l="l" t="t" r="r" b="b"/>
            <a:pathLst>
              <a:path w="553" h="710">
                <a:moveTo>
                  <a:pt x="277" y="0"/>
                </a:moveTo>
                <a:cubicBezTo>
                  <a:pt x="365" y="0"/>
                  <a:pt x="437" y="72"/>
                  <a:pt x="437" y="161"/>
                </a:cubicBezTo>
                <a:cubicBezTo>
                  <a:pt x="437" y="250"/>
                  <a:pt x="365" y="322"/>
                  <a:pt x="277" y="322"/>
                </a:cubicBezTo>
                <a:cubicBezTo>
                  <a:pt x="188" y="322"/>
                  <a:pt x="116" y="250"/>
                  <a:pt x="116" y="161"/>
                </a:cubicBezTo>
                <a:cubicBezTo>
                  <a:pt x="116" y="72"/>
                  <a:pt x="188" y="0"/>
                  <a:pt x="277" y="0"/>
                </a:cubicBezTo>
                <a:close/>
                <a:moveTo>
                  <a:pt x="277" y="390"/>
                </a:moveTo>
                <a:lnTo>
                  <a:pt x="277" y="390"/>
                </a:lnTo>
                <a:cubicBezTo>
                  <a:pt x="288" y="390"/>
                  <a:pt x="297" y="399"/>
                  <a:pt x="298" y="410"/>
                </a:cubicBezTo>
                <a:lnTo>
                  <a:pt x="312" y="601"/>
                </a:lnTo>
                <a:lnTo>
                  <a:pt x="339" y="601"/>
                </a:lnTo>
                <a:lnTo>
                  <a:pt x="403" y="361"/>
                </a:lnTo>
                <a:cubicBezTo>
                  <a:pt x="489" y="382"/>
                  <a:pt x="553" y="461"/>
                  <a:pt x="553" y="553"/>
                </a:cubicBezTo>
                <a:lnTo>
                  <a:pt x="553" y="710"/>
                </a:lnTo>
                <a:lnTo>
                  <a:pt x="0" y="710"/>
                </a:lnTo>
                <a:lnTo>
                  <a:pt x="0" y="553"/>
                </a:lnTo>
                <a:cubicBezTo>
                  <a:pt x="0" y="461"/>
                  <a:pt x="64" y="382"/>
                  <a:pt x="150" y="361"/>
                </a:cubicBezTo>
                <a:lnTo>
                  <a:pt x="215" y="601"/>
                </a:lnTo>
                <a:lnTo>
                  <a:pt x="241" y="601"/>
                </a:lnTo>
                <a:lnTo>
                  <a:pt x="255" y="410"/>
                </a:lnTo>
                <a:cubicBezTo>
                  <a:pt x="256" y="399"/>
                  <a:pt x="265" y="390"/>
                  <a:pt x="277" y="39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509" name="Freeform 26"/>
          <p:cNvSpPr/>
          <p:nvPr/>
        </p:nvSpPr>
        <p:spPr>
          <a:xfrm>
            <a:off x="4608360" y="2790720"/>
            <a:ext cx="357480" cy="381240"/>
          </a:xfrm>
          <a:custGeom>
            <a:avLst/>
            <a:gdLst/>
            <a:ahLst/>
            <a:rect l="l" t="t" r="r" b="b"/>
            <a:pathLst>
              <a:path w="543" h="574">
                <a:moveTo>
                  <a:pt x="350" y="393"/>
                </a:moveTo>
                <a:lnTo>
                  <a:pt x="368" y="382"/>
                </a:lnTo>
                <a:lnTo>
                  <a:pt x="385" y="370"/>
                </a:lnTo>
                <a:lnTo>
                  <a:pt x="415" y="346"/>
                </a:lnTo>
                <a:lnTo>
                  <a:pt x="442" y="322"/>
                </a:lnTo>
                <a:lnTo>
                  <a:pt x="465" y="297"/>
                </a:lnTo>
                <a:lnTo>
                  <a:pt x="483" y="273"/>
                </a:lnTo>
                <a:lnTo>
                  <a:pt x="499" y="250"/>
                </a:lnTo>
                <a:lnTo>
                  <a:pt x="511" y="227"/>
                </a:lnTo>
                <a:lnTo>
                  <a:pt x="521" y="206"/>
                </a:lnTo>
                <a:lnTo>
                  <a:pt x="529" y="186"/>
                </a:lnTo>
                <a:lnTo>
                  <a:pt x="534" y="168"/>
                </a:lnTo>
                <a:lnTo>
                  <a:pt x="538" y="152"/>
                </a:lnTo>
                <a:lnTo>
                  <a:pt x="540" y="139"/>
                </a:lnTo>
                <a:lnTo>
                  <a:pt x="541" y="126"/>
                </a:lnTo>
                <a:lnTo>
                  <a:pt x="543" y="118"/>
                </a:lnTo>
                <a:lnTo>
                  <a:pt x="543" y="113"/>
                </a:lnTo>
                <a:lnTo>
                  <a:pt x="543" y="112"/>
                </a:lnTo>
                <a:lnTo>
                  <a:pt x="543" y="105"/>
                </a:lnTo>
                <a:lnTo>
                  <a:pt x="543" y="99"/>
                </a:lnTo>
                <a:lnTo>
                  <a:pt x="543" y="95"/>
                </a:lnTo>
                <a:lnTo>
                  <a:pt x="543" y="93"/>
                </a:lnTo>
                <a:lnTo>
                  <a:pt x="543" y="90"/>
                </a:lnTo>
                <a:lnTo>
                  <a:pt x="543" y="90"/>
                </a:lnTo>
                <a:lnTo>
                  <a:pt x="543" y="88"/>
                </a:lnTo>
                <a:lnTo>
                  <a:pt x="541" y="83"/>
                </a:lnTo>
                <a:lnTo>
                  <a:pt x="540" y="76"/>
                </a:lnTo>
                <a:lnTo>
                  <a:pt x="537" y="67"/>
                </a:lnTo>
                <a:lnTo>
                  <a:pt x="532" y="57"/>
                </a:lnTo>
                <a:lnTo>
                  <a:pt x="524" y="50"/>
                </a:lnTo>
                <a:lnTo>
                  <a:pt x="514" y="45"/>
                </a:lnTo>
                <a:lnTo>
                  <a:pt x="499" y="43"/>
                </a:lnTo>
                <a:lnTo>
                  <a:pt x="491" y="43"/>
                </a:lnTo>
                <a:lnTo>
                  <a:pt x="482" y="43"/>
                </a:lnTo>
                <a:lnTo>
                  <a:pt x="476" y="43"/>
                </a:lnTo>
                <a:lnTo>
                  <a:pt x="474" y="43"/>
                </a:lnTo>
                <a:lnTo>
                  <a:pt x="468" y="44"/>
                </a:lnTo>
                <a:lnTo>
                  <a:pt x="461" y="47"/>
                </a:lnTo>
                <a:lnTo>
                  <a:pt x="458" y="50"/>
                </a:lnTo>
                <a:lnTo>
                  <a:pt x="455" y="54"/>
                </a:lnTo>
                <a:lnTo>
                  <a:pt x="453" y="61"/>
                </a:lnTo>
                <a:lnTo>
                  <a:pt x="453" y="63"/>
                </a:lnTo>
                <a:lnTo>
                  <a:pt x="453" y="65"/>
                </a:lnTo>
                <a:lnTo>
                  <a:pt x="451" y="65"/>
                </a:lnTo>
                <a:lnTo>
                  <a:pt x="446" y="66"/>
                </a:lnTo>
                <a:lnTo>
                  <a:pt x="438" y="68"/>
                </a:lnTo>
                <a:lnTo>
                  <a:pt x="428" y="68"/>
                </a:lnTo>
                <a:lnTo>
                  <a:pt x="428" y="61"/>
                </a:lnTo>
                <a:lnTo>
                  <a:pt x="428" y="50"/>
                </a:lnTo>
                <a:lnTo>
                  <a:pt x="429" y="39"/>
                </a:lnTo>
                <a:lnTo>
                  <a:pt x="429" y="28"/>
                </a:lnTo>
                <a:lnTo>
                  <a:pt x="430" y="17"/>
                </a:lnTo>
                <a:lnTo>
                  <a:pt x="431" y="9"/>
                </a:lnTo>
                <a:lnTo>
                  <a:pt x="431" y="3"/>
                </a:lnTo>
                <a:lnTo>
                  <a:pt x="431" y="0"/>
                </a:lnTo>
                <a:lnTo>
                  <a:pt x="396" y="4"/>
                </a:lnTo>
                <a:lnTo>
                  <a:pt x="361" y="8"/>
                </a:lnTo>
                <a:lnTo>
                  <a:pt x="329" y="10"/>
                </a:lnTo>
                <a:lnTo>
                  <a:pt x="299" y="11"/>
                </a:lnTo>
                <a:lnTo>
                  <a:pt x="271" y="11"/>
                </a:lnTo>
                <a:lnTo>
                  <a:pt x="245" y="11"/>
                </a:lnTo>
                <a:lnTo>
                  <a:pt x="222" y="10"/>
                </a:lnTo>
                <a:lnTo>
                  <a:pt x="200" y="10"/>
                </a:lnTo>
                <a:lnTo>
                  <a:pt x="180" y="9"/>
                </a:lnTo>
                <a:lnTo>
                  <a:pt x="163" y="7"/>
                </a:lnTo>
                <a:lnTo>
                  <a:pt x="149" y="5"/>
                </a:lnTo>
                <a:lnTo>
                  <a:pt x="137" y="4"/>
                </a:lnTo>
                <a:lnTo>
                  <a:pt x="128" y="2"/>
                </a:lnTo>
                <a:lnTo>
                  <a:pt x="121" y="2"/>
                </a:lnTo>
                <a:lnTo>
                  <a:pt x="117" y="0"/>
                </a:lnTo>
                <a:lnTo>
                  <a:pt x="115" y="0"/>
                </a:lnTo>
                <a:lnTo>
                  <a:pt x="115" y="13"/>
                </a:lnTo>
                <a:lnTo>
                  <a:pt x="115" y="22"/>
                </a:lnTo>
                <a:lnTo>
                  <a:pt x="115" y="32"/>
                </a:lnTo>
                <a:lnTo>
                  <a:pt x="115" y="39"/>
                </a:lnTo>
                <a:lnTo>
                  <a:pt x="115" y="51"/>
                </a:lnTo>
                <a:lnTo>
                  <a:pt x="115" y="60"/>
                </a:lnTo>
                <a:lnTo>
                  <a:pt x="115" y="65"/>
                </a:lnTo>
                <a:lnTo>
                  <a:pt x="115" y="67"/>
                </a:lnTo>
                <a:lnTo>
                  <a:pt x="115" y="68"/>
                </a:lnTo>
                <a:lnTo>
                  <a:pt x="115" y="68"/>
                </a:lnTo>
                <a:lnTo>
                  <a:pt x="105" y="68"/>
                </a:lnTo>
                <a:lnTo>
                  <a:pt x="98" y="66"/>
                </a:lnTo>
                <a:lnTo>
                  <a:pt x="96" y="65"/>
                </a:lnTo>
                <a:lnTo>
                  <a:pt x="94" y="65"/>
                </a:lnTo>
                <a:lnTo>
                  <a:pt x="94" y="63"/>
                </a:lnTo>
                <a:lnTo>
                  <a:pt x="93" y="61"/>
                </a:lnTo>
                <a:lnTo>
                  <a:pt x="89" y="54"/>
                </a:lnTo>
                <a:lnTo>
                  <a:pt x="83" y="47"/>
                </a:lnTo>
                <a:lnTo>
                  <a:pt x="79" y="44"/>
                </a:lnTo>
                <a:lnTo>
                  <a:pt x="73" y="43"/>
                </a:lnTo>
                <a:lnTo>
                  <a:pt x="70" y="43"/>
                </a:lnTo>
                <a:lnTo>
                  <a:pt x="65" y="43"/>
                </a:lnTo>
                <a:lnTo>
                  <a:pt x="57" y="43"/>
                </a:lnTo>
                <a:lnTo>
                  <a:pt x="47" y="43"/>
                </a:lnTo>
                <a:lnTo>
                  <a:pt x="33" y="45"/>
                </a:lnTo>
                <a:lnTo>
                  <a:pt x="22" y="50"/>
                </a:lnTo>
                <a:lnTo>
                  <a:pt x="13" y="57"/>
                </a:lnTo>
                <a:lnTo>
                  <a:pt x="8" y="67"/>
                </a:lnTo>
                <a:lnTo>
                  <a:pt x="3" y="76"/>
                </a:lnTo>
                <a:lnTo>
                  <a:pt x="2" y="83"/>
                </a:lnTo>
                <a:lnTo>
                  <a:pt x="1" y="88"/>
                </a:lnTo>
                <a:lnTo>
                  <a:pt x="0" y="90"/>
                </a:lnTo>
                <a:lnTo>
                  <a:pt x="0" y="97"/>
                </a:lnTo>
                <a:lnTo>
                  <a:pt x="0" y="102"/>
                </a:lnTo>
                <a:lnTo>
                  <a:pt x="0" y="106"/>
                </a:lnTo>
                <a:lnTo>
                  <a:pt x="0" y="108"/>
                </a:lnTo>
                <a:lnTo>
                  <a:pt x="0" y="111"/>
                </a:lnTo>
                <a:lnTo>
                  <a:pt x="0" y="112"/>
                </a:lnTo>
                <a:lnTo>
                  <a:pt x="0" y="113"/>
                </a:lnTo>
                <a:lnTo>
                  <a:pt x="1" y="118"/>
                </a:lnTo>
                <a:lnTo>
                  <a:pt x="1" y="126"/>
                </a:lnTo>
                <a:lnTo>
                  <a:pt x="2" y="139"/>
                </a:lnTo>
                <a:lnTo>
                  <a:pt x="6" y="152"/>
                </a:lnTo>
                <a:lnTo>
                  <a:pt x="9" y="168"/>
                </a:lnTo>
                <a:lnTo>
                  <a:pt x="16" y="186"/>
                </a:lnTo>
                <a:lnTo>
                  <a:pt x="23" y="206"/>
                </a:lnTo>
                <a:lnTo>
                  <a:pt x="34" y="227"/>
                </a:lnTo>
                <a:lnTo>
                  <a:pt x="46" y="250"/>
                </a:lnTo>
                <a:lnTo>
                  <a:pt x="62" y="273"/>
                </a:lnTo>
                <a:lnTo>
                  <a:pt x="81" y="297"/>
                </a:lnTo>
                <a:lnTo>
                  <a:pt x="104" y="322"/>
                </a:lnTo>
                <a:lnTo>
                  <a:pt x="131" y="346"/>
                </a:lnTo>
                <a:lnTo>
                  <a:pt x="161" y="370"/>
                </a:lnTo>
                <a:lnTo>
                  <a:pt x="196" y="393"/>
                </a:lnTo>
                <a:lnTo>
                  <a:pt x="197" y="394"/>
                </a:lnTo>
                <a:lnTo>
                  <a:pt x="201" y="397"/>
                </a:lnTo>
                <a:lnTo>
                  <a:pt x="205" y="400"/>
                </a:lnTo>
                <a:lnTo>
                  <a:pt x="211" y="404"/>
                </a:lnTo>
                <a:lnTo>
                  <a:pt x="218" y="409"/>
                </a:lnTo>
                <a:lnTo>
                  <a:pt x="228" y="411"/>
                </a:lnTo>
                <a:lnTo>
                  <a:pt x="237" y="414"/>
                </a:lnTo>
                <a:lnTo>
                  <a:pt x="248" y="415"/>
                </a:lnTo>
                <a:lnTo>
                  <a:pt x="248" y="423"/>
                </a:lnTo>
                <a:lnTo>
                  <a:pt x="248" y="429"/>
                </a:lnTo>
                <a:lnTo>
                  <a:pt x="248" y="434"/>
                </a:lnTo>
                <a:lnTo>
                  <a:pt x="248" y="438"/>
                </a:lnTo>
                <a:lnTo>
                  <a:pt x="248" y="440"/>
                </a:lnTo>
                <a:lnTo>
                  <a:pt x="248" y="440"/>
                </a:lnTo>
                <a:lnTo>
                  <a:pt x="247" y="440"/>
                </a:lnTo>
                <a:lnTo>
                  <a:pt x="245" y="440"/>
                </a:lnTo>
                <a:lnTo>
                  <a:pt x="237" y="440"/>
                </a:lnTo>
                <a:lnTo>
                  <a:pt x="230" y="443"/>
                </a:lnTo>
                <a:lnTo>
                  <a:pt x="228" y="445"/>
                </a:lnTo>
                <a:lnTo>
                  <a:pt x="226" y="449"/>
                </a:lnTo>
                <a:lnTo>
                  <a:pt x="228" y="455"/>
                </a:lnTo>
                <a:lnTo>
                  <a:pt x="230" y="459"/>
                </a:lnTo>
                <a:lnTo>
                  <a:pt x="234" y="461"/>
                </a:lnTo>
                <a:lnTo>
                  <a:pt x="237" y="462"/>
                </a:lnTo>
                <a:lnTo>
                  <a:pt x="245" y="462"/>
                </a:lnTo>
                <a:lnTo>
                  <a:pt x="247" y="462"/>
                </a:lnTo>
                <a:lnTo>
                  <a:pt x="248" y="462"/>
                </a:lnTo>
                <a:lnTo>
                  <a:pt x="248" y="471"/>
                </a:lnTo>
                <a:lnTo>
                  <a:pt x="248" y="477"/>
                </a:lnTo>
                <a:lnTo>
                  <a:pt x="248" y="482"/>
                </a:lnTo>
                <a:lnTo>
                  <a:pt x="248" y="485"/>
                </a:lnTo>
                <a:lnTo>
                  <a:pt x="248" y="488"/>
                </a:lnTo>
                <a:lnTo>
                  <a:pt x="248" y="488"/>
                </a:lnTo>
                <a:lnTo>
                  <a:pt x="247" y="489"/>
                </a:lnTo>
                <a:lnTo>
                  <a:pt x="247" y="491"/>
                </a:lnTo>
                <a:lnTo>
                  <a:pt x="245" y="498"/>
                </a:lnTo>
                <a:lnTo>
                  <a:pt x="239" y="506"/>
                </a:lnTo>
                <a:lnTo>
                  <a:pt x="235" y="508"/>
                </a:lnTo>
                <a:lnTo>
                  <a:pt x="231" y="509"/>
                </a:lnTo>
                <a:lnTo>
                  <a:pt x="230" y="517"/>
                </a:lnTo>
                <a:lnTo>
                  <a:pt x="226" y="522"/>
                </a:lnTo>
                <a:lnTo>
                  <a:pt x="223" y="525"/>
                </a:lnTo>
                <a:lnTo>
                  <a:pt x="218" y="528"/>
                </a:lnTo>
                <a:lnTo>
                  <a:pt x="209" y="530"/>
                </a:lnTo>
                <a:lnTo>
                  <a:pt x="206" y="530"/>
                </a:lnTo>
                <a:lnTo>
                  <a:pt x="205" y="530"/>
                </a:lnTo>
                <a:lnTo>
                  <a:pt x="205" y="531"/>
                </a:lnTo>
                <a:lnTo>
                  <a:pt x="202" y="531"/>
                </a:lnTo>
                <a:lnTo>
                  <a:pt x="195" y="535"/>
                </a:lnTo>
                <a:lnTo>
                  <a:pt x="188" y="541"/>
                </a:lnTo>
                <a:lnTo>
                  <a:pt x="185" y="546"/>
                </a:lnTo>
                <a:lnTo>
                  <a:pt x="184" y="552"/>
                </a:lnTo>
                <a:lnTo>
                  <a:pt x="184" y="553"/>
                </a:lnTo>
                <a:lnTo>
                  <a:pt x="184" y="555"/>
                </a:lnTo>
                <a:lnTo>
                  <a:pt x="185" y="563"/>
                </a:lnTo>
                <a:lnTo>
                  <a:pt x="188" y="566"/>
                </a:lnTo>
                <a:lnTo>
                  <a:pt x="191" y="570"/>
                </a:lnTo>
                <a:lnTo>
                  <a:pt x="197" y="572"/>
                </a:lnTo>
                <a:lnTo>
                  <a:pt x="205" y="574"/>
                </a:lnTo>
                <a:lnTo>
                  <a:pt x="212" y="574"/>
                </a:lnTo>
                <a:lnTo>
                  <a:pt x="220" y="574"/>
                </a:lnTo>
                <a:lnTo>
                  <a:pt x="240" y="574"/>
                </a:lnTo>
                <a:lnTo>
                  <a:pt x="262" y="574"/>
                </a:lnTo>
                <a:lnTo>
                  <a:pt x="285" y="574"/>
                </a:lnTo>
                <a:lnTo>
                  <a:pt x="305" y="574"/>
                </a:lnTo>
                <a:lnTo>
                  <a:pt x="314" y="574"/>
                </a:lnTo>
                <a:lnTo>
                  <a:pt x="322" y="574"/>
                </a:lnTo>
                <a:lnTo>
                  <a:pt x="328" y="574"/>
                </a:lnTo>
                <a:lnTo>
                  <a:pt x="333" y="574"/>
                </a:lnTo>
                <a:lnTo>
                  <a:pt x="337" y="574"/>
                </a:lnTo>
                <a:lnTo>
                  <a:pt x="338" y="574"/>
                </a:lnTo>
                <a:lnTo>
                  <a:pt x="345" y="572"/>
                </a:lnTo>
                <a:lnTo>
                  <a:pt x="350" y="570"/>
                </a:lnTo>
                <a:lnTo>
                  <a:pt x="355" y="566"/>
                </a:lnTo>
                <a:lnTo>
                  <a:pt x="358" y="563"/>
                </a:lnTo>
                <a:lnTo>
                  <a:pt x="362" y="555"/>
                </a:lnTo>
                <a:lnTo>
                  <a:pt x="362" y="553"/>
                </a:lnTo>
                <a:lnTo>
                  <a:pt x="363" y="552"/>
                </a:lnTo>
                <a:lnTo>
                  <a:pt x="363" y="551"/>
                </a:lnTo>
                <a:lnTo>
                  <a:pt x="362" y="548"/>
                </a:lnTo>
                <a:lnTo>
                  <a:pt x="360" y="541"/>
                </a:lnTo>
                <a:lnTo>
                  <a:pt x="357" y="537"/>
                </a:lnTo>
                <a:lnTo>
                  <a:pt x="352" y="534"/>
                </a:lnTo>
                <a:lnTo>
                  <a:pt x="346" y="531"/>
                </a:lnTo>
                <a:lnTo>
                  <a:pt x="338" y="530"/>
                </a:lnTo>
                <a:lnTo>
                  <a:pt x="331" y="530"/>
                </a:lnTo>
                <a:lnTo>
                  <a:pt x="325" y="526"/>
                </a:lnTo>
                <a:lnTo>
                  <a:pt x="321" y="523"/>
                </a:lnTo>
                <a:lnTo>
                  <a:pt x="318" y="518"/>
                </a:lnTo>
                <a:lnTo>
                  <a:pt x="316" y="509"/>
                </a:lnTo>
                <a:lnTo>
                  <a:pt x="316" y="506"/>
                </a:lnTo>
                <a:lnTo>
                  <a:pt x="316" y="505"/>
                </a:lnTo>
                <a:lnTo>
                  <a:pt x="315" y="506"/>
                </a:lnTo>
                <a:lnTo>
                  <a:pt x="312" y="506"/>
                </a:lnTo>
                <a:lnTo>
                  <a:pt x="305" y="505"/>
                </a:lnTo>
                <a:lnTo>
                  <a:pt x="302" y="502"/>
                </a:lnTo>
                <a:lnTo>
                  <a:pt x="298" y="500"/>
                </a:lnTo>
                <a:lnTo>
                  <a:pt x="295" y="495"/>
                </a:lnTo>
                <a:lnTo>
                  <a:pt x="294" y="488"/>
                </a:lnTo>
                <a:lnTo>
                  <a:pt x="294" y="479"/>
                </a:lnTo>
                <a:lnTo>
                  <a:pt x="294" y="473"/>
                </a:lnTo>
                <a:lnTo>
                  <a:pt x="294" y="468"/>
                </a:lnTo>
                <a:lnTo>
                  <a:pt x="294" y="466"/>
                </a:lnTo>
                <a:lnTo>
                  <a:pt x="294" y="462"/>
                </a:lnTo>
                <a:lnTo>
                  <a:pt x="294" y="462"/>
                </a:lnTo>
                <a:lnTo>
                  <a:pt x="295" y="462"/>
                </a:lnTo>
                <a:lnTo>
                  <a:pt x="298" y="462"/>
                </a:lnTo>
                <a:lnTo>
                  <a:pt x="305" y="462"/>
                </a:lnTo>
                <a:lnTo>
                  <a:pt x="309" y="461"/>
                </a:lnTo>
                <a:lnTo>
                  <a:pt x="312" y="459"/>
                </a:lnTo>
                <a:lnTo>
                  <a:pt x="315" y="455"/>
                </a:lnTo>
                <a:lnTo>
                  <a:pt x="316" y="449"/>
                </a:lnTo>
                <a:lnTo>
                  <a:pt x="315" y="445"/>
                </a:lnTo>
                <a:lnTo>
                  <a:pt x="312" y="443"/>
                </a:lnTo>
                <a:lnTo>
                  <a:pt x="305" y="440"/>
                </a:lnTo>
                <a:lnTo>
                  <a:pt x="298" y="440"/>
                </a:lnTo>
                <a:lnTo>
                  <a:pt x="295" y="440"/>
                </a:lnTo>
                <a:lnTo>
                  <a:pt x="294" y="440"/>
                </a:lnTo>
                <a:lnTo>
                  <a:pt x="294" y="432"/>
                </a:lnTo>
                <a:lnTo>
                  <a:pt x="294" y="426"/>
                </a:lnTo>
                <a:lnTo>
                  <a:pt x="294" y="421"/>
                </a:lnTo>
                <a:lnTo>
                  <a:pt x="294" y="419"/>
                </a:lnTo>
                <a:lnTo>
                  <a:pt x="294" y="415"/>
                </a:lnTo>
                <a:lnTo>
                  <a:pt x="294" y="415"/>
                </a:lnTo>
                <a:lnTo>
                  <a:pt x="310" y="414"/>
                </a:lnTo>
                <a:lnTo>
                  <a:pt x="325" y="409"/>
                </a:lnTo>
                <a:lnTo>
                  <a:pt x="338" y="403"/>
                </a:lnTo>
                <a:lnTo>
                  <a:pt x="350" y="393"/>
                </a:lnTo>
                <a:close/>
                <a:moveTo>
                  <a:pt x="431" y="90"/>
                </a:moveTo>
                <a:lnTo>
                  <a:pt x="436" y="90"/>
                </a:lnTo>
                <a:lnTo>
                  <a:pt x="443" y="90"/>
                </a:lnTo>
                <a:lnTo>
                  <a:pt x="449" y="90"/>
                </a:lnTo>
                <a:lnTo>
                  <a:pt x="452" y="90"/>
                </a:lnTo>
                <a:lnTo>
                  <a:pt x="453" y="90"/>
                </a:lnTo>
                <a:lnTo>
                  <a:pt x="460" y="89"/>
                </a:lnTo>
                <a:lnTo>
                  <a:pt x="465" y="87"/>
                </a:lnTo>
                <a:lnTo>
                  <a:pt x="470" y="83"/>
                </a:lnTo>
                <a:lnTo>
                  <a:pt x="474" y="79"/>
                </a:lnTo>
                <a:lnTo>
                  <a:pt x="477" y="72"/>
                </a:lnTo>
                <a:lnTo>
                  <a:pt x="478" y="70"/>
                </a:lnTo>
                <a:lnTo>
                  <a:pt x="478" y="68"/>
                </a:lnTo>
                <a:lnTo>
                  <a:pt x="486" y="70"/>
                </a:lnTo>
                <a:lnTo>
                  <a:pt x="491" y="72"/>
                </a:lnTo>
                <a:lnTo>
                  <a:pt x="494" y="76"/>
                </a:lnTo>
                <a:lnTo>
                  <a:pt x="497" y="79"/>
                </a:lnTo>
                <a:lnTo>
                  <a:pt x="499" y="87"/>
                </a:lnTo>
                <a:lnTo>
                  <a:pt x="499" y="89"/>
                </a:lnTo>
                <a:lnTo>
                  <a:pt x="499" y="90"/>
                </a:lnTo>
                <a:lnTo>
                  <a:pt x="499" y="97"/>
                </a:lnTo>
                <a:lnTo>
                  <a:pt x="499" y="102"/>
                </a:lnTo>
                <a:lnTo>
                  <a:pt x="499" y="106"/>
                </a:lnTo>
                <a:lnTo>
                  <a:pt x="499" y="108"/>
                </a:lnTo>
                <a:lnTo>
                  <a:pt x="499" y="111"/>
                </a:lnTo>
                <a:lnTo>
                  <a:pt x="499" y="112"/>
                </a:lnTo>
                <a:lnTo>
                  <a:pt x="499" y="113"/>
                </a:lnTo>
                <a:lnTo>
                  <a:pt x="499" y="116"/>
                </a:lnTo>
                <a:lnTo>
                  <a:pt x="498" y="120"/>
                </a:lnTo>
                <a:lnTo>
                  <a:pt x="497" y="128"/>
                </a:lnTo>
                <a:lnTo>
                  <a:pt x="494" y="135"/>
                </a:lnTo>
                <a:lnTo>
                  <a:pt x="492" y="146"/>
                </a:lnTo>
                <a:lnTo>
                  <a:pt x="487" y="157"/>
                </a:lnTo>
                <a:lnTo>
                  <a:pt x="482" y="169"/>
                </a:lnTo>
                <a:lnTo>
                  <a:pt x="476" y="183"/>
                </a:lnTo>
                <a:lnTo>
                  <a:pt x="468" y="198"/>
                </a:lnTo>
                <a:lnTo>
                  <a:pt x="458" y="214"/>
                </a:lnTo>
                <a:lnTo>
                  <a:pt x="447" y="231"/>
                </a:lnTo>
                <a:lnTo>
                  <a:pt x="435" y="248"/>
                </a:lnTo>
                <a:lnTo>
                  <a:pt x="420" y="266"/>
                </a:lnTo>
                <a:lnTo>
                  <a:pt x="403" y="285"/>
                </a:lnTo>
                <a:lnTo>
                  <a:pt x="384" y="303"/>
                </a:lnTo>
                <a:lnTo>
                  <a:pt x="389" y="295"/>
                </a:lnTo>
                <a:lnTo>
                  <a:pt x="394" y="285"/>
                </a:lnTo>
                <a:lnTo>
                  <a:pt x="402" y="262"/>
                </a:lnTo>
                <a:lnTo>
                  <a:pt x="411" y="237"/>
                </a:lnTo>
                <a:lnTo>
                  <a:pt x="418" y="208"/>
                </a:lnTo>
                <a:lnTo>
                  <a:pt x="423" y="179"/>
                </a:lnTo>
                <a:lnTo>
                  <a:pt x="428" y="148"/>
                </a:lnTo>
                <a:lnTo>
                  <a:pt x="430" y="118"/>
                </a:lnTo>
                <a:lnTo>
                  <a:pt x="431" y="90"/>
                </a:lnTo>
                <a:close/>
                <a:moveTo>
                  <a:pt x="154" y="308"/>
                </a:moveTo>
                <a:lnTo>
                  <a:pt x="134" y="289"/>
                </a:lnTo>
                <a:lnTo>
                  <a:pt x="117" y="271"/>
                </a:lnTo>
                <a:lnTo>
                  <a:pt x="102" y="253"/>
                </a:lnTo>
                <a:lnTo>
                  <a:pt x="89" y="234"/>
                </a:lnTo>
                <a:lnTo>
                  <a:pt x="77" y="219"/>
                </a:lnTo>
                <a:lnTo>
                  <a:pt x="69" y="202"/>
                </a:lnTo>
                <a:lnTo>
                  <a:pt x="60" y="187"/>
                </a:lnTo>
                <a:lnTo>
                  <a:pt x="54" y="174"/>
                </a:lnTo>
                <a:lnTo>
                  <a:pt x="49" y="160"/>
                </a:lnTo>
                <a:lnTo>
                  <a:pt x="46" y="150"/>
                </a:lnTo>
                <a:lnTo>
                  <a:pt x="43" y="140"/>
                </a:lnTo>
                <a:lnTo>
                  <a:pt x="41" y="131"/>
                </a:lnTo>
                <a:lnTo>
                  <a:pt x="40" y="125"/>
                </a:lnTo>
                <a:lnTo>
                  <a:pt x="39" y="120"/>
                </a:lnTo>
                <a:lnTo>
                  <a:pt x="39" y="117"/>
                </a:lnTo>
                <a:lnTo>
                  <a:pt x="39" y="116"/>
                </a:lnTo>
                <a:lnTo>
                  <a:pt x="39" y="108"/>
                </a:lnTo>
                <a:lnTo>
                  <a:pt x="39" y="103"/>
                </a:lnTo>
                <a:lnTo>
                  <a:pt x="39" y="100"/>
                </a:lnTo>
                <a:lnTo>
                  <a:pt x="39" y="97"/>
                </a:lnTo>
                <a:lnTo>
                  <a:pt x="39" y="95"/>
                </a:lnTo>
                <a:lnTo>
                  <a:pt x="39" y="94"/>
                </a:lnTo>
                <a:lnTo>
                  <a:pt x="39" y="93"/>
                </a:lnTo>
                <a:lnTo>
                  <a:pt x="39" y="90"/>
                </a:lnTo>
                <a:lnTo>
                  <a:pt x="41" y="82"/>
                </a:lnTo>
                <a:lnTo>
                  <a:pt x="43" y="77"/>
                </a:lnTo>
                <a:lnTo>
                  <a:pt x="47" y="72"/>
                </a:lnTo>
                <a:lnTo>
                  <a:pt x="53" y="70"/>
                </a:lnTo>
                <a:lnTo>
                  <a:pt x="60" y="68"/>
                </a:lnTo>
                <a:lnTo>
                  <a:pt x="60" y="70"/>
                </a:lnTo>
                <a:lnTo>
                  <a:pt x="60" y="72"/>
                </a:lnTo>
                <a:lnTo>
                  <a:pt x="63" y="82"/>
                </a:lnTo>
                <a:lnTo>
                  <a:pt x="66" y="87"/>
                </a:lnTo>
                <a:lnTo>
                  <a:pt x="71" y="90"/>
                </a:lnTo>
                <a:lnTo>
                  <a:pt x="77" y="93"/>
                </a:lnTo>
                <a:lnTo>
                  <a:pt x="86" y="94"/>
                </a:lnTo>
                <a:lnTo>
                  <a:pt x="86" y="94"/>
                </a:lnTo>
                <a:lnTo>
                  <a:pt x="88" y="94"/>
                </a:lnTo>
                <a:lnTo>
                  <a:pt x="94" y="94"/>
                </a:lnTo>
                <a:lnTo>
                  <a:pt x="102" y="94"/>
                </a:lnTo>
                <a:lnTo>
                  <a:pt x="105" y="94"/>
                </a:lnTo>
                <a:lnTo>
                  <a:pt x="106" y="94"/>
                </a:lnTo>
                <a:lnTo>
                  <a:pt x="108" y="123"/>
                </a:lnTo>
                <a:lnTo>
                  <a:pt x="110" y="152"/>
                </a:lnTo>
                <a:lnTo>
                  <a:pt x="115" y="182"/>
                </a:lnTo>
                <a:lnTo>
                  <a:pt x="121" y="213"/>
                </a:lnTo>
                <a:lnTo>
                  <a:pt x="128" y="240"/>
                </a:lnTo>
                <a:lnTo>
                  <a:pt x="136" y="267"/>
                </a:lnTo>
                <a:lnTo>
                  <a:pt x="144" y="290"/>
                </a:lnTo>
                <a:lnTo>
                  <a:pt x="149" y="300"/>
                </a:lnTo>
                <a:lnTo>
                  <a:pt x="154" y="308"/>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510" name="Freeform 281"/>
          <p:cNvSpPr/>
          <p:nvPr/>
        </p:nvSpPr>
        <p:spPr>
          <a:xfrm>
            <a:off x="9812160" y="2744640"/>
            <a:ext cx="419400" cy="406440"/>
          </a:xfrm>
          <a:custGeom>
            <a:avLst/>
            <a:gdLst/>
            <a:ahLst/>
            <a:rect l="l" t="t" r="r" b="b"/>
            <a:pathLst>
              <a:path w="632" h="613">
                <a:moveTo>
                  <a:pt x="123" y="305"/>
                </a:moveTo>
                <a:lnTo>
                  <a:pt x="300" y="305"/>
                </a:lnTo>
                <a:lnTo>
                  <a:pt x="300" y="524"/>
                </a:lnTo>
                <a:lnTo>
                  <a:pt x="299" y="525"/>
                </a:lnTo>
                <a:cubicBezTo>
                  <a:pt x="299" y="525"/>
                  <a:pt x="175" y="444"/>
                  <a:pt x="123" y="305"/>
                </a:cubicBezTo>
                <a:close/>
                <a:moveTo>
                  <a:pt x="493" y="153"/>
                </a:moveTo>
                <a:cubicBezTo>
                  <a:pt x="493" y="153"/>
                  <a:pt x="508" y="220"/>
                  <a:pt x="483" y="305"/>
                </a:cubicBezTo>
                <a:lnTo>
                  <a:pt x="304" y="305"/>
                </a:lnTo>
                <a:lnTo>
                  <a:pt x="304" y="90"/>
                </a:lnTo>
                <a:lnTo>
                  <a:pt x="304" y="90"/>
                </a:lnTo>
                <a:cubicBezTo>
                  <a:pt x="304" y="90"/>
                  <a:pt x="364" y="161"/>
                  <a:pt x="493" y="153"/>
                </a:cubicBezTo>
                <a:close/>
                <a:moveTo>
                  <a:pt x="562" y="90"/>
                </a:moveTo>
                <a:cubicBezTo>
                  <a:pt x="383" y="102"/>
                  <a:pt x="301" y="0"/>
                  <a:pt x="301" y="0"/>
                </a:cubicBezTo>
                <a:cubicBezTo>
                  <a:pt x="213" y="108"/>
                  <a:pt x="22" y="88"/>
                  <a:pt x="22" y="88"/>
                </a:cubicBezTo>
                <a:cubicBezTo>
                  <a:pt x="0" y="411"/>
                  <a:pt x="293" y="613"/>
                  <a:pt x="293" y="613"/>
                </a:cubicBezTo>
                <a:cubicBezTo>
                  <a:pt x="632" y="404"/>
                  <a:pt x="562" y="90"/>
                  <a:pt x="562" y="9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511" name="Freeform 290"/>
          <p:cNvSpPr/>
          <p:nvPr/>
        </p:nvSpPr>
        <p:spPr>
          <a:xfrm>
            <a:off x="7238880" y="2730600"/>
            <a:ext cx="331920" cy="433440"/>
          </a:xfrm>
          <a:custGeom>
            <a:avLst/>
            <a:gdLst/>
            <a:ahLst/>
            <a:rect l="l" t="t" r="r" b="b"/>
            <a:pathLst>
              <a:path w="506" h="655">
                <a:moveTo>
                  <a:pt x="437" y="144"/>
                </a:moveTo>
                <a:lnTo>
                  <a:pt x="472" y="76"/>
                </a:lnTo>
                <a:lnTo>
                  <a:pt x="504" y="6"/>
                </a:lnTo>
                <a:lnTo>
                  <a:pt x="424" y="3"/>
                </a:lnTo>
                <a:lnTo>
                  <a:pt x="343" y="0"/>
                </a:lnTo>
                <a:lnTo>
                  <a:pt x="375" y="40"/>
                </a:lnTo>
                <a:lnTo>
                  <a:pt x="6" y="259"/>
                </a:lnTo>
                <a:lnTo>
                  <a:pt x="2" y="349"/>
                </a:lnTo>
                <a:lnTo>
                  <a:pt x="403" y="99"/>
                </a:lnTo>
                <a:lnTo>
                  <a:pt x="437" y="144"/>
                </a:lnTo>
                <a:close/>
                <a:moveTo>
                  <a:pt x="356" y="181"/>
                </a:moveTo>
                <a:lnTo>
                  <a:pt x="506" y="181"/>
                </a:lnTo>
                <a:lnTo>
                  <a:pt x="506" y="655"/>
                </a:lnTo>
                <a:lnTo>
                  <a:pt x="356" y="655"/>
                </a:lnTo>
                <a:lnTo>
                  <a:pt x="356" y="181"/>
                </a:lnTo>
                <a:close/>
                <a:moveTo>
                  <a:pt x="178" y="280"/>
                </a:moveTo>
                <a:lnTo>
                  <a:pt x="328" y="280"/>
                </a:lnTo>
                <a:lnTo>
                  <a:pt x="328" y="655"/>
                </a:lnTo>
                <a:lnTo>
                  <a:pt x="178" y="655"/>
                </a:lnTo>
                <a:lnTo>
                  <a:pt x="178" y="280"/>
                </a:lnTo>
                <a:close/>
                <a:moveTo>
                  <a:pt x="0" y="381"/>
                </a:moveTo>
                <a:lnTo>
                  <a:pt x="150" y="381"/>
                </a:lnTo>
                <a:lnTo>
                  <a:pt x="150" y="655"/>
                </a:lnTo>
                <a:lnTo>
                  <a:pt x="0" y="655"/>
                </a:lnTo>
                <a:lnTo>
                  <a:pt x="0" y="381"/>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TextBox 2"/>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
        <p:nvSpPr>
          <p:cNvPr id="1513" name="TextBox 3"/>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
        <p:nvSpPr>
          <p:cNvPr id="1514" name="Rectangle 4"/>
          <p:cNvSpPr/>
          <p:nvPr/>
        </p:nvSpPr>
        <p:spPr>
          <a:xfrm>
            <a:off x="4216320" y="1665360"/>
            <a:ext cx="3855960" cy="107784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5" name="Rectangle 6"/>
          <p:cNvSpPr/>
          <p:nvPr/>
        </p:nvSpPr>
        <p:spPr>
          <a:xfrm>
            <a:off x="6232680" y="4788000"/>
            <a:ext cx="42400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a:t>
            </a:r>
            <a:r>
              <a:rPr b="0" lang="en-US" sz="1000" spc="-1" strike="noStrike">
                <a:solidFill>
                  <a:srgbClr val="7f7f7f"/>
                </a:solidFill>
                <a:latin typeface="Open Sans"/>
                <a:ea typeface="Open Sans"/>
              </a:rPr>
              <a:t> </a:t>
            </a:r>
            <a:r>
              <a:rPr b="0" lang="id-ID" sz="1000" spc="-1" strike="noStrike">
                <a:solidFill>
                  <a:srgbClr val="7f7f7f"/>
                </a:solidFill>
                <a:latin typeface="Open Sans"/>
                <a:ea typeface="Open Sans"/>
              </a:rPr>
              <a:t>Lorem ipsum dolor sit amet  lacus nulla ac netus nibh aliquet, porttitor ligula justo libero</a:t>
            </a:r>
            <a:endParaRPr b="0" lang="en-US" sz="1000" spc="-1" strike="noStrike">
              <a:solidFill>
                <a:srgbClr val="000000"/>
              </a:solidFill>
              <a:latin typeface="Calibri"/>
            </a:endParaRPr>
          </a:p>
        </p:txBody>
      </p:sp>
      <p:sp>
        <p:nvSpPr>
          <p:cNvPr id="1516" name="TextBox 8"/>
          <p:cNvSpPr/>
          <p:nvPr/>
        </p:nvSpPr>
        <p:spPr>
          <a:xfrm>
            <a:off x="6220800" y="4202280"/>
            <a:ext cx="165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deas typography</a:t>
            </a:r>
            <a:endParaRPr b="0" lang="en-US" sz="1400" spc="-1" strike="noStrike">
              <a:solidFill>
                <a:srgbClr val="000000"/>
              </a:solidFill>
              <a:latin typeface="Calibri"/>
            </a:endParaRPr>
          </a:p>
        </p:txBody>
      </p:sp>
      <p:sp>
        <p:nvSpPr>
          <p:cNvPr id="1517" name="TextBox 9"/>
          <p:cNvSpPr/>
          <p:nvPr/>
        </p:nvSpPr>
        <p:spPr>
          <a:xfrm>
            <a:off x="8663040" y="2382840"/>
            <a:ext cx="1806120" cy="11883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Our Company</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Business Overview</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Competition</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Creative Design</a:t>
            </a:r>
            <a:endParaRPr b="0" lang="en-US" sz="1200" spc="-1" strike="noStrike">
              <a:solidFill>
                <a:srgbClr val="000000"/>
              </a:solidFill>
              <a:latin typeface="Calibri"/>
            </a:endParaRPr>
          </a:p>
        </p:txBody>
      </p:sp>
      <p:sp>
        <p:nvSpPr>
          <p:cNvPr id="1518" name="TextBox 10"/>
          <p:cNvSpPr/>
          <p:nvPr/>
        </p:nvSpPr>
        <p:spPr>
          <a:xfrm>
            <a:off x="4902480" y="1789200"/>
            <a:ext cx="2483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Picture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TextBox 2"/>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
        <p:nvSpPr>
          <p:cNvPr id="1520" name="TextBox 3"/>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
        <p:nvSpPr>
          <p:cNvPr id="1521" name="TextBox 4"/>
          <p:cNvSpPr/>
          <p:nvPr/>
        </p:nvSpPr>
        <p:spPr>
          <a:xfrm rot="16200000">
            <a:off x="5579280" y="4013640"/>
            <a:ext cx="161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9efe2"/>
                </a:solidFill>
                <a:latin typeface="Open Sans"/>
                <a:ea typeface="Open Sans"/>
              </a:rPr>
              <a:t>40M</a:t>
            </a:r>
            <a:endParaRPr b="0" lang="en-US" sz="5400" spc="-1" strike="noStrike">
              <a:solidFill>
                <a:srgbClr val="000000"/>
              </a:solidFill>
              <a:latin typeface="Calibri"/>
            </a:endParaRPr>
          </a:p>
        </p:txBody>
      </p:sp>
      <p:sp>
        <p:nvSpPr>
          <p:cNvPr id="1522" name="TextBox 5"/>
          <p:cNvSpPr/>
          <p:nvPr/>
        </p:nvSpPr>
        <p:spPr>
          <a:xfrm rot="16200000">
            <a:off x="5441400" y="2344320"/>
            <a:ext cx="18907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Open Sans"/>
                <a:ea typeface="Open Sans"/>
              </a:rPr>
              <a:t>Good Typography</a:t>
            </a:r>
            <a:endParaRPr b="0" lang="en-US" sz="1600" spc="-1" strike="noStrike">
              <a:solidFill>
                <a:srgbClr val="000000"/>
              </a:solidFill>
              <a:latin typeface="Calibri"/>
            </a:endParaRPr>
          </a:p>
        </p:txBody>
      </p:sp>
      <p:sp>
        <p:nvSpPr>
          <p:cNvPr id="1523" name="Rectangle 6"/>
          <p:cNvSpPr/>
          <p:nvPr/>
        </p:nvSpPr>
        <p:spPr>
          <a:xfrm>
            <a:off x="1590840" y="2008080"/>
            <a:ext cx="36925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a:t>
            </a:r>
            <a:endParaRPr b="0" lang="en-US" sz="1000" spc="-1" strike="noStrike">
              <a:solidFill>
                <a:srgbClr val="000000"/>
              </a:solidFill>
              <a:latin typeface="Calibri"/>
            </a:endParaRPr>
          </a:p>
        </p:txBody>
      </p:sp>
      <p:sp>
        <p:nvSpPr>
          <p:cNvPr id="1524" name="TextBox 7"/>
          <p:cNvSpPr/>
          <p:nvPr/>
        </p:nvSpPr>
        <p:spPr>
          <a:xfrm>
            <a:off x="1579680" y="1494000"/>
            <a:ext cx="165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deas typography</a:t>
            </a:r>
            <a:endParaRPr b="0" lang="en-US" sz="1400" spc="-1" strike="noStrike">
              <a:solidFill>
                <a:srgbClr val="000000"/>
              </a:solidFill>
              <a:latin typeface="Calibri"/>
            </a:endParaRPr>
          </a:p>
        </p:txBody>
      </p:sp>
      <p:sp>
        <p:nvSpPr>
          <p:cNvPr id="1525" name="TextBox 8"/>
          <p:cNvSpPr/>
          <p:nvPr/>
        </p:nvSpPr>
        <p:spPr>
          <a:xfrm>
            <a:off x="1685520" y="3624120"/>
            <a:ext cx="2067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Create</a:t>
            </a:r>
            <a:endParaRPr b="0" lang="en-US" sz="4800" spc="-1" strike="noStrike">
              <a:solidFill>
                <a:srgbClr val="000000"/>
              </a:solidFill>
              <a:latin typeface="Calibri"/>
            </a:endParaRPr>
          </a:p>
        </p:txBody>
      </p:sp>
      <p:sp>
        <p:nvSpPr>
          <p:cNvPr id="1526" name="TextBox 9"/>
          <p:cNvSpPr/>
          <p:nvPr/>
        </p:nvSpPr>
        <p:spPr>
          <a:xfrm>
            <a:off x="1737360" y="4456080"/>
            <a:ext cx="2543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Concep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1"/>
          <p:cNvSpPr/>
          <p:nvPr/>
        </p:nvSpPr>
        <p:spPr>
          <a:xfrm>
            <a:off x="0" y="0"/>
            <a:ext cx="6226200" cy="68580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8" name="Rectangle 3"/>
          <p:cNvSpPr/>
          <p:nvPr/>
        </p:nvSpPr>
        <p:spPr>
          <a:xfrm>
            <a:off x="7894800" y="1719360"/>
            <a:ext cx="315108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a:t>
            </a:r>
            <a:endParaRPr b="0" lang="en-US" sz="1000" spc="-1" strike="noStrike">
              <a:solidFill>
                <a:srgbClr val="000000"/>
              </a:solidFill>
              <a:latin typeface="Calibri"/>
            </a:endParaRPr>
          </a:p>
        </p:txBody>
      </p:sp>
      <p:sp>
        <p:nvSpPr>
          <p:cNvPr id="1529" name="TextBox 4"/>
          <p:cNvSpPr/>
          <p:nvPr/>
        </p:nvSpPr>
        <p:spPr>
          <a:xfrm>
            <a:off x="7889040" y="1411200"/>
            <a:ext cx="161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Checklist Image</a:t>
            </a:r>
            <a:endParaRPr b="0" lang="en-US" sz="1400" spc="-1" strike="noStrike">
              <a:solidFill>
                <a:srgbClr val="000000"/>
              </a:solidFill>
              <a:latin typeface="Calibri"/>
            </a:endParaRPr>
          </a:p>
        </p:txBody>
      </p:sp>
      <p:sp>
        <p:nvSpPr>
          <p:cNvPr id="1530" name="Freeform 5"/>
          <p:cNvSpPr/>
          <p:nvPr/>
        </p:nvSpPr>
        <p:spPr>
          <a:xfrm>
            <a:off x="7242120" y="1527120"/>
            <a:ext cx="434880" cy="360360"/>
          </a:xfrm>
          <a:custGeom>
            <a:avLst/>
            <a:gdLst/>
            <a:ahLst/>
            <a:rect l="l" t="t" r="r" b="b"/>
            <a:pathLst>
              <a:path w="658" h="544">
                <a:moveTo>
                  <a:pt x="539" y="0"/>
                </a:moveTo>
                <a:lnTo>
                  <a:pt x="234" y="305"/>
                </a:lnTo>
                <a:lnTo>
                  <a:pt x="119" y="190"/>
                </a:lnTo>
                <a:lnTo>
                  <a:pt x="0" y="309"/>
                </a:lnTo>
                <a:lnTo>
                  <a:pt x="115" y="424"/>
                </a:lnTo>
                <a:lnTo>
                  <a:pt x="234" y="544"/>
                </a:lnTo>
                <a:lnTo>
                  <a:pt x="354" y="424"/>
                </a:lnTo>
                <a:lnTo>
                  <a:pt x="658" y="120"/>
                </a:lnTo>
                <a:lnTo>
                  <a:pt x="539"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531" name="Rectangle 6"/>
          <p:cNvSpPr/>
          <p:nvPr/>
        </p:nvSpPr>
        <p:spPr>
          <a:xfrm>
            <a:off x="7894800" y="3344760"/>
            <a:ext cx="315108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a:t>
            </a:r>
            <a:endParaRPr b="0" lang="en-US" sz="1000" spc="-1" strike="noStrike">
              <a:solidFill>
                <a:srgbClr val="000000"/>
              </a:solidFill>
              <a:latin typeface="Calibri"/>
            </a:endParaRPr>
          </a:p>
        </p:txBody>
      </p:sp>
      <p:sp>
        <p:nvSpPr>
          <p:cNvPr id="1532" name="TextBox 7"/>
          <p:cNvSpPr/>
          <p:nvPr/>
        </p:nvSpPr>
        <p:spPr>
          <a:xfrm>
            <a:off x="7889040" y="3036960"/>
            <a:ext cx="161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Checklist Image</a:t>
            </a:r>
            <a:endParaRPr b="0" lang="en-US" sz="1400" spc="-1" strike="noStrike">
              <a:solidFill>
                <a:srgbClr val="000000"/>
              </a:solidFill>
              <a:latin typeface="Calibri"/>
            </a:endParaRPr>
          </a:p>
        </p:txBody>
      </p:sp>
      <p:sp>
        <p:nvSpPr>
          <p:cNvPr id="1533" name="Freeform 8"/>
          <p:cNvSpPr/>
          <p:nvPr/>
        </p:nvSpPr>
        <p:spPr>
          <a:xfrm>
            <a:off x="7242120" y="3152880"/>
            <a:ext cx="434880" cy="360360"/>
          </a:xfrm>
          <a:custGeom>
            <a:avLst/>
            <a:gdLst/>
            <a:ahLst/>
            <a:rect l="l" t="t" r="r" b="b"/>
            <a:pathLst>
              <a:path w="658" h="544">
                <a:moveTo>
                  <a:pt x="539" y="0"/>
                </a:moveTo>
                <a:lnTo>
                  <a:pt x="234" y="305"/>
                </a:lnTo>
                <a:lnTo>
                  <a:pt x="119" y="190"/>
                </a:lnTo>
                <a:lnTo>
                  <a:pt x="0" y="309"/>
                </a:lnTo>
                <a:lnTo>
                  <a:pt x="115" y="424"/>
                </a:lnTo>
                <a:lnTo>
                  <a:pt x="234" y="544"/>
                </a:lnTo>
                <a:lnTo>
                  <a:pt x="354" y="424"/>
                </a:lnTo>
                <a:lnTo>
                  <a:pt x="658" y="120"/>
                </a:lnTo>
                <a:lnTo>
                  <a:pt x="539"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534" name="Rectangle 9"/>
          <p:cNvSpPr/>
          <p:nvPr/>
        </p:nvSpPr>
        <p:spPr>
          <a:xfrm>
            <a:off x="7894800" y="4892760"/>
            <a:ext cx="3151080" cy="550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a:t>
            </a:r>
            <a:endParaRPr b="0" lang="en-US" sz="1000" spc="-1" strike="noStrike">
              <a:solidFill>
                <a:srgbClr val="000000"/>
              </a:solidFill>
              <a:latin typeface="Calibri"/>
            </a:endParaRPr>
          </a:p>
        </p:txBody>
      </p:sp>
      <p:sp>
        <p:nvSpPr>
          <p:cNvPr id="1535" name="TextBox 10"/>
          <p:cNvSpPr/>
          <p:nvPr/>
        </p:nvSpPr>
        <p:spPr>
          <a:xfrm>
            <a:off x="7889040" y="4586400"/>
            <a:ext cx="161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Checklist Image</a:t>
            </a:r>
            <a:endParaRPr b="0" lang="en-US" sz="1400" spc="-1" strike="noStrike">
              <a:solidFill>
                <a:srgbClr val="000000"/>
              </a:solidFill>
              <a:latin typeface="Calibri"/>
            </a:endParaRPr>
          </a:p>
        </p:txBody>
      </p:sp>
      <p:sp>
        <p:nvSpPr>
          <p:cNvPr id="1536" name="Freeform 11"/>
          <p:cNvSpPr/>
          <p:nvPr/>
        </p:nvSpPr>
        <p:spPr>
          <a:xfrm>
            <a:off x="7242120" y="4702320"/>
            <a:ext cx="434880" cy="360360"/>
          </a:xfrm>
          <a:custGeom>
            <a:avLst/>
            <a:gdLst/>
            <a:ahLst/>
            <a:rect l="l" t="t" r="r" b="b"/>
            <a:pathLst>
              <a:path w="658" h="544">
                <a:moveTo>
                  <a:pt x="539" y="0"/>
                </a:moveTo>
                <a:lnTo>
                  <a:pt x="234" y="305"/>
                </a:lnTo>
                <a:lnTo>
                  <a:pt x="119" y="190"/>
                </a:lnTo>
                <a:lnTo>
                  <a:pt x="0" y="309"/>
                </a:lnTo>
                <a:lnTo>
                  <a:pt x="115" y="424"/>
                </a:lnTo>
                <a:lnTo>
                  <a:pt x="234" y="544"/>
                </a:lnTo>
                <a:lnTo>
                  <a:pt x="354" y="424"/>
                </a:lnTo>
                <a:lnTo>
                  <a:pt x="658" y="120"/>
                </a:lnTo>
                <a:lnTo>
                  <a:pt x="539"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537" name="TextBox 14"/>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TextBox 4"/>
          <p:cNvSpPr/>
          <p:nvPr/>
        </p:nvSpPr>
        <p:spPr>
          <a:xfrm>
            <a:off x="4206240" y="4211640"/>
            <a:ext cx="142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Open Sans"/>
                <a:ea typeface="Open Sans"/>
              </a:rPr>
              <a:t>Features text</a:t>
            </a:r>
            <a:endParaRPr b="0" lang="en-US" sz="1600" spc="-1" strike="noStrike">
              <a:solidFill>
                <a:srgbClr val="000000"/>
              </a:solidFill>
              <a:latin typeface="Calibri"/>
            </a:endParaRPr>
          </a:p>
        </p:txBody>
      </p:sp>
      <p:sp>
        <p:nvSpPr>
          <p:cNvPr id="1539" name="Rectangle 5"/>
          <p:cNvSpPr/>
          <p:nvPr/>
        </p:nvSpPr>
        <p:spPr>
          <a:xfrm>
            <a:off x="4206960" y="4660920"/>
            <a:ext cx="19684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a:t>
            </a:r>
            <a:endParaRPr b="0" lang="en-US" sz="1000" spc="-1" strike="noStrike">
              <a:solidFill>
                <a:srgbClr val="000000"/>
              </a:solidFill>
              <a:latin typeface="Calibri"/>
            </a:endParaRPr>
          </a:p>
        </p:txBody>
      </p:sp>
      <p:sp>
        <p:nvSpPr>
          <p:cNvPr id="1540" name="TextBox 6"/>
          <p:cNvSpPr/>
          <p:nvPr/>
        </p:nvSpPr>
        <p:spPr>
          <a:xfrm>
            <a:off x="4211280" y="35701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3838"/>
                </a:solidFill>
                <a:latin typeface="Open Sans"/>
                <a:ea typeface="Open Sans"/>
              </a:rPr>
              <a:t>01</a:t>
            </a:r>
            <a:endParaRPr b="0" lang="en-US" sz="2800" spc="-1" strike="noStrike">
              <a:solidFill>
                <a:srgbClr val="000000"/>
              </a:solidFill>
              <a:latin typeface="Calibri"/>
            </a:endParaRPr>
          </a:p>
        </p:txBody>
      </p:sp>
      <p:sp>
        <p:nvSpPr>
          <p:cNvPr id="1541" name="TextBox 7"/>
          <p:cNvSpPr/>
          <p:nvPr/>
        </p:nvSpPr>
        <p:spPr>
          <a:xfrm>
            <a:off x="6739920" y="4211640"/>
            <a:ext cx="142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Open Sans"/>
                <a:ea typeface="Open Sans"/>
              </a:rPr>
              <a:t>Features text</a:t>
            </a:r>
            <a:endParaRPr b="0" lang="en-US" sz="1600" spc="-1" strike="noStrike">
              <a:solidFill>
                <a:srgbClr val="000000"/>
              </a:solidFill>
              <a:latin typeface="Calibri"/>
            </a:endParaRPr>
          </a:p>
        </p:txBody>
      </p:sp>
      <p:sp>
        <p:nvSpPr>
          <p:cNvPr id="1542" name="Rectangle 8"/>
          <p:cNvSpPr/>
          <p:nvPr/>
        </p:nvSpPr>
        <p:spPr>
          <a:xfrm>
            <a:off x="6740640" y="4660920"/>
            <a:ext cx="1966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a:t>
            </a:r>
            <a:endParaRPr b="0" lang="en-US" sz="1000" spc="-1" strike="noStrike">
              <a:solidFill>
                <a:srgbClr val="000000"/>
              </a:solidFill>
              <a:latin typeface="Calibri"/>
            </a:endParaRPr>
          </a:p>
        </p:txBody>
      </p:sp>
      <p:sp>
        <p:nvSpPr>
          <p:cNvPr id="1543" name="TextBox 9"/>
          <p:cNvSpPr/>
          <p:nvPr/>
        </p:nvSpPr>
        <p:spPr>
          <a:xfrm>
            <a:off x="6744960" y="35701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3838"/>
                </a:solidFill>
                <a:latin typeface="Open Sans"/>
                <a:ea typeface="Open Sans"/>
              </a:rPr>
              <a:t>02</a:t>
            </a:r>
            <a:endParaRPr b="0" lang="en-US" sz="2800" spc="-1" strike="noStrike">
              <a:solidFill>
                <a:srgbClr val="000000"/>
              </a:solidFill>
              <a:latin typeface="Calibri"/>
            </a:endParaRPr>
          </a:p>
        </p:txBody>
      </p:sp>
      <p:sp>
        <p:nvSpPr>
          <p:cNvPr id="1544" name="TextBox 10"/>
          <p:cNvSpPr/>
          <p:nvPr/>
        </p:nvSpPr>
        <p:spPr>
          <a:xfrm>
            <a:off x="9273600" y="4211640"/>
            <a:ext cx="142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Open Sans"/>
                <a:ea typeface="Open Sans"/>
              </a:rPr>
              <a:t>Features text</a:t>
            </a:r>
            <a:endParaRPr b="0" lang="en-US" sz="1600" spc="-1" strike="noStrike">
              <a:solidFill>
                <a:srgbClr val="000000"/>
              </a:solidFill>
              <a:latin typeface="Calibri"/>
            </a:endParaRPr>
          </a:p>
        </p:txBody>
      </p:sp>
      <p:sp>
        <p:nvSpPr>
          <p:cNvPr id="1545" name="Rectangle 11"/>
          <p:cNvSpPr/>
          <p:nvPr/>
        </p:nvSpPr>
        <p:spPr>
          <a:xfrm>
            <a:off x="9274320" y="4660920"/>
            <a:ext cx="1966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a:t>
            </a:r>
            <a:endParaRPr b="0" lang="en-US" sz="1000" spc="-1" strike="noStrike">
              <a:solidFill>
                <a:srgbClr val="000000"/>
              </a:solidFill>
              <a:latin typeface="Calibri"/>
            </a:endParaRPr>
          </a:p>
        </p:txBody>
      </p:sp>
      <p:sp>
        <p:nvSpPr>
          <p:cNvPr id="1546" name="TextBox 12"/>
          <p:cNvSpPr/>
          <p:nvPr/>
        </p:nvSpPr>
        <p:spPr>
          <a:xfrm>
            <a:off x="9278640" y="35701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3838"/>
                </a:solidFill>
                <a:latin typeface="Open Sans"/>
                <a:ea typeface="Open Sans"/>
              </a:rPr>
              <a:t>03</a:t>
            </a:r>
            <a:endParaRPr b="0" lang="en-US" sz="2800" spc="-1" strike="noStrike">
              <a:solidFill>
                <a:srgbClr val="000000"/>
              </a:solidFill>
              <a:latin typeface="Calibri"/>
            </a:endParaRPr>
          </a:p>
        </p:txBody>
      </p:sp>
      <p:sp>
        <p:nvSpPr>
          <p:cNvPr id="1547" name="TextBox 13"/>
          <p:cNvSpPr/>
          <p:nvPr/>
        </p:nvSpPr>
        <p:spPr>
          <a:xfrm>
            <a:off x="979560" y="838080"/>
            <a:ext cx="4111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Business Plan</a:t>
            </a:r>
            <a:endParaRPr b="0" lang="en-US" sz="4800" spc="-1" strike="noStrike">
              <a:solidFill>
                <a:srgbClr val="000000"/>
              </a:solidFill>
              <a:latin typeface="Calibri"/>
            </a:endParaRPr>
          </a:p>
        </p:txBody>
      </p:sp>
      <p:sp>
        <p:nvSpPr>
          <p:cNvPr id="1548" name="Rectangle 14"/>
          <p:cNvSpPr/>
          <p:nvPr/>
        </p:nvSpPr>
        <p:spPr>
          <a:xfrm>
            <a:off x="5834160" y="911160"/>
            <a:ext cx="681120" cy="68256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9" name="Freeform 17"/>
          <p:cNvSpPr/>
          <p:nvPr/>
        </p:nvSpPr>
        <p:spPr>
          <a:xfrm>
            <a:off x="6002280" y="1108080"/>
            <a:ext cx="344520" cy="263520"/>
          </a:xfrm>
          <a:custGeom>
            <a:avLst/>
            <a:gdLst/>
            <a:ahLst/>
            <a:rect l="l" t="t" r="r" b="b"/>
            <a:pathLst>
              <a:path w="658" h="499">
                <a:moveTo>
                  <a:pt x="395" y="349"/>
                </a:moveTo>
                <a:lnTo>
                  <a:pt x="263" y="349"/>
                </a:lnTo>
                <a:lnTo>
                  <a:pt x="263" y="288"/>
                </a:lnTo>
                <a:lnTo>
                  <a:pt x="0" y="288"/>
                </a:lnTo>
                <a:lnTo>
                  <a:pt x="0" y="469"/>
                </a:lnTo>
                <a:cubicBezTo>
                  <a:pt x="0" y="486"/>
                  <a:pt x="14" y="499"/>
                  <a:pt x="31" y="499"/>
                </a:cubicBezTo>
                <a:lnTo>
                  <a:pt x="628" y="499"/>
                </a:lnTo>
                <a:cubicBezTo>
                  <a:pt x="644" y="499"/>
                  <a:pt x="658" y="486"/>
                  <a:pt x="658" y="469"/>
                </a:cubicBezTo>
                <a:lnTo>
                  <a:pt x="658" y="288"/>
                </a:lnTo>
                <a:lnTo>
                  <a:pt x="395" y="288"/>
                </a:lnTo>
                <a:lnTo>
                  <a:pt x="395" y="349"/>
                </a:lnTo>
                <a:close/>
                <a:moveTo>
                  <a:pt x="285" y="288"/>
                </a:moveTo>
                <a:lnTo>
                  <a:pt x="373" y="288"/>
                </a:lnTo>
                <a:lnTo>
                  <a:pt x="373" y="328"/>
                </a:lnTo>
                <a:lnTo>
                  <a:pt x="285" y="328"/>
                </a:lnTo>
                <a:lnTo>
                  <a:pt x="285" y="288"/>
                </a:lnTo>
                <a:close/>
                <a:moveTo>
                  <a:pt x="248" y="77"/>
                </a:moveTo>
                <a:lnTo>
                  <a:pt x="248" y="24"/>
                </a:lnTo>
                <a:lnTo>
                  <a:pt x="392" y="24"/>
                </a:lnTo>
                <a:lnTo>
                  <a:pt x="392" y="77"/>
                </a:lnTo>
                <a:lnTo>
                  <a:pt x="248" y="77"/>
                </a:lnTo>
                <a:close/>
                <a:moveTo>
                  <a:pt x="628" y="77"/>
                </a:moveTo>
                <a:lnTo>
                  <a:pt x="423" y="77"/>
                </a:lnTo>
                <a:cubicBezTo>
                  <a:pt x="423" y="77"/>
                  <a:pt x="423" y="22"/>
                  <a:pt x="423" y="11"/>
                </a:cubicBezTo>
                <a:cubicBezTo>
                  <a:pt x="423" y="0"/>
                  <a:pt x="415" y="1"/>
                  <a:pt x="415" y="1"/>
                </a:cubicBezTo>
                <a:lnTo>
                  <a:pt x="225" y="1"/>
                </a:lnTo>
                <a:cubicBezTo>
                  <a:pt x="225" y="1"/>
                  <a:pt x="217" y="2"/>
                  <a:pt x="217" y="11"/>
                </a:cubicBezTo>
                <a:cubicBezTo>
                  <a:pt x="217" y="21"/>
                  <a:pt x="217" y="77"/>
                  <a:pt x="217" y="77"/>
                </a:cubicBezTo>
                <a:lnTo>
                  <a:pt x="31" y="77"/>
                </a:lnTo>
                <a:cubicBezTo>
                  <a:pt x="14" y="77"/>
                  <a:pt x="0" y="91"/>
                  <a:pt x="0" y="108"/>
                </a:cubicBezTo>
                <a:lnTo>
                  <a:pt x="0" y="244"/>
                </a:lnTo>
                <a:lnTo>
                  <a:pt x="658" y="244"/>
                </a:lnTo>
                <a:lnTo>
                  <a:pt x="658" y="108"/>
                </a:lnTo>
                <a:cubicBezTo>
                  <a:pt x="658" y="91"/>
                  <a:pt x="644" y="77"/>
                  <a:pt x="628" y="77"/>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550" name="Rectangle 18"/>
          <p:cNvSpPr/>
          <p:nvPr/>
        </p:nvSpPr>
        <p:spPr>
          <a:xfrm>
            <a:off x="3166920" y="2793960"/>
            <a:ext cx="682920" cy="68256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1" name="Freeform 19"/>
          <p:cNvSpPr/>
          <p:nvPr/>
        </p:nvSpPr>
        <p:spPr>
          <a:xfrm>
            <a:off x="3335400" y="2989440"/>
            <a:ext cx="344520" cy="264960"/>
          </a:xfrm>
          <a:custGeom>
            <a:avLst/>
            <a:gdLst/>
            <a:ahLst/>
            <a:rect l="l" t="t" r="r" b="b"/>
            <a:pathLst>
              <a:path w="658" h="499">
                <a:moveTo>
                  <a:pt x="395" y="349"/>
                </a:moveTo>
                <a:lnTo>
                  <a:pt x="263" y="349"/>
                </a:lnTo>
                <a:lnTo>
                  <a:pt x="263" y="288"/>
                </a:lnTo>
                <a:lnTo>
                  <a:pt x="0" y="288"/>
                </a:lnTo>
                <a:lnTo>
                  <a:pt x="0" y="469"/>
                </a:lnTo>
                <a:cubicBezTo>
                  <a:pt x="0" y="486"/>
                  <a:pt x="14" y="499"/>
                  <a:pt x="31" y="499"/>
                </a:cubicBezTo>
                <a:lnTo>
                  <a:pt x="628" y="499"/>
                </a:lnTo>
                <a:cubicBezTo>
                  <a:pt x="644" y="499"/>
                  <a:pt x="658" y="486"/>
                  <a:pt x="658" y="469"/>
                </a:cubicBezTo>
                <a:lnTo>
                  <a:pt x="658" y="288"/>
                </a:lnTo>
                <a:lnTo>
                  <a:pt x="395" y="288"/>
                </a:lnTo>
                <a:lnTo>
                  <a:pt x="395" y="349"/>
                </a:lnTo>
                <a:close/>
                <a:moveTo>
                  <a:pt x="285" y="288"/>
                </a:moveTo>
                <a:lnTo>
                  <a:pt x="373" y="288"/>
                </a:lnTo>
                <a:lnTo>
                  <a:pt x="373" y="328"/>
                </a:lnTo>
                <a:lnTo>
                  <a:pt x="285" y="328"/>
                </a:lnTo>
                <a:lnTo>
                  <a:pt x="285" y="288"/>
                </a:lnTo>
                <a:close/>
                <a:moveTo>
                  <a:pt x="248" y="77"/>
                </a:moveTo>
                <a:lnTo>
                  <a:pt x="248" y="24"/>
                </a:lnTo>
                <a:lnTo>
                  <a:pt x="392" y="24"/>
                </a:lnTo>
                <a:lnTo>
                  <a:pt x="392" y="77"/>
                </a:lnTo>
                <a:lnTo>
                  <a:pt x="248" y="77"/>
                </a:lnTo>
                <a:close/>
                <a:moveTo>
                  <a:pt x="628" y="77"/>
                </a:moveTo>
                <a:lnTo>
                  <a:pt x="423" y="77"/>
                </a:lnTo>
                <a:cubicBezTo>
                  <a:pt x="423" y="77"/>
                  <a:pt x="423" y="22"/>
                  <a:pt x="423" y="11"/>
                </a:cubicBezTo>
                <a:cubicBezTo>
                  <a:pt x="423" y="0"/>
                  <a:pt x="415" y="1"/>
                  <a:pt x="415" y="1"/>
                </a:cubicBezTo>
                <a:lnTo>
                  <a:pt x="225" y="1"/>
                </a:lnTo>
                <a:cubicBezTo>
                  <a:pt x="225" y="1"/>
                  <a:pt x="217" y="2"/>
                  <a:pt x="217" y="11"/>
                </a:cubicBezTo>
                <a:cubicBezTo>
                  <a:pt x="217" y="21"/>
                  <a:pt x="217" y="77"/>
                  <a:pt x="217" y="77"/>
                </a:cubicBezTo>
                <a:lnTo>
                  <a:pt x="31" y="77"/>
                </a:lnTo>
                <a:cubicBezTo>
                  <a:pt x="14" y="77"/>
                  <a:pt x="0" y="91"/>
                  <a:pt x="0" y="108"/>
                </a:cubicBezTo>
                <a:lnTo>
                  <a:pt x="0" y="244"/>
                </a:lnTo>
                <a:lnTo>
                  <a:pt x="658" y="244"/>
                </a:lnTo>
                <a:lnTo>
                  <a:pt x="658" y="108"/>
                </a:lnTo>
                <a:cubicBezTo>
                  <a:pt x="658" y="91"/>
                  <a:pt x="644" y="77"/>
                  <a:pt x="628" y="77"/>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TextBox 1"/>
          <p:cNvSpPr/>
          <p:nvPr/>
        </p:nvSpPr>
        <p:spPr>
          <a:xfrm>
            <a:off x="1011960" y="838080"/>
            <a:ext cx="4862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S.W.O.T Analysis</a:t>
            </a:r>
            <a:endParaRPr b="0" lang="en-US" sz="4800" spc="-1" strike="noStrike">
              <a:solidFill>
                <a:srgbClr val="000000"/>
              </a:solidFill>
              <a:latin typeface="Calibri"/>
            </a:endParaRPr>
          </a:p>
        </p:txBody>
      </p:sp>
      <p:sp>
        <p:nvSpPr>
          <p:cNvPr id="1553" name="Rectangle 3"/>
          <p:cNvSpPr/>
          <p:nvPr/>
        </p:nvSpPr>
        <p:spPr>
          <a:xfrm flipV="1">
            <a:off x="4429080" y="3288600"/>
            <a:ext cx="1666800" cy="13842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4" name="Rectangle 4"/>
          <p:cNvSpPr/>
          <p:nvPr/>
        </p:nvSpPr>
        <p:spPr>
          <a:xfrm>
            <a:off x="6823080" y="2909880"/>
            <a:ext cx="42400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a:t>
            </a:r>
            <a:r>
              <a:rPr b="0" lang="en-US" sz="1000" spc="-1" strike="noStrike">
                <a:solidFill>
                  <a:srgbClr val="7f7f7f"/>
                </a:solidFill>
                <a:latin typeface="Open Sans"/>
                <a:ea typeface="Open Sans"/>
              </a:rPr>
              <a:t> </a:t>
            </a:r>
            <a:r>
              <a:rPr b="0" lang="id-ID" sz="1000" spc="-1" strike="noStrike">
                <a:solidFill>
                  <a:srgbClr val="7f7f7f"/>
                </a:solidFill>
                <a:latin typeface="Open Sans"/>
                <a:ea typeface="Open Sans"/>
              </a:rPr>
              <a:t>Lorem ipsum dolor sit amet  lacus nulla ac netus nibh aliquet, porttitor ligula justo libero</a:t>
            </a:r>
            <a:endParaRPr b="0" lang="en-US" sz="1000" spc="-1" strike="noStrike">
              <a:solidFill>
                <a:srgbClr val="000000"/>
              </a:solidFill>
              <a:latin typeface="Calibri"/>
            </a:endParaRPr>
          </a:p>
        </p:txBody>
      </p:sp>
      <p:sp>
        <p:nvSpPr>
          <p:cNvPr id="1555" name="TextBox 5"/>
          <p:cNvSpPr/>
          <p:nvPr/>
        </p:nvSpPr>
        <p:spPr>
          <a:xfrm>
            <a:off x="6819840" y="232416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Open Sans"/>
                <a:ea typeface="Open Sans"/>
              </a:rPr>
              <a:t>Strengths</a:t>
            </a:r>
            <a:endParaRPr b="0" lang="en-US" sz="1800" spc="-1" strike="noStrike">
              <a:solidFill>
                <a:srgbClr val="000000"/>
              </a:solidFill>
              <a:latin typeface="Calibri"/>
            </a:endParaRPr>
          </a:p>
        </p:txBody>
      </p:sp>
      <p:sp>
        <p:nvSpPr>
          <p:cNvPr id="1556" name="TextBox 6"/>
          <p:cNvSpPr/>
          <p:nvPr/>
        </p:nvSpPr>
        <p:spPr>
          <a:xfrm>
            <a:off x="9001440" y="4467240"/>
            <a:ext cx="1466280" cy="11883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50000"/>
              </a:lnSpc>
              <a:buClr>
                <a:srgbClr val="3b3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838"/>
                </a:solidFill>
                <a:latin typeface="Open Sans"/>
                <a:ea typeface="Open Sans"/>
              </a:rPr>
              <a:t>Strengths</a:t>
            </a:r>
            <a:endParaRPr b="0" lang="en-US" sz="1200" spc="-1" strike="noStrike">
              <a:solidFill>
                <a:srgbClr val="000000"/>
              </a:solidFill>
              <a:latin typeface="Calibri"/>
            </a:endParaRPr>
          </a:p>
          <a:p>
            <a:pPr marL="285840" indent="-28584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Open Sans"/>
                <a:ea typeface="Open Sans"/>
              </a:rPr>
              <a:t>Weaknesses</a:t>
            </a:r>
            <a:endParaRPr b="0" lang="en-US" sz="1200" spc="-1" strike="noStrike">
              <a:solidFill>
                <a:srgbClr val="000000"/>
              </a:solidFill>
              <a:latin typeface="Calibri"/>
            </a:endParaRPr>
          </a:p>
          <a:p>
            <a:pPr marL="285840" indent="-28584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Open Sans"/>
                <a:ea typeface="Open Sans"/>
              </a:rPr>
              <a:t>Opportunities</a:t>
            </a:r>
            <a:endParaRPr b="0" lang="en-US" sz="1200" spc="-1" strike="noStrike">
              <a:solidFill>
                <a:srgbClr val="000000"/>
              </a:solidFill>
              <a:latin typeface="Calibri"/>
            </a:endParaRPr>
          </a:p>
          <a:p>
            <a:pPr marL="285840" indent="-28584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Open Sans"/>
                <a:ea typeface="Open Sans"/>
              </a:rPr>
              <a:t>Threats</a:t>
            </a:r>
            <a:endParaRPr b="0" lang="en-US" sz="1200" spc="-1" strike="noStrike">
              <a:solidFill>
                <a:srgbClr val="000000"/>
              </a:solidFill>
              <a:latin typeface="Calibri"/>
            </a:endParaRPr>
          </a:p>
        </p:txBody>
      </p:sp>
      <p:sp>
        <p:nvSpPr>
          <p:cNvPr id="1557" name="TextBox 8"/>
          <p:cNvSpPr/>
          <p:nvPr/>
        </p:nvSpPr>
        <p:spPr>
          <a:xfrm>
            <a:off x="4937400" y="3417840"/>
            <a:ext cx="6408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b3838"/>
                </a:solidFill>
                <a:latin typeface="Montserrat SemiBold"/>
              </a:rPr>
              <a:t>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TextBox 1"/>
          <p:cNvSpPr/>
          <p:nvPr/>
        </p:nvSpPr>
        <p:spPr>
          <a:xfrm>
            <a:off x="1011960" y="838080"/>
            <a:ext cx="4862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S.W.O.T Analysis</a:t>
            </a:r>
            <a:endParaRPr b="0" lang="en-US" sz="4800" spc="-1" strike="noStrike">
              <a:solidFill>
                <a:srgbClr val="000000"/>
              </a:solidFill>
              <a:latin typeface="Calibri"/>
            </a:endParaRPr>
          </a:p>
        </p:txBody>
      </p:sp>
      <p:sp>
        <p:nvSpPr>
          <p:cNvPr id="1559" name="Rectangle 3"/>
          <p:cNvSpPr/>
          <p:nvPr/>
        </p:nvSpPr>
        <p:spPr>
          <a:xfrm flipV="1">
            <a:off x="4429080" y="3288600"/>
            <a:ext cx="1666800" cy="13842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0" name="Rectangle 4"/>
          <p:cNvSpPr/>
          <p:nvPr/>
        </p:nvSpPr>
        <p:spPr>
          <a:xfrm>
            <a:off x="6823080" y="2909880"/>
            <a:ext cx="42400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a:t>
            </a:r>
            <a:r>
              <a:rPr b="0" lang="en-US" sz="1000" spc="-1" strike="noStrike">
                <a:solidFill>
                  <a:srgbClr val="7f7f7f"/>
                </a:solidFill>
                <a:latin typeface="Open Sans"/>
                <a:ea typeface="Open Sans"/>
              </a:rPr>
              <a:t> </a:t>
            </a:r>
            <a:r>
              <a:rPr b="0" lang="id-ID" sz="1000" spc="-1" strike="noStrike">
                <a:solidFill>
                  <a:srgbClr val="7f7f7f"/>
                </a:solidFill>
                <a:latin typeface="Open Sans"/>
                <a:ea typeface="Open Sans"/>
              </a:rPr>
              <a:t>Lorem ipsum dolor sit amet  lacus nulla ac netus nibh aliquet, porttitor ligula justo libero</a:t>
            </a:r>
            <a:endParaRPr b="0" lang="en-US" sz="1000" spc="-1" strike="noStrike">
              <a:solidFill>
                <a:srgbClr val="000000"/>
              </a:solidFill>
              <a:latin typeface="Calibri"/>
            </a:endParaRPr>
          </a:p>
        </p:txBody>
      </p:sp>
      <p:sp>
        <p:nvSpPr>
          <p:cNvPr id="1561" name="TextBox 5"/>
          <p:cNvSpPr/>
          <p:nvPr/>
        </p:nvSpPr>
        <p:spPr>
          <a:xfrm>
            <a:off x="6827760" y="2324160"/>
            <a:ext cx="158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Open Sans"/>
                <a:ea typeface="Open Sans"/>
              </a:rPr>
              <a:t>Weaknesses</a:t>
            </a:r>
            <a:endParaRPr b="0" lang="en-US" sz="1800" spc="-1" strike="noStrike">
              <a:solidFill>
                <a:srgbClr val="000000"/>
              </a:solidFill>
              <a:latin typeface="Calibri"/>
            </a:endParaRPr>
          </a:p>
        </p:txBody>
      </p:sp>
      <p:sp>
        <p:nvSpPr>
          <p:cNvPr id="1562" name="TextBox 6"/>
          <p:cNvSpPr/>
          <p:nvPr/>
        </p:nvSpPr>
        <p:spPr>
          <a:xfrm>
            <a:off x="9001440" y="4467240"/>
            <a:ext cx="1466280" cy="11883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Open Sans"/>
                <a:ea typeface="Open Sans"/>
              </a:rPr>
              <a:t>Strengths</a:t>
            </a:r>
            <a:endParaRPr b="0" lang="en-US" sz="1200" spc="-1" strike="noStrike">
              <a:solidFill>
                <a:srgbClr val="000000"/>
              </a:solidFill>
              <a:latin typeface="Calibri"/>
            </a:endParaRPr>
          </a:p>
          <a:p>
            <a:pPr marL="285840" indent="-285840">
              <a:lnSpc>
                <a:spcPct val="150000"/>
              </a:lnSpc>
              <a:buClr>
                <a:srgbClr val="3b3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838"/>
                </a:solidFill>
                <a:latin typeface="Open Sans"/>
                <a:ea typeface="Open Sans"/>
              </a:rPr>
              <a:t>Weaknesses</a:t>
            </a:r>
            <a:endParaRPr b="0" lang="en-US" sz="1200" spc="-1" strike="noStrike">
              <a:solidFill>
                <a:srgbClr val="000000"/>
              </a:solidFill>
              <a:latin typeface="Calibri"/>
            </a:endParaRPr>
          </a:p>
          <a:p>
            <a:pPr marL="285840" indent="-28584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Open Sans"/>
                <a:ea typeface="Open Sans"/>
              </a:rPr>
              <a:t>Opportunities</a:t>
            </a:r>
            <a:endParaRPr b="0" lang="en-US" sz="1200" spc="-1" strike="noStrike">
              <a:solidFill>
                <a:srgbClr val="000000"/>
              </a:solidFill>
              <a:latin typeface="Calibri"/>
            </a:endParaRPr>
          </a:p>
          <a:p>
            <a:pPr marL="285840" indent="-28584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Open Sans"/>
                <a:ea typeface="Open Sans"/>
              </a:rPr>
              <a:t>Threats</a:t>
            </a:r>
            <a:endParaRPr b="0" lang="en-US" sz="1200" spc="-1" strike="noStrike">
              <a:solidFill>
                <a:srgbClr val="000000"/>
              </a:solidFill>
              <a:latin typeface="Calibri"/>
            </a:endParaRPr>
          </a:p>
        </p:txBody>
      </p:sp>
      <p:sp>
        <p:nvSpPr>
          <p:cNvPr id="1563" name="TextBox 8"/>
          <p:cNvSpPr/>
          <p:nvPr/>
        </p:nvSpPr>
        <p:spPr>
          <a:xfrm>
            <a:off x="4777200" y="3417840"/>
            <a:ext cx="9608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b3838"/>
                </a:solidFill>
                <a:latin typeface="Montserrat SemiBold"/>
              </a:rPr>
              <a:t>W</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TextBox 1"/>
          <p:cNvSpPr/>
          <p:nvPr/>
        </p:nvSpPr>
        <p:spPr>
          <a:xfrm>
            <a:off x="1011960" y="838080"/>
            <a:ext cx="4862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S.W.O.T Analysis</a:t>
            </a:r>
            <a:endParaRPr b="0" lang="en-US" sz="4800" spc="-1" strike="noStrike">
              <a:solidFill>
                <a:srgbClr val="000000"/>
              </a:solidFill>
              <a:latin typeface="Calibri"/>
            </a:endParaRPr>
          </a:p>
        </p:txBody>
      </p:sp>
      <p:sp>
        <p:nvSpPr>
          <p:cNvPr id="1565" name="Rectangle 3"/>
          <p:cNvSpPr/>
          <p:nvPr/>
        </p:nvSpPr>
        <p:spPr>
          <a:xfrm flipV="1">
            <a:off x="4429080" y="3288600"/>
            <a:ext cx="1666800" cy="13842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6" name="Rectangle 4"/>
          <p:cNvSpPr/>
          <p:nvPr/>
        </p:nvSpPr>
        <p:spPr>
          <a:xfrm>
            <a:off x="6823080" y="2909880"/>
            <a:ext cx="42400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a:t>
            </a:r>
            <a:r>
              <a:rPr b="0" lang="en-US" sz="1000" spc="-1" strike="noStrike">
                <a:solidFill>
                  <a:srgbClr val="7f7f7f"/>
                </a:solidFill>
                <a:latin typeface="Open Sans"/>
                <a:ea typeface="Open Sans"/>
              </a:rPr>
              <a:t> </a:t>
            </a:r>
            <a:r>
              <a:rPr b="0" lang="id-ID" sz="1000" spc="-1" strike="noStrike">
                <a:solidFill>
                  <a:srgbClr val="7f7f7f"/>
                </a:solidFill>
                <a:latin typeface="Open Sans"/>
                <a:ea typeface="Open Sans"/>
              </a:rPr>
              <a:t>Lorem ipsum dolor sit amet  lacus nulla ac netus nibh aliquet, porttitor ligula justo libero</a:t>
            </a:r>
            <a:endParaRPr b="0" lang="en-US" sz="1000" spc="-1" strike="noStrike">
              <a:solidFill>
                <a:srgbClr val="000000"/>
              </a:solidFill>
              <a:latin typeface="Calibri"/>
            </a:endParaRPr>
          </a:p>
        </p:txBody>
      </p:sp>
      <p:sp>
        <p:nvSpPr>
          <p:cNvPr id="1567" name="TextBox 5"/>
          <p:cNvSpPr/>
          <p:nvPr/>
        </p:nvSpPr>
        <p:spPr>
          <a:xfrm>
            <a:off x="6832800" y="2324160"/>
            <a:ext cx="178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Open Sans"/>
                <a:ea typeface="Open Sans"/>
              </a:rPr>
              <a:t>Opportunities</a:t>
            </a:r>
            <a:endParaRPr b="0" lang="en-US" sz="1800" spc="-1" strike="noStrike">
              <a:solidFill>
                <a:srgbClr val="000000"/>
              </a:solidFill>
              <a:latin typeface="Calibri"/>
            </a:endParaRPr>
          </a:p>
        </p:txBody>
      </p:sp>
      <p:sp>
        <p:nvSpPr>
          <p:cNvPr id="1568" name="TextBox 6"/>
          <p:cNvSpPr/>
          <p:nvPr/>
        </p:nvSpPr>
        <p:spPr>
          <a:xfrm>
            <a:off x="9006480" y="4467240"/>
            <a:ext cx="1536480" cy="11883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Open Sans"/>
                <a:ea typeface="Open Sans"/>
              </a:rPr>
              <a:t>Strengths</a:t>
            </a:r>
            <a:endParaRPr b="0" lang="en-US" sz="1200" spc="-1" strike="noStrike">
              <a:solidFill>
                <a:srgbClr val="000000"/>
              </a:solidFill>
              <a:latin typeface="Calibri"/>
            </a:endParaRPr>
          </a:p>
          <a:p>
            <a:pPr marL="285840" indent="-28584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Open Sans"/>
                <a:ea typeface="Open Sans"/>
              </a:rPr>
              <a:t>Weaknesses</a:t>
            </a:r>
            <a:endParaRPr b="0" lang="en-US" sz="1200" spc="-1" strike="noStrike">
              <a:solidFill>
                <a:srgbClr val="000000"/>
              </a:solidFill>
              <a:latin typeface="Calibri"/>
            </a:endParaRPr>
          </a:p>
          <a:p>
            <a:pPr marL="285840" indent="-285840">
              <a:lnSpc>
                <a:spcPct val="150000"/>
              </a:lnSpc>
              <a:buClr>
                <a:srgbClr val="3b3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838"/>
                </a:solidFill>
                <a:latin typeface="Open Sans"/>
                <a:ea typeface="Open Sans"/>
              </a:rPr>
              <a:t>Opportunities</a:t>
            </a:r>
            <a:endParaRPr b="0" lang="en-US" sz="1200" spc="-1" strike="noStrike">
              <a:solidFill>
                <a:srgbClr val="000000"/>
              </a:solidFill>
              <a:latin typeface="Calibri"/>
            </a:endParaRPr>
          </a:p>
          <a:p>
            <a:pPr marL="285840" indent="-28584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Open Sans"/>
                <a:ea typeface="Open Sans"/>
              </a:rPr>
              <a:t>Threats</a:t>
            </a:r>
            <a:endParaRPr b="0" lang="en-US" sz="1200" spc="-1" strike="noStrike">
              <a:solidFill>
                <a:srgbClr val="000000"/>
              </a:solidFill>
              <a:latin typeface="Calibri"/>
            </a:endParaRPr>
          </a:p>
        </p:txBody>
      </p:sp>
      <p:sp>
        <p:nvSpPr>
          <p:cNvPr id="1569" name="TextBox 8"/>
          <p:cNvSpPr/>
          <p:nvPr/>
        </p:nvSpPr>
        <p:spPr>
          <a:xfrm>
            <a:off x="4839840" y="3417840"/>
            <a:ext cx="835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b3838"/>
                </a:solidFill>
                <a:latin typeface="Montserrat SemiBold"/>
              </a:rPr>
              <a:t>O</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2"/>
          <p:cNvSpPr/>
          <p:nvPr/>
        </p:nvSpPr>
        <p:spPr>
          <a:xfrm>
            <a:off x="0" y="0"/>
            <a:ext cx="5748480" cy="68580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6" name="TextBox 3"/>
          <p:cNvSpPr/>
          <p:nvPr/>
        </p:nvSpPr>
        <p:spPr>
          <a:xfrm>
            <a:off x="7140960" y="1935000"/>
            <a:ext cx="2764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Contents</a:t>
            </a:r>
            <a:endParaRPr b="0" lang="en-US" sz="4800" spc="-1" strike="noStrike">
              <a:solidFill>
                <a:srgbClr val="000000"/>
              </a:solidFill>
              <a:latin typeface="Calibri"/>
            </a:endParaRPr>
          </a:p>
        </p:txBody>
      </p:sp>
      <p:sp>
        <p:nvSpPr>
          <p:cNvPr id="1347" name="TextBox 4"/>
          <p:cNvSpPr/>
          <p:nvPr/>
        </p:nvSpPr>
        <p:spPr>
          <a:xfrm>
            <a:off x="7000200" y="2855880"/>
            <a:ext cx="2619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MINIMAL &amp; SIMPLE 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PRESENTATION</a:t>
            </a:r>
            <a:endParaRPr b="0" lang="en-US" sz="1400" spc="-1" strike="noStrike">
              <a:solidFill>
                <a:srgbClr val="000000"/>
              </a:solidFill>
              <a:latin typeface="Calibri"/>
            </a:endParaRPr>
          </a:p>
        </p:txBody>
      </p:sp>
      <p:sp>
        <p:nvSpPr>
          <p:cNvPr id="1348" name="TextBox 5"/>
          <p:cNvSpPr/>
          <p:nvPr/>
        </p:nvSpPr>
        <p:spPr>
          <a:xfrm>
            <a:off x="7013160" y="4137120"/>
            <a:ext cx="2126160" cy="173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Our Company</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Business Overview</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Competition &amp; Analysis</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Support Team</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Info data &amp; Mockup</a:t>
            </a:r>
            <a:endParaRPr b="0" lang="en-US" sz="1200" spc="-1" strike="noStrike">
              <a:solidFill>
                <a:srgbClr val="000000"/>
              </a:solidFill>
              <a:latin typeface="Calibri"/>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Free Icons</a:t>
            </a:r>
            <a:endParaRPr b="0" lang="en-US" sz="1200" spc="-1" strike="noStrike">
              <a:solidFill>
                <a:srgbClr val="000000"/>
              </a:solidFill>
              <a:latin typeface="Calibri"/>
            </a:endParaRPr>
          </a:p>
        </p:txBody>
      </p:sp>
      <p:sp>
        <p:nvSpPr>
          <p:cNvPr id="1349" name="TextBox 6"/>
          <p:cNvSpPr/>
          <p:nvPr/>
        </p:nvSpPr>
        <p:spPr>
          <a:xfrm>
            <a:off x="6936840" y="930240"/>
            <a:ext cx="1101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PRESENTATION</a:t>
            </a:r>
            <a:endParaRPr b="0" lang="en-US" sz="1000" spc="-1" strike="noStrike">
              <a:solidFill>
                <a:srgbClr val="000000"/>
              </a:solidFill>
              <a:latin typeface="Calibri"/>
            </a:endParaRPr>
          </a:p>
        </p:txBody>
      </p:sp>
      <p:sp>
        <p:nvSpPr>
          <p:cNvPr id="1350" name="TextBox 7"/>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
        <p:nvSpPr>
          <p:cNvPr id="1351" name="TextBox 15"/>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TextBox 1"/>
          <p:cNvSpPr/>
          <p:nvPr/>
        </p:nvSpPr>
        <p:spPr>
          <a:xfrm>
            <a:off x="1011960" y="838080"/>
            <a:ext cx="4862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S.W.O.T Analysis</a:t>
            </a:r>
            <a:endParaRPr b="0" lang="en-US" sz="4800" spc="-1" strike="noStrike">
              <a:solidFill>
                <a:srgbClr val="000000"/>
              </a:solidFill>
              <a:latin typeface="Calibri"/>
            </a:endParaRPr>
          </a:p>
        </p:txBody>
      </p:sp>
      <p:sp>
        <p:nvSpPr>
          <p:cNvPr id="1571" name="Rectangle 3"/>
          <p:cNvSpPr/>
          <p:nvPr/>
        </p:nvSpPr>
        <p:spPr>
          <a:xfrm flipV="1">
            <a:off x="4429080" y="3288600"/>
            <a:ext cx="1666800" cy="13842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2" name="Rectangle 4"/>
          <p:cNvSpPr/>
          <p:nvPr/>
        </p:nvSpPr>
        <p:spPr>
          <a:xfrm>
            <a:off x="6823080" y="2909880"/>
            <a:ext cx="42400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a:t>
            </a:r>
            <a:r>
              <a:rPr b="0" lang="en-US" sz="1000" spc="-1" strike="noStrike">
                <a:solidFill>
                  <a:srgbClr val="7f7f7f"/>
                </a:solidFill>
                <a:latin typeface="Open Sans"/>
                <a:ea typeface="Open Sans"/>
              </a:rPr>
              <a:t> </a:t>
            </a:r>
            <a:r>
              <a:rPr b="0" lang="id-ID" sz="1000" spc="-1" strike="noStrike">
                <a:solidFill>
                  <a:srgbClr val="7f7f7f"/>
                </a:solidFill>
                <a:latin typeface="Open Sans"/>
                <a:ea typeface="Open Sans"/>
              </a:rPr>
              <a:t>Lorem ipsum dolor sit amet  lacus nulla ac netus nibh aliquet, porttitor ligula justo libero</a:t>
            </a:r>
            <a:endParaRPr b="0" lang="en-US" sz="1000" spc="-1" strike="noStrike">
              <a:solidFill>
                <a:srgbClr val="000000"/>
              </a:solidFill>
              <a:latin typeface="Calibri"/>
            </a:endParaRPr>
          </a:p>
        </p:txBody>
      </p:sp>
      <p:sp>
        <p:nvSpPr>
          <p:cNvPr id="1573" name="TextBox 5"/>
          <p:cNvSpPr/>
          <p:nvPr/>
        </p:nvSpPr>
        <p:spPr>
          <a:xfrm>
            <a:off x="6825600" y="232416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Open Sans"/>
                <a:ea typeface="Open Sans"/>
              </a:rPr>
              <a:t>Threats</a:t>
            </a:r>
            <a:endParaRPr b="0" lang="en-US" sz="1800" spc="-1" strike="noStrike">
              <a:solidFill>
                <a:srgbClr val="000000"/>
              </a:solidFill>
              <a:latin typeface="Calibri"/>
            </a:endParaRPr>
          </a:p>
        </p:txBody>
      </p:sp>
      <p:sp>
        <p:nvSpPr>
          <p:cNvPr id="1574" name="TextBox 6"/>
          <p:cNvSpPr/>
          <p:nvPr/>
        </p:nvSpPr>
        <p:spPr>
          <a:xfrm>
            <a:off x="9001440" y="4467240"/>
            <a:ext cx="1466280" cy="11883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Open Sans"/>
                <a:ea typeface="Open Sans"/>
              </a:rPr>
              <a:t>Strengths</a:t>
            </a:r>
            <a:endParaRPr b="0" lang="en-US" sz="1200" spc="-1" strike="noStrike">
              <a:solidFill>
                <a:srgbClr val="000000"/>
              </a:solidFill>
              <a:latin typeface="Calibri"/>
            </a:endParaRPr>
          </a:p>
          <a:p>
            <a:pPr marL="285840" indent="-28584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Open Sans"/>
                <a:ea typeface="Open Sans"/>
              </a:rPr>
              <a:t>Weaknesses</a:t>
            </a:r>
            <a:endParaRPr b="0" lang="en-US" sz="1200" spc="-1" strike="noStrike">
              <a:solidFill>
                <a:srgbClr val="000000"/>
              </a:solidFill>
              <a:latin typeface="Calibri"/>
            </a:endParaRPr>
          </a:p>
          <a:p>
            <a:pPr marL="285840" indent="-28584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Open Sans"/>
                <a:ea typeface="Open Sans"/>
              </a:rPr>
              <a:t>Opportunities</a:t>
            </a:r>
            <a:endParaRPr b="0" lang="en-US" sz="1200" spc="-1" strike="noStrike">
              <a:solidFill>
                <a:srgbClr val="000000"/>
              </a:solidFill>
              <a:latin typeface="Calibri"/>
            </a:endParaRPr>
          </a:p>
          <a:p>
            <a:pPr marL="285840" indent="-285840">
              <a:lnSpc>
                <a:spcPct val="150000"/>
              </a:lnSpc>
              <a:buClr>
                <a:srgbClr val="3b38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838"/>
                </a:solidFill>
                <a:latin typeface="Open Sans"/>
                <a:ea typeface="Open Sans"/>
              </a:rPr>
              <a:t>Threats</a:t>
            </a:r>
            <a:endParaRPr b="0" lang="en-US" sz="1200" spc="-1" strike="noStrike">
              <a:solidFill>
                <a:srgbClr val="000000"/>
              </a:solidFill>
              <a:latin typeface="Calibri"/>
            </a:endParaRPr>
          </a:p>
        </p:txBody>
      </p:sp>
      <p:sp>
        <p:nvSpPr>
          <p:cNvPr id="1575" name="TextBox 8"/>
          <p:cNvSpPr/>
          <p:nvPr/>
        </p:nvSpPr>
        <p:spPr>
          <a:xfrm>
            <a:off x="4934160" y="3417840"/>
            <a:ext cx="64692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b3838"/>
                </a:solidFill>
                <a:latin typeface="Montserrat SemiBold"/>
              </a:rPr>
              <a:t>T</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6" name="Chart 3"/>
          <p:cNvGraphicFramePr/>
          <p:nvPr/>
        </p:nvGraphicFramePr>
        <p:xfrm>
          <a:off x="5092560" y="1359000"/>
          <a:ext cx="6159600" cy="4140000"/>
        </p:xfrm>
        <a:graphic>
          <a:graphicData uri="http://schemas.openxmlformats.org/presentationml/2006/ole">
            <p:oleObj progId="Excel.Sheet.12" r:id="rId1" spid="">
              <p:embed/>
              <p:pic>
                <p:nvPicPr>
                  <p:cNvPr id="1577" name="Chart 3" descr=""/>
                  <p:cNvPicPr/>
                  <p:nvPr/>
                </p:nvPicPr>
                <p:blipFill>
                  <a:blip r:embed="rId2"/>
                  <a:stretch/>
                </p:blipFill>
                <p:spPr>
                  <a:xfrm>
                    <a:off x="5092560" y="1359000"/>
                    <a:ext cx="6159600" cy="4140000"/>
                  </a:xfrm>
                  <a:prstGeom prst="rect">
                    <a:avLst/>
                  </a:prstGeom>
                  <a:ln w="0">
                    <a:noFill/>
                  </a:ln>
                </p:spPr>
              </p:pic>
            </p:oleObj>
          </a:graphicData>
        </a:graphic>
      </p:graphicFrame>
      <p:sp>
        <p:nvSpPr>
          <p:cNvPr id="1578" name="Rectangle 4"/>
          <p:cNvSpPr/>
          <p:nvPr/>
        </p:nvSpPr>
        <p:spPr>
          <a:xfrm>
            <a:off x="1817640" y="1719360"/>
            <a:ext cx="241164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a:t>
            </a:r>
            <a:endParaRPr b="0" lang="en-US" sz="1000" spc="-1" strike="noStrike">
              <a:solidFill>
                <a:srgbClr val="000000"/>
              </a:solidFill>
              <a:latin typeface="Calibri"/>
            </a:endParaRPr>
          </a:p>
        </p:txBody>
      </p:sp>
      <p:sp>
        <p:nvSpPr>
          <p:cNvPr id="1579" name="TextBox 5"/>
          <p:cNvSpPr/>
          <p:nvPr/>
        </p:nvSpPr>
        <p:spPr>
          <a:xfrm>
            <a:off x="1812240" y="1411200"/>
            <a:ext cx="161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Checklist Image</a:t>
            </a:r>
            <a:endParaRPr b="0" lang="en-US" sz="1400" spc="-1" strike="noStrike">
              <a:solidFill>
                <a:srgbClr val="000000"/>
              </a:solidFill>
              <a:latin typeface="Calibri"/>
            </a:endParaRPr>
          </a:p>
        </p:txBody>
      </p:sp>
      <p:sp>
        <p:nvSpPr>
          <p:cNvPr id="1580" name="Freeform 6"/>
          <p:cNvSpPr/>
          <p:nvPr/>
        </p:nvSpPr>
        <p:spPr>
          <a:xfrm>
            <a:off x="1165320" y="1527120"/>
            <a:ext cx="434880" cy="360360"/>
          </a:xfrm>
          <a:custGeom>
            <a:avLst/>
            <a:gdLst/>
            <a:ahLst/>
            <a:rect l="l" t="t" r="r" b="b"/>
            <a:pathLst>
              <a:path w="658" h="544">
                <a:moveTo>
                  <a:pt x="539" y="0"/>
                </a:moveTo>
                <a:lnTo>
                  <a:pt x="234" y="305"/>
                </a:lnTo>
                <a:lnTo>
                  <a:pt x="119" y="190"/>
                </a:lnTo>
                <a:lnTo>
                  <a:pt x="0" y="309"/>
                </a:lnTo>
                <a:lnTo>
                  <a:pt x="115" y="424"/>
                </a:lnTo>
                <a:lnTo>
                  <a:pt x="234" y="544"/>
                </a:lnTo>
                <a:lnTo>
                  <a:pt x="354" y="424"/>
                </a:lnTo>
                <a:lnTo>
                  <a:pt x="658" y="120"/>
                </a:lnTo>
                <a:lnTo>
                  <a:pt x="539"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581" name="Rectangle 7"/>
          <p:cNvSpPr/>
          <p:nvPr/>
        </p:nvSpPr>
        <p:spPr>
          <a:xfrm>
            <a:off x="1817640" y="3344760"/>
            <a:ext cx="241164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a:t>
            </a:r>
            <a:endParaRPr b="0" lang="en-US" sz="1000" spc="-1" strike="noStrike">
              <a:solidFill>
                <a:srgbClr val="000000"/>
              </a:solidFill>
              <a:latin typeface="Calibri"/>
            </a:endParaRPr>
          </a:p>
        </p:txBody>
      </p:sp>
      <p:sp>
        <p:nvSpPr>
          <p:cNvPr id="1582" name="TextBox 8"/>
          <p:cNvSpPr/>
          <p:nvPr/>
        </p:nvSpPr>
        <p:spPr>
          <a:xfrm>
            <a:off x="1812240" y="3036960"/>
            <a:ext cx="161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Checklist Image</a:t>
            </a:r>
            <a:endParaRPr b="0" lang="en-US" sz="1400" spc="-1" strike="noStrike">
              <a:solidFill>
                <a:srgbClr val="000000"/>
              </a:solidFill>
              <a:latin typeface="Calibri"/>
            </a:endParaRPr>
          </a:p>
        </p:txBody>
      </p:sp>
      <p:sp>
        <p:nvSpPr>
          <p:cNvPr id="1583" name="Freeform 9"/>
          <p:cNvSpPr/>
          <p:nvPr/>
        </p:nvSpPr>
        <p:spPr>
          <a:xfrm>
            <a:off x="1165320" y="3152880"/>
            <a:ext cx="434880" cy="360360"/>
          </a:xfrm>
          <a:custGeom>
            <a:avLst/>
            <a:gdLst/>
            <a:ahLst/>
            <a:rect l="l" t="t" r="r" b="b"/>
            <a:pathLst>
              <a:path w="658" h="544">
                <a:moveTo>
                  <a:pt x="539" y="0"/>
                </a:moveTo>
                <a:lnTo>
                  <a:pt x="234" y="305"/>
                </a:lnTo>
                <a:lnTo>
                  <a:pt x="119" y="190"/>
                </a:lnTo>
                <a:lnTo>
                  <a:pt x="0" y="309"/>
                </a:lnTo>
                <a:lnTo>
                  <a:pt x="115" y="424"/>
                </a:lnTo>
                <a:lnTo>
                  <a:pt x="234" y="544"/>
                </a:lnTo>
                <a:lnTo>
                  <a:pt x="354" y="424"/>
                </a:lnTo>
                <a:lnTo>
                  <a:pt x="658" y="120"/>
                </a:lnTo>
                <a:lnTo>
                  <a:pt x="539"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584" name="Rectangle 10"/>
          <p:cNvSpPr/>
          <p:nvPr/>
        </p:nvSpPr>
        <p:spPr>
          <a:xfrm>
            <a:off x="1817640" y="4892760"/>
            <a:ext cx="241164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a:t>
            </a:r>
            <a:endParaRPr b="0" lang="en-US" sz="1000" spc="-1" strike="noStrike">
              <a:solidFill>
                <a:srgbClr val="000000"/>
              </a:solidFill>
              <a:latin typeface="Calibri"/>
            </a:endParaRPr>
          </a:p>
        </p:txBody>
      </p:sp>
      <p:sp>
        <p:nvSpPr>
          <p:cNvPr id="1585" name="TextBox 11"/>
          <p:cNvSpPr/>
          <p:nvPr/>
        </p:nvSpPr>
        <p:spPr>
          <a:xfrm>
            <a:off x="1812240" y="4586400"/>
            <a:ext cx="161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Checklist Image</a:t>
            </a:r>
            <a:endParaRPr b="0" lang="en-US" sz="1400" spc="-1" strike="noStrike">
              <a:solidFill>
                <a:srgbClr val="000000"/>
              </a:solidFill>
              <a:latin typeface="Calibri"/>
            </a:endParaRPr>
          </a:p>
        </p:txBody>
      </p:sp>
      <p:sp>
        <p:nvSpPr>
          <p:cNvPr id="1586" name="Freeform 12"/>
          <p:cNvSpPr/>
          <p:nvPr/>
        </p:nvSpPr>
        <p:spPr>
          <a:xfrm>
            <a:off x="1165320" y="4702320"/>
            <a:ext cx="434880" cy="360360"/>
          </a:xfrm>
          <a:custGeom>
            <a:avLst/>
            <a:gdLst/>
            <a:ahLst/>
            <a:rect l="l" t="t" r="r" b="b"/>
            <a:pathLst>
              <a:path w="658" h="544">
                <a:moveTo>
                  <a:pt x="539" y="0"/>
                </a:moveTo>
                <a:lnTo>
                  <a:pt x="234" y="305"/>
                </a:lnTo>
                <a:lnTo>
                  <a:pt x="119" y="190"/>
                </a:lnTo>
                <a:lnTo>
                  <a:pt x="0" y="309"/>
                </a:lnTo>
                <a:lnTo>
                  <a:pt x="115" y="424"/>
                </a:lnTo>
                <a:lnTo>
                  <a:pt x="234" y="544"/>
                </a:lnTo>
                <a:lnTo>
                  <a:pt x="354" y="424"/>
                </a:lnTo>
                <a:lnTo>
                  <a:pt x="658" y="120"/>
                </a:lnTo>
                <a:lnTo>
                  <a:pt x="539"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7" name="Picture 1" descr=""/>
          <p:cNvPicPr/>
          <p:nvPr/>
        </p:nvPicPr>
        <p:blipFill>
          <a:blip r:embed="rId1"/>
          <a:stretch/>
        </p:blipFill>
        <p:spPr>
          <a:xfrm>
            <a:off x="6905520" y="1841400"/>
            <a:ext cx="3762360" cy="3122640"/>
          </a:xfrm>
          <a:prstGeom prst="rect">
            <a:avLst/>
          </a:prstGeom>
          <a:ln w="0">
            <a:noFill/>
          </a:ln>
        </p:spPr>
      </p:pic>
      <p:sp>
        <p:nvSpPr>
          <p:cNvPr id="1588" name="Rectangle 4"/>
          <p:cNvSpPr/>
          <p:nvPr/>
        </p:nvSpPr>
        <p:spPr>
          <a:xfrm>
            <a:off x="1523880" y="1609560"/>
            <a:ext cx="4572000" cy="364824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9" name="Rectangle 5"/>
          <p:cNvSpPr/>
          <p:nvPr/>
        </p:nvSpPr>
        <p:spPr>
          <a:xfrm>
            <a:off x="2009880" y="2552760"/>
            <a:ext cx="36925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a:t>
            </a:r>
            <a:endParaRPr b="0" lang="en-US" sz="1000" spc="-1" strike="noStrike">
              <a:solidFill>
                <a:srgbClr val="000000"/>
              </a:solidFill>
              <a:latin typeface="Calibri"/>
            </a:endParaRPr>
          </a:p>
        </p:txBody>
      </p:sp>
      <p:sp>
        <p:nvSpPr>
          <p:cNvPr id="1590" name="TextBox 6"/>
          <p:cNvSpPr/>
          <p:nvPr/>
        </p:nvSpPr>
        <p:spPr>
          <a:xfrm>
            <a:off x="1998720" y="1982880"/>
            <a:ext cx="165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deas typography</a:t>
            </a:r>
            <a:endParaRPr b="0" lang="en-US" sz="1400" spc="-1" strike="noStrike">
              <a:solidFill>
                <a:srgbClr val="000000"/>
              </a:solidFill>
              <a:latin typeface="Calibri"/>
            </a:endParaRPr>
          </a:p>
        </p:txBody>
      </p:sp>
      <p:sp>
        <p:nvSpPr>
          <p:cNvPr id="1591" name="TextBox 7"/>
          <p:cNvSpPr/>
          <p:nvPr/>
        </p:nvSpPr>
        <p:spPr>
          <a:xfrm>
            <a:off x="2119680" y="3863880"/>
            <a:ext cx="2472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Mockup</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2" name="Picture 1" descr=""/>
          <p:cNvPicPr/>
          <p:nvPr/>
        </p:nvPicPr>
        <p:blipFill>
          <a:blip r:embed="rId1"/>
          <a:stretch/>
        </p:blipFill>
        <p:spPr>
          <a:xfrm>
            <a:off x="1563840" y="1609560"/>
            <a:ext cx="2790720" cy="3648240"/>
          </a:xfrm>
          <a:prstGeom prst="rect">
            <a:avLst/>
          </a:prstGeom>
          <a:ln w="0">
            <a:noFill/>
          </a:ln>
        </p:spPr>
      </p:pic>
      <p:sp>
        <p:nvSpPr>
          <p:cNvPr id="1593" name="Rectangle 3"/>
          <p:cNvSpPr/>
          <p:nvPr/>
        </p:nvSpPr>
        <p:spPr>
          <a:xfrm>
            <a:off x="5848200" y="3429000"/>
            <a:ext cx="4572000" cy="18288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4" name="Rectangle 4"/>
          <p:cNvSpPr/>
          <p:nvPr/>
        </p:nvSpPr>
        <p:spPr>
          <a:xfrm>
            <a:off x="6288120" y="3732120"/>
            <a:ext cx="3692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a:t>
            </a:r>
            <a:r>
              <a:rPr b="0" lang="en-US" sz="1000" spc="-1" strike="noStrike">
                <a:solidFill>
                  <a:srgbClr val="7f7f7f"/>
                </a:solidFill>
                <a:latin typeface="Open Sans"/>
                <a:ea typeface="Open Sans"/>
              </a:rPr>
              <a:t> </a:t>
            </a:r>
            <a:r>
              <a:rPr b="0" lang="id-ID" sz="1000" spc="-1" strike="noStrike">
                <a:solidFill>
                  <a:srgbClr val="7f7f7f"/>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595" name="TextBox 5"/>
          <p:cNvSpPr/>
          <p:nvPr/>
        </p:nvSpPr>
        <p:spPr>
          <a:xfrm>
            <a:off x="5958000" y="1463760"/>
            <a:ext cx="2472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Mockup</a:t>
            </a:r>
            <a:endParaRPr b="0" lang="en-US" sz="4800" spc="-1" strike="noStrike">
              <a:solidFill>
                <a:srgbClr val="000000"/>
              </a:solidFill>
              <a:latin typeface="Calibri"/>
            </a:endParaRPr>
          </a:p>
        </p:txBody>
      </p:sp>
      <p:sp>
        <p:nvSpPr>
          <p:cNvPr id="1596" name="TextBox 6"/>
          <p:cNvSpPr/>
          <p:nvPr/>
        </p:nvSpPr>
        <p:spPr>
          <a:xfrm>
            <a:off x="5945760" y="2293920"/>
            <a:ext cx="1549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Slide</a:t>
            </a:r>
            <a:endParaRPr b="0" lang="en-US" sz="4800" spc="-1" strike="noStrike">
              <a:solidFill>
                <a:srgbClr val="000000"/>
              </a:solidFill>
              <a:latin typeface="Calibri"/>
            </a:endParaRPr>
          </a:p>
        </p:txBody>
      </p:sp>
      <p:sp>
        <p:nvSpPr>
          <p:cNvPr id="1597" name="TextBox 8"/>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
        <p:nvSpPr>
          <p:cNvPr id="1598" name="TextBox 9"/>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1" descr=""/>
          <p:cNvPicPr/>
          <p:nvPr/>
        </p:nvPicPr>
        <p:blipFill>
          <a:blip r:embed="rId1"/>
          <a:stretch/>
        </p:blipFill>
        <p:spPr>
          <a:xfrm>
            <a:off x="-603360" y="1771560"/>
            <a:ext cx="6699240" cy="3314880"/>
          </a:xfrm>
          <a:prstGeom prst="rect">
            <a:avLst/>
          </a:prstGeom>
          <a:ln w="0">
            <a:noFill/>
          </a:ln>
        </p:spPr>
      </p:pic>
      <p:sp>
        <p:nvSpPr>
          <p:cNvPr id="1600" name="Rectangle 4"/>
          <p:cNvSpPr/>
          <p:nvPr/>
        </p:nvSpPr>
        <p:spPr>
          <a:xfrm>
            <a:off x="6867360" y="2322360"/>
            <a:ext cx="3692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a:t>
            </a:r>
            <a:r>
              <a:rPr b="0" lang="en-US" sz="1000" spc="-1" strike="noStrike">
                <a:solidFill>
                  <a:srgbClr val="7f7f7f"/>
                </a:solidFill>
                <a:latin typeface="Open Sans"/>
                <a:ea typeface="Open Sans"/>
              </a:rPr>
              <a:t> </a:t>
            </a:r>
            <a:r>
              <a:rPr b="0" lang="id-ID" sz="1000" spc="-1" strike="noStrike">
                <a:solidFill>
                  <a:srgbClr val="7f7f7f"/>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601" name="TextBox 5"/>
          <p:cNvSpPr/>
          <p:nvPr/>
        </p:nvSpPr>
        <p:spPr>
          <a:xfrm>
            <a:off x="6856200" y="1494000"/>
            <a:ext cx="165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deas typography</a:t>
            </a:r>
            <a:endParaRPr b="0" lang="en-US" sz="1400" spc="-1" strike="noStrike">
              <a:solidFill>
                <a:srgbClr val="000000"/>
              </a:solidFill>
              <a:latin typeface="Calibri"/>
            </a:endParaRPr>
          </a:p>
        </p:txBody>
      </p:sp>
      <p:sp>
        <p:nvSpPr>
          <p:cNvPr id="1602" name="TextBox 6"/>
          <p:cNvSpPr/>
          <p:nvPr/>
        </p:nvSpPr>
        <p:spPr>
          <a:xfrm>
            <a:off x="6990120" y="4065480"/>
            <a:ext cx="2472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Mockup</a:t>
            </a:r>
            <a:endParaRPr b="0" lang="en-US" sz="4800" spc="-1" strike="noStrike">
              <a:solidFill>
                <a:srgbClr val="000000"/>
              </a:solidFill>
              <a:latin typeface="Calibri"/>
            </a:endParaRPr>
          </a:p>
        </p:txBody>
      </p:sp>
      <p:sp>
        <p:nvSpPr>
          <p:cNvPr id="1603" name="TextBox 7"/>
          <p:cNvSpPr/>
          <p:nvPr/>
        </p:nvSpPr>
        <p:spPr>
          <a:xfrm>
            <a:off x="6977880" y="4896000"/>
            <a:ext cx="1549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Slide</a:t>
            </a:r>
            <a:endParaRPr b="0" lang="en-US" sz="4800" spc="-1" strike="noStrike">
              <a:solidFill>
                <a:srgbClr val="000000"/>
              </a:solidFill>
              <a:latin typeface="Calibri"/>
            </a:endParaRPr>
          </a:p>
        </p:txBody>
      </p:sp>
      <p:sp>
        <p:nvSpPr>
          <p:cNvPr id="1604" name="TextBox 8"/>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5" name="Picture 1" descr=""/>
          <p:cNvPicPr/>
          <p:nvPr/>
        </p:nvPicPr>
        <p:blipFill>
          <a:blip r:embed="rId1"/>
          <a:stretch/>
        </p:blipFill>
        <p:spPr>
          <a:xfrm>
            <a:off x="5756400" y="2327400"/>
            <a:ext cx="4917960" cy="2827080"/>
          </a:xfrm>
          <a:prstGeom prst="rect">
            <a:avLst/>
          </a:prstGeom>
          <a:ln w="0">
            <a:noFill/>
          </a:ln>
        </p:spPr>
      </p:pic>
      <p:sp>
        <p:nvSpPr>
          <p:cNvPr id="1606" name="TextBox 3"/>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
        <p:nvSpPr>
          <p:cNvPr id="1607" name="TextBox 4"/>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
        <p:nvSpPr>
          <p:cNvPr id="1608" name="Rectangle 5"/>
          <p:cNvSpPr/>
          <p:nvPr/>
        </p:nvSpPr>
        <p:spPr>
          <a:xfrm>
            <a:off x="1590840" y="2322360"/>
            <a:ext cx="3692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a:t>
            </a:r>
            <a:r>
              <a:rPr b="0" lang="en-US" sz="1000" spc="-1" strike="noStrike">
                <a:solidFill>
                  <a:srgbClr val="7f7f7f"/>
                </a:solidFill>
                <a:latin typeface="Open Sans"/>
                <a:ea typeface="Open Sans"/>
              </a:rPr>
              <a:t> </a:t>
            </a:r>
            <a:r>
              <a:rPr b="0" lang="id-ID" sz="1000" spc="-1" strike="noStrike">
                <a:solidFill>
                  <a:srgbClr val="7f7f7f"/>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609" name="TextBox 6"/>
          <p:cNvSpPr/>
          <p:nvPr/>
        </p:nvSpPr>
        <p:spPr>
          <a:xfrm>
            <a:off x="1579680" y="1494000"/>
            <a:ext cx="165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deas typography</a:t>
            </a:r>
            <a:endParaRPr b="0" lang="en-US" sz="1400" spc="-1" strike="noStrike">
              <a:solidFill>
                <a:srgbClr val="000000"/>
              </a:solidFill>
              <a:latin typeface="Calibri"/>
            </a:endParaRPr>
          </a:p>
        </p:txBody>
      </p:sp>
      <p:sp>
        <p:nvSpPr>
          <p:cNvPr id="1610" name="TextBox 7"/>
          <p:cNvSpPr/>
          <p:nvPr/>
        </p:nvSpPr>
        <p:spPr>
          <a:xfrm>
            <a:off x="1713240" y="4065480"/>
            <a:ext cx="2472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Mockup</a:t>
            </a:r>
            <a:endParaRPr b="0" lang="en-US" sz="4800" spc="-1" strike="noStrike">
              <a:solidFill>
                <a:srgbClr val="000000"/>
              </a:solidFill>
              <a:latin typeface="Calibri"/>
            </a:endParaRPr>
          </a:p>
        </p:txBody>
      </p:sp>
      <p:sp>
        <p:nvSpPr>
          <p:cNvPr id="1611" name="TextBox 8"/>
          <p:cNvSpPr/>
          <p:nvPr/>
        </p:nvSpPr>
        <p:spPr>
          <a:xfrm>
            <a:off x="1701000" y="4896000"/>
            <a:ext cx="1549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Slid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Freeform 1"/>
          <p:cNvSpPr/>
          <p:nvPr/>
        </p:nvSpPr>
        <p:spPr>
          <a:xfrm>
            <a:off x="2567160" y="3270240"/>
            <a:ext cx="225360" cy="168120"/>
          </a:xfrm>
          <a:custGeom>
            <a:avLst/>
            <a:gdLst/>
            <a:ahLst/>
            <a:rect l="l" t="t" r="r" b="b"/>
            <a:pathLst>
              <a:path w="839" h="633">
                <a:moveTo>
                  <a:pt x="0" y="0"/>
                </a:moveTo>
                <a:lnTo>
                  <a:pt x="839" y="0"/>
                </a:lnTo>
                <a:lnTo>
                  <a:pt x="839" y="633"/>
                </a:lnTo>
                <a:lnTo>
                  <a:pt x="0" y="633"/>
                </a:lnTo>
                <a:lnTo>
                  <a:pt x="0" y="0"/>
                </a:lnTo>
                <a:close/>
                <a:moveTo>
                  <a:pt x="632" y="382"/>
                </a:moveTo>
                <a:lnTo>
                  <a:pt x="566" y="267"/>
                </a:lnTo>
                <a:lnTo>
                  <a:pt x="499" y="382"/>
                </a:lnTo>
                <a:lnTo>
                  <a:pt x="433" y="497"/>
                </a:lnTo>
                <a:lnTo>
                  <a:pt x="566" y="497"/>
                </a:lnTo>
                <a:lnTo>
                  <a:pt x="699" y="497"/>
                </a:lnTo>
                <a:lnTo>
                  <a:pt x="632" y="382"/>
                </a:lnTo>
                <a:close/>
                <a:moveTo>
                  <a:pt x="478" y="371"/>
                </a:moveTo>
                <a:lnTo>
                  <a:pt x="443" y="311"/>
                </a:lnTo>
                <a:lnTo>
                  <a:pt x="335" y="124"/>
                </a:lnTo>
                <a:lnTo>
                  <a:pt x="227" y="311"/>
                </a:lnTo>
                <a:lnTo>
                  <a:pt x="119" y="497"/>
                </a:lnTo>
                <a:lnTo>
                  <a:pt x="335" y="497"/>
                </a:lnTo>
                <a:lnTo>
                  <a:pt x="405" y="497"/>
                </a:lnTo>
                <a:lnTo>
                  <a:pt x="463" y="396"/>
                </a:lnTo>
                <a:lnTo>
                  <a:pt x="478" y="371"/>
                </a:lnTo>
                <a:close/>
                <a:moveTo>
                  <a:pt x="41" y="44"/>
                </a:moveTo>
                <a:lnTo>
                  <a:pt x="798" y="44"/>
                </a:lnTo>
                <a:lnTo>
                  <a:pt x="798" y="595"/>
                </a:lnTo>
                <a:lnTo>
                  <a:pt x="41" y="595"/>
                </a:lnTo>
                <a:lnTo>
                  <a:pt x="41" y="44"/>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13" name="Freeform 2"/>
          <p:cNvSpPr/>
          <p:nvPr/>
        </p:nvSpPr>
        <p:spPr>
          <a:xfrm>
            <a:off x="4530600" y="1442880"/>
            <a:ext cx="162000" cy="162000"/>
          </a:xfrm>
          <a:custGeom>
            <a:avLst/>
            <a:gdLst/>
            <a:ahLst/>
            <a:rect l="l" t="t" r="r" b="b"/>
            <a:pathLst>
              <a:path w="608" h="608">
                <a:moveTo>
                  <a:pt x="65" y="0"/>
                </a:moveTo>
                <a:lnTo>
                  <a:pt x="217" y="0"/>
                </a:lnTo>
                <a:cubicBezTo>
                  <a:pt x="253" y="0"/>
                  <a:pt x="303" y="21"/>
                  <a:pt x="328" y="46"/>
                </a:cubicBezTo>
                <a:lnTo>
                  <a:pt x="583" y="301"/>
                </a:lnTo>
                <a:cubicBezTo>
                  <a:pt x="608" y="327"/>
                  <a:pt x="608" y="368"/>
                  <a:pt x="583" y="393"/>
                </a:cubicBezTo>
                <a:lnTo>
                  <a:pt x="393" y="583"/>
                </a:lnTo>
                <a:cubicBezTo>
                  <a:pt x="368" y="608"/>
                  <a:pt x="327" y="608"/>
                  <a:pt x="301" y="583"/>
                </a:cubicBezTo>
                <a:lnTo>
                  <a:pt x="46" y="328"/>
                </a:lnTo>
                <a:cubicBezTo>
                  <a:pt x="21" y="303"/>
                  <a:pt x="0" y="253"/>
                  <a:pt x="0" y="217"/>
                </a:cubicBezTo>
                <a:lnTo>
                  <a:pt x="0" y="65"/>
                </a:lnTo>
                <a:cubicBezTo>
                  <a:pt x="0" y="30"/>
                  <a:pt x="30" y="0"/>
                  <a:pt x="65" y="0"/>
                </a:cubicBezTo>
                <a:close/>
                <a:moveTo>
                  <a:pt x="152" y="217"/>
                </a:moveTo>
                <a:cubicBezTo>
                  <a:pt x="188" y="217"/>
                  <a:pt x="217" y="188"/>
                  <a:pt x="217" y="152"/>
                </a:cubicBezTo>
                <a:cubicBezTo>
                  <a:pt x="217" y="116"/>
                  <a:pt x="188" y="87"/>
                  <a:pt x="152" y="87"/>
                </a:cubicBezTo>
                <a:cubicBezTo>
                  <a:pt x="116" y="87"/>
                  <a:pt x="87" y="116"/>
                  <a:pt x="87" y="152"/>
                </a:cubicBezTo>
                <a:cubicBezTo>
                  <a:pt x="87" y="188"/>
                  <a:pt x="116" y="217"/>
                  <a:pt x="152" y="217"/>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14" name="Freeform 3"/>
          <p:cNvSpPr/>
          <p:nvPr/>
        </p:nvSpPr>
        <p:spPr>
          <a:xfrm>
            <a:off x="3576600" y="865080"/>
            <a:ext cx="168480" cy="163800"/>
          </a:xfrm>
          <a:custGeom>
            <a:avLst/>
            <a:gdLst/>
            <a:ahLst/>
            <a:rect l="l" t="t" r="r" b="b"/>
            <a:pathLst>
              <a:path w="631" h="605">
                <a:moveTo>
                  <a:pt x="597" y="0"/>
                </a:moveTo>
                <a:lnTo>
                  <a:pt x="34" y="0"/>
                </a:lnTo>
                <a:cubicBezTo>
                  <a:pt x="15" y="0"/>
                  <a:pt x="0" y="16"/>
                  <a:pt x="0" y="37"/>
                </a:cubicBezTo>
                <a:lnTo>
                  <a:pt x="0" y="417"/>
                </a:lnTo>
                <a:cubicBezTo>
                  <a:pt x="0" y="437"/>
                  <a:pt x="15" y="454"/>
                  <a:pt x="34" y="454"/>
                </a:cubicBezTo>
                <a:lnTo>
                  <a:pt x="597" y="454"/>
                </a:lnTo>
                <a:cubicBezTo>
                  <a:pt x="616" y="454"/>
                  <a:pt x="631" y="437"/>
                  <a:pt x="631" y="417"/>
                </a:cubicBezTo>
                <a:lnTo>
                  <a:pt x="631" y="37"/>
                </a:lnTo>
                <a:cubicBezTo>
                  <a:pt x="631" y="16"/>
                  <a:pt x="616" y="0"/>
                  <a:pt x="597" y="0"/>
                </a:cubicBezTo>
                <a:close/>
                <a:moveTo>
                  <a:pt x="454" y="565"/>
                </a:moveTo>
                <a:lnTo>
                  <a:pt x="414" y="565"/>
                </a:lnTo>
                <a:cubicBezTo>
                  <a:pt x="392" y="565"/>
                  <a:pt x="375" y="548"/>
                  <a:pt x="375" y="526"/>
                </a:cubicBezTo>
                <a:lnTo>
                  <a:pt x="375" y="466"/>
                </a:lnTo>
                <a:lnTo>
                  <a:pt x="256" y="466"/>
                </a:lnTo>
                <a:lnTo>
                  <a:pt x="256" y="526"/>
                </a:lnTo>
                <a:cubicBezTo>
                  <a:pt x="256" y="548"/>
                  <a:pt x="239" y="565"/>
                  <a:pt x="217" y="565"/>
                </a:cubicBezTo>
                <a:lnTo>
                  <a:pt x="177" y="565"/>
                </a:lnTo>
                <a:cubicBezTo>
                  <a:pt x="166" y="565"/>
                  <a:pt x="158" y="574"/>
                  <a:pt x="158" y="585"/>
                </a:cubicBezTo>
                <a:cubicBezTo>
                  <a:pt x="158" y="596"/>
                  <a:pt x="166" y="605"/>
                  <a:pt x="177" y="605"/>
                </a:cubicBezTo>
                <a:lnTo>
                  <a:pt x="454" y="605"/>
                </a:lnTo>
                <a:cubicBezTo>
                  <a:pt x="465" y="605"/>
                  <a:pt x="473" y="596"/>
                  <a:pt x="473" y="585"/>
                </a:cubicBezTo>
                <a:cubicBezTo>
                  <a:pt x="473" y="574"/>
                  <a:pt x="465" y="565"/>
                  <a:pt x="454" y="565"/>
                </a:cubicBezTo>
                <a:close/>
                <a:moveTo>
                  <a:pt x="592" y="414"/>
                </a:moveTo>
                <a:lnTo>
                  <a:pt x="39" y="414"/>
                </a:lnTo>
                <a:lnTo>
                  <a:pt x="39" y="39"/>
                </a:lnTo>
                <a:lnTo>
                  <a:pt x="592" y="39"/>
                </a:lnTo>
                <a:lnTo>
                  <a:pt x="592" y="414"/>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15" name="Freeform 4"/>
          <p:cNvSpPr/>
          <p:nvPr/>
        </p:nvSpPr>
        <p:spPr>
          <a:xfrm>
            <a:off x="9061560" y="4508640"/>
            <a:ext cx="156960" cy="156960"/>
          </a:xfrm>
          <a:custGeom>
            <a:avLst/>
            <a:gdLst/>
            <a:ahLst/>
            <a:rect l="l" t="t" r="r" b="b"/>
            <a:pathLst>
              <a:path w="591" h="592">
                <a:moveTo>
                  <a:pt x="296" y="0"/>
                </a:moveTo>
                <a:cubicBezTo>
                  <a:pt x="132" y="0"/>
                  <a:pt x="0" y="133"/>
                  <a:pt x="0" y="296"/>
                </a:cubicBezTo>
                <a:cubicBezTo>
                  <a:pt x="0" y="459"/>
                  <a:pt x="132" y="592"/>
                  <a:pt x="296" y="592"/>
                </a:cubicBezTo>
                <a:cubicBezTo>
                  <a:pt x="459" y="592"/>
                  <a:pt x="591" y="459"/>
                  <a:pt x="591" y="296"/>
                </a:cubicBezTo>
                <a:cubicBezTo>
                  <a:pt x="591" y="133"/>
                  <a:pt x="459" y="0"/>
                  <a:pt x="296" y="0"/>
                </a:cubicBezTo>
                <a:close/>
                <a:moveTo>
                  <a:pt x="430" y="264"/>
                </a:moveTo>
                <a:cubicBezTo>
                  <a:pt x="432" y="272"/>
                  <a:pt x="427" y="279"/>
                  <a:pt x="420" y="281"/>
                </a:cubicBezTo>
                <a:lnTo>
                  <a:pt x="296" y="310"/>
                </a:lnTo>
                <a:cubicBezTo>
                  <a:pt x="294" y="310"/>
                  <a:pt x="291" y="310"/>
                  <a:pt x="289" y="310"/>
                </a:cubicBezTo>
                <a:cubicBezTo>
                  <a:pt x="287" y="309"/>
                  <a:pt x="284" y="308"/>
                  <a:pt x="283" y="306"/>
                </a:cubicBezTo>
                <a:lnTo>
                  <a:pt x="196" y="213"/>
                </a:lnTo>
                <a:cubicBezTo>
                  <a:pt x="191" y="208"/>
                  <a:pt x="191" y="199"/>
                  <a:pt x="197" y="193"/>
                </a:cubicBezTo>
                <a:cubicBezTo>
                  <a:pt x="202" y="188"/>
                  <a:pt x="211" y="188"/>
                  <a:pt x="216" y="194"/>
                </a:cubicBezTo>
                <a:lnTo>
                  <a:pt x="298" y="281"/>
                </a:lnTo>
                <a:lnTo>
                  <a:pt x="413" y="253"/>
                </a:lnTo>
                <a:cubicBezTo>
                  <a:pt x="421" y="252"/>
                  <a:pt x="429" y="256"/>
                  <a:pt x="430" y="264"/>
                </a:cubicBezTo>
                <a:close/>
                <a:moveTo>
                  <a:pt x="318" y="545"/>
                </a:moveTo>
                <a:lnTo>
                  <a:pt x="318" y="523"/>
                </a:lnTo>
                <a:cubicBezTo>
                  <a:pt x="318" y="511"/>
                  <a:pt x="308" y="501"/>
                  <a:pt x="296" y="501"/>
                </a:cubicBezTo>
                <a:cubicBezTo>
                  <a:pt x="283" y="501"/>
                  <a:pt x="273" y="511"/>
                  <a:pt x="273" y="523"/>
                </a:cubicBezTo>
                <a:lnTo>
                  <a:pt x="273" y="545"/>
                </a:lnTo>
                <a:cubicBezTo>
                  <a:pt x="153" y="534"/>
                  <a:pt x="58" y="438"/>
                  <a:pt x="47" y="319"/>
                </a:cubicBezTo>
                <a:lnTo>
                  <a:pt x="68" y="319"/>
                </a:lnTo>
                <a:cubicBezTo>
                  <a:pt x="81" y="319"/>
                  <a:pt x="91" y="309"/>
                  <a:pt x="91" y="296"/>
                </a:cubicBezTo>
                <a:cubicBezTo>
                  <a:pt x="91" y="283"/>
                  <a:pt x="81" y="273"/>
                  <a:pt x="68" y="273"/>
                </a:cubicBezTo>
                <a:lnTo>
                  <a:pt x="47" y="273"/>
                </a:lnTo>
                <a:cubicBezTo>
                  <a:pt x="58" y="154"/>
                  <a:pt x="153" y="58"/>
                  <a:pt x="273" y="47"/>
                </a:cubicBezTo>
                <a:lnTo>
                  <a:pt x="273" y="69"/>
                </a:lnTo>
                <a:cubicBezTo>
                  <a:pt x="273" y="81"/>
                  <a:pt x="283" y="91"/>
                  <a:pt x="296" y="91"/>
                </a:cubicBezTo>
                <a:cubicBezTo>
                  <a:pt x="308" y="91"/>
                  <a:pt x="318" y="81"/>
                  <a:pt x="318" y="69"/>
                </a:cubicBezTo>
                <a:lnTo>
                  <a:pt x="318" y="47"/>
                </a:lnTo>
                <a:cubicBezTo>
                  <a:pt x="438" y="58"/>
                  <a:pt x="534" y="154"/>
                  <a:pt x="545" y="273"/>
                </a:cubicBezTo>
                <a:lnTo>
                  <a:pt x="523" y="273"/>
                </a:lnTo>
                <a:cubicBezTo>
                  <a:pt x="510" y="273"/>
                  <a:pt x="500" y="283"/>
                  <a:pt x="500" y="296"/>
                </a:cubicBezTo>
                <a:cubicBezTo>
                  <a:pt x="500" y="309"/>
                  <a:pt x="510" y="319"/>
                  <a:pt x="523" y="319"/>
                </a:cubicBezTo>
                <a:lnTo>
                  <a:pt x="545" y="319"/>
                </a:lnTo>
                <a:cubicBezTo>
                  <a:pt x="534" y="438"/>
                  <a:pt x="438" y="534"/>
                  <a:pt x="318" y="54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16" name="Freeform 5"/>
          <p:cNvSpPr/>
          <p:nvPr/>
        </p:nvSpPr>
        <p:spPr>
          <a:xfrm>
            <a:off x="6275520" y="2943360"/>
            <a:ext cx="169560" cy="171360"/>
          </a:xfrm>
          <a:custGeom>
            <a:avLst/>
            <a:gdLst/>
            <a:ahLst/>
            <a:rect l="l" t="t" r="r" b="b"/>
            <a:pathLst>
              <a:path w="639" h="639">
                <a:moveTo>
                  <a:pt x="599" y="120"/>
                </a:moveTo>
                <a:lnTo>
                  <a:pt x="519" y="120"/>
                </a:lnTo>
                <a:lnTo>
                  <a:pt x="519" y="40"/>
                </a:lnTo>
                <a:lnTo>
                  <a:pt x="599" y="40"/>
                </a:lnTo>
                <a:lnTo>
                  <a:pt x="599" y="120"/>
                </a:lnTo>
                <a:close/>
                <a:moveTo>
                  <a:pt x="599" y="280"/>
                </a:moveTo>
                <a:lnTo>
                  <a:pt x="519" y="280"/>
                </a:lnTo>
                <a:lnTo>
                  <a:pt x="519" y="200"/>
                </a:lnTo>
                <a:lnTo>
                  <a:pt x="599" y="200"/>
                </a:lnTo>
                <a:lnTo>
                  <a:pt x="599" y="280"/>
                </a:lnTo>
                <a:close/>
                <a:moveTo>
                  <a:pt x="599" y="439"/>
                </a:moveTo>
                <a:lnTo>
                  <a:pt x="519" y="439"/>
                </a:lnTo>
                <a:lnTo>
                  <a:pt x="519" y="359"/>
                </a:lnTo>
                <a:lnTo>
                  <a:pt x="599" y="359"/>
                </a:lnTo>
                <a:lnTo>
                  <a:pt x="599" y="439"/>
                </a:lnTo>
                <a:close/>
                <a:moveTo>
                  <a:pt x="599" y="599"/>
                </a:moveTo>
                <a:lnTo>
                  <a:pt x="519" y="599"/>
                </a:lnTo>
                <a:lnTo>
                  <a:pt x="519" y="519"/>
                </a:lnTo>
                <a:lnTo>
                  <a:pt x="599" y="519"/>
                </a:lnTo>
                <a:lnTo>
                  <a:pt x="599" y="599"/>
                </a:lnTo>
                <a:close/>
                <a:moveTo>
                  <a:pt x="479" y="359"/>
                </a:moveTo>
                <a:lnTo>
                  <a:pt x="160" y="359"/>
                </a:lnTo>
                <a:lnTo>
                  <a:pt x="160" y="40"/>
                </a:lnTo>
                <a:lnTo>
                  <a:pt x="479" y="40"/>
                </a:lnTo>
                <a:lnTo>
                  <a:pt x="479" y="359"/>
                </a:lnTo>
                <a:close/>
                <a:moveTo>
                  <a:pt x="479" y="599"/>
                </a:moveTo>
                <a:lnTo>
                  <a:pt x="160" y="599"/>
                </a:lnTo>
                <a:lnTo>
                  <a:pt x="160" y="399"/>
                </a:lnTo>
                <a:lnTo>
                  <a:pt x="479" y="399"/>
                </a:lnTo>
                <a:lnTo>
                  <a:pt x="479" y="599"/>
                </a:lnTo>
                <a:close/>
                <a:moveTo>
                  <a:pt x="120" y="120"/>
                </a:moveTo>
                <a:lnTo>
                  <a:pt x="40" y="120"/>
                </a:lnTo>
                <a:lnTo>
                  <a:pt x="40" y="40"/>
                </a:lnTo>
                <a:lnTo>
                  <a:pt x="120" y="40"/>
                </a:lnTo>
                <a:lnTo>
                  <a:pt x="120" y="120"/>
                </a:lnTo>
                <a:close/>
                <a:moveTo>
                  <a:pt x="120" y="280"/>
                </a:moveTo>
                <a:lnTo>
                  <a:pt x="40" y="280"/>
                </a:lnTo>
                <a:lnTo>
                  <a:pt x="40" y="200"/>
                </a:lnTo>
                <a:lnTo>
                  <a:pt x="120" y="200"/>
                </a:lnTo>
                <a:lnTo>
                  <a:pt x="120" y="280"/>
                </a:lnTo>
                <a:close/>
                <a:moveTo>
                  <a:pt x="120" y="439"/>
                </a:moveTo>
                <a:lnTo>
                  <a:pt x="40" y="439"/>
                </a:lnTo>
                <a:lnTo>
                  <a:pt x="40" y="359"/>
                </a:lnTo>
                <a:lnTo>
                  <a:pt x="120" y="359"/>
                </a:lnTo>
                <a:lnTo>
                  <a:pt x="120" y="439"/>
                </a:lnTo>
                <a:close/>
                <a:moveTo>
                  <a:pt x="120" y="599"/>
                </a:moveTo>
                <a:lnTo>
                  <a:pt x="40" y="599"/>
                </a:lnTo>
                <a:lnTo>
                  <a:pt x="40" y="519"/>
                </a:lnTo>
                <a:lnTo>
                  <a:pt x="120" y="519"/>
                </a:lnTo>
                <a:lnTo>
                  <a:pt x="120" y="599"/>
                </a:lnTo>
                <a:close/>
                <a:moveTo>
                  <a:pt x="599" y="0"/>
                </a:moveTo>
                <a:lnTo>
                  <a:pt x="40" y="0"/>
                </a:lnTo>
                <a:cubicBezTo>
                  <a:pt x="18" y="0"/>
                  <a:pt x="0" y="18"/>
                  <a:pt x="0" y="40"/>
                </a:cubicBezTo>
                <a:lnTo>
                  <a:pt x="0" y="599"/>
                </a:lnTo>
                <a:cubicBezTo>
                  <a:pt x="0" y="621"/>
                  <a:pt x="18" y="639"/>
                  <a:pt x="40" y="639"/>
                </a:cubicBezTo>
                <a:lnTo>
                  <a:pt x="599" y="639"/>
                </a:lnTo>
                <a:cubicBezTo>
                  <a:pt x="621" y="639"/>
                  <a:pt x="639" y="621"/>
                  <a:pt x="639" y="599"/>
                </a:cubicBezTo>
                <a:lnTo>
                  <a:pt x="639" y="40"/>
                </a:lnTo>
                <a:cubicBezTo>
                  <a:pt x="639" y="18"/>
                  <a:pt x="621" y="0"/>
                  <a:pt x="599"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17" name="Freeform 6"/>
          <p:cNvSpPr/>
          <p:nvPr/>
        </p:nvSpPr>
        <p:spPr>
          <a:xfrm>
            <a:off x="6261120" y="3895560"/>
            <a:ext cx="198360" cy="138240"/>
          </a:xfrm>
          <a:custGeom>
            <a:avLst/>
            <a:gdLst/>
            <a:ahLst/>
            <a:rect l="l" t="t" r="r" b="b"/>
            <a:pathLst>
              <a:path w="743" h="515">
                <a:moveTo>
                  <a:pt x="368" y="343"/>
                </a:moveTo>
                <a:cubicBezTo>
                  <a:pt x="406" y="388"/>
                  <a:pt x="428" y="445"/>
                  <a:pt x="428" y="509"/>
                </a:cubicBezTo>
                <a:cubicBezTo>
                  <a:pt x="428" y="510"/>
                  <a:pt x="429" y="511"/>
                  <a:pt x="430" y="513"/>
                </a:cubicBezTo>
                <a:cubicBezTo>
                  <a:pt x="431" y="514"/>
                  <a:pt x="432" y="514"/>
                  <a:pt x="433" y="514"/>
                </a:cubicBezTo>
                <a:lnTo>
                  <a:pt x="535" y="514"/>
                </a:lnTo>
                <a:cubicBezTo>
                  <a:pt x="538" y="514"/>
                  <a:pt x="540" y="511"/>
                  <a:pt x="540" y="508"/>
                </a:cubicBezTo>
                <a:cubicBezTo>
                  <a:pt x="540" y="420"/>
                  <a:pt x="509" y="338"/>
                  <a:pt x="456" y="275"/>
                </a:cubicBezTo>
                <a:cubicBezTo>
                  <a:pt x="422" y="291"/>
                  <a:pt x="392" y="314"/>
                  <a:pt x="368" y="343"/>
                </a:cubicBezTo>
                <a:close/>
                <a:moveTo>
                  <a:pt x="741" y="156"/>
                </a:moveTo>
                <a:lnTo>
                  <a:pt x="588" y="2"/>
                </a:lnTo>
                <a:cubicBezTo>
                  <a:pt x="586" y="1"/>
                  <a:pt x="584" y="0"/>
                  <a:pt x="582" y="1"/>
                </a:cubicBezTo>
                <a:cubicBezTo>
                  <a:pt x="579" y="2"/>
                  <a:pt x="578" y="4"/>
                  <a:pt x="578" y="7"/>
                </a:cubicBezTo>
                <a:lnTo>
                  <a:pt x="578" y="92"/>
                </a:lnTo>
                <a:cubicBezTo>
                  <a:pt x="497" y="93"/>
                  <a:pt x="422" y="117"/>
                  <a:pt x="359" y="158"/>
                </a:cubicBezTo>
                <a:cubicBezTo>
                  <a:pt x="321" y="182"/>
                  <a:pt x="287" y="211"/>
                  <a:pt x="259" y="246"/>
                </a:cubicBezTo>
                <a:cubicBezTo>
                  <a:pt x="200" y="317"/>
                  <a:pt x="165" y="409"/>
                  <a:pt x="165" y="508"/>
                </a:cubicBezTo>
                <a:cubicBezTo>
                  <a:pt x="165" y="512"/>
                  <a:pt x="168" y="515"/>
                  <a:pt x="171" y="515"/>
                </a:cubicBezTo>
                <a:lnTo>
                  <a:pt x="285" y="515"/>
                </a:lnTo>
                <a:cubicBezTo>
                  <a:pt x="287" y="515"/>
                  <a:pt x="288" y="514"/>
                  <a:pt x="289" y="513"/>
                </a:cubicBezTo>
                <a:cubicBezTo>
                  <a:pt x="290" y="512"/>
                  <a:pt x="291" y="511"/>
                  <a:pt x="291" y="509"/>
                </a:cubicBezTo>
                <a:cubicBezTo>
                  <a:pt x="291" y="438"/>
                  <a:pt x="317" y="373"/>
                  <a:pt x="359" y="322"/>
                </a:cubicBezTo>
                <a:cubicBezTo>
                  <a:pt x="386" y="290"/>
                  <a:pt x="420" y="264"/>
                  <a:pt x="458" y="246"/>
                </a:cubicBezTo>
                <a:cubicBezTo>
                  <a:pt x="495" y="228"/>
                  <a:pt x="535" y="218"/>
                  <a:pt x="578" y="218"/>
                </a:cubicBezTo>
                <a:lnTo>
                  <a:pt x="578" y="313"/>
                </a:lnTo>
                <a:cubicBezTo>
                  <a:pt x="578" y="315"/>
                  <a:pt x="579" y="318"/>
                  <a:pt x="582" y="319"/>
                </a:cubicBezTo>
                <a:cubicBezTo>
                  <a:pt x="584" y="319"/>
                  <a:pt x="586" y="319"/>
                  <a:pt x="588" y="317"/>
                </a:cubicBezTo>
                <a:lnTo>
                  <a:pt x="741" y="164"/>
                </a:lnTo>
                <a:cubicBezTo>
                  <a:pt x="743" y="162"/>
                  <a:pt x="743" y="158"/>
                  <a:pt x="741" y="156"/>
                </a:cubicBezTo>
                <a:close/>
                <a:moveTo>
                  <a:pt x="341" y="141"/>
                </a:moveTo>
                <a:cubicBezTo>
                  <a:pt x="285" y="105"/>
                  <a:pt x="218" y="84"/>
                  <a:pt x="147" y="83"/>
                </a:cubicBezTo>
                <a:lnTo>
                  <a:pt x="147" y="7"/>
                </a:lnTo>
                <a:cubicBezTo>
                  <a:pt x="147" y="5"/>
                  <a:pt x="145" y="3"/>
                  <a:pt x="143" y="2"/>
                </a:cubicBezTo>
                <a:cubicBezTo>
                  <a:pt x="142" y="1"/>
                  <a:pt x="139" y="2"/>
                  <a:pt x="138" y="3"/>
                </a:cubicBezTo>
                <a:lnTo>
                  <a:pt x="2" y="140"/>
                </a:lnTo>
                <a:cubicBezTo>
                  <a:pt x="0" y="142"/>
                  <a:pt x="0" y="145"/>
                  <a:pt x="2" y="147"/>
                </a:cubicBezTo>
                <a:lnTo>
                  <a:pt x="138" y="283"/>
                </a:lnTo>
                <a:cubicBezTo>
                  <a:pt x="139" y="284"/>
                  <a:pt x="142" y="285"/>
                  <a:pt x="143" y="284"/>
                </a:cubicBezTo>
                <a:cubicBezTo>
                  <a:pt x="145" y="283"/>
                  <a:pt x="147" y="281"/>
                  <a:pt x="147" y="279"/>
                </a:cubicBezTo>
                <a:lnTo>
                  <a:pt x="147" y="195"/>
                </a:lnTo>
                <a:cubicBezTo>
                  <a:pt x="185" y="195"/>
                  <a:pt x="220" y="204"/>
                  <a:pt x="253" y="219"/>
                </a:cubicBezTo>
                <a:cubicBezTo>
                  <a:pt x="278" y="189"/>
                  <a:pt x="308" y="162"/>
                  <a:pt x="341" y="141"/>
                </a:cubicBezTo>
                <a:close/>
              </a:path>
            </a:pathLst>
          </a:custGeom>
          <a:solidFill>
            <a:srgbClr val="a6a6a6"/>
          </a:solidFill>
          <a:ln w="0">
            <a:noFill/>
          </a:ln>
        </p:spPr>
        <p:style>
          <a:lnRef idx="0"/>
          <a:fillRef idx="0"/>
          <a:effectRef idx="0"/>
          <a:fontRef idx="minor"/>
        </p:style>
        <p:txBody>
          <a:bodyPr lIns="145800" rIns="145800" tIns="65520" bIns="65520" anchor="t">
            <a:noAutofit/>
          </a:bodyPr>
          <a:p>
            <a:endParaRPr b="0" lang="en-US" sz="1800" spc="-1" strike="noStrike">
              <a:solidFill>
                <a:srgbClr val="000000"/>
              </a:solidFill>
              <a:latin typeface="Calibri"/>
            </a:endParaRPr>
          </a:p>
        </p:txBody>
      </p:sp>
      <p:sp>
        <p:nvSpPr>
          <p:cNvPr id="1618" name="Freeform 7"/>
          <p:cNvSpPr/>
          <p:nvPr/>
        </p:nvSpPr>
        <p:spPr>
          <a:xfrm>
            <a:off x="4206960" y="3579840"/>
            <a:ext cx="179280" cy="174600"/>
          </a:xfrm>
          <a:custGeom>
            <a:avLst/>
            <a:gdLst/>
            <a:ahLst/>
            <a:rect l="l" t="t" r="r" b="b"/>
            <a:pathLst>
              <a:path w="667" h="649">
                <a:moveTo>
                  <a:pt x="506" y="583"/>
                </a:moveTo>
                <a:lnTo>
                  <a:pt x="506" y="493"/>
                </a:lnTo>
                <a:lnTo>
                  <a:pt x="600" y="493"/>
                </a:lnTo>
                <a:lnTo>
                  <a:pt x="600" y="583"/>
                </a:lnTo>
                <a:lnTo>
                  <a:pt x="506" y="583"/>
                </a:lnTo>
                <a:close/>
                <a:moveTo>
                  <a:pt x="67" y="493"/>
                </a:moveTo>
                <a:lnTo>
                  <a:pt x="161" y="493"/>
                </a:lnTo>
                <a:lnTo>
                  <a:pt x="161" y="583"/>
                </a:lnTo>
                <a:lnTo>
                  <a:pt x="67" y="583"/>
                </a:lnTo>
                <a:lnTo>
                  <a:pt x="67" y="493"/>
                </a:lnTo>
                <a:close/>
                <a:moveTo>
                  <a:pt x="506" y="337"/>
                </a:moveTo>
                <a:lnTo>
                  <a:pt x="506" y="248"/>
                </a:lnTo>
                <a:lnTo>
                  <a:pt x="600" y="248"/>
                </a:lnTo>
                <a:lnTo>
                  <a:pt x="600" y="337"/>
                </a:lnTo>
                <a:lnTo>
                  <a:pt x="506" y="337"/>
                </a:lnTo>
                <a:close/>
                <a:moveTo>
                  <a:pt x="506" y="382"/>
                </a:moveTo>
                <a:lnTo>
                  <a:pt x="600" y="382"/>
                </a:lnTo>
                <a:lnTo>
                  <a:pt x="600" y="448"/>
                </a:lnTo>
                <a:lnTo>
                  <a:pt x="506" y="448"/>
                </a:lnTo>
                <a:lnTo>
                  <a:pt x="506" y="382"/>
                </a:lnTo>
                <a:close/>
                <a:moveTo>
                  <a:pt x="356" y="448"/>
                </a:moveTo>
                <a:lnTo>
                  <a:pt x="356" y="382"/>
                </a:lnTo>
                <a:lnTo>
                  <a:pt x="461" y="382"/>
                </a:lnTo>
                <a:lnTo>
                  <a:pt x="461" y="448"/>
                </a:lnTo>
                <a:lnTo>
                  <a:pt x="356" y="448"/>
                </a:lnTo>
                <a:close/>
                <a:moveTo>
                  <a:pt x="356" y="493"/>
                </a:moveTo>
                <a:lnTo>
                  <a:pt x="461" y="493"/>
                </a:lnTo>
                <a:lnTo>
                  <a:pt x="461" y="583"/>
                </a:lnTo>
                <a:lnTo>
                  <a:pt x="356" y="583"/>
                </a:lnTo>
                <a:lnTo>
                  <a:pt x="356" y="493"/>
                </a:lnTo>
                <a:close/>
                <a:moveTo>
                  <a:pt x="311" y="493"/>
                </a:moveTo>
                <a:lnTo>
                  <a:pt x="311" y="583"/>
                </a:lnTo>
                <a:lnTo>
                  <a:pt x="206" y="583"/>
                </a:lnTo>
                <a:lnTo>
                  <a:pt x="206" y="493"/>
                </a:lnTo>
                <a:lnTo>
                  <a:pt x="311" y="493"/>
                </a:lnTo>
                <a:close/>
                <a:moveTo>
                  <a:pt x="206" y="382"/>
                </a:moveTo>
                <a:lnTo>
                  <a:pt x="311" y="382"/>
                </a:lnTo>
                <a:lnTo>
                  <a:pt x="311" y="448"/>
                </a:lnTo>
                <a:lnTo>
                  <a:pt x="206" y="448"/>
                </a:lnTo>
                <a:lnTo>
                  <a:pt x="206" y="382"/>
                </a:lnTo>
                <a:close/>
                <a:moveTo>
                  <a:pt x="161" y="382"/>
                </a:moveTo>
                <a:lnTo>
                  <a:pt x="161" y="448"/>
                </a:lnTo>
                <a:lnTo>
                  <a:pt x="67" y="448"/>
                </a:lnTo>
                <a:lnTo>
                  <a:pt x="67" y="382"/>
                </a:lnTo>
                <a:lnTo>
                  <a:pt x="161" y="382"/>
                </a:lnTo>
                <a:close/>
                <a:moveTo>
                  <a:pt x="161" y="248"/>
                </a:moveTo>
                <a:lnTo>
                  <a:pt x="161" y="337"/>
                </a:lnTo>
                <a:lnTo>
                  <a:pt x="67" y="337"/>
                </a:lnTo>
                <a:lnTo>
                  <a:pt x="67" y="248"/>
                </a:lnTo>
                <a:lnTo>
                  <a:pt x="161" y="248"/>
                </a:lnTo>
                <a:close/>
                <a:moveTo>
                  <a:pt x="356" y="248"/>
                </a:moveTo>
                <a:lnTo>
                  <a:pt x="461" y="248"/>
                </a:lnTo>
                <a:lnTo>
                  <a:pt x="461" y="337"/>
                </a:lnTo>
                <a:lnTo>
                  <a:pt x="356" y="337"/>
                </a:lnTo>
                <a:lnTo>
                  <a:pt x="356" y="248"/>
                </a:lnTo>
                <a:close/>
                <a:moveTo>
                  <a:pt x="311" y="248"/>
                </a:moveTo>
                <a:lnTo>
                  <a:pt x="311" y="337"/>
                </a:lnTo>
                <a:lnTo>
                  <a:pt x="206" y="337"/>
                </a:lnTo>
                <a:lnTo>
                  <a:pt x="206" y="248"/>
                </a:lnTo>
                <a:lnTo>
                  <a:pt x="311" y="248"/>
                </a:lnTo>
                <a:close/>
                <a:moveTo>
                  <a:pt x="634" y="99"/>
                </a:moveTo>
                <a:lnTo>
                  <a:pt x="522" y="99"/>
                </a:lnTo>
                <a:lnTo>
                  <a:pt x="522" y="45"/>
                </a:lnTo>
                <a:cubicBezTo>
                  <a:pt x="522" y="20"/>
                  <a:pt x="502" y="0"/>
                  <a:pt x="478" y="0"/>
                </a:cubicBezTo>
                <a:cubicBezTo>
                  <a:pt x="453" y="0"/>
                  <a:pt x="433" y="20"/>
                  <a:pt x="433" y="45"/>
                </a:cubicBezTo>
                <a:lnTo>
                  <a:pt x="433" y="99"/>
                </a:lnTo>
                <a:lnTo>
                  <a:pt x="233" y="99"/>
                </a:lnTo>
                <a:lnTo>
                  <a:pt x="233" y="45"/>
                </a:lnTo>
                <a:cubicBezTo>
                  <a:pt x="233" y="20"/>
                  <a:pt x="214" y="0"/>
                  <a:pt x="189" y="0"/>
                </a:cubicBezTo>
                <a:cubicBezTo>
                  <a:pt x="165" y="0"/>
                  <a:pt x="145" y="20"/>
                  <a:pt x="145" y="45"/>
                </a:cubicBezTo>
                <a:lnTo>
                  <a:pt x="145" y="99"/>
                </a:lnTo>
                <a:lnTo>
                  <a:pt x="33" y="99"/>
                </a:lnTo>
                <a:cubicBezTo>
                  <a:pt x="15" y="99"/>
                  <a:pt x="0" y="114"/>
                  <a:pt x="0" y="133"/>
                </a:cubicBezTo>
                <a:lnTo>
                  <a:pt x="0" y="616"/>
                </a:lnTo>
                <a:cubicBezTo>
                  <a:pt x="0" y="634"/>
                  <a:pt x="15" y="649"/>
                  <a:pt x="33" y="649"/>
                </a:cubicBezTo>
                <a:lnTo>
                  <a:pt x="634" y="649"/>
                </a:lnTo>
                <a:cubicBezTo>
                  <a:pt x="652" y="649"/>
                  <a:pt x="667" y="634"/>
                  <a:pt x="667" y="616"/>
                </a:cubicBezTo>
                <a:lnTo>
                  <a:pt x="667" y="133"/>
                </a:lnTo>
                <a:cubicBezTo>
                  <a:pt x="667" y="114"/>
                  <a:pt x="652" y="99"/>
                  <a:pt x="634" y="9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19" name="Freeform 8"/>
          <p:cNvSpPr/>
          <p:nvPr/>
        </p:nvSpPr>
        <p:spPr>
          <a:xfrm>
            <a:off x="4535640" y="4511520"/>
            <a:ext cx="150840" cy="150840"/>
          </a:xfrm>
          <a:custGeom>
            <a:avLst/>
            <a:gdLst/>
            <a:ahLst/>
            <a:rect l="l" t="t" r="r" b="b"/>
            <a:pathLst>
              <a:path w="560" h="560">
                <a:moveTo>
                  <a:pt x="383" y="280"/>
                </a:moveTo>
                <a:lnTo>
                  <a:pt x="538" y="126"/>
                </a:lnTo>
                <a:cubicBezTo>
                  <a:pt x="560" y="103"/>
                  <a:pt x="560" y="66"/>
                  <a:pt x="538" y="43"/>
                </a:cubicBezTo>
                <a:lnTo>
                  <a:pt x="517" y="22"/>
                </a:lnTo>
                <a:cubicBezTo>
                  <a:pt x="494" y="0"/>
                  <a:pt x="457" y="0"/>
                  <a:pt x="435" y="22"/>
                </a:cubicBezTo>
                <a:lnTo>
                  <a:pt x="280" y="177"/>
                </a:lnTo>
                <a:lnTo>
                  <a:pt x="126" y="22"/>
                </a:lnTo>
                <a:cubicBezTo>
                  <a:pt x="103" y="0"/>
                  <a:pt x="66" y="0"/>
                  <a:pt x="43" y="22"/>
                </a:cubicBezTo>
                <a:lnTo>
                  <a:pt x="23" y="43"/>
                </a:lnTo>
                <a:cubicBezTo>
                  <a:pt x="0" y="66"/>
                  <a:pt x="0" y="103"/>
                  <a:pt x="23" y="126"/>
                </a:cubicBezTo>
                <a:lnTo>
                  <a:pt x="177" y="280"/>
                </a:lnTo>
                <a:lnTo>
                  <a:pt x="23" y="435"/>
                </a:lnTo>
                <a:cubicBezTo>
                  <a:pt x="0" y="457"/>
                  <a:pt x="0" y="494"/>
                  <a:pt x="23" y="517"/>
                </a:cubicBezTo>
                <a:lnTo>
                  <a:pt x="43" y="538"/>
                </a:lnTo>
                <a:cubicBezTo>
                  <a:pt x="66" y="560"/>
                  <a:pt x="103" y="560"/>
                  <a:pt x="126" y="538"/>
                </a:cubicBezTo>
                <a:lnTo>
                  <a:pt x="280" y="383"/>
                </a:lnTo>
                <a:lnTo>
                  <a:pt x="435" y="538"/>
                </a:lnTo>
                <a:cubicBezTo>
                  <a:pt x="457" y="560"/>
                  <a:pt x="494" y="560"/>
                  <a:pt x="517" y="538"/>
                </a:cubicBezTo>
                <a:lnTo>
                  <a:pt x="538" y="517"/>
                </a:lnTo>
                <a:cubicBezTo>
                  <a:pt x="560" y="494"/>
                  <a:pt x="560" y="457"/>
                  <a:pt x="538" y="435"/>
                </a:cubicBezTo>
                <a:lnTo>
                  <a:pt x="383" y="28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20" name="Freeform 9"/>
          <p:cNvSpPr/>
          <p:nvPr/>
        </p:nvSpPr>
        <p:spPr>
          <a:xfrm>
            <a:off x="6983280" y="1436760"/>
            <a:ext cx="204840" cy="172800"/>
          </a:xfrm>
          <a:custGeom>
            <a:avLst/>
            <a:gdLst/>
            <a:ahLst/>
            <a:rect l="l" t="t" r="r" b="b"/>
            <a:pathLst>
              <a:path w="762" h="645">
                <a:moveTo>
                  <a:pt x="617" y="598"/>
                </a:moveTo>
                <a:lnTo>
                  <a:pt x="475" y="598"/>
                </a:lnTo>
                <a:lnTo>
                  <a:pt x="475" y="410"/>
                </a:lnTo>
                <a:lnTo>
                  <a:pt x="287" y="410"/>
                </a:lnTo>
                <a:lnTo>
                  <a:pt x="287" y="598"/>
                </a:lnTo>
                <a:lnTo>
                  <a:pt x="146" y="598"/>
                </a:lnTo>
                <a:lnTo>
                  <a:pt x="146" y="368"/>
                </a:lnTo>
                <a:lnTo>
                  <a:pt x="381" y="133"/>
                </a:lnTo>
                <a:lnTo>
                  <a:pt x="617" y="368"/>
                </a:lnTo>
                <a:lnTo>
                  <a:pt x="617" y="598"/>
                </a:lnTo>
                <a:close/>
                <a:moveTo>
                  <a:pt x="744" y="362"/>
                </a:moveTo>
                <a:lnTo>
                  <a:pt x="381" y="0"/>
                </a:lnTo>
                <a:lnTo>
                  <a:pt x="18" y="362"/>
                </a:lnTo>
                <a:cubicBezTo>
                  <a:pt x="0" y="381"/>
                  <a:pt x="0" y="411"/>
                  <a:pt x="18" y="429"/>
                </a:cubicBezTo>
                <a:cubicBezTo>
                  <a:pt x="37" y="447"/>
                  <a:pt x="66" y="447"/>
                  <a:pt x="85" y="429"/>
                </a:cubicBezTo>
                <a:lnTo>
                  <a:pt x="99" y="415"/>
                </a:lnTo>
                <a:lnTo>
                  <a:pt x="99" y="645"/>
                </a:lnTo>
                <a:lnTo>
                  <a:pt x="664" y="645"/>
                </a:lnTo>
                <a:lnTo>
                  <a:pt x="664" y="415"/>
                </a:lnTo>
                <a:lnTo>
                  <a:pt x="677" y="429"/>
                </a:lnTo>
                <a:cubicBezTo>
                  <a:pt x="687" y="438"/>
                  <a:pt x="699" y="443"/>
                  <a:pt x="711" y="443"/>
                </a:cubicBezTo>
                <a:cubicBezTo>
                  <a:pt x="723" y="443"/>
                  <a:pt x="735" y="438"/>
                  <a:pt x="744" y="429"/>
                </a:cubicBezTo>
                <a:cubicBezTo>
                  <a:pt x="762" y="411"/>
                  <a:pt x="762" y="381"/>
                  <a:pt x="744" y="36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21" name="Freeform 10"/>
          <p:cNvSpPr/>
          <p:nvPr/>
        </p:nvSpPr>
        <p:spPr>
          <a:xfrm>
            <a:off x="5586480" y="2585880"/>
            <a:ext cx="150840" cy="198720"/>
          </a:xfrm>
          <a:custGeom>
            <a:avLst/>
            <a:gdLst/>
            <a:ahLst/>
            <a:rect l="l" t="t" r="r" b="b"/>
            <a:pathLst>
              <a:path w="558" h="744">
                <a:moveTo>
                  <a:pt x="429" y="456"/>
                </a:moveTo>
                <a:cubicBezTo>
                  <a:pt x="429" y="456"/>
                  <a:pt x="398" y="470"/>
                  <a:pt x="382" y="511"/>
                </a:cubicBezTo>
                <a:lnTo>
                  <a:pt x="178" y="511"/>
                </a:lnTo>
                <a:cubicBezTo>
                  <a:pt x="172" y="495"/>
                  <a:pt x="162" y="478"/>
                  <a:pt x="144" y="467"/>
                </a:cubicBezTo>
                <a:cubicBezTo>
                  <a:pt x="85" y="425"/>
                  <a:pt x="47" y="356"/>
                  <a:pt x="47" y="278"/>
                </a:cubicBezTo>
                <a:cubicBezTo>
                  <a:pt x="47" y="150"/>
                  <a:pt x="151" y="46"/>
                  <a:pt x="279" y="46"/>
                </a:cubicBezTo>
                <a:cubicBezTo>
                  <a:pt x="407" y="46"/>
                  <a:pt x="511" y="150"/>
                  <a:pt x="511" y="278"/>
                </a:cubicBezTo>
                <a:cubicBezTo>
                  <a:pt x="511" y="350"/>
                  <a:pt x="479" y="413"/>
                  <a:pt x="429" y="456"/>
                </a:cubicBezTo>
                <a:close/>
                <a:moveTo>
                  <a:pt x="302" y="93"/>
                </a:moveTo>
                <a:cubicBezTo>
                  <a:pt x="289" y="93"/>
                  <a:pt x="279" y="103"/>
                  <a:pt x="279" y="116"/>
                </a:cubicBezTo>
                <a:cubicBezTo>
                  <a:pt x="279" y="129"/>
                  <a:pt x="289" y="139"/>
                  <a:pt x="302" y="139"/>
                </a:cubicBezTo>
                <a:cubicBezTo>
                  <a:pt x="354" y="139"/>
                  <a:pt x="418" y="187"/>
                  <a:pt x="418" y="257"/>
                </a:cubicBezTo>
                <a:cubicBezTo>
                  <a:pt x="418" y="270"/>
                  <a:pt x="429" y="281"/>
                  <a:pt x="441" y="281"/>
                </a:cubicBezTo>
                <a:cubicBezTo>
                  <a:pt x="454" y="281"/>
                  <a:pt x="465" y="270"/>
                  <a:pt x="465" y="257"/>
                </a:cubicBezTo>
                <a:cubicBezTo>
                  <a:pt x="465" y="151"/>
                  <a:pt x="382" y="93"/>
                  <a:pt x="302" y="93"/>
                </a:cubicBezTo>
                <a:close/>
                <a:moveTo>
                  <a:pt x="374" y="559"/>
                </a:moveTo>
                <a:lnTo>
                  <a:pt x="374" y="604"/>
                </a:lnTo>
                <a:lnTo>
                  <a:pt x="185" y="604"/>
                </a:lnTo>
                <a:lnTo>
                  <a:pt x="185" y="559"/>
                </a:lnTo>
                <a:lnTo>
                  <a:pt x="185" y="557"/>
                </a:lnTo>
                <a:lnTo>
                  <a:pt x="374" y="557"/>
                </a:lnTo>
                <a:lnTo>
                  <a:pt x="374" y="559"/>
                </a:lnTo>
                <a:close/>
                <a:moveTo>
                  <a:pt x="279" y="698"/>
                </a:moveTo>
                <a:lnTo>
                  <a:pt x="185" y="650"/>
                </a:lnTo>
                <a:lnTo>
                  <a:pt x="374" y="650"/>
                </a:lnTo>
                <a:lnTo>
                  <a:pt x="279" y="698"/>
                </a:lnTo>
                <a:close/>
                <a:moveTo>
                  <a:pt x="279" y="0"/>
                </a:moveTo>
                <a:cubicBezTo>
                  <a:pt x="125" y="0"/>
                  <a:pt x="0" y="125"/>
                  <a:pt x="0" y="278"/>
                </a:cubicBezTo>
                <a:cubicBezTo>
                  <a:pt x="0" y="368"/>
                  <a:pt x="44" y="453"/>
                  <a:pt x="117" y="505"/>
                </a:cubicBezTo>
                <a:lnTo>
                  <a:pt x="121" y="508"/>
                </a:lnTo>
                <a:cubicBezTo>
                  <a:pt x="138" y="518"/>
                  <a:pt x="139" y="550"/>
                  <a:pt x="139" y="556"/>
                </a:cubicBezTo>
                <a:lnTo>
                  <a:pt x="139" y="558"/>
                </a:lnTo>
                <a:lnTo>
                  <a:pt x="139" y="650"/>
                </a:lnTo>
                <a:cubicBezTo>
                  <a:pt x="139" y="667"/>
                  <a:pt x="148" y="683"/>
                  <a:pt x="164" y="691"/>
                </a:cubicBezTo>
                <a:lnTo>
                  <a:pt x="258" y="739"/>
                </a:lnTo>
                <a:cubicBezTo>
                  <a:pt x="264" y="743"/>
                  <a:pt x="272" y="744"/>
                  <a:pt x="279" y="744"/>
                </a:cubicBezTo>
                <a:cubicBezTo>
                  <a:pt x="286" y="744"/>
                  <a:pt x="293" y="743"/>
                  <a:pt x="300" y="739"/>
                </a:cubicBezTo>
                <a:lnTo>
                  <a:pt x="395" y="691"/>
                </a:lnTo>
                <a:cubicBezTo>
                  <a:pt x="410" y="684"/>
                  <a:pt x="420" y="668"/>
                  <a:pt x="420" y="650"/>
                </a:cubicBezTo>
                <a:lnTo>
                  <a:pt x="420" y="559"/>
                </a:lnTo>
                <a:cubicBezTo>
                  <a:pt x="420" y="513"/>
                  <a:pt x="448" y="498"/>
                  <a:pt x="448" y="498"/>
                </a:cubicBezTo>
                <a:lnTo>
                  <a:pt x="459" y="491"/>
                </a:lnTo>
                <a:cubicBezTo>
                  <a:pt x="522" y="438"/>
                  <a:pt x="558" y="361"/>
                  <a:pt x="558" y="278"/>
                </a:cubicBezTo>
                <a:cubicBezTo>
                  <a:pt x="558" y="125"/>
                  <a:pt x="433" y="0"/>
                  <a:pt x="279"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22" name="Freeform 11"/>
          <p:cNvSpPr/>
          <p:nvPr/>
        </p:nvSpPr>
        <p:spPr>
          <a:xfrm>
            <a:off x="9067680" y="1738440"/>
            <a:ext cx="146160" cy="145800"/>
          </a:xfrm>
          <a:custGeom>
            <a:avLst/>
            <a:gdLst/>
            <a:ahLst/>
            <a:rect l="l" t="t" r="r" b="b"/>
            <a:pathLst>
              <a:path w="545" h="545">
                <a:moveTo>
                  <a:pt x="182" y="508"/>
                </a:moveTo>
                <a:lnTo>
                  <a:pt x="109" y="508"/>
                </a:lnTo>
                <a:lnTo>
                  <a:pt x="109" y="472"/>
                </a:lnTo>
                <a:lnTo>
                  <a:pt x="129" y="472"/>
                </a:lnTo>
                <a:cubicBezTo>
                  <a:pt x="139" y="472"/>
                  <a:pt x="146" y="463"/>
                  <a:pt x="146" y="453"/>
                </a:cubicBezTo>
                <a:lnTo>
                  <a:pt x="146" y="417"/>
                </a:lnTo>
                <a:cubicBezTo>
                  <a:pt x="146" y="407"/>
                  <a:pt x="139" y="399"/>
                  <a:pt x="129" y="399"/>
                </a:cubicBezTo>
                <a:lnTo>
                  <a:pt x="109" y="399"/>
                </a:lnTo>
                <a:lnTo>
                  <a:pt x="109" y="363"/>
                </a:lnTo>
                <a:lnTo>
                  <a:pt x="129" y="363"/>
                </a:lnTo>
                <a:cubicBezTo>
                  <a:pt x="139" y="363"/>
                  <a:pt x="146" y="354"/>
                  <a:pt x="146" y="344"/>
                </a:cubicBezTo>
                <a:lnTo>
                  <a:pt x="146" y="308"/>
                </a:lnTo>
                <a:cubicBezTo>
                  <a:pt x="146" y="298"/>
                  <a:pt x="139" y="290"/>
                  <a:pt x="129" y="290"/>
                </a:cubicBezTo>
                <a:lnTo>
                  <a:pt x="109" y="290"/>
                </a:lnTo>
                <a:lnTo>
                  <a:pt x="109" y="254"/>
                </a:lnTo>
                <a:lnTo>
                  <a:pt x="129" y="254"/>
                </a:lnTo>
                <a:cubicBezTo>
                  <a:pt x="139" y="254"/>
                  <a:pt x="146" y="245"/>
                  <a:pt x="146" y="235"/>
                </a:cubicBezTo>
                <a:lnTo>
                  <a:pt x="146" y="199"/>
                </a:lnTo>
                <a:cubicBezTo>
                  <a:pt x="146" y="189"/>
                  <a:pt x="139" y="181"/>
                  <a:pt x="129" y="181"/>
                </a:cubicBezTo>
                <a:lnTo>
                  <a:pt x="109" y="181"/>
                </a:lnTo>
                <a:lnTo>
                  <a:pt x="109" y="145"/>
                </a:lnTo>
                <a:lnTo>
                  <a:pt x="129" y="145"/>
                </a:lnTo>
                <a:cubicBezTo>
                  <a:pt x="139" y="145"/>
                  <a:pt x="146" y="136"/>
                  <a:pt x="146" y="126"/>
                </a:cubicBezTo>
                <a:lnTo>
                  <a:pt x="146" y="90"/>
                </a:lnTo>
                <a:cubicBezTo>
                  <a:pt x="146" y="80"/>
                  <a:pt x="139" y="72"/>
                  <a:pt x="129" y="72"/>
                </a:cubicBezTo>
                <a:lnTo>
                  <a:pt x="109" y="72"/>
                </a:lnTo>
                <a:lnTo>
                  <a:pt x="109" y="36"/>
                </a:lnTo>
                <a:lnTo>
                  <a:pt x="182" y="36"/>
                </a:lnTo>
                <a:lnTo>
                  <a:pt x="182" y="508"/>
                </a:lnTo>
                <a:close/>
                <a:moveTo>
                  <a:pt x="510" y="0"/>
                </a:moveTo>
                <a:lnTo>
                  <a:pt x="73" y="0"/>
                </a:lnTo>
                <a:lnTo>
                  <a:pt x="73" y="72"/>
                </a:lnTo>
                <a:lnTo>
                  <a:pt x="20" y="72"/>
                </a:lnTo>
                <a:cubicBezTo>
                  <a:pt x="10" y="72"/>
                  <a:pt x="0" y="80"/>
                  <a:pt x="0" y="90"/>
                </a:cubicBezTo>
                <a:lnTo>
                  <a:pt x="0" y="126"/>
                </a:lnTo>
                <a:cubicBezTo>
                  <a:pt x="0" y="136"/>
                  <a:pt x="10" y="145"/>
                  <a:pt x="20" y="145"/>
                </a:cubicBezTo>
                <a:lnTo>
                  <a:pt x="73" y="145"/>
                </a:lnTo>
                <a:lnTo>
                  <a:pt x="73" y="181"/>
                </a:lnTo>
                <a:lnTo>
                  <a:pt x="20" y="181"/>
                </a:lnTo>
                <a:cubicBezTo>
                  <a:pt x="10" y="181"/>
                  <a:pt x="0" y="189"/>
                  <a:pt x="0" y="199"/>
                </a:cubicBezTo>
                <a:lnTo>
                  <a:pt x="0" y="235"/>
                </a:lnTo>
                <a:cubicBezTo>
                  <a:pt x="0" y="245"/>
                  <a:pt x="10" y="254"/>
                  <a:pt x="20" y="254"/>
                </a:cubicBezTo>
                <a:lnTo>
                  <a:pt x="73" y="254"/>
                </a:lnTo>
                <a:lnTo>
                  <a:pt x="73" y="290"/>
                </a:lnTo>
                <a:lnTo>
                  <a:pt x="20" y="290"/>
                </a:lnTo>
                <a:cubicBezTo>
                  <a:pt x="10" y="290"/>
                  <a:pt x="0" y="298"/>
                  <a:pt x="0" y="308"/>
                </a:cubicBezTo>
                <a:lnTo>
                  <a:pt x="0" y="344"/>
                </a:lnTo>
                <a:cubicBezTo>
                  <a:pt x="0" y="354"/>
                  <a:pt x="10" y="363"/>
                  <a:pt x="20" y="363"/>
                </a:cubicBezTo>
                <a:lnTo>
                  <a:pt x="73" y="363"/>
                </a:lnTo>
                <a:lnTo>
                  <a:pt x="73" y="399"/>
                </a:lnTo>
                <a:lnTo>
                  <a:pt x="20" y="399"/>
                </a:lnTo>
                <a:cubicBezTo>
                  <a:pt x="10" y="399"/>
                  <a:pt x="0" y="407"/>
                  <a:pt x="0" y="417"/>
                </a:cubicBezTo>
                <a:lnTo>
                  <a:pt x="0" y="453"/>
                </a:lnTo>
                <a:cubicBezTo>
                  <a:pt x="0" y="463"/>
                  <a:pt x="10" y="472"/>
                  <a:pt x="20" y="472"/>
                </a:cubicBezTo>
                <a:lnTo>
                  <a:pt x="73" y="472"/>
                </a:lnTo>
                <a:lnTo>
                  <a:pt x="73" y="545"/>
                </a:lnTo>
                <a:lnTo>
                  <a:pt x="510" y="545"/>
                </a:lnTo>
                <a:cubicBezTo>
                  <a:pt x="530" y="545"/>
                  <a:pt x="545" y="527"/>
                  <a:pt x="545" y="507"/>
                </a:cubicBezTo>
                <a:lnTo>
                  <a:pt x="545" y="35"/>
                </a:lnTo>
                <a:cubicBezTo>
                  <a:pt x="545" y="15"/>
                  <a:pt x="530" y="0"/>
                  <a:pt x="510"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23" name="Freeform 12"/>
          <p:cNvSpPr/>
          <p:nvPr/>
        </p:nvSpPr>
        <p:spPr>
          <a:xfrm>
            <a:off x="3232080" y="3271680"/>
            <a:ext cx="168480" cy="165240"/>
          </a:xfrm>
          <a:custGeom>
            <a:avLst/>
            <a:gdLst/>
            <a:ahLst/>
            <a:rect l="l" t="t" r="r" b="b"/>
            <a:pathLst>
              <a:path w="631" h="617">
                <a:moveTo>
                  <a:pt x="589" y="348"/>
                </a:moveTo>
                <a:lnTo>
                  <a:pt x="501" y="348"/>
                </a:lnTo>
                <a:lnTo>
                  <a:pt x="501" y="143"/>
                </a:lnTo>
                <a:cubicBezTo>
                  <a:pt x="501" y="132"/>
                  <a:pt x="492" y="122"/>
                  <a:pt x="480" y="122"/>
                </a:cubicBezTo>
                <a:lnTo>
                  <a:pt x="172" y="122"/>
                </a:lnTo>
                <a:lnTo>
                  <a:pt x="172" y="42"/>
                </a:lnTo>
                <a:lnTo>
                  <a:pt x="589" y="42"/>
                </a:lnTo>
                <a:lnTo>
                  <a:pt x="589" y="348"/>
                </a:lnTo>
                <a:close/>
                <a:moveTo>
                  <a:pt x="430" y="296"/>
                </a:moveTo>
                <a:lnTo>
                  <a:pt x="430" y="191"/>
                </a:lnTo>
                <a:lnTo>
                  <a:pt x="325" y="191"/>
                </a:lnTo>
                <a:cubicBezTo>
                  <a:pt x="325" y="249"/>
                  <a:pt x="372" y="296"/>
                  <a:pt x="430" y="296"/>
                </a:cubicBezTo>
                <a:close/>
                <a:moveTo>
                  <a:pt x="433" y="369"/>
                </a:moveTo>
                <a:lnTo>
                  <a:pt x="347" y="398"/>
                </a:lnTo>
                <a:lnTo>
                  <a:pt x="260" y="320"/>
                </a:lnTo>
                <a:lnTo>
                  <a:pt x="194" y="313"/>
                </a:lnTo>
                <a:lnTo>
                  <a:pt x="132" y="244"/>
                </a:lnTo>
                <a:lnTo>
                  <a:pt x="68" y="369"/>
                </a:lnTo>
                <a:lnTo>
                  <a:pt x="68" y="441"/>
                </a:lnTo>
                <a:lnTo>
                  <a:pt x="433" y="441"/>
                </a:lnTo>
                <a:lnTo>
                  <a:pt x="433" y="369"/>
                </a:lnTo>
                <a:close/>
                <a:moveTo>
                  <a:pt x="459" y="165"/>
                </a:moveTo>
                <a:lnTo>
                  <a:pt x="459" y="470"/>
                </a:lnTo>
                <a:lnTo>
                  <a:pt x="42" y="470"/>
                </a:lnTo>
                <a:lnTo>
                  <a:pt x="42" y="165"/>
                </a:lnTo>
                <a:lnTo>
                  <a:pt x="459" y="165"/>
                </a:lnTo>
                <a:close/>
                <a:moveTo>
                  <a:pt x="610" y="0"/>
                </a:moveTo>
                <a:lnTo>
                  <a:pt x="150" y="0"/>
                </a:lnTo>
                <a:cubicBezTo>
                  <a:pt x="139" y="0"/>
                  <a:pt x="129" y="10"/>
                  <a:pt x="129" y="21"/>
                </a:cubicBezTo>
                <a:lnTo>
                  <a:pt x="129" y="122"/>
                </a:lnTo>
                <a:lnTo>
                  <a:pt x="21" y="122"/>
                </a:lnTo>
                <a:cubicBezTo>
                  <a:pt x="9" y="122"/>
                  <a:pt x="0" y="132"/>
                  <a:pt x="0" y="143"/>
                </a:cubicBezTo>
                <a:lnTo>
                  <a:pt x="0" y="596"/>
                </a:lnTo>
                <a:cubicBezTo>
                  <a:pt x="0" y="607"/>
                  <a:pt x="9" y="617"/>
                  <a:pt x="21" y="617"/>
                </a:cubicBezTo>
                <a:lnTo>
                  <a:pt x="480" y="617"/>
                </a:lnTo>
                <a:cubicBezTo>
                  <a:pt x="492" y="617"/>
                  <a:pt x="501" y="607"/>
                  <a:pt x="501" y="596"/>
                </a:cubicBezTo>
                <a:lnTo>
                  <a:pt x="501" y="494"/>
                </a:lnTo>
                <a:lnTo>
                  <a:pt x="610" y="494"/>
                </a:lnTo>
                <a:cubicBezTo>
                  <a:pt x="621" y="494"/>
                  <a:pt x="631" y="485"/>
                  <a:pt x="631" y="473"/>
                </a:cubicBezTo>
                <a:lnTo>
                  <a:pt x="631" y="21"/>
                </a:lnTo>
                <a:cubicBezTo>
                  <a:pt x="631" y="10"/>
                  <a:pt x="621" y="0"/>
                  <a:pt x="610"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24" name="Freeform 13"/>
          <p:cNvSpPr/>
          <p:nvPr/>
        </p:nvSpPr>
        <p:spPr>
          <a:xfrm>
            <a:off x="3598920" y="3273480"/>
            <a:ext cx="123840" cy="162000"/>
          </a:xfrm>
          <a:custGeom>
            <a:avLst/>
            <a:gdLst/>
            <a:ahLst/>
            <a:rect l="l" t="t" r="r" b="b"/>
            <a:pathLst>
              <a:path w="461" h="609">
                <a:moveTo>
                  <a:pt x="392" y="24"/>
                </a:moveTo>
                <a:lnTo>
                  <a:pt x="432" y="24"/>
                </a:lnTo>
                <a:lnTo>
                  <a:pt x="432" y="98"/>
                </a:lnTo>
                <a:lnTo>
                  <a:pt x="392" y="98"/>
                </a:lnTo>
                <a:lnTo>
                  <a:pt x="392" y="24"/>
                </a:lnTo>
                <a:close/>
                <a:moveTo>
                  <a:pt x="361" y="569"/>
                </a:moveTo>
                <a:lnTo>
                  <a:pt x="100" y="569"/>
                </a:lnTo>
                <a:cubicBezTo>
                  <a:pt x="92" y="569"/>
                  <a:pt x="85" y="562"/>
                  <a:pt x="85" y="554"/>
                </a:cubicBezTo>
                <a:cubicBezTo>
                  <a:pt x="85" y="546"/>
                  <a:pt x="92" y="540"/>
                  <a:pt x="100" y="540"/>
                </a:cubicBezTo>
                <a:lnTo>
                  <a:pt x="361" y="540"/>
                </a:lnTo>
                <a:cubicBezTo>
                  <a:pt x="369" y="540"/>
                  <a:pt x="376" y="546"/>
                  <a:pt x="376" y="554"/>
                </a:cubicBezTo>
                <a:cubicBezTo>
                  <a:pt x="376" y="562"/>
                  <a:pt x="369" y="569"/>
                  <a:pt x="361" y="569"/>
                </a:cubicBezTo>
                <a:close/>
                <a:moveTo>
                  <a:pt x="55" y="73"/>
                </a:moveTo>
                <a:lnTo>
                  <a:pt x="95" y="73"/>
                </a:lnTo>
                <a:lnTo>
                  <a:pt x="95" y="147"/>
                </a:lnTo>
                <a:lnTo>
                  <a:pt x="55" y="147"/>
                </a:lnTo>
                <a:lnTo>
                  <a:pt x="55" y="73"/>
                </a:lnTo>
                <a:close/>
                <a:moveTo>
                  <a:pt x="119" y="24"/>
                </a:moveTo>
                <a:lnTo>
                  <a:pt x="159" y="24"/>
                </a:lnTo>
                <a:lnTo>
                  <a:pt x="159" y="98"/>
                </a:lnTo>
                <a:lnTo>
                  <a:pt x="119" y="98"/>
                </a:lnTo>
                <a:lnTo>
                  <a:pt x="119" y="24"/>
                </a:lnTo>
                <a:close/>
                <a:moveTo>
                  <a:pt x="296" y="485"/>
                </a:moveTo>
                <a:cubicBezTo>
                  <a:pt x="304" y="485"/>
                  <a:pt x="310" y="491"/>
                  <a:pt x="310" y="499"/>
                </a:cubicBezTo>
                <a:cubicBezTo>
                  <a:pt x="310" y="508"/>
                  <a:pt x="304" y="514"/>
                  <a:pt x="296" y="514"/>
                </a:cubicBezTo>
                <a:lnTo>
                  <a:pt x="166" y="514"/>
                </a:lnTo>
                <a:cubicBezTo>
                  <a:pt x="157" y="514"/>
                  <a:pt x="151" y="508"/>
                  <a:pt x="151" y="499"/>
                </a:cubicBezTo>
                <a:cubicBezTo>
                  <a:pt x="151" y="491"/>
                  <a:pt x="157" y="485"/>
                  <a:pt x="166" y="485"/>
                </a:cubicBezTo>
                <a:lnTo>
                  <a:pt x="296" y="485"/>
                </a:lnTo>
                <a:close/>
                <a:moveTo>
                  <a:pt x="187" y="24"/>
                </a:moveTo>
                <a:lnTo>
                  <a:pt x="227" y="24"/>
                </a:lnTo>
                <a:lnTo>
                  <a:pt x="227" y="98"/>
                </a:lnTo>
                <a:lnTo>
                  <a:pt x="187" y="98"/>
                </a:lnTo>
                <a:lnTo>
                  <a:pt x="187" y="24"/>
                </a:lnTo>
                <a:close/>
                <a:moveTo>
                  <a:pt x="255" y="24"/>
                </a:moveTo>
                <a:lnTo>
                  <a:pt x="295" y="24"/>
                </a:lnTo>
                <a:lnTo>
                  <a:pt x="295" y="98"/>
                </a:lnTo>
                <a:lnTo>
                  <a:pt x="255" y="98"/>
                </a:lnTo>
                <a:lnTo>
                  <a:pt x="255" y="24"/>
                </a:lnTo>
                <a:close/>
                <a:moveTo>
                  <a:pt x="323" y="24"/>
                </a:moveTo>
                <a:lnTo>
                  <a:pt x="363" y="24"/>
                </a:lnTo>
                <a:lnTo>
                  <a:pt x="363" y="98"/>
                </a:lnTo>
                <a:lnTo>
                  <a:pt x="323" y="98"/>
                </a:lnTo>
                <a:lnTo>
                  <a:pt x="323" y="24"/>
                </a:lnTo>
                <a:close/>
                <a:moveTo>
                  <a:pt x="421" y="344"/>
                </a:moveTo>
                <a:lnTo>
                  <a:pt x="421" y="181"/>
                </a:lnTo>
                <a:lnTo>
                  <a:pt x="461" y="181"/>
                </a:lnTo>
                <a:lnTo>
                  <a:pt x="461" y="22"/>
                </a:lnTo>
                <a:cubicBezTo>
                  <a:pt x="461" y="10"/>
                  <a:pt x="451" y="0"/>
                  <a:pt x="439" y="0"/>
                </a:cubicBezTo>
                <a:lnTo>
                  <a:pt x="121" y="0"/>
                </a:lnTo>
                <a:cubicBezTo>
                  <a:pt x="109" y="0"/>
                  <a:pt x="99" y="4"/>
                  <a:pt x="91" y="13"/>
                </a:cubicBezTo>
                <a:lnTo>
                  <a:pt x="11" y="97"/>
                </a:lnTo>
                <a:cubicBezTo>
                  <a:pt x="4" y="105"/>
                  <a:pt x="0" y="115"/>
                  <a:pt x="0" y="126"/>
                </a:cubicBezTo>
                <a:lnTo>
                  <a:pt x="0" y="181"/>
                </a:lnTo>
                <a:lnTo>
                  <a:pt x="40" y="181"/>
                </a:lnTo>
                <a:lnTo>
                  <a:pt x="40" y="255"/>
                </a:lnTo>
                <a:lnTo>
                  <a:pt x="0" y="255"/>
                </a:lnTo>
                <a:lnTo>
                  <a:pt x="0" y="587"/>
                </a:lnTo>
                <a:cubicBezTo>
                  <a:pt x="0" y="599"/>
                  <a:pt x="10" y="609"/>
                  <a:pt x="22" y="609"/>
                </a:cubicBezTo>
                <a:lnTo>
                  <a:pt x="439" y="609"/>
                </a:lnTo>
                <a:cubicBezTo>
                  <a:pt x="451" y="609"/>
                  <a:pt x="461" y="599"/>
                  <a:pt x="461" y="587"/>
                </a:cubicBezTo>
                <a:lnTo>
                  <a:pt x="461" y="344"/>
                </a:lnTo>
                <a:lnTo>
                  <a:pt x="421" y="344"/>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25" name="Freeform 14"/>
          <p:cNvSpPr/>
          <p:nvPr/>
        </p:nvSpPr>
        <p:spPr>
          <a:xfrm>
            <a:off x="5208480" y="3282840"/>
            <a:ext cx="214560" cy="142920"/>
          </a:xfrm>
          <a:custGeom>
            <a:avLst/>
            <a:gdLst/>
            <a:ahLst/>
            <a:rect l="l" t="t" r="r" b="b"/>
            <a:pathLst>
              <a:path w="800" h="530">
                <a:moveTo>
                  <a:pt x="47" y="217"/>
                </a:moveTo>
                <a:lnTo>
                  <a:pt x="17" y="217"/>
                </a:lnTo>
                <a:cubicBezTo>
                  <a:pt x="8" y="217"/>
                  <a:pt x="0" y="225"/>
                  <a:pt x="0" y="234"/>
                </a:cubicBezTo>
                <a:lnTo>
                  <a:pt x="0" y="458"/>
                </a:lnTo>
                <a:cubicBezTo>
                  <a:pt x="0" y="468"/>
                  <a:pt x="8" y="476"/>
                  <a:pt x="17" y="476"/>
                </a:cubicBezTo>
                <a:lnTo>
                  <a:pt x="47" y="476"/>
                </a:lnTo>
                <a:cubicBezTo>
                  <a:pt x="56" y="476"/>
                  <a:pt x="64" y="468"/>
                  <a:pt x="64" y="458"/>
                </a:cubicBezTo>
                <a:lnTo>
                  <a:pt x="64" y="234"/>
                </a:lnTo>
                <a:cubicBezTo>
                  <a:pt x="64" y="225"/>
                  <a:pt x="56" y="217"/>
                  <a:pt x="47" y="217"/>
                </a:cubicBezTo>
                <a:close/>
                <a:moveTo>
                  <a:pt x="599" y="475"/>
                </a:moveTo>
                <a:cubicBezTo>
                  <a:pt x="581" y="475"/>
                  <a:pt x="567" y="460"/>
                  <a:pt x="567" y="442"/>
                </a:cubicBezTo>
                <a:cubicBezTo>
                  <a:pt x="567" y="424"/>
                  <a:pt x="581" y="409"/>
                  <a:pt x="599" y="409"/>
                </a:cubicBezTo>
                <a:cubicBezTo>
                  <a:pt x="617" y="409"/>
                  <a:pt x="632" y="424"/>
                  <a:pt x="632" y="442"/>
                </a:cubicBezTo>
                <a:cubicBezTo>
                  <a:pt x="632" y="460"/>
                  <a:pt x="617" y="475"/>
                  <a:pt x="599" y="475"/>
                </a:cubicBezTo>
                <a:close/>
                <a:moveTo>
                  <a:pt x="498" y="466"/>
                </a:moveTo>
                <a:cubicBezTo>
                  <a:pt x="485" y="466"/>
                  <a:pt x="474" y="456"/>
                  <a:pt x="474" y="442"/>
                </a:cubicBezTo>
                <a:cubicBezTo>
                  <a:pt x="474" y="429"/>
                  <a:pt x="485" y="418"/>
                  <a:pt x="498" y="418"/>
                </a:cubicBezTo>
                <a:cubicBezTo>
                  <a:pt x="511" y="418"/>
                  <a:pt x="522" y="429"/>
                  <a:pt x="522" y="442"/>
                </a:cubicBezTo>
                <a:cubicBezTo>
                  <a:pt x="522" y="456"/>
                  <a:pt x="511" y="466"/>
                  <a:pt x="498" y="466"/>
                </a:cubicBezTo>
                <a:close/>
                <a:moveTo>
                  <a:pt x="783" y="200"/>
                </a:moveTo>
                <a:cubicBezTo>
                  <a:pt x="774" y="200"/>
                  <a:pt x="766" y="208"/>
                  <a:pt x="766" y="217"/>
                </a:cubicBezTo>
                <a:lnTo>
                  <a:pt x="704" y="217"/>
                </a:lnTo>
                <a:lnTo>
                  <a:pt x="704" y="199"/>
                </a:lnTo>
                <a:cubicBezTo>
                  <a:pt x="704" y="179"/>
                  <a:pt x="688" y="162"/>
                  <a:pt x="667" y="162"/>
                </a:cubicBezTo>
                <a:lnTo>
                  <a:pt x="427" y="162"/>
                </a:lnTo>
                <a:lnTo>
                  <a:pt x="485" y="59"/>
                </a:lnTo>
                <a:lnTo>
                  <a:pt x="637" y="59"/>
                </a:lnTo>
                <a:cubicBezTo>
                  <a:pt x="654" y="59"/>
                  <a:pt x="667" y="46"/>
                  <a:pt x="667" y="30"/>
                </a:cubicBezTo>
                <a:cubicBezTo>
                  <a:pt x="667" y="14"/>
                  <a:pt x="653" y="0"/>
                  <a:pt x="637" y="0"/>
                </a:cubicBezTo>
                <a:lnTo>
                  <a:pt x="457" y="0"/>
                </a:lnTo>
                <a:cubicBezTo>
                  <a:pt x="424" y="0"/>
                  <a:pt x="393" y="18"/>
                  <a:pt x="376" y="47"/>
                </a:cubicBezTo>
                <a:lnTo>
                  <a:pt x="309" y="162"/>
                </a:lnTo>
                <a:lnTo>
                  <a:pt x="252" y="162"/>
                </a:lnTo>
                <a:cubicBezTo>
                  <a:pt x="231" y="162"/>
                  <a:pt x="215" y="179"/>
                  <a:pt x="215" y="199"/>
                </a:cubicBezTo>
                <a:lnTo>
                  <a:pt x="215" y="255"/>
                </a:lnTo>
                <a:lnTo>
                  <a:pt x="108" y="224"/>
                </a:lnTo>
                <a:cubicBezTo>
                  <a:pt x="103" y="222"/>
                  <a:pt x="97" y="223"/>
                  <a:pt x="92" y="226"/>
                </a:cubicBezTo>
                <a:cubicBezTo>
                  <a:pt x="88" y="230"/>
                  <a:pt x="85" y="235"/>
                  <a:pt x="85" y="240"/>
                </a:cubicBezTo>
                <a:lnTo>
                  <a:pt x="85" y="452"/>
                </a:lnTo>
                <a:cubicBezTo>
                  <a:pt x="85" y="458"/>
                  <a:pt x="88" y="463"/>
                  <a:pt x="92" y="466"/>
                </a:cubicBezTo>
                <a:cubicBezTo>
                  <a:pt x="97" y="469"/>
                  <a:pt x="103" y="471"/>
                  <a:pt x="108" y="469"/>
                </a:cubicBezTo>
                <a:lnTo>
                  <a:pt x="215" y="438"/>
                </a:lnTo>
                <a:lnTo>
                  <a:pt x="215" y="493"/>
                </a:lnTo>
                <a:cubicBezTo>
                  <a:pt x="215" y="514"/>
                  <a:pt x="231" y="530"/>
                  <a:pt x="252" y="530"/>
                </a:cubicBezTo>
                <a:lnTo>
                  <a:pt x="667" y="530"/>
                </a:lnTo>
                <a:cubicBezTo>
                  <a:pt x="688" y="530"/>
                  <a:pt x="704" y="514"/>
                  <a:pt x="704" y="493"/>
                </a:cubicBezTo>
                <a:lnTo>
                  <a:pt x="704" y="325"/>
                </a:lnTo>
                <a:lnTo>
                  <a:pt x="766" y="325"/>
                </a:lnTo>
                <a:cubicBezTo>
                  <a:pt x="766" y="334"/>
                  <a:pt x="774" y="342"/>
                  <a:pt x="783" y="342"/>
                </a:cubicBezTo>
                <a:cubicBezTo>
                  <a:pt x="792" y="342"/>
                  <a:pt x="800" y="334"/>
                  <a:pt x="800" y="325"/>
                </a:cubicBezTo>
                <a:lnTo>
                  <a:pt x="800" y="217"/>
                </a:lnTo>
                <a:cubicBezTo>
                  <a:pt x="800" y="208"/>
                  <a:pt x="792" y="200"/>
                  <a:pt x="783" y="200"/>
                </a:cubicBezTo>
                <a:close/>
              </a:path>
            </a:pathLst>
          </a:custGeom>
          <a:solidFill>
            <a:srgbClr val="a6a6a6"/>
          </a:solidFill>
          <a:ln w="0">
            <a:noFill/>
          </a:ln>
        </p:spPr>
        <p:style>
          <a:lnRef idx="0"/>
          <a:fillRef idx="0"/>
          <a:effectRef idx="0"/>
          <a:fontRef idx="minor"/>
        </p:style>
        <p:txBody>
          <a:bodyPr lIns="145800" rIns="145800" tIns="70200" bIns="70200" anchor="t">
            <a:noAutofit/>
          </a:bodyPr>
          <a:p>
            <a:endParaRPr b="0" lang="en-US" sz="1800" spc="-1" strike="noStrike">
              <a:solidFill>
                <a:srgbClr val="000000"/>
              </a:solidFill>
              <a:latin typeface="Calibri"/>
            </a:endParaRPr>
          </a:p>
        </p:txBody>
      </p:sp>
      <p:sp>
        <p:nvSpPr>
          <p:cNvPr id="1626" name="Freeform 15"/>
          <p:cNvSpPr/>
          <p:nvPr/>
        </p:nvSpPr>
        <p:spPr>
          <a:xfrm>
            <a:off x="3898800" y="3282840"/>
            <a:ext cx="141480" cy="142920"/>
          </a:xfrm>
          <a:custGeom>
            <a:avLst/>
            <a:gdLst/>
            <a:ahLst/>
            <a:rect l="l" t="t" r="r" b="b"/>
            <a:pathLst>
              <a:path w="530" h="531">
                <a:moveTo>
                  <a:pt x="269" y="493"/>
                </a:moveTo>
                <a:lnTo>
                  <a:pt x="385" y="290"/>
                </a:lnTo>
                <a:lnTo>
                  <a:pt x="449" y="400"/>
                </a:lnTo>
                <a:cubicBezTo>
                  <a:pt x="408" y="455"/>
                  <a:pt x="342" y="492"/>
                  <a:pt x="269" y="493"/>
                </a:cubicBezTo>
                <a:close/>
                <a:moveTo>
                  <a:pt x="69" y="381"/>
                </a:moveTo>
                <a:lnTo>
                  <a:pt x="304" y="381"/>
                </a:lnTo>
                <a:lnTo>
                  <a:pt x="241" y="492"/>
                </a:lnTo>
                <a:cubicBezTo>
                  <a:pt x="168" y="484"/>
                  <a:pt x="105" y="442"/>
                  <a:pt x="69" y="381"/>
                </a:cubicBezTo>
                <a:close/>
                <a:moveTo>
                  <a:pt x="67" y="154"/>
                </a:moveTo>
                <a:lnTo>
                  <a:pt x="184" y="357"/>
                </a:lnTo>
                <a:lnTo>
                  <a:pt x="57" y="357"/>
                </a:lnTo>
                <a:cubicBezTo>
                  <a:pt x="44" y="329"/>
                  <a:pt x="37" y="298"/>
                  <a:pt x="37" y="265"/>
                </a:cubicBezTo>
                <a:cubicBezTo>
                  <a:pt x="37" y="225"/>
                  <a:pt x="48" y="187"/>
                  <a:pt x="67" y="154"/>
                </a:cubicBezTo>
                <a:close/>
                <a:moveTo>
                  <a:pt x="262" y="38"/>
                </a:moveTo>
                <a:lnTo>
                  <a:pt x="146" y="241"/>
                </a:lnTo>
                <a:lnTo>
                  <a:pt x="82" y="131"/>
                </a:lnTo>
                <a:cubicBezTo>
                  <a:pt x="122" y="75"/>
                  <a:pt x="188" y="39"/>
                  <a:pt x="262" y="38"/>
                </a:cubicBezTo>
                <a:close/>
                <a:moveTo>
                  <a:pt x="461" y="150"/>
                </a:moveTo>
                <a:lnTo>
                  <a:pt x="226" y="150"/>
                </a:lnTo>
                <a:lnTo>
                  <a:pt x="289" y="39"/>
                </a:lnTo>
                <a:cubicBezTo>
                  <a:pt x="362" y="47"/>
                  <a:pt x="425" y="89"/>
                  <a:pt x="461" y="150"/>
                </a:cubicBezTo>
                <a:close/>
                <a:moveTo>
                  <a:pt x="346" y="174"/>
                </a:moveTo>
                <a:lnTo>
                  <a:pt x="474" y="174"/>
                </a:lnTo>
                <a:cubicBezTo>
                  <a:pt x="486" y="202"/>
                  <a:pt x="493" y="233"/>
                  <a:pt x="493" y="265"/>
                </a:cubicBezTo>
                <a:cubicBezTo>
                  <a:pt x="493" y="306"/>
                  <a:pt x="482" y="344"/>
                  <a:pt x="464" y="377"/>
                </a:cubicBezTo>
                <a:lnTo>
                  <a:pt x="346" y="174"/>
                </a:lnTo>
                <a:close/>
                <a:moveTo>
                  <a:pt x="265" y="0"/>
                </a:moveTo>
                <a:cubicBezTo>
                  <a:pt x="119" y="0"/>
                  <a:pt x="0" y="119"/>
                  <a:pt x="0" y="265"/>
                </a:cubicBezTo>
                <a:cubicBezTo>
                  <a:pt x="0" y="412"/>
                  <a:pt x="119" y="531"/>
                  <a:pt x="265" y="531"/>
                </a:cubicBezTo>
                <a:cubicBezTo>
                  <a:pt x="411" y="531"/>
                  <a:pt x="530" y="412"/>
                  <a:pt x="530" y="265"/>
                </a:cubicBezTo>
                <a:cubicBezTo>
                  <a:pt x="530" y="119"/>
                  <a:pt x="411" y="0"/>
                  <a:pt x="265" y="0"/>
                </a:cubicBezTo>
                <a:close/>
              </a:path>
            </a:pathLst>
          </a:custGeom>
          <a:solidFill>
            <a:srgbClr val="a6a6a6"/>
          </a:solidFill>
          <a:ln w="0">
            <a:noFill/>
          </a:ln>
        </p:spPr>
        <p:style>
          <a:lnRef idx="0"/>
          <a:fillRef idx="0"/>
          <a:effectRef idx="0"/>
          <a:fontRef idx="minor"/>
        </p:style>
        <p:txBody>
          <a:bodyPr lIns="145800" rIns="145800" tIns="70200" bIns="70200" anchor="t">
            <a:noAutofit/>
          </a:bodyPr>
          <a:p>
            <a:endParaRPr b="0" lang="en-US" sz="1800" spc="-1" strike="noStrike">
              <a:solidFill>
                <a:srgbClr val="000000"/>
              </a:solidFill>
              <a:latin typeface="Calibri"/>
            </a:endParaRPr>
          </a:p>
        </p:txBody>
      </p:sp>
      <p:sp>
        <p:nvSpPr>
          <p:cNvPr id="1627" name="Freeform 16"/>
          <p:cNvSpPr/>
          <p:nvPr/>
        </p:nvSpPr>
        <p:spPr>
          <a:xfrm>
            <a:off x="8691480" y="1187280"/>
            <a:ext cx="217440" cy="133560"/>
          </a:xfrm>
          <a:custGeom>
            <a:avLst/>
            <a:gdLst/>
            <a:ahLst/>
            <a:rect l="l" t="t" r="r" b="b"/>
            <a:pathLst>
              <a:path w="814" h="501">
                <a:moveTo>
                  <a:pt x="407" y="456"/>
                </a:moveTo>
                <a:cubicBezTo>
                  <a:pt x="241" y="456"/>
                  <a:pt x="97" y="299"/>
                  <a:pt x="58" y="251"/>
                </a:cubicBezTo>
                <a:cubicBezTo>
                  <a:pt x="97" y="203"/>
                  <a:pt x="241" y="46"/>
                  <a:pt x="407" y="46"/>
                </a:cubicBezTo>
                <a:cubicBezTo>
                  <a:pt x="573" y="46"/>
                  <a:pt x="717" y="203"/>
                  <a:pt x="757" y="251"/>
                </a:cubicBezTo>
                <a:cubicBezTo>
                  <a:pt x="717" y="299"/>
                  <a:pt x="574" y="456"/>
                  <a:pt x="407" y="456"/>
                </a:cubicBezTo>
                <a:close/>
                <a:moveTo>
                  <a:pt x="391" y="195"/>
                </a:moveTo>
                <a:cubicBezTo>
                  <a:pt x="369" y="195"/>
                  <a:pt x="352" y="213"/>
                  <a:pt x="352" y="235"/>
                </a:cubicBezTo>
                <a:cubicBezTo>
                  <a:pt x="352" y="242"/>
                  <a:pt x="346" y="248"/>
                  <a:pt x="338" y="248"/>
                </a:cubicBezTo>
                <a:cubicBezTo>
                  <a:pt x="331" y="248"/>
                  <a:pt x="324" y="242"/>
                  <a:pt x="324" y="235"/>
                </a:cubicBezTo>
                <a:cubicBezTo>
                  <a:pt x="324" y="198"/>
                  <a:pt x="354" y="168"/>
                  <a:pt x="391" y="168"/>
                </a:cubicBezTo>
                <a:cubicBezTo>
                  <a:pt x="399" y="168"/>
                  <a:pt x="405" y="174"/>
                  <a:pt x="405" y="182"/>
                </a:cubicBezTo>
                <a:cubicBezTo>
                  <a:pt x="405" y="189"/>
                  <a:pt x="399" y="195"/>
                  <a:pt x="391" y="195"/>
                </a:cubicBezTo>
                <a:close/>
                <a:moveTo>
                  <a:pt x="407" y="130"/>
                </a:moveTo>
                <a:cubicBezTo>
                  <a:pt x="341" y="130"/>
                  <a:pt x="287" y="184"/>
                  <a:pt x="287" y="251"/>
                </a:cubicBezTo>
                <a:cubicBezTo>
                  <a:pt x="287" y="317"/>
                  <a:pt x="341" y="371"/>
                  <a:pt x="407" y="371"/>
                </a:cubicBezTo>
                <a:cubicBezTo>
                  <a:pt x="474" y="371"/>
                  <a:pt x="528" y="317"/>
                  <a:pt x="528" y="251"/>
                </a:cubicBezTo>
                <a:cubicBezTo>
                  <a:pt x="528" y="184"/>
                  <a:pt x="474" y="130"/>
                  <a:pt x="407" y="130"/>
                </a:cubicBezTo>
                <a:close/>
                <a:moveTo>
                  <a:pt x="407" y="401"/>
                </a:moveTo>
                <a:cubicBezTo>
                  <a:pt x="325" y="401"/>
                  <a:pt x="257" y="334"/>
                  <a:pt x="257" y="251"/>
                </a:cubicBezTo>
                <a:cubicBezTo>
                  <a:pt x="257" y="168"/>
                  <a:pt x="325" y="101"/>
                  <a:pt x="407" y="101"/>
                </a:cubicBezTo>
                <a:cubicBezTo>
                  <a:pt x="490" y="101"/>
                  <a:pt x="557" y="168"/>
                  <a:pt x="557" y="251"/>
                </a:cubicBezTo>
                <a:cubicBezTo>
                  <a:pt x="557" y="334"/>
                  <a:pt x="490" y="401"/>
                  <a:pt x="407" y="401"/>
                </a:cubicBezTo>
                <a:close/>
                <a:moveTo>
                  <a:pt x="407" y="55"/>
                </a:moveTo>
                <a:cubicBezTo>
                  <a:pt x="299" y="55"/>
                  <a:pt x="212" y="143"/>
                  <a:pt x="212" y="251"/>
                </a:cubicBezTo>
                <a:cubicBezTo>
                  <a:pt x="212" y="359"/>
                  <a:pt x="299" y="446"/>
                  <a:pt x="407" y="446"/>
                </a:cubicBezTo>
                <a:cubicBezTo>
                  <a:pt x="515" y="446"/>
                  <a:pt x="603" y="359"/>
                  <a:pt x="603" y="251"/>
                </a:cubicBezTo>
                <a:cubicBezTo>
                  <a:pt x="603" y="143"/>
                  <a:pt x="515" y="55"/>
                  <a:pt x="407" y="55"/>
                </a:cubicBezTo>
                <a:close/>
                <a:moveTo>
                  <a:pt x="804" y="237"/>
                </a:moveTo>
                <a:cubicBezTo>
                  <a:pt x="802" y="235"/>
                  <a:pt x="759" y="177"/>
                  <a:pt x="689" y="119"/>
                </a:cubicBezTo>
                <a:cubicBezTo>
                  <a:pt x="596" y="41"/>
                  <a:pt x="498" y="0"/>
                  <a:pt x="407" y="0"/>
                </a:cubicBezTo>
                <a:cubicBezTo>
                  <a:pt x="316" y="0"/>
                  <a:pt x="219" y="41"/>
                  <a:pt x="125" y="119"/>
                </a:cubicBezTo>
                <a:cubicBezTo>
                  <a:pt x="55" y="177"/>
                  <a:pt x="12" y="235"/>
                  <a:pt x="10" y="237"/>
                </a:cubicBezTo>
                <a:lnTo>
                  <a:pt x="0" y="251"/>
                </a:lnTo>
                <a:lnTo>
                  <a:pt x="10" y="264"/>
                </a:lnTo>
                <a:cubicBezTo>
                  <a:pt x="12" y="267"/>
                  <a:pt x="55" y="324"/>
                  <a:pt x="125" y="382"/>
                </a:cubicBezTo>
                <a:cubicBezTo>
                  <a:pt x="219" y="460"/>
                  <a:pt x="316" y="501"/>
                  <a:pt x="407" y="501"/>
                </a:cubicBezTo>
                <a:cubicBezTo>
                  <a:pt x="498" y="501"/>
                  <a:pt x="596" y="460"/>
                  <a:pt x="689" y="382"/>
                </a:cubicBezTo>
                <a:cubicBezTo>
                  <a:pt x="759" y="324"/>
                  <a:pt x="802" y="267"/>
                  <a:pt x="804" y="264"/>
                </a:cubicBezTo>
                <a:lnTo>
                  <a:pt x="814" y="251"/>
                </a:lnTo>
                <a:lnTo>
                  <a:pt x="804" y="237"/>
                </a:lnTo>
                <a:close/>
              </a:path>
            </a:pathLst>
          </a:custGeom>
          <a:solidFill>
            <a:srgbClr val="a6a6a6"/>
          </a:solidFill>
          <a:ln w="0">
            <a:noFill/>
          </a:ln>
        </p:spPr>
        <p:style>
          <a:lnRef idx="0"/>
          <a:fillRef idx="0"/>
          <a:effectRef idx="0"/>
          <a:fontRef idx="minor"/>
        </p:style>
        <p:txBody>
          <a:bodyPr lIns="145800" rIns="145800" tIns="60840" bIns="60840" anchor="t">
            <a:noAutofit/>
          </a:bodyPr>
          <a:p>
            <a:endParaRPr b="0" lang="en-US" sz="1800" spc="-1" strike="noStrike">
              <a:solidFill>
                <a:srgbClr val="000000"/>
              </a:solidFill>
              <a:latin typeface="Calibri"/>
            </a:endParaRPr>
          </a:p>
        </p:txBody>
      </p:sp>
      <p:sp>
        <p:nvSpPr>
          <p:cNvPr id="1628" name="Freeform 17"/>
          <p:cNvSpPr/>
          <p:nvPr/>
        </p:nvSpPr>
        <p:spPr>
          <a:xfrm>
            <a:off x="4199040" y="3279600"/>
            <a:ext cx="195120" cy="149400"/>
          </a:xfrm>
          <a:custGeom>
            <a:avLst/>
            <a:gdLst/>
            <a:ahLst/>
            <a:rect l="l" t="t" r="r" b="b"/>
            <a:pathLst>
              <a:path w="733" h="551">
                <a:moveTo>
                  <a:pt x="671" y="518"/>
                </a:moveTo>
                <a:lnTo>
                  <a:pt x="62" y="518"/>
                </a:lnTo>
                <a:cubicBezTo>
                  <a:pt x="46" y="518"/>
                  <a:pt x="33" y="505"/>
                  <a:pt x="33" y="489"/>
                </a:cubicBezTo>
                <a:lnTo>
                  <a:pt x="33" y="410"/>
                </a:lnTo>
                <a:lnTo>
                  <a:pt x="233" y="410"/>
                </a:lnTo>
                <a:cubicBezTo>
                  <a:pt x="264" y="449"/>
                  <a:pt x="312" y="475"/>
                  <a:pt x="366" y="475"/>
                </a:cubicBezTo>
                <a:cubicBezTo>
                  <a:pt x="421" y="475"/>
                  <a:pt x="469" y="449"/>
                  <a:pt x="500" y="410"/>
                </a:cubicBezTo>
                <a:lnTo>
                  <a:pt x="700" y="410"/>
                </a:lnTo>
                <a:lnTo>
                  <a:pt x="700" y="489"/>
                </a:lnTo>
                <a:cubicBezTo>
                  <a:pt x="700" y="505"/>
                  <a:pt x="687" y="518"/>
                  <a:pt x="671" y="518"/>
                </a:cubicBezTo>
                <a:close/>
                <a:moveTo>
                  <a:pt x="366" y="409"/>
                </a:moveTo>
                <a:cubicBezTo>
                  <a:pt x="310" y="409"/>
                  <a:pt x="264" y="362"/>
                  <a:pt x="264" y="306"/>
                </a:cubicBezTo>
                <a:cubicBezTo>
                  <a:pt x="264" y="249"/>
                  <a:pt x="310" y="203"/>
                  <a:pt x="366" y="203"/>
                </a:cubicBezTo>
                <a:cubicBezTo>
                  <a:pt x="423" y="203"/>
                  <a:pt x="469" y="249"/>
                  <a:pt x="469" y="306"/>
                </a:cubicBezTo>
                <a:cubicBezTo>
                  <a:pt x="469" y="362"/>
                  <a:pt x="423" y="409"/>
                  <a:pt x="366" y="409"/>
                </a:cubicBezTo>
                <a:close/>
                <a:moveTo>
                  <a:pt x="366" y="190"/>
                </a:moveTo>
                <a:cubicBezTo>
                  <a:pt x="303" y="190"/>
                  <a:pt x="251" y="242"/>
                  <a:pt x="251" y="306"/>
                </a:cubicBezTo>
                <a:cubicBezTo>
                  <a:pt x="251" y="369"/>
                  <a:pt x="303" y="421"/>
                  <a:pt x="366" y="421"/>
                </a:cubicBezTo>
                <a:cubicBezTo>
                  <a:pt x="430" y="421"/>
                  <a:pt x="482" y="369"/>
                  <a:pt x="482" y="306"/>
                </a:cubicBezTo>
                <a:cubicBezTo>
                  <a:pt x="482" y="242"/>
                  <a:pt x="430" y="190"/>
                  <a:pt x="366" y="190"/>
                </a:cubicBezTo>
                <a:close/>
                <a:moveTo>
                  <a:pt x="650" y="161"/>
                </a:moveTo>
                <a:cubicBezTo>
                  <a:pt x="664" y="161"/>
                  <a:pt x="675" y="150"/>
                  <a:pt x="675" y="137"/>
                </a:cubicBezTo>
                <a:cubicBezTo>
                  <a:pt x="675" y="123"/>
                  <a:pt x="664" y="112"/>
                  <a:pt x="650" y="112"/>
                </a:cubicBezTo>
                <a:cubicBezTo>
                  <a:pt x="637" y="112"/>
                  <a:pt x="626" y="123"/>
                  <a:pt x="626" y="137"/>
                </a:cubicBezTo>
                <a:cubicBezTo>
                  <a:pt x="626" y="150"/>
                  <a:pt x="637" y="161"/>
                  <a:pt x="650" y="161"/>
                </a:cubicBezTo>
                <a:close/>
                <a:moveTo>
                  <a:pt x="650" y="445"/>
                </a:moveTo>
                <a:cubicBezTo>
                  <a:pt x="637" y="445"/>
                  <a:pt x="626" y="456"/>
                  <a:pt x="626" y="469"/>
                </a:cubicBezTo>
                <a:cubicBezTo>
                  <a:pt x="626" y="483"/>
                  <a:pt x="637" y="494"/>
                  <a:pt x="650" y="494"/>
                </a:cubicBezTo>
                <a:cubicBezTo>
                  <a:pt x="664" y="494"/>
                  <a:pt x="675" y="483"/>
                  <a:pt x="675" y="469"/>
                </a:cubicBezTo>
                <a:cubicBezTo>
                  <a:pt x="675" y="456"/>
                  <a:pt x="664" y="445"/>
                  <a:pt x="650" y="445"/>
                </a:cubicBezTo>
                <a:close/>
                <a:moveTo>
                  <a:pt x="83" y="445"/>
                </a:moveTo>
                <a:cubicBezTo>
                  <a:pt x="70" y="445"/>
                  <a:pt x="59" y="456"/>
                  <a:pt x="59" y="469"/>
                </a:cubicBezTo>
                <a:cubicBezTo>
                  <a:pt x="59" y="483"/>
                  <a:pt x="70" y="494"/>
                  <a:pt x="83" y="494"/>
                </a:cubicBezTo>
                <a:cubicBezTo>
                  <a:pt x="97" y="494"/>
                  <a:pt x="108" y="483"/>
                  <a:pt x="108" y="469"/>
                </a:cubicBezTo>
                <a:cubicBezTo>
                  <a:pt x="108" y="456"/>
                  <a:pt x="97" y="445"/>
                  <a:pt x="83" y="445"/>
                </a:cubicBezTo>
                <a:close/>
                <a:moveTo>
                  <a:pt x="83" y="161"/>
                </a:moveTo>
                <a:cubicBezTo>
                  <a:pt x="97" y="161"/>
                  <a:pt x="108" y="150"/>
                  <a:pt x="108" y="137"/>
                </a:cubicBezTo>
                <a:cubicBezTo>
                  <a:pt x="108" y="123"/>
                  <a:pt x="97" y="112"/>
                  <a:pt x="83" y="112"/>
                </a:cubicBezTo>
                <a:cubicBezTo>
                  <a:pt x="70" y="112"/>
                  <a:pt x="59" y="123"/>
                  <a:pt x="59" y="137"/>
                </a:cubicBezTo>
                <a:cubicBezTo>
                  <a:pt x="59" y="150"/>
                  <a:pt x="70" y="161"/>
                  <a:pt x="83" y="161"/>
                </a:cubicBezTo>
                <a:close/>
                <a:moveTo>
                  <a:pt x="503" y="306"/>
                </a:moveTo>
                <a:cubicBezTo>
                  <a:pt x="503" y="381"/>
                  <a:pt x="442" y="442"/>
                  <a:pt x="366" y="442"/>
                </a:cubicBezTo>
                <a:cubicBezTo>
                  <a:pt x="291" y="442"/>
                  <a:pt x="230" y="381"/>
                  <a:pt x="230" y="306"/>
                </a:cubicBezTo>
                <a:cubicBezTo>
                  <a:pt x="230" y="231"/>
                  <a:pt x="291" y="170"/>
                  <a:pt x="366" y="170"/>
                </a:cubicBezTo>
                <a:cubicBezTo>
                  <a:pt x="442" y="170"/>
                  <a:pt x="503" y="231"/>
                  <a:pt x="503" y="306"/>
                </a:cubicBezTo>
                <a:close/>
                <a:moveTo>
                  <a:pt x="62" y="93"/>
                </a:moveTo>
                <a:lnTo>
                  <a:pt x="671" y="93"/>
                </a:lnTo>
                <a:cubicBezTo>
                  <a:pt x="687" y="93"/>
                  <a:pt x="700" y="106"/>
                  <a:pt x="700" y="122"/>
                </a:cubicBezTo>
                <a:lnTo>
                  <a:pt x="700" y="202"/>
                </a:lnTo>
                <a:lnTo>
                  <a:pt x="500" y="202"/>
                </a:lnTo>
                <a:cubicBezTo>
                  <a:pt x="469" y="162"/>
                  <a:pt x="421" y="137"/>
                  <a:pt x="366" y="137"/>
                </a:cubicBezTo>
                <a:cubicBezTo>
                  <a:pt x="312" y="137"/>
                  <a:pt x="264" y="162"/>
                  <a:pt x="233" y="202"/>
                </a:cubicBezTo>
                <a:lnTo>
                  <a:pt x="33" y="202"/>
                </a:lnTo>
                <a:lnTo>
                  <a:pt x="33" y="122"/>
                </a:lnTo>
                <a:cubicBezTo>
                  <a:pt x="33" y="106"/>
                  <a:pt x="46" y="93"/>
                  <a:pt x="62" y="93"/>
                </a:cubicBezTo>
                <a:close/>
                <a:moveTo>
                  <a:pt x="671" y="60"/>
                </a:moveTo>
                <a:lnTo>
                  <a:pt x="215" y="60"/>
                </a:lnTo>
                <a:lnTo>
                  <a:pt x="215" y="45"/>
                </a:lnTo>
                <a:cubicBezTo>
                  <a:pt x="215" y="20"/>
                  <a:pt x="195" y="0"/>
                  <a:pt x="170" y="0"/>
                </a:cubicBezTo>
                <a:lnTo>
                  <a:pt x="110" y="0"/>
                </a:lnTo>
                <a:cubicBezTo>
                  <a:pt x="85" y="0"/>
                  <a:pt x="64" y="20"/>
                  <a:pt x="64" y="45"/>
                </a:cubicBezTo>
                <a:lnTo>
                  <a:pt x="64" y="60"/>
                </a:lnTo>
                <a:lnTo>
                  <a:pt x="62" y="60"/>
                </a:lnTo>
                <a:cubicBezTo>
                  <a:pt x="28" y="60"/>
                  <a:pt x="0" y="88"/>
                  <a:pt x="0" y="122"/>
                </a:cubicBezTo>
                <a:lnTo>
                  <a:pt x="0" y="489"/>
                </a:lnTo>
                <a:cubicBezTo>
                  <a:pt x="0" y="523"/>
                  <a:pt x="28" y="551"/>
                  <a:pt x="62" y="551"/>
                </a:cubicBezTo>
                <a:lnTo>
                  <a:pt x="671" y="551"/>
                </a:lnTo>
                <a:cubicBezTo>
                  <a:pt x="705" y="551"/>
                  <a:pt x="733" y="523"/>
                  <a:pt x="733" y="489"/>
                </a:cubicBezTo>
                <a:lnTo>
                  <a:pt x="733" y="122"/>
                </a:lnTo>
                <a:cubicBezTo>
                  <a:pt x="733" y="88"/>
                  <a:pt x="705" y="60"/>
                  <a:pt x="671" y="6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29" name="Freeform 18"/>
          <p:cNvSpPr/>
          <p:nvPr/>
        </p:nvSpPr>
        <p:spPr>
          <a:xfrm>
            <a:off x="9091440" y="3559320"/>
            <a:ext cx="98640" cy="214200"/>
          </a:xfrm>
          <a:custGeom>
            <a:avLst/>
            <a:gdLst/>
            <a:ahLst/>
            <a:rect l="l" t="t" r="r" b="b"/>
            <a:pathLst>
              <a:path w="364" h="800">
                <a:moveTo>
                  <a:pt x="182" y="800"/>
                </a:moveTo>
                <a:cubicBezTo>
                  <a:pt x="81" y="800"/>
                  <a:pt x="0" y="719"/>
                  <a:pt x="0" y="618"/>
                </a:cubicBezTo>
                <a:lnTo>
                  <a:pt x="0" y="71"/>
                </a:lnTo>
                <a:cubicBezTo>
                  <a:pt x="0" y="32"/>
                  <a:pt x="32" y="0"/>
                  <a:pt x="72" y="0"/>
                </a:cubicBezTo>
                <a:lnTo>
                  <a:pt x="225" y="0"/>
                </a:lnTo>
                <a:cubicBezTo>
                  <a:pt x="264" y="0"/>
                  <a:pt x="296" y="31"/>
                  <a:pt x="296" y="70"/>
                </a:cubicBezTo>
                <a:lnTo>
                  <a:pt x="296" y="538"/>
                </a:lnTo>
                <a:cubicBezTo>
                  <a:pt x="296" y="602"/>
                  <a:pt x="244" y="654"/>
                  <a:pt x="180" y="654"/>
                </a:cubicBezTo>
                <a:cubicBezTo>
                  <a:pt x="116" y="654"/>
                  <a:pt x="64" y="602"/>
                  <a:pt x="64" y="538"/>
                </a:cubicBezTo>
                <a:lnTo>
                  <a:pt x="64" y="208"/>
                </a:lnTo>
                <a:cubicBezTo>
                  <a:pt x="64" y="199"/>
                  <a:pt x="72" y="191"/>
                  <a:pt x="81" y="191"/>
                </a:cubicBezTo>
                <a:cubicBezTo>
                  <a:pt x="90" y="191"/>
                  <a:pt x="98" y="199"/>
                  <a:pt x="98" y="208"/>
                </a:cubicBezTo>
                <a:lnTo>
                  <a:pt x="98" y="538"/>
                </a:lnTo>
                <a:cubicBezTo>
                  <a:pt x="98" y="584"/>
                  <a:pt x="135" y="620"/>
                  <a:pt x="180" y="620"/>
                </a:cubicBezTo>
                <a:cubicBezTo>
                  <a:pt x="225" y="620"/>
                  <a:pt x="261" y="584"/>
                  <a:pt x="261" y="538"/>
                </a:cubicBezTo>
                <a:lnTo>
                  <a:pt x="261" y="70"/>
                </a:lnTo>
                <a:cubicBezTo>
                  <a:pt x="261" y="50"/>
                  <a:pt x="245" y="34"/>
                  <a:pt x="225" y="34"/>
                </a:cubicBezTo>
                <a:lnTo>
                  <a:pt x="72" y="34"/>
                </a:lnTo>
                <a:cubicBezTo>
                  <a:pt x="51" y="34"/>
                  <a:pt x="34" y="51"/>
                  <a:pt x="34" y="71"/>
                </a:cubicBezTo>
                <a:lnTo>
                  <a:pt x="34" y="618"/>
                </a:lnTo>
                <a:cubicBezTo>
                  <a:pt x="34" y="700"/>
                  <a:pt x="100" y="766"/>
                  <a:pt x="182" y="766"/>
                </a:cubicBezTo>
                <a:cubicBezTo>
                  <a:pt x="263" y="766"/>
                  <a:pt x="330" y="700"/>
                  <a:pt x="330" y="618"/>
                </a:cubicBezTo>
                <a:lnTo>
                  <a:pt x="330" y="200"/>
                </a:lnTo>
                <a:cubicBezTo>
                  <a:pt x="330" y="190"/>
                  <a:pt x="337" y="183"/>
                  <a:pt x="347" y="183"/>
                </a:cubicBezTo>
                <a:cubicBezTo>
                  <a:pt x="356" y="183"/>
                  <a:pt x="364" y="190"/>
                  <a:pt x="364" y="200"/>
                </a:cubicBezTo>
                <a:lnTo>
                  <a:pt x="364" y="618"/>
                </a:lnTo>
                <a:cubicBezTo>
                  <a:pt x="364" y="719"/>
                  <a:pt x="282" y="800"/>
                  <a:pt x="182" y="80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30" name="Freeform 19"/>
          <p:cNvSpPr/>
          <p:nvPr/>
        </p:nvSpPr>
        <p:spPr>
          <a:xfrm>
            <a:off x="3227400" y="3884760"/>
            <a:ext cx="179280" cy="160200"/>
          </a:xfrm>
          <a:custGeom>
            <a:avLst/>
            <a:gdLst/>
            <a:ahLst/>
            <a:rect l="l" t="t" r="r" b="b"/>
            <a:pathLst>
              <a:path w="676" h="600">
                <a:moveTo>
                  <a:pt x="167" y="328"/>
                </a:moveTo>
                <a:cubicBezTo>
                  <a:pt x="167" y="331"/>
                  <a:pt x="164" y="333"/>
                  <a:pt x="162" y="333"/>
                </a:cubicBezTo>
                <a:lnTo>
                  <a:pt x="41" y="333"/>
                </a:lnTo>
                <a:cubicBezTo>
                  <a:pt x="38" y="333"/>
                  <a:pt x="36" y="331"/>
                  <a:pt x="36" y="328"/>
                </a:cubicBezTo>
                <a:lnTo>
                  <a:pt x="36" y="55"/>
                </a:lnTo>
                <a:cubicBezTo>
                  <a:pt x="36" y="53"/>
                  <a:pt x="38" y="51"/>
                  <a:pt x="41" y="51"/>
                </a:cubicBezTo>
                <a:lnTo>
                  <a:pt x="61" y="51"/>
                </a:lnTo>
                <a:lnTo>
                  <a:pt x="97" y="86"/>
                </a:lnTo>
                <a:cubicBezTo>
                  <a:pt x="99" y="88"/>
                  <a:pt x="103" y="88"/>
                  <a:pt x="106" y="86"/>
                </a:cubicBezTo>
                <a:lnTo>
                  <a:pt x="141" y="51"/>
                </a:lnTo>
                <a:lnTo>
                  <a:pt x="162" y="51"/>
                </a:lnTo>
                <a:cubicBezTo>
                  <a:pt x="164" y="51"/>
                  <a:pt x="167" y="53"/>
                  <a:pt x="167" y="55"/>
                </a:cubicBezTo>
                <a:lnTo>
                  <a:pt x="167" y="328"/>
                </a:lnTo>
                <a:close/>
                <a:moveTo>
                  <a:pt x="621" y="295"/>
                </a:moveTo>
                <a:lnTo>
                  <a:pt x="530" y="295"/>
                </a:lnTo>
                <a:cubicBezTo>
                  <a:pt x="525" y="295"/>
                  <a:pt x="521" y="291"/>
                  <a:pt x="521" y="286"/>
                </a:cubicBezTo>
                <a:cubicBezTo>
                  <a:pt x="521" y="281"/>
                  <a:pt x="525" y="277"/>
                  <a:pt x="530" y="277"/>
                </a:cubicBezTo>
                <a:lnTo>
                  <a:pt x="621" y="277"/>
                </a:lnTo>
                <a:cubicBezTo>
                  <a:pt x="626" y="277"/>
                  <a:pt x="630" y="281"/>
                  <a:pt x="630" y="286"/>
                </a:cubicBezTo>
                <a:cubicBezTo>
                  <a:pt x="630" y="291"/>
                  <a:pt x="626" y="295"/>
                  <a:pt x="621" y="295"/>
                </a:cubicBezTo>
                <a:close/>
                <a:moveTo>
                  <a:pt x="621" y="255"/>
                </a:moveTo>
                <a:lnTo>
                  <a:pt x="530" y="255"/>
                </a:lnTo>
                <a:cubicBezTo>
                  <a:pt x="525" y="255"/>
                  <a:pt x="521" y="250"/>
                  <a:pt x="521" y="245"/>
                </a:cubicBezTo>
                <a:cubicBezTo>
                  <a:pt x="521" y="240"/>
                  <a:pt x="525" y="236"/>
                  <a:pt x="530" y="236"/>
                </a:cubicBezTo>
                <a:lnTo>
                  <a:pt x="621" y="236"/>
                </a:lnTo>
                <a:cubicBezTo>
                  <a:pt x="626" y="236"/>
                  <a:pt x="630" y="240"/>
                  <a:pt x="630" y="245"/>
                </a:cubicBezTo>
                <a:cubicBezTo>
                  <a:pt x="630" y="250"/>
                  <a:pt x="626" y="255"/>
                  <a:pt x="621" y="255"/>
                </a:cubicBezTo>
                <a:close/>
                <a:moveTo>
                  <a:pt x="621" y="214"/>
                </a:moveTo>
                <a:lnTo>
                  <a:pt x="530" y="214"/>
                </a:lnTo>
                <a:cubicBezTo>
                  <a:pt x="525" y="214"/>
                  <a:pt x="521" y="210"/>
                  <a:pt x="521" y="205"/>
                </a:cubicBezTo>
                <a:cubicBezTo>
                  <a:pt x="521" y="200"/>
                  <a:pt x="525" y="196"/>
                  <a:pt x="530" y="196"/>
                </a:cubicBezTo>
                <a:lnTo>
                  <a:pt x="621" y="196"/>
                </a:lnTo>
                <a:cubicBezTo>
                  <a:pt x="626" y="196"/>
                  <a:pt x="630" y="200"/>
                  <a:pt x="630" y="205"/>
                </a:cubicBezTo>
                <a:cubicBezTo>
                  <a:pt x="630" y="210"/>
                  <a:pt x="626" y="214"/>
                  <a:pt x="621" y="214"/>
                </a:cubicBezTo>
                <a:close/>
                <a:moveTo>
                  <a:pt x="621" y="174"/>
                </a:moveTo>
                <a:lnTo>
                  <a:pt x="530" y="174"/>
                </a:lnTo>
                <a:cubicBezTo>
                  <a:pt x="525" y="174"/>
                  <a:pt x="521" y="170"/>
                  <a:pt x="521" y="165"/>
                </a:cubicBezTo>
                <a:cubicBezTo>
                  <a:pt x="521" y="160"/>
                  <a:pt x="525" y="156"/>
                  <a:pt x="530" y="156"/>
                </a:cubicBezTo>
                <a:lnTo>
                  <a:pt x="621" y="156"/>
                </a:lnTo>
                <a:cubicBezTo>
                  <a:pt x="626" y="156"/>
                  <a:pt x="630" y="160"/>
                  <a:pt x="630" y="165"/>
                </a:cubicBezTo>
                <a:cubicBezTo>
                  <a:pt x="630" y="170"/>
                  <a:pt x="626" y="174"/>
                  <a:pt x="621" y="174"/>
                </a:cubicBezTo>
                <a:close/>
                <a:moveTo>
                  <a:pt x="621" y="134"/>
                </a:moveTo>
                <a:lnTo>
                  <a:pt x="530" y="134"/>
                </a:lnTo>
                <a:cubicBezTo>
                  <a:pt x="525" y="134"/>
                  <a:pt x="521" y="130"/>
                  <a:pt x="521" y="125"/>
                </a:cubicBezTo>
                <a:cubicBezTo>
                  <a:pt x="521" y="120"/>
                  <a:pt x="525" y="116"/>
                  <a:pt x="530" y="116"/>
                </a:cubicBezTo>
                <a:lnTo>
                  <a:pt x="621" y="116"/>
                </a:lnTo>
                <a:cubicBezTo>
                  <a:pt x="626" y="116"/>
                  <a:pt x="630" y="120"/>
                  <a:pt x="630" y="125"/>
                </a:cubicBezTo>
                <a:cubicBezTo>
                  <a:pt x="630" y="130"/>
                  <a:pt x="626" y="134"/>
                  <a:pt x="621" y="134"/>
                </a:cubicBezTo>
                <a:close/>
                <a:moveTo>
                  <a:pt x="641" y="328"/>
                </a:moveTo>
                <a:cubicBezTo>
                  <a:pt x="641" y="331"/>
                  <a:pt x="638" y="333"/>
                  <a:pt x="636" y="333"/>
                </a:cubicBezTo>
                <a:lnTo>
                  <a:pt x="515" y="333"/>
                </a:lnTo>
                <a:cubicBezTo>
                  <a:pt x="512" y="333"/>
                  <a:pt x="510" y="331"/>
                  <a:pt x="510" y="328"/>
                </a:cubicBezTo>
                <a:lnTo>
                  <a:pt x="510" y="55"/>
                </a:lnTo>
                <a:cubicBezTo>
                  <a:pt x="510" y="53"/>
                  <a:pt x="512" y="51"/>
                  <a:pt x="515" y="51"/>
                </a:cubicBezTo>
                <a:lnTo>
                  <a:pt x="535" y="51"/>
                </a:lnTo>
                <a:lnTo>
                  <a:pt x="571" y="86"/>
                </a:lnTo>
                <a:cubicBezTo>
                  <a:pt x="573" y="88"/>
                  <a:pt x="577" y="88"/>
                  <a:pt x="580" y="86"/>
                </a:cubicBezTo>
                <a:lnTo>
                  <a:pt x="615" y="51"/>
                </a:lnTo>
                <a:lnTo>
                  <a:pt x="636" y="51"/>
                </a:lnTo>
                <a:cubicBezTo>
                  <a:pt x="638" y="51"/>
                  <a:pt x="641" y="53"/>
                  <a:pt x="641" y="55"/>
                </a:cubicBezTo>
                <a:lnTo>
                  <a:pt x="641" y="328"/>
                </a:lnTo>
                <a:close/>
                <a:moveTo>
                  <a:pt x="575" y="554"/>
                </a:moveTo>
                <a:cubicBezTo>
                  <a:pt x="550" y="554"/>
                  <a:pt x="530" y="534"/>
                  <a:pt x="530" y="509"/>
                </a:cubicBezTo>
                <a:cubicBezTo>
                  <a:pt x="530" y="484"/>
                  <a:pt x="550" y="463"/>
                  <a:pt x="575" y="463"/>
                </a:cubicBezTo>
                <a:cubicBezTo>
                  <a:pt x="601" y="463"/>
                  <a:pt x="621" y="484"/>
                  <a:pt x="621" y="509"/>
                </a:cubicBezTo>
                <a:cubicBezTo>
                  <a:pt x="621" y="534"/>
                  <a:pt x="601" y="554"/>
                  <a:pt x="575" y="554"/>
                </a:cubicBezTo>
                <a:close/>
                <a:moveTo>
                  <a:pt x="658" y="0"/>
                </a:moveTo>
                <a:lnTo>
                  <a:pt x="493" y="0"/>
                </a:lnTo>
                <a:cubicBezTo>
                  <a:pt x="483" y="0"/>
                  <a:pt x="474" y="8"/>
                  <a:pt x="474" y="19"/>
                </a:cubicBezTo>
                <a:lnTo>
                  <a:pt x="474" y="582"/>
                </a:lnTo>
                <a:cubicBezTo>
                  <a:pt x="474" y="592"/>
                  <a:pt x="483" y="600"/>
                  <a:pt x="493" y="600"/>
                </a:cubicBezTo>
                <a:lnTo>
                  <a:pt x="658" y="600"/>
                </a:lnTo>
                <a:cubicBezTo>
                  <a:pt x="668" y="600"/>
                  <a:pt x="676" y="592"/>
                  <a:pt x="676" y="582"/>
                </a:cubicBezTo>
                <a:lnTo>
                  <a:pt x="676" y="19"/>
                </a:lnTo>
                <a:cubicBezTo>
                  <a:pt x="676" y="8"/>
                  <a:pt x="668" y="0"/>
                  <a:pt x="658" y="0"/>
                </a:cubicBezTo>
                <a:close/>
                <a:moveTo>
                  <a:pt x="383" y="295"/>
                </a:moveTo>
                <a:lnTo>
                  <a:pt x="291" y="295"/>
                </a:lnTo>
                <a:cubicBezTo>
                  <a:pt x="286" y="295"/>
                  <a:pt x="282" y="291"/>
                  <a:pt x="282" y="286"/>
                </a:cubicBezTo>
                <a:cubicBezTo>
                  <a:pt x="282" y="281"/>
                  <a:pt x="286" y="277"/>
                  <a:pt x="291" y="277"/>
                </a:cubicBezTo>
                <a:lnTo>
                  <a:pt x="383" y="277"/>
                </a:lnTo>
                <a:cubicBezTo>
                  <a:pt x="388" y="277"/>
                  <a:pt x="392" y="281"/>
                  <a:pt x="392" y="286"/>
                </a:cubicBezTo>
                <a:cubicBezTo>
                  <a:pt x="392" y="291"/>
                  <a:pt x="388" y="295"/>
                  <a:pt x="383" y="295"/>
                </a:cubicBezTo>
                <a:close/>
                <a:moveTo>
                  <a:pt x="383" y="255"/>
                </a:moveTo>
                <a:lnTo>
                  <a:pt x="291" y="255"/>
                </a:lnTo>
                <a:cubicBezTo>
                  <a:pt x="286" y="255"/>
                  <a:pt x="282" y="250"/>
                  <a:pt x="282" y="245"/>
                </a:cubicBezTo>
                <a:cubicBezTo>
                  <a:pt x="282" y="240"/>
                  <a:pt x="286" y="236"/>
                  <a:pt x="291" y="236"/>
                </a:cubicBezTo>
                <a:lnTo>
                  <a:pt x="383" y="236"/>
                </a:lnTo>
                <a:cubicBezTo>
                  <a:pt x="388" y="236"/>
                  <a:pt x="392" y="240"/>
                  <a:pt x="392" y="245"/>
                </a:cubicBezTo>
                <a:cubicBezTo>
                  <a:pt x="392" y="250"/>
                  <a:pt x="388" y="255"/>
                  <a:pt x="383" y="255"/>
                </a:cubicBezTo>
                <a:close/>
                <a:moveTo>
                  <a:pt x="383" y="214"/>
                </a:moveTo>
                <a:lnTo>
                  <a:pt x="291" y="214"/>
                </a:lnTo>
                <a:cubicBezTo>
                  <a:pt x="286" y="214"/>
                  <a:pt x="282" y="210"/>
                  <a:pt x="282" y="205"/>
                </a:cubicBezTo>
                <a:cubicBezTo>
                  <a:pt x="282" y="200"/>
                  <a:pt x="286" y="196"/>
                  <a:pt x="291" y="196"/>
                </a:cubicBezTo>
                <a:lnTo>
                  <a:pt x="383" y="196"/>
                </a:lnTo>
                <a:cubicBezTo>
                  <a:pt x="388" y="196"/>
                  <a:pt x="392" y="200"/>
                  <a:pt x="392" y="205"/>
                </a:cubicBezTo>
                <a:cubicBezTo>
                  <a:pt x="392" y="210"/>
                  <a:pt x="388" y="214"/>
                  <a:pt x="383" y="214"/>
                </a:cubicBezTo>
                <a:close/>
                <a:moveTo>
                  <a:pt x="383" y="174"/>
                </a:moveTo>
                <a:lnTo>
                  <a:pt x="291" y="174"/>
                </a:lnTo>
                <a:cubicBezTo>
                  <a:pt x="286" y="174"/>
                  <a:pt x="282" y="170"/>
                  <a:pt x="282" y="165"/>
                </a:cubicBezTo>
                <a:cubicBezTo>
                  <a:pt x="282" y="160"/>
                  <a:pt x="286" y="156"/>
                  <a:pt x="291" y="156"/>
                </a:cubicBezTo>
                <a:lnTo>
                  <a:pt x="383" y="156"/>
                </a:lnTo>
                <a:cubicBezTo>
                  <a:pt x="388" y="156"/>
                  <a:pt x="392" y="160"/>
                  <a:pt x="392" y="165"/>
                </a:cubicBezTo>
                <a:cubicBezTo>
                  <a:pt x="392" y="170"/>
                  <a:pt x="388" y="174"/>
                  <a:pt x="383" y="174"/>
                </a:cubicBezTo>
                <a:close/>
                <a:moveTo>
                  <a:pt x="383" y="134"/>
                </a:moveTo>
                <a:lnTo>
                  <a:pt x="291" y="134"/>
                </a:lnTo>
                <a:cubicBezTo>
                  <a:pt x="286" y="134"/>
                  <a:pt x="282" y="130"/>
                  <a:pt x="282" y="125"/>
                </a:cubicBezTo>
                <a:cubicBezTo>
                  <a:pt x="282" y="120"/>
                  <a:pt x="286" y="116"/>
                  <a:pt x="291" y="116"/>
                </a:cubicBezTo>
                <a:lnTo>
                  <a:pt x="383" y="116"/>
                </a:lnTo>
                <a:cubicBezTo>
                  <a:pt x="388" y="116"/>
                  <a:pt x="392" y="120"/>
                  <a:pt x="392" y="125"/>
                </a:cubicBezTo>
                <a:cubicBezTo>
                  <a:pt x="392" y="130"/>
                  <a:pt x="388" y="134"/>
                  <a:pt x="383" y="134"/>
                </a:cubicBezTo>
                <a:close/>
                <a:moveTo>
                  <a:pt x="402" y="328"/>
                </a:moveTo>
                <a:cubicBezTo>
                  <a:pt x="402" y="331"/>
                  <a:pt x="400" y="333"/>
                  <a:pt x="397" y="333"/>
                </a:cubicBezTo>
                <a:lnTo>
                  <a:pt x="277" y="333"/>
                </a:lnTo>
                <a:cubicBezTo>
                  <a:pt x="274" y="333"/>
                  <a:pt x="272" y="331"/>
                  <a:pt x="272" y="328"/>
                </a:cubicBezTo>
                <a:lnTo>
                  <a:pt x="272" y="55"/>
                </a:lnTo>
                <a:cubicBezTo>
                  <a:pt x="272" y="53"/>
                  <a:pt x="274" y="51"/>
                  <a:pt x="277" y="51"/>
                </a:cubicBezTo>
                <a:lnTo>
                  <a:pt x="297" y="51"/>
                </a:lnTo>
                <a:lnTo>
                  <a:pt x="332" y="86"/>
                </a:lnTo>
                <a:cubicBezTo>
                  <a:pt x="335" y="88"/>
                  <a:pt x="339" y="88"/>
                  <a:pt x="342" y="86"/>
                </a:cubicBezTo>
                <a:lnTo>
                  <a:pt x="377" y="51"/>
                </a:lnTo>
                <a:lnTo>
                  <a:pt x="397" y="51"/>
                </a:lnTo>
                <a:cubicBezTo>
                  <a:pt x="400" y="51"/>
                  <a:pt x="402" y="53"/>
                  <a:pt x="402" y="55"/>
                </a:cubicBezTo>
                <a:lnTo>
                  <a:pt x="402" y="328"/>
                </a:lnTo>
                <a:close/>
                <a:moveTo>
                  <a:pt x="337" y="554"/>
                </a:moveTo>
                <a:cubicBezTo>
                  <a:pt x="312" y="554"/>
                  <a:pt x="291" y="534"/>
                  <a:pt x="291" y="509"/>
                </a:cubicBezTo>
                <a:cubicBezTo>
                  <a:pt x="291" y="484"/>
                  <a:pt x="312" y="463"/>
                  <a:pt x="337" y="463"/>
                </a:cubicBezTo>
                <a:cubicBezTo>
                  <a:pt x="362" y="463"/>
                  <a:pt x="383" y="484"/>
                  <a:pt x="383" y="509"/>
                </a:cubicBezTo>
                <a:cubicBezTo>
                  <a:pt x="383" y="534"/>
                  <a:pt x="362" y="554"/>
                  <a:pt x="337" y="554"/>
                </a:cubicBezTo>
                <a:close/>
                <a:moveTo>
                  <a:pt x="420" y="0"/>
                </a:moveTo>
                <a:lnTo>
                  <a:pt x="254" y="0"/>
                </a:lnTo>
                <a:cubicBezTo>
                  <a:pt x="244" y="0"/>
                  <a:pt x="236" y="8"/>
                  <a:pt x="236" y="19"/>
                </a:cubicBezTo>
                <a:lnTo>
                  <a:pt x="236" y="582"/>
                </a:lnTo>
                <a:cubicBezTo>
                  <a:pt x="236" y="592"/>
                  <a:pt x="244" y="600"/>
                  <a:pt x="254" y="600"/>
                </a:cubicBezTo>
                <a:lnTo>
                  <a:pt x="420" y="600"/>
                </a:lnTo>
                <a:cubicBezTo>
                  <a:pt x="430" y="600"/>
                  <a:pt x="438" y="592"/>
                  <a:pt x="438" y="582"/>
                </a:cubicBezTo>
                <a:lnTo>
                  <a:pt x="438" y="19"/>
                </a:lnTo>
                <a:cubicBezTo>
                  <a:pt x="438" y="8"/>
                  <a:pt x="430" y="0"/>
                  <a:pt x="420" y="0"/>
                </a:cubicBezTo>
                <a:close/>
                <a:moveTo>
                  <a:pt x="147" y="295"/>
                </a:moveTo>
                <a:lnTo>
                  <a:pt x="56" y="295"/>
                </a:lnTo>
                <a:cubicBezTo>
                  <a:pt x="51" y="295"/>
                  <a:pt x="47" y="291"/>
                  <a:pt x="47" y="286"/>
                </a:cubicBezTo>
                <a:cubicBezTo>
                  <a:pt x="47" y="281"/>
                  <a:pt x="51" y="277"/>
                  <a:pt x="56" y="277"/>
                </a:cubicBezTo>
                <a:lnTo>
                  <a:pt x="147" y="277"/>
                </a:lnTo>
                <a:cubicBezTo>
                  <a:pt x="152" y="277"/>
                  <a:pt x="156" y="281"/>
                  <a:pt x="156" y="286"/>
                </a:cubicBezTo>
                <a:cubicBezTo>
                  <a:pt x="156" y="291"/>
                  <a:pt x="152" y="295"/>
                  <a:pt x="147" y="295"/>
                </a:cubicBezTo>
                <a:close/>
                <a:moveTo>
                  <a:pt x="147" y="255"/>
                </a:moveTo>
                <a:lnTo>
                  <a:pt x="56" y="255"/>
                </a:lnTo>
                <a:cubicBezTo>
                  <a:pt x="51" y="255"/>
                  <a:pt x="47" y="250"/>
                  <a:pt x="47" y="245"/>
                </a:cubicBezTo>
                <a:cubicBezTo>
                  <a:pt x="47" y="240"/>
                  <a:pt x="51" y="236"/>
                  <a:pt x="56" y="236"/>
                </a:cubicBezTo>
                <a:lnTo>
                  <a:pt x="147" y="236"/>
                </a:lnTo>
                <a:cubicBezTo>
                  <a:pt x="152" y="236"/>
                  <a:pt x="156" y="240"/>
                  <a:pt x="156" y="245"/>
                </a:cubicBezTo>
                <a:cubicBezTo>
                  <a:pt x="156" y="250"/>
                  <a:pt x="152" y="255"/>
                  <a:pt x="147" y="255"/>
                </a:cubicBezTo>
                <a:close/>
                <a:moveTo>
                  <a:pt x="147" y="214"/>
                </a:moveTo>
                <a:lnTo>
                  <a:pt x="56" y="214"/>
                </a:lnTo>
                <a:cubicBezTo>
                  <a:pt x="51" y="214"/>
                  <a:pt x="47" y="210"/>
                  <a:pt x="47" y="205"/>
                </a:cubicBezTo>
                <a:cubicBezTo>
                  <a:pt x="47" y="200"/>
                  <a:pt x="51" y="196"/>
                  <a:pt x="56" y="196"/>
                </a:cubicBezTo>
                <a:lnTo>
                  <a:pt x="147" y="196"/>
                </a:lnTo>
                <a:cubicBezTo>
                  <a:pt x="152" y="196"/>
                  <a:pt x="156" y="200"/>
                  <a:pt x="156" y="205"/>
                </a:cubicBezTo>
                <a:cubicBezTo>
                  <a:pt x="156" y="210"/>
                  <a:pt x="152" y="214"/>
                  <a:pt x="147" y="214"/>
                </a:cubicBezTo>
                <a:close/>
                <a:moveTo>
                  <a:pt x="147" y="174"/>
                </a:moveTo>
                <a:lnTo>
                  <a:pt x="56" y="174"/>
                </a:lnTo>
                <a:cubicBezTo>
                  <a:pt x="51" y="174"/>
                  <a:pt x="47" y="170"/>
                  <a:pt x="47" y="165"/>
                </a:cubicBezTo>
                <a:cubicBezTo>
                  <a:pt x="47" y="160"/>
                  <a:pt x="51" y="156"/>
                  <a:pt x="56" y="156"/>
                </a:cubicBezTo>
                <a:lnTo>
                  <a:pt x="147" y="156"/>
                </a:lnTo>
                <a:cubicBezTo>
                  <a:pt x="152" y="156"/>
                  <a:pt x="156" y="160"/>
                  <a:pt x="156" y="165"/>
                </a:cubicBezTo>
                <a:cubicBezTo>
                  <a:pt x="156" y="170"/>
                  <a:pt x="152" y="174"/>
                  <a:pt x="147" y="174"/>
                </a:cubicBezTo>
                <a:close/>
                <a:moveTo>
                  <a:pt x="147" y="134"/>
                </a:moveTo>
                <a:lnTo>
                  <a:pt x="56" y="134"/>
                </a:lnTo>
                <a:cubicBezTo>
                  <a:pt x="51" y="134"/>
                  <a:pt x="47" y="130"/>
                  <a:pt x="47" y="125"/>
                </a:cubicBezTo>
                <a:cubicBezTo>
                  <a:pt x="47" y="120"/>
                  <a:pt x="51" y="116"/>
                  <a:pt x="56" y="116"/>
                </a:cubicBezTo>
                <a:lnTo>
                  <a:pt x="147" y="116"/>
                </a:lnTo>
                <a:cubicBezTo>
                  <a:pt x="152" y="116"/>
                  <a:pt x="156" y="120"/>
                  <a:pt x="156" y="125"/>
                </a:cubicBezTo>
                <a:cubicBezTo>
                  <a:pt x="156" y="130"/>
                  <a:pt x="152" y="134"/>
                  <a:pt x="147" y="134"/>
                </a:cubicBezTo>
                <a:close/>
                <a:moveTo>
                  <a:pt x="101" y="554"/>
                </a:moveTo>
                <a:cubicBezTo>
                  <a:pt x="76" y="554"/>
                  <a:pt x="56" y="534"/>
                  <a:pt x="56" y="509"/>
                </a:cubicBezTo>
                <a:cubicBezTo>
                  <a:pt x="56" y="484"/>
                  <a:pt x="76" y="463"/>
                  <a:pt x="101" y="463"/>
                </a:cubicBezTo>
                <a:cubicBezTo>
                  <a:pt x="127" y="463"/>
                  <a:pt x="147" y="484"/>
                  <a:pt x="147" y="509"/>
                </a:cubicBezTo>
                <a:cubicBezTo>
                  <a:pt x="147" y="534"/>
                  <a:pt x="127" y="554"/>
                  <a:pt x="101" y="554"/>
                </a:cubicBezTo>
                <a:close/>
                <a:moveTo>
                  <a:pt x="184" y="0"/>
                </a:moveTo>
                <a:lnTo>
                  <a:pt x="19" y="0"/>
                </a:lnTo>
                <a:cubicBezTo>
                  <a:pt x="8" y="0"/>
                  <a:pt x="0" y="8"/>
                  <a:pt x="0" y="19"/>
                </a:cubicBezTo>
                <a:lnTo>
                  <a:pt x="0" y="582"/>
                </a:lnTo>
                <a:cubicBezTo>
                  <a:pt x="0" y="592"/>
                  <a:pt x="8" y="600"/>
                  <a:pt x="19" y="600"/>
                </a:cubicBezTo>
                <a:lnTo>
                  <a:pt x="184" y="600"/>
                </a:lnTo>
                <a:cubicBezTo>
                  <a:pt x="194" y="600"/>
                  <a:pt x="202" y="592"/>
                  <a:pt x="202" y="582"/>
                </a:cubicBezTo>
                <a:lnTo>
                  <a:pt x="202" y="19"/>
                </a:lnTo>
                <a:cubicBezTo>
                  <a:pt x="202" y="8"/>
                  <a:pt x="194" y="0"/>
                  <a:pt x="184"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31" name="Freeform 20"/>
          <p:cNvSpPr/>
          <p:nvPr/>
        </p:nvSpPr>
        <p:spPr>
          <a:xfrm>
            <a:off x="6630840" y="1722600"/>
            <a:ext cx="171720" cy="179280"/>
          </a:xfrm>
          <a:custGeom>
            <a:avLst/>
            <a:gdLst/>
            <a:ahLst/>
            <a:rect l="l" t="t" r="r" b="b"/>
            <a:pathLst>
              <a:path w="641" h="667">
                <a:moveTo>
                  <a:pt x="586" y="229"/>
                </a:moveTo>
                <a:lnTo>
                  <a:pt x="55" y="229"/>
                </a:lnTo>
                <a:cubicBezTo>
                  <a:pt x="25" y="229"/>
                  <a:pt x="0" y="253"/>
                  <a:pt x="0" y="284"/>
                </a:cubicBezTo>
                <a:lnTo>
                  <a:pt x="0" y="591"/>
                </a:lnTo>
                <a:cubicBezTo>
                  <a:pt x="0" y="621"/>
                  <a:pt x="25" y="646"/>
                  <a:pt x="55" y="646"/>
                </a:cubicBezTo>
                <a:lnTo>
                  <a:pt x="148" y="646"/>
                </a:lnTo>
                <a:lnTo>
                  <a:pt x="148" y="562"/>
                </a:lnTo>
                <a:lnTo>
                  <a:pt x="493" y="562"/>
                </a:lnTo>
                <a:lnTo>
                  <a:pt x="493" y="646"/>
                </a:lnTo>
                <a:lnTo>
                  <a:pt x="586" y="646"/>
                </a:lnTo>
                <a:cubicBezTo>
                  <a:pt x="616" y="646"/>
                  <a:pt x="641" y="621"/>
                  <a:pt x="641" y="591"/>
                </a:cubicBezTo>
                <a:lnTo>
                  <a:pt x="641" y="284"/>
                </a:lnTo>
                <a:cubicBezTo>
                  <a:pt x="641" y="253"/>
                  <a:pt x="616" y="229"/>
                  <a:pt x="586" y="229"/>
                </a:cubicBezTo>
                <a:close/>
                <a:moveTo>
                  <a:pt x="442" y="41"/>
                </a:moveTo>
                <a:lnTo>
                  <a:pt x="199" y="41"/>
                </a:lnTo>
                <a:cubicBezTo>
                  <a:pt x="192" y="41"/>
                  <a:pt x="187" y="35"/>
                  <a:pt x="187" y="29"/>
                </a:cubicBezTo>
                <a:cubicBezTo>
                  <a:pt x="187" y="23"/>
                  <a:pt x="192" y="17"/>
                  <a:pt x="199" y="17"/>
                </a:cubicBezTo>
                <a:lnTo>
                  <a:pt x="442" y="17"/>
                </a:lnTo>
                <a:cubicBezTo>
                  <a:pt x="449" y="17"/>
                  <a:pt x="454" y="23"/>
                  <a:pt x="454" y="29"/>
                </a:cubicBezTo>
                <a:cubicBezTo>
                  <a:pt x="454" y="35"/>
                  <a:pt x="449" y="41"/>
                  <a:pt x="442" y="41"/>
                </a:cubicBezTo>
                <a:close/>
                <a:moveTo>
                  <a:pt x="442" y="100"/>
                </a:moveTo>
                <a:lnTo>
                  <a:pt x="199" y="100"/>
                </a:lnTo>
                <a:cubicBezTo>
                  <a:pt x="192" y="100"/>
                  <a:pt x="187" y="94"/>
                  <a:pt x="187" y="88"/>
                </a:cubicBezTo>
                <a:cubicBezTo>
                  <a:pt x="187" y="82"/>
                  <a:pt x="192" y="76"/>
                  <a:pt x="199" y="76"/>
                </a:cubicBezTo>
                <a:lnTo>
                  <a:pt x="442" y="76"/>
                </a:lnTo>
                <a:cubicBezTo>
                  <a:pt x="449" y="76"/>
                  <a:pt x="454" y="82"/>
                  <a:pt x="454" y="88"/>
                </a:cubicBezTo>
                <a:cubicBezTo>
                  <a:pt x="454" y="94"/>
                  <a:pt x="449" y="100"/>
                  <a:pt x="442" y="100"/>
                </a:cubicBezTo>
                <a:close/>
                <a:moveTo>
                  <a:pt x="442" y="159"/>
                </a:moveTo>
                <a:lnTo>
                  <a:pt x="199" y="159"/>
                </a:lnTo>
                <a:cubicBezTo>
                  <a:pt x="192" y="159"/>
                  <a:pt x="187" y="153"/>
                  <a:pt x="187" y="147"/>
                </a:cubicBezTo>
                <a:cubicBezTo>
                  <a:pt x="187" y="141"/>
                  <a:pt x="192" y="135"/>
                  <a:pt x="199" y="135"/>
                </a:cubicBezTo>
                <a:lnTo>
                  <a:pt x="442" y="135"/>
                </a:lnTo>
                <a:cubicBezTo>
                  <a:pt x="449" y="135"/>
                  <a:pt x="454" y="141"/>
                  <a:pt x="454" y="147"/>
                </a:cubicBezTo>
                <a:cubicBezTo>
                  <a:pt x="454" y="153"/>
                  <a:pt x="449" y="159"/>
                  <a:pt x="442" y="159"/>
                </a:cubicBezTo>
                <a:close/>
                <a:moveTo>
                  <a:pt x="159" y="0"/>
                </a:moveTo>
                <a:lnTo>
                  <a:pt x="159" y="203"/>
                </a:lnTo>
                <a:lnTo>
                  <a:pt x="482" y="203"/>
                </a:lnTo>
                <a:lnTo>
                  <a:pt x="482" y="0"/>
                </a:lnTo>
                <a:lnTo>
                  <a:pt x="159" y="0"/>
                </a:lnTo>
                <a:close/>
                <a:moveTo>
                  <a:pt x="562" y="203"/>
                </a:moveTo>
                <a:lnTo>
                  <a:pt x="512" y="203"/>
                </a:lnTo>
                <a:lnTo>
                  <a:pt x="512" y="111"/>
                </a:lnTo>
                <a:cubicBezTo>
                  <a:pt x="540" y="111"/>
                  <a:pt x="562" y="133"/>
                  <a:pt x="562" y="161"/>
                </a:cubicBezTo>
                <a:lnTo>
                  <a:pt x="562" y="203"/>
                </a:lnTo>
                <a:close/>
                <a:moveTo>
                  <a:pt x="129" y="203"/>
                </a:moveTo>
                <a:lnTo>
                  <a:pt x="79" y="203"/>
                </a:lnTo>
                <a:lnTo>
                  <a:pt x="79" y="161"/>
                </a:lnTo>
                <a:cubicBezTo>
                  <a:pt x="79" y="133"/>
                  <a:pt x="102" y="111"/>
                  <a:pt x="129" y="111"/>
                </a:cubicBezTo>
                <a:lnTo>
                  <a:pt x="129" y="203"/>
                </a:lnTo>
                <a:close/>
                <a:moveTo>
                  <a:pt x="182" y="612"/>
                </a:moveTo>
                <a:lnTo>
                  <a:pt x="459" y="612"/>
                </a:lnTo>
                <a:lnTo>
                  <a:pt x="459" y="667"/>
                </a:lnTo>
                <a:lnTo>
                  <a:pt x="182" y="667"/>
                </a:lnTo>
                <a:lnTo>
                  <a:pt x="182" y="612"/>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32" name="Freeform 21"/>
          <p:cNvSpPr/>
          <p:nvPr/>
        </p:nvSpPr>
        <p:spPr>
          <a:xfrm>
            <a:off x="3887640" y="2244600"/>
            <a:ext cx="163800" cy="236520"/>
          </a:xfrm>
          <a:custGeom>
            <a:avLst/>
            <a:gdLst/>
            <a:ahLst/>
            <a:rect l="l" t="t" r="r" b="b"/>
            <a:pathLst>
              <a:path w="616" h="881">
                <a:moveTo>
                  <a:pt x="485" y="881"/>
                </a:moveTo>
                <a:lnTo>
                  <a:pt x="41" y="881"/>
                </a:lnTo>
                <a:cubicBezTo>
                  <a:pt x="19" y="881"/>
                  <a:pt x="0" y="863"/>
                  <a:pt x="0" y="841"/>
                </a:cubicBezTo>
                <a:lnTo>
                  <a:pt x="0" y="168"/>
                </a:lnTo>
                <a:cubicBezTo>
                  <a:pt x="0" y="146"/>
                  <a:pt x="19" y="127"/>
                  <a:pt x="41" y="127"/>
                </a:cubicBezTo>
                <a:lnTo>
                  <a:pt x="150" y="127"/>
                </a:lnTo>
                <a:cubicBezTo>
                  <a:pt x="158" y="127"/>
                  <a:pt x="165" y="134"/>
                  <a:pt x="165" y="142"/>
                </a:cubicBezTo>
                <a:cubicBezTo>
                  <a:pt x="165" y="150"/>
                  <a:pt x="158" y="156"/>
                  <a:pt x="150" y="156"/>
                </a:cubicBezTo>
                <a:lnTo>
                  <a:pt x="41" y="156"/>
                </a:lnTo>
                <a:cubicBezTo>
                  <a:pt x="35" y="156"/>
                  <a:pt x="29" y="161"/>
                  <a:pt x="29" y="168"/>
                </a:cubicBezTo>
                <a:lnTo>
                  <a:pt x="29" y="841"/>
                </a:lnTo>
                <a:cubicBezTo>
                  <a:pt x="29" y="847"/>
                  <a:pt x="35" y="852"/>
                  <a:pt x="41" y="852"/>
                </a:cubicBezTo>
                <a:lnTo>
                  <a:pt x="481" y="852"/>
                </a:lnTo>
                <a:lnTo>
                  <a:pt x="481" y="787"/>
                </a:lnTo>
                <a:cubicBezTo>
                  <a:pt x="481" y="765"/>
                  <a:pt x="499" y="746"/>
                  <a:pt x="522" y="746"/>
                </a:cubicBezTo>
                <a:lnTo>
                  <a:pt x="587" y="746"/>
                </a:lnTo>
                <a:lnTo>
                  <a:pt x="587" y="168"/>
                </a:lnTo>
                <a:cubicBezTo>
                  <a:pt x="587" y="161"/>
                  <a:pt x="582" y="156"/>
                  <a:pt x="575" y="156"/>
                </a:cubicBezTo>
                <a:lnTo>
                  <a:pt x="466" y="156"/>
                </a:lnTo>
                <a:cubicBezTo>
                  <a:pt x="458" y="156"/>
                  <a:pt x="452" y="150"/>
                  <a:pt x="452" y="142"/>
                </a:cubicBezTo>
                <a:cubicBezTo>
                  <a:pt x="452" y="134"/>
                  <a:pt x="458" y="127"/>
                  <a:pt x="466" y="127"/>
                </a:cubicBezTo>
                <a:lnTo>
                  <a:pt x="575" y="127"/>
                </a:lnTo>
                <a:cubicBezTo>
                  <a:pt x="598" y="127"/>
                  <a:pt x="616" y="146"/>
                  <a:pt x="616" y="168"/>
                </a:cubicBezTo>
                <a:lnTo>
                  <a:pt x="616" y="750"/>
                </a:lnTo>
                <a:cubicBezTo>
                  <a:pt x="616" y="761"/>
                  <a:pt x="612" y="771"/>
                  <a:pt x="604" y="779"/>
                </a:cubicBezTo>
                <a:lnTo>
                  <a:pt x="513" y="869"/>
                </a:lnTo>
                <a:cubicBezTo>
                  <a:pt x="506" y="877"/>
                  <a:pt x="495" y="881"/>
                  <a:pt x="485" y="881"/>
                </a:cubicBezTo>
                <a:close/>
                <a:moveTo>
                  <a:pt x="538" y="347"/>
                </a:moveTo>
                <a:lnTo>
                  <a:pt x="478" y="347"/>
                </a:lnTo>
                <a:cubicBezTo>
                  <a:pt x="470" y="347"/>
                  <a:pt x="464" y="340"/>
                  <a:pt x="464" y="332"/>
                </a:cubicBezTo>
                <a:lnTo>
                  <a:pt x="464" y="272"/>
                </a:lnTo>
                <a:cubicBezTo>
                  <a:pt x="464" y="264"/>
                  <a:pt x="470" y="258"/>
                  <a:pt x="478" y="258"/>
                </a:cubicBezTo>
                <a:lnTo>
                  <a:pt x="538" y="258"/>
                </a:lnTo>
                <a:cubicBezTo>
                  <a:pt x="546" y="258"/>
                  <a:pt x="552" y="264"/>
                  <a:pt x="552" y="272"/>
                </a:cubicBezTo>
                <a:lnTo>
                  <a:pt x="552" y="332"/>
                </a:lnTo>
                <a:cubicBezTo>
                  <a:pt x="552" y="340"/>
                  <a:pt x="546" y="347"/>
                  <a:pt x="538" y="347"/>
                </a:cubicBezTo>
                <a:close/>
                <a:moveTo>
                  <a:pt x="538" y="628"/>
                </a:moveTo>
                <a:lnTo>
                  <a:pt x="78" y="628"/>
                </a:lnTo>
                <a:cubicBezTo>
                  <a:pt x="70" y="628"/>
                  <a:pt x="64" y="621"/>
                  <a:pt x="64" y="613"/>
                </a:cubicBezTo>
                <a:cubicBezTo>
                  <a:pt x="64" y="606"/>
                  <a:pt x="70" y="599"/>
                  <a:pt x="78" y="599"/>
                </a:cubicBezTo>
                <a:lnTo>
                  <a:pt x="538" y="599"/>
                </a:lnTo>
                <a:cubicBezTo>
                  <a:pt x="546" y="599"/>
                  <a:pt x="552" y="606"/>
                  <a:pt x="552" y="613"/>
                </a:cubicBezTo>
                <a:cubicBezTo>
                  <a:pt x="552" y="621"/>
                  <a:pt x="546" y="628"/>
                  <a:pt x="538" y="628"/>
                </a:cubicBezTo>
                <a:close/>
                <a:moveTo>
                  <a:pt x="538" y="555"/>
                </a:moveTo>
                <a:lnTo>
                  <a:pt x="78" y="555"/>
                </a:lnTo>
                <a:cubicBezTo>
                  <a:pt x="70" y="555"/>
                  <a:pt x="64" y="549"/>
                  <a:pt x="64" y="541"/>
                </a:cubicBezTo>
                <a:cubicBezTo>
                  <a:pt x="64" y="533"/>
                  <a:pt x="70" y="527"/>
                  <a:pt x="78" y="527"/>
                </a:cubicBezTo>
                <a:lnTo>
                  <a:pt x="538" y="527"/>
                </a:lnTo>
                <a:cubicBezTo>
                  <a:pt x="546" y="527"/>
                  <a:pt x="552" y="533"/>
                  <a:pt x="552" y="541"/>
                </a:cubicBezTo>
                <a:cubicBezTo>
                  <a:pt x="552" y="549"/>
                  <a:pt x="546" y="555"/>
                  <a:pt x="538" y="555"/>
                </a:cubicBezTo>
                <a:close/>
                <a:moveTo>
                  <a:pt x="538" y="483"/>
                </a:moveTo>
                <a:lnTo>
                  <a:pt x="78" y="483"/>
                </a:lnTo>
                <a:cubicBezTo>
                  <a:pt x="70" y="483"/>
                  <a:pt x="64" y="476"/>
                  <a:pt x="64" y="468"/>
                </a:cubicBezTo>
                <a:cubicBezTo>
                  <a:pt x="64" y="460"/>
                  <a:pt x="70" y="454"/>
                  <a:pt x="78" y="454"/>
                </a:cubicBezTo>
                <a:lnTo>
                  <a:pt x="538" y="454"/>
                </a:lnTo>
                <a:cubicBezTo>
                  <a:pt x="546" y="454"/>
                  <a:pt x="552" y="460"/>
                  <a:pt x="552" y="468"/>
                </a:cubicBezTo>
                <a:cubicBezTo>
                  <a:pt x="552" y="476"/>
                  <a:pt x="546" y="483"/>
                  <a:pt x="538" y="483"/>
                </a:cubicBezTo>
                <a:close/>
                <a:moveTo>
                  <a:pt x="538" y="410"/>
                </a:moveTo>
                <a:lnTo>
                  <a:pt x="78" y="410"/>
                </a:lnTo>
                <a:cubicBezTo>
                  <a:pt x="70" y="410"/>
                  <a:pt x="64" y="404"/>
                  <a:pt x="64" y="396"/>
                </a:cubicBezTo>
                <a:cubicBezTo>
                  <a:pt x="64" y="388"/>
                  <a:pt x="70" y="381"/>
                  <a:pt x="78" y="381"/>
                </a:cubicBezTo>
                <a:lnTo>
                  <a:pt x="538" y="381"/>
                </a:lnTo>
                <a:cubicBezTo>
                  <a:pt x="546" y="381"/>
                  <a:pt x="552" y="388"/>
                  <a:pt x="552" y="396"/>
                </a:cubicBezTo>
                <a:cubicBezTo>
                  <a:pt x="552" y="404"/>
                  <a:pt x="546" y="410"/>
                  <a:pt x="538" y="410"/>
                </a:cubicBezTo>
                <a:close/>
                <a:moveTo>
                  <a:pt x="409" y="338"/>
                </a:moveTo>
                <a:lnTo>
                  <a:pt x="78" y="338"/>
                </a:lnTo>
                <a:cubicBezTo>
                  <a:pt x="70" y="338"/>
                  <a:pt x="64" y="331"/>
                  <a:pt x="64" y="323"/>
                </a:cubicBezTo>
                <a:cubicBezTo>
                  <a:pt x="64" y="315"/>
                  <a:pt x="70" y="309"/>
                  <a:pt x="78" y="309"/>
                </a:cubicBezTo>
                <a:lnTo>
                  <a:pt x="409" y="309"/>
                </a:lnTo>
                <a:cubicBezTo>
                  <a:pt x="417" y="309"/>
                  <a:pt x="423" y="315"/>
                  <a:pt x="423" y="323"/>
                </a:cubicBezTo>
                <a:cubicBezTo>
                  <a:pt x="423" y="331"/>
                  <a:pt x="417" y="338"/>
                  <a:pt x="409" y="338"/>
                </a:cubicBezTo>
                <a:close/>
                <a:moveTo>
                  <a:pt x="409" y="265"/>
                </a:moveTo>
                <a:lnTo>
                  <a:pt x="78" y="265"/>
                </a:lnTo>
                <a:cubicBezTo>
                  <a:pt x="70" y="265"/>
                  <a:pt x="64" y="259"/>
                  <a:pt x="64" y="251"/>
                </a:cubicBezTo>
                <a:cubicBezTo>
                  <a:pt x="64" y="243"/>
                  <a:pt x="70" y="236"/>
                  <a:pt x="78" y="236"/>
                </a:cubicBezTo>
                <a:lnTo>
                  <a:pt x="409" y="236"/>
                </a:lnTo>
                <a:cubicBezTo>
                  <a:pt x="417" y="236"/>
                  <a:pt x="423" y="243"/>
                  <a:pt x="423" y="251"/>
                </a:cubicBezTo>
                <a:cubicBezTo>
                  <a:pt x="423" y="259"/>
                  <a:pt x="417" y="265"/>
                  <a:pt x="409" y="265"/>
                </a:cubicBezTo>
                <a:close/>
                <a:moveTo>
                  <a:pt x="302" y="87"/>
                </a:moveTo>
                <a:cubicBezTo>
                  <a:pt x="293" y="85"/>
                  <a:pt x="287" y="77"/>
                  <a:pt x="287" y="67"/>
                </a:cubicBezTo>
                <a:cubicBezTo>
                  <a:pt x="287" y="55"/>
                  <a:pt x="296" y="45"/>
                  <a:pt x="308" y="45"/>
                </a:cubicBezTo>
                <a:cubicBezTo>
                  <a:pt x="320" y="45"/>
                  <a:pt x="330" y="55"/>
                  <a:pt x="330" y="67"/>
                </a:cubicBezTo>
                <a:cubicBezTo>
                  <a:pt x="330" y="77"/>
                  <a:pt x="323" y="85"/>
                  <a:pt x="314" y="87"/>
                </a:cubicBezTo>
                <a:lnTo>
                  <a:pt x="302" y="87"/>
                </a:lnTo>
                <a:close/>
                <a:moveTo>
                  <a:pt x="308" y="0"/>
                </a:moveTo>
                <a:cubicBezTo>
                  <a:pt x="279" y="0"/>
                  <a:pt x="255" y="23"/>
                  <a:pt x="255" y="53"/>
                </a:cubicBezTo>
                <a:lnTo>
                  <a:pt x="255" y="134"/>
                </a:lnTo>
                <a:lnTo>
                  <a:pt x="361" y="134"/>
                </a:lnTo>
                <a:lnTo>
                  <a:pt x="361" y="53"/>
                </a:lnTo>
                <a:cubicBezTo>
                  <a:pt x="361" y="23"/>
                  <a:pt x="337" y="0"/>
                  <a:pt x="308" y="0"/>
                </a:cubicBezTo>
                <a:close/>
                <a:moveTo>
                  <a:pt x="408" y="193"/>
                </a:moveTo>
                <a:lnTo>
                  <a:pt x="208" y="193"/>
                </a:lnTo>
                <a:cubicBezTo>
                  <a:pt x="194" y="193"/>
                  <a:pt x="183" y="181"/>
                  <a:pt x="183" y="168"/>
                </a:cubicBezTo>
                <a:lnTo>
                  <a:pt x="183" y="112"/>
                </a:lnTo>
                <a:cubicBezTo>
                  <a:pt x="183" y="99"/>
                  <a:pt x="194" y="87"/>
                  <a:pt x="208" y="87"/>
                </a:cubicBezTo>
                <a:lnTo>
                  <a:pt x="237" y="87"/>
                </a:lnTo>
                <a:cubicBezTo>
                  <a:pt x="239" y="87"/>
                  <a:pt x="240" y="89"/>
                  <a:pt x="240" y="90"/>
                </a:cubicBezTo>
                <a:lnTo>
                  <a:pt x="240" y="134"/>
                </a:lnTo>
                <a:cubicBezTo>
                  <a:pt x="240" y="142"/>
                  <a:pt x="247" y="149"/>
                  <a:pt x="255" y="149"/>
                </a:cubicBezTo>
                <a:lnTo>
                  <a:pt x="361" y="149"/>
                </a:lnTo>
                <a:cubicBezTo>
                  <a:pt x="369" y="149"/>
                  <a:pt x="376" y="142"/>
                  <a:pt x="376" y="134"/>
                </a:cubicBezTo>
                <a:lnTo>
                  <a:pt x="376" y="90"/>
                </a:lnTo>
                <a:cubicBezTo>
                  <a:pt x="376" y="89"/>
                  <a:pt x="377" y="87"/>
                  <a:pt x="379" y="87"/>
                </a:cubicBezTo>
                <a:lnTo>
                  <a:pt x="408" y="87"/>
                </a:lnTo>
                <a:cubicBezTo>
                  <a:pt x="422" y="87"/>
                  <a:pt x="433" y="99"/>
                  <a:pt x="433" y="112"/>
                </a:cubicBezTo>
                <a:lnTo>
                  <a:pt x="433" y="168"/>
                </a:lnTo>
                <a:cubicBezTo>
                  <a:pt x="433" y="181"/>
                  <a:pt x="422" y="193"/>
                  <a:pt x="408" y="193"/>
                </a:cubicBezTo>
                <a:close/>
                <a:moveTo>
                  <a:pt x="361" y="134"/>
                </a:moveTo>
                <a:lnTo>
                  <a:pt x="255" y="134"/>
                </a:lnTo>
                <a:moveTo>
                  <a:pt x="510" y="832"/>
                </a:moveTo>
                <a:lnTo>
                  <a:pt x="567" y="775"/>
                </a:lnTo>
                <a:lnTo>
                  <a:pt x="522" y="775"/>
                </a:lnTo>
                <a:cubicBezTo>
                  <a:pt x="515" y="775"/>
                  <a:pt x="510" y="780"/>
                  <a:pt x="510" y="787"/>
                </a:cubicBezTo>
                <a:lnTo>
                  <a:pt x="510" y="832"/>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33" name="Freeform 22"/>
          <p:cNvSpPr/>
          <p:nvPr/>
        </p:nvSpPr>
        <p:spPr>
          <a:xfrm>
            <a:off x="8380440" y="3260880"/>
            <a:ext cx="187200" cy="187200"/>
          </a:xfrm>
          <a:custGeom>
            <a:avLst/>
            <a:gdLst/>
            <a:ahLst/>
            <a:rect l="l" t="t" r="r" b="b"/>
            <a:pathLst>
              <a:path w="703" h="703">
                <a:moveTo>
                  <a:pt x="687" y="703"/>
                </a:moveTo>
                <a:lnTo>
                  <a:pt x="16" y="703"/>
                </a:lnTo>
                <a:cubicBezTo>
                  <a:pt x="7" y="703"/>
                  <a:pt x="0" y="696"/>
                  <a:pt x="0" y="687"/>
                </a:cubicBezTo>
                <a:lnTo>
                  <a:pt x="0" y="16"/>
                </a:lnTo>
                <a:cubicBezTo>
                  <a:pt x="0" y="7"/>
                  <a:pt x="7" y="0"/>
                  <a:pt x="16" y="0"/>
                </a:cubicBezTo>
                <a:cubicBezTo>
                  <a:pt x="25" y="0"/>
                  <a:pt x="32" y="7"/>
                  <a:pt x="32" y="16"/>
                </a:cubicBezTo>
                <a:lnTo>
                  <a:pt x="32" y="375"/>
                </a:lnTo>
                <a:lnTo>
                  <a:pt x="343" y="164"/>
                </a:lnTo>
                <a:cubicBezTo>
                  <a:pt x="350" y="159"/>
                  <a:pt x="360" y="158"/>
                  <a:pt x="369" y="163"/>
                </a:cubicBezTo>
                <a:lnTo>
                  <a:pt x="489" y="224"/>
                </a:lnTo>
                <a:lnTo>
                  <a:pt x="622" y="80"/>
                </a:lnTo>
                <a:lnTo>
                  <a:pt x="645" y="102"/>
                </a:lnTo>
                <a:lnTo>
                  <a:pt x="510" y="250"/>
                </a:lnTo>
                <a:cubicBezTo>
                  <a:pt x="502" y="258"/>
                  <a:pt x="489" y="260"/>
                  <a:pt x="479" y="255"/>
                </a:cubicBezTo>
                <a:lnTo>
                  <a:pt x="358" y="193"/>
                </a:lnTo>
                <a:lnTo>
                  <a:pt x="32" y="414"/>
                </a:lnTo>
                <a:lnTo>
                  <a:pt x="32" y="671"/>
                </a:lnTo>
                <a:lnTo>
                  <a:pt x="687" y="671"/>
                </a:lnTo>
                <a:cubicBezTo>
                  <a:pt x="695" y="671"/>
                  <a:pt x="703" y="678"/>
                  <a:pt x="703" y="687"/>
                </a:cubicBezTo>
                <a:cubicBezTo>
                  <a:pt x="703" y="696"/>
                  <a:pt x="695" y="703"/>
                  <a:pt x="687" y="703"/>
                </a:cubicBezTo>
                <a:close/>
                <a:moveTo>
                  <a:pt x="512" y="317"/>
                </a:moveTo>
                <a:lnTo>
                  <a:pt x="512" y="617"/>
                </a:lnTo>
                <a:lnTo>
                  <a:pt x="602" y="617"/>
                </a:lnTo>
                <a:lnTo>
                  <a:pt x="602" y="219"/>
                </a:lnTo>
                <a:lnTo>
                  <a:pt x="512" y="317"/>
                </a:lnTo>
                <a:close/>
                <a:moveTo>
                  <a:pt x="376" y="267"/>
                </a:moveTo>
                <a:lnTo>
                  <a:pt x="376" y="617"/>
                </a:lnTo>
                <a:lnTo>
                  <a:pt x="465" y="617"/>
                </a:lnTo>
                <a:lnTo>
                  <a:pt x="465" y="314"/>
                </a:lnTo>
                <a:lnTo>
                  <a:pt x="376" y="267"/>
                </a:lnTo>
                <a:close/>
                <a:moveTo>
                  <a:pt x="239" y="340"/>
                </a:moveTo>
                <a:lnTo>
                  <a:pt x="239" y="617"/>
                </a:lnTo>
                <a:lnTo>
                  <a:pt x="329" y="617"/>
                </a:lnTo>
                <a:lnTo>
                  <a:pt x="329" y="278"/>
                </a:lnTo>
                <a:lnTo>
                  <a:pt x="239" y="340"/>
                </a:lnTo>
                <a:close/>
                <a:moveTo>
                  <a:pt x="103" y="432"/>
                </a:moveTo>
                <a:lnTo>
                  <a:pt x="103" y="617"/>
                </a:lnTo>
                <a:lnTo>
                  <a:pt x="193" y="617"/>
                </a:lnTo>
                <a:lnTo>
                  <a:pt x="193" y="371"/>
                </a:lnTo>
                <a:lnTo>
                  <a:pt x="103" y="432"/>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34" name="Freeform 23"/>
          <p:cNvSpPr/>
          <p:nvPr/>
        </p:nvSpPr>
        <p:spPr>
          <a:xfrm>
            <a:off x="5246640" y="2585880"/>
            <a:ext cx="147600" cy="209880"/>
          </a:xfrm>
          <a:custGeom>
            <a:avLst/>
            <a:gdLst/>
            <a:ahLst/>
            <a:rect l="l" t="t" r="r" b="b"/>
            <a:pathLst>
              <a:path w="553" h="788">
                <a:moveTo>
                  <a:pt x="473" y="216"/>
                </a:moveTo>
                <a:lnTo>
                  <a:pt x="79" y="216"/>
                </a:lnTo>
                <a:cubicBezTo>
                  <a:pt x="74" y="216"/>
                  <a:pt x="71" y="212"/>
                  <a:pt x="71" y="207"/>
                </a:cubicBezTo>
                <a:lnTo>
                  <a:pt x="71" y="78"/>
                </a:lnTo>
                <a:cubicBezTo>
                  <a:pt x="71" y="74"/>
                  <a:pt x="74" y="70"/>
                  <a:pt x="79" y="70"/>
                </a:cubicBezTo>
                <a:lnTo>
                  <a:pt x="473" y="70"/>
                </a:lnTo>
                <a:cubicBezTo>
                  <a:pt x="478" y="70"/>
                  <a:pt x="482" y="74"/>
                  <a:pt x="482" y="78"/>
                </a:cubicBezTo>
                <a:lnTo>
                  <a:pt x="482" y="207"/>
                </a:lnTo>
                <a:cubicBezTo>
                  <a:pt x="482" y="212"/>
                  <a:pt x="478" y="216"/>
                  <a:pt x="473" y="216"/>
                </a:cubicBezTo>
                <a:close/>
                <a:moveTo>
                  <a:pt x="469" y="394"/>
                </a:moveTo>
                <a:lnTo>
                  <a:pt x="427" y="394"/>
                </a:lnTo>
                <a:cubicBezTo>
                  <a:pt x="420" y="394"/>
                  <a:pt x="414" y="388"/>
                  <a:pt x="414" y="381"/>
                </a:cubicBezTo>
                <a:lnTo>
                  <a:pt x="414" y="339"/>
                </a:lnTo>
                <a:cubicBezTo>
                  <a:pt x="414" y="332"/>
                  <a:pt x="420" y="326"/>
                  <a:pt x="427" y="326"/>
                </a:cubicBezTo>
                <a:lnTo>
                  <a:pt x="469" y="326"/>
                </a:lnTo>
                <a:cubicBezTo>
                  <a:pt x="476" y="326"/>
                  <a:pt x="482" y="332"/>
                  <a:pt x="482" y="339"/>
                </a:cubicBezTo>
                <a:lnTo>
                  <a:pt x="482" y="381"/>
                </a:lnTo>
                <a:cubicBezTo>
                  <a:pt x="482" y="388"/>
                  <a:pt x="476" y="394"/>
                  <a:pt x="469" y="394"/>
                </a:cubicBezTo>
                <a:close/>
                <a:moveTo>
                  <a:pt x="469" y="502"/>
                </a:moveTo>
                <a:lnTo>
                  <a:pt x="427" y="502"/>
                </a:lnTo>
                <a:cubicBezTo>
                  <a:pt x="420" y="502"/>
                  <a:pt x="414" y="496"/>
                  <a:pt x="414" y="489"/>
                </a:cubicBezTo>
                <a:lnTo>
                  <a:pt x="414" y="447"/>
                </a:lnTo>
                <a:cubicBezTo>
                  <a:pt x="414" y="440"/>
                  <a:pt x="420" y="435"/>
                  <a:pt x="427" y="435"/>
                </a:cubicBezTo>
                <a:lnTo>
                  <a:pt x="469" y="435"/>
                </a:lnTo>
                <a:cubicBezTo>
                  <a:pt x="476" y="435"/>
                  <a:pt x="482" y="440"/>
                  <a:pt x="482" y="447"/>
                </a:cubicBezTo>
                <a:lnTo>
                  <a:pt x="482" y="489"/>
                </a:lnTo>
                <a:cubicBezTo>
                  <a:pt x="482" y="496"/>
                  <a:pt x="476" y="502"/>
                  <a:pt x="469" y="502"/>
                </a:cubicBezTo>
                <a:close/>
                <a:moveTo>
                  <a:pt x="469" y="718"/>
                </a:moveTo>
                <a:lnTo>
                  <a:pt x="427" y="718"/>
                </a:lnTo>
                <a:cubicBezTo>
                  <a:pt x="420" y="718"/>
                  <a:pt x="414" y="713"/>
                  <a:pt x="414" y="706"/>
                </a:cubicBezTo>
                <a:lnTo>
                  <a:pt x="414" y="555"/>
                </a:lnTo>
                <a:cubicBezTo>
                  <a:pt x="414" y="548"/>
                  <a:pt x="420" y="543"/>
                  <a:pt x="427" y="543"/>
                </a:cubicBezTo>
                <a:lnTo>
                  <a:pt x="469" y="543"/>
                </a:lnTo>
                <a:cubicBezTo>
                  <a:pt x="476" y="543"/>
                  <a:pt x="482" y="548"/>
                  <a:pt x="482" y="555"/>
                </a:cubicBezTo>
                <a:lnTo>
                  <a:pt x="482" y="706"/>
                </a:lnTo>
                <a:cubicBezTo>
                  <a:pt x="482" y="713"/>
                  <a:pt x="476" y="718"/>
                  <a:pt x="469" y="718"/>
                </a:cubicBezTo>
                <a:close/>
                <a:moveTo>
                  <a:pt x="335" y="394"/>
                </a:moveTo>
                <a:lnTo>
                  <a:pt x="292" y="394"/>
                </a:lnTo>
                <a:cubicBezTo>
                  <a:pt x="285" y="394"/>
                  <a:pt x="280" y="388"/>
                  <a:pt x="280" y="381"/>
                </a:cubicBezTo>
                <a:lnTo>
                  <a:pt x="280" y="339"/>
                </a:lnTo>
                <a:cubicBezTo>
                  <a:pt x="280" y="332"/>
                  <a:pt x="285" y="326"/>
                  <a:pt x="292" y="326"/>
                </a:cubicBezTo>
                <a:lnTo>
                  <a:pt x="335" y="326"/>
                </a:lnTo>
                <a:cubicBezTo>
                  <a:pt x="341" y="326"/>
                  <a:pt x="347" y="332"/>
                  <a:pt x="347" y="339"/>
                </a:cubicBezTo>
                <a:lnTo>
                  <a:pt x="347" y="381"/>
                </a:lnTo>
                <a:cubicBezTo>
                  <a:pt x="347" y="388"/>
                  <a:pt x="341" y="394"/>
                  <a:pt x="335" y="394"/>
                </a:cubicBezTo>
                <a:close/>
                <a:moveTo>
                  <a:pt x="335" y="502"/>
                </a:moveTo>
                <a:lnTo>
                  <a:pt x="292" y="502"/>
                </a:lnTo>
                <a:cubicBezTo>
                  <a:pt x="285" y="502"/>
                  <a:pt x="280" y="496"/>
                  <a:pt x="280" y="489"/>
                </a:cubicBezTo>
                <a:lnTo>
                  <a:pt x="280" y="447"/>
                </a:lnTo>
                <a:cubicBezTo>
                  <a:pt x="280" y="440"/>
                  <a:pt x="285" y="435"/>
                  <a:pt x="292" y="435"/>
                </a:cubicBezTo>
                <a:lnTo>
                  <a:pt x="335" y="435"/>
                </a:lnTo>
                <a:cubicBezTo>
                  <a:pt x="341" y="435"/>
                  <a:pt x="347" y="440"/>
                  <a:pt x="347" y="447"/>
                </a:cubicBezTo>
                <a:lnTo>
                  <a:pt x="347" y="489"/>
                </a:lnTo>
                <a:cubicBezTo>
                  <a:pt x="347" y="496"/>
                  <a:pt x="341" y="502"/>
                  <a:pt x="335" y="502"/>
                </a:cubicBezTo>
                <a:close/>
                <a:moveTo>
                  <a:pt x="335" y="610"/>
                </a:moveTo>
                <a:lnTo>
                  <a:pt x="292" y="610"/>
                </a:lnTo>
                <a:cubicBezTo>
                  <a:pt x="285" y="610"/>
                  <a:pt x="280" y="605"/>
                  <a:pt x="280" y="598"/>
                </a:cubicBezTo>
                <a:lnTo>
                  <a:pt x="280" y="555"/>
                </a:lnTo>
                <a:cubicBezTo>
                  <a:pt x="280" y="548"/>
                  <a:pt x="285" y="543"/>
                  <a:pt x="292" y="543"/>
                </a:cubicBezTo>
                <a:lnTo>
                  <a:pt x="335" y="543"/>
                </a:lnTo>
                <a:cubicBezTo>
                  <a:pt x="341" y="543"/>
                  <a:pt x="347" y="548"/>
                  <a:pt x="347" y="555"/>
                </a:cubicBezTo>
                <a:lnTo>
                  <a:pt x="347" y="598"/>
                </a:lnTo>
                <a:cubicBezTo>
                  <a:pt x="347" y="605"/>
                  <a:pt x="341" y="610"/>
                  <a:pt x="335" y="610"/>
                </a:cubicBezTo>
                <a:close/>
                <a:moveTo>
                  <a:pt x="335" y="718"/>
                </a:moveTo>
                <a:lnTo>
                  <a:pt x="292" y="718"/>
                </a:lnTo>
                <a:cubicBezTo>
                  <a:pt x="285" y="718"/>
                  <a:pt x="280" y="713"/>
                  <a:pt x="280" y="706"/>
                </a:cubicBezTo>
                <a:lnTo>
                  <a:pt x="280" y="664"/>
                </a:lnTo>
                <a:cubicBezTo>
                  <a:pt x="280" y="657"/>
                  <a:pt x="285" y="651"/>
                  <a:pt x="292" y="651"/>
                </a:cubicBezTo>
                <a:lnTo>
                  <a:pt x="335" y="651"/>
                </a:lnTo>
                <a:cubicBezTo>
                  <a:pt x="341" y="651"/>
                  <a:pt x="347" y="657"/>
                  <a:pt x="347" y="664"/>
                </a:cubicBezTo>
                <a:lnTo>
                  <a:pt x="347" y="706"/>
                </a:lnTo>
                <a:cubicBezTo>
                  <a:pt x="347" y="713"/>
                  <a:pt x="341" y="718"/>
                  <a:pt x="335" y="718"/>
                </a:cubicBezTo>
                <a:close/>
                <a:moveTo>
                  <a:pt x="230" y="394"/>
                </a:moveTo>
                <a:lnTo>
                  <a:pt x="188" y="394"/>
                </a:lnTo>
                <a:cubicBezTo>
                  <a:pt x="181" y="394"/>
                  <a:pt x="175" y="388"/>
                  <a:pt x="175" y="381"/>
                </a:cubicBezTo>
                <a:lnTo>
                  <a:pt x="175" y="339"/>
                </a:lnTo>
                <a:cubicBezTo>
                  <a:pt x="175" y="332"/>
                  <a:pt x="181" y="326"/>
                  <a:pt x="188" y="326"/>
                </a:cubicBezTo>
                <a:lnTo>
                  <a:pt x="230" y="326"/>
                </a:lnTo>
                <a:cubicBezTo>
                  <a:pt x="237" y="326"/>
                  <a:pt x="242" y="332"/>
                  <a:pt x="242" y="339"/>
                </a:cubicBezTo>
                <a:lnTo>
                  <a:pt x="242" y="381"/>
                </a:lnTo>
                <a:cubicBezTo>
                  <a:pt x="242" y="388"/>
                  <a:pt x="237" y="394"/>
                  <a:pt x="230" y="394"/>
                </a:cubicBezTo>
                <a:close/>
                <a:moveTo>
                  <a:pt x="230" y="502"/>
                </a:moveTo>
                <a:lnTo>
                  <a:pt x="188" y="502"/>
                </a:lnTo>
                <a:cubicBezTo>
                  <a:pt x="181" y="502"/>
                  <a:pt x="175" y="496"/>
                  <a:pt x="175" y="489"/>
                </a:cubicBezTo>
                <a:lnTo>
                  <a:pt x="175" y="447"/>
                </a:lnTo>
                <a:cubicBezTo>
                  <a:pt x="175" y="440"/>
                  <a:pt x="181" y="435"/>
                  <a:pt x="188" y="435"/>
                </a:cubicBezTo>
                <a:lnTo>
                  <a:pt x="230" y="435"/>
                </a:lnTo>
                <a:cubicBezTo>
                  <a:pt x="237" y="435"/>
                  <a:pt x="242" y="440"/>
                  <a:pt x="242" y="447"/>
                </a:cubicBezTo>
                <a:lnTo>
                  <a:pt x="242" y="489"/>
                </a:lnTo>
                <a:cubicBezTo>
                  <a:pt x="242" y="496"/>
                  <a:pt x="237" y="502"/>
                  <a:pt x="230" y="502"/>
                </a:cubicBezTo>
                <a:close/>
                <a:moveTo>
                  <a:pt x="230" y="610"/>
                </a:moveTo>
                <a:lnTo>
                  <a:pt x="188" y="610"/>
                </a:lnTo>
                <a:cubicBezTo>
                  <a:pt x="181" y="610"/>
                  <a:pt x="175" y="605"/>
                  <a:pt x="175" y="598"/>
                </a:cubicBezTo>
                <a:lnTo>
                  <a:pt x="175" y="555"/>
                </a:lnTo>
                <a:cubicBezTo>
                  <a:pt x="175" y="548"/>
                  <a:pt x="181" y="543"/>
                  <a:pt x="188" y="543"/>
                </a:cubicBezTo>
                <a:lnTo>
                  <a:pt x="230" y="543"/>
                </a:lnTo>
                <a:cubicBezTo>
                  <a:pt x="237" y="543"/>
                  <a:pt x="242" y="548"/>
                  <a:pt x="242" y="555"/>
                </a:cubicBezTo>
                <a:lnTo>
                  <a:pt x="242" y="598"/>
                </a:lnTo>
                <a:cubicBezTo>
                  <a:pt x="242" y="605"/>
                  <a:pt x="237" y="610"/>
                  <a:pt x="230" y="610"/>
                </a:cubicBezTo>
                <a:close/>
                <a:moveTo>
                  <a:pt x="230" y="718"/>
                </a:moveTo>
                <a:lnTo>
                  <a:pt x="188" y="718"/>
                </a:lnTo>
                <a:cubicBezTo>
                  <a:pt x="181" y="718"/>
                  <a:pt x="175" y="713"/>
                  <a:pt x="175" y="706"/>
                </a:cubicBezTo>
                <a:lnTo>
                  <a:pt x="175" y="664"/>
                </a:lnTo>
                <a:cubicBezTo>
                  <a:pt x="175" y="657"/>
                  <a:pt x="181" y="651"/>
                  <a:pt x="188" y="651"/>
                </a:cubicBezTo>
                <a:lnTo>
                  <a:pt x="230" y="651"/>
                </a:lnTo>
                <a:cubicBezTo>
                  <a:pt x="237" y="651"/>
                  <a:pt x="242" y="657"/>
                  <a:pt x="242" y="664"/>
                </a:cubicBezTo>
                <a:lnTo>
                  <a:pt x="242" y="706"/>
                </a:lnTo>
                <a:cubicBezTo>
                  <a:pt x="242" y="713"/>
                  <a:pt x="237" y="718"/>
                  <a:pt x="230" y="718"/>
                </a:cubicBezTo>
                <a:close/>
                <a:moveTo>
                  <a:pt x="125" y="394"/>
                </a:moveTo>
                <a:lnTo>
                  <a:pt x="83" y="394"/>
                </a:lnTo>
                <a:cubicBezTo>
                  <a:pt x="76" y="394"/>
                  <a:pt x="71" y="388"/>
                  <a:pt x="71" y="381"/>
                </a:cubicBezTo>
                <a:lnTo>
                  <a:pt x="71" y="339"/>
                </a:lnTo>
                <a:cubicBezTo>
                  <a:pt x="71" y="332"/>
                  <a:pt x="76" y="326"/>
                  <a:pt x="83" y="326"/>
                </a:cubicBezTo>
                <a:lnTo>
                  <a:pt x="125" y="326"/>
                </a:lnTo>
                <a:cubicBezTo>
                  <a:pt x="132" y="326"/>
                  <a:pt x="138" y="332"/>
                  <a:pt x="138" y="339"/>
                </a:cubicBezTo>
                <a:lnTo>
                  <a:pt x="138" y="381"/>
                </a:lnTo>
                <a:cubicBezTo>
                  <a:pt x="138" y="388"/>
                  <a:pt x="132" y="394"/>
                  <a:pt x="125" y="394"/>
                </a:cubicBezTo>
                <a:close/>
                <a:moveTo>
                  <a:pt x="125" y="502"/>
                </a:moveTo>
                <a:lnTo>
                  <a:pt x="83" y="502"/>
                </a:lnTo>
                <a:cubicBezTo>
                  <a:pt x="76" y="502"/>
                  <a:pt x="71" y="496"/>
                  <a:pt x="71" y="489"/>
                </a:cubicBezTo>
                <a:lnTo>
                  <a:pt x="71" y="447"/>
                </a:lnTo>
                <a:cubicBezTo>
                  <a:pt x="71" y="440"/>
                  <a:pt x="76" y="435"/>
                  <a:pt x="83" y="435"/>
                </a:cubicBezTo>
                <a:lnTo>
                  <a:pt x="125" y="435"/>
                </a:lnTo>
                <a:cubicBezTo>
                  <a:pt x="132" y="435"/>
                  <a:pt x="138" y="440"/>
                  <a:pt x="138" y="447"/>
                </a:cubicBezTo>
                <a:lnTo>
                  <a:pt x="138" y="489"/>
                </a:lnTo>
                <a:cubicBezTo>
                  <a:pt x="138" y="496"/>
                  <a:pt x="132" y="502"/>
                  <a:pt x="125" y="502"/>
                </a:cubicBezTo>
                <a:close/>
                <a:moveTo>
                  <a:pt x="125" y="610"/>
                </a:moveTo>
                <a:lnTo>
                  <a:pt x="83" y="610"/>
                </a:lnTo>
                <a:cubicBezTo>
                  <a:pt x="76" y="610"/>
                  <a:pt x="71" y="605"/>
                  <a:pt x="71" y="598"/>
                </a:cubicBezTo>
                <a:lnTo>
                  <a:pt x="71" y="555"/>
                </a:lnTo>
                <a:cubicBezTo>
                  <a:pt x="71" y="548"/>
                  <a:pt x="76" y="543"/>
                  <a:pt x="83" y="543"/>
                </a:cubicBezTo>
                <a:lnTo>
                  <a:pt x="125" y="543"/>
                </a:lnTo>
                <a:cubicBezTo>
                  <a:pt x="132" y="543"/>
                  <a:pt x="138" y="548"/>
                  <a:pt x="138" y="555"/>
                </a:cubicBezTo>
                <a:lnTo>
                  <a:pt x="138" y="598"/>
                </a:lnTo>
                <a:cubicBezTo>
                  <a:pt x="138" y="605"/>
                  <a:pt x="132" y="610"/>
                  <a:pt x="125" y="610"/>
                </a:cubicBezTo>
                <a:close/>
                <a:moveTo>
                  <a:pt x="125" y="718"/>
                </a:moveTo>
                <a:lnTo>
                  <a:pt x="83" y="718"/>
                </a:lnTo>
                <a:cubicBezTo>
                  <a:pt x="76" y="718"/>
                  <a:pt x="71" y="713"/>
                  <a:pt x="71" y="706"/>
                </a:cubicBezTo>
                <a:lnTo>
                  <a:pt x="71" y="664"/>
                </a:lnTo>
                <a:cubicBezTo>
                  <a:pt x="71" y="657"/>
                  <a:pt x="76" y="651"/>
                  <a:pt x="83" y="651"/>
                </a:cubicBezTo>
                <a:lnTo>
                  <a:pt x="125" y="651"/>
                </a:lnTo>
                <a:cubicBezTo>
                  <a:pt x="132" y="651"/>
                  <a:pt x="138" y="657"/>
                  <a:pt x="138" y="664"/>
                </a:cubicBezTo>
                <a:lnTo>
                  <a:pt x="138" y="706"/>
                </a:lnTo>
                <a:cubicBezTo>
                  <a:pt x="138" y="713"/>
                  <a:pt x="132" y="718"/>
                  <a:pt x="125" y="718"/>
                </a:cubicBezTo>
                <a:close/>
                <a:moveTo>
                  <a:pt x="0" y="41"/>
                </a:moveTo>
                <a:lnTo>
                  <a:pt x="0" y="747"/>
                </a:lnTo>
                <a:cubicBezTo>
                  <a:pt x="0" y="770"/>
                  <a:pt x="18" y="788"/>
                  <a:pt x="40" y="788"/>
                </a:cubicBezTo>
                <a:lnTo>
                  <a:pt x="512" y="788"/>
                </a:lnTo>
                <a:cubicBezTo>
                  <a:pt x="534" y="788"/>
                  <a:pt x="553" y="770"/>
                  <a:pt x="553" y="747"/>
                </a:cubicBezTo>
                <a:lnTo>
                  <a:pt x="553" y="41"/>
                </a:lnTo>
                <a:cubicBezTo>
                  <a:pt x="553" y="18"/>
                  <a:pt x="534" y="0"/>
                  <a:pt x="512" y="0"/>
                </a:cubicBezTo>
                <a:lnTo>
                  <a:pt x="40" y="0"/>
                </a:lnTo>
                <a:cubicBezTo>
                  <a:pt x="18" y="0"/>
                  <a:pt x="0" y="18"/>
                  <a:pt x="0" y="4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35" name="Freeform 24"/>
          <p:cNvSpPr/>
          <p:nvPr/>
        </p:nvSpPr>
        <p:spPr>
          <a:xfrm>
            <a:off x="5891040" y="3870360"/>
            <a:ext cx="176400" cy="190440"/>
          </a:xfrm>
          <a:custGeom>
            <a:avLst/>
            <a:gdLst/>
            <a:ahLst/>
            <a:rect l="l" t="t" r="r" b="b"/>
            <a:pathLst>
              <a:path w="660" h="715">
                <a:moveTo>
                  <a:pt x="363" y="575"/>
                </a:moveTo>
                <a:cubicBezTo>
                  <a:pt x="384" y="558"/>
                  <a:pt x="416" y="561"/>
                  <a:pt x="434" y="583"/>
                </a:cubicBezTo>
                <a:cubicBezTo>
                  <a:pt x="451" y="605"/>
                  <a:pt x="448" y="637"/>
                  <a:pt x="426" y="654"/>
                </a:cubicBezTo>
                <a:cubicBezTo>
                  <a:pt x="404" y="671"/>
                  <a:pt x="372" y="668"/>
                  <a:pt x="355" y="646"/>
                </a:cubicBezTo>
                <a:cubicBezTo>
                  <a:pt x="337" y="624"/>
                  <a:pt x="341" y="593"/>
                  <a:pt x="363" y="575"/>
                </a:cubicBezTo>
                <a:close/>
                <a:moveTo>
                  <a:pt x="353" y="511"/>
                </a:moveTo>
                <a:lnTo>
                  <a:pt x="176" y="10"/>
                </a:lnTo>
                <a:cubicBezTo>
                  <a:pt x="204" y="0"/>
                  <a:pt x="238" y="25"/>
                  <a:pt x="252" y="66"/>
                </a:cubicBezTo>
                <a:lnTo>
                  <a:pt x="352" y="349"/>
                </a:lnTo>
                <a:lnTo>
                  <a:pt x="372" y="361"/>
                </a:lnTo>
                <a:lnTo>
                  <a:pt x="466" y="420"/>
                </a:lnTo>
                <a:cubicBezTo>
                  <a:pt x="461" y="427"/>
                  <a:pt x="457" y="435"/>
                  <a:pt x="455" y="444"/>
                </a:cubicBezTo>
                <a:lnTo>
                  <a:pt x="330" y="366"/>
                </a:lnTo>
                <a:lnTo>
                  <a:pt x="379" y="504"/>
                </a:lnTo>
                <a:cubicBezTo>
                  <a:pt x="370" y="505"/>
                  <a:pt x="362" y="507"/>
                  <a:pt x="353" y="511"/>
                </a:cubicBezTo>
                <a:close/>
                <a:moveTo>
                  <a:pt x="16" y="139"/>
                </a:moveTo>
                <a:lnTo>
                  <a:pt x="260" y="291"/>
                </a:lnTo>
                <a:lnTo>
                  <a:pt x="289" y="372"/>
                </a:lnTo>
                <a:lnTo>
                  <a:pt x="54" y="225"/>
                </a:lnTo>
                <a:cubicBezTo>
                  <a:pt x="17" y="202"/>
                  <a:pt x="0" y="164"/>
                  <a:pt x="16" y="139"/>
                </a:cubicBezTo>
                <a:close/>
                <a:moveTo>
                  <a:pt x="527" y="443"/>
                </a:moveTo>
                <a:cubicBezTo>
                  <a:pt x="549" y="425"/>
                  <a:pt x="581" y="429"/>
                  <a:pt x="598" y="451"/>
                </a:cubicBezTo>
                <a:cubicBezTo>
                  <a:pt x="616" y="472"/>
                  <a:pt x="612" y="504"/>
                  <a:pt x="591" y="522"/>
                </a:cubicBezTo>
                <a:cubicBezTo>
                  <a:pt x="569" y="539"/>
                  <a:pt x="537" y="536"/>
                  <a:pt x="519" y="514"/>
                </a:cubicBezTo>
                <a:cubicBezTo>
                  <a:pt x="502" y="492"/>
                  <a:pt x="505" y="460"/>
                  <a:pt x="527" y="443"/>
                </a:cubicBezTo>
                <a:close/>
                <a:moveTo>
                  <a:pt x="615" y="552"/>
                </a:moveTo>
                <a:cubicBezTo>
                  <a:pt x="653" y="521"/>
                  <a:pt x="660" y="465"/>
                  <a:pt x="629" y="426"/>
                </a:cubicBezTo>
                <a:cubicBezTo>
                  <a:pt x="598" y="388"/>
                  <a:pt x="541" y="382"/>
                  <a:pt x="503" y="413"/>
                </a:cubicBezTo>
                <a:cubicBezTo>
                  <a:pt x="464" y="443"/>
                  <a:pt x="458" y="500"/>
                  <a:pt x="489" y="538"/>
                </a:cubicBezTo>
                <a:cubicBezTo>
                  <a:pt x="520" y="577"/>
                  <a:pt x="576" y="583"/>
                  <a:pt x="615" y="552"/>
                </a:cubicBezTo>
                <a:close/>
                <a:moveTo>
                  <a:pt x="450" y="684"/>
                </a:moveTo>
                <a:cubicBezTo>
                  <a:pt x="489" y="653"/>
                  <a:pt x="495" y="597"/>
                  <a:pt x="464" y="558"/>
                </a:cubicBezTo>
                <a:cubicBezTo>
                  <a:pt x="433" y="520"/>
                  <a:pt x="377" y="514"/>
                  <a:pt x="338" y="545"/>
                </a:cubicBezTo>
                <a:cubicBezTo>
                  <a:pt x="300" y="576"/>
                  <a:pt x="294" y="632"/>
                  <a:pt x="324" y="671"/>
                </a:cubicBezTo>
                <a:cubicBezTo>
                  <a:pt x="355" y="709"/>
                  <a:pt x="412" y="715"/>
                  <a:pt x="450" y="684"/>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36" name="Freeform 25"/>
          <p:cNvSpPr/>
          <p:nvPr/>
        </p:nvSpPr>
        <p:spPr>
          <a:xfrm>
            <a:off x="2263680" y="851040"/>
            <a:ext cx="214560" cy="193680"/>
          </a:xfrm>
          <a:custGeom>
            <a:avLst/>
            <a:gdLst/>
            <a:ahLst/>
            <a:rect l="l" t="t" r="r" b="b"/>
            <a:pathLst>
              <a:path w="806" h="724">
                <a:moveTo>
                  <a:pt x="740" y="67"/>
                </a:moveTo>
                <a:lnTo>
                  <a:pt x="66" y="67"/>
                </a:lnTo>
                <a:lnTo>
                  <a:pt x="66" y="657"/>
                </a:lnTo>
                <a:lnTo>
                  <a:pt x="740" y="657"/>
                </a:lnTo>
                <a:lnTo>
                  <a:pt x="740" y="67"/>
                </a:lnTo>
                <a:close/>
                <a:moveTo>
                  <a:pt x="441" y="306"/>
                </a:moveTo>
                <a:lnTo>
                  <a:pt x="593" y="306"/>
                </a:lnTo>
                <a:cubicBezTo>
                  <a:pt x="587" y="225"/>
                  <a:pt x="522" y="161"/>
                  <a:pt x="441" y="155"/>
                </a:cubicBezTo>
                <a:lnTo>
                  <a:pt x="441" y="306"/>
                </a:lnTo>
                <a:close/>
                <a:moveTo>
                  <a:pt x="619" y="332"/>
                </a:moveTo>
                <a:lnTo>
                  <a:pt x="415" y="332"/>
                </a:lnTo>
                <a:lnTo>
                  <a:pt x="415" y="128"/>
                </a:lnTo>
                <a:lnTo>
                  <a:pt x="428" y="128"/>
                </a:lnTo>
                <a:cubicBezTo>
                  <a:pt x="534" y="128"/>
                  <a:pt x="619" y="214"/>
                  <a:pt x="619" y="319"/>
                </a:cubicBezTo>
                <a:lnTo>
                  <a:pt x="619" y="332"/>
                </a:lnTo>
                <a:close/>
                <a:moveTo>
                  <a:pt x="387" y="182"/>
                </a:moveTo>
                <a:cubicBezTo>
                  <a:pt x="289" y="182"/>
                  <a:pt x="210" y="262"/>
                  <a:pt x="210" y="360"/>
                </a:cubicBezTo>
                <a:cubicBezTo>
                  <a:pt x="210" y="458"/>
                  <a:pt x="289" y="538"/>
                  <a:pt x="387" y="538"/>
                </a:cubicBezTo>
                <a:cubicBezTo>
                  <a:pt x="486" y="538"/>
                  <a:pt x="565" y="458"/>
                  <a:pt x="565" y="360"/>
                </a:cubicBezTo>
                <a:lnTo>
                  <a:pt x="387" y="360"/>
                </a:lnTo>
                <a:lnTo>
                  <a:pt x="387" y="182"/>
                </a:lnTo>
                <a:close/>
                <a:moveTo>
                  <a:pt x="33" y="67"/>
                </a:moveTo>
                <a:cubicBezTo>
                  <a:pt x="15" y="67"/>
                  <a:pt x="0" y="52"/>
                  <a:pt x="0" y="34"/>
                </a:cubicBezTo>
                <a:cubicBezTo>
                  <a:pt x="0" y="15"/>
                  <a:pt x="15" y="0"/>
                  <a:pt x="34" y="0"/>
                </a:cubicBezTo>
                <a:lnTo>
                  <a:pt x="772" y="0"/>
                </a:lnTo>
                <a:cubicBezTo>
                  <a:pt x="791" y="0"/>
                  <a:pt x="806" y="15"/>
                  <a:pt x="806" y="34"/>
                </a:cubicBezTo>
                <a:cubicBezTo>
                  <a:pt x="806" y="52"/>
                  <a:pt x="791" y="67"/>
                  <a:pt x="773" y="67"/>
                </a:cubicBezTo>
                <a:lnTo>
                  <a:pt x="773" y="657"/>
                </a:lnTo>
                <a:cubicBezTo>
                  <a:pt x="791" y="658"/>
                  <a:pt x="806" y="672"/>
                  <a:pt x="806" y="691"/>
                </a:cubicBezTo>
                <a:cubicBezTo>
                  <a:pt x="806" y="709"/>
                  <a:pt x="791" y="724"/>
                  <a:pt x="772" y="724"/>
                </a:cubicBezTo>
                <a:lnTo>
                  <a:pt x="34" y="724"/>
                </a:lnTo>
                <a:cubicBezTo>
                  <a:pt x="15" y="724"/>
                  <a:pt x="0" y="709"/>
                  <a:pt x="0" y="691"/>
                </a:cubicBezTo>
                <a:cubicBezTo>
                  <a:pt x="0" y="672"/>
                  <a:pt x="15" y="658"/>
                  <a:pt x="33" y="657"/>
                </a:cubicBezTo>
                <a:lnTo>
                  <a:pt x="33" y="67"/>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37" name="Freeform 26"/>
          <p:cNvSpPr/>
          <p:nvPr/>
        </p:nvSpPr>
        <p:spPr>
          <a:xfrm>
            <a:off x="2924280" y="4805280"/>
            <a:ext cx="160200" cy="193680"/>
          </a:xfrm>
          <a:custGeom>
            <a:avLst/>
            <a:gdLst/>
            <a:ahLst/>
            <a:rect l="l" t="t" r="r" b="b"/>
            <a:pathLst>
              <a:path w="598" h="720">
                <a:moveTo>
                  <a:pt x="240" y="295"/>
                </a:moveTo>
                <a:lnTo>
                  <a:pt x="368" y="397"/>
                </a:lnTo>
                <a:lnTo>
                  <a:pt x="312" y="456"/>
                </a:lnTo>
                <a:lnTo>
                  <a:pt x="195" y="363"/>
                </a:lnTo>
                <a:lnTo>
                  <a:pt x="240" y="295"/>
                </a:lnTo>
                <a:close/>
                <a:moveTo>
                  <a:pt x="3" y="691"/>
                </a:moveTo>
                <a:cubicBezTo>
                  <a:pt x="0" y="698"/>
                  <a:pt x="9" y="703"/>
                  <a:pt x="13" y="697"/>
                </a:cubicBezTo>
                <a:lnTo>
                  <a:pt x="117" y="568"/>
                </a:lnTo>
                <a:cubicBezTo>
                  <a:pt x="107" y="556"/>
                  <a:pt x="107" y="540"/>
                  <a:pt x="117" y="528"/>
                </a:cubicBezTo>
                <a:cubicBezTo>
                  <a:pt x="128" y="513"/>
                  <a:pt x="149" y="511"/>
                  <a:pt x="163" y="522"/>
                </a:cubicBezTo>
                <a:cubicBezTo>
                  <a:pt x="177" y="534"/>
                  <a:pt x="179" y="554"/>
                  <a:pt x="168" y="569"/>
                </a:cubicBezTo>
                <a:cubicBezTo>
                  <a:pt x="158" y="581"/>
                  <a:pt x="142" y="584"/>
                  <a:pt x="129" y="578"/>
                </a:cubicBezTo>
                <a:lnTo>
                  <a:pt x="25" y="707"/>
                </a:lnTo>
                <a:cubicBezTo>
                  <a:pt x="21" y="712"/>
                  <a:pt x="28" y="720"/>
                  <a:pt x="34" y="716"/>
                </a:cubicBezTo>
                <a:cubicBezTo>
                  <a:pt x="125" y="651"/>
                  <a:pt x="198" y="631"/>
                  <a:pt x="198" y="631"/>
                </a:cubicBezTo>
                <a:lnTo>
                  <a:pt x="290" y="483"/>
                </a:lnTo>
                <a:lnTo>
                  <a:pt x="237" y="441"/>
                </a:lnTo>
                <a:lnTo>
                  <a:pt x="225" y="432"/>
                </a:lnTo>
                <a:lnTo>
                  <a:pt x="173" y="390"/>
                </a:lnTo>
                <a:lnTo>
                  <a:pt x="49" y="512"/>
                </a:lnTo>
                <a:cubicBezTo>
                  <a:pt x="49" y="512"/>
                  <a:pt x="46" y="587"/>
                  <a:pt x="3" y="691"/>
                </a:cubicBezTo>
                <a:close/>
                <a:moveTo>
                  <a:pt x="262" y="268"/>
                </a:moveTo>
                <a:lnTo>
                  <a:pt x="389" y="370"/>
                </a:lnTo>
                <a:lnTo>
                  <a:pt x="598" y="76"/>
                </a:lnTo>
                <a:lnTo>
                  <a:pt x="502" y="0"/>
                </a:lnTo>
                <a:lnTo>
                  <a:pt x="262" y="268"/>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38" name="Freeform 27"/>
          <p:cNvSpPr/>
          <p:nvPr/>
        </p:nvSpPr>
        <p:spPr>
          <a:xfrm>
            <a:off x="3876840" y="3592440"/>
            <a:ext cx="185400" cy="147600"/>
          </a:xfrm>
          <a:custGeom>
            <a:avLst/>
            <a:gdLst/>
            <a:ahLst/>
            <a:rect l="l" t="t" r="r" b="b"/>
            <a:pathLst>
              <a:path w="696" h="549">
                <a:moveTo>
                  <a:pt x="114" y="282"/>
                </a:moveTo>
                <a:lnTo>
                  <a:pt x="76" y="282"/>
                </a:lnTo>
                <a:cubicBezTo>
                  <a:pt x="68" y="282"/>
                  <a:pt x="62" y="275"/>
                  <a:pt x="62" y="267"/>
                </a:cubicBezTo>
                <a:lnTo>
                  <a:pt x="62" y="229"/>
                </a:lnTo>
                <a:cubicBezTo>
                  <a:pt x="62" y="221"/>
                  <a:pt x="68" y="215"/>
                  <a:pt x="76" y="215"/>
                </a:cubicBezTo>
                <a:lnTo>
                  <a:pt x="114" y="215"/>
                </a:lnTo>
                <a:cubicBezTo>
                  <a:pt x="122" y="215"/>
                  <a:pt x="129" y="221"/>
                  <a:pt x="129" y="229"/>
                </a:cubicBezTo>
                <a:lnTo>
                  <a:pt x="129" y="267"/>
                </a:lnTo>
                <a:cubicBezTo>
                  <a:pt x="129" y="275"/>
                  <a:pt x="122" y="282"/>
                  <a:pt x="114" y="282"/>
                </a:cubicBezTo>
                <a:close/>
                <a:moveTo>
                  <a:pt x="650" y="44"/>
                </a:moveTo>
                <a:lnTo>
                  <a:pt x="569" y="44"/>
                </a:lnTo>
                <a:lnTo>
                  <a:pt x="568" y="44"/>
                </a:lnTo>
                <a:lnTo>
                  <a:pt x="568" y="58"/>
                </a:lnTo>
                <a:lnTo>
                  <a:pt x="568" y="73"/>
                </a:lnTo>
                <a:lnTo>
                  <a:pt x="568" y="86"/>
                </a:lnTo>
                <a:cubicBezTo>
                  <a:pt x="568" y="115"/>
                  <a:pt x="544" y="139"/>
                  <a:pt x="516" y="139"/>
                </a:cubicBezTo>
                <a:cubicBezTo>
                  <a:pt x="487" y="139"/>
                  <a:pt x="463" y="115"/>
                  <a:pt x="463" y="86"/>
                </a:cubicBezTo>
                <a:lnTo>
                  <a:pt x="463" y="58"/>
                </a:lnTo>
                <a:lnTo>
                  <a:pt x="236" y="58"/>
                </a:lnTo>
                <a:lnTo>
                  <a:pt x="236" y="86"/>
                </a:lnTo>
                <a:cubicBezTo>
                  <a:pt x="236" y="115"/>
                  <a:pt x="213" y="139"/>
                  <a:pt x="184" y="139"/>
                </a:cubicBezTo>
                <a:cubicBezTo>
                  <a:pt x="155" y="139"/>
                  <a:pt x="132" y="115"/>
                  <a:pt x="132" y="86"/>
                </a:cubicBezTo>
                <a:lnTo>
                  <a:pt x="132" y="71"/>
                </a:lnTo>
                <a:lnTo>
                  <a:pt x="132" y="58"/>
                </a:lnTo>
                <a:lnTo>
                  <a:pt x="132" y="45"/>
                </a:lnTo>
                <a:cubicBezTo>
                  <a:pt x="130" y="45"/>
                  <a:pt x="128" y="44"/>
                  <a:pt x="126" y="44"/>
                </a:cubicBezTo>
                <a:lnTo>
                  <a:pt x="46" y="44"/>
                </a:lnTo>
                <a:cubicBezTo>
                  <a:pt x="21" y="44"/>
                  <a:pt x="0" y="65"/>
                  <a:pt x="0" y="91"/>
                </a:cubicBezTo>
                <a:lnTo>
                  <a:pt x="0" y="503"/>
                </a:lnTo>
                <a:cubicBezTo>
                  <a:pt x="0" y="529"/>
                  <a:pt x="21" y="549"/>
                  <a:pt x="46" y="549"/>
                </a:cubicBezTo>
                <a:lnTo>
                  <a:pt x="558" y="549"/>
                </a:lnTo>
                <a:cubicBezTo>
                  <a:pt x="570" y="549"/>
                  <a:pt x="582" y="545"/>
                  <a:pt x="591" y="536"/>
                </a:cubicBezTo>
                <a:lnTo>
                  <a:pt x="683" y="444"/>
                </a:lnTo>
                <a:cubicBezTo>
                  <a:pt x="692" y="435"/>
                  <a:pt x="696" y="423"/>
                  <a:pt x="696" y="411"/>
                </a:cubicBezTo>
                <a:lnTo>
                  <a:pt x="696" y="91"/>
                </a:lnTo>
                <a:cubicBezTo>
                  <a:pt x="696" y="65"/>
                  <a:pt x="676" y="44"/>
                  <a:pt x="650" y="44"/>
                </a:cubicBezTo>
                <a:close/>
                <a:moveTo>
                  <a:pt x="668" y="162"/>
                </a:moveTo>
                <a:lnTo>
                  <a:pt x="668" y="394"/>
                </a:lnTo>
                <a:lnTo>
                  <a:pt x="568" y="394"/>
                </a:lnTo>
                <a:cubicBezTo>
                  <a:pt x="555" y="394"/>
                  <a:pt x="544" y="405"/>
                  <a:pt x="544" y="418"/>
                </a:cubicBezTo>
                <a:lnTo>
                  <a:pt x="544" y="521"/>
                </a:lnTo>
                <a:lnTo>
                  <a:pt x="46" y="521"/>
                </a:lnTo>
                <a:cubicBezTo>
                  <a:pt x="37" y="521"/>
                  <a:pt x="29" y="513"/>
                  <a:pt x="29" y="503"/>
                </a:cubicBezTo>
                <a:lnTo>
                  <a:pt x="29" y="162"/>
                </a:lnTo>
                <a:lnTo>
                  <a:pt x="668" y="162"/>
                </a:lnTo>
                <a:close/>
                <a:moveTo>
                  <a:pt x="663" y="423"/>
                </a:moveTo>
                <a:cubicBezTo>
                  <a:pt x="663" y="423"/>
                  <a:pt x="663" y="423"/>
                  <a:pt x="663" y="423"/>
                </a:cubicBezTo>
                <a:lnTo>
                  <a:pt x="573" y="513"/>
                </a:lnTo>
                <a:lnTo>
                  <a:pt x="573" y="423"/>
                </a:lnTo>
                <a:lnTo>
                  <a:pt x="663" y="423"/>
                </a:lnTo>
                <a:close/>
                <a:moveTo>
                  <a:pt x="475" y="0"/>
                </a:moveTo>
                <a:lnTo>
                  <a:pt x="475" y="86"/>
                </a:lnTo>
                <a:cubicBezTo>
                  <a:pt x="475" y="109"/>
                  <a:pt x="493" y="127"/>
                  <a:pt x="516" y="127"/>
                </a:cubicBezTo>
                <a:lnTo>
                  <a:pt x="516" y="127"/>
                </a:lnTo>
                <a:cubicBezTo>
                  <a:pt x="538" y="127"/>
                  <a:pt x="556" y="109"/>
                  <a:pt x="556" y="86"/>
                </a:cubicBezTo>
                <a:lnTo>
                  <a:pt x="556" y="0"/>
                </a:lnTo>
                <a:lnTo>
                  <a:pt x="475" y="0"/>
                </a:lnTo>
                <a:close/>
                <a:moveTo>
                  <a:pt x="143" y="0"/>
                </a:moveTo>
                <a:lnTo>
                  <a:pt x="143" y="86"/>
                </a:lnTo>
                <a:cubicBezTo>
                  <a:pt x="143" y="109"/>
                  <a:pt x="162" y="127"/>
                  <a:pt x="184" y="127"/>
                </a:cubicBezTo>
                <a:cubicBezTo>
                  <a:pt x="207" y="127"/>
                  <a:pt x="225" y="109"/>
                  <a:pt x="225" y="86"/>
                </a:cubicBezTo>
                <a:lnTo>
                  <a:pt x="225" y="0"/>
                </a:lnTo>
                <a:lnTo>
                  <a:pt x="143" y="0"/>
                </a:lnTo>
                <a:close/>
                <a:moveTo>
                  <a:pt x="475" y="0"/>
                </a:moveTo>
                <a:lnTo>
                  <a:pt x="556" y="0"/>
                </a:lnTo>
                <a:moveTo>
                  <a:pt x="143" y="0"/>
                </a:moveTo>
                <a:lnTo>
                  <a:pt x="225" y="0"/>
                </a:lnTo>
                <a:moveTo>
                  <a:pt x="515" y="461"/>
                </a:moveTo>
                <a:lnTo>
                  <a:pt x="477" y="461"/>
                </a:lnTo>
                <a:cubicBezTo>
                  <a:pt x="469" y="461"/>
                  <a:pt x="462" y="454"/>
                  <a:pt x="462" y="446"/>
                </a:cubicBezTo>
                <a:lnTo>
                  <a:pt x="462" y="409"/>
                </a:lnTo>
                <a:cubicBezTo>
                  <a:pt x="462" y="401"/>
                  <a:pt x="469" y="394"/>
                  <a:pt x="477" y="394"/>
                </a:cubicBezTo>
                <a:lnTo>
                  <a:pt x="515" y="394"/>
                </a:lnTo>
                <a:cubicBezTo>
                  <a:pt x="523" y="394"/>
                  <a:pt x="529" y="401"/>
                  <a:pt x="529" y="409"/>
                </a:cubicBezTo>
                <a:lnTo>
                  <a:pt x="529" y="446"/>
                </a:lnTo>
                <a:cubicBezTo>
                  <a:pt x="529" y="454"/>
                  <a:pt x="523" y="461"/>
                  <a:pt x="515" y="461"/>
                </a:cubicBezTo>
                <a:close/>
                <a:moveTo>
                  <a:pt x="414" y="461"/>
                </a:moveTo>
                <a:lnTo>
                  <a:pt x="377" y="461"/>
                </a:lnTo>
                <a:cubicBezTo>
                  <a:pt x="369" y="461"/>
                  <a:pt x="362" y="454"/>
                  <a:pt x="362" y="446"/>
                </a:cubicBezTo>
                <a:lnTo>
                  <a:pt x="362" y="409"/>
                </a:lnTo>
                <a:cubicBezTo>
                  <a:pt x="362" y="401"/>
                  <a:pt x="369" y="394"/>
                  <a:pt x="377" y="394"/>
                </a:cubicBezTo>
                <a:lnTo>
                  <a:pt x="414" y="394"/>
                </a:lnTo>
                <a:cubicBezTo>
                  <a:pt x="422" y="394"/>
                  <a:pt x="429" y="401"/>
                  <a:pt x="429" y="409"/>
                </a:cubicBezTo>
                <a:lnTo>
                  <a:pt x="429" y="446"/>
                </a:lnTo>
                <a:cubicBezTo>
                  <a:pt x="429" y="454"/>
                  <a:pt x="422" y="461"/>
                  <a:pt x="414" y="461"/>
                </a:cubicBezTo>
                <a:close/>
                <a:moveTo>
                  <a:pt x="314" y="461"/>
                </a:moveTo>
                <a:lnTo>
                  <a:pt x="277" y="461"/>
                </a:lnTo>
                <a:cubicBezTo>
                  <a:pt x="269" y="461"/>
                  <a:pt x="262" y="454"/>
                  <a:pt x="262" y="446"/>
                </a:cubicBezTo>
                <a:lnTo>
                  <a:pt x="262" y="409"/>
                </a:lnTo>
                <a:cubicBezTo>
                  <a:pt x="262" y="401"/>
                  <a:pt x="269" y="394"/>
                  <a:pt x="277" y="394"/>
                </a:cubicBezTo>
                <a:lnTo>
                  <a:pt x="314" y="394"/>
                </a:lnTo>
                <a:cubicBezTo>
                  <a:pt x="322" y="394"/>
                  <a:pt x="329" y="401"/>
                  <a:pt x="329" y="409"/>
                </a:cubicBezTo>
                <a:lnTo>
                  <a:pt x="329" y="446"/>
                </a:lnTo>
                <a:cubicBezTo>
                  <a:pt x="329" y="454"/>
                  <a:pt x="322" y="461"/>
                  <a:pt x="314" y="461"/>
                </a:cubicBezTo>
                <a:close/>
                <a:moveTo>
                  <a:pt x="214" y="461"/>
                </a:moveTo>
                <a:lnTo>
                  <a:pt x="177" y="461"/>
                </a:lnTo>
                <a:cubicBezTo>
                  <a:pt x="169" y="461"/>
                  <a:pt x="162" y="454"/>
                  <a:pt x="162" y="446"/>
                </a:cubicBezTo>
                <a:lnTo>
                  <a:pt x="162" y="409"/>
                </a:lnTo>
                <a:cubicBezTo>
                  <a:pt x="162" y="401"/>
                  <a:pt x="169" y="394"/>
                  <a:pt x="177" y="394"/>
                </a:cubicBezTo>
                <a:lnTo>
                  <a:pt x="214" y="394"/>
                </a:lnTo>
                <a:cubicBezTo>
                  <a:pt x="222" y="394"/>
                  <a:pt x="229" y="401"/>
                  <a:pt x="229" y="409"/>
                </a:cubicBezTo>
                <a:lnTo>
                  <a:pt x="229" y="446"/>
                </a:lnTo>
                <a:cubicBezTo>
                  <a:pt x="229" y="454"/>
                  <a:pt x="222" y="461"/>
                  <a:pt x="214" y="461"/>
                </a:cubicBezTo>
                <a:close/>
                <a:moveTo>
                  <a:pt x="114" y="461"/>
                </a:moveTo>
                <a:lnTo>
                  <a:pt x="76" y="461"/>
                </a:lnTo>
                <a:cubicBezTo>
                  <a:pt x="68" y="461"/>
                  <a:pt x="62" y="454"/>
                  <a:pt x="62" y="446"/>
                </a:cubicBezTo>
                <a:lnTo>
                  <a:pt x="62" y="409"/>
                </a:lnTo>
                <a:cubicBezTo>
                  <a:pt x="62" y="401"/>
                  <a:pt x="68" y="394"/>
                  <a:pt x="76" y="394"/>
                </a:cubicBezTo>
                <a:lnTo>
                  <a:pt x="114" y="394"/>
                </a:lnTo>
                <a:cubicBezTo>
                  <a:pt x="122" y="394"/>
                  <a:pt x="129" y="401"/>
                  <a:pt x="129" y="409"/>
                </a:cubicBezTo>
                <a:lnTo>
                  <a:pt x="129" y="446"/>
                </a:lnTo>
                <a:cubicBezTo>
                  <a:pt x="129" y="454"/>
                  <a:pt x="122" y="461"/>
                  <a:pt x="114" y="461"/>
                </a:cubicBezTo>
                <a:close/>
                <a:moveTo>
                  <a:pt x="580" y="354"/>
                </a:moveTo>
                <a:lnTo>
                  <a:pt x="612" y="354"/>
                </a:lnTo>
                <a:lnTo>
                  <a:pt x="612" y="322"/>
                </a:lnTo>
                <a:lnTo>
                  <a:pt x="580" y="322"/>
                </a:lnTo>
                <a:lnTo>
                  <a:pt x="580" y="354"/>
                </a:lnTo>
                <a:close/>
                <a:moveTo>
                  <a:pt x="615" y="371"/>
                </a:moveTo>
                <a:lnTo>
                  <a:pt x="577" y="371"/>
                </a:lnTo>
                <a:cubicBezTo>
                  <a:pt x="569" y="371"/>
                  <a:pt x="562" y="365"/>
                  <a:pt x="562" y="357"/>
                </a:cubicBezTo>
                <a:lnTo>
                  <a:pt x="562" y="319"/>
                </a:lnTo>
                <a:cubicBezTo>
                  <a:pt x="562" y="311"/>
                  <a:pt x="569" y="304"/>
                  <a:pt x="577" y="304"/>
                </a:cubicBezTo>
                <a:lnTo>
                  <a:pt x="615" y="304"/>
                </a:lnTo>
                <a:cubicBezTo>
                  <a:pt x="623" y="304"/>
                  <a:pt x="629" y="311"/>
                  <a:pt x="629" y="319"/>
                </a:cubicBezTo>
                <a:lnTo>
                  <a:pt x="629" y="357"/>
                </a:lnTo>
                <a:cubicBezTo>
                  <a:pt x="629" y="365"/>
                  <a:pt x="623" y="371"/>
                  <a:pt x="615" y="371"/>
                </a:cubicBezTo>
                <a:close/>
                <a:moveTo>
                  <a:pt x="515" y="371"/>
                </a:moveTo>
                <a:lnTo>
                  <a:pt x="477" y="371"/>
                </a:lnTo>
                <a:cubicBezTo>
                  <a:pt x="469" y="371"/>
                  <a:pt x="462" y="365"/>
                  <a:pt x="462" y="357"/>
                </a:cubicBezTo>
                <a:lnTo>
                  <a:pt x="462" y="319"/>
                </a:lnTo>
                <a:cubicBezTo>
                  <a:pt x="462" y="311"/>
                  <a:pt x="469" y="304"/>
                  <a:pt x="477" y="304"/>
                </a:cubicBezTo>
                <a:lnTo>
                  <a:pt x="515" y="304"/>
                </a:lnTo>
                <a:cubicBezTo>
                  <a:pt x="523" y="304"/>
                  <a:pt x="529" y="311"/>
                  <a:pt x="529" y="319"/>
                </a:cubicBezTo>
                <a:lnTo>
                  <a:pt x="529" y="357"/>
                </a:lnTo>
                <a:cubicBezTo>
                  <a:pt x="529" y="365"/>
                  <a:pt x="523" y="371"/>
                  <a:pt x="515" y="371"/>
                </a:cubicBezTo>
                <a:close/>
                <a:moveTo>
                  <a:pt x="414" y="371"/>
                </a:moveTo>
                <a:lnTo>
                  <a:pt x="377" y="371"/>
                </a:lnTo>
                <a:cubicBezTo>
                  <a:pt x="369" y="371"/>
                  <a:pt x="362" y="365"/>
                  <a:pt x="362" y="357"/>
                </a:cubicBezTo>
                <a:lnTo>
                  <a:pt x="362" y="319"/>
                </a:lnTo>
                <a:cubicBezTo>
                  <a:pt x="362" y="311"/>
                  <a:pt x="369" y="304"/>
                  <a:pt x="377" y="304"/>
                </a:cubicBezTo>
                <a:lnTo>
                  <a:pt x="414" y="304"/>
                </a:lnTo>
                <a:cubicBezTo>
                  <a:pt x="422" y="304"/>
                  <a:pt x="429" y="311"/>
                  <a:pt x="429" y="319"/>
                </a:cubicBezTo>
                <a:lnTo>
                  <a:pt x="429" y="357"/>
                </a:lnTo>
                <a:cubicBezTo>
                  <a:pt x="429" y="365"/>
                  <a:pt x="422" y="371"/>
                  <a:pt x="414" y="371"/>
                </a:cubicBezTo>
                <a:close/>
                <a:moveTo>
                  <a:pt x="314" y="371"/>
                </a:moveTo>
                <a:lnTo>
                  <a:pt x="277" y="371"/>
                </a:lnTo>
                <a:cubicBezTo>
                  <a:pt x="269" y="371"/>
                  <a:pt x="262" y="365"/>
                  <a:pt x="262" y="357"/>
                </a:cubicBezTo>
                <a:lnTo>
                  <a:pt x="262" y="319"/>
                </a:lnTo>
                <a:cubicBezTo>
                  <a:pt x="262" y="311"/>
                  <a:pt x="269" y="304"/>
                  <a:pt x="277" y="304"/>
                </a:cubicBezTo>
                <a:lnTo>
                  <a:pt x="314" y="304"/>
                </a:lnTo>
                <a:cubicBezTo>
                  <a:pt x="322" y="304"/>
                  <a:pt x="329" y="311"/>
                  <a:pt x="329" y="319"/>
                </a:cubicBezTo>
                <a:lnTo>
                  <a:pt x="329" y="357"/>
                </a:lnTo>
                <a:cubicBezTo>
                  <a:pt x="329" y="365"/>
                  <a:pt x="322" y="371"/>
                  <a:pt x="314" y="371"/>
                </a:cubicBezTo>
                <a:close/>
                <a:moveTo>
                  <a:pt x="214" y="371"/>
                </a:moveTo>
                <a:lnTo>
                  <a:pt x="177" y="371"/>
                </a:lnTo>
                <a:cubicBezTo>
                  <a:pt x="169" y="371"/>
                  <a:pt x="162" y="365"/>
                  <a:pt x="162" y="357"/>
                </a:cubicBezTo>
                <a:lnTo>
                  <a:pt x="162" y="319"/>
                </a:lnTo>
                <a:cubicBezTo>
                  <a:pt x="162" y="311"/>
                  <a:pt x="169" y="304"/>
                  <a:pt x="177" y="304"/>
                </a:cubicBezTo>
                <a:lnTo>
                  <a:pt x="214" y="304"/>
                </a:lnTo>
                <a:cubicBezTo>
                  <a:pt x="222" y="304"/>
                  <a:pt x="229" y="311"/>
                  <a:pt x="229" y="319"/>
                </a:cubicBezTo>
                <a:lnTo>
                  <a:pt x="229" y="357"/>
                </a:lnTo>
                <a:cubicBezTo>
                  <a:pt x="229" y="365"/>
                  <a:pt x="222" y="371"/>
                  <a:pt x="214" y="371"/>
                </a:cubicBezTo>
                <a:close/>
                <a:moveTo>
                  <a:pt x="114" y="371"/>
                </a:moveTo>
                <a:lnTo>
                  <a:pt x="76" y="371"/>
                </a:lnTo>
                <a:cubicBezTo>
                  <a:pt x="68" y="371"/>
                  <a:pt x="62" y="365"/>
                  <a:pt x="62" y="357"/>
                </a:cubicBezTo>
                <a:lnTo>
                  <a:pt x="62" y="319"/>
                </a:lnTo>
                <a:cubicBezTo>
                  <a:pt x="62" y="311"/>
                  <a:pt x="68" y="304"/>
                  <a:pt x="76" y="304"/>
                </a:cubicBezTo>
                <a:lnTo>
                  <a:pt x="114" y="304"/>
                </a:lnTo>
                <a:cubicBezTo>
                  <a:pt x="122" y="304"/>
                  <a:pt x="129" y="311"/>
                  <a:pt x="129" y="319"/>
                </a:cubicBezTo>
                <a:lnTo>
                  <a:pt x="129" y="357"/>
                </a:lnTo>
                <a:cubicBezTo>
                  <a:pt x="129" y="365"/>
                  <a:pt x="122" y="371"/>
                  <a:pt x="114" y="371"/>
                </a:cubicBezTo>
                <a:close/>
                <a:moveTo>
                  <a:pt x="580" y="264"/>
                </a:moveTo>
                <a:lnTo>
                  <a:pt x="612" y="264"/>
                </a:lnTo>
                <a:lnTo>
                  <a:pt x="612" y="232"/>
                </a:lnTo>
                <a:lnTo>
                  <a:pt x="580" y="232"/>
                </a:lnTo>
                <a:lnTo>
                  <a:pt x="580" y="264"/>
                </a:lnTo>
                <a:close/>
                <a:moveTo>
                  <a:pt x="615" y="282"/>
                </a:moveTo>
                <a:lnTo>
                  <a:pt x="577" y="282"/>
                </a:lnTo>
                <a:cubicBezTo>
                  <a:pt x="569" y="282"/>
                  <a:pt x="562" y="275"/>
                  <a:pt x="562" y="267"/>
                </a:cubicBezTo>
                <a:lnTo>
                  <a:pt x="562" y="229"/>
                </a:lnTo>
                <a:cubicBezTo>
                  <a:pt x="562" y="221"/>
                  <a:pt x="569" y="215"/>
                  <a:pt x="577" y="215"/>
                </a:cubicBezTo>
                <a:lnTo>
                  <a:pt x="615" y="215"/>
                </a:lnTo>
                <a:cubicBezTo>
                  <a:pt x="623" y="215"/>
                  <a:pt x="629" y="221"/>
                  <a:pt x="629" y="229"/>
                </a:cubicBezTo>
                <a:lnTo>
                  <a:pt x="629" y="267"/>
                </a:lnTo>
                <a:cubicBezTo>
                  <a:pt x="629" y="275"/>
                  <a:pt x="623" y="282"/>
                  <a:pt x="615" y="282"/>
                </a:cubicBezTo>
                <a:close/>
                <a:moveTo>
                  <a:pt x="515" y="282"/>
                </a:moveTo>
                <a:lnTo>
                  <a:pt x="477" y="282"/>
                </a:lnTo>
                <a:cubicBezTo>
                  <a:pt x="469" y="282"/>
                  <a:pt x="462" y="275"/>
                  <a:pt x="462" y="267"/>
                </a:cubicBezTo>
                <a:lnTo>
                  <a:pt x="462" y="229"/>
                </a:lnTo>
                <a:cubicBezTo>
                  <a:pt x="462" y="221"/>
                  <a:pt x="469" y="215"/>
                  <a:pt x="477" y="215"/>
                </a:cubicBezTo>
                <a:lnTo>
                  <a:pt x="515" y="215"/>
                </a:lnTo>
                <a:cubicBezTo>
                  <a:pt x="523" y="215"/>
                  <a:pt x="529" y="221"/>
                  <a:pt x="529" y="229"/>
                </a:cubicBezTo>
                <a:lnTo>
                  <a:pt x="529" y="267"/>
                </a:lnTo>
                <a:cubicBezTo>
                  <a:pt x="529" y="275"/>
                  <a:pt x="523" y="282"/>
                  <a:pt x="515" y="282"/>
                </a:cubicBezTo>
                <a:close/>
                <a:moveTo>
                  <a:pt x="414" y="282"/>
                </a:moveTo>
                <a:lnTo>
                  <a:pt x="377" y="282"/>
                </a:lnTo>
                <a:cubicBezTo>
                  <a:pt x="369" y="282"/>
                  <a:pt x="362" y="275"/>
                  <a:pt x="362" y="267"/>
                </a:cubicBezTo>
                <a:lnTo>
                  <a:pt x="362" y="229"/>
                </a:lnTo>
                <a:cubicBezTo>
                  <a:pt x="362" y="221"/>
                  <a:pt x="369" y="215"/>
                  <a:pt x="377" y="215"/>
                </a:cubicBezTo>
                <a:lnTo>
                  <a:pt x="414" y="215"/>
                </a:lnTo>
                <a:cubicBezTo>
                  <a:pt x="422" y="215"/>
                  <a:pt x="429" y="221"/>
                  <a:pt x="429" y="229"/>
                </a:cubicBezTo>
                <a:lnTo>
                  <a:pt x="429" y="267"/>
                </a:lnTo>
                <a:cubicBezTo>
                  <a:pt x="429" y="275"/>
                  <a:pt x="422" y="282"/>
                  <a:pt x="414" y="282"/>
                </a:cubicBezTo>
                <a:close/>
                <a:moveTo>
                  <a:pt x="314" y="282"/>
                </a:moveTo>
                <a:lnTo>
                  <a:pt x="277" y="282"/>
                </a:lnTo>
                <a:cubicBezTo>
                  <a:pt x="269" y="282"/>
                  <a:pt x="262" y="275"/>
                  <a:pt x="262" y="267"/>
                </a:cubicBezTo>
                <a:lnTo>
                  <a:pt x="262" y="229"/>
                </a:lnTo>
                <a:cubicBezTo>
                  <a:pt x="262" y="221"/>
                  <a:pt x="269" y="215"/>
                  <a:pt x="277" y="215"/>
                </a:cubicBezTo>
                <a:lnTo>
                  <a:pt x="314" y="215"/>
                </a:lnTo>
                <a:cubicBezTo>
                  <a:pt x="322" y="215"/>
                  <a:pt x="329" y="221"/>
                  <a:pt x="329" y="229"/>
                </a:cubicBezTo>
                <a:lnTo>
                  <a:pt x="329" y="267"/>
                </a:lnTo>
                <a:cubicBezTo>
                  <a:pt x="329" y="275"/>
                  <a:pt x="322" y="282"/>
                  <a:pt x="314" y="282"/>
                </a:cubicBezTo>
                <a:close/>
                <a:moveTo>
                  <a:pt x="214" y="282"/>
                </a:moveTo>
                <a:lnTo>
                  <a:pt x="177" y="282"/>
                </a:lnTo>
                <a:cubicBezTo>
                  <a:pt x="169" y="282"/>
                  <a:pt x="162" y="275"/>
                  <a:pt x="162" y="267"/>
                </a:cubicBezTo>
                <a:lnTo>
                  <a:pt x="162" y="229"/>
                </a:lnTo>
                <a:cubicBezTo>
                  <a:pt x="162" y="221"/>
                  <a:pt x="169" y="215"/>
                  <a:pt x="177" y="215"/>
                </a:cubicBezTo>
                <a:lnTo>
                  <a:pt x="214" y="215"/>
                </a:lnTo>
                <a:cubicBezTo>
                  <a:pt x="222" y="215"/>
                  <a:pt x="229" y="221"/>
                  <a:pt x="229" y="229"/>
                </a:cubicBezTo>
                <a:lnTo>
                  <a:pt x="229" y="267"/>
                </a:lnTo>
                <a:cubicBezTo>
                  <a:pt x="229" y="275"/>
                  <a:pt x="222" y="282"/>
                  <a:pt x="214" y="28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39" name="Freeform 28"/>
          <p:cNvSpPr/>
          <p:nvPr/>
        </p:nvSpPr>
        <p:spPr>
          <a:xfrm>
            <a:off x="3905280" y="1727280"/>
            <a:ext cx="128520" cy="168120"/>
          </a:xfrm>
          <a:custGeom>
            <a:avLst/>
            <a:gdLst/>
            <a:ahLst/>
            <a:rect l="l" t="t" r="r" b="b"/>
            <a:pathLst>
              <a:path w="480" h="631">
                <a:moveTo>
                  <a:pt x="316" y="260"/>
                </a:moveTo>
                <a:cubicBezTo>
                  <a:pt x="355" y="234"/>
                  <a:pt x="381" y="191"/>
                  <a:pt x="381" y="141"/>
                </a:cubicBezTo>
                <a:cubicBezTo>
                  <a:pt x="381" y="63"/>
                  <a:pt x="318" y="0"/>
                  <a:pt x="240" y="0"/>
                </a:cubicBezTo>
                <a:cubicBezTo>
                  <a:pt x="162" y="0"/>
                  <a:pt x="99" y="63"/>
                  <a:pt x="99" y="141"/>
                </a:cubicBezTo>
                <a:cubicBezTo>
                  <a:pt x="99" y="191"/>
                  <a:pt x="125" y="234"/>
                  <a:pt x="164" y="260"/>
                </a:cubicBezTo>
                <a:cubicBezTo>
                  <a:pt x="72" y="268"/>
                  <a:pt x="0" y="345"/>
                  <a:pt x="0" y="439"/>
                </a:cubicBezTo>
                <a:lnTo>
                  <a:pt x="0" y="586"/>
                </a:lnTo>
                <a:lnTo>
                  <a:pt x="0" y="588"/>
                </a:lnTo>
                <a:lnTo>
                  <a:pt x="10" y="591"/>
                </a:lnTo>
                <a:cubicBezTo>
                  <a:pt x="105" y="621"/>
                  <a:pt x="188" y="631"/>
                  <a:pt x="256" y="631"/>
                </a:cubicBezTo>
                <a:cubicBezTo>
                  <a:pt x="388" y="631"/>
                  <a:pt x="465" y="593"/>
                  <a:pt x="470" y="590"/>
                </a:cubicBezTo>
                <a:lnTo>
                  <a:pt x="479" y="586"/>
                </a:lnTo>
                <a:lnTo>
                  <a:pt x="480" y="586"/>
                </a:lnTo>
                <a:lnTo>
                  <a:pt x="480" y="439"/>
                </a:lnTo>
                <a:cubicBezTo>
                  <a:pt x="480" y="345"/>
                  <a:pt x="408" y="268"/>
                  <a:pt x="316" y="26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40" name="Freeform 29"/>
          <p:cNvSpPr/>
          <p:nvPr/>
        </p:nvSpPr>
        <p:spPr>
          <a:xfrm>
            <a:off x="8721720" y="3286080"/>
            <a:ext cx="157320" cy="136440"/>
          </a:xfrm>
          <a:custGeom>
            <a:avLst/>
            <a:gdLst/>
            <a:ahLst/>
            <a:rect l="l" t="t" r="r" b="b"/>
            <a:pathLst>
              <a:path w="583" h="515">
                <a:moveTo>
                  <a:pt x="42" y="343"/>
                </a:moveTo>
                <a:cubicBezTo>
                  <a:pt x="19" y="343"/>
                  <a:pt x="0" y="362"/>
                  <a:pt x="0" y="386"/>
                </a:cubicBezTo>
                <a:lnTo>
                  <a:pt x="0" y="472"/>
                </a:lnTo>
                <a:cubicBezTo>
                  <a:pt x="0" y="496"/>
                  <a:pt x="19" y="515"/>
                  <a:pt x="42" y="515"/>
                </a:cubicBezTo>
                <a:cubicBezTo>
                  <a:pt x="66" y="515"/>
                  <a:pt x="85" y="496"/>
                  <a:pt x="85" y="472"/>
                </a:cubicBezTo>
                <a:lnTo>
                  <a:pt x="85" y="386"/>
                </a:lnTo>
                <a:cubicBezTo>
                  <a:pt x="85" y="362"/>
                  <a:pt x="66" y="343"/>
                  <a:pt x="42" y="343"/>
                </a:cubicBezTo>
                <a:close/>
                <a:moveTo>
                  <a:pt x="540" y="0"/>
                </a:moveTo>
                <a:cubicBezTo>
                  <a:pt x="516" y="0"/>
                  <a:pt x="497" y="19"/>
                  <a:pt x="497" y="43"/>
                </a:cubicBezTo>
                <a:lnTo>
                  <a:pt x="497" y="472"/>
                </a:lnTo>
                <a:cubicBezTo>
                  <a:pt x="497" y="496"/>
                  <a:pt x="516" y="515"/>
                  <a:pt x="540" y="515"/>
                </a:cubicBezTo>
                <a:cubicBezTo>
                  <a:pt x="564" y="515"/>
                  <a:pt x="583" y="496"/>
                  <a:pt x="583" y="472"/>
                </a:cubicBezTo>
                <a:lnTo>
                  <a:pt x="583" y="43"/>
                </a:lnTo>
                <a:cubicBezTo>
                  <a:pt x="583" y="19"/>
                  <a:pt x="564" y="0"/>
                  <a:pt x="540" y="0"/>
                </a:cubicBezTo>
                <a:close/>
                <a:moveTo>
                  <a:pt x="416" y="86"/>
                </a:moveTo>
                <a:cubicBezTo>
                  <a:pt x="393" y="86"/>
                  <a:pt x="374" y="105"/>
                  <a:pt x="374" y="129"/>
                </a:cubicBezTo>
                <a:lnTo>
                  <a:pt x="374" y="472"/>
                </a:lnTo>
                <a:cubicBezTo>
                  <a:pt x="374" y="496"/>
                  <a:pt x="393" y="515"/>
                  <a:pt x="416" y="515"/>
                </a:cubicBezTo>
                <a:cubicBezTo>
                  <a:pt x="440" y="515"/>
                  <a:pt x="459" y="496"/>
                  <a:pt x="459" y="472"/>
                </a:cubicBezTo>
                <a:lnTo>
                  <a:pt x="459" y="129"/>
                </a:lnTo>
                <a:cubicBezTo>
                  <a:pt x="459" y="105"/>
                  <a:pt x="440" y="86"/>
                  <a:pt x="416" y="86"/>
                </a:cubicBezTo>
                <a:close/>
                <a:moveTo>
                  <a:pt x="291" y="172"/>
                </a:moveTo>
                <a:cubicBezTo>
                  <a:pt x="268" y="172"/>
                  <a:pt x="248" y="191"/>
                  <a:pt x="248" y="214"/>
                </a:cubicBezTo>
                <a:lnTo>
                  <a:pt x="248" y="472"/>
                </a:lnTo>
                <a:cubicBezTo>
                  <a:pt x="248" y="496"/>
                  <a:pt x="268" y="515"/>
                  <a:pt x="291" y="515"/>
                </a:cubicBezTo>
                <a:cubicBezTo>
                  <a:pt x="315" y="515"/>
                  <a:pt x="334" y="496"/>
                  <a:pt x="334" y="472"/>
                </a:cubicBezTo>
                <a:lnTo>
                  <a:pt x="334" y="214"/>
                </a:lnTo>
                <a:cubicBezTo>
                  <a:pt x="334" y="191"/>
                  <a:pt x="315" y="172"/>
                  <a:pt x="291" y="172"/>
                </a:cubicBezTo>
                <a:close/>
                <a:moveTo>
                  <a:pt x="163" y="257"/>
                </a:moveTo>
                <a:cubicBezTo>
                  <a:pt x="139" y="257"/>
                  <a:pt x="120" y="277"/>
                  <a:pt x="120" y="300"/>
                </a:cubicBezTo>
                <a:lnTo>
                  <a:pt x="120" y="472"/>
                </a:lnTo>
                <a:cubicBezTo>
                  <a:pt x="120" y="496"/>
                  <a:pt x="139" y="515"/>
                  <a:pt x="163" y="515"/>
                </a:cubicBezTo>
                <a:cubicBezTo>
                  <a:pt x="186" y="515"/>
                  <a:pt x="206" y="496"/>
                  <a:pt x="206" y="472"/>
                </a:cubicBezTo>
                <a:lnTo>
                  <a:pt x="206" y="300"/>
                </a:lnTo>
                <a:cubicBezTo>
                  <a:pt x="206" y="277"/>
                  <a:pt x="186" y="257"/>
                  <a:pt x="163" y="257"/>
                </a:cubicBezTo>
                <a:close/>
              </a:path>
            </a:pathLst>
          </a:custGeom>
          <a:solidFill>
            <a:srgbClr val="a6a6a6"/>
          </a:solidFill>
          <a:ln w="0">
            <a:noFill/>
          </a:ln>
        </p:spPr>
        <p:style>
          <a:lnRef idx="0"/>
          <a:fillRef idx="0"/>
          <a:effectRef idx="0"/>
          <a:fontRef idx="minor"/>
        </p:style>
        <p:txBody>
          <a:bodyPr lIns="145800" rIns="145800" tIns="63720" bIns="63720" anchor="t">
            <a:noAutofit/>
          </a:bodyPr>
          <a:p>
            <a:endParaRPr b="0" lang="en-US" sz="1800" spc="-1" strike="noStrike">
              <a:solidFill>
                <a:srgbClr val="000000"/>
              </a:solidFill>
              <a:latin typeface="Calibri"/>
            </a:endParaRPr>
          </a:p>
        </p:txBody>
      </p:sp>
      <p:sp>
        <p:nvSpPr>
          <p:cNvPr id="1641" name="Freeform 30"/>
          <p:cNvSpPr/>
          <p:nvPr/>
        </p:nvSpPr>
        <p:spPr>
          <a:xfrm>
            <a:off x="6267600" y="1989000"/>
            <a:ext cx="185760" cy="168480"/>
          </a:xfrm>
          <a:custGeom>
            <a:avLst/>
            <a:gdLst/>
            <a:ahLst/>
            <a:rect l="l" t="t" r="r" b="b"/>
            <a:pathLst>
              <a:path w="695" h="629">
                <a:moveTo>
                  <a:pt x="348" y="450"/>
                </a:moveTo>
                <a:cubicBezTo>
                  <a:pt x="397" y="450"/>
                  <a:pt x="437" y="490"/>
                  <a:pt x="437" y="539"/>
                </a:cubicBezTo>
                <a:cubicBezTo>
                  <a:pt x="437" y="589"/>
                  <a:pt x="397" y="629"/>
                  <a:pt x="348" y="629"/>
                </a:cubicBezTo>
                <a:cubicBezTo>
                  <a:pt x="298" y="629"/>
                  <a:pt x="258" y="589"/>
                  <a:pt x="258" y="539"/>
                </a:cubicBezTo>
                <a:cubicBezTo>
                  <a:pt x="258" y="490"/>
                  <a:pt x="298" y="450"/>
                  <a:pt x="348" y="450"/>
                </a:cubicBezTo>
                <a:close/>
                <a:moveTo>
                  <a:pt x="505" y="381"/>
                </a:moveTo>
                <a:lnTo>
                  <a:pt x="442" y="445"/>
                </a:lnTo>
                <a:cubicBezTo>
                  <a:pt x="390" y="392"/>
                  <a:pt x="305" y="392"/>
                  <a:pt x="253" y="445"/>
                </a:cubicBezTo>
                <a:lnTo>
                  <a:pt x="190" y="381"/>
                </a:lnTo>
                <a:cubicBezTo>
                  <a:pt x="277" y="294"/>
                  <a:pt x="418" y="294"/>
                  <a:pt x="505" y="381"/>
                </a:cubicBezTo>
                <a:close/>
                <a:moveTo>
                  <a:pt x="600" y="287"/>
                </a:moveTo>
                <a:lnTo>
                  <a:pt x="537" y="350"/>
                </a:lnTo>
                <a:cubicBezTo>
                  <a:pt x="432" y="245"/>
                  <a:pt x="263" y="245"/>
                  <a:pt x="158" y="350"/>
                </a:cubicBezTo>
                <a:lnTo>
                  <a:pt x="95" y="287"/>
                </a:lnTo>
                <a:cubicBezTo>
                  <a:pt x="234" y="147"/>
                  <a:pt x="461" y="147"/>
                  <a:pt x="600" y="287"/>
                </a:cubicBezTo>
                <a:close/>
                <a:moveTo>
                  <a:pt x="632" y="255"/>
                </a:moveTo>
                <a:cubicBezTo>
                  <a:pt x="475" y="98"/>
                  <a:pt x="220" y="98"/>
                  <a:pt x="63" y="255"/>
                </a:cubicBezTo>
                <a:lnTo>
                  <a:pt x="0" y="192"/>
                </a:lnTo>
                <a:cubicBezTo>
                  <a:pt x="192" y="0"/>
                  <a:pt x="503" y="0"/>
                  <a:pt x="695" y="192"/>
                </a:cubicBezTo>
                <a:lnTo>
                  <a:pt x="632" y="255"/>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42" name="Freeform 31"/>
          <p:cNvSpPr/>
          <p:nvPr/>
        </p:nvSpPr>
        <p:spPr>
          <a:xfrm>
            <a:off x="2292480" y="2003400"/>
            <a:ext cx="155520" cy="154080"/>
          </a:xfrm>
          <a:custGeom>
            <a:avLst/>
            <a:gdLst/>
            <a:ahLst/>
            <a:rect l="l" t="t" r="r" b="b"/>
            <a:pathLst>
              <a:path w="584" h="580">
                <a:moveTo>
                  <a:pt x="291" y="254"/>
                </a:moveTo>
                <a:lnTo>
                  <a:pt x="145" y="254"/>
                </a:lnTo>
                <a:cubicBezTo>
                  <a:pt x="125" y="254"/>
                  <a:pt x="109" y="238"/>
                  <a:pt x="109" y="218"/>
                </a:cubicBezTo>
                <a:cubicBezTo>
                  <a:pt x="109" y="198"/>
                  <a:pt x="125" y="182"/>
                  <a:pt x="145" y="182"/>
                </a:cubicBezTo>
                <a:lnTo>
                  <a:pt x="291" y="182"/>
                </a:lnTo>
                <a:cubicBezTo>
                  <a:pt x="311" y="182"/>
                  <a:pt x="327" y="198"/>
                  <a:pt x="327" y="218"/>
                </a:cubicBezTo>
                <a:cubicBezTo>
                  <a:pt x="327" y="238"/>
                  <a:pt x="311" y="254"/>
                  <a:pt x="291" y="254"/>
                </a:cubicBezTo>
                <a:close/>
                <a:moveTo>
                  <a:pt x="218" y="382"/>
                </a:moveTo>
                <a:cubicBezTo>
                  <a:pt x="128" y="382"/>
                  <a:pt x="54" y="308"/>
                  <a:pt x="54" y="218"/>
                </a:cubicBezTo>
                <a:cubicBezTo>
                  <a:pt x="54" y="128"/>
                  <a:pt x="128" y="54"/>
                  <a:pt x="218" y="54"/>
                </a:cubicBezTo>
                <a:cubicBezTo>
                  <a:pt x="308" y="54"/>
                  <a:pt x="381" y="128"/>
                  <a:pt x="381" y="218"/>
                </a:cubicBezTo>
                <a:cubicBezTo>
                  <a:pt x="381" y="308"/>
                  <a:pt x="308" y="382"/>
                  <a:pt x="218" y="382"/>
                </a:cubicBezTo>
                <a:close/>
                <a:moveTo>
                  <a:pt x="436" y="218"/>
                </a:moveTo>
                <a:cubicBezTo>
                  <a:pt x="436" y="98"/>
                  <a:pt x="338" y="0"/>
                  <a:pt x="218" y="0"/>
                </a:cubicBezTo>
                <a:cubicBezTo>
                  <a:pt x="97" y="0"/>
                  <a:pt x="0" y="98"/>
                  <a:pt x="0" y="218"/>
                </a:cubicBezTo>
                <a:cubicBezTo>
                  <a:pt x="0" y="339"/>
                  <a:pt x="97" y="436"/>
                  <a:pt x="218" y="436"/>
                </a:cubicBezTo>
                <a:cubicBezTo>
                  <a:pt x="338" y="436"/>
                  <a:pt x="436" y="339"/>
                  <a:pt x="436" y="218"/>
                </a:cubicBezTo>
                <a:close/>
                <a:moveTo>
                  <a:pt x="563" y="482"/>
                </a:moveTo>
                <a:lnTo>
                  <a:pt x="429" y="348"/>
                </a:lnTo>
                <a:cubicBezTo>
                  <a:pt x="409" y="379"/>
                  <a:pt x="383" y="406"/>
                  <a:pt x="352" y="425"/>
                </a:cubicBezTo>
                <a:lnTo>
                  <a:pt x="485" y="559"/>
                </a:lnTo>
                <a:cubicBezTo>
                  <a:pt x="507" y="580"/>
                  <a:pt x="541" y="580"/>
                  <a:pt x="563" y="559"/>
                </a:cubicBezTo>
                <a:cubicBezTo>
                  <a:pt x="584" y="538"/>
                  <a:pt x="584" y="503"/>
                  <a:pt x="563" y="48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43" name="Freeform 32"/>
          <p:cNvSpPr/>
          <p:nvPr/>
        </p:nvSpPr>
        <p:spPr>
          <a:xfrm>
            <a:off x="2602080" y="2003400"/>
            <a:ext cx="156960" cy="154080"/>
          </a:xfrm>
          <a:custGeom>
            <a:avLst/>
            <a:gdLst/>
            <a:ahLst/>
            <a:rect l="l" t="t" r="r" b="b"/>
            <a:pathLst>
              <a:path w="584" h="580">
                <a:moveTo>
                  <a:pt x="322" y="200"/>
                </a:moveTo>
                <a:lnTo>
                  <a:pt x="241" y="200"/>
                </a:lnTo>
                <a:lnTo>
                  <a:pt x="241" y="120"/>
                </a:lnTo>
                <a:cubicBezTo>
                  <a:pt x="241" y="117"/>
                  <a:pt x="240" y="114"/>
                  <a:pt x="238" y="112"/>
                </a:cubicBezTo>
                <a:cubicBezTo>
                  <a:pt x="236" y="109"/>
                  <a:pt x="233" y="108"/>
                  <a:pt x="230" y="108"/>
                </a:cubicBezTo>
                <a:lnTo>
                  <a:pt x="207" y="108"/>
                </a:lnTo>
                <a:cubicBezTo>
                  <a:pt x="204" y="108"/>
                  <a:pt x="201" y="109"/>
                  <a:pt x="199" y="112"/>
                </a:cubicBezTo>
                <a:cubicBezTo>
                  <a:pt x="197" y="114"/>
                  <a:pt x="195" y="117"/>
                  <a:pt x="195" y="120"/>
                </a:cubicBezTo>
                <a:lnTo>
                  <a:pt x="195" y="200"/>
                </a:lnTo>
                <a:lnTo>
                  <a:pt x="115" y="200"/>
                </a:lnTo>
                <a:cubicBezTo>
                  <a:pt x="112" y="200"/>
                  <a:pt x="109" y="201"/>
                  <a:pt x="107" y="204"/>
                </a:cubicBezTo>
                <a:cubicBezTo>
                  <a:pt x="105" y="206"/>
                  <a:pt x="104" y="209"/>
                  <a:pt x="104" y="212"/>
                </a:cubicBezTo>
                <a:lnTo>
                  <a:pt x="104" y="235"/>
                </a:lnTo>
                <a:cubicBezTo>
                  <a:pt x="104" y="238"/>
                  <a:pt x="105" y="240"/>
                  <a:pt x="107" y="243"/>
                </a:cubicBezTo>
                <a:cubicBezTo>
                  <a:pt x="109" y="245"/>
                  <a:pt x="112" y="246"/>
                  <a:pt x="115" y="246"/>
                </a:cubicBezTo>
                <a:lnTo>
                  <a:pt x="195" y="246"/>
                </a:lnTo>
                <a:lnTo>
                  <a:pt x="195" y="326"/>
                </a:lnTo>
                <a:cubicBezTo>
                  <a:pt x="195" y="329"/>
                  <a:pt x="197" y="332"/>
                  <a:pt x="199" y="334"/>
                </a:cubicBezTo>
                <a:cubicBezTo>
                  <a:pt x="201" y="337"/>
                  <a:pt x="204" y="338"/>
                  <a:pt x="207" y="338"/>
                </a:cubicBezTo>
                <a:lnTo>
                  <a:pt x="230" y="338"/>
                </a:lnTo>
                <a:cubicBezTo>
                  <a:pt x="233" y="338"/>
                  <a:pt x="236" y="337"/>
                  <a:pt x="238" y="334"/>
                </a:cubicBezTo>
                <a:cubicBezTo>
                  <a:pt x="240" y="332"/>
                  <a:pt x="241" y="329"/>
                  <a:pt x="241" y="326"/>
                </a:cubicBezTo>
                <a:lnTo>
                  <a:pt x="241" y="246"/>
                </a:lnTo>
                <a:lnTo>
                  <a:pt x="322" y="246"/>
                </a:lnTo>
                <a:cubicBezTo>
                  <a:pt x="325" y="246"/>
                  <a:pt x="327" y="245"/>
                  <a:pt x="330" y="243"/>
                </a:cubicBezTo>
                <a:cubicBezTo>
                  <a:pt x="332" y="240"/>
                  <a:pt x="333" y="238"/>
                  <a:pt x="333" y="235"/>
                </a:cubicBezTo>
                <a:lnTo>
                  <a:pt x="333" y="212"/>
                </a:lnTo>
                <a:cubicBezTo>
                  <a:pt x="333" y="208"/>
                  <a:pt x="332" y="206"/>
                  <a:pt x="330" y="204"/>
                </a:cubicBezTo>
                <a:cubicBezTo>
                  <a:pt x="327" y="201"/>
                  <a:pt x="325" y="200"/>
                  <a:pt x="322" y="200"/>
                </a:cubicBezTo>
                <a:close/>
                <a:moveTo>
                  <a:pt x="218" y="382"/>
                </a:moveTo>
                <a:cubicBezTo>
                  <a:pt x="128" y="382"/>
                  <a:pt x="55" y="308"/>
                  <a:pt x="55" y="218"/>
                </a:cubicBezTo>
                <a:cubicBezTo>
                  <a:pt x="55" y="128"/>
                  <a:pt x="128" y="54"/>
                  <a:pt x="218" y="54"/>
                </a:cubicBezTo>
                <a:cubicBezTo>
                  <a:pt x="309" y="54"/>
                  <a:pt x="382" y="128"/>
                  <a:pt x="382" y="218"/>
                </a:cubicBezTo>
                <a:cubicBezTo>
                  <a:pt x="382" y="308"/>
                  <a:pt x="309" y="382"/>
                  <a:pt x="218" y="382"/>
                </a:cubicBezTo>
                <a:close/>
                <a:moveTo>
                  <a:pt x="437" y="218"/>
                </a:moveTo>
                <a:cubicBezTo>
                  <a:pt x="437" y="98"/>
                  <a:pt x="339" y="0"/>
                  <a:pt x="218" y="0"/>
                </a:cubicBezTo>
                <a:cubicBezTo>
                  <a:pt x="98" y="0"/>
                  <a:pt x="0" y="98"/>
                  <a:pt x="0" y="218"/>
                </a:cubicBezTo>
                <a:cubicBezTo>
                  <a:pt x="0" y="339"/>
                  <a:pt x="98" y="436"/>
                  <a:pt x="218" y="436"/>
                </a:cubicBezTo>
                <a:cubicBezTo>
                  <a:pt x="339" y="436"/>
                  <a:pt x="437" y="339"/>
                  <a:pt x="437" y="218"/>
                </a:cubicBezTo>
                <a:close/>
                <a:moveTo>
                  <a:pt x="563" y="482"/>
                </a:moveTo>
                <a:lnTo>
                  <a:pt x="430" y="348"/>
                </a:lnTo>
                <a:cubicBezTo>
                  <a:pt x="410" y="379"/>
                  <a:pt x="383" y="406"/>
                  <a:pt x="352" y="425"/>
                </a:cubicBezTo>
                <a:lnTo>
                  <a:pt x="486" y="559"/>
                </a:lnTo>
                <a:cubicBezTo>
                  <a:pt x="507" y="580"/>
                  <a:pt x="542" y="580"/>
                  <a:pt x="563" y="559"/>
                </a:cubicBezTo>
                <a:cubicBezTo>
                  <a:pt x="584" y="538"/>
                  <a:pt x="584" y="503"/>
                  <a:pt x="563" y="48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44" name="Freeform 33"/>
          <p:cNvSpPr/>
          <p:nvPr/>
        </p:nvSpPr>
        <p:spPr>
          <a:xfrm>
            <a:off x="8055000" y="3289320"/>
            <a:ext cx="141120" cy="133200"/>
          </a:xfrm>
          <a:custGeom>
            <a:avLst/>
            <a:gdLst/>
            <a:ahLst/>
            <a:rect l="l" t="t" r="r" b="b"/>
            <a:pathLst>
              <a:path w="526" h="497">
                <a:moveTo>
                  <a:pt x="139" y="197"/>
                </a:moveTo>
                <a:lnTo>
                  <a:pt x="12" y="197"/>
                </a:lnTo>
                <a:cubicBezTo>
                  <a:pt x="5" y="197"/>
                  <a:pt x="0" y="202"/>
                  <a:pt x="0" y="209"/>
                </a:cubicBezTo>
                <a:lnTo>
                  <a:pt x="0" y="485"/>
                </a:lnTo>
                <a:cubicBezTo>
                  <a:pt x="0" y="492"/>
                  <a:pt x="5" y="497"/>
                  <a:pt x="12" y="497"/>
                </a:cubicBezTo>
                <a:lnTo>
                  <a:pt x="139" y="497"/>
                </a:lnTo>
                <a:cubicBezTo>
                  <a:pt x="146" y="497"/>
                  <a:pt x="151" y="492"/>
                  <a:pt x="151" y="485"/>
                </a:cubicBezTo>
                <a:lnTo>
                  <a:pt x="151" y="209"/>
                </a:lnTo>
                <a:cubicBezTo>
                  <a:pt x="151" y="202"/>
                  <a:pt x="146" y="197"/>
                  <a:pt x="139" y="197"/>
                </a:cubicBezTo>
                <a:close/>
                <a:moveTo>
                  <a:pt x="515" y="0"/>
                </a:moveTo>
                <a:lnTo>
                  <a:pt x="388" y="0"/>
                </a:lnTo>
                <a:cubicBezTo>
                  <a:pt x="381" y="0"/>
                  <a:pt x="376" y="5"/>
                  <a:pt x="376" y="12"/>
                </a:cubicBezTo>
                <a:lnTo>
                  <a:pt x="376" y="485"/>
                </a:lnTo>
                <a:cubicBezTo>
                  <a:pt x="376" y="492"/>
                  <a:pt x="381" y="497"/>
                  <a:pt x="388" y="497"/>
                </a:cubicBezTo>
                <a:lnTo>
                  <a:pt x="515" y="497"/>
                </a:lnTo>
                <a:cubicBezTo>
                  <a:pt x="521" y="497"/>
                  <a:pt x="526" y="492"/>
                  <a:pt x="526" y="485"/>
                </a:cubicBezTo>
                <a:lnTo>
                  <a:pt x="526" y="12"/>
                </a:lnTo>
                <a:cubicBezTo>
                  <a:pt x="526" y="5"/>
                  <a:pt x="521" y="0"/>
                  <a:pt x="515" y="0"/>
                </a:cubicBezTo>
                <a:close/>
                <a:moveTo>
                  <a:pt x="326" y="125"/>
                </a:moveTo>
                <a:lnTo>
                  <a:pt x="199" y="125"/>
                </a:lnTo>
                <a:cubicBezTo>
                  <a:pt x="192" y="125"/>
                  <a:pt x="187" y="131"/>
                  <a:pt x="187" y="137"/>
                </a:cubicBezTo>
                <a:lnTo>
                  <a:pt x="187" y="485"/>
                </a:lnTo>
                <a:cubicBezTo>
                  <a:pt x="187" y="492"/>
                  <a:pt x="192" y="497"/>
                  <a:pt x="199" y="497"/>
                </a:cubicBezTo>
                <a:lnTo>
                  <a:pt x="326" y="497"/>
                </a:lnTo>
                <a:cubicBezTo>
                  <a:pt x="332" y="497"/>
                  <a:pt x="338" y="492"/>
                  <a:pt x="338" y="485"/>
                </a:cubicBezTo>
                <a:lnTo>
                  <a:pt x="338" y="137"/>
                </a:lnTo>
                <a:cubicBezTo>
                  <a:pt x="338" y="131"/>
                  <a:pt x="332" y="125"/>
                  <a:pt x="326" y="125"/>
                </a:cubicBezTo>
                <a:close/>
              </a:path>
            </a:pathLst>
          </a:custGeom>
          <a:solidFill>
            <a:srgbClr val="a6a6a6"/>
          </a:solidFill>
          <a:ln w="0">
            <a:noFill/>
          </a:ln>
        </p:spPr>
        <p:style>
          <a:lnRef idx="0"/>
          <a:fillRef idx="0"/>
          <a:effectRef idx="0"/>
          <a:fontRef idx="minor"/>
        </p:style>
        <p:txBody>
          <a:bodyPr lIns="145800" rIns="145800" tIns="60480" bIns="60480" anchor="t">
            <a:noAutofit/>
          </a:bodyPr>
          <a:p>
            <a:endParaRPr b="0" lang="en-US" sz="1800" spc="-1" strike="noStrike">
              <a:solidFill>
                <a:srgbClr val="000000"/>
              </a:solidFill>
              <a:latin typeface="Calibri"/>
            </a:endParaRPr>
          </a:p>
        </p:txBody>
      </p:sp>
      <p:sp>
        <p:nvSpPr>
          <p:cNvPr id="1645" name="Freeform 34"/>
          <p:cNvSpPr/>
          <p:nvPr/>
        </p:nvSpPr>
        <p:spPr>
          <a:xfrm>
            <a:off x="4219560" y="1727280"/>
            <a:ext cx="152280" cy="168120"/>
          </a:xfrm>
          <a:custGeom>
            <a:avLst/>
            <a:gdLst/>
            <a:ahLst/>
            <a:rect l="l" t="t" r="r" b="b"/>
            <a:pathLst>
              <a:path w="567" h="627">
                <a:moveTo>
                  <a:pt x="465" y="128"/>
                </a:moveTo>
                <a:cubicBezTo>
                  <a:pt x="430" y="128"/>
                  <a:pt x="401" y="157"/>
                  <a:pt x="401" y="192"/>
                </a:cubicBezTo>
                <a:cubicBezTo>
                  <a:pt x="401" y="227"/>
                  <a:pt x="430" y="256"/>
                  <a:pt x="465" y="256"/>
                </a:cubicBezTo>
                <a:cubicBezTo>
                  <a:pt x="500" y="256"/>
                  <a:pt x="529" y="227"/>
                  <a:pt x="529" y="192"/>
                </a:cubicBezTo>
                <a:cubicBezTo>
                  <a:pt x="529" y="157"/>
                  <a:pt x="500" y="128"/>
                  <a:pt x="465" y="128"/>
                </a:cubicBezTo>
                <a:close/>
                <a:moveTo>
                  <a:pt x="135" y="627"/>
                </a:moveTo>
                <a:lnTo>
                  <a:pt x="432" y="627"/>
                </a:lnTo>
                <a:lnTo>
                  <a:pt x="432" y="363"/>
                </a:lnTo>
                <a:cubicBezTo>
                  <a:pt x="432" y="281"/>
                  <a:pt x="365" y="215"/>
                  <a:pt x="283" y="215"/>
                </a:cubicBezTo>
                <a:cubicBezTo>
                  <a:pt x="201" y="215"/>
                  <a:pt x="135" y="281"/>
                  <a:pt x="135" y="363"/>
                </a:cubicBezTo>
                <a:lnTo>
                  <a:pt x="135" y="627"/>
                </a:lnTo>
                <a:close/>
                <a:moveTo>
                  <a:pt x="111" y="363"/>
                </a:moveTo>
                <a:lnTo>
                  <a:pt x="111" y="568"/>
                </a:lnTo>
                <a:lnTo>
                  <a:pt x="0" y="568"/>
                </a:lnTo>
                <a:lnTo>
                  <a:pt x="0" y="383"/>
                </a:lnTo>
                <a:cubicBezTo>
                  <a:pt x="0" y="327"/>
                  <a:pt x="46" y="281"/>
                  <a:pt x="102" y="281"/>
                </a:cubicBezTo>
                <a:cubicBezTo>
                  <a:pt x="112" y="281"/>
                  <a:pt x="122" y="283"/>
                  <a:pt x="131" y="285"/>
                </a:cubicBezTo>
                <a:cubicBezTo>
                  <a:pt x="119" y="309"/>
                  <a:pt x="111" y="335"/>
                  <a:pt x="111" y="363"/>
                </a:cubicBezTo>
                <a:close/>
                <a:moveTo>
                  <a:pt x="567" y="568"/>
                </a:moveTo>
                <a:lnTo>
                  <a:pt x="455" y="568"/>
                </a:lnTo>
                <a:lnTo>
                  <a:pt x="455" y="363"/>
                </a:lnTo>
                <a:cubicBezTo>
                  <a:pt x="455" y="335"/>
                  <a:pt x="448" y="309"/>
                  <a:pt x="436" y="285"/>
                </a:cubicBezTo>
                <a:cubicBezTo>
                  <a:pt x="445" y="283"/>
                  <a:pt x="455" y="281"/>
                  <a:pt x="465" y="281"/>
                </a:cubicBezTo>
                <a:cubicBezTo>
                  <a:pt x="521" y="281"/>
                  <a:pt x="567" y="327"/>
                  <a:pt x="567" y="383"/>
                </a:cubicBezTo>
                <a:lnTo>
                  <a:pt x="567" y="568"/>
                </a:lnTo>
                <a:close/>
                <a:moveTo>
                  <a:pt x="283" y="0"/>
                </a:moveTo>
                <a:cubicBezTo>
                  <a:pt x="231" y="0"/>
                  <a:pt x="189" y="42"/>
                  <a:pt x="189" y="94"/>
                </a:cubicBezTo>
                <a:cubicBezTo>
                  <a:pt x="189" y="147"/>
                  <a:pt x="231" y="189"/>
                  <a:pt x="283" y="189"/>
                </a:cubicBezTo>
                <a:cubicBezTo>
                  <a:pt x="336" y="189"/>
                  <a:pt x="378" y="147"/>
                  <a:pt x="378" y="94"/>
                </a:cubicBezTo>
                <a:cubicBezTo>
                  <a:pt x="378" y="42"/>
                  <a:pt x="336" y="0"/>
                  <a:pt x="283" y="0"/>
                </a:cubicBezTo>
                <a:close/>
                <a:moveTo>
                  <a:pt x="102" y="128"/>
                </a:moveTo>
                <a:cubicBezTo>
                  <a:pt x="67" y="128"/>
                  <a:pt x="38" y="157"/>
                  <a:pt x="38" y="192"/>
                </a:cubicBezTo>
                <a:cubicBezTo>
                  <a:pt x="38" y="227"/>
                  <a:pt x="67" y="256"/>
                  <a:pt x="102" y="256"/>
                </a:cubicBezTo>
                <a:cubicBezTo>
                  <a:pt x="137" y="256"/>
                  <a:pt x="166" y="227"/>
                  <a:pt x="166" y="192"/>
                </a:cubicBezTo>
                <a:cubicBezTo>
                  <a:pt x="166" y="157"/>
                  <a:pt x="137" y="128"/>
                  <a:pt x="102" y="128"/>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46" name="Freeform 35"/>
          <p:cNvSpPr/>
          <p:nvPr/>
        </p:nvSpPr>
        <p:spPr>
          <a:xfrm>
            <a:off x="2927520" y="2003400"/>
            <a:ext cx="156960" cy="154080"/>
          </a:xfrm>
          <a:custGeom>
            <a:avLst/>
            <a:gdLst/>
            <a:ahLst/>
            <a:rect l="l" t="t" r="r" b="b"/>
            <a:pathLst>
              <a:path w="587" h="580">
                <a:moveTo>
                  <a:pt x="437" y="218"/>
                </a:moveTo>
                <a:cubicBezTo>
                  <a:pt x="437" y="98"/>
                  <a:pt x="339" y="0"/>
                  <a:pt x="219" y="0"/>
                </a:cubicBezTo>
                <a:cubicBezTo>
                  <a:pt x="98" y="0"/>
                  <a:pt x="0" y="98"/>
                  <a:pt x="0" y="218"/>
                </a:cubicBezTo>
                <a:cubicBezTo>
                  <a:pt x="0" y="339"/>
                  <a:pt x="98" y="436"/>
                  <a:pt x="219" y="436"/>
                </a:cubicBezTo>
                <a:cubicBezTo>
                  <a:pt x="339" y="436"/>
                  <a:pt x="437" y="339"/>
                  <a:pt x="437" y="218"/>
                </a:cubicBezTo>
                <a:close/>
                <a:moveTo>
                  <a:pt x="566" y="482"/>
                </a:moveTo>
                <a:lnTo>
                  <a:pt x="433" y="348"/>
                </a:lnTo>
                <a:cubicBezTo>
                  <a:pt x="413" y="379"/>
                  <a:pt x="387" y="406"/>
                  <a:pt x="356" y="425"/>
                </a:cubicBezTo>
                <a:lnTo>
                  <a:pt x="489" y="559"/>
                </a:lnTo>
                <a:cubicBezTo>
                  <a:pt x="510" y="580"/>
                  <a:pt x="545" y="580"/>
                  <a:pt x="566" y="559"/>
                </a:cubicBezTo>
                <a:cubicBezTo>
                  <a:pt x="587" y="538"/>
                  <a:pt x="587" y="503"/>
                  <a:pt x="566" y="482"/>
                </a:cubicBezTo>
                <a:close/>
                <a:moveTo>
                  <a:pt x="219" y="382"/>
                </a:moveTo>
                <a:cubicBezTo>
                  <a:pt x="128" y="382"/>
                  <a:pt x="55" y="308"/>
                  <a:pt x="55" y="218"/>
                </a:cubicBezTo>
                <a:cubicBezTo>
                  <a:pt x="55" y="128"/>
                  <a:pt x="128" y="54"/>
                  <a:pt x="219" y="54"/>
                </a:cubicBezTo>
                <a:cubicBezTo>
                  <a:pt x="309" y="54"/>
                  <a:pt x="382" y="128"/>
                  <a:pt x="382" y="218"/>
                </a:cubicBezTo>
                <a:cubicBezTo>
                  <a:pt x="382" y="308"/>
                  <a:pt x="309" y="382"/>
                  <a:pt x="219" y="38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47" name="Freeform 36"/>
          <p:cNvSpPr/>
          <p:nvPr/>
        </p:nvSpPr>
        <p:spPr>
          <a:xfrm>
            <a:off x="5587920" y="1441440"/>
            <a:ext cx="146160" cy="165240"/>
          </a:xfrm>
          <a:custGeom>
            <a:avLst/>
            <a:gdLst/>
            <a:ahLst/>
            <a:rect l="l" t="t" r="r" b="b"/>
            <a:pathLst>
              <a:path w="547" h="615">
                <a:moveTo>
                  <a:pt x="490" y="9"/>
                </a:moveTo>
                <a:lnTo>
                  <a:pt x="230" y="88"/>
                </a:lnTo>
                <a:cubicBezTo>
                  <a:pt x="199" y="97"/>
                  <a:pt x="173" y="130"/>
                  <a:pt x="173" y="162"/>
                </a:cubicBezTo>
                <a:lnTo>
                  <a:pt x="173" y="432"/>
                </a:lnTo>
                <a:cubicBezTo>
                  <a:pt x="173" y="432"/>
                  <a:pt x="173" y="436"/>
                  <a:pt x="173" y="436"/>
                </a:cubicBezTo>
                <a:cubicBezTo>
                  <a:pt x="173" y="436"/>
                  <a:pt x="154" y="424"/>
                  <a:pt x="112" y="430"/>
                </a:cubicBezTo>
                <a:cubicBezTo>
                  <a:pt x="50" y="438"/>
                  <a:pt x="0" y="486"/>
                  <a:pt x="0" y="535"/>
                </a:cubicBezTo>
                <a:cubicBezTo>
                  <a:pt x="0" y="585"/>
                  <a:pt x="50" y="615"/>
                  <a:pt x="112" y="607"/>
                </a:cubicBezTo>
                <a:cubicBezTo>
                  <a:pt x="174" y="598"/>
                  <a:pt x="219" y="552"/>
                  <a:pt x="219" y="502"/>
                </a:cubicBezTo>
                <a:cubicBezTo>
                  <a:pt x="219" y="502"/>
                  <a:pt x="219" y="290"/>
                  <a:pt x="219" y="268"/>
                </a:cubicBezTo>
                <a:cubicBezTo>
                  <a:pt x="219" y="246"/>
                  <a:pt x="246" y="236"/>
                  <a:pt x="246" y="236"/>
                </a:cubicBezTo>
                <a:lnTo>
                  <a:pt x="476" y="164"/>
                </a:lnTo>
                <a:cubicBezTo>
                  <a:pt x="476" y="164"/>
                  <a:pt x="501" y="156"/>
                  <a:pt x="501" y="179"/>
                </a:cubicBezTo>
                <a:cubicBezTo>
                  <a:pt x="501" y="203"/>
                  <a:pt x="501" y="367"/>
                  <a:pt x="501" y="367"/>
                </a:cubicBezTo>
                <a:cubicBezTo>
                  <a:pt x="501" y="367"/>
                  <a:pt x="501" y="368"/>
                  <a:pt x="501" y="368"/>
                </a:cubicBezTo>
                <a:cubicBezTo>
                  <a:pt x="501" y="368"/>
                  <a:pt x="478" y="354"/>
                  <a:pt x="436" y="359"/>
                </a:cubicBezTo>
                <a:cubicBezTo>
                  <a:pt x="374" y="367"/>
                  <a:pt x="324" y="413"/>
                  <a:pt x="324" y="463"/>
                </a:cubicBezTo>
                <a:cubicBezTo>
                  <a:pt x="324" y="512"/>
                  <a:pt x="374" y="544"/>
                  <a:pt x="436" y="536"/>
                </a:cubicBezTo>
                <a:cubicBezTo>
                  <a:pt x="497" y="529"/>
                  <a:pt x="547" y="483"/>
                  <a:pt x="547" y="433"/>
                </a:cubicBezTo>
                <a:lnTo>
                  <a:pt x="547" y="49"/>
                </a:lnTo>
                <a:cubicBezTo>
                  <a:pt x="547" y="18"/>
                  <a:pt x="522" y="0"/>
                  <a:pt x="490" y="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48" name="Freeform 37"/>
          <p:cNvSpPr/>
          <p:nvPr/>
        </p:nvSpPr>
        <p:spPr>
          <a:xfrm>
            <a:off x="5591160" y="1741320"/>
            <a:ext cx="141480" cy="141480"/>
          </a:xfrm>
          <a:custGeom>
            <a:avLst/>
            <a:gdLst/>
            <a:ahLst/>
            <a:rect l="l" t="t" r="r" b="b"/>
            <a:pathLst>
              <a:path w="530" h="528">
                <a:moveTo>
                  <a:pt x="529" y="417"/>
                </a:moveTo>
                <a:cubicBezTo>
                  <a:pt x="530" y="426"/>
                  <a:pt x="527" y="433"/>
                  <a:pt x="521" y="439"/>
                </a:cubicBezTo>
                <a:lnTo>
                  <a:pt x="447" y="513"/>
                </a:lnTo>
                <a:cubicBezTo>
                  <a:pt x="443" y="517"/>
                  <a:pt x="439" y="520"/>
                  <a:pt x="434" y="523"/>
                </a:cubicBezTo>
                <a:cubicBezTo>
                  <a:pt x="428" y="525"/>
                  <a:pt x="423" y="527"/>
                  <a:pt x="418" y="528"/>
                </a:cubicBezTo>
                <a:cubicBezTo>
                  <a:pt x="417" y="528"/>
                  <a:pt x="416" y="528"/>
                  <a:pt x="414" y="528"/>
                </a:cubicBezTo>
                <a:cubicBezTo>
                  <a:pt x="412" y="528"/>
                  <a:pt x="410" y="528"/>
                  <a:pt x="407" y="528"/>
                </a:cubicBezTo>
                <a:cubicBezTo>
                  <a:pt x="400" y="528"/>
                  <a:pt x="388" y="527"/>
                  <a:pt x="373" y="525"/>
                </a:cubicBezTo>
                <a:cubicBezTo>
                  <a:pt x="357" y="522"/>
                  <a:pt x="337" y="516"/>
                  <a:pt x="314" y="507"/>
                </a:cubicBezTo>
                <a:cubicBezTo>
                  <a:pt x="291" y="497"/>
                  <a:pt x="265" y="483"/>
                  <a:pt x="236" y="464"/>
                </a:cubicBezTo>
                <a:cubicBezTo>
                  <a:pt x="207" y="445"/>
                  <a:pt x="176" y="419"/>
                  <a:pt x="143" y="386"/>
                </a:cubicBezTo>
                <a:cubicBezTo>
                  <a:pt x="117" y="360"/>
                  <a:pt x="96" y="335"/>
                  <a:pt x="79" y="312"/>
                </a:cubicBezTo>
                <a:cubicBezTo>
                  <a:pt x="61" y="288"/>
                  <a:pt x="48" y="267"/>
                  <a:pt x="37" y="247"/>
                </a:cubicBezTo>
                <a:cubicBezTo>
                  <a:pt x="27" y="227"/>
                  <a:pt x="19" y="209"/>
                  <a:pt x="14" y="192"/>
                </a:cubicBezTo>
                <a:cubicBezTo>
                  <a:pt x="8" y="176"/>
                  <a:pt x="5" y="162"/>
                  <a:pt x="3" y="150"/>
                </a:cubicBezTo>
                <a:cubicBezTo>
                  <a:pt x="1" y="139"/>
                  <a:pt x="0" y="129"/>
                  <a:pt x="1" y="123"/>
                </a:cubicBezTo>
                <a:cubicBezTo>
                  <a:pt x="1" y="116"/>
                  <a:pt x="1" y="112"/>
                  <a:pt x="1" y="112"/>
                </a:cubicBezTo>
                <a:cubicBezTo>
                  <a:pt x="2" y="106"/>
                  <a:pt x="4" y="101"/>
                  <a:pt x="6" y="96"/>
                </a:cubicBezTo>
                <a:cubicBezTo>
                  <a:pt x="9" y="90"/>
                  <a:pt x="12" y="86"/>
                  <a:pt x="16" y="82"/>
                </a:cubicBezTo>
                <a:lnTo>
                  <a:pt x="90" y="8"/>
                </a:lnTo>
                <a:cubicBezTo>
                  <a:pt x="96" y="3"/>
                  <a:pt x="101" y="0"/>
                  <a:pt x="108" y="0"/>
                </a:cubicBezTo>
                <a:cubicBezTo>
                  <a:pt x="113" y="0"/>
                  <a:pt x="117" y="2"/>
                  <a:pt x="121" y="4"/>
                </a:cubicBezTo>
                <a:cubicBezTo>
                  <a:pt x="125" y="7"/>
                  <a:pt x="128" y="11"/>
                  <a:pt x="131" y="15"/>
                </a:cubicBezTo>
                <a:lnTo>
                  <a:pt x="190" y="128"/>
                </a:lnTo>
                <a:cubicBezTo>
                  <a:pt x="194" y="134"/>
                  <a:pt x="195" y="141"/>
                  <a:pt x="193" y="148"/>
                </a:cubicBezTo>
                <a:cubicBezTo>
                  <a:pt x="192" y="155"/>
                  <a:pt x="189" y="161"/>
                  <a:pt x="184" y="166"/>
                </a:cubicBezTo>
                <a:lnTo>
                  <a:pt x="156" y="193"/>
                </a:lnTo>
                <a:cubicBezTo>
                  <a:pt x="156" y="194"/>
                  <a:pt x="155" y="195"/>
                  <a:pt x="154" y="197"/>
                </a:cubicBezTo>
                <a:cubicBezTo>
                  <a:pt x="154" y="199"/>
                  <a:pt x="154" y="200"/>
                  <a:pt x="154" y="201"/>
                </a:cubicBezTo>
                <a:cubicBezTo>
                  <a:pt x="155" y="209"/>
                  <a:pt x="158" y="218"/>
                  <a:pt x="164" y="228"/>
                </a:cubicBezTo>
                <a:cubicBezTo>
                  <a:pt x="168" y="237"/>
                  <a:pt x="175" y="248"/>
                  <a:pt x="184" y="261"/>
                </a:cubicBezTo>
                <a:cubicBezTo>
                  <a:pt x="194" y="273"/>
                  <a:pt x="207" y="288"/>
                  <a:pt x="224" y="305"/>
                </a:cubicBezTo>
                <a:cubicBezTo>
                  <a:pt x="241" y="322"/>
                  <a:pt x="256" y="336"/>
                  <a:pt x="269" y="345"/>
                </a:cubicBezTo>
                <a:cubicBezTo>
                  <a:pt x="282" y="355"/>
                  <a:pt x="293" y="362"/>
                  <a:pt x="301" y="366"/>
                </a:cubicBezTo>
                <a:cubicBezTo>
                  <a:pt x="310" y="371"/>
                  <a:pt x="317" y="373"/>
                  <a:pt x="322" y="374"/>
                </a:cubicBezTo>
                <a:lnTo>
                  <a:pt x="329" y="376"/>
                </a:lnTo>
                <a:cubicBezTo>
                  <a:pt x="329" y="376"/>
                  <a:pt x="331" y="375"/>
                  <a:pt x="332" y="375"/>
                </a:cubicBezTo>
                <a:cubicBezTo>
                  <a:pt x="334" y="374"/>
                  <a:pt x="335" y="374"/>
                  <a:pt x="336" y="373"/>
                </a:cubicBezTo>
                <a:lnTo>
                  <a:pt x="368" y="340"/>
                </a:lnTo>
                <a:cubicBezTo>
                  <a:pt x="375" y="334"/>
                  <a:pt x="382" y="331"/>
                  <a:pt x="391" y="331"/>
                </a:cubicBezTo>
                <a:cubicBezTo>
                  <a:pt x="398" y="331"/>
                  <a:pt x="403" y="333"/>
                  <a:pt x="406" y="335"/>
                </a:cubicBezTo>
                <a:lnTo>
                  <a:pt x="407" y="335"/>
                </a:lnTo>
                <a:lnTo>
                  <a:pt x="515" y="399"/>
                </a:lnTo>
                <a:cubicBezTo>
                  <a:pt x="523" y="403"/>
                  <a:pt x="527" y="410"/>
                  <a:pt x="529" y="417"/>
                </a:cubicBezTo>
                <a:close/>
              </a:path>
            </a:pathLst>
          </a:custGeom>
          <a:solidFill>
            <a:srgbClr val="a6a6a6"/>
          </a:solidFill>
          <a:ln w="0">
            <a:noFill/>
          </a:ln>
        </p:spPr>
        <p:style>
          <a:lnRef idx="0"/>
          <a:fillRef idx="0"/>
          <a:effectRef idx="0"/>
          <a:fontRef idx="minor"/>
        </p:style>
        <p:txBody>
          <a:bodyPr lIns="145800" rIns="145800" tIns="68760" bIns="68760" anchor="t">
            <a:noAutofit/>
          </a:bodyPr>
          <a:p>
            <a:endParaRPr b="0" lang="en-US" sz="1800" spc="-1" strike="noStrike">
              <a:solidFill>
                <a:srgbClr val="000000"/>
              </a:solidFill>
              <a:latin typeface="Calibri"/>
            </a:endParaRPr>
          </a:p>
        </p:txBody>
      </p:sp>
      <p:sp>
        <p:nvSpPr>
          <p:cNvPr id="1649" name="Freeform 38"/>
          <p:cNvSpPr/>
          <p:nvPr/>
        </p:nvSpPr>
        <p:spPr>
          <a:xfrm>
            <a:off x="4843440" y="1442880"/>
            <a:ext cx="209520" cy="162000"/>
          </a:xfrm>
          <a:custGeom>
            <a:avLst/>
            <a:gdLst/>
            <a:ahLst/>
            <a:rect l="l" t="t" r="r" b="b"/>
            <a:pathLst>
              <a:path w="788" h="608">
                <a:moveTo>
                  <a:pt x="65" y="0"/>
                </a:moveTo>
                <a:lnTo>
                  <a:pt x="217" y="0"/>
                </a:lnTo>
                <a:cubicBezTo>
                  <a:pt x="253" y="0"/>
                  <a:pt x="303" y="21"/>
                  <a:pt x="328" y="46"/>
                </a:cubicBezTo>
                <a:lnTo>
                  <a:pt x="583" y="301"/>
                </a:lnTo>
                <a:cubicBezTo>
                  <a:pt x="608" y="327"/>
                  <a:pt x="608" y="368"/>
                  <a:pt x="583" y="393"/>
                </a:cubicBezTo>
                <a:lnTo>
                  <a:pt x="393" y="583"/>
                </a:lnTo>
                <a:cubicBezTo>
                  <a:pt x="368" y="608"/>
                  <a:pt x="326" y="608"/>
                  <a:pt x="301" y="583"/>
                </a:cubicBezTo>
                <a:lnTo>
                  <a:pt x="46" y="328"/>
                </a:lnTo>
                <a:cubicBezTo>
                  <a:pt x="21" y="303"/>
                  <a:pt x="0" y="253"/>
                  <a:pt x="0" y="217"/>
                </a:cubicBezTo>
                <a:lnTo>
                  <a:pt x="0" y="65"/>
                </a:lnTo>
                <a:cubicBezTo>
                  <a:pt x="0" y="30"/>
                  <a:pt x="29" y="0"/>
                  <a:pt x="65" y="0"/>
                </a:cubicBezTo>
                <a:close/>
                <a:moveTo>
                  <a:pt x="729" y="363"/>
                </a:moveTo>
                <a:lnTo>
                  <a:pt x="497" y="595"/>
                </a:lnTo>
                <a:cubicBezTo>
                  <a:pt x="521" y="608"/>
                  <a:pt x="552" y="604"/>
                  <a:pt x="573" y="583"/>
                </a:cubicBezTo>
                <a:lnTo>
                  <a:pt x="763" y="393"/>
                </a:lnTo>
                <a:cubicBezTo>
                  <a:pt x="788" y="368"/>
                  <a:pt x="788" y="327"/>
                  <a:pt x="763" y="301"/>
                </a:cubicBezTo>
                <a:lnTo>
                  <a:pt x="508" y="46"/>
                </a:lnTo>
                <a:cubicBezTo>
                  <a:pt x="483" y="21"/>
                  <a:pt x="433" y="0"/>
                  <a:pt x="397" y="0"/>
                </a:cubicBezTo>
                <a:lnTo>
                  <a:pt x="729" y="332"/>
                </a:lnTo>
                <a:cubicBezTo>
                  <a:pt x="737" y="340"/>
                  <a:pt x="737" y="354"/>
                  <a:pt x="729" y="363"/>
                </a:cubicBezTo>
                <a:close/>
                <a:moveTo>
                  <a:pt x="635" y="363"/>
                </a:moveTo>
                <a:lnTo>
                  <a:pt x="404" y="595"/>
                </a:lnTo>
                <a:cubicBezTo>
                  <a:pt x="428" y="608"/>
                  <a:pt x="459" y="604"/>
                  <a:pt x="480" y="583"/>
                </a:cubicBezTo>
                <a:lnTo>
                  <a:pt x="670" y="393"/>
                </a:lnTo>
                <a:cubicBezTo>
                  <a:pt x="695" y="368"/>
                  <a:pt x="695" y="327"/>
                  <a:pt x="670" y="301"/>
                </a:cubicBezTo>
                <a:lnTo>
                  <a:pt x="415" y="46"/>
                </a:lnTo>
                <a:cubicBezTo>
                  <a:pt x="390" y="21"/>
                  <a:pt x="340" y="0"/>
                  <a:pt x="304" y="0"/>
                </a:cubicBezTo>
                <a:lnTo>
                  <a:pt x="635" y="332"/>
                </a:lnTo>
                <a:cubicBezTo>
                  <a:pt x="644" y="340"/>
                  <a:pt x="644" y="354"/>
                  <a:pt x="635" y="363"/>
                </a:cubicBezTo>
                <a:close/>
                <a:moveTo>
                  <a:pt x="152" y="217"/>
                </a:moveTo>
                <a:cubicBezTo>
                  <a:pt x="188" y="217"/>
                  <a:pt x="217" y="188"/>
                  <a:pt x="217" y="152"/>
                </a:cubicBezTo>
                <a:cubicBezTo>
                  <a:pt x="217" y="116"/>
                  <a:pt x="188" y="87"/>
                  <a:pt x="152" y="87"/>
                </a:cubicBezTo>
                <a:cubicBezTo>
                  <a:pt x="116" y="87"/>
                  <a:pt x="87" y="116"/>
                  <a:pt x="87" y="152"/>
                </a:cubicBezTo>
                <a:cubicBezTo>
                  <a:pt x="87" y="188"/>
                  <a:pt x="116" y="217"/>
                  <a:pt x="152" y="217"/>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50" name="Freeform 39"/>
          <p:cNvSpPr/>
          <p:nvPr/>
        </p:nvSpPr>
        <p:spPr>
          <a:xfrm>
            <a:off x="6989760" y="1720800"/>
            <a:ext cx="190440" cy="181080"/>
          </a:xfrm>
          <a:custGeom>
            <a:avLst/>
            <a:gdLst/>
            <a:ahLst/>
            <a:rect l="l" t="t" r="r" b="b"/>
            <a:pathLst>
              <a:path w="714" h="670">
                <a:moveTo>
                  <a:pt x="223" y="581"/>
                </a:moveTo>
                <a:lnTo>
                  <a:pt x="491" y="581"/>
                </a:lnTo>
                <a:lnTo>
                  <a:pt x="491" y="626"/>
                </a:lnTo>
                <a:lnTo>
                  <a:pt x="223" y="626"/>
                </a:lnTo>
                <a:lnTo>
                  <a:pt x="223" y="581"/>
                </a:lnTo>
                <a:close/>
                <a:moveTo>
                  <a:pt x="625" y="134"/>
                </a:moveTo>
                <a:lnTo>
                  <a:pt x="580" y="134"/>
                </a:lnTo>
                <a:lnTo>
                  <a:pt x="580" y="224"/>
                </a:lnTo>
                <a:lnTo>
                  <a:pt x="580" y="268"/>
                </a:lnTo>
                <a:lnTo>
                  <a:pt x="134" y="268"/>
                </a:lnTo>
                <a:lnTo>
                  <a:pt x="134" y="224"/>
                </a:lnTo>
                <a:lnTo>
                  <a:pt x="134" y="134"/>
                </a:lnTo>
                <a:lnTo>
                  <a:pt x="89" y="134"/>
                </a:lnTo>
                <a:cubicBezTo>
                  <a:pt x="44" y="134"/>
                  <a:pt x="0" y="179"/>
                  <a:pt x="0" y="224"/>
                </a:cubicBezTo>
                <a:lnTo>
                  <a:pt x="0" y="447"/>
                </a:lnTo>
                <a:cubicBezTo>
                  <a:pt x="0" y="492"/>
                  <a:pt x="44" y="536"/>
                  <a:pt x="89" y="536"/>
                </a:cubicBezTo>
                <a:lnTo>
                  <a:pt x="134" y="536"/>
                </a:lnTo>
                <a:lnTo>
                  <a:pt x="134" y="447"/>
                </a:lnTo>
                <a:lnTo>
                  <a:pt x="134" y="402"/>
                </a:lnTo>
                <a:lnTo>
                  <a:pt x="580" y="402"/>
                </a:lnTo>
                <a:lnTo>
                  <a:pt x="580" y="447"/>
                </a:lnTo>
                <a:lnTo>
                  <a:pt x="580" y="536"/>
                </a:lnTo>
                <a:lnTo>
                  <a:pt x="625" y="536"/>
                </a:lnTo>
                <a:cubicBezTo>
                  <a:pt x="670" y="536"/>
                  <a:pt x="714" y="492"/>
                  <a:pt x="714" y="447"/>
                </a:cubicBezTo>
                <a:lnTo>
                  <a:pt x="714" y="224"/>
                </a:lnTo>
                <a:cubicBezTo>
                  <a:pt x="714" y="179"/>
                  <a:pt x="670" y="134"/>
                  <a:pt x="625" y="134"/>
                </a:cubicBezTo>
                <a:close/>
                <a:moveTo>
                  <a:pt x="536" y="134"/>
                </a:moveTo>
                <a:lnTo>
                  <a:pt x="536" y="0"/>
                </a:lnTo>
                <a:lnTo>
                  <a:pt x="178" y="0"/>
                </a:lnTo>
                <a:lnTo>
                  <a:pt x="178" y="134"/>
                </a:lnTo>
                <a:lnTo>
                  <a:pt x="178" y="224"/>
                </a:lnTo>
                <a:lnTo>
                  <a:pt x="536" y="224"/>
                </a:lnTo>
                <a:lnTo>
                  <a:pt x="536" y="134"/>
                </a:lnTo>
                <a:close/>
                <a:moveTo>
                  <a:pt x="223" y="492"/>
                </a:moveTo>
                <a:lnTo>
                  <a:pt x="491" y="492"/>
                </a:lnTo>
                <a:lnTo>
                  <a:pt x="491" y="536"/>
                </a:lnTo>
                <a:lnTo>
                  <a:pt x="223" y="536"/>
                </a:lnTo>
                <a:lnTo>
                  <a:pt x="223" y="492"/>
                </a:lnTo>
                <a:close/>
                <a:moveTo>
                  <a:pt x="178" y="536"/>
                </a:moveTo>
                <a:lnTo>
                  <a:pt x="178" y="670"/>
                </a:lnTo>
                <a:lnTo>
                  <a:pt x="536" y="670"/>
                </a:lnTo>
                <a:lnTo>
                  <a:pt x="536" y="536"/>
                </a:lnTo>
                <a:lnTo>
                  <a:pt x="536" y="447"/>
                </a:lnTo>
                <a:lnTo>
                  <a:pt x="178" y="447"/>
                </a:lnTo>
                <a:lnTo>
                  <a:pt x="178" y="536"/>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51" name="Freeform 40"/>
          <p:cNvSpPr/>
          <p:nvPr/>
        </p:nvSpPr>
        <p:spPr>
          <a:xfrm>
            <a:off x="2589120" y="2282760"/>
            <a:ext cx="179640" cy="157320"/>
          </a:xfrm>
          <a:custGeom>
            <a:avLst/>
            <a:gdLst/>
            <a:ahLst/>
            <a:rect l="l" t="t" r="r" b="b"/>
            <a:pathLst>
              <a:path w="669" h="591">
                <a:moveTo>
                  <a:pt x="490" y="241"/>
                </a:moveTo>
                <a:lnTo>
                  <a:pt x="480" y="231"/>
                </a:lnTo>
                <a:lnTo>
                  <a:pt x="593" y="118"/>
                </a:lnTo>
                <a:lnTo>
                  <a:pt x="602" y="128"/>
                </a:lnTo>
                <a:lnTo>
                  <a:pt x="490" y="241"/>
                </a:lnTo>
                <a:close/>
                <a:moveTo>
                  <a:pt x="453" y="204"/>
                </a:moveTo>
                <a:lnTo>
                  <a:pt x="443" y="194"/>
                </a:lnTo>
                <a:lnTo>
                  <a:pt x="556" y="81"/>
                </a:lnTo>
                <a:lnTo>
                  <a:pt x="566" y="91"/>
                </a:lnTo>
                <a:lnTo>
                  <a:pt x="453" y="204"/>
                </a:lnTo>
                <a:close/>
                <a:moveTo>
                  <a:pt x="538" y="515"/>
                </a:moveTo>
                <a:cubicBezTo>
                  <a:pt x="551" y="515"/>
                  <a:pt x="562" y="526"/>
                  <a:pt x="562" y="539"/>
                </a:cubicBezTo>
                <a:cubicBezTo>
                  <a:pt x="562" y="552"/>
                  <a:pt x="551" y="563"/>
                  <a:pt x="538" y="563"/>
                </a:cubicBezTo>
                <a:cubicBezTo>
                  <a:pt x="525" y="563"/>
                  <a:pt x="514" y="552"/>
                  <a:pt x="514" y="539"/>
                </a:cubicBezTo>
                <a:cubicBezTo>
                  <a:pt x="514" y="526"/>
                  <a:pt x="525" y="515"/>
                  <a:pt x="538" y="515"/>
                </a:cubicBezTo>
                <a:close/>
                <a:moveTo>
                  <a:pt x="661" y="81"/>
                </a:moveTo>
                <a:lnTo>
                  <a:pt x="603" y="22"/>
                </a:lnTo>
                <a:cubicBezTo>
                  <a:pt x="594" y="14"/>
                  <a:pt x="581" y="14"/>
                  <a:pt x="573" y="22"/>
                </a:cubicBezTo>
                <a:cubicBezTo>
                  <a:pt x="568" y="27"/>
                  <a:pt x="567" y="33"/>
                  <a:pt x="567" y="40"/>
                </a:cubicBezTo>
                <a:cubicBezTo>
                  <a:pt x="563" y="40"/>
                  <a:pt x="559" y="41"/>
                  <a:pt x="555" y="44"/>
                </a:cubicBezTo>
                <a:lnTo>
                  <a:pt x="555" y="44"/>
                </a:lnTo>
                <a:lnTo>
                  <a:pt x="402" y="196"/>
                </a:lnTo>
                <a:cubicBezTo>
                  <a:pt x="404" y="209"/>
                  <a:pt x="400" y="223"/>
                  <a:pt x="393" y="234"/>
                </a:cubicBezTo>
                <a:lnTo>
                  <a:pt x="409" y="251"/>
                </a:lnTo>
                <a:lnTo>
                  <a:pt x="409" y="250"/>
                </a:lnTo>
                <a:lnTo>
                  <a:pt x="411" y="252"/>
                </a:lnTo>
                <a:lnTo>
                  <a:pt x="377" y="285"/>
                </a:lnTo>
                <a:lnTo>
                  <a:pt x="267" y="175"/>
                </a:lnTo>
                <a:cubicBezTo>
                  <a:pt x="279" y="131"/>
                  <a:pt x="268" y="81"/>
                  <a:pt x="233" y="46"/>
                </a:cubicBezTo>
                <a:cubicBezTo>
                  <a:pt x="198" y="12"/>
                  <a:pt x="149" y="0"/>
                  <a:pt x="105" y="12"/>
                </a:cubicBezTo>
                <a:lnTo>
                  <a:pt x="180" y="87"/>
                </a:lnTo>
                <a:lnTo>
                  <a:pt x="160" y="160"/>
                </a:lnTo>
                <a:lnTo>
                  <a:pt x="87" y="180"/>
                </a:lnTo>
                <a:lnTo>
                  <a:pt x="12" y="105"/>
                </a:lnTo>
                <a:cubicBezTo>
                  <a:pt x="0" y="149"/>
                  <a:pt x="12" y="198"/>
                  <a:pt x="46" y="233"/>
                </a:cubicBezTo>
                <a:cubicBezTo>
                  <a:pt x="83" y="269"/>
                  <a:pt x="135" y="280"/>
                  <a:pt x="181" y="265"/>
                </a:cubicBezTo>
                <a:lnTo>
                  <a:pt x="181" y="266"/>
                </a:lnTo>
                <a:lnTo>
                  <a:pt x="289" y="373"/>
                </a:lnTo>
                <a:lnTo>
                  <a:pt x="186" y="476"/>
                </a:lnTo>
                <a:lnTo>
                  <a:pt x="181" y="471"/>
                </a:lnTo>
                <a:lnTo>
                  <a:pt x="152" y="494"/>
                </a:lnTo>
                <a:lnTo>
                  <a:pt x="103" y="571"/>
                </a:lnTo>
                <a:lnTo>
                  <a:pt x="116" y="583"/>
                </a:lnTo>
                <a:lnTo>
                  <a:pt x="193" y="534"/>
                </a:lnTo>
                <a:lnTo>
                  <a:pt x="216" y="506"/>
                </a:lnTo>
                <a:lnTo>
                  <a:pt x="210" y="500"/>
                </a:lnTo>
                <a:lnTo>
                  <a:pt x="313" y="397"/>
                </a:lnTo>
                <a:lnTo>
                  <a:pt x="489" y="573"/>
                </a:lnTo>
                <a:cubicBezTo>
                  <a:pt x="501" y="585"/>
                  <a:pt x="517" y="591"/>
                  <a:pt x="533" y="591"/>
                </a:cubicBezTo>
                <a:cubicBezTo>
                  <a:pt x="549" y="591"/>
                  <a:pt x="565" y="585"/>
                  <a:pt x="577" y="573"/>
                </a:cubicBezTo>
                <a:cubicBezTo>
                  <a:pt x="601" y="549"/>
                  <a:pt x="601" y="509"/>
                  <a:pt x="577" y="485"/>
                </a:cubicBezTo>
                <a:lnTo>
                  <a:pt x="401" y="309"/>
                </a:lnTo>
                <a:lnTo>
                  <a:pt x="434" y="276"/>
                </a:lnTo>
                <a:lnTo>
                  <a:pt x="448" y="291"/>
                </a:lnTo>
                <a:cubicBezTo>
                  <a:pt x="460" y="283"/>
                  <a:pt x="474" y="280"/>
                  <a:pt x="488" y="281"/>
                </a:cubicBezTo>
                <a:lnTo>
                  <a:pt x="638" y="131"/>
                </a:lnTo>
                <a:lnTo>
                  <a:pt x="640" y="129"/>
                </a:lnTo>
                <a:lnTo>
                  <a:pt x="639" y="128"/>
                </a:lnTo>
                <a:cubicBezTo>
                  <a:pt x="642" y="125"/>
                  <a:pt x="644" y="120"/>
                  <a:pt x="644" y="116"/>
                </a:cubicBezTo>
                <a:cubicBezTo>
                  <a:pt x="650" y="117"/>
                  <a:pt x="657" y="115"/>
                  <a:pt x="661" y="110"/>
                </a:cubicBezTo>
                <a:cubicBezTo>
                  <a:pt x="669" y="102"/>
                  <a:pt x="669" y="89"/>
                  <a:pt x="661" y="8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52" name="Freeform 41"/>
          <p:cNvSpPr/>
          <p:nvPr/>
        </p:nvSpPr>
        <p:spPr>
          <a:xfrm>
            <a:off x="4543560" y="1720800"/>
            <a:ext cx="134640" cy="181080"/>
          </a:xfrm>
          <a:custGeom>
            <a:avLst/>
            <a:gdLst/>
            <a:ahLst/>
            <a:rect l="l" t="t" r="r" b="b"/>
            <a:pathLst>
              <a:path w="511" h="681">
                <a:moveTo>
                  <a:pt x="404" y="596"/>
                </a:moveTo>
                <a:lnTo>
                  <a:pt x="340" y="596"/>
                </a:lnTo>
                <a:lnTo>
                  <a:pt x="340" y="298"/>
                </a:lnTo>
                <a:lnTo>
                  <a:pt x="425" y="298"/>
                </a:lnTo>
                <a:lnTo>
                  <a:pt x="404" y="596"/>
                </a:lnTo>
                <a:close/>
                <a:moveTo>
                  <a:pt x="298" y="596"/>
                </a:moveTo>
                <a:lnTo>
                  <a:pt x="213" y="596"/>
                </a:lnTo>
                <a:lnTo>
                  <a:pt x="213" y="298"/>
                </a:lnTo>
                <a:lnTo>
                  <a:pt x="298" y="298"/>
                </a:lnTo>
                <a:lnTo>
                  <a:pt x="298" y="596"/>
                </a:lnTo>
                <a:close/>
                <a:moveTo>
                  <a:pt x="170" y="596"/>
                </a:moveTo>
                <a:lnTo>
                  <a:pt x="106" y="596"/>
                </a:lnTo>
                <a:lnTo>
                  <a:pt x="85" y="298"/>
                </a:lnTo>
                <a:lnTo>
                  <a:pt x="170" y="298"/>
                </a:lnTo>
                <a:lnTo>
                  <a:pt x="170" y="596"/>
                </a:lnTo>
                <a:close/>
                <a:moveTo>
                  <a:pt x="457" y="213"/>
                </a:moveTo>
                <a:lnTo>
                  <a:pt x="53" y="213"/>
                </a:lnTo>
                <a:cubicBezTo>
                  <a:pt x="30" y="213"/>
                  <a:pt x="12" y="232"/>
                  <a:pt x="14" y="255"/>
                </a:cubicBezTo>
                <a:lnTo>
                  <a:pt x="49" y="638"/>
                </a:lnTo>
                <a:cubicBezTo>
                  <a:pt x="51" y="662"/>
                  <a:pt x="72" y="681"/>
                  <a:pt x="96" y="681"/>
                </a:cubicBezTo>
                <a:lnTo>
                  <a:pt x="415" y="681"/>
                </a:lnTo>
                <a:cubicBezTo>
                  <a:pt x="438" y="681"/>
                  <a:pt x="459" y="662"/>
                  <a:pt x="461" y="638"/>
                </a:cubicBezTo>
                <a:lnTo>
                  <a:pt x="496" y="255"/>
                </a:lnTo>
                <a:cubicBezTo>
                  <a:pt x="498" y="232"/>
                  <a:pt x="481" y="213"/>
                  <a:pt x="457" y="213"/>
                </a:cubicBezTo>
                <a:close/>
                <a:moveTo>
                  <a:pt x="340" y="0"/>
                </a:moveTo>
                <a:lnTo>
                  <a:pt x="170" y="0"/>
                </a:lnTo>
                <a:cubicBezTo>
                  <a:pt x="153" y="0"/>
                  <a:pt x="136" y="14"/>
                  <a:pt x="134" y="31"/>
                </a:cubicBezTo>
                <a:lnTo>
                  <a:pt x="121" y="120"/>
                </a:lnTo>
                <a:cubicBezTo>
                  <a:pt x="119" y="138"/>
                  <a:pt x="131" y="152"/>
                  <a:pt x="149" y="152"/>
                </a:cubicBezTo>
                <a:lnTo>
                  <a:pt x="362" y="152"/>
                </a:lnTo>
                <a:cubicBezTo>
                  <a:pt x="379" y="152"/>
                  <a:pt x="392" y="138"/>
                  <a:pt x="389" y="120"/>
                </a:cubicBezTo>
                <a:lnTo>
                  <a:pt x="377" y="31"/>
                </a:lnTo>
                <a:cubicBezTo>
                  <a:pt x="374" y="14"/>
                  <a:pt x="358" y="0"/>
                  <a:pt x="340" y="0"/>
                </a:cubicBezTo>
                <a:close/>
                <a:moveTo>
                  <a:pt x="335" y="42"/>
                </a:moveTo>
                <a:lnTo>
                  <a:pt x="345" y="110"/>
                </a:lnTo>
                <a:lnTo>
                  <a:pt x="166" y="110"/>
                </a:lnTo>
                <a:lnTo>
                  <a:pt x="175" y="42"/>
                </a:lnTo>
                <a:lnTo>
                  <a:pt x="335" y="42"/>
                </a:lnTo>
                <a:close/>
                <a:moveTo>
                  <a:pt x="447" y="85"/>
                </a:moveTo>
                <a:lnTo>
                  <a:pt x="64" y="85"/>
                </a:lnTo>
                <a:cubicBezTo>
                  <a:pt x="28" y="85"/>
                  <a:pt x="0" y="113"/>
                  <a:pt x="0" y="149"/>
                </a:cubicBezTo>
                <a:lnTo>
                  <a:pt x="0" y="170"/>
                </a:lnTo>
                <a:lnTo>
                  <a:pt x="511" y="170"/>
                </a:lnTo>
                <a:lnTo>
                  <a:pt x="511" y="149"/>
                </a:lnTo>
                <a:cubicBezTo>
                  <a:pt x="511" y="113"/>
                  <a:pt x="482" y="85"/>
                  <a:pt x="447" y="8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53" name="Freeform 42"/>
          <p:cNvSpPr/>
          <p:nvPr/>
        </p:nvSpPr>
        <p:spPr>
          <a:xfrm>
            <a:off x="6654960" y="4510080"/>
            <a:ext cx="122040" cy="155520"/>
          </a:xfrm>
          <a:custGeom>
            <a:avLst/>
            <a:gdLst/>
            <a:ahLst/>
            <a:rect l="l" t="t" r="r" b="b"/>
            <a:pathLst>
              <a:path w="457" h="582">
                <a:moveTo>
                  <a:pt x="419" y="0"/>
                </a:moveTo>
                <a:cubicBezTo>
                  <a:pt x="409" y="0"/>
                  <a:pt x="400" y="4"/>
                  <a:pt x="392" y="12"/>
                </a:cubicBezTo>
                <a:lnTo>
                  <a:pt x="272" y="89"/>
                </a:lnTo>
                <a:cubicBezTo>
                  <a:pt x="242" y="55"/>
                  <a:pt x="206" y="28"/>
                  <a:pt x="163" y="11"/>
                </a:cubicBezTo>
                <a:cubicBezTo>
                  <a:pt x="158" y="9"/>
                  <a:pt x="153" y="8"/>
                  <a:pt x="148" y="8"/>
                </a:cubicBezTo>
                <a:cubicBezTo>
                  <a:pt x="137" y="8"/>
                  <a:pt x="128" y="11"/>
                  <a:pt x="121" y="19"/>
                </a:cubicBezTo>
                <a:cubicBezTo>
                  <a:pt x="113" y="26"/>
                  <a:pt x="110" y="35"/>
                  <a:pt x="110" y="46"/>
                </a:cubicBezTo>
                <a:cubicBezTo>
                  <a:pt x="110" y="61"/>
                  <a:pt x="117" y="73"/>
                  <a:pt x="133" y="81"/>
                </a:cubicBezTo>
                <a:cubicBezTo>
                  <a:pt x="155" y="92"/>
                  <a:pt x="170" y="101"/>
                  <a:pt x="178" y="107"/>
                </a:cubicBezTo>
                <a:cubicBezTo>
                  <a:pt x="188" y="114"/>
                  <a:pt x="197" y="122"/>
                  <a:pt x="206" y="131"/>
                </a:cubicBezTo>
                <a:lnTo>
                  <a:pt x="194" y="139"/>
                </a:lnTo>
                <a:lnTo>
                  <a:pt x="38" y="139"/>
                </a:lnTo>
                <a:cubicBezTo>
                  <a:pt x="28" y="139"/>
                  <a:pt x="19" y="142"/>
                  <a:pt x="11" y="150"/>
                </a:cubicBezTo>
                <a:cubicBezTo>
                  <a:pt x="4" y="157"/>
                  <a:pt x="0" y="166"/>
                  <a:pt x="0" y="177"/>
                </a:cubicBezTo>
                <a:lnTo>
                  <a:pt x="0" y="405"/>
                </a:lnTo>
                <a:cubicBezTo>
                  <a:pt x="0" y="416"/>
                  <a:pt x="4" y="425"/>
                  <a:pt x="11" y="432"/>
                </a:cubicBezTo>
                <a:cubicBezTo>
                  <a:pt x="19" y="440"/>
                  <a:pt x="28" y="443"/>
                  <a:pt x="38" y="443"/>
                </a:cubicBezTo>
                <a:lnTo>
                  <a:pt x="194" y="443"/>
                </a:lnTo>
                <a:lnTo>
                  <a:pt x="206" y="451"/>
                </a:lnTo>
                <a:cubicBezTo>
                  <a:pt x="197" y="460"/>
                  <a:pt x="188" y="468"/>
                  <a:pt x="178" y="475"/>
                </a:cubicBezTo>
                <a:cubicBezTo>
                  <a:pt x="170" y="481"/>
                  <a:pt x="155" y="490"/>
                  <a:pt x="133" y="501"/>
                </a:cubicBezTo>
                <a:cubicBezTo>
                  <a:pt x="117" y="509"/>
                  <a:pt x="110" y="521"/>
                  <a:pt x="110" y="536"/>
                </a:cubicBezTo>
                <a:cubicBezTo>
                  <a:pt x="110" y="547"/>
                  <a:pt x="113" y="556"/>
                  <a:pt x="121" y="563"/>
                </a:cubicBezTo>
                <a:cubicBezTo>
                  <a:pt x="128" y="571"/>
                  <a:pt x="138" y="574"/>
                  <a:pt x="148" y="574"/>
                </a:cubicBezTo>
                <a:cubicBezTo>
                  <a:pt x="153" y="574"/>
                  <a:pt x="158" y="573"/>
                  <a:pt x="163" y="571"/>
                </a:cubicBezTo>
                <a:cubicBezTo>
                  <a:pt x="206" y="553"/>
                  <a:pt x="242" y="527"/>
                  <a:pt x="272" y="493"/>
                </a:cubicBezTo>
                <a:lnTo>
                  <a:pt x="392" y="570"/>
                </a:lnTo>
                <a:cubicBezTo>
                  <a:pt x="400" y="578"/>
                  <a:pt x="409" y="582"/>
                  <a:pt x="419" y="582"/>
                </a:cubicBezTo>
                <a:cubicBezTo>
                  <a:pt x="429" y="582"/>
                  <a:pt x="438" y="578"/>
                  <a:pt x="446" y="570"/>
                </a:cubicBezTo>
                <a:cubicBezTo>
                  <a:pt x="453" y="563"/>
                  <a:pt x="457" y="554"/>
                  <a:pt x="457" y="544"/>
                </a:cubicBezTo>
                <a:lnTo>
                  <a:pt x="457" y="38"/>
                </a:lnTo>
                <a:cubicBezTo>
                  <a:pt x="457" y="28"/>
                  <a:pt x="453" y="19"/>
                  <a:pt x="446" y="12"/>
                </a:cubicBezTo>
                <a:cubicBezTo>
                  <a:pt x="438" y="4"/>
                  <a:pt x="429" y="0"/>
                  <a:pt x="419"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54" name="Freeform 43"/>
          <p:cNvSpPr/>
          <p:nvPr/>
        </p:nvSpPr>
        <p:spPr>
          <a:xfrm>
            <a:off x="4525920" y="2254320"/>
            <a:ext cx="169920" cy="216000"/>
          </a:xfrm>
          <a:custGeom>
            <a:avLst/>
            <a:gdLst/>
            <a:ahLst/>
            <a:rect l="l" t="t" r="r" b="b"/>
            <a:pathLst>
              <a:path w="635" h="801">
                <a:moveTo>
                  <a:pt x="405" y="582"/>
                </a:moveTo>
                <a:cubicBezTo>
                  <a:pt x="405" y="589"/>
                  <a:pt x="399" y="595"/>
                  <a:pt x="392" y="595"/>
                </a:cubicBezTo>
                <a:lnTo>
                  <a:pt x="96" y="595"/>
                </a:lnTo>
                <a:cubicBezTo>
                  <a:pt x="89" y="595"/>
                  <a:pt x="83" y="589"/>
                  <a:pt x="83" y="582"/>
                </a:cubicBezTo>
                <a:cubicBezTo>
                  <a:pt x="83" y="575"/>
                  <a:pt x="89" y="569"/>
                  <a:pt x="96" y="569"/>
                </a:cubicBezTo>
                <a:lnTo>
                  <a:pt x="392" y="569"/>
                </a:lnTo>
                <a:cubicBezTo>
                  <a:pt x="399" y="569"/>
                  <a:pt x="405" y="575"/>
                  <a:pt x="405" y="582"/>
                </a:cubicBezTo>
                <a:close/>
                <a:moveTo>
                  <a:pt x="561" y="739"/>
                </a:moveTo>
                <a:cubicBezTo>
                  <a:pt x="552" y="739"/>
                  <a:pt x="545" y="732"/>
                  <a:pt x="545" y="722"/>
                </a:cubicBezTo>
                <a:lnTo>
                  <a:pt x="545" y="196"/>
                </a:lnTo>
                <a:cubicBezTo>
                  <a:pt x="545" y="194"/>
                  <a:pt x="544" y="192"/>
                  <a:pt x="543" y="191"/>
                </a:cubicBezTo>
                <a:lnTo>
                  <a:pt x="444" y="92"/>
                </a:lnTo>
                <a:cubicBezTo>
                  <a:pt x="442" y="90"/>
                  <a:pt x="441" y="90"/>
                  <a:pt x="439" y="90"/>
                </a:cubicBezTo>
                <a:lnTo>
                  <a:pt x="72" y="90"/>
                </a:lnTo>
                <a:cubicBezTo>
                  <a:pt x="63" y="90"/>
                  <a:pt x="56" y="82"/>
                  <a:pt x="56" y="73"/>
                </a:cubicBezTo>
                <a:cubicBezTo>
                  <a:pt x="56" y="64"/>
                  <a:pt x="63" y="57"/>
                  <a:pt x="72" y="57"/>
                </a:cubicBezTo>
                <a:lnTo>
                  <a:pt x="439" y="57"/>
                </a:lnTo>
                <a:cubicBezTo>
                  <a:pt x="450" y="57"/>
                  <a:pt x="460" y="61"/>
                  <a:pt x="467" y="68"/>
                </a:cubicBezTo>
                <a:lnTo>
                  <a:pt x="566" y="167"/>
                </a:lnTo>
                <a:cubicBezTo>
                  <a:pt x="574" y="175"/>
                  <a:pt x="578" y="185"/>
                  <a:pt x="578" y="196"/>
                </a:cubicBezTo>
                <a:lnTo>
                  <a:pt x="578" y="722"/>
                </a:lnTo>
                <a:cubicBezTo>
                  <a:pt x="578" y="732"/>
                  <a:pt x="571" y="739"/>
                  <a:pt x="561" y="739"/>
                </a:cubicBezTo>
                <a:close/>
                <a:moveTo>
                  <a:pt x="618" y="682"/>
                </a:moveTo>
                <a:cubicBezTo>
                  <a:pt x="609" y="682"/>
                  <a:pt x="602" y="675"/>
                  <a:pt x="602" y="666"/>
                </a:cubicBezTo>
                <a:lnTo>
                  <a:pt x="602" y="139"/>
                </a:lnTo>
                <a:cubicBezTo>
                  <a:pt x="602" y="137"/>
                  <a:pt x="601" y="135"/>
                  <a:pt x="600" y="134"/>
                </a:cubicBezTo>
                <a:lnTo>
                  <a:pt x="501" y="35"/>
                </a:lnTo>
                <a:cubicBezTo>
                  <a:pt x="499" y="34"/>
                  <a:pt x="497" y="33"/>
                  <a:pt x="496" y="33"/>
                </a:cubicBezTo>
                <a:lnTo>
                  <a:pt x="129" y="33"/>
                </a:lnTo>
                <a:cubicBezTo>
                  <a:pt x="120" y="33"/>
                  <a:pt x="113" y="25"/>
                  <a:pt x="113" y="16"/>
                </a:cubicBezTo>
                <a:cubicBezTo>
                  <a:pt x="113" y="7"/>
                  <a:pt x="120" y="0"/>
                  <a:pt x="129" y="0"/>
                </a:cubicBezTo>
                <a:lnTo>
                  <a:pt x="496" y="0"/>
                </a:lnTo>
                <a:cubicBezTo>
                  <a:pt x="506" y="0"/>
                  <a:pt x="516" y="4"/>
                  <a:pt x="524" y="11"/>
                </a:cubicBezTo>
                <a:lnTo>
                  <a:pt x="623" y="111"/>
                </a:lnTo>
                <a:cubicBezTo>
                  <a:pt x="630" y="118"/>
                  <a:pt x="635" y="128"/>
                  <a:pt x="635" y="139"/>
                </a:cubicBezTo>
                <a:lnTo>
                  <a:pt x="635" y="666"/>
                </a:lnTo>
                <a:cubicBezTo>
                  <a:pt x="635" y="675"/>
                  <a:pt x="627" y="682"/>
                  <a:pt x="618" y="682"/>
                </a:cubicBezTo>
                <a:close/>
                <a:moveTo>
                  <a:pt x="405" y="495"/>
                </a:moveTo>
                <a:cubicBezTo>
                  <a:pt x="405" y="503"/>
                  <a:pt x="399" y="508"/>
                  <a:pt x="392" y="508"/>
                </a:cubicBezTo>
                <a:lnTo>
                  <a:pt x="96" y="508"/>
                </a:lnTo>
                <a:cubicBezTo>
                  <a:pt x="89" y="508"/>
                  <a:pt x="83" y="503"/>
                  <a:pt x="83" y="495"/>
                </a:cubicBezTo>
                <a:cubicBezTo>
                  <a:pt x="83" y="488"/>
                  <a:pt x="89" y="482"/>
                  <a:pt x="96" y="482"/>
                </a:cubicBezTo>
                <a:lnTo>
                  <a:pt x="392" y="482"/>
                </a:lnTo>
                <a:cubicBezTo>
                  <a:pt x="399" y="482"/>
                  <a:pt x="405" y="488"/>
                  <a:pt x="405" y="495"/>
                </a:cubicBezTo>
                <a:close/>
                <a:moveTo>
                  <a:pt x="405" y="410"/>
                </a:moveTo>
                <a:cubicBezTo>
                  <a:pt x="405" y="418"/>
                  <a:pt x="399" y="423"/>
                  <a:pt x="392" y="423"/>
                </a:cubicBezTo>
                <a:lnTo>
                  <a:pt x="96" y="423"/>
                </a:lnTo>
                <a:cubicBezTo>
                  <a:pt x="89" y="423"/>
                  <a:pt x="83" y="418"/>
                  <a:pt x="83" y="410"/>
                </a:cubicBezTo>
                <a:cubicBezTo>
                  <a:pt x="83" y="403"/>
                  <a:pt x="89" y="397"/>
                  <a:pt x="96" y="397"/>
                </a:cubicBezTo>
                <a:lnTo>
                  <a:pt x="392" y="397"/>
                </a:lnTo>
                <a:cubicBezTo>
                  <a:pt x="399" y="397"/>
                  <a:pt x="405" y="403"/>
                  <a:pt x="405" y="410"/>
                </a:cubicBezTo>
                <a:close/>
                <a:moveTo>
                  <a:pt x="96" y="310"/>
                </a:moveTo>
                <a:lnTo>
                  <a:pt x="392" y="310"/>
                </a:lnTo>
                <a:cubicBezTo>
                  <a:pt x="399" y="310"/>
                  <a:pt x="405" y="315"/>
                  <a:pt x="405" y="323"/>
                </a:cubicBezTo>
                <a:cubicBezTo>
                  <a:pt x="405" y="330"/>
                  <a:pt x="399" y="336"/>
                  <a:pt x="392" y="336"/>
                </a:cubicBezTo>
                <a:lnTo>
                  <a:pt x="96" y="336"/>
                </a:lnTo>
                <a:cubicBezTo>
                  <a:pt x="89" y="336"/>
                  <a:pt x="83" y="330"/>
                  <a:pt x="83" y="323"/>
                </a:cubicBezTo>
                <a:cubicBezTo>
                  <a:pt x="83" y="315"/>
                  <a:pt x="89" y="310"/>
                  <a:pt x="96" y="310"/>
                </a:cubicBezTo>
                <a:close/>
                <a:moveTo>
                  <a:pt x="465" y="760"/>
                </a:moveTo>
                <a:cubicBezTo>
                  <a:pt x="465" y="763"/>
                  <a:pt x="462" y="766"/>
                  <a:pt x="459" y="766"/>
                </a:cubicBezTo>
                <a:lnTo>
                  <a:pt x="41" y="766"/>
                </a:lnTo>
                <a:cubicBezTo>
                  <a:pt x="38" y="766"/>
                  <a:pt x="35" y="763"/>
                  <a:pt x="35" y="760"/>
                </a:cubicBezTo>
                <a:lnTo>
                  <a:pt x="35" y="166"/>
                </a:lnTo>
                <a:cubicBezTo>
                  <a:pt x="35" y="162"/>
                  <a:pt x="38" y="159"/>
                  <a:pt x="41" y="159"/>
                </a:cubicBezTo>
                <a:lnTo>
                  <a:pt x="357" y="159"/>
                </a:lnTo>
                <a:lnTo>
                  <a:pt x="357" y="260"/>
                </a:lnTo>
                <a:cubicBezTo>
                  <a:pt x="357" y="270"/>
                  <a:pt x="365" y="277"/>
                  <a:pt x="374" y="277"/>
                </a:cubicBezTo>
                <a:lnTo>
                  <a:pt x="465" y="277"/>
                </a:lnTo>
                <a:lnTo>
                  <a:pt x="465" y="760"/>
                </a:lnTo>
                <a:close/>
                <a:moveTo>
                  <a:pt x="392" y="186"/>
                </a:moveTo>
                <a:lnTo>
                  <a:pt x="444" y="243"/>
                </a:lnTo>
                <a:lnTo>
                  <a:pt x="392" y="243"/>
                </a:lnTo>
                <a:lnTo>
                  <a:pt x="392" y="186"/>
                </a:lnTo>
                <a:close/>
                <a:moveTo>
                  <a:pt x="382" y="124"/>
                </a:moveTo>
                <a:lnTo>
                  <a:pt x="41" y="124"/>
                </a:lnTo>
                <a:cubicBezTo>
                  <a:pt x="18" y="124"/>
                  <a:pt x="0" y="143"/>
                  <a:pt x="0" y="166"/>
                </a:cubicBezTo>
                <a:lnTo>
                  <a:pt x="0" y="760"/>
                </a:lnTo>
                <a:cubicBezTo>
                  <a:pt x="0" y="783"/>
                  <a:pt x="18" y="801"/>
                  <a:pt x="41" y="801"/>
                </a:cubicBezTo>
                <a:lnTo>
                  <a:pt x="459" y="801"/>
                </a:lnTo>
                <a:cubicBezTo>
                  <a:pt x="482" y="801"/>
                  <a:pt x="500" y="783"/>
                  <a:pt x="500" y="760"/>
                </a:cubicBezTo>
                <a:lnTo>
                  <a:pt x="500" y="253"/>
                </a:lnTo>
                <a:lnTo>
                  <a:pt x="382" y="124"/>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55" name="Freeform 44"/>
          <p:cNvSpPr/>
          <p:nvPr/>
        </p:nvSpPr>
        <p:spPr>
          <a:xfrm>
            <a:off x="4867200" y="1720800"/>
            <a:ext cx="162000" cy="181080"/>
          </a:xfrm>
          <a:custGeom>
            <a:avLst/>
            <a:gdLst/>
            <a:ahLst/>
            <a:rect l="l" t="t" r="r" b="b"/>
            <a:pathLst>
              <a:path w="610" h="679">
                <a:moveTo>
                  <a:pt x="407" y="543"/>
                </a:moveTo>
                <a:cubicBezTo>
                  <a:pt x="425" y="543"/>
                  <a:pt x="441" y="528"/>
                  <a:pt x="441" y="509"/>
                </a:cubicBezTo>
                <a:lnTo>
                  <a:pt x="441" y="237"/>
                </a:lnTo>
                <a:cubicBezTo>
                  <a:pt x="441" y="219"/>
                  <a:pt x="425" y="204"/>
                  <a:pt x="407" y="204"/>
                </a:cubicBezTo>
                <a:cubicBezTo>
                  <a:pt x="388" y="204"/>
                  <a:pt x="373" y="219"/>
                  <a:pt x="373" y="237"/>
                </a:cubicBezTo>
                <a:lnTo>
                  <a:pt x="373" y="509"/>
                </a:lnTo>
                <a:cubicBezTo>
                  <a:pt x="373" y="528"/>
                  <a:pt x="388" y="543"/>
                  <a:pt x="407" y="543"/>
                </a:cubicBezTo>
                <a:close/>
                <a:moveTo>
                  <a:pt x="203" y="543"/>
                </a:moveTo>
                <a:cubicBezTo>
                  <a:pt x="222" y="543"/>
                  <a:pt x="237" y="528"/>
                  <a:pt x="237" y="509"/>
                </a:cubicBezTo>
                <a:lnTo>
                  <a:pt x="237" y="237"/>
                </a:lnTo>
                <a:cubicBezTo>
                  <a:pt x="237" y="219"/>
                  <a:pt x="222" y="204"/>
                  <a:pt x="203" y="204"/>
                </a:cubicBezTo>
                <a:cubicBezTo>
                  <a:pt x="184" y="204"/>
                  <a:pt x="169" y="219"/>
                  <a:pt x="169" y="237"/>
                </a:cubicBezTo>
                <a:lnTo>
                  <a:pt x="169" y="509"/>
                </a:lnTo>
                <a:cubicBezTo>
                  <a:pt x="169" y="528"/>
                  <a:pt x="184" y="543"/>
                  <a:pt x="203" y="543"/>
                </a:cubicBezTo>
                <a:close/>
                <a:moveTo>
                  <a:pt x="509" y="611"/>
                </a:moveTo>
                <a:lnTo>
                  <a:pt x="101" y="611"/>
                </a:lnTo>
                <a:lnTo>
                  <a:pt x="101" y="136"/>
                </a:lnTo>
                <a:lnTo>
                  <a:pt x="509" y="136"/>
                </a:lnTo>
                <a:lnTo>
                  <a:pt x="509" y="611"/>
                </a:lnTo>
                <a:close/>
                <a:moveTo>
                  <a:pt x="576" y="68"/>
                </a:moveTo>
                <a:lnTo>
                  <a:pt x="475" y="68"/>
                </a:lnTo>
                <a:lnTo>
                  <a:pt x="475" y="34"/>
                </a:lnTo>
                <a:cubicBezTo>
                  <a:pt x="475" y="15"/>
                  <a:pt x="459" y="0"/>
                  <a:pt x="441" y="0"/>
                </a:cubicBezTo>
                <a:lnTo>
                  <a:pt x="169" y="0"/>
                </a:lnTo>
                <a:cubicBezTo>
                  <a:pt x="150" y="0"/>
                  <a:pt x="135" y="15"/>
                  <a:pt x="135" y="34"/>
                </a:cubicBezTo>
                <a:lnTo>
                  <a:pt x="135" y="68"/>
                </a:lnTo>
                <a:lnTo>
                  <a:pt x="33" y="68"/>
                </a:lnTo>
                <a:cubicBezTo>
                  <a:pt x="15" y="68"/>
                  <a:pt x="0" y="83"/>
                  <a:pt x="0" y="102"/>
                </a:cubicBezTo>
                <a:cubicBezTo>
                  <a:pt x="0" y="120"/>
                  <a:pt x="15" y="136"/>
                  <a:pt x="33" y="136"/>
                </a:cubicBezTo>
                <a:lnTo>
                  <a:pt x="33" y="611"/>
                </a:lnTo>
                <a:cubicBezTo>
                  <a:pt x="33" y="648"/>
                  <a:pt x="64" y="679"/>
                  <a:pt x="101" y="679"/>
                </a:cubicBezTo>
                <a:lnTo>
                  <a:pt x="509" y="679"/>
                </a:lnTo>
                <a:cubicBezTo>
                  <a:pt x="546" y="679"/>
                  <a:pt x="576" y="648"/>
                  <a:pt x="576" y="611"/>
                </a:cubicBezTo>
                <a:lnTo>
                  <a:pt x="576" y="136"/>
                </a:lnTo>
                <a:cubicBezTo>
                  <a:pt x="595" y="136"/>
                  <a:pt x="610" y="120"/>
                  <a:pt x="610" y="102"/>
                </a:cubicBezTo>
                <a:cubicBezTo>
                  <a:pt x="610" y="83"/>
                  <a:pt x="595" y="68"/>
                  <a:pt x="576" y="68"/>
                </a:cubicBezTo>
                <a:close/>
                <a:moveTo>
                  <a:pt x="305" y="543"/>
                </a:moveTo>
                <a:cubicBezTo>
                  <a:pt x="324" y="543"/>
                  <a:pt x="339" y="528"/>
                  <a:pt x="339" y="509"/>
                </a:cubicBezTo>
                <a:lnTo>
                  <a:pt x="339" y="237"/>
                </a:lnTo>
                <a:cubicBezTo>
                  <a:pt x="339" y="219"/>
                  <a:pt x="324" y="204"/>
                  <a:pt x="305" y="204"/>
                </a:cubicBezTo>
                <a:cubicBezTo>
                  <a:pt x="286" y="204"/>
                  <a:pt x="271" y="219"/>
                  <a:pt x="271" y="237"/>
                </a:cubicBezTo>
                <a:lnTo>
                  <a:pt x="271" y="509"/>
                </a:lnTo>
                <a:cubicBezTo>
                  <a:pt x="271" y="528"/>
                  <a:pt x="286" y="543"/>
                  <a:pt x="305" y="54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56" name="Freeform 45"/>
          <p:cNvSpPr/>
          <p:nvPr/>
        </p:nvSpPr>
        <p:spPr>
          <a:xfrm>
            <a:off x="5224320" y="5154480"/>
            <a:ext cx="182880" cy="203400"/>
          </a:xfrm>
          <a:custGeom>
            <a:avLst/>
            <a:gdLst/>
            <a:ahLst/>
            <a:rect l="l" t="t" r="r" b="b"/>
            <a:pathLst>
              <a:path w="678" h="764">
                <a:moveTo>
                  <a:pt x="378" y="586"/>
                </a:moveTo>
                <a:lnTo>
                  <a:pt x="266" y="653"/>
                </a:lnTo>
                <a:cubicBezTo>
                  <a:pt x="250" y="663"/>
                  <a:pt x="250" y="679"/>
                  <a:pt x="266" y="688"/>
                </a:cubicBezTo>
                <a:lnTo>
                  <a:pt x="377" y="754"/>
                </a:lnTo>
                <a:cubicBezTo>
                  <a:pt x="393" y="764"/>
                  <a:pt x="406" y="757"/>
                  <a:pt x="406" y="738"/>
                </a:cubicBezTo>
                <a:lnTo>
                  <a:pt x="406" y="602"/>
                </a:lnTo>
                <a:cubicBezTo>
                  <a:pt x="406" y="584"/>
                  <a:pt x="394" y="576"/>
                  <a:pt x="378" y="586"/>
                </a:cubicBezTo>
                <a:close/>
                <a:moveTo>
                  <a:pt x="301" y="178"/>
                </a:moveTo>
                <a:lnTo>
                  <a:pt x="411" y="112"/>
                </a:lnTo>
                <a:cubicBezTo>
                  <a:pt x="427" y="103"/>
                  <a:pt x="427" y="87"/>
                  <a:pt x="411" y="77"/>
                </a:cubicBezTo>
                <a:lnTo>
                  <a:pt x="300" y="10"/>
                </a:lnTo>
                <a:cubicBezTo>
                  <a:pt x="284" y="0"/>
                  <a:pt x="271" y="8"/>
                  <a:pt x="271" y="26"/>
                </a:cubicBezTo>
                <a:lnTo>
                  <a:pt x="272" y="162"/>
                </a:lnTo>
                <a:cubicBezTo>
                  <a:pt x="272" y="181"/>
                  <a:pt x="285" y="188"/>
                  <a:pt x="301" y="178"/>
                </a:cubicBezTo>
                <a:close/>
                <a:moveTo>
                  <a:pt x="560" y="125"/>
                </a:moveTo>
                <a:cubicBezTo>
                  <a:pt x="525" y="94"/>
                  <a:pt x="474" y="145"/>
                  <a:pt x="508" y="170"/>
                </a:cubicBezTo>
                <a:cubicBezTo>
                  <a:pt x="570" y="220"/>
                  <a:pt x="610" y="296"/>
                  <a:pt x="610" y="382"/>
                </a:cubicBezTo>
                <a:cubicBezTo>
                  <a:pt x="610" y="508"/>
                  <a:pt x="523" y="614"/>
                  <a:pt x="407" y="644"/>
                </a:cubicBezTo>
                <a:lnTo>
                  <a:pt x="407" y="714"/>
                </a:lnTo>
                <a:cubicBezTo>
                  <a:pt x="561" y="683"/>
                  <a:pt x="678" y="546"/>
                  <a:pt x="678" y="382"/>
                </a:cubicBezTo>
                <a:cubicBezTo>
                  <a:pt x="678" y="279"/>
                  <a:pt x="632" y="187"/>
                  <a:pt x="560" y="125"/>
                </a:cubicBezTo>
                <a:close/>
                <a:moveTo>
                  <a:pt x="169" y="593"/>
                </a:moveTo>
                <a:cubicBezTo>
                  <a:pt x="107" y="544"/>
                  <a:pt x="68" y="467"/>
                  <a:pt x="68" y="382"/>
                </a:cubicBezTo>
                <a:cubicBezTo>
                  <a:pt x="68" y="256"/>
                  <a:pt x="154" y="150"/>
                  <a:pt x="271" y="120"/>
                </a:cubicBezTo>
                <a:lnTo>
                  <a:pt x="271" y="50"/>
                </a:lnTo>
                <a:cubicBezTo>
                  <a:pt x="116" y="81"/>
                  <a:pt x="0" y="218"/>
                  <a:pt x="0" y="382"/>
                </a:cubicBezTo>
                <a:cubicBezTo>
                  <a:pt x="0" y="483"/>
                  <a:pt x="44" y="574"/>
                  <a:pt x="115" y="636"/>
                </a:cubicBezTo>
                <a:cubicBezTo>
                  <a:pt x="169" y="687"/>
                  <a:pt x="203" y="619"/>
                  <a:pt x="169" y="59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57" name="Freeform 46"/>
          <p:cNvSpPr/>
          <p:nvPr/>
        </p:nvSpPr>
        <p:spPr>
          <a:xfrm>
            <a:off x="7335720" y="2943360"/>
            <a:ext cx="173160" cy="171360"/>
          </a:xfrm>
          <a:custGeom>
            <a:avLst/>
            <a:gdLst/>
            <a:ahLst/>
            <a:rect l="l" t="t" r="r" b="b"/>
            <a:pathLst>
              <a:path w="644" h="643">
                <a:moveTo>
                  <a:pt x="563" y="161"/>
                </a:moveTo>
                <a:lnTo>
                  <a:pt x="484" y="161"/>
                </a:lnTo>
                <a:lnTo>
                  <a:pt x="563" y="80"/>
                </a:lnTo>
                <a:lnTo>
                  <a:pt x="484" y="0"/>
                </a:lnTo>
                <a:lnTo>
                  <a:pt x="372" y="0"/>
                </a:lnTo>
                <a:lnTo>
                  <a:pt x="453" y="80"/>
                </a:lnTo>
                <a:lnTo>
                  <a:pt x="370" y="161"/>
                </a:lnTo>
                <a:lnTo>
                  <a:pt x="275" y="161"/>
                </a:lnTo>
                <a:lnTo>
                  <a:pt x="357" y="80"/>
                </a:lnTo>
                <a:lnTo>
                  <a:pt x="276" y="0"/>
                </a:lnTo>
                <a:lnTo>
                  <a:pt x="163" y="0"/>
                </a:lnTo>
                <a:lnTo>
                  <a:pt x="243" y="80"/>
                </a:lnTo>
                <a:lnTo>
                  <a:pt x="161" y="161"/>
                </a:lnTo>
                <a:lnTo>
                  <a:pt x="80" y="161"/>
                </a:lnTo>
                <a:lnTo>
                  <a:pt x="162" y="80"/>
                </a:lnTo>
                <a:lnTo>
                  <a:pt x="81" y="0"/>
                </a:lnTo>
                <a:lnTo>
                  <a:pt x="0" y="0"/>
                </a:lnTo>
                <a:lnTo>
                  <a:pt x="0" y="643"/>
                </a:lnTo>
                <a:lnTo>
                  <a:pt x="644" y="643"/>
                </a:lnTo>
                <a:lnTo>
                  <a:pt x="644" y="0"/>
                </a:lnTo>
                <a:lnTo>
                  <a:pt x="565" y="0"/>
                </a:lnTo>
                <a:lnTo>
                  <a:pt x="644" y="80"/>
                </a:lnTo>
                <a:lnTo>
                  <a:pt x="563" y="161"/>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58" name="Freeform 47"/>
          <p:cNvSpPr/>
          <p:nvPr/>
        </p:nvSpPr>
        <p:spPr>
          <a:xfrm>
            <a:off x="3271680" y="1711440"/>
            <a:ext cx="90720" cy="203040"/>
          </a:xfrm>
          <a:custGeom>
            <a:avLst/>
            <a:gdLst/>
            <a:ahLst/>
            <a:rect l="l" t="t" r="r" b="b"/>
            <a:pathLst>
              <a:path w="341" h="763">
                <a:moveTo>
                  <a:pt x="169" y="0"/>
                </a:moveTo>
                <a:cubicBezTo>
                  <a:pt x="205" y="0"/>
                  <a:pt x="234" y="29"/>
                  <a:pt x="234" y="64"/>
                </a:cubicBezTo>
                <a:cubicBezTo>
                  <a:pt x="234" y="100"/>
                  <a:pt x="205" y="129"/>
                  <a:pt x="169" y="129"/>
                </a:cubicBezTo>
                <a:cubicBezTo>
                  <a:pt x="133" y="129"/>
                  <a:pt x="105" y="100"/>
                  <a:pt x="105" y="64"/>
                </a:cubicBezTo>
                <a:cubicBezTo>
                  <a:pt x="105" y="29"/>
                  <a:pt x="133" y="0"/>
                  <a:pt x="169" y="0"/>
                </a:cubicBezTo>
                <a:close/>
                <a:moveTo>
                  <a:pt x="192" y="144"/>
                </a:moveTo>
                <a:cubicBezTo>
                  <a:pt x="176" y="141"/>
                  <a:pt x="158" y="141"/>
                  <a:pt x="142" y="145"/>
                </a:cubicBezTo>
                <a:cubicBezTo>
                  <a:pt x="35" y="157"/>
                  <a:pt x="0" y="281"/>
                  <a:pt x="10" y="376"/>
                </a:cubicBezTo>
                <a:cubicBezTo>
                  <a:pt x="14" y="417"/>
                  <a:pt x="79" y="417"/>
                  <a:pt x="74" y="376"/>
                </a:cubicBezTo>
                <a:cubicBezTo>
                  <a:pt x="71" y="342"/>
                  <a:pt x="72" y="289"/>
                  <a:pt x="91" y="252"/>
                </a:cubicBezTo>
                <a:cubicBezTo>
                  <a:pt x="91" y="297"/>
                  <a:pt x="91" y="342"/>
                  <a:pt x="91" y="387"/>
                </a:cubicBezTo>
                <a:cubicBezTo>
                  <a:pt x="91" y="389"/>
                  <a:pt x="91" y="390"/>
                  <a:pt x="91" y="392"/>
                </a:cubicBezTo>
                <a:cubicBezTo>
                  <a:pt x="91" y="393"/>
                  <a:pt x="91" y="393"/>
                  <a:pt x="91" y="394"/>
                </a:cubicBezTo>
                <a:cubicBezTo>
                  <a:pt x="91" y="501"/>
                  <a:pt x="91" y="608"/>
                  <a:pt x="86" y="715"/>
                </a:cubicBezTo>
                <a:cubicBezTo>
                  <a:pt x="84" y="763"/>
                  <a:pt x="158" y="763"/>
                  <a:pt x="160" y="715"/>
                </a:cubicBezTo>
                <a:cubicBezTo>
                  <a:pt x="163" y="631"/>
                  <a:pt x="164" y="547"/>
                  <a:pt x="164" y="464"/>
                </a:cubicBezTo>
                <a:cubicBezTo>
                  <a:pt x="168" y="464"/>
                  <a:pt x="171" y="464"/>
                  <a:pt x="175" y="464"/>
                </a:cubicBezTo>
                <a:cubicBezTo>
                  <a:pt x="175" y="547"/>
                  <a:pt x="176" y="631"/>
                  <a:pt x="179" y="715"/>
                </a:cubicBezTo>
                <a:cubicBezTo>
                  <a:pt x="181" y="763"/>
                  <a:pt x="255" y="763"/>
                  <a:pt x="253" y="715"/>
                </a:cubicBezTo>
                <a:cubicBezTo>
                  <a:pt x="249" y="608"/>
                  <a:pt x="249" y="501"/>
                  <a:pt x="249" y="394"/>
                </a:cubicBezTo>
                <a:cubicBezTo>
                  <a:pt x="249" y="391"/>
                  <a:pt x="248" y="388"/>
                  <a:pt x="247" y="385"/>
                </a:cubicBezTo>
                <a:cubicBezTo>
                  <a:pt x="247" y="338"/>
                  <a:pt x="246" y="292"/>
                  <a:pt x="246" y="245"/>
                </a:cubicBezTo>
                <a:cubicBezTo>
                  <a:pt x="268" y="283"/>
                  <a:pt x="270" y="339"/>
                  <a:pt x="266" y="376"/>
                </a:cubicBezTo>
                <a:cubicBezTo>
                  <a:pt x="262" y="417"/>
                  <a:pt x="326" y="417"/>
                  <a:pt x="331" y="376"/>
                </a:cubicBezTo>
                <a:cubicBezTo>
                  <a:pt x="341" y="279"/>
                  <a:pt x="304" y="152"/>
                  <a:pt x="192" y="144"/>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59" name="Freeform 48"/>
          <p:cNvSpPr/>
          <p:nvPr/>
        </p:nvSpPr>
        <p:spPr>
          <a:xfrm>
            <a:off x="4846680" y="5167440"/>
            <a:ext cx="203040" cy="177840"/>
          </a:xfrm>
          <a:custGeom>
            <a:avLst/>
            <a:gdLst/>
            <a:ahLst/>
            <a:rect l="l" t="t" r="r" b="b"/>
            <a:pathLst>
              <a:path w="765" h="666">
                <a:moveTo>
                  <a:pt x="725" y="514"/>
                </a:moveTo>
                <a:lnTo>
                  <a:pt x="242" y="514"/>
                </a:lnTo>
                <a:cubicBezTo>
                  <a:pt x="220" y="514"/>
                  <a:pt x="202" y="532"/>
                  <a:pt x="202" y="555"/>
                </a:cubicBezTo>
                <a:lnTo>
                  <a:pt x="202" y="595"/>
                </a:lnTo>
                <a:cubicBezTo>
                  <a:pt x="202" y="617"/>
                  <a:pt x="220" y="635"/>
                  <a:pt x="242" y="635"/>
                </a:cubicBezTo>
                <a:lnTo>
                  <a:pt x="725" y="635"/>
                </a:lnTo>
                <a:cubicBezTo>
                  <a:pt x="747" y="635"/>
                  <a:pt x="765" y="617"/>
                  <a:pt x="765" y="595"/>
                </a:cubicBezTo>
                <a:lnTo>
                  <a:pt x="765" y="555"/>
                </a:lnTo>
                <a:cubicBezTo>
                  <a:pt x="765" y="532"/>
                  <a:pt x="747" y="514"/>
                  <a:pt x="725" y="514"/>
                </a:cubicBezTo>
                <a:close/>
                <a:moveTo>
                  <a:pt x="127" y="553"/>
                </a:moveTo>
                <a:lnTo>
                  <a:pt x="35" y="495"/>
                </a:lnTo>
                <a:cubicBezTo>
                  <a:pt x="16" y="484"/>
                  <a:pt x="0" y="492"/>
                  <a:pt x="0" y="514"/>
                </a:cubicBezTo>
                <a:lnTo>
                  <a:pt x="0" y="635"/>
                </a:lnTo>
                <a:cubicBezTo>
                  <a:pt x="0" y="657"/>
                  <a:pt x="16" y="666"/>
                  <a:pt x="35" y="654"/>
                </a:cubicBezTo>
                <a:lnTo>
                  <a:pt x="127" y="596"/>
                </a:lnTo>
                <a:cubicBezTo>
                  <a:pt x="146" y="584"/>
                  <a:pt x="146" y="565"/>
                  <a:pt x="127" y="553"/>
                </a:cubicBezTo>
                <a:close/>
                <a:moveTo>
                  <a:pt x="725" y="273"/>
                </a:moveTo>
                <a:lnTo>
                  <a:pt x="242" y="273"/>
                </a:lnTo>
                <a:cubicBezTo>
                  <a:pt x="220" y="273"/>
                  <a:pt x="202" y="291"/>
                  <a:pt x="202" y="313"/>
                </a:cubicBezTo>
                <a:lnTo>
                  <a:pt x="202" y="353"/>
                </a:lnTo>
                <a:cubicBezTo>
                  <a:pt x="202" y="375"/>
                  <a:pt x="220" y="394"/>
                  <a:pt x="242" y="394"/>
                </a:cubicBezTo>
                <a:lnTo>
                  <a:pt x="725" y="394"/>
                </a:lnTo>
                <a:cubicBezTo>
                  <a:pt x="747" y="394"/>
                  <a:pt x="765" y="375"/>
                  <a:pt x="765" y="353"/>
                </a:cubicBezTo>
                <a:lnTo>
                  <a:pt x="765" y="313"/>
                </a:lnTo>
                <a:cubicBezTo>
                  <a:pt x="765" y="291"/>
                  <a:pt x="747" y="273"/>
                  <a:pt x="725" y="273"/>
                </a:cubicBezTo>
                <a:close/>
                <a:moveTo>
                  <a:pt x="35" y="412"/>
                </a:moveTo>
                <a:lnTo>
                  <a:pt x="127" y="354"/>
                </a:lnTo>
                <a:cubicBezTo>
                  <a:pt x="146" y="343"/>
                  <a:pt x="145" y="325"/>
                  <a:pt x="126" y="315"/>
                </a:cubicBezTo>
                <a:lnTo>
                  <a:pt x="37" y="271"/>
                </a:lnTo>
                <a:cubicBezTo>
                  <a:pt x="17" y="261"/>
                  <a:pt x="0" y="271"/>
                  <a:pt x="0" y="293"/>
                </a:cubicBezTo>
                <a:lnTo>
                  <a:pt x="0" y="394"/>
                </a:lnTo>
                <a:cubicBezTo>
                  <a:pt x="0" y="416"/>
                  <a:pt x="16" y="424"/>
                  <a:pt x="35" y="412"/>
                </a:cubicBezTo>
                <a:close/>
                <a:moveTo>
                  <a:pt x="725" y="31"/>
                </a:moveTo>
                <a:lnTo>
                  <a:pt x="242" y="31"/>
                </a:lnTo>
                <a:cubicBezTo>
                  <a:pt x="220" y="31"/>
                  <a:pt x="202" y="49"/>
                  <a:pt x="202" y="71"/>
                </a:cubicBezTo>
                <a:lnTo>
                  <a:pt x="202" y="112"/>
                </a:lnTo>
                <a:cubicBezTo>
                  <a:pt x="202" y="134"/>
                  <a:pt x="220" y="152"/>
                  <a:pt x="242" y="152"/>
                </a:cubicBezTo>
                <a:lnTo>
                  <a:pt x="725" y="152"/>
                </a:lnTo>
                <a:cubicBezTo>
                  <a:pt x="747" y="152"/>
                  <a:pt x="765" y="134"/>
                  <a:pt x="765" y="112"/>
                </a:cubicBezTo>
                <a:lnTo>
                  <a:pt x="765" y="71"/>
                </a:lnTo>
                <a:cubicBezTo>
                  <a:pt x="765" y="49"/>
                  <a:pt x="747" y="31"/>
                  <a:pt x="725" y="31"/>
                </a:cubicBezTo>
                <a:close/>
                <a:moveTo>
                  <a:pt x="127" y="70"/>
                </a:moveTo>
                <a:lnTo>
                  <a:pt x="35" y="12"/>
                </a:lnTo>
                <a:cubicBezTo>
                  <a:pt x="16" y="0"/>
                  <a:pt x="0" y="9"/>
                  <a:pt x="0" y="31"/>
                </a:cubicBezTo>
                <a:lnTo>
                  <a:pt x="0" y="152"/>
                </a:lnTo>
                <a:cubicBezTo>
                  <a:pt x="0" y="174"/>
                  <a:pt x="16" y="183"/>
                  <a:pt x="35" y="171"/>
                </a:cubicBezTo>
                <a:lnTo>
                  <a:pt x="127" y="113"/>
                </a:lnTo>
                <a:cubicBezTo>
                  <a:pt x="146" y="101"/>
                  <a:pt x="146" y="82"/>
                  <a:pt x="127" y="7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60" name="Freeform 49"/>
          <p:cNvSpPr/>
          <p:nvPr/>
        </p:nvSpPr>
        <p:spPr>
          <a:xfrm>
            <a:off x="3568680" y="1994040"/>
            <a:ext cx="181080" cy="172800"/>
          </a:xfrm>
          <a:custGeom>
            <a:avLst/>
            <a:gdLst/>
            <a:ahLst/>
            <a:rect l="l" t="t" r="r" b="b"/>
            <a:pathLst>
              <a:path w="675" h="647">
                <a:moveTo>
                  <a:pt x="422" y="470"/>
                </a:moveTo>
                <a:lnTo>
                  <a:pt x="422" y="506"/>
                </a:lnTo>
                <a:cubicBezTo>
                  <a:pt x="422" y="522"/>
                  <a:pt x="434" y="534"/>
                  <a:pt x="450" y="534"/>
                </a:cubicBezTo>
                <a:cubicBezTo>
                  <a:pt x="466" y="534"/>
                  <a:pt x="478" y="522"/>
                  <a:pt x="478" y="506"/>
                </a:cubicBezTo>
                <a:lnTo>
                  <a:pt x="478" y="470"/>
                </a:lnTo>
                <a:cubicBezTo>
                  <a:pt x="495" y="460"/>
                  <a:pt x="506" y="443"/>
                  <a:pt x="506" y="422"/>
                </a:cubicBezTo>
                <a:cubicBezTo>
                  <a:pt x="506" y="391"/>
                  <a:pt x="481" y="366"/>
                  <a:pt x="450" y="366"/>
                </a:cubicBezTo>
                <a:cubicBezTo>
                  <a:pt x="419" y="366"/>
                  <a:pt x="394" y="391"/>
                  <a:pt x="394" y="422"/>
                </a:cubicBezTo>
                <a:cubicBezTo>
                  <a:pt x="394" y="443"/>
                  <a:pt x="405" y="460"/>
                  <a:pt x="422" y="470"/>
                </a:cubicBezTo>
                <a:close/>
                <a:moveTo>
                  <a:pt x="619" y="590"/>
                </a:moveTo>
                <a:lnTo>
                  <a:pt x="281" y="590"/>
                </a:lnTo>
                <a:lnTo>
                  <a:pt x="281" y="309"/>
                </a:lnTo>
                <a:lnTo>
                  <a:pt x="619" y="309"/>
                </a:lnTo>
                <a:lnTo>
                  <a:pt x="619" y="590"/>
                </a:lnTo>
                <a:close/>
                <a:moveTo>
                  <a:pt x="619" y="253"/>
                </a:moveTo>
                <a:lnTo>
                  <a:pt x="338" y="253"/>
                </a:lnTo>
                <a:lnTo>
                  <a:pt x="338" y="169"/>
                </a:lnTo>
                <a:cubicBezTo>
                  <a:pt x="338" y="76"/>
                  <a:pt x="262" y="0"/>
                  <a:pt x="169" y="0"/>
                </a:cubicBezTo>
                <a:cubicBezTo>
                  <a:pt x="76" y="0"/>
                  <a:pt x="0" y="76"/>
                  <a:pt x="0" y="169"/>
                </a:cubicBezTo>
                <a:lnTo>
                  <a:pt x="0" y="281"/>
                </a:lnTo>
                <a:cubicBezTo>
                  <a:pt x="0" y="297"/>
                  <a:pt x="13" y="309"/>
                  <a:pt x="28" y="309"/>
                </a:cubicBezTo>
                <a:cubicBezTo>
                  <a:pt x="44" y="309"/>
                  <a:pt x="56" y="297"/>
                  <a:pt x="56" y="281"/>
                </a:cubicBezTo>
                <a:lnTo>
                  <a:pt x="56" y="169"/>
                </a:lnTo>
                <a:cubicBezTo>
                  <a:pt x="56" y="107"/>
                  <a:pt x="107" y="56"/>
                  <a:pt x="169" y="56"/>
                </a:cubicBezTo>
                <a:cubicBezTo>
                  <a:pt x="231" y="56"/>
                  <a:pt x="281" y="107"/>
                  <a:pt x="281" y="169"/>
                </a:cubicBezTo>
                <a:lnTo>
                  <a:pt x="281" y="253"/>
                </a:lnTo>
                <a:cubicBezTo>
                  <a:pt x="250" y="253"/>
                  <a:pt x="225" y="278"/>
                  <a:pt x="225" y="309"/>
                </a:cubicBezTo>
                <a:lnTo>
                  <a:pt x="225" y="590"/>
                </a:lnTo>
                <a:cubicBezTo>
                  <a:pt x="225" y="622"/>
                  <a:pt x="250" y="647"/>
                  <a:pt x="281" y="647"/>
                </a:cubicBezTo>
                <a:lnTo>
                  <a:pt x="619" y="647"/>
                </a:lnTo>
                <a:cubicBezTo>
                  <a:pt x="650" y="647"/>
                  <a:pt x="675" y="622"/>
                  <a:pt x="675" y="590"/>
                </a:cubicBezTo>
                <a:lnTo>
                  <a:pt x="675" y="309"/>
                </a:lnTo>
                <a:cubicBezTo>
                  <a:pt x="675" y="278"/>
                  <a:pt x="650" y="253"/>
                  <a:pt x="619" y="25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61" name="Freeform 50"/>
          <p:cNvSpPr/>
          <p:nvPr/>
        </p:nvSpPr>
        <p:spPr>
          <a:xfrm>
            <a:off x="3247920" y="1979640"/>
            <a:ext cx="138240" cy="200160"/>
          </a:xfrm>
          <a:custGeom>
            <a:avLst/>
            <a:gdLst/>
            <a:ahLst/>
            <a:rect l="l" t="t" r="r" b="b"/>
            <a:pathLst>
              <a:path w="513" h="745">
                <a:moveTo>
                  <a:pt x="280" y="519"/>
                </a:moveTo>
                <a:lnTo>
                  <a:pt x="280" y="466"/>
                </a:lnTo>
                <a:cubicBezTo>
                  <a:pt x="280" y="453"/>
                  <a:pt x="269" y="442"/>
                  <a:pt x="256" y="442"/>
                </a:cubicBezTo>
                <a:cubicBezTo>
                  <a:pt x="243" y="442"/>
                  <a:pt x="233" y="453"/>
                  <a:pt x="233" y="466"/>
                </a:cubicBezTo>
                <a:lnTo>
                  <a:pt x="233" y="519"/>
                </a:lnTo>
                <a:cubicBezTo>
                  <a:pt x="219" y="527"/>
                  <a:pt x="210" y="542"/>
                  <a:pt x="210" y="559"/>
                </a:cubicBezTo>
                <a:cubicBezTo>
                  <a:pt x="210" y="585"/>
                  <a:pt x="231" y="605"/>
                  <a:pt x="256" y="605"/>
                </a:cubicBezTo>
                <a:cubicBezTo>
                  <a:pt x="282" y="605"/>
                  <a:pt x="303" y="585"/>
                  <a:pt x="303" y="559"/>
                </a:cubicBezTo>
                <a:cubicBezTo>
                  <a:pt x="303" y="542"/>
                  <a:pt x="294" y="527"/>
                  <a:pt x="280" y="519"/>
                </a:cubicBezTo>
                <a:close/>
                <a:moveTo>
                  <a:pt x="466" y="675"/>
                </a:moveTo>
                <a:cubicBezTo>
                  <a:pt x="466" y="688"/>
                  <a:pt x="456" y="699"/>
                  <a:pt x="443" y="699"/>
                </a:cubicBezTo>
                <a:lnTo>
                  <a:pt x="70" y="699"/>
                </a:lnTo>
                <a:cubicBezTo>
                  <a:pt x="57" y="699"/>
                  <a:pt x="47" y="688"/>
                  <a:pt x="47" y="675"/>
                </a:cubicBezTo>
                <a:lnTo>
                  <a:pt x="47" y="396"/>
                </a:lnTo>
                <a:cubicBezTo>
                  <a:pt x="47" y="383"/>
                  <a:pt x="57" y="372"/>
                  <a:pt x="70" y="372"/>
                </a:cubicBezTo>
                <a:lnTo>
                  <a:pt x="443" y="372"/>
                </a:lnTo>
                <a:cubicBezTo>
                  <a:pt x="456" y="372"/>
                  <a:pt x="466" y="383"/>
                  <a:pt x="466" y="396"/>
                </a:cubicBezTo>
                <a:lnTo>
                  <a:pt x="466" y="675"/>
                </a:lnTo>
                <a:close/>
                <a:moveTo>
                  <a:pt x="117" y="186"/>
                </a:moveTo>
                <a:cubicBezTo>
                  <a:pt x="117" y="109"/>
                  <a:pt x="179" y="46"/>
                  <a:pt x="256" y="46"/>
                </a:cubicBezTo>
                <a:cubicBezTo>
                  <a:pt x="333" y="46"/>
                  <a:pt x="396" y="109"/>
                  <a:pt x="396" y="186"/>
                </a:cubicBezTo>
                <a:lnTo>
                  <a:pt x="396" y="326"/>
                </a:lnTo>
                <a:lnTo>
                  <a:pt x="117" y="326"/>
                </a:lnTo>
                <a:lnTo>
                  <a:pt x="117" y="186"/>
                </a:lnTo>
                <a:close/>
                <a:moveTo>
                  <a:pt x="443" y="326"/>
                </a:moveTo>
                <a:lnTo>
                  <a:pt x="443" y="186"/>
                </a:lnTo>
                <a:cubicBezTo>
                  <a:pt x="443" y="83"/>
                  <a:pt x="359" y="0"/>
                  <a:pt x="256" y="0"/>
                </a:cubicBezTo>
                <a:cubicBezTo>
                  <a:pt x="154" y="0"/>
                  <a:pt x="70" y="83"/>
                  <a:pt x="70" y="186"/>
                </a:cubicBezTo>
                <a:lnTo>
                  <a:pt x="70" y="326"/>
                </a:lnTo>
                <a:cubicBezTo>
                  <a:pt x="31" y="326"/>
                  <a:pt x="0" y="357"/>
                  <a:pt x="0" y="396"/>
                </a:cubicBezTo>
                <a:lnTo>
                  <a:pt x="0" y="675"/>
                </a:lnTo>
                <a:cubicBezTo>
                  <a:pt x="0" y="714"/>
                  <a:pt x="31" y="745"/>
                  <a:pt x="70" y="745"/>
                </a:cubicBezTo>
                <a:lnTo>
                  <a:pt x="443" y="745"/>
                </a:lnTo>
                <a:cubicBezTo>
                  <a:pt x="481" y="745"/>
                  <a:pt x="513" y="714"/>
                  <a:pt x="513" y="675"/>
                </a:cubicBezTo>
                <a:lnTo>
                  <a:pt x="513" y="396"/>
                </a:lnTo>
                <a:cubicBezTo>
                  <a:pt x="513" y="357"/>
                  <a:pt x="481" y="326"/>
                  <a:pt x="443" y="32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62" name="Freeform 51"/>
          <p:cNvSpPr/>
          <p:nvPr/>
        </p:nvSpPr>
        <p:spPr>
          <a:xfrm>
            <a:off x="2952720" y="1720800"/>
            <a:ext cx="101520" cy="181080"/>
          </a:xfrm>
          <a:custGeom>
            <a:avLst/>
            <a:gdLst/>
            <a:ahLst/>
            <a:rect l="l" t="t" r="r" b="b"/>
            <a:pathLst>
              <a:path w="377" h="684">
                <a:moveTo>
                  <a:pt x="217" y="3"/>
                </a:moveTo>
                <a:cubicBezTo>
                  <a:pt x="248" y="3"/>
                  <a:pt x="273" y="29"/>
                  <a:pt x="273" y="61"/>
                </a:cubicBezTo>
                <a:cubicBezTo>
                  <a:pt x="273" y="92"/>
                  <a:pt x="248" y="118"/>
                  <a:pt x="217" y="118"/>
                </a:cubicBezTo>
                <a:cubicBezTo>
                  <a:pt x="185" y="118"/>
                  <a:pt x="160" y="92"/>
                  <a:pt x="160" y="61"/>
                </a:cubicBezTo>
                <a:cubicBezTo>
                  <a:pt x="160" y="29"/>
                  <a:pt x="185" y="3"/>
                  <a:pt x="217" y="3"/>
                </a:cubicBezTo>
                <a:close/>
                <a:moveTo>
                  <a:pt x="322" y="268"/>
                </a:moveTo>
                <a:cubicBezTo>
                  <a:pt x="322" y="265"/>
                  <a:pt x="323" y="265"/>
                  <a:pt x="322" y="268"/>
                </a:cubicBezTo>
                <a:close/>
                <a:moveTo>
                  <a:pt x="320" y="275"/>
                </a:moveTo>
                <a:cubicBezTo>
                  <a:pt x="317" y="283"/>
                  <a:pt x="313" y="291"/>
                  <a:pt x="309" y="299"/>
                </a:cubicBezTo>
                <a:cubicBezTo>
                  <a:pt x="304" y="307"/>
                  <a:pt x="299" y="314"/>
                  <a:pt x="294" y="321"/>
                </a:cubicBezTo>
                <a:lnTo>
                  <a:pt x="294" y="210"/>
                </a:lnTo>
                <a:cubicBezTo>
                  <a:pt x="306" y="228"/>
                  <a:pt x="315" y="249"/>
                  <a:pt x="322" y="271"/>
                </a:cubicBezTo>
                <a:cubicBezTo>
                  <a:pt x="321" y="272"/>
                  <a:pt x="321" y="273"/>
                  <a:pt x="320" y="275"/>
                </a:cubicBezTo>
                <a:close/>
                <a:moveTo>
                  <a:pt x="358" y="215"/>
                </a:moveTo>
                <a:cubicBezTo>
                  <a:pt x="346" y="189"/>
                  <a:pt x="330" y="163"/>
                  <a:pt x="307" y="145"/>
                </a:cubicBezTo>
                <a:cubicBezTo>
                  <a:pt x="305" y="143"/>
                  <a:pt x="302" y="141"/>
                  <a:pt x="299" y="140"/>
                </a:cubicBezTo>
                <a:cubicBezTo>
                  <a:pt x="299" y="140"/>
                  <a:pt x="299" y="140"/>
                  <a:pt x="299" y="140"/>
                </a:cubicBezTo>
                <a:cubicBezTo>
                  <a:pt x="264" y="122"/>
                  <a:pt x="192" y="126"/>
                  <a:pt x="155" y="132"/>
                </a:cubicBezTo>
                <a:cubicBezTo>
                  <a:pt x="153" y="132"/>
                  <a:pt x="150" y="132"/>
                  <a:pt x="148" y="133"/>
                </a:cubicBezTo>
                <a:cubicBezTo>
                  <a:pt x="146" y="133"/>
                  <a:pt x="145" y="133"/>
                  <a:pt x="144" y="134"/>
                </a:cubicBezTo>
                <a:cubicBezTo>
                  <a:pt x="143" y="134"/>
                  <a:pt x="141" y="134"/>
                  <a:pt x="141" y="134"/>
                </a:cubicBezTo>
                <a:lnTo>
                  <a:pt x="141" y="134"/>
                </a:lnTo>
                <a:cubicBezTo>
                  <a:pt x="120" y="138"/>
                  <a:pt x="99" y="135"/>
                  <a:pt x="80" y="128"/>
                </a:cubicBezTo>
                <a:cubicBezTo>
                  <a:pt x="69" y="106"/>
                  <a:pt x="61" y="82"/>
                  <a:pt x="57" y="58"/>
                </a:cubicBezTo>
                <a:cubicBezTo>
                  <a:pt x="57" y="57"/>
                  <a:pt x="57" y="55"/>
                  <a:pt x="56" y="54"/>
                </a:cubicBezTo>
                <a:lnTo>
                  <a:pt x="46" y="7"/>
                </a:lnTo>
                <a:cubicBezTo>
                  <a:pt x="45" y="3"/>
                  <a:pt x="41" y="0"/>
                  <a:pt x="37" y="1"/>
                </a:cubicBezTo>
                <a:cubicBezTo>
                  <a:pt x="32" y="2"/>
                  <a:pt x="30" y="6"/>
                  <a:pt x="31" y="11"/>
                </a:cubicBezTo>
                <a:lnTo>
                  <a:pt x="36" y="36"/>
                </a:lnTo>
                <a:cubicBezTo>
                  <a:pt x="20" y="33"/>
                  <a:pt x="0" y="45"/>
                  <a:pt x="4" y="66"/>
                </a:cubicBezTo>
                <a:cubicBezTo>
                  <a:pt x="8" y="91"/>
                  <a:pt x="16" y="116"/>
                  <a:pt x="26" y="139"/>
                </a:cubicBezTo>
                <a:cubicBezTo>
                  <a:pt x="31" y="152"/>
                  <a:pt x="36" y="170"/>
                  <a:pt x="51" y="176"/>
                </a:cubicBezTo>
                <a:cubicBezTo>
                  <a:pt x="77" y="186"/>
                  <a:pt x="108" y="193"/>
                  <a:pt x="138" y="190"/>
                </a:cubicBezTo>
                <a:lnTo>
                  <a:pt x="137" y="210"/>
                </a:lnTo>
                <a:cubicBezTo>
                  <a:pt x="137" y="252"/>
                  <a:pt x="137" y="411"/>
                  <a:pt x="137" y="413"/>
                </a:cubicBezTo>
                <a:lnTo>
                  <a:pt x="138" y="650"/>
                </a:lnTo>
                <a:cubicBezTo>
                  <a:pt x="138" y="668"/>
                  <a:pt x="153" y="683"/>
                  <a:pt x="171" y="683"/>
                </a:cubicBezTo>
                <a:cubicBezTo>
                  <a:pt x="190" y="683"/>
                  <a:pt x="205" y="668"/>
                  <a:pt x="205" y="650"/>
                </a:cubicBezTo>
                <a:lnTo>
                  <a:pt x="205" y="420"/>
                </a:lnTo>
                <a:cubicBezTo>
                  <a:pt x="205" y="420"/>
                  <a:pt x="205" y="409"/>
                  <a:pt x="216" y="409"/>
                </a:cubicBezTo>
                <a:cubicBezTo>
                  <a:pt x="228" y="409"/>
                  <a:pt x="229" y="421"/>
                  <a:pt x="229" y="421"/>
                </a:cubicBezTo>
                <a:lnTo>
                  <a:pt x="229" y="651"/>
                </a:lnTo>
                <a:cubicBezTo>
                  <a:pt x="229" y="669"/>
                  <a:pt x="244" y="684"/>
                  <a:pt x="263" y="684"/>
                </a:cubicBezTo>
                <a:cubicBezTo>
                  <a:pt x="281" y="684"/>
                  <a:pt x="294" y="669"/>
                  <a:pt x="294" y="651"/>
                </a:cubicBezTo>
                <a:lnTo>
                  <a:pt x="294" y="430"/>
                </a:lnTo>
                <a:lnTo>
                  <a:pt x="294" y="395"/>
                </a:lnTo>
                <a:cubicBezTo>
                  <a:pt x="320" y="378"/>
                  <a:pt x="340" y="354"/>
                  <a:pt x="355" y="326"/>
                </a:cubicBezTo>
                <a:cubicBezTo>
                  <a:pt x="363" y="311"/>
                  <a:pt x="377" y="290"/>
                  <a:pt x="377" y="272"/>
                </a:cubicBezTo>
                <a:cubicBezTo>
                  <a:pt x="377" y="253"/>
                  <a:pt x="366" y="232"/>
                  <a:pt x="358" y="21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63" name="Freeform 52"/>
          <p:cNvSpPr/>
          <p:nvPr/>
        </p:nvSpPr>
        <p:spPr>
          <a:xfrm>
            <a:off x="2590920" y="4815000"/>
            <a:ext cx="177840" cy="172800"/>
          </a:xfrm>
          <a:custGeom>
            <a:avLst/>
            <a:gdLst/>
            <a:ahLst/>
            <a:rect l="l" t="t" r="r" b="b"/>
            <a:pathLst>
              <a:path w="659" h="643">
                <a:moveTo>
                  <a:pt x="296" y="346"/>
                </a:moveTo>
                <a:lnTo>
                  <a:pt x="592" y="346"/>
                </a:lnTo>
                <a:cubicBezTo>
                  <a:pt x="592" y="510"/>
                  <a:pt x="460" y="643"/>
                  <a:pt x="296" y="643"/>
                </a:cubicBezTo>
                <a:cubicBezTo>
                  <a:pt x="133" y="643"/>
                  <a:pt x="0" y="510"/>
                  <a:pt x="0" y="346"/>
                </a:cubicBezTo>
                <a:cubicBezTo>
                  <a:pt x="0" y="183"/>
                  <a:pt x="133" y="50"/>
                  <a:pt x="296" y="50"/>
                </a:cubicBezTo>
                <a:lnTo>
                  <a:pt x="296" y="346"/>
                </a:lnTo>
                <a:close/>
                <a:moveTo>
                  <a:pt x="363" y="296"/>
                </a:moveTo>
                <a:lnTo>
                  <a:pt x="659" y="296"/>
                </a:lnTo>
                <a:cubicBezTo>
                  <a:pt x="659" y="132"/>
                  <a:pt x="527" y="0"/>
                  <a:pt x="363" y="0"/>
                </a:cubicBezTo>
                <a:lnTo>
                  <a:pt x="363" y="296"/>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64" name="Freeform 53"/>
          <p:cNvSpPr/>
          <p:nvPr/>
        </p:nvSpPr>
        <p:spPr>
          <a:xfrm>
            <a:off x="6681960" y="5173560"/>
            <a:ext cx="99720" cy="165240"/>
          </a:xfrm>
          <a:custGeom>
            <a:avLst/>
            <a:gdLst/>
            <a:ahLst/>
            <a:rect l="l" t="t" r="r" b="b"/>
            <a:pathLst>
              <a:path w="373" h="614">
                <a:moveTo>
                  <a:pt x="136" y="161"/>
                </a:moveTo>
                <a:lnTo>
                  <a:pt x="136" y="227"/>
                </a:lnTo>
                <a:cubicBezTo>
                  <a:pt x="136" y="255"/>
                  <a:pt x="159" y="278"/>
                  <a:pt x="187" y="278"/>
                </a:cubicBezTo>
                <a:cubicBezTo>
                  <a:pt x="215" y="278"/>
                  <a:pt x="238" y="255"/>
                  <a:pt x="238" y="227"/>
                </a:cubicBezTo>
                <a:lnTo>
                  <a:pt x="238" y="161"/>
                </a:lnTo>
                <a:cubicBezTo>
                  <a:pt x="238" y="133"/>
                  <a:pt x="215" y="111"/>
                  <a:pt x="187" y="111"/>
                </a:cubicBezTo>
                <a:cubicBezTo>
                  <a:pt x="159" y="111"/>
                  <a:pt x="136" y="133"/>
                  <a:pt x="136" y="161"/>
                </a:cubicBezTo>
                <a:close/>
                <a:moveTo>
                  <a:pt x="373" y="168"/>
                </a:moveTo>
                <a:lnTo>
                  <a:pt x="373" y="447"/>
                </a:lnTo>
                <a:cubicBezTo>
                  <a:pt x="373" y="539"/>
                  <a:pt x="298" y="614"/>
                  <a:pt x="206" y="614"/>
                </a:cubicBezTo>
                <a:lnTo>
                  <a:pt x="168" y="614"/>
                </a:lnTo>
                <a:cubicBezTo>
                  <a:pt x="75" y="614"/>
                  <a:pt x="0" y="539"/>
                  <a:pt x="0" y="447"/>
                </a:cubicBezTo>
                <a:lnTo>
                  <a:pt x="0" y="168"/>
                </a:lnTo>
                <a:cubicBezTo>
                  <a:pt x="0" y="76"/>
                  <a:pt x="75" y="1"/>
                  <a:pt x="167" y="0"/>
                </a:cubicBezTo>
                <a:lnTo>
                  <a:pt x="167" y="73"/>
                </a:lnTo>
                <a:cubicBezTo>
                  <a:pt x="130" y="81"/>
                  <a:pt x="104" y="111"/>
                  <a:pt x="104" y="146"/>
                </a:cubicBezTo>
                <a:lnTo>
                  <a:pt x="104" y="243"/>
                </a:lnTo>
                <a:cubicBezTo>
                  <a:pt x="104" y="284"/>
                  <a:pt x="141" y="318"/>
                  <a:pt x="187" y="318"/>
                </a:cubicBezTo>
                <a:cubicBezTo>
                  <a:pt x="233" y="318"/>
                  <a:pt x="270" y="284"/>
                  <a:pt x="270" y="243"/>
                </a:cubicBezTo>
                <a:lnTo>
                  <a:pt x="270" y="146"/>
                </a:lnTo>
                <a:cubicBezTo>
                  <a:pt x="270" y="109"/>
                  <a:pt x="240" y="78"/>
                  <a:pt x="202" y="72"/>
                </a:cubicBezTo>
                <a:lnTo>
                  <a:pt x="202" y="0"/>
                </a:lnTo>
                <a:lnTo>
                  <a:pt x="206" y="0"/>
                </a:lnTo>
                <a:cubicBezTo>
                  <a:pt x="298" y="0"/>
                  <a:pt x="373" y="75"/>
                  <a:pt x="373" y="168"/>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65" name="Freeform 54"/>
          <p:cNvSpPr/>
          <p:nvPr/>
        </p:nvSpPr>
        <p:spPr>
          <a:xfrm>
            <a:off x="8048520" y="874800"/>
            <a:ext cx="154080" cy="145800"/>
          </a:xfrm>
          <a:custGeom>
            <a:avLst/>
            <a:gdLst/>
            <a:ahLst/>
            <a:rect l="l" t="t" r="r" b="b"/>
            <a:pathLst>
              <a:path w="569" h="542">
                <a:moveTo>
                  <a:pt x="558" y="230"/>
                </a:moveTo>
                <a:lnTo>
                  <a:pt x="410" y="337"/>
                </a:lnTo>
                <a:lnTo>
                  <a:pt x="467" y="511"/>
                </a:lnTo>
                <a:cubicBezTo>
                  <a:pt x="470" y="520"/>
                  <a:pt x="466" y="530"/>
                  <a:pt x="458" y="536"/>
                </a:cubicBezTo>
                <a:cubicBezTo>
                  <a:pt x="454" y="539"/>
                  <a:pt x="450" y="540"/>
                  <a:pt x="445" y="540"/>
                </a:cubicBezTo>
                <a:cubicBezTo>
                  <a:pt x="440" y="540"/>
                  <a:pt x="436" y="539"/>
                  <a:pt x="432" y="536"/>
                </a:cubicBezTo>
                <a:lnTo>
                  <a:pt x="284" y="429"/>
                </a:lnTo>
                <a:lnTo>
                  <a:pt x="137" y="536"/>
                </a:lnTo>
                <a:cubicBezTo>
                  <a:pt x="129" y="542"/>
                  <a:pt x="118" y="542"/>
                  <a:pt x="110" y="536"/>
                </a:cubicBezTo>
                <a:cubicBezTo>
                  <a:pt x="102" y="530"/>
                  <a:pt x="99" y="520"/>
                  <a:pt x="102" y="511"/>
                </a:cubicBezTo>
                <a:lnTo>
                  <a:pt x="158" y="337"/>
                </a:lnTo>
                <a:lnTo>
                  <a:pt x="11" y="230"/>
                </a:lnTo>
                <a:cubicBezTo>
                  <a:pt x="3" y="224"/>
                  <a:pt x="0" y="214"/>
                  <a:pt x="3" y="205"/>
                </a:cubicBezTo>
                <a:cubicBezTo>
                  <a:pt x="6" y="195"/>
                  <a:pt x="14" y="189"/>
                  <a:pt x="24" y="189"/>
                </a:cubicBezTo>
                <a:lnTo>
                  <a:pt x="206" y="189"/>
                </a:lnTo>
                <a:lnTo>
                  <a:pt x="263" y="16"/>
                </a:lnTo>
                <a:cubicBezTo>
                  <a:pt x="266" y="6"/>
                  <a:pt x="274" y="0"/>
                  <a:pt x="284" y="0"/>
                </a:cubicBezTo>
                <a:cubicBezTo>
                  <a:pt x="294" y="0"/>
                  <a:pt x="303" y="6"/>
                  <a:pt x="306" y="16"/>
                </a:cubicBezTo>
                <a:lnTo>
                  <a:pt x="362" y="189"/>
                </a:lnTo>
                <a:lnTo>
                  <a:pt x="544" y="189"/>
                </a:lnTo>
                <a:cubicBezTo>
                  <a:pt x="554" y="189"/>
                  <a:pt x="563" y="195"/>
                  <a:pt x="566" y="205"/>
                </a:cubicBezTo>
                <a:cubicBezTo>
                  <a:pt x="569" y="214"/>
                  <a:pt x="566" y="224"/>
                  <a:pt x="558" y="23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66" name="Freeform 55"/>
          <p:cNvSpPr/>
          <p:nvPr/>
        </p:nvSpPr>
        <p:spPr>
          <a:xfrm>
            <a:off x="2282760" y="2617920"/>
            <a:ext cx="174600" cy="134640"/>
          </a:xfrm>
          <a:custGeom>
            <a:avLst/>
            <a:gdLst/>
            <a:ahLst/>
            <a:rect l="l" t="t" r="r" b="b"/>
            <a:pathLst>
              <a:path w="658" h="499">
                <a:moveTo>
                  <a:pt x="395" y="349"/>
                </a:moveTo>
                <a:lnTo>
                  <a:pt x="263" y="349"/>
                </a:lnTo>
                <a:lnTo>
                  <a:pt x="263" y="288"/>
                </a:lnTo>
                <a:lnTo>
                  <a:pt x="0" y="288"/>
                </a:lnTo>
                <a:lnTo>
                  <a:pt x="0" y="469"/>
                </a:lnTo>
                <a:cubicBezTo>
                  <a:pt x="0" y="486"/>
                  <a:pt x="14" y="499"/>
                  <a:pt x="31" y="499"/>
                </a:cubicBezTo>
                <a:lnTo>
                  <a:pt x="628" y="499"/>
                </a:lnTo>
                <a:cubicBezTo>
                  <a:pt x="644" y="499"/>
                  <a:pt x="658" y="486"/>
                  <a:pt x="658" y="469"/>
                </a:cubicBezTo>
                <a:lnTo>
                  <a:pt x="658" y="288"/>
                </a:lnTo>
                <a:lnTo>
                  <a:pt x="395" y="288"/>
                </a:lnTo>
                <a:lnTo>
                  <a:pt x="395" y="349"/>
                </a:lnTo>
                <a:close/>
                <a:moveTo>
                  <a:pt x="285" y="288"/>
                </a:moveTo>
                <a:lnTo>
                  <a:pt x="373" y="288"/>
                </a:lnTo>
                <a:lnTo>
                  <a:pt x="373" y="328"/>
                </a:lnTo>
                <a:lnTo>
                  <a:pt x="285" y="328"/>
                </a:lnTo>
                <a:lnTo>
                  <a:pt x="285" y="288"/>
                </a:lnTo>
                <a:close/>
                <a:moveTo>
                  <a:pt x="248" y="77"/>
                </a:moveTo>
                <a:lnTo>
                  <a:pt x="248" y="24"/>
                </a:lnTo>
                <a:lnTo>
                  <a:pt x="392" y="24"/>
                </a:lnTo>
                <a:lnTo>
                  <a:pt x="392" y="77"/>
                </a:lnTo>
                <a:lnTo>
                  <a:pt x="248" y="77"/>
                </a:lnTo>
                <a:close/>
                <a:moveTo>
                  <a:pt x="628" y="77"/>
                </a:moveTo>
                <a:lnTo>
                  <a:pt x="423" y="77"/>
                </a:lnTo>
                <a:cubicBezTo>
                  <a:pt x="423" y="77"/>
                  <a:pt x="423" y="22"/>
                  <a:pt x="423" y="11"/>
                </a:cubicBezTo>
                <a:cubicBezTo>
                  <a:pt x="423" y="0"/>
                  <a:pt x="415" y="1"/>
                  <a:pt x="415" y="1"/>
                </a:cubicBezTo>
                <a:lnTo>
                  <a:pt x="225" y="1"/>
                </a:lnTo>
                <a:cubicBezTo>
                  <a:pt x="225" y="1"/>
                  <a:pt x="217" y="2"/>
                  <a:pt x="217" y="11"/>
                </a:cubicBezTo>
                <a:cubicBezTo>
                  <a:pt x="217" y="21"/>
                  <a:pt x="217" y="77"/>
                  <a:pt x="217" y="77"/>
                </a:cubicBezTo>
                <a:lnTo>
                  <a:pt x="31" y="77"/>
                </a:lnTo>
                <a:cubicBezTo>
                  <a:pt x="14" y="77"/>
                  <a:pt x="0" y="91"/>
                  <a:pt x="0" y="108"/>
                </a:cubicBezTo>
                <a:lnTo>
                  <a:pt x="0" y="244"/>
                </a:lnTo>
                <a:lnTo>
                  <a:pt x="658" y="244"/>
                </a:lnTo>
                <a:lnTo>
                  <a:pt x="658" y="108"/>
                </a:lnTo>
                <a:cubicBezTo>
                  <a:pt x="658" y="91"/>
                  <a:pt x="644" y="77"/>
                  <a:pt x="628" y="77"/>
                </a:cubicBezTo>
                <a:close/>
              </a:path>
            </a:pathLst>
          </a:custGeom>
          <a:solidFill>
            <a:srgbClr val="a6a6a6"/>
          </a:solidFill>
          <a:ln w="0">
            <a:noFill/>
          </a:ln>
        </p:spPr>
        <p:style>
          <a:lnRef idx="0"/>
          <a:fillRef idx="0"/>
          <a:effectRef idx="0"/>
          <a:fontRef idx="minor"/>
        </p:style>
        <p:txBody>
          <a:bodyPr lIns="145800" rIns="145800" tIns="61920" bIns="61920" anchor="t">
            <a:noAutofit/>
          </a:bodyPr>
          <a:p>
            <a:endParaRPr b="0" lang="en-US" sz="1800" spc="-1" strike="noStrike">
              <a:solidFill>
                <a:srgbClr val="000000"/>
              </a:solidFill>
              <a:latin typeface="Calibri"/>
            </a:endParaRPr>
          </a:p>
        </p:txBody>
      </p:sp>
      <p:sp>
        <p:nvSpPr>
          <p:cNvPr id="1667" name="Freeform 56"/>
          <p:cNvSpPr/>
          <p:nvPr/>
        </p:nvSpPr>
        <p:spPr>
          <a:xfrm>
            <a:off x="5565600" y="3306600"/>
            <a:ext cx="192240" cy="96840"/>
          </a:xfrm>
          <a:custGeom>
            <a:avLst/>
            <a:gdLst/>
            <a:ahLst/>
            <a:rect l="l" t="t" r="r" b="b"/>
            <a:pathLst>
              <a:path w="722" h="361">
                <a:moveTo>
                  <a:pt x="541" y="103"/>
                </a:moveTo>
                <a:lnTo>
                  <a:pt x="541" y="258"/>
                </a:lnTo>
                <a:lnTo>
                  <a:pt x="722" y="361"/>
                </a:lnTo>
                <a:lnTo>
                  <a:pt x="722" y="0"/>
                </a:lnTo>
                <a:lnTo>
                  <a:pt x="541" y="103"/>
                </a:lnTo>
                <a:close/>
                <a:moveTo>
                  <a:pt x="451" y="0"/>
                </a:moveTo>
                <a:lnTo>
                  <a:pt x="45" y="0"/>
                </a:lnTo>
                <a:cubicBezTo>
                  <a:pt x="20" y="0"/>
                  <a:pt x="0" y="20"/>
                  <a:pt x="0" y="45"/>
                </a:cubicBezTo>
                <a:lnTo>
                  <a:pt x="0" y="316"/>
                </a:lnTo>
                <a:cubicBezTo>
                  <a:pt x="0" y="341"/>
                  <a:pt x="20" y="361"/>
                  <a:pt x="45" y="361"/>
                </a:cubicBezTo>
                <a:lnTo>
                  <a:pt x="451" y="361"/>
                </a:lnTo>
                <a:cubicBezTo>
                  <a:pt x="476" y="361"/>
                  <a:pt x="496" y="341"/>
                  <a:pt x="496" y="316"/>
                </a:cubicBezTo>
                <a:lnTo>
                  <a:pt x="496" y="271"/>
                </a:lnTo>
                <a:lnTo>
                  <a:pt x="496" y="232"/>
                </a:lnTo>
                <a:lnTo>
                  <a:pt x="496" y="129"/>
                </a:lnTo>
                <a:lnTo>
                  <a:pt x="496" y="90"/>
                </a:lnTo>
                <a:lnTo>
                  <a:pt x="496" y="45"/>
                </a:lnTo>
                <a:cubicBezTo>
                  <a:pt x="496" y="20"/>
                  <a:pt x="476" y="0"/>
                  <a:pt x="451" y="0"/>
                </a:cubicBezTo>
                <a:close/>
              </a:path>
            </a:pathLst>
          </a:custGeom>
          <a:solidFill>
            <a:srgbClr val="a6a6a6"/>
          </a:solidFill>
          <a:ln w="0">
            <a:noFill/>
          </a:ln>
        </p:spPr>
        <p:style>
          <a:lnRef idx="0"/>
          <a:fillRef idx="0"/>
          <a:effectRef idx="0"/>
          <a:fontRef idx="minor"/>
        </p:style>
        <p:txBody>
          <a:bodyPr lIns="145800" rIns="145800" tIns="24120" bIns="24120" anchor="t">
            <a:noAutofit/>
          </a:bodyPr>
          <a:p>
            <a:endParaRPr b="0" lang="en-US" sz="1800" spc="-1" strike="noStrike">
              <a:solidFill>
                <a:srgbClr val="000000"/>
              </a:solidFill>
              <a:latin typeface="Calibri"/>
            </a:endParaRPr>
          </a:p>
        </p:txBody>
      </p:sp>
      <p:sp>
        <p:nvSpPr>
          <p:cNvPr id="1668" name="Freeform 57"/>
          <p:cNvSpPr/>
          <p:nvPr/>
        </p:nvSpPr>
        <p:spPr>
          <a:xfrm>
            <a:off x="4854600" y="2255760"/>
            <a:ext cx="185760" cy="214560"/>
          </a:xfrm>
          <a:custGeom>
            <a:avLst/>
            <a:gdLst/>
            <a:ahLst/>
            <a:rect l="l" t="t" r="r" b="b"/>
            <a:pathLst>
              <a:path w="696" h="796">
                <a:moveTo>
                  <a:pt x="646" y="746"/>
                </a:moveTo>
                <a:lnTo>
                  <a:pt x="149" y="746"/>
                </a:lnTo>
                <a:lnTo>
                  <a:pt x="149" y="696"/>
                </a:lnTo>
                <a:lnTo>
                  <a:pt x="547" y="696"/>
                </a:lnTo>
                <a:cubicBezTo>
                  <a:pt x="574" y="696"/>
                  <a:pt x="597" y="674"/>
                  <a:pt x="597" y="646"/>
                </a:cubicBezTo>
                <a:lnTo>
                  <a:pt x="597" y="149"/>
                </a:lnTo>
                <a:lnTo>
                  <a:pt x="646" y="149"/>
                </a:lnTo>
                <a:lnTo>
                  <a:pt x="646" y="746"/>
                </a:lnTo>
                <a:close/>
                <a:moveTo>
                  <a:pt x="472" y="290"/>
                </a:moveTo>
                <a:lnTo>
                  <a:pt x="124" y="290"/>
                </a:lnTo>
                <a:cubicBezTo>
                  <a:pt x="110" y="290"/>
                  <a:pt x="99" y="301"/>
                  <a:pt x="99" y="315"/>
                </a:cubicBezTo>
                <a:cubicBezTo>
                  <a:pt x="99" y="328"/>
                  <a:pt x="110" y="340"/>
                  <a:pt x="124" y="340"/>
                </a:cubicBezTo>
                <a:lnTo>
                  <a:pt x="472" y="340"/>
                </a:lnTo>
                <a:cubicBezTo>
                  <a:pt x="486" y="340"/>
                  <a:pt x="497" y="328"/>
                  <a:pt x="497" y="315"/>
                </a:cubicBezTo>
                <a:cubicBezTo>
                  <a:pt x="497" y="301"/>
                  <a:pt x="486" y="290"/>
                  <a:pt x="472" y="290"/>
                </a:cubicBezTo>
                <a:close/>
                <a:moveTo>
                  <a:pt x="472" y="190"/>
                </a:moveTo>
                <a:lnTo>
                  <a:pt x="124" y="190"/>
                </a:lnTo>
                <a:cubicBezTo>
                  <a:pt x="110" y="190"/>
                  <a:pt x="99" y="202"/>
                  <a:pt x="99" y="215"/>
                </a:cubicBezTo>
                <a:cubicBezTo>
                  <a:pt x="99" y="229"/>
                  <a:pt x="110" y="240"/>
                  <a:pt x="124" y="240"/>
                </a:cubicBezTo>
                <a:lnTo>
                  <a:pt x="472" y="240"/>
                </a:lnTo>
                <a:cubicBezTo>
                  <a:pt x="486" y="240"/>
                  <a:pt x="497" y="229"/>
                  <a:pt x="497" y="215"/>
                </a:cubicBezTo>
                <a:cubicBezTo>
                  <a:pt x="497" y="202"/>
                  <a:pt x="486" y="190"/>
                  <a:pt x="472" y="190"/>
                </a:cubicBezTo>
                <a:close/>
                <a:moveTo>
                  <a:pt x="472" y="497"/>
                </a:moveTo>
                <a:lnTo>
                  <a:pt x="124" y="497"/>
                </a:lnTo>
                <a:cubicBezTo>
                  <a:pt x="110" y="497"/>
                  <a:pt x="99" y="508"/>
                  <a:pt x="99" y="522"/>
                </a:cubicBezTo>
                <a:cubicBezTo>
                  <a:pt x="99" y="536"/>
                  <a:pt x="110" y="547"/>
                  <a:pt x="124" y="547"/>
                </a:cubicBezTo>
                <a:lnTo>
                  <a:pt x="472" y="547"/>
                </a:lnTo>
                <a:cubicBezTo>
                  <a:pt x="486" y="547"/>
                  <a:pt x="497" y="536"/>
                  <a:pt x="497" y="522"/>
                </a:cubicBezTo>
                <a:cubicBezTo>
                  <a:pt x="497" y="508"/>
                  <a:pt x="486" y="497"/>
                  <a:pt x="472" y="497"/>
                </a:cubicBezTo>
                <a:close/>
                <a:moveTo>
                  <a:pt x="472" y="397"/>
                </a:moveTo>
                <a:lnTo>
                  <a:pt x="124" y="397"/>
                </a:lnTo>
                <a:cubicBezTo>
                  <a:pt x="110" y="397"/>
                  <a:pt x="99" y="409"/>
                  <a:pt x="99" y="422"/>
                </a:cubicBezTo>
                <a:cubicBezTo>
                  <a:pt x="99" y="436"/>
                  <a:pt x="110" y="447"/>
                  <a:pt x="124" y="447"/>
                </a:cubicBezTo>
                <a:lnTo>
                  <a:pt x="472" y="447"/>
                </a:lnTo>
                <a:cubicBezTo>
                  <a:pt x="486" y="447"/>
                  <a:pt x="497" y="436"/>
                  <a:pt x="497" y="422"/>
                </a:cubicBezTo>
                <a:cubicBezTo>
                  <a:pt x="497" y="409"/>
                  <a:pt x="486" y="397"/>
                  <a:pt x="472" y="397"/>
                </a:cubicBezTo>
                <a:close/>
                <a:moveTo>
                  <a:pt x="49" y="646"/>
                </a:moveTo>
                <a:lnTo>
                  <a:pt x="49" y="49"/>
                </a:lnTo>
                <a:lnTo>
                  <a:pt x="547" y="49"/>
                </a:lnTo>
                <a:lnTo>
                  <a:pt x="547" y="646"/>
                </a:lnTo>
                <a:lnTo>
                  <a:pt x="49" y="646"/>
                </a:lnTo>
                <a:close/>
                <a:moveTo>
                  <a:pt x="646" y="99"/>
                </a:moveTo>
                <a:lnTo>
                  <a:pt x="597" y="99"/>
                </a:lnTo>
                <a:lnTo>
                  <a:pt x="597" y="49"/>
                </a:lnTo>
                <a:cubicBezTo>
                  <a:pt x="597" y="22"/>
                  <a:pt x="574" y="0"/>
                  <a:pt x="547" y="0"/>
                </a:cubicBezTo>
                <a:lnTo>
                  <a:pt x="49" y="0"/>
                </a:lnTo>
                <a:cubicBezTo>
                  <a:pt x="22" y="0"/>
                  <a:pt x="0" y="22"/>
                  <a:pt x="0" y="49"/>
                </a:cubicBezTo>
                <a:lnTo>
                  <a:pt x="0" y="646"/>
                </a:lnTo>
                <a:cubicBezTo>
                  <a:pt x="0" y="674"/>
                  <a:pt x="22" y="696"/>
                  <a:pt x="49" y="696"/>
                </a:cubicBezTo>
                <a:lnTo>
                  <a:pt x="99" y="696"/>
                </a:lnTo>
                <a:lnTo>
                  <a:pt x="99" y="746"/>
                </a:lnTo>
                <a:cubicBezTo>
                  <a:pt x="99" y="773"/>
                  <a:pt x="121" y="796"/>
                  <a:pt x="149" y="796"/>
                </a:cubicBezTo>
                <a:lnTo>
                  <a:pt x="646" y="796"/>
                </a:lnTo>
                <a:cubicBezTo>
                  <a:pt x="674" y="796"/>
                  <a:pt x="696" y="773"/>
                  <a:pt x="696" y="746"/>
                </a:cubicBezTo>
                <a:lnTo>
                  <a:pt x="696" y="149"/>
                </a:lnTo>
                <a:cubicBezTo>
                  <a:pt x="696" y="121"/>
                  <a:pt x="674" y="99"/>
                  <a:pt x="646" y="9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69" name="Freeform 58"/>
          <p:cNvSpPr/>
          <p:nvPr/>
        </p:nvSpPr>
        <p:spPr>
          <a:xfrm>
            <a:off x="8377200" y="1735200"/>
            <a:ext cx="190440" cy="152280"/>
          </a:xfrm>
          <a:custGeom>
            <a:avLst/>
            <a:gdLst/>
            <a:ahLst/>
            <a:rect l="l" t="t" r="r" b="b"/>
            <a:pathLst>
              <a:path w="718" h="568">
                <a:moveTo>
                  <a:pt x="685" y="253"/>
                </a:moveTo>
                <a:lnTo>
                  <a:pt x="684" y="553"/>
                </a:lnTo>
                <a:lnTo>
                  <a:pt x="626" y="232"/>
                </a:lnTo>
                <a:cubicBezTo>
                  <a:pt x="622" y="214"/>
                  <a:pt x="602" y="215"/>
                  <a:pt x="602" y="215"/>
                </a:cubicBezTo>
                <a:lnTo>
                  <a:pt x="111" y="215"/>
                </a:lnTo>
                <a:lnTo>
                  <a:pt x="111" y="113"/>
                </a:lnTo>
                <a:lnTo>
                  <a:pt x="685" y="113"/>
                </a:lnTo>
                <a:lnTo>
                  <a:pt x="685" y="253"/>
                </a:lnTo>
                <a:close/>
                <a:moveTo>
                  <a:pt x="716" y="541"/>
                </a:moveTo>
                <a:lnTo>
                  <a:pt x="716" y="82"/>
                </a:lnTo>
                <a:cubicBezTo>
                  <a:pt x="716" y="68"/>
                  <a:pt x="705" y="56"/>
                  <a:pt x="691" y="56"/>
                </a:cubicBezTo>
                <a:lnTo>
                  <a:pt x="367" y="56"/>
                </a:lnTo>
                <a:cubicBezTo>
                  <a:pt x="357" y="56"/>
                  <a:pt x="349" y="38"/>
                  <a:pt x="349" y="31"/>
                </a:cubicBezTo>
                <a:lnTo>
                  <a:pt x="349" y="28"/>
                </a:lnTo>
                <a:cubicBezTo>
                  <a:pt x="349" y="13"/>
                  <a:pt x="337" y="0"/>
                  <a:pt x="322" y="0"/>
                </a:cubicBezTo>
                <a:lnTo>
                  <a:pt x="149" y="0"/>
                </a:lnTo>
                <a:cubicBezTo>
                  <a:pt x="134" y="0"/>
                  <a:pt x="122" y="13"/>
                  <a:pt x="122" y="28"/>
                </a:cubicBezTo>
                <a:lnTo>
                  <a:pt x="122" y="31"/>
                </a:lnTo>
                <a:cubicBezTo>
                  <a:pt x="122" y="38"/>
                  <a:pt x="114" y="56"/>
                  <a:pt x="104" y="56"/>
                </a:cubicBezTo>
                <a:lnTo>
                  <a:pt x="104" y="56"/>
                </a:lnTo>
                <a:cubicBezTo>
                  <a:pt x="90" y="57"/>
                  <a:pt x="79" y="68"/>
                  <a:pt x="79" y="82"/>
                </a:cubicBezTo>
                <a:lnTo>
                  <a:pt x="79" y="215"/>
                </a:lnTo>
                <a:lnTo>
                  <a:pt x="24" y="215"/>
                </a:lnTo>
                <a:cubicBezTo>
                  <a:pt x="24" y="215"/>
                  <a:pt x="0" y="214"/>
                  <a:pt x="8" y="243"/>
                </a:cubicBezTo>
                <a:lnTo>
                  <a:pt x="66" y="541"/>
                </a:lnTo>
                <a:cubicBezTo>
                  <a:pt x="66" y="556"/>
                  <a:pt x="77" y="568"/>
                  <a:pt x="92" y="568"/>
                </a:cubicBezTo>
                <a:lnTo>
                  <a:pt x="703" y="568"/>
                </a:lnTo>
                <a:cubicBezTo>
                  <a:pt x="718" y="568"/>
                  <a:pt x="716" y="541"/>
                  <a:pt x="716" y="54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70" name="Freeform 59"/>
          <p:cNvSpPr/>
          <p:nvPr/>
        </p:nvSpPr>
        <p:spPr>
          <a:xfrm>
            <a:off x="3902040" y="3887640"/>
            <a:ext cx="135000" cy="152640"/>
          </a:xfrm>
          <a:custGeom>
            <a:avLst/>
            <a:gdLst/>
            <a:ahLst/>
            <a:rect l="l" t="t" r="r" b="b"/>
            <a:pathLst>
              <a:path w="506" h="570">
                <a:moveTo>
                  <a:pt x="411" y="380"/>
                </a:moveTo>
                <a:cubicBezTo>
                  <a:pt x="390" y="380"/>
                  <a:pt x="370" y="387"/>
                  <a:pt x="354" y="400"/>
                </a:cubicBezTo>
                <a:lnTo>
                  <a:pt x="188" y="301"/>
                </a:lnTo>
                <a:cubicBezTo>
                  <a:pt x="189" y="296"/>
                  <a:pt x="190" y="290"/>
                  <a:pt x="190" y="285"/>
                </a:cubicBezTo>
                <a:cubicBezTo>
                  <a:pt x="190" y="280"/>
                  <a:pt x="189" y="275"/>
                  <a:pt x="188" y="270"/>
                </a:cubicBezTo>
                <a:lnTo>
                  <a:pt x="354" y="170"/>
                </a:lnTo>
                <a:cubicBezTo>
                  <a:pt x="370" y="183"/>
                  <a:pt x="390" y="190"/>
                  <a:pt x="411" y="190"/>
                </a:cubicBezTo>
                <a:cubicBezTo>
                  <a:pt x="464" y="190"/>
                  <a:pt x="506" y="148"/>
                  <a:pt x="506" y="95"/>
                </a:cubicBezTo>
                <a:cubicBezTo>
                  <a:pt x="506" y="43"/>
                  <a:pt x="464" y="0"/>
                  <a:pt x="411" y="0"/>
                </a:cubicBezTo>
                <a:cubicBezTo>
                  <a:pt x="359" y="0"/>
                  <a:pt x="316" y="43"/>
                  <a:pt x="316" y="95"/>
                </a:cubicBezTo>
                <a:cubicBezTo>
                  <a:pt x="316" y="100"/>
                  <a:pt x="317" y="106"/>
                  <a:pt x="318" y="111"/>
                </a:cubicBezTo>
                <a:lnTo>
                  <a:pt x="153" y="210"/>
                </a:lnTo>
                <a:cubicBezTo>
                  <a:pt x="137" y="197"/>
                  <a:pt x="117" y="190"/>
                  <a:pt x="95" y="190"/>
                </a:cubicBezTo>
                <a:cubicBezTo>
                  <a:pt x="42" y="190"/>
                  <a:pt x="0" y="233"/>
                  <a:pt x="0" y="285"/>
                </a:cubicBezTo>
                <a:cubicBezTo>
                  <a:pt x="0" y="337"/>
                  <a:pt x="42" y="380"/>
                  <a:pt x="95" y="380"/>
                </a:cubicBezTo>
                <a:cubicBezTo>
                  <a:pt x="117" y="380"/>
                  <a:pt x="137" y="373"/>
                  <a:pt x="153" y="360"/>
                </a:cubicBezTo>
                <a:lnTo>
                  <a:pt x="318" y="459"/>
                </a:lnTo>
                <a:cubicBezTo>
                  <a:pt x="317" y="464"/>
                  <a:pt x="316" y="470"/>
                  <a:pt x="316" y="475"/>
                </a:cubicBezTo>
                <a:cubicBezTo>
                  <a:pt x="316" y="527"/>
                  <a:pt x="359" y="570"/>
                  <a:pt x="411" y="570"/>
                </a:cubicBezTo>
                <a:cubicBezTo>
                  <a:pt x="464" y="570"/>
                  <a:pt x="506" y="527"/>
                  <a:pt x="506" y="475"/>
                </a:cubicBezTo>
                <a:cubicBezTo>
                  <a:pt x="506" y="423"/>
                  <a:pt x="464" y="380"/>
                  <a:pt x="411" y="38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71" name="Freeform 60"/>
          <p:cNvSpPr/>
          <p:nvPr/>
        </p:nvSpPr>
        <p:spPr>
          <a:xfrm>
            <a:off x="9439200" y="1179360"/>
            <a:ext cx="122400" cy="147960"/>
          </a:xfrm>
          <a:custGeom>
            <a:avLst/>
            <a:gdLst/>
            <a:ahLst/>
            <a:rect l="l" t="t" r="r" b="b"/>
            <a:pathLst>
              <a:path w="460" h="554">
                <a:moveTo>
                  <a:pt x="460" y="399"/>
                </a:moveTo>
                <a:cubicBezTo>
                  <a:pt x="460" y="402"/>
                  <a:pt x="459" y="404"/>
                  <a:pt x="457" y="405"/>
                </a:cubicBezTo>
                <a:lnTo>
                  <a:pt x="266" y="552"/>
                </a:lnTo>
                <a:cubicBezTo>
                  <a:pt x="265" y="553"/>
                  <a:pt x="263" y="554"/>
                  <a:pt x="262" y="554"/>
                </a:cubicBezTo>
                <a:cubicBezTo>
                  <a:pt x="260" y="554"/>
                  <a:pt x="258" y="553"/>
                  <a:pt x="257" y="552"/>
                </a:cubicBezTo>
                <a:cubicBezTo>
                  <a:pt x="254" y="550"/>
                  <a:pt x="253" y="546"/>
                  <a:pt x="254" y="543"/>
                </a:cubicBezTo>
                <a:lnTo>
                  <a:pt x="293" y="446"/>
                </a:lnTo>
                <a:lnTo>
                  <a:pt x="293" y="442"/>
                </a:lnTo>
                <a:cubicBezTo>
                  <a:pt x="291" y="442"/>
                  <a:pt x="289" y="442"/>
                  <a:pt x="287" y="442"/>
                </a:cubicBezTo>
                <a:lnTo>
                  <a:pt x="287" y="442"/>
                </a:lnTo>
                <a:lnTo>
                  <a:pt x="207" y="442"/>
                </a:lnTo>
                <a:cubicBezTo>
                  <a:pt x="93" y="442"/>
                  <a:pt x="0" y="349"/>
                  <a:pt x="0" y="234"/>
                </a:cubicBezTo>
                <a:lnTo>
                  <a:pt x="0" y="207"/>
                </a:lnTo>
                <a:cubicBezTo>
                  <a:pt x="0" y="93"/>
                  <a:pt x="93" y="0"/>
                  <a:pt x="207" y="0"/>
                </a:cubicBezTo>
                <a:lnTo>
                  <a:pt x="414" y="0"/>
                </a:lnTo>
                <a:lnTo>
                  <a:pt x="414" y="96"/>
                </a:lnTo>
                <a:lnTo>
                  <a:pt x="207" y="96"/>
                </a:lnTo>
                <a:cubicBezTo>
                  <a:pt x="146" y="96"/>
                  <a:pt x="95" y="146"/>
                  <a:pt x="95" y="207"/>
                </a:cubicBezTo>
                <a:lnTo>
                  <a:pt x="95" y="234"/>
                </a:lnTo>
                <a:cubicBezTo>
                  <a:pt x="95" y="296"/>
                  <a:pt x="146" y="346"/>
                  <a:pt x="207" y="346"/>
                </a:cubicBezTo>
                <a:lnTo>
                  <a:pt x="290" y="346"/>
                </a:lnTo>
                <a:lnTo>
                  <a:pt x="254" y="256"/>
                </a:lnTo>
                <a:cubicBezTo>
                  <a:pt x="253" y="252"/>
                  <a:pt x="254" y="249"/>
                  <a:pt x="257" y="246"/>
                </a:cubicBezTo>
                <a:cubicBezTo>
                  <a:pt x="260" y="244"/>
                  <a:pt x="264" y="244"/>
                  <a:pt x="266" y="247"/>
                </a:cubicBezTo>
                <a:lnTo>
                  <a:pt x="457" y="393"/>
                </a:lnTo>
                <a:cubicBezTo>
                  <a:pt x="459" y="395"/>
                  <a:pt x="460" y="397"/>
                  <a:pt x="460" y="39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72" name="Freeform 61"/>
          <p:cNvSpPr/>
          <p:nvPr/>
        </p:nvSpPr>
        <p:spPr>
          <a:xfrm>
            <a:off x="5599080" y="4505400"/>
            <a:ext cx="125280" cy="164880"/>
          </a:xfrm>
          <a:custGeom>
            <a:avLst/>
            <a:gdLst/>
            <a:ahLst/>
            <a:rect l="l" t="t" r="r" b="b"/>
            <a:pathLst>
              <a:path w="464" h="618">
                <a:moveTo>
                  <a:pt x="0" y="0"/>
                </a:moveTo>
                <a:lnTo>
                  <a:pt x="464" y="309"/>
                </a:lnTo>
                <a:lnTo>
                  <a:pt x="0" y="618"/>
                </a:lnTo>
                <a:lnTo>
                  <a:pt x="0"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73" name="Freeform 62"/>
          <p:cNvSpPr/>
          <p:nvPr/>
        </p:nvSpPr>
        <p:spPr>
          <a:xfrm>
            <a:off x="2927520" y="2284560"/>
            <a:ext cx="155520" cy="153720"/>
          </a:xfrm>
          <a:custGeom>
            <a:avLst/>
            <a:gdLst/>
            <a:ahLst/>
            <a:rect l="l" t="t" r="r" b="b"/>
            <a:pathLst>
              <a:path w="581" h="572">
                <a:moveTo>
                  <a:pt x="520" y="544"/>
                </a:moveTo>
                <a:cubicBezTo>
                  <a:pt x="508" y="544"/>
                  <a:pt x="497" y="534"/>
                  <a:pt x="497" y="521"/>
                </a:cubicBezTo>
                <a:cubicBezTo>
                  <a:pt x="497" y="508"/>
                  <a:pt x="508" y="498"/>
                  <a:pt x="520" y="498"/>
                </a:cubicBezTo>
                <a:cubicBezTo>
                  <a:pt x="533" y="498"/>
                  <a:pt x="543" y="508"/>
                  <a:pt x="543" y="521"/>
                </a:cubicBezTo>
                <a:cubicBezTo>
                  <a:pt x="543" y="534"/>
                  <a:pt x="533" y="544"/>
                  <a:pt x="520" y="544"/>
                </a:cubicBezTo>
                <a:close/>
                <a:moveTo>
                  <a:pt x="260" y="171"/>
                </a:moveTo>
                <a:lnTo>
                  <a:pt x="258" y="169"/>
                </a:lnTo>
                <a:cubicBezTo>
                  <a:pt x="270" y="126"/>
                  <a:pt x="259" y="78"/>
                  <a:pt x="225" y="44"/>
                </a:cubicBezTo>
                <a:cubicBezTo>
                  <a:pt x="191" y="11"/>
                  <a:pt x="144" y="0"/>
                  <a:pt x="101" y="12"/>
                </a:cubicBezTo>
                <a:lnTo>
                  <a:pt x="174" y="84"/>
                </a:lnTo>
                <a:lnTo>
                  <a:pt x="155" y="155"/>
                </a:lnTo>
                <a:lnTo>
                  <a:pt x="84" y="174"/>
                </a:lnTo>
                <a:lnTo>
                  <a:pt x="11" y="101"/>
                </a:lnTo>
                <a:cubicBezTo>
                  <a:pt x="0" y="144"/>
                  <a:pt x="11" y="192"/>
                  <a:pt x="44" y="225"/>
                </a:cubicBezTo>
                <a:cubicBezTo>
                  <a:pt x="80" y="260"/>
                  <a:pt x="130" y="271"/>
                  <a:pt x="175" y="256"/>
                </a:cubicBezTo>
                <a:lnTo>
                  <a:pt x="175" y="257"/>
                </a:lnTo>
                <a:lnTo>
                  <a:pt x="473" y="554"/>
                </a:lnTo>
                <a:cubicBezTo>
                  <a:pt x="484" y="566"/>
                  <a:pt x="500" y="572"/>
                  <a:pt x="515" y="572"/>
                </a:cubicBezTo>
                <a:cubicBezTo>
                  <a:pt x="531" y="572"/>
                  <a:pt x="546" y="566"/>
                  <a:pt x="558" y="554"/>
                </a:cubicBezTo>
                <a:cubicBezTo>
                  <a:pt x="581" y="531"/>
                  <a:pt x="581" y="493"/>
                  <a:pt x="558" y="469"/>
                </a:cubicBezTo>
                <a:lnTo>
                  <a:pt x="260" y="171"/>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74" name="Freeform 63"/>
          <p:cNvSpPr/>
          <p:nvPr/>
        </p:nvSpPr>
        <p:spPr>
          <a:xfrm>
            <a:off x="5877000" y="4535640"/>
            <a:ext cx="203040" cy="102960"/>
          </a:xfrm>
          <a:custGeom>
            <a:avLst/>
            <a:gdLst/>
            <a:ahLst/>
            <a:rect l="l" t="t" r="r" b="b"/>
            <a:pathLst>
              <a:path w="762" h="382">
                <a:moveTo>
                  <a:pt x="0" y="0"/>
                </a:moveTo>
                <a:lnTo>
                  <a:pt x="762" y="0"/>
                </a:lnTo>
                <a:lnTo>
                  <a:pt x="381" y="382"/>
                </a:lnTo>
                <a:lnTo>
                  <a:pt x="0" y="0"/>
                </a:lnTo>
                <a:close/>
              </a:path>
            </a:pathLst>
          </a:custGeom>
          <a:solidFill>
            <a:srgbClr val="a6a6a6"/>
          </a:solidFill>
          <a:ln w="0">
            <a:noFill/>
          </a:ln>
        </p:spPr>
        <p:style>
          <a:lnRef idx="0"/>
          <a:fillRef idx="0"/>
          <a:effectRef idx="0"/>
          <a:fontRef idx="minor"/>
        </p:style>
        <p:txBody>
          <a:bodyPr lIns="145800" rIns="145800" tIns="30240" bIns="30240" anchor="t">
            <a:noAutofit/>
          </a:bodyPr>
          <a:p>
            <a:endParaRPr b="0" lang="en-US" sz="1800" spc="-1" strike="noStrike">
              <a:solidFill>
                <a:srgbClr val="000000"/>
              </a:solidFill>
              <a:latin typeface="Calibri"/>
            </a:endParaRPr>
          </a:p>
        </p:txBody>
      </p:sp>
      <p:sp>
        <p:nvSpPr>
          <p:cNvPr id="1675" name="Freeform 64"/>
          <p:cNvSpPr/>
          <p:nvPr/>
        </p:nvSpPr>
        <p:spPr>
          <a:xfrm>
            <a:off x="9717120" y="2608200"/>
            <a:ext cx="218880" cy="154080"/>
          </a:xfrm>
          <a:custGeom>
            <a:avLst/>
            <a:gdLst/>
            <a:ahLst/>
            <a:rect l="l" t="t" r="r" b="b"/>
            <a:pathLst>
              <a:path w="819" h="576">
                <a:moveTo>
                  <a:pt x="454" y="322"/>
                </a:moveTo>
                <a:cubicBezTo>
                  <a:pt x="503" y="253"/>
                  <a:pt x="543" y="198"/>
                  <a:pt x="668" y="190"/>
                </a:cubicBezTo>
                <a:lnTo>
                  <a:pt x="641" y="258"/>
                </a:lnTo>
                <a:cubicBezTo>
                  <a:pt x="640" y="261"/>
                  <a:pt x="641" y="264"/>
                  <a:pt x="643" y="266"/>
                </a:cubicBezTo>
                <a:cubicBezTo>
                  <a:pt x="644" y="267"/>
                  <a:pt x="646" y="267"/>
                  <a:pt x="647" y="267"/>
                </a:cubicBezTo>
                <a:cubicBezTo>
                  <a:pt x="649" y="267"/>
                  <a:pt x="650" y="267"/>
                  <a:pt x="651" y="266"/>
                </a:cubicBezTo>
                <a:lnTo>
                  <a:pt x="816" y="139"/>
                </a:lnTo>
                <a:cubicBezTo>
                  <a:pt x="818" y="138"/>
                  <a:pt x="819" y="136"/>
                  <a:pt x="819" y="134"/>
                </a:cubicBezTo>
                <a:cubicBezTo>
                  <a:pt x="819" y="132"/>
                  <a:pt x="818" y="130"/>
                  <a:pt x="816" y="129"/>
                </a:cubicBezTo>
                <a:lnTo>
                  <a:pt x="651" y="2"/>
                </a:lnTo>
                <a:cubicBezTo>
                  <a:pt x="649" y="0"/>
                  <a:pt x="646" y="0"/>
                  <a:pt x="643" y="2"/>
                </a:cubicBezTo>
                <a:cubicBezTo>
                  <a:pt x="641" y="4"/>
                  <a:pt x="640" y="7"/>
                  <a:pt x="641" y="10"/>
                </a:cubicBezTo>
                <a:lnTo>
                  <a:pt x="669" y="80"/>
                </a:lnTo>
                <a:cubicBezTo>
                  <a:pt x="485" y="89"/>
                  <a:pt x="418" y="182"/>
                  <a:pt x="364" y="258"/>
                </a:cubicBezTo>
                <a:cubicBezTo>
                  <a:pt x="315" y="326"/>
                  <a:pt x="276" y="381"/>
                  <a:pt x="150" y="386"/>
                </a:cubicBezTo>
                <a:lnTo>
                  <a:pt x="178" y="318"/>
                </a:lnTo>
                <a:cubicBezTo>
                  <a:pt x="179" y="315"/>
                  <a:pt x="178" y="312"/>
                  <a:pt x="175" y="310"/>
                </a:cubicBezTo>
                <a:cubicBezTo>
                  <a:pt x="174" y="309"/>
                  <a:pt x="173" y="309"/>
                  <a:pt x="171" y="309"/>
                </a:cubicBezTo>
                <a:cubicBezTo>
                  <a:pt x="170" y="309"/>
                  <a:pt x="168" y="309"/>
                  <a:pt x="167" y="310"/>
                </a:cubicBezTo>
                <a:lnTo>
                  <a:pt x="2" y="437"/>
                </a:lnTo>
                <a:cubicBezTo>
                  <a:pt x="1" y="438"/>
                  <a:pt x="0" y="440"/>
                  <a:pt x="0" y="442"/>
                </a:cubicBezTo>
                <a:cubicBezTo>
                  <a:pt x="0" y="444"/>
                  <a:pt x="1" y="446"/>
                  <a:pt x="2" y="447"/>
                </a:cubicBezTo>
                <a:lnTo>
                  <a:pt x="167" y="574"/>
                </a:lnTo>
                <a:cubicBezTo>
                  <a:pt x="170" y="576"/>
                  <a:pt x="173" y="576"/>
                  <a:pt x="175" y="574"/>
                </a:cubicBezTo>
                <a:cubicBezTo>
                  <a:pt x="178" y="572"/>
                  <a:pt x="179" y="569"/>
                  <a:pt x="177" y="566"/>
                </a:cubicBezTo>
                <a:lnTo>
                  <a:pt x="150" y="497"/>
                </a:lnTo>
                <a:cubicBezTo>
                  <a:pt x="333" y="490"/>
                  <a:pt x="400" y="397"/>
                  <a:pt x="454" y="322"/>
                </a:cubicBezTo>
                <a:close/>
                <a:moveTo>
                  <a:pt x="167" y="266"/>
                </a:moveTo>
                <a:cubicBezTo>
                  <a:pt x="168" y="267"/>
                  <a:pt x="170" y="267"/>
                  <a:pt x="171" y="267"/>
                </a:cubicBezTo>
                <a:cubicBezTo>
                  <a:pt x="173" y="267"/>
                  <a:pt x="174" y="267"/>
                  <a:pt x="175" y="266"/>
                </a:cubicBezTo>
                <a:cubicBezTo>
                  <a:pt x="178" y="264"/>
                  <a:pt x="179" y="261"/>
                  <a:pt x="178" y="258"/>
                </a:cubicBezTo>
                <a:lnTo>
                  <a:pt x="151" y="190"/>
                </a:lnTo>
                <a:cubicBezTo>
                  <a:pt x="244" y="196"/>
                  <a:pt x="290" y="228"/>
                  <a:pt x="327" y="272"/>
                </a:cubicBezTo>
                <a:cubicBezTo>
                  <a:pt x="334" y="264"/>
                  <a:pt x="340" y="255"/>
                  <a:pt x="347" y="245"/>
                </a:cubicBezTo>
                <a:cubicBezTo>
                  <a:pt x="361" y="226"/>
                  <a:pt x="376" y="204"/>
                  <a:pt x="395" y="183"/>
                </a:cubicBezTo>
                <a:cubicBezTo>
                  <a:pt x="345" y="131"/>
                  <a:pt x="275" y="86"/>
                  <a:pt x="150" y="80"/>
                </a:cubicBezTo>
                <a:lnTo>
                  <a:pt x="178" y="10"/>
                </a:lnTo>
                <a:cubicBezTo>
                  <a:pt x="179" y="7"/>
                  <a:pt x="178" y="4"/>
                  <a:pt x="175" y="2"/>
                </a:cubicBezTo>
                <a:cubicBezTo>
                  <a:pt x="173" y="0"/>
                  <a:pt x="170" y="0"/>
                  <a:pt x="167" y="2"/>
                </a:cubicBezTo>
                <a:lnTo>
                  <a:pt x="2" y="129"/>
                </a:lnTo>
                <a:cubicBezTo>
                  <a:pt x="1" y="130"/>
                  <a:pt x="0" y="132"/>
                  <a:pt x="0" y="134"/>
                </a:cubicBezTo>
                <a:cubicBezTo>
                  <a:pt x="0" y="136"/>
                  <a:pt x="1" y="138"/>
                  <a:pt x="2" y="139"/>
                </a:cubicBezTo>
                <a:lnTo>
                  <a:pt x="167" y="266"/>
                </a:lnTo>
                <a:close/>
                <a:moveTo>
                  <a:pt x="816" y="437"/>
                </a:moveTo>
                <a:cubicBezTo>
                  <a:pt x="818" y="438"/>
                  <a:pt x="819" y="440"/>
                  <a:pt x="819" y="442"/>
                </a:cubicBezTo>
                <a:cubicBezTo>
                  <a:pt x="819" y="444"/>
                  <a:pt x="818" y="446"/>
                  <a:pt x="816" y="447"/>
                </a:cubicBezTo>
                <a:lnTo>
                  <a:pt x="651" y="574"/>
                </a:lnTo>
                <a:cubicBezTo>
                  <a:pt x="649" y="576"/>
                  <a:pt x="646" y="576"/>
                  <a:pt x="643" y="574"/>
                </a:cubicBezTo>
                <a:cubicBezTo>
                  <a:pt x="641" y="572"/>
                  <a:pt x="640" y="569"/>
                  <a:pt x="641" y="566"/>
                </a:cubicBezTo>
                <a:lnTo>
                  <a:pt x="668" y="497"/>
                </a:lnTo>
                <a:cubicBezTo>
                  <a:pt x="544" y="492"/>
                  <a:pt x="473" y="448"/>
                  <a:pt x="424" y="396"/>
                </a:cubicBezTo>
                <a:cubicBezTo>
                  <a:pt x="442" y="375"/>
                  <a:pt x="457" y="354"/>
                  <a:pt x="471" y="334"/>
                </a:cubicBezTo>
                <a:cubicBezTo>
                  <a:pt x="478" y="325"/>
                  <a:pt x="485" y="315"/>
                  <a:pt x="491" y="307"/>
                </a:cubicBezTo>
                <a:cubicBezTo>
                  <a:pt x="529" y="351"/>
                  <a:pt x="575" y="382"/>
                  <a:pt x="668" y="386"/>
                </a:cubicBezTo>
                <a:lnTo>
                  <a:pt x="641" y="318"/>
                </a:lnTo>
                <a:cubicBezTo>
                  <a:pt x="640" y="315"/>
                  <a:pt x="641" y="312"/>
                  <a:pt x="643" y="310"/>
                </a:cubicBezTo>
                <a:cubicBezTo>
                  <a:pt x="644" y="309"/>
                  <a:pt x="646" y="309"/>
                  <a:pt x="647" y="309"/>
                </a:cubicBezTo>
                <a:cubicBezTo>
                  <a:pt x="649" y="309"/>
                  <a:pt x="650" y="309"/>
                  <a:pt x="651" y="310"/>
                </a:cubicBezTo>
                <a:lnTo>
                  <a:pt x="816" y="437"/>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76" name="Freeform 65"/>
          <p:cNvSpPr/>
          <p:nvPr/>
        </p:nvSpPr>
        <p:spPr>
          <a:xfrm>
            <a:off x="4519440" y="3274920"/>
            <a:ext cx="182880" cy="160560"/>
          </a:xfrm>
          <a:custGeom>
            <a:avLst/>
            <a:gdLst/>
            <a:ahLst/>
            <a:rect l="l" t="t" r="r" b="b"/>
            <a:pathLst>
              <a:path w="687" h="601">
                <a:moveTo>
                  <a:pt x="343" y="429"/>
                </a:moveTo>
                <a:cubicBezTo>
                  <a:pt x="391" y="429"/>
                  <a:pt x="429" y="391"/>
                  <a:pt x="429" y="343"/>
                </a:cubicBezTo>
                <a:cubicBezTo>
                  <a:pt x="429" y="296"/>
                  <a:pt x="391" y="257"/>
                  <a:pt x="343" y="257"/>
                </a:cubicBezTo>
                <a:cubicBezTo>
                  <a:pt x="296" y="257"/>
                  <a:pt x="257" y="296"/>
                  <a:pt x="257" y="343"/>
                </a:cubicBezTo>
                <a:cubicBezTo>
                  <a:pt x="257" y="391"/>
                  <a:pt x="296" y="429"/>
                  <a:pt x="343" y="429"/>
                </a:cubicBezTo>
                <a:close/>
                <a:moveTo>
                  <a:pt x="343" y="214"/>
                </a:moveTo>
                <a:cubicBezTo>
                  <a:pt x="414" y="214"/>
                  <a:pt x="472" y="272"/>
                  <a:pt x="472" y="343"/>
                </a:cubicBezTo>
                <a:cubicBezTo>
                  <a:pt x="472" y="414"/>
                  <a:pt x="414" y="472"/>
                  <a:pt x="343" y="472"/>
                </a:cubicBezTo>
                <a:cubicBezTo>
                  <a:pt x="272" y="472"/>
                  <a:pt x="214" y="414"/>
                  <a:pt x="214" y="343"/>
                </a:cubicBezTo>
                <a:cubicBezTo>
                  <a:pt x="214" y="272"/>
                  <a:pt x="272" y="214"/>
                  <a:pt x="343" y="214"/>
                </a:cubicBezTo>
                <a:close/>
                <a:moveTo>
                  <a:pt x="150" y="214"/>
                </a:moveTo>
                <a:cubicBezTo>
                  <a:pt x="162" y="214"/>
                  <a:pt x="171" y="224"/>
                  <a:pt x="171" y="236"/>
                </a:cubicBezTo>
                <a:cubicBezTo>
                  <a:pt x="171" y="248"/>
                  <a:pt x="162" y="257"/>
                  <a:pt x="150" y="257"/>
                </a:cubicBezTo>
                <a:cubicBezTo>
                  <a:pt x="138" y="257"/>
                  <a:pt x="128" y="248"/>
                  <a:pt x="128" y="236"/>
                </a:cubicBezTo>
                <a:cubicBezTo>
                  <a:pt x="128" y="224"/>
                  <a:pt x="138" y="214"/>
                  <a:pt x="150" y="214"/>
                </a:cubicBezTo>
                <a:close/>
                <a:moveTo>
                  <a:pt x="601" y="172"/>
                </a:moveTo>
                <a:lnTo>
                  <a:pt x="472" y="172"/>
                </a:lnTo>
                <a:lnTo>
                  <a:pt x="429" y="172"/>
                </a:lnTo>
                <a:lnTo>
                  <a:pt x="429" y="86"/>
                </a:lnTo>
                <a:lnTo>
                  <a:pt x="257" y="86"/>
                </a:lnTo>
                <a:lnTo>
                  <a:pt x="257" y="172"/>
                </a:lnTo>
                <a:lnTo>
                  <a:pt x="214" y="172"/>
                </a:lnTo>
                <a:lnTo>
                  <a:pt x="86" y="172"/>
                </a:lnTo>
                <a:lnTo>
                  <a:pt x="86" y="515"/>
                </a:lnTo>
                <a:lnTo>
                  <a:pt x="601" y="515"/>
                </a:lnTo>
                <a:lnTo>
                  <a:pt x="601" y="172"/>
                </a:lnTo>
                <a:close/>
                <a:moveTo>
                  <a:pt x="644" y="601"/>
                </a:moveTo>
                <a:lnTo>
                  <a:pt x="43" y="601"/>
                </a:lnTo>
                <a:cubicBezTo>
                  <a:pt x="19" y="601"/>
                  <a:pt x="0" y="582"/>
                  <a:pt x="0" y="558"/>
                </a:cubicBezTo>
                <a:lnTo>
                  <a:pt x="0" y="129"/>
                </a:lnTo>
                <a:cubicBezTo>
                  <a:pt x="0" y="105"/>
                  <a:pt x="19" y="86"/>
                  <a:pt x="43" y="86"/>
                </a:cubicBezTo>
                <a:lnTo>
                  <a:pt x="171" y="86"/>
                </a:lnTo>
                <a:lnTo>
                  <a:pt x="171" y="43"/>
                </a:lnTo>
                <a:cubicBezTo>
                  <a:pt x="171" y="19"/>
                  <a:pt x="191" y="0"/>
                  <a:pt x="214" y="0"/>
                </a:cubicBezTo>
                <a:lnTo>
                  <a:pt x="472" y="0"/>
                </a:lnTo>
                <a:cubicBezTo>
                  <a:pt x="496" y="0"/>
                  <a:pt x="515" y="19"/>
                  <a:pt x="515" y="43"/>
                </a:cubicBezTo>
                <a:lnTo>
                  <a:pt x="515" y="86"/>
                </a:lnTo>
                <a:lnTo>
                  <a:pt x="644" y="86"/>
                </a:lnTo>
                <a:cubicBezTo>
                  <a:pt x="668" y="86"/>
                  <a:pt x="687" y="105"/>
                  <a:pt x="687" y="129"/>
                </a:cubicBezTo>
                <a:lnTo>
                  <a:pt x="687" y="558"/>
                </a:lnTo>
                <a:cubicBezTo>
                  <a:pt x="687" y="582"/>
                  <a:pt x="668" y="601"/>
                  <a:pt x="644" y="60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77" name="Freeform 66"/>
          <p:cNvSpPr/>
          <p:nvPr/>
        </p:nvSpPr>
        <p:spPr>
          <a:xfrm>
            <a:off x="9445680" y="3559320"/>
            <a:ext cx="109440" cy="214200"/>
          </a:xfrm>
          <a:custGeom>
            <a:avLst/>
            <a:gdLst/>
            <a:ahLst/>
            <a:rect l="l" t="t" r="r" b="b"/>
            <a:pathLst>
              <a:path w="419" h="802">
                <a:moveTo>
                  <a:pt x="419" y="593"/>
                </a:moveTo>
                <a:lnTo>
                  <a:pt x="419" y="193"/>
                </a:lnTo>
                <a:cubicBezTo>
                  <a:pt x="419" y="79"/>
                  <a:pt x="349" y="0"/>
                  <a:pt x="247" y="0"/>
                </a:cubicBezTo>
                <a:lnTo>
                  <a:pt x="169" y="0"/>
                </a:lnTo>
                <a:cubicBezTo>
                  <a:pt x="68" y="0"/>
                  <a:pt x="0" y="77"/>
                  <a:pt x="0" y="193"/>
                </a:cubicBezTo>
                <a:cubicBezTo>
                  <a:pt x="0" y="193"/>
                  <a:pt x="0" y="638"/>
                  <a:pt x="0" y="638"/>
                </a:cubicBezTo>
                <a:cubicBezTo>
                  <a:pt x="0" y="726"/>
                  <a:pt x="72" y="802"/>
                  <a:pt x="161" y="802"/>
                </a:cubicBezTo>
                <a:cubicBezTo>
                  <a:pt x="162" y="802"/>
                  <a:pt x="163" y="802"/>
                  <a:pt x="164" y="802"/>
                </a:cubicBezTo>
                <a:cubicBezTo>
                  <a:pt x="253" y="802"/>
                  <a:pt x="325" y="730"/>
                  <a:pt x="328" y="642"/>
                </a:cubicBezTo>
                <a:lnTo>
                  <a:pt x="328" y="331"/>
                </a:lnTo>
                <a:cubicBezTo>
                  <a:pt x="328" y="266"/>
                  <a:pt x="278" y="215"/>
                  <a:pt x="215" y="215"/>
                </a:cubicBezTo>
                <a:lnTo>
                  <a:pt x="203" y="215"/>
                </a:lnTo>
                <a:cubicBezTo>
                  <a:pt x="142" y="215"/>
                  <a:pt x="95" y="265"/>
                  <a:pt x="95" y="331"/>
                </a:cubicBezTo>
                <a:lnTo>
                  <a:pt x="95" y="589"/>
                </a:lnTo>
                <a:lnTo>
                  <a:pt x="156" y="589"/>
                </a:lnTo>
                <a:lnTo>
                  <a:pt x="156" y="331"/>
                </a:lnTo>
                <a:cubicBezTo>
                  <a:pt x="156" y="304"/>
                  <a:pt x="170" y="276"/>
                  <a:pt x="203" y="276"/>
                </a:cubicBezTo>
                <a:lnTo>
                  <a:pt x="215" y="276"/>
                </a:lnTo>
                <a:cubicBezTo>
                  <a:pt x="245" y="276"/>
                  <a:pt x="267" y="300"/>
                  <a:pt x="267" y="331"/>
                </a:cubicBezTo>
                <a:lnTo>
                  <a:pt x="267" y="638"/>
                </a:lnTo>
                <a:cubicBezTo>
                  <a:pt x="267" y="695"/>
                  <a:pt x="221" y="741"/>
                  <a:pt x="164" y="741"/>
                </a:cubicBezTo>
                <a:cubicBezTo>
                  <a:pt x="134" y="741"/>
                  <a:pt x="106" y="728"/>
                  <a:pt x="87" y="707"/>
                </a:cubicBezTo>
                <a:cubicBezTo>
                  <a:pt x="72" y="687"/>
                  <a:pt x="61" y="656"/>
                  <a:pt x="61" y="609"/>
                </a:cubicBezTo>
                <a:lnTo>
                  <a:pt x="61" y="193"/>
                </a:lnTo>
                <a:cubicBezTo>
                  <a:pt x="61" y="95"/>
                  <a:pt x="117" y="61"/>
                  <a:pt x="169" y="61"/>
                </a:cubicBezTo>
                <a:lnTo>
                  <a:pt x="247" y="61"/>
                </a:lnTo>
                <a:cubicBezTo>
                  <a:pt x="324" y="61"/>
                  <a:pt x="359" y="127"/>
                  <a:pt x="359" y="193"/>
                </a:cubicBezTo>
                <a:lnTo>
                  <a:pt x="359" y="593"/>
                </a:lnTo>
                <a:lnTo>
                  <a:pt x="419" y="593"/>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78" name="Freeform 67"/>
          <p:cNvSpPr/>
          <p:nvPr/>
        </p:nvSpPr>
        <p:spPr>
          <a:xfrm>
            <a:off x="6648480" y="2946240"/>
            <a:ext cx="133200" cy="165240"/>
          </a:xfrm>
          <a:custGeom>
            <a:avLst/>
            <a:gdLst/>
            <a:ahLst/>
            <a:rect l="l" t="t" r="r" b="b"/>
            <a:pathLst>
              <a:path w="497" h="615">
                <a:moveTo>
                  <a:pt x="366" y="224"/>
                </a:moveTo>
                <a:lnTo>
                  <a:pt x="366" y="392"/>
                </a:lnTo>
                <a:lnTo>
                  <a:pt x="131" y="392"/>
                </a:lnTo>
                <a:lnTo>
                  <a:pt x="131" y="224"/>
                </a:lnTo>
                <a:lnTo>
                  <a:pt x="366" y="224"/>
                </a:lnTo>
                <a:close/>
                <a:moveTo>
                  <a:pt x="403" y="489"/>
                </a:moveTo>
                <a:lnTo>
                  <a:pt x="461" y="489"/>
                </a:lnTo>
                <a:lnTo>
                  <a:pt x="461" y="546"/>
                </a:lnTo>
                <a:lnTo>
                  <a:pt x="403" y="546"/>
                </a:lnTo>
                <a:lnTo>
                  <a:pt x="403" y="489"/>
                </a:lnTo>
                <a:close/>
                <a:moveTo>
                  <a:pt x="403" y="384"/>
                </a:moveTo>
                <a:lnTo>
                  <a:pt x="461" y="384"/>
                </a:lnTo>
                <a:lnTo>
                  <a:pt x="461" y="441"/>
                </a:lnTo>
                <a:lnTo>
                  <a:pt x="403" y="441"/>
                </a:lnTo>
                <a:lnTo>
                  <a:pt x="403" y="384"/>
                </a:lnTo>
                <a:close/>
                <a:moveTo>
                  <a:pt x="403" y="279"/>
                </a:moveTo>
                <a:lnTo>
                  <a:pt x="461" y="279"/>
                </a:lnTo>
                <a:lnTo>
                  <a:pt x="461" y="336"/>
                </a:lnTo>
                <a:lnTo>
                  <a:pt x="403" y="336"/>
                </a:lnTo>
                <a:lnTo>
                  <a:pt x="403" y="279"/>
                </a:lnTo>
                <a:close/>
                <a:moveTo>
                  <a:pt x="403" y="174"/>
                </a:moveTo>
                <a:lnTo>
                  <a:pt x="461" y="174"/>
                </a:lnTo>
                <a:lnTo>
                  <a:pt x="461" y="231"/>
                </a:lnTo>
                <a:lnTo>
                  <a:pt x="403" y="231"/>
                </a:lnTo>
                <a:lnTo>
                  <a:pt x="403" y="174"/>
                </a:lnTo>
                <a:close/>
                <a:moveTo>
                  <a:pt x="403" y="69"/>
                </a:moveTo>
                <a:lnTo>
                  <a:pt x="461" y="69"/>
                </a:lnTo>
                <a:lnTo>
                  <a:pt x="461" y="127"/>
                </a:lnTo>
                <a:lnTo>
                  <a:pt x="403" y="127"/>
                </a:lnTo>
                <a:lnTo>
                  <a:pt x="403" y="69"/>
                </a:lnTo>
                <a:close/>
                <a:moveTo>
                  <a:pt x="93" y="127"/>
                </a:moveTo>
                <a:lnTo>
                  <a:pt x="35" y="127"/>
                </a:lnTo>
                <a:lnTo>
                  <a:pt x="35" y="69"/>
                </a:lnTo>
                <a:lnTo>
                  <a:pt x="93" y="69"/>
                </a:lnTo>
                <a:lnTo>
                  <a:pt x="93" y="127"/>
                </a:lnTo>
                <a:close/>
                <a:moveTo>
                  <a:pt x="93" y="231"/>
                </a:moveTo>
                <a:lnTo>
                  <a:pt x="35" y="231"/>
                </a:lnTo>
                <a:lnTo>
                  <a:pt x="35" y="174"/>
                </a:lnTo>
                <a:lnTo>
                  <a:pt x="93" y="174"/>
                </a:lnTo>
                <a:lnTo>
                  <a:pt x="93" y="231"/>
                </a:lnTo>
                <a:close/>
                <a:moveTo>
                  <a:pt x="93" y="336"/>
                </a:moveTo>
                <a:lnTo>
                  <a:pt x="35" y="336"/>
                </a:lnTo>
                <a:lnTo>
                  <a:pt x="35" y="279"/>
                </a:lnTo>
                <a:lnTo>
                  <a:pt x="93" y="279"/>
                </a:lnTo>
                <a:lnTo>
                  <a:pt x="93" y="336"/>
                </a:lnTo>
                <a:close/>
                <a:moveTo>
                  <a:pt x="93" y="441"/>
                </a:moveTo>
                <a:lnTo>
                  <a:pt x="35" y="441"/>
                </a:lnTo>
                <a:lnTo>
                  <a:pt x="35" y="384"/>
                </a:lnTo>
                <a:lnTo>
                  <a:pt x="93" y="384"/>
                </a:lnTo>
                <a:lnTo>
                  <a:pt x="93" y="441"/>
                </a:lnTo>
                <a:close/>
                <a:moveTo>
                  <a:pt x="93" y="546"/>
                </a:moveTo>
                <a:lnTo>
                  <a:pt x="35" y="546"/>
                </a:lnTo>
                <a:lnTo>
                  <a:pt x="35" y="489"/>
                </a:lnTo>
                <a:lnTo>
                  <a:pt x="93" y="489"/>
                </a:lnTo>
                <a:lnTo>
                  <a:pt x="93" y="546"/>
                </a:lnTo>
                <a:close/>
                <a:moveTo>
                  <a:pt x="93" y="0"/>
                </a:moveTo>
                <a:lnTo>
                  <a:pt x="93" y="22"/>
                </a:lnTo>
                <a:lnTo>
                  <a:pt x="35" y="22"/>
                </a:lnTo>
                <a:lnTo>
                  <a:pt x="35" y="0"/>
                </a:lnTo>
                <a:lnTo>
                  <a:pt x="0" y="0"/>
                </a:lnTo>
                <a:lnTo>
                  <a:pt x="0" y="615"/>
                </a:lnTo>
                <a:lnTo>
                  <a:pt x="35" y="615"/>
                </a:lnTo>
                <a:lnTo>
                  <a:pt x="35" y="593"/>
                </a:lnTo>
                <a:lnTo>
                  <a:pt x="93" y="593"/>
                </a:lnTo>
                <a:lnTo>
                  <a:pt x="93" y="615"/>
                </a:lnTo>
                <a:lnTo>
                  <a:pt x="131" y="615"/>
                </a:lnTo>
                <a:lnTo>
                  <a:pt x="131" y="450"/>
                </a:lnTo>
                <a:lnTo>
                  <a:pt x="366" y="450"/>
                </a:lnTo>
                <a:lnTo>
                  <a:pt x="366" y="615"/>
                </a:lnTo>
                <a:lnTo>
                  <a:pt x="403" y="615"/>
                </a:lnTo>
                <a:lnTo>
                  <a:pt x="403" y="593"/>
                </a:lnTo>
                <a:lnTo>
                  <a:pt x="461" y="593"/>
                </a:lnTo>
                <a:lnTo>
                  <a:pt x="461" y="615"/>
                </a:lnTo>
                <a:lnTo>
                  <a:pt x="497" y="615"/>
                </a:lnTo>
                <a:lnTo>
                  <a:pt x="497" y="0"/>
                </a:lnTo>
                <a:lnTo>
                  <a:pt x="461" y="0"/>
                </a:lnTo>
                <a:lnTo>
                  <a:pt x="461" y="22"/>
                </a:lnTo>
                <a:lnTo>
                  <a:pt x="403" y="22"/>
                </a:lnTo>
                <a:lnTo>
                  <a:pt x="403" y="0"/>
                </a:lnTo>
                <a:lnTo>
                  <a:pt x="366" y="0"/>
                </a:lnTo>
                <a:lnTo>
                  <a:pt x="366" y="165"/>
                </a:lnTo>
                <a:lnTo>
                  <a:pt x="131" y="165"/>
                </a:lnTo>
                <a:lnTo>
                  <a:pt x="131" y="0"/>
                </a:lnTo>
                <a:lnTo>
                  <a:pt x="93"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79" name="Freeform 68"/>
          <p:cNvSpPr/>
          <p:nvPr/>
        </p:nvSpPr>
        <p:spPr>
          <a:xfrm>
            <a:off x="3567240" y="5170320"/>
            <a:ext cx="183960" cy="171720"/>
          </a:xfrm>
          <a:custGeom>
            <a:avLst/>
            <a:gdLst/>
            <a:ahLst/>
            <a:rect l="l" t="t" r="r" b="b"/>
            <a:pathLst>
              <a:path w="687" h="642">
                <a:moveTo>
                  <a:pt x="343" y="0"/>
                </a:moveTo>
                <a:cubicBezTo>
                  <a:pt x="154" y="1"/>
                  <a:pt x="0" y="156"/>
                  <a:pt x="0" y="345"/>
                </a:cubicBezTo>
                <a:cubicBezTo>
                  <a:pt x="0" y="402"/>
                  <a:pt x="15" y="459"/>
                  <a:pt x="42" y="509"/>
                </a:cubicBezTo>
                <a:lnTo>
                  <a:pt x="42" y="418"/>
                </a:lnTo>
                <a:cubicBezTo>
                  <a:pt x="42" y="401"/>
                  <a:pt x="48" y="386"/>
                  <a:pt x="58" y="372"/>
                </a:cubicBezTo>
                <a:cubicBezTo>
                  <a:pt x="58" y="363"/>
                  <a:pt x="57" y="354"/>
                  <a:pt x="57" y="345"/>
                </a:cubicBezTo>
                <a:cubicBezTo>
                  <a:pt x="57" y="187"/>
                  <a:pt x="186" y="58"/>
                  <a:pt x="343" y="57"/>
                </a:cubicBezTo>
                <a:cubicBezTo>
                  <a:pt x="501" y="58"/>
                  <a:pt x="630" y="187"/>
                  <a:pt x="630" y="345"/>
                </a:cubicBezTo>
                <a:cubicBezTo>
                  <a:pt x="630" y="355"/>
                  <a:pt x="629" y="365"/>
                  <a:pt x="628" y="375"/>
                </a:cubicBezTo>
                <a:cubicBezTo>
                  <a:pt x="637" y="388"/>
                  <a:pt x="643" y="402"/>
                  <a:pt x="643" y="418"/>
                </a:cubicBezTo>
                <a:lnTo>
                  <a:pt x="643" y="514"/>
                </a:lnTo>
                <a:cubicBezTo>
                  <a:pt x="672" y="462"/>
                  <a:pt x="687" y="404"/>
                  <a:pt x="687" y="345"/>
                </a:cubicBezTo>
                <a:cubicBezTo>
                  <a:pt x="687" y="156"/>
                  <a:pt x="533" y="1"/>
                  <a:pt x="343" y="0"/>
                </a:cubicBezTo>
                <a:close/>
                <a:moveTo>
                  <a:pt x="624" y="570"/>
                </a:moveTo>
                <a:lnTo>
                  <a:pt x="624" y="528"/>
                </a:lnTo>
                <a:lnTo>
                  <a:pt x="624" y="442"/>
                </a:lnTo>
                <a:cubicBezTo>
                  <a:pt x="624" y="438"/>
                  <a:pt x="623" y="435"/>
                  <a:pt x="623" y="432"/>
                </a:cubicBezTo>
                <a:cubicBezTo>
                  <a:pt x="616" y="397"/>
                  <a:pt x="572" y="370"/>
                  <a:pt x="518" y="370"/>
                </a:cubicBezTo>
                <a:lnTo>
                  <a:pt x="474" y="370"/>
                </a:lnTo>
                <a:lnTo>
                  <a:pt x="474" y="642"/>
                </a:lnTo>
                <a:lnTo>
                  <a:pt x="518" y="642"/>
                </a:lnTo>
                <a:cubicBezTo>
                  <a:pt x="576" y="642"/>
                  <a:pt x="624" y="610"/>
                  <a:pt x="624" y="570"/>
                </a:cubicBezTo>
                <a:close/>
                <a:moveTo>
                  <a:pt x="63" y="427"/>
                </a:moveTo>
                <a:cubicBezTo>
                  <a:pt x="62" y="432"/>
                  <a:pt x="61" y="436"/>
                  <a:pt x="61" y="442"/>
                </a:cubicBezTo>
                <a:lnTo>
                  <a:pt x="61" y="529"/>
                </a:lnTo>
                <a:lnTo>
                  <a:pt x="61" y="570"/>
                </a:lnTo>
                <a:cubicBezTo>
                  <a:pt x="61" y="610"/>
                  <a:pt x="108" y="642"/>
                  <a:pt x="167" y="642"/>
                </a:cubicBezTo>
                <a:lnTo>
                  <a:pt x="211" y="642"/>
                </a:lnTo>
                <a:lnTo>
                  <a:pt x="211" y="370"/>
                </a:lnTo>
                <a:lnTo>
                  <a:pt x="167" y="370"/>
                </a:lnTo>
                <a:cubicBezTo>
                  <a:pt x="116" y="370"/>
                  <a:pt x="73" y="394"/>
                  <a:pt x="63" y="427"/>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80" name="Freeform 69"/>
          <p:cNvSpPr/>
          <p:nvPr/>
        </p:nvSpPr>
        <p:spPr>
          <a:xfrm>
            <a:off x="3570120" y="2629080"/>
            <a:ext cx="177840" cy="112680"/>
          </a:xfrm>
          <a:custGeom>
            <a:avLst/>
            <a:gdLst/>
            <a:ahLst/>
            <a:rect l="l" t="t" r="r" b="b"/>
            <a:pathLst>
              <a:path w="669" h="421">
                <a:moveTo>
                  <a:pt x="0" y="404"/>
                </a:moveTo>
                <a:lnTo>
                  <a:pt x="196" y="169"/>
                </a:lnTo>
                <a:lnTo>
                  <a:pt x="0" y="12"/>
                </a:lnTo>
                <a:lnTo>
                  <a:pt x="0" y="404"/>
                </a:lnTo>
                <a:close/>
                <a:moveTo>
                  <a:pt x="209" y="155"/>
                </a:moveTo>
                <a:lnTo>
                  <a:pt x="216" y="161"/>
                </a:lnTo>
                <a:lnTo>
                  <a:pt x="224" y="167"/>
                </a:lnTo>
                <a:lnTo>
                  <a:pt x="335" y="256"/>
                </a:lnTo>
                <a:lnTo>
                  <a:pt x="445" y="167"/>
                </a:lnTo>
                <a:lnTo>
                  <a:pt x="453" y="161"/>
                </a:lnTo>
                <a:lnTo>
                  <a:pt x="460" y="155"/>
                </a:lnTo>
                <a:lnTo>
                  <a:pt x="653" y="0"/>
                </a:lnTo>
                <a:lnTo>
                  <a:pt x="16" y="0"/>
                </a:lnTo>
                <a:lnTo>
                  <a:pt x="209" y="155"/>
                </a:lnTo>
                <a:close/>
                <a:moveTo>
                  <a:pt x="657" y="421"/>
                </a:moveTo>
                <a:lnTo>
                  <a:pt x="656" y="419"/>
                </a:lnTo>
                <a:lnTo>
                  <a:pt x="458" y="182"/>
                </a:lnTo>
                <a:lnTo>
                  <a:pt x="335" y="280"/>
                </a:lnTo>
                <a:lnTo>
                  <a:pt x="212" y="182"/>
                </a:lnTo>
                <a:lnTo>
                  <a:pt x="13" y="419"/>
                </a:lnTo>
                <a:lnTo>
                  <a:pt x="12" y="421"/>
                </a:lnTo>
                <a:lnTo>
                  <a:pt x="657" y="421"/>
                </a:lnTo>
                <a:close/>
                <a:moveTo>
                  <a:pt x="0" y="421"/>
                </a:moveTo>
                <a:lnTo>
                  <a:pt x="2" y="421"/>
                </a:lnTo>
                <a:lnTo>
                  <a:pt x="0" y="419"/>
                </a:lnTo>
                <a:lnTo>
                  <a:pt x="0" y="421"/>
                </a:lnTo>
                <a:close/>
                <a:moveTo>
                  <a:pt x="669" y="404"/>
                </a:moveTo>
                <a:lnTo>
                  <a:pt x="669" y="12"/>
                </a:lnTo>
                <a:lnTo>
                  <a:pt x="473" y="169"/>
                </a:lnTo>
                <a:lnTo>
                  <a:pt x="669" y="404"/>
                </a:lnTo>
                <a:close/>
              </a:path>
            </a:pathLst>
          </a:custGeom>
          <a:solidFill>
            <a:srgbClr val="a6a6a6"/>
          </a:solidFill>
          <a:ln w="0">
            <a:noFill/>
          </a:ln>
        </p:spPr>
        <p:style>
          <a:lnRef idx="0"/>
          <a:fillRef idx="0"/>
          <a:effectRef idx="0"/>
          <a:fontRef idx="minor"/>
        </p:style>
        <p:txBody>
          <a:bodyPr lIns="145800" rIns="145800" tIns="39960" bIns="39960" anchor="t">
            <a:noAutofit/>
          </a:bodyPr>
          <a:p>
            <a:endParaRPr b="0" lang="en-US" sz="1800" spc="-1" strike="noStrike">
              <a:solidFill>
                <a:srgbClr val="000000"/>
              </a:solidFill>
              <a:latin typeface="Calibri"/>
            </a:endParaRPr>
          </a:p>
        </p:txBody>
      </p:sp>
      <p:sp>
        <p:nvSpPr>
          <p:cNvPr id="1681" name="Freeform 70"/>
          <p:cNvSpPr/>
          <p:nvPr/>
        </p:nvSpPr>
        <p:spPr>
          <a:xfrm>
            <a:off x="3868560" y="2595600"/>
            <a:ext cx="201960" cy="179280"/>
          </a:xfrm>
          <a:custGeom>
            <a:avLst/>
            <a:gdLst/>
            <a:ahLst/>
            <a:rect l="l" t="t" r="r" b="b"/>
            <a:pathLst>
              <a:path w="756" h="672">
                <a:moveTo>
                  <a:pt x="0" y="672"/>
                </a:moveTo>
                <a:lnTo>
                  <a:pt x="2" y="672"/>
                </a:lnTo>
                <a:lnTo>
                  <a:pt x="2" y="671"/>
                </a:lnTo>
                <a:lnTo>
                  <a:pt x="0" y="672"/>
                </a:lnTo>
                <a:close/>
                <a:moveTo>
                  <a:pt x="296" y="101"/>
                </a:moveTo>
                <a:lnTo>
                  <a:pt x="304" y="95"/>
                </a:lnTo>
                <a:lnTo>
                  <a:pt x="312" y="89"/>
                </a:lnTo>
                <a:lnTo>
                  <a:pt x="422" y="0"/>
                </a:lnTo>
                <a:lnTo>
                  <a:pt x="533" y="89"/>
                </a:lnTo>
                <a:lnTo>
                  <a:pt x="540" y="95"/>
                </a:lnTo>
                <a:lnTo>
                  <a:pt x="548" y="101"/>
                </a:lnTo>
                <a:lnTo>
                  <a:pt x="741" y="256"/>
                </a:lnTo>
                <a:lnTo>
                  <a:pt x="103" y="256"/>
                </a:lnTo>
                <a:lnTo>
                  <a:pt x="296" y="101"/>
                </a:lnTo>
                <a:close/>
                <a:moveTo>
                  <a:pt x="745" y="672"/>
                </a:moveTo>
                <a:lnTo>
                  <a:pt x="744" y="671"/>
                </a:lnTo>
                <a:lnTo>
                  <a:pt x="545" y="433"/>
                </a:lnTo>
                <a:lnTo>
                  <a:pt x="422" y="532"/>
                </a:lnTo>
                <a:lnTo>
                  <a:pt x="299" y="433"/>
                </a:lnTo>
                <a:lnTo>
                  <a:pt x="101" y="671"/>
                </a:lnTo>
                <a:lnTo>
                  <a:pt x="99" y="672"/>
                </a:lnTo>
                <a:lnTo>
                  <a:pt x="745" y="672"/>
                </a:lnTo>
                <a:close/>
                <a:moveTo>
                  <a:pt x="88" y="672"/>
                </a:moveTo>
                <a:lnTo>
                  <a:pt x="90" y="672"/>
                </a:lnTo>
                <a:lnTo>
                  <a:pt x="88" y="671"/>
                </a:lnTo>
                <a:lnTo>
                  <a:pt x="88" y="672"/>
                </a:lnTo>
                <a:close/>
                <a:moveTo>
                  <a:pt x="755" y="672"/>
                </a:moveTo>
                <a:lnTo>
                  <a:pt x="756" y="672"/>
                </a:lnTo>
                <a:lnTo>
                  <a:pt x="756" y="671"/>
                </a:lnTo>
                <a:lnTo>
                  <a:pt x="755" y="672"/>
                </a:lnTo>
                <a:close/>
                <a:moveTo>
                  <a:pt x="756" y="656"/>
                </a:moveTo>
                <a:lnTo>
                  <a:pt x="756" y="263"/>
                </a:lnTo>
                <a:lnTo>
                  <a:pt x="560" y="421"/>
                </a:lnTo>
                <a:lnTo>
                  <a:pt x="756" y="656"/>
                </a:lnTo>
                <a:close/>
                <a:moveTo>
                  <a:pt x="88" y="656"/>
                </a:moveTo>
                <a:lnTo>
                  <a:pt x="284" y="421"/>
                </a:lnTo>
                <a:lnTo>
                  <a:pt x="88" y="263"/>
                </a:lnTo>
                <a:lnTo>
                  <a:pt x="88" y="656"/>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82" name="Freeform 71"/>
          <p:cNvSpPr/>
          <p:nvPr/>
        </p:nvSpPr>
        <p:spPr>
          <a:xfrm>
            <a:off x="4556160" y="851040"/>
            <a:ext cx="109440" cy="191880"/>
          </a:xfrm>
          <a:custGeom>
            <a:avLst/>
            <a:gdLst/>
            <a:ahLst/>
            <a:rect l="l" t="t" r="r" b="b"/>
            <a:pathLst>
              <a:path w="415" h="716">
                <a:moveTo>
                  <a:pt x="372" y="572"/>
                </a:moveTo>
                <a:lnTo>
                  <a:pt x="42" y="572"/>
                </a:lnTo>
                <a:lnTo>
                  <a:pt x="42" y="102"/>
                </a:lnTo>
                <a:lnTo>
                  <a:pt x="372" y="102"/>
                </a:lnTo>
                <a:lnTo>
                  <a:pt x="372" y="572"/>
                </a:lnTo>
                <a:close/>
                <a:moveTo>
                  <a:pt x="372" y="674"/>
                </a:moveTo>
                <a:lnTo>
                  <a:pt x="292" y="674"/>
                </a:lnTo>
                <a:lnTo>
                  <a:pt x="292" y="623"/>
                </a:lnTo>
                <a:lnTo>
                  <a:pt x="372" y="623"/>
                </a:lnTo>
                <a:lnTo>
                  <a:pt x="372" y="674"/>
                </a:lnTo>
                <a:close/>
                <a:moveTo>
                  <a:pt x="123" y="674"/>
                </a:moveTo>
                <a:lnTo>
                  <a:pt x="42" y="674"/>
                </a:lnTo>
                <a:lnTo>
                  <a:pt x="42" y="623"/>
                </a:lnTo>
                <a:lnTo>
                  <a:pt x="123" y="623"/>
                </a:lnTo>
                <a:lnTo>
                  <a:pt x="123" y="674"/>
                </a:lnTo>
                <a:close/>
                <a:moveTo>
                  <a:pt x="415" y="90"/>
                </a:moveTo>
                <a:lnTo>
                  <a:pt x="415" y="57"/>
                </a:lnTo>
                <a:lnTo>
                  <a:pt x="415" y="0"/>
                </a:lnTo>
                <a:lnTo>
                  <a:pt x="334" y="0"/>
                </a:lnTo>
                <a:lnTo>
                  <a:pt x="334" y="55"/>
                </a:lnTo>
                <a:lnTo>
                  <a:pt x="0" y="55"/>
                </a:lnTo>
                <a:lnTo>
                  <a:pt x="0" y="716"/>
                </a:lnTo>
                <a:lnTo>
                  <a:pt x="415" y="716"/>
                </a:lnTo>
                <a:lnTo>
                  <a:pt x="415" y="9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83" name="Freeform 72"/>
          <p:cNvSpPr/>
          <p:nvPr/>
        </p:nvSpPr>
        <p:spPr>
          <a:xfrm>
            <a:off x="4859280" y="4514760"/>
            <a:ext cx="176400" cy="146160"/>
          </a:xfrm>
          <a:custGeom>
            <a:avLst/>
            <a:gdLst/>
            <a:ahLst/>
            <a:rect l="l" t="t" r="r" b="b"/>
            <a:pathLst>
              <a:path w="658" h="544">
                <a:moveTo>
                  <a:pt x="539" y="0"/>
                </a:moveTo>
                <a:lnTo>
                  <a:pt x="234" y="305"/>
                </a:lnTo>
                <a:lnTo>
                  <a:pt x="119" y="190"/>
                </a:lnTo>
                <a:lnTo>
                  <a:pt x="0" y="309"/>
                </a:lnTo>
                <a:lnTo>
                  <a:pt x="115" y="424"/>
                </a:lnTo>
                <a:lnTo>
                  <a:pt x="234" y="544"/>
                </a:lnTo>
                <a:lnTo>
                  <a:pt x="354" y="424"/>
                </a:lnTo>
                <a:lnTo>
                  <a:pt x="658" y="120"/>
                </a:lnTo>
                <a:lnTo>
                  <a:pt x="539"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84" name="Freeform 73"/>
          <p:cNvSpPr/>
          <p:nvPr/>
        </p:nvSpPr>
        <p:spPr>
          <a:xfrm>
            <a:off x="5897520" y="3568680"/>
            <a:ext cx="163440" cy="196920"/>
          </a:xfrm>
          <a:custGeom>
            <a:avLst/>
            <a:gdLst/>
            <a:ahLst/>
            <a:rect l="l" t="t" r="r" b="b"/>
            <a:pathLst>
              <a:path w="609" h="736">
                <a:moveTo>
                  <a:pt x="0" y="573"/>
                </a:moveTo>
                <a:lnTo>
                  <a:pt x="394" y="573"/>
                </a:lnTo>
                <a:lnTo>
                  <a:pt x="394" y="736"/>
                </a:lnTo>
                <a:lnTo>
                  <a:pt x="545" y="573"/>
                </a:lnTo>
                <a:lnTo>
                  <a:pt x="609" y="573"/>
                </a:lnTo>
                <a:lnTo>
                  <a:pt x="609" y="0"/>
                </a:lnTo>
                <a:lnTo>
                  <a:pt x="0" y="0"/>
                </a:lnTo>
                <a:lnTo>
                  <a:pt x="0" y="573"/>
                </a:lnTo>
                <a:close/>
                <a:moveTo>
                  <a:pt x="457" y="227"/>
                </a:moveTo>
                <a:cubicBezTo>
                  <a:pt x="489" y="227"/>
                  <a:pt x="515" y="253"/>
                  <a:pt x="515" y="285"/>
                </a:cubicBezTo>
                <a:cubicBezTo>
                  <a:pt x="515" y="317"/>
                  <a:pt x="489" y="344"/>
                  <a:pt x="457" y="344"/>
                </a:cubicBezTo>
                <a:cubicBezTo>
                  <a:pt x="425" y="344"/>
                  <a:pt x="399" y="317"/>
                  <a:pt x="399" y="285"/>
                </a:cubicBezTo>
                <a:cubicBezTo>
                  <a:pt x="399" y="253"/>
                  <a:pt x="425" y="227"/>
                  <a:pt x="457" y="227"/>
                </a:cubicBezTo>
                <a:close/>
                <a:moveTo>
                  <a:pt x="152" y="227"/>
                </a:moveTo>
                <a:cubicBezTo>
                  <a:pt x="184" y="227"/>
                  <a:pt x="210" y="253"/>
                  <a:pt x="210" y="285"/>
                </a:cubicBezTo>
                <a:cubicBezTo>
                  <a:pt x="210" y="317"/>
                  <a:pt x="184" y="344"/>
                  <a:pt x="152" y="344"/>
                </a:cubicBezTo>
                <a:cubicBezTo>
                  <a:pt x="120" y="344"/>
                  <a:pt x="94" y="317"/>
                  <a:pt x="94" y="285"/>
                </a:cubicBezTo>
                <a:cubicBezTo>
                  <a:pt x="94" y="253"/>
                  <a:pt x="120" y="227"/>
                  <a:pt x="152" y="227"/>
                </a:cubicBezTo>
                <a:close/>
                <a:moveTo>
                  <a:pt x="304" y="227"/>
                </a:moveTo>
                <a:cubicBezTo>
                  <a:pt x="336" y="227"/>
                  <a:pt x="363" y="253"/>
                  <a:pt x="363" y="285"/>
                </a:cubicBezTo>
                <a:cubicBezTo>
                  <a:pt x="363" y="317"/>
                  <a:pt x="336" y="344"/>
                  <a:pt x="304" y="344"/>
                </a:cubicBezTo>
                <a:cubicBezTo>
                  <a:pt x="272" y="344"/>
                  <a:pt x="246" y="317"/>
                  <a:pt x="246" y="285"/>
                </a:cubicBezTo>
                <a:cubicBezTo>
                  <a:pt x="246" y="253"/>
                  <a:pt x="272" y="227"/>
                  <a:pt x="304" y="227"/>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85" name="Freeform 74"/>
          <p:cNvSpPr/>
          <p:nvPr/>
        </p:nvSpPr>
        <p:spPr>
          <a:xfrm>
            <a:off x="5583240" y="3581280"/>
            <a:ext cx="157320" cy="171720"/>
          </a:xfrm>
          <a:custGeom>
            <a:avLst/>
            <a:gdLst/>
            <a:ahLst/>
            <a:rect l="l" t="t" r="r" b="b"/>
            <a:pathLst>
              <a:path w="592" h="639">
                <a:moveTo>
                  <a:pt x="551" y="536"/>
                </a:moveTo>
                <a:lnTo>
                  <a:pt x="592" y="536"/>
                </a:lnTo>
                <a:lnTo>
                  <a:pt x="592" y="162"/>
                </a:lnTo>
                <a:lnTo>
                  <a:pt x="412" y="162"/>
                </a:lnTo>
                <a:lnTo>
                  <a:pt x="412" y="371"/>
                </a:lnTo>
                <a:lnTo>
                  <a:pt x="412" y="388"/>
                </a:lnTo>
                <a:lnTo>
                  <a:pt x="394" y="388"/>
                </a:lnTo>
                <a:lnTo>
                  <a:pt x="197" y="388"/>
                </a:lnTo>
                <a:lnTo>
                  <a:pt x="197" y="536"/>
                </a:lnTo>
                <a:lnTo>
                  <a:pt x="454" y="536"/>
                </a:lnTo>
                <a:lnTo>
                  <a:pt x="454" y="639"/>
                </a:lnTo>
                <a:lnTo>
                  <a:pt x="551" y="536"/>
                </a:lnTo>
                <a:close/>
                <a:moveTo>
                  <a:pt x="0" y="370"/>
                </a:moveTo>
                <a:lnTo>
                  <a:pt x="41" y="370"/>
                </a:lnTo>
                <a:lnTo>
                  <a:pt x="137" y="476"/>
                </a:lnTo>
                <a:lnTo>
                  <a:pt x="137" y="370"/>
                </a:lnTo>
                <a:lnTo>
                  <a:pt x="197" y="370"/>
                </a:lnTo>
                <a:lnTo>
                  <a:pt x="395" y="370"/>
                </a:lnTo>
                <a:lnTo>
                  <a:pt x="395" y="162"/>
                </a:lnTo>
                <a:lnTo>
                  <a:pt x="395" y="0"/>
                </a:lnTo>
                <a:lnTo>
                  <a:pt x="0" y="0"/>
                </a:lnTo>
                <a:lnTo>
                  <a:pt x="0" y="37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86" name="Freeform 75"/>
          <p:cNvSpPr/>
          <p:nvPr/>
        </p:nvSpPr>
        <p:spPr>
          <a:xfrm>
            <a:off x="5594400" y="860400"/>
            <a:ext cx="133200" cy="173160"/>
          </a:xfrm>
          <a:custGeom>
            <a:avLst/>
            <a:gdLst/>
            <a:ahLst/>
            <a:rect l="l" t="t" r="r" b="b"/>
            <a:pathLst>
              <a:path w="500" h="648">
                <a:moveTo>
                  <a:pt x="33" y="189"/>
                </a:moveTo>
                <a:lnTo>
                  <a:pt x="302" y="189"/>
                </a:lnTo>
                <a:lnTo>
                  <a:pt x="302" y="313"/>
                </a:lnTo>
                <a:lnTo>
                  <a:pt x="33" y="313"/>
                </a:lnTo>
                <a:lnTo>
                  <a:pt x="33" y="189"/>
                </a:lnTo>
                <a:close/>
                <a:moveTo>
                  <a:pt x="51" y="207"/>
                </a:moveTo>
                <a:lnTo>
                  <a:pt x="284" y="207"/>
                </a:lnTo>
                <a:lnTo>
                  <a:pt x="284" y="295"/>
                </a:lnTo>
                <a:lnTo>
                  <a:pt x="51" y="295"/>
                </a:lnTo>
                <a:lnTo>
                  <a:pt x="51" y="207"/>
                </a:lnTo>
                <a:close/>
                <a:moveTo>
                  <a:pt x="51" y="54"/>
                </a:moveTo>
                <a:lnTo>
                  <a:pt x="284" y="54"/>
                </a:lnTo>
                <a:lnTo>
                  <a:pt x="284" y="142"/>
                </a:lnTo>
                <a:lnTo>
                  <a:pt x="51" y="142"/>
                </a:lnTo>
                <a:lnTo>
                  <a:pt x="51" y="54"/>
                </a:lnTo>
                <a:close/>
                <a:moveTo>
                  <a:pt x="500" y="612"/>
                </a:moveTo>
                <a:lnTo>
                  <a:pt x="500" y="109"/>
                </a:lnTo>
                <a:lnTo>
                  <a:pt x="360" y="0"/>
                </a:lnTo>
                <a:lnTo>
                  <a:pt x="360" y="648"/>
                </a:lnTo>
                <a:lnTo>
                  <a:pt x="500" y="612"/>
                </a:lnTo>
                <a:close/>
                <a:moveTo>
                  <a:pt x="33" y="36"/>
                </a:moveTo>
                <a:lnTo>
                  <a:pt x="302" y="36"/>
                </a:lnTo>
                <a:lnTo>
                  <a:pt x="302" y="160"/>
                </a:lnTo>
                <a:lnTo>
                  <a:pt x="33" y="160"/>
                </a:lnTo>
                <a:lnTo>
                  <a:pt x="33" y="36"/>
                </a:lnTo>
                <a:close/>
                <a:moveTo>
                  <a:pt x="167" y="446"/>
                </a:moveTo>
                <a:cubicBezTo>
                  <a:pt x="145" y="446"/>
                  <a:pt x="126" y="428"/>
                  <a:pt x="126" y="405"/>
                </a:cubicBezTo>
                <a:cubicBezTo>
                  <a:pt x="126" y="382"/>
                  <a:pt x="145" y="364"/>
                  <a:pt x="167" y="364"/>
                </a:cubicBezTo>
                <a:cubicBezTo>
                  <a:pt x="190" y="364"/>
                  <a:pt x="208" y="382"/>
                  <a:pt x="208" y="405"/>
                </a:cubicBezTo>
                <a:cubicBezTo>
                  <a:pt x="208" y="428"/>
                  <a:pt x="190" y="446"/>
                  <a:pt x="167" y="446"/>
                </a:cubicBezTo>
                <a:close/>
                <a:moveTo>
                  <a:pt x="167" y="590"/>
                </a:moveTo>
                <a:cubicBezTo>
                  <a:pt x="145" y="590"/>
                  <a:pt x="126" y="572"/>
                  <a:pt x="126" y="550"/>
                </a:cubicBezTo>
                <a:cubicBezTo>
                  <a:pt x="126" y="527"/>
                  <a:pt x="145" y="509"/>
                  <a:pt x="167" y="509"/>
                </a:cubicBezTo>
                <a:cubicBezTo>
                  <a:pt x="190" y="509"/>
                  <a:pt x="208" y="527"/>
                  <a:pt x="208" y="550"/>
                </a:cubicBezTo>
                <a:cubicBezTo>
                  <a:pt x="208" y="572"/>
                  <a:pt x="190" y="590"/>
                  <a:pt x="167" y="590"/>
                </a:cubicBezTo>
                <a:close/>
                <a:moveTo>
                  <a:pt x="0" y="648"/>
                </a:moveTo>
                <a:lnTo>
                  <a:pt x="335" y="648"/>
                </a:lnTo>
                <a:lnTo>
                  <a:pt x="335" y="0"/>
                </a:lnTo>
                <a:lnTo>
                  <a:pt x="0" y="0"/>
                </a:lnTo>
                <a:lnTo>
                  <a:pt x="0" y="648"/>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87" name="Freeform 76"/>
          <p:cNvSpPr/>
          <p:nvPr/>
        </p:nvSpPr>
        <p:spPr>
          <a:xfrm>
            <a:off x="6299280" y="5154480"/>
            <a:ext cx="128520" cy="203400"/>
          </a:xfrm>
          <a:custGeom>
            <a:avLst/>
            <a:gdLst/>
            <a:ahLst/>
            <a:rect l="l" t="t" r="r" b="b"/>
            <a:pathLst>
              <a:path w="476" h="760">
                <a:moveTo>
                  <a:pt x="90" y="352"/>
                </a:moveTo>
                <a:lnTo>
                  <a:pt x="90" y="422"/>
                </a:lnTo>
                <a:cubicBezTo>
                  <a:pt x="90" y="469"/>
                  <a:pt x="128" y="507"/>
                  <a:pt x="175" y="507"/>
                </a:cubicBezTo>
                <a:lnTo>
                  <a:pt x="302" y="507"/>
                </a:lnTo>
                <a:cubicBezTo>
                  <a:pt x="349" y="507"/>
                  <a:pt x="387" y="469"/>
                  <a:pt x="387" y="422"/>
                </a:cubicBezTo>
                <a:lnTo>
                  <a:pt x="387" y="352"/>
                </a:lnTo>
                <a:lnTo>
                  <a:pt x="281" y="352"/>
                </a:lnTo>
                <a:lnTo>
                  <a:pt x="281" y="288"/>
                </a:lnTo>
                <a:lnTo>
                  <a:pt x="387" y="288"/>
                </a:lnTo>
                <a:lnTo>
                  <a:pt x="387" y="191"/>
                </a:lnTo>
                <a:lnTo>
                  <a:pt x="281" y="191"/>
                </a:lnTo>
                <a:lnTo>
                  <a:pt x="281" y="127"/>
                </a:lnTo>
                <a:lnTo>
                  <a:pt x="387" y="127"/>
                </a:lnTo>
                <a:lnTo>
                  <a:pt x="387" y="85"/>
                </a:lnTo>
                <a:cubicBezTo>
                  <a:pt x="387" y="38"/>
                  <a:pt x="349" y="0"/>
                  <a:pt x="302" y="0"/>
                </a:cubicBezTo>
                <a:lnTo>
                  <a:pt x="175" y="0"/>
                </a:lnTo>
                <a:cubicBezTo>
                  <a:pt x="128" y="0"/>
                  <a:pt x="90" y="38"/>
                  <a:pt x="90" y="85"/>
                </a:cubicBezTo>
                <a:lnTo>
                  <a:pt x="90" y="127"/>
                </a:lnTo>
                <a:lnTo>
                  <a:pt x="196" y="127"/>
                </a:lnTo>
                <a:lnTo>
                  <a:pt x="196" y="191"/>
                </a:lnTo>
                <a:lnTo>
                  <a:pt x="90" y="191"/>
                </a:lnTo>
                <a:lnTo>
                  <a:pt x="90" y="288"/>
                </a:lnTo>
                <a:lnTo>
                  <a:pt x="196" y="288"/>
                </a:lnTo>
                <a:lnTo>
                  <a:pt x="196" y="352"/>
                </a:lnTo>
                <a:lnTo>
                  <a:pt x="90" y="352"/>
                </a:lnTo>
                <a:close/>
                <a:moveTo>
                  <a:pt x="0" y="464"/>
                </a:moveTo>
                <a:cubicBezTo>
                  <a:pt x="17" y="540"/>
                  <a:pt x="84" y="598"/>
                  <a:pt x="157" y="598"/>
                </a:cubicBezTo>
                <a:lnTo>
                  <a:pt x="206" y="598"/>
                </a:lnTo>
                <a:lnTo>
                  <a:pt x="206" y="696"/>
                </a:lnTo>
                <a:lnTo>
                  <a:pt x="145" y="696"/>
                </a:lnTo>
                <a:lnTo>
                  <a:pt x="145" y="760"/>
                </a:lnTo>
                <a:lnTo>
                  <a:pt x="332" y="760"/>
                </a:lnTo>
                <a:lnTo>
                  <a:pt x="332" y="696"/>
                </a:lnTo>
                <a:lnTo>
                  <a:pt x="270" y="696"/>
                </a:lnTo>
                <a:lnTo>
                  <a:pt x="270" y="598"/>
                </a:lnTo>
                <a:lnTo>
                  <a:pt x="320" y="598"/>
                </a:lnTo>
                <a:cubicBezTo>
                  <a:pt x="397" y="598"/>
                  <a:pt x="460" y="530"/>
                  <a:pt x="476" y="465"/>
                </a:cubicBezTo>
                <a:lnTo>
                  <a:pt x="414" y="450"/>
                </a:lnTo>
                <a:cubicBezTo>
                  <a:pt x="404" y="490"/>
                  <a:pt x="364" y="534"/>
                  <a:pt x="320" y="534"/>
                </a:cubicBezTo>
                <a:lnTo>
                  <a:pt x="157" y="534"/>
                </a:lnTo>
                <a:cubicBezTo>
                  <a:pt x="115" y="534"/>
                  <a:pt x="72" y="497"/>
                  <a:pt x="63" y="451"/>
                </a:cubicBezTo>
                <a:lnTo>
                  <a:pt x="0" y="464"/>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88" name="Freeform 77"/>
          <p:cNvSpPr/>
          <p:nvPr/>
        </p:nvSpPr>
        <p:spPr>
          <a:xfrm>
            <a:off x="5889600" y="1422360"/>
            <a:ext cx="179280" cy="201600"/>
          </a:xfrm>
          <a:custGeom>
            <a:avLst/>
            <a:gdLst/>
            <a:ahLst/>
            <a:rect l="l" t="t" r="r" b="b"/>
            <a:pathLst>
              <a:path w="671" h="753">
                <a:moveTo>
                  <a:pt x="527" y="0"/>
                </a:moveTo>
                <a:lnTo>
                  <a:pt x="628" y="0"/>
                </a:lnTo>
                <a:lnTo>
                  <a:pt x="628" y="226"/>
                </a:lnTo>
                <a:lnTo>
                  <a:pt x="527" y="226"/>
                </a:lnTo>
                <a:lnTo>
                  <a:pt x="527" y="0"/>
                </a:lnTo>
                <a:close/>
                <a:moveTo>
                  <a:pt x="527" y="247"/>
                </a:moveTo>
                <a:lnTo>
                  <a:pt x="484" y="247"/>
                </a:lnTo>
                <a:lnTo>
                  <a:pt x="484" y="328"/>
                </a:lnTo>
                <a:lnTo>
                  <a:pt x="527" y="328"/>
                </a:lnTo>
                <a:lnTo>
                  <a:pt x="628" y="328"/>
                </a:lnTo>
                <a:lnTo>
                  <a:pt x="671" y="328"/>
                </a:lnTo>
                <a:lnTo>
                  <a:pt x="671" y="247"/>
                </a:lnTo>
                <a:lnTo>
                  <a:pt x="628" y="247"/>
                </a:lnTo>
                <a:lnTo>
                  <a:pt x="527" y="247"/>
                </a:lnTo>
                <a:close/>
                <a:moveTo>
                  <a:pt x="242" y="441"/>
                </a:moveTo>
                <a:lnTo>
                  <a:pt x="242" y="521"/>
                </a:lnTo>
                <a:lnTo>
                  <a:pt x="284" y="521"/>
                </a:lnTo>
                <a:lnTo>
                  <a:pt x="386" y="521"/>
                </a:lnTo>
                <a:lnTo>
                  <a:pt x="429" y="521"/>
                </a:lnTo>
                <a:lnTo>
                  <a:pt x="429" y="441"/>
                </a:lnTo>
                <a:lnTo>
                  <a:pt x="386" y="441"/>
                </a:lnTo>
                <a:lnTo>
                  <a:pt x="284" y="441"/>
                </a:lnTo>
                <a:lnTo>
                  <a:pt x="242" y="441"/>
                </a:lnTo>
                <a:close/>
                <a:moveTo>
                  <a:pt x="0" y="90"/>
                </a:moveTo>
                <a:lnTo>
                  <a:pt x="0" y="171"/>
                </a:lnTo>
                <a:lnTo>
                  <a:pt x="42" y="171"/>
                </a:lnTo>
                <a:lnTo>
                  <a:pt x="144" y="171"/>
                </a:lnTo>
                <a:lnTo>
                  <a:pt x="187" y="171"/>
                </a:lnTo>
                <a:lnTo>
                  <a:pt x="187" y="90"/>
                </a:lnTo>
                <a:lnTo>
                  <a:pt x="144" y="90"/>
                </a:lnTo>
                <a:lnTo>
                  <a:pt x="42" y="90"/>
                </a:lnTo>
                <a:lnTo>
                  <a:pt x="0" y="90"/>
                </a:lnTo>
                <a:close/>
                <a:moveTo>
                  <a:pt x="42" y="192"/>
                </a:moveTo>
                <a:lnTo>
                  <a:pt x="144" y="192"/>
                </a:lnTo>
                <a:lnTo>
                  <a:pt x="144" y="753"/>
                </a:lnTo>
                <a:lnTo>
                  <a:pt x="42" y="753"/>
                </a:lnTo>
                <a:lnTo>
                  <a:pt x="42" y="192"/>
                </a:lnTo>
                <a:close/>
                <a:moveTo>
                  <a:pt x="42" y="0"/>
                </a:moveTo>
                <a:lnTo>
                  <a:pt x="144" y="0"/>
                </a:lnTo>
                <a:lnTo>
                  <a:pt x="144" y="69"/>
                </a:lnTo>
                <a:lnTo>
                  <a:pt x="42" y="69"/>
                </a:lnTo>
                <a:lnTo>
                  <a:pt x="42" y="0"/>
                </a:lnTo>
                <a:close/>
                <a:moveTo>
                  <a:pt x="284" y="543"/>
                </a:moveTo>
                <a:lnTo>
                  <a:pt x="386" y="543"/>
                </a:lnTo>
                <a:lnTo>
                  <a:pt x="386" y="753"/>
                </a:lnTo>
                <a:lnTo>
                  <a:pt x="284" y="753"/>
                </a:lnTo>
                <a:lnTo>
                  <a:pt x="284" y="543"/>
                </a:lnTo>
                <a:close/>
                <a:moveTo>
                  <a:pt x="284" y="0"/>
                </a:moveTo>
                <a:lnTo>
                  <a:pt x="386" y="0"/>
                </a:lnTo>
                <a:lnTo>
                  <a:pt x="386" y="419"/>
                </a:lnTo>
                <a:lnTo>
                  <a:pt x="284" y="419"/>
                </a:lnTo>
                <a:lnTo>
                  <a:pt x="284" y="0"/>
                </a:lnTo>
                <a:close/>
                <a:moveTo>
                  <a:pt x="527" y="349"/>
                </a:moveTo>
                <a:lnTo>
                  <a:pt x="628" y="349"/>
                </a:lnTo>
                <a:lnTo>
                  <a:pt x="628" y="753"/>
                </a:lnTo>
                <a:lnTo>
                  <a:pt x="527" y="753"/>
                </a:lnTo>
                <a:lnTo>
                  <a:pt x="527" y="349"/>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89" name="Freeform 78"/>
          <p:cNvSpPr/>
          <p:nvPr/>
        </p:nvSpPr>
        <p:spPr>
          <a:xfrm>
            <a:off x="6267600" y="1422360"/>
            <a:ext cx="185760" cy="201600"/>
          </a:xfrm>
          <a:custGeom>
            <a:avLst/>
            <a:gdLst/>
            <a:ahLst/>
            <a:rect l="l" t="t" r="r" b="b"/>
            <a:pathLst>
              <a:path w="697" h="757">
                <a:moveTo>
                  <a:pt x="697" y="80"/>
                </a:moveTo>
                <a:lnTo>
                  <a:pt x="595" y="80"/>
                </a:lnTo>
                <a:lnTo>
                  <a:pt x="595" y="757"/>
                </a:lnTo>
                <a:lnTo>
                  <a:pt x="697" y="757"/>
                </a:lnTo>
                <a:lnTo>
                  <a:pt x="697" y="80"/>
                </a:lnTo>
                <a:close/>
                <a:moveTo>
                  <a:pt x="548" y="375"/>
                </a:moveTo>
                <a:lnTo>
                  <a:pt x="446" y="375"/>
                </a:lnTo>
                <a:lnTo>
                  <a:pt x="446" y="425"/>
                </a:lnTo>
                <a:lnTo>
                  <a:pt x="548" y="425"/>
                </a:lnTo>
                <a:lnTo>
                  <a:pt x="548" y="375"/>
                </a:lnTo>
                <a:close/>
                <a:moveTo>
                  <a:pt x="102" y="222"/>
                </a:moveTo>
                <a:lnTo>
                  <a:pt x="0" y="222"/>
                </a:lnTo>
                <a:lnTo>
                  <a:pt x="0" y="272"/>
                </a:lnTo>
                <a:lnTo>
                  <a:pt x="102" y="272"/>
                </a:lnTo>
                <a:lnTo>
                  <a:pt x="102" y="222"/>
                </a:lnTo>
                <a:close/>
                <a:moveTo>
                  <a:pt x="251" y="287"/>
                </a:moveTo>
                <a:lnTo>
                  <a:pt x="149" y="287"/>
                </a:lnTo>
                <a:lnTo>
                  <a:pt x="149" y="337"/>
                </a:lnTo>
                <a:lnTo>
                  <a:pt x="251" y="337"/>
                </a:lnTo>
                <a:lnTo>
                  <a:pt x="251" y="287"/>
                </a:lnTo>
                <a:close/>
                <a:moveTo>
                  <a:pt x="400" y="105"/>
                </a:moveTo>
                <a:lnTo>
                  <a:pt x="298" y="105"/>
                </a:lnTo>
                <a:lnTo>
                  <a:pt x="298" y="155"/>
                </a:lnTo>
                <a:lnTo>
                  <a:pt x="400" y="155"/>
                </a:lnTo>
                <a:lnTo>
                  <a:pt x="400" y="105"/>
                </a:lnTo>
                <a:close/>
                <a:moveTo>
                  <a:pt x="697" y="0"/>
                </a:moveTo>
                <a:lnTo>
                  <a:pt x="595" y="0"/>
                </a:lnTo>
                <a:lnTo>
                  <a:pt x="595" y="49"/>
                </a:lnTo>
                <a:lnTo>
                  <a:pt x="697" y="49"/>
                </a:lnTo>
                <a:lnTo>
                  <a:pt x="697" y="0"/>
                </a:lnTo>
                <a:close/>
                <a:moveTo>
                  <a:pt x="102" y="297"/>
                </a:moveTo>
                <a:lnTo>
                  <a:pt x="0" y="297"/>
                </a:lnTo>
                <a:lnTo>
                  <a:pt x="0" y="757"/>
                </a:lnTo>
                <a:lnTo>
                  <a:pt x="102" y="757"/>
                </a:lnTo>
                <a:lnTo>
                  <a:pt x="102" y="297"/>
                </a:lnTo>
                <a:close/>
                <a:moveTo>
                  <a:pt x="251" y="361"/>
                </a:moveTo>
                <a:lnTo>
                  <a:pt x="149" y="361"/>
                </a:lnTo>
                <a:lnTo>
                  <a:pt x="149" y="757"/>
                </a:lnTo>
                <a:lnTo>
                  <a:pt x="251" y="757"/>
                </a:lnTo>
                <a:lnTo>
                  <a:pt x="251" y="361"/>
                </a:lnTo>
                <a:close/>
                <a:moveTo>
                  <a:pt x="400" y="180"/>
                </a:moveTo>
                <a:lnTo>
                  <a:pt x="298" y="180"/>
                </a:lnTo>
                <a:lnTo>
                  <a:pt x="298" y="757"/>
                </a:lnTo>
                <a:lnTo>
                  <a:pt x="400" y="757"/>
                </a:lnTo>
                <a:lnTo>
                  <a:pt x="400" y="180"/>
                </a:lnTo>
                <a:close/>
                <a:moveTo>
                  <a:pt x="548" y="450"/>
                </a:moveTo>
                <a:lnTo>
                  <a:pt x="446" y="450"/>
                </a:lnTo>
                <a:lnTo>
                  <a:pt x="446" y="757"/>
                </a:lnTo>
                <a:lnTo>
                  <a:pt x="548" y="757"/>
                </a:lnTo>
                <a:lnTo>
                  <a:pt x="548" y="45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90" name="Freeform 79"/>
          <p:cNvSpPr/>
          <p:nvPr/>
        </p:nvSpPr>
        <p:spPr>
          <a:xfrm>
            <a:off x="3228840" y="5170320"/>
            <a:ext cx="176400" cy="171720"/>
          </a:xfrm>
          <a:custGeom>
            <a:avLst/>
            <a:gdLst/>
            <a:ahLst/>
            <a:rect l="l" t="t" r="r" b="b"/>
            <a:pathLst>
              <a:path w="664" h="646">
                <a:moveTo>
                  <a:pt x="0" y="105"/>
                </a:moveTo>
                <a:lnTo>
                  <a:pt x="0" y="560"/>
                </a:lnTo>
                <a:lnTo>
                  <a:pt x="57" y="560"/>
                </a:lnTo>
                <a:lnTo>
                  <a:pt x="57" y="105"/>
                </a:lnTo>
                <a:cubicBezTo>
                  <a:pt x="57" y="78"/>
                  <a:pt x="79" y="57"/>
                  <a:pt x="105" y="57"/>
                </a:cubicBezTo>
                <a:lnTo>
                  <a:pt x="560" y="57"/>
                </a:lnTo>
                <a:cubicBezTo>
                  <a:pt x="586" y="57"/>
                  <a:pt x="607" y="79"/>
                  <a:pt x="607" y="105"/>
                </a:cubicBezTo>
                <a:lnTo>
                  <a:pt x="607" y="560"/>
                </a:lnTo>
                <a:lnTo>
                  <a:pt x="664" y="560"/>
                </a:lnTo>
                <a:lnTo>
                  <a:pt x="664" y="105"/>
                </a:lnTo>
                <a:cubicBezTo>
                  <a:pt x="664" y="47"/>
                  <a:pt x="618" y="0"/>
                  <a:pt x="560" y="0"/>
                </a:cubicBezTo>
                <a:lnTo>
                  <a:pt x="105" y="0"/>
                </a:lnTo>
                <a:cubicBezTo>
                  <a:pt x="47" y="0"/>
                  <a:pt x="0" y="47"/>
                  <a:pt x="0" y="105"/>
                </a:cubicBezTo>
                <a:close/>
                <a:moveTo>
                  <a:pt x="446" y="337"/>
                </a:moveTo>
                <a:lnTo>
                  <a:pt x="585" y="337"/>
                </a:lnTo>
                <a:lnTo>
                  <a:pt x="585" y="646"/>
                </a:lnTo>
                <a:lnTo>
                  <a:pt x="446" y="646"/>
                </a:lnTo>
                <a:lnTo>
                  <a:pt x="446" y="337"/>
                </a:lnTo>
                <a:close/>
                <a:moveTo>
                  <a:pt x="79" y="337"/>
                </a:moveTo>
                <a:lnTo>
                  <a:pt x="219" y="337"/>
                </a:lnTo>
                <a:lnTo>
                  <a:pt x="219" y="646"/>
                </a:lnTo>
                <a:lnTo>
                  <a:pt x="79" y="646"/>
                </a:lnTo>
                <a:lnTo>
                  <a:pt x="79" y="337"/>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91" name="Freeform 80"/>
          <p:cNvSpPr/>
          <p:nvPr/>
        </p:nvSpPr>
        <p:spPr>
          <a:xfrm>
            <a:off x="5235480" y="1447920"/>
            <a:ext cx="160560" cy="150840"/>
          </a:xfrm>
          <a:custGeom>
            <a:avLst/>
            <a:gdLst/>
            <a:ahLst/>
            <a:rect l="l" t="t" r="r" b="b"/>
            <a:pathLst>
              <a:path w="594" h="560">
                <a:moveTo>
                  <a:pt x="101" y="560"/>
                </a:moveTo>
                <a:cubicBezTo>
                  <a:pt x="158" y="560"/>
                  <a:pt x="203" y="515"/>
                  <a:pt x="203" y="458"/>
                </a:cubicBezTo>
                <a:cubicBezTo>
                  <a:pt x="203" y="458"/>
                  <a:pt x="203" y="458"/>
                  <a:pt x="203" y="458"/>
                </a:cubicBezTo>
                <a:lnTo>
                  <a:pt x="203" y="458"/>
                </a:lnTo>
                <a:lnTo>
                  <a:pt x="203" y="128"/>
                </a:lnTo>
                <a:lnTo>
                  <a:pt x="530" y="128"/>
                </a:lnTo>
                <a:lnTo>
                  <a:pt x="530" y="364"/>
                </a:lnTo>
                <a:cubicBezTo>
                  <a:pt x="518" y="359"/>
                  <a:pt x="506" y="357"/>
                  <a:pt x="492" y="357"/>
                </a:cubicBezTo>
                <a:cubicBezTo>
                  <a:pt x="436" y="357"/>
                  <a:pt x="390" y="402"/>
                  <a:pt x="390" y="458"/>
                </a:cubicBezTo>
                <a:cubicBezTo>
                  <a:pt x="390" y="515"/>
                  <a:pt x="436" y="560"/>
                  <a:pt x="492" y="560"/>
                </a:cubicBezTo>
                <a:cubicBezTo>
                  <a:pt x="548" y="560"/>
                  <a:pt x="594" y="515"/>
                  <a:pt x="594" y="458"/>
                </a:cubicBezTo>
                <a:cubicBezTo>
                  <a:pt x="594" y="458"/>
                  <a:pt x="594" y="458"/>
                  <a:pt x="594" y="458"/>
                </a:cubicBezTo>
                <a:lnTo>
                  <a:pt x="594" y="458"/>
                </a:lnTo>
                <a:lnTo>
                  <a:pt x="594" y="128"/>
                </a:lnTo>
                <a:lnTo>
                  <a:pt x="594" y="0"/>
                </a:lnTo>
                <a:lnTo>
                  <a:pt x="530" y="0"/>
                </a:lnTo>
                <a:lnTo>
                  <a:pt x="203" y="0"/>
                </a:lnTo>
                <a:lnTo>
                  <a:pt x="139" y="0"/>
                </a:lnTo>
                <a:lnTo>
                  <a:pt x="139" y="128"/>
                </a:lnTo>
                <a:lnTo>
                  <a:pt x="139" y="364"/>
                </a:lnTo>
                <a:cubicBezTo>
                  <a:pt x="128" y="359"/>
                  <a:pt x="115" y="357"/>
                  <a:pt x="101" y="357"/>
                </a:cubicBezTo>
                <a:cubicBezTo>
                  <a:pt x="45" y="357"/>
                  <a:pt x="0" y="402"/>
                  <a:pt x="0" y="458"/>
                </a:cubicBezTo>
                <a:cubicBezTo>
                  <a:pt x="0" y="515"/>
                  <a:pt x="45" y="560"/>
                  <a:pt x="101" y="56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92" name="Freeform 81"/>
          <p:cNvSpPr/>
          <p:nvPr/>
        </p:nvSpPr>
        <p:spPr>
          <a:xfrm>
            <a:off x="8726400" y="1728720"/>
            <a:ext cx="146160" cy="166680"/>
          </a:xfrm>
          <a:custGeom>
            <a:avLst/>
            <a:gdLst/>
            <a:ahLst/>
            <a:rect l="l" t="t" r="r" b="b"/>
            <a:pathLst>
              <a:path w="548" h="624">
                <a:moveTo>
                  <a:pt x="183" y="63"/>
                </a:moveTo>
                <a:lnTo>
                  <a:pt x="440" y="63"/>
                </a:lnTo>
                <a:lnTo>
                  <a:pt x="440" y="200"/>
                </a:lnTo>
                <a:lnTo>
                  <a:pt x="183" y="200"/>
                </a:lnTo>
                <a:lnTo>
                  <a:pt x="183" y="63"/>
                </a:lnTo>
                <a:close/>
                <a:moveTo>
                  <a:pt x="23" y="525"/>
                </a:moveTo>
                <a:cubicBezTo>
                  <a:pt x="2" y="546"/>
                  <a:pt x="0" y="574"/>
                  <a:pt x="1" y="602"/>
                </a:cubicBezTo>
                <a:cubicBezTo>
                  <a:pt x="2" y="624"/>
                  <a:pt x="36" y="624"/>
                  <a:pt x="35" y="602"/>
                </a:cubicBezTo>
                <a:cubicBezTo>
                  <a:pt x="34" y="585"/>
                  <a:pt x="32" y="561"/>
                  <a:pt x="48" y="549"/>
                </a:cubicBezTo>
                <a:cubicBezTo>
                  <a:pt x="56" y="543"/>
                  <a:pt x="65" y="541"/>
                  <a:pt x="75" y="541"/>
                </a:cubicBezTo>
                <a:lnTo>
                  <a:pt x="75" y="610"/>
                </a:lnTo>
                <a:lnTo>
                  <a:pt x="548" y="610"/>
                </a:lnTo>
                <a:lnTo>
                  <a:pt x="548" y="0"/>
                </a:lnTo>
                <a:lnTo>
                  <a:pt x="75" y="0"/>
                </a:lnTo>
                <a:lnTo>
                  <a:pt x="75" y="0"/>
                </a:lnTo>
                <a:cubicBezTo>
                  <a:pt x="56" y="0"/>
                  <a:pt x="37" y="4"/>
                  <a:pt x="23" y="17"/>
                </a:cubicBezTo>
                <a:cubicBezTo>
                  <a:pt x="2" y="38"/>
                  <a:pt x="0" y="66"/>
                  <a:pt x="1" y="94"/>
                </a:cubicBezTo>
                <a:cubicBezTo>
                  <a:pt x="2" y="116"/>
                  <a:pt x="36" y="116"/>
                  <a:pt x="35" y="94"/>
                </a:cubicBezTo>
                <a:cubicBezTo>
                  <a:pt x="34" y="77"/>
                  <a:pt x="32" y="53"/>
                  <a:pt x="48" y="41"/>
                </a:cubicBezTo>
                <a:cubicBezTo>
                  <a:pt x="56" y="35"/>
                  <a:pt x="65" y="33"/>
                  <a:pt x="75" y="33"/>
                </a:cubicBezTo>
                <a:lnTo>
                  <a:pt x="75" y="127"/>
                </a:lnTo>
                <a:cubicBezTo>
                  <a:pt x="56" y="127"/>
                  <a:pt x="37" y="131"/>
                  <a:pt x="23" y="144"/>
                </a:cubicBezTo>
                <a:cubicBezTo>
                  <a:pt x="2" y="165"/>
                  <a:pt x="0" y="193"/>
                  <a:pt x="1" y="221"/>
                </a:cubicBezTo>
                <a:cubicBezTo>
                  <a:pt x="2" y="243"/>
                  <a:pt x="36" y="243"/>
                  <a:pt x="35" y="221"/>
                </a:cubicBezTo>
                <a:cubicBezTo>
                  <a:pt x="34" y="204"/>
                  <a:pt x="32" y="180"/>
                  <a:pt x="48" y="168"/>
                </a:cubicBezTo>
                <a:cubicBezTo>
                  <a:pt x="56" y="162"/>
                  <a:pt x="65" y="160"/>
                  <a:pt x="75" y="160"/>
                </a:cubicBezTo>
                <a:lnTo>
                  <a:pt x="75" y="254"/>
                </a:lnTo>
                <a:cubicBezTo>
                  <a:pt x="56" y="254"/>
                  <a:pt x="37" y="258"/>
                  <a:pt x="23" y="271"/>
                </a:cubicBezTo>
                <a:cubicBezTo>
                  <a:pt x="2" y="292"/>
                  <a:pt x="0" y="320"/>
                  <a:pt x="1" y="348"/>
                </a:cubicBezTo>
                <a:cubicBezTo>
                  <a:pt x="2" y="370"/>
                  <a:pt x="36" y="370"/>
                  <a:pt x="35" y="348"/>
                </a:cubicBezTo>
                <a:cubicBezTo>
                  <a:pt x="34" y="331"/>
                  <a:pt x="32" y="307"/>
                  <a:pt x="48" y="295"/>
                </a:cubicBezTo>
                <a:cubicBezTo>
                  <a:pt x="56" y="289"/>
                  <a:pt x="65" y="287"/>
                  <a:pt x="75" y="287"/>
                </a:cubicBezTo>
                <a:lnTo>
                  <a:pt x="75" y="381"/>
                </a:lnTo>
                <a:cubicBezTo>
                  <a:pt x="56" y="381"/>
                  <a:pt x="37" y="385"/>
                  <a:pt x="23" y="398"/>
                </a:cubicBezTo>
                <a:cubicBezTo>
                  <a:pt x="2" y="419"/>
                  <a:pt x="0" y="447"/>
                  <a:pt x="1" y="475"/>
                </a:cubicBezTo>
                <a:cubicBezTo>
                  <a:pt x="2" y="497"/>
                  <a:pt x="36" y="497"/>
                  <a:pt x="35" y="475"/>
                </a:cubicBezTo>
                <a:cubicBezTo>
                  <a:pt x="34" y="458"/>
                  <a:pt x="32" y="434"/>
                  <a:pt x="48" y="422"/>
                </a:cubicBezTo>
                <a:cubicBezTo>
                  <a:pt x="56" y="416"/>
                  <a:pt x="65" y="414"/>
                  <a:pt x="75" y="414"/>
                </a:cubicBezTo>
                <a:lnTo>
                  <a:pt x="75" y="508"/>
                </a:lnTo>
                <a:cubicBezTo>
                  <a:pt x="56" y="508"/>
                  <a:pt x="37" y="512"/>
                  <a:pt x="23" y="52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93" name="Freeform 82"/>
          <p:cNvSpPr/>
          <p:nvPr/>
        </p:nvSpPr>
        <p:spPr>
          <a:xfrm>
            <a:off x="9734400" y="2270160"/>
            <a:ext cx="182880" cy="185760"/>
          </a:xfrm>
          <a:custGeom>
            <a:avLst/>
            <a:gdLst/>
            <a:ahLst/>
            <a:rect l="l" t="t" r="r" b="b"/>
            <a:pathLst>
              <a:path w="684" h="693">
                <a:moveTo>
                  <a:pt x="272" y="693"/>
                </a:moveTo>
                <a:lnTo>
                  <a:pt x="272" y="630"/>
                </a:lnTo>
                <a:cubicBezTo>
                  <a:pt x="584" y="630"/>
                  <a:pt x="618" y="327"/>
                  <a:pt x="618" y="327"/>
                </a:cubicBezTo>
                <a:cubicBezTo>
                  <a:pt x="618" y="327"/>
                  <a:pt x="525" y="396"/>
                  <a:pt x="272" y="396"/>
                </a:cubicBezTo>
                <a:lnTo>
                  <a:pt x="272" y="334"/>
                </a:lnTo>
                <a:lnTo>
                  <a:pt x="0" y="513"/>
                </a:lnTo>
                <a:lnTo>
                  <a:pt x="272" y="693"/>
                </a:lnTo>
                <a:close/>
                <a:moveTo>
                  <a:pt x="413" y="0"/>
                </a:moveTo>
                <a:lnTo>
                  <a:pt x="413" y="63"/>
                </a:lnTo>
                <a:cubicBezTo>
                  <a:pt x="101" y="63"/>
                  <a:pt x="62" y="366"/>
                  <a:pt x="62" y="366"/>
                </a:cubicBezTo>
                <a:cubicBezTo>
                  <a:pt x="62" y="366"/>
                  <a:pt x="159" y="297"/>
                  <a:pt x="413" y="297"/>
                </a:cubicBezTo>
                <a:lnTo>
                  <a:pt x="413" y="359"/>
                </a:lnTo>
                <a:lnTo>
                  <a:pt x="684" y="180"/>
                </a:lnTo>
                <a:lnTo>
                  <a:pt x="413"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94" name="Freeform 83"/>
          <p:cNvSpPr/>
          <p:nvPr/>
        </p:nvSpPr>
        <p:spPr>
          <a:xfrm>
            <a:off x="9740880" y="1974960"/>
            <a:ext cx="169920" cy="209520"/>
          </a:xfrm>
          <a:custGeom>
            <a:avLst/>
            <a:gdLst/>
            <a:ahLst/>
            <a:rect l="l" t="t" r="r" b="b"/>
            <a:pathLst>
              <a:path w="633" h="779">
                <a:moveTo>
                  <a:pt x="633" y="505"/>
                </a:moveTo>
                <a:lnTo>
                  <a:pt x="570" y="505"/>
                </a:lnTo>
                <a:lnTo>
                  <a:pt x="570" y="307"/>
                </a:lnTo>
                <a:lnTo>
                  <a:pt x="333" y="307"/>
                </a:lnTo>
                <a:lnTo>
                  <a:pt x="333" y="505"/>
                </a:lnTo>
                <a:lnTo>
                  <a:pt x="270" y="505"/>
                </a:lnTo>
                <a:lnTo>
                  <a:pt x="451" y="779"/>
                </a:lnTo>
                <a:lnTo>
                  <a:pt x="633" y="505"/>
                </a:lnTo>
                <a:close/>
                <a:moveTo>
                  <a:pt x="300" y="472"/>
                </a:moveTo>
                <a:lnTo>
                  <a:pt x="300" y="274"/>
                </a:lnTo>
                <a:lnTo>
                  <a:pt x="362" y="274"/>
                </a:lnTo>
                <a:lnTo>
                  <a:pt x="181" y="0"/>
                </a:lnTo>
                <a:lnTo>
                  <a:pt x="0" y="274"/>
                </a:lnTo>
                <a:lnTo>
                  <a:pt x="63" y="274"/>
                </a:lnTo>
                <a:lnTo>
                  <a:pt x="63" y="472"/>
                </a:lnTo>
                <a:lnTo>
                  <a:pt x="300" y="472"/>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95" name="Freeform 84"/>
          <p:cNvSpPr/>
          <p:nvPr/>
        </p:nvSpPr>
        <p:spPr>
          <a:xfrm>
            <a:off x="7709040" y="1166760"/>
            <a:ext cx="172800" cy="173160"/>
          </a:xfrm>
          <a:custGeom>
            <a:avLst/>
            <a:gdLst/>
            <a:ahLst/>
            <a:rect l="l" t="t" r="r" b="b"/>
            <a:pathLst>
              <a:path w="648" h="647">
                <a:moveTo>
                  <a:pt x="478" y="351"/>
                </a:moveTo>
                <a:cubicBezTo>
                  <a:pt x="483" y="436"/>
                  <a:pt x="509" y="510"/>
                  <a:pt x="543" y="563"/>
                </a:cubicBezTo>
                <a:cubicBezTo>
                  <a:pt x="602" y="510"/>
                  <a:pt x="641" y="435"/>
                  <a:pt x="648" y="351"/>
                </a:cubicBezTo>
                <a:lnTo>
                  <a:pt x="478" y="351"/>
                </a:lnTo>
                <a:close/>
                <a:moveTo>
                  <a:pt x="351" y="647"/>
                </a:moveTo>
                <a:cubicBezTo>
                  <a:pt x="406" y="643"/>
                  <a:pt x="457" y="625"/>
                  <a:pt x="500" y="596"/>
                </a:cubicBezTo>
                <a:cubicBezTo>
                  <a:pt x="459" y="535"/>
                  <a:pt x="429" y="449"/>
                  <a:pt x="424" y="351"/>
                </a:cubicBezTo>
                <a:lnTo>
                  <a:pt x="351" y="351"/>
                </a:lnTo>
                <a:lnTo>
                  <a:pt x="351" y="647"/>
                </a:lnTo>
                <a:close/>
                <a:moveTo>
                  <a:pt x="102" y="86"/>
                </a:moveTo>
                <a:cubicBezTo>
                  <a:pt x="45" y="140"/>
                  <a:pt x="7" y="214"/>
                  <a:pt x="0" y="297"/>
                </a:cubicBezTo>
                <a:lnTo>
                  <a:pt x="166" y="297"/>
                </a:lnTo>
                <a:cubicBezTo>
                  <a:pt x="162" y="213"/>
                  <a:pt x="136" y="139"/>
                  <a:pt x="102" y="86"/>
                </a:cubicBezTo>
                <a:close/>
                <a:moveTo>
                  <a:pt x="102" y="561"/>
                </a:moveTo>
                <a:cubicBezTo>
                  <a:pt x="136" y="508"/>
                  <a:pt x="162" y="435"/>
                  <a:pt x="166" y="351"/>
                </a:cubicBezTo>
                <a:lnTo>
                  <a:pt x="0" y="351"/>
                </a:lnTo>
                <a:cubicBezTo>
                  <a:pt x="7" y="434"/>
                  <a:pt x="45" y="508"/>
                  <a:pt x="102" y="561"/>
                </a:cubicBezTo>
                <a:close/>
                <a:moveTo>
                  <a:pt x="220" y="297"/>
                </a:moveTo>
                <a:lnTo>
                  <a:pt x="297" y="297"/>
                </a:lnTo>
                <a:lnTo>
                  <a:pt x="297" y="0"/>
                </a:lnTo>
                <a:cubicBezTo>
                  <a:pt x="241" y="5"/>
                  <a:pt x="189" y="23"/>
                  <a:pt x="145" y="53"/>
                </a:cubicBezTo>
                <a:cubicBezTo>
                  <a:pt x="185" y="114"/>
                  <a:pt x="216" y="199"/>
                  <a:pt x="220" y="297"/>
                </a:cubicBezTo>
                <a:close/>
                <a:moveTo>
                  <a:pt x="297" y="647"/>
                </a:moveTo>
                <a:lnTo>
                  <a:pt x="297" y="351"/>
                </a:lnTo>
                <a:lnTo>
                  <a:pt x="220" y="351"/>
                </a:lnTo>
                <a:cubicBezTo>
                  <a:pt x="216" y="449"/>
                  <a:pt x="185" y="533"/>
                  <a:pt x="145" y="595"/>
                </a:cubicBezTo>
                <a:cubicBezTo>
                  <a:pt x="189" y="624"/>
                  <a:pt x="241" y="643"/>
                  <a:pt x="297" y="647"/>
                </a:cubicBezTo>
                <a:close/>
                <a:moveTo>
                  <a:pt x="351" y="0"/>
                </a:moveTo>
                <a:lnTo>
                  <a:pt x="351" y="297"/>
                </a:lnTo>
                <a:lnTo>
                  <a:pt x="424" y="297"/>
                </a:lnTo>
                <a:cubicBezTo>
                  <a:pt x="429" y="198"/>
                  <a:pt x="459" y="113"/>
                  <a:pt x="500" y="51"/>
                </a:cubicBezTo>
                <a:cubicBezTo>
                  <a:pt x="457" y="23"/>
                  <a:pt x="406" y="5"/>
                  <a:pt x="351" y="0"/>
                </a:cubicBezTo>
                <a:close/>
                <a:moveTo>
                  <a:pt x="543" y="84"/>
                </a:moveTo>
                <a:cubicBezTo>
                  <a:pt x="509" y="137"/>
                  <a:pt x="483" y="211"/>
                  <a:pt x="478" y="297"/>
                </a:cubicBezTo>
                <a:lnTo>
                  <a:pt x="648" y="297"/>
                </a:lnTo>
                <a:cubicBezTo>
                  <a:pt x="641" y="213"/>
                  <a:pt x="602" y="138"/>
                  <a:pt x="543" y="84"/>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96" name="Freeform 85"/>
          <p:cNvSpPr/>
          <p:nvPr/>
        </p:nvSpPr>
        <p:spPr>
          <a:xfrm>
            <a:off x="9082080" y="1976400"/>
            <a:ext cx="117360" cy="206280"/>
          </a:xfrm>
          <a:custGeom>
            <a:avLst/>
            <a:gdLst/>
            <a:ahLst/>
            <a:rect l="l" t="t" r="r" b="b"/>
            <a:pathLst>
              <a:path w="439" h="766">
                <a:moveTo>
                  <a:pt x="394" y="285"/>
                </a:moveTo>
                <a:lnTo>
                  <a:pt x="299" y="285"/>
                </a:lnTo>
                <a:lnTo>
                  <a:pt x="439" y="0"/>
                </a:lnTo>
                <a:lnTo>
                  <a:pt x="236" y="0"/>
                </a:lnTo>
                <a:lnTo>
                  <a:pt x="27" y="425"/>
                </a:lnTo>
                <a:lnTo>
                  <a:pt x="136" y="425"/>
                </a:lnTo>
                <a:lnTo>
                  <a:pt x="0" y="766"/>
                </a:lnTo>
                <a:lnTo>
                  <a:pt x="394" y="285"/>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97" name="Freeform 86"/>
          <p:cNvSpPr/>
          <p:nvPr/>
        </p:nvSpPr>
        <p:spPr>
          <a:xfrm>
            <a:off x="8690040" y="1417680"/>
            <a:ext cx="222120" cy="209520"/>
          </a:xfrm>
          <a:custGeom>
            <a:avLst/>
            <a:gdLst/>
            <a:ahLst/>
            <a:rect l="l" t="t" r="r" b="b"/>
            <a:pathLst>
              <a:path w="830" h="785">
                <a:moveTo>
                  <a:pt x="691" y="566"/>
                </a:moveTo>
                <a:lnTo>
                  <a:pt x="509" y="566"/>
                </a:lnTo>
                <a:lnTo>
                  <a:pt x="509" y="508"/>
                </a:lnTo>
                <a:lnTo>
                  <a:pt x="457" y="578"/>
                </a:lnTo>
                <a:lnTo>
                  <a:pt x="405" y="647"/>
                </a:lnTo>
                <a:lnTo>
                  <a:pt x="457" y="716"/>
                </a:lnTo>
                <a:lnTo>
                  <a:pt x="509" y="785"/>
                </a:lnTo>
                <a:lnTo>
                  <a:pt x="509" y="746"/>
                </a:lnTo>
                <a:lnTo>
                  <a:pt x="606" y="742"/>
                </a:lnTo>
                <a:cubicBezTo>
                  <a:pt x="691" y="737"/>
                  <a:pt x="712" y="701"/>
                  <a:pt x="712" y="701"/>
                </a:cubicBezTo>
                <a:lnTo>
                  <a:pt x="808" y="523"/>
                </a:lnTo>
                <a:cubicBezTo>
                  <a:pt x="773" y="572"/>
                  <a:pt x="691" y="566"/>
                  <a:pt x="691" y="566"/>
                </a:cubicBezTo>
                <a:close/>
                <a:moveTo>
                  <a:pt x="395" y="121"/>
                </a:moveTo>
                <a:cubicBezTo>
                  <a:pt x="364" y="48"/>
                  <a:pt x="331" y="38"/>
                  <a:pt x="331" y="38"/>
                </a:cubicBezTo>
                <a:cubicBezTo>
                  <a:pt x="270" y="0"/>
                  <a:pt x="216" y="68"/>
                  <a:pt x="216" y="68"/>
                </a:cubicBezTo>
                <a:lnTo>
                  <a:pt x="161" y="159"/>
                </a:lnTo>
                <a:lnTo>
                  <a:pt x="314" y="253"/>
                </a:lnTo>
                <a:lnTo>
                  <a:pt x="395" y="121"/>
                </a:lnTo>
                <a:close/>
                <a:moveTo>
                  <a:pt x="536" y="291"/>
                </a:moveTo>
                <a:lnTo>
                  <a:pt x="622" y="304"/>
                </a:lnTo>
                <a:lnTo>
                  <a:pt x="658" y="225"/>
                </a:lnTo>
                <a:lnTo>
                  <a:pt x="694" y="146"/>
                </a:lnTo>
                <a:lnTo>
                  <a:pt x="659" y="165"/>
                </a:lnTo>
                <a:lnTo>
                  <a:pt x="610" y="81"/>
                </a:lnTo>
                <a:cubicBezTo>
                  <a:pt x="565" y="9"/>
                  <a:pt x="524" y="7"/>
                  <a:pt x="524" y="7"/>
                </a:cubicBezTo>
                <a:lnTo>
                  <a:pt x="321" y="8"/>
                </a:lnTo>
                <a:cubicBezTo>
                  <a:pt x="381" y="15"/>
                  <a:pt x="414" y="90"/>
                  <a:pt x="414" y="90"/>
                </a:cubicBezTo>
                <a:lnTo>
                  <a:pt x="501" y="250"/>
                </a:lnTo>
                <a:lnTo>
                  <a:pt x="450" y="277"/>
                </a:lnTo>
                <a:lnTo>
                  <a:pt x="536" y="291"/>
                </a:lnTo>
                <a:close/>
                <a:moveTo>
                  <a:pt x="149" y="657"/>
                </a:moveTo>
                <a:cubicBezTo>
                  <a:pt x="147" y="729"/>
                  <a:pt x="233" y="740"/>
                  <a:pt x="233" y="740"/>
                </a:cubicBezTo>
                <a:lnTo>
                  <a:pt x="340" y="742"/>
                </a:lnTo>
                <a:lnTo>
                  <a:pt x="343" y="563"/>
                </a:lnTo>
                <a:lnTo>
                  <a:pt x="188" y="559"/>
                </a:lnTo>
                <a:cubicBezTo>
                  <a:pt x="141" y="623"/>
                  <a:pt x="149" y="657"/>
                  <a:pt x="149" y="657"/>
                </a:cubicBezTo>
                <a:close/>
                <a:moveTo>
                  <a:pt x="122" y="684"/>
                </a:moveTo>
                <a:cubicBezTo>
                  <a:pt x="98" y="628"/>
                  <a:pt x="146" y="562"/>
                  <a:pt x="146" y="562"/>
                </a:cubicBezTo>
                <a:lnTo>
                  <a:pt x="241" y="406"/>
                </a:lnTo>
                <a:lnTo>
                  <a:pt x="289" y="436"/>
                </a:lnTo>
                <a:lnTo>
                  <a:pt x="257" y="355"/>
                </a:lnTo>
                <a:lnTo>
                  <a:pt x="225" y="275"/>
                </a:lnTo>
                <a:lnTo>
                  <a:pt x="139" y="284"/>
                </a:lnTo>
                <a:lnTo>
                  <a:pt x="53" y="292"/>
                </a:lnTo>
                <a:lnTo>
                  <a:pt x="87" y="313"/>
                </a:lnTo>
                <a:lnTo>
                  <a:pt x="40" y="398"/>
                </a:lnTo>
                <a:cubicBezTo>
                  <a:pt x="0" y="473"/>
                  <a:pt x="19" y="509"/>
                  <a:pt x="19" y="509"/>
                </a:cubicBezTo>
                <a:lnTo>
                  <a:pt x="122" y="684"/>
                </a:lnTo>
                <a:close/>
                <a:moveTo>
                  <a:pt x="741" y="309"/>
                </a:moveTo>
                <a:lnTo>
                  <a:pt x="586" y="399"/>
                </a:lnTo>
                <a:lnTo>
                  <a:pt x="663" y="533"/>
                </a:lnTo>
                <a:cubicBezTo>
                  <a:pt x="742" y="540"/>
                  <a:pt x="766" y="516"/>
                  <a:pt x="766" y="516"/>
                </a:cubicBezTo>
                <a:cubicBezTo>
                  <a:pt x="830" y="480"/>
                  <a:pt x="794" y="401"/>
                  <a:pt x="794" y="401"/>
                </a:cubicBezTo>
                <a:lnTo>
                  <a:pt x="741" y="309"/>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98" name="Freeform 87"/>
          <p:cNvSpPr/>
          <p:nvPr/>
        </p:nvSpPr>
        <p:spPr>
          <a:xfrm>
            <a:off x="8709120" y="2274840"/>
            <a:ext cx="180720" cy="174600"/>
          </a:xfrm>
          <a:custGeom>
            <a:avLst/>
            <a:gdLst/>
            <a:ahLst/>
            <a:rect l="l" t="t" r="r" b="b"/>
            <a:pathLst>
              <a:path w="684" h="653">
                <a:moveTo>
                  <a:pt x="681" y="321"/>
                </a:moveTo>
                <a:cubicBezTo>
                  <a:pt x="658" y="165"/>
                  <a:pt x="529" y="43"/>
                  <a:pt x="370" y="30"/>
                </a:cubicBezTo>
                <a:lnTo>
                  <a:pt x="370" y="0"/>
                </a:lnTo>
                <a:lnTo>
                  <a:pt x="314" y="0"/>
                </a:lnTo>
                <a:lnTo>
                  <a:pt x="314" y="30"/>
                </a:lnTo>
                <a:cubicBezTo>
                  <a:pt x="155" y="43"/>
                  <a:pt x="27" y="165"/>
                  <a:pt x="4" y="321"/>
                </a:cubicBezTo>
                <a:cubicBezTo>
                  <a:pt x="0" y="345"/>
                  <a:pt x="1" y="345"/>
                  <a:pt x="11" y="322"/>
                </a:cubicBezTo>
                <a:cubicBezTo>
                  <a:pt x="29" y="284"/>
                  <a:pt x="69" y="257"/>
                  <a:pt x="114" y="257"/>
                </a:cubicBezTo>
                <a:cubicBezTo>
                  <a:pt x="162" y="257"/>
                  <a:pt x="203" y="286"/>
                  <a:pt x="220" y="328"/>
                </a:cubicBezTo>
                <a:cubicBezTo>
                  <a:pt x="229" y="350"/>
                  <a:pt x="227" y="350"/>
                  <a:pt x="237" y="328"/>
                </a:cubicBezTo>
                <a:cubicBezTo>
                  <a:pt x="250" y="295"/>
                  <a:pt x="279" y="270"/>
                  <a:pt x="314" y="261"/>
                </a:cubicBezTo>
                <a:lnTo>
                  <a:pt x="314" y="536"/>
                </a:lnTo>
                <a:cubicBezTo>
                  <a:pt x="314" y="569"/>
                  <a:pt x="287" y="597"/>
                  <a:pt x="253" y="597"/>
                </a:cubicBezTo>
                <a:lnTo>
                  <a:pt x="236" y="597"/>
                </a:lnTo>
                <a:cubicBezTo>
                  <a:pt x="202" y="597"/>
                  <a:pt x="175" y="569"/>
                  <a:pt x="175" y="536"/>
                </a:cubicBezTo>
                <a:lnTo>
                  <a:pt x="119" y="536"/>
                </a:lnTo>
                <a:cubicBezTo>
                  <a:pt x="119" y="600"/>
                  <a:pt x="171" y="653"/>
                  <a:pt x="236" y="653"/>
                </a:cubicBezTo>
                <a:lnTo>
                  <a:pt x="253" y="653"/>
                </a:lnTo>
                <a:cubicBezTo>
                  <a:pt x="318" y="653"/>
                  <a:pt x="370" y="600"/>
                  <a:pt x="370" y="536"/>
                </a:cubicBezTo>
                <a:lnTo>
                  <a:pt x="370" y="261"/>
                </a:lnTo>
                <a:cubicBezTo>
                  <a:pt x="405" y="270"/>
                  <a:pt x="434" y="295"/>
                  <a:pt x="448" y="328"/>
                </a:cubicBezTo>
                <a:cubicBezTo>
                  <a:pt x="457" y="350"/>
                  <a:pt x="455" y="350"/>
                  <a:pt x="465" y="328"/>
                </a:cubicBezTo>
                <a:cubicBezTo>
                  <a:pt x="482" y="286"/>
                  <a:pt x="523" y="257"/>
                  <a:pt x="570" y="257"/>
                </a:cubicBezTo>
                <a:cubicBezTo>
                  <a:pt x="616" y="257"/>
                  <a:pt x="655" y="284"/>
                  <a:pt x="673" y="322"/>
                </a:cubicBezTo>
                <a:cubicBezTo>
                  <a:pt x="684" y="345"/>
                  <a:pt x="684" y="345"/>
                  <a:pt x="681" y="32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699" name="Freeform 88"/>
          <p:cNvSpPr/>
          <p:nvPr/>
        </p:nvSpPr>
        <p:spPr>
          <a:xfrm>
            <a:off x="6616800" y="2573280"/>
            <a:ext cx="196920" cy="222480"/>
          </a:xfrm>
          <a:custGeom>
            <a:avLst/>
            <a:gdLst/>
            <a:ahLst/>
            <a:rect l="l" t="t" r="r" b="b"/>
            <a:pathLst>
              <a:path w="739" h="835">
                <a:moveTo>
                  <a:pt x="308" y="250"/>
                </a:moveTo>
                <a:lnTo>
                  <a:pt x="431" y="250"/>
                </a:lnTo>
                <a:cubicBezTo>
                  <a:pt x="463" y="240"/>
                  <a:pt x="492" y="222"/>
                  <a:pt x="516" y="197"/>
                </a:cubicBezTo>
                <a:cubicBezTo>
                  <a:pt x="550" y="162"/>
                  <a:pt x="587" y="90"/>
                  <a:pt x="563" y="42"/>
                </a:cubicBezTo>
                <a:cubicBezTo>
                  <a:pt x="552" y="20"/>
                  <a:pt x="526" y="0"/>
                  <a:pt x="500" y="9"/>
                </a:cubicBezTo>
                <a:cubicBezTo>
                  <a:pt x="472" y="20"/>
                  <a:pt x="453" y="43"/>
                  <a:pt x="434" y="66"/>
                </a:cubicBezTo>
                <a:cubicBezTo>
                  <a:pt x="431" y="70"/>
                  <a:pt x="428" y="75"/>
                  <a:pt x="424" y="79"/>
                </a:cubicBezTo>
                <a:cubicBezTo>
                  <a:pt x="425" y="76"/>
                  <a:pt x="424" y="74"/>
                  <a:pt x="424" y="72"/>
                </a:cubicBezTo>
                <a:cubicBezTo>
                  <a:pt x="422" y="50"/>
                  <a:pt x="408" y="69"/>
                  <a:pt x="401" y="76"/>
                </a:cubicBezTo>
                <a:cubicBezTo>
                  <a:pt x="395" y="83"/>
                  <a:pt x="389" y="89"/>
                  <a:pt x="383" y="96"/>
                </a:cubicBezTo>
                <a:cubicBezTo>
                  <a:pt x="379" y="102"/>
                  <a:pt x="374" y="107"/>
                  <a:pt x="370" y="113"/>
                </a:cubicBezTo>
                <a:cubicBezTo>
                  <a:pt x="365" y="107"/>
                  <a:pt x="361" y="102"/>
                  <a:pt x="356" y="96"/>
                </a:cubicBezTo>
                <a:cubicBezTo>
                  <a:pt x="350" y="89"/>
                  <a:pt x="344" y="83"/>
                  <a:pt x="338" y="76"/>
                </a:cubicBezTo>
                <a:cubicBezTo>
                  <a:pt x="331" y="69"/>
                  <a:pt x="317" y="50"/>
                  <a:pt x="315" y="72"/>
                </a:cubicBezTo>
                <a:cubicBezTo>
                  <a:pt x="315" y="74"/>
                  <a:pt x="315" y="76"/>
                  <a:pt x="315" y="79"/>
                </a:cubicBezTo>
                <a:cubicBezTo>
                  <a:pt x="311" y="75"/>
                  <a:pt x="308" y="70"/>
                  <a:pt x="305" y="66"/>
                </a:cubicBezTo>
                <a:cubicBezTo>
                  <a:pt x="286" y="43"/>
                  <a:pt x="267" y="20"/>
                  <a:pt x="239" y="9"/>
                </a:cubicBezTo>
                <a:cubicBezTo>
                  <a:pt x="213" y="0"/>
                  <a:pt x="187" y="20"/>
                  <a:pt x="176" y="42"/>
                </a:cubicBezTo>
                <a:cubicBezTo>
                  <a:pt x="153" y="90"/>
                  <a:pt x="189" y="162"/>
                  <a:pt x="223" y="197"/>
                </a:cubicBezTo>
                <a:cubicBezTo>
                  <a:pt x="247" y="222"/>
                  <a:pt x="276" y="240"/>
                  <a:pt x="308" y="250"/>
                </a:cubicBezTo>
                <a:close/>
                <a:moveTo>
                  <a:pt x="691" y="479"/>
                </a:moveTo>
                <a:lnTo>
                  <a:pt x="460" y="479"/>
                </a:lnTo>
                <a:lnTo>
                  <a:pt x="460" y="677"/>
                </a:lnTo>
                <a:lnTo>
                  <a:pt x="374" y="618"/>
                </a:lnTo>
                <a:lnTo>
                  <a:pt x="288" y="677"/>
                </a:lnTo>
                <a:lnTo>
                  <a:pt x="288" y="479"/>
                </a:lnTo>
                <a:lnTo>
                  <a:pt x="49" y="479"/>
                </a:lnTo>
                <a:lnTo>
                  <a:pt x="49" y="835"/>
                </a:lnTo>
                <a:lnTo>
                  <a:pt x="691" y="835"/>
                </a:lnTo>
                <a:lnTo>
                  <a:pt x="691" y="479"/>
                </a:lnTo>
                <a:close/>
                <a:moveTo>
                  <a:pt x="739" y="276"/>
                </a:moveTo>
                <a:lnTo>
                  <a:pt x="0" y="276"/>
                </a:lnTo>
                <a:lnTo>
                  <a:pt x="0" y="457"/>
                </a:lnTo>
                <a:lnTo>
                  <a:pt x="46" y="457"/>
                </a:lnTo>
                <a:lnTo>
                  <a:pt x="698" y="457"/>
                </a:lnTo>
                <a:lnTo>
                  <a:pt x="739" y="457"/>
                </a:lnTo>
                <a:lnTo>
                  <a:pt x="739" y="276"/>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00" name="Freeform 89"/>
          <p:cNvSpPr/>
          <p:nvPr/>
        </p:nvSpPr>
        <p:spPr>
          <a:xfrm>
            <a:off x="9408960" y="2948040"/>
            <a:ext cx="181080" cy="162000"/>
          </a:xfrm>
          <a:custGeom>
            <a:avLst/>
            <a:gdLst/>
            <a:ahLst/>
            <a:rect l="l" t="t" r="r" b="b"/>
            <a:pathLst>
              <a:path w="676" h="610">
                <a:moveTo>
                  <a:pt x="215" y="77"/>
                </a:moveTo>
                <a:lnTo>
                  <a:pt x="84" y="248"/>
                </a:lnTo>
                <a:lnTo>
                  <a:pt x="168" y="248"/>
                </a:lnTo>
                <a:lnTo>
                  <a:pt x="268" y="117"/>
                </a:lnTo>
                <a:cubicBezTo>
                  <a:pt x="244" y="114"/>
                  <a:pt x="224" y="98"/>
                  <a:pt x="215" y="77"/>
                </a:cubicBezTo>
                <a:close/>
                <a:moveTo>
                  <a:pt x="0" y="268"/>
                </a:moveTo>
                <a:lnTo>
                  <a:pt x="89" y="610"/>
                </a:lnTo>
                <a:lnTo>
                  <a:pt x="587" y="610"/>
                </a:lnTo>
                <a:lnTo>
                  <a:pt x="676" y="268"/>
                </a:lnTo>
                <a:lnTo>
                  <a:pt x="607" y="268"/>
                </a:lnTo>
                <a:lnTo>
                  <a:pt x="523" y="268"/>
                </a:lnTo>
                <a:lnTo>
                  <a:pt x="153" y="268"/>
                </a:lnTo>
                <a:lnTo>
                  <a:pt x="69" y="268"/>
                </a:lnTo>
                <a:lnTo>
                  <a:pt x="0" y="268"/>
                </a:lnTo>
                <a:close/>
                <a:moveTo>
                  <a:pt x="408" y="1"/>
                </a:moveTo>
                <a:cubicBezTo>
                  <a:pt x="404" y="0"/>
                  <a:pt x="401" y="0"/>
                  <a:pt x="397" y="0"/>
                </a:cubicBezTo>
                <a:cubicBezTo>
                  <a:pt x="375" y="0"/>
                  <a:pt x="355" y="15"/>
                  <a:pt x="350" y="37"/>
                </a:cubicBezTo>
                <a:cubicBezTo>
                  <a:pt x="350" y="40"/>
                  <a:pt x="349" y="43"/>
                  <a:pt x="349" y="46"/>
                </a:cubicBezTo>
                <a:cubicBezTo>
                  <a:pt x="349" y="46"/>
                  <a:pt x="349" y="47"/>
                  <a:pt x="349" y="48"/>
                </a:cubicBezTo>
                <a:cubicBezTo>
                  <a:pt x="349" y="70"/>
                  <a:pt x="364" y="89"/>
                  <a:pt x="386" y="95"/>
                </a:cubicBezTo>
                <a:cubicBezTo>
                  <a:pt x="388" y="95"/>
                  <a:pt x="390" y="95"/>
                  <a:pt x="392" y="96"/>
                </a:cubicBezTo>
                <a:cubicBezTo>
                  <a:pt x="393" y="96"/>
                  <a:pt x="395" y="96"/>
                  <a:pt x="397" y="96"/>
                </a:cubicBezTo>
                <a:cubicBezTo>
                  <a:pt x="419" y="96"/>
                  <a:pt x="439" y="81"/>
                  <a:pt x="444" y="59"/>
                </a:cubicBezTo>
                <a:cubicBezTo>
                  <a:pt x="444" y="57"/>
                  <a:pt x="445" y="56"/>
                  <a:pt x="445" y="55"/>
                </a:cubicBezTo>
                <a:cubicBezTo>
                  <a:pt x="448" y="30"/>
                  <a:pt x="433" y="7"/>
                  <a:pt x="408" y="1"/>
                </a:cubicBezTo>
                <a:close/>
                <a:moveTo>
                  <a:pt x="508" y="248"/>
                </a:moveTo>
                <a:lnTo>
                  <a:pt x="592" y="248"/>
                </a:lnTo>
                <a:lnTo>
                  <a:pt x="461" y="77"/>
                </a:lnTo>
                <a:cubicBezTo>
                  <a:pt x="452" y="98"/>
                  <a:pt x="432" y="114"/>
                  <a:pt x="408" y="117"/>
                </a:cubicBezTo>
                <a:lnTo>
                  <a:pt x="508" y="248"/>
                </a:lnTo>
                <a:close/>
                <a:moveTo>
                  <a:pt x="279" y="96"/>
                </a:moveTo>
                <a:cubicBezTo>
                  <a:pt x="281" y="96"/>
                  <a:pt x="282" y="96"/>
                  <a:pt x="284" y="96"/>
                </a:cubicBezTo>
                <a:cubicBezTo>
                  <a:pt x="286" y="95"/>
                  <a:pt x="288" y="95"/>
                  <a:pt x="290" y="95"/>
                </a:cubicBezTo>
                <a:cubicBezTo>
                  <a:pt x="312" y="89"/>
                  <a:pt x="327" y="69"/>
                  <a:pt x="327" y="47"/>
                </a:cubicBezTo>
                <a:cubicBezTo>
                  <a:pt x="327" y="47"/>
                  <a:pt x="327" y="46"/>
                  <a:pt x="327" y="46"/>
                </a:cubicBezTo>
                <a:cubicBezTo>
                  <a:pt x="327" y="43"/>
                  <a:pt x="326" y="40"/>
                  <a:pt x="326" y="37"/>
                </a:cubicBezTo>
                <a:cubicBezTo>
                  <a:pt x="320" y="15"/>
                  <a:pt x="301" y="0"/>
                  <a:pt x="279" y="0"/>
                </a:cubicBezTo>
                <a:cubicBezTo>
                  <a:pt x="275" y="0"/>
                  <a:pt x="271" y="0"/>
                  <a:pt x="268" y="1"/>
                </a:cubicBezTo>
                <a:cubicBezTo>
                  <a:pt x="243" y="7"/>
                  <a:pt x="227" y="30"/>
                  <a:pt x="231" y="55"/>
                </a:cubicBezTo>
                <a:cubicBezTo>
                  <a:pt x="231" y="56"/>
                  <a:pt x="232" y="57"/>
                  <a:pt x="232" y="59"/>
                </a:cubicBezTo>
                <a:cubicBezTo>
                  <a:pt x="237" y="81"/>
                  <a:pt x="257" y="96"/>
                  <a:pt x="279" y="9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01" name="Freeform 90"/>
          <p:cNvSpPr/>
          <p:nvPr/>
        </p:nvSpPr>
        <p:spPr>
          <a:xfrm>
            <a:off x="4521240" y="1177920"/>
            <a:ext cx="179280" cy="152280"/>
          </a:xfrm>
          <a:custGeom>
            <a:avLst/>
            <a:gdLst/>
            <a:ahLst/>
            <a:rect l="l" t="t" r="r" b="b"/>
            <a:pathLst>
              <a:path w="663" h="569">
                <a:moveTo>
                  <a:pt x="473" y="390"/>
                </a:moveTo>
                <a:lnTo>
                  <a:pt x="473" y="257"/>
                </a:lnTo>
                <a:cubicBezTo>
                  <a:pt x="473" y="218"/>
                  <a:pt x="498" y="197"/>
                  <a:pt x="537" y="197"/>
                </a:cubicBezTo>
                <a:lnTo>
                  <a:pt x="575" y="197"/>
                </a:lnTo>
                <a:lnTo>
                  <a:pt x="575" y="53"/>
                </a:lnTo>
                <a:cubicBezTo>
                  <a:pt x="575" y="24"/>
                  <a:pt x="552" y="0"/>
                  <a:pt x="523" y="0"/>
                </a:cubicBezTo>
                <a:lnTo>
                  <a:pt x="140" y="0"/>
                </a:lnTo>
                <a:cubicBezTo>
                  <a:pt x="111" y="0"/>
                  <a:pt x="87" y="24"/>
                  <a:pt x="87" y="53"/>
                </a:cubicBezTo>
                <a:lnTo>
                  <a:pt x="87" y="197"/>
                </a:lnTo>
                <a:lnTo>
                  <a:pt x="129" y="197"/>
                </a:lnTo>
                <a:cubicBezTo>
                  <a:pt x="168" y="197"/>
                  <a:pt x="189" y="218"/>
                  <a:pt x="189" y="257"/>
                </a:cubicBezTo>
                <a:lnTo>
                  <a:pt x="189" y="390"/>
                </a:lnTo>
                <a:lnTo>
                  <a:pt x="473" y="390"/>
                </a:lnTo>
                <a:close/>
                <a:moveTo>
                  <a:pt x="621" y="215"/>
                </a:moveTo>
                <a:lnTo>
                  <a:pt x="575" y="215"/>
                </a:lnTo>
                <a:lnTo>
                  <a:pt x="537" y="215"/>
                </a:lnTo>
                <a:cubicBezTo>
                  <a:pt x="507" y="215"/>
                  <a:pt x="491" y="228"/>
                  <a:pt x="491" y="257"/>
                </a:cubicBezTo>
                <a:lnTo>
                  <a:pt x="491" y="408"/>
                </a:lnTo>
                <a:lnTo>
                  <a:pt x="172" y="408"/>
                </a:lnTo>
                <a:lnTo>
                  <a:pt x="172" y="257"/>
                </a:lnTo>
                <a:cubicBezTo>
                  <a:pt x="172" y="228"/>
                  <a:pt x="158" y="215"/>
                  <a:pt x="129" y="215"/>
                </a:cubicBezTo>
                <a:lnTo>
                  <a:pt x="87" y="215"/>
                </a:lnTo>
                <a:lnTo>
                  <a:pt x="45" y="215"/>
                </a:lnTo>
                <a:cubicBezTo>
                  <a:pt x="16" y="215"/>
                  <a:pt x="0" y="228"/>
                  <a:pt x="0" y="257"/>
                </a:cubicBezTo>
                <a:lnTo>
                  <a:pt x="0" y="478"/>
                </a:lnTo>
                <a:cubicBezTo>
                  <a:pt x="0" y="507"/>
                  <a:pt x="34" y="541"/>
                  <a:pt x="63" y="541"/>
                </a:cubicBezTo>
                <a:cubicBezTo>
                  <a:pt x="63" y="543"/>
                  <a:pt x="63" y="546"/>
                  <a:pt x="64" y="548"/>
                </a:cubicBezTo>
                <a:cubicBezTo>
                  <a:pt x="65" y="552"/>
                  <a:pt x="66" y="556"/>
                  <a:pt x="69" y="559"/>
                </a:cubicBezTo>
                <a:cubicBezTo>
                  <a:pt x="74" y="565"/>
                  <a:pt x="82" y="569"/>
                  <a:pt x="91" y="569"/>
                </a:cubicBezTo>
                <a:lnTo>
                  <a:pt x="101" y="569"/>
                </a:lnTo>
                <a:cubicBezTo>
                  <a:pt x="110" y="569"/>
                  <a:pt x="118" y="565"/>
                  <a:pt x="123" y="559"/>
                </a:cubicBezTo>
                <a:cubicBezTo>
                  <a:pt x="126" y="556"/>
                  <a:pt x="127" y="552"/>
                  <a:pt x="128" y="548"/>
                </a:cubicBezTo>
                <a:cubicBezTo>
                  <a:pt x="129" y="546"/>
                  <a:pt x="129" y="543"/>
                  <a:pt x="129" y="541"/>
                </a:cubicBezTo>
                <a:lnTo>
                  <a:pt x="533" y="541"/>
                </a:lnTo>
                <a:cubicBezTo>
                  <a:pt x="533" y="543"/>
                  <a:pt x="533" y="546"/>
                  <a:pt x="534" y="548"/>
                </a:cubicBezTo>
                <a:cubicBezTo>
                  <a:pt x="535" y="552"/>
                  <a:pt x="537" y="556"/>
                  <a:pt x="539" y="559"/>
                </a:cubicBezTo>
                <a:cubicBezTo>
                  <a:pt x="544" y="565"/>
                  <a:pt x="552" y="569"/>
                  <a:pt x="561" y="569"/>
                </a:cubicBezTo>
                <a:lnTo>
                  <a:pt x="572" y="569"/>
                </a:lnTo>
                <a:cubicBezTo>
                  <a:pt x="581" y="569"/>
                  <a:pt x="588" y="565"/>
                  <a:pt x="594" y="559"/>
                </a:cubicBezTo>
                <a:cubicBezTo>
                  <a:pt x="596" y="556"/>
                  <a:pt x="598" y="552"/>
                  <a:pt x="599" y="548"/>
                </a:cubicBezTo>
                <a:cubicBezTo>
                  <a:pt x="599" y="546"/>
                  <a:pt x="600" y="543"/>
                  <a:pt x="600" y="541"/>
                </a:cubicBezTo>
                <a:lnTo>
                  <a:pt x="621" y="541"/>
                </a:lnTo>
                <a:cubicBezTo>
                  <a:pt x="650" y="541"/>
                  <a:pt x="663" y="507"/>
                  <a:pt x="663" y="478"/>
                </a:cubicBezTo>
                <a:lnTo>
                  <a:pt x="663" y="257"/>
                </a:lnTo>
                <a:cubicBezTo>
                  <a:pt x="663" y="228"/>
                  <a:pt x="650" y="215"/>
                  <a:pt x="621" y="215"/>
                </a:cubicBezTo>
                <a:close/>
                <a:moveTo>
                  <a:pt x="401" y="81"/>
                </a:moveTo>
                <a:cubicBezTo>
                  <a:pt x="416" y="81"/>
                  <a:pt x="428" y="93"/>
                  <a:pt x="428" y="108"/>
                </a:cubicBezTo>
                <a:cubicBezTo>
                  <a:pt x="428" y="122"/>
                  <a:pt x="416" y="134"/>
                  <a:pt x="401" y="134"/>
                </a:cubicBezTo>
                <a:cubicBezTo>
                  <a:pt x="387" y="134"/>
                  <a:pt x="375" y="122"/>
                  <a:pt x="375" y="108"/>
                </a:cubicBezTo>
                <a:cubicBezTo>
                  <a:pt x="375" y="93"/>
                  <a:pt x="387" y="81"/>
                  <a:pt x="401" y="81"/>
                </a:cubicBezTo>
                <a:close/>
                <a:moveTo>
                  <a:pt x="261" y="81"/>
                </a:moveTo>
                <a:cubicBezTo>
                  <a:pt x="276" y="81"/>
                  <a:pt x="287" y="93"/>
                  <a:pt x="287" y="108"/>
                </a:cubicBezTo>
                <a:cubicBezTo>
                  <a:pt x="287" y="122"/>
                  <a:pt x="276" y="134"/>
                  <a:pt x="261" y="134"/>
                </a:cubicBezTo>
                <a:cubicBezTo>
                  <a:pt x="246" y="134"/>
                  <a:pt x="235" y="122"/>
                  <a:pt x="235" y="108"/>
                </a:cubicBezTo>
                <a:cubicBezTo>
                  <a:pt x="235" y="93"/>
                  <a:pt x="246" y="81"/>
                  <a:pt x="261" y="8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02" name="Freeform 91"/>
          <p:cNvSpPr/>
          <p:nvPr/>
        </p:nvSpPr>
        <p:spPr>
          <a:xfrm>
            <a:off x="2584440" y="2604960"/>
            <a:ext cx="190440" cy="160560"/>
          </a:xfrm>
          <a:custGeom>
            <a:avLst/>
            <a:gdLst/>
            <a:ahLst/>
            <a:rect l="l" t="t" r="r" b="b"/>
            <a:pathLst>
              <a:path w="715" h="600">
                <a:moveTo>
                  <a:pt x="530" y="114"/>
                </a:moveTo>
                <a:lnTo>
                  <a:pt x="530" y="0"/>
                </a:lnTo>
                <a:lnTo>
                  <a:pt x="185" y="0"/>
                </a:lnTo>
                <a:lnTo>
                  <a:pt x="185" y="114"/>
                </a:lnTo>
                <a:lnTo>
                  <a:pt x="244" y="114"/>
                </a:lnTo>
                <a:lnTo>
                  <a:pt x="244" y="59"/>
                </a:lnTo>
                <a:lnTo>
                  <a:pt x="472" y="59"/>
                </a:lnTo>
                <a:lnTo>
                  <a:pt x="472" y="114"/>
                </a:lnTo>
                <a:lnTo>
                  <a:pt x="530" y="114"/>
                </a:lnTo>
                <a:close/>
                <a:moveTo>
                  <a:pt x="0" y="534"/>
                </a:moveTo>
                <a:lnTo>
                  <a:pt x="715" y="534"/>
                </a:lnTo>
                <a:lnTo>
                  <a:pt x="715" y="600"/>
                </a:lnTo>
                <a:lnTo>
                  <a:pt x="0" y="600"/>
                </a:lnTo>
                <a:lnTo>
                  <a:pt x="0" y="534"/>
                </a:lnTo>
                <a:close/>
                <a:moveTo>
                  <a:pt x="0" y="196"/>
                </a:moveTo>
                <a:lnTo>
                  <a:pt x="185" y="196"/>
                </a:lnTo>
                <a:lnTo>
                  <a:pt x="244" y="196"/>
                </a:lnTo>
                <a:lnTo>
                  <a:pt x="472" y="196"/>
                </a:lnTo>
                <a:lnTo>
                  <a:pt x="530" y="196"/>
                </a:lnTo>
                <a:lnTo>
                  <a:pt x="715" y="196"/>
                </a:lnTo>
                <a:lnTo>
                  <a:pt x="715" y="133"/>
                </a:lnTo>
                <a:lnTo>
                  <a:pt x="530" y="133"/>
                </a:lnTo>
                <a:lnTo>
                  <a:pt x="472" y="133"/>
                </a:lnTo>
                <a:lnTo>
                  <a:pt x="244" y="133"/>
                </a:lnTo>
                <a:lnTo>
                  <a:pt x="185" y="133"/>
                </a:lnTo>
                <a:lnTo>
                  <a:pt x="0" y="133"/>
                </a:lnTo>
                <a:lnTo>
                  <a:pt x="0" y="196"/>
                </a:lnTo>
                <a:close/>
                <a:moveTo>
                  <a:pt x="0" y="514"/>
                </a:moveTo>
                <a:lnTo>
                  <a:pt x="715" y="514"/>
                </a:lnTo>
                <a:lnTo>
                  <a:pt x="715" y="216"/>
                </a:lnTo>
                <a:lnTo>
                  <a:pt x="530" y="216"/>
                </a:lnTo>
                <a:lnTo>
                  <a:pt x="185" y="216"/>
                </a:lnTo>
                <a:lnTo>
                  <a:pt x="0" y="216"/>
                </a:lnTo>
                <a:lnTo>
                  <a:pt x="0" y="514"/>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03" name="Freeform 92"/>
          <p:cNvSpPr/>
          <p:nvPr/>
        </p:nvSpPr>
        <p:spPr>
          <a:xfrm>
            <a:off x="2914560" y="2606760"/>
            <a:ext cx="179640" cy="156960"/>
          </a:xfrm>
          <a:custGeom>
            <a:avLst/>
            <a:gdLst/>
            <a:ahLst/>
            <a:rect l="l" t="t" r="r" b="b"/>
            <a:pathLst>
              <a:path w="666" h="589">
                <a:moveTo>
                  <a:pt x="93" y="412"/>
                </a:moveTo>
                <a:lnTo>
                  <a:pt x="108" y="412"/>
                </a:lnTo>
                <a:lnTo>
                  <a:pt x="561" y="412"/>
                </a:lnTo>
                <a:lnTo>
                  <a:pt x="572" y="412"/>
                </a:lnTo>
                <a:lnTo>
                  <a:pt x="666" y="235"/>
                </a:lnTo>
                <a:lnTo>
                  <a:pt x="664" y="235"/>
                </a:lnTo>
                <a:lnTo>
                  <a:pt x="566" y="235"/>
                </a:lnTo>
                <a:lnTo>
                  <a:pt x="487" y="235"/>
                </a:lnTo>
                <a:lnTo>
                  <a:pt x="181" y="235"/>
                </a:lnTo>
                <a:lnTo>
                  <a:pt x="103" y="235"/>
                </a:lnTo>
                <a:lnTo>
                  <a:pt x="2" y="235"/>
                </a:lnTo>
                <a:lnTo>
                  <a:pt x="93" y="412"/>
                </a:lnTo>
                <a:close/>
                <a:moveTo>
                  <a:pt x="566" y="216"/>
                </a:moveTo>
                <a:lnTo>
                  <a:pt x="566" y="92"/>
                </a:lnTo>
                <a:cubicBezTo>
                  <a:pt x="566" y="42"/>
                  <a:pt x="527" y="0"/>
                  <a:pt x="477" y="0"/>
                </a:cubicBezTo>
                <a:lnTo>
                  <a:pt x="192" y="0"/>
                </a:lnTo>
                <a:cubicBezTo>
                  <a:pt x="142" y="0"/>
                  <a:pt x="103" y="42"/>
                  <a:pt x="103" y="92"/>
                </a:cubicBezTo>
                <a:lnTo>
                  <a:pt x="103" y="216"/>
                </a:lnTo>
                <a:lnTo>
                  <a:pt x="181" y="216"/>
                </a:lnTo>
                <a:lnTo>
                  <a:pt x="181" y="92"/>
                </a:lnTo>
                <a:cubicBezTo>
                  <a:pt x="181" y="85"/>
                  <a:pt x="185" y="78"/>
                  <a:pt x="192" y="78"/>
                </a:cubicBezTo>
                <a:lnTo>
                  <a:pt x="477" y="78"/>
                </a:lnTo>
                <a:cubicBezTo>
                  <a:pt x="483" y="78"/>
                  <a:pt x="487" y="85"/>
                  <a:pt x="487" y="92"/>
                </a:cubicBezTo>
                <a:lnTo>
                  <a:pt x="487" y="216"/>
                </a:lnTo>
                <a:lnTo>
                  <a:pt x="566" y="216"/>
                </a:lnTo>
                <a:close/>
                <a:moveTo>
                  <a:pt x="0" y="589"/>
                </a:moveTo>
                <a:lnTo>
                  <a:pt x="664" y="589"/>
                </a:lnTo>
                <a:lnTo>
                  <a:pt x="664" y="276"/>
                </a:lnTo>
                <a:lnTo>
                  <a:pt x="588" y="420"/>
                </a:lnTo>
                <a:lnTo>
                  <a:pt x="584" y="432"/>
                </a:lnTo>
                <a:lnTo>
                  <a:pt x="572" y="432"/>
                </a:lnTo>
                <a:lnTo>
                  <a:pt x="549" y="432"/>
                </a:lnTo>
                <a:lnTo>
                  <a:pt x="384" y="432"/>
                </a:lnTo>
                <a:cubicBezTo>
                  <a:pt x="385" y="434"/>
                  <a:pt x="386" y="436"/>
                  <a:pt x="386" y="439"/>
                </a:cubicBezTo>
                <a:cubicBezTo>
                  <a:pt x="386" y="449"/>
                  <a:pt x="383" y="459"/>
                  <a:pt x="377" y="467"/>
                </a:cubicBezTo>
                <a:cubicBezTo>
                  <a:pt x="368" y="483"/>
                  <a:pt x="352" y="490"/>
                  <a:pt x="334" y="490"/>
                </a:cubicBezTo>
                <a:cubicBezTo>
                  <a:pt x="316" y="490"/>
                  <a:pt x="300" y="483"/>
                  <a:pt x="291" y="467"/>
                </a:cubicBezTo>
                <a:cubicBezTo>
                  <a:pt x="286" y="459"/>
                  <a:pt x="282" y="449"/>
                  <a:pt x="282" y="439"/>
                </a:cubicBezTo>
                <a:cubicBezTo>
                  <a:pt x="282" y="436"/>
                  <a:pt x="283" y="434"/>
                  <a:pt x="284" y="432"/>
                </a:cubicBezTo>
                <a:lnTo>
                  <a:pt x="119" y="432"/>
                </a:lnTo>
                <a:lnTo>
                  <a:pt x="93" y="432"/>
                </a:lnTo>
                <a:lnTo>
                  <a:pt x="81" y="432"/>
                </a:lnTo>
                <a:lnTo>
                  <a:pt x="74" y="420"/>
                </a:lnTo>
                <a:lnTo>
                  <a:pt x="0" y="277"/>
                </a:lnTo>
                <a:lnTo>
                  <a:pt x="0" y="589"/>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04" name="Freeform 93"/>
          <p:cNvSpPr/>
          <p:nvPr/>
        </p:nvSpPr>
        <p:spPr>
          <a:xfrm>
            <a:off x="7709040" y="1994040"/>
            <a:ext cx="171360" cy="172800"/>
          </a:xfrm>
          <a:custGeom>
            <a:avLst/>
            <a:gdLst/>
            <a:ahLst/>
            <a:rect l="l" t="t" r="r" b="b"/>
            <a:pathLst>
              <a:path w="640" h="646">
                <a:moveTo>
                  <a:pt x="640" y="497"/>
                </a:moveTo>
                <a:lnTo>
                  <a:pt x="640" y="646"/>
                </a:lnTo>
                <a:lnTo>
                  <a:pt x="0" y="646"/>
                </a:lnTo>
                <a:lnTo>
                  <a:pt x="0" y="493"/>
                </a:lnTo>
                <a:lnTo>
                  <a:pt x="59" y="493"/>
                </a:lnTo>
                <a:lnTo>
                  <a:pt x="59" y="587"/>
                </a:lnTo>
                <a:lnTo>
                  <a:pt x="581" y="587"/>
                </a:lnTo>
                <a:lnTo>
                  <a:pt x="581" y="497"/>
                </a:lnTo>
                <a:lnTo>
                  <a:pt x="640" y="497"/>
                </a:lnTo>
                <a:close/>
                <a:moveTo>
                  <a:pt x="298" y="528"/>
                </a:moveTo>
                <a:lnTo>
                  <a:pt x="146" y="298"/>
                </a:lnTo>
                <a:lnTo>
                  <a:pt x="199" y="298"/>
                </a:lnTo>
                <a:cubicBezTo>
                  <a:pt x="199" y="33"/>
                  <a:pt x="457" y="0"/>
                  <a:pt x="457" y="0"/>
                </a:cubicBezTo>
                <a:cubicBezTo>
                  <a:pt x="457" y="0"/>
                  <a:pt x="398" y="83"/>
                  <a:pt x="398" y="298"/>
                </a:cubicBezTo>
                <a:lnTo>
                  <a:pt x="451" y="298"/>
                </a:lnTo>
                <a:lnTo>
                  <a:pt x="298" y="528"/>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05" name="Freeform 94"/>
          <p:cNvSpPr/>
          <p:nvPr/>
        </p:nvSpPr>
        <p:spPr>
          <a:xfrm>
            <a:off x="7337520" y="1994040"/>
            <a:ext cx="171360" cy="172800"/>
          </a:xfrm>
          <a:custGeom>
            <a:avLst/>
            <a:gdLst/>
            <a:ahLst/>
            <a:rect l="l" t="t" r="r" b="b"/>
            <a:pathLst>
              <a:path w="640" h="646">
                <a:moveTo>
                  <a:pt x="640" y="497"/>
                </a:moveTo>
                <a:lnTo>
                  <a:pt x="640" y="646"/>
                </a:lnTo>
                <a:lnTo>
                  <a:pt x="0" y="646"/>
                </a:lnTo>
                <a:lnTo>
                  <a:pt x="0" y="493"/>
                </a:lnTo>
                <a:lnTo>
                  <a:pt x="59" y="493"/>
                </a:lnTo>
                <a:lnTo>
                  <a:pt x="59" y="587"/>
                </a:lnTo>
                <a:lnTo>
                  <a:pt x="581" y="587"/>
                </a:lnTo>
                <a:lnTo>
                  <a:pt x="581" y="497"/>
                </a:lnTo>
                <a:lnTo>
                  <a:pt x="640" y="497"/>
                </a:lnTo>
                <a:close/>
                <a:moveTo>
                  <a:pt x="217" y="231"/>
                </a:moveTo>
                <a:lnTo>
                  <a:pt x="165" y="231"/>
                </a:lnTo>
                <a:lnTo>
                  <a:pt x="317" y="0"/>
                </a:lnTo>
                <a:lnTo>
                  <a:pt x="469" y="231"/>
                </a:lnTo>
                <a:lnTo>
                  <a:pt x="416" y="231"/>
                </a:lnTo>
                <a:cubicBezTo>
                  <a:pt x="416" y="446"/>
                  <a:pt x="475" y="528"/>
                  <a:pt x="475" y="528"/>
                </a:cubicBezTo>
                <a:cubicBezTo>
                  <a:pt x="475" y="528"/>
                  <a:pt x="218" y="495"/>
                  <a:pt x="217" y="23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06" name="Freeform 95"/>
          <p:cNvSpPr/>
          <p:nvPr/>
        </p:nvSpPr>
        <p:spPr>
          <a:xfrm>
            <a:off x="4851360" y="3875040"/>
            <a:ext cx="192240" cy="177840"/>
          </a:xfrm>
          <a:custGeom>
            <a:avLst/>
            <a:gdLst/>
            <a:ahLst/>
            <a:rect l="l" t="t" r="r" b="b"/>
            <a:pathLst>
              <a:path w="720" h="666">
                <a:moveTo>
                  <a:pt x="333" y="0"/>
                </a:moveTo>
                <a:cubicBezTo>
                  <a:pt x="149" y="0"/>
                  <a:pt x="0" y="149"/>
                  <a:pt x="0" y="333"/>
                </a:cubicBezTo>
                <a:cubicBezTo>
                  <a:pt x="0" y="517"/>
                  <a:pt x="149" y="666"/>
                  <a:pt x="334" y="666"/>
                </a:cubicBezTo>
                <a:lnTo>
                  <a:pt x="334" y="555"/>
                </a:lnTo>
                <a:cubicBezTo>
                  <a:pt x="212" y="555"/>
                  <a:pt x="112" y="455"/>
                  <a:pt x="112" y="333"/>
                </a:cubicBezTo>
                <a:cubicBezTo>
                  <a:pt x="112" y="211"/>
                  <a:pt x="210" y="111"/>
                  <a:pt x="333" y="111"/>
                </a:cubicBezTo>
                <a:cubicBezTo>
                  <a:pt x="452" y="111"/>
                  <a:pt x="550" y="207"/>
                  <a:pt x="554" y="326"/>
                </a:cubicBezTo>
                <a:lnTo>
                  <a:pt x="499" y="326"/>
                </a:lnTo>
                <a:lnTo>
                  <a:pt x="610" y="480"/>
                </a:lnTo>
                <a:lnTo>
                  <a:pt x="720" y="326"/>
                </a:lnTo>
                <a:lnTo>
                  <a:pt x="666" y="326"/>
                </a:lnTo>
                <a:cubicBezTo>
                  <a:pt x="662" y="145"/>
                  <a:pt x="514" y="0"/>
                  <a:pt x="333"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07" name="Freeform 96"/>
          <p:cNvSpPr/>
          <p:nvPr/>
        </p:nvSpPr>
        <p:spPr>
          <a:xfrm>
            <a:off x="6986520" y="2573280"/>
            <a:ext cx="198360" cy="222480"/>
          </a:xfrm>
          <a:custGeom>
            <a:avLst/>
            <a:gdLst/>
            <a:ahLst/>
            <a:rect l="l" t="t" r="r" b="b"/>
            <a:pathLst>
              <a:path w="740" h="835">
                <a:moveTo>
                  <a:pt x="700" y="478"/>
                </a:moveTo>
                <a:lnTo>
                  <a:pt x="567" y="478"/>
                </a:lnTo>
                <a:lnTo>
                  <a:pt x="672" y="658"/>
                </a:lnTo>
                <a:lnTo>
                  <a:pt x="567" y="645"/>
                </a:lnTo>
                <a:lnTo>
                  <a:pt x="528" y="742"/>
                </a:lnTo>
                <a:lnTo>
                  <a:pt x="376" y="508"/>
                </a:lnTo>
                <a:lnTo>
                  <a:pt x="225" y="742"/>
                </a:lnTo>
                <a:lnTo>
                  <a:pt x="185" y="645"/>
                </a:lnTo>
                <a:lnTo>
                  <a:pt x="81" y="658"/>
                </a:lnTo>
                <a:lnTo>
                  <a:pt x="186" y="478"/>
                </a:lnTo>
                <a:lnTo>
                  <a:pt x="41" y="478"/>
                </a:lnTo>
                <a:lnTo>
                  <a:pt x="41" y="835"/>
                </a:lnTo>
                <a:lnTo>
                  <a:pt x="700" y="835"/>
                </a:lnTo>
                <a:lnTo>
                  <a:pt x="700" y="478"/>
                </a:lnTo>
                <a:close/>
                <a:moveTo>
                  <a:pt x="740" y="276"/>
                </a:moveTo>
                <a:lnTo>
                  <a:pt x="0" y="276"/>
                </a:lnTo>
                <a:lnTo>
                  <a:pt x="0" y="457"/>
                </a:lnTo>
                <a:lnTo>
                  <a:pt x="47" y="457"/>
                </a:lnTo>
                <a:lnTo>
                  <a:pt x="699" y="457"/>
                </a:lnTo>
                <a:lnTo>
                  <a:pt x="740" y="457"/>
                </a:lnTo>
                <a:lnTo>
                  <a:pt x="740" y="276"/>
                </a:lnTo>
                <a:close/>
                <a:moveTo>
                  <a:pt x="315" y="72"/>
                </a:moveTo>
                <a:cubicBezTo>
                  <a:pt x="317" y="50"/>
                  <a:pt x="332" y="69"/>
                  <a:pt x="339" y="76"/>
                </a:cubicBezTo>
                <a:cubicBezTo>
                  <a:pt x="345" y="83"/>
                  <a:pt x="351" y="89"/>
                  <a:pt x="356" y="96"/>
                </a:cubicBezTo>
                <a:cubicBezTo>
                  <a:pt x="361" y="102"/>
                  <a:pt x="366" y="107"/>
                  <a:pt x="370" y="113"/>
                </a:cubicBezTo>
                <a:cubicBezTo>
                  <a:pt x="375" y="107"/>
                  <a:pt x="379" y="102"/>
                  <a:pt x="384" y="96"/>
                </a:cubicBezTo>
                <a:cubicBezTo>
                  <a:pt x="390" y="89"/>
                  <a:pt x="396" y="83"/>
                  <a:pt x="402" y="76"/>
                </a:cubicBezTo>
                <a:cubicBezTo>
                  <a:pt x="408" y="69"/>
                  <a:pt x="423" y="50"/>
                  <a:pt x="425" y="72"/>
                </a:cubicBezTo>
                <a:cubicBezTo>
                  <a:pt x="425" y="74"/>
                  <a:pt x="425" y="76"/>
                  <a:pt x="425" y="79"/>
                </a:cubicBezTo>
                <a:cubicBezTo>
                  <a:pt x="428" y="75"/>
                  <a:pt x="432" y="70"/>
                  <a:pt x="435" y="66"/>
                </a:cubicBezTo>
                <a:cubicBezTo>
                  <a:pt x="454" y="43"/>
                  <a:pt x="473" y="20"/>
                  <a:pt x="501" y="9"/>
                </a:cubicBezTo>
                <a:cubicBezTo>
                  <a:pt x="526" y="0"/>
                  <a:pt x="553" y="20"/>
                  <a:pt x="563" y="42"/>
                </a:cubicBezTo>
                <a:cubicBezTo>
                  <a:pt x="587" y="90"/>
                  <a:pt x="550" y="162"/>
                  <a:pt x="516" y="197"/>
                </a:cubicBezTo>
                <a:cubicBezTo>
                  <a:pt x="492" y="222"/>
                  <a:pt x="463" y="240"/>
                  <a:pt x="431" y="250"/>
                </a:cubicBezTo>
                <a:lnTo>
                  <a:pt x="309" y="250"/>
                </a:lnTo>
                <a:cubicBezTo>
                  <a:pt x="277" y="240"/>
                  <a:pt x="248" y="222"/>
                  <a:pt x="224" y="197"/>
                </a:cubicBezTo>
                <a:cubicBezTo>
                  <a:pt x="190" y="162"/>
                  <a:pt x="153" y="90"/>
                  <a:pt x="177" y="42"/>
                </a:cubicBezTo>
                <a:cubicBezTo>
                  <a:pt x="187" y="20"/>
                  <a:pt x="214" y="0"/>
                  <a:pt x="239" y="9"/>
                </a:cubicBezTo>
                <a:cubicBezTo>
                  <a:pt x="268" y="20"/>
                  <a:pt x="286" y="43"/>
                  <a:pt x="305" y="66"/>
                </a:cubicBezTo>
                <a:cubicBezTo>
                  <a:pt x="309" y="70"/>
                  <a:pt x="312" y="75"/>
                  <a:pt x="315" y="79"/>
                </a:cubicBezTo>
                <a:cubicBezTo>
                  <a:pt x="315" y="76"/>
                  <a:pt x="315" y="74"/>
                  <a:pt x="315" y="7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08" name="Freeform 97"/>
          <p:cNvSpPr/>
          <p:nvPr/>
        </p:nvSpPr>
        <p:spPr>
          <a:xfrm>
            <a:off x="8042400" y="1440000"/>
            <a:ext cx="166680" cy="166680"/>
          </a:xfrm>
          <a:custGeom>
            <a:avLst/>
            <a:gdLst/>
            <a:ahLst/>
            <a:rect l="l" t="t" r="r" b="b"/>
            <a:pathLst>
              <a:path w="624" h="624">
                <a:moveTo>
                  <a:pt x="0" y="183"/>
                </a:moveTo>
                <a:lnTo>
                  <a:pt x="0" y="624"/>
                </a:lnTo>
                <a:lnTo>
                  <a:pt x="215" y="624"/>
                </a:lnTo>
                <a:lnTo>
                  <a:pt x="215" y="381"/>
                </a:lnTo>
                <a:lnTo>
                  <a:pt x="410" y="381"/>
                </a:lnTo>
                <a:lnTo>
                  <a:pt x="410" y="624"/>
                </a:lnTo>
                <a:lnTo>
                  <a:pt x="624" y="624"/>
                </a:lnTo>
                <a:lnTo>
                  <a:pt x="624" y="183"/>
                </a:lnTo>
                <a:lnTo>
                  <a:pt x="312" y="0"/>
                </a:lnTo>
                <a:lnTo>
                  <a:pt x="0" y="183"/>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09" name="Freeform 98"/>
          <p:cNvSpPr/>
          <p:nvPr/>
        </p:nvSpPr>
        <p:spPr>
          <a:xfrm>
            <a:off x="4513320" y="1978200"/>
            <a:ext cx="191880" cy="199800"/>
          </a:xfrm>
          <a:custGeom>
            <a:avLst/>
            <a:gdLst/>
            <a:ahLst/>
            <a:rect l="l" t="t" r="r" b="b"/>
            <a:pathLst>
              <a:path w="723" h="745">
                <a:moveTo>
                  <a:pt x="650" y="478"/>
                </a:moveTo>
                <a:lnTo>
                  <a:pt x="519" y="347"/>
                </a:lnTo>
                <a:cubicBezTo>
                  <a:pt x="507" y="335"/>
                  <a:pt x="497" y="325"/>
                  <a:pt x="497" y="325"/>
                </a:cubicBezTo>
                <a:cubicBezTo>
                  <a:pt x="497" y="324"/>
                  <a:pt x="444" y="225"/>
                  <a:pt x="367" y="174"/>
                </a:cubicBezTo>
                <a:cubicBezTo>
                  <a:pt x="289" y="123"/>
                  <a:pt x="311" y="85"/>
                  <a:pt x="311" y="44"/>
                </a:cubicBezTo>
                <a:cubicBezTo>
                  <a:pt x="311" y="9"/>
                  <a:pt x="268" y="0"/>
                  <a:pt x="238" y="39"/>
                </a:cubicBezTo>
                <a:cubicBezTo>
                  <a:pt x="228" y="53"/>
                  <a:pt x="218" y="79"/>
                  <a:pt x="216" y="96"/>
                </a:cubicBezTo>
                <a:cubicBezTo>
                  <a:pt x="210" y="147"/>
                  <a:pt x="243" y="177"/>
                  <a:pt x="255" y="196"/>
                </a:cubicBezTo>
                <a:cubicBezTo>
                  <a:pt x="264" y="208"/>
                  <a:pt x="269" y="231"/>
                  <a:pt x="260" y="260"/>
                </a:cubicBezTo>
                <a:lnTo>
                  <a:pt x="61" y="260"/>
                </a:lnTo>
                <a:cubicBezTo>
                  <a:pt x="22" y="260"/>
                  <a:pt x="0" y="290"/>
                  <a:pt x="14" y="327"/>
                </a:cubicBezTo>
                <a:lnTo>
                  <a:pt x="115" y="608"/>
                </a:lnTo>
                <a:cubicBezTo>
                  <a:pt x="121" y="624"/>
                  <a:pt x="139" y="637"/>
                  <a:pt x="156" y="637"/>
                </a:cubicBezTo>
                <a:lnTo>
                  <a:pt x="395" y="637"/>
                </a:lnTo>
                <a:cubicBezTo>
                  <a:pt x="412" y="637"/>
                  <a:pt x="436" y="647"/>
                  <a:pt x="448" y="659"/>
                </a:cubicBezTo>
                <a:lnTo>
                  <a:pt x="459" y="670"/>
                </a:lnTo>
                <a:cubicBezTo>
                  <a:pt x="471" y="682"/>
                  <a:pt x="490" y="682"/>
                  <a:pt x="502" y="670"/>
                </a:cubicBezTo>
                <a:lnTo>
                  <a:pt x="650" y="522"/>
                </a:lnTo>
                <a:cubicBezTo>
                  <a:pt x="662" y="510"/>
                  <a:pt x="662" y="490"/>
                  <a:pt x="650" y="478"/>
                </a:cubicBezTo>
                <a:close/>
                <a:moveTo>
                  <a:pt x="547" y="745"/>
                </a:moveTo>
                <a:lnTo>
                  <a:pt x="507" y="705"/>
                </a:lnTo>
                <a:lnTo>
                  <a:pt x="682" y="529"/>
                </a:lnTo>
                <a:lnTo>
                  <a:pt x="723" y="569"/>
                </a:lnTo>
                <a:lnTo>
                  <a:pt x="547" y="745"/>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10" name="Freeform 99"/>
          <p:cNvSpPr/>
          <p:nvPr/>
        </p:nvSpPr>
        <p:spPr>
          <a:xfrm>
            <a:off x="2581200" y="2952720"/>
            <a:ext cx="196920" cy="154080"/>
          </a:xfrm>
          <a:custGeom>
            <a:avLst/>
            <a:gdLst/>
            <a:ahLst/>
            <a:rect l="l" t="t" r="r" b="b"/>
            <a:pathLst>
              <a:path w="735" h="577">
                <a:moveTo>
                  <a:pt x="514" y="0"/>
                </a:moveTo>
                <a:cubicBezTo>
                  <a:pt x="545" y="0"/>
                  <a:pt x="570" y="25"/>
                  <a:pt x="570" y="56"/>
                </a:cubicBezTo>
                <a:cubicBezTo>
                  <a:pt x="570" y="87"/>
                  <a:pt x="545" y="112"/>
                  <a:pt x="514" y="112"/>
                </a:cubicBezTo>
                <a:cubicBezTo>
                  <a:pt x="483" y="112"/>
                  <a:pt x="457" y="87"/>
                  <a:pt x="457" y="56"/>
                </a:cubicBezTo>
                <a:cubicBezTo>
                  <a:pt x="457" y="25"/>
                  <a:pt x="483" y="0"/>
                  <a:pt x="514" y="0"/>
                </a:cubicBezTo>
                <a:close/>
                <a:moveTo>
                  <a:pt x="516" y="248"/>
                </a:moveTo>
                <a:cubicBezTo>
                  <a:pt x="519" y="251"/>
                  <a:pt x="525" y="253"/>
                  <a:pt x="529" y="251"/>
                </a:cubicBezTo>
                <a:lnTo>
                  <a:pt x="639" y="203"/>
                </a:lnTo>
                <a:cubicBezTo>
                  <a:pt x="652" y="196"/>
                  <a:pt x="658" y="180"/>
                  <a:pt x="652" y="167"/>
                </a:cubicBezTo>
                <a:cubicBezTo>
                  <a:pt x="645" y="153"/>
                  <a:pt x="629" y="147"/>
                  <a:pt x="616" y="154"/>
                </a:cubicBezTo>
                <a:lnTo>
                  <a:pt x="544" y="189"/>
                </a:lnTo>
                <a:cubicBezTo>
                  <a:pt x="540" y="191"/>
                  <a:pt x="534" y="190"/>
                  <a:pt x="531" y="187"/>
                </a:cubicBezTo>
                <a:lnTo>
                  <a:pt x="410" y="67"/>
                </a:lnTo>
                <a:cubicBezTo>
                  <a:pt x="407" y="64"/>
                  <a:pt x="401" y="64"/>
                  <a:pt x="398" y="67"/>
                </a:cubicBezTo>
                <a:lnTo>
                  <a:pt x="230" y="236"/>
                </a:lnTo>
                <a:cubicBezTo>
                  <a:pt x="227" y="239"/>
                  <a:pt x="227" y="244"/>
                  <a:pt x="231" y="247"/>
                </a:cubicBezTo>
                <a:cubicBezTo>
                  <a:pt x="252" y="265"/>
                  <a:pt x="321" y="325"/>
                  <a:pt x="344" y="346"/>
                </a:cubicBezTo>
                <a:cubicBezTo>
                  <a:pt x="348" y="349"/>
                  <a:pt x="349" y="355"/>
                  <a:pt x="347" y="359"/>
                </a:cubicBezTo>
                <a:lnTo>
                  <a:pt x="290" y="486"/>
                </a:lnTo>
                <a:cubicBezTo>
                  <a:pt x="288" y="490"/>
                  <a:pt x="288" y="496"/>
                  <a:pt x="291" y="500"/>
                </a:cubicBezTo>
                <a:lnTo>
                  <a:pt x="329" y="553"/>
                </a:lnTo>
                <a:cubicBezTo>
                  <a:pt x="336" y="562"/>
                  <a:pt x="346" y="567"/>
                  <a:pt x="356" y="568"/>
                </a:cubicBezTo>
                <a:cubicBezTo>
                  <a:pt x="364" y="568"/>
                  <a:pt x="373" y="566"/>
                  <a:pt x="380" y="561"/>
                </a:cubicBezTo>
                <a:cubicBezTo>
                  <a:pt x="396" y="549"/>
                  <a:pt x="400" y="526"/>
                  <a:pt x="388" y="510"/>
                </a:cubicBezTo>
                <a:lnTo>
                  <a:pt x="374" y="492"/>
                </a:lnTo>
                <a:cubicBezTo>
                  <a:pt x="372" y="488"/>
                  <a:pt x="371" y="481"/>
                  <a:pt x="373" y="477"/>
                </a:cubicBezTo>
                <a:lnTo>
                  <a:pt x="431" y="341"/>
                </a:lnTo>
                <a:cubicBezTo>
                  <a:pt x="432" y="336"/>
                  <a:pt x="431" y="330"/>
                  <a:pt x="428" y="327"/>
                </a:cubicBezTo>
                <a:cubicBezTo>
                  <a:pt x="414" y="314"/>
                  <a:pt x="380" y="281"/>
                  <a:pt x="364" y="266"/>
                </a:cubicBezTo>
                <a:cubicBezTo>
                  <a:pt x="361" y="263"/>
                  <a:pt x="360" y="258"/>
                  <a:pt x="364" y="255"/>
                </a:cubicBezTo>
                <a:lnTo>
                  <a:pt x="437" y="184"/>
                </a:lnTo>
                <a:cubicBezTo>
                  <a:pt x="440" y="180"/>
                  <a:pt x="445" y="181"/>
                  <a:pt x="448" y="184"/>
                </a:cubicBezTo>
                <a:lnTo>
                  <a:pt x="516" y="248"/>
                </a:lnTo>
                <a:close/>
                <a:moveTo>
                  <a:pt x="589" y="274"/>
                </a:moveTo>
                <a:cubicBezTo>
                  <a:pt x="533" y="274"/>
                  <a:pt x="481" y="302"/>
                  <a:pt x="450" y="348"/>
                </a:cubicBezTo>
                <a:cubicBezTo>
                  <a:pt x="444" y="357"/>
                  <a:pt x="446" y="369"/>
                  <a:pt x="455" y="374"/>
                </a:cubicBezTo>
                <a:cubicBezTo>
                  <a:pt x="458" y="377"/>
                  <a:pt x="462" y="378"/>
                  <a:pt x="465" y="378"/>
                </a:cubicBezTo>
                <a:cubicBezTo>
                  <a:pt x="471" y="378"/>
                  <a:pt x="477" y="375"/>
                  <a:pt x="481" y="369"/>
                </a:cubicBezTo>
                <a:cubicBezTo>
                  <a:pt x="505" y="333"/>
                  <a:pt x="546" y="312"/>
                  <a:pt x="589" y="312"/>
                </a:cubicBezTo>
                <a:cubicBezTo>
                  <a:pt x="633" y="312"/>
                  <a:pt x="673" y="333"/>
                  <a:pt x="698" y="369"/>
                </a:cubicBezTo>
                <a:cubicBezTo>
                  <a:pt x="703" y="378"/>
                  <a:pt x="715" y="380"/>
                  <a:pt x="724" y="374"/>
                </a:cubicBezTo>
                <a:cubicBezTo>
                  <a:pt x="733" y="369"/>
                  <a:pt x="735" y="357"/>
                  <a:pt x="729" y="348"/>
                </a:cubicBezTo>
                <a:cubicBezTo>
                  <a:pt x="698" y="302"/>
                  <a:pt x="645" y="274"/>
                  <a:pt x="589" y="274"/>
                </a:cubicBezTo>
                <a:close/>
                <a:moveTo>
                  <a:pt x="589" y="521"/>
                </a:moveTo>
                <a:cubicBezTo>
                  <a:pt x="553" y="521"/>
                  <a:pt x="523" y="491"/>
                  <a:pt x="523" y="454"/>
                </a:cubicBezTo>
                <a:cubicBezTo>
                  <a:pt x="523" y="418"/>
                  <a:pt x="553" y="388"/>
                  <a:pt x="589" y="388"/>
                </a:cubicBezTo>
                <a:cubicBezTo>
                  <a:pt x="626" y="388"/>
                  <a:pt x="656" y="418"/>
                  <a:pt x="656" y="454"/>
                </a:cubicBezTo>
                <a:cubicBezTo>
                  <a:pt x="656" y="491"/>
                  <a:pt x="626" y="521"/>
                  <a:pt x="589" y="521"/>
                </a:cubicBezTo>
                <a:close/>
                <a:moveTo>
                  <a:pt x="589" y="331"/>
                </a:moveTo>
                <a:cubicBezTo>
                  <a:pt x="521" y="331"/>
                  <a:pt x="466" y="386"/>
                  <a:pt x="466" y="454"/>
                </a:cubicBezTo>
                <a:cubicBezTo>
                  <a:pt x="466" y="522"/>
                  <a:pt x="521" y="577"/>
                  <a:pt x="589" y="577"/>
                </a:cubicBezTo>
                <a:cubicBezTo>
                  <a:pt x="657" y="577"/>
                  <a:pt x="712" y="522"/>
                  <a:pt x="712" y="454"/>
                </a:cubicBezTo>
                <a:cubicBezTo>
                  <a:pt x="712" y="386"/>
                  <a:pt x="657" y="331"/>
                  <a:pt x="589" y="331"/>
                </a:cubicBezTo>
                <a:close/>
                <a:moveTo>
                  <a:pt x="22" y="378"/>
                </a:moveTo>
                <a:cubicBezTo>
                  <a:pt x="28" y="378"/>
                  <a:pt x="34" y="375"/>
                  <a:pt x="38" y="369"/>
                </a:cubicBezTo>
                <a:cubicBezTo>
                  <a:pt x="62" y="333"/>
                  <a:pt x="103" y="312"/>
                  <a:pt x="146" y="312"/>
                </a:cubicBezTo>
                <a:cubicBezTo>
                  <a:pt x="189" y="312"/>
                  <a:pt x="230" y="333"/>
                  <a:pt x="254" y="369"/>
                </a:cubicBezTo>
                <a:cubicBezTo>
                  <a:pt x="260" y="378"/>
                  <a:pt x="272" y="380"/>
                  <a:pt x="281" y="374"/>
                </a:cubicBezTo>
                <a:cubicBezTo>
                  <a:pt x="289" y="369"/>
                  <a:pt x="292" y="357"/>
                  <a:pt x="286" y="348"/>
                </a:cubicBezTo>
                <a:cubicBezTo>
                  <a:pt x="254" y="302"/>
                  <a:pt x="202" y="274"/>
                  <a:pt x="146" y="274"/>
                </a:cubicBezTo>
                <a:cubicBezTo>
                  <a:pt x="90" y="274"/>
                  <a:pt x="38" y="302"/>
                  <a:pt x="6" y="348"/>
                </a:cubicBezTo>
                <a:cubicBezTo>
                  <a:pt x="0" y="357"/>
                  <a:pt x="3" y="369"/>
                  <a:pt x="11" y="374"/>
                </a:cubicBezTo>
                <a:cubicBezTo>
                  <a:pt x="15" y="377"/>
                  <a:pt x="18" y="378"/>
                  <a:pt x="22" y="378"/>
                </a:cubicBezTo>
                <a:close/>
                <a:moveTo>
                  <a:pt x="146" y="521"/>
                </a:moveTo>
                <a:cubicBezTo>
                  <a:pt x="109" y="521"/>
                  <a:pt x="80" y="491"/>
                  <a:pt x="80" y="454"/>
                </a:cubicBezTo>
                <a:cubicBezTo>
                  <a:pt x="80" y="418"/>
                  <a:pt x="109" y="388"/>
                  <a:pt x="146" y="388"/>
                </a:cubicBezTo>
                <a:cubicBezTo>
                  <a:pt x="183" y="388"/>
                  <a:pt x="212" y="418"/>
                  <a:pt x="212" y="454"/>
                </a:cubicBezTo>
                <a:cubicBezTo>
                  <a:pt x="212" y="491"/>
                  <a:pt x="183" y="521"/>
                  <a:pt x="146" y="521"/>
                </a:cubicBezTo>
                <a:close/>
                <a:moveTo>
                  <a:pt x="146" y="331"/>
                </a:moveTo>
                <a:cubicBezTo>
                  <a:pt x="78" y="331"/>
                  <a:pt x="23" y="386"/>
                  <a:pt x="23" y="454"/>
                </a:cubicBezTo>
                <a:cubicBezTo>
                  <a:pt x="23" y="522"/>
                  <a:pt x="78" y="577"/>
                  <a:pt x="146" y="577"/>
                </a:cubicBezTo>
                <a:cubicBezTo>
                  <a:pt x="214" y="577"/>
                  <a:pt x="269" y="522"/>
                  <a:pt x="269" y="454"/>
                </a:cubicBezTo>
                <a:cubicBezTo>
                  <a:pt x="269" y="386"/>
                  <a:pt x="214" y="331"/>
                  <a:pt x="146" y="33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11" name="Freeform 100"/>
          <p:cNvSpPr/>
          <p:nvPr/>
        </p:nvSpPr>
        <p:spPr>
          <a:xfrm>
            <a:off x="7709040" y="3863880"/>
            <a:ext cx="171360" cy="201600"/>
          </a:xfrm>
          <a:custGeom>
            <a:avLst/>
            <a:gdLst/>
            <a:ahLst/>
            <a:rect l="l" t="t" r="r" b="b"/>
            <a:pathLst>
              <a:path w="640" h="754">
                <a:moveTo>
                  <a:pt x="320" y="754"/>
                </a:moveTo>
                <a:cubicBezTo>
                  <a:pt x="496" y="754"/>
                  <a:pt x="640" y="611"/>
                  <a:pt x="640" y="434"/>
                </a:cubicBezTo>
                <a:cubicBezTo>
                  <a:pt x="640" y="301"/>
                  <a:pt x="557" y="186"/>
                  <a:pt x="441" y="138"/>
                </a:cubicBezTo>
                <a:lnTo>
                  <a:pt x="398" y="197"/>
                </a:lnTo>
                <a:cubicBezTo>
                  <a:pt x="498" y="230"/>
                  <a:pt x="570" y="324"/>
                  <a:pt x="570" y="434"/>
                </a:cubicBezTo>
                <a:cubicBezTo>
                  <a:pt x="570" y="572"/>
                  <a:pt x="458" y="684"/>
                  <a:pt x="320" y="684"/>
                </a:cubicBezTo>
                <a:cubicBezTo>
                  <a:pt x="182" y="684"/>
                  <a:pt x="70" y="572"/>
                  <a:pt x="70" y="434"/>
                </a:cubicBezTo>
                <a:cubicBezTo>
                  <a:pt x="70" y="324"/>
                  <a:pt x="142" y="230"/>
                  <a:pt x="242" y="197"/>
                </a:cubicBezTo>
                <a:lnTo>
                  <a:pt x="199" y="138"/>
                </a:lnTo>
                <a:cubicBezTo>
                  <a:pt x="82" y="186"/>
                  <a:pt x="0" y="301"/>
                  <a:pt x="0" y="434"/>
                </a:cubicBezTo>
                <a:cubicBezTo>
                  <a:pt x="0" y="611"/>
                  <a:pt x="144" y="754"/>
                  <a:pt x="320" y="754"/>
                </a:cubicBezTo>
                <a:close/>
                <a:moveTo>
                  <a:pt x="266" y="190"/>
                </a:moveTo>
                <a:lnTo>
                  <a:pt x="288" y="222"/>
                </a:lnTo>
                <a:lnTo>
                  <a:pt x="320" y="219"/>
                </a:lnTo>
                <a:lnTo>
                  <a:pt x="351" y="222"/>
                </a:lnTo>
                <a:lnTo>
                  <a:pt x="374" y="190"/>
                </a:lnTo>
                <a:lnTo>
                  <a:pt x="418" y="130"/>
                </a:lnTo>
                <a:lnTo>
                  <a:pt x="469" y="59"/>
                </a:lnTo>
                <a:lnTo>
                  <a:pt x="421" y="0"/>
                </a:lnTo>
                <a:lnTo>
                  <a:pt x="320" y="0"/>
                </a:lnTo>
                <a:lnTo>
                  <a:pt x="218" y="0"/>
                </a:lnTo>
                <a:lnTo>
                  <a:pt x="170" y="59"/>
                </a:lnTo>
                <a:lnTo>
                  <a:pt x="222" y="130"/>
                </a:lnTo>
                <a:lnTo>
                  <a:pt x="266" y="19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12" name="Freeform 101"/>
          <p:cNvSpPr/>
          <p:nvPr/>
        </p:nvSpPr>
        <p:spPr>
          <a:xfrm>
            <a:off x="2271600" y="1133640"/>
            <a:ext cx="196920" cy="237960"/>
          </a:xfrm>
          <a:custGeom>
            <a:avLst/>
            <a:gdLst/>
            <a:ahLst/>
            <a:rect l="l" t="t" r="r" b="b"/>
            <a:pathLst>
              <a:path w="739" h="891">
                <a:moveTo>
                  <a:pt x="420" y="525"/>
                </a:moveTo>
                <a:lnTo>
                  <a:pt x="387" y="543"/>
                </a:lnTo>
                <a:lnTo>
                  <a:pt x="402" y="558"/>
                </a:lnTo>
                <a:lnTo>
                  <a:pt x="420" y="525"/>
                </a:lnTo>
                <a:close/>
                <a:moveTo>
                  <a:pt x="375" y="483"/>
                </a:moveTo>
                <a:lnTo>
                  <a:pt x="353" y="464"/>
                </a:lnTo>
                <a:cubicBezTo>
                  <a:pt x="356" y="461"/>
                  <a:pt x="357" y="457"/>
                  <a:pt x="357" y="454"/>
                </a:cubicBezTo>
                <a:cubicBezTo>
                  <a:pt x="356" y="451"/>
                  <a:pt x="355" y="448"/>
                  <a:pt x="352" y="445"/>
                </a:cubicBezTo>
                <a:cubicBezTo>
                  <a:pt x="349" y="442"/>
                  <a:pt x="347" y="441"/>
                  <a:pt x="344" y="441"/>
                </a:cubicBezTo>
                <a:cubicBezTo>
                  <a:pt x="342" y="441"/>
                  <a:pt x="340" y="441"/>
                  <a:pt x="339" y="443"/>
                </a:cubicBezTo>
                <a:cubicBezTo>
                  <a:pt x="338" y="444"/>
                  <a:pt x="337" y="445"/>
                  <a:pt x="337" y="447"/>
                </a:cubicBezTo>
                <a:cubicBezTo>
                  <a:pt x="337" y="449"/>
                  <a:pt x="339" y="452"/>
                  <a:pt x="342" y="457"/>
                </a:cubicBezTo>
                <a:cubicBezTo>
                  <a:pt x="349" y="468"/>
                  <a:pt x="354" y="477"/>
                  <a:pt x="356" y="483"/>
                </a:cubicBezTo>
                <a:cubicBezTo>
                  <a:pt x="358" y="489"/>
                  <a:pt x="358" y="495"/>
                  <a:pt x="357" y="500"/>
                </a:cubicBezTo>
                <a:cubicBezTo>
                  <a:pt x="356" y="505"/>
                  <a:pt x="353" y="509"/>
                  <a:pt x="350" y="513"/>
                </a:cubicBezTo>
                <a:cubicBezTo>
                  <a:pt x="345" y="517"/>
                  <a:pt x="340" y="520"/>
                  <a:pt x="334" y="521"/>
                </a:cubicBezTo>
                <a:cubicBezTo>
                  <a:pt x="327" y="523"/>
                  <a:pt x="321" y="522"/>
                  <a:pt x="315" y="520"/>
                </a:cubicBezTo>
                <a:cubicBezTo>
                  <a:pt x="308" y="517"/>
                  <a:pt x="302" y="513"/>
                  <a:pt x="295" y="506"/>
                </a:cubicBezTo>
                <a:cubicBezTo>
                  <a:pt x="283" y="494"/>
                  <a:pt x="277" y="484"/>
                  <a:pt x="277" y="475"/>
                </a:cubicBezTo>
                <a:cubicBezTo>
                  <a:pt x="277" y="465"/>
                  <a:pt x="281" y="457"/>
                  <a:pt x="287" y="450"/>
                </a:cubicBezTo>
                <a:lnTo>
                  <a:pt x="309" y="469"/>
                </a:lnTo>
                <a:cubicBezTo>
                  <a:pt x="306" y="472"/>
                  <a:pt x="304" y="476"/>
                  <a:pt x="304" y="479"/>
                </a:cubicBezTo>
                <a:cubicBezTo>
                  <a:pt x="303" y="484"/>
                  <a:pt x="305" y="489"/>
                  <a:pt x="309" y="493"/>
                </a:cubicBezTo>
                <a:cubicBezTo>
                  <a:pt x="312" y="496"/>
                  <a:pt x="315" y="497"/>
                  <a:pt x="318" y="498"/>
                </a:cubicBezTo>
                <a:cubicBezTo>
                  <a:pt x="321" y="498"/>
                  <a:pt x="324" y="497"/>
                  <a:pt x="326" y="495"/>
                </a:cubicBezTo>
                <a:cubicBezTo>
                  <a:pt x="328" y="493"/>
                  <a:pt x="328" y="491"/>
                  <a:pt x="328" y="488"/>
                </a:cubicBezTo>
                <a:cubicBezTo>
                  <a:pt x="328" y="485"/>
                  <a:pt x="326" y="480"/>
                  <a:pt x="321" y="473"/>
                </a:cubicBezTo>
                <a:cubicBezTo>
                  <a:pt x="314" y="461"/>
                  <a:pt x="310" y="452"/>
                  <a:pt x="310" y="444"/>
                </a:cubicBezTo>
                <a:cubicBezTo>
                  <a:pt x="309" y="437"/>
                  <a:pt x="311" y="430"/>
                  <a:pt x="317" y="425"/>
                </a:cubicBezTo>
                <a:cubicBezTo>
                  <a:pt x="320" y="421"/>
                  <a:pt x="325" y="419"/>
                  <a:pt x="330" y="418"/>
                </a:cubicBezTo>
                <a:cubicBezTo>
                  <a:pt x="335" y="417"/>
                  <a:pt x="341" y="417"/>
                  <a:pt x="347" y="420"/>
                </a:cubicBezTo>
                <a:cubicBezTo>
                  <a:pt x="353" y="422"/>
                  <a:pt x="359" y="427"/>
                  <a:pt x="367" y="434"/>
                </a:cubicBezTo>
                <a:cubicBezTo>
                  <a:pt x="376" y="443"/>
                  <a:pt x="381" y="451"/>
                  <a:pt x="382" y="459"/>
                </a:cubicBezTo>
                <a:cubicBezTo>
                  <a:pt x="383" y="467"/>
                  <a:pt x="381" y="475"/>
                  <a:pt x="375" y="483"/>
                </a:cubicBezTo>
                <a:close/>
                <a:moveTo>
                  <a:pt x="450" y="519"/>
                </a:moveTo>
                <a:lnTo>
                  <a:pt x="406" y="615"/>
                </a:lnTo>
                <a:lnTo>
                  <a:pt x="384" y="592"/>
                </a:lnTo>
                <a:lnTo>
                  <a:pt x="392" y="577"/>
                </a:lnTo>
                <a:lnTo>
                  <a:pt x="368" y="553"/>
                </a:lnTo>
                <a:lnTo>
                  <a:pt x="353" y="561"/>
                </a:lnTo>
                <a:lnTo>
                  <a:pt x="331" y="539"/>
                </a:lnTo>
                <a:lnTo>
                  <a:pt x="426" y="496"/>
                </a:lnTo>
                <a:lnTo>
                  <a:pt x="450" y="519"/>
                </a:lnTo>
                <a:close/>
                <a:moveTo>
                  <a:pt x="504" y="574"/>
                </a:moveTo>
                <a:lnTo>
                  <a:pt x="452" y="626"/>
                </a:lnTo>
                <a:lnTo>
                  <a:pt x="485" y="660"/>
                </a:lnTo>
                <a:lnTo>
                  <a:pt x="468" y="677"/>
                </a:lnTo>
                <a:lnTo>
                  <a:pt x="413" y="622"/>
                </a:lnTo>
                <a:lnTo>
                  <a:pt x="483" y="552"/>
                </a:lnTo>
                <a:lnTo>
                  <a:pt x="504" y="574"/>
                </a:lnTo>
                <a:close/>
                <a:moveTo>
                  <a:pt x="605" y="674"/>
                </a:moveTo>
                <a:lnTo>
                  <a:pt x="590" y="689"/>
                </a:lnTo>
                <a:lnTo>
                  <a:pt x="554" y="653"/>
                </a:lnTo>
                <a:lnTo>
                  <a:pt x="543" y="664"/>
                </a:lnTo>
                <a:lnTo>
                  <a:pt x="576" y="698"/>
                </a:lnTo>
                <a:lnTo>
                  <a:pt x="562" y="712"/>
                </a:lnTo>
                <a:lnTo>
                  <a:pt x="529" y="678"/>
                </a:lnTo>
                <a:lnTo>
                  <a:pt x="515" y="692"/>
                </a:lnTo>
                <a:lnTo>
                  <a:pt x="552" y="729"/>
                </a:lnTo>
                <a:lnTo>
                  <a:pt x="536" y="745"/>
                </a:lnTo>
                <a:lnTo>
                  <a:pt x="478" y="686"/>
                </a:lnTo>
                <a:lnTo>
                  <a:pt x="547" y="617"/>
                </a:lnTo>
                <a:lnTo>
                  <a:pt x="605" y="674"/>
                </a:lnTo>
                <a:close/>
                <a:moveTo>
                  <a:pt x="206" y="333"/>
                </a:moveTo>
                <a:cubicBezTo>
                  <a:pt x="204" y="347"/>
                  <a:pt x="202" y="361"/>
                  <a:pt x="199" y="375"/>
                </a:cubicBezTo>
                <a:cubicBezTo>
                  <a:pt x="198" y="383"/>
                  <a:pt x="199" y="390"/>
                  <a:pt x="204" y="396"/>
                </a:cubicBezTo>
                <a:cubicBezTo>
                  <a:pt x="209" y="402"/>
                  <a:pt x="217" y="406"/>
                  <a:pt x="225" y="406"/>
                </a:cubicBezTo>
                <a:cubicBezTo>
                  <a:pt x="236" y="406"/>
                  <a:pt x="245" y="399"/>
                  <a:pt x="247" y="387"/>
                </a:cubicBezTo>
                <a:cubicBezTo>
                  <a:pt x="251" y="371"/>
                  <a:pt x="253" y="354"/>
                  <a:pt x="255" y="337"/>
                </a:cubicBezTo>
                <a:cubicBezTo>
                  <a:pt x="257" y="339"/>
                  <a:pt x="260" y="341"/>
                  <a:pt x="262" y="343"/>
                </a:cubicBezTo>
                <a:cubicBezTo>
                  <a:pt x="271" y="353"/>
                  <a:pt x="277" y="365"/>
                  <a:pt x="277" y="379"/>
                </a:cubicBezTo>
                <a:cubicBezTo>
                  <a:pt x="277" y="392"/>
                  <a:pt x="271" y="405"/>
                  <a:pt x="262" y="414"/>
                </a:cubicBezTo>
                <a:cubicBezTo>
                  <a:pt x="252" y="424"/>
                  <a:pt x="240" y="429"/>
                  <a:pt x="226" y="429"/>
                </a:cubicBezTo>
                <a:cubicBezTo>
                  <a:pt x="213" y="429"/>
                  <a:pt x="200" y="424"/>
                  <a:pt x="191" y="414"/>
                </a:cubicBezTo>
                <a:cubicBezTo>
                  <a:pt x="171" y="395"/>
                  <a:pt x="171" y="363"/>
                  <a:pt x="191" y="343"/>
                </a:cubicBezTo>
                <a:cubicBezTo>
                  <a:pt x="195" y="339"/>
                  <a:pt x="200" y="335"/>
                  <a:pt x="206" y="333"/>
                </a:cubicBezTo>
                <a:close/>
                <a:moveTo>
                  <a:pt x="256" y="262"/>
                </a:moveTo>
                <a:cubicBezTo>
                  <a:pt x="255" y="233"/>
                  <a:pt x="250" y="204"/>
                  <a:pt x="243" y="175"/>
                </a:cubicBezTo>
                <a:cubicBezTo>
                  <a:pt x="219" y="74"/>
                  <a:pt x="179" y="18"/>
                  <a:pt x="122" y="3"/>
                </a:cubicBezTo>
                <a:cubicBezTo>
                  <a:pt x="114" y="1"/>
                  <a:pt x="106" y="0"/>
                  <a:pt x="99" y="0"/>
                </a:cubicBezTo>
                <a:cubicBezTo>
                  <a:pt x="38" y="0"/>
                  <a:pt x="7" y="71"/>
                  <a:pt x="4" y="137"/>
                </a:cubicBezTo>
                <a:cubicBezTo>
                  <a:pt x="0" y="210"/>
                  <a:pt x="22" y="285"/>
                  <a:pt x="65" y="348"/>
                </a:cubicBezTo>
                <a:cubicBezTo>
                  <a:pt x="70" y="355"/>
                  <a:pt x="77" y="359"/>
                  <a:pt x="86" y="359"/>
                </a:cubicBezTo>
                <a:cubicBezTo>
                  <a:pt x="96" y="359"/>
                  <a:pt x="105" y="354"/>
                  <a:pt x="110" y="346"/>
                </a:cubicBezTo>
                <a:cubicBezTo>
                  <a:pt x="114" y="338"/>
                  <a:pt x="113" y="330"/>
                  <a:pt x="108" y="323"/>
                </a:cubicBezTo>
                <a:cubicBezTo>
                  <a:pt x="76" y="276"/>
                  <a:pt x="58" y="224"/>
                  <a:pt x="54" y="169"/>
                </a:cubicBezTo>
                <a:cubicBezTo>
                  <a:pt x="52" y="142"/>
                  <a:pt x="54" y="85"/>
                  <a:pt x="76" y="61"/>
                </a:cubicBezTo>
                <a:cubicBezTo>
                  <a:pt x="83" y="53"/>
                  <a:pt x="91" y="50"/>
                  <a:pt x="100" y="50"/>
                </a:cubicBezTo>
                <a:cubicBezTo>
                  <a:pt x="106" y="50"/>
                  <a:pt x="113" y="51"/>
                  <a:pt x="120" y="54"/>
                </a:cubicBezTo>
                <a:cubicBezTo>
                  <a:pt x="146" y="65"/>
                  <a:pt x="160" y="92"/>
                  <a:pt x="173" y="122"/>
                </a:cubicBezTo>
                <a:cubicBezTo>
                  <a:pt x="184" y="146"/>
                  <a:pt x="193" y="173"/>
                  <a:pt x="200" y="206"/>
                </a:cubicBezTo>
                <a:cubicBezTo>
                  <a:pt x="204" y="226"/>
                  <a:pt x="207" y="247"/>
                  <a:pt x="208" y="268"/>
                </a:cubicBezTo>
                <a:lnTo>
                  <a:pt x="125" y="278"/>
                </a:lnTo>
                <a:lnTo>
                  <a:pt x="96" y="521"/>
                </a:lnTo>
                <a:lnTo>
                  <a:pt x="467" y="891"/>
                </a:lnTo>
                <a:lnTo>
                  <a:pt x="739" y="619"/>
                </a:lnTo>
                <a:lnTo>
                  <a:pt x="369" y="249"/>
                </a:lnTo>
                <a:lnTo>
                  <a:pt x="256" y="262"/>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13" name="Freeform 102"/>
          <p:cNvSpPr/>
          <p:nvPr/>
        </p:nvSpPr>
        <p:spPr>
          <a:xfrm>
            <a:off x="4843440" y="1974960"/>
            <a:ext cx="206280" cy="214200"/>
          </a:xfrm>
          <a:custGeom>
            <a:avLst/>
            <a:gdLst/>
            <a:ahLst/>
            <a:rect l="l" t="t" r="r" b="b"/>
            <a:pathLst>
              <a:path w="770" h="797">
                <a:moveTo>
                  <a:pt x="535" y="80"/>
                </a:moveTo>
                <a:cubicBezTo>
                  <a:pt x="522" y="67"/>
                  <a:pt x="501" y="67"/>
                  <a:pt x="488" y="80"/>
                </a:cubicBezTo>
                <a:lnTo>
                  <a:pt x="477" y="92"/>
                </a:lnTo>
                <a:cubicBezTo>
                  <a:pt x="464" y="104"/>
                  <a:pt x="439" y="115"/>
                  <a:pt x="421" y="115"/>
                </a:cubicBezTo>
                <a:lnTo>
                  <a:pt x="166" y="115"/>
                </a:lnTo>
                <a:cubicBezTo>
                  <a:pt x="148" y="115"/>
                  <a:pt x="128" y="129"/>
                  <a:pt x="122" y="146"/>
                </a:cubicBezTo>
                <a:lnTo>
                  <a:pt x="15" y="445"/>
                </a:lnTo>
                <a:cubicBezTo>
                  <a:pt x="0" y="484"/>
                  <a:pt x="23" y="516"/>
                  <a:pt x="65" y="516"/>
                </a:cubicBezTo>
                <a:lnTo>
                  <a:pt x="277" y="516"/>
                </a:lnTo>
                <a:cubicBezTo>
                  <a:pt x="286" y="547"/>
                  <a:pt x="281" y="572"/>
                  <a:pt x="272" y="585"/>
                </a:cubicBezTo>
                <a:cubicBezTo>
                  <a:pt x="259" y="605"/>
                  <a:pt x="223" y="641"/>
                  <a:pt x="230" y="696"/>
                </a:cubicBezTo>
                <a:cubicBezTo>
                  <a:pt x="232" y="714"/>
                  <a:pt x="243" y="741"/>
                  <a:pt x="254" y="756"/>
                </a:cubicBezTo>
                <a:cubicBezTo>
                  <a:pt x="285" y="797"/>
                  <a:pt x="331" y="787"/>
                  <a:pt x="331" y="750"/>
                </a:cubicBezTo>
                <a:cubicBezTo>
                  <a:pt x="331" y="707"/>
                  <a:pt x="308" y="663"/>
                  <a:pt x="390" y="608"/>
                </a:cubicBezTo>
                <a:cubicBezTo>
                  <a:pt x="473" y="554"/>
                  <a:pt x="530" y="448"/>
                  <a:pt x="530" y="448"/>
                </a:cubicBezTo>
                <a:cubicBezTo>
                  <a:pt x="530" y="447"/>
                  <a:pt x="540" y="437"/>
                  <a:pt x="553" y="424"/>
                </a:cubicBezTo>
                <a:lnTo>
                  <a:pt x="692" y="284"/>
                </a:lnTo>
                <a:cubicBezTo>
                  <a:pt x="705" y="271"/>
                  <a:pt x="705" y="251"/>
                  <a:pt x="692" y="238"/>
                </a:cubicBezTo>
                <a:lnTo>
                  <a:pt x="535" y="80"/>
                </a:lnTo>
                <a:close/>
                <a:moveTo>
                  <a:pt x="727" y="230"/>
                </a:moveTo>
                <a:lnTo>
                  <a:pt x="540" y="43"/>
                </a:lnTo>
                <a:lnTo>
                  <a:pt x="582" y="0"/>
                </a:lnTo>
                <a:lnTo>
                  <a:pt x="770" y="187"/>
                </a:lnTo>
                <a:lnTo>
                  <a:pt x="727" y="23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14" name="Freeform 103"/>
          <p:cNvSpPr/>
          <p:nvPr/>
        </p:nvSpPr>
        <p:spPr>
          <a:xfrm>
            <a:off x="6264360" y="3259080"/>
            <a:ext cx="191880" cy="192240"/>
          </a:xfrm>
          <a:custGeom>
            <a:avLst/>
            <a:gdLst/>
            <a:ahLst/>
            <a:rect l="l" t="t" r="r" b="b"/>
            <a:pathLst>
              <a:path w="717" h="717">
                <a:moveTo>
                  <a:pt x="359" y="130"/>
                </a:moveTo>
                <a:cubicBezTo>
                  <a:pt x="485" y="130"/>
                  <a:pt x="587" y="232"/>
                  <a:pt x="587" y="358"/>
                </a:cubicBezTo>
                <a:cubicBezTo>
                  <a:pt x="587" y="485"/>
                  <a:pt x="485" y="587"/>
                  <a:pt x="359" y="587"/>
                </a:cubicBezTo>
                <a:cubicBezTo>
                  <a:pt x="232" y="587"/>
                  <a:pt x="130" y="485"/>
                  <a:pt x="130" y="358"/>
                </a:cubicBezTo>
                <a:cubicBezTo>
                  <a:pt x="130" y="232"/>
                  <a:pt x="232" y="130"/>
                  <a:pt x="359" y="130"/>
                </a:cubicBezTo>
                <a:close/>
                <a:moveTo>
                  <a:pt x="221" y="130"/>
                </a:moveTo>
                <a:lnTo>
                  <a:pt x="105" y="105"/>
                </a:lnTo>
                <a:lnTo>
                  <a:pt x="131" y="221"/>
                </a:lnTo>
                <a:lnTo>
                  <a:pt x="221" y="130"/>
                </a:lnTo>
                <a:close/>
                <a:moveTo>
                  <a:pt x="131" y="496"/>
                </a:moveTo>
                <a:lnTo>
                  <a:pt x="105" y="612"/>
                </a:lnTo>
                <a:lnTo>
                  <a:pt x="221" y="586"/>
                </a:lnTo>
                <a:lnTo>
                  <a:pt x="131" y="496"/>
                </a:lnTo>
                <a:close/>
                <a:moveTo>
                  <a:pt x="612" y="612"/>
                </a:moveTo>
                <a:lnTo>
                  <a:pt x="586" y="496"/>
                </a:lnTo>
                <a:lnTo>
                  <a:pt x="496" y="586"/>
                </a:lnTo>
                <a:lnTo>
                  <a:pt x="612" y="612"/>
                </a:lnTo>
                <a:close/>
                <a:moveTo>
                  <a:pt x="612" y="105"/>
                </a:moveTo>
                <a:lnTo>
                  <a:pt x="496" y="130"/>
                </a:lnTo>
                <a:lnTo>
                  <a:pt x="586" y="221"/>
                </a:lnTo>
                <a:lnTo>
                  <a:pt x="612" y="105"/>
                </a:lnTo>
                <a:close/>
                <a:moveTo>
                  <a:pt x="100" y="294"/>
                </a:moveTo>
                <a:lnTo>
                  <a:pt x="0" y="358"/>
                </a:lnTo>
                <a:lnTo>
                  <a:pt x="100" y="423"/>
                </a:lnTo>
                <a:lnTo>
                  <a:pt x="100" y="294"/>
                </a:lnTo>
                <a:close/>
                <a:moveTo>
                  <a:pt x="359" y="717"/>
                </a:moveTo>
                <a:lnTo>
                  <a:pt x="423" y="617"/>
                </a:lnTo>
                <a:lnTo>
                  <a:pt x="294" y="617"/>
                </a:lnTo>
                <a:lnTo>
                  <a:pt x="359" y="717"/>
                </a:lnTo>
                <a:close/>
                <a:moveTo>
                  <a:pt x="617" y="294"/>
                </a:moveTo>
                <a:lnTo>
                  <a:pt x="617" y="423"/>
                </a:lnTo>
                <a:lnTo>
                  <a:pt x="717" y="358"/>
                </a:lnTo>
                <a:lnTo>
                  <a:pt x="617" y="294"/>
                </a:lnTo>
                <a:close/>
                <a:moveTo>
                  <a:pt x="359" y="0"/>
                </a:moveTo>
                <a:lnTo>
                  <a:pt x="294" y="100"/>
                </a:lnTo>
                <a:lnTo>
                  <a:pt x="423" y="100"/>
                </a:lnTo>
                <a:lnTo>
                  <a:pt x="359"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15" name="Freeform 104"/>
          <p:cNvSpPr/>
          <p:nvPr/>
        </p:nvSpPr>
        <p:spPr>
          <a:xfrm>
            <a:off x="8720280" y="1984320"/>
            <a:ext cx="160200" cy="193680"/>
          </a:xfrm>
          <a:custGeom>
            <a:avLst/>
            <a:gdLst/>
            <a:ahLst/>
            <a:rect l="l" t="t" r="r" b="b"/>
            <a:pathLst>
              <a:path w="607" h="723">
                <a:moveTo>
                  <a:pt x="347" y="454"/>
                </a:moveTo>
                <a:lnTo>
                  <a:pt x="294" y="454"/>
                </a:lnTo>
                <a:lnTo>
                  <a:pt x="324" y="393"/>
                </a:lnTo>
                <a:lnTo>
                  <a:pt x="251" y="393"/>
                </a:lnTo>
                <a:lnTo>
                  <a:pt x="243" y="393"/>
                </a:lnTo>
                <a:lnTo>
                  <a:pt x="210" y="393"/>
                </a:lnTo>
                <a:lnTo>
                  <a:pt x="142" y="532"/>
                </a:lnTo>
                <a:lnTo>
                  <a:pt x="203" y="532"/>
                </a:lnTo>
                <a:lnTo>
                  <a:pt x="127" y="723"/>
                </a:lnTo>
                <a:lnTo>
                  <a:pt x="347" y="454"/>
                </a:lnTo>
                <a:close/>
                <a:moveTo>
                  <a:pt x="0" y="308"/>
                </a:moveTo>
                <a:cubicBezTo>
                  <a:pt x="0" y="344"/>
                  <a:pt x="29" y="374"/>
                  <a:pt x="66" y="374"/>
                </a:cubicBezTo>
                <a:lnTo>
                  <a:pt x="220" y="374"/>
                </a:lnTo>
                <a:lnTo>
                  <a:pt x="243" y="374"/>
                </a:lnTo>
                <a:lnTo>
                  <a:pt x="251" y="374"/>
                </a:lnTo>
                <a:lnTo>
                  <a:pt x="333" y="374"/>
                </a:lnTo>
                <a:lnTo>
                  <a:pt x="499" y="374"/>
                </a:lnTo>
                <a:cubicBezTo>
                  <a:pt x="558" y="374"/>
                  <a:pt x="607" y="325"/>
                  <a:pt x="607" y="266"/>
                </a:cubicBezTo>
                <a:cubicBezTo>
                  <a:pt x="607" y="206"/>
                  <a:pt x="558" y="158"/>
                  <a:pt x="499" y="158"/>
                </a:cubicBezTo>
                <a:cubicBezTo>
                  <a:pt x="472" y="158"/>
                  <a:pt x="448" y="168"/>
                  <a:pt x="430" y="183"/>
                </a:cubicBezTo>
                <a:cubicBezTo>
                  <a:pt x="428" y="82"/>
                  <a:pt x="345" y="0"/>
                  <a:pt x="243" y="0"/>
                </a:cubicBezTo>
                <a:cubicBezTo>
                  <a:pt x="140" y="0"/>
                  <a:pt x="56" y="84"/>
                  <a:pt x="56" y="187"/>
                </a:cubicBezTo>
                <a:cubicBezTo>
                  <a:pt x="56" y="206"/>
                  <a:pt x="59" y="224"/>
                  <a:pt x="64" y="242"/>
                </a:cubicBezTo>
                <a:cubicBezTo>
                  <a:pt x="28" y="243"/>
                  <a:pt x="0" y="272"/>
                  <a:pt x="0" y="308"/>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16" name="Freeform 105"/>
          <p:cNvSpPr/>
          <p:nvPr/>
        </p:nvSpPr>
        <p:spPr>
          <a:xfrm>
            <a:off x="7702560" y="1712880"/>
            <a:ext cx="185760" cy="196920"/>
          </a:xfrm>
          <a:custGeom>
            <a:avLst/>
            <a:gdLst/>
            <a:ahLst/>
            <a:rect l="l" t="t" r="r" b="b"/>
            <a:pathLst>
              <a:path w="700" h="734">
                <a:moveTo>
                  <a:pt x="528" y="512"/>
                </a:moveTo>
                <a:lnTo>
                  <a:pt x="453" y="469"/>
                </a:lnTo>
                <a:lnTo>
                  <a:pt x="490" y="448"/>
                </a:lnTo>
                <a:lnTo>
                  <a:pt x="490" y="406"/>
                </a:lnTo>
                <a:lnTo>
                  <a:pt x="564" y="448"/>
                </a:lnTo>
                <a:lnTo>
                  <a:pt x="565" y="491"/>
                </a:lnTo>
                <a:lnTo>
                  <a:pt x="528" y="512"/>
                </a:lnTo>
                <a:close/>
                <a:moveTo>
                  <a:pt x="527" y="222"/>
                </a:moveTo>
                <a:lnTo>
                  <a:pt x="564" y="243"/>
                </a:lnTo>
                <a:lnTo>
                  <a:pt x="564" y="286"/>
                </a:lnTo>
                <a:lnTo>
                  <a:pt x="490" y="328"/>
                </a:lnTo>
                <a:lnTo>
                  <a:pt x="490" y="286"/>
                </a:lnTo>
                <a:lnTo>
                  <a:pt x="453" y="265"/>
                </a:lnTo>
                <a:lnTo>
                  <a:pt x="527" y="222"/>
                </a:lnTo>
                <a:close/>
                <a:moveTo>
                  <a:pt x="432" y="391"/>
                </a:moveTo>
                <a:lnTo>
                  <a:pt x="436" y="417"/>
                </a:lnTo>
                <a:lnTo>
                  <a:pt x="411" y="427"/>
                </a:lnTo>
                <a:lnTo>
                  <a:pt x="370" y="403"/>
                </a:lnTo>
                <a:lnTo>
                  <a:pt x="370" y="450"/>
                </a:lnTo>
                <a:lnTo>
                  <a:pt x="350" y="467"/>
                </a:lnTo>
                <a:lnTo>
                  <a:pt x="329" y="450"/>
                </a:lnTo>
                <a:lnTo>
                  <a:pt x="329" y="403"/>
                </a:lnTo>
                <a:lnTo>
                  <a:pt x="288" y="426"/>
                </a:lnTo>
                <a:lnTo>
                  <a:pt x="264" y="417"/>
                </a:lnTo>
                <a:lnTo>
                  <a:pt x="267" y="391"/>
                </a:lnTo>
                <a:lnTo>
                  <a:pt x="309" y="367"/>
                </a:lnTo>
                <a:lnTo>
                  <a:pt x="267" y="343"/>
                </a:lnTo>
                <a:lnTo>
                  <a:pt x="264" y="317"/>
                </a:lnTo>
                <a:lnTo>
                  <a:pt x="288" y="308"/>
                </a:lnTo>
                <a:lnTo>
                  <a:pt x="329" y="332"/>
                </a:lnTo>
                <a:lnTo>
                  <a:pt x="329" y="284"/>
                </a:lnTo>
                <a:lnTo>
                  <a:pt x="350" y="268"/>
                </a:lnTo>
                <a:lnTo>
                  <a:pt x="370" y="284"/>
                </a:lnTo>
                <a:lnTo>
                  <a:pt x="370" y="332"/>
                </a:lnTo>
                <a:lnTo>
                  <a:pt x="412" y="308"/>
                </a:lnTo>
                <a:lnTo>
                  <a:pt x="436" y="317"/>
                </a:lnTo>
                <a:lnTo>
                  <a:pt x="432" y="343"/>
                </a:lnTo>
                <a:lnTo>
                  <a:pt x="391" y="367"/>
                </a:lnTo>
                <a:lnTo>
                  <a:pt x="432" y="391"/>
                </a:lnTo>
                <a:close/>
                <a:moveTo>
                  <a:pt x="387" y="593"/>
                </a:moveTo>
                <a:lnTo>
                  <a:pt x="350" y="615"/>
                </a:lnTo>
                <a:lnTo>
                  <a:pt x="314" y="593"/>
                </a:lnTo>
                <a:lnTo>
                  <a:pt x="314" y="508"/>
                </a:lnTo>
                <a:lnTo>
                  <a:pt x="350" y="530"/>
                </a:lnTo>
                <a:lnTo>
                  <a:pt x="387" y="508"/>
                </a:lnTo>
                <a:lnTo>
                  <a:pt x="387" y="593"/>
                </a:lnTo>
                <a:close/>
                <a:moveTo>
                  <a:pt x="172" y="512"/>
                </a:moveTo>
                <a:lnTo>
                  <a:pt x="135" y="491"/>
                </a:lnTo>
                <a:lnTo>
                  <a:pt x="136" y="449"/>
                </a:lnTo>
                <a:lnTo>
                  <a:pt x="210" y="406"/>
                </a:lnTo>
                <a:lnTo>
                  <a:pt x="209" y="449"/>
                </a:lnTo>
                <a:lnTo>
                  <a:pt x="247" y="469"/>
                </a:lnTo>
                <a:lnTo>
                  <a:pt x="172" y="512"/>
                </a:lnTo>
                <a:close/>
                <a:moveTo>
                  <a:pt x="172" y="223"/>
                </a:moveTo>
                <a:lnTo>
                  <a:pt x="246" y="266"/>
                </a:lnTo>
                <a:lnTo>
                  <a:pt x="209" y="286"/>
                </a:lnTo>
                <a:lnTo>
                  <a:pt x="210" y="329"/>
                </a:lnTo>
                <a:lnTo>
                  <a:pt x="136" y="286"/>
                </a:lnTo>
                <a:lnTo>
                  <a:pt x="135" y="243"/>
                </a:lnTo>
                <a:lnTo>
                  <a:pt x="172" y="223"/>
                </a:lnTo>
                <a:close/>
                <a:moveTo>
                  <a:pt x="313" y="141"/>
                </a:moveTo>
                <a:lnTo>
                  <a:pt x="350" y="119"/>
                </a:lnTo>
                <a:lnTo>
                  <a:pt x="386" y="141"/>
                </a:lnTo>
                <a:lnTo>
                  <a:pt x="386" y="227"/>
                </a:lnTo>
                <a:lnTo>
                  <a:pt x="350" y="205"/>
                </a:lnTo>
                <a:lnTo>
                  <a:pt x="313" y="227"/>
                </a:lnTo>
                <a:lnTo>
                  <a:pt x="313" y="141"/>
                </a:lnTo>
                <a:close/>
                <a:moveTo>
                  <a:pt x="600" y="132"/>
                </a:moveTo>
                <a:lnTo>
                  <a:pt x="600" y="199"/>
                </a:lnTo>
                <a:lnTo>
                  <a:pt x="563" y="177"/>
                </a:lnTo>
                <a:lnTo>
                  <a:pt x="553" y="159"/>
                </a:lnTo>
                <a:lnTo>
                  <a:pt x="491" y="195"/>
                </a:lnTo>
                <a:lnTo>
                  <a:pt x="539" y="111"/>
                </a:lnTo>
                <a:lnTo>
                  <a:pt x="476" y="149"/>
                </a:lnTo>
                <a:lnTo>
                  <a:pt x="476" y="75"/>
                </a:lnTo>
                <a:lnTo>
                  <a:pt x="428" y="158"/>
                </a:lnTo>
                <a:lnTo>
                  <a:pt x="428" y="87"/>
                </a:lnTo>
                <a:lnTo>
                  <a:pt x="407" y="87"/>
                </a:lnTo>
                <a:lnTo>
                  <a:pt x="370" y="66"/>
                </a:lnTo>
                <a:lnTo>
                  <a:pt x="428" y="33"/>
                </a:lnTo>
                <a:lnTo>
                  <a:pt x="428" y="9"/>
                </a:lnTo>
                <a:lnTo>
                  <a:pt x="360" y="48"/>
                </a:lnTo>
                <a:lnTo>
                  <a:pt x="360" y="0"/>
                </a:lnTo>
                <a:lnTo>
                  <a:pt x="339" y="0"/>
                </a:lnTo>
                <a:lnTo>
                  <a:pt x="339" y="48"/>
                </a:lnTo>
                <a:lnTo>
                  <a:pt x="271" y="9"/>
                </a:lnTo>
                <a:lnTo>
                  <a:pt x="271" y="33"/>
                </a:lnTo>
                <a:lnTo>
                  <a:pt x="329" y="66"/>
                </a:lnTo>
                <a:lnTo>
                  <a:pt x="292" y="87"/>
                </a:lnTo>
                <a:lnTo>
                  <a:pt x="271" y="87"/>
                </a:lnTo>
                <a:lnTo>
                  <a:pt x="271" y="159"/>
                </a:lnTo>
                <a:lnTo>
                  <a:pt x="223" y="75"/>
                </a:lnTo>
                <a:lnTo>
                  <a:pt x="224" y="149"/>
                </a:lnTo>
                <a:lnTo>
                  <a:pt x="160" y="112"/>
                </a:lnTo>
                <a:lnTo>
                  <a:pt x="207" y="195"/>
                </a:lnTo>
                <a:lnTo>
                  <a:pt x="147" y="160"/>
                </a:lnTo>
                <a:lnTo>
                  <a:pt x="136" y="178"/>
                </a:lnTo>
                <a:lnTo>
                  <a:pt x="99" y="199"/>
                </a:lnTo>
                <a:lnTo>
                  <a:pt x="99" y="132"/>
                </a:lnTo>
                <a:lnTo>
                  <a:pt x="79" y="120"/>
                </a:lnTo>
                <a:lnTo>
                  <a:pt x="79" y="199"/>
                </a:lnTo>
                <a:lnTo>
                  <a:pt x="37" y="175"/>
                </a:lnTo>
                <a:lnTo>
                  <a:pt x="27" y="193"/>
                </a:lnTo>
                <a:lnTo>
                  <a:pt x="68" y="217"/>
                </a:lnTo>
                <a:lnTo>
                  <a:pt x="0" y="256"/>
                </a:lnTo>
                <a:lnTo>
                  <a:pt x="21" y="268"/>
                </a:lnTo>
                <a:lnTo>
                  <a:pt x="79" y="235"/>
                </a:lnTo>
                <a:lnTo>
                  <a:pt x="79" y="277"/>
                </a:lnTo>
                <a:lnTo>
                  <a:pt x="68" y="296"/>
                </a:lnTo>
                <a:lnTo>
                  <a:pt x="130" y="331"/>
                </a:lnTo>
                <a:lnTo>
                  <a:pt x="33" y="331"/>
                </a:lnTo>
                <a:lnTo>
                  <a:pt x="97" y="367"/>
                </a:lnTo>
                <a:lnTo>
                  <a:pt x="33" y="404"/>
                </a:lnTo>
                <a:lnTo>
                  <a:pt x="129" y="404"/>
                </a:lnTo>
                <a:lnTo>
                  <a:pt x="68" y="439"/>
                </a:lnTo>
                <a:lnTo>
                  <a:pt x="79" y="457"/>
                </a:lnTo>
                <a:lnTo>
                  <a:pt x="79" y="500"/>
                </a:lnTo>
                <a:lnTo>
                  <a:pt x="21" y="467"/>
                </a:lnTo>
                <a:lnTo>
                  <a:pt x="0" y="479"/>
                </a:lnTo>
                <a:lnTo>
                  <a:pt x="68" y="518"/>
                </a:lnTo>
                <a:lnTo>
                  <a:pt x="27" y="542"/>
                </a:lnTo>
                <a:lnTo>
                  <a:pt x="37" y="560"/>
                </a:lnTo>
                <a:lnTo>
                  <a:pt x="79" y="536"/>
                </a:lnTo>
                <a:lnTo>
                  <a:pt x="79" y="615"/>
                </a:lnTo>
                <a:lnTo>
                  <a:pt x="100" y="603"/>
                </a:lnTo>
                <a:lnTo>
                  <a:pt x="100" y="536"/>
                </a:lnTo>
                <a:lnTo>
                  <a:pt x="136" y="557"/>
                </a:lnTo>
                <a:lnTo>
                  <a:pt x="147" y="575"/>
                </a:lnTo>
                <a:lnTo>
                  <a:pt x="209" y="540"/>
                </a:lnTo>
                <a:lnTo>
                  <a:pt x="161" y="623"/>
                </a:lnTo>
                <a:lnTo>
                  <a:pt x="224" y="586"/>
                </a:lnTo>
                <a:lnTo>
                  <a:pt x="224" y="660"/>
                </a:lnTo>
                <a:lnTo>
                  <a:pt x="272" y="577"/>
                </a:lnTo>
                <a:lnTo>
                  <a:pt x="272" y="647"/>
                </a:lnTo>
                <a:lnTo>
                  <a:pt x="293" y="647"/>
                </a:lnTo>
                <a:lnTo>
                  <a:pt x="329" y="668"/>
                </a:lnTo>
                <a:lnTo>
                  <a:pt x="271" y="702"/>
                </a:lnTo>
                <a:lnTo>
                  <a:pt x="271" y="726"/>
                </a:lnTo>
                <a:lnTo>
                  <a:pt x="340" y="686"/>
                </a:lnTo>
                <a:lnTo>
                  <a:pt x="340" y="734"/>
                </a:lnTo>
                <a:lnTo>
                  <a:pt x="361" y="734"/>
                </a:lnTo>
                <a:lnTo>
                  <a:pt x="361" y="686"/>
                </a:lnTo>
                <a:lnTo>
                  <a:pt x="429" y="726"/>
                </a:lnTo>
                <a:lnTo>
                  <a:pt x="429" y="702"/>
                </a:lnTo>
                <a:lnTo>
                  <a:pt x="371" y="668"/>
                </a:lnTo>
                <a:lnTo>
                  <a:pt x="408" y="647"/>
                </a:lnTo>
                <a:lnTo>
                  <a:pt x="429" y="647"/>
                </a:lnTo>
                <a:lnTo>
                  <a:pt x="429" y="576"/>
                </a:lnTo>
                <a:lnTo>
                  <a:pt x="477" y="659"/>
                </a:lnTo>
                <a:lnTo>
                  <a:pt x="476" y="586"/>
                </a:lnTo>
                <a:lnTo>
                  <a:pt x="540" y="623"/>
                </a:lnTo>
                <a:lnTo>
                  <a:pt x="492" y="540"/>
                </a:lnTo>
                <a:lnTo>
                  <a:pt x="553" y="575"/>
                </a:lnTo>
                <a:lnTo>
                  <a:pt x="563" y="557"/>
                </a:lnTo>
                <a:lnTo>
                  <a:pt x="600" y="536"/>
                </a:lnTo>
                <a:lnTo>
                  <a:pt x="600" y="602"/>
                </a:lnTo>
                <a:lnTo>
                  <a:pt x="621" y="614"/>
                </a:lnTo>
                <a:lnTo>
                  <a:pt x="621" y="536"/>
                </a:lnTo>
                <a:lnTo>
                  <a:pt x="663" y="559"/>
                </a:lnTo>
                <a:lnTo>
                  <a:pt x="673" y="541"/>
                </a:lnTo>
                <a:lnTo>
                  <a:pt x="632" y="518"/>
                </a:lnTo>
                <a:lnTo>
                  <a:pt x="700" y="478"/>
                </a:lnTo>
                <a:lnTo>
                  <a:pt x="679" y="466"/>
                </a:lnTo>
                <a:lnTo>
                  <a:pt x="621" y="500"/>
                </a:lnTo>
                <a:lnTo>
                  <a:pt x="621" y="457"/>
                </a:lnTo>
                <a:lnTo>
                  <a:pt x="632" y="439"/>
                </a:lnTo>
                <a:lnTo>
                  <a:pt x="570" y="403"/>
                </a:lnTo>
                <a:lnTo>
                  <a:pt x="666" y="403"/>
                </a:lnTo>
                <a:lnTo>
                  <a:pt x="602" y="367"/>
                </a:lnTo>
                <a:lnTo>
                  <a:pt x="666" y="330"/>
                </a:lnTo>
                <a:lnTo>
                  <a:pt x="571" y="330"/>
                </a:lnTo>
                <a:lnTo>
                  <a:pt x="631" y="295"/>
                </a:lnTo>
                <a:lnTo>
                  <a:pt x="621" y="277"/>
                </a:lnTo>
                <a:lnTo>
                  <a:pt x="621" y="235"/>
                </a:lnTo>
                <a:lnTo>
                  <a:pt x="679" y="268"/>
                </a:lnTo>
                <a:lnTo>
                  <a:pt x="700" y="256"/>
                </a:lnTo>
                <a:lnTo>
                  <a:pt x="631" y="216"/>
                </a:lnTo>
                <a:lnTo>
                  <a:pt x="673" y="193"/>
                </a:lnTo>
                <a:lnTo>
                  <a:pt x="662" y="175"/>
                </a:lnTo>
                <a:lnTo>
                  <a:pt x="621" y="198"/>
                </a:lnTo>
                <a:lnTo>
                  <a:pt x="621" y="120"/>
                </a:lnTo>
                <a:lnTo>
                  <a:pt x="600" y="132"/>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17" name="Freeform 106"/>
          <p:cNvSpPr/>
          <p:nvPr/>
        </p:nvSpPr>
        <p:spPr>
          <a:xfrm>
            <a:off x="8032680" y="1719360"/>
            <a:ext cx="184320" cy="185760"/>
          </a:xfrm>
          <a:custGeom>
            <a:avLst/>
            <a:gdLst/>
            <a:ahLst/>
            <a:rect l="l" t="t" r="r" b="b"/>
            <a:pathLst>
              <a:path w="689" h="695">
                <a:moveTo>
                  <a:pt x="425" y="430"/>
                </a:moveTo>
                <a:lnTo>
                  <a:pt x="398" y="382"/>
                </a:lnTo>
                <a:lnTo>
                  <a:pt x="348" y="411"/>
                </a:lnTo>
                <a:lnTo>
                  <a:pt x="376" y="459"/>
                </a:lnTo>
                <a:lnTo>
                  <a:pt x="344" y="513"/>
                </a:lnTo>
                <a:lnTo>
                  <a:pt x="313" y="459"/>
                </a:lnTo>
                <a:lnTo>
                  <a:pt x="341" y="411"/>
                </a:lnTo>
                <a:lnTo>
                  <a:pt x="291" y="382"/>
                </a:lnTo>
                <a:lnTo>
                  <a:pt x="263" y="430"/>
                </a:lnTo>
                <a:lnTo>
                  <a:pt x="201" y="430"/>
                </a:lnTo>
                <a:lnTo>
                  <a:pt x="232" y="376"/>
                </a:lnTo>
                <a:lnTo>
                  <a:pt x="287" y="376"/>
                </a:lnTo>
                <a:lnTo>
                  <a:pt x="287" y="319"/>
                </a:lnTo>
                <a:lnTo>
                  <a:pt x="232" y="319"/>
                </a:lnTo>
                <a:lnTo>
                  <a:pt x="201" y="264"/>
                </a:lnTo>
                <a:lnTo>
                  <a:pt x="263" y="264"/>
                </a:lnTo>
                <a:lnTo>
                  <a:pt x="291" y="312"/>
                </a:lnTo>
                <a:lnTo>
                  <a:pt x="341" y="284"/>
                </a:lnTo>
                <a:lnTo>
                  <a:pt x="313" y="236"/>
                </a:lnTo>
                <a:lnTo>
                  <a:pt x="344" y="181"/>
                </a:lnTo>
                <a:lnTo>
                  <a:pt x="376" y="236"/>
                </a:lnTo>
                <a:lnTo>
                  <a:pt x="348" y="284"/>
                </a:lnTo>
                <a:lnTo>
                  <a:pt x="398" y="312"/>
                </a:lnTo>
                <a:lnTo>
                  <a:pt x="425" y="264"/>
                </a:lnTo>
                <a:lnTo>
                  <a:pt x="488" y="264"/>
                </a:lnTo>
                <a:lnTo>
                  <a:pt x="457" y="319"/>
                </a:lnTo>
                <a:lnTo>
                  <a:pt x="401" y="319"/>
                </a:lnTo>
                <a:lnTo>
                  <a:pt x="401" y="376"/>
                </a:lnTo>
                <a:lnTo>
                  <a:pt x="457" y="376"/>
                </a:lnTo>
                <a:lnTo>
                  <a:pt x="488" y="430"/>
                </a:lnTo>
                <a:lnTo>
                  <a:pt x="425" y="430"/>
                </a:lnTo>
                <a:close/>
                <a:moveTo>
                  <a:pt x="689" y="319"/>
                </a:moveTo>
                <a:lnTo>
                  <a:pt x="667" y="319"/>
                </a:lnTo>
                <a:lnTo>
                  <a:pt x="688" y="261"/>
                </a:lnTo>
                <a:lnTo>
                  <a:pt x="653" y="265"/>
                </a:lnTo>
                <a:lnTo>
                  <a:pt x="634" y="319"/>
                </a:lnTo>
                <a:lnTo>
                  <a:pt x="613" y="319"/>
                </a:lnTo>
                <a:lnTo>
                  <a:pt x="632" y="268"/>
                </a:lnTo>
                <a:lnTo>
                  <a:pt x="597" y="272"/>
                </a:lnTo>
                <a:lnTo>
                  <a:pt x="580" y="319"/>
                </a:lnTo>
                <a:lnTo>
                  <a:pt x="559" y="319"/>
                </a:lnTo>
                <a:lnTo>
                  <a:pt x="575" y="275"/>
                </a:lnTo>
                <a:lnTo>
                  <a:pt x="541" y="279"/>
                </a:lnTo>
                <a:lnTo>
                  <a:pt x="527" y="319"/>
                </a:lnTo>
                <a:lnTo>
                  <a:pt x="492" y="319"/>
                </a:lnTo>
                <a:lnTo>
                  <a:pt x="517" y="275"/>
                </a:lnTo>
                <a:lnTo>
                  <a:pt x="596" y="230"/>
                </a:lnTo>
                <a:lnTo>
                  <a:pt x="628" y="237"/>
                </a:lnTo>
                <a:lnTo>
                  <a:pt x="645" y="174"/>
                </a:lnTo>
                <a:lnTo>
                  <a:pt x="582" y="157"/>
                </a:lnTo>
                <a:lnTo>
                  <a:pt x="572" y="189"/>
                </a:lnTo>
                <a:lnTo>
                  <a:pt x="494" y="233"/>
                </a:lnTo>
                <a:lnTo>
                  <a:pt x="443" y="233"/>
                </a:lnTo>
                <a:lnTo>
                  <a:pt x="460" y="204"/>
                </a:lnTo>
                <a:lnTo>
                  <a:pt x="502" y="211"/>
                </a:lnTo>
                <a:lnTo>
                  <a:pt x="523" y="183"/>
                </a:lnTo>
                <a:lnTo>
                  <a:pt x="477" y="175"/>
                </a:lnTo>
                <a:lnTo>
                  <a:pt x="487" y="157"/>
                </a:lnTo>
                <a:lnTo>
                  <a:pt x="536" y="166"/>
                </a:lnTo>
                <a:lnTo>
                  <a:pt x="557" y="138"/>
                </a:lnTo>
                <a:lnTo>
                  <a:pt x="503" y="129"/>
                </a:lnTo>
                <a:lnTo>
                  <a:pt x="514" y="111"/>
                </a:lnTo>
                <a:lnTo>
                  <a:pt x="570" y="121"/>
                </a:lnTo>
                <a:lnTo>
                  <a:pt x="590" y="93"/>
                </a:lnTo>
                <a:lnTo>
                  <a:pt x="530" y="82"/>
                </a:lnTo>
                <a:lnTo>
                  <a:pt x="541" y="63"/>
                </a:lnTo>
                <a:lnTo>
                  <a:pt x="492" y="34"/>
                </a:lnTo>
                <a:lnTo>
                  <a:pt x="481" y="54"/>
                </a:lnTo>
                <a:lnTo>
                  <a:pt x="442" y="7"/>
                </a:lnTo>
                <a:lnTo>
                  <a:pt x="428" y="39"/>
                </a:lnTo>
                <a:lnTo>
                  <a:pt x="464" y="82"/>
                </a:lnTo>
                <a:lnTo>
                  <a:pt x="454" y="100"/>
                </a:lnTo>
                <a:lnTo>
                  <a:pt x="419" y="59"/>
                </a:lnTo>
                <a:lnTo>
                  <a:pt x="406" y="91"/>
                </a:lnTo>
                <a:lnTo>
                  <a:pt x="438" y="129"/>
                </a:lnTo>
                <a:lnTo>
                  <a:pt x="427" y="147"/>
                </a:lnTo>
                <a:lnTo>
                  <a:pt x="397" y="111"/>
                </a:lnTo>
                <a:lnTo>
                  <a:pt x="383" y="143"/>
                </a:lnTo>
                <a:lnTo>
                  <a:pt x="411" y="175"/>
                </a:lnTo>
                <a:lnTo>
                  <a:pt x="393" y="205"/>
                </a:lnTo>
                <a:lnTo>
                  <a:pt x="368" y="161"/>
                </a:lnTo>
                <a:lnTo>
                  <a:pt x="368" y="70"/>
                </a:lnTo>
                <a:lnTo>
                  <a:pt x="390" y="46"/>
                </a:lnTo>
                <a:lnTo>
                  <a:pt x="344" y="0"/>
                </a:lnTo>
                <a:lnTo>
                  <a:pt x="299" y="46"/>
                </a:lnTo>
                <a:lnTo>
                  <a:pt x="321" y="71"/>
                </a:lnTo>
                <a:lnTo>
                  <a:pt x="321" y="161"/>
                </a:lnTo>
                <a:lnTo>
                  <a:pt x="295" y="205"/>
                </a:lnTo>
                <a:lnTo>
                  <a:pt x="278" y="175"/>
                </a:lnTo>
                <a:lnTo>
                  <a:pt x="305" y="143"/>
                </a:lnTo>
                <a:lnTo>
                  <a:pt x="291" y="111"/>
                </a:lnTo>
                <a:lnTo>
                  <a:pt x="261" y="147"/>
                </a:lnTo>
                <a:lnTo>
                  <a:pt x="251" y="129"/>
                </a:lnTo>
                <a:lnTo>
                  <a:pt x="283" y="91"/>
                </a:lnTo>
                <a:lnTo>
                  <a:pt x="269" y="59"/>
                </a:lnTo>
                <a:lnTo>
                  <a:pt x="235" y="100"/>
                </a:lnTo>
                <a:lnTo>
                  <a:pt x="224" y="82"/>
                </a:lnTo>
                <a:lnTo>
                  <a:pt x="261" y="39"/>
                </a:lnTo>
                <a:lnTo>
                  <a:pt x="247" y="7"/>
                </a:lnTo>
                <a:lnTo>
                  <a:pt x="208" y="54"/>
                </a:lnTo>
                <a:lnTo>
                  <a:pt x="197" y="35"/>
                </a:lnTo>
                <a:lnTo>
                  <a:pt x="147" y="63"/>
                </a:lnTo>
                <a:lnTo>
                  <a:pt x="158" y="82"/>
                </a:lnTo>
                <a:lnTo>
                  <a:pt x="98" y="93"/>
                </a:lnTo>
                <a:lnTo>
                  <a:pt x="119" y="121"/>
                </a:lnTo>
                <a:lnTo>
                  <a:pt x="175" y="111"/>
                </a:lnTo>
                <a:lnTo>
                  <a:pt x="185" y="129"/>
                </a:lnTo>
                <a:lnTo>
                  <a:pt x="132" y="138"/>
                </a:lnTo>
                <a:lnTo>
                  <a:pt x="153" y="166"/>
                </a:lnTo>
                <a:lnTo>
                  <a:pt x="202" y="157"/>
                </a:lnTo>
                <a:lnTo>
                  <a:pt x="212" y="175"/>
                </a:lnTo>
                <a:lnTo>
                  <a:pt x="166" y="183"/>
                </a:lnTo>
                <a:lnTo>
                  <a:pt x="187" y="211"/>
                </a:lnTo>
                <a:lnTo>
                  <a:pt x="228" y="204"/>
                </a:lnTo>
                <a:lnTo>
                  <a:pt x="246" y="233"/>
                </a:lnTo>
                <a:lnTo>
                  <a:pt x="195" y="233"/>
                </a:lnTo>
                <a:lnTo>
                  <a:pt x="117" y="188"/>
                </a:lnTo>
                <a:lnTo>
                  <a:pt x="107" y="157"/>
                </a:lnTo>
                <a:lnTo>
                  <a:pt x="44" y="174"/>
                </a:lnTo>
                <a:lnTo>
                  <a:pt x="61" y="236"/>
                </a:lnTo>
                <a:lnTo>
                  <a:pt x="93" y="230"/>
                </a:lnTo>
                <a:lnTo>
                  <a:pt x="171" y="275"/>
                </a:lnTo>
                <a:lnTo>
                  <a:pt x="196" y="319"/>
                </a:lnTo>
                <a:lnTo>
                  <a:pt x="162" y="319"/>
                </a:lnTo>
                <a:lnTo>
                  <a:pt x="148" y="279"/>
                </a:lnTo>
                <a:lnTo>
                  <a:pt x="113" y="275"/>
                </a:lnTo>
                <a:lnTo>
                  <a:pt x="129" y="319"/>
                </a:lnTo>
                <a:lnTo>
                  <a:pt x="108" y="319"/>
                </a:lnTo>
                <a:lnTo>
                  <a:pt x="91" y="272"/>
                </a:lnTo>
                <a:lnTo>
                  <a:pt x="57" y="268"/>
                </a:lnTo>
                <a:lnTo>
                  <a:pt x="75" y="319"/>
                </a:lnTo>
                <a:lnTo>
                  <a:pt x="55" y="319"/>
                </a:lnTo>
                <a:lnTo>
                  <a:pt x="35" y="265"/>
                </a:lnTo>
                <a:lnTo>
                  <a:pt x="1" y="261"/>
                </a:lnTo>
                <a:lnTo>
                  <a:pt x="22" y="319"/>
                </a:lnTo>
                <a:lnTo>
                  <a:pt x="0" y="319"/>
                </a:lnTo>
                <a:lnTo>
                  <a:pt x="0" y="376"/>
                </a:lnTo>
                <a:lnTo>
                  <a:pt x="22" y="376"/>
                </a:lnTo>
                <a:lnTo>
                  <a:pt x="1" y="433"/>
                </a:lnTo>
                <a:lnTo>
                  <a:pt x="35" y="429"/>
                </a:lnTo>
                <a:lnTo>
                  <a:pt x="55" y="376"/>
                </a:lnTo>
                <a:lnTo>
                  <a:pt x="75" y="376"/>
                </a:lnTo>
                <a:lnTo>
                  <a:pt x="57" y="427"/>
                </a:lnTo>
                <a:lnTo>
                  <a:pt x="91" y="422"/>
                </a:lnTo>
                <a:lnTo>
                  <a:pt x="108" y="376"/>
                </a:lnTo>
                <a:lnTo>
                  <a:pt x="129" y="376"/>
                </a:lnTo>
                <a:lnTo>
                  <a:pt x="113" y="420"/>
                </a:lnTo>
                <a:lnTo>
                  <a:pt x="147" y="416"/>
                </a:lnTo>
                <a:lnTo>
                  <a:pt x="162" y="376"/>
                </a:lnTo>
                <a:lnTo>
                  <a:pt x="196" y="376"/>
                </a:lnTo>
                <a:lnTo>
                  <a:pt x="171" y="419"/>
                </a:lnTo>
                <a:lnTo>
                  <a:pt x="92" y="465"/>
                </a:lnTo>
                <a:lnTo>
                  <a:pt x="61" y="458"/>
                </a:lnTo>
                <a:lnTo>
                  <a:pt x="44" y="521"/>
                </a:lnTo>
                <a:lnTo>
                  <a:pt x="107" y="537"/>
                </a:lnTo>
                <a:lnTo>
                  <a:pt x="117" y="506"/>
                </a:lnTo>
                <a:lnTo>
                  <a:pt x="195" y="461"/>
                </a:lnTo>
                <a:lnTo>
                  <a:pt x="246" y="461"/>
                </a:lnTo>
                <a:lnTo>
                  <a:pt x="228" y="491"/>
                </a:lnTo>
                <a:lnTo>
                  <a:pt x="187" y="484"/>
                </a:lnTo>
                <a:lnTo>
                  <a:pt x="166" y="511"/>
                </a:lnTo>
                <a:lnTo>
                  <a:pt x="212" y="519"/>
                </a:lnTo>
                <a:lnTo>
                  <a:pt x="202" y="537"/>
                </a:lnTo>
                <a:lnTo>
                  <a:pt x="153" y="529"/>
                </a:lnTo>
                <a:lnTo>
                  <a:pt x="132" y="556"/>
                </a:lnTo>
                <a:lnTo>
                  <a:pt x="185" y="566"/>
                </a:lnTo>
                <a:lnTo>
                  <a:pt x="175" y="584"/>
                </a:lnTo>
                <a:lnTo>
                  <a:pt x="119" y="574"/>
                </a:lnTo>
                <a:lnTo>
                  <a:pt x="98" y="602"/>
                </a:lnTo>
                <a:lnTo>
                  <a:pt x="158" y="612"/>
                </a:lnTo>
                <a:lnTo>
                  <a:pt x="147" y="631"/>
                </a:lnTo>
                <a:lnTo>
                  <a:pt x="197" y="660"/>
                </a:lnTo>
                <a:lnTo>
                  <a:pt x="208" y="641"/>
                </a:lnTo>
                <a:lnTo>
                  <a:pt x="247" y="688"/>
                </a:lnTo>
                <a:lnTo>
                  <a:pt x="261" y="656"/>
                </a:lnTo>
                <a:lnTo>
                  <a:pt x="224" y="612"/>
                </a:lnTo>
                <a:lnTo>
                  <a:pt x="235" y="594"/>
                </a:lnTo>
                <a:lnTo>
                  <a:pt x="269" y="636"/>
                </a:lnTo>
                <a:lnTo>
                  <a:pt x="283" y="604"/>
                </a:lnTo>
                <a:lnTo>
                  <a:pt x="251" y="566"/>
                </a:lnTo>
                <a:lnTo>
                  <a:pt x="261" y="548"/>
                </a:lnTo>
                <a:lnTo>
                  <a:pt x="291" y="584"/>
                </a:lnTo>
                <a:lnTo>
                  <a:pt x="305" y="552"/>
                </a:lnTo>
                <a:lnTo>
                  <a:pt x="278" y="519"/>
                </a:lnTo>
                <a:lnTo>
                  <a:pt x="295" y="490"/>
                </a:lnTo>
                <a:lnTo>
                  <a:pt x="320" y="533"/>
                </a:lnTo>
                <a:lnTo>
                  <a:pt x="320" y="624"/>
                </a:lnTo>
                <a:lnTo>
                  <a:pt x="298" y="648"/>
                </a:lnTo>
                <a:lnTo>
                  <a:pt x="344" y="695"/>
                </a:lnTo>
                <a:lnTo>
                  <a:pt x="390" y="648"/>
                </a:lnTo>
                <a:lnTo>
                  <a:pt x="368" y="624"/>
                </a:lnTo>
                <a:lnTo>
                  <a:pt x="368" y="534"/>
                </a:lnTo>
                <a:lnTo>
                  <a:pt x="394" y="490"/>
                </a:lnTo>
                <a:lnTo>
                  <a:pt x="411" y="519"/>
                </a:lnTo>
                <a:lnTo>
                  <a:pt x="383" y="552"/>
                </a:lnTo>
                <a:lnTo>
                  <a:pt x="397" y="584"/>
                </a:lnTo>
                <a:lnTo>
                  <a:pt x="427" y="548"/>
                </a:lnTo>
                <a:lnTo>
                  <a:pt x="438" y="566"/>
                </a:lnTo>
                <a:lnTo>
                  <a:pt x="406" y="604"/>
                </a:lnTo>
                <a:lnTo>
                  <a:pt x="419" y="636"/>
                </a:lnTo>
                <a:lnTo>
                  <a:pt x="454" y="594"/>
                </a:lnTo>
                <a:lnTo>
                  <a:pt x="464" y="612"/>
                </a:lnTo>
                <a:lnTo>
                  <a:pt x="428" y="656"/>
                </a:lnTo>
                <a:lnTo>
                  <a:pt x="442" y="688"/>
                </a:lnTo>
                <a:lnTo>
                  <a:pt x="481" y="641"/>
                </a:lnTo>
                <a:lnTo>
                  <a:pt x="492" y="660"/>
                </a:lnTo>
                <a:lnTo>
                  <a:pt x="541" y="631"/>
                </a:lnTo>
                <a:lnTo>
                  <a:pt x="530" y="612"/>
                </a:lnTo>
                <a:lnTo>
                  <a:pt x="590" y="602"/>
                </a:lnTo>
                <a:lnTo>
                  <a:pt x="570" y="574"/>
                </a:lnTo>
                <a:lnTo>
                  <a:pt x="514" y="584"/>
                </a:lnTo>
                <a:lnTo>
                  <a:pt x="503" y="566"/>
                </a:lnTo>
                <a:lnTo>
                  <a:pt x="557" y="556"/>
                </a:lnTo>
                <a:lnTo>
                  <a:pt x="536" y="529"/>
                </a:lnTo>
                <a:lnTo>
                  <a:pt x="487" y="537"/>
                </a:lnTo>
                <a:lnTo>
                  <a:pt x="477" y="519"/>
                </a:lnTo>
                <a:lnTo>
                  <a:pt x="523" y="511"/>
                </a:lnTo>
                <a:lnTo>
                  <a:pt x="502" y="484"/>
                </a:lnTo>
                <a:lnTo>
                  <a:pt x="460" y="491"/>
                </a:lnTo>
                <a:lnTo>
                  <a:pt x="443" y="461"/>
                </a:lnTo>
                <a:lnTo>
                  <a:pt x="493" y="461"/>
                </a:lnTo>
                <a:lnTo>
                  <a:pt x="572" y="507"/>
                </a:lnTo>
                <a:lnTo>
                  <a:pt x="582" y="537"/>
                </a:lnTo>
                <a:lnTo>
                  <a:pt x="645" y="521"/>
                </a:lnTo>
                <a:lnTo>
                  <a:pt x="628" y="458"/>
                </a:lnTo>
                <a:lnTo>
                  <a:pt x="595" y="465"/>
                </a:lnTo>
                <a:lnTo>
                  <a:pt x="518" y="420"/>
                </a:lnTo>
                <a:lnTo>
                  <a:pt x="492" y="376"/>
                </a:lnTo>
                <a:lnTo>
                  <a:pt x="527" y="376"/>
                </a:lnTo>
                <a:lnTo>
                  <a:pt x="541" y="416"/>
                </a:lnTo>
                <a:lnTo>
                  <a:pt x="575" y="420"/>
                </a:lnTo>
                <a:lnTo>
                  <a:pt x="559" y="376"/>
                </a:lnTo>
                <a:lnTo>
                  <a:pt x="580" y="376"/>
                </a:lnTo>
                <a:lnTo>
                  <a:pt x="597" y="422"/>
                </a:lnTo>
                <a:lnTo>
                  <a:pt x="632" y="427"/>
                </a:lnTo>
                <a:lnTo>
                  <a:pt x="613" y="376"/>
                </a:lnTo>
                <a:lnTo>
                  <a:pt x="634" y="376"/>
                </a:lnTo>
                <a:lnTo>
                  <a:pt x="653" y="429"/>
                </a:lnTo>
                <a:lnTo>
                  <a:pt x="688" y="433"/>
                </a:lnTo>
                <a:lnTo>
                  <a:pt x="667" y="376"/>
                </a:lnTo>
                <a:lnTo>
                  <a:pt x="689" y="376"/>
                </a:lnTo>
                <a:lnTo>
                  <a:pt x="689" y="319"/>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18" name="Freeform 107"/>
          <p:cNvSpPr/>
          <p:nvPr/>
        </p:nvSpPr>
        <p:spPr>
          <a:xfrm>
            <a:off x="9047160" y="1430280"/>
            <a:ext cx="185760" cy="185760"/>
          </a:xfrm>
          <a:custGeom>
            <a:avLst/>
            <a:gdLst/>
            <a:ahLst/>
            <a:rect l="l" t="t" r="r" b="b"/>
            <a:pathLst>
              <a:path w="695" h="695">
                <a:moveTo>
                  <a:pt x="586" y="589"/>
                </a:moveTo>
                <a:cubicBezTo>
                  <a:pt x="586" y="589"/>
                  <a:pt x="570" y="617"/>
                  <a:pt x="502" y="621"/>
                </a:cubicBezTo>
                <a:lnTo>
                  <a:pt x="425" y="624"/>
                </a:lnTo>
                <a:lnTo>
                  <a:pt x="425" y="656"/>
                </a:lnTo>
                <a:lnTo>
                  <a:pt x="384" y="601"/>
                </a:lnTo>
                <a:lnTo>
                  <a:pt x="342" y="546"/>
                </a:lnTo>
                <a:lnTo>
                  <a:pt x="384" y="491"/>
                </a:lnTo>
                <a:lnTo>
                  <a:pt x="425" y="436"/>
                </a:lnTo>
                <a:lnTo>
                  <a:pt x="425" y="482"/>
                </a:lnTo>
                <a:lnTo>
                  <a:pt x="569" y="482"/>
                </a:lnTo>
                <a:cubicBezTo>
                  <a:pt x="569" y="482"/>
                  <a:pt x="634" y="487"/>
                  <a:pt x="663" y="448"/>
                </a:cubicBezTo>
                <a:lnTo>
                  <a:pt x="586" y="589"/>
                </a:lnTo>
                <a:close/>
                <a:moveTo>
                  <a:pt x="270" y="234"/>
                </a:moveTo>
                <a:lnTo>
                  <a:pt x="149" y="159"/>
                </a:lnTo>
                <a:lnTo>
                  <a:pt x="193" y="87"/>
                </a:lnTo>
                <a:cubicBezTo>
                  <a:pt x="193" y="87"/>
                  <a:pt x="235" y="33"/>
                  <a:pt x="284" y="63"/>
                </a:cubicBezTo>
                <a:cubicBezTo>
                  <a:pt x="284" y="63"/>
                  <a:pt x="310" y="71"/>
                  <a:pt x="335" y="129"/>
                </a:cubicBezTo>
                <a:lnTo>
                  <a:pt x="270" y="234"/>
                </a:lnTo>
                <a:close/>
                <a:moveTo>
                  <a:pt x="291" y="622"/>
                </a:moveTo>
                <a:lnTo>
                  <a:pt x="206" y="620"/>
                </a:lnTo>
                <a:cubicBezTo>
                  <a:pt x="206" y="620"/>
                  <a:pt x="138" y="611"/>
                  <a:pt x="140" y="554"/>
                </a:cubicBezTo>
                <a:cubicBezTo>
                  <a:pt x="140" y="554"/>
                  <a:pt x="133" y="527"/>
                  <a:pt x="171" y="477"/>
                </a:cubicBezTo>
                <a:lnTo>
                  <a:pt x="294" y="479"/>
                </a:lnTo>
                <a:lnTo>
                  <a:pt x="291" y="622"/>
                </a:lnTo>
                <a:close/>
                <a:moveTo>
                  <a:pt x="118" y="576"/>
                </a:moveTo>
                <a:lnTo>
                  <a:pt x="37" y="437"/>
                </a:lnTo>
                <a:cubicBezTo>
                  <a:pt x="37" y="437"/>
                  <a:pt x="21" y="408"/>
                  <a:pt x="53" y="348"/>
                </a:cubicBezTo>
                <a:lnTo>
                  <a:pt x="90" y="281"/>
                </a:lnTo>
                <a:lnTo>
                  <a:pt x="63" y="265"/>
                </a:lnTo>
                <a:lnTo>
                  <a:pt x="132" y="258"/>
                </a:lnTo>
                <a:lnTo>
                  <a:pt x="200" y="251"/>
                </a:lnTo>
                <a:lnTo>
                  <a:pt x="226" y="315"/>
                </a:lnTo>
                <a:lnTo>
                  <a:pt x="251" y="379"/>
                </a:lnTo>
                <a:lnTo>
                  <a:pt x="212" y="355"/>
                </a:lnTo>
                <a:lnTo>
                  <a:pt x="138" y="478"/>
                </a:lnTo>
                <a:cubicBezTo>
                  <a:pt x="138" y="478"/>
                  <a:pt x="99" y="531"/>
                  <a:pt x="118" y="576"/>
                </a:cubicBezTo>
                <a:close/>
                <a:moveTo>
                  <a:pt x="437" y="39"/>
                </a:moveTo>
                <a:cubicBezTo>
                  <a:pt x="437" y="39"/>
                  <a:pt x="469" y="40"/>
                  <a:pt x="505" y="97"/>
                </a:cubicBezTo>
                <a:lnTo>
                  <a:pt x="544" y="164"/>
                </a:lnTo>
                <a:lnTo>
                  <a:pt x="572" y="149"/>
                </a:lnTo>
                <a:lnTo>
                  <a:pt x="543" y="211"/>
                </a:lnTo>
                <a:lnTo>
                  <a:pt x="515" y="274"/>
                </a:lnTo>
                <a:lnTo>
                  <a:pt x="447" y="263"/>
                </a:lnTo>
                <a:lnTo>
                  <a:pt x="379" y="253"/>
                </a:lnTo>
                <a:lnTo>
                  <a:pt x="419" y="231"/>
                </a:lnTo>
                <a:lnTo>
                  <a:pt x="350" y="105"/>
                </a:lnTo>
                <a:cubicBezTo>
                  <a:pt x="350" y="105"/>
                  <a:pt x="324" y="45"/>
                  <a:pt x="276" y="39"/>
                </a:cubicBezTo>
                <a:lnTo>
                  <a:pt x="437" y="39"/>
                </a:lnTo>
                <a:close/>
                <a:moveTo>
                  <a:pt x="652" y="351"/>
                </a:moveTo>
                <a:cubicBezTo>
                  <a:pt x="652" y="351"/>
                  <a:pt x="680" y="414"/>
                  <a:pt x="629" y="442"/>
                </a:cubicBezTo>
                <a:cubicBezTo>
                  <a:pt x="629" y="442"/>
                  <a:pt x="610" y="461"/>
                  <a:pt x="548" y="456"/>
                </a:cubicBezTo>
                <a:lnTo>
                  <a:pt x="486" y="349"/>
                </a:lnTo>
                <a:lnTo>
                  <a:pt x="609" y="278"/>
                </a:lnTo>
                <a:lnTo>
                  <a:pt x="652" y="351"/>
                </a:lnTo>
                <a:close/>
                <a:moveTo>
                  <a:pt x="695" y="0"/>
                </a:moveTo>
                <a:lnTo>
                  <a:pt x="0" y="0"/>
                </a:lnTo>
                <a:lnTo>
                  <a:pt x="0" y="695"/>
                </a:lnTo>
                <a:lnTo>
                  <a:pt x="695" y="695"/>
                </a:lnTo>
                <a:lnTo>
                  <a:pt x="695"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19" name="Freeform 108"/>
          <p:cNvSpPr/>
          <p:nvPr/>
        </p:nvSpPr>
        <p:spPr>
          <a:xfrm>
            <a:off x="9059760" y="5160960"/>
            <a:ext cx="174600" cy="192240"/>
          </a:xfrm>
          <a:custGeom>
            <a:avLst/>
            <a:gdLst/>
            <a:ahLst/>
            <a:rect l="l" t="t" r="r" b="b"/>
            <a:pathLst>
              <a:path w="651" h="714">
                <a:moveTo>
                  <a:pt x="415" y="158"/>
                </a:moveTo>
                <a:cubicBezTo>
                  <a:pt x="415" y="102"/>
                  <a:pt x="381" y="22"/>
                  <a:pt x="326" y="0"/>
                </a:cubicBezTo>
                <a:cubicBezTo>
                  <a:pt x="271" y="22"/>
                  <a:pt x="236" y="102"/>
                  <a:pt x="236" y="158"/>
                </a:cubicBezTo>
                <a:cubicBezTo>
                  <a:pt x="236" y="213"/>
                  <a:pt x="271" y="293"/>
                  <a:pt x="326" y="315"/>
                </a:cubicBezTo>
                <a:cubicBezTo>
                  <a:pt x="381" y="293"/>
                  <a:pt x="415" y="213"/>
                  <a:pt x="415" y="158"/>
                </a:cubicBezTo>
                <a:close/>
                <a:moveTo>
                  <a:pt x="308" y="360"/>
                </a:moveTo>
                <a:lnTo>
                  <a:pt x="308" y="702"/>
                </a:lnTo>
                <a:cubicBezTo>
                  <a:pt x="308" y="709"/>
                  <a:pt x="316" y="714"/>
                  <a:pt x="326" y="714"/>
                </a:cubicBezTo>
                <a:cubicBezTo>
                  <a:pt x="335" y="714"/>
                  <a:pt x="343" y="709"/>
                  <a:pt x="343" y="702"/>
                </a:cubicBezTo>
                <a:lnTo>
                  <a:pt x="343" y="360"/>
                </a:lnTo>
                <a:cubicBezTo>
                  <a:pt x="343" y="353"/>
                  <a:pt x="335" y="348"/>
                  <a:pt x="326" y="348"/>
                </a:cubicBezTo>
                <a:cubicBezTo>
                  <a:pt x="316" y="348"/>
                  <a:pt x="308" y="353"/>
                  <a:pt x="308" y="360"/>
                </a:cubicBezTo>
                <a:close/>
                <a:moveTo>
                  <a:pt x="101" y="621"/>
                </a:moveTo>
                <a:cubicBezTo>
                  <a:pt x="150" y="649"/>
                  <a:pt x="236" y="657"/>
                  <a:pt x="282" y="620"/>
                </a:cubicBezTo>
                <a:cubicBezTo>
                  <a:pt x="290" y="561"/>
                  <a:pt x="238" y="492"/>
                  <a:pt x="189" y="465"/>
                </a:cubicBezTo>
                <a:cubicBezTo>
                  <a:pt x="141" y="438"/>
                  <a:pt x="54" y="429"/>
                  <a:pt x="8" y="466"/>
                </a:cubicBezTo>
                <a:cubicBezTo>
                  <a:pt x="0" y="525"/>
                  <a:pt x="53" y="594"/>
                  <a:pt x="101" y="621"/>
                </a:cubicBezTo>
                <a:close/>
                <a:moveTo>
                  <a:pt x="101" y="393"/>
                </a:moveTo>
                <a:cubicBezTo>
                  <a:pt x="150" y="420"/>
                  <a:pt x="236" y="429"/>
                  <a:pt x="282" y="392"/>
                </a:cubicBezTo>
                <a:cubicBezTo>
                  <a:pt x="290" y="333"/>
                  <a:pt x="238" y="264"/>
                  <a:pt x="189" y="237"/>
                </a:cubicBezTo>
                <a:cubicBezTo>
                  <a:pt x="141" y="209"/>
                  <a:pt x="54" y="201"/>
                  <a:pt x="8" y="238"/>
                </a:cubicBezTo>
                <a:cubicBezTo>
                  <a:pt x="0" y="297"/>
                  <a:pt x="53" y="366"/>
                  <a:pt x="101" y="393"/>
                </a:cubicBezTo>
                <a:close/>
                <a:moveTo>
                  <a:pt x="550" y="621"/>
                </a:moveTo>
                <a:cubicBezTo>
                  <a:pt x="598" y="594"/>
                  <a:pt x="651" y="525"/>
                  <a:pt x="643" y="466"/>
                </a:cubicBezTo>
                <a:cubicBezTo>
                  <a:pt x="597" y="429"/>
                  <a:pt x="510" y="438"/>
                  <a:pt x="462" y="465"/>
                </a:cubicBezTo>
                <a:cubicBezTo>
                  <a:pt x="414" y="492"/>
                  <a:pt x="361" y="561"/>
                  <a:pt x="369" y="620"/>
                </a:cubicBezTo>
                <a:cubicBezTo>
                  <a:pt x="415" y="657"/>
                  <a:pt x="501" y="649"/>
                  <a:pt x="550" y="621"/>
                </a:cubicBezTo>
                <a:close/>
                <a:moveTo>
                  <a:pt x="369" y="392"/>
                </a:moveTo>
                <a:cubicBezTo>
                  <a:pt x="415" y="429"/>
                  <a:pt x="501" y="420"/>
                  <a:pt x="550" y="393"/>
                </a:cubicBezTo>
                <a:cubicBezTo>
                  <a:pt x="598" y="366"/>
                  <a:pt x="651" y="297"/>
                  <a:pt x="643" y="238"/>
                </a:cubicBezTo>
                <a:cubicBezTo>
                  <a:pt x="597" y="201"/>
                  <a:pt x="510" y="209"/>
                  <a:pt x="462" y="237"/>
                </a:cubicBezTo>
                <a:cubicBezTo>
                  <a:pt x="414" y="264"/>
                  <a:pt x="361" y="333"/>
                  <a:pt x="369" y="39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20" name="Freeform 109"/>
          <p:cNvSpPr/>
          <p:nvPr/>
        </p:nvSpPr>
        <p:spPr>
          <a:xfrm>
            <a:off x="6637320" y="1982880"/>
            <a:ext cx="155520" cy="195120"/>
          </a:xfrm>
          <a:custGeom>
            <a:avLst/>
            <a:gdLst/>
            <a:ahLst/>
            <a:rect l="l" t="t" r="r" b="b"/>
            <a:pathLst>
              <a:path w="581" h="731">
                <a:moveTo>
                  <a:pt x="340" y="416"/>
                </a:moveTo>
                <a:lnTo>
                  <a:pt x="340" y="477"/>
                </a:lnTo>
                <a:cubicBezTo>
                  <a:pt x="422" y="455"/>
                  <a:pt x="482" y="380"/>
                  <a:pt x="482" y="292"/>
                </a:cubicBezTo>
                <a:cubicBezTo>
                  <a:pt x="482" y="186"/>
                  <a:pt x="396" y="100"/>
                  <a:pt x="291" y="100"/>
                </a:cubicBezTo>
                <a:cubicBezTo>
                  <a:pt x="185" y="100"/>
                  <a:pt x="99" y="186"/>
                  <a:pt x="99" y="292"/>
                </a:cubicBezTo>
                <a:cubicBezTo>
                  <a:pt x="99" y="380"/>
                  <a:pt x="159" y="455"/>
                  <a:pt x="242" y="477"/>
                </a:cubicBezTo>
                <a:lnTo>
                  <a:pt x="242" y="416"/>
                </a:lnTo>
                <a:cubicBezTo>
                  <a:pt x="192" y="396"/>
                  <a:pt x="157" y="348"/>
                  <a:pt x="157" y="292"/>
                </a:cubicBezTo>
                <a:cubicBezTo>
                  <a:pt x="157" y="218"/>
                  <a:pt x="217" y="158"/>
                  <a:pt x="291" y="158"/>
                </a:cubicBezTo>
                <a:cubicBezTo>
                  <a:pt x="364" y="158"/>
                  <a:pt x="424" y="218"/>
                  <a:pt x="424" y="292"/>
                </a:cubicBezTo>
                <a:cubicBezTo>
                  <a:pt x="424" y="348"/>
                  <a:pt x="389" y="396"/>
                  <a:pt x="340" y="416"/>
                </a:cubicBezTo>
                <a:close/>
                <a:moveTo>
                  <a:pt x="255" y="283"/>
                </a:moveTo>
                <a:cubicBezTo>
                  <a:pt x="256" y="279"/>
                  <a:pt x="258" y="276"/>
                  <a:pt x="259" y="273"/>
                </a:cubicBezTo>
                <a:cubicBezTo>
                  <a:pt x="266" y="263"/>
                  <a:pt x="277" y="256"/>
                  <a:pt x="291" y="256"/>
                </a:cubicBezTo>
                <a:cubicBezTo>
                  <a:pt x="304" y="256"/>
                  <a:pt x="315" y="263"/>
                  <a:pt x="322" y="273"/>
                </a:cubicBezTo>
                <a:cubicBezTo>
                  <a:pt x="324" y="276"/>
                  <a:pt x="325" y="279"/>
                  <a:pt x="326" y="283"/>
                </a:cubicBezTo>
                <a:cubicBezTo>
                  <a:pt x="327" y="286"/>
                  <a:pt x="327" y="289"/>
                  <a:pt x="327" y="292"/>
                </a:cubicBezTo>
                <a:cubicBezTo>
                  <a:pt x="327" y="300"/>
                  <a:pt x="325" y="308"/>
                  <a:pt x="320" y="314"/>
                </a:cubicBezTo>
                <a:cubicBezTo>
                  <a:pt x="314" y="323"/>
                  <a:pt x="303" y="329"/>
                  <a:pt x="291" y="329"/>
                </a:cubicBezTo>
                <a:cubicBezTo>
                  <a:pt x="278" y="329"/>
                  <a:pt x="268" y="323"/>
                  <a:pt x="261" y="314"/>
                </a:cubicBezTo>
                <a:cubicBezTo>
                  <a:pt x="257" y="308"/>
                  <a:pt x="254" y="300"/>
                  <a:pt x="254" y="292"/>
                </a:cubicBezTo>
                <a:cubicBezTo>
                  <a:pt x="254" y="289"/>
                  <a:pt x="254" y="286"/>
                  <a:pt x="255" y="283"/>
                </a:cubicBezTo>
                <a:close/>
                <a:moveTo>
                  <a:pt x="261" y="482"/>
                </a:moveTo>
                <a:lnTo>
                  <a:pt x="261" y="523"/>
                </a:lnTo>
                <a:lnTo>
                  <a:pt x="261" y="581"/>
                </a:lnTo>
                <a:lnTo>
                  <a:pt x="261" y="731"/>
                </a:lnTo>
                <a:lnTo>
                  <a:pt x="320" y="731"/>
                </a:lnTo>
                <a:lnTo>
                  <a:pt x="320" y="581"/>
                </a:lnTo>
                <a:lnTo>
                  <a:pt x="320" y="523"/>
                </a:lnTo>
                <a:lnTo>
                  <a:pt x="320" y="482"/>
                </a:lnTo>
                <a:lnTo>
                  <a:pt x="320" y="423"/>
                </a:lnTo>
                <a:lnTo>
                  <a:pt x="320" y="382"/>
                </a:lnTo>
                <a:cubicBezTo>
                  <a:pt x="324" y="381"/>
                  <a:pt x="327" y="380"/>
                  <a:pt x="330" y="379"/>
                </a:cubicBezTo>
                <a:cubicBezTo>
                  <a:pt x="333" y="377"/>
                  <a:pt x="337" y="375"/>
                  <a:pt x="340" y="373"/>
                </a:cubicBezTo>
                <a:cubicBezTo>
                  <a:pt x="367" y="357"/>
                  <a:pt x="385" y="327"/>
                  <a:pt x="385" y="292"/>
                </a:cubicBezTo>
                <a:cubicBezTo>
                  <a:pt x="385" y="240"/>
                  <a:pt x="343" y="198"/>
                  <a:pt x="291" y="198"/>
                </a:cubicBezTo>
                <a:cubicBezTo>
                  <a:pt x="238" y="198"/>
                  <a:pt x="196" y="240"/>
                  <a:pt x="196" y="292"/>
                </a:cubicBezTo>
                <a:cubicBezTo>
                  <a:pt x="196" y="327"/>
                  <a:pt x="214" y="357"/>
                  <a:pt x="242" y="373"/>
                </a:cubicBezTo>
                <a:cubicBezTo>
                  <a:pt x="245" y="375"/>
                  <a:pt x="248" y="377"/>
                  <a:pt x="251" y="379"/>
                </a:cubicBezTo>
                <a:cubicBezTo>
                  <a:pt x="254" y="380"/>
                  <a:pt x="258" y="381"/>
                  <a:pt x="261" y="382"/>
                </a:cubicBezTo>
                <a:lnTo>
                  <a:pt x="261" y="423"/>
                </a:lnTo>
                <a:lnTo>
                  <a:pt x="261" y="482"/>
                </a:lnTo>
                <a:close/>
                <a:moveTo>
                  <a:pt x="581" y="291"/>
                </a:moveTo>
                <a:cubicBezTo>
                  <a:pt x="581" y="130"/>
                  <a:pt x="451" y="0"/>
                  <a:pt x="291" y="0"/>
                </a:cubicBezTo>
                <a:cubicBezTo>
                  <a:pt x="130" y="0"/>
                  <a:pt x="0" y="130"/>
                  <a:pt x="0" y="291"/>
                </a:cubicBezTo>
                <a:cubicBezTo>
                  <a:pt x="0" y="434"/>
                  <a:pt x="105" y="553"/>
                  <a:pt x="242" y="577"/>
                </a:cubicBezTo>
                <a:lnTo>
                  <a:pt x="242" y="518"/>
                </a:lnTo>
                <a:cubicBezTo>
                  <a:pt x="137" y="495"/>
                  <a:pt x="58" y="402"/>
                  <a:pt x="58" y="291"/>
                </a:cubicBezTo>
                <a:cubicBezTo>
                  <a:pt x="58" y="162"/>
                  <a:pt x="162" y="58"/>
                  <a:pt x="291" y="58"/>
                </a:cubicBezTo>
                <a:cubicBezTo>
                  <a:pt x="419" y="58"/>
                  <a:pt x="523" y="162"/>
                  <a:pt x="523" y="291"/>
                </a:cubicBezTo>
                <a:cubicBezTo>
                  <a:pt x="523" y="402"/>
                  <a:pt x="444" y="495"/>
                  <a:pt x="340" y="518"/>
                </a:cubicBezTo>
                <a:lnTo>
                  <a:pt x="340" y="577"/>
                </a:lnTo>
                <a:cubicBezTo>
                  <a:pt x="476" y="553"/>
                  <a:pt x="581" y="434"/>
                  <a:pt x="581" y="29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21" name="Freeform 110"/>
          <p:cNvSpPr/>
          <p:nvPr/>
        </p:nvSpPr>
        <p:spPr>
          <a:xfrm>
            <a:off x="2913120" y="3281400"/>
            <a:ext cx="182520" cy="146160"/>
          </a:xfrm>
          <a:custGeom>
            <a:avLst/>
            <a:gdLst/>
            <a:ahLst/>
            <a:rect l="l" t="t" r="r" b="b"/>
            <a:pathLst>
              <a:path w="689" h="543">
                <a:moveTo>
                  <a:pt x="281" y="206"/>
                </a:moveTo>
                <a:lnTo>
                  <a:pt x="382" y="346"/>
                </a:lnTo>
                <a:lnTo>
                  <a:pt x="338" y="407"/>
                </a:lnTo>
                <a:lnTo>
                  <a:pt x="331" y="418"/>
                </a:lnTo>
                <a:lnTo>
                  <a:pt x="129" y="418"/>
                </a:lnTo>
                <a:lnTo>
                  <a:pt x="281" y="206"/>
                </a:lnTo>
                <a:close/>
                <a:moveTo>
                  <a:pt x="634" y="488"/>
                </a:moveTo>
                <a:lnTo>
                  <a:pt x="54" y="488"/>
                </a:lnTo>
                <a:lnTo>
                  <a:pt x="54" y="55"/>
                </a:lnTo>
                <a:lnTo>
                  <a:pt x="634" y="55"/>
                </a:lnTo>
                <a:lnTo>
                  <a:pt x="634" y="488"/>
                </a:lnTo>
                <a:close/>
                <a:moveTo>
                  <a:pt x="689" y="0"/>
                </a:moveTo>
                <a:lnTo>
                  <a:pt x="0" y="0"/>
                </a:lnTo>
                <a:lnTo>
                  <a:pt x="0" y="543"/>
                </a:lnTo>
                <a:lnTo>
                  <a:pt x="689" y="543"/>
                </a:lnTo>
                <a:lnTo>
                  <a:pt x="689" y="0"/>
                </a:lnTo>
                <a:close/>
                <a:moveTo>
                  <a:pt x="491" y="130"/>
                </a:moveTo>
                <a:cubicBezTo>
                  <a:pt x="514" y="130"/>
                  <a:pt x="533" y="148"/>
                  <a:pt x="533" y="171"/>
                </a:cubicBezTo>
                <a:cubicBezTo>
                  <a:pt x="533" y="194"/>
                  <a:pt x="514" y="213"/>
                  <a:pt x="491" y="213"/>
                </a:cubicBezTo>
                <a:cubicBezTo>
                  <a:pt x="468" y="213"/>
                  <a:pt x="449" y="194"/>
                  <a:pt x="449" y="171"/>
                </a:cubicBezTo>
                <a:cubicBezTo>
                  <a:pt x="449" y="148"/>
                  <a:pt x="468" y="130"/>
                  <a:pt x="491" y="130"/>
                </a:cubicBezTo>
                <a:close/>
                <a:moveTo>
                  <a:pt x="564" y="418"/>
                </a:moveTo>
                <a:lnTo>
                  <a:pt x="353" y="418"/>
                </a:lnTo>
                <a:lnTo>
                  <a:pt x="393" y="362"/>
                </a:lnTo>
                <a:lnTo>
                  <a:pt x="458" y="271"/>
                </a:lnTo>
                <a:lnTo>
                  <a:pt x="564" y="418"/>
                </a:lnTo>
                <a:close/>
                <a:moveTo>
                  <a:pt x="608" y="80"/>
                </a:moveTo>
                <a:lnTo>
                  <a:pt x="80" y="80"/>
                </a:lnTo>
                <a:lnTo>
                  <a:pt x="80" y="463"/>
                </a:lnTo>
                <a:lnTo>
                  <a:pt x="608" y="463"/>
                </a:lnTo>
                <a:lnTo>
                  <a:pt x="608" y="8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22" name="Freeform 111"/>
          <p:cNvSpPr/>
          <p:nvPr/>
        </p:nvSpPr>
        <p:spPr>
          <a:xfrm>
            <a:off x="8675640" y="5151600"/>
            <a:ext cx="225360" cy="209520"/>
          </a:xfrm>
          <a:custGeom>
            <a:avLst/>
            <a:gdLst/>
            <a:ahLst/>
            <a:rect l="l" t="t" r="r" b="b"/>
            <a:pathLst>
              <a:path w="841" h="780">
                <a:moveTo>
                  <a:pt x="73" y="715"/>
                </a:moveTo>
                <a:cubicBezTo>
                  <a:pt x="113" y="669"/>
                  <a:pt x="159" y="617"/>
                  <a:pt x="168" y="608"/>
                </a:cubicBezTo>
                <a:lnTo>
                  <a:pt x="172" y="604"/>
                </a:lnTo>
                <a:lnTo>
                  <a:pt x="172" y="610"/>
                </a:lnTo>
                <a:cubicBezTo>
                  <a:pt x="172" y="613"/>
                  <a:pt x="172" y="617"/>
                  <a:pt x="171" y="620"/>
                </a:cubicBezTo>
                <a:cubicBezTo>
                  <a:pt x="171" y="627"/>
                  <a:pt x="171" y="633"/>
                  <a:pt x="172" y="637"/>
                </a:cubicBezTo>
                <a:cubicBezTo>
                  <a:pt x="180" y="686"/>
                  <a:pt x="226" y="741"/>
                  <a:pt x="276" y="760"/>
                </a:cubicBezTo>
                <a:cubicBezTo>
                  <a:pt x="297" y="768"/>
                  <a:pt x="310" y="766"/>
                  <a:pt x="316" y="756"/>
                </a:cubicBezTo>
                <a:cubicBezTo>
                  <a:pt x="328" y="734"/>
                  <a:pt x="308" y="679"/>
                  <a:pt x="294" y="657"/>
                </a:cubicBezTo>
                <a:cubicBezTo>
                  <a:pt x="285" y="643"/>
                  <a:pt x="261" y="608"/>
                  <a:pt x="229" y="595"/>
                </a:cubicBezTo>
                <a:cubicBezTo>
                  <a:pt x="225" y="594"/>
                  <a:pt x="220" y="593"/>
                  <a:pt x="212" y="593"/>
                </a:cubicBezTo>
                <a:cubicBezTo>
                  <a:pt x="207" y="593"/>
                  <a:pt x="202" y="593"/>
                  <a:pt x="197" y="594"/>
                </a:cubicBezTo>
                <a:cubicBezTo>
                  <a:pt x="194" y="594"/>
                  <a:pt x="191" y="594"/>
                  <a:pt x="188" y="594"/>
                </a:cubicBezTo>
                <a:lnTo>
                  <a:pt x="182" y="594"/>
                </a:lnTo>
                <a:lnTo>
                  <a:pt x="186" y="591"/>
                </a:lnTo>
                <a:cubicBezTo>
                  <a:pt x="211" y="566"/>
                  <a:pt x="238" y="542"/>
                  <a:pt x="266" y="516"/>
                </a:cubicBezTo>
                <a:lnTo>
                  <a:pt x="268" y="514"/>
                </a:lnTo>
                <a:lnTo>
                  <a:pt x="269" y="518"/>
                </a:lnTo>
                <a:cubicBezTo>
                  <a:pt x="271" y="523"/>
                  <a:pt x="271" y="530"/>
                  <a:pt x="272" y="537"/>
                </a:cubicBezTo>
                <a:cubicBezTo>
                  <a:pt x="272" y="547"/>
                  <a:pt x="273" y="558"/>
                  <a:pt x="277" y="565"/>
                </a:cubicBezTo>
                <a:cubicBezTo>
                  <a:pt x="304" y="614"/>
                  <a:pt x="339" y="650"/>
                  <a:pt x="390" y="680"/>
                </a:cubicBezTo>
                <a:cubicBezTo>
                  <a:pt x="399" y="685"/>
                  <a:pt x="416" y="693"/>
                  <a:pt x="429" y="693"/>
                </a:cubicBezTo>
                <a:cubicBezTo>
                  <a:pt x="443" y="693"/>
                  <a:pt x="450" y="685"/>
                  <a:pt x="450" y="667"/>
                </a:cubicBezTo>
                <a:cubicBezTo>
                  <a:pt x="451" y="638"/>
                  <a:pt x="435" y="614"/>
                  <a:pt x="420" y="591"/>
                </a:cubicBezTo>
                <a:cubicBezTo>
                  <a:pt x="418" y="589"/>
                  <a:pt x="417" y="586"/>
                  <a:pt x="415" y="584"/>
                </a:cubicBezTo>
                <a:cubicBezTo>
                  <a:pt x="397" y="552"/>
                  <a:pt x="367" y="526"/>
                  <a:pt x="335" y="511"/>
                </a:cubicBezTo>
                <a:cubicBezTo>
                  <a:pt x="328" y="508"/>
                  <a:pt x="320" y="506"/>
                  <a:pt x="311" y="506"/>
                </a:cubicBezTo>
                <a:cubicBezTo>
                  <a:pt x="306" y="506"/>
                  <a:pt x="301" y="507"/>
                  <a:pt x="296" y="507"/>
                </a:cubicBezTo>
                <a:cubicBezTo>
                  <a:pt x="291" y="507"/>
                  <a:pt x="287" y="508"/>
                  <a:pt x="282" y="508"/>
                </a:cubicBezTo>
                <a:lnTo>
                  <a:pt x="276" y="508"/>
                </a:lnTo>
                <a:lnTo>
                  <a:pt x="280" y="504"/>
                </a:lnTo>
                <a:cubicBezTo>
                  <a:pt x="303" y="484"/>
                  <a:pt x="327" y="463"/>
                  <a:pt x="348" y="445"/>
                </a:cubicBezTo>
                <a:lnTo>
                  <a:pt x="350" y="444"/>
                </a:lnTo>
                <a:lnTo>
                  <a:pt x="363" y="454"/>
                </a:lnTo>
                <a:lnTo>
                  <a:pt x="363" y="455"/>
                </a:lnTo>
                <a:cubicBezTo>
                  <a:pt x="364" y="457"/>
                  <a:pt x="364" y="460"/>
                  <a:pt x="365" y="462"/>
                </a:cubicBezTo>
                <a:cubicBezTo>
                  <a:pt x="365" y="465"/>
                  <a:pt x="366" y="467"/>
                  <a:pt x="367" y="469"/>
                </a:cubicBezTo>
                <a:cubicBezTo>
                  <a:pt x="372" y="483"/>
                  <a:pt x="382" y="495"/>
                  <a:pt x="394" y="509"/>
                </a:cubicBezTo>
                <a:cubicBezTo>
                  <a:pt x="416" y="534"/>
                  <a:pt x="443" y="563"/>
                  <a:pt x="476" y="582"/>
                </a:cubicBezTo>
                <a:cubicBezTo>
                  <a:pt x="486" y="587"/>
                  <a:pt x="519" y="604"/>
                  <a:pt x="543" y="604"/>
                </a:cubicBezTo>
                <a:cubicBezTo>
                  <a:pt x="555" y="604"/>
                  <a:pt x="562" y="600"/>
                  <a:pt x="566" y="591"/>
                </a:cubicBezTo>
                <a:cubicBezTo>
                  <a:pt x="574" y="571"/>
                  <a:pt x="552" y="536"/>
                  <a:pt x="503" y="492"/>
                </a:cubicBezTo>
                <a:cubicBezTo>
                  <a:pt x="481" y="472"/>
                  <a:pt x="453" y="448"/>
                  <a:pt x="425" y="438"/>
                </a:cubicBezTo>
                <a:cubicBezTo>
                  <a:pt x="422" y="437"/>
                  <a:pt x="418" y="437"/>
                  <a:pt x="412" y="437"/>
                </a:cubicBezTo>
                <a:cubicBezTo>
                  <a:pt x="404" y="437"/>
                  <a:pt x="395" y="438"/>
                  <a:pt x="385" y="438"/>
                </a:cubicBezTo>
                <a:cubicBezTo>
                  <a:pt x="382" y="438"/>
                  <a:pt x="378" y="439"/>
                  <a:pt x="374" y="439"/>
                </a:cubicBezTo>
                <a:lnTo>
                  <a:pt x="374" y="439"/>
                </a:lnTo>
                <a:lnTo>
                  <a:pt x="365" y="432"/>
                </a:lnTo>
                <a:lnTo>
                  <a:pt x="367" y="430"/>
                </a:lnTo>
                <a:cubicBezTo>
                  <a:pt x="373" y="425"/>
                  <a:pt x="379" y="420"/>
                  <a:pt x="384" y="416"/>
                </a:cubicBezTo>
                <a:cubicBezTo>
                  <a:pt x="390" y="412"/>
                  <a:pt x="403" y="403"/>
                  <a:pt x="419" y="391"/>
                </a:cubicBezTo>
                <a:cubicBezTo>
                  <a:pt x="427" y="386"/>
                  <a:pt x="435" y="380"/>
                  <a:pt x="444" y="373"/>
                </a:cubicBezTo>
                <a:lnTo>
                  <a:pt x="446" y="372"/>
                </a:lnTo>
                <a:lnTo>
                  <a:pt x="458" y="382"/>
                </a:lnTo>
                <a:lnTo>
                  <a:pt x="458" y="382"/>
                </a:lnTo>
                <a:cubicBezTo>
                  <a:pt x="460" y="386"/>
                  <a:pt x="462" y="390"/>
                  <a:pt x="463" y="394"/>
                </a:cubicBezTo>
                <a:cubicBezTo>
                  <a:pt x="465" y="400"/>
                  <a:pt x="468" y="405"/>
                  <a:pt x="470" y="409"/>
                </a:cubicBezTo>
                <a:cubicBezTo>
                  <a:pt x="477" y="419"/>
                  <a:pt x="486" y="428"/>
                  <a:pt x="497" y="438"/>
                </a:cubicBezTo>
                <a:cubicBezTo>
                  <a:pt x="552" y="487"/>
                  <a:pt x="598" y="512"/>
                  <a:pt x="634" y="512"/>
                </a:cubicBezTo>
                <a:cubicBezTo>
                  <a:pt x="644" y="512"/>
                  <a:pt x="652" y="510"/>
                  <a:pt x="660" y="507"/>
                </a:cubicBezTo>
                <a:cubicBezTo>
                  <a:pt x="667" y="504"/>
                  <a:pt x="670" y="500"/>
                  <a:pt x="671" y="494"/>
                </a:cubicBezTo>
                <a:cubicBezTo>
                  <a:pt x="673" y="465"/>
                  <a:pt x="593" y="403"/>
                  <a:pt x="574" y="392"/>
                </a:cubicBezTo>
                <a:lnTo>
                  <a:pt x="571" y="390"/>
                </a:lnTo>
                <a:cubicBezTo>
                  <a:pt x="549" y="377"/>
                  <a:pt x="526" y="364"/>
                  <a:pt x="501" y="360"/>
                </a:cubicBezTo>
                <a:cubicBezTo>
                  <a:pt x="495" y="359"/>
                  <a:pt x="484" y="362"/>
                  <a:pt x="473" y="364"/>
                </a:cubicBezTo>
                <a:lnTo>
                  <a:pt x="468" y="366"/>
                </a:lnTo>
                <a:lnTo>
                  <a:pt x="461" y="361"/>
                </a:lnTo>
                <a:lnTo>
                  <a:pt x="464" y="359"/>
                </a:lnTo>
                <a:cubicBezTo>
                  <a:pt x="494" y="337"/>
                  <a:pt x="520" y="318"/>
                  <a:pt x="541" y="301"/>
                </a:cubicBezTo>
                <a:lnTo>
                  <a:pt x="542" y="300"/>
                </a:lnTo>
                <a:lnTo>
                  <a:pt x="544" y="301"/>
                </a:lnTo>
                <a:cubicBezTo>
                  <a:pt x="549" y="306"/>
                  <a:pt x="552" y="312"/>
                  <a:pt x="556" y="319"/>
                </a:cubicBezTo>
                <a:cubicBezTo>
                  <a:pt x="558" y="325"/>
                  <a:pt x="561" y="331"/>
                  <a:pt x="565" y="335"/>
                </a:cubicBezTo>
                <a:cubicBezTo>
                  <a:pt x="583" y="357"/>
                  <a:pt x="608" y="376"/>
                  <a:pt x="643" y="393"/>
                </a:cubicBezTo>
                <a:cubicBezTo>
                  <a:pt x="669" y="406"/>
                  <a:pt x="701" y="420"/>
                  <a:pt x="730" y="420"/>
                </a:cubicBezTo>
                <a:cubicBezTo>
                  <a:pt x="739" y="420"/>
                  <a:pt x="746" y="419"/>
                  <a:pt x="754" y="416"/>
                </a:cubicBezTo>
                <a:cubicBezTo>
                  <a:pt x="759" y="415"/>
                  <a:pt x="762" y="412"/>
                  <a:pt x="763" y="408"/>
                </a:cubicBezTo>
                <a:cubicBezTo>
                  <a:pt x="765" y="397"/>
                  <a:pt x="752" y="378"/>
                  <a:pt x="723" y="352"/>
                </a:cubicBezTo>
                <a:lnTo>
                  <a:pt x="721" y="351"/>
                </a:lnTo>
                <a:cubicBezTo>
                  <a:pt x="687" y="320"/>
                  <a:pt x="658" y="303"/>
                  <a:pt x="628" y="296"/>
                </a:cubicBezTo>
                <a:cubicBezTo>
                  <a:pt x="611" y="291"/>
                  <a:pt x="596" y="289"/>
                  <a:pt x="582" y="289"/>
                </a:cubicBezTo>
                <a:lnTo>
                  <a:pt x="580" y="289"/>
                </a:lnTo>
                <a:cubicBezTo>
                  <a:pt x="576" y="290"/>
                  <a:pt x="571" y="291"/>
                  <a:pt x="566" y="292"/>
                </a:cubicBezTo>
                <a:lnTo>
                  <a:pt x="565" y="293"/>
                </a:lnTo>
                <a:lnTo>
                  <a:pt x="558" y="288"/>
                </a:lnTo>
                <a:lnTo>
                  <a:pt x="560" y="286"/>
                </a:lnTo>
                <a:cubicBezTo>
                  <a:pt x="581" y="268"/>
                  <a:pt x="602" y="249"/>
                  <a:pt x="622" y="229"/>
                </a:cubicBezTo>
                <a:lnTo>
                  <a:pt x="623" y="228"/>
                </a:lnTo>
                <a:lnTo>
                  <a:pt x="625" y="229"/>
                </a:lnTo>
                <a:cubicBezTo>
                  <a:pt x="631" y="234"/>
                  <a:pt x="638" y="242"/>
                  <a:pt x="645" y="249"/>
                </a:cubicBezTo>
                <a:cubicBezTo>
                  <a:pt x="653" y="259"/>
                  <a:pt x="662" y="268"/>
                  <a:pt x="669" y="272"/>
                </a:cubicBezTo>
                <a:cubicBezTo>
                  <a:pt x="727" y="305"/>
                  <a:pt x="760" y="312"/>
                  <a:pt x="777" y="312"/>
                </a:cubicBezTo>
                <a:cubicBezTo>
                  <a:pt x="792" y="312"/>
                  <a:pt x="802" y="307"/>
                  <a:pt x="808" y="298"/>
                </a:cubicBezTo>
                <a:cubicBezTo>
                  <a:pt x="811" y="260"/>
                  <a:pt x="733" y="231"/>
                  <a:pt x="704" y="219"/>
                </a:cubicBezTo>
                <a:lnTo>
                  <a:pt x="701" y="218"/>
                </a:lnTo>
                <a:cubicBezTo>
                  <a:pt x="680" y="210"/>
                  <a:pt x="662" y="207"/>
                  <a:pt x="646" y="210"/>
                </a:cubicBezTo>
                <a:lnTo>
                  <a:pt x="640" y="210"/>
                </a:lnTo>
                <a:lnTo>
                  <a:pt x="644" y="206"/>
                </a:lnTo>
                <a:cubicBezTo>
                  <a:pt x="652" y="198"/>
                  <a:pt x="660" y="189"/>
                  <a:pt x="668" y="180"/>
                </a:cubicBezTo>
                <a:lnTo>
                  <a:pt x="668" y="179"/>
                </a:lnTo>
                <a:lnTo>
                  <a:pt x="670" y="180"/>
                </a:lnTo>
                <a:cubicBezTo>
                  <a:pt x="673" y="181"/>
                  <a:pt x="677" y="182"/>
                  <a:pt x="681" y="183"/>
                </a:cubicBezTo>
                <a:cubicBezTo>
                  <a:pt x="692" y="186"/>
                  <a:pt x="704" y="190"/>
                  <a:pt x="716" y="191"/>
                </a:cubicBezTo>
                <a:cubicBezTo>
                  <a:pt x="747" y="193"/>
                  <a:pt x="781" y="179"/>
                  <a:pt x="804" y="157"/>
                </a:cubicBezTo>
                <a:cubicBezTo>
                  <a:pt x="805" y="156"/>
                  <a:pt x="806" y="155"/>
                  <a:pt x="807" y="153"/>
                </a:cubicBezTo>
                <a:cubicBezTo>
                  <a:pt x="818" y="143"/>
                  <a:pt x="841" y="121"/>
                  <a:pt x="840" y="106"/>
                </a:cubicBezTo>
                <a:cubicBezTo>
                  <a:pt x="840" y="102"/>
                  <a:pt x="839" y="99"/>
                  <a:pt x="836" y="96"/>
                </a:cubicBezTo>
                <a:cubicBezTo>
                  <a:pt x="826" y="88"/>
                  <a:pt x="810" y="86"/>
                  <a:pt x="799" y="86"/>
                </a:cubicBezTo>
                <a:cubicBezTo>
                  <a:pt x="793" y="86"/>
                  <a:pt x="787" y="86"/>
                  <a:pt x="781" y="87"/>
                </a:cubicBezTo>
                <a:cubicBezTo>
                  <a:pt x="760" y="90"/>
                  <a:pt x="737" y="98"/>
                  <a:pt x="715" y="109"/>
                </a:cubicBezTo>
                <a:cubicBezTo>
                  <a:pt x="684" y="126"/>
                  <a:pt x="661" y="153"/>
                  <a:pt x="638" y="180"/>
                </a:cubicBezTo>
                <a:cubicBezTo>
                  <a:pt x="630" y="189"/>
                  <a:pt x="622" y="198"/>
                  <a:pt x="614" y="207"/>
                </a:cubicBezTo>
                <a:lnTo>
                  <a:pt x="611" y="211"/>
                </a:lnTo>
                <a:lnTo>
                  <a:pt x="610" y="198"/>
                </a:lnTo>
                <a:lnTo>
                  <a:pt x="610" y="198"/>
                </a:lnTo>
                <a:cubicBezTo>
                  <a:pt x="612" y="195"/>
                  <a:pt x="614" y="191"/>
                  <a:pt x="617" y="187"/>
                </a:cubicBezTo>
                <a:cubicBezTo>
                  <a:pt x="624" y="175"/>
                  <a:pt x="634" y="160"/>
                  <a:pt x="635" y="154"/>
                </a:cubicBezTo>
                <a:cubicBezTo>
                  <a:pt x="636" y="150"/>
                  <a:pt x="636" y="145"/>
                  <a:pt x="637" y="141"/>
                </a:cubicBezTo>
                <a:cubicBezTo>
                  <a:pt x="640" y="120"/>
                  <a:pt x="642" y="99"/>
                  <a:pt x="642" y="78"/>
                </a:cubicBezTo>
                <a:cubicBezTo>
                  <a:pt x="641" y="53"/>
                  <a:pt x="622" y="0"/>
                  <a:pt x="604" y="0"/>
                </a:cubicBezTo>
                <a:cubicBezTo>
                  <a:pt x="597" y="0"/>
                  <a:pt x="590" y="8"/>
                  <a:pt x="584" y="23"/>
                </a:cubicBezTo>
                <a:cubicBezTo>
                  <a:pt x="565" y="69"/>
                  <a:pt x="564" y="130"/>
                  <a:pt x="582" y="172"/>
                </a:cubicBezTo>
                <a:cubicBezTo>
                  <a:pt x="584" y="178"/>
                  <a:pt x="587" y="183"/>
                  <a:pt x="590" y="188"/>
                </a:cubicBezTo>
                <a:lnTo>
                  <a:pt x="590" y="188"/>
                </a:lnTo>
                <a:lnTo>
                  <a:pt x="593" y="226"/>
                </a:lnTo>
                <a:cubicBezTo>
                  <a:pt x="593" y="229"/>
                  <a:pt x="588" y="234"/>
                  <a:pt x="580" y="241"/>
                </a:cubicBezTo>
                <a:cubicBezTo>
                  <a:pt x="579" y="242"/>
                  <a:pt x="578" y="243"/>
                  <a:pt x="577" y="243"/>
                </a:cubicBezTo>
                <a:cubicBezTo>
                  <a:pt x="565" y="255"/>
                  <a:pt x="553" y="266"/>
                  <a:pt x="541" y="276"/>
                </a:cubicBezTo>
                <a:lnTo>
                  <a:pt x="538" y="278"/>
                </a:lnTo>
                <a:lnTo>
                  <a:pt x="535" y="263"/>
                </a:lnTo>
                <a:lnTo>
                  <a:pt x="536" y="262"/>
                </a:lnTo>
                <a:cubicBezTo>
                  <a:pt x="538" y="261"/>
                  <a:pt x="540" y="259"/>
                  <a:pt x="541" y="257"/>
                </a:cubicBezTo>
                <a:cubicBezTo>
                  <a:pt x="545" y="253"/>
                  <a:pt x="549" y="250"/>
                  <a:pt x="550" y="247"/>
                </a:cubicBezTo>
                <a:cubicBezTo>
                  <a:pt x="556" y="233"/>
                  <a:pt x="560" y="216"/>
                  <a:pt x="560" y="196"/>
                </a:cubicBezTo>
                <a:cubicBezTo>
                  <a:pt x="562" y="162"/>
                  <a:pt x="557" y="128"/>
                  <a:pt x="548" y="97"/>
                </a:cubicBezTo>
                <a:lnTo>
                  <a:pt x="547" y="94"/>
                </a:lnTo>
                <a:cubicBezTo>
                  <a:pt x="542" y="78"/>
                  <a:pt x="529" y="34"/>
                  <a:pt x="508" y="34"/>
                </a:cubicBezTo>
                <a:cubicBezTo>
                  <a:pt x="505" y="34"/>
                  <a:pt x="503" y="35"/>
                  <a:pt x="500" y="36"/>
                </a:cubicBezTo>
                <a:cubicBezTo>
                  <a:pt x="481" y="54"/>
                  <a:pt x="478" y="80"/>
                  <a:pt x="477" y="105"/>
                </a:cubicBezTo>
                <a:cubicBezTo>
                  <a:pt x="476" y="143"/>
                  <a:pt x="477" y="187"/>
                  <a:pt x="492" y="226"/>
                </a:cubicBezTo>
                <a:cubicBezTo>
                  <a:pt x="495" y="234"/>
                  <a:pt x="501" y="241"/>
                  <a:pt x="507" y="249"/>
                </a:cubicBezTo>
                <a:cubicBezTo>
                  <a:pt x="510" y="253"/>
                  <a:pt x="513" y="257"/>
                  <a:pt x="516" y="260"/>
                </a:cubicBezTo>
                <a:lnTo>
                  <a:pt x="516" y="261"/>
                </a:lnTo>
                <a:lnTo>
                  <a:pt x="521" y="292"/>
                </a:lnTo>
                <a:lnTo>
                  <a:pt x="520" y="292"/>
                </a:lnTo>
                <a:cubicBezTo>
                  <a:pt x="499" y="309"/>
                  <a:pt x="474" y="328"/>
                  <a:pt x="444" y="349"/>
                </a:cubicBezTo>
                <a:lnTo>
                  <a:pt x="441" y="351"/>
                </a:lnTo>
                <a:lnTo>
                  <a:pt x="440" y="339"/>
                </a:lnTo>
                <a:lnTo>
                  <a:pt x="441" y="338"/>
                </a:lnTo>
                <a:cubicBezTo>
                  <a:pt x="443" y="336"/>
                  <a:pt x="445" y="333"/>
                  <a:pt x="448" y="331"/>
                </a:cubicBezTo>
                <a:cubicBezTo>
                  <a:pt x="454" y="325"/>
                  <a:pt x="460" y="318"/>
                  <a:pt x="462" y="313"/>
                </a:cubicBezTo>
                <a:cubicBezTo>
                  <a:pt x="467" y="298"/>
                  <a:pt x="470" y="283"/>
                  <a:pt x="471" y="264"/>
                </a:cubicBezTo>
                <a:cubicBezTo>
                  <a:pt x="472" y="229"/>
                  <a:pt x="468" y="196"/>
                  <a:pt x="458" y="169"/>
                </a:cubicBezTo>
                <a:cubicBezTo>
                  <a:pt x="452" y="151"/>
                  <a:pt x="433" y="118"/>
                  <a:pt x="416" y="118"/>
                </a:cubicBezTo>
                <a:cubicBezTo>
                  <a:pt x="410" y="118"/>
                  <a:pt x="404" y="123"/>
                  <a:pt x="400" y="132"/>
                </a:cubicBezTo>
                <a:cubicBezTo>
                  <a:pt x="388" y="157"/>
                  <a:pt x="388" y="184"/>
                  <a:pt x="387" y="211"/>
                </a:cubicBezTo>
                <a:cubicBezTo>
                  <a:pt x="387" y="216"/>
                  <a:pt x="387" y="221"/>
                  <a:pt x="387" y="226"/>
                </a:cubicBezTo>
                <a:cubicBezTo>
                  <a:pt x="385" y="258"/>
                  <a:pt x="396" y="314"/>
                  <a:pt x="420" y="338"/>
                </a:cubicBezTo>
                <a:cubicBezTo>
                  <a:pt x="420" y="338"/>
                  <a:pt x="420" y="339"/>
                  <a:pt x="421" y="339"/>
                </a:cubicBezTo>
                <a:lnTo>
                  <a:pt x="422" y="340"/>
                </a:lnTo>
                <a:lnTo>
                  <a:pt x="422" y="365"/>
                </a:lnTo>
                <a:lnTo>
                  <a:pt x="407" y="375"/>
                </a:lnTo>
                <a:cubicBezTo>
                  <a:pt x="391" y="387"/>
                  <a:pt x="379" y="396"/>
                  <a:pt x="372" y="401"/>
                </a:cubicBezTo>
                <a:cubicBezTo>
                  <a:pt x="371" y="401"/>
                  <a:pt x="361" y="410"/>
                  <a:pt x="343" y="424"/>
                </a:cubicBezTo>
                <a:lnTo>
                  <a:pt x="340" y="427"/>
                </a:lnTo>
                <a:lnTo>
                  <a:pt x="339" y="419"/>
                </a:lnTo>
                <a:lnTo>
                  <a:pt x="340" y="418"/>
                </a:lnTo>
                <a:cubicBezTo>
                  <a:pt x="344" y="415"/>
                  <a:pt x="348" y="411"/>
                  <a:pt x="352" y="408"/>
                </a:cubicBezTo>
                <a:cubicBezTo>
                  <a:pt x="361" y="401"/>
                  <a:pt x="371" y="394"/>
                  <a:pt x="373" y="386"/>
                </a:cubicBezTo>
                <a:cubicBezTo>
                  <a:pt x="381" y="361"/>
                  <a:pt x="381" y="330"/>
                  <a:pt x="380" y="299"/>
                </a:cubicBezTo>
                <a:cubicBezTo>
                  <a:pt x="379" y="272"/>
                  <a:pt x="361" y="203"/>
                  <a:pt x="338" y="203"/>
                </a:cubicBezTo>
                <a:cubicBezTo>
                  <a:pt x="330" y="203"/>
                  <a:pt x="322" y="210"/>
                  <a:pt x="314" y="224"/>
                </a:cubicBezTo>
                <a:cubicBezTo>
                  <a:pt x="313" y="225"/>
                  <a:pt x="268" y="307"/>
                  <a:pt x="309" y="389"/>
                </a:cubicBezTo>
                <a:cubicBezTo>
                  <a:pt x="310" y="392"/>
                  <a:pt x="311" y="394"/>
                  <a:pt x="313" y="397"/>
                </a:cubicBezTo>
                <a:cubicBezTo>
                  <a:pt x="315" y="402"/>
                  <a:pt x="318" y="407"/>
                  <a:pt x="320" y="411"/>
                </a:cubicBezTo>
                <a:lnTo>
                  <a:pt x="321" y="412"/>
                </a:lnTo>
                <a:lnTo>
                  <a:pt x="321" y="442"/>
                </a:lnTo>
                <a:lnTo>
                  <a:pt x="321" y="443"/>
                </a:lnTo>
                <a:cubicBezTo>
                  <a:pt x="304" y="457"/>
                  <a:pt x="287" y="472"/>
                  <a:pt x="271" y="486"/>
                </a:cubicBezTo>
                <a:cubicBezTo>
                  <a:pt x="264" y="490"/>
                  <a:pt x="258" y="495"/>
                  <a:pt x="252" y="498"/>
                </a:cubicBezTo>
                <a:lnTo>
                  <a:pt x="248" y="501"/>
                </a:lnTo>
                <a:lnTo>
                  <a:pt x="249" y="496"/>
                </a:lnTo>
                <a:cubicBezTo>
                  <a:pt x="249" y="492"/>
                  <a:pt x="250" y="488"/>
                  <a:pt x="250" y="484"/>
                </a:cubicBezTo>
                <a:lnTo>
                  <a:pt x="250" y="483"/>
                </a:lnTo>
                <a:lnTo>
                  <a:pt x="250" y="482"/>
                </a:lnTo>
                <a:cubicBezTo>
                  <a:pt x="253" y="480"/>
                  <a:pt x="257" y="477"/>
                  <a:pt x="261" y="473"/>
                </a:cubicBezTo>
                <a:cubicBezTo>
                  <a:pt x="275" y="462"/>
                  <a:pt x="292" y="447"/>
                  <a:pt x="292" y="430"/>
                </a:cubicBezTo>
                <a:cubicBezTo>
                  <a:pt x="290" y="398"/>
                  <a:pt x="288" y="364"/>
                  <a:pt x="280" y="332"/>
                </a:cubicBezTo>
                <a:cubicBezTo>
                  <a:pt x="276" y="316"/>
                  <a:pt x="272" y="300"/>
                  <a:pt x="261" y="289"/>
                </a:cubicBezTo>
                <a:cubicBezTo>
                  <a:pt x="254" y="281"/>
                  <a:pt x="249" y="275"/>
                  <a:pt x="243" y="275"/>
                </a:cubicBezTo>
                <a:cubicBezTo>
                  <a:pt x="237" y="275"/>
                  <a:pt x="230" y="280"/>
                  <a:pt x="222" y="289"/>
                </a:cubicBezTo>
                <a:cubicBezTo>
                  <a:pt x="215" y="297"/>
                  <a:pt x="209" y="308"/>
                  <a:pt x="206" y="316"/>
                </a:cubicBezTo>
                <a:cubicBezTo>
                  <a:pt x="194" y="346"/>
                  <a:pt x="195" y="400"/>
                  <a:pt x="198" y="422"/>
                </a:cubicBezTo>
                <a:cubicBezTo>
                  <a:pt x="200" y="443"/>
                  <a:pt x="206" y="459"/>
                  <a:pt x="215" y="471"/>
                </a:cubicBezTo>
                <a:cubicBezTo>
                  <a:pt x="218" y="476"/>
                  <a:pt x="222" y="478"/>
                  <a:pt x="225" y="481"/>
                </a:cubicBezTo>
                <a:cubicBezTo>
                  <a:pt x="227" y="482"/>
                  <a:pt x="229" y="483"/>
                  <a:pt x="230" y="484"/>
                </a:cubicBezTo>
                <a:lnTo>
                  <a:pt x="231" y="485"/>
                </a:lnTo>
                <a:lnTo>
                  <a:pt x="231" y="486"/>
                </a:lnTo>
                <a:cubicBezTo>
                  <a:pt x="230" y="498"/>
                  <a:pt x="228" y="510"/>
                  <a:pt x="226" y="522"/>
                </a:cubicBezTo>
                <a:lnTo>
                  <a:pt x="226" y="522"/>
                </a:lnTo>
                <a:lnTo>
                  <a:pt x="226" y="523"/>
                </a:lnTo>
                <a:cubicBezTo>
                  <a:pt x="217" y="532"/>
                  <a:pt x="204" y="542"/>
                  <a:pt x="194" y="550"/>
                </a:cubicBezTo>
                <a:cubicBezTo>
                  <a:pt x="188" y="554"/>
                  <a:pt x="183" y="558"/>
                  <a:pt x="180" y="561"/>
                </a:cubicBezTo>
                <a:lnTo>
                  <a:pt x="173" y="567"/>
                </a:lnTo>
                <a:lnTo>
                  <a:pt x="177" y="558"/>
                </a:lnTo>
                <a:cubicBezTo>
                  <a:pt x="190" y="526"/>
                  <a:pt x="195" y="455"/>
                  <a:pt x="173" y="413"/>
                </a:cubicBezTo>
                <a:cubicBezTo>
                  <a:pt x="164" y="396"/>
                  <a:pt x="151" y="385"/>
                  <a:pt x="135" y="382"/>
                </a:cubicBezTo>
                <a:cubicBezTo>
                  <a:pt x="124" y="379"/>
                  <a:pt x="115" y="383"/>
                  <a:pt x="109" y="392"/>
                </a:cubicBezTo>
                <a:cubicBezTo>
                  <a:pt x="85" y="423"/>
                  <a:pt x="93" y="507"/>
                  <a:pt x="99" y="530"/>
                </a:cubicBezTo>
                <a:cubicBezTo>
                  <a:pt x="103" y="542"/>
                  <a:pt x="113" y="552"/>
                  <a:pt x="123" y="561"/>
                </a:cubicBezTo>
                <a:cubicBezTo>
                  <a:pt x="133" y="571"/>
                  <a:pt x="143" y="580"/>
                  <a:pt x="143" y="592"/>
                </a:cubicBezTo>
                <a:cubicBezTo>
                  <a:pt x="143" y="598"/>
                  <a:pt x="139" y="606"/>
                  <a:pt x="131" y="617"/>
                </a:cubicBezTo>
                <a:cubicBezTo>
                  <a:pt x="127" y="621"/>
                  <a:pt x="89" y="665"/>
                  <a:pt x="56" y="703"/>
                </a:cubicBezTo>
                <a:cubicBezTo>
                  <a:pt x="31" y="732"/>
                  <a:pt x="7" y="759"/>
                  <a:pt x="0" y="767"/>
                </a:cubicBezTo>
                <a:lnTo>
                  <a:pt x="15" y="780"/>
                </a:lnTo>
                <a:cubicBezTo>
                  <a:pt x="23" y="772"/>
                  <a:pt x="46" y="745"/>
                  <a:pt x="73" y="71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23" name="Freeform 112"/>
          <p:cNvSpPr/>
          <p:nvPr/>
        </p:nvSpPr>
        <p:spPr>
          <a:xfrm>
            <a:off x="5581800" y="5160960"/>
            <a:ext cx="174600" cy="189000"/>
          </a:xfrm>
          <a:custGeom>
            <a:avLst/>
            <a:gdLst/>
            <a:ahLst/>
            <a:rect l="l" t="t" r="r" b="b"/>
            <a:pathLst>
              <a:path w="658" h="709">
                <a:moveTo>
                  <a:pt x="330" y="151"/>
                </a:moveTo>
                <a:cubicBezTo>
                  <a:pt x="344" y="74"/>
                  <a:pt x="286" y="0"/>
                  <a:pt x="204" y="7"/>
                </a:cubicBezTo>
                <a:cubicBezTo>
                  <a:pt x="165" y="11"/>
                  <a:pt x="164" y="74"/>
                  <a:pt x="204" y="70"/>
                </a:cubicBezTo>
                <a:cubicBezTo>
                  <a:pt x="242" y="66"/>
                  <a:pt x="277" y="94"/>
                  <a:pt x="269" y="135"/>
                </a:cubicBezTo>
                <a:cubicBezTo>
                  <a:pt x="262" y="174"/>
                  <a:pt x="322" y="191"/>
                  <a:pt x="330" y="151"/>
                </a:cubicBezTo>
                <a:close/>
                <a:moveTo>
                  <a:pt x="18" y="266"/>
                </a:moveTo>
                <a:cubicBezTo>
                  <a:pt x="0" y="317"/>
                  <a:pt x="6" y="377"/>
                  <a:pt x="15" y="428"/>
                </a:cubicBezTo>
                <a:cubicBezTo>
                  <a:pt x="32" y="524"/>
                  <a:pt x="79" y="675"/>
                  <a:pt x="186" y="705"/>
                </a:cubicBezTo>
                <a:cubicBezTo>
                  <a:pt x="196" y="708"/>
                  <a:pt x="205" y="709"/>
                  <a:pt x="215" y="709"/>
                </a:cubicBezTo>
                <a:cubicBezTo>
                  <a:pt x="247" y="709"/>
                  <a:pt x="277" y="695"/>
                  <a:pt x="302" y="675"/>
                </a:cubicBezTo>
                <a:cubicBezTo>
                  <a:pt x="331" y="698"/>
                  <a:pt x="360" y="708"/>
                  <a:pt x="387" y="708"/>
                </a:cubicBezTo>
                <a:cubicBezTo>
                  <a:pt x="547" y="708"/>
                  <a:pt x="658" y="353"/>
                  <a:pt x="570" y="235"/>
                </a:cubicBezTo>
                <a:cubicBezTo>
                  <a:pt x="566" y="230"/>
                  <a:pt x="562" y="225"/>
                  <a:pt x="557" y="220"/>
                </a:cubicBezTo>
                <a:cubicBezTo>
                  <a:pt x="524" y="188"/>
                  <a:pt x="475" y="175"/>
                  <a:pt x="425" y="175"/>
                </a:cubicBezTo>
                <a:cubicBezTo>
                  <a:pt x="381" y="175"/>
                  <a:pt x="336" y="186"/>
                  <a:pt x="302" y="204"/>
                </a:cubicBezTo>
                <a:cubicBezTo>
                  <a:pt x="302" y="204"/>
                  <a:pt x="302" y="204"/>
                  <a:pt x="302" y="204"/>
                </a:cubicBezTo>
                <a:cubicBezTo>
                  <a:pt x="297" y="204"/>
                  <a:pt x="275" y="192"/>
                  <a:pt x="272" y="191"/>
                </a:cubicBezTo>
                <a:cubicBezTo>
                  <a:pt x="246" y="182"/>
                  <a:pt x="218" y="177"/>
                  <a:pt x="191" y="176"/>
                </a:cubicBezTo>
                <a:cubicBezTo>
                  <a:pt x="188" y="176"/>
                  <a:pt x="185" y="176"/>
                  <a:pt x="182" y="176"/>
                </a:cubicBezTo>
                <a:cubicBezTo>
                  <a:pt x="117" y="176"/>
                  <a:pt x="41" y="200"/>
                  <a:pt x="18" y="26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24" name="Freeform 113"/>
          <p:cNvSpPr/>
          <p:nvPr/>
        </p:nvSpPr>
        <p:spPr>
          <a:xfrm>
            <a:off x="3603600" y="3564000"/>
            <a:ext cx="114480" cy="206280"/>
          </a:xfrm>
          <a:custGeom>
            <a:avLst/>
            <a:gdLst/>
            <a:ahLst/>
            <a:rect l="l" t="t" r="r" b="b"/>
            <a:pathLst>
              <a:path w="429" h="768">
                <a:moveTo>
                  <a:pt x="366" y="543"/>
                </a:moveTo>
                <a:lnTo>
                  <a:pt x="366" y="702"/>
                </a:lnTo>
                <a:lnTo>
                  <a:pt x="63" y="702"/>
                </a:lnTo>
                <a:lnTo>
                  <a:pt x="63" y="543"/>
                </a:lnTo>
                <a:lnTo>
                  <a:pt x="366" y="543"/>
                </a:lnTo>
                <a:close/>
                <a:moveTo>
                  <a:pt x="366" y="341"/>
                </a:moveTo>
                <a:lnTo>
                  <a:pt x="366" y="500"/>
                </a:lnTo>
                <a:lnTo>
                  <a:pt x="63" y="500"/>
                </a:lnTo>
                <a:lnTo>
                  <a:pt x="63" y="341"/>
                </a:lnTo>
                <a:lnTo>
                  <a:pt x="366" y="341"/>
                </a:lnTo>
                <a:close/>
                <a:moveTo>
                  <a:pt x="0" y="74"/>
                </a:moveTo>
                <a:lnTo>
                  <a:pt x="0" y="78"/>
                </a:lnTo>
                <a:lnTo>
                  <a:pt x="0" y="763"/>
                </a:lnTo>
                <a:lnTo>
                  <a:pt x="0" y="768"/>
                </a:lnTo>
                <a:lnTo>
                  <a:pt x="4" y="768"/>
                </a:lnTo>
                <a:lnTo>
                  <a:pt x="425" y="768"/>
                </a:lnTo>
                <a:lnTo>
                  <a:pt x="429" y="768"/>
                </a:lnTo>
                <a:lnTo>
                  <a:pt x="429" y="763"/>
                </a:lnTo>
                <a:lnTo>
                  <a:pt x="429" y="78"/>
                </a:lnTo>
                <a:lnTo>
                  <a:pt x="429" y="74"/>
                </a:lnTo>
                <a:lnTo>
                  <a:pt x="425" y="74"/>
                </a:lnTo>
                <a:lnTo>
                  <a:pt x="323" y="74"/>
                </a:lnTo>
                <a:lnTo>
                  <a:pt x="323" y="4"/>
                </a:lnTo>
                <a:lnTo>
                  <a:pt x="323" y="0"/>
                </a:lnTo>
                <a:lnTo>
                  <a:pt x="319" y="0"/>
                </a:lnTo>
                <a:lnTo>
                  <a:pt x="110" y="0"/>
                </a:lnTo>
                <a:lnTo>
                  <a:pt x="106" y="0"/>
                </a:lnTo>
                <a:lnTo>
                  <a:pt x="106" y="4"/>
                </a:lnTo>
                <a:lnTo>
                  <a:pt x="106" y="74"/>
                </a:lnTo>
                <a:lnTo>
                  <a:pt x="4" y="74"/>
                </a:lnTo>
                <a:lnTo>
                  <a:pt x="0" y="74"/>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25" name="Freeform 114"/>
          <p:cNvSpPr/>
          <p:nvPr/>
        </p:nvSpPr>
        <p:spPr>
          <a:xfrm>
            <a:off x="3214800" y="3610080"/>
            <a:ext cx="204840" cy="114120"/>
          </a:xfrm>
          <a:custGeom>
            <a:avLst/>
            <a:gdLst/>
            <a:ahLst/>
            <a:rect l="l" t="t" r="r" b="b"/>
            <a:pathLst>
              <a:path w="767" h="429">
                <a:moveTo>
                  <a:pt x="689" y="0"/>
                </a:moveTo>
                <a:lnTo>
                  <a:pt x="693" y="0"/>
                </a:lnTo>
                <a:lnTo>
                  <a:pt x="693" y="5"/>
                </a:lnTo>
                <a:lnTo>
                  <a:pt x="693" y="106"/>
                </a:lnTo>
                <a:lnTo>
                  <a:pt x="763" y="106"/>
                </a:lnTo>
                <a:lnTo>
                  <a:pt x="767" y="106"/>
                </a:lnTo>
                <a:lnTo>
                  <a:pt x="767" y="110"/>
                </a:lnTo>
                <a:lnTo>
                  <a:pt x="767" y="320"/>
                </a:lnTo>
                <a:lnTo>
                  <a:pt x="767" y="324"/>
                </a:lnTo>
                <a:lnTo>
                  <a:pt x="763" y="324"/>
                </a:lnTo>
                <a:lnTo>
                  <a:pt x="693" y="324"/>
                </a:lnTo>
                <a:lnTo>
                  <a:pt x="693" y="425"/>
                </a:lnTo>
                <a:lnTo>
                  <a:pt x="693" y="429"/>
                </a:lnTo>
                <a:lnTo>
                  <a:pt x="689" y="429"/>
                </a:lnTo>
                <a:lnTo>
                  <a:pt x="4" y="429"/>
                </a:lnTo>
                <a:lnTo>
                  <a:pt x="0" y="429"/>
                </a:lnTo>
                <a:lnTo>
                  <a:pt x="0" y="425"/>
                </a:lnTo>
                <a:lnTo>
                  <a:pt x="0" y="5"/>
                </a:lnTo>
                <a:lnTo>
                  <a:pt x="0" y="0"/>
                </a:lnTo>
                <a:lnTo>
                  <a:pt x="4" y="0"/>
                </a:lnTo>
                <a:lnTo>
                  <a:pt x="689" y="0"/>
                </a:lnTo>
                <a:close/>
              </a:path>
            </a:pathLst>
          </a:custGeom>
          <a:solidFill>
            <a:srgbClr val="a6a6a6"/>
          </a:solidFill>
          <a:ln w="0">
            <a:noFill/>
          </a:ln>
        </p:spPr>
        <p:style>
          <a:lnRef idx="0"/>
          <a:fillRef idx="0"/>
          <a:effectRef idx="0"/>
          <a:fontRef idx="minor"/>
        </p:style>
        <p:txBody>
          <a:bodyPr lIns="145800" rIns="145800" tIns="41400" bIns="41400" anchor="t">
            <a:noAutofit/>
          </a:bodyPr>
          <a:p>
            <a:endParaRPr b="0" lang="en-US" sz="1800" spc="-1" strike="noStrike">
              <a:solidFill>
                <a:srgbClr val="000000"/>
              </a:solidFill>
              <a:latin typeface="Calibri"/>
            </a:endParaRPr>
          </a:p>
        </p:txBody>
      </p:sp>
      <p:sp>
        <p:nvSpPr>
          <p:cNvPr id="1726" name="Freeform 115"/>
          <p:cNvSpPr/>
          <p:nvPr/>
        </p:nvSpPr>
        <p:spPr>
          <a:xfrm>
            <a:off x="2577960" y="3610080"/>
            <a:ext cx="204840" cy="114120"/>
          </a:xfrm>
          <a:custGeom>
            <a:avLst/>
            <a:gdLst/>
            <a:ahLst/>
            <a:rect l="l" t="t" r="r" b="b"/>
            <a:pathLst>
              <a:path w="767" h="429">
                <a:moveTo>
                  <a:pt x="225" y="366"/>
                </a:moveTo>
                <a:lnTo>
                  <a:pt x="225" y="63"/>
                </a:lnTo>
                <a:lnTo>
                  <a:pt x="66" y="63"/>
                </a:lnTo>
                <a:lnTo>
                  <a:pt x="66" y="366"/>
                </a:lnTo>
                <a:lnTo>
                  <a:pt x="225" y="366"/>
                </a:lnTo>
                <a:close/>
                <a:moveTo>
                  <a:pt x="427" y="366"/>
                </a:moveTo>
                <a:lnTo>
                  <a:pt x="427" y="63"/>
                </a:lnTo>
                <a:lnTo>
                  <a:pt x="268" y="63"/>
                </a:lnTo>
                <a:lnTo>
                  <a:pt x="268" y="366"/>
                </a:lnTo>
                <a:lnTo>
                  <a:pt x="427" y="366"/>
                </a:lnTo>
                <a:close/>
                <a:moveTo>
                  <a:pt x="629" y="366"/>
                </a:moveTo>
                <a:lnTo>
                  <a:pt x="629" y="63"/>
                </a:lnTo>
                <a:lnTo>
                  <a:pt x="470" y="63"/>
                </a:lnTo>
                <a:lnTo>
                  <a:pt x="470" y="366"/>
                </a:lnTo>
                <a:lnTo>
                  <a:pt x="629" y="366"/>
                </a:lnTo>
                <a:close/>
                <a:moveTo>
                  <a:pt x="694" y="0"/>
                </a:moveTo>
                <a:lnTo>
                  <a:pt x="694" y="5"/>
                </a:lnTo>
                <a:lnTo>
                  <a:pt x="694" y="106"/>
                </a:lnTo>
                <a:lnTo>
                  <a:pt x="763" y="106"/>
                </a:lnTo>
                <a:lnTo>
                  <a:pt x="767" y="106"/>
                </a:lnTo>
                <a:lnTo>
                  <a:pt x="767" y="110"/>
                </a:lnTo>
                <a:lnTo>
                  <a:pt x="767" y="319"/>
                </a:lnTo>
                <a:lnTo>
                  <a:pt x="767" y="324"/>
                </a:lnTo>
                <a:lnTo>
                  <a:pt x="763" y="324"/>
                </a:lnTo>
                <a:lnTo>
                  <a:pt x="694" y="324"/>
                </a:lnTo>
                <a:lnTo>
                  <a:pt x="694" y="425"/>
                </a:lnTo>
                <a:lnTo>
                  <a:pt x="694" y="429"/>
                </a:lnTo>
                <a:lnTo>
                  <a:pt x="690" y="429"/>
                </a:lnTo>
                <a:lnTo>
                  <a:pt x="4" y="429"/>
                </a:lnTo>
                <a:lnTo>
                  <a:pt x="0" y="429"/>
                </a:lnTo>
                <a:lnTo>
                  <a:pt x="0" y="425"/>
                </a:lnTo>
                <a:lnTo>
                  <a:pt x="0" y="5"/>
                </a:lnTo>
                <a:lnTo>
                  <a:pt x="0" y="0"/>
                </a:lnTo>
                <a:lnTo>
                  <a:pt x="4" y="0"/>
                </a:lnTo>
                <a:lnTo>
                  <a:pt x="690" y="0"/>
                </a:lnTo>
                <a:lnTo>
                  <a:pt x="694" y="0"/>
                </a:lnTo>
                <a:close/>
              </a:path>
            </a:pathLst>
          </a:custGeom>
          <a:solidFill>
            <a:srgbClr val="a6a6a6"/>
          </a:solidFill>
          <a:ln w="0">
            <a:noFill/>
          </a:ln>
        </p:spPr>
        <p:style>
          <a:lnRef idx="0"/>
          <a:fillRef idx="0"/>
          <a:effectRef idx="0"/>
          <a:fontRef idx="minor"/>
        </p:style>
        <p:txBody>
          <a:bodyPr lIns="145800" rIns="145800" tIns="41400" bIns="41400" anchor="t">
            <a:noAutofit/>
          </a:bodyPr>
          <a:p>
            <a:endParaRPr b="0" lang="en-US" sz="1800" spc="-1" strike="noStrike">
              <a:solidFill>
                <a:srgbClr val="000000"/>
              </a:solidFill>
              <a:latin typeface="Calibri"/>
            </a:endParaRPr>
          </a:p>
        </p:txBody>
      </p:sp>
      <p:sp>
        <p:nvSpPr>
          <p:cNvPr id="1727" name="Freeform 116"/>
          <p:cNvSpPr/>
          <p:nvPr/>
        </p:nvSpPr>
        <p:spPr>
          <a:xfrm>
            <a:off x="8373960" y="852480"/>
            <a:ext cx="198720" cy="189000"/>
          </a:xfrm>
          <a:custGeom>
            <a:avLst/>
            <a:gdLst/>
            <a:ahLst/>
            <a:rect l="l" t="t" r="r" b="b"/>
            <a:pathLst>
              <a:path w="739" h="703">
                <a:moveTo>
                  <a:pt x="479" y="416"/>
                </a:moveTo>
                <a:lnTo>
                  <a:pt x="515" y="591"/>
                </a:lnTo>
                <a:lnTo>
                  <a:pt x="369" y="528"/>
                </a:lnTo>
                <a:lnTo>
                  <a:pt x="220" y="592"/>
                </a:lnTo>
                <a:lnTo>
                  <a:pt x="248" y="416"/>
                </a:lnTo>
                <a:lnTo>
                  <a:pt x="128" y="300"/>
                </a:lnTo>
                <a:lnTo>
                  <a:pt x="289" y="270"/>
                </a:lnTo>
                <a:lnTo>
                  <a:pt x="370" y="122"/>
                </a:lnTo>
                <a:lnTo>
                  <a:pt x="450" y="271"/>
                </a:lnTo>
                <a:lnTo>
                  <a:pt x="607" y="299"/>
                </a:lnTo>
                <a:lnTo>
                  <a:pt x="479" y="416"/>
                </a:lnTo>
                <a:close/>
                <a:moveTo>
                  <a:pt x="669" y="213"/>
                </a:moveTo>
                <a:lnTo>
                  <a:pt x="513" y="184"/>
                </a:lnTo>
                <a:lnTo>
                  <a:pt x="437" y="44"/>
                </a:lnTo>
                <a:cubicBezTo>
                  <a:pt x="422" y="16"/>
                  <a:pt x="397" y="0"/>
                  <a:pt x="370" y="0"/>
                </a:cubicBezTo>
                <a:cubicBezTo>
                  <a:pt x="342" y="0"/>
                  <a:pt x="318" y="16"/>
                  <a:pt x="302" y="44"/>
                </a:cubicBezTo>
                <a:lnTo>
                  <a:pt x="226" y="184"/>
                </a:lnTo>
                <a:lnTo>
                  <a:pt x="70" y="212"/>
                </a:lnTo>
                <a:cubicBezTo>
                  <a:pt x="39" y="218"/>
                  <a:pt x="16" y="236"/>
                  <a:pt x="8" y="263"/>
                </a:cubicBezTo>
                <a:cubicBezTo>
                  <a:pt x="0" y="289"/>
                  <a:pt x="8" y="317"/>
                  <a:pt x="32" y="340"/>
                </a:cubicBezTo>
                <a:lnTo>
                  <a:pt x="145" y="450"/>
                </a:lnTo>
                <a:lnTo>
                  <a:pt x="119" y="611"/>
                </a:lnTo>
                <a:cubicBezTo>
                  <a:pt x="114" y="637"/>
                  <a:pt x="120" y="661"/>
                  <a:pt x="135" y="678"/>
                </a:cubicBezTo>
                <a:cubicBezTo>
                  <a:pt x="148" y="694"/>
                  <a:pt x="167" y="703"/>
                  <a:pt x="189" y="703"/>
                </a:cubicBezTo>
                <a:lnTo>
                  <a:pt x="189" y="703"/>
                </a:lnTo>
                <a:cubicBezTo>
                  <a:pt x="201" y="703"/>
                  <a:pt x="213" y="700"/>
                  <a:pt x="225" y="695"/>
                </a:cubicBezTo>
                <a:lnTo>
                  <a:pt x="369" y="633"/>
                </a:lnTo>
                <a:lnTo>
                  <a:pt x="513" y="695"/>
                </a:lnTo>
                <a:cubicBezTo>
                  <a:pt x="526" y="700"/>
                  <a:pt x="538" y="703"/>
                  <a:pt x="550" y="703"/>
                </a:cubicBezTo>
                <a:cubicBezTo>
                  <a:pt x="571" y="703"/>
                  <a:pt x="590" y="694"/>
                  <a:pt x="603" y="678"/>
                </a:cubicBezTo>
                <a:cubicBezTo>
                  <a:pt x="618" y="661"/>
                  <a:pt x="623" y="636"/>
                  <a:pt x="617" y="610"/>
                </a:cubicBezTo>
                <a:lnTo>
                  <a:pt x="584" y="451"/>
                </a:lnTo>
                <a:lnTo>
                  <a:pt x="705" y="340"/>
                </a:lnTo>
                <a:cubicBezTo>
                  <a:pt x="729" y="318"/>
                  <a:pt x="739" y="290"/>
                  <a:pt x="731" y="264"/>
                </a:cubicBezTo>
                <a:cubicBezTo>
                  <a:pt x="724" y="237"/>
                  <a:pt x="701" y="219"/>
                  <a:pt x="669" y="21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28" name="Freeform 117"/>
          <p:cNvSpPr/>
          <p:nvPr/>
        </p:nvSpPr>
        <p:spPr>
          <a:xfrm>
            <a:off x="2909880" y="3614760"/>
            <a:ext cx="187200" cy="104760"/>
          </a:xfrm>
          <a:custGeom>
            <a:avLst/>
            <a:gdLst/>
            <a:ahLst/>
            <a:rect l="l" t="t" r="r" b="b"/>
            <a:pathLst>
              <a:path w="702" h="392">
                <a:moveTo>
                  <a:pt x="61" y="334"/>
                </a:moveTo>
                <a:lnTo>
                  <a:pt x="61" y="57"/>
                </a:lnTo>
                <a:lnTo>
                  <a:pt x="206" y="57"/>
                </a:lnTo>
                <a:lnTo>
                  <a:pt x="206" y="334"/>
                </a:lnTo>
                <a:lnTo>
                  <a:pt x="61" y="334"/>
                </a:lnTo>
                <a:close/>
                <a:moveTo>
                  <a:pt x="635" y="96"/>
                </a:moveTo>
                <a:lnTo>
                  <a:pt x="635" y="4"/>
                </a:lnTo>
                <a:lnTo>
                  <a:pt x="635" y="0"/>
                </a:lnTo>
                <a:lnTo>
                  <a:pt x="631" y="0"/>
                </a:lnTo>
                <a:lnTo>
                  <a:pt x="4" y="0"/>
                </a:lnTo>
                <a:lnTo>
                  <a:pt x="0" y="0"/>
                </a:lnTo>
                <a:lnTo>
                  <a:pt x="0" y="4"/>
                </a:lnTo>
                <a:lnTo>
                  <a:pt x="0" y="388"/>
                </a:lnTo>
                <a:lnTo>
                  <a:pt x="0" y="392"/>
                </a:lnTo>
                <a:lnTo>
                  <a:pt x="4" y="392"/>
                </a:lnTo>
                <a:lnTo>
                  <a:pt x="631" y="392"/>
                </a:lnTo>
                <a:lnTo>
                  <a:pt x="635" y="392"/>
                </a:lnTo>
                <a:lnTo>
                  <a:pt x="635" y="388"/>
                </a:lnTo>
                <a:lnTo>
                  <a:pt x="635" y="295"/>
                </a:lnTo>
                <a:lnTo>
                  <a:pt x="698" y="295"/>
                </a:lnTo>
                <a:lnTo>
                  <a:pt x="702" y="295"/>
                </a:lnTo>
                <a:lnTo>
                  <a:pt x="702" y="292"/>
                </a:lnTo>
                <a:lnTo>
                  <a:pt x="702" y="100"/>
                </a:lnTo>
                <a:lnTo>
                  <a:pt x="702" y="96"/>
                </a:lnTo>
                <a:lnTo>
                  <a:pt x="698" y="96"/>
                </a:lnTo>
                <a:lnTo>
                  <a:pt x="635" y="96"/>
                </a:lnTo>
                <a:close/>
              </a:path>
            </a:pathLst>
          </a:custGeom>
          <a:solidFill>
            <a:srgbClr val="a6a6a6"/>
          </a:solidFill>
          <a:ln w="0">
            <a:noFill/>
          </a:ln>
        </p:spPr>
        <p:style>
          <a:lnRef idx="0"/>
          <a:fillRef idx="0"/>
          <a:effectRef idx="0"/>
          <a:fontRef idx="minor"/>
        </p:style>
        <p:txBody>
          <a:bodyPr lIns="145800" rIns="145800" tIns="32040" bIns="32040" anchor="t">
            <a:noAutofit/>
          </a:bodyPr>
          <a:p>
            <a:endParaRPr b="0" lang="en-US" sz="1800" spc="-1" strike="noStrike">
              <a:solidFill>
                <a:srgbClr val="000000"/>
              </a:solidFill>
              <a:latin typeface="Calibri"/>
            </a:endParaRPr>
          </a:p>
        </p:txBody>
      </p:sp>
      <p:sp>
        <p:nvSpPr>
          <p:cNvPr id="1729" name="Freeform 118"/>
          <p:cNvSpPr/>
          <p:nvPr/>
        </p:nvSpPr>
        <p:spPr>
          <a:xfrm>
            <a:off x="9445680" y="1969920"/>
            <a:ext cx="109440" cy="220680"/>
          </a:xfrm>
          <a:custGeom>
            <a:avLst/>
            <a:gdLst/>
            <a:ahLst/>
            <a:rect l="l" t="t" r="r" b="b"/>
            <a:pathLst>
              <a:path w="414" h="819">
                <a:moveTo>
                  <a:pt x="0" y="478"/>
                </a:moveTo>
                <a:lnTo>
                  <a:pt x="123" y="478"/>
                </a:lnTo>
                <a:lnTo>
                  <a:pt x="78" y="819"/>
                </a:lnTo>
                <a:lnTo>
                  <a:pt x="414" y="321"/>
                </a:lnTo>
                <a:lnTo>
                  <a:pt x="300" y="321"/>
                </a:lnTo>
                <a:lnTo>
                  <a:pt x="349" y="0"/>
                </a:lnTo>
                <a:lnTo>
                  <a:pt x="0" y="478"/>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30" name="Freeform 119"/>
          <p:cNvSpPr/>
          <p:nvPr/>
        </p:nvSpPr>
        <p:spPr>
          <a:xfrm>
            <a:off x="8034480" y="3890880"/>
            <a:ext cx="180720" cy="144720"/>
          </a:xfrm>
          <a:custGeom>
            <a:avLst/>
            <a:gdLst/>
            <a:ahLst/>
            <a:rect l="l" t="t" r="r" b="b"/>
            <a:pathLst>
              <a:path w="681" h="540">
                <a:moveTo>
                  <a:pt x="610" y="58"/>
                </a:moveTo>
                <a:cubicBezTo>
                  <a:pt x="547" y="0"/>
                  <a:pt x="446" y="0"/>
                  <a:pt x="383" y="58"/>
                </a:cubicBezTo>
                <a:lnTo>
                  <a:pt x="340" y="97"/>
                </a:lnTo>
                <a:lnTo>
                  <a:pt x="298" y="58"/>
                </a:lnTo>
                <a:cubicBezTo>
                  <a:pt x="235" y="0"/>
                  <a:pt x="133" y="0"/>
                  <a:pt x="71" y="58"/>
                </a:cubicBezTo>
                <a:cubicBezTo>
                  <a:pt x="0" y="122"/>
                  <a:pt x="0" y="227"/>
                  <a:pt x="71" y="292"/>
                </a:cubicBezTo>
                <a:lnTo>
                  <a:pt x="340" y="540"/>
                </a:lnTo>
                <a:lnTo>
                  <a:pt x="610" y="292"/>
                </a:lnTo>
                <a:cubicBezTo>
                  <a:pt x="681" y="227"/>
                  <a:pt x="681" y="122"/>
                  <a:pt x="610" y="58"/>
                </a:cubicBezTo>
                <a:close/>
              </a:path>
            </a:pathLst>
          </a:custGeom>
          <a:solidFill>
            <a:srgbClr val="a6a6a6"/>
          </a:solidFill>
          <a:ln w="0">
            <a:noFill/>
          </a:ln>
        </p:spPr>
        <p:style>
          <a:lnRef idx="0"/>
          <a:fillRef idx="0"/>
          <a:effectRef idx="0"/>
          <a:fontRef idx="minor"/>
        </p:style>
        <p:txBody>
          <a:bodyPr lIns="145800" rIns="145800" tIns="72000" bIns="72000" anchor="t">
            <a:noAutofit/>
          </a:bodyPr>
          <a:p>
            <a:endParaRPr b="0" lang="en-US" sz="1800" spc="-1" strike="noStrike">
              <a:solidFill>
                <a:srgbClr val="000000"/>
              </a:solidFill>
              <a:latin typeface="Calibri"/>
            </a:endParaRPr>
          </a:p>
        </p:txBody>
      </p:sp>
      <p:sp>
        <p:nvSpPr>
          <p:cNvPr id="1731" name="Freeform 120"/>
          <p:cNvSpPr/>
          <p:nvPr/>
        </p:nvSpPr>
        <p:spPr>
          <a:xfrm>
            <a:off x="5904000" y="1749600"/>
            <a:ext cx="150840" cy="125280"/>
          </a:xfrm>
          <a:custGeom>
            <a:avLst/>
            <a:gdLst/>
            <a:ahLst/>
            <a:rect l="l" t="t" r="r" b="b"/>
            <a:pathLst>
              <a:path w="567" h="466">
                <a:moveTo>
                  <a:pt x="286" y="85"/>
                </a:moveTo>
                <a:cubicBezTo>
                  <a:pt x="382" y="86"/>
                  <a:pt x="442" y="80"/>
                  <a:pt x="450" y="186"/>
                </a:cubicBezTo>
                <a:lnTo>
                  <a:pt x="566" y="186"/>
                </a:lnTo>
                <a:cubicBezTo>
                  <a:pt x="566" y="22"/>
                  <a:pt x="423" y="0"/>
                  <a:pt x="283" y="0"/>
                </a:cubicBezTo>
                <a:cubicBezTo>
                  <a:pt x="144" y="0"/>
                  <a:pt x="1" y="22"/>
                  <a:pt x="1" y="186"/>
                </a:cubicBezTo>
                <a:lnTo>
                  <a:pt x="116" y="186"/>
                </a:lnTo>
                <a:cubicBezTo>
                  <a:pt x="125" y="78"/>
                  <a:pt x="192" y="84"/>
                  <a:pt x="286" y="85"/>
                </a:cubicBezTo>
                <a:close/>
                <a:moveTo>
                  <a:pt x="344" y="254"/>
                </a:moveTo>
                <a:cubicBezTo>
                  <a:pt x="335" y="254"/>
                  <a:pt x="328" y="247"/>
                  <a:pt x="328" y="238"/>
                </a:cubicBezTo>
                <a:cubicBezTo>
                  <a:pt x="328" y="229"/>
                  <a:pt x="335" y="222"/>
                  <a:pt x="344" y="222"/>
                </a:cubicBezTo>
                <a:cubicBezTo>
                  <a:pt x="352" y="222"/>
                  <a:pt x="360" y="229"/>
                  <a:pt x="360" y="238"/>
                </a:cubicBezTo>
                <a:cubicBezTo>
                  <a:pt x="360" y="247"/>
                  <a:pt x="352" y="254"/>
                  <a:pt x="344" y="254"/>
                </a:cubicBezTo>
                <a:close/>
                <a:moveTo>
                  <a:pt x="344" y="309"/>
                </a:moveTo>
                <a:cubicBezTo>
                  <a:pt x="335" y="309"/>
                  <a:pt x="328" y="302"/>
                  <a:pt x="328" y="293"/>
                </a:cubicBezTo>
                <a:cubicBezTo>
                  <a:pt x="328" y="284"/>
                  <a:pt x="335" y="277"/>
                  <a:pt x="344" y="277"/>
                </a:cubicBezTo>
                <a:cubicBezTo>
                  <a:pt x="352" y="277"/>
                  <a:pt x="360" y="284"/>
                  <a:pt x="360" y="293"/>
                </a:cubicBezTo>
                <a:cubicBezTo>
                  <a:pt x="360" y="302"/>
                  <a:pt x="352" y="309"/>
                  <a:pt x="344" y="309"/>
                </a:cubicBezTo>
                <a:close/>
                <a:moveTo>
                  <a:pt x="344" y="365"/>
                </a:moveTo>
                <a:cubicBezTo>
                  <a:pt x="335" y="365"/>
                  <a:pt x="328" y="357"/>
                  <a:pt x="328" y="348"/>
                </a:cubicBezTo>
                <a:cubicBezTo>
                  <a:pt x="328" y="340"/>
                  <a:pt x="335" y="332"/>
                  <a:pt x="344" y="332"/>
                </a:cubicBezTo>
                <a:cubicBezTo>
                  <a:pt x="352" y="332"/>
                  <a:pt x="360" y="340"/>
                  <a:pt x="360" y="348"/>
                </a:cubicBezTo>
                <a:cubicBezTo>
                  <a:pt x="360" y="357"/>
                  <a:pt x="352" y="365"/>
                  <a:pt x="344" y="365"/>
                </a:cubicBezTo>
                <a:close/>
                <a:moveTo>
                  <a:pt x="277" y="254"/>
                </a:moveTo>
                <a:cubicBezTo>
                  <a:pt x="269" y="254"/>
                  <a:pt x="261" y="247"/>
                  <a:pt x="261" y="238"/>
                </a:cubicBezTo>
                <a:cubicBezTo>
                  <a:pt x="261" y="229"/>
                  <a:pt x="269" y="222"/>
                  <a:pt x="277" y="222"/>
                </a:cubicBezTo>
                <a:cubicBezTo>
                  <a:pt x="286" y="222"/>
                  <a:pt x="294" y="229"/>
                  <a:pt x="294" y="238"/>
                </a:cubicBezTo>
                <a:cubicBezTo>
                  <a:pt x="294" y="247"/>
                  <a:pt x="286" y="254"/>
                  <a:pt x="277" y="254"/>
                </a:cubicBezTo>
                <a:close/>
                <a:moveTo>
                  <a:pt x="277" y="309"/>
                </a:moveTo>
                <a:cubicBezTo>
                  <a:pt x="269" y="309"/>
                  <a:pt x="261" y="302"/>
                  <a:pt x="261" y="293"/>
                </a:cubicBezTo>
                <a:cubicBezTo>
                  <a:pt x="261" y="284"/>
                  <a:pt x="269" y="277"/>
                  <a:pt x="277" y="277"/>
                </a:cubicBezTo>
                <a:cubicBezTo>
                  <a:pt x="286" y="277"/>
                  <a:pt x="294" y="284"/>
                  <a:pt x="294" y="293"/>
                </a:cubicBezTo>
                <a:cubicBezTo>
                  <a:pt x="294" y="302"/>
                  <a:pt x="286" y="309"/>
                  <a:pt x="277" y="309"/>
                </a:cubicBezTo>
                <a:close/>
                <a:moveTo>
                  <a:pt x="277" y="365"/>
                </a:moveTo>
                <a:cubicBezTo>
                  <a:pt x="269" y="365"/>
                  <a:pt x="261" y="357"/>
                  <a:pt x="261" y="348"/>
                </a:cubicBezTo>
                <a:cubicBezTo>
                  <a:pt x="261" y="340"/>
                  <a:pt x="269" y="332"/>
                  <a:pt x="277" y="332"/>
                </a:cubicBezTo>
                <a:cubicBezTo>
                  <a:pt x="286" y="332"/>
                  <a:pt x="294" y="340"/>
                  <a:pt x="294" y="348"/>
                </a:cubicBezTo>
                <a:cubicBezTo>
                  <a:pt x="294" y="357"/>
                  <a:pt x="286" y="365"/>
                  <a:pt x="277" y="365"/>
                </a:cubicBezTo>
                <a:close/>
                <a:moveTo>
                  <a:pt x="211" y="254"/>
                </a:moveTo>
                <a:cubicBezTo>
                  <a:pt x="202" y="254"/>
                  <a:pt x="195" y="247"/>
                  <a:pt x="195" y="238"/>
                </a:cubicBezTo>
                <a:cubicBezTo>
                  <a:pt x="195" y="229"/>
                  <a:pt x="202" y="222"/>
                  <a:pt x="211" y="222"/>
                </a:cubicBezTo>
                <a:cubicBezTo>
                  <a:pt x="220" y="222"/>
                  <a:pt x="227" y="229"/>
                  <a:pt x="227" y="238"/>
                </a:cubicBezTo>
                <a:cubicBezTo>
                  <a:pt x="227" y="247"/>
                  <a:pt x="220" y="254"/>
                  <a:pt x="211" y="254"/>
                </a:cubicBezTo>
                <a:close/>
                <a:moveTo>
                  <a:pt x="211" y="309"/>
                </a:moveTo>
                <a:cubicBezTo>
                  <a:pt x="202" y="309"/>
                  <a:pt x="195" y="302"/>
                  <a:pt x="195" y="293"/>
                </a:cubicBezTo>
                <a:cubicBezTo>
                  <a:pt x="195" y="284"/>
                  <a:pt x="202" y="277"/>
                  <a:pt x="211" y="277"/>
                </a:cubicBezTo>
                <a:cubicBezTo>
                  <a:pt x="220" y="277"/>
                  <a:pt x="227" y="284"/>
                  <a:pt x="227" y="293"/>
                </a:cubicBezTo>
                <a:cubicBezTo>
                  <a:pt x="227" y="302"/>
                  <a:pt x="220" y="309"/>
                  <a:pt x="211" y="309"/>
                </a:cubicBezTo>
                <a:close/>
                <a:moveTo>
                  <a:pt x="211" y="365"/>
                </a:moveTo>
                <a:cubicBezTo>
                  <a:pt x="202" y="365"/>
                  <a:pt x="195" y="357"/>
                  <a:pt x="195" y="348"/>
                </a:cubicBezTo>
                <a:cubicBezTo>
                  <a:pt x="195" y="340"/>
                  <a:pt x="202" y="332"/>
                  <a:pt x="211" y="332"/>
                </a:cubicBezTo>
                <a:cubicBezTo>
                  <a:pt x="220" y="332"/>
                  <a:pt x="227" y="340"/>
                  <a:pt x="227" y="348"/>
                </a:cubicBezTo>
                <a:cubicBezTo>
                  <a:pt x="227" y="357"/>
                  <a:pt x="220" y="365"/>
                  <a:pt x="211" y="365"/>
                </a:cubicBezTo>
                <a:close/>
                <a:moveTo>
                  <a:pt x="394" y="171"/>
                </a:moveTo>
                <a:lnTo>
                  <a:pt x="394" y="155"/>
                </a:lnTo>
                <a:cubicBezTo>
                  <a:pt x="394" y="147"/>
                  <a:pt x="385" y="147"/>
                  <a:pt x="375" y="147"/>
                </a:cubicBezTo>
                <a:lnTo>
                  <a:pt x="358" y="147"/>
                </a:lnTo>
                <a:cubicBezTo>
                  <a:pt x="347" y="147"/>
                  <a:pt x="339" y="147"/>
                  <a:pt x="339" y="155"/>
                </a:cubicBezTo>
                <a:lnTo>
                  <a:pt x="339" y="169"/>
                </a:lnTo>
                <a:lnTo>
                  <a:pt x="339" y="180"/>
                </a:lnTo>
                <a:lnTo>
                  <a:pt x="217" y="180"/>
                </a:lnTo>
                <a:lnTo>
                  <a:pt x="217" y="169"/>
                </a:lnTo>
                <a:lnTo>
                  <a:pt x="217" y="155"/>
                </a:lnTo>
                <a:cubicBezTo>
                  <a:pt x="217" y="147"/>
                  <a:pt x="209" y="147"/>
                  <a:pt x="198" y="147"/>
                </a:cubicBezTo>
                <a:lnTo>
                  <a:pt x="181" y="147"/>
                </a:lnTo>
                <a:cubicBezTo>
                  <a:pt x="171" y="147"/>
                  <a:pt x="162" y="147"/>
                  <a:pt x="162" y="155"/>
                </a:cubicBezTo>
                <a:lnTo>
                  <a:pt x="162" y="171"/>
                </a:lnTo>
                <a:lnTo>
                  <a:pt x="162" y="186"/>
                </a:lnTo>
                <a:cubicBezTo>
                  <a:pt x="135" y="214"/>
                  <a:pt x="44" y="336"/>
                  <a:pt x="41" y="351"/>
                </a:cubicBezTo>
                <a:lnTo>
                  <a:pt x="41" y="450"/>
                </a:lnTo>
                <a:cubicBezTo>
                  <a:pt x="41" y="459"/>
                  <a:pt x="48" y="466"/>
                  <a:pt x="57" y="466"/>
                </a:cubicBezTo>
                <a:lnTo>
                  <a:pt x="498" y="466"/>
                </a:lnTo>
                <a:cubicBezTo>
                  <a:pt x="507" y="466"/>
                  <a:pt x="515" y="459"/>
                  <a:pt x="515" y="450"/>
                </a:cubicBezTo>
                <a:lnTo>
                  <a:pt x="515" y="351"/>
                </a:lnTo>
                <a:cubicBezTo>
                  <a:pt x="512" y="336"/>
                  <a:pt x="421" y="214"/>
                  <a:pt x="394" y="186"/>
                </a:cubicBezTo>
                <a:lnTo>
                  <a:pt x="394" y="171"/>
                </a:lnTo>
                <a:close/>
                <a:moveTo>
                  <a:pt x="451" y="199"/>
                </a:moveTo>
                <a:lnTo>
                  <a:pt x="449" y="199"/>
                </a:lnTo>
                <a:cubicBezTo>
                  <a:pt x="449" y="204"/>
                  <a:pt x="450" y="209"/>
                  <a:pt x="451" y="213"/>
                </a:cubicBezTo>
                <a:cubicBezTo>
                  <a:pt x="456" y="238"/>
                  <a:pt x="480" y="237"/>
                  <a:pt x="508" y="237"/>
                </a:cubicBezTo>
                <a:cubicBezTo>
                  <a:pt x="540" y="237"/>
                  <a:pt x="567" y="239"/>
                  <a:pt x="567" y="199"/>
                </a:cubicBezTo>
                <a:lnTo>
                  <a:pt x="451" y="199"/>
                </a:lnTo>
                <a:close/>
                <a:moveTo>
                  <a:pt x="58" y="239"/>
                </a:moveTo>
                <a:cubicBezTo>
                  <a:pt x="87" y="239"/>
                  <a:pt x="110" y="240"/>
                  <a:pt x="115" y="213"/>
                </a:cubicBezTo>
                <a:cubicBezTo>
                  <a:pt x="116" y="209"/>
                  <a:pt x="117" y="204"/>
                  <a:pt x="117" y="199"/>
                </a:cubicBezTo>
                <a:lnTo>
                  <a:pt x="115" y="199"/>
                </a:lnTo>
                <a:lnTo>
                  <a:pt x="0" y="199"/>
                </a:lnTo>
                <a:cubicBezTo>
                  <a:pt x="0" y="241"/>
                  <a:pt x="26" y="239"/>
                  <a:pt x="58" y="239"/>
                </a:cubicBezTo>
                <a:close/>
              </a:path>
            </a:pathLst>
          </a:custGeom>
          <a:solidFill>
            <a:srgbClr val="a6a6a6"/>
          </a:solidFill>
          <a:ln w="0">
            <a:noFill/>
          </a:ln>
        </p:spPr>
        <p:style>
          <a:lnRef idx="0"/>
          <a:fillRef idx="0"/>
          <a:effectRef idx="0"/>
          <a:fontRef idx="minor"/>
        </p:style>
        <p:txBody>
          <a:bodyPr lIns="145800" rIns="145800" tIns="52560" bIns="52560" anchor="t">
            <a:noAutofit/>
          </a:bodyPr>
          <a:p>
            <a:endParaRPr b="0" lang="en-US" sz="1800" spc="-1" strike="noStrike">
              <a:solidFill>
                <a:srgbClr val="000000"/>
              </a:solidFill>
              <a:latin typeface="Calibri"/>
            </a:endParaRPr>
          </a:p>
        </p:txBody>
      </p:sp>
      <p:sp>
        <p:nvSpPr>
          <p:cNvPr id="1732" name="Freeform 121"/>
          <p:cNvSpPr/>
          <p:nvPr/>
        </p:nvSpPr>
        <p:spPr>
          <a:xfrm>
            <a:off x="5892840" y="3267000"/>
            <a:ext cx="173160" cy="174600"/>
          </a:xfrm>
          <a:custGeom>
            <a:avLst/>
            <a:gdLst/>
            <a:ahLst/>
            <a:rect l="l" t="t" r="r" b="b"/>
            <a:pathLst>
              <a:path w="648" h="648">
                <a:moveTo>
                  <a:pt x="358" y="52"/>
                </a:moveTo>
                <a:lnTo>
                  <a:pt x="324" y="152"/>
                </a:lnTo>
                <a:lnTo>
                  <a:pt x="290" y="52"/>
                </a:lnTo>
                <a:cubicBezTo>
                  <a:pt x="284" y="34"/>
                  <a:pt x="294" y="13"/>
                  <a:pt x="313" y="7"/>
                </a:cubicBezTo>
                <a:cubicBezTo>
                  <a:pt x="331" y="0"/>
                  <a:pt x="352" y="10"/>
                  <a:pt x="358" y="29"/>
                </a:cubicBezTo>
                <a:cubicBezTo>
                  <a:pt x="361" y="37"/>
                  <a:pt x="361" y="45"/>
                  <a:pt x="358" y="52"/>
                </a:cubicBezTo>
                <a:close/>
                <a:moveTo>
                  <a:pt x="324" y="239"/>
                </a:moveTo>
                <a:cubicBezTo>
                  <a:pt x="277" y="239"/>
                  <a:pt x="239" y="278"/>
                  <a:pt x="239" y="324"/>
                </a:cubicBezTo>
                <a:cubicBezTo>
                  <a:pt x="239" y="371"/>
                  <a:pt x="277" y="409"/>
                  <a:pt x="324" y="409"/>
                </a:cubicBezTo>
                <a:cubicBezTo>
                  <a:pt x="371" y="409"/>
                  <a:pt x="409" y="371"/>
                  <a:pt x="409" y="324"/>
                </a:cubicBezTo>
                <a:cubicBezTo>
                  <a:pt x="409" y="278"/>
                  <a:pt x="371" y="239"/>
                  <a:pt x="324" y="239"/>
                </a:cubicBezTo>
                <a:close/>
                <a:moveTo>
                  <a:pt x="324" y="477"/>
                </a:moveTo>
                <a:cubicBezTo>
                  <a:pt x="240" y="477"/>
                  <a:pt x="171" y="409"/>
                  <a:pt x="171" y="324"/>
                </a:cubicBezTo>
                <a:cubicBezTo>
                  <a:pt x="171" y="240"/>
                  <a:pt x="240" y="171"/>
                  <a:pt x="324" y="171"/>
                </a:cubicBezTo>
                <a:cubicBezTo>
                  <a:pt x="409" y="171"/>
                  <a:pt x="477" y="240"/>
                  <a:pt x="477" y="324"/>
                </a:cubicBezTo>
                <a:cubicBezTo>
                  <a:pt x="477" y="409"/>
                  <a:pt x="409" y="477"/>
                  <a:pt x="324" y="477"/>
                </a:cubicBezTo>
                <a:close/>
                <a:moveTo>
                  <a:pt x="541" y="156"/>
                </a:moveTo>
                <a:lnTo>
                  <a:pt x="446" y="203"/>
                </a:lnTo>
                <a:lnTo>
                  <a:pt x="493" y="108"/>
                </a:lnTo>
                <a:cubicBezTo>
                  <a:pt x="501" y="90"/>
                  <a:pt x="523" y="83"/>
                  <a:pt x="541" y="92"/>
                </a:cubicBezTo>
                <a:cubicBezTo>
                  <a:pt x="558" y="100"/>
                  <a:pt x="566" y="122"/>
                  <a:pt x="557" y="140"/>
                </a:cubicBezTo>
                <a:cubicBezTo>
                  <a:pt x="553" y="147"/>
                  <a:pt x="548" y="153"/>
                  <a:pt x="541" y="156"/>
                </a:cubicBezTo>
                <a:close/>
                <a:moveTo>
                  <a:pt x="493" y="541"/>
                </a:moveTo>
                <a:lnTo>
                  <a:pt x="446" y="446"/>
                </a:lnTo>
                <a:lnTo>
                  <a:pt x="541" y="493"/>
                </a:lnTo>
                <a:cubicBezTo>
                  <a:pt x="559" y="501"/>
                  <a:pt x="566" y="523"/>
                  <a:pt x="557" y="541"/>
                </a:cubicBezTo>
                <a:cubicBezTo>
                  <a:pt x="548" y="559"/>
                  <a:pt x="527" y="566"/>
                  <a:pt x="509" y="557"/>
                </a:cubicBezTo>
                <a:cubicBezTo>
                  <a:pt x="502" y="554"/>
                  <a:pt x="496" y="548"/>
                  <a:pt x="493" y="541"/>
                </a:cubicBezTo>
                <a:close/>
                <a:moveTo>
                  <a:pt x="108" y="493"/>
                </a:moveTo>
                <a:lnTo>
                  <a:pt x="202" y="446"/>
                </a:lnTo>
                <a:lnTo>
                  <a:pt x="156" y="541"/>
                </a:lnTo>
                <a:cubicBezTo>
                  <a:pt x="147" y="559"/>
                  <a:pt x="126" y="566"/>
                  <a:pt x="108" y="557"/>
                </a:cubicBezTo>
                <a:cubicBezTo>
                  <a:pt x="90" y="548"/>
                  <a:pt x="83" y="527"/>
                  <a:pt x="91" y="509"/>
                </a:cubicBezTo>
                <a:cubicBezTo>
                  <a:pt x="95" y="502"/>
                  <a:pt x="101" y="496"/>
                  <a:pt x="108" y="493"/>
                </a:cubicBezTo>
                <a:close/>
                <a:moveTo>
                  <a:pt x="156" y="108"/>
                </a:moveTo>
                <a:lnTo>
                  <a:pt x="202" y="203"/>
                </a:lnTo>
                <a:lnTo>
                  <a:pt x="108" y="156"/>
                </a:lnTo>
                <a:cubicBezTo>
                  <a:pt x="90" y="147"/>
                  <a:pt x="83" y="126"/>
                  <a:pt x="91" y="108"/>
                </a:cubicBezTo>
                <a:cubicBezTo>
                  <a:pt x="100" y="90"/>
                  <a:pt x="122" y="83"/>
                  <a:pt x="140" y="92"/>
                </a:cubicBezTo>
                <a:cubicBezTo>
                  <a:pt x="147" y="95"/>
                  <a:pt x="153" y="101"/>
                  <a:pt x="156" y="108"/>
                </a:cubicBezTo>
                <a:close/>
                <a:moveTo>
                  <a:pt x="596" y="358"/>
                </a:moveTo>
                <a:lnTo>
                  <a:pt x="497" y="324"/>
                </a:lnTo>
                <a:lnTo>
                  <a:pt x="596" y="290"/>
                </a:lnTo>
                <a:cubicBezTo>
                  <a:pt x="615" y="284"/>
                  <a:pt x="636" y="294"/>
                  <a:pt x="642" y="313"/>
                </a:cubicBezTo>
                <a:cubicBezTo>
                  <a:pt x="648" y="332"/>
                  <a:pt x="638" y="352"/>
                  <a:pt x="620" y="358"/>
                </a:cubicBezTo>
                <a:cubicBezTo>
                  <a:pt x="612" y="361"/>
                  <a:pt x="604" y="361"/>
                  <a:pt x="596" y="358"/>
                </a:cubicBezTo>
                <a:close/>
                <a:moveTo>
                  <a:pt x="290" y="596"/>
                </a:moveTo>
                <a:lnTo>
                  <a:pt x="324" y="497"/>
                </a:lnTo>
                <a:lnTo>
                  <a:pt x="358" y="596"/>
                </a:lnTo>
                <a:cubicBezTo>
                  <a:pt x="365" y="615"/>
                  <a:pt x="355" y="636"/>
                  <a:pt x="336" y="642"/>
                </a:cubicBezTo>
                <a:cubicBezTo>
                  <a:pt x="317" y="648"/>
                  <a:pt x="297" y="638"/>
                  <a:pt x="290" y="620"/>
                </a:cubicBezTo>
                <a:cubicBezTo>
                  <a:pt x="288" y="612"/>
                  <a:pt x="288" y="604"/>
                  <a:pt x="290" y="596"/>
                </a:cubicBezTo>
                <a:close/>
                <a:moveTo>
                  <a:pt x="52" y="290"/>
                </a:moveTo>
                <a:lnTo>
                  <a:pt x="152" y="324"/>
                </a:lnTo>
                <a:lnTo>
                  <a:pt x="52" y="358"/>
                </a:lnTo>
                <a:cubicBezTo>
                  <a:pt x="33" y="365"/>
                  <a:pt x="13" y="355"/>
                  <a:pt x="7" y="336"/>
                </a:cubicBezTo>
                <a:cubicBezTo>
                  <a:pt x="0" y="317"/>
                  <a:pt x="10" y="297"/>
                  <a:pt x="29" y="290"/>
                </a:cubicBezTo>
                <a:cubicBezTo>
                  <a:pt x="37" y="288"/>
                  <a:pt x="45" y="288"/>
                  <a:pt x="52" y="29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33" name="Freeform 122"/>
          <p:cNvSpPr/>
          <p:nvPr/>
        </p:nvSpPr>
        <p:spPr>
          <a:xfrm>
            <a:off x="6234120" y="2585880"/>
            <a:ext cx="252360" cy="198720"/>
          </a:xfrm>
          <a:custGeom>
            <a:avLst/>
            <a:gdLst/>
            <a:ahLst/>
            <a:rect l="l" t="t" r="r" b="b"/>
            <a:pathLst>
              <a:path w="939" h="746">
                <a:moveTo>
                  <a:pt x="630" y="353"/>
                </a:moveTo>
                <a:lnTo>
                  <a:pt x="563" y="212"/>
                </a:lnTo>
                <a:lnTo>
                  <a:pt x="790" y="107"/>
                </a:lnTo>
                <a:lnTo>
                  <a:pt x="879" y="234"/>
                </a:lnTo>
                <a:lnTo>
                  <a:pt x="630" y="353"/>
                </a:lnTo>
                <a:close/>
                <a:moveTo>
                  <a:pt x="784" y="555"/>
                </a:moveTo>
                <a:lnTo>
                  <a:pt x="556" y="682"/>
                </a:lnTo>
                <a:lnTo>
                  <a:pt x="556" y="307"/>
                </a:lnTo>
                <a:lnTo>
                  <a:pt x="597" y="395"/>
                </a:lnTo>
                <a:cubicBezTo>
                  <a:pt x="600" y="401"/>
                  <a:pt x="605" y="405"/>
                  <a:pt x="611" y="407"/>
                </a:cubicBezTo>
                <a:cubicBezTo>
                  <a:pt x="613" y="408"/>
                  <a:pt x="616" y="409"/>
                  <a:pt x="619" y="409"/>
                </a:cubicBezTo>
                <a:cubicBezTo>
                  <a:pt x="622" y="409"/>
                  <a:pt x="626" y="408"/>
                  <a:pt x="629" y="407"/>
                </a:cubicBezTo>
                <a:lnTo>
                  <a:pt x="784" y="332"/>
                </a:lnTo>
                <a:lnTo>
                  <a:pt x="784" y="555"/>
                </a:lnTo>
                <a:close/>
                <a:moveTo>
                  <a:pt x="171" y="587"/>
                </a:moveTo>
                <a:lnTo>
                  <a:pt x="171" y="357"/>
                </a:lnTo>
                <a:lnTo>
                  <a:pt x="398" y="416"/>
                </a:lnTo>
                <a:cubicBezTo>
                  <a:pt x="400" y="416"/>
                  <a:pt x="402" y="416"/>
                  <a:pt x="404" y="416"/>
                </a:cubicBezTo>
                <a:cubicBezTo>
                  <a:pt x="411" y="416"/>
                  <a:pt x="419" y="412"/>
                  <a:pt x="423" y="406"/>
                </a:cubicBezTo>
                <a:lnTo>
                  <a:pt x="508" y="279"/>
                </a:lnTo>
                <a:lnTo>
                  <a:pt x="508" y="690"/>
                </a:lnTo>
                <a:lnTo>
                  <a:pt x="171" y="587"/>
                </a:lnTo>
                <a:close/>
                <a:moveTo>
                  <a:pt x="156" y="155"/>
                </a:moveTo>
                <a:lnTo>
                  <a:pt x="492" y="217"/>
                </a:lnTo>
                <a:lnTo>
                  <a:pt x="393" y="365"/>
                </a:lnTo>
                <a:lnTo>
                  <a:pt x="64" y="280"/>
                </a:lnTo>
                <a:lnTo>
                  <a:pt x="156" y="155"/>
                </a:lnTo>
                <a:close/>
                <a:moveTo>
                  <a:pt x="435" y="49"/>
                </a:moveTo>
                <a:lnTo>
                  <a:pt x="714" y="90"/>
                </a:lnTo>
                <a:lnTo>
                  <a:pt x="529" y="176"/>
                </a:lnTo>
                <a:lnTo>
                  <a:pt x="235" y="122"/>
                </a:lnTo>
                <a:lnTo>
                  <a:pt x="435" y="49"/>
                </a:lnTo>
                <a:close/>
                <a:moveTo>
                  <a:pt x="817" y="63"/>
                </a:moveTo>
                <a:cubicBezTo>
                  <a:pt x="812" y="56"/>
                  <a:pt x="803" y="52"/>
                  <a:pt x="794" y="53"/>
                </a:cubicBezTo>
                <a:cubicBezTo>
                  <a:pt x="794" y="53"/>
                  <a:pt x="794" y="53"/>
                  <a:pt x="793" y="53"/>
                </a:cubicBezTo>
                <a:lnTo>
                  <a:pt x="436" y="1"/>
                </a:lnTo>
                <a:cubicBezTo>
                  <a:pt x="432" y="0"/>
                  <a:pt x="428" y="1"/>
                  <a:pt x="424" y="2"/>
                </a:cubicBezTo>
                <a:lnTo>
                  <a:pt x="137" y="107"/>
                </a:lnTo>
                <a:cubicBezTo>
                  <a:pt x="137" y="107"/>
                  <a:pt x="137" y="107"/>
                  <a:pt x="137" y="107"/>
                </a:cubicBezTo>
                <a:cubicBezTo>
                  <a:pt x="137" y="107"/>
                  <a:pt x="136" y="107"/>
                  <a:pt x="136" y="108"/>
                </a:cubicBezTo>
                <a:cubicBezTo>
                  <a:pt x="135" y="108"/>
                  <a:pt x="133" y="109"/>
                  <a:pt x="132" y="110"/>
                </a:cubicBezTo>
                <a:cubicBezTo>
                  <a:pt x="131" y="110"/>
                  <a:pt x="131" y="111"/>
                  <a:pt x="131" y="111"/>
                </a:cubicBezTo>
                <a:cubicBezTo>
                  <a:pt x="129" y="112"/>
                  <a:pt x="128" y="113"/>
                  <a:pt x="127" y="115"/>
                </a:cubicBezTo>
                <a:cubicBezTo>
                  <a:pt x="127" y="115"/>
                  <a:pt x="126" y="115"/>
                  <a:pt x="126" y="115"/>
                </a:cubicBezTo>
                <a:lnTo>
                  <a:pt x="5" y="281"/>
                </a:lnTo>
                <a:cubicBezTo>
                  <a:pt x="1" y="287"/>
                  <a:pt x="0" y="295"/>
                  <a:pt x="2" y="303"/>
                </a:cubicBezTo>
                <a:cubicBezTo>
                  <a:pt x="5" y="310"/>
                  <a:pt x="11" y="316"/>
                  <a:pt x="19" y="318"/>
                </a:cubicBezTo>
                <a:lnTo>
                  <a:pt x="124" y="345"/>
                </a:lnTo>
                <a:lnTo>
                  <a:pt x="124" y="604"/>
                </a:lnTo>
                <a:cubicBezTo>
                  <a:pt x="124" y="615"/>
                  <a:pt x="130" y="624"/>
                  <a:pt x="140" y="627"/>
                </a:cubicBezTo>
                <a:lnTo>
                  <a:pt x="525" y="745"/>
                </a:lnTo>
                <a:cubicBezTo>
                  <a:pt x="525" y="745"/>
                  <a:pt x="525" y="745"/>
                  <a:pt x="525" y="745"/>
                </a:cubicBezTo>
                <a:cubicBezTo>
                  <a:pt x="527" y="745"/>
                  <a:pt x="530" y="746"/>
                  <a:pt x="532" y="746"/>
                </a:cubicBezTo>
                <a:cubicBezTo>
                  <a:pt x="532" y="746"/>
                  <a:pt x="532" y="746"/>
                  <a:pt x="532" y="746"/>
                </a:cubicBezTo>
                <a:lnTo>
                  <a:pt x="532" y="746"/>
                </a:lnTo>
                <a:cubicBezTo>
                  <a:pt x="534" y="746"/>
                  <a:pt x="536" y="745"/>
                  <a:pt x="539" y="745"/>
                </a:cubicBezTo>
                <a:cubicBezTo>
                  <a:pt x="539" y="744"/>
                  <a:pt x="540" y="744"/>
                  <a:pt x="541" y="744"/>
                </a:cubicBezTo>
                <a:cubicBezTo>
                  <a:pt x="542" y="743"/>
                  <a:pt x="542" y="743"/>
                  <a:pt x="543" y="743"/>
                </a:cubicBezTo>
                <a:lnTo>
                  <a:pt x="819" y="590"/>
                </a:lnTo>
                <a:cubicBezTo>
                  <a:pt x="827" y="585"/>
                  <a:pt x="831" y="577"/>
                  <a:pt x="831" y="569"/>
                </a:cubicBezTo>
                <a:lnTo>
                  <a:pt x="831" y="309"/>
                </a:lnTo>
                <a:lnTo>
                  <a:pt x="925" y="265"/>
                </a:lnTo>
                <a:cubicBezTo>
                  <a:pt x="931" y="262"/>
                  <a:pt x="936" y="256"/>
                  <a:pt x="937" y="249"/>
                </a:cubicBezTo>
                <a:cubicBezTo>
                  <a:pt x="939" y="242"/>
                  <a:pt x="938" y="235"/>
                  <a:pt x="934" y="229"/>
                </a:cubicBezTo>
                <a:lnTo>
                  <a:pt x="817" y="63"/>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34" name="Freeform 123"/>
          <p:cNvSpPr/>
          <p:nvPr/>
        </p:nvSpPr>
        <p:spPr>
          <a:xfrm>
            <a:off x="7329600" y="1436760"/>
            <a:ext cx="185760" cy="172800"/>
          </a:xfrm>
          <a:custGeom>
            <a:avLst/>
            <a:gdLst/>
            <a:ahLst/>
            <a:rect l="l" t="t" r="r" b="b"/>
            <a:pathLst>
              <a:path w="698" h="644">
                <a:moveTo>
                  <a:pt x="539" y="327"/>
                </a:moveTo>
                <a:lnTo>
                  <a:pt x="539" y="581"/>
                </a:lnTo>
                <a:cubicBezTo>
                  <a:pt x="539" y="581"/>
                  <a:pt x="444" y="581"/>
                  <a:pt x="444" y="581"/>
                </a:cubicBezTo>
                <a:lnTo>
                  <a:pt x="444" y="391"/>
                </a:lnTo>
                <a:lnTo>
                  <a:pt x="254" y="391"/>
                </a:lnTo>
                <a:lnTo>
                  <a:pt x="254" y="581"/>
                </a:lnTo>
                <a:lnTo>
                  <a:pt x="159" y="581"/>
                </a:lnTo>
                <a:lnTo>
                  <a:pt x="159" y="327"/>
                </a:lnTo>
                <a:lnTo>
                  <a:pt x="64" y="327"/>
                </a:lnTo>
                <a:cubicBezTo>
                  <a:pt x="151" y="254"/>
                  <a:pt x="296" y="130"/>
                  <a:pt x="349" y="84"/>
                </a:cubicBezTo>
                <a:cubicBezTo>
                  <a:pt x="402" y="130"/>
                  <a:pt x="547" y="254"/>
                  <a:pt x="634" y="327"/>
                </a:cubicBezTo>
                <a:cubicBezTo>
                  <a:pt x="634" y="327"/>
                  <a:pt x="539" y="327"/>
                  <a:pt x="539" y="327"/>
                </a:cubicBezTo>
                <a:close/>
                <a:moveTo>
                  <a:pt x="412" y="581"/>
                </a:moveTo>
                <a:lnTo>
                  <a:pt x="286" y="581"/>
                </a:lnTo>
                <a:lnTo>
                  <a:pt x="286" y="422"/>
                </a:lnTo>
                <a:lnTo>
                  <a:pt x="412" y="422"/>
                </a:lnTo>
                <a:lnTo>
                  <a:pt x="412" y="581"/>
                </a:lnTo>
                <a:close/>
                <a:moveTo>
                  <a:pt x="674" y="279"/>
                </a:moveTo>
                <a:cubicBezTo>
                  <a:pt x="567" y="188"/>
                  <a:pt x="372" y="20"/>
                  <a:pt x="370" y="18"/>
                </a:cubicBezTo>
                <a:lnTo>
                  <a:pt x="349" y="0"/>
                </a:lnTo>
                <a:lnTo>
                  <a:pt x="328" y="18"/>
                </a:lnTo>
                <a:cubicBezTo>
                  <a:pt x="326" y="20"/>
                  <a:pt x="131" y="188"/>
                  <a:pt x="22" y="280"/>
                </a:cubicBezTo>
                <a:cubicBezTo>
                  <a:pt x="8" y="292"/>
                  <a:pt x="0" y="309"/>
                  <a:pt x="0" y="327"/>
                </a:cubicBezTo>
                <a:cubicBezTo>
                  <a:pt x="0" y="362"/>
                  <a:pt x="29" y="391"/>
                  <a:pt x="64" y="391"/>
                </a:cubicBezTo>
                <a:lnTo>
                  <a:pt x="95" y="391"/>
                </a:lnTo>
                <a:lnTo>
                  <a:pt x="95" y="581"/>
                </a:lnTo>
                <a:cubicBezTo>
                  <a:pt x="95" y="616"/>
                  <a:pt x="124" y="644"/>
                  <a:pt x="159" y="644"/>
                </a:cubicBezTo>
                <a:lnTo>
                  <a:pt x="254" y="644"/>
                </a:lnTo>
                <a:lnTo>
                  <a:pt x="539" y="644"/>
                </a:lnTo>
                <a:cubicBezTo>
                  <a:pt x="574" y="644"/>
                  <a:pt x="603" y="616"/>
                  <a:pt x="603" y="581"/>
                </a:cubicBezTo>
                <a:lnTo>
                  <a:pt x="603" y="391"/>
                </a:lnTo>
                <a:lnTo>
                  <a:pt x="634" y="391"/>
                </a:lnTo>
                <a:cubicBezTo>
                  <a:pt x="669" y="391"/>
                  <a:pt x="698" y="362"/>
                  <a:pt x="698" y="327"/>
                </a:cubicBezTo>
                <a:cubicBezTo>
                  <a:pt x="698" y="308"/>
                  <a:pt x="689" y="290"/>
                  <a:pt x="674" y="27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35" name="Freeform 124"/>
          <p:cNvSpPr/>
          <p:nvPr/>
        </p:nvSpPr>
        <p:spPr>
          <a:xfrm>
            <a:off x="2284560" y="4815000"/>
            <a:ext cx="171360" cy="174600"/>
          </a:xfrm>
          <a:custGeom>
            <a:avLst/>
            <a:gdLst/>
            <a:ahLst/>
            <a:rect l="l" t="t" r="r" b="b"/>
            <a:pathLst>
              <a:path w="642" h="649">
                <a:moveTo>
                  <a:pt x="308" y="32"/>
                </a:moveTo>
                <a:cubicBezTo>
                  <a:pt x="138" y="32"/>
                  <a:pt x="0" y="170"/>
                  <a:pt x="0" y="340"/>
                </a:cubicBezTo>
                <a:cubicBezTo>
                  <a:pt x="0" y="510"/>
                  <a:pt x="138" y="649"/>
                  <a:pt x="308" y="649"/>
                </a:cubicBezTo>
                <a:cubicBezTo>
                  <a:pt x="479" y="649"/>
                  <a:pt x="617" y="510"/>
                  <a:pt x="617" y="340"/>
                </a:cubicBezTo>
                <a:lnTo>
                  <a:pt x="308" y="340"/>
                </a:lnTo>
                <a:lnTo>
                  <a:pt x="308" y="32"/>
                </a:lnTo>
                <a:close/>
                <a:moveTo>
                  <a:pt x="367" y="252"/>
                </a:moveTo>
                <a:lnTo>
                  <a:pt x="367" y="34"/>
                </a:lnTo>
                <a:cubicBezTo>
                  <a:pt x="421" y="37"/>
                  <a:pt x="470" y="54"/>
                  <a:pt x="514" y="85"/>
                </a:cubicBezTo>
                <a:lnTo>
                  <a:pt x="367" y="252"/>
                </a:lnTo>
                <a:close/>
                <a:moveTo>
                  <a:pt x="551" y="70"/>
                </a:moveTo>
                <a:cubicBezTo>
                  <a:pt x="550" y="70"/>
                  <a:pt x="550" y="70"/>
                  <a:pt x="550" y="70"/>
                </a:cubicBezTo>
                <a:cubicBezTo>
                  <a:pt x="550" y="69"/>
                  <a:pt x="549" y="69"/>
                  <a:pt x="549" y="69"/>
                </a:cubicBezTo>
                <a:cubicBezTo>
                  <a:pt x="549" y="69"/>
                  <a:pt x="548" y="68"/>
                  <a:pt x="548" y="68"/>
                </a:cubicBezTo>
                <a:cubicBezTo>
                  <a:pt x="548" y="68"/>
                  <a:pt x="548" y="68"/>
                  <a:pt x="548" y="68"/>
                </a:cubicBezTo>
                <a:cubicBezTo>
                  <a:pt x="491" y="23"/>
                  <a:pt x="424" y="0"/>
                  <a:pt x="350" y="0"/>
                </a:cubicBezTo>
                <a:cubicBezTo>
                  <a:pt x="341" y="0"/>
                  <a:pt x="333" y="7"/>
                  <a:pt x="333" y="17"/>
                </a:cubicBezTo>
                <a:lnTo>
                  <a:pt x="333" y="296"/>
                </a:lnTo>
                <a:cubicBezTo>
                  <a:pt x="333" y="303"/>
                  <a:pt x="338" y="310"/>
                  <a:pt x="344" y="312"/>
                </a:cubicBezTo>
                <a:cubicBezTo>
                  <a:pt x="346" y="313"/>
                  <a:pt x="348" y="313"/>
                  <a:pt x="350" y="313"/>
                </a:cubicBezTo>
                <a:cubicBezTo>
                  <a:pt x="351" y="313"/>
                  <a:pt x="351" y="313"/>
                  <a:pt x="351" y="313"/>
                </a:cubicBezTo>
                <a:cubicBezTo>
                  <a:pt x="352" y="313"/>
                  <a:pt x="352" y="313"/>
                  <a:pt x="352" y="313"/>
                </a:cubicBezTo>
                <a:lnTo>
                  <a:pt x="625" y="313"/>
                </a:lnTo>
                <a:cubicBezTo>
                  <a:pt x="635" y="313"/>
                  <a:pt x="642" y="306"/>
                  <a:pt x="642" y="296"/>
                </a:cubicBezTo>
                <a:cubicBezTo>
                  <a:pt x="642" y="212"/>
                  <a:pt x="610" y="131"/>
                  <a:pt x="551" y="7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36" name="Freeform 125"/>
          <p:cNvSpPr/>
          <p:nvPr/>
        </p:nvSpPr>
        <p:spPr>
          <a:xfrm>
            <a:off x="7697880" y="1436760"/>
            <a:ext cx="193680" cy="172800"/>
          </a:xfrm>
          <a:custGeom>
            <a:avLst/>
            <a:gdLst/>
            <a:ahLst/>
            <a:rect l="l" t="t" r="r" b="b"/>
            <a:pathLst>
              <a:path w="727" h="644">
                <a:moveTo>
                  <a:pt x="99" y="628"/>
                </a:moveTo>
                <a:cubicBezTo>
                  <a:pt x="99" y="628"/>
                  <a:pt x="98" y="644"/>
                  <a:pt x="114" y="644"/>
                </a:cubicBezTo>
                <a:cubicBezTo>
                  <a:pt x="134" y="644"/>
                  <a:pt x="298" y="644"/>
                  <a:pt x="298" y="644"/>
                </a:cubicBezTo>
                <a:lnTo>
                  <a:pt x="298" y="494"/>
                </a:lnTo>
                <a:cubicBezTo>
                  <a:pt x="298" y="494"/>
                  <a:pt x="295" y="469"/>
                  <a:pt x="319" y="469"/>
                </a:cubicBezTo>
                <a:lnTo>
                  <a:pt x="395" y="469"/>
                </a:lnTo>
                <a:cubicBezTo>
                  <a:pt x="424" y="469"/>
                  <a:pt x="422" y="494"/>
                  <a:pt x="422" y="494"/>
                </a:cubicBezTo>
                <a:lnTo>
                  <a:pt x="422" y="644"/>
                </a:lnTo>
                <a:cubicBezTo>
                  <a:pt x="422" y="644"/>
                  <a:pt x="577" y="644"/>
                  <a:pt x="601" y="644"/>
                </a:cubicBezTo>
                <a:cubicBezTo>
                  <a:pt x="621" y="644"/>
                  <a:pt x="620" y="623"/>
                  <a:pt x="620" y="623"/>
                </a:cubicBezTo>
                <a:lnTo>
                  <a:pt x="620" y="347"/>
                </a:lnTo>
                <a:lnTo>
                  <a:pt x="368" y="122"/>
                </a:lnTo>
                <a:lnTo>
                  <a:pt x="99" y="347"/>
                </a:lnTo>
                <a:lnTo>
                  <a:pt x="99" y="628"/>
                </a:lnTo>
                <a:close/>
                <a:moveTo>
                  <a:pt x="642" y="74"/>
                </a:moveTo>
                <a:lnTo>
                  <a:pt x="570" y="74"/>
                </a:lnTo>
                <a:lnTo>
                  <a:pt x="570" y="161"/>
                </a:lnTo>
                <a:lnTo>
                  <a:pt x="642" y="221"/>
                </a:lnTo>
                <a:lnTo>
                  <a:pt x="642" y="74"/>
                </a:lnTo>
                <a:close/>
                <a:moveTo>
                  <a:pt x="0" y="326"/>
                </a:moveTo>
                <a:cubicBezTo>
                  <a:pt x="0" y="326"/>
                  <a:pt x="23" y="368"/>
                  <a:pt x="73" y="326"/>
                </a:cubicBezTo>
                <a:lnTo>
                  <a:pt x="370" y="74"/>
                </a:lnTo>
                <a:lnTo>
                  <a:pt x="648" y="324"/>
                </a:lnTo>
                <a:cubicBezTo>
                  <a:pt x="706" y="366"/>
                  <a:pt x="727" y="324"/>
                  <a:pt x="727" y="324"/>
                </a:cubicBezTo>
                <a:lnTo>
                  <a:pt x="370" y="0"/>
                </a:lnTo>
                <a:lnTo>
                  <a:pt x="0" y="326"/>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37" name="Freeform 126"/>
          <p:cNvSpPr/>
          <p:nvPr/>
        </p:nvSpPr>
        <p:spPr>
          <a:xfrm>
            <a:off x="3908520" y="1996920"/>
            <a:ext cx="122040" cy="166680"/>
          </a:xfrm>
          <a:custGeom>
            <a:avLst/>
            <a:gdLst/>
            <a:ahLst/>
            <a:rect l="l" t="t" r="r" b="b"/>
            <a:pathLst>
              <a:path w="456" h="625">
                <a:moveTo>
                  <a:pt x="347" y="273"/>
                </a:moveTo>
                <a:lnTo>
                  <a:pt x="106" y="273"/>
                </a:lnTo>
                <a:lnTo>
                  <a:pt x="106" y="189"/>
                </a:lnTo>
                <a:cubicBezTo>
                  <a:pt x="106" y="123"/>
                  <a:pt x="160" y="69"/>
                  <a:pt x="226" y="69"/>
                </a:cubicBezTo>
                <a:cubicBezTo>
                  <a:pt x="293" y="69"/>
                  <a:pt x="347" y="123"/>
                  <a:pt x="347" y="189"/>
                </a:cubicBezTo>
                <a:lnTo>
                  <a:pt x="347" y="273"/>
                </a:lnTo>
                <a:close/>
                <a:moveTo>
                  <a:pt x="271" y="455"/>
                </a:moveTo>
                <a:lnTo>
                  <a:pt x="271" y="530"/>
                </a:lnTo>
                <a:cubicBezTo>
                  <a:pt x="271" y="549"/>
                  <a:pt x="255" y="565"/>
                  <a:pt x="236" y="565"/>
                </a:cubicBezTo>
                <a:cubicBezTo>
                  <a:pt x="216" y="565"/>
                  <a:pt x="201" y="549"/>
                  <a:pt x="201" y="530"/>
                </a:cubicBezTo>
                <a:lnTo>
                  <a:pt x="201" y="455"/>
                </a:lnTo>
                <a:cubicBezTo>
                  <a:pt x="188" y="445"/>
                  <a:pt x="180" y="430"/>
                  <a:pt x="180" y="413"/>
                </a:cubicBezTo>
                <a:cubicBezTo>
                  <a:pt x="180" y="382"/>
                  <a:pt x="205" y="358"/>
                  <a:pt x="236" y="358"/>
                </a:cubicBezTo>
                <a:cubicBezTo>
                  <a:pt x="266" y="358"/>
                  <a:pt x="291" y="382"/>
                  <a:pt x="291" y="413"/>
                </a:cubicBezTo>
                <a:cubicBezTo>
                  <a:pt x="291" y="430"/>
                  <a:pt x="283" y="445"/>
                  <a:pt x="271" y="455"/>
                </a:cubicBezTo>
                <a:close/>
                <a:moveTo>
                  <a:pt x="415" y="273"/>
                </a:moveTo>
                <a:lnTo>
                  <a:pt x="415" y="189"/>
                </a:lnTo>
                <a:cubicBezTo>
                  <a:pt x="415" y="85"/>
                  <a:pt x="331" y="0"/>
                  <a:pt x="226" y="0"/>
                </a:cubicBezTo>
                <a:cubicBezTo>
                  <a:pt x="122" y="0"/>
                  <a:pt x="37" y="85"/>
                  <a:pt x="37" y="189"/>
                </a:cubicBezTo>
                <a:lnTo>
                  <a:pt x="37" y="273"/>
                </a:lnTo>
                <a:lnTo>
                  <a:pt x="0" y="273"/>
                </a:lnTo>
                <a:lnTo>
                  <a:pt x="0" y="625"/>
                </a:lnTo>
                <a:lnTo>
                  <a:pt x="456" y="625"/>
                </a:lnTo>
                <a:lnTo>
                  <a:pt x="456" y="273"/>
                </a:lnTo>
                <a:lnTo>
                  <a:pt x="415" y="273"/>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38" name="Freeform 127"/>
          <p:cNvSpPr/>
          <p:nvPr/>
        </p:nvSpPr>
        <p:spPr>
          <a:xfrm>
            <a:off x="9050400" y="2952720"/>
            <a:ext cx="179280" cy="152280"/>
          </a:xfrm>
          <a:custGeom>
            <a:avLst/>
            <a:gdLst/>
            <a:ahLst/>
            <a:rect l="l" t="t" r="r" b="b"/>
            <a:pathLst>
              <a:path w="676" h="565">
                <a:moveTo>
                  <a:pt x="542" y="512"/>
                </a:moveTo>
                <a:cubicBezTo>
                  <a:pt x="541" y="521"/>
                  <a:pt x="530" y="528"/>
                  <a:pt x="518" y="528"/>
                </a:cubicBezTo>
                <a:lnTo>
                  <a:pt x="507" y="528"/>
                </a:lnTo>
                <a:cubicBezTo>
                  <a:pt x="495" y="528"/>
                  <a:pt x="486" y="521"/>
                  <a:pt x="487" y="512"/>
                </a:cubicBezTo>
                <a:lnTo>
                  <a:pt x="506" y="370"/>
                </a:lnTo>
                <a:cubicBezTo>
                  <a:pt x="507" y="358"/>
                  <a:pt x="520" y="348"/>
                  <a:pt x="534" y="348"/>
                </a:cubicBezTo>
                <a:lnTo>
                  <a:pt x="547" y="348"/>
                </a:lnTo>
                <a:cubicBezTo>
                  <a:pt x="562" y="348"/>
                  <a:pt x="571" y="358"/>
                  <a:pt x="569" y="370"/>
                </a:cubicBezTo>
                <a:lnTo>
                  <a:pt x="542" y="512"/>
                </a:lnTo>
                <a:close/>
                <a:moveTo>
                  <a:pt x="426" y="512"/>
                </a:moveTo>
                <a:cubicBezTo>
                  <a:pt x="426" y="521"/>
                  <a:pt x="415" y="528"/>
                  <a:pt x="403" y="528"/>
                </a:cubicBezTo>
                <a:lnTo>
                  <a:pt x="392" y="528"/>
                </a:lnTo>
                <a:cubicBezTo>
                  <a:pt x="380" y="528"/>
                  <a:pt x="371" y="521"/>
                  <a:pt x="371" y="512"/>
                </a:cubicBezTo>
                <a:lnTo>
                  <a:pt x="373" y="370"/>
                </a:lnTo>
                <a:cubicBezTo>
                  <a:pt x="373" y="358"/>
                  <a:pt x="385" y="348"/>
                  <a:pt x="399" y="348"/>
                </a:cubicBezTo>
                <a:lnTo>
                  <a:pt x="412" y="348"/>
                </a:lnTo>
                <a:cubicBezTo>
                  <a:pt x="426" y="348"/>
                  <a:pt x="437" y="358"/>
                  <a:pt x="436" y="370"/>
                </a:cubicBezTo>
                <a:lnTo>
                  <a:pt x="426" y="512"/>
                </a:lnTo>
                <a:close/>
                <a:moveTo>
                  <a:pt x="289" y="528"/>
                </a:moveTo>
                <a:lnTo>
                  <a:pt x="278" y="528"/>
                </a:lnTo>
                <a:cubicBezTo>
                  <a:pt x="266" y="528"/>
                  <a:pt x="256" y="521"/>
                  <a:pt x="255" y="512"/>
                </a:cubicBezTo>
                <a:lnTo>
                  <a:pt x="240" y="370"/>
                </a:lnTo>
                <a:cubicBezTo>
                  <a:pt x="238" y="358"/>
                  <a:pt x="249" y="348"/>
                  <a:pt x="263" y="348"/>
                </a:cubicBezTo>
                <a:lnTo>
                  <a:pt x="276" y="348"/>
                </a:lnTo>
                <a:cubicBezTo>
                  <a:pt x="290" y="348"/>
                  <a:pt x="302" y="358"/>
                  <a:pt x="303" y="370"/>
                </a:cubicBezTo>
                <a:lnTo>
                  <a:pt x="310" y="512"/>
                </a:lnTo>
                <a:cubicBezTo>
                  <a:pt x="310" y="521"/>
                  <a:pt x="301" y="528"/>
                  <a:pt x="289" y="528"/>
                </a:cubicBezTo>
                <a:close/>
                <a:moveTo>
                  <a:pt x="175" y="528"/>
                </a:moveTo>
                <a:lnTo>
                  <a:pt x="164" y="528"/>
                </a:lnTo>
                <a:cubicBezTo>
                  <a:pt x="152" y="528"/>
                  <a:pt x="140" y="521"/>
                  <a:pt x="138" y="512"/>
                </a:cubicBezTo>
                <a:lnTo>
                  <a:pt x="107" y="370"/>
                </a:lnTo>
                <a:cubicBezTo>
                  <a:pt x="104" y="358"/>
                  <a:pt x="113" y="348"/>
                  <a:pt x="127" y="348"/>
                </a:cubicBezTo>
                <a:lnTo>
                  <a:pt x="140" y="348"/>
                </a:lnTo>
                <a:cubicBezTo>
                  <a:pt x="155" y="348"/>
                  <a:pt x="168" y="358"/>
                  <a:pt x="170" y="370"/>
                </a:cubicBezTo>
                <a:lnTo>
                  <a:pt x="194" y="512"/>
                </a:lnTo>
                <a:cubicBezTo>
                  <a:pt x="195" y="521"/>
                  <a:pt x="186" y="528"/>
                  <a:pt x="175" y="528"/>
                </a:cubicBezTo>
                <a:close/>
                <a:moveTo>
                  <a:pt x="311" y="115"/>
                </a:moveTo>
                <a:cubicBezTo>
                  <a:pt x="318" y="118"/>
                  <a:pt x="327" y="121"/>
                  <a:pt x="336" y="121"/>
                </a:cubicBezTo>
                <a:cubicBezTo>
                  <a:pt x="346" y="121"/>
                  <a:pt x="356" y="118"/>
                  <a:pt x="364" y="114"/>
                </a:cubicBezTo>
                <a:lnTo>
                  <a:pt x="496" y="246"/>
                </a:lnTo>
                <a:lnTo>
                  <a:pt x="179" y="246"/>
                </a:lnTo>
                <a:lnTo>
                  <a:pt x="311" y="115"/>
                </a:lnTo>
                <a:close/>
                <a:moveTo>
                  <a:pt x="655" y="246"/>
                </a:moveTo>
                <a:lnTo>
                  <a:pt x="573" y="246"/>
                </a:lnTo>
                <a:lnTo>
                  <a:pt x="396" y="68"/>
                </a:lnTo>
                <a:cubicBezTo>
                  <a:pt x="396" y="66"/>
                  <a:pt x="397" y="63"/>
                  <a:pt x="397" y="61"/>
                </a:cubicBezTo>
                <a:cubicBezTo>
                  <a:pt x="397" y="27"/>
                  <a:pt x="370" y="1"/>
                  <a:pt x="337" y="1"/>
                </a:cubicBezTo>
                <a:cubicBezTo>
                  <a:pt x="303" y="0"/>
                  <a:pt x="276" y="27"/>
                  <a:pt x="276" y="61"/>
                </a:cubicBezTo>
                <a:cubicBezTo>
                  <a:pt x="276" y="64"/>
                  <a:pt x="277" y="67"/>
                  <a:pt x="277" y="70"/>
                </a:cubicBezTo>
                <a:lnTo>
                  <a:pt x="102" y="246"/>
                </a:lnTo>
                <a:lnTo>
                  <a:pt x="21" y="246"/>
                </a:lnTo>
                <a:cubicBezTo>
                  <a:pt x="9" y="246"/>
                  <a:pt x="0" y="255"/>
                  <a:pt x="0" y="267"/>
                </a:cubicBezTo>
                <a:lnTo>
                  <a:pt x="0" y="295"/>
                </a:lnTo>
                <a:cubicBezTo>
                  <a:pt x="0" y="306"/>
                  <a:pt x="9" y="316"/>
                  <a:pt x="21" y="316"/>
                </a:cubicBezTo>
                <a:lnTo>
                  <a:pt x="37" y="316"/>
                </a:lnTo>
                <a:lnTo>
                  <a:pt x="81" y="547"/>
                </a:lnTo>
                <a:cubicBezTo>
                  <a:pt x="81" y="557"/>
                  <a:pt x="89" y="565"/>
                  <a:pt x="98" y="565"/>
                </a:cubicBezTo>
                <a:lnTo>
                  <a:pt x="577" y="565"/>
                </a:lnTo>
                <a:cubicBezTo>
                  <a:pt x="587" y="565"/>
                  <a:pt x="595" y="557"/>
                  <a:pt x="595" y="547"/>
                </a:cubicBezTo>
                <a:lnTo>
                  <a:pt x="639" y="316"/>
                </a:lnTo>
                <a:lnTo>
                  <a:pt x="655" y="316"/>
                </a:lnTo>
                <a:cubicBezTo>
                  <a:pt x="666" y="316"/>
                  <a:pt x="675" y="307"/>
                  <a:pt x="675" y="295"/>
                </a:cubicBezTo>
                <a:lnTo>
                  <a:pt x="675" y="267"/>
                </a:lnTo>
                <a:cubicBezTo>
                  <a:pt x="676" y="255"/>
                  <a:pt x="666" y="246"/>
                  <a:pt x="655" y="24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39" name="Freeform 128"/>
          <p:cNvSpPr/>
          <p:nvPr/>
        </p:nvSpPr>
        <p:spPr>
          <a:xfrm>
            <a:off x="7326360" y="1725480"/>
            <a:ext cx="193680" cy="171720"/>
          </a:xfrm>
          <a:custGeom>
            <a:avLst/>
            <a:gdLst/>
            <a:ahLst/>
            <a:rect l="l" t="t" r="r" b="b"/>
            <a:pathLst>
              <a:path w="722" h="637">
                <a:moveTo>
                  <a:pt x="34" y="0"/>
                </a:moveTo>
                <a:cubicBezTo>
                  <a:pt x="15" y="0"/>
                  <a:pt x="0" y="15"/>
                  <a:pt x="0" y="33"/>
                </a:cubicBezTo>
                <a:lnTo>
                  <a:pt x="0" y="156"/>
                </a:lnTo>
                <a:cubicBezTo>
                  <a:pt x="0" y="175"/>
                  <a:pt x="15" y="190"/>
                  <a:pt x="34" y="190"/>
                </a:cubicBezTo>
                <a:lnTo>
                  <a:pt x="169" y="190"/>
                </a:lnTo>
                <a:lnTo>
                  <a:pt x="169" y="0"/>
                </a:lnTo>
                <a:lnTo>
                  <a:pt x="34" y="0"/>
                </a:lnTo>
                <a:close/>
                <a:moveTo>
                  <a:pt x="332" y="190"/>
                </a:moveTo>
                <a:cubicBezTo>
                  <a:pt x="423" y="190"/>
                  <a:pt x="522" y="230"/>
                  <a:pt x="522" y="318"/>
                </a:cubicBezTo>
                <a:cubicBezTo>
                  <a:pt x="522" y="406"/>
                  <a:pt x="423" y="446"/>
                  <a:pt x="332" y="446"/>
                </a:cubicBezTo>
                <a:lnTo>
                  <a:pt x="199" y="446"/>
                </a:lnTo>
                <a:lnTo>
                  <a:pt x="199" y="637"/>
                </a:lnTo>
                <a:lnTo>
                  <a:pt x="414" y="637"/>
                </a:lnTo>
                <a:cubicBezTo>
                  <a:pt x="584" y="637"/>
                  <a:pt x="722" y="494"/>
                  <a:pt x="722" y="318"/>
                </a:cubicBezTo>
                <a:cubicBezTo>
                  <a:pt x="722" y="142"/>
                  <a:pt x="584" y="0"/>
                  <a:pt x="414" y="0"/>
                </a:cubicBezTo>
                <a:lnTo>
                  <a:pt x="199" y="0"/>
                </a:lnTo>
                <a:lnTo>
                  <a:pt x="199" y="190"/>
                </a:lnTo>
                <a:lnTo>
                  <a:pt x="332" y="190"/>
                </a:lnTo>
                <a:close/>
                <a:moveTo>
                  <a:pt x="34" y="446"/>
                </a:moveTo>
                <a:cubicBezTo>
                  <a:pt x="15" y="446"/>
                  <a:pt x="0" y="461"/>
                  <a:pt x="0" y="480"/>
                </a:cubicBezTo>
                <a:lnTo>
                  <a:pt x="0" y="603"/>
                </a:lnTo>
                <a:cubicBezTo>
                  <a:pt x="0" y="622"/>
                  <a:pt x="15" y="637"/>
                  <a:pt x="34" y="637"/>
                </a:cubicBezTo>
                <a:lnTo>
                  <a:pt x="169" y="637"/>
                </a:lnTo>
                <a:lnTo>
                  <a:pt x="169" y="446"/>
                </a:lnTo>
                <a:lnTo>
                  <a:pt x="34" y="446"/>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40" name="Freeform 129"/>
          <p:cNvSpPr/>
          <p:nvPr/>
        </p:nvSpPr>
        <p:spPr>
          <a:xfrm>
            <a:off x="2300400" y="1455840"/>
            <a:ext cx="139680" cy="136440"/>
          </a:xfrm>
          <a:custGeom>
            <a:avLst/>
            <a:gdLst/>
            <a:ahLst/>
            <a:rect l="l" t="t" r="r" b="b"/>
            <a:pathLst>
              <a:path w="524" h="515">
                <a:moveTo>
                  <a:pt x="128" y="0"/>
                </a:moveTo>
                <a:lnTo>
                  <a:pt x="20" y="0"/>
                </a:lnTo>
                <a:cubicBezTo>
                  <a:pt x="9" y="0"/>
                  <a:pt x="0" y="9"/>
                  <a:pt x="0" y="20"/>
                </a:cubicBezTo>
                <a:lnTo>
                  <a:pt x="0" y="128"/>
                </a:lnTo>
                <a:cubicBezTo>
                  <a:pt x="0" y="139"/>
                  <a:pt x="9" y="148"/>
                  <a:pt x="20" y="148"/>
                </a:cubicBezTo>
                <a:lnTo>
                  <a:pt x="128" y="148"/>
                </a:lnTo>
                <a:cubicBezTo>
                  <a:pt x="139" y="148"/>
                  <a:pt x="148" y="139"/>
                  <a:pt x="148" y="128"/>
                </a:cubicBezTo>
                <a:lnTo>
                  <a:pt x="148" y="20"/>
                </a:lnTo>
                <a:cubicBezTo>
                  <a:pt x="148" y="9"/>
                  <a:pt x="139" y="0"/>
                  <a:pt x="128" y="0"/>
                </a:cubicBezTo>
                <a:close/>
                <a:moveTo>
                  <a:pt x="504" y="367"/>
                </a:moveTo>
                <a:lnTo>
                  <a:pt x="396" y="367"/>
                </a:lnTo>
                <a:cubicBezTo>
                  <a:pt x="385" y="367"/>
                  <a:pt x="376" y="376"/>
                  <a:pt x="376" y="387"/>
                </a:cubicBezTo>
                <a:lnTo>
                  <a:pt x="376" y="495"/>
                </a:lnTo>
                <a:cubicBezTo>
                  <a:pt x="376" y="506"/>
                  <a:pt x="385" y="515"/>
                  <a:pt x="396" y="515"/>
                </a:cubicBezTo>
                <a:lnTo>
                  <a:pt x="504" y="515"/>
                </a:lnTo>
                <a:cubicBezTo>
                  <a:pt x="515" y="515"/>
                  <a:pt x="524" y="506"/>
                  <a:pt x="524" y="495"/>
                </a:cubicBezTo>
                <a:lnTo>
                  <a:pt x="524" y="387"/>
                </a:lnTo>
                <a:cubicBezTo>
                  <a:pt x="524" y="376"/>
                  <a:pt x="515" y="367"/>
                  <a:pt x="504" y="367"/>
                </a:cubicBezTo>
                <a:close/>
                <a:moveTo>
                  <a:pt x="314" y="367"/>
                </a:moveTo>
                <a:lnTo>
                  <a:pt x="206" y="367"/>
                </a:lnTo>
                <a:cubicBezTo>
                  <a:pt x="195" y="367"/>
                  <a:pt x="186" y="376"/>
                  <a:pt x="186" y="387"/>
                </a:cubicBezTo>
                <a:lnTo>
                  <a:pt x="186" y="495"/>
                </a:lnTo>
                <a:cubicBezTo>
                  <a:pt x="186" y="506"/>
                  <a:pt x="195" y="515"/>
                  <a:pt x="206" y="515"/>
                </a:cubicBezTo>
                <a:lnTo>
                  <a:pt x="314" y="515"/>
                </a:lnTo>
                <a:cubicBezTo>
                  <a:pt x="325" y="515"/>
                  <a:pt x="334" y="506"/>
                  <a:pt x="334" y="495"/>
                </a:cubicBezTo>
                <a:lnTo>
                  <a:pt x="334" y="387"/>
                </a:lnTo>
                <a:cubicBezTo>
                  <a:pt x="334" y="376"/>
                  <a:pt x="325" y="367"/>
                  <a:pt x="314" y="367"/>
                </a:cubicBezTo>
                <a:close/>
                <a:moveTo>
                  <a:pt x="128" y="367"/>
                </a:moveTo>
                <a:lnTo>
                  <a:pt x="20" y="367"/>
                </a:lnTo>
                <a:cubicBezTo>
                  <a:pt x="9" y="367"/>
                  <a:pt x="0" y="376"/>
                  <a:pt x="0" y="387"/>
                </a:cubicBezTo>
                <a:lnTo>
                  <a:pt x="0" y="495"/>
                </a:lnTo>
                <a:cubicBezTo>
                  <a:pt x="0" y="506"/>
                  <a:pt x="9" y="515"/>
                  <a:pt x="20" y="515"/>
                </a:cubicBezTo>
                <a:lnTo>
                  <a:pt x="128" y="515"/>
                </a:lnTo>
                <a:cubicBezTo>
                  <a:pt x="139" y="515"/>
                  <a:pt x="148" y="506"/>
                  <a:pt x="148" y="495"/>
                </a:cubicBezTo>
                <a:lnTo>
                  <a:pt x="148" y="387"/>
                </a:lnTo>
                <a:cubicBezTo>
                  <a:pt x="148" y="376"/>
                  <a:pt x="139" y="367"/>
                  <a:pt x="128" y="367"/>
                </a:cubicBezTo>
                <a:close/>
                <a:moveTo>
                  <a:pt x="504" y="181"/>
                </a:moveTo>
                <a:lnTo>
                  <a:pt x="396" y="181"/>
                </a:lnTo>
                <a:cubicBezTo>
                  <a:pt x="385" y="181"/>
                  <a:pt x="376" y="190"/>
                  <a:pt x="376" y="201"/>
                </a:cubicBezTo>
                <a:lnTo>
                  <a:pt x="376" y="309"/>
                </a:lnTo>
                <a:cubicBezTo>
                  <a:pt x="376" y="320"/>
                  <a:pt x="385" y="329"/>
                  <a:pt x="396" y="329"/>
                </a:cubicBezTo>
                <a:lnTo>
                  <a:pt x="504" y="329"/>
                </a:lnTo>
                <a:cubicBezTo>
                  <a:pt x="515" y="329"/>
                  <a:pt x="524" y="320"/>
                  <a:pt x="524" y="309"/>
                </a:cubicBezTo>
                <a:lnTo>
                  <a:pt x="524" y="201"/>
                </a:lnTo>
                <a:cubicBezTo>
                  <a:pt x="524" y="190"/>
                  <a:pt x="515" y="181"/>
                  <a:pt x="504" y="181"/>
                </a:cubicBezTo>
                <a:close/>
                <a:moveTo>
                  <a:pt x="314" y="181"/>
                </a:moveTo>
                <a:lnTo>
                  <a:pt x="206" y="181"/>
                </a:lnTo>
                <a:cubicBezTo>
                  <a:pt x="195" y="181"/>
                  <a:pt x="186" y="190"/>
                  <a:pt x="186" y="201"/>
                </a:cubicBezTo>
                <a:lnTo>
                  <a:pt x="186" y="309"/>
                </a:lnTo>
                <a:cubicBezTo>
                  <a:pt x="186" y="320"/>
                  <a:pt x="195" y="329"/>
                  <a:pt x="206" y="329"/>
                </a:cubicBezTo>
                <a:lnTo>
                  <a:pt x="314" y="329"/>
                </a:lnTo>
                <a:cubicBezTo>
                  <a:pt x="325" y="329"/>
                  <a:pt x="334" y="320"/>
                  <a:pt x="334" y="309"/>
                </a:cubicBezTo>
                <a:lnTo>
                  <a:pt x="334" y="201"/>
                </a:lnTo>
                <a:cubicBezTo>
                  <a:pt x="334" y="190"/>
                  <a:pt x="325" y="181"/>
                  <a:pt x="314" y="181"/>
                </a:cubicBezTo>
                <a:close/>
                <a:moveTo>
                  <a:pt x="128" y="181"/>
                </a:moveTo>
                <a:lnTo>
                  <a:pt x="20" y="181"/>
                </a:lnTo>
                <a:cubicBezTo>
                  <a:pt x="9" y="181"/>
                  <a:pt x="0" y="190"/>
                  <a:pt x="0" y="201"/>
                </a:cubicBezTo>
                <a:lnTo>
                  <a:pt x="0" y="309"/>
                </a:lnTo>
                <a:cubicBezTo>
                  <a:pt x="0" y="320"/>
                  <a:pt x="9" y="329"/>
                  <a:pt x="20" y="329"/>
                </a:cubicBezTo>
                <a:lnTo>
                  <a:pt x="128" y="329"/>
                </a:lnTo>
                <a:cubicBezTo>
                  <a:pt x="139" y="329"/>
                  <a:pt x="148" y="320"/>
                  <a:pt x="148" y="309"/>
                </a:cubicBezTo>
                <a:lnTo>
                  <a:pt x="148" y="201"/>
                </a:lnTo>
                <a:cubicBezTo>
                  <a:pt x="148" y="190"/>
                  <a:pt x="139" y="181"/>
                  <a:pt x="128" y="181"/>
                </a:cubicBezTo>
                <a:close/>
                <a:moveTo>
                  <a:pt x="504" y="0"/>
                </a:moveTo>
                <a:lnTo>
                  <a:pt x="396" y="0"/>
                </a:lnTo>
                <a:cubicBezTo>
                  <a:pt x="385" y="0"/>
                  <a:pt x="376" y="9"/>
                  <a:pt x="376" y="20"/>
                </a:cubicBezTo>
                <a:lnTo>
                  <a:pt x="376" y="128"/>
                </a:lnTo>
                <a:cubicBezTo>
                  <a:pt x="376" y="139"/>
                  <a:pt x="385" y="148"/>
                  <a:pt x="396" y="148"/>
                </a:cubicBezTo>
                <a:lnTo>
                  <a:pt x="504" y="148"/>
                </a:lnTo>
                <a:cubicBezTo>
                  <a:pt x="515" y="148"/>
                  <a:pt x="524" y="139"/>
                  <a:pt x="524" y="128"/>
                </a:cubicBezTo>
                <a:lnTo>
                  <a:pt x="524" y="20"/>
                </a:lnTo>
                <a:cubicBezTo>
                  <a:pt x="524" y="9"/>
                  <a:pt x="515" y="0"/>
                  <a:pt x="504" y="0"/>
                </a:cubicBezTo>
                <a:close/>
                <a:moveTo>
                  <a:pt x="314" y="0"/>
                </a:moveTo>
                <a:lnTo>
                  <a:pt x="206" y="0"/>
                </a:lnTo>
                <a:cubicBezTo>
                  <a:pt x="195" y="0"/>
                  <a:pt x="186" y="9"/>
                  <a:pt x="186" y="20"/>
                </a:cubicBezTo>
                <a:lnTo>
                  <a:pt x="186" y="128"/>
                </a:lnTo>
                <a:cubicBezTo>
                  <a:pt x="186" y="139"/>
                  <a:pt x="195" y="148"/>
                  <a:pt x="206" y="148"/>
                </a:cubicBezTo>
                <a:lnTo>
                  <a:pt x="314" y="148"/>
                </a:lnTo>
                <a:cubicBezTo>
                  <a:pt x="325" y="148"/>
                  <a:pt x="334" y="139"/>
                  <a:pt x="334" y="128"/>
                </a:cubicBezTo>
                <a:lnTo>
                  <a:pt x="334" y="20"/>
                </a:lnTo>
                <a:cubicBezTo>
                  <a:pt x="334" y="9"/>
                  <a:pt x="325" y="0"/>
                  <a:pt x="314" y="0"/>
                </a:cubicBezTo>
                <a:close/>
              </a:path>
            </a:pathLst>
          </a:custGeom>
          <a:solidFill>
            <a:srgbClr val="a6a6a6"/>
          </a:solidFill>
          <a:ln w="0">
            <a:noFill/>
          </a:ln>
        </p:spPr>
        <p:style>
          <a:lnRef idx="0"/>
          <a:fillRef idx="0"/>
          <a:effectRef idx="0"/>
          <a:fontRef idx="minor"/>
        </p:style>
        <p:txBody>
          <a:bodyPr lIns="145800" rIns="145800" tIns="63720" bIns="63720" anchor="t">
            <a:noAutofit/>
          </a:bodyPr>
          <a:p>
            <a:endParaRPr b="0" lang="en-US" sz="1800" spc="-1" strike="noStrike">
              <a:solidFill>
                <a:srgbClr val="000000"/>
              </a:solidFill>
              <a:latin typeface="Calibri"/>
            </a:endParaRPr>
          </a:p>
        </p:txBody>
      </p:sp>
      <p:sp>
        <p:nvSpPr>
          <p:cNvPr id="1741" name="Freeform 130"/>
          <p:cNvSpPr/>
          <p:nvPr/>
        </p:nvSpPr>
        <p:spPr>
          <a:xfrm>
            <a:off x="3206880" y="2987640"/>
            <a:ext cx="218880" cy="81000"/>
          </a:xfrm>
          <a:custGeom>
            <a:avLst/>
            <a:gdLst/>
            <a:ahLst/>
            <a:rect l="l" t="t" r="r" b="b"/>
            <a:pathLst>
              <a:path w="816" h="303">
                <a:moveTo>
                  <a:pt x="803" y="225"/>
                </a:moveTo>
                <a:cubicBezTo>
                  <a:pt x="816" y="208"/>
                  <a:pt x="813" y="168"/>
                  <a:pt x="811" y="153"/>
                </a:cubicBezTo>
                <a:cubicBezTo>
                  <a:pt x="809" y="137"/>
                  <a:pt x="796" y="144"/>
                  <a:pt x="796" y="134"/>
                </a:cubicBezTo>
                <a:cubicBezTo>
                  <a:pt x="797" y="123"/>
                  <a:pt x="798" y="93"/>
                  <a:pt x="793" y="89"/>
                </a:cubicBezTo>
                <a:cubicBezTo>
                  <a:pt x="787" y="85"/>
                  <a:pt x="782" y="83"/>
                  <a:pt x="782" y="83"/>
                </a:cubicBezTo>
                <a:cubicBezTo>
                  <a:pt x="774" y="67"/>
                  <a:pt x="722" y="29"/>
                  <a:pt x="722" y="29"/>
                </a:cubicBezTo>
                <a:lnTo>
                  <a:pt x="722" y="23"/>
                </a:lnTo>
                <a:cubicBezTo>
                  <a:pt x="638" y="13"/>
                  <a:pt x="449" y="0"/>
                  <a:pt x="395" y="13"/>
                </a:cubicBezTo>
                <a:cubicBezTo>
                  <a:pt x="342" y="26"/>
                  <a:pt x="219" y="93"/>
                  <a:pt x="219" y="93"/>
                </a:cubicBezTo>
                <a:cubicBezTo>
                  <a:pt x="90" y="95"/>
                  <a:pt x="28" y="137"/>
                  <a:pt x="28" y="137"/>
                </a:cubicBezTo>
                <a:cubicBezTo>
                  <a:pt x="28" y="137"/>
                  <a:pt x="29" y="143"/>
                  <a:pt x="15" y="157"/>
                </a:cubicBezTo>
                <a:cubicBezTo>
                  <a:pt x="0" y="170"/>
                  <a:pt x="2" y="196"/>
                  <a:pt x="2" y="196"/>
                </a:cubicBezTo>
                <a:lnTo>
                  <a:pt x="11" y="236"/>
                </a:lnTo>
                <a:cubicBezTo>
                  <a:pt x="15" y="240"/>
                  <a:pt x="74" y="259"/>
                  <a:pt x="91" y="257"/>
                </a:cubicBezTo>
                <a:cubicBezTo>
                  <a:pt x="89" y="251"/>
                  <a:pt x="88" y="244"/>
                  <a:pt x="88" y="237"/>
                </a:cubicBezTo>
                <a:cubicBezTo>
                  <a:pt x="88" y="193"/>
                  <a:pt x="124" y="158"/>
                  <a:pt x="168" y="158"/>
                </a:cubicBezTo>
                <a:cubicBezTo>
                  <a:pt x="212" y="158"/>
                  <a:pt x="247" y="193"/>
                  <a:pt x="247" y="237"/>
                </a:cubicBezTo>
                <a:cubicBezTo>
                  <a:pt x="247" y="239"/>
                  <a:pt x="247" y="241"/>
                  <a:pt x="247" y="243"/>
                </a:cubicBezTo>
                <a:cubicBezTo>
                  <a:pt x="298" y="243"/>
                  <a:pt x="470" y="244"/>
                  <a:pt x="591" y="243"/>
                </a:cubicBezTo>
                <a:cubicBezTo>
                  <a:pt x="591" y="241"/>
                  <a:pt x="591" y="239"/>
                  <a:pt x="591" y="237"/>
                </a:cubicBezTo>
                <a:cubicBezTo>
                  <a:pt x="591" y="193"/>
                  <a:pt x="627" y="158"/>
                  <a:pt x="670" y="158"/>
                </a:cubicBezTo>
                <a:cubicBezTo>
                  <a:pt x="714" y="158"/>
                  <a:pt x="750" y="193"/>
                  <a:pt x="750" y="237"/>
                </a:cubicBezTo>
                <a:cubicBezTo>
                  <a:pt x="750" y="238"/>
                  <a:pt x="749" y="239"/>
                  <a:pt x="749" y="240"/>
                </a:cubicBezTo>
                <a:cubicBezTo>
                  <a:pt x="781" y="234"/>
                  <a:pt x="803" y="225"/>
                  <a:pt x="803" y="225"/>
                </a:cubicBezTo>
                <a:close/>
                <a:moveTo>
                  <a:pt x="670" y="171"/>
                </a:moveTo>
                <a:cubicBezTo>
                  <a:pt x="634" y="171"/>
                  <a:pt x="604" y="201"/>
                  <a:pt x="604" y="237"/>
                </a:cubicBezTo>
                <a:cubicBezTo>
                  <a:pt x="604" y="239"/>
                  <a:pt x="605" y="241"/>
                  <a:pt x="605" y="243"/>
                </a:cubicBezTo>
                <a:cubicBezTo>
                  <a:pt x="608" y="277"/>
                  <a:pt x="636" y="303"/>
                  <a:pt x="670" y="303"/>
                </a:cubicBezTo>
                <a:cubicBezTo>
                  <a:pt x="705" y="303"/>
                  <a:pt x="734" y="276"/>
                  <a:pt x="736" y="241"/>
                </a:cubicBezTo>
                <a:cubicBezTo>
                  <a:pt x="736" y="240"/>
                  <a:pt x="736" y="239"/>
                  <a:pt x="736" y="237"/>
                </a:cubicBezTo>
                <a:cubicBezTo>
                  <a:pt x="736" y="201"/>
                  <a:pt x="707" y="171"/>
                  <a:pt x="670" y="171"/>
                </a:cubicBezTo>
                <a:close/>
                <a:moveTo>
                  <a:pt x="168" y="171"/>
                </a:moveTo>
                <a:cubicBezTo>
                  <a:pt x="131" y="171"/>
                  <a:pt x="102" y="201"/>
                  <a:pt x="102" y="237"/>
                </a:cubicBezTo>
                <a:cubicBezTo>
                  <a:pt x="102" y="243"/>
                  <a:pt x="103" y="248"/>
                  <a:pt x="104" y="253"/>
                </a:cubicBezTo>
                <a:cubicBezTo>
                  <a:pt x="111" y="282"/>
                  <a:pt x="137" y="303"/>
                  <a:pt x="168" y="303"/>
                </a:cubicBezTo>
                <a:cubicBezTo>
                  <a:pt x="202" y="303"/>
                  <a:pt x="230" y="277"/>
                  <a:pt x="233" y="243"/>
                </a:cubicBezTo>
                <a:cubicBezTo>
                  <a:pt x="233" y="241"/>
                  <a:pt x="234" y="239"/>
                  <a:pt x="234" y="237"/>
                </a:cubicBezTo>
                <a:cubicBezTo>
                  <a:pt x="234" y="201"/>
                  <a:pt x="204" y="171"/>
                  <a:pt x="168" y="171"/>
                </a:cubicBezTo>
                <a:close/>
              </a:path>
            </a:pathLst>
          </a:custGeom>
          <a:solidFill>
            <a:srgbClr val="a6a6a6"/>
          </a:solidFill>
          <a:ln w="0">
            <a:noFill/>
          </a:ln>
        </p:spPr>
        <p:style>
          <a:lnRef idx="0"/>
          <a:fillRef idx="0"/>
          <a:effectRef idx="0"/>
          <a:fontRef idx="minor"/>
        </p:style>
        <p:txBody>
          <a:bodyPr lIns="145800" rIns="145800" tIns="8280" bIns="8280" anchor="t">
            <a:noAutofit/>
          </a:bodyPr>
          <a:p>
            <a:endParaRPr b="0" lang="en-US" sz="1800" spc="-1" strike="noStrike">
              <a:solidFill>
                <a:srgbClr val="000000"/>
              </a:solidFill>
              <a:latin typeface="Calibri"/>
            </a:endParaRPr>
          </a:p>
        </p:txBody>
      </p:sp>
      <p:sp>
        <p:nvSpPr>
          <p:cNvPr id="1742" name="Freeform 131"/>
          <p:cNvSpPr/>
          <p:nvPr/>
        </p:nvSpPr>
        <p:spPr>
          <a:xfrm>
            <a:off x="5565600" y="1157400"/>
            <a:ext cx="190800" cy="191880"/>
          </a:xfrm>
          <a:custGeom>
            <a:avLst/>
            <a:gdLst/>
            <a:ahLst/>
            <a:rect l="l" t="t" r="r" b="b"/>
            <a:pathLst>
              <a:path w="714" h="714">
                <a:moveTo>
                  <a:pt x="571" y="333"/>
                </a:moveTo>
                <a:cubicBezTo>
                  <a:pt x="569" y="300"/>
                  <a:pt x="565" y="268"/>
                  <a:pt x="559" y="238"/>
                </a:cubicBezTo>
                <a:lnTo>
                  <a:pt x="643" y="238"/>
                </a:lnTo>
                <a:cubicBezTo>
                  <a:pt x="655" y="267"/>
                  <a:pt x="663" y="299"/>
                  <a:pt x="666" y="333"/>
                </a:cubicBezTo>
                <a:lnTo>
                  <a:pt x="571" y="333"/>
                </a:lnTo>
                <a:close/>
                <a:moveTo>
                  <a:pt x="643" y="476"/>
                </a:moveTo>
                <a:lnTo>
                  <a:pt x="559" y="476"/>
                </a:lnTo>
                <a:cubicBezTo>
                  <a:pt x="565" y="446"/>
                  <a:pt x="569" y="414"/>
                  <a:pt x="571" y="381"/>
                </a:cubicBezTo>
                <a:lnTo>
                  <a:pt x="666" y="381"/>
                </a:lnTo>
                <a:cubicBezTo>
                  <a:pt x="663" y="414"/>
                  <a:pt x="655" y="446"/>
                  <a:pt x="643" y="476"/>
                </a:cubicBezTo>
                <a:close/>
                <a:moveTo>
                  <a:pt x="491" y="636"/>
                </a:moveTo>
                <a:cubicBezTo>
                  <a:pt x="514" y="606"/>
                  <a:pt x="533" y="567"/>
                  <a:pt x="547" y="523"/>
                </a:cubicBezTo>
                <a:lnTo>
                  <a:pt x="618" y="523"/>
                </a:lnTo>
                <a:cubicBezTo>
                  <a:pt x="587" y="572"/>
                  <a:pt x="543" y="611"/>
                  <a:pt x="491" y="636"/>
                </a:cubicBezTo>
                <a:close/>
                <a:moveTo>
                  <a:pt x="381" y="663"/>
                </a:moveTo>
                <a:lnTo>
                  <a:pt x="381" y="523"/>
                </a:lnTo>
                <a:lnTo>
                  <a:pt x="497" y="523"/>
                </a:lnTo>
                <a:cubicBezTo>
                  <a:pt x="472" y="598"/>
                  <a:pt x="430" y="650"/>
                  <a:pt x="381" y="663"/>
                </a:cubicBezTo>
                <a:close/>
                <a:moveTo>
                  <a:pt x="381" y="381"/>
                </a:moveTo>
                <a:lnTo>
                  <a:pt x="523" y="381"/>
                </a:lnTo>
                <a:cubicBezTo>
                  <a:pt x="522" y="414"/>
                  <a:pt x="518" y="446"/>
                  <a:pt x="511" y="476"/>
                </a:cubicBezTo>
                <a:lnTo>
                  <a:pt x="381" y="476"/>
                </a:lnTo>
                <a:lnTo>
                  <a:pt x="381" y="381"/>
                </a:lnTo>
                <a:close/>
                <a:moveTo>
                  <a:pt x="381" y="238"/>
                </a:moveTo>
                <a:lnTo>
                  <a:pt x="511" y="238"/>
                </a:lnTo>
                <a:cubicBezTo>
                  <a:pt x="518" y="267"/>
                  <a:pt x="522" y="299"/>
                  <a:pt x="523" y="333"/>
                </a:cubicBezTo>
                <a:lnTo>
                  <a:pt x="381" y="333"/>
                </a:lnTo>
                <a:lnTo>
                  <a:pt x="381" y="238"/>
                </a:lnTo>
                <a:close/>
                <a:moveTo>
                  <a:pt x="381" y="50"/>
                </a:moveTo>
                <a:cubicBezTo>
                  <a:pt x="430" y="63"/>
                  <a:pt x="472" y="116"/>
                  <a:pt x="497" y="190"/>
                </a:cubicBezTo>
                <a:lnTo>
                  <a:pt x="381" y="190"/>
                </a:lnTo>
                <a:lnTo>
                  <a:pt x="381" y="50"/>
                </a:lnTo>
                <a:close/>
                <a:moveTo>
                  <a:pt x="618" y="190"/>
                </a:moveTo>
                <a:lnTo>
                  <a:pt x="547" y="190"/>
                </a:lnTo>
                <a:cubicBezTo>
                  <a:pt x="533" y="146"/>
                  <a:pt x="514" y="108"/>
                  <a:pt x="491" y="77"/>
                </a:cubicBezTo>
                <a:cubicBezTo>
                  <a:pt x="543" y="102"/>
                  <a:pt x="587" y="142"/>
                  <a:pt x="618" y="190"/>
                </a:cubicBezTo>
                <a:close/>
                <a:moveTo>
                  <a:pt x="333" y="190"/>
                </a:moveTo>
                <a:lnTo>
                  <a:pt x="216" y="190"/>
                </a:lnTo>
                <a:cubicBezTo>
                  <a:pt x="242" y="116"/>
                  <a:pt x="284" y="63"/>
                  <a:pt x="333" y="50"/>
                </a:cubicBezTo>
                <a:lnTo>
                  <a:pt x="333" y="190"/>
                </a:lnTo>
                <a:close/>
                <a:moveTo>
                  <a:pt x="333" y="333"/>
                </a:moveTo>
                <a:lnTo>
                  <a:pt x="191" y="333"/>
                </a:lnTo>
                <a:cubicBezTo>
                  <a:pt x="192" y="299"/>
                  <a:pt x="196" y="267"/>
                  <a:pt x="203" y="238"/>
                </a:cubicBezTo>
                <a:lnTo>
                  <a:pt x="333" y="238"/>
                </a:lnTo>
                <a:lnTo>
                  <a:pt x="333" y="333"/>
                </a:lnTo>
                <a:close/>
                <a:moveTo>
                  <a:pt x="333" y="476"/>
                </a:moveTo>
                <a:lnTo>
                  <a:pt x="203" y="476"/>
                </a:lnTo>
                <a:cubicBezTo>
                  <a:pt x="196" y="446"/>
                  <a:pt x="192" y="414"/>
                  <a:pt x="191" y="381"/>
                </a:cubicBezTo>
                <a:lnTo>
                  <a:pt x="333" y="381"/>
                </a:lnTo>
                <a:lnTo>
                  <a:pt x="333" y="476"/>
                </a:lnTo>
                <a:close/>
                <a:moveTo>
                  <a:pt x="333" y="663"/>
                </a:moveTo>
                <a:cubicBezTo>
                  <a:pt x="284" y="650"/>
                  <a:pt x="242" y="598"/>
                  <a:pt x="216" y="523"/>
                </a:cubicBezTo>
                <a:lnTo>
                  <a:pt x="333" y="523"/>
                </a:lnTo>
                <a:lnTo>
                  <a:pt x="333" y="663"/>
                </a:lnTo>
                <a:close/>
                <a:moveTo>
                  <a:pt x="96" y="523"/>
                </a:moveTo>
                <a:lnTo>
                  <a:pt x="167" y="523"/>
                </a:lnTo>
                <a:cubicBezTo>
                  <a:pt x="181" y="567"/>
                  <a:pt x="200" y="606"/>
                  <a:pt x="223" y="636"/>
                </a:cubicBezTo>
                <a:cubicBezTo>
                  <a:pt x="171" y="611"/>
                  <a:pt x="127" y="572"/>
                  <a:pt x="96" y="523"/>
                </a:cubicBezTo>
                <a:close/>
                <a:moveTo>
                  <a:pt x="48" y="381"/>
                </a:moveTo>
                <a:lnTo>
                  <a:pt x="143" y="381"/>
                </a:lnTo>
                <a:cubicBezTo>
                  <a:pt x="144" y="414"/>
                  <a:pt x="148" y="446"/>
                  <a:pt x="155" y="476"/>
                </a:cubicBezTo>
                <a:lnTo>
                  <a:pt x="71" y="476"/>
                </a:lnTo>
                <a:cubicBezTo>
                  <a:pt x="59" y="446"/>
                  <a:pt x="51" y="414"/>
                  <a:pt x="48" y="381"/>
                </a:cubicBezTo>
                <a:close/>
                <a:moveTo>
                  <a:pt x="71" y="238"/>
                </a:moveTo>
                <a:lnTo>
                  <a:pt x="155" y="238"/>
                </a:lnTo>
                <a:cubicBezTo>
                  <a:pt x="148" y="268"/>
                  <a:pt x="144" y="300"/>
                  <a:pt x="143" y="333"/>
                </a:cubicBezTo>
                <a:lnTo>
                  <a:pt x="48" y="333"/>
                </a:lnTo>
                <a:cubicBezTo>
                  <a:pt x="51" y="299"/>
                  <a:pt x="59" y="267"/>
                  <a:pt x="71" y="238"/>
                </a:cubicBezTo>
                <a:close/>
                <a:moveTo>
                  <a:pt x="223" y="77"/>
                </a:moveTo>
                <a:cubicBezTo>
                  <a:pt x="200" y="108"/>
                  <a:pt x="181" y="146"/>
                  <a:pt x="167" y="190"/>
                </a:cubicBezTo>
                <a:lnTo>
                  <a:pt x="96" y="190"/>
                </a:lnTo>
                <a:cubicBezTo>
                  <a:pt x="127" y="142"/>
                  <a:pt x="171" y="102"/>
                  <a:pt x="223" y="77"/>
                </a:cubicBezTo>
                <a:close/>
                <a:moveTo>
                  <a:pt x="713" y="333"/>
                </a:moveTo>
                <a:cubicBezTo>
                  <a:pt x="702" y="155"/>
                  <a:pt x="559" y="12"/>
                  <a:pt x="381" y="0"/>
                </a:cubicBezTo>
                <a:lnTo>
                  <a:pt x="381" y="0"/>
                </a:lnTo>
                <a:lnTo>
                  <a:pt x="357" y="0"/>
                </a:lnTo>
                <a:lnTo>
                  <a:pt x="333" y="0"/>
                </a:lnTo>
                <a:lnTo>
                  <a:pt x="333" y="0"/>
                </a:lnTo>
                <a:cubicBezTo>
                  <a:pt x="155" y="12"/>
                  <a:pt x="12" y="155"/>
                  <a:pt x="1" y="333"/>
                </a:cubicBezTo>
                <a:lnTo>
                  <a:pt x="0" y="333"/>
                </a:lnTo>
                <a:lnTo>
                  <a:pt x="0" y="357"/>
                </a:lnTo>
                <a:lnTo>
                  <a:pt x="0" y="381"/>
                </a:lnTo>
                <a:lnTo>
                  <a:pt x="1" y="381"/>
                </a:lnTo>
                <a:cubicBezTo>
                  <a:pt x="12" y="559"/>
                  <a:pt x="155" y="701"/>
                  <a:pt x="333" y="713"/>
                </a:cubicBezTo>
                <a:lnTo>
                  <a:pt x="333" y="714"/>
                </a:lnTo>
                <a:lnTo>
                  <a:pt x="357" y="714"/>
                </a:lnTo>
                <a:lnTo>
                  <a:pt x="381" y="714"/>
                </a:lnTo>
                <a:lnTo>
                  <a:pt x="381" y="713"/>
                </a:lnTo>
                <a:cubicBezTo>
                  <a:pt x="559" y="701"/>
                  <a:pt x="702" y="559"/>
                  <a:pt x="713" y="381"/>
                </a:cubicBezTo>
                <a:lnTo>
                  <a:pt x="714" y="381"/>
                </a:lnTo>
                <a:lnTo>
                  <a:pt x="714" y="357"/>
                </a:lnTo>
                <a:lnTo>
                  <a:pt x="714" y="333"/>
                </a:lnTo>
                <a:lnTo>
                  <a:pt x="713" y="333"/>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43" name="Freeform 132"/>
          <p:cNvSpPr/>
          <p:nvPr/>
        </p:nvSpPr>
        <p:spPr>
          <a:xfrm>
            <a:off x="3589200" y="2970360"/>
            <a:ext cx="142920" cy="118800"/>
          </a:xfrm>
          <a:custGeom>
            <a:avLst/>
            <a:gdLst/>
            <a:ahLst/>
            <a:rect l="l" t="t" r="r" b="b"/>
            <a:pathLst>
              <a:path w="537" h="445">
                <a:moveTo>
                  <a:pt x="474" y="297"/>
                </a:moveTo>
                <a:lnTo>
                  <a:pt x="412" y="297"/>
                </a:lnTo>
                <a:cubicBezTo>
                  <a:pt x="400" y="297"/>
                  <a:pt x="391" y="288"/>
                  <a:pt x="391" y="277"/>
                </a:cubicBezTo>
                <a:cubicBezTo>
                  <a:pt x="391" y="265"/>
                  <a:pt x="400" y="256"/>
                  <a:pt x="412" y="256"/>
                </a:cubicBezTo>
                <a:lnTo>
                  <a:pt x="474" y="256"/>
                </a:lnTo>
                <a:cubicBezTo>
                  <a:pt x="485" y="256"/>
                  <a:pt x="494" y="265"/>
                  <a:pt x="494" y="277"/>
                </a:cubicBezTo>
                <a:cubicBezTo>
                  <a:pt x="494" y="288"/>
                  <a:pt x="485" y="297"/>
                  <a:pt x="474" y="297"/>
                </a:cubicBezTo>
                <a:close/>
                <a:moveTo>
                  <a:pt x="343" y="293"/>
                </a:moveTo>
                <a:lnTo>
                  <a:pt x="199" y="293"/>
                </a:lnTo>
                <a:cubicBezTo>
                  <a:pt x="192" y="293"/>
                  <a:pt x="186" y="287"/>
                  <a:pt x="186" y="280"/>
                </a:cubicBezTo>
                <a:cubicBezTo>
                  <a:pt x="186" y="273"/>
                  <a:pt x="192" y="267"/>
                  <a:pt x="199" y="267"/>
                </a:cubicBezTo>
                <a:lnTo>
                  <a:pt x="343" y="267"/>
                </a:lnTo>
                <a:cubicBezTo>
                  <a:pt x="350" y="267"/>
                  <a:pt x="356" y="273"/>
                  <a:pt x="356" y="280"/>
                </a:cubicBezTo>
                <a:cubicBezTo>
                  <a:pt x="356" y="287"/>
                  <a:pt x="350" y="293"/>
                  <a:pt x="343" y="293"/>
                </a:cubicBezTo>
                <a:close/>
                <a:moveTo>
                  <a:pt x="124" y="297"/>
                </a:moveTo>
                <a:lnTo>
                  <a:pt x="62" y="297"/>
                </a:lnTo>
                <a:cubicBezTo>
                  <a:pt x="51" y="297"/>
                  <a:pt x="42" y="288"/>
                  <a:pt x="42" y="277"/>
                </a:cubicBezTo>
                <a:cubicBezTo>
                  <a:pt x="42" y="265"/>
                  <a:pt x="51" y="256"/>
                  <a:pt x="62" y="256"/>
                </a:cubicBezTo>
                <a:lnTo>
                  <a:pt x="124" y="256"/>
                </a:lnTo>
                <a:cubicBezTo>
                  <a:pt x="135" y="256"/>
                  <a:pt x="144" y="265"/>
                  <a:pt x="144" y="277"/>
                </a:cubicBezTo>
                <a:cubicBezTo>
                  <a:pt x="144" y="288"/>
                  <a:pt x="135" y="297"/>
                  <a:pt x="124" y="297"/>
                </a:cubicBezTo>
                <a:close/>
                <a:moveTo>
                  <a:pt x="95" y="105"/>
                </a:moveTo>
                <a:cubicBezTo>
                  <a:pt x="113" y="53"/>
                  <a:pt x="128" y="37"/>
                  <a:pt x="158" y="37"/>
                </a:cubicBezTo>
                <a:lnTo>
                  <a:pt x="383" y="37"/>
                </a:lnTo>
                <a:cubicBezTo>
                  <a:pt x="413" y="37"/>
                  <a:pt x="430" y="55"/>
                  <a:pt x="447" y="105"/>
                </a:cubicBezTo>
                <a:lnTo>
                  <a:pt x="481" y="174"/>
                </a:lnTo>
                <a:cubicBezTo>
                  <a:pt x="470" y="170"/>
                  <a:pt x="457" y="167"/>
                  <a:pt x="445" y="167"/>
                </a:cubicBezTo>
                <a:lnTo>
                  <a:pt x="92" y="167"/>
                </a:lnTo>
                <a:cubicBezTo>
                  <a:pt x="81" y="167"/>
                  <a:pt x="70" y="169"/>
                  <a:pt x="60" y="173"/>
                </a:cubicBezTo>
                <a:lnTo>
                  <a:pt x="95" y="105"/>
                </a:lnTo>
                <a:close/>
                <a:moveTo>
                  <a:pt x="537" y="247"/>
                </a:moveTo>
                <a:cubicBezTo>
                  <a:pt x="537" y="237"/>
                  <a:pt x="534" y="227"/>
                  <a:pt x="530" y="217"/>
                </a:cubicBezTo>
                <a:cubicBezTo>
                  <a:pt x="530" y="215"/>
                  <a:pt x="529" y="213"/>
                  <a:pt x="528" y="210"/>
                </a:cubicBezTo>
                <a:lnTo>
                  <a:pt x="482" y="95"/>
                </a:lnTo>
                <a:lnTo>
                  <a:pt x="482" y="94"/>
                </a:lnTo>
                <a:cubicBezTo>
                  <a:pt x="465" y="45"/>
                  <a:pt x="442" y="0"/>
                  <a:pt x="383" y="0"/>
                </a:cubicBezTo>
                <a:lnTo>
                  <a:pt x="158" y="0"/>
                </a:lnTo>
                <a:cubicBezTo>
                  <a:pt x="98" y="0"/>
                  <a:pt x="77" y="46"/>
                  <a:pt x="60" y="94"/>
                </a:cubicBezTo>
                <a:lnTo>
                  <a:pt x="11" y="209"/>
                </a:lnTo>
                <a:cubicBezTo>
                  <a:pt x="4" y="221"/>
                  <a:pt x="0" y="233"/>
                  <a:pt x="0" y="247"/>
                </a:cubicBezTo>
                <a:lnTo>
                  <a:pt x="0" y="283"/>
                </a:lnTo>
                <a:cubicBezTo>
                  <a:pt x="0" y="289"/>
                  <a:pt x="1" y="294"/>
                  <a:pt x="2" y="299"/>
                </a:cubicBezTo>
                <a:cubicBezTo>
                  <a:pt x="1" y="303"/>
                  <a:pt x="0" y="306"/>
                  <a:pt x="0" y="310"/>
                </a:cubicBezTo>
                <a:lnTo>
                  <a:pt x="0" y="416"/>
                </a:lnTo>
                <a:cubicBezTo>
                  <a:pt x="0" y="432"/>
                  <a:pt x="13" y="445"/>
                  <a:pt x="29" y="445"/>
                </a:cubicBezTo>
                <a:lnTo>
                  <a:pt x="88" y="445"/>
                </a:lnTo>
                <a:cubicBezTo>
                  <a:pt x="103" y="445"/>
                  <a:pt x="116" y="432"/>
                  <a:pt x="116" y="416"/>
                </a:cubicBezTo>
                <a:lnTo>
                  <a:pt x="116" y="363"/>
                </a:lnTo>
                <a:lnTo>
                  <a:pt x="424" y="363"/>
                </a:lnTo>
                <a:lnTo>
                  <a:pt x="424" y="416"/>
                </a:lnTo>
                <a:cubicBezTo>
                  <a:pt x="424" y="432"/>
                  <a:pt x="437" y="445"/>
                  <a:pt x="453" y="445"/>
                </a:cubicBezTo>
                <a:lnTo>
                  <a:pt x="508" y="445"/>
                </a:lnTo>
                <a:cubicBezTo>
                  <a:pt x="524" y="445"/>
                  <a:pt x="537" y="432"/>
                  <a:pt x="537" y="416"/>
                </a:cubicBezTo>
                <a:lnTo>
                  <a:pt x="537" y="310"/>
                </a:lnTo>
                <a:cubicBezTo>
                  <a:pt x="537" y="306"/>
                  <a:pt x="536" y="303"/>
                  <a:pt x="535" y="299"/>
                </a:cubicBezTo>
                <a:cubicBezTo>
                  <a:pt x="536" y="294"/>
                  <a:pt x="537" y="289"/>
                  <a:pt x="537" y="283"/>
                </a:cubicBezTo>
                <a:lnTo>
                  <a:pt x="537" y="247"/>
                </a:lnTo>
                <a:close/>
              </a:path>
            </a:pathLst>
          </a:custGeom>
          <a:solidFill>
            <a:srgbClr val="a6a6a6"/>
          </a:solidFill>
          <a:ln w="0">
            <a:noFill/>
          </a:ln>
        </p:spPr>
        <p:style>
          <a:lnRef idx="0"/>
          <a:fillRef idx="0"/>
          <a:effectRef idx="0"/>
          <a:fontRef idx="minor"/>
        </p:style>
        <p:txBody>
          <a:bodyPr lIns="145800" rIns="145800" tIns="46080" bIns="46080" anchor="t">
            <a:noAutofit/>
          </a:bodyPr>
          <a:p>
            <a:endParaRPr b="0" lang="en-US" sz="1800" spc="-1" strike="noStrike">
              <a:solidFill>
                <a:srgbClr val="000000"/>
              </a:solidFill>
              <a:latin typeface="Calibri"/>
            </a:endParaRPr>
          </a:p>
        </p:txBody>
      </p:sp>
      <p:sp>
        <p:nvSpPr>
          <p:cNvPr id="1744" name="Freeform 133"/>
          <p:cNvSpPr/>
          <p:nvPr/>
        </p:nvSpPr>
        <p:spPr>
          <a:xfrm>
            <a:off x="4525920" y="3579840"/>
            <a:ext cx="169920" cy="173160"/>
          </a:xfrm>
          <a:custGeom>
            <a:avLst/>
            <a:gdLst/>
            <a:ahLst/>
            <a:rect l="l" t="t" r="r" b="b"/>
            <a:pathLst>
              <a:path w="633" h="642">
                <a:moveTo>
                  <a:pt x="474" y="135"/>
                </a:moveTo>
                <a:cubicBezTo>
                  <a:pt x="498" y="135"/>
                  <a:pt x="518" y="115"/>
                  <a:pt x="518" y="91"/>
                </a:cubicBezTo>
                <a:lnTo>
                  <a:pt x="518" y="44"/>
                </a:lnTo>
                <a:cubicBezTo>
                  <a:pt x="518" y="20"/>
                  <a:pt x="498" y="0"/>
                  <a:pt x="474" y="0"/>
                </a:cubicBezTo>
                <a:cubicBezTo>
                  <a:pt x="449" y="0"/>
                  <a:pt x="429" y="20"/>
                  <a:pt x="429" y="44"/>
                </a:cubicBezTo>
                <a:lnTo>
                  <a:pt x="429" y="91"/>
                </a:lnTo>
                <a:cubicBezTo>
                  <a:pt x="429" y="115"/>
                  <a:pt x="449" y="135"/>
                  <a:pt x="474" y="135"/>
                </a:cubicBezTo>
                <a:close/>
                <a:moveTo>
                  <a:pt x="484" y="539"/>
                </a:moveTo>
                <a:lnTo>
                  <a:pt x="453" y="539"/>
                </a:lnTo>
                <a:lnTo>
                  <a:pt x="453" y="336"/>
                </a:lnTo>
                <a:cubicBezTo>
                  <a:pt x="445" y="343"/>
                  <a:pt x="435" y="350"/>
                  <a:pt x="423" y="358"/>
                </a:cubicBezTo>
                <a:cubicBezTo>
                  <a:pt x="410" y="365"/>
                  <a:pt x="399" y="370"/>
                  <a:pt x="389" y="374"/>
                </a:cubicBezTo>
                <a:lnTo>
                  <a:pt x="389" y="343"/>
                </a:lnTo>
                <a:cubicBezTo>
                  <a:pt x="407" y="335"/>
                  <a:pt x="422" y="325"/>
                  <a:pt x="436" y="313"/>
                </a:cubicBezTo>
                <a:cubicBezTo>
                  <a:pt x="449" y="301"/>
                  <a:pt x="458" y="289"/>
                  <a:pt x="464" y="278"/>
                </a:cubicBezTo>
                <a:lnTo>
                  <a:pt x="484" y="278"/>
                </a:lnTo>
                <a:lnTo>
                  <a:pt x="484" y="539"/>
                </a:lnTo>
                <a:close/>
                <a:moveTo>
                  <a:pt x="163" y="470"/>
                </a:moveTo>
                <a:lnTo>
                  <a:pt x="195" y="466"/>
                </a:lnTo>
                <a:cubicBezTo>
                  <a:pt x="199" y="484"/>
                  <a:pt x="205" y="497"/>
                  <a:pt x="214" y="505"/>
                </a:cubicBezTo>
                <a:cubicBezTo>
                  <a:pt x="222" y="513"/>
                  <a:pt x="233" y="517"/>
                  <a:pt x="246" y="517"/>
                </a:cubicBezTo>
                <a:cubicBezTo>
                  <a:pt x="261" y="517"/>
                  <a:pt x="273" y="512"/>
                  <a:pt x="284" y="501"/>
                </a:cubicBezTo>
                <a:cubicBezTo>
                  <a:pt x="294" y="491"/>
                  <a:pt x="299" y="478"/>
                  <a:pt x="299" y="463"/>
                </a:cubicBezTo>
                <a:cubicBezTo>
                  <a:pt x="299" y="448"/>
                  <a:pt x="294" y="436"/>
                  <a:pt x="285" y="426"/>
                </a:cubicBezTo>
                <a:cubicBezTo>
                  <a:pt x="275" y="417"/>
                  <a:pt x="263" y="412"/>
                  <a:pt x="248" y="412"/>
                </a:cubicBezTo>
                <a:cubicBezTo>
                  <a:pt x="242" y="412"/>
                  <a:pt x="235" y="413"/>
                  <a:pt x="226" y="416"/>
                </a:cubicBezTo>
                <a:lnTo>
                  <a:pt x="230" y="388"/>
                </a:lnTo>
                <a:cubicBezTo>
                  <a:pt x="232" y="388"/>
                  <a:pt x="233" y="388"/>
                  <a:pt x="235" y="388"/>
                </a:cubicBezTo>
                <a:cubicBezTo>
                  <a:pt x="248" y="388"/>
                  <a:pt x="260" y="385"/>
                  <a:pt x="271" y="378"/>
                </a:cubicBezTo>
                <a:cubicBezTo>
                  <a:pt x="282" y="370"/>
                  <a:pt x="288" y="360"/>
                  <a:pt x="288" y="345"/>
                </a:cubicBezTo>
                <a:cubicBezTo>
                  <a:pt x="288" y="333"/>
                  <a:pt x="284" y="323"/>
                  <a:pt x="276" y="316"/>
                </a:cubicBezTo>
                <a:cubicBezTo>
                  <a:pt x="268" y="308"/>
                  <a:pt x="258" y="304"/>
                  <a:pt x="245" y="304"/>
                </a:cubicBezTo>
                <a:cubicBezTo>
                  <a:pt x="233" y="304"/>
                  <a:pt x="222" y="308"/>
                  <a:pt x="214" y="316"/>
                </a:cubicBezTo>
                <a:cubicBezTo>
                  <a:pt x="206" y="324"/>
                  <a:pt x="201" y="335"/>
                  <a:pt x="198" y="351"/>
                </a:cubicBezTo>
                <a:lnTo>
                  <a:pt x="166" y="345"/>
                </a:lnTo>
                <a:cubicBezTo>
                  <a:pt x="170" y="324"/>
                  <a:pt x="179" y="307"/>
                  <a:pt x="193" y="296"/>
                </a:cubicBezTo>
                <a:cubicBezTo>
                  <a:pt x="207" y="284"/>
                  <a:pt x="224" y="278"/>
                  <a:pt x="244" y="278"/>
                </a:cubicBezTo>
                <a:cubicBezTo>
                  <a:pt x="259" y="278"/>
                  <a:pt x="272" y="281"/>
                  <a:pt x="283" y="287"/>
                </a:cubicBezTo>
                <a:cubicBezTo>
                  <a:pt x="295" y="293"/>
                  <a:pt x="305" y="302"/>
                  <a:pt x="311" y="312"/>
                </a:cubicBezTo>
                <a:cubicBezTo>
                  <a:pt x="317" y="323"/>
                  <a:pt x="320" y="334"/>
                  <a:pt x="320" y="346"/>
                </a:cubicBezTo>
                <a:cubicBezTo>
                  <a:pt x="320" y="357"/>
                  <a:pt x="317" y="367"/>
                  <a:pt x="311" y="376"/>
                </a:cubicBezTo>
                <a:cubicBezTo>
                  <a:pt x="305" y="385"/>
                  <a:pt x="296" y="393"/>
                  <a:pt x="285" y="398"/>
                </a:cubicBezTo>
                <a:cubicBezTo>
                  <a:pt x="300" y="402"/>
                  <a:pt x="312" y="409"/>
                  <a:pt x="320" y="420"/>
                </a:cubicBezTo>
                <a:cubicBezTo>
                  <a:pt x="329" y="431"/>
                  <a:pt x="333" y="445"/>
                  <a:pt x="333" y="462"/>
                </a:cubicBezTo>
                <a:cubicBezTo>
                  <a:pt x="333" y="485"/>
                  <a:pt x="325" y="504"/>
                  <a:pt x="308" y="520"/>
                </a:cubicBezTo>
                <a:cubicBezTo>
                  <a:pt x="292" y="535"/>
                  <a:pt x="271" y="543"/>
                  <a:pt x="246" y="543"/>
                </a:cubicBezTo>
                <a:cubicBezTo>
                  <a:pt x="223" y="543"/>
                  <a:pt x="204" y="536"/>
                  <a:pt x="189" y="523"/>
                </a:cubicBezTo>
                <a:cubicBezTo>
                  <a:pt x="174" y="509"/>
                  <a:pt x="165" y="492"/>
                  <a:pt x="163" y="470"/>
                </a:cubicBezTo>
                <a:close/>
                <a:moveTo>
                  <a:pt x="157" y="135"/>
                </a:moveTo>
                <a:cubicBezTo>
                  <a:pt x="182" y="135"/>
                  <a:pt x="202" y="115"/>
                  <a:pt x="202" y="91"/>
                </a:cubicBezTo>
                <a:lnTo>
                  <a:pt x="202" y="44"/>
                </a:lnTo>
                <a:cubicBezTo>
                  <a:pt x="202" y="20"/>
                  <a:pt x="182" y="0"/>
                  <a:pt x="157" y="0"/>
                </a:cubicBezTo>
                <a:cubicBezTo>
                  <a:pt x="133" y="0"/>
                  <a:pt x="113" y="20"/>
                  <a:pt x="113" y="44"/>
                </a:cubicBezTo>
                <a:lnTo>
                  <a:pt x="113" y="91"/>
                </a:lnTo>
                <a:cubicBezTo>
                  <a:pt x="113" y="115"/>
                  <a:pt x="133" y="135"/>
                  <a:pt x="157" y="135"/>
                </a:cubicBezTo>
                <a:close/>
                <a:moveTo>
                  <a:pt x="588" y="597"/>
                </a:moveTo>
                <a:lnTo>
                  <a:pt x="45" y="597"/>
                </a:lnTo>
                <a:lnTo>
                  <a:pt x="45" y="235"/>
                </a:lnTo>
                <a:lnTo>
                  <a:pt x="588" y="235"/>
                </a:lnTo>
                <a:lnTo>
                  <a:pt x="588" y="597"/>
                </a:lnTo>
                <a:close/>
                <a:moveTo>
                  <a:pt x="632" y="77"/>
                </a:moveTo>
                <a:lnTo>
                  <a:pt x="542" y="77"/>
                </a:lnTo>
                <a:lnTo>
                  <a:pt x="542" y="99"/>
                </a:lnTo>
                <a:cubicBezTo>
                  <a:pt x="542" y="137"/>
                  <a:pt x="512" y="167"/>
                  <a:pt x="475" y="167"/>
                </a:cubicBezTo>
                <a:cubicBezTo>
                  <a:pt x="437" y="167"/>
                  <a:pt x="407" y="137"/>
                  <a:pt x="407" y="99"/>
                </a:cubicBezTo>
                <a:lnTo>
                  <a:pt x="407" y="77"/>
                </a:lnTo>
                <a:lnTo>
                  <a:pt x="226" y="77"/>
                </a:lnTo>
                <a:lnTo>
                  <a:pt x="226" y="99"/>
                </a:lnTo>
                <a:cubicBezTo>
                  <a:pt x="226" y="137"/>
                  <a:pt x="195" y="167"/>
                  <a:pt x="158" y="167"/>
                </a:cubicBezTo>
                <a:cubicBezTo>
                  <a:pt x="120" y="167"/>
                  <a:pt x="90" y="137"/>
                  <a:pt x="90" y="99"/>
                </a:cubicBezTo>
                <a:lnTo>
                  <a:pt x="90" y="77"/>
                </a:lnTo>
                <a:lnTo>
                  <a:pt x="0" y="76"/>
                </a:lnTo>
                <a:lnTo>
                  <a:pt x="0" y="642"/>
                </a:lnTo>
                <a:lnTo>
                  <a:pt x="45" y="642"/>
                </a:lnTo>
                <a:lnTo>
                  <a:pt x="588" y="642"/>
                </a:lnTo>
                <a:lnTo>
                  <a:pt x="633" y="642"/>
                </a:lnTo>
                <a:lnTo>
                  <a:pt x="632" y="77"/>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45" name="Freeform 134"/>
          <p:cNvSpPr/>
          <p:nvPr/>
        </p:nvSpPr>
        <p:spPr>
          <a:xfrm>
            <a:off x="7697880" y="868320"/>
            <a:ext cx="195120" cy="155520"/>
          </a:xfrm>
          <a:custGeom>
            <a:avLst/>
            <a:gdLst/>
            <a:ahLst/>
            <a:rect l="l" t="t" r="r" b="b"/>
            <a:pathLst>
              <a:path w="732" h="581">
                <a:moveTo>
                  <a:pt x="50" y="398"/>
                </a:moveTo>
                <a:lnTo>
                  <a:pt x="129" y="398"/>
                </a:lnTo>
                <a:lnTo>
                  <a:pt x="129" y="203"/>
                </a:lnTo>
                <a:lnTo>
                  <a:pt x="50" y="398"/>
                </a:lnTo>
                <a:close/>
                <a:moveTo>
                  <a:pt x="229" y="398"/>
                </a:moveTo>
                <a:lnTo>
                  <a:pt x="151" y="203"/>
                </a:lnTo>
                <a:lnTo>
                  <a:pt x="151" y="398"/>
                </a:lnTo>
                <a:lnTo>
                  <a:pt x="229" y="398"/>
                </a:lnTo>
                <a:close/>
                <a:moveTo>
                  <a:pt x="502" y="398"/>
                </a:moveTo>
                <a:lnTo>
                  <a:pt x="581" y="398"/>
                </a:lnTo>
                <a:lnTo>
                  <a:pt x="581" y="203"/>
                </a:lnTo>
                <a:lnTo>
                  <a:pt x="502" y="398"/>
                </a:lnTo>
                <a:close/>
                <a:moveTo>
                  <a:pt x="682" y="398"/>
                </a:moveTo>
                <a:lnTo>
                  <a:pt x="603" y="203"/>
                </a:lnTo>
                <a:lnTo>
                  <a:pt x="603" y="398"/>
                </a:lnTo>
                <a:lnTo>
                  <a:pt x="682" y="398"/>
                </a:lnTo>
                <a:close/>
                <a:moveTo>
                  <a:pt x="377" y="0"/>
                </a:moveTo>
                <a:cubicBezTo>
                  <a:pt x="400" y="0"/>
                  <a:pt x="398" y="19"/>
                  <a:pt x="398" y="43"/>
                </a:cubicBezTo>
                <a:lnTo>
                  <a:pt x="400" y="86"/>
                </a:lnTo>
                <a:lnTo>
                  <a:pt x="646" y="86"/>
                </a:lnTo>
                <a:lnTo>
                  <a:pt x="646" y="129"/>
                </a:lnTo>
                <a:lnTo>
                  <a:pt x="618" y="129"/>
                </a:lnTo>
                <a:lnTo>
                  <a:pt x="732" y="398"/>
                </a:lnTo>
                <a:cubicBezTo>
                  <a:pt x="732" y="439"/>
                  <a:pt x="663" y="473"/>
                  <a:pt x="592" y="473"/>
                </a:cubicBezTo>
                <a:cubicBezTo>
                  <a:pt x="521" y="473"/>
                  <a:pt x="452" y="439"/>
                  <a:pt x="452" y="398"/>
                </a:cubicBezTo>
                <a:lnTo>
                  <a:pt x="566" y="129"/>
                </a:lnTo>
                <a:lnTo>
                  <a:pt x="401" y="129"/>
                </a:lnTo>
                <a:lnTo>
                  <a:pt x="414" y="518"/>
                </a:lnTo>
                <a:cubicBezTo>
                  <a:pt x="497" y="524"/>
                  <a:pt x="560" y="550"/>
                  <a:pt x="560" y="581"/>
                </a:cubicBezTo>
                <a:lnTo>
                  <a:pt x="194" y="581"/>
                </a:lnTo>
                <a:cubicBezTo>
                  <a:pt x="194" y="550"/>
                  <a:pt x="256" y="524"/>
                  <a:pt x="339" y="518"/>
                </a:cubicBezTo>
                <a:lnTo>
                  <a:pt x="352" y="129"/>
                </a:lnTo>
                <a:lnTo>
                  <a:pt x="166" y="129"/>
                </a:lnTo>
                <a:lnTo>
                  <a:pt x="280" y="398"/>
                </a:lnTo>
                <a:cubicBezTo>
                  <a:pt x="280" y="439"/>
                  <a:pt x="211" y="473"/>
                  <a:pt x="140" y="473"/>
                </a:cubicBezTo>
                <a:cubicBezTo>
                  <a:pt x="69" y="473"/>
                  <a:pt x="0" y="439"/>
                  <a:pt x="0" y="398"/>
                </a:cubicBezTo>
                <a:lnTo>
                  <a:pt x="114" y="129"/>
                </a:lnTo>
                <a:lnTo>
                  <a:pt x="86" y="129"/>
                </a:lnTo>
                <a:lnTo>
                  <a:pt x="86" y="86"/>
                </a:lnTo>
                <a:lnTo>
                  <a:pt x="354" y="86"/>
                </a:lnTo>
                <a:lnTo>
                  <a:pt x="355" y="43"/>
                </a:lnTo>
                <a:cubicBezTo>
                  <a:pt x="355" y="19"/>
                  <a:pt x="353" y="0"/>
                  <a:pt x="377"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46" name="Freeform 135"/>
          <p:cNvSpPr/>
          <p:nvPr/>
        </p:nvSpPr>
        <p:spPr>
          <a:xfrm>
            <a:off x="8397720" y="1181160"/>
            <a:ext cx="150840" cy="144360"/>
          </a:xfrm>
          <a:custGeom>
            <a:avLst/>
            <a:gdLst/>
            <a:ahLst/>
            <a:rect l="l" t="t" r="r" b="b"/>
            <a:pathLst>
              <a:path w="563" h="538">
                <a:moveTo>
                  <a:pt x="130" y="479"/>
                </a:moveTo>
                <a:cubicBezTo>
                  <a:pt x="98" y="479"/>
                  <a:pt x="72" y="453"/>
                  <a:pt x="72" y="421"/>
                </a:cubicBezTo>
                <a:cubicBezTo>
                  <a:pt x="72" y="389"/>
                  <a:pt x="98" y="363"/>
                  <a:pt x="130" y="363"/>
                </a:cubicBezTo>
                <a:cubicBezTo>
                  <a:pt x="162" y="363"/>
                  <a:pt x="188" y="389"/>
                  <a:pt x="188" y="421"/>
                </a:cubicBezTo>
                <a:cubicBezTo>
                  <a:pt x="188" y="453"/>
                  <a:pt x="162" y="479"/>
                  <a:pt x="130" y="479"/>
                </a:cubicBezTo>
                <a:close/>
                <a:moveTo>
                  <a:pt x="438" y="171"/>
                </a:moveTo>
                <a:cubicBezTo>
                  <a:pt x="406" y="171"/>
                  <a:pt x="380" y="145"/>
                  <a:pt x="380" y="113"/>
                </a:cubicBezTo>
                <a:cubicBezTo>
                  <a:pt x="380" y="81"/>
                  <a:pt x="406" y="55"/>
                  <a:pt x="438" y="55"/>
                </a:cubicBezTo>
                <a:cubicBezTo>
                  <a:pt x="470" y="55"/>
                  <a:pt x="496" y="81"/>
                  <a:pt x="496" y="113"/>
                </a:cubicBezTo>
                <a:cubicBezTo>
                  <a:pt x="496" y="145"/>
                  <a:pt x="470" y="171"/>
                  <a:pt x="438" y="171"/>
                </a:cubicBezTo>
                <a:close/>
                <a:moveTo>
                  <a:pt x="441" y="480"/>
                </a:moveTo>
                <a:cubicBezTo>
                  <a:pt x="409" y="480"/>
                  <a:pt x="383" y="454"/>
                  <a:pt x="383" y="422"/>
                </a:cubicBezTo>
                <a:cubicBezTo>
                  <a:pt x="383" y="390"/>
                  <a:pt x="409" y="364"/>
                  <a:pt x="441" y="364"/>
                </a:cubicBezTo>
                <a:cubicBezTo>
                  <a:pt x="473" y="364"/>
                  <a:pt x="499" y="390"/>
                  <a:pt x="499" y="422"/>
                </a:cubicBezTo>
                <a:cubicBezTo>
                  <a:pt x="499" y="454"/>
                  <a:pt x="473" y="480"/>
                  <a:pt x="441" y="480"/>
                </a:cubicBezTo>
                <a:close/>
                <a:moveTo>
                  <a:pt x="129" y="327"/>
                </a:moveTo>
                <a:cubicBezTo>
                  <a:pt x="97" y="327"/>
                  <a:pt x="71" y="301"/>
                  <a:pt x="71" y="269"/>
                </a:cubicBezTo>
                <a:cubicBezTo>
                  <a:pt x="71" y="237"/>
                  <a:pt x="97" y="211"/>
                  <a:pt x="129" y="211"/>
                </a:cubicBezTo>
                <a:cubicBezTo>
                  <a:pt x="161" y="211"/>
                  <a:pt x="187" y="237"/>
                  <a:pt x="187" y="269"/>
                </a:cubicBezTo>
                <a:cubicBezTo>
                  <a:pt x="187" y="301"/>
                  <a:pt x="161" y="327"/>
                  <a:pt x="129" y="327"/>
                </a:cubicBezTo>
                <a:close/>
                <a:moveTo>
                  <a:pt x="437" y="327"/>
                </a:moveTo>
                <a:cubicBezTo>
                  <a:pt x="405" y="327"/>
                  <a:pt x="379" y="301"/>
                  <a:pt x="379" y="269"/>
                </a:cubicBezTo>
                <a:cubicBezTo>
                  <a:pt x="379" y="237"/>
                  <a:pt x="405" y="211"/>
                  <a:pt x="437" y="211"/>
                </a:cubicBezTo>
                <a:cubicBezTo>
                  <a:pt x="469" y="211"/>
                  <a:pt x="495" y="237"/>
                  <a:pt x="495" y="269"/>
                </a:cubicBezTo>
                <a:cubicBezTo>
                  <a:pt x="495" y="301"/>
                  <a:pt x="469" y="327"/>
                  <a:pt x="437" y="327"/>
                </a:cubicBezTo>
                <a:close/>
                <a:moveTo>
                  <a:pt x="128" y="170"/>
                </a:moveTo>
                <a:cubicBezTo>
                  <a:pt x="96" y="170"/>
                  <a:pt x="70" y="144"/>
                  <a:pt x="70" y="112"/>
                </a:cubicBezTo>
                <a:cubicBezTo>
                  <a:pt x="70" y="80"/>
                  <a:pt x="96" y="54"/>
                  <a:pt x="128" y="54"/>
                </a:cubicBezTo>
                <a:cubicBezTo>
                  <a:pt x="160" y="54"/>
                  <a:pt x="186" y="80"/>
                  <a:pt x="186" y="112"/>
                </a:cubicBezTo>
                <a:cubicBezTo>
                  <a:pt x="186" y="144"/>
                  <a:pt x="160" y="170"/>
                  <a:pt x="128" y="170"/>
                </a:cubicBezTo>
                <a:close/>
                <a:moveTo>
                  <a:pt x="518" y="0"/>
                </a:moveTo>
                <a:lnTo>
                  <a:pt x="44" y="0"/>
                </a:lnTo>
                <a:cubicBezTo>
                  <a:pt x="20" y="0"/>
                  <a:pt x="0" y="20"/>
                  <a:pt x="0" y="45"/>
                </a:cubicBezTo>
                <a:lnTo>
                  <a:pt x="0" y="493"/>
                </a:lnTo>
                <a:cubicBezTo>
                  <a:pt x="0" y="518"/>
                  <a:pt x="20" y="538"/>
                  <a:pt x="44" y="538"/>
                </a:cubicBezTo>
                <a:lnTo>
                  <a:pt x="518" y="538"/>
                </a:lnTo>
                <a:cubicBezTo>
                  <a:pt x="543" y="538"/>
                  <a:pt x="563" y="518"/>
                  <a:pt x="563" y="493"/>
                </a:cubicBezTo>
                <a:lnTo>
                  <a:pt x="563" y="45"/>
                </a:lnTo>
                <a:cubicBezTo>
                  <a:pt x="563" y="20"/>
                  <a:pt x="543" y="0"/>
                  <a:pt x="518" y="0"/>
                </a:cubicBezTo>
                <a:close/>
              </a:path>
            </a:pathLst>
          </a:custGeom>
          <a:solidFill>
            <a:srgbClr val="a6a6a6"/>
          </a:solidFill>
          <a:ln w="0">
            <a:noFill/>
          </a:ln>
        </p:spPr>
        <p:style>
          <a:lnRef idx="0"/>
          <a:fillRef idx="0"/>
          <a:effectRef idx="0"/>
          <a:fontRef idx="minor"/>
        </p:style>
        <p:txBody>
          <a:bodyPr lIns="145800" rIns="145800" tIns="71640" bIns="71640" anchor="t">
            <a:noAutofit/>
          </a:bodyPr>
          <a:p>
            <a:endParaRPr b="0" lang="en-US" sz="1800" spc="-1" strike="noStrike">
              <a:solidFill>
                <a:srgbClr val="000000"/>
              </a:solidFill>
              <a:latin typeface="Calibri"/>
            </a:endParaRPr>
          </a:p>
        </p:txBody>
      </p:sp>
      <p:sp>
        <p:nvSpPr>
          <p:cNvPr id="1747" name="Freeform 136"/>
          <p:cNvSpPr/>
          <p:nvPr/>
        </p:nvSpPr>
        <p:spPr>
          <a:xfrm>
            <a:off x="6632640" y="3881520"/>
            <a:ext cx="164880" cy="164880"/>
          </a:xfrm>
          <a:custGeom>
            <a:avLst/>
            <a:gdLst/>
            <a:ahLst/>
            <a:rect l="l" t="t" r="r" b="b"/>
            <a:pathLst>
              <a:path w="613" h="614">
                <a:moveTo>
                  <a:pt x="363" y="181"/>
                </a:moveTo>
                <a:cubicBezTo>
                  <a:pt x="345" y="167"/>
                  <a:pt x="307" y="166"/>
                  <a:pt x="307" y="166"/>
                </a:cubicBezTo>
                <a:lnTo>
                  <a:pt x="307" y="22"/>
                </a:lnTo>
                <a:cubicBezTo>
                  <a:pt x="380" y="15"/>
                  <a:pt x="433" y="55"/>
                  <a:pt x="433" y="55"/>
                </a:cubicBezTo>
                <a:lnTo>
                  <a:pt x="363" y="181"/>
                </a:lnTo>
                <a:close/>
                <a:moveTo>
                  <a:pt x="307" y="362"/>
                </a:moveTo>
                <a:cubicBezTo>
                  <a:pt x="277" y="362"/>
                  <a:pt x="252" y="337"/>
                  <a:pt x="252" y="307"/>
                </a:cubicBezTo>
                <a:cubicBezTo>
                  <a:pt x="252" y="277"/>
                  <a:pt x="277" y="253"/>
                  <a:pt x="307" y="253"/>
                </a:cubicBezTo>
                <a:cubicBezTo>
                  <a:pt x="337" y="253"/>
                  <a:pt x="361" y="277"/>
                  <a:pt x="361" y="307"/>
                </a:cubicBezTo>
                <a:cubicBezTo>
                  <a:pt x="361" y="337"/>
                  <a:pt x="337" y="362"/>
                  <a:pt x="307" y="362"/>
                </a:cubicBezTo>
                <a:close/>
                <a:moveTo>
                  <a:pt x="307" y="198"/>
                </a:moveTo>
                <a:cubicBezTo>
                  <a:pt x="246" y="198"/>
                  <a:pt x="197" y="247"/>
                  <a:pt x="197" y="307"/>
                </a:cubicBezTo>
                <a:cubicBezTo>
                  <a:pt x="197" y="367"/>
                  <a:pt x="246" y="417"/>
                  <a:pt x="307" y="417"/>
                </a:cubicBezTo>
                <a:cubicBezTo>
                  <a:pt x="367" y="417"/>
                  <a:pt x="416" y="367"/>
                  <a:pt x="416" y="307"/>
                </a:cubicBezTo>
                <a:cubicBezTo>
                  <a:pt x="416" y="247"/>
                  <a:pt x="367" y="198"/>
                  <a:pt x="307" y="198"/>
                </a:cubicBezTo>
                <a:close/>
                <a:moveTo>
                  <a:pt x="307" y="430"/>
                </a:moveTo>
                <a:cubicBezTo>
                  <a:pt x="239" y="430"/>
                  <a:pt x="184" y="375"/>
                  <a:pt x="184" y="307"/>
                </a:cubicBezTo>
                <a:cubicBezTo>
                  <a:pt x="184" y="240"/>
                  <a:pt x="239" y="185"/>
                  <a:pt x="307" y="185"/>
                </a:cubicBezTo>
                <a:cubicBezTo>
                  <a:pt x="374" y="185"/>
                  <a:pt x="429" y="240"/>
                  <a:pt x="429" y="307"/>
                </a:cubicBezTo>
                <a:cubicBezTo>
                  <a:pt x="429" y="375"/>
                  <a:pt x="374" y="430"/>
                  <a:pt x="307" y="430"/>
                </a:cubicBezTo>
                <a:close/>
                <a:moveTo>
                  <a:pt x="307" y="0"/>
                </a:moveTo>
                <a:cubicBezTo>
                  <a:pt x="137" y="0"/>
                  <a:pt x="0" y="138"/>
                  <a:pt x="0" y="307"/>
                </a:cubicBezTo>
                <a:cubicBezTo>
                  <a:pt x="0" y="477"/>
                  <a:pt x="137" y="614"/>
                  <a:pt x="307" y="614"/>
                </a:cubicBezTo>
                <a:cubicBezTo>
                  <a:pt x="476" y="614"/>
                  <a:pt x="613" y="477"/>
                  <a:pt x="613" y="307"/>
                </a:cubicBezTo>
                <a:cubicBezTo>
                  <a:pt x="613" y="138"/>
                  <a:pt x="476" y="0"/>
                  <a:pt x="307"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48" name="Freeform 137"/>
          <p:cNvSpPr/>
          <p:nvPr/>
        </p:nvSpPr>
        <p:spPr>
          <a:xfrm>
            <a:off x="5581800" y="2255760"/>
            <a:ext cx="158760" cy="212760"/>
          </a:xfrm>
          <a:custGeom>
            <a:avLst/>
            <a:gdLst/>
            <a:ahLst/>
            <a:rect l="l" t="t" r="r" b="b"/>
            <a:pathLst>
              <a:path w="598" h="789">
                <a:moveTo>
                  <a:pt x="48" y="48"/>
                </a:moveTo>
                <a:lnTo>
                  <a:pt x="373" y="48"/>
                </a:lnTo>
                <a:lnTo>
                  <a:pt x="373" y="171"/>
                </a:lnTo>
                <a:cubicBezTo>
                  <a:pt x="373" y="188"/>
                  <a:pt x="387" y="203"/>
                  <a:pt x="405" y="203"/>
                </a:cubicBezTo>
                <a:lnTo>
                  <a:pt x="550" y="203"/>
                </a:lnTo>
                <a:lnTo>
                  <a:pt x="550" y="741"/>
                </a:lnTo>
                <a:lnTo>
                  <a:pt x="48" y="741"/>
                </a:lnTo>
                <a:lnTo>
                  <a:pt x="48" y="48"/>
                </a:lnTo>
                <a:close/>
                <a:moveTo>
                  <a:pt x="421" y="72"/>
                </a:moveTo>
                <a:lnTo>
                  <a:pt x="515" y="155"/>
                </a:lnTo>
                <a:lnTo>
                  <a:pt x="421" y="155"/>
                </a:lnTo>
                <a:lnTo>
                  <a:pt x="421" y="72"/>
                </a:lnTo>
                <a:close/>
                <a:moveTo>
                  <a:pt x="32" y="789"/>
                </a:moveTo>
                <a:lnTo>
                  <a:pt x="566" y="789"/>
                </a:lnTo>
                <a:cubicBezTo>
                  <a:pt x="584" y="789"/>
                  <a:pt x="598" y="775"/>
                  <a:pt x="598" y="757"/>
                </a:cubicBezTo>
                <a:lnTo>
                  <a:pt x="598" y="187"/>
                </a:lnTo>
                <a:cubicBezTo>
                  <a:pt x="598" y="174"/>
                  <a:pt x="591" y="157"/>
                  <a:pt x="581" y="149"/>
                </a:cubicBezTo>
                <a:lnTo>
                  <a:pt x="428" y="15"/>
                </a:lnTo>
                <a:cubicBezTo>
                  <a:pt x="418" y="6"/>
                  <a:pt x="402" y="0"/>
                  <a:pt x="389" y="0"/>
                </a:cubicBezTo>
                <a:lnTo>
                  <a:pt x="32" y="0"/>
                </a:lnTo>
                <a:cubicBezTo>
                  <a:pt x="14" y="0"/>
                  <a:pt x="0" y="14"/>
                  <a:pt x="0" y="32"/>
                </a:cubicBezTo>
                <a:lnTo>
                  <a:pt x="0" y="757"/>
                </a:lnTo>
                <a:cubicBezTo>
                  <a:pt x="0" y="775"/>
                  <a:pt x="14" y="789"/>
                  <a:pt x="32" y="78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49" name="Freeform 138"/>
          <p:cNvSpPr/>
          <p:nvPr/>
        </p:nvSpPr>
        <p:spPr>
          <a:xfrm>
            <a:off x="2311560" y="5167440"/>
            <a:ext cx="117360" cy="176040"/>
          </a:xfrm>
          <a:custGeom>
            <a:avLst/>
            <a:gdLst/>
            <a:ahLst/>
            <a:rect l="l" t="t" r="r" b="b"/>
            <a:pathLst>
              <a:path w="440" h="660">
                <a:moveTo>
                  <a:pt x="34" y="0"/>
                </a:moveTo>
                <a:cubicBezTo>
                  <a:pt x="25" y="0"/>
                  <a:pt x="17" y="3"/>
                  <a:pt x="10" y="10"/>
                </a:cubicBezTo>
                <a:cubicBezTo>
                  <a:pt x="3" y="17"/>
                  <a:pt x="0" y="25"/>
                  <a:pt x="0" y="35"/>
                </a:cubicBezTo>
                <a:lnTo>
                  <a:pt x="0" y="70"/>
                </a:lnTo>
                <a:lnTo>
                  <a:pt x="0" y="105"/>
                </a:lnTo>
                <a:lnTo>
                  <a:pt x="0" y="313"/>
                </a:lnTo>
                <a:lnTo>
                  <a:pt x="0" y="625"/>
                </a:lnTo>
                <a:cubicBezTo>
                  <a:pt x="0" y="634"/>
                  <a:pt x="4" y="642"/>
                  <a:pt x="11" y="649"/>
                </a:cubicBezTo>
                <a:cubicBezTo>
                  <a:pt x="18" y="657"/>
                  <a:pt x="26" y="660"/>
                  <a:pt x="34" y="660"/>
                </a:cubicBezTo>
                <a:cubicBezTo>
                  <a:pt x="43" y="660"/>
                  <a:pt x="51" y="657"/>
                  <a:pt x="58" y="649"/>
                </a:cubicBezTo>
                <a:cubicBezTo>
                  <a:pt x="65" y="642"/>
                  <a:pt x="69" y="634"/>
                  <a:pt x="69" y="625"/>
                </a:cubicBezTo>
                <a:lnTo>
                  <a:pt x="69" y="270"/>
                </a:lnTo>
                <a:cubicBezTo>
                  <a:pt x="81" y="264"/>
                  <a:pt x="92" y="260"/>
                  <a:pt x="102" y="260"/>
                </a:cubicBezTo>
                <a:cubicBezTo>
                  <a:pt x="124" y="260"/>
                  <a:pt x="164" y="275"/>
                  <a:pt x="219" y="304"/>
                </a:cubicBezTo>
                <a:cubicBezTo>
                  <a:pt x="275" y="333"/>
                  <a:pt x="315" y="348"/>
                  <a:pt x="338" y="348"/>
                </a:cubicBezTo>
                <a:cubicBezTo>
                  <a:pt x="376" y="348"/>
                  <a:pt x="410" y="336"/>
                  <a:pt x="440" y="313"/>
                </a:cubicBezTo>
                <a:lnTo>
                  <a:pt x="440" y="70"/>
                </a:lnTo>
                <a:cubicBezTo>
                  <a:pt x="425" y="82"/>
                  <a:pt x="413" y="90"/>
                  <a:pt x="405" y="96"/>
                </a:cubicBezTo>
                <a:cubicBezTo>
                  <a:pt x="397" y="102"/>
                  <a:pt x="387" y="108"/>
                  <a:pt x="374" y="114"/>
                </a:cubicBezTo>
                <a:cubicBezTo>
                  <a:pt x="361" y="119"/>
                  <a:pt x="349" y="122"/>
                  <a:pt x="338" y="122"/>
                </a:cubicBezTo>
                <a:cubicBezTo>
                  <a:pt x="316" y="122"/>
                  <a:pt x="276" y="108"/>
                  <a:pt x="220" y="79"/>
                </a:cubicBezTo>
                <a:cubicBezTo>
                  <a:pt x="164" y="50"/>
                  <a:pt x="124" y="35"/>
                  <a:pt x="102" y="35"/>
                </a:cubicBezTo>
                <a:cubicBezTo>
                  <a:pt x="94" y="35"/>
                  <a:pt x="83" y="36"/>
                  <a:pt x="69" y="39"/>
                </a:cubicBezTo>
                <a:lnTo>
                  <a:pt x="69" y="35"/>
                </a:lnTo>
                <a:cubicBezTo>
                  <a:pt x="69" y="25"/>
                  <a:pt x="65" y="17"/>
                  <a:pt x="58" y="10"/>
                </a:cubicBezTo>
                <a:cubicBezTo>
                  <a:pt x="52" y="3"/>
                  <a:pt x="44" y="0"/>
                  <a:pt x="34"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50" name="Freeform 139"/>
          <p:cNvSpPr/>
          <p:nvPr/>
        </p:nvSpPr>
        <p:spPr>
          <a:xfrm>
            <a:off x="8736120" y="3879720"/>
            <a:ext cx="126720" cy="169920"/>
          </a:xfrm>
          <a:custGeom>
            <a:avLst/>
            <a:gdLst/>
            <a:ahLst/>
            <a:rect l="l" t="t" r="r" b="b"/>
            <a:pathLst>
              <a:path w="470" h="634">
                <a:moveTo>
                  <a:pt x="470" y="586"/>
                </a:moveTo>
                <a:cubicBezTo>
                  <a:pt x="470" y="612"/>
                  <a:pt x="449" y="634"/>
                  <a:pt x="422" y="634"/>
                </a:cubicBezTo>
                <a:lnTo>
                  <a:pt x="48" y="634"/>
                </a:lnTo>
                <a:cubicBezTo>
                  <a:pt x="22" y="634"/>
                  <a:pt x="0" y="612"/>
                  <a:pt x="0" y="586"/>
                </a:cubicBezTo>
                <a:cubicBezTo>
                  <a:pt x="0" y="583"/>
                  <a:pt x="1" y="581"/>
                  <a:pt x="1" y="578"/>
                </a:cubicBezTo>
                <a:lnTo>
                  <a:pt x="131" y="239"/>
                </a:lnTo>
                <a:cubicBezTo>
                  <a:pt x="131" y="238"/>
                  <a:pt x="131" y="238"/>
                  <a:pt x="131" y="237"/>
                </a:cubicBezTo>
                <a:lnTo>
                  <a:pt x="131" y="43"/>
                </a:lnTo>
                <a:lnTo>
                  <a:pt x="116" y="43"/>
                </a:lnTo>
                <a:cubicBezTo>
                  <a:pt x="104" y="43"/>
                  <a:pt x="95" y="33"/>
                  <a:pt x="95" y="21"/>
                </a:cubicBezTo>
                <a:cubicBezTo>
                  <a:pt x="95" y="10"/>
                  <a:pt x="104" y="0"/>
                  <a:pt x="116" y="0"/>
                </a:cubicBezTo>
                <a:lnTo>
                  <a:pt x="152" y="0"/>
                </a:lnTo>
                <a:cubicBezTo>
                  <a:pt x="164" y="0"/>
                  <a:pt x="174" y="10"/>
                  <a:pt x="174" y="21"/>
                </a:cubicBezTo>
                <a:lnTo>
                  <a:pt x="174" y="239"/>
                </a:lnTo>
                <a:cubicBezTo>
                  <a:pt x="174" y="240"/>
                  <a:pt x="173" y="241"/>
                  <a:pt x="173" y="242"/>
                </a:cubicBezTo>
                <a:cubicBezTo>
                  <a:pt x="173" y="245"/>
                  <a:pt x="173" y="248"/>
                  <a:pt x="172" y="251"/>
                </a:cubicBezTo>
                <a:lnTo>
                  <a:pt x="94" y="455"/>
                </a:lnTo>
                <a:lnTo>
                  <a:pt x="375" y="455"/>
                </a:lnTo>
                <a:lnTo>
                  <a:pt x="294" y="251"/>
                </a:lnTo>
                <a:cubicBezTo>
                  <a:pt x="293" y="249"/>
                  <a:pt x="293" y="247"/>
                  <a:pt x="293" y="244"/>
                </a:cubicBezTo>
                <a:lnTo>
                  <a:pt x="293" y="243"/>
                </a:lnTo>
                <a:cubicBezTo>
                  <a:pt x="293" y="242"/>
                  <a:pt x="293" y="241"/>
                  <a:pt x="293" y="240"/>
                </a:cubicBezTo>
                <a:lnTo>
                  <a:pt x="293" y="21"/>
                </a:lnTo>
                <a:cubicBezTo>
                  <a:pt x="293" y="10"/>
                  <a:pt x="302" y="0"/>
                  <a:pt x="314" y="0"/>
                </a:cubicBezTo>
                <a:lnTo>
                  <a:pt x="351" y="0"/>
                </a:lnTo>
                <a:cubicBezTo>
                  <a:pt x="363" y="0"/>
                  <a:pt x="372" y="10"/>
                  <a:pt x="372" y="21"/>
                </a:cubicBezTo>
                <a:cubicBezTo>
                  <a:pt x="372" y="33"/>
                  <a:pt x="363" y="43"/>
                  <a:pt x="351" y="43"/>
                </a:cubicBezTo>
                <a:lnTo>
                  <a:pt x="335" y="43"/>
                </a:lnTo>
                <a:lnTo>
                  <a:pt x="335" y="239"/>
                </a:lnTo>
                <a:lnTo>
                  <a:pt x="469" y="578"/>
                </a:lnTo>
                <a:cubicBezTo>
                  <a:pt x="470" y="580"/>
                  <a:pt x="470" y="583"/>
                  <a:pt x="470" y="58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51" name="Freeform 140"/>
          <p:cNvSpPr/>
          <p:nvPr/>
        </p:nvSpPr>
        <p:spPr>
          <a:xfrm>
            <a:off x="6611760" y="841320"/>
            <a:ext cx="208080" cy="209520"/>
          </a:xfrm>
          <a:custGeom>
            <a:avLst/>
            <a:gdLst/>
            <a:ahLst/>
            <a:rect l="l" t="t" r="r" b="b"/>
            <a:pathLst>
              <a:path w="774" h="783">
                <a:moveTo>
                  <a:pt x="639" y="152"/>
                </a:moveTo>
                <a:cubicBezTo>
                  <a:pt x="645" y="167"/>
                  <a:pt x="637" y="184"/>
                  <a:pt x="622" y="190"/>
                </a:cubicBezTo>
                <a:cubicBezTo>
                  <a:pt x="607" y="196"/>
                  <a:pt x="590" y="188"/>
                  <a:pt x="584" y="173"/>
                </a:cubicBezTo>
                <a:cubicBezTo>
                  <a:pt x="578" y="158"/>
                  <a:pt x="585" y="141"/>
                  <a:pt x="601" y="135"/>
                </a:cubicBezTo>
                <a:cubicBezTo>
                  <a:pt x="616" y="129"/>
                  <a:pt x="633" y="136"/>
                  <a:pt x="639" y="152"/>
                </a:cubicBezTo>
                <a:close/>
                <a:moveTo>
                  <a:pt x="640" y="235"/>
                </a:moveTo>
                <a:cubicBezTo>
                  <a:pt x="600" y="250"/>
                  <a:pt x="555" y="231"/>
                  <a:pt x="539" y="191"/>
                </a:cubicBezTo>
                <a:cubicBezTo>
                  <a:pt x="524" y="151"/>
                  <a:pt x="543" y="106"/>
                  <a:pt x="583" y="90"/>
                </a:cubicBezTo>
                <a:cubicBezTo>
                  <a:pt x="623" y="74"/>
                  <a:pt x="668" y="94"/>
                  <a:pt x="684" y="134"/>
                </a:cubicBezTo>
                <a:cubicBezTo>
                  <a:pt x="699" y="174"/>
                  <a:pt x="680" y="219"/>
                  <a:pt x="640" y="235"/>
                </a:cubicBezTo>
                <a:close/>
                <a:moveTo>
                  <a:pt x="767" y="203"/>
                </a:moveTo>
                <a:lnTo>
                  <a:pt x="750" y="196"/>
                </a:lnTo>
                <a:cubicBezTo>
                  <a:pt x="754" y="175"/>
                  <a:pt x="755" y="154"/>
                  <a:pt x="750" y="134"/>
                </a:cubicBezTo>
                <a:lnTo>
                  <a:pt x="769" y="127"/>
                </a:lnTo>
                <a:cubicBezTo>
                  <a:pt x="772" y="125"/>
                  <a:pt x="774" y="121"/>
                  <a:pt x="773" y="117"/>
                </a:cubicBezTo>
                <a:lnTo>
                  <a:pt x="760" y="85"/>
                </a:lnTo>
                <a:cubicBezTo>
                  <a:pt x="758" y="81"/>
                  <a:pt x="754" y="79"/>
                  <a:pt x="750" y="81"/>
                </a:cubicBezTo>
                <a:lnTo>
                  <a:pt x="731" y="88"/>
                </a:lnTo>
                <a:cubicBezTo>
                  <a:pt x="720" y="71"/>
                  <a:pt x="705" y="56"/>
                  <a:pt x="688" y="45"/>
                </a:cubicBezTo>
                <a:lnTo>
                  <a:pt x="696" y="26"/>
                </a:lnTo>
                <a:cubicBezTo>
                  <a:pt x="697" y="24"/>
                  <a:pt x="697" y="22"/>
                  <a:pt x="696" y="21"/>
                </a:cubicBezTo>
                <a:cubicBezTo>
                  <a:pt x="695" y="19"/>
                  <a:pt x="694" y="17"/>
                  <a:pt x="692" y="17"/>
                </a:cubicBezTo>
                <a:lnTo>
                  <a:pt x="660" y="3"/>
                </a:lnTo>
                <a:cubicBezTo>
                  <a:pt x="656" y="1"/>
                  <a:pt x="652" y="3"/>
                  <a:pt x="650" y="7"/>
                </a:cubicBezTo>
                <a:lnTo>
                  <a:pt x="642" y="26"/>
                </a:lnTo>
                <a:cubicBezTo>
                  <a:pt x="623" y="21"/>
                  <a:pt x="602" y="21"/>
                  <a:pt x="583" y="25"/>
                </a:cubicBezTo>
                <a:lnTo>
                  <a:pt x="575" y="6"/>
                </a:lnTo>
                <a:cubicBezTo>
                  <a:pt x="573" y="2"/>
                  <a:pt x="569" y="0"/>
                  <a:pt x="565" y="2"/>
                </a:cubicBezTo>
                <a:lnTo>
                  <a:pt x="533" y="14"/>
                </a:lnTo>
                <a:cubicBezTo>
                  <a:pt x="529" y="16"/>
                  <a:pt x="527" y="20"/>
                  <a:pt x="529" y="24"/>
                </a:cubicBezTo>
                <a:lnTo>
                  <a:pt x="536" y="43"/>
                </a:lnTo>
                <a:cubicBezTo>
                  <a:pt x="519" y="54"/>
                  <a:pt x="504" y="68"/>
                  <a:pt x="493" y="85"/>
                </a:cubicBezTo>
                <a:lnTo>
                  <a:pt x="475" y="77"/>
                </a:lnTo>
                <a:cubicBezTo>
                  <a:pt x="471" y="76"/>
                  <a:pt x="467" y="77"/>
                  <a:pt x="465" y="81"/>
                </a:cubicBezTo>
                <a:lnTo>
                  <a:pt x="451" y="113"/>
                </a:lnTo>
                <a:cubicBezTo>
                  <a:pt x="450" y="115"/>
                  <a:pt x="450" y="117"/>
                  <a:pt x="451" y="119"/>
                </a:cubicBezTo>
                <a:cubicBezTo>
                  <a:pt x="452" y="121"/>
                  <a:pt x="453" y="122"/>
                  <a:pt x="455" y="123"/>
                </a:cubicBezTo>
                <a:lnTo>
                  <a:pt x="473" y="131"/>
                </a:lnTo>
                <a:cubicBezTo>
                  <a:pt x="468" y="150"/>
                  <a:pt x="468" y="171"/>
                  <a:pt x="472" y="191"/>
                </a:cubicBezTo>
                <a:lnTo>
                  <a:pt x="454" y="198"/>
                </a:lnTo>
                <a:cubicBezTo>
                  <a:pt x="451" y="200"/>
                  <a:pt x="449" y="204"/>
                  <a:pt x="450" y="208"/>
                </a:cubicBezTo>
                <a:lnTo>
                  <a:pt x="463" y="240"/>
                </a:lnTo>
                <a:cubicBezTo>
                  <a:pt x="465" y="244"/>
                  <a:pt x="469" y="246"/>
                  <a:pt x="473" y="244"/>
                </a:cubicBezTo>
                <a:lnTo>
                  <a:pt x="489" y="238"/>
                </a:lnTo>
                <a:cubicBezTo>
                  <a:pt x="500" y="255"/>
                  <a:pt x="514" y="270"/>
                  <a:pt x="532" y="282"/>
                </a:cubicBezTo>
                <a:lnTo>
                  <a:pt x="524" y="299"/>
                </a:lnTo>
                <a:cubicBezTo>
                  <a:pt x="523" y="303"/>
                  <a:pt x="524" y="307"/>
                  <a:pt x="528" y="309"/>
                </a:cubicBezTo>
                <a:lnTo>
                  <a:pt x="560" y="323"/>
                </a:lnTo>
                <a:cubicBezTo>
                  <a:pt x="562" y="323"/>
                  <a:pt x="564" y="323"/>
                  <a:pt x="566" y="323"/>
                </a:cubicBezTo>
                <a:cubicBezTo>
                  <a:pt x="568" y="322"/>
                  <a:pt x="569" y="320"/>
                  <a:pt x="570" y="319"/>
                </a:cubicBezTo>
                <a:lnTo>
                  <a:pt x="577" y="302"/>
                </a:lnTo>
                <a:cubicBezTo>
                  <a:pt x="598" y="307"/>
                  <a:pt x="619" y="308"/>
                  <a:pt x="640" y="304"/>
                </a:cubicBezTo>
                <a:lnTo>
                  <a:pt x="646" y="320"/>
                </a:lnTo>
                <a:cubicBezTo>
                  <a:pt x="648" y="324"/>
                  <a:pt x="652" y="326"/>
                  <a:pt x="656" y="324"/>
                </a:cubicBezTo>
                <a:lnTo>
                  <a:pt x="688" y="311"/>
                </a:lnTo>
                <a:cubicBezTo>
                  <a:pt x="692" y="310"/>
                  <a:pt x="694" y="305"/>
                  <a:pt x="693" y="302"/>
                </a:cubicBezTo>
                <a:lnTo>
                  <a:pt x="686" y="285"/>
                </a:lnTo>
                <a:cubicBezTo>
                  <a:pt x="704" y="274"/>
                  <a:pt x="719" y="259"/>
                  <a:pt x="731" y="242"/>
                </a:cubicBezTo>
                <a:lnTo>
                  <a:pt x="747" y="249"/>
                </a:lnTo>
                <a:cubicBezTo>
                  <a:pt x="751" y="250"/>
                  <a:pt x="756" y="249"/>
                  <a:pt x="757" y="245"/>
                </a:cubicBezTo>
                <a:lnTo>
                  <a:pt x="771" y="213"/>
                </a:lnTo>
                <a:cubicBezTo>
                  <a:pt x="773" y="209"/>
                  <a:pt x="771" y="205"/>
                  <a:pt x="767" y="203"/>
                </a:cubicBezTo>
                <a:close/>
                <a:moveTo>
                  <a:pt x="343" y="492"/>
                </a:moveTo>
                <a:cubicBezTo>
                  <a:pt x="343" y="520"/>
                  <a:pt x="320" y="543"/>
                  <a:pt x="292" y="543"/>
                </a:cubicBezTo>
                <a:cubicBezTo>
                  <a:pt x="263" y="543"/>
                  <a:pt x="240" y="520"/>
                  <a:pt x="240" y="492"/>
                </a:cubicBezTo>
                <a:cubicBezTo>
                  <a:pt x="240" y="463"/>
                  <a:pt x="263" y="440"/>
                  <a:pt x="292" y="440"/>
                </a:cubicBezTo>
                <a:cubicBezTo>
                  <a:pt x="320" y="440"/>
                  <a:pt x="343" y="463"/>
                  <a:pt x="343" y="492"/>
                </a:cubicBezTo>
                <a:close/>
                <a:moveTo>
                  <a:pt x="292" y="628"/>
                </a:moveTo>
                <a:cubicBezTo>
                  <a:pt x="216" y="628"/>
                  <a:pt x="156" y="567"/>
                  <a:pt x="156" y="492"/>
                </a:cubicBezTo>
                <a:cubicBezTo>
                  <a:pt x="156" y="417"/>
                  <a:pt x="216" y="356"/>
                  <a:pt x="292" y="356"/>
                </a:cubicBezTo>
                <a:cubicBezTo>
                  <a:pt x="366" y="356"/>
                  <a:pt x="427" y="417"/>
                  <a:pt x="427" y="492"/>
                </a:cubicBezTo>
                <a:cubicBezTo>
                  <a:pt x="427" y="567"/>
                  <a:pt x="366" y="628"/>
                  <a:pt x="292" y="628"/>
                </a:cubicBezTo>
                <a:close/>
                <a:moveTo>
                  <a:pt x="570" y="448"/>
                </a:moveTo>
                <a:lnTo>
                  <a:pt x="534" y="448"/>
                </a:lnTo>
                <a:cubicBezTo>
                  <a:pt x="528" y="413"/>
                  <a:pt x="513" y="379"/>
                  <a:pt x="492" y="350"/>
                </a:cubicBezTo>
                <a:lnTo>
                  <a:pt x="517" y="325"/>
                </a:lnTo>
                <a:cubicBezTo>
                  <a:pt x="519" y="323"/>
                  <a:pt x="521" y="319"/>
                  <a:pt x="521" y="316"/>
                </a:cubicBezTo>
                <a:cubicBezTo>
                  <a:pt x="521" y="313"/>
                  <a:pt x="519" y="309"/>
                  <a:pt x="517" y="307"/>
                </a:cubicBezTo>
                <a:lnTo>
                  <a:pt x="474" y="264"/>
                </a:lnTo>
                <a:cubicBezTo>
                  <a:pt x="469" y="259"/>
                  <a:pt x="461" y="259"/>
                  <a:pt x="456" y="264"/>
                </a:cubicBezTo>
                <a:lnTo>
                  <a:pt x="430" y="289"/>
                </a:lnTo>
                <a:cubicBezTo>
                  <a:pt x="401" y="269"/>
                  <a:pt x="368" y="256"/>
                  <a:pt x="333" y="250"/>
                </a:cubicBezTo>
                <a:lnTo>
                  <a:pt x="333" y="213"/>
                </a:lnTo>
                <a:cubicBezTo>
                  <a:pt x="333" y="206"/>
                  <a:pt x="328" y="200"/>
                  <a:pt x="321" y="200"/>
                </a:cubicBezTo>
                <a:lnTo>
                  <a:pt x="259" y="200"/>
                </a:lnTo>
                <a:cubicBezTo>
                  <a:pt x="252" y="200"/>
                  <a:pt x="246" y="206"/>
                  <a:pt x="246" y="213"/>
                </a:cubicBezTo>
                <a:lnTo>
                  <a:pt x="246" y="250"/>
                </a:lnTo>
                <a:cubicBezTo>
                  <a:pt x="212" y="256"/>
                  <a:pt x="178" y="269"/>
                  <a:pt x="149" y="290"/>
                </a:cubicBezTo>
                <a:lnTo>
                  <a:pt x="124" y="265"/>
                </a:lnTo>
                <a:cubicBezTo>
                  <a:pt x="119" y="260"/>
                  <a:pt x="111" y="260"/>
                  <a:pt x="106" y="265"/>
                </a:cubicBezTo>
                <a:lnTo>
                  <a:pt x="63" y="308"/>
                </a:lnTo>
                <a:cubicBezTo>
                  <a:pt x="60" y="310"/>
                  <a:pt x="59" y="314"/>
                  <a:pt x="59" y="317"/>
                </a:cubicBezTo>
                <a:cubicBezTo>
                  <a:pt x="59" y="321"/>
                  <a:pt x="60" y="324"/>
                  <a:pt x="63" y="326"/>
                </a:cubicBezTo>
                <a:lnTo>
                  <a:pt x="87" y="351"/>
                </a:lnTo>
                <a:cubicBezTo>
                  <a:pt x="66" y="380"/>
                  <a:pt x="52" y="413"/>
                  <a:pt x="45" y="448"/>
                </a:cubicBezTo>
                <a:lnTo>
                  <a:pt x="13" y="448"/>
                </a:lnTo>
                <a:cubicBezTo>
                  <a:pt x="6" y="448"/>
                  <a:pt x="0" y="454"/>
                  <a:pt x="0" y="461"/>
                </a:cubicBezTo>
                <a:lnTo>
                  <a:pt x="0" y="522"/>
                </a:lnTo>
                <a:cubicBezTo>
                  <a:pt x="0" y="530"/>
                  <a:pt x="6" y="535"/>
                  <a:pt x="13" y="535"/>
                </a:cubicBezTo>
                <a:lnTo>
                  <a:pt x="44" y="535"/>
                </a:lnTo>
                <a:cubicBezTo>
                  <a:pt x="50" y="571"/>
                  <a:pt x="64" y="605"/>
                  <a:pt x="84" y="635"/>
                </a:cubicBezTo>
                <a:lnTo>
                  <a:pt x="62" y="658"/>
                </a:lnTo>
                <a:cubicBezTo>
                  <a:pt x="57" y="663"/>
                  <a:pt x="57" y="671"/>
                  <a:pt x="62" y="676"/>
                </a:cubicBezTo>
                <a:lnTo>
                  <a:pt x="105" y="719"/>
                </a:lnTo>
                <a:cubicBezTo>
                  <a:pt x="107" y="721"/>
                  <a:pt x="111" y="723"/>
                  <a:pt x="114" y="723"/>
                </a:cubicBezTo>
                <a:cubicBezTo>
                  <a:pt x="117" y="723"/>
                  <a:pt x="121" y="721"/>
                  <a:pt x="123" y="719"/>
                </a:cubicBezTo>
                <a:lnTo>
                  <a:pt x="145" y="697"/>
                </a:lnTo>
                <a:cubicBezTo>
                  <a:pt x="175" y="719"/>
                  <a:pt x="210" y="733"/>
                  <a:pt x="246" y="740"/>
                </a:cubicBezTo>
                <a:lnTo>
                  <a:pt x="246" y="771"/>
                </a:lnTo>
                <a:cubicBezTo>
                  <a:pt x="246" y="778"/>
                  <a:pt x="252" y="783"/>
                  <a:pt x="259" y="783"/>
                </a:cubicBezTo>
                <a:lnTo>
                  <a:pt x="321" y="783"/>
                </a:lnTo>
                <a:cubicBezTo>
                  <a:pt x="328" y="783"/>
                  <a:pt x="333" y="778"/>
                  <a:pt x="333" y="771"/>
                </a:cubicBezTo>
                <a:lnTo>
                  <a:pt x="333" y="740"/>
                </a:lnTo>
                <a:cubicBezTo>
                  <a:pt x="369" y="733"/>
                  <a:pt x="404" y="719"/>
                  <a:pt x="434" y="697"/>
                </a:cubicBezTo>
                <a:lnTo>
                  <a:pt x="457" y="720"/>
                </a:lnTo>
                <a:cubicBezTo>
                  <a:pt x="462" y="725"/>
                  <a:pt x="470" y="725"/>
                  <a:pt x="475" y="720"/>
                </a:cubicBezTo>
                <a:lnTo>
                  <a:pt x="518" y="677"/>
                </a:lnTo>
                <a:cubicBezTo>
                  <a:pt x="523" y="672"/>
                  <a:pt x="523" y="664"/>
                  <a:pt x="518" y="659"/>
                </a:cubicBezTo>
                <a:lnTo>
                  <a:pt x="495" y="635"/>
                </a:lnTo>
                <a:cubicBezTo>
                  <a:pt x="516" y="605"/>
                  <a:pt x="529" y="571"/>
                  <a:pt x="535" y="535"/>
                </a:cubicBezTo>
                <a:lnTo>
                  <a:pt x="570" y="535"/>
                </a:lnTo>
                <a:cubicBezTo>
                  <a:pt x="577" y="535"/>
                  <a:pt x="583" y="530"/>
                  <a:pt x="583" y="522"/>
                </a:cubicBezTo>
                <a:lnTo>
                  <a:pt x="583" y="461"/>
                </a:lnTo>
                <a:cubicBezTo>
                  <a:pt x="583" y="454"/>
                  <a:pt x="577" y="448"/>
                  <a:pt x="570" y="448"/>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52" name="Freeform 141"/>
          <p:cNvSpPr/>
          <p:nvPr/>
        </p:nvSpPr>
        <p:spPr>
          <a:xfrm>
            <a:off x="5581800" y="2935440"/>
            <a:ext cx="160200" cy="187200"/>
          </a:xfrm>
          <a:custGeom>
            <a:avLst/>
            <a:gdLst/>
            <a:ahLst/>
            <a:rect l="l" t="t" r="r" b="b"/>
            <a:pathLst>
              <a:path w="606" h="702">
                <a:moveTo>
                  <a:pt x="308" y="612"/>
                </a:moveTo>
                <a:cubicBezTo>
                  <a:pt x="309" y="609"/>
                  <a:pt x="309" y="606"/>
                  <a:pt x="309" y="603"/>
                </a:cubicBezTo>
                <a:lnTo>
                  <a:pt x="337" y="367"/>
                </a:lnTo>
                <a:lnTo>
                  <a:pt x="341" y="367"/>
                </a:lnTo>
                <a:lnTo>
                  <a:pt x="606" y="454"/>
                </a:lnTo>
                <a:lnTo>
                  <a:pt x="599" y="386"/>
                </a:lnTo>
                <a:lnTo>
                  <a:pt x="521" y="333"/>
                </a:lnTo>
                <a:lnTo>
                  <a:pt x="443" y="281"/>
                </a:lnTo>
                <a:lnTo>
                  <a:pt x="341" y="211"/>
                </a:lnTo>
                <a:lnTo>
                  <a:pt x="340" y="211"/>
                </a:lnTo>
                <a:lnTo>
                  <a:pt x="325" y="49"/>
                </a:lnTo>
                <a:cubicBezTo>
                  <a:pt x="325" y="49"/>
                  <a:pt x="315" y="0"/>
                  <a:pt x="293" y="0"/>
                </a:cubicBezTo>
                <a:cubicBezTo>
                  <a:pt x="271" y="0"/>
                  <a:pt x="263" y="42"/>
                  <a:pt x="263" y="42"/>
                </a:cubicBezTo>
                <a:lnTo>
                  <a:pt x="246" y="218"/>
                </a:lnTo>
                <a:lnTo>
                  <a:pt x="156" y="281"/>
                </a:lnTo>
                <a:lnTo>
                  <a:pt x="78" y="335"/>
                </a:lnTo>
                <a:lnTo>
                  <a:pt x="6" y="386"/>
                </a:lnTo>
                <a:lnTo>
                  <a:pt x="0" y="463"/>
                </a:lnTo>
                <a:lnTo>
                  <a:pt x="249" y="371"/>
                </a:lnTo>
                <a:lnTo>
                  <a:pt x="271" y="597"/>
                </a:lnTo>
                <a:cubicBezTo>
                  <a:pt x="271" y="602"/>
                  <a:pt x="271" y="607"/>
                  <a:pt x="271" y="612"/>
                </a:cubicBezTo>
                <a:lnTo>
                  <a:pt x="191" y="667"/>
                </a:lnTo>
                <a:lnTo>
                  <a:pt x="191" y="702"/>
                </a:lnTo>
                <a:lnTo>
                  <a:pt x="272" y="673"/>
                </a:lnTo>
                <a:lnTo>
                  <a:pt x="278" y="673"/>
                </a:lnTo>
                <a:lnTo>
                  <a:pt x="297" y="673"/>
                </a:lnTo>
                <a:lnTo>
                  <a:pt x="313" y="673"/>
                </a:lnTo>
                <a:lnTo>
                  <a:pt x="397" y="700"/>
                </a:lnTo>
                <a:lnTo>
                  <a:pt x="397" y="670"/>
                </a:lnTo>
                <a:lnTo>
                  <a:pt x="308" y="612"/>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53" name="Freeform 142"/>
          <p:cNvSpPr/>
          <p:nvPr/>
        </p:nvSpPr>
        <p:spPr>
          <a:xfrm>
            <a:off x="8713800" y="4502160"/>
            <a:ext cx="171360" cy="171360"/>
          </a:xfrm>
          <a:custGeom>
            <a:avLst/>
            <a:gdLst/>
            <a:ahLst/>
            <a:rect l="l" t="t" r="r" b="b"/>
            <a:pathLst>
              <a:path w="639" h="638">
                <a:moveTo>
                  <a:pt x="525" y="113"/>
                </a:moveTo>
                <a:cubicBezTo>
                  <a:pt x="411" y="0"/>
                  <a:pt x="227" y="0"/>
                  <a:pt x="114" y="113"/>
                </a:cubicBezTo>
                <a:cubicBezTo>
                  <a:pt x="0" y="227"/>
                  <a:pt x="0" y="411"/>
                  <a:pt x="114" y="525"/>
                </a:cubicBezTo>
                <a:cubicBezTo>
                  <a:pt x="227" y="638"/>
                  <a:pt x="411" y="638"/>
                  <a:pt x="525" y="525"/>
                </a:cubicBezTo>
                <a:cubicBezTo>
                  <a:pt x="639" y="411"/>
                  <a:pt x="639" y="227"/>
                  <a:pt x="525" y="113"/>
                </a:cubicBezTo>
                <a:close/>
                <a:moveTo>
                  <a:pt x="501" y="310"/>
                </a:moveTo>
                <a:cubicBezTo>
                  <a:pt x="504" y="319"/>
                  <a:pt x="498" y="329"/>
                  <a:pt x="488" y="332"/>
                </a:cubicBezTo>
                <a:lnTo>
                  <a:pt x="326" y="370"/>
                </a:lnTo>
                <a:cubicBezTo>
                  <a:pt x="323" y="370"/>
                  <a:pt x="320" y="370"/>
                  <a:pt x="317" y="369"/>
                </a:cubicBezTo>
                <a:cubicBezTo>
                  <a:pt x="314" y="368"/>
                  <a:pt x="311" y="367"/>
                  <a:pt x="309" y="364"/>
                </a:cubicBezTo>
                <a:lnTo>
                  <a:pt x="195" y="243"/>
                </a:lnTo>
                <a:cubicBezTo>
                  <a:pt x="188" y="236"/>
                  <a:pt x="189" y="224"/>
                  <a:pt x="196" y="217"/>
                </a:cubicBezTo>
                <a:cubicBezTo>
                  <a:pt x="204" y="210"/>
                  <a:pt x="215" y="211"/>
                  <a:pt x="222" y="218"/>
                </a:cubicBezTo>
                <a:lnTo>
                  <a:pt x="328" y="331"/>
                </a:lnTo>
                <a:lnTo>
                  <a:pt x="479" y="296"/>
                </a:lnTo>
                <a:cubicBezTo>
                  <a:pt x="489" y="294"/>
                  <a:pt x="499" y="300"/>
                  <a:pt x="501" y="31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54" name="Freeform 143"/>
          <p:cNvSpPr/>
          <p:nvPr/>
        </p:nvSpPr>
        <p:spPr>
          <a:xfrm>
            <a:off x="9039240" y="2270160"/>
            <a:ext cx="201600" cy="183960"/>
          </a:xfrm>
          <a:custGeom>
            <a:avLst/>
            <a:gdLst/>
            <a:ahLst/>
            <a:rect l="l" t="t" r="r" b="b"/>
            <a:pathLst>
              <a:path w="755" h="685">
                <a:moveTo>
                  <a:pt x="754" y="409"/>
                </a:moveTo>
                <a:cubicBezTo>
                  <a:pt x="752" y="210"/>
                  <a:pt x="596" y="49"/>
                  <a:pt x="400" y="38"/>
                </a:cubicBezTo>
                <a:lnTo>
                  <a:pt x="400" y="21"/>
                </a:lnTo>
                <a:cubicBezTo>
                  <a:pt x="400" y="10"/>
                  <a:pt x="391" y="0"/>
                  <a:pt x="379" y="0"/>
                </a:cubicBezTo>
                <a:cubicBezTo>
                  <a:pt x="368" y="0"/>
                  <a:pt x="358" y="10"/>
                  <a:pt x="358" y="21"/>
                </a:cubicBezTo>
                <a:lnTo>
                  <a:pt x="358" y="38"/>
                </a:lnTo>
                <a:cubicBezTo>
                  <a:pt x="165" y="48"/>
                  <a:pt x="11" y="206"/>
                  <a:pt x="5" y="400"/>
                </a:cubicBezTo>
                <a:cubicBezTo>
                  <a:pt x="2" y="409"/>
                  <a:pt x="0" y="419"/>
                  <a:pt x="0" y="430"/>
                </a:cubicBezTo>
                <a:lnTo>
                  <a:pt x="38" y="430"/>
                </a:lnTo>
                <a:cubicBezTo>
                  <a:pt x="38" y="424"/>
                  <a:pt x="39" y="418"/>
                  <a:pt x="40" y="412"/>
                </a:cubicBezTo>
                <a:lnTo>
                  <a:pt x="42" y="412"/>
                </a:lnTo>
                <a:cubicBezTo>
                  <a:pt x="42" y="410"/>
                  <a:pt x="42" y="408"/>
                  <a:pt x="42" y="406"/>
                </a:cubicBezTo>
                <a:cubicBezTo>
                  <a:pt x="52" y="379"/>
                  <a:pt x="78" y="359"/>
                  <a:pt x="109" y="359"/>
                </a:cubicBezTo>
                <a:cubicBezTo>
                  <a:pt x="148" y="359"/>
                  <a:pt x="180" y="391"/>
                  <a:pt x="180" y="430"/>
                </a:cubicBezTo>
                <a:lnTo>
                  <a:pt x="217" y="430"/>
                </a:lnTo>
                <a:cubicBezTo>
                  <a:pt x="217" y="391"/>
                  <a:pt x="249" y="359"/>
                  <a:pt x="288" y="359"/>
                </a:cubicBezTo>
                <a:cubicBezTo>
                  <a:pt x="324" y="359"/>
                  <a:pt x="353" y="385"/>
                  <a:pt x="358" y="420"/>
                </a:cubicBezTo>
                <a:lnTo>
                  <a:pt x="358" y="609"/>
                </a:lnTo>
                <a:cubicBezTo>
                  <a:pt x="358" y="628"/>
                  <a:pt x="343" y="643"/>
                  <a:pt x="325" y="643"/>
                </a:cubicBezTo>
                <a:cubicBezTo>
                  <a:pt x="306" y="643"/>
                  <a:pt x="292" y="628"/>
                  <a:pt x="292" y="609"/>
                </a:cubicBezTo>
                <a:cubicBezTo>
                  <a:pt x="292" y="598"/>
                  <a:pt x="282" y="588"/>
                  <a:pt x="270" y="588"/>
                </a:cubicBezTo>
                <a:cubicBezTo>
                  <a:pt x="259" y="588"/>
                  <a:pt x="249" y="598"/>
                  <a:pt x="249" y="609"/>
                </a:cubicBezTo>
                <a:cubicBezTo>
                  <a:pt x="249" y="651"/>
                  <a:pt x="283" y="685"/>
                  <a:pt x="325" y="685"/>
                </a:cubicBezTo>
                <a:cubicBezTo>
                  <a:pt x="366" y="685"/>
                  <a:pt x="400" y="651"/>
                  <a:pt x="400" y="609"/>
                </a:cubicBezTo>
                <a:lnTo>
                  <a:pt x="400" y="412"/>
                </a:lnTo>
                <a:lnTo>
                  <a:pt x="399" y="412"/>
                </a:lnTo>
                <a:cubicBezTo>
                  <a:pt x="407" y="381"/>
                  <a:pt x="434" y="359"/>
                  <a:pt x="467" y="359"/>
                </a:cubicBezTo>
                <a:cubicBezTo>
                  <a:pt x="506" y="359"/>
                  <a:pt x="538" y="391"/>
                  <a:pt x="538" y="430"/>
                </a:cubicBezTo>
                <a:lnTo>
                  <a:pt x="576" y="430"/>
                </a:lnTo>
                <a:cubicBezTo>
                  <a:pt x="576" y="427"/>
                  <a:pt x="576" y="425"/>
                  <a:pt x="575" y="423"/>
                </a:cubicBezTo>
                <a:lnTo>
                  <a:pt x="576" y="423"/>
                </a:lnTo>
                <a:cubicBezTo>
                  <a:pt x="576" y="384"/>
                  <a:pt x="608" y="352"/>
                  <a:pt x="647" y="352"/>
                </a:cubicBezTo>
                <a:cubicBezTo>
                  <a:pt x="682" y="352"/>
                  <a:pt x="711" y="378"/>
                  <a:pt x="717" y="412"/>
                </a:cubicBezTo>
                <a:cubicBezTo>
                  <a:pt x="717" y="412"/>
                  <a:pt x="717" y="412"/>
                  <a:pt x="717" y="412"/>
                </a:cubicBezTo>
                <a:lnTo>
                  <a:pt x="717" y="412"/>
                </a:lnTo>
                <a:cubicBezTo>
                  <a:pt x="717" y="415"/>
                  <a:pt x="718" y="419"/>
                  <a:pt x="718" y="423"/>
                </a:cubicBezTo>
                <a:lnTo>
                  <a:pt x="755" y="423"/>
                </a:lnTo>
                <a:cubicBezTo>
                  <a:pt x="755" y="418"/>
                  <a:pt x="755" y="413"/>
                  <a:pt x="754" y="40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55" name="Freeform 144"/>
          <p:cNvSpPr/>
          <p:nvPr/>
        </p:nvSpPr>
        <p:spPr>
          <a:xfrm>
            <a:off x="4524480" y="5176800"/>
            <a:ext cx="171360" cy="158760"/>
          </a:xfrm>
          <a:custGeom>
            <a:avLst/>
            <a:gdLst/>
            <a:ahLst/>
            <a:rect l="l" t="t" r="r" b="b"/>
            <a:pathLst>
              <a:path w="640" h="594">
                <a:moveTo>
                  <a:pt x="223" y="265"/>
                </a:moveTo>
                <a:cubicBezTo>
                  <a:pt x="226" y="236"/>
                  <a:pt x="241" y="211"/>
                  <a:pt x="264" y="195"/>
                </a:cubicBezTo>
                <a:cubicBezTo>
                  <a:pt x="269" y="192"/>
                  <a:pt x="270" y="185"/>
                  <a:pt x="267" y="181"/>
                </a:cubicBezTo>
                <a:lnTo>
                  <a:pt x="163" y="8"/>
                </a:lnTo>
                <a:cubicBezTo>
                  <a:pt x="160" y="3"/>
                  <a:pt x="154" y="1"/>
                  <a:pt x="149" y="4"/>
                </a:cubicBezTo>
                <a:cubicBezTo>
                  <a:pt x="63" y="59"/>
                  <a:pt x="4" y="155"/>
                  <a:pt x="1" y="265"/>
                </a:cubicBezTo>
                <a:cubicBezTo>
                  <a:pt x="0" y="270"/>
                  <a:pt x="5" y="275"/>
                  <a:pt x="11" y="275"/>
                </a:cubicBezTo>
                <a:lnTo>
                  <a:pt x="212" y="275"/>
                </a:lnTo>
                <a:cubicBezTo>
                  <a:pt x="218" y="275"/>
                  <a:pt x="222" y="270"/>
                  <a:pt x="223" y="265"/>
                </a:cubicBezTo>
                <a:close/>
                <a:moveTo>
                  <a:pt x="320" y="243"/>
                </a:moveTo>
                <a:cubicBezTo>
                  <a:pt x="338" y="243"/>
                  <a:pt x="352" y="257"/>
                  <a:pt x="352" y="275"/>
                </a:cubicBezTo>
                <a:cubicBezTo>
                  <a:pt x="352" y="292"/>
                  <a:pt x="338" y="307"/>
                  <a:pt x="320" y="307"/>
                </a:cubicBezTo>
                <a:cubicBezTo>
                  <a:pt x="303" y="307"/>
                  <a:pt x="288" y="292"/>
                  <a:pt x="288" y="275"/>
                </a:cubicBezTo>
                <a:cubicBezTo>
                  <a:pt x="288" y="257"/>
                  <a:pt x="303" y="243"/>
                  <a:pt x="320" y="243"/>
                </a:cubicBezTo>
                <a:close/>
                <a:moveTo>
                  <a:pt x="320" y="333"/>
                </a:moveTo>
                <a:cubicBezTo>
                  <a:pt x="352" y="333"/>
                  <a:pt x="379" y="307"/>
                  <a:pt x="379" y="275"/>
                </a:cubicBezTo>
                <a:cubicBezTo>
                  <a:pt x="379" y="242"/>
                  <a:pt x="352" y="216"/>
                  <a:pt x="320" y="216"/>
                </a:cubicBezTo>
                <a:cubicBezTo>
                  <a:pt x="288" y="216"/>
                  <a:pt x="262" y="242"/>
                  <a:pt x="262" y="275"/>
                </a:cubicBezTo>
                <a:cubicBezTo>
                  <a:pt x="262" y="307"/>
                  <a:pt x="288" y="333"/>
                  <a:pt x="320" y="333"/>
                </a:cubicBezTo>
                <a:close/>
                <a:moveTo>
                  <a:pt x="489" y="3"/>
                </a:moveTo>
                <a:cubicBezTo>
                  <a:pt x="485" y="0"/>
                  <a:pt x="478" y="2"/>
                  <a:pt x="475" y="7"/>
                </a:cubicBezTo>
                <a:lnTo>
                  <a:pt x="369" y="178"/>
                </a:lnTo>
                <a:cubicBezTo>
                  <a:pt x="366" y="183"/>
                  <a:pt x="368" y="189"/>
                  <a:pt x="372" y="192"/>
                </a:cubicBezTo>
                <a:cubicBezTo>
                  <a:pt x="397" y="208"/>
                  <a:pt x="414" y="234"/>
                  <a:pt x="417" y="265"/>
                </a:cubicBezTo>
                <a:cubicBezTo>
                  <a:pt x="418" y="270"/>
                  <a:pt x="422" y="275"/>
                  <a:pt x="428" y="275"/>
                </a:cubicBezTo>
                <a:lnTo>
                  <a:pt x="630" y="275"/>
                </a:lnTo>
                <a:cubicBezTo>
                  <a:pt x="635" y="275"/>
                  <a:pt x="640" y="270"/>
                  <a:pt x="640" y="265"/>
                </a:cubicBezTo>
                <a:cubicBezTo>
                  <a:pt x="636" y="154"/>
                  <a:pt x="577" y="58"/>
                  <a:pt x="489" y="3"/>
                </a:cubicBezTo>
                <a:close/>
                <a:moveTo>
                  <a:pt x="372" y="369"/>
                </a:moveTo>
                <a:cubicBezTo>
                  <a:pt x="369" y="365"/>
                  <a:pt x="363" y="363"/>
                  <a:pt x="357" y="365"/>
                </a:cubicBezTo>
                <a:cubicBezTo>
                  <a:pt x="346" y="370"/>
                  <a:pt x="333" y="372"/>
                  <a:pt x="320" y="372"/>
                </a:cubicBezTo>
                <a:cubicBezTo>
                  <a:pt x="305" y="372"/>
                  <a:pt x="291" y="369"/>
                  <a:pt x="279" y="363"/>
                </a:cubicBezTo>
                <a:cubicBezTo>
                  <a:pt x="273" y="361"/>
                  <a:pt x="267" y="362"/>
                  <a:pt x="264" y="367"/>
                </a:cubicBezTo>
                <a:lnTo>
                  <a:pt x="163" y="541"/>
                </a:lnTo>
                <a:cubicBezTo>
                  <a:pt x="160" y="546"/>
                  <a:pt x="162" y="552"/>
                  <a:pt x="167" y="555"/>
                </a:cubicBezTo>
                <a:cubicBezTo>
                  <a:pt x="212" y="580"/>
                  <a:pt x="265" y="594"/>
                  <a:pt x="320" y="594"/>
                </a:cubicBezTo>
                <a:cubicBezTo>
                  <a:pt x="375" y="594"/>
                  <a:pt x="427" y="581"/>
                  <a:pt x="472" y="556"/>
                </a:cubicBezTo>
                <a:cubicBezTo>
                  <a:pt x="477" y="554"/>
                  <a:pt x="478" y="547"/>
                  <a:pt x="476" y="543"/>
                </a:cubicBezTo>
                <a:lnTo>
                  <a:pt x="372" y="369"/>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56" name="Freeform 145"/>
          <p:cNvSpPr/>
          <p:nvPr/>
        </p:nvSpPr>
        <p:spPr>
          <a:xfrm>
            <a:off x="8383680" y="2263680"/>
            <a:ext cx="226800" cy="196920"/>
          </a:xfrm>
          <a:custGeom>
            <a:avLst/>
            <a:gdLst/>
            <a:ahLst/>
            <a:rect l="l" t="t" r="r" b="b"/>
            <a:pathLst>
              <a:path w="851" h="737">
                <a:moveTo>
                  <a:pt x="198" y="737"/>
                </a:moveTo>
                <a:cubicBezTo>
                  <a:pt x="149" y="635"/>
                  <a:pt x="175" y="576"/>
                  <a:pt x="212" y="521"/>
                </a:cubicBezTo>
                <a:cubicBezTo>
                  <a:pt x="254" y="461"/>
                  <a:pt x="264" y="401"/>
                  <a:pt x="264" y="401"/>
                </a:cubicBezTo>
                <a:cubicBezTo>
                  <a:pt x="264" y="401"/>
                  <a:pt x="297" y="443"/>
                  <a:pt x="284" y="509"/>
                </a:cubicBezTo>
                <a:cubicBezTo>
                  <a:pt x="341" y="445"/>
                  <a:pt x="352" y="343"/>
                  <a:pt x="343" y="304"/>
                </a:cubicBezTo>
                <a:cubicBezTo>
                  <a:pt x="473" y="395"/>
                  <a:pt x="528" y="591"/>
                  <a:pt x="454" y="737"/>
                </a:cubicBezTo>
                <a:cubicBezTo>
                  <a:pt x="851" y="512"/>
                  <a:pt x="552" y="176"/>
                  <a:pt x="501" y="138"/>
                </a:cubicBezTo>
                <a:cubicBezTo>
                  <a:pt x="518" y="176"/>
                  <a:pt x="521" y="240"/>
                  <a:pt x="486" y="271"/>
                </a:cubicBezTo>
                <a:cubicBezTo>
                  <a:pt x="427" y="46"/>
                  <a:pt x="281" y="0"/>
                  <a:pt x="281" y="0"/>
                </a:cubicBezTo>
                <a:cubicBezTo>
                  <a:pt x="298" y="116"/>
                  <a:pt x="218" y="243"/>
                  <a:pt x="141" y="337"/>
                </a:cubicBezTo>
                <a:cubicBezTo>
                  <a:pt x="138" y="291"/>
                  <a:pt x="135" y="259"/>
                  <a:pt x="111" y="215"/>
                </a:cubicBezTo>
                <a:cubicBezTo>
                  <a:pt x="105" y="299"/>
                  <a:pt x="41" y="367"/>
                  <a:pt x="24" y="451"/>
                </a:cubicBezTo>
                <a:cubicBezTo>
                  <a:pt x="0" y="565"/>
                  <a:pt x="41" y="649"/>
                  <a:pt x="198" y="737"/>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57" name="Freeform 146"/>
          <p:cNvSpPr/>
          <p:nvPr/>
        </p:nvSpPr>
        <p:spPr>
          <a:xfrm>
            <a:off x="5897520" y="2940120"/>
            <a:ext cx="169920" cy="168120"/>
          </a:xfrm>
          <a:custGeom>
            <a:avLst/>
            <a:gdLst/>
            <a:ahLst/>
            <a:rect l="l" t="t" r="r" b="b"/>
            <a:pathLst>
              <a:path w="635" h="629">
                <a:moveTo>
                  <a:pt x="505" y="351"/>
                </a:moveTo>
                <a:lnTo>
                  <a:pt x="480" y="225"/>
                </a:lnTo>
                <a:lnTo>
                  <a:pt x="479" y="224"/>
                </a:lnTo>
                <a:cubicBezTo>
                  <a:pt x="479" y="224"/>
                  <a:pt x="635" y="71"/>
                  <a:pt x="600" y="35"/>
                </a:cubicBezTo>
                <a:cubicBezTo>
                  <a:pt x="565" y="0"/>
                  <a:pt x="406" y="161"/>
                  <a:pt x="406" y="161"/>
                </a:cubicBezTo>
                <a:lnTo>
                  <a:pt x="295" y="141"/>
                </a:lnTo>
                <a:cubicBezTo>
                  <a:pt x="323" y="106"/>
                  <a:pt x="335" y="71"/>
                  <a:pt x="321" y="57"/>
                </a:cubicBezTo>
                <a:cubicBezTo>
                  <a:pt x="305" y="41"/>
                  <a:pt x="258" y="61"/>
                  <a:pt x="217" y="102"/>
                </a:cubicBezTo>
                <a:cubicBezTo>
                  <a:pt x="210" y="109"/>
                  <a:pt x="203" y="117"/>
                  <a:pt x="198" y="124"/>
                </a:cubicBezTo>
                <a:lnTo>
                  <a:pt x="108" y="108"/>
                </a:lnTo>
                <a:lnTo>
                  <a:pt x="47" y="160"/>
                </a:lnTo>
                <a:lnTo>
                  <a:pt x="296" y="274"/>
                </a:lnTo>
                <a:lnTo>
                  <a:pt x="147" y="455"/>
                </a:lnTo>
                <a:cubicBezTo>
                  <a:pt x="144" y="459"/>
                  <a:pt x="140" y="463"/>
                  <a:pt x="137" y="467"/>
                </a:cubicBezTo>
                <a:lnTo>
                  <a:pt x="44" y="429"/>
                </a:lnTo>
                <a:lnTo>
                  <a:pt x="0" y="473"/>
                </a:lnTo>
                <a:lnTo>
                  <a:pt x="99" y="519"/>
                </a:lnTo>
                <a:lnTo>
                  <a:pt x="129" y="549"/>
                </a:lnTo>
                <a:lnTo>
                  <a:pt x="171" y="629"/>
                </a:lnTo>
                <a:lnTo>
                  <a:pt x="212" y="588"/>
                </a:lnTo>
                <a:lnTo>
                  <a:pt x="164" y="493"/>
                </a:lnTo>
                <a:cubicBezTo>
                  <a:pt x="166" y="492"/>
                  <a:pt x="169" y="490"/>
                  <a:pt x="171" y="488"/>
                </a:cubicBezTo>
                <a:lnTo>
                  <a:pt x="364" y="336"/>
                </a:lnTo>
                <a:lnTo>
                  <a:pt x="366" y="339"/>
                </a:lnTo>
                <a:lnTo>
                  <a:pt x="496" y="596"/>
                </a:lnTo>
                <a:lnTo>
                  <a:pt x="542" y="541"/>
                </a:lnTo>
                <a:lnTo>
                  <a:pt x="523" y="446"/>
                </a:lnTo>
                <a:cubicBezTo>
                  <a:pt x="533" y="439"/>
                  <a:pt x="542" y="431"/>
                  <a:pt x="551" y="422"/>
                </a:cubicBezTo>
                <a:cubicBezTo>
                  <a:pt x="593" y="380"/>
                  <a:pt x="613" y="334"/>
                  <a:pt x="596" y="317"/>
                </a:cubicBezTo>
                <a:cubicBezTo>
                  <a:pt x="582" y="302"/>
                  <a:pt x="542" y="317"/>
                  <a:pt x="505" y="35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58" name="Freeform 147"/>
          <p:cNvSpPr/>
          <p:nvPr/>
        </p:nvSpPr>
        <p:spPr>
          <a:xfrm>
            <a:off x="6983280" y="3583080"/>
            <a:ext cx="203400" cy="168120"/>
          </a:xfrm>
          <a:custGeom>
            <a:avLst/>
            <a:gdLst/>
            <a:ahLst/>
            <a:rect l="l" t="t" r="r" b="b"/>
            <a:pathLst>
              <a:path w="756" h="626">
                <a:moveTo>
                  <a:pt x="64" y="419"/>
                </a:moveTo>
                <a:cubicBezTo>
                  <a:pt x="29" y="419"/>
                  <a:pt x="0" y="390"/>
                  <a:pt x="0" y="354"/>
                </a:cubicBezTo>
                <a:lnTo>
                  <a:pt x="0" y="64"/>
                </a:lnTo>
                <a:cubicBezTo>
                  <a:pt x="0" y="29"/>
                  <a:pt x="29" y="0"/>
                  <a:pt x="64" y="0"/>
                </a:cubicBezTo>
                <a:lnTo>
                  <a:pt x="559" y="0"/>
                </a:lnTo>
                <a:cubicBezTo>
                  <a:pt x="594" y="0"/>
                  <a:pt x="623" y="29"/>
                  <a:pt x="623" y="64"/>
                </a:cubicBezTo>
                <a:lnTo>
                  <a:pt x="623" y="106"/>
                </a:lnTo>
                <a:lnTo>
                  <a:pt x="198" y="106"/>
                </a:lnTo>
                <a:cubicBezTo>
                  <a:pt x="147" y="106"/>
                  <a:pt x="106" y="148"/>
                  <a:pt x="106" y="199"/>
                </a:cubicBezTo>
                <a:lnTo>
                  <a:pt x="106" y="419"/>
                </a:lnTo>
                <a:lnTo>
                  <a:pt x="64" y="419"/>
                </a:lnTo>
                <a:close/>
                <a:moveTo>
                  <a:pt x="756" y="488"/>
                </a:moveTo>
                <a:cubicBezTo>
                  <a:pt x="756" y="524"/>
                  <a:pt x="728" y="553"/>
                  <a:pt x="692" y="553"/>
                </a:cubicBezTo>
                <a:lnTo>
                  <a:pt x="659" y="553"/>
                </a:lnTo>
                <a:cubicBezTo>
                  <a:pt x="651" y="553"/>
                  <a:pt x="645" y="559"/>
                  <a:pt x="645" y="567"/>
                </a:cubicBezTo>
                <a:lnTo>
                  <a:pt x="645" y="626"/>
                </a:lnTo>
                <a:lnTo>
                  <a:pt x="588" y="558"/>
                </a:lnTo>
                <a:cubicBezTo>
                  <a:pt x="585" y="555"/>
                  <a:pt x="581" y="553"/>
                  <a:pt x="577" y="553"/>
                </a:cubicBezTo>
                <a:lnTo>
                  <a:pt x="198" y="553"/>
                </a:lnTo>
                <a:cubicBezTo>
                  <a:pt x="162" y="553"/>
                  <a:pt x="133" y="524"/>
                  <a:pt x="133" y="488"/>
                </a:cubicBezTo>
                <a:lnTo>
                  <a:pt x="133" y="446"/>
                </a:lnTo>
                <a:lnTo>
                  <a:pt x="133" y="419"/>
                </a:lnTo>
                <a:lnTo>
                  <a:pt x="133" y="199"/>
                </a:lnTo>
                <a:cubicBezTo>
                  <a:pt x="133" y="163"/>
                  <a:pt x="162" y="134"/>
                  <a:pt x="198" y="134"/>
                </a:cubicBezTo>
                <a:lnTo>
                  <a:pt x="623" y="134"/>
                </a:lnTo>
                <a:lnTo>
                  <a:pt x="651" y="134"/>
                </a:lnTo>
                <a:lnTo>
                  <a:pt x="692" y="134"/>
                </a:lnTo>
                <a:cubicBezTo>
                  <a:pt x="728" y="134"/>
                  <a:pt x="756" y="163"/>
                  <a:pt x="756" y="199"/>
                </a:cubicBezTo>
                <a:lnTo>
                  <a:pt x="756" y="488"/>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59" name="Freeform 148"/>
          <p:cNvSpPr/>
          <p:nvPr/>
        </p:nvSpPr>
        <p:spPr>
          <a:xfrm>
            <a:off x="4857840" y="3279600"/>
            <a:ext cx="180720" cy="149400"/>
          </a:xfrm>
          <a:custGeom>
            <a:avLst/>
            <a:gdLst/>
            <a:ahLst/>
            <a:rect l="l" t="t" r="r" b="b"/>
            <a:pathLst>
              <a:path w="679" h="551">
                <a:moveTo>
                  <a:pt x="606" y="169"/>
                </a:moveTo>
                <a:lnTo>
                  <a:pt x="547" y="169"/>
                </a:lnTo>
                <a:cubicBezTo>
                  <a:pt x="529" y="169"/>
                  <a:pt x="515" y="155"/>
                  <a:pt x="515" y="137"/>
                </a:cubicBezTo>
                <a:cubicBezTo>
                  <a:pt x="515" y="120"/>
                  <a:pt x="529" y="106"/>
                  <a:pt x="547" y="106"/>
                </a:cubicBezTo>
                <a:lnTo>
                  <a:pt x="606" y="106"/>
                </a:lnTo>
                <a:cubicBezTo>
                  <a:pt x="623" y="106"/>
                  <a:pt x="637" y="120"/>
                  <a:pt x="637" y="137"/>
                </a:cubicBezTo>
                <a:cubicBezTo>
                  <a:pt x="637" y="155"/>
                  <a:pt x="623" y="169"/>
                  <a:pt x="606" y="169"/>
                </a:cubicBezTo>
                <a:close/>
                <a:moveTo>
                  <a:pt x="244" y="221"/>
                </a:moveTo>
                <a:cubicBezTo>
                  <a:pt x="293" y="221"/>
                  <a:pt x="332" y="260"/>
                  <a:pt x="332" y="308"/>
                </a:cubicBezTo>
                <a:cubicBezTo>
                  <a:pt x="332" y="357"/>
                  <a:pt x="293" y="396"/>
                  <a:pt x="244" y="396"/>
                </a:cubicBezTo>
                <a:cubicBezTo>
                  <a:pt x="196" y="396"/>
                  <a:pt x="157" y="357"/>
                  <a:pt x="157" y="308"/>
                </a:cubicBezTo>
                <a:cubicBezTo>
                  <a:pt x="157" y="260"/>
                  <a:pt x="196" y="221"/>
                  <a:pt x="244" y="221"/>
                </a:cubicBezTo>
                <a:close/>
                <a:moveTo>
                  <a:pt x="69" y="0"/>
                </a:moveTo>
                <a:lnTo>
                  <a:pt x="208" y="0"/>
                </a:lnTo>
                <a:lnTo>
                  <a:pt x="208" y="51"/>
                </a:lnTo>
                <a:lnTo>
                  <a:pt x="69" y="51"/>
                </a:lnTo>
                <a:lnTo>
                  <a:pt x="69" y="0"/>
                </a:lnTo>
                <a:close/>
                <a:moveTo>
                  <a:pt x="246" y="492"/>
                </a:moveTo>
                <a:cubicBezTo>
                  <a:pt x="145" y="492"/>
                  <a:pt x="63" y="410"/>
                  <a:pt x="63" y="308"/>
                </a:cubicBezTo>
                <a:cubicBezTo>
                  <a:pt x="63" y="207"/>
                  <a:pt x="145" y="125"/>
                  <a:pt x="246" y="125"/>
                </a:cubicBezTo>
                <a:cubicBezTo>
                  <a:pt x="348" y="125"/>
                  <a:pt x="430" y="207"/>
                  <a:pt x="430" y="308"/>
                </a:cubicBezTo>
                <a:cubicBezTo>
                  <a:pt x="430" y="410"/>
                  <a:pt x="348" y="492"/>
                  <a:pt x="246" y="492"/>
                </a:cubicBezTo>
                <a:close/>
                <a:moveTo>
                  <a:pt x="631" y="66"/>
                </a:moveTo>
                <a:lnTo>
                  <a:pt x="49" y="66"/>
                </a:lnTo>
                <a:cubicBezTo>
                  <a:pt x="22" y="66"/>
                  <a:pt x="0" y="88"/>
                  <a:pt x="0" y="115"/>
                </a:cubicBezTo>
                <a:lnTo>
                  <a:pt x="0" y="502"/>
                </a:lnTo>
                <a:cubicBezTo>
                  <a:pt x="0" y="529"/>
                  <a:pt x="22" y="551"/>
                  <a:pt x="49" y="551"/>
                </a:cubicBezTo>
                <a:lnTo>
                  <a:pt x="631" y="551"/>
                </a:lnTo>
                <a:cubicBezTo>
                  <a:pt x="658" y="551"/>
                  <a:pt x="679" y="529"/>
                  <a:pt x="679" y="502"/>
                </a:cubicBezTo>
                <a:lnTo>
                  <a:pt x="679" y="115"/>
                </a:lnTo>
                <a:cubicBezTo>
                  <a:pt x="679" y="88"/>
                  <a:pt x="658" y="66"/>
                  <a:pt x="631" y="6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60" name="Freeform 149"/>
          <p:cNvSpPr/>
          <p:nvPr/>
        </p:nvSpPr>
        <p:spPr>
          <a:xfrm>
            <a:off x="2919240" y="1189080"/>
            <a:ext cx="169920" cy="129960"/>
          </a:xfrm>
          <a:custGeom>
            <a:avLst/>
            <a:gdLst/>
            <a:ahLst/>
            <a:rect l="l" t="t" r="r" b="b"/>
            <a:pathLst>
              <a:path w="637" h="490">
                <a:moveTo>
                  <a:pt x="624" y="101"/>
                </a:moveTo>
                <a:lnTo>
                  <a:pt x="519" y="5"/>
                </a:lnTo>
                <a:cubicBezTo>
                  <a:pt x="515" y="2"/>
                  <a:pt x="510" y="0"/>
                  <a:pt x="505" y="0"/>
                </a:cubicBezTo>
                <a:lnTo>
                  <a:pt x="132" y="0"/>
                </a:lnTo>
                <a:cubicBezTo>
                  <a:pt x="126" y="0"/>
                  <a:pt x="121" y="2"/>
                  <a:pt x="117" y="5"/>
                </a:cubicBezTo>
                <a:lnTo>
                  <a:pt x="10" y="103"/>
                </a:lnTo>
                <a:cubicBezTo>
                  <a:pt x="10" y="103"/>
                  <a:pt x="0" y="109"/>
                  <a:pt x="0" y="122"/>
                </a:cubicBezTo>
                <a:lnTo>
                  <a:pt x="0" y="171"/>
                </a:lnTo>
                <a:cubicBezTo>
                  <a:pt x="0" y="185"/>
                  <a:pt x="11" y="196"/>
                  <a:pt x="25" y="196"/>
                </a:cubicBezTo>
                <a:lnTo>
                  <a:pt x="25" y="465"/>
                </a:lnTo>
                <a:cubicBezTo>
                  <a:pt x="25" y="479"/>
                  <a:pt x="36" y="490"/>
                  <a:pt x="49" y="490"/>
                </a:cubicBezTo>
                <a:lnTo>
                  <a:pt x="73" y="490"/>
                </a:lnTo>
                <a:cubicBezTo>
                  <a:pt x="87" y="490"/>
                  <a:pt x="98" y="479"/>
                  <a:pt x="98" y="465"/>
                </a:cubicBezTo>
                <a:lnTo>
                  <a:pt x="98" y="196"/>
                </a:lnTo>
                <a:lnTo>
                  <a:pt x="539" y="196"/>
                </a:lnTo>
                <a:lnTo>
                  <a:pt x="539" y="465"/>
                </a:lnTo>
                <a:cubicBezTo>
                  <a:pt x="539" y="479"/>
                  <a:pt x="550" y="490"/>
                  <a:pt x="563" y="490"/>
                </a:cubicBezTo>
                <a:lnTo>
                  <a:pt x="588" y="490"/>
                </a:lnTo>
                <a:cubicBezTo>
                  <a:pt x="601" y="490"/>
                  <a:pt x="612" y="479"/>
                  <a:pt x="612" y="465"/>
                </a:cubicBezTo>
                <a:lnTo>
                  <a:pt x="612" y="196"/>
                </a:lnTo>
                <a:cubicBezTo>
                  <a:pt x="626" y="196"/>
                  <a:pt x="637" y="185"/>
                  <a:pt x="637" y="171"/>
                </a:cubicBezTo>
                <a:lnTo>
                  <a:pt x="637" y="122"/>
                </a:lnTo>
                <a:cubicBezTo>
                  <a:pt x="637" y="109"/>
                  <a:pt x="624" y="101"/>
                  <a:pt x="624" y="101"/>
                </a:cubicBezTo>
                <a:close/>
                <a:moveTo>
                  <a:pt x="147" y="355"/>
                </a:moveTo>
                <a:cubicBezTo>
                  <a:pt x="133" y="355"/>
                  <a:pt x="122" y="344"/>
                  <a:pt x="122" y="331"/>
                </a:cubicBezTo>
                <a:lnTo>
                  <a:pt x="122" y="208"/>
                </a:lnTo>
                <a:lnTo>
                  <a:pt x="171" y="208"/>
                </a:lnTo>
                <a:lnTo>
                  <a:pt x="171" y="331"/>
                </a:lnTo>
                <a:cubicBezTo>
                  <a:pt x="171" y="344"/>
                  <a:pt x="160" y="355"/>
                  <a:pt x="147" y="355"/>
                </a:cubicBezTo>
                <a:close/>
                <a:moveTo>
                  <a:pt x="490" y="354"/>
                </a:moveTo>
                <a:cubicBezTo>
                  <a:pt x="476" y="354"/>
                  <a:pt x="465" y="343"/>
                  <a:pt x="465" y="330"/>
                </a:cubicBezTo>
                <a:lnTo>
                  <a:pt x="465" y="207"/>
                </a:lnTo>
                <a:lnTo>
                  <a:pt x="514" y="207"/>
                </a:lnTo>
                <a:lnTo>
                  <a:pt x="514" y="330"/>
                </a:lnTo>
                <a:cubicBezTo>
                  <a:pt x="514" y="343"/>
                  <a:pt x="503" y="354"/>
                  <a:pt x="490" y="354"/>
                </a:cubicBezTo>
                <a:close/>
              </a:path>
            </a:pathLst>
          </a:custGeom>
          <a:solidFill>
            <a:srgbClr val="a6a6a6"/>
          </a:solidFill>
          <a:ln w="0">
            <a:noFill/>
          </a:ln>
        </p:spPr>
        <p:style>
          <a:lnRef idx="0"/>
          <a:fillRef idx="0"/>
          <a:effectRef idx="0"/>
          <a:fontRef idx="minor"/>
        </p:style>
        <p:txBody>
          <a:bodyPr lIns="145800" rIns="145800" tIns="57240" bIns="57240" anchor="t">
            <a:noAutofit/>
          </a:bodyPr>
          <a:p>
            <a:endParaRPr b="0" lang="en-US" sz="1800" spc="-1" strike="noStrike">
              <a:solidFill>
                <a:srgbClr val="000000"/>
              </a:solidFill>
              <a:latin typeface="Calibri"/>
            </a:endParaRPr>
          </a:p>
        </p:txBody>
      </p:sp>
      <p:sp>
        <p:nvSpPr>
          <p:cNvPr id="1761" name="Freeform 150"/>
          <p:cNvSpPr/>
          <p:nvPr/>
        </p:nvSpPr>
        <p:spPr>
          <a:xfrm>
            <a:off x="8048520" y="4824360"/>
            <a:ext cx="154080" cy="154080"/>
          </a:xfrm>
          <a:custGeom>
            <a:avLst/>
            <a:gdLst/>
            <a:ahLst/>
            <a:rect l="l" t="t" r="r" b="b"/>
            <a:pathLst>
              <a:path w="572" h="572">
                <a:moveTo>
                  <a:pt x="554" y="0"/>
                </a:moveTo>
                <a:lnTo>
                  <a:pt x="483" y="0"/>
                </a:lnTo>
                <a:cubicBezTo>
                  <a:pt x="479" y="0"/>
                  <a:pt x="474" y="2"/>
                  <a:pt x="471" y="5"/>
                </a:cubicBezTo>
                <a:lnTo>
                  <a:pt x="224" y="221"/>
                </a:lnTo>
                <a:cubicBezTo>
                  <a:pt x="212" y="218"/>
                  <a:pt x="192" y="215"/>
                  <a:pt x="179" y="215"/>
                </a:cubicBezTo>
                <a:cubicBezTo>
                  <a:pt x="81" y="215"/>
                  <a:pt x="0" y="295"/>
                  <a:pt x="0" y="393"/>
                </a:cubicBezTo>
                <a:cubicBezTo>
                  <a:pt x="0" y="492"/>
                  <a:pt x="81" y="572"/>
                  <a:pt x="179" y="572"/>
                </a:cubicBezTo>
                <a:cubicBezTo>
                  <a:pt x="278" y="572"/>
                  <a:pt x="358" y="492"/>
                  <a:pt x="358" y="393"/>
                </a:cubicBezTo>
                <a:cubicBezTo>
                  <a:pt x="358" y="364"/>
                  <a:pt x="352" y="345"/>
                  <a:pt x="346" y="328"/>
                </a:cubicBezTo>
                <a:lnTo>
                  <a:pt x="407" y="308"/>
                </a:lnTo>
                <a:cubicBezTo>
                  <a:pt x="414" y="305"/>
                  <a:pt x="419" y="298"/>
                  <a:pt x="419" y="290"/>
                </a:cubicBezTo>
                <a:lnTo>
                  <a:pt x="417" y="222"/>
                </a:lnTo>
                <a:lnTo>
                  <a:pt x="486" y="218"/>
                </a:lnTo>
                <a:cubicBezTo>
                  <a:pt x="495" y="217"/>
                  <a:pt x="502" y="210"/>
                  <a:pt x="502" y="200"/>
                </a:cubicBezTo>
                <a:lnTo>
                  <a:pt x="505" y="119"/>
                </a:lnTo>
                <a:lnTo>
                  <a:pt x="558" y="107"/>
                </a:lnTo>
                <a:cubicBezTo>
                  <a:pt x="566" y="105"/>
                  <a:pt x="572" y="98"/>
                  <a:pt x="572" y="90"/>
                </a:cubicBezTo>
                <a:lnTo>
                  <a:pt x="572" y="18"/>
                </a:lnTo>
                <a:cubicBezTo>
                  <a:pt x="572" y="8"/>
                  <a:pt x="564" y="0"/>
                  <a:pt x="554"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62" name="Freeform 151"/>
          <p:cNvSpPr/>
          <p:nvPr/>
        </p:nvSpPr>
        <p:spPr>
          <a:xfrm>
            <a:off x="8407440" y="4505400"/>
            <a:ext cx="133200" cy="164880"/>
          </a:xfrm>
          <a:custGeom>
            <a:avLst/>
            <a:gdLst/>
            <a:ahLst/>
            <a:rect l="l" t="t" r="r" b="b"/>
            <a:pathLst>
              <a:path w="499" h="614">
                <a:moveTo>
                  <a:pt x="249" y="115"/>
                </a:moveTo>
                <a:cubicBezTo>
                  <a:pt x="111" y="115"/>
                  <a:pt x="0" y="227"/>
                  <a:pt x="0" y="365"/>
                </a:cubicBezTo>
                <a:cubicBezTo>
                  <a:pt x="0" y="502"/>
                  <a:pt x="111" y="614"/>
                  <a:pt x="249" y="614"/>
                </a:cubicBezTo>
                <a:cubicBezTo>
                  <a:pt x="387" y="614"/>
                  <a:pt x="499" y="502"/>
                  <a:pt x="499" y="365"/>
                </a:cubicBezTo>
                <a:cubicBezTo>
                  <a:pt x="499" y="227"/>
                  <a:pt x="387" y="115"/>
                  <a:pt x="249" y="115"/>
                </a:cubicBezTo>
                <a:close/>
                <a:moveTo>
                  <a:pt x="363" y="338"/>
                </a:moveTo>
                <a:cubicBezTo>
                  <a:pt x="364" y="344"/>
                  <a:pt x="360" y="350"/>
                  <a:pt x="354" y="352"/>
                </a:cubicBezTo>
                <a:lnTo>
                  <a:pt x="250" y="376"/>
                </a:lnTo>
                <a:cubicBezTo>
                  <a:pt x="248" y="377"/>
                  <a:pt x="246" y="377"/>
                  <a:pt x="244" y="376"/>
                </a:cubicBezTo>
                <a:cubicBezTo>
                  <a:pt x="242" y="376"/>
                  <a:pt x="240" y="374"/>
                  <a:pt x="238" y="373"/>
                </a:cubicBezTo>
                <a:lnTo>
                  <a:pt x="165" y="295"/>
                </a:lnTo>
                <a:cubicBezTo>
                  <a:pt x="160" y="290"/>
                  <a:pt x="161" y="282"/>
                  <a:pt x="166" y="278"/>
                </a:cubicBezTo>
                <a:cubicBezTo>
                  <a:pt x="170" y="273"/>
                  <a:pt x="178" y="274"/>
                  <a:pt x="182" y="278"/>
                </a:cubicBezTo>
                <a:lnTo>
                  <a:pt x="251" y="352"/>
                </a:lnTo>
                <a:lnTo>
                  <a:pt x="349" y="329"/>
                </a:lnTo>
                <a:cubicBezTo>
                  <a:pt x="355" y="327"/>
                  <a:pt x="361" y="331"/>
                  <a:pt x="363" y="338"/>
                </a:cubicBezTo>
                <a:close/>
                <a:moveTo>
                  <a:pt x="415" y="153"/>
                </a:moveTo>
                <a:cubicBezTo>
                  <a:pt x="395" y="138"/>
                  <a:pt x="373" y="125"/>
                  <a:pt x="349" y="115"/>
                </a:cubicBezTo>
                <a:cubicBezTo>
                  <a:pt x="350" y="115"/>
                  <a:pt x="350" y="114"/>
                  <a:pt x="350" y="113"/>
                </a:cubicBezTo>
                <a:lnTo>
                  <a:pt x="370" y="79"/>
                </a:lnTo>
                <a:cubicBezTo>
                  <a:pt x="375" y="70"/>
                  <a:pt x="387" y="67"/>
                  <a:pt x="396" y="72"/>
                </a:cubicBezTo>
                <a:lnTo>
                  <a:pt x="429" y="92"/>
                </a:lnTo>
                <a:cubicBezTo>
                  <a:pt x="438" y="97"/>
                  <a:pt x="441" y="109"/>
                  <a:pt x="436" y="118"/>
                </a:cubicBezTo>
                <a:lnTo>
                  <a:pt x="417" y="151"/>
                </a:lnTo>
                <a:cubicBezTo>
                  <a:pt x="416" y="152"/>
                  <a:pt x="415" y="153"/>
                  <a:pt x="415" y="153"/>
                </a:cubicBezTo>
                <a:close/>
                <a:moveTo>
                  <a:pt x="192" y="57"/>
                </a:moveTo>
                <a:lnTo>
                  <a:pt x="192" y="19"/>
                </a:lnTo>
                <a:cubicBezTo>
                  <a:pt x="192" y="8"/>
                  <a:pt x="200" y="0"/>
                  <a:pt x="211" y="0"/>
                </a:cubicBezTo>
                <a:lnTo>
                  <a:pt x="288" y="0"/>
                </a:lnTo>
                <a:cubicBezTo>
                  <a:pt x="298" y="0"/>
                  <a:pt x="307" y="8"/>
                  <a:pt x="307" y="19"/>
                </a:cubicBezTo>
                <a:lnTo>
                  <a:pt x="307" y="57"/>
                </a:lnTo>
                <a:cubicBezTo>
                  <a:pt x="307" y="68"/>
                  <a:pt x="298" y="77"/>
                  <a:pt x="288" y="77"/>
                </a:cubicBezTo>
                <a:lnTo>
                  <a:pt x="288" y="99"/>
                </a:lnTo>
                <a:cubicBezTo>
                  <a:pt x="275" y="97"/>
                  <a:pt x="262" y="96"/>
                  <a:pt x="249" y="96"/>
                </a:cubicBezTo>
                <a:cubicBezTo>
                  <a:pt x="236" y="96"/>
                  <a:pt x="223" y="97"/>
                  <a:pt x="211" y="99"/>
                </a:cubicBezTo>
                <a:lnTo>
                  <a:pt x="211" y="77"/>
                </a:lnTo>
                <a:cubicBezTo>
                  <a:pt x="200" y="77"/>
                  <a:pt x="192" y="68"/>
                  <a:pt x="192" y="57"/>
                </a:cubicBezTo>
                <a:close/>
                <a:moveTo>
                  <a:pt x="268" y="575"/>
                </a:moveTo>
                <a:lnTo>
                  <a:pt x="268" y="557"/>
                </a:lnTo>
                <a:cubicBezTo>
                  <a:pt x="268" y="546"/>
                  <a:pt x="260" y="537"/>
                  <a:pt x="249" y="537"/>
                </a:cubicBezTo>
                <a:cubicBezTo>
                  <a:pt x="239" y="537"/>
                  <a:pt x="230" y="546"/>
                  <a:pt x="230" y="557"/>
                </a:cubicBezTo>
                <a:lnTo>
                  <a:pt x="230" y="575"/>
                </a:lnTo>
                <a:cubicBezTo>
                  <a:pt x="129" y="566"/>
                  <a:pt x="48" y="485"/>
                  <a:pt x="39" y="384"/>
                </a:cubicBezTo>
                <a:lnTo>
                  <a:pt x="57" y="384"/>
                </a:lnTo>
                <a:cubicBezTo>
                  <a:pt x="68" y="384"/>
                  <a:pt x="77" y="375"/>
                  <a:pt x="77" y="365"/>
                </a:cubicBezTo>
                <a:cubicBezTo>
                  <a:pt x="77" y="354"/>
                  <a:pt x="68" y="345"/>
                  <a:pt x="57" y="345"/>
                </a:cubicBezTo>
                <a:lnTo>
                  <a:pt x="39" y="345"/>
                </a:lnTo>
                <a:cubicBezTo>
                  <a:pt x="48" y="244"/>
                  <a:pt x="129" y="164"/>
                  <a:pt x="230" y="154"/>
                </a:cubicBezTo>
                <a:lnTo>
                  <a:pt x="230" y="173"/>
                </a:lnTo>
                <a:cubicBezTo>
                  <a:pt x="230" y="183"/>
                  <a:pt x="239" y="192"/>
                  <a:pt x="249" y="192"/>
                </a:cubicBezTo>
                <a:cubicBezTo>
                  <a:pt x="260" y="192"/>
                  <a:pt x="268" y="183"/>
                  <a:pt x="268" y="173"/>
                </a:cubicBezTo>
                <a:lnTo>
                  <a:pt x="268" y="154"/>
                </a:lnTo>
                <a:cubicBezTo>
                  <a:pt x="370" y="164"/>
                  <a:pt x="450" y="244"/>
                  <a:pt x="459" y="345"/>
                </a:cubicBezTo>
                <a:lnTo>
                  <a:pt x="441" y="345"/>
                </a:lnTo>
                <a:cubicBezTo>
                  <a:pt x="431" y="345"/>
                  <a:pt x="422" y="354"/>
                  <a:pt x="422" y="365"/>
                </a:cubicBezTo>
                <a:cubicBezTo>
                  <a:pt x="422" y="375"/>
                  <a:pt x="431" y="384"/>
                  <a:pt x="441" y="384"/>
                </a:cubicBezTo>
                <a:lnTo>
                  <a:pt x="459" y="384"/>
                </a:lnTo>
                <a:cubicBezTo>
                  <a:pt x="450" y="485"/>
                  <a:pt x="370" y="566"/>
                  <a:pt x="268" y="57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63" name="Freeform 152"/>
          <p:cNvSpPr/>
          <p:nvPr/>
        </p:nvSpPr>
        <p:spPr>
          <a:xfrm>
            <a:off x="3219480" y="1190520"/>
            <a:ext cx="193680" cy="127080"/>
          </a:xfrm>
          <a:custGeom>
            <a:avLst/>
            <a:gdLst/>
            <a:ahLst/>
            <a:rect l="l" t="t" r="r" b="b"/>
            <a:pathLst>
              <a:path w="729" h="473">
                <a:moveTo>
                  <a:pt x="691" y="213"/>
                </a:moveTo>
                <a:lnTo>
                  <a:pt x="76" y="213"/>
                </a:lnTo>
                <a:lnTo>
                  <a:pt x="76" y="39"/>
                </a:lnTo>
                <a:cubicBezTo>
                  <a:pt x="76" y="17"/>
                  <a:pt x="59" y="0"/>
                  <a:pt x="38" y="0"/>
                </a:cubicBezTo>
                <a:cubicBezTo>
                  <a:pt x="17" y="0"/>
                  <a:pt x="0" y="17"/>
                  <a:pt x="0" y="39"/>
                </a:cubicBezTo>
                <a:lnTo>
                  <a:pt x="0" y="435"/>
                </a:lnTo>
                <a:cubicBezTo>
                  <a:pt x="0" y="456"/>
                  <a:pt x="17" y="473"/>
                  <a:pt x="38" y="473"/>
                </a:cubicBezTo>
                <a:cubicBezTo>
                  <a:pt x="59" y="473"/>
                  <a:pt x="76" y="456"/>
                  <a:pt x="76" y="435"/>
                </a:cubicBezTo>
                <a:lnTo>
                  <a:pt x="76" y="416"/>
                </a:lnTo>
                <a:lnTo>
                  <a:pt x="652" y="416"/>
                </a:lnTo>
                <a:lnTo>
                  <a:pt x="652" y="435"/>
                </a:lnTo>
                <a:cubicBezTo>
                  <a:pt x="652" y="456"/>
                  <a:pt x="670" y="473"/>
                  <a:pt x="691" y="473"/>
                </a:cubicBezTo>
                <a:cubicBezTo>
                  <a:pt x="712" y="473"/>
                  <a:pt x="729" y="456"/>
                  <a:pt x="729" y="435"/>
                </a:cubicBezTo>
                <a:lnTo>
                  <a:pt x="729" y="251"/>
                </a:lnTo>
                <a:cubicBezTo>
                  <a:pt x="729" y="230"/>
                  <a:pt x="712" y="213"/>
                  <a:pt x="691" y="213"/>
                </a:cubicBezTo>
                <a:close/>
                <a:moveTo>
                  <a:pt x="88" y="117"/>
                </a:moveTo>
                <a:lnTo>
                  <a:pt x="88" y="204"/>
                </a:lnTo>
                <a:lnTo>
                  <a:pt x="171" y="204"/>
                </a:lnTo>
                <a:cubicBezTo>
                  <a:pt x="195" y="180"/>
                  <a:pt x="195" y="141"/>
                  <a:pt x="171" y="117"/>
                </a:cubicBezTo>
                <a:cubicBezTo>
                  <a:pt x="147" y="94"/>
                  <a:pt x="111" y="94"/>
                  <a:pt x="88" y="117"/>
                </a:cubicBezTo>
                <a:close/>
                <a:moveTo>
                  <a:pt x="652" y="379"/>
                </a:moveTo>
                <a:cubicBezTo>
                  <a:pt x="638" y="375"/>
                  <a:pt x="625" y="376"/>
                  <a:pt x="610" y="380"/>
                </a:cubicBezTo>
                <a:cubicBezTo>
                  <a:pt x="583" y="387"/>
                  <a:pt x="546" y="387"/>
                  <a:pt x="519" y="380"/>
                </a:cubicBezTo>
                <a:cubicBezTo>
                  <a:pt x="501" y="375"/>
                  <a:pt x="488" y="375"/>
                  <a:pt x="470" y="380"/>
                </a:cubicBezTo>
                <a:cubicBezTo>
                  <a:pt x="443" y="387"/>
                  <a:pt x="406" y="387"/>
                  <a:pt x="379" y="380"/>
                </a:cubicBezTo>
                <a:cubicBezTo>
                  <a:pt x="362" y="375"/>
                  <a:pt x="348" y="375"/>
                  <a:pt x="331" y="380"/>
                </a:cubicBezTo>
                <a:cubicBezTo>
                  <a:pt x="303" y="387"/>
                  <a:pt x="267" y="387"/>
                  <a:pt x="240" y="380"/>
                </a:cubicBezTo>
                <a:cubicBezTo>
                  <a:pt x="222" y="375"/>
                  <a:pt x="209" y="375"/>
                  <a:pt x="191" y="380"/>
                </a:cubicBezTo>
                <a:cubicBezTo>
                  <a:pt x="164" y="387"/>
                  <a:pt x="127" y="387"/>
                  <a:pt x="100" y="380"/>
                </a:cubicBezTo>
                <a:cubicBezTo>
                  <a:pt x="91" y="378"/>
                  <a:pt x="84" y="377"/>
                  <a:pt x="76" y="376"/>
                </a:cubicBezTo>
                <a:lnTo>
                  <a:pt x="76" y="370"/>
                </a:lnTo>
                <a:cubicBezTo>
                  <a:pt x="87" y="370"/>
                  <a:pt x="97" y="371"/>
                  <a:pt x="108" y="375"/>
                </a:cubicBezTo>
                <a:cubicBezTo>
                  <a:pt x="131" y="381"/>
                  <a:pt x="161" y="381"/>
                  <a:pt x="183" y="375"/>
                </a:cubicBezTo>
                <a:cubicBezTo>
                  <a:pt x="206" y="368"/>
                  <a:pt x="225" y="368"/>
                  <a:pt x="248" y="375"/>
                </a:cubicBezTo>
                <a:cubicBezTo>
                  <a:pt x="270" y="381"/>
                  <a:pt x="300" y="381"/>
                  <a:pt x="322" y="375"/>
                </a:cubicBezTo>
                <a:cubicBezTo>
                  <a:pt x="345" y="368"/>
                  <a:pt x="365" y="368"/>
                  <a:pt x="388" y="375"/>
                </a:cubicBezTo>
                <a:cubicBezTo>
                  <a:pt x="410" y="381"/>
                  <a:pt x="440" y="381"/>
                  <a:pt x="462" y="375"/>
                </a:cubicBezTo>
                <a:cubicBezTo>
                  <a:pt x="485" y="368"/>
                  <a:pt x="504" y="368"/>
                  <a:pt x="527" y="375"/>
                </a:cubicBezTo>
                <a:cubicBezTo>
                  <a:pt x="549" y="381"/>
                  <a:pt x="579" y="381"/>
                  <a:pt x="601" y="375"/>
                </a:cubicBezTo>
                <a:cubicBezTo>
                  <a:pt x="619" y="370"/>
                  <a:pt x="635" y="369"/>
                  <a:pt x="652" y="371"/>
                </a:cubicBezTo>
                <a:lnTo>
                  <a:pt x="652" y="379"/>
                </a:lnTo>
                <a:close/>
              </a:path>
            </a:pathLst>
          </a:custGeom>
          <a:solidFill>
            <a:srgbClr val="a6a6a6"/>
          </a:solidFill>
          <a:ln w="0">
            <a:noFill/>
          </a:ln>
        </p:spPr>
        <p:style>
          <a:lnRef idx="0"/>
          <a:fillRef idx="0"/>
          <a:effectRef idx="0"/>
          <a:fontRef idx="minor"/>
        </p:style>
        <p:txBody>
          <a:bodyPr lIns="145800" rIns="145800" tIns="54360" bIns="54360" anchor="t">
            <a:noAutofit/>
          </a:bodyPr>
          <a:p>
            <a:endParaRPr b="0" lang="en-US" sz="1800" spc="-1" strike="noStrike">
              <a:solidFill>
                <a:srgbClr val="000000"/>
              </a:solidFill>
              <a:latin typeface="Calibri"/>
            </a:endParaRPr>
          </a:p>
        </p:txBody>
      </p:sp>
      <p:sp>
        <p:nvSpPr>
          <p:cNvPr id="1764" name="Freeform 153"/>
          <p:cNvSpPr/>
          <p:nvPr/>
        </p:nvSpPr>
        <p:spPr>
          <a:xfrm>
            <a:off x="3905280" y="1168560"/>
            <a:ext cx="128520" cy="169560"/>
          </a:xfrm>
          <a:custGeom>
            <a:avLst/>
            <a:gdLst/>
            <a:ahLst/>
            <a:rect l="l" t="t" r="r" b="b"/>
            <a:pathLst>
              <a:path w="480" h="638">
                <a:moveTo>
                  <a:pt x="457" y="230"/>
                </a:moveTo>
                <a:cubicBezTo>
                  <a:pt x="457" y="245"/>
                  <a:pt x="444" y="257"/>
                  <a:pt x="429" y="257"/>
                </a:cubicBezTo>
                <a:lnTo>
                  <a:pt x="51" y="257"/>
                </a:lnTo>
                <a:cubicBezTo>
                  <a:pt x="36" y="257"/>
                  <a:pt x="23" y="245"/>
                  <a:pt x="23" y="230"/>
                </a:cubicBezTo>
                <a:lnTo>
                  <a:pt x="23" y="51"/>
                </a:lnTo>
                <a:cubicBezTo>
                  <a:pt x="23" y="36"/>
                  <a:pt x="36" y="23"/>
                  <a:pt x="51" y="23"/>
                </a:cubicBezTo>
                <a:lnTo>
                  <a:pt x="429" y="23"/>
                </a:lnTo>
                <a:cubicBezTo>
                  <a:pt x="444" y="23"/>
                  <a:pt x="457" y="36"/>
                  <a:pt x="457" y="51"/>
                </a:cubicBezTo>
                <a:lnTo>
                  <a:pt x="457" y="230"/>
                </a:lnTo>
                <a:close/>
                <a:moveTo>
                  <a:pt x="316" y="421"/>
                </a:moveTo>
                <a:lnTo>
                  <a:pt x="316" y="433"/>
                </a:lnTo>
                <a:lnTo>
                  <a:pt x="164" y="433"/>
                </a:lnTo>
                <a:lnTo>
                  <a:pt x="164" y="421"/>
                </a:lnTo>
                <a:lnTo>
                  <a:pt x="164" y="410"/>
                </a:lnTo>
                <a:cubicBezTo>
                  <a:pt x="164" y="406"/>
                  <a:pt x="167" y="404"/>
                  <a:pt x="170" y="404"/>
                </a:cubicBezTo>
                <a:cubicBezTo>
                  <a:pt x="173" y="404"/>
                  <a:pt x="176" y="406"/>
                  <a:pt x="176" y="410"/>
                </a:cubicBezTo>
                <a:lnTo>
                  <a:pt x="176" y="421"/>
                </a:lnTo>
                <a:lnTo>
                  <a:pt x="305" y="421"/>
                </a:lnTo>
                <a:lnTo>
                  <a:pt x="305" y="410"/>
                </a:lnTo>
                <a:cubicBezTo>
                  <a:pt x="305" y="406"/>
                  <a:pt x="307" y="404"/>
                  <a:pt x="310" y="404"/>
                </a:cubicBezTo>
                <a:cubicBezTo>
                  <a:pt x="314" y="404"/>
                  <a:pt x="316" y="406"/>
                  <a:pt x="316" y="410"/>
                </a:cubicBezTo>
                <a:lnTo>
                  <a:pt x="316" y="421"/>
                </a:lnTo>
                <a:close/>
                <a:moveTo>
                  <a:pt x="429" y="304"/>
                </a:moveTo>
                <a:lnTo>
                  <a:pt x="51" y="304"/>
                </a:lnTo>
                <a:cubicBezTo>
                  <a:pt x="42" y="304"/>
                  <a:pt x="35" y="311"/>
                  <a:pt x="35" y="320"/>
                </a:cubicBezTo>
                <a:lnTo>
                  <a:pt x="35" y="499"/>
                </a:lnTo>
                <a:cubicBezTo>
                  <a:pt x="35" y="508"/>
                  <a:pt x="42" y="515"/>
                  <a:pt x="51" y="515"/>
                </a:cubicBezTo>
                <a:lnTo>
                  <a:pt x="429" y="515"/>
                </a:lnTo>
                <a:cubicBezTo>
                  <a:pt x="438" y="515"/>
                  <a:pt x="445" y="508"/>
                  <a:pt x="445" y="499"/>
                </a:cubicBezTo>
                <a:lnTo>
                  <a:pt x="445" y="320"/>
                </a:lnTo>
                <a:cubicBezTo>
                  <a:pt x="445" y="311"/>
                  <a:pt x="438" y="304"/>
                  <a:pt x="429" y="304"/>
                </a:cubicBezTo>
                <a:close/>
                <a:moveTo>
                  <a:pt x="316" y="152"/>
                </a:moveTo>
                <a:lnTo>
                  <a:pt x="316" y="164"/>
                </a:lnTo>
                <a:lnTo>
                  <a:pt x="164" y="164"/>
                </a:lnTo>
                <a:lnTo>
                  <a:pt x="164" y="152"/>
                </a:lnTo>
                <a:lnTo>
                  <a:pt x="164" y="140"/>
                </a:lnTo>
                <a:cubicBezTo>
                  <a:pt x="164" y="137"/>
                  <a:pt x="167" y="134"/>
                  <a:pt x="170" y="134"/>
                </a:cubicBezTo>
                <a:cubicBezTo>
                  <a:pt x="173" y="134"/>
                  <a:pt x="176" y="137"/>
                  <a:pt x="176" y="140"/>
                </a:cubicBezTo>
                <a:lnTo>
                  <a:pt x="176" y="152"/>
                </a:lnTo>
                <a:lnTo>
                  <a:pt x="305" y="152"/>
                </a:lnTo>
                <a:lnTo>
                  <a:pt x="305" y="140"/>
                </a:lnTo>
                <a:cubicBezTo>
                  <a:pt x="305" y="137"/>
                  <a:pt x="307" y="134"/>
                  <a:pt x="310" y="134"/>
                </a:cubicBezTo>
                <a:cubicBezTo>
                  <a:pt x="314" y="134"/>
                  <a:pt x="316" y="137"/>
                  <a:pt x="316" y="140"/>
                </a:cubicBezTo>
                <a:lnTo>
                  <a:pt x="316" y="152"/>
                </a:lnTo>
                <a:close/>
                <a:moveTo>
                  <a:pt x="429" y="35"/>
                </a:moveTo>
                <a:lnTo>
                  <a:pt x="51" y="35"/>
                </a:lnTo>
                <a:cubicBezTo>
                  <a:pt x="42" y="35"/>
                  <a:pt x="35" y="42"/>
                  <a:pt x="35" y="51"/>
                </a:cubicBezTo>
                <a:lnTo>
                  <a:pt x="35" y="230"/>
                </a:lnTo>
                <a:cubicBezTo>
                  <a:pt x="35" y="238"/>
                  <a:pt x="42" y="246"/>
                  <a:pt x="51" y="246"/>
                </a:cubicBezTo>
                <a:lnTo>
                  <a:pt x="429" y="246"/>
                </a:lnTo>
                <a:cubicBezTo>
                  <a:pt x="438" y="246"/>
                  <a:pt x="445" y="238"/>
                  <a:pt x="445" y="230"/>
                </a:cubicBezTo>
                <a:lnTo>
                  <a:pt x="445" y="51"/>
                </a:lnTo>
                <a:cubicBezTo>
                  <a:pt x="445" y="42"/>
                  <a:pt x="438" y="35"/>
                  <a:pt x="429" y="35"/>
                </a:cubicBezTo>
                <a:close/>
                <a:moveTo>
                  <a:pt x="34" y="585"/>
                </a:moveTo>
                <a:cubicBezTo>
                  <a:pt x="33" y="589"/>
                  <a:pt x="33" y="593"/>
                  <a:pt x="33" y="597"/>
                </a:cubicBezTo>
                <a:cubicBezTo>
                  <a:pt x="33" y="620"/>
                  <a:pt x="51" y="638"/>
                  <a:pt x="74" y="638"/>
                </a:cubicBezTo>
                <a:cubicBezTo>
                  <a:pt x="96" y="638"/>
                  <a:pt x="115" y="620"/>
                  <a:pt x="115" y="597"/>
                </a:cubicBezTo>
                <a:cubicBezTo>
                  <a:pt x="115" y="593"/>
                  <a:pt x="114" y="589"/>
                  <a:pt x="113" y="585"/>
                </a:cubicBezTo>
                <a:lnTo>
                  <a:pt x="363" y="585"/>
                </a:lnTo>
                <a:cubicBezTo>
                  <a:pt x="362" y="589"/>
                  <a:pt x="361" y="593"/>
                  <a:pt x="361" y="597"/>
                </a:cubicBezTo>
                <a:cubicBezTo>
                  <a:pt x="361" y="620"/>
                  <a:pt x="380" y="638"/>
                  <a:pt x="403" y="638"/>
                </a:cubicBezTo>
                <a:cubicBezTo>
                  <a:pt x="425" y="638"/>
                  <a:pt x="444" y="620"/>
                  <a:pt x="444" y="597"/>
                </a:cubicBezTo>
                <a:cubicBezTo>
                  <a:pt x="444" y="593"/>
                  <a:pt x="443" y="589"/>
                  <a:pt x="442" y="585"/>
                </a:cubicBezTo>
                <a:lnTo>
                  <a:pt x="480" y="585"/>
                </a:lnTo>
                <a:lnTo>
                  <a:pt x="480" y="0"/>
                </a:lnTo>
                <a:lnTo>
                  <a:pt x="0" y="0"/>
                </a:lnTo>
                <a:lnTo>
                  <a:pt x="0" y="585"/>
                </a:lnTo>
                <a:lnTo>
                  <a:pt x="34" y="585"/>
                </a:lnTo>
                <a:close/>
                <a:moveTo>
                  <a:pt x="457" y="499"/>
                </a:moveTo>
                <a:cubicBezTo>
                  <a:pt x="457" y="514"/>
                  <a:pt x="444" y="527"/>
                  <a:pt x="429" y="527"/>
                </a:cubicBezTo>
                <a:lnTo>
                  <a:pt x="51" y="527"/>
                </a:lnTo>
                <a:cubicBezTo>
                  <a:pt x="36" y="527"/>
                  <a:pt x="23" y="514"/>
                  <a:pt x="23" y="499"/>
                </a:cubicBezTo>
                <a:lnTo>
                  <a:pt x="23" y="320"/>
                </a:lnTo>
                <a:cubicBezTo>
                  <a:pt x="23" y="305"/>
                  <a:pt x="36" y="292"/>
                  <a:pt x="51" y="292"/>
                </a:cubicBezTo>
                <a:lnTo>
                  <a:pt x="429" y="292"/>
                </a:lnTo>
                <a:cubicBezTo>
                  <a:pt x="444" y="292"/>
                  <a:pt x="457" y="305"/>
                  <a:pt x="457" y="320"/>
                </a:cubicBezTo>
                <a:lnTo>
                  <a:pt x="457" y="499"/>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65" name="Freeform 154"/>
          <p:cNvSpPr/>
          <p:nvPr/>
        </p:nvSpPr>
        <p:spPr>
          <a:xfrm>
            <a:off x="4229280" y="1171440"/>
            <a:ext cx="134640" cy="163800"/>
          </a:xfrm>
          <a:custGeom>
            <a:avLst/>
            <a:gdLst/>
            <a:ahLst/>
            <a:rect l="l" t="t" r="r" b="b"/>
            <a:pathLst>
              <a:path w="513" h="607">
                <a:moveTo>
                  <a:pt x="70" y="70"/>
                </a:moveTo>
                <a:lnTo>
                  <a:pt x="443" y="70"/>
                </a:lnTo>
                <a:lnTo>
                  <a:pt x="443" y="210"/>
                </a:lnTo>
                <a:lnTo>
                  <a:pt x="70" y="210"/>
                </a:lnTo>
                <a:lnTo>
                  <a:pt x="70" y="70"/>
                </a:lnTo>
                <a:close/>
                <a:moveTo>
                  <a:pt x="70" y="397"/>
                </a:moveTo>
                <a:lnTo>
                  <a:pt x="443" y="397"/>
                </a:lnTo>
                <a:lnTo>
                  <a:pt x="443" y="537"/>
                </a:lnTo>
                <a:lnTo>
                  <a:pt x="70" y="537"/>
                </a:lnTo>
                <a:lnTo>
                  <a:pt x="70" y="397"/>
                </a:lnTo>
                <a:close/>
                <a:moveTo>
                  <a:pt x="193" y="464"/>
                </a:moveTo>
                <a:lnTo>
                  <a:pt x="320" y="464"/>
                </a:lnTo>
                <a:lnTo>
                  <a:pt x="320" y="470"/>
                </a:lnTo>
                <a:lnTo>
                  <a:pt x="193" y="470"/>
                </a:lnTo>
                <a:lnTo>
                  <a:pt x="193" y="464"/>
                </a:lnTo>
                <a:close/>
                <a:moveTo>
                  <a:pt x="467" y="537"/>
                </a:moveTo>
                <a:cubicBezTo>
                  <a:pt x="467" y="550"/>
                  <a:pt x="456" y="560"/>
                  <a:pt x="443" y="560"/>
                </a:cubicBezTo>
                <a:lnTo>
                  <a:pt x="70" y="560"/>
                </a:lnTo>
                <a:cubicBezTo>
                  <a:pt x="57" y="560"/>
                  <a:pt x="46" y="550"/>
                  <a:pt x="46" y="537"/>
                </a:cubicBezTo>
                <a:lnTo>
                  <a:pt x="46" y="70"/>
                </a:lnTo>
                <a:cubicBezTo>
                  <a:pt x="46" y="58"/>
                  <a:pt x="57" y="47"/>
                  <a:pt x="70" y="47"/>
                </a:cubicBezTo>
                <a:lnTo>
                  <a:pt x="443" y="47"/>
                </a:lnTo>
                <a:cubicBezTo>
                  <a:pt x="456" y="47"/>
                  <a:pt x="466" y="58"/>
                  <a:pt x="466" y="70"/>
                </a:cubicBezTo>
                <a:lnTo>
                  <a:pt x="467" y="537"/>
                </a:lnTo>
                <a:close/>
                <a:moveTo>
                  <a:pt x="443" y="0"/>
                </a:moveTo>
                <a:lnTo>
                  <a:pt x="70" y="0"/>
                </a:lnTo>
                <a:cubicBezTo>
                  <a:pt x="31" y="0"/>
                  <a:pt x="0" y="32"/>
                  <a:pt x="0" y="70"/>
                </a:cubicBezTo>
                <a:lnTo>
                  <a:pt x="0" y="537"/>
                </a:lnTo>
                <a:cubicBezTo>
                  <a:pt x="0" y="576"/>
                  <a:pt x="31" y="607"/>
                  <a:pt x="70" y="607"/>
                </a:cubicBezTo>
                <a:lnTo>
                  <a:pt x="443" y="607"/>
                </a:lnTo>
                <a:cubicBezTo>
                  <a:pt x="482" y="607"/>
                  <a:pt x="513" y="576"/>
                  <a:pt x="513" y="537"/>
                </a:cubicBezTo>
                <a:lnTo>
                  <a:pt x="513" y="70"/>
                </a:lnTo>
                <a:cubicBezTo>
                  <a:pt x="513" y="32"/>
                  <a:pt x="482" y="0"/>
                  <a:pt x="443" y="0"/>
                </a:cubicBezTo>
                <a:close/>
                <a:moveTo>
                  <a:pt x="70" y="234"/>
                </a:moveTo>
                <a:lnTo>
                  <a:pt x="443" y="234"/>
                </a:lnTo>
                <a:lnTo>
                  <a:pt x="443" y="374"/>
                </a:lnTo>
                <a:lnTo>
                  <a:pt x="70" y="374"/>
                </a:lnTo>
                <a:lnTo>
                  <a:pt x="70" y="234"/>
                </a:lnTo>
                <a:close/>
                <a:moveTo>
                  <a:pt x="193" y="301"/>
                </a:moveTo>
                <a:lnTo>
                  <a:pt x="320" y="301"/>
                </a:lnTo>
                <a:lnTo>
                  <a:pt x="320" y="307"/>
                </a:lnTo>
                <a:lnTo>
                  <a:pt x="193" y="307"/>
                </a:lnTo>
                <a:lnTo>
                  <a:pt x="193" y="301"/>
                </a:lnTo>
                <a:close/>
                <a:moveTo>
                  <a:pt x="193" y="137"/>
                </a:moveTo>
                <a:lnTo>
                  <a:pt x="320" y="137"/>
                </a:lnTo>
                <a:lnTo>
                  <a:pt x="320" y="143"/>
                </a:lnTo>
                <a:lnTo>
                  <a:pt x="193" y="143"/>
                </a:lnTo>
                <a:lnTo>
                  <a:pt x="193" y="137"/>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66" name="Freeform 155"/>
          <p:cNvSpPr/>
          <p:nvPr/>
        </p:nvSpPr>
        <p:spPr>
          <a:xfrm>
            <a:off x="2282760" y="2270160"/>
            <a:ext cx="174600" cy="183960"/>
          </a:xfrm>
          <a:custGeom>
            <a:avLst/>
            <a:gdLst/>
            <a:ahLst/>
            <a:rect l="l" t="t" r="r" b="b"/>
            <a:pathLst>
              <a:path w="657" h="687">
                <a:moveTo>
                  <a:pt x="618" y="608"/>
                </a:moveTo>
                <a:cubicBezTo>
                  <a:pt x="610" y="616"/>
                  <a:pt x="596" y="617"/>
                  <a:pt x="587" y="608"/>
                </a:cubicBezTo>
                <a:cubicBezTo>
                  <a:pt x="578" y="599"/>
                  <a:pt x="578" y="585"/>
                  <a:pt x="587" y="576"/>
                </a:cubicBezTo>
                <a:cubicBezTo>
                  <a:pt x="596" y="567"/>
                  <a:pt x="610" y="567"/>
                  <a:pt x="618" y="576"/>
                </a:cubicBezTo>
                <a:cubicBezTo>
                  <a:pt x="627" y="585"/>
                  <a:pt x="627" y="599"/>
                  <a:pt x="618" y="608"/>
                </a:cubicBezTo>
                <a:close/>
                <a:moveTo>
                  <a:pt x="638" y="556"/>
                </a:moveTo>
                <a:lnTo>
                  <a:pt x="638" y="555"/>
                </a:lnTo>
                <a:lnTo>
                  <a:pt x="405" y="322"/>
                </a:lnTo>
                <a:lnTo>
                  <a:pt x="511" y="216"/>
                </a:lnTo>
                <a:lnTo>
                  <a:pt x="605" y="156"/>
                </a:lnTo>
                <a:lnTo>
                  <a:pt x="643" y="88"/>
                </a:lnTo>
                <a:lnTo>
                  <a:pt x="599" y="44"/>
                </a:lnTo>
                <a:lnTo>
                  <a:pt x="532" y="82"/>
                </a:lnTo>
                <a:lnTo>
                  <a:pt x="471" y="176"/>
                </a:lnTo>
                <a:lnTo>
                  <a:pt x="366" y="282"/>
                </a:lnTo>
                <a:lnTo>
                  <a:pt x="261" y="177"/>
                </a:lnTo>
                <a:lnTo>
                  <a:pt x="261" y="38"/>
                </a:lnTo>
                <a:lnTo>
                  <a:pt x="119" y="0"/>
                </a:lnTo>
                <a:lnTo>
                  <a:pt x="104" y="15"/>
                </a:lnTo>
                <a:lnTo>
                  <a:pt x="179" y="90"/>
                </a:lnTo>
                <a:lnTo>
                  <a:pt x="105" y="164"/>
                </a:lnTo>
                <a:lnTo>
                  <a:pt x="30" y="89"/>
                </a:lnTo>
                <a:lnTo>
                  <a:pt x="15" y="104"/>
                </a:lnTo>
                <a:lnTo>
                  <a:pt x="53" y="246"/>
                </a:lnTo>
                <a:lnTo>
                  <a:pt x="188" y="246"/>
                </a:lnTo>
                <a:lnTo>
                  <a:pt x="187" y="247"/>
                </a:lnTo>
                <a:lnTo>
                  <a:pt x="294" y="354"/>
                </a:lnTo>
                <a:lnTo>
                  <a:pt x="254" y="393"/>
                </a:lnTo>
                <a:lnTo>
                  <a:pt x="228" y="367"/>
                </a:lnTo>
                <a:lnTo>
                  <a:pt x="188" y="407"/>
                </a:lnTo>
                <a:lnTo>
                  <a:pt x="201" y="420"/>
                </a:lnTo>
                <a:cubicBezTo>
                  <a:pt x="165" y="433"/>
                  <a:pt x="66" y="532"/>
                  <a:pt x="52" y="568"/>
                </a:cubicBezTo>
                <a:lnTo>
                  <a:pt x="40" y="556"/>
                </a:lnTo>
                <a:lnTo>
                  <a:pt x="0" y="596"/>
                </a:lnTo>
                <a:lnTo>
                  <a:pt x="92" y="687"/>
                </a:lnTo>
                <a:lnTo>
                  <a:pt x="132" y="647"/>
                </a:lnTo>
                <a:lnTo>
                  <a:pt x="119" y="635"/>
                </a:lnTo>
                <a:cubicBezTo>
                  <a:pt x="155" y="621"/>
                  <a:pt x="254" y="522"/>
                  <a:pt x="268" y="487"/>
                </a:cubicBezTo>
                <a:lnTo>
                  <a:pt x="280" y="499"/>
                </a:lnTo>
                <a:lnTo>
                  <a:pt x="320" y="459"/>
                </a:lnTo>
                <a:lnTo>
                  <a:pt x="294" y="433"/>
                </a:lnTo>
                <a:lnTo>
                  <a:pt x="333" y="394"/>
                </a:lnTo>
                <a:lnTo>
                  <a:pt x="566" y="627"/>
                </a:lnTo>
                <a:lnTo>
                  <a:pt x="566" y="627"/>
                </a:lnTo>
                <a:cubicBezTo>
                  <a:pt x="586" y="646"/>
                  <a:pt x="618" y="646"/>
                  <a:pt x="637" y="626"/>
                </a:cubicBezTo>
                <a:cubicBezTo>
                  <a:pt x="657" y="607"/>
                  <a:pt x="657" y="575"/>
                  <a:pt x="638" y="55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67" name="Freeform 156"/>
          <p:cNvSpPr/>
          <p:nvPr/>
        </p:nvSpPr>
        <p:spPr>
          <a:xfrm>
            <a:off x="5894280" y="863640"/>
            <a:ext cx="171720" cy="168120"/>
          </a:xfrm>
          <a:custGeom>
            <a:avLst/>
            <a:gdLst/>
            <a:ahLst/>
            <a:rect l="l" t="t" r="r" b="b"/>
            <a:pathLst>
              <a:path w="643" h="629">
                <a:moveTo>
                  <a:pt x="424" y="314"/>
                </a:moveTo>
                <a:cubicBezTo>
                  <a:pt x="424" y="370"/>
                  <a:pt x="378" y="415"/>
                  <a:pt x="321" y="415"/>
                </a:cubicBezTo>
                <a:cubicBezTo>
                  <a:pt x="265" y="415"/>
                  <a:pt x="218" y="370"/>
                  <a:pt x="218" y="314"/>
                </a:cubicBezTo>
                <a:cubicBezTo>
                  <a:pt x="218" y="259"/>
                  <a:pt x="265" y="213"/>
                  <a:pt x="321" y="213"/>
                </a:cubicBezTo>
                <a:cubicBezTo>
                  <a:pt x="378" y="213"/>
                  <a:pt x="424" y="259"/>
                  <a:pt x="424" y="314"/>
                </a:cubicBezTo>
                <a:close/>
                <a:moveTo>
                  <a:pt x="554" y="242"/>
                </a:moveTo>
                <a:lnTo>
                  <a:pt x="538" y="204"/>
                </a:lnTo>
                <a:cubicBezTo>
                  <a:pt x="538" y="204"/>
                  <a:pt x="576" y="118"/>
                  <a:pt x="572" y="115"/>
                </a:cubicBezTo>
                <a:lnTo>
                  <a:pt x="522" y="66"/>
                </a:lnTo>
                <a:cubicBezTo>
                  <a:pt x="519" y="63"/>
                  <a:pt x="434" y="102"/>
                  <a:pt x="434" y="102"/>
                </a:cubicBezTo>
                <a:lnTo>
                  <a:pt x="395" y="86"/>
                </a:lnTo>
                <a:cubicBezTo>
                  <a:pt x="395" y="86"/>
                  <a:pt x="360" y="0"/>
                  <a:pt x="355" y="0"/>
                </a:cubicBezTo>
                <a:lnTo>
                  <a:pt x="285" y="0"/>
                </a:lnTo>
                <a:cubicBezTo>
                  <a:pt x="280" y="0"/>
                  <a:pt x="248" y="86"/>
                  <a:pt x="248" y="86"/>
                </a:cubicBezTo>
                <a:lnTo>
                  <a:pt x="208" y="102"/>
                </a:lnTo>
                <a:cubicBezTo>
                  <a:pt x="208" y="102"/>
                  <a:pt x="121" y="65"/>
                  <a:pt x="118" y="68"/>
                </a:cubicBezTo>
                <a:lnTo>
                  <a:pt x="68" y="117"/>
                </a:lnTo>
                <a:cubicBezTo>
                  <a:pt x="65" y="121"/>
                  <a:pt x="104" y="204"/>
                  <a:pt x="104" y="204"/>
                </a:cubicBezTo>
                <a:lnTo>
                  <a:pt x="88" y="243"/>
                </a:lnTo>
                <a:cubicBezTo>
                  <a:pt x="88" y="243"/>
                  <a:pt x="0" y="276"/>
                  <a:pt x="0" y="281"/>
                </a:cubicBezTo>
                <a:lnTo>
                  <a:pt x="0" y="350"/>
                </a:lnTo>
                <a:cubicBezTo>
                  <a:pt x="0" y="355"/>
                  <a:pt x="88" y="386"/>
                  <a:pt x="88" y="386"/>
                </a:cubicBezTo>
                <a:lnTo>
                  <a:pt x="105" y="425"/>
                </a:lnTo>
                <a:cubicBezTo>
                  <a:pt x="105" y="425"/>
                  <a:pt x="67" y="510"/>
                  <a:pt x="70" y="513"/>
                </a:cubicBezTo>
                <a:lnTo>
                  <a:pt x="120" y="562"/>
                </a:lnTo>
                <a:cubicBezTo>
                  <a:pt x="123" y="565"/>
                  <a:pt x="209" y="527"/>
                  <a:pt x="209" y="527"/>
                </a:cubicBezTo>
                <a:lnTo>
                  <a:pt x="248" y="543"/>
                </a:lnTo>
                <a:cubicBezTo>
                  <a:pt x="248" y="543"/>
                  <a:pt x="283" y="629"/>
                  <a:pt x="288" y="629"/>
                </a:cubicBezTo>
                <a:lnTo>
                  <a:pt x="358" y="629"/>
                </a:lnTo>
                <a:cubicBezTo>
                  <a:pt x="363" y="629"/>
                  <a:pt x="395" y="542"/>
                  <a:pt x="395" y="542"/>
                </a:cubicBezTo>
                <a:lnTo>
                  <a:pt x="434" y="526"/>
                </a:lnTo>
                <a:cubicBezTo>
                  <a:pt x="434" y="526"/>
                  <a:pt x="521" y="563"/>
                  <a:pt x="525" y="560"/>
                </a:cubicBezTo>
                <a:lnTo>
                  <a:pt x="574" y="511"/>
                </a:lnTo>
                <a:cubicBezTo>
                  <a:pt x="578" y="508"/>
                  <a:pt x="538" y="424"/>
                  <a:pt x="538" y="424"/>
                </a:cubicBezTo>
                <a:lnTo>
                  <a:pt x="554" y="386"/>
                </a:lnTo>
                <a:cubicBezTo>
                  <a:pt x="554" y="386"/>
                  <a:pt x="643" y="352"/>
                  <a:pt x="643" y="347"/>
                </a:cubicBezTo>
                <a:lnTo>
                  <a:pt x="643" y="278"/>
                </a:lnTo>
                <a:cubicBezTo>
                  <a:pt x="643" y="273"/>
                  <a:pt x="554" y="242"/>
                  <a:pt x="554" y="24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68" name="Freeform 157"/>
          <p:cNvSpPr/>
          <p:nvPr/>
        </p:nvSpPr>
        <p:spPr>
          <a:xfrm>
            <a:off x="6265800" y="1706400"/>
            <a:ext cx="185760" cy="208080"/>
          </a:xfrm>
          <a:custGeom>
            <a:avLst/>
            <a:gdLst/>
            <a:ahLst/>
            <a:rect l="l" t="t" r="r" b="b"/>
            <a:pathLst>
              <a:path w="694" h="784">
                <a:moveTo>
                  <a:pt x="542" y="12"/>
                </a:moveTo>
                <a:cubicBezTo>
                  <a:pt x="542" y="12"/>
                  <a:pt x="595" y="7"/>
                  <a:pt x="637" y="34"/>
                </a:cubicBezTo>
                <a:cubicBezTo>
                  <a:pt x="652" y="34"/>
                  <a:pt x="664" y="40"/>
                  <a:pt x="672" y="55"/>
                </a:cubicBezTo>
                <a:cubicBezTo>
                  <a:pt x="680" y="69"/>
                  <a:pt x="694" y="104"/>
                  <a:pt x="683" y="125"/>
                </a:cubicBezTo>
                <a:cubicBezTo>
                  <a:pt x="679" y="129"/>
                  <a:pt x="671" y="112"/>
                  <a:pt x="671" y="112"/>
                </a:cubicBezTo>
                <a:cubicBezTo>
                  <a:pt x="671" y="112"/>
                  <a:pt x="666" y="133"/>
                  <a:pt x="655" y="141"/>
                </a:cubicBezTo>
                <a:cubicBezTo>
                  <a:pt x="656" y="184"/>
                  <a:pt x="639" y="214"/>
                  <a:pt x="634" y="225"/>
                </a:cubicBezTo>
                <a:cubicBezTo>
                  <a:pt x="632" y="230"/>
                  <a:pt x="633" y="235"/>
                  <a:pt x="635" y="241"/>
                </a:cubicBezTo>
                <a:cubicBezTo>
                  <a:pt x="637" y="247"/>
                  <a:pt x="666" y="349"/>
                  <a:pt x="665" y="383"/>
                </a:cubicBezTo>
                <a:cubicBezTo>
                  <a:pt x="663" y="417"/>
                  <a:pt x="646" y="457"/>
                  <a:pt x="632" y="471"/>
                </a:cubicBezTo>
                <a:cubicBezTo>
                  <a:pt x="635" y="499"/>
                  <a:pt x="622" y="523"/>
                  <a:pt x="616" y="535"/>
                </a:cubicBezTo>
                <a:cubicBezTo>
                  <a:pt x="609" y="546"/>
                  <a:pt x="595" y="590"/>
                  <a:pt x="591" y="610"/>
                </a:cubicBezTo>
                <a:cubicBezTo>
                  <a:pt x="588" y="630"/>
                  <a:pt x="586" y="652"/>
                  <a:pt x="591" y="658"/>
                </a:cubicBezTo>
                <a:cubicBezTo>
                  <a:pt x="595" y="665"/>
                  <a:pt x="614" y="685"/>
                  <a:pt x="613" y="695"/>
                </a:cubicBezTo>
                <a:cubicBezTo>
                  <a:pt x="611" y="705"/>
                  <a:pt x="591" y="717"/>
                  <a:pt x="580" y="717"/>
                </a:cubicBezTo>
                <a:cubicBezTo>
                  <a:pt x="570" y="717"/>
                  <a:pt x="549" y="710"/>
                  <a:pt x="544" y="697"/>
                </a:cubicBezTo>
                <a:cubicBezTo>
                  <a:pt x="539" y="683"/>
                  <a:pt x="539" y="659"/>
                  <a:pt x="542" y="645"/>
                </a:cubicBezTo>
                <a:cubicBezTo>
                  <a:pt x="546" y="632"/>
                  <a:pt x="570" y="531"/>
                  <a:pt x="556" y="472"/>
                </a:cubicBezTo>
                <a:cubicBezTo>
                  <a:pt x="521" y="488"/>
                  <a:pt x="462" y="487"/>
                  <a:pt x="462" y="487"/>
                </a:cubicBezTo>
                <a:cubicBezTo>
                  <a:pt x="462" y="487"/>
                  <a:pt x="451" y="540"/>
                  <a:pt x="439" y="570"/>
                </a:cubicBezTo>
                <a:cubicBezTo>
                  <a:pt x="435" y="577"/>
                  <a:pt x="436" y="627"/>
                  <a:pt x="436" y="658"/>
                </a:cubicBezTo>
                <a:cubicBezTo>
                  <a:pt x="436" y="689"/>
                  <a:pt x="446" y="737"/>
                  <a:pt x="446" y="737"/>
                </a:cubicBezTo>
                <a:cubicBezTo>
                  <a:pt x="446" y="737"/>
                  <a:pt x="462" y="748"/>
                  <a:pt x="459" y="762"/>
                </a:cubicBezTo>
                <a:cubicBezTo>
                  <a:pt x="457" y="776"/>
                  <a:pt x="440" y="784"/>
                  <a:pt x="425" y="784"/>
                </a:cubicBezTo>
                <a:cubicBezTo>
                  <a:pt x="410" y="784"/>
                  <a:pt x="390" y="772"/>
                  <a:pt x="390" y="753"/>
                </a:cubicBezTo>
                <a:cubicBezTo>
                  <a:pt x="390" y="734"/>
                  <a:pt x="392" y="692"/>
                  <a:pt x="391" y="661"/>
                </a:cubicBezTo>
                <a:cubicBezTo>
                  <a:pt x="390" y="629"/>
                  <a:pt x="390" y="609"/>
                  <a:pt x="385" y="590"/>
                </a:cubicBezTo>
                <a:cubicBezTo>
                  <a:pt x="380" y="570"/>
                  <a:pt x="366" y="519"/>
                  <a:pt x="364" y="479"/>
                </a:cubicBezTo>
                <a:cubicBezTo>
                  <a:pt x="359" y="479"/>
                  <a:pt x="354" y="475"/>
                  <a:pt x="354" y="475"/>
                </a:cubicBezTo>
                <a:cubicBezTo>
                  <a:pt x="354" y="475"/>
                  <a:pt x="330" y="503"/>
                  <a:pt x="314" y="519"/>
                </a:cubicBezTo>
                <a:cubicBezTo>
                  <a:pt x="316" y="530"/>
                  <a:pt x="322" y="549"/>
                  <a:pt x="322" y="554"/>
                </a:cubicBezTo>
                <a:cubicBezTo>
                  <a:pt x="322" y="558"/>
                  <a:pt x="326" y="562"/>
                  <a:pt x="333" y="564"/>
                </a:cubicBezTo>
                <a:cubicBezTo>
                  <a:pt x="341" y="567"/>
                  <a:pt x="363" y="580"/>
                  <a:pt x="362" y="592"/>
                </a:cubicBezTo>
                <a:cubicBezTo>
                  <a:pt x="361" y="604"/>
                  <a:pt x="333" y="606"/>
                  <a:pt x="309" y="596"/>
                </a:cubicBezTo>
                <a:cubicBezTo>
                  <a:pt x="303" y="593"/>
                  <a:pt x="282" y="523"/>
                  <a:pt x="279" y="513"/>
                </a:cubicBezTo>
                <a:cubicBezTo>
                  <a:pt x="276" y="504"/>
                  <a:pt x="274" y="499"/>
                  <a:pt x="278" y="491"/>
                </a:cubicBezTo>
                <a:cubicBezTo>
                  <a:pt x="281" y="483"/>
                  <a:pt x="292" y="457"/>
                  <a:pt x="290" y="441"/>
                </a:cubicBezTo>
                <a:cubicBezTo>
                  <a:pt x="289" y="426"/>
                  <a:pt x="261" y="402"/>
                  <a:pt x="242" y="402"/>
                </a:cubicBezTo>
                <a:cubicBezTo>
                  <a:pt x="227" y="402"/>
                  <a:pt x="205" y="425"/>
                  <a:pt x="189" y="437"/>
                </a:cubicBezTo>
                <a:cubicBezTo>
                  <a:pt x="170" y="452"/>
                  <a:pt x="147" y="475"/>
                  <a:pt x="142" y="479"/>
                </a:cubicBezTo>
                <a:cubicBezTo>
                  <a:pt x="136" y="483"/>
                  <a:pt x="90" y="565"/>
                  <a:pt x="82" y="589"/>
                </a:cubicBezTo>
                <a:cubicBezTo>
                  <a:pt x="78" y="598"/>
                  <a:pt x="71" y="645"/>
                  <a:pt x="33" y="644"/>
                </a:cubicBezTo>
                <a:cubicBezTo>
                  <a:pt x="16" y="643"/>
                  <a:pt x="0" y="624"/>
                  <a:pt x="49" y="590"/>
                </a:cubicBezTo>
                <a:cubicBezTo>
                  <a:pt x="61" y="561"/>
                  <a:pt x="78" y="531"/>
                  <a:pt x="80" y="525"/>
                </a:cubicBezTo>
                <a:cubicBezTo>
                  <a:pt x="81" y="519"/>
                  <a:pt x="94" y="445"/>
                  <a:pt x="115" y="374"/>
                </a:cubicBezTo>
                <a:cubicBezTo>
                  <a:pt x="137" y="304"/>
                  <a:pt x="169" y="270"/>
                  <a:pt x="175" y="265"/>
                </a:cubicBezTo>
                <a:cubicBezTo>
                  <a:pt x="179" y="262"/>
                  <a:pt x="182" y="259"/>
                  <a:pt x="177" y="257"/>
                </a:cubicBezTo>
                <a:cubicBezTo>
                  <a:pt x="172" y="254"/>
                  <a:pt x="121" y="210"/>
                  <a:pt x="131" y="117"/>
                </a:cubicBezTo>
                <a:cubicBezTo>
                  <a:pt x="132" y="106"/>
                  <a:pt x="137" y="109"/>
                  <a:pt x="141" y="134"/>
                </a:cubicBezTo>
                <a:cubicBezTo>
                  <a:pt x="144" y="159"/>
                  <a:pt x="164" y="217"/>
                  <a:pt x="208" y="236"/>
                </a:cubicBezTo>
                <a:cubicBezTo>
                  <a:pt x="212" y="237"/>
                  <a:pt x="244" y="213"/>
                  <a:pt x="407" y="201"/>
                </a:cubicBezTo>
                <a:cubicBezTo>
                  <a:pt x="408" y="172"/>
                  <a:pt x="412" y="142"/>
                  <a:pt x="412" y="142"/>
                </a:cubicBezTo>
                <a:cubicBezTo>
                  <a:pt x="412" y="142"/>
                  <a:pt x="401" y="133"/>
                  <a:pt x="399" y="116"/>
                </a:cubicBezTo>
                <a:cubicBezTo>
                  <a:pt x="394" y="124"/>
                  <a:pt x="391" y="127"/>
                  <a:pt x="384" y="126"/>
                </a:cubicBezTo>
                <a:cubicBezTo>
                  <a:pt x="377" y="124"/>
                  <a:pt x="377" y="91"/>
                  <a:pt x="379" y="67"/>
                </a:cubicBezTo>
                <a:cubicBezTo>
                  <a:pt x="381" y="43"/>
                  <a:pt x="408" y="33"/>
                  <a:pt x="418" y="32"/>
                </a:cubicBezTo>
                <a:cubicBezTo>
                  <a:pt x="432" y="25"/>
                  <a:pt x="447" y="26"/>
                  <a:pt x="447" y="26"/>
                </a:cubicBezTo>
                <a:cubicBezTo>
                  <a:pt x="447" y="26"/>
                  <a:pt x="471" y="0"/>
                  <a:pt x="542" y="1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69" name="Freeform 158"/>
          <p:cNvSpPr/>
          <p:nvPr/>
        </p:nvSpPr>
        <p:spPr>
          <a:xfrm>
            <a:off x="7016760" y="1173240"/>
            <a:ext cx="136440" cy="160200"/>
          </a:xfrm>
          <a:custGeom>
            <a:avLst/>
            <a:gdLst/>
            <a:ahLst/>
            <a:rect l="l" t="t" r="r" b="b"/>
            <a:pathLst>
              <a:path w="511" h="596">
                <a:moveTo>
                  <a:pt x="264" y="462"/>
                </a:moveTo>
                <a:cubicBezTo>
                  <a:pt x="317" y="457"/>
                  <a:pt x="362" y="436"/>
                  <a:pt x="400" y="399"/>
                </a:cubicBezTo>
                <a:cubicBezTo>
                  <a:pt x="454" y="346"/>
                  <a:pt x="477" y="281"/>
                  <a:pt x="468" y="205"/>
                </a:cubicBezTo>
                <a:cubicBezTo>
                  <a:pt x="464" y="167"/>
                  <a:pt x="450" y="132"/>
                  <a:pt x="427" y="100"/>
                </a:cubicBezTo>
                <a:cubicBezTo>
                  <a:pt x="390" y="50"/>
                  <a:pt x="341" y="19"/>
                  <a:pt x="279" y="8"/>
                </a:cubicBezTo>
                <a:cubicBezTo>
                  <a:pt x="267" y="6"/>
                  <a:pt x="254" y="5"/>
                  <a:pt x="242" y="4"/>
                </a:cubicBezTo>
                <a:cubicBezTo>
                  <a:pt x="241" y="4"/>
                  <a:pt x="240" y="4"/>
                  <a:pt x="239" y="4"/>
                </a:cubicBezTo>
                <a:cubicBezTo>
                  <a:pt x="227" y="5"/>
                  <a:pt x="216" y="6"/>
                  <a:pt x="204" y="8"/>
                </a:cubicBezTo>
                <a:cubicBezTo>
                  <a:pt x="86" y="26"/>
                  <a:pt x="0" y="139"/>
                  <a:pt x="13" y="258"/>
                </a:cubicBezTo>
                <a:cubicBezTo>
                  <a:pt x="20" y="315"/>
                  <a:pt x="44" y="364"/>
                  <a:pt x="86" y="403"/>
                </a:cubicBezTo>
                <a:cubicBezTo>
                  <a:pt x="137" y="449"/>
                  <a:pt x="196" y="469"/>
                  <a:pt x="264" y="462"/>
                </a:cubicBezTo>
                <a:close/>
                <a:moveTo>
                  <a:pt x="436" y="545"/>
                </a:moveTo>
                <a:cubicBezTo>
                  <a:pt x="429" y="486"/>
                  <a:pt x="453" y="395"/>
                  <a:pt x="456" y="383"/>
                </a:cubicBezTo>
                <a:cubicBezTo>
                  <a:pt x="461" y="376"/>
                  <a:pt x="466" y="368"/>
                  <a:pt x="471" y="360"/>
                </a:cubicBezTo>
                <a:cubicBezTo>
                  <a:pt x="504" y="298"/>
                  <a:pt x="511" y="226"/>
                  <a:pt x="491" y="159"/>
                </a:cubicBezTo>
                <a:cubicBezTo>
                  <a:pt x="471" y="91"/>
                  <a:pt x="426" y="36"/>
                  <a:pt x="364" y="2"/>
                </a:cubicBezTo>
                <a:cubicBezTo>
                  <a:pt x="360" y="0"/>
                  <a:pt x="354" y="2"/>
                  <a:pt x="352" y="6"/>
                </a:cubicBezTo>
                <a:cubicBezTo>
                  <a:pt x="350" y="10"/>
                  <a:pt x="351" y="15"/>
                  <a:pt x="356" y="17"/>
                </a:cubicBezTo>
                <a:cubicBezTo>
                  <a:pt x="414" y="49"/>
                  <a:pt x="456" y="101"/>
                  <a:pt x="475" y="164"/>
                </a:cubicBezTo>
                <a:cubicBezTo>
                  <a:pt x="494" y="227"/>
                  <a:pt x="487" y="294"/>
                  <a:pt x="456" y="352"/>
                </a:cubicBezTo>
                <a:cubicBezTo>
                  <a:pt x="424" y="409"/>
                  <a:pt x="372" y="452"/>
                  <a:pt x="309" y="471"/>
                </a:cubicBezTo>
                <a:cubicBezTo>
                  <a:pt x="246" y="490"/>
                  <a:pt x="179" y="483"/>
                  <a:pt x="121" y="451"/>
                </a:cubicBezTo>
                <a:cubicBezTo>
                  <a:pt x="117" y="449"/>
                  <a:pt x="112" y="451"/>
                  <a:pt x="110" y="455"/>
                </a:cubicBezTo>
                <a:cubicBezTo>
                  <a:pt x="108" y="459"/>
                  <a:pt x="109" y="464"/>
                  <a:pt x="113" y="467"/>
                </a:cubicBezTo>
                <a:cubicBezTo>
                  <a:pt x="152" y="488"/>
                  <a:pt x="195" y="498"/>
                  <a:pt x="238" y="498"/>
                </a:cubicBezTo>
                <a:cubicBezTo>
                  <a:pt x="264" y="498"/>
                  <a:pt x="289" y="495"/>
                  <a:pt x="314" y="487"/>
                </a:cubicBezTo>
                <a:cubicBezTo>
                  <a:pt x="330" y="482"/>
                  <a:pt x="344" y="476"/>
                  <a:pt x="359" y="469"/>
                </a:cubicBezTo>
                <a:cubicBezTo>
                  <a:pt x="362" y="470"/>
                  <a:pt x="391" y="478"/>
                  <a:pt x="391" y="543"/>
                </a:cubicBezTo>
                <a:cubicBezTo>
                  <a:pt x="344" y="545"/>
                  <a:pt x="307" y="556"/>
                  <a:pt x="307" y="570"/>
                </a:cubicBezTo>
                <a:cubicBezTo>
                  <a:pt x="307" y="584"/>
                  <a:pt x="349" y="596"/>
                  <a:pt x="400" y="596"/>
                </a:cubicBezTo>
                <a:cubicBezTo>
                  <a:pt x="450" y="596"/>
                  <a:pt x="492" y="584"/>
                  <a:pt x="492" y="570"/>
                </a:cubicBezTo>
                <a:cubicBezTo>
                  <a:pt x="492" y="559"/>
                  <a:pt x="469" y="549"/>
                  <a:pt x="436" y="545"/>
                </a:cubicBezTo>
                <a:close/>
                <a:moveTo>
                  <a:pt x="68" y="326"/>
                </a:moveTo>
                <a:cubicBezTo>
                  <a:pt x="28" y="250"/>
                  <a:pt x="47" y="163"/>
                  <a:pt x="88" y="115"/>
                </a:cubicBezTo>
                <a:cubicBezTo>
                  <a:pt x="89" y="124"/>
                  <a:pt x="90" y="132"/>
                  <a:pt x="91" y="139"/>
                </a:cubicBezTo>
                <a:cubicBezTo>
                  <a:pt x="93" y="160"/>
                  <a:pt x="92" y="181"/>
                  <a:pt x="87" y="202"/>
                </a:cubicBezTo>
                <a:cubicBezTo>
                  <a:pt x="86" y="206"/>
                  <a:pt x="87" y="211"/>
                  <a:pt x="88" y="216"/>
                </a:cubicBezTo>
                <a:cubicBezTo>
                  <a:pt x="89" y="218"/>
                  <a:pt x="92" y="221"/>
                  <a:pt x="95" y="221"/>
                </a:cubicBezTo>
                <a:cubicBezTo>
                  <a:pt x="97" y="221"/>
                  <a:pt x="100" y="218"/>
                  <a:pt x="101" y="216"/>
                </a:cubicBezTo>
                <a:cubicBezTo>
                  <a:pt x="102" y="212"/>
                  <a:pt x="102" y="207"/>
                  <a:pt x="103" y="203"/>
                </a:cubicBezTo>
                <a:cubicBezTo>
                  <a:pt x="103" y="200"/>
                  <a:pt x="103" y="196"/>
                  <a:pt x="103" y="191"/>
                </a:cubicBezTo>
                <a:cubicBezTo>
                  <a:pt x="106" y="194"/>
                  <a:pt x="109" y="196"/>
                  <a:pt x="111" y="198"/>
                </a:cubicBezTo>
                <a:cubicBezTo>
                  <a:pt x="116" y="203"/>
                  <a:pt x="121" y="208"/>
                  <a:pt x="125" y="213"/>
                </a:cubicBezTo>
                <a:cubicBezTo>
                  <a:pt x="127" y="215"/>
                  <a:pt x="129" y="219"/>
                  <a:pt x="129" y="222"/>
                </a:cubicBezTo>
                <a:cubicBezTo>
                  <a:pt x="129" y="228"/>
                  <a:pt x="132" y="232"/>
                  <a:pt x="135" y="237"/>
                </a:cubicBezTo>
                <a:cubicBezTo>
                  <a:pt x="139" y="242"/>
                  <a:pt x="140" y="249"/>
                  <a:pt x="143" y="255"/>
                </a:cubicBezTo>
                <a:cubicBezTo>
                  <a:pt x="144" y="258"/>
                  <a:pt x="144" y="261"/>
                  <a:pt x="145" y="263"/>
                </a:cubicBezTo>
                <a:cubicBezTo>
                  <a:pt x="148" y="269"/>
                  <a:pt x="151" y="272"/>
                  <a:pt x="158" y="273"/>
                </a:cubicBezTo>
                <a:cubicBezTo>
                  <a:pt x="165" y="273"/>
                  <a:pt x="167" y="276"/>
                  <a:pt x="168" y="283"/>
                </a:cubicBezTo>
                <a:cubicBezTo>
                  <a:pt x="167" y="283"/>
                  <a:pt x="165" y="283"/>
                  <a:pt x="163" y="283"/>
                </a:cubicBezTo>
                <a:cubicBezTo>
                  <a:pt x="155" y="284"/>
                  <a:pt x="151" y="288"/>
                  <a:pt x="151" y="296"/>
                </a:cubicBezTo>
                <a:cubicBezTo>
                  <a:pt x="152" y="313"/>
                  <a:pt x="158" y="328"/>
                  <a:pt x="170" y="340"/>
                </a:cubicBezTo>
                <a:cubicBezTo>
                  <a:pt x="174" y="343"/>
                  <a:pt x="177" y="346"/>
                  <a:pt x="181" y="349"/>
                </a:cubicBezTo>
                <a:cubicBezTo>
                  <a:pt x="188" y="357"/>
                  <a:pt x="191" y="365"/>
                  <a:pt x="187" y="376"/>
                </a:cubicBezTo>
                <a:cubicBezTo>
                  <a:pt x="185" y="381"/>
                  <a:pt x="183" y="386"/>
                  <a:pt x="182" y="391"/>
                </a:cubicBezTo>
                <a:cubicBezTo>
                  <a:pt x="181" y="396"/>
                  <a:pt x="181" y="401"/>
                  <a:pt x="183" y="407"/>
                </a:cubicBezTo>
                <a:cubicBezTo>
                  <a:pt x="184" y="412"/>
                  <a:pt x="183" y="423"/>
                  <a:pt x="189" y="423"/>
                </a:cubicBezTo>
                <a:cubicBezTo>
                  <a:pt x="199" y="421"/>
                  <a:pt x="204" y="423"/>
                  <a:pt x="205" y="412"/>
                </a:cubicBezTo>
                <a:cubicBezTo>
                  <a:pt x="205" y="410"/>
                  <a:pt x="205" y="410"/>
                  <a:pt x="204" y="408"/>
                </a:cubicBezTo>
                <a:cubicBezTo>
                  <a:pt x="201" y="397"/>
                  <a:pt x="214" y="369"/>
                  <a:pt x="222" y="363"/>
                </a:cubicBezTo>
                <a:cubicBezTo>
                  <a:pt x="229" y="359"/>
                  <a:pt x="236" y="354"/>
                  <a:pt x="242" y="349"/>
                </a:cubicBezTo>
                <a:cubicBezTo>
                  <a:pt x="250" y="341"/>
                  <a:pt x="254" y="332"/>
                  <a:pt x="251" y="320"/>
                </a:cubicBezTo>
                <a:cubicBezTo>
                  <a:pt x="247" y="309"/>
                  <a:pt x="251" y="301"/>
                  <a:pt x="259" y="295"/>
                </a:cubicBezTo>
                <a:cubicBezTo>
                  <a:pt x="267" y="287"/>
                  <a:pt x="272" y="279"/>
                  <a:pt x="271" y="268"/>
                </a:cubicBezTo>
                <a:cubicBezTo>
                  <a:pt x="270" y="258"/>
                  <a:pt x="263" y="250"/>
                  <a:pt x="254" y="251"/>
                </a:cubicBezTo>
                <a:cubicBezTo>
                  <a:pt x="250" y="251"/>
                  <a:pt x="245" y="254"/>
                  <a:pt x="241" y="255"/>
                </a:cubicBezTo>
                <a:cubicBezTo>
                  <a:pt x="234" y="257"/>
                  <a:pt x="228" y="260"/>
                  <a:pt x="221" y="262"/>
                </a:cubicBezTo>
                <a:cubicBezTo>
                  <a:pt x="212" y="263"/>
                  <a:pt x="206" y="257"/>
                  <a:pt x="202" y="250"/>
                </a:cubicBezTo>
                <a:cubicBezTo>
                  <a:pt x="199" y="244"/>
                  <a:pt x="198" y="243"/>
                  <a:pt x="192" y="247"/>
                </a:cubicBezTo>
                <a:cubicBezTo>
                  <a:pt x="187" y="250"/>
                  <a:pt x="182" y="253"/>
                  <a:pt x="177" y="256"/>
                </a:cubicBezTo>
                <a:cubicBezTo>
                  <a:pt x="172" y="259"/>
                  <a:pt x="169" y="258"/>
                  <a:pt x="165" y="254"/>
                </a:cubicBezTo>
                <a:cubicBezTo>
                  <a:pt x="162" y="251"/>
                  <a:pt x="159" y="249"/>
                  <a:pt x="156" y="247"/>
                </a:cubicBezTo>
                <a:cubicBezTo>
                  <a:pt x="154" y="246"/>
                  <a:pt x="151" y="246"/>
                  <a:pt x="149" y="244"/>
                </a:cubicBezTo>
                <a:cubicBezTo>
                  <a:pt x="147" y="242"/>
                  <a:pt x="143" y="238"/>
                  <a:pt x="144" y="236"/>
                </a:cubicBezTo>
                <a:cubicBezTo>
                  <a:pt x="144" y="233"/>
                  <a:pt x="147" y="229"/>
                  <a:pt x="150" y="228"/>
                </a:cubicBezTo>
                <a:cubicBezTo>
                  <a:pt x="156" y="226"/>
                  <a:pt x="161" y="225"/>
                  <a:pt x="167" y="224"/>
                </a:cubicBezTo>
                <a:cubicBezTo>
                  <a:pt x="170" y="224"/>
                  <a:pt x="173" y="223"/>
                  <a:pt x="175" y="222"/>
                </a:cubicBezTo>
                <a:cubicBezTo>
                  <a:pt x="179" y="220"/>
                  <a:pt x="179" y="218"/>
                  <a:pt x="176" y="215"/>
                </a:cubicBezTo>
                <a:cubicBezTo>
                  <a:pt x="175" y="214"/>
                  <a:pt x="173" y="214"/>
                  <a:pt x="171" y="213"/>
                </a:cubicBezTo>
                <a:cubicBezTo>
                  <a:pt x="163" y="209"/>
                  <a:pt x="155" y="206"/>
                  <a:pt x="146" y="203"/>
                </a:cubicBezTo>
                <a:cubicBezTo>
                  <a:pt x="144" y="202"/>
                  <a:pt x="142" y="201"/>
                  <a:pt x="140" y="200"/>
                </a:cubicBezTo>
                <a:cubicBezTo>
                  <a:pt x="135" y="196"/>
                  <a:pt x="134" y="193"/>
                  <a:pt x="139" y="188"/>
                </a:cubicBezTo>
                <a:cubicBezTo>
                  <a:pt x="158" y="172"/>
                  <a:pt x="180" y="167"/>
                  <a:pt x="199" y="189"/>
                </a:cubicBezTo>
                <a:cubicBezTo>
                  <a:pt x="205" y="196"/>
                  <a:pt x="209" y="204"/>
                  <a:pt x="215" y="211"/>
                </a:cubicBezTo>
                <a:cubicBezTo>
                  <a:pt x="220" y="217"/>
                  <a:pt x="225" y="222"/>
                  <a:pt x="230" y="227"/>
                </a:cubicBezTo>
                <a:cubicBezTo>
                  <a:pt x="233" y="229"/>
                  <a:pt x="238" y="229"/>
                  <a:pt x="241" y="227"/>
                </a:cubicBezTo>
                <a:cubicBezTo>
                  <a:pt x="245" y="225"/>
                  <a:pt x="245" y="220"/>
                  <a:pt x="243" y="216"/>
                </a:cubicBezTo>
                <a:cubicBezTo>
                  <a:pt x="241" y="213"/>
                  <a:pt x="239" y="209"/>
                  <a:pt x="237" y="206"/>
                </a:cubicBezTo>
                <a:cubicBezTo>
                  <a:pt x="226" y="192"/>
                  <a:pt x="226" y="164"/>
                  <a:pt x="248" y="153"/>
                </a:cubicBezTo>
                <a:cubicBezTo>
                  <a:pt x="255" y="149"/>
                  <a:pt x="263" y="145"/>
                  <a:pt x="266" y="134"/>
                </a:cubicBezTo>
                <a:cubicBezTo>
                  <a:pt x="262" y="135"/>
                  <a:pt x="259" y="136"/>
                  <a:pt x="256" y="137"/>
                </a:cubicBezTo>
                <a:cubicBezTo>
                  <a:pt x="240" y="142"/>
                  <a:pt x="251" y="130"/>
                  <a:pt x="259" y="128"/>
                </a:cubicBezTo>
                <a:cubicBezTo>
                  <a:pt x="263" y="126"/>
                  <a:pt x="254" y="123"/>
                  <a:pt x="254" y="123"/>
                </a:cubicBezTo>
                <a:cubicBezTo>
                  <a:pt x="255" y="122"/>
                  <a:pt x="260" y="121"/>
                  <a:pt x="266" y="118"/>
                </a:cubicBezTo>
                <a:cubicBezTo>
                  <a:pt x="271" y="116"/>
                  <a:pt x="275" y="114"/>
                  <a:pt x="279" y="111"/>
                </a:cubicBezTo>
                <a:cubicBezTo>
                  <a:pt x="281" y="110"/>
                  <a:pt x="282" y="106"/>
                  <a:pt x="283" y="103"/>
                </a:cubicBezTo>
                <a:cubicBezTo>
                  <a:pt x="283" y="103"/>
                  <a:pt x="283" y="102"/>
                  <a:pt x="282" y="102"/>
                </a:cubicBezTo>
                <a:cubicBezTo>
                  <a:pt x="278" y="102"/>
                  <a:pt x="273" y="103"/>
                  <a:pt x="269" y="104"/>
                </a:cubicBezTo>
                <a:cubicBezTo>
                  <a:pt x="262" y="104"/>
                  <a:pt x="260" y="103"/>
                  <a:pt x="259" y="95"/>
                </a:cubicBezTo>
                <a:cubicBezTo>
                  <a:pt x="259" y="90"/>
                  <a:pt x="254" y="88"/>
                  <a:pt x="249" y="90"/>
                </a:cubicBezTo>
                <a:cubicBezTo>
                  <a:pt x="246" y="92"/>
                  <a:pt x="243" y="95"/>
                  <a:pt x="240" y="97"/>
                </a:cubicBezTo>
                <a:cubicBezTo>
                  <a:pt x="232" y="101"/>
                  <a:pt x="227" y="99"/>
                  <a:pt x="224" y="91"/>
                </a:cubicBezTo>
                <a:cubicBezTo>
                  <a:pt x="222" y="87"/>
                  <a:pt x="220" y="86"/>
                  <a:pt x="215" y="88"/>
                </a:cubicBezTo>
                <a:cubicBezTo>
                  <a:pt x="213" y="90"/>
                  <a:pt x="211" y="92"/>
                  <a:pt x="209" y="93"/>
                </a:cubicBezTo>
                <a:cubicBezTo>
                  <a:pt x="205" y="95"/>
                  <a:pt x="202" y="97"/>
                  <a:pt x="198" y="99"/>
                </a:cubicBezTo>
                <a:cubicBezTo>
                  <a:pt x="194" y="100"/>
                  <a:pt x="189" y="101"/>
                  <a:pt x="186" y="97"/>
                </a:cubicBezTo>
                <a:cubicBezTo>
                  <a:pt x="183" y="92"/>
                  <a:pt x="186" y="88"/>
                  <a:pt x="190" y="85"/>
                </a:cubicBezTo>
                <a:cubicBezTo>
                  <a:pt x="194" y="81"/>
                  <a:pt x="199" y="78"/>
                  <a:pt x="204" y="75"/>
                </a:cubicBezTo>
                <a:cubicBezTo>
                  <a:pt x="211" y="71"/>
                  <a:pt x="219" y="68"/>
                  <a:pt x="226" y="64"/>
                </a:cubicBezTo>
                <a:cubicBezTo>
                  <a:pt x="231" y="60"/>
                  <a:pt x="233" y="55"/>
                  <a:pt x="232" y="49"/>
                </a:cubicBezTo>
                <a:cubicBezTo>
                  <a:pt x="230" y="44"/>
                  <a:pt x="227" y="42"/>
                  <a:pt x="222" y="44"/>
                </a:cubicBezTo>
                <a:cubicBezTo>
                  <a:pt x="218" y="46"/>
                  <a:pt x="214" y="49"/>
                  <a:pt x="210" y="51"/>
                </a:cubicBezTo>
                <a:cubicBezTo>
                  <a:pt x="207" y="52"/>
                  <a:pt x="203" y="52"/>
                  <a:pt x="200" y="52"/>
                </a:cubicBezTo>
                <a:cubicBezTo>
                  <a:pt x="199" y="51"/>
                  <a:pt x="198" y="48"/>
                  <a:pt x="198" y="46"/>
                </a:cubicBezTo>
                <a:cubicBezTo>
                  <a:pt x="197" y="45"/>
                  <a:pt x="200" y="43"/>
                  <a:pt x="201" y="43"/>
                </a:cubicBezTo>
                <a:cubicBezTo>
                  <a:pt x="211" y="41"/>
                  <a:pt x="221" y="40"/>
                  <a:pt x="231" y="39"/>
                </a:cubicBezTo>
                <a:cubicBezTo>
                  <a:pt x="233" y="39"/>
                  <a:pt x="235" y="40"/>
                  <a:pt x="235" y="41"/>
                </a:cubicBezTo>
                <a:cubicBezTo>
                  <a:pt x="242" y="49"/>
                  <a:pt x="251" y="53"/>
                  <a:pt x="261" y="56"/>
                </a:cubicBezTo>
                <a:cubicBezTo>
                  <a:pt x="269" y="58"/>
                  <a:pt x="270" y="57"/>
                  <a:pt x="272" y="49"/>
                </a:cubicBezTo>
                <a:cubicBezTo>
                  <a:pt x="282" y="46"/>
                  <a:pt x="293" y="41"/>
                  <a:pt x="303" y="48"/>
                </a:cubicBezTo>
                <a:cubicBezTo>
                  <a:pt x="309" y="52"/>
                  <a:pt x="315" y="56"/>
                  <a:pt x="320" y="61"/>
                </a:cubicBezTo>
                <a:cubicBezTo>
                  <a:pt x="321" y="62"/>
                  <a:pt x="320" y="66"/>
                  <a:pt x="320" y="69"/>
                </a:cubicBezTo>
                <a:cubicBezTo>
                  <a:pt x="319" y="72"/>
                  <a:pt x="317" y="75"/>
                  <a:pt x="316" y="78"/>
                </a:cubicBezTo>
                <a:cubicBezTo>
                  <a:pt x="314" y="84"/>
                  <a:pt x="319" y="89"/>
                  <a:pt x="325" y="89"/>
                </a:cubicBezTo>
                <a:cubicBezTo>
                  <a:pt x="327" y="89"/>
                  <a:pt x="329" y="89"/>
                  <a:pt x="331" y="89"/>
                </a:cubicBezTo>
                <a:cubicBezTo>
                  <a:pt x="337" y="88"/>
                  <a:pt x="339" y="91"/>
                  <a:pt x="339" y="97"/>
                </a:cubicBezTo>
                <a:cubicBezTo>
                  <a:pt x="338" y="105"/>
                  <a:pt x="339" y="106"/>
                  <a:pt x="348" y="105"/>
                </a:cubicBezTo>
                <a:cubicBezTo>
                  <a:pt x="351" y="105"/>
                  <a:pt x="354" y="106"/>
                  <a:pt x="356" y="107"/>
                </a:cubicBezTo>
                <a:cubicBezTo>
                  <a:pt x="358" y="107"/>
                  <a:pt x="359" y="109"/>
                  <a:pt x="360" y="110"/>
                </a:cubicBezTo>
                <a:cubicBezTo>
                  <a:pt x="368" y="116"/>
                  <a:pt x="374" y="113"/>
                  <a:pt x="377" y="103"/>
                </a:cubicBezTo>
                <a:cubicBezTo>
                  <a:pt x="377" y="102"/>
                  <a:pt x="377" y="101"/>
                  <a:pt x="377" y="100"/>
                </a:cubicBezTo>
                <a:cubicBezTo>
                  <a:pt x="378" y="96"/>
                  <a:pt x="381" y="94"/>
                  <a:pt x="384" y="98"/>
                </a:cubicBezTo>
                <a:cubicBezTo>
                  <a:pt x="390" y="104"/>
                  <a:pt x="396" y="112"/>
                  <a:pt x="403" y="119"/>
                </a:cubicBezTo>
                <a:cubicBezTo>
                  <a:pt x="396" y="125"/>
                  <a:pt x="395" y="133"/>
                  <a:pt x="397" y="141"/>
                </a:cubicBezTo>
                <a:cubicBezTo>
                  <a:pt x="399" y="149"/>
                  <a:pt x="396" y="157"/>
                  <a:pt x="393" y="164"/>
                </a:cubicBezTo>
                <a:cubicBezTo>
                  <a:pt x="390" y="171"/>
                  <a:pt x="386" y="179"/>
                  <a:pt x="384" y="186"/>
                </a:cubicBezTo>
                <a:cubicBezTo>
                  <a:pt x="381" y="197"/>
                  <a:pt x="385" y="202"/>
                  <a:pt x="396" y="205"/>
                </a:cubicBezTo>
                <a:cubicBezTo>
                  <a:pt x="407" y="207"/>
                  <a:pt x="409" y="210"/>
                  <a:pt x="409" y="220"/>
                </a:cubicBezTo>
                <a:cubicBezTo>
                  <a:pt x="410" y="235"/>
                  <a:pt x="417" y="245"/>
                  <a:pt x="430" y="251"/>
                </a:cubicBezTo>
                <a:cubicBezTo>
                  <a:pt x="433" y="253"/>
                  <a:pt x="436" y="254"/>
                  <a:pt x="439" y="255"/>
                </a:cubicBezTo>
                <a:cubicBezTo>
                  <a:pt x="437" y="277"/>
                  <a:pt x="431" y="301"/>
                  <a:pt x="420" y="323"/>
                </a:cubicBezTo>
                <a:cubicBezTo>
                  <a:pt x="414" y="313"/>
                  <a:pt x="407" y="299"/>
                  <a:pt x="404" y="287"/>
                </a:cubicBezTo>
                <a:cubicBezTo>
                  <a:pt x="399" y="269"/>
                  <a:pt x="387" y="286"/>
                  <a:pt x="386" y="297"/>
                </a:cubicBezTo>
                <a:cubicBezTo>
                  <a:pt x="385" y="309"/>
                  <a:pt x="378" y="317"/>
                  <a:pt x="363" y="300"/>
                </a:cubicBezTo>
                <a:cubicBezTo>
                  <a:pt x="347" y="283"/>
                  <a:pt x="345" y="287"/>
                  <a:pt x="340" y="287"/>
                </a:cubicBezTo>
                <a:cubicBezTo>
                  <a:pt x="335" y="287"/>
                  <a:pt x="326" y="298"/>
                  <a:pt x="328" y="352"/>
                </a:cubicBezTo>
                <a:cubicBezTo>
                  <a:pt x="330" y="390"/>
                  <a:pt x="345" y="396"/>
                  <a:pt x="355" y="399"/>
                </a:cubicBezTo>
                <a:cubicBezTo>
                  <a:pt x="336" y="411"/>
                  <a:pt x="315" y="421"/>
                  <a:pt x="292" y="427"/>
                </a:cubicBezTo>
                <a:cubicBezTo>
                  <a:pt x="202" y="450"/>
                  <a:pt x="111" y="408"/>
                  <a:pt x="68" y="32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70" name="Freeform 159"/>
          <p:cNvSpPr/>
          <p:nvPr/>
        </p:nvSpPr>
        <p:spPr>
          <a:xfrm>
            <a:off x="2262240" y="2963880"/>
            <a:ext cx="217440" cy="130320"/>
          </a:xfrm>
          <a:custGeom>
            <a:avLst/>
            <a:gdLst/>
            <a:ahLst/>
            <a:rect l="l" t="t" r="r" b="b"/>
            <a:pathLst>
              <a:path w="813" h="481">
                <a:moveTo>
                  <a:pt x="100" y="361"/>
                </a:moveTo>
                <a:cubicBezTo>
                  <a:pt x="88" y="361"/>
                  <a:pt x="78" y="372"/>
                  <a:pt x="78" y="384"/>
                </a:cubicBezTo>
                <a:cubicBezTo>
                  <a:pt x="78" y="396"/>
                  <a:pt x="88" y="407"/>
                  <a:pt x="100" y="407"/>
                </a:cubicBezTo>
                <a:cubicBezTo>
                  <a:pt x="113" y="407"/>
                  <a:pt x="123" y="396"/>
                  <a:pt x="123" y="384"/>
                </a:cubicBezTo>
                <a:cubicBezTo>
                  <a:pt x="123" y="372"/>
                  <a:pt x="113" y="361"/>
                  <a:pt x="100" y="361"/>
                </a:cubicBezTo>
                <a:close/>
                <a:moveTo>
                  <a:pt x="679" y="211"/>
                </a:moveTo>
                <a:cubicBezTo>
                  <a:pt x="663" y="205"/>
                  <a:pt x="649" y="194"/>
                  <a:pt x="643" y="188"/>
                </a:cubicBezTo>
                <a:cubicBezTo>
                  <a:pt x="638" y="182"/>
                  <a:pt x="628" y="178"/>
                  <a:pt x="625" y="172"/>
                </a:cubicBezTo>
                <a:cubicBezTo>
                  <a:pt x="623" y="167"/>
                  <a:pt x="627" y="162"/>
                  <a:pt x="636" y="162"/>
                </a:cubicBezTo>
                <a:cubicBezTo>
                  <a:pt x="642" y="162"/>
                  <a:pt x="648" y="162"/>
                  <a:pt x="652" y="161"/>
                </a:cubicBezTo>
                <a:cubicBezTo>
                  <a:pt x="671" y="160"/>
                  <a:pt x="692" y="127"/>
                  <a:pt x="705" y="109"/>
                </a:cubicBezTo>
                <a:cubicBezTo>
                  <a:pt x="707" y="108"/>
                  <a:pt x="707" y="106"/>
                  <a:pt x="706" y="105"/>
                </a:cubicBezTo>
                <a:cubicBezTo>
                  <a:pt x="704" y="103"/>
                  <a:pt x="688" y="105"/>
                  <a:pt x="670" y="106"/>
                </a:cubicBezTo>
                <a:lnTo>
                  <a:pt x="589" y="115"/>
                </a:lnTo>
                <a:cubicBezTo>
                  <a:pt x="572" y="117"/>
                  <a:pt x="554" y="121"/>
                  <a:pt x="553" y="126"/>
                </a:cubicBezTo>
                <a:cubicBezTo>
                  <a:pt x="552" y="129"/>
                  <a:pt x="552" y="132"/>
                  <a:pt x="553" y="136"/>
                </a:cubicBezTo>
                <a:cubicBezTo>
                  <a:pt x="553" y="141"/>
                  <a:pt x="556" y="146"/>
                  <a:pt x="559" y="150"/>
                </a:cubicBezTo>
                <a:cubicBezTo>
                  <a:pt x="563" y="157"/>
                  <a:pt x="574" y="162"/>
                  <a:pt x="580" y="162"/>
                </a:cubicBezTo>
                <a:cubicBezTo>
                  <a:pt x="586" y="162"/>
                  <a:pt x="591" y="167"/>
                  <a:pt x="592" y="172"/>
                </a:cubicBezTo>
                <a:cubicBezTo>
                  <a:pt x="593" y="178"/>
                  <a:pt x="579" y="182"/>
                  <a:pt x="562" y="181"/>
                </a:cubicBezTo>
                <a:lnTo>
                  <a:pt x="482" y="180"/>
                </a:lnTo>
                <a:cubicBezTo>
                  <a:pt x="465" y="180"/>
                  <a:pt x="449" y="177"/>
                  <a:pt x="448" y="174"/>
                </a:cubicBezTo>
                <a:cubicBezTo>
                  <a:pt x="446" y="171"/>
                  <a:pt x="454" y="168"/>
                  <a:pt x="465" y="168"/>
                </a:cubicBezTo>
                <a:cubicBezTo>
                  <a:pt x="473" y="168"/>
                  <a:pt x="480" y="168"/>
                  <a:pt x="485" y="167"/>
                </a:cubicBezTo>
                <a:cubicBezTo>
                  <a:pt x="504" y="165"/>
                  <a:pt x="525" y="133"/>
                  <a:pt x="538" y="115"/>
                </a:cubicBezTo>
                <a:cubicBezTo>
                  <a:pt x="540" y="113"/>
                  <a:pt x="540" y="112"/>
                  <a:pt x="539" y="111"/>
                </a:cubicBezTo>
                <a:cubicBezTo>
                  <a:pt x="537" y="109"/>
                  <a:pt x="521" y="111"/>
                  <a:pt x="504" y="112"/>
                </a:cubicBezTo>
                <a:lnTo>
                  <a:pt x="422" y="121"/>
                </a:lnTo>
                <a:cubicBezTo>
                  <a:pt x="405" y="123"/>
                  <a:pt x="387" y="127"/>
                  <a:pt x="386" y="132"/>
                </a:cubicBezTo>
                <a:cubicBezTo>
                  <a:pt x="385" y="135"/>
                  <a:pt x="385" y="138"/>
                  <a:pt x="386" y="142"/>
                </a:cubicBezTo>
                <a:cubicBezTo>
                  <a:pt x="387" y="147"/>
                  <a:pt x="389" y="152"/>
                  <a:pt x="392" y="156"/>
                </a:cubicBezTo>
                <a:cubicBezTo>
                  <a:pt x="396" y="163"/>
                  <a:pt x="404" y="168"/>
                  <a:pt x="406" y="168"/>
                </a:cubicBezTo>
                <a:cubicBezTo>
                  <a:pt x="409" y="168"/>
                  <a:pt x="411" y="172"/>
                  <a:pt x="410" y="175"/>
                </a:cubicBezTo>
                <a:cubicBezTo>
                  <a:pt x="410" y="179"/>
                  <a:pt x="394" y="186"/>
                  <a:pt x="384" y="200"/>
                </a:cubicBezTo>
                <a:cubicBezTo>
                  <a:pt x="373" y="219"/>
                  <a:pt x="381" y="248"/>
                  <a:pt x="394" y="277"/>
                </a:cubicBezTo>
                <a:cubicBezTo>
                  <a:pt x="401" y="293"/>
                  <a:pt x="407" y="320"/>
                  <a:pt x="392" y="330"/>
                </a:cubicBezTo>
                <a:cubicBezTo>
                  <a:pt x="385" y="335"/>
                  <a:pt x="373" y="335"/>
                  <a:pt x="355" y="335"/>
                </a:cubicBezTo>
                <a:lnTo>
                  <a:pt x="288" y="335"/>
                </a:lnTo>
                <a:cubicBezTo>
                  <a:pt x="264" y="335"/>
                  <a:pt x="246" y="329"/>
                  <a:pt x="233" y="309"/>
                </a:cubicBezTo>
                <a:cubicBezTo>
                  <a:pt x="209" y="273"/>
                  <a:pt x="206" y="216"/>
                  <a:pt x="219" y="184"/>
                </a:cubicBezTo>
                <a:cubicBezTo>
                  <a:pt x="225" y="169"/>
                  <a:pt x="233" y="151"/>
                  <a:pt x="240" y="133"/>
                </a:cubicBezTo>
                <a:cubicBezTo>
                  <a:pt x="244" y="121"/>
                  <a:pt x="247" y="107"/>
                  <a:pt x="244" y="95"/>
                </a:cubicBezTo>
                <a:cubicBezTo>
                  <a:pt x="240" y="78"/>
                  <a:pt x="232" y="70"/>
                  <a:pt x="240" y="68"/>
                </a:cubicBezTo>
                <a:cubicBezTo>
                  <a:pt x="247" y="67"/>
                  <a:pt x="254" y="68"/>
                  <a:pt x="254" y="68"/>
                </a:cubicBezTo>
                <a:cubicBezTo>
                  <a:pt x="255" y="68"/>
                  <a:pt x="255" y="69"/>
                  <a:pt x="255" y="69"/>
                </a:cubicBezTo>
                <a:lnTo>
                  <a:pt x="283" y="69"/>
                </a:lnTo>
                <a:cubicBezTo>
                  <a:pt x="291" y="69"/>
                  <a:pt x="297" y="60"/>
                  <a:pt x="297" y="53"/>
                </a:cubicBezTo>
                <a:cubicBezTo>
                  <a:pt x="297" y="46"/>
                  <a:pt x="291" y="37"/>
                  <a:pt x="283" y="37"/>
                </a:cubicBezTo>
                <a:cubicBezTo>
                  <a:pt x="283" y="37"/>
                  <a:pt x="279" y="37"/>
                  <a:pt x="274" y="37"/>
                </a:cubicBezTo>
                <a:cubicBezTo>
                  <a:pt x="269" y="37"/>
                  <a:pt x="255" y="32"/>
                  <a:pt x="242" y="24"/>
                </a:cubicBezTo>
                <a:lnTo>
                  <a:pt x="220" y="10"/>
                </a:lnTo>
                <a:cubicBezTo>
                  <a:pt x="204" y="0"/>
                  <a:pt x="173" y="5"/>
                  <a:pt x="158" y="7"/>
                </a:cubicBezTo>
                <a:cubicBezTo>
                  <a:pt x="154" y="7"/>
                  <a:pt x="152" y="9"/>
                  <a:pt x="150" y="11"/>
                </a:cubicBezTo>
                <a:cubicBezTo>
                  <a:pt x="147" y="15"/>
                  <a:pt x="147" y="21"/>
                  <a:pt x="147" y="22"/>
                </a:cubicBezTo>
                <a:cubicBezTo>
                  <a:pt x="147" y="23"/>
                  <a:pt x="147" y="24"/>
                  <a:pt x="147" y="25"/>
                </a:cubicBezTo>
                <a:cubicBezTo>
                  <a:pt x="148" y="42"/>
                  <a:pt x="151" y="76"/>
                  <a:pt x="171" y="76"/>
                </a:cubicBezTo>
                <a:cubicBezTo>
                  <a:pt x="173" y="76"/>
                  <a:pt x="178" y="76"/>
                  <a:pt x="186" y="75"/>
                </a:cubicBezTo>
                <a:cubicBezTo>
                  <a:pt x="194" y="74"/>
                  <a:pt x="195" y="86"/>
                  <a:pt x="189" y="102"/>
                </a:cubicBezTo>
                <a:cubicBezTo>
                  <a:pt x="174" y="138"/>
                  <a:pt x="152" y="190"/>
                  <a:pt x="146" y="197"/>
                </a:cubicBezTo>
                <a:cubicBezTo>
                  <a:pt x="139" y="205"/>
                  <a:pt x="128" y="207"/>
                  <a:pt x="119" y="219"/>
                </a:cubicBezTo>
                <a:cubicBezTo>
                  <a:pt x="108" y="233"/>
                  <a:pt x="92" y="248"/>
                  <a:pt x="75" y="251"/>
                </a:cubicBezTo>
                <a:cubicBezTo>
                  <a:pt x="35" y="259"/>
                  <a:pt x="5" y="279"/>
                  <a:pt x="1" y="292"/>
                </a:cubicBezTo>
                <a:cubicBezTo>
                  <a:pt x="0" y="298"/>
                  <a:pt x="6" y="302"/>
                  <a:pt x="16" y="305"/>
                </a:cubicBezTo>
                <a:cubicBezTo>
                  <a:pt x="27" y="309"/>
                  <a:pt x="25" y="320"/>
                  <a:pt x="17" y="335"/>
                </a:cubicBezTo>
                <a:cubicBezTo>
                  <a:pt x="8" y="349"/>
                  <a:pt x="3" y="366"/>
                  <a:pt x="3" y="384"/>
                </a:cubicBezTo>
                <a:cubicBezTo>
                  <a:pt x="3" y="438"/>
                  <a:pt x="47" y="481"/>
                  <a:pt x="100" y="481"/>
                </a:cubicBezTo>
                <a:cubicBezTo>
                  <a:pt x="141" y="481"/>
                  <a:pt x="176" y="456"/>
                  <a:pt x="190" y="420"/>
                </a:cubicBezTo>
                <a:cubicBezTo>
                  <a:pt x="197" y="404"/>
                  <a:pt x="199" y="389"/>
                  <a:pt x="202" y="389"/>
                </a:cubicBezTo>
                <a:cubicBezTo>
                  <a:pt x="204" y="389"/>
                  <a:pt x="207" y="392"/>
                  <a:pt x="213" y="397"/>
                </a:cubicBezTo>
                <a:cubicBezTo>
                  <a:pt x="216" y="399"/>
                  <a:pt x="220" y="398"/>
                  <a:pt x="224" y="398"/>
                </a:cubicBezTo>
                <a:lnTo>
                  <a:pt x="545" y="398"/>
                </a:lnTo>
                <a:cubicBezTo>
                  <a:pt x="562" y="398"/>
                  <a:pt x="578" y="415"/>
                  <a:pt x="587" y="430"/>
                </a:cubicBezTo>
                <a:cubicBezTo>
                  <a:pt x="604" y="459"/>
                  <a:pt x="635" y="480"/>
                  <a:pt x="671" y="480"/>
                </a:cubicBezTo>
                <a:cubicBezTo>
                  <a:pt x="725" y="480"/>
                  <a:pt x="768" y="437"/>
                  <a:pt x="768" y="383"/>
                </a:cubicBezTo>
                <a:cubicBezTo>
                  <a:pt x="768" y="382"/>
                  <a:pt x="768" y="381"/>
                  <a:pt x="768" y="380"/>
                </a:cubicBezTo>
                <a:cubicBezTo>
                  <a:pt x="768" y="379"/>
                  <a:pt x="769" y="380"/>
                  <a:pt x="771" y="380"/>
                </a:cubicBezTo>
                <a:lnTo>
                  <a:pt x="775" y="382"/>
                </a:lnTo>
                <a:lnTo>
                  <a:pt x="791" y="382"/>
                </a:lnTo>
                <a:cubicBezTo>
                  <a:pt x="793" y="382"/>
                  <a:pt x="794" y="380"/>
                  <a:pt x="796" y="379"/>
                </a:cubicBezTo>
                <a:cubicBezTo>
                  <a:pt x="798" y="379"/>
                  <a:pt x="802" y="377"/>
                  <a:pt x="804" y="374"/>
                </a:cubicBezTo>
                <a:cubicBezTo>
                  <a:pt x="808" y="371"/>
                  <a:pt x="811" y="364"/>
                  <a:pt x="811" y="362"/>
                </a:cubicBezTo>
                <a:cubicBezTo>
                  <a:pt x="812" y="361"/>
                  <a:pt x="813" y="359"/>
                  <a:pt x="813" y="358"/>
                </a:cubicBezTo>
                <a:cubicBezTo>
                  <a:pt x="813" y="358"/>
                  <a:pt x="813" y="358"/>
                  <a:pt x="813" y="357"/>
                </a:cubicBezTo>
                <a:cubicBezTo>
                  <a:pt x="813" y="357"/>
                  <a:pt x="810" y="343"/>
                  <a:pt x="804" y="326"/>
                </a:cubicBezTo>
                <a:cubicBezTo>
                  <a:pt x="792" y="294"/>
                  <a:pt x="758" y="242"/>
                  <a:pt x="679" y="211"/>
                </a:cubicBezTo>
                <a:close/>
                <a:moveTo>
                  <a:pt x="153" y="415"/>
                </a:moveTo>
                <a:cubicBezTo>
                  <a:pt x="152" y="418"/>
                  <a:pt x="150" y="420"/>
                  <a:pt x="148" y="423"/>
                </a:cubicBezTo>
                <a:cubicBezTo>
                  <a:pt x="136" y="436"/>
                  <a:pt x="119" y="446"/>
                  <a:pt x="100" y="446"/>
                </a:cubicBezTo>
                <a:cubicBezTo>
                  <a:pt x="65" y="446"/>
                  <a:pt x="37" y="418"/>
                  <a:pt x="37" y="383"/>
                </a:cubicBezTo>
                <a:cubicBezTo>
                  <a:pt x="37" y="383"/>
                  <a:pt x="37" y="383"/>
                  <a:pt x="37" y="383"/>
                </a:cubicBezTo>
                <a:cubicBezTo>
                  <a:pt x="37" y="367"/>
                  <a:pt x="43" y="353"/>
                  <a:pt x="52" y="342"/>
                </a:cubicBezTo>
                <a:cubicBezTo>
                  <a:pt x="62" y="331"/>
                  <a:pt x="75" y="324"/>
                  <a:pt x="90" y="321"/>
                </a:cubicBezTo>
                <a:cubicBezTo>
                  <a:pt x="90" y="321"/>
                  <a:pt x="91" y="321"/>
                  <a:pt x="91" y="321"/>
                </a:cubicBezTo>
                <a:cubicBezTo>
                  <a:pt x="92" y="321"/>
                  <a:pt x="103" y="322"/>
                  <a:pt x="112" y="330"/>
                </a:cubicBezTo>
                <a:cubicBezTo>
                  <a:pt x="114" y="332"/>
                  <a:pt x="116" y="334"/>
                  <a:pt x="117" y="336"/>
                </a:cubicBezTo>
                <a:cubicBezTo>
                  <a:pt x="131" y="356"/>
                  <a:pt x="141" y="382"/>
                  <a:pt x="161" y="382"/>
                </a:cubicBezTo>
                <a:cubicBezTo>
                  <a:pt x="161" y="382"/>
                  <a:pt x="162" y="382"/>
                  <a:pt x="162" y="382"/>
                </a:cubicBezTo>
                <a:cubicBezTo>
                  <a:pt x="162" y="382"/>
                  <a:pt x="162" y="383"/>
                  <a:pt x="162" y="385"/>
                </a:cubicBezTo>
                <a:cubicBezTo>
                  <a:pt x="162" y="391"/>
                  <a:pt x="160" y="404"/>
                  <a:pt x="153" y="415"/>
                </a:cubicBezTo>
                <a:close/>
                <a:moveTo>
                  <a:pt x="671" y="447"/>
                </a:moveTo>
                <a:cubicBezTo>
                  <a:pt x="654" y="447"/>
                  <a:pt x="639" y="441"/>
                  <a:pt x="627" y="430"/>
                </a:cubicBezTo>
                <a:cubicBezTo>
                  <a:pt x="615" y="418"/>
                  <a:pt x="610" y="403"/>
                  <a:pt x="609" y="403"/>
                </a:cubicBezTo>
                <a:cubicBezTo>
                  <a:pt x="607" y="403"/>
                  <a:pt x="614" y="404"/>
                  <a:pt x="620" y="398"/>
                </a:cubicBezTo>
                <a:cubicBezTo>
                  <a:pt x="623" y="394"/>
                  <a:pt x="625" y="389"/>
                  <a:pt x="625" y="384"/>
                </a:cubicBezTo>
                <a:cubicBezTo>
                  <a:pt x="625" y="383"/>
                  <a:pt x="625" y="383"/>
                  <a:pt x="625" y="382"/>
                </a:cubicBezTo>
                <a:cubicBezTo>
                  <a:pt x="625" y="381"/>
                  <a:pt x="630" y="380"/>
                  <a:pt x="636" y="380"/>
                </a:cubicBezTo>
                <a:cubicBezTo>
                  <a:pt x="642" y="380"/>
                  <a:pt x="647" y="381"/>
                  <a:pt x="647" y="382"/>
                </a:cubicBezTo>
                <a:cubicBezTo>
                  <a:pt x="647" y="383"/>
                  <a:pt x="647" y="383"/>
                  <a:pt x="647" y="384"/>
                </a:cubicBezTo>
                <a:cubicBezTo>
                  <a:pt x="647" y="396"/>
                  <a:pt x="657" y="407"/>
                  <a:pt x="670" y="407"/>
                </a:cubicBezTo>
                <a:cubicBezTo>
                  <a:pt x="682" y="407"/>
                  <a:pt x="692" y="396"/>
                  <a:pt x="692" y="384"/>
                </a:cubicBezTo>
                <a:cubicBezTo>
                  <a:pt x="692" y="383"/>
                  <a:pt x="692" y="382"/>
                  <a:pt x="692" y="381"/>
                </a:cubicBezTo>
                <a:cubicBezTo>
                  <a:pt x="692" y="380"/>
                  <a:pt x="701" y="379"/>
                  <a:pt x="713" y="378"/>
                </a:cubicBezTo>
                <a:cubicBezTo>
                  <a:pt x="725" y="378"/>
                  <a:pt x="734" y="379"/>
                  <a:pt x="734" y="381"/>
                </a:cubicBezTo>
                <a:cubicBezTo>
                  <a:pt x="734" y="382"/>
                  <a:pt x="734" y="383"/>
                  <a:pt x="734" y="384"/>
                </a:cubicBezTo>
                <a:cubicBezTo>
                  <a:pt x="734" y="419"/>
                  <a:pt x="706" y="447"/>
                  <a:pt x="671" y="447"/>
                </a:cubicBezTo>
                <a:close/>
              </a:path>
            </a:pathLst>
          </a:custGeom>
          <a:solidFill>
            <a:srgbClr val="a6a6a6"/>
          </a:solidFill>
          <a:ln w="0">
            <a:noFill/>
          </a:ln>
        </p:spPr>
        <p:style>
          <a:lnRef idx="0"/>
          <a:fillRef idx="0"/>
          <a:effectRef idx="0"/>
          <a:fontRef idx="minor"/>
        </p:style>
        <p:txBody>
          <a:bodyPr lIns="145800" rIns="145800" tIns="57600" bIns="57600" anchor="t">
            <a:noAutofit/>
          </a:bodyPr>
          <a:p>
            <a:endParaRPr b="0" lang="en-US" sz="1800" spc="-1" strike="noStrike">
              <a:solidFill>
                <a:srgbClr val="000000"/>
              </a:solidFill>
              <a:latin typeface="Calibri"/>
            </a:endParaRPr>
          </a:p>
        </p:txBody>
      </p:sp>
      <p:sp>
        <p:nvSpPr>
          <p:cNvPr id="1771" name="Freeform 160"/>
          <p:cNvSpPr/>
          <p:nvPr/>
        </p:nvSpPr>
        <p:spPr>
          <a:xfrm>
            <a:off x="7338960" y="1168560"/>
            <a:ext cx="168480" cy="169560"/>
          </a:xfrm>
          <a:custGeom>
            <a:avLst/>
            <a:gdLst/>
            <a:ahLst/>
            <a:rect l="l" t="t" r="r" b="b"/>
            <a:pathLst>
              <a:path w="630" h="630">
                <a:moveTo>
                  <a:pt x="432" y="552"/>
                </a:moveTo>
                <a:lnTo>
                  <a:pt x="414" y="513"/>
                </a:lnTo>
                <a:lnTo>
                  <a:pt x="471" y="487"/>
                </a:lnTo>
                <a:cubicBezTo>
                  <a:pt x="464" y="471"/>
                  <a:pt x="457" y="453"/>
                  <a:pt x="452" y="435"/>
                </a:cubicBezTo>
                <a:lnTo>
                  <a:pt x="397" y="449"/>
                </a:lnTo>
                <a:lnTo>
                  <a:pt x="387" y="409"/>
                </a:lnTo>
                <a:lnTo>
                  <a:pt x="443" y="394"/>
                </a:lnTo>
                <a:cubicBezTo>
                  <a:pt x="439" y="371"/>
                  <a:pt x="437" y="348"/>
                  <a:pt x="437" y="325"/>
                </a:cubicBezTo>
                <a:lnTo>
                  <a:pt x="380" y="324"/>
                </a:lnTo>
                <a:lnTo>
                  <a:pt x="381" y="282"/>
                </a:lnTo>
                <a:lnTo>
                  <a:pt x="439" y="283"/>
                </a:lnTo>
                <a:cubicBezTo>
                  <a:pt x="440" y="260"/>
                  <a:pt x="444" y="238"/>
                  <a:pt x="450" y="218"/>
                </a:cubicBezTo>
                <a:lnTo>
                  <a:pt x="394" y="196"/>
                </a:lnTo>
                <a:lnTo>
                  <a:pt x="409" y="157"/>
                </a:lnTo>
                <a:lnTo>
                  <a:pt x="462" y="177"/>
                </a:lnTo>
                <a:cubicBezTo>
                  <a:pt x="467" y="161"/>
                  <a:pt x="474" y="146"/>
                  <a:pt x="482" y="131"/>
                </a:cubicBezTo>
                <a:lnTo>
                  <a:pt x="421" y="93"/>
                </a:lnTo>
                <a:lnTo>
                  <a:pt x="444" y="57"/>
                </a:lnTo>
                <a:lnTo>
                  <a:pt x="503" y="95"/>
                </a:lnTo>
                <a:cubicBezTo>
                  <a:pt x="508" y="88"/>
                  <a:pt x="513" y="81"/>
                  <a:pt x="518" y="75"/>
                </a:cubicBezTo>
                <a:cubicBezTo>
                  <a:pt x="464" y="29"/>
                  <a:pt x="395" y="1"/>
                  <a:pt x="318" y="0"/>
                </a:cubicBezTo>
                <a:cubicBezTo>
                  <a:pt x="242" y="0"/>
                  <a:pt x="172" y="26"/>
                  <a:pt x="117" y="70"/>
                </a:cubicBezTo>
                <a:cubicBezTo>
                  <a:pt x="124" y="79"/>
                  <a:pt x="130" y="89"/>
                  <a:pt x="137" y="99"/>
                </a:cubicBezTo>
                <a:lnTo>
                  <a:pt x="202" y="69"/>
                </a:lnTo>
                <a:lnTo>
                  <a:pt x="220" y="108"/>
                </a:lnTo>
                <a:lnTo>
                  <a:pt x="156" y="137"/>
                </a:lnTo>
                <a:cubicBezTo>
                  <a:pt x="164" y="153"/>
                  <a:pt x="170" y="170"/>
                  <a:pt x="175" y="188"/>
                </a:cubicBezTo>
                <a:lnTo>
                  <a:pt x="237" y="171"/>
                </a:lnTo>
                <a:lnTo>
                  <a:pt x="247" y="212"/>
                </a:lnTo>
                <a:lnTo>
                  <a:pt x="185" y="229"/>
                </a:lnTo>
                <a:cubicBezTo>
                  <a:pt x="189" y="251"/>
                  <a:pt x="192" y="273"/>
                  <a:pt x="192" y="296"/>
                </a:cubicBezTo>
                <a:lnTo>
                  <a:pt x="254" y="297"/>
                </a:lnTo>
                <a:lnTo>
                  <a:pt x="253" y="339"/>
                </a:lnTo>
                <a:lnTo>
                  <a:pt x="192" y="338"/>
                </a:lnTo>
                <a:cubicBezTo>
                  <a:pt x="190" y="360"/>
                  <a:pt x="187" y="381"/>
                  <a:pt x="182" y="402"/>
                </a:cubicBezTo>
                <a:lnTo>
                  <a:pt x="240" y="425"/>
                </a:lnTo>
                <a:lnTo>
                  <a:pt x="225" y="464"/>
                </a:lnTo>
                <a:lnTo>
                  <a:pt x="171" y="443"/>
                </a:lnTo>
                <a:cubicBezTo>
                  <a:pt x="166" y="460"/>
                  <a:pt x="160" y="475"/>
                  <a:pt x="152" y="490"/>
                </a:cubicBezTo>
                <a:lnTo>
                  <a:pt x="213" y="528"/>
                </a:lnTo>
                <a:lnTo>
                  <a:pt x="190" y="564"/>
                </a:lnTo>
                <a:lnTo>
                  <a:pt x="132" y="527"/>
                </a:lnTo>
                <a:cubicBezTo>
                  <a:pt x="125" y="537"/>
                  <a:pt x="119" y="546"/>
                  <a:pt x="112" y="555"/>
                </a:cubicBezTo>
                <a:cubicBezTo>
                  <a:pt x="166" y="600"/>
                  <a:pt x="235" y="629"/>
                  <a:pt x="311" y="629"/>
                </a:cubicBezTo>
                <a:cubicBezTo>
                  <a:pt x="388" y="630"/>
                  <a:pt x="458" y="604"/>
                  <a:pt x="513" y="559"/>
                </a:cubicBezTo>
                <a:cubicBezTo>
                  <a:pt x="505" y="549"/>
                  <a:pt x="497" y="537"/>
                  <a:pt x="490" y="525"/>
                </a:cubicBezTo>
                <a:lnTo>
                  <a:pt x="432" y="552"/>
                </a:lnTo>
                <a:close/>
                <a:moveTo>
                  <a:pt x="64" y="484"/>
                </a:moveTo>
                <a:lnTo>
                  <a:pt x="87" y="448"/>
                </a:lnTo>
                <a:lnTo>
                  <a:pt x="119" y="468"/>
                </a:lnTo>
                <a:cubicBezTo>
                  <a:pt x="125" y="456"/>
                  <a:pt x="130" y="443"/>
                  <a:pt x="135" y="429"/>
                </a:cubicBezTo>
                <a:lnTo>
                  <a:pt x="86" y="410"/>
                </a:lnTo>
                <a:lnTo>
                  <a:pt x="101" y="371"/>
                </a:lnTo>
                <a:lnTo>
                  <a:pt x="145" y="388"/>
                </a:lnTo>
                <a:cubicBezTo>
                  <a:pt x="149" y="372"/>
                  <a:pt x="151" y="355"/>
                  <a:pt x="152" y="337"/>
                </a:cubicBezTo>
                <a:lnTo>
                  <a:pt x="104" y="337"/>
                </a:lnTo>
                <a:lnTo>
                  <a:pt x="105" y="295"/>
                </a:lnTo>
                <a:lnTo>
                  <a:pt x="153" y="295"/>
                </a:lnTo>
                <a:cubicBezTo>
                  <a:pt x="152" y="276"/>
                  <a:pt x="150" y="257"/>
                  <a:pt x="147" y="239"/>
                </a:cubicBezTo>
                <a:lnTo>
                  <a:pt x="104" y="251"/>
                </a:lnTo>
                <a:lnTo>
                  <a:pt x="93" y="210"/>
                </a:lnTo>
                <a:lnTo>
                  <a:pt x="138" y="198"/>
                </a:lnTo>
                <a:cubicBezTo>
                  <a:pt x="133" y="182"/>
                  <a:pt x="128" y="167"/>
                  <a:pt x="121" y="153"/>
                </a:cubicBezTo>
                <a:lnTo>
                  <a:pt x="85" y="170"/>
                </a:lnTo>
                <a:lnTo>
                  <a:pt x="67" y="132"/>
                </a:lnTo>
                <a:lnTo>
                  <a:pt x="101" y="116"/>
                </a:lnTo>
                <a:cubicBezTo>
                  <a:pt x="97" y="110"/>
                  <a:pt x="93" y="103"/>
                  <a:pt x="88" y="97"/>
                </a:cubicBezTo>
                <a:cubicBezTo>
                  <a:pt x="35" y="153"/>
                  <a:pt x="2" y="228"/>
                  <a:pt x="1" y="312"/>
                </a:cubicBezTo>
                <a:cubicBezTo>
                  <a:pt x="0" y="395"/>
                  <a:pt x="31" y="471"/>
                  <a:pt x="84" y="528"/>
                </a:cubicBezTo>
                <a:cubicBezTo>
                  <a:pt x="89" y="521"/>
                  <a:pt x="94" y="514"/>
                  <a:pt x="99" y="506"/>
                </a:cubicBezTo>
                <a:lnTo>
                  <a:pt x="64" y="484"/>
                </a:lnTo>
                <a:close/>
                <a:moveTo>
                  <a:pt x="546" y="102"/>
                </a:moveTo>
                <a:cubicBezTo>
                  <a:pt x="543" y="106"/>
                  <a:pt x="539" y="111"/>
                  <a:pt x="536" y="116"/>
                </a:cubicBezTo>
                <a:lnTo>
                  <a:pt x="570" y="137"/>
                </a:lnTo>
                <a:lnTo>
                  <a:pt x="547" y="173"/>
                </a:lnTo>
                <a:lnTo>
                  <a:pt x="515" y="152"/>
                </a:lnTo>
                <a:cubicBezTo>
                  <a:pt x="509" y="165"/>
                  <a:pt x="503" y="178"/>
                  <a:pt x="498" y="191"/>
                </a:cubicBezTo>
                <a:lnTo>
                  <a:pt x="548" y="210"/>
                </a:lnTo>
                <a:lnTo>
                  <a:pt x="533" y="250"/>
                </a:lnTo>
                <a:lnTo>
                  <a:pt x="486" y="232"/>
                </a:lnTo>
                <a:cubicBezTo>
                  <a:pt x="483" y="249"/>
                  <a:pt x="480" y="266"/>
                  <a:pt x="478" y="283"/>
                </a:cubicBezTo>
                <a:lnTo>
                  <a:pt x="530" y="284"/>
                </a:lnTo>
                <a:lnTo>
                  <a:pt x="530" y="327"/>
                </a:lnTo>
                <a:lnTo>
                  <a:pt x="477" y="326"/>
                </a:lnTo>
                <a:cubicBezTo>
                  <a:pt x="477" y="345"/>
                  <a:pt x="478" y="365"/>
                  <a:pt x="481" y="384"/>
                </a:cubicBezTo>
                <a:lnTo>
                  <a:pt x="531" y="370"/>
                </a:lnTo>
                <a:lnTo>
                  <a:pt x="542" y="411"/>
                </a:lnTo>
                <a:lnTo>
                  <a:pt x="490" y="425"/>
                </a:lnTo>
                <a:cubicBezTo>
                  <a:pt x="495" y="441"/>
                  <a:pt x="500" y="456"/>
                  <a:pt x="506" y="471"/>
                </a:cubicBezTo>
                <a:lnTo>
                  <a:pt x="550" y="451"/>
                </a:lnTo>
                <a:lnTo>
                  <a:pt x="567" y="489"/>
                </a:lnTo>
                <a:lnTo>
                  <a:pt x="525" y="509"/>
                </a:lnTo>
                <a:cubicBezTo>
                  <a:pt x="530" y="517"/>
                  <a:pt x="536" y="525"/>
                  <a:pt x="541" y="533"/>
                </a:cubicBezTo>
                <a:cubicBezTo>
                  <a:pt x="595" y="477"/>
                  <a:pt x="628" y="402"/>
                  <a:pt x="629" y="318"/>
                </a:cubicBezTo>
                <a:cubicBezTo>
                  <a:pt x="630" y="235"/>
                  <a:pt x="599" y="159"/>
                  <a:pt x="546" y="10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72" name="Freeform 161"/>
          <p:cNvSpPr/>
          <p:nvPr/>
        </p:nvSpPr>
        <p:spPr>
          <a:xfrm>
            <a:off x="4221000" y="852480"/>
            <a:ext cx="150840" cy="187200"/>
          </a:xfrm>
          <a:custGeom>
            <a:avLst/>
            <a:gdLst/>
            <a:ahLst/>
            <a:rect l="l" t="t" r="r" b="b"/>
            <a:pathLst>
              <a:path w="565" h="696">
                <a:moveTo>
                  <a:pt x="478" y="609"/>
                </a:moveTo>
                <a:lnTo>
                  <a:pt x="87" y="609"/>
                </a:lnTo>
                <a:lnTo>
                  <a:pt x="87" y="87"/>
                </a:lnTo>
                <a:lnTo>
                  <a:pt x="478" y="87"/>
                </a:lnTo>
                <a:lnTo>
                  <a:pt x="478" y="609"/>
                </a:lnTo>
                <a:close/>
                <a:moveTo>
                  <a:pt x="282" y="675"/>
                </a:moveTo>
                <a:cubicBezTo>
                  <a:pt x="270" y="675"/>
                  <a:pt x="261" y="665"/>
                  <a:pt x="261" y="653"/>
                </a:cubicBezTo>
                <a:cubicBezTo>
                  <a:pt x="261" y="641"/>
                  <a:pt x="270" y="631"/>
                  <a:pt x="282" y="631"/>
                </a:cubicBezTo>
                <a:cubicBezTo>
                  <a:pt x="295" y="631"/>
                  <a:pt x="304" y="641"/>
                  <a:pt x="304" y="653"/>
                </a:cubicBezTo>
                <a:cubicBezTo>
                  <a:pt x="304" y="665"/>
                  <a:pt x="295" y="675"/>
                  <a:pt x="282" y="675"/>
                </a:cubicBezTo>
                <a:close/>
                <a:moveTo>
                  <a:pt x="500" y="0"/>
                </a:moveTo>
                <a:lnTo>
                  <a:pt x="65" y="0"/>
                </a:lnTo>
                <a:cubicBezTo>
                  <a:pt x="29" y="0"/>
                  <a:pt x="0" y="29"/>
                  <a:pt x="0" y="65"/>
                </a:cubicBezTo>
                <a:lnTo>
                  <a:pt x="0" y="631"/>
                </a:lnTo>
                <a:cubicBezTo>
                  <a:pt x="0" y="667"/>
                  <a:pt x="29" y="696"/>
                  <a:pt x="65" y="696"/>
                </a:cubicBezTo>
                <a:lnTo>
                  <a:pt x="500" y="696"/>
                </a:lnTo>
                <a:cubicBezTo>
                  <a:pt x="536" y="696"/>
                  <a:pt x="565" y="667"/>
                  <a:pt x="565" y="631"/>
                </a:cubicBezTo>
                <a:lnTo>
                  <a:pt x="565" y="65"/>
                </a:lnTo>
                <a:cubicBezTo>
                  <a:pt x="565" y="29"/>
                  <a:pt x="536" y="0"/>
                  <a:pt x="500"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73" name="Freeform 162"/>
          <p:cNvSpPr/>
          <p:nvPr/>
        </p:nvSpPr>
        <p:spPr>
          <a:xfrm>
            <a:off x="3208320" y="868320"/>
            <a:ext cx="216000" cy="157320"/>
          </a:xfrm>
          <a:custGeom>
            <a:avLst/>
            <a:gdLst/>
            <a:ahLst/>
            <a:rect l="l" t="t" r="r" b="b"/>
            <a:pathLst>
              <a:path w="805" h="588">
                <a:moveTo>
                  <a:pt x="259" y="397"/>
                </a:moveTo>
                <a:cubicBezTo>
                  <a:pt x="249" y="397"/>
                  <a:pt x="241" y="405"/>
                  <a:pt x="241" y="415"/>
                </a:cubicBezTo>
                <a:cubicBezTo>
                  <a:pt x="241" y="425"/>
                  <a:pt x="249" y="434"/>
                  <a:pt x="259" y="434"/>
                </a:cubicBezTo>
                <a:cubicBezTo>
                  <a:pt x="269" y="434"/>
                  <a:pt x="277" y="425"/>
                  <a:pt x="277" y="415"/>
                </a:cubicBezTo>
                <a:cubicBezTo>
                  <a:pt x="277" y="405"/>
                  <a:pt x="269" y="397"/>
                  <a:pt x="259" y="397"/>
                </a:cubicBezTo>
                <a:close/>
                <a:moveTo>
                  <a:pt x="476" y="109"/>
                </a:moveTo>
                <a:lnTo>
                  <a:pt x="37" y="109"/>
                </a:lnTo>
                <a:lnTo>
                  <a:pt x="37" y="376"/>
                </a:lnTo>
                <a:lnTo>
                  <a:pt x="476" y="376"/>
                </a:lnTo>
                <a:lnTo>
                  <a:pt x="476" y="376"/>
                </a:lnTo>
                <a:lnTo>
                  <a:pt x="476" y="109"/>
                </a:lnTo>
                <a:close/>
                <a:moveTo>
                  <a:pt x="288" y="415"/>
                </a:moveTo>
                <a:cubicBezTo>
                  <a:pt x="288" y="399"/>
                  <a:pt x="275" y="386"/>
                  <a:pt x="259" y="386"/>
                </a:cubicBezTo>
                <a:cubicBezTo>
                  <a:pt x="242" y="386"/>
                  <a:pt x="229" y="399"/>
                  <a:pt x="229" y="415"/>
                </a:cubicBezTo>
                <a:cubicBezTo>
                  <a:pt x="229" y="432"/>
                  <a:pt x="242" y="445"/>
                  <a:pt x="259" y="445"/>
                </a:cubicBezTo>
                <a:cubicBezTo>
                  <a:pt x="275" y="445"/>
                  <a:pt x="288" y="432"/>
                  <a:pt x="288" y="415"/>
                </a:cubicBezTo>
                <a:close/>
                <a:moveTo>
                  <a:pt x="513" y="107"/>
                </a:moveTo>
                <a:lnTo>
                  <a:pt x="513" y="423"/>
                </a:lnTo>
                <a:cubicBezTo>
                  <a:pt x="513" y="442"/>
                  <a:pt x="498" y="458"/>
                  <a:pt x="479" y="458"/>
                </a:cubicBezTo>
                <a:lnTo>
                  <a:pt x="308" y="458"/>
                </a:lnTo>
                <a:cubicBezTo>
                  <a:pt x="308" y="458"/>
                  <a:pt x="298" y="527"/>
                  <a:pt x="360" y="527"/>
                </a:cubicBezTo>
                <a:lnTo>
                  <a:pt x="360" y="561"/>
                </a:lnTo>
                <a:lnTo>
                  <a:pt x="308" y="561"/>
                </a:lnTo>
                <a:lnTo>
                  <a:pt x="205" y="561"/>
                </a:lnTo>
                <a:lnTo>
                  <a:pt x="153" y="561"/>
                </a:lnTo>
                <a:lnTo>
                  <a:pt x="153" y="527"/>
                </a:lnTo>
                <a:cubicBezTo>
                  <a:pt x="212" y="527"/>
                  <a:pt x="205" y="458"/>
                  <a:pt x="205" y="458"/>
                </a:cubicBezTo>
                <a:lnTo>
                  <a:pt x="34" y="458"/>
                </a:lnTo>
                <a:cubicBezTo>
                  <a:pt x="15" y="458"/>
                  <a:pt x="0" y="442"/>
                  <a:pt x="0" y="423"/>
                </a:cubicBezTo>
                <a:lnTo>
                  <a:pt x="0" y="107"/>
                </a:lnTo>
                <a:cubicBezTo>
                  <a:pt x="0" y="88"/>
                  <a:pt x="15" y="73"/>
                  <a:pt x="34" y="73"/>
                </a:cubicBezTo>
                <a:lnTo>
                  <a:pt x="479" y="73"/>
                </a:lnTo>
                <a:cubicBezTo>
                  <a:pt x="498" y="73"/>
                  <a:pt x="513" y="88"/>
                  <a:pt x="513" y="107"/>
                </a:cubicBezTo>
                <a:close/>
                <a:moveTo>
                  <a:pt x="714" y="393"/>
                </a:moveTo>
                <a:cubicBezTo>
                  <a:pt x="714" y="376"/>
                  <a:pt x="699" y="362"/>
                  <a:pt x="682" y="362"/>
                </a:cubicBezTo>
                <a:cubicBezTo>
                  <a:pt x="665" y="362"/>
                  <a:pt x="651" y="376"/>
                  <a:pt x="651" y="393"/>
                </a:cubicBezTo>
                <a:cubicBezTo>
                  <a:pt x="651" y="411"/>
                  <a:pt x="665" y="425"/>
                  <a:pt x="682" y="425"/>
                </a:cubicBezTo>
                <a:cubicBezTo>
                  <a:pt x="699" y="425"/>
                  <a:pt x="714" y="411"/>
                  <a:pt x="714" y="393"/>
                </a:cubicBezTo>
                <a:close/>
                <a:moveTo>
                  <a:pt x="731" y="393"/>
                </a:moveTo>
                <a:cubicBezTo>
                  <a:pt x="731" y="421"/>
                  <a:pt x="709" y="442"/>
                  <a:pt x="682" y="442"/>
                </a:cubicBezTo>
                <a:cubicBezTo>
                  <a:pt x="655" y="442"/>
                  <a:pt x="633" y="421"/>
                  <a:pt x="633" y="393"/>
                </a:cubicBezTo>
                <a:cubicBezTo>
                  <a:pt x="633" y="366"/>
                  <a:pt x="655" y="344"/>
                  <a:pt x="682" y="344"/>
                </a:cubicBezTo>
                <a:cubicBezTo>
                  <a:pt x="709" y="344"/>
                  <a:pt x="731" y="366"/>
                  <a:pt x="731" y="393"/>
                </a:cubicBezTo>
                <a:close/>
                <a:moveTo>
                  <a:pt x="756" y="218"/>
                </a:moveTo>
                <a:lnTo>
                  <a:pt x="603" y="218"/>
                </a:lnTo>
                <a:lnTo>
                  <a:pt x="603" y="241"/>
                </a:lnTo>
                <a:lnTo>
                  <a:pt x="756" y="241"/>
                </a:lnTo>
                <a:lnTo>
                  <a:pt x="756" y="218"/>
                </a:lnTo>
                <a:close/>
                <a:moveTo>
                  <a:pt x="774" y="31"/>
                </a:moveTo>
                <a:lnTo>
                  <a:pt x="585" y="31"/>
                </a:lnTo>
                <a:lnTo>
                  <a:pt x="585" y="558"/>
                </a:lnTo>
                <a:lnTo>
                  <a:pt x="774" y="558"/>
                </a:lnTo>
                <a:lnTo>
                  <a:pt x="774" y="31"/>
                </a:lnTo>
                <a:close/>
                <a:moveTo>
                  <a:pt x="805" y="16"/>
                </a:moveTo>
                <a:lnTo>
                  <a:pt x="805" y="573"/>
                </a:lnTo>
                <a:cubicBezTo>
                  <a:pt x="805" y="581"/>
                  <a:pt x="798" y="588"/>
                  <a:pt x="790" y="588"/>
                </a:cubicBezTo>
                <a:lnTo>
                  <a:pt x="570" y="588"/>
                </a:lnTo>
                <a:cubicBezTo>
                  <a:pt x="561" y="588"/>
                  <a:pt x="555" y="581"/>
                  <a:pt x="555" y="573"/>
                </a:cubicBezTo>
                <a:lnTo>
                  <a:pt x="555" y="16"/>
                </a:lnTo>
                <a:cubicBezTo>
                  <a:pt x="555" y="7"/>
                  <a:pt x="561" y="0"/>
                  <a:pt x="570" y="0"/>
                </a:cubicBezTo>
                <a:lnTo>
                  <a:pt x="790" y="0"/>
                </a:lnTo>
                <a:cubicBezTo>
                  <a:pt x="798" y="0"/>
                  <a:pt x="805" y="7"/>
                  <a:pt x="805" y="16"/>
                </a:cubicBezTo>
                <a:close/>
                <a:moveTo>
                  <a:pt x="756" y="71"/>
                </a:moveTo>
                <a:lnTo>
                  <a:pt x="603" y="71"/>
                </a:lnTo>
                <a:lnTo>
                  <a:pt x="603" y="123"/>
                </a:lnTo>
                <a:lnTo>
                  <a:pt x="756" y="123"/>
                </a:lnTo>
                <a:lnTo>
                  <a:pt x="756" y="71"/>
                </a:lnTo>
                <a:close/>
                <a:moveTo>
                  <a:pt x="756" y="179"/>
                </a:moveTo>
                <a:lnTo>
                  <a:pt x="603" y="179"/>
                </a:lnTo>
                <a:lnTo>
                  <a:pt x="603" y="202"/>
                </a:lnTo>
                <a:lnTo>
                  <a:pt x="756" y="202"/>
                </a:lnTo>
                <a:lnTo>
                  <a:pt x="756" y="179"/>
                </a:lnTo>
                <a:close/>
                <a:moveTo>
                  <a:pt x="756" y="163"/>
                </a:moveTo>
                <a:lnTo>
                  <a:pt x="603" y="163"/>
                </a:lnTo>
                <a:lnTo>
                  <a:pt x="603" y="140"/>
                </a:lnTo>
                <a:lnTo>
                  <a:pt x="756" y="140"/>
                </a:lnTo>
                <a:lnTo>
                  <a:pt x="756" y="163"/>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74" name="Freeform 163"/>
          <p:cNvSpPr/>
          <p:nvPr/>
        </p:nvSpPr>
        <p:spPr>
          <a:xfrm>
            <a:off x="2903400" y="873000"/>
            <a:ext cx="203400" cy="150840"/>
          </a:xfrm>
          <a:custGeom>
            <a:avLst/>
            <a:gdLst/>
            <a:ahLst/>
            <a:rect l="l" t="t" r="r" b="b"/>
            <a:pathLst>
              <a:path w="763" h="568">
                <a:moveTo>
                  <a:pt x="467" y="502"/>
                </a:moveTo>
                <a:lnTo>
                  <a:pt x="312" y="502"/>
                </a:lnTo>
                <a:lnTo>
                  <a:pt x="312" y="484"/>
                </a:lnTo>
                <a:lnTo>
                  <a:pt x="467" y="484"/>
                </a:lnTo>
                <a:lnTo>
                  <a:pt x="467" y="502"/>
                </a:lnTo>
                <a:close/>
                <a:moveTo>
                  <a:pt x="0" y="473"/>
                </a:moveTo>
                <a:lnTo>
                  <a:pt x="0" y="533"/>
                </a:lnTo>
                <a:cubicBezTo>
                  <a:pt x="107" y="568"/>
                  <a:pt x="737" y="549"/>
                  <a:pt x="763" y="533"/>
                </a:cubicBezTo>
                <a:lnTo>
                  <a:pt x="763" y="473"/>
                </a:lnTo>
                <a:lnTo>
                  <a:pt x="0" y="473"/>
                </a:lnTo>
                <a:close/>
                <a:moveTo>
                  <a:pt x="660" y="405"/>
                </a:moveTo>
                <a:lnTo>
                  <a:pt x="84" y="405"/>
                </a:lnTo>
                <a:lnTo>
                  <a:pt x="84" y="43"/>
                </a:lnTo>
                <a:lnTo>
                  <a:pt x="660" y="43"/>
                </a:lnTo>
                <a:lnTo>
                  <a:pt x="660" y="405"/>
                </a:lnTo>
                <a:close/>
                <a:moveTo>
                  <a:pt x="703" y="0"/>
                </a:moveTo>
                <a:lnTo>
                  <a:pt x="41" y="0"/>
                </a:lnTo>
                <a:lnTo>
                  <a:pt x="41" y="448"/>
                </a:lnTo>
                <a:lnTo>
                  <a:pt x="703" y="448"/>
                </a:lnTo>
                <a:lnTo>
                  <a:pt x="703"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75" name="Freeform 164"/>
          <p:cNvSpPr/>
          <p:nvPr/>
        </p:nvSpPr>
        <p:spPr>
          <a:xfrm>
            <a:off x="3909960" y="852480"/>
            <a:ext cx="119160" cy="190440"/>
          </a:xfrm>
          <a:custGeom>
            <a:avLst/>
            <a:gdLst/>
            <a:ahLst/>
            <a:rect l="l" t="t" r="r" b="b"/>
            <a:pathLst>
              <a:path w="447" h="715">
                <a:moveTo>
                  <a:pt x="402" y="603"/>
                </a:moveTo>
                <a:lnTo>
                  <a:pt x="44" y="603"/>
                </a:lnTo>
                <a:lnTo>
                  <a:pt x="44" y="111"/>
                </a:lnTo>
                <a:lnTo>
                  <a:pt x="402" y="111"/>
                </a:lnTo>
                <a:lnTo>
                  <a:pt x="402" y="603"/>
                </a:lnTo>
                <a:close/>
                <a:moveTo>
                  <a:pt x="223" y="692"/>
                </a:moveTo>
                <a:cubicBezTo>
                  <a:pt x="205" y="692"/>
                  <a:pt x="190" y="677"/>
                  <a:pt x="190" y="659"/>
                </a:cubicBezTo>
                <a:cubicBezTo>
                  <a:pt x="190" y="640"/>
                  <a:pt x="205" y="625"/>
                  <a:pt x="223" y="625"/>
                </a:cubicBezTo>
                <a:cubicBezTo>
                  <a:pt x="242" y="625"/>
                  <a:pt x="257" y="640"/>
                  <a:pt x="257" y="659"/>
                </a:cubicBezTo>
                <a:cubicBezTo>
                  <a:pt x="257" y="677"/>
                  <a:pt x="242" y="692"/>
                  <a:pt x="223" y="692"/>
                </a:cubicBezTo>
                <a:close/>
                <a:moveTo>
                  <a:pt x="145" y="44"/>
                </a:moveTo>
                <a:lnTo>
                  <a:pt x="301" y="44"/>
                </a:lnTo>
                <a:cubicBezTo>
                  <a:pt x="308" y="44"/>
                  <a:pt x="313" y="49"/>
                  <a:pt x="313" y="56"/>
                </a:cubicBezTo>
                <a:cubicBezTo>
                  <a:pt x="313" y="62"/>
                  <a:pt x="308" y="67"/>
                  <a:pt x="301" y="67"/>
                </a:cubicBezTo>
                <a:lnTo>
                  <a:pt x="145" y="67"/>
                </a:lnTo>
                <a:cubicBezTo>
                  <a:pt x="139" y="67"/>
                  <a:pt x="134" y="62"/>
                  <a:pt x="134" y="56"/>
                </a:cubicBezTo>
                <a:cubicBezTo>
                  <a:pt x="134" y="49"/>
                  <a:pt x="139" y="44"/>
                  <a:pt x="145" y="44"/>
                </a:cubicBezTo>
                <a:close/>
                <a:moveTo>
                  <a:pt x="402" y="0"/>
                </a:moveTo>
                <a:lnTo>
                  <a:pt x="44" y="0"/>
                </a:lnTo>
                <a:cubicBezTo>
                  <a:pt x="20" y="0"/>
                  <a:pt x="0" y="20"/>
                  <a:pt x="0" y="44"/>
                </a:cubicBezTo>
                <a:lnTo>
                  <a:pt x="0" y="670"/>
                </a:lnTo>
                <a:cubicBezTo>
                  <a:pt x="0" y="695"/>
                  <a:pt x="20" y="715"/>
                  <a:pt x="44" y="715"/>
                </a:cubicBezTo>
                <a:lnTo>
                  <a:pt x="402" y="715"/>
                </a:lnTo>
                <a:cubicBezTo>
                  <a:pt x="427" y="715"/>
                  <a:pt x="447" y="695"/>
                  <a:pt x="447" y="670"/>
                </a:cubicBezTo>
                <a:lnTo>
                  <a:pt x="447" y="44"/>
                </a:lnTo>
                <a:cubicBezTo>
                  <a:pt x="447" y="20"/>
                  <a:pt x="427" y="0"/>
                  <a:pt x="402"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76" name="Freeform 165"/>
          <p:cNvSpPr/>
          <p:nvPr/>
        </p:nvSpPr>
        <p:spPr>
          <a:xfrm>
            <a:off x="3906720" y="1441440"/>
            <a:ext cx="123840" cy="163440"/>
          </a:xfrm>
          <a:custGeom>
            <a:avLst/>
            <a:gdLst/>
            <a:ahLst/>
            <a:rect l="l" t="t" r="r" b="b"/>
            <a:pathLst>
              <a:path w="462" h="612">
                <a:moveTo>
                  <a:pt x="459" y="315"/>
                </a:moveTo>
                <a:cubicBezTo>
                  <a:pt x="458" y="321"/>
                  <a:pt x="456" y="327"/>
                  <a:pt x="453" y="333"/>
                </a:cubicBezTo>
                <a:cubicBezTo>
                  <a:pt x="450" y="337"/>
                  <a:pt x="448" y="341"/>
                  <a:pt x="444" y="345"/>
                </a:cubicBezTo>
                <a:cubicBezTo>
                  <a:pt x="439" y="351"/>
                  <a:pt x="430" y="354"/>
                  <a:pt x="424" y="352"/>
                </a:cubicBezTo>
                <a:cubicBezTo>
                  <a:pt x="421" y="350"/>
                  <a:pt x="418" y="349"/>
                  <a:pt x="414" y="348"/>
                </a:cubicBezTo>
                <a:cubicBezTo>
                  <a:pt x="406" y="344"/>
                  <a:pt x="398" y="340"/>
                  <a:pt x="390" y="337"/>
                </a:cubicBezTo>
                <a:cubicBezTo>
                  <a:pt x="365" y="328"/>
                  <a:pt x="340" y="321"/>
                  <a:pt x="316" y="314"/>
                </a:cubicBezTo>
                <a:cubicBezTo>
                  <a:pt x="311" y="313"/>
                  <a:pt x="308" y="314"/>
                  <a:pt x="306" y="316"/>
                </a:cubicBezTo>
                <a:cubicBezTo>
                  <a:pt x="305" y="318"/>
                  <a:pt x="305" y="320"/>
                  <a:pt x="306" y="321"/>
                </a:cubicBezTo>
                <a:cubicBezTo>
                  <a:pt x="306" y="322"/>
                  <a:pt x="307" y="323"/>
                  <a:pt x="308" y="324"/>
                </a:cubicBezTo>
                <a:cubicBezTo>
                  <a:pt x="308" y="324"/>
                  <a:pt x="308" y="324"/>
                  <a:pt x="308" y="324"/>
                </a:cubicBezTo>
                <a:cubicBezTo>
                  <a:pt x="308" y="324"/>
                  <a:pt x="309" y="324"/>
                  <a:pt x="309" y="324"/>
                </a:cubicBezTo>
                <a:cubicBezTo>
                  <a:pt x="313" y="326"/>
                  <a:pt x="323" y="328"/>
                  <a:pt x="333" y="331"/>
                </a:cubicBezTo>
                <a:cubicBezTo>
                  <a:pt x="358" y="338"/>
                  <a:pt x="383" y="346"/>
                  <a:pt x="407" y="357"/>
                </a:cubicBezTo>
                <a:cubicBezTo>
                  <a:pt x="410" y="358"/>
                  <a:pt x="413" y="359"/>
                  <a:pt x="416" y="361"/>
                </a:cubicBezTo>
                <a:cubicBezTo>
                  <a:pt x="419" y="362"/>
                  <a:pt x="422" y="363"/>
                  <a:pt x="425" y="364"/>
                </a:cubicBezTo>
                <a:cubicBezTo>
                  <a:pt x="429" y="367"/>
                  <a:pt x="434" y="377"/>
                  <a:pt x="432" y="388"/>
                </a:cubicBezTo>
                <a:cubicBezTo>
                  <a:pt x="431" y="398"/>
                  <a:pt x="424" y="413"/>
                  <a:pt x="415" y="420"/>
                </a:cubicBezTo>
                <a:cubicBezTo>
                  <a:pt x="410" y="423"/>
                  <a:pt x="405" y="426"/>
                  <a:pt x="399" y="428"/>
                </a:cubicBezTo>
                <a:cubicBezTo>
                  <a:pt x="391" y="430"/>
                  <a:pt x="383" y="431"/>
                  <a:pt x="376" y="432"/>
                </a:cubicBezTo>
                <a:cubicBezTo>
                  <a:pt x="373" y="432"/>
                  <a:pt x="371" y="432"/>
                  <a:pt x="368" y="432"/>
                </a:cubicBezTo>
                <a:cubicBezTo>
                  <a:pt x="364" y="432"/>
                  <a:pt x="359" y="430"/>
                  <a:pt x="357" y="427"/>
                </a:cubicBezTo>
                <a:cubicBezTo>
                  <a:pt x="356" y="425"/>
                  <a:pt x="355" y="423"/>
                  <a:pt x="354" y="421"/>
                </a:cubicBezTo>
                <a:cubicBezTo>
                  <a:pt x="353" y="419"/>
                  <a:pt x="352" y="417"/>
                  <a:pt x="351" y="414"/>
                </a:cubicBezTo>
                <a:cubicBezTo>
                  <a:pt x="348" y="410"/>
                  <a:pt x="344" y="407"/>
                  <a:pt x="340" y="403"/>
                </a:cubicBezTo>
                <a:lnTo>
                  <a:pt x="339" y="402"/>
                </a:lnTo>
                <a:cubicBezTo>
                  <a:pt x="330" y="395"/>
                  <a:pt x="321" y="388"/>
                  <a:pt x="312" y="381"/>
                </a:cubicBezTo>
                <a:cubicBezTo>
                  <a:pt x="308" y="377"/>
                  <a:pt x="303" y="373"/>
                  <a:pt x="299" y="369"/>
                </a:cubicBezTo>
                <a:lnTo>
                  <a:pt x="298" y="369"/>
                </a:lnTo>
                <a:cubicBezTo>
                  <a:pt x="295" y="366"/>
                  <a:pt x="292" y="364"/>
                  <a:pt x="287" y="364"/>
                </a:cubicBezTo>
                <a:cubicBezTo>
                  <a:pt x="286" y="364"/>
                  <a:pt x="285" y="364"/>
                  <a:pt x="285" y="364"/>
                </a:cubicBezTo>
                <a:cubicBezTo>
                  <a:pt x="284" y="365"/>
                  <a:pt x="284" y="365"/>
                  <a:pt x="283" y="365"/>
                </a:cubicBezTo>
                <a:cubicBezTo>
                  <a:pt x="283" y="366"/>
                  <a:pt x="283" y="367"/>
                  <a:pt x="282" y="368"/>
                </a:cubicBezTo>
                <a:cubicBezTo>
                  <a:pt x="282" y="369"/>
                  <a:pt x="282" y="369"/>
                  <a:pt x="283" y="369"/>
                </a:cubicBezTo>
                <a:cubicBezTo>
                  <a:pt x="283" y="370"/>
                  <a:pt x="283" y="371"/>
                  <a:pt x="283" y="371"/>
                </a:cubicBezTo>
                <a:cubicBezTo>
                  <a:pt x="284" y="373"/>
                  <a:pt x="285" y="374"/>
                  <a:pt x="286" y="375"/>
                </a:cubicBezTo>
                <a:cubicBezTo>
                  <a:pt x="287" y="376"/>
                  <a:pt x="289" y="377"/>
                  <a:pt x="290" y="378"/>
                </a:cubicBezTo>
                <a:cubicBezTo>
                  <a:pt x="292" y="379"/>
                  <a:pt x="293" y="380"/>
                  <a:pt x="295" y="381"/>
                </a:cubicBezTo>
                <a:cubicBezTo>
                  <a:pt x="299" y="384"/>
                  <a:pt x="303" y="388"/>
                  <a:pt x="307" y="391"/>
                </a:cubicBezTo>
                <a:cubicBezTo>
                  <a:pt x="314" y="397"/>
                  <a:pt x="322" y="404"/>
                  <a:pt x="330" y="410"/>
                </a:cubicBezTo>
                <a:cubicBezTo>
                  <a:pt x="331" y="411"/>
                  <a:pt x="331" y="411"/>
                  <a:pt x="332" y="412"/>
                </a:cubicBezTo>
                <a:cubicBezTo>
                  <a:pt x="335" y="414"/>
                  <a:pt x="339" y="417"/>
                  <a:pt x="341" y="420"/>
                </a:cubicBezTo>
                <a:cubicBezTo>
                  <a:pt x="344" y="426"/>
                  <a:pt x="347" y="432"/>
                  <a:pt x="350" y="440"/>
                </a:cubicBezTo>
                <a:lnTo>
                  <a:pt x="350" y="440"/>
                </a:lnTo>
                <a:cubicBezTo>
                  <a:pt x="350" y="440"/>
                  <a:pt x="350" y="440"/>
                  <a:pt x="350" y="440"/>
                </a:cubicBezTo>
                <a:cubicBezTo>
                  <a:pt x="350" y="440"/>
                  <a:pt x="349" y="440"/>
                  <a:pt x="349" y="440"/>
                </a:cubicBezTo>
                <a:cubicBezTo>
                  <a:pt x="348" y="440"/>
                  <a:pt x="347" y="441"/>
                  <a:pt x="345" y="441"/>
                </a:cubicBezTo>
                <a:cubicBezTo>
                  <a:pt x="343" y="441"/>
                  <a:pt x="341" y="441"/>
                  <a:pt x="339" y="441"/>
                </a:cubicBezTo>
                <a:cubicBezTo>
                  <a:pt x="338" y="441"/>
                  <a:pt x="338" y="441"/>
                  <a:pt x="337" y="441"/>
                </a:cubicBezTo>
                <a:cubicBezTo>
                  <a:pt x="328" y="441"/>
                  <a:pt x="319" y="437"/>
                  <a:pt x="311" y="433"/>
                </a:cubicBezTo>
                <a:cubicBezTo>
                  <a:pt x="309" y="432"/>
                  <a:pt x="307" y="432"/>
                  <a:pt x="306" y="431"/>
                </a:cubicBezTo>
                <a:cubicBezTo>
                  <a:pt x="295" y="426"/>
                  <a:pt x="286" y="419"/>
                  <a:pt x="277" y="412"/>
                </a:cubicBezTo>
                <a:cubicBezTo>
                  <a:pt x="275" y="410"/>
                  <a:pt x="273" y="409"/>
                  <a:pt x="270" y="407"/>
                </a:cubicBezTo>
                <a:cubicBezTo>
                  <a:pt x="266" y="403"/>
                  <a:pt x="262" y="400"/>
                  <a:pt x="258" y="396"/>
                </a:cubicBezTo>
                <a:cubicBezTo>
                  <a:pt x="256" y="394"/>
                  <a:pt x="254" y="392"/>
                  <a:pt x="252" y="390"/>
                </a:cubicBezTo>
                <a:cubicBezTo>
                  <a:pt x="245" y="384"/>
                  <a:pt x="240" y="377"/>
                  <a:pt x="236" y="370"/>
                </a:cubicBezTo>
                <a:lnTo>
                  <a:pt x="234" y="368"/>
                </a:lnTo>
                <a:cubicBezTo>
                  <a:pt x="232" y="365"/>
                  <a:pt x="229" y="361"/>
                  <a:pt x="226" y="358"/>
                </a:cubicBezTo>
                <a:cubicBezTo>
                  <a:pt x="222" y="354"/>
                  <a:pt x="218" y="350"/>
                  <a:pt x="216" y="344"/>
                </a:cubicBezTo>
                <a:cubicBezTo>
                  <a:pt x="206" y="325"/>
                  <a:pt x="197" y="304"/>
                  <a:pt x="190" y="283"/>
                </a:cubicBezTo>
                <a:cubicBezTo>
                  <a:pt x="187" y="274"/>
                  <a:pt x="184" y="264"/>
                  <a:pt x="182" y="254"/>
                </a:cubicBezTo>
                <a:cubicBezTo>
                  <a:pt x="179" y="245"/>
                  <a:pt x="176" y="236"/>
                  <a:pt x="173" y="227"/>
                </a:cubicBezTo>
                <a:cubicBezTo>
                  <a:pt x="169" y="214"/>
                  <a:pt x="168" y="200"/>
                  <a:pt x="168" y="189"/>
                </a:cubicBezTo>
                <a:cubicBezTo>
                  <a:pt x="168" y="178"/>
                  <a:pt x="169" y="168"/>
                  <a:pt x="170" y="157"/>
                </a:cubicBezTo>
                <a:cubicBezTo>
                  <a:pt x="171" y="151"/>
                  <a:pt x="172" y="145"/>
                  <a:pt x="172" y="138"/>
                </a:cubicBezTo>
                <a:cubicBezTo>
                  <a:pt x="175" y="118"/>
                  <a:pt x="178" y="95"/>
                  <a:pt x="188" y="74"/>
                </a:cubicBezTo>
                <a:cubicBezTo>
                  <a:pt x="200" y="47"/>
                  <a:pt x="216" y="27"/>
                  <a:pt x="234" y="12"/>
                </a:cubicBezTo>
                <a:cubicBezTo>
                  <a:pt x="237" y="9"/>
                  <a:pt x="241" y="7"/>
                  <a:pt x="246" y="5"/>
                </a:cubicBezTo>
                <a:cubicBezTo>
                  <a:pt x="253" y="2"/>
                  <a:pt x="261" y="0"/>
                  <a:pt x="265" y="0"/>
                </a:cubicBezTo>
                <a:cubicBezTo>
                  <a:pt x="268" y="0"/>
                  <a:pt x="271" y="0"/>
                  <a:pt x="271" y="0"/>
                </a:cubicBezTo>
                <a:cubicBezTo>
                  <a:pt x="273" y="2"/>
                  <a:pt x="276" y="4"/>
                  <a:pt x="279" y="5"/>
                </a:cubicBezTo>
                <a:cubicBezTo>
                  <a:pt x="282" y="7"/>
                  <a:pt x="285" y="9"/>
                  <a:pt x="287" y="11"/>
                </a:cubicBezTo>
                <a:cubicBezTo>
                  <a:pt x="290" y="13"/>
                  <a:pt x="289" y="15"/>
                  <a:pt x="288" y="17"/>
                </a:cubicBezTo>
                <a:cubicBezTo>
                  <a:pt x="288" y="17"/>
                  <a:pt x="288" y="18"/>
                  <a:pt x="288" y="18"/>
                </a:cubicBezTo>
                <a:cubicBezTo>
                  <a:pt x="286" y="25"/>
                  <a:pt x="284" y="32"/>
                  <a:pt x="282" y="39"/>
                </a:cubicBezTo>
                <a:cubicBezTo>
                  <a:pt x="279" y="48"/>
                  <a:pt x="276" y="58"/>
                  <a:pt x="274" y="68"/>
                </a:cubicBezTo>
                <a:cubicBezTo>
                  <a:pt x="272" y="74"/>
                  <a:pt x="268" y="79"/>
                  <a:pt x="265" y="84"/>
                </a:cubicBezTo>
                <a:cubicBezTo>
                  <a:pt x="264" y="85"/>
                  <a:pt x="263" y="86"/>
                  <a:pt x="262" y="88"/>
                </a:cubicBezTo>
                <a:cubicBezTo>
                  <a:pt x="255" y="98"/>
                  <a:pt x="248" y="110"/>
                  <a:pt x="240" y="120"/>
                </a:cubicBezTo>
                <a:cubicBezTo>
                  <a:pt x="237" y="125"/>
                  <a:pt x="234" y="130"/>
                  <a:pt x="230" y="135"/>
                </a:cubicBezTo>
                <a:cubicBezTo>
                  <a:pt x="227" y="140"/>
                  <a:pt x="222" y="144"/>
                  <a:pt x="217" y="147"/>
                </a:cubicBezTo>
                <a:cubicBezTo>
                  <a:pt x="214" y="149"/>
                  <a:pt x="211" y="152"/>
                  <a:pt x="208" y="154"/>
                </a:cubicBezTo>
                <a:cubicBezTo>
                  <a:pt x="207" y="156"/>
                  <a:pt x="207" y="158"/>
                  <a:pt x="207" y="161"/>
                </a:cubicBezTo>
                <a:cubicBezTo>
                  <a:pt x="207" y="161"/>
                  <a:pt x="207" y="161"/>
                  <a:pt x="207" y="161"/>
                </a:cubicBezTo>
                <a:cubicBezTo>
                  <a:pt x="208" y="162"/>
                  <a:pt x="209" y="163"/>
                  <a:pt x="210" y="163"/>
                </a:cubicBezTo>
                <a:cubicBezTo>
                  <a:pt x="211" y="163"/>
                  <a:pt x="211" y="163"/>
                  <a:pt x="212" y="163"/>
                </a:cubicBezTo>
                <a:cubicBezTo>
                  <a:pt x="214" y="163"/>
                  <a:pt x="216" y="163"/>
                  <a:pt x="217" y="162"/>
                </a:cubicBezTo>
                <a:cubicBezTo>
                  <a:pt x="219" y="160"/>
                  <a:pt x="220" y="159"/>
                  <a:pt x="222" y="158"/>
                </a:cubicBezTo>
                <a:cubicBezTo>
                  <a:pt x="229" y="153"/>
                  <a:pt x="236" y="148"/>
                  <a:pt x="240" y="141"/>
                </a:cubicBezTo>
                <a:cubicBezTo>
                  <a:pt x="252" y="123"/>
                  <a:pt x="263" y="106"/>
                  <a:pt x="275" y="90"/>
                </a:cubicBezTo>
                <a:cubicBezTo>
                  <a:pt x="275" y="89"/>
                  <a:pt x="276" y="88"/>
                  <a:pt x="276" y="88"/>
                </a:cubicBezTo>
                <a:cubicBezTo>
                  <a:pt x="279" y="84"/>
                  <a:pt x="281" y="81"/>
                  <a:pt x="283" y="76"/>
                </a:cubicBezTo>
                <a:cubicBezTo>
                  <a:pt x="285" y="68"/>
                  <a:pt x="288" y="59"/>
                  <a:pt x="290" y="51"/>
                </a:cubicBezTo>
                <a:cubicBezTo>
                  <a:pt x="292" y="45"/>
                  <a:pt x="294" y="38"/>
                  <a:pt x="296" y="32"/>
                </a:cubicBezTo>
                <a:cubicBezTo>
                  <a:pt x="299" y="21"/>
                  <a:pt x="304" y="13"/>
                  <a:pt x="306" y="13"/>
                </a:cubicBezTo>
                <a:cubicBezTo>
                  <a:pt x="307" y="13"/>
                  <a:pt x="307" y="13"/>
                  <a:pt x="308" y="13"/>
                </a:cubicBezTo>
                <a:cubicBezTo>
                  <a:pt x="311" y="13"/>
                  <a:pt x="314" y="13"/>
                  <a:pt x="317" y="13"/>
                </a:cubicBezTo>
                <a:cubicBezTo>
                  <a:pt x="326" y="13"/>
                  <a:pt x="337" y="14"/>
                  <a:pt x="346" y="20"/>
                </a:cubicBezTo>
                <a:cubicBezTo>
                  <a:pt x="347" y="20"/>
                  <a:pt x="348" y="21"/>
                  <a:pt x="349" y="22"/>
                </a:cubicBezTo>
                <a:cubicBezTo>
                  <a:pt x="353" y="24"/>
                  <a:pt x="357" y="27"/>
                  <a:pt x="360" y="31"/>
                </a:cubicBezTo>
                <a:cubicBezTo>
                  <a:pt x="366" y="36"/>
                  <a:pt x="374" y="47"/>
                  <a:pt x="377" y="54"/>
                </a:cubicBezTo>
                <a:cubicBezTo>
                  <a:pt x="379" y="58"/>
                  <a:pt x="380" y="63"/>
                  <a:pt x="382" y="67"/>
                </a:cubicBezTo>
                <a:cubicBezTo>
                  <a:pt x="383" y="71"/>
                  <a:pt x="384" y="74"/>
                  <a:pt x="385" y="77"/>
                </a:cubicBezTo>
                <a:lnTo>
                  <a:pt x="386" y="78"/>
                </a:lnTo>
                <a:cubicBezTo>
                  <a:pt x="386" y="80"/>
                  <a:pt x="386" y="81"/>
                  <a:pt x="387" y="82"/>
                </a:cubicBezTo>
                <a:cubicBezTo>
                  <a:pt x="387" y="84"/>
                  <a:pt x="385" y="88"/>
                  <a:pt x="383" y="91"/>
                </a:cubicBezTo>
                <a:cubicBezTo>
                  <a:pt x="381" y="92"/>
                  <a:pt x="380" y="94"/>
                  <a:pt x="378" y="95"/>
                </a:cubicBezTo>
                <a:cubicBezTo>
                  <a:pt x="376" y="96"/>
                  <a:pt x="375" y="98"/>
                  <a:pt x="373" y="99"/>
                </a:cubicBezTo>
                <a:cubicBezTo>
                  <a:pt x="370" y="102"/>
                  <a:pt x="367" y="105"/>
                  <a:pt x="364" y="108"/>
                </a:cubicBezTo>
                <a:cubicBezTo>
                  <a:pt x="357" y="114"/>
                  <a:pt x="350" y="121"/>
                  <a:pt x="342" y="127"/>
                </a:cubicBezTo>
                <a:cubicBezTo>
                  <a:pt x="339" y="129"/>
                  <a:pt x="335" y="132"/>
                  <a:pt x="332" y="135"/>
                </a:cubicBezTo>
                <a:cubicBezTo>
                  <a:pt x="327" y="138"/>
                  <a:pt x="322" y="142"/>
                  <a:pt x="317" y="146"/>
                </a:cubicBezTo>
                <a:cubicBezTo>
                  <a:pt x="311" y="150"/>
                  <a:pt x="304" y="153"/>
                  <a:pt x="298" y="156"/>
                </a:cubicBezTo>
                <a:cubicBezTo>
                  <a:pt x="290" y="160"/>
                  <a:pt x="283" y="164"/>
                  <a:pt x="276" y="168"/>
                </a:cubicBezTo>
                <a:cubicBezTo>
                  <a:pt x="273" y="170"/>
                  <a:pt x="273" y="172"/>
                  <a:pt x="274" y="174"/>
                </a:cubicBezTo>
                <a:cubicBezTo>
                  <a:pt x="274" y="176"/>
                  <a:pt x="276" y="178"/>
                  <a:pt x="278" y="178"/>
                </a:cubicBezTo>
                <a:cubicBezTo>
                  <a:pt x="278" y="178"/>
                  <a:pt x="279" y="178"/>
                  <a:pt x="279" y="178"/>
                </a:cubicBezTo>
                <a:cubicBezTo>
                  <a:pt x="284" y="176"/>
                  <a:pt x="289" y="174"/>
                  <a:pt x="293" y="172"/>
                </a:cubicBezTo>
                <a:cubicBezTo>
                  <a:pt x="295" y="171"/>
                  <a:pt x="297" y="169"/>
                  <a:pt x="299" y="169"/>
                </a:cubicBezTo>
                <a:cubicBezTo>
                  <a:pt x="302" y="167"/>
                  <a:pt x="305" y="165"/>
                  <a:pt x="308" y="164"/>
                </a:cubicBezTo>
                <a:cubicBezTo>
                  <a:pt x="316" y="160"/>
                  <a:pt x="324" y="156"/>
                  <a:pt x="331" y="150"/>
                </a:cubicBezTo>
                <a:cubicBezTo>
                  <a:pt x="335" y="147"/>
                  <a:pt x="338" y="144"/>
                  <a:pt x="342" y="141"/>
                </a:cubicBezTo>
                <a:cubicBezTo>
                  <a:pt x="349" y="136"/>
                  <a:pt x="357" y="130"/>
                  <a:pt x="364" y="124"/>
                </a:cubicBezTo>
                <a:cubicBezTo>
                  <a:pt x="371" y="117"/>
                  <a:pt x="378" y="110"/>
                  <a:pt x="385" y="104"/>
                </a:cubicBezTo>
                <a:cubicBezTo>
                  <a:pt x="387" y="102"/>
                  <a:pt x="388" y="101"/>
                  <a:pt x="390" y="99"/>
                </a:cubicBezTo>
                <a:cubicBezTo>
                  <a:pt x="393" y="96"/>
                  <a:pt x="402" y="99"/>
                  <a:pt x="409" y="105"/>
                </a:cubicBezTo>
                <a:cubicBezTo>
                  <a:pt x="414" y="109"/>
                  <a:pt x="418" y="113"/>
                  <a:pt x="421" y="117"/>
                </a:cubicBezTo>
                <a:cubicBezTo>
                  <a:pt x="437" y="138"/>
                  <a:pt x="446" y="163"/>
                  <a:pt x="445" y="187"/>
                </a:cubicBezTo>
                <a:cubicBezTo>
                  <a:pt x="445" y="192"/>
                  <a:pt x="445" y="198"/>
                  <a:pt x="444" y="203"/>
                </a:cubicBezTo>
                <a:cubicBezTo>
                  <a:pt x="443" y="212"/>
                  <a:pt x="430" y="221"/>
                  <a:pt x="417" y="222"/>
                </a:cubicBezTo>
                <a:cubicBezTo>
                  <a:pt x="395" y="225"/>
                  <a:pt x="375" y="227"/>
                  <a:pt x="358" y="229"/>
                </a:cubicBezTo>
                <a:cubicBezTo>
                  <a:pt x="352" y="230"/>
                  <a:pt x="346" y="231"/>
                  <a:pt x="340" y="231"/>
                </a:cubicBezTo>
                <a:cubicBezTo>
                  <a:pt x="328" y="233"/>
                  <a:pt x="316" y="235"/>
                  <a:pt x="304" y="236"/>
                </a:cubicBezTo>
                <a:cubicBezTo>
                  <a:pt x="302" y="236"/>
                  <a:pt x="298" y="237"/>
                  <a:pt x="297" y="239"/>
                </a:cubicBezTo>
                <a:cubicBezTo>
                  <a:pt x="297" y="240"/>
                  <a:pt x="296" y="240"/>
                  <a:pt x="296" y="241"/>
                </a:cubicBezTo>
                <a:cubicBezTo>
                  <a:pt x="296" y="242"/>
                  <a:pt x="296" y="243"/>
                  <a:pt x="296" y="245"/>
                </a:cubicBezTo>
                <a:cubicBezTo>
                  <a:pt x="297" y="246"/>
                  <a:pt x="297" y="246"/>
                  <a:pt x="298" y="247"/>
                </a:cubicBezTo>
                <a:cubicBezTo>
                  <a:pt x="299" y="248"/>
                  <a:pt x="300" y="248"/>
                  <a:pt x="302" y="248"/>
                </a:cubicBezTo>
                <a:cubicBezTo>
                  <a:pt x="302" y="248"/>
                  <a:pt x="302" y="248"/>
                  <a:pt x="303" y="248"/>
                </a:cubicBezTo>
                <a:cubicBezTo>
                  <a:pt x="303" y="248"/>
                  <a:pt x="309" y="247"/>
                  <a:pt x="316" y="246"/>
                </a:cubicBezTo>
                <a:cubicBezTo>
                  <a:pt x="320" y="246"/>
                  <a:pt x="324" y="245"/>
                  <a:pt x="328" y="244"/>
                </a:cubicBezTo>
                <a:cubicBezTo>
                  <a:pt x="336" y="243"/>
                  <a:pt x="345" y="242"/>
                  <a:pt x="353" y="241"/>
                </a:cubicBezTo>
                <a:cubicBezTo>
                  <a:pt x="364" y="240"/>
                  <a:pt x="374" y="239"/>
                  <a:pt x="385" y="238"/>
                </a:cubicBezTo>
                <a:cubicBezTo>
                  <a:pt x="395" y="237"/>
                  <a:pt x="406" y="235"/>
                  <a:pt x="417" y="234"/>
                </a:cubicBezTo>
                <a:cubicBezTo>
                  <a:pt x="419" y="234"/>
                  <a:pt x="422" y="233"/>
                  <a:pt x="425" y="233"/>
                </a:cubicBezTo>
                <a:cubicBezTo>
                  <a:pt x="428" y="233"/>
                  <a:pt x="431" y="232"/>
                  <a:pt x="434" y="232"/>
                </a:cubicBezTo>
                <a:cubicBezTo>
                  <a:pt x="439" y="231"/>
                  <a:pt x="448" y="240"/>
                  <a:pt x="454" y="251"/>
                </a:cubicBezTo>
                <a:cubicBezTo>
                  <a:pt x="459" y="262"/>
                  <a:pt x="462" y="280"/>
                  <a:pt x="462" y="289"/>
                </a:cubicBezTo>
                <a:cubicBezTo>
                  <a:pt x="462" y="299"/>
                  <a:pt x="461" y="309"/>
                  <a:pt x="460" y="311"/>
                </a:cubicBezTo>
                <a:cubicBezTo>
                  <a:pt x="460" y="312"/>
                  <a:pt x="460" y="313"/>
                  <a:pt x="459" y="315"/>
                </a:cubicBezTo>
                <a:close/>
                <a:moveTo>
                  <a:pt x="62" y="550"/>
                </a:moveTo>
                <a:cubicBezTo>
                  <a:pt x="74" y="560"/>
                  <a:pt x="86" y="571"/>
                  <a:pt x="99" y="581"/>
                </a:cubicBezTo>
                <a:cubicBezTo>
                  <a:pt x="100" y="583"/>
                  <a:pt x="103" y="584"/>
                  <a:pt x="105" y="584"/>
                </a:cubicBezTo>
                <a:cubicBezTo>
                  <a:pt x="108" y="584"/>
                  <a:pt x="111" y="583"/>
                  <a:pt x="113" y="582"/>
                </a:cubicBezTo>
                <a:cubicBezTo>
                  <a:pt x="172" y="563"/>
                  <a:pt x="231" y="544"/>
                  <a:pt x="289" y="525"/>
                </a:cubicBezTo>
                <a:cubicBezTo>
                  <a:pt x="290" y="525"/>
                  <a:pt x="291" y="525"/>
                  <a:pt x="292" y="525"/>
                </a:cubicBezTo>
                <a:cubicBezTo>
                  <a:pt x="296" y="525"/>
                  <a:pt x="301" y="528"/>
                  <a:pt x="302" y="533"/>
                </a:cubicBezTo>
                <a:cubicBezTo>
                  <a:pt x="304" y="538"/>
                  <a:pt x="303" y="542"/>
                  <a:pt x="299" y="545"/>
                </a:cubicBezTo>
                <a:cubicBezTo>
                  <a:pt x="291" y="550"/>
                  <a:pt x="281" y="554"/>
                  <a:pt x="269" y="558"/>
                </a:cubicBezTo>
                <a:cubicBezTo>
                  <a:pt x="259" y="561"/>
                  <a:pt x="249" y="565"/>
                  <a:pt x="239" y="568"/>
                </a:cubicBezTo>
                <a:cubicBezTo>
                  <a:pt x="211" y="578"/>
                  <a:pt x="181" y="589"/>
                  <a:pt x="153" y="600"/>
                </a:cubicBezTo>
                <a:cubicBezTo>
                  <a:pt x="146" y="601"/>
                  <a:pt x="140" y="603"/>
                  <a:pt x="134" y="605"/>
                </a:cubicBezTo>
                <a:cubicBezTo>
                  <a:pt x="123" y="609"/>
                  <a:pt x="111" y="612"/>
                  <a:pt x="105" y="612"/>
                </a:cubicBezTo>
                <a:cubicBezTo>
                  <a:pt x="100" y="612"/>
                  <a:pt x="92" y="611"/>
                  <a:pt x="89" y="609"/>
                </a:cubicBezTo>
                <a:cubicBezTo>
                  <a:pt x="87" y="608"/>
                  <a:pt x="86" y="607"/>
                  <a:pt x="84" y="605"/>
                </a:cubicBezTo>
                <a:cubicBezTo>
                  <a:pt x="71" y="594"/>
                  <a:pt x="57" y="581"/>
                  <a:pt x="41" y="565"/>
                </a:cubicBezTo>
                <a:cubicBezTo>
                  <a:pt x="32" y="558"/>
                  <a:pt x="24" y="550"/>
                  <a:pt x="17" y="542"/>
                </a:cubicBezTo>
                <a:cubicBezTo>
                  <a:pt x="13" y="538"/>
                  <a:pt x="9" y="534"/>
                  <a:pt x="5" y="530"/>
                </a:cubicBezTo>
                <a:cubicBezTo>
                  <a:pt x="3" y="529"/>
                  <a:pt x="2" y="528"/>
                  <a:pt x="1" y="526"/>
                </a:cubicBezTo>
                <a:cubicBezTo>
                  <a:pt x="0" y="523"/>
                  <a:pt x="1" y="517"/>
                  <a:pt x="4" y="514"/>
                </a:cubicBezTo>
                <a:cubicBezTo>
                  <a:pt x="5" y="512"/>
                  <a:pt x="7" y="511"/>
                  <a:pt x="8" y="509"/>
                </a:cubicBezTo>
                <a:cubicBezTo>
                  <a:pt x="9" y="509"/>
                  <a:pt x="9" y="508"/>
                  <a:pt x="10" y="508"/>
                </a:cubicBezTo>
                <a:cubicBezTo>
                  <a:pt x="11" y="507"/>
                  <a:pt x="20" y="513"/>
                  <a:pt x="30" y="522"/>
                </a:cubicBezTo>
                <a:cubicBezTo>
                  <a:pt x="41" y="531"/>
                  <a:pt x="52" y="541"/>
                  <a:pt x="62" y="550"/>
                </a:cubicBezTo>
                <a:close/>
                <a:moveTo>
                  <a:pt x="10" y="509"/>
                </a:moveTo>
                <a:cubicBezTo>
                  <a:pt x="10" y="509"/>
                  <a:pt x="9" y="510"/>
                  <a:pt x="9" y="510"/>
                </a:cubicBezTo>
                <a:cubicBezTo>
                  <a:pt x="8" y="511"/>
                  <a:pt x="8" y="511"/>
                  <a:pt x="7" y="512"/>
                </a:cubicBezTo>
                <a:cubicBezTo>
                  <a:pt x="10" y="511"/>
                  <a:pt x="16" y="513"/>
                  <a:pt x="22" y="517"/>
                </a:cubicBezTo>
                <a:cubicBezTo>
                  <a:pt x="15" y="512"/>
                  <a:pt x="11" y="508"/>
                  <a:pt x="10" y="509"/>
                </a:cubicBezTo>
                <a:close/>
                <a:moveTo>
                  <a:pt x="16" y="457"/>
                </a:moveTo>
                <a:cubicBezTo>
                  <a:pt x="16" y="455"/>
                  <a:pt x="16" y="453"/>
                  <a:pt x="16" y="451"/>
                </a:cubicBezTo>
                <a:lnTo>
                  <a:pt x="16" y="451"/>
                </a:lnTo>
                <a:cubicBezTo>
                  <a:pt x="16" y="450"/>
                  <a:pt x="16" y="450"/>
                  <a:pt x="17" y="451"/>
                </a:cubicBezTo>
                <a:cubicBezTo>
                  <a:pt x="17" y="451"/>
                  <a:pt x="17" y="451"/>
                  <a:pt x="17" y="451"/>
                </a:cubicBezTo>
                <a:cubicBezTo>
                  <a:pt x="19" y="452"/>
                  <a:pt x="21" y="454"/>
                  <a:pt x="23" y="455"/>
                </a:cubicBezTo>
                <a:cubicBezTo>
                  <a:pt x="34" y="463"/>
                  <a:pt x="45" y="471"/>
                  <a:pt x="56" y="479"/>
                </a:cubicBezTo>
                <a:cubicBezTo>
                  <a:pt x="67" y="487"/>
                  <a:pt x="78" y="495"/>
                  <a:pt x="90" y="504"/>
                </a:cubicBezTo>
                <a:lnTo>
                  <a:pt x="90" y="504"/>
                </a:lnTo>
                <a:cubicBezTo>
                  <a:pt x="92" y="505"/>
                  <a:pt x="93" y="506"/>
                  <a:pt x="94" y="507"/>
                </a:cubicBezTo>
                <a:cubicBezTo>
                  <a:pt x="97" y="508"/>
                  <a:pt x="101" y="509"/>
                  <a:pt x="103" y="509"/>
                </a:cubicBezTo>
                <a:cubicBezTo>
                  <a:pt x="104" y="509"/>
                  <a:pt x="105" y="508"/>
                  <a:pt x="106" y="508"/>
                </a:cubicBezTo>
                <a:cubicBezTo>
                  <a:pt x="107" y="508"/>
                  <a:pt x="108" y="508"/>
                  <a:pt x="108" y="508"/>
                </a:cubicBezTo>
                <a:cubicBezTo>
                  <a:pt x="129" y="501"/>
                  <a:pt x="150" y="495"/>
                  <a:pt x="171" y="489"/>
                </a:cubicBezTo>
                <a:cubicBezTo>
                  <a:pt x="208" y="478"/>
                  <a:pt x="245" y="467"/>
                  <a:pt x="282" y="455"/>
                </a:cubicBezTo>
                <a:lnTo>
                  <a:pt x="282" y="455"/>
                </a:lnTo>
                <a:cubicBezTo>
                  <a:pt x="283" y="455"/>
                  <a:pt x="283" y="455"/>
                  <a:pt x="283" y="456"/>
                </a:cubicBezTo>
                <a:cubicBezTo>
                  <a:pt x="283" y="456"/>
                  <a:pt x="282" y="456"/>
                  <a:pt x="282" y="456"/>
                </a:cubicBezTo>
                <a:cubicBezTo>
                  <a:pt x="282" y="457"/>
                  <a:pt x="282" y="458"/>
                  <a:pt x="281" y="459"/>
                </a:cubicBezTo>
                <a:cubicBezTo>
                  <a:pt x="280" y="460"/>
                  <a:pt x="280" y="461"/>
                  <a:pt x="279" y="463"/>
                </a:cubicBezTo>
                <a:cubicBezTo>
                  <a:pt x="279" y="465"/>
                  <a:pt x="279" y="469"/>
                  <a:pt x="279" y="471"/>
                </a:cubicBezTo>
                <a:cubicBezTo>
                  <a:pt x="280" y="473"/>
                  <a:pt x="280" y="474"/>
                  <a:pt x="281" y="475"/>
                </a:cubicBezTo>
                <a:cubicBezTo>
                  <a:pt x="282" y="478"/>
                  <a:pt x="283" y="482"/>
                  <a:pt x="282" y="485"/>
                </a:cubicBezTo>
                <a:cubicBezTo>
                  <a:pt x="282" y="487"/>
                  <a:pt x="282" y="490"/>
                  <a:pt x="281" y="492"/>
                </a:cubicBezTo>
                <a:cubicBezTo>
                  <a:pt x="281" y="496"/>
                  <a:pt x="280" y="500"/>
                  <a:pt x="281" y="503"/>
                </a:cubicBezTo>
                <a:cubicBezTo>
                  <a:pt x="282" y="507"/>
                  <a:pt x="282" y="510"/>
                  <a:pt x="282" y="513"/>
                </a:cubicBezTo>
                <a:cubicBezTo>
                  <a:pt x="282" y="514"/>
                  <a:pt x="282" y="514"/>
                  <a:pt x="282" y="515"/>
                </a:cubicBezTo>
                <a:cubicBezTo>
                  <a:pt x="282" y="515"/>
                  <a:pt x="271" y="519"/>
                  <a:pt x="258" y="523"/>
                </a:cubicBezTo>
                <a:cubicBezTo>
                  <a:pt x="230" y="532"/>
                  <a:pt x="201" y="541"/>
                  <a:pt x="173" y="551"/>
                </a:cubicBezTo>
                <a:cubicBezTo>
                  <a:pt x="155" y="557"/>
                  <a:pt x="136" y="563"/>
                  <a:pt x="117" y="569"/>
                </a:cubicBezTo>
                <a:cubicBezTo>
                  <a:pt x="116" y="569"/>
                  <a:pt x="115" y="570"/>
                  <a:pt x="113" y="570"/>
                </a:cubicBezTo>
                <a:cubicBezTo>
                  <a:pt x="111" y="571"/>
                  <a:pt x="109" y="572"/>
                  <a:pt x="107" y="572"/>
                </a:cubicBezTo>
                <a:cubicBezTo>
                  <a:pt x="106" y="572"/>
                  <a:pt x="106" y="571"/>
                  <a:pt x="106" y="571"/>
                </a:cubicBezTo>
                <a:cubicBezTo>
                  <a:pt x="105" y="571"/>
                  <a:pt x="102" y="570"/>
                  <a:pt x="100" y="567"/>
                </a:cubicBezTo>
                <a:cubicBezTo>
                  <a:pt x="98" y="566"/>
                  <a:pt x="96" y="564"/>
                  <a:pt x="94" y="563"/>
                </a:cubicBezTo>
                <a:cubicBezTo>
                  <a:pt x="93" y="561"/>
                  <a:pt x="91" y="560"/>
                  <a:pt x="90" y="558"/>
                </a:cubicBezTo>
                <a:cubicBezTo>
                  <a:pt x="69" y="541"/>
                  <a:pt x="49" y="524"/>
                  <a:pt x="29" y="506"/>
                </a:cubicBezTo>
                <a:cubicBezTo>
                  <a:pt x="28" y="505"/>
                  <a:pt x="27" y="504"/>
                  <a:pt x="26" y="504"/>
                </a:cubicBezTo>
                <a:cubicBezTo>
                  <a:pt x="24" y="502"/>
                  <a:pt x="21" y="500"/>
                  <a:pt x="19" y="497"/>
                </a:cubicBezTo>
                <a:cubicBezTo>
                  <a:pt x="18" y="495"/>
                  <a:pt x="18" y="492"/>
                  <a:pt x="19" y="490"/>
                </a:cubicBezTo>
                <a:cubicBezTo>
                  <a:pt x="19" y="489"/>
                  <a:pt x="19" y="487"/>
                  <a:pt x="19" y="486"/>
                </a:cubicBezTo>
                <a:cubicBezTo>
                  <a:pt x="19" y="484"/>
                  <a:pt x="16" y="477"/>
                  <a:pt x="16" y="470"/>
                </a:cubicBezTo>
                <a:cubicBezTo>
                  <a:pt x="15" y="466"/>
                  <a:pt x="16" y="461"/>
                  <a:pt x="16" y="457"/>
                </a:cubicBezTo>
                <a:close/>
                <a:moveTo>
                  <a:pt x="17" y="455"/>
                </a:moveTo>
                <a:cubicBezTo>
                  <a:pt x="17" y="455"/>
                  <a:pt x="17" y="456"/>
                  <a:pt x="17" y="457"/>
                </a:cubicBezTo>
                <a:cubicBezTo>
                  <a:pt x="17" y="457"/>
                  <a:pt x="17" y="458"/>
                  <a:pt x="17" y="458"/>
                </a:cubicBezTo>
                <a:cubicBezTo>
                  <a:pt x="17" y="456"/>
                  <a:pt x="18" y="454"/>
                  <a:pt x="19" y="454"/>
                </a:cubicBezTo>
                <a:cubicBezTo>
                  <a:pt x="18" y="454"/>
                  <a:pt x="17" y="454"/>
                  <a:pt x="17" y="455"/>
                </a:cubicBezTo>
                <a:close/>
                <a:moveTo>
                  <a:pt x="280" y="458"/>
                </a:moveTo>
                <a:cubicBezTo>
                  <a:pt x="281" y="457"/>
                  <a:pt x="277" y="458"/>
                  <a:pt x="271" y="460"/>
                </a:cubicBezTo>
                <a:cubicBezTo>
                  <a:pt x="276" y="459"/>
                  <a:pt x="279" y="459"/>
                  <a:pt x="279" y="460"/>
                </a:cubicBezTo>
                <a:cubicBezTo>
                  <a:pt x="280" y="459"/>
                  <a:pt x="280" y="459"/>
                  <a:pt x="280" y="458"/>
                </a:cubicBezTo>
                <a:cubicBezTo>
                  <a:pt x="280" y="458"/>
                  <a:pt x="280" y="458"/>
                  <a:pt x="280" y="458"/>
                </a:cubicBezTo>
                <a:close/>
                <a:moveTo>
                  <a:pt x="281" y="514"/>
                </a:moveTo>
                <a:cubicBezTo>
                  <a:pt x="281" y="514"/>
                  <a:pt x="281" y="513"/>
                  <a:pt x="281" y="513"/>
                </a:cubicBezTo>
                <a:cubicBezTo>
                  <a:pt x="281" y="512"/>
                  <a:pt x="281" y="512"/>
                  <a:pt x="281" y="511"/>
                </a:cubicBezTo>
                <a:cubicBezTo>
                  <a:pt x="279" y="513"/>
                  <a:pt x="275" y="516"/>
                  <a:pt x="269" y="519"/>
                </a:cubicBezTo>
                <a:cubicBezTo>
                  <a:pt x="276" y="516"/>
                  <a:pt x="281" y="514"/>
                  <a:pt x="281" y="514"/>
                </a:cubicBezTo>
                <a:close/>
                <a:moveTo>
                  <a:pt x="106" y="570"/>
                </a:moveTo>
                <a:cubicBezTo>
                  <a:pt x="106" y="570"/>
                  <a:pt x="107" y="570"/>
                  <a:pt x="107" y="570"/>
                </a:cubicBezTo>
                <a:cubicBezTo>
                  <a:pt x="107" y="570"/>
                  <a:pt x="108" y="570"/>
                  <a:pt x="108" y="570"/>
                </a:cubicBezTo>
                <a:cubicBezTo>
                  <a:pt x="106" y="570"/>
                  <a:pt x="104" y="569"/>
                  <a:pt x="102" y="568"/>
                </a:cubicBezTo>
                <a:cubicBezTo>
                  <a:pt x="104" y="569"/>
                  <a:pt x="106" y="570"/>
                  <a:pt x="106" y="570"/>
                </a:cubicBezTo>
                <a:close/>
                <a:moveTo>
                  <a:pt x="36" y="426"/>
                </a:moveTo>
                <a:cubicBezTo>
                  <a:pt x="36" y="427"/>
                  <a:pt x="37" y="427"/>
                  <a:pt x="37" y="428"/>
                </a:cubicBezTo>
                <a:cubicBezTo>
                  <a:pt x="37" y="431"/>
                  <a:pt x="37" y="433"/>
                  <a:pt x="38" y="436"/>
                </a:cubicBezTo>
                <a:cubicBezTo>
                  <a:pt x="39" y="440"/>
                  <a:pt x="43" y="446"/>
                  <a:pt x="47" y="449"/>
                </a:cubicBezTo>
                <a:cubicBezTo>
                  <a:pt x="49" y="451"/>
                  <a:pt x="52" y="453"/>
                  <a:pt x="54" y="454"/>
                </a:cubicBezTo>
                <a:cubicBezTo>
                  <a:pt x="55" y="455"/>
                  <a:pt x="56" y="455"/>
                  <a:pt x="56" y="456"/>
                </a:cubicBezTo>
                <a:cubicBezTo>
                  <a:pt x="57" y="456"/>
                  <a:pt x="68" y="461"/>
                  <a:pt x="81" y="464"/>
                </a:cubicBezTo>
                <a:cubicBezTo>
                  <a:pt x="89" y="465"/>
                  <a:pt x="98" y="465"/>
                  <a:pt x="106" y="466"/>
                </a:cubicBezTo>
                <a:cubicBezTo>
                  <a:pt x="108" y="466"/>
                  <a:pt x="109" y="466"/>
                  <a:pt x="110" y="466"/>
                </a:cubicBezTo>
                <a:cubicBezTo>
                  <a:pt x="113" y="466"/>
                  <a:pt x="117" y="466"/>
                  <a:pt x="120" y="466"/>
                </a:cubicBezTo>
                <a:cubicBezTo>
                  <a:pt x="123" y="466"/>
                  <a:pt x="125" y="466"/>
                  <a:pt x="127" y="466"/>
                </a:cubicBezTo>
                <a:cubicBezTo>
                  <a:pt x="135" y="465"/>
                  <a:pt x="143" y="464"/>
                  <a:pt x="151" y="463"/>
                </a:cubicBezTo>
                <a:cubicBezTo>
                  <a:pt x="155" y="463"/>
                  <a:pt x="159" y="462"/>
                  <a:pt x="163" y="462"/>
                </a:cubicBezTo>
                <a:cubicBezTo>
                  <a:pt x="169" y="462"/>
                  <a:pt x="175" y="461"/>
                  <a:pt x="181" y="459"/>
                </a:cubicBezTo>
                <a:cubicBezTo>
                  <a:pt x="185" y="458"/>
                  <a:pt x="190" y="457"/>
                  <a:pt x="194" y="455"/>
                </a:cubicBezTo>
                <a:cubicBezTo>
                  <a:pt x="199" y="454"/>
                  <a:pt x="204" y="452"/>
                  <a:pt x="209" y="451"/>
                </a:cubicBezTo>
                <a:cubicBezTo>
                  <a:pt x="217" y="448"/>
                  <a:pt x="230" y="442"/>
                  <a:pt x="236" y="436"/>
                </a:cubicBezTo>
                <a:cubicBezTo>
                  <a:pt x="242" y="430"/>
                  <a:pt x="251" y="427"/>
                  <a:pt x="257" y="430"/>
                </a:cubicBezTo>
                <a:cubicBezTo>
                  <a:pt x="262" y="433"/>
                  <a:pt x="266" y="435"/>
                  <a:pt x="269" y="437"/>
                </a:cubicBezTo>
                <a:cubicBezTo>
                  <a:pt x="270" y="438"/>
                  <a:pt x="272" y="438"/>
                  <a:pt x="273" y="439"/>
                </a:cubicBezTo>
                <a:cubicBezTo>
                  <a:pt x="276" y="440"/>
                  <a:pt x="278" y="441"/>
                  <a:pt x="280" y="443"/>
                </a:cubicBezTo>
                <a:lnTo>
                  <a:pt x="280" y="443"/>
                </a:lnTo>
                <a:cubicBezTo>
                  <a:pt x="280" y="444"/>
                  <a:pt x="280" y="444"/>
                  <a:pt x="280" y="444"/>
                </a:cubicBezTo>
                <a:cubicBezTo>
                  <a:pt x="280" y="444"/>
                  <a:pt x="280" y="444"/>
                  <a:pt x="280" y="444"/>
                </a:cubicBezTo>
                <a:cubicBezTo>
                  <a:pt x="277" y="445"/>
                  <a:pt x="274" y="446"/>
                  <a:pt x="270" y="447"/>
                </a:cubicBezTo>
                <a:cubicBezTo>
                  <a:pt x="263" y="449"/>
                  <a:pt x="256" y="451"/>
                  <a:pt x="248" y="454"/>
                </a:cubicBezTo>
                <a:cubicBezTo>
                  <a:pt x="216" y="463"/>
                  <a:pt x="183" y="473"/>
                  <a:pt x="151" y="483"/>
                </a:cubicBezTo>
                <a:cubicBezTo>
                  <a:pt x="140" y="486"/>
                  <a:pt x="128" y="490"/>
                  <a:pt x="116" y="493"/>
                </a:cubicBezTo>
                <a:cubicBezTo>
                  <a:pt x="115" y="493"/>
                  <a:pt x="113" y="494"/>
                  <a:pt x="112" y="494"/>
                </a:cubicBezTo>
                <a:cubicBezTo>
                  <a:pt x="110" y="495"/>
                  <a:pt x="108" y="496"/>
                  <a:pt x="106" y="496"/>
                </a:cubicBezTo>
                <a:cubicBezTo>
                  <a:pt x="103" y="497"/>
                  <a:pt x="99" y="496"/>
                  <a:pt x="97" y="495"/>
                </a:cubicBezTo>
                <a:cubicBezTo>
                  <a:pt x="96" y="494"/>
                  <a:pt x="95" y="494"/>
                  <a:pt x="94" y="493"/>
                </a:cubicBezTo>
                <a:lnTo>
                  <a:pt x="93" y="492"/>
                </a:lnTo>
                <a:cubicBezTo>
                  <a:pt x="83" y="485"/>
                  <a:pt x="73" y="477"/>
                  <a:pt x="63" y="470"/>
                </a:cubicBezTo>
                <a:cubicBezTo>
                  <a:pt x="52" y="462"/>
                  <a:pt x="41" y="454"/>
                  <a:pt x="30" y="446"/>
                </a:cubicBezTo>
                <a:cubicBezTo>
                  <a:pt x="19" y="438"/>
                  <a:pt x="12" y="430"/>
                  <a:pt x="13" y="429"/>
                </a:cubicBezTo>
                <a:cubicBezTo>
                  <a:pt x="14" y="429"/>
                  <a:pt x="15" y="429"/>
                  <a:pt x="16" y="429"/>
                </a:cubicBezTo>
                <a:cubicBezTo>
                  <a:pt x="16" y="429"/>
                  <a:pt x="16" y="429"/>
                  <a:pt x="17" y="429"/>
                </a:cubicBezTo>
                <a:cubicBezTo>
                  <a:pt x="17" y="429"/>
                  <a:pt x="20" y="428"/>
                  <a:pt x="22" y="427"/>
                </a:cubicBezTo>
                <a:cubicBezTo>
                  <a:pt x="23" y="427"/>
                  <a:pt x="25" y="427"/>
                  <a:pt x="26" y="426"/>
                </a:cubicBezTo>
                <a:cubicBezTo>
                  <a:pt x="28" y="426"/>
                  <a:pt x="29" y="425"/>
                  <a:pt x="31" y="425"/>
                </a:cubicBezTo>
                <a:cubicBezTo>
                  <a:pt x="34" y="424"/>
                  <a:pt x="36" y="425"/>
                  <a:pt x="36" y="426"/>
                </a:cubicBezTo>
                <a:close/>
                <a:moveTo>
                  <a:pt x="270" y="446"/>
                </a:moveTo>
                <a:cubicBezTo>
                  <a:pt x="272" y="445"/>
                  <a:pt x="273" y="445"/>
                  <a:pt x="274" y="445"/>
                </a:cubicBezTo>
                <a:cubicBezTo>
                  <a:pt x="277" y="444"/>
                  <a:pt x="277" y="442"/>
                  <a:pt x="276" y="441"/>
                </a:cubicBezTo>
                <a:cubicBezTo>
                  <a:pt x="276" y="441"/>
                  <a:pt x="275" y="441"/>
                  <a:pt x="275" y="441"/>
                </a:cubicBezTo>
                <a:cubicBezTo>
                  <a:pt x="275" y="442"/>
                  <a:pt x="273" y="444"/>
                  <a:pt x="270" y="446"/>
                </a:cubicBezTo>
                <a:cubicBezTo>
                  <a:pt x="270" y="446"/>
                  <a:pt x="270" y="446"/>
                  <a:pt x="270" y="446"/>
                </a:cubicBezTo>
                <a:close/>
                <a:moveTo>
                  <a:pt x="14" y="430"/>
                </a:moveTo>
                <a:cubicBezTo>
                  <a:pt x="14" y="430"/>
                  <a:pt x="15" y="432"/>
                  <a:pt x="16" y="433"/>
                </a:cubicBezTo>
                <a:cubicBezTo>
                  <a:pt x="15" y="432"/>
                  <a:pt x="14" y="431"/>
                  <a:pt x="14" y="430"/>
                </a:cubicBezTo>
                <a:cubicBezTo>
                  <a:pt x="14" y="430"/>
                  <a:pt x="14" y="430"/>
                  <a:pt x="14" y="430"/>
                </a:cubicBezTo>
                <a:close/>
                <a:moveTo>
                  <a:pt x="31" y="426"/>
                </a:moveTo>
                <a:cubicBezTo>
                  <a:pt x="30" y="426"/>
                  <a:pt x="30" y="426"/>
                  <a:pt x="29" y="427"/>
                </a:cubicBezTo>
                <a:cubicBezTo>
                  <a:pt x="32" y="427"/>
                  <a:pt x="35" y="429"/>
                  <a:pt x="36" y="432"/>
                </a:cubicBezTo>
                <a:cubicBezTo>
                  <a:pt x="36" y="431"/>
                  <a:pt x="36" y="429"/>
                  <a:pt x="35" y="428"/>
                </a:cubicBezTo>
                <a:cubicBezTo>
                  <a:pt x="35" y="428"/>
                  <a:pt x="35" y="427"/>
                  <a:pt x="35" y="427"/>
                </a:cubicBezTo>
                <a:cubicBezTo>
                  <a:pt x="35" y="426"/>
                  <a:pt x="33" y="425"/>
                  <a:pt x="31" y="426"/>
                </a:cubicBezTo>
                <a:close/>
                <a:moveTo>
                  <a:pt x="141" y="424"/>
                </a:moveTo>
                <a:cubicBezTo>
                  <a:pt x="139" y="423"/>
                  <a:pt x="138" y="422"/>
                  <a:pt x="138" y="422"/>
                </a:cubicBezTo>
                <a:cubicBezTo>
                  <a:pt x="138" y="422"/>
                  <a:pt x="137" y="421"/>
                  <a:pt x="137" y="421"/>
                </a:cubicBezTo>
                <a:cubicBezTo>
                  <a:pt x="137" y="420"/>
                  <a:pt x="137" y="420"/>
                  <a:pt x="137" y="420"/>
                </a:cubicBezTo>
                <a:lnTo>
                  <a:pt x="137" y="419"/>
                </a:lnTo>
                <a:cubicBezTo>
                  <a:pt x="137" y="419"/>
                  <a:pt x="137" y="419"/>
                  <a:pt x="137" y="419"/>
                </a:cubicBezTo>
                <a:cubicBezTo>
                  <a:pt x="137" y="419"/>
                  <a:pt x="137" y="419"/>
                  <a:pt x="137" y="419"/>
                </a:cubicBezTo>
                <a:cubicBezTo>
                  <a:pt x="139" y="419"/>
                  <a:pt x="140" y="419"/>
                  <a:pt x="141" y="419"/>
                </a:cubicBezTo>
                <a:cubicBezTo>
                  <a:pt x="144" y="419"/>
                  <a:pt x="145" y="420"/>
                  <a:pt x="145" y="422"/>
                </a:cubicBezTo>
                <a:cubicBezTo>
                  <a:pt x="145" y="423"/>
                  <a:pt x="143" y="424"/>
                  <a:pt x="141" y="424"/>
                </a:cubicBezTo>
                <a:close/>
                <a:moveTo>
                  <a:pt x="138" y="420"/>
                </a:moveTo>
                <a:cubicBezTo>
                  <a:pt x="138" y="420"/>
                  <a:pt x="138" y="420"/>
                  <a:pt x="138" y="420"/>
                </a:cubicBezTo>
                <a:cubicBezTo>
                  <a:pt x="138" y="420"/>
                  <a:pt x="138" y="420"/>
                  <a:pt x="139" y="420"/>
                </a:cubicBezTo>
                <a:cubicBezTo>
                  <a:pt x="138" y="420"/>
                  <a:pt x="138" y="420"/>
                  <a:pt x="138" y="420"/>
                </a:cubicBezTo>
                <a:close/>
                <a:moveTo>
                  <a:pt x="213" y="447"/>
                </a:moveTo>
                <a:cubicBezTo>
                  <a:pt x="207" y="449"/>
                  <a:pt x="202" y="451"/>
                  <a:pt x="197" y="452"/>
                </a:cubicBezTo>
                <a:cubicBezTo>
                  <a:pt x="194" y="453"/>
                  <a:pt x="191" y="454"/>
                  <a:pt x="188" y="455"/>
                </a:cubicBezTo>
                <a:cubicBezTo>
                  <a:pt x="183" y="457"/>
                  <a:pt x="177" y="459"/>
                  <a:pt x="171" y="459"/>
                </a:cubicBezTo>
                <a:cubicBezTo>
                  <a:pt x="166" y="460"/>
                  <a:pt x="162" y="460"/>
                  <a:pt x="157" y="461"/>
                </a:cubicBezTo>
                <a:cubicBezTo>
                  <a:pt x="142" y="462"/>
                  <a:pt x="128" y="464"/>
                  <a:pt x="113" y="464"/>
                </a:cubicBezTo>
                <a:cubicBezTo>
                  <a:pt x="104" y="464"/>
                  <a:pt x="97" y="463"/>
                  <a:pt x="89" y="462"/>
                </a:cubicBezTo>
                <a:cubicBezTo>
                  <a:pt x="82" y="462"/>
                  <a:pt x="75" y="460"/>
                  <a:pt x="68" y="458"/>
                </a:cubicBezTo>
                <a:cubicBezTo>
                  <a:pt x="57" y="454"/>
                  <a:pt x="43" y="445"/>
                  <a:pt x="41" y="438"/>
                </a:cubicBezTo>
                <a:cubicBezTo>
                  <a:pt x="38" y="432"/>
                  <a:pt x="44" y="420"/>
                  <a:pt x="50" y="415"/>
                </a:cubicBezTo>
                <a:cubicBezTo>
                  <a:pt x="54" y="412"/>
                  <a:pt x="58" y="410"/>
                  <a:pt x="62" y="408"/>
                </a:cubicBezTo>
                <a:cubicBezTo>
                  <a:pt x="66" y="406"/>
                  <a:pt x="69" y="404"/>
                  <a:pt x="73" y="401"/>
                </a:cubicBezTo>
                <a:cubicBezTo>
                  <a:pt x="79" y="398"/>
                  <a:pt x="85" y="394"/>
                  <a:pt x="92" y="392"/>
                </a:cubicBezTo>
                <a:cubicBezTo>
                  <a:pt x="94" y="392"/>
                  <a:pt x="96" y="391"/>
                  <a:pt x="98" y="390"/>
                </a:cubicBezTo>
                <a:cubicBezTo>
                  <a:pt x="102" y="390"/>
                  <a:pt x="105" y="388"/>
                  <a:pt x="109" y="388"/>
                </a:cubicBezTo>
                <a:cubicBezTo>
                  <a:pt x="128" y="385"/>
                  <a:pt x="143" y="384"/>
                  <a:pt x="157" y="384"/>
                </a:cubicBezTo>
                <a:cubicBezTo>
                  <a:pt x="163" y="384"/>
                  <a:pt x="170" y="384"/>
                  <a:pt x="176" y="385"/>
                </a:cubicBezTo>
                <a:cubicBezTo>
                  <a:pt x="187" y="386"/>
                  <a:pt x="199" y="387"/>
                  <a:pt x="211" y="391"/>
                </a:cubicBezTo>
                <a:cubicBezTo>
                  <a:pt x="224" y="394"/>
                  <a:pt x="236" y="402"/>
                  <a:pt x="239" y="406"/>
                </a:cubicBezTo>
                <a:cubicBezTo>
                  <a:pt x="242" y="409"/>
                  <a:pt x="245" y="421"/>
                  <a:pt x="240" y="428"/>
                </a:cubicBezTo>
                <a:cubicBezTo>
                  <a:pt x="235" y="435"/>
                  <a:pt x="222" y="443"/>
                  <a:pt x="213" y="447"/>
                </a:cubicBezTo>
                <a:close/>
                <a:moveTo>
                  <a:pt x="177" y="411"/>
                </a:moveTo>
                <a:cubicBezTo>
                  <a:pt x="175" y="410"/>
                  <a:pt x="172" y="409"/>
                  <a:pt x="169" y="408"/>
                </a:cubicBezTo>
                <a:cubicBezTo>
                  <a:pt x="165" y="407"/>
                  <a:pt x="161" y="406"/>
                  <a:pt x="157" y="406"/>
                </a:cubicBezTo>
                <a:cubicBezTo>
                  <a:pt x="154" y="406"/>
                  <a:pt x="151" y="405"/>
                  <a:pt x="148" y="405"/>
                </a:cubicBezTo>
                <a:cubicBezTo>
                  <a:pt x="141" y="405"/>
                  <a:pt x="135" y="406"/>
                  <a:pt x="128" y="407"/>
                </a:cubicBezTo>
                <a:cubicBezTo>
                  <a:pt x="127" y="407"/>
                  <a:pt x="127" y="407"/>
                  <a:pt x="126" y="408"/>
                </a:cubicBezTo>
                <a:cubicBezTo>
                  <a:pt x="125" y="408"/>
                  <a:pt x="123" y="408"/>
                  <a:pt x="123" y="408"/>
                </a:cubicBezTo>
                <a:cubicBezTo>
                  <a:pt x="123" y="408"/>
                  <a:pt x="122" y="408"/>
                  <a:pt x="122" y="408"/>
                </a:cubicBezTo>
                <a:cubicBezTo>
                  <a:pt x="115" y="410"/>
                  <a:pt x="107" y="412"/>
                  <a:pt x="103" y="418"/>
                </a:cubicBezTo>
                <a:cubicBezTo>
                  <a:pt x="102" y="420"/>
                  <a:pt x="101" y="422"/>
                  <a:pt x="102" y="424"/>
                </a:cubicBezTo>
                <a:cubicBezTo>
                  <a:pt x="102" y="425"/>
                  <a:pt x="103" y="426"/>
                  <a:pt x="104" y="427"/>
                </a:cubicBezTo>
                <a:cubicBezTo>
                  <a:pt x="105" y="429"/>
                  <a:pt x="110" y="433"/>
                  <a:pt x="116" y="434"/>
                </a:cubicBezTo>
                <a:cubicBezTo>
                  <a:pt x="120" y="435"/>
                  <a:pt x="123" y="435"/>
                  <a:pt x="127" y="436"/>
                </a:cubicBezTo>
                <a:cubicBezTo>
                  <a:pt x="128" y="436"/>
                  <a:pt x="129" y="436"/>
                  <a:pt x="130" y="436"/>
                </a:cubicBezTo>
                <a:cubicBezTo>
                  <a:pt x="137" y="436"/>
                  <a:pt x="144" y="436"/>
                  <a:pt x="150" y="434"/>
                </a:cubicBezTo>
                <a:cubicBezTo>
                  <a:pt x="152" y="434"/>
                  <a:pt x="155" y="433"/>
                  <a:pt x="158" y="433"/>
                </a:cubicBezTo>
                <a:cubicBezTo>
                  <a:pt x="165" y="431"/>
                  <a:pt x="172" y="430"/>
                  <a:pt x="178" y="426"/>
                </a:cubicBezTo>
                <a:cubicBezTo>
                  <a:pt x="180" y="424"/>
                  <a:pt x="182" y="422"/>
                  <a:pt x="182" y="419"/>
                </a:cubicBezTo>
                <a:cubicBezTo>
                  <a:pt x="182" y="418"/>
                  <a:pt x="182" y="418"/>
                  <a:pt x="182" y="417"/>
                </a:cubicBezTo>
                <a:cubicBezTo>
                  <a:pt x="181" y="415"/>
                  <a:pt x="180" y="413"/>
                  <a:pt x="177" y="411"/>
                </a:cubicBezTo>
                <a:close/>
                <a:moveTo>
                  <a:pt x="80" y="319"/>
                </a:moveTo>
                <a:cubicBezTo>
                  <a:pt x="81" y="322"/>
                  <a:pt x="79" y="326"/>
                  <a:pt x="78" y="327"/>
                </a:cubicBezTo>
                <a:cubicBezTo>
                  <a:pt x="77" y="327"/>
                  <a:pt x="77" y="327"/>
                  <a:pt x="76" y="328"/>
                </a:cubicBezTo>
                <a:cubicBezTo>
                  <a:pt x="75" y="328"/>
                  <a:pt x="74" y="329"/>
                  <a:pt x="74" y="330"/>
                </a:cubicBezTo>
                <a:cubicBezTo>
                  <a:pt x="74" y="329"/>
                  <a:pt x="74" y="328"/>
                  <a:pt x="75" y="328"/>
                </a:cubicBezTo>
                <a:cubicBezTo>
                  <a:pt x="77" y="326"/>
                  <a:pt x="80" y="322"/>
                  <a:pt x="80" y="319"/>
                </a:cubicBezTo>
                <a:cubicBezTo>
                  <a:pt x="80" y="317"/>
                  <a:pt x="79" y="315"/>
                  <a:pt x="77" y="314"/>
                </a:cubicBezTo>
                <a:cubicBezTo>
                  <a:pt x="75" y="311"/>
                  <a:pt x="72" y="309"/>
                  <a:pt x="69" y="307"/>
                </a:cubicBezTo>
                <a:cubicBezTo>
                  <a:pt x="65" y="302"/>
                  <a:pt x="62" y="292"/>
                  <a:pt x="62" y="285"/>
                </a:cubicBezTo>
                <a:cubicBezTo>
                  <a:pt x="62" y="280"/>
                  <a:pt x="59" y="276"/>
                  <a:pt x="55" y="277"/>
                </a:cubicBezTo>
                <a:cubicBezTo>
                  <a:pt x="59" y="276"/>
                  <a:pt x="62" y="280"/>
                  <a:pt x="62" y="285"/>
                </a:cubicBezTo>
                <a:cubicBezTo>
                  <a:pt x="62" y="292"/>
                  <a:pt x="65" y="302"/>
                  <a:pt x="69" y="307"/>
                </a:cubicBezTo>
                <a:cubicBezTo>
                  <a:pt x="72" y="309"/>
                  <a:pt x="75" y="311"/>
                  <a:pt x="77" y="314"/>
                </a:cubicBezTo>
                <a:cubicBezTo>
                  <a:pt x="79" y="315"/>
                  <a:pt x="80" y="317"/>
                  <a:pt x="80" y="319"/>
                </a:cubicBezTo>
                <a:cubicBezTo>
                  <a:pt x="80" y="322"/>
                  <a:pt x="77" y="326"/>
                  <a:pt x="75" y="328"/>
                </a:cubicBezTo>
                <a:cubicBezTo>
                  <a:pt x="74" y="328"/>
                  <a:pt x="74" y="329"/>
                  <a:pt x="74" y="330"/>
                </a:cubicBezTo>
                <a:cubicBezTo>
                  <a:pt x="74" y="330"/>
                  <a:pt x="74" y="330"/>
                  <a:pt x="74" y="330"/>
                </a:cubicBezTo>
                <a:cubicBezTo>
                  <a:pt x="74" y="330"/>
                  <a:pt x="74" y="330"/>
                  <a:pt x="74" y="330"/>
                </a:cubicBezTo>
                <a:cubicBezTo>
                  <a:pt x="74" y="330"/>
                  <a:pt x="74" y="330"/>
                  <a:pt x="73" y="330"/>
                </a:cubicBezTo>
                <a:cubicBezTo>
                  <a:pt x="73" y="331"/>
                  <a:pt x="73" y="332"/>
                  <a:pt x="73" y="333"/>
                </a:cubicBezTo>
                <a:cubicBezTo>
                  <a:pt x="73" y="334"/>
                  <a:pt x="73" y="335"/>
                  <a:pt x="73" y="336"/>
                </a:cubicBezTo>
                <a:cubicBezTo>
                  <a:pt x="73" y="337"/>
                  <a:pt x="73" y="339"/>
                  <a:pt x="73" y="340"/>
                </a:cubicBezTo>
                <a:cubicBezTo>
                  <a:pt x="73" y="344"/>
                  <a:pt x="74" y="348"/>
                  <a:pt x="73" y="352"/>
                </a:cubicBezTo>
                <a:cubicBezTo>
                  <a:pt x="73" y="356"/>
                  <a:pt x="72" y="360"/>
                  <a:pt x="71" y="364"/>
                </a:cubicBezTo>
                <a:cubicBezTo>
                  <a:pt x="70" y="367"/>
                  <a:pt x="69" y="369"/>
                  <a:pt x="69" y="372"/>
                </a:cubicBezTo>
                <a:cubicBezTo>
                  <a:pt x="68" y="377"/>
                  <a:pt x="70" y="382"/>
                  <a:pt x="71" y="385"/>
                </a:cubicBezTo>
                <a:cubicBezTo>
                  <a:pt x="72" y="386"/>
                  <a:pt x="73" y="388"/>
                  <a:pt x="74" y="390"/>
                </a:cubicBezTo>
                <a:cubicBezTo>
                  <a:pt x="76" y="393"/>
                  <a:pt x="72" y="399"/>
                  <a:pt x="68" y="402"/>
                </a:cubicBezTo>
                <a:cubicBezTo>
                  <a:pt x="66" y="403"/>
                  <a:pt x="63" y="404"/>
                  <a:pt x="61" y="406"/>
                </a:cubicBezTo>
                <a:cubicBezTo>
                  <a:pt x="59" y="406"/>
                  <a:pt x="58" y="407"/>
                  <a:pt x="57" y="408"/>
                </a:cubicBezTo>
                <a:cubicBezTo>
                  <a:pt x="54" y="409"/>
                  <a:pt x="51" y="412"/>
                  <a:pt x="48" y="414"/>
                </a:cubicBezTo>
                <a:cubicBezTo>
                  <a:pt x="46" y="415"/>
                  <a:pt x="45" y="417"/>
                  <a:pt x="43" y="418"/>
                </a:cubicBezTo>
                <a:lnTo>
                  <a:pt x="42" y="419"/>
                </a:lnTo>
                <a:cubicBezTo>
                  <a:pt x="42" y="419"/>
                  <a:pt x="41" y="419"/>
                  <a:pt x="42" y="418"/>
                </a:cubicBezTo>
                <a:cubicBezTo>
                  <a:pt x="42" y="418"/>
                  <a:pt x="42" y="418"/>
                  <a:pt x="42" y="418"/>
                </a:cubicBezTo>
                <a:cubicBezTo>
                  <a:pt x="43" y="415"/>
                  <a:pt x="44" y="413"/>
                  <a:pt x="45" y="411"/>
                </a:cubicBezTo>
                <a:cubicBezTo>
                  <a:pt x="45" y="411"/>
                  <a:pt x="46" y="410"/>
                  <a:pt x="46" y="409"/>
                </a:cubicBezTo>
                <a:cubicBezTo>
                  <a:pt x="46" y="409"/>
                  <a:pt x="47" y="408"/>
                  <a:pt x="47" y="407"/>
                </a:cubicBezTo>
                <a:cubicBezTo>
                  <a:pt x="47" y="407"/>
                  <a:pt x="47" y="406"/>
                  <a:pt x="48" y="405"/>
                </a:cubicBezTo>
                <a:cubicBezTo>
                  <a:pt x="48" y="405"/>
                  <a:pt x="48" y="405"/>
                  <a:pt x="48" y="405"/>
                </a:cubicBezTo>
                <a:cubicBezTo>
                  <a:pt x="48" y="404"/>
                  <a:pt x="48" y="402"/>
                  <a:pt x="48" y="401"/>
                </a:cubicBezTo>
                <a:cubicBezTo>
                  <a:pt x="48" y="400"/>
                  <a:pt x="48" y="400"/>
                  <a:pt x="48" y="399"/>
                </a:cubicBezTo>
                <a:cubicBezTo>
                  <a:pt x="48" y="396"/>
                  <a:pt x="48" y="394"/>
                  <a:pt x="48" y="391"/>
                </a:cubicBezTo>
                <a:cubicBezTo>
                  <a:pt x="48" y="389"/>
                  <a:pt x="47" y="386"/>
                  <a:pt x="47" y="384"/>
                </a:cubicBezTo>
                <a:cubicBezTo>
                  <a:pt x="47" y="381"/>
                  <a:pt x="49" y="372"/>
                  <a:pt x="47" y="365"/>
                </a:cubicBezTo>
                <a:cubicBezTo>
                  <a:pt x="47" y="360"/>
                  <a:pt x="45" y="356"/>
                  <a:pt x="44" y="352"/>
                </a:cubicBezTo>
                <a:cubicBezTo>
                  <a:pt x="44" y="351"/>
                  <a:pt x="44" y="351"/>
                  <a:pt x="43" y="350"/>
                </a:cubicBezTo>
                <a:cubicBezTo>
                  <a:pt x="43" y="349"/>
                  <a:pt x="43" y="348"/>
                  <a:pt x="43" y="348"/>
                </a:cubicBezTo>
                <a:cubicBezTo>
                  <a:pt x="43" y="348"/>
                  <a:pt x="43" y="348"/>
                  <a:pt x="43" y="348"/>
                </a:cubicBezTo>
                <a:cubicBezTo>
                  <a:pt x="43" y="344"/>
                  <a:pt x="42" y="340"/>
                  <a:pt x="41" y="337"/>
                </a:cubicBezTo>
                <a:cubicBezTo>
                  <a:pt x="41" y="335"/>
                  <a:pt x="40" y="333"/>
                  <a:pt x="38" y="331"/>
                </a:cubicBezTo>
                <a:cubicBezTo>
                  <a:pt x="38" y="331"/>
                  <a:pt x="37" y="330"/>
                  <a:pt x="37" y="329"/>
                </a:cubicBezTo>
                <a:cubicBezTo>
                  <a:pt x="36" y="328"/>
                  <a:pt x="33" y="326"/>
                  <a:pt x="33" y="325"/>
                </a:cubicBezTo>
                <a:cubicBezTo>
                  <a:pt x="33" y="325"/>
                  <a:pt x="33" y="325"/>
                  <a:pt x="33" y="325"/>
                </a:cubicBezTo>
                <a:cubicBezTo>
                  <a:pt x="33" y="324"/>
                  <a:pt x="34" y="323"/>
                  <a:pt x="34" y="322"/>
                </a:cubicBezTo>
                <a:cubicBezTo>
                  <a:pt x="34" y="321"/>
                  <a:pt x="35" y="320"/>
                  <a:pt x="35" y="320"/>
                </a:cubicBezTo>
                <a:cubicBezTo>
                  <a:pt x="35" y="318"/>
                  <a:pt x="35" y="317"/>
                  <a:pt x="36" y="317"/>
                </a:cubicBezTo>
                <a:cubicBezTo>
                  <a:pt x="36" y="317"/>
                  <a:pt x="36" y="317"/>
                  <a:pt x="36" y="317"/>
                </a:cubicBezTo>
                <a:cubicBezTo>
                  <a:pt x="37" y="316"/>
                  <a:pt x="39" y="316"/>
                  <a:pt x="40" y="315"/>
                </a:cubicBezTo>
                <a:cubicBezTo>
                  <a:pt x="40" y="314"/>
                  <a:pt x="40" y="314"/>
                  <a:pt x="40" y="314"/>
                </a:cubicBezTo>
                <a:cubicBezTo>
                  <a:pt x="41" y="314"/>
                  <a:pt x="41" y="313"/>
                  <a:pt x="41" y="313"/>
                </a:cubicBezTo>
                <a:cubicBezTo>
                  <a:pt x="41" y="313"/>
                  <a:pt x="41" y="312"/>
                  <a:pt x="41" y="312"/>
                </a:cubicBezTo>
                <a:cubicBezTo>
                  <a:pt x="42" y="312"/>
                  <a:pt x="42" y="311"/>
                  <a:pt x="42" y="311"/>
                </a:cubicBezTo>
                <a:lnTo>
                  <a:pt x="42" y="308"/>
                </a:lnTo>
                <a:cubicBezTo>
                  <a:pt x="41" y="305"/>
                  <a:pt x="41" y="302"/>
                  <a:pt x="41" y="298"/>
                </a:cubicBezTo>
                <a:cubicBezTo>
                  <a:pt x="41" y="293"/>
                  <a:pt x="44" y="282"/>
                  <a:pt x="50" y="278"/>
                </a:cubicBezTo>
                <a:cubicBezTo>
                  <a:pt x="55" y="275"/>
                  <a:pt x="60" y="273"/>
                  <a:pt x="64" y="273"/>
                </a:cubicBezTo>
                <a:lnTo>
                  <a:pt x="64" y="273"/>
                </a:lnTo>
                <a:cubicBezTo>
                  <a:pt x="64" y="272"/>
                  <a:pt x="64" y="273"/>
                  <a:pt x="64" y="273"/>
                </a:cubicBezTo>
                <a:cubicBezTo>
                  <a:pt x="64" y="273"/>
                  <a:pt x="64" y="273"/>
                  <a:pt x="64" y="273"/>
                </a:cubicBezTo>
                <a:cubicBezTo>
                  <a:pt x="64" y="277"/>
                  <a:pt x="63" y="281"/>
                  <a:pt x="63" y="285"/>
                </a:cubicBezTo>
                <a:cubicBezTo>
                  <a:pt x="62" y="292"/>
                  <a:pt x="65" y="301"/>
                  <a:pt x="68" y="304"/>
                </a:cubicBezTo>
                <a:cubicBezTo>
                  <a:pt x="70" y="306"/>
                  <a:pt x="72" y="308"/>
                  <a:pt x="73" y="309"/>
                </a:cubicBezTo>
                <a:cubicBezTo>
                  <a:pt x="75" y="311"/>
                  <a:pt x="76" y="312"/>
                  <a:pt x="78" y="314"/>
                </a:cubicBezTo>
                <a:cubicBezTo>
                  <a:pt x="79" y="315"/>
                  <a:pt x="80" y="317"/>
                  <a:pt x="80" y="319"/>
                </a:cubicBezTo>
                <a:close/>
                <a:moveTo>
                  <a:pt x="51" y="279"/>
                </a:moveTo>
                <a:cubicBezTo>
                  <a:pt x="45" y="283"/>
                  <a:pt x="42" y="293"/>
                  <a:pt x="42" y="298"/>
                </a:cubicBezTo>
                <a:cubicBezTo>
                  <a:pt x="42" y="302"/>
                  <a:pt x="42" y="305"/>
                  <a:pt x="43" y="308"/>
                </a:cubicBezTo>
                <a:lnTo>
                  <a:pt x="43" y="311"/>
                </a:lnTo>
                <a:cubicBezTo>
                  <a:pt x="43" y="313"/>
                  <a:pt x="42" y="314"/>
                  <a:pt x="41" y="315"/>
                </a:cubicBezTo>
                <a:cubicBezTo>
                  <a:pt x="40" y="316"/>
                  <a:pt x="39" y="317"/>
                  <a:pt x="38" y="318"/>
                </a:cubicBezTo>
                <a:cubicBezTo>
                  <a:pt x="38" y="318"/>
                  <a:pt x="38" y="318"/>
                  <a:pt x="38" y="318"/>
                </a:cubicBezTo>
                <a:cubicBezTo>
                  <a:pt x="39" y="317"/>
                  <a:pt x="40" y="316"/>
                  <a:pt x="41" y="315"/>
                </a:cubicBezTo>
                <a:cubicBezTo>
                  <a:pt x="42" y="314"/>
                  <a:pt x="45" y="313"/>
                  <a:pt x="45" y="311"/>
                </a:cubicBezTo>
                <a:lnTo>
                  <a:pt x="45" y="308"/>
                </a:lnTo>
                <a:cubicBezTo>
                  <a:pt x="45" y="305"/>
                  <a:pt x="43" y="302"/>
                  <a:pt x="43" y="298"/>
                </a:cubicBezTo>
                <a:cubicBezTo>
                  <a:pt x="43" y="293"/>
                  <a:pt x="45" y="283"/>
                  <a:pt x="51" y="279"/>
                </a:cubicBezTo>
                <a:cubicBezTo>
                  <a:pt x="53" y="278"/>
                  <a:pt x="54" y="277"/>
                  <a:pt x="55" y="277"/>
                </a:cubicBezTo>
                <a:cubicBezTo>
                  <a:pt x="54" y="277"/>
                  <a:pt x="53" y="278"/>
                  <a:pt x="51" y="279"/>
                </a:cubicBezTo>
                <a:close/>
                <a:moveTo>
                  <a:pt x="46" y="415"/>
                </a:moveTo>
                <a:cubicBezTo>
                  <a:pt x="46" y="414"/>
                  <a:pt x="46" y="414"/>
                  <a:pt x="46" y="414"/>
                </a:cubicBezTo>
                <a:cubicBezTo>
                  <a:pt x="45" y="414"/>
                  <a:pt x="45" y="414"/>
                  <a:pt x="45" y="414"/>
                </a:cubicBezTo>
                <a:cubicBezTo>
                  <a:pt x="45" y="415"/>
                  <a:pt x="45" y="415"/>
                  <a:pt x="46" y="415"/>
                </a:cubicBezTo>
                <a:close/>
                <a:moveTo>
                  <a:pt x="48" y="385"/>
                </a:moveTo>
                <a:cubicBezTo>
                  <a:pt x="48" y="384"/>
                  <a:pt x="48" y="384"/>
                  <a:pt x="48" y="383"/>
                </a:cubicBezTo>
                <a:cubicBezTo>
                  <a:pt x="48" y="384"/>
                  <a:pt x="48" y="384"/>
                  <a:pt x="48" y="384"/>
                </a:cubicBezTo>
                <a:cubicBezTo>
                  <a:pt x="48" y="384"/>
                  <a:pt x="48" y="385"/>
                  <a:pt x="48" y="385"/>
                </a:cubicBezTo>
                <a:close/>
                <a:moveTo>
                  <a:pt x="44" y="347"/>
                </a:moveTo>
                <a:lnTo>
                  <a:pt x="44" y="348"/>
                </a:lnTo>
                <a:cubicBezTo>
                  <a:pt x="44" y="348"/>
                  <a:pt x="44" y="349"/>
                  <a:pt x="45" y="350"/>
                </a:cubicBezTo>
                <a:cubicBezTo>
                  <a:pt x="45" y="351"/>
                  <a:pt x="45" y="351"/>
                  <a:pt x="45" y="352"/>
                </a:cubicBezTo>
                <a:cubicBezTo>
                  <a:pt x="45" y="353"/>
                  <a:pt x="46" y="354"/>
                  <a:pt x="46" y="355"/>
                </a:cubicBezTo>
                <a:cubicBezTo>
                  <a:pt x="45" y="351"/>
                  <a:pt x="44" y="347"/>
                  <a:pt x="44" y="344"/>
                </a:cubicBezTo>
                <a:cubicBezTo>
                  <a:pt x="44" y="345"/>
                  <a:pt x="44" y="346"/>
                  <a:pt x="44" y="347"/>
                </a:cubicBezTo>
                <a:close/>
                <a:moveTo>
                  <a:pt x="35" y="321"/>
                </a:moveTo>
                <a:cubicBezTo>
                  <a:pt x="35" y="321"/>
                  <a:pt x="35" y="321"/>
                  <a:pt x="35" y="320"/>
                </a:cubicBezTo>
                <a:cubicBezTo>
                  <a:pt x="35" y="320"/>
                  <a:pt x="35" y="320"/>
                  <a:pt x="35" y="320"/>
                </a:cubicBezTo>
                <a:cubicBezTo>
                  <a:pt x="35" y="320"/>
                  <a:pt x="35" y="321"/>
                  <a:pt x="35" y="321"/>
                </a:cubicBezTo>
                <a:close/>
                <a:moveTo>
                  <a:pt x="74" y="330"/>
                </a:moveTo>
                <a:cubicBezTo>
                  <a:pt x="74" y="330"/>
                  <a:pt x="74" y="330"/>
                  <a:pt x="74" y="330"/>
                </a:cubicBezTo>
                <a:cubicBezTo>
                  <a:pt x="74" y="330"/>
                  <a:pt x="74" y="330"/>
                  <a:pt x="74" y="330"/>
                </a:cubicBezTo>
                <a:cubicBezTo>
                  <a:pt x="74" y="330"/>
                  <a:pt x="74" y="330"/>
                  <a:pt x="74" y="330"/>
                </a:cubicBezTo>
                <a:close/>
                <a:moveTo>
                  <a:pt x="112" y="311"/>
                </a:moveTo>
                <a:cubicBezTo>
                  <a:pt x="114" y="311"/>
                  <a:pt x="117" y="311"/>
                  <a:pt x="119" y="311"/>
                </a:cubicBezTo>
                <a:cubicBezTo>
                  <a:pt x="121" y="311"/>
                  <a:pt x="123" y="311"/>
                  <a:pt x="125" y="311"/>
                </a:cubicBezTo>
                <a:cubicBezTo>
                  <a:pt x="128" y="311"/>
                  <a:pt x="131" y="311"/>
                  <a:pt x="134" y="311"/>
                </a:cubicBezTo>
                <a:cubicBezTo>
                  <a:pt x="139" y="311"/>
                  <a:pt x="149" y="312"/>
                  <a:pt x="157" y="313"/>
                </a:cubicBezTo>
                <a:cubicBezTo>
                  <a:pt x="161" y="314"/>
                  <a:pt x="166" y="314"/>
                  <a:pt x="170" y="315"/>
                </a:cubicBezTo>
                <a:cubicBezTo>
                  <a:pt x="170" y="315"/>
                  <a:pt x="170" y="315"/>
                  <a:pt x="170" y="315"/>
                </a:cubicBezTo>
                <a:cubicBezTo>
                  <a:pt x="171" y="315"/>
                  <a:pt x="171" y="315"/>
                  <a:pt x="172" y="315"/>
                </a:cubicBezTo>
                <a:cubicBezTo>
                  <a:pt x="174" y="315"/>
                  <a:pt x="177" y="315"/>
                  <a:pt x="180" y="316"/>
                </a:cubicBezTo>
                <a:cubicBezTo>
                  <a:pt x="183" y="316"/>
                  <a:pt x="186" y="315"/>
                  <a:pt x="186" y="312"/>
                </a:cubicBezTo>
                <a:cubicBezTo>
                  <a:pt x="187" y="311"/>
                  <a:pt x="189" y="310"/>
                  <a:pt x="188" y="309"/>
                </a:cubicBezTo>
                <a:cubicBezTo>
                  <a:pt x="188" y="307"/>
                  <a:pt x="188" y="305"/>
                  <a:pt x="188" y="303"/>
                </a:cubicBezTo>
                <a:lnTo>
                  <a:pt x="188" y="303"/>
                </a:lnTo>
                <a:cubicBezTo>
                  <a:pt x="188" y="310"/>
                  <a:pt x="182" y="314"/>
                  <a:pt x="174" y="314"/>
                </a:cubicBezTo>
                <a:cubicBezTo>
                  <a:pt x="172" y="314"/>
                  <a:pt x="170" y="314"/>
                  <a:pt x="168" y="314"/>
                </a:cubicBezTo>
                <a:cubicBezTo>
                  <a:pt x="155" y="312"/>
                  <a:pt x="135" y="310"/>
                  <a:pt x="124" y="310"/>
                </a:cubicBezTo>
                <a:cubicBezTo>
                  <a:pt x="118" y="310"/>
                  <a:pt x="113" y="310"/>
                  <a:pt x="108" y="310"/>
                </a:cubicBezTo>
                <a:cubicBezTo>
                  <a:pt x="107" y="310"/>
                  <a:pt x="106" y="309"/>
                  <a:pt x="105" y="309"/>
                </a:cubicBezTo>
                <a:cubicBezTo>
                  <a:pt x="101" y="309"/>
                  <a:pt x="98" y="309"/>
                  <a:pt x="96" y="308"/>
                </a:cubicBezTo>
                <a:cubicBezTo>
                  <a:pt x="96" y="308"/>
                  <a:pt x="97" y="309"/>
                  <a:pt x="98" y="309"/>
                </a:cubicBezTo>
                <a:cubicBezTo>
                  <a:pt x="98" y="309"/>
                  <a:pt x="97" y="309"/>
                  <a:pt x="97" y="309"/>
                </a:cubicBezTo>
                <a:cubicBezTo>
                  <a:pt x="95" y="309"/>
                  <a:pt x="93" y="308"/>
                  <a:pt x="91" y="308"/>
                </a:cubicBezTo>
                <a:cubicBezTo>
                  <a:pt x="91" y="308"/>
                  <a:pt x="91" y="308"/>
                  <a:pt x="90" y="308"/>
                </a:cubicBezTo>
                <a:cubicBezTo>
                  <a:pt x="89" y="308"/>
                  <a:pt x="88" y="307"/>
                  <a:pt x="88" y="307"/>
                </a:cubicBezTo>
                <a:cubicBezTo>
                  <a:pt x="87" y="306"/>
                  <a:pt x="87" y="306"/>
                  <a:pt x="86" y="306"/>
                </a:cubicBezTo>
                <a:cubicBezTo>
                  <a:pt x="83" y="303"/>
                  <a:pt x="80" y="301"/>
                  <a:pt x="78" y="297"/>
                </a:cubicBezTo>
                <a:cubicBezTo>
                  <a:pt x="74" y="292"/>
                  <a:pt x="73" y="281"/>
                  <a:pt x="76" y="276"/>
                </a:cubicBezTo>
                <a:cubicBezTo>
                  <a:pt x="78" y="273"/>
                  <a:pt x="80" y="270"/>
                  <a:pt x="82" y="267"/>
                </a:cubicBezTo>
                <a:cubicBezTo>
                  <a:pt x="82" y="266"/>
                  <a:pt x="83" y="265"/>
                  <a:pt x="84" y="265"/>
                </a:cubicBezTo>
                <a:cubicBezTo>
                  <a:pt x="87" y="260"/>
                  <a:pt x="92" y="257"/>
                  <a:pt x="98" y="254"/>
                </a:cubicBezTo>
                <a:cubicBezTo>
                  <a:pt x="99" y="254"/>
                  <a:pt x="100" y="253"/>
                  <a:pt x="101" y="253"/>
                </a:cubicBezTo>
                <a:cubicBezTo>
                  <a:pt x="120" y="242"/>
                  <a:pt x="139" y="228"/>
                  <a:pt x="157" y="210"/>
                </a:cubicBezTo>
                <a:lnTo>
                  <a:pt x="157" y="209"/>
                </a:lnTo>
                <a:cubicBezTo>
                  <a:pt x="158" y="209"/>
                  <a:pt x="158" y="209"/>
                  <a:pt x="158" y="209"/>
                </a:cubicBezTo>
                <a:cubicBezTo>
                  <a:pt x="158" y="210"/>
                  <a:pt x="158" y="210"/>
                  <a:pt x="158" y="210"/>
                </a:cubicBezTo>
                <a:cubicBezTo>
                  <a:pt x="158" y="212"/>
                  <a:pt x="159" y="214"/>
                  <a:pt x="159" y="216"/>
                </a:cubicBezTo>
                <a:cubicBezTo>
                  <a:pt x="159" y="221"/>
                  <a:pt x="160" y="225"/>
                  <a:pt x="162" y="230"/>
                </a:cubicBezTo>
                <a:cubicBezTo>
                  <a:pt x="166" y="239"/>
                  <a:pt x="168" y="249"/>
                  <a:pt x="171" y="258"/>
                </a:cubicBezTo>
                <a:cubicBezTo>
                  <a:pt x="173" y="266"/>
                  <a:pt x="175" y="274"/>
                  <a:pt x="178" y="281"/>
                </a:cubicBezTo>
                <a:lnTo>
                  <a:pt x="178" y="281"/>
                </a:lnTo>
                <a:cubicBezTo>
                  <a:pt x="180" y="288"/>
                  <a:pt x="182" y="295"/>
                  <a:pt x="184" y="301"/>
                </a:cubicBezTo>
                <a:cubicBezTo>
                  <a:pt x="186" y="306"/>
                  <a:pt x="188" y="312"/>
                  <a:pt x="190" y="317"/>
                </a:cubicBezTo>
                <a:lnTo>
                  <a:pt x="190" y="317"/>
                </a:lnTo>
                <a:cubicBezTo>
                  <a:pt x="190" y="318"/>
                  <a:pt x="190" y="318"/>
                  <a:pt x="190" y="318"/>
                </a:cubicBezTo>
                <a:cubicBezTo>
                  <a:pt x="190" y="318"/>
                  <a:pt x="190" y="318"/>
                  <a:pt x="190" y="318"/>
                </a:cubicBezTo>
                <a:cubicBezTo>
                  <a:pt x="183" y="317"/>
                  <a:pt x="177" y="316"/>
                  <a:pt x="170" y="315"/>
                </a:cubicBezTo>
                <a:cubicBezTo>
                  <a:pt x="169" y="315"/>
                  <a:pt x="168" y="316"/>
                  <a:pt x="167" y="315"/>
                </a:cubicBezTo>
                <a:cubicBezTo>
                  <a:pt x="154" y="313"/>
                  <a:pt x="134" y="313"/>
                  <a:pt x="123" y="313"/>
                </a:cubicBezTo>
                <a:cubicBezTo>
                  <a:pt x="118" y="313"/>
                  <a:pt x="113" y="315"/>
                  <a:pt x="108" y="315"/>
                </a:cubicBezTo>
                <a:cubicBezTo>
                  <a:pt x="108" y="315"/>
                  <a:pt x="108" y="315"/>
                  <a:pt x="107" y="315"/>
                </a:cubicBezTo>
                <a:cubicBezTo>
                  <a:pt x="107" y="315"/>
                  <a:pt x="106" y="312"/>
                  <a:pt x="105" y="312"/>
                </a:cubicBezTo>
                <a:cubicBezTo>
                  <a:pt x="102" y="312"/>
                  <a:pt x="100" y="310"/>
                  <a:pt x="98" y="309"/>
                </a:cubicBezTo>
                <a:cubicBezTo>
                  <a:pt x="101" y="310"/>
                  <a:pt x="105" y="311"/>
                  <a:pt x="107" y="311"/>
                </a:cubicBezTo>
                <a:cubicBezTo>
                  <a:pt x="109" y="311"/>
                  <a:pt x="110" y="311"/>
                  <a:pt x="112" y="311"/>
                </a:cubicBezTo>
                <a:close/>
                <a:moveTo>
                  <a:pt x="87" y="305"/>
                </a:moveTo>
                <a:cubicBezTo>
                  <a:pt x="87" y="305"/>
                  <a:pt x="88" y="305"/>
                  <a:pt x="88" y="306"/>
                </a:cubicBezTo>
                <a:cubicBezTo>
                  <a:pt x="89" y="306"/>
                  <a:pt x="90" y="307"/>
                  <a:pt x="90" y="307"/>
                </a:cubicBezTo>
                <a:cubicBezTo>
                  <a:pt x="91" y="307"/>
                  <a:pt x="91" y="307"/>
                  <a:pt x="92" y="307"/>
                </a:cubicBezTo>
                <a:cubicBezTo>
                  <a:pt x="92" y="307"/>
                  <a:pt x="92" y="307"/>
                  <a:pt x="92" y="307"/>
                </a:cubicBezTo>
                <a:cubicBezTo>
                  <a:pt x="90" y="306"/>
                  <a:pt x="88" y="305"/>
                  <a:pt x="86" y="304"/>
                </a:cubicBezTo>
                <a:cubicBezTo>
                  <a:pt x="86" y="304"/>
                  <a:pt x="87" y="305"/>
                  <a:pt x="87" y="305"/>
                </a:cubicBezTo>
                <a:close/>
                <a:moveTo>
                  <a:pt x="158" y="216"/>
                </a:moveTo>
                <a:cubicBezTo>
                  <a:pt x="158" y="215"/>
                  <a:pt x="157" y="214"/>
                  <a:pt x="157" y="214"/>
                </a:cubicBezTo>
                <a:cubicBezTo>
                  <a:pt x="157" y="213"/>
                  <a:pt x="153" y="216"/>
                  <a:pt x="147" y="221"/>
                </a:cubicBezTo>
                <a:cubicBezTo>
                  <a:pt x="152" y="218"/>
                  <a:pt x="156" y="216"/>
                  <a:pt x="158" y="218"/>
                </a:cubicBezTo>
                <a:cubicBezTo>
                  <a:pt x="158" y="218"/>
                  <a:pt x="158" y="217"/>
                  <a:pt x="158" y="216"/>
                </a:cubicBezTo>
                <a:close/>
                <a:moveTo>
                  <a:pt x="459" y="310"/>
                </a:moveTo>
                <a:cubicBezTo>
                  <a:pt x="459" y="310"/>
                  <a:pt x="460" y="308"/>
                  <a:pt x="460" y="306"/>
                </a:cubicBezTo>
                <a:cubicBezTo>
                  <a:pt x="460" y="308"/>
                  <a:pt x="459" y="309"/>
                  <a:pt x="459" y="311"/>
                </a:cubicBezTo>
                <a:cubicBezTo>
                  <a:pt x="459" y="311"/>
                  <a:pt x="459" y="311"/>
                  <a:pt x="459" y="310"/>
                </a:cubicBezTo>
                <a:close/>
                <a:moveTo>
                  <a:pt x="425" y="351"/>
                </a:moveTo>
                <a:cubicBezTo>
                  <a:pt x="429" y="353"/>
                  <a:pt x="435" y="351"/>
                  <a:pt x="440" y="348"/>
                </a:cubicBezTo>
                <a:cubicBezTo>
                  <a:pt x="435" y="350"/>
                  <a:pt x="427" y="350"/>
                  <a:pt x="419" y="348"/>
                </a:cubicBezTo>
                <a:cubicBezTo>
                  <a:pt x="421" y="349"/>
                  <a:pt x="423" y="350"/>
                  <a:pt x="425" y="351"/>
                </a:cubicBezTo>
                <a:close/>
                <a:moveTo>
                  <a:pt x="424" y="365"/>
                </a:moveTo>
                <a:cubicBezTo>
                  <a:pt x="423" y="365"/>
                  <a:pt x="423" y="365"/>
                  <a:pt x="423" y="365"/>
                </a:cubicBezTo>
                <a:cubicBezTo>
                  <a:pt x="426" y="367"/>
                  <a:pt x="429" y="372"/>
                  <a:pt x="431" y="377"/>
                </a:cubicBezTo>
                <a:cubicBezTo>
                  <a:pt x="429" y="371"/>
                  <a:pt x="427" y="366"/>
                  <a:pt x="424" y="365"/>
                </a:cubicBezTo>
                <a:close/>
                <a:moveTo>
                  <a:pt x="358" y="426"/>
                </a:moveTo>
                <a:cubicBezTo>
                  <a:pt x="360" y="429"/>
                  <a:pt x="364" y="431"/>
                  <a:pt x="368" y="431"/>
                </a:cubicBezTo>
                <a:cubicBezTo>
                  <a:pt x="370" y="431"/>
                  <a:pt x="371" y="431"/>
                  <a:pt x="373" y="431"/>
                </a:cubicBezTo>
                <a:cubicBezTo>
                  <a:pt x="366" y="430"/>
                  <a:pt x="361" y="428"/>
                  <a:pt x="358" y="426"/>
                </a:cubicBezTo>
                <a:cubicBezTo>
                  <a:pt x="358" y="426"/>
                  <a:pt x="358" y="426"/>
                  <a:pt x="358" y="426"/>
                </a:cubicBezTo>
                <a:close/>
                <a:moveTo>
                  <a:pt x="345" y="439"/>
                </a:moveTo>
                <a:cubicBezTo>
                  <a:pt x="346" y="439"/>
                  <a:pt x="346" y="439"/>
                  <a:pt x="347" y="439"/>
                </a:cubicBezTo>
                <a:cubicBezTo>
                  <a:pt x="348" y="439"/>
                  <a:pt x="347" y="437"/>
                  <a:pt x="347" y="435"/>
                </a:cubicBezTo>
                <a:cubicBezTo>
                  <a:pt x="347" y="437"/>
                  <a:pt x="346" y="439"/>
                  <a:pt x="345" y="439"/>
                </a:cubicBezTo>
                <a:cubicBezTo>
                  <a:pt x="345" y="440"/>
                  <a:pt x="345" y="440"/>
                  <a:pt x="345" y="439"/>
                </a:cubicBezTo>
                <a:close/>
                <a:moveTo>
                  <a:pt x="317" y="14"/>
                </a:moveTo>
                <a:cubicBezTo>
                  <a:pt x="314" y="14"/>
                  <a:pt x="311" y="14"/>
                  <a:pt x="309" y="14"/>
                </a:cubicBezTo>
                <a:cubicBezTo>
                  <a:pt x="308" y="14"/>
                  <a:pt x="307" y="14"/>
                  <a:pt x="306" y="14"/>
                </a:cubicBezTo>
                <a:cubicBezTo>
                  <a:pt x="304" y="14"/>
                  <a:pt x="300" y="22"/>
                  <a:pt x="297" y="31"/>
                </a:cubicBezTo>
                <a:cubicBezTo>
                  <a:pt x="302" y="23"/>
                  <a:pt x="311" y="16"/>
                  <a:pt x="319" y="14"/>
                </a:cubicBezTo>
                <a:cubicBezTo>
                  <a:pt x="318" y="14"/>
                  <a:pt x="317" y="14"/>
                  <a:pt x="317" y="14"/>
                </a:cubicBezTo>
                <a:close/>
                <a:moveTo>
                  <a:pt x="391" y="100"/>
                </a:moveTo>
                <a:cubicBezTo>
                  <a:pt x="389" y="102"/>
                  <a:pt x="387" y="103"/>
                  <a:pt x="386" y="105"/>
                </a:cubicBezTo>
                <a:cubicBezTo>
                  <a:pt x="385" y="105"/>
                  <a:pt x="385" y="106"/>
                  <a:pt x="384" y="106"/>
                </a:cubicBezTo>
                <a:cubicBezTo>
                  <a:pt x="391" y="102"/>
                  <a:pt x="399" y="101"/>
                  <a:pt x="405" y="103"/>
                </a:cubicBezTo>
                <a:cubicBezTo>
                  <a:pt x="399" y="99"/>
                  <a:pt x="393" y="98"/>
                  <a:pt x="391" y="100"/>
                </a:cubicBezTo>
                <a:close/>
                <a:moveTo>
                  <a:pt x="434" y="233"/>
                </a:moveTo>
                <a:cubicBezTo>
                  <a:pt x="433" y="233"/>
                  <a:pt x="433" y="233"/>
                  <a:pt x="433" y="233"/>
                </a:cubicBezTo>
                <a:cubicBezTo>
                  <a:pt x="437" y="234"/>
                  <a:pt x="441" y="237"/>
                  <a:pt x="446" y="241"/>
                </a:cubicBezTo>
                <a:cubicBezTo>
                  <a:pt x="441" y="236"/>
                  <a:pt x="437" y="233"/>
                  <a:pt x="434" y="23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77" name="Freeform 166"/>
          <p:cNvSpPr/>
          <p:nvPr/>
        </p:nvSpPr>
        <p:spPr>
          <a:xfrm>
            <a:off x="3213000" y="1455840"/>
            <a:ext cx="208080" cy="133200"/>
          </a:xfrm>
          <a:custGeom>
            <a:avLst/>
            <a:gdLst/>
            <a:ahLst/>
            <a:rect l="l" t="t" r="r" b="b"/>
            <a:pathLst>
              <a:path w="775" h="497">
                <a:moveTo>
                  <a:pt x="42" y="271"/>
                </a:moveTo>
                <a:cubicBezTo>
                  <a:pt x="42" y="188"/>
                  <a:pt x="109" y="121"/>
                  <a:pt x="191" y="121"/>
                </a:cubicBezTo>
                <a:cubicBezTo>
                  <a:pt x="274" y="121"/>
                  <a:pt x="341" y="188"/>
                  <a:pt x="341" y="271"/>
                </a:cubicBezTo>
                <a:cubicBezTo>
                  <a:pt x="341" y="353"/>
                  <a:pt x="274" y="421"/>
                  <a:pt x="191" y="421"/>
                </a:cubicBezTo>
                <a:cubicBezTo>
                  <a:pt x="109" y="421"/>
                  <a:pt x="42" y="353"/>
                  <a:pt x="42" y="271"/>
                </a:cubicBezTo>
                <a:close/>
                <a:moveTo>
                  <a:pt x="710" y="44"/>
                </a:moveTo>
                <a:cubicBezTo>
                  <a:pt x="722" y="44"/>
                  <a:pt x="732" y="54"/>
                  <a:pt x="732" y="67"/>
                </a:cubicBezTo>
                <a:cubicBezTo>
                  <a:pt x="732" y="79"/>
                  <a:pt x="722" y="89"/>
                  <a:pt x="710" y="89"/>
                </a:cubicBezTo>
                <a:cubicBezTo>
                  <a:pt x="698" y="89"/>
                  <a:pt x="688" y="79"/>
                  <a:pt x="688" y="67"/>
                </a:cubicBezTo>
                <a:cubicBezTo>
                  <a:pt x="688" y="54"/>
                  <a:pt x="698" y="44"/>
                  <a:pt x="710" y="44"/>
                </a:cubicBezTo>
                <a:close/>
                <a:moveTo>
                  <a:pt x="69" y="44"/>
                </a:moveTo>
                <a:cubicBezTo>
                  <a:pt x="81" y="44"/>
                  <a:pt x="91" y="54"/>
                  <a:pt x="91" y="67"/>
                </a:cubicBezTo>
                <a:cubicBezTo>
                  <a:pt x="91" y="79"/>
                  <a:pt x="81" y="89"/>
                  <a:pt x="69" y="89"/>
                </a:cubicBezTo>
                <a:cubicBezTo>
                  <a:pt x="57" y="89"/>
                  <a:pt x="47" y="79"/>
                  <a:pt x="47" y="67"/>
                </a:cubicBezTo>
                <a:cubicBezTo>
                  <a:pt x="47" y="54"/>
                  <a:pt x="57" y="44"/>
                  <a:pt x="69" y="44"/>
                </a:cubicBezTo>
                <a:close/>
                <a:moveTo>
                  <a:pt x="217" y="497"/>
                </a:moveTo>
                <a:lnTo>
                  <a:pt x="567" y="497"/>
                </a:lnTo>
                <a:lnTo>
                  <a:pt x="518" y="459"/>
                </a:lnTo>
                <a:lnTo>
                  <a:pt x="266" y="459"/>
                </a:lnTo>
                <a:lnTo>
                  <a:pt x="217" y="497"/>
                </a:lnTo>
                <a:close/>
                <a:moveTo>
                  <a:pt x="708" y="115"/>
                </a:moveTo>
                <a:cubicBezTo>
                  <a:pt x="681" y="115"/>
                  <a:pt x="660" y="93"/>
                  <a:pt x="660" y="66"/>
                </a:cubicBezTo>
                <a:cubicBezTo>
                  <a:pt x="660" y="39"/>
                  <a:pt x="681" y="18"/>
                  <a:pt x="708" y="18"/>
                </a:cubicBezTo>
                <a:cubicBezTo>
                  <a:pt x="735" y="18"/>
                  <a:pt x="757" y="39"/>
                  <a:pt x="757" y="66"/>
                </a:cubicBezTo>
                <a:cubicBezTo>
                  <a:pt x="757" y="93"/>
                  <a:pt x="735" y="115"/>
                  <a:pt x="708" y="115"/>
                </a:cubicBezTo>
                <a:close/>
                <a:moveTo>
                  <a:pt x="583" y="421"/>
                </a:moveTo>
                <a:cubicBezTo>
                  <a:pt x="501" y="421"/>
                  <a:pt x="433" y="353"/>
                  <a:pt x="433" y="271"/>
                </a:cubicBezTo>
                <a:cubicBezTo>
                  <a:pt x="433" y="188"/>
                  <a:pt x="501" y="121"/>
                  <a:pt x="583" y="121"/>
                </a:cubicBezTo>
                <a:cubicBezTo>
                  <a:pt x="666" y="121"/>
                  <a:pt x="733" y="188"/>
                  <a:pt x="733" y="271"/>
                </a:cubicBezTo>
                <a:cubicBezTo>
                  <a:pt x="733" y="353"/>
                  <a:pt x="666" y="421"/>
                  <a:pt x="583" y="421"/>
                </a:cubicBezTo>
                <a:close/>
                <a:moveTo>
                  <a:pt x="471" y="34"/>
                </a:moveTo>
                <a:cubicBezTo>
                  <a:pt x="499" y="34"/>
                  <a:pt x="521" y="57"/>
                  <a:pt x="521" y="84"/>
                </a:cubicBezTo>
                <a:cubicBezTo>
                  <a:pt x="521" y="111"/>
                  <a:pt x="499" y="133"/>
                  <a:pt x="471" y="133"/>
                </a:cubicBezTo>
                <a:cubicBezTo>
                  <a:pt x="444" y="133"/>
                  <a:pt x="422" y="111"/>
                  <a:pt x="422" y="84"/>
                </a:cubicBezTo>
                <a:cubicBezTo>
                  <a:pt x="422" y="57"/>
                  <a:pt x="444" y="34"/>
                  <a:pt x="471" y="34"/>
                </a:cubicBezTo>
                <a:close/>
                <a:moveTo>
                  <a:pt x="708" y="0"/>
                </a:moveTo>
                <a:cubicBezTo>
                  <a:pt x="689" y="0"/>
                  <a:pt x="672" y="7"/>
                  <a:pt x="660" y="19"/>
                </a:cubicBezTo>
                <a:lnTo>
                  <a:pt x="417" y="19"/>
                </a:lnTo>
                <a:cubicBezTo>
                  <a:pt x="410" y="19"/>
                  <a:pt x="404" y="25"/>
                  <a:pt x="404" y="32"/>
                </a:cubicBezTo>
                <a:lnTo>
                  <a:pt x="404" y="447"/>
                </a:lnTo>
                <a:lnTo>
                  <a:pt x="523" y="447"/>
                </a:lnTo>
                <a:lnTo>
                  <a:pt x="555" y="472"/>
                </a:lnTo>
                <a:lnTo>
                  <a:pt x="743" y="472"/>
                </a:lnTo>
                <a:cubicBezTo>
                  <a:pt x="750" y="472"/>
                  <a:pt x="756" y="466"/>
                  <a:pt x="756" y="459"/>
                </a:cubicBezTo>
                <a:lnTo>
                  <a:pt x="756" y="113"/>
                </a:lnTo>
                <a:cubicBezTo>
                  <a:pt x="768" y="101"/>
                  <a:pt x="775" y="85"/>
                  <a:pt x="775" y="67"/>
                </a:cubicBezTo>
                <a:cubicBezTo>
                  <a:pt x="775" y="30"/>
                  <a:pt x="745" y="0"/>
                  <a:pt x="708" y="0"/>
                </a:cubicBezTo>
                <a:close/>
                <a:moveTo>
                  <a:pt x="471" y="120"/>
                </a:moveTo>
                <a:cubicBezTo>
                  <a:pt x="492" y="120"/>
                  <a:pt x="508" y="104"/>
                  <a:pt x="508" y="84"/>
                </a:cubicBezTo>
                <a:cubicBezTo>
                  <a:pt x="508" y="63"/>
                  <a:pt x="492" y="47"/>
                  <a:pt x="471" y="47"/>
                </a:cubicBezTo>
                <a:cubicBezTo>
                  <a:pt x="451" y="47"/>
                  <a:pt x="435" y="63"/>
                  <a:pt x="435" y="84"/>
                </a:cubicBezTo>
                <a:cubicBezTo>
                  <a:pt x="435" y="104"/>
                  <a:pt x="451" y="120"/>
                  <a:pt x="471" y="120"/>
                </a:cubicBezTo>
                <a:close/>
                <a:moveTo>
                  <a:pt x="584" y="299"/>
                </a:moveTo>
                <a:cubicBezTo>
                  <a:pt x="568" y="299"/>
                  <a:pt x="555" y="286"/>
                  <a:pt x="555" y="270"/>
                </a:cubicBezTo>
                <a:cubicBezTo>
                  <a:pt x="555" y="254"/>
                  <a:pt x="568" y="241"/>
                  <a:pt x="584" y="241"/>
                </a:cubicBezTo>
                <a:cubicBezTo>
                  <a:pt x="600" y="241"/>
                  <a:pt x="613" y="254"/>
                  <a:pt x="613" y="270"/>
                </a:cubicBezTo>
                <a:cubicBezTo>
                  <a:pt x="613" y="286"/>
                  <a:pt x="600" y="299"/>
                  <a:pt x="584" y="299"/>
                </a:cubicBezTo>
                <a:close/>
                <a:moveTo>
                  <a:pt x="583" y="134"/>
                </a:moveTo>
                <a:cubicBezTo>
                  <a:pt x="508" y="134"/>
                  <a:pt x="446" y="195"/>
                  <a:pt x="446" y="271"/>
                </a:cubicBezTo>
                <a:cubicBezTo>
                  <a:pt x="446" y="346"/>
                  <a:pt x="508" y="408"/>
                  <a:pt x="583" y="408"/>
                </a:cubicBezTo>
                <a:cubicBezTo>
                  <a:pt x="659" y="408"/>
                  <a:pt x="720" y="346"/>
                  <a:pt x="720" y="271"/>
                </a:cubicBezTo>
                <a:cubicBezTo>
                  <a:pt x="720" y="195"/>
                  <a:pt x="659" y="134"/>
                  <a:pt x="583" y="134"/>
                </a:cubicBezTo>
                <a:close/>
                <a:moveTo>
                  <a:pt x="303" y="47"/>
                </a:moveTo>
                <a:cubicBezTo>
                  <a:pt x="323" y="47"/>
                  <a:pt x="340" y="63"/>
                  <a:pt x="340" y="84"/>
                </a:cubicBezTo>
                <a:cubicBezTo>
                  <a:pt x="340" y="104"/>
                  <a:pt x="323" y="120"/>
                  <a:pt x="303" y="120"/>
                </a:cubicBezTo>
                <a:cubicBezTo>
                  <a:pt x="283" y="120"/>
                  <a:pt x="267" y="104"/>
                  <a:pt x="267" y="84"/>
                </a:cubicBezTo>
                <a:cubicBezTo>
                  <a:pt x="267" y="63"/>
                  <a:pt x="283" y="47"/>
                  <a:pt x="303" y="47"/>
                </a:cubicBezTo>
                <a:close/>
                <a:moveTo>
                  <a:pt x="195" y="299"/>
                </a:moveTo>
                <a:cubicBezTo>
                  <a:pt x="179" y="299"/>
                  <a:pt x="166" y="286"/>
                  <a:pt x="166" y="270"/>
                </a:cubicBezTo>
                <a:cubicBezTo>
                  <a:pt x="166" y="254"/>
                  <a:pt x="179" y="241"/>
                  <a:pt x="195" y="241"/>
                </a:cubicBezTo>
                <a:cubicBezTo>
                  <a:pt x="211" y="241"/>
                  <a:pt x="223" y="254"/>
                  <a:pt x="223" y="270"/>
                </a:cubicBezTo>
                <a:cubicBezTo>
                  <a:pt x="223" y="286"/>
                  <a:pt x="211" y="299"/>
                  <a:pt x="195" y="299"/>
                </a:cubicBezTo>
                <a:close/>
                <a:moveTo>
                  <a:pt x="191" y="134"/>
                </a:moveTo>
                <a:cubicBezTo>
                  <a:pt x="116" y="134"/>
                  <a:pt x="54" y="195"/>
                  <a:pt x="54" y="271"/>
                </a:cubicBezTo>
                <a:cubicBezTo>
                  <a:pt x="54" y="346"/>
                  <a:pt x="116" y="408"/>
                  <a:pt x="191" y="408"/>
                </a:cubicBezTo>
                <a:cubicBezTo>
                  <a:pt x="267" y="408"/>
                  <a:pt x="329" y="346"/>
                  <a:pt x="329" y="271"/>
                </a:cubicBezTo>
                <a:cubicBezTo>
                  <a:pt x="329" y="195"/>
                  <a:pt x="267" y="134"/>
                  <a:pt x="191" y="134"/>
                </a:cubicBezTo>
                <a:close/>
                <a:moveTo>
                  <a:pt x="67" y="18"/>
                </a:moveTo>
                <a:cubicBezTo>
                  <a:pt x="93" y="18"/>
                  <a:pt x="115" y="39"/>
                  <a:pt x="115" y="66"/>
                </a:cubicBezTo>
                <a:cubicBezTo>
                  <a:pt x="115" y="93"/>
                  <a:pt x="93" y="115"/>
                  <a:pt x="67" y="115"/>
                </a:cubicBezTo>
                <a:cubicBezTo>
                  <a:pt x="40" y="115"/>
                  <a:pt x="18" y="93"/>
                  <a:pt x="18" y="66"/>
                </a:cubicBezTo>
                <a:cubicBezTo>
                  <a:pt x="18" y="39"/>
                  <a:pt x="40" y="18"/>
                  <a:pt x="67" y="18"/>
                </a:cubicBezTo>
                <a:close/>
                <a:moveTo>
                  <a:pt x="303" y="34"/>
                </a:moveTo>
                <a:cubicBezTo>
                  <a:pt x="330" y="34"/>
                  <a:pt x="352" y="57"/>
                  <a:pt x="352" y="84"/>
                </a:cubicBezTo>
                <a:cubicBezTo>
                  <a:pt x="352" y="111"/>
                  <a:pt x="330" y="133"/>
                  <a:pt x="303" y="133"/>
                </a:cubicBezTo>
                <a:cubicBezTo>
                  <a:pt x="276" y="133"/>
                  <a:pt x="254" y="111"/>
                  <a:pt x="254" y="84"/>
                </a:cubicBezTo>
                <a:cubicBezTo>
                  <a:pt x="254" y="57"/>
                  <a:pt x="276" y="34"/>
                  <a:pt x="303" y="34"/>
                </a:cubicBezTo>
                <a:close/>
                <a:moveTo>
                  <a:pt x="261" y="447"/>
                </a:moveTo>
                <a:lnTo>
                  <a:pt x="366" y="447"/>
                </a:lnTo>
                <a:lnTo>
                  <a:pt x="366" y="32"/>
                </a:lnTo>
                <a:cubicBezTo>
                  <a:pt x="366" y="25"/>
                  <a:pt x="361" y="19"/>
                  <a:pt x="354" y="19"/>
                </a:cubicBezTo>
                <a:lnTo>
                  <a:pt x="114" y="19"/>
                </a:lnTo>
                <a:cubicBezTo>
                  <a:pt x="102" y="7"/>
                  <a:pt x="85" y="0"/>
                  <a:pt x="67" y="0"/>
                </a:cubicBezTo>
                <a:cubicBezTo>
                  <a:pt x="30" y="0"/>
                  <a:pt x="0" y="30"/>
                  <a:pt x="0" y="67"/>
                </a:cubicBezTo>
                <a:cubicBezTo>
                  <a:pt x="0" y="82"/>
                  <a:pt x="5" y="96"/>
                  <a:pt x="14" y="108"/>
                </a:cubicBezTo>
                <a:lnTo>
                  <a:pt x="14" y="459"/>
                </a:lnTo>
                <a:cubicBezTo>
                  <a:pt x="14" y="466"/>
                  <a:pt x="20" y="472"/>
                  <a:pt x="27" y="472"/>
                </a:cubicBezTo>
                <a:lnTo>
                  <a:pt x="229" y="472"/>
                </a:lnTo>
                <a:lnTo>
                  <a:pt x="261" y="447"/>
                </a:lnTo>
                <a:close/>
              </a:path>
            </a:pathLst>
          </a:custGeom>
          <a:solidFill>
            <a:srgbClr val="a6a6a6"/>
          </a:solidFill>
          <a:ln w="0">
            <a:noFill/>
          </a:ln>
        </p:spPr>
        <p:style>
          <a:lnRef idx="0"/>
          <a:fillRef idx="0"/>
          <a:effectRef idx="0"/>
          <a:fontRef idx="minor"/>
        </p:style>
        <p:txBody>
          <a:bodyPr lIns="145800" rIns="145800" tIns="60480" bIns="60480" anchor="t">
            <a:noAutofit/>
          </a:bodyPr>
          <a:p>
            <a:endParaRPr b="0" lang="en-US" sz="1800" spc="-1" strike="noStrike">
              <a:solidFill>
                <a:srgbClr val="000000"/>
              </a:solidFill>
              <a:latin typeface="Calibri"/>
            </a:endParaRPr>
          </a:p>
        </p:txBody>
      </p:sp>
      <p:sp>
        <p:nvSpPr>
          <p:cNvPr id="1778" name="Freeform 167"/>
          <p:cNvSpPr/>
          <p:nvPr/>
        </p:nvSpPr>
        <p:spPr>
          <a:xfrm>
            <a:off x="2604960" y="1452600"/>
            <a:ext cx="149400" cy="142920"/>
          </a:xfrm>
          <a:custGeom>
            <a:avLst/>
            <a:gdLst/>
            <a:ahLst/>
            <a:rect l="l" t="t" r="r" b="b"/>
            <a:pathLst>
              <a:path w="561" h="535">
                <a:moveTo>
                  <a:pt x="0" y="111"/>
                </a:moveTo>
                <a:lnTo>
                  <a:pt x="2" y="98"/>
                </a:lnTo>
                <a:lnTo>
                  <a:pt x="115" y="117"/>
                </a:lnTo>
                <a:lnTo>
                  <a:pt x="15" y="48"/>
                </a:lnTo>
                <a:lnTo>
                  <a:pt x="22" y="38"/>
                </a:lnTo>
                <a:lnTo>
                  <a:pt x="145" y="121"/>
                </a:lnTo>
                <a:lnTo>
                  <a:pt x="159" y="124"/>
                </a:lnTo>
                <a:lnTo>
                  <a:pt x="157" y="136"/>
                </a:lnTo>
                <a:lnTo>
                  <a:pt x="148" y="135"/>
                </a:lnTo>
                <a:lnTo>
                  <a:pt x="147" y="136"/>
                </a:lnTo>
                <a:lnTo>
                  <a:pt x="144" y="136"/>
                </a:lnTo>
                <a:lnTo>
                  <a:pt x="140" y="134"/>
                </a:lnTo>
                <a:lnTo>
                  <a:pt x="0" y="111"/>
                </a:lnTo>
                <a:close/>
                <a:moveTo>
                  <a:pt x="220" y="334"/>
                </a:moveTo>
                <a:cubicBezTo>
                  <a:pt x="220" y="303"/>
                  <a:pt x="245" y="278"/>
                  <a:pt x="276" y="278"/>
                </a:cubicBezTo>
                <a:cubicBezTo>
                  <a:pt x="306" y="278"/>
                  <a:pt x="331" y="303"/>
                  <a:pt x="331" y="334"/>
                </a:cubicBezTo>
                <a:cubicBezTo>
                  <a:pt x="331" y="364"/>
                  <a:pt x="306" y="390"/>
                  <a:pt x="276" y="390"/>
                </a:cubicBezTo>
                <a:cubicBezTo>
                  <a:pt x="245" y="390"/>
                  <a:pt x="220" y="364"/>
                  <a:pt x="220" y="334"/>
                </a:cubicBezTo>
                <a:close/>
                <a:moveTo>
                  <a:pt x="207" y="456"/>
                </a:moveTo>
                <a:lnTo>
                  <a:pt x="204" y="456"/>
                </a:lnTo>
                <a:lnTo>
                  <a:pt x="204" y="533"/>
                </a:lnTo>
                <a:lnTo>
                  <a:pt x="225" y="533"/>
                </a:lnTo>
                <a:lnTo>
                  <a:pt x="225" y="464"/>
                </a:lnTo>
                <a:cubicBezTo>
                  <a:pt x="241" y="471"/>
                  <a:pt x="258" y="474"/>
                  <a:pt x="276" y="474"/>
                </a:cubicBezTo>
                <a:cubicBezTo>
                  <a:pt x="292" y="474"/>
                  <a:pt x="308" y="471"/>
                  <a:pt x="323" y="466"/>
                </a:cubicBezTo>
                <a:lnTo>
                  <a:pt x="323" y="533"/>
                </a:lnTo>
                <a:lnTo>
                  <a:pt x="344" y="533"/>
                </a:lnTo>
                <a:lnTo>
                  <a:pt x="344" y="456"/>
                </a:lnTo>
                <a:cubicBezTo>
                  <a:pt x="387" y="432"/>
                  <a:pt x="416" y="386"/>
                  <a:pt x="416" y="334"/>
                </a:cubicBezTo>
                <a:cubicBezTo>
                  <a:pt x="416" y="256"/>
                  <a:pt x="353" y="193"/>
                  <a:pt x="276" y="193"/>
                </a:cubicBezTo>
                <a:cubicBezTo>
                  <a:pt x="198" y="193"/>
                  <a:pt x="135" y="256"/>
                  <a:pt x="135" y="334"/>
                </a:cubicBezTo>
                <a:cubicBezTo>
                  <a:pt x="135" y="386"/>
                  <a:pt x="164" y="432"/>
                  <a:pt x="207" y="456"/>
                </a:cubicBezTo>
                <a:close/>
                <a:moveTo>
                  <a:pt x="88" y="323"/>
                </a:moveTo>
                <a:lnTo>
                  <a:pt x="88" y="323"/>
                </a:lnTo>
                <a:lnTo>
                  <a:pt x="0" y="316"/>
                </a:lnTo>
                <a:lnTo>
                  <a:pt x="2" y="295"/>
                </a:lnTo>
                <a:lnTo>
                  <a:pt x="10" y="295"/>
                </a:lnTo>
                <a:lnTo>
                  <a:pt x="10" y="125"/>
                </a:lnTo>
                <a:lnTo>
                  <a:pt x="144" y="136"/>
                </a:lnTo>
                <a:lnTo>
                  <a:pt x="146" y="138"/>
                </a:lnTo>
                <a:lnTo>
                  <a:pt x="147" y="136"/>
                </a:lnTo>
                <a:lnTo>
                  <a:pt x="197" y="140"/>
                </a:lnTo>
                <a:lnTo>
                  <a:pt x="197" y="199"/>
                </a:lnTo>
                <a:cubicBezTo>
                  <a:pt x="153" y="225"/>
                  <a:pt x="123" y="271"/>
                  <a:pt x="121" y="326"/>
                </a:cubicBezTo>
                <a:lnTo>
                  <a:pt x="102" y="324"/>
                </a:lnTo>
                <a:lnTo>
                  <a:pt x="102" y="486"/>
                </a:lnTo>
                <a:lnTo>
                  <a:pt x="151" y="514"/>
                </a:lnTo>
                <a:lnTo>
                  <a:pt x="151" y="529"/>
                </a:lnTo>
                <a:lnTo>
                  <a:pt x="97" y="498"/>
                </a:lnTo>
                <a:lnTo>
                  <a:pt x="41" y="529"/>
                </a:lnTo>
                <a:lnTo>
                  <a:pt x="41" y="514"/>
                </a:lnTo>
                <a:lnTo>
                  <a:pt x="88" y="488"/>
                </a:lnTo>
                <a:lnTo>
                  <a:pt x="88" y="323"/>
                </a:lnTo>
                <a:close/>
                <a:moveTo>
                  <a:pt x="434" y="494"/>
                </a:moveTo>
                <a:lnTo>
                  <a:pt x="387" y="519"/>
                </a:lnTo>
                <a:lnTo>
                  <a:pt x="387" y="535"/>
                </a:lnTo>
                <a:lnTo>
                  <a:pt x="395" y="530"/>
                </a:lnTo>
                <a:lnTo>
                  <a:pt x="395" y="535"/>
                </a:lnTo>
                <a:lnTo>
                  <a:pt x="447" y="506"/>
                </a:lnTo>
                <a:lnTo>
                  <a:pt x="497" y="535"/>
                </a:lnTo>
                <a:lnTo>
                  <a:pt x="497" y="530"/>
                </a:lnTo>
                <a:lnTo>
                  <a:pt x="505" y="535"/>
                </a:lnTo>
                <a:lnTo>
                  <a:pt x="505" y="519"/>
                </a:lnTo>
                <a:lnTo>
                  <a:pt x="456" y="491"/>
                </a:lnTo>
                <a:lnTo>
                  <a:pt x="456" y="323"/>
                </a:lnTo>
                <a:lnTo>
                  <a:pt x="561" y="316"/>
                </a:lnTo>
                <a:lnTo>
                  <a:pt x="560" y="295"/>
                </a:lnTo>
                <a:lnTo>
                  <a:pt x="551" y="295"/>
                </a:lnTo>
                <a:lnTo>
                  <a:pt x="551" y="125"/>
                </a:lnTo>
                <a:lnTo>
                  <a:pt x="462" y="132"/>
                </a:lnTo>
                <a:lnTo>
                  <a:pt x="462" y="34"/>
                </a:lnTo>
                <a:cubicBezTo>
                  <a:pt x="513" y="34"/>
                  <a:pt x="553" y="29"/>
                  <a:pt x="553" y="23"/>
                </a:cubicBezTo>
                <a:cubicBezTo>
                  <a:pt x="553" y="17"/>
                  <a:pt x="513" y="12"/>
                  <a:pt x="462" y="11"/>
                </a:cubicBezTo>
                <a:lnTo>
                  <a:pt x="462" y="0"/>
                </a:lnTo>
                <a:lnTo>
                  <a:pt x="450" y="0"/>
                </a:lnTo>
                <a:lnTo>
                  <a:pt x="450" y="11"/>
                </a:lnTo>
                <a:cubicBezTo>
                  <a:pt x="399" y="12"/>
                  <a:pt x="359" y="17"/>
                  <a:pt x="359" y="23"/>
                </a:cubicBezTo>
                <a:cubicBezTo>
                  <a:pt x="359" y="29"/>
                  <a:pt x="399" y="34"/>
                  <a:pt x="450" y="34"/>
                </a:cubicBezTo>
                <a:lnTo>
                  <a:pt x="450" y="133"/>
                </a:lnTo>
                <a:lnTo>
                  <a:pt x="349" y="140"/>
                </a:lnTo>
                <a:lnTo>
                  <a:pt x="349" y="197"/>
                </a:lnTo>
                <a:cubicBezTo>
                  <a:pt x="394" y="223"/>
                  <a:pt x="425" y="270"/>
                  <a:pt x="427" y="325"/>
                </a:cubicBezTo>
                <a:lnTo>
                  <a:pt x="434" y="325"/>
                </a:lnTo>
                <a:lnTo>
                  <a:pt x="434" y="494"/>
                </a:lnTo>
                <a:close/>
              </a:path>
            </a:pathLst>
          </a:custGeom>
          <a:solidFill>
            <a:srgbClr val="a6a6a6"/>
          </a:solidFill>
          <a:ln w="0">
            <a:noFill/>
          </a:ln>
        </p:spPr>
        <p:style>
          <a:lnRef idx="0"/>
          <a:fillRef idx="0"/>
          <a:effectRef idx="0"/>
          <a:fontRef idx="minor"/>
        </p:style>
        <p:txBody>
          <a:bodyPr lIns="145800" rIns="145800" tIns="70200" bIns="70200" anchor="t">
            <a:noAutofit/>
          </a:bodyPr>
          <a:p>
            <a:endParaRPr b="0" lang="en-US" sz="1800" spc="-1" strike="noStrike">
              <a:solidFill>
                <a:srgbClr val="000000"/>
              </a:solidFill>
              <a:latin typeface="Calibri"/>
            </a:endParaRPr>
          </a:p>
        </p:txBody>
      </p:sp>
      <p:sp>
        <p:nvSpPr>
          <p:cNvPr id="1779" name="Freeform 168"/>
          <p:cNvSpPr/>
          <p:nvPr/>
        </p:nvSpPr>
        <p:spPr>
          <a:xfrm>
            <a:off x="2925720" y="1446120"/>
            <a:ext cx="152280" cy="157320"/>
          </a:xfrm>
          <a:custGeom>
            <a:avLst/>
            <a:gdLst/>
            <a:ahLst/>
            <a:rect l="l" t="t" r="r" b="b"/>
            <a:pathLst>
              <a:path w="571" h="587">
                <a:moveTo>
                  <a:pt x="453" y="150"/>
                </a:moveTo>
                <a:cubicBezTo>
                  <a:pt x="463" y="141"/>
                  <a:pt x="476" y="139"/>
                  <a:pt x="485" y="144"/>
                </a:cubicBezTo>
                <a:lnTo>
                  <a:pt x="487" y="142"/>
                </a:lnTo>
                <a:cubicBezTo>
                  <a:pt x="493" y="128"/>
                  <a:pt x="503" y="112"/>
                  <a:pt x="518" y="98"/>
                </a:cubicBezTo>
                <a:cubicBezTo>
                  <a:pt x="532" y="83"/>
                  <a:pt x="548" y="73"/>
                  <a:pt x="562" y="67"/>
                </a:cubicBezTo>
                <a:cubicBezTo>
                  <a:pt x="562" y="67"/>
                  <a:pt x="565" y="64"/>
                  <a:pt x="568" y="61"/>
                </a:cubicBezTo>
                <a:cubicBezTo>
                  <a:pt x="571" y="58"/>
                  <a:pt x="569" y="50"/>
                  <a:pt x="563" y="44"/>
                </a:cubicBezTo>
                <a:lnTo>
                  <a:pt x="528" y="9"/>
                </a:lnTo>
                <a:cubicBezTo>
                  <a:pt x="522" y="3"/>
                  <a:pt x="514" y="0"/>
                  <a:pt x="511" y="4"/>
                </a:cubicBezTo>
                <a:lnTo>
                  <a:pt x="505" y="10"/>
                </a:lnTo>
                <a:cubicBezTo>
                  <a:pt x="499" y="24"/>
                  <a:pt x="489" y="40"/>
                  <a:pt x="474" y="54"/>
                </a:cubicBezTo>
                <a:cubicBezTo>
                  <a:pt x="460" y="69"/>
                  <a:pt x="444" y="79"/>
                  <a:pt x="430" y="85"/>
                </a:cubicBezTo>
                <a:lnTo>
                  <a:pt x="428" y="86"/>
                </a:lnTo>
                <a:cubicBezTo>
                  <a:pt x="434" y="96"/>
                  <a:pt x="433" y="110"/>
                  <a:pt x="423" y="120"/>
                </a:cubicBezTo>
                <a:lnTo>
                  <a:pt x="328" y="214"/>
                </a:lnTo>
                <a:cubicBezTo>
                  <a:pt x="324" y="214"/>
                  <a:pt x="318" y="211"/>
                  <a:pt x="309" y="197"/>
                </a:cubicBezTo>
                <a:cubicBezTo>
                  <a:pt x="293" y="173"/>
                  <a:pt x="256" y="159"/>
                  <a:pt x="226" y="211"/>
                </a:cubicBezTo>
                <a:cubicBezTo>
                  <a:pt x="195" y="264"/>
                  <a:pt x="221" y="273"/>
                  <a:pt x="134" y="283"/>
                </a:cubicBezTo>
                <a:lnTo>
                  <a:pt x="134" y="283"/>
                </a:lnTo>
                <a:cubicBezTo>
                  <a:pt x="104" y="284"/>
                  <a:pt x="75" y="296"/>
                  <a:pt x="53" y="318"/>
                </a:cubicBezTo>
                <a:cubicBezTo>
                  <a:pt x="0" y="371"/>
                  <a:pt x="6" y="461"/>
                  <a:pt x="66" y="521"/>
                </a:cubicBezTo>
                <a:cubicBezTo>
                  <a:pt x="126" y="581"/>
                  <a:pt x="217" y="587"/>
                  <a:pt x="269" y="535"/>
                </a:cubicBezTo>
                <a:cubicBezTo>
                  <a:pt x="270" y="534"/>
                  <a:pt x="271" y="533"/>
                  <a:pt x="272" y="532"/>
                </a:cubicBezTo>
                <a:lnTo>
                  <a:pt x="272" y="532"/>
                </a:lnTo>
                <a:cubicBezTo>
                  <a:pt x="272" y="532"/>
                  <a:pt x="272" y="531"/>
                  <a:pt x="273" y="531"/>
                </a:cubicBezTo>
                <a:cubicBezTo>
                  <a:pt x="277" y="526"/>
                  <a:pt x="281" y="521"/>
                  <a:pt x="284" y="516"/>
                </a:cubicBezTo>
                <a:cubicBezTo>
                  <a:pt x="297" y="497"/>
                  <a:pt x="317" y="463"/>
                  <a:pt x="312" y="427"/>
                </a:cubicBezTo>
                <a:cubicBezTo>
                  <a:pt x="306" y="372"/>
                  <a:pt x="357" y="375"/>
                  <a:pt x="378" y="361"/>
                </a:cubicBezTo>
                <a:cubicBezTo>
                  <a:pt x="399" y="348"/>
                  <a:pt x="406" y="336"/>
                  <a:pt x="407" y="322"/>
                </a:cubicBezTo>
                <a:cubicBezTo>
                  <a:pt x="407" y="322"/>
                  <a:pt x="382" y="340"/>
                  <a:pt x="359" y="317"/>
                </a:cubicBezTo>
                <a:cubicBezTo>
                  <a:pt x="340" y="299"/>
                  <a:pt x="349" y="267"/>
                  <a:pt x="357" y="251"/>
                </a:cubicBezTo>
                <a:lnTo>
                  <a:pt x="453" y="15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80" name="Freeform 169"/>
          <p:cNvSpPr/>
          <p:nvPr/>
        </p:nvSpPr>
        <p:spPr>
          <a:xfrm>
            <a:off x="4229280" y="1444680"/>
            <a:ext cx="137880" cy="154080"/>
          </a:xfrm>
          <a:custGeom>
            <a:avLst/>
            <a:gdLst/>
            <a:ahLst/>
            <a:rect l="l" t="t" r="r" b="b"/>
            <a:pathLst>
              <a:path w="519" h="573">
                <a:moveTo>
                  <a:pt x="291" y="423"/>
                </a:moveTo>
                <a:cubicBezTo>
                  <a:pt x="238" y="423"/>
                  <a:pt x="199" y="457"/>
                  <a:pt x="165" y="486"/>
                </a:cubicBezTo>
                <a:cubicBezTo>
                  <a:pt x="128" y="519"/>
                  <a:pt x="95" y="547"/>
                  <a:pt x="47" y="533"/>
                </a:cubicBezTo>
                <a:cubicBezTo>
                  <a:pt x="38" y="526"/>
                  <a:pt x="38" y="520"/>
                  <a:pt x="38" y="518"/>
                </a:cubicBezTo>
                <a:cubicBezTo>
                  <a:pt x="37" y="505"/>
                  <a:pt x="53" y="488"/>
                  <a:pt x="60" y="481"/>
                </a:cubicBezTo>
                <a:cubicBezTo>
                  <a:pt x="61" y="481"/>
                  <a:pt x="62" y="480"/>
                  <a:pt x="63" y="479"/>
                </a:cubicBezTo>
                <a:cubicBezTo>
                  <a:pt x="75" y="483"/>
                  <a:pt x="90" y="480"/>
                  <a:pt x="100" y="470"/>
                </a:cubicBezTo>
                <a:lnTo>
                  <a:pt x="345" y="269"/>
                </a:lnTo>
                <a:cubicBezTo>
                  <a:pt x="324" y="260"/>
                  <a:pt x="305" y="248"/>
                  <a:pt x="288" y="231"/>
                </a:cubicBezTo>
                <a:cubicBezTo>
                  <a:pt x="271" y="214"/>
                  <a:pt x="259" y="195"/>
                  <a:pt x="250" y="175"/>
                </a:cubicBezTo>
                <a:lnTo>
                  <a:pt x="49" y="419"/>
                </a:lnTo>
                <a:cubicBezTo>
                  <a:pt x="40" y="428"/>
                  <a:pt x="37" y="441"/>
                  <a:pt x="40" y="452"/>
                </a:cubicBezTo>
                <a:cubicBezTo>
                  <a:pt x="39" y="453"/>
                  <a:pt x="38" y="453"/>
                  <a:pt x="37" y="454"/>
                </a:cubicBezTo>
                <a:cubicBezTo>
                  <a:pt x="34" y="457"/>
                  <a:pt x="0" y="485"/>
                  <a:pt x="2" y="520"/>
                </a:cubicBezTo>
                <a:cubicBezTo>
                  <a:pt x="2" y="532"/>
                  <a:pt x="7" y="549"/>
                  <a:pt x="29" y="564"/>
                </a:cubicBezTo>
                <a:lnTo>
                  <a:pt x="34" y="566"/>
                </a:lnTo>
                <a:cubicBezTo>
                  <a:pt x="48" y="571"/>
                  <a:pt x="61" y="573"/>
                  <a:pt x="73" y="573"/>
                </a:cubicBezTo>
                <a:cubicBezTo>
                  <a:pt x="121" y="573"/>
                  <a:pt x="157" y="542"/>
                  <a:pt x="189" y="513"/>
                </a:cubicBezTo>
                <a:cubicBezTo>
                  <a:pt x="221" y="485"/>
                  <a:pt x="251" y="459"/>
                  <a:pt x="291" y="459"/>
                </a:cubicBezTo>
                <a:cubicBezTo>
                  <a:pt x="384" y="459"/>
                  <a:pt x="456" y="558"/>
                  <a:pt x="457" y="559"/>
                </a:cubicBezTo>
                <a:cubicBezTo>
                  <a:pt x="462" y="568"/>
                  <a:pt x="474" y="569"/>
                  <a:pt x="482" y="564"/>
                </a:cubicBezTo>
                <a:cubicBezTo>
                  <a:pt x="490" y="558"/>
                  <a:pt x="492" y="547"/>
                  <a:pt x="486" y="539"/>
                </a:cubicBezTo>
                <a:cubicBezTo>
                  <a:pt x="483" y="534"/>
                  <a:pt x="403" y="423"/>
                  <a:pt x="291" y="423"/>
                </a:cubicBezTo>
                <a:close/>
                <a:moveTo>
                  <a:pt x="463" y="231"/>
                </a:moveTo>
                <a:cubicBezTo>
                  <a:pt x="422" y="220"/>
                  <a:pt x="383" y="199"/>
                  <a:pt x="352" y="167"/>
                </a:cubicBezTo>
                <a:cubicBezTo>
                  <a:pt x="320" y="136"/>
                  <a:pt x="299" y="97"/>
                  <a:pt x="288" y="57"/>
                </a:cubicBezTo>
                <a:cubicBezTo>
                  <a:pt x="261" y="100"/>
                  <a:pt x="270" y="162"/>
                  <a:pt x="314" y="205"/>
                </a:cubicBezTo>
                <a:cubicBezTo>
                  <a:pt x="357" y="249"/>
                  <a:pt x="419" y="258"/>
                  <a:pt x="463" y="231"/>
                </a:cubicBezTo>
                <a:close/>
                <a:moveTo>
                  <a:pt x="492" y="202"/>
                </a:moveTo>
                <a:cubicBezTo>
                  <a:pt x="450" y="194"/>
                  <a:pt x="409" y="174"/>
                  <a:pt x="377" y="142"/>
                </a:cubicBezTo>
                <a:cubicBezTo>
                  <a:pt x="345" y="110"/>
                  <a:pt x="325" y="69"/>
                  <a:pt x="318" y="27"/>
                </a:cubicBezTo>
                <a:cubicBezTo>
                  <a:pt x="361" y="0"/>
                  <a:pt x="423" y="9"/>
                  <a:pt x="466" y="53"/>
                </a:cubicBezTo>
                <a:cubicBezTo>
                  <a:pt x="510" y="96"/>
                  <a:pt x="519" y="158"/>
                  <a:pt x="492" y="20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81" name="Freeform 170"/>
          <p:cNvSpPr/>
          <p:nvPr/>
        </p:nvSpPr>
        <p:spPr>
          <a:xfrm>
            <a:off x="3559320" y="1420920"/>
            <a:ext cx="196560" cy="203040"/>
          </a:xfrm>
          <a:custGeom>
            <a:avLst/>
            <a:gdLst/>
            <a:ahLst/>
            <a:rect l="l" t="t" r="r" b="b"/>
            <a:pathLst>
              <a:path w="732" h="758">
                <a:moveTo>
                  <a:pt x="169" y="288"/>
                </a:moveTo>
                <a:cubicBezTo>
                  <a:pt x="211" y="262"/>
                  <a:pt x="238" y="230"/>
                  <a:pt x="230" y="217"/>
                </a:cubicBezTo>
                <a:cubicBezTo>
                  <a:pt x="221" y="204"/>
                  <a:pt x="181" y="216"/>
                  <a:pt x="140" y="242"/>
                </a:cubicBezTo>
                <a:cubicBezTo>
                  <a:pt x="98" y="269"/>
                  <a:pt x="71" y="301"/>
                  <a:pt x="79" y="314"/>
                </a:cubicBezTo>
                <a:cubicBezTo>
                  <a:pt x="87" y="326"/>
                  <a:pt x="128" y="315"/>
                  <a:pt x="169" y="288"/>
                </a:cubicBezTo>
                <a:close/>
                <a:moveTo>
                  <a:pt x="28" y="583"/>
                </a:moveTo>
                <a:cubicBezTo>
                  <a:pt x="28" y="583"/>
                  <a:pt x="38" y="560"/>
                  <a:pt x="38" y="559"/>
                </a:cubicBezTo>
                <a:cubicBezTo>
                  <a:pt x="39" y="558"/>
                  <a:pt x="102" y="434"/>
                  <a:pt x="85" y="343"/>
                </a:cubicBezTo>
                <a:cubicBezTo>
                  <a:pt x="66" y="345"/>
                  <a:pt x="57" y="338"/>
                  <a:pt x="53" y="332"/>
                </a:cubicBezTo>
                <a:cubicBezTo>
                  <a:pt x="36" y="304"/>
                  <a:pt x="95" y="257"/>
                  <a:pt x="133" y="233"/>
                </a:cubicBezTo>
                <a:cubicBezTo>
                  <a:pt x="171" y="209"/>
                  <a:pt x="209" y="193"/>
                  <a:pt x="233" y="193"/>
                </a:cubicBezTo>
                <a:cubicBezTo>
                  <a:pt x="247" y="193"/>
                  <a:pt x="254" y="199"/>
                  <a:pt x="257" y="204"/>
                </a:cubicBezTo>
                <a:cubicBezTo>
                  <a:pt x="264" y="215"/>
                  <a:pt x="259" y="230"/>
                  <a:pt x="243" y="249"/>
                </a:cubicBezTo>
                <a:cubicBezTo>
                  <a:pt x="244" y="317"/>
                  <a:pt x="226" y="401"/>
                  <a:pt x="225" y="405"/>
                </a:cubicBezTo>
                <a:cubicBezTo>
                  <a:pt x="225" y="406"/>
                  <a:pt x="218" y="435"/>
                  <a:pt x="213" y="449"/>
                </a:cubicBezTo>
                <a:lnTo>
                  <a:pt x="177" y="543"/>
                </a:lnTo>
                <a:lnTo>
                  <a:pt x="153" y="595"/>
                </a:lnTo>
                <a:cubicBezTo>
                  <a:pt x="156" y="601"/>
                  <a:pt x="161" y="611"/>
                  <a:pt x="172" y="611"/>
                </a:cubicBezTo>
                <a:cubicBezTo>
                  <a:pt x="175" y="611"/>
                  <a:pt x="178" y="610"/>
                  <a:pt x="182" y="608"/>
                </a:cubicBezTo>
                <a:lnTo>
                  <a:pt x="292" y="364"/>
                </a:lnTo>
                <a:lnTo>
                  <a:pt x="288" y="363"/>
                </a:lnTo>
                <a:cubicBezTo>
                  <a:pt x="287" y="362"/>
                  <a:pt x="286" y="361"/>
                  <a:pt x="286" y="360"/>
                </a:cubicBezTo>
                <a:lnTo>
                  <a:pt x="277" y="380"/>
                </a:lnTo>
                <a:lnTo>
                  <a:pt x="258" y="372"/>
                </a:lnTo>
                <a:lnTo>
                  <a:pt x="279" y="324"/>
                </a:lnTo>
                <a:lnTo>
                  <a:pt x="298" y="332"/>
                </a:lnTo>
                <a:lnTo>
                  <a:pt x="289" y="352"/>
                </a:lnTo>
                <a:cubicBezTo>
                  <a:pt x="290" y="352"/>
                  <a:pt x="291" y="352"/>
                  <a:pt x="293" y="353"/>
                </a:cubicBezTo>
                <a:lnTo>
                  <a:pt x="296" y="354"/>
                </a:lnTo>
                <a:lnTo>
                  <a:pt x="318" y="306"/>
                </a:lnTo>
                <a:lnTo>
                  <a:pt x="314" y="305"/>
                </a:lnTo>
                <a:cubicBezTo>
                  <a:pt x="313" y="304"/>
                  <a:pt x="312" y="303"/>
                  <a:pt x="312" y="302"/>
                </a:cubicBezTo>
                <a:lnTo>
                  <a:pt x="303" y="322"/>
                </a:lnTo>
                <a:lnTo>
                  <a:pt x="284" y="314"/>
                </a:lnTo>
                <a:lnTo>
                  <a:pt x="305" y="266"/>
                </a:lnTo>
                <a:lnTo>
                  <a:pt x="324" y="274"/>
                </a:lnTo>
                <a:lnTo>
                  <a:pt x="315" y="294"/>
                </a:lnTo>
                <a:cubicBezTo>
                  <a:pt x="316" y="294"/>
                  <a:pt x="317" y="294"/>
                  <a:pt x="319" y="295"/>
                </a:cubicBezTo>
                <a:lnTo>
                  <a:pt x="322" y="296"/>
                </a:lnTo>
                <a:lnTo>
                  <a:pt x="343" y="250"/>
                </a:lnTo>
                <a:lnTo>
                  <a:pt x="339" y="248"/>
                </a:lnTo>
                <a:cubicBezTo>
                  <a:pt x="338" y="247"/>
                  <a:pt x="337" y="246"/>
                  <a:pt x="337" y="245"/>
                </a:cubicBezTo>
                <a:lnTo>
                  <a:pt x="328" y="265"/>
                </a:lnTo>
                <a:lnTo>
                  <a:pt x="309" y="257"/>
                </a:lnTo>
                <a:lnTo>
                  <a:pt x="330" y="209"/>
                </a:lnTo>
                <a:lnTo>
                  <a:pt x="349" y="218"/>
                </a:lnTo>
                <a:lnTo>
                  <a:pt x="340" y="238"/>
                </a:lnTo>
                <a:cubicBezTo>
                  <a:pt x="341" y="238"/>
                  <a:pt x="343" y="237"/>
                  <a:pt x="344" y="238"/>
                </a:cubicBezTo>
                <a:lnTo>
                  <a:pt x="348" y="240"/>
                </a:lnTo>
                <a:lnTo>
                  <a:pt x="369" y="192"/>
                </a:lnTo>
                <a:lnTo>
                  <a:pt x="365" y="190"/>
                </a:lnTo>
                <a:cubicBezTo>
                  <a:pt x="364" y="190"/>
                  <a:pt x="363" y="189"/>
                  <a:pt x="363" y="188"/>
                </a:cubicBezTo>
                <a:lnTo>
                  <a:pt x="354" y="207"/>
                </a:lnTo>
                <a:lnTo>
                  <a:pt x="335" y="199"/>
                </a:lnTo>
                <a:lnTo>
                  <a:pt x="356" y="151"/>
                </a:lnTo>
                <a:lnTo>
                  <a:pt x="375" y="159"/>
                </a:lnTo>
                <a:lnTo>
                  <a:pt x="366" y="180"/>
                </a:lnTo>
                <a:cubicBezTo>
                  <a:pt x="367" y="180"/>
                  <a:pt x="368" y="180"/>
                  <a:pt x="370" y="180"/>
                </a:cubicBezTo>
                <a:lnTo>
                  <a:pt x="374" y="182"/>
                </a:lnTo>
                <a:lnTo>
                  <a:pt x="447" y="20"/>
                </a:lnTo>
                <a:cubicBezTo>
                  <a:pt x="448" y="17"/>
                  <a:pt x="450" y="16"/>
                  <a:pt x="452" y="15"/>
                </a:cubicBezTo>
                <a:cubicBezTo>
                  <a:pt x="458" y="10"/>
                  <a:pt x="473" y="0"/>
                  <a:pt x="493" y="0"/>
                </a:cubicBezTo>
                <a:cubicBezTo>
                  <a:pt x="516" y="0"/>
                  <a:pt x="548" y="14"/>
                  <a:pt x="573" y="79"/>
                </a:cubicBezTo>
                <a:lnTo>
                  <a:pt x="576" y="87"/>
                </a:lnTo>
                <a:cubicBezTo>
                  <a:pt x="584" y="109"/>
                  <a:pt x="599" y="151"/>
                  <a:pt x="620" y="164"/>
                </a:cubicBezTo>
                <a:cubicBezTo>
                  <a:pt x="643" y="178"/>
                  <a:pt x="690" y="193"/>
                  <a:pt x="723" y="201"/>
                </a:cubicBezTo>
                <a:cubicBezTo>
                  <a:pt x="726" y="201"/>
                  <a:pt x="729" y="203"/>
                  <a:pt x="730" y="206"/>
                </a:cubicBezTo>
                <a:cubicBezTo>
                  <a:pt x="732" y="209"/>
                  <a:pt x="732" y="212"/>
                  <a:pt x="731" y="215"/>
                </a:cubicBezTo>
                <a:lnTo>
                  <a:pt x="729" y="219"/>
                </a:lnTo>
                <a:cubicBezTo>
                  <a:pt x="728" y="223"/>
                  <a:pt x="724" y="226"/>
                  <a:pt x="719" y="226"/>
                </a:cubicBezTo>
                <a:lnTo>
                  <a:pt x="719" y="226"/>
                </a:lnTo>
                <a:cubicBezTo>
                  <a:pt x="697" y="226"/>
                  <a:pt x="628" y="222"/>
                  <a:pt x="597" y="205"/>
                </a:cubicBezTo>
                <a:cubicBezTo>
                  <a:pt x="577" y="194"/>
                  <a:pt x="544" y="158"/>
                  <a:pt x="527" y="138"/>
                </a:cubicBezTo>
                <a:lnTo>
                  <a:pt x="277" y="695"/>
                </a:lnTo>
                <a:cubicBezTo>
                  <a:pt x="258" y="736"/>
                  <a:pt x="223" y="758"/>
                  <a:pt x="178" y="758"/>
                </a:cubicBezTo>
                <a:cubicBezTo>
                  <a:pt x="156" y="758"/>
                  <a:pt x="131" y="753"/>
                  <a:pt x="106" y="741"/>
                </a:cubicBezTo>
                <a:cubicBezTo>
                  <a:pt x="30" y="707"/>
                  <a:pt x="0" y="646"/>
                  <a:pt x="28" y="58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82" name="Freeform 171"/>
          <p:cNvSpPr/>
          <p:nvPr/>
        </p:nvSpPr>
        <p:spPr>
          <a:xfrm>
            <a:off x="9401040" y="2610000"/>
            <a:ext cx="198720" cy="145800"/>
          </a:xfrm>
          <a:custGeom>
            <a:avLst/>
            <a:gdLst/>
            <a:ahLst/>
            <a:rect l="l" t="t" r="r" b="b"/>
            <a:pathLst>
              <a:path w="740" h="544">
                <a:moveTo>
                  <a:pt x="737" y="317"/>
                </a:moveTo>
                <a:lnTo>
                  <a:pt x="739" y="316"/>
                </a:lnTo>
                <a:lnTo>
                  <a:pt x="545" y="30"/>
                </a:lnTo>
                <a:lnTo>
                  <a:pt x="541" y="29"/>
                </a:lnTo>
                <a:cubicBezTo>
                  <a:pt x="541" y="29"/>
                  <a:pt x="464" y="0"/>
                  <a:pt x="415" y="77"/>
                </a:cubicBezTo>
                <a:lnTo>
                  <a:pt x="435" y="90"/>
                </a:lnTo>
                <a:cubicBezTo>
                  <a:pt x="469" y="37"/>
                  <a:pt x="517" y="46"/>
                  <a:pt x="530" y="50"/>
                </a:cubicBezTo>
                <a:lnTo>
                  <a:pt x="703" y="304"/>
                </a:lnTo>
                <a:cubicBezTo>
                  <a:pt x="679" y="299"/>
                  <a:pt x="641" y="292"/>
                  <a:pt x="591" y="292"/>
                </a:cubicBezTo>
                <a:cubicBezTo>
                  <a:pt x="541" y="292"/>
                  <a:pt x="490" y="299"/>
                  <a:pt x="439" y="311"/>
                </a:cubicBezTo>
                <a:lnTo>
                  <a:pt x="430" y="313"/>
                </a:lnTo>
                <a:lnTo>
                  <a:pt x="430" y="324"/>
                </a:lnTo>
                <a:cubicBezTo>
                  <a:pt x="385" y="305"/>
                  <a:pt x="334" y="317"/>
                  <a:pt x="310" y="326"/>
                </a:cubicBezTo>
                <a:lnTo>
                  <a:pt x="309" y="313"/>
                </a:lnTo>
                <a:lnTo>
                  <a:pt x="301" y="311"/>
                </a:lnTo>
                <a:cubicBezTo>
                  <a:pt x="250" y="299"/>
                  <a:pt x="199" y="292"/>
                  <a:pt x="149" y="292"/>
                </a:cubicBezTo>
                <a:cubicBezTo>
                  <a:pt x="102" y="292"/>
                  <a:pt x="66" y="298"/>
                  <a:pt x="42" y="303"/>
                </a:cubicBezTo>
                <a:lnTo>
                  <a:pt x="214" y="50"/>
                </a:lnTo>
                <a:cubicBezTo>
                  <a:pt x="227" y="46"/>
                  <a:pt x="275" y="36"/>
                  <a:pt x="309" y="90"/>
                </a:cubicBezTo>
                <a:lnTo>
                  <a:pt x="329" y="77"/>
                </a:lnTo>
                <a:cubicBezTo>
                  <a:pt x="280" y="0"/>
                  <a:pt x="203" y="29"/>
                  <a:pt x="202" y="29"/>
                </a:cubicBezTo>
                <a:lnTo>
                  <a:pt x="199" y="30"/>
                </a:lnTo>
                <a:lnTo>
                  <a:pt x="7" y="313"/>
                </a:lnTo>
                <a:lnTo>
                  <a:pt x="3" y="314"/>
                </a:lnTo>
                <a:lnTo>
                  <a:pt x="3" y="414"/>
                </a:lnTo>
                <a:cubicBezTo>
                  <a:pt x="3" y="416"/>
                  <a:pt x="0" y="463"/>
                  <a:pt x="34" y="500"/>
                </a:cubicBezTo>
                <a:cubicBezTo>
                  <a:pt x="61" y="530"/>
                  <a:pt x="103" y="544"/>
                  <a:pt x="159" y="544"/>
                </a:cubicBezTo>
                <a:cubicBezTo>
                  <a:pt x="217" y="544"/>
                  <a:pt x="260" y="530"/>
                  <a:pt x="286" y="500"/>
                </a:cubicBezTo>
                <a:cubicBezTo>
                  <a:pt x="316" y="466"/>
                  <a:pt x="311" y="426"/>
                  <a:pt x="311" y="425"/>
                </a:cubicBezTo>
                <a:lnTo>
                  <a:pt x="310" y="351"/>
                </a:lnTo>
                <a:cubicBezTo>
                  <a:pt x="327" y="344"/>
                  <a:pt x="385" y="325"/>
                  <a:pt x="430" y="350"/>
                </a:cubicBezTo>
                <a:lnTo>
                  <a:pt x="429" y="424"/>
                </a:lnTo>
                <a:cubicBezTo>
                  <a:pt x="428" y="426"/>
                  <a:pt x="424" y="466"/>
                  <a:pt x="454" y="500"/>
                </a:cubicBezTo>
                <a:cubicBezTo>
                  <a:pt x="480" y="530"/>
                  <a:pt x="523" y="544"/>
                  <a:pt x="581" y="544"/>
                </a:cubicBezTo>
                <a:cubicBezTo>
                  <a:pt x="637" y="544"/>
                  <a:pt x="679" y="530"/>
                  <a:pt x="706" y="500"/>
                </a:cubicBezTo>
                <a:cubicBezTo>
                  <a:pt x="740" y="463"/>
                  <a:pt x="737" y="416"/>
                  <a:pt x="737" y="415"/>
                </a:cubicBezTo>
                <a:lnTo>
                  <a:pt x="737" y="317"/>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83" name="Freeform 172"/>
          <p:cNvSpPr/>
          <p:nvPr/>
        </p:nvSpPr>
        <p:spPr>
          <a:xfrm>
            <a:off x="9034560" y="2625840"/>
            <a:ext cx="210960" cy="118800"/>
          </a:xfrm>
          <a:custGeom>
            <a:avLst/>
            <a:gdLst/>
            <a:ahLst/>
            <a:rect l="l" t="t" r="r" b="b"/>
            <a:pathLst>
              <a:path w="787" h="438">
                <a:moveTo>
                  <a:pt x="37" y="259"/>
                </a:moveTo>
                <a:cubicBezTo>
                  <a:pt x="39" y="239"/>
                  <a:pt x="48" y="224"/>
                  <a:pt x="63" y="216"/>
                </a:cubicBezTo>
                <a:cubicBezTo>
                  <a:pt x="86" y="203"/>
                  <a:pt x="125" y="196"/>
                  <a:pt x="173" y="196"/>
                </a:cubicBezTo>
                <a:cubicBezTo>
                  <a:pt x="228" y="196"/>
                  <a:pt x="287" y="206"/>
                  <a:pt x="312" y="219"/>
                </a:cubicBezTo>
                <a:cubicBezTo>
                  <a:pt x="340" y="234"/>
                  <a:pt x="336" y="270"/>
                  <a:pt x="331" y="291"/>
                </a:cubicBezTo>
                <a:lnTo>
                  <a:pt x="291" y="343"/>
                </a:lnTo>
                <a:cubicBezTo>
                  <a:pt x="287" y="349"/>
                  <a:pt x="288" y="357"/>
                  <a:pt x="294" y="362"/>
                </a:cubicBezTo>
                <a:cubicBezTo>
                  <a:pt x="296" y="363"/>
                  <a:pt x="298" y="364"/>
                  <a:pt x="300" y="364"/>
                </a:cubicBezTo>
                <a:cubicBezTo>
                  <a:pt x="293" y="376"/>
                  <a:pt x="284" y="389"/>
                  <a:pt x="273" y="400"/>
                </a:cubicBezTo>
                <a:cubicBezTo>
                  <a:pt x="258" y="416"/>
                  <a:pt x="225" y="425"/>
                  <a:pt x="184" y="425"/>
                </a:cubicBezTo>
                <a:cubicBezTo>
                  <a:pt x="142" y="425"/>
                  <a:pt x="101" y="415"/>
                  <a:pt x="86" y="400"/>
                </a:cubicBezTo>
                <a:cubicBezTo>
                  <a:pt x="65" y="380"/>
                  <a:pt x="30" y="311"/>
                  <a:pt x="37" y="259"/>
                </a:cubicBezTo>
                <a:close/>
                <a:moveTo>
                  <a:pt x="475" y="219"/>
                </a:moveTo>
                <a:cubicBezTo>
                  <a:pt x="501" y="206"/>
                  <a:pt x="559" y="196"/>
                  <a:pt x="615" y="196"/>
                </a:cubicBezTo>
                <a:cubicBezTo>
                  <a:pt x="662" y="196"/>
                  <a:pt x="701" y="203"/>
                  <a:pt x="725" y="216"/>
                </a:cubicBezTo>
                <a:cubicBezTo>
                  <a:pt x="739" y="224"/>
                  <a:pt x="748" y="239"/>
                  <a:pt x="751" y="259"/>
                </a:cubicBezTo>
                <a:cubicBezTo>
                  <a:pt x="757" y="311"/>
                  <a:pt x="722" y="380"/>
                  <a:pt x="702" y="400"/>
                </a:cubicBezTo>
                <a:cubicBezTo>
                  <a:pt x="686" y="415"/>
                  <a:pt x="645" y="425"/>
                  <a:pt x="603" y="425"/>
                </a:cubicBezTo>
                <a:cubicBezTo>
                  <a:pt x="563" y="425"/>
                  <a:pt x="529" y="416"/>
                  <a:pt x="514" y="400"/>
                </a:cubicBezTo>
                <a:cubicBezTo>
                  <a:pt x="503" y="389"/>
                  <a:pt x="495" y="376"/>
                  <a:pt x="487" y="364"/>
                </a:cubicBezTo>
                <a:cubicBezTo>
                  <a:pt x="489" y="364"/>
                  <a:pt x="492" y="363"/>
                  <a:pt x="494" y="362"/>
                </a:cubicBezTo>
                <a:cubicBezTo>
                  <a:pt x="499" y="357"/>
                  <a:pt x="501" y="349"/>
                  <a:pt x="496" y="343"/>
                </a:cubicBezTo>
                <a:lnTo>
                  <a:pt x="456" y="290"/>
                </a:lnTo>
                <a:cubicBezTo>
                  <a:pt x="451" y="270"/>
                  <a:pt x="448" y="234"/>
                  <a:pt x="475" y="219"/>
                </a:cubicBezTo>
                <a:close/>
                <a:moveTo>
                  <a:pt x="5" y="242"/>
                </a:moveTo>
                <a:cubicBezTo>
                  <a:pt x="4" y="245"/>
                  <a:pt x="5" y="248"/>
                  <a:pt x="6" y="250"/>
                </a:cubicBezTo>
                <a:cubicBezTo>
                  <a:pt x="6" y="251"/>
                  <a:pt x="6" y="252"/>
                  <a:pt x="6" y="252"/>
                </a:cubicBezTo>
                <a:lnTo>
                  <a:pt x="7" y="252"/>
                </a:lnTo>
                <a:cubicBezTo>
                  <a:pt x="9" y="255"/>
                  <a:pt x="12" y="257"/>
                  <a:pt x="16" y="257"/>
                </a:cubicBezTo>
                <a:cubicBezTo>
                  <a:pt x="16" y="257"/>
                  <a:pt x="17" y="257"/>
                  <a:pt x="18" y="257"/>
                </a:cubicBezTo>
                <a:cubicBezTo>
                  <a:pt x="20" y="257"/>
                  <a:pt x="22" y="257"/>
                  <a:pt x="24" y="256"/>
                </a:cubicBezTo>
                <a:cubicBezTo>
                  <a:pt x="24" y="256"/>
                  <a:pt x="24" y="257"/>
                  <a:pt x="24" y="257"/>
                </a:cubicBezTo>
                <a:cubicBezTo>
                  <a:pt x="17" y="310"/>
                  <a:pt x="51" y="385"/>
                  <a:pt x="76" y="409"/>
                </a:cubicBezTo>
                <a:cubicBezTo>
                  <a:pt x="95" y="427"/>
                  <a:pt x="138" y="438"/>
                  <a:pt x="184" y="438"/>
                </a:cubicBezTo>
                <a:cubicBezTo>
                  <a:pt x="184" y="438"/>
                  <a:pt x="184" y="438"/>
                  <a:pt x="184" y="438"/>
                </a:cubicBezTo>
                <a:cubicBezTo>
                  <a:pt x="229" y="438"/>
                  <a:pt x="265" y="428"/>
                  <a:pt x="283" y="409"/>
                </a:cubicBezTo>
                <a:cubicBezTo>
                  <a:pt x="305" y="386"/>
                  <a:pt x="321" y="358"/>
                  <a:pt x="329" y="337"/>
                </a:cubicBezTo>
                <a:lnTo>
                  <a:pt x="364" y="292"/>
                </a:lnTo>
                <a:cubicBezTo>
                  <a:pt x="368" y="286"/>
                  <a:pt x="367" y="278"/>
                  <a:pt x="361" y="273"/>
                </a:cubicBezTo>
                <a:cubicBezTo>
                  <a:pt x="357" y="270"/>
                  <a:pt x="352" y="270"/>
                  <a:pt x="348" y="272"/>
                </a:cubicBezTo>
                <a:cubicBezTo>
                  <a:pt x="348" y="264"/>
                  <a:pt x="348" y="256"/>
                  <a:pt x="346" y="248"/>
                </a:cubicBezTo>
                <a:cubicBezTo>
                  <a:pt x="355" y="249"/>
                  <a:pt x="369" y="250"/>
                  <a:pt x="390" y="251"/>
                </a:cubicBezTo>
                <a:cubicBezTo>
                  <a:pt x="393" y="251"/>
                  <a:pt x="396" y="251"/>
                  <a:pt x="399" y="251"/>
                </a:cubicBezTo>
                <a:cubicBezTo>
                  <a:pt x="418" y="251"/>
                  <a:pt x="432" y="249"/>
                  <a:pt x="441" y="248"/>
                </a:cubicBezTo>
                <a:cubicBezTo>
                  <a:pt x="439" y="256"/>
                  <a:pt x="439" y="264"/>
                  <a:pt x="440" y="272"/>
                </a:cubicBezTo>
                <a:cubicBezTo>
                  <a:pt x="435" y="270"/>
                  <a:pt x="430" y="270"/>
                  <a:pt x="426" y="273"/>
                </a:cubicBezTo>
                <a:cubicBezTo>
                  <a:pt x="420" y="278"/>
                  <a:pt x="419" y="286"/>
                  <a:pt x="424" y="292"/>
                </a:cubicBezTo>
                <a:lnTo>
                  <a:pt x="458" y="337"/>
                </a:lnTo>
                <a:cubicBezTo>
                  <a:pt x="467" y="358"/>
                  <a:pt x="482" y="386"/>
                  <a:pt x="505" y="409"/>
                </a:cubicBezTo>
                <a:cubicBezTo>
                  <a:pt x="523" y="428"/>
                  <a:pt x="559" y="438"/>
                  <a:pt x="603" y="438"/>
                </a:cubicBezTo>
                <a:cubicBezTo>
                  <a:pt x="649" y="438"/>
                  <a:pt x="693" y="427"/>
                  <a:pt x="711" y="409"/>
                </a:cubicBezTo>
                <a:cubicBezTo>
                  <a:pt x="737" y="385"/>
                  <a:pt x="770" y="310"/>
                  <a:pt x="764" y="257"/>
                </a:cubicBezTo>
                <a:cubicBezTo>
                  <a:pt x="764" y="257"/>
                  <a:pt x="763" y="256"/>
                  <a:pt x="763" y="256"/>
                </a:cubicBezTo>
                <a:cubicBezTo>
                  <a:pt x="765" y="257"/>
                  <a:pt x="767" y="257"/>
                  <a:pt x="770" y="257"/>
                </a:cubicBezTo>
                <a:cubicBezTo>
                  <a:pt x="770" y="257"/>
                  <a:pt x="771" y="257"/>
                  <a:pt x="772" y="257"/>
                </a:cubicBezTo>
                <a:cubicBezTo>
                  <a:pt x="775" y="257"/>
                  <a:pt x="778" y="255"/>
                  <a:pt x="780" y="252"/>
                </a:cubicBezTo>
                <a:lnTo>
                  <a:pt x="781" y="252"/>
                </a:lnTo>
                <a:cubicBezTo>
                  <a:pt x="781" y="252"/>
                  <a:pt x="781" y="251"/>
                  <a:pt x="781" y="250"/>
                </a:cubicBezTo>
                <a:cubicBezTo>
                  <a:pt x="782" y="248"/>
                  <a:pt x="783" y="245"/>
                  <a:pt x="783" y="242"/>
                </a:cubicBezTo>
                <a:cubicBezTo>
                  <a:pt x="783" y="241"/>
                  <a:pt x="782" y="239"/>
                  <a:pt x="782" y="238"/>
                </a:cubicBezTo>
                <a:cubicBezTo>
                  <a:pt x="784" y="188"/>
                  <a:pt x="787" y="24"/>
                  <a:pt x="719" y="2"/>
                </a:cubicBezTo>
                <a:cubicBezTo>
                  <a:pt x="712" y="0"/>
                  <a:pt x="700" y="5"/>
                  <a:pt x="686" y="13"/>
                </a:cubicBezTo>
                <a:cubicBezTo>
                  <a:pt x="682" y="13"/>
                  <a:pt x="678" y="13"/>
                  <a:pt x="675" y="16"/>
                </a:cubicBezTo>
                <a:lnTo>
                  <a:pt x="615" y="70"/>
                </a:lnTo>
                <a:cubicBezTo>
                  <a:pt x="610" y="74"/>
                  <a:pt x="609" y="81"/>
                  <a:pt x="612" y="86"/>
                </a:cubicBezTo>
                <a:cubicBezTo>
                  <a:pt x="620" y="97"/>
                  <a:pt x="628" y="96"/>
                  <a:pt x="628" y="96"/>
                </a:cubicBezTo>
                <a:cubicBezTo>
                  <a:pt x="629" y="96"/>
                  <a:pt x="631" y="96"/>
                  <a:pt x="632" y="96"/>
                </a:cubicBezTo>
                <a:cubicBezTo>
                  <a:pt x="649" y="93"/>
                  <a:pt x="664" y="72"/>
                  <a:pt x="671" y="56"/>
                </a:cubicBezTo>
                <a:lnTo>
                  <a:pt x="693" y="36"/>
                </a:lnTo>
                <a:cubicBezTo>
                  <a:pt x="697" y="33"/>
                  <a:pt x="698" y="27"/>
                  <a:pt x="696" y="23"/>
                </a:cubicBezTo>
                <a:cubicBezTo>
                  <a:pt x="705" y="17"/>
                  <a:pt x="712" y="14"/>
                  <a:pt x="715" y="15"/>
                </a:cubicBezTo>
                <a:cubicBezTo>
                  <a:pt x="762" y="30"/>
                  <a:pt x="770" y="138"/>
                  <a:pt x="770" y="210"/>
                </a:cubicBezTo>
                <a:cubicBezTo>
                  <a:pt x="756" y="188"/>
                  <a:pt x="730" y="167"/>
                  <a:pt x="686" y="166"/>
                </a:cubicBezTo>
                <a:cubicBezTo>
                  <a:pt x="678" y="166"/>
                  <a:pt x="670" y="166"/>
                  <a:pt x="661" y="165"/>
                </a:cubicBezTo>
                <a:cubicBezTo>
                  <a:pt x="550" y="162"/>
                  <a:pt x="456" y="163"/>
                  <a:pt x="443" y="212"/>
                </a:cubicBezTo>
                <a:cubicBezTo>
                  <a:pt x="442" y="218"/>
                  <a:pt x="444" y="223"/>
                  <a:pt x="449" y="226"/>
                </a:cubicBezTo>
                <a:cubicBezTo>
                  <a:pt x="447" y="229"/>
                  <a:pt x="446" y="231"/>
                  <a:pt x="445" y="234"/>
                </a:cubicBezTo>
                <a:cubicBezTo>
                  <a:pt x="437" y="235"/>
                  <a:pt x="419" y="238"/>
                  <a:pt x="390" y="237"/>
                </a:cubicBezTo>
                <a:cubicBezTo>
                  <a:pt x="363" y="237"/>
                  <a:pt x="349" y="235"/>
                  <a:pt x="342" y="234"/>
                </a:cubicBezTo>
                <a:cubicBezTo>
                  <a:pt x="341" y="231"/>
                  <a:pt x="340" y="229"/>
                  <a:pt x="338" y="226"/>
                </a:cubicBezTo>
                <a:cubicBezTo>
                  <a:pt x="343" y="223"/>
                  <a:pt x="346" y="218"/>
                  <a:pt x="344" y="212"/>
                </a:cubicBezTo>
                <a:cubicBezTo>
                  <a:pt x="332" y="163"/>
                  <a:pt x="238" y="162"/>
                  <a:pt x="126" y="165"/>
                </a:cubicBezTo>
                <a:cubicBezTo>
                  <a:pt x="117" y="166"/>
                  <a:pt x="109" y="166"/>
                  <a:pt x="102" y="166"/>
                </a:cubicBezTo>
                <a:cubicBezTo>
                  <a:pt x="58" y="167"/>
                  <a:pt x="32" y="188"/>
                  <a:pt x="18" y="210"/>
                </a:cubicBezTo>
                <a:cubicBezTo>
                  <a:pt x="17" y="138"/>
                  <a:pt x="26" y="30"/>
                  <a:pt x="73" y="15"/>
                </a:cubicBezTo>
                <a:cubicBezTo>
                  <a:pt x="75" y="14"/>
                  <a:pt x="82" y="17"/>
                  <a:pt x="91" y="22"/>
                </a:cubicBezTo>
                <a:cubicBezTo>
                  <a:pt x="90" y="27"/>
                  <a:pt x="91" y="33"/>
                  <a:pt x="95" y="36"/>
                </a:cubicBezTo>
                <a:lnTo>
                  <a:pt x="117" y="56"/>
                </a:lnTo>
                <a:cubicBezTo>
                  <a:pt x="123" y="72"/>
                  <a:pt x="139" y="93"/>
                  <a:pt x="156" y="95"/>
                </a:cubicBezTo>
                <a:cubicBezTo>
                  <a:pt x="157" y="96"/>
                  <a:pt x="158" y="96"/>
                  <a:pt x="159" y="96"/>
                </a:cubicBezTo>
                <a:cubicBezTo>
                  <a:pt x="159" y="96"/>
                  <a:pt x="167" y="97"/>
                  <a:pt x="175" y="86"/>
                </a:cubicBezTo>
                <a:cubicBezTo>
                  <a:pt x="178" y="80"/>
                  <a:pt x="177" y="74"/>
                  <a:pt x="173" y="70"/>
                </a:cubicBezTo>
                <a:lnTo>
                  <a:pt x="113" y="16"/>
                </a:lnTo>
                <a:cubicBezTo>
                  <a:pt x="109" y="13"/>
                  <a:pt x="105" y="13"/>
                  <a:pt x="101" y="13"/>
                </a:cubicBezTo>
                <a:cubicBezTo>
                  <a:pt x="88" y="5"/>
                  <a:pt x="76" y="0"/>
                  <a:pt x="69" y="2"/>
                </a:cubicBezTo>
                <a:cubicBezTo>
                  <a:pt x="0" y="24"/>
                  <a:pt x="3" y="188"/>
                  <a:pt x="5" y="238"/>
                </a:cubicBezTo>
                <a:cubicBezTo>
                  <a:pt x="5" y="239"/>
                  <a:pt x="5" y="241"/>
                  <a:pt x="5" y="242"/>
                </a:cubicBezTo>
                <a:close/>
              </a:path>
            </a:pathLst>
          </a:custGeom>
          <a:solidFill>
            <a:srgbClr val="a6a6a6"/>
          </a:solidFill>
          <a:ln w="0">
            <a:noFill/>
          </a:ln>
        </p:spPr>
        <p:style>
          <a:lnRef idx="0"/>
          <a:fillRef idx="0"/>
          <a:effectRef idx="0"/>
          <a:fontRef idx="minor"/>
        </p:style>
        <p:txBody>
          <a:bodyPr lIns="145800" rIns="145800" tIns="46080" bIns="46080" anchor="t">
            <a:noAutofit/>
          </a:bodyPr>
          <a:p>
            <a:endParaRPr b="0" lang="en-US" sz="1800" spc="-1" strike="noStrike">
              <a:solidFill>
                <a:srgbClr val="000000"/>
              </a:solidFill>
              <a:latin typeface="Calibri"/>
            </a:endParaRPr>
          </a:p>
        </p:txBody>
      </p:sp>
      <p:sp>
        <p:nvSpPr>
          <p:cNvPr id="1784" name="Freeform 173"/>
          <p:cNvSpPr/>
          <p:nvPr/>
        </p:nvSpPr>
        <p:spPr>
          <a:xfrm>
            <a:off x="6243480" y="855720"/>
            <a:ext cx="233640" cy="182520"/>
          </a:xfrm>
          <a:custGeom>
            <a:avLst/>
            <a:gdLst/>
            <a:ahLst/>
            <a:rect l="l" t="t" r="r" b="b"/>
            <a:pathLst>
              <a:path w="873" h="682">
                <a:moveTo>
                  <a:pt x="424" y="368"/>
                </a:moveTo>
                <a:cubicBezTo>
                  <a:pt x="424" y="423"/>
                  <a:pt x="378" y="468"/>
                  <a:pt x="321" y="468"/>
                </a:cubicBezTo>
                <a:cubicBezTo>
                  <a:pt x="264" y="468"/>
                  <a:pt x="218" y="423"/>
                  <a:pt x="218" y="368"/>
                </a:cubicBezTo>
                <a:cubicBezTo>
                  <a:pt x="218" y="312"/>
                  <a:pt x="264" y="267"/>
                  <a:pt x="321" y="267"/>
                </a:cubicBezTo>
                <a:cubicBezTo>
                  <a:pt x="378" y="267"/>
                  <a:pt x="424" y="312"/>
                  <a:pt x="424" y="368"/>
                </a:cubicBezTo>
                <a:close/>
                <a:moveTo>
                  <a:pt x="783" y="130"/>
                </a:moveTo>
                <a:cubicBezTo>
                  <a:pt x="783" y="153"/>
                  <a:pt x="764" y="172"/>
                  <a:pt x="741" y="172"/>
                </a:cubicBezTo>
                <a:cubicBezTo>
                  <a:pt x="717" y="172"/>
                  <a:pt x="698" y="153"/>
                  <a:pt x="698" y="130"/>
                </a:cubicBezTo>
                <a:cubicBezTo>
                  <a:pt x="698" y="107"/>
                  <a:pt x="717" y="88"/>
                  <a:pt x="741" y="88"/>
                </a:cubicBezTo>
                <a:cubicBezTo>
                  <a:pt x="764" y="88"/>
                  <a:pt x="783" y="107"/>
                  <a:pt x="783" y="130"/>
                </a:cubicBezTo>
                <a:close/>
                <a:moveTo>
                  <a:pt x="837" y="100"/>
                </a:moveTo>
                <a:lnTo>
                  <a:pt x="830" y="84"/>
                </a:lnTo>
                <a:cubicBezTo>
                  <a:pt x="830" y="84"/>
                  <a:pt x="846" y="49"/>
                  <a:pt x="844" y="48"/>
                </a:cubicBezTo>
                <a:lnTo>
                  <a:pt x="824" y="28"/>
                </a:lnTo>
                <a:cubicBezTo>
                  <a:pt x="822" y="26"/>
                  <a:pt x="787" y="42"/>
                  <a:pt x="787" y="42"/>
                </a:cubicBezTo>
                <a:lnTo>
                  <a:pt x="771" y="36"/>
                </a:lnTo>
                <a:cubicBezTo>
                  <a:pt x="771" y="36"/>
                  <a:pt x="757" y="0"/>
                  <a:pt x="755" y="0"/>
                </a:cubicBezTo>
                <a:lnTo>
                  <a:pt x="725" y="0"/>
                </a:lnTo>
                <a:cubicBezTo>
                  <a:pt x="723" y="0"/>
                  <a:pt x="710" y="36"/>
                  <a:pt x="710" y="36"/>
                </a:cubicBezTo>
                <a:lnTo>
                  <a:pt x="694" y="43"/>
                </a:lnTo>
                <a:cubicBezTo>
                  <a:pt x="694" y="43"/>
                  <a:pt x="658" y="27"/>
                  <a:pt x="657" y="29"/>
                </a:cubicBezTo>
                <a:lnTo>
                  <a:pt x="636" y="49"/>
                </a:lnTo>
                <a:cubicBezTo>
                  <a:pt x="635" y="50"/>
                  <a:pt x="651" y="85"/>
                  <a:pt x="651" y="85"/>
                </a:cubicBezTo>
                <a:lnTo>
                  <a:pt x="644" y="100"/>
                </a:lnTo>
                <a:cubicBezTo>
                  <a:pt x="644" y="100"/>
                  <a:pt x="608" y="114"/>
                  <a:pt x="608" y="116"/>
                </a:cubicBezTo>
                <a:lnTo>
                  <a:pt x="608" y="145"/>
                </a:lnTo>
                <a:cubicBezTo>
                  <a:pt x="608" y="147"/>
                  <a:pt x="645" y="160"/>
                  <a:pt x="645" y="160"/>
                </a:cubicBezTo>
                <a:lnTo>
                  <a:pt x="651" y="176"/>
                </a:lnTo>
                <a:cubicBezTo>
                  <a:pt x="651" y="176"/>
                  <a:pt x="636" y="211"/>
                  <a:pt x="637" y="212"/>
                </a:cubicBezTo>
                <a:lnTo>
                  <a:pt x="658" y="232"/>
                </a:lnTo>
                <a:cubicBezTo>
                  <a:pt x="659" y="234"/>
                  <a:pt x="694" y="218"/>
                  <a:pt x="694" y="218"/>
                </a:cubicBezTo>
                <a:lnTo>
                  <a:pt x="710" y="224"/>
                </a:lnTo>
                <a:cubicBezTo>
                  <a:pt x="710" y="224"/>
                  <a:pt x="725" y="260"/>
                  <a:pt x="727" y="260"/>
                </a:cubicBezTo>
                <a:lnTo>
                  <a:pt x="756" y="260"/>
                </a:lnTo>
                <a:cubicBezTo>
                  <a:pt x="758" y="260"/>
                  <a:pt x="771" y="224"/>
                  <a:pt x="771" y="224"/>
                </a:cubicBezTo>
                <a:lnTo>
                  <a:pt x="787" y="218"/>
                </a:lnTo>
                <a:cubicBezTo>
                  <a:pt x="787" y="218"/>
                  <a:pt x="823" y="233"/>
                  <a:pt x="824" y="231"/>
                </a:cubicBezTo>
                <a:lnTo>
                  <a:pt x="845" y="211"/>
                </a:lnTo>
                <a:cubicBezTo>
                  <a:pt x="846" y="210"/>
                  <a:pt x="830" y="175"/>
                  <a:pt x="830" y="175"/>
                </a:cubicBezTo>
                <a:lnTo>
                  <a:pt x="837" y="160"/>
                </a:lnTo>
                <a:cubicBezTo>
                  <a:pt x="837" y="160"/>
                  <a:pt x="873" y="146"/>
                  <a:pt x="873" y="144"/>
                </a:cubicBezTo>
                <a:lnTo>
                  <a:pt x="873" y="115"/>
                </a:lnTo>
                <a:cubicBezTo>
                  <a:pt x="873" y="113"/>
                  <a:pt x="837" y="100"/>
                  <a:pt x="837" y="100"/>
                </a:cubicBezTo>
                <a:close/>
                <a:moveTo>
                  <a:pt x="554" y="295"/>
                </a:moveTo>
                <a:lnTo>
                  <a:pt x="538" y="257"/>
                </a:lnTo>
                <a:cubicBezTo>
                  <a:pt x="538" y="257"/>
                  <a:pt x="576" y="172"/>
                  <a:pt x="572" y="168"/>
                </a:cubicBezTo>
                <a:lnTo>
                  <a:pt x="522" y="120"/>
                </a:lnTo>
                <a:cubicBezTo>
                  <a:pt x="519" y="116"/>
                  <a:pt x="434" y="155"/>
                  <a:pt x="434" y="155"/>
                </a:cubicBezTo>
                <a:lnTo>
                  <a:pt x="394" y="139"/>
                </a:lnTo>
                <a:cubicBezTo>
                  <a:pt x="394" y="139"/>
                  <a:pt x="360" y="53"/>
                  <a:pt x="355" y="53"/>
                </a:cubicBezTo>
                <a:lnTo>
                  <a:pt x="284" y="53"/>
                </a:lnTo>
                <a:cubicBezTo>
                  <a:pt x="280" y="53"/>
                  <a:pt x="247" y="140"/>
                  <a:pt x="247" y="140"/>
                </a:cubicBezTo>
                <a:lnTo>
                  <a:pt x="208" y="155"/>
                </a:lnTo>
                <a:cubicBezTo>
                  <a:pt x="208" y="155"/>
                  <a:pt x="121" y="118"/>
                  <a:pt x="118" y="122"/>
                </a:cubicBezTo>
                <a:lnTo>
                  <a:pt x="68" y="171"/>
                </a:lnTo>
                <a:cubicBezTo>
                  <a:pt x="65" y="174"/>
                  <a:pt x="104" y="257"/>
                  <a:pt x="104" y="257"/>
                </a:cubicBezTo>
                <a:lnTo>
                  <a:pt x="88" y="296"/>
                </a:lnTo>
                <a:cubicBezTo>
                  <a:pt x="88" y="296"/>
                  <a:pt x="0" y="330"/>
                  <a:pt x="0" y="334"/>
                </a:cubicBezTo>
                <a:lnTo>
                  <a:pt x="0" y="404"/>
                </a:lnTo>
                <a:cubicBezTo>
                  <a:pt x="0" y="408"/>
                  <a:pt x="88" y="440"/>
                  <a:pt x="88" y="440"/>
                </a:cubicBezTo>
                <a:lnTo>
                  <a:pt x="104" y="478"/>
                </a:lnTo>
                <a:cubicBezTo>
                  <a:pt x="104" y="478"/>
                  <a:pt x="67" y="563"/>
                  <a:pt x="70" y="567"/>
                </a:cubicBezTo>
                <a:lnTo>
                  <a:pt x="120" y="616"/>
                </a:lnTo>
                <a:cubicBezTo>
                  <a:pt x="123" y="619"/>
                  <a:pt x="209" y="580"/>
                  <a:pt x="209" y="580"/>
                </a:cubicBezTo>
                <a:lnTo>
                  <a:pt x="248" y="596"/>
                </a:lnTo>
                <a:cubicBezTo>
                  <a:pt x="248" y="596"/>
                  <a:pt x="283" y="682"/>
                  <a:pt x="287" y="682"/>
                </a:cubicBezTo>
                <a:lnTo>
                  <a:pt x="358" y="682"/>
                </a:lnTo>
                <a:cubicBezTo>
                  <a:pt x="363" y="682"/>
                  <a:pt x="395" y="596"/>
                  <a:pt x="395" y="596"/>
                </a:cubicBezTo>
                <a:lnTo>
                  <a:pt x="434" y="580"/>
                </a:lnTo>
                <a:cubicBezTo>
                  <a:pt x="434" y="580"/>
                  <a:pt x="521" y="617"/>
                  <a:pt x="524" y="613"/>
                </a:cubicBezTo>
                <a:lnTo>
                  <a:pt x="574" y="565"/>
                </a:lnTo>
                <a:cubicBezTo>
                  <a:pt x="578" y="561"/>
                  <a:pt x="538" y="478"/>
                  <a:pt x="538" y="478"/>
                </a:cubicBezTo>
                <a:lnTo>
                  <a:pt x="554" y="439"/>
                </a:lnTo>
                <a:cubicBezTo>
                  <a:pt x="554" y="439"/>
                  <a:pt x="642" y="405"/>
                  <a:pt x="642" y="401"/>
                </a:cubicBezTo>
                <a:lnTo>
                  <a:pt x="642" y="332"/>
                </a:lnTo>
                <a:cubicBezTo>
                  <a:pt x="643" y="327"/>
                  <a:pt x="554" y="295"/>
                  <a:pt x="554" y="29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85" name="Freeform 174"/>
          <p:cNvSpPr/>
          <p:nvPr/>
        </p:nvSpPr>
        <p:spPr>
          <a:xfrm>
            <a:off x="6273720" y="1168560"/>
            <a:ext cx="176400" cy="171360"/>
          </a:xfrm>
          <a:custGeom>
            <a:avLst/>
            <a:gdLst/>
            <a:ahLst/>
            <a:rect l="l" t="t" r="r" b="b"/>
            <a:pathLst>
              <a:path w="657" h="639">
                <a:moveTo>
                  <a:pt x="292" y="630"/>
                </a:moveTo>
                <a:cubicBezTo>
                  <a:pt x="220" y="623"/>
                  <a:pt x="158" y="594"/>
                  <a:pt x="106" y="544"/>
                </a:cubicBezTo>
                <a:cubicBezTo>
                  <a:pt x="31" y="470"/>
                  <a:pt x="0" y="381"/>
                  <a:pt x="12" y="277"/>
                </a:cubicBezTo>
                <a:cubicBezTo>
                  <a:pt x="17" y="224"/>
                  <a:pt x="37" y="175"/>
                  <a:pt x="68" y="132"/>
                </a:cubicBezTo>
                <a:cubicBezTo>
                  <a:pt x="119" y="63"/>
                  <a:pt x="187" y="20"/>
                  <a:pt x="272" y="5"/>
                </a:cubicBezTo>
                <a:cubicBezTo>
                  <a:pt x="289" y="2"/>
                  <a:pt x="307" y="1"/>
                  <a:pt x="324" y="0"/>
                </a:cubicBezTo>
                <a:cubicBezTo>
                  <a:pt x="325" y="0"/>
                  <a:pt x="326" y="0"/>
                  <a:pt x="327" y="0"/>
                </a:cubicBezTo>
                <a:cubicBezTo>
                  <a:pt x="343" y="1"/>
                  <a:pt x="359" y="3"/>
                  <a:pt x="375" y="5"/>
                </a:cubicBezTo>
                <a:cubicBezTo>
                  <a:pt x="538" y="30"/>
                  <a:pt x="657" y="185"/>
                  <a:pt x="638" y="349"/>
                </a:cubicBezTo>
                <a:cubicBezTo>
                  <a:pt x="629" y="428"/>
                  <a:pt x="596" y="495"/>
                  <a:pt x="538" y="548"/>
                </a:cubicBezTo>
                <a:cubicBezTo>
                  <a:pt x="468" y="612"/>
                  <a:pt x="386" y="639"/>
                  <a:pt x="292" y="630"/>
                </a:cubicBezTo>
                <a:close/>
                <a:moveTo>
                  <a:pt x="563" y="443"/>
                </a:moveTo>
                <a:cubicBezTo>
                  <a:pt x="618" y="338"/>
                  <a:pt x="591" y="218"/>
                  <a:pt x="535" y="153"/>
                </a:cubicBezTo>
                <a:cubicBezTo>
                  <a:pt x="534" y="164"/>
                  <a:pt x="532" y="175"/>
                  <a:pt x="531" y="186"/>
                </a:cubicBezTo>
                <a:cubicBezTo>
                  <a:pt x="528" y="215"/>
                  <a:pt x="530" y="243"/>
                  <a:pt x="536" y="272"/>
                </a:cubicBezTo>
                <a:cubicBezTo>
                  <a:pt x="537" y="278"/>
                  <a:pt x="537" y="285"/>
                  <a:pt x="535" y="291"/>
                </a:cubicBezTo>
                <a:cubicBezTo>
                  <a:pt x="534" y="294"/>
                  <a:pt x="529" y="298"/>
                  <a:pt x="526" y="298"/>
                </a:cubicBezTo>
                <a:cubicBezTo>
                  <a:pt x="523" y="299"/>
                  <a:pt x="519" y="295"/>
                  <a:pt x="517" y="291"/>
                </a:cubicBezTo>
                <a:cubicBezTo>
                  <a:pt x="515" y="286"/>
                  <a:pt x="515" y="279"/>
                  <a:pt x="515" y="273"/>
                </a:cubicBezTo>
                <a:cubicBezTo>
                  <a:pt x="514" y="269"/>
                  <a:pt x="514" y="264"/>
                  <a:pt x="514" y="258"/>
                </a:cubicBezTo>
                <a:cubicBezTo>
                  <a:pt x="510" y="261"/>
                  <a:pt x="506" y="263"/>
                  <a:pt x="504" y="266"/>
                </a:cubicBezTo>
                <a:cubicBezTo>
                  <a:pt x="497" y="273"/>
                  <a:pt x="490" y="280"/>
                  <a:pt x="484" y="287"/>
                </a:cubicBezTo>
                <a:cubicBezTo>
                  <a:pt x="481" y="291"/>
                  <a:pt x="478" y="295"/>
                  <a:pt x="478" y="299"/>
                </a:cubicBezTo>
                <a:cubicBezTo>
                  <a:pt x="478" y="308"/>
                  <a:pt x="475" y="313"/>
                  <a:pt x="470" y="320"/>
                </a:cubicBezTo>
                <a:cubicBezTo>
                  <a:pt x="465" y="327"/>
                  <a:pt x="463" y="337"/>
                  <a:pt x="460" y="345"/>
                </a:cubicBezTo>
                <a:cubicBezTo>
                  <a:pt x="458" y="349"/>
                  <a:pt x="458" y="353"/>
                  <a:pt x="456" y="356"/>
                </a:cubicBezTo>
                <a:cubicBezTo>
                  <a:pt x="453" y="364"/>
                  <a:pt x="448" y="369"/>
                  <a:pt x="439" y="369"/>
                </a:cubicBezTo>
                <a:cubicBezTo>
                  <a:pt x="429" y="370"/>
                  <a:pt x="426" y="374"/>
                  <a:pt x="424" y="383"/>
                </a:cubicBezTo>
                <a:cubicBezTo>
                  <a:pt x="427" y="384"/>
                  <a:pt x="429" y="384"/>
                  <a:pt x="432" y="384"/>
                </a:cubicBezTo>
                <a:cubicBezTo>
                  <a:pt x="443" y="385"/>
                  <a:pt x="449" y="390"/>
                  <a:pt x="448" y="402"/>
                </a:cubicBezTo>
                <a:cubicBezTo>
                  <a:pt x="447" y="425"/>
                  <a:pt x="439" y="445"/>
                  <a:pt x="422" y="461"/>
                </a:cubicBezTo>
                <a:cubicBezTo>
                  <a:pt x="417" y="466"/>
                  <a:pt x="412" y="470"/>
                  <a:pt x="408" y="474"/>
                </a:cubicBezTo>
                <a:cubicBezTo>
                  <a:pt x="397" y="485"/>
                  <a:pt x="393" y="497"/>
                  <a:pt x="399" y="511"/>
                </a:cubicBezTo>
                <a:cubicBezTo>
                  <a:pt x="401" y="518"/>
                  <a:pt x="404" y="525"/>
                  <a:pt x="405" y="532"/>
                </a:cubicBezTo>
                <a:cubicBezTo>
                  <a:pt x="406" y="539"/>
                  <a:pt x="406" y="547"/>
                  <a:pt x="405" y="554"/>
                </a:cubicBezTo>
                <a:cubicBezTo>
                  <a:pt x="403" y="561"/>
                  <a:pt x="404" y="577"/>
                  <a:pt x="396" y="576"/>
                </a:cubicBezTo>
                <a:cubicBezTo>
                  <a:pt x="383" y="573"/>
                  <a:pt x="375" y="576"/>
                  <a:pt x="374" y="561"/>
                </a:cubicBezTo>
                <a:cubicBezTo>
                  <a:pt x="374" y="558"/>
                  <a:pt x="374" y="558"/>
                  <a:pt x="375" y="555"/>
                </a:cubicBezTo>
                <a:cubicBezTo>
                  <a:pt x="379" y="541"/>
                  <a:pt x="361" y="501"/>
                  <a:pt x="350" y="494"/>
                </a:cubicBezTo>
                <a:cubicBezTo>
                  <a:pt x="341" y="488"/>
                  <a:pt x="332" y="482"/>
                  <a:pt x="323" y="474"/>
                </a:cubicBezTo>
                <a:cubicBezTo>
                  <a:pt x="311" y="464"/>
                  <a:pt x="306" y="450"/>
                  <a:pt x="311" y="435"/>
                </a:cubicBezTo>
                <a:cubicBezTo>
                  <a:pt x="316" y="420"/>
                  <a:pt x="310" y="409"/>
                  <a:pt x="300" y="399"/>
                </a:cubicBezTo>
                <a:cubicBezTo>
                  <a:pt x="289" y="390"/>
                  <a:pt x="282" y="379"/>
                  <a:pt x="283" y="364"/>
                </a:cubicBezTo>
                <a:cubicBezTo>
                  <a:pt x="284" y="349"/>
                  <a:pt x="294" y="338"/>
                  <a:pt x="306" y="339"/>
                </a:cubicBezTo>
                <a:cubicBezTo>
                  <a:pt x="313" y="340"/>
                  <a:pt x="319" y="343"/>
                  <a:pt x="325" y="345"/>
                </a:cubicBezTo>
                <a:cubicBezTo>
                  <a:pt x="334" y="348"/>
                  <a:pt x="342" y="352"/>
                  <a:pt x="351" y="354"/>
                </a:cubicBezTo>
                <a:cubicBezTo>
                  <a:pt x="364" y="356"/>
                  <a:pt x="372" y="348"/>
                  <a:pt x="378" y="338"/>
                </a:cubicBezTo>
                <a:cubicBezTo>
                  <a:pt x="382" y="330"/>
                  <a:pt x="384" y="329"/>
                  <a:pt x="392" y="334"/>
                </a:cubicBezTo>
                <a:cubicBezTo>
                  <a:pt x="399" y="338"/>
                  <a:pt x="405" y="343"/>
                  <a:pt x="412" y="347"/>
                </a:cubicBezTo>
                <a:cubicBezTo>
                  <a:pt x="420" y="351"/>
                  <a:pt x="424" y="349"/>
                  <a:pt x="429" y="343"/>
                </a:cubicBezTo>
                <a:cubicBezTo>
                  <a:pt x="433" y="339"/>
                  <a:pt x="437" y="337"/>
                  <a:pt x="441" y="334"/>
                </a:cubicBezTo>
                <a:cubicBezTo>
                  <a:pt x="444" y="333"/>
                  <a:pt x="449" y="332"/>
                  <a:pt x="451" y="330"/>
                </a:cubicBezTo>
                <a:cubicBezTo>
                  <a:pt x="454" y="326"/>
                  <a:pt x="459" y="322"/>
                  <a:pt x="458" y="318"/>
                </a:cubicBezTo>
                <a:cubicBezTo>
                  <a:pt x="458" y="314"/>
                  <a:pt x="453" y="309"/>
                  <a:pt x="449" y="308"/>
                </a:cubicBezTo>
                <a:cubicBezTo>
                  <a:pt x="442" y="305"/>
                  <a:pt x="434" y="304"/>
                  <a:pt x="427" y="303"/>
                </a:cubicBezTo>
                <a:cubicBezTo>
                  <a:pt x="423" y="302"/>
                  <a:pt x="418" y="301"/>
                  <a:pt x="415" y="299"/>
                </a:cubicBezTo>
                <a:cubicBezTo>
                  <a:pt x="409" y="297"/>
                  <a:pt x="410" y="294"/>
                  <a:pt x="414" y="291"/>
                </a:cubicBezTo>
                <a:cubicBezTo>
                  <a:pt x="416" y="289"/>
                  <a:pt x="418" y="288"/>
                  <a:pt x="420" y="287"/>
                </a:cubicBezTo>
                <a:cubicBezTo>
                  <a:pt x="432" y="282"/>
                  <a:pt x="443" y="278"/>
                  <a:pt x="455" y="273"/>
                </a:cubicBezTo>
                <a:cubicBezTo>
                  <a:pt x="458" y="272"/>
                  <a:pt x="461" y="271"/>
                  <a:pt x="463" y="269"/>
                </a:cubicBezTo>
                <a:cubicBezTo>
                  <a:pt x="470" y="264"/>
                  <a:pt x="471" y="259"/>
                  <a:pt x="465" y="253"/>
                </a:cubicBezTo>
                <a:cubicBezTo>
                  <a:pt x="439" y="230"/>
                  <a:pt x="409" y="224"/>
                  <a:pt x="382" y="254"/>
                </a:cubicBezTo>
                <a:cubicBezTo>
                  <a:pt x="373" y="264"/>
                  <a:pt x="368" y="275"/>
                  <a:pt x="360" y="285"/>
                </a:cubicBezTo>
                <a:cubicBezTo>
                  <a:pt x="354" y="293"/>
                  <a:pt x="347" y="300"/>
                  <a:pt x="339" y="306"/>
                </a:cubicBezTo>
                <a:cubicBezTo>
                  <a:pt x="336" y="309"/>
                  <a:pt x="328" y="309"/>
                  <a:pt x="325" y="307"/>
                </a:cubicBezTo>
                <a:cubicBezTo>
                  <a:pt x="319" y="304"/>
                  <a:pt x="319" y="297"/>
                  <a:pt x="322" y="292"/>
                </a:cubicBezTo>
                <a:cubicBezTo>
                  <a:pt x="324" y="287"/>
                  <a:pt x="327" y="282"/>
                  <a:pt x="330" y="278"/>
                </a:cubicBezTo>
                <a:cubicBezTo>
                  <a:pt x="346" y="258"/>
                  <a:pt x="344" y="220"/>
                  <a:pt x="315" y="204"/>
                </a:cubicBezTo>
                <a:cubicBezTo>
                  <a:pt x="305" y="199"/>
                  <a:pt x="295" y="193"/>
                  <a:pt x="290" y="179"/>
                </a:cubicBezTo>
                <a:cubicBezTo>
                  <a:pt x="296" y="180"/>
                  <a:pt x="300" y="181"/>
                  <a:pt x="304" y="183"/>
                </a:cubicBezTo>
                <a:cubicBezTo>
                  <a:pt x="326" y="190"/>
                  <a:pt x="311" y="173"/>
                  <a:pt x="300" y="170"/>
                </a:cubicBezTo>
                <a:cubicBezTo>
                  <a:pt x="294" y="168"/>
                  <a:pt x="306" y="163"/>
                  <a:pt x="306" y="163"/>
                </a:cubicBezTo>
                <a:cubicBezTo>
                  <a:pt x="306" y="163"/>
                  <a:pt x="298" y="160"/>
                  <a:pt x="289" y="157"/>
                </a:cubicBezTo>
                <a:cubicBezTo>
                  <a:pt x="284" y="154"/>
                  <a:pt x="278" y="151"/>
                  <a:pt x="273" y="147"/>
                </a:cubicBezTo>
                <a:cubicBezTo>
                  <a:pt x="270" y="145"/>
                  <a:pt x="268" y="140"/>
                  <a:pt x="266" y="136"/>
                </a:cubicBezTo>
                <a:cubicBezTo>
                  <a:pt x="267" y="135"/>
                  <a:pt x="267" y="135"/>
                  <a:pt x="268" y="134"/>
                </a:cubicBezTo>
                <a:cubicBezTo>
                  <a:pt x="274" y="135"/>
                  <a:pt x="280" y="136"/>
                  <a:pt x="286" y="137"/>
                </a:cubicBezTo>
                <a:cubicBezTo>
                  <a:pt x="296" y="138"/>
                  <a:pt x="298" y="136"/>
                  <a:pt x="299" y="125"/>
                </a:cubicBezTo>
                <a:cubicBezTo>
                  <a:pt x="300" y="118"/>
                  <a:pt x="307" y="115"/>
                  <a:pt x="314" y="118"/>
                </a:cubicBezTo>
                <a:cubicBezTo>
                  <a:pt x="318" y="121"/>
                  <a:pt x="322" y="124"/>
                  <a:pt x="326" y="127"/>
                </a:cubicBezTo>
                <a:cubicBezTo>
                  <a:pt x="336" y="133"/>
                  <a:pt x="344" y="131"/>
                  <a:pt x="348" y="120"/>
                </a:cubicBezTo>
                <a:cubicBezTo>
                  <a:pt x="350" y="113"/>
                  <a:pt x="353" y="112"/>
                  <a:pt x="360" y="116"/>
                </a:cubicBezTo>
                <a:cubicBezTo>
                  <a:pt x="363" y="117"/>
                  <a:pt x="365" y="120"/>
                  <a:pt x="368" y="122"/>
                </a:cubicBezTo>
                <a:cubicBezTo>
                  <a:pt x="373" y="125"/>
                  <a:pt x="379" y="128"/>
                  <a:pt x="384" y="130"/>
                </a:cubicBezTo>
                <a:cubicBezTo>
                  <a:pt x="390" y="131"/>
                  <a:pt x="396" y="133"/>
                  <a:pt x="400" y="127"/>
                </a:cubicBezTo>
                <a:cubicBezTo>
                  <a:pt x="404" y="121"/>
                  <a:pt x="400" y="114"/>
                  <a:pt x="395" y="111"/>
                </a:cubicBezTo>
                <a:cubicBezTo>
                  <a:pt x="389" y="106"/>
                  <a:pt x="382" y="102"/>
                  <a:pt x="375" y="98"/>
                </a:cubicBezTo>
                <a:cubicBezTo>
                  <a:pt x="365" y="92"/>
                  <a:pt x="355" y="88"/>
                  <a:pt x="345" y="82"/>
                </a:cubicBezTo>
                <a:cubicBezTo>
                  <a:pt x="338" y="77"/>
                  <a:pt x="335" y="70"/>
                  <a:pt x="337" y="61"/>
                </a:cubicBezTo>
                <a:cubicBezTo>
                  <a:pt x="339" y="54"/>
                  <a:pt x="344" y="52"/>
                  <a:pt x="351" y="55"/>
                </a:cubicBezTo>
                <a:cubicBezTo>
                  <a:pt x="356" y="58"/>
                  <a:pt x="361" y="62"/>
                  <a:pt x="367" y="64"/>
                </a:cubicBezTo>
                <a:cubicBezTo>
                  <a:pt x="371" y="66"/>
                  <a:pt x="376" y="66"/>
                  <a:pt x="381" y="65"/>
                </a:cubicBezTo>
                <a:cubicBezTo>
                  <a:pt x="382" y="65"/>
                  <a:pt x="384" y="60"/>
                  <a:pt x="384" y="58"/>
                </a:cubicBezTo>
                <a:cubicBezTo>
                  <a:pt x="384" y="56"/>
                  <a:pt x="381" y="53"/>
                  <a:pt x="379" y="53"/>
                </a:cubicBezTo>
                <a:cubicBezTo>
                  <a:pt x="365" y="51"/>
                  <a:pt x="352" y="49"/>
                  <a:pt x="338" y="47"/>
                </a:cubicBezTo>
                <a:cubicBezTo>
                  <a:pt x="336" y="47"/>
                  <a:pt x="333" y="48"/>
                  <a:pt x="332" y="50"/>
                </a:cubicBezTo>
                <a:cubicBezTo>
                  <a:pt x="323" y="61"/>
                  <a:pt x="310" y="67"/>
                  <a:pt x="297" y="71"/>
                </a:cubicBezTo>
                <a:cubicBezTo>
                  <a:pt x="285" y="74"/>
                  <a:pt x="284" y="73"/>
                  <a:pt x="282" y="61"/>
                </a:cubicBezTo>
                <a:cubicBezTo>
                  <a:pt x="268" y="57"/>
                  <a:pt x="253" y="51"/>
                  <a:pt x="239" y="60"/>
                </a:cubicBezTo>
                <a:cubicBezTo>
                  <a:pt x="230" y="65"/>
                  <a:pt x="223" y="72"/>
                  <a:pt x="216" y="78"/>
                </a:cubicBezTo>
                <a:cubicBezTo>
                  <a:pt x="215" y="80"/>
                  <a:pt x="216" y="85"/>
                  <a:pt x="216" y="88"/>
                </a:cubicBezTo>
                <a:cubicBezTo>
                  <a:pt x="217" y="93"/>
                  <a:pt x="220" y="97"/>
                  <a:pt x="221" y="102"/>
                </a:cubicBezTo>
                <a:cubicBezTo>
                  <a:pt x="223" y="110"/>
                  <a:pt x="218" y="117"/>
                  <a:pt x="209" y="117"/>
                </a:cubicBezTo>
                <a:cubicBezTo>
                  <a:pt x="206" y="117"/>
                  <a:pt x="203" y="116"/>
                  <a:pt x="200" y="116"/>
                </a:cubicBezTo>
                <a:cubicBezTo>
                  <a:pt x="192" y="116"/>
                  <a:pt x="189" y="119"/>
                  <a:pt x="190" y="127"/>
                </a:cubicBezTo>
                <a:cubicBezTo>
                  <a:pt x="191" y="139"/>
                  <a:pt x="189" y="140"/>
                  <a:pt x="177" y="138"/>
                </a:cubicBezTo>
                <a:cubicBezTo>
                  <a:pt x="173" y="138"/>
                  <a:pt x="169" y="139"/>
                  <a:pt x="166" y="141"/>
                </a:cubicBezTo>
                <a:cubicBezTo>
                  <a:pt x="164" y="141"/>
                  <a:pt x="162" y="143"/>
                  <a:pt x="160" y="145"/>
                </a:cubicBezTo>
                <a:cubicBezTo>
                  <a:pt x="149" y="153"/>
                  <a:pt x="141" y="150"/>
                  <a:pt x="138" y="136"/>
                </a:cubicBezTo>
                <a:cubicBezTo>
                  <a:pt x="137" y="135"/>
                  <a:pt x="137" y="133"/>
                  <a:pt x="137" y="132"/>
                </a:cubicBezTo>
                <a:cubicBezTo>
                  <a:pt x="136" y="125"/>
                  <a:pt x="132" y="124"/>
                  <a:pt x="128" y="128"/>
                </a:cubicBezTo>
                <a:cubicBezTo>
                  <a:pt x="119" y="138"/>
                  <a:pt x="111" y="148"/>
                  <a:pt x="102" y="158"/>
                </a:cubicBezTo>
                <a:cubicBezTo>
                  <a:pt x="112" y="167"/>
                  <a:pt x="112" y="177"/>
                  <a:pt x="110" y="188"/>
                </a:cubicBezTo>
                <a:cubicBezTo>
                  <a:pt x="107" y="200"/>
                  <a:pt x="110" y="210"/>
                  <a:pt x="115" y="220"/>
                </a:cubicBezTo>
                <a:cubicBezTo>
                  <a:pt x="119" y="230"/>
                  <a:pt x="124" y="240"/>
                  <a:pt x="127" y="250"/>
                </a:cubicBezTo>
                <a:cubicBezTo>
                  <a:pt x="132" y="266"/>
                  <a:pt x="127" y="273"/>
                  <a:pt x="111" y="276"/>
                </a:cubicBezTo>
                <a:cubicBezTo>
                  <a:pt x="96" y="279"/>
                  <a:pt x="93" y="282"/>
                  <a:pt x="93" y="297"/>
                </a:cubicBezTo>
                <a:cubicBezTo>
                  <a:pt x="92" y="317"/>
                  <a:pt x="82" y="331"/>
                  <a:pt x="64" y="340"/>
                </a:cubicBezTo>
                <a:cubicBezTo>
                  <a:pt x="60" y="342"/>
                  <a:pt x="56" y="343"/>
                  <a:pt x="52" y="345"/>
                </a:cubicBezTo>
                <a:cubicBezTo>
                  <a:pt x="54" y="376"/>
                  <a:pt x="63" y="408"/>
                  <a:pt x="78" y="438"/>
                </a:cubicBezTo>
                <a:cubicBezTo>
                  <a:pt x="86" y="425"/>
                  <a:pt x="96" y="405"/>
                  <a:pt x="101" y="389"/>
                </a:cubicBezTo>
                <a:cubicBezTo>
                  <a:pt x="107" y="365"/>
                  <a:pt x="123" y="388"/>
                  <a:pt x="124" y="404"/>
                </a:cubicBezTo>
                <a:cubicBezTo>
                  <a:pt x="126" y="419"/>
                  <a:pt x="136" y="431"/>
                  <a:pt x="157" y="407"/>
                </a:cubicBezTo>
                <a:cubicBezTo>
                  <a:pt x="178" y="384"/>
                  <a:pt x="182" y="389"/>
                  <a:pt x="188" y="389"/>
                </a:cubicBezTo>
                <a:cubicBezTo>
                  <a:pt x="195" y="389"/>
                  <a:pt x="207" y="405"/>
                  <a:pt x="204" y="478"/>
                </a:cubicBezTo>
                <a:cubicBezTo>
                  <a:pt x="202" y="530"/>
                  <a:pt x="182" y="539"/>
                  <a:pt x="168" y="543"/>
                </a:cubicBezTo>
                <a:cubicBezTo>
                  <a:pt x="193" y="560"/>
                  <a:pt x="222" y="573"/>
                  <a:pt x="254" y="582"/>
                </a:cubicBezTo>
                <a:cubicBezTo>
                  <a:pt x="378" y="613"/>
                  <a:pt x="504" y="556"/>
                  <a:pt x="563" y="44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86" name="Freeform 175"/>
          <p:cNvSpPr/>
          <p:nvPr/>
        </p:nvSpPr>
        <p:spPr>
          <a:xfrm>
            <a:off x="3586320" y="1716120"/>
            <a:ext cx="147600" cy="190440"/>
          </a:xfrm>
          <a:custGeom>
            <a:avLst/>
            <a:gdLst/>
            <a:ahLst/>
            <a:rect l="l" t="t" r="r" b="b"/>
            <a:pathLst>
              <a:path w="553" h="710">
                <a:moveTo>
                  <a:pt x="277" y="0"/>
                </a:moveTo>
                <a:cubicBezTo>
                  <a:pt x="365" y="0"/>
                  <a:pt x="437" y="72"/>
                  <a:pt x="437" y="161"/>
                </a:cubicBezTo>
                <a:cubicBezTo>
                  <a:pt x="437" y="250"/>
                  <a:pt x="365" y="322"/>
                  <a:pt x="277" y="322"/>
                </a:cubicBezTo>
                <a:cubicBezTo>
                  <a:pt x="188" y="322"/>
                  <a:pt x="116" y="250"/>
                  <a:pt x="116" y="161"/>
                </a:cubicBezTo>
                <a:cubicBezTo>
                  <a:pt x="116" y="72"/>
                  <a:pt x="188" y="0"/>
                  <a:pt x="277" y="0"/>
                </a:cubicBezTo>
                <a:close/>
                <a:moveTo>
                  <a:pt x="277" y="390"/>
                </a:moveTo>
                <a:lnTo>
                  <a:pt x="277" y="390"/>
                </a:lnTo>
                <a:cubicBezTo>
                  <a:pt x="288" y="390"/>
                  <a:pt x="297" y="399"/>
                  <a:pt x="298" y="410"/>
                </a:cubicBezTo>
                <a:lnTo>
                  <a:pt x="312" y="601"/>
                </a:lnTo>
                <a:lnTo>
                  <a:pt x="339" y="601"/>
                </a:lnTo>
                <a:lnTo>
                  <a:pt x="403" y="361"/>
                </a:lnTo>
                <a:cubicBezTo>
                  <a:pt x="489" y="382"/>
                  <a:pt x="553" y="461"/>
                  <a:pt x="553" y="553"/>
                </a:cubicBezTo>
                <a:lnTo>
                  <a:pt x="553" y="710"/>
                </a:lnTo>
                <a:lnTo>
                  <a:pt x="0" y="710"/>
                </a:lnTo>
                <a:lnTo>
                  <a:pt x="0" y="553"/>
                </a:lnTo>
                <a:cubicBezTo>
                  <a:pt x="0" y="461"/>
                  <a:pt x="64" y="382"/>
                  <a:pt x="150" y="361"/>
                </a:cubicBezTo>
                <a:lnTo>
                  <a:pt x="215" y="601"/>
                </a:lnTo>
                <a:lnTo>
                  <a:pt x="241" y="601"/>
                </a:lnTo>
                <a:lnTo>
                  <a:pt x="255" y="410"/>
                </a:lnTo>
                <a:cubicBezTo>
                  <a:pt x="256" y="399"/>
                  <a:pt x="265" y="390"/>
                  <a:pt x="277" y="39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87" name="Freeform 176"/>
          <p:cNvSpPr/>
          <p:nvPr/>
        </p:nvSpPr>
        <p:spPr>
          <a:xfrm>
            <a:off x="6299280" y="4510080"/>
            <a:ext cx="122040" cy="155520"/>
          </a:xfrm>
          <a:custGeom>
            <a:avLst/>
            <a:gdLst/>
            <a:ahLst/>
            <a:rect l="l" t="t" r="r" b="b"/>
            <a:pathLst>
              <a:path w="457" h="582">
                <a:moveTo>
                  <a:pt x="419" y="0"/>
                </a:moveTo>
                <a:cubicBezTo>
                  <a:pt x="409" y="0"/>
                  <a:pt x="400" y="4"/>
                  <a:pt x="392" y="12"/>
                </a:cubicBezTo>
                <a:lnTo>
                  <a:pt x="194" y="139"/>
                </a:lnTo>
                <a:lnTo>
                  <a:pt x="38" y="139"/>
                </a:lnTo>
                <a:cubicBezTo>
                  <a:pt x="28" y="139"/>
                  <a:pt x="19" y="142"/>
                  <a:pt x="11" y="150"/>
                </a:cubicBezTo>
                <a:cubicBezTo>
                  <a:pt x="4" y="157"/>
                  <a:pt x="0" y="166"/>
                  <a:pt x="0" y="177"/>
                </a:cubicBezTo>
                <a:lnTo>
                  <a:pt x="0" y="405"/>
                </a:lnTo>
                <a:cubicBezTo>
                  <a:pt x="0" y="416"/>
                  <a:pt x="4" y="425"/>
                  <a:pt x="11" y="432"/>
                </a:cubicBezTo>
                <a:cubicBezTo>
                  <a:pt x="19" y="440"/>
                  <a:pt x="28" y="443"/>
                  <a:pt x="38" y="443"/>
                </a:cubicBezTo>
                <a:lnTo>
                  <a:pt x="194" y="443"/>
                </a:lnTo>
                <a:lnTo>
                  <a:pt x="392" y="570"/>
                </a:lnTo>
                <a:cubicBezTo>
                  <a:pt x="400" y="578"/>
                  <a:pt x="409" y="582"/>
                  <a:pt x="419" y="582"/>
                </a:cubicBezTo>
                <a:cubicBezTo>
                  <a:pt x="429" y="582"/>
                  <a:pt x="438" y="578"/>
                  <a:pt x="446" y="570"/>
                </a:cubicBezTo>
                <a:cubicBezTo>
                  <a:pt x="453" y="563"/>
                  <a:pt x="457" y="554"/>
                  <a:pt x="457" y="544"/>
                </a:cubicBezTo>
                <a:lnTo>
                  <a:pt x="457" y="38"/>
                </a:lnTo>
                <a:cubicBezTo>
                  <a:pt x="457" y="28"/>
                  <a:pt x="453" y="19"/>
                  <a:pt x="446" y="12"/>
                </a:cubicBezTo>
                <a:cubicBezTo>
                  <a:pt x="438" y="4"/>
                  <a:pt x="429" y="0"/>
                  <a:pt x="419"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88" name="Freeform 177"/>
          <p:cNvSpPr/>
          <p:nvPr/>
        </p:nvSpPr>
        <p:spPr>
          <a:xfrm>
            <a:off x="5899320" y="2001960"/>
            <a:ext cx="156960" cy="158760"/>
          </a:xfrm>
          <a:custGeom>
            <a:avLst/>
            <a:gdLst/>
            <a:ahLst/>
            <a:rect l="l" t="t" r="r" b="b"/>
            <a:pathLst>
              <a:path w="590" h="589">
                <a:moveTo>
                  <a:pt x="500" y="493"/>
                </a:moveTo>
                <a:cubicBezTo>
                  <a:pt x="501" y="271"/>
                  <a:pt x="322" y="90"/>
                  <a:pt x="100" y="89"/>
                </a:cubicBezTo>
                <a:lnTo>
                  <a:pt x="100" y="0"/>
                </a:lnTo>
                <a:cubicBezTo>
                  <a:pt x="371" y="1"/>
                  <a:pt x="590" y="222"/>
                  <a:pt x="589" y="493"/>
                </a:cubicBezTo>
                <a:lnTo>
                  <a:pt x="500" y="493"/>
                </a:lnTo>
                <a:close/>
                <a:moveTo>
                  <a:pt x="162" y="428"/>
                </a:moveTo>
                <a:cubicBezTo>
                  <a:pt x="196" y="463"/>
                  <a:pt x="196" y="520"/>
                  <a:pt x="161" y="555"/>
                </a:cubicBezTo>
                <a:cubicBezTo>
                  <a:pt x="126" y="589"/>
                  <a:pt x="70" y="589"/>
                  <a:pt x="35" y="554"/>
                </a:cubicBezTo>
                <a:cubicBezTo>
                  <a:pt x="0" y="519"/>
                  <a:pt x="0" y="463"/>
                  <a:pt x="35" y="428"/>
                </a:cubicBezTo>
                <a:cubicBezTo>
                  <a:pt x="70" y="393"/>
                  <a:pt x="127" y="393"/>
                  <a:pt x="162" y="428"/>
                </a:cubicBezTo>
                <a:close/>
                <a:moveTo>
                  <a:pt x="322" y="492"/>
                </a:moveTo>
                <a:lnTo>
                  <a:pt x="232" y="492"/>
                </a:lnTo>
                <a:cubicBezTo>
                  <a:pt x="233" y="418"/>
                  <a:pt x="173" y="358"/>
                  <a:pt x="99" y="357"/>
                </a:cubicBezTo>
                <a:lnTo>
                  <a:pt x="99" y="268"/>
                </a:lnTo>
                <a:cubicBezTo>
                  <a:pt x="222" y="269"/>
                  <a:pt x="322" y="369"/>
                  <a:pt x="322" y="492"/>
                </a:cubicBezTo>
                <a:close/>
                <a:moveTo>
                  <a:pt x="456" y="493"/>
                </a:moveTo>
                <a:lnTo>
                  <a:pt x="366" y="492"/>
                </a:lnTo>
                <a:cubicBezTo>
                  <a:pt x="367" y="344"/>
                  <a:pt x="247" y="224"/>
                  <a:pt x="99" y="223"/>
                </a:cubicBezTo>
                <a:lnTo>
                  <a:pt x="100" y="134"/>
                </a:lnTo>
                <a:cubicBezTo>
                  <a:pt x="297" y="135"/>
                  <a:pt x="456" y="295"/>
                  <a:pt x="456" y="49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89" name="Freeform 178"/>
          <p:cNvSpPr/>
          <p:nvPr/>
        </p:nvSpPr>
        <p:spPr>
          <a:xfrm>
            <a:off x="5248440" y="2013120"/>
            <a:ext cx="133200" cy="133200"/>
          </a:xfrm>
          <a:custGeom>
            <a:avLst/>
            <a:gdLst/>
            <a:ahLst/>
            <a:rect l="l" t="t" r="r" b="b"/>
            <a:pathLst>
              <a:path w="496" h="496">
                <a:moveTo>
                  <a:pt x="406" y="492"/>
                </a:moveTo>
                <a:cubicBezTo>
                  <a:pt x="407" y="271"/>
                  <a:pt x="227" y="90"/>
                  <a:pt x="5" y="89"/>
                </a:cubicBezTo>
                <a:lnTo>
                  <a:pt x="6" y="0"/>
                </a:lnTo>
                <a:cubicBezTo>
                  <a:pt x="277" y="1"/>
                  <a:pt x="496" y="222"/>
                  <a:pt x="495" y="493"/>
                </a:cubicBezTo>
                <a:lnTo>
                  <a:pt x="406" y="492"/>
                </a:lnTo>
                <a:close/>
                <a:moveTo>
                  <a:pt x="78" y="419"/>
                </a:moveTo>
                <a:cubicBezTo>
                  <a:pt x="94" y="436"/>
                  <a:pt x="94" y="463"/>
                  <a:pt x="78" y="479"/>
                </a:cubicBezTo>
                <a:cubicBezTo>
                  <a:pt x="61" y="496"/>
                  <a:pt x="34" y="496"/>
                  <a:pt x="17" y="479"/>
                </a:cubicBezTo>
                <a:cubicBezTo>
                  <a:pt x="0" y="462"/>
                  <a:pt x="0" y="435"/>
                  <a:pt x="17" y="419"/>
                </a:cubicBezTo>
                <a:cubicBezTo>
                  <a:pt x="34" y="402"/>
                  <a:pt x="61" y="402"/>
                  <a:pt x="78" y="419"/>
                </a:cubicBezTo>
                <a:close/>
                <a:moveTo>
                  <a:pt x="227" y="492"/>
                </a:moveTo>
                <a:lnTo>
                  <a:pt x="138" y="492"/>
                </a:lnTo>
                <a:cubicBezTo>
                  <a:pt x="138" y="418"/>
                  <a:pt x="78" y="357"/>
                  <a:pt x="4" y="357"/>
                </a:cubicBezTo>
                <a:lnTo>
                  <a:pt x="5" y="268"/>
                </a:lnTo>
                <a:cubicBezTo>
                  <a:pt x="128" y="268"/>
                  <a:pt x="228" y="369"/>
                  <a:pt x="227" y="492"/>
                </a:cubicBezTo>
                <a:close/>
                <a:moveTo>
                  <a:pt x="361" y="492"/>
                </a:moveTo>
                <a:lnTo>
                  <a:pt x="272" y="492"/>
                </a:lnTo>
                <a:cubicBezTo>
                  <a:pt x="272" y="344"/>
                  <a:pt x="153" y="224"/>
                  <a:pt x="5" y="223"/>
                </a:cubicBezTo>
                <a:lnTo>
                  <a:pt x="5" y="134"/>
                </a:lnTo>
                <a:cubicBezTo>
                  <a:pt x="202" y="135"/>
                  <a:pt x="362" y="295"/>
                  <a:pt x="361" y="492"/>
                </a:cubicBezTo>
                <a:close/>
              </a:path>
            </a:pathLst>
          </a:custGeom>
          <a:solidFill>
            <a:srgbClr val="a6a6a6"/>
          </a:solidFill>
          <a:ln w="0">
            <a:noFill/>
          </a:ln>
        </p:spPr>
        <p:style>
          <a:lnRef idx="0"/>
          <a:fillRef idx="0"/>
          <a:effectRef idx="0"/>
          <a:fontRef idx="minor"/>
        </p:style>
        <p:txBody>
          <a:bodyPr lIns="145800" rIns="145800" tIns="60480" bIns="60480" anchor="t">
            <a:noAutofit/>
          </a:bodyPr>
          <a:p>
            <a:endParaRPr b="0" lang="en-US" sz="1800" spc="-1" strike="noStrike">
              <a:solidFill>
                <a:srgbClr val="000000"/>
              </a:solidFill>
              <a:latin typeface="Calibri"/>
            </a:endParaRPr>
          </a:p>
        </p:txBody>
      </p:sp>
      <p:sp>
        <p:nvSpPr>
          <p:cNvPr id="1790" name="Freeform 179"/>
          <p:cNvSpPr/>
          <p:nvPr/>
        </p:nvSpPr>
        <p:spPr>
          <a:xfrm>
            <a:off x="6607080" y="2293920"/>
            <a:ext cx="217440" cy="136440"/>
          </a:xfrm>
          <a:custGeom>
            <a:avLst/>
            <a:gdLst/>
            <a:ahLst/>
            <a:rect l="l" t="t" r="r" b="b"/>
            <a:pathLst>
              <a:path w="812" h="507">
                <a:moveTo>
                  <a:pt x="406" y="457"/>
                </a:moveTo>
                <a:lnTo>
                  <a:pt x="253" y="254"/>
                </a:lnTo>
                <a:lnTo>
                  <a:pt x="355" y="254"/>
                </a:lnTo>
                <a:lnTo>
                  <a:pt x="355" y="101"/>
                </a:lnTo>
                <a:lnTo>
                  <a:pt x="456" y="101"/>
                </a:lnTo>
                <a:lnTo>
                  <a:pt x="456" y="254"/>
                </a:lnTo>
                <a:lnTo>
                  <a:pt x="558" y="254"/>
                </a:lnTo>
                <a:lnTo>
                  <a:pt x="406" y="457"/>
                </a:lnTo>
                <a:close/>
                <a:moveTo>
                  <a:pt x="659" y="203"/>
                </a:moveTo>
                <a:cubicBezTo>
                  <a:pt x="659" y="91"/>
                  <a:pt x="568" y="0"/>
                  <a:pt x="456" y="0"/>
                </a:cubicBezTo>
                <a:cubicBezTo>
                  <a:pt x="380" y="0"/>
                  <a:pt x="314" y="42"/>
                  <a:pt x="279" y="103"/>
                </a:cubicBezTo>
                <a:cubicBezTo>
                  <a:pt x="271" y="102"/>
                  <a:pt x="262" y="101"/>
                  <a:pt x="253" y="101"/>
                </a:cubicBezTo>
                <a:cubicBezTo>
                  <a:pt x="185" y="101"/>
                  <a:pt x="126" y="147"/>
                  <a:pt x="108" y="209"/>
                </a:cubicBezTo>
                <a:cubicBezTo>
                  <a:pt x="45" y="229"/>
                  <a:pt x="0" y="287"/>
                  <a:pt x="0" y="355"/>
                </a:cubicBezTo>
                <a:cubicBezTo>
                  <a:pt x="0" y="439"/>
                  <a:pt x="67" y="507"/>
                  <a:pt x="152" y="507"/>
                </a:cubicBezTo>
                <a:lnTo>
                  <a:pt x="659" y="507"/>
                </a:lnTo>
                <a:cubicBezTo>
                  <a:pt x="743" y="507"/>
                  <a:pt x="812" y="439"/>
                  <a:pt x="812" y="355"/>
                </a:cubicBezTo>
                <a:cubicBezTo>
                  <a:pt x="812" y="271"/>
                  <a:pt x="744" y="203"/>
                  <a:pt x="659" y="203"/>
                </a:cubicBezTo>
                <a:close/>
              </a:path>
            </a:pathLst>
          </a:custGeom>
          <a:solidFill>
            <a:srgbClr val="a6a6a6"/>
          </a:solidFill>
          <a:ln w="0">
            <a:noFill/>
          </a:ln>
        </p:spPr>
        <p:style>
          <a:lnRef idx="0"/>
          <a:fillRef idx="0"/>
          <a:effectRef idx="0"/>
          <a:fontRef idx="minor"/>
        </p:style>
        <p:txBody>
          <a:bodyPr lIns="145800" rIns="145800" tIns="63720" bIns="63720" anchor="t">
            <a:noAutofit/>
          </a:bodyPr>
          <a:p>
            <a:endParaRPr b="0" lang="en-US" sz="1800" spc="-1" strike="noStrike">
              <a:solidFill>
                <a:srgbClr val="000000"/>
              </a:solidFill>
              <a:latin typeface="Calibri"/>
            </a:endParaRPr>
          </a:p>
        </p:txBody>
      </p:sp>
      <p:sp>
        <p:nvSpPr>
          <p:cNvPr id="1791" name="Freeform 180"/>
          <p:cNvSpPr/>
          <p:nvPr/>
        </p:nvSpPr>
        <p:spPr>
          <a:xfrm>
            <a:off x="6251400" y="2293920"/>
            <a:ext cx="217800" cy="136440"/>
          </a:xfrm>
          <a:custGeom>
            <a:avLst/>
            <a:gdLst/>
            <a:ahLst/>
            <a:rect l="l" t="t" r="r" b="b"/>
            <a:pathLst>
              <a:path w="812" h="507">
                <a:moveTo>
                  <a:pt x="659" y="203"/>
                </a:moveTo>
                <a:cubicBezTo>
                  <a:pt x="659" y="91"/>
                  <a:pt x="568" y="0"/>
                  <a:pt x="456" y="0"/>
                </a:cubicBezTo>
                <a:cubicBezTo>
                  <a:pt x="380" y="0"/>
                  <a:pt x="314" y="42"/>
                  <a:pt x="279" y="103"/>
                </a:cubicBezTo>
                <a:cubicBezTo>
                  <a:pt x="271" y="102"/>
                  <a:pt x="262" y="101"/>
                  <a:pt x="253" y="101"/>
                </a:cubicBezTo>
                <a:cubicBezTo>
                  <a:pt x="185" y="101"/>
                  <a:pt x="126" y="147"/>
                  <a:pt x="108" y="209"/>
                </a:cubicBezTo>
                <a:cubicBezTo>
                  <a:pt x="45" y="229"/>
                  <a:pt x="0" y="287"/>
                  <a:pt x="0" y="355"/>
                </a:cubicBezTo>
                <a:cubicBezTo>
                  <a:pt x="0" y="439"/>
                  <a:pt x="67" y="507"/>
                  <a:pt x="152" y="507"/>
                </a:cubicBezTo>
                <a:lnTo>
                  <a:pt x="659" y="507"/>
                </a:lnTo>
                <a:cubicBezTo>
                  <a:pt x="743" y="507"/>
                  <a:pt x="812" y="439"/>
                  <a:pt x="812" y="355"/>
                </a:cubicBezTo>
                <a:cubicBezTo>
                  <a:pt x="812" y="271"/>
                  <a:pt x="744" y="203"/>
                  <a:pt x="659" y="203"/>
                </a:cubicBezTo>
                <a:close/>
              </a:path>
            </a:pathLst>
          </a:custGeom>
          <a:solidFill>
            <a:srgbClr val="a6a6a6"/>
          </a:solidFill>
          <a:ln w="0">
            <a:noFill/>
          </a:ln>
        </p:spPr>
        <p:style>
          <a:lnRef idx="0"/>
          <a:fillRef idx="0"/>
          <a:effectRef idx="0"/>
          <a:fontRef idx="minor"/>
        </p:style>
        <p:txBody>
          <a:bodyPr lIns="145800" rIns="145800" tIns="63720" bIns="63720" anchor="t">
            <a:noAutofit/>
          </a:bodyPr>
          <a:p>
            <a:endParaRPr b="0" lang="en-US" sz="1800" spc="-1" strike="noStrike">
              <a:solidFill>
                <a:srgbClr val="000000"/>
              </a:solidFill>
              <a:latin typeface="Calibri"/>
            </a:endParaRPr>
          </a:p>
        </p:txBody>
      </p:sp>
      <p:sp>
        <p:nvSpPr>
          <p:cNvPr id="1792" name="Freeform 181"/>
          <p:cNvSpPr/>
          <p:nvPr/>
        </p:nvSpPr>
        <p:spPr>
          <a:xfrm>
            <a:off x="7694640" y="2941560"/>
            <a:ext cx="201600" cy="171360"/>
          </a:xfrm>
          <a:custGeom>
            <a:avLst/>
            <a:gdLst/>
            <a:ahLst/>
            <a:rect l="l" t="t" r="r" b="b"/>
            <a:pathLst>
              <a:path w="752" h="642">
                <a:moveTo>
                  <a:pt x="288" y="524"/>
                </a:moveTo>
                <a:cubicBezTo>
                  <a:pt x="320" y="524"/>
                  <a:pt x="347" y="550"/>
                  <a:pt x="347" y="583"/>
                </a:cubicBezTo>
                <a:cubicBezTo>
                  <a:pt x="347" y="616"/>
                  <a:pt x="320" y="642"/>
                  <a:pt x="288" y="642"/>
                </a:cubicBezTo>
                <a:cubicBezTo>
                  <a:pt x="255" y="642"/>
                  <a:pt x="228" y="616"/>
                  <a:pt x="228" y="583"/>
                </a:cubicBezTo>
                <a:cubicBezTo>
                  <a:pt x="228" y="550"/>
                  <a:pt x="255" y="524"/>
                  <a:pt x="288" y="524"/>
                </a:cubicBezTo>
                <a:close/>
                <a:moveTo>
                  <a:pt x="698" y="199"/>
                </a:moveTo>
                <a:cubicBezTo>
                  <a:pt x="622" y="199"/>
                  <a:pt x="332" y="199"/>
                  <a:pt x="332" y="199"/>
                </a:cubicBezTo>
                <a:cubicBezTo>
                  <a:pt x="332" y="199"/>
                  <a:pt x="310" y="204"/>
                  <a:pt x="310" y="228"/>
                </a:cubicBezTo>
                <a:cubicBezTo>
                  <a:pt x="310" y="251"/>
                  <a:pt x="332" y="258"/>
                  <a:pt x="332" y="258"/>
                </a:cubicBezTo>
                <a:lnTo>
                  <a:pt x="660" y="258"/>
                </a:lnTo>
                <a:lnTo>
                  <a:pt x="641" y="321"/>
                </a:lnTo>
                <a:cubicBezTo>
                  <a:pt x="551" y="321"/>
                  <a:pt x="319" y="321"/>
                  <a:pt x="319" y="321"/>
                </a:cubicBezTo>
                <a:cubicBezTo>
                  <a:pt x="319" y="321"/>
                  <a:pt x="299" y="325"/>
                  <a:pt x="299" y="347"/>
                </a:cubicBezTo>
                <a:cubicBezTo>
                  <a:pt x="299" y="370"/>
                  <a:pt x="319" y="376"/>
                  <a:pt x="319" y="376"/>
                </a:cubicBezTo>
                <a:lnTo>
                  <a:pt x="624" y="376"/>
                </a:lnTo>
                <a:lnTo>
                  <a:pt x="625" y="376"/>
                </a:lnTo>
                <a:lnTo>
                  <a:pt x="608" y="434"/>
                </a:lnTo>
                <a:lnTo>
                  <a:pt x="275" y="434"/>
                </a:lnTo>
                <a:lnTo>
                  <a:pt x="252" y="258"/>
                </a:lnTo>
                <a:lnTo>
                  <a:pt x="245" y="199"/>
                </a:lnTo>
                <a:cubicBezTo>
                  <a:pt x="245" y="199"/>
                  <a:pt x="239" y="144"/>
                  <a:pt x="235" y="121"/>
                </a:cubicBezTo>
                <a:cubicBezTo>
                  <a:pt x="232" y="99"/>
                  <a:pt x="175" y="70"/>
                  <a:pt x="52" y="12"/>
                </a:cubicBezTo>
                <a:cubicBezTo>
                  <a:pt x="24" y="0"/>
                  <a:pt x="0" y="53"/>
                  <a:pt x="52" y="81"/>
                </a:cubicBezTo>
                <a:lnTo>
                  <a:pt x="149" y="126"/>
                </a:lnTo>
                <a:cubicBezTo>
                  <a:pt x="149" y="126"/>
                  <a:pt x="171" y="139"/>
                  <a:pt x="173" y="156"/>
                </a:cubicBezTo>
                <a:cubicBezTo>
                  <a:pt x="175" y="174"/>
                  <a:pt x="214" y="464"/>
                  <a:pt x="214" y="464"/>
                </a:cubicBezTo>
                <a:cubicBezTo>
                  <a:pt x="214" y="464"/>
                  <a:pt x="216" y="504"/>
                  <a:pt x="253" y="504"/>
                </a:cubicBezTo>
                <a:cubicBezTo>
                  <a:pt x="289" y="504"/>
                  <a:pt x="590" y="504"/>
                  <a:pt x="621" y="504"/>
                </a:cubicBezTo>
                <a:cubicBezTo>
                  <a:pt x="651" y="504"/>
                  <a:pt x="657" y="472"/>
                  <a:pt x="657" y="472"/>
                </a:cubicBezTo>
                <a:lnTo>
                  <a:pt x="730" y="255"/>
                </a:lnTo>
                <a:cubicBezTo>
                  <a:pt x="730" y="255"/>
                  <a:pt x="752" y="199"/>
                  <a:pt x="698" y="199"/>
                </a:cubicBezTo>
                <a:close/>
                <a:moveTo>
                  <a:pt x="546" y="524"/>
                </a:moveTo>
                <a:cubicBezTo>
                  <a:pt x="579" y="524"/>
                  <a:pt x="606" y="550"/>
                  <a:pt x="606" y="583"/>
                </a:cubicBezTo>
                <a:cubicBezTo>
                  <a:pt x="606" y="616"/>
                  <a:pt x="579" y="642"/>
                  <a:pt x="546" y="642"/>
                </a:cubicBezTo>
                <a:cubicBezTo>
                  <a:pt x="514" y="642"/>
                  <a:pt x="487" y="616"/>
                  <a:pt x="487" y="583"/>
                </a:cubicBezTo>
                <a:cubicBezTo>
                  <a:pt x="487" y="550"/>
                  <a:pt x="514" y="524"/>
                  <a:pt x="546" y="524"/>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93" name="Freeform 182"/>
          <p:cNvSpPr/>
          <p:nvPr/>
        </p:nvSpPr>
        <p:spPr>
          <a:xfrm>
            <a:off x="6278400" y="3568680"/>
            <a:ext cx="162000" cy="196920"/>
          </a:xfrm>
          <a:custGeom>
            <a:avLst/>
            <a:gdLst/>
            <a:ahLst/>
            <a:rect l="l" t="t" r="r" b="b"/>
            <a:pathLst>
              <a:path w="609" h="736">
                <a:moveTo>
                  <a:pt x="0" y="573"/>
                </a:moveTo>
                <a:lnTo>
                  <a:pt x="394" y="573"/>
                </a:lnTo>
                <a:lnTo>
                  <a:pt x="394" y="736"/>
                </a:lnTo>
                <a:lnTo>
                  <a:pt x="545" y="573"/>
                </a:lnTo>
                <a:lnTo>
                  <a:pt x="609" y="573"/>
                </a:lnTo>
                <a:lnTo>
                  <a:pt x="609" y="0"/>
                </a:lnTo>
                <a:lnTo>
                  <a:pt x="0" y="0"/>
                </a:lnTo>
                <a:lnTo>
                  <a:pt x="0" y="573"/>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94" name="Freeform 183"/>
          <p:cNvSpPr/>
          <p:nvPr/>
        </p:nvSpPr>
        <p:spPr>
          <a:xfrm>
            <a:off x="4202280" y="2000160"/>
            <a:ext cx="188640" cy="160560"/>
          </a:xfrm>
          <a:custGeom>
            <a:avLst/>
            <a:gdLst/>
            <a:ahLst/>
            <a:rect l="l" t="t" r="r" b="b"/>
            <a:pathLst>
              <a:path w="709" h="597">
                <a:moveTo>
                  <a:pt x="530" y="433"/>
                </a:moveTo>
                <a:lnTo>
                  <a:pt x="530" y="505"/>
                </a:lnTo>
                <a:cubicBezTo>
                  <a:pt x="530" y="523"/>
                  <a:pt x="515" y="538"/>
                  <a:pt x="496" y="538"/>
                </a:cubicBezTo>
                <a:cubicBezTo>
                  <a:pt x="478" y="538"/>
                  <a:pt x="462" y="523"/>
                  <a:pt x="462" y="505"/>
                </a:cubicBezTo>
                <a:lnTo>
                  <a:pt x="462" y="433"/>
                </a:lnTo>
                <a:cubicBezTo>
                  <a:pt x="451" y="423"/>
                  <a:pt x="443" y="408"/>
                  <a:pt x="443" y="392"/>
                </a:cubicBezTo>
                <a:cubicBezTo>
                  <a:pt x="443" y="362"/>
                  <a:pt x="467" y="339"/>
                  <a:pt x="496" y="339"/>
                </a:cubicBezTo>
                <a:cubicBezTo>
                  <a:pt x="526" y="339"/>
                  <a:pt x="550" y="362"/>
                  <a:pt x="550" y="392"/>
                </a:cubicBezTo>
                <a:cubicBezTo>
                  <a:pt x="550" y="408"/>
                  <a:pt x="542" y="423"/>
                  <a:pt x="530" y="433"/>
                </a:cubicBezTo>
                <a:close/>
                <a:moveTo>
                  <a:pt x="66" y="261"/>
                </a:moveTo>
                <a:lnTo>
                  <a:pt x="66" y="183"/>
                </a:lnTo>
                <a:cubicBezTo>
                  <a:pt x="66" y="119"/>
                  <a:pt x="119" y="67"/>
                  <a:pt x="183" y="67"/>
                </a:cubicBezTo>
                <a:cubicBezTo>
                  <a:pt x="247" y="67"/>
                  <a:pt x="299" y="119"/>
                  <a:pt x="299" y="183"/>
                </a:cubicBezTo>
                <a:lnTo>
                  <a:pt x="299" y="261"/>
                </a:lnTo>
                <a:lnTo>
                  <a:pt x="269" y="261"/>
                </a:lnTo>
                <a:lnTo>
                  <a:pt x="269" y="597"/>
                </a:lnTo>
                <a:lnTo>
                  <a:pt x="709" y="597"/>
                </a:lnTo>
                <a:lnTo>
                  <a:pt x="709" y="261"/>
                </a:lnTo>
                <a:lnTo>
                  <a:pt x="365" y="261"/>
                </a:lnTo>
                <a:lnTo>
                  <a:pt x="365" y="183"/>
                </a:lnTo>
                <a:cubicBezTo>
                  <a:pt x="365" y="82"/>
                  <a:pt x="283" y="0"/>
                  <a:pt x="183" y="0"/>
                </a:cubicBezTo>
                <a:cubicBezTo>
                  <a:pt x="82" y="0"/>
                  <a:pt x="0" y="82"/>
                  <a:pt x="0" y="183"/>
                </a:cubicBezTo>
                <a:lnTo>
                  <a:pt x="0" y="261"/>
                </a:lnTo>
                <a:lnTo>
                  <a:pt x="66" y="261"/>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95" name="Freeform 184"/>
          <p:cNvSpPr/>
          <p:nvPr/>
        </p:nvSpPr>
        <p:spPr>
          <a:xfrm>
            <a:off x="2266920" y="3610080"/>
            <a:ext cx="204840" cy="114120"/>
          </a:xfrm>
          <a:custGeom>
            <a:avLst/>
            <a:gdLst/>
            <a:ahLst/>
            <a:rect l="l" t="t" r="r" b="b"/>
            <a:pathLst>
              <a:path w="768" h="429">
                <a:moveTo>
                  <a:pt x="632" y="60"/>
                </a:moveTo>
                <a:lnTo>
                  <a:pt x="58" y="60"/>
                </a:lnTo>
                <a:lnTo>
                  <a:pt x="58" y="375"/>
                </a:lnTo>
                <a:lnTo>
                  <a:pt x="632" y="375"/>
                </a:lnTo>
                <a:lnTo>
                  <a:pt x="632" y="60"/>
                </a:lnTo>
                <a:close/>
                <a:moveTo>
                  <a:pt x="694" y="0"/>
                </a:moveTo>
                <a:lnTo>
                  <a:pt x="694" y="5"/>
                </a:lnTo>
                <a:lnTo>
                  <a:pt x="694" y="106"/>
                </a:lnTo>
                <a:lnTo>
                  <a:pt x="764" y="106"/>
                </a:lnTo>
                <a:lnTo>
                  <a:pt x="768" y="106"/>
                </a:lnTo>
                <a:lnTo>
                  <a:pt x="768" y="110"/>
                </a:lnTo>
                <a:lnTo>
                  <a:pt x="768" y="319"/>
                </a:lnTo>
                <a:lnTo>
                  <a:pt x="768" y="324"/>
                </a:lnTo>
                <a:lnTo>
                  <a:pt x="764" y="324"/>
                </a:lnTo>
                <a:lnTo>
                  <a:pt x="694" y="324"/>
                </a:lnTo>
                <a:lnTo>
                  <a:pt x="694" y="425"/>
                </a:lnTo>
                <a:lnTo>
                  <a:pt x="694" y="429"/>
                </a:lnTo>
                <a:lnTo>
                  <a:pt x="690" y="429"/>
                </a:lnTo>
                <a:lnTo>
                  <a:pt x="5" y="429"/>
                </a:lnTo>
                <a:lnTo>
                  <a:pt x="0" y="429"/>
                </a:lnTo>
                <a:lnTo>
                  <a:pt x="0" y="425"/>
                </a:lnTo>
                <a:lnTo>
                  <a:pt x="0" y="5"/>
                </a:lnTo>
                <a:lnTo>
                  <a:pt x="0" y="0"/>
                </a:lnTo>
                <a:lnTo>
                  <a:pt x="5" y="0"/>
                </a:lnTo>
                <a:lnTo>
                  <a:pt x="690" y="0"/>
                </a:lnTo>
                <a:lnTo>
                  <a:pt x="694" y="0"/>
                </a:lnTo>
                <a:close/>
              </a:path>
            </a:pathLst>
          </a:custGeom>
          <a:solidFill>
            <a:srgbClr val="a6a6a6"/>
          </a:solidFill>
          <a:ln w="0">
            <a:noFill/>
          </a:ln>
        </p:spPr>
        <p:style>
          <a:lnRef idx="0"/>
          <a:fillRef idx="0"/>
          <a:effectRef idx="0"/>
          <a:fontRef idx="minor"/>
        </p:style>
        <p:txBody>
          <a:bodyPr lIns="145800" rIns="145800" tIns="41400" bIns="41400" anchor="t">
            <a:noAutofit/>
          </a:bodyPr>
          <a:p>
            <a:endParaRPr b="0" lang="en-US" sz="1800" spc="-1" strike="noStrike">
              <a:solidFill>
                <a:srgbClr val="000000"/>
              </a:solidFill>
              <a:latin typeface="Calibri"/>
            </a:endParaRPr>
          </a:p>
        </p:txBody>
      </p:sp>
      <p:sp>
        <p:nvSpPr>
          <p:cNvPr id="1796" name="Freeform 185"/>
          <p:cNvSpPr/>
          <p:nvPr/>
        </p:nvSpPr>
        <p:spPr>
          <a:xfrm>
            <a:off x="4219560" y="2259000"/>
            <a:ext cx="154080" cy="208080"/>
          </a:xfrm>
          <a:custGeom>
            <a:avLst/>
            <a:gdLst/>
            <a:ahLst/>
            <a:rect l="l" t="t" r="r" b="b"/>
            <a:pathLst>
              <a:path w="573" h="777">
                <a:moveTo>
                  <a:pt x="465" y="525"/>
                </a:moveTo>
                <a:cubicBezTo>
                  <a:pt x="465" y="533"/>
                  <a:pt x="458" y="540"/>
                  <a:pt x="450" y="540"/>
                </a:cubicBezTo>
                <a:lnTo>
                  <a:pt x="110" y="540"/>
                </a:lnTo>
                <a:cubicBezTo>
                  <a:pt x="102" y="540"/>
                  <a:pt x="95" y="533"/>
                  <a:pt x="95" y="525"/>
                </a:cubicBezTo>
                <a:cubicBezTo>
                  <a:pt x="95" y="517"/>
                  <a:pt x="102" y="510"/>
                  <a:pt x="110" y="510"/>
                </a:cubicBezTo>
                <a:lnTo>
                  <a:pt x="450" y="510"/>
                </a:lnTo>
                <a:cubicBezTo>
                  <a:pt x="458" y="510"/>
                  <a:pt x="465" y="517"/>
                  <a:pt x="465" y="525"/>
                </a:cubicBezTo>
                <a:close/>
                <a:moveTo>
                  <a:pt x="465" y="426"/>
                </a:moveTo>
                <a:cubicBezTo>
                  <a:pt x="465" y="434"/>
                  <a:pt x="458" y="441"/>
                  <a:pt x="450" y="441"/>
                </a:cubicBezTo>
                <a:lnTo>
                  <a:pt x="110" y="441"/>
                </a:lnTo>
                <a:cubicBezTo>
                  <a:pt x="102" y="441"/>
                  <a:pt x="95" y="434"/>
                  <a:pt x="95" y="426"/>
                </a:cubicBezTo>
                <a:cubicBezTo>
                  <a:pt x="95" y="418"/>
                  <a:pt x="102" y="411"/>
                  <a:pt x="110" y="411"/>
                </a:cubicBezTo>
                <a:lnTo>
                  <a:pt x="450" y="411"/>
                </a:lnTo>
                <a:cubicBezTo>
                  <a:pt x="458" y="411"/>
                  <a:pt x="465" y="418"/>
                  <a:pt x="465" y="426"/>
                </a:cubicBezTo>
                <a:close/>
                <a:moveTo>
                  <a:pt x="465" y="329"/>
                </a:moveTo>
                <a:cubicBezTo>
                  <a:pt x="465" y="337"/>
                  <a:pt x="458" y="344"/>
                  <a:pt x="450" y="344"/>
                </a:cubicBezTo>
                <a:lnTo>
                  <a:pt x="110" y="344"/>
                </a:lnTo>
                <a:cubicBezTo>
                  <a:pt x="102" y="344"/>
                  <a:pt x="95" y="337"/>
                  <a:pt x="95" y="329"/>
                </a:cubicBezTo>
                <a:cubicBezTo>
                  <a:pt x="95" y="320"/>
                  <a:pt x="102" y="314"/>
                  <a:pt x="110" y="314"/>
                </a:cubicBezTo>
                <a:lnTo>
                  <a:pt x="450" y="314"/>
                </a:lnTo>
                <a:cubicBezTo>
                  <a:pt x="458" y="314"/>
                  <a:pt x="465" y="320"/>
                  <a:pt x="465" y="329"/>
                </a:cubicBezTo>
                <a:close/>
                <a:moveTo>
                  <a:pt x="110" y="213"/>
                </a:moveTo>
                <a:lnTo>
                  <a:pt x="450" y="213"/>
                </a:lnTo>
                <a:cubicBezTo>
                  <a:pt x="458" y="213"/>
                  <a:pt x="465" y="220"/>
                  <a:pt x="465" y="228"/>
                </a:cubicBezTo>
                <a:cubicBezTo>
                  <a:pt x="465" y="236"/>
                  <a:pt x="458" y="243"/>
                  <a:pt x="450" y="243"/>
                </a:cubicBezTo>
                <a:lnTo>
                  <a:pt x="110" y="243"/>
                </a:lnTo>
                <a:cubicBezTo>
                  <a:pt x="102" y="243"/>
                  <a:pt x="95" y="236"/>
                  <a:pt x="95" y="228"/>
                </a:cubicBezTo>
                <a:cubicBezTo>
                  <a:pt x="95" y="220"/>
                  <a:pt x="102" y="213"/>
                  <a:pt x="110" y="213"/>
                </a:cubicBezTo>
                <a:close/>
                <a:moveTo>
                  <a:pt x="533" y="729"/>
                </a:moveTo>
                <a:cubicBezTo>
                  <a:pt x="533" y="733"/>
                  <a:pt x="530" y="737"/>
                  <a:pt x="526" y="737"/>
                </a:cubicBezTo>
                <a:lnTo>
                  <a:pt x="47" y="737"/>
                </a:lnTo>
                <a:cubicBezTo>
                  <a:pt x="43" y="737"/>
                  <a:pt x="40" y="733"/>
                  <a:pt x="40" y="729"/>
                </a:cubicBezTo>
                <a:lnTo>
                  <a:pt x="40" y="48"/>
                </a:lnTo>
                <a:cubicBezTo>
                  <a:pt x="40" y="44"/>
                  <a:pt x="43" y="40"/>
                  <a:pt x="47" y="40"/>
                </a:cubicBezTo>
                <a:lnTo>
                  <a:pt x="409" y="40"/>
                </a:lnTo>
                <a:lnTo>
                  <a:pt x="409" y="156"/>
                </a:lnTo>
                <a:cubicBezTo>
                  <a:pt x="409" y="167"/>
                  <a:pt x="418" y="176"/>
                  <a:pt x="429" y="176"/>
                </a:cubicBezTo>
                <a:lnTo>
                  <a:pt x="533" y="176"/>
                </a:lnTo>
                <a:lnTo>
                  <a:pt x="533" y="729"/>
                </a:lnTo>
                <a:close/>
                <a:moveTo>
                  <a:pt x="449" y="72"/>
                </a:moveTo>
                <a:lnTo>
                  <a:pt x="508" y="136"/>
                </a:lnTo>
                <a:lnTo>
                  <a:pt x="449" y="136"/>
                </a:lnTo>
                <a:lnTo>
                  <a:pt x="449" y="72"/>
                </a:lnTo>
                <a:close/>
                <a:moveTo>
                  <a:pt x="438" y="0"/>
                </a:moveTo>
                <a:lnTo>
                  <a:pt x="47" y="0"/>
                </a:lnTo>
                <a:cubicBezTo>
                  <a:pt x="21" y="0"/>
                  <a:pt x="0" y="22"/>
                  <a:pt x="0" y="48"/>
                </a:cubicBezTo>
                <a:lnTo>
                  <a:pt x="0" y="729"/>
                </a:lnTo>
                <a:cubicBezTo>
                  <a:pt x="0" y="755"/>
                  <a:pt x="21" y="777"/>
                  <a:pt x="47" y="777"/>
                </a:cubicBezTo>
                <a:lnTo>
                  <a:pt x="526" y="777"/>
                </a:lnTo>
                <a:cubicBezTo>
                  <a:pt x="552" y="777"/>
                  <a:pt x="573" y="755"/>
                  <a:pt x="573" y="729"/>
                </a:cubicBezTo>
                <a:lnTo>
                  <a:pt x="573" y="148"/>
                </a:lnTo>
                <a:lnTo>
                  <a:pt x="438"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97" name="Freeform 186"/>
          <p:cNvSpPr/>
          <p:nvPr/>
        </p:nvSpPr>
        <p:spPr>
          <a:xfrm>
            <a:off x="4194000" y="2595600"/>
            <a:ext cx="204840" cy="179280"/>
          </a:xfrm>
          <a:custGeom>
            <a:avLst/>
            <a:gdLst/>
            <a:ahLst/>
            <a:rect l="l" t="t" r="r" b="b"/>
            <a:pathLst>
              <a:path w="757" h="672">
                <a:moveTo>
                  <a:pt x="88" y="656"/>
                </a:moveTo>
                <a:lnTo>
                  <a:pt x="284" y="421"/>
                </a:lnTo>
                <a:lnTo>
                  <a:pt x="88" y="263"/>
                </a:lnTo>
                <a:lnTo>
                  <a:pt x="88" y="656"/>
                </a:lnTo>
                <a:close/>
                <a:moveTo>
                  <a:pt x="0" y="672"/>
                </a:moveTo>
                <a:lnTo>
                  <a:pt x="2" y="672"/>
                </a:lnTo>
                <a:lnTo>
                  <a:pt x="2" y="671"/>
                </a:lnTo>
                <a:lnTo>
                  <a:pt x="0" y="672"/>
                </a:lnTo>
                <a:close/>
                <a:moveTo>
                  <a:pt x="297" y="101"/>
                </a:moveTo>
                <a:lnTo>
                  <a:pt x="304" y="95"/>
                </a:lnTo>
                <a:lnTo>
                  <a:pt x="312" y="89"/>
                </a:lnTo>
                <a:lnTo>
                  <a:pt x="422" y="0"/>
                </a:lnTo>
                <a:lnTo>
                  <a:pt x="533" y="89"/>
                </a:lnTo>
                <a:lnTo>
                  <a:pt x="541" y="95"/>
                </a:lnTo>
                <a:lnTo>
                  <a:pt x="548" y="101"/>
                </a:lnTo>
                <a:lnTo>
                  <a:pt x="741" y="256"/>
                </a:lnTo>
                <a:lnTo>
                  <a:pt x="104" y="256"/>
                </a:lnTo>
                <a:lnTo>
                  <a:pt x="297" y="101"/>
                </a:lnTo>
                <a:close/>
                <a:moveTo>
                  <a:pt x="548" y="411"/>
                </a:moveTo>
                <a:lnTo>
                  <a:pt x="541" y="417"/>
                </a:lnTo>
                <a:lnTo>
                  <a:pt x="533" y="423"/>
                </a:lnTo>
                <a:lnTo>
                  <a:pt x="422" y="512"/>
                </a:lnTo>
                <a:lnTo>
                  <a:pt x="312" y="423"/>
                </a:lnTo>
                <a:lnTo>
                  <a:pt x="304" y="417"/>
                </a:lnTo>
                <a:lnTo>
                  <a:pt x="297" y="411"/>
                </a:lnTo>
                <a:lnTo>
                  <a:pt x="104" y="256"/>
                </a:lnTo>
                <a:lnTo>
                  <a:pt x="741" y="256"/>
                </a:lnTo>
                <a:lnTo>
                  <a:pt x="548" y="411"/>
                </a:lnTo>
                <a:close/>
                <a:moveTo>
                  <a:pt x="745" y="672"/>
                </a:moveTo>
                <a:lnTo>
                  <a:pt x="744" y="671"/>
                </a:lnTo>
                <a:lnTo>
                  <a:pt x="545" y="433"/>
                </a:lnTo>
                <a:lnTo>
                  <a:pt x="422" y="532"/>
                </a:lnTo>
                <a:lnTo>
                  <a:pt x="299" y="433"/>
                </a:lnTo>
                <a:lnTo>
                  <a:pt x="101" y="671"/>
                </a:lnTo>
                <a:lnTo>
                  <a:pt x="100" y="672"/>
                </a:lnTo>
                <a:lnTo>
                  <a:pt x="745" y="672"/>
                </a:lnTo>
                <a:close/>
                <a:moveTo>
                  <a:pt x="88" y="672"/>
                </a:moveTo>
                <a:lnTo>
                  <a:pt x="90" y="672"/>
                </a:lnTo>
                <a:lnTo>
                  <a:pt x="88" y="671"/>
                </a:lnTo>
                <a:lnTo>
                  <a:pt x="88" y="672"/>
                </a:lnTo>
                <a:close/>
                <a:moveTo>
                  <a:pt x="755" y="672"/>
                </a:moveTo>
                <a:lnTo>
                  <a:pt x="757" y="672"/>
                </a:lnTo>
                <a:lnTo>
                  <a:pt x="757" y="671"/>
                </a:lnTo>
                <a:lnTo>
                  <a:pt x="755" y="672"/>
                </a:lnTo>
                <a:close/>
                <a:moveTo>
                  <a:pt x="757" y="656"/>
                </a:moveTo>
                <a:lnTo>
                  <a:pt x="757" y="263"/>
                </a:lnTo>
                <a:lnTo>
                  <a:pt x="561" y="421"/>
                </a:lnTo>
                <a:lnTo>
                  <a:pt x="757" y="656"/>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98" name="Freeform 187"/>
          <p:cNvSpPr/>
          <p:nvPr/>
        </p:nvSpPr>
        <p:spPr>
          <a:xfrm>
            <a:off x="7007400" y="866880"/>
            <a:ext cx="156960" cy="158760"/>
          </a:xfrm>
          <a:custGeom>
            <a:avLst/>
            <a:gdLst/>
            <a:ahLst/>
            <a:rect l="l" t="t" r="r" b="b"/>
            <a:pathLst>
              <a:path w="590" h="590">
                <a:moveTo>
                  <a:pt x="577" y="251"/>
                </a:moveTo>
                <a:lnTo>
                  <a:pt x="541" y="251"/>
                </a:lnTo>
                <a:cubicBezTo>
                  <a:pt x="534" y="215"/>
                  <a:pt x="520" y="181"/>
                  <a:pt x="498" y="151"/>
                </a:cubicBezTo>
                <a:lnTo>
                  <a:pt x="523" y="126"/>
                </a:lnTo>
                <a:cubicBezTo>
                  <a:pt x="526" y="124"/>
                  <a:pt x="527" y="121"/>
                  <a:pt x="527" y="117"/>
                </a:cubicBezTo>
                <a:cubicBezTo>
                  <a:pt x="527" y="114"/>
                  <a:pt x="526" y="110"/>
                  <a:pt x="523" y="108"/>
                </a:cubicBezTo>
                <a:lnTo>
                  <a:pt x="480" y="64"/>
                </a:lnTo>
                <a:cubicBezTo>
                  <a:pt x="475" y="59"/>
                  <a:pt x="466" y="59"/>
                  <a:pt x="461" y="64"/>
                </a:cubicBezTo>
                <a:lnTo>
                  <a:pt x="435" y="90"/>
                </a:lnTo>
                <a:cubicBezTo>
                  <a:pt x="406" y="70"/>
                  <a:pt x="373" y="56"/>
                  <a:pt x="338" y="50"/>
                </a:cubicBezTo>
                <a:lnTo>
                  <a:pt x="338" y="13"/>
                </a:lnTo>
                <a:cubicBezTo>
                  <a:pt x="338" y="6"/>
                  <a:pt x="332" y="0"/>
                  <a:pt x="325" y="0"/>
                </a:cubicBezTo>
                <a:lnTo>
                  <a:pt x="263" y="0"/>
                </a:lnTo>
                <a:cubicBezTo>
                  <a:pt x="255" y="0"/>
                  <a:pt x="249" y="6"/>
                  <a:pt x="249" y="13"/>
                </a:cubicBezTo>
                <a:lnTo>
                  <a:pt x="249" y="50"/>
                </a:lnTo>
                <a:cubicBezTo>
                  <a:pt x="214" y="56"/>
                  <a:pt x="181" y="70"/>
                  <a:pt x="151" y="90"/>
                </a:cubicBezTo>
                <a:lnTo>
                  <a:pt x="126" y="65"/>
                </a:lnTo>
                <a:cubicBezTo>
                  <a:pt x="121" y="60"/>
                  <a:pt x="112" y="60"/>
                  <a:pt x="107" y="65"/>
                </a:cubicBezTo>
                <a:lnTo>
                  <a:pt x="64" y="109"/>
                </a:lnTo>
                <a:cubicBezTo>
                  <a:pt x="61" y="111"/>
                  <a:pt x="60" y="115"/>
                  <a:pt x="60" y="118"/>
                </a:cubicBezTo>
                <a:cubicBezTo>
                  <a:pt x="60" y="122"/>
                  <a:pt x="61" y="125"/>
                  <a:pt x="64" y="127"/>
                </a:cubicBezTo>
                <a:lnTo>
                  <a:pt x="88" y="152"/>
                </a:lnTo>
                <a:cubicBezTo>
                  <a:pt x="67" y="182"/>
                  <a:pt x="53" y="216"/>
                  <a:pt x="46" y="251"/>
                </a:cubicBezTo>
                <a:lnTo>
                  <a:pt x="13" y="251"/>
                </a:lnTo>
                <a:cubicBezTo>
                  <a:pt x="6" y="251"/>
                  <a:pt x="0" y="257"/>
                  <a:pt x="0" y="264"/>
                </a:cubicBezTo>
                <a:lnTo>
                  <a:pt x="0" y="326"/>
                </a:lnTo>
                <a:cubicBezTo>
                  <a:pt x="0" y="333"/>
                  <a:pt x="6" y="339"/>
                  <a:pt x="13" y="339"/>
                </a:cubicBezTo>
                <a:lnTo>
                  <a:pt x="45" y="339"/>
                </a:lnTo>
                <a:cubicBezTo>
                  <a:pt x="51" y="375"/>
                  <a:pt x="65" y="410"/>
                  <a:pt x="85" y="440"/>
                </a:cubicBezTo>
                <a:lnTo>
                  <a:pt x="62" y="463"/>
                </a:lnTo>
                <a:cubicBezTo>
                  <a:pt x="57" y="468"/>
                  <a:pt x="57" y="476"/>
                  <a:pt x="62" y="481"/>
                </a:cubicBezTo>
                <a:lnTo>
                  <a:pt x="106" y="525"/>
                </a:lnTo>
                <a:cubicBezTo>
                  <a:pt x="109" y="528"/>
                  <a:pt x="112" y="529"/>
                  <a:pt x="115" y="529"/>
                </a:cubicBezTo>
                <a:cubicBezTo>
                  <a:pt x="119" y="529"/>
                  <a:pt x="122" y="528"/>
                  <a:pt x="125" y="525"/>
                </a:cubicBezTo>
                <a:lnTo>
                  <a:pt x="147" y="503"/>
                </a:lnTo>
                <a:cubicBezTo>
                  <a:pt x="178" y="525"/>
                  <a:pt x="213" y="539"/>
                  <a:pt x="249" y="546"/>
                </a:cubicBezTo>
                <a:lnTo>
                  <a:pt x="249" y="577"/>
                </a:lnTo>
                <a:cubicBezTo>
                  <a:pt x="249" y="584"/>
                  <a:pt x="255" y="590"/>
                  <a:pt x="263" y="590"/>
                </a:cubicBezTo>
                <a:lnTo>
                  <a:pt x="325" y="590"/>
                </a:lnTo>
                <a:cubicBezTo>
                  <a:pt x="332" y="590"/>
                  <a:pt x="338" y="584"/>
                  <a:pt x="338" y="577"/>
                </a:cubicBezTo>
                <a:lnTo>
                  <a:pt x="338" y="546"/>
                </a:lnTo>
                <a:cubicBezTo>
                  <a:pt x="374" y="540"/>
                  <a:pt x="409" y="525"/>
                  <a:pt x="439" y="503"/>
                </a:cubicBezTo>
                <a:lnTo>
                  <a:pt x="462" y="526"/>
                </a:lnTo>
                <a:cubicBezTo>
                  <a:pt x="467" y="531"/>
                  <a:pt x="476" y="531"/>
                  <a:pt x="481" y="526"/>
                </a:cubicBezTo>
                <a:lnTo>
                  <a:pt x="525" y="483"/>
                </a:lnTo>
                <a:cubicBezTo>
                  <a:pt x="530" y="477"/>
                  <a:pt x="530" y="469"/>
                  <a:pt x="525" y="464"/>
                </a:cubicBezTo>
                <a:lnTo>
                  <a:pt x="501" y="441"/>
                </a:lnTo>
                <a:cubicBezTo>
                  <a:pt x="522" y="410"/>
                  <a:pt x="536" y="375"/>
                  <a:pt x="542" y="339"/>
                </a:cubicBezTo>
                <a:lnTo>
                  <a:pt x="577" y="339"/>
                </a:lnTo>
                <a:cubicBezTo>
                  <a:pt x="584" y="339"/>
                  <a:pt x="590" y="333"/>
                  <a:pt x="590" y="326"/>
                </a:cubicBezTo>
                <a:lnTo>
                  <a:pt x="590" y="264"/>
                </a:lnTo>
                <a:cubicBezTo>
                  <a:pt x="590" y="257"/>
                  <a:pt x="584" y="251"/>
                  <a:pt x="577" y="251"/>
                </a:cubicBezTo>
                <a:close/>
                <a:moveTo>
                  <a:pt x="347" y="295"/>
                </a:moveTo>
                <a:cubicBezTo>
                  <a:pt x="347" y="324"/>
                  <a:pt x="324" y="347"/>
                  <a:pt x="295" y="347"/>
                </a:cubicBezTo>
                <a:cubicBezTo>
                  <a:pt x="266" y="347"/>
                  <a:pt x="243" y="324"/>
                  <a:pt x="243" y="295"/>
                </a:cubicBezTo>
                <a:cubicBezTo>
                  <a:pt x="243" y="266"/>
                  <a:pt x="266" y="243"/>
                  <a:pt x="295" y="243"/>
                </a:cubicBezTo>
                <a:cubicBezTo>
                  <a:pt x="324" y="243"/>
                  <a:pt x="347" y="266"/>
                  <a:pt x="347" y="295"/>
                </a:cubicBezTo>
                <a:close/>
                <a:moveTo>
                  <a:pt x="295" y="433"/>
                </a:moveTo>
                <a:cubicBezTo>
                  <a:pt x="219" y="433"/>
                  <a:pt x="158" y="371"/>
                  <a:pt x="158" y="295"/>
                </a:cubicBezTo>
                <a:cubicBezTo>
                  <a:pt x="158" y="219"/>
                  <a:pt x="219" y="158"/>
                  <a:pt x="295" y="158"/>
                </a:cubicBezTo>
                <a:cubicBezTo>
                  <a:pt x="371" y="158"/>
                  <a:pt x="433" y="219"/>
                  <a:pt x="433" y="295"/>
                </a:cubicBezTo>
                <a:cubicBezTo>
                  <a:pt x="433" y="371"/>
                  <a:pt x="371" y="433"/>
                  <a:pt x="295" y="43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799" name="Freeform 188"/>
          <p:cNvSpPr/>
          <p:nvPr/>
        </p:nvSpPr>
        <p:spPr>
          <a:xfrm>
            <a:off x="5881680" y="2295360"/>
            <a:ext cx="196920" cy="135000"/>
          </a:xfrm>
          <a:custGeom>
            <a:avLst/>
            <a:gdLst/>
            <a:ahLst/>
            <a:rect l="l" t="t" r="r" b="b"/>
            <a:pathLst>
              <a:path w="735" h="501">
                <a:moveTo>
                  <a:pt x="632" y="219"/>
                </a:moveTo>
                <a:lnTo>
                  <a:pt x="635" y="209"/>
                </a:lnTo>
                <a:lnTo>
                  <a:pt x="639" y="196"/>
                </a:lnTo>
                <a:lnTo>
                  <a:pt x="640" y="173"/>
                </a:lnTo>
                <a:lnTo>
                  <a:pt x="640" y="155"/>
                </a:lnTo>
                <a:lnTo>
                  <a:pt x="637" y="139"/>
                </a:lnTo>
                <a:lnTo>
                  <a:pt x="626" y="107"/>
                </a:lnTo>
                <a:lnTo>
                  <a:pt x="610" y="77"/>
                </a:lnTo>
                <a:lnTo>
                  <a:pt x="589" y="52"/>
                </a:lnTo>
                <a:lnTo>
                  <a:pt x="564" y="31"/>
                </a:lnTo>
                <a:lnTo>
                  <a:pt x="534" y="13"/>
                </a:lnTo>
                <a:lnTo>
                  <a:pt x="502" y="4"/>
                </a:lnTo>
                <a:lnTo>
                  <a:pt x="486" y="0"/>
                </a:lnTo>
                <a:lnTo>
                  <a:pt x="468" y="0"/>
                </a:lnTo>
                <a:lnTo>
                  <a:pt x="448" y="0"/>
                </a:lnTo>
                <a:lnTo>
                  <a:pt x="430" y="4"/>
                </a:lnTo>
                <a:lnTo>
                  <a:pt x="414" y="8"/>
                </a:lnTo>
                <a:lnTo>
                  <a:pt x="400" y="13"/>
                </a:lnTo>
                <a:lnTo>
                  <a:pt x="388" y="20"/>
                </a:lnTo>
                <a:lnTo>
                  <a:pt x="379" y="27"/>
                </a:lnTo>
                <a:lnTo>
                  <a:pt x="363" y="41"/>
                </a:lnTo>
                <a:lnTo>
                  <a:pt x="352" y="57"/>
                </a:lnTo>
                <a:lnTo>
                  <a:pt x="345" y="72"/>
                </a:lnTo>
                <a:lnTo>
                  <a:pt x="341" y="81"/>
                </a:lnTo>
                <a:lnTo>
                  <a:pt x="341" y="84"/>
                </a:lnTo>
                <a:lnTo>
                  <a:pt x="341" y="84"/>
                </a:lnTo>
                <a:lnTo>
                  <a:pt x="340" y="82"/>
                </a:lnTo>
                <a:lnTo>
                  <a:pt x="333" y="75"/>
                </a:lnTo>
                <a:lnTo>
                  <a:pt x="322" y="66"/>
                </a:lnTo>
                <a:lnTo>
                  <a:pt x="308" y="57"/>
                </a:lnTo>
                <a:lnTo>
                  <a:pt x="290" y="49"/>
                </a:lnTo>
                <a:lnTo>
                  <a:pt x="269" y="41"/>
                </a:lnTo>
                <a:lnTo>
                  <a:pt x="244" y="36"/>
                </a:lnTo>
                <a:lnTo>
                  <a:pt x="215" y="38"/>
                </a:lnTo>
                <a:lnTo>
                  <a:pt x="188" y="45"/>
                </a:lnTo>
                <a:lnTo>
                  <a:pt x="164" y="57"/>
                </a:lnTo>
                <a:lnTo>
                  <a:pt x="144" y="72"/>
                </a:lnTo>
                <a:lnTo>
                  <a:pt x="126" y="91"/>
                </a:lnTo>
                <a:lnTo>
                  <a:pt x="112" y="113"/>
                </a:lnTo>
                <a:lnTo>
                  <a:pt x="101" y="136"/>
                </a:lnTo>
                <a:lnTo>
                  <a:pt x="96" y="161"/>
                </a:lnTo>
                <a:lnTo>
                  <a:pt x="92" y="187"/>
                </a:lnTo>
                <a:lnTo>
                  <a:pt x="94" y="203"/>
                </a:lnTo>
                <a:lnTo>
                  <a:pt x="98" y="219"/>
                </a:lnTo>
                <a:lnTo>
                  <a:pt x="76" y="228"/>
                </a:lnTo>
                <a:lnTo>
                  <a:pt x="59" y="241"/>
                </a:lnTo>
                <a:lnTo>
                  <a:pt x="42" y="255"/>
                </a:lnTo>
                <a:lnTo>
                  <a:pt x="26" y="271"/>
                </a:lnTo>
                <a:lnTo>
                  <a:pt x="16" y="291"/>
                </a:lnTo>
                <a:lnTo>
                  <a:pt x="7" y="312"/>
                </a:lnTo>
                <a:lnTo>
                  <a:pt x="2" y="333"/>
                </a:lnTo>
                <a:lnTo>
                  <a:pt x="0" y="355"/>
                </a:lnTo>
                <a:lnTo>
                  <a:pt x="2" y="385"/>
                </a:lnTo>
                <a:lnTo>
                  <a:pt x="10" y="412"/>
                </a:lnTo>
                <a:lnTo>
                  <a:pt x="25" y="437"/>
                </a:lnTo>
                <a:lnTo>
                  <a:pt x="42" y="458"/>
                </a:lnTo>
                <a:lnTo>
                  <a:pt x="64" y="476"/>
                </a:lnTo>
                <a:lnTo>
                  <a:pt x="89" y="488"/>
                </a:lnTo>
                <a:lnTo>
                  <a:pt x="115" y="497"/>
                </a:lnTo>
                <a:lnTo>
                  <a:pt x="144" y="501"/>
                </a:lnTo>
                <a:lnTo>
                  <a:pt x="185" y="501"/>
                </a:lnTo>
                <a:lnTo>
                  <a:pt x="222" y="501"/>
                </a:lnTo>
                <a:lnTo>
                  <a:pt x="258" y="501"/>
                </a:lnTo>
                <a:lnTo>
                  <a:pt x="292" y="501"/>
                </a:lnTo>
                <a:lnTo>
                  <a:pt x="322" y="501"/>
                </a:lnTo>
                <a:lnTo>
                  <a:pt x="350" y="501"/>
                </a:lnTo>
                <a:lnTo>
                  <a:pt x="377" y="501"/>
                </a:lnTo>
                <a:lnTo>
                  <a:pt x="402" y="501"/>
                </a:lnTo>
                <a:lnTo>
                  <a:pt x="423" y="501"/>
                </a:lnTo>
                <a:lnTo>
                  <a:pt x="445" y="501"/>
                </a:lnTo>
                <a:lnTo>
                  <a:pt x="464" y="501"/>
                </a:lnTo>
                <a:lnTo>
                  <a:pt x="480" y="501"/>
                </a:lnTo>
                <a:lnTo>
                  <a:pt x="511" y="501"/>
                </a:lnTo>
                <a:lnTo>
                  <a:pt x="534" y="501"/>
                </a:lnTo>
                <a:lnTo>
                  <a:pt x="551" y="501"/>
                </a:lnTo>
                <a:lnTo>
                  <a:pt x="566" y="501"/>
                </a:lnTo>
                <a:lnTo>
                  <a:pt x="576" y="501"/>
                </a:lnTo>
                <a:lnTo>
                  <a:pt x="582" y="501"/>
                </a:lnTo>
                <a:lnTo>
                  <a:pt x="587" y="501"/>
                </a:lnTo>
                <a:lnTo>
                  <a:pt x="589" y="501"/>
                </a:lnTo>
                <a:lnTo>
                  <a:pt x="589" y="501"/>
                </a:lnTo>
                <a:lnTo>
                  <a:pt x="619" y="497"/>
                </a:lnTo>
                <a:lnTo>
                  <a:pt x="646" y="488"/>
                </a:lnTo>
                <a:lnTo>
                  <a:pt x="671" y="476"/>
                </a:lnTo>
                <a:lnTo>
                  <a:pt x="692" y="458"/>
                </a:lnTo>
                <a:lnTo>
                  <a:pt x="710" y="437"/>
                </a:lnTo>
                <a:lnTo>
                  <a:pt x="722" y="412"/>
                </a:lnTo>
                <a:lnTo>
                  <a:pt x="731" y="385"/>
                </a:lnTo>
                <a:lnTo>
                  <a:pt x="735" y="355"/>
                </a:lnTo>
                <a:lnTo>
                  <a:pt x="733" y="332"/>
                </a:lnTo>
                <a:lnTo>
                  <a:pt x="726" y="308"/>
                </a:lnTo>
                <a:lnTo>
                  <a:pt x="717" y="289"/>
                </a:lnTo>
                <a:lnTo>
                  <a:pt x="706" y="269"/>
                </a:lnTo>
                <a:lnTo>
                  <a:pt x="690" y="253"/>
                </a:lnTo>
                <a:lnTo>
                  <a:pt x="673" y="239"/>
                </a:lnTo>
                <a:lnTo>
                  <a:pt x="653" y="228"/>
                </a:lnTo>
                <a:lnTo>
                  <a:pt x="632" y="219"/>
                </a:lnTo>
                <a:close/>
                <a:moveTo>
                  <a:pt x="560" y="472"/>
                </a:moveTo>
                <a:lnTo>
                  <a:pt x="527" y="472"/>
                </a:lnTo>
                <a:lnTo>
                  <a:pt x="498" y="472"/>
                </a:lnTo>
                <a:lnTo>
                  <a:pt x="471" y="472"/>
                </a:lnTo>
                <a:lnTo>
                  <a:pt x="450" y="472"/>
                </a:lnTo>
                <a:lnTo>
                  <a:pt x="432" y="472"/>
                </a:lnTo>
                <a:lnTo>
                  <a:pt x="416" y="472"/>
                </a:lnTo>
                <a:lnTo>
                  <a:pt x="404" y="472"/>
                </a:lnTo>
                <a:lnTo>
                  <a:pt x="393" y="472"/>
                </a:lnTo>
                <a:lnTo>
                  <a:pt x="386" y="472"/>
                </a:lnTo>
                <a:lnTo>
                  <a:pt x="379" y="472"/>
                </a:lnTo>
                <a:lnTo>
                  <a:pt x="372" y="472"/>
                </a:lnTo>
                <a:lnTo>
                  <a:pt x="370" y="472"/>
                </a:lnTo>
                <a:lnTo>
                  <a:pt x="370" y="472"/>
                </a:lnTo>
                <a:lnTo>
                  <a:pt x="374" y="467"/>
                </a:lnTo>
                <a:lnTo>
                  <a:pt x="379" y="461"/>
                </a:lnTo>
                <a:lnTo>
                  <a:pt x="393" y="445"/>
                </a:lnTo>
                <a:lnTo>
                  <a:pt x="413" y="428"/>
                </a:lnTo>
                <a:lnTo>
                  <a:pt x="432" y="406"/>
                </a:lnTo>
                <a:lnTo>
                  <a:pt x="454" y="387"/>
                </a:lnTo>
                <a:lnTo>
                  <a:pt x="470" y="371"/>
                </a:lnTo>
                <a:lnTo>
                  <a:pt x="477" y="365"/>
                </a:lnTo>
                <a:lnTo>
                  <a:pt x="482" y="360"/>
                </a:lnTo>
                <a:lnTo>
                  <a:pt x="486" y="356"/>
                </a:lnTo>
                <a:lnTo>
                  <a:pt x="486" y="355"/>
                </a:lnTo>
                <a:lnTo>
                  <a:pt x="487" y="353"/>
                </a:lnTo>
                <a:lnTo>
                  <a:pt x="491" y="348"/>
                </a:lnTo>
                <a:lnTo>
                  <a:pt x="491" y="346"/>
                </a:lnTo>
                <a:lnTo>
                  <a:pt x="491" y="344"/>
                </a:lnTo>
                <a:lnTo>
                  <a:pt x="487" y="342"/>
                </a:lnTo>
                <a:lnTo>
                  <a:pt x="482" y="340"/>
                </a:lnTo>
                <a:lnTo>
                  <a:pt x="466" y="340"/>
                </a:lnTo>
                <a:lnTo>
                  <a:pt x="448" y="340"/>
                </a:lnTo>
                <a:lnTo>
                  <a:pt x="441" y="340"/>
                </a:lnTo>
                <a:lnTo>
                  <a:pt x="436" y="340"/>
                </a:lnTo>
                <a:lnTo>
                  <a:pt x="432" y="340"/>
                </a:lnTo>
                <a:lnTo>
                  <a:pt x="430" y="340"/>
                </a:lnTo>
                <a:lnTo>
                  <a:pt x="430" y="339"/>
                </a:lnTo>
                <a:lnTo>
                  <a:pt x="430" y="335"/>
                </a:lnTo>
                <a:lnTo>
                  <a:pt x="430" y="328"/>
                </a:lnTo>
                <a:lnTo>
                  <a:pt x="430" y="317"/>
                </a:lnTo>
                <a:lnTo>
                  <a:pt x="430" y="303"/>
                </a:lnTo>
                <a:lnTo>
                  <a:pt x="430" y="283"/>
                </a:lnTo>
                <a:lnTo>
                  <a:pt x="430" y="244"/>
                </a:lnTo>
                <a:lnTo>
                  <a:pt x="430" y="223"/>
                </a:lnTo>
                <a:lnTo>
                  <a:pt x="430" y="203"/>
                </a:lnTo>
                <a:lnTo>
                  <a:pt x="430" y="187"/>
                </a:lnTo>
                <a:lnTo>
                  <a:pt x="430" y="173"/>
                </a:lnTo>
                <a:lnTo>
                  <a:pt x="430" y="173"/>
                </a:lnTo>
                <a:lnTo>
                  <a:pt x="429" y="171"/>
                </a:lnTo>
                <a:lnTo>
                  <a:pt x="427" y="170"/>
                </a:lnTo>
                <a:lnTo>
                  <a:pt x="420" y="168"/>
                </a:lnTo>
                <a:lnTo>
                  <a:pt x="418" y="168"/>
                </a:lnTo>
                <a:lnTo>
                  <a:pt x="413" y="168"/>
                </a:lnTo>
                <a:lnTo>
                  <a:pt x="400" y="168"/>
                </a:lnTo>
                <a:lnTo>
                  <a:pt x="382" y="168"/>
                </a:lnTo>
                <a:lnTo>
                  <a:pt x="361" y="168"/>
                </a:lnTo>
                <a:lnTo>
                  <a:pt x="341" y="168"/>
                </a:lnTo>
                <a:lnTo>
                  <a:pt x="322" y="168"/>
                </a:lnTo>
                <a:lnTo>
                  <a:pt x="308" y="168"/>
                </a:lnTo>
                <a:lnTo>
                  <a:pt x="302" y="168"/>
                </a:lnTo>
                <a:lnTo>
                  <a:pt x="299" y="168"/>
                </a:lnTo>
                <a:lnTo>
                  <a:pt x="293" y="170"/>
                </a:lnTo>
                <a:lnTo>
                  <a:pt x="292" y="173"/>
                </a:lnTo>
                <a:lnTo>
                  <a:pt x="290" y="177"/>
                </a:lnTo>
                <a:lnTo>
                  <a:pt x="290" y="178"/>
                </a:lnTo>
                <a:lnTo>
                  <a:pt x="290" y="191"/>
                </a:lnTo>
                <a:lnTo>
                  <a:pt x="290" y="207"/>
                </a:lnTo>
                <a:lnTo>
                  <a:pt x="290" y="225"/>
                </a:lnTo>
                <a:lnTo>
                  <a:pt x="290" y="244"/>
                </a:lnTo>
                <a:lnTo>
                  <a:pt x="290" y="283"/>
                </a:lnTo>
                <a:lnTo>
                  <a:pt x="290" y="303"/>
                </a:lnTo>
                <a:lnTo>
                  <a:pt x="290" y="317"/>
                </a:lnTo>
                <a:lnTo>
                  <a:pt x="290" y="328"/>
                </a:lnTo>
                <a:lnTo>
                  <a:pt x="290" y="335"/>
                </a:lnTo>
                <a:lnTo>
                  <a:pt x="290" y="339"/>
                </a:lnTo>
                <a:lnTo>
                  <a:pt x="290" y="340"/>
                </a:lnTo>
                <a:lnTo>
                  <a:pt x="288" y="340"/>
                </a:lnTo>
                <a:lnTo>
                  <a:pt x="285" y="340"/>
                </a:lnTo>
                <a:lnTo>
                  <a:pt x="277" y="340"/>
                </a:lnTo>
                <a:lnTo>
                  <a:pt x="269" y="340"/>
                </a:lnTo>
                <a:lnTo>
                  <a:pt x="253" y="340"/>
                </a:lnTo>
                <a:lnTo>
                  <a:pt x="244" y="340"/>
                </a:lnTo>
                <a:lnTo>
                  <a:pt x="238" y="340"/>
                </a:lnTo>
                <a:lnTo>
                  <a:pt x="235" y="342"/>
                </a:lnTo>
                <a:lnTo>
                  <a:pt x="233" y="344"/>
                </a:lnTo>
                <a:lnTo>
                  <a:pt x="233" y="348"/>
                </a:lnTo>
                <a:lnTo>
                  <a:pt x="236" y="353"/>
                </a:lnTo>
                <a:lnTo>
                  <a:pt x="238" y="355"/>
                </a:lnTo>
                <a:lnTo>
                  <a:pt x="258" y="376"/>
                </a:lnTo>
                <a:lnTo>
                  <a:pt x="277" y="394"/>
                </a:lnTo>
                <a:lnTo>
                  <a:pt x="292" y="410"/>
                </a:lnTo>
                <a:lnTo>
                  <a:pt x="306" y="422"/>
                </a:lnTo>
                <a:lnTo>
                  <a:pt x="317" y="435"/>
                </a:lnTo>
                <a:lnTo>
                  <a:pt x="327" y="444"/>
                </a:lnTo>
                <a:lnTo>
                  <a:pt x="340" y="458"/>
                </a:lnTo>
                <a:lnTo>
                  <a:pt x="349" y="465"/>
                </a:lnTo>
                <a:lnTo>
                  <a:pt x="354" y="470"/>
                </a:lnTo>
                <a:lnTo>
                  <a:pt x="356" y="472"/>
                </a:lnTo>
                <a:lnTo>
                  <a:pt x="356" y="472"/>
                </a:lnTo>
                <a:lnTo>
                  <a:pt x="324" y="472"/>
                </a:lnTo>
                <a:lnTo>
                  <a:pt x="297" y="472"/>
                </a:lnTo>
                <a:lnTo>
                  <a:pt x="272" y="472"/>
                </a:lnTo>
                <a:lnTo>
                  <a:pt x="253" y="472"/>
                </a:lnTo>
                <a:lnTo>
                  <a:pt x="235" y="472"/>
                </a:lnTo>
                <a:lnTo>
                  <a:pt x="220" y="472"/>
                </a:lnTo>
                <a:lnTo>
                  <a:pt x="208" y="472"/>
                </a:lnTo>
                <a:lnTo>
                  <a:pt x="199" y="472"/>
                </a:lnTo>
                <a:lnTo>
                  <a:pt x="192" y="472"/>
                </a:lnTo>
                <a:lnTo>
                  <a:pt x="187" y="472"/>
                </a:lnTo>
                <a:lnTo>
                  <a:pt x="180" y="472"/>
                </a:lnTo>
                <a:lnTo>
                  <a:pt x="178" y="472"/>
                </a:lnTo>
                <a:lnTo>
                  <a:pt x="178" y="472"/>
                </a:lnTo>
                <a:lnTo>
                  <a:pt x="151" y="469"/>
                </a:lnTo>
                <a:lnTo>
                  <a:pt x="128" y="461"/>
                </a:lnTo>
                <a:lnTo>
                  <a:pt x="107" y="451"/>
                </a:lnTo>
                <a:lnTo>
                  <a:pt x="87" y="437"/>
                </a:lnTo>
                <a:lnTo>
                  <a:pt x="73" y="417"/>
                </a:lnTo>
                <a:lnTo>
                  <a:pt x="60" y="397"/>
                </a:lnTo>
                <a:lnTo>
                  <a:pt x="53" y="374"/>
                </a:lnTo>
                <a:lnTo>
                  <a:pt x="51" y="351"/>
                </a:lnTo>
                <a:lnTo>
                  <a:pt x="53" y="330"/>
                </a:lnTo>
                <a:lnTo>
                  <a:pt x="57" y="312"/>
                </a:lnTo>
                <a:lnTo>
                  <a:pt x="66" y="294"/>
                </a:lnTo>
                <a:lnTo>
                  <a:pt x="75" y="278"/>
                </a:lnTo>
                <a:lnTo>
                  <a:pt x="87" y="264"/>
                </a:lnTo>
                <a:lnTo>
                  <a:pt x="103" y="251"/>
                </a:lnTo>
                <a:lnTo>
                  <a:pt x="119" y="243"/>
                </a:lnTo>
                <a:lnTo>
                  <a:pt x="135" y="234"/>
                </a:lnTo>
                <a:lnTo>
                  <a:pt x="133" y="226"/>
                </a:lnTo>
                <a:lnTo>
                  <a:pt x="131" y="219"/>
                </a:lnTo>
                <a:lnTo>
                  <a:pt x="130" y="205"/>
                </a:lnTo>
                <a:lnTo>
                  <a:pt x="131" y="186"/>
                </a:lnTo>
                <a:lnTo>
                  <a:pt x="139" y="164"/>
                </a:lnTo>
                <a:lnTo>
                  <a:pt x="147" y="145"/>
                </a:lnTo>
                <a:lnTo>
                  <a:pt x="160" y="127"/>
                </a:lnTo>
                <a:lnTo>
                  <a:pt x="176" y="111"/>
                </a:lnTo>
                <a:lnTo>
                  <a:pt x="194" y="97"/>
                </a:lnTo>
                <a:lnTo>
                  <a:pt x="215" y="86"/>
                </a:lnTo>
                <a:lnTo>
                  <a:pt x="238" y="79"/>
                </a:lnTo>
                <a:lnTo>
                  <a:pt x="263" y="81"/>
                </a:lnTo>
                <a:lnTo>
                  <a:pt x="285" y="88"/>
                </a:lnTo>
                <a:lnTo>
                  <a:pt x="304" y="97"/>
                </a:lnTo>
                <a:lnTo>
                  <a:pt x="320" y="109"/>
                </a:lnTo>
                <a:lnTo>
                  <a:pt x="334" y="120"/>
                </a:lnTo>
                <a:lnTo>
                  <a:pt x="343" y="130"/>
                </a:lnTo>
                <a:lnTo>
                  <a:pt x="349" y="138"/>
                </a:lnTo>
                <a:lnTo>
                  <a:pt x="350" y="141"/>
                </a:lnTo>
                <a:lnTo>
                  <a:pt x="350" y="139"/>
                </a:lnTo>
                <a:lnTo>
                  <a:pt x="350" y="138"/>
                </a:lnTo>
                <a:lnTo>
                  <a:pt x="354" y="127"/>
                </a:lnTo>
                <a:lnTo>
                  <a:pt x="359" y="113"/>
                </a:lnTo>
                <a:lnTo>
                  <a:pt x="368" y="97"/>
                </a:lnTo>
                <a:lnTo>
                  <a:pt x="381" y="79"/>
                </a:lnTo>
                <a:lnTo>
                  <a:pt x="400" y="65"/>
                </a:lnTo>
                <a:lnTo>
                  <a:pt x="413" y="59"/>
                </a:lnTo>
                <a:lnTo>
                  <a:pt x="425" y="56"/>
                </a:lnTo>
                <a:lnTo>
                  <a:pt x="441" y="52"/>
                </a:lnTo>
                <a:lnTo>
                  <a:pt x="459" y="52"/>
                </a:lnTo>
                <a:lnTo>
                  <a:pt x="487" y="54"/>
                </a:lnTo>
                <a:lnTo>
                  <a:pt x="514" y="63"/>
                </a:lnTo>
                <a:lnTo>
                  <a:pt x="537" y="77"/>
                </a:lnTo>
                <a:lnTo>
                  <a:pt x="559" y="95"/>
                </a:lnTo>
                <a:lnTo>
                  <a:pt x="575" y="116"/>
                </a:lnTo>
                <a:lnTo>
                  <a:pt x="587" y="141"/>
                </a:lnTo>
                <a:lnTo>
                  <a:pt x="596" y="168"/>
                </a:lnTo>
                <a:lnTo>
                  <a:pt x="598" y="196"/>
                </a:lnTo>
                <a:lnTo>
                  <a:pt x="598" y="218"/>
                </a:lnTo>
                <a:lnTo>
                  <a:pt x="596" y="226"/>
                </a:lnTo>
                <a:lnTo>
                  <a:pt x="594" y="234"/>
                </a:lnTo>
                <a:lnTo>
                  <a:pt x="612" y="241"/>
                </a:lnTo>
                <a:lnTo>
                  <a:pt x="630" y="250"/>
                </a:lnTo>
                <a:lnTo>
                  <a:pt x="646" y="262"/>
                </a:lnTo>
                <a:lnTo>
                  <a:pt x="660" y="276"/>
                </a:lnTo>
                <a:lnTo>
                  <a:pt x="671" y="292"/>
                </a:lnTo>
                <a:lnTo>
                  <a:pt x="680" y="310"/>
                </a:lnTo>
                <a:lnTo>
                  <a:pt x="685" y="330"/>
                </a:lnTo>
                <a:lnTo>
                  <a:pt x="687" y="351"/>
                </a:lnTo>
                <a:lnTo>
                  <a:pt x="685" y="374"/>
                </a:lnTo>
                <a:lnTo>
                  <a:pt x="678" y="397"/>
                </a:lnTo>
                <a:lnTo>
                  <a:pt x="665" y="417"/>
                </a:lnTo>
                <a:lnTo>
                  <a:pt x="651" y="437"/>
                </a:lnTo>
                <a:lnTo>
                  <a:pt x="632" y="451"/>
                </a:lnTo>
                <a:lnTo>
                  <a:pt x="610" y="461"/>
                </a:lnTo>
                <a:lnTo>
                  <a:pt x="587" y="469"/>
                </a:lnTo>
                <a:lnTo>
                  <a:pt x="560" y="472"/>
                </a:lnTo>
                <a:close/>
              </a:path>
            </a:pathLst>
          </a:custGeom>
          <a:solidFill>
            <a:srgbClr val="a6a6a6"/>
          </a:solidFill>
          <a:ln w="0">
            <a:noFill/>
          </a:ln>
        </p:spPr>
        <p:style>
          <a:lnRef idx="0"/>
          <a:fillRef idx="0"/>
          <a:effectRef idx="0"/>
          <a:fontRef idx="minor"/>
        </p:style>
        <p:txBody>
          <a:bodyPr lIns="145800" rIns="145800" tIns="62280" bIns="62280" anchor="t">
            <a:noAutofit/>
          </a:bodyPr>
          <a:p>
            <a:endParaRPr b="0" lang="en-US" sz="1800" spc="-1" strike="noStrike">
              <a:solidFill>
                <a:srgbClr val="000000"/>
              </a:solidFill>
              <a:latin typeface="Calibri"/>
            </a:endParaRPr>
          </a:p>
        </p:txBody>
      </p:sp>
      <p:sp>
        <p:nvSpPr>
          <p:cNvPr id="1800" name="Freeform 189"/>
          <p:cNvSpPr/>
          <p:nvPr/>
        </p:nvSpPr>
        <p:spPr>
          <a:xfrm>
            <a:off x="6627960" y="3589200"/>
            <a:ext cx="174600" cy="155880"/>
          </a:xfrm>
          <a:custGeom>
            <a:avLst/>
            <a:gdLst/>
            <a:ahLst/>
            <a:rect l="l" t="t" r="r" b="b"/>
            <a:pathLst>
              <a:path w="658" h="583">
                <a:moveTo>
                  <a:pt x="658" y="233"/>
                </a:moveTo>
                <a:lnTo>
                  <a:pt x="656" y="209"/>
                </a:lnTo>
                <a:lnTo>
                  <a:pt x="651" y="187"/>
                </a:lnTo>
                <a:lnTo>
                  <a:pt x="642" y="164"/>
                </a:lnTo>
                <a:lnTo>
                  <a:pt x="630" y="144"/>
                </a:lnTo>
                <a:lnTo>
                  <a:pt x="617" y="123"/>
                </a:lnTo>
                <a:lnTo>
                  <a:pt x="600" y="105"/>
                </a:lnTo>
                <a:lnTo>
                  <a:pt x="581" y="86"/>
                </a:lnTo>
                <a:lnTo>
                  <a:pt x="560" y="69"/>
                </a:lnTo>
                <a:lnTo>
                  <a:pt x="536" y="53"/>
                </a:lnTo>
                <a:lnTo>
                  <a:pt x="511" y="40"/>
                </a:lnTo>
                <a:lnTo>
                  <a:pt x="483" y="28"/>
                </a:lnTo>
                <a:lnTo>
                  <a:pt x="454" y="19"/>
                </a:lnTo>
                <a:lnTo>
                  <a:pt x="425" y="11"/>
                </a:lnTo>
                <a:lnTo>
                  <a:pt x="394" y="4"/>
                </a:lnTo>
                <a:lnTo>
                  <a:pt x="362" y="0"/>
                </a:lnTo>
                <a:lnTo>
                  <a:pt x="328" y="0"/>
                </a:lnTo>
                <a:lnTo>
                  <a:pt x="294" y="0"/>
                </a:lnTo>
                <a:lnTo>
                  <a:pt x="261" y="4"/>
                </a:lnTo>
                <a:lnTo>
                  <a:pt x="229" y="11"/>
                </a:lnTo>
                <a:lnTo>
                  <a:pt x="200" y="19"/>
                </a:lnTo>
                <a:lnTo>
                  <a:pt x="170" y="28"/>
                </a:lnTo>
                <a:lnTo>
                  <a:pt x="143" y="40"/>
                </a:lnTo>
                <a:lnTo>
                  <a:pt x="117" y="53"/>
                </a:lnTo>
                <a:lnTo>
                  <a:pt x="95" y="69"/>
                </a:lnTo>
                <a:lnTo>
                  <a:pt x="73" y="86"/>
                </a:lnTo>
                <a:lnTo>
                  <a:pt x="54" y="105"/>
                </a:lnTo>
                <a:lnTo>
                  <a:pt x="39" y="123"/>
                </a:lnTo>
                <a:lnTo>
                  <a:pt x="25" y="144"/>
                </a:lnTo>
                <a:lnTo>
                  <a:pt x="13" y="164"/>
                </a:lnTo>
                <a:lnTo>
                  <a:pt x="6" y="187"/>
                </a:lnTo>
                <a:lnTo>
                  <a:pt x="1" y="209"/>
                </a:lnTo>
                <a:lnTo>
                  <a:pt x="0" y="233"/>
                </a:lnTo>
                <a:lnTo>
                  <a:pt x="3" y="267"/>
                </a:lnTo>
                <a:lnTo>
                  <a:pt x="11" y="300"/>
                </a:lnTo>
                <a:lnTo>
                  <a:pt x="27" y="330"/>
                </a:lnTo>
                <a:lnTo>
                  <a:pt x="49" y="358"/>
                </a:lnTo>
                <a:lnTo>
                  <a:pt x="75" y="383"/>
                </a:lnTo>
                <a:lnTo>
                  <a:pt x="106" y="406"/>
                </a:lnTo>
                <a:lnTo>
                  <a:pt x="140" y="426"/>
                </a:lnTo>
                <a:lnTo>
                  <a:pt x="177" y="441"/>
                </a:lnTo>
                <a:lnTo>
                  <a:pt x="179" y="452"/>
                </a:lnTo>
                <a:lnTo>
                  <a:pt x="179" y="465"/>
                </a:lnTo>
                <a:lnTo>
                  <a:pt x="176" y="479"/>
                </a:lnTo>
                <a:lnTo>
                  <a:pt x="169" y="496"/>
                </a:lnTo>
                <a:lnTo>
                  <a:pt x="158" y="515"/>
                </a:lnTo>
                <a:lnTo>
                  <a:pt x="145" y="535"/>
                </a:lnTo>
                <a:lnTo>
                  <a:pt x="124" y="558"/>
                </a:lnTo>
                <a:lnTo>
                  <a:pt x="100" y="583"/>
                </a:lnTo>
                <a:lnTo>
                  <a:pt x="102" y="582"/>
                </a:lnTo>
                <a:lnTo>
                  <a:pt x="107" y="580"/>
                </a:lnTo>
                <a:lnTo>
                  <a:pt x="116" y="578"/>
                </a:lnTo>
                <a:lnTo>
                  <a:pt x="128" y="575"/>
                </a:lnTo>
                <a:lnTo>
                  <a:pt x="140" y="570"/>
                </a:lnTo>
                <a:lnTo>
                  <a:pt x="155" y="564"/>
                </a:lnTo>
                <a:lnTo>
                  <a:pt x="191" y="553"/>
                </a:lnTo>
                <a:lnTo>
                  <a:pt x="232" y="535"/>
                </a:lnTo>
                <a:lnTo>
                  <a:pt x="273" y="515"/>
                </a:lnTo>
                <a:lnTo>
                  <a:pt x="312" y="493"/>
                </a:lnTo>
                <a:lnTo>
                  <a:pt x="348" y="467"/>
                </a:lnTo>
                <a:lnTo>
                  <a:pt x="379" y="464"/>
                </a:lnTo>
                <a:lnTo>
                  <a:pt x="411" y="458"/>
                </a:lnTo>
                <a:lnTo>
                  <a:pt x="441" y="452"/>
                </a:lnTo>
                <a:lnTo>
                  <a:pt x="470" y="443"/>
                </a:lnTo>
                <a:lnTo>
                  <a:pt x="497" y="433"/>
                </a:lnTo>
                <a:lnTo>
                  <a:pt x="523" y="421"/>
                </a:lnTo>
                <a:lnTo>
                  <a:pt x="547" y="407"/>
                </a:lnTo>
                <a:lnTo>
                  <a:pt x="567" y="392"/>
                </a:lnTo>
                <a:lnTo>
                  <a:pt x="588" y="375"/>
                </a:lnTo>
                <a:lnTo>
                  <a:pt x="605" y="358"/>
                </a:lnTo>
                <a:lnTo>
                  <a:pt x="620" y="339"/>
                </a:lnTo>
                <a:lnTo>
                  <a:pt x="634" y="320"/>
                </a:lnTo>
                <a:lnTo>
                  <a:pt x="644" y="300"/>
                </a:lnTo>
                <a:lnTo>
                  <a:pt x="651" y="277"/>
                </a:lnTo>
                <a:lnTo>
                  <a:pt x="656" y="255"/>
                </a:lnTo>
                <a:lnTo>
                  <a:pt x="658" y="233"/>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01" name="Freeform 190"/>
          <p:cNvSpPr/>
          <p:nvPr/>
        </p:nvSpPr>
        <p:spPr>
          <a:xfrm>
            <a:off x="2921040" y="3882960"/>
            <a:ext cx="165240" cy="162000"/>
          </a:xfrm>
          <a:custGeom>
            <a:avLst/>
            <a:gdLst/>
            <a:ahLst/>
            <a:rect l="l" t="t" r="r" b="b"/>
            <a:pathLst>
              <a:path w="619" h="602">
                <a:moveTo>
                  <a:pt x="28" y="457"/>
                </a:moveTo>
                <a:lnTo>
                  <a:pt x="52" y="432"/>
                </a:lnTo>
                <a:lnTo>
                  <a:pt x="75" y="409"/>
                </a:lnTo>
                <a:lnTo>
                  <a:pt x="94" y="390"/>
                </a:lnTo>
                <a:lnTo>
                  <a:pt x="110" y="373"/>
                </a:lnTo>
                <a:lnTo>
                  <a:pt x="123" y="361"/>
                </a:lnTo>
                <a:lnTo>
                  <a:pt x="136" y="348"/>
                </a:lnTo>
                <a:lnTo>
                  <a:pt x="145" y="339"/>
                </a:lnTo>
                <a:lnTo>
                  <a:pt x="153" y="331"/>
                </a:lnTo>
                <a:lnTo>
                  <a:pt x="158" y="325"/>
                </a:lnTo>
                <a:lnTo>
                  <a:pt x="162" y="320"/>
                </a:lnTo>
                <a:lnTo>
                  <a:pt x="168" y="316"/>
                </a:lnTo>
                <a:lnTo>
                  <a:pt x="170" y="314"/>
                </a:lnTo>
                <a:lnTo>
                  <a:pt x="170" y="314"/>
                </a:lnTo>
                <a:lnTo>
                  <a:pt x="189" y="300"/>
                </a:lnTo>
                <a:lnTo>
                  <a:pt x="209" y="291"/>
                </a:lnTo>
                <a:lnTo>
                  <a:pt x="219" y="289"/>
                </a:lnTo>
                <a:lnTo>
                  <a:pt x="230" y="288"/>
                </a:lnTo>
                <a:lnTo>
                  <a:pt x="243" y="289"/>
                </a:lnTo>
                <a:lnTo>
                  <a:pt x="255" y="293"/>
                </a:lnTo>
                <a:lnTo>
                  <a:pt x="264" y="283"/>
                </a:lnTo>
                <a:lnTo>
                  <a:pt x="269" y="279"/>
                </a:lnTo>
                <a:lnTo>
                  <a:pt x="271" y="277"/>
                </a:lnTo>
                <a:lnTo>
                  <a:pt x="271" y="277"/>
                </a:lnTo>
                <a:lnTo>
                  <a:pt x="275" y="283"/>
                </a:lnTo>
                <a:lnTo>
                  <a:pt x="280" y="289"/>
                </a:lnTo>
                <a:lnTo>
                  <a:pt x="284" y="296"/>
                </a:lnTo>
                <a:lnTo>
                  <a:pt x="286" y="297"/>
                </a:lnTo>
                <a:lnTo>
                  <a:pt x="286" y="297"/>
                </a:lnTo>
                <a:lnTo>
                  <a:pt x="295" y="299"/>
                </a:lnTo>
                <a:lnTo>
                  <a:pt x="302" y="300"/>
                </a:lnTo>
                <a:lnTo>
                  <a:pt x="306" y="302"/>
                </a:lnTo>
                <a:lnTo>
                  <a:pt x="309" y="302"/>
                </a:lnTo>
                <a:lnTo>
                  <a:pt x="312" y="303"/>
                </a:lnTo>
                <a:lnTo>
                  <a:pt x="312" y="303"/>
                </a:lnTo>
                <a:lnTo>
                  <a:pt x="314" y="310"/>
                </a:lnTo>
                <a:lnTo>
                  <a:pt x="315" y="316"/>
                </a:lnTo>
                <a:lnTo>
                  <a:pt x="317" y="322"/>
                </a:lnTo>
                <a:lnTo>
                  <a:pt x="317" y="323"/>
                </a:lnTo>
                <a:lnTo>
                  <a:pt x="319" y="323"/>
                </a:lnTo>
                <a:lnTo>
                  <a:pt x="325" y="330"/>
                </a:lnTo>
                <a:lnTo>
                  <a:pt x="328" y="333"/>
                </a:lnTo>
                <a:lnTo>
                  <a:pt x="328" y="334"/>
                </a:lnTo>
                <a:lnTo>
                  <a:pt x="328" y="334"/>
                </a:lnTo>
                <a:lnTo>
                  <a:pt x="323" y="342"/>
                </a:lnTo>
                <a:lnTo>
                  <a:pt x="319" y="347"/>
                </a:lnTo>
                <a:lnTo>
                  <a:pt x="314" y="353"/>
                </a:lnTo>
                <a:lnTo>
                  <a:pt x="312" y="356"/>
                </a:lnTo>
                <a:lnTo>
                  <a:pt x="312" y="356"/>
                </a:lnTo>
                <a:lnTo>
                  <a:pt x="314" y="376"/>
                </a:lnTo>
                <a:lnTo>
                  <a:pt x="312" y="398"/>
                </a:lnTo>
                <a:lnTo>
                  <a:pt x="305" y="418"/>
                </a:lnTo>
                <a:lnTo>
                  <a:pt x="292" y="435"/>
                </a:lnTo>
                <a:lnTo>
                  <a:pt x="266" y="460"/>
                </a:lnTo>
                <a:lnTo>
                  <a:pt x="244" y="483"/>
                </a:lnTo>
                <a:lnTo>
                  <a:pt x="226" y="502"/>
                </a:lnTo>
                <a:lnTo>
                  <a:pt x="209" y="517"/>
                </a:lnTo>
                <a:lnTo>
                  <a:pt x="195" y="531"/>
                </a:lnTo>
                <a:lnTo>
                  <a:pt x="184" y="543"/>
                </a:lnTo>
                <a:lnTo>
                  <a:pt x="175" y="553"/>
                </a:lnTo>
                <a:lnTo>
                  <a:pt x="167" y="560"/>
                </a:lnTo>
                <a:lnTo>
                  <a:pt x="161" y="567"/>
                </a:lnTo>
                <a:lnTo>
                  <a:pt x="156" y="570"/>
                </a:lnTo>
                <a:lnTo>
                  <a:pt x="151" y="576"/>
                </a:lnTo>
                <a:lnTo>
                  <a:pt x="150" y="577"/>
                </a:lnTo>
                <a:lnTo>
                  <a:pt x="150" y="577"/>
                </a:lnTo>
                <a:lnTo>
                  <a:pt x="134" y="588"/>
                </a:lnTo>
                <a:lnTo>
                  <a:pt x="119" y="596"/>
                </a:lnTo>
                <a:lnTo>
                  <a:pt x="103" y="601"/>
                </a:lnTo>
                <a:lnTo>
                  <a:pt x="86" y="602"/>
                </a:lnTo>
                <a:lnTo>
                  <a:pt x="71" y="601"/>
                </a:lnTo>
                <a:lnTo>
                  <a:pt x="55" y="596"/>
                </a:lnTo>
                <a:lnTo>
                  <a:pt x="40" y="588"/>
                </a:lnTo>
                <a:lnTo>
                  <a:pt x="28" y="577"/>
                </a:lnTo>
                <a:lnTo>
                  <a:pt x="15" y="565"/>
                </a:lnTo>
                <a:lnTo>
                  <a:pt x="7" y="550"/>
                </a:lnTo>
                <a:lnTo>
                  <a:pt x="1" y="534"/>
                </a:lnTo>
                <a:lnTo>
                  <a:pt x="0" y="517"/>
                </a:lnTo>
                <a:lnTo>
                  <a:pt x="1" y="500"/>
                </a:lnTo>
                <a:lnTo>
                  <a:pt x="7" y="484"/>
                </a:lnTo>
                <a:lnTo>
                  <a:pt x="15" y="469"/>
                </a:lnTo>
                <a:lnTo>
                  <a:pt x="28" y="457"/>
                </a:lnTo>
                <a:close/>
                <a:moveTo>
                  <a:pt x="421" y="330"/>
                </a:moveTo>
                <a:lnTo>
                  <a:pt x="421" y="347"/>
                </a:lnTo>
                <a:lnTo>
                  <a:pt x="359" y="347"/>
                </a:lnTo>
                <a:lnTo>
                  <a:pt x="359" y="330"/>
                </a:lnTo>
                <a:lnTo>
                  <a:pt x="421" y="330"/>
                </a:lnTo>
                <a:close/>
                <a:moveTo>
                  <a:pt x="354" y="347"/>
                </a:moveTo>
                <a:lnTo>
                  <a:pt x="354" y="409"/>
                </a:lnTo>
                <a:lnTo>
                  <a:pt x="337" y="409"/>
                </a:lnTo>
                <a:lnTo>
                  <a:pt x="337" y="347"/>
                </a:lnTo>
                <a:lnTo>
                  <a:pt x="354" y="347"/>
                </a:lnTo>
                <a:close/>
                <a:moveTo>
                  <a:pt x="254" y="251"/>
                </a:moveTo>
                <a:lnTo>
                  <a:pt x="254" y="263"/>
                </a:lnTo>
                <a:lnTo>
                  <a:pt x="189" y="263"/>
                </a:lnTo>
                <a:lnTo>
                  <a:pt x="189" y="251"/>
                </a:lnTo>
                <a:lnTo>
                  <a:pt x="254" y="251"/>
                </a:lnTo>
                <a:close/>
                <a:moveTo>
                  <a:pt x="275" y="184"/>
                </a:moveTo>
                <a:lnTo>
                  <a:pt x="275" y="246"/>
                </a:lnTo>
                <a:lnTo>
                  <a:pt x="258" y="246"/>
                </a:lnTo>
                <a:lnTo>
                  <a:pt x="258" y="184"/>
                </a:lnTo>
                <a:lnTo>
                  <a:pt x="275" y="184"/>
                </a:lnTo>
                <a:close/>
                <a:moveTo>
                  <a:pt x="363" y="305"/>
                </a:moveTo>
                <a:lnTo>
                  <a:pt x="354" y="311"/>
                </a:lnTo>
                <a:lnTo>
                  <a:pt x="350" y="314"/>
                </a:lnTo>
                <a:lnTo>
                  <a:pt x="348" y="314"/>
                </a:lnTo>
                <a:lnTo>
                  <a:pt x="348" y="316"/>
                </a:lnTo>
                <a:lnTo>
                  <a:pt x="340" y="311"/>
                </a:lnTo>
                <a:lnTo>
                  <a:pt x="333" y="310"/>
                </a:lnTo>
                <a:lnTo>
                  <a:pt x="328" y="308"/>
                </a:lnTo>
                <a:lnTo>
                  <a:pt x="325" y="306"/>
                </a:lnTo>
                <a:lnTo>
                  <a:pt x="322" y="305"/>
                </a:lnTo>
                <a:lnTo>
                  <a:pt x="322" y="305"/>
                </a:lnTo>
                <a:lnTo>
                  <a:pt x="315" y="296"/>
                </a:lnTo>
                <a:lnTo>
                  <a:pt x="312" y="291"/>
                </a:lnTo>
                <a:lnTo>
                  <a:pt x="312" y="289"/>
                </a:lnTo>
                <a:lnTo>
                  <a:pt x="311" y="289"/>
                </a:lnTo>
                <a:lnTo>
                  <a:pt x="302" y="289"/>
                </a:lnTo>
                <a:lnTo>
                  <a:pt x="297" y="289"/>
                </a:lnTo>
                <a:lnTo>
                  <a:pt x="295" y="289"/>
                </a:lnTo>
                <a:lnTo>
                  <a:pt x="295" y="289"/>
                </a:lnTo>
                <a:lnTo>
                  <a:pt x="292" y="280"/>
                </a:lnTo>
                <a:lnTo>
                  <a:pt x="289" y="274"/>
                </a:lnTo>
                <a:lnTo>
                  <a:pt x="288" y="269"/>
                </a:lnTo>
                <a:lnTo>
                  <a:pt x="286" y="266"/>
                </a:lnTo>
                <a:lnTo>
                  <a:pt x="286" y="263"/>
                </a:lnTo>
                <a:lnTo>
                  <a:pt x="284" y="263"/>
                </a:lnTo>
                <a:lnTo>
                  <a:pt x="292" y="257"/>
                </a:lnTo>
                <a:lnTo>
                  <a:pt x="297" y="251"/>
                </a:lnTo>
                <a:lnTo>
                  <a:pt x="303" y="245"/>
                </a:lnTo>
                <a:lnTo>
                  <a:pt x="306" y="243"/>
                </a:lnTo>
                <a:lnTo>
                  <a:pt x="306" y="241"/>
                </a:lnTo>
                <a:lnTo>
                  <a:pt x="305" y="221"/>
                </a:lnTo>
                <a:lnTo>
                  <a:pt x="309" y="201"/>
                </a:lnTo>
                <a:lnTo>
                  <a:pt x="319" y="181"/>
                </a:lnTo>
                <a:lnTo>
                  <a:pt x="333" y="164"/>
                </a:lnTo>
                <a:lnTo>
                  <a:pt x="357" y="139"/>
                </a:lnTo>
                <a:lnTo>
                  <a:pt x="379" y="118"/>
                </a:lnTo>
                <a:lnTo>
                  <a:pt x="399" y="99"/>
                </a:lnTo>
                <a:lnTo>
                  <a:pt x="415" y="82"/>
                </a:lnTo>
                <a:lnTo>
                  <a:pt x="428" y="68"/>
                </a:lnTo>
                <a:lnTo>
                  <a:pt x="439" y="57"/>
                </a:lnTo>
                <a:lnTo>
                  <a:pt x="449" y="48"/>
                </a:lnTo>
                <a:lnTo>
                  <a:pt x="456" y="40"/>
                </a:lnTo>
                <a:lnTo>
                  <a:pt x="463" y="34"/>
                </a:lnTo>
                <a:lnTo>
                  <a:pt x="467" y="31"/>
                </a:lnTo>
                <a:lnTo>
                  <a:pt x="472" y="25"/>
                </a:lnTo>
                <a:lnTo>
                  <a:pt x="475" y="23"/>
                </a:lnTo>
                <a:lnTo>
                  <a:pt x="475" y="23"/>
                </a:lnTo>
                <a:lnTo>
                  <a:pt x="487" y="12"/>
                </a:lnTo>
                <a:lnTo>
                  <a:pt x="501" y="5"/>
                </a:lnTo>
                <a:lnTo>
                  <a:pt x="517" y="1"/>
                </a:lnTo>
                <a:lnTo>
                  <a:pt x="534" y="0"/>
                </a:lnTo>
                <a:lnTo>
                  <a:pt x="549" y="1"/>
                </a:lnTo>
                <a:lnTo>
                  <a:pt x="566" y="5"/>
                </a:lnTo>
                <a:lnTo>
                  <a:pt x="582" y="12"/>
                </a:lnTo>
                <a:lnTo>
                  <a:pt x="596" y="23"/>
                </a:lnTo>
                <a:lnTo>
                  <a:pt x="607" y="37"/>
                </a:lnTo>
                <a:lnTo>
                  <a:pt x="613" y="53"/>
                </a:lnTo>
                <a:lnTo>
                  <a:pt x="617" y="68"/>
                </a:lnTo>
                <a:lnTo>
                  <a:pt x="619" y="85"/>
                </a:lnTo>
                <a:lnTo>
                  <a:pt x="617" y="101"/>
                </a:lnTo>
                <a:lnTo>
                  <a:pt x="613" y="116"/>
                </a:lnTo>
                <a:lnTo>
                  <a:pt x="607" y="130"/>
                </a:lnTo>
                <a:lnTo>
                  <a:pt x="596" y="142"/>
                </a:lnTo>
                <a:lnTo>
                  <a:pt x="571" y="167"/>
                </a:lnTo>
                <a:lnTo>
                  <a:pt x="549" y="190"/>
                </a:lnTo>
                <a:lnTo>
                  <a:pt x="529" y="209"/>
                </a:lnTo>
                <a:lnTo>
                  <a:pt x="514" y="224"/>
                </a:lnTo>
                <a:lnTo>
                  <a:pt x="500" y="238"/>
                </a:lnTo>
                <a:lnTo>
                  <a:pt x="489" y="249"/>
                </a:lnTo>
                <a:lnTo>
                  <a:pt x="478" y="258"/>
                </a:lnTo>
                <a:lnTo>
                  <a:pt x="472" y="266"/>
                </a:lnTo>
                <a:lnTo>
                  <a:pt x="466" y="272"/>
                </a:lnTo>
                <a:lnTo>
                  <a:pt x="461" y="277"/>
                </a:lnTo>
                <a:lnTo>
                  <a:pt x="456" y="282"/>
                </a:lnTo>
                <a:lnTo>
                  <a:pt x="453" y="283"/>
                </a:lnTo>
                <a:lnTo>
                  <a:pt x="453" y="283"/>
                </a:lnTo>
                <a:lnTo>
                  <a:pt x="442" y="293"/>
                </a:lnTo>
                <a:lnTo>
                  <a:pt x="432" y="300"/>
                </a:lnTo>
                <a:lnTo>
                  <a:pt x="421" y="305"/>
                </a:lnTo>
                <a:lnTo>
                  <a:pt x="408" y="308"/>
                </a:lnTo>
                <a:lnTo>
                  <a:pt x="398" y="310"/>
                </a:lnTo>
                <a:lnTo>
                  <a:pt x="385" y="310"/>
                </a:lnTo>
                <a:lnTo>
                  <a:pt x="374" y="308"/>
                </a:lnTo>
                <a:lnTo>
                  <a:pt x="363" y="305"/>
                </a:lnTo>
                <a:close/>
                <a:moveTo>
                  <a:pt x="565" y="133"/>
                </a:moveTo>
                <a:lnTo>
                  <a:pt x="572" y="122"/>
                </a:lnTo>
                <a:lnTo>
                  <a:pt x="579" y="111"/>
                </a:lnTo>
                <a:lnTo>
                  <a:pt x="583" y="101"/>
                </a:lnTo>
                <a:lnTo>
                  <a:pt x="585" y="88"/>
                </a:lnTo>
                <a:lnTo>
                  <a:pt x="583" y="77"/>
                </a:lnTo>
                <a:lnTo>
                  <a:pt x="582" y="66"/>
                </a:lnTo>
                <a:lnTo>
                  <a:pt x="576" y="57"/>
                </a:lnTo>
                <a:lnTo>
                  <a:pt x="569" y="49"/>
                </a:lnTo>
                <a:lnTo>
                  <a:pt x="560" y="42"/>
                </a:lnTo>
                <a:lnTo>
                  <a:pt x="551" y="37"/>
                </a:lnTo>
                <a:lnTo>
                  <a:pt x="540" y="34"/>
                </a:lnTo>
                <a:lnTo>
                  <a:pt x="529" y="34"/>
                </a:lnTo>
                <a:lnTo>
                  <a:pt x="518" y="36"/>
                </a:lnTo>
                <a:lnTo>
                  <a:pt x="506" y="40"/>
                </a:lnTo>
                <a:lnTo>
                  <a:pt x="495" y="46"/>
                </a:lnTo>
                <a:lnTo>
                  <a:pt x="486" y="54"/>
                </a:lnTo>
                <a:lnTo>
                  <a:pt x="463" y="76"/>
                </a:lnTo>
                <a:lnTo>
                  <a:pt x="444" y="96"/>
                </a:lnTo>
                <a:lnTo>
                  <a:pt x="427" y="113"/>
                </a:lnTo>
                <a:lnTo>
                  <a:pt x="411" y="127"/>
                </a:lnTo>
                <a:lnTo>
                  <a:pt x="399" y="139"/>
                </a:lnTo>
                <a:lnTo>
                  <a:pt x="390" y="149"/>
                </a:lnTo>
                <a:lnTo>
                  <a:pt x="380" y="158"/>
                </a:lnTo>
                <a:lnTo>
                  <a:pt x="374" y="164"/>
                </a:lnTo>
                <a:lnTo>
                  <a:pt x="365" y="173"/>
                </a:lnTo>
                <a:lnTo>
                  <a:pt x="360" y="178"/>
                </a:lnTo>
                <a:lnTo>
                  <a:pt x="359" y="179"/>
                </a:lnTo>
                <a:lnTo>
                  <a:pt x="359" y="179"/>
                </a:lnTo>
                <a:lnTo>
                  <a:pt x="351" y="184"/>
                </a:lnTo>
                <a:lnTo>
                  <a:pt x="346" y="190"/>
                </a:lnTo>
                <a:lnTo>
                  <a:pt x="343" y="198"/>
                </a:lnTo>
                <a:lnTo>
                  <a:pt x="343" y="206"/>
                </a:lnTo>
                <a:lnTo>
                  <a:pt x="356" y="200"/>
                </a:lnTo>
                <a:lnTo>
                  <a:pt x="371" y="198"/>
                </a:lnTo>
                <a:lnTo>
                  <a:pt x="387" y="201"/>
                </a:lnTo>
                <a:lnTo>
                  <a:pt x="401" y="210"/>
                </a:lnTo>
                <a:lnTo>
                  <a:pt x="410" y="224"/>
                </a:lnTo>
                <a:lnTo>
                  <a:pt x="413" y="240"/>
                </a:lnTo>
                <a:lnTo>
                  <a:pt x="410" y="255"/>
                </a:lnTo>
                <a:lnTo>
                  <a:pt x="401" y="268"/>
                </a:lnTo>
                <a:lnTo>
                  <a:pt x="394" y="271"/>
                </a:lnTo>
                <a:lnTo>
                  <a:pt x="391" y="272"/>
                </a:lnTo>
                <a:lnTo>
                  <a:pt x="391" y="274"/>
                </a:lnTo>
                <a:lnTo>
                  <a:pt x="390" y="274"/>
                </a:lnTo>
                <a:lnTo>
                  <a:pt x="402" y="272"/>
                </a:lnTo>
                <a:lnTo>
                  <a:pt x="416" y="269"/>
                </a:lnTo>
                <a:lnTo>
                  <a:pt x="428" y="265"/>
                </a:lnTo>
                <a:lnTo>
                  <a:pt x="438" y="258"/>
                </a:lnTo>
                <a:lnTo>
                  <a:pt x="565" y="133"/>
                </a:lnTo>
                <a:close/>
                <a:moveTo>
                  <a:pt x="54" y="551"/>
                </a:moveTo>
                <a:lnTo>
                  <a:pt x="63" y="559"/>
                </a:lnTo>
                <a:lnTo>
                  <a:pt x="72" y="563"/>
                </a:lnTo>
                <a:lnTo>
                  <a:pt x="83" y="567"/>
                </a:lnTo>
                <a:lnTo>
                  <a:pt x="94" y="567"/>
                </a:lnTo>
                <a:lnTo>
                  <a:pt x="105" y="567"/>
                </a:lnTo>
                <a:lnTo>
                  <a:pt x="114" y="563"/>
                </a:lnTo>
                <a:lnTo>
                  <a:pt x="125" y="559"/>
                </a:lnTo>
                <a:lnTo>
                  <a:pt x="133" y="551"/>
                </a:lnTo>
                <a:lnTo>
                  <a:pt x="156" y="529"/>
                </a:lnTo>
                <a:lnTo>
                  <a:pt x="175" y="509"/>
                </a:lnTo>
                <a:lnTo>
                  <a:pt x="192" y="492"/>
                </a:lnTo>
                <a:lnTo>
                  <a:pt x="207" y="478"/>
                </a:lnTo>
                <a:lnTo>
                  <a:pt x="218" y="466"/>
                </a:lnTo>
                <a:lnTo>
                  <a:pt x="229" y="455"/>
                </a:lnTo>
                <a:lnTo>
                  <a:pt x="237" y="447"/>
                </a:lnTo>
                <a:lnTo>
                  <a:pt x="244" y="440"/>
                </a:lnTo>
                <a:lnTo>
                  <a:pt x="254" y="432"/>
                </a:lnTo>
                <a:lnTo>
                  <a:pt x="258" y="426"/>
                </a:lnTo>
                <a:lnTo>
                  <a:pt x="260" y="424"/>
                </a:lnTo>
                <a:lnTo>
                  <a:pt x="260" y="424"/>
                </a:lnTo>
                <a:lnTo>
                  <a:pt x="267" y="416"/>
                </a:lnTo>
                <a:lnTo>
                  <a:pt x="272" y="406"/>
                </a:lnTo>
                <a:lnTo>
                  <a:pt x="277" y="396"/>
                </a:lnTo>
                <a:lnTo>
                  <a:pt x="281" y="387"/>
                </a:lnTo>
                <a:lnTo>
                  <a:pt x="272" y="395"/>
                </a:lnTo>
                <a:lnTo>
                  <a:pt x="266" y="399"/>
                </a:lnTo>
                <a:lnTo>
                  <a:pt x="261" y="404"/>
                </a:lnTo>
                <a:lnTo>
                  <a:pt x="258" y="406"/>
                </a:lnTo>
                <a:lnTo>
                  <a:pt x="255" y="409"/>
                </a:lnTo>
                <a:lnTo>
                  <a:pt x="255" y="409"/>
                </a:lnTo>
                <a:lnTo>
                  <a:pt x="241" y="418"/>
                </a:lnTo>
                <a:lnTo>
                  <a:pt x="226" y="421"/>
                </a:lnTo>
                <a:lnTo>
                  <a:pt x="210" y="418"/>
                </a:lnTo>
                <a:lnTo>
                  <a:pt x="196" y="409"/>
                </a:lnTo>
                <a:lnTo>
                  <a:pt x="187" y="395"/>
                </a:lnTo>
                <a:lnTo>
                  <a:pt x="185" y="379"/>
                </a:lnTo>
                <a:lnTo>
                  <a:pt x="187" y="364"/>
                </a:lnTo>
                <a:lnTo>
                  <a:pt x="196" y="350"/>
                </a:lnTo>
                <a:lnTo>
                  <a:pt x="206" y="342"/>
                </a:lnTo>
                <a:lnTo>
                  <a:pt x="212" y="336"/>
                </a:lnTo>
                <a:lnTo>
                  <a:pt x="216" y="331"/>
                </a:lnTo>
                <a:lnTo>
                  <a:pt x="219" y="327"/>
                </a:lnTo>
                <a:lnTo>
                  <a:pt x="223" y="325"/>
                </a:lnTo>
                <a:lnTo>
                  <a:pt x="223" y="323"/>
                </a:lnTo>
                <a:lnTo>
                  <a:pt x="212" y="325"/>
                </a:lnTo>
                <a:lnTo>
                  <a:pt x="199" y="328"/>
                </a:lnTo>
                <a:lnTo>
                  <a:pt x="190" y="333"/>
                </a:lnTo>
                <a:lnTo>
                  <a:pt x="181" y="341"/>
                </a:lnTo>
                <a:lnTo>
                  <a:pt x="159" y="362"/>
                </a:lnTo>
                <a:lnTo>
                  <a:pt x="139" y="382"/>
                </a:lnTo>
                <a:lnTo>
                  <a:pt x="122" y="399"/>
                </a:lnTo>
                <a:lnTo>
                  <a:pt x="108" y="413"/>
                </a:lnTo>
                <a:lnTo>
                  <a:pt x="96" y="426"/>
                </a:lnTo>
                <a:lnTo>
                  <a:pt x="85" y="435"/>
                </a:lnTo>
                <a:lnTo>
                  <a:pt x="77" y="444"/>
                </a:lnTo>
                <a:lnTo>
                  <a:pt x="69" y="450"/>
                </a:lnTo>
                <a:lnTo>
                  <a:pt x="62" y="460"/>
                </a:lnTo>
                <a:lnTo>
                  <a:pt x="57" y="464"/>
                </a:lnTo>
                <a:lnTo>
                  <a:pt x="54" y="466"/>
                </a:lnTo>
                <a:lnTo>
                  <a:pt x="54" y="466"/>
                </a:lnTo>
                <a:lnTo>
                  <a:pt x="48" y="477"/>
                </a:lnTo>
                <a:lnTo>
                  <a:pt x="41" y="488"/>
                </a:lnTo>
                <a:lnTo>
                  <a:pt x="38" y="500"/>
                </a:lnTo>
                <a:lnTo>
                  <a:pt x="37" y="511"/>
                </a:lnTo>
                <a:lnTo>
                  <a:pt x="37" y="522"/>
                </a:lnTo>
                <a:lnTo>
                  <a:pt x="40" y="532"/>
                </a:lnTo>
                <a:lnTo>
                  <a:pt x="46" y="543"/>
                </a:lnTo>
                <a:lnTo>
                  <a:pt x="54" y="551"/>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02" name="Freeform 191"/>
          <p:cNvSpPr/>
          <p:nvPr/>
        </p:nvSpPr>
        <p:spPr>
          <a:xfrm>
            <a:off x="5254560" y="853920"/>
            <a:ext cx="122400" cy="184320"/>
          </a:xfrm>
          <a:custGeom>
            <a:avLst/>
            <a:gdLst/>
            <a:ahLst/>
            <a:rect l="l" t="t" r="r" b="b"/>
            <a:pathLst>
              <a:path w="457" h="688">
                <a:moveTo>
                  <a:pt x="352" y="560"/>
                </a:moveTo>
                <a:lnTo>
                  <a:pt x="296" y="560"/>
                </a:lnTo>
                <a:lnTo>
                  <a:pt x="249" y="560"/>
                </a:lnTo>
                <a:lnTo>
                  <a:pt x="205" y="560"/>
                </a:lnTo>
                <a:lnTo>
                  <a:pt x="170" y="560"/>
                </a:lnTo>
                <a:lnTo>
                  <a:pt x="139" y="560"/>
                </a:lnTo>
                <a:lnTo>
                  <a:pt x="113" y="560"/>
                </a:lnTo>
                <a:lnTo>
                  <a:pt x="92" y="560"/>
                </a:lnTo>
                <a:lnTo>
                  <a:pt x="77" y="560"/>
                </a:lnTo>
                <a:lnTo>
                  <a:pt x="64" y="560"/>
                </a:lnTo>
                <a:lnTo>
                  <a:pt x="53" y="560"/>
                </a:lnTo>
                <a:lnTo>
                  <a:pt x="47" y="560"/>
                </a:lnTo>
                <a:lnTo>
                  <a:pt x="42" y="560"/>
                </a:lnTo>
                <a:lnTo>
                  <a:pt x="38" y="560"/>
                </a:lnTo>
                <a:lnTo>
                  <a:pt x="38" y="560"/>
                </a:lnTo>
                <a:lnTo>
                  <a:pt x="38" y="517"/>
                </a:lnTo>
                <a:lnTo>
                  <a:pt x="38" y="476"/>
                </a:lnTo>
                <a:lnTo>
                  <a:pt x="38" y="438"/>
                </a:lnTo>
                <a:lnTo>
                  <a:pt x="38" y="402"/>
                </a:lnTo>
                <a:lnTo>
                  <a:pt x="38" y="371"/>
                </a:lnTo>
                <a:lnTo>
                  <a:pt x="38" y="340"/>
                </a:lnTo>
                <a:lnTo>
                  <a:pt x="38" y="312"/>
                </a:lnTo>
                <a:lnTo>
                  <a:pt x="38" y="286"/>
                </a:lnTo>
                <a:lnTo>
                  <a:pt x="38" y="261"/>
                </a:lnTo>
                <a:lnTo>
                  <a:pt x="38" y="239"/>
                </a:lnTo>
                <a:lnTo>
                  <a:pt x="38" y="220"/>
                </a:lnTo>
                <a:lnTo>
                  <a:pt x="38" y="201"/>
                </a:lnTo>
                <a:lnTo>
                  <a:pt x="38" y="169"/>
                </a:lnTo>
                <a:lnTo>
                  <a:pt x="38" y="145"/>
                </a:lnTo>
                <a:lnTo>
                  <a:pt x="38" y="124"/>
                </a:lnTo>
                <a:lnTo>
                  <a:pt x="38" y="109"/>
                </a:lnTo>
                <a:lnTo>
                  <a:pt x="38" y="100"/>
                </a:lnTo>
                <a:lnTo>
                  <a:pt x="38" y="92"/>
                </a:lnTo>
                <a:lnTo>
                  <a:pt x="38" y="89"/>
                </a:lnTo>
                <a:lnTo>
                  <a:pt x="38" y="87"/>
                </a:lnTo>
                <a:lnTo>
                  <a:pt x="38" y="85"/>
                </a:lnTo>
                <a:lnTo>
                  <a:pt x="92" y="85"/>
                </a:lnTo>
                <a:lnTo>
                  <a:pt x="141" y="85"/>
                </a:lnTo>
                <a:lnTo>
                  <a:pt x="183" y="85"/>
                </a:lnTo>
                <a:lnTo>
                  <a:pt x="218" y="85"/>
                </a:lnTo>
                <a:lnTo>
                  <a:pt x="250" y="85"/>
                </a:lnTo>
                <a:lnTo>
                  <a:pt x="275" y="85"/>
                </a:lnTo>
                <a:lnTo>
                  <a:pt x="296" y="85"/>
                </a:lnTo>
                <a:lnTo>
                  <a:pt x="312" y="85"/>
                </a:lnTo>
                <a:lnTo>
                  <a:pt x="326" y="85"/>
                </a:lnTo>
                <a:lnTo>
                  <a:pt x="335" y="85"/>
                </a:lnTo>
                <a:lnTo>
                  <a:pt x="343" y="85"/>
                </a:lnTo>
                <a:lnTo>
                  <a:pt x="346" y="85"/>
                </a:lnTo>
                <a:lnTo>
                  <a:pt x="352" y="85"/>
                </a:lnTo>
                <a:lnTo>
                  <a:pt x="352" y="85"/>
                </a:lnTo>
                <a:lnTo>
                  <a:pt x="352" y="104"/>
                </a:lnTo>
                <a:lnTo>
                  <a:pt x="352" y="119"/>
                </a:lnTo>
                <a:lnTo>
                  <a:pt x="352" y="132"/>
                </a:lnTo>
                <a:lnTo>
                  <a:pt x="352" y="143"/>
                </a:lnTo>
                <a:lnTo>
                  <a:pt x="352" y="162"/>
                </a:lnTo>
                <a:lnTo>
                  <a:pt x="352" y="173"/>
                </a:lnTo>
                <a:lnTo>
                  <a:pt x="352" y="181"/>
                </a:lnTo>
                <a:lnTo>
                  <a:pt x="352" y="184"/>
                </a:lnTo>
                <a:lnTo>
                  <a:pt x="352" y="186"/>
                </a:lnTo>
                <a:lnTo>
                  <a:pt x="352" y="186"/>
                </a:lnTo>
                <a:lnTo>
                  <a:pt x="363" y="186"/>
                </a:lnTo>
                <a:lnTo>
                  <a:pt x="373" y="186"/>
                </a:lnTo>
                <a:lnTo>
                  <a:pt x="380" y="186"/>
                </a:lnTo>
                <a:lnTo>
                  <a:pt x="384" y="186"/>
                </a:lnTo>
                <a:lnTo>
                  <a:pt x="388" y="186"/>
                </a:lnTo>
                <a:lnTo>
                  <a:pt x="390" y="186"/>
                </a:lnTo>
                <a:lnTo>
                  <a:pt x="390" y="164"/>
                </a:lnTo>
                <a:lnTo>
                  <a:pt x="390" y="143"/>
                </a:lnTo>
                <a:lnTo>
                  <a:pt x="390" y="124"/>
                </a:lnTo>
                <a:lnTo>
                  <a:pt x="390" y="109"/>
                </a:lnTo>
                <a:lnTo>
                  <a:pt x="390" y="96"/>
                </a:lnTo>
                <a:lnTo>
                  <a:pt x="390" y="85"/>
                </a:lnTo>
                <a:lnTo>
                  <a:pt x="390" y="77"/>
                </a:lnTo>
                <a:lnTo>
                  <a:pt x="390" y="70"/>
                </a:lnTo>
                <a:lnTo>
                  <a:pt x="390" y="60"/>
                </a:lnTo>
                <a:lnTo>
                  <a:pt x="390" y="55"/>
                </a:lnTo>
                <a:lnTo>
                  <a:pt x="390" y="53"/>
                </a:lnTo>
                <a:lnTo>
                  <a:pt x="390" y="53"/>
                </a:lnTo>
                <a:lnTo>
                  <a:pt x="388" y="43"/>
                </a:lnTo>
                <a:lnTo>
                  <a:pt x="384" y="34"/>
                </a:lnTo>
                <a:lnTo>
                  <a:pt x="373" y="17"/>
                </a:lnTo>
                <a:lnTo>
                  <a:pt x="365" y="10"/>
                </a:lnTo>
                <a:lnTo>
                  <a:pt x="356" y="4"/>
                </a:lnTo>
                <a:lnTo>
                  <a:pt x="346" y="0"/>
                </a:lnTo>
                <a:lnTo>
                  <a:pt x="335" y="0"/>
                </a:lnTo>
                <a:lnTo>
                  <a:pt x="284" y="0"/>
                </a:lnTo>
                <a:lnTo>
                  <a:pt x="241" y="0"/>
                </a:lnTo>
                <a:lnTo>
                  <a:pt x="202" y="0"/>
                </a:lnTo>
                <a:lnTo>
                  <a:pt x="170" y="0"/>
                </a:lnTo>
                <a:lnTo>
                  <a:pt x="141" y="0"/>
                </a:lnTo>
                <a:lnTo>
                  <a:pt x="119" y="0"/>
                </a:lnTo>
                <a:lnTo>
                  <a:pt x="100" y="0"/>
                </a:lnTo>
                <a:lnTo>
                  <a:pt x="85" y="0"/>
                </a:lnTo>
                <a:lnTo>
                  <a:pt x="72" y="0"/>
                </a:lnTo>
                <a:lnTo>
                  <a:pt x="62" y="0"/>
                </a:lnTo>
                <a:lnTo>
                  <a:pt x="57" y="0"/>
                </a:lnTo>
                <a:lnTo>
                  <a:pt x="53" y="0"/>
                </a:lnTo>
                <a:lnTo>
                  <a:pt x="49" y="0"/>
                </a:lnTo>
                <a:lnTo>
                  <a:pt x="47" y="0"/>
                </a:lnTo>
                <a:lnTo>
                  <a:pt x="38" y="0"/>
                </a:lnTo>
                <a:lnTo>
                  <a:pt x="29" y="4"/>
                </a:lnTo>
                <a:lnTo>
                  <a:pt x="21" y="10"/>
                </a:lnTo>
                <a:lnTo>
                  <a:pt x="14" y="17"/>
                </a:lnTo>
                <a:lnTo>
                  <a:pt x="4" y="34"/>
                </a:lnTo>
                <a:lnTo>
                  <a:pt x="0" y="43"/>
                </a:lnTo>
                <a:lnTo>
                  <a:pt x="0" y="53"/>
                </a:lnTo>
                <a:lnTo>
                  <a:pt x="0" y="107"/>
                </a:lnTo>
                <a:lnTo>
                  <a:pt x="0" y="156"/>
                </a:lnTo>
                <a:lnTo>
                  <a:pt x="0" y="203"/>
                </a:lnTo>
                <a:lnTo>
                  <a:pt x="0" y="246"/>
                </a:lnTo>
                <a:lnTo>
                  <a:pt x="0" y="288"/>
                </a:lnTo>
                <a:lnTo>
                  <a:pt x="0" y="325"/>
                </a:lnTo>
                <a:lnTo>
                  <a:pt x="0" y="359"/>
                </a:lnTo>
                <a:lnTo>
                  <a:pt x="0" y="393"/>
                </a:lnTo>
                <a:lnTo>
                  <a:pt x="0" y="421"/>
                </a:lnTo>
                <a:lnTo>
                  <a:pt x="0" y="449"/>
                </a:lnTo>
                <a:lnTo>
                  <a:pt x="0" y="474"/>
                </a:lnTo>
                <a:lnTo>
                  <a:pt x="0" y="496"/>
                </a:lnTo>
                <a:lnTo>
                  <a:pt x="0" y="517"/>
                </a:lnTo>
                <a:lnTo>
                  <a:pt x="0" y="536"/>
                </a:lnTo>
                <a:lnTo>
                  <a:pt x="0" y="551"/>
                </a:lnTo>
                <a:lnTo>
                  <a:pt x="0" y="566"/>
                </a:lnTo>
                <a:lnTo>
                  <a:pt x="0" y="590"/>
                </a:lnTo>
                <a:lnTo>
                  <a:pt x="0" y="609"/>
                </a:lnTo>
                <a:lnTo>
                  <a:pt x="0" y="622"/>
                </a:lnTo>
                <a:lnTo>
                  <a:pt x="0" y="630"/>
                </a:lnTo>
                <a:lnTo>
                  <a:pt x="0" y="636"/>
                </a:lnTo>
                <a:lnTo>
                  <a:pt x="0" y="639"/>
                </a:lnTo>
                <a:lnTo>
                  <a:pt x="0" y="639"/>
                </a:lnTo>
                <a:lnTo>
                  <a:pt x="0" y="649"/>
                </a:lnTo>
                <a:lnTo>
                  <a:pt x="4" y="658"/>
                </a:lnTo>
                <a:lnTo>
                  <a:pt x="14" y="673"/>
                </a:lnTo>
                <a:lnTo>
                  <a:pt x="29" y="685"/>
                </a:lnTo>
                <a:lnTo>
                  <a:pt x="38" y="686"/>
                </a:lnTo>
                <a:lnTo>
                  <a:pt x="47" y="688"/>
                </a:lnTo>
                <a:lnTo>
                  <a:pt x="98" y="688"/>
                </a:lnTo>
                <a:lnTo>
                  <a:pt x="143" y="688"/>
                </a:lnTo>
                <a:lnTo>
                  <a:pt x="181" y="688"/>
                </a:lnTo>
                <a:lnTo>
                  <a:pt x="215" y="688"/>
                </a:lnTo>
                <a:lnTo>
                  <a:pt x="243" y="688"/>
                </a:lnTo>
                <a:lnTo>
                  <a:pt x="265" y="688"/>
                </a:lnTo>
                <a:lnTo>
                  <a:pt x="284" y="688"/>
                </a:lnTo>
                <a:lnTo>
                  <a:pt x="299" y="688"/>
                </a:lnTo>
                <a:lnTo>
                  <a:pt x="312" y="688"/>
                </a:lnTo>
                <a:lnTo>
                  <a:pt x="320" y="688"/>
                </a:lnTo>
                <a:lnTo>
                  <a:pt x="327" y="688"/>
                </a:lnTo>
                <a:lnTo>
                  <a:pt x="331" y="688"/>
                </a:lnTo>
                <a:lnTo>
                  <a:pt x="335" y="688"/>
                </a:lnTo>
                <a:lnTo>
                  <a:pt x="335" y="688"/>
                </a:lnTo>
                <a:lnTo>
                  <a:pt x="346" y="686"/>
                </a:lnTo>
                <a:lnTo>
                  <a:pt x="356" y="685"/>
                </a:lnTo>
                <a:lnTo>
                  <a:pt x="373" y="673"/>
                </a:lnTo>
                <a:lnTo>
                  <a:pt x="384" y="658"/>
                </a:lnTo>
                <a:lnTo>
                  <a:pt x="388" y="649"/>
                </a:lnTo>
                <a:lnTo>
                  <a:pt x="390" y="639"/>
                </a:lnTo>
                <a:lnTo>
                  <a:pt x="390" y="602"/>
                </a:lnTo>
                <a:lnTo>
                  <a:pt x="390" y="568"/>
                </a:lnTo>
                <a:lnTo>
                  <a:pt x="390" y="538"/>
                </a:lnTo>
                <a:lnTo>
                  <a:pt x="390" y="513"/>
                </a:lnTo>
                <a:lnTo>
                  <a:pt x="390" y="493"/>
                </a:lnTo>
                <a:lnTo>
                  <a:pt x="390" y="474"/>
                </a:lnTo>
                <a:lnTo>
                  <a:pt x="390" y="461"/>
                </a:lnTo>
                <a:lnTo>
                  <a:pt x="390" y="448"/>
                </a:lnTo>
                <a:lnTo>
                  <a:pt x="390" y="440"/>
                </a:lnTo>
                <a:lnTo>
                  <a:pt x="390" y="433"/>
                </a:lnTo>
                <a:lnTo>
                  <a:pt x="390" y="427"/>
                </a:lnTo>
                <a:lnTo>
                  <a:pt x="390" y="425"/>
                </a:lnTo>
                <a:lnTo>
                  <a:pt x="390" y="421"/>
                </a:lnTo>
                <a:lnTo>
                  <a:pt x="390" y="421"/>
                </a:lnTo>
                <a:lnTo>
                  <a:pt x="376" y="421"/>
                </a:lnTo>
                <a:lnTo>
                  <a:pt x="367" y="421"/>
                </a:lnTo>
                <a:lnTo>
                  <a:pt x="361" y="421"/>
                </a:lnTo>
                <a:lnTo>
                  <a:pt x="356" y="421"/>
                </a:lnTo>
                <a:lnTo>
                  <a:pt x="352" y="421"/>
                </a:lnTo>
                <a:lnTo>
                  <a:pt x="352" y="421"/>
                </a:lnTo>
                <a:lnTo>
                  <a:pt x="352" y="560"/>
                </a:lnTo>
                <a:close/>
                <a:moveTo>
                  <a:pt x="166" y="399"/>
                </a:moveTo>
                <a:lnTo>
                  <a:pt x="202" y="399"/>
                </a:lnTo>
                <a:lnTo>
                  <a:pt x="166" y="480"/>
                </a:lnTo>
                <a:lnTo>
                  <a:pt x="264" y="399"/>
                </a:lnTo>
                <a:lnTo>
                  <a:pt x="457" y="399"/>
                </a:lnTo>
                <a:lnTo>
                  <a:pt x="457" y="201"/>
                </a:lnTo>
                <a:lnTo>
                  <a:pt x="166" y="201"/>
                </a:lnTo>
                <a:lnTo>
                  <a:pt x="166" y="399"/>
                </a:lnTo>
                <a:close/>
                <a:moveTo>
                  <a:pt x="303" y="32"/>
                </a:moveTo>
                <a:lnTo>
                  <a:pt x="309" y="32"/>
                </a:lnTo>
                <a:lnTo>
                  <a:pt x="314" y="36"/>
                </a:lnTo>
                <a:lnTo>
                  <a:pt x="318" y="42"/>
                </a:lnTo>
                <a:lnTo>
                  <a:pt x="320" y="47"/>
                </a:lnTo>
                <a:lnTo>
                  <a:pt x="318" y="51"/>
                </a:lnTo>
                <a:lnTo>
                  <a:pt x="314" y="55"/>
                </a:lnTo>
                <a:lnTo>
                  <a:pt x="309" y="57"/>
                </a:lnTo>
                <a:lnTo>
                  <a:pt x="303" y="58"/>
                </a:lnTo>
                <a:lnTo>
                  <a:pt x="299" y="57"/>
                </a:lnTo>
                <a:lnTo>
                  <a:pt x="297" y="55"/>
                </a:lnTo>
                <a:lnTo>
                  <a:pt x="294" y="51"/>
                </a:lnTo>
                <a:lnTo>
                  <a:pt x="294" y="47"/>
                </a:lnTo>
                <a:lnTo>
                  <a:pt x="294" y="42"/>
                </a:lnTo>
                <a:lnTo>
                  <a:pt x="297" y="36"/>
                </a:lnTo>
                <a:lnTo>
                  <a:pt x="299" y="32"/>
                </a:lnTo>
                <a:lnTo>
                  <a:pt x="303" y="32"/>
                </a:lnTo>
                <a:close/>
                <a:moveTo>
                  <a:pt x="128" y="38"/>
                </a:moveTo>
                <a:lnTo>
                  <a:pt x="151" y="38"/>
                </a:lnTo>
                <a:lnTo>
                  <a:pt x="171" y="38"/>
                </a:lnTo>
                <a:lnTo>
                  <a:pt x="190" y="38"/>
                </a:lnTo>
                <a:lnTo>
                  <a:pt x="205" y="38"/>
                </a:lnTo>
                <a:lnTo>
                  <a:pt x="218" y="38"/>
                </a:lnTo>
                <a:lnTo>
                  <a:pt x="228" y="38"/>
                </a:lnTo>
                <a:lnTo>
                  <a:pt x="237" y="38"/>
                </a:lnTo>
                <a:lnTo>
                  <a:pt x="245" y="38"/>
                </a:lnTo>
                <a:lnTo>
                  <a:pt x="254" y="38"/>
                </a:lnTo>
                <a:lnTo>
                  <a:pt x="260" y="38"/>
                </a:lnTo>
                <a:lnTo>
                  <a:pt x="262" y="38"/>
                </a:lnTo>
                <a:lnTo>
                  <a:pt x="262" y="38"/>
                </a:lnTo>
                <a:lnTo>
                  <a:pt x="262" y="47"/>
                </a:lnTo>
                <a:lnTo>
                  <a:pt x="262" y="51"/>
                </a:lnTo>
                <a:lnTo>
                  <a:pt x="262" y="53"/>
                </a:lnTo>
                <a:lnTo>
                  <a:pt x="262" y="53"/>
                </a:lnTo>
                <a:lnTo>
                  <a:pt x="237" y="53"/>
                </a:lnTo>
                <a:lnTo>
                  <a:pt x="217" y="53"/>
                </a:lnTo>
                <a:lnTo>
                  <a:pt x="200" y="53"/>
                </a:lnTo>
                <a:lnTo>
                  <a:pt x="185" y="53"/>
                </a:lnTo>
                <a:lnTo>
                  <a:pt x="171" y="53"/>
                </a:lnTo>
                <a:lnTo>
                  <a:pt x="160" y="53"/>
                </a:lnTo>
                <a:lnTo>
                  <a:pt x="151" y="53"/>
                </a:lnTo>
                <a:lnTo>
                  <a:pt x="145" y="53"/>
                </a:lnTo>
                <a:lnTo>
                  <a:pt x="136" y="53"/>
                </a:lnTo>
                <a:lnTo>
                  <a:pt x="130" y="53"/>
                </a:lnTo>
                <a:lnTo>
                  <a:pt x="128" y="53"/>
                </a:lnTo>
                <a:lnTo>
                  <a:pt x="128" y="53"/>
                </a:lnTo>
                <a:lnTo>
                  <a:pt x="128" y="38"/>
                </a:lnTo>
                <a:close/>
                <a:moveTo>
                  <a:pt x="256" y="634"/>
                </a:moveTo>
                <a:lnTo>
                  <a:pt x="233" y="634"/>
                </a:lnTo>
                <a:lnTo>
                  <a:pt x="215" y="634"/>
                </a:lnTo>
                <a:lnTo>
                  <a:pt x="200" y="634"/>
                </a:lnTo>
                <a:lnTo>
                  <a:pt x="185" y="634"/>
                </a:lnTo>
                <a:lnTo>
                  <a:pt x="173" y="634"/>
                </a:lnTo>
                <a:lnTo>
                  <a:pt x="164" y="634"/>
                </a:lnTo>
                <a:lnTo>
                  <a:pt x="149" y="634"/>
                </a:lnTo>
                <a:lnTo>
                  <a:pt x="139" y="634"/>
                </a:lnTo>
                <a:lnTo>
                  <a:pt x="136" y="634"/>
                </a:lnTo>
                <a:lnTo>
                  <a:pt x="134" y="634"/>
                </a:lnTo>
                <a:lnTo>
                  <a:pt x="134" y="634"/>
                </a:lnTo>
                <a:lnTo>
                  <a:pt x="134" y="622"/>
                </a:lnTo>
                <a:lnTo>
                  <a:pt x="134" y="613"/>
                </a:lnTo>
                <a:lnTo>
                  <a:pt x="134" y="606"/>
                </a:lnTo>
                <a:lnTo>
                  <a:pt x="134" y="602"/>
                </a:lnTo>
                <a:lnTo>
                  <a:pt x="134" y="598"/>
                </a:lnTo>
                <a:lnTo>
                  <a:pt x="134" y="598"/>
                </a:lnTo>
                <a:lnTo>
                  <a:pt x="155" y="598"/>
                </a:lnTo>
                <a:lnTo>
                  <a:pt x="173" y="598"/>
                </a:lnTo>
                <a:lnTo>
                  <a:pt x="190" y="598"/>
                </a:lnTo>
                <a:lnTo>
                  <a:pt x="203" y="598"/>
                </a:lnTo>
                <a:lnTo>
                  <a:pt x="217" y="598"/>
                </a:lnTo>
                <a:lnTo>
                  <a:pt x="226" y="598"/>
                </a:lnTo>
                <a:lnTo>
                  <a:pt x="241" y="598"/>
                </a:lnTo>
                <a:lnTo>
                  <a:pt x="249" y="598"/>
                </a:lnTo>
                <a:lnTo>
                  <a:pt x="254" y="598"/>
                </a:lnTo>
                <a:lnTo>
                  <a:pt x="256" y="598"/>
                </a:lnTo>
                <a:lnTo>
                  <a:pt x="256" y="598"/>
                </a:lnTo>
                <a:lnTo>
                  <a:pt x="256" y="634"/>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03" name="Freeform 192"/>
          <p:cNvSpPr/>
          <p:nvPr/>
        </p:nvSpPr>
        <p:spPr>
          <a:xfrm>
            <a:off x="4221000" y="3889440"/>
            <a:ext cx="150840" cy="149040"/>
          </a:xfrm>
          <a:custGeom>
            <a:avLst/>
            <a:gdLst/>
            <a:ahLst/>
            <a:rect l="l" t="t" r="r" b="b"/>
            <a:pathLst>
              <a:path w="563" h="560">
                <a:moveTo>
                  <a:pt x="281" y="0"/>
                </a:moveTo>
                <a:lnTo>
                  <a:pt x="252" y="2"/>
                </a:lnTo>
                <a:lnTo>
                  <a:pt x="223" y="6"/>
                </a:lnTo>
                <a:lnTo>
                  <a:pt x="197" y="12"/>
                </a:lnTo>
                <a:lnTo>
                  <a:pt x="171" y="21"/>
                </a:lnTo>
                <a:lnTo>
                  <a:pt x="146" y="33"/>
                </a:lnTo>
                <a:lnTo>
                  <a:pt x="123" y="47"/>
                </a:lnTo>
                <a:lnTo>
                  <a:pt x="102" y="63"/>
                </a:lnTo>
                <a:lnTo>
                  <a:pt x="81" y="81"/>
                </a:lnTo>
                <a:lnTo>
                  <a:pt x="64" y="101"/>
                </a:lnTo>
                <a:lnTo>
                  <a:pt x="47" y="123"/>
                </a:lnTo>
                <a:lnTo>
                  <a:pt x="33" y="145"/>
                </a:lnTo>
                <a:lnTo>
                  <a:pt x="21" y="170"/>
                </a:lnTo>
                <a:lnTo>
                  <a:pt x="12" y="196"/>
                </a:lnTo>
                <a:lnTo>
                  <a:pt x="5" y="223"/>
                </a:lnTo>
                <a:lnTo>
                  <a:pt x="1" y="251"/>
                </a:lnTo>
                <a:lnTo>
                  <a:pt x="0" y="280"/>
                </a:lnTo>
                <a:lnTo>
                  <a:pt x="1" y="309"/>
                </a:lnTo>
                <a:lnTo>
                  <a:pt x="5" y="336"/>
                </a:lnTo>
                <a:lnTo>
                  <a:pt x="12" y="364"/>
                </a:lnTo>
                <a:lnTo>
                  <a:pt x="21" y="390"/>
                </a:lnTo>
                <a:lnTo>
                  <a:pt x="33" y="413"/>
                </a:lnTo>
                <a:lnTo>
                  <a:pt x="47" y="437"/>
                </a:lnTo>
                <a:lnTo>
                  <a:pt x="64" y="458"/>
                </a:lnTo>
                <a:lnTo>
                  <a:pt x="81" y="477"/>
                </a:lnTo>
                <a:lnTo>
                  <a:pt x="102" y="496"/>
                </a:lnTo>
                <a:lnTo>
                  <a:pt x="123" y="511"/>
                </a:lnTo>
                <a:lnTo>
                  <a:pt x="146" y="526"/>
                </a:lnTo>
                <a:lnTo>
                  <a:pt x="171" y="538"/>
                </a:lnTo>
                <a:lnTo>
                  <a:pt x="197" y="547"/>
                </a:lnTo>
                <a:lnTo>
                  <a:pt x="223" y="553"/>
                </a:lnTo>
                <a:lnTo>
                  <a:pt x="252" y="558"/>
                </a:lnTo>
                <a:lnTo>
                  <a:pt x="281" y="560"/>
                </a:lnTo>
                <a:lnTo>
                  <a:pt x="310" y="558"/>
                </a:lnTo>
                <a:lnTo>
                  <a:pt x="337" y="553"/>
                </a:lnTo>
                <a:lnTo>
                  <a:pt x="363" y="547"/>
                </a:lnTo>
                <a:lnTo>
                  <a:pt x="389" y="538"/>
                </a:lnTo>
                <a:lnTo>
                  <a:pt x="414" y="526"/>
                </a:lnTo>
                <a:lnTo>
                  <a:pt x="438" y="511"/>
                </a:lnTo>
                <a:lnTo>
                  <a:pt x="459" y="496"/>
                </a:lnTo>
                <a:lnTo>
                  <a:pt x="479" y="477"/>
                </a:lnTo>
                <a:lnTo>
                  <a:pt x="498" y="458"/>
                </a:lnTo>
                <a:lnTo>
                  <a:pt x="513" y="437"/>
                </a:lnTo>
                <a:lnTo>
                  <a:pt x="528" y="413"/>
                </a:lnTo>
                <a:lnTo>
                  <a:pt x="540" y="390"/>
                </a:lnTo>
                <a:lnTo>
                  <a:pt x="550" y="364"/>
                </a:lnTo>
                <a:lnTo>
                  <a:pt x="557" y="336"/>
                </a:lnTo>
                <a:lnTo>
                  <a:pt x="562" y="309"/>
                </a:lnTo>
                <a:lnTo>
                  <a:pt x="563" y="280"/>
                </a:lnTo>
                <a:lnTo>
                  <a:pt x="562" y="251"/>
                </a:lnTo>
                <a:lnTo>
                  <a:pt x="557" y="223"/>
                </a:lnTo>
                <a:lnTo>
                  <a:pt x="550" y="196"/>
                </a:lnTo>
                <a:lnTo>
                  <a:pt x="540" y="170"/>
                </a:lnTo>
                <a:lnTo>
                  <a:pt x="528" y="145"/>
                </a:lnTo>
                <a:lnTo>
                  <a:pt x="513" y="123"/>
                </a:lnTo>
                <a:lnTo>
                  <a:pt x="498" y="101"/>
                </a:lnTo>
                <a:lnTo>
                  <a:pt x="479" y="81"/>
                </a:lnTo>
                <a:lnTo>
                  <a:pt x="459" y="63"/>
                </a:lnTo>
                <a:lnTo>
                  <a:pt x="438" y="47"/>
                </a:lnTo>
                <a:lnTo>
                  <a:pt x="414" y="33"/>
                </a:lnTo>
                <a:lnTo>
                  <a:pt x="389" y="21"/>
                </a:lnTo>
                <a:lnTo>
                  <a:pt x="363" y="12"/>
                </a:lnTo>
                <a:lnTo>
                  <a:pt x="337" y="6"/>
                </a:lnTo>
                <a:lnTo>
                  <a:pt x="310" y="2"/>
                </a:lnTo>
                <a:lnTo>
                  <a:pt x="281" y="0"/>
                </a:lnTo>
                <a:close/>
                <a:moveTo>
                  <a:pt x="269" y="283"/>
                </a:moveTo>
                <a:lnTo>
                  <a:pt x="269" y="279"/>
                </a:lnTo>
                <a:lnTo>
                  <a:pt x="270" y="276"/>
                </a:lnTo>
                <a:lnTo>
                  <a:pt x="273" y="275"/>
                </a:lnTo>
                <a:lnTo>
                  <a:pt x="277" y="275"/>
                </a:lnTo>
                <a:lnTo>
                  <a:pt x="280" y="275"/>
                </a:lnTo>
                <a:lnTo>
                  <a:pt x="282" y="276"/>
                </a:lnTo>
                <a:lnTo>
                  <a:pt x="285" y="283"/>
                </a:lnTo>
                <a:lnTo>
                  <a:pt x="282" y="288"/>
                </a:lnTo>
                <a:lnTo>
                  <a:pt x="277" y="291"/>
                </a:lnTo>
                <a:lnTo>
                  <a:pt x="270" y="288"/>
                </a:lnTo>
                <a:lnTo>
                  <a:pt x="269" y="285"/>
                </a:lnTo>
                <a:lnTo>
                  <a:pt x="269" y="283"/>
                </a:lnTo>
                <a:close/>
                <a:moveTo>
                  <a:pt x="246" y="277"/>
                </a:moveTo>
                <a:lnTo>
                  <a:pt x="246" y="277"/>
                </a:lnTo>
                <a:lnTo>
                  <a:pt x="238" y="296"/>
                </a:lnTo>
                <a:lnTo>
                  <a:pt x="231" y="313"/>
                </a:lnTo>
                <a:lnTo>
                  <a:pt x="226" y="326"/>
                </a:lnTo>
                <a:lnTo>
                  <a:pt x="221" y="339"/>
                </a:lnTo>
                <a:lnTo>
                  <a:pt x="217" y="348"/>
                </a:lnTo>
                <a:lnTo>
                  <a:pt x="214" y="357"/>
                </a:lnTo>
                <a:lnTo>
                  <a:pt x="210" y="364"/>
                </a:lnTo>
                <a:lnTo>
                  <a:pt x="209" y="370"/>
                </a:lnTo>
                <a:lnTo>
                  <a:pt x="205" y="377"/>
                </a:lnTo>
                <a:lnTo>
                  <a:pt x="204" y="381"/>
                </a:lnTo>
                <a:lnTo>
                  <a:pt x="204" y="382"/>
                </a:lnTo>
                <a:lnTo>
                  <a:pt x="204" y="383"/>
                </a:lnTo>
                <a:lnTo>
                  <a:pt x="219" y="370"/>
                </a:lnTo>
                <a:lnTo>
                  <a:pt x="235" y="358"/>
                </a:lnTo>
                <a:lnTo>
                  <a:pt x="247" y="349"/>
                </a:lnTo>
                <a:lnTo>
                  <a:pt x="257" y="340"/>
                </a:lnTo>
                <a:lnTo>
                  <a:pt x="266" y="334"/>
                </a:lnTo>
                <a:lnTo>
                  <a:pt x="274" y="327"/>
                </a:lnTo>
                <a:lnTo>
                  <a:pt x="281" y="322"/>
                </a:lnTo>
                <a:lnTo>
                  <a:pt x="286" y="318"/>
                </a:lnTo>
                <a:lnTo>
                  <a:pt x="293" y="313"/>
                </a:lnTo>
                <a:lnTo>
                  <a:pt x="297" y="310"/>
                </a:lnTo>
                <a:lnTo>
                  <a:pt x="298" y="310"/>
                </a:lnTo>
                <a:lnTo>
                  <a:pt x="298" y="309"/>
                </a:lnTo>
                <a:lnTo>
                  <a:pt x="298" y="309"/>
                </a:lnTo>
                <a:lnTo>
                  <a:pt x="303" y="305"/>
                </a:lnTo>
                <a:lnTo>
                  <a:pt x="306" y="300"/>
                </a:lnTo>
                <a:lnTo>
                  <a:pt x="307" y="296"/>
                </a:lnTo>
                <a:lnTo>
                  <a:pt x="307" y="291"/>
                </a:lnTo>
                <a:lnTo>
                  <a:pt x="319" y="266"/>
                </a:lnTo>
                <a:lnTo>
                  <a:pt x="329" y="242"/>
                </a:lnTo>
                <a:lnTo>
                  <a:pt x="338" y="223"/>
                </a:lnTo>
                <a:lnTo>
                  <a:pt x="345" y="206"/>
                </a:lnTo>
                <a:lnTo>
                  <a:pt x="351" y="191"/>
                </a:lnTo>
                <a:lnTo>
                  <a:pt x="357" y="179"/>
                </a:lnTo>
                <a:lnTo>
                  <a:pt x="362" y="170"/>
                </a:lnTo>
                <a:lnTo>
                  <a:pt x="364" y="162"/>
                </a:lnTo>
                <a:lnTo>
                  <a:pt x="367" y="156"/>
                </a:lnTo>
                <a:lnTo>
                  <a:pt x="370" y="152"/>
                </a:lnTo>
                <a:lnTo>
                  <a:pt x="372" y="145"/>
                </a:lnTo>
                <a:lnTo>
                  <a:pt x="374" y="144"/>
                </a:lnTo>
                <a:lnTo>
                  <a:pt x="374" y="144"/>
                </a:lnTo>
                <a:lnTo>
                  <a:pt x="353" y="164"/>
                </a:lnTo>
                <a:lnTo>
                  <a:pt x="334" y="182"/>
                </a:lnTo>
                <a:lnTo>
                  <a:pt x="319" y="196"/>
                </a:lnTo>
                <a:lnTo>
                  <a:pt x="304" y="211"/>
                </a:lnTo>
                <a:lnTo>
                  <a:pt x="294" y="221"/>
                </a:lnTo>
                <a:lnTo>
                  <a:pt x="283" y="230"/>
                </a:lnTo>
                <a:lnTo>
                  <a:pt x="276" y="238"/>
                </a:lnTo>
                <a:lnTo>
                  <a:pt x="270" y="245"/>
                </a:lnTo>
                <a:lnTo>
                  <a:pt x="265" y="249"/>
                </a:lnTo>
                <a:lnTo>
                  <a:pt x="261" y="253"/>
                </a:lnTo>
                <a:lnTo>
                  <a:pt x="257" y="257"/>
                </a:lnTo>
                <a:lnTo>
                  <a:pt x="256" y="258"/>
                </a:lnTo>
                <a:lnTo>
                  <a:pt x="255" y="259"/>
                </a:lnTo>
                <a:lnTo>
                  <a:pt x="248" y="266"/>
                </a:lnTo>
                <a:lnTo>
                  <a:pt x="247" y="271"/>
                </a:lnTo>
                <a:lnTo>
                  <a:pt x="246" y="277"/>
                </a:lnTo>
                <a:close/>
                <a:moveTo>
                  <a:pt x="280" y="268"/>
                </a:moveTo>
                <a:lnTo>
                  <a:pt x="283" y="270"/>
                </a:lnTo>
                <a:lnTo>
                  <a:pt x="287" y="272"/>
                </a:lnTo>
                <a:lnTo>
                  <a:pt x="291" y="276"/>
                </a:lnTo>
                <a:lnTo>
                  <a:pt x="293" y="281"/>
                </a:lnTo>
                <a:lnTo>
                  <a:pt x="291" y="288"/>
                </a:lnTo>
                <a:lnTo>
                  <a:pt x="287" y="292"/>
                </a:lnTo>
                <a:lnTo>
                  <a:pt x="283" y="294"/>
                </a:lnTo>
                <a:lnTo>
                  <a:pt x="280" y="296"/>
                </a:lnTo>
                <a:lnTo>
                  <a:pt x="273" y="294"/>
                </a:lnTo>
                <a:lnTo>
                  <a:pt x="268" y="292"/>
                </a:lnTo>
                <a:lnTo>
                  <a:pt x="265" y="288"/>
                </a:lnTo>
                <a:lnTo>
                  <a:pt x="265" y="281"/>
                </a:lnTo>
                <a:lnTo>
                  <a:pt x="265" y="276"/>
                </a:lnTo>
                <a:lnTo>
                  <a:pt x="268" y="272"/>
                </a:lnTo>
                <a:lnTo>
                  <a:pt x="273" y="270"/>
                </a:lnTo>
                <a:lnTo>
                  <a:pt x="280" y="268"/>
                </a:lnTo>
                <a:close/>
                <a:moveTo>
                  <a:pt x="295" y="500"/>
                </a:moveTo>
                <a:lnTo>
                  <a:pt x="295" y="489"/>
                </a:lnTo>
                <a:lnTo>
                  <a:pt x="295" y="481"/>
                </a:lnTo>
                <a:lnTo>
                  <a:pt x="295" y="476"/>
                </a:lnTo>
                <a:lnTo>
                  <a:pt x="295" y="472"/>
                </a:lnTo>
                <a:lnTo>
                  <a:pt x="295" y="470"/>
                </a:lnTo>
                <a:lnTo>
                  <a:pt x="295" y="468"/>
                </a:lnTo>
                <a:lnTo>
                  <a:pt x="295" y="468"/>
                </a:lnTo>
                <a:lnTo>
                  <a:pt x="285" y="468"/>
                </a:lnTo>
                <a:lnTo>
                  <a:pt x="277" y="468"/>
                </a:lnTo>
                <a:lnTo>
                  <a:pt x="270" y="468"/>
                </a:lnTo>
                <a:lnTo>
                  <a:pt x="266" y="468"/>
                </a:lnTo>
                <a:lnTo>
                  <a:pt x="264" y="468"/>
                </a:lnTo>
                <a:lnTo>
                  <a:pt x="264" y="468"/>
                </a:lnTo>
                <a:lnTo>
                  <a:pt x="263" y="468"/>
                </a:lnTo>
                <a:lnTo>
                  <a:pt x="263" y="479"/>
                </a:lnTo>
                <a:lnTo>
                  <a:pt x="263" y="487"/>
                </a:lnTo>
                <a:lnTo>
                  <a:pt x="263" y="492"/>
                </a:lnTo>
                <a:lnTo>
                  <a:pt x="263" y="496"/>
                </a:lnTo>
                <a:lnTo>
                  <a:pt x="263" y="498"/>
                </a:lnTo>
                <a:lnTo>
                  <a:pt x="263" y="500"/>
                </a:lnTo>
                <a:lnTo>
                  <a:pt x="263" y="500"/>
                </a:lnTo>
                <a:lnTo>
                  <a:pt x="226" y="494"/>
                </a:lnTo>
                <a:lnTo>
                  <a:pt x="193" y="483"/>
                </a:lnTo>
                <a:lnTo>
                  <a:pt x="162" y="467"/>
                </a:lnTo>
                <a:lnTo>
                  <a:pt x="133" y="445"/>
                </a:lnTo>
                <a:lnTo>
                  <a:pt x="133" y="445"/>
                </a:lnTo>
                <a:lnTo>
                  <a:pt x="132" y="445"/>
                </a:lnTo>
                <a:lnTo>
                  <a:pt x="129" y="445"/>
                </a:lnTo>
                <a:lnTo>
                  <a:pt x="128" y="442"/>
                </a:lnTo>
                <a:lnTo>
                  <a:pt x="127" y="441"/>
                </a:lnTo>
                <a:lnTo>
                  <a:pt x="125" y="438"/>
                </a:lnTo>
                <a:lnTo>
                  <a:pt x="124" y="436"/>
                </a:lnTo>
                <a:lnTo>
                  <a:pt x="121" y="436"/>
                </a:lnTo>
                <a:lnTo>
                  <a:pt x="117" y="433"/>
                </a:lnTo>
                <a:lnTo>
                  <a:pt x="116" y="430"/>
                </a:lnTo>
                <a:lnTo>
                  <a:pt x="115" y="426"/>
                </a:lnTo>
                <a:lnTo>
                  <a:pt x="115" y="426"/>
                </a:lnTo>
                <a:lnTo>
                  <a:pt x="114" y="426"/>
                </a:lnTo>
                <a:lnTo>
                  <a:pt x="111" y="426"/>
                </a:lnTo>
                <a:lnTo>
                  <a:pt x="91" y="398"/>
                </a:lnTo>
                <a:lnTo>
                  <a:pt x="74" y="366"/>
                </a:lnTo>
                <a:lnTo>
                  <a:pt x="68" y="349"/>
                </a:lnTo>
                <a:lnTo>
                  <a:pt x="64" y="332"/>
                </a:lnTo>
                <a:lnTo>
                  <a:pt x="60" y="315"/>
                </a:lnTo>
                <a:lnTo>
                  <a:pt x="60" y="298"/>
                </a:lnTo>
                <a:lnTo>
                  <a:pt x="70" y="298"/>
                </a:lnTo>
                <a:lnTo>
                  <a:pt x="78" y="298"/>
                </a:lnTo>
                <a:lnTo>
                  <a:pt x="83" y="298"/>
                </a:lnTo>
                <a:lnTo>
                  <a:pt x="87" y="298"/>
                </a:lnTo>
                <a:lnTo>
                  <a:pt x="90" y="298"/>
                </a:lnTo>
                <a:lnTo>
                  <a:pt x="91" y="298"/>
                </a:lnTo>
                <a:lnTo>
                  <a:pt x="91" y="298"/>
                </a:lnTo>
                <a:lnTo>
                  <a:pt x="91" y="288"/>
                </a:lnTo>
                <a:lnTo>
                  <a:pt x="91" y="280"/>
                </a:lnTo>
                <a:lnTo>
                  <a:pt x="91" y="274"/>
                </a:lnTo>
                <a:lnTo>
                  <a:pt x="91" y="270"/>
                </a:lnTo>
                <a:lnTo>
                  <a:pt x="91" y="267"/>
                </a:lnTo>
                <a:lnTo>
                  <a:pt x="91" y="267"/>
                </a:lnTo>
                <a:lnTo>
                  <a:pt x="91" y="266"/>
                </a:lnTo>
                <a:lnTo>
                  <a:pt x="81" y="266"/>
                </a:lnTo>
                <a:lnTo>
                  <a:pt x="73" y="266"/>
                </a:lnTo>
                <a:lnTo>
                  <a:pt x="68" y="266"/>
                </a:lnTo>
                <a:lnTo>
                  <a:pt x="64" y="266"/>
                </a:lnTo>
                <a:lnTo>
                  <a:pt x="61" y="266"/>
                </a:lnTo>
                <a:lnTo>
                  <a:pt x="60" y="266"/>
                </a:lnTo>
                <a:lnTo>
                  <a:pt x="60" y="266"/>
                </a:lnTo>
                <a:lnTo>
                  <a:pt x="63" y="246"/>
                </a:lnTo>
                <a:lnTo>
                  <a:pt x="66" y="226"/>
                </a:lnTo>
                <a:lnTo>
                  <a:pt x="72" y="207"/>
                </a:lnTo>
                <a:lnTo>
                  <a:pt x="80" y="189"/>
                </a:lnTo>
                <a:lnTo>
                  <a:pt x="89" y="172"/>
                </a:lnTo>
                <a:lnTo>
                  <a:pt x="99" y="155"/>
                </a:lnTo>
                <a:lnTo>
                  <a:pt x="110" y="139"/>
                </a:lnTo>
                <a:lnTo>
                  <a:pt x="123" y="125"/>
                </a:lnTo>
                <a:lnTo>
                  <a:pt x="137" y="111"/>
                </a:lnTo>
                <a:lnTo>
                  <a:pt x="153" y="100"/>
                </a:lnTo>
                <a:lnTo>
                  <a:pt x="168" y="89"/>
                </a:lnTo>
                <a:lnTo>
                  <a:pt x="185" y="80"/>
                </a:lnTo>
                <a:lnTo>
                  <a:pt x="204" y="72"/>
                </a:lnTo>
                <a:lnTo>
                  <a:pt x="222" y="67"/>
                </a:lnTo>
                <a:lnTo>
                  <a:pt x="243" y="62"/>
                </a:lnTo>
                <a:lnTo>
                  <a:pt x="263" y="59"/>
                </a:lnTo>
                <a:lnTo>
                  <a:pt x="263" y="70"/>
                </a:lnTo>
                <a:lnTo>
                  <a:pt x="263" y="79"/>
                </a:lnTo>
                <a:lnTo>
                  <a:pt x="263" y="84"/>
                </a:lnTo>
                <a:lnTo>
                  <a:pt x="263" y="88"/>
                </a:lnTo>
                <a:lnTo>
                  <a:pt x="263" y="91"/>
                </a:lnTo>
                <a:lnTo>
                  <a:pt x="263" y="92"/>
                </a:lnTo>
                <a:lnTo>
                  <a:pt x="263" y="92"/>
                </a:lnTo>
                <a:lnTo>
                  <a:pt x="273" y="92"/>
                </a:lnTo>
                <a:lnTo>
                  <a:pt x="281" y="92"/>
                </a:lnTo>
                <a:lnTo>
                  <a:pt x="287" y="92"/>
                </a:lnTo>
                <a:lnTo>
                  <a:pt x="291" y="92"/>
                </a:lnTo>
                <a:lnTo>
                  <a:pt x="294" y="92"/>
                </a:lnTo>
                <a:lnTo>
                  <a:pt x="295" y="92"/>
                </a:lnTo>
                <a:lnTo>
                  <a:pt x="295" y="92"/>
                </a:lnTo>
                <a:lnTo>
                  <a:pt x="295" y="81"/>
                </a:lnTo>
                <a:lnTo>
                  <a:pt x="295" y="74"/>
                </a:lnTo>
                <a:lnTo>
                  <a:pt x="295" y="67"/>
                </a:lnTo>
                <a:lnTo>
                  <a:pt x="295" y="63"/>
                </a:lnTo>
                <a:lnTo>
                  <a:pt x="295" y="62"/>
                </a:lnTo>
                <a:lnTo>
                  <a:pt x="295" y="60"/>
                </a:lnTo>
                <a:lnTo>
                  <a:pt x="295" y="59"/>
                </a:lnTo>
                <a:lnTo>
                  <a:pt x="319" y="64"/>
                </a:lnTo>
                <a:lnTo>
                  <a:pt x="341" y="70"/>
                </a:lnTo>
                <a:lnTo>
                  <a:pt x="383" y="83"/>
                </a:lnTo>
                <a:lnTo>
                  <a:pt x="383" y="85"/>
                </a:lnTo>
                <a:lnTo>
                  <a:pt x="383" y="87"/>
                </a:lnTo>
                <a:lnTo>
                  <a:pt x="383" y="87"/>
                </a:lnTo>
                <a:lnTo>
                  <a:pt x="387" y="88"/>
                </a:lnTo>
                <a:lnTo>
                  <a:pt x="389" y="91"/>
                </a:lnTo>
                <a:lnTo>
                  <a:pt x="397" y="96"/>
                </a:lnTo>
                <a:lnTo>
                  <a:pt x="400" y="96"/>
                </a:lnTo>
                <a:lnTo>
                  <a:pt x="401" y="96"/>
                </a:lnTo>
                <a:lnTo>
                  <a:pt x="401" y="96"/>
                </a:lnTo>
                <a:lnTo>
                  <a:pt x="405" y="98"/>
                </a:lnTo>
                <a:lnTo>
                  <a:pt x="408" y="101"/>
                </a:lnTo>
                <a:lnTo>
                  <a:pt x="412" y="102"/>
                </a:lnTo>
                <a:lnTo>
                  <a:pt x="415" y="105"/>
                </a:lnTo>
                <a:lnTo>
                  <a:pt x="415" y="106"/>
                </a:lnTo>
                <a:lnTo>
                  <a:pt x="417" y="108"/>
                </a:lnTo>
                <a:lnTo>
                  <a:pt x="419" y="109"/>
                </a:lnTo>
                <a:lnTo>
                  <a:pt x="419" y="110"/>
                </a:lnTo>
                <a:lnTo>
                  <a:pt x="422" y="113"/>
                </a:lnTo>
                <a:lnTo>
                  <a:pt x="425" y="114"/>
                </a:lnTo>
                <a:lnTo>
                  <a:pt x="426" y="117"/>
                </a:lnTo>
                <a:lnTo>
                  <a:pt x="429" y="119"/>
                </a:lnTo>
                <a:lnTo>
                  <a:pt x="431" y="119"/>
                </a:lnTo>
                <a:lnTo>
                  <a:pt x="432" y="122"/>
                </a:lnTo>
                <a:lnTo>
                  <a:pt x="434" y="123"/>
                </a:lnTo>
                <a:lnTo>
                  <a:pt x="434" y="123"/>
                </a:lnTo>
                <a:lnTo>
                  <a:pt x="436" y="126"/>
                </a:lnTo>
                <a:lnTo>
                  <a:pt x="440" y="128"/>
                </a:lnTo>
                <a:lnTo>
                  <a:pt x="442" y="130"/>
                </a:lnTo>
                <a:lnTo>
                  <a:pt x="443" y="132"/>
                </a:lnTo>
                <a:lnTo>
                  <a:pt x="446" y="134"/>
                </a:lnTo>
                <a:lnTo>
                  <a:pt x="447" y="136"/>
                </a:lnTo>
                <a:lnTo>
                  <a:pt x="449" y="139"/>
                </a:lnTo>
                <a:lnTo>
                  <a:pt x="452" y="142"/>
                </a:lnTo>
                <a:lnTo>
                  <a:pt x="452" y="143"/>
                </a:lnTo>
                <a:lnTo>
                  <a:pt x="452" y="144"/>
                </a:lnTo>
                <a:lnTo>
                  <a:pt x="453" y="147"/>
                </a:lnTo>
                <a:lnTo>
                  <a:pt x="456" y="147"/>
                </a:lnTo>
                <a:lnTo>
                  <a:pt x="457" y="151"/>
                </a:lnTo>
                <a:lnTo>
                  <a:pt x="460" y="153"/>
                </a:lnTo>
                <a:lnTo>
                  <a:pt x="466" y="161"/>
                </a:lnTo>
                <a:lnTo>
                  <a:pt x="466" y="161"/>
                </a:lnTo>
                <a:lnTo>
                  <a:pt x="466" y="162"/>
                </a:lnTo>
                <a:lnTo>
                  <a:pt x="466" y="165"/>
                </a:lnTo>
                <a:lnTo>
                  <a:pt x="472" y="172"/>
                </a:lnTo>
                <a:lnTo>
                  <a:pt x="474" y="175"/>
                </a:lnTo>
                <a:lnTo>
                  <a:pt x="476" y="179"/>
                </a:lnTo>
                <a:lnTo>
                  <a:pt x="476" y="179"/>
                </a:lnTo>
                <a:lnTo>
                  <a:pt x="485" y="199"/>
                </a:lnTo>
                <a:lnTo>
                  <a:pt x="491" y="221"/>
                </a:lnTo>
                <a:lnTo>
                  <a:pt x="496" y="242"/>
                </a:lnTo>
                <a:lnTo>
                  <a:pt x="498" y="266"/>
                </a:lnTo>
                <a:lnTo>
                  <a:pt x="489" y="266"/>
                </a:lnTo>
                <a:lnTo>
                  <a:pt x="482" y="266"/>
                </a:lnTo>
                <a:lnTo>
                  <a:pt x="477" y="266"/>
                </a:lnTo>
                <a:lnTo>
                  <a:pt x="474" y="266"/>
                </a:lnTo>
                <a:lnTo>
                  <a:pt x="470" y="266"/>
                </a:lnTo>
                <a:lnTo>
                  <a:pt x="470" y="266"/>
                </a:lnTo>
                <a:lnTo>
                  <a:pt x="470" y="276"/>
                </a:lnTo>
                <a:lnTo>
                  <a:pt x="470" y="284"/>
                </a:lnTo>
                <a:lnTo>
                  <a:pt x="470" y="291"/>
                </a:lnTo>
                <a:lnTo>
                  <a:pt x="470" y="294"/>
                </a:lnTo>
                <a:lnTo>
                  <a:pt x="470" y="297"/>
                </a:lnTo>
                <a:lnTo>
                  <a:pt x="470" y="298"/>
                </a:lnTo>
                <a:lnTo>
                  <a:pt x="470" y="298"/>
                </a:lnTo>
                <a:lnTo>
                  <a:pt x="479" y="298"/>
                </a:lnTo>
                <a:lnTo>
                  <a:pt x="486" y="298"/>
                </a:lnTo>
                <a:lnTo>
                  <a:pt x="491" y="298"/>
                </a:lnTo>
                <a:lnTo>
                  <a:pt x="495" y="298"/>
                </a:lnTo>
                <a:lnTo>
                  <a:pt x="498" y="298"/>
                </a:lnTo>
                <a:lnTo>
                  <a:pt x="498" y="298"/>
                </a:lnTo>
                <a:lnTo>
                  <a:pt x="496" y="318"/>
                </a:lnTo>
                <a:lnTo>
                  <a:pt x="493" y="336"/>
                </a:lnTo>
                <a:lnTo>
                  <a:pt x="487" y="355"/>
                </a:lnTo>
                <a:lnTo>
                  <a:pt x="481" y="373"/>
                </a:lnTo>
                <a:lnTo>
                  <a:pt x="472" y="390"/>
                </a:lnTo>
                <a:lnTo>
                  <a:pt x="461" y="406"/>
                </a:lnTo>
                <a:lnTo>
                  <a:pt x="449" y="421"/>
                </a:lnTo>
                <a:lnTo>
                  <a:pt x="436" y="436"/>
                </a:lnTo>
                <a:lnTo>
                  <a:pt x="406" y="460"/>
                </a:lnTo>
                <a:lnTo>
                  <a:pt x="391" y="470"/>
                </a:lnTo>
                <a:lnTo>
                  <a:pt x="372" y="479"/>
                </a:lnTo>
                <a:lnTo>
                  <a:pt x="354" y="487"/>
                </a:lnTo>
                <a:lnTo>
                  <a:pt x="336" y="493"/>
                </a:lnTo>
                <a:lnTo>
                  <a:pt x="316" y="497"/>
                </a:lnTo>
                <a:lnTo>
                  <a:pt x="295" y="50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04" name="Freeform 193"/>
          <p:cNvSpPr/>
          <p:nvPr/>
        </p:nvSpPr>
        <p:spPr>
          <a:xfrm>
            <a:off x="3594240" y="3900600"/>
            <a:ext cx="131760" cy="128520"/>
          </a:xfrm>
          <a:custGeom>
            <a:avLst/>
            <a:gdLst/>
            <a:ahLst/>
            <a:rect l="l" t="t" r="r" b="b"/>
            <a:pathLst>
              <a:path w="495" h="480">
                <a:moveTo>
                  <a:pt x="176" y="192"/>
                </a:moveTo>
                <a:lnTo>
                  <a:pt x="176" y="243"/>
                </a:lnTo>
                <a:lnTo>
                  <a:pt x="233" y="243"/>
                </a:lnTo>
                <a:lnTo>
                  <a:pt x="233" y="192"/>
                </a:lnTo>
                <a:lnTo>
                  <a:pt x="176" y="192"/>
                </a:lnTo>
                <a:close/>
                <a:moveTo>
                  <a:pt x="368" y="0"/>
                </a:moveTo>
                <a:lnTo>
                  <a:pt x="368" y="69"/>
                </a:lnTo>
                <a:lnTo>
                  <a:pt x="415" y="69"/>
                </a:lnTo>
                <a:lnTo>
                  <a:pt x="415" y="0"/>
                </a:lnTo>
                <a:lnTo>
                  <a:pt x="368" y="0"/>
                </a:lnTo>
                <a:close/>
                <a:moveTo>
                  <a:pt x="94" y="0"/>
                </a:moveTo>
                <a:lnTo>
                  <a:pt x="94" y="69"/>
                </a:lnTo>
                <a:lnTo>
                  <a:pt x="136" y="69"/>
                </a:lnTo>
                <a:lnTo>
                  <a:pt x="136" y="0"/>
                </a:lnTo>
                <a:lnTo>
                  <a:pt x="94" y="0"/>
                </a:lnTo>
                <a:close/>
                <a:moveTo>
                  <a:pt x="495" y="36"/>
                </a:moveTo>
                <a:lnTo>
                  <a:pt x="426" y="36"/>
                </a:lnTo>
                <a:lnTo>
                  <a:pt x="426" y="83"/>
                </a:lnTo>
                <a:lnTo>
                  <a:pt x="359" y="83"/>
                </a:lnTo>
                <a:lnTo>
                  <a:pt x="359" y="36"/>
                </a:lnTo>
                <a:lnTo>
                  <a:pt x="148" y="36"/>
                </a:lnTo>
                <a:lnTo>
                  <a:pt x="148" y="83"/>
                </a:lnTo>
                <a:lnTo>
                  <a:pt x="78" y="83"/>
                </a:lnTo>
                <a:lnTo>
                  <a:pt x="78" y="36"/>
                </a:lnTo>
                <a:lnTo>
                  <a:pt x="0" y="36"/>
                </a:lnTo>
                <a:lnTo>
                  <a:pt x="0" y="480"/>
                </a:lnTo>
                <a:lnTo>
                  <a:pt x="38" y="480"/>
                </a:lnTo>
                <a:lnTo>
                  <a:pt x="460" y="480"/>
                </a:lnTo>
                <a:lnTo>
                  <a:pt x="495" y="480"/>
                </a:lnTo>
                <a:lnTo>
                  <a:pt x="495" y="36"/>
                </a:lnTo>
                <a:close/>
                <a:moveTo>
                  <a:pt x="460" y="442"/>
                </a:moveTo>
                <a:lnTo>
                  <a:pt x="38" y="442"/>
                </a:lnTo>
                <a:lnTo>
                  <a:pt x="38" y="161"/>
                </a:lnTo>
                <a:lnTo>
                  <a:pt x="460" y="161"/>
                </a:lnTo>
                <a:lnTo>
                  <a:pt x="460" y="442"/>
                </a:lnTo>
                <a:close/>
                <a:moveTo>
                  <a:pt x="350" y="353"/>
                </a:moveTo>
                <a:lnTo>
                  <a:pt x="350" y="400"/>
                </a:lnTo>
                <a:lnTo>
                  <a:pt x="406" y="400"/>
                </a:lnTo>
                <a:lnTo>
                  <a:pt x="406" y="353"/>
                </a:lnTo>
                <a:lnTo>
                  <a:pt x="350" y="353"/>
                </a:lnTo>
                <a:close/>
                <a:moveTo>
                  <a:pt x="265" y="353"/>
                </a:moveTo>
                <a:lnTo>
                  <a:pt x="265" y="400"/>
                </a:lnTo>
                <a:lnTo>
                  <a:pt x="321" y="400"/>
                </a:lnTo>
                <a:lnTo>
                  <a:pt x="321" y="353"/>
                </a:lnTo>
                <a:lnTo>
                  <a:pt x="265" y="353"/>
                </a:lnTo>
                <a:close/>
                <a:moveTo>
                  <a:pt x="91" y="353"/>
                </a:moveTo>
                <a:lnTo>
                  <a:pt x="91" y="400"/>
                </a:lnTo>
                <a:lnTo>
                  <a:pt x="148" y="400"/>
                </a:lnTo>
                <a:lnTo>
                  <a:pt x="148" y="353"/>
                </a:lnTo>
                <a:lnTo>
                  <a:pt x="91" y="353"/>
                </a:lnTo>
                <a:close/>
                <a:moveTo>
                  <a:pt x="91" y="275"/>
                </a:moveTo>
                <a:lnTo>
                  <a:pt x="91" y="322"/>
                </a:lnTo>
                <a:lnTo>
                  <a:pt x="142" y="322"/>
                </a:lnTo>
                <a:lnTo>
                  <a:pt x="142" y="275"/>
                </a:lnTo>
                <a:lnTo>
                  <a:pt x="91" y="275"/>
                </a:lnTo>
                <a:close/>
                <a:moveTo>
                  <a:pt x="176" y="353"/>
                </a:moveTo>
                <a:lnTo>
                  <a:pt x="176" y="400"/>
                </a:lnTo>
                <a:lnTo>
                  <a:pt x="233" y="400"/>
                </a:lnTo>
                <a:lnTo>
                  <a:pt x="233" y="353"/>
                </a:lnTo>
                <a:lnTo>
                  <a:pt x="176" y="353"/>
                </a:lnTo>
                <a:close/>
                <a:moveTo>
                  <a:pt x="350" y="275"/>
                </a:moveTo>
                <a:lnTo>
                  <a:pt x="350" y="322"/>
                </a:lnTo>
                <a:lnTo>
                  <a:pt x="406" y="322"/>
                </a:lnTo>
                <a:lnTo>
                  <a:pt x="406" y="275"/>
                </a:lnTo>
                <a:lnTo>
                  <a:pt x="350" y="275"/>
                </a:lnTo>
                <a:close/>
                <a:moveTo>
                  <a:pt x="265" y="275"/>
                </a:moveTo>
                <a:lnTo>
                  <a:pt x="265" y="322"/>
                </a:lnTo>
                <a:lnTo>
                  <a:pt x="321" y="322"/>
                </a:lnTo>
                <a:lnTo>
                  <a:pt x="321" y="275"/>
                </a:lnTo>
                <a:lnTo>
                  <a:pt x="265" y="275"/>
                </a:lnTo>
                <a:close/>
                <a:moveTo>
                  <a:pt x="176" y="275"/>
                </a:moveTo>
                <a:lnTo>
                  <a:pt x="176" y="322"/>
                </a:lnTo>
                <a:lnTo>
                  <a:pt x="233" y="322"/>
                </a:lnTo>
                <a:lnTo>
                  <a:pt x="233" y="275"/>
                </a:lnTo>
                <a:lnTo>
                  <a:pt x="176" y="275"/>
                </a:lnTo>
                <a:close/>
                <a:moveTo>
                  <a:pt x="350" y="192"/>
                </a:moveTo>
                <a:lnTo>
                  <a:pt x="350" y="243"/>
                </a:lnTo>
                <a:lnTo>
                  <a:pt x="406" y="243"/>
                </a:lnTo>
                <a:lnTo>
                  <a:pt x="406" y="192"/>
                </a:lnTo>
                <a:lnTo>
                  <a:pt x="350" y="192"/>
                </a:lnTo>
                <a:close/>
                <a:moveTo>
                  <a:pt x="265" y="192"/>
                </a:moveTo>
                <a:lnTo>
                  <a:pt x="265" y="243"/>
                </a:lnTo>
                <a:lnTo>
                  <a:pt x="321" y="243"/>
                </a:lnTo>
                <a:lnTo>
                  <a:pt x="321" y="192"/>
                </a:lnTo>
                <a:lnTo>
                  <a:pt x="265" y="192"/>
                </a:lnTo>
                <a:close/>
              </a:path>
            </a:pathLst>
          </a:custGeom>
          <a:solidFill>
            <a:srgbClr val="a6a6a6"/>
          </a:solidFill>
          <a:ln w="0">
            <a:noFill/>
          </a:ln>
        </p:spPr>
        <p:style>
          <a:lnRef idx="0"/>
          <a:fillRef idx="0"/>
          <a:effectRef idx="0"/>
          <a:fontRef idx="minor"/>
        </p:style>
        <p:txBody>
          <a:bodyPr lIns="145800" rIns="145800" tIns="55800" bIns="55800" anchor="t">
            <a:noAutofit/>
          </a:bodyPr>
          <a:p>
            <a:endParaRPr b="0" lang="en-US" sz="1800" spc="-1" strike="noStrike">
              <a:solidFill>
                <a:srgbClr val="000000"/>
              </a:solidFill>
              <a:latin typeface="Calibri"/>
            </a:endParaRPr>
          </a:p>
        </p:txBody>
      </p:sp>
      <p:sp>
        <p:nvSpPr>
          <p:cNvPr id="1805" name="Freeform 194"/>
          <p:cNvSpPr/>
          <p:nvPr/>
        </p:nvSpPr>
        <p:spPr>
          <a:xfrm>
            <a:off x="9732960" y="1425600"/>
            <a:ext cx="185760" cy="196920"/>
          </a:xfrm>
          <a:custGeom>
            <a:avLst/>
            <a:gdLst/>
            <a:ahLst/>
            <a:rect l="l" t="t" r="r" b="b"/>
            <a:pathLst>
              <a:path w="703" h="734">
                <a:moveTo>
                  <a:pt x="217" y="544"/>
                </a:moveTo>
                <a:lnTo>
                  <a:pt x="217" y="542"/>
                </a:lnTo>
                <a:lnTo>
                  <a:pt x="219" y="537"/>
                </a:lnTo>
                <a:lnTo>
                  <a:pt x="219" y="531"/>
                </a:lnTo>
                <a:lnTo>
                  <a:pt x="221" y="522"/>
                </a:lnTo>
                <a:lnTo>
                  <a:pt x="223" y="506"/>
                </a:lnTo>
                <a:lnTo>
                  <a:pt x="223" y="499"/>
                </a:lnTo>
                <a:lnTo>
                  <a:pt x="223" y="493"/>
                </a:lnTo>
                <a:lnTo>
                  <a:pt x="210" y="459"/>
                </a:lnTo>
                <a:lnTo>
                  <a:pt x="201" y="428"/>
                </a:lnTo>
                <a:lnTo>
                  <a:pt x="192" y="401"/>
                </a:lnTo>
                <a:lnTo>
                  <a:pt x="183" y="377"/>
                </a:lnTo>
                <a:lnTo>
                  <a:pt x="177" y="357"/>
                </a:lnTo>
                <a:lnTo>
                  <a:pt x="172" y="341"/>
                </a:lnTo>
                <a:lnTo>
                  <a:pt x="166" y="328"/>
                </a:lnTo>
                <a:lnTo>
                  <a:pt x="165" y="317"/>
                </a:lnTo>
                <a:lnTo>
                  <a:pt x="161" y="308"/>
                </a:lnTo>
                <a:lnTo>
                  <a:pt x="159" y="303"/>
                </a:lnTo>
                <a:lnTo>
                  <a:pt x="156" y="296"/>
                </a:lnTo>
                <a:lnTo>
                  <a:pt x="156" y="292"/>
                </a:lnTo>
                <a:lnTo>
                  <a:pt x="156" y="292"/>
                </a:lnTo>
                <a:lnTo>
                  <a:pt x="156" y="292"/>
                </a:lnTo>
                <a:lnTo>
                  <a:pt x="154" y="288"/>
                </a:lnTo>
                <a:lnTo>
                  <a:pt x="150" y="281"/>
                </a:lnTo>
                <a:lnTo>
                  <a:pt x="141" y="276"/>
                </a:lnTo>
                <a:lnTo>
                  <a:pt x="136" y="274"/>
                </a:lnTo>
                <a:lnTo>
                  <a:pt x="128" y="276"/>
                </a:lnTo>
                <a:lnTo>
                  <a:pt x="114" y="281"/>
                </a:lnTo>
                <a:lnTo>
                  <a:pt x="99" y="285"/>
                </a:lnTo>
                <a:lnTo>
                  <a:pt x="80" y="292"/>
                </a:lnTo>
                <a:lnTo>
                  <a:pt x="65" y="296"/>
                </a:lnTo>
                <a:lnTo>
                  <a:pt x="54" y="299"/>
                </a:lnTo>
                <a:lnTo>
                  <a:pt x="49" y="301"/>
                </a:lnTo>
                <a:lnTo>
                  <a:pt x="45" y="303"/>
                </a:lnTo>
                <a:lnTo>
                  <a:pt x="43" y="303"/>
                </a:lnTo>
                <a:lnTo>
                  <a:pt x="43" y="303"/>
                </a:lnTo>
                <a:lnTo>
                  <a:pt x="41" y="305"/>
                </a:lnTo>
                <a:lnTo>
                  <a:pt x="34" y="308"/>
                </a:lnTo>
                <a:lnTo>
                  <a:pt x="25" y="316"/>
                </a:lnTo>
                <a:lnTo>
                  <a:pt x="16" y="325"/>
                </a:lnTo>
                <a:lnTo>
                  <a:pt x="7" y="337"/>
                </a:lnTo>
                <a:lnTo>
                  <a:pt x="2" y="354"/>
                </a:lnTo>
                <a:lnTo>
                  <a:pt x="0" y="372"/>
                </a:lnTo>
                <a:lnTo>
                  <a:pt x="2" y="381"/>
                </a:lnTo>
                <a:lnTo>
                  <a:pt x="5" y="394"/>
                </a:lnTo>
                <a:lnTo>
                  <a:pt x="11" y="408"/>
                </a:lnTo>
                <a:lnTo>
                  <a:pt x="14" y="421"/>
                </a:lnTo>
                <a:lnTo>
                  <a:pt x="22" y="441"/>
                </a:lnTo>
                <a:lnTo>
                  <a:pt x="27" y="457"/>
                </a:lnTo>
                <a:lnTo>
                  <a:pt x="31" y="466"/>
                </a:lnTo>
                <a:lnTo>
                  <a:pt x="32" y="471"/>
                </a:lnTo>
                <a:lnTo>
                  <a:pt x="32" y="475"/>
                </a:lnTo>
                <a:lnTo>
                  <a:pt x="32" y="477"/>
                </a:lnTo>
                <a:lnTo>
                  <a:pt x="32" y="477"/>
                </a:lnTo>
                <a:lnTo>
                  <a:pt x="34" y="480"/>
                </a:lnTo>
                <a:lnTo>
                  <a:pt x="38" y="488"/>
                </a:lnTo>
                <a:lnTo>
                  <a:pt x="43" y="499"/>
                </a:lnTo>
                <a:lnTo>
                  <a:pt x="52" y="509"/>
                </a:lnTo>
                <a:lnTo>
                  <a:pt x="63" y="520"/>
                </a:lnTo>
                <a:lnTo>
                  <a:pt x="78" y="528"/>
                </a:lnTo>
                <a:lnTo>
                  <a:pt x="96" y="531"/>
                </a:lnTo>
                <a:lnTo>
                  <a:pt x="105" y="529"/>
                </a:lnTo>
                <a:lnTo>
                  <a:pt x="116" y="528"/>
                </a:lnTo>
                <a:lnTo>
                  <a:pt x="118" y="528"/>
                </a:lnTo>
                <a:lnTo>
                  <a:pt x="121" y="526"/>
                </a:lnTo>
                <a:lnTo>
                  <a:pt x="127" y="528"/>
                </a:lnTo>
                <a:lnTo>
                  <a:pt x="132" y="529"/>
                </a:lnTo>
                <a:lnTo>
                  <a:pt x="137" y="533"/>
                </a:lnTo>
                <a:lnTo>
                  <a:pt x="145" y="538"/>
                </a:lnTo>
                <a:lnTo>
                  <a:pt x="150" y="548"/>
                </a:lnTo>
                <a:lnTo>
                  <a:pt x="156" y="560"/>
                </a:lnTo>
                <a:lnTo>
                  <a:pt x="165" y="587"/>
                </a:lnTo>
                <a:lnTo>
                  <a:pt x="172" y="613"/>
                </a:lnTo>
                <a:lnTo>
                  <a:pt x="179" y="633"/>
                </a:lnTo>
                <a:lnTo>
                  <a:pt x="185" y="651"/>
                </a:lnTo>
                <a:lnTo>
                  <a:pt x="188" y="665"/>
                </a:lnTo>
                <a:lnTo>
                  <a:pt x="194" y="678"/>
                </a:lnTo>
                <a:lnTo>
                  <a:pt x="197" y="689"/>
                </a:lnTo>
                <a:lnTo>
                  <a:pt x="199" y="698"/>
                </a:lnTo>
                <a:lnTo>
                  <a:pt x="201" y="703"/>
                </a:lnTo>
                <a:lnTo>
                  <a:pt x="203" y="709"/>
                </a:lnTo>
                <a:lnTo>
                  <a:pt x="205" y="714"/>
                </a:lnTo>
                <a:lnTo>
                  <a:pt x="205" y="716"/>
                </a:lnTo>
                <a:lnTo>
                  <a:pt x="205" y="716"/>
                </a:lnTo>
                <a:lnTo>
                  <a:pt x="206" y="718"/>
                </a:lnTo>
                <a:lnTo>
                  <a:pt x="206" y="720"/>
                </a:lnTo>
                <a:lnTo>
                  <a:pt x="212" y="727"/>
                </a:lnTo>
                <a:lnTo>
                  <a:pt x="219" y="732"/>
                </a:lnTo>
                <a:lnTo>
                  <a:pt x="226" y="734"/>
                </a:lnTo>
                <a:lnTo>
                  <a:pt x="233" y="734"/>
                </a:lnTo>
                <a:lnTo>
                  <a:pt x="233" y="734"/>
                </a:lnTo>
                <a:lnTo>
                  <a:pt x="237" y="732"/>
                </a:lnTo>
                <a:lnTo>
                  <a:pt x="244" y="730"/>
                </a:lnTo>
                <a:lnTo>
                  <a:pt x="255" y="725"/>
                </a:lnTo>
                <a:lnTo>
                  <a:pt x="264" y="718"/>
                </a:lnTo>
                <a:lnTo>
                  <a:pt x="272" y="707"/>
                </a:lnTo>
                <a:lnTo>
                  <a:pt x="273" y="702"/>
                </a:lnTo>
                <a:lnTo>
                  <a:pt x="273" y="694"/>
                </a:lnTo>
                <a:lnTo>
                  <a:pt x="272" y="685"/>
                </a:lnTo>
                <a:lnTo>
                  <a:pt x="266" y="676"/>
                </a:lnTo>
                <a:lnTo>
                  <a:pt x="259" y="665"/>
                </a:lnTo>
                <a:lnTo>
                  <a:pt x="250" y="654"/>
                </a:lnTo>
                <a:lnTo>
                  <a:pt x="253" y="644"/>
                </a:lnTo>
                <a:lnTo>
                  <a:pt x="252" y="631"/>
                </a:lnTo>
                <a:lnTo>
                  <a:pt x="246" y="618"/>
                </a:lnTo>
                <a:lnTo>
                  <a:pt x="239" y="605"/>
                </a:lnTo>
                <a:lnTo>
                  <a:pt x="232" y="593"/>
                </a:lnTo>
                <a:lnTo>
                  <a:pt x="224" y="578"/>
                </a:lnTo>
                <a:lnTo>
                  <a:pt x="219" y="562"/>
                </a:lnTo>
                <a:lnTo>
                  <a:pt x="217" y="544"/>
                </a:lnTo>
                <a:close/>
                <a:moveTo>
                  <a:pt x="598" y="241"/>
                </a:moveTo>
                <a:lnTo>
                  <a:pt x="703" y="212"/>
                </a:lnTo>
                <a:lnTo>
                  <a:pt x="697" y="200"/>
                </a:lnTo>
                <a:lnTo>
                  <a:pt x="594" y="227"/>
                </a:lnTo>
                <a:lnTo>
                  <a:pt x="598" y="241"/>
                </a:lnTo>
                <a:close/>
                <a:moveTo>
                  <a:pt x="599" y="312"/>
                </a:moveTo>
                <a:lnTo>
                  <a:pt x="688" y="365"/>
                </a:lnTo>
                <a:lnTo>
                  <a:pt x="697" y="354"/>
                </a:lnTo>
                <a:lnTo>
                  <a:pt x="603" y="298"/>
                </a:lnTo>
                <a:lnTo>
                  <a:pt x="599" y="312"/>
                </a:lnTo>
                <a:close/>
                <a:moveTo>
                  <a:pt x="632" y="95"/>
                </a:moveTo>
                <a:lnTo>
                  <a:pt x="623" y="91"/>
                </a:lnTo>
                <a:lnTo>
                  <a:pt x="561" y="176"/>
                </a:lnTo>
                <a:lnTo>
                  <a:pt x="570" y="182"/>
                </a:lnTo>
                <a:lnTo>
                  <a:pt x="632" y="95"/>
                </a:lnTo>
                <a:close/>
                <a:moveTo>
                  <a:pt x="552" y="314"/>
                </a:moveTo>
                <a:lnTo>
                  <a:pt x="567" y="299"/>
                </a:lnTo>
                <a:lnTo>
                  <a:pt x="574" y="281"/>
                </a:lnTo>
                <a:lnTo>
                  <a:pt x="576" y="261"/>
                </a:lnTo>
                <a:lnTo>
                  <a:pt x="570" y="241"/>
                </a:lnTo>
                <a:lnTo>
                  <a:pt x="563" y="221"/>
                </a:lnTo>
                <a:lnTo>
                  <a:pt x="551" y="207"/>
                </a:lnTo>
                <a:lnTo>
                  <a:pt x="534" y="196"/>
                </a:lnTo>
                <a:lnTo>
                  <a:pt x="514" y="191"/>
                </a:lnTo>
                <a:lnTo>
                  <a:pt x="503" y="160"/>
                </a:lnTo>
                <a:lnTo>
                  <a:pt x="494" y="131"/>
                </a:lnTo>
                <a:lnTo>
                  <a:pt x="485" y="107"/>
                </a:lnTo>
                <a:lnTo>
                  <a:pt x="478" y="87"/>
                </a:lnTo>
                <a:lnTo>
                  <a:pt x="473" y="69"/>
                </a:lnTo>
                <a:lnTo>
                  <a:pt x="467" y="55"/>
                </a:lnTo>
                <a:lnTo>
                  <a:pt x="464" y="44"/>
                </a:lnTo>
                <a:lnTo>
                  <a:pt x="460" y="35"/>
                </a:lnTo>
                <a:lnTo>
                  <a:pt x="458" y="26"/>
                </a:lnTo>
                <a:lnTo>
                  <a:pt x="455" y="20"/>
                </a:lnTo>
                <a:lnTo>
                  <a:pt x="453" y="15"/>
                </a:lnTo>
                <a:lnTo>
                  <a:pt x="453" y="11"/>
                </a:lnTo>
                <a:lnTo>
                  <a:pt x="453" y="11"/>
                </a:lnTo>
                <a:lnTo>
                  <a:pt x="449" y="4"/>
                </a:lnTo>
                <a:lnTo>
                  <a:pt x="447" y="0"/>
                </a:lnTo>
                <a:lnTo>
                  <a:pt x="444" y="0"/>
                </a:lnTo>
                <a:lnTo>
                  <a:pt x="442" y="4"/>
                </a:lnTo>
                <a:lnTo>
                  <a:pt x="436" y="13"/>
                </a:lnTo>
                <a:lnTo>
                  <a:pt x="436" y="15"/>
                </a:lnTo>
                <a:lnTo>
                  <a:pt x="435" y="17"/>
                </a:lnTo>
                <a:lnTo>
                  <a:pt x="426" y="49"/>
                </a:lnTo>
                <a:lnTo>
                  <a:pt x="411" y="78"/>
                </a:lnTo>
                <a:lnTo>
                  <a:pt x="397" y="105"/>
                </a:lnTo>
                <a:lnTo>
                  <a:pt x="378" y="129"/>
                </a:lnTo>
                <a:lnTo>
                  <a:pt x="359" y="151"/>
                </a:lnTo>
                <a:lnTo>
                  <a:pt x="337" y="171"/>
                </a:lnTo>
                <a:lnTo>
                  <a:pt x="317" y="187"/>
                </a:lnTo>
                <a:lnTo>
                  <a:pt x="295" y="201"/>
                </a:lnTo>
                <a:lnTo>
                  <a:pt x="275" y="214"/>
                </a:lnTo>
                <a:lnTo>
                  <a:pt x="255" y="225"/>
                </a:lnTo>
                <a:lnTo>
                  <a:pt x="237" y="234"/>
                </a:lnTo>
                <a:lnTo>
                  <a:pt x="221" y="241"/>
                </a:lnTo>
                <a:lnTo>
                  <a:pt x="208" y="245"/>
                </a:lnTo>
                <a:lnTo>
                  <a:pt x="197" y="249"/>
                </a:lnTo>
                <a:lnTo>
                  <a:pt x="190" y="252"/>
                </a:lnTo>
                <a:lnTo>
                  <a:pt x="188" y="252"/>
                </a:lnTo>
                <a:lnTo>
                  <a:pt x="181" y="254"/>
                </a:lnTo>
                <a:lnTo>
                  <a:pt x="177" y="259"/>
                </a:lnTo>
                <a:lnTo>
                  <a:pt x="176" y="263"/>
                </a:lnTo>
                <a:lnTo>
                  <a:pt x="174" y="269"/>
                </a:lnTo>
                <a:lnTo>
                  <a:pt x="176" y="276"/>
                </a:lnTo>
                <a:lnTo>
                  <a:pt x="177" y="279"/>
                </a:lnTo>
                <a:lnTo>
                  <a:pt x="177" y="279"/>
                </a:lnTo>
                <a:lnTo>
                  <a:pt x="186" y="308"/>
                </a:lnTo>
                <a:lnTo>
                  <a:pt x="195" y="336"/>
                </a:lnTo>
                <a:lnTo>
                  <a:pt x="203" y="357"/>
                </a:lnTo>
                <a:lnTo>
                  <a:pt x="210" y="377"/>
                </a:lnTo>
                <a:lnTo>
                  <a:pt x="215" y="394"/>
                </a:lnTo>
                <a:lnTo>
                  <a:pt x="219" y="406"/>
                </a:lnTo>
                <a:lnTo>
                  <a:pt x="223" y="417"/>
                </a:lnTo>
                <a:lnTo>
                  <a:pt x="226" y="426"/>
                </a:lnTo>
                <a:lnTo>
                  <a:pt x="228" y="433"/>
                </a:lnTo>
                <a:lnTo>
                  <a:pt x="230" y="439"/>
                </a:lnTo>
                <a:lnTo>
                  <a:pt x="232" y="444"/>
                </a:lnTo>
                <a:lnTo>
                  <a:pt x="233" y="446"/>
                </a:lnTo>
                <a:lnTo>
                  <a:pt x="233" y="448"/>
                </a:lnTo>
                <a:lnTo>
                  <a:pt x="237" y="455"/>
                </a:lnTo>
                <a:lnTo>
                  <a:pt x="241" y="459"/>
                </a:lnTo>
                <a:lnTo>
                  <a:pt x="244" y="462"/>
                </a:lnTo>
                <a:lnTo>
                  <a:pt x="250" y="464"/>
                </a:lnTo>
                <a:lnTo>
                  <a:pt x="257" y="464"/>
                </a:lnTo>
                <a:lnTo>
                  <a:pt x="261" y="464"/>
                </a:lnTo>
                <a:lnTo>
                  <a:pt x="261" y="464"/>
                </a:lnTo>
                <a:lnTo>
                  <a:pt x="301" y="451"/>
                </a:lnTo>
                <a:lnTo>
                  <a:pt x="339" y="442"/>
                </a:lnTo>
                <a:lnTo>
                  <a:pt x="375" y="439"/>
                </a:lnTo>
                <a:lnTo>
                  <a:pt x="407" y="437"/>
                </a:lnTo>
                <a:lnTo>
                  <a:pt x="438" y="437"/>
                </a:lnTo>
                <a:lnTo>
                  <a:pt x="465" y="441"/>
                </a:lnTo>
                <a:lnTo>
                  <a:pt x="491" y="446"/>
                </a:lnTo>
                <a:lnTo>
                  <a:pt x="514" y="451"/>
                </a:lnTo>
                <a:lnTo>
                  <a:pt x="536" y="459"/>
                </a:lnTo>
                <a:lnTo>
                  <a:pt x="552" y="466"/>
                </a:lnTo>
                <a:lnTo>
                  <a:pt x="569" y="473"/>
                </a:lnTo>
                <a:lnTo>
                  <a:pt x="581" y="480"/>
                </a:lnTo>
                <a:lnTo>
                  <a:pt x="590" y="488"/>
                </a:lnTo>
                <a:lnTo>
                  <a:pt x="598" y="493"/>
                </a:lnTo>
                <a:lnTo>
                  <a:pt x="603" y="497"/>
                </a:lnTo>
                <a:lnTo>
                  <a:pt x="603" y="497"/>
                </a:lnTo>
                <a:lnTo>
                  <a:pt x="605" y="499"/>
                </a:lnTo>
                <a:lnTo>
                  <a:pt x="607" y="500"/>
                </a:lnTo>
                <a:lnTo>
                  <a:pt x="614" y="504"/>
                </a:lnTo>
                <a:lnTo>
                  <a:pt x="616" y="504"/>
                </a:lnTo>
                <a:lnTo>
                  <a:pt x="618" y="502"/>
                </a:lnTo>
                <a:lnTo>
                  <a:pt x="618" y="499"/>
                </a:lnTo>
                <a:lnTo>
                  <a:pt x="616" y="491"/>
                </a:lnTo>
                <a:lnTo>
                  <a:pt x="552" y="314"/>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06" name="Freeform 195"/>
          <p:cNvSpPr/>
          <p:nvPr/>
        </p:nvSpPr>
        <p:spPr>
          <a:xfrm>
            <a:off x="3579840" y="4821120"/>
            <a:ext cx="160200" cy="162000"/>
          </a:xfrm>
          <a:custGeom>
            <a:avLst/>
            <a:gdLst/>
            <a:ahLst/>
            <a:rect l="l" t="t" r="r" b="b"/>
            <a:pathLst>
              <a:path w="605" h="606">
                <a:moveTo>
                  <a:pt x="75" y="441"/>
                </a:moveTo>
                <a:lnTo>
                  <a:pt x="0" y="606"/>
                </a:lnTo>
                <a:lnTo>
                  <a:pt x="167" y="534"/>
                </a:lnTo>
                <a:lnTo>
                  <a:pt x="167" y="534"/>
                </a:lnTo>
                <a:lnTo>
                  <a:pt x="75" y="437"/>
                </a:lnTo>
                <a:lnTo>
                  <a:pt x="75" y="441"/>
                </a:lnTo>
                <a:close/>
                <a:moveTo>
                  <a:pt x="583" y="19"/>
                </a:moveTo>
                <a:lnTo>
                  <a:pt x="567" y="7"/>
                </a:lnTo>
                <a:lnTo>
                  <a:pt x="552" y="2"/>
                </a:lnTo>
                <a:lnTo>
                  <a:pt x="538" y="0"/>
                </a:lnTo>
                <a:lnTo>
                  <a:pt x="526" y="2"/>
                </a:lnTo>
                <a:lnTo>
                  <a:pt x="514" y="6"/>
                </a:lnTo>
                <a:lnTo>
                  <a:pt x="506" y="9"/>
                </a:lnTo>
                <a:lnTo>
                  <a:pt x="500" y="12"/>
                </a:lnTo>
                <a:lnTo>
                  <a:pt x="499" y="14"/>
                </a:lnTo>
                <a:lnTo>
                  <a:pt x="514" y="30"/>
                </a:lnTo>
                <a:lnTo>
                  <a:pt x="530" y="43"/>
                </a:lnTo>
                <a:lnTo>
                  <a:pt x="542" y="55"/>
                </a:lnTo>
                <a:lnTo>
                  <a:pt x="552" y="67"/>
                </a:lnTo>
                <a:lnTo>
                  <a:pt x="569" y="83"/>
                </a:lnTo>
                <a:lnTo>
                  <a:pt x="581" y="93"/>
                </a:lnTo>
                <a:lnTo>
                  <a:pt x="588" y="100"/>
                </a:lnTo>
                <a:lnTo>
                  <a:pt x="592" y="104"/>
                </a:lnTo>
                <a:lnTo>
                  <a:pt x="593" y="105"/>
                </a:lnTo>
                <a:lnTo>
                  <a:pt x="593" y="105"/>
                </a:lnTo>
                <a:lnTo>
                  <a:pt x="593" y="104"/>
                </a:lnTo>
                <a:lnTo>
                  <a:pt x="597" y="97"/>
                </a:lnTo>
                <a:lnTo>
                  <a:pt x="602" y="90"/>
                </a:lnTo>
                <a:lnTo>
                  <a:pt x="604" y="78"/>
                </a:lnTo>
                <a:lnTo>
                  <a:pt x="605" y="66"/>
                </a:lnTo>
                <a:lnTo>
                  <a:pt x="604" y="50"/>
                </a:lnTo>
                <a:lnTo>
                  <a:pt x="597" y="35"/>
                </a:lnTo>
                <a:lnTo>
                  <a:pt x="590" y="28"/>
                </a:lnTo>
                <a:lnTo>
                  <a:pt x="583" y="19"/>
                </a:lnTo>
                <a:close/>
                <a:moveTo>
                  <a:pt x="531" y="97"/>
                </a:moveTo>
                <a:lnTo>
                  <a:pt x="151" y="472"/>
                </a:lnTo>
                <a:lnTo>
                  <a:pt x="191" y="513"/>
                </a:lnTo>
                <a:lnTo>
                  <a:pt x="567" y="133"/>
                </a:lnTo>
                <a:lnTo>
                  <a:pt x="531" y="97"/>
                </a:lnTo>
                <a:close/>
                <a:moveTo>
                  <a:pt x="471" y="33"/>
                </a:moveTo>
                <a:lnTo>
                  <a:pt x="96" y="417"/>
                </a:lnTo>
                <a:lnTo>
                  <a:pt x="132" y="458"/>
                </a:lnTo>
                <a:lnTo>
                  <a:pt x="511" y="73"/>
                </a:lnTo>
                <a:lnTo>
                  <a:pt x="471" y="33"/>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07" name="Freeform 196"/>
          <p:cNvSpPr/>
          <p:nvPr/>
        </p:nvSpPr>
        <p:spPr>
          <a:xfrm>
            <a:off x="7007400" y="3897360"/>
            <a:ext cx="156960" cy="135000"/>
          </a:xfrm>
          <a:custGeom>
            <a:avLst/>
            <a:gdLst/>
            <a:ahLst/>
            <a:rect l="l" t="t" r="r" b="b"/>
            <a:pathLst>
              <a:path w="590" h="502">
                <a:moveTo>
                  <a:pt x="299" y="349"/>
                </a:moveTo>
                <a:lnTo>
                  <a:pt x="241" y="288"/>
                </a:lnTo>
                <a:lnTo>
                  <a:pt x="241" y="288"/>
                </a:lnTo>
                <a:lnTo>
                  <a:pt x="190" y="397"/>
                </a:lnTo>
                <a:lnTo>
                  <a:pt x="299" y="349"/>
                </a:lnTo>
                <a:lnTo>
                  <a:pt x="299" y="354"/>
                </a:lnTo>
                <a:lnTo>
                  <a:pt x="302" y="354"/>
                </a:lnTo>
                <a:lnTo>
                  <a:pt x="302" y="349"/>
                </a:lnTo>
                <a:lnTo>
                  <a:pt x="299" y="349"/>
                </a:lnTo>
                <a:close/>
                <a:moveTo>
                  <a:pt x="449" y="444"/>
                </a:moveTo>
                <a:lnTo>
                  <a:pt x="61" y="444"/>
                </a:lnTo>
                <a:lnTo>
                  <a:pt x="61" y="61"/>
                </a:lnTo>
                <a:lnTo>
                  <a:pt x="421" y="61"/>
                </a:lnTo>
                <a:lnTo>
                  <a:pt x="489" y="0"/>
                </a:lnTo>
                <a:lnTo>
                  <a:pt x="0" y="0"/>
                </a:lnTo>
                <a:lnTo>
                  <a:pt x="0" y="502"/>
                </a:lnTo>
                <a:lnTo>
                  <a:pt x="510" y="502"/>
                </a:lnTo>
                <a:lnTo>
                  <a:pt x="510" y="186"/>
                </a:lnTo>
                <a:lnTo>
                  <a:pt x="449" y="247"/>
                </a:lnTo>
                <a:lnTo>
                  <a:pt x="449" y="444"/>
                </a:lnTo>
                <a:close/>
                <a:moveTo>
                  <a:pt x="575" y="13"/>
                </a:moveTo>
                <a:lnTo>
                  <a:pt x="567" y="7"/>
                </a:lnTo>
                <a:lnTo>
                  <a:pt x="556" y="3"/>
                </a:lnTo>
                <a:lnTo>
                  <a:pt x="548" y="3"/>
                </a:lnTo>
                <a:lnTo>
                  <a:pt x="539" y="4"/>
                </a:lnTo>
                <a:lnTo>
                  <a:pt x="530" y="7"/>
                </a:lnTo>
                <a:lnTo>
                  <a:pt x="524" y="10"/>
                </a:lnTo>
                <a:lnTo>
                  <a:pt x="522" y="13"/>
                </a:lnTo>
                <a:lnTo>
                  <a:pt x="520" y="13"/>
                </a:lnTo>
                <a:lnTo>
                  <a:pt x="539" y="32"/>
                </a:lnTo>
                <a:lnTo>
                  <a:pt x="554" y="47"/>
                </a:lnTo>
                <a:lnTo>
                  <a:pt x="565" y="57"/>
                </a:lnTo>
                <a:lnTo>
                  <a:pt x="572" y="64"/>
                </a:lnTo>
                <a:lnTo>
                  <a:pt x="577" y="67"/>
                </a:lnTo>
                <a:lnTo>
                  <a:pt x="578" y="70"/>
                </a:lnTo>
                <a:lnTo>
                  <a:pt x="580" y="71"/>
                </a:lnTo>
                <a:lnTo>
                  <a:pt x="581" y="70"/>
                </a:lnTo>
                <a:lnTo>
                  <a:pt x="583" y="67"/>
                </a:lnTo>
                <a:lnTo>
                  <a:pt x="586" y="61"/>
                </a:lnTo>
                <a:lnTo>
                  <a:pt x="588" y="54"/>
                </a:lnTo>
                <a:lnTo>
                  <a:pt x="590" y="47"/>
                </a:lnTo>
                <a:lnTo>
                  <a:pt x="588" y="36"/>
                </a:lnTo>
                <a:lnTo>
                  <a:pt x="584" y="25"/>
                </a:lnTo>
                <a:lnTo>
                  <a:pt x="575" y="13"/>
                </a:lnTo>
                <a:close/>
                <a:moveTo>
                  <a:pt x="291" y="311"/>
                </a:moveTo>
                <a:lnTo>
                  <a:pt x="315" y="336"/>
                </a:lnTo>
                <a:lnTo>
                  <a:pt x="567" y="92"/>
                </a:lnTo>
                <a:lnTo>
                  <a:pt x="542" y="61"/>
                </a:lnTo>
                <a:lnTo>
                  <a:pt x="291" y="311"/>
                </a:lnTo>
                <a:close/>
                <a:moveTo>
                  <a:pt x="501" y="25"/>
                </a:moveTo>
                <a:lnTo>
                  <a:pt x="255" y="271"/>
                </a:lnTo>
                <a:lnTo>
                  <a:pt x="278" y="295"/>
                </a:lnTo>
                <a:lnTo>
                  <a:pt x="526" y="51"/>
                </a:lnTo>
                <a:lnTo>
                  <a:pt x="501" y="25"/>
                </a:lnTo>
                <a:close/>
              </a:path>
            </a:pathLst>
          </a:custGeom>
          <a:solidFill>
            <a:srgbClr val="a6a6a6"/>
          </a:solidFill>
          <a:ln w="0">
            <a:noFill/>
          </a:ln>
        </p:spPr>
        <p:style>
          <a:lnRef idx="0"/>
          <a:fillRef idx="0"/>
          <a:effectRef idx="0"/>
          <a:fontRef idx="minor"/>
        </p:style>
        <p:txBody>
          <a:bodyPr lIns="145800" rIns="145800" tIns="62280" bIns="62280" anchor="t">
            <a:noAutofit/>
          </a:bodyPr>
          <a:p>
            <a:endParaRPr b="0" lang="en-US" sz="1800" spc="-1" strike="noStrike">
              <a:solidFill>
                <a:srgbClr val="000000"/>
              </a:solidFill>
              <a:latin typeface="Calibri"/>
            </a:endParaRPr>
          </a:p>
        </p:txBody>
      </p:sp>
      <p:sp>
        <p:nvSpPr>
          <p:cNvPr id="1808" name="Freeform 197"/>
          <p:cNvSpPr/>
          <p:nvPr/>
        </p:nvSpPr>
        <p:spPr>
          <a:xfrm>
            <a:off x="4538520" y="3887640"/>
            <a:ext cx="144720" cy="154080"/>
          </a:xfrm>
          <a:custGeom>
            <a:avLst/>
            <a:gdLst/>
            <a:ahLst/>
            <a:rect l="l" t="t" r="r" b="b"/>
            <a:pathLst>
              <a:path w="543" h="574">
                <a:moveTo>
                  <a:pt x="350" y="393"/>
                </a:moveTo>
                <a:lnTo>
                  <a:pt x="368" y="382"/>
                </a:lnTo>
                <a:lnTo>
                  <a:pt x="385" y="370"/>
                </a:lnTo>
                <a:lnTo>
                  <a:pt x="415" y="346"/>
                </a:lnTo>
                <a:lnTo>
                  <a:pt x="442" y="322"/>
                </a:lnTo>
                <a:lnTo>
                  <a:pt x="465" y="297"/>
                </a:lnTo>
                <a:lnTo>
                  <a:pt x="483" y="273"/>
                </a:lnTo>
                <a:lnTo>
                  <a:pt x="499" y="250"/>
                </a:lnTo>
                <a:lnTo>
                  <a:pt x="511" y="227"/>
                </a:lnTo>
                <a:lnTo>
                  <a:pt x="521" y="206"/>
                </a:lnTo>
                <a:lnTo>
                  <a:pt x="529" y="186"/>
                </a:lnTo>
                <a:lnTo>
                  <a:pt x="534" y="168"/>
                </a:lnTo>
                <a:lnTo>
                  <a:pt x="538" y="152"/>
                </a:lnTo>
                <a:lnTo>
                  <a:pt x="540" y="139"/>
                </a:lnTo>
                <a:lnTo>
                  <a:pt x="541" y="126"/>
                </a:lnTo>
                <a:lnTo>
                  <a:pt x="543" y="118"/>
                </a:lnTo>
                <a:lnTo>
                  <a:pt x="543" y="113"/>
                </a:lnTo>
                <a:lnTo>
                  <a:pt x="543" y="112"/>
                </a:lnTo>
                <a:lnTo>
                  <a:pt x="543" y="105"/>
                </a:lnTo>
                <a:lnTo>
                  <a:pt x="543" y="99"/>
                </a:lnTo>
                <a:lnTo>
                  <a:pt x="543" y="95"/>
                </a:lnTo>
                <a:lnTo>
                  <a:pt x="543" y="93"/>
                </a:lnTo>
                <a:lnTo>
                  <a:pt x="543" y="90"/>
                </a:lnTo>
                <a:lnTo>
                  <a:pt x="543" y="90"/>
                </a:lnTo>
                <a:lnTo>
                  <a:pt x="543" y="88"/>
                </a:lnTo>
                <a:lnTo>
                  <a:pt x="541" y="83"/>
                </a:lnTo>
                <a:lnTo>
                  <a:pt x="540" y="76"/>
                </a:lnTo>
                <a:lnTo>
                  <a:pt x="537" y="67"/>
                </a:lnTo>
                <a:lnTo>
                  <a:pt x="532" y="57"/>
                </a:lnTo>
                <a:lnTo>
                  <a:pt x="524" y="50"/>
                </a:lnTo>
                <a:lnTo>
                  <a:pt x="514" y="45"/>
                </a:lnTo>
                <a:lnTo>
                  <a:pt x="499" y="43"/>
                </a:lnTo>
                <a:lnTo>
                  <a:pt x="491" y="43"/>
                </a:lnTo>
                <a:lnTo>
                  <a:pt x="482" y="43"/>
                </a:lnTo>
                <a:lnTo>
                  <a:pt x="476" y="43"/>
                </a:lnTo>
                <a:lnTo>
                  <a:pt x="474" y="43"/>
                </a:lnTo>
                <a:lnTo>
                  <a:pt x="468" y="44"/>
                </a:lnTo>
                <a:lnTo>
                  <a:pt x="461" y="47"/>
                </a:lnTo>
                <a:lnTo>
                  <a:pt x="458" y="50"/>
                </a:lnTo>
                <a:lnTo>
                  <a:pt x="455" y="54"/>
                </a:lnTo>
                <a:lnTo>
                  <a:pt x="453" y="61"/>
                </a:lnTo>
                <a:lnTo>
                  <a:pt x="453" y="63"/>
                </a:lnTo>
                <a:lnTo>
                  <a:pt x="453" y="65"/>
                </a:lnTo>
                <a:lnTo>
                  <a:pt x="451" y="65"/>
                </a:lnTo>
                <a:lnTo>
                  <a:pt x="446" y="66"/>
                </a:lnTo>
                <a:lnTo>
                  <a:pt x="438" y="68"/>
                </a:lnTo>
                <a:lnTo>
                  <a:pt x="428" y="68"/>
                </a:lnTo>
                <a:lnTo>
                  <a:pt x="428" y="61"/>
                </a:lnTo>
                <a:lnTo>
                  <a:pt x="428" y="50"/>
                </a:lnTo>
                <a:lnTo>
                  <a:pt x="429" y="39"/>
                </a:lnTo>
                <a:lnTo>
                  <a:pt x="429" y="28"/>
                </a:lnTo>
                <a:lnTo>
                  <a:pt x="430" y="17"/>
                </a:lnTo>
                <a:lnTo>
                  <a:pt x="431" y="9"/>
                </a:lnTo>
                <a:lnTo>
                  <a:pt x="431" y="3"/>
                </a:lnTo>
                <a:lnTo>
                  <a:pt x="431" y="0"/>
                </a:lnTo>
                <a:lnTo>
                  <a:pt x="396" y="4"/>
                </a:lnTo>
                <a:lnTo>
                  <a:pt x="361" y="8"/>
                </a:lnTo>
                <a:lnTo>
                  <a:pt x="329" y="10"/>
                </a:lnTo>
                <a:lnTo>
                  <a:pt x="299" y="11"/>
                </a:lnTo>
                <a:lnTo>
                  <a:pt x="271" y="11"/>
                </a:lnTo>
                <a:lnTo>
                  <a:pt x="245" y="11"/>
                </a:lnTo>
                <a:lnTo>
                  <a:pt x="222" y="10"/>
                </a:lnTo>
                <a:lnTo>
                  <a:pt x="200" y="10"/>
                </a:lnTo>
                <a:lnTo>
                  <a:pt x="180" y="9"/>
                </a:lnTo>
                <a:lnTo>
                  <a:pt x="163" y="7"/>
                </a:lnTo>
                <a:lnTo>
                  <a:pt x="149" y="5"/>
                </a:lnTo>
                <a:lnTo>
                  <a:pt x="137" y="4"/>
                </a:lnTo>
                <a:lnTo>
                  <a:pt x="128" y="2"/>
                </a:lnTo>
                <a:lnTo>
                  <a:pt x="121" y="2"/>
                </a:lnTo>
                <a:lnTo>
                  <a:pt x="117" y="0"/>
                </a:lnTo>
                <a:lnTo>
                  <a:pt x="115" y="0"/>
                </a:lnTo>
                <a:lnTo>
                  <a:pt x="115" y="13"/>
                </a:lnTo>
                <a:lnTo>
                  <a:pt x="115" y="22"/>
                </a:lnTo>
                <a:lnTo>
                  <a:pt x="115" y="32"/>
                </a:lnTo>
                <a:lnTo>
                  <a:pt x="115" y="39"/>
                </a:lnTo>
                <a:lnTo>
                  <a:pt x="115" y="51"/>
                </a:lnTo>
                <a:lnTo>
                  <a:pt x="115" y="60"/>
                </a:lnTo>
                <a:lnTo>
                  <a:pt x="115" y="65"/>
                </a:lnTo>
                <a:lnTo>
                  <a:pt x="115" y="67"/>
                </a:lnTo>
                <a:lnTo>
                  <a:pt x="115" y="68"/>
                </a:lnTo>
                <a:lnTo>
                  <a:pt x="115" y="68"/>
                </a:lnTo>
                <a:lnTo>
                  <a:pt x="105" y="68"/>
                </a:lnTo>
                <a:lnTo>
                  <a:pt x="98" y="66"/>
                </a:lnTo>
                <a:lnTo>
                  <a:pt x="96" y="65"/>
                </a:lnTo>
                <a:lnTo>
                  <a:pt x="94" y="65"/>
                </a:lnTo>
                <a:lnTo>
                  <a:pt x="94" y="63"/>
                </a:lnTo>
                <a:lnTo>
                  <a:pt x="93" y="61"/>
                </a:lnTo>
                <a:lnTo>
                  <a:pt x="89" y="54"/>
                </a:lnTo>
                <a:lnTo>
                  <a:pt x="83" y="47"/>
                </a:lnTo>
                <a:lnTo>
                  <a:pt x="79" y="44"/>
                </a:lnTo>
                <a:lnTo>
                  <a:pt x="73" y="43"/>
                </a:lnTo>
                <a:lnTo>
                  <a:pt x="70" y="43"/>
                </a:lnTo>
                <a:lnTo>
                  <a:pt x="65" y="43"/>
                </a:lnTo>
                <a:lnTo>
                  <a:pt x="57" y="43"/>
                </a:lnTo>
                <a:lnTo>
                  <a:pt x="47" y="43"/>
                </a:lnTo>
                <a:lnTo>
                  <a:pt x="33" y="45"/>
                </a:lnTo>
                <a:lnTo>
                  <a:pt x="22" y="50"/>
                </a:lnTo>
                <a:lnTo>
                  <a:pt x="13" y="57"/>
                </a:lnTo>
                <a:lnTo>
                  <a:pt x="8" y="67"/>
                </a:lnTo>
                <a:lnTo>
                  <a:pt x="3" y="76"/>
                </a:lnTo>
                <a:lnTo>
                  <a:pt x="2" y="83"/>
                </a:lnTo>
                <a:lnTo>
                  <a:pt x="1" y="88"/>
                </a:lnTo>
                <a:lnTo>
                  <a:pt x="0" y="90"/>
                </a:lnTo>
                <a:lnTo>
                  <a:pt x="0" y="97"/>
                </a:lnTo>
                <a:lnTo>
                  <a:pt x="0" y="102"/>
                </a:lnTo>
                <a:lnTo>
                  <a:pt x="0" y="106"/>
                </a:lnTo>
                <a:lnTo>
                  <a:pt x="0" y="108"/>
                </a:lnTo>
                <a:lnTo>
                  <a:pt x="0" y="111"/>
                </a:lnTo>
                <a:lnTo>
                  <a:pt x="0" y="112"/>
                </a:lnTo>
                <a:lnTo>
                  <a:pt x="0" y="113"/>
                </a:lnTo>
                <a:lnTo>
                  <a:pt x="1" y="118"/>
                </a:lnTo>
                <a:lnTo>
                  <a:pt x="1" y="126"/>
                </a:lnTo>
                <a:lnTo>
                  <a:pt x="2" y="139"/>
                </a:lnTo>
                <a:lnTo>
                  <a:pt x="6" y="152"/>
                </a:lnTo>
                <a:lnTo>
                  <a:pt x="9" y="168"/>
                </a:lnTo>
                <a:lnTo>
                  <a:pt x="16" y="186"/>
                </a:lnTo>
                <a:lnTo>
                  <a:pt x="23" y="206"/>
                </a:lnTo>
                <a:lnTo>
                  <a:pt x="34" y="227"/>
                </a:lnTo>
                <a:lnTo>
                  <a:pt x="46" y="250"/>
                </a:lnTo>
                <a:lnTo>
                  <a:pt x="62" y="273"/>
                </a:lnTo>
                <a:lnTo>
                  <a:pt x="81" y="297"/>
                </a:lnTo>
                <a:lnTo>
                  <a:pt x="104" y="322"/>
                </a:lnTo>
                <a:lnTo>
                  <a:pt x="131" y="346"/>
                </a:lnTo>
                <a:lnTo>
                  <a:pt x="161" y="370"/>
                </a:lnTo>
                <a:lnTo>
                  <a:pt x="196" y="393"/>
                </a:lnTo>
                <a:lnTo>
                  <a:pt x="197" y="394"/>
                </a:lnTo>
                <a:lnTo>
                  <a:pt x="201" y="397"/>
                </a:lnTo>
                <a:lnTo>
                  <a:pt x="205" y="400"/>
                </a:lnTo>
                <a:lnTo>
                  <a:pt x="211" y="404"/>
                </a:lnTo>
                <a:lnTo>
                  <a:pt x="218" y="409"/>
                </a:lnTo>
                <a:lnTo>
                  <a:pt x="228" y="411"/>
                </a:lnTo>
                <a:lnTo>
                  <a:pt x="237" y="414"/>
                </a:lnTo>
                <a:lnTo>
                  <a:pt x="248" y="415"/>
                </a:lnTo>
                <a:lnTo>
                  <a:pt x="248" y="423"/>
                </a:lnTo>
                <a:lnTo>
                  <a:pt x="248" y="429"/>
                </a:lnTo>
                <a:lnTo>
                  <a:pt x="248" y="434"/>
                </a:lnTo>
                <a:lnTo>
                  <a:pt x="248" y="438"/>
                </a:lnTo>
                <a:lnTo>
                  <a:pt x="248" y="440"/>
                </a:lnTo>
                <a:lnTo>
                  <a:pt x="248" y="440"/>
                </a:lnTo>
                <a:lnTo>
                  <a:pt x="247" y="440"/>
                </a:lnTo>
                <a:lnTo>
                  <a:pt x="245" y="440"/>
                </a:lnTo>
                <a:lnTo>
                  <a:pt x="237" y="440"/>
                </a:lnTo>
                <a:lnTo>
                  <a:pt x="230" y="443"/>
                </a:lnTo>
                <a:lnTo>
                  <a:pt x="228" y="445"/>
                </a:lnTo>
                <a:lnTo>
                  <a:pt x="226" y="449"/>
                </a:lnTo>
                <a:lnTo>
                  <a:pt x="228" y="455"/>
                </a:lnTo>
                <a:lnTo>
                  <a:pt x="230" y="459"/>
                </a:lnTo>
                <a:lnTo>
                  <a:pt x="234" y="461"/>
                </a:lnTo>
                <a:lnTo>
                  <a:pt x="237" y="462"/>
                </a:lnTo>
                <a:lnTo>
                  <a:pt x="245" y="462"/>
                </a:lnTo>
                <a:lnTo>
                  <a:pt x="247" y="462"/>
                </a:lnTo>
                <a:lnTo>
                  <a:pt x="248" y="462"/>
                </a:lnTo>
                <a:lnTo>
                  <a:pt x="248" y="471"/>
                </a:lnTo>
                <a:lnTo>
                  <a:pt x="248" y="477"/>
                </a:lnTo>
                <a:lnTo>
                  <a:pt x="248" y="482"/>
                </a:lnTo>
                <a:lnTo>
                  <a:pt x="248" y="485"/>
                </a:lnTo>
                <a:lnTo>
                  <a:pt x="248" y="488"/>
                </a:lnTo>
                <a:lnTo>
                  <a:pt x="248" y="488"/>
                </a:lnTo>
                <a:lnTo>
                  <a:pt x="247" y="489"/>
                </a:lnTo>
                <a:lnTo>
                  <a:pt x="247" y="491"/>
                </a:lnTo>
                <a:lnTo>
                  <a:pt x="245" y="498"/>
                </a:lnTo>
                <a:lnTo>
                  <a:pt x="239" y="506"/>
                </a:lnTo>
                <a:lnTo>
                  <a:pt x="235" y="508"/>
                </a:lnTo>
                <a:lnTo>
                  <a:pt x="231" y="509"/>
                </a:lnTo>
                <a:lnTo>
                  <a:pt x="230" y="517"/>
                </a:lnTo>
                <a:lnTo>
                  <a:pt x="226" y="522"/>
                </a:lnTo>
                <a:lnTo>
                  <a:pt x="223" y="525"/>
                </a:lnTo>
                <a:lnTo>
                  <a:pt x="218" y="528"/>
                </a:lnTo>
                <a:lnTo>
                  <a:pt x="209" y="530"/>
                </a:lnTo>
                <a:lnTo>
                  <a:pt x="206" y="530"/>
                </a:lnTo>
                <a:lnTo>
                  <a:pt x="205" y="530"/>
                </a:lnTo>
                <a:lnTo>
                  <a:pt x="205" y="531"/>
                </a:lnTo>
                <a:lnTo>
                  <a:pt x="202" y="531"/>
                </a:lnTo>
                <a:lnTo>
                  <a:pt x="195" y="535"/>
                </a:lnTo>
                <a:lnTo>
                  <a:pt x="188" y="541"/>
                </a:lnTo>
                <a:lnTo>
                  <a:pt x="185" y="546"/>
                </a:lnTo>
                <a:lnTo>
                  <a:pt x="184" y="552"/>
                </a:lnTo>
                <a:lnTo>
                  <a:pt x="184" y="553"/>
                </a:lnTo>
                <a:lnTo>
                  <a:pt x="184" y="555"/>
                </a:lnTo>
                <a:lnTo>
                  <a:pt x="185" y="563"/>
                </a:lnTo>
                <a:lnTo>
                  <a:pt x="188" y="566"/>
                </a:lnTo>
                <a:lnTo>
                  <a:pt x="191" y="570"/>
                </a:lnTo>
                <a:lnTo>
                  <a:pt x="197" y="572"/>
                </a:lnTo>
                <a:lnTo>
                  <a:pt x="205" y="574"/>
                </a:lnTo>
                <a:lnTo>
                  <a:pt x="212" y="574"/>
                </a:lnTo>
                <a:lnTo>
                  <a:pt x="220" y="574"/>
                </a:lnTo>
                <a:lnTo>
                  <a:pt x="240" y="574"/>
                </a:lnTo>
                <a:lnTo>
                  <a:pt x="262" y="574"/>
                </a:lnTo>
                <a:lnTo>
                  <a:pt x="285" y="574"/>
                </a:lnTo>
                <a:lnTo>
                  <a:pt x="305" y="574"/>
                </a:lnTo>
                <a:lnTo>
                  <a:pt x="314" y="574"/>
                </a:lnTo>
                <a:lnTo>
                  <a:pt x="322" y="574"/>
                </a:lnTo>
                <a:lnTo>
                  <a:pt x="328" y="574"/>
                </a:lnTo>
                <a:lnTo>
                  <a:pt x="333" y="574"/>
                </a:lnTo>
                <a:lnTo>
                  <a:pt x="337" y="574"/>
                </a:lnTo>
                <a:lnTo>
                  <a:pt x="338" y="574"/>
                </a:lnTo>
                <a:lnTo>
                  <a:pt x="345" y="572"/>
                </a:lnTo>
                <a:lnTo>
                  <a:pt x="350" y="570"/>
                </a:lnTo>
                <a:lnTo>
                  <a:pt x="355" y="566"/>
                </a:lnTo>
                <a:lnTo>
                  <a:pt x="358" y="563"/>
                </a:lnTo>
                <a:lnTo>
                  <a:pt x="362" y="555"/>
                </a:lnTo>
                <a:lnTo>
                  <a:pt x="362" y="553"/>
                </a:lnTo>
                <a:lnTo>
                  <a:pt x="363" y="552"/>
                </a:lnTo>
                <a:lnTo>
                  <a:pt x="363" y="551"/>
                </a:lnTo>
                <a:lnTo>
                  <a:pt x="362" y="548"/>
                </a:lnTo>
                <a:lnTo>
                  <a:pt x="360" y="541"/>
                </a:lnTo>
                <a:lnTo>
                  <a:pt x="357" y="537"/>
                </a:lnTo>
                <a:lnTo>
                  <a:pt x="352" y="534"/>
                </a:lnTo>
                <a:lnTo>
                  <a:pt x="346" y="531"/>
                </a:lnTo>
                <a:lnTo>
                  <a:pt x="338" y="530"/>
                </a:lnTo>
                <a:lnTo>
                  <a:pt x="331" y="530"/>
                </a:lnTo>
                <a:lnTo>
                  <a:pt x="325" y="526"/>
                </a:lnTo>
                <a:lnTo>
                  <a:pt x="321" y="523"/>
                </a:lnTo>
                <a:lnTo>
                  <a:pt x="318" y="518"/>
                </a:lnTo>
                <a:lnTo>
                  <a:pt x="316" y="509"/>
                </a:lnTo>
                <a:lnTo>
                  <a:pt x="316" y="506"/>
                </a:lnTo>
                <a:lnTo>
                  <a:pt x="316" y="505"/>
                </a:lnTo>
                <a:lnTo>
                  <a:pt x="315" y="506"/>
                </a:lnTo>
                <a:lnTo>
                  <a:pt x="312" y="506"/>
                </a:lnTo>
                <a:lnTo>
                  <a:pt x="305" y="505"/>
                </a:lnTo>
                <a:lnTo>
                  <a:pt x="302" y="502"/>
                </a:lnTo>
                <a:lnTo>
                  <a:pt x="298" y="500"/>
                </a:lnTo>
                <a:lnTo>
                  <a:pt x="295" y="495"/>
                </a:lnTo>
                <a:lnTo>
                  <a:pt x="294" y="488"/>
                </a:lnTo>
                <a:lnTo>
                  <a:pt x="294" y="479"/>
                </a:lnTo>
                <a:lnTo>
                  <a:pt x="294" y="473"/>
                </a:lnTo>
                <a:lnTo>
                  <a:pt x="294" y="468"/>
                </a:lnTo>
                <a:lnTo>
                  <a:pt x="294" y="466"/>
                </a:lnTo>
                <a:lnTo>
                  <a:pt x="294" y="462"/>
                </a:lnTo>
                <a:lnTo>
                  <a:pt x="294" y="462"/>
                </a:lnTo>
                <a:lnTo>
                  <a:pt x="295" y="462"/>
                </a:lnTo>
                <a:lnTo>
                  <a:pt x="298" y="462"/>
                </a:lnTo>
                <a:lnTo>
                  <a:pt x="305" y="462"/>
                </a:lnTo>
                <a:lnTo>
                  <a:pt x="309" y="461"/>
                </a:lnTo>
                <a:lnTo>
                  <a:pt x="312" y="459"/>
                </a:lnTo>
                <a:lnTo>
                  <a:pt x="315" y="455"/>
                </a:lnTo>
                <a:lnTo>
                  <a:pt x="316" y="449"/>
                </a:lnTo>
                <a:lnTo>
                  <a:pt x="315" y="445"/>
                </a:lnTo>
                <a:lnTo>
                  <a:pt x="312" y="443"/>
                </a:lnTo>
                <a:lnTo>
                  <a:pt x="305" y="440"/>
                </a:lnTo>
                <a:lnTo>
                  <a:pt x="298" y="440"/>
                </a:lnTo>
                <a:lnTo>
                  <a:pt x="295" y="440"/>
                </a:lnTo>
                <a:lnTo>
                  <a:pt x="294" y="440"/>
                </a:lnTo>
                <a:lnTo>
                  <a:pt x="294" y="432"/>
                </a:lnTo>
                <a:lnTo>
                  <a:pt x="294" y="426"/>
                </a:lnTo>
                <a:lnTo>
                  <a:pt x="294" y="421"/>
                </a:lnTo>
                <a:lnTo>
                  <a:pt x="294" y="419"/>
                </a:lnTo>
                <a:lnTo>
                  <a:pt x="294" y="415"/>
                </a:lnTo>
                <a:lnTo>
                  <a:pt x="294" y="415"/>
                </a:lnTo>
                <a:lnTo>
                  <a:pt x="310" y="414"/>
                </a:lnTo>
                <a:lnTo>
                  <a:pt x="325" y="409"/>
                </a:lnTo>
                <a:lnTo>
                  <a:pt x="338" y="403"/>
                </a:lnTo>
                <a:lnTo>
                  <a:pt x="350" y="393"/>
                </a:lnTo>
                <a:close/>
                <a:moveTo>
                  <a:pt x="431" y="90"/>
                </a:moveTo>
                <a:lnTo>
                  <a:pt x="436" y="90"/>
                </a:lnTo>
                <a:lnTo>
                  <a:pt x="443" y="90"/>
                </a:lnTo>
                <a:lnTo>
                  <a:pt x="449" y="90"/>
                </a:lnTo>
                <a:lnTo>
                  <a:pt x="452" y="90"/>
                </a:lnTo>
                <a:lnTo>
                  <a:pt x="453" y="90"/>
                </a:lnTo>
                <a:lnTo>
                  <a:pt x="460" y="89"/>
                </a:lnTo>
                <a:lnTo>
                  <a:pt x="465" y="87"/>
                </a:lnTo>
                <a:lnTo>
                  <a:pt x="470" y="83"/>
                </a:lnTo>
                <a:lnTo>
                  <a:pt x="474" y="79"/>
                </a:lnTo>
                <a:lnTo>
                  <a:pt x="477" y="72"/>
                </a:lnTo>
                <a:lnTo>
                  <a:pt x="478" y="70"/>
                </a:lnTo>
                <a:lnTo>
                  <a:pt x="478" y="68"/>
                </a:lnTo>
                <a:lnTo>
                  <a:pt x="486" y="70"/>
                </a:lnTo>
                <a:lnTo>
                  <a:pt x="491" y="72"/>
                </a:lnTo>
                <a:lnTo>
                  <a:pt x="494" y="76"/>
                </a:lnTo>
                <a:lnTo>
                  <a:pt x="497" y="79"/>
                </a:lnTo>
                <a:lnTo>
                  <a:pt x="499" y="87"/>
                </a:lnTo>
                <a:lnTo>
                  <a:pt x="499" y="89"/>
                </a:lnTo>
                <a:lnTo>
                  <a:pt x="499" y="90"/>
                </a:lnTo>
                <a:lnTo>
                  <a:pt x="499" y="97"/>
                </a:lnTo>
                <a:lnTo>
                  <a:pt x="499" y="102"/>
                </a:lnTo>
                <a:lnTo>
                  <a:pt x="499" y="106"/>
                </a:lnTo>
                <a:lnTo>
                  <a:pt x="499" y="108"/>
                </a:lnTo>
                <a:lnTo>
                  <a:pt x="499" y="111"/>
                </a:lnTo>
                <a:lnTo>
                  <a:pt x="499" y="112"/>
                </a:lnTo>
                <a:lnTo>
                  <a:pt x="499" y="113"/>
                </a:lnTo>
                <a:lnTo>
                  <a:pt x="499" y="116"/>
                </a:lnTo>
                <a:lnTo>
                  <a:pt x="498" y="120"/>
                </a:lnTo>
                <a:lnTo>
                  <a:pt x="497" y="128"/>
                </a:lnTo>
                <a:lnTo>
                  <a:pt x="494" y="135"/>
                </a:lnTo>
                <a:lnTo>
                  <a:pt x="492" y="146"/>
                </a:lnTo>
                <a:lnTo>
                  <a:pt x="487" y="157"/>
                </a:lnTo>
                <a:lnTo>
                  <a:pt x="482" y="169"/>
                </a:lnTo>
                <a:lnTo>
                  <a:pt x="476" y="183"/>
                </a:lnTo>
                <a:lnTo>
                  <a:pt x="468" y="198"/>
                </a:lnTo>
                <a:lnTo>
                  <a:pt x="458" y="214"/>
                </a:lnTo>
                <a:lnTo>
                  <a:pt x="447" y="231"/>
                </a:lnTo>
                <a:lnTo>
                  <a:pt x="435" y="248"/>
                </a:lnTo>
                <a:lnTo>
                  <a:pt x="420" y="266"/>
                </a:lnTo>
                <a:lnTo>
                  <a:pt x="403" y="285"/>
                </a:lnTo>
                <a:lnTo>
                  <a:pt x="384" y="303"/>
                </a:lnTo>
                <a:lnTo>
                  <a:pt x="389" y="295"/>
                </a:lnTo>
                <a:lnTo>
                  <a:pt x="394" y="285"/>
                </a:lnTo>
                <a:lnTo>
                  <a:pt x="402" y="262"/>
                </a:lnTo>
                <a:lnTo>
                  <a:pt x="411" y="237"/>
                </a:lnTo>
                <a:lnTo>
                  <a:pt x="418" y="208"/>
                </a:lnTo>
                <a:lnTo>
                  <a:pt x="423" y="179"/>
                </a:lnTo>
                <a:lnTo>
                  <a:pt x="428" y="148"/>
                </a:lnTo>
                <a:lnTo>
                  <a:pt x="430" y="118"/>
                </a:lnTo>
                <a:lnTo>
                  <a:pt x="431" y="90"/>
                </a:lnTo>
                <a:close/>
                <a:moveTo>
                  <a:pt x="154" y="308"/>
                </a:moveTo>
                <a:lnTo>
                  <a:pt x="134" y="289"/>
                </a:lnTo>
                <a:lnTo>
                  <a:pt x="117" y="271"/>
                </a:lnTo>
                <a:lnTo>
                  <a:pt x="102" y="253"/>
                </a:lnTo>
                <a:lnTo>
                  <a:pt x="89" y="234"/>
                </a:lnTo>
                <a:lnTo>
                  <a:pt x="77" y="219"/>
                </a:lnTo>
                <a:lnTo>
                  <a:pt x="69" y="202"/>
                </a:lnTo>
                <a:lnTo>
                  <a:pt x="60" y="187"/>
                </a:lnTo>
                <a:lnTo>
                  <a:pt x="54" y="174"/>
                </a:lnTo>
                <a:lnTo>
                  <a:pt x="49" y="160"/>
                </a:lnTo>
                <a:lnTo>
                  <a:pt x="46" y="150"/>
                </a:lnTo>
                <a:lnTo>
                  <a:pt x="43" y="140"/>
                </a:lnTo>
                <a:lnTo>
                  <a:pt x="41" y="131"/>
                </a:lnTo>
                <a:lnTo>
                  <a:pt x="40" y="125"/>
                </a:lnTo>
                <a:lnTo>
                  <a:pt x="39" y="120"/>
                </a:lnTo>
                <a:lnTo>
                  <a:pt x="39" y="117"/>
                </a:lnTo>
                <a:lnTo>
                  <a:pt x="39" y="116"/>
                </a:lnTo>
                <a:lnTo>
                  <a:pt x="39" y="108"/>
                </a:lnTo>
                <a:lnTo>
                  <a:pt x="39" y="103"/>
                </a:lnTo>
                <a:lnTo>
                  <a:pt x="39" y="100"/>
                </a:lnTo>
                <a:lnTo>
                  <a:pt x="39" y="97"/>
                </a:lnTo>
                <a:lnTo>
                  <a:pt x="39" y="95"/>
                </a:lnTo>
                <a:lnTo>
                  <a:pt x="39" y="94"/>
                </a:lnTo>
                <a:lnTo>
                  <a:pt x="39" y="93"/>
                </a:lnTo>
                <a:lnTo>
                  <a:pt x="39" y="90"/>
                </a:lnTo>
                <a:lnTo>
                  <a:pt x="41" y="82"/>
                </a:lnTo>
                <a:lnTo>
                  <a:pt x="43" y="77"/>
                </a:lnTo>
                <a:lnTo>
                  <a:pt x="47" y="72"/>
                </a:lnTo>
                <a:lnTo>
                  <a:pt x="53" y="70"/>
                </a:lnTo>
                <a:lnTo>
                  <a:pt x="60" y="68"/>
                </a:lnTo>
                <a:lnTo>
                  <a:pt x="60" y="70"/>
                </a:lnTo>
                <a:lnTo>
                  <a:pt x="60" y="72"/>
                </a:lnTo>
                <a:lnTo>
                  <a:pt x="63" y="82"/>
                </a:lnTo>
                <a:lnTo>
                  <a:pt x="66" y="87"/>
                </a:lnTo>
                <a:lnTo>
                  <a:pt x="71" y="90"/>
                </a:lnTo>
                <a:lnTo>
                  <a:pt x="77" y="93"/>
                </a:lnTo>
                <a:lnTo>
                  <a:pt x="86" y="94"/>
                </a:lnTo>
                <a:lnTo>
                  <a:pt x="86" y="94"/>
                </a:lnTo>
                <a:lnTo>
                  <a:pt x="88" y="94"/>
                </a:lnTo>
                <a:lnTo>
                  <a:pt x="94" y="94"/>
                </a:lnTo>
                <a:lnTo>
                  <a:pt x="102" y="94"/>
                </a:lnTo>
                <a:lnTo>
                  <a:pt x="105" y="94"/>
                </a:lnTo>
                <a:lnTo>
                  <a:pt x="106" y="94"/>
                </a:lnTo>
                <a:lnTo>
                  <a:pt x="108" y="123"/>
                </a:lnTo>
                <a:lnTo>
                  <a:pt x="110" y="152"/>
                </a:lnTo>
                <a:lnTo>
                  <a:pt x="115" y="182"/>
                </a:lnTo>
                <a:lnTo>
                  <a:pt x="121" y="213"/>
                </a:lnTo>
                <a:lnTo>
                  <a:pt x="128" y="240"/>
                </a:lnTo>
                <a:lnTo>
                  <a:pt x="136" y="267"/>
                </a:lnTo>
                <a:lnTo>
                  <a:pt x="144" y="290"/>
                </a:lnTo>
                <a:lnTo>
                  <a:pt x="149" y="300"/>
                </a:lnTo>
                <a:lnTo>
                  <a:pt x="154" y="308"/>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09" name="Freeform 198"/>
          <p:cNvSpPr/>
          <p:nvPr/>
        </p:nvSpPr>
        <p:spPr>
          <a:xfrm>
            <a:off x="9420120" y="2278080"/>
            <a:ext cx="160560" cy="166680"/>
          </a:xfrm>
          <a:custGeom>
            <a:avLst/>
            <a:gdLst/>
            <a:ahLst/>
            <a:rect l="l" t="t" r="r" b="b"/>
            <a:pathLst>
              <a:path w="600" h="621">
                <a:moveTo>
                  <a:pt x="433" y="248"/>
                </a:moveTo>
                <a:lnTo>
                  <a:pt x="462" y="248"/>
                </a:lnTo>
                <a:lnTo>
                  <a:pt x="488" y="248"/>
                </a:lnTo>
                <a:lnTo>
                  <a:pt x="510" y="248"/>
                </a:lnTo>
                <a:lnTo>
                  <a:pt x="529" y="248"/>
                </a:lnTo>
                <a:lnTo>
                  <a:pt x="545" y="248"/>
                </a:lnTo>
                <a:lnTo>
                  <a:pt x="559" y="248"/>
                </a:lnTo>
                <a:lnTo>
                  <a:pt x="569" y="248"/>
                </a:lnTo>
                <a:lnTo>
                  <a:pt x="578" y="248"/>
                </a:lnTo>
                <a:lnTo>
                  <a:pt x="585" y="248"/>
                </a:lnTo>
                <a:lnTo>
                  <a:pt x="591" y="248"/>
                </a:lnTo>
                <a:lnTo>
                  <a:pt x="594" y="248"/>
                </a:lnTo>
                <a:lnTo>
                  <a:pt x="597" y="248"/>
                </a:lnTo>
                <a:lnTo>
                  <a:pt x="598" y="248"/>
                </a:lnTo>
                <a:lnTo>
                  <a:pt x="600" y="248"/>
                </a:lnTo>
                <a:lnTo>
                  <a:pt x="592" y="226"/>
                </a:lnTo>
                <a:lnTo>
                  <a:pt x="584" y="205"/>
                </a:lnTo>
                <a:lnTo>
                  <a:pt x="574" y="183"/>
                </a:lnTo>
                <a:lnTo>
                  <a:pt x="562" y="162"/>
                </a:lnTo>
                <a:lnTo>
                  <a:pt x="549" y="144"/>
                </a:lnTo>
                <a:lnTo>
                  <a:pt x="534" y="125"/>
                </a:lnTo>
                <a:lnTo>
                  <a:pt x="502" y="91"/>
                </a:lnTo>
                <a:lnTo>
                  <a:pt x="465" y="64"/>
                </a:lnTo>
                <a:lnTo>
                  <a:pt x="444" y="52"/>
                </a:lnTo>
                <a:lnTo>
                  <a:pt x="423" y="42"/>
                </a:lnTo>
                <a:lnTo>
                  <a:pt x="401" y="33"/>
                </a:lnTo>
                <a:lnTo>
                  <a:pt x="379" y="26"/>
                </a:lnTo>
                <a:lnTo>
                  <a:pt x="356" y="20"/>
                </a:lnTo>
                <a:lnTo>
                  <a:pt x="333" y="17"/>
                </a:lnTo>
                <a:lnTo>
                  <a:pt x="325" y="10"/>
                </a:lnTo>
                <a:lnTo>
                  <a:pt x="318" y="4"/>
                </a:lnTo>
                <a:lnTo>
                  <a:pt x="311" y="1"/>
                </a:lnTo>
                <a:lnTo>
                  <a:pt x="302" y="0"/>
                </a:lnTo>
                <a:lnTo>
                  <a:pt x="292" y="1"/>
                </a:lnTo>
                <a:lnTo>
                  <a:pt x="285" y="4"/>
                </a:lnTo>
                <a:lnTo>
                  <a:pt x="277" y="10"/>
                </a:lnTo>
                <a:lnTo>
                  <a:pt x="272" y="17"/>
                </a:lnTo>
                <a:lnTo>
                  <a:pt x="247" y="20"/>
                </a:lnTo>
                <a:lnTo>
                  <a:pt x="222" y="26"/>
                </a:lnTo>
                <a:lnTo>
                  <a:pt x="200" y="32"/>
                </a:lnTo>
                <a:lnTo>
                  <a:pt x="177" y="41"/>
                </a:lnTo>
                <a:lnTo>
                  <a:pt x="155" y="51"/>
                </a:lnTo>
                <a:lnTo>
                  <a:pt x="135" y="62"/>
                </a:lnTo>
                <a:lnTo>
                  <a:pt x="116" y="75"/>
                </a:lnTo>
                <a:lnTo>
                  <a:pt x="97" y="90"/>
                </a:lnTo>
                <a:lnTo>
                  <a:pt x="64" y="123"/>
                </a:lnTo>
                <a:lnTo>
                  <a:pt x="50" y="142"/>
                </a:lnTo>
                <a:lnTo>
                  <a:pt x="36" y="161"/>
                </a:lnTo>
                <a:lnTo>
                  <a:pt x="25" y="181"/>
                </a:lnTo>
                <a:lnTo>
                  <a:pt x="15" y="203"/>
                </a:lnTo>
                <a:lnTo>
                  <a:pt x="6" y="225"/>
                </a:lnTo>
                <a:lnTo>
                  <a:pt x="0" y="248"/>
                </a:lnTo>
                <a:lnTo>
                  <a:pt x="29" y="248"/>
                </a:lnTo>
                <a:lnTo>
                  <a:pt x="55" y="248"/>
                </a:lnTo>
                <a:lnTo>
                  <a:pt x="79" y="248"/>
                </a:lnTo>
                <a:lnTo>
                  <a:pt x="99" y="248"/>
                </a:lnTo>
                <a:lnTo>
                  <a:pt x="115" y="248"/>
                </a:lnTo>
                <a:lnTo>
                  <a:pt x="129" y="248"/>
                </a:lnTo>
                <a:lnTo>
                  <a:pt x="140" y="248"/>
                </a:lnTo>
                <a:lnTo>
                  <a:pt x="150" y="248"/>
                </a:lnTo>
                <a:lnTo>
                  <a:pt x="155" y="248"/>
                </a:lnTo>
                <a:lnTo>
                  <a:pt x="161" y="248"/>
                </a:lnTo>
                <a:lnTo>
                  <a:pt x="166" y="248"/>
                </a:lnTo>
                <a:lnTo>
                  <a:pt x="167" y="248"/>
                </a:lnTo>
                <a:lnTo>
                  <a:pt x="170" y="248"/>
                </a:lnTo>
                <a:lnTo>
                  <a:pt x="170" y="248"/>
                </a:lnTo>
                <a:lnTo>
                  <a:pt x="171" y="222"/>
                </a:lnTo>
                <a:lnTo>
                  <a:pt x="174" y="199"/>
                </a:lnTo>
                <a:lnTo>
                  <a:pt x="179" y="176"/>
                </a:lnTo>
                <a:lnTo>
                  <a:pt x="183" y="154"/>
                </a:lnTo>
                <a:lnTo>
                  <a:pt x="190" y="135"/>
                </a:lnTo>
                <a:lnTo>
                  <a:pt x="198" y="117"/>
                </a:lnTo>
                <a:lnTo>
                  <a:pt x="206" y="100"/>
                </a:lnTo>
                <a:lnTo>
                  <a:pt x="214" y="86"/>
                </a:lnTo>
                <a:lnTo>
                  <a:pt x="222" y="72"/>
                </a:lnTo>
                <a:lnTo>
                  <a:pt x="231" y="61"/>
                </a:lnTo>
                <a:lnTo>
                  <a:pt x="240" y="51"/>
                </a:lnTo>
                <a:lnTo>
                  <a:pt x="248" y="42"/>
                </a:lnTo>
                <a:lnTo>
                  <a:pt x="261" y="29"/>
                </a:lnTo>
                <a:lnTo>
                  <a:pt x="267" y="25"/>
                </a:lnTo>
                <a:lnTo>
                  <a:pt x="272" y="22"/>
                </a:lnTo>
                <a:lnTo>
                  <a:pt x="272" y="22"/>
                </a:lnTo>
                <a:lnTo>
                  <a:pt x="272" y="23"/>
                </a:lnTo>
                <a:lnTo>
                  <a:pt x="272" y="26"/>
                </a:lnTo>
                <a:lnTo>
                  <a:pt x="256" y="46"/>
                </a:lnTo>
                <a:lnTo>
                  <a:pt x="241" y="68"/>
                </a:lnTo>
                <a:lnTo>
                  <a:pt x="230" y="88"/>
                </a:lnTo>
                <a:lnTo>
                  <a:pt x="219" y="109"/>
                </a:lnTo>
                <a:lnTo>
                  <a:pt x="212" y="128"/>
                </a:lnTo>
                <a:lnTo>
                  <a:pt x="206" y="146"/>
                </a:lnTo>
                <a:lnTo>
                  <a:pt x="198" y="180"/>
                </a:lnTo>
                <a:lnTo>
                  <a:pt x="195" y="194"/>
                </a:lnTo>
                <a:lnTo>
                  <a:pt x="193" y="207"/>
                </a:lnTo>
                <a:lnTo>
                  <a:pt x="192" y="221"/>
                </a:lnTo>
                <a:lnTo>
                  <a:pt x="192" y="229"/>
                </a:lnTo>
                <a:lnTo>
                  <a:pt x="192" y="238"/>
                </a:lnTo>
                <a:lnTo>
                  <a:pt x="192" y="244"/>
                </a:lnTo>
                <a:lnTo>
                  <a:pt x="192" y="248"/>
                </a:lnTo>
                <a:lnTo>
                  <a:pt x="192" y="248"/>
                </a:lnTo>
                <a:lnTo>
                  <a:pt x="208" y="248"/>
                </a:lnTo>
                <a:lnTo>
                  <a:pt x="221" y="248"/>
                </a:lnTo>
                <a:lnTo>
                  <a:pt x="232" y="248"/>
                </a:lnTo>
                <a:lnTo>
                  <a:pt x="243" y="248"/>
                </a:lnTo>
                <a:lnTo>
                  <a:pt x="251" y="248"/>
                </a:lnTo>
                <a:lnTo>
                  <a:pt x="259" y="248"/>
                </a:lnTo>
                <a:lnTo>
                  <a:pt x="269" y="248"/>
                </a:lnTo>
                <a:lnTo>
                  <a:pt x="275" y="248"/>
                </a:lnTo>
                <a:lnTo>
                  <a:pt x="279" y="248"/>
                </a:lnTo>
                <a:lnTo>
                  <a:pt x="279" y="248"/>
                </a:lnTo>
                <a:lnTo>
                  <a:pt x="280" y="248"/>
                </a:lnTo>
                <a:lnTo>
                  <a:pt x="280" y="276"/>
                </a:lnTo>
                <a:lnTo>
                  <a:pt x="280" y="299"/>
                </a:lnTo>
                <a:lnTo>
                  <a:pt x="280" y="322"/>
                </a:lnTo>
                <a:lnTo>
                  <a:pt x="280" y="344"/>
                </a:lnTo>
                <a:lnTo>
                  <a:pt x="280" y="364"/>
                </a:lnTo>
                <a:lnTo>
                  <a:pt x="280" y="383"/>
                </a:lnTo>
                <a:lnTo>
                  <a:pt x="280" y="415"/>
                </a:lnTo>
                <a:lnTo>
                  <a:pt x="280" y="444"/>
                </a:lnTo>
                <a:lnTo>
                  <a:pt x="280" y="467"/>
                </a:lnTo>
                <a:lnTo>
                  <a:pt x="280" y="486"/>
                </a:lnTo>
                <a:lnTo>
                  <a:pt x="280" y="501"/>
                </a:lnTo>
                <a:lnTo>
                  <a:pt x="280" y="514"/>
                </a:lnTo>
                <a:lnTo>
                  <a:pt x="280" y="522"/>
                </a:lnTo>
                <a:lnTo>
                  <a:pt x="280" y="528"/>
                </a:lnTo>
                <a:lnTo>
                  <a:pt x="280" y="533"/>
                </a:lnTo>
                <a:lnTo>
                  <a:pt x="280" y="536"/>
                </a:lnTo>
                <a:lnTo>
                  <a:pt x="280" y="537"/>
                </a:lnTo>
                <a:lnTo>
                  <a:pt x="280" y="537"/>
                </a:lnTo>
                <a:lnTo>
                  <a:pt x="280" y="543"/>
                </a:lnTo>
                <a:lnTo>
                  <a:pt x="280" y="546"/>
                </a:lnTo>
                <a:lnTo>
                  <a:pt x="280" y="546"/>
                </a:lnTo>
                <a:lnTo>
                  <a:pt x="280" y="546"/>
                </a:lnTo>
                <a:lnTo>
                  <a:pt x="280" y="553"/>
                </a:lnTo>
                <a:lnTo>
                  <a:pt x="280" y="559"/>
                </a:lnTo>
                <a:lnTo>
                  <a:pt x="280" y="563"/>
                </a:lnTo>
                <a:lnTo>
                  <a:pt x="280" y="566"/>
                </a:lnTo>
                <a:lnTo>
                  <a:pt x="280" y="567"/>
                </a:lnTo>
                <a:lnTo>
                  <a:pt x="280" y="567"/>
                </a:lnTo>
                <a:lnTo>
                  <a:pt x="280" y="579"/>
                </a:lnTo>
                <a:lnTo>
                  <a:pt x="283" y="589"/>
                </a:lnTo>
                <a:lnTo>
                  <a:pt x="288" y="598"/>
                </a:lnTo>
                <a:lnTo>
                  <a:pt x="295" y="605"/>
                </a:lnTo>
                <a:lnTo>
                  <a:pt x="302" y="612"/>
                </a:lnTo>
                <a:lnTo>
                  <a:pt x="311" y="617"/>
                </a:lnTo>
                <a:lnTo>
                  <a:pt x="321" y="620"/>
                </a:lnTo>
                <a:lnTo>
                  <a:pt x="333" y="621"/>
                </a:lnTo>
                <a:lnTo>
                  <a:pt x="341" y="620"/>
                </a:lnTo>
                <a:lnTo>
                  <a:pt x="351" y="617"/>
                </a:lnTo>
                <a:lnTo>
                  <a:pt x="360" y="612"/>
                </a:lnTo>
                <a:lnTo>
                  <a:pt x="369" y="605"/>
                </a:lnTo>
                <a:lnTo>
                  <a:pt x="375" y="598"/>
                </a:lnTo>
                <a:lnTo>
                  <a:pt x="380" y="589"/>
                </a:lnTo>
                <a:lnTo>
                  <a:pt x="383" y="579"/>
                </a:lnTo>
                <a:lnTo>
                  <a:pt x="385" y="567"/>
                </a:lnTo>
                <a:lnTo>
                  <a:pt x="385" y="562"/>
                </a:lnTo>
                <a:lnTo>
                  <a:pt x="385" y="556"/>
                </a:lnTo>
                <a:lnTo>
                  <a:pt x="385" y="551"/>
                </a:lnTo>
                <a:lnTo>
                  <a:pt x="385" y="549"/>
                </a:lnTo>
                <a:lnTo>
                  <a:pt x="385" y="547"/>
                </a:lnTo>
                <a:lnTo>
                  <a:pt x="385" y="546"/>
                </a:lnTo>
                <a:lnTo>
                  <a:pt x="372" y="546"/>
                </a:lnTo>
                <a:lnTo>
                  <a:pt x="362" y="546"/>
                </a:lnTo>
                <a:lnTo>
                  <a:pt x="354" y="546"/>
                </a:lnTo>
                <a:lnTo>
                  <a:pt x="350" y="546"/>
                </a:lnTo>
                <a:lnTo>
                  <a:pt x="347" y="546"/>
                </a:lnTo>
                <a:lnTo>
                  <a:pt x="346" y="546"/>
                </a:lnTo>
                <a:lnTo>
                  <a:pt x="346" y="546"/>
                </a:lnTo>
                <a:lnTo>
                  <a:pt x="346" y="551"/>
                </a:lnTo>
                <a:lnTo>
                  <a:pt x="346" y="554"/>
                </a:lnTo>
                <a:lnTo>
                  <a:pt x="346" y="554"/>
                </a:lnTo>
                <a:lnTo>
                  <a:pt x="346" y="554"/>
                </a:lnTo>
                <a:lnTo>
                  <a:pt x="346" y="563"/>
                </a:lnTo>
                <a:lnTo>
                  <a:pt x="346" y="566"/>
                </a:lnTo>
                <a:lnTo>
                  <a:pt x="346" y="567"/>
                </a:lnTo>
                <a:lnTo>
                  <a:pt x="346" y="567"/>
                </a:lnTo>
                <a:lnTo>
                  <a:pt x="344" y="575"/>
                </a:lnTo>
                <a:lnTo>
                  <a:pt x="343" y="581"/>
                </a:lnTo>
                <a:lnTo>
                  <a:pt x="338" y="585"/>
                </a:lnTo>
                <a:lnTo>
                  <a:pt x="333" y="586"/>
                </a:lnTo>
                <a:lnTo>
                  <a:pt x="325" y="585"/>
                </a:lnTo>
                <a:lnTo>
                  <a:pt x="320" y="581"/>
                </a:lnTo>
                <a:lnTo>
                  <a:pt x="317" y="575"/>
                </a:lnTo>
                <a:lnTo>
                  <a:pt x="315" y="567"/>
                </a:lnTo>
                <a:lnTo>
                  <a:pt x="315" y="560"/>
                </a:lnTo>
                <a:lnTo>
                  <a:pt x="315" y="557"/>
                </a:lnTo>
                <a:lnTo>
                  <a:pt x="315" y="556"/>
                </a:lnTo>
                <a:lnTo>
                  <a:pt x="315" y="554"/>
                </a:lnTo>
                <a:lnTo>
                  <a:pt x="315" y="550"/>
                </a:lnTo>
                <a:lnTo>
                  <a:pt x="315" y="547"/>
                </a:lnTo>
                <a:lnTo>
                  <a:pt x="315" y="547"/>
                </a:lnTo>
                <a:lnTo>
                  <a:pt x="315" y="546"/>
                </a:lnTo>
                <a:lnTo>
                  <a:pt x="315" y="528"/>
                </a:lnTo>
                <a:lnTo>
                  <a:pt x="315" y="514"/>
                </a:lnTo>
                <a:lnTo>
                  <a:pt x="315" y="504"/>
                </a:lnTo>
                <a:lnTo>
                  <a:pt x="315" y="496"/>
                </a:lnTo>
                <a:lnTo>
                  <a:pt x="315" y="492"/>
                </a:lnTo>
                <a:lnTo>
                  <a:pt x="315" y="491"/>
                </a:lnTo>
                <a:lnTo>
                  <a:pt x="315" y="489"/>
                </a:lnTo>
                <a:lnTo>
                  <a:pt x="315" y="447"/>
                </a:lnTo>
                <a:lnTo>
                  <a:pt x="315" y="411"/>
                </a:lnTo>
                <a:lnTo>
                  <a:pt x="315" y="377"/>
                </a:lnTo>
                <a:lnTo>
                  <a:pt x="315" y="350"/>
                </a:lnTo>
                <a:lnTo>
                  <a:pt x="315" y="326"/>
                </a:lnTo>
                <a:lnTo>
                  <a:pt x="315" y="308"/>
                </a:lnTo>
                <a:lnTo>
                  <a:pt x="315" y="292"/>
                </a:lnTo>
                <a:lnTo>
                  <a:pt x="315" y="279"/>
                </a:lnTo>
                <a:lnTo>
                  <a:pt x="315" y="268"/>
                </a:lnTo>
                <a:lnTo>
                  <a:pt x="315" y="261"/>
                </a:lnTo>
                <a:lnTo>
                  <a:pt x="315" y="257"/>
                </a:lnTo>
                <a:lnTo>
                  <a:pt x="315" y="252"/>
                </a:lnTo>
                <a:lnTo>
                  <a:pt x="315" y="250"/>
                </a:lnTo>
                <a:lnTo>
                  <a:pt x="315" y="248"/>
                </a:lnTo>
                <a:lnTo>
                  <a:pt x="331" y="248"/>
                </a:lnTo>
                <a:lnTo>
                  <a:pt x="347" y="248"/>
                </a:lnTo>
                <a:lnTo>
                  <a:pt x="359" y="248"/>
                </a:lnTo>
                <a:lnTo>
                  <a:pt x="370" y="248"/>
                </a:lnTo>
                <a:lnTo>
                  <a:pt x="379" y="248"/>
                </a:lnTo>
                <a:lnTo>
                  <a:pt x="388" y="248"/>
                </a:lnTo>
                <a:lnTo>
                  <a:pt x="399" y="248"/>
                </a:lnTo>
                <a:lnTo>
                  <a:pt x="405" y="248"/>
                </a:lnTo>
                <a:lnTo>
                  <a:pt x="410" y="248"/>
                </a:lnTo>
                <a:lnTo>
                  <a:pt x="411" y="248"/>
                </a:lnTo>
                <a:lnTo>
                  <a:pt x="411" y="248"/>
                </a:lnTo>
                <a:lnTo>
                  <a:pt x="411" y="248"/>
                </a:lnTo>
                <a:lnTo>
                  <a:pt x="411" y="244"/>
                </a:lnTo>
                <a:lnTo>
                  <a:pt x="411" y="238"/>
                </a:lnTo>
                <a:lnTo>
                  <a:pt x="411" y="229"/>
                </a:lnTo>
                <a:lnTo>
                  <a:pt x="411" y="221"/>
                </a:lnTo>
                <a:lnTo>
                  <a:pt x="411" y="207"/>
                </a:lnTo>
                <a:lnTo>
                  <a:pt x="408" y="194"/>
                </a:lnTo>
                <a:lnTo>
                  <a:pt x="407" y="180"/>
                </a:lnTo>
                <a:lnTo>
                  <a:pt x="398" y="146"/>
                </a:lnTo>
                <a:lnTo>
                  <a:pt x="391" y="128"/>
                </a:lnTo>
                <a:lnTo>
                  <a:pt x="383" y="109"/>
                </a:lnTo>
                <a:lnTo>
                  <a:pt x="373" y="88"/>
                </a:lnTo>
                <a:lnTo>
                  <a:pt x="362" y="68"/>
                </a:lnTo>
                <a:lnTo>
                  <a:pt x="349" y="46"/>
                </a:lnTo>
                <a:lnTo>
                  <a:pt x="333" y="26"/>
                </a:lnTo>
                <a:lnTo>
                  <a:pt x="333" y="23"/>
                </a:lnTo>
                <a:lnTo>
                  <a:pt x="333" y="22"/>
                </a:lnTo>
                <a:lnTo>
                  <a:pt x="333" y="22"/>
                </a:lnTo>
                <a:lnTo>
                  <a:pt x="335" y="25"/>
                </a:lnTo>
                <a:lnTo>
                  <a:pt x="341" y="29"/>
                </a:lnTo>
                <a:lnTo>
                  <a:pt x="356" y="42"/>
                </a:lnTo>
                <a:lnTo>
                  <a:pt x="363" y="51"/>
                </a:lnTo>
                <a:lnTo>
                  <a:pt x="372" y="61"/>
                </a:lnTo>
                <a:lnTo>
                  <a:pt x="380" y="72"/>
                </a:lnTo>
                <a:lnTo>
                  <a:pt x="389" y="86"/>
                </a:lnTo>
                <a:lnTo>
                  <a:pt x="398" y="100"/>
                </a:lnTo>
                <a:lnTo>
                  <a:pt x="405" y="117"/>
                </a:lnTo>
                <a:lnTo>
                  <a:pt x="412" y="135"/>
                </a:lnTo>
                <a:lnTo>
                  <a:pt x="420" y="154"/>
                </a:lnTo>
                <a:lnTo>
                  <a:pt x="425" y="176"/>
                </a:lnTo>
                <a:lnTo>
                  <a:pt x="430" y="199"/>
                </a:lnTo>
                <a:lnTo>
                  <a:pt x="431" y="222"/>
                </a:lnTo>
                <a:lnTo>
                  <a:pt x="433" y="248"/>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10" name="Freeform 199"/>
          <p:cNvSpPr/>
          <p:nvPr/>
        </p:nvSpPr>
        <p:spPr>
          <a:xfrm>
            <a:off x="8369280" y="1440000"/>
            <a:ext cx="208080" cy="168120"/>
          </a:xfrm>
          <a:custGeom>
            <a:avLst/>
            <a:gdLst/>
            <a:ahLst/>
            <a:rect l="l" t="t" r="r" b="b"/>
            <a:pathLst>
              <a:path w="778" h="628">
                <a:moveTo>
                  <a:pt x="397" y="0"/>
                </a:moveTo>
                <a:lnTo>
                  <a:pt x="361" y="31"/>
                </a:lnTo>
                <a:lnTo>
                  <a:pt x="327" y="60"/>
                </a:lnTo>
                <a:lnTo>
                  <a:pt x="294" y="88"/>
                </a:lnTo>
                <a:lnTo>
                  <a:pt x="265" y="114"/>
                </a:lnTo>
                <a:lnTo>
                  <a:pt x="237" y="137"/>
                </a:lnTo>
                <a:lnTo>
                  <a:pt x="213" y="159"/>
                </a:lnTo>
                <a:lnTo>
                  <a:pt x="189" y="180"/>
                </a:lnTo>
                <a:lnTo>
                  <a:pt x="168" y="198"/>
                </a:lnTo>
                <a:lnTo>
                  <a:pt x="147" y="216"/>
                </a:lnTo>
                <a:lnTo>
                  <a:pt x="129" y="232"/>
                </a:lnTo>
                <a:lnTo>
                  <a:pt x="96" y="260"/>
                </a:lnTo>
                <a:lnTo>
                  <a:pt x="70" y="283"/>
                </a:lnTo>
                <a:lnTo>
                  <a:pt x="49" y="300"/>
                </a:lnTo>
                <a:lnTo>
                  <a:pt x="33" y="315"/>
                </a:lnTo>
                <a:lnTo>
                  <a:pt x="20" y="326"/>
                </a:lnTo>
                <a:lnTo>
                  <a:pt x="12" y="333"/>
                </a:lnTo>
                <a:lnTo>
                  <a:pt x="5" y="339"/>
                </a:lnTo>
                <a:lnTo>
                  <a:pt x="2" y="341"/>
                </a:lnTo>
                <a:lnTo>
                  <a:pt x="0" y="343"/>
                </a:lnTo>
                <a:lnTo>
                  <a:pt x="0" y="344"/>
                </a:lnTo>
                <a:lnTo>
                  <a:pt x="0" y="346"/>
                </a:lnTo>
                <a:lnTo>
                  <a:pt x="5" y="351"/>
                </a:lnTo>
                <a:lnTo>
                  <a:pt x="10" y="356"/>
                </a:lnTo>
                <a:lnTo>
                  <a:pt x="18" y="361"/>
                </a:lnTo>
                <a:lnTo>
                  <a:pt x="30" y="364"/>
                </a:lnTo>
                <a:lnTo>
                  <a:pt x="43" y="364"/>
                </a:lnTo>
                <a:lnTo>
                  <a:pt x="51" y="361"/>
                </a:lnTo>
                <a:lnTo>
                  <a:pt x="59" y="357"/>
                </a:lnTo>
                <a:lnTo>
                  <a:pt x="67" y="351"/>
                </a:lnTo>
                <a:lnTo>
                  <a:pt x="77" y="344"/>
                </a:lnTo>
                <a:lnTo>
                  <a:pt x="87" y="336"/>
                </a:lnTo>
                <a:lnTo>
                  <a:pt x="93" y="330"/>
                </a:lnTo>
                <a:lnTo>
                  <a:pt x="99" y="325"/>
                </a:lnTo>
                <a:lnTo>
                  <a:pt x="103" y="322"/>
                </a:lnTo>
                <a:lnTo>
                  <a:pt x="106" y="318"/>
                </a:lnTo>
                <a:lnTo>
                  <a:pt x="106" y="318"/>
                </a:lnTo>
                <a:lnTo>
                  <a:pt x="106" y="344"/>
                </a:lnTo>
                <a:lnTo>
                  <a:pt x="106" y="370"/>
                </a:lnTo>
                <a:lnTo>
                  <a:pt x="106" y="414"/>
                </a:lnTo>
                <a:lnTo>
                  <a:pt x="106" y="453"/>
                </a:lnTo>
                <a:lnTo>
                  <a:pt x="106" y="486"/>
                </a:lnTo>
                <a:lnTo>
                  <a:pt x="106" y="513"/>
                </a:lnTo>
                <a:lnTo>
                  <a:pt x="106" y="537"/>
                </a:lnTo>
                <a:lnTo>
                  <a:pt x="106" y="557"/>
                </a:lnTo>
                <a:lnTo>
                  <a:pt x="106" y="572"/>
                </a:lnTo>
                <a:lnTo>
                  <a:pt x="106" y="583"/>
                </a:lnTo>
                <a:lnTo>
                  <a:pt x="106" y="593"/>
                </a:lnTo>
                <a:lnTo>
                  <a:pt x="106" y="599"/>
                </a:lnTo>
                <a:lnTo>
                  <a:pt x="106" y="602"/>
                </a:lnTo>
                <a:lnTo>
                  <a:pt x="106" y="606"/>
                </a:lnTo>
                <a:lnTo>
                  <a:pt x="106" y="607"/>
                </a:lnTo>
                <a:lnTo>
                  <a:pt x="106" y="607"/>
                </a:lnTo>
                <a:lnTo>
                  <a:pt x="106" y="609"/>
                </a:lnTo>
                <a:lnTo>
                  <a:pt x="106" y="611"/>
                </a:lnTo>
                <a:lnTo>
                  <a:pt x="106" y="617"/>
                </a:lnTo>
                <a:lnTo>
                  <a:pt x="108" y="622"/>
                </a:lnTo>
                <a:lnTo>
                  <a:pt x="111" y="625"/>
                </a:lnTo>
                <a:lnTo>
                  <a:pt x="116" y="627"/>
                </a:lnTo>
                <a:lnTo>
                  <a:pt x="122" y="628"/>
                </a:lnTo>
                <a:lnTo>
                  <a:pt x="127" y="628"/>
                </a:lnTo>
                <a:lnTo>
                  <a:pt x="137" y="628"/>
                </a:lnTo>
                <a:lnTo>
                  <a:pt x="147" y="628"/>
                </a:lnTo>
                <a:lnTo>
                  <a:pt x="161" y="628"/>
                </a:lnTo>
                <a:lnTo>
                  <a:pt x="176" y="628"/>
                </a:lnTo>
                <a:lnTo>
                  <a:pt x="192" y="628"/>
                </a:lnTo>
                <a:lnTo>
                  <a:pt x="226" y="628"/>
                </a:lnTo>
                <a:lnTo>
                  <a:pt x="259" y="628"/>
                </a:lnTo>
                <a:lnTo>
                  <a:pt x="275" y="628"/>
                </a:lnTo>
                <a:lnTo>
                  <a:pt x="288" y="628"/>
                </a:lnTo>
                <a:lnTo>
                  <a:pt x="299" y="628"/>
                </a:lnTo>
                <a:lnTo>
                  <a:pt x="307" y="628"/>
                </a:lnTo>
                <a:lnTo>
                  <a:pt x="314" y="628"/>
                </a:lnTo>
                <a:lnTo>
                  <a:pt x="315" y="628"/>
                </a:lnTo>
                <a:lnTo>
                  <a:pt x="315" y="599"/>
                </a:lnTo>
                <a:lnTo>
                  <a:pt x="315" y="575"/>
                </a:lnTo>
                <a:lnTo>
                  <a:pt x="315" y="552"/>
                </a:lnTo>
                <a:lnTo>
                  <a:pt x="315" y="534"/>
                </a:lnTo>
                <a:lnTo>
                  <a:pt x="315" y="518"/>
                </a:lnTo>
                <a:lnTo>
                  <a:pt x="315" y="505"/>
                </a:lnTo>
                <a:lnTo>
                  <a:pt x="315" y="495"/>
                </a:lnTo>
                <a:lnTo>
                  <a:pt x="315" y="486"/>
                </a:lnTo>
                <a:lnTo>
                  <a:pt x="315" y="479"/>
                </a:lnTo>
                <a:lnTo>
                  <a:pt x="315" y="474"/>
                </a:lnTo>
                <a:lnTo>
                  <a:pt x="315" y="468"/>
                </a:lnTo>
                <a:lnTo>
                  <a:pt x="315" y="466"/>
                </a:lnTo>
                <a:lnTo>
                  <a:pt x="315" y="466"/>
                </a:lnTo>
                <a:lnTo>
                  <a:pt x="315" y="464"/>
                </a:lnTo>
                <a:lnTo>
                  <a:pt x="315" y="461"/>
                </a:lnTo>
                <a:lnTo>
                  <a:pt x="319" y="453"/>
                </a:lnTo>
                <a:lnTo>
                  <a:pt x="322" y="448"/>
                </a:lnTo>
                <a:lnTo>
                  <a:pt x="325" y="445"/>
                </a:lnTo>
                <a:lnTo>
                  <a:pt x="332" y="442"/>
                </a:lnTo>
                <a:lnTo>
                  <a:pt x="340" y="440"/>
                </a:lnTo>
                <a:lnTo>
                  <a:pt x="354" y="440"/>
                </a:lnTo>
                <a:lnTo>
                  <a:pt x="367" y="440"/>
                </a:lnTo>
                <a:lnTo>
                  <a:pt x="379" y="440"/>
                </a:lnTo>
                <a:lnTo>
                  <a:pt x="387" y="440"/>
                </a:lnTo>
                <a:lnTo>
                  <a:pt x="401" y="440"/>
                </a:lnTo>
                <a:lnTo>
                  <a:pt x="411" y="440"/>
                </a:lnTo>
                <a:lnTo>
                  <a:pt x="418" y="440"/>
                </a:lnTo>
                <a:lnTo>
                  <a:pt x="421" y="440"/>
                </a:lnTo>
                <a:lnTo>
                  <a:pt x="421" y="440"/>
                </a:lnTo>
                <a:lnTo>
                  <a:pt x="421" y="440"/>
                </a:lnTo>
                <a:lnTo>
                  <a:pt x="432" y="442"/>
                </a:lnTo>
                <a:lnTo>
                  <a:pt x="439" y="445"/>
                </a:lnTo>
                <a:lnTo>
                  <a:pt x="445" y="448"/>
                </a:lnTo>
                <a:lnTo>
                  <a:pt x="449" y="453"/>
                </a:lnTo>
                <a:lnTo>
                  <a:pt x="452" y="461"/>
                </a:lnTo>
                <a:lnTo>
                  <a:pt x="452" y="464"/>
                </a:lnTo>
                <a:lnTo>
                  <a:pt x="452" y="466"/>
                </a:lnTo>
                <a:lnTo>
                  <a:pt x="452" y="494"/>
                </a:lnTo>
                <a:lnTo>
                  <a:pt x="450" y="520"/>
                </a:lnTo>
                <a:lnTo>
                  <a:pt x="450" y="541"/>
                </a:lnTo>
                <a:lnTo>
                  <a:pt x="449" y="560"/>
                </a:lnTo>
                <a:lnTo>
                  <a:pt x="449" y="575"/>
                </a:lnTo>
                <a:lnTo>
                  <a:pt x="449" y="588"/>
                </a:lnTo>
                <a:lnTo>
                  <a:pt x="449" y="599"/>
                </a:lnTo>
                <a:lnTo>
                  <a:pt x="449" y="607"/>
                </a:lnTo>
                <a:lnTo>
                  <a:pt x="447" y="614"/>
                </a:lnTo>
                <a:lnTo>
                  <a:pt x="447" y="619"/>
                </a:lnTo>
                <a:lnTo>
                  <a:pt x="447" y="625"/>
                </a:lnTo>
                <a:lnTo>
                  <a:pt x="447" y="627"/>
                </a:lnTo>
                <a:lnTo>
                  <a:pt x="447" y="628"/>
                </a:lnTo>
                <a:lnTo>
                  <a:pt x="449" y="628"/>
                </a:lnTo>
                <a:lnTo>
                  <a:pt x="455" y="628"/>
                </a:lnTo>
                <a:lnTo>
                  <a:pt x="463" y="628"/>
                </a:lnTo>
                <a:lnTo>
                  <a:pt x="473" y="628"/>
                </a:lnTo>
                <a:lnTo>
                  <a:pt x="487" y="628"/>
                </a:lnTo>
                <a:lnTo>
                  <a:pt x="502" y="628"/>
                </a:lnTo>
                <a:lnTo>
                  <a:pt x="535" y="628"/>
                </a:lnTo>
                <a:lnTo>
                  <a:pt x="569" y="628"/>
                </a:lnTo>
                <a:lnTo>
                  <a:pt x="599" y="628"/>
                </a:lnTo>
                <a:lnTo>
                  <a:pt x="612" y="628"/>
                </a:lnTo>
                <a:lnTo>
                  <a:pt x="624" y="628"/>
                </a:lnTo>
                <a:lnTo>
                  <a:pt x="634" y="628"/>
                </a:lnTo>
                <a:lnTo>
                  <a:pt x="640" y="628"/>
                </a:lnTo>
                <a:lnTo>
                  <a:pt x="647" y="627"/>
                </a:lnTo>
                <a:lnTo>
                  <a:pt x="651" y="623"/>
                </a:lnTo>
                <a:lnTo>
                  <a:pt x="658" y="615"/>
                </a:lnTo>
                <a:lnTo>
                  <a:pt x="660" y="607"/>
                </a:lnTo>
                <a:lnTo>
                  <a:pt x="661" y="604"/>
                </a:lnTo>
                <a:lnTo>
                  <a:pt x="661" y="602"/>
                </a:lnTo>
                <a:lnTo>
                  <a:pt x="661" y="576"/>
                </a:lnTo>
                <a:lnTo>
                  <a:pt x="661" y="552"/>
                </a:lnTo>
                <a:lnTo>
                  <a:pt x="661" y="507"/>
                </a:lnTo>
                <a:lnTo>
                  <a:pt x="661" y="469"/>
                </a:lnTo>
                <a:lnTo>
                  <a:pt x="661" y="435"/>
                </a:lnTo>
                <a:lnTo>
                  <a:pt x="661" y="408"/>
                </a:lnTo>
                <a:lnTo>
                  <a:pt x="661" y="385"/>
                </a:lnTo>
                <a:lnTo>
                  <a:pt x="661" y="365"/>
                </a:lnTo>
                <a:lnTo>
                  <a:pt x="661" y="349"/>
                </a:lnTo>
                <a:lnTo>
                  <a:pt x="661" y="338"/>
                </a:lnTo>
                <a:lnTo>
                  <a:pt x="661" y="328"/>
                </a:lnTo>
                <a:lnTo>
                  <a:pt x="661" y="323"/>
                </a:lnTo>
                <a:lnTo>
                  <a:pt x="661" y="318"/>
                </a:lnTo>
                <a:lnTo>
                  <a:pt x="661" y="315"/>
                </a:lnTo>
                <a:lnTo>
                  <a:pt x="661" y="313"/>
                </a:lnTo>
                <a:lnTo>
                  <a:pt x="661" y="313"/>
                </a:lnTo>
                <a:lnTo>
                  <a:pt x="671" y="323"/>
                </a:lnTo>
                <a:lnTo>
                  <a:pt x="679" y="331"/>
                </a:lnTo>
                <a:lnTo>
                  <a:pt x="684" y="336"/>
                </a:lnTo>
                <a:lnTo>
                  <a:pt x="687" y="341"/>
                </a:lnTo>
                <a:lnTo>
                  <a:pt x="690" y="344"/>
                </a:lnTo>
                <a:lnTo>
                  <a:pt x="690" y="344"/>
                </a:lnTo>
                <a:lnTo>
                  <a:pt x="702" y="351"/>
                </a:lnTo>
                <a:lnTo>
                  <a:pt x="713" y="356"/>
                </a:lnTo>
                <a:lnTo>
                  <a:pt x="731" y="361"/>
                </a:lnTo>
                <a:lnTo>
                  <a:pt x="746" y="362"/>
                </a:lnTo>
                <a:lnTo>
                  <a:pt x="757" y="359"/>
                </a:lnTo>
                <a:lnTo>
                  <a:pt x="767" y="354"/>
                </a:lnTo>
                <a:lnTo>
                  <a:pt x="773" y="349"/>
                </a:lnTo>
                <a:lnTo>
                  <a:pt x="776" y="346"/>
                </a:lnTo>
                <a:lnTo>
                  <a:pt x="778" y="344"/>
                </a:lnTo>
                <a:lnTo>
                  <a:pt x="397" y="0"/>
                </a:lnTo>
                <a:close/>
                <a:moveTo>
                  <a:pt x="340" y="297"/>
                </a:moveTo>
                <a:lnTo>
                  <a:pt x="340" y="287"/>
                </a:lnTo>
                <a:lnTo>
                  <a:pt x="343" y="281"/>
                </a:lnTo>
                <a:lnTo>
                  <a:pt x="353" y="266"/>
                </a:lnTo>
                <a:lnTo>
                  <a:pt x="366" y="258"/>
                </a:lnTo>
                <a:lnTo>
                  <a:pt x="375" y="255"/>
                </a:lnTo>
                <a:lnTo>
                  <a:pt x="384" y="255"/>
                </a:lnTo>
                <a:lnTo>
                  <a:pt x="393" y="255"/>
                </a:lnTo>
                <a:lnTo>
                  <a:pt x="401" y="258"/>
                </a:lnTo>
                <a:lnTo>
                  <a:pt x="416" y="266"/>
                </a:lnTo>
                <a:lnTo>
                  <a:pt x="424" y="281"/>
                </a:lnTo>
                <a:lnTo>
                  <a:pt x="427" y="287"/>
                </a:lnTo>
                <a:lnTo>
                  <a:pt x="429" y="297"/>
                </a:lnTo>
                <a:lnTo>
                  <a:pt x="427" y="305"/>
                </a:lnTo>
                <a:lnTo>
                  <a:pt x="424" y="313"/>
                </a:lnTo>
                <a:lnTo>
                  <a:pt x="416" y="326"/>
                </a:lnTo>
                <a:lnTo>
                  <a:pt x="401" y="336"/>
                </a:lnTo>
                <a:lnTo>
                  <a:pt x="393" y="338"/>
                </a:lnTo>
                <a:lnTo>
                  <a:pt x="384" y="339"/>
                </a:lnTo>
                <a:lnTo>
                  <a:pt x="375" y="338"/>
                </a:lnTo>
                <a:lnTo>
                  <a:pt x="366" y="336"/>
                </a:lnTo>
                <a:lnTo>
                  <a:pt x="353" y="326"/>
                </a:lnTo>
                <a:lnTo>
                  <a:pt x="343" y="313"/>
                </a:lnTo>
                <a:lnTo>
                  <a:pt x="340" y="305"/>
                </a:lnTo>
                <a:lnTo>
                  <a:pt x="340" y="297"/>
                </a:lnTo>
                <a:close/>
                <a:moveTo>
                  <a:pt x="689" y="234"/>
                </a:moveTo>
                <a:lnTo>
                  <a:pt x="689" y="76"/>
                </a:lnTo>
                <a:lnTo>
                  <a:pt x="612" y="76"/>
                </a:lnTo>
                <a:lnTo>
                  <a:pt x="612" y="166"/>
                </a:lnTo>
                <a:lnTo>
                  <a:pt x="689" y="234"/>
                </a:lnTo>
                <a:close/>
                <a:moveTo>
                  <a:pt x="387" y="380"/>
                </a:moveTo>
                <a:lnTo>
                  <a:pt x="369" y="378"/>
                </a:lnTo>
                <a:lnTo>
                  <a:pt x="353" y="374"/>
                </a:lnTo>
                <a:lnTo>
                  <a:pt x="338" y="365"/>
                </a:lnTo>
                <a:lnTo>
                  <a:pt x="325" y="356"/>
                </a:lnTo>
                <a:lnTo>
                  <a:pt x="315" y="344"/>
                </a:lnTo>
                <a:lnTo>
                  <a:pt x="307" y="330"/>
                </a:lnTo>
                <a:lnTo>
                  <a:pt x="301" y="315"/>
                </a:lnTo>
                <a:lnTo>
                  <a:pt x="299" y="299"/>
                </a:lnTo>
                <a:lnTo>
                  <a:pt x="301" y="281"/>
                </a:lnTo>
                <a:lnTo>
                  <a:pt x="307" y="266"/>
                </a:lnTo>
                <a:lnTo>
                  <a:pt x="315" y="252"/>
                </a:lnTo>
                <a:lnTo>
                  <a:pt x="325" y="239"/>
                </a:lnTo>
                <a:lnTo>
                  <a:pt x="338" y="227"/>
                </a:lnTo>
                <a:lnTo>
                  <a:pt x="353" y="219"/>
                </a:lnTo>
                <a:lnTo>
                  <a:pt x="369" y="214"/>
                </a:lnTo>
                <a:lnTo>
                  <a:pt x="387" y="213"/>
                </a:lnTo>
                <a:lnTo>
                  <a:pt x="403" y="214"/>
                </a:lnTo>
                <a:lnTo>
                  <a:pt x="418" y="219"/>
                </a:lnTo>
                <a:lnTo>
                  <a:pt x="432" y="227"/>
                </a:lnTo>
                <a:lnTo>
                  <a:pt x="444" y="239"/>
                </a:lnTo>
                <a:lnTo>
                  <a:pt x="453" y="252"/>
                </a:lnTo>
                <a:lnTo>
                  <a:pt x="461" y="266"/>
                </a:lnTo>
                <a:lnTo>
                  <a:pt x="466" y="281"/>
                </a:lnTo>
                <a:lnTo>
                  <a:pt x="468" y="299"/>
                </a:lnTo>
                <a:lnTo>
                  <a:pt x="466" y="315"/>
                </a:lnTo>
                <a:lnTo>
                  <a:pt x="461" y="330"/>
                </a:lnTo>
                <a:lnTo>
                  <a:pt x="453" y="344"/>
                </a:lnTo>
                <a:lnTo>
                  <a:pt x="444" y="356"/>
                </a:lnTo>
                <a:lnTo>
                  <a:pt x="432" y="365"/>
                </a:lnTo>
                <a:lnTo>
                  <a:pt x="418" y="374"/>
                </a:lnTo>
                <a:lnTo>
                  <a:pt x="403" y="378"/>
                </a:lnTo>
                <a:lnTo>
                  <a:pt x="387" y="38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11" name="Freeform 200"/>
          <p:cNvSpPr/>
          <p:nvPr/>
        </p:nvSpPr>
        <p:spPr>
          <a:xfrm>
            <a:off x="6634080" y="1173240"/>
            <a:ext cx="162000" cy="160200"/>
          </a:xfrm>
          <a:custGeom>
            <a:avLst/>
            <a:gdLst/>
            <a:ahLst/>
            <a:rect l="l" t="t" r="r" b="b"/>
            <a:pathLst>
              <a:path w="601" h="597">
                <a:moveTo>
                  <a:pt x="301" y="0"/>
                </a:moveTo>
                <a:lnTo>
                  <a:pt x="270" y="1"/>
                </a:lnTo>
                <a:lnTo>
                  <a:pt x="239" y="6"/>
                </a:lnTo>
                <a:lnTo>
                  <a:pt x="211" y="13"/>
                </a:lnTo>
                <a:lnTo>
                  <a:pt x="184" y="24"/>
                </a:lnTo>
                <a:lnTo>
                  <a:pt x="157" y="36"/>
                </a:lnTo>
                <a:lnTo>
                  <a:pt x="132" y="50"/>
                </a:lnTo>
                <a:lnTo>
                  <a:pt x="108" y="68"/>
                </a:lnTo>
                <a:lnTo>
                  <a:pt x="88" y="88"/>
                </a:lnTo>
                <a:lnTo>
                  <a:pt x="68" y="109"/>
                </a:lnTo>
                <a:lnTo>
                  <a:pt x="51" y="131"/>
                </a:lnTo>
                <a:lnTo>
                  <a:pt x="36" y="156"/>
                </a:lnTo>
                <a:lnTo>
                  <a:pt x="23" y="183"/>
                </a:lnTo>
                <a:lnTo>
                  <a:pt x="12" y="210"/>
                </a:lnTo>
                <a:lnTo>
                  <a:pt x="5" y="238"/>
                </a:lnTo>
                <a:lnTo>
                  <a:pt x="1" y="267"/>
                </a:lnTo>
                <a:lnTo>
                  <a:pt x="0" y="298"/>
                </a:lnTo>
                <a:lnTo>
                  <a:pt x="1" y="329"/>
                </a:lnTo>
                <a:lnTo>
                  <a:pt x="5" y="358"/>
                </a:lnTo>
                <a:lnTo>
                  <a:pt x="12" y="387"/>
                </a:lnTo>
                <a:lnTo>
                  <a:pt x="23" y="414"/>
                </a:lnTo>
                <a:lnTo>
                  <a:pt x="36" y="440"/>
                </a:lnTo>
                <a:lnTo>
                  <a:pt x="51" y="465"/>
                </a:lnTo>
                <a:lnTo>
                  <a:pt x="68" y="487"/>
                </a:lnTo>
                <a:lnTo>
                  <a:pt x="88" y="510"/>
                </a:lnTo>
                <a:lnTo>
                  <a:pt x="108" y="528"/>
                </a:lnTo>
                <a:lnTo>
                  <a:pt x="132" y="546"/>
                </a:lnTo>
                <a:lnTo>
                  <a:pt x="157" y="561"/>
                </a:lnTo>
                <a:lnTo>
                  <a:pt x="184" y="574"/>
                </a:lnTo>
                <a:lnTo>
                  <a:pt x="211" y="584"/>
                </a:lnTo>
                <a:lnTo>
                  <a:pt x="239" y="591"/>
                </a:lnTo>
                <a:lnTo>
                  <a:pt x="270" y="595"/>
                </a:lnTo>
                <a:lnTo>
                  <a:pt x="301" y="597"/>
                </a:lnTo>
                <a:lnTo>
                  <a:pt x="331" y="595"/>
                </a:lnTo>
                <a:lnTo>
                  <a:pt x="360" y="591"/>
                </a:lnTo>
                <a:lnTo>
                  <a:pt x="390" y="584"/>
                </a:lnTo>
                <a:lnTo>
                  <a:pt x="416" y="574"/>
                </a:lnTo>
                <a:lnTo>
                  <a:pt x="443" y="561"/>
                </a:lnTo>
                <a:lnTo>
                  <a:pt x="468" y="546"/>
                </a:lnTo>
                <a:lnTo>
                  <a:pt x="491" y="528"/>
                </a:lnTo>
                <a:lnTo>
                  <a:pt x="512" y="510"/>
                </a:lnTo>
                <a:lnTo>
                  <a:pt x="532" y="487"/>
                </a:lnTo>
                <a:lnTo>
                  <a:pt x="550" y="465"/>
                </a:lnTo>
                <a:lnTo>
                  <a:pt x="564" y="440"/>
                </a:lnTo>
                <a:lnTo>
                  <a:pt x="578" y="414"/>
                </a:lnTo>
                <a:lnTo>
                  <a:pt x="587" y="387"/>
                </a:lnTo>
                <a:lnTo>
                  <a:pt x="594" y="358"/>
                </a:lnTo>
                <a:lnTo>
                  <a:pt x="599" y="329"/>
                </a:lnTo>
                <a:lnTo>
                  <a:pt x="601" y="298"/>
                </a:lnTo>
                <a:lnTo>
                  <a:pt x="599" y="267"/>
                </a:lnTo>
                <a:lnTo>
                  <a:pt x="594" y="238"/>
                </a:lnTo>
                <a:lnTo>
                  <a:pt x="587" y="210"/>
                </a:lnTo>
                <a:lnTo>
                  <a:pt x="578" y="183"/>
                </a:lnTo>
                <a:lnTo>
                  <a:pt x="564" y="156"/>
                </a:lnTo>
                <a:lnTo>
                  <a:pt x="550" y="131"/>
                </a:lnTo>
                <a:lnTo>
                  <a:pt x="532" y="109"/>
                </a:lnTo>
                <a:lnTo>
                  <a:pt x="512" y="88"/>
                </a:lnTo>
                <a:lnTo>
                  <a:pt x="491" y="68"/>
                </a:lnTo>
                <a:lnTo>
                  <a:pt x="468" y="50"/>
                </a:lnTo>
                <a:lnTo>
                  <a:pt x="443" y="36"/>
                </a:lnTo>
                <a:lnTo>
                  <a:pt x="416" y="24"/>
                </a:lnTo>
                <a:lnTo>
                  <a:pt x="390" y="13"/>
                </a:lnTo>
                <a:lnTo>
                  <a:pt x="360" y="6"/>
                </a:lnTo>
                <a:lnTo>
                  <a:pt x="331" y="1"/>
                </a:lnTo>
                <a:lnTo>
                  <a:pt x="301" y="0"/>
                </a:lnTo>
                <a:close/>
                <a:moveTo>
                  <a:pt x="415" y="118"/>
                </a:moveTo>
                <a:lnTo>
                  <a:pt x="422" y="114"/>
                </a:lnTo>
                <a:lnTo>
                  <a:pt x="427" y="110"/>
                </a:lnTo>
                <a:lnTo>
                  <a:pt x="430" y="107"/>
                </a:lnTo>
                <a:lnTo>
                  <a:pt x="433" y="106"/>
                </a:lnTo>
                <a:lnTo>
                  <a:pt x="436" y="105"/>
                </a:lnTo>
                <a:lnTo>
                  <a:pt x="436" y="105"/>
                </a:lnTo>
                <a:lnTo>
                  <a:pt x="436" y="103"/>
                </a:lnTo>
                <a:lnTo>
                  <a:pt x="434" y="100"/>
                </a:lnTo>
                <a:lnTo>
                  <a:pt x="431" y="92"/>
                </a:lnTo>
                <a:lnTo>
                  <a:pt x="429" y="81"/>
                </a:lnTo>
                <a:lnTo>
                  <a:pt x="429" y="75"/>
                </a:lnTo>
                <a:lnTo>
                  <a:pt x="430" y="70"/>
                </a:lnTo>
                <a:lnTo>
                  <a:pt x="433" y="70"/>
                </a:lnTo>
                <a:lnTo>
                  <a:pt x="437" y="71"/>
                </a:lnTo>
                <a:lnTo>
                  <a:pt x="447" y="77"/>
                </a:lnTo>
                <a:lnTo>
                  <a:pt x="459" y="86"/>
                </a:lnTo>
                <a:lnTo>
                  <a:pt x="470" y="99"/>
                </a:lnTo>
                <a:lnTo>
                  <a:pt x="466" y="114"/>
                </a:lnTo>
                <a:lnTo>
                  <a:pt x="461" y="124"/>
                </a:lnTo>
                <a:lnTo>
                  <a:pt x="454" y="131"/>
                </a:lnTo>
                <a:lnTo>
                  <a:pt x="447" y="137"/>
                </a:lnTo>
                <a:lnTo>
                  <a:pt x="440" y="138"/>
                </a:lnTo>
                <a:lnTo>
                  <a:pt x="436" y="139"/>
                </a:lnTo>
                <a:lnTo>
                  <a:pt x="431" y="139"/>
                </a:lnTo>
                <a:lnTo>
                  <a:pt x="430" y="139"/>
                </a:lnTo>
                <a:lnTo>
                  <a:pt x="430" y="139"/>
                </a:lnTo>
                <a:lnTo>
                  <a:pt x="427" y="138"/>
                </a:lnTo>
                <a:lnTo>
                  <a:pt x="420" y="137"/>
                </a:lnTo>
                <a:lnTo>
                  <a:pt x="418" y="134"/>
                </a:lnTo>
                <a:lnTo>
                  <a:pt x="416" y="131"/>
                </a:lnTo>
                <a:lnTo>
                  <a:pt x="415" y="125"/>
                </a:lnTo>
                <a:lnTo>
                  <a:pt x="415" y="118"/>
                </a:lnTo>
                <a:close/>
                <a:moveTo>
                  <a:pt x="235" y="383"/>
                </a:moveTo>
                <a:lnTo>
                  <a:pt x="231" y="389"/>
                </a:lnTo>
                <a:lnTo>
                  <a:pt x="227" y="397"/>
                </a:lnTo>
                <a:lnTo>
                  <a:pt x="224" y="407"/>
                </a:lnTo>
                <a:lnTo>
                  <a:pt x="220" y="418"/>
                </a:lnTo>
                <a:lnTo>
                  <a:pt x="216" y="425"/>
                </a:lnTo>
                <a:lnTo>
                  <a:pt x="213" y="429"/>
                </a:lnTo>
                <a:lnTo>
                  <a:pt x="205" y="437"/>
                </a:lnTo>
                <a:lnTo>
                  <a:pt x="199" y="442"/>
                </a:lnTo>
                <a:lnTo>
                  <a:pt x="196" y="447"/>
                </a:lnTo>
                <a:lnTo>
                  <a:pt x="195" y="451"/>
                </a:lnTo>
                <a:lnTo>
                  <a:pt x="195" y="453"/>
                </a:lnTo>
                <a:lnTo>
                  <a:pt x="193" y="460"/>
                </a:lnTo>
                <a:lnTo>
                  <a:pt x="192" y="464"/>
                </a:lnTo>
                <a:lnTo>
                  <a:pt x="191" y="468"/>
                </a:lnTo>
                <a:lnTo>
                  <a:pt x="191" y="469"/>
                </a:lnTo>
                <a:lnTo>
                  <a:pt x="191" y="472"/>
                </a:lnTo>
                <a:lnTo>
                  <a:pt x="189" y="472"/>
                </a:lnTo>
                <a:lnTo>
                  <a:pt x="191" y="474"/>
                </a:lnTo>
                <a:lnTo>
                  <a:pt x="191" y="476"/>
                </a:lnTo>
                <a:lnTo>
                  <a:pt x="193" y="483"/>
                </a:lnTo>
                <a:lnTo>
                  <a:pt x="196" y="492"/>
                </a:lnTo>
                <a:lnTo>
                  <a:pt x="198" y="494"/>
                </a:lnTo>
                <a:lnTo>
                  <a:pt x="200" y="497"/>
                </a:lnTo>
                <a:lnTo>
                  <a:pt x="199" y="503"/>
                </a:lnTo>
                <a:lnTo>
                  <a:pt x="198" y="510"/>
                </a:lnTo>
                <a:lnTo>
                  <a:pt x="192" y="526"/>
                </a:lnTo>
                <a:lnTo>
                  <a:pt x="189" y="533"/>
                </a:lnTo>
                <a:lnTo>
                  <a:pt x="188" y="540"/>
                </a:lnTo>
                <a:lnTo>
                  <a:pt x="185" y="546"/>
                </a:lnTo>
                <a:lnTo>
                  <a:pt x="185" y="547"/>
                </a:lnTo>
                <a:lnTo>
                  <a:pt x="175" y="542"/>
                </a:lnTo>
                <a:lnTo>
                  <a:pt x="168" y="535"/>
                </a:lnTo>
                <a:lnTo>
                  <a:pt x="164" y="525"/>
                </a:lnTo>
                <a:lnTo>
                  <a:pt x="160" y="517"/>
                </a:lnTo>
                <a:lnTo>
                  <a:pt x="159" y="511"/>
                </a:lnTo>
                <a:lnTo>
                  <a:pt x="156" y="506"/>
                </a:lnTo>
                <a:lnTo>
                  <a:pt x="153" y="499"/>
                </a:lnTo>
                <a:lnTo>
                  <a:pt x="153" y="496"/>
                </a:lnTo>
                <a:lnTo>
                  <a:pt x="154" y="493"/>
                </a:lnTo>
                <a:lnTo>
                  <a:pt x="153" y="483"/>
                </a:lnTo>
                <a:lnTo>
                  <a:pt x="149" y="476"/>
                </a:lnTo>
                <a:lnTo>
                  <a:pt x="145" y="471"/>
                </a:lnTo>
                <a:lnTo>
                  <a:pt x="139" y="468"/>
                </a:lnTo>
                <a:lnTo>
                  <a:pt x="132" y="453"/>
                </a:lnTo>
                <a:lnTo>
                  <a:pt x="131" y="447"/>
                </a:lnTo>
                <a:lnTo>
                  <a:pt x="129" y="443"/>
                </a:lnTo>
                <a:lnTo>
                  <a:pt x="129" y="440"/>
                </a:lnTo>
                <a:lnTo>
                  <a:pt x="128" y="439"/>
                </a:lnTo>
                <a:lnTo>
                  <a:pt x="122" y="433"/>
                </a:lnTo>
                <a:lnTo>
                  <a:pt x="117" y="429"/>
                </a:lnTo>
                <a:lnTo>
                  <a:pt x="115" y="428"/>
                </a:lnTo>
                <a:lnTo>
                  <a:pt x="114" y="428"/>
                </a:lnTo>
                <a:lnTo>
                  <a:pt x="114" y="428"/>
                </a:lnTo>
                <a:lnTo>
                  <a:pt x="111" y="425"/>
                </a:lnTo>
                <a:lnTo>
                  <a:pt x="101" y="419"/>
                </a:lnTo>
                <a:lnTo>
                  <a:pt x="92" y="414"/>
                </a:lnTo>
                <a:lnTo>
                  <a:pt x="88" y="409"/>
                </a:lnTo>
                <a:lnTo>
                  <a:pt x="85" y="408"/>
                </a:lnTo>
                <a:lnTo>
                  <a:pt x="81" y="401"/>
                </a:lnTo>
                <a:lnTo>
                  <a:pt x="78" y="393"/>
                </a:lnTo>
                <a:lnTo>
                  <a:pt x="75" y="382"/>
                </a:lnTo>
                <a:lnTo>
                  <a:pt x="75" y="373"/>
                </a:lnTo>
                <a:lnTo>
                  <a:pt x="75" y="369"/>
                </a:lnTo>
                <a:lnTo>
                  <a:pt x="75" y="364"/>
                </a:lnTo>
                <a:lnTo>
                  <a:pt x="76" y="352"/>
                </a:lnTo>
                <a:lnTo>
                  <a:pt x="78" y="347"/>
                </a:lnTo>
                <a:lnTo>
                  <a:pt x="79" y="343"/>
                </a:lnTo>
                <a:lnTo>
                  <a:pt x="79" y="340"/>
                </a:lnTo>
                <a:lnTo>
                  <a:pt x="79" y="338"/>
                </a:lnTo>
                <a:lnTo>
                  <a:pt x="81" y="337"/>
                </a:lnTo>
                <a:lnTo>
                  <a:pt x="83" y="333"/>
                </a:lnTo>
                <a:lnTo>
                  <a:pt x="86" y="327"/>
                </a:lnTo>
                <a:lnTo>
                  <a:pt x="86" y="325"/>
                </a:lnTo>
                <a:lnTo>
                  <a:pt x="85" y="323"/>
                </a:lnTo>
                <a:lnTo>
                  <a:pt x="81" y="320"/>
                </a:lnTo>
                <a:lnTo>
                  <a:pt x="79" y="318"/>
                </a:lnTo>
                <a:lnTo>
                  <a:pt x="76" y="309"/>
                </a:lnTo>
                <a:lnTo>
                  <a:pt x="75" y="301"/>
                </a:lnTo>
                <a:lnTo>
                  <a:pt x="75" y="299"/>
                </a:lnTo>
                <a:lnTo>
                  <a:pt x="75" y="298"/>
                </a:lnTo>
                <a:lnTo>
                  <a:pt x="68" y="293"/>
                </a:lnTo>
                <a:lnTo>
                  <a:pt x="65" y="290"/>
                </a:lnTo>
                <a:lnTo>
                  <a:pt x="65" y="288"/>
                </a:lnTo>
                <a:lnTo>
                  <a:pt x="64" y="288"/>
                </a:lnTo>
                <a:lnTo>
                  <a:pt x="64" y="288"/>
                </a:lnTo>
                <a:lnTo>
                  <a:pt x="62" y="286"/>
                </a:lnTo>
                <a:lnTo>
                  <a:pt x="58" y="280"/>
                </a:lnTo>
                <a:lnTo>
                  <a:pt x="54" y="273"/>
                </a:lnTo>
                <a:lnTo>
                  <a:pt x="50" y="269"/>
                </a:lnTo>
                <a:lnTo>
                  <a:pt x="50" y="262"/>
                </a:lnTo>
                <a:lnTo>
                  <a:pt x="50" y="256"/>
                </a:lnTo>
                <a:lnTo>
                  <a:pt x="51" y="252"/>
                </a:lnTo>
                <a:lnTo>
                  <a:pt x="54" y="248"/>
                </a:lnTo>
                <a:lnTo>
                  <a:pt x="54" y="244"/>
                </a:lnTo>
                <a:lnTo>
                  <a:pt x="51" y="235"/>
                </a:lnTo>
                <a:lnTo>
                  <a:pt x="50" y="228"/>
                </a:lnTo>
                <a:lnTo>
                  <a:pt x="50" y="223"/>
                </a:lnTo>
                <a:lnTo>
                  <a:pt x="60" y="202"/>
                </a:lnTo>
                <a:lnTo>
                  <a:pt x="69" y="181"/>
                </a:lnTo>
                <a:lnTo>
                  <a:pt x="81" y="163"/>
                </a:lnTo>
                <a:lnTo>
                  <a:pt x="92" y="148"/>
                </a:lnTo>
                <a:lnTo>
                  <a:pt x="103" y="134"/>
                </a:lnTo>
                <a:lnTo>
                  <a:pt x="114" y="121"/>
                </a:lnTo>
                <a:lnTo>
                  <a:pt x="125" y="112"/>
                </a:lnTo>
                <a:lnTo>
                  <a:pt x="136" y="102"/>
                </a:lnTo>
                <a:lnTo>
                  <a:pt x="146" y="95"/>
                </a:lnTo>
                <a:lnTo>
                  <a:pt x="156" y="89"/>
                </a:lnTo>
                <a:lnTo>
                  <a:pt x="171" y="79"/>
                </a:lnTo>
                <a:lnTo>
                  <a:pt x="177" y="77"/>
                </a:lnTo>
                <a:lnTo>
                  <a:pt x="181" y="75"/>
                </a:lnTo>
                <a:lnTo>
                  <a:pt x="184" y="74"/>
                </a:lnTo>
                <a:lnTo>
                  <a:pt x="185" y="74"/>
                </a:lnTo>
                <a:lnTo>
                  <a:pt x="186" y="82"/>
                </a:lnTo>
                <a:lnTo>
                  <a:pt x="188" y="89"/>
                </a:lnTo>
                <a:lnTo>
                  <a:pt x="189" y="93"/>
                </a:lnTo>
                <a:lnTo>
                  <a:pt x="189" y="96"/>
                </a:lnTo>
                <a:lnTo>
                  <a:pt x="189" y="99"/>
                </a:lnTo>
                <a:lnTo>
                  <a:pt x="189" y="99"/>
                </a:lnTo>
                <a:lnTo>
                  <a:pt x="189" y="99"/>
                </a:lnTo>
                <a:lnTo>
                  <a:pt x="188" y="100"/>
                </a:lnTo>
                <a:lnTo>
                  <a:pt x="182" y="102"/>
                </a:lnTo>
                <a:lnTo>
                  <a:pt x="175" y="103"/>
                </a:lnTo>
                <a:lnTo>
                  <a:pt x="170" y="105"/>
                </a:lnTo>
                <a:lnTo>
                  <a:pt x="163" y="102"/>
                </a:lnTo>
                <a:lnTo>
                  <a:pt x="159" y="100"/>
                </a:lnTo>
                <a:lnTo>
                  <a:pt x="156" y="99"/>
                </a:lnTo>
                <a:lnTo>
                  <a:pt x="154" y="99"/>
                </a:lnTo>
                <a:lnTo>
                  <a:pt x="152" y="105"/>
                </a:lnTo>
                <a:lnTo>
                  <a:pt x="149" y="107"/>
                </a:lnTo>
                <a:lnTo>
                  <a:pt x="146" y="113"/>
                </a:lnTo>
                <a:lnTo>
                  <a:pt x="145" y="114"/>
                </a:lnTo>
                <a:lnTo>
                  <a:pt x="145" y="114"/>
                </a:lnTo>
                <a:lnTo>
                  <a:pt x="145" y="116"/>
                </a:lnTo>
                <a:lnTo>
                  <a:pt x="142" y="120"/>
                </a:lnTo>
                <a:lnTo>
                  <a:pt x="140" y="124"/>
                </a:lnTo>
                <a:lnTo>
                  <a:pt x="139" y="130"/>
                </a:lnTo>
                <a:lnTo>
                  <a:pt x="140" y="134"/>
                </a:lnTo>
                <a:lnTo>
                  <a:pt x="142" y="138"/>
                </a:lnTo>
                <a:lnTo>
                  <a:pt x="145" y="142"/>
                </a:lnTo>
                <a:lnTo>
                  <a:pt x="145" y="144"/>
                </a:lnTo>
                <a:lnTo>
                  <a:pt x="146" y="144"/>
                </a:lnTo>
                <a:lnTo>
                  <a:pt x="147" y="144"/>
                </a:lnTo>
                <a:lnTo>
                  <a:pt x="152" y="144"/>
                </a:lnTo>
                <a:lnTo>
                  <a:pt x="157" y="142"/>
                </a:lnTo>
                <a:lnTo>
                  <a:pt x="159" y="141"/>
                </a:lnTo>
                <a:lnTo>
                  <a:pt x="160" y="139"/>
                </a:lnTo>
                <a:lnTo>
                  <a:pt x="160" y="132"/>
                </a:lnTo>
                <a:lnTo>
                  <a:pt x="160" y="130"/>
                </a:lnTo>
                <a:lnTo>
                  <a:pt x="160" y="130"/>
                </a:lnTo>
                <a:lnTo>
                  <a:pt x="157" y="123"/>
                </a:lnTo>
                <a:lnTo>
                  <a:pt x="156" y="120"/>
                </a:lnTo>
                <a:lnTo>
                  <a:pt x="154" y="120"/>
                </a:lnTo>
                <a:lnTo>
                  <a:pt x="154" y="118"/>
                </a:lnTo>
                <a:lnTo>
                  <a:pt x="156" y="118"/>
                </a:lnTo>
                <a:lnTo>
                  <a:pt x="157" y="118"/>
                </a:lnTo>
                <a:lnTo>
                  <a:pt x="161" y="118"/>
                </a:lnTo>
                <a:lnTo>
                  <a:pt x="166" y="117"/>
                </a:lnTo>
                <a:lnTo>
                  <a:pt x="172" y="117"/>
                </a:lnTo>
                <a:lnTo>
                  <a:pt x="179" y="117"/>
                </a:lnTo>
                <a:lnTo>
                  <a:pt x="189" y="117"/>
                </a:lnTo>
                <a:lnTo>
                  <a:pt x="200" y="118"/>
                </a:lnTo>
                <a:lnTo>
                  <a:pt x="210" y="120"/>
                </a:lnTo>
                <a:lnTo>
                  <a:pt x="218" y="123"/>
                </a:lnTo>
                <a:lnTo>
                  <a:pt x="223" y="127"/>
                </a:lnTo>
                <a:lnTo>
                  <a:pt x="225" y="132"/>
                </a:lnTo>
                <a:lnTo>
                  <a:pt x="228" y="142"/>
                </a:lnTo>
                <a:lnTo>
                  <a:pt x="231" y="146"/>
                </a:lnTo>
                <a:lnTo>
                  <a:pt x="235" y="149"/>
                </a:lnTo>
                <a:lnTo>
                  <a:pt x="239" y="152"/>
                </a:lnTo>
                <a:lnTo>
                  <a:pt x="239" y="155"/>
                </a:lnTo>
                <a:lnTo>
                  <a:pt x="238" y="159"/>
                </a:lnTo>
                <a:lnTo>
                  <a:pt x="235" y="164"/>
                </a:lnTo>
                <a:lnTo>
                  <a:pt x="227" y="174"/>
                </a:lnTo>
                <a:lnTo>
                  <a:pt x="223" y="180"/>
                </a:lnTo>
                <a:lnTo>
                  <a:pt x="220" y="184"/>
                </a:lnTo>
                <a:lnTo>
                  <a:pt x="218" y="187"/>
                </a:lnTo>
                <a:lnTo>
                  <a:pt x="216" y="185"/>
                </a:lnTo>
                <a:lnTo>
                  <a:pt x="213" y="184"/>
                </a:lnTo>
                <a:lnTo>
                  <a:pt x="210" y="180"/>
                </a:lnTo>
                <a:lnTo>
                  <a:pt x="206" y="173"/>
                </a:lnTo>
                <a:lnTo>
                  <a:pt x="206" y="170"/>
                </a:lnTo>
                <a:lnTo>
                  <a:pt x="205" y="169"/>
                </a:lnTo>
                <a:lnTo>
                  <a:pt x="206" y="167"/>
                </a:lnTo>
                <a:lnTo>
                  <a:pt x="207" y="164"/>
                </a:lnTo>
                <a:lnTo>
                  <a:pt x="209" y="162"/>
                </a:lnTo>
                <a:lnTo>
                  <a:pt x="207" y="160"/>
                </a:lnTo>
                <a:lnTo>
                  <a:pt x="205" y="159"/>
                </a:lnTo>
                <a:lnTo>
                  <a:pt x="200" y="159"/>
                </a:lnTo>
                <a:lnTo>
                  <a:pt x="195" y="159"/>
                </a:lnTo>
                <a:lnTo>
                  <a:pt x="189" y="160"/>
                </a:lnTo>
                <a:lnTo>
                  <a:pt x="186" y="163"/>
                </a:lnTo>
                <a:lnTo>
                  <a:pt x="182" y="167"/>
                </a:lnTo>
                <a:lnTo>
                  <a:pt x="181" y="171"/>
                </a:lnTo>
                <a:lnTo>
                  <a:pt x="181" y="176"/>
                </a:lnTo>
                <a:lnTo>
                  <a:pt x="182" y="178"/>
                </a:lnTo>
                <a:lnTo>
                  <a:pt x="185" y="178"/>
                </a:lnTo>
                <a:lnTo>
                  <a:pt x="189" y="181"/>
                </a:lnTo>
                <a:lnTo>
                  <a:pt x="193" y="184"/>
                </a:lnTo>
                <a:lnTo>
                  <a:pt x="196" y="189"/>
                </a:lnTo>
                <a:lnTo>
                  <a:pt x="195" y="194"/>
                </a:lnTo>
                <a:lnTo>
                  <a:pt x="195" y="196"/>
                </a:lnTo>
                <a:lnTo>
                  <a:pt x="195" y="201"/>
                </a:lnTo>
                <a:lnTo>
                  <a:pt x="193" y="205"/>
                </a:lnTo>
                <a:lnTo>
                  <a:pt x="192" y="209"/>
                </a:lnTo>
                <a:lnTo>
                  <a:pt x="189" y="213"/>
                </a:lnTo>
                <a:lnTo>
                  <a:pt x="182" y="224"/>
                </a:lnTo>
                <a:lnTo>
                  <a:pt x="177" y="231"/>
                </a:lnTo>
                <a:lnTo>
                  <a:pt x="171" y="237"/>
                </a:lnTo>
                <a:lnTo>
                  <a:pt x="170" y="238"/>
                </a:lnTo>
                <a:lnTo>
                  <a:pt x="168" y="238"/>
                </a:lnTo>
                <a:lnTo>
                  <a:pt x="166" y="237"/>
                </a:lnTo>
                <a:lnTo>
                  <a:pt x="164" y="238"/>
                </a:lnTo>
                <a:lnTo>
                  <a:pt x="164" y="241"/>
                </a:lnTo>
                <a:lnTo>
                  <a:pt x="164" y="244"/>
                </a:lnTo>
                <a:lnTo>
                  <a:pt x="167" y="252"/>
                </a:lnTo>
                <a:lnTo>
                  <a:pt x="167" y="260"/>
                </a:lnTo>
                <a:lnTo>
                  <a:pt x="166" y="267"/>
                </a:lnTo>
                <a:lnTo>
                  <a:pt x="164" y="273"/>
                </a:lnTo>
                <a:lnTo>
                  <a:pt x="164" y="276"/>
                </a:lnTo>
                <a:lnTo>
                  <a:pt x="161" y="277"/>
                </a:lnTo>
                <a:lnTo>
                  <a:pt x="159" y="276"/>
                </a:lnTo>
                <a:lnTo>
                  <a:pt x="154" y="273"/>
                </a:lnTo>
                <a:lnTo>
                  <a:pt x="147" y="265"/>
                </a:lnTo>
                <a:lnTo>
                  <a:pt x="146" y="259"/>
                </a:lnTo>
                <a:lnTo>
                  <a:pt x="145" y="254"/>
                </a:lnTo>
                <a:lnTo>
                  <a:pt x="142" y="249"/>
                </a:lnTo>
                <a:lnTo>
                  <a:pt x="139" y="247"/>
                </a:lnTo>
                <a:lnTo>
                  <a:pt x="136" y="247"/>
                </a:lnTo>
                <a:lnTo>
                  <a:pt x="132" y="248"/>
                </a:lnTo>
                <a:lnTo>
                  <a:pt x="125" y="251"/>
                </a:lnTo>
                <a:lnTo>
                  <a:pt x="122" y="254"/>
                </a:lnTo>
                <a:lnTo>
                  <a:pt x="120" y="254"/>
                </a:lnTo>
                <a:lnTo>
                  <a:pt x="115" y="252"/>
                </a:lnTo>
                <a:lnTo>
                  <a:pt x="110" y="251"/>
                </a:lnTo>
                <a:lnTo>
                  <a:pt x="106" y="247"/>
                </a:lnTo>
                <a:lnTo>
                  <a:pt x="104" y="244"/>
                </a:lnTo>
                <a:lnTo>
                  <a:pt x="101" y="242"/>
                </a:lnTo>
                <a:lnTo>
                  <a:pt x="97" y="244"/>
                </a:lnTo>
                <a:lnTo>
                  <a:pt x="88" y="249"/>
                </a:lnTo>
                <a:lnTo>
                  <a:pt x="76" y="255"/>
                </a:lnTo>
                <a:lnTo>
                  <a:pt x="72" y="258"/>
                </a:lnTo>
                <a:lnTo>
                  <a:pt x="69" y="259"/>
                </a:lnTo>
                <a:lnTo>
                  <a:pt x="67" y="263"/>
                </a:lnTo>
                <a:lnTo>
                  <a:pt x="67" y="267"/>
                </a:lnTo>
                <a:lnTo>
                  <a:pt x="69" y="270"/>
                </a:lnTo>
                <a:lnTo>
                  <a:pt x="75" y="269"/>
                </a:lnTo>
                <a:lnTo>
                  <a:pt x="82" y="266"/>
                </a:lnTo>
                <a:lnTo>
                  <a:pt x="89" y="267"/>
                </a:lnTo>
                <a:lnTo>
                  <a:pt x="93" y="272"/>
                </a:lnTo>
                <a:lnTo>
                  <a:pt x="95" y="279"/>
                </a:lnTo>
                <a:lnTo>
                  <a:pt x="90" y="283"/>
                </a:lnTo>
                <a:lnTo>
                  <a:pt x="85" y="286"/>
                </a:lnTo>
                <a:lnTo>
                  <a:pt x="81" y="286"/>
                </a:lnTo>
                <a:lnTo>
                  <a:pt x="79" y="288"/>
                </a:lnTo>
                <a:lnTo>
                  <a:pt x="83" y="295"/>
                </a:lnTo>
                <a:lnTo>
                  <a:pt x="89" y="301"/>
                </a:lnTo>
                <a:lnTo>
                  <a:pt x="93" y="306"/>
                </a:lnTo>
                <a:lnTo>
                  <a:pt x="95" y="313"/>
                </a:lnTo>
                <a:lnTo>
                  <a:pt x="97" y="316"/>
                </a:lnTo>
                <a:lnTo>
                  <a:pt x="101" y="318"/>
                </a:lnTo>
                <a:lnTo>
                  <a:pt x="113" y="316"/>
                </a:lnTo>
                <a:lnTo>
                  <a:pt x="125" y="312"/>
                </a:lnTo>
                <a:lnTo>
                  <a:pt x="131" y="311"/>
                </a:lnTo>
                <a:lnTo>
                  <a:pt x="135" y="308"/>
                </a:lnTo>
                <a:lnTo>
                  <a:pt x="138" y="308"/>
                </a:lnTo>
                <a:lnTo>
                  <a:pt x="142" y="308"/>
                </a:lnTo>
                <a:lnTo>
                  <a:pt x="152" y="306"/>
                </a:lnTo>
                <a:lnTo>
                  <a:pt x="161" y="308"/>
                </a:lnTo>
                <a:lnTo>
                  <a:pt x="164" y="311"/>
                </a:lnTo>
                <a:lnTo>
                  <a:pt x="164" y="313"/>
                </a:lnTo>
                <a:lnTo>
                  <a:pt x="167" y="316"/>
                </a:lnTo>
                <a:lnTo>
                  <a:pt x="171" y="320"/>
                </a:lnTo>
                <a:lnTo>
                  <a:pt x="184" y="325"/>
                </a:lnTo>
                <a:lnTo>
                  <a:pt x="195" y="327"/>
                </a:lnTo>
                <a:lnTo>
                  <a:pt x="200" y="327"/>
                </a:lnTo>
                <a:lnTo>
                  <a:pt x="205" y="329"/>
                </a:lnTo>
                <a:lnTo>
                  <a:pt x="213" y="332"/>
                </a:lnTo>
                <a:lnTo>
                  <a:pt x="223" y="334"/>
                </a:lnTo>
                <a:lnTo>
                  <a:pt x="234" y="337"/>
                </a:lnTo>
                <a:lnTo>
                  <a:pt x="245" y="343"/>
                </a:lnTo>
                <a:lnTo>
                  <a:pt x="248" y="350"/>
                </a:lnTo>
                <a:lnTo>
                  <a:pt x="248" y="355"/>
                </a:lnTo>
                <a:lnTo>
                  <a:pt x="246" y="361"/>
                </a:lnTo>
                <a:lnTo>
                  <a:pt x="243" y="366"/>
                </a:lnTo>
                <a:lnTo>
                  <a:pt x="238" y="376"/>
                </a:lnTo>
                <a:lnTo>
                  <a:pt x="235" y="380"/>
                </a:lnTo>
                <a:lnTo>
                  <a:pt x="235" y="383"/>
                </a:lnTo>
                <a:close/>
                <a:moveTo>
                  <a:pt x="295" y="70"/>
                </a:moveTo>
                <a:lnTo>
                  <a:pt x="292" y="75"/>
                </a:lnTo>
                <a:lnTo>
                  <a:pt x="289" y="81"/>
                </a:lnTo>
                <a:lnTo>
                  <a:pt x="281" y="91"/>
                </a:lnTo>
                <a:lnTo>
                  <a:pt x="278" y="95"/>
                </a:lnTo>
                <a:lnTo>
                  <a:pt x="276" y="99"/>
                </a:lnTo>
                <a:lnTo>
                  <a:pt x="274" y="102"/>
                </a:lnTo>
                <a:lnTo>
                  <a:pt x="276" y="105"/>
                </a:lnTo>
                <a:lnTo>
                  <a:pt x="276" y="107"/>
                </a:lnTo>
                <a:lnTo>
                  <a:pt x="274" y="110"/>
                </a:lnTo>
                <a:lnTo>
                  <a:pt x="273" y="118"/>
                </a:lnTo>
                <a:lnTo>
                  <a:pt x="270" y="121"/>
                </a:lnTo>
                <a:lnTo>
                  <a:pt x="267" y="121"/>
                </a:lnTo>
                <a:lnTo>
                  <a:pt x="262" y="120"/>
                </a:lnTo>
                <a:lnTo>
                  <a:pt x="255" y="114"/>
                </a:lnTo>
                <a:lnTo>
                  <a:pt x="241" y="102"/>
                </a:lnTo>
                <a:lnTo>
                  <a:pt x="228" y="92"/>
                </a:lnTo>
                <a:lnTo>
                  <a:pt x="224" y="88"/>
                </a:lnTo>
                <a:lnTo>
                  <a:pt x="220" y="84"/>
                </a:lnTo>
                <a:lnTo>
                  <a:pt x="220" y="79"/>
                </a:lnTo>
                <a:lnTo>
                  <a:pt x="220" y="74"/>
                </a:lnTo>
                <a:lnTo>
                  <a:pt x="221" y="73"/>
                </a:lnTo>
                <a:lnTo>
                  <a:pt x="223" y="71"/>
                </a:lnTo>
                <a:lnTo>
                  <a:pt x="230" y="70"/>
                </a:lnTo>
                <a:lnTo>
                  <a:pt x="237" y="67"/>
                </a:lnTo>
                <a:lnTo>
                  <a:pt x="239" y="66"/>
                </a:lnTo>
                <a:lnTo>
                  <a:pt x="239" y="64"/>
                </a:lnTo>
                <a:lnTo>
                  <a:pt x="250" y="54"/>
                </a:lnTo>
                <a:lnTo>
                  <a:pt x="262" y="47"/>
                </a:lnTo>
                <a:lnTo>
                  <a:pt x="274" y="43"/>
                </a:lnTo>
                <a:lnTo>
                  <a:pt x="285" y="42"/>
                </a:lnTo>
                <a:lnTo>
                  <a:pt x="296" y="42"/>
                </a:lnTo>
                <a:lnTo>
                  <a:pt x="305" y="43"/>
                </a:lnTo>
                <a:lnTo>
                  <a:pt x="312" y="46"/>
                </a:lnTo>
                <a:lnTo>
                  <a:pt x="315" y="49"/>
                </a:lnTo>
                <a:lnTo>
                  <a:pt x="312" y="53"/>
                </a:lnTo>
                <a:lnTo>
                  <a:pt x="308" y="54"/>
                </a:lnTo>
                <a:lnTo>
                  <a:pt x="302" y="57"/>
                </a:lnTo>
                <a:lnTo>
                  <a:pt x="296" y="61"/>
                </a:lnTo>
                <a:lnTo>
                  <a:pt x="295" y="64"/>
                </a:lnTo>
                <a:lnTo>
                  <a:pt x="295" y="70"/>
                </a:lnTo>
                <a:close/>
                <a:moveTo>
                  <a:pt x="536" y="308"/>
                </a:moveTo>
                <a:lnTo>
                  <a:pt x="537" y="311"/>
                </a:lnTo>
                <a:lnTo>
                  <a:pt x="543" y="316"/>
                </a:lnTo>
                <a:lnTo>
                  <a:pt x="550" y="320"/>
                </a:lnTo>
                <a:lnTo>
                  <a:pt x="561" y="323"/>
                </a:lnTo>
                <a:lnTo>
                  <a:pt x="558" y="343"/>
                </a:lnTo>
                <a:lnTo>
                  <a:pt x="554" y="362"/>
                </a:lnTo>
                <a:lnTo>
                  <a:pt x="541" y="398"/>
                </a:lnTo>
                <a:lnTo>
                  <a:pt x="525" y="429"/>
                </a:lnTo>
                <a:lnTo>
                  <a:pt x="507" y="457"/>
                </a:lnTo>
                <a:lnTo>
                  <a:pt x="498" y="468"/>
                </a:lnTo>
                <a:lnTo>
                  <a:pt x="490" y="478"/>
                </a:lnTo>
                <a:lnTo>
                  <a:pt x="482" y="487"/>
                </a:lnTo>
                <a:lnTo>
                  <a:pt x="475" y="494"/>
                </a:lnTo>
                <a:lnTo>
                  <a:pt x="469" y="500"/>
                </a:lnTo>
                <a:lnTo>
                  <a:pt x="465" y="504"/>
                </a:lnTo>
                <a:lnTo>
                  <a:pt x="462" y="507"/>
                </a:lnTo>
                <a:lnTo>
                  <a:pt x="461" y="507"/>
                </a:lnTo>
                <a:lnTo>
                  <a:pt x="455" y="501"/>
                </a:lnTo>
                <a:lnTo>
                  <a:pt x="452" y="496"/>
                </a:lnTo>
                <a:lnTo>
                  <a:pt x="450" y="487"/>
                </a:lnTo>
                <a:lnTo>
                  <a:pt x="450" y="481"/>
                </a:lnTo>
                <a:lnTo>
                  <a:pt x="450" y="478"/>
                </a:lnTo>
                <a:lnTo>
                  <a:pt x="451" y="478"/>
                </a:lnTo>
                <a:lnTo>
                  <a:pt x="452" y="471"/>
                </a:lnTo>
                <a:lnTo>
                  <a:pt x="454" y="467"/>
                </a:lnTo>
                <a:lnTo>
                  <a:pt x="454" y="462"/>
                </a:lnTo>
                <a:lnTo>
                  <a:pt x="455" y="460"/>
                </a:lnTo>
                <a:lnTo>
                  <a:pt x="455" y="458"/>
                </a:lnTo>
                <a:lnTo>
                  <a:pt x="455" y="458"/>
                </a:lnTo>
                <a:lnTo>
                  <a:pt x="455" y="446"/>
                </a:lnTo>
                <a:lnTo>
                  <a:pt x="455" y="437"/>
                </a:lnTo>
                <a:lnTo>
                  <a:pt x="455" y="432"/>
                </a:lnTo>
                <a:lnTo>
                  <a:pt x="455" y="428"/>
                </a:lnTo>
                <a:lnTo>
                  <a:pt x="455" y="425"/>
                </a:lnTo>
                <a:lnTo>
                  <a:pt x="455" y="423"/>
                </a:lnTo>
                <a:lnTo>
                  <a:pt x="455" y="422"/>
                </a:lnTo>
                <a:lnTo>
                  <a:pt x="455" y="421"/>
                </a:lnTo>
                <a:lnTo>
                  <a:pt x="455" y="416"/>
                </a:lnTo>
                <a:lnTo>
                  <a:pt x="454" y="411"/>
                </a:lnTo>
                <a:lnTo>
                  <a:pt x="451" y="405"/>
                </a:lnTo>
                <a:lnTo>
                  <a:pt x="447" y="400"/>
                </a:lnTo>
                <a:lnTo>
                  <a:pt x="441" y="397"/>
                </a:lnTo>
                <a:lnTo>
                  <a:pt x="431" y="398"/>
                </a:lnTo>
                <a:lnTo>
                  <a:pt x="427" y="400"/>
                </a:lnTo>
                <a:lnTo>
                  <a:pt x="420" y="403"/>
                </a:lnTo>
                <a:lnTo>
                  <a:pt x="409" y="407"/>
                </a:lnTo>
                <a:lnTo>
                  <a:pt x="402" y="408"/>
                </a:lnTo>
                <a:lnTo>
                  <a:pt x="397" y="411"/>
                </a:lnTo>
                <a:lnTo>
                  <a:pt x="392" y="411"/>
                </a:lnTo>
                <a:lnTo>
                  <a:pt x="388" y="412"/>
                </a:lnTo>
                <a:lnTo>
                  <a:pt x="381" y="412"/>
                </a:lnTo>
                <a:lnTo>
                  <a:pt x="373" y="412"/>
                </a:lnTo>
                <a:lnTo>
                  <a:pt x="360" y="412"/>
                </a:lnTo>
                <a:lnTo>
                  <a:pt x="354" y="412"/>
                </a:lnTo>
                <a:lnTo>
                  <a:pt x="348" y="411"/>
                </a:lnTo>
                <a:lnTo>
                  <a:pt x="342" y="407"/>
                </a:lnTo>
                <a:lnTo>
                  <a:pt x="338" y="403"/>
                </a:lnTo>
                <a:lnTo>
                  <a:pt x="333" y="390"/>
                </a:lnTo>
                <a:lnTo>
                  <a:pt x="330" y="375"/>
                </a:lnTo>
                <a:lnTo>
                  <a:pt x="328" y="359"/>
                </a:lnTo>
                <a:lnTo>
                  <a:pt x="330" y="347"/>
                </a:lnTo>
                <a:lnTo>
                  <a:pt x="330" y="341"/>
                </a:lnTo>
                <a:lnTo>
                  <a:pt x="330" y="337"/>
                </a:lnTo>
                <a:lnTo>
                  <a:pt x="330" y="334"/>
                </a:lnTo>
                <a:lnTo>
                  <a:pt x="330" y="333"/>
                </a:lnTo>
                <a:lnTo>
                  <a:pt x="331" y="313"/>
                </a:lnTo>
                <a:lnTo>
                  <a:pt x="334" y="298"/>
                </a:lnTo>
                <a:lnTo>
                  <a:pt x="338" y="286"/>
                </a:lnTo>
                <a:lnTo>
                  <a:pt x="344" y="279"/>
                </a:lnTo>
                <a:lnTo>
                  <a:pt x="351" y="273"/>
                </a:lnTo>
                <a:lnTo>
                  <a:pt x="359" y="272"/>
                </a:lnTo>
                <a:lnTo>
                  <a:pt x="367" y="272"/>
                </a:lnTo>
                <a:lnTo>
                  <a:pt x="376" y="273"/>
                </a:lnTo>
                <a:lnTo>
                  <a:pt x="384" y="277"/>
                </a:lnTo>
                <a:lnTo>
                  <a:pt x="392" y="281"/>
                </a:lnTo>
                <a:lnTo>
                  <a:pt x="406" y="291"/>
                </a:lnTo>
                <a:lnTo>
                  <a:pt x="412" y="295"/>
                </a:lnTo>
                <a:lnTo>
                  <a:pt x="416" y="299"/>
                </a:lnTo>
                <a:lnTo>
                  <a:pt x="419" y="302"/>
                </a:lnTo>
                <a:lnTo>
                  <a:pt x="420" y="304"/>
                </a:lnTo>
                <a:lnTo>
                  <a:pt x="430" y="309"/>
                </a:lnTo>
                <a:lnTo>
                  <a:pt x="438" y="313"/>
                </a:lnTo>
                <a:lnTo>
                  <a:pt x="447" y="316"/>
                </a:lnTo>
                <a:lnTo>
                  <a:pt x="454" y="316"/>
                </a:lnTo>
                <a:lnTo>
                  <a:pt x="459" y="315"/>
                </a:lnTo>
                <a:lnTo>
                  <a:pt x="465" y="313"/>
                </a:lnTo>
                <a:lnTo>
                  <a:pt x="473" y="306"/>
                </a:lnTo>
                <a:lnTo>
                  <a:pt x="479" y="297"/>
                </a:lnTo>
                <a:lnTo>
                  <a:pt x="483" y="288"/>
                </a:lnTo>
                <a:lnTo>
                  <a:pt x="484" y="281"/>
                </a:lnTo>
                <a:lnTo>
                  <a:pt x="486" y="279"/>
                </a:lnTo>
                <a:lnTo>
                  <a:pt x="486" y="279"/>
                </a:lnTo>
                <a:lnTo>
                  <a:pt x="497" y="273"/>
                </a:lnTo>
                <a:lnTo>
                  <a:pt x="505" y="270"/>
                </a:lnTo>
                <a:lnTo>
                  <a:pt x="512" y="267"/>
                </a:lnTo>
                <a:lnTo>
                  <a:pt x="516" y="265"/>
                </a:lnTo>
                <a:lnTo>
                  <a:pt x="519" y="265"/>
                </a:lnTo>
                <a:lnTo>
                  <a:pt x="521" y="263"/>
                </a:lnTo>
                <a:lnTo>
                  <a:pt x="521" y="263"/>
                </a:lnTo>
                <a:lnTo>
                  <a:pt x="522" y="256"/>
                </a:lnTo>
                <a:lnTo>
                  <a:pt x="523" y="252"/>
                </a:lnTo>
                <a:lnTo>
                  <a:pt x="525" y="248"/>
                </a:lnTo>
                <a:lnTo>
                  <a:pt x="525" y="247"/>
                </a:lnTo>
                <a:lnTo>
                  <a:pt x="526" y="244"/>
                </a:lnTo>
                <a:lnTo>
                  <a:pt x="526" y="244"/>
                </a:lnTo>
                <a:lnTo>
                  <a:pt x="523" y="235"/>
                </a:lnTo>
                <a:lnTo>
                  <a:pt x="523" y="230"/>
                </a:lnTo>
                <a:lnTo>
                  <a:pt x="522" y="224"/>
                </a:lnTo>
                <a:lnTo>
                  <a:pt x="522" y="222"/>
                </a:lnTo>
                <a:lnTo>
                  <a:pt x="521" y="219"/>
                </a:lnTo>
                <a:lnTo>
                  <a:pt x="521" y="219"/>
                </a:lnTo>
                <a:lnTo>
                  <a:pt x="502" y="210"/>
                </a:lnTo>
                <a:lnTo>
                  <a:pt x="489" y="205"/>
                </a:lnTo>
                <a:lnTo>
                  <a:pt x="479" y="199"/>
                </a:lnTo>
                <a:lnTo>
                  <a:pt x="472" y="196"/>
                </a:lnTo>
                <a:lnTo>
                  <a:pt x="469" y="195"/>
                </a:lnTo>
                <a:lnTo>
                  <a:pt x="466" y="194"/>
                </a:lnTo>
                <a:lnTo>
                  <a:pt x="465" y="194"/>
                </a:lnTo>
                <a:lnTo>
                  <a:pt x="465" y="195"/>
                </a:lnTo>
                <a:lnTo>
                  <a:pt x="465" y="198"/>
                </a:lnTo>
                <a:lnTo>
                  <a:pt x="464" y="202"/>
                </a:lnTo>
                <a:lnTo>
                  <a:pt x="462" y="206"/>
                </a:lnTo>
                <a:lnTo>
                  <a:pt x="462" y="213"/>
                </a:lnTo>
                <a:lnTo>
                  <a:pt x="464" y="222"/>
                </a:lnTo>
                <a:lnTo>
                  <a:pt x="466" y="230"/>
                </a:lnTo>
                <a:lnTo>
                  <a:pt x="470" y="238"/>
                </a:lnTo>
                <a:lnTo>
                  <a:pt x="470" y="240"/>
                </a:lnTo>
                <a:lnTo>
                  <a:pt x="469" y="242"/>
                </a:lnTo>
                <a:lnTo>
                  <a:pt x="466" y="251"/>
                </a:lnTo>
                <a:lnTo>
                  <a:pt x="465" y="255"/>
                </a:lnTo>
                <a:lnTo>
                  <a:pt x="462" y="258"/>
                </a:lnTo>
                <a:lnTo>
                  <a:pt x="459" y="259"/>
                </a:lnTo>
                <a:lnTo>
                  <a:pt x="455" y="259"/>
                </a:lnTo>
                <a:lnTo>
                  <a:pt x="444" y="252"/>
                </a:lnTo>
                <a:lnTo>
                  <a:pt x="436" y="247"/>
                </a:lnTo>
                <a:lnTo>
                  <a:pt x="429" y="244"/>
                </a:lnTo>
                <a:lnTo>
                  <a:pt x="425" y="241"/>
                </a:lnTo>
                <a:lnTo>
                  <a:pt x="422" y="240"/>
                </a:lnTo>
                <a:lnTo>
                  <a:pt x="420" y="238"/>
                </a:lnTo>
                <a:lnTo>
                  <a:pt x="420" y="238"/>
                </a:lnTo>
                <a:lnTo>
                  <a:pt x="419" y="238"/>
                </a:lnTo>
                <a:lnTo>
                  <a:pt x="413" y="237"/>
                </a:lnTo>
                <a:lnTo>
                  <a:pt x="405" y="238"/>
                </a:lnTo>
                <a:lnTo>
                  <a:pt x="395" y="244"/>
                </a:lnTo>
                <a:lnTo>
                  <a:pt x="387" y="248"/>
                </a:lnTo>
                <a:lnTo>
                  <a:pt x="379" y="249"/>
                </a:lnTo>
                <a:lnTo>
                  <a:pt x="370" y="251"/>
                </a:lnTo>
                <a:lnTo>
                  <a:pt x="363" y="249"/>
                </a:lnTo>
                <a:lnTo>
                  <a:pt x="356" y="248"/>
                </a:lnTo>
                <a:lnTo>
                  <a:pt x="351" y="245"/>
                </a:lnTo>
                <a:lnTo>
                  <a:pt x="347" y="244"/>
                </a:lnTo>
                <a:lnTo>
                  <a:pt x="345" y="244"/>
                </a:lnTo>
                <a:lnTo>
                  <a:pt x="345" y="242"/>
                </a:lnTo>
                <a:lnTo>
                  <a:pt x="345" y="241"/>
                </a:lnTo>
                <a:lnTo>
                  <a:pt x="348" y="235"/>
                </a:lnTo>
                <a:lnTo>
                  <a:pt x="351" y="231"/>
                </a:lnTo>
                <a:lnTo>
                  <a:pt x="354" y="227"/>
                </a:lnTo>
                <a:lnTo>
                  <a:pt x="359" y="223"/>
                </a:lnTo>
                <a:lnTo>
                  <a:pt x="365" y="219"/>
                </a:lnTo>
                <a:lnTo>
                  <a:pt x="370" y="216"/>
                </a:lnTo>
                <a:lnTo>
                  <a:pt x="374" y="213"/>
                </a:lnTo>
                <a:lnTo>
                  <a:pt x="379" y="210"/>
                </a:lnTo>
                <a:lnTo>
                  <a:pt x="380" y="209"/>
                </a:lnTo>
                <a:lnTo>
                  <a:pt x="380" y="209"/>
                </a:lnTo>
                <a:lnTo>
                  <a:pt x="380" y="208"/>
                </a:lnTo>
                <a:lnTo>
                  <a:pt x="380" y="205"/>
                </a:lnTo>
                <a:lnTo>
                  <a:pt x="379" y="196"/>
                </a:lnTo>
                <a:lnTo>
                  <a:pt x="379" y="185"/>
                </a:lnTo>
                <a:lnTo>
                  <a:pt x="380" y="174"/>
                </a:lnTo>
                <a:lnTo>
                  <a:pt x="383" y="170"/>
                </a:lnTo>
                <a:lnTo>
                  <a:pt x="384" y="167"/>
                </a:lnTo>
                <a:lnTo>
                  <a:pt x="387" y="167"/>
                </a:lnTo>
                <a:lnTo>
                  <a:pt x="390" y="167"/>
                </a:lnTo>
                <a:lnTo>
                  <a:pt x="395" y="167"/>
                </a:lnTo>
                <a:lnTo>
                  <a:pt x="401" y="167"/>
                </a:lnTo>
                <a:lnTo>
                  <a:pt x="405" y="164"/>
                </a:lnTo>
                <a:lnTo>
                  <a:pt x="411" y="162"/>
                </a:lnTo>
                <a:lnTo>
                  <a:pt x="416" y="163"/>
                </a:lnTo>
                <a:lnTo>
                  <a:pt x="420" y="166"/>
                </a:lnTo>
                <a:lnTo>
                  <a:pt x="426" y="170"/>
                </a:lnTo>
                <a:lnTo>
                  <a:pt x="431" y="174"/>
                </a:lnTo>
                <a:lnTo>
                  <a:pt x="437" y="177"/>
                </a:lnTo>
                <a:lnTo>
                  <a:pt x="444" y="180"/>
                </a:lnTo>
                <a:lnTo>
                  <a:pt x="451" y="178"/>
                </a:lnTo>
                <a:lnTo>
                  <a:pt x="457" y="178"/>
                </a:lnTo>
                <a:lnTo>
                  <a:pt x="461" y="178"/>
                </a:lnTo>
                <a:lnTo>
                  <a:pt x="464" y="177"/>
                </a:lnTo>
                <a:lnTo>
                  <a:pt x="465" y="176"/>
                </a:lnTo>
                <a:lnTo>
                  <a:pt x="468" y="170"/>
                </a:lnTo>
                <a:lnTo>
                  <a:pt x="470" y="167"/>
                </a:lnTo>
                <a:lnTo>
                  <a:pt x="476" y="164"/>
                </a:lnTo>
                <a:lnTo>
                  <a:pt x="480" y="163"/>
                </a:lnTo>
                <a:lnTo>
                  <a:pt x="486" y="164"/>
                </a:lnTo>
                <a:lnTo>
                  <a:pt x="494" y="170"/>
                </a:lnTo>
                <a:lnTo>
                  <a:pt x="498" y="176"/>
                </a:lnTo>
                <a:lnTo>
                  <a:pt x="500" y="178"/>
                </a:lnTo>
                <a:lnTo>
                  <a:pt x="501" y="178"/>
                </a:lnTo>
                <a:lnTo>
                  <a:pt x="511" y="181"/>
                </a:lnTo>
                <a:lnTo>
                  <a:pt x="518" y="181"/>
                </a:lnTo>
                <a:lnTo>
                  <a:pt x="523" y="183"/>
                </a:lnTo>
                <a:lnTo>
                  <a:pt x="528" y="184"/>
                </a:lnTo>
                <a:lnTo>
                  <a:pt x="529" y="184"/>
                </a:lnTo>
                <a:lnTo>
                  <a:pt x="530" y="184"/>
                </a:lnTo>
                <a:lnTo>
                  <a:pt x="530" y="184"/>
                </a:lnTo>
                <a:lnTo>
                  <a:pt x="530" y="183"/>
                </a:lnTo>
                <a:lnTo>
                  <a:pt x="530" y="178"/>
                </a:lnTo>
                <a:lnTo>
                  <a:pt x="529" y="173"/>
                </a:lnTo>
                <a:lnTo>
                  <a:pt x="528" y="167"/>
                </a:lnTo>
                <a:lnTo>
                  <a:pt x="528" y="163"/>
                </a:lnTo>
                <a:lnTo>
                  <a:pt x="526" y="159"/>
                </a:lnTo>
                <a:lnTo>
                  <a:pt x="526" y="157"/>
                </a:lnTo>
                <a:lnTo>
                  <a:pt x="526" y="159"/>
                </a:lnTo>
                <a:lnTo>
                  <a:pt x="533" y="173"/>
                </a:lnTo>
                <a:lnTo>
                  <a:pt x="541" y="189"/>
                </a:lnTo>
                <a:lnTo>
                  <a:pt x="548" y="209"/>
                </a:lnTo>
                <a:lnTo>
                  <a:pt x="554" y="230"/>
                </a:lnTo>
                <a:lnTo>
                  <a:pt x="560" y="248"/>
                </a:lnTo>
                <a:lnTo>
                  <a:pt x="562" y="266"/>
                </a:lnTo>
                <a:lnTo>
                  <a:pt x="562" y="280"/>
                </a:lnTo>
                <a:lnTo>
                  <a:pt x="562" y="284"/>
                </a:lnTo>
                <a:lnTo>
                  <a:pt x="561" y="288"/>
                </a:lnTo>
                <a:lnTo>
                  <a:pt x="557" y="286"/>
                </a:lnTo>
                <a:lnTo>
                  <a:pt x="554" y="284"/>
                </a:lnTo>
                <a:lnTo>
                  <a:pt x="551" y="284"/>
                </a:lnTo>
                <a:lnTo>
                  <a:pt x="551" y="283"/>
                </a:lnTo>
                <a:lnTo>
                  <a:pt x="539" y="283"/>
                </a:lnTo>
                <a:lnTo>
                  <a:pt x="530" y="283"/>
                </a:lnTo>
                <a:lnTo>
                  <a:pt x="525" y="283"/>
                </a:lnTo>
                <a:lnTo>
                  <a:pt x="521" y="283"/>
                </a:lnTo>
                <a:lnTo>
                  <a:pt x="518" y="283"/>
                </a:lnTo>
                <a:lnTo>
                  <a:pt x="516" y="283"/>
                </a:lnTo>
                <a:lnTo>
                  <a:pt x="515" y="283"/>
                </a:lnTo>
                <a:lnTo>
                  <a:pt x="536" y="308"/>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12" name="Freeform 206"/>
          <p:cNvSpPr/>
          <p:nvPr/>
        </p:nvSpPr>
        <p:spPr>
          <a:xfrm>
            <a:off x="4871880" y="861840"/>
            <a:ext cx="150840" cy="169920"/>
          </a:xfrm>
          <a:custGeom>
            <a:avLst/>
            <a:gdLst/>
            <a:ahLst/>
            <a:rect l="l" t="t" r="r" b="b"/>
            <a:pathLst>
              <a:path w="562" h="635">
                <a:moveTo>
                  <a:pt x="258" y="428"/>
                </a:moveTo>
                <a:lnTo>
                  <a:pt x="258" y="393"/>
                </a:lnTo>
                <a:lnTo>
                  <a:pt x="258" y="358"/>
                </a:lnTo>
                <a:lnTo>
                  <a:pt x="258" y="326"/>
                </a:lnTo>
                <a:lnTo>
                  <a:pt x="258" y="297"/>
                </a:lnTo>
                <a:lnTo>
                  <a:pt x="258" y="269"/>
                </a:lnTo>
                <a:lnTo>
                  <a:pt x="258" y="244"/>
                </a:lnTo>
                <a:lnTo>
                  <a:pt x="258" y="220"/>
                </a:lnTo>
                <a:lnTo>
                  <a:pt x="258" y="198"/>
                </a:lnTo>
                <a:lnTo>
                  <a:pt x="258" y="177"/>
                </a:lnTo>
                <a:lnTo>
                  <a:pt x="258" y="160"/>
                </a:lnTo>
                <a:lnTo>
                  <a:pt x="258" y="143"/>
                </a:lnTo>
                <a:lnTo>
                  <a:pt x="258" y="128"/>
                </a:lnTo>
                <a:lnTo>
                  <a:pt x="258" y="113"/>
                </a:lnTo>
                <a:lnTo>
                  <a:pt x="258" y="102"/>
                </a:lnTo>
                <a:lnTo>
                  <a:pt x="258" y="80"/>
                </a:lnTo>
                <a:lnTo>
                  <a:pt x="258" y="64"/>
                </a:lnTo>
                <a:lnTo>
                  <a:pt x="258" y="51"/>
                </a:lnTo>
                <a:lnTo>
                  <a:pt x="258" y="42"/>
                </a:lnTo>
                <a:lnTo>
                  <a:pt x="258" y="36"/>
                </a:lnTo>
                <a:lnTo>
                  <a:pt x="258" y="33"/>
                </a:lnTo>
                <a:lnTo>
                  <a:pt x="258" y="32"/>
                </a:lnTo>
                <a:lnTo>
                  <a:pt x="258" y="30"/>
                </a:lnTo>
                <a:lnTo>
                  <a:pt x="255" y="19"/>
                </a:lnTo>
                <a:lnTo>
                  <a:pt x="247" y="9"/>
                </a:lnTo>
                <a:lnTo>
                  <a:pt x="237" y="1"/>
                </a:lnTo>
                <a:lnTo>
                  <a:pt x="231" y="0"/>
                </a:lnTo>
                <a:lnTo>
                  <a:pt x="226" y="0"/>
                </a:lnTo>
                <a:lnTo>
                  <a:pt x="192" y="0"/>
                </a:lnTo>
                <a:lnTo>
                  <a:pt x="162" y="0"/>
                </a:lnTo>
                <a:lnTo>
                  <a:pt x="135" y="0"/>
                </a:lnTo>
                <a:lnTo>
                  <a:pt x="114" y="0"/>
                </a:lnTo>
                <a:lnTo>
                  <a:pt x="95" y="0"/>
                </a:lnTo>
                <a:lnTo>
                  <a:pt x="79" y="0"/>
                </a:lnTo>
                <a:lnTo>
                  <a:pt x="65" y="0"/>
                </a:lnTo>
                <a:lnTo>
                  <a:pt x="55" y="0"/>
                </a:lnTo>
                <a:lnTo>
                  <a:pt x="47" y="0"/>
                </a:lnTo>
                <a:lnTo>
                  <a:pt x="41" y="0"/>
                </a:lnTo>
                <a:lnTo>
                  <a:pt x="36" y="0"/>
                </a:lnTo>
                <a:lnTo>
                  <a:pt x="33" y="0"/>
                </a:lnTo>
                <a:lnTo>
                  <a:pt x="31" y="0"/>
                </a:lnTo>
                <a:lnTo>
                  <a:pt x="31" y="0"/>
                </a:lnTo>
                <a:lnTo>
                  <a:pt x="25" y="0"/>
                </a:lnTo>
                <a:lnTo>
                  <a:pt x="19" y="1"/>
                </a:lnTo>
                <a:lnTo>
                  <a:pt x="9" y="9"/>
                </a:lnTo>
                <a:lnTo>
                  <a:pt x="1" y="19"/>
                </a:lnTo>
                <a:lnTo>
                  <a:pt x="0" y="30"/>
                </a:lnTo>
                <a:lnTo>
                  <a:pt x="0" y="67"/>
                </a:lnTo>
                <a:lnTo>
                  <a:pt x="0" y="100"/>
                </a:lnTo>
                <a:lnTo>
                  <a:pt x="0" y="132"/>
                </a:lnTo>
                <a:lnTo>
                  <a:pt x="0" y="161"/>
                </a:lnTo>
                <a:lnTo>
                  <a:pt x="0" y="189"/>
                </a:lnTo>
                <a:lnTo>
                  <a:pt x="0" y="215"/>
                </a:lnTo>
                <a:lnTo>
                  <a:pt x="0" y="239"/>
                </a:lnTo>
                <a:lnTo>
                  <a:pt x="0" y="260"/>
                </a:lnTo>
                <a:lnTo>
                  <a:pt x="0" y="281"/>
                </a:lnTo>
                <a:lnTo>
                  <a:pt x="0" y="300"/>
                </a:lnTo>
                <a:lnTo>
                  <a:pt x="0" y="316"/>
                </a:lnTo>
                <a:lnTo>
                  <a:pt x="0" y="332"/>
                </a:lnTo>
                <a:lnTo>
                  <a:pt x="0" y="345"/>
                </a:lnTo>
                <a:lnTo>
                  <a:pt x="0" y="358"/>
                </a:lnTo>
                <a:lnTo>
                  <a:pt x="0" y="378"/>
                </a:lnTo>
                <a:lnTo>
                  <a:pt x="0" y="394"/>
                </a:lnTo>
                <a:lnTo>
                  <a:pt x="0" y="407"/>
                </a:lnTo>
                <a:lnTo>
                  <a:pt x="0" y="416"/>
                </a:lnTo>
                <a:lnTo>
                  <a:pt x="0" y="422"/>
                </a:lnTo>
                <a:lnTo>
                  <a:pt x="0" y="426"/>
                </a:lnTo>
                <a:lnTo>
                  <a:pt x="0" y="428"/>
                </a:lnTo>
                <a:lnTo>
                  <a:pt x="0" y="428"/>
                </a:lnTo>
                <a:lnTo>
                  <a:pt x="1" y="439"/>
                </a:lnTo>
                <a:lnTo>
                  <a:pt x="9" y="450"/>
                </a:lnTo>
                <a:lnTo>
                  <a:pt x="19" y="457"/>
                </a:lnTo>
                <a:lnTo>
                  <a:pt x="31" y="460"/>
                </a:lnTo>
                <a:lnTo>
                  <a:pt x="65" y="460"/>
                </a:lnTo>
                <a:lnTo>
                  <a:pt x="95" y="460"/>
                </a:lnTo>
                <a:lnTo>
                  <a:pt x="121" y="460"/>
                </a:lnTo>
                <a:lnTo>
                  <a:pt x="144" y="460"/>
                </a:lnTo>
                <a:lnTo>
                  <a:pt x="163" y="460"/>
                </a:lnTo>
                <a:lnTo>
                  <a:pt x="179" y="460"/>
                </a:lnTo>
                <a:lnTo>
                  <a:pt x="192" y="460"/>
                </a:lnTo>
                <a:lnTo>
                  <a:pt x="202" y="460"/>
                </a:lnTo>
                <a:lnTo>
                  <a:pt x="210" y="460"/>
                </a:lnTo>
                <a:lnTo>
                  <a:pt x="215" y="460"/>
                </a:lnTo>
                <a:lnTo>
                  <a:pt x="220" y="460"/>
                </a:lnTo>
                <a:lnTo>
                  <a:pt x="223" y="460"/>
                </a:lnTo>
                <a:lnTo>
                  <a:pt x="226" y="460"/>
                </a:lnTo>
                <a:lnTo>
                  <a:pt x="226" y="460"/>
                </a:lnTo>
                <a:lnTo>
                  <a:pt x="237" y="457"/>
                </a:lnTo>
                <a:lnTo>
                  <a:pt x="247" y="450"/>
                </a:lnTo>
                <a:lnTo>
                  <a:pt x="255" y="439"/>
                </a:lnTo>
                <a:lnTo>
                  <a:pt x="258" y="428"/>
                </a:lnTo>
                <a:close/>
                <a:moveTo>
                  <a:pt x="172" y="489"/>
                </a:moveTo>
                <a:lnTo>
                  <a:pt x="140" y="489"/>
                </a:lnTo>
                <a:lnTo>
                  <a:pt x="140" y="582"/>
                </a:lnTo>
                <a:lnTo>
                  <a:pt x="140" y="619"/>
                </a:lnTo>
                <a:lnTo>
                  <a:pt x="172" y="619"/>
                </a:lnTo>
                <a:lnTo>
                  <a:pt x="268" y="619"/>
                </a:lnTo>
                <a:lnTo>
                  <a:pt x="268" y="582"/>
                </a:lnTo>
                <a:lnTo>
                  <a:pt x="172" y="582"/>
                </a:lnTo>
                <a:lnTo>
                  <a:pt x="172" y="489"/>
                </a:lnTo>
                <a:close/>
                <a:moveTo>
                  <a:pt x="403" y="156"/>
                </a:moveTo>
                <a:lnTo>
                  <a:pt x="434" y="156"/>
                </a:lnTo>
                <a:lnTo>
                  <a:pt x="434" y="60"/>
                </a:lnTo>
                <a:lnTo>
                  <a:pt x="434" y="23"/>
                </a:lnTo>
                <a:lnTo>
                  <a:pt x="403" y="23"/>
                </a:lnTo>
                <a:lnTo>
                  <a:pt x="278" y="23"/>
                </a:lnTo>
                <a:lnTo>
                  <a:pt x="278" y="60"/>
                </a:lnTo>
                <a:lnTo>
                  <a:pt x="403" y="60"/>
                </a:lnTo>
                <a:lnTo>
                  <a:pt x="403" y="156"/>
                </a:lnTo>
                <a:close/>
                <a:moveTo>
                  <a:pt x="526" y="176"/>
                </a:moveTo>
                <a:lnTo>
                  <a:pt x="492" y="176"/>
                </a:lnTo>
                <a:lnTo>
                  <a:pt x="461" y="176"/>
                </a:lnTo>
                <a:lnTo>
                  <a:pt x="437" y="176"/>
                </a:lnTo>
                <a:lnTo>
                  <a:pt x="415" y="176"/>
                </a:lnTo>
                <a:lnTo>
                  <a:pt x="396" y="176"/>
                </a:lnTo>
                <a:lnTo>
                  <a:pt x="381" y="176"/>
                </a:lnTo>
                <a:lnTo>
                  <a:pt x="368" y="176"/>
                </a:lnTo>
                <a:lnTo>
                  <a:pt x="358" y="176"/>
                </a:lnTo>
                <a:lnTo>
                  <a:pt x="349" y="176"/>
                </a:lnTo>
                <a:lnTo>
                  <a:pt x="344" y="176"/>
                </a:lnTo>
                <a:lnTo>
                  <a:pt x="339" y="176"/>
                </a:lnTo>
                <a:lnTo>
                  <a:pt x="338" y="176"/>
                </a:lnTo>
                <a:lnTo>
                  <a:pt x="335" y="176"/>
                </a:lnTo>
                <a:lnTo>
                  <a:pt x="333" y="176"/>
                </a:lnTo>
                <a:lnTo>
                  <a:pt x="320" y="177"/>
                </a:lnTo>
                <a:lnTo>
                  <a:pt x="309" y="185"/>
                </a:lnTo>
                <a:lnTo>
                  <a:pt x="300" y="195"/>
                </a:lnTo>
                <a:lnTo>
                  <a:pt x="298" y="201"/>
                </a:lnTo>
                <a:lnTo>
                  <a:pt x="298" y="207"/>
                </a:lnTo>
                <a:lnTo>
                  <a:pt x="298" y="243"/>
                </a:lnTo>
                <a:lnTo>
                  <a:pt x="298" y="276"/>
                </a:lnTo>
                <a:lnTo>
                  <a:pt x="298" y="308"/>
                </a:lnTo>
                <a:lnTo>
                  <a:pt x="298" y="338"/>
                </a:lnTo>
                <a:lnTo>
                  <a:pt x="298" y="365"/>
                </a:lnTo>
                <a:lnTo>
                  <a:pt x="298" y="390"/>
                </a:lnTo>
                <a:lnTo>
                  <a:pt x="298" y="413"/>
                </a:lnTo>
                <a:lnTo>
                  <a:pt x="298" y="435"/>
                </a:lnTo>
                <a:lnTo>
                  <a:pt x="298" y="456"/>
                </a:lnTo>
                <a:lnTo>
                  <a:pt x="298" y="474"/>
                </a:lnTo>
                <a:lnTo>
                  <a:pt x="298" y="490"/>
                </a:lnTo>
                <a:lnTo>
                  <a:pt x="298" y="506"/>
                </a:lnTo>
                <a:lnTo>
                  <a:pt x="298" y="533"/>
                </a:lnTo>
                <a:lnTo>
                  <a:pt x="298" y="553"/>
                </a:lnTo>
                <a:lnTo>
                  <a:pt x="298" y="571"/>
                </a:lnTo>
                <a:lnTo>
                  <a:pt x="298" y="582"/>
                </a:lnTo>
                <a:lnTo>
                  <a:pt x="298" y="591"/>
                </a:lnTo>
                <a:lnTo>
                  <a:pt x="298" y="597"/>
                </a:lnTo>
                <a:lnTo>
                  <a:pt x="298" y="601"/>
                </a:lnTo>
                <a:lnTo>
                  <a:pt x="298" y="603"/>
                </a:lnTo>
                <a:lnTo>
                  <a:pt x="298" y="603"/>
                </a:lnTo>
                <a:lnTo>
                  <a:pt x="298" y="608"/>
                </a:lnTo>
                <a:lnTo>
                  <a:pt x="300" y="614"/>
                </a:lnTo>
                <a:lnTo>
                  <a:pt x="309" y="624"/>
                </a:lnTo>
                <a:lnTo>
                  <a:pt x="320" y="632"/>
                </a:lnTo>
                <a:lnTo>
                  <a:pt x="333" y="635"/>
                </a:lnTo>
                <a:lnTo>
                  <a:pt x="368" y="635"/>
                </a:lnTo>
                <a:lnTo>
                  <a:pt x="397" y="635"/>
                </a:lnTo>
                <a:lnTo>
                  <a:pt x="422" y="635"/>
                </a:lnTo>
                <a:lnTo>
                  <a:pt x="444" y="635"/>
                </a:lnTo>
                <a:lnTo>
                  <a:pt x="463" y="635"/>
                </a:lnTo>
                <a:lnTo>
                  <a:pt x="479" y="635"/>
                </a:lnTo>
                <a:lnTo>
                  <a:pt x="491" y="635"/>
                </a:lnTo>
                <a:lnTo>
                  <a:pt x="501" y="635"/>
                </a:lnTo>
                <a:lnTo>
                  <a:pt x="510" y="635"/>
                </a:lnTo>
                <a:lnTo>
                  <a:pt x="515" y="635"/>
                </a:lnTo>
                <a:lnTo>
                  <a:pt x="520" y="635"/>
                </a:lnTo>
                <a:lnTo>
                  <a:pt x="523" y="635"/>
                </a:lnTo>
                <a:lnTo>
                  <a:pt x="526" y="635"/>
                </a:lnTo>
                <a:lnTo>
                  <a:pt x="526" y="635"/>
                </a:lnTo>
                <a:lnTo>
                  <a:pt x="540" y="632"/>
                </a:lnTo>
                <a:lnTo>
                  <a:pt x="552" y="624"/>
                </a:lnTo>
                <a:lnTo>
                  <a:pt x="559" y="614"/>
                </a:lnTo>
                <a:lnTo>
                  <a:pt x="562" y="603"/>
                </a:lnTo>
                <a:lnTo>
                  <a:pt x="562" y="568"/>
                </a:lnTo>
                <a:lnTo>
                  <a:pt x="562" y="533"/>
                </a:lnTo>
                <a:lnTo>
                  <a:pt x="562" y="502"/>
                </a:lnTo>
                <a:lnTo>
                  <a:pt x="562" y="472"/>
                </a:lnTo>
                <a:lnTo>
                  <a:pt x="562" y="445"/>
                </a:lnTo>
                <a:lnTo>
                  <a:pt x="562" y="419"/>
                </a:lnTo>
                <a:lnTo>
                  <a:pt x="562" y="396"/>
                </a:lnTo>
                <a:lnTo>
                  <a:pt x="562" y="374"/>
                </a:lnTo>
                <a:lnTo>
                  <a:pt x="562" y="354"/>
                </a:lnTo>
                <a:lnTo>
                  <a:pt x="562" y="335"/>
                </a:lnTo>
                <a:lnTo>
                  <a:pt x="562" y="319"/>
                </a:lnTo>
                <a:lnTo>
                  <a:pt x="562" y="303"/>
                </a:lnTo>
                <a:lnTo>
                  <a:pt x="562" y="276"/>
                </a:lnTo>
                <a:lnTo>
                  <a:pt x="562" y="256"/>
                </a:lnTo>
                <a:lnTo>
                  <a:pt x="562" y="240"/>
                </a:lnTo>
                <a:lnTo>
                  <a:pt x="562" y="227"/>
                </a:lnTo>
                <a:lnTo>
                  <a:pt x="562" y="218"/>
                </a:lnTo>
                <a:lnTo>
                  <a:pt x="562" y="212"/>
                </a:lnTo>
                <a:lnTo>
                  <a:pt x="562" y="209"/>
                </a:lnTo>
                <a:lnTo>
                  <a:pt x="562" y="207"/>
                </a:lnTo>
                <a:lnTo>
                  <a:pt x="562" y="207"/>
                </a:lnTo>
                <a:lnTo>
                  <a:pt x="559" y="195"/>
                </a:lnTo>
                <a:lnTo>
                  <a:pt x="552" y="185"/>
                </a:lnTo>
                <a:lnTo>
                  <a:pt x="540" y="177"/>
                </a:lnTo>
                <a:lnTo>
                  <a:pt x="526" y="176"/>
                </a:lnTo>
                <a:close/>
                <a:moveTo>
                  <a:pt x="505" y="196"/>
                </a:moveTo>
                <a:lnTo>
                  <a:pt x="508" y="196"/>
                </a:lnTo>
                <a:lnTo>
                  <a:pt x="512" y="199"/>
                </a:lnTo>
                <a:lnTo>
                  <a:pt x="514" y="202"/>
                </a:lnTo>
                <a:lnTo>
                  <a:pt x="515" y="207"/>
                </a:lnTo>
                <a:lnTo>
                  <a:pt x="514" y="209"/>
                </a:lnTo>
                <a:lnTo>
                  <a:pt x="512" y="211"/>
                </a:lnTo>
                <a:lnTo>
                  <a:pt x="505" y="211"/>
                </a:lnTo>
                <a:lnTo>
                  <a:pt x="498" y="211"/>
                </a:lnTo>
                <a:lnTo>
                  <a:pt x="495" y="209"/>
                </a:lnTo>
                <a:lnTo>
                  <a:pt x="493" y="207"/>
                </a:lnTo>
                <a:lnTo>
                  <a:pt x="495" y="202"/>
                </a:lnTo>
                <a:lnTo>
                  <a:pt x="498" y="199"/>
                </a:lnTo>
                <a:lnTo>
                  <a:pt x="501" y="196"/>
                </a:lnTo>
                <a:lnTo>
                  <a:pt x="505" y="196"/>
                </a:lnTo>
                <a:close/>
                <a:moveTo>
                  <a:pt x="386" y="201"/>
                </a:moveTo>
                <a:lnTo>
                  <a:pt x="402" y="201"/>
                </a:lnTo>
                <a:lnTo>
                  <a:pt x="415" y="201"/>
                </a:lnTo>
                <a:lnTo>
                  <a:pt x="427" y="201"/>
                </a:lnTo>
                <a:lnTo>
                  <a:pt x="437" y="201"/>
                </a:lnTo>
                <a:lnTo>
                  <a:pt x="445" y="201"/>
                </a:lnTo>
                <a:lnTo>
                  <a:pt x="453" y="201"/>
                </a:lnTo>
                <a:lnTo>
                  <a:pt x="463" y="201"/>
                </a:lnTo>
                <a:lnTo>
                  <a:pt x="469" y="201"/>
                </a:lnTo>
                <a:lnTo>
                  <a:pt x="472" y="201"/>
                </a:lnTo>
                <a:lnTo>
                  <a:pt x="473" y="201"/>
                </a:lnTo>
                <a:lnTo>
                  <a:pt x="473" y="201"/>
                </a:lnTo>
                <a:lnTo>
                  <a:pt x="473" y="204"/>
                </a:lnTo>
                <a:lnTo>
                  <a:pt x="473" y="205"/>
                </a:lnTo>
                <a:lnTo>
                  <a:pt x="473" y="207"/>
                </a:lnTo>
                <a:lnTo>
                  <a:pt x="459" y="207"/>
                </a:lnTo>
                <a:lnTo>
                  <a:pt x="444" y="207"/>
                </a:lnTo>
                <a:lnTo>
                  <a:pt x="432" y="207"/>
                </a:lnTo>
                <a:lnTo>
                  <a:pt x="422" y="207"/>
                </a:lnTo>
                <a:lnTo>
                  <a:pt x="415" y="207"/>
                </a:lnTo>
                <a:lnTo>
                  <a:pt x="408" y="207"/>
                </a:lnTo>
                <a:lnTo>
                  <a:pt x="397" y="207"/>
                </a:lnTo>
                <a:lnTo>
                  <a:pt x="390" y="207"/>
                </a:lnTo>
                <a:lnTo>
                  <a:pt x="387" y="207"/>
                </a:lnTo>
                <a:lnTo>
                  <a:pt x="386" y="207"/>
                </a:lnTo>
                <a:lnTo>
                  <a:pt x="386" y="207"/>
                </a:lnTo>
                <a:lnTo>
                  <a:pt x="386" y="201"/>
                </a:lnTo>
                <a:close/>
                <a:moveTo>
                  <a:pt x="432" y="603"/>
                </a:moveTo>
                <a:lnTo>
                  <a:pt x="422" y="601"/>
                </a:lnTo>
                <a:lnTo>
                  <a:pt x="413" y="597"/>
                </a:lnTo>
                <a:lnTo>
                  <a:pt x="408" y="588"/>
                </a:lnTo>
                <a:lnTo>
                  <a:pt x="406" y="578"/>
                </a:lnTo>
                <a:lnTo>
                  <a:pt x="408" y="571"/>
                </a:lnTo>
                <a:lnTo>
                  <a:pt x="413" y="563"/>
                </a:lnTo>
                <a:lnTo>
                  <a:pt x="422" y="559"/>
                </a:lnTo>
                <a:lnTo>
                  <a:pt x="432" y="557"/>
                </a:lnTo>
                <a:lnTo>
                  <a:pt x="440" y="559"/>
                </a:lnTo>
                <a:lnTo>
                  <a:pt x="447" y="563"/>
                </a:lnTo>
                <a:lnTo>
                  <a:pt x="451" y="571"/>
                </a:lnTo>
                <a:lnTo>
                  <a:pt x="453" y="578"/>
                </a:lnTo>
                <a:lnTo>
                  <a:pt x="451" y="588"/>
                </a:lnTo>
                <a:lnTo>
                  <a:pt x="447" y="597"/>
                </a:lnTo>
                <a:lnTo>
                  <a:pt x="440" y="601"/>
                </a:lnTo>
                <a:lnTo>
                  <a:pt x="432" y="603"/>
                </a:lnTo>
                <a:close/>
                <a:moveTo>
                  <a:pt x="536" y="525"/>
                </a:moveTo>
                <a:lnTo>
                  <a:pt x="498" y="525"/>
                </a:lnTo>
                <a:lnTo>
                  <a:pt x="466" y="525"/>
                </a:lnTo>
                <a:lnTo>
                  <a:pt x="437" y="525"/>
                </a:lnTo>
                <a:lnTo>
                  <a:pt x="413" y="525"/>
                </a:lnTo>
                <a:lnTo>
                  <a:pt x="393" y="525"/>
                </a:lnTo>
                <a:lnTo>
                  <a:pt x="376" y="525"/>
                </a:lnTo>
                <a:lnTo>
                  <a:pt x="361" y="525"/>
                </a:lnTo>
                <a:lnTo>
                  <a:pt x="351" y="525"/>
                </a:lnTo>
                <a:lnTo>
                  <a:pt x="342" y="525"/>
                </a:lnTo>
                <a:lnTo>
                  <a:pt x="335" y="525"/>
                </a:lnTo>
                <a:lnTo>
                  <a:pt x="330" y="525"/>
                </a:lnTo>
                <a:lnTo>
                  <a:pt x="328" y="525"/>
                </a:lnTo>
                <a:lnTo>
                  <a:pt x="325" y="525"/>
                </a:lnTo>
                <a:lnTo>
                  <a:pt x="323" y="525"/>
                </a:lnTo>
                <a:lnTo>
                  <a:pt x="323" y="499"/>
                </a:lnTo>
                <a:lnTo>
                  <a:pt x="323" y="474"/>
                </a:lnTo>
                <a:lnTo>
                  <a:pt x="323" y="451"/>
                </a:lnTo>
                <a:lnTo>
                  <a:pt x="323" y="429"/>
                </a:lnTo>
                <a:lnTo>
                  <a:pt x="323" y="409"/>
                </a:lnTo>
                <a:lnTo>
                  <a:pt x="323" y="390"/>
                </a:lnTo>
                <a:lnTo>
                  <a:pt x="323" y="357"/>
                </a:lnTo>
                <a:lnTo>
                  <a:pt x="323" y="327"/>
                </a:lnTo>
                <a:lnTo>
                  <a:pt x="323" y="304"/>
                </a:lnTo>
                <a:lnTo>
                  <a:pt x="323" y="285"/>
                </a:lnTo>
                <a:lnTo>
                  <a:pt x="323" y="269"/>
                </a:lnTo>
                <a:lnTo>
                  <a:pt x="323" y="256"/>
                </a:lnTo>
                <a:lnTo>
                  <a:pt x="323" y="247"/>
                </a:lnTo>
                <a:lnTo>
                  <a:pt x="323" y="242"/>
                </a:lnTo>
                <a:lnTo>
                  <a:pt x="323" y="237"/>
                </a:lnTo>
                <a:lnTo>
                  <a:pt x="323" y="234"/>
                </a:lnTo>
                <a:lnTo>
                  <a:pt x="323" y="233"/>
                </a:lnTo>
                <a:lnTo>
                  <a:pt x="323" y="233"/>
                </a:lnTo>
                <a:lnTo>
                  <a:pt x="361" y="233"/>
                </a:lnTo>
                <a:lnTo>
                  <a:pt x="393" y="233"/>
                </a:lnTo>
                <a:lnTo>
                  <a:pt x="422" y="233"/>
                </a:lnTo>
                <a:lnTo>
                  <a:pt x="447" y="233"/>
                </a:lnTo>
                <a:lnTo>
                  <a:pt x="467" y="233"/>
                </a:lnTo>
                <a:lnTo>
                  <a:pt x="483" y="233"/>
                </a:lnTo>
                <a:lnTo>
                  <a:pt x="498" y="233"/>
                </a:lnTo>
                <a:lnTo>
                  <a:pt x="510" y="233"/>
                </a:lnTo>
                <a:lnTo>
                  <a:pt x="518" y="233"/>
                </a:lnTo>
                <a:lnTo>
                  <a:pt x="524" y="233"/>
                </a:lnTo>
                <a:lnTo>
                  <a:pt x="530" y="233"/>
                </a:lnTo>
                <a:lnTo>
                  <a:pt x="533" y="233"/>
                </a:lnTo>
                <a:lnTo>
                  <a:pt x="536" y="233"/>
                </a:lnTo>
                <a:lnTo>
                  <a:pt x="536" y="233"/>
                </a:lnTo>
                <a:lnTo>
                  <a:pt x="536" y="525"/>
                </a:lnTo>
                <a:close/>
                <a:moveTo>
                  <a:pt x="201" y="20"/>
                </a:moveTo>
                <a:lnTo>
                  <a:pt x="204" y="20"/>
                </a:lnTo>
                <a:lnTo>
                  <a:pt x="208" y="23"/>
                </a:lnTo>
                <a:lnTo>
                  <a:pt x="210" y="26"/>
                </a:lnTo>
                <a:lnTo>
                  <a:pt x="211" y="30"/>
                </a:lnTo>
                <a:lnTo>
                  <a:pt x="210" y="33"/>
                </a:lnTo>
                <a:lnTo>
                  <a:pt x="208" y="35"/>
                </a:lnTo>
                <a:lnTo>
                  <a:pt x="201" y="35"/>
                </a:lnTo>
                <a:lnTo>
                  <a:pt x="198" y="35"/>
                </a:lnTo>
                <a:lnTo>
                  <a:pt x="197" y="35"/>
                </a:lnTo>
                <a:lnTo>
                  <a:pt x="195" y="33"/>
                </a:lnTo>
                <a:lnTo>
                  <a:pt x="195" y="30"/>
                </a:lnTo>
                <a:lnTo>
                  <a:pt x="197" y="23"/>
                </a:lnTo>
                <a:lnTo>
                  <a:pt x="198" y="20"/>
                </a:lnTo>
                <a:lnTo>
                  <a:pt x="201" y="20"/>
                </a:lnTo>
                <a:close/>
                <a:moveTo>
                  <a:pt x="82" y="25"/>
                </a:moveTo>
                <a:lnTo>
                  <a:pt x="99" y="25"/>
                </a:lnTo>
                <a:lnTo>
                  <a:pt x="112" y="25"/>
                </a:lnTo>
                <a:lnTo>
                  <a:pt x="125" y="25"/>
                </a:lnTo>
                <a:lnTo>
                  <a:pt x="135" y="25"/>
                </a:lnTo>
                <a:lnTo>
                  <a:pt x="144" y="25"/>
                </a:lnTo>
                <a:lnTo>
                  <a:pt x="151" y="25"/>
                </a:lnTo>
                <a:lnTo>
                  <a:pt x="163" y="25"/>
                </a:lnTo>
                <a:lnTo>
                  <a:pt x="170" y="25"/>
                </a:lnTo>
                <a:lnTo>
                  <a:pt x="173" y="25"/>
                </a:lnTo>
                <a:lnTo>
                  <a:pt x="175" y="25"/>
                </a:lnTo>
                <a:lnTo>
                  <a:pt x="175" y="25"/>
                </a:lnTo>
                <a:lnTo>
                  <a:pt x="175" y="28"/>
                </a:lnTo>
                <a:lnTo>
                  <a:pt x="175" y="30"/>
                </a:lnTo>
                <a:lnTo>
                  <a:pt x="175" y="30"/>
                </a:lnTo>
                <a:lnTo>
                  <a:pt x="159" y="30"/>
                </a:lnTo>
                <a:lnTo>
                  <a:pt x="144" y="30"/>
                </a:lnTo>
                <a:lnTo>
                  <a:pt x="131" y="30"/>
                </a:lnTo>
                <a:lnTo>
                  <a:pt x="121" y="30"/>
                </a:lnTo>
                <a:lnTo>
                  <a:pt x="112" y="30"/>
                </a:lnTo>
                <a:lnTo>
                  <a:pt x="105" y="30"/>
                </a:lnTo>
                <a:lnTo>
                  <a:pt x="93" y="30"/>
                </a:lnTo>
                <a:lnTo>
                  <a:pt x="87" y="30"/>
                </a:lnTo>
                <a:lnTo>
                  <a:pt x="83" y="30"/>
                </a:lnTo>
                <a:lnTo>
                  <a:pt x="82" y="30"/>
                </a:lnTo>
                <a:lnTo>
                  <a:pt x="82" y="30"/>
                </a:lnTo>
                <a:lnTo>
                  <a:pt x="82" y="25"/>
                </a:lnTo>
                <a:close/>
                <a:moveTo>
                  <a:pt x="20" y="351"/>
                </a:moveTo>
                <a:lnTo>
                  <a:pt x="20" y="324"/>
                </a:lnTo>
                <a:lnTo>
                  <a:pt x="20" y="298"/>
                </a:lnTo>
                <a:lnTo>
                  <a:pt x="20" y="275"/>
                </a:lnTo>
                <a:lnTo>
                  <a:pt x="20" y="253"/>
                </a:lnTo>
                <a:lnTo>
                  <a:pt x="20" y="233"/>
                </a:lnTo>
                <a:lnTo>
                  <a:pt x="20" y="214"/>
                </a:lnTo>
                <a:lnTo>
                  <a:pt x="20" y="180"/>
                </a:lnTo>
                <a:lnTo>
                  <a:pt x="20" y="151"/>
                </a:lnTo>
                <a:lnTo>
                  <a:pt x="20" y="128"/>
                </a:lnTo>
                <a:lnTo>
                  <a:pt x="20" y="109"/>
                </a:lnTo>
                <a:lnTo>
                  <a:pt x="20" y="93"/>
                </a:lnTo>
                <a:lnTo>
                  <a:pt x="20" y="81"/>
                </a:lnTo>
                <a:lnTo>
                  <a:pt x="20" y="71"/>
                </a:lnTo>
                <a:lnTo>
                  <a:pt x="20" y="65"/>
                </a:lnTo>
                <a:lnTo>
                  <a:pt x="20" y="61"/>
                </a:lnTo>
                <a:lnTo>
                  <a:pt x="20" y="58"/>
                </a:lnTo>
                <a:lnTo>
                  <a:pt x="20" y="57"/>
                </a:lnTo>
                <a:lnTo>
                  <a:pt x="20" y="57"/>
                </a:lnTo>
                <a:lnTo>
                  <a:pt x="57" y="57"/>
                </a:lnTo>
                <a:lnTo>
                  <a:pt x="90" y="57"/>
                </a:lnTo>
                <a:lnTo>
                  <a:pt x="118" y="57"/>
                </a:lnTo>
                <a:lnTo>
                  <a:pt x="143" y="57"/>
                </a:lnTo>
                <a:lnTo>
                  <a:pt x="163" y="57"/>
                </a:lnTo>
                <a:lnTo>
                  <a:pt x="181" y="57"/>
                </a:lnTo>
                <a:lnTo>
                  <a:pt x="194" y="57"/>
                </a:lnTo>
                <a:lnTo>
                  <a:pt x="205" y="57"/>
                </a:lnTo>
                <a:lnTo>
                  <a:pt x="214" y="57"/>
                </a:lnTo>
                <a:lnTo>
                  <a:pt x="220" y="57"/>
                </a:lnTo>
                <a:lnTo>
                  <a:pt x="226" y="57"/>
                </a:lnTo>
                <a:lnTo>
                  <a:pt x="229" y="57"/>
                </a:lnTo>
                <a:lnTo>
                  <a:pt x="231" y="57"/>
                </a:lnTo>
                <a:lnTo>
                  <a:pt x="231" y="57"/>
                </a:lnTo>
                <a:lnTo>
                  <a:pt x="231" y="83"/>
                </a:lnTo>
                <a:lnTo>
                  <a:pt x="231" y="108"/>
                </a:lnTo>
                <a:lnTo>
                  <a:pt x="231" y="131"/>
                </a:lnTo>
                <a:lnTo>
                  <a:pt x="231" y="154"/>
                </a:lnTo>
                <a:lnTo>
                  <a:pt x="231" y="175"/>
                </a:lnTo>
                <a:lnTo>
                  <a:pt x="231" y="193"/>
                </a:lnTo>
                <a:lnTo>
                  <a:pt x="231" y="227"/>
                </a:lnTo>
                <a:lnTo>
                  <a:pt x="231" y="255"/>
                </a:lnTo>
                <a:lnTo>
                  <a:pt x="231" y="279"/>
                </a:lnTo>
                <a:lnTo>
                  <a:pt x="231" y="298"/>
                </a:lnTo>
                <a:lnTo>
                  <a:pt x="231" y="314"/>
                </a:lnTo>
                <a:lnTo>
                  <a:pt x="231" y="326"/>
                </a:lnTo>
                <a:lnTo>
                  <a:pt x="231" y="335"/>
                </a:lnTo>
                <a:lnTo>
                  <a:pt x="231" y="342"/>
                </a:lnTo>
                <a:lnTo>
                  <a:pt x="231" y="346"/>
                </a:lnTo>
                <a:lnTo>
                  <a:pt x="231" y="349"/>
                </a:lnTo>
                <a:lnTo>
                  <a:pt x="231" y="351"/>
                </a:lnTo>
                <a:lnTo>
                  <a:pt x="231" y="351"/>
                </a:lnTo>
                <a:lnTo>
                  <a:pt x="20" y="351"/>
                </a:lnTo>
                <a:close/>
                <a:moveTo>
                  <a:pt x="128" y="428"/>
                </a:moveTo>
                <a:lnTo>
                  <a:pt x="121" y="426"/>
                </a:lnTo>
                <a:lnTo>
                  <a:pt x="114" y="421"/>
                </a:lnTo>
                <a:lnTo>
                  <a:pt x="109" y="413"/>
                </a:lnTo>
                <a:lnTo>
                  <a:pt x="108" y="403"/>
                </a:lnTo>
                <a:lnTo>
                  <a:pt x="109" y="394"/>
                </a:lnTo>
                <a:lnTo>
                  <a:pt x="114" y="389"/>
                </a:lnTo>
                <a:lnTo>
                  <a:pt x="121" y="384"/>
                </a:lnTo>
                <a:lnTo>
                  <a:pt x="128" y="381"/>
                </a:lnTo>
                <a:lnTo>
                  <a:pt x="135" y="384"/>
                </a:lnTo>
                <a:lnTo>
                  <a:pt x="143" y="389"/>
                </a:lnTo>
                <a:lnTo>
                  <a:pt x="147" y="394"/>
                </a:lnTo>
                <a:lnTo>
                  <a:pt x="148" y="403"/>
                </a:lnTo>
                <a:lnTo>
                  <a:pt x="147" y="413"/>
                </a:lnTo>
                <a:lnTo>
                  <a:pt x="143" y="421"/>
                </a:lnTo>
                <a:lnTo>
                  <a:pt x="135" y="426"/>
                </a:lnTo>
                <a:lnTo>
                  <a:pt x="128" y="428"/>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13" name="Freeform 207"/>
          <p:cNvSpPr/>
          <p:nvPr/>
        </p:nvSpPr>
        <p:spPr>
          <a:xfrm>
            <a:off x="3235320" y="2252520"/>
            <a:ext cx="163440" cy="217800"/>
          </a:xfrm>
          <a:custGeom>
            <a:avLst/>
            <a:gdLst/>
            <a:ahLst/>
            <a:rect l="l" t="t" r="r" b="b"/>
            <a:pathLst>
              <a:path w="609" h="813">
                <a:moveTo>
                  <a:pt x="609" y="813"/>
                </a:moveTo>
                <a:lnTo>
                  <a:pt x="0" y="813"/>
                </a:lnTo>
                <a:lnTo>
                  <a:pt x="0" y="102"/>
                </a:lnTo>
                <a:lnTo>
                  <a:pt x="78" y="102"/>
                </a:lnTo>
                <a:lnTo>
                  <a:pt x="102" y="102"/>
                </a:lnTo>
                <a:lnTo>
                  <a:pt x="153" y="102"/>
                </a:lnTo>
                <a:lnTo>
                  <a:pt x="153" y="51"/>
                </a:lnTo>
                <a:lnTo>
                  <a:pt x="232" y="51"/>
                </a:lnTo>
                <a:cubicBezTo>
                  <a:pt x="243" y="22"/>
                  <a:pt x="271" y="0"/>
                  <a:pt x="304" y="0"/>
                </a:cubicBezTo>
                <a:cubicBezTo>
                  <a:pt x="337" y="0"/>
                  <a:pt x="366" y="22"/>
                  <a:pt x="376" y="51"/>
                </a:cubicBezTo>
                <a:lnTo>
                  <a:pt x="456" y="51"/>
                </a:lnTo>
                <a:lnTo>
                  <a:pt x="456" y="102"/>
                </a:lnTo>
                <a:lnTo>
                  <a:pt x="506" y="102"/>
                </a:lnTo>
                <a:lnTo>
                  <a:pt x="525" y="102"/>
                </a:lnTo>
                <a:lnTo>
                  <a:pt x="609" y="102"/>
                </a:lnTo>
                <a:lnTo>
                  <a:pt x="609" y="813"/>
                </a:lnTo>
                <a:close/>
                <a:moveTo>
                  <a:pt x="456" y="357"/>
                </a:moveTo>
                <a:lnTo>
                  <a:pt x="152" y="357"/>
                </a:lnTo>
                <a:lnTo>
                  <a:pt x="152" y="307"/>
                </a:lnTo>
                <a:lnTo>
                  <a:pt x="456" y="307"/>
                </a:lnTo>
                <a:lnTo>
                  <a:pt x="456" y="357"/>
                </a:lnTo>
                <a:close/>
                <a:moveTo>
                  <a:pt x="456" y="153"/>
                </a:moveTo>
                <a:lnTo>
                  <a:pt x="456" y="204"/>
                </a:lnTo>
                <a:lnTo>
                  <a:pt x="153" y="204"/>
                </a:lnTo>
                <a:lnTo>
                  <a:pt x="153" y="153"/>
                </a:lnTo>
                <a:lnTo>
                  <a:pt x="102" y="153"/>
                </a:lnTo>
                <a:lnTo>
                  <a:pt x="102" y="153"/>
                </a:lnTo>
                <a:lnTo>
                  <a:pt x="51" y="153"/>
                </a:lnTo>
                <a:lnTo>
                  <a:pt x="51" y="762"/>
                </a:lnTo>
                <a:lnTo>
                  <a:pt x="558" y="762"/>
                </a:lnTo>
                <a:lnTo>
                  <a:pt x="558" y="153"/>
                </a:lnTo>
                <a:lnTo>
                  <a:pt x="506" y="153"/>
                </a:lnTo>
                <a:lnTo>
                  <a:pt x="506" y="153"/>
                </a:lnTo>
                <a:lnTo>
                  <a:pt x="456" y="153"/>
                </a:lnTo>
                <a:close/>
                <a:moveTo>
                  <a:pt x="456" y="660"/>
                </a:moveTo>
                <a:lnTo>
                  <a:pt x="152" y="660"/>
                </a:lnTo>
                <a:lnTo>
                  <a:pt x="152" y="610"/>
                </a:lnTo>
                <a:lnTo>
                  <a:pt x="456" y="610"/>
                </a:lnTo>
                <a:lnTo>
                  <a:pt x="456" y="660"/>
                </a:lnTo>
                <a:close/>
                <a:moveTo>
                  <a:pt x="456" y="559"/>
                </a:moveTo>
                <a:lnTo>
                  <a:pt x="152" y="559"/>
                </a:lnTo>
                <a:lnTo>
                  <a:pt x="152" y="508"/>
                </a:lnTo>
                <a:lnTo>
                  <a:pt x="456" y="508"/>
                </a:lnTo>
                <a:lnTo>
                  <a:pt x="456" y="559"/>
                </a:lnTo>
                <a:close/>
                <a:moveTo>
                  <a:pt x="456" y="457"/>
                </a:moveTo>
                <a:lnTo>
                  <a:pt x="152" y="457"/>
                </a:lnTo>
                <a:lnTo>
                  <a:pt x="152" y="407"/>
                </a:lnTo>
                <a:lnTo>
                  <a:pt x="456" y="407"/>
                </a:lnTo>
                <a:lnTo>
                  <a:pt x="456" y="457"/>
                </a:lnTo>
                <a:close/>
                <a:moveTo>
                  <a:pt x="204" y="153"/>
                </a:moveTo>
                <a:lnTo>
                  <a:pt x="405" y="153"/>
                </a:lnTo>
                <a:lnTo>
                  <a:pt x="405" y="102"/>
                </a:lnTo>
                <a:lnTo>
                  <a:pt x="330" y="102"/>
                </a:lnTo>
                <a:lnTo>
                  <a:pt x="330" y="77"/>
                </a:lnTo>
                <a:cubicBezTo>
                  <a:pt x="330" y="63"/>
                  <a:pt x="318" y="51"/>
                  <a:pt x="304" y="51"/>
                </a:cubicBezTo>
                <a:cubicBezTo>
                  <a:pt x="290" y="51"/>
                  <a:pt x="279" y="63"/>
                  <a:pt x="279" y="77"/>
                </a:cubicBezTo>
                <a:lnTo>
                  <a:pt x="279" y="102"/>
                </a:lnTo>
                <a:lnTo>
                  <a:pt x="204" y="102"/>
                </a:lnTo>
                <a:lnTo>
                  <a:pt x="204" y="153"/>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14" name="Freeform 208"/>
          <p:cNvSpPr/>
          <p:nvPr/>
        </p:nvSpPr>
        <p:spPr>
          <a:xfrm>
            <a:off x="5224320" y="2263680"/>
            <a:ext cx="182880" cy="195480"/>
          </a:xfrm>
          <a:custGeom>
            <a:avLst/>
            <a:gdLst/>
            <a:ahLst/>
            <a:rect l="l" t="t" r="r" b="b"/>
            <a:pathLst>
              <a:path w="682" h="727">
                <a:moveTo>
                  <a:pt x="318" y="522"/>
                </a:moveTo>
                <a:lnTo>
                  <a:pt x="318" y="113"/>
                </a:lnTo>
                <a:cubicBezTo>
                  <a:pt x="318" y="76"/>
                  <a:pt x="287" y="45"/>
                  <a:pt x="250" y="45"/>
                </a:cubicBezTo>
                <a:lnTo>
                  <a:pt x="45" y="45"/>
                </a:lnTo>
                <a:lnTo>
                  <a:pt x="45" y="523"/>
                </a:lnTo>
                <a:lnTo>
                  <a:pt x="179" y="523"/>
                </a:lnTo>
                <a:lnTo>
                  <a:pt x="179" y="522"/>
                </a:lnTo>
                <a:lnTo>
                  <a:pt x="318" y="522"/>
                </a:lnTo>
                <a:close/>
                <a:moveTo>
                  <a:pt x="179" y="568"/>
                </a:moveTo>
                <a:lnTo>
                  <a:pt x="0" y="568"/>
                </a:lnTo>
                <a:lnTo>
                  <a:pt x="0" y="0"/>
                </a:lnTo>
                <a:lnTo>
                  <a:pt x="250" y="0"/>
                </a:lnTo>
                <a:cubicBezTo>
                  <a:pt x="287" y="0"/>
                  <a:pt x="320" y="17"/>
                  <a:pt x="341" y="45"/>
                </a:cubicBezTo>
                <a:cubicBezTo>
                  <a:pt x="362" y="17"/>
                  <a:pt x="395" y="0"/>
                  <a:pt x="432" y="0"/>
                </a:cubicBezTo>
                <a:lnTo>
                  <a:pt x="682" y="0"/>
                </a:lnTo>
                <a:lnTo>
                  <a:pt x="682" y="568"/>
                </a:lnTo>
                <a:lnTo>
                  <a:pt x="441" y="568"/>
                </a:lnTo>
                <a:lnTo>
                  <a:pt x="441" y="569"/>
                </a:lnTo>
                <a:lnTo>
                  <a:pt x="179" y="569"/>
                </a:lnTo>
                <a:lnTo>
                  <a:pt x="179" y="568"/>
                </a:lnTo>
                <a:close/>
                <a:moveTo>
                  <a:pt x="441" y="523"/>
                </a:moveTo>
                <a:lnTo>
                  <a:pt x="636" y="523"/>
                </a:lnTo>
                <a:lnTo>
                  <a:pt x="636" y="45"/>
                </a:lnTo>
                <a:lnTo>
                  <a:pt x="432" y="45"/>
                </a:lnTo>
                <a:cubicBezTo>
                  <a:pt x="394" y="45"/>
                  <a:pt x="364" y="76"/>
                  <a:pt x="364" y="113"/>
                </a:cubicBezTo>
                <a:lnTo>
                  <a:pt x="364" y="522"/>
                </a:lnTo>
                <a:lnTo>
                  <a:pt x="441" y="522"/>
                </a:lnTo>
                <a:lnTo>
                  <a:pt x="441" y="523"/>
                </a:lnTo>
                <a:close/>
                <a:moveTo>
                  <a:pt x="341" y="659"/>
                </a:moveTo>
                <a:cubicBezTo>
                  <a:pt x="362" y="632"/>
                  <a:pt x="395" y="614"/>
                  <a:pt x="432" y="614"/>
                </a:cubicBezTo>
                <a:lnTo>
                  <a:pt x="682" y="614"/>
                </a:lnTo>
                <a:lnTo>
                  <a:pt x="682" y="659"/>
                </a:lnTo>
                <a:lnTo>
                  <a:pt x="432" y="659"/>
                </a:lnTo>
                <a:cubicBezTo>
                  <a:pt x="394" y="659"/>
                  <a:pt x="364" y="690"/>
                  <a:pt x="364" y="727"/>
                </a:cubicBezTo>
                <a:lnTo>
                  <a:pt x="318" y="727"/>
                </a:lnTo>
                <a:cubicBezTo>
                  <a:pt x="318" y="690"/>
                  <a:pt x="287" y="659"/>
                  <a:pt x="250" y="659"/>
                </a:cubicBezTo>
                <a:lnTo>
                  <a:pt x="0" y="659"/>
                </a:lnTo>
                <a:lnTo>
                  <a:pt x="0" y="614"/>
                </a:lnTo>
                <a:lnTo>
                  <a:pt x="250" y="614"/>
                </a:lnTo>
                <a:cubicBezTo>
                  <a:pt x="287" y="614"/>
                  <a:pt x="320" y="632"/>
                  <a:pt x="341" y="65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15" name="Freeform 209"/>
          <p:cNvSpPr/>
          <p:nvPr/>
        </p:nvSpPr>
        <p:spPr>
          <a:xfrm>
            <a:off x="3579840" y="2252520"/>
            <a:ext cx="162000" cy="217800"/>
          </a:xfrm>
          <a:custGeom>
            <a:avLst/>
            <a:gdLst/>
            <a:ahLst/>
            <a:rect l="l" t="t" r="r" b="b"/>
            <a:pathLst>
              <a:path w="609" h="813">
                <a:moveTo>
                  <a:pt x="609" y="813"/>
                </a:moveTo>
                <a:lnTo>
                  <a:pt x="0" y="813"/>
                </a:lnTo>
                <a:lnTo>
                  <a:pt x="0" y="102"/>
                </a:lnTo>
                <a:lnTo>
                  <a:pt x="78" y="102"/>
                </a:lnTo>
                <a:lnTo>
                  <a:pt x="78" y="102"/>
                </a:lnTo>
                <a:lnTo>
                  <a:pt x="153" y="102"/>
                </a:lnTo>
                <a:lnTo>
                  <a:pt x="153" y="51"/>
                </a:lnTo>
                <a:lnTo>
                  <a:pt x="233" y="51"/>
                </a:lnTo>
                <a:cubicBezTo>
                  <a:pt x="243" y="22"/>
                  <a:pt x="271" y="0"/>
                  <a:pt x="304" y="0"/>
                </a:cubicBezTo>
                <a:cubicBezTo>
                  <a:pt x="338" y="0"/>
                  <a:pt x="366" y="22"/>
                  <a:pt x="376" y="51"/>
                </a:cubicBezTo>
                <a:lnTo>
                  <a:pt x="456" y="51"/>
                </a:lnTo>
                <a:lnTo>
                  <a:pt x="456" y="102"/>
                </a:lnTo>
                <a:lnTo>
                  <a:pt x="512" y="102"/>
                </a:lnTo>
                <a:lnTo>
                  <a:pt x="512" y="102"/>
                </a:lnTo>
                <a:lnTo>
                  <a:pt x="609" y="102"/>
                </a:lnTo>
                <a:lnTo>
                  <a:pt x="609" y="813"/>
                </a:lnTo>
                <a:close/>
                <a:moveTo>
                  <a:pt x="456" y="153"/>
                </a:moveTo>
                <a:lnTo>
                  <a:pt x="456" y="204"/>
                </a:lnTo>
                <a:lnTo>
                  <a:pt x="153" y="204"/>
                </a:lnTo>
                <a:lnTo>
                  <a:pt x="153" y="153"/>
                </a:lnTo>
                <a:lnTo>
                  <a:pt x="78" y="153"/>
                </a:lnTo>
                <a:lnTo>
                  <a:pt x="78" y="153"/>
                </a:lnTo>
                <a:lnTo>
                  <a:pt x="51" y="153"/>
                </a:lnTo>
                <a:lnTo>
                  <a:pt x="51" y="762"/>
                </a:lnTo>
                <a:lnTo>
                  <a:pt x="558" y="762"/>
                </a:lnTo>
                <a:lnTo>
                  <a:pt x="558" y="153"/>
                </a:lnTo>
                <a:lnTo>
                  <a:pt x="512" y="153"/>
                </a:lnTo>
                <a:lnTo>
                  <a:pt x="512" y="153"/>
                </a:lnTo>
                <a:lnTo>
                  <a:pt x="456" y="153"/>
                </a:lnTo>
                <a:close/>
                <a:moveTo>
                  <a:pt x="120" y="686"/>
                </a:moveTo>
                <a:lnTo>
                  <a:pt x="171" y="686"/>
                </a:lnTo>
                <a:lnTo>
                  <a:pt x="171" y="356"/>
                </a:lnTo>
                <a:lnTo>
                  <a:pt x="120" y="356"/>
                </a:lnTo>
                <a:lnTo>
                  <a:pt x="120" y="686"/>
                </a:lnTo>
                <a:close/>
                <a:moveTo>
                  <a:pt x="222" y="686"/>
                </a:moveTo>
                <a:lnTo>
                  <a:pt x="273" y="686"/>
                </a:lnTo>
                <a:lnTo>
                  <a:pt x="273" y="280"/>
                </a:lnTo>
                <a:lnTo>
                  <a:pt x="222" y="280"/>
                </a:lnTo>
                <a:lnTo>
                  <a:pt x="222" y="686"/>
                </a:lnTo>
                <a:close/>
                <a:moveTo>
                  <a:pt x="482" y="686"/>
                </a:moveTo>
                <a:lnTo>
                  <a:pt x="431" y="686"/>
                </a:lnTo>
                <a:lnTo>
                  <a:pt x="431" y="356"/>
                </a:lnTo>
                <a:lnTo>
                  <a:pt x="482" y="356"/>
                </a:lnTo>
                <a:lnTo>
                  <a:pt x="482" y="686"/>
                </a:lnTo>
                <a:close/>
                <a:moveTo>
                  <a:pt x="381" y="686"/>
                </a:moveTo>
                <a:lnTo>
                  <a:pt x="330" y="686"/>
                </a:lnTo>
                <a:lnTo>
                  <a:pt x="330" y="280"/>
                </a:lnTo>
                <a:lnTo>
                  <a:pt x="381" y="280"/>
                </a:lnTo>
                <a:lnTo>
                  <a:pt x="381" y="686"/>
                </a:lnTo>
                <a:close/>
                <a:moveTo>
                  <a:pt x="204" y="153"/>
                </a:moveTo>
                <a:lnTo>
                  <a:pt x="405" y="153"/>
                </a:lnTo>
                <a:lnTo>
                  <a:pt x="405" y="102"/>
                </a:lnTo>
                <a:lnTo>
                  <a:pt x="330" y="102"/>
                </a:lnTo>
                <a:lnTo>
                  <a:pt x="330" y="77"/>
                </a:lnTo>
                <a:cubicBezTo>
                  <a:pt x="330" y="63"/>
                  <a:pt x="318" y="51"/>
                  <a:pt x="304" y="51"/>
                </a:cubicBezTo>
                <a:cubicBezTo>
                  <a:pt x="290" y="51"/>
                  <a:pt x="279" y="63"/>
                  <a:pt x="279" y="77"/>
                </a:cubicBezTo>
                <a:lnTo>
                  <a:pt x="279" y="102"/>
                </a:lnTo>
                <a:lnTo>
                  <a:pt x="204" y="102"/>
                </a:lnTo>
                <a:lnTo>
                  <a:pt x="204" y="153"/>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16" name="Freeform 210"/>
          <p:cNvSpPr/>
          <p:nvPr/>
        </p:nvSpPr>
        <p:spPr>
          <a:xfrm>
            <a:off x="8710560" y="3584520"/>
            <a:ext cx="177840" cy="165240"/>
          </a:xfrm>
          <a:custGeom>
            <a:avLst/>
            <a:gdLst/>
            <a:ahLst/>
            <a:rect l="l" t="t" r="r" b="b"/>
            <a:pathLst>
              <a:path w="661" h="620">
                <a:moveTo>
                  <a:pt x="206" y="620"/>
                </a:moveTo>
                <a:cubicBezTo>
                  <a:pt x="151" y="620"/>
                  <a:pt x="99" y="598"/>
                  <a:pt x="60" y="559"/>
                </a:cubicBezTo>
                <a:cubicBezTo>
                  <a:pt x="21" y="520"/>
                  <a:pt x="0" y="468"/>
                  <a:pt x="0" y="413"/>
                </a:cubicBezTo>
                <a:cubicBezTo>
                  <a:pt x="0" y="358"/>
                  <a:pt x="21" y="306"/>
                  <a:pt x="60" y="267"/>
                </a:cubicBezTo>
                <a:lnTo>
                  <a:pt x="299" y="11"/>
                </a:lnTo>
                <a:lnTo>
                  <a:pt x="329" y="39"/>
                </a:lnTo>
                <a:lnTo>
                  <a:pt x="90" y="296"/>
                </a:lnTo>
                <a:cubicBezTo>
                  <a:pt x="58" y="327"/>
                  <a:pt x="41" y="369"/>
                  <a:pt x="41" y="413"/>
                </a:cubicBezTo>
                <a:cubicBezTo>
                  <a:pt x="41" y="457"/>
                  <a:pt x="58" y="499"/>
                  <a:pt x="89" y="530"/>
                </a:cubicBezTo>
                <a:cubicBezTo>
                  <a:pt x="121" y="561"/>
                  <a:pt x="162" y="578"/>
                  <a:pt x="206" y="578"/>
                </a:cubicBezTo>
                <a:cubicBezTo>
                  <a:pt x="250" y="578"/>
                  <a:pt x="292" y="561"/>
                  <a:pt x="323" y="530"/>
                </a:cubicBezTo>
                <a:lnTo>
                  <a:pt x="583" y="253"/>
                </a:lnTo>
                <a:cubicBezTo>
                  <a:pt x="607" y="229"/>
                  <a:pt x="619" y="198"/>
                  <a:pt x="619" y="165"/>
                </a:cubicBezTo>
                <a:cubicBezTo>
                  <a:pt x="619" y="132"/>
                  <a:pt x="607" y="101"/>
                  <a:pt x="583" y="78"/>
                </a:cubicBezTo>
                <a:cubicBezTo>
                  <a:pt x="560" y="54"/>
                  <a:pt x="529" y="41"/>
                  <a:pt x="495" y="41"/>
                </a:cubicBezTo>
                <a:cubicBezTo>
                  <a:pt x="462" y="41"/>
                  <a:pt x="431" y="54"/>
                  <a:pt x="408" y="78"/>
                </a:cubicBezTo>
                <a:lnTo>
                  <a:pt x="148" y="354"/>
                </a:lnTo>
                <a:cubicBezTo>
                  <a:pt x="116" y="387"/>
                  <a:pt x="115" y="440"/>
                  <a:pt x="148" y="472"/>
                </a:cubicBezTo>
                <a:cubicBezTo>
                  <a:pt x="163" y="487"/>
                  <a:pt x="184" y="496"/>
                  <a:pt x="206" y="496"/>
                </a:cubicBezTo>
                <a:cubicBezTo>
                  <a:pt x="206" y="496"/>
                  <a:pt x="206" y="496"/>
                  <a:pt x="206" y="496"/>
                </a:cubicBezTo>
                <a:cubicBezTo>
                  <a:pt x="228" y="496"/>
                  <a:pt x="249" y="487"/>
                  <a:pt x="265" y="472"/>
                </a:cubicBezTo>
                <a:lnTo>
                  <a:pt x="514" y="212"/>
                </a:lnTo>
                <a:lnTo>
                  <a:pt x="544" y="240"/>
                </a:lnTo>
                <a:lnTo>
                  <a:pt x="294" y="500"/>
                </a:lnTo>
                <a:cubicBezTo>
                  <a:pt x="271" y="524"/>
                  <a:pt x="239" y="537"/>
                  <a:pt x="206" y="537"/>
                </a:cubicBezTo>
                <a:cubicBezTo>
                  <a:pt x="206" y="537"/>
                  <a:pt x="206" y="537"/>
                  <a:pt x="206" y="537"/>
                </a:cubicBezTo>
                <a:cubicBezTo>
                  <a:pt x="173" y="537"/>
                  <a:pt x="142" y="524"/>
                  <a:pt x="118" y="501"/>
                </a:cubicBezTo>
                <a:cubicBezTo>
                  <a:pt x="70" y="453"/>
                  <a:pt x="70" y="374"/>
                  <a:pt x="119" y="325"/>
                </a:cubicBezTo>
                <a:lnTo>
                  <a:pt x="378" y="49"/>
                </a:lnTo>
                <a:cubicBezTo>
                  <a:pt x="410" y="17"/>
                  <a:pt x="451" y="0"/>
                  <a:pt x="495" y="0"/>
                </a:cubicBezTo>
                <a:cubicBezTo>
                  <a:pt x="540" y="0"/>
                  <a:pt x="581" y="17"/>
                  <a:pt x="612" y="48"/>
                </a:cubicBezTo>
                <a:cubicBezTo>
                  <a:pt x="644" y="80"/>
                  <a:pt x="661" y="121"/>
                  <a:pt x="661" y="165"/>
                </a:cubicBezTo>
                <a:cubicBezTo>
                  <a:pt x="661" y="209"/>
                  <a:pt x="644" y="251"/>
                  <a:pt x="612" y="282"/>
                </a:cubicBezTo>
                <a:lnTo>
                  <a:pt x="353" y="559"/>
                </a:lnTo>
                <a:cubicBezTo>
                  <a:pt x="313" y="598"/>
                  <a:pt x="261" y="620"/>
                  <a:pt x="206" y="62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17" name="Freeform 211"/>
          <p:cNvSpPr/>
          <p:nvPr/>
        </p:nvSpPr>
        <p:spPr>
          <a:xfrm>
            <a:off x="5249880" y="1730520"/>
            <a:ext cx="131760" cy="163440"/>
          </a:xfrm>
          <a:custGeom>
            <a:avLst/>
            <a:gdLst/>
            <a:ahLst/>
            <a:rect l="l" t="t" r="r" b="b"/>
            <a:pathLst>
              <a:path w="496" h="612">
                <a:moveTo>
                  <a:pt x="454" y="612"/>
                </a:moveTo>
                <a:lnTo>
                  <a:pt x="41" y="612"/>
                </a:lnTo>
                <a:lnTo>
                  <a:pt x="41" y="145"/>
                </a:lnTo>
                <a:lnTo>
                  <a:pt x="0" y="145"/>
                </a:lnTo>
                <a:lnTo>
                  <a:pt x="0" y="104"/>
                </a:lnTo>
                <a:lnTo>
                  <a:pt x="144" y="104"/>
                </a:lnTo>
                <a:lnTo>
                  <a:pt x="144" y="0"/>
                </a:lnTo>
                <a:lnTo>
                  <a:pt x="351" y="0"/>
                </a:lnTo>
                <a:lnTo>
                  <a:pt x="351" y="104"/>
                </a:lnTo>
                <a:lnTo>
                  <a:pt x="496" y="104"/>
                </a:lnTo>
                <a:lnTo>
                  <a:pt x="496" y="145"/>
                </a:lnTo>
                <a:lnTo>
                  <a:pt x="454" y="145"/>
                </a:lnTo>
                <a:lnTo>
                  <a:pt x="454" y="612"/>
                </a:lnTo>
                <a:close/>
                <a:moveTo>
                  <a:pt x="330" y="488"/>
                </a:moveTo>
                <a:lnTo>
                  <a:pt x="289" y="488"/>
                </a:lnTo>
                <a:lnTo>
                  <a:pt x="289" y="199"/>
                </a:lnTo>
                <a:lnTo>
                  <a:pt x="330" y="199"/>
                </a:lnTo>
                <a:lnTo>
                  <a:pt x="330" y="488"/>
                </a:lnTo>
                <a:close/>
                <a:moveTo>
                  <a:pt x="206" y="488"/>
                </a:moveTo>
                <a:lnTo>
                  <a:pt x="165" y="488"/>
                </a:lnTo>
                <a:lnTo>
                  <a:pt x="165" y="199"/>
                </a:lnTo>
                <a:lnTo>
                  <a:pt x="206" y="199"/>
                </a:lnTo>
                <a:lnTo>
                  <a:pt x="206" y="488"/>
                </a:lnTo>
                <a:close/>
                <a:moveTo>
                  <a:pt x="186" y="104"/>
                </a:moveTo>
                <a:lnTo>
                  <a:pt x="310" y="104"/>
                </a:lnTo>
                <a:lnTo>
                  <a:pt x="310" y="42"/>
                </a:lnTo>
                <a:lnTo>
                  <a:pt x="186" y="42"/>
                </a:lnTo>
                <a:lnTo>
                  <a:pt x="186" y="104"/>
                </a:lnTo>
                <a:close/>
                <a:moveTo>
                  <a:pt x="83" y="145"/>
                </a:moveTo>
                <a:lnTo>
                  <a:pt x="83" y="571"/>
                </a:lnTo>
                <a:lnTo>
                  <a:pt x="413" y="571"/>
                </a:lnTo>
                <a:lnTo>
                  <a:pt x="413" y="145"/>
                </a:lnTo>
                <a:lnTo>
                  <a:pt x="351" y="145"/>
                </a:lnTo>
                <a:lnTo>
                  <a:pt x="144" y="145"/>
                </a:lnTo>
                <a:lnTo>
                  <a:pt x="83" y="145"/>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18" name="Freeform 212"/>
          <p:cNvSpPr/>
          <p:nvPr/>
        </p:nvSpPr>
        <p:spPr>
          <a:xfrm>
            <a:off x="3867120" y="5184720"/>
            <a:ext cx="206280" cy="144360"/>
          </a:xfrm>
          <a:custGeom>
            <a:avLst/>
            <a:gdLst/>
            <a:ahLst/>
            <a:rect l="l" t="t" r="r" b="b"/>
            <a:pathLst>
              <a:path w="772" h="544">
                <a:moveTo>
                  <a:pt x="121" y="306"/>
                </a:moveTo>
                <a:cubicBezTo>
                  <a:pt x="78" y="316"/>
                  <a:pt x="48" y="352"/>
                  <a:pt x="48" y="400"/>
                </a:cubicBezTo>
                <a:cubicBezTo>
                  <a:pt x="48" y="447"/>
                  <a:pt x="78" y="483"/>
                  <a:pt x="121" y="493"/>
                </a:cubicBezTo>
                <a:lnTo>
                  <a:pt x="121" y="306"/>
                </a:lnTo>
                <a:close/>
                <a:moveTo>
                  <a:pt x="603" y="265"/>
                </a:moveTo>
                <a:cubicBezTo>
                  <a:pt x="603" y="146"/>
                  <a:pt x="506" y="48"/>
                  <a:pt x="386" y="48"/>
                </a:cubicBezTo>
                <a:cubicBezTo>
                  <a:pt x="266" y="48"/>
                  <a:pt x="169" y="146"/>
                  <a:pt x="169" y="265"/>
                </a:cubicBezTo>
                <a:lnTo>
                  <a:pt x="169" y="544"/>
                </a:lnTo>
                <a:lnTo>
                  <a:pt x="145" y="544"/>
                </a:lnTo>
                <a:cubicBezTo>
                  <a:pt x="62" y="544"/>
                  <a:pt x="0" y="482"/>
                  <a:pt x="0" y="400"/>
                </a:cubicBezTo>
                <a:cubicBezTo>
                  <a:pt x="0" y="325"/>
                  <a:pt x="51" y="267"/>
                  <a:pt x="121" y="257"/>
                </a:cubicBezTo>
                <a:cubicBezTo>
                  <a:pt x="126" y="114"/>
                  <a:pt x="243" y="0"/>
                  <a:pt x="386" y="0"/>
                </a:cubicBezTo>
                <a:cubicBezTo>
                  <a:pt x="529" y="0"/>
                  <a:pt x="647" y="114"/>
                  <a:pt x="651" y="257"/>
                </a:cubicBezTo>
                <a:cubicBezTo>
                  <a:pt x="722" y="267"/>
                  <a:pt x="772" y="325"/>
                  <a:pt x="772" y="400"/>
                </a:cubicBezTo>
                <a:cubicBezTo>
                  <a:pt x="772" y="482"/>
                  <a:pt x="710" y="544"/>
                  <a:pt x="627" y="544"/>
                </a:cubicBezTo>
                <a:lnTo>
                  <a:pt x="603" y="544"/>
                </a:lnTo>
                <a:lnTo>
                  <a:pt x="603" y="265"/>
                </a:lnTo>
                <a:close/>
                <a:moveTo>
                  <a:pt x="652" y="306"/>
                </a:moveTo>
                <a:lnTo>
                  <a:pt x="652" y="493"/>
                </a:lnTo>
                <a:cubicBezTo>
                  <a:pt x="695" y="483"/>
                  <a:pt x="724" y="447"/>
                  <a:pt x="724" y="400"/>
                </a:cubicBezTo>
                <a:cubicBezTo>
                  <a:pt x="724" y="352"/>
                  <a:pt x="695" y="316"/>
                  <a:pt x="652" y="306"/>
                </a:cubicBezTo>
                <a:close/>
              </a:path>
            </a:pathLst>
          </a:custGeom>
          <a:solidFill>
            <a:srgbClr val="a6a6a6"/>
          </a:solidFill>
          <a:ln w="0">
            <a:noFill/>
          </a:ln>
        </p:spPr>
        <p:style>
          <a:lnRef idx="0"/>
          <a:fillRef idx="0"/>
          <a:effectRef idx="0"/>
          <a:fontRef idx="minor"/>
        </p:style>
        <p:txBody>
          <a:bodyPr lIns="145800" rIns="145800" tIns="71640" bIns="71640" anchor="t">
            <a:noAutofit/>
          </a:bodyPr>
          <a:p>
            <a:endParaRPr b="0" lang="en-US" sz="1800" spc="-1" strike="noStrike">
              <a:solidFill>
                <a:srgbClr val="000000"/>
              </a:solidFill>
              <a:latin typeface="Calibri"/>
            </a:endParaRPr>
          </a:p>
        </p:txBody>
      </p:sp>
      <p:sp>
        <p:nvSpPr>
          <p:cNvPr id="1819" name="Freeform 213"/>
          <p:cNvSpPr/>
          <p:nvPr/>
        </p:nvSpPr>
        <p:spPr>
          <a:xfrm>
            <a:off x="9423360" y="3878280"/>
            <a:ext cx="158760" cy="173160"/>
          </a:xfrm>
          <a:custGeom>
            <a:avLst/>
            <a:gdLst/>
            <a:ahLst/>
            <a:rect l="l" t="t" r="r" b="b"/>
            <a:pathLst>
              <a:path w="592" h="650">
                <a:moveTo>
                  <a:pt x="420" y="44"/>
                </a:moveTo>
                <a:lnTo>
                  <a:pt x="374" y="44"/>
                </a:lnTo>
                <a:lnTo>
                  <a:pt x="374" y="244"/>
                </a:lnTo>
                <a:lnTo>
                  <a:pt x="522" y="392"/>
                </a:lnTo>
                <a:cubicBezTo>
                  <a:pt x="592" y="461"/>
                  <a:pt x="591" y="574"/>
                  <a:pt x="522" y="644"/>
                </a:cubicBezTo>
                <a:lnTo>
                  <a:pt x="515" y="650"/>
                </a:lnTo>
                <a:lnTo>
                  <a:pt x="58" y="650"/>
                </a:lnTo>
                <a:lnTo>
                  <a:pt x="52" y="644"/>
                </a:lnTo>
                <a:cubicBezTo>
                  <a:pt x="18" y="611"/>
                  <a:pt x="0" y="566"/>
                  <a:pt x="0" y="518"/>
                </a:cubicBezTo>
                <a:cubicBezTo>
                  <a:pt x="0" y="470"/>
                  <a:pt x="18" y="425"/>
                  <a:pt x="51" y="392"/>
                </a:cubicBezTo>
                <a:lnTo>
                  <a:pt x="199" y="244"/>
                </a:lnTo>
                <a:lnTo>
                  <a:pt x="199" y="44"/>
                </a:lnTo>
                <a:lnTo>
                  <a:pt x="155" y="44"/>
                </a:lnTo>
                <a:lnTo>
                  <a:pt x="155" y="0"/>
                </a:lnTo>
                <a:lnTo>
                  <a:pt x="420" y="0"/>
                </a:lnTo>
                <a:lnTo>
                  <a:pt x="420" y="44"/>
                </a:lnTo>
                <a:close/>
                <a:moveTo>
                  <a:pt x="455" y="455"/>
                </a:moveTo>
                <a:lnTo>
                  <a:pt x="454" y="454"/>
                </a:lnTo>
                <a:lnTo>
                  <a:pt x="299" y="300"/>
                </a:lnTo>
                <a:lnTo>
                  <a:pt x="268" y="331"/>
                </a:lnTo>
                <a:lnTo>
                  <a:pt x="421" y="483"/>
                </a:lnTo>
                <a:lnTo>
                  <a:pt x="455" y="455"/>
                </a:lnTo>
                <a:close/>
                <a:moveTo>
                  <a:pt x="330" y="44"/>
                </a:moveTo>
                <a:lnTo>
                  <a:pt x="243" y="44"/>
                </a:lnTo>
                <a:lnTo>
                  <a:pt x="243" y="262"/>
                </a:lnTo>
                <a:lnTo>
                  <a:pt x="82" y="423"/>
                </a:lnTo>
                <a:cubicBezTo>
                  <a:pt x="57" y="448"/>
                  <a:pt x="44" y="482"/>
                  <a:pt x="44" y="518"/>
                </a:cubicBezTo>
                <a:cubicBezTo>
                  <a:pt x="44" y="551"/>
                  <a:pt x="56" y="582"/>
                  <a:pt x="77" y="606"/>
                </a:cubicBezTo>
                <a:lnTo>
                  <a:pt x="497" y="606"/>
                </a:lnTo>
                <a:cubicBezTo>
                  <a:pt x="542" y="554"/>
                  <a:pt x="540" y="472"/>
                  <a:pt x="491" y="423"/>
                </a:cubicBezTo>
                <a:lnTo>
                  <a:pt x="330" y="262"/>
                </a:lnTo>
                <a:lnTo>
                  <a:pt x="330" y="44"/>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20" name="Freeform 214"/>
          <p:cNvSpPr/>
          <p:nvPr/>
        </p:nvSpPr>
        <p:spPr>
          <a:xfrm>
            <a:off x="8383680" y="2948040"/>
            <a:ext cx="179280" cy="162000"/>
          </a:xfrm>
          <a:custGeom>
            <a:avLst/>
            <a:gdLst/>
            <a:ahLst/>
            <a:rect l="l" t="t" r="r" b="b"/>
            <a:pathLst>
              <a:path w="671" h="610">
                <a:moveTo>
                  <a:pt x="618" y="444"/>
                </a:moveTo>
                <a:lnTo>
                  <a:pt x="183" y="444"/>
                </a:lnTo>
                <a:lnTo>
                  <a:pt x="72" y="44"/>
                </a:lnTo>
                <a:lnTo>
                  <a:pt x="0" y="44"/>
                </a:lnTo>
                <a:lnTo>
                  <a:pt x="0" y="0"/>
                </a:lnTo>
                <a:lnTo>
                  <a:pt x="105" y="0"/>
                </a:lnTo>
                <a:lnTo>
                  <a:pt x="217" y="400"/>
                </a:lnTo>
                <a:lnTo>
                  <a:pt x="581" y="400"/>
                </a:lnTo>
                <a:lnTo>
                  <a:pt x="618" y="200"/>
                </a:lnTo>
                <a:lnTo>
                  <a:pt x="266" y="200"/>
                </a:lnTo>
                <a:lnTo>
                  <a:pt x="266" y="155"/>
                </a:lnTo>
                <a:lnTo>
                  <a:pt x="671" y="155"/>
                </a:lnTo>
                <a:lnTo>
                  <a:pt x="618" y="444"/>
                </a:lnTo>
                <a:close/>
                <a:moveTo>
                  <a:pt x="529" y="355"/>
                </a:moveTo>
                <a:lnTo>
                  <a:pt x="484" y="355"/>
                </a:lnTo>
                <a:lnTo>
                  <a:pt x="484" y="244"/>
                </a:lnTo>
                <a:lnTo>
                  <a:pt x="529" y="244"/>
                </a:lnTo>
                <a:lnTo>
                  <a:pt x="529" y="355"/>
                </a:lnTo>
                <a:close/>
                <a:moveTo>
                  <a:pt x="460" y="355"/>
                </a:moveTo>
                <a:lnTo>
                  <a:pt x="415" y="355"/>
                </a:lnTo>
                <a:lnTo>
                  <a:pt x="415" y="244"/>
                </a:lnTo>
                <a:lnTo>
                  <a:pt x="460" y="244"/>
                </a:lnTo>
                <a:lnTo>
                  <a:pt x="460" y="355"/>
                </a:lnTo>
                <a:close/>
                <a:moveTo>
                  <a:pt x="393" y="355"/>
                </a:moveTo>
                <a:lnTo>
                  <a:pt x="348" y="355"/>
                </a:lnTo>
                <a:lnTo>
                  <a:pt x="348" y="244"/>
                </a:lnTo>
                <a:lnTo>
                  <a:pt x="393" y="244"/>
                </a:lnTo>
                <a:lnTo>
                  <a:pt x="393" y="355"/>
                </a:lnTo>
                <a:close/>
                <a:moveTo>
                  <a:pt x="324" y="355"/>
                </a:moveTo>
                <a:lnTo>
                  <a:pt x="279" y="355"/>
                </a:lnTo>
                <a:lnTo>
                  <a:pt x="279" y="244"/>
                </a:lnTo>
                <a:lnTo>
                  <a:pt x="324" y="244"/>
                </a:lnTo>
                <a:lnTo>
                  <a:pt x="324" y="355"/>
                </a:lnTo>
                <a:close/>
                <a:moveTo>
                  <a:pt x="533" y="521"/>
                </a:moveTo>
                <a:cubicBezTo>
                  <a:pt x="521" y="521"/>
                  <a:pt x="511" y="531"/>
                  <a:pt x="511" y="543"/>
                </a:cubicBezTo>
                <a:cubicBezTo>
                  <a:pt x="511" y="555"/>
                  <a:pt x="521" y="565"/>
                  <a:pt x="533" y="565"/>
                </a:cubicBezTo>
                <a:cubicBezTo>
                  <a:pt x="545" y="565"/>
                  <a:pt x="555" y="555"/>
                  <a:pt x="555" y="543"/>
                </a:cubicBezTo>
                <a:cubicBezTo>
                  <a:pt x="555" y="531"/>
                  <a:pt x="545" y="521"/>
                  <a:pt x="533" y="521"/>
                </a:cubicBezTo>
                <a:close/>
                <a:moveTo>
                  <a:pt x="533" y="610"/>
                </a:moveTo>
                <a:cubicBezTo>
                  <a:pt x="496" y="610"/>
                  <a:pt x="466" y="580"/>
                  <a:pt x="466" y="543"/>
                </a:cubicBezTo>
                <a:cubicBezTo>
                  <a:pt x="466" y="506"/>
                  <a:pt x="496" y="476"/>
                  <a:pt x="533" y="476"/>
                </a:cubicBezTo>
                <a:cubicBezTo>
                  <a:pt x="570" y="476"/>
                  <a:pt x="600" y="506"/>
                  <a:pt x="600" y="543"/>
                </a:cubicBezTo>
                <a:cubicBezTo>
                  <a:pt x="600" y="580"/>
                  <a:pt x="570" y="610"/>
                  <a:pt x="533" y="610"/>
                </a:cubicBezTo>
                <a:close/>
                <a:moveTo>
                  <a:pt x="244" y="521"/>
                </a:moveTo>
                <a:cubicBezTo>
                  <a:pt x="232" y="521"/>
                  <a:pt x="222" y="531"/>
                  <a:pt x="222" y="543"/>
                </a:cubicBezTo>
                <a:cubicBezTo>
                  <a:pt x="222" y="555"/>
                  <a:pt x="232" y="565"/>
                  <a:pt x="244" y="565"/>
                </a:cubicBezTo>
                <a:cubicBezTo>
                  <a:pt x="256" y="565"/>
                  <a:pt x="266" y="555"/>
                  <a:pt x="266" y="543"/>
                </a:cubicBezTo>
                <a:cubicBezTo>
                  <a:pt x="266" y="531"/>
                  <a:pt x="256" y="521"/>
                  <a:pt x="244" y="521"/>
                </a:cubicBezTo>
                <a:close/>
                <a:moveTo>
                  <a:pt x="244" y="610"/>
                </a:moveTo>
                <a:cubicBezTo>
                  <a:pt x="207" y="610"/>
                  <a:pt x="177" y="580"/>
                  <a:pt x="177" y="543"/>
                </a:cubicBezTo>
                <a:cubicBezTo>
                  <a:pt x="177" y="506"/>
                  <a:pt x="207" y="476"/>
                  <a:pt x="244" y="476"/>
                </a:cubicBezTo>
                <a:cubicBezTo>
                  <a:pt x="281" y="476"/>
                  <a:pt x="311" y="506"/>
                  <a:pt x="311" y="543"/>
                </a:cubicBezTo>
                <a:cubicBezTo>
                  <a:pt x="311" y="580"/>
                  <a:pt x="281" y="610"/>
                  <a:pt x="244" y="61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21" name="Freeform 215"/>
          <p:cNvSpPr/>
          <p:nvPr/>
        </p:nvSpPr>
        <p:spPr>
          <a:xfrm>
            <a:off x="3235320" y="4821120"/>
            <a:ext cx="163440" cy="160560"/>
          </a:xfrm>
          <a:custGeom>
            <a:avLst/>
            <a:gdLst/>
            <a:ahLst/>
            <a:rect l="l" t="t" r="r" b="b"/>
            <a:pathLst>
              <a:path w="608" h="602">
                <a:moveTo>
                  <a:pt x="96" y="352"/>
                </a:moveTo>
                <a:lnTo>
                  <a:pt x="251" y="512"/>
                </a:lnTo>
                <a:lnTo>
                  <a:pt x="553" y="132"/>
                </a:lnTo>
                <a:lnTo>
                  <a:pt x="476" y="55"/>
                </a:lnTo>
                <a:lnTo>
                  <a:pt x="96" y="352"/>
                </a:lnTo>
                <a:close/>
                <a:moveTo>
                  <a:pt x="29" y="602"/>
                </a:moveTo>
                <a:lnTo>
                  <a:pt x="0" y="573"/>
                </a:lnTo>
                <a:lnTo>
                  <a:pt x="29" y="544"/>
                </a:lnTo>
                <a:lnTo>
                  <a:pt x="15" y="529"/>
                </a:lnTo>
                <a:lnTo>
                  <a:pt x="29" y="515"/>
                </a:lnTo>
                <a:cubicBezTo>
                  <a:pt x="54" y="491"/>
                  <a:pt x="54" y="451"/>
                  <a:pt x="29" y="427"/>
                </a:cubicBezTo>
                <a:lnTo>
                  <a:pt x="15" y="412"/>
                </a:lnTo>
                <a:lnTo>
                  <a:pt x="57" y="371"/>
                </a:lnTo>
                <a:lnTo>
                  <a:pt x="35" y="348"/>
                </a:lnTo>
                <a:lnTo>
                  <a:pt x="479" y="0"/>
                </a:lnTo>
                <a:lnTo>
                  <a:pt x="608" y="129"/>
                </a:lnTo>
                <a:lnTo>
                  <a:pt x="254" y="574"/>
                </a:lnTo>
                <a:lnTo>
                  <a:pt x="229" y="548"/>
                </a:lnTo>
                <a:lnTo>
                  <a:pt x="190" y="588"/>
                </a:lnTo>
                <a:lnTo>
                  <a:pt x="176" y="573"/>
                </a:lnTo>
                <a:cubicBezTo>
                  <a:pt x="151" y="549"/>
                  <a:pt x="112" y="549"/>
                  <a:pt x="88" y="573"/>
                </a:cubicBezTo>
                <a:lnTo>
                  <a:pt x="73" y="588"/>
                </a:lnTo>
                <a:lnTo>
                  <a:pt x="59" y="573"/>
                </a:lnTo>
                <a:lnTo>
                  <a:pt x="29" y="602"/>
                </a:lnTo>
                <a:close/>
                <a:moveTo>
                  <a:pt x="85" y="400"/>
                </a:moveTo>
                <a:lnTo>
                  <a:pt x="72" y="414"/>
                </a:lnTo>
                <a:cubicBezTo>
                  <a:pt x="95" y="448"/>
                  <a:pt x="95" y="493"/>
                  <a:pt x="72" y="528"/>
                </a:cubicBezTo>
                <a:lnTo>
                  <a:pt x="75" y="531"/>
                </a:lnTo>
                <a:cubicBezTo>
                  <a:pt x="109" y="508"/>
                  <a:pt x="154" y="508"/>
                  <a:pt x="189" y="531"/>
                </a:cubicBezTo>
                <a:lnTo>
                  <a:pt x="201" y="519"/>
                </a:lnTo>
                <a:lnTo>
                  <a:pt x="85" y="400"/>
                </a:lnTo>
                <a:close/>
                <a:moveTo>
                  <a:pt x="202" y="375"/>
                </a:moveTo>
                <a:lnTo>
                  <a:pt x="176" y="342"/>
                </a:lnTo>
                <a:lnTo>
                  <a:pt x="455" y="124"/>
                </a:lnTo>
                <a:lnTo>
                  <a:pt x="481" y="156"/>
                </a:lnTo>
                <a:lnTo>
                  <a:pt x="202" y="375"/>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22" name="Freeform 216"/>
          <p:cNvSpPr/>
          <p:nvPr/>
        </p:nvSpPr>
        <p:spPr>
          <a:xfrm>
            <a:off x="3236760" y="2614680"/>
            <a:ext cx="160560" cy="141120"/>
          </a:xfrm>
          <a:custGeom>
            <a:avLst/>
            <a:gdLst/>
            <a:ahLst/>
            <a:rect l="l" t="t" r="r" b="b"/>
            <a:pathLst>
              <a:path w="601" h="528">
                <a:moveTo>
                  <a:pt x="235" y="79"/>
                </a:moveTo>
                <a:cubicBezTo>
                  <a:pt x="237" y="67"/>
                  <a:pt x="241" y="55"/>
                  <a:pt x="249" y="45"/>
                </a:cubicBezTo>
                <a:cubicBezTo>
                  <a:pt x="258" y="35"/>
                  <a:pt x="271" y="30"/>
                  <a:pt x="289" y="30"/>
                </a:cubicBezTo>
                <a:cubicBezTo>
                  <a:pt x="304" y="30"/>
                  <a:pt x="316" y="34"/>
                  <a:pt x="324" y="44"/>
                </a:cubicBezTo>
                <a:cubicBezTo>
                  <a:pt x="331" y="53"/>
                  <a:pt x="335" y="66"/>
                  <a:pt x="336" y="79"/>
                </a:cubicBezTo>
                <a:lnTo>
                  <a:pt x="235" y="79"/>
                </a:lnTo>
                <a:close/>
                <a:moveTo>
                  <a:pt x="456" y="307"/>
                </a:moveTo>
                <a:cubicBezTo>
                  <a:pt x="456" y="315"/>
                  <a:pt x="450" y="321"/>
                  <a:pt x="442" y="321"/>
                </a:cubicBezTo>
                <a:cubicBezTo>
                  <a:pt x="435" y="321"/>
                  <a:pt x="428" y="315"/>
                  <a:pt x="428" y="307"/>
                </a:cubicBezTo>
                <a:lnTo>
                  <a:pt x="428" y="289"/>
                </a:lnTo>
                <a:lnTo>
                  <a:pt x="145" y="289"/>
                </a:lnTo>
                <a:lnTo>
                  <a:pt x="145" y="307"/>
                </a:lnTo>
                <a:cubicBezTo>
                  <a:pt x="145" y="315"/>
                  <a:pt x="139" y="321"/>
                  <a:pt x="131" y="321"/>
                </a:cubicBezTo>
                <a:cubicBezTo>
                  <a:pt x="123" y="321"/>
                  <a:pt x="117" y="315"/>
                  <a:pt x="117" y="307"/>
                </a:cubicBezTo>
                <a:lnTo>
                  <a:pt x="117" y="289"/>
                </a:lnTo>
                <a:lnTo>
                  <a:pt x="0" y="289"/>
                </a:lnTo>
                <a:lnTo>
                  <a:pt x="0" y="507"/>
                </a:lnTo>
                <a:cubicBezTo>
                  <a:pt x="0" y="519"/>
                  <a:pt x="9" y="528"/>
                  <a:pt x="21" y="528"/>
                </a:cubicBezTo>
                <a:lnTo>
                  <a:pt x="580" y="528"/>
                </a:lnTo>
                <a:cubicBezTo>
                  <a:pt x="592" y="528"/>
                  <a:pt x="601" y="519"/>
                  <a:pt x="601" y="507"/>
                </a:cubicBezTo>
                <a:lnTo>
                  <a:pt x="601" y="289"/>
                </a:lnTo>
                <a:lnTo>
                  <a:pt x="456" y="289"/>
                </a:lnTo>
                <a:lnTo>
                  <a:pt x="456" y="307"/>
                </a:lnTo>
                <a:close/>
                <a:moveTo>
                  <a:pt x="580" y="79"/>
                </a:moveTo>
                <a:lnTo>
                  <a:pt x="366" y="79"/>
                </a:lnTo>
                <a:cubicBezTo>
                  <a:pt x="364" y="61"/>
                  <a:pt x="359" y="41"/>
                  <a:pt x="347" y="25"/>
                </a:cubicBezTo>
                <a:cubicBezTo>
                  <a:pt x="333" y="8"/>
                  <a:pt x="314" y="0"/>
                  <a:pt x="289" y="0"/>
                </a:cubicBezTo>
                <a:cubicBezTo>
                  <a:pt x="262" y="0"/>
                  <a:pt x="241" y="9"/>
                  <a:pt x="227" y="26"/>
                </a:cubicBezTo>
                <a:cubicBezTo>
                  <a:pt x="213" y="42"/>
                  <a:pt x="207" y="62"/>
                  <a:pt x="205" y="79"/>
                </a:cubicBezTo>
                <a:lnTo>
                  <a:pt x="21" y="79"/>
                </a:lnTo>
                <a:cubicBezTo>
                  <a:pt x="9" y="79"/>
                  <a:pt x="0" y="89"/>
                  <a:pt x="0" y="100"/>
                </a:cubicBezTo>
                <a:lnTo>
                  <a:pt x="0" y="263"/>
                </a:lnTo>
                <a:lnTo>
                  <a:pt x="117" y="263"/>
                </a:lnTo>
                <a:cubicBezTo>
                  <a:pt x="118" y="256"/>
                  <a:pt x="124" y="251"/>
                  <a:pt x="131" y="251"/>
                </a:cubicBezTo>
                <a:cubicBezTo>
                  <a:pt x="138" y="251"/>
                  <a:pt x="144" y="256"/>
                  <a:pt x="145" y="263"/>
                </a:cubicBezTo>
                <a:lnTo>
                  <a:pt x="429" y="263"/>
                </a:lnTo>
                <a:cubicBezTo>
                  <a:pt x="430" y="256"/>
                  <a:pt x="435" y="251"/>
                  <a:pt x="442" y="251"/>
                </a:cubicBezTo>
                <a:cubicBezTo>
                  <a:pt x="449" y="251"/>
                  <a:pt x="455" y="256"/>
                  <a:pt x="456" y="263"/>
                </a:cubicBezTo>
                <a:lnTo>
                  <a:pt x="601" y="263"/>
                </a:lnTo>
                <a:lnTo>
                  <a:pt x="601" y="100"/>
                </a:lnTo>
                <a:cubicBezTo>
                  <a:pt x="601" y="89"/>
                  <a:pt x="592" y="79"/>
                  <a:pt x="580" y="79"/>
                </a:cubicBezTo>
                <a:close/>
              </a:path>
            </a:pathLst>
          </a:custGeom>
          <a:solidFill>
            <a:srgbClr val="a6a6a6"/>
          </a:solidFill>
          <a:ln w="0">
            <a:noFill/>
          </a:ln>
        </p:spPr>
        <p:style>
          <a:lnRef idx="0"/>
          <a:fillRef idx="0"/>
          <a:effectRef idx="0"/>
          <a:fontRef idx="minor"/>
        </p:style>
        <p:txBody>
          <a:bodyPr lIns="145800" rIns="145800" tIns="68400" bIns="68400" anchor="t">
            <a:noAutofit/>
          </a:bodyPr>
          <a:p>
            <a:endParaRPr b="0" lang="en-US" sz="1800" spc="-1" strike="noStrike">
              <a:solidFill>
                <a:srgbClr val="000000"/>
              </a:solidFill>
              <a:latin typeface="Calibri"/>
            </a:endParaRPr>
          </a:p>
        </p:txBody>
      </p:sp>
      <p:sp>
        <p:nvSpPr>
          <p:cNvPr id="1823" name="Freeform 217"/>
          <p:cNvSpPr/>
          <p:nvPr/>
        </p:nvSpPr>
        <p:spPr>
          <a:xfrm>
            <a:off x="4205160" y="4811760"/>
            <a:ext cx="182520" cy="181080"/>
          </a:xfrm>
          <a:custGeom>
            <a:avLst/>
            <a:gdLst/>
            <a:ahLst/>
            <a:rect l="l" t="t" r="r" b="b"/>
            <a:pathLst>
              <a:path w="685" h="675">
                <a:moveTo>
                  <a:pt x="355" y="581"/>
                </a:moveTo>
                <a:lnTo>
                  <a:pt x="355" y="530"/>
                </a:lnTo>
                <a:cubicBezTo>
                  <a:pt x="451" y="524"/>
                  <a:pt x="529" y="449"/>
                  <a:pt x="539" y="354"/>
                </a:cubicBezTo>
                <a:lnTo>
                  <a:pt x="590" y="354"/>
                </a:lnTo>
                <a:cubicBezTo>
                  <a:pt x="580" y="477"/>
                  <a:pt x="479" y="575"/>
                  <a:pt x="355" y="581"/>
                </a:cubicBezTo>
                <a:close/>
                <a:moveTo>
                  <a:pt x="342" y="308"/>
                </a:moveTo>
                <a:cubicBezTo>
                  <a:pt x="359" y="308"/>
                  <a:pt x="372" y="321"/>
                  <a:pt x="372" y="337"/>
                </a:cubicBezTo>
                <a:cubicBezTo>
                  <a:pt x="372" y="353"/>
                  <a:pt x="359" y="366"/>
                  <a:pt x="342" y="366"/>
                </a:cubicBezTo>
                <a:cubicBezTo>
                  <a:pt x="326" y="366"/>
                  <a:pt x="313" y="353"/>
                  <a:pt x="313" y="337"/>
                </a:cubicBezTo>
                <a:cubicBezTo>
                  <a:pt x="313" y="321"/>
                  <a:pt x="326" y="308"/>
                  <a:pt x="342" y="308"/>
                </a:cubicBezTo>
                <a:close/>
                <a:moveTo>
                  <a:pt x="97" y="354"/>
                </a:moveTo>
                <a:lnTo>
                  <a:pt x="147" y="354"/>
                </a:lnTo>
                <a:cubicBezTo>
                  <a:pt x="157" y="446"/>
                  <a:pt x="229" y="518"/>
                  <a:pt x="321" y="529"/>
                </a:cubicBezTo>
                <a:lnTo>
                  <a:pt x="321" y="580"/>
                </a:lnTo>
                <a:cubicBezTo>
                  <a:pt x="201" y="569"/>
                  <a:pt x="107" y="474"/>
                  <a:pt x="97" y="354"/>
                </a:cubicBezTo>
                <a:close/>
                <a:moveTo>
                  <a:pt x="321" y="87"/>
                </a:moveTo>
                <a:lnTo>
                  <a:pt x="321" y="138"/>
                </a:lnTo>
                <a:cubicBezTo>
                  <a:pt x="227" y="148"/>
                  <a:pt x="153" y="225"/>
                  <a:pt x="147" y="320"/>
                </a:cubicBezTo>
                <a:lnTo>
                  <a:pt x="96" y="320"/>
                </a:lnTo>
                <a:cubicBezTo>
                  <a:pt x="102" y="197"/>
                  <a:pt x="199" y="98"/>
                  <a:pt x="321" y="87"/>
                </a:cubicBezTo>
                <a:close/>
                <a:moveTo>
                  <a:pt x="494" y="354"/>
                </a:moveTo>
                <a:lnTo>
                  <a:pt x="505" y="354"/>
                </a:lnTo>
                <a:cubicBezTo>
                  <a:pt x="495" y="431"/>
                  <a:pt x="433" y="491"/>
                  <a:pt x="355" y="496"/>
                </a:cubicBezTo>
                <a:lnTo>
                  <a:pt x="355" y="484"/>
                </a:lnTo>
                <a:cubicBezTo>
                  <a:pt x="355" y="475"/>
                  <a:pt x="347" y="467"/>
                  <a:pt x="338" y="467"/>
                </a:cubicBezTo>
                <a:cubicBezTo>
                  <a:pt x="328" y="467"/>
                  <a:pt x="321" y="475"/>
                  <a:pt x="321" y="484"/>
                </a:cubicBezTo>
                <a:lnTo>
                  <a:pt x="321" y="495"/>
                </a:lnTo>
                <a:cubicBezTo>
                  <a:pt x="248" y="485"/>
                  <a:pt x="191" y="427"/>
                  <a:pt x="181" y="354"/>
                </a:cubicBezTo>
                <a:lnTo>
                  <a:pt x="191" y="354"/>
                </a:lnTo>
                <a:cubicBezTo>
                  <a:pt x="200" y="354"/>
                  <a:pt x="207" y="347"/>
                  <a:pt x="207" y="337"/>
                </a:cubicBezTo>
                <a:cubicBezTo>
                  <a:pt x="207" y="328"/>
                  <a:pt x="200" y="320"/>
                  <a:pt x="190" y="320"/>
                </a:cubicBezTo>
                <a:lnTo>
                  <a:pt x="181" y="320"/>
                </a:lnTo>
                <a:cubicBezTo>
                  <a:pt x="187" y="244"/>
                  <a:pt x="245" y="182"/>
                  <a:pt x="321" y="172"/>
                </a:cubicBezTo>
                <a:lnTo>
                  <a:pt x="321" y="190"/>
                </a:lnTo>
                <a:cubicBezTo>
                  <a:pt x="321" y="199"/>
                  <a:pt x="328" y="207"/>
                  <a:pt x="338" y="207"/>
                </a:cubicBezTo>
                <a:cubicBezTo>
                  <a:pt x="347" y="207"/>
                  <a:pt x="355" y="199"/>
                  <a:pt x="355" y="190"/>
                </a:cubicBezTo>
                <a:lnTo>
                  <a:pt x="355" y="171"/>
                </a:lnTo>
                <a:cubicBezTo>
                  <a:pt x="435" y="176"/>
                  <a:pt x="499" y="240"/>
                  <a:pt x="506" y="320"/>
                </a:cubicBezTo>
                <a:lnTo>
                  <a:pt x="494" y="320"/>
                </a:lnTo>
                <a:cubicBezTo>
                  <a:pt x="485" y="320"/>
                  <a:pt x="478" y="328"/>
                  <a:pt x="478" y="337"/>
                </a:cubicBezTo>
                <a:cubicBezTo>
                  <a:pt x="478" y="347"/>
                  <a:pt x="485" y="354"/>
                  <a:pt x="494" y="354"/>
                </a:cubicBezTo>
                <a:close/>
                <a:moveTo>
                  <a:pt x="591" y="320"/>
                </a:moveTo>
                <a:lnTo>
                  <a:pt x="540" y="320"/>
                </a:lnTo>
                <a:cubicBezTo>
                  <a:pt x="533" y="221"/>
                  <a:pt x="454" y="143"/>
                  <a:pt x="355" y="137"/>
                </a:cubicBezTo>
                <a:lnTo>
                  <a:pt x="355" y="86"/>
                </a:lnTo>
                <a:cubicBezTo>
                  <a:pt x="482" y="92"/>
                  <a:pt x="584" y="193"/>
                  <a:pt x="591" y="320"/>
                </a:cubicBezTo>
                <a:close/>
                <a:moveTo>
                  <a:pt x="668" y="320"/>
                </a:moveTo>
                <a:lnTo>
                  <a:pt x="641" y="320"/>
                </a:lnTo>
                <a:cubicBezTo>
                  <a:pt x="635" y="165"/>
                  <a:pt x="510" y="41"/>
                  <a:pt x="355" y="35"/>
                </a:cubicBezTo>
                <a:lnTo>
                  <a:pt x="355" y="17"/>
                </a:lnTo>
                <a:cubicBezTo>
                  <a:pt x="355" y="7"/>
                  <a:pt x="347" y="0"/>
                  <a:pt x="338" y="0"/>
                </a:cubicBezTo>
                <a:cubicBezTo>
                  <a:pt x="328" y="0"/>
                  <a:pt x="321" y="7"/>
                  <a:pt x="321" y="17"/>
                </a:cubicBezTo>
                <a:lnTo>
                  <a:pt x="321" y="36"/>
                </a:lnTo>
                <a:cubicBezTo>
                  <a:pt x="171" y="47"/>
                  <a:pt x="51" y="169"/>
                  <a:pt x="45" y="320"/>
                </a:cubicBezTo>
                <a:lnTo>
                  <a:pt x="17" y="320"/>
                </a:lnTo>
                <a:cubicBezTo>
                  <a:pt x="8" y="320"/>
                  <a:pt x="0" y="328"/>
                  <a:pt x="0" y="337"/>
                </a:cubicBezTo>
                <a:cubicBezTo>
                  <a:pt x="0" y="347"/>
                  <a:pt x="8" y="354"/>
                  <a:pt x="17" y="354"/>
                </a:cubicBezTo>
                <a:lnTo>
                  <a:pt x="46" y="354"/>
                </a:lnTo>
                <a:cubicBezTo>
                  <a:pt x="56" y="502"/>
                  <a:pt x="173" y="620"/>
                  <a:pt x="321" y="631"/>
                </a:cubicBezTo>
                <a:lnTo>
                  <a:pt x="321" y="658"/>
                </a:lnTo>
                <a:cubicBezTo>
                  <a:pt x="321" y="667"/>
                  <a:pt x="328" y="675"/>
                  <a:pt x="338" y="675"/>
                </a:cubicBezTo>
                <a:cubicBezTo>
                  <a:pt x="347" y="675"/>
                  <a:pt x="355" y="667"/>
                  <a:pt x="355" y="658"/>
                </a:cubicBezTo>
                <a:lnTo>
                  <a:pt x="355" y="631"/>
                </a:lnTo>
                <a:cubicBezTo>
                  <a:pt x="507" y="626"/>
                  <a:pt x="630" y="505"/>
                  <a:pt x="641" y="354"/>
                </a:cubicBezTo>
                <a:lnTo>
                  <a:pt x="668" y="354"/>
                </a:lnTo>
                <a:cubicBezTo>
                  <a:pt x="677" y="354"/>
                  <a:pt x="685" y="347"/>
                  <a:pt x="685" y="337"/>
                </a:cubicBezTo>
                <a:cubicBezTo>
                  <a:pt x="685" y="328"/>
                  <a:pt x="677" y="320"/>
                  <a:pt x="668" y="32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24" name="Freeform 218"/>
          <p:cNvSpPr/>
          <p:nvPr/>
        </p:nvSpPr>
        <p:spPr>
          <a:xfrm>
            <a:off x="5245200" y="3873600"/>
            <a:ext cx="142920" cy="179280"/>
          </a:xfrm>
          <a:custGeom>
            <a:avLst/>
            <a:gdLst/>
            <a:ahLst/>
            <a:rect l="l" t="t" r="r" b="b"/>
            <a:pathLst>
              <a:path w="538" h="672">
                <a:moveTo>
                  <a:pt x="341" y="519"/>
                </a:moveTo>
                <a:cubicBezTo>
                  <a:pt x="325" y="536"/>
                  <a:pt x="304" y="545"/>
                  <a:pt x="278" y="546"/>
                </a:cubicBezTo>
                <a:lnTo>
                  <a:pt x="278" y="583"/>
                </a:lnTo>
                <a:lnTo>
                  <a:pt x="256" y="583"/>
                </a:lnTo>
                <a:lnTo>
                  <a:pt x="256" y="546"/>
                </a:lnTo>
                <a:cubicBezTo>
                  <a:pt x="238" y="544"/>
                  <a:pt x="223" y="540"/>
                  <a:pt x="212" y="534"/>
                </a:cubicBezTo>
                <a:cubicBezTo>
                  <a:pt x="200" y="528"/>
                  <a:pt x="190" y="519"/>
                  <a:pt x="182" y="505"/>
                </a:cubicBezTo>
                <a:cubicBezTo>
                  <a:pt x="174" y="492"/>
                  <a:pt x="169" y="476"/>
                  <a:pt x="167" y="457"/>
                </a:cubicBezTo>
                <a:lnTo>
                  <a:pt x="204" y="450"/>
                </a:lnTo>
                <a:cubicBezTo>
                  <a:pt x="207" y="470"/>
                  <a:pt x="212" y="484"/>
                  <a:pt x="219" y="494"/>
                </a:cubicBezTo>
                <a:cubicBezTo>
                  <a:pt x="230" y="507"/>
                  <a:pt x="242" y="514"/>
                  <a:pt x="256" y="515"/>
                </a:cubicBezTo>
                <a:lnTo>
                  <a:pt x="256" y="398"/>
                </a:lnTo>
                <a:cubicBezTo>
                  <a:pt x="241" y="396"/>
                  <a:pt x="226" y="390"/>
                  <a:pt x="210" y="381"/>
                </a:cubicBezTo>
                <a:cubicBezTo>
                  <a:pt x="198" y="375"/>
                  <a:pt x="189" y="365"/>
                  <a:pt x="183" y="354"/>
                </a:cubicBezTo>
                <a:cubicBezTo>
                  <a:pt x="177" y="342"/>
                  <a:pt x="174" y="329"/>
                  <a:pt x="174" y="315"/>
                </a:cubicBezTo>
                <a:cubicBezTo>
                  <a:pt x="174" y="288"/>
                  <a:pt x="183" y="267"/>
                  <a:pt x="201" y="251"/>
                </a:cubicBezTo>
                <a:cubicBezTo>
                  <a:pt x="214" y="240"/>
                  <a:pt x="232" y="234"/>
                  <a:pt x="256" y="231"/>
                </a:cubicBezTo>
                <a:lnTo>
                  <a:pt x="256" y="214"/>
                </a:lnTo>
                <a:lnTo>
                  <a:pt x="278" y="214"/>
                </a:lnTo>
                <a:lnTo>
                  <a:pt x="278" y="231"/>
                </a:lnTo>
                <a:cubicBezTo>
                  <a:pt x="299" y="233"/>
                  <a:pt x="316" y="239"/>
                  <a:pt x="329" y="250"/>
                </a:cubicBezTo>
                <a:cubicBezTo>
                  <a:pt x="345" y="263"/>
                  <a:pt x="354" y="282"/>
                  <a:pt x="358" y="305"/>
                </a:cubicBezTo>
                <a:lnTo>
                  <a:pt x="320" y="310"/>
                </a:lnTo>
                <a:cubicBezTo>
                  <a:pt x="318" y="296"/>
                  <a:pt x="313" y="285"/>
                  <a:pt x="306" y="277"/>
                </a:cubicBezTo>
                <a:cubicBezTo>
                  <a:pt x="299" y="270"/>
                  <a:pt x="290" y="265"/>
                  <a:pt x="278" y="262"/>
                </a:cubicBezTo>
                <a:lnTo>
                  <a:pt x="278" y="368"/>
                </a:lnTo>
                <a:cubicBezTo>
                  <a:pt x="297" y="372"/>
                  <a:pt x="309" y="376"/>
                  <a:pt x="315" y="379"/>
                </a:cubicBezTo>
                <a:cubicBezTo>
                  <a:pt x="326" y="384"/>
                  <a:pt x="335" y="390"/>
                  <a:pt x="343" y="397"/>
                </a:cubicBezTo>
                <a:cubicBezTo>
                  <a:pt x="350" y="404"/>
                  <a:pt x="355" y="413"/>
                  <a:pt x="359" y="423"/>
                </a:cubicBezTo>
                <a:cubicBezTo>
                  <a:pt x="363" y="433"/>
                  <a:pt x="365" y="444"/>
                  <a:pt x="365" y="455"/>
                </a:cubicBezTo>
                <a:cubicBezTo>
                  <a:pt x="365" y="480"/>
                  <a:pt x="357" y="502"/>
                  <a:pt x="341" y="519"/>
                </a:cubicBezTo>
                <a:close/>
                <a:moveTo>
                  <a:pt x="210" y="312"/>
                </a:moveTo>
                <a:cubicBezTo>
                  <a:pt x="210" y="324"/>
                  <a:pt x="214" y="335"/>
                  <a:pt x="221" y="343"/>
                </a:cubicBezTo>
                <a:cubicBezTo>
                  <a:pt x="228" y="352"/>
                  <a:pt x="240" y="358"/>
                  <a:pt x="256" y="363"/>
                </a:cubicBezTo>
                <a:lnTo>
                  <a:pt x="256" y="262"/>
                </a:lnTo>
                <a:cubicBezTo>
                  <a:pt x="242" y="264"/>
                  <a:pt x="231" y="270"/>
                  <a:pt x="223" y="279"/>
                </a:cubicBezTo>
                <a:cubicBezTo>
                  <a:pt x="214" y="288"/>
                  <a:pt x="210" y="299"/>
                  <a:pt x="210" y="312"/>
                </a:cubicBezTo>
                <a:close/>
                <a:moveTo>
                  <a:pt x="278" y="404"/>
                </a:moveTo>
                <a:lnTo>
                  <a:pt x="278" y="515"/>
                </a:lnTo>
                <a:cubicBezTo>
                  <a:pt x="292" y="514"/>
                  <a:pt x="304" y="508"/>
                  <a:pt x="313" y="497"/>
                </a:cubicBezTo>
                <a:cubicBezTo>
                  <a:pt x="323" y="486"/>
                  <a:pt x="327" y="473"/>
                  <a:pt x="327" y="457"/>
                </a:cubicBezTo>
                <a:cubicBezTo>
                  <a:pt x="327" y="444"/>
                  <a:pt x="324" y="434"/>
                  <a:pt x="317" y="425"/>
                </a:cubicBezTo>
                <a:cubicBezTo>
                  <a:pt x="311" y="417"/>
                  <a:pt x="298" y="410"/>
                  <a:pt x="278" y="404"/>
                </a:cubicBezTo>
                <a:close/>
                <a:moveTo>
                  <a:pt x="328" y="121"/>
                </a:moveTo>
                <a:cubicBezTo>
                  <a:pt x="332" y="94"/>
                  <a:pt x="346" y="60"/>
                  <a:pt x="372" y="40"/>
                </a:cubicBezTo>
                <a:cubicBezTo>
                  <a:pt x="407" y="11"/>
                  <a:pt x="348" y="14"/>
                  <a:pt x="308" y="18"/>
                </a:cubicBezTo>
                <a:cubicBezTo>
                  <a:pt x="268" y="23"/>
                  <a:pt x="181" y="0"/>
                  <a:pt x="163" y="16"/>
                </a:cubicBezTo>
                <a:cubicBezTo>
                  <a:pt x="144" y="33"/>
                  <a:pt x="151" y="58"/>
                  <a:pt x="172" y="72"/>
                </a:cubicBezTo>
                <a:cubicBezTo>
                  <a:pt x="184" y="81"/>
                  <a:pt x="199" y="103"/>
                  <a:pt x="209" y="121"/>
                </a:cubicBezTo>
                <a:cubicBezTo>
                  <a:pt x="89" y="164"/>
                  <a:pt x="0" y="335"/>
                  <a:pt x="0" y="539"/>
                </a:cubicBezTo>
                <a:cubicBezTo>
                  <a:pt x="0" y="565"/>
                  <a:pt x="1" y="591"/>
                  <a:pt x="4" y="616"/>
                </a:cubicBezTo>
                <a:cubicBezTo>
                  <a:pt x="9" y="632"/>
                  <a:pt x="25" y="672"/>
                  <a:pt x="66" y="672"/>
                </a:cubicBezTo>
                <a:cubicBezTo>
                  <a:pt x="118" y="672"/>
                  <a:pt x="465" y="672"/>
                  <a:pt x="465" y="672"/>
                </a:cubicBezTo>
                <a:cubicBezTo>
                  <a:pt x="465" y="672"/>
                  <a:pt x="522" y="670"/>
                  <a:pt x="533" y="623"/>
                </a:cubicBezTo>
                <a:cubicBezTo>
                  <a:pt x="534" y="617"/>
                  <a:pt x="534" y="611"/>
                  <a:pt x="535" y="605"/>
                </a:cubicBezTo>
                <a:cubicBezTo>
                  <a:pt x="535" y="602"/>
                  <a:pt x="535" y="600"/>
                  <a:pt x="535" y="598"/>
                </a:cubicBezTo>
                <a:cubicBezTo>
                  <a:pt x="537" y="579"/>
                  <a:pt x="538" y="559"/>
                  <a:pt x="538" y="539"/>
                </a:cubicBezTo>
                <a:cubicBezTo>
                  <a:pt x="538" y="335"/>
                  <a:pt x="448" y="164"/>
                  <a:pt x="328" y="12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25" name="Freeform 219"/>
          <p:cNvSpPr/>
          <p:nvPr/>
        </p:nvSpPr>
        <p:spPr>
          <a:xfrm>
            <a:off x="5580000" y="4214880"/>
            <a:ext cx="163440" cy="162000"/>
          </a:xfrm>
          <a:custGeom>
            <a:avLst/>
            <a:gdLst/>
            <a:ahLst/>
            <a:rect l="l" t="t" r="r" b="b"/>
            <a:pathLst>
              <a:path w="614" h="608">
                <a:moveTo>
                  <a:pt x="307" y="570"/>
                </a:moveTo>
                <a:cubicBezTo>
                  <a:pt x="159" y="570"/>
                  <a:pt x="38" y="450"/>
                  <a:pt x="38" y="304"/>
                </a:cubicBezTo>
                <a:cubicBezTo>
                  <a:pt x="38" y="157"/>
                  <a:pt x="159" y="38"/>
                  <a:pt x="307" y="38"/>
                </a:cubicBezTo>
                <a:cubicBezTo>
                  <a:pt x="455" y="38"/>
                  <a:pt x="576" y="157"/>
                  <a:pt x="576" y="304"/>
                </a:cubicBezTo>
                <a:cubicBezTo>
                  <a:pt x="576" y="450"/>
                  <a:pt x="455" y="570"/>
                  <a:pt x="307" y="570"/>
                </a:cubicBezTo>
                <a:close/>
                <a:moveTo>
                  <a:pt x="271" y="233"/>
                </a:moveTo>
                <a:cubicBezTo>
                  <a:pt x="271" y="241"/>
                  <a:pt x="274" y="248"/>
                  <a:pt x="278" y="253"/>
                </a:cubicBezTo>
                <a:cubicBezTo>
                  <a:pt x="281" y="257"/>
                  <a:pt x="285" y="260"/>
                  <a:pt x="291" y="262"/>
                </a:cubicBezTo>
                <a:lnTo>
                  <a:pt x="291" y="204"/>
                </a:lnTo>
                <a:cubicBezTo>
                  <a:pt x="287" y="206"/>
                  <a:pt x="283" y="208"/>
                  <a:pt x="279" y="212"/>
                </a:cubicBezTo>
                <a:cubicBezTo>
                  <a:pt x="274" y="218"/>
                  <a:pt x="271" y="225"/>
                  <a:pt x="271" y="233"/>
                </a:cubicBezTo>
                <a:close/>
                <a:moveTo>
                  <a:pt x="380" y="414"/>
                </a:moveTo>
                <a:cubicBezTo>
                  <a:pt x="367" y="428"/>
                  <a:pt x="349" y="436"/>
                  <a:pt x="329" y="439"/>
                </a:cubicBezTo>
                <a:lnTo>
                  <a:pt x="329" y="471"/>
                </a:lnTo>
                <a:lnTo>
                  <a:pt x="291" y="471"/>
                </a:lnTo>
                <a:lnTo>
                  <a:pt x="291" y="439"/>
                </a:lnTo>
                <a:cubicBezTo>
                  <a:pt x="278" y="437"/>
                  <a:pt x="267" y="433"/>
                  <a:pt x="258" y="429"/>
                </a:cubicBezTo>
                <a:cubicBezTo>
                  <a:pt x="247" y="423"/>
                  <a:pt x="237" y="414"/>
                  <a:pt x="229" y="401"/>
                </a:cubicBezTo>
                <a:cubicBezTo>
                  <a:pt x="221" y="389"/>
                  <a:pt x="217" y="374"/>
                  <a:pt x="215" y="356"/>
                </a:cubicBezTo>
                <a:lnTo>
                  <a:pt x="215" y="347"/>
                </a:lnTo>
                <a:lnTo>
                  <a:pt x="265" y="338"/>
                </a:lnTo>
                <a:lnTo>
                  <a:pt x="266" y="348"/>
                </a:lnTo>
                <a:cubicBezTo>
                  <a:pt x="268" y="363"/>
                  <a:pt x="272" y="374"/>
                  <a:pt x="277" y="380"/>
                </a:cubicBezTo>
                <a:cubicBezTo>
                  <a:pt x="281" y="385"/>
                  <a:pt x="286" y="389"/>
                  <a:pt x="291" y="392"/>
                </a:cubicBezTo>
                <a:lnTo>
                  <a:pt x="291" y="314"/>
                </a:lnTo>
                <a:cubicBezTo>
                  <a:pt x="280" y="311"/>
                  <a:pt x="268" y="306"/>
                  <a:pt x="257" y="300"/>
                </a:cubicBezTo>
                <a:cubicBezTo>
                  <a:pt x="245" y="293"/>
                  <a:pt x="236" y="284"/>
                  <a:pt x="230" y="273"/>
                </a:cubicBezTo>
                <a:cubicBezTo>
                  <a:pt x="224" y="262"/>
                  <a:pt x="221" y="249"/>
                  <a:pt x="221" y="235"/>
                </a:cubicBezTo>
                <a:cubicBezTo>
                  <a:pt x="221" y="210"/>
                  <a:pt x="230" y="190"/>
                  <a:pt x="248" y="175"/>
                </a:cubicBezTo>
                <a:cubicBezTo>
                  <a:pt x="258" y="166"/>
                  <a:pt x="273" y="160"/>
                  <a:pt x="291" y="157"/>
                </a:cubicBezTo>
                <a:lnTo>
                  <a:pt x="291" y="141"/>
                </a:lnTo>
                <a:lnTo>
                  <a:pt x="329" y="141"/>
                </a:lnTo>
                <a:lnTo>
                  <a:pt x="329" y="157"/>
                </a:lnTo>
                <a:cubicBezTo>
                  <a:pt x="345" y="159"/>
                  <a:pt x="359" y="165"/>
                  <a:pt x="369" y="173"/>
                </a:cubicBezTo>
                <a:cubicBezTo>
                  <a:pt x="384" y="186"/>
                  <a:pt x="394" y="204"/>
                  <a:pt x="397" y="226"/>
                </a:cubicBezTo>
                <a:lnTo>
                  <a:pt x="398" y="235"/>
                </a:lnTo>
                <a:lnTo>
                  <a:pt x="347" y="243"/>
                </a:lnTo>
                <a:lnTo>
                  <a:pt x="346" y="233"/>
                </a:lnTo>
                <a:cubicBezTo>
                  <a:pt x="344" y="223"/>
                  <a:pt x="341" y="215"/>
                  <a:pt x="336" y="210"/>
                </a:cubicBezTo>
                <a:cubicBezTo>
                  <a:pt x="334" y="208"/>
                  <a:pt x="332" y="206"/>
                  <a:pt x="329" y="205"/>
                </a:cubicBezTo>
                <a:lnTo>
                  <a:pt x="329" y="273"/>
                </a:lnTo>
                <a:cubicBezTo>
                  <a:pt x="342" y="276"/>
                  <a:pt x="350" y="278"/>
                  <a:pt x="355" y="280"/>
                </a:cubicBezTo>
                <a:cubicBezTo>
                  <a:pt x="365" y="285"/>
                  <a:pt x="374" y="291"/>
                  <a:pt x="381" y="298"/>
                </a:cubicBezTo>
                <a:cubicBezTo>
                  <a:pt x="388" y="305"/>
                  <a:pt x="394" y="313"/>
                  <a:pt x="398" y="323"/>
                </a:cubicBezTo>
                <a:cubicBezTo>
                  <a:pt x="401" y="332"/>
                  <a:pt x="403" y="343"/>
                  <a:pt x="403" y="353"/>
                </a:cubicBezTo>
                <a:cubicBezTo>
                  <a:pt x="403" y="377"/>
                  <a:pt x="395" y="398"/>
                  <a:pt x="380" y="414"/>
                </a:cubicBezTo>
                <a:close/>
                <a:moveTo>
                  <a:pt x="307" y="59"/>
                </a:moveTo>
                <a:cubicBezTo>
                  <a:pt x="171" y="59"/>
                  <a:pt x="60" y="169"/>
                  <a:pt x="60" y="304"/>
                </a:cubicBezTo>
                <a:cubicBezTo>
                  <a:pt x="60" y="438"/>
                  <a:pt x="171" y="548"/>
                  <a:pt x="307" y="548"/>
                </a:cubicBezTo>
                <a:cubicBezTo>
                  <a:pt x="443" y="548"/>
                  <a:pt x="554" y="438"/>
                  <a:pt x="554" y="304"/>
                </a:cubicBezTo>
                <a:cubicBezTo>
                  <a:pt x="554" y="169"/>
                  <a:pt x="443" y="59"/>
                  <a:pt x="307" y="59"/>
                </a:cubicBezTo>
                <a:close/>
                <a:moveTo>
                  <a:pt x="329" y="324"/>
                </a:moveTo>
                <a:lnTo>
                  <a:pt x="329" y="392"/>
                </a:lnTo>
                <a:cubicBezTo>
                  <a:pt x="334" y="390"/>
                  <a:pt x="339" y="387"/>
                  <a:pt x="342" y="382"/>
                </a:cubicBezTo>
                <a:cubicBezTo>
                  <a:pt x="349" y="375"/>
                  <a:pt x="352" y="366"/>
                  <a:pt x="352" y="356"/>
                </a:cubicBezTo>
                <a:cubicBezTo>
                  <a:pt x="352" y="347"/>
                  <a:pt x="350" y="340"/>
                  <a:pt x="346" y="335"/>
                </a:cubicBezTo>
                <a:cubicBezTo>
                  <a:pt x="343" y="332"/>
                  <a:pt x="339" y="328"/>
                  <a:pt x="329" y="324"/>
                </a:cubicBezTo>
                <a:close/>
                <a:moveTo>
                  <a:pt x="307" y="0"/>
                </a:moveTo>
                <a:cubicBezTo>
                  <a:pt x="137" y="0"/>
                  <a:pt x="0" y="136"/>
                  <a:pt x="0" y="304"/>
                </a:cubicBezTo>
                <a:cubicBezTo>
                  <a:pt x="0" y="471"/>
                  <a:pt x="137" y="608"/>
                  <a:pt x="307" y="608"/>
                </a:cubicBezTo>
                <a:cubicBezTo>
                  <a:pt x="476" y="608"/>
                  <a:pt x="614" y="471"/>
                  <a:pt x="614" y="304"/>
                </a:cubicBezTo>
                <a:cubicBezTo>
                  <a:pt x="614" y="136"/>
                  <a:pt x="476" y="0"/>
                  <a:pt x="307"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26" name="Freeform 220"/>
          <p:cNvSpPr/>
          <p:nvPr/>
        </p:nvSpPr>
        <p:spPr>
          <a:xfrm>
            <a:off x="5897520" y="4214880"/>
            <a:ext cx="163440" cy="162000"/>
          </a:xfrm>
          <a:custGeom>
            <a:avLst/>
            <a:gdLst/>
            <a:ahLst/>
            <a:rect l="l" t="t" r="r" b="b"/>
            <a:pathLst>
              <a:path w="614" h="608">
                <a:moveTo>
                  <a:pt x="307" y="570"/>
                </a:moveTo>
                <a:cubicBezTo>
                  <a:pt x="159" y="570"/>
                  <a:pt x="39" y="450"/>
                  <a:pt x="39" y="304"/>
                </a:cubicBezTo>
                <a:cubicBezTo>
                  <a:pt x="39" y="157"/>
                  <a:pt x="159" y="38"/>
                  <a:pt x="307" y="38"/>
                </a:cubicBezTo>
                <a:cubicBezTo>
                  <a:pt x="455" y="38"/>
                  <a:pt x="576" y="157"/>
                  <a:pt x="576" y="304"/>
                </a:cubicBezTo>
                <a:cubicBezTo>
                  <a:pt x="576" y="450"/>
                  <a:pt x="455" y="570"/>
                  <a:pt x="307" y="570"/>
                </a:cubicBezTo>
                <a:close/>
                <a:moveTo>
                  <a:pt x="374" y="254"/>
                </a:moveTo>
                <a:lnTo>
                  <a:pt x="363" y="287"/>
                </a:lnTo>
                <a:lnTo>
                  <a:pt x="242" y="287"/>
                </a:lnTo>
                <a:cubicBezTo>
                  <a:pt x="238" y="293"/>
                  <a:pt x="242" y="304"/>
                  <a:pt x="242" y="304"/>
                </a:cubicBezTo>
                <a:lnTo>
                  <a:pt x="363" y="304"/>
                </a:lnTo>
                <a:lnTo>
                  <a:pt x="357" y="335"/>
                </a:lnTo>
                <a:lnTo>
                  <a:pt x="247" y="335"/>
                </a:lnTo>
                <a:cubicBezTo>
                  <a:pt x="281" y="452"/>
                  <a:pt x="382" y="385"/>
                  <a:pt x="382" y="385"/>
                </a:cubicBezTo>
                <a:lnTo>
                  <a:pt x="389" y="433"/>
                </a:lnTo>
                <a:cubicBezTo>
                  <a:pt x="225" y="490"/>
                  <a:pt x="200" y="334"/>
                  <a:pt x="200" y="334"/>
                </a:cubicBezTo>
                <a:lnTo>
                  <a:pt x="168" y="334"/>
                </a:lnTo>
                <a:lnTo>
                  <a:pt x="176" y="305"/>
                </a:lnTo>
                <a:lnTo>
                  <a:pt x="195" y="305"/>
                </a:lnTo>
                <a:cubicBezTo>
                  <a:pt x="196" y="300"/>
                  <a:pt x="196" y="283"/>
                  <a:pt x="196" y="283"/>
                </a:cubicBezTo>
                <a:lnTo>
                  <a:pt x="169" y="283"/>
                </a:lnTo>
                <a:lnTo>
                  <a:pt x="177" y="254"/>
                </a:lnTo>
                <a:lnTo>
                  <a:pt x="199" y="254"/>
                </a:lnTo>
                <a:cubicBezTo>
                  <a:pt x="250" y="97"/>
                  <a:pt x="392" y="166"/>
                  <a:pt x="392" y="166"/>
                </a:cubicBezTo>
                <a:lnTo>
                  <a:pt x="379" y="212"/>
                </a:lnTo>
                <a:cubicBezTo>
                  <a:pt x="277" y="156"/>
                  <a:pt x="247" y="254"/>
                  <a:pt x="247" y="254"/>
                </a:cubicBezTo>
                <a:lnTo>
                  <a:pt x="374" y="254"/>
                </a:lnTo>
                <a:close/>
                <a:moveTo>
                  <a:pt x="307" y="59"/>
                </a:moveTo>
                <a:cubicBezTo>
                  <a:pt x="171" y="59"/>
                  <a:pt x="60" y="169"/>
                  <a:pt x="60" y="304"/>
                </a:cubicBezTo>
                <a:cubicBezTo>
                  <a:pt x="60" y="439"/>
                  <a:pt x="171" y="548"/>
                  <a:pt x="307" y="548"/>
                </a:cubicBezTo>
                <a:cubicBezTo>
                  <a:pt x="444" y="548"/>
                  <a:pt x="554" y="439"/>
                  <a:pt x="554" y="304"/>
                </a:cubicBezTo>
                <a:cubicBezTo>
                  <a:pt x="554" y="169"/>
                  <a:pt x="444" y="59"/>
                  <a:pt x="307" y="59"/>
                </a:cubicBezTo>
                <a:close/>
                <a:moveTo>
                  <a:pt x="307" y="0"/>
                </a:moveTo>
                <a:cubicBezTo>
                  <a:pt x="138" y="0"/>
                  <a:pt x="0" y="136"/>
                  <a:pt x="0" y="304"/>
                </a:cubicBezTo>
                <a:cubicBezTo>
                  <a:pt x="0" y="471"/>
                  <a:pt x="138" y="608"/>
                  <a:pt x="307" y="608"/>
                </a:cubicBezTo>
                <a:cubicBezTo>
                  <a:pt x="477" y="608"/>
                  <a:pt x="614" y="471"/>
                  <a:pt x="614" y="304"/>
                </a:cubicBezTo>
                <a:cubicBezTo>
                  <a:pt x="614" y="136"/>
                  <a:pt x="477" y="0"/>
                  <a:pt x="307"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27" name="Freeform 221"/>
          <p:cNvSpPr/>
          <p:nvPr/>
        </p:nvSpPr>
        <p:spPr>
          <a:xfrm>
            <a:off x="6278400" y="4214880"/>
            <a:ext cx="163800" cy="162000"/>
          </a:xfrm>
          <a:custGeom>
            <a:avLst/>
            <a:gdLst/>
            <a:ahLst/>
            <a:rect l="l" t="t" r="r" b="b"/>
            <a:pathLst>
              <a:path w="613" h="608">
                <a:moveTo>
                  <a:pt x="306" y="570"/>
                </a:moveTo>
                <a:cubicBezTo>
                  <a:pt x="158" y="570"/>
                  <a:pt x="38" y="450"/>
                  <a:pt x="38" y="304"/>
                </a:cubicBezTo>
                <a:cubicBezTo>
                  <a:pt x="38" y="157"/>
                  <a:pt x="158" y="38"/>
                  <a:pt x="306" y="38"/>
                </a:cubicBezTo>
                <a:cubicBezTo>
                  <a:pt x="455" y="38"/>
                  <a:pt x="575" y="157"/>
                  <a:pt x="575" y="304"/>
                </a:cubicBezTo>
                <a:cubicBezTo>
                  <a:pt x="575" y="450"/>
                  <a:pt x="455" y="570"/>
                  <a:pt x="306" y="570"/>
                </a:cubicBezTo>
                <a:close/>
                <a:moveTo>
                  <a:pt x="280" y="422"/>
                </a:moveTo>
                <a:cubicBezTo>
                  <a:pt x="267" y="418"/>
                  <a:pt x="259" y="419"/>
                  <a:pt x="259" y="419"/>
                </a:cubicBezTo>
                <a:cubicBezTo>
                  <a:pt x="241" y="418"/>
                  <a:pt x="229" y="432"/>
                  <a:pt x="229" y="432"/>
                </a:cubicBezTo>
                <a:lnTo>
                  <a:pt x="211" y="389"/>
                </a:lnTo>
                <a:cubicBezTo>
                  <a:pt x="254" y="358"/>
                  <a:pt x="248" y="318"/>
                  <a:pt x="248" y="318"/>
                </a:cubicBezTo>
                <a:lnTo>
                  <a:pt x="210" y="318"/>
                </a:lnTo>
                <a:lnTo>
                  <a:pt x="210" y="279"/>
                </a:lnTo>
                <a:lnTo>
                  <a:pt x="239" y="279"/>
                </a:lnTo>
                <a:cubicBezTo>
                  <a:pt x="230" y="263"/>
                  <a:pt x="231" y="249"/>
                  <a:pt x="231" y="249"/>
                </a:cubicBezTo>
                <a:cubicBezTo>
                  <a:pt x="229" y="173"/>
                  <a:pt x="301" y="166"/>
                  <a:pt x="301" y="166"/>
                </a:cubicBezTo>
                <a:cubicBezTo>
                  <a:pt x="385" y="154"/>
                  <a:pt x="392" y="234"/>
                  <a:pt x="392" y="234"/>
                </a:cubicBezTo>
                <a:lnTo>
                  <a:pt x="338" y="241"/>
                </a:lnTo>
                <a:cubicBezTo>
                  <a:pt x="332" y="215"/>
                  <a:pt x="305" y="219"/>
                  <a:pt x="305" y="219"/>
                </a:cubicBezTo>
                <a:cubicBezTo>
                  <a:pt x="269" y="228"/>
                  <a:pt x="290" y="278"/>
                  <a:pt x="290" y="278"/>
                </a:cubicBezTo>
                <a:lnTo>
                  <a:pt x="342" y="278"/>
                </a:lnTo>
                <a:lnTo>
                  <a:pt x="342" y="317"/>
                </a:lnTo>
                <a:lnTo>
                  <a:pt x="298" y="317"/>
                </a:lnTo>
                <a:cubicBezTo>
                  <a:pt x="301" y="346"/>
                  <a:pt x="282" y="373"/>
                  <a:pt x="282" y="373"/>
                </a:cubicBezTo>
                <a:cubicBezTo>
                  <a:pt x="321" y="394"/>
                  <a:pt x="384" y="379"/>
                  <a:pt x="384" y="379"/>
                </a:cubicBezTo>
                <a:lnTo>
                  <a:pt x="403" y="420"/>
                </a:lnTo>
                <a:cubicBezTo>
                  <a:pt x="327" y="441"/>
                  <a:pt x="280" y="422"/>
                  <a:pt x="280" y="422"/>
                </a:cubicBezTo>
                <a:close/>
                <a:moveTo>
                  <a:pt x="307" y="59"/>
                </a:moveTo>
                <a:cubicBezTo>
                  <a:pt x="170" y="59"/>
                  <a:pt x="59" y="169"/>
                  <a:pt x="59" y="304"/>
                </a:cubicBezTo>
                <a:cubicBezTo>
                  <a:pt x="59" y="439"/>
                  <a:pt x="170" y="548"/>
                  <a:pt x="307" y="548"/>
                </a:cubicBezTo>
                <a:cubicBezTo>
                  <a:pt x="443" y="548"/>
                  <a:pt x="554" y="439"/>
                  <a:pt x="554" y="304"/>
                </a:cubicBezTo>
                <a:cubicBezTo>
                  <a:pt x="554" y="169"/>
                  <a:pt x="443" y="59"/>
                  <a:pt x="307" y="59"/>
                </a:cubicBezTo>
                <a:close/>
                <a:moveTo>
                  <a:pt x="306" y="0"/>
                </a:moveTo>
                <a:cubicBezTo>
                  <a:pt x="137" y="0"/>
                  <a:pt x="0" y="136"/>
                  <a:pt x="0" y="304"/>
                </a:cubicBezTo>
                <a:cubicBezTo>
                  <a:pt x="0" y="471"/>
                  <a:pt x="137" y="608"/>
                  <a:pt x="306" y="608"/>
                </a:cubicBezTo>
                <a:cubicBezTo>
                  <a:pt x="476" y="608"/>
                  <a:pt x="613" y="471"/>
                  <a:pt x="613" y="304"/>
                </a:cubicBezTo>
                <a:cubicBezTo>
                  <a:pt x="613" y="136"/>
                  <a:pt x="476" y="0"/>
                  <a:pt x="306"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28" name="Freeform 222"/>
          <p:cNvSpPr/>
          <p:nvPr/>
        </p:nvSpPr>
        <p:spPr>
          <a:xfrm>
            <a:off x="6632640" y="4214880"/>
            <a:ext cx="164880" cy="162000"/>
          </a:xfrm>
          <a:custGeom>
            <a:avLst/>
            <a:gdLst/>
            <a:ahLst/>
            <a:rect l="l" t="t" r="r" b="b"/>
            <a:pathLst>
              <a:path w="614" h="608">
                <a:moveTo>
                  <a:pt x="307" y="570"/>
                </a:moveTo>
                <a:cubicBezTo>
                  <a:pt x="158" y="570"/>
                  <a:pt x="38" y="450"/>
                  <a:pt x="38" y="304"/>
                </a:cubicBezTo>
                <a:cubicBezTo>
                  <a:pt x="38" y="157"/>
                  <a:pt x="158" y="38"/>
                  <a:pt x="307" y="38"/>
                </a:cubicBezTo>
                <a:cubicBezTo>
                  <a:pt x="455" y="38"/>
                  <a:pt x="575" y="157"/>
                  <a:pt x="575" y="304"/>
                </a:cubicBezTo>
                <a:cubicBezTo>
                  <a:pt x="575" y="450"/>
                  <a:pt x="455" y="570"/>
                  <a:pt x="307" y="570"/>
                </a:cubicBezTo>
                <a:close/>
                <a:moveTo>
                  <a:pt x="411" y="318"/>
                </a:moveTo>
                <a:lnTo>
                  <a:pt x="411" y="351"/>
                </a:lnTo>
                <a:lnTo>
                  <a:pt x="328" y="351"/>
                </a:lnTo>
                <a:lnTo>
                  <a:pt x="328" y="367"/>
                </a:lnTo>
                <a:lnTo>
                  <a:pt x="411" y="367"/>
                </a:lnTo>
                <a:lnTo>
                  <a:pt x="411" y="400"/>
                </a:lnTo>
                <a:lnTo>
                  <a:pt x="328" y="400"/>
                </a:lnTo>
                <a:lnTo>
                  <a:pt x="328" y="433"/>
                </a:lnTo>
                <a:lnTo>
                  <a:pt x="282" y="433"/>
                </a:lnTo>
                <a:lnTo>
                  <a:pt x="282" y="400"/>
                </a:lnTo>
                <a:lnTo>
                  <a:pt x="202" y="400"/>
                </a:lnTo>
                <a:lnTo>
                  <a:pt x="202" y="367"/>
                </a:lnTo>
                <a:lnTo>
                  <a:pt x="282" y="367"/>
                </a:lnTo>
                <a:lnTo>
                  <a:pt x="282" y="351"/>
                </a:lnTo>
                <a:lnTo>
                  <a:pt x="202" y="351"/>
                </a:lnTo>
                <a:lnTo>
                  <a:pt x="202" y="318"/>
                </a:lnTo>
                <a:lnTo>
                  <a:pt x="278" y="318"/>
                </a:lnTo>
                <a:lnTo>
                  <a:pt x="190" y="174"/>
                </a:lnTo>
                <a:lnTo>
                  <a:pt x="245" y="174"/>
                </a:lnTo>
                <a:lnTo>
                  <a:pt x="291" y="251"/>
                </a:lnTo>
                <a:cubicBezTo>
                  <a:pt x="297" y="261"/>
                  <a:pt x="302" y="270"/>
                  <a:pt x="307" y="279"/>
                </a:cubicBezTo>
                <a:cubicBezTo>
                  <a:pt x="312" y="270"/>
                  <a:pt x="318" y="260"/>
                  <a:pt x="324" y="250"/>
                </a:cubicBezTo>
                <a:lnTo>
                  <a:pt x="370" y="174"/>
                </a:lnTo>
                <a:lnTo>
                  <a:pt x="424" y="174"/>
                </a:lnTo>
                <a:lnTo>
                  <a:pt x="332" y="318"/>
                </a:lnTo>
                <a:lnTo>
                  <a:pt x="411" y="318"/>
                </a:lnTo>
                <a:close/>
                <a:moveTo>
                  <a:pt x="307" y="59"/>
                </a:moveTo>
                <a:cubicBezTo>
                  <a:pt x="170" y="59"/>
                  <a:pt x="59" y="169"/>
                  <a:pt x="59" y="304"/>
                </a:cubicBezTo>
                <a:cubicBezTo>
                  <a:pt x="59" y="439"/>
                  <a:pt x="170" y="548"/>
                  <a:pt x="307" y="548"/>
                </a:cubicBezTo>
                <a:cubicBezTo>
                  <a:pt x="443" y="548"/>
                  <a:pt x="554" y="439"/>
                  <a:pt x="554" y="304"/>
                </a:cubicBezTo>
                <a:cubicBezTo>
                  <a:pt x="554" y="169"/>
                  <a:pt x="443" y="59"/>
                  <a:pt x="307" y="59"/>
                </a:cubicBezTo>
                <a:close/>
                <a:moveTo>
                  <a:pt x="307" y="0"/>
                </a:moveTo>
                <a:cubicBezTo>
                  <a:pt x="137" y="0"/>
                  <a:pt x="0" y="136"/>
                  <a:pt x="0" y="304"/>
                </a:cubicBezTo>
                <a:cubicBezTo>
                  <a:pt x="0" y="471"/>
                  <a:pt x="137" y="608"/>
                  <a:pt x="307" y="608"/>
                </a:cubicBezTo>
                <a:cubicBezTo>
                  <a:pt x="476" y="608"/>
                  <a:pt x="613" y="471"/>
                  <a:pt x="613" y="304"/>
                </a:cubicBezTo>
                <a:cubicBezTo>
                  <a:pt x="614" y="136"/>
                  <a:pt x="476" y="0"/>
                  <a:pt x="307"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29" name="Freeform 223"/>
          <p:cNvSpPr/>
          <p:nvPr/>
        </p:nvSpPr>
        <p:spPr>
          <a:xfrm>
            <a:off x="6629400" y="1450800"/>
            <a:ext cx="173160" cy="144720"/>
          </a:xfrm>
          <a:custGeom>
            <a:avLst/>
            <a:gdLst/>
            <a:ahLst/>
            <a:rect l="l" t="t" r="r" b="b"/>
            <a:pathLst>
              <a:path w="645" h="542">
                <a:moveTo>
                  <a:pt x="480" y="151"/>
                </a:moveTo>
                <a:lnTo>
                  <a:pt x="480" y="444"/>
                </a:lnTo>
                <a:lnTo>
                  <a:pt x="425" y="444"/>
                </a:lnTo>
                <a:lnTo>
                  <a:pt x="425" y="151"/>
                </a:lnTo>
                <a:lnTo>
                  <a:pt x="425" y="147"/>
                </a:lnTo>
                <a:lnTo>
                  <a:pt x="480" y="147"/>
                </a:lnTo>
                <a:lnTo>
                  <a:pt x="480" y="151"/>
                </a:lnTo>
                <a:close/>
                <a:moveTo>
                  <a:pt x="0" y="444"/>
                </a:moveTo>
                <a:lnTo>
                  <a:pt x="105" y="444"/>
                </a:lnTo>
                <a:lnTo>
                  <a:pt x="105" y="151"/>
                </a:lnTo>
                <a:lnTo>
                  <a:pt x="105" y="147"/>
                </a:lnTo>
                <a:lnTo>
                  <a:pt x="52" y="147"/>
                </a:lnTo>
                <a:cubicBezTo>
                  <a:pt x="32" y="147"/>
                  <a:pt x="30" y="140"/>
                  <a:pt x="48" y="131"/>
                </a:cubicBezTo>
                <a:lnTo>
                  <a:pt x="137" y="86"/>
                </a:lnTo>
                <a:cubicBezTo>
                  <a:pt x="155" y="77"/>
                  <a:pt x="184" y="63"/>
                  <a:pt x="201" y="54"/>
                </a:cubicBezTo>
                <a:lnTo>
                  <a:pt x="290" y="9"/>
                </a:lnTo>
                <a:cubicBezTo>
                  <a:pt x="308" y="0"/>
                  <a:pt x="337" y="0"/>
                  <a:pt x="355" y="9"/>
                </a:cubicBezTo>
                <a:lnTo>
                  <a:pt x="444" y="54"/>
                </a:lnTo>
                <a:cubicBezTo>
                  <a:pt x="462" y="63"/>
                  <a:pt x="491" y="77"/>
                  <a:pt x="508" y="86"/>
                </a:cubicBezTo>
                <a:lnTo>
                  <a:pt x="597" y="131"/>
                </a:lnTo>
                <a:cubicBezTo>
                  <a:pt x="615" y="140"/>
                  <a:pt x="613" y="147"/>
                  <a:pt x="594" y="147"/>
                </a:cubicBezTo>
                <a:lnTo>
                  <a:pt x="550" y="147"/>
                </a:lnTo>
                <a:lnTo>
                  <a:pt x="550" y="151"/>
                </a:lnTo>
                <a:lnTo>
                  <a:pt x="550" y="444"/>
                </a:lnTo>
                <a:lnTo>
                  <a:pt x="645" y="444"/>
                </a:lnTo>
                <a:lnTo>
                  <a:pt x="645" y="542"/>
                </a:lnTo>
                <a:lnTo>
                  <a:pt x="0" y="542"/>
                </a:lnTo>
                <a:lnTo>
                  <a:pt x="0" y="444"/>
                </a:lnTo>
                <a:close/>
                <a:moveTo>
                  <a:pt x="175" y="444"/>
                </a:moveTo>
                <a:lnTo>
                  <a:pt x="230" y="444"/>
                </a:lnTo>
                <a:lnTo>
                  <a:pt x="230" y="151"/>
                </a:lnTo>
                <a:lnTo>
                  <a:pt x="230" y="147"/>
                </a:lnTo>
                <a:lnTo>
                  <a:pt x="175" y="147"/>
                </a:lnTo>
                <a:lnTo>
                  <a:pt x="175" y="151"/>
                </a:lnTo>
                <a:lnTo>
                  <a:pt x="175" y="444"/>
                </a:lnTo>
                <a:close/>
                <a:moveTo>
                  <a:pt x="300" y="444"/>
                </a:moveTo>
                <a:lnTo>
                  <a:pt x="355" y="444"/>
                </a:lnTo>
                <a:lnTo>
                  <a:pt x="355" y="151"/>
                </a:lnTo>
                <a:lnTo>
                  <a:pt x="355" y="147"/>
                </a:lnTo>
                <a:cubicBezTo>
                  <a:pt x="339" y="147"/>
                  <a:pt x="318" y="147"/>
                  <a:pt x="300" y="147"/>
                </a:cubicBezTo>
                <a:lnTo>
                  <a:pt x="300" y="151"/>
                </a:lnTo>
                <a:lnTo>
                  <a:pt x="300" y="444"/>
                </a:lnTo>
                <a:close/>
              </a:path>
            </a:pathLst>
          </a:custGeom>
          <a:solidFill>
            <a:srgbClr val="a6a6a6"/>
          </a:solidFill>
          <a:ln w="0">
            <a:noFill/>
          </a:ln>
        </p:spPr>
        <p:style>
          <a:lnRef idx="0"/>
          <a:fillRef idx="0"/>
          <a:effectRef idx="0"/>
          <a:fontRef idx="minor"/>
        </p:style>
        <p:txBody>
          <a:bodyPr lIns="145800" rIns="145800" tIns="72000" bIns="72000" anchor="t">
            <a:noAutofit/>
          </a:bodyPr>
          <a:p>
            <a:endParaRPr b="0" lang="en-US" sz="1800" spc="-1" strike="noStrike">
              <a:solidFill>
                <a:srgbClr val="000000"/>
              </a:solidFill>
              <a:latin typeface="Calibri"/>
            </a:endParaRPr>
          </a:p>
        </p:txBody>
      </p:sp>
      <p:sp>
        <p:nvSpPr>
          <p:cNvPr id="1830" name="Freeform 224"/>
          <p:cNvSpPr/>
          <p:nvPr/>
        </p:nvSpPr>
        <p:spPr>
          <a:xfrm>
            <a:off x="4505400" y="4815000"/>
            <a:ext cx="199800" cy="174600"/>
          </a:xfrm>
          <a:custGeom>
            <a:avLst/>
            <a:gdLst/>
            <a:ahLst/>
            <a:rect l="l" t="t" r="r" b="b"/>
            <a:pathLst>
              <a:path w="750" h="648">
                <a:moveTo>
                  <a:pt x="349" y="282"/>
                </a:moveTo>
                <a:cubicBezTo>
                  <a:pt x="355" y="286"/>
                  <a:pt x="361" y="292"/>
                  <a:pt x="365" y="298"/>
                </a:cubicBezTo>
                <a:lnTo>
                  <a:pt x="340" y="311"/>
                </a:lnTo>
                <a:cubicBezTo>
                  <a:pt x="338" y="310"/>
                  <a:pt x="337" y="309"/>
                  <a:pt x="335" y="308"/>
                </a:cubicBezTo>
                <a:cubicBezTo>
                  <a:pt x="326" y="302"/>
                  <a:pt x="314" y="305"/>
                  <a:pt x="308" y="315"/>
                </a:cubicBezTo>
                <a:cubicBezTo>
                  <a:pt x="302" y="324"/>
                  <a:pt x="306" y="336"/>
                  <a:pt x="315" y="342"/>
                </a:cubicBezTo>
                <a:cubicBezTo>
                  <a:pt x="325" y="347"/>
                  <a:pt x="337" y="344"/>
                  <a:pt x="342" y="335"/>
                </a:cubicBezTo>
                <a:cubicBezTo>
                  <a:pt x="344" y="332"/>
                  <a:pt x="345" y="330"/>
                  <a:pt x="345" y="327"/>
                </a:cubicBezTo>
                <a:lnTo>
                  <a:pt x="371" y="313"/>
                </a:lnTo>
                <a:cubicBezTo>
                  <a:pt x="374" y="325"/>
                  <a:pt x="372" y="338"/>
                  <a:pt x="366" y="348"/>
                </a:cubicBezTo>
                <a:cubicBezTo>
                  <a:pt x="352" y="372"/>
                  <a:pt x="323" y="379"/>
                  <a:pt x="300" y="366"/>
                </a:cubicBezTo>
                <a:cubicBezTo>
                  <a:pt x="277" y="352"/>
                  <a:pt x="269" y="323"/>
                  <a:pt x="282" y="300"/>
                </a:cubicBezTo>
                <a:cubicBezTo>
                  <a:pt x="296" y="277"/>
                  <a:pt x="326" y="269"/>
                  <a:pt x="349" y="282"/>
                </a:cubicBezTo>
                <a:close/>
                <a:moveTo>
                  <a:pt x="750" y="143"/>
                </a:moveTo>
                <a:cubicBezTo>
                  <a:pt x="750" y="143"/>
                  <a:pt x="745" y="127"/>
                  <a:pt x="732" y="124"/>
                </a:cubicBezTo>
                <a:lnTo>
                  <a:pt x="731" y="122"/>
                </a:lnTo>
                <a:lnTo>
                  <a:pt x="728" y="116"/>
                </a:lnTo>
                <a:lnTo>
                  <a:pt x="727" y="114"/>
                </a:lnTo>
                <a:cubicBezTo>
                  <a:pt x="733" y="101"/>
                  <a:pt x="723" y="87"/>
                  <a:pt x="723" y="87"/>
                </a:cubicBezTo>
                <a:cubicBezTo>
                  <a:pt x="687" y="101"/>
                  <a:pt x="671" y="129"/>
                  <a:pt x="665" y="143"/>
                </a:cubicBezTo>
                <a:lnTo>
                  <a:pt x="574" y="190"/>
                </a:lnTo>
                <a:cubicBezTo>
                  <a:pt x="550" y="146"/>
                  <a:pt x="514" y="107"/>
                  <a:pt x="467" y="80"/>
                </a:cubicBezTo>
                <a:cubicBezTo>
                  <a:pt x="332" y="0"/>
                  <a:pt x="159" y="46"/>
                  <a:pt x="80" y="181"/>
                </a:cubicBezTo>
                <a:cubicBezTo>
                  <a:pt x="0" y="316"/>
                  <a:pt x="46" y="490"/>
                  <a:pt x="181" y="569"/>
                </a:cubicBezTo>
                <a:cubicBezTo>
                  <a:pt x="316" y="648"/>
                  <a:pt x="490" y="603"/>
                  <a:pt x="569" y="467"/>
                </a:cubicBezTo>
                <a:cubicBezTo>
                  <a:pt x="617" y="384"/>
                  <a:pt x="619" y="286"/>
                  <a:pt x="581" y="205"/>
                </a:cubicBezTo>
                <a:lnTo>
                  <a:pt x="675" y="157"/>
                </a:lnTo>
                <a:cubicBezTo>
                  <a:pt x="691" y="160"/>
                  <a:pt x="720" y="162"/>
                  <a:pt x="750" y="143"/>
                </a:cubicBezTo>
                <a:close/>
                <a:moveTo>
                  <a:pt x="510" y="223"/>
                </a:moveTo>
                <a:lnTo>
                  <a:pt x="451" y="254"/>
                </a:lnTo>
                <a:cubicBezTo>
                  <a:pt x="439" y="232"/>
                  <a:pt x="421" y="212"/>
                  <a:pt x="398" y="199"/>
                </a:cubicBezTo>
                <a:cubicBezTo>
                  <a:pt x="328" y="158"/>
                  <a:pt x="239" y="181"/>
                  <a:pt x="199" y="251"/>
                </a:cubicBezTo>
                <a:cubicBezTo>
                  <a:pt x="158" y="320"/>
                  <a:pt x="181" y="409"/>
                  <a:pt x="251" y="449"/>
                </a:cubicBezTo>
                <a:cubicBezTo>
                  <a:pt x="320" y="490"/>
                  <a:pt x="409" y="467"/>
                  <a:pt x="450" y="398"/>
                </a:cubicBezTo>
                <a:cubicBezTo>
                  <a:pt x="474" y="357"/>
                  <a:pt x="475" y="309"/>
                  <a:pt x="458" y="269"/>
                </a:cubicBezTo>
                <a:lnTo>
                  <a:pt x="518" y="238"/>
                </a:lnTo>
                <a:cubicBezTo>
                  <a:pt x="544" y="298"/>
                  <a:pt x="543" y="370"/>
                  <a:pt x="507" y="431"/>
                </a:cubicBezTo>
                <a:cubicBezTo>
                  <a:pt x="448" y="532"/>
                  <a:pt x="318" y="566"/>
                  <a:pt x="217" y="507"/>
                </a:cubicBezTo>
                <a:cubicBezTo>
                  <a:pt x="116" y="448"/>
                  <a:pt x="82" y="318"/>
                  <a:pt x="142" y="217"/>
                </a:cubicBezTo>
                <a:cubicBezTo>
                  <a:pt x="201" y="116"/>
                  <a:pt x="330" y="82"/>
                  <a:pt x="431" y="142"/>
                </a:cubicBezTo>
                <a:cubicBezTo>
                  <a:pt x="466" y="162"/>
                  <a:pt x="492" y="190"/>
                  <a:pt x="510" y="223"/>
                </a:cubicBezTo>
                <a:close/>
                <a:moveTo>
                  <a:pt x="418" y="270"/>
                </a:moveTo>
                <a:lnTo>
                  <a:pt x="379" y="290"/>
                </a:lnTo>
                <a:cubicBezTo>
                  <a:pt x="374" y="282"/>
                  <a:pt x="366" y="274"/>
                  <a:pt x="357" y="268"/>
                </a:cubicBezTo>
                <a:cubicBezTo>
                  <a:pt x="326" y="250"/>
                  <a:pt x="286" y="260"/>
                  <a:pt x="268" y="291"/>
                </a:cubicBezTo>
                <a:cubicBezTo>
                  <a:pt x="250" y="322"/>
                  <a:pt x="261" y="362"/>
                  <a:pt x="291" y="380"/>
                </a:cubicBezTo>
                <a:cubicBezTo>
                  <a:pt x="322" y="398"/>
                  <a:pt x="362" y="388"/>
                  <a:pt x="380" y="357"/>
                </a:cubicBezTo>
                <a:cubicBezTo>
                  <a:pt x="389" y="341"/>
                  <a:pt x="391" y="322"/>
                  <a:pt x="386" y="306"/>
                </a:cubicBezTo>
                <a:lnTo>
                  <a:pt x="426" y="286"/>
                </a:lnTo>
                <a:cubicBezTo>
                  <a:pt x="437" y="315"/>
                  <a:pt x="435" y="349"/>
                  <a:pt x="418" y="379"/>
                </a:cubicBezTo>
                <a:cubicBezTo>
                  <a:pt x="387" y="431"/>
                  <a:pt x="321" y="448"/>
                  <a:pt x="269" y="418"/>
                </a:cubicBezTo>
                <a:cubicBezTo>
                  <a:pt x="218" y="388"/>
                  <a:pt x="200" y="321"/>
                  <a:pt x="231" y="269"/>
                </a:cubicBezTo>
                <a:cubicBezTo>
                  <a:pt x="261" y="218"/>
                  <a:pt x="327" y="200"/>
                  <a:pt x="379" y="231"/>
                </a:cubicBezTo>
                <a:cubicBezTo>
                  <a:pt x="396" y="241"/>
                  <a:pt x="409" y="254"/>
                  <a:pt x="418" y="27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31" name="Freeform 225"/>
          <p:cNvSpPr/>
          <p:nvPr/>
        </p:nvSpPr>
        <p:spPr>
          <a:xfrm>
            <a:off x="7699320" y="2265480"/>
            <a:ext cx="171360" cy="201600"/>
          </a:xfrm>
          <a:custGeom>
            <a:avLst/>
            <a:gdLst/>
            <a:ahLst/>
            <a:rect l="l" t="t" r="r" b="b"/>
            <a:pathLst>
              <a:path w="642" h="746">
                <a:moveTo>
                  <a:pt x="427" y="662"/>
                </a:moveTo>
                <a:cubicBezTo>
                  <a:pt x="406" y="654"/>
                  <a:pt x="400" y="642"/>
                  <a:pt x="429" y="625"/>
                </a:cubicBezTo>
                <a:cubicBezTo>
                  <a:pt x="457" y="608"/>
                  <a:pt x="501" y="578"/>
                  <a:pt x="555" y="478"/>
                </a:cubicBezTo>
                <a:cubicBezTo>
                  <a:pt x="555" y="478"/>
                  <a:pt x="545" y="627"/>
                  <a:pt x="427" y="662"/>
                </a:cubicBezTo>
                <a:close/>
                <a:moveTo>
                  <a:pt x="453" y="171"/>
                </a:moveTo>
                <a:cubicBezTo>
                  <a:pt x="390" y="104"/>
                  <a:pt x="360" y="0"/>
                  <a:pt x="360" y="0"/>
                </a:cubicBezTo>
                <a:cubicBezTo>
                  <a:pt x="360" y="0"/>
                  <a:pt x="322" y="103"/>
                  <a:pt x="270" y="163"/>
                </a:cubicBezTo>
                <a:cubicBezTo>
                  <a:pt x="219" y="223"/>
                  <a:pt x="0" y="463"/>
                  <a:pt x="202" y="656"/>
                </a:cubicBezTo>
                <a:cubicBezTo>
                  <a:pt x="309" y="746"/>
                  <a:pt x="463" y="733"/>
                  <a:pt x="540" y="635"/>
                </a:cubicBezTo>
                <a:cubicBezTo>
                  <a:pt x="617" y="536"/>
                  <a:pt x="642" y="377"/>
                  <a:pt x="453" y="17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32" name="Freeform 226"/>
          <p:cNvSpPr/>
          <p:nvPr/>
        </p:nvSpPr>
        <p:spPr>
          <a:xfrm>
            <a:off x="6970680" y="5160960"/>
            <a:ext cx="200160" cy="192240"/>
          </a:xfrm>
          <a:custGeom>
            <a:avLst/>
            <a:gdLst/>
            <a:ahLst/>
            <a:rect l="l" t="t" r="r" b="b"/>
            <a:pathLst>
              <a:path w="751" h="714">
                <a:moveTo>
                  <a:pt x="479" y="260"/>
                </a:moveTo>
                <a:cubicBezTo>
                  <a:pt x="522" y="118"/>
                  <a:pt x="376" y="0"/>
                  <a:pt x="376" y="0"/>
                </a:cubicBezTo>
                <a:cubicBezTo>
                  <a:pt x="376" y="0"/>
                  <a:pt x="219" y="134"/>
                  <a:pt x="278" y="268"/>
                </a:cubicBezTo>
                <a:cubicBezTo>
                  <a:pt x="278" y="268"/>
                  <a:pt x="329" y="366"/>
                  <a:pt x="372" y="390"/>
                </a:cubicBezTo>
                <a:cubicBezTo>
                  <a:pt x="439" y="355"/>
                  <a:pt x="463" y="311"/>
                  <a:pt x="479" y="260"/>
                </a:cubicBezTo>
                <a:close/>
                <a:moveTo>
                  <a:pt x="377" y="505"/>
                </a:moveTo>
                <a:cubicBezTo>
                  <a:pt x="377" y="505"/>
                  <a:pt x="375" y="472"/>
                  <a:pt x="352" y="440"/>
                </a:cubicBezTo>
                <a:cubicBezTo>
                  <a:pt x="360" y="455"/>
                  <a:pt x="364" y="496"/>
                  <a:pt x="362" y="516"/>
                </a:cubicBezTo>
                <a:lnTo>
                  <a:pt x="362" y="714"/>
                </a:lnTo>
                <a:lnTo>
                  <a:pt x="388" y="714"/>
                </a:lnTo>
                <a:lnTo>
                  <a:pt x="388" y="516"/>
                </a:lnTo>
                <a:cubicBezTo>
                  <a:pt x="388" y="516"/>
                  <a:pt x="386" y="479"/>
                  <a:pt x="401" y="442"/>
                </a:cubicBezTo>
                <a:cubicBezTo>
                  <a:pt x="390" y="461"/>
                  <a:pt x="377" y="505"/>
                  <a:pt x="377" y="505"/>
                </a:cubicBezTo>
                <a:close/>
                <a:moveTo>
                  <a:pt x="482" y="358"/>
                </a:moveTo>
                <a:cubicBezTo>
                  <a:pt x="444" y="393"/>
                  <a:pt x="416" y="432"/>
                  <a:pt x="413" y="505"/>
                </a:cubicBezTo>
                <a:cubicBezTo>
                  <a:pt x="452" y="533"/>
                  <a:pt x="560" y="536"/>
                  <a:pt x="560" y="536"/>
                </a:cubicBezTo>
                <a:cubicBezTo>
                  <a:pt x="701" y="531"/>
                  <a:pt x="751" y="337"/>
                  <a:pt x="751" y="337"/>
                </a:cubicBezTo>
                <a:cubicBezTo>
                  <a:pt x="751" y="337"/>
                  <a:pt x="587" y="259"/>
                  <a:pt x="482" y="358"/>
                </a:cubicBezTo>
                <a:close/>
                <a:moveTo>
                  <a:pt x="270" y="358"/>
                </a:moveTo>
                <a:cubicBezTo>
                  <a:pt x="164" y="259"/>
                  <a:pt x="0" y="337"/>
                  <a:pt x="0" y="337"/>
                </a:cubicBezTo>
                <a:cubicBezTo>
                  <a:pt x="0" y="337"/>
                  <a:pt x="50" y="531"/>
                  <a:pt x="192" y="536"/>
                </a:cubicBezTo>
                <a:cubicBezTo>
                  <a:pt x="192" y="536"/>
                  <a:pt x="299" y="533"/>
                  <a:pt x="338" y="505"/>
                </a:cubicBezTo>
                <a:cubicBezTo>
                  <a:pt x="335" y="432"/>
                  <a:pt x="308" y="393"/>
                  <a:pt x="270" y="358"/>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33" name="Freeform 227"/>
          <p:cNvSpPr/>
          <p:nvPr/>
        </p:nvSpPr>
        <p:spPr>
          <a:xfrm>
            <a:off x="8051760" y="2260440"/>
            <a:ext cx="149400" cy="204840"/>
          </a:xfrm>
          <a:custGeom>
            <a:avLst/>
            <a:gdLst/>
            <a:ahLst/>
            <a:rect l="l" t="t" r="r" b="b"/>
            <a:pathLst>
              <a:path w="559" h="765">
                <a:moveTo>
                  <a:pt x="464" y="294"/>
                </a:moveTo>
                <a:cubicBezTo>
                  <a:pt x="373" y="176"/>
                  <a:pt x="243" y="0"/>
                  <a:pt x="243" y="0"/>
                </a:cubicBezTo>
                <a:cubicBezTo>
                  <a:pt x="273" y="126"/>
                  <a:pt x="171" y="225"/>
                  <a:pt x="125" y="269"/>
                </a:cubicBezTo>
                <a:cubicBezTo>
                  <a:pt x="48" y="322"/>
                  <a:pt x="0" y="413"/>
                  <a:pt x="6" y="513"/>
                </a:cubicBezTo>
                <a:cubicBezTo>
                  <a:pt x="15" y="643"/>
                  <a:pt x="114" y="746"/>
                  <a:pt x="239" y="764"/>
                </a:cubicBezTo>
                <a:cubicBezTo>
                  <a:pt x="199" y="745"/>
                  <a:pt x="171" y="705"/>
                  <a:pt x="168" y="658"/>
                </a:cubicBezTo>
                <a:cubicBezTo>
                  <a:pt x="165" y="612"/>
                  <a:pt x="187" y="569"/>
                  <a:pt x="223" y="545"/>
                </a:cubicBezTo>
                <a:cubicBezTo>
                  <a:pt x="245" y="524"/>
                  <a:pt x="296" y="479"/>
                  <a:pt x="282" y="419"/>
                </a:cubicBezTo>
                <a:cubicBezTo>
                  <a:pt x="282" y="419"/>
                  <a:pt x="340" y="501"/>
                  <a:pt x="382" y="556"/>
                </a:cubicBezTo>
                <a:cubicBezTo>
                  <a:pt x="408" y="581"/>
                  <a:pt x="421" y="616"/>
                  <a:pt x="423" y="641"/>
                </a:cubicBezTo>
                <a:cubicBezTo>
                  <a:pt x="426" y="685"/>
                  <a:pt x="407" y="724"/>
                  <a:pt x="375" y="749"/>
                </a:cubicBezTo>
                <a:cubicBezTo>
                  <a:pt x="484" y="708"/>
                  <a:pt x="559" y="599"/>
                  <a:pt x="550" y="476"/>
                </a:cubicBezTo>
                <a:cubicBezTo>
                  <a:pt x="547" y="421"/>
                  <a:pt x="519" y="348"/>
                  <a:pt x="464" y="294"/>
                </a:cubicBezTo>
                <a:close/>
                <a:moveTo>
                  <a:pt x="346" y="642"/>
                </a:moveTo>
                <a:cubicBezTo>
                  <a:pt x="322" y="611"/>
                  <a:pt x="288" y="565"/>
                  <a:pt x="288" y="565"/>
                </a:cubicBezTo>
                <a:cubicBezTo>
                  <a:pt x="296" y="598"/>
                  <a:pt x="269" y="624"/>
                  <a:pt x="258" y="635"/>
                </a:cubicBezTo>
                <a:cubicBezTo>
                  <a:pt x="237" y="649"/>
                  <a:pt x="225" y="673"/>
                  <a:pt x="227" y="699"/>
                </a:cubicBezTo>
                <a:cubicBezTo>
                  <a:pt x="229" y="733"/>
                  <a:pt x="255" y="759"/>
                  <a:pt x="287" y="764"/>
                </a:cubicBezTo>
                <a:lnTo>
                  <a:pt x="287" y="764"/>
                </a:lnTo>
                <a:cubicBezTo>
                  <a:pt x="291" y="765"/>
                  <a:pt x="295" y="765"/>
                  <a:pt x="299" y="765"/>
                </a:cubicBezTo>
                <a:cubicBezTo>
                  <a:pt x="308" y="765"/>
                  <a:pt x="316" y="764"/>
                  <a:pt x="323" y="760"/>
                </a:cubicBezTo>
                <a:lnTo>
                  <a:pt x="323" y="760"/>
                </a:lnTo>
                <a:cubicBezTo>
                  <a:pt x="351" y="749"/>
                  <a:pt x="371" y="721"/>
                  <a:pt x="368" y="689"/>
                </a:cubicBezTo>
                <a:cubicBezTo>
                  <a:pt x="368" y="675"/>
                  <a:pt x="360" y="656"/>
                  <a:pt x="346" y="64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34" name="Freeform 228"/>
          <p:cNvSpPr/>
          <p:nvPr/>
        </p:nvSpPr>
        <p:spPr>
          <a:xfrm>
            <a:off x="9082080" y="3886200"/>
            <a:ext cx="117360" cy="157320"/>
          </a:xfrm>
          <a:custGeom>
            <a:avLst/>
            <a:gdLst/>
            <a:ahLst/>
            <a:rect l="l" t="t" r="r" b="b"/>
            <a:pathLst>
              <a:path w="443" h="590">
                <a:moveTo>
                  <a:pt x="113" y="382"/>
                </a:moveTo>
                <a:lnTo>
                  <a:pt x="146" y="319"/>
                </a:lnTo>
                <a:cubicBezTo>
                  <a:pt x="160" y="295"/>
                  <a:pt x="163" y="249"/>
                  <a:pt x="163" y="247"/>
                </a:cubicBezTo>
                <a:lnTo>
                  <a:pt x="163" y="37"/>
                </a:lnTo>
                <a:lnTo>
                  <a:pt x="153" y="37"/>
                </a:lnTo>
                <a:cubicBezTo>
                  <a:pt x="151" y="37"/>
                  <a:pt x="150" y="37"/>
                  <a:pt x="149" y="34"/>
                </a:cubicBezTo>
                <a:cubicBezTo>
                  <a:pt x="148" y="32"/>
                  <a:pt x="148" y="29"/>
                  <a:pt x="148" y="28"/>
                </a:cubicBezTo>
                <a:cubicBezTo>
                  <a:pt x="148" y="25"/>
                  <a:pt x="149" y="23"/>
                  <a:pt x="152" y="22"/>
                </a:cubicBezTo>
                <a:cubicBezTo>
                  <a:pt x="154" y="21"/>
                  <a:pt x="157" y="20"/>
                  <a:pt x="160" y="20"/>
                </a:cubicBezTo>
                <a:lnTo>
                  <a:pt x="160" y="20"/>
                </a:lnTo>
                <a:lnTo>
                  <a:pt x="160" y="20"/>
                </a:lnTo>
                <a:lnTo>
                  <a:pt x="283" y="20"/>
                </a:lnTo>
                <a:lnTo>
                  <a:pt x="283" y="20"/>
                </a:lnTo>
                <a:lnTo>
                  <a:pt x="284" y="20"/>
                </a:lnTo>
                <a:lnTo>
                  <a:pt x="284" y="20"/>
                </a:lnTo>
                <a:cubicBezTo>
                  <a:pt x="286" y="20"/>
                  <a:pt x="289" y="21"/>
                  <a:pt x="292" y="22"/>
                </a:cubicBezTo>
                <a:cubicBezTo>
                  <a:pt x="294" y="23"/>
                  <a:pt x="295" y="25"/>
                  <a:pt x="296" y="28"/>
                </a:cubicBezTo>
                <a:cubicBezTo>
                  <a:pt x="296" y="29"/>
                  <a:pt x="295" y="32"/>
                  <a:pt x="294" y="34"/>
                </a:cubicBezTo>
                <a:cubicBezTo>
                  <a:pt x="293" y="37"/>
                  <a:pt x="292" y="37"/>
                  <a:pt x="291" y="37"/>
                </a:cubicBezTo>
                <a:lnTo>
                  <a:pt x="281" y="37"/>
                </a:lnTo>
                <a:lnTo>
                  <a:pt x="281" y="247"/>
                </a:lnTo>
                <a:lnTo>
                  <a:pt x="281" y="247"/>
                </a:lnTo>
                <a:cubicBezTo>
                  <a:pt x="281" y="249"/>
                  <a:pt x="283" y="295"/>
                  <a:pt x="297" y="319"/>
                </a:cubicBezTo>
                <a:lnTo>
                  <a:pt x="330" y="382"/>
                </a:lnTo>
                <a:cubicBezTo>
                  <a:pt x="257" y="382"/>
                  <a:pt x="187" y="382"/>
                  <a:pt x="113" y="382"/>
                </a:cubicBezTo>
                <a:close/>
                <a:moveTo>
                  <a:pt x="439" y="550"/>
                </a:moveTo>
                <a:cubicBezTo>
                  <a:pt x="436" y="542"/>
                  <a:pt x="433" y="535"/>
                  <a:pt x="432" y="535"/>
                </a:cubicBezTo>
                <a:lnTo>
                  <a:pt x="315" y="309"/>
                </a:lnTo>
                <a:lnTo>
                  <a:pt x="314" y="309"/>
                </a:lnTo>
                <a:cubicBezTo>
                  <a:pt x="305" y="293"/>
                  <a:pt x="301" y="259"/>
                  <a:pt x="301" y="247"/>
                </a:cubicBezTo>
                <a:lnTo>
                  <a:pt x="301" y="55"/>
                </a:lnTo>
                <a:cubicBezTo>
                  <a:pt x="312" y="50"/>
                  <a:pt x="316" y="37"/>
                  <a:pt x="316" y="28"/>
                </a:cubicBezTo>
                <a:lnTo>
                  <a:pt x="316" y="27"/>
                </a:lnTo>
                <a:cubicBezTo>
                  <a:pt x="315" y="16"/>
                  <a:pt x="310" y="8"/>
                  <a:pt x="300" y="4"/>
                </a:cubicBezTo>
                <a:cubicBezTo>
                  <a:pt x="294" y="0"/>
                  <a:pt x="287" y="0"/>
                  <a:pt x="284" y="0"/>
                </a:cubicBezTo>
                <a:lnTo>
                  <a:pt x="283" y="0"/>
                </a:lnTo>
                <a:lnTo>
                  <a:pt x="161" y="0"/>
                </a:lnTo>
                <a:lnTo>
                  <a:pt x="160" y="0"/>
                </a:lnTo>
                <a:cubicBezTo>
                  <a:pt x="156" y="0"/>
                  <a:pt x="150" y="0"/>
                  <a:pt x="143" y="4"/>
                </a:cubicBezTo>
                <a:cubicBezTo>
                  <a:pt x="134" y="8"/>
                  <a:pt x="128" y="16"/>
                  <a:pt x="128" y="27"/>
                </a:cubicBezTo>
                <a:lnTo>
                  <a:pt x="128" y="28"/>
                </a:lnTo>
                <a:cubicBezTo>
                  <a:pt x="128" y="37"/>
                  <a:pt x="132" y="50"/>
                  <a:pt x="143" y="55"/>
                </a:cubicBezTo>
                <a:lnTo>
                  <a:pt x="143" y="247"/>
                </a:lnTo>
                <a:cubicBezTo>
                  <a:pt x="142" y="259"/>
                  <a:pt x="138" y="293"/>
                  <a:pt x="129" y="309"/>
                </a:cubicBezTo>
                <a:lnTo>
                  <a:pt x="129" y="309"/>
                </a:lnTo>
                <a:lnTo>
                  <a:pt x="11" y="535"/>
                </a:lnTo>
                <a:cubicBezTo>
                  <a:pt x="11" y="535"/>
                  <a:pt x="7" y="542"/>
                  <a:pt x="4" y="550"/>
                </a:cubicBezTo>
                <a:cubicBezTo>
                  <a:pt x="0" y="563"/>
                  <a:pt x="0" y="573"/>
                  <a:pt x="4" y="580"/>
                </a:cubicBezTo>
                <a:cubicBezTo>
                  <a:pt x="7" y="584"/>
                  <a:pt x="12" y="590"/>
                  <a:pt x="24" y="590"/>
                </a:cubicBezTo>
                <a:lnTo>
                  <a:pt x="420" y="590"/>
                </a:lnTo>
                <a:cubicBezTo>
                  <a:pt x="431" y="590"/>
                  <a:pt x="437" y="584"/>
                  <a:pt x="439" y="580"/>
                </a:cubicBezTo>
                <a:cubicBezTo>
                  <a:pt x="443" y="573"/>
                  <a:pt x="443" y="563"/>
                  <a:pt x="439" y="55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35" name="Freeform 229"/>
          <p:cNvSpPr/>
          <p:nvPr/>
        </p:nvSpPr>
        <p:spPr>
          <a:xfrm>
            <a:off x="7693200" y="5149800"/>
            <a:ext cx="161640" cy="206280"/>
          </a:xfrm>
          <a:custGeom>
            <a:avLst/>
            <a:gdLst/>
            <a:ahLst/>
            <a:rect l="l" t="t" r="r" b="b"/>
            <a:pathLst>
              <a:path w="609" h="776">
                <a:moveTo>
                  <a:pt x="442" y="215"/>
                </a:moveTo>
                <a:cubicBezTo>
                  <a:pt x="442" y="215"/>
                  <a:pt x="443" y="194"/>
                  <a:pt x="432" y="207"/>
                </a:cubicBezTo>
                <a:cubicBezTo>
                  <a:pt x="432" y="207"/>
                  <a:pt x="410" y="234"/>
                  <a:pt x="395" y="221"/>
                </a:cubicBezTo>
                <a:cubicBezTo>
                  <a:pt x="379" y="208"/>
                  <a:pt x="383" y="160"/>
                  <a:pt x="390" y="146"/>
                </a:cubicBezTo>
                <a:cubicBezTo>
                  <a:pt x="390" y="146"/>
                  <a:pt x="394" y="131"/>
                  <a:pt x="379" y="138"/>
                </a:cubicBezTo>
                <a:cubicBezTo>
                  <a:pt x="379" y="138"/>
                  <a:pt x="345" y="149"/>
                  <a:pt x="331" y="131"/>
                </a:cubicBezTo>
                <a:cubicBezTo>
                  <a:pt x="331" y="131"/>
                  <a:pt x="309" y="98"/>
                  <a:pt x="305" y="41"/>
                </a:cubicBezTo>
                <a:cubicBezTo>
                  <a:pt x="305" y="41"/>
                  <a:pt x="297" y="0"/>
                  <a:pt x="291" y="41"/>
                </a:cubicBezTo>
                <a:cubicBezTo>
                  <a:pt x="291" y="41"/>
                  <a:pt x="283" y="124"/>
                  <a:pt x="263" y="135"/>
                </a:cubicBezTo>
                <a:cubicBezTo>
                  <a:pt x="263" y="135"/>
                  <a:pt x="241" y="151"/>
                  <a:pt x="221" y="143"/>
                </a:cubicBezTo>
                <a:cubicBezTo>
                  <a:pt x="221" y="143"/>
                  <a:pt x="204" y="132"/>
                  <a:pt x="211" y="151"/>
                </a:cubicBezTo>
                <a:cubicBezTo>
                  <a:pt x="211" y="151"/>
                  <a:pt x="229" y="225"/>
                  <a:pt x="204" y="228"/>
                </a:cubicBezTo>
                <a:cubicBezTo>
                  <a:pt x="204" y="228"/>
                  <a:pt x="183" y="237"/>
                  <a:pt x="171" y="214"/>
                </a:cubicBezTo>
                <a:cubicBezTo>
                  <a:pt x="171" y="214"/>
                  <a:pt x="160" y="199"/>
                  <a:pt x="160" y="220"/>
                </a:cubicBezTo>
                <a:cubicBezTo>
                  <a:pt x="160" y="220"/>
                  <a:pt x="166" y="279"/>
                  <a:pt x="205" y="310"/>
                </a:cubicBezTo>
                <a:cubicBezTo>
                  <a:pt x="205" y="310"/>
                  <a:pt x="216" y="321"/>
                  <a:pt x="203" y="328"/>
                </a:cubicBezTo>
                <a:cubicBezTo>
                  <a:pt x="203" y="328"/>
                  <a:pt x="191" y="338"/>
                  <a:pt x="180" y="324"/>
                </a:cubicBezTo>
                <a:cubicBezTo>
                  <a:pt x="180" y="324"/>
                  <a:pt x="138" y="273"/>
                  <a:pt x="137" y="268"/>
                </a:cubicBezTo>
                <a:cubicBezTo>
                  <a:pt x="137" y="268"/>
                  <a:pt x="130" y="256"/>
                  <a:pt x="125" y="270"/>
                </a:cubicBezTo>
                <a:cubicBezTo>
                  <a:pt x="125" y="270"/>
                  <a:pt x="109" y="303"/>
                  <a:pt x="74" y="281"/>
                </a:cubicBezTo>
                <a:lnTo>
                  <a:pt x="25" y="249"/>
                </a:lnTo>
                <a:cubicBezTo>
                  <a:pt x="25" y="249"/>
                  <a:pt x="7" y="234"/>
                  <a:pt x="12" y="253"/>
                </a:cubicBezTo>
                <a:cubicBezTo>
                  <a:pt x="12" y="253"/>
                  <a:pt x="30" y="313"/>
                  <a:pt x="34" y="321"/>
                </a:cubicBezTo>
                <a:cubicBezTo>
                  <a:pt x="34" y="321"/>
                  <a:pt x="37" y="330"/>
                  <a:pt x="30" y="336"/>
                </a:cubicBezTo>
                <a:cubicBezTo>
                  <a:pt x="30" y="336"/>
                  <a:pt x="20" y="338"/>
                  <a:pt x="28" y="349"/>
                </a:cubicBezTo>
                <a:cubicBezTo>
                  <a:pt x="28" y="349"/>
                  <a:pt x="72" y="393"/>
                  <a:pt x="46" y="403"/>
                </a:cubicBezTo>
                <a:cubicBezTo>
                  <a:pt x="46" y="403"/>
                  <a:pt x="0" y="418"/>
                  <a:pt x="24" y="431"/>
                </a:cubicBezTo>
                <a:cubicBezTo>
                  <a:pt x="24" y="431"/>
                  <a:pt x="108" y="460"/>
                  <a:pt x="108" y="480"/>
                </a:cubicBezTo>
                <a:cubicBezTo>
                  <a:pt x="107" y="500"/>
                  <a:pt x="97" y="512"/>
                  <a:pt x="42" y="528"/>
                </a:cubicBezTo>
                <a:cubicBezTo>
                  <a:pt x="42" y="528"/>
                  <a:pt x="0" y="541"/>
                  <a:pt x="29" y="548"/>
                </a:cubicBezTo>
                <a:cubicBezTo>
                  <a:pt x="29" y="548"/>
                  <a:pt x="77" y="555"/>
                  <a:pt x="94" y="568"/>
                </a:cubicBezTo>
                <a:cubicBezTo>
                  <a:pt x="111" y="581"/>
                  <a:pt x="119" y="578"/>
                  <a:pt x="143" y="580"/>
                </a:cubicBezTo>
                <a:cubicBezTo>
                  <a:pt x="166" y="582"/>
                  <a:pt x="209" y="584"/>
                  <a:pt x="193" y="611"/>
                </a:cubicBezTo>
                <a:cubicBezTo>
                  <a:pt x="193" y="611"/>
                  <a:pt x="160" y="639"/>
                  <a:pt x="194" y="635"/>
                </a:cubicBezTo>
                <a:lnTo>
                  <a:pt x="218" y="633"/>
                </a:lnTo>
                <a:cubicBezTo>
                  <a:pt x="218" y="633"/>
                  <a:pt x="234" y="634"/>
                  <a:pt x="242" y="622"/>
                </a:cubicBezTo>
                <a:cubicBezTo>
                  <a:pt x="242" y="622"/>
                  <a:pt x="282" y="588"/>
                  <a:pt x="307" y="591"/>
                </a:cubicBezTo>
                <a:cubicBezTo>
                  <a:pt x="307" y="591"/>
                  <a:pt x="302" y="628"/>
                  <a:pt x="331" y="696"/>
                </a:cubicBezTo>
                <a:cubicBezTo>
                  <a:pt x="331" y="696"/>
                  <a:pt x="361" y="768"/>
                  <a:pt x="363" y="775"/>
                </a:cubicBezTo>
                <a:cubicBezTo>
                  <a:pt x="363" y="775"/>
                  <a:pt x="379" y="776"/>
                  <a:pt x="379" y="768"/>
                </a:cubicBezTo>
                <a:cubicBezTo>
                  <a:pt x="379" y="768"/>
                  <a:pt x="323" y="670"/>
                  <a:pt x="319" y="640"/>
                </a:cubicBezTo>
                <a:cubicBezTo>
                  <a:pt x="319" y="640"/>
                  <a:pt x="310" y="603"/>
                  <a:pt x="315" y="591"/>
                </a:cubicBezTo>
                <a:cubicBezTo>
                  <a:pt x="315" y="591"/>
                  <a:pt x="369" y="601"/>
                  <a:pt x="382" y="618"/>
                </a:cubicBezTo>
                <a:cubicBezTo>
                  <a:pt x="382" y="618"/>
                  <a:pt x="395" y="631"/>
                  <a:pt x="431" y="628"/>
                </a:cubicBezTo>
                <a:cubicBezTo>
                  <a:pt x="431" y="628"/>
                  <a:pt x="452" y="626"/>
                  <a:pt x="438" y="614"/>
                </a:cubicBezTo>
                <a:cubicBezTo>
                  <a:pt x="438" y="614"/>
                  <a:pt x="405" y="583"/>
                  <a:pt x="441" y="578"/>
                </a:cubicBezTo>
                <a:cubicBezTo>
                  <a:pt x="441" y="578"/>
                  <a:pt x="504" y="573"/>
                  <a:pt x="525" y="558"/>
                </a:cubicBezTo>
                <a:cubicBezTo>
                  <a:pt x="525" y="558"/>
                  <a:pt x="567" y="534"/>
                  <a:pt x="583" y="534"/>
                </a:cubicBezTo>
                <a:cubicBezTo>
                  <a:pt x="583" y="534"/>
                  <a:pt x="609" y="526"/>
                  <a:pt x="584" y="517"/>
                </a:cubicBezTo>
                <a:lnTo>
                  <a:pt x="522" y="494"/>
                </a:lnTo>
                <a:cubicBezTo>
                  <a:pt x="522" y="494"/>
                  <a:pt x="487" y="476"/>
                  <a:pt x="517" y="452"/>
                </a:cubicBezTo>
                <a:cubicBezTo>
                  <a:pt x="517" y="452"/>
                  <a:pt x="571" y="421"/>
                  <a:pt x="583" y="419"/>
                </a:cubicBezTo>
                <a:cubicBezTo>
                  <a:pt x="583" y="419"/>
                  <a:pt x="602" y="414"/>
                  <a:pt x="587" y="404"/>
                </a:cubicBezTo>
                <a:cubicBezTo>
                  <a:pt x="587" y="404"/>
                  <a:pt x="545" y="392"/>
                  <a:pt x="559" y="365"/>
                </a:cubicBezTo>
                <a:cubicBezTo>
                  <a:pt x="559" y="365"/>
                  <a:pt x="592" y="329"/>
                  <a:pt x="577" y="321"/>
                </a:cubicBezTo>
                <a:cubicBezTo>
                  <a:pt x="577" y="321"/>
                  <a:pt x="566" y="319"/>
                  <a:pt x="575" y="297"/>
                </a:cubicBezTo>
                <a:cubicBezTo>
                  <a:pt x="575" y="297"/>
                  <a:pt x="606" y="216"/>
                  <a:pt x="581" y="232"/>
                </a:cubicBezTo>
                <a:cubicBezTo>
                  <a:pt x="581" y="232"/>
                  <a:pt x="518" y="297"/>
                  <a:pt x="487" y="272"/>
                </a:cubicBezTo>
                <a:cubicBezTo>
                  <a:pt x="487" y="272"/>
                  <a:pt x="473" y="242"/>
                  <a:pt x="464" y="265"/>
                </a:cubicBezTo>
                <a:cubicBezTo>
                  <a:pt x="464" y="265"/>
                  <a:pt x="425" y="325"/>
                  <a:pt x="420" y="326"/>
                </a:cubicBezTo>
                <a:cubicBezTo>
                  <a:pt x="420" y="326"/>
                  <a:pt x="413" y="333"/>
                  <a:pt x="403" y="323"/>
                </a:cubicBezTo>
                <a:cubicBezTo>
                  <a:pt x="403" y="323"/>
                  <a:pt x="391" y="317"/>
                  <a:pt x="407" y="302"/>
                </a:cubicBezTo>
                <a:cubicBezTo>
                  <a:pt x="407" y="302"/>
                  <a:pt x="450" y="248"/>
                  <a:pt x="442" y="21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36" name="Freeform 230"/>
          <p:cNvSpPr/>
          <p:nvPr/>
        </p:nvSpPr>
        <p:spPr>
          <a:xfrm>
            <a:off x="7718400" y="4830840"/>
            <a:ext cx="154080" cy="139680"/>
          </a:xfrm>
          <a:custGeom>
            <a:avLst/>
            <a:gdLst/>
            <a:ahLst/>
            <a:rect l="l" t="t" r="r" b="b"/>
            <a:pathLst>
              <a:path w="579" h="522">
                <a:moveTo>
                  <a:pt x="573" y="157"/>
                </a:moveTo>
                <a:cubicBezTo>
                  <a:pt x="564" y="3"/>
                  <a:pt x="430" y="4"/>
                  <a:pt x="430" y="4"/>
                </a:cubicBezTo>
                <a:cubicBezTo>
                  <a:pt x="340" y="0"/>
                  <a:pt x="292" y="83"/>
                  <a:pt x="290" y="87"/>
                </a:cubicBezTo>
                <a:cubicBezTo>
                  <a:pt x="288" y="83"/>
                  <a:pt x="239" y="0"/>
                  <a:pt x="150" y="4"/>
                </a:cubicBezTo>
                <a:cubicBezTo>
                  <a:pt x="150" y="4"/>
                  <a:pt x="15" y="3"/>
                  <a:pt x="7" y="157"/>
                </a:cubicBezTo>
                <a:cubicBezTo>
                  <a:pt x="7" y="157"/>
                  <a:pt x="0" y="258"/>
                  <a:pt x="112" y="363"/>
                </a:cubicBezTo>
                <a:lnTo>
                  <a:pt x="290" y="522"/>
                </a:lnTo>
                <a:lnTo>
                  <a:pt x="290" y="522"/>
                </a:lnTo>
                <a:lnTo>
                  <a:pt x="290" y="522"/>
                </a:lnTo>
                <a:lnTo>
                  <a:pt x="290" y="522"/>
                </a:lnTo>
                <a:lnTo>
                  <a:pt x="290" y="522"/>
                </a:lnTo>
                <a:lnTo>
                  <a:pt x="468" y="363"/>
                </a:lnTo>
                <a:cubicBezTo>
                  <a:pt x="579" y="258"/>
                  <a:pt x="573" y="157"/>
                  <a:pt x="573" y="157"/>
                </a:cubicBezTo>
                <a:close/>
              </a:path>
            </a:pathLst>
          </a:custGeom>
          <a:solidFill>
            <a:srgbClr val="a6a6a6"/>
          </a:solidFill>
          <a:ln w="0">
            <a:noFill/>
          </a:ln>
        </p:spPr>
        <p:style>
          <a:lnRef idx="0"/>
          <a:fillRef idx="0"/>
          <a:effectRef idx="0"/>
          <a:fontRef idx="minor"/>
        </p:style>
        <p:txBody>
          <a:bodyPr lIns="145800" rIns="145800" tIns="66960" bIns="66960" anchor="t">
            <a:noAutofit/>
          </a:bodyPr>
          <a:p>
            <a:endParaRPr b="0" lang="en-US" sz="1800" spc="-1" strike="noStrike">
              <a:solidFill>
                <a:srgbClr val="000000"/>
              </a:solidFill>
              <a:latin typeface="Calibri"/>
            </a:endParaRPr>
          </a:p>
        </p:txBody>
      </p:sp>
      <p:sp>
        <p:nvSpPr>
          <p:cNvPr id="1837" name="Freeform 231"/>
          <p:cNvSpPr/>
          <p:nvPr/>
        </p:nvSpPr>
        <p:spPr>
          <a:xfrm>
            <a:off x="4159080" y="2960640"/>
            <a:ext cx="277920" cy="136440"/>
          </a:xfrm>
          <a:custGeom>
            <a:avLst/>
            <a:gdLst/>
            <a:ahLst/>
            <a:rect l="l" t="t" r="r" b="b"/>
            <a:pathLst>
              <a:path w="1040" h="517">
                <a:moveTo>
                  <a:pt x="889" y="390"/>
                </a:moveTo>
                <a:cubicBezTo>
                  <a:pt x="854" y="390"/>
                  <a:pt x="826" y="419"/>
                  <a:pt x="826" y="454"/>
                </a:cubicBezTo>
                <a:cubicBezTo>
                  <a:pt x="826" y="489"/>
                  <a:pt x="854" y="517"/>
                  <a:pt x="889" y="517"/>
                </a:cubicBezTo>
                <a:cubicBezTo>
                  <a:pt x="924" y="517"/>
                  <a:pt x="952" y="489"/>
                  <a:pt x="952" y="454"/>
                </a:cubicBezTo>
                <a:cubicBezTo>
                  <a:pt x="952" y="419"/>
                  <a:pt x="924" y="390"/>
                  <a:pt x="889" y="390"/>
                </a:cubicBezTo>
                <a:close/>
                <a:moveTo>
                  <a:pt x="779" y="0"/>
                </a:moveTo>
                <a:cubicBezTo>
                  <a:pt x="519" y="0"/>
                  <a:pt x="260" y="0"/>
                  <a:pt x="0" y="0"/>
                </a:cubicBezTo>
                <a:cubicBezTo>
                  <a:pt x="0" y="143"/>
                  <a:pt x="1" y="284"/>
                  <a:pt x="1" y="427"/>
                </a:cubicBezTo>
                <a:cubicBezTo>
                  <a:pt x="40" y="427"/>
                  <a:pt x="80" y="428"/>
                  <a:pt x="120" y="428"/>
                </a:cubicBezTo>
                <a:lnTo>
                  <a:pt x="120" y="422"/>
                </a:lnTo>
                <a:cubicBezTo>
                  <a:pt x="133" y="390"/>
                  <a:pt x="164" y="368"/>
                  <a:pt x="200" y="368"/>
                </a:cubicBezTo>
                <a:cubicBezTo>
                  <a:pt x="238" y="368"/>
                  <a:pt x="271" y="393"/>
                  <a:pt x="282" y="428"/>
                </a:cubicBezTo>
                <a:lnTo>
                  <a:pt x="654" y="428"/>
                </a:lnTo>
                <a:lnTo>
                  <a:pt x="670" y="428"/>
                </a:lnTo>
                <a:lnTo>
                  <a:pt x="810" y="428"/>
                </a:lnTo>
                <a:cubicBezTo>
                  <a:pt x="820" y="393"/>
                  <a:pt x="852" y="368"/>
                  <a:pt x="890" y="368"/>
                </a:cubicBezTo>
                <a:cubicBezTo>
                  <a:pt x="927" y="368"/>
                  <a:pt x="959" y="393"/>
                  <a:pt x="969" y="428"/>
                </a:cubicBezTo>
                <a:lnTo>
                  <a:pt x="990" y="428"/>
                </a:lnTo>
                <a:lnTo>
                  <a:pt x="1000" y="427"/>
                </a:lnTo>
                <a:lnTo>
                  <a:pt x="1008" y="424"/>
                </a:lnTo>
                <a:lnTo>
                  <a:pt x="1014" y="420"/>
                </a:lnTo>
                <a:lnTo>
                  <a:pt x="1019" y="415"/>
                </a:lnTo>
                <a:cubicBezTo>
                  <a:pt x="1040" y="392"/>
                  <a:pt x="1011" y="375"/>
                  <a:pt x="1011" y="375"/>
                </a:cubicBezTo>
                <a:cubicBezTo>
                  <a:pt x="1011" y="375"/>
                  <a:pt x="1012" y="303"/>
                  <a:pt x="1011" y="282"/>
                </a:cubicBezTo>
                <a:cubicBezTo>
                  <a:pt x="1010" y="261"/>
                  <a:pt x="989" y="257"/>
                  <a:pt x="989" y="257"/>
                </a:cubicBezTo>
                <a:lnTo>
                  <a:pt x="921" y="253"/>
                </a:lnTo>
                <a:cubicBezTo>
                  <a:pt x="905" y="179"/>
                  <a:pt x="824" y="121"/>
                  <a:pt x="779" y="121"/>
                </a:cubicBezTo>
                <a:cubicBezTo>
                  <a:pt x="779" y="121"/>
                  <a:pt x="779" y="116"/>
                  <a:pt x="779" y="107"/>
                </a:cubicBezTo>
                <a:lnTo>
                  <a:pt x="779" y="0"/>
                </a:lnTo>
                <a:close/>
                <a:moveTo>
                  <a:pt x="811" y="249"/>
                </a:moveTo>
                <a:lnTo>
                  <a:pt x="811" y="161"/>
                </a:lnTo>
                <a:cubicBezTo>
                  <a:pt x="833" y="174"/>
                  <a:pt x="875" y="208"/>
                  <a:pt x="888" y="249"/>
                </a:cubicBezTo>
                <a:lnTo>
                  <a:pt x="811" y="249"/>
                </a:lnTo>
                <a:close/>
                <a:moveTo>
                  <a:pt x="797" y="249"/>
                </a:moveTo>
                <a:lnTo>
                  <a:pt x="721" y="249"/>
                </a:lnTo>
                <a:lnTo>
                  <a:pt x="721" y="155"/>
                </a:lnTo>
                <a:lnTo>
                  <a:pt x="797" y="155"/>
                </a:lnTo>
                <a:lnTo>
                  <a:pt x="797" y="249"/>
                </a:lnTo>
                <a:close/>
                <a:moveTo>
                  <a:pt x="158" y="283"/>
                </a:moveTo>
                <a:lnTo>
                  <a:pt x="60" y="283"/>
                </a:lnTo>
                <a:cubicBezTo>
                  <a:pt x="56" y="283"/>
                  <a:pt x="53" y="280"/>
                  <a:pt x="53" y="276"/>
                </a:cubicBezTo>
                <a:cubicBezTo>
                  <a:pt x="53" y="273"/>
                  <a:pt x="56" y="269"/>
                  <a:pt x="60" y="269"/>
                </a:cubicBezTo>
                <a:lnTo>
                  <a:pt x="158" y="269"/>
                </a:lnTo>
                <a:cubicBezTo>
                  <a:pt x="162" y="269"/>
                  <a:pt x="165" y="273"/>
                  <a:pt x="165" y="276"/>
                </a:cubicBezTo>
                <a:cubicBezTo>
                  <a:pt x="165" y="280"/>
                  <a:pt x="162" y="284"/>
                  <a:pt x="158" y="283"/>
                </a:cubicBezTo>
                <a:close/>
                <a:moveTo>
                  <a:pt x="158" y="312"/>
                </a:moveTo>
                <a:lnTo>
                  <a:pt x="60" y="312"/>
                </a:lnTo>
                <a:cubicBezTo>
                  <a:pt x="56" y="312"/>
                  <a:pt x="53" y="309"/>
                  <a:pt x="53" y="305"/>
                </a:cubicBezTo>
                <a:cubicBezTo>
                  <a:pt x="53" y="301"/>
                  <a:pt x="56" y="298"/>
                  <a:pt x="60" y="298"/>
                </a:cubicBezTo>
                <a:lnTo>
                  <a:pt x="158" y="298"/>
                </a:lnTo>
                <a:cubicBezTo>
                  <a:pt x="162" y="298"/>
                  <a:pt x="165" y="301"/>
                  <a:pt x="165" y="305"/>
                </a:cubicBezTo>
                <a:cubicBezTo>
                  <a:pt x="165" y="309"/>
                  <a:pt x="162" y="312"/>
                  <a:pt x="158" y="312"/>
                </a:cubicBezTo>
                <a:close/>
                <a:moveTo>
                  <a:pt x="158" y="341"/>
                </a:moveTo>
                <a:lnTo>
                  <a:pt x="60" y="341"/>
                </a:lnTo>
                <a:cubicBezTo>
                  <a:pt x="56" y="341"/>
                  <a:pt x="53" y="338"/>
                  <a:pt x="53" y="334"/>
                </a:cubicBezTo>
                <a:cubicBezTo>
                  <a:pt x="53" y="330"/>
                  <a:pt x="56" y="327"/>
                  <a:pt x="60" y="327"/>
                </a:cubicBezTo>
                <a:lnTo>
                  <a:pt x="158" y="327"/>
                </a:lnTo>
                <a:cubicBezTo>
                  <a:pt x="162" y="327"/>
                  <a:pt x="165" y="330"/>
                  <a:pt x="165" y="334"/>
                </a:cubicBezTo>
                <a:cubicBezTo>
                  <a:pt x="165" y="338"/>
                  <a:pt x="162" y="341"/>
                  <a:pt x="158" y="341"/>
                </a:cubicBezTo>
                <a:close/>
                <a:moveTo>
                  <a:pt x="200" y="390"/>
                </a:moveTo>
                <a:cubicBezTo>
                  <a:pt x="165" y="390"/>
                  <a:pt x="137" y="419"/>
                  <a:pt x="137" y="454"/>
                </a:cubicBezTo>
                <a:cubicBezTo>
                  <a:pt x="137" y="489"/>
                  <a:pt x="165" y="517"/>
                  <a:pt x="200" y="517"/>
                </a:cubicBezTo>
                <a:cubicBezTo>
                  <a:pt x="235" y="517"/>
                  <a:pt x="263" y="489"/>
                  <a:pt x="263" y="454"/>
                </a:cubicBezTo>
                <a:cubicBezTo>
                  <a:pt x="263" y="419"/>
                  <a:pt x="235" y="390"/>
                  <a:pt x="200" y="390"/>
                </a:cubicBezTo>
                <a:close/>
              </a:path>
            </a:pathLst>
          </a:custGeom>
          <a:solidFill>
            <a:srgbClr val="a6a6a6"/>
          </a:solidFill>
          <a:ln w="0">
            <a:noFill/>
          </a:ln>
        </p:spPr>
        <p:style>
          <a:lnRef idx="0"/>
          <a:fillRef idx="0"/>
          <a:effectRef idx="0"/>
          <a:fontRef idx="minor"/>
        </p:style>
        <p:txBody>
          <a:bodyPr lIns="145800" rIns="145800" tIns="63720" bIns="63720" anchor="t">
            <a:noAutofit/>
          </a:bodyPr>
          <a:p>
            <a:endParaRPr b="0" lang="en-US" sz="1800" spc="-1" strike="noStrike">
              <a:solidFill>
                <a:srgbClr val="000000"/>
              </a:solidFill>
              <a:latin typeface="Calibri"/>
            </a:endParaRPr>
          </a:p>
        </p:txBody>
      </p:sp>
      <p:sp>
        <p:nvSpPr>
          <p:cNvPr id="1838" name="Freeform 232"/>
          <p:cNvSpPr/>
          <p:nvPr/>
        </p:nvSpPr>
        <p:spPr>
          <a:xfrm>
            <a:off x="4533840" y="2933640"/>
            <a:ext cx="154080" cy="190440"/>
          </a:xfrm>
          <a:custGeom>
            <a:avLst/>
            <a:gdLst/>
            <a:ahLst/>
            <a:rect l="l" t="t" r="r" b="b"/>
            <a:pathLst>
              <a:path w="572" h="715">
                <a:moveTo>
                  <a:pt x="478" y="201"/>
                </a:moveTo>
                <a:lnTo>
                  <a:pt x="478" y="286"/>
                </a:lnTo>
                <a:cubicBezTo>
                  <a:pt x="478" y="336"/>
                  <a:pt x="451" y="375"/>
                  <a:pt x="418" y="375"/>
                </a:cubicBezTo>
                <a:lnTo>
                  <a:pt x="163" y="375"/>
                </a:lnTo>
                <a:cubicBezTo>
                  <a:pt x="130" y="375"/>
                  <a:pt x="104" y="336"/>
                  <a:pt x="104" y="286"/>
                </a:cubicBezTo>
                <a:lnTo>
                  <a:pt x="104" y="201"/>
                </a:lnTo>
                <a:cubicBezTo>
                  <a:pt x="102" y="184"/>
                  <a:pt x="98" y="112"/>
                  <a:pt x="163" y="113"/>
                </a:cubicBezTo>
                <a:lnTo>
                  <a:pt x="418" y="113"/>
                </a:lnTo>
                <a:cubicBezTo>
                  <a:pt x="483" y="116"/>
                  <a:pt x="478" y="170"/>
                  <a:pt x="478" y="201"/>
                </a:cubicBezTo>
                <a:close/>
                <a:moveTo>
                  <a:pt x="445" y="467"/>
                </a:moveTo>
                <a:cubicBezTo>
                  <a:pt x="428" y="467"/>
                  <a:pt x="415" y="453"/>
                  <a:pt x="415" y="436"/>
                </a:cubicBezTo>
                <a:cubicBezTo>
                  <a:pt x="415" y="419"/>
                  <a:pt x="428" y="405"/>
                  <a:pt x="445" y="405"/>
                </a:cubicBezTo>
                <a:cubicBezTo>
                  <a:pt x="462" y="405"/>
                  <a:pt x="476" y="419"/>
                  <a:pt x="476" y="436"/>
                </a:cubicBezTo>
                <a:cubicBezTo>
                  <a:pt x="476" y="453"/>
                  <a:pt x="462" y="467"/>
                  <a:pt x="445" y="467"/>
                </a:cubicBezTo>
                <a:close/>
                <a:moveTo>
                  <a:pt x="366" y="581"/>
                </a:moveTo>
                <a:lnTo>
                  <a:pt x="226" y="581"/>
                </a:lnTo>
                <a:cubicBezTo>
                  <a:pt x="221" y="581"/>
                  <a:pt x="217" y="576"/>
                  <a:pt x="217" y="571"/>
                </a:cubicBezTo>
                <a:cubicBezTo>
                  <a:pt x="217" y="566"/>
                  <a:pt x="221" y="562"/>
                  <a:pt x="226" y="562"/>
                </a:cubicBezTo>
                <a:lnTo>
                  <a:pt x="366" y="562"/>
                </a:lnTo>
                <a:cubicBezTo>
                  <a:pt x="371" y="562"/>
                  <a:pt x="375" y="566"/>
                  <a:pt x="375" y="571"/>
                </a:cubicBezTo>
                <a:cubicBezTo>
                  <a:pt x="375" y="576"/>
                  <a:pt x="371" y="581"/>
                  <a:pt x="366" y="581"/>
                </a:cubicBezTo>
                <a:close/>
                <a:moveTo>
                  <a:pt x="142" y="467"/>
                </a:moveTo>
                <a:cubicBezTo>
                  <a:pt x="125" y="467"/>
                  <a:pt x="112" y="453"/>
                  <a:pt x="112" y="436"/>
                </a:cubicBezTo>
                <a:cubicBezTo>
                  <a:pt x="112" y="419"/>
                  <a:pt x="125" y="405"/>
                  <a:pt x="142" y="405"/>
                </a:cubicBezTo>
                <a:cubicBezTo>
                  <a:pt x="159" y="405"/>
                  <a:pt x="173" y="419"/>
                  <a:pt x="173" y="436"/>
                </a:cubicBezTo>
                <a:cubicBezTo>
                  <a:pt x="173" y="453"/>
                  <a:pt x="159" y="467"/>
                  <a:pt x="142" y="467"/>
                </a:cubicBezTo>
                <a:close/>
                <a:moveTo>
                  <a:pt x="566" y="312"/>
                </a:moveTo>
                <a:cubicBezTo>
                  <a:pt x="560" y="302"/>
                  <a:pt x="549" y="297"/>
                  <a:pt x="541" y="300"/>
                </a:cubicBezTo>
                <a:lnTo>
                  <a:pt x="514" y="312"/>
                </a:lnTo>
                <a:lnTo>
                  <a:pt x="514" y="281"/>
                </a:lnTo>
                <a:cubicBezTo>
                  <a:pt x="514" y="274"/>
                  <a:pt x="515" y="266"/>
                  <a:pt x="515" y="259"/>
                </a:cubicBezTo>
                <a:lnTo>
                  <a:pt x="515" y="133"/>
                </a:lnTo>
                <a:cubicBezTo>
                  <a:pt x="515" y="59"/>
                  <a:pt x="482" y="0"/>
                  <a:pt x="443" y="0"/>
                </a:cubicBezTo>
                <a:lnTo>
                  <a:pt x="131" y="0"/>
                </a:lnTo>
                <a:cubicBezTo>
                  <a:pt x="91" y="0"/>
                  <a:pt x="59" y="60"/>
                  <a:pt x="59" y="133"/>
                </a:cubicBezTo>
                <a:lnTo>
                  <a:pt x="59" y="259"/>
                </a:lnTo>
                <a:cubicBezTo>
                  <a:pt x="59" y="265"/>
                  <a:pt x="59" y="271"/>
                  <a:pt x="59" y="276"/>
                </a:cubicBezTo>
                <a:lnTo>
                  <a:pt x="58" y="276"/>
                </a:lnTo>
                <a:lnTo>
                  <a:pt x="58" y="311"/>
                </a:lnTo>
                <a:lnTo>
                  <a:pt x="32" y="299"/>
                </a:lnTo>
                <a:cubicBezTo>
                  <a:pt x="24" y="296"/>
                  <a:pt x="12" y="301"/>
                  <a:pt x="6" y="311"/>
                </a:cubicBezTo>
                <a:cubicBezTo>
                  <a:pt x="0" y="321"/>
                  <a:pt x="2" y="333"/>
                  <a:pt x="10" y="336"/>
                </a:cubicBezTo>
                <a:lnTo>
                  <a:pt x="45" y="351"/>
                </a:lnTo>
                <a:cubicBezTo>
                  <a:pt x="49" y="353"/>
                  <a:pt x="54" y="353"/>
                  <a:pt x="58" y="351"/>
                </a:cubicBezTo>
                <a:lnTo>
                  <a:pt x="58" y="420"/>
                </a:lnTo>
                <a:cubicBezTo>
                  <a:pt x="58" y="425"/>
                  <a:pt x="59" y="429"/>
                  <a:pt x="59" y="434"/>
                </a:cubicBezTo>
                <a:lnTo>
                  <a:pt x="58" y="434"/>
                </a:lnTo>
                <a:lnTo>
                  <a:pt x="58" y="527"/>
                </a:lnTo>
                <a:cubicBezTo>
                  <a:pt x="58" y="569"/>
                  <a:pt x="78" y="605"/>
                  <a:pt x="105" y="620"/>
                </a:cubicBezTo>
                <a:lnTo>
                  <a:pt x="105" y="623"/>
                </a:lnTo>
                <a:lnTo>
                  <a:pt x="105" y="680"/>
                </a:lnTo>
                <a:cubicBezTo>
                  <a:pt x="105" y="699"/>
                  <a:pt x="122" y="715"/>
                  <a:pt x="143" y="715"/>
                </a:cubicBezTo>
                <a:cubicBezTo>
                  <a:pt x="165" y="715"/>
                  <a:pt x="182" y="699"/>
                  <a:pt x="182" y="680"/>
                </a:cubicBezTo>
                <a:lnTo>
                  <a:pt x="182" y="626"/>
                </a:lnTo>
                <a:lnTo>
                  <a:pt x="396" y="626"/>
                </a:lnTo>
                <a:lnTo>
                  <a:pt x="396" y="680"/>
                </a:lnTo>
                <a:cubicBezTo>
                  <a:pt x="396" y="699"/>
                  <a:pt x="413" y="715"/>
                  <a:pt x="435" y="715"/>
                </a:cubicBezTo>
                <a:cubicBezTo>
                  <a:pt x="456" y="715"/>
                  <a:pt x="473" y="699"/>
                  <a:pt x="473" y="680"/>
                </a:cubicBezTo>
                <a:lnTo>
                  <a:pt x="473" y="623"/>
                </a:lnTo>
                <a:cubicBezTo>
                  <a:pt x="473" y="620"/>
                  <a:pt x="473" y="618"/>
                  <a:pt x="473" y="616"/>
                </a:cubicBezTo>
                <a:cubicBezTo>
                  <a:pt x="497" y="600"/>
                  <a:pt x="514" y="566"/>
                  <a:pt x="514" y="527"/>
                </a:cubicBezTo>
                <a:lnTo>
                  <a:pt x="514" y="434"/>
                </a:lnTo>
                <a:lnTo>
                  <a:pt x="513" y="434"/>
                </a:lnTo>
                <a:cubicBezTo>
                  <a:pt x="514" y="429"/>
                  <a:pt x="514" y="425"/>
                  <a:pt x="514" y="420"/>
                </a:cubicBezTo>
                <a:lnTo>
                  <a:pt x="514" y="352"/>
                </a:lnTo>
                <a:cubicBezTo>
                  <a:pt x="518" y="354"/>
                  <a:pt x="523" y="354"/>
                  <a:pt x="527" y="352"/>
                </a:cubicBezTo>
                <a:lnTo>
                  <a:pt x="563" y="337"/>
                </a:lnTo>
                <a:cubicBezTo>
                  <a:pt x="571" y="334"/>
                  <a:pt x="572" y="322"/>
                  <a:pt x="566" y="31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39" name="Freeform 233"/>
          <p:cNvSpPr/>
          <p:nvPr/>
        </p:nvSpPr>
        <p:spPr>
          <a:xfrm>
            <a:off x="2314440" y="1720800"/>
            <a:ext cx="106560" cy="187200"/>
          </a:xfrm>
          <a:custGeom>
            <a:avLst/>
            <a:gdLst/>
            <a:ahLst/>
            <a:rect l="l" t="t" r="r" b="b"/>
            <a:pathLst>
              <a:path w="400" h="704">
                <a:moveTo>
                  <a:pt x="349" y="352"/>
                </a:moveTo>
                <a:cubicBezTo>
                  <a:pt x="349" y="352"/>
                  <a:pt x="348" y="374"/>
                  <a:pt x="376" y="371"/>
                </a:cubicBezTo>
                <a:cubicBezTo>
                  <a:pt x="376" y="371"/>
                  <a:pt x="400" y="372"/>
                  <a:pt x="398" y="344"/>
                </a:cubicBezTo>
                <a:cubicBezTo>
                  <a:pt x="398" y="344"/>
                  <a:pt x="390" y="242"/>
                  <a:pt x="257" y="155"/>
                </a:cubicBezTo>
                <a:cubicBezTo>
                  <a:pt x="257" y="155"/>
                  <a:pt x="229" y="128"/>
                  <a:pt x="181" y="154"/>
                </a:cubicBezTo>
                <a:lnTo>
                  <a:pt x="30" y="321"/>
                </a:lnTo>
                <a:cubicBezTo>
                  <a:pt x="30" y="321"/>
                  <a:pt x="4" y="351"/>
                  <a:pt x="30" y="370"/>
                </a:cubicBezTo>
                <a:cubicBezTo>
                  <a:pt x="30" y="370"/>
                  <a:pt x="49" y="388"/>
                  <a:pt x="71" y="363"/>
                </a:cubicBezTo>
                <a:cubicBezTo>
                  <a:pt x="94" y="339"/>
                  <a:pt x="164" y="261"/>
                  <a:pt x="164" y="261"/>
                </a:cubicBezTo>
                <a:lnTo>
                  <a:pt x="163" y="369"/>
                </a:lnTo>
                <a:lnTo>
                  <a:pt x="29" y="621"/>
                </a:lnTo>
                <a:cubicBezTo>
                  <a:pt x="29" y="621"/>
                  <a:pt x="0" y="655"/>
                  <a:pt x="30" y="672"/>
                </a:cubicBezTo>
                <a:cubicBezTo>
                  <a:pt x="30" y="672"/>
                  <a:pt x="61" y="704"/>
                  <a:pt x="97" y="654"/>
                </a:cubicBezTo>
                <a:lnTo>
                  <a:pt x="225" y="404"/>
                </a:lnTo>
                <a:lnTo>
                  <a:pt x="314" y="655"/>
                </a:lnTo>
                <a:cubicBezTo>
                  <a:pt x="314" y="655"/>
                  <a:pt x="318" y="689"/>
                  <a:pt x="369" y="672"/>
                </a:cubicBezTo>
                <a:cubicBezTo>
                  <a:pt x="369" y="672"/>
                  <a:pt x="400" y="666"/>
                  <a:pt x="385" y="624"/>
                </a:cubicBezTo>
                <a:cubicBezTo>
                  <a:pt x="370" y="581"/>
                  <a:pt x="285" y="364"/>
                  <a:pt x="285" y="364"/>
                </a:cubicBezTo>
                <a:lnTo>
                  <a:pt x="280" y="258"/>
                </a:lnTo>
                <a:cubicBezTo>
                  <a:pt x="280" y="258"/>
                  <a:pt x="304" y="244"/>
                  <a:pt x="349" y="352"/>
                </a:cubicBezTo>
                <a:close/>
                <a:moveTo>
                  <a:pt x="199" y="121"/>
                </a:moveTo>
                <a:cubicBezTo>
                  <a:pt x="232" y="121"/>
                  <a:pt x="259" y="94"/>
                  <a:pt x="259" y="61"/>
                </a:cubicBezTo>
                <a:cubicBezTo>
                  <a:pt x="259" y="27"/>
                  <a:pt x="232" y="0"/>
                  <a:pt x="199" y="0"/>
                </a:cubicBezTo>
                <a:cubicBezTo>
                  <a:pt x="166" y="0"/>
                  <a:pt x="139" y="27"/>
                  <a:pt x="139" y="61"/>
                </a:cubicBezTo>
                <a:cubicBezTo>
                  <a:pt x="139" y="94"/>
                  <a:pt x="166" y="121"/>
                  <a:pt x="199" y="12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40" name="Freeform 234"/>
          <p:cNvSpPr/>
          <p:nvPr/>
        </p:nvSpPr>
        <p:spPr>
          <a:xfrm>
            <a:off x="3867120" y="2946240"/>
            <a:ext cx="203400" cy="162000"/>
          </a:xfrm>
          <a:custGeom>
            <a:avLst/>
            <a:gdLst/>
            <a:ahLst/>
            <a:rect l="l" t="t" r="r" b="b"/>
            <a:pathLst>
              <a:path w="765" h="599">
                <a:moveTo>
                  <a:pt x="125" y="285"/>
                </a:moveTo>
                <a:cubicBezTo>
                  <a:pt x="154" y="285"/>
                  <a:pt x="178" y="309"/>
                  <a:pt x="178" y="338"/>
                </a:cubicBezTo>
                <a:cubicBezTo>
                  <a:pt x="178" y="367"/>
                  <a:pt x="154" y="390"/>
                  <a:pt x="125" y="390"/>
                </a:cubicBezTo>
                <a:cubicBezTo>
                  <a:pt x="96" y="390"/>
                  <a:pt x="72" y="367"/>
                  <a:pt x="72" y="338"/>
                </a:cubicBezTo>
                <a:cubicBezTo>
                  <a:pt x="72" y="309"/>
                  <a:pt x="96" y="285"/>
                  <a:pt x="125" y="285"/>
                </a:cubicBezTo>
                <a:close/>
                <a:moveTo>
                  <a:pt x="209" y="452"/>
                </a:moveTo>
                <a:lnTo>
                  <a:pt x="595" y="452"/>
                </a:lnTo>
                <a:lnTo>
                  <a:pt x="595" y="465"/>
                </a:lnTo>
                <a:lnTo>
                  <a:pt x="209" y="465"/>
                </a:lnTo>
                <a:lnTo>
                  <a:pt x="209" y="452"/>
                </a:lnTo>
                <a:close/>
                <a:moveTo>
                  <a:pt x="209" y="473"/>
                </a:moveTo>
                <a:lnTo>
                  <a:pt x="595" y="473"/>
                </a:lnTo>
                <a:lnTo>
                  <a:pt x="595" y="486"/>
                </a:lnTo>
                <a:lnTo>
                  <a:pt x="209" y="486"/>
                </a:lnTo>
                <a:lnTo>
                  <a:pt x="209" y="473"/>
                </a:lnTo>
                <a:close/>
                <a:moveTo>
                  <a:pt x="15" y="272"/>
                </a:moveTo>
                <a:cubicBezTo>
                  <a:pt x="16" y="266"/>
                  <a:pt x="18" y="258"/>
                  <a:pt x="20" y="254"/>
                </a:cubicBezTo>
                <a:cubicBezTo>
                  <a:pt x="25" y="244"/>
                  <a:pt x="35" y="219"/>
                  <a:pt x="97" y="190"/>
                </a:cubicBezTo>
                <a:lnTo>
                  <a:pt x="151" y="47"/>
                </a:lnTo>
                <a:cubicBezTo>
                  <a:pt x="151" y="47"/>
                  <a:pt x="155" y="30"/>
                  <a:pt x="182" y="26"/>
                </a:cubicBezTo>
                <a:cubicBezTo>
                  <a:pt x="182" y="26"/>
                  <a:pt x="412" y="0"/>
                  <a:pt x="572" y="32"/>
                </a:cubicBezTo>
                <a:cubicBezTo>
                  <a:pt x="572" y="32"/>
                  <a:pt x="591" y="35"/>
                  <a:pt x="602" y="59"/>
                </a:cubicBezTo>
                <a:lnTo>
                  <a:pt x="654" y="192"/>
                </a:lnTo>
                <a:cubicBezTo>
                  <a:pt x="654" y="192"/>
                  <a:pt x="743" y="210"/>
                  <a:pt x="763" y="262"/>
                </a:cubicBezTo>
                <a:cubicBezTo>
                  <a:pt x="764" y="265"/>
                  <a:pt x="765" y="280"/>
                  <a:pt x="765" y="280"/>
                </a:cubicBezTo>
                <a:cubicBezTo>
                  <a:pt x="760" y="324"/>
                  <a:pt x="756" y="450"/>
                  <a:pt x="713" y="489"/>
                </a:cubicBezTo>
                <a:lnTo>
                  <a:pt x="713" y="578"/>
                </a:lnTo>
                <a:cubicBezTo>
                  <a:pt x="713" y="590"/>
                  <a:pt x="703" y="599"/>
                  <a:pt x="691" y="599"/>
                </a:cubicBezTo>
                <a:lnTo>
                  <a:pt x="649" y="599"/>
                </a:lnTo>
                <a:cubicBezTo>
                  <a:pt x="637" y="599"/>
                  <a:pt x="627" y="590"/>
                  <a:pt x="627" y="578"/>
                </a:cubicBezTo>
                <a:lnTo>
                  <a:pt x="627" y="515"/>
                </a:lnTo>
                <a:cubicBezTo>
                  <a:pt x="621" y="515"/>
                  <a:pt x="614" y="515"/>
                  <a:pt x="606" y="514"/>
                </a:cubicBezTo>
                <a:lnTo>
                  <a:pt x="178" y="514"/>
                </a:lnTo>
                <a:cubicBezTo>
                  <a:pt x="178" y="514"/>
                  <a:pt x="164" y="514"/>
                  <a:pt x="147" y="512"/>
                </a:cubicBezTo>
                <a:lnTo>
                  <a:pt x="147" y="578"/>
                </a:lnTo>
                <a:cubicBezTo>
                  <a:pt x="147" y="590"/>
                  <a:pt x="137" y="599"/>
                  <a:pt x="125" y="599"/>
                </a:cubicBezTo>
                <a:lnTo>
                  <a:pt x="83" y="599"/>
                </a:lnTo>
                <a:cubicBezTo>
                  <a:pt x="71" y="599"/>
                  <a:pt x="62" y="590"/>
                  <a:pt x="62" y="578"/>
                </a:cubicBezTo>
                <a:lnTo>
                  <a:pt x="62" y="488"/>
                </a:lnTo>
                <a:lnTo>
                  <a:pt x="62" y="487"/>
                </a:lnTo>
                <a:cubicBezTo>
                  <a:pt x="14" y="430"/>
                  <a:pt x="0" y="344"/>
                  <a:pt x="15" y="272"/>
                </a:cubicBezTo>
                <a:close/>
                <a:moveTo>
                  <a:pt x="92" y="157"/>
                </a:moveTo>
                <a:cubicBezTo>
                  <a:pt x="92" y="177"/>
                  <a:pt x="76" y="194"/>
                  <a:pt x="55" y="194"/>
                </a:cubicBezTo>
                <a:cubicBezTo>
                  <a:pt x="35" y="194"/>
                  <a:pt x="19" y="177"/>
                  <a:pt x="19" y="157"/>
                </a:cubicBezTo>
                <a:cubicBezTo>
                  <a:pt x="19" y="137"/>
                  <a:pt x="35" y="120"/>
                  <a:pt x="55" y="120"/>
                </a:cubicBezTo>
                <a:cubicBezTo>
                  <a:pt x="76" y="120"/>
                  <a:pt x="92" y="137"/>
                  <a:pt x="92" y="157"/>
                </a:cubicBezTo>
                <a:close/>
                <a:moveTo>
                  <a:pt x="733" y="157"/>
                </a:moveTo>
                <a:cubicBezTo>
                  <a:pt x="733" y="177"/>
                  <a:pt x="716" y="194"/>
                  <a:pt x="696" y="194"/>
                </a:cubicBezTo>
                <a:cubicBezTo>
                  <a:pt x="676" y="194"/>
                  <a:pt x="659" y="177"/>
                  <a:pt x="659" y="157"/>
                </a:cubicBezTo>
                <a:cubicBezTo>
                  <a:pt x="659" y="137"/>
                  <a:pt x="676" y="120"/>
                  <a:pt x="696" y="120"/>
                </a:cubicBezTo>
                <a:cubicBezTo>
                  <a:pt x="716" y="120"/>
                  <a:pt x="733" y="137"/>
                  <a:pt x="733" y="157"/>
                </a:cubicBezTo>
                <a:close/>
                <a:moveTo>
                  <a:pt x="131" y="177"/>
                </a:moveTo>
                <a:lnTo>
                  <a:pt x="177" y="64"/>
                </a:lnTo>
                <a:cubicBezTo>
                  <a:pt x="179" y="55"/>
                  <a:pt x="196" y="52"/>
                  <a:pt x="196" y="52"/>
                </a:cubicBezTo>
                <a:cubicBezTo>
                  <a:pt x="346" y="28"/>
                  <a:pt x="545" y="51"/>
                  <a:pt x="545" y="51"/>
                </a:cubicBezTo>
                <a:cubicBezTo>
                  <a:pt x="569" y="52"/>
                  <a:pt x="575" y="65"/>
                  <a:pt x="575" y="65"/>
                </a:cubicBezTo>
                <a:lnTo>
                  <a:pt x="622" y="179"/>
                </a:lnTo>
                <a:cubicBezTo>
                  <a:pt x="629" y="193"/>
                  <a:pt x="608" y="188"/>
                  <a:pt x="608" y="188"/>
                </a:cubicBezTo>
                <a:cubicBezTo>
                  <a:pt x="462" y="171"/>
                  <a:pt x="138" y="184"/>
                  <a:pt x="138" y="184"/>
                </a:cubicBezTo>
                <a:cubicBezTo>
                  <a:pt x="126" y="185"/>
                  <a:pt x="131" y="177"/>
                  <a:pt x="131" y="177"/>
                </a:cubicBezTo>
                <a:close/>
                <a:moveTo>
                  <a:pt x="662" y="285"/>
                </a:moveTo>
                <a:cubicBezTo>
                  <a:pt x="691" y="285"/>
                  <a:pt x="714" y="309"/>
                  <a:pt x="714" y="338"/>
                </a:cubicBezTo>
                <a:cubicBezTo>
                  <a:pt x="714" y="367"/>
                  <a:pt x="691" y="390"/>
                  <a:pt x="662" y="390"/>
                </a:cubicBezTo>
                <a:cubicBezTo>
                  <a:pt x="633" y="390"/>
                  <a:pt x="609" y="367"/>
                  <a:pt x="609" y="338"/>
                </a:cubicBezTo>
                <a:cubicBezTo>
                  <a:pt x="609" y="309"/>
                  <a:pt x="633" y="285"/>
                  <a:pt x="662" y="285"/>
                </a:cubicBezTo>
                <a:close/>
                <a:moveTo>
                  <a:pt x="565" y="360"/>
                </a:moveTo>
                <a:cubicBezTo>
                  <a:pt x="565" y="371"/>
                  <a:pt x="555" y="381"/>
                  <a:pt x="543" y="381"/>
                </a:cubicBezTo>
                <a:lnTo>
                  <a:pt x="249" y="381"/>
                </a:lnTo>
                <a:cubicBezTo>
                  <a:pt x="238" y="381"/>
                  <a:pt x="228" y="371"/>
                  <a:pt x="228" y="360"/>
                </a:cubicBezTo>
                <a:lnTo>
                  <a:pt x="228" y="308"/>
                </a:lnTo>
                <a:cubicBezTo>
                  <a:pt x="228" y="296"/>
                  <a:pt x="238" y="287"/>
                  <a:pt x="249" y="287"/>
                </a:cubicBezTo>
                <a:lnTo>
                  <a:pt x="543" y="287"/>
                </a:lnTo>
                <a:cubicBezTo>
                  <a:pt x="555" y="287"/>
                  <a:pt x="565" y="296"/>
                  <a:pt x="565" y="308"/>
                </a:cubicBezTo>
                <a:lnTo>
                  <a:pt x="565" y="36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41" name="Freeform 235"/>
          <p:cNvSpPr/>
          <p:nvPr/>
        </p:nvSpPr>
        <p:spPr>
          <a:xfrm>
            <a:off x="2925720" y="5167440"/>
            <a:ext cx="158760" cy="177840"/>
          </a:xfrm>
          <a:custGeom>
            <a:avLst/>
            <a:gdLst/>
            <a:ahLst/>
            <a:rect l="l" t="t" r="r" b="b"/>
            <a:pathLst>
              <a:path w="597" h="668">
                <a:moveTo>
                  <a:pt x="183" y="119"/>
                </a:moveTo>
                <a:lnTo>
                  <a:pt x="82" y="122"/>
                </a:lnTo>
                <a:lnTo>
                  <a:pt x="79" y="22"/>
                </a:lnTo>
                <a:lnTo>
                  <a:pt x="180" y="19"/>
                </a:lnTo>
                <a:lnTo>
                  <a:pt x="183" y="119"/>
                </a:lnTo>
                <a:close/>
                <a:moveTo>
                  <a:pt x="0" y="2"/>
                </a:moveTo>
                <a:lnTo>
                  <a:pt x="55" y="0"/>
                </a:lnTo>
                <a:lnTo>
                  <a:pt x="73" y="666"/>
                </a:lnTo>
                <a:lnTo>
                  <a:pt x="17" y="668"/>
                </a:lnTo>
                <a:lnTo>
                  <a:pt x="0" y="2"/>
                </a:lnTo>
                <a:close/>
                <a:moveTo>
                  <a:pt x="597" y="309"/>
                </a:moveTo>
                <a:lnTo>
                  <a:pt x="496" y="312"/>
                </a:lnTo>
                <a:lnTo>
                  <a:pt x="493" y="212"/>
                </a:lnTo>
                <a:lnTo>
                  <a:pt x="594" y="209"/>
                </a:lnTo>
                <a:lnTo>
                  <a:pt x="597" y="309"/>
                </a:lnTo>
                <a:close/>
                <a:moveTo>
                  <a:pt x="590" y="106"/>
                </a:moveTo>
                <a:lnTo>
                  <a:pt x="490" y="109"/>
                </a:lnTo>
                <a:lnTo>
                  <a:pt x="487" y="10"/>
                </a:lnTo>
                <a:lnTo>
                  <a:pt x="587" y="7"/>
                </a:lnTo>
                <a:lnTo>
                  <a:pt x="590" y="106"/>
                </a:lnTo>
                <a:close/>
                <a:moveTo>
                  <a:pt x="491" y="211"/>
                </a:moveTo>
                <a:lnTo>
                  <a:pt x="390" y="214"/>
                </a:lnTo>
                <a:lnTo>
                  <a:pt x="387" y="114"/>
                </a:lnTo>
                <a:lnTo>
                  <a:pt x="488" y="111"/>
                </a:lnTo>
                <a:lnTo>
                  <a:pt x="491" y="211"/>
                </a:lnTo>
                <a:close/>
                <a:moveTo>
                  <a:pt x="393" y="315"/>
                </a:moveTo>
                <a:lnTo>
                  <a:pt x="292" y="318"/>
                </a:lnTo>
                <a:lnTo>
                  <a:pt x="289" y="218"/>
                </a:lnTo>
                <a:lnTo>
                  <a:pt x="390" y="215"/>
                </a:lnTo>
                <a:lnTo>
                  <a:pt x="393" y="315"/>
                </a:lnTo>
                <a:close/>
                <a:moveTo>
                  <a:pt x="387" y="112"/>
                </a:moveTo>
                <a:lnTo>
                  <a:pt x="286" y="116"/>
                </a:lnTo>
                <a:lnTo>
                  <a:pt x="283" y="16"/>
                </a:lnTo>
                <a:lnTo>
                  <a:pt x="384" y="13"/>
                </a:lnTo>
                <a:lnTo>
                  <a:pt x="387" y="112"/>
                </a:lnTo>
                <a:close/>
                <a:moveTo>
                  <a:pt x="288" y="217"/>
                </a:moveTo>
                <a:lnTo>
                  <a:pt x="187" y="220"/>
                </a:lnTo>
                <a:lnTo>
                  <a:pt x="184" y="120"/>
                </a:lnTo>
                <a:lnTo>
                  <a:pt x="284" y="117"/>
                </a:lnTo>
                <a:lnTo>
                  <a:pt x="288" y="217"/>
                </a:lnTo>
                <a:close/>
                <a:moveTo>
                  <a:pt x="189" y="321"/>
                </a:moveTo>
                <a:lnTo>
                  <a:pt x="89" y="324"/>
                </a:lnTo>
                <a:lnTo>
                  <a:pt x="86" y="224"/>
                </a:lnTo>
                <a:lnTo>
                  <a:pt x="186" y="221"/>
                </a:lnTo>
                <a:lnTo>
                  <a:pt x="189" y="321"/>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42" name="Freeform 236"/>
          <p:cNvSpPr/>
          <p:nvPr/>
        </p:nvSpPr>
        <p:spPr>
          <a:xfrm>
            <a:off x="9408960" y="4497480"/>
            <a:ext cx="181080" cy="180720"/>
          </a:xfrm>
          <a:custGeom>
            <a:avLst/>
            <a:gdLst/>
            <a:ahLst/>
            <a:rect l="l" t="t" r="r" b="b"/>
            <a:pathLst>
              <a:path w="680" h="674">
                <a:moveTo>
                  <a:pt x="340" y="627"/>
                </a:moveTo>
                <a:cubicBezTo>
                  <a:pt x="179" y="627"/>
                  <a:pt x="48" y="497"/>
                  <a:pt x="48" y="337"/>
                </a:cubicBezTo>
                <a:cubicBezTo>
                  <a:pt x="48" y="177"/>
                  <a:pt x="179" y="47"/>
                  <a:pt x="340" y="47"/>
                </a:cubicBezTo>
                <a:cubicBezTo>
                  <a:pt x="501" y="47"/>
                  <a:pt x="632" y="177"/>
                  <a:pt x="632" y="337"/>
                </a:cubicBezTo>
                <a:cubicBezTo>
                  <a:pt x="632" y="497"/>
                  <a:pt x="501" y="627"/>
                  <a:pt x="340" y="627"/>
                </a:cubicBezTo>
                <a:close/>
                <a:moveTo>
                  <a:pt x="383" y="120"/>
                </a:moveTo>
                <a:lnTo>
                  <a:pt x="383" y="120"/>
                </a:lnTo>
                <a:lnTo>
                  <a:pt x="329" y="339"/>
                </a:lnTo>
                <a:lnTo>
                  <a:pt x="186" y="416"/>
                </a:lnTo>
                <a:lnTo>
                  <a:pt x="186" y="416"/>
                </a:lnTo>
                <a:lnTo>
                  <a:pt x="186" y="416"/>
                </a:lnTo>
                <a:lnTo>
                  <a:pt x="186" y="416"/>
                </a:lnTo>
                <a:lnTo>
                  <a:pt x="186" y="416"/>
                </a:lnTo>
                <a:lnTo>
                  <a:pt x="330" y="363"/>
                </a:lnTo>
                <a:lnTo>
                  <a:pt x="333" y="379"/>
                </a:lnTo>
                <a:lnTo>
                  <a:pt x="333" y="379"/>
                </a:lnTo>
                <a:lnTo>
                  <a:pt x="333" y="379"/>
                </a:lnTo>
                <a:lnTo>
                  <a:pt x="349" y="353"/>
                </a:lnTo>
                <a:lnTo>
                  <a:pt x="362" y="337"/>
                </a:lnTo>
                <a:lnTo>
                  <a:pt x="362" y="337"/>
                </a:lnTo>
                <a:lnTo>
                  <a:pt x="362" y="337"/>
                </a:lnTo>
                <a:lnTo>
                  <a:pt x="353" y="336"/>
                </a:lnTo>
                <a:lnTo>
                  <a:pt x="383" y="120"/>
                </a:lnTo>
                <a:lnTo>
                  <a:pt x="383" y="120"/>
                </a:lnTo>
                <a:lnTo>
                  <a:pt x="383" y="120"/>
                </a:lnTo>
                <a:close/>
                <a:moveTo>
                  <a:pt x="363" y="572"/>
                </a:moveTo>
                <a:lnTo>
                  <a:pt x="365" y="588"/>
                </a:lnTo>
                <a:lnTo>
                  <a:pt x="367" y="587"/>
                </a:lnTo>
                <a:lnTo>
                  <a:pt x="365" y="572"/>
                </a:lnTo>
                <a:lnTo>
                  <a:pt x="363" y="572"/>
                </a:lnTo>
                <a:close/>
                <a:moveTo>
                  <a:pt x="316" y="109"/>
                </a:moveTo>
                <a:lnTo>
                  <a:pt x="315" y="93"/>
                </a:lnTo>
                <a:lnTo>
                  <a:pt x="313" y="93"/>
                </a:lnTo>
                <a:lnTo>
                  <a:pt x="315" y="109"/>
                </a:lnTo>
                <a:lnTo>
                  <a:pt x="316" y="109"/>
                </a:lnTo>
                <a:close/>
                <a:moveTo>
                  <a:pt x="387" y="568"/>
                </a:moveTo>
                <a:lnTo>
                  <a:pt x="391" y="584"/>
                </a:lnTo>
                <a:lnTo>
                  <a:pt x="392" y="583"/>
                </a:lnTo>
                <a:lnTo>
                  <a:pt x="389" y="568"/>
                </a:lnTo>
                <a:lnTo>
                  <a:pt x="387" y="568"/>
                </a:lnTo>
                <a:close/>
                <a:moveTo>
                  <a:pt x="292" y="113"/>
                </a:moveTo>
                <a:lnTo>
                  <a:pt x="289" y="97"/>
                </a:lnTo>
                <a:lnTo>
                  <a:pt x="287" y="98"/>
                </a:lnTo>
                <a:lnTo>
                  <a:pt x="291" y="113"/>
                </a:lnTo>
                <a:lnTo>
                  <a:pt x="292" y="113"/>
                </a:lnTo>
                <a:close/>
                <a:moveTo>
                  <a:pt x="411" y="562"/>
                </a:moveTo>
                <a:lnTo>
                  <a:pt x="416" y="577"/>
                </a:lnTo>
                <a:lnTo>
                  <a:pt x="417" y="576"/>
                </a:lnTo>
                <a:lnTo>
                  <a:pt x="413" y="562"/>
                </a:lnTo>
                <a:lnTo>
                  <a:pt x="411" y="562"/>
                </a:lnTo>
                <a:close/>
                <a:moveTo>
                  <a:pt x="269" y="119"/>
                </a:moveTo>
                <a:lnTo>
                  <a:pt x="264" y="104"/>
                </a:lnTo>
                <a:lnTo>
                  <a:pt x="262" y="104"/>
                </a:lnTo>
                <a:lnTo>
                  <a:pt x="267" y="119"/>
                </a:lnTo>
                <a:lnTo>
                  <a:pt x="269" y="119"/>
                </a:lnTo>
                <a:close/>
                <a:moveTo>
                  <a:pt x="434" y="553"/>
                </a:moveTo>
                <a:lnTo>
                  <a:pt x="440" y="568"/>
                </a:lnTo>
                <a:lnTo>
                  <a:pt x="442" y="567"/>
                </a:lnTo>
                <a:lnTo>
                  <a:pt x="435" y="553"/>
                </a:lnTo>
                <a:lnTo>
                  <a:pt x="434" y="553"/>
                </a:lnTo>
                <a:close/>
                <a:moveTo>
                  <a:pt x="246" y="127"/>
                </a:moveTo>
                <a:lnTo>
                  <a:pt x="240" y="113"/>
                </a:lnTo>
                <a:lnTo>
                  <a:pt x="238" y="114"/>
                </a:lnTo>
                <a:lnTo>
                  <a:pt x="244" y="128"/>
                </a:lnTo>
                <a:lnTo>
                  <a:pt x="246" y="127"/>
                </a:lnTo>
                <a:close/>
                <a:moveTo>
                  <a:pt x="476" y="529"/>
                </a:moveTo>
                <a:lnTo>
                  <a:pt x="485" y="542"/>
                </a:lnTo>
                <a:lnTo>
                  <a:pt x="487" y="541"/>
                </a:lnTo>
                <a:lnTo>
                  <a:pt x="477" y="528"/>
                </a:lnTo>
                <a:lnTo>
                  <a:pt x="476" y="529"/>
                </a:lnTo>
                <a:close/>
                <a:moveTo>
                  <a:pt x="204" y="152"/>
                </a:moveTo>
                <a:lnTo>
                  <a:pt x="195" y="139"/>
                </a:lnTo>
                <a:lnTo>
                  <a:pt x="193" y="140"/>
                </a:lnTo>
                <a:lnTo>
                  <a:pt x="202" y="153"/>
                </a:lnTo>
                <a:lnTo>
                  <a:pt x="204" y="152"/>
                </a:lnTo>
                <a:close/>
                <a:moveTo>
                  <a:pt x="495" y="514"/>
                </a:moveTo>
                <a:lnTo>
                  <a:pt x="505" y="526"/>
                </a:lnTo>
                <a:lnTo>
                  <a:pt x="507" y="524"/>
                </a:lnTo>
                <a:lnTo>
                  <a:pt x="496" y="513"/>
                </a:lnTo>
                <a:lnTo>
                  <a:pt x="495" y="514"/>
                </a:lnTo>
                <a:close/>
                <a:moveTo>
                  <a:pt x="173" y="156"/>
                </a:moveTo>
                <a:lnTo>
                  <a:pt x="184" y="168"/>
                </a:lnTo>
                <a:lnTo>
                  <a:pt x="185" y="167"/>
                </a:lnTo>
                <a:lnTo>
                  <a:pt x="174" y="155"/>
                </a:lnTo>
                <a:lnTo>
                  <a:pt x="173" y="156"/>
                </a:lnTo>
                <a:close/>
                <a:moveTo>
                  <a:pt x="512" y="497"/>
                </a:moveTo>
                <a:lnTo>
                  <a:pt x="524" y="507"/>
                </a:lnTo>
                <a:lnTo>
                  <a:pt x="525" y="506"/>
                </a:lnTo>
                <a:lnTo>
                  <a:pt x="514" y="496"/>
                </a:lnTo>
                <a:lnTo>
                  <a:pt x="512" y="497"/>
                </a:lnTo>
                <a:close/>
                <a:moveTo>
                  <a:pt x="155" y="175"/>
                </a:moveTo>
                <a:lnTo>
                  <a:pt x="166" y="185"/>
                </a:lnTo>
                <a:lnTo>
                  <a:pt x="168" y="184"/>
                </a:lnTo>
                <a:lnTo>
                  <a:pt x="156" y="174"/>
                </a:lnTo>
                <a:lnTo>
                  <a:pt x="155" y="175"/>
                </a:lnTo>
                <a:close/>
                <a:moveTo>
                  <a:pt x="528" y="478"/>
                </a:moveTo>
                <a:lnTo>
                  <a:pt x="540" y="487"/>
                </a:lnTo>
                <a:lnTo>
                  <a:pt x="541" y="486"/>
                </a:lnTo>
                <a:lnTo>
                  <a:pt x="529" y="477"/>
                </a:lnTo>
                <a:lnTo>
                  <a:pt x="528" y="478"/>
                </a:lnTo>
                <a:close/>
                <a:moveTo>
                  <a:pt x="138" y="195"/>
                </a:moveTo>
                <a:lnTo>
                  <a:pt x="151" y="204"/>
                </a:lnTo>
                <a:lnTo>
                  <a:pt x="152" y="203"/>
                </a:lnTo>
                <a:lnTo>
                  <a:pt x="139" y="194"/>
                </a:lnTo>
                <a:lnTo>
                  <a:pt x="138" y="195"/>
                </a:lnTo>
                <a:close/>
                <a:moveTo>
                  <a:pt x="552" y="436"/>
                </a:moveTo>
                <a:lnTo>
                  <a:pt x="567" y="442"/>
                </a:lnTo>
                <a:lnTo>
                  <a:pt x="567" y="441"/>
                </a:lnTo>
                <a:lnTo>
                  <a:pt x="553" y="434"/>
                </a:lnTo>
                <a:lnTo>
                  <a:pt x="552" y="436"/>
                </a:lnTo>
                <a:close/>
                <a:moveTo>
                  <a:pt x="128" y="245"/>
                </a:moveTo>
                <a:lnTo>
                  <a:pt x="113" y="239"/>
                </a:lnTo>
                <a:lnTo>
                  <a:pt x="113" y="240"/>
                </a:lnTo>
                <a:lnTo>
                  <a:pt x="127" y="247"/>
                </a:lnTo>
                <a:lnTo>
                  <a:pt x="128" y="245"/>
                </a:lnTo>
                <a:close/>
                <a:moveTo>
                  <a:pt x="561" y="413"/>
                </a:moveTo>
                <a:lnTo>
                  <a:pt x="576" y="418"/>
                </a:lnTo>
                <a:lnTo>
                  <a:pt x="576" y="416"/>
                </a:lnTo>
                <a:lnTo>
                  <a:pt x="562" y="411"/>
                </a:lnTo>
                <a:lnTo>
                  <a:pt x="561" y="413"/>
                </a:lnTo>
                <a:close/>
                <a:moveTo>
                  <a:pt x="119" y="268"/>
                </a:moveTo>
                <a:lnTo>
                  <a:pt x="104" y="263"/>
                </a:lnTo>
                <a:lnTo>
                  <a:pt x="103" y="264"/>
                </a:lnTo>
                <a:lnTo>
                  <a:pt x="118" y="269"/>
                </a:lnTo>
                <a:lnTo>
                  <a:pt x="119" y="268"/>
                </a:lnTo>
                <a:close/>
                <a:moveTo>
                  <a:pt x="567" y="390"/>
                </a:moveTo>
                <a:lnTo>
                  <a:pt x="583" y="393"/>
                </a:lnTo>
                <a:lnTo>
                  <a:pt x="583" y="391"/>
                </a:lnTo>
                <a:lnTo>
                  <a:pt x="568" y="388"/>
                </a:lnTo>
                <a:lnTo>
                  <a:pt x="567" y="390"/>
                </a:lnTo>
                <a:close/>
                <a:moveTo>
                  <a:pt x="113" y="291"/>
                </a:moveTo>
                <a:lnTo>
                  <a:pt x="97" y="288"/>
                </a:lnTo>
                <a:lnTo>
                  <a:pt x="97" y="290"/>
                </a:lnTo>
                <a:lnTo>
                  <a:pt x="112" y="293"/>
                </a:lnTo>
                <a:lnTo>
                  <a:pt x="113" y="291"/>
                </a:lnTo>
                <a:close/>
                <a:moveTo>
                  <a:pt x="571" y="366"/>
                </a:moveTo>
                <a:lnTo>
                  <a:pt x="587" y="367"/>
                </a:lnTo>
                <a:lnTo>
                  <a:pt x="587" y="366"/>
                </a:lnTo>
                <a:lnTo>
                  <a:pt x="572" y="364"/>
                </a:lnTo>
                <a:lnTo>
                  <a:pt x="571" y="366"/>
                </a:lnTo>
                <a:close/>
                <a:moveTo>
                  <a:pt x="109" y="315"/>
                </a:moveTo>
                <a:lnTo>
                  <a:pt x="93" y="314"/>
                </a:lnTo>
                <a:lnTo>
                  <a:pt x="93" y="315"/>
                </a:lnTo>
                <a:lnTo>
                  <a:pt x="108" y="317"/>
                </a:lnTo>
                <a:lnTo>
                  <a:pt x="109" y="315"/>
                </a:lnTo>
                <a:close/>
                <a:moveTo>
                  <a:pt x="572" y="317"/>
                </a:moveTo>
                <a:lnTo>
                  <a:pt x="587" y="315"/>
                </a:lnTo>
                <a:lnTo>
                  <a:pt x="587" y="314"/>
                </a:lnTo>
                <a:lnTo>
                  <a:pt x="571" y="315"/>
                </a:lnTo>
                <a:lnTo>
                  <a:pt x="572" y="317"/>
                </a:lnTo>
                <a:close/>
                <a:moveTo>
                  <a:pt x="108" y="364"/>
                </a:moveTo>
                <a:lnTo>
                  <a:pt x="93" y="366"/>
                </a:lnTo>
                <a:lnTo>
                  <a:pt x="93" y="367"/>
                </a:lnTo>
                <a:lnTo>
                  <a:pt x="109" y="366"/>
                </a:lnTo>
                <a:lnTo>
                  <a:pt x="108" y="364"/>
                </a:lnTo>
                <a:close/>
                <a:moveTo>
                  <a:pt x="568" y="293"/>
                </a:moveTo>
                <a:lnTo>
                  <a:pt x="583" y="290"/>
                </a:lnTo>
                <a:lnTo>
                  <a:pt x="583" y="288"/>
                </a:lnTo>
                <a:lnTo>
                  <a:pt x="567" y="291"/>
                </a:lnTo>
                <a:lnTo>
                  <a:pt x="568" y="293"/>
                </a:lnTo>
                <a:close/>
                <a:moveTo>
                  <a:pt x="112" y="388"/>
                </a:moveTo>
                <a:lnTo>
                  <a:pt x="97" y="391"/>
                </a:lnTo>
                <a:lnTo>
                  <a:pt x="97" y="393"/>
                </a:lnTo>
                <a:lnTo>
                  <a:pt x="113" y="390"/>
                </a:lnTo>
                <a:lnTo>
                  <a:pt x="112" y="388"/>
                </a:lnTo>
                <a:close/>
                <a:moveTo>
                  <a:pt x="562" y="269"/>
                </a:moveTo>
                <a:lnTo>
                  <a:pt x="576" y="264"/>
                </a:lnTo>
                <a:lnTo>
                  <a:pt x="576" y="263"/>
                </a:lnTo>
                <a:lnTo>
                  <a:pt x="561" y="268"/>
                </a:lnTo>
                <a:lnTo>
                  <a:pt x="562" y="269"/>
                </a:lnTo>
                <a:close/>
                <a:moveTo>
                  <a:pt x="118" y="411"/>
                </a:moveTo>
                <a:lnTo>
                  <a:pt x="103" y="416"/>
                </a:lnTo>
                <a:lnTo>
                  <a:pt x="104" y="418"/>
                </a:lnTo>
                <a:lnTo>
                  <a:pt x="119" y="413"/>
                </a:lnTo>
                <a:lnTo>
                  <a:pt x="118" y="411"/>
                </a:lnTo>
                <a:close/>
                <a:moveTo>
                  <a:pt x="553" y="247"/>
                </a:moveTo>
                <a:lnTo>
                  <a:pt x="567" y="240"/>
                </a:lnTo>
                <a:lnTo>
                  <a:pt x="567" y="239"/>
                </a:lnTo>
                <a:lnTo>
                  <a:pt x="552" y="245"/>
                </a:lnTo>
                <a:lnTo>
                  <a:pt x="553" y="247"/>
                </a:lnTo>
                <a:close/>
                <a:moveTo>
                  <a:pt x="127" y="434"/>
                </a:moveTo>
                <a:lnTo>
                  <a:pt x="113" y="441"/>
                </a:lnTo>
                <a:lnTo>
                  <a:pt x="113" y="442"/>
                </a:lnTo>
                <a:lnTo>
                  <a:pt x="128" y="436"/>
                </a:lnTo>
                <a:lnTo>
                  <a:pt x="127" y="434"/>
                </a:lnTo>
                <a:close/>
                <a:moveTo>
                  <a:pt x="541" y="195"/>
                </a:moveTo>
                <a:lnTo>
                  <a:pt x="540" y="194"/>
                </a:lnTo>
                <a:lnTo>
                  <a:pt x="528" y="203"/>
                </a:lnTo>
                <a:lnTo>
                  <a:pt x="529" y="204"/>
                </a:lnTo>
                <a:lnTo>
                  <a:pt x="541" y="195"/>
                </a:lnTo>
                <a:close/>
                <a:moveTo>
                  <a:pt x="138" y="486"/>
                </a:moveTo>
                <a:lnTo>
                  <a:pt x="139" y="487"/>
                </a:lnTo>
                <a:lnTo>
                  <a:pt x="152" y="478"/>
                </a:lnTo>
                <a:lnTo>
                  <a:pt x="151" y="476"/>
                </a:lnTo>
                <a:lnTo>
                  <a:pt x="138" y="486"/>
                </a:lnTo>
                <a:close/>
                <a:moveTo>
                  <a:pt x="525" y="175"/>
                </a:moveTo>
                <a:lnTo>
                  <a:pt x="524" y="174"/>
                </a:lnTo>
                <a:lnTo>
                  <a:pt x="512" y="184"/>
                </a:lnTo>
                <a:lnTo>
                  <a:pt x="514" y="185"/>
                </a:lnTo>
                <a:lnTo>
                  <a:pt x="525" y="175"/>
                </a:lnTo>
                <a:close/>
                <a:moveTo>
                  <a:pt x="155" y="506"/>
                </a:moveTo>
                <a:lnTo>
                  <a:pt x="156" y="507"/>
                </a:lnTo>
                <a:lnTo>
                  <a:pt x="168" y="497"/>
                </a:lnTo>
                <a:lnTo>
                  <a:pt x="166" y="495"/>
                </a:lnTo>
                <a:lnTo>
                  <a:pt x="155" y="506"/>
                </a:lnTo>
                <a:close/>
                <a:moveTo>
                  <a:pt x="507" y="156"/>
                </a:moveTo>
                <a:lnTo>
                  <a:pt x="505" y="155"/>
                </a:lnTo>
                <a:lnTo>
                  <a:pt x="495" y="167"/>
                </a:lnTo>
                <a:lnTo>
                  <a:pt x="496" y="168"/>
                </a:lnTo>
                <a:lnTo>
                  <a:pt x="507" y="156"/>
                </a:lnTo>
                <a:close/>
                <a:moveTo>
                  <a:pt x="173" y="524"/>
                </a:moveTo>
                <a:lnTo>
                  <a:pt x="174" y="526"/>
                </a:lnTo>
                <a:lnTo>
                  <a:pt x="185" y="514"/>
                </a:lnTo>
                <a:lnTo>
                  <a:pt x="184" y="513"/>
                </a:lnTo>
                <a:lnTo>
                  <a:pt x="173" y="524"/>
                </a:lnTo>
                <a:close/>
                <a:moveTo>
                  <a:pt x="487" y="140"/>
                </a:moveTo>
                <a:lnTo>
                  <a:pt x="485" y="139"/>
                </a:lnTo>
                <a:lnTo>
                  <a:pt x="476" y="152"/>
                </a:lnTo>
                <a:lnTo>
                  <a:pt x="477" y="153"/>
                </a:lnTo>
                <a:lnTo>
                  <a:pt x="487" y="140"/>
                </a:lnTo>
                <a:close/>
                <a:moveTo>
                  <a:pt x="193" y="541"/>
                </a:moveTo>
                <a:lnTo>
                  <a:pt x="195" y="542"/>
                </a:lnTo>
                <a:lnTo>
                  <a:pt x="204" y="529"/>
                </a:lnTo>
                <a:lnTo>
                  <a:pt x="202" y="528"/>
                </a:lnTo>
                <a:lnTo>
                  <a:pt x="193" y="541"/>
                </a:lnTo>
                <a:close/>
                <a:moveTo>
                  <a:pt x="463" y="125"/>
                </a:moveTo>
                <a:lnTo>
                  <a:pt x="463" y="125"/>
                </a:lnTo>
                <a:lnTo>
                  <a:pt x="461" y="123"/>
                </a:lnTo>
                <a:lnTo>
                  <a:pt x="447" y="148"/>
                </a:lnTo>
                <a:lnTo>
                  <a:pt x="453" y="151"/>
                </a:lnTo>
                <a:lnTo>
                  <a:pt x="467" y="127"/>
                </a:lnTo>
                <a:lnTo>
                  <a:pt x="464" y="125"/>
                </a:lnTo>
                <a:lnTo>
                  <a:pt x="463" y="125"/>
                </a:lnTo>
                <a:close/>
                <a:moveTo>
                  <a:pt x="442" y="114"/>
                </a:moveTo>
                <a:lnTo>
                  <a:pt x="440" y="113"/>
                </a:lnTo>
                <a:lnTo>
                  <a:pt x="434" y="127"/>
                </a:lnTo>
                <a:lnTo>
                  <a:pt x="435" y="128"/>
                </a:lnTo>
                <a:lnTo>
                  <a:pt x="442" y="114"/>
                </a:lnTo>
                <a:close/>
                <a:moveTo>
                  <a:pt x="238" y="567"/>
                </a:moveTo>
                <a:lnTo>
                  <a:pt x="240" y="568"/>
                </a:lnTo>
                <a:lnTo>
                  <a:pt x="246" y="553"/>
                </a:lnTo>
                <a:lnTo>
                  <a:pt x="244" y="553"/>
                </a:lnTo>
                <a:lnTo>
                  <a:pt x="238" y="567"/>
                </a:lnTo>
                <a:close/>
                <a:moveTo>
                  <a:pt x="417" y="104"/>
                </a:moveTo>
                <a:lnTo>
                  <a:pt x="416" y="104"/>
                </a:lnTo>
                <a:lnTo>
                  <a:pt x="411" y="119"/>
                </a:lnTo>
                <a:lnTo>
                  <a:pt x="413" y="119"/>
                </a:lnTo>
                <a:lnTo>
                  <a:pt x="417" y="104"/>
                </a:lnTo>
                <a:close/>
                <a:moveTo>
                  <a:pt x="262" y="576"/>
                </a:moveTo>
                <a:lnTo>
                  <a:pt x="264" y="577"/>
                </a:lnTo>
                <a:lnTo>
                  <a:pt x="269" y="562"/>
                </a:lnTo>
                <a:lnTo>
                  <a:pt x="267" y="561"/>
                </a:lnTo>
                <a:lnTo>
                  <a:pt x="262" y="576"/>
                </a:lnTo>
                <a:close/>
                <a:moveTo>
                  <a:pt x="392" y="98"/>
                </a:moveTo>
                <a:lnTo>
                  <a:pt x="391" y="97"/>
                </a:lnTo>
                <a:lnTo>
                  <a:pt x="387" y="112"/>
                </a:lnTo>
                <a:lnTo>
                  <a:pt x="389" y="113"/>
                </a:lnTo>
                <a:lnTo>
                  <a:pt x="392" y="98"/>
                </a:lnTo>
                <a:close/>
                <a:moveTo>
                  <a:pt x="287" y="583"/>
                </a:moveTo>
                <a:lnTo>
                  <a:pt x="289" y="584"/>
                </a:lnTo>
                <a:lnTo>
                  <a:pt x="292" y="568"/>
                </a:lnTo>
                <a:lnTo>
                  <a:pt x="291" y="568"/>
                </a:lnTo>
                <a:lnTo>
                  <a:pt x="287" y="583"/>
                </a:lnTo>
                <a:close/>
                <a:moveTo>
                  <a:pt x="367" y="93"/>
                </a:moveTo>
                <a:lnTo>
                  <a:pt x="365" y="93"/>
                </a:lnTo>
                <a:lnTo>
                  <a:pt x="363" y="109"/>
                </a:lnTo>
                <a:lnTo>
                  <a:pt x="365" y="109"/>
                </a:lnTo>
                <a:lnTo>
                  <a:pt x="367" y="93"/>
                </a:lnTo>
                <a:close/>
                <a:moveTo>
                  <a:pt x="313" y="587"/>
                </a:moveTo>
                <a:lnTo>
                  <a:pt x="315" y="588"/>
                </a:lnTo>
                <a:lnTo>
                  <a:pt x="316" y="572"/>
                </a:lnTo>
                <a:lnTo>
                  <a:pt x="315" y="572"/>
                </a:lnTo>
                <a:lnTo>
                  <a:pt x="313" y="587"/>
                </a:lnTo>
                <a:close/>
                <a:moveTo>
                  <a:pt x="453" y="530"/>
                </a:moveTo>
                <a:lnTo>
                  <a:pt x="447" y="533"/>
                </a:lnTo>
                <a:lnTo>
                  <a:pt x="461" y="557"/>
                </a:lnTo>
                <a:lnTo>
                  <a:pt x="463" y="556"/>
                </a:lnTo>
                <a:lnTo>
                  <a:pt x="464" y="556"/>
                </a:lnTo>
                <a:lnTo>
                  <a:pt x="467" y="554"/>
                </a:lnTo>
                <a:lnTo>
                  <a:pt x="453" y="530"/>
                </a:lnTo>
                <a:close/>
                <a:moveTo>
                  <a:pt x="226" y="151"/>
                </a:moveTo>
                <a:lnTo>
                  <a:pt x="233" y="148"/>
                </a:lnTo>
                <a:lnTo>
                  <a:pt x="219" y="123"/>
                </a:lnTo>
                <a:lnTo>
                  <a:pt x="216" y="125"/>
                </a:lnTo>
                <a:lnTo>
                  <a:pt x="215" y="126"/>
                </a:lnTo>
                <a:lnTo>
                  <a:pt x="213" y="127"/>
                </a:lnTo>
                <a:lnTo>
                  <a:pt x="226" y="151"/>
                </a:lnTo>
                <a:close/>
                <a:moveTo>
                  <a:pt x="336" y="589"/>
                </a:moveTo>
                <a:lnTo>
                  <a:pt x="339" y="589"/>
                </a:lnTo>
                <a:lnTo>
                  <a:pt x="341" y="589"/>
                </a:lnTo>
                <a:lnTo>
                  <a:pt x="344" y="589"/>
                </a:lnTo>
                <a:lnTo>
                  <a:pt x="344" y="561"/>
                </a:lnTo>
                <a:lnTo>
                  <a:pt x="336" y="561"/>
                </a:lnTo>
                <a:lnTo>
                  <a:pt x="336" y="589"/>
                </a:lnTo>
                <a:close/>
                <a:moveTo>
                  <a:pt x="344" y="92"/>
                </a:moveTo>
                <a:lnTo>
                  <a:pt x="341" y="92"/>
                </a:lnTo>
                <a:lnTo>
                  <a:pt x="339" y="92"/>
                </a:lnTo>
                <a:lnTo>
                  <a:pt x="336" y="92"/>
                </a:lnTo>
                <a:lnTo>
                  <a:pt x="336" y="120"/>
                </a:lnTo>
                <a:lnTo>
                  <a:pt x="344" y="120"/>
                </a:lnTo>
                <a:lnTo>
                  <a:pt x="344" y="92"/>
                </a:lnTo>
                <a:close/>
                <a:moveTo>
                  <a:pt x="533" y="447"/>
                </a:moveTo>
                <a:lnTo>
                  <a:pt x="529" y="454"/>
                </a:lnTo>
                <a:lnTo>
                  <a:pt x="553" y="468"/>
                </a:lnTo>
                <a:lnTo>
                  <a:pt x="555" y="465"/>
                </a:lnTo>
                <a:lnTo>
                  <a:pt x="556" y="464"/>
                </a:lnTo>
                <a:lnTo>
                  <a:pt x="557" y="461"/>
                </a:lnTo>
                <a:lnTo>
                  <a:pt x="533" y="447"/>
                </a:lnTo>
                <a:close/>
                <a:moveTo>
                  <a:pt x="147" y="233"/>
                </a:moveTo>
                <a:lnTo>
                  <a:pt x="151" y="227"/>
                </a:lnTo>
                <a:lnTo>
                  <a:pt x="127" y="213"/>
                </a:lnTo>
                <a:lnTo>
                  <a:pt x="125" y="216"/>
                </a:lnTo>
                <a:lnTo>
                  <a:pt x="124" y="217"/>
                </a:lnTo>
                <a:lnTo>
                  <a:pt x="123" y="219"/>
                </a:lnTo>
                <a:lnTo>
                  <a:pt x="147" y="233"/>
                </a:lnTo>
                <a:close/>
                <a:moveTo>
                  <a:pt x="533" y="233"/>
                </a:moveTo>
                <a:lnTo>
                  <a:pt x="557" y="219"/>
                </a:lnTo>
                <a:lnTo>
                  <a:pt x="556" y="217"/>
                </a:lnTo>
                <a:lnTo>
                  <a:pt x="555" y="215"/>
                </a:lnTo>
                <a:lnTo>
                  <a:pt x="553" y="213"/>
                </a:lnTo>
                <a:lnTo>
                  <a:pt x="529" y="227"/>
                </a:lnTo>
                <a:lnTo>
                  <a:pt x="533" y="233"/>
                </a:lnTo>
                <a:close/>
                <a:moveTo>
                  <a:pt x="147" y="447"/>
                </a:moveTo>
                <a:lnTo>
                  <a:pt x="123" y="461"/>
                </a:lnTo>
                <a:lnTo>
                  <a:pt x="125" y="465"/>
                </a:lnTo>
                <a:lnTo>
                  <a:pt x="125" y="465"/>
                </a:lnTo>
                <a:lnTo>
                  <a:pt x="127" y="468"/>
                </a:lnTo>
                <a:lnTo>
                  <a:pt x="151" y="454"/>
                </a:lnTo>
                <a:lnTo>
                  <a:pt x="147" y="447"/>
                </a:lnTo>
                <a:close/>
                <a:moveTo>
                  <a:pt x="560" y="337"/>
                </a:moveTo>
                <a:lnTo>
                  <a:pt x="560" y="344"/>
                </a:lnTo>
                <a:lnTo>
                  <a:pt x="588" y="344"/>
                </a:lnTo>
                <a:lnTo>
                  <a:pt x="588" y="341"/>
                </a:lnTo>
                <a:lnTo>
                  <a:pt x="588" y="340"/>
                </a:lnTo>
                <a:lnTo>
                  <a:pt x="588" y="337"/>
                </a:lnTo>
                <a:lnTo>
                  <a:pt x="560" y="337"/>
                </a:lnTo>
                <a:close/>
                <a:moveTo>
                  <a:pt x="119" y="337"/>
                </a:moveTo>
                <a:lnTo>
                  <a:pt x="91" y="337"/>
                </a:lnTo>
                <a:lnTo>
                  <a:pt x="91" y="340"/>
                </a:lnTo>
                <a:lnTo>
                  <a:pt x="91" y="341"/>
                </a:lnTo>
                <a:lnTo>
                  <a:pt x="91" y="344"/>
                </a:lnTo>
                <a:lnTo>
                  <a:pt x="119" y="344"/>
                </a:lnTo>
                <a:lnTo>
                  <a:pt x="119" y="337"/>
                </a:lnTo>
                <a:close/>
                <a:moveTo>
                  <a:pt x="213" y="554"/>
                </a:moveTo>
                <a:lnTo>
                  <a:pt x="215" y="555"/>
                </a:lnTo>
                <a:lnTo>
                  <a:pt x="216" y="556"/>
                </a:lnTo>
                <a:lnTo>
                  <a:pt x="219" y="557"/>
                </a:lnTo>
                <a:lnTo>
                  <a:pt x="233" y="533"/>
                </a:lnTo>
                <a:lnTo>
                  <a:pt x="226" y="530"/>
                </a:lnTo>
                <a:lnTo>
                  <a:pt x="213" y="554"/>
                </a:lnTo>
                <a:close/>
                <a:moveTo>
                  <a:pt x="340" y="0"/>
                </a:moveTo>
                <a:cubicBezTo>
                  <a:pt x="153" y="0"/>
                  <a:pt x="0" y="151"/>
                  <a:pt x="0" y="337"/>
                </a:cubicBezTo>
                <a:cubicBezTo>
                  <a:pt x="0" y="523"/>
                  <a:pt x="153" y="674"/>
                  <a:pt x="340" y="674"/>
                </a:cubicBezTo>
                <a:cubicBezTo>
                  <a:pt x="527" y="674"/>
                  <a:pt x="680" y="523"/>
                  <a:pt x="680" y="337"/>
                </a:cubicBezTo>
                <a:cubicBezTo>
                  <a:pt x="680" y="151"/>
                  <a:pt x="527" y="0"/>
                  <a:pt x="340"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43" name="Freeform 237"/>
          <p:cNvSpPr/>
          <p:nvPr/>
        </p:nvSpPr>
        <p:spPr>
          <a:xfrm>
            <a:off x="3579840" y="1176480"/>
            <a:ext cx="160200" cy="155520"/>
          </a:xfrm>
          <a:custGeom>
            <a:avLst/>
            <a:gdLst/>
            <a:ahLst/>
            <a:rect l="l" t="t" r="r" b="b"/>
            <a:pathLst>
              <a:path w="599" h="583">
                <a:moveTo>
                  <a:pt x="530" y="255"/>
                </a:moveTo>
                <a:lnTo>
                  <a:pt x="70" y="255"/>
                </a:lnTo>
                <a:cubicBezTo>
                  <a:pt x="31" y="255"/>
                  <a:pt x="0" y="286"/>
                  <a:pt x="0" y="325"/>
                </a:cubicBezTo>
                <a:lnTo>
                  <a:pt x="0" y="429"/>
                </a:lnTo>
                <a:cubicBezTo>
                  <a:pt x="0" y="458"/>
                  <a:pt x="19" y="483"/>
                  <a:pt x="45" y="493"/>
                </a:cubicBezTo>
                <a:lnTo>
                  <a:pt x="45" y="568"/>
                </a:lnTo>
                <a:cubicBezTo>
                  <a:pt x="45" y="577"/>
                  <a:pt x="51" y="583"/>
                  <a:pt x="60" y="583"/>
                </a:cubicBezTo>
                <a:cubicBezTo>
                  <a:pt x="68" y="583"/>
                  <a:pt x="74" y="577"/>
                  <a:pt x="74" y="569"/>
                </a:cubicBezTo>
                <a:lnTo>
                  <a:pt x="74" y="498"/>
                </a:lnTo>
                <a:lnTo>
                  <a:pt x="525" y="498"/>
                </a:lnTo>
                <a:lnTo>
                  <a:pt x="525" y="568"/>
                </a:lnTo>
                <a:cubicBezTo>
                  <a:pt x="525" y="577"/>
                  <a:pt x="531" y="583"/>
                  <a:pt x="539" y="583"/>
                </a:cubicBezTo>
                <a:cubicBezTo>
                  <a:pt x="548" y="583"/>
                  <a:pt x="554" y="577"/>
                  <a:pt x="554" y="569"/>
                </a:cubicBezTo>
                <a:lnTo>
                  <a:pt x="554" y="493"/>
                </a:lnTo>
                <a:cubicBezTo>
                  <a:pt x="580" y="483"/>
                  <a:pt x="599" y="458"/>
                  <a:pt x="599" y="429"/>
                </a:cubicBezTo>
                <a:lnTo>
                  <a:pt x="599" y="325"/>
                </a:lnTo>
                <a:cubicBezTo>
                  <a:pt x="599" y="286"/>
                  <a:pt x="568" y="255"/>
                  <a:pt x="530" y="255"/>
                </a:cubicBezTo>
                <a:close/>
                <a:moveTo>
                  <a:pt x="135" y="72"/>
                </a:moveTo>
                <a:lnTo>
                  <a:pt x="272" y="72"/>
                </a:lnTo>
                <a:cubicBezTo>
                  <a:pt x="280" y="72"/>
                  <a:pt x="288" y="80"/>
                  <a:pt x="288" y="88"/>
                </a:cubicBezTo>
                <a:cubicBezTo>
                  <a:pt x="288" y="97"/>
                  <a:pt x="280" y="104"/>
                  <a:pt x="272" y="104"/>
                </a:cubicBezTo>
                <a:lnTo>
                  <a:pt x="135" y="104"/>
                </a:lnTo>
                <a:cubicBezTo>
                  <a:pt x="126" y="104"/>
                  <a:pt x="119" y="97"/>
                  <a:pt x="119" y="88"/>
                </a:cubicBezTo>
                <a:cubicBezTo>
                  <a:pt x="119" y="80"/>
                  <a:pt x="126" y="72"/>
                  <a:pt x="135" y="72"/>
                </a:cubicBezTo>
                <a:close/>
                <a:moveTo>
                  <a:pt x="327" y="72"/>
                </a:moveTo>
                <a:lnTo>
                  <a:pt x="464" y="72"/>
                </a:lnTo>
                <a:cubicBezTo>
                  <a:pt x="473" y="72"/>
                  <a:pt x="480" y="80"/>
                  <a:pt x="480" y="88"/>
                </a:cubicBezTo>
                <a:cubicBezTo>
                  <a:pt x="480" y="97"/>
                  <a:pt x="473" y="104"/>
                  <a:pt x="464" y="104"/>
                </a:cubicBezTo>
                <a:lnTo>
                  <a:pt x="327" y="104"/>
                </a:lnTo>
                <a:cubicBezTo>
                  <a:pt x="319" y="104"/>
                  <a:pt x="312" y="97"/>
                  <a:pt x="312" y="88"/>
                </a:cubicBezTo>
                <a:cubicBezTo>
                  <a:pt x="312" y="80"/>
                  <a:pt x="319" y="72"/>
                  <a:pt x="327" y="72"/>
                </a:cubicBezTo>
                <a:close/>
                <a:moveTo>
                  <a:pt x="537" y="247"/>
                </a:moveTo>
                <a:lnTo>
                  <a:pt x="539" y="247"/>
                </a:lnTo>
                <a:lnTo>
                  <a:pt x="504" y="94"/>
                </a:lnTo>
                <a:lnTo>
                  <a:pt x="504" y="48"/>
                </a:lnTo>
                <a:cubicBezTo>
                  <a:pt x="504" y="21"/>
                  <a:pt x="483" y="0"/>
                  <a:pt x="457" y="0"/>
                </a:cubicBezTo>
                <a:lnTo>
                  <a:pt x="142" y="0"/>
                </a:lnTo>
                <a:cubicBezTo>
                  <a:pt x="116" y="0"/>
                  <a:pt x="95" y="21"/>
                  <a:pt x="95" y="48"/>
                </a:cubicBezTo>
                <a:lnTo>
                  <a:pt x="95" y="94"/>
                </a:lnTo>
                <a:lnTo>
                  <a:pt x="60" y="247"/>
                </a:lnTo>
                <a:lnTo>
                  <a:pt x="63" y="247"/>
                </a:lnTo>
                <a:lnTo>
                  <a:pt x="537" y="247"/>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44" name="Freeform 238"/>
          <p:cNvSpPr/>
          <p:nvPr/>
        </p:nvSpPr>
        <p:spPr>
          <a:xfrm>
            <a:off x="2577960" y="1173240"/>
            <a:ext cx="203400" cy="162000"/>
          </a:xfrm>
          <a:custGeom>
            <a:avLst/>
            <a:gdLst/>
            <a:ahLst/>
            <a:rect l="l" t="t" r="r" b="b"/>
            <a:pathLst>
              <a:path w="753" h="602">
                <a:moveTo>
                  <a:pt x="652" y="358"/>
                </a:moveTo>
                <a:lnTo>
                  <a:pt x="472" y="358"/>
                </a:lnTo>
                <a:lnTo>
                  <a:pt x="472" y="356"/>
                </a:lnTo>
                <a:cubicBezTo>
                  <a:pt x="472" y="337"/>
                  <a:pt x="487" y="322"/>
                  <a:pt x="505" y="322"/>
                </a:cubicBezTo>
                <a:lnTo>
                  <a:pt x="618" y="322"/>
                </a:lnTo>
                <a:cubicBezTo>
                  <a:pt x="637" y="322"/>
                  <a:pt x="652" y="337"/>
                  <a:pt x="652" y="356"/>
                </a:cubicBezTo>
                <a:lnTo>
                  <a:pt x="652" y="358"/>
                </a:lnTo>
                <a:close/>
                <a:moveTo>
                  <a:pt x="466" y="358"/>
                </a:moveTo>
                <a:lnTo>
                  <a:pt x="287" y="358"/>
                </a:lnTo>
                <a:lnTo>
                  <a:pt x="287" y="356"/>
                </a:lnTo>
                <a:cubicBezTo>
                  <a:pt x="287" y="337"/>
                  <a:pt x="302" y="322"/>
                  <a:pt x="320" y="322"/>
                </a:cubicBezTo>
                <a:lnTo>
                  <a:pt x="433" y="322"/>
                </a:lnTo>
                <a:cubicBezTo>
                  <a:pt x="452" y="322"/>
                  <a:pt x="467" y="337"/>
                  <a:pt x="467" y="356"/>
                </a:cubicBezTo>
                <a:lnTo>
                  <a:pt x="466" y="358"/>
                </a:lnTo>
                <a:close/>
                <a:moveTo>
                  <a:pt x="281" y="358"/>
                </a:moveTo>
                <a:lnTo>
                  <a:pt x="102" y="358"/>
                </a:lnTo>
                <a:lnTo>
                  <a:pt x="101" y="356"/>
                </a:lnTo>
                <a:cubicBezTo>
                  <a:pt x="101" y="337"/>
                  <a:pt x="116" y="322"/>
                  <a:pt x="135" y="322"/>
                </a:cubicBezTo>
                <a:lnTo>
                  <a:pt x="248" y="322"/>
                </a:lnTo>
                <a:cubicBezTo>
                  <a:pt x="266" y="322"/>
                  <a:pt x="281" y="337"/>
                  <a:pt x="281" y="356"/>
                </a:cubicBezTo>
                <a:lnTo>
                  <a:pt x="281" y="358"/>
                </a:lnTo>
                <a:close/>
                <a:moveTo>
                  <a:pt x="707" y="226"/>
                </a:moveTo>
                <a:cubicBezTo>
                  <a:pt x="704" y="226"/>
                  <a:pt x="700" y="227"/>
                  <a:pt x="697" y="227"/>
                </a:cubicBezTo>
                <a:lnTo>
                  <a:pt x="697" y="79"/>
                </a:lnTo>
                <a:cubicBezTo>
                  <a:pt x="697" y="35"/>
                  <a:pt x="662" y="0"/>
                  <a:pt x="618" y="0"/>
                </a:cubicBezTo>
                <a:lnTo>
                  <a:pt x="135" y="0"/>
                </a:lnTo>
                <a:cubicBezTo>
                  <a:pt x="91" y="0"/>
                  <a:pt x="56" y="35"/>
                  <a:pt x="56" y="79"/>
                </a:cubicBezTo>
                <a:lnTo>
                  <a:pt x="56" y="227"/>
                </a:lnTo>
                <a:cubicBezTo>
                  <a:pt x="53" y="226"/>
                  <a:pt x="50" y="226"/>
                  <a:pt x="46" y="226"/>
                </a:cubicBezTo>
                <a:cubicBezTo>
                  <a:pt x="21" y="226"/>
                  <a:pt x="0" y="247"/>
                  <a:pt x="0" y="272"/>
                </a:cubicBezTo>
                <a:lnTo>
                  <a:pt x="0" y="556"/>
                </a:lnTo>
                <a:cubicBezTo>
                  <a:pt x="0" y="581"/>
                  <a:pt x="21" y="602"/>
                  <a:pt x="46" y="602"/>
                </a:cubicBezTo>
                <a:cubicBezTo>
                  <a:pt x="72" y="602"/>
                  <a:pt x="92" y="581"/>
                  <a:pt x="92" y="556"/>
                </a:cubicBezTo>
                <a:lnTo>
                  <a:pt x="92" y="552"/>
                </a:lnTo>
                <a:lnTo>
                  <a:pt x="661" y="552"/>
                </a:lnTo>
                <a:lnTo>
                  <a:pt x="661" y="556"/>
                </a:lnTo>
                <a:cubicBezTo>
                  <a:pt x="661" y="581"/>
                  <a:pt x="681" y="602"/>
                  <a:pt x="707" y="602"/>
                </a:cubicBezTo>
                <a:cubicBezTo>
                  <a:pt x="732" y="602"/>
                  <a:pt x="753" y="581"/>
                  <a:pt x="753" y="556"/>
                </a:cubicBezTo>
                <a:lnTo>
                  <a:pt x="753" y="272"/>
                </a:lnTo>
                <a:cubicBezTo>
                  <a:pt x="753" y="247"/>
                  <a:pt x="732" y="226"/>
                  <a:pt x="707" y="22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45" name="Freeform 239"/>
          <p:cNvSpPr/>
          <p:nvPr/>
        </p:nvSpPr>
        <p:spPr>
          <a:xfrm>
            <a:off x="4889520" y="1158840"/>
            <a:ext cx="115920" cy="187200"/>
          </a:xfrm>
          <a:custGeom>
            <a:avLst/>
            <a:gdLst/>
            <a:ahLst/>
            <a:rect l="l" t="t" r="r" b="b"/>
            <a:pathLst>
              <a:path w="438" h="701">
                <a:moveTo>
                  <a:pt x="402" y="619"/>
                </a:moveTo>
                <a:lnTo>
                  <a:pt x="232" y="619"/>
                </a:lnTo>
                <a:lnTo>
                  <a:pt x="232" y="47"/>
                </a:lnTo>
                <a:lnTo>
                  <a:pt x="402" y="47"/>
                </a:lnTo>
                <a:lnTo>
                  <a:pt x="402" y="619"/>
                </a:lnTo>
                <a:close/>
                <a:moveTo>
                  <a:pt x="250" y="288"/>
                </a:moveTo>
                <a:lnTo>
                  <a:pt x="286" y="288"/>
                </a:lnTo>
                <a:lnTo>
                  <a:pt x="286" y="383"/>
                </a:lnTo>
                <a:lnTo>
                  <a:pt x="250" y="383"/>
                </a:lnTo>
                <a:lnTo>
                  <a:pt x="250" y="288"/>
                </a:lnTo>
                <a:close/>
                <a:moveTo>
                  <a:pt x="153" y="288"/>
                </a:moveTo>
                <a:lnTo>
                  <a:pt x="190" y="288"/>
                </a:lnTo>
                <a:lnTo>
                  <a:pt x="190" y="383"/>
                </a:lnTo>
                <a:lnTo>
                  <a:pt x="153" y="383"/>
                </a:lnTo>
                <a:lnTo>
                  <a:pt x="153" y="288"/>
                </a:lnTo>
                <a:close/>
                <a:moveTo>
                  <a:pt x="206" y="619"/>
                </a:moveTo>
                <a:lnTo>
                  <a:pt x="36" y="619"/>
                </a:lnTo>
                <a:lnTo>
                  <a:pt x="36" y="47"/>
                </a:lnTo>
                <a:lnTo>
                  <a:pt x="206" y="47"/>
                </a:lnTo>
                <a:lnTo>
                  <a:pt x="206" y="619"/>
                </a:lnTo>
                <a:close/>
                <a:moveTo>
                  <a:pt x="365" y="0"/>
                </a:moveTo>
                <a:lnTo>
                  <a:pt x="73" y="0"/>
                </a:lnTo>
                <a:cubicBezTo>
                  <a:pt x="33" y="0"/>
                  <a:pt x="0" y="33"/>
                  <a:pt x="0" y="74"/>
                </a:cubicBezTo>
                <a:lnTo>
                  <a:pt x="0" y="590"/>
                </a:lnTo>
                <a:cubicBezTo>
                  <a:pt x="0" y="620"/>
                  <a:pt x="18" y="646"/>
                  <a:pt x="44" y="657"/>
                </a:cubicBezTo>
                <a:lnTo>
                  <a:pt x="44" y="688"/>
                </a:lnTo>
                <a:cubicBezTo>
                  <a:pt x="44" y="695"/>
                  <a:pt x="49" y="701"/>
                  <a:pt x="57" y="701"/>
                </a:cubicBezTo>
                <a:cubicBezTo>
                  <a:pt x="64" y="701"/>
                  <a:pt x="69" y="695"/>
                  <a:pt x="69" y="688"/>
                </a:cubicBezTo>
                <a:lnTo>
                  <a:pt x="69" y="663"/>
                </a:lnTo>
                <a:lnTo>
                  <a:pt x="73" y="664"/>
                </a:lnTo>
                <a:lnTo>
                  <a:pt x="365" y="664"/>
                </a:lnTo>
                <a:lnTo>
                  <a:pt x="369" y="663"/>
                </a:lnTo>
                <a:lnTo>
                  <a:pt x="369" y="688"/>
                </a:lnTo>
                <a:cubicBezTo>
                  <a:pt x="369" y="695"/>
                  <a:pt x="374" y="701"/>
                  <a:pt x="381" y="701"/>
                </a:cubicBezTo>
                <a:cubicBezTo>
                  <a:pt x="388" y="701"/>
                  <a:pt x="394" y="695"/>
                  <a:pt x="394" y="688"/>
                </a:cubicBezTo>
                <a:lnTo>
                  <a:pt x="394" y="657"/>
                </a:lnTo>
                <a:cubicBezTo>
                  <a:pt x="420" y="646"/>
                  <a:pt x="438" y="620"/>
                  <a:pt x="438" y="590"/>
                </a:cubicBezTo>
                <a:lnTo>
                  <a:pt x="438" y="74"/>
                </a:lnTo>
                <a:cubicBezTo>
                  <a:pt x="438" y="33"/>
                  <a:pt x="405" y="0"/>
                  <a:pt x="365"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46" name="Freeform 240"/>
          <p:cNvSpPr/>
          <p:nvPr/>
        </p:nvSpPr>
        <p:spPr>
          <a:xfrm>
            <a:off x="5254560" y="1168560"/>
            <a:ext cx="122400" cy="169560"/>
          </a:xfrm>
          <a:custGeom>
            <a:avLst/>
            <a:gdLst/>
            <a:ahLst/>
            <a:rect l="l" t="t" r="r" b="b"/>
            <a:pathLst>
              <a:path w="457" h="634">
                <a:moveTo>
                  <a:pt x="413" y="151"/>
                </a:moveTo>
                <a:lnTo>
                  <a:pt x="44" y="151"/>
                </a:lnTo>
                <a:lnTo>
                  <a:pt x="44" y="52"/>
                </a:lnTo>
                <a:lnTo>
                  <a:pt x="413" y="52"/>
                </a:lnTo>
                <a:lnTo>
                  <a:pt x="413" y="151"/>
                </a:lnTo>
                <a:close/>
                <a:moveTo>
                  <a:pt x="193" y="480"/>
                </a:moveTo>
                <a:lnTo>
                  <a:pt x="264" y="480"/>
                </a:lnTo>
                <a:lnTo>
                  <a:pt x="264" y="504"/>
                </a:lnTo>
                <a:lnTo>
                  <a:pt x="193" y="504"/>
                </a:lnTo>
                <a:lnTo>
                  <a:pt x="193" y="480"/>
                </a:lnTo>
                <a:close/>
                <a:moveTo>
                  <a:pt x="193" y="353"/>
                </a:moveTo>
                <a:lnTo>
                  <a:pt x="264" y="353"/>
                </a:lnTo>
                <a:lnTo>
                  <a:pt x="264" y="377"/>
                </a:lnTo>
                <a:lnTo>
                  <a:pt x="193" y="377"/>
                </a:lnTo>
                <a:lnTo>
                  <a:pt x="193" y="353"/>
                </a:lnTo>
                <a:close/>
                <a:moveTo>
                  <a:pt x="193" y="230"/>
                </a:moveTo>
                <a:lnTo>
                  <a:pt x="264" y="230"/>
                </a:lnTo>
                <a:lnTo>
                  <a:pt x="264" y="254"/>
                </a:lnTo>
                <a:lnTo>
                  <a:pt x="193" y="254"/>
                </a:lnTo>
                <a:lnTo>
                  <a:pt x="193" y="230"/>
                </a:lnTo>
                <a:close/>
                <a:moveTo>
                  <a:pt x="193" y="101"/>
                </a:moveTo>
                <a:lnTo>
                  <a:pt x="264" y="101"/>
                </a:lnTo>
                <a:lnTo>
                  <a:pt x="264" y="125"/>
                </a:lnTo>
                <a:lnTo>
                  <a:pt x="193" y="125"/>
                </a:lnTo>
                <a:lnTo>
                  <a:pt x="193" y="101"/>
                </a:lnTo>
                <a:close/>
                <a:moveTo>
                  <a:pt x="413" y="276"/>
                </a:moveTo>
                <a:lnTo>
                  <a:pt x="44" y="276"/>
                </a:lnTo>
                <a:lnTo>
                  <a:pt x="44" y="178"/>
                </a:lnTo>
                <a:lnTo>
                  <a:pt x="413" y="178"/>
                </a:lnTo>
                <a:lnTo>
                  <a:pt x="413" y="276"/>
                </a:lnTo>
                <a:close/>
                <a:moveTo>
                  <a:pt x="413" y="402"/>
                </a:moveTo>
                <a:lnTo>
                  <a:pt x="44" y="402"/>
                </a:lnTo>
                <a:lnTo>
                  <a:pt x="44" y="303"/>
                </a:lnTo>
                <a:lnTo>
                  <a:pt x="413" y="303"/>
                </a:lnTo>
                <a:lnTo>
                  <a:pt x="413" y="402"/>
                </a:lnTo>
                <a:close/>
                <a:moveTo>
                  <a:pt x="413" y="528"/>
                </a:moveTo>
                <a:lnTo>
                  <a:pt x="44" y="528"/>
                </a:lnTo>
                <a:lnTo>
                  <a:pt x="44" y="429"/>
                </a:lnTo>
                <a:lnTo>
                  <a:pt x="413" y="429"/>
                </a:lnTo>
                <a:lnTo>
                  <a:pt x="413" y="528"/>
                </a:lnTo>
                <a:close/>
                <a:moveTo>
                  <a:pt x="394" y="0"/>
                </a:moveTo>
                <a:lnTo>
                  <a:pt x="64" y="0"/>
                </a:lnTo>
                <a:cubicBezTo>
                  <a:pt x="29" y="0"/>
                  <a:pt x="0" y="28"/>
                  <a:pt x="0" y="64"/>
                </a:cubicBezTo>
                <a:lnTo>
                  <a:pt x="0" y="529"/>
                </a:lnTo>
                <a:cubicBezTo>
                  <a:pt x="0" y="552"/>
                  <a:pt x="12" y="572"/>
                  <a:pt x="30" y="583"/>
                </a:cubicBezTo>
                <a:lnTo>
                  <a:pt x="30" y="614"/>
                </a:lnTo>
                <a:cubicBezTo>
                  <a:pt x="30" y="625"/>
                  <a:pt x="39" y="634"/>
                  <a:pt x="50" y="634"/>
                </a:cubicBezTo>
                <a:cubicBezTo>
                  <a:pt x="60" y="634"/>
                  <a:pt x="69" y="625"/>
                  <a:pt x="69" y="614"/>
                </a:cubicBezTo>
                <a:lnTo>
                  <a:pt x="69" y="593"/>
                </a:lnTo>
                <a:lnTo>
                  <a:pt x="389" y="593"/>
                </a:lnTo>
                <a:lnTo>
                  <a:pt x="389" y="614"/>
                </a:lnTo>
                <a:cubicBezTo>
                  <a:pt x="389" y="625"/>
                  <a:pt x="397" y="634"/>
                  <a:pt x="408" y="634"/>
                </a:cubicBezTo>
                <a:cubicBezTo>
                  <a:pt x="419" y="634"/>
                  <a:pt x="428" y="625"/>
                  <a:pt x="428" y="614"/>
                </a:cubicBezTo>
                <a:lnTo>
                  <a:pt x="428" y="583"/>
                </a:lnTo>
                <a:cubicBezTo>
                  <a:pt x="446" y="572"/>
                  <a:pt x="457" y="552"/>
                  <a:pt x="457" y="529"/>
                </a:cubicBezTo>
                <a:lnTo>
                  <a:pt x="457" y="64"/>
                </a:lnTo>
                <a:cubicBezTo>
                  <a:pt x="457" y="28"/>
                  <a:pt x="429" y="0"/>
                  <a:pt x="394"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47" name="Freeform 241"/>
          <p:cNvSpPr/>
          <p:nvPr/>
        </p:nvSpPr>
        <p:spPr>
          <a:xfrm>
            <a:off x="7332840" y="3876840"/>
            <a:ext cx="180720" cy="174600"/>
          </a:xfrm>
          <a:custGeom>
            <a:avLst/>
            <a:gdLst/>
            <a:ahLst/>
            <a:rect l="l" t="t" r="r" b="b"/>
            <a:pathLst>
              <a:path w="677" h="656">
                <a:moveTo>
                  <a:pt x="250" y="46"/>
                </a:moveTo>
                <a:cubicBezTo>
                  <a:pt x="250" y="46"/>
                  <a:pt x="259" y="26"/>
                  <a:pt x="265" y="46"/>
                </a:cubicBezTo>
                <a:cubicBezTo>
                  <a:pt x="270" y="64"/>
                  <a:pt x="320" y="201"/>
                  <a:pt x="329" y="225"/>
                </a:cubicBezTo>
                <a:lnTo>
                  <a:pt x="349" y="211"/>
                </a:lnTo>
                <a:lnTo>
                  <a:pt x="276" y="26"/>
                </a:lnTo>
                <a:cubicBezTo>
                  <a:pt x="266" y="0"/>
                  <a:pt x="249" y="0"/>
                  <a:pt x="239" y="26"/>
                </a:cubicBezTo>
                <a:lnTo>
                  <a:pt x="181" y="174"/>
                </a:lnTo>
                <a:lnTo>
                  <a:pt x="194" y="193"/>
                </a:lnTo>
                <a:lnTo>
                  <a:pt x="250" y="46"/>
                </a:lnTo>
                <a:close/>
                <a:moveTo>
                  <a:pt x="474" y="183"/>
                </a:moveTo>
                <a:lnTo>
                  <a:pt x="433" y="288"/>
                </a:lnTo>
                <a:lnTo>
                  <a:pt x="444" y="296"/>
                </a:lnTo>
                <a:cubicBezTo>
                  <a:pt x="449" y="283"/>
                  <a:pt x="477" y="205"/>
                  <a:pt x="480" y="195"/>
                </a:cubicBezTo>
                <a:cubicBezTo>
                  <a:pt x="484" y="183"/>
                  <a:pt x="489" y="195"/>
                  <a:pt x="489" y="195"/>
                </a:cubicBezTo>
                <a:lnTo>
                  <a:pt x="521" y="278"/>
                </a:lnTo>
                <a:lnTo>
                  <a:pt x="528" y="267"/>
                </a:lnTo>
                <a:lnTo>
                  <a:pt x="495" y="183"/>
                </a:lnTo>
                <a:cubicBezTo>
                  <a:pt x="489" y="168"/>
                  <a:pt x="480" y="168"/>
                  <a:pt x="474" y="183"/>
                </a:cubicBezTo>
                <a:close/>
                <a:moveTo>
                  <a:pt x="672" y="628"/>
                </a:moveTo>
                <a:lnTo>
                  <a:pt x="570" y="375"/>
                </a:lnTo>
                <a:cubicBezTo>
                  <a:pt x="565" y="361"/>
                  <a:pt x="555" y="337"/>
                  <a:pt x="549" y="322"/>
                </a:cubicBezTo>
                <a:lnTo>
                  <a:pt x="533" y="281"/>
                </a:lnTo>
                <a:lnTo>
                  <a:pt x="522" y="296"/>
                </a:lnTo>
                <a:cubicBezTo>
                  <a:pt x="521" y="298"/>
                  <a:pt x="518" y="299"/>
                  <a:pt x="515" y="298"/>
                </a:cubicBezTo>
                <a:lnTo>
                  <a:pt x="497" y="290"/>
                </a:lnTo>
                <a:lnTo>
                  <a:pt x="464" y="321"/>
                </a:lnTo>
                <a:lnTo>
                  <a:pt x="460" y="322"/>
                </a:lnTo>
                <a:lnTo>
                  <a:pt x="457" y="321"/>
                </a:lnTo>
                <a:lnTo>
                  <a:pt x="428" y="299"/>
                </a:lnTo>
                <a:lnTo>
                  <a:pt x="419" y="322"/>
                </a:lnTo>
                <a:cubicBezTo>
                  <a:pt x="416" y="331"/>
                  <a:pt x="411" y="344"/>
                  <a:pt x="406" y="356"/>
                </a:cubicBezTo>
                <a:cubicBezTo>
                  <a:pt x="396" y="330"/>
                  <a:pt x="381" y="294"/>
                  <a:pt x="372" y="270"/>
                </a:cubicBezTo>
                <a:lnTo>
                  <a:pt x="356" y="230"/>
                </a:lnTo>
                <a:lnTo>
                  <a:pt x="306" y="269"/>
                </a:lnTo>
                <a:cubicBezTo>
                  <a:pt x="304" y="270"/>
                  <a:pt x="302" y="271"/>
                  <a:pt x="300" y="271"/>
                </a:cubicBezTo>
                <a:cubicBezTo>
                  <a:pt x="297" y="271"/>
                  <a:pt x="295" y="270"/>
                  <a:pt x="293" y="268"/>
                </a:cubicBezTo>
                <a:lnTo>
                  <a:pt x="235" y="214"/>
                </a:lnTo>
                <a:lnTo>
                  <a:pt x="203" y="228"/>
                </a:lnTo>
                <a:cubicBezTo>
                  <a:pt x="199" y="230"/>
                  <a:pt x="193" y="229"/>
                  <a:pt x="191" y="225"/>
                </a:cubicBezTo>
                <a:lnTo>
                  <a:pt x="172" y="197"/>
                </a:lnTo>
                <a:lnTo>
                  <a:pt x="143" y="270"/>
                </a:lnTo>
                <a:cubicBezTo>
                  <a:pt x="133" y="296"/>
                  <a:pt x="116" y="338"/>
                  <a:pt x="106" y="364"/>
                </a:cubicBezTo>
                <a:lnTo>
                  <a:pt x="10" y="609"/>
                </a:lnTo>
                <a:cubicBezTo>
                  <a:pt x="0" y="635"/>
                  <a:pt x="8" y="656"/>
                  <a:pt x="29" y="656"/>
                </a:cubicBezTo>
                <a:lnTo>
                  <a:pt x="221" y="656"/>
                </a:lnTo>
                <a:cubicBezTo>
                  <a:pt x="241" y="656"/>
                  <a:pt x="274" y="656"/>
                  <a:pt x="295" y="656"/>
                </a:cubicBezTo>
                <a:lnTo>
                  <a:pt x="486" y="656"/>
                </a:lnTo>
                <a:cubicBezTo>
                  <a:pt x="489" y="656"/>
                  <a:pt x="492" y="655"/>
                  <a:pt x="494" y="655"/>
                </a:cubicBezTo>
                <a:cubicBezTo>
                  <a:pt x="498" y="655"/>
                  <a:pt x="502" y="655"/>
                  <a:pt x="505" y="655"/>
                </a:cubicBezTo>
                <a:lnTo>
                  <a:pt x="661" y="655"/>
                </a:lnTo>
                <a:cubicBezTo>
                  <a:pt x="673" y="655"/>
                  <a:pt x="677" y="643"/>
                  <a:pt x="672" y="628"/>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48" name="Freeform 242"/>
          <p:cNvSpPr/>
          <p:nvPr/>
        </p:nvSpPr>
        <p:spPr>
          <a:xfrm>
            <a:off x="9414000" y="4822920"/>
            <a:ext cx="172800" cy="156960"/>
          </a:xfrm>
          <a:custGeom>
            <a:avLst/>
            <a:gdLst/>
            <a:ahLst/>
            <a:rect l="l" t="t" r="r" b="b"/>
            <a:pathLst>
              <a:path w="648" h="589">
                <a:moveTo>
                  <a:pt x="607" y="380"/>
                </a:moveTo>
                <a:cubicBezTo>
                  <a:pt x="607" y="386"/>
                  <a:pt x="602" y="391"/>
                  <a:pt x="597" y="391"/>
                </a:cubicBezTo>
                <a:lnTo>
                  <a:pt x="525" y="391"/>
                </a:lnTo>
                <a:cubicBezTo>
                  <a:pt x="539" y="355"/>
                  <a:pt x="547" y="317"/>
                  <a:pt x="548" y="276"/>
                </a:cubicBezTo>
                <a:lnTo>
                  <a:pt x="597" y="276"/>
                </a:lnTo>
                <a:cubicBezTo>
                  <a:pt x="602" y="276"/>
                  <a:pt x="607" y="280"/>
                  <a:pt x="607" y="286"/>
                </a:cubicBezTo>
                <a:lnTo>
                  <a:pt x="607" y="380"/>
                </a:lnTo>
                <a:close/>
                <a:moveTo>
                  <a:pt x="248" y="86"/>
                </a:moveTo>
                <a:cubicBezTo>
                  <a:pt x="248" y="86"/>
                  <a:pt x="298" y="107"/>
                  <a:pt x="247" y="157"/>
                </a:cubicBezTo>
                <a:cubicBezTo>
                  <a:pt x="247" y="157"/>
                  <a:pt x="320" y="107"/>
                  <a:pt x="265" y="68"/>
                </a:cubicBezTo>
                <a:cubicBezTo>
                  <a:pt x="265" y="68"/>
                  <a:pt x="232" y="47"/>
                  <a:pt x="259" y="0"/>
                </a:cubicBezTo>
                <a:cubicBezTo>
                  <a:pt x="259" y="0"/>
                  <a:pt x="195" y="60"/>
                  <a:pt x="248" y="86"/>
                </a:cubicBezTo>
                <a:close/>
                <a:moveTo>
                  <a:pt x="178" y="104"/>
                </a:moveTo>
                <a:cubicBezTo>
                  <a:pt x="178" y="104"/>
                  <a:pt x="215" y="120"/>
                  <a:pt x="177" y="157"/>
                </a:cubicBezTo>
                <a:cubicBezTo>
                  <a:pt x="177" y="157"/>
                  <a:pt x="232" y="120"/>
                  <a:pt x="191" y="91"/>
                </a:cubicBezTo>
                <a:cubicBezTo>
                  <a:pt x="191" y="91"/>
                  <a:pt x="166" y="75"/>
                  <a:pt x="186" y="40"/>
                </a:cubicBezTo>
                <a:cubicBezTo>
                  <a:pt x="186" y="40"/>
                  <a:pt x="139" y="85"/>
                  <a:pt x="178" y="104"/>
                </a:cubicBezTo>
                <a:close/>
                <a:moveTo>
                  <a:pt x="322" y="104"/>
                </a:moveTo>
                <a:cubicBezTo>
                  <a:pt x="322" y="104"/>
                  <a:pt x="359" y="120"/>
                  <a:pt x="321" y="157"/>
                </a:cubicBezTo>
                <a:cubicBezTo>
                  <a:pt x="321" y="157"/>
                  <a:pt x="375" y="120"/>
                  <a:pt x="335" y="91"/>
                </a:cubicBezTo>
                <a:cubicBezTo>
                  <a:pt x="335" y="91"/>
                  <a:pt x="310" y="75"/>
                  <a:pt x="330" y="40"/>
                </a:cubicBezTo>
                <a:cubicBezTo>
                  <a:pt x="330" y="40"/>
                  <a:pt x="282" y="85"/>
                  <a:pt x="322" y="104"/>
                </a:cubicBezTo>
                <a:close/>
                <a:moveTo>
                  <a:pt x="597" y="235"/>
                </a:moveTo>
                <a:lnTo>
                  <a:pt x="546" y="235"/>
                </a:lnTo>
                <a:cubicBezTo>
                  <a:pt x="545" y="223"/>
                  <a:pt x="542" y="212"/>
                  <a:pt x="540" y="201"/>
                </a:cubicBezTo>
                <a:lnTo>
                  <a:pt x="8" y="201"/>
                </a:lnTo>
                <a:cubicBezTo>
                  <a:pt x="3" y="224"/>
                  <a:pt x="0" y="247"/>
                  <a:pt x="0" y="272"/>
                </a:cubicBezTo>
                <a:cubicBezTo>
                  <a:pt x="0" y="395"/>
                  <a:pt x="70" y="501"/>
                  <a:pt x="169" y="546"/>
                </a:cubicBezTo>
                <a:lnTo>
                  <a:pt x="51" y="546"/>
                </a:lnTo>
                <a:cubicBezTo>
                  <a:pt x="54" y="556"/>
                  <a:pt x="78" y="566"/>
                  <a:pt x="115" y="573"/>
                </a:cubicBezTo>
                <a:lnTo>
                  <a:pt x="114" y="578"/>
                </a:lnTo>
                <a:cubicBezTo>
                  <a:pt x="114" y="584"/>
                  <a:pt x="119" y="589"/>
                  <a:pt x="125" y="589"/>
                </a:cubicBezTo>
                <a:lnTo>
                  <a:pt x="410" y="589"/>
                </a:lnTo>
                <a:cubicBezTo>
                  <a:pt x="417" y="589"/>
                  <a:pt x="421" y="584"/>
                  <a:pt x="421" y="578"/>
                </a:cubicBezTo>
                <a:lnTo>
                  <a:pt x="420" y="573"/>
                </a:lnTo>
                <a:cubicBezTo>
                  <a:pt x="458" y="566"/>
                  <a:pt x="482" y="556"/>
                  <a:pt x="484" y="546"/>
                </a:cubicBezTo>
                <a:lnTo>
                  <a:pt x="379" y="546"/>
                </a:lnTo>
                <a:cubicBezTo>
                  <a:pt x="431" y="522"/>
                  <a:pt x="475" y="482"/>
                  <a:pt x="505" y="431"/>
                </a:cubicBezTo>
                <a:lnTo>
                  <a:pt x="597" y="431"/>
                </a:lnTo>
                <a:cubicBezTo>
                  <a:pt x="625" y="431"/>
                  <a:pt x="648" y="409"/>
                  <a:pt x="648" y="380"/>
                </a:cubicBezTo>
                <a:lnTo>
                  <a:pt x="648" y="286"/>
                </a:lnTo>
                <a:cubicBezTo>
                  <a:pt x="648" y="258"/>
                  <a:pt x="625" y="235"/>
                  <a:pt x="597" y="23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49" name="Freeform 243"/>
          <p:cNvSpPr/>
          <p:nvPr/>
        </p:nvSpPr>
        <p:spPr>
          <a:xfrm>
            <a:off x="8724960" y="4811760"/>
            <a:ext cx="149040" cy="181080"/>
          </a:xfrm>
          <a:custGeom>
            <a:avLst/>
            <a:gdLst/>
            <a:ahLst/>
            <a:rect l="l" t="t" r="r" b="b"/>
            <a:pathLst>
              <a:path w="558" h="683">
                <a:moveTo>
                  <a:pt x="168" y="220"/>
                </a:moveTo>
                <a:cubicBezTo>
                  <a:pt x="179" y="209"/>
                  <a:pt x="179" y="210"/>
                  <a:pt x="192" y="209"/>
                </a:cubicBezTo>
                <a:cubicBezTo>
                  <a:pt x="205" y="208"/>
                  <a:pt x="213" y="202"/>
                  <a:pt x="224" y="206"/>
                </a:cubicBezTo>
                <a:cubicBezTo>
                  <a:pt x="235" y="209"/>
                  <a:pt x="252" y="220"/>
                  <a:pt x="257" y="236"/>
                </a:cubicBezTo>
                <a:cubicBezTo>
                  <a:pt x="257" y="236"/>
                  <a:pt x="252" y="265"/>
                  <a:pt x="238" y="276"/>
                </a:cubicBezTo>
                <a:cubicBezTo>
                  <a:pt x="230" y="283"/>
                  <a:pt x="210" y="292"/>
                  <a:pt x="194" y="292"/>
                </a:cubicBezTo>
                <a:cubicBezTo>
                  <a:pt x="177" y="292"/>
                  <a:pt x="165" y="281"/>
                  <a:pt x="164" y="267"/>
                </a:cubicBezTo>
                <a:cubicBezTo>
                  <a:pt x="164" y="267"/>
                  <a:pt x="156" y="232"/>
                  <a:pt x="168" y="220"/>
                </a:cubicBezTo>
                <a:close/>
                <a:moveTo>
                  <a:pt x="543" y="598"/>
                </a:moveTo>
                <a:cubicBezTo>
                  <a:pt x="543" y="598"/>
                  <a:pt x="537" y="579"/>
                  <a:pt x="520" y="580"/>
                </a:cubicBezTo>
                <a:cubicBezTo>
                  <a:pt x="520" y="580"/>
                  <a:pt x="481" y="581"/>
                  <a:pt x="468" y="577"/>
                </a:cubicBezTo>
                <a:cubicBezTo>
                  <a:pt x="456" y="573"/>
                  <a:pt x="403" y="551"/>
                  <a:pt x="320" y="503"/>
                </a:cubicBezTo>
                <a:lnTo>
                  <a:pt x="320" y="502"/>
                </a:lnTo>
                <a:cubicBezTo>
                  <a:pt x="357" y="480"/>
                  <a:pt x="438" y="438"/>
                  <a:pt x="458" y="429"/>
                </a:cubicBezTo>
                <a:cubicBezTo>
                  <a:pt x="478" y="421"/>
                  <a:pt x="518" y="425"/>
                  <a:pt x="518" y="425"/>
                </a:cubicBezTo>
                <a:cubicBezTo>
                  <a:pt x="535" y="425"/>
                  <a:pt x="542" y="408"/>
                  <a:pt x="549" y="393"/>
                </a:cubicBezTo>
                <a:cubicBezTo>
                  <a:pt x="556" y="377"/>
                  <a:pt x="547" y="365"/>
                  <a:pt x="540" y="360"/>
                </a:cubicBezTo>
                <a:cubicBezTo>
                  <a:pt x="532" y="355"/>
                  <a:pt x="529" y="357"/>
                  <a:pt x="525" y="342"/>
                </a:cubicBezTo>
                <a:cubicBezTo>
                  <a:pt x="522" y="327"/>
                  <a:pt x="519" y="325"/>
                  <a:pt x="519" y="325"/>
                </a:cubicBezTo>
                <a:cubicBezTo>
                  <a:pt x="501" y="304"/>
                  <a:pt x="471" y="334"/>
                  <a:pt x="471" y="334"/>
                </a:cubicBezTo>
                <a:cubicBezTo>
                  <a:pt x="465" y="340"/>
                  <a:pt x="466" y="344"/>
                  <a:pt x="466" y="344"/>
                </a:cubicBezTo>
                <a:cubicBezTo>
                  <a:pt x="437" y="396"/>
                  <a:pt x="289" y="473"/>
                  <a:pt x="279" y="478"/>
                </a:cubicBezTo>
                <a:cubicBezTo>
                  <a:pt x="269" y="473"/>
                  <a:pt x="121" y="396"/>
                  <a:pt x="93" y="344"/>
                </a:cubicBezTo>
                <a:cubicBezTo>
                  <a:pt x="93" y="344"/>
                  <a:pt x="94" y="340"/>
                  <a:pt x="88" y="334"/>
                </a:cubicBezTo>
                <a:cubicBezTo>
                  <a:pt x="88" y="334"/>
                  <a:pt x="57" y="304"/>
                  <a:pt x="40" y="325"/>
                </a:cubicBezTo>
                <a:cubicBezTo>
                  <a:pt x="40" y="325"/>
                  <a:pt x="37" y="327"/>
                  <a:pt x="33" y="342"/>
                </a:cubicBezTo>
                <a:cubicBezTo>
                  <a:pt x="30" y="357"/>
                  <a:pt x="26" y="355"/>
                  <a:pt x="19" y="360"/>
                </a:cubicBezTo>
                <a:cubicBezTo>
                  <a:pt x="12" y="365"/>
                  <a:pt x="2" y="377"/>
                  <a:pt x="9" y="393"/>
                </a:cubicBezTo>
                <a:cubicBezTo>
                  <a:pt x="16" y="408"/>
                  <a:pt x="23" y="425"/>
                  <a:pt x="41" y="425"/>
                </a:cubicBezTo>
                <a:cubicBezTo>
                  <a:pt x="41" y="425"/>
                  <a:pt x="80" y="421"/>
                  <a:pt x="100" y="429"/>
                </a:cubicBezTo>
                <a:cubicBezTo>
                  <a:pt x="120" y="438"/>
                  <a:pt x="202" y="480"/>
                  <a:pt x="239" y="502"/>
                </a:cubicBezTo>
                <a:lnTo>
                  <a:pt x="239" y="503"/>
                </a:lnTo>
                <a:cubicBezTo>
                  <a:pt x="156" y="551"/>
                  <a:pt x="103" y="573"/>
                  <a:pt x="91" y="577"/>
                </a:cubicBezTo>
                <a:cubicBezTo>
                  <a:pt x="77" y="581"/>
                  <a:pt x="38" y="580"/>
                  <a:pt x="38" y="580"/>
                </a:cubicBezTo>
                <a:cubicBezTo>
                  <a:pt x="21" y="579"/>
                  <a:pt x="15" y="598"/>
                  <a:pt x="15" y="598"/>
                </a:cubicBezTo>
                <a:cubicBezTo>
                  <a:pt x="14" y="603"/>
                  <a:pt x="8" y="609"/>
                  <a:pt x="8" y="609"/>
                </a:cubicBezTo>
                <a:cubicBezTo>
                  <a:pt x="0" y="620"/>
                  <a:pt x="24" y="630"/>
                  <a:pt x="24" y="630"/>
                </a:cubicBezTo>
                <a:cubicBezTo>
                  <a:pt x="38" y="631"/>
                  <a:pt x="37" y="644"/>
                  <a:pt x="37" y="644"/>
                </a:cubicBezTo>
                <a:cubicBezTo>
                  <a:pt x="36" y="662"/>
                  <a:pt x="44" y="669"/>
                  <a:pt x="44" y="669"/>
                </a:cubicBezTo>
                <a:cubicBezTo>
                  <a:pt x="77" y="683"/>
                  <a:pt x="91" y="666"/>
                  <a:pt x="91" y="666"/>
                </a:cubicBezTo>
                <a:cubicBezTo>
                  <a:pt x="94" y="659"/>
                  <a:pt x="128" y="629"/>
                  <a:pt x="128" y="629"/>
                </a:cubicBezTo>
                <a:cubicBezTo>
                  <a:pt x="133" y="620"/>
                  <a:pt x="222" y="564"/>
                  <a:pt x="279" y="528"/>
                </a:cubicBezTo>
                <a:cubicBezTo>
                  <a:pt x="337" y="564"/>
                  <a:pt x="425" y="620"/>
                  <a:pt x="430" y="629"/>
                </a:cubicBezTo>
                <a:cubicBezTo>
                  <a:pt x="430" y="629"/>
                  <a:pt x="465" y="659"/>
                  <a:pt x="467" y="666"/>
                </a:cubicBezTo>
                <a:cubicBezTo>
                  <a:pt x="467" y="666"/>
                  <a:pt x="481" y="683"/>
                  <a:pt x="514" y="669"/>
                </a:cubicBezTo>
                <a:cubicBezTo>
                  <a:pt x="514" y="668"/>
                  <a:pt x="523" y="662"/>
                  <a:pt x="522" y="644"/>
                </a:cubicBezTo>
                <a:cubicBezTo>
                  <a:pt x="522" y="644"/>
                  <a:pt x="521" y="631"/>
                  <a:pt x="534" y="630"/>
                </a:cubicBezTo>
                <a:cubicBezTo>
                  <a:pt x="534" y="630"/>
                  <a:pt x="558" y="620"/>
                  <a:pt x="550" y="609"/>
                </a:cubicBezTo>
                <a:cubicBezTo>
                  <a:pt x="550" y="609"/>
                  <a:pt x="544" y="603"/>
                  <a:pt x="543" y="598"/>
                </a:cubicBezTo>
                <a:close/>
                <a:moveTo>
                  <a:pt x="276" y="263"/>
                </a:moveTo>
                <a:cubicBezTo>
                  <a:pt x="276" y="263"/>
                  <a:pt x="280" y="260"/>
                  <a:pt x="283" y="263"/>
                </a:cubicBezTo>
                <a:cubicBezTo>
                  <a:pt x="283" y="263"/>
                  <a:pt x="312" y="286"/>
                  <a:pt x="304" y="325"/>
                </a:cubicBezTo>
                <a:cubicBezTo>
                  <a:pt x="304" y="325"/>
                  <a:pt x="285" y="343"/>
                  <a:pt x="280" y="321"/>
                </a:cubicBezTo>
                <a:cubicBezTo>
                  <a:pt x="280" y="321"/>
                  <a:pt x="270" y="343"/>
                  <a:pt x="254" y="323"/>
                </a:cubicBezTo>
                <a:cubicBezTo>
                  <a:pt x="254" y="323"/>
                  <a:pt x="245" y="293"/>
                  <a:pt x="276" y="263"/>
                </a:cubicBezTo>
                <a:close/>
                <a:moveTo>
                  <a:pt x="336" y="206"/>
                </a:moveTo>
                <a:cubicBezTo>
                  <a:pt x="347" y="202"/>
                  <a:pt x="355" y="208"/>
                  <a:pt x="368" y="209"/>
                </a:cubicBezTo>
                <a:cubicBezTo>
                  <a:pt x="381" y="210"/>
                  <a:pt x="381" y="209"/>
                  <a:pt x="393" y="220"/>
                </a:cubicBezTo>
                <a:cubicBezTo>
                  <a:pt x="405" y="232"/>
                  <a:pt x="397" y="267"/>
                  <a:pt x="397" y="267"/>
                </a:cubicBezTo>
                <a:cubicBezTo>
                  <a:pt x="395" y="281"/>
                  <a:pt x="384" y="292"/>
                  <a:pt x="367" y="292"/>
                </a:cubicBezTo>
                <a:cubicBezTo>
                  <a:pt x="350" y="292"/>
                  <a:pt x="331" y="283"/>
                  <a:pt x="322" y="276"/>
                </a:cubicBezTo>
                <a:cubicBezTo>
                  <a:pt x="309" y="265"/>
                  <a:pt x="303" y="236"/>
                  <a:pt x="303" y="236"/>
                </a:cubicBezTo>
                <a:cubicBezTo>
                  <a:pt x="308" y="220"/>
                  <a:pt x="326" y="209"/>
                  <a:pt x="336" y="206"/>
                </a:cubicBezTo>
                <a:close/>
                <a:moveTo>
                  <a:pt x="142" y="252"/>
                </a:moveTo>
                <a:cubicBezTo>
                  <a:pt x="127" y="250"/>
                  <a:pt x="130" y="272"/>
                  <a:pt x="130" y="272"/>
                </a:cubicBezTo>
                <a:cubicBezTo>
                  <a:pt x="133" y="303"/>
                  <a:pt x="165" y="324"/>
                  <a:pt x="165" y="324"/>
                </a:cubicBezTo>
                <a:cubicBezTo>
                  <a:pt x="173" y="329"/>
                  <a:pt x="197" y="327"/>
                  <a:pt x="197" y="327"/>
                </a:cubicBezTo>
                <a:cubicBezTo>
                  <a:pt x="210" y="327"/>
                  <a:pt x="212" y="337"/>
                  <a:pt x="212" y="337"/>
                </a:cubicBezTo>
                <a:lnTo>
                  <a:pt x="212" y="366"/>
                </a:lnTo>
                <a:cubicBezTo>
                  <a:pt x="213" y="370"/>
                  <a:pt x="219" y="369"/>
                  <a:pt x="219" y="369"/>
                </a:cubicBezTo>
                <a:cubicBezTo>
                  <a:pt x="218" y="374"/>
                  <a:pt x="225" y="377"/>
                  <a:pt x="225" y="377"/>
                </a:cubicBezTo>
                <a:cubicBezTo>
                  <a:pt x="225" y="377"/>
                  <a:pt x="226" y="368"/>
                  <a:pt x="226" y="378"/>
                </a:cubicBezTo>
                <a:cubicBezTo>
                  <a:pt x="225" y="387"/>
                  <a:pt x="234" y="389"/>
                  <a:pt x="234" y="389"/>
                </a:cubicBezTo>
                <a:cubicBezTo>
                  <a:pt x="234" y="395"/>
                  <a:pt x="245" y="398"/>
                  <a:pt x="245" y="398"/>
                </a:cubicBezTo>
                <a:cubicBezTo>
                  <a:pt x="247" y="404"/>
                  <a:pt x="263" y="401"/>
                  <a:pt x="263" y="401"/>
                </a:cubicBezTo>
                <a:cubicBezTo>
                  <a:pt x="269" y="406"/>
                  <a:pt x="279" y="401"/>
                  <a:pt x="279" y="401"/>
                </a:cubicBezTo>
                <a:cubicBezTo>
                  <a:pt x="285" y="406"/>
                  <a:pt x="297" y="400"/>
                  <a:pt x="297" y="400"/>
                </a:cubicBezTo>
                <a:cubicBezTo>
                  <a:pt x="304" y="402"/>
                  <a:pt x="314" y="396"/>
                  <a:pt x="314" y="396"/>
                </a:cubicBezTo>
                <a:cubicBezTo>
                  <a:pt x="325" y="397"/>
                  <a:pt x="325" y="387"/>
                  <a:pt x="325" y="387"/>
                </a:cubicBezTo>
                <a:cubicBezTo>
                  <a:pt x="332" y="388"/>
                  <a:pt x="334" y="377"/>
                  <a:pt x="334" y="377"/>
                </a:cubicBezTo>
                <a:cubicBezTo>
                  <a:pt x="339" y="379"/>
                  <a:pt x="341" y="369"/>
                  <a:pt x="341" y="369"/>
                </a:cubicBezTo>
                <a:lnTo>
                  <a:pt x="346" y="368"/>
                </a:lnTo>
                <a:lnTo>
                  <a:pt x="347" y="338"/>
                </a:lnTo>
                <a:cubicBezTo>
                  <a:pt x="348" y="323"/>
                  <a:pt x="376" y="330"/>
                  <a:pt x="376" y="330"/>
                </a:cubicBezTo>
                <a:cubicBezTo>
                  <a:pt x="414" y="327"/>
                  <a:pt x="429" y="276"/>
                  <a:pt x="429" y="276"/>
                </a:cubicBezTo>
                <a:cubicBezTo>
                  <a:pt x="436" y="253"/>
                  <a:pt x="418" y="253"/>
                  <a:pt x="418" y="253"/>
                </a:cubicBezTo>
                <a:cubicBezTo>
                  <a:pt x="433" y="233"/>
                  <a:pt x="434" y="174"/>
                  <a:pt x="434" y="174"/>
                </a:cubicBezTo>
                <a:cubicBezTo>
                  <a:pt x="438" y="104"/>
                  <a:pt x="421" y="83"/>
                  <a:pt x="421" y="83"/>
                </a:cubicBezTo>
                <a:cubicBezTo>
                  <a:pt x="351" y="0"/>
                  <a:pt x="287" y="8"/>
                  <a:pt x="287" y="8"/>
                </a:cubicBezTo>
                <a:cubicBezTo>
                  <a:pt x="218" y="6"/>
                  <a:pt x="178" y="41"/>
                  <a:pt x="151" y="68"/>
                </a:cubicBezTo>
                <a:cubicBezTo>
                  <a:pt x="123" y="96"/>
                  <a:pt x="124" y="163"/>
                  <a:pt x="124" y="163"/>
                </a:cubicBezTo>
                <a:cubicBezTo>
                  <a:pt x="121" y="217"/>
                  <a:pt x="142" y="252"/>
                  <a:pt x="142" y="25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50" name="Freeform 244"/>
          <p:cNvSpPr/>
          <p:nvPr/>
        </p:nvSpPr>
        <p:spPr>
          <a:xfrm>
            <a:off x="8431200" y="3879720"/>
            <a:ext cx="84240" cy="171720"/>
          </a:xfrm>
          <a:custGeom>
            <a:avLst/>
            <a:gdLst/>
            <a:ahLst/>
            <a:rect l="l" t="t" r="r" b="b"/>
            <a:pathLst>
              <a:path w="306" h="636">
                <a:moveTo>
                  <a:pt x="280" y="49"/>
                </a:moveTo>
                <a:cubicBezTo>
                  <a:pt x="277" y="53"/>
                  <a:pt x="273" y="55"/>
                  <a:pt x="267" y="55"/>
                </a:cubicBezTo>
                <a:lnTo>
                  <a:pt x="255" y="55"/>
                </a:lnTo>
                <a:lnTo>
                  <a:pt x="255" y="379"/>
                </a:lnTo>
                <a:lnTo>
                  <a:pt x="233" y="379"/>
                </a:lnTo>
                <a:lnTo>
                  <a:pt x="233" y="78"/>
                </a:lnTo>
                <a:lnTo>
                  <a:pt x="221" y="78"/>
                </a:lnTo>
                <a:lnTo>
                  <a:pt x="221" y="379"/>
                </a:lnTo>
                <a:lnTo>
                  <a:pt x="51" y="379"/>
                </a:lnTo>
                <a:lnTo>
                  <a:pt x="51" y="55"/>
                </a:lnTo>
                <a:lnTo>
                  <a:pt x="39" y="55"/>
                </a:lnTo>
                <a:cubicBezTo>
                  <a:pt x="34" y="55"/>
                  <a:pt x="30" y="53"/>
                  <a:pt x="27" y="49"/>
                </a:cubicBezTo>
                <a:cubicBezTo>
                  <a:pt x="25" y="45"/>
                  <a:pt x="24" y="42"/>
                  <a:pt x="23" y="40"/>
                </a:cubicBezTo>
                <a:cubicBezTo>
                  <a:pt x="25" y="26"/>
                  <a:pt x="34" y="23"/>
                  <a:pt x="40" y="23"/>
                </a:cubicBezTo>
                <a:lnTo>
                  <a:pt x="266" y="23"/>
                </a:lnTo>
                <a:cubicBezTo>
                  <a:pt x="272" y="23"/>
                  <a:pt x="282" y="26"/>
                  <a:pt x="283" y="40"/>
                </a:cubicBezTo>
                <a:cubicBezTo>
                  <a:pt x="283" y="42"/>
                  <a:pt x="282" y="45"/>
                  <a:pt x="280" y="49"/>
                </a:cubicBezTo>
                <a:close/>
                <a:moveTo>
                  <a:pt x="306" y="40"/>
                </a:moveTo>
                <a:cubicBezTo>
                  <a:pt x="305" y="8"/>
                  <a:pt x="280" y="0"/>
                  <a:pt x="266" y="0"/>
                </a:cubicBezTo>
                <a:lnTo>
                  <a:pt x="265" y="0"/>
                </a:lnTo>
                <a:lnTo>
                  <a:pt x="41" y="0"/>
                </a:lnTo>
                <a:lnTo>
                  <a:pt x="40" y="0"/>
                </a:lnTo>
                <a:cubicBezTo>
                  <a:pt x="26" y="0"/>
                  <a:pt x="1" y="8"/>
                  <a:pt x="0" y="40"/>
                </a:cubicBezTo>
                <a:lnTo>
                  <a:pt x="0" y="41"/>
                </a:lnTo>
                <a:lnTo>
                  <a:pt x="0" y="42"/>
                </a:lnTo>
                <a:cubicBezTo>
                  <a:pt x="1" y="53"/>
                  <a:pt x="9" y="72"/>
                  <a:pt x="28" y="77"/>
                </a:cubicBezTo>
                <a:lnTo>
                  <a:pt x="28" y="506"/>
                </a:lnTo>
                <a:cubicBezTo>
                  <a:pt x="28" y="508"/>
                  <a:pt x="28" y="539"/>
                  <a:pt x="43" y="571"/>
                </a:cubicBezTo>
                <a:cubicBezTo>
                  <a:pt x="56" y="599"/>
                  <a:pt x="84" y="632"/>
                  <a:pt x="140" y="636"/>
                </a:cubicBezTo>
                <a:lnTo>
                  <a:pt x="140" y="636"/>
                </a:lnTo>
                <a:lnTo>
                  <a:pt x="152" y="636"/>
                </a:lnTo>
                <a:lnTo>
                  <a:pt x="152" y="636"/>
                </a:lnTo>
                <a:lnTo>
                  <a:pt x="153" y="636"/>
                </a:lnTo>
                <a:lnTo>
                  <a:pt x="154" y="636"/>
                </a:lnTo>
                <a:lnTo>
                  <a:pt x="166" y="636"/>
                </a:lnTo>
                <a:lnTo>
                  <a:pt x="166" y="636"/>
                </a:lnTo>
                <a:cubicBezTo>
                  <a:pt x="222" y="632"/>
                  <a:pt x="250" y="599"/>
                  <a:pt x="263" y="571"/>
                </a:cubicBezTo>
                <a:cubicBezTo>
                  <a:pt x="279" y="539"/>
                  <a:pt x="279" y="508"/>
                  <a:pt x="279" y="506"/>
                </a:cubicBezTo>
                <a:lnTo>
                  <a:pt x="279" y="77"/>
                </a:lnTo>
                <a:cubicBezTo>
                  <a:pt x="298" y="72"/>
                  <a:pt x="305" y="53"/>
                  <a:pt x="306" y="42"/>
                </a:cubicBezTo>
                <a:lnTo>
                  <a:pt x="306" y="41"/>
                </a:lnTo>
                <a:lnTo>
                  <a:pt x="306" y="4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51" name="Freeform 245"/>
          <p:cNvSpPr/>
          <p:nvPr/>
        </p:nvSpPr>
        <p:spPr>
          <a:xfrm>
            <a:off x="8047080" y="5160960"/>
            <a:ext cx="146160" cy="192240"/>
          </a:xfrm>
          <a:custGeom>
            <a:avLst/>
            <a:gdLst/>
            <a:ahLst/>
            <a:rect l="l" t="t" r="r" b="b"/>
            <a:pathLst>
              <a:path w="545" h="716">
                <a:moveTo>
                  <a:pt x="141" y="386"/>
                </a:moveTo>
                <a:cubicBezTo>
                  <a:pt x="141" y="386"/>
                  <a:pt x="95" y="416"/>
                  <a:pt x="45" y="413"/>
                </a:cubicBezTo>
                <a:cubicBezTo>
                  <a:pt x="134" y="335"/>
                  <a:pt x="158" y="276"/>
                  <a:pt x="158" y="276"/>
                </a:cubicBezTo>
                <a:cubicBezTo>
                  <a:pt x="158" y="276"/>
                  <a:pt x="121" y="297"/>
                  <a:pt x="74" y="297"/>
                </a:cubicBezTo>
                <a:cubicBezTo>
                  <a:pt x="208" y="170"/>
                  <a:pt x="273" y="0"/>
                  <a:pt x="273" y="0"/>
                </a:cubicBezTo>
                <a:cubicBezTo>
                  <a:pt x="273" y="0"/>
                  <a:pt x="338" y="170"/>
                  <a:pt x="471" y="297"/>
                </a:cubicBezTo>
                <a:cubicBezTo>
                  <a:pt x="425" y="297"/>
                  <a:pt x="387" y="276"/>
                  <a:pt x="387" y="276"/>
                </a:cubicBezTo>
                <a:cubicBezTo>
                  <a:pt x="387" y="276"/>
                  <a:pt x="412" y="335"/>
                  <a:pt x="500" y="413"/>
                </a:cubicBezTo>
                <a:cubicBezTo>
                  <a:pt x="451" y="416"/>
                  <a:pt x="405" y="386"/>
                  <a:pt x="405" y="386"/>
                </a:cubicBezTo>
                <a:cubicBezTo>
                  <a:pt x="405" y="386"/>
                  <a:pt x="429" y="475"/>
                  <a:pt x="545" y="571"/>
                </a:cubicBezTo>
                <a:cubicBezTo>
                  <a:pt x="480" y="577"/>
                  <a:pt x="413" y="541"/>
                  <a:pt x="413" y="541"/>
                </a:cubicBezTo>
                <a:cubicBezTo>
                  <a:pt x="413" y="541"/>
                  <a:pt x="434" y="586"/>
                  <a:pt x="448" y="596"/>
                </a:cubicBezTo>
                <a:cubicBezTo>
                  <a:pt x="376" y="572"/>
                  <a:pt x="364" y="568"/>
                  <a:pt x="338" y="546"/>
                </a:cubicBezTo>
                <a:cubicBezTo>
                  <a:pt x="342" y="582"/>
                  <a:pt x="357" y="604"/>
                  <a:pt x="357" y="604"/>
                </a:cubicBezTo>
                <a:cubicBezTo>
                  <a:pt x="357" y="604"/>
                  <a:pt x="324" y="593"/>
                  <a:pt x="296" y="575"/>
                </a:cubicBezTo>
                <a:lnTo>
                  <a:pt x="296" y="716"/>
                </a:lnTo>
                <a:lnTo>
                  <a:pt x="249" y="716"/>
                </a:lnTo>
                <a:lnTo>
                  <a:pt x="249" y="575"/>
                </a:lnTo>
                <a:cubicBezTo>
                  <a:pt x="221" y="593"/>
                  <a:pt x="189" y="604"/>
                  <a:pt x="189" y="604"/>
                </a:cubicBezTo>
                <a:cubicBezTo>
                  <a:pt x="189" y="604"/>
                  <a:pt x="203" y="582"/>
                  <a:pt x="208" y="546"/>
                </a:cubicBezTo>
                <a:cubicBezTo>
                  <a:pt x="182" y="568"/>
                  <a:pt x="170" y="572"/>
                  <a:pt x="97" y="596"/>
                </a:cubicBezTo>
                <a:cubicBezTo>
                  <a:pt x="112" y="586"/>
                  <a:pt x="132" y="541"/>
                  <a:pt x="132" y="541"/>
                </a:cubicBezTo>
                <a:cubicBezTo>
                  <a:pt x="132" y="541"/>
                  <a:pt x="66" y="577"/>
                  <a:pt x="0" y="571"/>
                </a:cubicBezTo>
                <a:cubicBezTo>
                  <a:pt x="116" y="475"/>
                  <a:pt x="141" y="386"/>
                  <a:pt x="141" y="38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52" name="Freeform 246"/>
          <p:cNvSpPr/>
          <p:nvPr/>
        </p:nvSpPr>
        <p:spPr>
          <a:xfrm>
            <a:off x="4863960" y="2949480"/>
            <a:ext cx="166680" cy="160560"/>
          </a:xfrm>
          <a:custGeom>
            <a:avLst/>
            <a:gdLst/>
            <a:ahLst/>
            <a:rect l="l" t="t" r="r" b="b"/>
            <a:pathLst>
              <a:path w="624" h="603">
                <a:moveTo>
                  <a:pt x="0" y="396"/>
                </a:moveTo>
                <a:cubicBezTo>
                  <a:pt x="0" y="396"/>
                  <a:pt x="20" y="460"/>
                  <a:pt x="51" y="517"/>
                </a:cubicBezTo>
                <a:lnTo>
                  <a:pt x="572" y="517"/>
                </a:lnTo>
                <a:cubicBezTo>
                  <a:pt x="589" y="481"/>
                  <a:pt x="608" y="431"/>
                  <a:pt x="624" y="361"/>
                </a:cubicBezTo>
                <a:cubicBezTo>
                  <a:pt x="624" y="361"/>
                  <a:pt x="534" y="407"/>
                  <a:pt x="0" y="396"/>
                </a:cubicBezTo>
                <a:close/>
                <a:moveTo>
                  <a:pt x="335" y="384"/>
                </a:moveTo>
                <a:lnTo>
                  <a:pt x="335" y="21"/>
                </a:lnTo>
                <a:cubicBezTo>
                  <a:pt x="335" y="9"/>
                  <a:pt x="326" y="0"/>
                  <a:pt x="314" y="0"/>
                </a:cubicBezTo>
                <a:cubicBezTo>
                  <a:pt x="303" y="0"/>
                  <a:pt x="294" y="9"/>
                  <a:pt x="294" y="21"/>
                </a:cubicBezTo>
                <a:lnTo>
                  <a:pt x="294" y="387"/>
                </a:lnTo>
                <a:cubicBezTo>
                  <a:pt x="304" y="387"/>
                  <a:pt x="322" y="387"/>
                  <a:pt x="335" y="384"/>
                </a:cubicBezTo>
                <a:close/>
                <a:moveTo>
                  <a:pt x="51" y="367"/>
                </a:moveTo>
                <a:cubicBezTo>
                  <a:pt x="51" y="367"/>
                  <a:pt x="250" y="373"/>
                  <a:pt x="279" y="363"/>
                </a:cubicBezTo>
                <a:lnTo>
                  <a:pt x="279" y="22"/>
                </a:lnTo>
                <a:cubicBezTo>
                  <a:pt x="203" y="138"/>
                  <a:pt x="127" y="251"/>
                  <a:pt x="51" y="367"/>
                </a:cubicBezTo>
                <a:close/>
                <a:moveTo>
                  <a:pt x="142" y="603"/>
                </a:moveTo>
                <a:lnTo>
                  <a:pt x="499" y="603"/>
                </a:lnTo>
                <a:cubicBezTo>
                  <a:pt x="499" y="603"/>
                  <a:pt x="524" y="598"/>
                  <a:pt x="556" y="545"/>
                </a:cubicBezTo>
                <a:lnTo>
                  <a:pt x="68" y="545"/>
                </a:lnTo>
                <a:cubicBezTo>
                  <a:pt x="90" y="578"/>
                  <a:pt x="115" y="603"/>
                  <a:pt x="142" y="60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53" name="Freeform 247"/>
          <p:cNvSpPr/>
          <p:nvPr/>
        </p:nvSpPr>
        <p:spPr>
          <a:xfrm>
            <a:off x="8736120" y="4202280"/>
            <a:ext cx="117360" cy="185400"/>
          </a:xfrm>
          <a:custGeom>
            <a:avLst/>
            <a:gdLst/>
            <a:ahLst/>
            <a:rect l="l" t="t" r="r" b="b"/>
            <a:pathLst>
              <a:path w="441" h="699">
                <a:moveTo>
                  <a:pt x="119" y="15"/>
                </a:moveTo>
                <a:cubicBezTo>
                  <a:pt x="299" y="39"/>
                  <a:pt x="227" y="176"/>
                  <a:pt x="120" y="254"/>
                </a:cubicBezTo>
                <a:cubicBezTo>
                  <a:pt x="70" y="290"/>
                  <a:pt x="0" y="359"/>
                  <a:pt x="65" y="416"/>
                </a:cubicBezTo>
                <a:lnTo>
                  <a:pt x="390" y="417"/>
                </a:lnTo>
                <a:cubicBezTo>
                  <a:pt x="403" y="409"/>
                  <a:pt x="420" y="391"/>
                  <a:pt x="425" y="370"/>
                </a:cubicBezTo>
                <a:cubicBezTo>
                  <a:pt x="441" y="300"/>
                  <a:pt x="429" y="213"/>
                  <a:pt x="381" y="139"/>
                </a:cubicBezTo>
                <a:cubicBezTo>
                  <a:pt x="341" y="79"/>
                  <a:pt x="234" y="0"/>
                  <a:pt x="123" y="6"/>
                </a:cubicBezTo>
                <a:cubicBezTo>
                  <a:pt x="123" y="6"/>
                  <a:pt x="79" y="10"/>
                  <a:pt x="119" y="15"/>
                </a:cubicBezTo>
                <a:close/>
                <a:moveTo>
                  <a:pt x="82" y="523"/>
                </a:moveTo>
                <a:lnTo>
                  <a:pt x="92" y="570"/>
                </a:lnTo>
                <a:lnTo>
                  <a:pt x="362" y="570"/>
                </a:lnTo>
                <a:lnTo>
                  <a:pt x="373" y="523"/>
                </a:lnTo>
                <a:lnTo>
                  <a:pt x="82" y="523"/>
                </a:lnTo>
                <a:close/>
                <a:moveTo>
                  <a:pt x="97" y="595"/>
                </a:moveTo>
                <a:lnTo>
                  <a:pt x="106" y="637"/>
                </a:lnTo>
                <a:cubicBezTo>
                  <a:pt x="111" y="665"/>
                  <a:pt x="134" y="699"/>
                  <a:pt x="168" y="699"/>
                </a:cubicBezTo>
                <a:lnTo>
                  <a:pt x="283" y="699"/>
                </a:lnTo>
                <a:cubicBezTo>
                  <a:pt x="317" y="699"/>
                  <a:pt x="337" y="665"/>
                  <a:pt x="345" y="637"/>
                </a:cubicBezTo>
                <a:lnTo>
                  <a:pt x="356" y="595"/>
                </a:lnTo>
                <a:lnTo>
                  <a:pt x="97" y="595"/>
                </a:lnTo>
                <a:close/>
                <a:moveTo>
                  <a:pt x="379" y="499"/>
                </a:moveTo>
                <a:lnTo>
                  <a:pt x="394" y="436"/>
                </a:lnTo>
                <a:lnTo>
                  <a:pt x="64" y="436"/>
                </a:lnTo>
                <a:lnTo>
                  <a:pt x="77" y="499"/>
                </a:lnTo>
                <a:lnTo>
                  <a:pt x="379" y="499"/>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54" name="Freeform 248"/>
          <p:cNvSpPr/>
          <p:nvPr/>
        </p:nvSpPr>
        <p:spPr>
          <a:xfrm>
            <a:off x="9070920" y="4822920"/>
            <a:ext cx="138240" cy="158760"/>
          </a:xfrm>
          <a:custGeom>
            <a:avLst/>
            <a:gdLst/>
            <a:ahLst/>
            <a:rect l="l" t="t" r="r" b="b"/>
            <a:pathLst>
              <a:path w="512" h="596">
                <a:moveTo>
                  <a:pt x="471" y="550"/>
                </a:moveTo>
                <a:lnTo>
                  <a:pt x="0" y="550"/>
                </a:lnTo>
                <a:cubicBezTo>
                  <a:pt x="2" y="561"/>
                  <a:pt x="29" y="571"/>
                  <a:pt x="69" y="579"/>
                </a:cubicBezTo>
                <a:cubicBezTo>
                  <a:pt x="69" y="581"/>
                  <a:pt x="68" y="582"/>
                  <a:pt x="68" y="584"/>
                </a:cubicBezTo>
                <a:cubicBezTo>
                  <a:pt x="68" y="591"/>
                  <a:pt x="73" y="596"/>
                  <a:pt x="80" y="596"/>
                </a:cubicBezTo>
                <a:lnTo>
                  <a:pt x="391" y="596"/>
                </a:lnTo>
                <a:cubicBezTo>
                  <a:pt x="398" y="596"/>
                  <a:pt x="403" y="591"/>
                  <a:pt x="403" y="584"/>
                </a:cubicBezTo>
                <a:cubicBezTo>
                  <a:pt x="403" y="582"/>
                  <a:pt x="402" y="581"/>
                  <a:pt x="402" y="579"/>
                </a:cubicBezTo>
                <a:cubicBezTo>
                  <a:pt x="443" y="571"/>
                  <a:pt x="469" y="561"/>
                  <a:pt x="471" y="550"/>
                </a:cubicBezTo>
                <a:close/>
                <a:moveTo>
                  <a:pt x="223" y="53"/>
                </a:moveTo>
                <a:cubicBezTo>
                  <a:pt x="223" y="53"/>
                  <a:pt x="253" y="66"/>
                  <a:pt x="222" y="97"/>
                </a:cubicBezTo>
                <a:cubicBezTo>
                  <a:pt x="222" y="97"/>
                  <a:pt x="267" y="66"/>
                  <a:pt x="234" y="42"/>
                </a:cubicBezTo>
                <a:cubicBezTo>
                  <a:pt x="234" y="42"/>
                  <a:pt x="213" y="29"/>
                  <a:pt x="230" y="0"/>
                </a:cubicBezTo>
                <a:cubicBezTo>
                  <a:pt x="230" y="0"/>
                  <a:pt x="190" y="37"/>
                  <a:pt x="223" y="53"/>
                </a:cubicBezTo>
                <a:close/>
                <a:moveTo>
                  <a:pt x="180" y="65"/>
                </a:moveTo>
                <a:cubicBezTo>
                  <a:pt x="180" y="65"/>
                  <a:pt x="203" y="74"/>
                  <a:pt x="179" y="97"/>
                </a:cubicBezTo>
                <a:cubicBezTo>
                  <a:pt x="179" y="97"/>
                  <a:pt x="213" y="74"/>
                  <a:pt x="188" y="57"/>
                </a:cubicBezTo>
                <a:cubicBezTo>
                  <a:pt x="188" y="56"/>
                  <a:pt x="173" y="47"/>
                  <a:pt x="185" y="25"/>
                </a:cubicBezTo>
                <a:cubicBezTo>
                  <a:pt x="185" y="25"/>
                  <a:pt x="155" y="53"/>
                  <a:pt x="180" y="65"/>
                </a:cubicBezTo>
                <a:close/>
                <a:moveTo>
                  <a:pt x="268" y="65"/>
                </a:moveTo>
                <a:cubicBezTo>
                  <a:pt x="268" y="65"/>
                  <a:pt x="291" y="74"/>
                  <a:pt x="268" y="97"/>
                </a:cubicBezTo>
                <a:cubicBezTo>
                  <a:pt x="268" y="97"/>
                  <a:pt x="301" y="74"/>
                  <a:pt x="276" y="57"/>
                </a:cubicBezTo>
                <a:cubicBezTo>
                  <a:pt x="276" y="56"/>
                  <a:pt x="261" y="47"/>
                  <a:pt x="273" y="25"/>
                </a:cubicBezTo>
                <a:cubicBezTo>
                  <a:pt x="273" y="25"/>
                  <a:pt x="244" y="53"/>
                  <a:pt x="268" y="65"/>
                </a:cubicBezTo>
                <a:close/>
                <a:moveTo>
                  <a:pt x="396" y="349"/>
                </a:moveTo>
                <a:lnTo>
                  <a:pt x="393" y="349"/>
                </a:lnTo>
                <a:cubicBezTo>
                  <a:pt x="411" y="297"/>
                  <a:pt x="425" y="243"/>
                  <a:pt x="433" y="197"/>
                </a:cubicBezTo>
                <a:cubicBezTo>
                  <a:pt x="459" y="210"/>
                  <a:pt x="477" y="237"/>
                  <a:pt x="477" y="268"/>
                </a:cubicBezTo>
                <a:cubicBezTo>
                  <a:pt x="477" y="313"/>
                  <a:pt x="441" y="349"/>
                  <a:pt x="396" y="349"/>
                </a:cubicBezTo>
                <a:close/>
                <a:moveTo>
                  <a:pt x="439" y="161"/>
                </a:moveTo>
                <a:cubicBezTo>
                  <a:pt x="440" y="146"/>
                  <a:pt x="442" y="133"/>
                  <a:pt x="442" y="120"/>
                </a:cubicBezTo>
                <a:lnTo>
                  <a:pt x="25" y="120"/>
                </a:lnTo>
                <a:cubicBezTo>
                  <a:pt x="28" y="223"/>
                  <a:pt x="87" y="444"/>
                  <a:pt x="168" y="529"/>
                </a:cubicBezTo>
                <a:lnTo>
                  <a:pt x="298" y="529"/>
                </a:lnTo>
                <a:cubicBezTo>
                  <a:pt x="330" y="496"/>
                  <a:pt x="358" y="443"/>
                  <a:pt x="381" y="383"/>
                </a:cubicBezTo>
                <a:cubicBezTo>
                  <a:pt x="386" y="384"/>
                  <a:pt x="391" y="384"/>
                  <a:pt x="396" y="384"/>
                </a:cubicBezTo>
                <a:cubicBezTo>
                  <a:pt x="460" y="384"/>
                  <a:pt x="512" y="332"/>
                  <a:pt x="512" y="268"/>
                </a:cubicBezTo>
                <a:cubicBezTo>
                  <a:pt x="512" y="220"/>
                  <a:pt x="481" y="178"/>
                  <a:pt x="439" y="16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55" name="Freeform 249"/>
          <p:cNvSpPr/>
          <p:nvPr/>
        </p:nvSpPr>
        <p:spPr>
          <a:xfrm>
            <a:off x="9016920" y="4232160"/>
            <a:ext cx="247680" cy="128880"/>
          </a:xfrm>
          <a:custGeom>
            <a:avLst/>
            <a:gdLst/>
            <a:ahLst/>
            <a:rect l="l" t="t" r="r" b="b"/>
            <a:pathLst>
              <a:path w="927" h="475">
                <a:moveTo>
                  <a:pt x="783" y="65"/>
                </a:moveTo>
                <a:cubicBezTo>
                  <a:pt x="807" y="152"/>
                  <a:pt x="774" y="230"/>
                  <a:pt x="774" y="230"/>
                </a:cubicBezTo>
                <a:cubicBezTo>
                  <a:pt x="771" y="114"/>
                  <a:pt x="714" y="52"/>
                  <a:pt x="688" y="29"/>
                </a:cubicBezTo>
                <a:cubicBezTo>
                  <a:pt x="632" y="13"/>
                  <a:pt x="568" y="3"/>
                  <a:pt x="499" y="0"/>
                </a:cubicBezTo>
                <a:cubicBezTo>
                  <a:pt x="550" y="102"/>
                  <a:pt x="506" y="206"/>
                  <a:pt x="506" y="206"/>
                </a:cubicBezTo>
                <a:cubicBezTo>
                  <a:pt x="503" y="80"/>
                  <a:pt x="435" y="17"/>
                  <a:pt x="414" y="1"/>
                </a:cubicBezTo>
                <a:cubicBezTo>
                  <a:pt x="349" y="4"/>
                  <a:pt x="289" y="15"/>
                  <a:pt x="235" y="31"/>
                </a:cubicBezTo>
                <a:cubicBezTo>
                  <a:pt x="280" y="130"/>
                  <a:pt x="238" y="230"/>
                  <a:pt x="238" y="230"/>
                </a:cubicBezTo>
                <a:cubicBezTo>
                  <a:pt x="236" y="141"/>
                  <a:pt x="201" y="84"/>
                  <a:pt x="174" y="52"/>
                </a:cubicBezTo>
                <a:cubicBezTo>
                  <a:pt x="68" y="96"/>
                  <a:pt x="0" y="162"/>
                  <a:pt x="0" y="237"/>
                </a:cubicBezTo>
                <a:cubicBezTo>
                  <a:pt x="0" y="368"/>
                  <a:pt x="208" y="475"/>
                  <a:pt x="464" y="475"/>
                </a:cubicBezTo>
                <a:cubicBezTo>
                  <a:pt x="720" y="475"/>
                  <a:pt x="927" y="368"/>
                  <a:pt x="927" y="237"/>
                </a:cubicBezTo>
                <a:cubicBezTo>
                  <a:pt x="927" y="169"/>
                  <a:pt x="872" y="108"/>
                  <a:pt x="783" y="65"/>
                </a:cubicBezTo>
                <a:close/>
              </a:path>
            </a:pathLst>
          </a:custGeom>
          <a:solidFill>
            <a:srgbClr val="a6a6a6"/>
          </a:solidFill>
          <a:ln w="0">
            <a:noFill/>
          </a:ln>
        </p:spPr>
        <p:style>
          <a:lnRef idx="0"/>
          <a:fillRef idx="0"/>
          <a:effectRef idx="0"/>
          <a:fontRef idx="minor"/>
        </p:style>
        <p:txBody>
          <a:bodyPr lIns="145800" rIns="145800" tIns="56160" bIns="56160" anchor="t">
            <a:noAutofit/>
          </a:bodyPr>
          <a:p>
            <a:endParaRPr b="0" lang="en-US" sz="1800" spc="-1" strike="noStrike">
              <a:solidFill>
                <a:srgbClr val="000000"/>
              </a:solidFill>
              <a:latin typeface="Calibri"/>
            </a:endParaRPr>
          </a:p>
        </p:txBody>
      </p:sp>
      <p:sp>
        <p:nvSpPr>
          <p:cNvPr id="1856" name="Freeform 250"/>
          <p:cNvSpPr/>
          <p:nvPr/>
        </p:nvSpPr>
        <p:spPr>
          <a:xfrm>
            <a:off x="8397720" y="4214880"/>
            <a:ext cx="152640" cy="163440"/>
          </a:xfrm>
          <a:custGeom>
            <a:avLst/>
            <a:gdLst/>
            <a:ahLst/>
            <a:rect l="l" t="t" r="r" b="b"/>
            <a:pathLst>
              <a:path w="567" h="613">
                <a:moveTo>
                  <a:pt x="425" y="64"/>
                </a:moveTo>
                <a:cubicBezTo>
                  <a:pt x="417" y="64"/>
                  <a:pt x="409" y="64"/>
                  <a:pt x="401" y="66"/>
                </a:cubicBezTo>
                <a:cubicBezTo>
                  <a:pt x="376" y="26"/>
                  <a:pt x="332" y="0"/>
                  <a:pt x="282" y="0"/>
                </a:cubicBezTo>
                <a:cubicBezTo>
                  <a:pt x="233" y="0"/>
                  <a:pt x="189" y="26"/>
                  <a:pt x="164" y="65"/>
                </a:cubicBezTo>
                <a:cubicBezTo>
                  <a:pt x="156" y="64"/>
                  <a:pt x="149" y="64"/>
                  <a:pt x="141" y="64"/>
                </a:cubicBezTo>
                <a:cubicBezTo>
                  <a:pt x="63" y="64"/>
                  <a:pt x="0" y="127"/>
                  <a:pt x="0" y="205"/>
                </a:cubicBezTo>
                <a:cubicBezTo>
                  <a:pt x="0" y="238"/>
                  <a:pt x="11" y="267"/>
                  <a:pt x="30" y="291"/>
                </a:cubicBezTo>
                <a:lnTo>
                  <a:pt x="537" y="291"/>
                </a:lnTo>
                <a:cubicBezTo>
                  <a:pt x="555" y="267"/>
                  <a:pt x="567" y="238"/>
                  <a:pt x="567" y="205"/>
                </a:cubicBezTo>
                <a:cubicBezTo>
                  <a:pt x="567" y="127"/>
                  <a:pt x="503" y="64"/>
                  <a:pt x="425" y="64"/>
                </a:cubicBezTo>
                <a:close/>
                <a:moveTo>
                  <a:pt x="87" y="512"/>
                </a:moveTo>
                <a:cubicBezTo>
                  <a:pt x="95" y="558"/>
                  <a:pt x="132" y="613"/>
                  <a:pt x="187" y="613"/>
                </a:cubicBezTo>
                <a:lnTo>
                  <a:pt x="373" y="613"/>
                </a:lnTo>
                <a:cubicBezTo>
                  <a:pt x="428" y="613"/>
                  <a:pt x="460" y="558"/>
                  <a:pt x="473" y="512"/>
                </a:cubicBezTo>
                <a:lnTo>
                  <a:pt x="518" y="327"/>
                </a:lnTo>
                <a:lnTo>
                  <a:pt x="48" y="327"/>
                </a:lnTo>
                <a:lnTo>
                  <a:pt x="87" y="512"/>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57" name="Freeform 251"/>
          <p:cNvSpPr/>
          <p:nvPr/>
        </p:nvSpPr>
        <p:spPr>
          <a:xfrm>
            <a:off x="9408960" y="4229280"/>
            <a:ext cx="184320" cy="134640"/>
          </a:xfrm>
          <a:custGeom>
            <a:avLst/>
            <a:gdLst/>
            <a:ahLst/>
            <a:rect l="l" t="t" r="r" b="b"/>
            <a:pathLst>
              <a:path w="687" h="512">
                <a:moveTo>
                  <a:pt x="338" y="512"/>
                </a:moveTo>
                <a:cubicBezTo>
                  <a:pt x="474" y="512"/>
                  <a:pt x="584" y="438"/>
                  <a:pt x="588" y="345"/>
                </a:cubicBezTo>
                <a:lnTo>
                  <a:pt x="88" y="345"/>
                </a:lnTo>
                <a:cubicBezTo>
                  <a:pt x="92" y="438"/>
                  <a:pt x="202" y="512"/>
                  <a:pt x="338" y="512"/>
                </a:cubicBezTo>
                <a:close/>
                <a:moveTo>
                  <a:pt x="636" y="205"/>
                </a:moveTo>
                <a:cubicBezTo>
                  <a:pt x="640" y="198"/>
                  <a:pt x="687" y="165"/>
                  <a:pt x="633" y="180"/>
                </a:cubicBezTo>
                <a:cubicBezTo>
                  <a:pt x="579" y="194"/>
                  <a:pt x="559" y="221"/>
                  <a:pt x="529" y="205"/>
                </a:cubicBezTo>
                <a:cubicBezTo>
                  <a:pt x="498" y="189"/>
                  <a:pt x="493" y="163"/>
                  <a:pt x="445" y="187"/>
                </a:cubicBezTo>
                <a:cubicBezTo>
                  <a:pt x="396" y="210"/>
                  <a:pt x="337" y="203"/>
                  <a:pt x="320" y="196"/>
                </a:cubicBezTo>
                <a:cubicBezTo>
                  <a:pt x="303" y="189"/>
                  <a:pt x="244" y="172"/>
                  <a:pt x="211" y="194"/>
                </a:cubicBezTo>
                <a:cubicBezTo>
                  <a:pt x="177" y="216"/>
                  <a:pt x="167" y="210"/>
                  <a:pt x="122" y="201"/>
                </a:cubicBezTo>
                <a:cubicBezTo>
                  <a:pt x="76" y="192"/>
                  <a:pt x="71" y="185"/>
                  <a:pt x="36" y="185"/>
                </a:cubicBezTo>
                <a:cubicBezTo>
                  <a:pt x="0" y="185"/>
                  <a:pt x="31" y="194"/>
                  <a:pt x="46" y="205"/>
                </a:cubicBezTo>
                <a:cubicBezTo>
                  <a:pt x="61" y="216"/>
                  <a:pt x="91" y="236"/>
                  <a:pt x="91" y="236"/>
                </a:cubicBezTo>
                <a:lnTo>
                  <a:pt x="564" y="236"/>
                </a:lnTo>
                <a:cubicBezTo>
                  <a:pt x="564" y="236"/>
                  <a:pt x="621" y="237"/>
                  <a:pt x="636" y="205"/>
                </a:cubicBezTo>
                <a:close/>
                <a:moveTo>
                  <a:pt x="613" y="250"/>
                </a:moveTo>
                <a:lnTo>
                  <a:pt x="68" y="250"/>
                </a:lnTo>
                <a:cubicBezTo>
                  <a:pt x="53" y="255"/>
                  <a:pt x="42" y="268"/>
                  <a:pt x="42" y="285"/>
                </a:cubicBezTo>
                <a:cubicBezTo>
                  <a:pt x="42" y="305"/>
                  <a:pt x="59" y="322"/>
                  <a:pt x="79" y="322"/>
                </a:cubicBezTo>
                <a:lnTo>
                  <a:pt x="601" y="322"/>
                </a:lnTo>
                <a:cubicBezTo>
                  <a:pt x="622" y="322"/>
                  <a:pt x="638" y="305"/>
                  <a:pt x="638" y="285"/>
                </a:cubicBezTo>
                <a:cubicBezTo>
                  <a:pt x="638" y="268"/>
                  <a:pt x="627" y="255"/>
                  <a:pt x="613" y="250"/>
                </a:cubicBezTo>
                <a:close/>
                <a:moveTo>
                  <a:pt x="588" y="164"/>
                </a:moveTo>
                <a:cubicBezTo>
                  <a:pt x="582" y="73"/>
                  <a:pt x="473" y="0"/>
                  <a:pt x="338" y="0"/>
                </a:cubicBezTo>
                <a:cubicBezTo>
                  <a:pt x="203" y="0"/>
                  <a:pt x="93" y="73"/>
                  <a:pt x="88" y="164"/>
                </a:cubicBezTo>
                <a:lnTo>
                  <a:pt x="588" y="164"/>
                </a:lnTo>
                <a:close/>
              </a:path>
            </a:pathLst>
          </a:custGeom>
          <a:solidFill>
            <a:srgbClr val="a6a6a6"/>
          </a:solidFill>
          <a:ln w="0">
            <a:noFill/>
          </a:ln>
        </p:spPr>
        <p:style>
          <a:lnRef idx="0"/>
          <a:fillRef idx="0"/>
          <a:effectRef idx="0"/>
          <a:fontRef idx="minor"/>
        </p:style>
        <p:txBody>
          <a:bodyPr lIns="145800" rIns="145800" tIns="61920" bIns="61920" anchor="t">
            <a:noAutofit/>
          </a:bodyPr>
          <a:p>
            <a:endParaRPr b="0" lang="en-US" sz="1800" spc="-1" strike="noStrike">
              <a:solidFill>
                <a:srgbClr val="000000"/>
              </a:solidFill>
              <a:latin typeface="Calibri"/>
            </a:endParaRPr>
          </a:p>
        </p:txBody>
      </p:sp>
      <p:sp>
        <p:nvSpPr>
          <p:cNvPr id="1858" name="Freeform 252"/>
          <p:cNvSpPr/>
          <p:nvPr/>
        </p:nvSpPr>
        <p:spPr>
          <a:xfrm>
            <a:off x="6986520" y="2940120"/>
            <a:ext cx="190440" cy="179280"/>
          </a:xfrm>
          <a:custGeom>
            <a:avLst/>
            <a:gdLst/>
            <a:ahLst/>
            <a:rect l="l" t="t" r="r" b="b"/>
            <a:pathLst>
              <a:path w="713" h="669">
                <a:moveTo>
                  <a:pt x="624" y="655"/>
                </a:moveTo>
                <a:cubicBezTo>
                  <a:pt x="624" y="660"/>
                  <a:pt x="610" y="664"/>
                  <a:pt x="593" y="664"/>
                </a:cubicBezTo>
                <a:lnTo>
                  <a:pt x="572" y="664"/>
                </a:lnTo>
                <a:cubicBezTo>
                  <a:pt x="555" y="664"/>
                  <a:pt x="541" y="660"/>
                  <a:pt x="541" y="656"/>
                </a:cubicBezTo>
                <a:cubicBezTo>
                  <a:pt x="542" y="651"/>
                  <a:pt x="556" y="647"/>
                  <a:pt x="572" y="647"/>
                </a:cubicBezTo>
                <a:lnTo>
                  <a:pt x="594" y="647"/>
                </a:lnTo>
                <a:cubicBezTo>
                  <a:pt x="611" y="647"/>
                  <a:pt x="625" y="651"/>
                  <a:pt x="624" y="655"/>
                </a:cubicBezTo>
                <a:close/>
                <a:moveTo>
                  <a:pt x="497" y="624"/>
                </a:moveTo>
                <a:cubicBezTo>
                  <a:pt x="497" y="617"/>
                  <a:pt x="511" y="612"/>
                  <a:pt x="528" y="612"/>
                </a:cubicBezTo>
                <a:lnTo>
                  <a:pt x="550" y="612"/>
                </a:lnTo>
                <a:cubicBezTo>
                  <a:pt x="567" y="612"/>
                  <a:pt x="580" y="617"/>
                  <a:pt x="580" y="624"/>
                </a:cubicBezTo>
                <a:cubicBezTo>
                  <a:pt x="579" y="631"/>
                  <a:pt x="565" y="636"/>
                  <a:pt x="548" y="636"/>
                </a:cubicBezTo>
                <a:lnTo>
                  <a:pt x="527" y="636"/>
                </a:lnTo>
                <a:cubicBezTo>
                  <a:pt x="510" y="636"/>
                  <a:pt x="496" y="631"/>
                  <a:pt x="497" y="624"/>
                </a:cubicBezTo>
                <a:close/>
                <a:moveTo>
                  <a:pt x="318" y="663"/>
                </a:moveTo>
                <a:cubicBezTo>
                  <a:pt x="236" y="629"/>
                  <a:pt x="205" y="573"/>
                  <a:pt x="192" y="539"/>
                </a:cubicBezTo>
                <a:cubicBezTo>
                  <a:pt x="179" y="504"/>
                  <a:pt x="216" y="507"/>
                  <a:pt x="216" y="507"/>
                </a:cubicBezTo>
                <a:lnTo>
                  <a:pt x="384" y="507"/>
                </a:lnTo>
                <a:cubicBezTo>
                  <a:pt x="384" y="507"/>
                  <a:pt x="412" y="504"/>
                  <a:pt x="415" y="532"/>
                </a:cubicBezTo>
                <a:cubicBezTo>
                  <a:pt x="424" y="625"/>
                  <a:pt x="523" y="667"/>
                  <a:pt x="523" y="667"/>
                </a:cubicBezTo>
                <a:cubicBezTo>
                  <a:pt x="523" y="667"/>
                  <a:pt x="464" y="667"/>
                  <a:pt x="318" y="663"/>
                </a:cubicBezTo>
                <a:close/>
                <a:moveTo>
                  <a:pt x="247" y="662"/>
                </a:moveTo>
                <a:lnTo>
                  <a:pt x="225" y="661"/>
                </a:lnTo>
                <a:cubicBezTo>
                  <a:pt x="208" y="660"/>
                  <a:pt x="194" y="655"/>
                  <a:pt x="194" y="651"/>
                </a:cubicBezTo>
                <a:cubicBezTo>
                  <a:pt x="194" y="646"/>
                  <a:pt x="208" y="643"/>
                  <a:pt x="225" y="644"/>
                </a:cubicBezTo>
                <a:lnTo>
                  <a:pt x="247" y="645"/>
                </a:lnTo>
                <a:cubicBezTo>
                  <a:pt x="265" y="646"/>
                  <a:pt x="278" y="651"/>
                  <a:pt x="278" y="656"/>
                </a:cubicBezTo>
                <a:cubicBezTo>
                  <a:pt x="278" y="660"/>
                  <a:pt x="265" y="663"/>
                  <a:pt x="247" y="662"/>
                </a:cubicBezTo>
                <a:close/>
                <a:moveTo>
                  <a:pt x="188" y="635"/>
                </a:moveTo>
                <a:lnTo>
                  <a:pt x="167" y="634"/>
                </a:lnTo>
                <a:cubicBezTo>
                  <a:pt x="150" y="633"/>
                  <a:pt x="137" y="627"/>
                  <a:pt x="137" y="620"/>
                </a:cubicBezTo>
                <a:cubicBezTo>
                  <a:pt x="137" y="613"/>
                  <a:pt x="150" y="609"/>
                  <a:pt x="167" y="609"/>
                </a:cubicBezTo>
                <a:lnTo>
                  <a:pt x="188" y="610"/>
                </a:lnTo>
                <a:cubicBezTo>
                  <a:pt x="205" y="611"/>
                  <a:pt x="218" y="617"/>
                  <a:pt x="218" y="624"/>
                </a:cubicBezTo>
                <a:cubicBezTo>
                  <a:pt x="218" y="631"/>
                  <a:pt x="205" y="635"/>
                  <a:pt x="188" y="635"/>
                </a:cubicBezTo>
                <a:close/>
                <a:moveTo>
                  <a:pt x="106" y="587"/>
                </a:moveTo>
                <a:cubicBezTo>
                  <a:pt x="106" y="580"/>
                  <a:pt x="120" y="574"/>
                  <a:pt x="137" y="574"/>
                </a:cubicBezTo>
                <a:lnTo>
                  <a:pt x="158" y="574"/>
                </a:lnTo>
                <a:cubicBezTo>
                  <a:pt x="175" y="574"/>
                  <a:pt x="189" y="580"/>
                  <a:pt x="189" y="587"/>
                </a:cubicBezTo>
                <a:cubicBezTo>
                  <a:pt x="189" y="593"/>
                  <a:pt x="175" y="599"/>
                  <a:pt x="158" y="599"/>
                </a:cubicBezTo>
                <a:lnTo>
                  <a:pt x="137" y="599"/>
                </a:lnTo>
                <a:cubicBezTo>
                  <a:pt x="120" y="599"/>
                  <a:pt x="106" y="593"/>
                  <a:pt x="106" y="587"/>
                </a:cubicBezTo>
                <a:close/>
                <a:moveTo>
                  <a:pt x="75" y="546"/>
                </a:moveTo>
                <a:cubicBezTo>
                  <a:pt x="75" y="536"/>
                  <a:pt x="89" y="528"/>
                  <a:pt x="106" y="528"/>
                </a:cubicBezTo>
                <a:lnTo>
                  <a:pt x="127" y="528"/>
                </a:lnTo>
                <a:cubicBezTo>
                  <a:pt x="144" y="528"/>
                  <a:pt x="158" y="536"/>
                  <a:pt x="158" y="546"/>
                </a:cubicBezTo>
                <a:cubicBezTo>
                  <a:pt x="158" y="557"/>
                  <a:pt x="144" y="565"/>
                  <a:pt x="127" y="565"/>
                </a:cubicBezTo>
                <a:lnTo>
                  <a:pt x="106" y="565"/>
                </a:lnTo>
                <a:cubicBezTo>
                  <a:pt x="89" y="565"/>
                  <a:pt x="75" y="557"/>
                  <a:pt x="75" y="546"/>
                </a:cubicBezTo>
                <a:close/>
                <a:moveTo>
                  <a:pt x="56" y="495"/>
                </a:moveTo>
                <a:cubicBezTo>
                  <a:pt x="56" y="485"/>
                  <a:pt x="70" y="477"/>
                  <a:pt x="87" y="477"/>
                </a:cubicBezTo>
                <a:lnTo>
                  <a:pt x="109" y="477"/>
                </a:lnTo>
                <a:cubicBezTo>
                  <a:pt x="126" y="477"/>
                  <a:pt x="139" y="485"/>
                  <a:pt x="139" y="495"/>
                </a:cubicBezTo>
                <a:cubicBezTo>
                  <a:pt x="139" y="505"/>
                  <a:pt x="126" y="514"/>
                  <a:pt x="109" y="514"/>
                </a:cubicBezTo>
                <a:lnTo>
                  <a:pt x="87" y="514"/>
                </a:lnTo>
                <a:cubicBezTo>
                  <a:pt x="70" y="514"/>
                  <a:pt x="56" y="505"/>
                  <a:pt x="56" y="495"/>
                </a:cubicBezTo>
                <a:close/>
                <a:moveTo>
                  <a:pt x="45" y="439"/>
                </a:moveTo>
                <a:cubicBezTo>
                  <a:pt x="45" y="426"/>
                  <a:pt x="58" y="416"/>
                  <a:pt x="75" y="416"/>
                </a:cubicBezTo>
                <a:lnTo>
                  <a:pt x="97" y="416"/>
                </a:lnTo>
                <a:cubicBezTo>
                  <a:pt x="114" y="416"/>
                  <a:pt x="128" y="426"/>
                  <a:pt x="128" y="439"/>
                </a:cubicBezTo>
                <a:cubicBezTo>
                  <a:pt x="128" y="452"/>
                  <a:pt x="114" y="463"/>
                  <a:pt x="97" y="463"/>
                </a:cubicBezTo>
                <a:lnTo>
                  <a:pt x="75" y="463"/>
                </a:lnTo>
                <a:cubicBezTo>
                  <a:pt x="58" y="463"/>
                  <a:pt x="45" y="452"/>
                  <a:pt x="45" y="439"/>
                </a:cubicBezTo>
                <a:close/>
                <a:moveTo>
                  <a:pt x="75" y="342"/>
                </a:moveTo>
                <a:lnTo>
                  <a:pt x="97" y="342"/>
                </a:lnTo>
                <a:cubicBezTo>
                  <a:pt x="114" y="342"/>
                  <a:pt x="128" y="355"/>
                  <a:pt x="128" y="371"/>
                </a:cubicBezTo>
                <a:cubicBezTo>
                  <a:pt x="128" y="387"/>
                  <a:pt x="114" y="400"/>
                  <a:pt x="97" y="400"/>
                </a:cubicBezTo>
                <a:lnTo>
                  <a:pt x="75" y="400"/>
                </a:lnTo>
                <a:cubicBezTo>
                  <a:pt x="58" y="400"/>
                  <a:pt x="45" y="387"/>
                  <a:pt x="45" y="371"/>
                </a:cubicBezTo>
                <a:cubicBezTo>
                  <a:pt x="45" y="355"/>
                  <a:pt x="58" y="342"/>
                  <a:pt x="75" y="342"/>
                </a:cubicBezTo>
                <a:close/>
                <a:moveTo>
                  <a:pt x="75" y="268"/>
                </a:moveTo>
                <a:lnTo>
                  <a:pt x="97" y="268"/>
                </a:lnTo>
                <a:cubicBezTo>
                  <a:pt x="114" y="268"/>
                  <a:pt x="128" y="281"/>
                  <a:pt x="128" y="297"/>
                </a:cubicBezTo>
                <a:cubicBezTo>
                  <a:pt x="128" y="313"/>
                  <a:pt x="114" y="325"/>
                  <a:pt x="97" y="325"/>
                </a:cubicBezTo>
                <a:lnTo>
                  <a:pt x="75" y="325"/>
                </a:lnTo>
                <a:cubicBezTo>
                  <a:pt x="58" y="325"/>
                  <a:pt x="45" y="313"/>
                  <a:pt x="45" y="297"/>
                </a:cubicBezTo>
                <a:cubicBezTo>
                  <a:pt x="45" y="281"/>
                  <a:pt x="58" y="268"/>
                  <a:pt x="75" y="268"/>
                </a:cubicBezTo>
                <a:close/>
                <a:moveTo>
                  <a:pt x="75" y="192"/>
                </a:moveTo>
                <a:lnTo>
                  <a:pt x="97" y="192"/>
                </a:lnTo>
                <a:cubicBezTo>
                  <a:pt x="114" y="192"/>
                  <a:pt x="128" y="205"/>
                  <a:pt x="128" y="222"/>
                </a:cubicBezTo>
                <a:cubicBezTo>
                  <a:pt x="128" y="239"/>
                  <a:pt x="114" y="253"/>
                  <a:pt x="97" y="253"/>
                </a:cubicBezTo>
                <a:lnTo>
                  <a:pt x="75" y="253"/>
                </a:lnTo>
                <a:cubicBezTo>
                  <a:pt x="58" y="253"/>
                  <a:pt x="45" y="239"/>
                  <a:pt x="45" y="222"/>
                </a:cubicBezTo>
                <a:cubicBezTo>
                  <a:pt x="45" y="205"/>
                  <a:pt x="58" y="192"/>
                  <a:pt x="75" y="192"/>
                </a:cubicBezTo>
                <a:close/>
                <a:moveTo>
                  <a:pt x="75" y="114"/>
                </a:moveTo>
                <a:lnTo>
                  <a:pt x="97" y="114"/>
                </a:lnTo>
                <a:cubicBezTo>
                  <a:pt x="114" y="114"/>
                  <a:pt x="128" y="128"/>
                  <a:pt x="128" y="145"/>
                </a:cubicBezTo>
                <a:cubicBezTo>
                  <a:pt x="128" y="162"/>
                  <a:pt x="114" y="175"/>
                  <a:pt x="97" y="175"/>
                </a:cubicBezTo>
                <a:lnTo>
                  <a:pt x="75" y="175"/>
                </a:lnTo>
                <a:cubicBezTo>
                  <a:pt x="58" y="175"/>
                  <a:pt x="45" y="162"/>
                  <a:pt x="45" y="145"/>
                </a:cubicBezTo>
                <a:cubicBezTo>
                  <a:pt x="45" y="128"/>
                  <a:pt x="58" y="114"/>
                  <a:pt x="75" y="114"/>
                </a:cubicBezTo>
                <a:close/>
                <a:moveTo>
                  <a:pt x="75" y="35"/>
                </a:moveTo>
                <a:lnTo>
                  <a:pt x="97" y="35"/>
                </a:lnTo>
                <a:cubicBezTo>
                  <a:pt x="114" y="35"/>
                  <a:pt x="128" y="48"/>
                  <a:pt x="128" y="65"/>
                </a:cubicBezTo>
                <a:cubicBezTo>
                  <a:pt x="128" y="82"/>
                  <a:pt x="114" y="96"/>
                  <a:pt x="97" y="96"/>
                </a:cubicBezTo>
                <a:lnTo>
                  <a:pt x="75" y="96"/>
                </a:lnTo>
                <a:cubicBezTo>
                  <a:pt x="58" y="96"/>
                  <a:pt x="45" y="82"/>
                  <a:pt x="45" y="65"/>
                </a:cubicBezTo>
                <a:cubicBezTo>
                  <a:pt x="45" y="48"/>
                  <a:pt x="58" y="35"/>
                  <a:pt x="75" y="35"/>
                </a:cubicBezTo>
                <a:close/>
                <a:moveTo>
                  <a:pt x="161" y="292"/>
                </a:moveTo>
                <a:cubicBezTo>
                  <a:pt x="161" y="285"/>
                  <a:pt x="167" y="280"/>
                  <a:pt x="175" y="280"/>
                </a:cubicBezTo>
                <a:lnTo>
                  <a:pt x="377" y="280"/>
                </a:lnTo>
                <a:cubicBezTo>
                  <a:pt x="385" y="280"/>
                  <a:pt x="392" y="285"/>
                  <a:pt x="392" y="292"/>
                </a:cubicBezTo>
                <a:lnTo>
                  <a:pt x="392" y="469"/>
                </a:lnTo>
                <a:cubicBezTo>
                  <a:pt x="392" y="475"/>
                  <a:pt x="385" y="481"/>
                  <a:pt x="377" y="481"/>
                </a:cubicBezTo>
                <a:lnTo>
                  <a:pt x="175" y="481"/>
                </a:lnTo>
                <a:cubicBezTo>
                  <a:pt x="167" y="481"/>
                  <a:pt x="161" y="475"/>
                  <a:pt x="161" y="469"/>
                </a:cubicBezTo>
                <a:lnTo>
                  <a:pt x="161" y="292"/>
                </a:lnTo>
                <a:close/>
                <a:moveTo>
                  <a:pt x="161" y="57"/>
                </a:moveTo>
                <a:cubicBezTo>
                  <a:pt x="161" y="50"/>
                  <a:pt x="167" y="44"/>
                  <a:pt x="175" y="44"/>
                </a:cubicBezTo>
                <a:lnTo>
                  <a:pt x="377" y="44"/>
                </a:lnTo>
                <a:cubicBezTo>
                  <a:pt x="385" y="44"/>
                  <a:pt x="392" y="50"/>
                  <a:pt x="392" y="57"/>
                </a:cubicBezTo>
                <a:lnTo>
                  <a:pt x="392" y="248"/>
                </a:lnTo>
                <a:cubicBezTo>
                  <a:pt x="392" y="255"/>
                  <a:pt x="385" y="261"/>
                  <a:pt x="377" y="261"/>
                </a:cubicBezTo>
                <a:lnTo>
                  <a:pt x="175" y="261"/>
                </a:lnTo>
                <a:cubicBezTo>
                  <a:pt x="167" y="261"/>
                  <a:pt x="161" y="255"/>
                  <a:pt x="161" y="248"/>
                </a:cubicBezTo>
                <a:lnTo>
                  <a:pt x="161" y="57"/>
                </a:lnTo>
                <a:close/>
                <a:moveTo>
                  <a:pt x="455" y="185"/>
                </a:moveTo>
                <a:lnTo>
                  <a:pt x="477" y="185"/>
                </a:lnTo>
                <a:cubicBezTo>
                  <a:pt x="493" y="185"/>
                  <a:pt x="507" y="199"/>
                  <a:pt x="507" y="216"/>
                </a:cubicBezTo>
                <a:cubicBezTo>
                  <a:pt x="507" y="232"/>
                  <a:pt x="493" y="246"/>
                  <a:pt x="477" y="246"/>
                </a:cubicBezTo>
                <a:lnTo>
                  <a:pt x="455" y="246"/>
                </a:lnTo>
                <a:cubicBezTo>
                  <a:pt x="438" y="246"/>
                  <a:pt x="424" y="233"/>
                  <a:pt x="424" y="216"/>
                </a:cubicBezTo>
                <a:cubicBezTo>
                  <a:pt x="424" y="199"/>
                  <a:pt x="438" y="185"/>
                  <a:pt x="455" y="185"/>
                </a:cubicBezTo>
                <a:close/>
                <a:moveTo>
                  <a:pt x="455" y="107"/>
                </a:moveTo>
                <a:lnTo>
                  <a:pt x="477" y="107"/>
                </a:lnTo>
                <a:cubicBezTo>
                  <a:pt x="493" y="107"/>
                  <a:pt x="507" y="121"/>
                  <a:pt x="507" y="138"/>
                </a:cubicBezTo>
                <a:cubicBezTo>
                  <a:pt x="507" y="155"/>
                  <a:pt x="493" y="169"/>
                  <a:pt x="477" y="169"/>
                </a:cubicBezTo>
                <a:lnTo>
                  <a:pt x="455" y="169"/>
                </a:lnTo>
                <a:cubicBezTo>
                  <a:pt x="438" y="169"/>
                  <a:pt x="424" y="155"/>
                  <a:pt x="424" y="138"/>
                </a:cubicBezTo>
                <a:cubicBezTo>
                  <a:pt x="424" y="121"/>
                  <a:pt x="438" y="108"/>
                  <a:pt x="455" y="107"/>
                </a:cubicBezTo>
                <a:close/>
                <a:moveTo>
                  <a:pt x="455" y="28"/>
                </a:moveTo>
                <a:lnTo>
                  <a:pt x="477" y="28"/>
                </a:lnTo>
                <a:cubicBezTo>
                  <a:pt x="493" y="28"/>
                  <a:pt x="507" y="42"/>
                  <a:pt x="507" y="59"/>
                </a:cubicBezTo>
                <a:cubicBezTo>
                  <a:pt x="507" y="76"/>
                  <a:pt x="493" y="89"/>
                  <a:pt x="477" y="89"/>
                </a:cubicBezTo>
                <a:lnTo>
                  <a:pt x="455" y="89"/>
                </a:lnTo>
                <a:cubicBezTo>
                  <a:pt x="438" y="89"/>
                  <a:pt x="424" y="76"/>
                  <a:pt x="424" y="59"/>
                </a:cubicBezTo>
                <a:cubicBezTo>
                  <a:pt x="424" y="42"/>
                  <a:pt x="438" y="28"/>
                  <a:pt x="455" y="28"/>
                </a:cubicBezTo>
                <a:close/>
                <a:moveTo>
                  <a:pt x="476" y="325"/>
                </a:moveTo>
                <a:lnTo>
                  <a:pt x="454" y="325"/>
                </a:lnTo>
                <a:cubicBezTo>
                  <a:pt x="437" y="325"/>
                  <a:pt x="424" y="313"/>
                  <a:pt x="425" y="297"/>
                </a:cubicBezTo>
                <a:cubicBezTo>
                  <a:pt x="426" y="281"/>
                  <a:pt x="440" y="268"/>
                  <a:pt x="457" y="268"/>
                </a:cubicBezTo>
                <a:lnTo>
                  <a:pt x="479" y="268"/>
                </a:lnTo>
                <a:cubicBezTo>
                  <a:pt x="496" y="268"/>
                  <a:pt x="509" y="281"/>
                  <a:pt x="508" y="297"/>
                </a:cubicBezTo>
                <a:cubicBezTo>
                  <a:pt x="507" y="313"/>
                  <a:pt x="493" y="325"/>
                  <a:pt x="476" y="325"/>
                </a:cubicBezTo>
                <a:close/>
                <a:moveTo>
                  <a:pt x="425" y="371"/>
                </a:moveTo>
                <a:cubicBezTo>
                  <a:pt x="426" y="355"/>
                  <a:pt x="440" y="342"/>
                  <a:pt x="457" y="342"/>
                </a:cubicBezTo>
                <a:lnTo>
                  <a:pt x="479" y="342"/>
                </a:lnTo>
                <a:cubicBezTo>
                  <a:pt x="496" y="342"/>
                  <a:pt x="509" y="355"/>
                  <a:pt x="508" y="371"/>
                </a:cubicBezTo>
                <a:cubicBezTo>
                  <a:pt x="507" y="387"/>
                  <a:pt x="492" y="400"/>
                  <a:pt x="476" y="400"/>
                </a:cubicBezTo>
                <a:lnTo>
                  <a:pt x="454" y="400"/>
                </a:lnTo>
                <a:cubicBezTo>
                  <a:pt x="437" y="400"/>
                  <a:pt x="424" y="387"/>
                  <a:pt x="425" y="371"/>
                </a:cubicBezTo>
                <a:close/>
                <a:moveTo>
                  <a:pt x="480" y="463"/>
                </a:moveTo>
                <a:lnTo>
                  <a:pt x="459" y="463"/>
                </a:lnTo>
                <a:cubicBezTo>
                  <a:pt x="442" y="463"/>
                  <a:pt x="429" y="452"/>
                  <a:pt x="429" y="439"/>
                </a:cubicBezTo>
                <a:cubicBezTo>
                  <a:pt x="430" y="426"/>
                  <a:pt x="444" y="416"/>
                  <a:pt x="461" y="416"/>
                </a:cubicBezTo>
                <a:lnTo>
                  <a:pt x="483" y="416"/>
                </a:lnTo>
                <a:cubicBezTo>
                  <a:pt x="500" y="416"/>
                  <a:pt x="513" y="426"/>
                  <a:pt x="512" y="439"/>
                </a:cubicBezTo>
                <a:cubicBezTo>
                  <a:pt x="511" y="452"/>
                  <a:pt x="497" y="463"/>
                  <a:pt x="480" y="463"/>
                </a:cubicBezTo>
                <a:close/>
                <a:moveTo>
                  <a:pt x="521" y="495"/>
                </a:moveTo>
                <a:cubicBezTo>
                  <a:pt x="520" y="505"/>
                  <a:pt x="506" y="514"/>
                  <a:pt x="489" y="514"/>
                </a:cubicBezTo>
                <a:lnTo>
                  <a:pt x="467" y="514"/>
                </a:lnTo>
                <a:cubicBezTo>
                  <a:pt x="450" y="514"/>
                  <a:pt x="437" y="505"/>
                  <a:pt x="438" y="495"/>
                </a:cubicBezTo>
                <a:cubicBezTo>
                  <a:pt x="438" y="485"/>
                  <a:pt x="453" y="477"/>
                  <a:pt x="469" y="477"/>
                </a:cubicBezTo>
                <a:lnTo>
                  <a:pt x="491" y="477"/>
                </a:lnTo>
                <a:cubicBezTo>
                  <a:pt x="508" y="477"/>
                  <a:pt x="521" y="485"/>
                  <a:pt x="521" y="495"/>
                </a:cubicBezTo>
                <a:close/>
                <a:moveTo>
                  <a:pt x="536" y="546"/>
                </a:moveTo>
                <a:cubicBezTo>
                  <a:pt x="536" y="557"/>
                  <a:pt x="522" y="565"/>
                  <a:pt x="505" y="565"/>
                </a:cubicBezTo>
                <a:lnTo>
                  <a:pt x="483" y="565"/>
                </a:lnTo>
                <a:cubicBezTo>
                  <a:pt x="466" y="565"/>
                  <a:pt x="453" y="557"/>
                  <a:pt x="453" y="546"/>
                </a:cubicBezTo>
                <a:cubicBezTo>
                  <a:pt x="454" y="536"/>
                  <a:pt x="468" y="528"/>
                  <a:pt x="485" y="528"/>
                </a:cubicBezTo>
                <a:lnTo>
                  <a:pt x="507" y="528"/>
                </a:lnTo>
                <a:cubicBezTo>
                  <a:pt x="524" y="528"/>
                  <a:pt x="537" y="536"/>
                  <a:pt x="536" y="546"/>
                </a:cubicBezTo>
                <a:close/>
                <a:moveTo>
                  <a:pt x="552" y="587"/>
                </a:moveTo>
                <a:cubicBezTo>
                  <a:pt x="552" y="593"/>
                  <a:pt x="538" y="599"/>
                  <a:pt x="521" y="599"/>
                </a:cubicBezTo>
                <a:lnTo>
                  <a:pt x="499" y="599"/>
                </a:lnTo>
                <a:cubicBezTo>
                  <a:pt x="482" y="599"/>
                  <a:pt x="469" y="593"/>
                  <a:pt x="469" y="587"/>
                </a:cubicBezTo>
                <a:cubicBezTo>
                  <a:pt x="470" y="580"/>
                  <a:pt x="484" y="574"/>
                  <a:pt x="501" y="574"/>
                </a:cubicBezTo>
                <a:lnTo>
                  <a:pt x="522" y="574"/>
                </a:lnTo>
                <a:cubicBezTo>
                  <a:pt x="539" y="574"/>
                  <a:pt x="553" y="580"/>
                  <a:pt x="552" y="587"/>
                </a:cubicBezTo>
                <a:close/>
                <a:moveTo>
                  <a:pt x="534" y="427"/>
                </a:moveTo>
                <a:cubicBezTo>
                  <a:pt x="534" y="221"/>
                  <a:pt x="534" y="3"/>
                  <a:pt x="534" y="3"/>
                </a:cubicBezTo>
                <a:lnTo>
                  <a:pt x="24" y="0"/>
                </a:lnTo>
                <a:cubicBezTo>
                  <a:pt x="24" y="10"/>
                  <a:pt x="24" y="369"/>
                  <a:pt x="24" y="369"/>
                </a:cubicBezTo>
                <a:cubicBezTo>
                  <a:pt x="24" y="369"/>
                  <a:pt x="0" y="669"/>
                  <a:pt x="246" y="669"/>
                </a:cubicBezTo>
                <a:cubicBezTo>
                  <a:pt x="493" y="669"/>
                  <a:pt x="713" y="669"/>
                  <a:pt x="713" y="669"/>
                </a:cubicBezTo>
                <a:cubicBezTo>
                  <a:pt x="713" y="669"/>
                  <a:pt x="534" y="633"/>
                  <a:pt x="534" y="427"/>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59" name="Freeform 253"/>
          <p:cNvSpPr/>
          <p:nvPr/>
        </p:nvSpPr>
        <p:spPr>
          <a:xfrm>
            <a:off x="8045280" y="1173240"/>
            <a:ext cx="160560" cy="162000"/>
          </a:xfrm>
          <a:custGeom>
            <a:avLst/>
            <a:gdLst/>
            <a:ahLst/>
            <a:rect l="l" t="t" r="r" b="b"/>
            <a:pathLst>
              <a:path w="607" h="600">
                <a:moveTo>
                  <a:pt x="309" y="311"/>
                </a:moveTo>
                <a:cubicBezTo>
                  <a:pt x="295" y="279"/>
                  <a:pt x="282" y="247"/>
                  <a:pt x="269" y="216"/>
                </a:cubicBezTo>
                <a:lnTo>
                  <a:pt x="273" y="214"/>
                </a:lnTo>
                <a:cubicBezTo>
                  <a:pt x="297" y="203"/>
                  <a:pt x="319" y="190"/>
                  <a:pt x="339" y="177"/>
                </a:cubicBezTo>
                <a:cubicBezTo>
                  <a:pt x="358" y="206"/>
                  <a:pt x="373" y="237"/>
                  <a:pt x="387" y="268"/>
                </a:cubicBezTo>
                <a:cubicBezTo>
                  <a:pt x="365" y="282"/>
                  <a:pt x="341" y="295"/>
                  <a:pt x="317" y="307"/>
                </a:cubicBezTo>
                <a:cubicBezTo>
                  <a:pt x="314" y="308"/>
                  <a:pt x="311" y="309"/>
                  <a:pt x="309" y="311"/>
                </a:cubicBezTo>
                <a:close/>
                <a:moveTo>
                  <a:pt x="404" y="506"/>
                </a:moveTo>
                <a:cubicBezTo>
                  <a:pt x="414" y="501"/>
                  <a:pt x="424" y="496"/>
                  <a:pt x="434" y="491"/>
                </a:cubicBezTo>
                <a:cubicBezTo>
                  <a:pt x="434" y="495"/>
                  <a:pt x="434" y="500"/>
                  <a:pt x="434" y="504"/>
                </a:cubicBezTo>
                <a:cubicBezTo>
                  <a:pt x="434" y="519"/>
                  <a:pt x="434" y="533"/>
                  <a:pt x="433" y="546"/>
                </a:cubicBezTo>
                <a:cubicBezTo>
                  <a:pt x="430" y="548"/>
                  <a:pt x="428" y="549"/>
                  <a:pt x="425" y="551"/>
                </a:cubicBezTo>
                <a:cubicBezTo>
                  <a:pt x="422" y="552"/>
                  <a:pt x="420" y="553"/>
                  <a:pt x="417" y="554"/>
                </a:cubicBezTo>
                <a:cubicBezTo>
                  <a:pt x="411" y="541"/>
                  <a:pt x="403" y="527"/>
                  <a:pt x="396" y="510"/>
                </a:cubicBezTo>
                <a:cubicBezTo>
                  <a:pt x="399" y="509"/>
                  <a:pt x="401" y="508"/>
                  <a:pt x="404" y="506"/>
                </a:cubicBezTo>
                <a:close/>
                <a:moveTo>
                  <a:pt x="245" y="599"/>
                </a:moveTo>
                <a:lnTo>
                  <a:pt x="245" y="600"/>
                </a:lnTo>
                <a:cubicBezTo>
                  <a:pt x="209" y="593"/>
                  <a:pt x="175" y="579"/>
                  <a:pt x="145" y="561"/>
                </a:cubicBezTo>
                <a:cubicBezTo>
                  <a:pt x="157" y="563"/>
                  <a:pt x="170" y="564"/>
                  <a:pt x="184" y="564"/>
                </a:cubicBezTo>
                <a:cubicBezTo>
                  <a:pt x="188" y="564"/>
                  <a:pt x="193" y="564"/>
                  <a:pt x="198" y="563"/>
                </a:cubicBezTo>
                <a:cubicBezTo>
                  <a:pt x="223" y="578"/>
                  <a:pt x="251" y="589"/>
                  <a:pt x="279" y="596"/>
                </a:cubicBezTo>
                <a:cubicBezTo>
                  <a:pt x="267" y="598"/>
                  <a:pt x="256" y="599"/>
                  <a:pt x="245" y="599"/>
                </a:cubicBezTo>
                <a:close/>
                <a:moveTo>
                  <a:pt x="548" y="410"/>
                </a:moveTo>
                <a:cubicBezTo>
                  <a:pt x="539" y="443"/>
                  <a:pt x="524" y="475"/>
                  <a:pt x="505" y="503"/>
                </a:cubicBezTo>
                <a:cubicBezTo>
                  <a:pt x="502" y="505"/>
                  <a:pt x="499" y="507"/>
                  <a:pt x="496" y="510"/>
                </a:cubicBezTo>
                <a:cubicBezTo>
                  <a:pt x="502" y="488"/>
                  <a:pt x="506" y="465"/>
                  <a:pt x="509" y="443"/>
                </a:cubicBezTo>
                <a:cubicBezTo>
                  <a:pt x="523" y="432"/>
                  <a:pt x="536" y="421"/>
                  <a:pt x="548" y="410"/>
                </a:cubicBezTo>
                <a:close/>
                <a:moveTo>
                  <a:pt x="332" y="536"/>
                </a:moveTo>
                <a:cubicBezTo>
                  <a:pt x="336" y="541"/>
                  <a:pt x="341" y="546"/>
                  <a:pt x="346" y="551"/>
                </a:cubicBezTo>
                <a:cubicBezTo>
                  <a:pt x="355" y="559"/>
                  <a:pt x="363" y="566"/>
                  <a:pt x="371" y="573"/>
                </a:cubicBezTo>
                <a:cubicBezTo>
                  <a:pt x="364" y="576"/>
                  <a:pt x="357" y="578"/>
                  <a:pt x="351" y="580"/>
                </a:cubicBezTo>
                <a:cubicBezTo>
                  <a:pt x="331" y="571"/>
                  <a:pt x="311" y="560"/>
                  <a:pt x="293" y="548"/>
                </a:cubicBezTo>
                <a:cubicBezTo>
                  <a:pt x="306" y="545"/>
                  <a:pt x="319" y="541"/>
                  <a:pt x="332" y="536"/>
                </a:cubicBezTo>
                <a:close/>
                <a:moveTo>
                  <a:pt x="451" y="504"/>
                </a:moveTo>
                <a:cubicBezTo>
                  <a:pt x="451" y="497"/>
                  <a:pt x="450" y="489"/>
                  <a:pt x="450" y="482"/>
                </a:cubicBezTo>
                <a:cubicBezTo>
                  <a:pt x="464" y="474"/>
                  <a:pt x="478" y="465"/>
                  <a:pt x="491" y="456"/>
                </a:cubicBezTo>
                <a:cubicBezTo>
                  <a:pt x="488" y="479"/>
                  <a:pt x="482" y="501"/>
                  <a:pt x="475" y="523"/>
                </a:cubicBezTo>
                <a:cubicBezTo>
                  <a:pt x="467" y="528"/>
                  <a:pt x="458" y="533"/>
                  <a:pt x="450" y="538"/>
                </a:cubicBezTo>
                <a:cubicBezTo>
                  <a:pt x="450" y="527"/>
                  <a:pt x="451" y="516"/>
                  <a:pt x="451" y="504"/>
                </a:cubicBezTo>
                <a:close/>
                <a:moveTo>
                  <a:pt x="402" y="561"/>
                </a:moveTo>
                <a:cubicBezTo>
                  <a:pt x="397" y="563"/>
                  <a:pt x="393" y="565"/>
                  <a:pt x="388" y="567"/>
                </a:cubicBezTo>
                <a:cubicBezTo>
                  <a:pt x="378" y="558"/>
                  <a:pt x="369" y="550"/>
                  <a:pt x="357" y="539"/>
                </a:cubicBezTo>
                <a:cubicBezTo>
                  <a:pt x="354" y="536"/>
                  <a:pt x="352" y="533"/>
                  <a:pt x="349" y="530"/>
                </a:cubicBezTo>
                <a:cubicBezTo>
                  <a:pt x="359" y="526"/>
                  <a:pt x="370" y="522"/>
                  <a:pt x="381" y="517"/>
                </a:cubicBezTo>
                <a:cubicBezTo>
                  <a:pt x="388" y="533"/>
                  <a:pt x="395" y="548"/>
                  <a:pt x="402" y="561"/>
                </a:cubicBezTo>
                <a:close/>
                <a:moveTo>
                  <a:pt x="327" y="587"/>
                </a:moveTo>
                <a:lnTo>
                  <a:pt x="322" y="588"/>
                </a:lnTo>
                <a:cubicBezTo>
                  <a:pt x="289" y="584"/>
                  <a:pt x="258" y="575"/>
                  <a:pt x="228" y="561"/>
                </a:cubicBezTo>
                <a:cubicBezTo>
                  <a:pt x="243" y="559"/>
                  <a:pt x="257" y="556"/>
                  <a:pt x="272" y="553"/>
                </a:cubicBezTo>
                <a:cubicBezTo>
                  <a:pt x="290" y="566"/>
                  <a:pt x="308" y="577"/>
                  <a:pt x="327" y="587"/>
                </a:cubicBezTo>
                <a:close/>
                <a:moveTo>
                  <a:pt x="604" y="344"/>
                </a:moveTo>
                <a:cubicBezTo>
                  <a:pt x="599" y="380"/>
                  <a:pt x="587" y="415"/>
                  <a:pt x="571" y="446"/>
                </a:cubicBezTo>
                <a:lnTo>
                  <a:pt x="570" y="445"/>
                </a:lnTo>
                <a:cubicBezTo>
                  <a:pt x="561" y="455"/>
                  <a:pt x="551" y="465"/>
                  <a:pt x="541" y="474"/>
                </a:cubicBezTo>
                <a:cubicBezTo>
                  <a:pt x="555" y="447"/>
                  <a:pt x="564" y="418"/>
                  <a:pt x="570" y="388"/>
                </a:cubicBezTo>
                <a:cubicBezTo>
                  <a:pt x="584" y="373"/>
                  <a:pt x="595" y="359"/>
                  <a:pt x="604" y="344"/>
                </a:cubicBezTo>
                <a:close/>
                <a:moveTo>
                  <a:pt x="339" y="424"/>
                </a:moveTo>
                <a:cubicBezTo>
                  <a:pt x="351" y="452"/>
                  <a:pt x="362" y="478"/>
                  <a:pt x="373" y="501"/>
                </a:cubicBezTo>
                <a:cubicBezTo>
                  <a:pt x="360" y="507"/>
                  <a:pt x="348" y="512"/>
                  <a:pt x="335" y="516"/>
                </a:cubicBezTo>
                <a:cubicBezTo>
                  <a:pt x="314" y="495"/>
                  <a:pt x="296" y="471"/>
                  <a:pt x="279" y="447"/>
                </a:cubicBezTo>
                <a:cubicBezTo>
                  <a:pt x="299" y="440"/>
                  <a:pt x="319" y="433"/>
                  <a:pt x="339" y="424"/>
                </a:cubicBezTo>
                <a:close/>
                <a:moveTo>
                  <a:pt x="570" y="260"/>
                </a:moveTo>
                <a:cubicBezTo>
                  <a:pt x="580" y="247"/>
                  <a:pt x="589" y="234"/>
                  <a:pt x="596" y="221"/>
                </a:cubicBezTo>
                <a:cubicBezTo>
                  <a:pt x="602" y="246"/>
                  <a:pt x="606" y="271"/>
                  <a:pt x="607" y="298"/>
                </a:cubicBezTo>
                <a:lnTo>
                  <a:pt x="606" y="298"/>
                </a:lnTo>
                <a:lnTo>
                  <a:pt x="605" y="299"/>
                </a:lnTo>
                <a:lnTo>
                  <a:pt x="604" y="304"/>
                </a:lnTo>
                <a:cubicBezTo>
                  <a:pt x="598" y="320"/>
                  <a:pt x="588" y="338"/>
                  <a:pt x="575" y="355"/>
                </a:cubicBezTo>
                <a:cubicBezTo>
                  <a:pt x="576" y="345"/>
                  <a:pt x="576" y="335"/>
                  <a:pt x="576" y="324"/>
                </a:cubicBezTo>
                <a:cubicBezTo>
                  <a:pt x="576" y="302"/>
                  <a:pt x="574" y="281"/>
                  <a:pt x="570" y="260"/>
                </a:cubicBezTo>
                <a:close/>
                <a:moveTo>
                  <a:pt x="491" y="336"/>
                </a:moveTo>
                <a:cubicBezTo>
                  <a:pt x="494" y="355"/>
                  <a:pt x="496" y="375"/>
                  <a:pt x="496" y="395"/>
                </a:cubicBezTo>
                <a:cubicBezTo>
                  <a:pt x="496" y="407"/>
                  <a:pt x="495" y="420"/>
                  <a:pt x="494" y="432"/>
                </a:cubicBezTo>
                <a:cubicBezTo>
                  <a:pt x="480" y="442"/>
                  <a:pt x="465" y="452"/>
                  <a:pt x="449" y="462"/>
                </a:cubicBezTo>
                <a:cubicBezTo>
                  <a:pt x="447" y="432"/>
                  <a:pt x="443" y="403"/>
                  <a:pt x="437" y="374"/>
                </a:cubicBezTo>
                <a:cubicBezTo>
                  <a:pt x="456" y="362"/>
                  <a:pt x="474" y="349"/>
                  <a:pt x="491" y="336"/>
                </a:cubicBezTo>
                <a:close/>
                <a:moveTo>
                  <a:pt x="133" y="515"/>
                </a:moveTo>
                <a:cubicBezTo>
                  <a:pt x="145" y="526"/>
                  <a:pt x="157" y="536"/>
                  <a:pt x="170" y="546"/>
                </a:cubicBezTo>
                <a:cubicBezTo>
                  <a:pt x="152" y="545"/>
                  <a:pt x="136" y="542"/>
                  <a:pt x="122" y="537"/>
                </a:cubicBezTo>
                <a:cubicBezTo>
                  <a:pt x="115" y="535"/>
                  <a:pt x="109" y="532"/>
                  <a:pt x="103" y="529"/>
                </a:cubicBezTo>
                <a:lnTo>
                  <a:pt x="103" y="530"/>
                </a:lnTo>
                <a:cubicBezTo>
                  <a:pt x="79" y="509"/>
                  <a:pt x="59" y="485"/>
                  <a:pt x="43" y="458"/>
                </a:cubicBezTo>
                <a:cubicBezTo>
                  <a:pt x="47" y="460"/>
                  <a:pt x="50" y="461"/>
                  <a:pt x="54" y="462"/>
                </a:cubicBezTo>
                <a:cubicBezTo>
                  <a:pt x="66" y="467"/>
                  <a:pt x="79" y="469"/>
                  <a:pt x="94" y="471"/>
                </a:cubicBezTo>
                <a:cubicBezTo>
                  <a:pt x="106" y="487"/>
                  <a:pt x="119" y="502"/>
                  <a:pt x="133" y="515"/>
                </a:cubicBezTo>
                <a:close/>
                <a:moveTo>
                  <a:pt x="511" y="419"/>
                </a:moveTo>
                <a:cubicBezTo>
                  <a:pt x="511" y="411"/>
                  <a:pt x="512" y="403"/>
                  <a:pt x="512" y="395"/>
                </a:cubicBezTo>
                <a:cubicBezTo>
                  <a:pt x="512" y="371"/>
                  <a:pt x="510" y="347"/>
                  <a:pt x="506" y="324"/>
                </a:cubicBezTo>
                <a:cubicBezTo>
                  <a:pt x="525" y="308"/>
                  <a:pt x="542" y="292"/>
                  <a:pt x="556" y="276"/>
                </a:cubicBezTo>
                <a:cubicBezTo>
                  <a:pt x="559" y="292"/>
                  <a:pt x="560" y="308"/>
                  <a:pt x="560" y="324"/>
                </a:cubicBezTo>
                <a:cubicBezTo>
                  <a:pt x="560" y="342"/>
                  <a:pt x="558" y="360"/>
                  <a:pt x="555" y="378"/>
                </a:cubicBezTo>
                <a:cubicBezTo>
                  <a:pt x="543" y="392"/>
                  <a:pt x="528" y="405"/>
                  <a:pt x="511" y="419"/>
                </a:cubicBezTo>
                <a:close/>
                <a:moveTo>
                  <a:pt x="128" y="473"/>
                </a:moveTo>
                <a:cubicBezTo>
                  <a:pt x="146" y="473"/>
                  <a:pt x="165" y="472"/>
                  <a:pt x="185" y="469"/>
                </a:cubicBezTo>
                <a:cubicBezTo>
                  <a:pt x="198" y="486"/>
                  <a:pt x="213" y="502"/>
                  <a:pt x="229" y="517"/>
                </a:cubicBezTo>
                <a:cubicBezTo>
                  <a:pt x="237" y="525"/>
                  <a:pt x="245" y="532"/>
                  <a:pt x="253" y="539"/>
                </a:cubicBezTo>
                <a:cubicBezTo>
                  <a:pt x="235" y="542"/>
                  <a:pt x="217" y="545"/>
                  <a:pt x="200" y="546"/>
                </a:cubicBezTo>
                <a:cubicBezTo>
                  <a:pt x="180" y="534"/>
                  <a:pt x="161" y="520"/>
                  <a:pt x="144" y="503"/>
                </a:cubicBezTo>
                <a:cubicBezTo>
                  <a:pt x="134" y="494"/>
                  <a:pt x="125" y="484"/>
                  <a:pt x="116" y="473"/>
                </a:cubicBezTo>
                <a:cubicBezTo>
                  <a:pt x="120" y="473"/>
                  <a:pt x="124" y="473"/>
                  <a:pt x="128" y="473"/>
                </a:cubicBezTo>
                <a:close/>
                <a:moveTo>
                  <a:pt x="388" y="494"/>
                </a:moveTo>
                <a:cubicBezTo>
                  <a:pt x="378" y="471"/>
                  <a:pt x="366" y="445"/>
                  <a:pt x="354" y="418"/>
                </a:cubicBezTo>
                <a:cubicBezTo>
                  <a:pt x="360" y="415"/>
                  <a:pt x="365" y="413"/>
                  <a:pt x="371" y="410"/>
                </a:cubicBezTo>
                <a:cubicBezTo>
                  <a:pt x="388" y="401"/>
                  <a:pt x="405" y="392"/>
                  <a:pt x="422" y="383"/>
                </a:cubicBezTo>
                <a:cubicBezTo>
                  <a:pt x="428" y="412"/>
                  <a:pt x="432" y="441"/>
                  <a:pt x="433" y="471"/>
                </a:cubicBezTo>
                <a:cubicBezTo>
                  <a:pt x="422" y="478"/>
                  <a:pt x="409" y="484"/>
                  <a:pt x="397" y="490"/>
                </a:cubicBezTo>
                <a:cubicBezTo>
                  <a:pt x="394" y="492"/>
                  <a:pt x="391" y="493"/>
                  <a:pt x="388" y="494"/>
                </a:cubicBezTo>
                <a:close/>
                <a:moveTo>
                  <a:pt x="318" y="522"/>
                </a:moveTo>
                <a:cubicBezTo>
                  <a:pt x="303" y="527"/>
                  <a:pt x="288" y="531"/>
                  <a:pt x="274" y="534"/>
                </a:cubicBezTo>
                <a:cubicBezTo>
                  <a:pt x="262" y="525"/>
                  <a:pt x="251" y="516"/>
                  <a:pt x="240" y="505"/>
                </a:cubicBezTo>
                <a:cubicBezTo>
                  <a:pt x="227" y="493"/>
                  <a:pt x="215" y="480"/>
                  <a:pt x="204" y="466"/>
                </a:cubicBezTo>
                <a:cubicBezTo>
                  <a:pt x="223" y="462"/>
                  <a:pt x="243" y="457"/>
                  <a:pt x="263" y="452"/>
                </a:cubicBezTo>
                <a:cubicBezTo>
                  <a:pt x="279" y="476"/>
                  <a:pt x="298" y="500"/>
                  <a:pt x="318" y="522"/>
                </a:cubicBezTo>
                <a:close/>
                <a:moveTo>
                  <a:pt x="431" y="567"/>
                </a:moveTo>
                <a:cubicBezTo>
                  <a:pt x="431" y="571"/>
                  <a:pt x="431" y="574"/>
                  <a:pt x="430" y="577"/>
                </a:cubicBezTo>
                <a:lnTo>
                  <a:pt x="430" y="578"/>
                </a:lnTo>
                <a:cubicBezTo>
                  <a:pt x="428" y="575"/>
                  <a:pt x="427" y="573"/>
                  <a:pt x="425" y="570"/>
                </a:cubicBezTo>
                <a:cubicBezTo>
                  <a:pt x="427" y="569"/>
                  <a:pt x="429" y="568"/>
                  <a:pt x="431" y="567"/>
                </a:cubicBezTo>
                <a:close/>
                <a:moveTo>
                  <a:pt x="410" y="577"/>
                </a:moveTo>
                <a:cubicBezTo>
                  <a:pt x="412" y="579"/>
                  <a:pt x="413" y="582"/>
                  <a:pt x="414" y="584"/>
                </a:cubicBezTo>
                <a:lnTo>
                  <a:pt x="411" y="586"/>
                </a:lnTo>
                <a:cubicBezTo>
                  <a:pt x="409" y="584"/>
                  <a:pt x="406" y="582"/>
                  <a:pt x="404" y="580"/>
                </a:cubicBezTo>
                <a:cubicBezTo>
                  <a:pt x="406" y="579"/>
                  <a:pt x="408" y="578"/>
                  <a:pt x="410" y="577"/>
                </a:cubicBezTo>
                <a:close/>
                <a:moveTo>
                  <a:pt x="465" y="550"/>
                </a:moveTo>
                <a:lnTo>
                  <a:pt x="463" y="553"/>
                </a:lnTo>
                <a:cubicBezTo>
                  <a:pt x="458" y="558"/>
                  <a:pt x="453" y="563"/>
                  <a:pt x="448" y="567"/>
                </a:cubicBezTo>
                <a:lnTo>
                  <a:pt x="448" y="568"/>
                </a:lnTo>
                <a:lnTo>
                  <a:pt x="447" y="569"/>
                </a:lnTo>
                <a:cubicBezTo>
                  <a:pt x="448" y="565"/>
                  <a:pt x="448" y="562"/>
                  <a:pt x="448" y="559"/>
                </a:cubicBezTo>
                <a:cubicBezTo>
                  <a:pt x="454" y="556"/>
                  <a:pt x="459" y="553"/>
                  <a:pt x="465" y="550"/>
                </a:cubicBezTo>
                <a:close/>
                <a:moveTo>
                  <a:pt x="390" y="590"/>
                </a:moveTo>
                <a:cubicBezTo>
                  <a:pt x="386" y="590"/>
                  <a:pt x="381" y="591"/>
                  <a:pt x="377" y="591"/>
                </a:cubicBezTo>
                <a:lnTo>
                  <a:pt x="376" y="590"/>
                </a:lnTo>
                <a:cubicBezTo>
                  <a:pt x="379" y="589"/>
                  <a:pt x="383" y="588"/>
                  <a:pt x="386" y="586"/>
                </a:cubicBezTo>
                <a:lnTo>
                  <a:pt x="390" y="590"/>
                </a:lnTo>
                <a:close/>
                <a:moveTo>
                  <a:pt x="332" y="408"/>
                </a:moveTo>
                <a:cubicBezTo>
                  <a:pt x="311" y="417"/>
                  <a:pt x="290" y="425"/>
                  <a:pt x="269" y="431"/>
                </a:cubicBezTo>
                <a:cubicBezTo>
                  <a:pt x="254" y="409"/>
                  <a:pt x="241" y="385"/>
                  <a:pt x="230" y="361"/>
                </a:cubicBezTo>
                <a:cubicBezTo>
                  <a:pt x="253" y="353"/>
                  <a:pt x="277" y="344"/>
                  <a:pt x="300" y="334"/>
                </a:cubicBezTo>
                <a:cubicBezTo>
                  <a:pt x="311" y="359"/>
                  <a:pt x="322" y="384"/>
                  <a:pt x="332" y="408"/>
                </a:cubicBezTo>
                <a:close/>
                <a:moveTo>
                  <a:pt x="325" y="323"/>
                </a:moveTo>
                <a:cubicBezTo>
                  <a:pt x="349" y="311"/>
                  <a:pt x="372" y="298"/>
                  <a:pt x="393" y="285"/>
                </a:cubicBezTo>
                <a:cubicBezTo>
                  <a:pt x="403" y="311"/>
                  <a:pt x="411" y="337"/>
                  <a:pt x="418" y="364"/>
                </a:cubicBezTo>
                <a:cubicBezTo>
                  <a:pt x="400" y="375"/>
                  <a:pt x="382" y="385"/>
                  <a:pt x="363" y="394"/>
                </a:cubicBezTo>
                <a:cubicBezTo>
                  <a:pt x="358" y="396"/>
                  <a:pt x="352" y="399"/>
                  <a:pt x="347" y="401"/>
                </a:cubicBezTo>
                <a:cubicBezTo>
                  <a:pt x="337" y="377"/>
                  <a:pt x="326" y="352"/>
                  <a:pt x="315" y="327"/>
                </a:cubicBezTo>
                <a:cubicBezTo>
                  <a:pt x="318" y="326"/>
                  <a:pt x="322" y="324"/>
                  <a:pt x="325" y="323"/>
                </a:cubicBezTo>
                <a:close/>
                <a:moveTo>
                  <a:pt x="59" y="446"/>
                </a:moveTo>
                <a:cubicBezTo>
                  <a:pt x="47" y="441"/>
                  <a:pt x="37" y="436"/>
                  <a:pt x="29" y="429"/>
                </a:cubicBezTo>
                <a:lnTo>
                  <a:pt x="28" y="430"/>
                </a:lnTo>
                <a:cubicBezTo>
                  <a:pt x="20" y="412"/>
                  <a:pt x="14" y="394"/>
                  <a:pt x="9" y="376"/>
                </a:cubicBezTo>
                <a:cubicBezTo>
                  <a:pt x="21" y="380"/>
                  <a:pt x="34" y="382"/>
                  <a:pt x="48" y="384"/>
                </a:cubicBezTo>
                <a:cubicBezTo>
                  <a:pt x="56" y="407"/>
                  <a:pt x="67" y="430"/>
                  <a:pt x="80" y="451"/>
                </a:cubicBezTo>
                <a:cubicBezTo>
                  <a:pt x="73" y="450"/>
                  <a:pt x="66" y="448"/>
                  <a:pt x="59" y="446"/>
                </a:cubicBezTo>
                <a:close/>
                <a:moveTo>
                  <a:pt x="407" y="276"/>
                </a:moveTo>
                <a:cubicBezTo>
                  <a:pt x="427" y="263"/>
                  <a:pt x="445" y="249"/>
                  <a:pt x="462" y="235"/>
                </a:cubicBezTo>
                <a:cubicBezTo>
                  <a:pt x="474" y="261"/>
                  <a:pt x="482" y="288"/>
                  <a:pt x="488" y="316"/>
                </a:cubicBezTo>
                <a:cubicBezTo>
                  <a:pt x="471" y="330"/>
                  <a:pt x="452" y="343"/>
                  <a:pt x="432" y="355"/>
                </a:cubicBezTo>
                <a:cubicBezTo>
                  <a:pt x="426" y="328"/>
                  <a:pt x="417" y="302"/>
                  <a:pt x="407" y="276"/>
                </a:cubicBezTo>
                <a:close/>
                <a:moveTo>
                  <a:pt x="134" y="382"/>
                </a:moveTo>
                <a:cubicBezTo>
                  <a:pt x="145" y="407"/>
                  <a:pt x="158" y="430"/>
                  <a:pt x="173" y="452"/>
                </a:cubicBezTo>
                <a:cubicBezTo>
                  <a:pt x="158" y="454"/>
                  <a:pt x="143" y="456"/>
                  <a:pt x="128" y="456"/>
                </a:cubicBezTo>
                <a:cubicBezTo>
                  <a:pt x="119" y="456"/>
                  <a:pt x="110" y="455"/>
                  <a:pt x="102" y="454"/>
                </a:cubicBezTo>
                <a:cubicBezTo>
                  <a:pt x="87" y="433"/>
                  <a:pt x="75" y="410"/>
                  <a:pt x="66" y="386"/>
                </a:cubicBezTo>
                <a:cubicBezTo>
                  <a:pt x="71" y="386"/>
                  <a:pt x="77" y="386"/>
                  <a:pt x="82" y="386"/>
                </a:cubicBezTo>
                <a:cubicBezTo>
                  <a:pt x="99" y="386"/>
                  <a:pt x="116" y="385"/>
                  <a:pt x="134" y="382"/>
                </a:cubicBezTo>
                <a:close/>
                <a:moveTo>
                  <a:pt x="502" y="305"/>
                </a:moveTo>
                <a:cubicBezTo>
                  <a:pt x="496" y="277"/>
                  <a:pt x="487" y="250"/>
                  <a:pt x="475" y="224"/>
                </a:cubicBezTo>
                <a:cubicBezTo>
                  <a:pt x="493" y="208"/>
                  <a:pt x="509" y="191"/>
                  <a:pt x="522" y="175"/>
                </a:cubicBezTo>
                <a:cubicBezTo>
                  <a:pt x="536" y="199"/>
                  <a:pt x="546" y="226"/>
                  <a:pt x="552" y="254"/>
                </a:cubicBezTo>
                <a:cubicBezTo>
                  <a:pt x="538" y="271"/>
                  <a:pt x="521" y="288"/>
                  <a:pt x="502" y="305"/>
                </a:cubicBezTo>
                <a:close/>
                <a:moveTo>
                  <a:pt x="553" y="129"/>
                </a:moveTo>
                <a:cubicBezTo>
                  <a:pt x="567" y="150"/>
                  <a:pt x="579" y="173"/>
                  <a:pt x="588" y="197"/>
                </a:cubicBezTo>
                <a:cubicBezTo>
                  <a:pt x="582" y="211"/>
                  <a:pt x="574" y="224"/>
                  <a:pt x="565" y="238"/>
                </a:cubicBezTo>
                <a:cubicBezTo>
                  <a:pt x="557" y="211"/>
                  <a:pt x="547" y="185"/>
                  <a:pt x="533" y="160"/>
                </a:cubicBezTo>
                <a:cubicBezTo>
                  <a:pt x="541" y="150"/>
                  <a:pt x="547" y="140"/>
                  <a:pt x="553" y="129"/>
                </a:cubicBezTo>
                <a:close/>
                <a:moveTo>
                  <a:pt x="252" y="436"/>
                </a:moveTo>
                <a:cubicBezTo>
                  <a:pt x="232" y="442"/>
                  <a:pt x="211" y="447"/>
                  <a:pt x="191" y="450"/>
                </a:cubicBezTo>
                <a:cubicBezTo>
                  <a:pt x="175" y="428"/>
                  <a:pt x="161" y="404"/>
                  <a:pt x="150" y="380"/>
                </a:cubicBezTo>
                <a:cubicBezTo>
                  <a:pt x="171" y="376"/>
                  <a:pt x="192" y="371"/>
                  <a:pt x="214" y="365"/>
                </a:cubicBezTo>
                <a:cubicBezTo>
                  <a:pt x="225" y="390"/>
                  <a:pt x="238" y="413"/>
                  <a:pt x="252" y="436"/>
                </a:cubicBezTo>
                <a:close/>
                <a:moveTo>
                  <a:pt x="169" y="46"/>
                </a:moveTo>
                <a:cubicBezTo>
                  <a:pt x="169" y="41"/>
                  <a:pt x="169" y="35"/>
                  <a:pt x="170" y="30"/>
                </a:cubicBezTo>
                <a:cubicBezTo>
                  <a:pt x="172" y="29"/>
                  <a:pt x="174" y="28"/>
                  <a:pt x="176" y="27"/>
                </a:cubicBezTo>
                <a:cubicBezTo>
                  <a:pt x="177" y="31"/>
                  <a:pt x="179" y="35"/>
                  <a:pt x="181" y="40"/>
                </a:cubicBezTo>
                <a:cubicBezTo>
                  <a:pt x="177" y="42"/>
                  <a:pt x="173" y="44"/>
                  <a:pt x="169" y="46"/>
                </a:cubicBezTo>
                <a:close/>
                <a:moveTo>
                  <a:pt x="196" y="33"/>
                </a:moveTo>
                <a:cubicBezTo>
                  <a:pt x="194" y="28"/>
                  <a:pt x="192" y="24"/>
                  <a:pt x="191" y="20"/>
                </a:cubicBezTo>
                <a:cubicBezTo>
                  <a:pt x="194" y="19"/>
                  <a:pt x="197" y="18"/>
                  <a:pt x="199" y="17"/>
                </a:cubicBezTo>
                <a:cubicBezTo>
                  <a:pt x="203" y="20"/>
                  <a:pt x="206" y="23"/>
                  <a:pt x="209" y="26"/>
                </a:cubicBezTo>
                <a:cubicBezTo>
                  <a:pt x="205" y="28"/>
                  <a:pt x="200" y="31"/>
                  <a:pt x="196" y="33"/>
                </a:cubicBezTo>
                <a:close/>
                <a:moveTo>
                  <a:pt x="219" y="12"/>
                </a:moveTo>
                <a:cubicBezTo>
                  <a:pt x="221" y="13"/>
                  <a:pt x="224" y="15"/>
                  <a:pt x="227" y="16"/>
                </a:cubicBezTo>
                <a:lnTo>
                  <a:pt x="224" y="17"/>
                </a:lnTo>
                <a:lnTo>
                  <a:pt x="219" y="12"/>
                </a:lnTo>
                <a:close/>
                <a:moveTo>
                  <a:pt x="129" y="56"/>
                </a:moveTo>
                <a:cubicBezTo>
                  <a:pt x="128" y="58"/>
                  <a:pt x="127" y="60"/>
                  <a:pt x="126" y="62"/>
                </a:cubicBezTo>
                <a:lnTo>
                  <a:pt x="122" y="63"/>
                </a:lnTo>
                <a:cubicBezTo>
                  <a:pt x="124" y="61"/>
                  <a:pt x="126" y="58"/>
                  <a:pt x="129" y="56"/>
                </a:cubicBezTo>
                <a:close/>
                <a:moveTo>
                  <a:pt x="153" y="41"/>
                </a:moveTo>
                <a:cubicBezTo>
                  <a:pt x="153" y="45"/>
                  <a:pt x="153" y="49"/>
                  <a:pt x="153" y="53"/>
                </a:cubicBezTo>
                <a:lnTo>
                  <a:pt x="147" y="55"/>
                </a:lnTo>
                <a:cubicBezTo>
                  <a:pt x="149" y="50"/>
                  <a:pt x="151" y="46"/>
                  <a:pt x="153" y="41"/>
                </a:cubicBezTo>
                <a:close/>
                <a:moveTo>
                  <a:pt x="398" y="108"/>
                </a:moveTo>
                <a:cubicBezTo>
                  <a:pt x="379" y="87"/>
                  <a:pt x="357" y="69"/>
                  <a:pt x="334" y="52"/>
                </a:cubicBezTo>
                <a:cubicBezTo>
                  <a:pt x="343" y="44"/>
                  <a:pt x="351" y="36"/>
                  <a:pt x="359" y="28"/>
                </a:cubicBezTo>
                <a:cubicBezTo>
                  <a:pt x="385" y="38"/>
                  <a:pt x="410" y="53"/>
                  <a:pt x="432" y="70"/>
                </a:cubicBezTo>
                <a:cubicBezTo>
                  <a:pt x="423" y="82"/>
                  <a:pt x="411" y="95"/>
                  <a:pt x="398" y="108"/>
                </a:cubicBezTo>
                <a:close/>
                <a:moveTo>
                  <a:pt x="100" y="248"/>
                </a:moveTo>
                <a:cubicBezTo>
                  <a:pt x="89" y="249"/>
                  <a:pt x="79" y="250"/>
                  <a:pt x="69" y="250"/>
                </a:cubicBezTo>
                <a:cubicBezTo>
                  <a:pt x="61" y="250"/>
                  <a:pt x="53" y="249"/>
                  <a:pt x="46" y="248"/>
                </a:cubicBezTo>
                <a:cubicBezTo>
                  <a:pt x="48" y="221"/>
                  <a:pt x="53" y="194"/>
                  <a:pt x="62" y="168"/>
                </a:cubicBezTo>
                <a:cubicBezTo>
                  <a:pt x="75" y="167"/>
                  <a:pt x="88" y="166"/>
                  <a:pt x="101" y="163"/>
                </a:cubicBezTo>
                <a:cubicBezTo>
                  <a:pt x="98" y="192"/>
                  <a:pt x="97" y="220"/>
                  <a:pt x="100" y="248"/>
                </a:cubicBezTo>
                <a:close/>
                <a:moveTo>
                  <a:pt x="185" y="230"/>
                </a:moveTo>
                <a:cubicBezTo>
                  <a:pt x="179" y="202"/>
                  <a:pt x="174" y="174"/>
                  <a:pt x="171" y="145"/>
                </a:cubicBezTo>
                <a:cubicBezTo>
                  <a:pt x="186" y="140"/>
                  <a:pt x="201" y="134"/>
                  <a:pt x="216" y="127"/>
                </a:cubicBezTo>
                <a:cubicBezTo>
                  <a:pt x="225" y="151"/>
                  <a:pt x="236" y="178"/>
                  <a:pt x="248" y="206"/>
                </a:cubicBezTo>
                <a:cubicBezTo>
                  <a:pt x="227" y="216"/>
                  <a:pt x="206" y="224"/>
                  <a:pt x="185" y="230"/>
                </a:cubicBezTo>
                <a:close/>
                <a:moveTo>
                  <a:pt x="266" y="198"/>
                </a:moveTo>
                <a:lnTo>
                  <a:pt x="263" y="200"/>
                </a:lnTo>
                <a:cubicBezTo>
                  <a:pt x="251" y="171"/>
                  <a:pt x="240" y="144"/>
                  <a:pt x="231" y="120"/>
                </a:cubicBezTo>
                <a:cubicBezTo>
                  <a:pt x="247" y="112"/>
                  <a:pt x="263" y="103"/>
                  <a:pt x="278" y="94"/>
                </a:cubicBezTo>
                <a:cubicBezTo>
                  <a:pt x="297" y="115"/>
                  <a:pt x="314" y="138"/>
                  <a:pt x="330" y="162"/>
                </a:cubicBezTo>
                <a:cubicBezTo>
                  <a:pt x="310" y="175"/>
                  <a:pt x="288" y="187"/>
                  <a:pt x="266" y="198"/>
                </a:cubicBezTo>
                <a:close/>
                <a:moveTo>
                  <a:pt x="118" y="160"/>
                </a:moveTo>
                <a:cubicBezTo>
                  <a:pt x="130" y="158"/>
                  <a:pt x="143" y="154"/>
                  <a:pt x="156" y="150"/>
                </a:cubicBezTo>
                <a:cubicBezTo>
                  <a:pt x="158" y="179"/>
                  <a:pt x="163" y="207"/>
                  <a:pt x="169" y="235"/>
                </a:cubicBezTo>
                <a:cubicBezTo>
                  <a:pt x="151" y="240"/>
                  <a:pt x="133" y="244"/>
                  <a:pt x="116" y="246"/>
                </a:cubicBezTo>
                <a:cubicBezTo>
                  <a:pt x="113" y="218"/>
                  <a:pt x="114" y="189"/>
                  <a:pt x="118" y="160"/>
                </a:cubicBezTo>
                <a:close/>
                <a:moveTo>
                  <a:pt x="7" y="239"/>
                </a:moveTo>
                <a:cubicBezTo>
                  <a:pt x="12" y="214"/>
                  <a:pt x="20" y="190"/>
                  <a:pt x="32" y="167"/>
                </a:cubicBezTo>
                <a:cubicBezTo>
                  <a:pt x="36" y="168"/>
                  <a:pt x="40" y="168"/>
                  <a:pt x="45" y="168"/>
                </a:cubicBezTo>
                <a:cubicBezTo>
                  <a:pt x="37" y="193"/>
                  <a:pt x="32" y="220"/>
                  <a:pt x="30" y="246"/>
                </a:cubicBezTo>
                <a:cubicBezTo>
                  <a:pt x="21" y="244"/>
                  <a:pt x="14" y="242"/>
                  <a:pt x="7" y="239"/>
                </a:cubicBezTo>
                <a:close/>
                <a:moveTo>
                  <a:pt x="376" y="8"/>
                </a:moveTo>
                <a:cubicBezTo>
                  <a:pt x="403" y="14"/>
                  <a:pt x="428" y="24"/>
                  <a:pt x="452" y="38"/>
                </a:cubicBezTo>
                <a:cubicBezTo>
                  <a:pt x="449" y="44"/>
                  <a:pt x="445" y="50"/>
                  <a:pt x="442" y="56"/>
                </a:cubicBezTo>
                <a:cubicBezTo>
                  <a:pt x="420" y="39"/>
                  <a:pt x="396" y="26"/>
                  <a:pt x="370" y="15"/>
                </a:cubicBezTo>
                <a:cubicBezTo>
                  <a:pt x="372" y="12"/>
                  <a:pt x="374" y="10"/>
                  <a:pt x="376" y="8"/>
                </a:cubicBezTo>
                <a:close/>
                <a:moveTo>
                  <a:pt x="291" y="85"/>
                </a:moveTo>
                <a:cubicBezTo>
                  <a:pt x="301" y="78"/>
                  <a:pt x="311" y="71"/>
                  <a:pt x="320" y="63"/>
                </a:cubicBezTo>
                <a:cubicBezTo>
                  <a:pt x="344" y="79"/>
                  <a:pt x="367" y="98"/>
                  <a:pt x="386" y="119"/>
                </a:cubicBezTo>
                <a:cubicBezTo>
                  <a:pt x="373" y="131"/>
                  <a:pt x="359" y="142"/>
                  <a:pt x="343" y="153"/>
                </a:cubicBezTo>
                <a:cubicBezTo>
                  <a:pt x="327" y="129"/>
                  <a:pt x="310" y="107"/>
                  <a:pt x="291" y="85"/>
                </a:cubicBezTo>
                <a:close/>
                <a:moveTo>
                  <a:pt x="154" y="132"/>
                </a:moveTo>
                <a:cubicBezTo>
                  <a:pt x="143" y="136"/>
                  <a:pt x="132" y="139"/>
                  <a:pt x="121" y="141"/>
                </a:cubicBezTo>
                <a:cubicBezTo>
                  <a:pt x="125" y="119"/>
                  <a:pt x="131" y="98"/>
                  <a:pt x="138" y="77"/>
                </a:cubicBezTo>
                <a:cubicBezTo>
                  <a:pt x="143" y="75"/>
                  <a:pt x="147" y="73"/>
                  <a:pt x="152" y="72"/>
                </a:cubicBezTo>
                <a:cubicBezTo>
                  <a:pt x="152" y="92"/>
                  <a:pt x="153" y="112"/>
                  <a:pt x="154" y="132"/>
                </a:cubicBezTo>
                <a:close/>
                <a:moveTo>
                  <a:pt x="279" y="72"/>
                </a:moveTo>
                <a:cubicBezTo>
                  <a:pt x="266" y="57"/>
                  <a:pt x="252" y="43"/>
                  <a:pt x="238" y="30"/>
                </a:cubicBezTo>
                <a:cubicBezTo>
                  <a:pt x="241" y="28"/>
                  <a:pt x="244" y="26"/>
                  <a:pt x="248" y="23"/>
                </a:cubicBezTo>
                <a:cubicBezTo>
                  <a:pt x="268" y="32"/>
                  <a:pt x="287" y="41"/>
                  <a:pt x="305" y="53"/>
                </a:cubicBezTo>
                <a:cubicBezTo>
                  <a:pt x="297" y="59"/>
                  <a:pt x="288" y="65"/>
                  <a:pt x="279" y="72"/>
                </a:cubicBezTo>
                <a:close/>
                <a:moveTo>
                  <a:pt x="170" y="127"/>
                </a:moveTo>
                <a:cubicBezTo>
                  <a:pt x="168" y="107"/>
                  <a:pt x="168" y="86"/>
                  <a:pt x="168" y="66"/>
                </a:cubicBezTo>
                <a:cubicBezTo>
                  <a:pt x="175" y="63"/>
                  <a:pt x="181" y="60"/>
                  <a:pt x="188" y="57"/>
                </a:cubicBezTo>
                <a:cubicBezTo>
                  <a:pt x="194" y="72"/>
                  <a:pt x="201" y="90"/>
                  <a:pt x="209" y="111"/>
                </a:cubicBezTo>
                <a:cubicBezTo>
                  <a:pt x="196" y="117"/>
                  <a:pt x="183" y="122"/>
                  <a:pt x="170" y="127"/>
                </a:cubicBezTo>
                <a:close/>
                <a:moveTo>
                  <a:pt x="356" y="3"/>
                </a:moveTo>
                <a:lnTo>
                  <a:pt x="352" y="8"/>
                </a:lnTo>
                <a:cubicBezTo>
                  <a:pt x="344" y="5"/>
                  <a:pt x="335" y="2"/>
                  <a:pt x="326" y="0"/>
                </a:cubicBezTo>
                <a:cubicBezTo>
                  <a:pt x="336" y="1"/>
                  <a:pt x="346" y="2"/>
                  <a:pt x="356" y="3"/>
                </a:cubicBezTo>
                <a:close/>
                <a:moveTo>
                  <a:pt x="265" y="80"/>
                </a:moveTo>
                <a:cubicBezTo>
                  <a:pt x="252" y="89"/>
                  <a:pt x="238" y="96"/>
                  <a:pt x="224" y="104"/>
                </a:cubicBezTo>
                <a:cubicBezTo>
                  <a:pt x="216" y="83"/>
                  <a:pt x="208" y="64"/>
                  <a:pt x="202" y="50"/>
                </a:cubicBezTo>
                <a:cubicBezTo>
                  <a:pt x="210" y="46"/>
                  <a:pt x="217" y="42"/>
                  <a:pt x="223" y="38"/>
                </a:cubicBezTo>
                <a:cubicBezTo>
                  <a:pt x="238" y="52"/>
                  <a:pt x="252" y="66"/>
                  <a:pt x="265" y="80"/>
                </a:cubicBezTo>
                <a:close/>
                <a:moveTo>
                  <a:pt x="41" y="150"/>
                </a:moveTo>
                <a:cubicBezTo>
                  <a:pt x="50" y="134"/>
                  <a:pt x="61" y="119"/>
                  <a:pt x="72" y="105"/>
                </a:cubicBezTo>
                <a:cubicBezTo>
                  <a:pt x="64" y="120"/>
                  <a:pt x="57" y="135"/>
                  <a:pt x="51" y="150"/>
                </a:cubicBezTo>
                <a:cubicBezTo>
                  <a:pt x="48" y="150"/>
                  <a:pt x="44" y="151"/>
                  <a:pt x="41" y="150"/>
                </a:cubicBezTo>
                <a:close/>
                <a:moveTo>
                  <a:pt x="104" y="145"/>
                </a:moveTo>
                <a:cubicBezTo>
                  <a:pt x="92" y="147"/>
                  <a:pt x="80" y="149"/>
                  <a:pt x="69" y="150"/>
                </a:cubicBezTo>
                <a:cubicBezTo>
                  <a:pt x="78" y="128"/>
                  <a:pt x="90" y="107"/>
                  <a:pt x="104" y="87"/>
                </a:cubicBezTo>
                <a:cubicBezTo>
                  <a:pt x="109" y="85"/>
                  <a:pt x="114" y="84"/>
                  <a:pt x="119" y="83"/>
                </a:cubicBezTo>
                <a:cubicBezTo>
                  <a:pt x="112" y="103"/>
                  <a:pt x="107" y="124"/>
                  <a:pt x="104" y="145"/>
                </a:cubicBezTo>
                <a:close/>
                <a:moveTo>
                  <a:pt x="263" y="13"/>
                </a:moveTo>
                <a:cubicBezTo>
                  <a:pt x="266" y="11"/>
                  <a:pt x="269" y="9"/>
                  <a:pt x="272" y="6"/>
                </a:cubicBezTo>
                <a:cubicBezTo>
                  <a:pt x="295" y="9"/>
                  <a:pt x="318" y="14"/>
                  <a:pt x="340" y="21"/>
                </a:cubicBezTo>
                <a:cubicBezTo>
                  <a:pt x="334" y="28"/>
                  <a:pt x="326" y="35"/>
                  <a:pt x="318" y="42"/>
                </a:cubicBezTo>
                <a:cubicBezTo>
                  <a:pt x="301" y="31"/>
                  <a:pt x="283" y="21"/>
                  <a:pt x="263" y="13"/>
                </a:cubicBezTo>
                <a:close/>
                <a:moveTo>
                  <a:pt x="456" y="67"/>
                </a:moveTo>
                <a:cubicBezTo>
                  <a:pt x="460" y="60"/>
                  <a:pt x="464" y="54"/>
                  <a:pt x="467" y="47"/>
                </a:cubicBezTo>
                <a:cubicBezTo>
                  <a:pt x="495" y="65"/>
                  <a:pt x="520" y="87"/>
                  <a:pt x="541" y="113"/>
                </a:cubicBezTo>
                <a:cubicBezTo>
                  <a:pt x="536" y="123"/>
                  <a:pt x="530" y="134"/>
                  <a:pt x="523" y="144"/>
                </a:cubicBezTo>
                <a:cubicBezTo>
                  <a:pt x="505" y="115"/>
                  <a:pt x="482" y="89"/>
                  <a:pt x="456" y="67"/>
                </a:cubicBezTo>
                <a:close/>
                <a:moveTo>
                  <a:pt x="353" y="168"/>
                </a:moveTo>
                <a:cubicBezTo>
                  <a:pt x="369" y="156"/>
                  <a:pt x="384" y="145"/>
                  <a:pt x="398" y="132"/>
                </a:cubicBezTo>
                <a:cubicBezTo>
                  <a:pt x="421" y="158"/>
                  <a:pt x="440" y="187"/>
                  <a:pt x="455" y="218"/>
                </a:cubicBezTo>
                <a:cubicBezTo>
                  <a:pt x="438" y="232"/>
                  <a:pt x="420" y="246"/>
                  <a:pt x="400" y="259"/>
                </a:cubicBezTo>
                <a:cubicBezTo>
                  <a:pt x="387" y="228"/>
                  <a:pt x="371" y="197"/>
                  <a:pt x="353" y="168"/>
                </a:cubicBezTo>
                <a:close/>
                <a:moveTo>
                  <a:pt x="207" y="349"/>
                </a:moveTo>
                <a:cubicBezTo>
                  <a:pt x="185" y="355"/>
                  <a:pt x="164" y="360"/>
                  <a:pt x="143" y="363"/>
                </a:cubicBezTo>
                <a:cubicBezTo>
                  <a:pt x="130" y="331"/>
                  <a:pt x="122" y="298"/>
                  <a:pt x="117" y="264"/>
                </a:cubicBezTo>
                <a:cubicBezTo>
                  <a:pt x="136" y="261"/>
                  <a:pt x="154" y="257"/>
                  <a:pt x="174" y="252"/>
                </a:cubicBezTo>
                <a:cubicBezTo>
                  <a:pt x="182" y="285"/>
                  <a:pt x="193" y="318"/>
                  <a:pt x="207" y="349"/>
                </a:cubicBezTo>
                <a:close/>
                <a:moveTo>
                  <a:pt x="42" y="365"/>
                </a:moveTo>
                <a:cubicBezTo>
                  <a:pt x="32" y="364"/>
                  <a:pt x="22" y="361"/>
                  <a:pt x="13" y="358"/>
                </a:cubicBezTo>
                <a:cubicBezTo>
                  <a:pt x="10" y="357"/>
                  <a:pt x="7" y="356"/>
                  <a:pt x="5" y="355"/>
                </a:cubicBezTo>
                <a:cubicBezTo>
                  <a:pt x="2" y="338"/>
                  <a:pt x="0" y="320"/>
                  <a:pt x="0" y="302"/>
                </a:cubicBezTo>
                <a:cubicBezTo>
                  <a:pt x="0" y="287"/>
                  <a:pt x="1" y="272"/>
                  <a:pt x="3" y="257"/>
                </a:cubicBezTo>
                <a:cubicBezTo>
                  <a:pt x="11" y="260"/>
                  <a:pt x="20" y="262"/>
                  <a:pt x="29" y="264"/>
                </a:cubicBezTo>
                <a:cubicBezTo>
                  <a:pt x="28" y="298"/>
                  <a:pt x="33" y="332"/>
                  <a:pt x="42" y="365"/>
                </a:cubicBezTo>
                <a:close/>
                <a:moveTo>
                  <a:pt x="45" y="266"/>
                </a:moveTo>
                <a:cubicBezTo>
                  <a:pt x="53" y="267"/>
                  <a:pt x="61" y="267"/>
                  <a:pt x="70" y="267"/>
                </a:cubicBezTo>
                <a:cubicBezTo>
                  <a:pt x="80" y="267"/>
                  <a:pt x="91" y="266"/>
                  <a:pt x="101" y="265"/>
                </a:cubicBezTo>
                <a:cubicBezTo>
                  <a:pt x="106" y="300"/>
                  <a:pt x="114" y="333"/>
                  <a:pt x="127" y="365"/>
                </a:cubicBezTo>
                <a:cubicBezTo>
                  <a:pt x="111" y="367"/>
                  <a:pt x="96" y="368"/>
                  <a:pt x="82" y="368"/>
                </a:cubicBezTo>
                <a:cubicBezTo>
                  <a:pt x="74" y="368"/>
                  <a:pt x="67" y="368"/>
                  <a:pt x="60" y="367"/>
                </a:cubicBezTo>
                <a:cubicBezTo>
                  <a:pt x="50" y="334"/>
                  <a:pt x="45" y="300"/>
                  <a:pt x="45" y="266"/>
                </a:cubicBezTo>
                <a:close/>
                <a:moveTo>
                  <a:pt x="294" y="317"/>
                </a:moveTo>
                <a:cubicBezTo>
                  <a:pt x="270" y="328"/>
                  <a:pt x="246" y="337"/>
                  <a:pt x="222" y="344"/>
                </a:cubicBezTo>
                <a:cubicBezTo>
                  <a:pt x="209" y="313"/>
                  <a:pt x="198" y="281"/>
                  <a:pt x="189" y="247"/>
                </a:cubicBezTo>
                <a:cubicBezTo>
                  <a:pt x="211" y="241"/>
                  <a:pt x="233" y="233"/>
                  <a:pt x="254" y="223"/>
                </a:cubicBezTo>
                <a:cubicBezTo>
                  <a:pt x="267" y="254"/>
                  <a:pt x="280" y="285"/>
                  <a:pt x="294" y="317"/>
                </a:cubicBezTo>
                <a:close/>
                <a:moveTo>
                  <a:pt x="467" y="207"/>
                </a:moveTo>
                <a:cubicBezTo>
                  <a:pt x="452" y="176"/>
                  <a:pt x="432" y="148"/>
                  <a:pt x="410" y="121"/>
                </a:cubicBezTo>
                <a:cubicBezTo>
                  <a:pt x="424" y="108"/>
                  <a:pt x="436" y="94"/>
                  <a:pt x="446" y="81"/>
                </a:cubicBezTo>
                <a:cubicBezTo>
                  <a:pt x="472" y="103"/>
                  <a:pt x="495" y="129"/>
                  <a:pt x="513" y="158"/>
                </a:cubicBezTo>
                <a:cubicBezTo>
                  <a:pt x="500" y="175"/>
                  <a:pt x="485" y="191"/>
                  <a:pt x="467" y="207"/>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60" name="Freeform 254"/>
          <p:cNvSpPr/>
          <p:nvPr/>
        </p:nvSpPr>
        <p:spPr>
          <a:xfrm>
            <a:off x="2589120" y="1720800"/>
            <a:ext cx="173160" cy="181080"/>
          </a:xfrm>
          <a:custGeom>
            <a:avLst/>
            <a:gdLst/>
            <a:ahLst/>
            <a:rect l="l" t="t" r="r" b="b"/>
            <a:pathLst>
              <a:path w="643" h="673">
                <a:moveTo>
                  <a:pt x="165" y="196"/>
                </a:moveTo>
                <a:cubicBezTo>
                  <a:pt x="156" y="196"/>
                  <a:pt x="147" y="197"/>
                  <a:pt x="139" y="199"/>
                </a:cubicBezTo>
                <a:cubicBezTo>
                  <a:pt x="149" y="137"/>
                  <a:pt x="185" y="23"/>
                  <a:pt x="316" y="19"/>
                </a:cubicBezTo>
                <a:cubicBezTo>
                  <a:pt x="479" y="14"/>
                  <a:pt x="503" y="163"/>
                  <a:pt x="507" y="199"/>
                </a:cubicBezTo>
                <a:cubicBezTo>
                  <a:pt x="500" y="197"/>
                  <a:pt x="493" y="196"/>
                  <a:pt x="484" y="196"/>
                </a:cubicBezTo>
                <a:cubicBezTo>
                  <a:pt x="468" y="102"/>
                  <a:pt x="413" y="49"/>
                  <a:pt x="328" y="49"/>
                </a:cubicBezTo>
                <a:cubicBezTo>
                  <a:pt x="240" y="49"/>
                  <a:pt x="180" y="103"/>
                  <a:pt x="165" y="196"/>
                </a:cubicBezTo>
                <a:close/>
                <a:moveTo>
                  <a:pt x="584" y="553"/>
                </a:moveTo>
                <a:cubicBezTo>
                  <a:pt x="401" y="525"/>
                  <a:pt x="414" y="444"/>
                  <a:pt x="412" y="422"/>
                </a:cubicBezTo>
                <a:cubicBezTo>
                  <a:pt x="445" y="404"/>
                  <a:pt x="466" y="353"/>
                  <a:pt x="477" y="313"/>
                </a:cubicBezTo>
                <a:cubicBezTo>
                  <a:pt x="484" y="313"/>
                  <a:pt x="495" y="313"/>
                  <a:pt x="506" y="311"/>
                </a:cubicBezTo>
                <a:cubicBezTo>
                  <a:pt x="506" y="332"/>
                  <a:pt x="506" y="394"/>
                  <a:pt x="503" y="411"/>
                </a:cubicBezTo>
                <a:cubicBezTo>
                  <a:pt x="502" y="423"/>
                  <a:pt x="491" y="424"/>
                  <a:pt x="491" y="424"/>
                </a:cubicBezTo>
                <a:lnTo>
                  <a:pt x="471" y="428"/>
                </a:lnTo>
                <a:lnTo>
                  <a:pt x="473" y="444"/>
                </a:lnTo>
                <a:lnTo>
                  <a:pt x="503" y="438"/>
                </a:lnTo>
                <a:cubicBezTo>
                  <a:pt x="520" y="436"/>
                  <a:pt x="521" y="404"/>
                  <a:pt x="521" y="404"/>
                </a:cubicBezTo>
                <a:lnTo>
                  <a:pt x="519" y="306"/>
                </a:lnTo>
                <a:cubicBezTo>
                  <a:pt x="531" y="300"/>
                  <a:pt x="541" y="289"/>
                  <a:pt x="542" y="271"/>
                </a:cubicBezTo>
                <a:cubicBezTo>
                  <a:pt x="545" y="232"/>
                  <a:pt x="537" y="214"/>
                  <a:pt x="521" y="204"/>
                </a:cubicBezTo>
                <a:cubicBezTo>
                  <a:pt x="520" y="187"/>
                  <a:pt x="503" y="0"/>
                  <a:pt x="316" y="6"/>
                </a:cubicBezTo>
                <a:cubicBezTo>
                  <a:pt x="171" y="10"/>
                  <a:pt x="134" y="143"/>
                  <a:pt x="125" y="205"/>
                </a:cubicBezTo>
                <a:cubicBezTo>
                  <a:pt x="110" y="215"/>
                  <a:pt x="103" y="234"/>
                  <a:pt x="106" y="271"/>
                </a:cubicBezTo>
                <a:cubicBezTo>
                  <a:pt x="109" y="312"/>
                  <a:pt x="153" y="314"/>
                  <a:pt x="169" y="313"/>
                </a:cubicBezTo>
                <a:cubicBezTo>
                  <a:pt x="190" y="394"/>
                  <a:pt x="243" y="417"/>
                  <a:pt x="243" y="417"/>
                </a:cubicBezTo>
                <a:cubicBezTo>
                  <a:pt x="243" y="509"/>
                  <a:pt x="161" y="536"/>
                  <a:pt x="81" y="561"/>
                </a:cubicBezTo>
                <a:cubicBezTo>
                  <a:pt x="0" y="586"/>
                  <a:pt x="33" y="673"/>
                  <a:pt x="33" y="673"/>
                </a:cubicBezTo>
                <a:lnTo>
                  <a:pt x="643" y="673"/>
                </a:lnTo>
                <a:cubicBezTo>
                  <a:pt x="643" y="614"/>
                  <a:pt x="640" y="559"/>
                  <a:pt x="584" y="55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61" name="Freeform 255"/>
          <p:cNvSpPr/>
          <p:nvPr/>
        </p:nvSpPr>
        <p:spPr>
          <a:xfrm>
            <a:off x="5208480" y="3592440"/>
            <a:ext cx="216000" cy="149400"/>
          </a:xfrm>
          <a:custGeom>
            <a:avLst/>
            <a:gdLst/>
            <a:ahLst/>
            <a:rect l="l" t="t" r="r" b="b"/>
            <a:pathLst>
              <a:path w="809" h="555">
                <a:moveTo>
                  <a:pt x="294" y="378"/>
                </a:moveTo>
                <a:cubicBezTo>
                  <a:pt x="315" y="275"/>
                  <a:pt x="415" y="201"/>
                  <a:pt x="558" y="201"/>
                </a:cubicBezTo>
                <a:cubicBezTo>
                  <a:pt x="573" y="201"/>
                  <a:pt x="588" y="202"/>
                  <a:pt x="602" y="204"/>
                </a:cubicBezTo>
                <a:cubicBezTo>
                  <a:pt x="602" y="201"/>
                  <a:pt x="603" y="199"/>
                  <a:pt x="603" y="197"/>
                </a:cubicBezTo>
                <a:cubicBezTo>
                  <a:pt x="603" y="88"/>
                  <a:pt x="471" y="0"/>
                  <a:pt x="310" y="0"/>
                </a:cubicBezTo>
                <a:cubicBezTo>
                  <a:pt x="148" y="0"/>
                  <a:pt x="17" y="88"/>
                  <a:pt x="17" y="197"/>
                </a:cubicBezTo>
                <a:cubicBezTo>
                  <a:pt x="17" y="246"/>
                  <a:pt x="44" y="291"/>
                  <a:pt x="89" y="325"/>
                </a:cubicBezTo>
                <a:cubicBezTo>
                  <a:pt x="66" y="354"/>
                  <a:pt x="36" y="375"/>
                  <a:pt x="0" y="386"/>
                </a:cubicBezTo>
                <a:cubicBezTo>
                  <a:pt x="14" y="390"/>
                  <a:pt x="28" y="393"/>
                  <a:pt x="42" y="393"/>
                </a:cubicBezTo>
                <a:cubicBezTo>
                  <a:pt x="79" y="393"/>
                  <a:pt x="113" y="379"/>
                  <a:pt x="138" y="356"/>
                </a:cubicBezTo>
                <a:cubicBezTo>
                  <a:pt x="185" y="378"/>
                  <a:pt x="229" y="388"/>
                  <a:pt x="290" y="389"/>
                </a:cubicBezTo>
                <a:cubicBezTo>
                  <a:pt x="290" y="386"/>
                  <a:pt x="293" y="381"/>
                  <a:pt x="294" y="378"/>
                </a:cubicBezTo>
                <a:close/>
                <a:moveTo>
                  <a:pt x="670" y="431"/>
                </a:moveTo>
                <a:cubicBezTo>
                  <a:pt x="655" y="431"/>
                  <a:pt x="643" y="419"/>
                  <a:pt x="643" y="404"/>
                </a:cubicBezTo>
                <a:cubicBezTo>
                  <a:pt x="643" y="389"/>
                  <a:pt x="655" y="377"/>
                  <a:pt x="670" y="377"/>
                </a:cubicBezTo>
                <a:cubicBezTo>
                  <a:pt x="685" y="377"/>
                  <a:pt x="697" y="389"/>
                  <a:pt x="697" y="404"/>
                </a:cubicBezTo>
                <a:cubicBezTo>
                  <a:pt x="697" y="419"/>
                  <a:pt x="685" y="431"/>
                  <a:pt x="670" y="431"/>
                </a:cubicBezTo>
                <a:close/>
                <a:moveTo>
                  <a:pt x="577" y="431"/>
                </a:moveTo>
                <a:cubicBezTo>
                  <a:pt x="562" y="431"/>
                  <a:pt x="550" y="419"/>
                  <a:pt x="550" y="404"/>
                </a:cubicBezTo>
                <a:cubicBezTo>
                  <a:pt x="550" y="389"/>
                  <a:pt x="562" y="377"/>
                  <a:pt x="577" y="377"/>
                </a:cubicBezTo>
                <a:cubicBezTo>
                  <a:pt x="592" y="377"/>
                  <a:pt x="604" y="389"/>
                  <a:pt x="604" y="404"/>
                </a:cubicBezTo>
                <a:cubicBezTo>
                  <a:pt x="604" y="419"/>
                  <a:pt x="592" y="431"/>
                  <a:pt x="577" y="431"/>
                </a:cubicBezTo>
                <a:close/>
                <a:moveTo>
                  <a:pt x="485" y="431"/>
                </a:moveTo>
                <a:cubicBezTo>
                  <a:pt x="470" y="431"/>
                  <a:pt x="458" y="419"/>
                  <a:pt x="458" y="404"/>
                </a:cubicBezTo>
                <a:cubicBezTo>
                  <a:pt x="458" y="389"/>
                  <a:pt x="470" y="377"/>
                  <a:pt x="485" y="377"/>
                </a:cubicBezTo>
                <a:cubicBezTo>
                  <a:pt x="500" y="377"/>
                  <a:pt x="512" y="389"/>
                  <a:pt x="512" y="404"/>
                </a:cubicBezTo>
                <a:cubicBezTo>
                  <a:pt x="512" y="419"/>
                  <a:pt x="500" y="431"/>
                  <a:pt x="485" y="431"/>
                </a:cubicBezTo>
                <a:close/>
                <a:moveTo>
                  <a:pt x="741" y="503"/>
                </a:moveTo>
                <a:cubicBezTo>
                  <a:pt x="776" y="477"/>
                  <a:pt x="796" y="442"/>
                  <a:pt x="796" y="404"/>
                </a:cubicBezTo>
                <a:cubicBezTo>
                  <a:pt x="796" y="321"/>
                  <a:pt x="695" y="253"/>
                  <a:pt x="571" y="253"/>
                </a:cubicBezTo>
                <a:cubicBezTo>
                  <a:pt x="446" y="253"/>
                  <a:pt x="345" y="321"/>
                  <a:pt x="345" y="404"/>
                </a:cubicBezTo>
                <a:cubicBezTo>
                  <a:pt x="345" y="488"/>
                  <a:pt x="446" y="555"/>
                  <a:pt x="571" y="555"/>
                </a:cubicBezTo>
                <a:cubicBezTo>
                  <a:pt x="620" y="555"/>
                  <a:pt x="666" y="544"/>
                  <a:pt x="703" y="527"/>
                </a:cubicBezTo>
                <a:cubicBezTo>
                  <a:pt x="722" y="544"/>
                  <a:pt x="748" y="555"/>
                  <a:pt x="777" y="555"/>
                </a:cubicBezTo>
                <a:cubicBezTo>
                  <a:pt x="788" y="555"/>
                  <a:pt x="799" y="554"/>
                  <a:pt x="809" y="550"/>
                </a:cubicBezTo>
                <a:cubicBezTo>
                  <a:pt x="782" y="542"/>
                  <a:pt x="758" y="525"/>
                  <a:pt x="741" y="50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62" name="Freeform 256"/>
          <p:cNvSpPr/>
          <p:nvPr/>
        </p:nvSpPr>
        <p:spPr>
          <a:xfrm>
            <a:off x="9732960" y="1179360"/>
            <a:ext cx="187200" cy="144720"/>
          </a:xfrm>
          <a:custGeom>
            <a:avLst/>
            <a:gdLst/>
            <a:ahLst/>
            <a:rect l="l" t="t" r="r" b="b"/>
            <a:pathLst>
              <a:path w="702" h="536">
                <a:moveTo>
                  <a:pt x="306" y="500"/>
                </a:moveTo>
                <a:cubicBezTo>
                  <a:pt x="250" y="502"/>
                  <a:pt x="245" y="490"/>
                  <a:pt x="241" y="440"/>
                </a:cubicBezTo>
                <a:lnTo>
                  <a:pt x="366" y="439"/>
                </a:lnTo>
                <a:cubicBezTo>
                  <a:pt x="365" y="466"/>
                  <a:pt x="369" y="500"/>
                  <a:pt x="306" y="500"/>
                </a:cubicBezTo>
                <a:close/>
                <a:moveTo>
                  <a:pt x="421" y="253"/>
                </a:moveTo>
                <a:cubicBezTo>
                  <a:pt x="439" y="253"/>
                  <a:pt x="452" y="267"/>
                  <a:pt x="452" y="284"/>
                </a:cubicBezTo>
                <a:cubicBezTo>
                  <a:pt x="452" y="300"/>
                  <a:pt x="439" y="314"/>
                  <a:pt x="421" y="314"/>
                </a:cubicBezTo>
                <a:cubicBezTo>
                  <a:pt x="404" y="314"/>
                  <a:pt x="391" y="300"/>
                  <a:pt x="391" y="284"/>
                </a:cubicBezTo>
                <a:cubicBezTo>
                  <a:pt x="391" y="267"/>
                  <a:pt x="404" y="253"/>
                  <a:pt x="421" y="253"/>
                </a:cubicBezTo>
                <a:close/>
                <a:moveTo>
                  <a:pt x="326" y="285"/>
                </a:moveTo>
                <a:cubicBezTo>
                  <a:pt x="343" y="285"/>
                  <a:pt x="357" y="299"/>
                  <a:pt x="357" y="315"/>
                </a:cubicBezTo>
                <a:cubicBezTo>
                  <a:pt x="357" y="332"/>
                  <a:pt x="343" y="346"/>
                  <a:pt x="326" y="346"/>
                </a:cubicBezTo>
                <a:cubicBezTo>
                  <a:pt x="309" y="346"/>
                  <a:pt x="295" y="332"/>
                  <a:pt x="295" y="315"/>
                </a:cubicBezTo>
                <a:cubicBezTo>
                  <a:pt x="295" y="299"/>
                  <a:pt x="309" y="285"/>
                  <a:pt x="326" y="285"/>
                </a:cubicBezTo>
                <a:close/>
                <a:moveTo>
                  <a:pt x="696" y="440"/>
                </a:moveTo>
                <a:lnTo>
                  <a:pt x="598" y="44"/>
                </a:lnTo>
                <a:cubicBezTo>
                  <a:pt x="598" y="44"/>
                  <a:pt x="590" y="0"/>
                  <a:pt x="557" y="11"/>
                </a:cubicBezTo>
                <a:cubicBezTo>
                  <a:pt x="524" y="22"/>
                  <a:pt x="535" y="47"/>
                  <a:pt x="535" y="47"/>
                </a:cubicBezTo>
                <a:cubicBezTo>
                  <a:pt x="535" y="47"/>
                  <a:pt x="68" y="326"/>
                  <a:pt x="60" y="331"/>
                </a:cubicBezTo>
                <a:cubicBezTo>
                  <a:pt x="52" y="336"/>
                  <a:pt x="0" y="320"/>
                  <a:pt x="0" y="320"/>
                </a:cubicBezTo>
                <a:lnTo>
                  <a:pt x="41" y="479"/>
                </a:lnTo>
                <a:lnTo>
                  <a:pt x="84" y="440"/>
                </a:lnTo>
                <a:lnTo>
                  <a:pt x="195" y="440"/>
                </a:lnTo>
                <a:cubicBezTo>
                  <a:pt x="191" y="464"/>
                  <a:pt x="188" y="536"/>
                  <a:pt x="295" y="536"/>
                </a:cubicBezTo>
                <a:cubicBezTo>
                  <a:pt x="407" y="536"/>
                  <a:pt x="410" y="479"/>
                  <a:pt x="412" y="440"/>
                </a:cubicBezTo>
                <a:lnTo>
                  <a:pt x="412" y="439"/>
                </a:lnTo>
                <a:lnTo>
                  <a:pt x="650" y="438"/>
                </a:lnTo>
                <a:cubicBezTo>
                  <a:pt x="650" y="438"/>
                  <a:pt x="658" y="479"/>
                  <a:pt x="680" y="470"/>
                </a:cubicBezTo>
                <a:cubicBezTo>
                  <a:pt x="702" y="462"/>
                  <a:pt x="696" y="440"/>
                  <a:pt x="696" y="440"/>
                </a:cubicBezTo>
                <a:close/>
              </a:path>
            </a:pathLst>
          </a:custGeom>
          <a:solidFill>
            <a:srgbClr val="a6a6a6"/>
          </a:solidFill>
          <a:ln w="0">
            <a:noFill/>
          </a:ln>
        </p:spPr>
        <p:style>
          <a:lnRef idx="0"/>
          <a:fillRef idx="0"/>
          <a:effectRef idx="0"/>
          <a:fontRef idx="minor"/>
        </p:style>
        <p:txBody>
          <a:bodyPr lIns="145800" rIns="145800" tIns="72000" bIns="72000" anchor="t">
            <a:noAutofit/>
          </a:bodyPr>
          <a:p>
            <a:endParaRPr b="0" lang="en-US" sz="1800" spc="-1" strike="noStrike">
              <a:solidFill>
                <a:srgbClr val="000000"/>
              </a:solidFill>
              <a:latin typeface="Calibri"/>
            </a:endParaRPr>
          </a:p>
        </p:txBody>
      </p:sp>
      <p:sp>
        <p:nvSpPr>
          <p:cNvPr id="1863" name="Freeform 257"/>
          <p:cNvSpPr/>
          <p:nvPr/>
        </p:nvSpPr>
        <p:spPr>
          <a:xfrm>
            <a:off x="2616120" y="5149800"/>
            <a:ext cx="127080" cy="192240"/>
          </a:xfrm>
          <a:custGeom>
            <a:avLst/>
            <a:gdLst/>
            <a:ahLst/>
            <a:rect l="l" t="t" r="r" b="b"/>
            <a:pathLst>
              <a:path w="477" h="724">
                <a:moveTo>
                  <a:pt x="263" y="132"/>
                </a:moveTo>
                <a:cubicBezTo>
                  <a:pt x="263" y="132"/>
                  <a:pt x="156" y="217"/>
                  <a:pt x="96" y="123"/>
                </a:cubicBezTo>
                <a:lnTo>
                  <a:pt x="96" y="407"/>
                </a:lnTo>
                <a:cubicBezTo>
                  <a:pt x="96" y="407"/>
                  <a:pt x="147" y="476"/>
                  <a:pt x="269" y="367"/>
                </a:cubicBezTo>
                <a:cubicBezTo>
                  <a:pt x="272" y="364"/>
                  <a:pt x="436" y="242"/>
                  <a:pt x="477" y="393"/>
                </a:cubicBezTo>
                <a:lnTo>
                  <a:pt x="477" y="151"/>
                </a:lnTo>
                <a:cubicBezTo>
                  <a:pt x="477" y="151"/>
                  <a:pt x="433" y="0"/>
                  <a:pt x="263" y="132"/>
                </a:cubicBezTo>
                <a:close/>
                <a:moveTo>
                  <a:pt x="32" y="143"/>
                </a:moveTo>
                <a:lnTo>
                  <a:pt x="39" y="143"/>
                </a:lnTo>
                <a:lnTo>
                  <a:pt x="39" y="705"/>
                </a:lnTo>
                <a:lnTo>
                  <a:pt x="32" y="705"/>
                </a:lnTo>
                <a:lnTo>
                  <a:pt x="32" y="143"/>
                </a:lnTo>
                <a:close/>
                <a:moveTo>
                  <a:pt x="36" y="115"/>
                </a:moveTo>
                <a:cubicBezTo>
                  <a:pt x="16" y="115"/>
                  <a:pt x="0" y="120"/>
                  <a:pt x="0" y="127"/>
                </a:cubicBezTo>
                <a:lnTo>
                  <a:pt x="0" y="712"/>
                </a:lnTo>
                <a:cubicBezTo>
                  <a:pt x="0" y="719"/>
                  <a:pt x="16" y="724"/>
                  <a:pt x="36" y="724"/>
                </a:cubicBezTo>
                <a:cubicBezTo>
                  <a:pt x="56" y="724"/>
                  <a:pt x="72" y="719"/>
                  <a:pt x="72" y="712"/>
                </a:cubicBezTo>
                <a:lnTo>
                  <a:pt x="72" y="127"/>
                </a:lnTo>
                <a:cubicBezTo>
                  <a:pt x="72" y="120"/>
                  <a:pt x="56" y="115"/>
                  <a:pt x="36" y="11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64" name="Freeform 258"/>
          <p:cNvSpPr/>
          <p:nvPr/>
        </p:nvSpPr>
        <p:spPr>
          <a:xfrm>
            <a:off x="5232240" y="4799160"/>
            <a:ext cx="166680" cy="206280"/>
          </a:xfrm>
          <a:custGeom>
            <a:avLst/>
            <a:gdLst/>
            <a:ahLst/>
            <a:rect l="l" t="t" r="r" b="b"/>
            <a:pathLst>
              <a:path w="616" h="776">
                <a:moveTo>
                  <a:pt x="0" y="0"/>
                </a:moveTo>
                <a:lnTo>
                  <a:pt x="149" y="776"/>
                </a:lnTo>
                <a:lnTo>
                  <a:pt x="299" y="430"/>
                </a:lnTo>
                <a:lnTo>
                  <a:pt x="616" y="427"/>
                </a:lnTo>
                <a:lnTo>
                  <a:pt x="0" y="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65" name="Freeform 259"/>
          <p:cNvSpPr/>
          <p:nvPr/>
        </p:nvSpPr>
        <p:spPr>
          <a:xfrm>
            <a:off x="5222880" y="4497480"/>
            <a:ext cx="192240" cy="174600"/>
          </a:xfrm>
          <a:custGeom>
            <a:avLst/>
            <a:gdLst/>
            <a:ahLst/>
            <a:rect l="l" t="t" r="r" b="b"/>
            <a:pathLst>
              <a:path w="719" h="657">
                <a:moveTo>
                  <a:pt x="610" y="48"/>
                </a:moveTo>
                <a:cubicBezTo>
                  <a:pt x="563" y="71"/>
                  <a:pt x="334" y="332"/>
                  <a:pt x="210" y="454"/>
                </a:cubicBezTo>
                <a:lnTo>
                  <a:pt x="115" y="359"/>
                </a:lnTo>
                <a:cubicBezTo>
                  <a:pt x="104" y="346"/>
                  <a:pt x="80" y="304"/>
                  <a:pt x="57" y="331"/>
                </a:cubicBezTo>
                <a:lnTo>
                  <a:pt x="22" y="382"/>
                </a:lnTo>
                <a:cubicBezTo>
                  <a:pt x="0" y="409"/>
                  <a:pt x="24" y="453"/>
                  <a:pt x="42" y="467"/>
                </a:cubicBezTo>
                <a:lnTo>
                  <a:pt x="195" y="644"/>
                </a:lnTo>
                <a:cubicBezTo>
                  <a:pt x="212" y="657"/>
                  <a:pt x="245" y="647"/>
                  <a:pt x="268" y="620"/>
                </a:cubicBezTo>
                <a:lnTo>
                  <a:pt x="287" y="597"/>
                </a:lnTo>
                <a:lnTo>
                  <a:pt x="287" y="597"/>
                </a:lnTo>
                <a:lnTo>
                  <a:pt x="643" y="88"/>
                </a:lnTo>
                <a:cubicBezTo>
                  <a:pt x="666" y="61"/>
                  <a:pt x="719" y="0"/>
                  <a:pt x="610" y="48"/>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66" name="Freeform 260"/>
          <p:cNvSpPr/>
          <p:nvPr/>
        </p:nvSpPr>
        <p:spPr>
          <a:xfrm>
            <a:off x="2600280" y="3867120"/>
            <a:ext cx="163440" cy="195120"/>
          </a:xfrm>
          <a:custGeom>
            <a:avLst/>
            <a:gdLst/>
            <a:ahLst/>
            <a:rect l="l" t="t" r="r" b="b"/>
            <a:pathLst>
              <a:path w="616" h="734">
                <a:moveTo>
                  <a:pt x="302" y="383"/>
                </a:moveTo>
                <a:cubicBezTo>
                  <a:pt x="290" y="383"/>
                  <a:pt x="279" y="377"/>
                  <a:pt x="268" y="365"/>
                </a:cubicBezTo>
                <a:cubicBezTo>
                  <a:pt x="280" y="358"/>
                  <a:pt x="291" y="354"/>
                  <a:pt x="301" y="354"/>
                </a:cubicBezTo>
                <a:cubicBezTo>
                  <a:pt x="313" y="354"/>
                  <a:pt x="325" y="359"/>
                  <a:pt x="336" y="369"/>
                </a:cubicBezTo>
                <a:cubicBezTo>
                  <a:pt x="323" y="378"/>
                  <a:pt x="312" y="383"/>
                  <a:pt x="302" y="383"/>
                </a:cubicBezTo>
                <a:close/>
                <a:moveTo>
                  <a:pt x="570" y="113"/>
                </a:moveTo>
                <a:lnTo>
                  <a:pt x="511" y="44"/>
                </a:lnTo>
                <a:cubicBezTo>
                  <a:pt x="487" y="16"/>
                  <a:pt x="452" y="0"/>
                  <a:pt x="415" y="0"/>
                </a:cubicBezTo>
                <a:cubicBezTo>
                  <a:pt x="385" y="0"/>
                  <a:pt x="356" y="11"/>
                  <a:pt x="333" y="31"/>
                </a:cubicBezTo>
                <a:lnTo>
                  <a:pt x="161" y="179"/>
                </a:lnTo>
                <a:cubicBezTo>
                  <a:pt x="120" y="214"/>
                  <a:pt x="106" y="271"/>
                  <a:pt x="125" y="321"/>
                </a:cubicBezTo>
                <a:lnTo>
                  <a:pt x="132" y="338"/>
                </a:lnTo>
                <a:lnTo>
                  <a:pt x="205" y="276"/>
                </a:lnTo>
                <a:lnTo>
                  <a:pt x="205" y="271"/>
                </a:lnTo>
                <a:cubicBezTo>
                  <a:pt x="207" y="256"/>
                  <a:pt x="217" y="241"/>
                  <a:pt x="238" y="223"/>
                </a:cubicBezTo>
                <a:lnTo>
                  <a:pt x="365" y="114"/>
                </a:lnTo>
                <a:cubicBezTo>
                  <a:pt x="383" y="98"/>
                  <a:pt x="400" y="90"/>
                  <a:pt x="415" y="90"/>
                </a:cubicBezTo>
                <a:cubicBezTo>
                  <a:pt x="430" y="90"/>
                  <a:pt x="444" y="98"/>
                  <a:pt x="457" y="113"/>
                </a:cubicBezTo>
                <a:lnTo>
                  <a:pt x="494" y="156"/>
                </a:lnTo>
                <a:cubicBezTo>
                  <a:pt x="520" y="189"/>
                  <a:pt x="516" y="216"/>
                  <a:pt x="479" y="247"/>
                </a:cubicBezTo>
                <a:lnTo>
                  <a:pt x="402" y="314"/>
                </a:lnTo>
                <a:lnTo>
                  <a:pt x="397" y="308"/>
                </a:lnTo>
                <a:cubicBezTo>
                  <a:pt x="373" y="280"/>
                  <a:pt x="338" y="264"/>
                  <a:pt x="301" y="264"/>
                </a:cubicBezTo>
                <a:cubicBezTo>
                  <a:pt x="271" y="264"/>
                  <a:pt x="242" y="275"/>
                  <a:pt x="219" y="295"/>
                </a:cubicBezTo>
                <a:lnTo>
                  <a:pt x="47" y="443"/>
                </a:lnTo>
                <a:cubicBezTo>
                  <a:pt x="21" y="465"/>
                  <a:pt x="5" y="496"/>
                  <a:pt x="3" y="529"/>
                </a:cubicBezTo>
                <a:cubicBezTo>
                  <a:pt x="0" y="563"/>
                  <a:pt x="11" y="596"/>
                  <a:pt x="33" y="621"/>
                </a:cubicBezTo>
                <a:lnTo>
                  <a:pt x="92" y="690"/>
                </a:lnTo>
                <a:cubicBezTo>
                  <a:pt x="116" y="718"/>
                  <a:pt x="151" y="734"/>
                  <a:pt x="188" y="734"/>
                </a:cubicBezTo>
                <a:cubicBezTo>
                  <a:pt x="218" y="734"/>
                  <a:pt x="248" y="723"/>
                  <a:pt x="271" y="703"/>
                </a:cubicBezTo>
                <a:lnTo>
                  <a:pt x="443" y="555"/>
                </a:lnTo>
                <a:cubicBezTo>
                  <a:pt x="484" y="519"/>
                  <a:pt x="498" y="461"/>
                  <a:pt x="477" y="411"/>
                </a:cubicBezTo>
                <a:lnTo>
                  <a:pt x="470" y="394"/>
                </a:lnTo>
                <a:lnTo>
                  <a:pt x="397" y="457"/>
                </a:lnTo>
                <a:lnTo>
                  <a:pt x="396" y="463"/>
                </a:lnTo>
                <a:cubicBezTo>
                  <a:pt x="395" y="478"/>
                  <a:pt x="385" y="494"/>
                  <a:pt x="365" y="511"/>
                </a:cubicBezTo>
                <a:lnTo>
                  <a:pt x="239" y="620"/>
                </a:lnTo>
                <a:cubicBezTo>
                  <a:pt x="217" y="638"/>
                  <a:pt x="202" y="647"/>
                  <a:pt x="188" y="647"/>
                </a:cubicBezTo>
                <a:cubicBezTo>
                  <a:pt x="174" y="647"/>
                  <a:pt x="161" y="638"/>
                  <a:pt x="147" y="621"/>
                </a:cubicBezTo>
                <a:lnTo>
                  <a:pt x="109" y="578"/>
                </a:lnTo>
                <a:cubicBezTo>
                  <a:pt x="96" y="562"/>
                  <a:pt x="90" y="549"/>
                  <a:pt x="91" y="536"/>
                </a:cubicBezTo>
                <a:cubicBezTo>
                  <a:pt x="92" y="521"/>
                  <a:pt x="103" y="505"/>
                  <a:pt x="124" y="487"/>
                </a:cubicBezTo>
                <a:lnTo>
                  <a:pt x="201" y="420"/>
                </a:lnTo>
                <a:lnTo>
                  <a:pt x="206" y="426"/>
                </a:lnTo>
                <a:cubicBezTo>
                  <a:pt x="230" y="454"/>
                  <a:pt x="265" y="470"/>
                  <a:pt x="302" y="470"/>
                </a:cubicBezTo>
                <a:cubicBezTo>
                  <a:pt x="332" y="470"/>
                  <a:pt x="362" y="459"/>
                  <a:pt x="385" y="439"/>
                </a:cubicBezTo>
                <a:lnTo>
                  <a:pt x="557" y="291"/>
                </a:lnTo>
                <a:cubicBezTo>
                  <a:pt x="610" y="246"/>
                  <a:pt x="616" y="166"/>
                  <a:pt x="570" y="11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67" name="Freeform 261"/>
          <p:cNvSpPr/>
          <p:nvPr/>
        </p:nvSpPr>
        <p:spPr>
          <a:xfrm>
            <a:off x="8702640" y="2952720"/>
            <a:ext cx="198360" cy="152280"/>
          </a:xfrm>
          <a:custGeom>
            <a:avLst/>
            <a:gdLst/>
            <a:ahLst/>
            <a:rect l="l" t="t" r="r" b="b"/>
            <a:pathLst>
              <a:path w="742" h="563">
                <a:moveTo>
                  <a:pt x="673" y="76"/>
                </a:moveTo>
                <a:lnTo>
                  <a:pt x="172" y="76"/>
                </a:lnTo>
                <a:cubicBezTo>
                  <a:pt x="170" y="76"/>
                  <a:pt x="167" y="76"/>
                  <a:pt x="164" y="75"/>
                </a:cubicBezTo>
                <a:lnTo>
                  <a:pt x="109" y="10"/>
                </a:lnTo>
                <a:cubicBezTo>
                  <a:pt x="109" y="10"/>
                  <a:pt x="102" y="1"/>
                  <a:pt x="82" y="2"/>
                </a:cubicBezTo>
                <a:cubicBezTo>
                  <a:pt x="70" y="3"/>
                  <a:pt x="58" y="3"/>
                  <a:pt x="50" y="2"/>
                </a:cubicBezTo>
                <a:cubicBezTo>
                  <a:pt x="45" y="1"/>
                  <a:pt x="41" y="0"/>
                  <a:pt x="36" y="0"/>
                </a:cubicBezTo>
                <a:cubicBezTo>
                  <a:pt x="16" y="0"/>
                  <a:pt x="0" y="16"/>
                  <a:pt x="0" y="35"/>
                </a:cubicBezTo>
                <a:cubicBezTo>
                  <a:pt x="0" y="55"/>
                  <a:pt x="16" y="71"/>
                  <a:pt x="36" y="71"/>
                </a:cubicBezTo>
                <a:cubicBezTo>
                  <a:pt x="49" y="71"/>
                  <a:pt x="60" y="64"/>
                  <a:pt x="66" y="54"/>
                </a:cubicBezTo>
                <a:lnTo>
                  <a:pt x="85" y="54"/>
                </a:lnTo>
                <a:cubicBezTo>
                  <a:pt x="85" y="54"/>
                  <a:pt x="97" y="50"/>
                  <a:pt x="110" y="69"/>
                </a:cubicBezTo>
                <a:cubicBezTo>
                  <a:pt x="114" y="73"/>
                  <a:pt x="120" y="82"/>
                  <a:pt x="128" y="92"/>
                </a:cubicBezTo>
                <a:cubicBezTo>
                  <a:pt x="127" y="97"/>
                  <a:pt x="128" y="104"/>
                  <a:pt x="131" y="113"/>
                </a:cubicBezTo>
                <a:lnTo>
                  <a:pt x="267" y="379"/>
                </a:lnTo>
                <a:lnTo>
                  <a:pt x="271" y="384"/>
                </a:lnTo>
                <a:lnTo>
                  <a:pt x="277" y="388"/>
                </a:lnTo>
                <a:lnTo>
                  <a:pt x="285" y="392"/>
                </a:lnTo>
                <a:lnTo>
                  <a:pt x="294" y="393"/>
                </a:lnTo>
                <a:lnTo>
                  <a:pt x="514" y="393"/>
                </a:lnTo>
                <a:cubicBezTo>
                  <a:pt x="554" y="393"/>
                  <a:pt x="568" y="380"/>
                  <a:pt x="568" y="368"/>
                </a:cubicBezTo>
                <a:lnTo>
                  <a:pt x="569" y="364"/>
                </a:lnTo>
                <a:lnTo>
                  <a:pt x="568" y="360"/>
                </a:lnTo>
                <a:lnTo>
                  <a:pt x="567" y="357"/>
                </a:lnTo>
                <a:lnTo>
                  <a:pt x="565" y="354"/>
                </a:lnTo>
                <a:lnTo>
                  <a:pt x="562" y="351"/>
                </a:lnTo>
                <a:lnTo>
                  <a:pt x="558" y="349"/>
                </a:lnTo>
                <a:lnTo>
                  <a:pt x="549" y="348"/>
                </a:lnTo>
                <a:lnTo>
                  <a:pt x="314" y="348"/>
                </a:lnTo>
                <a:cubicBezTo>
                  <a:pt x="314" y="348"/>
                  <a:pt x="302" y="350"/>
                  <a:pt x="296" y="335"/>
                </a:cubicBezTo>
                <a:lnTo>
                  <a:pt x="280" y="303"/>
                </a:lnTo>
                <a:cubicBezTo>
                  <a:pt x="280" y="295"/>
                  <a:pt x="306" y="294"/>
                  <a:pt x="314" y="294"/>
                </a:cubicBezTo>
                <a:lnTo>
                  <a:pt x="593" y="294"/>
                </a:lnTo>
                <a:lnTo>
                  <a:pt x="597" y="294"/>
                </a:lnTo>
                <a:lnTo>
                  <a:pt x="602" y="293"/>
                </a:lnTo>
                <a:lnTo>
                  <a:pt x="606" y="293"/>
                </a:lnTo>
                <a:lnTo>
                  <a:pt x="611" y="290"/>
                </a:lnTo>
                <a:lnTo>
                  <a:pt x="614" y="288"/>
                </a:lnTo>
                <a:lnTo>
                  <a:pt x="616" y="286"/>
                </a:lnTo>
                <a:lnTo>
                  <a:pt x="618" y="283"/>
                </a:lnTo>
                <a:lnTo>
                  <a:pt x="620" y="280"/>
                </a:lnTo>
                <a:lnTo>
                  <a:pt x="715" y="113"/>
                </a:lnTo>
                <a:cubicBezTo>
                  <a:pt x="742" y="76"/>
                  <a:pt x="720" y="75"/>
                  <a:pt x="673" y="76"/>
                </a:cubicBezTo>
                <a:close/>
                <a:moveTo>
                  <a:pt x="340" y="433"/>
                </a:moveTo>
                <a:cubicBezTo>
                  <a:pt x="304" y="433"/>
                  <a:pt x="275" y="463"/>
                  <a:pt x="275" y="498"/>
                </a:cubicBezTo>
                <a:cubicBezTo>
                  <a:pt x="275" y="534"/>
                  <a:pt x="304" y="563"/>
                  <a:pt x="340" y="563"/>
                </a:cubicBezTo>
                <a:cubicBezTo>
                  <a:pt x="376" y="563"/>
                  <a:pt x="405" y="534"/>
                  <a:pt x="405" y="498"/>
                </a:cubicBezTo>
                <a:cubicBezTo>
                  <a:pt x="405" y="462"/>
                  <a:pt x="376" y="433"/>
                  <a:pt x="340" y="433"/>
                </a:cubicBezTo>
                <a:close/>
                <a:moveTo>
                  <a:pt x="491" y="433"/>
                </a:moveTo>
                <a:cubicBezTo>
                  <a:pt x="455" y="433"/>
                  <a:pt x="426" y="463"/>
                  <a:pt x="426" y="498"/>
                </a:cubicBezTo>
                <a:cubicBezTo>
                  <a:pt x="426" y="534"/>
                  <a:pt x="455" y="563"/>
                  <a:pt x="491" y="563"/>
                </a:cubicBezTo>
                <a:cubicBezTo>
                  <a:pt x="527" y="563"/>
                  <a:pt x="556" y="534"/>
                  <a:pt x="556" y="498"/>
                </a:cubicBezTo>
                <a:cubicBezTo>
                  <a:pt x="556" y="462"/>
                  <a:pt x="527" y="433"/>
                  <a:pt x="491" y="433"/>
                </a:cubicBezTo>
                <a:close/>
                <a:moveTo>
                  <a:pt x="474" y="133"/>
                </a:moveTo>
                <a:lnTo>
                  <a:pt x="509" y="133"/>
                </a:lnTo>
                <a:lnTo>
                  <a:pt x="509" y="238"/>
                </a:lnTo>
                <a:lnTo>
                  <a:pt x="474" y="238"/>
                </a:lnTo>
                <a:lnTo>
                  <a:pt x="474" y="133"/>
                </a:lnTo>
                <a:close/>
                <a:moveTo>
                  <a:pt x="416" y="133"/>
                </a:moveTo>
                <a:lnTo>
                  <a:pt x="452" y="133"/>
                </a:lnTo>
                <a:lnTo>
                  <a:pt x="452" y="238"/>
                </a:lnTo>
                <a:lnTo>
                  <a:pt x="416" y="238"/>
                </a:lnTo>
                <a:lnTo>
                  <a:pt x="416" y="133"/>
                </a:lnTo>
                <a:close/>
                <a:moveTo>
                  <a:pt x="361" y="133"/>
                </a:moveTo>
                <a:lnTo>
                  <a:pt x="397" y="133"/>
                </a:lnTo>
                <a:lnTo>
                  <a:pt x="397" y="238"/>
                </a:lnTo>
                <a:lnTo>
                  <a:pt x="361" y="238"/>
                </a:lnTo>
                <a:lnTo>
                  <a:pt x="361" y="133"/>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68" name="Freeform 262"/>
          <p:cNvSpPr/>
          <p:nvPr/>
        </p:nvSpPr>
        <p:spPr>
          <a:xfrm>
            <a:off x="7348680" y="4824360"/>
            <a:ext cx="158760" cy="155520"/>
          </a:xfrm>
          <a:custGeom>
            <a:avLst/>
            <a:gdLst/>
            <a:ahLst/>
            <a:rect l="l" t="t" r="r" b="b"/>
            <a:pathLst>
              <a:path w="593" h="575">
                <a:moveTo>
                  <a:pt x="275" y="462"/>
                </a:moveTo>
                <a:cubicBezTo>
                  <a:pt x="275" y="462"/>
                  <a:pt x="107" y="352"/>
                  <a:pt x="120" y="168"/>
                </a:cubicBezTo>
                <a:cubicBezTo>
                  <a:pt x="120" y="168"/>
                  <a:pt x="256" y="155"/>
                  <a:pt x="280" y="112"/>
                </a:cubicBezTo>
                <a:cubicBezTo>
                  <a:pt x="280" y="112"/>
                  <a:pt x="327" y="171"/>
                  <a:pt x="428" y="164"/>
                </a:cubicBezTo>
                <a:cubicBezTo>
                  <a:pt x="428" y="164"/>
                  <a:pt x="468" y="343"/>
                  <a:pt x="275" y="462"/>
                </a:cubicBezTo>
                <a:close/>
                <a:moveTo>
                  <a:pt x="527" y="84"/>
                </a:moveTo>
                <a:cubicBezTo>
                  <a:pt x="360" y="96"/>
                  <a:pt x="283" y="0"/>
                  <a:pt x="283" y="0"/>
                </a:cubicBezTo>
                <a:cubicBezTo>
                  <a:pt x="200" y="101"/>
                  <a:pt x="20" y="83"/>
                  <a:pt x="20" y="83"/>
                </a:cubicBezTo>
                <a:cubicBezTo>
                  <a:pt x="0" y="385"/>
                  <a:pt x="275" y="575"/>
                  <a:pt x="275" y="575"/>
                </a:cubicBezTo>
                <a:cubicBezTo>
                  <a:pt x="593" y="379"/>
                  <a:pt x="527" y="84"/>
                  <a:pt x="527" y="84"/>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69" name="Freeform 263"/>
          <p:cNvSpPr/>
          <p:nvPr/>
        </p:nvSpPr>
        <p:spPr>
          <a:xfrm>
            <a:off x="8726400" y="2606760"/>
            <a:ext cx="146160" cy="158760"/>
          </a:xfrm>
          <a:custGeom>
            <a:avLst/>
            <a:gdLst/>
            <a:ahLst/>
            <a:rect l="l" t="t" r="r" b="b"/>
            <a:pathLst>
              <a:path w="544" h="592">
                <a:moveTo>
                  <a:pt x="516" y="188"/>
                </a:moveTo>
                <a:cubicBezTo>
                  <a:pt x="471" y="221"/>
                  <a:pt x="379" y="243"/>
                  <a:pt x="272" y="243"/>
                </a:cubicBezTo>
                <a:cubicBezTo>
                  <a:pt x="165" y="243"/>
                  <a:pt x="73" y="221"/>
                  <a:pt x="29" y="188"/>
                </a:cubicBezTo>
                <a:cubicBezTo>
                  <a:pt x="11" y="201"/>
                  <a:pt x="0" y="216"/>
                  <a:pt x="0" y="232"/>
                </a:cubicBezTo>
                <a:cubicBezTo>
                  <a:pt x="0" y="287"/>
                  <a:pt x="122" y="332"/>
                  <a:pt x="272" y="332"/>
                </a:cubicBezTo>
                <a:cubicBezTo>
                  <a:pt x="422" y="332"/>
                  <a:pt x="544" y="287"/>
                  <a:pt x="544" y="232"/>
                </a:cubicBezTo>
                <a:cubicBezTo>
                  <a:pt x="544" y="216"/>
                  <a:pt x="534" y="201"/>
                  <a:pt x="516" y="188"/>
                </a:cubicBezTo>
                <a:close/>
                <a:moveTo>
                  <a:pt x="516" y="448"/>
                </a:moveTo>
                <a:cubicBezTo>
                  <a:pt x="471" y="481"/>
                  <a:pt x="379" y="504"/>
                  <a:pt x="272" y="504"/>
                </a:cubicBezTo>
                <a:cubicBezTo>
                  <a:pt x="165" y="504"/>
                  <a:pt x="73" y="481"/>
                  <a:pt x="29" y="448"/>
                </a:cubicBezTo>
                <a:cubicBezTo>
                  <a:pt x="11" y="462"/>
                  <a:pt x="0" y="477"/>
                  <a:pt x="0" y="493"/>
                </a:cubicBezTo>
                <a:cubicBezTo>
                  <a:pt x="0" y="548"/>
                  <a:pt x="122" y="592"/>
                  <a:pt x="272" y="592"/>
                </a:cubicBezTo>
                <a:cubicBezTo>
                  <a:pt x="422" y="592"/>
                  <a:pt x="544" y="548"/>
                  <a:pt x="544" y="493"/>
                </a:cubicBezTo>
                <a:cubicBezTo>
                  <a:pt x="544" y="477"/>
                  <a:pt x="534" y="462"/>
                  <a:pt x="516" y="448"/>
                </a:cubicBezTo>
                <a:close/>
                <a:moveTo>
                  <a:pt x="516" y="321"/>
                </a:moveTo>
                <a:cubicBezTo>
                  <a:pt x="471" y="353"/>
                  <a:pt x="379" y="376"/>
                  <a:pt x="272" y="376"/>
                </a:cubicBezTo>
                <a:cubicBezTo>
                  <a:pt x="165" y="376"/>
                  <a:pt x="73" y="353"/>
                  <a:pt x="29" y="321"/>
                </a:cubicBezTo>
                <a:cubicBezTo>
                  <a:pt x="11" y="334"/>
                  <a:pt x="0" y="349"/>
                  <a:pt x="0" y="365"/>
                </a:cubicBezTo>
                <a:cubicBezTo>
                  <a:pt x="0" y="420"/>
                  <a:pt x="122" y="464"/>
                  <a:pt x="272" y="464"/>
                </a:cubicBezTo>
                <a:cubicBezTo>
                  <a:pt x="422" y="464"/>
                  <a:pt x="544" y="420"/>
                  <a:pt x="544" y="365"/>
                </a:cubicBezTo>
                <a:cubicBezTo>
                  <a:pt x="544" y="349"/>
                  <a:pt x="534" y="334"/>
                  <a:pt x="516" y="321"/>
                </a:cubicBezTo>
                <a:close/>
                <a:moveTo>
                  <a:pt x="272" y="199"/>
                </a:moveTo>
                <a:cubicBezTo>
                  <a:pt x="422" y="199"/>
                  <a:pt x="544" y="154"/>
                  <a:pt x="544" y="99"/>
                </a:cubicBezTo>
                <a:cubicBezTo>
                  <a:pt x="544" y="44"/>
                  <a:pt x="422" y="0"/>
                  <a:pt x="272" y="0"/>
                </a:cubicBezTo>
                <a:cubicBezTo>
                  <a:pt x="122" y="0"/>
                  <a:pt x="0" y="44"/>
                  <a:pt x="0" y="99"/>
                </a:cubicBezTo>
                <a:cubicBezTo>
                  <a:pt x="0" y="154"/>
                  <a:pt x="122" y="199"/>
                  <a:pt x="272" y="19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70" name="Freeform 264"/>
          <p:cNvSpPr/>
          <p:nvPr/>
        </p:nvSpPr>
        <p:spPr>
          <a:xfrm>
            <a:off x="9736200" y="1731960"/>
            <a:ext cx="179280" cy="158760"/>
          </a:xfrm>
          <a:custGeom>
            <a:avLst/>
            <a:gdLst/>
            <a:ahLst/>
            <a:rect l="l" t="t" r="r" b="b"/>
            <a:pathLst>
              <a:path w="668" h="599">
                <a:moveTo>
                  <a:pt x="345" y="162"/>
                </a:moveTo>
                <a:lnTo>
                  <a:pt x="183" y="0"/>
                </a:lnTo>
                <a:lnTo>
                  <a:pt x="21" y="162"/>
                </a:lnTo>
                <a:cubicBezTo>
                  <a:pt x="0" y="182"/>
                  <a:pt x="0" y="216"/>
                  <a:pt x="21" y="237"/>
                </a:cubicBezTo>
                <a:cubicBezTo>
                  <a:pt x="42" y="257"/>
                  <a:pt x="75" y="257"/>
                  <a:pt x="96" y="237"/>
                </a:cubicBezTo>
                <a:lnTo>
                  <a:pt x="130" y="202"/>
                </a:lnTo>
                <a:lnTo>
                  <a:pt x="130" y="546"/>
                </a:lnTo>
                <a:cubicBezTo>
                  <a:pt x="130" y="575"/>
                  <a:pt x="154" y="599"/>
                  <a:pt x="183" y="599"/>
                </a:cubicBezTo>
                <a:cubicBezTo>
                  <a:pt x="212" y="599"/>
                  <a:pt x="236" y="575"/>
                  <a:pt x="236" y="546"/>
                </a:cubicBezTo>
                <a:lnTo>
                  <a:pt x="236" y="202"/>
                </a:lnTo>
                <a:lnTo>
                  <a:pt x="270" y="237"/>
                </a:lnTo>
                <a:cubicBezTo>
                  <a:pt x="281" y="247"/>
                  <a:pt x="294" y="252"/>
                  <a:pt x="308" y="252"/>
                </a:cubicBezTo>
                <a:cubicBezTo>
                  <a:pt x="321" y="252"/>
                  <a:pt x="335" y="247"/>
                  <a:pt x="345" y="237"/>
                </a:cubicBezTo>
                <a:cubicBezTo>
                  <a:pt x="366" y="216"/>
                  <a:pt x="366" y="182"/>
                  <a:pt x="345" y="162"/>
                </a:cubicBezTo>
                <a:close/>
                <a:moveTo>
                  <a:pt x="647" y="362"/>
                </a:moveTo>
                <a:cubicBezTo>
                  <a:pt x="627" y="341"/>
                  <a:pt x="593" y="341"/>
                  <a:pt x="572" y="362"/>
                </a:cubicBezTo>
                <a:lnTo>
                  <a:pt x="538" y="396"/>
                </a:lnTo>
                <a:lnTo>
                  <a:pt x="538" y="53"/>
                </a:lnTo>
                <a:cubicBezTo>
                  <a:pt x="538" y="23"/>
                  <a:pt x="515" y="0"/>
                  <a:pt x="485" y="0"/>
                </a:cubicBezTo>
                <a:cubicBezTo>
                  <a:pt x="456" y="0"/>
                  <a:pt x="432" y="23"/>
                  <a:pt x="432" y="53"/>
                </a:cubicBezTo>
                <a:lnTo>
                  <a:pt x="432" y="396"/>
                </a:lnTo>
                <a:lnTo>
                  <a:pt x="398" y="362"/>
                </a:lnTo>
                <a:cubicBezTo>
                  <a:pt x="388" y="351"/>
                  <a:pt x="374" y="346"/>
                  <a:pt x="361" y="346"/>
                </a:cubicBezTo>
                <a:cubicBezTo>
                  <a:pt x="347" y="346"/>
                  <a:pt x="334" y="351"/>
                  <a:pt x="323" y="362"/>
                </a:cubicBezTo>
                <a:cubicBezTo>
                  <a:pt x="303" y="382"/>
                  <a:pt x="303" y="416"/>
                  <a:pt x="323" y="437"/>
                </a:cubicBezTo>
                <a:lnTo>
                  <a:pt x="485" y="599"/>
                </a:lnTo>
                <a:lnTo>
                  <a:pt x="647" y="437"/>
                </a:lnTo>
                <a:cubicBezTo>
                  <a:pt x="668" y="416"/>
                  <a:pt x="668" y="383"/>
                  <a:pt x="647" y="36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71" name="Freeform 265"/>
          <p:cNvSpPr/>
          <p:nvPr/>
        </p:nvSpPr>
        <p:spPr>
          <a:xfrm>
            <a:off x="7381800" y="5159520"/>
            <a:ext cx="144360" cy="195120"/>
          </a:xfrm>
          <a:custGeom>
            <a:avLst/>
            <a:gdLst/>
            <a:ahLst/>
            <a:rect l="l" t="t" r="r" b="b"/>
            <a:pathLst>
              <a:path w="536" h="727">
                <a:moveTo>
                  <a:pt x="430" y="707"/>
                </a:moveTo>
                <a:lnTo>
                  <a:pt x="379" y="536"/>
                </a:lnTo>
                <a:cubicBezTo>
                  <a:pt x="379" y="536"/>
                  <a:pt x="536" y="332"/>
                  <a:pt x="334" y="232"/>
                </a:cubicBezTo>
                <a:cubicBezTo>
                  <a:pt x="202" y="165"/>
                  <a:pt x="59" y="78"/>
                  <a:pt x="18" y="0"/>
                </a:cubicBezTo>
                <a:cubicBezTo>
                  <a:pt x="0" y="163"/>
                  <a:pt x="14" y="380"/>
                  <a:pt x="27" y="436"/>
                </a:cubicBezTo>
                <a:cubicBezTo>
                  <a:pt x="45" y="510"/>
                  <a:pt x="141" y="682"/>
                  <a:pt x="295" y="579"/>
                </a:cubicBezTo>
                <a:cubicBezTo>
                  <a:pt x="305" y="570"/>
                  <a:pt x="300" y="579"/>
                  <a:pt x="300" y="579"/>
                </a:cubicBezTo>
                <a:cubicBezTo>
                  <a:pt x="300" y="579"/>
                  <a:pt x="319" y="563"/>
                  <a:pt x="297" y="494"/>
                </a:cubicBezTo>
                <a:cubicBezTo>
                  <a:pt x="270" y="405"/>
                  <a:pt x="101" y="274"/>
                  <a:pt x="56" y="103"/>
                </a:cubicBezTo>
                <a:cubicBezTo>
                  <a:pt x="157" y="274"/>
                  <a:pt x="246" y="363"/>
                  <a:pt x="287" y="425"/>
                </a:cubicBezTo>
                <a:cubicBezTo>
                  <a:pt x="342" y="510"/>
                  <a:pt x="406" y="727"/>
                  <a:pt x="406" y="727"/>
                </a:cubicBezTo>
                <a:lnTo>
                  <a:pt x="430" y="707"/>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72" name="Freeform 266"/>
          <p:cNvSpPr/>
          <p:nvPr/>
        </p:nvSpPr>
        <p:spPr>
          <a:xfrm>
            <a:off x="7704000" y="3584520"/>
            <a:ext cx="184320" cy="165240"/>
          </a:xfrm>
          <a:custGeom>
            <a:avLst/>
            <a:gdLst/>
            <a:ahLst/>
            <a:rect l="l" t="t" r="r" b="b"/>
            <a:pathLst>
              <a:path w="687" h="617">
                <a:moveTo>
                  <a:pt x="574" y="235"/>
                </a:moveTo>
                <a:cubicBezTo>
                  <a:pt x="554" y="235"/>
                  <a:pt x="537" y="219"/>
                  <a:pt x="537" y="199"/>
                </a:cubicBezTo>
                <a:cubicBezTo>
                  <a:pt x="537" y="179"/>
                  <a:pt x="554" y="162"/>
                  <a:pt x="574" y="162"/>
                </a:cubicBezTo>
                <a:cubicBezTo>
                  <a:pt x="594" y="162"/>
                  <a:pt x="610" y="179"/>
                  <a:pt x="610" y="199"/>
                </a:cubicBezTo>
                <a:cubicBezTo>
                  <a:pt x="610" y="219"/>
                  <a:pt x="594" y="235"/>
                  <a:pt x="574" y="235"/>
                </a:cubicBezTo>
                <a:close/>
                <a:moveTo>
                  <a:pt x="441" y="235"/>
                </a:moveTo>
                <a:cubicBezTo>
                  <a:pt x="421" y="235"/>
                  <a:pt x="405" y="219"/>
                  <a:pt x="405" y="199"/>
                </a:cubicBezTo>
                <a:cubicBezTo>
                  <a:pt x="405" y="179"/>
                  <a:pt x="421" y="162"/>
                  <a:pt x="441" y="162"/>
                </a:cubicBezTo>
                <a:cubicBezTo>
                  <a:pt x="461" y="162"/>
                  <a:pt x="478" y="179"/>
                  <a:pt x="478" y="199"/>
                </a:cubicBezTo>
                <a:cubicBezTo>
                  <a:pt x="478" y="219"/>
                  <a:pt x="461" y="235"/>
                  <a:pt x="441" y="235"/>
                </a:cubicBezTo>
                <a:close/>
                <a:moveTo>
                  <a:pt x="401" y="465"/>
                </a:moveTo>
                <a:lnTo>
                  <a:pt x="293" y="465"/>
                </a:lnTo>
                <a:lnTo>
                  <a:pt x="289" y="471"/>
                </a:lnTo>
                <a:cubicBezTo>
                  <a:pt x="261" y="508"/>
                  <a:pt x="209" y="566"/>
                  <a:pt x="148" y="584"/>
                </a:cubicBezTo>
                <a:cubicBezTo>
                  <a:pt x="167" y="556"/>
                  <a:pt x="190" y="513"/>
                  <a:pt x="186" y="478"/>
                </a:cubicBezTo>
                <a:lnTo>
                  <a:pt x="185" y="465"/>
                </a:lnTo>
                <a:lnTo>
                  <a:pt x="104" y="465"/>
                </a:lnTo>
                <a:cubicBezTo>
                  <a:pt x="62" y="465"/>
                  <a:pt x="28" y="431"/>
                  <a:pt x="28" y="390"/>
                </a:cubicBezTo>
                <a:lnTo>
                  <a:pt x="28" y="182"/>
                </a:lnTo>
                <a:cubicBezTo>
                  <a:pt x="28" y="140"/>
                  <a:pt x="62" y="106"/>
                  <a:pt x="104" y="106"/>
                </a:cubicBezTo>
                <a:lnTo>
                  <a:pt x="176" y="106"/>
                </a:lnTo>
                <a:lnTo>
                  <a:pt x="176" y="319"/>
                </a:lnTo>
                <a:cubicBezTo>
                  <a:pt x="176" y="372"/>
                  <a:pt x="219" y="416"/>
                  <a:pt x="272" y="416"/>
                </a:cubicBezTo>
                <a:lnTo>
                  <a:pt x="380" y="416"/>
                </a:lnTo>
                <a:cubicBezTo>
                  <a:pt x="391" y="429"/>
                  <a:pt x="405" y="446"/>
                  <a:pt x="421" y="463"/>
                </a:cubicBezTo>
                <a:cubicBezTo>
                  <a:pt x="414" y="464"/>
                  <a:pt x="408" y="465"/>
                  <a:pt x="401" y="465"/>
                </a:cubicBezTo>
                <a:close/>
                <a:moveTo>
                  <a:pt x="309" y="162"/>
                </a:moveTo>
                <a:cubicBezTo>
                  <a:pt x="329" y="162"/>
                  <a:pt x="346" y="179"/>
                  <a:pt x="346" y="199"/>
                </a:cubicBezTo>
                <a:cubicBezTo>
                  <a:pt x="346" y="219"/>
                  <a:pt x="329" y="235"/>
                  <a:pt x="309" y="235"/>
                </a:cubicBezTo>
                <a:cubicBezTo>
                  <a:pt x="289" y="235"/>
                  <a:pt x="273" y="219"/>
                  <a:pt x="273" y="199"/>
                </a:cubicBezTo>
                <a:cubicBezTo>
                  <a:pt x="273" y="179"/>
                  <a:pt x="289" y="162"/>
                  <a:pt x="309" y="162"/>
                </a:cubicBezTo>
                <a:close/>
                <a:moveTo>
                  <a:pt x="591" y="0"/>
                </a:moveTo>
                <a:lnTo>
                  <a:pt x="272" y="0"/>
                </a:lnTo>
                <a:cubicBezTo>
                  <a:pt x="225" y="0"/>
                  <a:pt x="186" y="34"/>
                  <a:pt x="177" y="79"/>
                </a:cubicBezTo>
                <a:lnTo>
                  <a:pt x="104" y="79"/>
                </a:lnTo>
                <a:cubicBezTo>
                  <a:pt x="47" y="79"/>
                  <a:pt x="0" y="125"/>
                  <a:pt x="0" y="182"/>
                </a:cubicBezTo>
                <a:lnTo>
                  <a:pt x="0" y="390"/>
                </a:lnTo>
                <a:cubicBezTo>
                  <a:pt x="0" y="447"/>
                  <a:pt x="47" y="493"/>
                  <a:pt x="104" y="493"/>
                </a:cubicBezTo>
                <a:lnTo>
                  <a:pt x="159" y="493"/>
                </a:lnTo>
                <a:cubicBezTo>
                  <a:pt x="155" y="529"/>
                  <a:pt x="120" y="577"/>
                  <a:pt x="106" y="594"/>
                </a:cubicBezTo>
                <a:lnTo>
                  <a:pt x="86" y="617"/>
                </a:lnTo>
                <a:lnTo>
                  <a:pt x="117" y="616"/>
                </a:lnTo>
                <a:cubicBezTo>
                  <a:pt x="200" y="613"/>
                  <a:pt x="270" y="540"/>
                  <a:pt x="307" y="493"/>
                </a:cubicBezTo>
                <a:lnTo>
                  <a:pt x="401" y="493"/>
                </a:lnTo>
                <a:cubicBezTo>
                  <a:pt x="416" y="493"/>
                  <a:pt x="430" y="490"/>
                  <a:pt x="443" y="484"/>
                </a:cubicBezTo>
                <a:cubicBezTo>
                  <a:pt x="480" y="517"/>
                  <a:pt x="527" y="546"/>
                  <a:pt x="578" y="548"/>
                </a:cubicBezTo>
                <a:cubicBezTo>
                  <a:pt x="578" y="548"/>
                  <a:pt x="511" y="471"/>
                  <a:pt x="517" y="416"/>
                </a:cubicBezTo>
                <a:lnTo>
                  <a:pt x="591" y="416"/>
                </a:lnTo>
                <a:cubicBezTo>
                  <a:pt x="644" y="416"/>
                  <a:pt x="687" y="372"/>
                  <a:pt x="687" y="319"/>
                </a:cubicBezTo>
                <a:lnTo>
                  <a:pt x="687" y="96"/>
                </a:lnTo>
                <a:cubicBezTo>
                  <a:pt x="687" y="43"/>
                  <a:pt x="644" y="0"/>
                  <a:pt x="591"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73" name="Freeform 267"/>
          <p:cNvSpPr/>
          <p:nvPr/>
        </p:nvSpPr>
        <p:spPr>
          <a:xfrm>
            <a:off x="2254320" y="3276720"/>
            <a:ext cx="231840" cy="156960"/>
          </a:xfrm>
          <a:custGeom>
            <a:avLst/>
            <a:gdLst/>
            <a:ahLst/>
            <a:rect l="l" t="t" r="r" b="b"/>
            <a:pathLst>
              <a:path w="864" h="583">
                <a:moveTo>
                  <a:pt x="559" y="386"/>
                </a:moveTo>
                <a:lnTo>
                  <a:pt x="504" y="291"/>
                </a:lnTo>
                <a:lnTo>
                  <a:pt x="336" y="0"/>
                </a:lnTo>
                <a:lnTo>
                  <a:pt x="168" y="291"/>
                </a:lnTo>
                <a:lnTo>
                  <a:pt x="0" y="583"/>
                </a:lnTo>
                <a:lnTo>
                  <a:pt x="336" y="583"/>
                </a:lnTo>
                <a:lnTo>
                  <a:pt x="446" y="583"/>
                </a:lnTo>
                <a:lnTo>
                  <a:pt x="537" y="425"/>
                </a:lnTo>
                <a:lnTo>
                  <a:pt x="559" y="386"/>
                </a:lnTo>
                <a:close/>
                <a:moveTo>
                  <a:pt x="760" y="403"/>
                </a:moveTo>
                <a:lnTo>
                  <a:pt x="657" y="223"/>
                </a:lnTo>
                <a:lnTo>
                  <a:pt x="553" y="403"/>
                </a:lnTo>
                <a:lnTo>
                  <a:pt x="449" y="582"/>
                </a:lnTo>
                <a:lnTo>
                  <a:pt x="657" y="582"/>
                </a:lnTo>
                <a:lnTo>
                  <a:pt x="864" y="582"/>
                </a:lnTo>
                <a:lnTo>
                  <a:pt x="760" y="403"/>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74" name="Freeform 268"/>
          <p:cNvSpPr/>
          <p:nvPr/>
        </p:nvSpPr>
        <p:spPr>
          <a:xfrm>
            <a:off x="5899320" y="1174680"/>
            <a:ext cx="158760" cy="158760"/>
          </a:xfrm>
          <a:custGeom>
            <a:avLst/>
            <a:gdLst/>
            <a:ahLst/>
            <a:rect l="l" t="t" r="r" b="b"/>
            <a:pathLst>
              <a:path w="594" h="594">
                <a:moveTo>
                  <a:pt x="475" y="120"/>
                </a:moveTo>
                <a:cubicBezTo>
                  <a:pt x="455" y="132"/>
                  <a:pt x="435" y="141"/>
                  <a:pt x="416" y="148"/>
                </a:cubicBezTo>
                <a:cubicBezTo>
                  <a:pt x="393" y="105"/>
                  <a:pt x="365" y="72"/>
                  <a:pt x="343" y="50"/>
                </a:cubicBezTo>
                <a:cubicBezTo>
                  <a:pt x="395" y="60"/>
                  <a:pt x="440" y="85"/>
                  <a:pt x="475" y="120"/>
                </a:cubicBezTo>
                <a:close/>
                <a:moveTo>
                  <a:pt x="455" y="291"/>
                </a:moveTo>
                <a:cubicBezTo>
                  <a:pt x="454" y="285"/>
                  <a:pt x="454" y="280"/>
                  <a:pt x="454" y="274"/>
                </a:cubicBezTo>
                <a:cubicBezTo>
                  <a:pt x="451" y="239"/>
                  <a:pt x="442" y="207"/>
                  <a:pt x="430" y="178"/>
                </a:cubicBezTo>
                <a:cubicBezTo>
                  <a:pt x="452" y="170"/>
                  <a:pt x="475" y="159"/>
                  <a:pt x="498" y="146"/>
                </a:cubicBezTo>
                <a:cubicBezTo>
                  <a:pt x="528" y="187"/>
                  <a:pt x="546" y="237"/>
                  <a:pt x="548" y="291"/>
                </a:cubicBezTo>
                <a:lnTo>
                  <a:pt x="455" y="291"/>
                </a:lnTo>
                <a:close/>
                <a:moveTo>
                  <a:pt x="428" y="424"/>
                </a:moveTo>
                <a:cubicBezTo>
                  <a:pt x="443" y="388"/>
                  <a:pt x="452" y="353"/>
                  <a:pt x="454" y="318"/>
                </a:cubicBezTo>
                <a:lnTo>
                  <a:pt x="547" y="318"/>
                </a:lnTo>
                <a:cubicBezTo>
                  <a:pt x="543" y="369"/>
                  <a:pt x="523" y="416"/>
                  <a:pt x="493" y="454"/>
                </a:cubicBezTo>
                <a:cubicBezTo>
                  <a:pt x="471" y="441"/>
                  <a:pt x="449" y="431"/>
                  <a:pt x="428" y="424"/>
                </a:cubicBezTo>
                <a:close/>
                <a:moveTo>
                  <a:pt x="414" y="454"/>
                </a:moveTo>
                <a:cubicBezTo>
                  <a:pt x="432" y="460"/>
                  <a:pt x="451" y="469"/>
                  <a:pt x="470" y="479"/>
                </a:cubicBezTo>
                <a:cubicBezTo>
                  <a:pt x="438" y="508"/>
                  <a:pt x="400" y="530"/>
                  <a:pt x="357" y="540"/>
                </a:cubicBezTo>
                <a:cubicBezTo>
                  <a:pt x="380" y="512"/>
                  <a:pt x="399" y="483"/>
                  <a:pt x="414" y="454"/>
                </a:cubicBezTo>
                <a:close/>
                <a:moveTo>
                  <a:pt x="185" y="455"/>
                </a:moveTo>
                <a:cubicBezTo>
                  <a:pt x="200" y="484"/>
                  <a:pt x="219" y="513"/>
                  <a:pt x="243" y="541"/>
                </a:cubicBezTo>
                <a:cubicBezTo>
                  <a:pt x="199" y="532"/>
                  <a:pt x="160" y="511"/>
                  <a:pt x="128" y="482"/>
                </a:cubicBezTo>
                <a:cubicBezTo>
                  <a:pt x="142" y="473"/>
                  <a:pt x="161" y="464"/>
                  <a:pt x="185" y="455"/>
                </a:cubicBezTo>
                <a:close/>
                <a:moveTo>
                  <a:pt x="143" y="318"/>
                </a:moveTo>
                <a:cubicBezTo>
                  <a:pt x="146" y="354"/>
                  <a:pt x="155" y="389"/>
                  <a:pt x="170" y="425"/>
                </a:cubicBezTo>
                <a:cubicBezTo>
                  <a:pt x="142" y="436"/>
                  <a:pt x="120" y="448"/>
                  <a:pt x="105" y="457"/>
                </a:cubicBezTo>
                <a:cubicBezTo>
                  <a:pt x="73" y="419"/>
                  <a:pt x="52" y="371"/>
                  <a:pt x="48" y="318"/>
                </a:cubicBezTo>
                <a:lnTo>
                  <a:pt x="143" y="318"/>
                </a:lnTo>
                <a:close/>
                <a:moveTo>
                  <a:pt x="167" y="176"/>
                </a:moveTo>
                <a:cubicBezTo>
                  <a:pt x="155" y="205"/>
                  <a:pt x="146" y="237"/>
                  <a:pt x="143" y="272"/>
                </a:cubicBezTo>
                <a:cubicBezTo>
                  <a:pt x="143" y="278"/>
                  <a:pt x="143" y="284"/>
                  <a:pt x="142" y="291"/>
                </a:cubicBezTo>
                <a:lnTo>
                  <a:pt x="47" y="291"/>
                </a:lnTo>
                <a:cubicBezTo>
                  <a:pt x="48" y="235"/>
                  <a:pt x="68" y="183"/>
                  <a:pt x="100" y="142"/>
                </a:cubicBezTo>
                <a:cubicBezTo>
                  <a:pt x="114" y="152"/>
                  <a:pt x="137" y="164"/>
                  <a:pt x="167" y="176"/>
                </a:cubicBezTo>
                <a:close/>
                <a:moveTo>
                  <a:pt x="181" y="147"/>
                </a:moveTo>
                <a:cubicBezTo>
                  <a:pt x="155" y="137"/>
                  <a:pt x="136" y="126"/>
                  <a:pt x="122" y="117"/>
                </a:cubicBezTo>
                <a:cubicBezTo>
                  <a:pt x="157" y="83"/>
                  <a:pt x="202" y="60"/>
                  <a:pt x="252" y="50"/>
                </a:cubicBezTo>
                <a:cubicBezTo>
                  <a:pt x="230" y="72"/>
                  <a:pt x="203" y="105"/>
                  <a:pt x="181" y="147"/>
                </a:cubicBezTo>
                <a:close/>
                <a:moveTo>
                  <a:pt x="310" y="169"/>
                </a:moveTo>
                <a:lnTo>
                  <a:pt x="310" y="65"/>
                </a:lnTo>
                <a:cubicBezTo>
                  <a:pt x="329" y="82"/>
                  <a:pt x="359" y="115"/>
                  <a:pt x="384" y="158"/>
                </a:cubicBezTo>
                <a:cubicBezTo>
                  <a:pt x="358" y="165"/>
                  <a:pt x="333" y="168"/>
                  <a:pt x="310" y="169"/>
                </a:cubicBezTo>
                <a:close/>
                <a:moveTo>
                  <a:pt x="310" y="401"/>
                </a:moveTo>
                <a:lnTo>
                  <a:pt x="310" y="318"/>
                </a:lnTo>
                <a:lnTo>
                  <a:pt x="420" y="318"/>
                </a:lnTo>
                <a:cubicBezTo>
                  <a:pt x="418" y="350"/>
                  <a:pt x="410" y="381"/>
                  <a:pt x="396" y="413"/>
                </a:cubicBezTo>
                <a:cubicBezTo>
                  <a:pt x="366" y="405"/>
                  <a:pt x="337" y="402"/>
                  <a:pt x="310" y="401"/>
                </a:cubicBezTo>
                <a:close/>
                <a:moveTo>
                  <a:pt x="310" y="434"/>
                </a:moveTo>
                <a:cubicBezTo>
                  <a:pt x="332" y="435"/>
                  <a:pt x="356" y="438"/>
                  <a:pt x="382" y="444"/>
                </a:cubicBezTo>
                <a:cubicBezTo>
                  <a:pt x="364" y="477"/>
                  <a:pt x="340" y="511"/>
                  <a:pt x="310" y="544"/>
                </a:cubicBezTo>
                <a:lnTo>
                  <a:pt x="310" y="434"/>
                </a:lnTo>
                <a:close/>
                <a:moveTo>
                  <a:pt x="283" y="435"/>
                </a:moveTo>
                <a:lnTo>
                  <a:pt x="283" y="537"/>
                </a:lnTo>
                <a:cubicBezTo>
                  <a:pt x="256" y="506"/>
                  <a:pt x="234" y="475"/>
                  <a:pt x="217" y="445"/>
                </a:cubicBezTo>
                <a:cubicBezTo>
                  <a:pt x="237" y="440"/>
                  <a:pt x="259" y="436"/>
                  <a:pt x="283" y="435"/>
                </a:cubicBezTo>
                <a:close/>
                <a:moveTo>
                  <a:pt x="283" y="318"/>
                </a:moveTo>
                <a:lnTo>
                  <a:pt x="283" y="401"/>
                </a:lnTo>
                <a:cubicBezTo>
                  <a:pt x="253" y="403"/>
                  <a:pt x="226" y="408"/>
                  <a:pt x="202" y="415"/>
                </a:cubicBezTo>
                <a:cubicBezTo>
                  <a:pt x="188" y="382"/>
                  <a:pt x="180" y="350"/>
                  <a:pt x="177" y="318"/>
                </a:cubicBezTo>
                <a:lnTo>
                  <a:pt x="283" y="318"/>
                </a:lnTo>
                <a:close/>
                <a:moveTo>
                  <a:pt x="283" y="169"/>
                </a:moveTo>
                <a:cubicBezTo>
                  <a:pt x="257" y="167"/>
                  <a:pt x="234" y="163"/>
                  <a:pt x="213" y="157"/>
                </a:cubicBezTo>
                <a:cubicBezTo>
                  <a:pt x="235" y="117"/>
                  <a:pt x="263" y="86"/>
                  <a:pt x="283" y="67"/>
                </a:cubicBezTo>
                <a:lnTo>
                  <a:pt x="283" y="169"/>
                </a:lnTo>
                <a:close/>
                <a:moveTo>
                  <a:pt x="199" y="187"/>
                </a:moveTo>
                <a:cubicBezTo>
                  <a:pt x="224" y="194"/>
                  <a:pt x="252" y="199"/>
                  <a:pt x="283" y="201"/>
                </a:cubicBezTo>
                <a:lnTo>
                  <a:pt x="283" y="291"/>
                </a:lnTo>
                <a:lnTo>
                  <a:pt x="176" y="291"/>
                </a:lnTo>
                <a:cubicBezTo>
                  <a:pt x="176" y="285"/>
                  <a:pt x="176" y="280"/>
                  <a:pt x="177" y="275"/>
                </a:cubicBezTo>
                <a:cubicBezTo>
                  <a:pt x="179" y="243"/>
                  <a:pt x="187" y="213"/>
                  <a:pt x="199" y="187"/>
                </a:cubicBezTo>
                <a:close/>
                <a:moveTo>
                  <a:pt x="421" y="277"/>
                </a:moveTo>
                <a:cubicBezTo>
                  <a:pt x="421" y="281"/>
                  <a:pt x="421" y="286"/>
                  <a:pt x="421" y="291"/>
                </a:cubicBezTo>
                <a:lnTo>
                  <a:pt x="310" y="291"/>
                </a:lnTo>
                <a:lnTo>
                  <a:pt x="310" y="201"/>
                </a:lnTo>
                <a:cubicBezTo>
                  <a:pt x="338" y="201"/>
                  <a:pt x="367" y="197"/>
                  <a:pt x="398" y="188"/>
                </a:cubicBezTo>
                <a:cubicBezTo>
                  <a:pt x="410" y="215"/>
                  <a:pt x="418" y="244"/>
                  <a:pt x="421" y="277"/>
                </a:cubicBezTo>
                <a:close/>
                <a:moveTo>
                  <a:pt x="297" y="0"/>
                </a:moveTo>
                <a:cubicBezTo>
                  <a:pt x="133" y="0"/>
                  <a:pt x="0" y="133"/>
                  <a:pt x="0" y="297"/>
                </a:cubicBezTo>
                <a:cubicBezTo>
                  <a:pt x="0" y="461"/>
                  <a:pt x="133" y="594"/>
                  <a:pt x="297" y="594"/>
                </a:cubicBezTo>
                <a:cubicBezTo>
                  <a:pt x="461" y="594"/>
                  <a:pt x="594" y="461"/>
                  <a:pt x="594" y="297"/>
                </a:cubicBezTo>
                <a:cubicBezTo>
                  <a:pt x="594" y="133"/>
                  <a:pt x="461" y="0"/>
                  <a:pt x="297"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75" name="Freeform 269"/>
          <p:cNvSpPr/>
          <p:nvPr/>
        </p:nvSpPr>
        <p:spPr>
          <a:xfrm>
            <a:off x="6983280" y="1965240"/>
            <a:ext cx="217800" cy="228600"/>
          </a:xfrm>
          <a:custGeom>
            <a:avLst/>
            <a:gdLst/>
            <a:ahLst/>
            <a:rect l="l" t="t" r="r" b="b"/>
            <a:pathLst>
              <a:path w="810" h="855">
                <a:moveTo>
                  <a:pt x="102" y="481"/>
                </a:moveTo>
                <a:cubicBezTo>
                  <a:pt x="100" y="478"/>
                  <a:pt x="100" y="474"/>
                  <a:pt x="98" y="471"/>
                </a:cubicBezTo>
                <a:lnTo>
                  <a:pt x="0" y="471"/>
                </a:lnTo>
                <a:lnTo>
                  <a:pt x="1" y="510"/>
                </a:lnTo>
                <a:lnTo>
                  <a:pt x="1" y="815"/>
                </a:lnTo>
                <a:lnTo>
                  <a:pt x="1" y="855"/>
                </a:lnTo>
                <a:lnTo>
                  <a:pt x="139" y="854"/>
                </a:lnTo>
                <a:cubicBezTo>
                  <a:pt x="157" y="854"/>
                  <a:pt x="171" y="837"/>
                  <a:pt x="171" y="815"/>
                </a:cubicBezTo>
                <a:lnTo>
                  <a:pt x="171" y="597"/>
                </a:lnTo>
                <a:cubicBezTo>
                  <a:pt x="126" y="557"/>
                  <a:pt x="112" y="514"/>
                  <a:pt x="102" y="481"/>
                </a:cubicBezTo>
                <a:close/>
                <a:moveTo>
                  <a:pt x="615" y="73"/>
                </a:moveTo>
                <a:lnTo>
                  <a:pt x="609" y="71"/>
                </a:lnTo>
                <a:lnTo>
                  <a:pt x="603" y="72"/>
                </a:lnTo>
                <a:lnTo>
                  <a:pt x="598" y="73"/>
                </a:lnTo>
                <a:lnTo>
                  <a:pt x="593" y="76"/>
                </a:lnTo>
                <a:lnTo>
                  <a:pt x="591" y="80"/>
                </a:lnTo>
                <a:lnTo>
                  <a:pt x="584" y="110"/>
                </a:lnTo>
                <a:lnTo>
                  <a:pt x="584" y="115"/>
                </a:lnTo>
                <a:lnTo>
                  <a:pt x="587" y="119"/>
                </a:lnTo>
                <a:lnTo>
                  <a:pt x="590" y="124"/>
                </a:lnTo>
                <a:lnTo>
                  <a:pt x="595" y="129"/>
                </a:lnTo>
                <a:cubicBezTo>
                  <a:pt x="595" y="129"/>
                  <a:pt x="752" y="233"/>
                  <a:pt x="703" y="405"/>
                </a:cubicBezTo>
                <a:lnTo>
                  <a:pt x="703" y="409"/>
                </a:lnTo>
                <a:lnTo>
                  <a:pt x="704" y="412"/>
                </a:lnTo>
                <a:lnTo>
                  <a:pt x="706" y="415"/>
                </a:lnTo>
                <a:lnTo>
                  <a:pt x="709" y="418"/>
                </a:lnTo>
                <a:lnTo>
                  <a:pt x="736" y="432"/>
                </a:lnTo>
                <a:lnTo>
                  <a:pt x="740" y="433"/>
                </a:lnTo>
                <a:lnTo>
                  <a:pt x="743" y="433"/>
                </a:lnTo>
                <a:lnTo>
                  <a:pt x="747" y="430"/>
                </a:lnTo>
                <a:lnTo>
                  <a:pt x="750" y="428"/>
                </a:lnTo>
                <a:lnTo>
                  <a:pt x="752" y="422"/>
                </a:lnTo>
                <a:cubicBezTo>
                  <a:pt x="752" y="422"/>
                  <a:pt x="810" y="217"/>
                  <a:pt x="615" y="73"/>
                </a:cubicBezTo>
                <a:close/>
                <a:moveTo>
                  <a:pt x="577" y="151"/>
                </a:moveTo>
                <a:lnTo>
                  <a:pt x="572" y="150"/>
                </a:lnTo>
                <a:lnTo>
                  <a:pt x="568" y="150"/>
                </a:lnTo>
                <a:lnTo>
                  <a:pt x="563" y="152"/>
                </a:lnTo>
                <a:lnTo>
                  <a:pt x="559" y="154"/>
                </a:lnTo>
                <a:lnTo>
                  <a:pt x="556" y="157"/>
                </a:lnTo>
                <a:lnTo>
                  <a:pt x="549" y="180"/>
                </a:lnTo>
                <a:lnTo>
                  <a:pt x="549" y="183"/>
                </a:lnTo>
                <a:lnTo>
                  <a:pt x="551" y="186"/>
                </a:lnTo>
                <a:lnTo>
                  <a:pt x="554" y="190"/>
                </a:lnTo>
                <a:lnTo>
                  <a:pt x="558" y="193"/>
                </a:lnTo>
                <a:cubicBezTo>
                  <a:pt x="558" y="193"/>
                  <a:pt x="684" y="261"/>
                  <a:pt x="634" y="390"/>
                </a:cubicBezTo>
                <a:lnTo>
                  <a:pt x="634" y="393"/>
                </a:lnTo>
                <a:lnTo>
                  <a:pt x="635" y="395"/>
                </a:lnTo>
                <a:lnTo>
                  <a:pt x="636" y="397"/>
                </a:lnTo>
                <a:lnTo>
                  <a:pt x="638" y="399"/>
                </a:lnTo>
                <a:lnTo>
                  <a:pt x="660" y="408"/>
                </a:lnTo>
                <a:lnTo>
                  <a:pt x="664" y="409"/>
                </a:lnTo>
                <a:lnTo>
                  <a:pt x="667" y="408"/>
                </a:lnTo>
                <a:lnTo>
                  <a:pt x="669" y="406"/>
                </a:lnTo>
                <a:lnTo>
                  <a:pt x="672" y="404"/>
                </a:lnTo>
                <a:lnTo>
                  <a:pt x="675" y="401"/>
                </a:lnTo>
                <a:cubicBezTo>
                  <a:pt x="675" y="401"/>
                  <a:pt x="734" y="246"/>
                  <a:pt x="577" y="151"/>
                </a:cubicBezTo>
                <a:close/>
                <a:moveTo>
                  <a:pt x="541" y="215"/>
                </a:moveTo>
                <a:lnTo>
                  <a:pt x="537" y="215"/>
                </a:lnTo>
                <a:lnTo>
                  <a:pt x="533" y="216"/>
                </a:lnTo>
                <a:lnTo>
                  <a:pt x="529" y="217"/>
                </a:lnTo>
                <a:lnTo>
                  <a:pt x="526" y="219"/>
                </a:lnTo>
                <a:lnTo>
                  <a:pt x="523" y="221"/>
                </a:lnTo>
                <a:lnTo>
                  <a:pt x="516" y="237"/>
                </a:lnTo>
                <a:lnTo>
                  <a:pt x="516" y="240"/>
                </a:lnTo>
                <a:lnTo>
                  <a:pt x="517" y="242"/>
                </a:lnTo>
                <a:lnTo>
                  <a:pt x="520" y="244"/>
                </a:lnTo>
                <a:lnTo>
                  <a:pt x="523" y="246"/>
                </a:lnTo>
                <a:cubicBezTo>
                  <a:pt x="523" y="246"/>
                  <a:pt x="623" y="287"/>
                  <a:pt x="574" y="381"/>
                </a:cubicBezTo>
                <a:lnTo>
                  <a:pt x="574" y="383"/>
                </a:lnTo>
                <a:lnTo>
                  <a:pt x="574" y="384"/>
                </a:lnTo>
                <a:lnTo>
                  <a:pt x="575" y="386"/>
                </a:lnTo>
                <a:lnTo>
                  <a:pt x="577" y="387"/>
                </a:lnTo>
                <a:lnTo>
                  <a:pt x="594" y="392"/>
                </a:lnTo>
                <a:lnTo>
                  <a:pt x="598" y="392"/>
                </a:lnTo>
                <a:lnTo>
                  <a:pt x="600" y="392"/>
                </a:lnTo>
                <a:lnTo>
                  <a:pt x="602" y="390"/>
                </a:lnTo>
                <a:lnTo>
                  <a:pt x="605" y="389"/>
                </a:lnTo>
                <a:lnTo>
                  <a:pt x="607" y="386"/>
                </a:lnTo>
                <a:cubicBezTo>
                  <a:pt x="607" y="386"/>
                  <a:pt x="665" y="274"/>
                  <a:pt x="541" y="215"/>
                </a:cubicBezTo>
                <a:close/>
                <a:moveTo>
                  <a:pt x="527" y="368"/>
                </a:moveTo>
                <a:lnTo>
                  <a:pt x="535" y="364"/>
                </a:lnTo>
                <a:lnTo>
                  <a:pt x="540" y="362"/>
                </a:lnTo>
                <a:cubicBezTo>
                  <a:pt x="558" y="355"/>
                  <a:pt x="566" y="331"/>
                  <a:pt x="557" y="309"/>
                </a:cubicBezTo>
                <a:cubicBezTo>
                  <a:pt x="548" y="287"/>
                  <a:pt x="526" y="275"/>
                  <a:pt x="508" y="283"/>
                </a:cubicBezTo>
                <a:cubicBezTo>
                  <a:pt x="504" y="284"/>
                  <a:pt x="501" y="287"/>
                  <a:pt x="498" y="290"/>
                </a:cubicBezTo>
                <a:lnTo>
                  <a:pt x="498" y="290"/>
                </a:lnTo>
                <a:lnTo>
                  <a:pt x="448" y="309"/>
                </a:lnTo>
                <a:lnTo>
                  <a:pt x="330" y="0"/>
                </a:lnTo>
                <a:cubicBezTo>
                  <a:pt x="141" y="76"/>
                  <a:pt x="47" y="290"/>
                  <a:pt x="120" y="481"/>
                </a:cubicBezTo>
                <a:cubicBezTo>
                  <a:pt x="193" y="673"/>
                  <a:pt x="406" y="769"/>
                  <a:pt x="598" y="700"/>
                </a:cubicBezTo>
                <a:lnTo>
                  <a:pt x="478" y="386"/>
                </a:lnTo>
                <a:lnTo>
                  <a:pt x="527" y="368"/>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76" name="Freeform 270"/>
          <p:cNvSpPr/>
          <p:nvPr/>
        </p:nvSpPr>
        <p:spPr>
          <a:xfrm>
            <a:off x="6973920" y="2289240"/>
            <a:ext cx="223920" cy="144360"/>
          </a:xfrm>
          <a:custGeom>
            <a:avLst/>
            <a:gdLst/>
            <a:ahLst/>
            <a:rect l="l" t="t" r="r" b="b"/>
            <a:pathLst>
              <a:path w="834" h="541">
                <a:moveTo>
                  <a:pt x="649" y="475"/>
                </a:moveTo>
                <a:cubicBezTo>
                  <a:pt x="639" y="477"/>
                  <a:pt x="628" y="479"/>
                  <a:pt x="616" y="479"/>
                </a:cubicBezTo>
                <a:lnTo>
                  <a:pt x="230" y="479"/>
                </a:lnTo>
                <a:cubicBezTo>
                  <a:pt x="214" y="479"/>
                  <a:pt x="199" y="476"/>
                  <a:pt x="186" y="472"/>
                </a:cubicBezTo>
                <a:cubicBezTo>
                  <a:pt x="123" y="466"/>
                  <a:pt x="74" y="416"/>
                  <a:pt x="74" y="355"/>
                </a:cubicBezTo>
                <a:cubicBezTo>
                  <a:pt x="74" y="304"/>
                  <a:pt x="107" y="262"/>
                  <a:pt x="155" y="245"/>
                </a:cubicBezTo>
                <a:cubicBezTo>
                  <a:pt x="163" y="187"/>
                  <a:pt x="215" y="142"/>
                  <a:pt x="279" y="142"/>
                </a:cubicBezTo>
                <a:cubicBezTo>
                  <a:pt x="295" y="142"/>
                  <a:pt x="310" y="145"/>
                  <a:pt x="324" y="150"/>
                </a:cubicBezTo>
                <a:cubicBezTo>
                  <a:pt x="340" y="99"/>
                  <a:pt x="398" y="62"/>
                  <a:pt x="466" y="62"/>
                </a:cubicBezTo>
                <a:cubicBezTo>
                  <a:pt x="548" y="62"/>
                  <a:pt x="614" y="115"/>
                  <a:pt x="614" y="180"/>
                </a:cubicBezTo>
                <a:cubicBezTo>
                  <a:pt x="614" y="199"/>
                  <a:pt x="608" y="217"/>
                  <a:pt x="598" y="233"/>
                </a:cubicBezTo>
                <a:lnTo>
                  <a:pt x="616" y="233"/>
                </a:lnTo>
                <a:cubicBezTo>
                  <a:pt x="628" y="233"/>
                  <a:pt x="640" y="235"/>
                  <a:pt x="651" y="237"/>
                </a:cubicBezTo>
                <a:cubicBezTo>
                  <a:pt x="713" y="244"/>
                  <a:pt x="761" y="295"/>
                  <a:pt x="761" y="356"/>
                </a:cubicBezTo>
                <a:cubicBezTo>
                  <a:pt x="761" y="417"/>
                  <a:pt x="712" y="468"/>
                  <a:pt x="649" y="475"/>
                </a:cubicBezTo>
                <a:close/>
                <a:moveTo>
                  <a:pt x="677" y="187"/>
                </a:moveTo>
                <a:cubicBezTo>
                  <a:pt x="677" y="183"/>
                  <a:pt x="678" y="179"/>
                  <a:pt x="678" y="175"/>
                </a:cubicBezTo>
                <a:cubicBezTo>
                  <a:pt x="678" y="79"/>
                  <a:pt x="584" y="0"/>
                  <a:pt x="469" y="0"/>
                </a:cubicBezTo>
                <a:cubicBezTo>
                  <a:pt x="394" y="0"/>
                  <a:pt x="327" y="34"/>
                  <a:pt x="290" y="86"/>
                </a:cubicBezTo>
                <a:cubicBezTo>
                  <a:pt x="283" y="85"/>
                  <a:pt x="277" y="85"/>
                  <a:pt x="271" y="85"/>
                </a:cubicBezTo>
                <a:cubicBezTo>
                  <a:pt x="188" y="85"/>
                  <a:pt x="116" y="137"/>
                  <a:pt x="93" y="209"/>
                </a:cubicBezTo>
                <a:cubicBezTo>
                  <a:pt x="37" y="240"/>
                  <a:pt x="0" y="297"/>
                  <a:pt x="0" y="360"/>
                </a:cubicBezTo>
                <a:cubicBezTo>
                  <a:pt x="0" y="447"/>
                  <a:pt x="69" y="521"/>
                  <a:pt x="160" y="532"/>
                </a:cubicBezTo>
                <a:cubicBezTo>
                  <a:pt x="178" y="538"/>
                  <a:pt x="198" y="541"/>
                  <a:pt x="218" y="541"/>
                </a:cubicBezTo>
                <a:lnTo>
                  <a:pt x="628" y="541"/>
                </a:lnTo>
                <a:cubicBezTo>
                  <a:pt x="643" y="541"/>
                  <a:pt x="658" y="539"/>
                  <a:pt x="673" y="536"/>
                </a:cubicBezTo>
                <a:cubicBezTo>
                  <a:pt x="765" y="524"/>
                  <a:pt x="834" y="450"/>
                  <a:pt x="834" y="361"/>
                </a:cubicBezTo>
                <a:cubicBezTo>
                  <a:pt x="834" y="274"/>
                  <a:pt x="767" y="200"/>
                  <a:pt x="677" y="187"/>
                </a:cubicBezTo>
                <a:close/>
              </a:path>
            </a:pathLst>
          </a:custGeom>
          <a:solidFill>
            <a:srgbClr val="a6a6a6"/>
          </a:solidFill>
          <a:ln w="0">
            <a:noFill/>
          </a:ln>
        </p:spPr>
        <p:style>
          <a:lnRef idx="0"/>
          <a:fillRef idx="0"/>
          <a:effectRef idx="0"/>
          <a:fontRef idx="minor"/>
        </p:style>
        <p:txBody>
          <a:bodyPr lIns="145800" rIns="145800" tIns="71640" bIns="71640" anchor="t">
            <a:noAutofit/>
          </a:bodyPr>
          <a:p>
            <a:endParaRPr b="0" lang="en-US" sz="1800" spc="-1" strike="noStrike">
              <a:solidFill>
                <a:srgbClr val="000000"/>
              </a:solidFill>
              <a:latin typeface="Calibri"/>
            </a:endParaRPr>
          </a:p>
        </p:txBody>
      </p:sp>
      <p:sp>
        <p:nvSpPr>
          <p:cNvPr id="1877" name="Freeform 271"/>
          <p:cNvSpPr/>
          <p:nvPr/>
        </p:nvSpPr>
        <p:spPr>
          <a:xfrm>
            <a:off x="3578400" y="4213080"/>
            <a:ext cx="164880" cy="166680"/>
          </a:xfrm>
          <a:custGeom>
            <a:avLst/>
            <a:gdLst/>
            <a:ahLst/>
            <a:rect l="l" t="t" r="r" b="b"/>
            <a:pathLst>
              <a:path w="621" h="621">
                <a:moveTo>
                  <a:pt x="351" y="468"/>
                </a:moveTo>
                <a:cubicBezTo>
                  <a:pt x="351" y="488"/>
                  <a:pt x="331" y="505"/>
                  <a:pt x="307" y="505"/>
                </a:cubicBezTo>
                <a:cubicBezTo>
                  <a:pt x="282" y="505"/>
                  <a:pt x="262" y="488"/>
                  <a:pt x="262" y="468"/>
                </a:cubicBezTo>
                <a:lnTo>
                  <a:pt x="262" y="279"/>
                </a:lnTo>
                <a:cubicBezTo>
                  <a:pt x="262" y="259"/>
                  <a:pt x="282" y="243"/>
                  <a:pt x="307" y="243"/>
                </a:cubicBezTo>
                <a:cubicBezTo>
                  <a:pt x="331" y="243"/>
                  <a:pt x="351" y="259"/>
                  <a:pt x="351" y="279"/>
                </a:cubicBezTo>
                <a:lnTo>
                  <a:pt x="351" y="468"/>
                </a:lnTo>
                <a:close/>
                <a:moveTo>
                  <a:pt x="311" y="560"/>
                </a:moveTo>
                <a:cubicBezTo>
                  <a:pt x="173" y="560"/>
                  <a:pt x="61" y="448"/>
                  <a:pt x="61" y="311"/>
                </a:cubicBezTo>
                <a:cubicBezTo>
                  <a:pt x="61" y="173"/>
                  <a:pt x="173" y="62"/>
                  <a:pt x="311" y="62"/>
                </a:cubicBezTo>
                <a:cubicBezTo>
                  <a:pt x="448" y="62"/>
                  <a:pt x="560" y="173"/>
                  <a:pt x="560" y="311"/>
                </a:cubicBezTo>
                <a:cubicBezTo>
                  <a:pt x="560" y="448"/>
                  <a:pt x="448" y="560"/>
                  <a:pt x="311" y="560"/>
                </a:cubicBezTo>
                <a:close/>
                <a:moveTo>
                  <a:pt x="311" y="0"/>
                </a:moveTo>
                <a:cubicBezTo>
                  <a:pt x="139" y="0"/>
                  <a:pt x="0" y="139"/>
                  <a:pt x="0" y="311"/>
                </a:cubicBezTo>
                <a:cubicBezTo>
                  <a:pt x="0" y="482"/>
                  <a:pt x="139" y="621"/>
                  <a:pt x="311" y="621"/>
                </a:cubicBezTo>
                <a:cubicBezTo>
                  <a:pt x="482" y="621"/>
                  <a:pt x="621" y="482"/>
                  <a:pt x="621" y="311"/>
                </a:cubicBezTo>
                <a:cubicBezTo>
                  <a:pt x="621" y="139"/>
                  <a:pt x="482" y="0"/>
                  <a:pt x="311" y="0"/>
                </a:cubicBezTo>
                <a:close/>
                <a:moveTo>
                  <a:pt x="338" y="189"/>
                </a:moveTo>
                <a:cubicBezTo>
                  <a:pt x="330" y="199"/>
                  <a:pt x="319" y="203"/>
                  <a:pt x="306" y="203"/>
                </a:cubicBezTo>
                <a:cubicBezTo>
                  <a:pt x="294" y="203"/>
                  <a:pt x="283" y="199"/>
                  <a:pt x="275" y="189"/>
                </a:cubicBezTo>
                <a:cubicBezTo>
                  <a:pt x="266" y="180"/>
                  <a:pt x="262" y="169"/>
                  <a:pt x="262" y="156"/>
                </a:cubicBezTo>
                <a:cubicBezTo>
                  <a:pt x="262" y="142"/>
                  <a:pt x="266" y="131"/>
                  <a:pt x="275" y="122"/>
                </a:cubicBezTo>
                <a:cubicBezTo>
                  <a:pt x="284" y="112"/>
                  <a:pt x="294" y="108"/>
                  <a:pt x="306" y="108"/>
                </a:cubicBezTo>
                <a:cubicBezTo>
                  <a:pt x="319" y="108"/>
                  <a:pt x="330" y="112"/>
                  <a:pt x="339" y="122"/>
                </a:cubicBezTo>
                <a:cubicBezTo>
                  <a:pt x="347" y="131"/>
                  <a:pt x="352" y="142"/>
                  <a:pt x="352" y="156"/>
                </a:cubicBezTo>
                <a:cubicBezTo>
                  <a:pt x="352" y="169"/>
                  <a:pt x="347" y="180"/>
                  <a:pt x="338" y="18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78" name="Freeform 272"/>
          <p:cNvSpPr/>
          <p:nvPr/>
        </p:nvSpPr>
        <p:spPr>
          <a:xfrm>
            <a:off x="2597040" y="4213080"/>
            <a:ext cx="165240" cy="166680"/>
          </a:xfrm>
          <a:custGeom>
            <a:avLst/>
            <a:gdLst/>
            <a:ahLst/>
            <a:rect l="l" t="t" r="r" b="b"/>
            <a:pathLst>
              <a:path w="621" h="621">
                <a:moveTo>
                  <a:pt x="393" y="422"/>
                </a:moveTo>
                <a:cubicBezTo>
                  <a:pt x="393" y="436"/>
                  <a:pt x="381" y="447"/>
                  <a:pt x="367" y="447"/>
                </a:cubicBezTo>
                <a:cubicBezTo>
                  <a:pt x="353" y="447"/>
                  <a:pt x="341" y="436"/>
                  <a:pt x="341" y="422"/>
                </a:cubicBezTo>
                <a:lnTo>
                  <a:pt x="341" y="200"/>
                </a:lnTo>
                <a:cubicBezTo>
                  <a:pt x="341" y="186"/>
                  <a:pt x="353" y="174"/>
                  <a:pt x="367" y="174"/>
                </a:cubicBezTo>
                <a:cubicBezTo>
                  <a:pt x="381" y="174"/>
                  <a:pt x="393" y="186"/>
                  <a:pt x="393" y="200"/>
                </a:cubicBezTo>
                <a:lnTo>
                  <a:pt x="393" y="422"/>
                </a:lnTo>
                <a:close/>
                <a:moveTo>
                  <a:pt x="311" y="560"/>
                </a:moveTo>
                <a:cubicBezTo>
                  <a:pt x="173" y="560"/>
                  <a:pt x="62" y="448"/>
                  <a:pt x="62" y="311"/>
                </a:cubicBezTo>
                <a:cubicBezTo>
                  <a:pt x="62" y="173"/>
                  <a:pt x="173" y="62"/>
                  <a:pt x="311" y="62"/>
                </a:cubicBezTo>
                <a:cubicBezTo>
                  <a:pt x="448" y="62"/>
                  <a:pt x="560" y="173"/>
                  <a:pt x="560" y="311"/>
                </a:cubicBezTo>
                <a:cubicBezTo>
                  <a:pt x="560" y="448"/>
                  <a:pt x="448" y="560"/>
                  <a:pt x="311" y="560"/>
                </a:cubicBezTo>
                <a:close/>
                <a:moveTo>
                  <a:pt x="311" y="0"/>
                </a:moveTo>
                <a:cubicBezTo>
                  <a:pt x="139" y="0"/>
                  <a:pt x="0" y="139"/>
                  <a:pt x="0" y="311"/>
                </a:cubicBezTo>
                <a:cubicBezTo>
                  <a:pt x="0" y="482"/>
                  <a:pt x="139" y="621"/>
                  <a:pt x="311" y="621"/>
                </a:cubicBezTo>
                <a:cubicBezTo>
                  <a:pt x="482" y="621"/>
                  <a:pt x="621" y="482"/>
                  <a:pt x="621" y="311"/>
                </a:cubicBezTo>
                <a:cubicBezTo>
                  <a:pt x="621" y="139"/>
                  <a:pt x="482" y="0"/>
                  <a:pt x="311" y="0"/>
                </a:cubicBezTo>
                <a:close/>
                <a:moveTo>
                  <a:pt x="280" y="422"/>
                </a:moveTo>
                <a:cubicBezTo>
                  <a:pt x="280" y="436"/>
                  <a:pt x="269" y="447"/>
                  <a:pt x="254" y="447"/>
                </a:cubicBezTo>
                <a:cubicBezTo>
                  <a:pt x="240" y="447"/>
                  <a:pt x="229" y="436"/>
                  <a:pt x="229" y="422"/>
                </a:cubicBezTo>
                <a:lnTo>
                  <a:pt x="229" y="200"/>
                </a:lnTo>
                <a:cubicBezTo>
                  <a:pt x="229" y="186"/>
                  <a:pt x="240" y="174"/>
                  <a:pt x="254" y="174"/>
                </a:cubicBezTo>
                <a:cubicBezTo>
                  <a:pt x="269" y="174"/>
                  <a:pt x="280" y="186"/>
                  <a:pt x="280" y="200"/>
                </a:cubicBezTo>
                <a:lnTo>
                  <a:pt x="280" y="422"/>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79" name="Freeform 273"/>
          <p:cNvSpPr/>
          <p:nvPr/>
        </p:nvSpPr>
        <p:spPr>
          <a:xfrm>
            <a:off x="2921040" y="4213080"/>
            <a:ext cx="166680" cy="166680"/>
          </a:xfrm>
          <a:custGeom>
            <a:avLst/>
            <a:gdLst/>
            <a:ahLst/>
            <a:rect l="l" t="t" r="r" b="b"/>
            <a:pathLst>
              <a:path w="621" h="621">
                <a:moveTo>
                  <a:pt x="310" y="560"/>
                </a:moveTo>
                <a:cubicBezTo>
                  <a:pt x="173" y="560"/>
                  <a:pt x="61" y="448"/>
                  <a:pt x="61" y="311"/>
                </a:cubicBezTo>
                <a:cubicBezTo>
                  <a:pt x="61" y="173"/>
                  <a:pt x="173" y="62"/>
                  <a:pt x="310" y="62"/>
                </a:cubicBezTo>
                <a:cubicBezTo>
                  <a:pt x="448" y="62"/>
                  <a:pt x="559" y="173"/>
                  <a:pt x="559" y="311"/>
                </a:cubicBezTo>
                <a:cubicBezTo>
                  <a:pt x="559" y="448"/>
                  <a:pt x="448" y="560"/>
                  <a:pt x="310" y="560"/>
                </a:cubicBezTo>
                <a:close/>
                <a:moveTo>
                  <a:pt x="227" y="225"/>
                </a:moveTo>
                <a:lnTo>
                  <a:pt x="394" y="225"/>
                </a:lnTo>
                <a:lnTo>
                  <a:pt x="394" y="396"/>
                </a:lnTo>
                <a:lnTo>
                  <a:pt x="227" y="396"/>
                </a:lnTo>
                <a:lnTo>
                  <a:pt x="227" y="225"/>
                </a:lnTo>
                <a:close/>
                <a:moveTo>
                  <a:pt x="310" y="0"/>
                </a:moveTo>
                <a:cubicBezTo>
                  <a:pt x="139" y="0"/>
                  <a:pt x="0" y="139"/>
                  <a:pt x="0" y="311"/>
                </a:cubicBezTo>
                <a:cubicBezTo>
                  <a:pt x="0" y="482"/>
                  <a:pt x="139" y="621"/>
                  <a:pt x="310" y="621"/>
                </a:cubicBezTo>
                <a:cubicBezTo>
                  <a:pt x="482" y="621"/>
                  <a:pt x="621" y="482"/>
                  <a:pt x="621" y="311"/>
                </a:cubicBezTo>
                <a:cubicBezTo>
                  <a:pt x="621" y="139"/>
                  <a:pt x="482" y="0"/>
                  <a:pt x="310"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80" name="Freeform 274"/>
          <p:cNvSpPr/>
          <p:nvPr/>
        </p:nvSpPr>
        <p:spPr>
          <a:xfrm>
            <a:off x="2287440" y="4213080"/>
            <a:ext cx="166680" cy="166680"/>
          </a:xfrm>
          <a:custGeom>
            <a:avLst/>
            <a:gdLst/>
            <a:ahLst/>
            <a:rect l="l" t="t" r="r" b="b"/>
            <a:pathLst>
              <a:path w="626" h="625">
                <a:moveTo>
                  <a:pt x="285" y="425"/>
                </a:moveTo>
                <a:cubicBezTo>
                  <a:pt x="255" y="445"/>
                  <a:pt x="230" y="428"/>
                  <a:pt x="230" y="387"/>
                </a:cubicBezTo>
                <a:cubicBezTo>
                  <a:pt x="230" y="346"/>
                  <a:pt x="230" y="279"/>
                  <a:pt x="230" y="238"/>
                </a:cubicBezTo>
                <a:cubicBezTo>
                  <a:pt x="230" y="197"/>
                  <a:pt x="255" y="180"/>
                  <a:pt x="285" y="201"/>
                </a:cubicBezTo>
                <a:cubicBezTo>
                  <a:pt x="315" y="221"/>
                  <a:pt x="365" y="255"/>
                  <a:pt x="395" y="275"/>
                </a:cubicBezTo>
                <a:cubicBezTo>
                  <a:pt x="426" y="296"/>
                  <a:pt x="426" y="330"/>
                  <a:pt x="395" y="350"/>
                </a:cubicBezTo>
                <a:cubicBezTo>
                  <a:pt x="365" y="371"/>
                  <a:pt x="315" y="404"/>
                  <a:pt x="285" y="425"/>
                </a:cubicBezTo>
                <a:close/>
                <a:moveTo>
                  <a:pt x="313" y="564"/>
                </a:moveTo>
                <a:cubicBezTo>
                  <a:pt x="174" y="564"/>
                  <a:pt x="62" y="451"/>
                  <a:pt x="62" y="313"/>
                </a:cubicBezTo>
                <a:cubicBezTo>
                  <a:pt x="62" y="174"/>
                  <a:pt x="174" y="62"/>
                  <a:pt x="313" y="62"/>
                </a:cubicBezTo>
                <a:cubicBezTo>
                  <a:pt x="452" y="62"/>
                  <a:pt x="564" y="174"/>
                  <a:pt x="564" y="313"/>
                </a:cubicBezTo>
                <a:cubicBezTo>
                  <a:pt x="564" y="451"/>
                  <a:pt x="452" y="564"/>
                  <a:pt x="313" y="564"/>
                </a:cubicBezTo>
                <a:close/>
                <a:moveTo>
                  <a:pt x="313" y="0"/>
                </a:moveTo>
                <a:cubicBezTo>
                  <a:pt x="140" y="0"/>
                  <a:pt x="0" y="140"/>
                  <a:pt x="0" y="313"/>
                </a:cubicBezTo>
                <a:cubicBezTo>
                  <a:pt x="0" y="485"/>
                  <a:pt x="140" y="625"/>
                  <a:pt x="313" y="625"/>
                </a:cubicBezTo>
                <a:cubicBezTo>
                  <a:pt x="486" y="625"/>
                  <a:pt x="626" y="485"/>
                  <a:pt x="626" y="313"/>
                </a:cubicBezTo>
                <a:cubicBezTo>
                  <a:pt x="626" y="140"/>
                  <a:pt x="486" y="0"/>
                  <a:pt x="313"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81" name="Freeform 275"/>
          <p:cNvSpPr/>
          <p:nvPr/>
        </p:nvSpPr>
        <p:spPr>
          <a:xfrm>
            <a:off x="3233880" y="4213080"/>
            <a:ext cx="164880" cy="166680"/>
          </a:xfrm>
          <a:custGeom>
            <a:avLst/>
            <a:gdLst/>
            <a:ahLst/>
            <a:rect l="l" t="t" r="r" b="b"/>
            <a:pathLst>
              <a:path w="621" h="621">
                <a:moveTo>
                  <a:pt x="375" y="429"/>
                </a:moveTo>
                <a:cubicBezTo>
                  <a:pt x="356" y="451"/>
                  <a:pt x="340" y="433"/>
                  <a:pt x="340" y="390"/>
                </a:cubicBezTo>
                <a:cubicBezTo>
                  <a:pt x="340" y="346"/>
                  <a:pt x="340" y="275"/>
                  <a:pt x="340" y="232"/>
                </a:cubicBezTo>
                <a:cubicBezTo>
                  <a:pt x="340" y="188"/>
                  <a:pt x="356" y="170"/>
                  <a:pt x="375" y="192"/>
                </a:cubicBezTo>
                <a:cubicBezTo>
                  <a:pt x="395" y="214"/>
                  <a:pt x="426" y="249"/>
                  <a:pt x="446" y="271"/>
                </a:cubicBezTo>
                <a:cubicBezTo>
                  <a:pt x="465" y="293"/>
                  <a:pt x="465" y="329"/>
                  <a:pt x="446" y="350"/>
                </a:cubicBezTo>
                <a:cubicBezTo>
                  <a:pt x="426" y="372"/>
                  <a:pt x="394" y="407"/>
                  <a:pt x="375" y="429"/>
                </a:cubicBezTo>
                <a:close/>
                <a:moveTo>
                  <a:pt x="310" y="560"/>
                </a:moveTo>
                <a:cubicBezTo>
                  <a:pt x="173" y="560"/>
                  <a:pt x="61" y="448"/>
                  <a:pt x="61" y="311"/>
                </a:cubicBezTo>
                <a:cubicBezTo>
                  <a:pt x="61" y="173"/>
                  <a:pt x="173" y="62"/>
                  <a:pt x="310" y="62"/>
                </a:cubicBezTo>
                <a:cubicBezTo>
                  <a:pt x="448" y="62"/>
                  <a:pt x="559" y="173"/>
                  <a:pt x="559" y="311"/>
                </a:cubicBezTo>
                <a:cubicBezTo>
                  <a:pt x="559" y="448"/>
                  <a:pt x="448" y="560"/>
                  <a:pt x="310" y="560"/>
                </a:cubicBezTo>
                <a:close/>
                <a:moveTo>
                  <a:pt x="310" y="0"/>
                </a:moveTo>
                <a:cubicBezTo>
                  <a:pt x="139" y="0"/>
                  <a:pt x="0" y="139"/>
                  <a:pt x="0" y="311"/>
                </a:cubicBezTo>
                <a:cubicBezTo>
                  <a:pt x="0" y="482"/>
                  <a:pt x="139" y="621"/>
                  <a:pt x="310" y="621"/>
                </a:cubicBezTo>
                <a:cubicBezTo>
                  <a:pt x="482" y="621"/>
                  <a:pt x="621" y="482"/>
                  <a:pt x="621" y="311"/>
                </a:cubicBezTo>
                <a:cubicBezTo>
                  <a:pt x="621" y="139"/>
                  <a:pt x="482" y="0"/>
                  <a:pt x="310" y="0"/>
                </a:cubicBezTo>
                <a:close/>
                <a:moveTo>
                  <a:pt x="196" y="429"/>
                </a:moveTo>
                <a:cubicBezTo>
                  <a:pt x="176" y="451"/>
                  <a:pt x="160" y="433"/>
                  <a:pt x="160" y="390"/>
                </a:cubicBezTo>
                <a:cubicBezTo>
                  <a:pt x="160" y="346"/>
                  <a:pt x="160" y="275"/>
                  <a:pt x="161" y="232"/>
                </a:cubicBezTo>
                <a:cubicBezTo>
                  <a:pt x="161" y="188"/>
                  <a:pt x="177" y="170"/>
                  <a:pt x="196" y="192"/>
                </a:cubicBezTo>
                <a:cubicBezTo>
                  <a:pt x="215" y="214"/>
                  <a:pt x="247" y="249"/>
                  <a:pt x="266" y="271"/>
                </a:cubicBezTo>
                <a:cubicBezTo>
                  <a:pt x="286" y="293"/>
                  <a:pt x="286" y="329"/>
                  <a:pt x="266" y="350"/>
                </a:cubicBezTo>
                <a:cubicBezTo>
                  <a:pt x="247" y="372"/>
                  <a:pt x="215" y="407"/>
                  <a:pt x="196" y="42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82" name="Freeform 276"/>
          <p:cNvSpPr/>
          <p:nvPr/>
        </p:nvSpPr>
        <p:spPr>
          <a:xfrm>
            <a:off x="8032680" y="2954160"/>
            <a:ext cx="184320" cy="150840"/>
          </a:xfrm>
          <a:custGeom>
            <a:avLst/>
            <a:gdLst/>
            <a:ahLst/>
            <a:rect l="l" t="t" r="r" b="b"/>
            <a:pathLst>
              <a:path w="689" h="561">
                <a:moveTo>
                  <a:pt x="595" y="346"/>
                </a:moveTo>
                <a:lnTo>
                  <a:pt x="568" y="346"/>
                </a:lnTo>
                <a:lnTo>
                  <a:pt x="578" y="312"/>
                </a:lnTo>
                <a:lnTo>
                  <a:pt x="606" y="312"/>
                </a:lnTo>
                <a:lnTo>
                  <a:pt x="595" y="346"/>
                </a:lnTo>
                <a:close/>
                <a:moveTo>
                  <a:pt x="594" y="481"/>
                </a:moveTo>
                <a:lnTo>
                  <a:pt x="594" y="462"/>
                </a:lnTo>
                <a:lnTo>
                  <a:pt x="549" y="462"/>
                </a:lnTo>
                <a:lnTo>
                  <a:pt x="549" y="481"/>
                </a:lnTo>
                <a:cubicBezTo>
                  <a:pt x="537" y="489"/>
                  <a:pt x="528" y="502"/>
                  <a:pt x="528" y="518"/>
                </a:cubicBezTo>
                <a:cubicBezTo>
                  <a:pt x="528" y="542"/>
                  <a:pt x="548" y="561"/>
                  <a:pt x="571" y="561"/>
                </a:cubicBezTo>
                <a:cubicBezTo>
                  <a:pt x="595" y="561"/>
                  <a:pt x="614" y="542"/>
                  <a:pt x="614" y="518"/>
                </a:cubicBezTo>
                <a:cubicBezTo>
                  <a:pt x="614" y="502"/>
                  <a:pt x="606" y="489"/>
                  <a:pt x="594" y="481"/>
                </a:cubicBezTo>
                <a:close/>
                <a:moveTo>
                  <a:pt x="174" y="481"/>
                </a:moveTo>
                <a:lnTo>
                  <a:pt x="174" y="462"/>
                </a:lnTo>
                <a:lnTo>
                  <a:pt x="129" y="462"/>
                </a:lnTo>
                <a:lnTo>
                  <a:pt x="129" y="481"/>
                </a:lnTo>
                <a:cubicBezTo>
                  <a:pt x="117" y="489"/>
                  <a:pt x="108" y="502"/>
                  <a:pt x="108" y="518"/>
                </a:cubicBezTo>
                <a:cubicBezTo>
                  <a:pt x="108" y="542"/>
                  <a:pt x="128" y="561"/>
                  <a:pt x="151" y="561"/>
                </a:cubicBezTo>
                <a:cubicBezTo>
                  <a:pt x="175" y="561"/>
                  <a:pt x="194" y="542"/>
                  <a:pt x="194" y="518"/>
                </a:cubicBezTo>
                <a:cubicBezTo>
                  <a:pt x="194" y="502"/>
                  <a:pt x="186" y="489"/>
                  <a:pt x="174" y="481"/>
                </a:cubicBezTo>
                <a:close/>
                <a:moveTo>
                  <a:pt x="582" y="298"/>
                </a:moveTo>
                <a:lnTo>
                  <a:pt x="594" y="258"/>
                </a:lnTo>
                <a:lnTo>
                  <a:pt x="623" y="260"/>
                </a:lnTo>
                <a:lnTo>
                  <a:pt x="610" y="299"/>
                </a:lnTo>
                <a:lnTo>
                  <a:pt x="582" y="298"/>
                </a:lnTo>
                <a:close/>
                <a:moveTo>
                  <a:pt x="568" y="298"/>
                </a:moveTo>
                <a:lnTo>
                  <a:pt x="532" y="297"/>
                </a:lnTo>
                <a:lnTo>
                  <a:pt x="542" y="255"/>
                </a:lnTo>
                <a:lnTo>
                  <a:pt x="580" y="257"/>
                </a:lnTo>
                <a:lnTo>
                  <a:pt x="568" y="298"/>
                </a:lnTo>
                <a:close/>
                <a:moveTo>
                  <a:pt x="518" y="296"/>
                </a:moveTo>
                <a:lnTo>
                  <a:pt x="482" y="295"/>
                </a:lnTo>
                <a:lnTo>
                  <a:pt x="490" y="251"/>
                </a:lnTo>
                <a:lnTo>
                  <a:pt x="529" y="254"/>
                </a:lnTo>
                <a:lnTo>
                  <a:pt x="518" y="296"/>
                </a:lnTo>
                <a:close/>
                <a:moveTo>
                  <a:pt x="468" y="295"/>
                </a:moveTo>
                <a:lnTo>
                  <a:pt x="432" y="294"/>
                </a:lnTo>
                <a:lnTo>
                  <a:pt x="439" y="248"/>
                </a:lnTo>
                <a:lnTo>
                  <a:pt x="477" y="250"/>
                </a:lnTo>
                <a:lnTo>
                  <a:pt x="468" y="295"/>
                </a:lnTo>
                <a:close/>
                <a:moveTo>
                  <a:pt x="419" y="293"/>
                </a:moveTo>
                <a:lnTo>
                  <a:pt x="382" y="292"/>
                </a:lnTo>
                <a:lnTo>
                  <a:pt x="387" y="244"/>
                </a:lnTo>
                <a:lnTo>
                  <a:pt x="425" y="247"/>
                </a:lnTo>
                <a:lnTo>
                  <a:pt x="419" y="293"/>
                </a:lnTo>
                <a:close/>
                <a:moveTo>
                  <a:pt x="369" y="292"/>
                </a:moveTo>
                <a:lnTo>
                  <a:pt x="333" y="291"/>
                </a:lnTo>
                <a:lnTo>
                  <a:pt x="335" y="241"/>
                </a:lnTo>
                <a:lnTo>
                  <a:pt x="374" y="243"/>
                </a:lnTo>
                <a:lnTo>
                  <a:pt x="369" y="292"/>
                </a:lnTo>
                <a:close/>
                <a:moveTo>
                  <a:pt x="319" y="290"/>
                </a:moveTo>
                <a:lnTo>
                  <a:pt x="283" y="289"/>
                </a:lnTo>
                <a:lnTo>
                  <a:pt x="284" y="237"/>
                </a:lnTo>
                <a:lnTo>
                  <a:pt x="322" y="240"/>
                </a:lnTo>
                <a:lnTo>
                  <a:pt x="319" y="290"/>
                </a:lnTo>
                <a:close/>
                <a:moveTo>
                  <a:pt x="270" y="289"/>
                </a:moveTo>
                <a:lnTo>
                  <a:pt x="234" y="288"/>
                </a:lnTo>
                <a:lnTo>
                  <a:pt x="232" y="234"/>
                </a:lnTo>
                <a:lnTo>
                  <a:pt x="270" y="237"/>
                </a:lnTo>
                <a:lnTo>
                  <a:pt x="270" y="289"/>
                </a:lnTo>
                <a:close/>
                <a:moveTo>
                  <a:pt x="220" y="287"/>
                </a:moveTo>
                <a:lnTo>
                  <a:pt x="184" y="286"/>
                </a:lnTo>
                <a:lnTo>
                  <a:pt x="181" y="231"/>
                </a:lnTo>
                <a:lnTo>
                  <a:pt x="219" y="233"/>
                </a:lnTo>
                <a:lnTo>
                  <a:pt x="220" y="287"/>
                </a:lnTo>
                <a:close/>
                <a:moveTo>
                  <a:pt x="171" y="286"/>
                </a:moveTo>
                <a:lnTo>
                  <a:pt x="142" y="285"/>
                </a:lnTo>
                <a:lnTo>
                  <a:pt x="135" y="228"/>
                </a:lnTo>
                <a:lnTo>
                  <a:pt x="167" y="230"/>
                </a:lnTo>
                <a:lnTo>
                  <a:pt x="171" y="286"/>
                </a:lnTo>
                <a:close/>
                <a:moveTo>
                  <a:pt x="144" y="299"/>
                </a:moveTo>
                <a:lnTo>
                  <a:pt x="172" y="299"/>
                </a:lnTo>
                <a:lnTo>
                  <a:pt x="175" y="346"/>
                </a:lnTo>
                <a:lnTo>
                  <a:pt x="149" y="346"/>
                </a:lnTo>
                <a:lnTo>
                  <a:pt x="144" y="299"/>
                </a:lnTo>
                <a:close/>
                <a:moveTo>
                  <a:pt x="185" y="300"/>
                </a:moveTo>
                <a:lnTo>
                  <a:pt x="221" y="301"/>
                </a:lnTo>
                <a:lnTo>
                  <a:pt x="222" y="346"/>
                </a:lnTo>
                <a:lnTo>
                  <a:pt x="189" y="346"/>
                </a:lnTo>
                <a:lnTo>
                  <a:pt x="185" y="300"/>
                </a:lnTo>
                <a:close/>
                <a:moveTo>
                  <a:pt x="234" y="301"/>
                </a:moveTo>
                <a:lnTo>
                  <a:pt x="270" y="302"/>
                </a:lnTo>
                <a:lnTo>
                  <a:pt x="269" y="346"/>
                </a:lnTo>
                <a:lnTo>
                  <a:pt x="235" y="346"/>
                </a:lnTo>
                <a:lnTo>
                  <a:pt x="234" y="301"/>
                </a:lnTo>
                <a:close/>
                <a:moveTo>
                  <a:pt x="283" y="303"/>
                </a:moveTo>
                <a:lnTo>
                  <a:pt x="319" y="304"/>
                </a:lnTo>
                <a:lnTo>
                  <a:pt x="316" y="346"/>
                </a:lnTo>
                <a:lnTo>
                  <a:pt x="283" y="346"/>
                </a:lnTo>
                <a:lnTo>
                  <a:pt x="283" y="303"/>
                </a:lnTo>
                <a:close/>
                <a:moveTo>
                  <a:pt x="332" y="304"/>
                </a:moveTo>
                <a:lnTo>
                  <a:pt x="368" y="305"/>
                </a:lnTo>
                <a:lnTo>
                  <a:pt x="364" y="346"/>
                </a:lnTo>
                <a:lnTo>
                  <a:pt x="330" y="346"/>
                </a:lnTo>
                <a:lnTo>
                  <a:pt x="332" y="304"/>
                </a:lnTo>
                <a:close/>
                <a:moveTo>
                  <a:pt x="381" y="306"/>
                </a:moveTo>
                <a:lnTo>
                  <a:pt x="417" y="307"/>
                </a:lnTo>
                <a:lnTo>
                  <a:pt x="411" y="346"/>
                </a:lnTo>
                <a:lnTo>
                  <a:pt x="377" y="346"/>
                </a:lnTo>
                <a:lnTo>
                  <a:pt x="381" y="306"/>
                </a:lnTo>
                <a:close/>
                <a:moveTo>
                  <a:pt x="430" y="307"/>
                </a:moveTo>
                <a:lnTo>
                  <a:pt x="466" y="308"/>
                </a:lnTo>
                <a:lnTo>
                  <a:pt x="458" y="346"/>
                </a:lnTo>
                <a:lnTo>
                  <a:pt x="425" y="346"/>
                </a:lnTo>
                <a:lnTo>
                  <a:pt x="430" y="307"/>
                </a:lnTo>
                <a:close/>
                <a:moveTo>
                  <a:pt x="479" y="309"/>
                </a:moveTo>
                <a:lnTo>
                  <a:pt x="515" y="310"/>
                </a:lnTo>
                <a:lnTo>
                  <a:pt x="506" y="346"/>
                </a:lnTo>
                <a:lnTo>
                  <a:pt x="472" y="346"/>
                </a:lnTo>
                <a:lnTo>
                  <a:pt x="479" y="309"/>
                </a:lnTo>
                <a:close/>
                <a:moveTo>
                  <a:pt x="529" y="310"/>
                </a:moveTo>
                <a:lnTo>
                  <a:pt x="564" y="311"/>
                </a:lnTo>
                <a:lnTo>
                  <a:pt x="554" y="346"/>
                </a:lnTo>
                <a:lnTo>
                  <a:pt x="520" y="346"/>
                </a:lnTo>
                <a:lnTo>
                  <a:pt x="529" y="310"/>
                </a:lnTo>
                <a:close/>
                <a:moveTo>
                  <a:pt x="180" y="217"/>
                </a:moveTo>
                <a:lnTo>
                  <a:pt x="176" y="161"/>
                </a:lnTo>
                <a:lnTo>
                  <a:pt x="217" y="165"/>
                </a:lnTo>
                <a:lnTo>
                  <a:pt x="218" y="220"/>
                </a:lnTo>
                <a:lnTo>
                  <a:pt x="180" y="217"/>
                </a:lnTo>
                <a:close/>
                <a:moveTo>
                  <a:pt x="175" y="147"/>
                </a:moveTo>
                <a:lnTo>
                  <a:pt x="172" y="97"/>
                </a:lnTo>
                <a:lnTo>
                  <a:pt x="215" y="102"/>
                </a:lnTo>
                <a:lnTo>
                  <a:pt x="216" y="152"/>
                </a:lnTo>
                <a:lnTo>
                  <a:pt x="175" y="147"/>
                </a:lnTo>
                <a:close/>
                <a:moveTo>
                  <a:pt x="158" y="95"/>
                </a:moveTo>
                <a:lnTo>
                  <a:pt x="161" y="146"/>
                </a:lnTo>
                <a:lnTo>
                  <a:pt x="125" y="142"/>
                </a:lnTo>
                <a:lnTo>
                  <a:pt x="118" y="90"/>
                </a:lnTo>
                <a:lnTo>
                  <a:pt x="158" y="95"/>
                </a:lnTo>
                <a:close/>
                <a:moveTo>
                  <a:pt x="162" y="159"/>
                </a:moveTo>
                <a:lnTo>
                  <a:pt x="166" y="216"/>
                </a:lnTo>
                <a:lnTo>
                  <a:pt x="133" y="214"/>
                </a:lnTo>
                <a:lnTo>
                  <a:pt x="126" y="156"/>
                </a:lnTo>
                <a:lnTo>
                  <a:pt x="162" y="159"/>
                </a:lnTo>
                <a:close/>
                <a:moveTo>
                  <a:pt x="232" y="221"/>
                </a:moveTo>
                <a:lnTo>
                  <a:pt x="230" y="166"/>
                </a:lnTo>
                <a:lnTo>
                  <a:pt x="271" y="171"/>
                </a:lnTo>
                <a:lnTo>
                  <a:pt x="270" y="223"/>
                </a:lnTo>
                <a:lnTo>
                  <a:pt x="232" y="221"/>
                </a:lnTo>
                <a:close/>
                <a:moveTo>
                  <a:pt x="230" y="153"/>
                </a:moveTo>
                <a:lnTo>
                  <a:pt x="228" y="104"/>
                </a:lnTo>
                <a:lnTo>
                  <a:pt x="272" y="110"/>
                </a:lnTo>
                <a:lnTo>
                  <a:pt x="271" y="157"/>
                </a:lnTo>
                <a:lnTo>
                  <a:pt x="230" y="153"/>
                </a:lnTo>
                <a:close/>
                <a:moveTo>
                  <a:pt x="284" y="224"/>
                </a:moveTo>
                <a:lnTo>
                  <a:pt x="284" y="172"/>
                </a:lnTo>
                <a:lnTo>
                  <a:pt x="325" y="177"/>
                </a:lnTo>
                <a:lnTo>
                  <a:pt x="323" y="227"/>
                </a:lnTo>
                <a:lnTo>
                  <a:pt x="284" y="224"/>
                </a:lnTo>
                <a:close/>
                <a:moveTo>
                  <a:pt x="285" y="159"/>
                </a:moveTo>
                <a:lnTo>
                  <a:pt x="285" y="111"/>
                </a:lnTo>
                <a:lnTo>
                  <a:pt x="328" y="117"/>
                </a:lnTo>
                <a:lnTo>
                  <a:pt x="326" y="163"/>
                </a:lnTo>
                <a:lnTo>
                  <a:pt x="285" y="159"/>
                </a:lnTo>
                <a:close/>
                <a:moveTo>
                  <a:pt x="336" y="228"/>
                </a:moveTo>
                <a:lnTo>
                  <a:pt x="339" y="178"/>
                </a:lnTo>
                <a:lnTo>
                  <a:pt x="379" y="182"/>
                </a:lnTo>
                <a:lnTo>
                  <a:pt x="375" y="230"/>
                </a:lnTo>
                <a:lnTo>
                  <a:pt x="336" y="228"/>
                </a:lnTo>
                <a:close/>
                <a:moveTo>
                  <a:pt x="339" y="164"/>
                </a:moveTo>
                <a:lnTo>
                  <a:pt x="342" y="119"/>
                </a:lnTo>
                <a:lnTo>
                  <a:pt x="385" y="124"/>
                </a:lnTo>
                <a:lnTo>
                  <a:pt x="381" y="169"/>
                </a:lnTo>
                <a:lnTo>
                  <a:pt x="339" y="164"/>
                </a:lnTo>
                <a:close/>
                <a:moveTo>
                  <a:pt x="388" y="231"/>
                </a:moveTo>
                <a:lnTo>
                  <a:pt x="393" y="184"/>
                </a:lnTo>
                <a:lnTo>
                  <a:pt x="434" y="188"/>
                </a:lnTo>
                <a:lnTo>
                  <a:pt x="427" y="234"/>
                </a:lnTo>
                <a:lnTo>
                  <a:pt x="388" y="231"/>
                </a:lnTo>
                <a:close/>
                <a:moveTo>
                  <a:pt x="394" y="170"/>
                </a:moveTo>
                <a:lnTo>
                  <a:pt x="398" y="126"/>
                </a:lnTo>
                <a:lnTo>
                  <a:pt x="442" y="131"/>
                </a:lnTo>
                <a:lnTo>
                  <a:pt x="436" y="175"/>
                </a:lnTo>
                <a:lnTo>
                  <a:pt x="394" y="170"/>
                </a:lnTo>
                <a:close/>
                <a:moveTo>
                  <a:pt x="441" y="235"/>
                </a:moveTo>
                <a:lnTo>
                  <a:pt x="447" y="189"/>
                </a:lnTo>
                <a:lnTo>
                  <a:pt x="488" y="194"/>
                </a:lnTo>
                <a:lnTo>
                  <a:pt x="479" y="237"/>
                </a:lnTo>
                <a:lnTo>
                  <a:pt x="441" y="235"/>
                </a:lnTo>
                <a:close/>
                <a:moveTo>
                  <a:pt x="449" y="176"/>
                </a:moveTo>
                <a:lnTo>
                  <a:pt x="455" y="133"/>
                </a:lnTo>
                <a:lnTo>
                  <a:pt x="498" y="139"/>
                </a:lnTo>
                <a:lnTo>
                  <a:pt x="490" y="180"/>
                </a:lnTo>
                <a:lnTo>
                  <a:pt x="449" y="176"/>
                </a:lnTo>
                <a:close/>
                <a:moveTo>
                  <a:pt x="493" y="238"/>
                </a:moveTo>
                <a:lnTo>
                  <a:pt x="501" y="195"/>
                </a:lnTo>
                <a:lnTo>
                  <a:pt x="542" y="199"/>
                </a:lnTo>
                <a:lnTo>
                  <a:pt x="532" y="241"/>
                </a:lnTo>
                <a:lnTo>
                  <a:pt x="493" y="238"/>
                </a:lnTo>
                <a:close/>
                <a:moveTo>
                  <a:pt x="504" y="182"/>
                </a:moveTo>
                <a:lnTo>
                  <a:pt x="512" y="140"/>
                </a:lnTo>
                <a:lnTo>
                  <a:pt x="555" y="146"/>
                </a:lnTo>
                <a:lnTo>
                  <a:pt x="545" y="186"/>
                </a:lnTo>
                <a:lnTo>
                  <a:pt x="504" y="182"/>
                </a:lnTo>
                <a:close/>
                <a:moveTo>
                  <a:pt x="545" y="242"/>
                </a:moveTo>
                <a:lnTo>
                  <a:pt x="555" y="201"/>
                </a:lnTo>
                <a:lnTo>
                  <a:pt x="596" y="205"/>
                </a:lnTo>
                <a:lnTo>
                  <a:pt x="584" y="244"/>
                </a:lnTo>
                <a:lnTo>
                  <a:pt x="545" y="242"/>
                </a:lnTo>
                <a:close/>
                <a:moveTo>
                  <a:pt x="559" y="188"/>
                </a:moveTo>
                <a:lnTo>
                  <a:pt x="568" y="148"/>
                </a:lnTo>
                <a:lnTo>
                  <a:pt x="612" y="153"/>
                </a:lnTo>
                <a:lnTo>
                  <a:pt x="600" y="192"/>
                </a:lnTo>
                <a:lnTo>
                  <a:pt x="559" y="188"/>
                </a:lnTo>
                <a:close/>
                <a:moveTo>
                  <a:pt x="598" y="245"/>
                </a:moveTo>
                <a:lnTo>
                  <a:pt x="610" y="207"/>
                </a:lnTo>
                <a:lnTo>
                  <a:pt x="640" y="210"/>
                </a:lnTo>
                <a:lnTo>
                  <a:pt x="628" y="247"/>
                </a:lnTo>
                <a:lnTo>
                  <a:pt x="598" y="245"/>
                </a:lnTo>
                <a:close/>
                <a:moveTo>
                  <a:pt x="613" y="193"/>
                </a:moveTo>
                <a:lnTo>
                  <a:pt x="625" y="155"/>
                </a:lnTo>
                <a:lnTo>
                  <a:pt x="657" y="159"/>
                </a:lnTo>
                <a:lnTo>
                  <a:pt x="644" y="197"/>
                </a:lnTo>
                <a:lnTo>
                  <a:pt x="613" y="193"/>
                </a:lnTo>
                <a:close/>
                <a:moveTo>
                  <a:pt x="671" y="474"/>
                </a:moveTo>
                <a:cubicBezTo>
                  <a:pt x="675" y="474"/>
                  <a:pt x="678" y="473"/>
                  <a:pt x="681" y="470"/>
                </a:cubicBezTo>
                <a:cubicBezTo>
                  <a:pt x="686" y="465"/>
                  <a:pt x="686" y="456"/>
                  <a:pt x="681" y="451"/>
                </a:cubicBezTo>
                <a:cubicBezTo>
                  <a:pt x="653" y="423"/>
                  <a:pt x="610" y="423"/>
                  <a:pt x="609" y="423"/>
                </a:cubicBezTo>
                <a:lnTo>
                  <a:pt x="126" y="423"/>
                </a:lnTo>
                <a:lnTo>
                  <a:pt x="146" y="373"/>
                </a:lnTo>
                <a:lnTo>
                  <a:pt x="604" y="373"/>
                </a:lnTo>
                <a:cubicBezTo>
                  <a:pt x="610" y="373"/>
                  <a:pt x="615" y="370"/>
                  <a:pt x="617" y="364"/>
                </a:cubicBezTo>
                <a:lnTo>
                  <a:pt x="687" y="152"/>
                </a:lnTo>
                <a:cubicBezTo>
                  <a:pt x="689" y="148"/>
                  <a:pt x="688" y="144"/>
                  <a:pt x="686" y="140"/>
                </a:cubicBezTo>
                <a:cubicBezTo>
                  <a:pt x="684" y="137"/>
                  <a:pt x="680" y="135"/>
                  <a:pt x="676" y="134"/>
                </a:cubicBezTo>
                <a:lnTo>
                  <a:pt x="110" y="62"/>
                </a:lnTo>
                <a:cubicBezTo>
                  <a:pt x="104" y="55"/>
                  <a:pt x="92" y="43"/>
                  <a:pt x="74" y="35"/>
                </a:cubicBezTo>
                <a:cubicBezTo>
                  <a:pt x="73" y="15"/>
                  <a:pt x="57" y="0"/>
                  <a:pt x="37" y="0"/>
                </a:cubicBezTo>
                <a:cubicBezTo>
                  <a:pt x="17" y="0"/>
                  <a:pt x="0" y="17"/>
                  <a:pt x="0" y="37"/>
                </a:cubicBezTo>
                <a:cubicBezTo>
                  <a:pt x="0" y="57"/>
                  <a:pt x="17" y="74"/>
                  <a:pt x="37" y="74"/>
                </a:cubicBezTo>
                <a:cubicBezTo>
                  <a:pt x="49" y="74"/>
                  <a:pt x="59" y="69"/>
                  <a:pt x="66" y="60"/>
                </a:cubicBezTo>
                <a:cubicBezTo>
                  <a:pt x="78" y="67"/>
                  <a:pt x="87" y="76"/>
                  <a:pt x="90" y="80"/>
                </a:cubicBezTo>
                <a:lnTo>
                  <a:pt x="124" y="358"/>
                </a:lnTo>
                <a:lnTo>
                  <a:pt x="94" y="431"/>
                </a:lnTo>
                <a:cubicBezTo>
                  <a:pt x="92" y="435"/>
                  <a:pt x="92" y="440"/>
                  <a:pt x="95" y="443"/>
                </a:cubicBezTo>
                <a:cubicBezTo>
                  <a:pt x="97" y="447"/>
                  <a:pt x="102" y="449"/>
                  <a:pt x="106" y="449"/>
                </a:cubicBezTo>
                <a:lnTo>
                  <a:pt x="609" y="449"/>
                </a:lnTo>
                <a:cubicBezTo>
                  <a:pt x="609" y="449"/>
                  <a:pt x="642" y="450"/>
                  <a:pt x="662" y="470"/>
                </a:cubicBezTo>
                <a:cubicBezTo>
                  <a:pt x="665" y="473"/>
                  <a:pt x="668" y="474"/>
                  <a:pt x="671" y="474"/>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83" name="Freeform 277"/>
          <p:cNvSpPr/>
          <p:nvPr/>
        </p:nvSpPr>
        <p:spPr>
          <a:xfrm>
            <a:off x="5226120" y="2940120"/>
            <a:ext cx="181080" cy="182520"/>
          </a:xfrm>
          <a:custGeom>
            <a:avLst/>
            <a:gdLst/>
            <a:ahLst/>
            <a:rect l="l" t="t" r="r" b="b"/>
            <a:pathLst>
              <a:path w="678" h="685">
                <a:moveTo>
                  <a:pt x="22" y="619"/>
                </a:moveTo>
                <a:lnTo>
                  <a:pt x="185" y="255"/>
                </a:lnTo>
                <a:lnTo>
                  <a:pt x="86" y="157"/>
                </a:lnTo>
                <a:cubicBezTo>
                  <a:pt x="73" y="144"/>
                  <a:pt x="22" y="55"/>
                  <a:pt x="32" y="39"/>
                </a:cubicBezTo>
                <a:cubicBezTo>
                  <a:pt x="47" y="28"/>
                  <a:pt x="139" y="77"/>
                  <a:pt x="152" y="90"/>
                </a:cubicBezTo>
                <a:lnTo>
                  <a:pt x="251" y="188"/>
                </a:lnTo>
                <a:lnTo>
                  <a:pt x="612" y="23"/>
                </a:lnTo>
                <a:cubicBezTo>
                  <a:pt x="612" y="23"/>
                  <a:pt x="678" y="0"/>
                  <a:pt x="588" y="87"/>
                </a:cubicBezTo>
                <a:lnTo>
                  <a:pt x="348" y="285"/>
                </a:lnTo>
                <a:cubicBezTo>
                  <a:pt x="384" y="324"/>
                  <a:pt x="466" y="414"/>
                  <a:pt x="517" y="476"/>
                </a:cubicBezTo>
                <a:lnTo>
                  <a:pt x="640" y="436"/>
                </a:lnTo>
                <a:cubicBezTo>
                  <a:pt x="640" y="436"/>
                  <a:pt x="666" y="431"/>
                  <a:pt x="634" y="461"/>
                </a:cubicBezTo>
                <a:lnTo>
                  <a:pt x="553" y="523"/>
                </a:lnTo>
                <a:cubicBezTo>
                  <a:pt x="559" y="532"/>
                  <a:pt x="563" y="539"/>
                  <a:pt x="561" y="541"/>
                </a:cubicBezTo>
                <a:lnTo>
                  <a:pt x="552" y="549"/>
                </a:lnTo>
                <a:lnTo>
                  <a:pt x="559" y="556"/>
                </a:lnTo>
                <a:lnTo>
                  <a:pt x="559" y="560"/>
                </a:lnTo>
                <a:lnTo>
                  <a:pt x="556" y="560"/>
                </a:lnTo>
                <a:lnTo>
                  <a:pt x="548" y="553"/>
                </a:lnTo>
                <a:lnTo>
                  <a:pt x="541" y="560"/>
                </a:lnTo>
                <a:cubicBezTo>
                  <a:pt x="539" y="562"/>
                  <a:pt x="533" y="559"/>
                  <a:pt x="523" y="553"/>
                </a:cubicBezTo>
                <a:lnTo>
                  <a:pt x="460" y="637"/>
                </a:lnTo>
                <a:cubicBezTo>
                  <a:pt x="430" y="669"/>
                  <a:pt x="435" y="643"/>
                  <a:pt x="435" y="643"/>
                </a:cubicBezTo>
                <a:lnTo>
                  <a:pt x="475" y="517"/>
                </a:lnTo>
                <a:cubicBezTo>
                  <a:pt x="412" y="466"/>
                  <a:pt x="322" y="386"/>
                  <a:pt x="283" y="350"/>
                </a:cubicBezTo>
                <a:lnTo>
                  <a:pt x="86" y="594"/>
                </a:lnTo>
                <a:cubicBezTo>
                  <a:pt x="0" y="685"/>
                  <a:pt x="22" y="619"/>
                  <a:pt x="22" y="61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84" name="Freeform 278"/>
          <p:cNvSpPr/>
          <p:nvPr/>
        </p:nvSpPr>
        <p:spPr>
          <a:xfrm>
            <a:off x="2890800" y="2967120"/>
            <a:ext cx="228600" cy="125280"/>
          </a:xfrm>
          <a:custGeom>
            <a:avLst/>
            <a:gdLst/>
            <a:ahLst/>
            <a:rect l="l" t="t" r="r" b="b"/>
            <a:pathLst>
              <a:path w="856" h="467">
                <a:moveTo>
                  <a:pt x="682" y="447"/>
                </a:moveTo>
                <a:cubicBezTo>
                  <a:pt x="597" y="447"/>
                  <a:pt x="528" y="378"/>
                  <a:pt x="528" y="293"/>
                </a:cubicBezTo>
                <a:cubicBezTo>
                  <a:pt x="528" y="245"/>
                  <a:pt x="550" y="202"/>
                  <a:pt x="584" y="174"/>
                </a:cubicBezTo>
                <a:lnTo>
                  <a:pt x="648" y="273"/>
                </a:lnTo>
                <a:cubicBezTo>
                  <a:pt x="645" y="278"/>
                  <a:pt x="643" y="284"/>
                  <a:pt x="643" y="290"/>
                </a:cubicBezTo>
                <a:cubicBezTo>
                  <a:pt x="643" y="306"/>
                  <a:pt x="655" y="319"/>
                  <a:pt x="671" y="319"/>
                </a:cubicBezTo>
                <a:cubicBezTo>
                  <a:pt x="686" y="319"/>
                  <a:pt x="698" y="306"/>
                  <a:pt x="698" y="290"/>
                </a:cubicBezTo>
                <a:cubicBezTo>
                  <a:pt x="698" y="275"/>
                  <a:pt x="686" y="262"/>
                  <a:pt x="671" y="262"/>
                </a:cubicBezTo>
                <a:cubicBezTo>
                  <a:pt x="669" y="262"/>
                  <a:pt x="668" y="262"/>
                  <a:pt x="667" y="262"/>
                </a:cubicBezTo>
                <a:lnTo>
                  <a:pt x="602" y="161"/>
                </a:lnTo>
                <a:cubicBezTo>
                  <a:pt x="625" y="147"/>
                  <a:pt x="653" y="139"/>
                  <a:pt x="682" y="139"/>
                </a:cubicBezTo>
                <a:cubicBezTo>
                  <a:pt x="767" y="139"/>
                  <a:pt x="836" y="208"/>
                  <a:pt x="836" y="293"/>
                </a:cubicBezTo>
                <a:cubicBezTo>
                  <a:pt x="836" y="378"/>
                  <a:pt x="767" y="447"/>
                  <a:pt x="682" y="447"/>
                </a:cubicBezTo>
                <a:close/>
                <a:moveTo>
                  <a:pt x="194" y="271"/>
                </a:moveTo>
                <a:cubicBezTo>
                  <a:pt x="195" y="272"/>
                  <a:pt x="196" y="273"/>
                  <a:pt x="197" y="275"/>
                </a:cubicBezTo>
                <a:lnTo>
                  <a:pt x="328" y="275"/>
                </a:lnTo>
                <a:cubicBezTo>
                  <a:pt x="322" y="229"/>
                  <a:pt x="297" y="190"/>
                  <a:pt x="262" y="165"/>
                </a:cubicBezTo>
                <a:lnTo>
                  <a:pt x="194" y="271"/>
                </a:lnTo>
                <a:close/>
                <a:moveTo>
                  <a:pt x="200" y="299"/>
                </a:moveTo>
                <a:cubicBezTo>
                  <a:pt x="197" y="310"/>
                  <a:pt x="186" y="319"/>
                  <a:pt x="173" y="319"/>
                </a:cubicBezTo>
                <a:cubicBezTo>
                  <a:pt x="158" y="319"/>
                  <a:pt x="146" y="306"/>
                  <a:pt x="146" y="290"/>
                </a:cubicBezTo>
                <a:cubicBezTo>
                  <a:pt x="146" y="275"/>
                  <a:pt x="158" y="262"/>
                  <a:pt x="173" y="262"/>
                </a:cubicBezTo>
                <a:lnTo>
                  <a:pt x="243" y="155"/>
                </a:lnTo>
                <a:cubicBezTo>
                  <a:pt x="222" y="144"/>
                  <a:pt x="199" y="139"/>
                  <a:pt x="175" y="139"/>
                </a:cubicBezTo>
                <a:cubicBezTo>
                  <a:pt x="89" y="139"/>
                  <a:pt x="20" y="208"/>
                  <a:pt x="20" y="293"/>
                </a:cubicBezTo>
                <a:cubicBezTo>
                  <a:pt x="20" y="378"/>
                  <a:pt x="89" y="447"/>
                  <a:pt x="175" y="447"/>
                </a:cubicBezTo>
                <a:cubicBezTo>
                  <a:pt x="258" y="447"/>
                  <a:pt x="326" y="381"/>
                  <a:pt x="329" y="299"/>
                </a:cubicBezTo>
                <a:lnTo>
                  <a:pt x="203" y="299"/>
                </a:lnTo>
                <a:lnTo>
                  <a:pt x="200" y="299"/>
                </a:lnTo>
                <a:close/>
                <a:moveTo>
                  <a:pt x="417" y="262"/>
                </a:moveTo>
                <a:cubicBezTo>
                  <a:pt x="432" y="262"/>
                  <a:pt x="444" y="274"/>
                  <a:pt x="444" y="290"/>
                </a:cubicBezTo>
                <a:cubicBezTo>
                  <a:pt x="444" y="306"/>
                  <a:pt x="432" y="318"/>
                  <a:pt x="417" y="318"/>
                </a:cubicBezTo>
                <a:cubicBezTo>
                  <a:pt x="401" y="318"/>
                  <a:pt x="389" y="306"/>
                  <a:pt x="389" y="290"/>
                </a:cubicBezTo>
                <a:cubicBezTo>
                  <a:pt x="389" y="274"/>
                  <a:pt x="401" y="262"/>
                  <a:pt x="417" y="262"/>
                </a:cubicBezTo>
                <a:close/>
                <a:moveTo>
                  <a:pt x="430" y="249"/>
                </a:moveTo>
                <a:cubicBezTo>
                  <a:pt x="426" y="247"/>
                  <a:pt x="421" y="246"/>
                  <a:pt x="416" y="246"/>
                </a:cubicBezTo>
                <a:cubicBezTo>
                  <a:pt x="410" y="246"/>
                  <a:pt x="404" y="247"/>
                  <a:pt x="398" y="250"/>
                </a:cubicBezTo>
                <a:lnTo>
                  <a:pt x="312" y="106"/>
                </a:lnTo>
                <a:lnTo>
                  <a:pt x="526" y="106"/>
                </a:lnTo>
                <a:lnTo>
                  <a:pt x="430" y="249"/>
                </a:lnTo>
                <a:close/>
                <a:moveTo>
                  <a:pt x="348" y="275"/>
                </a:moveTo>
                <a:cubicBezTo>
                  <a:pt x="342" y="222"/>
                  <a:pt x="314" y="177"/>
                  <a:pt x="272" y="149"/>
                </a:cubicBezTo>
                <a:lnTo>
                  <a:pt x="292" y="118"/>
                </a:lnTo>
                <a:lnTo>
                  <a:pt x="381" y="264"/>
                </a:lnTo>
                <a:cubicBezTo>
                  <a:pt x="379" y="268"/>
                  <a:pt x="378" y="271"/>
                  <a:pt x="376" y="275"/>
                </a:cubicBezTo>
                <a:lnTo>
                  <a:pt x="348" y="275"/>
                </a:lnTo>
                <a:close/>
                <a:moveTo>
                  <a:pt x="682" y="119"/>
                </a:moveTo>
                <a:cubicBezTo>
                  <a:pt x="649" y="119"/>
                  <a:pt x="618" y="128"/>
                  <a:pt x="591" y="144"/>
                </a:cubicBezTo>
                <a:lnTo>
                  <a:pt x="560" y="97"/>
                </a:lnTo>
                <a:lnTo>
                  <a:pt x="548" y="73"/>
                </a:lnTo>
                <a:cubicBezTo>
                  <a:pt x="548" y="73"/>
                  <a:pt x="538" y="49"/>
                  <a:pt x="533" y="40"/>
                </a:cubicBezTo>
                <a:cubicBezTo>
                  <a:pt x="522" y="7"/>
                  <a:pt x="483" y="6"/>
                  <a:pt x="483" y="6"/>
                </a:cubicBezTo>
                <a:lnTo>
                  <a:pt x="483" y="6"/>
                </a:lnTo>
                <a:lnTo>
                  <a:pt x="481" y="6"/>
                </a:lnTo>
                <a:lnTo>
                  <a:pt x="481" y="1"/>
                </a:lnTo>
                <a:lnTo>
                  <a:pt x="477" y="1"/>
                </a:lnTo>
                <a:lnTo>
                  <a:pt x="476" y="5"/>
                </a:lnTo>
                <a:lnTo>
                  <a:pt x="436" y="0"/>
                </a:lnTo>
                <a:cubicBezTo>
                  <a:pt x="434" y="0"/>
                  <a:pt x="433" y="3"/>
                  <a:pt x="433" y="8"/>
                </a:cubicBezTo>
                <a:cubicBezTo>
                  <a:pt x="432" y="12"/>
                  <a:pt x="434" y="16"/>
                  <a:pt x="435" y="17"/>
                </a:cubicBezTo>
                <a:lnTo>
                  <a:pt x="475" y="22"/>
                </a:lnTo>
                <a:lnTo>
                  <a:pt x="475" y="26"/>
                </a:lnTo>
                <a:lnTo>
                  <a:pt x="479" y="26"/>
                </a:lnTo>
                <a:lnTo>
                  <a:pt x="479" y="23"/>
                </a:lnTo>
                <a:lnTo>
                  <a:pt x="483" y="23"/>
                </a:lnTo>
                <a:lnTo>
                  <a:pt x="484" y="23"/>
                </a:lnTo>
                <a:lnTo>
                  <a:pt x="485" y="23"/>
                </a:lnTo>
                <a:lnTo>
                  <a:pt x="488" y="24"/>
                </a:lnTo>
                <a:cubicBezTo>
                  <a:pt x="508" y="29"/>
                  <a:pt x="513" y="43"/>
                  <a:pt x="513" y="43"/>
                </a:cubicBezTo>
                <a:lnTo>
                  <a:pt x="530" y="81"/>
                </a:lnTo>
                <a:lnTo>
                  <a:pt x="300" y="81"/>
                </a:lnTo>
                <a:lnTo>
                  <a:pt x="284" y="48"/>
                </a:lnTo>
                <a:lnTo>
                  <a:pt x="334" y="47"/>
                </a:lnTo>
                <a:cubicBezTo>
                  <a:pt x="334" y="47"/>
                  <a:pt x="353" y="30"/>
                  <a:pt x="320" y="19"/>
                </a:cubicBezTo>
                <a:cubicBezTo>
                  <a:pt x="287" y="9"/>
                  <a:pt x="235" y="0"/>
                  <a:pt x="235" y="0"/>
                </a:cubicBezTo>
                <a:cubicBezTo>
                  <a:pt x="235" y="0"/>
                  <a:pt x="194" y="0"/>
                  <a:pt x="197" y="27"/>
                </a:cubicBezTo>
                <a:cubicBezTo>
                  <a:pt x="200" y="55"/>
                  <a:pt x="230" y="50"/>
                  <a:pt x="230" y="50"/>
                </a:cubicBezTo>
                <a:lnTo>
                  <a:pt x="258" y="49"/>
                </a:lnTo>
                <a:lnTo>
                  <a:pt x="281" y="95"/>
                </a:lnTo>
                <a:lnTo>
                  <a:pt x="254" y="138"/>
                </a:lnTo>
                <a:cubicBezTo>
                  <a:pt x="230" y="126"/>
                  <a:pt x="203" y="119"/>
                  <a:pt x="175" y="119"/>
                </a:cubicBezTo>
                <a:cubicBezTo>
                  <a:pt x="78" y="119"/>
                  <a:pt x="0" y="197"/>
                  <a:pt x="0" y="293"/>
                </a:cubicBezTo>
                <a:cubicBezTo>
                  <a:pt x="0" y="389"/>
                  <a:pt x="78" y="467"/>
                  <a:pt x="175" y="467"/>
                </a:cubicBezTo>
                <a:cubicBezTo>
                  <a:pt x="269" y="467"/>
                  <a:pt x="345" y="392"/>
                  <a:pt x="349" y="299"/>
                </a:cubicBezTo>
                <a:lnTo>
                  <a:pt x="376" y="299"/>
                </a:lnTo>
                <a:cubicBezTo>
                  <a:pt x="381" y="317"/>
                  <a:pt x="397" y="329"/>
                  <a:pt x="416" y="329"/>
                </a:cubicBezTo>
                <a:cubicBezTo>
                  <a:pt x="439" y="329"/>
                  <a:pt x="458" y="311"/>
                  <a:pt x="458" y="288"/>
                </a:cubicBezTo>
                <a:cubicBezTo>
                  <a:pt x="458" y="278"/>
                  <a:pt x="454" y="270"/>
                  <a:pt x="449" y="263"/>
                </a:cubicBezTo>
                <a:lnTo>
                  <a:pt x="545" y="113"/>
                </a:lnTo>
                <a:lnTo>
                  <a:pt x="573" y="157"/>
                </a:lnTo>
                <a:cubicBezTo>
                  <a:pt x="533" y="189"/>
                  <a:pt x="508" y="238"/>
                  <a:pt x="508" y="293"/>
                </a:cubicBezTo>
                <a:cubicBezTo>
                  <a:pt x="508" y="389"/>
                  <a:pt x="586" y="467"/>
                  <a:pt x="682" y="467"/>
                </a:cubicBezTo>
                <a:cubicBezTo>
                  <a:pt x="778" y="467"/>
                  <a:pt x="856" y="389"/>
                  <a:pt x="856" y="293"/>
                </a:cubicBezTo>
                <a:cubicBezTo>
                  <a:pt x="856" y="197"/>
                  <a:pt x="778" y="119"/>
                  <a:pt x="682" y="119"/>
                </a:cubicBezTo>
                <a:close/>
              </a:path>
            </a:pathLst>
          </a:custGeom>
          <a:solidFill>
            <a:srgbClr val="a6a6a6"/>
          </a:solidFill>
          <a:ln w="0">
            <a:noFill/>
          </a:ln>
        </p:spPr>
        <p:style>
          <a:lnRef idx="0"/>
          <a:fillRef idx="0"/>
          <a:effectRef idx="0"/>
          <a:fontRef idx="minor"/>
        </p:style>
        <p:txBody>
          <a:bodyPr lIns="145800" rIns="145800" tIns="52560" bIns="52560" anchor="t">
            <a:noAutofit/>
          </a:bodyPr>
          <a:p>
            <a:endParaRPr b="0" lang="en-US" sz="1800" spc="-1" strike="noStrike">
              <a:solidFill>
                <a:srgbClr val="000000"/>
              </a:solidFill>
              <a:latin typeface="Calibri"/>
            </a:endParaRPr>
          </a:p>
        </p:txBody>
      </p:sp>
      <p:sp>
        <p:nvSpPr>
          <p:cNvPr id="1885" name="Freeform 279"/>
          <p:cNvSpPr/>
          <p:nvPr/>
        </p:nvSpPr>
        <p:spPr>
          <a:xfrm>
            <a:off x="4192560" y="5165640"/>
            <a:ext cx="208080" cy="179640"/>
          </a:xfrm>
          <a:custGeom>
            <a:avLst/>
            <a:gdLst/>
            <a:ahLst/>
            <a:rect l="l" t="t" r="r" b="b"/>
            <a:pathLst>
              <a:path w="779" h="674">
                <a:moveTo>
                  <a:pt x="429" y="303"/>
                </a:moveTo>
                <a:lnTo>
                  <a:pt x="412" y="373"/>
                </a:lnTo>
                <a:cubicBezTo>
                  <a:pt x="406" y="398"/>
                  <a:pt x="402" y="427"/>
                  <a:pt x="399" y="461"/>
                </a:cubicBezTo>
                <a:lnTo>
                  <a:pt x="385" y="461"/>
                </a:lnTo>
                <a:cubicBezTo>
                  <a:pt x="384" y="437"/>
                  <a:pt x="379" y="408"/>
                  <a:pt x="370" y="373"/>
                </a:cubicBezTo>
                <a:lnTo>
                  <a:pt x="354" y="303"/>
                </a:lnTo>
                <a:cubicBezTo>
                  <a:pt x="344" y="261"/>
                  <a:pt x="339" y="231"/>
                  <a:pt x="339" y="213"/>
                </a:cubicBezTo>
                <a:cubicBezTo>
                  <a:pt x="339" y="196"/>
                  <a:pt x="344" y="183"/>
                  <a:pt x="353" y="173"/>
                </a:cubicBezTo>
                <a:cubicBezTo>
                  <a:pt x="363" y="163"/>
                  <a:pt x="376" y="158"/>
                  <a:pt x="392" y="158"/>
                </a:cubicBezTo>
                <a:cubicBezTo>
                  <a:pt x="407" y="158"/>
                  <a:pt x="420" y="163"/>
                  <a:pt x="430" y="173"/>
                </a:cubicBezTo>
                <a:cubicBezTo>
                  <a:pt x="440" y="184"/>
                  <a:pt x="445" y="196"/>
                  <a:pt x="445" y="212"/>
                </a:cubicBezTo>
                <a:cubicBezTo>
                  <a:pt x="445" y="228"/>
                  <a:pt x="440" y="259"/>
                  <a:pt x="429" y="303"/>
                </a:cubicBezTo>
                <a:close/>
                <a:moveTo>
                  <a:pt x="429" y="596"/>
                </a:moveTo>
                <a:cubicBezTo>
                  <a:pt x="419" y="606"/>
                  <a:pt x="407" y="611"/>
                  <a:pt x="392" y="611"/>
                </a:cubicBezTo>
                <a:cubicBezTo>
                  <a:pt x="378" y="611"/>
                  <a:pt x="366" y="606"/>
                  <a:pt x="356" y="596"/>
                </a:cubicBezTo>
                <a:cubicBezTo>
                  <a:pt x="346" y="586"/>
                  <a:pt x="341" y="574"/>
                  <a:pt x="341" y="559"/>
                </a:cubicBezTo>
                <a:cubicBezTo>
                  <a:pt x="341" y="545"/>
                  <a:pt x="346" y="533"/>
                  <a:pt x="356" y="522"/>
                </a:cubicBezTo>
                <a:cubicBezTo>
                  <a:pt x="366" y="512"/>
                  <a:pt x="378" y="507"/>
                  <a:pt x="392" y="507"/>
                </a:cubicBezTo>
                <a:cubicBezTo>
                  <a:pt x="407" y="507"/>
                  <a:pt x="419" y="512"/>
                  <a:pt x="429" y="522"/>
                </a:cubicBezTo>
                <a:cubicBezTo>
                  <a:pt x="439" y="533"/>
                  <a:pt x="444" y="545"/>
                  <a:pt x="444" y="559"/>
                </a:cubicBezTo>
                <a:cubicBezTo>
                  <a:pt x="444" y="574"/>
                  <a:pt x="439" y="586"/>
                  <a:pt x="429" y="596"/>
                </a:cubicBezTo>
                <a:close/>
                <a:moveTo>
                  <a:pt x="765" y="631"/>
                </a:moveTo>
                <a:lnTo>
                  <a:pt x="614" y="370"/>
                </a:lnTo>
                <a:cubicBezTo>
                  <a:pt x="601" y="347"/>
                  <a:pt x="579" y="308"/>
                  <a:pt x="565" y="285"/>
                </a:cubicBezTo>
                <a:lnTo>
                  <a:pt x="414" y="24"/>
                </a:lnTo>
                <a:cubicBezTo>
                  <a:pt x="401" y="0"/>
                  <a:pt x="378" y="0"/>
                  <a:pt x="365" y="24"/>
                </a:cubicBezTo>
                <a:lnTo>
                  <a:pt x="214" y="285"/>
                </a:lnTo>
                <a:cubicBezTo>
                  <a:pt x="200" y="308"/>
                  <a:pt x="178" y="347"/>
                  <a:pt x="165" y="370"/>
                </a:cubicBezTo>
                <a:lnTo>
                  <a:pt x="14" y="631"/>
                </a:lnTo>
                <a:cubicBezTo>
                  <a:pt x="0" y="655"/>
                  <a:pt x="11" y="674"/>
                  <a:pt x="39" y="674"/>
                </a:cubicBezTo>
                <a:lnTo>
                  <a:pt x="340" y="674"/>
                </a:lnTo>
                <a:cubicBezTo>
                  <a:pt x="367" y="674"/>
                  <a:pt x="412" y="674"/>
                  <a:pt x="439" y="674"/>
                </a:cubicBezTo>
                <a:lnTo>
                  <a:pt x="740" y="674"/>
                </a:lnTo>
                <a:cubicBezTo>
                  <a:pt x="768" y="674"/>
                  <a:pt x="779" y="655"/>
                  <a:pt x="765" y="63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86" name="Freeform 280"/>
          <p:cNvSpPr/>
          <p:nvPr/>
        </p:nvSpPr>
        <p:spPr>
          <a:xfrm>
            <a:off x="8375760" y="4857840"/>
            <a:ext cx="195120" cy="87120"/>
          </a:xfrm>
          <a:custGeom>
            <a:avLst/>
            <a:gdLst/>
            <a:ahLst/>
            <a:rect l="l" t="t" r="r" b="b"/>
            <a:pathLst>
              <a:path w="731" h="332">
                <a:moveTo>
                  <a:pt x="154" y="274"/>
                </a:moveTo>
                <a:cubicBezTo>
                  <a:pt x="102" y="274"/>
                  <a:pt x="61" y="232"/>
                  <a:pt x="61" y="170"/>
                </a:cubicBezTo>
                <a:cubicBezTo>
                  <a:pt x="61" y="108"/>
                  <a:pt x="102" y="62"/>
                  <a:pt x="154" y="62"/>
                </a:cubicBezTo>
                <a:cubicBezTo>
                  <a:pt x="205" y="62"/>
                  <a:pt x="247" y="108"/>
                  <a:pt x="247" y="170"/>
                </a:cubicBezTo>
                <a:cubicBezTo>
                  <a:pt x="247" y="232"/>
                  <a:pt x="205" y="274"/>
                  <a:pt x="154" y="274"/>
                </a:cubicBezTo>
                <a:close/>
                <a:moveTo>
                  <a:pt x="713" y="206"/>
                </a:moveTo>
                <a:lnTo>
                  <a:pt x="712" y="242"/>
                </a:lnTo>
                <a:lnTo>
                  <a:pt x="712" y="242"/>
                </a:lnTo>
                <a:lnTo>
                  <a:pt x="712" y="262"/>
                </a:lnTo>
                <a:lnTo>
                  <a:pt x="581" y="262"/>
                </a:lnTo>
                <a:lnTo>
                  <a:pt x="581" y="242"/>
                </a:lnTo>
                <a:lnTo>
                  <a:pt x="581" y="242"/>
                </a:lnTo>
                <a:lnTo>
                  <a:pt x="581" y="208"/>
                </a:lnTo>
                <a:lnTo>
                  <a:pt x="303" y="209"/>
                </a:lnTo>
                <a:cubicBezTo>
                  <a:pt x="288" y="291"/>
                  <a:pt x="227" y="332"/>
                  <a:pt x="154" y="332"/>
                </a:cubicBezTo>
                <a:cubicBezTo>
                  <a:pt x="69" y="332"/>
                  <a:pt x="0" y="272"/>
                  <a:pt x="0" y="170"/>
                </a:cubicBezTo>
                <a:cubicBezTo>
                  <a:pt x="0" y="68"/>
                  <a:pt x="64" y="0"/>
                  <a:pt x="154" y="0"/>
                </a:cubicBezTo>
                <a:cubicBezTo>
                  <a:pt x="231" y="0"/>
                  <a:pt x="285" y="45"/>
                  <a:pt x="302" y="123"/>
                </a:cubicBezTo>
                <a:lnTo>
                  <a:pt x="304" y="136"/>
                </a:lnTo>
                <a:lnTo>
                  <a:pt x="699" y="136"/>
                </a:lnTo>
                <a:cubicBezTo>
                  <a:pt x="699" y="136"/>
                  <a:pt x="730" y="134"/>
                  <a:pt x="730" y="158"/>
                </a:cubicBezTo>
                <a:lnTo>
                  <a:pt x="730" y="184"/>
                </a:lnTo>
                <a:cubicBezTo>
                  <a:pt x="730" y="184"/>
                  <a:pt x="731" y="201"/>
                  <a:pt x="713" y="206"/>
                </a:cubicBezTo>
                <a:close/>
                <a:moveTo>
                  <a:pt x="712" y="267"/>
                </a:moveTo>
                <a:lnTo>
                  <a:pt x="711" y="307"/>
                </a:lnTo>
                <a:cubicBezTo>
                  <a:pt x="711" y="307"/>
                  <a:pt x="714" y="313"/>
                  <a:pt x="698" y="314"/>
                </a:cubicBezTo>
                <a:lnTo>
                  <a:pt x="596" y="314"/>
                </a:lnTo>
                <a:cubicBezTo>
                  <a:pt x="596" y="314"/>
                  <a:pt x="581" y="313"/>
                  <a:pt x="580" y="300"/>
                </a:cubicBezTo>
                <a:lnTo>
                  <a:pt x="581" y="267"/>
                </a:lnTo>
                <a:lnTo>
                  <a:pt x="712" y="267"/>
                </a:lnTo>
                <a:close/>
              </a:path>
            </a:pathLst>
          </a:custGeom>
          <a:solidFill>
            <a:srgbClr val="a6a6a6"/>
          </a:solidFill>
          <a:ln w="0">
            <a:noFill/>
          </a:ln>
        </p:spPr>
        <p:style>
          <a:lnRef idx="0"/>
          <a:fillRef idx="0"/>
          <a:effectRef idx="0"/>
          <a:fontRef idx="minor"/>
        </p:style>
        <p:txBody>
          <a:bodyPr lIns="145800" rIns="145800" tIns="14400" bIns="14400" anchor="t">
            <a:noAutofit/>
          </a:bodyPr>
          <a:p>
            <a:endParaRPr b="0" lang="en-US" sz="1800" spc="-1" strike="noStrike">
              <a:solidFill>
                <a:srgbClr val="000000"/>
              </a:solidFill>
              <a:latin typeface="Calibri"/>
            </a:endParaRPr>
          </a:p>
        </p:txBody>
      </p:sp>
      <p:sp>
        <p:nvSpPr>
          <p:cNvPr id="1887" name="Freeform 281"/>
          <p:cNvSpPr/>
          <p:nvPr/>
        </p:nvSpPr>
        <p:spPr>
          <a:xfrm>
            <a:off x="7007400" y="4819680"/>
            <a:ext cx="169560" cy="163440"/>
          </a:xfrm>
          <a:custGeom>
            <a:avLst/>
            <a:gdLst/>
            <a:ahLst/>
            <a:rect l="l" t="t" r="r" b="b"/>
            <a:pathLst>
              <a:path w="632" h="613">
                <a:moveTo>
                  <a:pt x="123" y="305"/>
                </a:moveTo>
                <a:lnTo>
                  <a:pt x="300" y="305"/>
                </a:lnTo>
                <a:lnTo>
                  <a:pt x="300" y="524"/>
                </a:lnTo>
                <a:lnTo>
                  <a:pt x="299" y="525"/>
                </a:lnTo>
                <a:cubicBezTo>
                  <a:pt x="299" y="525"/>
                  <a:pt x="175" y="444"/>
                  <a:pt x="123" y="305"/>
                </a:cubicBezTo>
                <a:close/>
                <a:moveTo>
                  <a:pt x="493" y="153"/>
                </a:moveTo>
                <a:cubicBezTo>
                  <a:pt x="493" y="153"/>
                  <a:pt x="508" y="220"/>
                  <a:pt x="483" y="305"/>
                </a:cubicBezTo>
                <a:lnTo>
                  <a:pt x="304" y="305"/>
                </a:lnTo>
                <a:lnTo>
                  <a:pt x="304" y="90"/>
                </a:lnTo>
                <a:lnTo>
                  <a:pt x="304" y="90"/>
                </a:lnTo>
                <a:cubicBezTo>
                  <a:pt x="304" y="90"/>
                  <a:pt x="364" y="161"/>
                  <a:pt x="493" y="153"/>
                </a:cubicBezTo>
                <a:close/>
                <a:moveTo>
                  <a:pt x="562" y="90"/>
                </a:moveTo>
                <a:cubicBezTo>
                  <a:pt x="383" y="102"/>
                  <a:pt x="301" y="0"/>
                  <a:pt x="301" y="0"/>
                </a:cubicBezTo>
                <a:cubicBezTo>
                  <a:pt x="213" y="108"/>
                  <a:pt x="22" y="88"/>
                  <a:pt x="22" y="88"/>
                </a:cubicBezTo>
                <a:cubicBezTo>
                  <a:pt x="0" y="411"/>
                  <a:pt x="293" y="613"/>
                  <a:pt x="293" y="613"/>
                </a:cubicBezTo>
                <a:cubicBezTo>
                  <a:pt x="632" y="404"/>
                  <a:pt x="562" y="90"/>
                  <a:pt x="562" y="9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88" name="Freeform 282"/>
          <p:cNvSpPr/>
          <p:nvPr/>
        </p:nvSpPr>
        <p:spPr>
          <a:xfrm>
            <a:off x="7013520" y="3278160"/>
            <a:ext cx="142920" cy="154080"/>
          </a:xfrm>
          <a:custGeom>
            <a:avLst/>
            <a:gdLst/>
            <a:ahLst/>
            <a:rect l="l" t="t" r="r" b="b"/>
            <a:pathLst>
              <a:path w="537" h="577">
                <a:moveTo>
                  <a:pt x="147" y="214"/>
                </a:moveTo>
                <a:lnTo>
                  <a:pt x="193" y="229"/>
                </a:lnTo>
                <a:cubicBezTo>
                  <a:pt x="219" y="237"/>
                  <a:pt x="249" y="247"/>
                  <a:pt x="278" y="256"/>
                </a:cubicBezTo>
                <a:lnTo>
                  <a:pt x="411" y="300"/>
                </a:lnTo>
                <a:lnTo>
                  <a:pt x="446" y="429"/>
                </a:lnTo>
                <a:cubicBezTo>
                  <a:pt x="383" y="408"/>
                  <a:pt x="175" y="340"/>
                  <a:pt x="119" y="321"/>
                </a:cubicBezTo>
                <a:lnTo>
                  <a:pt x="147" y="214"/>
                </a:lnTo>
                <a:close/>
                <a:moveTo>
                  <a:pt x="36" y="511"/>
                </a:moveTo>
                <a:lnTo>
                  <a:pt x="68" y="511"/>
                </a:lnTo>
                <a:lnTo>
                  <a:pt x="88" y="434"/>
                </a:lnTo>
                <a:cubicBezTo>
                  <a:pt x="102" y="439"/>
                  <a:pt x="117" y="444"/>
                  <a:pt x="134" y="449"/>
                </a:cubicBezTo>
                <a:lnTo>
                  <a:pt x="134" y="449"/>
                </a:lnTo>
                <a:cubicBezTo>
                  <a:pt x="169" y="461"/>
                  <a:pt x="231" y="481"/>
                  <a:pt x="277" y="497"/>
                </a:cubicBezTo>
                <a:lnTo>
                  <a:pt x="321" y="511"/>
                </a:lnTo>
                <a:cubicBezTo>
                  <a:pt x="325" y="512"/>
                  <a:pt x="469" y="511"/>
                  <a:pt x="469" y="511"/>
                </a:cubicBezTo>
                <a:lnTo>
                  <a:pt x="501" y="511"/>
                </a:lnTo>
                <a:cubicBezTo>
                  <a:pt x="520" y="511"/>
                  <a:pt x="537" y="525"/>
                  <a:pt x="537" y="544"/>
                </a:cubicBezTo>
                <a:cubicBezTo>
                  <a:pt x="537" y="562"/>
                  <a:pt x="520" y="577"/>
                  <a:pt x="501" y="577"/>
                </a:cubicBezTo>
                <a:lnTo>
                  <a:pt x="36" y="577"/>
                </a:lnTo>
                <a:cubicBezTo>
                  <a:pt x="16" y="577"/>
                  <a:pt x="0" y="562"/>
                  <a:pt x="0" y="544"/>
                </a:cubicBezTo>
                <a:cubicBezTo>
                  <a:pt x="0" y="525"/>
                  <a:pt x="16" y="511"/>
                  <a:pt x="36" y="511"/>
                </a:cubicBezTo>
                <a:close/>
                <a:moveTo>
                  <a:pt x="175" y="109"/>
                </a:moveTo>
                <a:lnTo>
                  <a:pt x="189" y="60"/>
                </a:lnTo>
                <a:cubicBezTo>
                  <a:pt x="193" y="39"/>
                  <a:pt x="214" y="0"/>
                  <a:pt x="268" y="0"/>
                </a:cubicBezTo>
                <a:cubicBezTo>
                  <a:pt x="322" y="0"/>
                  <a:pt x="343" y="41"/>
                  <a:pt x="346" y="65"/>
                </a:cubicBezTo>
                <a:lnTo>
                  <a:pt x="376" y="173"/>
                </a:lnTo>
                <a:cubicBezTo>
                  <a:pt x="317" y="154"/>
                  <a:pt x="217" y="122"/>
                  <a:pt x="175" y="10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89" name="Freeform 283"/>
          <p:cNvSpPr/>
          <p:nvPr/>
        </p:nvSpPr>
        <p:spPr>
          <a:xfrm>
            <a:off x="7335720" y="880920"/>
            <a:ext cx="173160" cy="130320"/>
          </a:xfrm>
          <a:custGeom>
            <a:avLst/>
            <a:gdLst/>
            <a:ahLst/>
            <a:rect l="l" t="t" r="r" b="b"/>
            <a:pathLst>
              <a:path w="647" h="487">
                <a:moveTo>
                  <a:pt x="387" y="196"/>
                </a:moveTo>
                <a:lnTo>
                  <a:pt x="266" y="196"/>
                </a:lnTo>
                <a:lnTo>
                  <a:pt x="250" y="268"/>
                </a:lnTo>
                <a:cubicBezTo>
                  <a:pt x="250" y="268"/>
                  <a:pt x="298" y="268"/>
                  <a:pt x="334" y="268"/>
                </a:cubicBezTo>
                <a:cubicBezTo>
                  <a:pt x="371" y="268"/>
                  <a:pt x="374" y="249"/>
                  <a:pt x="374" y="249"/>
                </a:cubicBezTo>
                <a:lnTo>
                  <a:pt x="387" y="196"/>
                </a:lnTo>
                <a:close/>
                <a:moveTo>
                  <a:pt x="647" y="24"/>
                </a:moveTo>
                <a:lnTo>
                  <a:pt x="643" y="163"/>
                </a:lnTo>
                <a:lnTo>
                  <a:pt x="529" y="163"/>
                </a:lnTo>
                <a:cubicBezTo>
                  <a:pt x="512" y="192"/>
                  <a:pt x="485" y="196"/>
                  <a:pt x="485" y="196"/>
                </a:cubicBezTo>
                <a:lnTo>
                  <a:pt x="436" y="196"/>
                </a:lnTo>
                <a:cubicBezTo>
                  <a:pt x="436" y="196"/>
                  <a:pt x="429" y="233"/>
                  <a:pt x="419" y="268"/>
                </a:cubicBezTo>
                <a:cubicBezTo>
                  <a:pt x="404" y="316"/>
                  <a:pt x="355" y="311"/>
                  <a:pt x="355" y="311"/>
                </a:cubicBezTo>
                <a:lnTo>
                  <a:pt x="247" y="311"/>
                </a:lnTo>
                <a:cubicBezTo>
                  <a:pt x="247" y="311"/>
                  <a:pt x="227" y="403"/>
                  <a:pt x="220" y="445"/>
                </a:cubicBezTo>
                <a:cubicBezTo>
                  <a:pt x="213" y="487"/>
                  <a:pt x="185" y="484"/>
                  <a:pt x="185" y="484"/>
                </a:cubicBezTo>
                <a:cubicBezTo>
                  <a:pt x="185" y="484"/>
                  <a:pt x="120" y="484"/>
                  <a:pt x="60" y="484"/>
                </a:cubicBezTo>
                <a:cubicBezTo>
                  <a:pt x="0" y="484"/>
                  <a:pt x="21" y="423"/>
                  <a:pt x="25" y="390"/>
                </a:cubicBezTo>
                <a:cubicBezTo>
                  <a:pt x="29" y="356"/>
                  <a:pt x="62" y="263"/>
                  <a:pt x="66" y="234"/>
                </a:cubicBezTo>
                <a:cubicBezTo>
                  <a:pt x="71" y="205"/>
                  <a:pt x="16" y="175"/>
                  <a:pt x="16" y="175"/>
                </a:cubicBezTo>
                <a:cubicBezTo>
                  <a:pt x="16" y="175"/>
                  <a:pt x="29" y="166"/>
                  <a:pt x="34" y="157"/>
                </a:cubicBezTo>
                <a:cubicBezTo>
                  <a:pt x="38" y="149"/>
                  <a:pt x="26" y="103"/>
                  <a:pt x="18" y="87"/>
                </a:cubicBezTo>
                <a:cubicBezTo>
                  <a:pt x="10" y="71"/>
                  <a:pt x="5" y="51"/>
                  <a:pt x="5" y="51"/>
                </a:cubicBezTo>
                <a:lnTo>
                  <a:pt x="46" y="51"/>
                </a:lnTo>
                <a:lnTo>
                  <a:pt x="67" y="26"/>
                </a:lnTo>
                <a:lnTo>
                  <a:pt x="86" y="5"/>
                </a:lnTo>
                <a:lnTo>
                  <a:pt x="106" y="5"/>
                </a:lnTo>
                <a:lnTo>
                  <a:pt x="110" y="25"/>
                </a:lnTo>
                <a:lnTo>
                  <a:pt x="528" y="25"/>
                </a:lnTo>
                <a:lnTo>
                  <a:pt x="565" y="0"/>
                </a:lnTo>
                <a:lnTo>
                  <a:pt x="597" y="0"/>
                </a:lnTo>
                <a:lnTo>
                  <a:pt x="600" y="24"/>
                </a:lnTo>
                <a:lnTo>
                  <a:pt x="647" y="24"/>
                </a:lnTo>
                <a:close/>
              </a:path>
            </a:pathLst>
          </a:custGeom>
          <a:solidFill>
            <a:srgbClr val="a6a6a6"/>
          </a:solidFill>
          <a:ln w="0">
            <a:noFill/>
          </a:ln>
        </p:spPr>
        <p:style>
          <a:lnRef idx="0"/>
          <a:fillRef idx="0"/>
          <a:effectRef idx="0"/>
          <a:fontRef idx="minor"/>
        </p:style>
        <p:txBody>
          <a:bodyPr lIns="145800" rIns="145800" tIns="57600" bIns="57600" anchor="t">
            <a:noAutofit/>
          </a:bodyPr>
          <a:p>
            <a:endParaRPr b="0" lang="en-US" sz="1800" spc="-1" strike="noStrike">
              <a:solidFill>
                <a:srgbClr val="000000"/>
              </a:solidFill>
              <a:latin typeface="Calibri"/>
            </a:endParaRPr>
          </a:p>
        </p:txBody>
      </p:sp>
      <p:sp>
        <p:nvSpPr>
          <p:cNvPr id="1890" name="Freeform 284"/>
          <p:cNvSpPr/>
          <p:nvPr/>
        </p:nvSpPr>
        <p:spPr>
          <a:xfrm>
            <a:off x="5870520" y="5162400"/>
            <a:ext cx="217440" cy="187560"/>
          </a:xfrm>
          <a:custGeom>
            <a:avLst/>
            <a:gdLst/>
            <a:ahLst/>
            <a:rect l="l" t="t" r="r" b="b"/>
            <a:pathLst>
              <a:path w="814" h="694">
                <a:moveTo>
                  <a:pt x="508" y="517"/>
                </a:moveTo>
                <a:cubicBezTo>
                  <a:pt x="488" y="544"/>
                  <a:pt x="480" y="540"/>
                  <a:pt x="491" y="508"/>
                </a:cubicBezTo>
                <a:lnTo>
                  <a:pt x="575" y="263"/>
                </a:lnTo>
                <a:cubicBezTo>
                  <a:pt x="586" y="231"/>
                  <a:pt x="623" y="205"/>
                  <a:pt x="657" y="205"/>
                </a:cubicBezTo>
                <a:lnTo>
                  <a:pt x="691" y="205"/>
                </a:lnTo>
                <a:cubicBezTo>
                  <a:pt x="725" y="205"/>
                  <a:pt x="735" y="227"/>
                  <a:pt x="714" y="254"/>
                </a:cubicBezTo>
                <a:lnTo>
                  <a:pt x="508" y="517"/>
                </a:lnTo>
                <a:close/>
                <a:moveTo>
                  <a:pt x="126" y="103"/>
                </a:moveTo>
                <a:lnTo>
                  <a:pt x="127" y="103"/>
                </a:lnTo>
                <a:lnTo>
                  <a:pt x="127" y="102"/>
                </a:lnTo>
                <a:lnTo>
                  <a:pt x="126" y="103"/>
                </a:lnTo>
                <a:close/>
                <a:moveTo>
                  <a:pt x="704" y="120"/>
                </a:moveTo>
                <a:lnTo>
                  <a:pt x="704" y="119"/>
                </a:lnTo>
                <a:lnTo>
                  <a:pt x="705" y="120"/>
                </a:lnTo>
                <a:lnTo>
                  <a:pt x="704" y="120"/>
                </a:lnTo>
                <a:close/>
                <a:moveTo>
                  <a:pt x="428" y="569"/>
                </a:moveTo>
                <a:cubicBezTo>
                  <a:pt x="416" y="601"/>
                  <a:pt x="398" y="601"/>
                  <a:pt x="387" y="569"/>
                </a:cubicBezTo>
                <a:lnTo>
                  <a:pt x="281" y="263"/>
                </a:lnTo>
                <a:cubicBezTo>
                  <a:pt x="270" y="231"/>
                  <a:pt x="284" y="205"/>
                  <a:pt x="312" y="205"/>
                </a:cubicBezTo>
                <a:cubicBezTo>
                  <a:pt x="341" y="205"/>
                  <a:pt x="383" y="205"/>
                  <a:pt x="407" y="205"/>
                </a:cubicBezTo>
                <a:cubicBezTo>
                  <a:pt x="431" y="205"/>
                  <a:pt x="474" y="205"/>
                  <a:pt x="502" y="205"/>
                </a:cubicBezTo>
                <a:cubicBezTo>
                  <a:pt x="530" y="205"/>
                  <a:pt x="544" y="231"/>
                  <a:pt x="533" y="263"/>
                </a:cubicBezTo>
                <a:lnTo>
                  <a:pt x="428" y="569"/>
                </a:lnTo>
                <a:close/>
                <a:moveTo>
                  <a:pt x="100" y="254"/>
                </a:moveTo>
                <a:cubicBezTo>
                  <a:pt x="79" y="227"/>
                  <a:pt x="90" y="205"/>
                  <a:pt x="124" y="205"/>
                </a:cubicBezTo>
                <a:lnTo>
                  <a:pt x="157" y="205"/>
                </a:lnTo>
                <a:cubicBezTo>
                  <a:pt x="191" y="205"/>
                  <a:pt x="228" y="231"/>
                  <a:pt x="239" y="263"/>
                </a:cubicBezTo>
                <a:lnTo>
                  <a:pt x="324" y="508"/>
                </a:lnTo>
                <a:cubicBezTo>
                  <a:pt x="335" y="540"/>
                  <a:pt x="327" y="544"/>
                  <a:pt x="306" y="517"/>
                </a:cubicBezTo>
                <a:lnTo>
                  <a:pt x="100" y="254"/>
                </a:lnTo>
                <a:close/>
                <a:moveTo>
                  <a:pt x="812" y="179"/>
                </a:moveTo>
                <a:cubicBezTo>
                  <a:pt x="810" y="174"/>
                  <a:pt x="789" y="149"/>
                  <a:pt x="766" y="125"/>
                </a:cubicBezTo>
                <a:lnTo>
                  <a:pt x="695" y="51"/>
                </a:lnTo>
                <a:cubicBezTo>
                  <a:pt x="672" y="26"/>
                  <a:pt x="652" y="6"/>
                  <a:pt x="650" y="5"/>
                </a:cubicBezTo>
                <a:lnTo>
                  <a:pt x="645" y="1"/>
                </a:lnTo>
                <a:lnTo>
                  <a:pt x="645" y="1"/>
                </a:lnTo>
                <a:lnTo>
                  <a:pt x="645" y="1"/>
                </a:lnTo>
                <a:lnTo>
                  <a:pt x="643" y="1"/>
                </a:lnTo>
                <a:cubicBezTo>
                  <a:pt x="641" y="0"/>
                  <a:pt x="610" y="0"/>
                  <a:pt x="576" y="0"/>
                </a:cubicBezTo>
                <a:lnTo>
                  <a:pt x="513" y="0"/>
                </a:lnTo>
                <a:cubicBezTo>
                  <a:pt x="479" y="0"/>
                  <a:pt x="431" y="0"/>
                  <a:pt x="407" y="0"/>
                </a:cubicBezTo>
                <a:cubicBezTo>
                  <a:pt x="383" y="0"/>
                  <a:pt x="336" y="0"/>
                  <a:pt x="302" y="0"/>
                </a:cubicBezTo>
                <a:lnTo>
                  <a:pt x="238" y="0"/>
                </a:lnTo>
                <a:cubicBezTo>
                  <a:pt x="204" y="0"/>
                  <a:pt x="176" y="0"/>
                  <a:pt x="174" y="0"/>
                </a:cubicBezTo>
                <a:lnTo>
                  <a:pt x="170" y="1"/>
                </a:lnTo>
                <a:lnTo>
                  <a:pt x="170" y="1"/>
                </a:lnTo>
                <a:lnTo>
                  <a:pt x="169" y="1"/>
                </a:lnTo>
                <a:lnTo>
                  <a:pt x="167" y="3"/>
                </a:lnTo>
                <a:cubicBezTo>
                  <a:pt x="165" y="4"/>
                  <a:pt x="143" y="27"/>
                  <a:pt x="119" y="51"/>
                </a:cubicBezTo>
                <a:lnTo>
                  <a:pt x="49" y="125"/>
                </a:lnTo>
                <a:cubicBezTo>
                  <a:pt x="25" y="149"/>
                  <a:pt x="4" y="174"/>
                  <a:pt x="2" y="179"/>
                </a:cubicBezTo>
                <a:cubicBezTo>
                  <a:pt x="0" y="185"/>
                  <a:pt x="22" y="219"/>
                  <a:pt x="43" y="246"/>
                </a:cubicBezTo>
                <a:lnTo>
                  <a:pt x="349" y="638"/>
                </a:lnTo>
                <a:cubicBezTo>
                  <a:pt x="370" y="665"/>
                  <a:pt x="391" y="690"/>
                  <a:pt x="397" y="694"/>
                </a:cubicBezTo>
                <a:cubicBezTo>
                  <a:pt x="397" y="694"/>
                  <a:pt x="397" y="694"/>
                  <a:pt x="402" y="694"/>
                </a:cubicBezTo>
                <a:lnTo>
                  <a:pt x="404" y="694"/>
                </a:lnTo>
                <a:lnTo>
                  <a:pt x="411" y="694"/>
                </a:lnTo>
                <a:lnTo>
                  <a:pt x="412" y="694"/>
                </a:lnTo>
                <a:cubicBezTo>
                  <a:pt x="418" y="694"/>
                  <a:pt x="418" y="694"/>
                  <a:pt x="418" y="694"/>
                </a:cubicBezTo>
                <a:cubicBezTo>
                  <a:pt x="423" y="690"/>
                  <a:pt x="444" y="665"/>
                  <a:pt x="465" y="638"/>
                </a:cubicBezTo>
                <a:lnTo>
                  <a:pt x="772" y="246"/>
                </a:lnTo>
                <a:cubicBezTo>
                  <a:pt x="793" y="219"/>
                  <a:pt x="814" y="185"/>
                  <a:pt x="812" y="17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91" name="Freeform 285"/>
          <p:cNvSpPr/>
          <p:nvPr/>
        </p:nvSpPr>
        <p:spPr>
          <a:xfrm>
            <a:off x="9443880" y="1727280"/>
            <a:ext cx="113040" cy="171360"/>
          </a:xfrm>
          <a:custGeom>
            <a:avLst/>
            <a:gdLst/>
            <a:ahLst/>
            <a:rect l="l" t="t" r="r" b="b"/>
            <a:pathLst>
              <a:path w="428" h="640">
                <a:moveTo>
                  <a:pt x="426" y="544"/>
                </a:moveTo>
                <a:lnTo>
                  <a:pt x="426" y="451"/>
                </a:lnTo>
                <a:cubicBezTo>
                  <a:pt x="426" y="448"/>
                  <a:pt x="426" y="446"/>
                  <a:pt x="426" y="444"/>
                </a:cubicBezTo>
                <a:lnTo>
                  <a:pt x="426" y="112"/>
                </a:lnTo>
                <a:cubicBezTo>
                  <a:pt x="426" y="110"/>
                  <a:pt x="426" y="108"/>
                  <a:pt x="426" y="106"/>
                </a:cubicBezTo>
                <a:cubicBezTo>
                  <a:pt x="424" y="95"/>
                  <a:pt x="414" y="89"/>
                  <a:pt x="404" y="91"/>
                </a:cubicBezTo>
                <a:lnTo>
                  <a:pt x="59" y="157"/>
                </a:lnTo>
                <a:lnTo>
                  <a:pt x="59" y="155"/>
                </a:lnTo>
                <a:cubicBezTo>
                  <a:pt x="59" y="155"/>
                  <a:pt x="21" y="124"/>
                  <a:pt x="31" y="101"/>
                </a:cubicBezTo>
                <a:lnTo>
                  <a:pt x="361" y="38"/>
                </a:lnTo>
                <a:cubicBezTo>
                  <a:pt x="371" y="37"/>
                  <a:pt x="378" y="27"/>
                  <a:pt x="376" y="17"/>
                </a:cubicBezTo>
                <a:cubicBezTo>
                  <a:pt x="374" y="6"/>
                  <a:pt x="364" y="0"/>
                  <a:pt x="354" y="2"/>
                </a:cubicBezTo>
                <a:lnTo>
                  <a:pt x="17" y="66"/>
                </a:lnTo>
                <a:cubicBezTo>
                  <a:pt x="7" y="67"/>
                  <a:pt x="0" y="77"/>
                  <a:pt x="2" y="87"/>
                </a:cubicBezTo>
                <a:lnTo>
                  <a:pt x="2" y="180"/>
                </a:lnTo>
                <a:cubicBezTo>
                  <a:pt x="2" y="182"/>
                  <a:pt x="2" y="185"/>
                  <a:pt x="2" y="187"/>
                </a:cubicBezTo>
                <a:lnTo>
                  <a:pt x="2" y="519"/>
                </a:lnTo>
                <a:cubicBezTo>
                  <a:pt x="2" y="521"/>
                  <a:pt x="2" y="523"/>
                  <a:pt x="2" y="525"/>
                </a:cubicBezTo>
                <a:cubicBezTo>
                  <a:pt x="2" y="525"/>
                  <a:pt x="3" y="550"/>
                  <a:pt x="3" y="575"/>
                </a:cubicBezTo>
                <a:lnTo>
                  <a:pt x="3" y="575"/>
                </a:lnTo>
                <a:cubicBezTo>
                  <a:pt x="3" y="575"/>
                  <a:pt x="8" y="640"/>
                  <a:pt x="74" y="630"/>
                </a:cubicBezTo>
                <a:lnTo>
                  <a:pt x="411" y="565"/>
                </a:lnTo>
                <a:cubicBezTo>
                  <a:pt x="421" y="564"/>
                  <a:pt x="428" y="554"/>
                  <a:pt x="426" y="544"/>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92" name="Freeform 286"/>
          <p:cNvSpPr/>
          <p:nvPr/>
        </p:nvSpPr>
        <p:spPr>
          <a:xfrm>
            <a:off x="8383680" y="5164200"/>
            <a:ext cx="125280" cy="181080"/>
          </a:xfrm>
          <a:custGeom>
            <a:avLst/>
            <a:gdLst/>
            <a:ahLst/>
            <a:rect l="l" t="t" r="r" b="b"/>
            <a:pathLst>
              <a:path w="466" h="675">
                <a:moveTo>
                  <a:pt x="237" y="268"/>
                </a:moveTo>
                <a:lnTo>
                  <a:pt x="236" y="267"/>
                </a:lnTo>
                <a:lnTo>
                  <a:pt x="236" y="268"/>
                </a:lnTo>
                <a:lnTo>
                  <a:pt x="237" y="268"/>
                </a:lnTo>
                <a:close/>
                <a:moveTo>
                  <a:pt x="32" y="258"/>
                </a:moveTo>
                <a:cubicBezTo>
                  <a:pt x="38" y="253"/>
                  <a:pt x="46" y="248"/>
                  <a:pt x="54" y="246"/>
                </a:cubicBezTo>
                <a:cubicBezTo>
                  <a:pt x="71" y="239"/>
                  <a:pt x="113" y="225"/>
                  <a:pt x="184" y="225"/>
                </a:cubicBezTo>
                <a:cubicBezTo>
                  <a:pt x="110" y="173"/>
                  <a:pt x="89" y="132"/>
                  <a:pt x="89" y="132"/>
                </a:cubicBezTo>
                <a:lnTo>
                  <a:pt x="89" y="132"/>
                </a:lnTo>
                <a:cubicBezTo>
                  <a:pt x="87" y="128"/>
                  <a:pt x="85" y="123"/>
                  <a:pt x="83" y="118"/>
                </a:cubicBezTo>
                <a:cubicBezTo>
                  <a:pt x="73" y="82"/>
                  <a:pt x="94" y="45"/>
                  <a:pt x="129" y="34"/>
                </a:cubicBezTo>
                <a:cubicBezTo>
                  <a:pt x="146" y="30"/>
                  <a:pt x="162" y="32"/>
                  <a:pt x="176" y="38"/>
                </a:cubicBezTo>
                <a:cubicBezTo>
                  <a:pt x="185" y="25"/>
                  <a:pt x="198" y="15"/>
                  <a:pt x="214" y="10"/>
                </a:cubicBezTo>
                <a:cubicBezTo>
                  <a:pt x="250" y="0"/>
                  <a:pt x="287" y="21"/>
                  <a:pt x="297" y="56"/>
                </a:cubicBezTo>
                <a:cubicBezTo>
                  <a:pt x="299" y="65"/>
                  <a:pt x="300" y="74"/>
                  <a:pt x="299" y="82"/>
                </a:cubicBezTo>
                <a:cubicBezTo>
                  <a:pt x="299" y="99"/>
                  <a:pt x="294" y="138"/>
                  <a:pt x="270" y="196"/>
                </a:cubicBezTo>
                <a:cubicBezTo>
                  <a:pt x="324" y="165"/>
                  <a:pt x="362" y="155"/>
                  <a:pt x="378" y="153"/>
                </a:cubicBezTo>
                <a:cubicBezTo>
                  <a:pt x="387" y="150"/>
                  <a:pt x="395" y="150"/>
                  <a:pt x="404" y="151"/>
                </a:cubicBezTo>
                <a:cubicBezTo>
                  <a:pt x="441" y="157"/>
                  <a:pt x="466" y="191"/>
                  <a:pt x="461" y="228"/>
                </a:cubicBezTo>
                <a:cubicBezTo>
                  <a:pt x="458" y="244"/>
                  <a:pt x="450" y="258"/>
                  <a:pt x="438" y="269"/>
                </a:cubicBezTo>
                <a:cubicBezTo>
                  <a:pt x="447" y="282"/>
                  <a:pt x="451" y="298"/>
                  <a:pt x="448" y="314"/>
                </a:cubicBezTo>
                <a:cubicBezTo>
                  <a:pt x="443" y="351"/>
                  <a:pt x="409" y="377"/>
                  <a:pt x="372" y="371"/>
                </a:cubicBezTo>
                <a:cubicBezTo>
                  <a:pt x="367" y="370"/>
                  <a:pt x="362" y="369"/>
                  <a:pt x="357" y="367"/>
                </a:cubicBezTo>
                <a:lnTo>
                  <a:pt x="357" y="367"/>
                </a:lnTo>
                <a:cubicBezTo>
                  <a:pt x="357" y="367"/>
                  <a:pt x="320" y="355"/>
                  <a:pt x="266" y="301"/>
                </a:cubicBezTo>
                <a:cubicBezTo>
                  <a:pt x="294" y="350"/>
                  <a:pt x="344" y="457"/>
                  <a:pt x="312" y="549"/>
                </a:cubicBezTo>
                <a:cubicBezTo>
                  <a:pt x="291" y="608"/>
                  <a:pt x="241" y="650"/>
                  <a:pt x="162" y="674"/>
                </a:cubicBezTo>
                <a:lnTo>
                  <a:pt x="159" y="675"/>
                </a:lnTo>
                <a:cubicBezTo>
                  <a:pt x="154" y="675"/>
                  <a:pt x="149" y="671"/>
                  <a:pt x="147" y="666"/>
                </a:cubicBezTo>
                <a:cubicBezTo>
                  <a:pt x="145" y="660"/>
                  <a:pt x="149" y="653"/>
                  <a:pt x="155" y="651"/>
                </a:cubicBezTo>
                <a:cubicBezTo>
                  <a:pt x="226" y="630"/>
                  <a:pt x="271" y="593"/>
                  <a:pt x="289" y="541"/>
                </a:cubicBezTo>
                <a:cubicBezTo>
                  <a:pt x="324" y="441"/>
                  <a:pt x="248" y="314"/>
                  <a:pt x="232" y="290"/>
                </a:cubicBezTo>
                <a:cubicBezTo>
                  <a:pt x="216" y="381"/>
                  <a:pt x="186" y="416"/>
                  <a:pt x="186" y="416"/>
                </a:cubicBezTo>
                <a:lnTo>
                  <a:pt x="186" y="416"/>
                </a:lnTo>
                <a:cubicBezTo>
                  <a:pt x="183" y="420"/>
                  <a:pt x="180" y="424"/>
                  <a:pt x="176" y="428"/>
                </a:cubicBezTo>
                <a:cubicBezTo>
                  <a:pt x="148" y="452"/>
                  <a:pt x="105" y="448"/>
                  <a:pt x="81" y="420"/>
                </a:cubicBezTo>
                <a:cubicBezTo>
                  <a:pt x="70" y="407"/>
                  <a:pt x="65" y="391"/>
                  <a:pt x="65" y="376"/>
                </a:cubicBezTo>
                <a:cubicBezTo>
                  <a:pt x="50" y="373"/>
                  <a:pt x="35" y="366"/>
                  <a:pt x="24" y="353"/>
                </a:cubicBezTo>
                <a:cubicBezTo>
                  <a:pt x="0" y="325"/>
                  <a:pt x="4" y="282"/>
                  <a:pt x="32" y="258"/>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93" name="Freeform 287"/>
          <p:cNvSpPr/>
          <p:nvPr/>
        </p:nvSpPr>
        <p:spPr>
          <a:xfrm>
            <a:off x="4840200" y="3592440"/>
            <a:ext cx="216000" cy="149400"/>
          </a:xfrm>
          <a:custGeom>
            <a:avLst/>
            <a:gdLst/>
            <a:ahLst/>
            <a:rect l="l" t="t" r="r" b="b"/>
            <a:pathLst>
              <a:path w="808" h="555">
                <a:moveTo>
                  <a:pt x="293" y="378"/>
                </a:moveTo>
                <a:cubicBezTo>
                  <a:pt x="315" y="275"/>
                  <a:pt x="414" y="201"/>
                  <a:pt x="558" y="201"/>
                </a:cubicBezTo>
                <a:cubicBezTo>
                  <a:pt x="573" y="201"/>
                  <a:pt x="587" y="202"/>
                  <a:pt x="601" y="204"/>
                </a:cubicBezTo>
                <a:cubicBezTo>
                  <a:pt x="601" y="201"/>
                  <a:pt x="602" y="199"/>
                  <a:pt x="602" y="197"/>
                </a:cubicBezTo>
                <a:cubicBezTo>
                  <a:pt x="602" y="88"/>
                  <a:pt x="471" y="0"/>
                  <a:pt x="309" y="0"/>
                </a:cubicBezTo>
                <a:cubicBezTo>
                  <a:pt x="147" y="0"/>
                  <a:pt x="16" y="88"/>
                  <a:pt x="16" y="197"/>
                </a:cubicBezTo>
                <a:cubicBezTo>
                  <a:pt x="16" y="246"/>
                  <a:pt x="43" y="291"/>
                  <a:pt x="88" y="325"/>
                </a:cubicBezTo>
                <a:cubicBezTo>
                  <a:pt x="66" y="354"/>
                  <a:pt x="35" y="375"/>
                  <a:pt x="0" y="386"/>
                </a:cubicBezTo>
                <a:cubicBezTo>
                  <a:pt x="13" y="390"/>
                  <a:pt x="27" y="393"/>
                  <a:pt x="41" y="393"/>
                </a:cubicBezTo>
                <a:cubicBezTo>
                  <a:pt x="79" y="393"/>
                  <a:pt x="112" y="379"/>
                  <a:pt x="138" y="356"/>
                </a:cubicBezTo>
                <a:cubicBezTo>
                  <a:pt x="184" y="378"/>
                  <a:pt x="228" y="388"/>
                  <a:pt x="289" y="389"/>
                </a:cubicBezTo>
                <a:cubicBezTo>
                  <a:pt x="289" y="386"/>
                  <a:pt x="292" y="381"/>
                  <a:pt x="293" y="378"/>
                </a:cubicBezTo>
                <a:close/>
                <a:moveTo>
                  <a:pt x="740" y="503"/>
                </a:moveTo>
                <a:cubicBezTo>
                  <a:pt x="775" y="477"/>
                  <a:pt x="796" y="442"/>
                  <a:pt x="796" y="404"/>
                </a:cubicBezTo>
                <a:cubicBezTo>
                  <a:pt x="796" y="321"/>
                  <a:pt x="695" y="253"/>
                  <a:pt x="570" y="253"/>
                </a:cubicBezTo>
                <a:cubicBezTo>
                  <a:pt x="445" y="253"/>
                  <a:pt x="344" y="321"/>
                  <a:pt x="344" y="404"/>
                </a:cubicBezTo>
                <a:cubicBezTo>
                  <a:pt x="344" y="488"/>
                  <a:pt x="445" y="555"/>
                  <a:pt x="570" y="555"/>
                </a:cubicBezTo>
                <a:cubicBezTo>
                  <a:pt x="619" y="555"/>
                  <a:pt x="665" y="544"/>
                  <a:pt x="702" y="527"/>
                </a:cubicBezTo>
                <a:cubicBezTo>
                  <a:pt x="721" y="544"/>
                  <a:pt x="747" y="555"/>
                  <a:pt x="776" y="555"/>
                </a:cubicBezTo>
                <a:cubicBezTo>
                  <a:pt x="787" y="555"/>
                  <a:pt x="798" y="554"/>
                  <a:pt x="808" y="550"/>
                </a:cubicBezTo>
                <a:cubicBezTo>
                  <a:pt x="781" y="542"/>
                  <a:pt x="757" y="525"/>
                  <a:pt x="740" y="50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94" name="Freeform 288"/>
          <p:cNvSpPr/>
          <p:nvPr/>
        </p:nvSpPr>
        <p:spPr>
          <a:xfrm>
            <a:off x="5605560" y="3868560"/>
            <a:ext cx="112680" cy="192240"/>
          </a:xfrm>
          <a:custGeom>
            <a:avLst/>
            <a:gdLst/>
            <a:ahLst/>
            <a:rect l="l" t="t" r="r" b="b"/>
            <a:pathLst>
              <a:path w="426" h="718">
                <a:moveTo>
                  <a:pt x="191" y="597"/>
                </a:moveTo>
                <a:cubicBezTo>
                  <a:pt x="210" y="597"/>
                  <a:pt x="226" y="603"/>
                  <a:pt x="239" y="615"/>
                </a:cubicBezTo>
                <a:cubicBezTo>
                  <a:pt x="253" y="626"/>
                  <a:pt x="259" y="640"/>
                  <a:pt x="259" y="656"/>
                </a:cubicBezTo>
                <a:cubicBezTo>
                  <a:pt x="259" y="673"/>
                  <a:pt x="253" y="688"/>
                  <a:pt x="239" y="700"/>
                </a:cubicBezTo>
                <a:cubicBezTo>
                  <a:pt x="226" y="712"/>
                  <a:pt x="210" y="718"/>
                  <a:pt x="191" y="718"/>
                </a:cubicBezTo>
                <a:cubicBezTo>
                  <a:pt x="172" y="718"/>
                  <a:pt x="156" y="712"/>
                  <a:pt x="143" y="700"/>
                </a:cubicBezTo>
                <a:cubicBezTo>
                  <a:pt x="130" y="688"/>
                  <a:pt x="123" y="674"/>
                  <a:pt x="123" y="656"/>
                </a:cubicBezTo>
                <a:cubicBezTo>
                  <a:pt x="123" y="640"/>
                  <a:pt x="130" y="626"/>
                  <a:pt x="143" y="614"/>
                </a:cubicBezTo>
                <a:cubicBezTo>
                  <a:pt x="156" y="603"/>
                  <a:pt x="172" y="597"/>
                  <a:pt x="191" y="597"/>
                </a:cubicBezTo>
                <a:close/>
                <a:moveTo>
                  <a:pt x="205" y="537"/>
                </a:moveTo>
                <a:lnTo>
                  <a:pt x="175" y="537"/>
                </a:lnTo>
                <a:cubicBezTo>
                  <a:pt x="175" y="499"/>
                  <a:pt x="177" y="468"/>
                  <a:pt x="182" y="445"/>
                </a:cubicBezTo>
                <a:cubicBezTo>
                  <a:pt x="187" y="423"/>
                  <a:pt x="193" y="405"/>
                  <a:pt x="200" y="392"/>
                </a:cubicBezTo>
                <a:cubicBezTo>
                  <a:pt x="207" y="379"/>
                  <a:pt x="226" y="355"/>
                  <a:pt x="256" y="320"/>
                </a:cubicBezTo>
                <a:cubicBezTo>
                  <a:pt x="280" y="293"/>
                  <a:pt x="297" y="268"/>
                  <a:pt x="306" y="244"/>
                </a:cubicBezTo>
                <a:cubicBezTo>
                  <a:pt x="316" y="220"/>
                  <a:pt x="321" y="193"/>
                  <a:pt x="321" y="164"/>
                </a:cubicBezTo>
                <a:cubicBezTo>
                  <a:pt x="321" y="126"/>
                  <a:pt x="308" y="94"/>
                  <a:pt x="283" y="70"/>
                </a:cubicBezTo>
                <a:cubicBezTo>
                  <a:pt x="258" y="46"/>
                  <a:pt x="227" y="35"/>
                  <a:pt x="191" y="35"/>
                </a:cubicBezTo>
                <a:cubicBezTo>
                  <a:pt x="160" y="35"/>
                  <a:pt x="134" y="41"/>
                  <a:pt x="113" y="55"/>
                </a:cubicBezTo>
                <a:cubicBezTo>
                  <a:pt x="92" y="68"/>
                  <a:pt x="81" y="82"/>
                  <a:pt x="81" y="97"/>
                </a:cubicBezTo>
                <a:cubicBezTo>
                  <a:pt x="81" y="105"/>
                  <a:pt x="89" y="113"/>
                  <a:pt x="103" y="123"/>
                </a:cubicBezTo>
                <a:cubicBezTo>
                  <a:pt x="126" y="139"/>
                  <a:pt x="137" y="155"/>
                  <a:pt x="137" y="173"/>
                </a:cubicBezTo>
                <a:cubicBezTo>
                  <a:pt x="137" y="189"/>
                  <a:pt x="131" y="202"/>
                  <a:pt x="119" y="213"/>
                </a:cubicBezTo>
                <a:cubicBezTo>
                  <a:pt x="108" y="223"/>
                  <a:pt x="93" y="228"/>
                  <a:pt x="75" y="228"/>
                </a:cubicBezTo>
                <a:cubicBezTo>
                  <a:pt x="54" y="228"/>
                  <a:pt x="36" y="221"/>
                  <a:pt x="22" y="206"/>
                </a:cubicBezTo>
                <a:cubicBezTo>
                  <a:pt x="7" y="191"/>
                  <a:pt x="0" y="172"/>
                  <a:pt x="0" y="148"/>
                </a:cubicBezTo>
                <a:cubicBezTo>
                  <a:pt x="0" y="110"/>
                  <a:pt x="20" y="75"/>
                  <a:pt x="60" y="45"/>
                </a:cubicBezTo>
                <a:cubicBezTo>
                  <a:pt x="100" y="15"/>
                  <a:pt x="150" y="0"/>
                  <a:pt x="211" y="0"/>
                </a:cubicBezTo>
                <a:cubicBezTo>
                  <a:pt x="273" y="0"/>
                  <a:pt x="325" y="17"/>
                  <a:pt x="365" y="50"/>
                </a:cubicBezTo>
                <a:cubicBezTo>
                  <a:pt x="406" y="84"/>
                  <a:pt x="426" y="125"/>
                  <a:pt x="426" y="174"/>
                </a:cubicBezTo>
                <a:cubicBezTo>
                  <a:pt x="426" y="205"/>
                  <a:pt x="419" y="233"/>
                  <a:pt x="405" y="258"/>
                </a:cubicBezTo>
                <a:cubicBezTo>
                  <a:pt x="394" y="277"/>
                  <a:pt x="368" y="304"/>
                  <a:pt x="325" y="338"/>
                </a:cubicBezTo>
                <a:cubicBezTo>
                  <a:pt x="270" y="381"/>
                  <a:pt x="236" y="414"/>
                  <a:pt x="224" y="434"/>
                </a:cubicBezTo>
                <a:cubicBezTo>
                  <a:pt x="212" y="455"/>
                  <a:pt x="206" y="490"/>
                  <a:pt x="205" y="537"/>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95" name="Freeform 289"/>
          <p:cNvSpPr/>
          <p:nvPr/>
        </p:nvSpPr>
        <p:spPr>
          <a:xfrm>
            <a:off x="4557600" y="2579760"/>
            <a:ext cx="104760" cy="210960"/>
          </a:xfrm>
          <a:custGeom>
            <a:avLst/>
            <a:gdLst/>
            <a:ahLst/>
            <a:rect l="l" t="t" r="r" b="b"/>
            <a:pathLst>
              <a:path w="388" h="786">
                <a:moveTo>
                  <a:pt x="99" y="272"/>
                </a:moveTo>
                <a:lnTo>
                  <a:pt x="99" y="272"/>
                </a:lnTo>
                <a:cubicBezTo>
                  <a:pt x="89" y="254"/>
                  <a:pt x="83" y="232"/>
                  <a:pt x="83" y="208"/>
                </a:cubicBezTo>
                <a:lnTo>
                  <a:pt x="83" y="208"/>
                </a:lnTo>
                <a:lnTo>
                  <a:pt x="83" y="141"/>
                </a:lnTo>
                <a:lnTo>
                  <a:pt x="83" y="141"/>
                </a:lnTo>
                <a:lnTo>
                  <a:pt x="83" y="140"/>
                </a:lnTo>
                <a:lnTo>
                  <a:pt x="101" y="140"/>
                </a:lnTo>
                <a:lnTo>
                  <a:pt x="297" y="140"/>
                </a:lnTo>
                <a:lnTo>
                  <a:pt x="315" y="140"/>
                </a:lnTo>
                <a:lnTo>
                  <a:pt x="315" y="207"/>
                </a:lnTo>
                <a:cubicBezTo>
                  <a:pt x="315" y="268"/>
                  <a:pt x="277" y="318"/>
                  <a:pt x="226" y="331"/>
                </a:cubicBezTo>
                <a:lnTo>
                  <a:pt x="226" y="331"/>
                </a:lnTo>
                <a:cubicBezTo>
                  <a:pt x="209" y="334"/>
                  <a:pt x="192" y="335"/>
                  <a:pt x="176" y="332"/>
                </a:cubicBezTo>
                <a:lnTo>
                  <a:pt x="174" y="332"/>
                </a:lnTo>
                <a:cubicBezTo>
                  <a:pt x="142" y="324"/>
                  <a:pt x="115" y="302"/>
                  <a:pt x="99" y="272"/>
                </a:cubicBezTo>
                <a:close/>
                <a:moveTo>
                  <a:pt x="26" y="76"/>
                </a:moveTo>
                <a:lnTo>
                  <a:pt x="362" y="76"/>
                </a:lnTo>
                <a:cubicBezTo>
                  <a:pt x="376" y="76"/>
                  <a:pt x="388" y="59"/>
                  <a:pt x="388" y="38"/>
                </a:cubicBezTo>
                <a:cubicBezTo>
                  <a:pt x="388" y="17"/>
                  <a:pt x="376" y="0"/>
                  <a:pt x="362" y="0"/>
                </a:cubicBezTo>
                <a:lnTo>
                  <a:pt x="26" y="0"/>
                </a:lnTo>
                <a:cubicBezTo>
                  <a:pt x="12" y="0"/>
                  <a:pt x="0" y="17"/>
                  <a:pt x="0" y="38"/>
                </a:cubicBezTo>
                <a:cubicBezTo>
                  <a:pt x="0" y="59"/>
                  <a:pt x="12" y="76"/>
                  <a:pt x="26" y="76"/>
                </a:cubicBezTo>
                <a:close/>
                <a:moveTo>
                  <a:pt x="362" y="710"/>
                </a:moveTo>
                <a:lnTo>
                  <a:pt x="26" y="710"/>
                </a:lnTo>
                <a:cubicBezTo>
                  <a:pt x="12" y="710"/>
                  <a:pt x="0" y="727"/>
                  <a:pt x="0" y="748"/>
                </a:cubicBezTo>
                <a:cubicBezTo>
                  <a:pt x="0" y="769"/>
                  <a:pt x="12" y="786"/>
                  <a:pt x="26" y="786"/>
                </a:cubicBezTo>
                <a:lnTo>
                  <a:pt x="362" y="786"/>
                </a:lnTo>
                <a:cubicBezTo>
                  <a:pt x="376" y="786"/>
                  <a:pt x="388" y="769"/>
                  <a:pt x="388" y="748"/>
                </a:cubicBezTo>
                <a:cubicBezTo>
                  <a:pt x="388" y="727"/>
                  <a:pt x="376" y="710"/>
                  <a:pt x="362" y="710"/>
                </a:cubicBezTo>
                <a:close/>
                <a:moveTo>
                  <a:pt x="83" y="590"/>
                </a:moveTo>
                <a:lnTo>
                  <a:pt x="83" y="579"/>
                </a:lnTo>
                <a:lnTo>
                  <a:pt x="83" y="579"/>
                </a:lnTo>
                <a:cubicBezTo>
                  <a:pt x="83" y="572"/>
                  <a:pt x="83" y="564"/>
                  <a:pt x="84" y="557"/>
                </a:cubicBezTo>
                <a:cubicBezTo>
                  <a:pt x="91" y="505"/>
                  <a:pt x="127" y="462"/>
                  <a:pt x="174" y="451"/>
                </a:cubicBezTo>
                <a:lnTo>
                  <a:pt x="176" y="451"/>
                </a:lnTo>
                <a:cubicBezTo>
                  <a:pt x="192" y="448"/>
                  <a:pt x="209" y="449"/>
                  <a:pt x="226" y="452"/>
                </a:cubicBezTo>
                <a:lnTo>
                  <a:pt x="226" y="452"/>
                </a:lnTo>
                <a:cubicBezTo>
                  <a:pt x="277" y="465"/>
                  <a:pt x="315" y="515"/>
                  <a:pt x="315" y="575"/>
                </a:cubicBezTo>
                <a:lnTo>
                  <a:pt x="315" y="643"/>
                </a:lnTo>
                <a:lnTo>
                  <a:pt x="297" y="643"/>
                </a:lnTo>
                <a:lnTo>
                  <a:pt x="101" y="643"/>
                </a:lnTo>
                <a:lnTo>
                  <a:pt x="83" y="643"/>
                </a:lnTo>
                <a:lnTo>
                  <a:pt x="83" y="590"/>
                </a:lnTo>
                <a:close/>
                <a:moveTo>
                  <a:pt x="236" y="370"/>
                </a:moveTo>
                <a:cubicBezTo>
                  <a:pt x="308" y="351"/>
                  <a:pt x="362" y="280"/>
                  <a:pt x="362" y="195"/>
                </a:cubicBezTo>
                <a:lnTo>
                  <a:pt x="362" y="99"/>
                </a:lnTo>
                <a:lnTo>
                  <a:pt x="337" y="99"/>
                </a:lnTo>
                <a:lnTo>
                  <a:pt x="59" y="99"/>
                </a:lnTo>
                <a:lnTo>
                  <a:pt x="34" y="99"/>
                </a:lnTo>
                <a:lnTo>
                  <a:pt x="34" y="195"/>
                </a:lnTo>
                <a:lnTo>
                  <a:pt x="34" y="195"/>
                </a:lnTo>
                <a:cubicBezTo>
                  <a:pt x="34" y="282"/>
                  <a:pt x="90" y="355"/>
                  <a:pt x="164" y="372"/>
                </a:cubicBezTo>
                <a:cubicBezTo>
                  <a:pt x="172" y="378"/>
                  <a:pt x="179" y="387"/>
                  <a:pt x="182" y="397"/>
                </a:cubicBezTo>
                <a:cubicBezTo>
                  <a:pt x="180" y="403"/>
                  <a:pt x="178" y="409"/>
                  <a:pt x="174" y="414"/>
                </a:cubicBezTo>
                <a:cubicBezTo>
                  <a:pt x="94" y="426"/>
                  <a:pt x="34" y="501"/>
                  <a:pt x="34" y="591"/>
                </a:cubicBezTo>
                <a:lnTo>
                  <a:pt x="34" y="592"/>
                </a:lnTo>
                <a:lnTo>
                  <a:pt x="34" y="687"/>
                </a:lnTo>
                <a:lnTo>
                  <a:pt x="59" y="687"/>
                </a:lnTo>
                <a:lnTo>
                  <a:pt x="337" y="687"/>
                </a:lnTo>
                <a:lnTo>
                  <a:pt x="362" y="687"/>
                </a:lnTo>
                <a:lnTo>
                  <a:pt x="362" y="591"/>
                </a:lnTo>
                <a:cubicBezTo>
                  <a:pt x="362" y="502"/>
                  <a:pt x="303" y="428"/>
                  <a:pt x="225" y="414"/>
                </a:cubicBezTo>
                <a:cubicBezTo>
                  <a:pt x="221" y="409"/>
                  <a:pt x="218" y="403"/>
                  <a:pt x="216" y="397"/>
                </a:cubicBezTo>
                <a:cubicBezTo>
                  <a:pt x="220" y="386"/>
                  <a:pt x="227" y="377"/>
                  <a:pt x="236" y="37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96" name="Freeform 290"/>
          <p:cNvSpPr/>
          <p:nvPr/>
        </p:nvSpPr>
        <p:spPr>
          <a:xfrm>
            <a:off x="7356600" y="3267000"/>
            <a:ext cx="133200" cy="176400"/>
          </a:xfrm>
          <a:custGeom>
            <a:avLst/>
            <a:gdLst/>
            <a:ahLst/>
            <a:rect l="l" t="t" r="r" b="b"/>
            <a:pathLst>
              <a:path w="506" h="655">
                <a:moveTo>
                  <a:pt x="437" y="144"/>
                </a:moveTo>
                <a:lnTo>
                  <a:pt x="472" y="76"/>
                </a:lnTo>
                <a:lnTo>
                  <a:pt x="504" y="6"/>
                </a:lnTo>
                <a:lnTo>
                  <a:pt x="424" y="3"/>
                </a:lnTo>
                <a:lnTo>
                  <a:pt x="343" y="0"/>
                </a:lnTo>
                <a:lnTo>
                  <a:pt x="375" y="40"/>
                </a:lnTo>
                <a:lnTo>
                  <a:pt x="6" y="259"/>
                </a:lnTo>
                <a:lnTo>
                  <a:pt x="2" y="349"/>
                </a:lnTo>
                <a:lnTo>
                  <a:pt x="403" y="99"/>
                </a:lnTo>
                <a:lnTo>
                  <a:pt x="437" y="144"/>
                </a:lnTo>
                <a:close/>
                <a:moveTo>
                  <a:pt x="356" y="181"/>
                </a:moveTo>
                <a:lnTo>
                  <a:pt x="506" y="181"/>
                </a:lnTo>
                <a:lnTo>
                  <a:pt x="506" y="655"/>
                </a:lnTo>
                <a:lnTo>
                  <a:pt x="356" y="655"/>
                </a:lnTo>
                <a:lnTo>
                  <a:pt x="356" y="181"/>
                </a:lnTo>
                <a:close/>
                <a:moveTo>
                  <a:pt x="178" y="280"/>
                </a:moveTo>
                <a:lnTo>
                  <a:pt x="328" y="280"/>
                </a:lnTo>
                <a:lnTo>
                  <a:pt x="328" y="655"/>
                </a:lnTo>
                <a:lnTo>
                  <a:pt x="178" y="655"/>
                </a:lnTo>
                <a:lnTo>
                  <a:pt x="178" y="280"/>
                </a:lnTo>
                <a:close/>
                <a:moveTo>
                  <a:pt x="0" y="381"/>
                </a:moveTo>
                <a:lnTo>
                  <a:pt x="150" y="381"/>
                </a:lnTo>
                <a:lnTo>
                  <a:pt x="150" y="655"/>
                </a:lnTo>
                <a:lnTo>
                  <a:pt x="0" y="655"/>
                </a:lnTo>
                <a:lnTo>
                  <a:pt x="0" y="381"/>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97" name="Freeform 291"/>
          <p:cNvSpPr/>
          <p:nvPr/>
        </p:nvSpPr>
        <p:spPr>
          <a:xfrm>
            <a:off x="7726320" y="3265560"/>
            <a:ext cx="138240" cy="181080"/>
          </a:xfrm>
          <a:custGeom>
            <a:avLst/>
            <a:gdLst/>
            <a:ahLst/>
            <a:rect l="l" t="t" r="r" b="b"/>
            <a:pathLst>
              <a:path w="518" h="675">
                <a:moveTo>
                  <a:pt x="11" y="401"/>
                </a:moveTo>
                <a:lnTo>
                  <a:pt x="162" y="401"/>
                </a:lnTo>
                <a:lnTo>
                  <a:pt x="162" y="675"/>
                </a:lnTo>
                <a:lnTo>
                  <a:pt x="11" y="675"/>
                </a:lnTo>
                <a:lnTo>
                  <a:pt x="11" y="401"/>
                </a:lnTo>
                <a:close/>
                <a:moveTo>
                  <a:pt x="67" y="205"/>
                </a:moveTo>
                <a:lnTo>
                  <a:pt x="32" y="273"/>
                </a:lnTo>
                <a:lnTo>
                  <a:pt x="0" y="343"/>
                </a:lnTo>
                <a:lnTo>
                  <a:pt x="81" y="346"/>
                </a:lnTo>
                <a:lnTo>
                  <a:pt x="161" y="349"/>
                </a:lnTo>
                <a:lnTo>
                  <a:pt x="130" y="308"/>
                </a:lnTo>
                <a:lnTo>
                  <a:pt x="498" y="90"/>
                </a:lnTo>
                <a:lnTo>
                  <a:pt x="502" y="0"/>
                </a:lnTo>
                <a:lnTo>
                  <a:pt x="101" y="249"/>
                </a:lnTo>
                <a:lnTo>
                  <a:pt x="67" y="205"/>
                </a:lnTo>
                <a:close/>
                <a:moveTo>
                  <a:pt x="367" y="200"/>
                </a:moveTo>
                <a:lnTo>
                  <a:pt x="518" y="200"/>
                </a:lnTo>
                <a:lnTo>
                  <a:pt x="518" y="675"/>
                </a:lnTo>
                <a:lnTo>
                  <a:pt x="367" y="675"/>
                </a:lnTo>
                <a:lnTo>
                  <a:pt x="367" y="200"/>
                </a:lnTo>
                <a:close/>
                <a:moveTo>
                  <a:pt x="189" y="300"/>
                </a:moveTo>
                <a:lnTo>
                  <a:pt x="340" y="300"/>
                </a:lnTo>
                <a:lnTo>
                  <a:pt x="340" y="675"/>
                </a:lnTo>
                <a:lnTo>
                  <a:pt x="189" y="675"/>
                </a:lnTo>
                <a:lnTo>
                  <a:pt x="189" y="30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98" name="Freeform 292"/>
          <p:cNvSpPr/>
          <p:nvPr/>
        </p:nvSpPr>
        <p:spPr>
          <a:xfrm>
            <a:off x="8032680" y="3584520"/>
            <a:ext cx="184320" cy="165240"/>
          </a:xfrm>
          <a:custGeom>
            <a:avLst/>
            <a:gdLst/>
            <a:ahLst/>
            <a:rect l="l" t="t" r="r" b="b"/>
            <a:pathLst>
              <a:path w="687" h="617">
                <a:moveTo>
                  <a:pt x="401" y="465"/>
                </a:moveTo>
                <a:lnTo>
                  <a:pt x="293" y="465"/>
                </a:lnTo>
                <a:lnTo>
                  <a:pt x="289" y="471"/>
                </a:lnTo>
                <a:cubicBezTo>
                  <a:pt x="261" y="508"/>
                  <a:pt x="209" y="566"/>
                  <a:pt x="147" y="584"/>
                </a:cubicBezTo>
                <a:cubicBezTo>
                  <a:pt x="166" y="556"/>
                  <a:pt x="190" y="513"/>
                  <a:pt x="186" y="478"/>
                </a:cubicBezTo>
                <a:lnTo>
                  <a:pt x="184" y="465"/>
                </a:lnTo>
                <a:lnTo>
                  <a:pt x="103" y="465"/>
                </a:lnTo>
                <a:cubicBezTo>
                  <a:pt x="61" y="465"/>
                  <a:pt x="27" y="431"/>
                  <a:pt x="27" y="390"/>
                </a:cubicBezTo>
                <a:lnTo>
                  <a:pt x="27" y="182"/>
                </a:lnTo>
                <a:cubicBezTo>
                  <a:pt x="27" y="140"/>
                  <a:pt x="61" y="106"/>
                  <a:pt x="103" y="106"/>
                </a:cubicBezTo>
                <a:lnTo>
                  <a:pt x="175" y="106"/>
                </a:lnTo>
                <a:lnTo>
                  <a:pt x="175" y="319"/>
                </a:lnTo>
                <a:cubicBezTo>
                  <a:pt x="175" y="372"/>
                  <a:pt x="218" y="416"/>
                  <a:pt x="271" y="416"/>
                </a:cubicBezTo>
                <a:lnTo>
                  <a:pt x="380" y="416"/>
                </a:lnTo>
                <a:cubicBezTo>
                  <a:pt x="390" y="429"/>
                  <a:pt x="404" y="446"/>
                  <a:pt x="420" y="463"/>
                </a:cubicBezTo>
                <a:cubicBezTo>
                  <a:pt x="414" y="464"/>
                  <a:pt x="407" y="465"/>
                  <a:pt x="401" y="465"/>
                </a:cubicBezTo>
                <a:close/>
                <a:moveTo>
                  <a:pt x="591" y="0"/>
                </a:moveTo>
                <a:lnTo>
                  <a:pt x="271" y="0"/>
                </a:lnTo>
                <a:cubicBezTo>
                  <a:pt x="224" y="0"/>
                  <a:pt x="185" y="34"/>
                  <a:pt x="177" y="79"/>
                </a:cubicBezTo>
                <a:lnTo>
                  <a:pt x="103" y="79"/>
                </a:lnTo>
                <a:cubicBezTo>
                  <a:pt x="46" y="79"/>
                  <a:pt x="0" y="125"/>
                  <a:pt x="0" y="182"/>
                </a:cubicBezTo>
                <a:lnTo>
                  <a:pt x="0" y="389"/>
                </a:lnTo>
                <a:cubicBezTo>
                  <a:pt x="0" y="447"/>
                  <a:pt x="46" y="493"/>
                  <a:pt x="103" y="493"/>
                </a:cubicBezTo>
                <a:lnTo>
                  <a:pt x="159" y="493"/>
                </a:lnTo>
                <a:cubicBezTo>
                  <a:pt x="154" y="529"/>
                  <a:pt x="120" y="577"/>
                  <a:pt x="106" y="594"/>
                </a:cubicBezTo>
                <a:lnTo>
                  <a:pt x="85" y="617"/>
                </a:lnTo>
                <a:lnTo>
                  <a:pt x="116" y="616"/>
                </a:lnTo>
                <a:cubicBezTo>
                  <a:pt x="199" y="613"/>
                  <a:pt x="270" y="540"/>
                  <a:pt x="306" y="493"/>
                </a:cubicBezTo>
                <a:lnTo>
                  <a:pt x="401" y="493"/>
                </a:lnTo>
                <a:cubicBezTo>
                  <a:pt x="415" y="493"/>
                  <a:pt x="430" y="490"/>
                  <a:pt x="442" y="484"/>
                </a:cubicBezTo>
                <a:cubicBezTo>
                  <a:pt x="480" y="517"/>
                  <a:pt x="526" y="546"/>
                  <a:pt x="577" y="548"/>
                </a:cubicBezTo>
                <a:cubicBezTo>
                  <a:pt x="577" y="548"/>
                  <a:pt x="510" y="471"/>
                  <a:pt x="517" y="416"/>
                </a:cubicBezTo>
                <a:lnTo>
                  <a:pt x="591" y="416"/>
                </a:lnTo>
                <a:cubicBezTo>
                  <a:pt x="644" y="416"/>
                  <a:pt x="687" y="372"/>
                  <a:pt x="687" y="319"/>
                </a:cubicBezTo>
                <a:lnTo>
                  <a:pt x="687" y="96"/>
                </a:lnTo>
                <a:cubicBezTo>
                  <a:pt x="687" y="43"/>
                  <a:pt x="644" y="0"/>
                  <a:pt x="591"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899" name="Freeform 293"/>
          <p:cNvSpPr/>
          <p:nvPr/>
        </p:nvSpPr>
        <p:spPr>
          <a:xfrm>
            <a:off x="5568840" y="2003400"/>
            <a:ext cx="185760" cy="139680"/>
          </a:xfrm>
          <a:custGeom>
            <a:avLst/>
            <a:gdLst/>
            <a:ahLst/>
            <a:rect l="l" t="t" r="r" b="b"/>
            <a:pathLst>
              <a:path w="694" h="521">
                <a:moveTo>
                  <a:pt x="631" y="255"/>
                </a:moveTo>
                <a:cubicBezTo>
                  <a:pt x="474" y="98"/>
                  <a:pt x="220" y="98"/>
                  <a:pt x="63" y="255"/>
                </a:cubicBezTo>
                <a:lnTo>
                  <a:pt x="0" y="191"/>
                </a:lnTo>
                <a:cubicBezTo>
                  <a:pt x="191" y="0"/>
                  <a:pt x="502" y="0"/>
                  <a:pt x="694" y="192"/>
                </a:cubicBezTo>
                <a:lnTo>
                  <a:pt x="631" y="255"/>
                </a:lnTo>
                <a:close/>
                <a:moveTo>
                  <a:pt x="348" y="435"/>
                </a:moveTo>
                <a:cubicBezTo>
                  <a:pt x="371" y="435"/>
                  <a:pt x="390" y="455"/>
                  <a:pt x="390" y="478"/>
                </a:cubicBezTo>
                <a:cubicBezTo>
                  <a:pt x="390" y="502"/>
                  <a:pt x="371" y="521"/>
                  <a:pt x="347" y="521"/>
                </a:cubicBezTo>
                <a:cubicBezTo>
                  <a:pt x="324" y="521"/>
                  <a:pt x="305" y="502"/>
                  <a:pt x="305" y="478"/>
                </a:cubicBezTo>
                <a:cubicBezTo>
                  <a:pt x="305" y="455"/>
                  <a:pt x="324" y="435"/>
                  <a:pt x="348" y="435"/>
                </a:cubicBezTo>
                <a:close/>
                <a:moveTo>
                  <a:pt x="505" y="381"/>
                </a:moveTo>
                <a:lnTo>
                  <a:pt x="442" y="444"/>
                </a:lnTo>
                <a:cubicBezTo>
                  <a:pt x="389" y="392"/>
                  <a:pt x="304" y="392"/>
                  <a:pt x="252" y="444"/>
                </a:cubicBezTo>
                <a:lnTo>
                  <a:pt x="189" y="381"/>
                </a:lnTo>
                <a:cubicBezTo>
                  <a:pt x="276" y="294"/>
                  <a:pt x="418" y="294"/>
                  <a:pt x="505" y="381"/>
                </a:cubicBezTo>
                <a:close/>
                <a:moveTo>
                  <a:pt x="599" y="286"/>
                </a:moveTo>
                <a:lnTo>
                  <a:pt x="536" y="349"/>
                </a:lnTo>
                <a:cubicBezTo>
                  <a:pt x="432" y="245"/>
                  <a:pt x="262" y="245"/>
                  <a:pt x="157" y="349"/>
                </a:cubicBezTo>
                <a:lnTo>
                  <a:pt x="94" y="286"/>
                </a:lnTo>
                <a:cubicBezTo>
                  <a:pt x="234" y="147"/>
                  <a:pt x="460" y="147"/>
                  <a:pt x="599" y="286"/>
                </a:cubicBezTo>
                <a:close/>
              </a:path>
            </a:pathLst>
          </a:custGeom>
          <a:solidFill>
            <a:srgbClr val="a6a6a6"/>
          </a:solidFill>
          <a:ln w="0">
            <a:noFill/>
          </a:ln>
        </p:spPr>
        <p:style>
          <a:lnRef idx="0"/>
          <a:fillRef idx="0"/>
          <a:effectRef idx="0"/>
          <a:fontRef idx="minor"/>
        </p:style>
        <p:txBody>
          <a:bodyPr lIns="145800" rIns="145800" tIns="66960" bIns="66960" anchor="t">
            <a:noAutofit/>
          </a:bodyPr>
          <a:p>
            <a:endParaRPr b="0" lang="en-US" sz="1800" spc="-1" strike="noStrike">
              <a:solidFill>
                <a:srgbClr val="000000"/>
              </a:solidFill>
              <a:latin typeface="Calibri"/>
            </a:endParaRPr>
          </a:p>
        </p:txBody>
      </p:sp>
      <p:sp>
        <p:nvSpPr>
          <p:cNvPr id="1900" name="Freeform 294"/>
          <p:cNvSpPr/>
          <p:nvPr/>
        </p:nvSpPr>
        <p:spPr>
          <a:xfrm>
            <a:off x="6994440" y="4510080"/>
            <a:ext cx="181080" cy="155520"/>
          </a:xfrm>
          <a:custGeom>
            <a:avLst/>
            <a:gdLst/>
            <a:ahLst/>
            <a:rect l="l" t="t" r="r" b="b"/>
            <a:pathLst>
              <a:path w="672" h="582">
                <a:moveTo>
                  <a:pt x="420" y="0"/>
                </a:moveTo>
                <a:cubicBezTo>
                  <a:pt x="409" y="0"/>
                  <a:pt x="400" y="4"/>
                  <a:pt x="393" y="12"/>
                </a:cubicBezTo>
                <a:lnTo>
                  <a:pt x="194" y="139"/>
                </a:lnTo>
                <a:lnTo>
                  <a:pt x="39" y="139"/>
                </a:lnTo>
                <a:cubicBezTo>
                  <a:pt x="28" y="139"/>
                  <a:pt x="19" y="142"/>
                  <a:pt x="12" y="150"/>
                </a:cubicBezTo>
                <a:cubicBezTo>
                  <a:pt x="4" y="157"/>
                  <a:pt x="0" y="166"/>
                  <a:pt x="0" y="177"/>
                </a:cubicBezTo>
                <a:lnTo>
                  <a:pt x="0" y="405"/>
                </a:lnTo>
                <a:cubicBezTo>
                  <a:pt x="0" y="416"/>
                  <a:pt x="4" y="425"/>
                  <a:pt x="12" y="432"/>
                </a:cubicBezTo>
                <a:cubicBezTo>
                  <a:pt x="19" y="440"/>
                  <a:pt x="28" y="443"/>
                  <a:pt x="39" y="443"/>
                </a:cubicBezTo>
                <a:lnTo>
                  <a:pt x="194" y="443"/>
                </a:lnTo>
                <a:lnTo>
                  <a:pt x="393" y="570"/>
                </a:lnTo>
                <a:cubicBezTo>
                  <a:pt x="400" y="578"/>
                  <a:pt x="409" y="582"/>
                  <a:pt x="420" y="582"/>
                </a:cubicBezTo>
                <a:cubicBezTo>
                  <a:pt x="430" y="582"/>
                  <a:pt x="439" y="578"/>
                  <a:pt x="446" y="570"/>
                </a:cubicBezTo>
                <a:cubicBezTo>
                  <a:pt x="454" y="563"/>
                  <a:pt x="458" y="554"/>
                  <a:pt x="458" y="544"/>
                </a:cubicBezTo>
                <a:lnTo>
                  <a:pt x="458" y="38"/>
                </a:lnTo>
                <a:cubicBezTo>
                  <a:pt x="458" y="28"/>
                  <a:pt x="454" y="19"/>
                  <a:pt x="446" y="12"/>
                </a:cubicBezTo>
                <a:cubicBezTo>
                  <a:pt x="439" y="4"/>
                  <a:pt x="430" y="0"/>
                  <a:pt x="420" y="0"/>
                </a:cubicBezTo>
                <a:close/>
                <a:moveTo>
                  <a:pt x="503" y="279"/>
                </a:moveTo>
                <a:lnTo>
                  <a:pt x="672" y="279"/>
                </a:lnTo>
                <a:lnTo>
                  <a:pt x="672" y="302"/>
                </a:lnTo>
                <a:lnTo>
                  <a:pt x="503" y="302"/>
                </a:lnTo>
                <a:lnTo>
                  <a:pt x="503" y="279"/>
                </a:lnTo>
                <a:close/>
                <a:moveTo>
                  <a:pt x="505" y="342"/>
                </a:moveTo>
                <a:lnTo>
                  <a:pt x="634" y="450"/>
                </a:lnTo>
                <a:lnTo>
                  <a:pt x="649" y="432"/>
                </a:lnTo>
                <a:lnTo>
                  <a:pt x="520" y="324"/>
                </a:lnTo>
                <a:lnTo>
                  <a:pt x="505" y="342"/>
                </a:lnTo>
                <a:close/>
                <a:moveTo>
                  <a:pt x="505" y="240"/>
                </a:moveTo>
                <a:lnTo>
                  <a:pt x="634" y="132"/>
                </a:lnTo>
                <a:lnTo>
                  <a:pt x="649" y="150"/>
                </a:lnTo>
                <a:lnTo>
                  <a:pt x="520" y="258"/>
                </a:lnTo>
                <a:lnTo>
                  <a:pt x="505" y="240"/>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01" name="Freeform 295"/>
          <p:cNvSpPr/>
          <p:nvPr/>
        </p:nvSpPr>
        <p:spPr>
          <a:xfrm>
            <a:off x="4889520" y="2579760"/>
            <a:ext cx="117360" cy="210960"/>
          </a:xfrm>
          <a:custGeom>
            <a:avLst/>
            <a:gdLst/>
            <a:ahLst/>
            <a:rect l="l" t="t" r="r" b="b"/>
            <a:pathLst>
              <a:path w="440" h="788">
                <a:moveTo>
                  <a:pt x="271" y="363"/>
                </a:moveTo>
                <a:cubicBezTo>
                  <a:pt x="368" y="338"/>
                  <a:pt x="440" y="243"/>
                  <a:pt x="440" y="129"/>
                </a:cubicBezTo>
                <a:lnTo>
                  <a:pt x="440" y="0"/>
                </a:lnTo>
                <a:lnTo>
                  <a:pt x="406" y="0"/>
                </a:lnTo>
                <a:lnTo>
                  <a:pt x="34" y="0"/>
                </a:lnTo>
                <a:lnTo>
                  <a:pt x="0" y="0"/>
                </a:lnTo>
                <a:lnTo>
                  <a:pt x="0" y="129"/>
                </a:lnTo>
                <a:lnTo>
                  <a:pt x="0" y="129"/>
                </a:lnTo>
                <a:cubicBezTo>
                  <a:pt x="0" y="245"/>
                  <a:pt x="75" y="342"/>
                  <a:pt x="175" y="365"/>
                </a:cubicBezTo>
                <a:cubicBezTo>
                  <a:pt x="186" y="374"/>
                  <a:pt x="194" y="386"/>
                  <a:pt x="199" y="399"/>
                </a:cubicBezTo>
                <a:cubicBezTo>
                  <a:pt x="196" y="407"/>
                  <a:pt x="193" y="415"/>
                  <a:pt x="188" y="421"/>
                </a:cubicBezTo>
                <a:cubicBezTo>
                  <a:pt x="82" y="438"/>
                  <a:pt x="0" y="538"/>
                  <a:pt x="0" y="659"/>
                </a:cubicBezTo>
                <a:lnTo>
                  <a:pt x="0" y="659"/>
                </a:lnTo>
                <a:lnTo>
                  <a:pt x="0" y="788"/>
                </a:lnTo>
                <a:lnTo>
                  <a:pt x="34" y="788"/>
                </a:lnTo>
                <a:lnTo>
                  <a:pt x="406" y="788"/>
                </a:lnTo>
                <a:lnTo>
                  <a:pt x="440" y="788"/>
                </a:lnTo>
                <a:lnTo>
                  <a:pt x="440" y="659"/>
                </a:lnTo>
                <a:cubicBezTo>
                  <a:pt x="440" y="540"/>
                  <a:pt x="361" y="441"/>
                  <a:pt x="256" y="422"/>
                </a:cubicBezTo>
                <a:cubicBezTo>
                  <a:pt x="251" y="415"/>
                  <a:pt x="247" y="407"/>
                  <a:pt x="245" y="399"/>
                </a:cubicBezTo>
                <a:cubicBezTo>
                  <a:pt x="250" y="385"/>
                  <a:pt x="259" y="372"/>
                  <a:pt x="271" y="36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02" name="Freeform 296"/>
          <p:cNvSpPr/>
          <p:nvPr/>
        </p:nvSpPr>
        <p:spPr>
          <a:xfrm>
            <a:off x="5232240" y="4213080"/>
            <a:ext cx="166680" cy="166680"/>
          </a:xfrm>
          <a:custGeom>
            <a:avLst/>
            <a:gdLst/>
            <a:ahLst/>
            <a:rect l="l" t="t" r="r" b="b"/>
            <a:pathLst>
              <a:path w="621" h="621">
                <a:moveTo>
                  <a:pt x="311" y="0"/>
                </a:moveTo>
                <a:cubicBezTo>
                  <a:pt x="139" y="0"/>
                  <a:pt x="0" y="139"/>
                  <a:pt x="0" y="311"/>
                </a:cubicBezTo>
                <a:cubicBezTo>
                  <a:pt x="1" y="482"/>
                  <a:pt x="139" y="621"/>
                  <a:pt x="311" y="621"/>
                </a:cubicBezTo>
                <a:cubicBezTo>
                  <a:pt x="482" y="621"/>
                  <a:pt x="621" y="482"/>
                  <a:pt x="621" y="311"/>
                </a:cubicBezTo>
                <a:cubicBezTo>
                  <a:pt x="621" y="139"/>
                  <a:pt x="482" y="0"/>
                  <a:pt x="311" y="0"/>
                </a:cubicBezTo>
                <a:close/>
                <a:moveTo>
                  <a:pt x="339" y="189"/>
                </a:moveTo>
                <a:cubicBezTo>
                  <a:pt x="330" y="199"/>
                  <a:pt x="319" y="203"/>
                  <a:pt x="307" y="203"/>
                </a:cubicBezTo>
                <a:cubicBezTo>
                  <a:pt x="294" y="203"/>
                  <a:pt x="284" y="199"/>
                  <a:pt x="275" y="189"/>
                </a:cubicBezTo>
                <a:cubicBezTo>
                  <a:pt x="266" y="180"/>
                  <a:pt x="262" y="169"/>
                  <a:pt x="262" y="156"/>
                </a:cubicBezTo>
                <a:cubicBezTo>
                  <a:pt x="262" y="142"/>
                  <a:pt x="266" y="131"/>
                  <a:pt x="275" y="122"/>
                </a:cubicBezTo>
                <a:cubicBezTo>
                  <a:pt x="284" y="112"/>
                  <a:pt x="294" y="108"/>
                  <a:pt x="307" y="108"/>
                </a:cubicBezTo>
                <a:cubicBezTo>
                  <a:pt x="319" y="108"/>
                  <a:pt x="330" y="112"/>
                  <a:pt x="339" y="122"/>
                </a:cubicBezTo>
                <a:cubicBezTo>
                  <a:pt x="348" y="131"/>
                  <a:pt x="352" y="142"/>
                  <a:pt x="352" y="156"/>
                </a:cubicBezTo>
                <a:cubicBezTo>
                  <a:pt x="352" y="169"/>
                  <a:pt x="348" y="180"/>
                  <a:pt x="339" y="189"/>
                </a:cubicBezTo>
                <a:close/>
                <a:moveTo>
                  <a:pt x="352" y="468"/>
                </a:moveTo>
                <a:cubicBezTo>
                  <a:pt x="352" y="488"/>
                  <a:pt x="332" y="505"/>
                  <a:pt x="307" y="505"/>
                </a:cubicBezTo>
                <a:cubicBezTo>
                  <a:pt x="282" y="505"/>
                  <a:pt x="262" y="488"/>
                  <a:pt x="262" y="468"/>
                </a:cubicBezTo>
                <a:lnTo>
                  <a:pt x="262" y="279"/>
                </a:lnTo>
                <a:cubicBezTo>
                  <a:pt x="262" y="259"/>
                  <a:pt x="282" y="243"/>
                  <a:pt x="307" y="243"/>
                </a:cubicBezTo>
                <a:cubicBezTo>
                  <a:pt x="332" y="243"/>
                  <a:pt x="352" y="259"/>
                  <a:pt x="352" y="279"/>
                </a:cubicBezTo>
                <a:lnTo>
                  <a:pt x="352" y="468"/>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03" name="Freeform 297"/>
          <p:cNvSpPr/>
          <p:nvPr/>
        </p:nvSpPr>
        <p:spPr>
          <a:xfrm>
            <a:off x="4527720" y="4213080"/>
            <a:ext cx="166680" cy="166680"/>
          </a:xfrm>
          <a:custGeom>
            <a:avLst/>
            <a:gdLst/>
            <a:ahLst/>
            <a:rect l="l" t="t" r="r" b="b"/>
            <a:pathLst>
              <a:path w="621" h="621">
                <a:moveTo>
                  <a:pt x="310" y="0"/>
                </a:moveTo>
                <a:cubicBezTo>
                  <a:pt x="139" y="0"/>
                  <a:pt x="0" y="139"/>
                  <a:pt x="0" y="311"/>
                </a:cubicBezTo>
                <a:cubicBezTo>
                  <a:pt x="0" y="482"/>
                  <a:pt x="139" y="621"/>
                  <a:pt x="310" y="621"/>
                </a:cubicBezTo>
                <a:cubicBezTo>
                  <a:pt x="482" y="621"/>
                  <a:pt x="620" y="482"/>
                  <a:pt x="620" y="311"/>
                </a:cubicBezTo>
                <a:cubicBezTo>
                  <a:pt x="621" y="139"/>
                  <a:pt x="482" y="0"/>
                  <a:pt x="310" y="0"/>
                </a:cubicBezTo>
                <a:close/>
                <a:moveTo>
                  <a:pt x="226" y="225"/>
                </a:moveTo>
                <a:lnTo>
                  <a:pt x="394" y="225"/>
                </a:lnTo>
                <a:lnTo>
                  <a:pt x="394" y="396"/>
                </a:lnTo>
                <a:lnTo>
                  <a:pt x="226" y="396"/>
                </a:lnTo>
                <a:lnTo>
                  <a:pt x="226" y="225"/>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04" name="Freeform 298"/>
          <p:cNvSpPr/>
          <p:nvPr/>
        </p:nvSpPr>
        <p:spPr>
          <a:xfrm>
            <a:off x="3886200" y="4213080"/>
            <a:ext cx="166680" cy="166680"/>
          </a:xfrm>
          <a:custGeom>
            <a:avLst/>
            <a:gdLst/>
            <a:ahLst/>
            <a:rect l="l" t="t" r="r" b="b"/>
            <a:pathLst>
              <a:path w="626" h="625">
                <a:moveTo>
                  <a:pt x="313" y="0"/>
                </a:moveTo>
                <a:cubicBezTo>
                  <a:pt x="140" y="0"/>
                  <a:pt x="0" y="140"/>
                  <a:pt x="0" y="313"/>
                </a:cubicBezTo>
                <a:cubicBezTo>
                  <a:pt x="0" y="485"/>
                  <a:pt x="140" y="625"/>
                  <a:pt x="313" y="625"/>
                </a:cubicBezTo>
                <a:cubicBezTo>
                  <a:pt x="486" y="625"/>
                  <a:pt x="626" y="485"/>
                  <a:pt x="626" y="313"/>
                </a:cubicBezTo>
                <a:cubicBezTo>
                  <a:pt x="626" y="140"/>
                  <a:pt x="486" y="0"/>
                  <a:pt x="313" y="0"/>
                </a:cubicBezTo>
                <a:close/>
                <a:moveTo>
                  <a:pt x="285" y="425"/>
                </a:moveTo>
                <a:cubicBezTo>
                  <a:pt x="255" y="445"/>
                  <a:pt x="230" y="428"/>
                  <a:pt x="230" y="387"/>
                </a:cubicBezTo>
                <a:cubicBezTo>
                  <a:pt x="230" y="346"/>
                  <a:pt x="230" y="279"/>
                  <a:pt x="230" y="238"/>
                </a:cubicBezTo>
                <a:cubicBezTo>
                  <a:pt x="230" y="197"/>
                  <a:pt x="255" y="180"/>
                  <a:pt x="285" y="201"/>
                </a:cubicBezTo>
                <a:cubicBezTo>
                  <a:pt x="315" y="221"/>
                  <a:pt x="365" y="255"/>
                  <a:pt x="395" y="275"/>
                </a:cubicBezTo>
                <a:cubicBezTo>
                  <a:pt x="426" y="296"/>
                  <a:pt x="426" y="330"/>
                  <a:pt x="395" y="350"/>
                </a:cubicBezTo>
                <a:cubicBezTo>
                  <a:pt x="365" y="371"/>
                  <a:pt x="315" y="404"/>
                  <a:pt x="285" y="42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05" name="Freeform 299"/>
          <p:cNvSpPr/>
          <p:nvPr/>
        </p:nvSpPr>
        <p:spPr>
          <a:xfrm>
            <a:off x="4865760" y="4213080"/>
            <a:ext cx="164880" cy="166680"/>
          </a:xfrm>
          <a:custGeom>
            <a:avLst/>
            <a:gdLst/>
            <a:ahLst/>
            <a:rect l="l" t="t" r="r" b="b"/>
            <a:pathLst>
              <a:path w="620" h="621">
                <a:moveTo>
                  <a:pt x="310" y="0"/>
                </a:moveTo>
                <a:cubicBezTo>
                  <a:pt x="139" y="0"/>
                  <a:pt x="0" y="139"/>
                  <a:pt x="0" y="311"/>
                </a:cubicBezTo>
                <a:cubicBezTo>
                  <a:pt x="0" y="482"/>
                  <a:pt x="139" y="621"/>
                  <a:pt x="310" y="621"/>
                </a:cubicBezTo>
                <a:cubicBezTo>
                  <a:pt x="481" y="621"/>
                  <a:pt x="620" y="482"/>
                  <a:pt x="620" y="311"/>
                </a:cubicBezTo>
                <a:cubicBezTo>
                  <a:pt x="620" y="139"/>
                  <a:pt x="481" y="0"/>
                  <a:pt x="310" y="0"/>
                </a:cubicBezTo>
                <a:close/>
                <a:moveTo>
                  <a:pt x="195" y="429"/>
                </a:moveTo>
                <a:cubicBezTo>
                  <a:pt x="176" y="451"/>
                  <a:pt x="160" y="433"/>
                  <a:pt x="160" y="390"/>
                </a:cubicBezTo>
                <a:cubicBezTo>
                  <a:pt x="160" y="346"/>
                  <a:pt x="160" y="275"/>
                  <a:pt x="160" y="232"/>
                </a:cubicBezTo>
                <a:cubicBezTo>
                  <a:pt x="160" y="188"/>
                  <a:pt x="176" y="170"/>
                  <a:pt x="196" y="192"/>
                </a:cubicBezTo>
                <a:cubicBezTo>
                  <a:pt x="215" y="214"/>
                  <a:pt x="247" y="249"/>
                  <a:pt x="266" y="271"/>
                </a:cubicBezTo>
                <a:cubicBezTo>
                  <a:pt x="285" y="293"/>
                  <a:pt x="285" y="329"/>
                  <a:pt x="266" y="350"/>
                </a:cubicBezTo>
                <a:cubicBezTo>
                  <a:pt x="246" y="372"/>
                  <a:pt x="215" y="407"/>
                  <a:pt x="195" y="429"/>
                </a:cubicBezTo>
                <a:close/>
                <a:moveTo>
                  <a:pt x="375" y="429"/>
                </a:moveTo>
                <a:cubicBezTo>
                  <a:pt x="355" y="451"/>
                  <a:pt x="339" y="433"/>
                  <a:pt x="339" y="390"/>
                </a:cubicBezTo>
                <a:cubicBezTo>
                  <a:pt x="339" y="346"/>
                  <a:pt x="340" y="275"/>
                  <a:pt x="340" y="232"/>
                </a:cubicBezTo>
                <a:cubicBezTo>
                  <a:pt x="340" y="188"/>
                  <a:pt x="356" y="170"/>
                  <a:pt x="375" y="192"/>
                </a:cubicBezTo>
                <a:cubicBezTo>
                  <a:pt x="394" y="214"/>
                  <a:pt x="426" y="249"/>
                  <a:pt x="445" y="271"/>
                </a:cubicBezTo>
                <a:cubicBezTo>
                  <a:pt x="465" y="293"/>
                  <a:pt x="465" y="329"/>
                  <a:pt x="445" y="350"/>
                </a:cubicBezTo>
                <a:cubicBezTo>
                  <a:pt x="426" y="372"/>
                  <a:pt x="394" y="407"/>
                  <a:pt x="375" y="42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06" name="Freeform 300"/>
          <p:cNvSpPr/>
          <p:nvPr/>
        </p:nvSpPr>
        <p:spPr>
          <a:xfrm>
            <a:off x="4213080" y="4213080"/>
            <a:ext cx="166680" cy="166680"/>
          </a:xfrm>
          <a:custGeom>
            <a:avLst/>
            <a:gdLst/>
            <a:ahLst/>
            <a:rect l="l" t="t" r="r" b="b"/>
            <a:pathLst>
              <a:path w="625" h="625">
                <a:moveTo>
                  <a:pt x="312" y="0"/>
                </a:moveTo>
                <a:cubicBezTo>
                  <a:pt x="140" y="0"/>
                  <a:pt x="0" y="140"/>
                  <a:pt x="0" y="313"/>
                </a:cubicBezTo>
                <a:cubicBezTo>
                  <a:pt x="0" y="485"/>
                  <a:pt x="140" y="625"/>
                  <a:pt x="312" y="625"/>
                </a:cubicBezTo>
                <a:cubicBezTo>
                  <a:pt x="485" y="625"/>
                  <a:pt x="625" y="485"/>
                  <a:pt x="625" y="313"/>
                </a:cubicBezTo>
                <a:cubicBezTo>
                  <a:pt x="625" y="140"/>
                  <a:pt x="485" y="0"/>
                  <a:pt x="312" y="0"/>
                </a:cubicBezTo>
                <a:close/>
                <a:moveTo>
                  <a:pt x="282" y="424"/>
                </a:moveTo>
                <a:cubicBezTo>
                  <a:pt x="282" y="438"/>
                  <a:pt x="270" y="449"/>
                  <a:pt x="256" y="449"/>
                </a:cubicBezTo>
                <a:cubicBezTo>
                  <a:pt x="242" y="449"/>
                  <a:pt x="231" y="438"/>
                  <a:pt x="231" y="424"/>
                </a:cubicBezTo>
                <a:lnTo>
                  <a:pt x="231" y="202"/>
                </a:lnTo>
                <a:cubicBezTo>
                  <a:pt x="231" y="188"/>
                  <a:pt x="242" y="176"/>
                  <a:pt x="256" y="176"/>
                </a:cubicBezTo>
                <a:cubicBezTo>
                  <a:pt x="270" y="176"/>
                  <a:pt x="282" y="188"/>
                  <a:pt x="282" y="202"/>
                </a:cubicBezTo>
                <a:lnTo>
                  <a:pt x="282" y="424"/>
                </a:lnTo>
                <a:close/>
                <a:moveTo>
                  <a:pt x="394" y="424"/>
                </a:moveTo>
                <a:cubicBezTo>
                  <a:pt x="394" y="438"/>
                  <a:pt x="383" y="449"/>
                  <a:pt x="369" y="449"/>
                </a:cubicBezTo>
                <a:cubicBezTo>
                  <a:pt x="355" y="449"/>
                  <a:pt x="343" y="438"/>
                  <a:pt x="343" y="424"/>
                </a:cubicBezTo>
                <a:lnTo>
                  <a:pt x="343" y="202"/>
                </a:lnTo>
                <a:cubicBezTo>
                  <a:pt x="343" y="188"/>
                  <a:pt x="355" y="176"/>
                  <a:pt x="369" y="176"/>
                </a:cubicBezTo>
                <a:cubicBezTo>
                  <a:pt x="383" y="176"/>
                  <a:pt x="394" y="188"/>
                  <a:pt x="394" y="202"/>
                </a:cubicBezTo>
                <a:lnTo>
                  <a:pt x="394" y="424"/>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07" name="Freeform 301"/>
          <p:cNvSpPr/>
          <p:nvPr/>
        </p:nvSpPr>
        <p:spPr>
          <a:xfrm>
            <a:off x="5195880" y="5837400"/>
            <a:ext cx="173160" cy="177480"/>
          </a:xfrm>
          <a:custGeom>
            <a:avLst/>
            <a:gdLst/>
            <a:ahLst/>
            <a:rect l="l" t="t" r="r" b="b"/>
            <a:pathLst>
              <a:path w="651" h="664">
                <a:moveTo>
                  <a:pt x="333" y="579"/>
                </a:moveTo>
                <a:cubicBezTo>
                  <a:pt x="189" y="579"/>
                  <a:pt x="72" y="462"/>
                  <a:pt x="72" y="318"/>
                </a:cubicBezTo>
                <a:cubicBezTo>
                  <a:pt x="72" y="174"/>
                  <a:pt x="189" y="57"/>
                  <a:pt x="333" y="57"/>
                </a:cubicBezTo>
                <a:cubicBezTo>
                  <a:pt x="477" y="57"/>
                  <a:pt x="595" y="174"/>
                  <a:pt x="595" y="318"/>
                </a:cubicBezTo>
                <a:cubicBezTo>
                  <a:pt x="595" y="462"/>
                  <a:pt x="477" y="579"/>
                  <a:pt x="333" y="579"/>
                </a:cubicBezTo>
                <a:close/>
                <a:moveTo>
                  <a:pt x="383" y="266"/>
                </a:moveTo>
                <a:cubicBezTo>
                  <a:pt x="388" y="276"/>
                  <a:pt x="393" y="286"/>
                  <a:pt x="397" y="297"/>
                </a:cubicBezTo>
                <a:cubicBezTo>
                  <a:pt x="399" y="300"/>
                  <a:pt x="400" y="304"/>
                  <a:pt x="402" y="307"/>
                </a:cubicBezTo>
                <a:cubicBezTo>
                  <a:pt x="419" y="305"/>
                  <a:pt x="436" y="304"/>
                  <a:pt x="452" y="304"/>
                </a:cubicBezTo>
                <a:cubicBezTo>
                  <a:pt x="502" y="304"/>
                  <a:pt x="544" y="312"/>
                  <a:pt x="554" y="314"/>
                </a:cubicBezTo>
                <a:cubicBezTo>
                  <a:pt x="553" y="264"/>
                  <a:pt x="535" y="217"/>
                  <a:pt x="505" y="180"/>
                </a:cubicBezTo>
                <a:cubicBezTo>
                  <a:pt x="498" y="190"/>
                  <a:pt x="460" y="234"/>
                  <a:pt x="383" y="266"/>
                </a:cubicBezTo>
                <a:close/>
                <a:moveTo>
                  <a:pt x="416" y="345"/>
                </a:moveTo>
                <a:cubicBezTo>
                  <a:pt x="444" y="421"/>
                  <a:pt x="455" y="483"/>
                  <a:pt x="458" y="500"/>
                </a:cubicBezTo>
                <a:cubicBezTo>
                  <a:pt x="507" y="466"/>
                  <a:pt x="541" y="414"/>
                  <a:pt x="551" y="354"/>
                </a:cubicBezTo>
                <a:cubicBezTo>
                  <a:pt x="543" y="352"/>
                  <a:pt x="507" y="342"/>
                  <a:pt x="461" y="342"/>
                </a:cubicBezTo>
                <a:cubicBezTo>
                  <a:pt x="446" y="342"/>
                  <a:pt x="432" y="342"/>
                  <a:pt x="416" y="345"/>
                </a:cubicBezTo>
                <a:close/>
                <a:moveTo>
                  <a:pt x="0" y="664"/>
                </a:moveTo>
                <a:cubicBezTo>
                  <a:pt x="12" y="653"/>
                  <a:pt x="23" y="642"/>
                  <a:pt x="34" y="632"/>
                </a:cubicBezTo>
                <a:cubicBezTo>
                  <a:pt x="39" y="634"/>
                  <a:pt x="44" y="635"/>
                  <a:pt x="49" y="635"/>
                </a:cubicBezTo>
                <a:lnTo>
                  <a:pt x="617" y="635"/>
                </a:lnTo>
                <a:cubicBezTo>
                  <a:pt x="636" y="635"/>
                  <a:pt x="651" y="620"/>
                  <a:pt x="651" y="602"/>
                </a:cubicBezTo>
                <a:lnTo>
                  <a:pt x="651" y="34"/>
                </a:lnTo>
                <a:cubicBezTo>
                  <a:pt x="651" y="15"/>
                  <a:pt x="636" y="0"/>
                  <a:pt x="617" y="0"/>
                </a:cubicBezTo>
                <a:lnTo>
                  <a:pt x="49" y="0"/>
                </a:lnTo>
                <a:cubicBezTo>
                  <a:pt x="31" y="0"/>
                  <a:pt x="16" y="15"/>
                  <a:pt x="16" y="34"/>
                </a:cubicBezTo>
                <a:lnTo>
                  <a:pt x="16" y="602"/>
                </a:lnTo>
                <a:cubicBezTo>
                  <a:pt x="16" y="614"/>
                  <a:pt x="23" y="625"/>
                  <a:pt x="33" y="631"/>
                </a:cubicBezTo>
                <a:lnTo>
                  <a:pt x="0" y="664"/>
                </a:lnTo>
                <a:close/>
                <a:moveTo>
                  <a:pt x="348" y="319"/>
                </a:moveTo>
                <a:cubicBezTo>
                  <a:pt x="351" y="318"/>
                  <a:pt x="353" y="317"/>
                  <a:pt x="356" y="317"/>
                </a:cubicBezTo>
                <a:cubicBezTo>
                  <a:pt x="351" y="305"/>
                  <a:pt x="345" y="293"/>
                  <a:pt x="339" y="281"/>
                </a:cubicBezTo>
                <a:cubicBezTo>
                  <a:pt x="241" y="310"/>
                  <a:pt x="146" y="313"/>
                  <a:pt x="118" y="313"/>
                </a:cubicBezTo>
                <a:cubicBezTo>
                  <a:pt x="116" y="313"/>
                  <a:pt x="114" y="313"/>
                  <a:pt x="113" y="313"/>
                </a:cubicBezTo>
                <a:cubicBezTo>
                  <a:pt x="113" y="314"/>
                  <a:pt x="113" y="316"/>
                  <a:pt x="113" y="318"/>
                </a:cubicBezTo>
                <a:cubicBezTo>
                  <a:pt x="113" y="374"/>
                  <a:pt x="134" y="425"/>
                  <a:pt x="168" y="464"/>
                </a:cubicBezTo>
                <a:cubicBezTo>
                  <a:pt x="177" y="449"/>
                  <a:pt x="238" y="354"/>
                  <a:pt x="348" y="319"/>
                </a:cubicBezTo>
                <a:close/>
                <a:moveTo>
                  <a:pt x="479" y="152"/>
                </a:moveTo>
                <a:cubicBezTo>
                  <a:pt x="440" y="118"/>
                  <a:pt x="389" y="98"/>
                  <a:pt x="333" y="98"/>
                </a:cubicBezTo>
                <a:cubicBezTo>
                  <a:pt x="316" y="98"/>
                  <a:pt x="300" y="100"/>
                  <a:pt x="284" y="103"/>
                </a:cubicBezTo>
                <a:cubicBezTo>
                  <a:pt x="293" y="115"/>
                  <a:pt x="330" y="168"/>
                  <a:pt x="365" y="231"/>
                </a:cubicBezTo>
                <a:cubicBezTo>
                  <a:pt x="439" y="202"/>
                  <a:pt x="473" y="161"/>
                  <a:pt x="479" y="152"/>
                </a:cubicBezTo>
                <a:close/>
                <a:moveTo>
                  <a:pt x="372" y="356"/>
                </a:moveTo>
                <a:cubicBezTo>
                  <a:pt x="251" y="398"/>
                  <a:pt x="205" y="480"/>
                  <a:pt x="199" y="493"/>
                </a:cubicBezTo>
                <a:cubicBezTo>
                  <a:pt x="236" y="521"/>
                  <a:pt x="283" y="539"/>
                  <a:pt x="333" y="539"/>
                </a:cubicBezTo>
                <a:cubicBezTo>
                  <a:pt x="364" y="539"/>
                  <a:pt x="392" y="532"/>
                  <a:pt x="419" y="521"/>
                </a:cubicBezTo>
                <a:cubicBezTo>
                  <a:pt x="415" y="501"/>
                  <a:pt x="402" y="435"/>
                  <a:pt x="372" y="356"/>
                </a:cubicBezTo>
                <a:close/>
                <a:moveTo>
                  <a:pt x="319" y="245"/>
                </a:moveTo>
                <a:cubicBezTo>
                  <a:pt x="284" y="182"/>
                  <a:pt x="246" y="129"/>
                  <a:pt x="239" y="119"/>
                </a:cubicBezTo>
                <a:cubicBezTo>
                  <a:pt x="178" y="148"/>
                  <a:pt x="132" y="204"/>
                  <a:pt x="118" y="271"/>
                </a:cubicBezTo>
                <a:lnTo>
                  <a:pt x="120" y="271"/>
                </a:lnTo>
                <a:cubicBezTo>
                  <a:pt x="140" y="271"/>
                  <a:pt x="224" y="270"/>
                  <a:pt x="319" y="24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08" name="Freeform 302"/>
          <p:cNvSpPr/>
          <p:nvPr/>
        </p:nvSpPr>
        <p:spPr>
          <a:xfrm>
            <a:off x="5249880" y="5837400"/>
            <a:ext cx="65160" cy="64800"/>
          </a:xfrm>
          <a:custGeom>
            <a:avLst/>
            <a:gdLst/>
            <a:ahLst/>
            <a:rect l="l" t="t" r="r" b="b"/>
            <a:pathLst>
              <a:path w="242" h="241">
                <a:moveTo>
                  <a:pt x="0" y="241"/>
                </a:moveTo>
                <a:cubicBezTo>
                  <a:pt x="86" y="166"/>
                  <a:pt x="166" y="86"/>
                  <a:pt x="242" y="0"/>
                </a:cubicBezTo>
                <a:lnTo>
                  <a:pt x="0" y="241"/>
                </a:lnTo>
                <a:close/>
              </a:path>
            </a:pathLst>
          </a:custGeom>
          <a:solidFill>
            <a:srgbClr val="a6a6a6"/>
          </a:solidFill>
          <a:ln w="0">
            <a:noFill/>
          </a:ln>
        </p:spPr>
        <p:style>
          <a:lnRef idx="0"/>
          <a:fillRef idx="0"/>
          <a:effectRef idx="0"/>
          <a:fontRef idx="minor"/>
        </p:style>
        <p:txBody>
          <a:bodyPr lIns="145800" rIns="145800" tIns="-7920" bIns="-7920" anchor="t">
            <a:noAutofit/>
          </a:bodyPr>
          <a:p>
            <a:endParaRPr b="0" lang="en-US" sz="1800" spc="-1" strike="noStrike">
              <a:solidFill>
                <a:srgbClr val="000000"/>
              </a:solidFill>
              <a:latin typeface="Calibri"/>
            </a:endParaRPr>
          </a:p>
        </p:txBody>
      </p:sp>
      <p:sp>
        <p:nvSpPr>
          <p:cNvPr id="1909" name="Freeform 303"/>
          <p:cNvSpPr/>
          <p:nvPr/>
        </p:nvSpPr>
        <p:spPr>
          <a:xfrm>
            <a:off x="2998800" y="5578560"/>
            <a:ext cx="85680" cy="166680"/>
          </a:xfrm>
          <a:custGeom>
            <a:avLst/>
            <a:gdLst/>
            <a:ahLst/>
            <a:rect l="l" t="t" r="r" b="b"/>
            <a:pathLst>
              <a:path w="325" h="626">
                <a:moveTo>
                  <a:pt x="325" y="104"/>
                </a:moveTo>
                <a:lnTo>
                  <a:pt x="266" y="104"/>
                </a:lnTo>
                <a:cubicBezTo>
                  <a:pt x="220" y="104"/>
                  <a:pt x="211" y="126"/>
                  <a:pt x="211" y="158"/>
                </a:cubicBezTo>
                <a:lnTo>
                  <a:pt x="211" y="229"/>
                </a:lnTo>
                <a:lnTo>
                  <a:pt x="321" y="229"/>
                </a:lnTo>
                <a:lnTo>
                  <a:pt x="321" y="340"/>
                </a:lnTo>
                <a:lnTo>
                  <a:pt x="211" y="340"/>
                </a:lnTo>
                <a:lnTo>
                  <a:pt x="211" y="626"/>
                </a:lnTo>
                <a:lnTo>
                  <a:pt x="96" y="626"/>
                </a:lnTo>
                <a:lnTo>
                  <a:pt x="96" y="340"/>
                </a:lnTo>
                <a:lnTo>
                  <a:pt x="0" y="340"/>
                </a:lnTo>
                <a:lnTo>
                  <a:pt x="0" y="229"/>
                </a:lnTo>
                <a:lnTo>
                  <a:pt x="96" y="229"/>
                </a:lnTo>
                <a:lnTo>
                  <a:pt x="96" y="147"/>
                </a:lnTo>
                <a:cubicBezTo>
                  <a:pt x="96" y="52"/>
                  <a:pt x="154" y="0"/>
                  <a:pt x="239" y="0"/>
                </a:cubicBezTo>
                <a:lnTo>
                  <a:pt x="325" y="0"/>
                </a:lnTo>
                <a:lnTo>
                  <a:pt x="325" y="104"/>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10" name="Freeform 304"/>
          <p:cNvSpPr/>
          <p:nvPr/>
        </p:nvSpPr>
        <p:spPr>
          <a:xfrm>
            <a:off x="3268800" y="5594400"/>
            <a:ext cx="164880" cy="133200"/>
          </a:xfrm>
          <a:custGeom>
            <a:avLst/>
            <a:gdLst/>
            <a:ahLst/>
            <a:rect l="l" t="t" r="r" b="b"/>
            <a:pathLst>
              <a:path w="616" h="503">
                <a:moveTo>
                  <a:pt x="616" y="60"/>
                </a:moveTo>
                <a:lnTo>
                  <a:pt x="613" y="59"/>
                </a:lnTo>
                <a:cubicBezTo>
                  <a:pt x="594" y="68"/>
                  <a:pt x="575" y="74"/>
                  <a:pt x="555" y="77"/>
                </a:cubicBezTo>
                <a:cubicBezTo>
                  <a:pt x="576" y="61"/>
                  <a:pt x="592" y="39"/>
                  <a:pt x="600" y="14"/>
                </a:cubicBezTo>
                <a:lnTo>
                  <a:pt x="599" y="10"/>
                </a:lnTo>
                <a:lnTo>
                  <a:pt x="595" y="10"/>
                </a:lnTo>
                <a:cubicBezTo>
                  <a:pt x="572" y="24"/>
                  <a:pt x="546" y="34"/>
                  <a:pt x="518" y="40"/>
                </a:cubicBezTo>
                <a:cubicBezTo>
                  <a:pt x="494" y="15"/>
                  <a:pt x="461" y="0"/>
                  <a:pt x="426" y="0"/>
                </a:cubicBezTo>
                <a:cubicBezTo>
                  <a:pt x="355" y="0"/>
                  <a:pt x="297" y="58"/>
                  <a:pt x="297" y="129"/>
                </a:cubicBezTo>
                <a:cubicBezTo>
                  <a:pt x="297" y="137"/>
                  <a:pt x="298" y="146"/>
                  <a:pt x="300" y="154"/>
                </a:cubicBezTo>
                <a:cubicBezTo>
                  <a:pt x="202" y="148"/>
                  <a:pt x="110" y="101"/>
                  <a:pt x="48" y="25"/>
                </a:cubicBezTo>
                <a:lnTo>
                  <a:pt x="45" y="23"/>
                </a:lnTo>
                <a:lnTo>
                  <a:pt x="43" y="25"/>
                </a:lnTo>
                <a:cubicBezTo>
                  <a:pt x="31" y="44"/>
                  <a:pt x="25" y="67"/>
                  <a:pt x="25" y="89"/>
                </a:cubicBezTo>
                <a:cubicBezTo>
                  <a:pt x="25" y="129"/>
                  <a:pt x="43" y="166"/>
                  <a:pt x="74" y="190"/>
                </a:cubicBezTo>
                <a:cubicBezTo>
                  <a:pt x="58" y="188"/>
                  <a:pt x="43" y="183"/>
                  <a:pt x="29" y="175"/>
                </a:cubicBezTo>
                <a:lnTo>
                  <a:pt x="26" y="176"/>
                </a:lnTo>
                <a:lnTo>
                  <a:pt x="24" y="178"/>
                </a:lnTo>
                <a:lnTo>
                  <a:pt x="24" y="180"/>
                </a:lnTo>
                <a:cubicBezTo>
                  <a:pt x="24" y="236"/>
                  <a:pt x="61" y="286"/>
                  <a:pt x="115" y="302"/>
                </a:cubicBezTo>
                <a:cubicBezTo>
                  <a:pt x="101" y="305"/>
                  <a:pt x="86" y="305"/>
                  <a:pt x="72" y="302"/>
                </a:cubicBezTo>
                <a:lnTo>
                  <a:pt x="69" y="303"/>
                </a:lnTo>
                <a:lnTo>
                  <a:pt x="68" y="306"/>
                </a:lnTo>
                <a:cubicBezTo>
                  <a:pt x="84" y="355"/>
                  <a:pt x="128" y="390"/>
                  <a:pt x="180" y="395"/>
                </a:cubicBezTo>
                <a:cubicBezTo>
                  <a:pt x="137" y="426"/>
                  <a:pt x="86" y="443"/>
                  <a:pt x="33" y="443"/>
                </a:cubicBezTo>
                <a:cubicBezTo>
                  <a:pt x="23" y="443"/>
                  <a:pt x="13" y="442"/>
                  <a:pt x="3" y="441"/>
                </a:cubicBezTo>
                <a:cubicBezTo>
                  <a:pt x="2" y="441"/>
                  <a:pt x="0" y="442"/>
                  <a:pt x="0" y="443"/>
                </a:cubicBezTo>
                <a:lnTo>
                  <a:pt x="1" y="446"/>
                </a:lnTo>
                <a:cubicBezTo>
                  <a:pt x="59" y="484"/>
                  <a:pt x="126" y="503"/>
                  <a:pt x="195" y="503"/>
                </a:cubicBezTo>
                <a:cubicBezTo>
                  <a:pt x="420" y="503"/>
                  <a:pt x="555" y="320"/>
                  <a:pt x="555" y="143"/>
                </a:cubicBezTo>
                <a:cubicBezTo>
                  <a:pt x="555" y="138"/>
                  <a:pt x="555" y="134"/>
                  <a:pt x="555" y="129"/>
                </a:cubicBezTo>
                <a:cubicBezTo>
                  <a:pt x="579" y="111"/>
                  <a:pt x="600" y="89"/>
                  <a:pt x="616" y="64"/>
                </a:cubicBezTo>
                <a:lnTo>
                  <a:pt x="616" y="60"/>
                </a:lnTo>
                <a:close/>
              </a:path>
            </a:pathLst>
          </a:custGeom>
          <a:solidFill>
            <a:srgbClr val="a6a6a6"/>
          </a:solidFill>
          <a:ln w="0">
            <a:noFill/>
          </a:ln>
        </p:spPr>
        <p:style>
          <a:lnRef idx="0"/>
          <a:fillRef idx="0"/>
          <a:effectRef idx="0"/>
          <a:fontRef idx="minor"/>
        </p:style>
        <p:txBody>
          <a:bodyPr lIns="145800" rIns="145800" tIns="60480" bIns="60480" anchor="t">
            <a:noAutofit/>
          </a:bodyPr>
          <a:p>
            <a:endParaRPr b="0" lang="en-US" sz="1800" spc="-1" strike="noStrike">
              <a:solidFill>
                <a:srgbClr val="000000"/>
              </a:solidFill>
              <a:latin typeface="Calibri"/>
            </a:endParaRPr>
          </a:p>
        </p:txBody>
      </p:sp>
      <p:sp>
        <p:nvSpPr>
          <p:cNvPr id="1911" name="Freeform 305"/>
          <p:cNvSpPr/>
          <p:nvPr/>
        </p:nvSpPr>
        <p:spPr>
          <a:xfrm>
            <a:off x="3906720" y="5576760"/>
            <a:ext cx="163800" cy="168480"/>
          </a:xfrm>
          <a:custGeom>
            <a:avLst/>
            <a:gdLst/>
            <a:ahLst/>
            <a:rect l="l" t="t" r="r" b="b"/>
            <a:pathLst>
              <a:path w="610" h="628">
                <a:moveTo>
                  <a:pt x="215" y="593"/>
                </a:moveTo>
                <a:cubicBezTo>
                  <a:pt x="128" y="593"/>
                  <a:pt x="72" y="551"/>
                  <a:pt x="72" y="493"/>
                </a:cubicBezTo>
                <a:cubicBezTo>
                  <a:pt x="72" y="435"/>
                  <a:pt x="124" y="416"/>
                  <a:pt x="142" y="409"/>
                </a:cubicBezTo>
                <a:cubicBezTo>
                  <a:pt x="176" y="398"/>
                  <a:pt x="220" y="396"/>
                  <a:pt x="228" y="396"/>
                </a:cubicBezTo>
                <a:cubicBezTo>
                  <a:pt x="236" y="396"/>
                  <a:pt x="240" y="396"/>
                  <a:pt x="246" y="397"/>
                </a:cubicBezTo>
                <a:cubicBezTo>
                  <a:pt x="309" y="441"/>
                  <a:pt x="336" y="463"/>
                  <a:pt x="336" y="505"/>
                </a:cubicBezTo>
                <a:cubicBezTo>
                  <a:pt x="336" y="556"/>
                  <a:pt x="294" y="593"/>
                  <a:pt x="215" y="593"/>
                </a:cubicBezTo>
                <a:close/>
                <a:moveTo>
                  <a:pt x="528" y="263"/>
                </a:moveTo>
                <a:lnTo>
                  <a:pt x="528" y="181"/>
                </a:lnTo>
                <a:lnTo>
                  <a:pt x="487" y="181"/>
                </a:lnTo>
                <a:lnTo>
                  <a:pt x="487" y="263"/>
                </a:lnTo>
                <a:lnTo>
                  <a:pt x="406" y="263"/>
                </a:lnTo>
                <a:lnTo>
                  <a:pt x="406" y="304"/>
                </a:lnTo>
                <a:lnTo>
                  <a:pt x="487" y="304"/>
                </a:lnTo>
                <a:lnTo>
                  <a:pt x="487" y="386"/>
                </a:lnTo>
                <a:lnTo>
                  <a:pt x="528" y="386"/>
                </a:lnTo>
                <a:lnTo>
                  <a:pt x="528" y="304"/>
                </a:lnTo>
                <a:lnTo>
                  <a:pt x="610" y="304"/>
                </a:lnTo>
                <a:lnTo>
                  <a:pt x="610" y="263"/>
                </a:lnTo>
                <a:lnTo>
                  <a:pt x="528" y="263"/>
                </a:lnTo>
                <a:close/>
                <a:moveTo>
                  <a:pt x="215" y="264"/>
                </a:moveTo>
                <a:cubicBezTo>
                  <a:pt x="144" y="264"/>
                  <a:pt x="113" y="173"/>
                  <a:pt x="113" y="119"/>
                </a:cubicBezTo>
                <a:cubicBezTo>
                  <a:pt x="113" y="97"/>
                  <a:pt x="117" y="75"/>
                  <a:pt x="131" y="58"/>
                </a:cubicBezTo>
                <a:cubicBezTo>
                  <a:pt x="144" y="42"/>
                  <a:pt x="166" y="31"/>
                  <a:pt x="188" y="31"/>
                </a:cubicBezTo>
                <a:cubicBezTo>
                  <a:pt x="255" y="31"/>
                  <a:pt x="291" y="123"/>
                  <a:pt x="291" y="182"/>
                </a:cubicBezTo>
                <a:cubicBezTo>
                  <a:pt x="291" y="196"/>
                  <a:pt x="289" y="222"/>
                  <a:pt x="270" y="241"/>
                </a:cubicBezTo>
                <a:cubicBezTo>
                  <a:pt x="257" y="254"/>
                  <a:pt x="235" y="264"/>
                  <a:pt x="215" y="264"/>
                </a:cubicBezTo>
                <a:close/>
                <a:moveTo>
                  <a:pt x="322" y="358"/>
                </a:moveTo>
                <a:lnTo>
                  <a:pt x="292" y="335"/>
                </a:lnTo>
                <a:cubicBezTo>
                  <a:pt x="283" y="328"/>
                  <a:pt x="271" y="318"/>
                  <a:pt x="271" y="300"/>
                </a:cubicBezTo>
                <a:cubicBezTo>
                  <a:pt x="271" y="282"/>
                  <a:pt x="283" y="271"/>
                  <a:pt x="294" y="260"/>
                </a:cubicBezTo>
                <a:cubicBezTo>
                  <a:pt x="328" y="233"/>
                  <a:pt x="362" y="205"/>
                  <a:pt x="362" y="144"/>
                </a:cubicBezTo>
                <a:cubicBezTo>
                  <a:pt x="362" y="82"/>
                  <a:pt x="323" y="49"/>
                  <a:pt x="304" y="34"/>
                </a:cubicBezTo>
                <a:lnTo>
                  <a:pt x="355" y="34"/>
                </a:lnTo>
                <a:lnTo>
                  <a:pt x="408" y="0"/>
                </a:lnTo>
                <a:lnTo>
                  <a:pt x="247" y="0"/>
                </a:lnTo>
                <a:cubicBezTo>
                  <a:pt x="203" y="0"/>
                  <a:pt x="140" y="11"/>
                  <a:pt x="93" y="49"/>
                </a:cubicBezTo>
                <a:cubicBezTo>
                  <a:pt x="58" y="79"/>
                  <a:pt x="41" y="121"/>
                  <a:pt x="41" y="159"/>
                </a:cubicBezTo>
                <a:cubicBezTo>
                  <a:pt x="41" y="222"/>
                  <a:pt x="90" y="287"/>
                  <a:pt x="176" y="287"/>
                </a:cubicBezTo>
                <a:cubicBezTo>
                  <a:pt x="184" y="287"/>
                  <a:pt x="193" y="286"/>
                  <a:pt x="202" y="286"/>
                </a:cubicBezTo>
                <a:cubicBezTo>
                  <a:pt x="198" y="295"/>
                  <a:pt x="194" y="304"/>
                  <a:pt x="194" y="317"/>
                </a:cubicBezTo>
                <a:cubicBezTo>
                  <a:pt x="194" y="343"/>
                  <a:pt x="207" y="358"/>
                  <a:pt x="219" y="373"/>
                </a:cubicBezTo>
                <a:cubicBezTo>
                  <a:pt x="182" y="376"/>
                  <a:pt x="113" y="380"/>
                  <a:pt x="63" y="411"/>
                </a:cubicBezTo>
                <a:cubicBezTo>
                  <a:pt x="15" y="439"/>
                  <a:pt x="0" y="481"/>
                  <a:pt x="0" y="511"/>
                </a:cubicBezTo>
                <a:cubicBezTo>
                  <a:pt x="0" y="571"/>
                  <a:pt x="57" y="628"/>
                  <a:pt x="175" y="628"/>
                </a:cubicBezTo>
                <a:cubicBezTo>
                  <a:pt x="316" y="628"/>
                  <a:pt x="390" y="550"/>
                  <a:pt x="390" y="473"/>
                </a:cubicBezTo>
                <a:cubicBezTo>
                  <a:pt x="390" y="416"/>
                  <a:pt x="358" y="389"/>
                  <a:pt x="322" y="358"/>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12" name="Freeform 306"/>
          <p:cNvSpPr/>
          <p:nvPr/>
        </p:nvSpPr>
        <p:spPr>
          <a:xfrm>
            <a:off x="4262400" y="5583240"/>
            <a:ext cx="138240" cy="157320"/>
          </a:xfrm>
          <a:custGeom>
            <a:avLst/>
            <a:gdLst/>
            <a:ahLst/>
            <a:rect l="l" t="t" r="r" b="b"/>
            <a:pathLst>
              <a:path w="520" h="586">
                <a:moveTo>
                  <a:pt x="520" y="586"/>
                </a:moveTo>
                <a:lnTo>
                  <a:pt x="252" y="586"/>
                </a:lnTo>
                <a:lnTo>
                  <a:pt x="252" y="460"/>
                </a:lnTo>
                <a:lnTo>
                  <a:pt x="107" y="460"/>
                </a:lnTo>
                <a:lnTo>
                  <a:pt x="107" y="357"/>
                </a:lnTo>
                <a:lnTo>
                  <a:pt x="0" y="357"/>
                </a:lnTo>
                <a:lnTo>
                  <a:pt x="0" y="223"/>
                </a:lnTo>
                <a:lnTo>
                  <a:pt x="0" y="223"/>
                </a:lnTo>
                <a:cubicBezTo>
                  <a:pt x="2" y="185"/>
                  <a:pt x="33" y="154"/>
                  <a:pt x="71" y="154"/>
                </a:cubicBezTo>
                <a:cubicBezTo>
                  <a:pt x="104" y="154"/>
                  <a:pt x="131" y="176"/>
                  <a:pt x="140" y="205"/>
                </a:cubicBezTo>
                <a:cubicBezTo>
                  <a:pt x="157" y="189"/>
                  <a:pt x="181" y="179"/>
                  <a:pt x="206" y="179"/>
                </a:cubicBezTo>
                <a:cubicBezTo>
                  <a:pt x="247" y="179"/>
                  <a:pt x="282" y="204"/>
                  <a:pt x="297" y="239"/>
                </a:cubicBezTo>
                <a:cubicBezTo>
                  <a:pt x="321" y="218"/>
                  <a:pt x="352" y="205"/>
                  <a:pt x="386" y="205"/>
                </a:cubicBezTo>
                <a:cubicBezTo>
                  <a:pt x="458" y="205"/>
                  <a:pt x="517" y="263"/>
                  <a:pt x="520" y="334"/>
                </a:cubicBezTo>
                <a:lnTo>
                  <a:pt x="520" y="334"/>
                </a:lnTo>
                <a:lnTo>
                  <a:pt x="520" y="586"/>
                </a:lnTo>
                <a:close/>
                <a:moveTo>
                  <a:pt x="70" y="45"/>
                </a:moveTo>
                <a:cubicBezTo>
                  <a:pt x="98" y="45"/>
                  <a:pt x="120" y="68"/>
                  <a:pt x="120" y="95"/>
                </a:cubicBezTo>
                <a:cubicBezTo>
                  <a:pt x="120" y="123"/>
                  <a:pt x="98" y="145"/>
                  <a:pt x="70" y="145"/>
                </a:cubicBezTo>
                <a:cubicBezTo>
                  <a:pt x="42" y="145"/>
                  <a:pt x="20" y="123"/>
                  <a:pt x="20" y="95"/>
                </a:cubicBezTo>
                <a:cubicBezTo>
                  <a:pt x="20" y="68"/>
                  <a:pt x="42" y="45"/>
                  <a:pt x="70" y="45"/>
                </a:cubicBezTo>
                <a:close/>
                <a:moveTo>
                  <a:pt x="204" y="27"/>
                </a:moveTo>
                <a:cubicBezTo>
                  <a:pt x="243" y="27"/>
                  <a:pt x="274" y="59"/>
                  <a:pt x="274" y="97"/>
                </a:cubicBezTo>
                <a:cubicBezTo>
                  <a:pt x="274" y="136"/>
                  <a:pt x="243" y="167"/>
                  <a:pt x="204" y="167"/>
                </a:cubicBezTo>
                <a:cubicBezTo>
                  <a:pt x="166" y="167"/>
                  <a:pt x="135" y="136"/>
                  <a:pt x="135" y="97"/>
                </a:cubicBezTo>
                <a:cubicBezTo>
                  <a:pt x="135" y="59"/>
                  <a:pt x="166" y="27"/>
                  <a:pt x="204" y="27"/>
                </a:cubicBezTo>
                <a:close/>
                <a:moveTo>
                  <a:pt x="383" y="0"/>
                </a:moveTo>
                <a:cubicBezTo>
                  <a:pt x="435" y="0"/>
                  <a:pt x="478" y="42"/>
                  <a:pt x="478" y="94"/>
                </a:cubicBezTo>
                <a:cubicBezTo>
                  <a:pt x="478" y="146"/>
                  <a:pt x="435" y="188"/>
                  <a:pt x="383" y="188"/>
                </a:cubicBezTo>
                <a:cubicBezTo>
                  <a:pt x="331" y="188"/>
                  <a:pt x="289" y="146"/>
                  <a:pt x="289" y="94"/>
                </a:cubicBezTo>
                <a:cubicBezTo>
                  <a:pt x="289" y="42"/>
                  <a:pt x="331" y="0"/>
                  <a:pt x="383"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13" name="Freeform 307"/>
          <p:cNvSpPr/>
          <p:nvPr/>
        </p:nvSpPr>
        <p:spPr>
          <a:xfrm>
            <a:off x="6572160" y="5572080"/>
            <a:ext cx="157320" cy="160560"/>
          </a:xfrm>
          <a:custGeom>
            <a:avLst/>
            <a:gdLst/>
            <a:ahLst/>
            <a:rect l="l" t="t" r="r" b="b"/>
            <a:pathLst>
              <a:path w="585" h="597">
                <a:moveTo>
                  <a:pt x="278" y="358"/>
                </a:moveTo>
                <a:cubicBezTo>
                  <a:pt x="270" y="340"/>
                  <a:pt x="257" y="327"/>
                  <a:pt x="238" y="318"/>
                </a:cubicBezTo>
                <a:cubicBezTo>
                  <a:pt x="223" y="312"/>
                  <a:pt x="208" y="306"/>
                  <a:pt x="192" y="303"/>
                </a:cubicBezTo>
                <a:lnTo>
                  <a:pt x="118" y="283"/>
                </a:lnTo>
                <a:cubicBezTo>
                  <a:pt x="106" y="279"/>
                  <a:pt x="95" y="275"/>
                  <a:pt x="86" y="267"/>
                </a:cubicBezTo>
                <a:cubicBezTo>
                  <a:pt x="80" y="261"/>
                  <a:pt x="76" y="255"/>
                  <a:pt x="76" y="246"/>
                </a:cubicBezTo>
                <a:cubicBezTo>
                  <a:pt x="76" y="228"/>
                  <a:pt x="87" y="213"/>
                  <a:pt x="106" y="208"/>
                </a:cubicBezTo>
                <a:cubicBezTo>
                  <a:pt x="123" y="203"/>
                  <a:pt x="141" y="203"/>
                  <a:pt x="159" y="206"/>
                </a:cubicBezTo>
                <a:cubicBezTo>
                  <a:pt x="178" y="210"/>
                  <a:pt x="193" y="219"/>
                  <a:pt x="202" y="238"/>
                </a:cubicBezTo>
                <a:cubicBezTo>
                  <a:pt x="207" y="250"/>
                  <a:pt x="208" y="256"/>
                  <a:pt x="208" y="256"/>
                </a:cubicBezTo>
                <a:lnTo>
                  <a:pt x="275" y="256"/>
                </a:lnTo>
                <a:lnTo>
                  <a:pt x="275" y="253"/>
                </a:lnTo>
                <a:cubicBezTo>
                  <a:pt x="274" y="247"/>
                  <a:pt x="274" y="241"/>
                  <a:pt x="272" y="235"/>
                </a:cubicBezTo>
                <a:cubicBezTo>
                  <a:pt x="264" y="196"/>
                  <a:pt x="242" y="168"/>
                  <a:pt x="203" y="154"/>
                </a:cubicBezTo>
                <a:cubicBezTo>
                  <a:pt x="178" y="145"/>
                  <a:pt x="152" y="144"/>
                  <a:pt x="126" y="145"/>
                </a:cubicBezTo>
                <a:cubicBezTo>
                  <a:pt x="107" y="146"/>
                  <a:pt x="89" y="149"/>
                  <a:pt x="71" y="156"/>
                </a:cubicBezTo>
                <a:cubicBezTo>
                  <a:pt x="46" y="165"/>
                  <a:pt x="27" y="180"/>
                  <a:pt x="15" y="204"/>
                </a:cubicBezTo>
                <a:cubicBezTo>
                  <a:pt x="7" y="221"/>
                  <a:pt x="5" y="240"/>
                  <a:pt x="6" y="258"/>
                </a:cubicBezTo>
                <a:cubicBezTo>
                  <a:pt x="6" y="275"/>
                  <a:pt x="11" y="290"/>
                  <a:pt x="18" y="304"/>
                </a:cubicBezTo>
                <a:cubicBezTo>
                  <a:pt x="27" y="321"/>
                  <a:pt x="43" y="331"/>
                  <a:pt x="60" y="338"/>
                </a:cubicBezTo>
                <a:cubicBezTo>
                  <a:pt x="81" y="347"/>
                  <a:pt x="104" y="351"/>
                  <a:pt x="126" y="357"/>
                </a:cubicBezTo>
                <a:cubicBezTo>
                  <a:pt x="142" y="361"/>
                  <a:pt x="157" y="365"/>
                  <a:pt x="172" y="370"/>
                </a:cubicBezTo>
                <a:cubicBezTo>
                  <a:pt x="184" y="375"/>
                  <a:pt x="195" y="380"/>
                  <a:pt x="205" y="388"/>
                </a:cubicBezTo>
                <a:cubicBezTo>
                  <a:pt x="215" y="397"/>
                  <a:pt x="218" y="407"/>
                  <a:pt x="215" y="420"/>
                </a:cubicBezTo>
                <a:cubicBezTo>
                  <a:pt x="211" y="435"/>
                  <a:pt x="201" y="444"/>
                  <a:pt x="188" y="448"/>
                </a:cubicBezTo>
                <a:cubicBezTo>
                  <a:pt x="161" y="456"/>
                  <a:pt x="132" y="455"/>
                  <a:pt x="106" y="445"/>
                </a:cubicBezTo>
                <a:cubicBezTo>
                  <a:pt x="95" y="440"/>
                  <a:pt x="86" y="433"/>
                  <a:pt x="80" y="422"/>
                </a:cubicBezTo>
                <a:cubicBezTo>
                  <a:pt x="76" y="415"/>
                  <a:pt x="74" y="408"/>
                  <a:pt x="73" y="401"/>
                </a:cubicBezTo>
                <a:lnTo>
                  <a:pt x="72" y="396"/>
                </a:lnTo>
                <a:cubicBezTo>
                  <a:pt x="72" y="396"/>
                  <a:pt x="47" y="396"/>
                  <a:pt x="37" y="396"/>
                </a:cubicBezTo>
                <a:cubicBezTo>
                  <a:pt x="26" y="396"/>
                  <a:pt x="11" y="396"/>
                  <a:pt x="0" y="396"/>
                </a:cubicBezTo>
                <a:lnTo>
                  <a:pt x="1" y="399"/>
                </a:lnTo>
                <a:cubicBezTo>
                  <a:pt x="2" y="417"/>
                  <a:pt x="5" y="435"/>
                  <a:pt x="14" y="451"/>
                </a:cubicBezTo>
                <a:cubicBezTo>
                  <a:pt x="30" y="481"/>
                  <a:pt x="56" y="499"/>
                  <a:pt x="88" y="507"/>
                </a:cubicBezTo>
                <a:cubicBezTo>
                  <a:pt x="110" y="513"/>
                  <a:pt x="133" y="514"/>
                  <a:pt x="156" y="513"/>
                </a:cubicBezTo>
                <a:cubicBezTo>
                  <a:pt x="175" y="513"/>
                  <a:pt x="194" y="510"/>
                  <a:pt x="213" y="504"/>
                </a:cubicBezTo>
                <a:cubicBezTo>
                  <a:pt x="234" y="497"/>
                  <a:pt x="253" y="486"/>
                  <a:pt x="267" y="467"/>
                </a:cubicBezTo>
                <a:cubicBezTo>
                  <a:pt x="278" y="452"/>
                  <a:pt x="284" y="434"/>
                  <a:pt x="286" y="415"/>
                </a:cubicBezTo>
                <a:cubicBezTo>
                  <a:pt x="288" y="395"/>
                  <a:pt x="287" y="376"/>
                  <a:pt x="278" y="358"/>
                </a:cubicBezTo>
                <a:close/>
                <a:moveTo>
                  <a:pt x="391" y="369"/>
                </a:moveTo>
                <a:lnTo>
                  <a:pt x="585" y="228"/>
                </a:lnTo>
                <a:lnTo>
                  <a:pt x="344" y="228"/>
                </a:lnTo>
                <a:lnTo>
                  <a:pt x="270" y="0"/>
                </a:lnTo>
                <a:lnTo>
                  <a:pt x="228" y="129"/>
                </a:lnTo>
                <a:lnTo>
                  <a:pt x="230" y="130"/>
                </a:lnTo>
                <a:cubicBezTo>
                  <a:pt x="246" y="137"/>
                  <a:pt x="260" y="148"/>
                  <a:pt x="272" y="161"/>
                </a:cubicBezTo>
                <a:cubicBezTo>
                  <a:pt x="291" y="183"/>
                  <a:pt x="302" y="208"/>
                  <a:pt x="306" y="237"/>
                </a:cubicBezTo>
                <a:cubicBezTo>
                  <a:pt x="308" y="248"/>
                  <a:pt x="308" y="260"/>
                  <a:pt x="308" y="272"/>
                </a:cubicBezTo>
                <a:lnTo>
                  <a:pt x="308" y="276"/>
                </a:lnTo>
                <a:cubicBezTo>
                  <a:pt x="348" y="276"/>
                  <a:pt x="396" y="276"/>
                  <a:pt x="436" y="276"/>
                </a:cubicBezTo>
                <a:lnTo>
                  <a:pt x="333" y="350"/>
                </a:lnTo>
                <a:lnTo>
                  <a:pt x="368" y="456"/>
                </a:lnTo>
                <a:cubicBezTo>
                  <a:pt x="369" y="460"/>
                  <a:pt x="372" y="470"/>
                  <a:pt x="372" y="470"/>
                </a:cubicBezTo>
                <a:cubicBezTo>
                  <a:pt x="372" y="470"/>
                  <a:pt x="335" y="443"/>
                  <a:pt x="317" y="430"/>
                </a:cubicBezTo>
                <a:cubicBezTo>
                  <a:pt x="315" y="447"/>
                  <a:pt x="309" y="462"/>
                  <a:pt x="301" y="475"/>
                </a:cubicBezTo>
                <a:lnTo>
                  <a:pt x="300" y="477"/>
                </a:lnTo>
                <a:cubicBezTo>
                  <a:pt x="347" y="511"/>
                  <a:pt x="397" y="547"/>
                  <a:pt x="444" y="582"/>
                </a:cubicBezTo>
                <a:cubicBezTo>
                  <a:pt x="451" y="586"/>
                  <a:pt x="465" y="597"/>
                  <a:pt x="465" y="597"/>
                </a:cubicBezTo>
                <a:lnTo>
                  <a:pt x="428" y="484"/>
                </a:lnTo>
                <a:lnTo>
                  <a:pt x="391" y="369"/>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14" name="Freeform 308"/>
          <p:cNvSpPr/>
          <p:nvPr/>
        </p:nvSpPr>
        <p:spPr>
          <a:xfrm>
            <a:off x="6967440" y="5572080"/>
            <a:ext cx="128520" cy="163440"/>
          </a:xfrm>
          <a:custGeom>
            <a:avLst/>
            <a:gdLst/>
            <a:ahLst/>
            <a:rect l="l" t="t" r="r" b="b"/>
            <a:pathLst>
              <a:path w="483" h="607">
                <a:moveTo>
                  <a:pt x="415" y="384"/>
                </a:moveTo>
                <a:cubicBezTo>
                  <a:pt x="409" y="422"/>
                  <a:pt x="390" y="459"/>
                  <a:pt x="362" y="485"/>
                </a:cubicBezTo>
                <a:cubicBezTo>
                  <a:pt x="337" y="510"/>
                  <a:pt x="305" y="526"/>
                  <a:pt x="270" y="532"/>
                </a:cubicBezTo>
                <a:cubicBezTo>
                  <a:pt x="230" y="538"/>
                  <a:pt x="188" y="530"/>
                  <a:pt x="154" y="510"/>
                </a:cubicBezTo>
                <a:cubicBezTo>
                  <a:pt x="135" y="498"/>
                  <a:pt x="119" y="484"/>
                  <a:pt x="106" y="467"/>
                </a:cubicBezTo>
                <a:cubicBezTo>
                  <a:pt x="58" y="408"/>
                  <a:pt x="55" y="317"/>
                  <a:pt x="100" y="256"/>
                </a:cubicBezTo>
                <a:cubicBezTo>
                  <a:pt x="114" y="237"/>
                  <a:pt x="131" y="219"/>
                  <a:pt x="151" y="207"/>
                </a:cubicBezTo>
                <a:cubicBezTo>
                  <a:pt x="172" y="193"/>
                  <a:pt x="197" y="185"/>
                  <a:pt x="222" y="182"/>
                </a:cubicBezTo>
                <a:cubicBezTo>
                  <a:pt x="264" y="177"/>
                  <a:pt x="309" y="188"/>
                  <a:pt x="343" y="213"/>
                </a:cubicBezTo>
                <a:cubicBezTo>
                  <a:pt x="369" y="232"/>
                  <a:pt x="390" y="258"/>
                  <a:pt x="403" y="288"/>
                </a:cubicBezTo>
                <a:cubicBezTo>
                  <a:pt x="415" y="318"/>
                  <a:pt x="420" y="351"/>
                  <a:pt x="415" y="384"/>
                </a:cubicBezTo>
                <a:close/>
                <a:moveTo>
                  <a:pt x="144" y="305"/>
                </a:moveTo>
                <a:cubicBezTo>
                  <a:pt x="128" y="305"/>
                  <a:pt x="110" y="313"/>
                  <a:pt x="102" y="328"/>
                </a:cubicBezTo>
                <a:cubicBezTo>
                  <a:pt x="96" y="338"/>
                  <a:pt x="93" y="349"/>
                  <a:pt x="94" y="361"/>
                </a:cubicBezTo>
                <a:cubicBezTo>
                  <a:pt x="97" y="373"/>
                  <a:pt x="102" y="386"/>
                  <a:pt x="113" y="394"/>
                </a:cubicBezTo>
                <a:cubicBezTo>
                  <a:pt x="127" y="405"/>
                  <a:pt x="147" y="409"/>
                  <a:pt x="163" y="401"/>
                </a:cubicBezTo>
                <a:cubicBezTo>
                  <a:pt x="180" y="394"/>
                  <a:pt x="189" y="378"/>
                  <a:pt x="192" y="361"/>
                </a:cubicBezTo>
                <a:cubicBezTo>
                  <a:pt x="194" y="348"/>
                  <a:pt x="190" y="335"/>
                  <a:pt x="183" y="324"/>
                </a:cubicBezTo>
                <a:cubicBezTo>
                  <a:pt x="174" y="312"/>
                  <a:pt x="159" y="306"/>
                  <a:pt x="144" y="305"/>
                </a:cubicBezTo>
                <a:close/>
                <a:moveTo>
                  <a:pt x="472" y="284"/>
                </a:moveTo>
                <a:cubicBezTo>
                  <a:pt x="454" y="224"/>
                  <a:pt x="412" y="174"/>
                  <a:pt x="358" y="143"/>
                </a:cubicBezTo>
                <a:cubicBezTo>
                  <a:pt x="298" y="108"/>
                  <a:pt x="221" y="105"/>
                  <a:pt x="156" y="129"/>
                </a:cubicBezTo>
                <a:cubicBezTo>
                  <a:pt x="123" y="142"/>
                  <a:pt x="93" y="163"/>
                  <a:pt x="68" y="189"/>
                </a:cubicBezTo>
                <a:cubicBezTo>
                  <a:pt x="68" y="136"/>
                  <a:pt x="68" y="82"/>
                  <a:pt x="68" y="29"/>
                </a:cubicBezTo>
                <a:cubicBezTo>
                  <a:pt x="68" y="19"/>
                  <a:pt x="62" y="9"/>
                  <a:pt x="52" y="5"/>
                </a:cubicBezTo>
                <a:cubicBezTo>
                  <a:pt x="41" y="0"/>
                  <a:pt x="27" y="0"/>
                  <a:pt x="16" y="5"/>
                </a:cubicBezTo>
                <a:cubicBezTo>
                  <a:pt x="7" y="9"/>
                  <a:pt x="1" y="19"/>
                  <a:pt x="1" y="29"/>
                </a:cubicBezTo>
                <a:cubicBezTo>
                  <a:pt x="0" y="83"/>
                  <a:pt x="2" y="137"/>
                  <a:pt x="1" y="191"/>
                </a:cubicBezTo>
                <a:cubicBezTo>
                  <a:pt x="1" y="250"/>
                  <a:pt x="2" y="308"/>
                  <a:pt x="2" y="366"/>
                </a:cubicBezTo>
                <a:cubicBezTo>
                  <a:pt x="3" y="399"/>
                  <a:pt x="11" y="432"/>
                  <a:pt x="24" y="462"/>
                </a:cubicBezTo>
                <a:cubicBezTo>
                  <a:pt x="49" y="514"/>
                  <a:pt x="92" y="557"/>
                  <a:pt x="145" y="581"/>
                </a:cubicBezTo>
                <a:cubicBezTo>
                  <a:pt x="189" y="599"/>
                  <a:pt x="238" y="607"/>
                  <a:pt x="286" y="597"/>
                </a:cubicBezTo>
                <a:cubicBezTo>
                  <a:pt x="343" y="587"/>
                  <a:pt x="397" y="554"/>
                  <a:pt x="432" y="508"/>
                </a:cubicBezTo>
                <a:cubicBezTo>
                  <a:pt x="466" y="465"/>
                  <a:pt x="483" y="409"/>
                  <a:pt x="483" y="355"/>
                </a:cubicBezTo>
                <a:cubicBezTo>
                  <a:pt x="483" y="331"/>
                  <a:pt x="479" y="307"/>
                  <a:pt x="472" y="284"/>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15" name="Freeform 309"/>
          <p:cNvSpPr/>
          <p:nvPr/>
        </p:nvSpPr>
        <p:spPr>
          <a:xfrm>
            <a:off x="7684920" y="5581800"/>
            <a:ext cx="142920" cy="144360"/>
          </a:xfrm>
          <a:custGeom>
            <a:avLst/>
            <a:gdLst/>
            <a:ahLst/>
            <a:rect l="l" t="t" r="r" b="b"/>
            <a:pathLst>
              <a:path w="537" h="537">
                <a:moveTo>
                  <a:pt x="510" y="510"/>
                </a:moveTo>
                <a:lnTo>
                  <a:pt x="296" y="510"/>
                </a:lnTo>
                <a:lnTo>
                  <a:pt x="296" y="296"/>
                </a:lnTo>
                <a:lnTo>
                  <a:pt x="510" y="296"/>
                </a:lnTo>
                <a:lnTo>
                  <a:pt x="510" y="510"/>
                </a:lnTo>
                <a:close/>
                <a:moveTo>
                  <a:pt x="27" y="27"/>
                </a:moveTo>
                <a:lnTo>
                  <a:pt x="241" y="27"/>
                </a:lnTo>
                <a:lnTo>
                  <a:pt x="241" y="241"/>
                </a:lnTo>
                <a:lnTo>
                  <a:pt x="27" y="241"/>
                </a:lnTo>
                <a:lnTo>
                  <a:pt x="27" y="27"/>
                </a:lnTo>
                <a:close/>
                <a:moveTo>
                  <a:pt x="269" y="0"/>
                </a:moveTo>
                <a:lnTo>
                  <a:pt x="269" y="0"/>
                </a:lnTo>
                <a:lnTo>
                  <a:pt x="0" y="0"/>
                </a:lnTo>
                <a:lnTo>
                  <a:pt x="0" y="269"/>
                </a:lnTo>
                <a:lnTo>
                  <a:pt x="0" y="269"/>
                </a:lnTo>
                <a:lnTo>
                  <a:pt x="0" y="537"/>
                </a:lnTo>
                <a:lnTo>
                  <a:pt x="269" y="537"/>
                </a:lnTo>
                <a:lnTo>
                  <a:pt x="537" y="537"/>
                </a:lnTo>
                <a:lnTo>
                  <a:pt x="537" y="269"/>
                </a:lnTo>
                <a:lnTo>
                  <a:pt x="537" y="0"/>
                </a:lnTo>
                <a:lnTo>
                  <a:pt x="269" y="0"/>
                </a:lnTo>
                <a:close/>
              </a:path>
            </a:pathLst>
          </a:custGeom>
          <a:solidFill>
            <a:srgbClr val="a6a6a6"/>
          </a:solidFill>
          <a:ln w="0">
            <a:noFill/>
          </a:ln>
        </p:spPr>
        <p:style>
          <a:lnRef idx="0"/>
          <a:fillRef idx="0"/>
          <a:effectRef idx="0"/>
          <a:fontRef idx="minor"/>
        </p:style>
        <p:txBody>
          <a:bodyPr lIns="145800" rIns="145800" tIns="71640" bIns="71640" anchor="t">
            <a:noAutofit/>
          </a:bodyPr>
          <a:p>
            <a:endParaRPr b="0" lang="en-US" sz="1800" spc="-1" strike="noStrike">
              <a:solidFill>
                <a:srgbClr val="000000"/>
              </a:solidFill>
              <a:latin typeface="Calibri"/>
            </a:endParaRPr>
          </a:p>
        </p:txBody>
      </p:sp>
      <p:sp>
        <p:nvSpPr>
          <p:cNvPr id="1916" name="Freeform 310"/>
          <p:cNvSpPr/>
          <p:nvPr/>
        </p:nvSpPr>
        <p:spPr>
          <a:xfrm>
            <a:off x="3589200" y="5613480"/>
            <a:ext cx="173160" cy="95040"/>
          </a:xfrm>
          <a:custGeom>
            <a:avLst/>
            <a:gdLst/>
            <a:ahLst/>
            <a:rect l="l" t="t" r="r" b="b"/>
            <a:pathLst>
              <a:path w="654" h="355">
                <a:moveTo>
                  <a:pt x="487" y="0"/>
                </a:moveTo>
                <a:cubicBezTo>
                  <a:pt x="423" y="0"/>
                  <a:pt x="367" y="38"/>
                  <a:pt x="339" y="94"/>
                </a:cubicBezTo>
                <a:lnTo>
                  <a:pt x="427" y="184"/>
                </a:lnTo>
                <a:cubicBezTo>
                  <a:pt x="427" y="182"/>
                  <a:pt x="426" y="180"/>
                  <a:pt x="426" y="178"/>
                </a:cubicBezTo>
                <a:cubicBezTo>
                  <a:pt x="426" y="143"/>
                  <a:pt x="453" y="115"/>
                  <a:pt x="486" y="115"/>
                </a:cubicBezTo>
                <a:cubicBezTo>
                  <a:pt x="519" y="115"/>
                  <a:pt x="546" y="143"/>
                  <a:pt x="546" y="178"/>
                </a:cubicBezTo>
                <a:cubicBezTo>
                  <a:pt x="546" y="213"/>
                  <a:pt x="519" y="241"/>
                  <a:pt x="486" y="241"/>
                </a:cubicBezTo>
                <a:cubicBezTo>
                  <a:pt x="472" y="241"/>
                  <a:pt x="458" y="236"/>
                  <a:pt x="448" y="227"/>
                </a:cubicBezTo>
                <a:lnTo>
                  <a:pt x="287" y="54"/>
                </a:lnTo>
                <a:cubicBezTo>
                  <a:pt x="256" y="21"/>
                  <a:pt x="214" y="0"/>
                  <a:pt x="167" y="0"/>
                </a:cubicBezTo>
                <a:cubicBezTo>
                  <a:pt x="75" y="0"/>
                  <a:pt x="0" y="80"/>
                  <a:pt x="0" y="178"/>
                </a:cubicBezTo>
                <a:cubicBezTo>
                  <a:pt x="0" y="276"/>
                  <a:pt x="75" y="355"/>
                  <a:pt x="167" y="355"/>
                </a:cubicBezTo>
                <a:cubicBezTo>
                  <a:pt x="231" y="355"/>
                  <a:pt x="286" y="318"/>
                  <a:pt x="314" y="262"/>
                </a:cubicBezTo>
                <a:lnTo>
                  <a:pt x="228" y="172"/>
                </a:lnTo>
                <a:cubicBezTo>
                  <a:pt x="228" y="174"/>
                  <a:pt x="228" y="176"/>
                  <a:pt x="228" y="179"/>
                </a:cubicBezTo>
                <a:cubicBezTo>
                  <a:pt x="228" y="213"/>
                  <a:pt x="201" y="242"/>
                  <a:pt x="168" y="242"/>
                </a:cubicBezTo>
                <a:cubicBezTo>
                  <a:pt x="135" y="242"/>
                  <a:pt x="109" y="213"/>
                  <a:pt x="109" y="179"/>
                </a:cubicBezTo>
                <a:cubicBezTo>
                  <a:pt x="109" y="144"/>
                  <a:pt x="135" y="115"/>
                  <a:pt x="168" y="115"/>
                </a:cubicBezTo>
                <a:cubicBezTo>
                  <a:pt x="183" y="115"/>
                  <a:pt x="197" y="121"/>
                  <a:pt x="207" y="131"/>
                </a:cubicBezTo>
                <a:lnTo>
                  <a:pt x="368" y="304"/>
                </a:lnTo>
                <a:cubicBezTo>
                  <a:pt x="399" y="336"/>
                  <a:pt x="440" y="355"/>
                  <a:pt x="487" y="355"/>
                </a:cubicBezTo>
                <a:cubicBezTo>
                  <a:pt x="579" y="355"/>
                  <a:pt x="654" y="276"/>
                  <a:pt x="654" y="178"/>
                </a:cubicBezTo>
                <a:cubicBezTo>
                  <a:pt x="654" y="80"/>
                  <a:pt x="579" y="0"/>
                  <a:pt x="487" y="0"/>
                </a:cubicBezTo>
                <a:close/>
              </a:path>
            </a:pathLst>
          </a:custGeom>
          <a:solidFill>
            <a:srgbClr val="a6a6a6"/>
          </a:solidFill>
          <a:ln w="0">
            <a:noFill/>
          </a:ln>
        </p:spPr>
        <p:style>
          <a:lnRef idx="0"/>
          <a:fillRef idx="0"/>
          <a:effectRef idx="0"/>
          <a:fontRef idx="minor"/>
        </p:style>
        <p:txBody>
          <a:bodyPr lIns="145800" rIns="145800" tIns="22320" bIns="22320" anchor="t">
            <a:noAutofit/>
          </a:bodyPr>
          <a:p>
            <a:endParaRPr b="0" lang="en-US" sz="1800" spc="-1" strike="noStrike">
              <a:solidFill>
                <a:srgbClr val="000000"/>
              </a:solidFill>
              <a:latin typeface="Calibri"/>
            </a:endParaRPr>
          </a:p>
        </p:txBody>
      </p:sp>
      <p:sp>
        <p:nvSpPr>
          <p:cNvPr id="1917" name="Freeform 311"/>
          <p:cNvSpPr/>
          <p:nvPr/>
        </p:nvSpPr>
        <p:spPr>
          <a:xfrm>
            <a:off x="7311960" y="5602320"/>
            <a:ext cx="152640" cy="114120"/>
          </a:xfrm>
          <a:custGeom>
            <a:avLst/>
            <a:gdLst/>
            <a:ahLst/>
            <a:rect l="l" t="t" r="r" b="b"/>
            <a:pathLst>
              <a:path w="567" h="430">
                <a:moveTo>
                  <a:pt x="555" y="260"/>
                </a:moveTo>
                <a:cubicBezTo>
                  <a:pt x="544" y="244"/>
                  <a:pt x="523" y="240"/>
                  <a:pt x="507" y="251"/>
                </a:cubicBezTo>
                <a:cubicBezTo>
                  <a:pt x="250" y="430"/>
                  <a:pt x="76" y="187"/>
                  <a:pt x="68" y="177"/>
                </a:cubicBezTo>
                <a:cubicBezTo>
                  <a:pt x="57" y="161"/>
                  <a:pt x="36" y="157"/>
                  <a:pt x="20" y="168"/>
                </a:cubicBezTo>
                <a:cubicBezTo>
                  <a:pt x="4" y="179"/>
                  <a:pt x="0" y="201"/>
                  <a:pt x="11" y="217"/>
                </a:cubicBezTo>
                <a:cubicBezTo>
                  <a:pt x="15" y="222"/>
                  <a:pt x="108" y="354"/>
                  <a:pt x="263" y="382"/>
                </a:cubicBezTo>
                <a:cubicBezTo>
                  <a:pt x="282" y="386"/>
                  <a:pt x="301" y="387"/>
                  <a:pt x="321" y="387"/>
                </a:cubicBezTo>
                <a:cubicBezTo>
                  <a:pt x="396" y="387"/>
                  <a:pt x="472" y="361"/>
                  <a:pt x="547" y="309"/>
                </a:cubicBezTo>
                <a:cubicBezTo>
                  <a:pt x="563" y="298"/>
                  <a:pt x="567" y="276"/>
                  <a:pt x="555" y="260"/>
                </a:cubicBezTo>
                <a:close/>
                <a:moveTo>
                  <a:pt x="193" y="111"/>
                </a:moveTo>
                <a:cubicBezTo>
                  <a:pt x="224" y="111"/>
                  <a:pt x="249" y="86"/>
                  <a:pt x="249" y="56"/>
                </a:cubicBezTo>
                <a:cubicBezTo>
                  <a:pt x="249" y="25"/>
                  <a:pt x="224" y="0"/>
                  <a:pt x="193" y="0"/>
                </a:cubicBezTo>
                <a:cubicBezTo>
                  <a:pt x="162" y="0"/>
                  <a:pt x="137" y="25"/>
                  <a:pt x="137" y="56"/>
                </a:cubicBezTo>
                <a:cubicBezTo>
                  <a:pt x="137" y="86"/>
                  <a:pt x="162" y="111"/>
                  <a:pt x="193" y="111"/>
                </a:cubicBezTo>
                <a:close/>
                <a:moveTo>
                  <a:pt x="406" y="150"/>
                </a:moveTo>
                <a:cubicBezTo>
                  <a:pt x="437" y="150"/>
                  <a:pt x="462" y="125"/>
                  <a:pt x="462" y="94"/>
                </a:cubicBezTo>
                <a:cubicBezTo>
                  <a:pt x="462" y="63"/>
                  <a:pt x="437" y="38"/>
                  <a:pt x="406" y="38"/>
                </a:cubicBezTo>
                <a:cubicBezTo>
                  <a:pt x="375" y="38"/>
                  <a:pt x="350" y="63"/>
                  <a:pt x="350" y="94"/>
                </a:cubicBezTo>
                <a:cubicBezTo>
                  <a:pt x="350" y="125"/>
                  <a:pt x="375" y="150"/>
                  <a:pt x="406" y="150"/>
                </a:cubicBezTo>
                <a:close/>
              </a:path>
            </a:pathLst>
          </a:custGeom>
          <a:solidFill>
            <a:srgbClr val="a6a6a6"/>
          </a:solidFill>
          <a:ln w="0">
            <a:noFill/>
          </a:ln>
        </p:spPr>
        <p:style>
          <a:lnRef idx="0"/>
          <a:fillRef idx="0"/>
          <a:effectRef idx="0"/>
          <a:fontRef idx="minor"/>
        </p:style>
        <p:txBody>
          <a:bodyPr lIns="145800" rIns="145800" tIns="41400" bIns="41400" anchor="t">
            <a:noAutofit/>
          </a:bodyPr>
          <a:p>
            <a:endParaRPr b="0" lang="en-US" sz="1800" spc="-1" strike="noStrike">
              <a:solidFill>
                <a:srgbClr val="000000"/>
              </a:solidFill>
              <a:latin typeface="Calibri"/>
            </a:endParaRPr>
          </a:p>
        </p:txBody>
      </p:sp>
      <p:sp>
        <p:nvSpPr>
          <p:cNvPr id="1918" name="Freeform 312"/>
          <p:cNvSpPr/>
          <p:nvPr/>
        </p:nvSpPr>
        <p:spPr>
          <a:xfrm>
            <a:off x="5533920" y="5607000"/>
            <a:ext cx="177840" cy="111240"/>
          </a:xfrm>
          <a:custGeom>
            <a:avLst/>
            <a:gdLst/>
            <a:ahLst/>
            <a:rect l="l" t="t" r="r" b="b"/>
            <a:pathLst>
              <a:path w="664" h="415">
                <a:moveTo>
                  <a:pt x="202" y="328"/>
                </a:moveTo>
                <a:lnTo>
                  <a:pt x="91" y="328"/>
                </a:lnTo>
                <a:lnTo>
                  <a:pt x="91" y="222"/>
                </a:lnTo>
                <a:lnTo>
                  <a:pt x="207" y="222"/>
                </a:lnTo>
                <a:cubicBezTo>
                  <a:pt x="207" y="222"/>
                  <a:pt x="250" y="221"/>
                  <a:pt x="250" y="276"/>
                </a:cubicBezTo>
                <a:cubicBezTo>
                  <a:pt x="250" y="322"/>
                  <a:pt x="219" y="328"/>
                  <a:pt x="202" y="328"/>
                </a:cubicBezTo>
                <a:close/>
                <a:moveTo>
                  <a:pt x="565" y="222"/>
                </a:moveTo>
                <a:lnTo>
                  <a:pt x="434" y="222"/>
                </a:lnTo>
                <a:cubicBezTo>
                  <a:pt x="434" y="222"/>
                  <a:pt x="443" y="160"/>
                  <a:pt x="505" y="160"/>
                </a:cubicBezTo>
                <a:cubicBezTo>
                  <a:pt x="566" y="160"/>
                  <a:pt x="565" y="222"/>
                  <a:pt x="565" y="222"/>
                </a:cubicBezTo>
                <a:close/>
                <a:moveTo>
                  <a:pt x="503" y="102"/>
                </a:moveTo>
                <a:cubicBezTo>
                  <a:pt x="350" y="102"/>
                  <a:pt x="350" y="255"/>
                  <a:pt x="350" y="255"/>
                </a:cubicBezTo>
                <a:cubicBezTo>
                  <a:pt x="350" y="255"/>
                  <a:pt x="339" y="407"/>
                  <a:pt x="503" y="407"/>
                </a:cubicBezTo>
                <a:cubicBezTo>
                  <a:pt x="503" y="407"/>
                  <a:pt x="640" y="415"/>
                  <a:pt x="640" y="301"/>
                </a:cubicBezTo>
                <a:lnTo>
                  <a:pt x="569" y="301"/>
                </a:lnTo>
                <a:cubicBezTo>
                  <a:pt x="569" y="301"/>
                  <a:pt x="572" y="344"/>
                  <a:pt x="505" y="344"/>
                </a:cubicBezTo>
                <a:cubicBezTo>
                  <a:pt x="505" y="344"/>
                  <a:pt x="435" y="349"/>
                  <a:pt x="435" y="275"/>
                </a:cubicBezTo>
                <a:lnTo>
                  <a:pt x="642" y="275"/>
                </a:lnTo>
                <a:cubicBezTo>
                  <a:pt x="642" y="275"/>
                  <a:pt x="664" y="102"/>
                  <a:pt x="503" y="102"/>
                </a:cubicBezTo>
                <a:close/>
                <a:moveTo>
                  <a:pt x="582" y="24"/>
                </a:moveTo>
                <a:lnTo>
                  <a:pt x="417" y="24"/>
                </a:lnTo>
                <a:lnTo>
                  <a:pt x="417" y="73"/>
                </a:lnTo>
                <a:lnTo>
                  <a:pt x="582" y="73"/>
                </a:lnTo>
                <a:lnTo>
                  <a:pt x="582" y="24"/>
                </a:lnTo>
                <a:close/>
                <a:moveTo>
                  <a:pt x="91" y="71"/>
                </a:moveTo>
                <a:lnTo>
                  <a:pt x="193" y="71"/>
                </a:lnTo>
                <a:lnTo>
                  <a:pt x="207" y="71"/>
                </a:lnTo>
                <a:cubicBezTo>
                  <a:pt x="207" y="71"/>
                  <a:pt x="236" y="71"/>
                  <a:pt x="236" y="113"/>
                </a:cubicBezTo>
                <a:cubicBezTo>
                  <a:pt x="236" y="154"/>
                  <a:pt x="219" y="160"/>
                  <a:pt x="200" y="160"/>
                </a:cubicBezTo>
                <a:lnTo>
                  <a:pt x="91" y="160"/>
                </a:lnTo>
                <a:lnTo>
                  <a:pt x="91" y="71"/>
                </a:lnTo>
                <a:close/>
                <a:moveTo>
                  <a:pt x="259" y="182"/>
                </a:moveTo>
                <a:cubicBezTo>
                  <a:pt x="259" y="182"/>
                  <a:pt x="320" y="178"/>
                  <a:pt x="320" y="106"/>
                </a:cubicBezTo>
                <a:cubicBezTo>
                  <a:pt x="320" y="35"/>
                  <a:pt x="271" y="0"/>
                  <a:pt x="207" y="0"/>
                </a:cubicBezTo>
                <a:lnTo>
                  <a:pt x="91" y="0"/>
                </a:lnTo>
                <a:lnTo>
                  <a:pt x="88" y="0"/>
                </a:lnTo>
                <a:lnTo>
                  <a:pt x="0" y="0"/>
                </a:lnTo>
                <a:lnTo>
                  <a:pt x="0" y="399"/>
                </a:lnTo>
                <a:lnTo>
                  <a:pt x="88" y="399"/>
                </a:lnTo>
                <a:lnTo>
                  <a:pt x="91" y="399"/>
                </a:lnTo>
                <a:lnTo>
                  <a:pt x="207" y="399"/>
                </a:lnTo>
                <a:cubicBezTo>
                  <a:pt x="207" y="399"/>
                  <a:pt x="334" y="403"/>
                  <a:pt x="334" y="281"/>
                </a:cubicBezTo>
                <a:cubicBezTo>
                  <a:pt x="334" y="281"/>
                  <a:pt x="340" y="182"/>
                  <a:pt x="259" y="182"/>
                </a:cubicBezTo>
                <a:close/>
              </a:path>
            </a:pathLst>
          </a:custGeom>
          <a:solidFill>
            <a:srgbClr val="a6a6a6"/>
          </a:solidFill>
          <a:ln w="0">
            <a:noFill/>
          </a:ln>
        </p:spPr>
        <p:style>
          <a:lnRef idx="0"/>
          <a:fillRef idx="0"/>
          <a:effectRef idx="0"/>
          <a:fontRef idx="minor"/>
        </p:style>
        <p:txBody>
          <a:bodyPr lIns="145800" rIns="145800" tIns="38520" bIns="38520" anchor="t">
            <a:noAutofit/>
          </a:bodyPr>
          <a:p>
            <a:endParaRPr b="0" lang="en-US" sz="1800" spc="-1" strike="noStrike">
              <a:solidFill>
                <a:srgbClr val="000000"/>
              </a:solidFill>
              <a:latin typeface="Calibri"/>
            </a:endParaRPr>
          </a:p>
        </p:txBody>
      </p:sp>
      <p:sp>
        <p:nvSpPr>
          <p:cNvPr id="1919" name="Freeform 313"/>
          <p:cNvSpPr/>
          <p:nvPr/>
        </p:nvSpPr>
        <p:spPr>
          <a:xfrm>
            <a:off x="8013600" y="5572080"/>
            <a:ext cx="163440" cy="163440"/>
          </a:xfrm>
          <a:custGeom>
            <a:avLst/>
            <a:gdLst/>
            <a:ahLst/>
            <a:rect l="l" t="t" r="r" b="b"/>
            <a:pathLst>
              <a:path w="609" h="609">
                <a:moveTo>
                  <a:pt x="442" y="541"/>
                </a:moveTo>
                <a:lnTo>
                  <a:pt x="526" y="299"/>
                </a:lnTo>
                <a:cubicBezTo>
                  <a:pt x="541" y="260"/>
                  <a:pt x="546" y="229"/>
                  <a:pt x="546" y="201"/>
                </a:cubicBezTo>
                <a:cubicBezTo>
                  <a:pt x="546" y="191"/>
                  <a:pt x="546" y="182"/>
                  <a:pt x="545" y="173"/>
                </a:cubicBezTo>
                <a:cubicBezTo>
                  <a:pt x="566" y="212"/>
                  <a:pt x="578" y="257"/>
                  <a:pt x="578" y="305"/>
                </a:cubicBezTo>
                <a:cubicBezTo>
                  <a:pt x="578" y="405"/>
                  <a:pt x="523" y="494"/>
                  <a:pt x="442" y="541"/>
                </a:cubicBezTo>
                <a:close/>
                <a:moveTo>
                  <a:pt x="342" y="176"/>
                </a:moveTo>
                <a:cubicBezTo>
                  <a:pt x="359" y="175"/>
                  <a:pt x="374" y="174"/>
                  <a:pt x="374" y="174"/>
                </a:cubicBezTo>
                <a:cubicBezTo>
                  <a:pt x="388" y="172"/>
                  <a:pt x="387" y="150"/>
                  <a:pt x="372" y="151"/>
                </a:cubicBezTo>
                <a:cubicBezTo>
                  <a:pt x="372" y="151"/>
                  <a:pt x="328" y="155"/>
                  <a:pt x="299" y="155"/>
                </a:cubicBezTo>
                <a:cubicBezTo>
                  <a:pt x="272" y="155"/>
                  <a:pt x="227" y="151"/>
                  <a:pt x="227" y="151"/>
                </a:cubicBezTo>
                <a:cubicBezTo>
                  <a:pt x="212" y="150"/>
                  <a:pt x="210" y="173"/>
                  <a:pt x="225" y="174"/>
                </a:cubicBezTo>
                <a:cubicBezTo>
                  <a:pt x="225" y="174"/>
                  <a:pt x="239" y="175"/>
                  <a:pt x="254" y="176"/>
                </a:cubicBezTo>
                <a:lnTo>
                  <a:pt x="296" y="293"/>
                </a:lnTo>
                <a:lnTo>
                  <a:pt x="237" y="473"/>
                </a:lnTo>
                <a:lnTo>
                  <a:pt x="137" y="176"/>
                </a:lnTo>
                <a:cubicBezTo>
                  <a:pt x="153" y="175"/>
                  <a:pt x="168" y="174"/>
                  <a:pt x="168" y="174"/>
                </a:cubicBezTo>
                <a:cubicBezTo>
                  <a:pt x="183" y="172"/>
                  <a:pt x="181" y="150"/>
                  <a:pt x="166" y="151"/>
                </a:cubicBezTo>
                <a:cubicBezTo>
                  <a:pt x="166" y="151"/>
                  <a:pt x="122" y="155"/>
                  <a:pt x="94" y="155"/>
                </a:cubicBezTo>
                <a:cubicBezTo>
                  <a:pt x="88" y="155"/>
                  <a:pt x="82" y="154"/>
                  <a:pt x="76" y="154"/>
                </a:cubicBezTo>
                <a:cubicBezTo>
                  <a:pt x="125" y="80"/>
                  <a:pt x="209" y="31"/>
                  <a:pt x="305" y="31"/>
                </a:cubicBezTo>
                <a:cubicBezTo>
                  <a:pt x="376" y="31"/>
                  <a:pt x="441" y="58"/>
                  <a:pt x="489" y="103"/>
                </a:cubicBezTo>
                <a:lnTo>
                  <a:pt x="486" y="102"/>
                </a:lnTo>
                <a:cubicBezTo>
                  <a:pt x="459" y="102"/>
                  <a:pt x="440" y="126"/>
                  <a:pt x="440" y="151"/>
                </a:cubicBezTo>
                <a:cubicBezTo>
                  <a:pt x="440" y="174"/>
                  <a:pt x="453" y="193"/>
                  <a:pt x="467" y="215"/>
                </a:cubicBezTo>
                <a:cubicBezTo>
                  <a:pt x="477" y="233"/>
                  <a:pt x="489" y="257"/>
                  <a:pt x="489" y="291"/>
                </a:cubicBezTo>
                <a:cubicBezTo>
                  <a:pt x="489" y="314"/>
                  <a:pt x="480" y="341"/>
                  <a:pt x="468" y="379"/>
                </a:cubicBezTo>
                <a:lnTo>
                  <a:pt x="441" y="470"/>
                </a:lnTo>
                <a:lnTo>
                  <a:pt x="342" y="176"/>
                </a:lnTo>
                <a:close/>
                <a:moveTo>
                  <a:pt x="305" y="578"/>
                </a:moveTo>
                <a:cubicBezTo>
                  <a:pt x="278" y="578"/>
                  <a:pt x="252" y="574"/>
                  <a:pt x="227" y="567"/>
                </a:cubicBezTo>
                <a:lnTo>
                  <a:pt x="309" y="328"/>
                </a:lnTo>
                <a:lnTo>
                  <a:pt x="393" y="559"/>
                </a:lnTo>
                <a:lnTo>
                  <a:pt x="395" y="563"/>
                </a:lnTo>
                <a:cubicBezTo>
                  <a:pt x="367" y="573"/>
                  <a:pt x="336" y="578"/>
                  <a:pt x="305" y="578"/>
                </a:cubicBezTo>
                <a:close/>
                <a:moveTo>
                  <a:pt x="31" y="304"/>
                </a:moveTo>
                <a:cubicBezTo>
                  <a:pt x="31" y="265"/>
                  <a:pt x="39" y="227"/>
                  <a:pt x="55" y="193"/>
                </a:cubicBezTo>
                <a:lnTo>
                  <a:pt x="185" y="551"/>
                </a:lnTo>
                <a:cubicBezTo>
                  <a:pt x="94" y="506"/>
                  <a:pt x="31" y="413"/>
                  <a:pt x="31" y="304"/>
                </a:cubicBezTo>
                <a:close/>
                <a:moveTo>
                  <a:pt x="305" y="0"/>
                </a:moveTo>
                <a:cubicBezTo>
                  <a:pt x="137" y="0"/>
                  <a:pt x="0" y="137"/>
                  <a:pt x="0" y="304"/>
                </a:cubicBezTo>
                <a:cubicBezTo>
                  <a:pt x="0" y="472"/>
                  <a:pt x="137" y="609"/>
                  <a:pt x="305" y="609"/>
                </a:cubicBezTo>
                <a:cubicBezTo>
                  <a:pt x="472" y="609"/>
                  <a:pt x="609" y="472"/>
                  <a:pt x="609" y="304"/>
                </a:cubicBezTo>
                <a:cubicBezTo>
                  <a:pt x="609" y="137"/>
                  <a:pt x="472" y="0"/>
                  <a:pt x="305"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20" name="Freeform 314"/>
          <p:cNvSpPr/>
          <p:nvPr/>
        </p:nvSpPr>
        <p:spPr>
          <a:xfrm>
            <a:off x="4565520" y="5584680"/>
            <a:ext cx="150840" cy="154080"/>
          </a:xfrm>
          <a:custGeom>
            <a:avLst/>
            <a:gdLst/>
            <a:ahLst/>
            <a:rect l="l" t="t" r="r" b="b"/>
            <a:pathLst>
              <a:path w="567" h="573">
                <a:moveTo>
                  <a:pt x="398" y="441"/>
                </a:moveTo>
                <a:lnTo>
                  <a:pt x="167" y="441"/>
                </a:lnTo>
                <a:cubicBezTo>
                  <a:pt x="140" y="441"/>
                  <a:pt x="118" y="419"/>
                  <a:pt x="118" y="392"/>
                </a:cubicBezTo>
                <a:cubicBezTo>
                  <a:pt x="118" y="364"/>
                  <a:pt x="140" y="342"/>
                  <a:pt x="167" y="342"/>
                </a:cubicBezTo>
                <a:lnTo>
                  <a:pt x="398" y="342"/>
                </a:lnTo>
                <a:cubicBezTo>
                  <a:pt x="426" y="342"/>
                  <a:pt x="448" y="364"/>
                  <a:pt x="448" y="392"/>
                </a:cubicBezTo>
                <a:cubicBezTo>
                  <a:pt x="448" y="419"/>
                  <a:pt x="426" y="441"/>
                  <a:pt x="398" y="441"/>
                </a:cubicBezTo>
                <a:close/>
                <a:moveTo>
                  <a:pt x="181" y="117"/>
                </a:moveTo>
                <a:lnTo>
                  <a:pt x="297" y="116"/>
                </a:lnTo>
                <a:cubicBezTo>
                  <a:pt x="324" y="117"/>
                  <a:pt x="346" y="141"/>
                  <a:pt x="345" y="168"/>
                </a:cubicBezTo>
                <a:cubicBezTo>
                  <a:pt x="345" y="195"/>
                  <a:pt x="323" y="215"/>
                  <a:pt x="296" y="215"/>
                </a:cubicBezTo>
                <a:lnTo>
                  <a:pt x="180" y="215"/>
                </a:lnTo>
                <a:cubicBezTo>
                  <a:pt x="153" y="215"/>
                  <a:pt x="131" y="192"/>
                  <a:pt x="131" y="165"/>
                </a:cubicBezTo>
                <a:cubicBezTo>
                  <a:pt x="132" y="138"/>
                  <a:pt x="154" y="116"/>
                  <a:pt x="181" y="117"/>
                </a:cubicBezTo>
                <a:close/>
                <a:moveTo>
                  <a:pt x="567" y="358"/>
                </a:moveTo>
                <a:cubicBezTo>
                  <a:pt x="566" y="315"/>
                  <a:pt x="566" y="284"/>
                  <a:pt x="545" y="257"/>
                </a:cubicBezTo>
                <a:cubicBezTo>
                  <a:pt x="522" y="227"/>
                  <a:pt x="485" y="222"/>
                  <a:pt x="455" y="221"/>
                </a:cubicBezTo>
                <a:cubicBezTo>
                  <a:pt x="460" y="199"/>
                  <a:pt x="462" y="175"/>
                  <a:pt x="459" y="150"/>
                </a:cubicBezTo>
                <a:cubicBezTo>
                  <a:pt x="459" y="64"/>
                  <a:pt x="395" y="3"/>
                  <a:pt x="307" y="0"/>
                </a:cubicBezTo>
                <a:lnTo>
                  <a:pt x="306" y="0"/>
                </a:lnTo>
                <a:lnTo>
                  <a:pt x="170" y="0"/>
                </a:lnTo>
                <a:lnTo>
                  <a:pt x="169" y="0"/>
                </a:lnTo>
                <a:cubicBezTo>
                  <a:pt x="116" y="0"/>
                  <a:pt x="75" y="16"/>
                  <a:pt x="46" y="47"/>
                </a:cubicBezTo>
                <a:cubicBezTo>
                  <a:pt x="27" y="66"/>
                  <a:pt x="3" y="100"/>
                  <a:pt x="1" y="154"/>
                </a:cubicBezTo>
                <a:lnTo>
                  <a:pt x="1" y="372"/>
                </a:lnTo>
                <a:cubicBezTo>
                  <a:pt x="0" y="376"/>
                  <a:pt x="1" y="380"/>
                  <a:pt x="1" y="384"/>
                </a:cubicBezTo>
                <a:cubicBezTo>
                  <a:pt x="1" y="446"/>
                  <a:pt x="11" y="491"/>
                  <a:pt x="42" y="524"/>
                </a:cubicBezTo>
                <a:cubicBezTo>
                  <a:pt x="73" y="557"/>
                  <a:pt x="118" y="573"/>
                  <a:pt x="178" y="573"/>
                </a:cubicBezTo>
                <a:lnTo>
                  <a:pt x="181" y="573"/>
                </a:lnTo>
                <a:lnTo>
                  <a:pt x="388" y="573"/>
                </a:lnTo>
                <a:lnTo>
                  <a:pt x="388" y="573"/>
                </a:lnTo>
                <a:cubicBezTo>
                  <a:pt x="441" y="573"/>
                  <a:pt x="486" y="555"/>
                  <a:pt x="518" y="523"/>
                </a:cubicBezTo>
                <a:cubicBezTo>
                  <a:pt x="549" y="490"/>
                  <a:pt x="566" y="444"/>
                  <a:pt x="567" y="389"/>
                </a:cubicBezTo>
                <a:cubicBezTo>
                  <a:pt x="567" y="389"/>
                  <a:pt x="567" y="367"/>
                  <a:pt x="567" y="358"/>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21" name="Freeform 315"/>
          <p:cNvSpPr/>
          <p:nvPr/>
        </p:nvSpPr>
        <p:spPr>
          <a:xfrm>
            <a:off x="8721720" y="5578560"/>
            <a:ext cx="150840" cy="149040"/>
          </a:xfrm>
          <a:custGeom>
            <a:avLst/>
            <a:gdLst/>
            <a:ahLst/>
            <a:rect l="l" t="t" r="r" b="b"/>
            <a:pathLst>
              <a:path w="566" h="565">
                <a:moveTo>
                  <a:pt x="68" y="0"/>
                </a:moveTo>
                <a:cubicBezTo>
                  <a:pt x="30" y="0"/>
                  <a:pt x="0" y="30"/>
                  <a:pt x="0" y="68"/>
                </a:cubicBezTo>
                <a:cubicBezTo>
                  <a:pt x="0" y="105"/>
                  <a:pt x="30" y="136"/>
                  <a:pt x="68" y="136"/>
                </a:cubicBezTo>
                <a:cubicBezTo>
                  <a:pt x="105" y="136"/>
                  <a:pt x="136" y="105"/>
                  <a:pt x="136" y="68"/>
                </a:cubicBezTo>
                <a:cubicBezTo>
                  <a:pt x="136" y="30"/>
                  <a:pt x="105" y="0"/>
                  <a:pt x="68" y="0"/>
                </a:cubicBezTo>
                <a:close/>
                <a:moveTo>
                  <a:pt x="425" y="178"/>
                </a:moveTo>
                <a:cubicBezTo>
                  <a:pt x="368" y="178"/>
                  <a:pt x="330" y="209"/>
                  <a:pt x="314" y="239"/>
                </a:cubicBezTo>
                <a:lnTo>
                  <a:pt x="313" y="239"/>
                </a:lnTo>
                <a:lnTo>
                  <a:pt x="313" y="188"/>
                </a:lnTo>
                <a:lnTo>
                  <a:pt x="200" y="188"/>
                </a:lnTo>
                <a:lnTo>
                  <a:pt x="200" y="565"/>
                </a:lnTo>
                <a:lnTo>
                  <a:pt x="317" y="565"/>
                </a:lnTo>
                <a:lnTo>
                  <a:pt x="317" y="378"/>
                </a:lnTo>
                <a:cubicBezTo>
                  <a:pt x="317" y="329"/>
                  <a:pt x="327" y="281"/>
                  <a:pt x="388" y="281"/>
                </a:cubicBezTo>
                <a:cubicBezTo>
                  <a:pt x="448" y="281"/>
                  <a:pt x="449" y="338"/>
                  <a:pt x="449" y="382"/>
                </a:cubicBezTo>
                <a:lnTo>
                  <a:pt x="449" y="565"/>
                </a:lnTo>
                <a:lnTo>
                  <a:pt x="566" y="565"/>
                </a:lnTo>
                <a:lnTo>
                  <a:pt x="566" y="358"/>
                </a:lnTo>
                <a:cubicBezTo>
                  <a:pt x="566" y="256"/>
                  <a:pt x="544" y="178"/>
                  <a:pt x="425" y="178"/>
                </a:cubicBezTo>
                <a:close/>
                <a:moveTo>
                  <a:pt x="9" y="565"/>
                </a:moveTo>
                <a:lnTo>
                  <a:pt x="126" y="565"/>
                </a:lnTo>
                <a:lnTo>
                  <a:pt x="126" y="188"/>
                </a:lnTo>
                <a:lnTo>
                  <a:pt x="9" y="188"/>
                </a:lnTo>
                <a:lnTo>
                  <a:pt x="9" y="565"/>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22" name="Freeform 316"/>
          <p:cNvSpPr/>
          <p:nvPr/>
        </p:nvSpPr>
        <p:spPr>
          <a:xfrm>
            <a:off x="4896000" y="5576760"/>
            <a:ext cx="144360" cy="169920"/>
          </a:xfrm>
          <a:custGeom>
            <a:avLst/>
            <a:gdLst/>
            <a:ahLst/>
            <a:rect l="l" t="t" r="r" b="b"/>
            <a:pathLst>
              <a:path w="534" h="632">
                <a:moveTo>
                  <a:pt x="494" y="473"/>
                </a:moveTo>
                <a:lnTo>
                  <a:pt x="430" y="473"/>
                </a:lnTo>
                <a:lnTo>
                  <a:pt x="430" y="505"/>
                </a:lnTo>
                <a:cubicBezTo>
                  <a:pt x="430" y="521"/>
                  <a:pt x="435" y="530"/>
                  <a:pt x="446" y="530"/>
                </a:cubicBezTo>
                <a:cubicBezTo>
                  <a:pt x="454" y="530"/>
                  <a:pt x="459" y="525"/>
                  <a:pt x="461" y="517"/>
                </a:cubicBezTo>
                <a:cubicBezTo>
                  <a:pt x="461" y="515"/>
                  <a:pt x="461" y="508"/>
                  <a:pt x="461" y="495"/>
                </a:cubicBezTo>
                <a:lnTo>
                  <a:pt x="494" y="495"/>
                </a:lnTo>
                <a:lnTo>
                  <a:pt x="494" y="500"/>
                </a:lnTo>
                <a:cubicBezTo>
                  <a:pt x="494" y="510"/>
                  <a:pt x="494" y="517"/>
                  <a:pt x="493" y="520"/>
                </a:cubicBezTo>
                <a:cubicBezTo>
                  <a:pt x="492" y="527"/>
                  <a:pt x="490" y="534"/>
                  <a:pt x="486" y="540"/>
                </a:cubicBezTo>
                <a:cubicBezTo>
                  <a:pt x="477" y="553"/>
                  <a:pt x="464" y="559"/>
                  <a:pt x="447" y="559"/>
                </a:cubicBezTo>
                <a:cubicBezTo>
                  <a:pt x="430" y="559"/>
                  <a:pt x="417" y="553"/>
                  <a:pt x="408" y="541"/>
                </a:cubicBezTo>
                <a:cubicBezTo>
                  <a:pt x="401" y="532"/>
                  <a:pt x="398" y="518"/>
                  <a:pt x="398" y="499"/>
                </a:cubicBezTo>
                <a:lnTo>
                  <a:pt x="398" y="436"/>
                </a:lnTo>
                <a:cubicBezTo>
                  <a:pt x="398" y="417"/>
                  <a:pt x="401" y="404"/>
                  <a:pt x="407" y="395"/>
                </a:cubicBezTo>
                <a:cubicBezTo>
                  <a:pt x="417" y="382"/>
                  <a:pt x="430" y="376"/>
                  <a:pt x="446" y="376"/>
                </a:cubicBezTo>
                <a:cubicBezTo>
                  <a:pt x="462" y="376"/>
                  <a:pt x="475" y="382"/>
                  <a:pt x="484" y="395"/>
                </a:cubicBezTo>
                <a:cubicBezTo>
                  <a:pt x="491" y="404"/>
                  <a:pt x="494" y="417"/>
                  <a:pt x="494" y="436"/>
                </a:cubicBezTo>
                <a:lnTo>
                  <a:pt x="494" y="473"/>
                </a:lnTo>
                <a:close/>
                <a:moveTo>
                  <a:pt x="230" y="113"/>
                </a:moveTo>
                <a:cubicBezTo>
                  <a:pt x="230" y="97"/>
                  <a:pt x="235" y="88"/>
                  <a:pt x="245" y="88"/>
                </a:cubicBezTo>
                <a:cubicBezTo>
                  <a:pt x="256" y="88"/>
                  <a:pt x="261" y="97"/>
                  <a:pt x="261" y="113"/>
                </a:cubicBezTo>
                <a:lnTo>
                  <a:pt x="261" y="189"/>
                </a:lnTo>
                <a:cubicBezTo>
                  <a:pt x="261" y="206"/>
                  <a:pt x="256" y="214"/>
                  <a:pt x="245" y="214"/>
                </a:cubicBezTo>
                <a:cubicBezTo>
                  <a:pt x="235" y="214"/>
                  <a:pt x="230" y="206"/>
                  <a:pt x="230" y="189"/>
                </a:cubicBezTo>
                <a:lnTo>
                  <a:pt x="230" y="113"/>
                </a:lnTo>
                <a:close/>
                <a:moveTo>
                  <a:pt x="245" y="244"/>
                </a:moveTo>
                <a:cubicBezTo>
                  <a:pt x="262" y="244"/>
                  <a:pt x="274" y="237"/>
                  <a:pt x="283" y="225"/>
                </a:cubicBezTo>
                <a:cubicBezTo>
                  <a:pt x="290" y="216"/>
                  <a:pt x="293" y="202"/>
                  <a:pt x="293" y="183"/>
                </a:cubicBezTo>
                <a:lnTo>
                  <a:pt x="293" y="120"/>
                </a:lnTo>
                <a:cubicBezTo>
                  <a:pt x="293" y="101"/>
                  <a:pt x="290" y="87"/>
                  <a:pt x="283" y="77"/>
                </a:cubicBezTo>
                <a:cubicBezTo>
                  <a:pt x="274" y="65"/>
                  <a:pt x="262" y="59"/>
                  <a:pt x="245" y="59"/>
                </a:cubicBezTo>
                <a:cubicBezTo>
                  <a:pt x="229" y="59"/>
                  <a:pt x="216" y="65"/>
                  <a:pt x="207" y="77"/>
                </a:cubicBezTo>
                <a:cubicBezTo>
                  <a:pt x="200" y="87"/>
                  <a:pt x="197" y="101"/>
                  <a:pt x="197" y="120"/>
                </a:cubicBezTo>
                <a:lnTo>
                  <a:pt x="197" y="183"/>
                </a:lnTo>
                <a:cubicBezTo>
                  <a:pt x="197" y="202"/>
                  <a:pt x="200" y="216"/>
                  <a:pt x="207" y="225"/>
                </a:cubicBezTo>
                <a:cubicBezTo>
                  <a:pt x="216" y="237"/>
                  <a:pt x="229" y="244"/>
                  <a:pt x="245" y="244"/>
                </a:cubicBezTo>
                <a:close/>
                <a:moveTo>
                  <a:pt x="117" y="143"/>
                </a:moveTo>
                <a:lnTo>
                  <a:pt x="117" y="241"/>
                </a:lnTo>
                <a:lnTo>
                  <a:pt x="153" y="241"/>
                </a:lnTo>
                <a:lnTo>
                  <a:pt x="153" y="143"/>
                </a:lnTo>
                <a:lnTo>
                  <a:pt x="197" y="0"/>
                </a:lnTo>
                <a:lnTo>
                  <a:pt x="160" y="0"/>
                </a:lnTo>
                <a:lnTo>
                  <a:pt x="136" y="94"/>
                </a:lnTo>
                <a:lnTo>
                  <a:pt x="110" y="0"/>
                </a:lnTo>
                <a:lnTo>
                  <a:pt x="72" y="0"/>
                </a:lnTo>
                <a:cubicBezTo>
                  <a:pt x="79" y="22"/>
                  <a:pt x="87" y="45"/>
                  <a:pt x="95" y="67"/>
                </a:cubicBezTo>
                <a:cubicBezTo>
                  <a:pt x="107" y="101"/>
                  <a:pt x="114" y="126"/>
                  <a:pt x="117" y="143"/>
                </a:cubicBezTo>
                <a:close/>
                <a:moveTo>
                  <a:pt x="344" y="244"/>
                </a:moveTo>
                <a:cubicBezTo>
                  <a:pt x="356" y="244"/>
                  <a:pt x="368" y="236"/>
                  <a:pt x="381" y="221"/>
                </a:cubicBezTo>
                <a:lnTo>
                  <a:pt x="381" y="241"/>
                </a:lnTo>
                <a:lnTo>
                  <a:pt x="414" y="241"/>
                </a:lnTo>
                <a:lnTo>
                  <a:pt x="414" y="61"/>
                </a:lnTo>
                <a:lnTo>
                  <a:pt x="381" y="61"/>
                </a:lnTo>
                <a:lnTo>
                  <a:pt x="381" y="199"/>
                </a:lnTo>
                <a:cubicBezTo>
                  <a:pt x="374" y="209"/>
                  <a:pt x="367" y="214"/>
                  <a:pt x="361" y="214"/>
                </a:cubicBezTo>
                <a:cubicBezTo>
                  <a:pt x="356" y="214"/>
                  <a:pt x="354" y="211"/>
                  <a:pt x="353" y="206"/>
                </a:cubicBezTo>
                <a:cubicBezTo>
                  <a:pt x="353" y="205"/>
                  <a:pt x="353" y="201"/>
                  <a:pt x="353" y="194"/>
                </a:cubicBezTo>
                <a:lnTo>
                  <a:pt x="353" y="61"/>
                </a:lnTo>
                <a:lnTo>
                  <a:pt x="320" y="61"/>
                </a:lnTo>
                <a:lnTo>
                  <a:pt x="320" y="203"/>
                </a:lnTo>
                <a:cubicBezTo>
                  <a:pt x="320" y="216"/>
                  <a:pt x="321" y="225"/>
                  <a:pt x="323" y="230"/>
                </a:cubicBezTo>
                <a:cubicBezTo>
                  <a:pt x="326" y="239"/>
                  <a:pt x="334" y="244"/>
                  <a:pt x="344" y="244"/>
                </a:cubicBezTo>
                <a:close/>
                <a:moveTo>
                  <a:pt x="326" y="405"/>
                </a:moveTo>
                <a:cubicBezTo>
                  <a:pt x="321" y="405"/>
                  <a:pt x="315" y="408"/>
                  <a:pt x="310" y="413"/>
                </a:cubicBezTo>
                <a:lnTo>
                  <a:pt x="310" y="522"/>
                </a:lnTo>
                <a:cubicBezTo>
                  <a:pt x="315" y="527"/>
                  <a:pt x="321" y="530"/>
                  <a:pt x="326" y="530"/>
                </a:cubicBezTo>
                <a:cubicBezTo>
                  <a:pt x="335" y="530"/>
                  <a:pt x="340" y="522"/>
                  <a:pt x="340" y="506"/>
                </a:cubicBezTo>
                <a:lnTo>
                  <a:pt x="340" y="430"/>
                </a:lnTo>
                <a:cubicBezTo>
                  <a:pt x="340" y="414"/>
                  <a:pt x="335" y="405"/>
                  <a:pt x="326" y="405"/>
                </a:cubicBezTo>
                <a:close/>
                <a:moveTo>
                  <a:pt x="446" y="405"/>
                </a:moveTo>
                <a:cubicBezTo>
                  <a:pt x="435" y="405"/>
                  <a:pt x="430" y="414"/>
                  <a:pt x="430" y="430"/>
                </a:cubicBezTo>
                <a:lnTo>
                  <a:pt x="430" y="446"/>
                </a:lnTo>
                <a:lnTo>
                  <a:pt x="462" y="446"/>
                </a:lnTo>
                <a:lnTo>
                  <a:pt x="462" y="430"/>
                </a:lnTo>
                <a:cubicBezTo>
                  <a:pt x="462" y="414"/>
                  <a:pt x="457" y="405"/>
                  <a:pt x="446" y="405"/>
                </a:cubicBezTo>
                <a:close/>
                <a:moveTo>
                  <a:pt x="372" y="503"/>
                </a:moveTo>
                <a:cubicBezTo>
                  <a:pt x="372" y="520"/>
                  <a:pt x="371" y="531"/>
                  <a:pt x="369" y="539"/>
                </a:cubicBezTo>
                <a:cubicBezTo>
                  <a:pt x="365" y="552"/>
                  <a:pt x="356" y="559"/>
                  <a:pt x="343" y="559"/>
                </a:cubicBezTo>
                <a:cubicBezTo>
                  <a:pt x="332" y="559"/>
                  <a:pt x="321" y="553"/>
                  <a:pt x="310" y="539"/>
                </a:cubicBezTo>
                <a:lnTo>
                  <a:pt x="310" y="556"/>
                </a:lnTo>
                <a:lnTo>
                  <a:pt x="278" y="556"/>
                </a:lnTo>
                <a:lnTo>
                  <a:pt x="278" y="318"/>
                </a:lnTo>
                <a:lnTo>
                  <a:pt x="310" y="318"/>
                </a:lnTo>
                <a:lnTo>
                  <a:pt x="310" y="396"/>
                </a:lnTo>
                <a:cubicBezTo>
                  <a:pt x="320" y="383"/>
                  <a:pt x="332" y="376"/>
                  <a:pt x="343" y="376"/>
                </a:cubicBezTo>
                <a:cubicBezTo>
                  <a:pt x="356" y="376"/>
                  <a:pt x="365" y="383"/>
                  <a:pt x="369" y="396"/>
                </a:cubicBezTo>
                <a:cubicBezTo>
                  <a:pt x="371" y="404"/>
                  <a:pt x="372" y="415"/>
                  <a:pt x="372" y="432"/>
                </a:cubicBezTo>
                <a:lnTo>
                  <a:pt x="372" y="503"/>
                </a:lnTo>
                <a:close/>
                <a:moveTo>
                  <a:pt x="250" y="556"/>
                </a:moveTo>
                <a:lnTo>
                  <a:pt x="218" y="556"/>
                </a:lnTo>
                <a:lnTo>
                  <a:pt x="218" y="537"/>
                </a:lnTo>
                <a:cubicBezTo>
                  <a:pt x="205" y="552"/>
                  <a:pt x="193" y="559"/>
                  <a:pt x="181" y="559"/>
                </a:cubicBezTo>
                <a:cubicBezTo>
                  <a:pt x="170" y="559"/>
                  <a:pt x="163" y="555"/>
                  <a:pt x="160" y="546"/>
                </a:cubicBezTo>
                <a:cubicBezTo>
                  <a:pt x="158" y="540"/>
                  <a:pt x="157" y="532"/>
                  <a:pt x="157" y="519"/>
                </a:cubicBezTo>
                <a:lnTo>
                  <a:pt x="157" y="378"/>
                </a:lnTo>
                <a:lnTo>
                  <a:pt x="189" y="378"/>
                </a:lnTo>
                <a:lnTo>
                  <a:pt x="189" y="510"/>
                </a:lnTo>
                <a:cubicBezTo>
                  <a:pt x="189" y="517"/>
                  <a:pt x="189" y="521"/>
                  <a:pt x="190" y="522"/>
                </a:cubicBezTo>
                <a:cubicBezTo>
                  <a:pt x="190" y="527"/>
                  <a:pt x="193" y="530"/>
                  <a:pt x="197" y="530"/>
                </a:cubicBezTo>
                <a:cubicBezTo>
                  <a:pt x="204" y="530"/>
                  <a:pt x="210" y="525"/>
                  <a:pt x="218" y="515"/>
                </a:cubicBezTo>
                <a:lnTo>
                  <a:pt x="218" y="378"/>
                </a:lnTo>
                <a:lnTo>
                  <a:pt x="250" y="378"/>
                </a:lnTo>
                <a:lnTo>
                  <a:pt x="250" y="556"/>
                </a:lnTo>
                <a:close/>
                <a:moveTo>
                  <a:pt x="152" y="351"/>
                </a:moveTo>
                <a:lnTo>
                  <a:pt x="114" y="351"/>
                </a:lnTo>
                <a:lnTo>
                  <a:pt x="114" y="556"/>
                </a:lnTo>
                <a:lnTo>
                  <a:pt x="78" y="556"/>
                </a:lnTo>
                <a:lnTo>
                  <a:pt x="78" y="351"/>
                </a:lnTo>
                <a:lnTo>
                  <a:pt x="40" y="351"/>
                </a:lnTo>
                <a:lnTo>
                  <a:pt x="40" y="318"/>
                </a:lnTo>
                <a:lnTo>
                  <a:pt x="152" y="318"/>
                </a:lnTo>
                <a:lnTo>
                  <a:pt x="152" y="351"/>
                </a:lnTo>
                <a:close/>
                <a:moveTo>
                  <a:pt x="525" y="320"/>
                </a:moveTo>
                <a:cubicBezTo>
                  <a:pt x="518" y="291"/>
                  <a:pt x="495" y="270"/>
                  <a:pt x="467" y="267"/>
                </a:cubicBezTo>
                <a:cubicBezTo>
                  <a:pt x="401" y="260"/>
                  <a:pt x="334" y="260"/>
                  <a:pt x="267" y="260"/>
                </a:cubicBezTo>
                <a:cubicBezTo>
                  <a:pt x="200" y="260"/>
                  <a:pt x="133" y="260"/>
                  <a:pt x="67" y="267"/>
                </a:cubicBezTo>
                <a:cubicBezTo>
                  <a:pt x="39" y="270"/>
                  <a:pt x="16" y="291"/>
                  <a:pt x="9" y="320"/>
                </a:cubicBezTo>
                <a:cubicBezTo>
                  <a:pt x="0" y="360"/>
                  <a:pt x="0" y="404"/>
                  <a:pt x="0" y="446"/>
                </a:cubicBezTo>
                <a:cubicBezTo>
                  <a:pt x="0" y="488"/>
                  <a:pt x="0" y="532"/>
                  <a:pt x="9" y="572"/>
                </a:cubicBezTo>
                <a:cubicBezTo>
                  <a:pt x="16" y="601"/>
                  <a:pt x="39" y="622"/>
                  <a:pt x="67" y="625"/>
                </a:cubicBezTo>
                <a:cubicBezTo>
                  <a:pt x="133" y="632"/>
                  <a:pt x="200" y="632"/>
                  <a:pt x="267" y="632"/>
                </a:cubicBezTo>
                <a:cubicBezTo>
                  <a:pt x="334" y="632"/>
                  <a:pt x="401" y="632"/>
                  <a:pt x="467" y="625"/>
                </a:cubicBezTo>
                <a:cubicBezTo>
                  <a:pt x="495" y="622"/>
                  <a:pt x="518" y="601"/>
                  <a:pt x="525" y="572"/>
                </a:cubicBezTo>
                <a:cubicBezTo>
                  <a:pt x="534" y="532"/>
                  <a:pt x="534" y="488"/>
                  <a:pt x="534" y="446"/>
                </a:cubicBezTo>
                <a:cubicBezTo>
                  <a:pt x="534" y="404"/>
                  <a:pt x="534" y="360"/>
                  <a:pt x="525" y="32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23" name="Freeform 317"/>
          <p:cNvSpPr/>
          <p:nvPr/>
        </p:nvSpPr>
        <p:spPr>
          <a:xfrm>
            <a:off x="8383680" y="5580000"/>
            <a:ext cx="168120" cy="146160"/>
          </a:xfrm>
          <a:custGeom>
            <a:avLst/>
            <a:gdLst/>
            <a:ahLst/>
            <a:rect l="l" t="t" r="r" b="b"/>
            <a:pathLst>
              <a:path w="630" h="544">
                <a:moveTo>
                  <a:pt x="626" y="128"/>
                </a:moveTo>
                <a:cubicBezTo>
                  <a:pt x="623" y="189"/>
                  <a:pt x="581" y="272"/>
                  <a:pt x="498" y="378"/>
                </a:cubicBezTo>
                <a:cubicBezTo>
                  <a:pt x="413" y="489"/>
                  <a:pt x="341" y="544"/>
                  <a:pt x="282" y="544"/>
                </a:cubicBezTo>
                <a:cubicBezTo>
                  <a:pt x="246" y="544"/>
                  <a:pt x="215" y="511"/>
                  <a:pt x="190" y="443"/>
                </a:cubicBezTo>
                <a:cubicBezTo>
                  <a:pt x="173" y="381"/>
                  <a:pt x="156" y="320"/>
                  <a:pt x="139" y="258"/>
                </a:cubicBezTo>
                <a:cubicBezTo>
                  <a:pt x="121" y="191"/>
                  <a:pt x="101" y="157"/>
                  <a:pt x="79" y="157"/>
                </a:cubicBezTo>
                <a:cubicBezTo>
                  <a:pt x="74" y="157"/>
                  <a:pt x="58" y="167"/>
                  <a:pt x="30" y="186"/>
                </a:cubicBezTo>
                <a:lnTo>
                  <a:pt x="0" y="148"/>
                </a:lnTo>
                <a:cubicBezTo>
                  <a:pt x="31" y="121"/>
                  <a:pt x="62" y="94"/>
                  <a:pt x="92" y="67"/>
                </a:cubicBezTo>
                <a:cubicBezTo>
                  <a:pt x="133" y="31"/>
                  <a:pt x="164" y="13"/>
                  <a:pt x="185" y="11"/>
                </a:cubicBezTo>
                <a:cubicBezTo>
                  <a:pt x="233" y="6"/>
                  <a:pt x="263" y="39"/>
                  <a:pt x="274" y="111"/>
                </a:cubicBezTo>
                <a:cubicBezTo>
                  <a:pt x="287" y="188"/>
                  <a:pt x="295" y="235"/>
                  <a:pt x="300" y="254"/>
                </a:cubicBezTo>
                <a:cubicBezTo>
                  <a:pt x="314" y="318"/>
                  <a:pt x="329" y="350"/>
                  <a:pt x="346" y="350"/>
                </a:cubicBezTo>
                <a:cubicBezTo>
                  <a:pt x="359" y="350"/>
                  <a:pt x="379" y="329"/>
                  <a:pt x="405" y="288"/>
                </a:cubicBezTo>
                <a:cubicBezTo>
                  <a:pt x="431" y="246"/>
                  <a:pt x="445" y="215"/>
                  <a:pt x="447" y="193"/>
                </a:cubicBezTo>
                <a:cubicBezTo>
                  <a:pt x="451" y="157"/>
                  <a:pt x="437" y="140"/>
                  <a:pt x="405" y="140"/>
                </a:cubicBezTo>
                <a:cubicBezTo>
                  <a:pt x="390" y="140"/>
                  <a:pt x="375" y="143"/>
                  <a:pt x="359" y="150"/>
                </a:cubicBezTo>
                <a:cubicBezTo>
                  <a:pt x="390" y="49"/>
                  <a:pt x="448" y="0"/>
                  <a:pt x="535" y="3"/>
                </a:cubicBezTo>
                <a:cubicBezTo>
                  <a:pt x="599" y="5"/>
                  <a:pt x="630" y="46"/>
                  <a:pt x="626" y="128"/>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24" name="Freeform 318"/>
          <p:cNvSpPr/>
          <p:nvPr/>
        </p:nvSpPr>
        <p:spPr>
          <a:xfrm>
            <a:off x="6261120" y="5572080"/>
            <a:ext cx="142920" cy="162000"/>
          </a:xfrm>
          <a:custGeom>
            <a:avLst/>
            <a:gdLst/>
            <a:ahLst/>
            <a:rect l="l" t="t" r="r" b="b"/>
            <a:pathLst>
              <a:path w="533" h="607">
                <a:moveTo>
                  <a:pt x="533" y="301"/>
                </a:moveTo>
                <a:cubicBezTo>
                  <a:pt x="523" y="304"/>
                  <a:pt x="512" y="306"/>
                  <a:pt x="500" y="307"/>
                </a:cubicBezTo>
                <a:cubicBezTo>
                  <a:pt x="446" y="312"/>
                  <a:pt x="400" y="296"/>
                  <a:pt x="369" y="248"/>
                </a:cubicBezTo>
                <a:cubicBezTo>
                  <a:pt x="351" y="219"/>
                  <a:pt x="346" y="186"/>
                  <a:pt x="348" y="153"/>
                </a:cubicBezTo>
                <a:cubicBezTo>
                  <a:pt x="349" y="139"/>
                  <a:pt x="352" y="126"/>
                  <a:pt x="359" y="114"/>
                </a:cubicBezTo>
                <a:cubicBezTo>
                  <a:pt x="366" y="103"/>
                  <a:pt x="375" y="96"/>
                  <a:pt x="388" y="96"/>
                </a:cubicBezTo>
                <a:cubicBezTo>
                  <a:pt x="407" y="95"/>
                  <a:pt x="420" y="107"/>
                  <a:pt x="426" y="130"/>
                </a:cubicBezTo>
                <a:cubicBezTo>
                  <a:pt x="433" y="160"/>
                  <a:pt x="428" y="188"/>
                  <a:pt x="420" y="217"/>
                </a:cubicBezTo>
                <a:cubicBezTo>
                  <a:pt x="419" y="220"/>
                  <a:pt x="417" y="226"/>
                  <a:pt x="417" y="226"/>
                </a:cubicBezTo>
                <a:cubicBezTo>
                  <a:pt x="417" y="226"/>
                  <a:pt x="421" y="231"/>
                  <a:pt x="424" y="233"/>
                </a:cubicBezTo>
                <a:cubicBezTo>
                  <a:pt x="444" y="253"/>
                  <a:pt x="468" y="258"/>
                  <a:pt x="495" y="256"/>
                </a:cubicBezTo>
                <a:cubicBezTo>
                  <a:pt x="499" y="255"/>
                  <a:pt x="505" y="255"/>
                  <a:pt x="505" y="255"/>
                </a:cubicBezTo>
                <a:cubicBezTo>
                  <a:pt x="505" y="255"/>
                  <a:pt x="507" y="248"/>
                  <a:pt x="508" y="245"/>
                </a:cubicBezTo>
                <a:cubicBezTo>
                  <a:pt x="523" y="206"/>
                  <a:pt x="528" y="166"/>
                  <a:pt x="524" y="125"/>
                </a:cubicBezTo>
                <a:cubicBezTo>
                  <a:pt x="518" y="66"/>
                  <a:pt x="487" y="14"/>
                  <a:pt x="411" y="7"/>
                </a:cubicBezTo>
                <a:cubicBezTo>
                  <a:pt x="344" y="0"/>
                  <a:pt x="288" y="31"/>
                  <a:pt x="264" y="95"/>
                </a:cubicBezTo>
                <a:cubicBezTo>
                  <a:pt x="251" y="132"/>
                  <a:pt x="250" y="170"/>
                  <a:pt x="257" y="208"/>
                </a:cubicBezTo>
                <a:cubicBezTo>
                  <a:pt x="269" y="272"/>
                  <a:pt x="299" y="324"/>
                  <a:pt x="356" y="357"/>
                </a:cubicBezTo>
                <a:cubicBezTo>
                  <a:pt x="362" y="361"/>
                  <a:pt x="362" y="363"/>
                  <a:pt x="359" y="369"/>
                </a:cubicBezTo>
                <a:cubicBezTo>
                  <a:pt x="336" y="413"/>
                  <a:pt x="308" y="455"/>
                  <a:pt x="274" y="492"/>
                </a:cubicBezTo>
                <a:cubicBezTo>
                  <a:pt x="260" y="508"/>
                  <a:pt x="260" y="508"/>
                  <a:pt x="246" y="490"/>
                </a:cubicBezTo>
                <a:cubicBezTo>
                  <a:pt x="177" y="403"/>
                  <a:pt x="139" y="303"/>
                  <a:pt x="118" y="195"/>
                </a:cubicBezTo>
                <a:cubicBezTo>
                  <a:pt x="112" y="165"/>
                  <a:pt x="107" y="136"/>
                  <a:pt x="103" y="106"/>
                </a:cubicBezTo>
                <a:lnTo>
                  <a:pt x="102" y="96"/>
                </a:lnTo>
                <a:lnTo>
                  <a:pt x="0" y="96"/>
                </a:lnTo>
                <a:lnTo>
                  <a:pt x="1" y="102"/>
                </a:lnTo>
                <a:cubicBezTo>
                  <a:pt x="14" y="194"/>
                  <a:pt x="33" y="285"/>
                  <a:pt x="68" y="373"/>
                </a:cubicBezTo>
                <a:cubicBezTo>
                  <a:pt x="93" y="437"/>
                  <a:pt x="126" y="497"/>
                  <a:pt x="172" y="549"/>
                </a:cubicBezTo>
                <a:cubicBezTo>
                  <a:pt x="187" y="566"/>
                  <a:pt x="204" y="581"/>
                  <a:pt x="223" y="593"/>
                </a:cubicBezTo>
                <a:cubicBezTo>
                  <a:pt x="246" y="607"/>
                  <a:pt x="267" y="607"/>
                  <a:pt x="289" y="591"/>
                </a:cubicBezTo>
                <a:cubicBezTo>
                  <a:pt x="295" y="587"/>
                  <a:pt x="301" y="582"/>
                  <a:pt x="307" y="577"/>
                </a:cubicBezTo>
                <a:cubicBezTo>
                  <a:pt x="366" y="524"/>
                  <a:pt x="414" y="461"/>
                  <a:pt x="450" y="390"/>
                </a:cubicBezTo>
                <a:cubicBezTo>
                  <a:pt x="453" y="385"/>
                  <a:pt x="456" y="382"/>
                  <a:pt x="462" y="382"/>
                </a:cubicBezTo>
                <a:cubicBezTo>
                  <a:pt x="477" y="382"/>
                  <a:pt x="492" y="380"/>
                  <a:pt x="507" y="378"/>
                </a:cubicBezTo>
                <a:cubicBezTo>
                  <a:pt x="516" y="376"/>
                  <a:pt x="525" y="374"/>
                  <a:pt x="533" y="372"/>
                </a:cubicBezTo>
                <a:lnTo>
                  <a:pt x="533" y="301"/>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25" name="Freeform 319"/>
          <p:cNvSpPr/>
          <p:nvPr/>
        </p:nvSpPr>
        <p:spPr>
          <a:xfrm>
            <a:off x="5205240" y="5583240"/>
            <a:ext cx="154080" cy="157320"/>
          </a:xfrm>
          <a:custGeom>
            <a:avLst/>
            <a:gdLst/>
            <a:ahLst/>
            <a:rect l="l" t="t" r="r" b="b"/>
            <a:pathLst>
              <a:path w="580" h="580">
                <a:moveTo>
                  <a:pt x="429" y="492"/>
                </a:moveTo>
                <a:cubicBezTo>
                  <a:pt x="425" y="473"/>
                  <a:pt x="412" y="404"/>
                  <a:pt x="382" y="320"/>
                </a:cubicBezTo>
                <a:cubicBezTo>
                  <a:pt x="399" y="317"/>
                  <a:pt x="415" y="316"/>
                  <a:pt x="431" y="316"/>
                </a:cubicBezTo>
                <a:cubicBezTo>
                  <a:pt x="482" y="316"/>
                  <a:pt x="522" y="327"/>
                  <a:pt x="531" y="330"/>
                </a:cubicBezTo>
                <a:cubicBezTo>
                  <a:pt x="520" y="397"/>
                  <a:pt x="482" y="455"/>
                  <a:pt x="429" y="492"/>
                </a:cubicBezTo>
                <a:close/>
                <a:moveTo>
                  <a:pt x="290" y="535"/>
                </a:moveTo>
                <a:cubicBezTo>
                  <a:pt x="234" y="535"/>
                  <a:pt x="182" y="516"/>
                  <a:pt x="140" y="484"/>
                </a:cubicBezTo>
                <a:cubicBezTo>
                  <a:pt x="147" y="470"/>
                  <a:pt x="198" y="379"/>
                  <a:pt x="332" y="332"/>
                </a:cubicBezTo>
                <a:lnTo>
                  <a:pt x="333" y="332"/>
                </a:lnTo>
                <a:cubicBezTo>
                  <a:pt x="366" y="420"/>
                  <a:pt x="380" y="493"/>
                  <a:pt x="384" y="516"/>
                </a:cubicBezTo>
                <a:cubicBezTo>
                  <a:pt x="355" y="528"/>
                  <a:pt x="323" y="535"/>
                  <a:pt x="290" y="535"/>
                </a:cubicBezTo>
                <a:close/>
                <a:moveTo>
                  <a:pt x="45" y="290"/>
                </a:moveTo>
                <a:cubicBezTo>
                  <a:pt x="45" y="288"/>
                  <a:pt x="45" y="286"/>
                  <a:pt x="45" y="284"/>
                </a:cubicBezTo>
                <a:cubicBezTo>
                  <a:pt x="46" y="284"/>
                  <a:pt x="48" y="284"/>
                  <a:pt x="51" y="284"/>
                </a:cubicBezTo>
                <a:cubicBezTo>
                  <a:pt x="82" y="284"/>
                  <a:pt x="187" y="282"/>
                  <a:pt x="296" y="249"/>
                </a:cubicBezTo>
                <a:cubicBezTo>
                  <a:pt x="303" y="262"/>
                  <a:pt x="309" y="275"/>
                  <a:pt x="315" y="289"/>
                </a:cubicBezTo>
                <a:cubicBezTo>
                  <a:pt x="312" y="289"/>
                  <a:pt x="309" y="290"/>
                  <a:pt x="307" y="291"/>
                </a:cubicBezTo>
                <a:cubicBezTo>
                  <a:pt x="184" y="331"/>
                  <a:pt x="117" y="435"/>
                  <a:pt x="106" y="452"/>
                </a:cubicBezTo>
                <a:cubicBezTo>
                  <a:pt x="68" y="409"/>
                  <a:pt x="45" y="352"/>
                  <a:pt x="45" y="290"/>
                </a:cubicBezTo>
                <a:close/>
                <a:moveTo>
                  <a:pt x="185" y="69"/>
                </a:moveTo>
                <a:cubicBezTo>
                  <a:pt x="193" y="81"/>
                  <a:pt x="235" y="139"/>
                  <a:pt x="274" y="209"/>
                </a:cubicBezTo>
                <a:cubicBezTo>
                  <a:pt x="169" y="237"/>
                  <a:pt x="75" y="238"/>
                  <a:pt x="53" y="238"/>
                </a:cubicBezTo>
                <a:lnTo>
                  <a:pt x="50" y="238"/>
                </a:lnTo>
                <a:cubicBezTo>
                  <a:pt x="67" y="164"/>
                  <a:pt x="117" y="102"/>
                  <a:pt x="185" y="69"/>
                </a:cubicBezTo>
                <a:close/>
                <a:moveTo>
                  <a:pt x="290" y="46"/>
                </a:moveTo>
                <a:cubicBezTo>
                  <a:pt x="352" y="46"/>
                  <a:pt x="408" y="68"/>
                  <a:pt x="451" y="106"/>
                </a:cubicBezTo>
                <a:cubicBezTo>
                  <a:pt x="444" y="116"/>
                  <a:pt x="407" y="162"/>
                  <a:pt x="325" y="193"/>
                </a:cubicBezTo>
                <a:cubicBezTo>
                  <a:pt x="286" y="123"/>
                  <a:pt x="244" y="65"/>
                  <a:pt x="235" y="52"/>
                </a:cubicBezTo>
                <a:cubicBezTo>
                  <a:pt x="252" y="48"/>
                  <a:pt x="271" y="46"/>
                  <a:pt x="290" y="46"/>
                </a:cubicBezTo>
                <a:close/>
                <a:moveTo>
                  <a:pt x="481" y="137"/>
                </a:moveTo>
                <a:cubicBezTo>
                  <a:pt x="514" y="178"/>
                  <a:pt x="534" y="230"/>
                  <a:pt x="535" y="286"/>
                </a:cubicBezTo>
                <a:cubicBezTo>
                  <a:pt x="524" y="284"/>
                  <a:pt x="477" y="275"/>
                  <a:pt x="421" y="275"/>
                </a:cubicBezTo>
                <a:cubicBezTo>
                  <a:pt x="403" y="275"/>
                  <a:pt x="384" y="276"/>
                  <a:pt x="366" y="278"/>
                </a:cubicBezTo>
                <a:cubicBezTo>
                  <a:pt x="364" y="275"/>
                  <a:pt x="362" y="271"/>
                  <a:pt x="361" y="267"/>
                </a:cubicBezTo>
                <a:cubicBezTo>
                  <a:pt x="356" y="255"/>
                  <a:pt x="350" y="244"/>
                  <a:pt x="345" y="232"/>
                </a:cubicBezTo>
                <a:cubicBezTo>
                  <a:pt x="431" y="197"/>
                  <a:pt x="472" y="148"/>
                  <a:pt x="481" y="137"/>
                </a:cubicBezTo>
                <a:close/>
                <a:moveTo>
                  <a:pt x="290" y="0"/>
                </a:moveTo>
                <a:cubicBezTo>
                  <a:pt x="130" y="0"/>
                  <a:pt x="0" y="130"/>
                  <a:pt x="0" y="290"/>
                </a:cubicBezTo>
                <a:cubicBezTo>
                  <a:pt x="0" y="450"/>
                  <a:pt x="130" y="580"/>
                  <a:pt x="290" y="580"/>
                </a:cubicBezTo>
                <a:cubicBezTo>
                  <a:pt x="450" y="580"/>
                  <a:pt x="580" y="450"/>
                  <a:pt x="580" y="290"/>
                </a:cubicBezTo>
                <a:cubicBezTo>
                  <a:pt x="580" y="130"/>
                  <a:pt x="450" y="0"/>
                  <a:pt x="290"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26" name="Freeform 320"/>
          <p:cNvSpPr/>
          <p:nvPr/>
        </p:nvSpPr>
        <p:spPr>
          <a:xfrm>
            <a:off x="3265560" y="5837400"/>
            <a:ext cx="171360" cy="171360"/>
          </a:xfrm>
          <a:custGeom>
            <a:avLst/>
            <a:gdLst/>
            <a:ahLst/>
            <a:rect l="l" t="t" r="r" b="b"/>
            <a:pathLst>
              <a:path w="640" h="640">
                <a:moveTo>
                  <a:pt x="585" y="159"/>
                </a:moveTo>
                <a:cubicBezTo>
                  <a:pt x="570" y="180"/>
                  <a:pt x="552" y="199"/>
                  <a:pt x="531" y="214"/>
                </a:cubicBezTo>
                <a:cubicBezTo>
                  <a:pt x="532" y="218"/>
                  <a:pt x="532" y="223"/>
                  <a:pt x="532" y="227"/>
                </a:cubicBezTo>
                <a:cubicBezTo>
                  <a:pt x="532" y="379"/>
                  <a:pt x="416" y="536"/>
                  <a:pt x="223" y="536"/>
                </a:cubicBezTo>
                <a:cubicBezTo>
                  <a:pt x="164" y="536"/>
                  <a:pt x="106" y="519"/>
                  <a:pt x="56" y="487"/>
                </a:cubicBezTo>
                <a:lnTo>
                  <a:pt x="55" y="484"/>
                </a:lnTo>
                <a:lnTo>
                  <a:pt x="58" y="482"/>
                </a:lnTo>
                <a:cubicBezTo>
                  <a:pt x="66" y="483"/>
                  <a:pt x="75" y="484"/>
                  <a:pt x="84" y="484"/>
                </a:cubicBezTo>
                <a:cubicBezTo>
                  <a:pt x="129" y="484"/>
                  <a:pt x="173" y="469"/>
                  <a:pt x="210" y="442"/>
                </a:cubicBezTo>
                <a:cubicBezTo>
                  <a:pt x="166" y="439"/>
                  <a:pt x="128" y="409"/>
                  <a:pt x="114" y="366"/>
                </a:cubicBezTo>
                <a:lnTo>
                  <a:pt x="115" y="364"/>
                </a:lnTo>
                <a:lnTo>
                  <a:pt x="117" y="363"/>
                </a:lnTo>
                <a:cubicBezTo>
                  <a:pt x="129" y="365"/>
                  <a:pt x="142" y="365"/>
                  <a:pt x="154" y="363"/>
                </a:cubicBezTo>
                <a:cubicBezTo>
                  <a:pt x="108" y="349"/>
                  <a:pt x="76" y="307"/>
                  <a:pt x="76" y="258"/>
                </a:cubicBezTo>
                <a:lnTo>
                  <a:pt x="76" y="257"/>
                </a:lnTo>
                <a:lnTo>
                  <a:pt x="78" y="254"/>
                </a:lnTo>
                <a:lnTo>
                  <a:pt x="80" y="254"/>
                </a:lnTo>
                <a:cubicBezTo>
                  <a:pt x="92" y="261"/>
                  <a:pt x="105" y="265"/>
                  <a:pt x="119" y="267"/>
                </a:cubicBezTo>
                <a:cubicBezTo>
                  <a:pt x="93" y="246"/>
                  <a:pt x="77" y="214"/>
                  <a:pt x="77" y="180"/>
                </a:cubicBezTo>
                <a:cubicBezTo>
                  <a:pt x="77" y="161"/>
                  <a:pt x="82" y="142"/>
                  <a:pt x="92" y="125"/>
                </a:cubicBezTo>
                <a:lnTo>
                  <a:pt x="94" y="124"/>
                </a:lnTo>
                <a:lnTo>
                  <a:pt x="96" y="125"/>
                </a:lnTo>
                <a:cubicBezTo>
                  <a:pt x="150" y="190"/>
                  <a:pt x="229" y="231"/>
                  <a:pt x="313" y="236"/>
                </a:cubicBezTo>
                <a:cubicBezTo>
                  <a:pt x="311" y="229"/>
                  <a:pt x="311" y="222"/>
                  <a:pt x="311" y="214"/>
                </a:cubicBezTo>
                <a:cubicBezTo>
                  <a:pt x="311" y="154"/>
                  <a:pt x="360" y="104"/>
                  <a:pt x="421" y="104"/>
                </a:cubicBezTo>
                <a:cubicBezTo>
                  <a:pt x="451" y="104"/>
                  <a:pt x="480" y="116"/>
                  <a:pt x="501" y="138"/>
                </a:cubicBezTo>
                <a:cubicBezTo>
                  <a:pt x="524" y="133"/>
                  <a:pt x="546" y="124"/>
                  <a:pt x="567" y="112"/>
                </a:cubicBezTo>
                <a:lnTo>
                  <a:pt x="570" y="112"/>
                </a:lnTo>
                <a:lnTo>
                  <a:pt x="571" y="115"/>
                </a:lnTo>
                <a:cubicBezTo>
                  <a:pt x="564" y="137"/>
                  <a:pt x="550" y="156"/>
                  <a:pt x="532" y="170"/>
                </a:cubicBezTo>
                <a:cubicBezTo>
                  <a:pt x="549" y="167"/>
                  <a:pt x="566" y="162"/>
                  <a:pt x="581" y="155"/>
                </a:cubicBezTo>
                <a:lnTo>
                  <a:pt x="585" y="155"/>
                </a:lnTo>
                <a:lnTo>
                  <a:pt x="585" y="159"/>
                </a:lnTo>
                <a:close/>
                <a:moveTo>
                  <a:pt x="606" y="0"/>
                </a:moveTo>
                <a:lnTo>
                  <a:pt x="34" y="0"/>
                </a:lnTo>
                <a:cubicBezTo>
                  <a:pt x="16" y="0"/>
                  <a:pt x="0" y="15"/>
                  <a:pt x="0" y="34"/>
                </a:cubicBezTo>
                <a:lnTo>
                  <a:pt x="0" y="606"/>
                </a:lnTo>
                <a:cubicBezTo>
                  <a:pt x="0" y="624"/>
                  <a:pt x="16" y="640"/>
                  <a:pt x="34" y="640"/>
                </a:cubicBezTo>
                <a:lnTo>
                  <a:pt x="606" y="640"/>
                </a:lnTo>
                <a:cubicBezTo>
                  <a:pt x="625" y="640"/>
                  <a:pt x="640" y="624"/>
                  <a:pt x="640" y="606"/>
                </a:cubicBezTo>
                <a:lnTo>
                  <a:pt x="640" y="34"/>
                </a:lnTo>
                <a:cubicBezTo>
                  <a:pt x="640" y="15"/>
                  <a:pt x="625" y="0"/>
                  <a:pt x="606"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27" name="Freeform 321"/>
          <p:cNvSpPr/>
          <p:nvPr/>
        </p:nvSpPr>
        <p:spPr>
          <a:xfrm>
            <a:off x="2955960" y="5837400"/>
            <a:ext cx="171360" cy="171360"/>
          </a:xfrm>
          <a:custGeom>
            <a:avLst/>
            <a:gdLst/>
            <a:ahLst/>
            <a:rect l="l" t="t" r="r" b="b"/>
            <a:pathLst>
              <a:path w="639" h="640">
                <a:moveTo>
                  <a:pt x="455" y="145"/>
                </a:moveTo>
                <a:lnTo>
                  <a:pt x="406" y="145"/>
                </a:lnTo>
                <a:cubicBezTo>
                  <a:pt x="368" y="145"/>
                  <a:pt x="360" y="164"/>
                  <a:pt x="360" y="191"/>
                </a:cubicBezTo>
                <a:lnTo>
                  <a:pt x="360" y="250"/>
                </a:lnTo>
                <a:lnTo>
                  <a:pt x="452" y="250"/>
                </a:lnTo>
                <a:lnTo>
                  <a:pt x="452" y="343"/>
                </a:lnTo>
                <a:lnTo>
                  <a:pt x="360" y="343"/>
                </a:lnTo>
                <a:lnTo>
                  <a:pt x="360" y="581"/>
                </a:lnTo>
                <a:lnTo>
                  <a:pt x="264" y="581"/>
                </a:lnTo>
                <a:lnTo>
                  <a:pt x="264" y="343"/>
                </a:lnTo>
                <a:lnTo>
                  <a:pt x="184" y="343"/>
                </a:lnTo>
                <a:lnTo>
                  <a:pt x="184" y="250"/>
                </a:lnTo>
                <a:lnTo>
                  <a:pt x="264" y="250"/>
                </a:lnTo>
                <a:lnTo>
                  <a:pt x="264" y="181"/>
                </a:lnTo>
                <a:cubicBezTo>
                  <a:pt x="264" y="102"/>
                  <a:pt x="313" y="59"/>
                  <a:pt x="384" y="59"/>
                </a:cubicBezTo>
                <a:lnTo>
                  <a:pt x="455" y="59"/>
                </a:lnTo>
                <a:lnTo>
                  <a:pt x="455" y="145"/>
                </a:lnTo>
                <a:close/>
                <a:moveTo>
                  <a:pt x="605" y="0"/>
                </a:moveTo>
                <a:lnTo>
                  <a:pt x="34" y="0"/>
                </a:lnTo>
                <a:cubicBezTo>
                  <a:pt x="15" y="0"/>
                  <a:pt x="0" y="15"/>
                  <a:pt x="0" y="34"/>
                </a:cubicBezTo>
                <a:lnTo>
                  <a:pt x="0" y="606"/>
                </a:lnTo>
                <a:cubicBezTo>
                  <a:pt x="0" y="624"/>
                  <a:pt x="15" y="640"/>
                  <a:pt x="34" y="640"/>
                </a:cubicBezTo>
                <a:lnTo>
                  <a:pt x="605" y="640"/>
                </a:lnTo>
                <a:cubicBezTo>
                  <a:pt x="624" y="640"/>
                  <a:pt x="639" y="624"/>
                  <a:pt x="639" y="606"/>
                </a:cubicBezTo>
                <a:lnTo>
                  <a:pt x="639" y="34"/>
                </a:lnTo>
                <a:cubicBezTo>
                  <a:pt x="639" y="15"/>
                  <a:pt x="624" y="0"/>
                  <a:pt x="605"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28" name="Freeform 322"/>
          <p:cNvSpPr/>
          <p:nvPr/>
        </p:nvSpPr>
        <p:spPr>
          <a:xfrm>
            <a:off x="4246560" y="5837400"/>
            <a:ext cx="169920" cy="169560"/>
          </a:xfrm>
          <a:custGeom>
            <a:avLst/>
            <a:gdLst/>
            <a:ahLst/>
            <a:rect l="l" t="t" r="r" b="b"/>
            <a:pathLst>
              <a:path w="636" h="636">
                <a:moveTo>
                  <a:pt x="552" y="582"/>
                </a:moveTo>
                <a:lnTo>
                  <a:pt x="311" y="582"/>
                </a:lnTo>
                <a:lnTo>
                  <a:pt x="311" y="469"/>
                </a:lnTo>
                <a:lnTo>
                  <a:pt x="181" y="469"/>
                </a:lnTo>
                <a:lnTo>
                  <a:pt x="181" y="375"/>
                </a:lnTo>
                <a:lnTo>
                  <a:pt x="85" y="375"/>
                </a:lnTo>
                <a:lnTo>
                  <a:pt x="85" y="255"/>
                </a:lnTo>
                <a:lnTo>
                  <a:pt x="85" y="255"/>
                </a:lnTo>
                <a:cubicBezTo>
                  <a:pt x="86" y="221"/>
                  <a:pt x="114" y="194"/>
                  <a:pt x="149" y="194"/>
                </a:cubicBezTo>
                <a:cubicBezTo>
                  <a:pt x="177" y="194"/>
                  <a:pt x="202" y="213"/>
                  <a:pt x="210" y="239"/>
                </a:cubicBezTo>
                <a:cubicBezTo>
                  <a:pt x="226" y="225"/>
                  <a:pt x="247" y="216"/>
                  <a:pt x="270" y="216"/>
                </a:cubicBezTo>
                <a:cubicBezTo>
                  <a:pt x="306" y="216"/>
                  <a:pt x="338" y="238"/>
                  <a:pt x="351" y="269"/>
                </a:cubicBezTo>
                <a:cubicBezTo>
                  <a:pt x="373" y="251"/>
                  <a:pt x="401" y="239"/>
                  <a:pt x="431" y="239"/>
                </a:cubicBezTo>
                <a:cubicBezTo>
                  <a:pt x="496" y="239"/>
                  <a:pt x="549" y="291"/>
                  <a:pt x="551" y="355"/>
                </a:cubicBezTo>
                <a:lnTo>
                  <a:pt x="552" y="355"/>
                </a:lnTo>
                <a:lnTo>
                  <a:pt x="552" y="582"/>
                </a:lnTo>
                <a:close/>
                <a:moveTo>
                  <a:pt x="147" y="96"/>
                </a:moveTo>
                <a:cubicBezTo>
                  <a:pt x="172" y="96"/>
                  <a:pt x="192" y="116"/>
                  <a:pt x="192" y="141"/>
                </a:cubicBezTo>
                <a:cubicBezTo>
                  <a:pt x="192" y="165"/>
                  <a:pt x="172" y="186"/>
                  <a:pt x="147" y="186"/>
                </a:cubicBezTo>
                <a:cubicBezTo>
                  <a:pt x="122" y="186"/>
                  <a:pt x="102" y="165"/>
                  <a:pt x="102" y="141"/>
                </a:cubicBezTo>
                <a:cubicBezTo>
                  <a:pt x="102" y="116"/>
                  <a:pt x="122" y="96"/>
                  <a:pt x="147" y="96"/>
                </a:cubicBezTo>
                <a:close/>
                <a:moveTo>
                  <a:pt x="268" y="80"/>
                </a:moveTo>
                <a:cubicBezTo>
                  <a:pt x="303" y="80"/>
                  <a:pt x="331" y="108"/>
                  <a:pt x="331" y="142"/>
                </a:cubicBezTo>
                <a:cubicBezTo>
                  <a:pt x="331" y="177"/>
                  <a:pt x="303" y="205"/>
                  <a:pt x="268" y="205"/>
                </a:cubicBezTo>
                <a:cubicBezTo>
                  <a:pt x="233" y="205"/>
                  <a:pt x="205" y="177"/>
                  <a:pt x="205" y="142"/>
                </a:cubicBezTo>
                <a:cubicBezTo>
                  <a:pt x="205" y="108"/>
                  <a:pt x="233" y="80"/>
                  <a:pt x="268" y="80"/>
                </a:cubicBezTo>
                <a:close/>
                <a:moveTo>
                  <a:pt x="429" y="55"/>
                </a:moveTo>
                <a:cubicBezTo>
                  <a:pt x="475" y="55"/>
                  <a:pt x="513" y="92"/>
                  <a:pt x="513" y="139"/>
                </a:cubicBezTo>
                <a:cubicBezTo>
                  <a:pt x="513" y="186"/>
                  <a:pt x="475" y="224"/>
                  <a:pt x="429" y="224"/>
                </a:cubicBezTo>
                <a:cubicBezTo>
                  <a:pt x="382" y="224"/>
                  <a:pt x="344" y="186"/>
                  <a:pt x="344" y="139"/>
                </a:cubicBezTo>
                <a:cubicBezTo>
                  <a:pt x="344" y="93"/>
                  <a:pt x="382" y="55"/>
                  <a:pt x="429" y="55"/>
                </a:cubicBezTo>
                <a:close/>
                <a:moveTo>
                  <a:pt x="602" y="0"/>
                </a:moveTo>
                <a:lnTo>
                  <a:pt x="34" y="0"/>
                </a:lnTo>
                <a:cubicBezTo>
                  <a:pt x="15" y="0"/>
                  <a:pt x="0" y="15"/>
                  <a:pt x="0" y="34"/>
                </a:cubicBezTo>
                <a:lnTo>
                  <a:pt x="0" y="602"/>
                </a:lnTo>
                <a:cubicBezTo>
                  <a:pt x="0" y="621"/>
                  <a:pt x="15" y="636"/>
                  <a:pt x="34" y="636"/>
                </a:cubicBezTo>
                <a:lnTo>
                  <a:pt x="602" y="636"/>
                </a:lnTo>
                <a:cubicBezTo>
                  <a:pt x="621" y="636"/>
                  <a:pt x="636" y="621"/>
                  <a:pt x="636" y="602"/>
                </a:cubicBezTo>
                <a:lnTo>
                  <a:pt x="636" y="34"/>
                </a:lnTo>
                <a:cubicBezTo>
                  <a:pt x="636" y="15"/>
                  <a:pt x="621" y="0"/>
                  <a:pt x="602"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29" name="Freeform 323"/>
          <p:cNvSpPr/>
          <p:nvPr/>
        </p:nvSpPr>
        <p:spPr>
          <a:xfrm>
            <a:off x="6564240" y="5843520"/>
            <a:ext cx="173160" cy="173160"/>
          </a:xfrm>
          <a:custGeom>
            <a:avLst/>
            <a:gdLst/>
            <a:ahLst/>
            <a:rect l="l" t="t" r="r" b="b"/>
            <a:pathLst>
              <a:path w="645" h="645">
                <a:moveTo>
                  <a:pt x="446" y="491"/>
                </a:moveTo>
                <a:lnTo>
                  <a:pt x="480" y="595"/>
                </a:lnTo>
                <a:cubicBezTo>
                  <a:pt x="480" y="595"/>
                  <a:pt x="466" y="585"/>
                  <a:pt x="460" y="581"/>
                </a:cubicBezTo>
                <a:cubicBezTo>
                  <a:pt x="417" y="549"/>
                  <a:pt x="372" y="517"/>
                  <a:pt x="329" y="486"/>
                </a:cubicBezTo>
                <a:lnTo>
                  <a:pt x="330" y="484"/>
                </a:lnTo>
                <a:cubicBezTo>
                  <a:pt x="337" y="472"/>
                  <a:pt x="343" y="458"/>
                  <a:pt x="345" y="443"/>
                </a:cubicBezTo>
                <a:cubicBezTo>
                  <a:pt x="362" y="455"/>
                  <a:pt x="395" y="479"/>
                  <a:pt x="395" y="479"/>
                </a:cubicBezTo>
                <a:cubicBezTo>
                  <a:pt x="395" y="479"/>
                  <a:pt x="392" y="470"/>
                  <a:pt x="391" y="466"/>
                </a:cubicBezTo>
                <a:lnTo>
                  <a:pt x="359" y="370"/>
                </a:lnTo>
                <a:lnTo>
                  <a:pt x="453" y="303"/>
                </a:lnTo>
                <a:cubicBezTo>
                  <a:pt x="417" y="303"/>
                  <a:pt x="373" y="303"/>
                  <a:pt x="337" y="303"/>
                </a:cubicBezTo>
                <a:lnTo>
                  <a:pt x="337" y="299"/>
                </a:lnTo>
                <a:cubicBezTo>
                  <a:pt x="336" y="288"/>
                  <a:pt x="336" y="277"/>
                  <a:pt x="335" y="266"/>
                </a:cubicBezTo>
                <a:cubicBezTo>
                  <a:pt x="331" y="241"/>
                  <a:pt x="321" y="218"/>
                  <a:pt x="304" y="198"/>
                </a:cubicBezTo>
                <a:cubicBezTo>
                  <a:pt x="293" y="186"/>
                  <a:pt x="281" y="176"/>
                  <a:pt x="266" y="169"/>
                </a:cubicBezTo>
                <a:lnTo>
                  <a:pt x="264" y="168"/>
                </a:lnTo>
                <a:lnTo>
                  <a:pt x="302" y="51"/>
                </a:lnTo>
                <a:lnTo>
                  <a:pt x="370" y="258"/>
                </a:lnTo>
                <a:lnTo>
                  <a:pt x="589" y="258"/>
                </a:lnTo>
                <a:lnTo>
                  <a:pt x="412" y="387"/>
                </a:lnTo>
                <a:lnTo>
                  <a:pt x="446" y="491"/>
                </a:lnTo>
                <a:close/>
                <a:moveTo>
                  <a:pt x="317" y="429"/>
                </a:moveTo>
                <a:cubicBezTo>
                  <a:pt x="315" y="446"/>
                  <a:pt x="310" y="462"/>
                  <a:pt x="299" y="476"/>
                </a:cubicBezTo>
                <a:cubicBezTo>
                  <a:pt x="287" y="494"/>
                  <a:pt x="270" y="504"/>
                  <a:pt x="250" y="510"/>
                </a:cubicBezTo>
                <a:cubicBezTo>
                  <a:pt x="233" y="516"/>
                  <a:pt x="216" y="518"/>
                  <a:pt x="198" y="518"/>
                </a:cubicBezTo>
                <a:cubicBezTo>
                  <a:pt x="177" y="519"/>
                  <a:pt x="157" y="518"/>
                  <a:pt x="136" y="513"/>
                </a:cubicBezTo>
                <a:cubicBezTo>
                  <a:pt x="107" y="505"/>
                  <a:pt x="84" y="489"/>
                  <a:pt x="69" y="462"/>
                </a:cubicBezTo>
                <a:cubicBezTo>
                  <a:pt x="61" y="447"/>
                  <a:pt x="58" y="431"/>
                  <a:pt x="57" y="414"/>
                </a:cubicBezTo>
                <a:lnTo>
                  <a:pt x="56" y="412"/>
                </a:lnTo>
                <a:cubicBezTo>
                  <a:pt x="67" y="412"/>
                  <a:pt x="79" y="412"/>
                  <a:pt x="89" y="412"/>
                </a:cubicBezTo>
                <a:cubicBezTo>
                  <a:pt x="99" y="412"/>
                  <a:pt x="122" y="412"/>
                  <a:pt x="122" y="412"/>
                </a:cubicBezTo>
                <a:lnTo>
                  <a:pt x="123" y="416"/>
                </a:lnTo>
                <a:cubicBezTo>
                  <a:pt x="124" y="423"/>
                  <a:pt x="126" y="429"/>
                  <a:pt x="129" y="435"/>
                </a:cubicBezTo>
                <a:cubicBezTo>
                  <a:pt x="134" y="445"/>
                  <a:pt x="143" y="452"/>
                  <a:pt x="153" y="456"/>
                </a:cubicBezTo>
                <a:cubicBezTo>
                  <a:pt x="177" y="466"/>
                  <a:pt x="203" y="466"/>
                  <a:pt x="227" y="459"/>
                </a:cubicBezTo>
                <a:cubicBezTo>
                  <a:pt x="240" y="455"/>
                  <a:pt x="249" y="447"/>
                  <a:pt x="252" y="434"/>
                </a:cubicBezTo>
                <a:cubicBezTo>
                  <a:pt x="255" y="422"/>
                  <a:pt x="252" y="412"/>
                  <a:pt x="243" y="404"/>
                </a:cubicBezTo>
                <a:cubicBezTo>
                  <a:pt x="234" y="397"/>
                  <a:pt x="224" y="392"/>
                  <a:pt x="213" y="388"/>
                </a:cubicBezTo>
                <a:cubicBezTo>
                  <a:pt x="199" y="383"/>
                  <a:pt x="185" y="380"/>
                  <a:pt x="171" y="376"/>
                </a:cubicBezTo>
                <a:cubicBezTo>
                  <a:pt x="151" y="371"/>
                  <a:pt x="130" y="367"/>
                  <a:pt x="111" y="359"/>
                </a:cubicBezTo>
                <a:cubicBezTo>
                  <a:pt x="95" y="352"/>
                  <a:pt x="81" y="344"/>
                  <a:pt x="73" y="328"/>
                </a:cubicBezTo>
                <a:cubicBezTo>
                  <a:pt x="66" y="315"/>
                  <a:pt x="62" y="301"/>
                  <a:pt x="61" y="286"/>
                </a:cubicBezTo>
                <a:cubicBezTo>
                  <a:pt x="61" y="269"/>
                  <a:pt x="63" y="252"/>
                  <a:pt x="70" y="237"/>
                </a:cubicBezTo>
                <a:cubicBezTo>
                  <a:pt x="81" y="215"/>
                  <a:pt x="98" y="201"/>
                  <a:pt x="121" y="193"/>
                </a:cubicBezTo>
                <a:cubicBezTo>
                  <a:pt x="137" y="187"/>
                  <a:pt x="154" y="184"/>
                  <a:pt x="171" y="183"/>
                </a:cubicBezTo>
                <a:cubicBezTo>
                  <a:pt x="195" y="182"/>
                  <a:pt x="219" y="183"/>
                  <a:pt x="241" y="191"/>
                </a:cubicBezTo>
                <a:cubicBezTo>
                  <a:pt x="277" y="204"/>
                  <a:pt x="297" y="229"/>
                  <a:pt x="304" y="265"/>
                </a:cubicBezTo>
                <a:cubicBezTo>
                  <a:pt x="305" y="271"/>
                  <a:pt x="306" y="276"/>
                  <a:pt x="306" y="282"/>
                </a:cubicBezTo>
                <a:lnTo>
                  <a:pt x="306" y="284"/>
                </a:lnTo>
                <a:lnTo>
                  <a:pt x="245" y="284"/>
                </a:lnTo>
                <a:cubicBezTo>
                  <a:pt x="245" y="284"/>
                  <a:pt x="245" y="278"/>
                  <a:pt x="240" y="267"/>
                </a:cubicBezTo>
                <a:cubicBezTo>
                  <a:pt x="232" y="251"/>
                  <a:pt x="218" y="242"/>
                  <a:pt x="201" y="239"/>
                </a:cubicBezTo>
                <a:cubicBezTo>
                  <a:pt x="185" y="236"/>
                  <a:pt x="168" y="236"/>
                  <a:pt x="153" y="240"/>
                </a:cubicBezTo>
                <a:cubicBezTo>
                  <a:pt x="136" y="245"/>
                  <a:pt x="126" y="259"/>
                  <a:pt x="126" y="275"/>
                </a:cubicBezTo>
                <a:cubicBezTo>
                  <a:pt x="126" y="283"/>
                  <a:pt x="129" y="289"/>
                  <a:pt x="135" y="294"/>
                </a:cubicBezTo>
                <a:cubicBezTo>
                  <a:pt x="143" y="301"/>
                  <a:pt x="153" y="305"/>
                  <a:pt x="164" y="308"/>
                </a:cubicBezTo>
                <a:lnTo>
                  <a:pt x="231" y="326"/>
                </a:lnTo>
                <a:cubicBezTo>
                  <a:pt x="245" y="330"/>
                  <a:pt x="260" y="335"/>
                  <a:pt x="273" y="341"/>
                </a:cubicBezTo>
                <a:cubicBezTo>
                  <a:pt x="290" y="349"/>
                  <a:pt x="302" y="361"/>
                  <a:pt x="310" y="377"/>
                </a:cubicBezTo>
                <a:cubicBezTo>
                  <a:pt x="317" y="393"/>
                  <a:pt x="319" y="411"/>
                  <a:pt x="317" y="429"/>
                </a:cubicBezTo>
                <a:close/>
                <a:moveTo>
                  <a:pt x="611" y="0"/>
                </a:moveTo>
                <a:lnTo>
                  <a:pt x="35" y="0"/>
                </a:lnTo>
                <a:cubicBezTo>
                  <a:pt x="16" y="0"/>
                  <a:pt x="0" y="16"/>
                  <a:pt x="0" y="35"/>
                </a:cubicBezTo>
                <a:lnTo>
                  <a:pt x="0" y="611"/>
                </a:lnTo>
                <a:cubicBezTo>
                  <a:pt x="0" y="630"/>
                  <a:pt x="16" y="645"/>
                  <a:pt x="35" y="645"/>
                </a:cubicBezTo>
                <a:lnTo>
                  <a:pt x="611" y="645"/>
                </a:lnTo>
                <a:cubicBezTo>
                  <a:pt x="630" y="645"/>
                  <a:pt x="645" y="630"/>
                  <a:pt x="645" y="611"/>
                </a:cubicBezTo>
                <a:lnTo>
                  <a:pt x="645" y="35"/>
                </a:lnTo>
                <a:cubicBezTo>
                  <a:pt x="645" y="16"/>
                  <a:pt x="630" y="0"/>
                  <a:pt x="611"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30" name="Freeform 324"/>
          <p:cNvSpPr/>
          <p:nvPr/>
        </p:nvSpPr>
        <p:spPr>
          <a:xfrm>
            <a:off x="6946920" y="5843520"/>
            <a:ext cx="171360" cy="173160"/>
          </a:xfrm>
          <a:custGeom>
            <a:avLst/>
            <a:gdLst/>
            <a:ahLst/>
            <a:rect l="l" t="t" r="r" b="b"/>
            <a:pathLst>
              <a:path w="645" h="645">
                <a:moveTo>
                  <a:pt x="278" y="375"/>
                </a:moveTo>
                <a:cubicBezTo>
                  <a:pt x="276" y="390"/>
                  <a:pt x="267" y="405"/>
                  <a:pt x="252" y="410"/>
                </a:cubicBezTo>
                <a:cubicBezTo>
                  <a:pt x="238" y="417"/>
                  <a:pt x="220" y="414"/>
                  <a:pt x="208" y="405"/>
                </a:cubicBezTo>
                <a:cubicBezTo>
                  <a:pt x="199" y="398"/>
                  <a:pt x="194" y="386"/>
                  <a:pt x="192" y="375"/>
                </a:cubicBezTo>
                <a:cubicBezTo>
                  <a:pt x="190" y="365"/>
                  <a:pt x="193" y="355"/>
                  <a:pt x="198" y="346"/>
                </a:cubicBezTo>
                <a:cubicBezTo>
                  <a:pt x="206" y="333"/>
                  <a:pt x="221" y="326"/>
                  <a:pt x="236" y="326"/>
                </a:cubicBezTo>
                <a:cubicBezTo>
                  <a:pt x="249" y="326"/>
                  <a:pt x="262" y="332"/>
                  <a:pt x="270" y="343"/>
                </a:cubicBezTo>
                <a:cubicBezTo>
                  <a:pt x="276" y="352"/>
                  <a:pt x="279" y="364"/>
                  <a:pt x="278" y="375"/>
                </a:cubicBezTo>
                <a:close/>
                <a:moveTo>
                  <a:pt x="490" y="505"/>
                </a:moveTo>
                <a:cubicBezTo>
                  <a:pt x="458" y="546"/>
                  <a:pt x="411" y="575"/>
                  <a:pt x="360" y="584"/>
                </a:cubicBezTo>
                <a:cubicBezTo>
                  <a:pt x="319" y="592"/>
                  <a:pt x="275" y="585"/>
                  <a:pt x="236" y="569"/>
                </a:cubicBezTo>
                <a:cubicBezTo>
                  <a:pt x="190" y="548"/>
                  <a:pt x="152" y="510"/>
                  <a:pt x="130" y="465"/>
                </a:cubicBezTo>
                <a:cubicBezTo>
                  <a:pt x="118" y="438"/>
                  <a:pt x="111" y="409"/>
                  <a:pt x="110" y="380"/>
                </a:cubicBezTo>
                <a:cubicBezTo>
                  <a:pt x="111" y="328"/>
                  <a:pt x="110" y="277"/>
                  <a:pt x="110" y="225"/>
                </a:cubicBezTo>
                <a:cubicBezTo>
                  <a:pt x="110" y="178"/>
                  <a:pt x="109" y="130"/>
                  <a:pt x="110" y="83"/>
                </a:cubicBezTo>
                <a:cubicBezTo>
                  <a:pt x="110" y="74"/>
                  <a:pt x="115" y="65"/>
                  <a:pt x="123" y="62"/>
                </a:cubicBezTo>
                <a:cubicBezTo>
                  <a:pt x="133" y="57"/>
                  <a:pt x="144" y="57"/>
                  <a:pt x="154" y="61"/>
                </a:cubicBezTo>
                <a:cubicBezTo>
                  <a:pt x="163" y="65"/>
                  <a:pt x="168" y="74"/>
                  <a:pt x="168" y="83"/>
                </a:cubicBezTo>
                <a:cubicBezTo>
                  <a:pt x="169" y="130"/>
                  <a:pt x="168" y="176"/>
                  <a:pt x="169" y="223"/>
                </a:cubicBezTo>
                <a:cubicBezTo>
                  <a:pt x="190" y="201"/>
                  <a:pt x="217" y="182"/>
                  <a:pt x="246" y="171"/>
                </a:cubicBezTo>
                <a:cubicBezTo>
                  <a:pt x="304" y="149"/>
                  <a:pt x="371" y="152"/>
                  <a:pt x="425" y="183"/>
                </a:cubicBezTo>
                <a:cubicBezTo>
                  <a:pt x="472" y="210"/>
                  <a:pt x="509" y="255"/>
                  <a:pt x="525" y="307"/>
                </a:cubicBezTo>
                <a:cubicBezTo>
                  <a:pt x="531" y="327"/>
                  <a:pt x="534" y="349"/>
                  <a:pt x="535" y="370"/>
                </a:cubicBezTo>
                <a:cubicBezTo>
                  <a:pt x="534" y="418"/>
                  <a:pt x="520" y="467"/>
                  <a:pt x="490" y="505"/>
                </a:cubicBezTo>
                <a:close/>
                <a:moveTo>
                  <a:pt x="610" y="0"/>
                </a:moveTo>
                <a:lnTo>
                  <a:pt x="34" y="0"/>
                </a:lnTo>
                <a:cubicBezTo>
                  <a:pt x="15" y="0"/>
                  <a:pt x="0" y="16"/>
                  <a:pt x="0" y="35"/>
                </a:cubicBezTo>
                <a:lnTo>
                  <a:pt x="0" y="611"/>
                </a:lnTo>
                <a:cubicBezTo>
                  <a:pt x="0" y="630"/>
                  <a:pt x="15" y="645"/>
                  <a:pt x="34" y="645"/>
                </a:cubicBezTo>
                <a:lnTo>
                  <a:pt x="610" y="645"/>
                </a:lnTo>
                <a:cubicBezTo>
                  <a:pt x="629" y="645"/>
                  <a:pt x="645" y="630"/>
                  <a:pt x="645" y="611"/>
                </a:cubicBezTo>
                <a:lnTo>
                  <a:pt x="645" y="35"/>
                </a:lnTo>
                <a:cubicBezTo>
                  <a:pt x="645" y="16"/>
                  <a:pt x="629" y="0"/>
                  <a:pt x="610" y="0"/>
                </a:cubicBezTo>
                <a:close/>
                <a:moveTo>
                  <a:pt x="411" y="245"/>
                </a:moveTo>
                <a:cubicBezTo>
                  <a:pt x="381" y="223"/>
                  <a:pt x="342" y="213"/>
                  <a:pt x="305" y="218"/>
                </a:cubicBezTo>
                <a:cubicBezTo>
                  <a:pt x="282" y="220"/>
                  <a:pt x="261" y="227"/>
                  <a:pt x="242" y="239"/>
                </a:cubicBezTo>
                <a:cubicBezTo>
                  <a:pt x="224" y="250"/>
                  <a:pt x="209" y="266"/>
                  <a:pt x="196" y="282"/>
                </a:cubicBezTo>
                <a:cubicBezTo>
                  <a:pt x="157" y="337"/>
                  <a:pt x="160" y="417"/>
                  <a:pt x="202" y="469"/>
                </a:cubicBezTo>
                <a:cubicBezTo>
                  <a:pt x="214" y="483"/>
                  <a:pt x="228" y="496"/>
                  <a:pt x="244" y="506"/>
                </a:cubicBezTo>
                <a:cubicBezTo>
                  <a:pt x="275" y="525"/>
                  <a:pt x="312" y="532"/>
                  <a:pt x="347" y="526"/>
                </a:cubicBezTo>
                <a:cubicBezTo>
                  <a:pt x="377" y="521"/>
                  <a:pt x="406" y="507"/>
                  <a:pt x="428" y="485"/>
                </a:cubicBezTo>
                <a:cubicBezTo>
                  <a:pt x="453" y="461"/>
                  <a:pt x="469" y="429"/>
                  <a:pt x="474" y="395"/>
                </a:cubicBezTo>
                <a:cubicBezTo>
                  <a:pt x="479" y="367"/>
                  <a:pt x="475" y="337"/>
                  <a:pt x="464" y="311"/>
                </a:cubicBezTo>
                <a:cubicBezTo>
                  <a:pt x="453" y="284"/>
                  <a:pt x="434" y="262"/>
                  <a:pt x="411" y="24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31" name="Freeform 325"/>
          <p:cNvSpPr/>
          <p:nvPr/>
        </p:nvSpPr>
        <p:spPr>
          <a:xfrm>
            <a:off x="7670880" y="5843520"/>
            <a:ext cx="172800" cy="173160"/>
          </a:xfrm>
          <a:custGeom>
            <a:avLst/>
            <a:gdLst/>
            <a:ahLst/>
            <a:rect l="l" t="t" r="r" b="b"/>
            <a:pathLst>
              <a:path w="647" h="648">
                <a:moveTo>
                  <a:pt x="560" y="351"/>
                </a:moveTo>
                <a:lnTo>
                  <a:pt x="350" y="351"/>
                </a:lnTo>
                <a:lnTo>
                  <a:pt x="350" y="560"/>
                </a:lnTo>
                <a:lnTo>
                  <a:pt x="560" y="560"/>
                </a:lnTo>
                <a:lnTo>
                  <a:pt x="560" y="351"/>
                </a:lnTo>
                <a:close/>
                <a:moveTo>
                  <a:pt x="87" y="298"/>
                </a:moveTo>
                <a:lnTo>
                  <a:pt x="297" y="298"/>
                </a:lnTo>
                <a:lnTo>
                  <a:pt x="297" y="88"/>
                </a:lnTo>
                <a:lnTo>
                  <a:pt x="87" y="88"/>
                </a:lnTo>
                <a:lnTo>
                  <a:pt x="87" y="298"/>
                </a:lnTo>
                <a:close/>
                <a:moveTo>
                  <a:pt x="587" y="324"/>
                </a:moveTo>
                <a:lnTo>
                  <a:pt x="587" y="587"/>
                </a:lnTo>
                <a:lnTo>
                  <a:pt x="324" y="587"/>
                </a:lnTo>
                <a:lnTo>
                  <a:pt x="61" y="587"/>
                </a:lnTo>
                <a:lnTo>
                  <a:pt x="61" y="324"/>
                </a:lnTo>
                <a:lnTo>
                  <a:pt x="61" y="324"/>
                </a:lnTo>
                <a:lnTo>
                  <a:pt x="61" y="61"/>
                </a:lnTo>
                <a:lnTo>
                  <a:pt x="324" y="61"/>
                </a:lnTo>
                <a:lnTo>
                  <a:pt x="324" y="61"/>
                </a:lnTo>
                <a:lnTo>
                  <a:pt x="587" y="61"/>
                </a:lnTo>
                <a:lnTo>
                  <a:pt x="587" y="324"/>
                </a:lnTo>
                <a:close/>
                <a:moveTo>
                  <a:pt x="613" y="0"/>
                </a:moveTo>
                <a:lnTo>
                  <a:pt x="34" y="0"/>
                </a:lnTo>
                <a:cubicBezTo>
                  <a:pt x="15" y="0"/>
                  <a:pt x="0" y="16"/>
                  <a:pt x="0" y="35"/>
                </a:cubicBezTo>
                <a:lnTo>
                  <a:pt x="0" y="613"/>
                </a:lnTo>
                <a:cubicBezTo>
                  <a:pt x="0" y="632"/>
                  <a:pt x="15" y="648"/>
                  <a:pt x="34" y="648"/>
                </a:cubicBezTo>
                <a:lnTo>
                  <a:pt x="613" y="648"/>
                </a:lnTo>
                <a:cubicBezTo>
                  <a:pt x="632" y="648"/>
                  <a:pt x="647" y="632"/>
                  <a:pt x="647" y="613"/>
                </a:cubicBezTo>
                <a:lnTo>
                  <a:pt x="647" y="35"/>
                </a:lnTo>
                <a:cubicBezTo>
                  <a:pt x="647" y="16"/>
                  <a:pt x="632" y="0"/>
                  <a:pt x="613"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32" name="Freeform 326"/>
          <p:cNvSpPr/>
          <p:nvPr/>
        </p:nvSpPr>
        <p:spPr>
          <a:xfrm>
            <a:off x="3591000" y="5837400"/>
            <a:ext cx="169920" cy="169560"/>
          </a:xfrm>
          <a:custGeom>
            <a:avLst/>
            <a:gdLst/>
            <a:ahLst/>
            <a:rect l="l" t="t" r="r" b="b"/>
            <a:pathLst>
              <a:path w="638" h="638">
                <a:moveTo>
                  <a:pt x="448" y="176"/>
                </a:moveTo>
                <a:cubicBezTo>
                  <a:pt x="396" y="176"/>
                  <a:pt x="352" y="206"/>
                  <a:pt x="329" y="251"/>
                </a:cubicBezTo>
                <a:lnTo>
                  <a:pt x="400" y="324"/>
                </a:lnTo>
                <a:cubicBezTo>
                  <a:pt x="399" y="323"/>
                  <a:pt x="399" y="321"/>
                  <a:pt x="399" y="319"/>
                </a:cubicBezTo>
                <a:cubicBezTo>
                  <a:pt x="399" y="291"/>
                  <a:pt x="421" y="268"/>
                  <a:pt x="447" y="268"/>
                </a:cubicBezTo>
                <a:cubicBezTo>
                  <a:pt x="474" y="268"/>
                  <a:pt x="496" y="291"/>
                  <a:pt x="496" y="319"/>
                </a:cubicBezTo>
                <a:cubicBezTo>
                  <a:pt x="496" y="347"/>
                  <a:pt x="474" y="370"/>
                  <a:pt x="447" y="370"/>
                </a:cubicBezTo>
                <a:cubicBezTo>
                  <a:pt x="436" y="370"/>
                  <a:pt x="425" y="366"/>
                  <a:pt x="417" y="359"/>
                </a:cubicBezTo>
                <a:lnTo>
                  <a:pt x="286" y="219"/>
                </a:lnTo>
                <a:cubicBezTo>
                  <a:pt x="262" y="192"/>
                  <a:pt x="228" y="176"/>
                  <a:pt x="190" y="176"/>
                </a:cubicBezTo>
                <a:cubicBezTo>
                  <a:pt x="115" y="176"/>
                  <a:pt x="55" y="240"/>
                  <a:pt x="55" y="319"/>
                </a:cubicBezTo>
                <a:cubicBezTo>
                  <a:pt x="55" y="398"/>
                  <a:pt x="115" y="462"/>
                  <a:pt x="190" y="462"/>
                </a:cubicBezTo>
                <a:cubicBezTo>
                  <a:pt x="241" y="462"/>
                  <a:pt x="286" y="432"/>
                  <a:pt x="309" y="387"/>
                </a:cubicBezTo>
                <a:lnTo>
                  <a:pt x="239" y="315"/>
                </a:lnTo>
                <a:cubicBezTo>
                  <a:pt x="239" y="316"/>
                  <a:pt x="239" y="318"/>
                  <a:pt x="239" y="320"/>
                </a:cubicBezTo>
                <a:cubicBezTo>
                  <a:pt x="239" y="348"/>
                  <a:pt x="217" y="371"/>
                  <a:pt x="191" y="371"/>
                </a:cubicBezTo>
                <a:cubicBezTo>
                  <a:pt x="164" y="371"/>
                  <a:pt x="143" y="348"/>
                  <a:pt x="143" y="320"/>
                </a:cubicBezTo>
                <a:cubicBezTo>
                  <a:pt x="143" y="292"/>
                  <a:pt x="164" y="269"/>
                  <a:pt x="191" y="269"/>
                </a:cubicBezTo>
                <a:cubicBezTo>
                  <a:pt x="203" y="269"/>
                  <a:pt x="214" y="273"/>
                  <a:pt x="222" y="281"/>
                </a:cubicBezTo>
                <a:lnTo>
                  <a:pt x="352" y="421"/>
                </a:lnTo>
                <a:cubicBezTo>
                  <a:pt x="377" y="447"/>
                  <a:pt x="411" y="462"/>
                  <a:pt x="448" y="462"/>
                </a:cubicBezTo>
                <a:cubicBezTo>
                  <a:pt x="522" y="462"/>
                  <a:pt x="583" y="398"/>
                  <a:pt x="583" y="319"/>
                </a:cubicBezTo>
                <a:cubicBezTo>
                  <a:pt x="583" y="240"/>
                  <a:pt x="522" y="176"/>
                  <a:pt x="448" y="176"/>
                </a:cubicBezTo>
                <a:close/>
                <a:moveTo>
                  <a:pt x="638" y="604"/>
                </a:moveTo>
                <a:cubicBezTo>
                  <a:pt x="638" y="623"/>
                  <a:pt x="623" y="638"/>
                  <a:pt x="604" y="638"/>
                </a:cubicBezTo>
                <a:lnTo>
                  <a:pt x="34" y="638"/>
                </a:lnTo>
                <a:cubicBezTo>
                  <a:pt x="15" y="638"/>
                  <a:pt x="0" y="623"/>
                  <a:pt x="0" y="604"/>
                </a:cubicBezTo>
                <a:lnTo>
                  <a:pt x="0" y="34"/>
                </a:lnTo>
                <a:cubicBezTo>
                  <a:pt x="0" y="15"/>
                  <a:pt x="15" y="0"/>
                  <a:pt x="34" y="0"/>
                </a:cubicBezTo>
                <a:lnTo>
                  <a:pt x="604" y="0"/>
                </a:lnTo>
                <a:cubicBezTo>
                  <a:pt x="623" y="0"/>
                  <a:pt x="638" y="15"/>
                  <a:pt x="638" y="34"/>
                </a:cubicBezTo>
                <a:lnTo>
                  <a:pt x="638" y="604"/>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33" name="Freeform 327"/>
          <p:cNvSpPr/>
          <p:nvPr/>
        </p:nvSpPr>
        <p:spPr>
          <a:xfrm>
            <a:off x="7300800" y="5843520"/>
            <a:ext cx="173160" cy="171360"/>
          </a:xfrm>
          <a:custGeom>
            <a:avLst/>
            <a:gdLst/>
            <a:ahLst/>
            <a:rect l="l" t="t" r="r" b="b"/>
            <a:pathLst>
              <a:path w="643" h="643">
                <a:moveTo>
                  <a:pt x="585" y="437"/>
                </a:moveTo>
                <a:cubicBezTo>
                  <a:pt x="510" y="489"/>
                  <a:pt x="434" y="516"/>
                  <a:pt x="359" y="516"/>
                </a:cubicBezTo>
                <a:cubicBezTo>
                  <a:pt x="339" y="516"/>
                  <a:pt x="320" y="514"/>
                  <a:pt x="301" y="510"/>
                </a:cubicBezTo>
                <a:cubicBezTo>
                  <a:pt x="146" y="482"/>
                  <a:pt x="53" y="350"/>
                  <a:pt x="49" y="345"/>
                </a:cubicBezTo>
                <a:cubicBezTo>
                  <a:pt x="38" y="329"/>
                  <a:pt x="42" y="307"/>
                  <a:pt x="58" y="296"/>
                </a:cubicBezTo>
                <a:cubicBezTo>
                  <a:pt x="74" y="285"/>
                  <a:pt x="95" y="289"/>
                  <a:pt x="106" y="305"/>
                </a:cubicBezTo>
                <a:cubicBezTo>
                  <a:pt x="114" y="315"/>
                  <a:pt x="288" y="558"/>
                  <a:pt x="545" y="379"/>
                </a:cubicBezTo>
                <a:cubicBezTo>
                  <a:pt x="560" y="368"/>
                  <a:pt x="582" y="372"/>
                  <a:pt x="593" y="388"/>
                </a:cubicBezTo>
                <a:cubicBezTo>
                  <a:pt x="605" y="404"/>
                  <a:pt x="601" y="426"/>
                  <a:pt x="585" y="437"/>
                </a:cubicBezTo>
                <a:close/>
                <a:moveTo>
                  <a:pt x="231" y="128"/>
                </a:moveTo>
                <a:cubicBezTo>
                  <a:pt x="262" y="128"/>
                  <a:pt x="287" y="153"/>
                  <a:pt x="287" y="184"/>
                </a:cubicBezTo>
                <a:cubicBezTo>
                  <a:pt x="287" y="215"/>
                  <a:pt x="262" y="240"/>
                  <a:pt x="231" y="240"/>
                </a:cubicBezTo>
                <a:cubicBezTo>
                  <a:pt x="201" y="240"/>
                  <a:pt x="175" y="215"/>
                  <a:pt x="175" y="184"/>
                </a:cubicBezTo>
                <a:cubicBezTo>
                  <a:pt x="175" y="153"/>
                  <a:pt x="201" y="128"/>
                  <a:pt x="231" y="128"/>
                </a:cubicBezTo>
                <a:close/>
                <a:moveTo>
                  <a:pt x="444" y="166"/>
                </a:moveTo>
                <a:cubicBezTo>
                  <a:pt x="475" y="166"/>
                  <a:pt x="500" y="191"/>
                  <a:pt x="500" y="222"/>
                </a:cubicBezTo>
                <a:cubicBezTo>
                  <a:pt x="500" y="253"/>
                  <a:pt x="475" y="278"/>
                  <a:pt x="444" y="278"/>
                </a:cubicBezTo>
                <a:cubicBezTo>
                  <a:pt x="413" y="278"/>
                  <a:pt x="388" y="253"/>
                  <a:pt x="388" y="222"/>
                </a:cubicBezTo>
                <a:cubicBezTo>
                  <a:pt x="388" y="191"/>
                  <a:pt x="413" y="166"/>
                  <a:pt x="444" y="166"/>
                </a:cubicBezTo>
                <a:close/>
                <a:moveTo>
                  <a:pt x="608" y="0"/>
                </a:moveTo>
                <a:lnTo>
                  <a:pt x="34" y="0"/>
                </a:lnTo>
                <a:cubicBezTo>
                  <a:pt x="15" y="0"/>
                  <a:pt x="0" y="16"/>
                  <a:pt x="0" y="34"/>
                </a:cubicBezTo>
                <a:lnTo>
                  <a:pt x="0" y="609"/>
                </a:lnTo>
                <a:cubicBezTo>
                  <a:pt x="0" y="628"/>
                  <a:pt x="15" y="643"/>
                  <a:pt x="34" y="643"/>
                </a:cubicBezTo>
                <a:lnTo>
                  <a:pt x="608" y="643"/>
                </a:lnTo>
                <a:cubicBezTo>
                  <a:pt x="627" y="643"/>
                  <a:pt x="643" y="628"/>
                  <a:pt x="643" y="609"/>
                </a:cubicBezTo>
                <a:lnTo>
                  <a:pt x="643" y="34"/>
                </a:lnTo>
                <a:cubicBezTo>
                  <a:pt x="643" y="16"/>
                  <a:pt x="627" y="0"/>
                  <a:pt x="608"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34" name="Freeform 328"/>
          <p:cNvSpPr/>
          <p:nvPr/>
        </p:nvSpPr>
        <p:spPr>
          <a:xfrm>
            <a:off x="5533920" y="5837400"/>
            <a:ext cx="169920" cy="171360"/>
          </a:xfrm>
          <a:custGeom>
            <a:avLst/>
            <a:gdLst/>
            <a:ahLst/>
            <a:rect l="l" t="t" r="r" b="b"/>
            <a:pathLst>
              <a:path w="639" h="639">
                <a:moveTo>
                  <a:pt x="467" y="284"/>
                </a:moveTo>
                <a:cubicBezTo>
                  <a:pt x="418" y="284"/>
                  <a:pt x="411" y="334"/>
                  <a:pt x="411" y="334"/>
                </a:cubicBezTo>
                <a:lnTo>
                  <a:pt x="516" y="334"/>
                </a:lnTo>
                <a:cubicBezTo>
                  <a:pt x="516" y="334"/>
                  <a:pt x="517" y="284"/>
                  <a:pt x="467" y="284"/>
                </a:cubicBezTo>
                <a:close/>
                <a:moveTo>
                  <a:pt x="578" y="377"/>
                </a:moveTo>
                <a:lnTo>
                  <a:pt x="411" y="377"/>
                </a:lnTo>
                <a:cubicBezTo>
                  <a:pt x="411" y="436"/>
                  <a:pt x="468" y="433"/>
                  <a:pt x="468" y="433"/>
                </a:cubicBezTo>
                <a:cubicBezTo>
                  <a:pt x="522" y="433"/>
                  <a:pt x="520" y="398"/>
                  <a:pt x="520" y="398"/>
                </a:cubicBezTo>
                <a:lnTo>
                  <a:pt x="576" y="398"/>
                </a:lnTo>
                <a:cubicBezTo>
                  <a:pt x="576" y="490"/>
                  <a:pt x="466" y="484"/>
                  <a:pt x="466" y="484"/>
                </a:cubicBezTo>
                <a:cubicBezTo>
                  <a:pt x="334" y="484"/>
                  <a:pt x="342" y="361"/>
                  <a:pt x="342" y="361"/>
                </a:cubicBezTo>
                <a:cubicBezTo>
                  <a:pt x="342" y="361"/>
                  <a:pt x="342" y="237"/>
                  <a:pt x="466" y="237"/>
                </a:cubicBezTo>
                <a:cubicBezTo>
                  <a:pt x="596" y="237"/>
                  <a:pt x="578" y="377"/>
                  <a:pt x="578" y="377"/>
                </a:cubicBezTo>
                <a:close/>
                <a:moveTo>
                  <a:pt x="330" y="382"/>
                </a:moveTo>
                <a:cubicBezTo>
                  <a:pt x="330" y="480"/>
                  <a:pt x="227" y="477"/>
                  <a:pt x="227" y="477"/>
                </a:cubicBezTo>
                <a:lnTo>
                  <a:pt x="134" y="477"/>
                </a:lnTo>
                <a:lnTo>
                  <a:pt x="131" y="477"/>
                </a:lnTo>
                <a:lnTo>
                  <a:pt x="60" y="477"/>
                </a:lnTo>
                <a:lnTo>
                  <a:pt x="60" y="155"/>
                </a:lnTo>
                <a:lnTo>
                  <a:pt x="131" y="155"/>
                </a:lnTo>
                <a:lnTo>
                  <a:pt x="134" y="155"/>
                </a:lnTo>
                <a:lnTo>
                  <a:pt x="227" y="155"/>
                </a:lnTo>
                <a:cubicBezTo>
                  <a:pt x="278" y="155"/>
                  <a:pt x="319" y="183"/>
                  <a:pt x="319" y="241"/>
                </a:cubicBezTo>
                <a:cubicBezTo>
                  <a:pt x="319" y="298"/>
                  <a:pt x="269" y="302"/>
                  <a:pt x="269" y="302"/>
                </a:cubicBezTo>
                <a:cubicBezTo>
                  <a:pt x="334" y="302"/>
                  <a:pt x="330" y="382"/>
                  <a:pt x="330" y="382"/>
                </a:cubicBezTo>
                <a:close/>
                <a:moveTo>
                  <a:pt x="397" y="174"/>
                </a:moveTo>
                <a:lnTo>
                  <a:pt x="530" y="174"/>
                </a:lnTo>
                <a:lnTo>
                  <a:pt x="530" y="214"/>
                </a:lnTo>
                <a:lnTo>
                  <a:pt x="397" y="214"/>
                </a:lnTo>
                <a:lnTo>
                  <a:pt x="397" y="174"/>
                </a:lnTo>
                <a:close/>
                <a:moveTo>
                  <a:pt x="605" y="0"/>
                </a:moveTo>
                <a:lnTo>
                  <a:pt x="34" y="0"/>
                </a:lnTo>
                <a:cubicBezTo>
                  <a:pt x="15" y="0"/>
                  <a:pt x="0" y="15"/>
                  <a:pt x="0" y="34"/>
                </a:cubicBezTo>
                <a:lnTo>
                  <a:pt x="0" y="605"/>
                </a:lnTo>
                <a:cubicBezTo>
                  <a:pt x="0" y="623"/>
                  <a:pt x="15" y="639"/>
                  <a:pt x="34" y="639"/>
                </a:cubicBezTo>
                <a:lnTo>
                  <a:pt x="605" y="639"/>
                </a:lnTo>
                <a:cubicBezTo>
                  <a:pt x="624" y="639"/>
                  <a:pt x="639" y="623"/>
                  <a:pt x="639" y="605"/>
                </a:cubicBezTo>
                <a:lnTo>
                  <a:pt x="639" y="34"/>
                </a:lnTo>
                <a:cubicBezTo>
                  <a:pt x="639" y="15"/>
                  <a:pt x="624" y="0"/>
                  <a:pt x="605" y="0"/>
                </a:cubicBezTo>
                <a:close/>
                <a:moveTo>
                  <a:pt x="250" y="246"/>
                </a:moveTo>
                <a:cubicBezTo>
                  <a:pt x="250" y="212"/>
                  <a:pt x="227" y="212"/>
                  <a:pt x="227" y="212"/>
                </a:cubicBezTo>
                <a:lnTo>
                  <a:pt x="215" y="212"/>
                </a:lnTo>
                <a:lnTo>
                  <a:pt x="134" y="212"/>
                </a:lnTo>
                <a:lnTo>
                  <a:pt x="134" y="284"/>
                </a:lnTo>
                <a:lnTo>
                  <a:pt x="222" y="284"/>
                </a:lnTo>
                <a:cubicBezTo>
                  <a:pt x="237" y="284"/>
                  <a:pt x="250" y="279"/>
                  <a:pt x="250" y="246"/>
                </a:cubicBezTo>
                <a:close/>
                <a:moveTo>
                  <a:pt x="227" y="334"/>
                </a:moveTo>
                <a:lnTo>
                  <a:pt x="134" y="334"/>
                </a:lnTo>
                <a:lnTo>
                  <a:pt x="134" y="420"/>
                </a:lnTo>
                <a:lnTo>
                  <a:pt x="223" y="420"/>
                </a:lnTo>
                <a:cubicBezTo>
                  <a:pt x="237" y="419"/>
                  <a:pt x="261" y="415"/>
                  <a:pt x="261" y="378"/>
                </a:cubicBezTo>
                <a:cubicBezTo>
                  <a:pt x="261" y="333"/>
                  <a:pt x="227" y="334"/>
                  <a:pt x="227" y="334"/>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35" name="Freeform 329"/>
          <p:cNvSpPr/>
          <p:nvPr/>
        </p:nvSpPr>
        <p:spPr>
          <a:xfrm>
            <a:off x="8008920" y="5843520"/>
            <a:ext cx="171360" cy="173160"/>
          </a:xfrm>
          <a:custGeom>
            <a:avLst/>
            <a:gdLst/>
            <a:ahLst/>
            <a:rect l="l" t="t" r="r" b="b"/>
            <a:pathLst>
              <a:path w="645" h="645">
                <a:moveTo>
                  <a:pt x="327" y="343"/>
                </a:moveTo>
                <a:lnTo>
                  <a:pt x="255" y="550"/>
                </a:lnTo>
                <a:cubicBezTo>
                  <a:pt x="277" y="557"/>
                  <a:pt x="299" y="560"/>
                  <a:pt x="323" y="560"/>
                </a:cubicBezTo>
                <a:cubicBezTo>
                  <a:pt x="350" y="560"/>
                  <a:pt x="377" y="555"/>
                  <a:pt x="401" y="546"/>
                </a:cubicBezTo>
                <a:lnTo>
                  <a:pt x="400" y="543"/>
                </a:lnTo>
                <a:lnTo>
                  <a:pt x="327" y="343"/>
                </a:lnTo>
                <a:close/>
                <a:moveTo>
                  <a:pt x="323" y="587"/>
                </a:moveTo>
                <a:cubicBezTo>
                  <a:pt x="177" y="587"/>
                  <a:pt x="58" y="468"/>
                  <a:pt x="58" y="322"/>
                </a:cubicBezTo>
                <a:cubicBezTo>
                  <a:pt x="58" y="177"/>
                  <a:pt x="177" y="58"/>
                  <a:pt x="323" y="58"/>
                </a:cubicBezTo>
                <a:cubicBezTo>
                  <a:pt x="468" y="58"/>
                  <a:pt x="587" y="177"/>
                  <a:pt x="587" y="322"/>
                </a:cubicBezTo>
                <a:cubicBezTo>
                  <a:pt x="587" y="468"/>
                  <a:pt x="468" y="587"/>
                  <a:pt x="323" y="587"/>
                </a:cubicBezTo>
                <a:close/>
                <a:moveTo>
                  <a:pt x="610" y="0"/>
                </a:moveTo>
                <a:lnTo>
                  <a:pt x="35" y="0"/>
                </a:lnTo>
                <a:cubicBezTo>
                  <a:pt x="16" y="0"/>
                  <a:pt x="0" y="16"/>
                  <a:pt x="0" y="35"/>
                </a:cubicBezTo>
                <a:lnTo>
                  <a:pt x="0" y="610"/>
                </a:lnTo>
                <a:cubicBezTo>
                  <a:pt x="0" y="629"/>
                  <a:pt x="16" y="645"/>
                  <a:pt x="35" y="645"/>
                </a:cubicBezTo>
                <a:lnTo>
                  <a:pt x="610" y="645"/>
                </a:lnTo>
                <a:cubicBezTo>
                  <a:pt x="629" y="645"/>
                  <a:pt x="645" y="629"/>
                  <a:pt x="645" y="610"/>
                </a:cubicBezTo>
                <a:lnTo>
                  <a:pt x="645" y="35"/>
                </a:lnTo>
                <a:cubicBezTo>
                  <a:pt x="645" y="16"/>
                  <a:pt x="629" y="0"/>
                  <a:pt x="610" y="0"/>
                </a:cubicBezTo>
                <a:close/>
                <a:moveTo>
                  <a:pt x="442" y="528"/>
                </a:moveTo>
                <a:cubicBezTo>
                  <a:pt x="513" y="487"/>
                  <a:pt x="560" y="410"/>
                  <a:pt x="560" y="322"/>
                </a:cubicBezTo>
                <a:cubicBezTo>
                  <a:pt x="560" y="281"/>
                  <a:pt x="549" y="242"/>
                  <a:pt x="531" y="208"/>
                </a:cubicBezTo>
                <a:cubicBezTo>
                  <a:pt x="532" y="216"/>
                  <a:pt x="533" y="224"/>
                  <a:pt x="533" y="233"/>
                </a:cubicBezTo>
                <a:cubicBezTo>
                  <a:pt x="533" y="257"/>
                  <a:pt x="528" y="284"/>
                  <a:pt x="514" y="318"/>
                </a:cubicBezTo>
                <a:lnTo>
                  <a:pt x="442" y="528"/>
                </a:lnTo>
                <a:close/>
                <a:moveTo>
                  <a:pt x="85" y="322"/>
                </a:moveTo>
                <a:cubicBezTo>
                  <a:pt x="85" y="416"/>
                  <a:pt x="140" y="498"/>
                  <a:pt x="219" y="536"/>
                </a:cubicBezTo>
                <a:lnTo>
                  <a:pt x="106" y="226"/>
                </a:lnTo>
                <a:cubicBezTo>
                  <a:pt x="92" y="255"/>
                  <a:pt x="85" y="288"/>
                  <a:pt x="85" y="322"/>
                </a:cubicBezTo>
                <a:close/>
                <a:moveTo>
                  <a:pt x="483" y="310"/>
                </a:moveTo>
                <a:cubicBezTo>
                  <a:pt x="483" y="281"/>
                  <a:pt x="472" y="261"/>
                  <a:pt x="463" y="245"/>
                </a:cubicBezTo>
                <a:cubicBezTo>
                  <a:pt x="451" y="225"/>
                  <a:pt x="440" y="209"/>
                  <a:pt x="440" y="189"/>
                </a:cubicBezTo>
                <a:cubicBezTo>
                  <a:pt x="440" y="167"/>
                  <a:pt x="457" y="147"/>
                  <a:pt x="480" y="147"/>
                </a:cubicBezTo>
                <a:lnTo>
                  <a:pt x="483" y="147"/>
                </a:lnTo>
                <a:cubicBezTo>
                  <a:pt x="441" y="109"/>
                  <a:pt x="384" y="85"/>
                  <a:pt x="323" y="85"/>
                </a:cubicBezTo>
                <a:cubicBezTo>
                  <a:pt x="240" y="85"/>
                  <a:pt x="167" y="128"/>
                  <a:pt x="124" y="192"/>
                </a:cubicBezTo>
                <a:cubicBezTo>
                  <a:pt x="130" y="192"/>
                  <a:pt x="135" y="192"/>
                  <a:pt x="139" y="192"/>
                </a:cubicBezTo>
                <a:cubicBezTo>
                  <a:pt x="164" y="192"/>
                  <a:pt x="203" y="189"/>
                  <a:pt x="203" y="189"/>
                </a:cubicBezTo>
                <a:cubicBezTo>
                  <a:pt x="216" y="189"/>
                  <a:pt x="217" y="207"/>
                  <a:pt x="204" y="209"/>
                </a:cubicBezTo>
                <a:cubicBezTo>
                  <a:pt x="204" y="209"/>
                  <a:pt x="191" y="210"/>
                  <a:pt x="177" y="211"/>
                </a:cubicBezTo>
                <a:lnTo>
                  <a:pt x="264" y="468"/>
                </a:lnTo>
                <a:lnTo>
                  <a:pt x="316" y="312"/>
                </a:lnTo>
                <a:lnTo>
                  <a:pt x="279" y="211"/>
                </a:lnTo>
                <a:cubicBezTo>
                  <a:pt x="266" y="210"/>
                  <a:pt x="254" y="209"/>
                  <a:pt x="254" y="209"/>
                </a:cubicBezTo>
                <a:cubicBezTo>
                  <a:pt x="241" y="208"/>
                  <a:pt x="242" y="189"/>
                  <a:pt x="255" y="189"/>
                </a:cubicBezTo>
                <a:cubicBezTo>
                  <a:pt x="255" y="189"/>
                  <a:pt x="294" y="192"/>
                  <a:pt x="318" y="192"/>
                </a:cubicBezTo>
                <a:cubicBezTo>
                  <a:pt x="342" y="192"/>
                  <a:pt x="381" y="189"/>
                  <a:pt x="381" y="189"/>
                </a:cubicBezTo>
                <a:cubicBezTo>
                  <a:pt x="394" y="189"/>
                  <a:pt x="395" y="207"/>
                  <a:pt x="382" y="209"/>
                </a:cubicBezTo>
                <a:cubicBezTo>
                  <a:pt x="382" y="209"/>
                  <a:pt x="370" y="210"/>
                  <a:pt x="355" y="211"/>
                </a:cubicBezTo>
                <a:lnTo>
                  <a:pt x="441" y="466"/>
                </a:lnTo>
                <a:lnTo>
                  <a:pt x="465" y="387"/>
                </a:lnTo>
                <a:cubicBezTo>
                  <a:pt x="475" y="354"/>
                  <a:pt x="483" y="331"/>
                  <a:pt x="483" y="31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36" name="Freeform 330"/>
          <p:cNvSpPr/>
          <p:nvPr/>
        </p:nvSpPr>
        <p:spPr>
          <a:xfrm>
            <a:off x="4556160" y="5837400"/>
            <a:ext cx="171360" cy="172800"/>
          </a:xfrm>
          <a:custGeom>
            <a:avLst/>
            <a:gdLst/>
            <a:ahLst/>
            <a:rect l="l" t="t" r="r" b="b"/>
            <a:pathLst>
              <a:path w="646" h="646">
                <a:moveTo>
                  <a:pt x="227" y="257"/>
                </a:moveTo>
                <a:lnTo>
                  <a:pt x="334" y="257"/>
                </a:lnTo>
                <a:cubicBezTo>
                  <a:pt x="359" y="257"/>
                  <a:pt x="379" y="239"/>
                  <a:pt x="379" y="214"/>
                </a:cubicBezTo>
                <a:cubicBezTo>
                  <a:pt x="380" y="189"/>
                  <a:pt x="360" y="166"/>
                  <a:pt x="335" y="166"/>
                </a:cubicBezTo>
                <a:lnTo>
                  <a:pt x="228" y="166"/>
                </a:lnTo>
                <a:cubicBezTo>
                  <a:pt x="203" y="166"/>
                  <a:pt x="183" y="186"/>
                  <a:pt x="182" y="211"/>
                </a:cubicBezTo>
                <a:cubicBezTo>
                  <a:pt x="182" y="236"/>
                  <a:pt x="202" y="256"/>
                  <a:pt x="227" y="257"/>
                </a:cubicBezTo>
                <a:close/>
                <a:moveTo>
                  <a:pt x="538" y="540"/>
                </a:moveTo>
                <a:cubicBezTo>
                  <a:pt x="509" y="570"/>
                  <a:pt x="468" y="586"/>
                  <a:pt x="419" y="587"/>
                </a:cubicBezTo>
                <a:lnTo>
                  <a:pt x="419" y="587"/>
                </a:lnTo>
                <a:lnTo>
                  <a:pt x="229" y="587"/>
                </a:lnTo>
                <a:lnTo>
                  <a:pt x="225" y="587"/>
                </a:lnTo>
                <a:cubicBezTo>
                  <a:pt x="170" y="587"/>
                  <a:pt x="128" y="571"/>
                  <a:pt x="100" y="541"/>
                </a:cubicBezTo>
                <a:cubicBezTo>
                  <a:pt x="71" y="511"/>
                  <a:pt x="62" y="470"/>
                  <a:pt x="62" y="412"/>
                </a:cubicBezTo>
                <a:cubicBezTo>
                  <a:pt x="62" y="409"/>
                  <a:pt x="62" y="405"/>
                  <a:pt x="62" y="401"/>
                </a:cubicBezTo>
                <a:lnTo>
                  <a:pt x="62" y="200"/>
                </a:lnTo>
                <a:cubicBezTo>
                  <a:pt x="64" y="150"/>
                  <a:pt x="87" y="120"/>
                  <a:pt x="103" y="102"/>
                </a:cubicBezTo>
                <a:cubicBezTo>
                  <a:pt x="130" y="74"/>
                  <a:pt x="169" y="59"/>
                  <a:pt x="217" y="59"/>
                </a:cubicBezTo>
                <a:lnTo>
                  <a:pt x="218" y="59"/>
                </a:lnTo>
                <a:lnTo>
                  <a:pt x="343" y="59"/>
                </a:lnTo>
                <a:lnTo>
                  <a:pt x="344" y="59"/>
                </a:lnTo>
                <a:cubicBezTo>
                  <a:pt x="425" y="61"/>
                  <a:pt x="484" y="118"/>
                  <a:pt x="485" y="197"/>
                </a:cubicBezTo>
                <a:cubicBezTo>
                  <a:pt x="487" y="220"/>
                  <a:pt x="485" y="242"/>
                  <a:pt x="481" y="262"/>
                </a:cubicBezTo>
                <a:cubicBezTo>
                  <a:pt x="508" y="263"/>
                  <a:pt x="542" y="268"/>
                  <a:pt x="564" y="296"/>
                </a:cubicBezTo>
                <a:cubicBezTo>
                  <a:pt x="583" y="321"/>
                  <a:pt x="583" y="349"/>
                  <a:pt x="583" y="388"/>
                </a:cubicBezTo>
                <a:cubicBezTo>
                  <a:pt x="583" y="396"/>
                  <a:pt x="584" y="417"/>
                  <a:pt x="584" y="417"/>
                </a:cubicBezTo>
                <a:cubicBezTo>
                  <a:pt x="583" y="468"/>
                  <a:pt x="567" y="510"/>
                  <a:pt x="538" y="540"/>
                </a:cubicBezTo>
                <a:close/>
                <a:moveTo>
                  <a:pt x="611" y="0"/>
                </a:moveTo>
                <a:lnTo>
                  <a:pt x="34" y="0"/>
                </a:lnTo>
                <a:cubicBezTo>
                  <a:pt x="15" y="0"/>
                  <a:pt x="0" y="15"/>
                  <a:pt x="0" y="34"/>
                </a:cubicBezTo>
                <a:lnTo>
                  <a:pt x="0" y="611"/>
                </a:lnTo>
                <a:cubicBezTo>
                  <a:pt x="0" y="630"/>
                  <a:pt x="15" y="646"/>
                  <a:pt x="34" y="646"/>
                </a:cubicBezTo>
                <a:lnTo>
                  <a:pt x="611" y="646"/>
                </a:lnTo>
                <a:cubicBezTo>
                  <a:pt x="630" y="646"/>
                  <a:pt x="646" y="630"/>
                  <a:pt x="646" y="611"/>
                </a:cubicBezTo>
                <a:lnTo>
                  <a:pt x="646" y="34"/>
                </a:lnTo>
                <a:cubicBezTo>
                  <a:pt x="646" y="15"/>
                  <a:pt x="630" y="0"/>
                  <a:pt x="611" y="0"/>
                </a:cubicBezTo>
                <a:close/>
                <a:moveTo>
                  <a:pt x="428" y="374"/>
                </a:moveTo>
                <a:lnTo>
                  <a:pt x="216" y="374"/>
                </a:lnTo>
                <a:cubicBezTo>
                  <a:pt x="191" y="374"/>
                  <a:pt x="170" y="394"/>
                  <a:pt x="170" y="419"/>
                </a:cubicBezTo>
                <a:cubicBezTo>
                  <a:pt x="170" y="444"/>
                  <a:pt x="191" y="465"/>
                  <a:pt x="216" y="465"/>
                </a:cubicBezTo>
                <a:lnTo>
                  <a:pt x="428" y="465"/>
                </a:lnTo>
                <a:cubicBezTo>
                  <a:pt x="453" y="465"/>
                  <a:pt x="474" y="444"/>
                  <a:pt x="474" y="419"/>
                </a:cubicBezTo>
                <a:cubicBezTo>
                  <a:pt x="474" y="394"/>
                  <a:pt x="453" y="374"/>
                  <a:pt x="428" y="374"/>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37" name="Freeform 331"/>
          <p:cNvSpPr/>
          <p:nvPr/>
        </p:nvSpPr>
        <p:spPr>
          <a:xfrm>
            <a:off x="8710560" y="5843520"/>
            <a:ext cx="173160" cy="173160"/>
          </a:xfrm>
          <a:custGeom>
            <a:avLst/>
            <a:gdLst/>
            <a:ahLst/>
            <a:rect l="l" t="t" r="r" b="b"/>
            <a:pathLst>
              <a:path w="646" h="647">
                <a:moveTo>
                  <a:pt x="579" y="579"/>
                </a:moveTo>
                <a:lnTo>
                  <a:pt x="473" y="579"/>
                </a:lnTo>
                <a:lnTo>
                  <a:pt x="473" y="413"/>
                </a:lnTo>
                <a:cubicBezTo>
                  <a:pt x="473" y="374"/>
                  <a:pt x="472" y="323"/>
                  <a:pt x="418" y="323"/>
                </a:cubicBezTo>
                <a:cubicBezTo>
                  <a:pt x="363" y="323"/>
                  <a:pt x="354" y="366"/>
                  <a:pt x="354" y="410"/>
                </a:cubicBezTo>
                <a:lnTo>
                  <a:pt x="354" y="579"/>
                </a:lnTo>
                <a:lnTo>
                  <a:pt x="248" y="579"/>
                </a:lnTo>
                <a:lnTo>
                  <a:pt x="248" y="238"/>
                </a:lnTo>
                <a:lnTo>
                  <a:pt x="350" y="238"/>
                </a:lnTo>
                <a:lnTo>
                  <a:pt x="350" y="284"/>
                </a:lnTo>
                <a:lnTo>
                  <a:pt x="351" y="284"/>
                </a:lnTo>
                <a:cubicBezTo>
                  <a:pt x="365" y="257"/>
                  <a:pt x="400" y="229"/>
                  <a:pt x="452" y="229"/>
                </a:cubicBezTo>
                <a:cubicBezTo>
                  <a:pt x="559" y="229"/>
                  <a:pt x="579" y="300"/>
                  <a:pt x="579" y="392"/>
                </a:cubicBezTo>
                <a:lnTo>
                  <a:pt x="579" y="579"/>
                </a:lnTo>
                <a:close/>
                <a:moveTo>
                  <a:pt x="128" y="191"/>
                </a:moveTo>
                <a:cubicBezTo>
                  <a:pt x="94" y="191"/>
                  <a:pt x="67" y="163"/>
                  <a:pt x="67" y="129"/>
                </a:cubicBezTo>
                <a:cubicBezTo>
                  <a:pt x="67" y="95"/>
                  <a:pt x="94" y="68"/>
                  <a:pt x="128" y="68"/>
                </a:cubicBezTo>
                <a:cubicBezTo>
                  <a:pt x="162" y="68"/>
                  <a:pt x="190" y="95"/>
                  <a:pt x="190" y="129"/>
                </a:cubicBezTo>
                <a:cubicBezTo>
                  <a:pt x="190" y="163"/>
                  <a:pt x="162" y="191"/>
                  <a:pt x="128" y="191"/>
                </a:cubicBezTo>
                <a:close/>
                <a:moveTo>
                  <a:pt x="181" y="579"/>
                </a:moveTo>
                <a:lnTo>
                  <a:pt x="75" y="579"/>
                </a:lnTo>
                <a:lnTo>
                  <a:pt x="75" y="238"/>
                </a:lnTo>
                <a:lnTo>
                  <a:pt x="181" y="238"/>
                </a:lnTo>
                <a:lnTo>
                  <a:pt x="181" y="579"/>
                </a:lnTo>
                <a:close/>
                <a:moveTo>
                  <a:pt x="612" y="0"/>
                </a:moveTo>
                <a:lnTo>
                  <a:pt x="34" y="0"/>
                </a:lnTo>
                <a:cubicBezTo>
                  <a:pt x="15" y="0"/>
                  <a:pt x="0" y="16"/>
                  <a:pt x="0" y="35"/>
                </a:cubicBezTo>
                <a:lnTo>
                  <a:pt x="0" y="612"/>
                </a:lnTo>
                <a:cubicBezTo>
                  <a:pt x="0" y="631"/>
                  <a:pt x="15" y="647"/>
                  <a:pt x="34" y="647"/>
                </a:cubicBezTo>
                <a:lnTo>
                  <a:pt x="612" y="647"/>
                </a:lnTo>
                <a:cubicBezTo>
                  <a:pt x="631" y="647"/>
                  <a:pt x="646" y="631"/>
                  <a:pt x="646" y="612"/>
                </a:cubicBezTo>
                <a:lnTo>
                  <a:pt x="646" y="35"/>
                </a:lnTo>
                <a:cubicBezTo>
                  <a:pt x="646" y="16"/>
                  <a:pt x="631" y="0"/>
                  <a:pt x="612"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38" name="Freeform 332"/>
          <p:cNvSpPr/>
          <p:nvPr/>
        </p:nvSpPr>
        <p:spPr>
          <a:xfrm>
            <a:off x="4883040" y="5837400"/>
            <a:ext cx="169920" cy="169560"/>
          </a:xfrm>
          <a:custGeom>
            <a:avLst/>
            <a:gdLst/>
            <a:ahLst/>
            <a:rect l="l" t="t" r="r" b="b"/>
            <a:pathLst>
              <a:path w="638" h="637">
                <a:moveTo>
                  <a:pt x="281" y="473"/>
                </a:moveTo>
                <a:cubicBezTo>
                  <a:pt x="275" y="481"/>
                  <a:pt x="270" y="485"/>
                  <a:pt x="265" y="485"/>
                </a:cubicBezTo>
                <a:cubicBezTo>
                  <a:pt x="261" y="485"/>
                  <a:pt x="259" y="483"/>
                  <a:pt x="259" y="479"/>
                </a:cubicBezTo>
                <a:cubicBezTo>
                  <a:pt x="259" y="478"/>
                  <a:pt x="259" y="475"/>
                  <a:pt x="259" y="469"/>
                </a:cubicBezTo>
                <a:lnTo>
                  <a:pt x="259" y="367"/>
                </a:lnTo>
                <a:lnTo>
                  <a:pt x="233" y="367"/>
                </a:lnTo>
                <a:lnTo>
                  <a:pt x="233" y="477"/>
                </a:lnTo>
                <a:cubicBezTo>
                  <a:pt x="233" y="487"/>
                  <a:pt x="234" y="493"/>
                  <a:pt x="236" y="498"/>
                </a:cubicBezTo>
                <a:cubicBezTo>
                  <a:pt x="238" y="505"/>
                  <a:pt x="244" y="508"/>
                  <a:pt x="252" y="508"/>
                </a:cubicBezTo>
                <a:cubicBezTo>
                  <a:pt x="261" y="508"/>
                  <a:pt x="271" y="502"/>
                  <a:pt x="281" y="491"/>
                </a:cubicBezTo>
                <a:lnTo>
                  <a:pt x="281" y="506"/>
                </a:lnTo>
                <a:lnTo>
                  <a:pt x="306" y="506"/>
                </a:lnTo>
                <a:lnTo>
                  <a:pt x="306" y="367"/>
                </a:lnTo>
                <a:lnTo>
                  <a:pt x="281" y="367"/>
                </a:lnTo>
                <a:lnTo>
                  <a:pt x="281" y="473"/>
                </a:lnTo>
                <a:close/>
                <a:moveTo>
                  <a:pt x="520" y="518"/>
                </a:moveTo>
                <a:cubicBezTo>
                  <a:pt x="514" y="540"/>
                  <a:pt x="496" y="557"/>
                  <a:pt x="475" y="559"/>
                </a:cubicBezTo>
                <a:cubicBezTo>
                  <a:pt x="423" y="565"/>
                  <a:pt x="371" y="565"/>
                  <a:pt x="319" y="565"/>
                </a:cubicBezTo>
                <a:cubicBezTo>
                  <a:pt x="267" y="565"/>
                  <a:pt x="215" y="565"/>
                  <a:pt x="163" y="559"/>
                </a:cubicBezTo>
                <a:cubicBezTo>
                  <a:pt x="142" y="557"/>
                  <a:pt x="124" y="540"/>
                  <a:pt x="118" y="518"/>
                </a:cubicBezTo>
                <a:cubicBezTo>
                  <a:pt x="111" y="487"/>
                  <a:pt x="111" y="452"/>
                  <a:pt x="111" y="420"/>
                </a:cubicBezTo>
                <a:cubicBezTo>
                  <a:pt x="111" y="388"/>
                  <a:pt x="111" y="353"/>
                  <a:pt x="119" y="322"/>
                </a:cubicBezTo>
                <a:cubicBezTo>
                  <a:pt x="124" y="300"/>
                  <a:pt x="142" y="283"/>
                  <a:pt x="163" y="281"/>
                </a:cubicBezTo>
                <a:cubicBezTo>
                  <a:pt x="215" y="275"/>
                  <a:pt x="267" y="275"/>
                  <a:pt x="319" y="275"/>
                </a:cubicBezTo>
                <a:cubicBezTo>
                  <a:pt x="371" y="275"/>
                  <a:pt x="423" y="275"/>
                  <a:pt x="475" y="281"/>
                </a:cubicBezTo>
                <a:cubicBezTo>
                  <a:pt x="496" y="283"/>
                  <a:pt x="515" y="300"/>
                  <a:pt x="520" y="322"/>
                </a:cubicBezTo>
                <a:cubicBezTo>
                  <a:pt x="527" y="353"/>
                  <a:pt x="527" y="388"/>
                  <a:pt x="527" y="420"/>
                </a:cubicBezTo>
                <a:cubicBezTo>
                  <a:pt x="527" y="452"/>
                  <a:pt x="527" y="487"/>
                  <a:pt x="520" y="518"/>
                </a:cubicBezTo>
                <a:close/>
                <a:moveTo>
                  <a:pt x="197" y="73"/>
                </a:moveTo>
                <a:lnTo>
                  <a:pt x="217" y="146"/>
                </a:lnTo>
                <a:lnTo>
                  <a:pt x="236" y="73"/>
                </a:lnTo>
                <a:lnTo>
                  <a:pt x="264" y="73"/>
                </a:lnTo>
                <a:lnTo>
                  <a:pt x="231" y="184"/>
                </a:lnTo>
                <a:lnTo>
                  <a:pt x="231" y="260"/>
                </a:lnTo>
                <a:lnTo>
                  <a:pt x="202" y="260"/>
                </a:lnTo>
                <a:lnTo>
                  <a:pt x="202" y="184"/>
                </a:lnTo>
                <a:cubicBezTo>
                  <a:pt x="200" y="171"/>
                  <a:pt x="194" y="151"/>
                  <a:pt x="185" y="125"/>
                </a:cubicBezTo>
                <a:cubicBezTo>
                  <a:pt x="179" y="107"/>
                  <a:pt x="173" y="90"/>
                  <a:pt x="167" y="73"/>
                </a:cubicBezTo>
                <a:lnTo>
                  <a:pt x="197" y="73"/>
                </a:lnTo>
                <a:close/>
                <a:moveTo>
                  <a:pt x="265" y="166"/>
                </a:moveTo>
                <a:cubicBezTo>
                  <a:pt x="265" y="151"/>
                  <a:pt x="267" y="140"/>
                  <a:pt x="273" y="133"/>
                </a:cubicBezTo>
                <a:cubicBezTo>
                  <a:pt x="280" y="123"/>
                  <a:pt x="289" y="119"/>
                  <a:pt x="302" y="119"/>
                </a:cubicBezTo>
                <a:cubicBezTo>
                  <a:pt x="315" y="119"/>
                  <a:pt x="325" y="123"/>
                  <a:pt x="332" y="133"/>
                </a:cubicBezTo>
                <a:cubicBezTo>
                  <a:pt x="337" y="140"/>
                  <a:pt x="340" y="151"/>
                  <a:pt x="340" y="166"/>
                </a:cubicBezTo>
                <a:lnTo>
                  <a:pt x="340" y="215"/>
                </a:lnTo>
                <a:cubicBezTo>
                  <a:pt x="340" y="230"/>
                  <a:pt x="337" y="241"/>
                  <a:pt x="332" y="248"/>
                </a:cubicBezTo>
                <a:cubicBezTo>
                  <a:pt x="325" y="258"/>
                  <a:pt x="315" y="262"/>
                  <a:pt x="302" y="262"/>
                </a:cubicBezTo>
                <a:cubicBezTo>
                  <a:pt x="289" y="262"/>
                  <a:pt x="280" y="258"/>
                  <a:pt x="273" y="248"/>
                </a:cubicBezTo>
                <a:cubicBezTo>
                  <a:pt x="267" y="241"/>
                  <a:pt x="265" y="230"/>
                  <a:pt x="265" y="215"/>
                </a:cubicBezTo>
                <a:lnTo>
                  <a:pt x="265" y="166"/>
                </a:lnTo>
                <a:close/>
                <a:moveTo>
                  <a:pt x="360" y="120"/>
                </a:moveTo>
                <a:lnTo>
                  <a:pt x="386" y="120"/>
                </a:lnTo>
                <a:lnTo>
                  <a:pt x="386" y="224"/>
                </a:lnTo>
                <a:cubicBezTo>
                  <a:pt x="386" y="229"/>
                  <a:pt x="386" y="233"/>
                  <a:pt x="386" y="233"/>
                </a:cubicBezTo>
                <a:cubicBezTo>
                  <a:pt x="387" y="237"/>
                  <a:pt x="389" y="239"/>
                  <a:pt x="392" y="239"/>
                </a:cubicBezTo>
                <a:cubicBezTo>
                  <a:pt x="397" y="239"/>
                  <a:pt x="402" y="235"/>
                  <a:pt x="408" y="227"/>
                </a:cubicBezTo>
                <a:lnTo>
                  <a:pt x="408" y="120"/>
                </a:lnTo>
                <a:lnTo>
                  <a:pt x="433" y="120"/>
                </a:lnTo>
                <a:lnTo>
                  <a:pt x="433" y="260"/>
                </a:lnTo>
                <a:lnTo>
                  <a:pt x="408" y="260"/>
                </a:lnTo>
                <a:lnTo>
                  <a:pt x="408" y="245"/>
                </a:lnTo>
                <a:cubicBezTo>
                  <a:pt x="398" y="257"/>
                  <a:pt x="388" y="262"/>
                  <a:pt x="379" y="262"/>
                </a:cubicBezTo>
                <a:cubicBezTo>
                  <a:pt x="371" y="262"/>
                  <a:pt x="365" y="259"/>
                  <a:pt x="363" y="252"/>
                </a:cubicBezTo>
                <a:cubicBezTo>
                  <a:pt x="361" y="248"/>
                  <a:pt x="360" y="241"/>
                  <a:pt x="360" y="231"/>
                </a:cubicBezTo>
                <a:lnTo>
                  <a:pt x="360" y="120"/>
                </a:lnTo>
                <a:close/>
                <a:moveTo>
                  <a:pt x="604" y="0"/>
                </a:moveTo>
                <a:lnTo>
                  <a:pt x="34" y="0"/>
                </a:lnTo>
                <a:cubicBezTo>
                  <a:pt x="16" y="0"/>
                  <a:pt x="0" y="15"/>
                  <a:pt x="0" y="34"/>
                </a:cubicBezTo>
                <a:lnTo>
                  <a:pt x="0" y="603"/>
                </a:lnTo>
                <a:cubicBezTo>
                  <a:pt x="0" y="622"/>
                  <a:pt x="16" y="637"/>
                  <a:pt x="34" y="637"/>
                </a:cubicBezTo>
                <a:lnTo>
                  <a:pt x="604" y="637"/>
                </a:lnTo>
                <a:cubicBezTo>
                  <a:pt x="622" y="637"/>
                  <a:pt x="638" y="622"/>
                  <a:pt x="638" y="603"/>
                </a:cubicBezTo>
                <a:lnTo>
                  <a:pt x="638" y="34"/>
                </a:lnTo>
                <a:cubicBezTo>
                  <a:pt x="638" y="15"/>
                  <a:pt x="622" y="0"/>
                  <a:pt x="604" y="0"/>
                </a:cubicBezTo>
                <a:close/>
                <a:moveTo>
                  <a:pt x="471" y="420"/>
                </a:moveTo>
                <a:lnTo>
                  <a:pt x="446" y="420"/>
                </a:lnTo>
                <a:lnTo>
                  <a:pt x="446" y="408"/>
                </a:lnTo>
                <a:cubicBezTo>
                  <a:pt x="446" y="395"/>
                  <a:pt x="450" y="388"/>
                  <a:pt x="458" y="388"/>
                </a:cubicBezTo>
                <a:cubicBezTo>
                  <a:pt x="467" y="388"/>
                  <a:pt x="471" y="395"/>
                  <a:pt x="471" y="408"/>
                </a:cubicBezTo>
                <a:lnTo>
                  <a:pt x="471" y="420"/>
                </a:lnTo>
                <a:close/>
                <a:moveTo>
                  <a:pt x="458" y="366"/>
                </a:moveTo>
                <a:cubicBezTo>
                  <a:pt x="446" y="366"/>
                  <a:pt x="436" y="370"/>
                  <a:pt x="428" y="380"/>
                </a:cubicBezTo>
                <a:cubicBezTo>
                  <a:pt x="423" y="387"/>
                  <a:pt x="421" y="398"/>
                  <a:pt x="421" y="413"/>
                </a:cubicBezTo>
                <a:lnTo>
                  <a:pt x="421" y="461"/>
                </a:lnTo>
                <a:cubicBezTo>
                  <a:pt x="421" y="476"/>
                  <a:pt x="423" y="487"/>
                  <a:pt x="429" y="494"/>
                </a:cubicBezTo>
                <a:cubicBezTo>
                  <a:pt x="436" y="503"/>
                  <a:pt x="446" y="508"/>
                  <a:pt x="459" y="508"/>
                </a:cubicBezTo>
                <a:cubicBezTo>
                  <a:pt x="472" y="508"/>
                  <a:pt x="482" y="503"/>
                  <a:pt x="489" y="493"/>
                </a:cubicBezTo>
                <a:cubicBezTo>
                  <a:pt x="493" y="488"/>
                  <a:pt x="494" y="483"/>
                  <a:pt x="495" y="478"/>
                </a:cubicBezTo>
                <a:cubicBezTo>
                  <a:pt x="496" y="475"/>
                  <a:pt x="496" y="470"/>
                  <a:pt x="496" y="462"/>
                </a:cubicBezTo>
                <a:lnTo>
                  <a:pt x="496" y="458"/>
                </a:lnTo>
                <a:lnTo>
                  <a:pt x="470" y="458"/>
                </a:lnTo>
                <a:cubicBezTo>
                  <a:pt x="470" y="468"/>
                  <a:pt x="470" y="474"/>
                  <a:pt x="470" y="475"/>
                </a:cubicBezTo>
                <a:cubicBezTo>
                  <a:pt x="468" y="482"/>
                  <a:pt x="465" y="485"/>
                  <a:pt x="458" y="485"/>
                </a:cubicBezTo>
                <a:cubicBezTo>
                  <a:pt x="450" y="485"/>
                  <a:pt x="446" y="479"/>
                  <a:pt x="446" y="466"/>
                </a:cubicBezTo>
                <a:lnTo>
                  <a:pt x="446" y="441"/>
                </a:lnTo>
                <a:lnTo>
                  <a:pt x="496" y="441"/>
                </a:lnTo>
                <a:lnTo>
                  <a:pt x="496" y="413"/>
                </a:lnTo>
                <a:cubicBezTo>
                  <a:pt x="496" y="398"/>
                  <a:pt x="493" y="387"/>
                  <a:pt x="488" y="380"/>
                </a:cubicBezTo>
                <a:cubicBezTo>
                  <a:pt x="481" y="370"/>
                  <a:pt x="471" y="366"/>
                  <a:pt x="458" y="366"/>
                </a:cubicBezTo>
                <a:close/>
                <a:moveTo>
                  <a:pt x="302" y="239"/>
                </a:moveTo>
                <a:cubicBezTo>
                  <a:pt x="310" y="239"/>
                  <a:pt x="314" y="233"/>
                  <a:pt x="314" y="220"/>
                </a:cubicBezTo>
                <a:lnTo>
                  <a:pt x="314" y="161"/>
                </a:lnTo>
                <a:cubicBezTo>
                  <a:pt x="314" y="148"/>
                  <a:pt x="310" y="142"/>
                  <a:pt x="302" y="142"/>
                </a:cubicBezTo>
                <a:cubicBezTo>
                  <a:pt x="294" y="142"/>
                  <a:pt x="290" y="148"/>
                  <a:pt x="290" y="161"/>
                </a:cubicBezTo>
                <a:lnTo>
                  <a:pt x="290" y="220"/>
                </a:lnTo>
                <a:cubicBezTo>
                  <a:pt x="290" y="233"/>
                  <a:pt x="294" y="239"/>
                  <a:pt x="302" y="239"/>
                </a:cubicBezTo>
                <a:close/>
                <a:moveTo>
                  <a:pt x="142" y="346"/>
                </a:moveTo>
                <a:lnTo>
                  <a:pt x="172" y="346"/>
                </a:lnTo>
                <a:lnTo>
                  <a:pt x="172" y="506"/>
                </a:lnTo>
                <a:lnTo>
                  <a:pt x="200" y="506"/>
                </a:lnTo>
                <a:lnTo>
                  <a:pt x="200" y="346"/>
                </a:lnTo>
                <a:lnTo>
                  <a:pt x="230" y="346"/>
                </a:lnTo>
                <a:lnTo>
                  <a:pt x="230" y="320"/>
                </a:lnTo>
                <a:lnTo>
                  <a:pt x="142" y="320"/>
                </a:lnTo>
                <a:lnTo>
                  <a:pt x="142" y="346"/>
                </a:lnTo>
                <a:close/>
                <a:moveTo>
                  <a:pt x="376" y="466"/>
                </a:moveTo>
                <a:cubicBezTo>
                  <a:pt x="376" y="479"/>
                  <a:pt x="372" y="485"/>
                  <a:pt x="365" y="485"/>
                </a:cubicBezTo>
                <a:cubicBezTo>
                  <a:pt x="361" y="485"/>
                  <a:pt x="357" y="483"/>
                  <a:pt x="353" y="479"/>
                </a:cubicBezTo>
                <a:lnTo>
                  <a:pt x="353" y="394"/>
                </a:lnTo>
                <a:cubicBezTo>
                  <a:pt x="357" y="390"/>
                  <a:pt x="361" y="388"/>
                  <a:pt x="365" y="388"/>
                </a:cubicBezTo>
                <a:cubicBezTo>
                  <a:pt x="372" y="388"/>
                  <a:pt x="376" y="395"/>
                  <a:pt x="376" y="407"/>
                </a:cubicBezTo>
                <a:lnTo>
                  <a:pt x="376" y="466"/>
                </a:lnTo>
                <a:close/>
                <a:moveTo>
                  <a:pt x="378" y="366"/>
                </a:moveTo>
                <a:cubicBezTo>
                  <a:pt x="369" y="366"/>
                  <a:pt x="361" y="371"/>
                  <a:pt x="353" y="381"/>
                </a:cubicBezTo>
                <a:lnTo>
                  <a:pt x="353" y="320"/>
                </a:lnTo>
                <a:lnTo>
                  <a:pt x="327" y="320"/>
                </a:lnTo>
                <a:lnTo>
                  <a:pt x="327" y="506"/>
                </a:lnTo>
                <a:lnTo>
                  <a:pt x="353" y="506"/>
                </a:lnTo>
                <a:lnTo>
                  <a:pt x="353" y="493"/>
                </a:lnTo>
                <a:cubicBezTo>
                  <a:pt x="361" y="503"/>
                  <a:pt x="370" y="508"/>
                  <a:pt x="378" y="508"/>
                </a:cubicBezTo>
                <a:cubicBezTo>
                  <a:pt x="388" y="508"/>
                  <a:pt x="395" y="503"/>
                  <a:pt x="399" y="492"/>
                </a:cubicBezTo>
                <a:cubicBezTo>
                  <a:pt x="400" y="486"/>
                  <a:pt x="401" y="477"/>
                  <a:pt x="401" y="464"/>
                </a:cubicBezTo>
                <a:lnTo>
                  <a:pt x="401" y="409"/>
                </a:lnTo>
                <a:cubicBezTo>
                  <a:pt x="401" y="396"/>
                  <a:pt x="400" y="387"/>
                  <a:pt x="399" y="381"/>
                </a:cubicBezTo>
                <a:cubicBezTo>
                  <a:pt x="395" y="371"/>
                  <a:pt x="388" y="366"/>
                  <a:pt x="378" y="36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39" name="Freeform 333"/>
          <p:cNvSpPr/>
          <p:nvPr/>
        </p:nvSpPr>
        <p:spPr>
          <a:xfrm>
            <a:off x="8380440" y="5843520"/>
            <a:ext cx="173160" cy="173160"/>
          </a:xfrm>
          <a:custGeom>
            <a:avLst/>
            <a:gdLst/>
            <a:ahLst/>
            <a:rect l="l" t="t" r="r" b="b"/>
            <a:pathLst>
              <a:path w="647" h="647">
                <a:moveTo>
                  <a:pt x="591" y="199"/>
                </a:moveTo>
                <a:cubicBezTo>
                  <a:pt x="588" y="251"/>
                  <a:pt x="552" y="323"/>
                  <a:pt x="481" y="413"/>
                </a:cubicBezTo>
                <a:cubicBezTo>
                  <a:pt x="409" y="508"/>
                  <a:pt x="347" y="555"/>
                  <a:pt x="297" y="555"/>
                </a:cubicBezTo>
                <a:cubicBezTo>
                  <a:pt x="266" y="555"/>
                  <a:pt x="239" y="526"/>
                  <a:pt x="218" y="469"/>
                </a:cubicBezTo>
                <a:cubicBezTo>
                  <a:pt x="203" y="416"/>
                  <a:pt x="189" y="363"/>
                  <a:pt x="175" y="310"/>
                </a:cubicBezTo>
                <a:cubicBezTo>
                  <a:pt x="159" y="253"/>
                  <a:pt x="142" y="224"/>
                  <a:pt x="123" y="224"/>
                </a:cubicBezTo>
                <a:cubicBezTo>
                  <a:pt x="119" y="224"/>
                  <a:pt x="105" y="232"/>
                  <a:pt x="81" y="249"/>
                </a:cubicBezTo>
                <a:lnTo>
                  <a:pt x="56" y="217"/>
                </a:lnTo>
                <a:cubicBezTo>
                  <a:pt x="82" y="193"/>
                  <a:pt x="108" y="170"/>
                  <a:pt x="134" y="147"/>
                </a:cubicBezTo>
                <a:cubicBezTo>
                  <a:pt x="169" y="117"/>
                  <a:pt x="196" y="101"/>
                  <a:pt x="213" y="99"/>
                </a:cubicBezTo>
                <a:cubicBezTo>
                  <a:pt x="255" y="95"/>
                  <a:pt x="281" y="123"/>
                  <a:pt x="290" y="184"/>
                </a:cubicBezTo>
                <a:cubicBezTo>
                  <a:pt x="301" y="250"/>
                  <a:pt x="308" y="291"/>
                  <a:pt x="312" y="307"/>
                </a:cubicBezTo>
                <a:cubicBezTo>
                  <a:pt x="324" y="361"/>
                  <a:pt x="337" y="389"/>
                  <a:pt x="351" y="389"/>
                </a:cubicBezTo>
                <a:cubicBezTo>
                  <a:pt x="363" y="389"/>
                  <a:pt x="379" y="371"/>
                  <a:pt x="402" y="336"/>
                </a:cubicBezTo>
                <a:cubicBezTo>
                  <a:pt x="424" y="300"/>
                  <a:pt x="436" y="273"/>
                  <a:pt x="438" y="255"/>
                </a:cubicBezTo>
                <a:cubicBezTo>
                  <a:pt x="441" y="224"/>
                  <a:pt x="429" y="209"/>
                  <a:pt x="402" y="209"/>
                </a:cubicBezTo>
                <a:cubicBezTo>
                  <a:pt x="389" y="209"/>
                  <a:pt x="376" y="212"/>
                  <a:pt x="362" y="218"/>
                </a:cubicBezTo>
                <a:cubicBezTo>
                  <a:pt x="388" y="132"/>
                  <a:pt x="439" y="90"/>
                  <a:pt x="513" y="92"/>
                </a:cubicBezTo>
                <a:cubicBezTo>
                  <a:pt x="568" y="94"/>
                  <a:pt x="594" y="129"/>
                  <a:pt x="591" y="199"/>
                </a:cubicBezTo>
                <a:close/>
                <a:moveTo>
                  <a:pt x="612" y="0"/>
                </a:moveTo>
                <a:lnTo>
                  <a:pt x="35" y="0"/>
                </a:lnTo>
                <a:cubicBezTo>
                  <a:pt x="16" y="0"/>
                  <a:pt x="0" y="16"/>
                  <a:pt x="0" y="35"/>
                </a:cubicBezTo>
                <a:lnTo>
                  <a:pt x="0" y="612"/>
                </a:lnTo>
                <a:cubicBezTo>
                  <a:pt x="0" y="631"/>
                  <a:pt x="16" y="647"/>
                  <a:pt x="35" y="647"/>
                </a:cubicBezTo>
                <a:lnTo>
                  <a:pt x="612" y="647"/>
                </a:lnTo>
                <a:cubicBezTo>
                  <a:pt x="631" y="647"/>
                  <a:pt x="647" y="631"/>
                  <a:pt x="647" y="612"/>
                </a:cubicBezTo>
                <a:lnTo>
                  <a:pt x="647" y="35"/>
                </a:lnTo>
                <a:cubicBezTo>
                  <a:pt x="647" y="16"/>
                  <a:pt x="631" y="0"/>
                  <a:pt x="612"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40" name="Freeform 334"/>
          <p:cNvSpPr/>
          <p:nvPr/>
        </p:nvSpPr>
        <p:spPr>
          <a:xfrm>
            <a:off x="6246720" y="5843520"/>
            <a:ext cx="171720" cy="171360"/>
          </a:xfrm>
          <a:custGeom>
            <a:avLst/>
            <a:gdLst/>
            <a:ahLst/>
            <a:rect l="l" t="t" r="r" b="b"/>
            <a:pathLst>
              <a:path w="639" h="639">
                <a:moveTo>
                  <a:pt x="555" y="380"/>
                </a:moveTo>
                <a:cubicBezTo>
                  <a:pt x="547" y="381"/>
                  <a:pt x="540" y="383"/>
                  <a:pt x="532" y="384"/>
                </a:cubicBezTo>
                <a:cubicBezTo>
                  <a:pt x="519" y="387"/>
                  <a:pt x="506" y="388"/>
                  <a:pt x="492" y="388"/>
                </a:cubicBezTo>
                <a:cubicBezTo>
                  <a:pt x="486" y="388"/>
                  <a:pt x="484" y="390"/>
                  <a:pt x="481" y="395"/>
                </a:cubicBezTo>
                <a:cubicBezTo>
                  <a:pt x="449" y="458"/>
                  <a:pt x="407" y="513"/>
                  <a:pt x="355" y="561"/>
                </a:cubicBezTo>
                <a:cubicBezTo>
                  <a:pt x="350" y="565"/>
                  <a:pt x="345" y="569"/>
                  <a:pt x="339" y="573"/>
                </a:cubicBezTo>
                <a:cubicBezTo>
                  <a:pt x="320" y="586"/>
                  <a:pt x="301" y="587"/>
                  <a:pt x="281" y="574"/>
                </a:cubicBezTo>
                <a:cubicBezTo>
                  <a:pt x="264" y="564"/>
                  <a:pt x="250" y="550"/>
                  <a:pt x="236" y="535"/>
                </a:cubicBezTo>
                <a:cubicBezTo>
                  <a:pt x="195" y="490"/>
                  <a:pt x="167" y="437"/>
                  <a:pt x="144" y="380"/>
                </a:cubicBezTo>
                <a:cubicBezTo>
                  <a:pt x="114" y="303"/>
                  <a:pt x="96" y="222"/>
                  <a:pt x="85" y="141"/>
                </a:cubicBezTo>
                <a:lnTo>
                  <a:pt x="84" y="135"/>
                </a:lnTo>
                <a:lnTo>
                  <a:pt x="175" y="136"/>
                </a:lnTo>
                <a:lnTo>
                  <a:pt x="176" y="145"/>
                </a:lnTo>
                <a:cubicBezTo>
                  <a:pt x="179" y="171"/>
                  <a:pt x="183" y="197"/>
                  <a:pt x="188" y="223"/>
                </a:cubicBezTo>
                <a:cubicBezTo>
                  <a:pt x="207" y="318"/>
                  <a:pt x="241" y="407"/>
                  <a:pt x="301" y="484"/>
                </a:cubicBezTo>
                <a:cubicBezTo>
                  <a:pt x="313" y="499"/>
                  <a:pt x="313" y="499"/>
                  <a:pt x="326" y="485"/>
                </a:cubicBezTo>
                <a:cubicBezTo>
                  <a:pt x="356" y="452"/>
                  <a:pt x="381" y="416"/>
                  <a:pt x="401" y="376"/>
                </a:cubicBezTo>
                <a:cubicBezTo>
                  <a:pt x="404" y="372"/>
                  <a:pt x="404" y="369"/>
                  <a:pt x="399" y="366"/>
                </a:cubicBezTo>
                <a:cubicBezTo>
                  <a:pt x="348" y="337"/>
                  <a:pt x="321" y="291"/>
                  <a:pt x="311" y="235"/>
                </a:cubicBezTo>
                <a:cubicBezTo>
                  <a:pt x="305" y="201"/>
                  <a:pt x="306" y="168"/>
                  <a:pt x="318" y="135"/>
                </a:cubicBezTo>
                <a:cubicBezTo>
                  <a:pt x="338" y="78"/>
                  <a:pt x="388" y="51"/>
                  <a:pt x="447" y="57"/>
                </a:cubicBezTo>
                <a:cubicBezTo>
                  <a:pt x="514" y="64"/>
                  <a:pt x="542" y="109"/>
                  <a:pt x="547" y="161"/>
                </a:cubicBezTo>
                <a:cubicBezTo>
                  <a:pt x="551" y="198"/>
                  <a:pt x="545" y="233"/>
                  <a:pt x="533" y="267"/>
                </a:cubicBezTo>
                <a:cubicBezTo>
                  <a:pt x="532" y="270"/>
                  <a:pt x="530" y="276"/>
                  <a:pt x="530" y="276"/>
                </a:cubicBezTo>
                <a:cubicBezTo>
                  <a:pt x="530" y="276"/>
                  <a:pt x="525" y="276"/>
                  <a:pt x="521" y="277"/>
                </a:cubicBezTo>
                <a:cubicBezTo>
                  <a:pt x="497" y="278"/>
                  <a:pt x="476" y="274"/>
                  <a:pt x="459" y="257"/>
                </a:cubicBezTo>
                <a:cubicBezTo>
                  <a:pt x="456" y="254"/>
                  <a:pt x="453" y="251"/>
                  <a:pt x="453" y="251"/>
                </a:cubicBezTo>
                <a:cubicBezTo>
                  <a:pt x="453" y="251"/>
                  <a:pt x="454" y="245"/>
                  <a:pt x="455" y="243"/>
                </a:cubicBezTo>
                <a:cubicBezTo>
                  <a:pt x="462" y="217"/>
                  <a:pt x="466" y="192"/>
                  <a:pt x="460" y="166"/>
                </a:cubicBezTo>
                <a:cubicBezTo>
                  <a:pt x="455" y="145"/>
                  <a:pt x="444" y="135"/>
                  <a:pt x="427" y="136"/>
                </a:cubicBezTo>
                <a:cubicBezTo>
                  <a:pt x="415" y="136"/>
                  <a:pt x="407" y="142"/>
                  <a:pt x="401" y="152"/>
                </a:cubicBezTo>
                <a:cubicBezTo>
                  <a:pt x="395" y="162"/>
                  <a:pt x="393" y="174"/>
                  <a:pt x="392" y="186"/>
                </a:cubicBezTo>
                <a:cubicBezTo>
                  <a:pt x="390" y="216"/>
                  <a:pt x="394" y="244"/>
                  <a:pt x="410" y="270"/>
                </a:cubicBezTo>
                <a:cubicBezTo>
                  <a:pt x="437" y="312"/>
                  <a:pt x="478" y="326"/>
                  <a:pt x="526" y="322"/>
                </a:cubicBezTo>
                <a:cubicBezTo>
                  <a:pt x="536" y="321"/>
                  <a:pt x="545" y="319"/>
                  <a:pt x="555" y="317"/>
                </a:cubicBezTo>
                <a:lnTo>
                  <a:pt x="555" y="380"/>
                </a:lnTo>
                <a:close/>
                <a:moveTo>
                  <a:pt x="605" y="0"/>
                </a:moveTo>
                <a:lnTo>
                  <a:pt x="34" y="0"/>
                </a:lnTo>
                <a:cubicBezTo>
                  <a:pt x="15" y="0"/>
                  <a:pt x="0" y="16"/>
                  <a:pt x="0" y="34"/>
                </a:cubicBezTo>
                <a:lnTo>
                  <a:pt x="0" y="605"/>
                </a:lnTo>
                <a:cubicBezTo>
                  <a:pt x="0" y="624"/>
                  <a:pt x="15" y="639"/>
                  <a:pt x="34" y="639"/>
                </a:cubicBezTo>
                <a:lnTo>
                  <a:pt x="605" y="639"/>
                </a:lnTo>
                <a:cubicBezTo>
                  <a:pt x="624" y="639"/>
                  <a:pt x="639" y="624"/>
                  <a:pt x="639" y="605"/>
                </a:cubicBezTo>
                <a:lnTo>
                  <a:pt x="639" y="34"/>
                </a:lnTo>
                <a:cubicBezTo>
                  <a:pt x="639" y="16"/>
                  <a:pt x="624" y="0"/>
                  <a:pt x="605"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41" name="Freeform 335"/>
          <p:cNvSpPr/>
          <p:nvPr/>
        </p:nvSpPr>
        <p:spPr>
          <a:xfrm>
            <a:off x="3902040" y="5837400"/>
            <a:ext cx="171360" cy="172800"/>
          </a:xfrm>
          <a:custGeom>
            <a:avLst/>
            <a:gdLst/>
            <a:ahLst/>
            <a:rect l="l" t="t" r="r" b="b"/>
            <a:pathLst>
              <a:path w="646" h="646">
                <a:moveTo>
                  <a:pt x="580" y="314"/>
                </a:moveTo>
                <a:lnTo>
                  <a:pt x="511" y="314"/>
                </a:lnTo>
                <a:lnTo>
                  <a:pt x="511" y="384"/>
                </a:lnTo>
                <a:lnTo>
                  <a:pt x="477" y="384"/>
                </a:lnTo>
                <a:lnTo>
                  <a:pt x="477" y="314"/>
                </a:lnTo>
                <a:lnTo>
                  <a:pt x="408" y="314"/>
                </a:lnTo>
                <a:lnTo>
                  <a:pt x="408" y="280"/>
                </a:lnTo>
                <a:lnTo>
                  <a:pt x="477" y="280"/>
                </a:lnTo>
                <a:lnTo>
                  <a:pt x="477" y="211"/>
                </a:lnTo>
                <a:lnTo>
                  <a:pt x="511" y="211"/>
                </a:lnTo>
                <a:lnTo>
                  <a:pt x="511" y="280"/>
                </a:lnTo>
                <a:lnTo>
                  <a:pt x="580" y="280"/>
                </a:lnTo>
                <a:lnTo>
                  <a:pt x="580" y="314"/>
                </a:lnTo>
                <a:close/>
                <a:moveTo>
                  <a:pt x="274" y="393"/>
                </a:moveTo>
                <a:cubicBezTo>
                  <a:pt x="268" y="392"/>
                  <a:pt x="265" y="392"/>
                  <a:pt x="258" y="392"/>
                </a:cubicBezTo>
                <a:cubicBezTo>
                  <a:pt x="252" y="392"/>
                  <a:pt x="214" y="394"/>
                  <a:pt x="185" y="403"/>
                </a:cubicBezTo>
                <a:cubicBezTo>
                  <a:pt x="170" y="409"/>
                  <a:pt x="126" y="425"/>
                  <a:pt x="126" y="474"/>
                </a:cubicBezTo>
                <a:cubicBezTo>
                  <a:pt x="126" y="524"/>
                  <a:pt x="174" y="559"/>
                  <a:pt x="247" y="559"/>
                </a:cubicBezTo>
                <a:cubicBezTo>
                  <a:pt x="314" y="559"/>
                  <a:pt x="349" y="527"/>
                  <a:pt x="349" y="484"/>
                </a:cubicBezTo>
                <a:cubicBezTo>
                  <a:pt x="349" y="449"/>
                  <a:pt x="326" y="430"/>
                  <a:pt x="274" y="393"/>
                </a:cubicBezTo>
                <a:close/>
                <a:moveTo>
                  <a:pt x="311" y="211"/>
                </a:moveTo>
                <a:cubicBezTo>
                  <a:pt x="311" y="162"/>
                  <a:pt x="281" y="84"/>
                  <a:pt x="224" y="84"/>
                </a:cubicBezTo>
                <a:cubicBezTo>
                  <a:pt x="206" y="84"/>
                  <a:pt x="187" y="93"/>
                  <a:pt x="176" y="107"/>
                </a:cubicBezTo>
                <a:cubicBezTo>
                  <a:pt x="164" y="122"/>
                  <a:pt x="161" y="140"/>
                  <a:pt x="161" y="158"/>
                </a:cubicBezTo>
                <a:cubicBezTo>
                  <a:pt x="161" y="204"/>
                  <a:pt x="187" y="281"/>
                  <a:pt x="247" y="281"/>
                </a:cubicBezTo>
                <a:cubicBezTo>
                  <a:pt x="264" y="281"/>
                  <a:pt x="282" y="273"/>
                  <a:pt x="294" y="262"/>
                </a:cubicBezTo>
                <a:cubicBezTo>
                  <a:pt x="309" y="246"/>
                  <a:pt x="311" y="224"/>
                  <a:pt x="311" y="211"/>
                </a:cubicBezTo>
                <a:close/>
                <a:moveTo>
                  <a:pt x="214" y="588"/>
                </a:moveTo>
                <a:cubicBezTo>
                  <a:pt x="114" y="588"/>
                  <a:pt x="65" y="540"/>
                  <a:pt x="65" y="489"/>
                </a:cubicBezTo>
                <a:cubicBezTo>
                  <a:pt x="65" y="464"/>
                  <a:pt x="78" y="429"/>
                  <a:pt x="118" y="405"/>
                </a:cubicBezTo>
                <a:cubicBezTo>
                  <a:pt x="161" y="378"/>
                  <a:pt x="219" y="375"/>
                  <a:pt x="250" y="373"/>
                </a:cubicBezTo>
                <a:cubicBezTo>
                  <a:pt x="240" y="360"/>
                  <a:pt x="229" y="347"/>
                  <a:pt x="229" y="326"/>
                </a:cubicBezTo>
                <a:cubicBezTo>
                  <a:pt x="229" y="314"/>
                  <a:pt x="233" y="307"/>
                  <a:pt x="236" y="299"/>
                </a:cubicBezTo>
                <a:cubicBezTo>
                  <a:pt x="229" y="300"/>
                  <a:pt x="221" y="300"/>
                  <a:pt x="214" y="300"/>
                </a:cubicBezTo>
                <a:cubicBezTo>
                  <a:pt x="141" y="300"/>
                  <a:pt x="100" y="246"/>
                  <a:pt x="100" y="192"/>
                </a:cubicBezTo>
                <a:cubicBezTo>
                  <a:pt x="100" y="160"/>
                  <a:pt x="114" y="125"/>
                  <a:pt x="144" y="99"/>
                </a:cubicBezTo>
                <a:cubicBezTo>
                  <a:pt x="183" y="67"/>
                  <a:pt x="237" y="58"/>
                  <a:pt x="274" y="58"/>
                </a:cubicBezTo>
                <a:lnTo>
                  <a:pt x="410" y="58"/>
                </a:lnTo>
                <a:lnTo>
                  <a:pt x="365" y="86"/>
                </a:lnTo>
                <a:lnTo>
                  <a:pt x="323" y="86"/>
                </a:lnTo>
                <a:cubicBezTo>
                  <a:pt x="338" y="99"/>
                  <a:pt x="371" y="127"/>
                  <a:pt x="371" y="180"/>
                </a:cubicBezTo>
                <a:cubicBezTo>
                  <a:pt x="371" y="231"/>
                  <a:pt x="343" y="255"/>
                  <a:pt x="314" y="278"/>
                </a:cubicBezTo>
                <a:cubicBezTo>
                  <a:pt x="305" y="287"/>
                  <a:pt x="294" y="296"/>
                  <a:pt x="294" y="311"/>
                </a:cubicBezTo>
                <a:cubicBezTo>
                  <a:pt x="294" y="327"/>
                  <a:pt x="305" y="335"/>
                  <a:pt x="312" y="341"/>
                </a:cubicBezTo>
                <a:lnTo>
                  <a:pt x="337" y="360"/>
                </a:lnTo>
                <a:cubicBezTo>
                  <a:pt x="367" y="386"/>
                  <a:pt x="395" y="410"/>
                  <a:pt x="395" y="457"/>
                </a:cubicBezTo>
                <a:cubicBezTo>
                  <a:pt x="395" y="522"/>
                  <a:pt x="332" y="588"/>
                  <a:pt x="214" y="588"/>
                </a:cubicBezTo>
                <a:close/>
                <a:moveTo>
                  <a:pt x="611" y="0"/>
                </a:moveTo>
                <a:lnTo>
                  <a:pt x="34" y="0"/>
                </a:lnTo>
                <a:cubicBezTo>
                  <a:pt x="15" y="0"/>
                  <a:pt x="0" y="15"/>
                  <a:pt x="0" y="34"/>
                </a:cubicBezTo>
                <a:lnTo>
                  <a:pt x="0" y="611"/>
                </a:lnTo>
                <a:cubicBezTo>
                  <a:pt x="0" y="630"/>
                  <a:pt x="15" y="646"/>
                  <a:pt x="34" y="646"/>
                </a:cubicBezTo>
                <a:lnTo>
                  <a:pt x="611" y="646"/>
                </a:lnTo>
                <a:cubicBezTo>
                  <a:pt x="630" y="646"/>
                  <a:pt x="646" y="630"/>
                  <a:pt x="646" y="611"/>
                </a:cubicBezTo>
                <a:lnTo>
                  <a:pt x="646" y="34"/>
                </a:lnTo>
                <a:cubicBezTo>
                  <a:pt x="646" y="15"/>
                  <a:pt x="630" y="0"/>
                  <a:pt x="611"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42" name="Freeform 336"/>
          <p:cNvSpPr/>
          <p:nvPr/>
        </p:nvSpPr>
        <p:spPr>
          <a:xfrm>
            <a:off x="5911920" y="5583240"/>
            <a:ext cx="150840" cy="150840"/>
          </a:xfrm>
          <a:custGeom>
            <a:avLst/>
            <a:gdLst/>
            <a:ahLst/>
            <a:rect l="l" t="t" r="r" b="b"/>
            <a:pathLst>
              <a:path w="564" h="564">
                <a:moveTo>
                  <a:pt x="283" y="171"/>
                </a:moveTo>
                <a:cubicBezTo>
                  <a:pt x="220" y="171"/>
                  <a:pt x="170" y="220"/>
                  <a:pt x="170" y="281"/>
                </a:cubicBezTo>
                <a:cubicBezTo>
                  <a:pt x="170" y="342"/>
                  <a:pt x="220" y="391"/>
                  <a:pt x="283" y="391"/>
                </a:cubicBezTo>
                <a:cubicBezTo>
                  <a:pt x="345" y="391"/>
                  <a:pt x="396" y="342"/>
                  <a:pt x="396" y="281"/>
                </a:cubicBezTo>
                <a:cubicBezTo>
                  <a:pt x="396" y="220"/>
                  <a:pt x="345" y="171"/>
                  <a:pt x="283" y="171"/>
                </a:cubicBezTo>
                <a:close/>
                <a:moveTo>
                  <a:pt x="500" y="239"/>
                </a:moveTo>
                <a:lnTo>
                  <a:pt x="451" y="239"/>
                </a:lnTo>
                <a:cubicBezTo>
                  <a:pt x="456" y="254"/>
                  <a:pt x="458" y="270"/>
                  <a:pt x="458" y="287"/>
                </a:cubicBezTo>
                <a:cubicBezTo>
                  <a:pt x="458" y="381"/>
                  <a:pt x="380" y="457"/>
                  <a:pt x="283" y="457"/>
                </a:cubicBezTo>
                <a:cubicBezTo>
                  <a:pt x="186" y="457"/>
                  <a:pt x="108" y="381"/>
                  <a:pt x="108" y="287"/>
                </a:cubicBezTo>
                <a:cubicBezTo>
                  <a:pt x="108" y="270"/>
                  <a:pt x="110" y="254"/>
                  <a:pt x="115" y="239"/>
                </a:cubicBezTo>
                <a:lnTo>
                  <a:pt x="63" y="239"/>
                </a:lnTo>
                <a:lnTo>
                  <a:pt x="63" y="477"/>
                </a:lnTo>
                <a:cubicBezTo>
                  <a:pt x="63" y="489"/>
                  <a:pt x="73" y="499"/>
                  <a:pt x="86" y="499"/>
                </a:cubicBezTo>
                <a:lnTo>
                  <a:pt x="478" y="499"/>
                </a:lnTo>
                <a:cubicBezTo>
                  <a:pt x="490" y="499"/>
                  <a:pt x="500" y="489"/>
                  <a:pt x="500" y="477"/>
                </a:cubicBezTo>
                <a:lnTo>
                  <a:pt x="500" y="239"/>
                </a:lnTo>
                <a:close/>
                <a:moveTo>
                  <a:pt x="411" y="63"/>
                </a:moveTo>
                <a:cubicBezTo>
                  <a:pt x="397" y="63"/>
                  <a:pt x="386" y="74"/>
                  <a:pt x="386" y="88"/>
                </a:cubicBezTo>
                <a:lnTo>
                  <a:pt x="386" y="149"/>
                </a:lnTo>
                <a:cubicBezTo>
                  <a:pt x="386" y="163"/>
                  <a:pt x="397" y="175"/>
                  <a:pt x="411" y="175"/>
                </a:cubicBezTo>
                <a:lnTo>
                  <a:pt x="475" y="175"/>
                </a:lnTo>
                <a:cubicBezTo>
                  <a:pt x="489" y="175"/>
                  <a:pt x="500" y="163"/>
                  <a:pt x="500" y="149"/>
                </a:cubicBezTo>
                <a:lnTo>
                  <a:pt x="500" y="88"/>
                </a:lnTo>
                <a:cubicBezTo>
                  <a:pt x="500" y="74"/>
                  <a:pt x="489" y="63"/>
                  <a:pt x="475" y="63"/>
                </a:cubicBezTo>
                <a:lnTo>
                  <a:pt x="411" y="63"/>
                </a:lnTo>
                <a:close/>
                <a:moveTo>
                  <a:pt x="73" y="0"/>
                </a:moveTo>
                <a:lnTo>
                  <a:pt x="492" y="0"/>
                </a:lnTo>
                <a:cubicBezTo>
                  <a:pt x="532" y="0"/>
                  <a:pt x="564" y="33"/>
                  <a:pt x="564" y="73"/>
                </a:cubicBezTo>
                <a:lnTo>
                  <a:pt x="564" y="492"/>
                </a:lnTo>
                <a:cubicBezTo>
                  <a:pt x="564" y="532"/>
                  <a:pt x="532" y="564"/>
                  <a:pt x="492" y="564"/>
                </a:cubicBezTo>
                <a:lnTo>
                  <a:pt x="73" y="564"/>
                </a:lnTo>
                <a:cubicBezTo>
                  <a:pt x="33" y="564"/>
                  <a:pt x="0" y="532"/>
                  <a:pt x="0" y="492"/>
                </a:cubicBezTo>
                <a:lnTo>
                  <a:pt x="0" y="73"/>
                </a:lnTo>
                <a:cubicBezTo>
                  <a:pt x="0" y="33"/>
                  <a:pt x="33" y="0"/>
                  <a:pt x="73" y="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43" name="Freeform 337"/>
          <p:cNvSpPr/>
          <p:nvPr/>
        </p:nvSpPr>
        <p:spPr>
          <a:xfrm>
            <a:off x="5902200" y="5837400"/>
            <a:ext cx="171720" cy="171360"/>
          </a:xfrm>
          <a:custGeom>
            <a:avLst/>
            <a:gdLst/>
            <a:ahLst/>
            <a:rect l="l" t="t" r="r" b="b"/>
            <a:pathLst>
              <a:path w="639" h="639">
                <a:moveTo>
                  <a:pt x="605" y="0"/>
                </a:moveTo>
                <a:lnTo>
                  <a:pt x="34" y="0"/>
                </a:lnTo>
                <a:cubicBezTo>
                  <a:pt x="15" y="0"/>
                  <a:pt x="0" y="15"/>
                  <a:pt x="0" y="34"/>
                </a:cubicBezTo>
                <a:lnTo>
                  <a:pt x="0" y="605"/>
                </a:lnTo>
                <a:cubicBezTo>
                  <a:pt x="0" y="623"/>
                  <a:pt x="15" y="639"/>
                  <a:pt x="34" y="639"/>
                </a:cubicBezTo>
                <a:lnTo>
                  <a:pt x="605" y="639"/>
                </a:lnTo>
                <a:cubicBezTo>
                  <a:pt x="623" y="639"/>
                  <a:pt x="639" y="623"/>
                  <a:pt x="639" y="605"/>
                </a:cubicBezTo>
                <a:lnTo>
                  <a:pt x="639" y="34"/>
                </a:lnTo>
                <a:cubicBezTo>
                  <a:pt x="639" y="15"/>
                  <a:pt x="623" y="0"/>
                  <a:pt x="605" y="0"/>
                </a:cubicBezTo>
                <a:close/>
                <a:moveTo>
                  <a:pt x="320" y="236"/>
                </a:moveTo>
                <a:cubicBezTo>
                  <a:pt x="272" y="236"/>
                  <a:pt x="234" y="273"/>
                  <a:pt x="234" y="318"/>
                </a:cubicBezTo>
                <a:cubicBezTo>
                  <a:pt x="234" y="364"/>
                  <a:pt x="272" y="401"/>
                  <a:pt x="320" y="401"/>
                </a:cubicBezTo>
                <a:cubicBezTo>
                  <a:pt x="367" y="401"/>
                  <a:pt x="405" y="364"/>
                  <a:pt x="405" y="318"/>
                </a:cubicBezTo>
                <a:cubicBezTo>
                  <a:pt x="405" y="273"/>
                  <a:pt x="367" y="236"/>
                  <a:pt x="320" y="236"/>
                </a:cubicBezTo>
                <a:close/>
                <a:moveTo>
                  <a:pt x="484" y="286"/>
                </a:moveTo>
                <a:lnTo>
                  <a:pt x="447" y="286"/>
                </a:lnTo>
                <a:cubicBezTo>
                  <a:pt x="450" y="298"/>
                  <a:pt x="452" y="310"/>
                  <a:pt x="452" y="323"/>
                </a:cubicBezTo>
                <a:cubicBezTo>
                  <a:pt x="452" y="394"/>
                  <a:pt x="393" y="451"/>
                  <a:pt x="320" y="451"/>
                </a:cubicBezTo>
                <a:cubicBezTo>
                  <a:pt x="247" y="451"/>
                  <a:pt x="187" y="394"/>
                  <a:pt x="187" y="323"/>
                </a:cubicBezTo>
                <a:cubicBezTo>
                  <a:pt x="187" y="310"/>
                  <a:pt x="189" y="298"/>
                  <a:pt x="193" y="286"/>
                </a:cubicBezTo>
                <a:lnTo>
                  <a:pt x="154" y="286"/>
                </a:lnTo>
                <a:lnTo>
                  <a:pt x="154" y="466"/>
                </a:lnTo>
                <a:cubicBezTo>
                  <a:pt x="154" y="476"/>
                  <a:pt x="161" y="483"/>
                  <a:pt x="171" y="483"/>
                </a:cubicBezTo>
                <a:lnTo>
                  <a:pt x="467" y="483"/>
                </a:lnTo>
                <a:cubicBezTo>
                  <a:pt x="477" y="483"/>
                  <a:pt x="484" y="476"/>
                  <a:pt x="484" y="466"/>
                </a:cubicBezTo>
                <a:lnTo>
                  <a:pt x="484" y="286"/>
                </a:lnTo>
                <a:close/>
                <a:moveTo>
                  <a:pt x="417" y="154"/>
                </a:moveTo>
                <a:cubicBezTo>
                  <a:pt x="406" y="154"/>
                  <a:pt x="397" y="162"/>
                  <a:pt x="397" y="173"/>
                </a:cubicBezTo>
                <a:lnTo>
                  <a:pt x="397" y="219"/>
                </a:lnTo>
                <a:cubicBezTo>
                  <a:pt x="397" y="229"/>
                  <a:pt x="406" y="238"/>
                  <a:pt x="417" y="238"/>
                </a:cubicBezTo>
                <a:lnTo>
                  <a:pt x="465" y="238"/>
                </a:lnTo>
                <a:cubicBezTo>
                  <a:pt x="475" y="238"/>
                  <a:pt x="484" y="229"/>
                  <a:pt x="484" y="219"/>
                </a:cubicBezTo>
                <a:lnTo>
                  <a:pt x="484" y="173"/>
                </a:lnTo>
                <a:cubicBezTo>
                  <a:pt x="484" y="162"/>
                  <a:pt x="475" y="154"/>
                  <a:pt x="465" y="154"/>
                </a:cubicBezTo>
                <a:lnTo>
                  <a:pt x="417" y="154"/>
                </a:lnTo>
                <a:close/>
                <a:moveTo>
                  <a:pt x="161" y="106"/>
                </a:moveTo>
                <a:lnTo>
                  <a:pt x="478" y="106"/>
                </a:lnTo>
                <a:cubicBezTo>
                  <a:pt x="508" y="106"/>
                  <a:pt x="532" y="131"/>
                  <a:pt x="532" y="161"/>
                </a:cubicBezTo>
                <a:lnTo>
                  <a:pt x="532" y="478"/>
                </a:lnTo>
                <a:cubicBezTo>
                  <a:pt x="532" y="508"/>
                  <a:pt x="508" y="532"/>
                  <a:pt x="478" y="532"/>
                </a:cubicBezTo>
                <a:lnTo>
                  <a:pt x="161" y="532"/>
                </a:lnTo>
                <a:cubicBezTo>
                  <a:pt x="131" y="532"/>
                  <a:pt x="106" y="508"/>
                  <a:pt x="106" y="478"/>
                </a:cubicBezTo>
                <a:lnTo>
                  <a:pt x="106" y="161"/>
                </a:lnTo>
                <a:cubicBezTo>
                  <a:pt x="106" y="131"/>
                  <a:pt x="131" y="106"/>
                  <a:pt x="161" y="10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44" name="Freeform 338"/>
          <p:cNvSpPr/>
          <p:nvPr/>
        </p:nvSpPr>
        <p:spPr>
          <a:xfrm>
            <a:off x="7338960" y="3602160"/>
            <a:ext cx="166680" cy="131760"/>
          </a:xfrm>
          <a:custGeom>
            <a:avLst/>
            <a:gdLst/>
            <a:ahLst/>
            <a:rect l="l" t="t" r="r" b="b"/>
            <a:pathLst>
              <a:path w="624" h="492">
                <a:moveTo>
                  <a:pt x="624" y="354"/>
                </a:moveTo>
                <a:cubicBezTo>
                  <a:pt x="624" y="390"/>
                  <a:pt x="595" y="419"/>
                  <a:pt x="559" y="419"/>
                </a:cubicBezTo>
                <a:lnTo>
                  <a:pt x="526" y="419"/>
                </a:lnTo>
                <a:cubicBezTo>
                  <a:pt x="518" y="419"/>
                  <a:pt x="512" y="425"/>
                  <a:pt x="512" y="433"/>
                </a:cubicBezTo>
                <a:lnTo>
                  <a:pt x="512" y="492"/>
                </a:lnTo>
                <a:lnTo>
                  <a:pt x="455" y="424"/>
                </a:lnTo>
                <a:cubicBezTo>
                  <a:pt x="452" y="421"/>
                  <a:pt x="448" y="419"/>
                  <a:pt x="444" y="419"/>
                </a:cubicBezTo>
                <a:lnTo>
                  <a:pt x="65" y="419"/>
                </a:lnTo>
                <a:cubicBezTo>
                  <a:pt x="29" y="419"/>
                  <a:pt x="0" y="390"/>
                  <a:pt x="0" y="354"/>
                </a:cubicBezTo>
                <a:lnTo>
                  <a:pt x="0" y="312"/>
                </a:lnTo>
                <a:lnTo>
                  <a:pt x="0" y="285"/>
                </a:lnTo>
                <a:lnTo>
                  <a:pt x="0" y="65"/>
                </a:lnTo>
                <a:cubicBezTo>
                  <a:pt x="0" y="29"/>
                  <a:pt x="29" y="0"/>
                  <a:pt x="65" y="0"/>
                </a:cubicBezTo>
                <a:lnTo>
                  <a:pt x="490" y="0"/>
                </a:lnTo>
                <a:lnTo>
                  <a:pt x="518" y="0"/>
                </a:lnTo>
                <a:lnTo>
                  <a:pt x="559" y="0"/>
                </a:lnTo>
                <a:cubicBezTo>
                  <a:pt x="595" y="0"/>
                  <a:pt x="624" y="29"/>
                  <a:pt x="624" y="65"/>
                </a:cubicBezTo>
                <a:lnTo>
                  <a:pt x="624" y="354"/>
                </a:lnTo>
                <a:close/>
              </a:path>
            </a:pathLst>
          </a:custGeom>
          <a:solidFill>
            <a:srgbClr val="a6a6a6"/>
          </a:solidFill>
          <a:ln w="0">
            <a:noFill/>
          </a:ln>
        </p:spPr>
        <p:style>
          <a:lnRef idx="0"/>
          <a:fillRef idx="0"/>
          <a:effectRef idx="0"/>
          <a:fontRef idx="minor"/>
        </p:style>
        <p:txBody>
          <a:bodyPr lIns="145800" rIns="145800" tIns="59040" bIns="59040" anchor="t">
            <a:noAutofit/>
          </a:bodyPr>
          <a:p>
            <a:endParaRPr b="0" lang="en-US" sz="1800" spc="-1" strike="noStrike">
              <a:solidFill>
                <a:srgbClr val="000000"/>
              </a:solidFill>
              <a:latin typeface="Calibri"/>
            </a:endParaRPr>
          </a:p>
        </p:txBody>
      </p:sp>
      <p:sp>
        <p:nvSpPr>
          <p:cNvPr id="1945" name="Freeform 339"/>
          <p:cNvSpPr/>
          <p:nvPr/>
        </p:nvSpPr>
        <p:spPr>
          <a:xfrm>
            <a:off x="7035840" y="4208400"/>
            <a:ext cx="100080" cy="176400"/>
          </a:xfrm>
          <a:custGeom>
            <a:avLst/>
            <a:gdLst/>
            <a:ahLst/>
            <a:rect l="l" t="t" r="r" b="b"/>
            <a:pathLst>
              <a:path w="374" h="655">
                <a:moveTo>
                  <a:pt x="328" y="542"/>
                </a:moveTo>
                <a:cubicBezTo>
                  <a:pt x="301" y="570"/>
                  <a:pt x="267" y="586"/>
                  <a:pt x="227" y="592"/>
                </a:cubicBezTo>
                <a:lnTo>
                  <a:pt x="227" y="655"/>
                </a:lnTo>
                <a:lnTo>
                  <a:pt x="152" y="655"/>
                </a:lnTo>
                <a:lnTo>
                  <a:pt x="152" y="592"/>
                </a:lnTo>
                <a:cubicBezTo>
                  <a:pt x="126" y="587"/>
                  <a:pt x="104" y="580"/>
                  <a:pt x="87" y="572"/>
                </a:cubicBezTo>
                <a:cubicBezTo>
                  <a:pt x="64" y="560"/>
                  <a:pt x="45" y="542"/>
                  <a:pt x="29" y="517"/>
                </a:cubicBezTo>
                <a:cubicBezTo>
                  <a:pt x="13" y="492"/>
                  <a:pt x="4" y="462"/>
                  <a:pt x="1" y="427"/>
                </a:cubicBezTo>
                <a:lnTo>
                  <a:pt x="0" y="410"/>
                </a:lnTo>
                <a:lnTo>
                  <a:pt x="99" y="392"/>
                </a:lnTo>
                <a:lnTo>
                  <a:pt x="102" y="411"/>
                </a:lnTo>
                <a:cubicBezTo>
                  <a:pt x="106" y="441"/>
                  <a:pt x="113" y="462"/>
                  <a:pt x="123" y="475"/>
                </a:cubicBezTo>
                <a:cubicBezTo>
                  <a:pt x="132" y="485"/>
                  <a:pt x="142" y="493"/>
                  <a:pt x="152" y="498"/>
                </a:cubicBezTo>
                <a:lnTo>
                  <a:pt x="152" y="343"/>
                </a:lnTo>
                <a:cubicBezTo>
                  <a:pt x="129" y="338"/>
                  <a:pt x="106" y="328"/>
                  <a:pt x="83" y="316"/>
                </a:cubicBezTo>
                <a:cubicBezTo>
                  <a:pt x="61" y="303"/>
                  <a:pt x="43" y="285"/>
                  <a:pt x="30" y="263"/>
                </a:cubicBezTo>
                <a:cubicBezTo>
                  <a:pt x="18" y="241"/>
                  <a:pt x="12" y="216"/>
                  <a:pt x="12" y="188"/>
                </a:cubicBezTo>
                <a:cubicBezTo>
                  <a:pt x="12" y="138"/>
                  <a:pt x="30" y="98"/>
                  <a:pt x="65" y="67"/>
                </a:cubicBezTo>
                <a:cubicBezTo>
                  <a:pt x="86" y="49"/>
                  <a:pt x="115" y="37"/>
                  <a:pt x="152" y="32"/>
                </a:cubicBezTo>
                <a:lnTo>
                  <a:pt x="152" y="0"/>
                </a:lnTo>
                <a:lnTo>
                  <a:pt x="227" y="0"/>
                </a:lnTo>
                <a:lnTo>
                  <a:pt x="227" y="32"/>
                </a:lnTo>
                <a:cubicBezTo>
                  <a:pt x="259" y="37"/>
                  <a:pt x="286" y="48"/>
                  <a:pt x="306" y="65"/>
                </a:cubicBezTo>
                <a:cubicBezTo>
                  <a:pt x="337" y="90"/>
                  <a:pt x="356" y="125"/>
                  <a:pt x="362" y="169"/>
                </a:cubicBezTo>
                <a:lnTo>
                  <a:pt x="364" y="187"/>
                </a:lnTo>
                <a:lnTo>
                  <a:pt x="262" y="203"/>
                </a:lnTo>
                <a:lnTo>
                  <a:pt x="259" y="184"/>
                </a:lnTo>
                <a:cubicBezTo>
                  <a:pt x="256" y="164"/>
                  <a:pt x="250" y="148"/>
                  <a:pt x="241" y="138"/>
                </a:cubicBezTo>
                <a:cubicBezTo>
                  <a:pt x="237" y="134"/>
                  <a:pt x="233" y="130"/>
                  <a:pt x="227" y="127"/>
                </a:cubicBezTo>
                <a:lnTo>
                  <a:pt x="227" y="262"/>
                </a:lnTo>
                <a:cubicBezTo>
                  <a:pt x="252" y="268"/>
                  <a:pt x="268" y="273"/>
                  <a:pt x="277" y="277"/>
                </a:cubicBezTo>
                <a:cubicBezTo>
                  <a:pt x="299" y="287"/>
                  <a:pt x="317" y="298"/>
                  <a:pt x="331" y="312"/>
                </a:cubicBezTo>
                <a:cubicBezTo>
                  <a:pt x="345" y="326"/>
                  <a:pt x="356" y="342"/>
                  <a:pt x="363" y="361"/>
                </a:cubicBezTo>
                <a:cubicBezTo>
                  <a:pt x="371" y="380"/>
                  <a:pt x="374" y="401"/>
                  <a:pt x="374" y="422"/>
                </a:cubicBezTo>
                <a:cubicBezTo>
                  <a:pt x="374" y="470"/>
                  <a:pt x="359" y="510"/>
                  <a:pt x="328" y="542"/>
                </a:cubicBezTo>
                <a:close/>
                <a:moveTo>
                  <a:pt x="227" y="364"/>
                </a:moveTo>
                <a:lnTo>
                  <a:pt x="227" y="499"/>
                </a:lnTo>
                <a:cubicBezTo>
                  <a:pt x="237" y="494"/>
                  <a:pt x="246" y="488"/>
                  <a:pt x="253" y="479"/>
                </a:cubicBezTo>
                <a:cubicBezTo>
                  <a:pt x="266" y="465"/>
                  <a:pt x="272" y="448"/>
                  <a:pt x="272" y="427"/>
                </a:cubicBezTo>
                <a:cubicBezTo>
                  <a:pt x="272" y="409"/>
                  <a:pt x="268" y="395"/>
                  <a:pt x="260" y="385"/>
                </a:cubicBezTo>
                <a:cubicBezTo>
                  <a:pt x="255" y="380"/>
                  <a:pt x="246" y="372"/>
                  <a:pt x="227" y="364"/>
                </a:cubicBezTo>
                <a:close/>
                <a:moveTo>
                  <a:pt x="112" y="183"/>
                </a:moveTo>
                <a:cubicBezTo>
                  <a:pt x="112" y="199"/>
                  <a:pt x="117" y="212"/>
                  <a:pt x="126" y="223"/>
                </a:cubicBezTo>
                <a:cubicBezTo>
                  <a:pt x="131" y="230"/>
                  <a:pt x="140" y="236"/>
                  <a:pt x="152" y="241"/>
                </a:cubicBezTo>
                <a:lnTo>
                  <a:pt x="152" y="125"/>
                </a:lnTo>
                <a:cubicBezTo>
                  <a:pt x="143" y="129"/>
                  <a:pt x="135" y="134"/>
                  <a:pt x="128" y="141"/>
                </a:cubicBezTo>
                <a:cubicBezTo>
                  <a:pt x="118" y="153"/>
                  <a:pt x="112" y="167"/>
                  <a:pt x="112" y="18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46" name="Freeform 340"/>
          <p:cNvSpPr/>
          <p:nvPr/>
        </p:nvSpPr>
        <p:spPr>
          <a:xfrm>
            <a:off x="7362720" y="4189320"/>
            <a:ext cx="119160" cy="209520"/>
          </a:xfrm>
          <a:custGeom>
            <a:avLst/>
            <a:gdLst/>
            <a:ahLst/>
            <a:rect l="l" t="t" r="r" b="b"/>
            <a:pathLst>
              <a:path w="444" h="781">
                <a:moveTo>
                  <a:pt x="408" y="311"/>
                </a:moveTo>
                <a:lnTo>
                  <a:pt x="386" y="376"/>
                </a:lnTo>
                <a:lnTo>
                  <a:pt x="145" y="376"/>
                </a:lnTo>
                <a:cubicBezTo>
                  <a:pt x="139" y="389"/>
                  <a:pt x="147" y="412"/>
                  <a:pt x="147" y="412"/>
                </a:cubicBezTo>
                <a:lnTo>
                  <a:pt x="387" y="412"/>
                </a:lnTo>
                <a:lnTo>
                  <a:pt x="373" y="473"/>
                </a:lnTo>
                <a:lnTo>
                  <a:pt x="155" y="473"/>
                </a:lnTo>
                <a:cubicBezTo>
                  <a:pt x="223" y="705"/>
                  <a:pt x="424" y="572"/>
                  <a:pt x="424" y="572"/>
                </a:cubicBezTo>
                <a:lnTo>
                  <a:pt x="438" y="667"/>
                </a:lnTo>
                <a:cubicBezTo>
                  <a:pt x="111" y="781"/>
                  <a:pt x="62" y="471"/>
                  <a:pt x="62" y="471"/>
                </a:cubicBezTo>
                <a:lnTo>
                  <a:pt x="0" y="471"/>
                </a:lnTo>
                <a:lnTo>
                  <a:pt x="14" y="413"/>
                </a:lnTo>
                <a:lnTo>
                  <a:pt x="52" y="413"/>
                </a:lnTo>
                <a:cubicBezTo>
                  <a:pt x="54" y="404"/>
                  <a:pt x="55" y="368"/>
                  <a:pt x="55" y="368"/>
                </a:cubicBezTo>
                <a:lnTo>
                  <a:pt x="2" y="368"/>
                </a:lnTo>
                <a:lnTo>
                  <a:pt x="17" y="311"/>
                </a:lnTo>
                <a:lnTo>
                  <a:pt x="60" y="311"/>
                </a:lnTo>
                <a:cubicBezTo>
                  <a:pt x="162" y="0"/>
                  <a:pt x="444" y="137"/>
                  <a:pt x="444" y="137"/>
                </a:cubicBezTo>
                <a:lnTo>
                  <a:pt x="417" y="229"/>
                </a:lnTo>
                <a:cubicBezTo>
                  <a:pt x="216" y="118"/>
                  <a:pt x="156" y="311"/>
                  <a:pt x="156" y="311"/>
                </a:cubicBezTo>
                <a:lnTo>
                  <a:pt x="408" y="311"/>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47" name="Freeform 341"/>
          <p:cNvSpPr/>
          <p:nvPr/>
        </p:nvSpPr>
        <p:spPr>
          <a:xfrm>
            <a:off x="7743960" y="4219560"/>
            <a:ext cx="102960" cy="152280"/>
          </a:xfrm>
          <a:custGeom>
            <a:avLst/>
            <a:gdLst/>
            <a:ahLst/>
            <a:rect l="l" t="t" r="r" b="b"/>
            <a:pathLst>
              <a:path w="382" h="569">
                <a:moveTo>
                  <a:pt x="137" y="532"/>
                </a:moveTo>
                <a:cubicBezTo>
                  <a:pt x="113" y="523"/>
                  <a:pt x="97" y="525"/>
                  <a:pt x="97" y="525"/>
                </a:cubicBezTo>
                <a:cubicBezTo>
                  <a:pt x="62" y="524"/>
                  <a:pt x="38" y="551"/>
                  <a:pt x="38" y="551"/>
                </a:cubicBezTo>
                <a:lnTo>
                  <a:pt x="1" y="465"/>
                </a:lnTo>
                <a:cubicBezTo>
                  <a:pt x="86" y="404"/>
                  <a:pt x="74" y="325"/>
                  <a:pt x="74" y="325"/>
                </a:cubicBezTo>
                <a:lnTo>
                  <a:pt x="0" y="325"/>
                </a:lnTo>
                <a:lnTo>
                  <a:pt x="0" y="248"/>
                </a:lnTo>
                <a:lnTo>
                  <a:pt x="56" y="248"/>
                </a:lnTo>
                <a:cubicBezTo>
                  <a:pt x="39" y="215"/>
                  <a:pt x="40" y="188"/>
                  <a:pt x="40" y="188"/>
                </a:cubicBezTo>
                <a:cubicBezTo>
                  <a:pt x="38" y="37"/>
                  <a:pt x="181" y="23"/>
                  <a:pt x="181" y="23"/>
                </a:cubicBezTo>
                <a:cubicBezTo>
                  <a:pt x="347" y="0"/>
                  <a:pt x="361" y="158"/>
                  <a:pt x="361" y="158"/>
                </a:cubicBezTo>
                <a:lnTo>
                  <a:pt x="254" y="173"/>
                </a:lnTo>
                <a:cubicBezTo>
                  <a:pt x="242" y="120"/>
                  <a:pt x="188" y="128"/>
                  <a:pt x="188" y="128"/>
                </a:cubicBezTo>
                <a:cubicBezTo>
                  <a:pt x="116" y="146"/>
                  <a:pt x="158" y="245"/>
                  <a:pt x="158" y="245"/>
                </a:cubicBezTo>
                <a:lnTo>
                  <a:pt x="262" y="245"/>
                </a:lnTo>
                <a:lnTo>
                  <a:pt x="262" y="323"/>
                </a:lnTo>
                <a:lnTo>
                  <a:pt x="174" y="323"/>
                </a:lnTo>
                <a:cubicBezTo>
                  <a:pt x="179" y="380"/>
                  <a:pt x="142" y="433"/>
                  <a:pt x="142" y="433"/>
                </a:cubicBezTo>
                <a:cubicBezTo>
                  <a:pt x="221" y="476"/>
                  <a:pt x="345" y="445"/>
                  <a:pt x="345" y="445"/>
                </a:cubicBezTo>
                <a:lnTo>
                  <a:pt x="382" y="526"/>
                </a:lnTo>
                <a:cubicBezTo>
                  <a:pt x="231" y="569"/>
                  <a:pt x="137" y="532"/>
                  <a:pt x="137" y="53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48" name="Freeform 342"/>
          <p:cNvSpPr/>
          <p:nvPr/>
        </p:nvSpPr>
        <p:spPr>
          <a:xfrm>
            <a:off x="8062920" y="4227480"/>
            <a:ext cx="125280" cy="136440"/>
          </a:xfrm>
          <a:custGeom>
            <a:avLst/>
            <a:gdLst/>
            <a:ahLst/>
            <a:rect l="l" t="t" r="r" b="b"/>
            <a:pathLst>
              <a:path w="465" h="515">
                <a:moveTo>
                  <a:pt x="441" y="286"/>
                </a:moveTo>
                <a:lnTo>
                  <a:pt x="441" y="351"/>
                </a:lnTo>
                <a:lnTo>
                  <a:pt x="275" y="351"/>
                </a:lnTo>
                <a:lnTo>
                  <a:pt x="275" y="384"/>
                </a:lnTo>
                <a:lnTo>
                  <a:pt x="441" y="384"/>
                </a:lnTo>
                <a:lnTo>
                  <a:pt x="441" y="449"/>
                </a:lnTo>
                <a:lnTo>
                  <a:pt x="275" y="449"/>
                </a:lnTo>
                <a:lnTo>
                  <a:pt x="275" y="515"/>
                </a:lnTo>
                <a:lnTo>
                  <a:pt x="183" y="515"/>
                </a:lnTo>
                <a:lnTo>
                  <a:pt x="183" y="449"/>
                </a:lnTo>
                <a:lnTo>
                  <a:pt x="25" y="449"/>
                </a:lnTo>
                <a:lnTo>
                  <a:pt x="25" y="384"/>
                </a:lnTo>
                <a:lnTo>
                  <a:pt x="183" y="384"/>
                </a:lnTo>
                <a:lnTo>
                  <a:pt x="183" y="351"/>
                </a:lnTo>
                <a:lnTo>
                  <a:pt x="25" y="351"/>
                </a:lnTo>
                <a:lnTo>
                  <a:pt x="25" y="286"/>
                </a:lnTo>
                <a:lnTo>
                  <a:pt x="175" y="286"/>
                </a:lnTo>
                <a:lnTo>
                  <a:pt x="0" y="0"/>
                </a:lnTo>
                <a:lnTo>
                  <a:pt x="110" y="0"/>
                </a:lnTo>
                <a:lnTo>
                  <a:pt x="202" y="154"/>
                </a:lnTo>
                <a:cubicBezTo>
                  <a:pt x="213" y="172"/>
                  <a:pt x="223" y="190"/>
                  <a:pt x="233" y="208"/>
                </a:cubicBezTo>
                <a:cubicBezTo>
                  <a:pt x="243" y="190"/>
                  <a:pt x="254" y="171"/>
                  <a:pt x="267" y="150"/>
                </a:cubicBezTo>
                <a:lnTo>
                  <a:pt x="358" y="0"/>
                </a:lnTo>
                <a:lnTo>
                  <a:pt x="465" y="0"/>
                </a:lnTo>
                <a:lnTo>
                  <a:pt x="283" y="286"/>
                </a:lnTo>
                <a:lnTo>
                  <a:pt x="441" y="286"/>
                </a:lnTo>
                <a:close/>
              </a:path>
            </a:pathLst>
          </a:custGeom>
          <a:solidFill>
            <a:srgbClr val="a6a6a6"/>
          </a:solidFill>
          <a:ln w="0">
            <a:noFill/>
          </a:ln>
        </p:spPr>
        <p:style>
          <a:lnRef idx="0"/>
          <a:fillRef idx="0"/>
          <a:effectRef idx="0"/>
          <a:fontRef idx="minor"/>
        </p:style>
        <p:txBody>
          <a:bodyPr lIns="145800" rIns="145800" tIns="63720" bIns="63720" anchor="t">
            <a:noAutofit/>
          </a:bodyPr>
          <a:p>
            <a:endParaRPr b="0" lang="en-US" sz="1800" spc="-1" strike="noStrike">
              <a:solidFill>
                <a:srgbClr val="000000"/>
              </a:solidFill>
              <a:latin typeface="Calibri"/>
            </a:endParaRPr>
          </a:p>
        </p:txBody>
      </p:sp>
      <p:sp>
        <p:nvSpPr>
          <p:cNvPr id="1949" name="Freeform 343"/>
          <p:cNvSpPr/>
          <p:nvPr/>
        </p:nvSpPr>
        <p:spPr>
          <a:xfrm>
            <a:off x="9725040" y="3848040"/>
            <a:ext cx="203040" cy="231840"/>
          </a:xfrm>
          <a:custGeom>
            <a:avLst/>
            <a:gdLst/>
            <a:ahLst/>
            <a:rect l="l" t="t" r="r" b="b"/>
            <a:pathLst>
              <a:path w="758" h="861">
                <a:moveTo>
                  <a:pt x="0" y="163"/>
                </a:moveTo>
                <a:cubicBezTo>
                  <a:pt x="0" y="174"/>
                  <a:pt x="9" y="183"/>
                  <a:pt x="20" y="183"/>
                </a:cubicBezTo>
                <a:lnTo>
                  <a:pt x="108" y="183"/>
                </a:lnTo>
                <a:cubicBezTo>
                  <a:pt x="114" y="183"/>
                  <a:pt x="125" y="187"/>
                  <a:pt x="129" y="191"/>
                </a:cubicBezTo>
                <a:lnTo>
                  <a:pt x="181" y="241"/>
                </a:lnTo>
                <a:lnTo>
                  <a:pt x="123" y="241"/>
                </a:lnTo>
                <a:cubicBezTo>
                  <a:pt x="89" y="241"/>
                  <a:pt x="82" y="260"/>
                  <a:pt x="106" y="283"/>
                </a:cubicBezTo>
                <a:lnTo>
                  <a:pt x="362" y="519"/>
                </a:lnTo>
                <a:cubicBezTo>
                  <a:pt x="368" y="524"/>
                  <a:pt x="375" y="529"/>
                  <a:pt x="382" y="531"/>
                </a:cubicBezTo>
                <a:lnTo>
                  <a:pt x="382" y="801"/>
                </a:lnTo>
                <a:lnTo>
                  <a:pt x="263" y="853"/>
                </a:lnTo>
                <a:cubicBezTo>
                  <a:pt x="253" y="857"/>
                  <a:pt x="254" y="861"/>
                  <a:pt x="265" y="861"/>
                </a:cubicBezTo>
                <a:lnTo>
                  <a:pt x="546" y="861"/>
                </a:lnTo>
                <a:cubicBezTo>
                  <a:pt x="557" y="861"/>
                  <a:pt x="558" y="857"/>
                  <a:pt x="548" y="853"/>
                </a:cubicBezTo>
                <a:lnTo>
                  <a:pt x="422" y="801"/>
                </a:lnTo>
                <a:lnTo>
                  <a:pt x="422" y="532"/>
                </a:lnTo>
                <a:cubicBezTo>
                  <a:pt x="432" y="529"/>
                  <a:pt x="441" y="524"/>
                  <a:pt x="448" y="516"/>
                </a:cubicBezTo>
                <a:lnTo>
                  <a:pt x="614" y="341"/>
                </a:lnTo>
                <a:cubicBezTo>
                  <a:pt x="630" y="339"/>
                  <a:pt x="645" y="334"/>
                  <a:pt x="659" y="327"/>
                </a:cubicBezTo>
                <a:cubicBezTo>
                  <a:pt x="662" y="325"/>
                  <a:pt x="665" y="323"/>
                  <a:pt x="668" y="322"/>
                </a:cubicBezTo>
                <a:cubicBezTo>
                  <a:pt x="704" y="301"/>
                  <a:pt x="731" y="268"/>
                  <a:pt x="744" y="229"/>
                </a:cubicBezTo>
                <a:cubicBezTo>
                  <a:pt x="758" y="186"/>
                  <a:pt x="755" y="140"/>
                  <a:pt x="735" y="99"/>
                </a:cubicBezTo>
                <a:cubicBezTo>
                  <a:pt x="715" y="59"/>
                  <a:pt x="680" y="29"/>
                  <a:pt x="637" y="14"/>
                </a:cubicBezTo>
                <a:cubicBezTo>
                  <a:pt x="594" y="0"/>
                  <a:pt x="548" y="3"/>
                  <a:pt x="508" y="23"/>
                </a:cubicBezTo>
                <a:cubicBezTo>
                  <a:pt x="437" y="59"/>
                  <a:pt x="400" y="138"/>
                  <a:pt x="419" y="215"/>
                </a:cubicBezTo>
                <a:lnTo>
                  <a:pt x="458" y="205"/>
                </a:lnTo>
                <a:cubicBezTo>
                  <a:pt x="444" y="146"/>
                  <a:pt x="471" y="87"/>
                  <a:pt x="526" y="59"/>
                </a:cubicBezTo>
                <a:cubicBezTo>
                  <a:pt x="557" y="44"/>
                  <a:pt x="592" y="42"/>
                  <a:pt x="624" y="53"/>
                </a:cubicBezTo>
                <a:cubicBezTo>
                  <a:pt x="657" y="64"/>
                  <a:pt x="684" y="87"/>
                  <a:pt x="699" y="117"/>
                </a:cubicBezTo>
                <a:cubicBezTo>
                  <a:pt x="714" y="148"/>
                  <a:pt x="717" y="183"/>
                  <a:pt x="706" y="216"/>
                </a:cubicBezTo>
                <a:cubicBezTo>
                  <a:pt x="700" y="232"/>
                  <a:pt x="692" y="247"/>
                  <a:pt x="681" y="259"/>
                </a:cubicBezTo>
                <a:cubicBezTo>
                  <a:pt x="680" y="249"/>
                  <a:pt x="669" y="241"/>
                  <a:pt x="649" y="241"/>
                </a:cubicBezTo>
                <a:lnTo>
                  <a:pt x="240" y="241"/>
                </a:lnTo>
                <a:lnTo>
                  <a:pt x="157" y="162"/>
                </a:lnTo>
                <a:cubicBezTo>
                  <a:pt x="145" y="151"/>
                  <a:pt x="125" y="143"/>
                  <a:pt x="108" y="143"/>
                </a:cubicBezTo>
                <a:lnTo>
                  <a:pt x="20" y="143"/>
                </a:lnTo>
                <a:cubicBezTo>
                  <a:pt x="9" y="143"/>
                  <a:pt x="0" y="152"/>
                  <a:pt x="0" y="16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50" name="Freeform 344"/>
          <p:cNvSpPr/>
          <p:nvPr/>
        </p:nvSpPr>
        <p:spPr>
          <a:xfrm>
            <a:off x="5881680" y="2577960"/>
            <a:ext cx="196920" cy="216000"/>
          </a:xfrm>
          <a:custGeom>
            <a:avLst/>
            <a:gdLst/>
            <a:ahLst/>
            <a:rect l="l" t="t" r="r" b="b"/>
            <a:pathLst>
              <a:path w="731" h="808">
                <a:moveTo>
                  <a:pt x="365" y="124"/>
                </a:moveTo>
                <a:cubicBezTo>
                  <a:pt x="230" y="124"/>
                  <a:pt x="119" y="231"/>
                  <a:pt x="119" y="362"/>
                </a:cubicBezTo>
                <a:cubicBezTo>
                  <a:pt x="119" y="447"/>
                  <a:pt x="154" y="498"/>
                  <a:pt x="179" y="535"/>
                </a:cubicBezTo>
                <a:cubicBezTo>
                  <a:pt x="195" y="558"/>
                  <a:pt x="204" y="571"/>
                  <a:pt x="204" y="585"/>
                </a:cubicBezTo>
                <a:cubicBezTo>
                  <a:pt x="204" y="616"/>
                  <a:pt x="220" y="645"/>
                  <a:pt x="250" y="667"/>
                </a:cubicBezTo>
                <a:cubicBezTo>
                  <a:pt x="250" y="685"/>
                  <a:pt x="253" y="730"/>
                  <a:pt x="253" y="730"/>
                </a:cubicBezTo>
                <a:lnTo>
                  <a:pt x="253" y="730"/>
                </a:lnTo>
                <a:cubicBezTo>
                  <a:pt x="254" y="743"/>
                  <a:pt x="260" y="769"/>
                  <a:pt x="304" y="783"/>
                </a:cubicBezTo>
                <a:cubicBezTo>
                  <a:pt x="309" y="791"/>
                  <a:pt x="316" y="797"/>
                  <a:pt x="324" y="803"/>
                </a:cubicBezTo>
                <a:cubicBezTo>
                  <a:pt x="329" y="806"/>
                  <a:pt x="335" y="808"/>
                  <a:pt x="341" y="808"/>
                </a:cubicBezTo>
                <a:lnTo>
                  <a:pt x="389" y="808"/>
                </a:lnTo>
                <a:cubicBezTo>
                  <a:pt x="395" y="808"/>
                  <a:pt x="401" y="806"/>
                  <a:pt x="406" y="803"/>
                </a:cubicBezTo>
                <a:cubicBezTo>
                  <a:pt x="415" y="797"/>
                  <a:pt x="421" y="791"/>
                  <a:pt x="427" y="783"/>
                </a:cubicBezTo>
                <a:cubicBezTo>
                  <a:pt x="471" y="768"/>
                  <a:pt x="477" y="742"/>
                  <a:pt x="477" y="730"/>
                </a:cubicBezTo>
                <a:cubicBezTo>
                  <a:pt x="477" y="730"/>
                  <a:pt x="480" y="685"/>
                  <a:pt x="481" y="667"/>
                </a:cubicBezTo>
                <a:cubicBezTo>
                  <a:pt x="510" y="645"/>
                  <a:pt x="527" y="616"/>
                  <a:pt x="527" y="585"/>
                </a:cubicBezTo>
                <a:cubicBezTo>
                  <a:pt x="527" y="572"/>
                  <a:pt x="536" y="558"/>
                  <a:pt x="551" y="535"/>
                </a:cubicBezTo>
                <a:cubicBezTo>
                  <a:pt x="577" y="498"/>
                  <a:pt x="611" y="447"/>
                  <a:pt x="611" y="362"/>
                </a:cubicBezTo>
                <a:cubicBezTo>
                  <a:pt x="611" y="231"/>
                  <a:pt x="501" y="124"/>
                  <a:pt x="365" y="124"/>
                </a:cubicBezTo>
                <a:close/>
                <a:moveTo>
                  <a:pt x="509" y="116"/>
                </a:moveTo>
                <a:cubicBezTo>
                  <a:pt x="512" y="118"/>
                  <a:pt x="514" y="118"/>
                  <a:pt x="517" y="118"/>
                </a:cubicBezTo>
                <a:cubicBezTo>
                  <a:pt x="522" y="118"/>
                  <a:pt x="527" y="115"/>
                  <a:pt x="530" y="111"/>
                </a:cubicBezTo>
                <a:lnTo>
                  <a:pt x="554" y="70"/>
                </a:lnTo>
                <a:cubicBezTo>
                  <a:pt x="558" y="63"/>
                  <a:pt x="555" y="53"/>
                  <a:pt x="548" y="49"/>
                </a:cubicBezTo>
                <a:cubicBezTo>
                  <a:pt x="541" y="45"/>
                  <a:pt x="531" y="47"/>
                  <a:pt x="527" y="55"/>
                </a:cubicBezTo>
                <a:lnTo>
                  <a:pt x="503" y="95"/>
                </a:lnTo>
                <a:cubicBezTo>
                  <a:pt x="499" y="102"/>
                  <a:pt x="502" y="112"/>
                  <a:pt x="509" y="116"/>
                </a:cubicBezTo>
                <a:close/>
                <a:moveTo>
                  <a:pt x="628" y="229"/>
                </a:moveTo>
                <a:cubicBezTo>
                  <a:pt x="631" y="229"/>
                  <a:pt x="633" y="229"/>
                  <a:pt x="636" y="227"/>
                </a:cubicBezTo>
                <a:lnTo>
                  <a:pt x="676" y="204"/>
                </a:lnTo>
                <a:cubicBezTo>
                  <a:pt x="684" y="200"/>
                  <a:pt x="686" y="190"/>
                  <a:pt x="682" y="183"/>
                </a:cubicBezTo>
                <a:cubicBezTo>
                  <a:pt x="678" y="175"/>
                  <a:pt x="668" y="173"/>
                  <a:pt x="661" y="177"/>
                </a:cubicBezTo>
                <a:lnTo>
                  <a:pt x="620" y="200"/>
                </a:lnTo>
                <a:cubicBezTo>
                  <a:pt x="613" y="205"/>
                  <a:pt x="610" y="214"/>
                  <a:pt x="615" y="221"/>
                </a:cubicBezTo>
                <a:cubicBezTo>
                  <a:pt x="617" y="226"/>
                  <a:pt x="623" y="229"/>
                  <a:pt x="628" y="229"/>
                </a:cubicBezTo>
                <a:close/>
                <a:moveTo>
                  <a:pt x="715" y="350"/>
                </a:moveTo>
                <a:lnTo>
                  <a:pt x="669" y="350"/>
                </a:lnTo>
                <a:cubicBezTo>
                  <a:pt x="660" y="350"/>
                  <a:pt x="653" y="357"/>
                  <a:pt x="653" y="365"/>
                </a:cubicBezTo>
                <a:cubicBezTo>
                  <a:pt x="653" y="374"/>
                  <a:pt x="660" y="381"/>
                  <a:pt x="669" y="381"/>
                </a:cubicBezTo>
                <a:lnTo>
                  <a:pt x="715" y="381"/>
                </a:lnTo>
                <a:cubicBezTo>
                  <a:pt x="724" y="381"/>
                  <a:pt x="731" y="374"/>
                  <a:pt x="731" y="365"/>
                </a:cubicBezTo>
                <a:cubicBezTo>
                  <a:pt x="731" y="357"/>
                  <a:pt x="724" y="350"/>
                  <a:pt x="715" y="350"/>
                </a:cubicBezTo>
                <a:close/>
                <a:moveTo>
                  <a:pt x="676" y="527"/>
                </a:moveTo>
                <a:lnTo>
                  <a:pt x="636" y="504"/>
                </a:lnTo>
                <a:cubicBezTo>
                  <a:pt x="628" y="499"/>
                  <a:pt x="619" y="502"/>
                  <a:pt x="615" y="509"/>
                </a:cubicBezTo>
                <a:cubicBezTo>
                  <a:pt x="610" y="517"/>
                  <a:pt x="613" y="526"/>
                  <a:pt x="620" y="531"/>
                </a:cubicBezTo>
                <a:lnTo>
                  <a:pt x="661" y="554"/>
                </a:lnTo>
                <a:cubicBezTo>
                  <a:pt x="663" y="555"/>
                  <a:pt x="666" y="556"/>
                  <a:pt x="668" y="556"/>
                </a:cubicBezTo>
                <a:cubicBezTo>
                  <a:pt x="674" y="556"/>
                  <a:pt x="679" y="553"/>
                  <a:pt x="682" y="548"/>
                </a:cubicBezTo>
                <a:cubicBezTo>
                  <a:pt x="686" y="541"/>
                  <a:pt x="684" y="531"/>
                  <a:pt x="676" y="527"/>
                </a:cubicBezTo>
                <a:close/>
                <a:moveTo>
                  <a:pt x="95" y="504"/>
                </a:moveTo>
                <a:lnTo>
                  <a:pt x="54" y="527"/>
                </a:lnTo>
                <a:cubicBezTo>
                  <a:pt x="47" y="531"/>
                  <a:pt x="44" y="541"/>
                  <a:pt x="49" y="548"/>
                </a:cubicBezTo>
                <a:cubicBezTo>
                  <a:pt x="52" y="553"/>
                  <a:pt x="57" y="556"/>
                  <a:pt x="62" y="556"/>
                </a:cubicBezTo>
                <a:cubicBezTo>
                  <a:pt x="65" y="556"/>
                  <a:pt x="68" y="555"/>
                  <a:pt x="70" y="554"/>
                </a:cubicBezTo>
                <a:lnTo>
                  <a:pt x="110" y="531"/>
                </a:lnTo>
                <a:cubicBezTo>
                  <a:pt x="118" y="526"/>
                  <a:pt x="120" y="517"/>
                  <a:pt x="116" y="509"/>
                </a:cubicBezTo>
                <a:cubicBezTo>
                  <a:pt x="112" y="502"/>
                  <a:pt x="102" y="499"/>
                  <a:pt x="95" y="504"/>
                </a:cubicBezTo>
                <a:close/>
                <a:moveTo>
                  <a:pt x="77" y="365"/>
                </a:moveTo>
                <a:cubicBezTo>
                  <a:pt x="77" y="357"/>
                  <a:pt x="71" y="350"/>
                  <a:pt x="62" y="350"/>
                </a:cubicBezTo>
                <a:lnTo>
                  <a:pt x="15" y="350"/>
                </a:lnTo>
                <a:cubicBezTo>
                  <a:pt x="7" y="350"/>
                  <a:pt x="0" y="357"/>
                  <a:pt x="0" y="365"/>
                </a:cubicBezTo>
                <a:cubicBezTo>
                  <a:pt x="0" y="374"/>
                  <a:pt x="7" y="381"/>
                  <a:pt x="15" y="381"/>
                </a:cubicBezTo>
                <a:lnTo>
                  <a:pt x="62" y="381"/>
                </a:lnTo>
                <a:cubicBezTo>
                  <a:pt x="71" y="381"/>
                  <a:pt x="77" y="374"/>
                  <a:pt x="77" y="365"/>
                </a:cubicBezTo>
                <a:close/>
                <a:moveTo>
                  <a:pt x="110" y="200"/>
                </a:moveTo>
                <a:lnTo>
                  <a:pt x="70" y="177"/>
                </a:lnTo>
                <a:cubicBezTo>
                  <a:pt x="63" y="173"/>
                  <a:pt x="53" y="175"/>
                  <a:pt x="49" y="183"/>
                </a:cubicBezTo>
                <a:cubicBezTo>
                  <a:pt x="44" y="190"/>
                  <a:pt x="47" y="200"/>
                  <a:pt x="54" y="204"/>
                </a:cubicBezTo>
                <a:lnTo>
                  <a:pt x="95" y="227"/>
                </a:lnTo>
                <a:cubicBezTo>
                  <a:pt x="97" y="229"/>
                  <a:pt x="100" y="229"/>
                  <a:pt x="103" y="229"/>
                </a:cubicBezTo>
                <a:cubicBezTo>
                  <a:pt x="108" y="229"/>
                  <a:pt x="113" y="227"/>
                  <a:pt x="116" y="221"/>
                </a:cubicBezTo>
                <a:cubicBezTo>
                  <a:pt x="120" y="214"/>
                  <a:pt x="118" y="205"/>
                  <a:pt x="110" y="200"/>
                </a:cubicBezTo>
                <a:close/>
                <a:moveTo>
                  <a:pt x="200" y="111"/>
                </a:moveTo>
                <a:cubicBezTo>
                  <a:pt x="203" y="115"/>
                  <a:pt x="208" y="118"/>
                  <a:pt x="214" y="118"/>
                </a:cubicBezTo>
                <a:cubicBezTo>
                  <a:pt x="216" y="118"/>
                  <a:pt x="219" y="118"/>
                  <a:pt x="221" y="116"/>
                </a:cubicBezTo>
                <a:cubicBezTo>
                  <a:pt x="229" y="112"/>
                  <a:pt x="231" y="102"/>
                  <a:pt x="227" y="95"/>
                </a:cubicBezTo>
                <a:lnTo>
                  <a:pt x="204" y="55"/>
                </a:lnTo>
                <a:cubicBezTo>
                  <a:pt x="199" y="47"/>
                  <a:pt x="190" y="45"/>
                  <a:pt x="182" y="49"/>
                </a:cubicBezTo>
                <a:cubicBezTo>
                  <a:pt x="175" y="53"/>
                  <a:pt x="173" y="63"/>
                  <a:pt x="177" y="70"/>
                </a:cubicBezTo>
                <a:lnTo>
                  <a:pt x="200" y="111"/>
                </a:lnTo>
                <a:close/>
                <a:moveTo>
                  <a:pt x="365" y="78"/>
                </a:moveTo>
                <a:cubicBezTo>
                  <a:pt x="374" y="78"/>
                  <a:pt x="381" y="71"/>
                  <a:pt x="381" y="62"/>
                </a:cubicBezTo>
                <a:lnTo>
                  <a:pt x="381" y="15"/>
                </a:lnTo>
                <a:cubicBezTo>
                  <a:pt x="381" y="7"/>
                  <a:pt x="374" y="0"/>
                  <a:pt x="365" y="0"/>
                </a:cubicBezTo>
                <a:cubicBezTo>
                  <a:pt x="357" y="0"/>
                  <a:pt x="350" y="7"/>
                  <a:pt x="350" y="15"/>
                </a:cubicBezTo>
                <a:lnTo>
                  <a:pt x="350" y="62"/>
                </a:lnTo>
                <a:cubicBezTo>
                  <a:pt x="350" y="71"/>
                  <a:pt x="357" y="78"/>
                  <a:pt x="365" y="78"/>
                </a:cubicBezTo>
                <a:close/>
                <a:moveTo>
                  <a:pt x="500" y="500"/>
                </a:moveTo>
                <a:cubicBezTo>
                  <a:pt x="482" y="527"/>
                  <a:pt x="465" y="552"/>
                  <a:pt x="465" y="585"/>
                </a:cubicBezTo>
                <a:cubicBezTo>
                  <a:pt x="465" y="600"/>
                  <a:pt x="451" y="612"/>
                  <a:pt x="441" y="619"/>
                </a:cubicBezTo>
                <a:lnTo>
                  <a:pt x="289" y="619"/>
                </a:lnTo>
                <a:cubicBezTo>
                  <a:pt x="279" y="612"/>
                  <a:pt x="266" y="600"/>
                  <a:pt x="266" y="585"/>
                </a:cubicBezTo>
                <a:cubicBezTo>
                  <a:pt x="266" y="552"/>
                  <a:pt x="249" y="527"/>
                  <a:pt x="231" y="500"/>
                </a:cubicBezTo>
                <a:cubicBezTo>
                  <a:pt x="208" y="466"/>
                  <a:pt x="182" y="428"/>
                  <a:pt x="182" y="362"/>
                </a:cubicBezTo>
                <a:cubicBezTo>
                  <a:pt x="182" y="265"/>
                  <a:pt x="264" y="186"/>
                  <a:pt x="365" y="186"/>
                </a:cubicBezTo>
                <a:cubicBezTo>
                  <a:pt x="467" y="186"/>
                  <a:pt x="549" y="265"/>
                  <a:pt x="549" y="362"/>
                </a:cubicBezTo>
                <a:cubicBezTo>
                  <a:pt x="549" y="428"/>
                  <a:pt x="523" y="466"/>
                  <a:pt x="500" y="50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51" name="Freeform 345"/>
          <p:cNvSpPr/>
          <p:nvPr/>
        </p:nvSpPr>
        <p:spPr>
          <a:xfrm>
            <a:off x="9713880" y="4216320"/>
            <a:ext cx="223920" cy="160560"/>
          </a:xfrm>
          <a:custGeom>
            <a:avLst/>
            <a:gdLst/>
            <a:ahLst/>
            <a:rect l="l" t="t" r="r" b="b"/>
            <a:pathLst>
              <a:path w="831" h="599">
                <a:moveTo>
                  <a:pt x="381" y="497"/>
                </a:moveTo>
                <a:cubicBezTo>
                  <a:pt x="274" y="497"/>
                  <a:pt x="188" y="410"/>
                  <a:pt x="188" y="304"/>
                </a:cubicBezTo>
                <a:cubicBezTo>
                  <a:pt x="188" y="197"/>
                  <a:pt x="274" y="111"/>
                  <a:pt x="381" y="111"/>
                </a:cubicBezTo>
                <a:cubicBezTo>
                  <a:pt x="487" y="111"/>
                  <a:pt x="574" y="197"/>
                  <a:pt x="574" y="304"/>
                </a:cubicBezTo>
                <a:cubicBezTo>
                  <a:pt x="574" y="410"/>
                  <a:pt x="487" y="497"/>
                  <a:pt x="381" y="497"/>
                </a:cubicBezTo>
                <a:close/>
                <a:moveTo>
                  <a:pt x="793" y="236"/>
                </a:moveTo>
                <a:lnTo>
                  <a:pt x="756" y="255"/>
                </a:lnTo>
                <a:cubicBezTo>
                  <a:pt x="752" y="257"/>
                  <a:pt x="748" y="258"/>
                  <a:pt x="743" y="260"/>
                </a:cubicBezTo>
                <a:lnTo>
                  <a:pt x="757" y="581"/>
                </a:lnTo>
                <a:cubicBezTo>
                  <a:pt x="757" y="591"/>
                  <a:pt x="733" y="599"/>
                  <a:pt x="721" y="599"/>
                </a:cubicBezTo>
                <a:cubicBezTo>
                  <a:pt x="709" y="599"/>
                  <a:pt x="686" y="591"/>
                  <a:pt x="686" y="581"/>
                </a:cubicBezTo>
                <a:lnTo>
                  <a:pt x="700" y="258"/>
                </a:lnTo>
                <a:cubicBezTo>
                  <a:pt x="695" y="256"/>
                  <a:pt x="690" y="255"/>
                  <a:pt x="686" y="252"/>
                </a:cubicBezTo>
                <a:lnTo>
                  <a:pt x="658" y="235"/>
                </a:lnTo>
                <a:cubicBezTo>
                  <a:pt x="638" y="223"/>
                  <a:pt x="624" y="197"/>
                  <a:pt x="624" y="173"/>
                </a:cubicBezTo>
                <a:lnTo>
                  <a:pt x="624" y="29"/>
                </a:lnTo>
                <a:cubicBezTo>
                  <a:pt x="624" y="18"/>
                  <a:pt x="633" y="8"/>
                  <a:pt x="645" y="8"/>
                </a:cubicBezTo>
                <a:cubicBezTo>
                  <a:pt x="657" y="8"/>
                  <a:pt x="666" y="18"/>
                  <a:pt x="666" y="29"/>
                </a:cubicBezTo>
                <a:lnTo>
                  <a:pt x="666" y="159"/>
                </a:lnTo>
                <a:lnTo>
                  <a:pt x="678" y="159"/>
                </a:lnTo>
                <a:lnTo>
                  <a:pt x="678" y="29"/>
                </a:lnTo>
                <a:cubicBezTo>
                  <a:pt x="678" y="18"/>
                  <a:pt x="688" y="8"/>
                  <a:pt x="700" y="8"/>
                </a:cubicBezTo>
                <a:cubicBezTo>
                  <a:pt x="712" y="8"/>
                  <a:pt x="721" y="18"/>
                  <a:pt x="721" y="29"/>
                </a:cubicBezTo>
                <a:lnTo>
                  <a:pt x="721" y="159"/>
                </a:lnTo>
                <a:lnTo>
                  <a:pt x="733" y="159"/>
                </a:lnTo>
                <a:lnTo>
                  <a:pt x="733" y="29"/>
                </a:lnTo>
                <a:cubicBezTo>
                  <a:pt x="733" y="18"/>
                  <a:pt x="743" y="8"/>
                  <a:pt x="755" y="8"/>
                </a:cubicBezTo>
                <a:cubicBezTo>
                  <a:pt x="766" y="8"/>
                  <a:pt x="776" y="18"/>
                  <a:pt x="776" y="29"/>
                </a:cubicBezTo>
                <a:lnTo>
                  <a:pt x="776" y="159"/>
                </a:lnTo>
                <a:lnTo>
                  <a:pt x="788" y="159"/>
                </a:lnTo>
                <a:lnTo>
                  <a:pt x="788" y="34"/>
                </a:lnTo>
                <a:cubicBezTo>
                  <a:pt x="788" y="22"/>
                  <a:pt x="797" y="13"/>
                  <a:pt x="809" y="13"/>
                </a:cubicBezTo>
                <a:cubicBezTo>
                  <a:pt x="821" y="13"/>
                  <a:pt x="831" y="22"/>
                  <a:pt x="831" y="34"/>
                </a:cubicBezTo>
                <a:lnTo>
                  <a:pt x="831" y="176"/>
                </a:lnTo>
                <a:cubicBezTo>
                  <a:pt x="831" y="200"/>
                  <a:pt x="815" y="226"/>
                  <a:pt x="793" y="236"/>
                </a:cubicBezTo>
                <a:close/>
                <a:moveTo>
                  <a:pt x="0" y="571"/>
                </a:moveTo>
                <a:lnTo>
                  <a:pt x="14" y="22"/>
                </a:lnTo>
                <a:cubicBezTo>
                  <a:pt x="14" y="10"/>
                  <a:pt x="24" y="0"/>
                  <a:pt x="35" y="0"/>
                </a:cubicBezTo>
                <a:cubicBezTo>
                  <a:pt x="39" y="0"/>
                  <a:pt x="42" y="1"/>
                  <a:pt x="44" y="2"/>
                </a:cubicBezTo>
                <a:lnTo>
                  <a:pt x="44" y="2"/>
                </a:lnTo>
                <a:cubicBezTo>
                  <a:pt x="44" y="2"/>
                  <a:pt x="45" y="2"/>
                  <a:pt x="46" y="3"/>
                </a:cubicBezTo>
                <a:cubicBezTo>
                  <a:pt x="48" y="4"/>
                  <a:pt x="50" y="5"/>
                  <a:pt x="51" y="7"/>
                </a:cubicBezTo>
                <a:cubicBezTo>
                  <a:pt x="67" y="20"/>
                  <a:pt x="117" y="72"/>
                  <a:pt x="121" y="143"/>
                </a:cubicBezTo>
                <a:cubicBezTo>
                  <a:pt x="127" y="252"/>
                  <a:pt x="75" y="295"/>
                  <a:pt x="57" y="335"/>
                </a:cubicBezTo>
                <a:lnTo>
                  <a:pt x="71" y="571"/>
                </a:lnTo>
                <a:cubicBezTo>
                  <a:pt x="71" y="583"/>
                  <a:pt x="47" y="593"/>
                  <a:pt x="36" y="593"/>
                </a:cubicBezTo>
                <a:cubicBezTo>
                  <a:pt x="24" y="593"/>
                  <a:pt x="0" y="583"/>
                  <a:pt x="0" y="571"/>
                </a:cubicBezTo>
                <a:close/>
                <a:moveTo>
                  <a:pt x="381" y="96"/>
                </a:moveTo>
                <a:cubicBezTo>
                  <a:pt x="266" y="96"/>
                  <a:pt x="173" y="189"/>
                  <a:pt x="173" y="304"/>
                </a:cubicBezTo>
                <a:cubicBezTo>
                  <a:pt x="173" y="418"/>
                  <a:pt x="266" y="511"/>
                  <a:pt x="381" y="511"/>
                </a:cubicBezTo>
                <a:cubicBezTo>
                  <a:pt x="495" y="511"/>
                  <a:pt x="588" y="418"/>
                  <a:pt x="588" y="304"/>
                </a:cubicBezTo>
                <a:cubicBezTo>
                  <a:pt x="588" y="189"/>
                  <a:pt x="495" y="96"/>
                  <a:pt x="381" y="96"/>
                </a:cubicBezTo>
                <a:close/>
                <a:moveTo>
                  <a:pt x="381" y="548"/>
                </a:moveTo>
                <a:cubicBezTo>
                  <a:pt x="245" y="548"/>
                  <a:pt x="136" y="439"/>
                  <a:pt x="136" y="304"/>
                </a:cubicBezTo>
                <a:cubicBezTo>
                  <a:pt x="136" y="168"/>
                  <a:pt x="245" y="59"/>
                  <a:pt x="381" y="59"/>
                </a:cubicBezTo>
                <a:cubicBezTo>
                  <a:pt x="516" y="59"/>
                  <a:pt x="626" y="168"/>
                  <a:pt x="626" y="304"/>
                </a:cubicBezTo>
                <a:cubicBezTo>
                  <a:pt x="626" y="439"/>
                  <a:pt x="516" y="548"/>
                  <a:pt x="381" y="548"/>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52" name="Freeform 346"/>
          <p:cNvSpPr/>
          <p:nvPr/>
        </p:nvSpPr>
        <p:spPr>
          <a:xfrm>
            <a:off x="5599080" y="4811760"/>
            <a:ext cx="123840" cy="181080"/>
          </a:xfrm>
          <a:custGeom>
            <a:avLst/>
            <a:gdLst/>
            <a:ahLst/>
            <a:rect l="l" t="t" r="r" b="b"/>
            <a:pathLst>
              <a:path w="462" h="670">
                <a:moveTo>
                  <a:pt x="230" y="310"/>
                </a:moveTo>
                <a:cubicBezTo>
                  <a:pt x="200" y="310"/>
                  <a:pt x="167" y="296"/>
                  <a:pt x="151" y="254"/>
                </a:cubicBezTo>
                <a:cubicBezTo>
                  <a:pt x="149" y="248"/>
                  <a:pt x="149" y="235"/>
                  <a:pt x="149" y="234"/>
                </a:cubicBezTo>
                <a:lnTo>
                  <a:pt x="149" y="215"/>
                </a:lnTo>
                <a:cubicBezTo>
                  <a:pt x="149" y="163"/>
                  <a:pt x="194" y="139"/>
                  <a:pt x="232" y="139"/>
                </a:cubicBezTo>
                <a:cubicBezTo>
                  <a:pt x="280" y="139"/>
                  <a:pt x="317" y="177"/>
                  <a:pt x="317" y="225"/>
                </a:cubicBezTo>
                <a:cubicBezTo>
                  <a:pt x="317" y="272"/>
                  <a:pt x="277" y="310"/>
                  <a:pt x="230" y="310"/>
                </a:cubicBezTo>
                <a:close/>
                <a:moveTo>
                  <a:pt x="451" y="167"/>
                </a:moveTo>
                <a:cubicBezTo>
                  <a:pt x="448" y="158"/>
                  <a:pt x="444" y="148"/>
                  <a:pt x="440" y="140"/>
                </a:cubicBezTo>
                <a:cubicBezTo>
                  <a:pt x="397" y="37"/>
                  <a:pt x="303" y="0"/>
                  <a:pt x="228" y="0"/>
                </a:cubicBezTo>
                <a:cubicBezTo>
                  <a:pt x="127" y="0"/>
                  <a:pt x="15" y="68"/>
                  <a:pt x="0" y="208"/>
                </a:cubicBezTo>
                <a:lnTo>
                  <a:pt x="0" y="237"/>
                </a:lnTo>
                <a:cubicBezTo>
                  <a:pt x="0" y="238"/>
                  <a:pt x="1" y="248"/>
                  <a:pt x="1" y="254"/>
                </a:cubicBezTo>
                <a:cubicBezTo>
                  <a:pt x="9" y="321"/>
                  <a:pt x="62" y="391"/>
                  <a:pt x="101" y="458"/>
                </a:cubicBezTo>
                <a:cubicBezTo>
                  <a:pt x="144" y="530"/>
                  <a:pt x="188" y="600"/>
                  <a:pt x="231" y="670"/>
                </a:cubicBezTo>
                <a:cubicBezTo>
                  <a:pt x="258" y="624"/>
                  <a:pt x="285" y="578"/>
                  <a:pt x="311" y="533"/>
                </a:cubicBezTo>
                <a:cubicBezTo>
                  <a:pt x="318" y="520"/>
                  <a:pt x="326" y="507"/>
                  <a:pt x="333" y="495"/>
                </a:cubicBezTo>
                <a:cubicBezTo>
                  <a:pt x="338" y="486"/>
                  <a:pt x="347" y="478"/>
                  <a:pt x="351" y="470"/>
                </a:cubicBezTo>
                <a:cubicBezTo>
                  <a:pt x="394" y="393"/>
                  <a:pt x="462" y="315"/>
                  <a:pt x="462" y="238"/>
                </a:cubicBezTo>
                <a:lnTo>
                  <a:pt x="462" y="206"/>
                </a:lnTo>
                <a:cubicBezTo>
                  <a:pt x="462" y="198"/>
                  <a:pt x="451" y="169"/>
                  <a:pt x="451" y="167"/>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53" name="Freeform 347"/>
          <p:cNvSpPr/>
          <p:nvPr/>
        </p:nvSpPr>
        <p:spPr>
          <a:xfrm>
            <a:off x="7304040" y="2268360"/>
            <a:ext cx="236520" cy="189000"/>
          </a:xfrm>
          <a:custGeom>
            <a:avLst/>
            <a:gdLst/>
            <a:ahLst/>
            <a:rect l="l" t="t" r="r" b="b"/>
            <a:pathLst>
              <a:path w="889" h="700">
                <a:moveTo>
                  <a:pt x="431" y="158"/>
                </a:moveTo>
                <a:cubicBezTo>
                  <a:pt x="426" y="158"/>
                  <a:pt x="421" y="156"/>
                  <a:pt x="417" y="152"/>
                </a:cubicBezTo>
                <a:lnTo>
                  <a:pt x="378" y="115"/>
                </a:lnTo>
                <a:cubicBezTo>
                  <a:pt x="371" y="107"/>
                  <a:pt x="370" y="94"/>
                  <a:pt x="378" y="86"/>
                </a:cubicBezTo>
                <a:cubicBezTo>
                  <a:pt x="386" y="79"/>
                  <a:pt x="398" y="78"/>
                  <a:pt x="406" y="86"/>
                </a:cubicBezTo>
                <a:lnTo>
                  <a:pt x="445" y="124"/>
                </a:lnTo>
                <a:cubicBezTo>
                  <a:pt x="453" y="131"/>
                  <a:pt x="453" y="144"/>
                  <a:pt x="445" y="152"/>
                </a:cubicBezTo>
                <a:cubicBezTo>
                  <a:pt x="441" y="156"/>
                  <a:pt x="436" y="158"/>
                  <a:pt x="431" y="158"/>
                </a:cubicBezTo>
                <a:close/>
                <a:moveTo>
                  <a:pt x="756" y="154"/>
                </a:moveTo>
                <a:cubicBezTo>
                  <a:pt x="751" y="154"/>
                  <a:pt x="746" y="152"/>
                  <a:pt x="742" y="148"/>
                </a:cubicBezTo>
                <a:cubicBezTo>
                  <a:pt x="734" y="141"/>
                  <a:pt x="734" y="128"/>
                  <a:pt x="742" y="120"/>
                </a:cubicBezTo>
                <a:lnTo>
                  <a:pt x="779" y="82"/>
                </a:lnTo>
                <a:cubicBezTo>
                  <a:pt x="787" y="74"/>
                  <a:pt x="800" y="74"/>
                  <a:pt x="808" y="81"/>
                </a:cubicBezTo>
                <a:cubicBezTo>
                  <a:pt x="815" y="89"/>
                  <a:pt x="816" y="102"/>
                  <a:pt x="808" y="109"/>
                </a:cubicBezTo>
                <a:lnTo>
                  <a:pt x="770" y="148"/>
                </a:lnTo>
                <a:cubicBezTo>
                  <a:pt x="766" y="152"/>
                  <a:pt x="761" y="154"/>
                  <a:pt x="756" y="154"/>
                </a:cubicBezTo>
                <a:close/>
                <a:moveTo>
                  <a:pt x="869" y="314"/>
                </a:moveTo>
                <a:lnTo>
                  <a:pt x="816" y="314"/>
                </a:lnTo>
                <a:cubicBezTo>
                  <a:pt x="805" y="314"/>
                  <a:pt x="796" y="306"/>
                  <a:pt x="795" y="295"/>
                </a:cubicBezTo>
                <a:cubicBezTo>
                  <a:pt x="795" y="284"/>
                  <a:pt x="804" y="275"/>
                  <a:pt x="815" y="274"/>
                </a:cubicBezTo>
                <a:lnTo>
                  <a:pt x="869" y="274"/>
                </a:lnTo>
                <a:cubicBezTo>
                  <a:pt x="880" y="274"/>
                  <a:pt x="889" y="282"/>
                  <a:pt x="889" y="293"/>
                </a:cubicBezTo>
                <a:cubicBezTo>
                  <a:pt x="889" y="304"/>
                  <a:pt x="880" y="313"/>
                  <a:pt x="869" y="314"/>
                </a:cubicBezTo>
                <a:close/>
                <a:moveTo>
                  <a:pt x="594" y="94"/>
                </a:moveTo>
                <a:cubicBezTo>
                  <a:pt x="583" y="94"/>
                  <a:pt x="574" y="85"/>
                  <a:pt x="574" y="74"/>
                </a:cubicBezTo>
                <a:lnTo>
                  <a:pt x="573" y="20"/>
                </a:lnTo>
                <a:cubicBezTo>
                  <a:pt x="573" y="9"/>
                  <a:pt x="582" y="0"/>
                  <a:pt x="593" y="0"/>
                </a:cubicBezTo>
                <a:cubicBezTo>
                  <a:pt x="604" y="0"/>
                  <a:pt x="613" y="8"/>
                  <a:pt x="613" y="19"/>
                </a:cubicBezTo>
                <a:lnTo>
                  <a:pt x="614" y="73"/>
                </a:lnTo>
                <a:cubicBezTo>
                  <a:pt x="614" y="84"/>
                  <a:pt x="605" y="93"/>
                  <a:pt x="594" y="94"/>
                </a:cubicBezTo>
                <a:close/>
                <a:moveTo>
                  <a:pt x="595" y="161"/>
                </a:moveTo>
                <a:cubicBezTo>
                  <a:pt x="669" y="161"/>
                  <a:pt x="731" y="221"/>
                  <a:pt x="732" y="295"/>
                </a:cubicBezTo>
                <a:cubicBezTo>
                  <a:pt x="732" y="309"/>
                  <a:pt x="730" y="323"/>
                  <a:pt x="726" y="336"/>
                </a:cubicBezTo>
                <a:cubicBezTo>
                  <a:pt x="709" y="331"/>
                  <a:pt x="691" y="328"/>
                  <a:pt x="672" y="328"/>
                </a:cubicBezTo>
                <a:cubicBezTo>
                  <a:pt x="660" y="328"/>
                  <a:pt x="647" y="330"/>
                  <a:pt x="635" y="332"/>
                </a:cubicBezTo>
                <a:cubicBezTo>
                  <a:pt x="609" y="272"/>
                  <a:pt x="560" y="225"/>
                  <a:pt x="502" y="200"/>
                </a:cubicBezTo>
                <a:cubicBezTo>
                  <a:pt x="526" y="176"/>
                  <a:pt x="559" y="162"/>
                  <a:pt x="595" y="161"/>
                </a:cubicBezTo>
                <a:close/>
                <a:moveTo>
                  <a:pt x="763" y="351"/>
                </a:moveTo>
                <a:cubicBezTo>
                  <a:pt x="769" y="334"/>
                  <a:pt x="772" y="315"/>
                  <a:pt x="772" y="295"/>
                </a:cubicBezTo>
                <a:cubicBezTo>
                  <a:pt x="771" y="198"/>
                  <a:pt x="691" y="120"/>
                  <a:pt x="594" y="122"/>
                </a:cubicBezTo>
                <a:cubicBezTo>
                  <a:pt x="540" y="122"/>
                  <a:pt x="492" y="147"/>
                  <a:pt x="461" y="186"/>
                </a:cubicBezTo>
                <a:cubicBezTo>
                  <a:pt x="440" y="180"/>
                  <a:pt x="418" y="178"/>
                  <a:pt x="395" y="178"/>
                </a:cubicBezTo>
                <a:cubicBezTo>
                  <a:pt x="255" y="180"/>
                  <a:pt x="142" y="292"/>
                  <a:pt x="139" y="431"/>
                </a:cubicBezTo>
                <a:cubicBezTo>
                  <a:pt x="137" y="431"/>
                  <a:pt x="135" y="431"/>
                  <a:pt x="133" y="431"/>
                </a:cubicBezTo>
                <a:cubicBezTo>
                  <a:pt x="59" y="432"/>
                  <a:pt x="0" y="493"/>
                  <a:pt x="1" y="567"/>
                </a:cubicBezTo>
                <a:cubicBezTo>
                  <a:pt x="2" y="641"/>
                  <a:pt x="63" y="700"/>
                  <a:pt x="137" y="699"/>
                </a:cubicBezTo>
                <a:lnTo>
                  <a:pt x="677" y="693"/>
                </a:lnTo>
                <a:cubicBezTo>
                  <a:pt x="777" y="692"/>
                  <a:pt x="858" y="609"/>
                  <a:pt x="857" y="508"/>
                </a:cubicBezTo>
                <a:cubicBezTo>
                  <a:pt x="856" y="441"/>
                  <a:pt x="818" y="382"/>
                  <a:pt x="763" y="35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54" name="Freeform 348"/>
          <p:cNvSpPr/>
          <p:nvPr/>
        </p:nvSpPr>
        <p:spPr>
          <a:xfrm>
            <a:off x="8032680" y="4495680"/>
            <a:ext cx="185760" cy="187560"/>
          </a:xfrm>
          <a:custGeom>
            <a:avLst/>
            <a:gdLst/>
            <a:ahLst/>
            <a:rect l="l" t="t" r="r" b="b"/>
            <a:pathLst>
              <a:path w="696" h="700">
                <a:moveTo>
                  <a:pt x="581" y="201"/>
                </a:moveTo>
                <a:cubicBezTo>
                  <a:pt x="565" y="185"/>
                  <a:pt x="543" y="176"/>
                  <a:pt x="520" y="175"/>
                </a:cubicBezTo>
                <a:lnTo>
                  <a:pt x="505" y="150"/>
                </a:lnTo>
                <a:cubicBezTo>
                  <a:pt x="496" y="134"/>
                  <a:pt x="485" y="120"/>
                  <a:pt x="473" y="108"/>
                </a:cubicBezTo>
                <a:cubicBezTo>
                  <a:pt x="475" y="84"/>
                  <a:pt x="465" y="60"/>
                  <a:pt x="443" y="46"/>
                </a:cubicBezTo>
                <a:cubicBezTo>
                  <a:pt x="400" y="18"/>
                  <a:pt x="351" y="3"/>
                  <a:pt x="300" y="1"/>
                </a:cubicBezTo>
                <a:cubicBezTo>
                  <a:pt x="247" y="0"/>
                  <a:pt x="196" y="14"/>
                  <a:pt x="150" y="41"/>
                </a:cubicBezTo>
                <a:lnTo>
                  <a:pt x="138" y="48"/>
                </a:lnTo>
                <a:cubicBezTo>
                  <a:pt x="92" y="76"/>
                  <a:pt x="56" y="115"/>
                  <a:pt x="33" y="162"/>
                </a:cubicBezTo>
                <a:cubicBezTo>
                  <a:pt x="10" y="208"/>
                  <a:pt x="0" y="259"/>
                  <a:pt x="5" y="310"/>
                </a:cubicBezTo>
                <a:cubicBezTo>
                  <a:pt x="7" y="335"/>
                  <a:pt x="23" y="356"/>
                  <a:pt x="45" y="365"/>
                </a:cubicBezTo>
                <a:cubicBezTo>
                  <a:pt x="51" y="381"/>
                  <a:pt x="58" y="398"/>
                  <a:pt x="68" y="413"/>
                </a:cubicBezTo>
                <a:lnTo>
                  <a:pt x="83" y="438"/>
                </a:lnTo>
                <a:cubicBezTo>
                  <a:pt x="73" y="459"/>
                  <a:pt x="71" y="482"/>
                  <a:pt x="77" y="504"/>
                </a:cubicBezTo>
                <a:cubicBezTo>
                  <a:pt x="61" y="530"/>
                  <a:pt x="59" y="564"/>
                  <a:pt x="76" y="592"/>
                </a:cubicBezTo>
                <a:lnTo>
                  <a:pt x="96" y="625"/>
                </a:lnTo>
                <a:cubicBezTo>
                  <a:pt x="113" y="653"/>
                  <a:pt x="143" y="667"/>
                  <a:pt x="174" y="665"/>
                </a:cubicBezTo>
                <a:cubicBezTo>
                  <a:pt x="204" y="693"/>
                  <a:pt x="250" y="700"/>
                  <a:pt x="286" y="677"/>
                </a:cubicBezTo>
                <a:cubicBezTo>
                  <a:pt x="331" y="651"/>
                  <a:pt x="345" y="593"/>
                  <a:pt x="318" y="549"/>
                </a:cubicBezTo>
                <a:lnTo>
                  <a:pt x="247" y="431"/>
                </a:lnTo>
                <a:cubicBezTo>
                  <a:pt x="225" y="394"/>
                  <a:pt x="181" y="378"/>
                  <a:pt x="141" y="389"/>
                </a:cubicBezTo>
                <a:lnTo>
                  <a:pt x="132" y="374"/>
                </a:lnTo>
                <a:cubicBezTo>
                  <a:pt x="127" y="366"/>
                  <a:pt x="123" y="357"/>
                  <a:pt x="120" y="348"/>
                </a:cubicBezTo>
                <a:cubicBezTo>
                  <a:pt x="132" y="335"/>
                  <a:pt x="138" y="317"/>
                  <a:pt x="137" y="298"/>
                </a:cubicBezTo>
                <a:cubicBezTo>
                  <a:pt x="132" y="243"/>
                  <a:pt x="158" y="190"/>
                  <a:pt x="206" y="162"/>
                </a:cubicBezTo>
                <a:lnTo>
                  <a:pt x="218" y="154"/>
                </a:lnTo>
                <a:cubicBezTo>
                  <a:pt x="266" y="125"/>
                  <a:pt x="325" y="126"/>
                  <a:pt x="371" y="157"/>
                </a:cubicBezTo>
                <a:cubicBezTo>
                  <a:pt x="387" y="167"/>
                  <a:pt x="406" y="170"/>
                  <a:pt x="424" y="165"/>
                </a:cubicBezTo>
                <a:cubicBezTo>
                  <a:pt x="430" y="173"/>
                  <a:pt x="435" y="180"/>
                  <a:pt x="440" y="189"/>
                </a:cubicBezTo>
                <a:lnTo>
                  <a:pt x="450" y="204"/>
                </a:lnTo>
                <a:cubicBezTo>
                  <a:pt x="421" y="234"/>
                  <a:pt x="414" y="280"/>
                  <a:pt x="437" y="317"/>
                </a:cubicBezTo>
                <a:lnTo>
                  <a:pt x="508" y="435"/>
                </a:lnTo>
                <a:cubicBezTo>
                  <a:pt x="534" y="479"/>
                  <a:pt x="592" y="494"/>
                  <a:pt x="636" y="467"/>
                </a:cubicBezTo>
                <a:cubicBezTo>
                  <a:pt x="673" y="445"/>
                  <a:pt x="689" y="401"/>
                  <a:pt x="678" y="362"/>
                </a:cubicBezTo>
                <a:cubicBezTo>
                  <a:pt x="694" y="336"/>
                  <a:pt x="696" y="302"/>
                  <a:pt x="679" y="274"/>
                </a:cubicBezTo>
                <a:lnTo>
                  <a:pt x="659" y="241"/>
                </a:lnTo>
                <a:cubicBezTo>
                  <a:pt x="642" y="213"/>
                  <a:pt x="612" y="199"/>
                  <a:pt x="581" y="20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55" name="Freeform 349"/>
          <p:cNvSpPr/>
          <p:nvPr/>
        </p:nvSpPr>
        <p:spPr>
          <a:xfrm>
            <a:off x="9740880" y="4492800"/>
            <a:ext cx="168120" cy="190440"/>
          </a:xfrm>
          <a:custGeom>
            <a:avLst/>
            <a:gdLst/>
            <a:ahLst/>
            <a:rect l="l" t="t" r="r" b="b"/>
            <a:pathLst>
              <a:path w="629" h="710">
                <a:moveTo>
                  <a:pt x="573" y="380"/>
                </a:moveTo>
                <a:cubicBezTo>
                  <a:pt x="604" y="380"/>
                  <a:pt x="628" y="355"/>
                  <a:pt x="628" y="324"/>
                </a:cubicBezTo>
                <a:cubicBezTo>
                  <a:pt x="627" y="293"/>
                  <a:pt x="605" y="267"/>
                  <a:pt x="574" y="267"/>
                </a:cubicBezTo>
                <a:lnTo>
                  <a:pt x="372" y="252"/>
                </a:lnTo>
                <a:cubicBezTo>
                  <a:pt x="372" y="252"/>
                  <a:pt x="411" y="180"/>
                  <a:pt x="405" y="76"/>
                </a:cubicBezTo>
                <a:cubicBezTo>
                  <a:pt x="402" y="7"/>
                  <a:pt x="352" y="0"/>
                  <a:pt x="323" y="2"/>
                </a:cubicBezTo>
                <a:cubicBezTo>
                  <a:pt x="300" y="3"/>
                  <a:pt x="296" y="48"/>
                  <a:pt x="296" y="48"/>
                </a:cubicBezTo>
                <a:lnTo>
                  <a:pt x="296" y="48"/>
                </a:lnTo>
                <a:cubicBezTo>
                  <a:pt x="292" y="76"/>
                  <a:pt x="287" y="101"/>
                  <a:pt x="266" y="148"/>
                </a:cubicBezTo>
                <a:cubicBezTo>
                  <a:pt x="242" y="201"/>
                  <a:pt x="206" y="198"/>
                  <a:pt x="167" y="246"/>
                </a:cubicBezTo>
                <a:cubicBezTo>
                  <a:pt x="160" y="254"/>
                  <a:pt x="151" y="268"/>
                  <a:pt x="142" y="284"/>
                </a:cubicBezTo>
                <a:cubicBezTo>
                  <a:pt x="141" y="285"/>
                  <a:pt x="141" y="287"/>
                  <a:pt x="140" y="288"/>
                </a:cubicBezTo>
                <a:cubicBezTo>
                  <a:pt x="139" y="290"/>
                  <a:pt x="138" y="292"/>
                  <a:pt x="138" y="294"/>
                </a:cubicBezTo>
                <a:cubicBezTo>
                  <a:pt x="136" y="297"/>
                  <a:pt x="135" y="300"/>
                  <a:pt x="133" y="303"/>
                </a:cubicBezTo>
                <a:cubicBezTo>
                  <a:pt x="109" y="330"/>
                  <a:pt x="69" y="330"/>
                  <a:pt x="52" y="330"/>
                </a:cubicBezTo>
                <a:cubicBezTo>
                  <a:pt x="17" y="332"/>
                  <a:pt x="0" y="353"/>
                  <a:pt x="2" y="385"/>
                </a:cubicBezTo>
                <a:lnTo>
                  <a:pt x="14" y="624"/>
                </a:lnTo>
                <a:cubicBezTo>
                  <a:pt x="16" y="661"/>
                  <a:pt x="32" y="672"/>
                  <a:pt x="69" y="670"/>
                </a:cubicBezTo>
                <a:lnTo>
                  <a:pt x="122" y="667"/>
                </a:lnTo>
                <a:cubicBezTo>
                  <a:pt x="148" y="666"/>
                  <a:pt x="169" y="680"/>
                  <a:pt x="201" y="689"/>
                </a:cubicBezTo>
                <a:cubicBezTo>
                  <a:pt x="245" y="702"/>
                  <a:pt x="310" y="710"/>
                  <a:pt x="421" y="704"/>
                </a:cubicBezTo>
                <a:cubicBezTo>
                  <a:pt x="440" y="703"/>
                  <a:pt x="501" y="700"/>
                  <a:pt x="501" y="700"/>
                </a:cubicBezTo>
                <a:cubicBezTo>
                  <a:pt x="519" y="699"/>
                  <a:pt x="533" y="690"/>
                  <a:pt x="544" y="679"/>
                </a:cubicBezTo>
                <a:cubicBezTo>
                  <a:pt x="547" y="675"/>
                  <a:pt x="551" y="669"/>
                  <a:pt x="553" y="658"/>
                </a:cubicBezTo>
                <a:cubicBezTo>
                  <a:pt x="553" y="657"/>
                  <a:pt x="553" y="649"/>
                  <a:pt x="553" y="649"/>
                </a:cubicBezTo>
                <a:cubicBezTo>
                  <a:pt x="552" y="617"/>
                  <a:pt x="533" y="607"/>
                  <a:pt x="522" y="604"/>
                </a:cubicBezTo>
                <a:cubicBezTo>
                  <a:pt x="522" y="604"/>
                  <a:pt x="522" y="603"/>
                  <a:pt x="523" y="603"/>
                </a:cubicBezTo>
                <a:lnTo>
                  <a:pt x="557" y="603"/>
                </a:lnTo>
                <a:cubicBezTo>
                  <a:pt x="587" y="603"/>
                  <a:pt x="616" y="580"/>
                  <a:pt x="614" y="543"/>
                </a:cubicBezTo>
                <a:cubicBezTo>
                  <a:pt x="612" y="512"/>
                  <a:pt x="586" y="492"/>
                  <a:pt x="556" y="492"/>
                </a:cubicBezTo>
                <a:lnTo>
                  <a:pt x="574" y="492"/>
                </a:lnTo>
                <a:cubicBezTo>
                  <a:pt x="604" y="491"/>
                  <a:pt x="629" y="466"/>
                  <a:pt x="629" y="435"/>
                </a:cubicBezTo>
                <a:cubicBezTo>
                  <a:pt x="628" y="405"/>
                  <a:pt x="604" y="380"/>
                  <a:pt x="573" y="38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56" name="Freeform 350"/>
          <p:cNvSpPr/>
          <p:nvPr/>
        </p:nvSpPr>
        <p:spPr>
          <a:xfrm>
            <a:off x="6626160" y="3262320"/>
            <a:ext cx="177840" cy="184320"/>
          </a:xfrm>
          <a:custGeom>
            <a:avLst/>
            <a:gdLst/>
            <a:ahLst/>
            <a:rect l="l" t="t" r="r" b="b"/>
            <a:pathLst>
              <a:path w="669" h="687">
                <a:moveTo>
                  <a:pt x="279" y="35"/>
                </a:moveTo>
                <a:lnTo>
                  <a:pt x="390" y="35"/>
                </a:lnTo>
                <a:lnTo>
                  <a:pt x="420" y="146"/>
                </a:lnTo>
                <a:lnTo>
                  <a:pt x="249" y="146"/>
                </a:lnTo>
                <a:lnTo>
                  <a:pt x="279" y="35"/>
                </a:lnTo>
                <a:close/>
                <a:moveTo>
                  <a:pt x="204" y="309"/>
                </a:moveTo>
                <a:lnTo>
                  <a:pt x="465" y="309"/>
                </a:lnTo>
                <a:lnTo>
                  <a:pt x="505" y="456"/>
                </a:lnTo>
                <a:lnTo>
                  <a:pt x="164" y="456"/>
                </a:lnTo>
                <a:lnTo>
                  <a:pt x="204" y="309"/>
                </a:lnTo>
                <a:close/>
                <a:moveTo>
                  <a:pt x="652" y="603"/>
                </a:moveTo>
                <a:lnTo>
                  <a:pt x="582" y="603"/>
                </a:lnTo>
                <a:lnTo>
                  <a:pt x="496" y="288"/>
                </a:lnTo>
                <a:cubicBezTo>
                  <a:pt x="495" y="288"/>
                  <a:pt x="495" y="288"/>
                  <a:pt x="495" y="287"/>
                </a:cubicBezTo>
                <a:lnTo>
                  <a:pt x="461" y="163"/>
                </a:lnTo>
                <a:lnTo>
                  <a:pt x="460" y="159"/>
                </a:lnTo>
                <a:lnTo>
                  <a:pt x="420" y="13"/>
                </a:lnTo>
                <a:cubicBezTo>
                  <a:pt x="418" y="6"/>
                  <a:pt x="411" y="0"/>
                  <a:pt x="403" y="0"/>
                </a:cubicBezTo>
                <a:lnTo>
                  <a:pt x="266" y="0"/>
                </a:lnTo>
                <a:cubicBezTo>
                  <a:pt x="258" y="0"/>
                  <a:pt x="251" y="6"/>
                  <a:pt x="249" y="13"/>
                </a:cubicBezTo>
                <a:lnTo>
                  <a:pt x="180" y="266"/>
                </a:lnTo>
                <a:lnTo>
                  <a:pt x="174" y="287"/>
                </a:lnTo>
                <a:lnTo>
                  <a:pt x="88" y="603"/>
                </a:lnTo>
                <a:lnTo>
                  <a:pt x="18" y="603"/>
                </a:lnTo>
                <a:cubicBezTo>
                  <a:pt x="8" y="603"/>
                  <a:pt x="0" y="611"/>
                  <a:pt x="0" y="621"/>
                </a:cubicBezTo>
                <a:lnTo>
                  <a:pt x="0" y="669"/>
                </a:lnTo>
                <a:cubicBezTo>
                  <a:pt x="0" y="679"/>
                  <a:pt x="8" y="687"/>
                  <a:pt x="18" y="687"/>
                </a:cubicBezTo>
                <a:lnTo>
                  <a:pt x="652" y="687"/>
                </a:lnTo>
                <a:cubicBezTo>
                  <a:pt x="661" y="687"/>
                  <a:pt x="669" y="679"/>
                  <a:pt x="669" y="669"/>
                </a:cubicBezTo>
                <a:lnTo>
                  <a:pt x="669" y="621"/>
                </a:lnTo>
                <a:cubicBezTo>
                  <a:pt x="669" y="611"/>
                  <a:pt x="661" y="603"/>
                  <a:pt x="652" y="603"/>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57" name="Freeform 351"/>
          <p:cNvSpPr/>
          <p:nvPr/>
        </p:nvSpPr>
        <p:spPr>
          <a:xfrm>
            <a:off x="9750600" y="858960"/>
            <a:ext cx="150480" cy="174600"/>
          </a:xfrm>
          <a:custGeom>
            <a:avLst/>
            <a:gdLst/>
            <a:ahLst/>
            <a:rect l="l" t="t" r="r" b="b"/>
            <a:pathLst>
              <a:path w="557" h="655">
                <a:moveTo>
                  <a:pt x="491" y="278"/>
                </a:moveTo>
                <a:cubicBezTo>
                  <a:pt x="491" y="177"/>
                  <a:pt x="421" y="93"/>
                  <a:pt x="327" y="71"/>
                </a:cubicBezTo>
                <a:lnTo>
                  <a:pt x="327" y="49"/>
                </a:lnTo>
                <a:cubicBezTo>
                  <a:pt x="327" y="22"/>
                  <a:pt x="305" y="0"/>
                  <a:pt x="278" y="0"/>
                </a:cubicBezTo>
                <a:cubicBezTo>
                  <a:pt x="251" y="0"/>
                  <a:pt x="229" y="22"/>
                  <a:pt x="229" y="49"/>
                </a:cubicBezTo>
                <a:lnTo>
                  <a:pt x="229" y="71"/>
                </a:lnTo>
                <a:cubicBezTo>
                  <a:pt x="135" y="93"/>
                  <a:pt x="65" y="178"/>
                  <a:pt x="65" y="278"/>
                </a:cubicBezTo>
                <a:lnTo>
                  <a:pt x="65" y="458"/>
                </a:lnTo>
                <a:lnTo>
                  <a:pt x="0" y="524"/>
                </a:lnTo>
                <a:lnTo>
                  <a:pt x="0" y="557"/>
                </a:lnTo>
                <a:lnTo>
                  <a:pt x="557" y="557"/>
                </a:lnTo>
                <a:lnTo>
                  <a:pt x="557" y="524"/>
                </a:lnTo>
                <a:lnTo>
                  <a:pt x="491" y="458"/>
                </a:lnTo>
                <a:lnTo>
                  <a:pt x="491" y="278"/>
                </a:lnTo>
                <a:close/>
                <a:moveTo>
                  <a:pt x="278" y="655"/>
                </a:moveTo>
                <a:cubicBezTo>
                  <a:pt x="283" y="655"/>
                  <a:pt x="287" y="655"/>
                  <a:pt x="291" y="654"/>
                </a:cubicBezTo>
                <a:cubicBezTo>
                  <a:pt x="313" y="649"/>
                  <a:pt x="330" y="635"/>
                  <a:pt x="338" y="615"/>
                </a:cubicBezTo>
                <a:cubicBezTo>
                  <a:pt x="342" y="607"/>
                  <a:pt x="344" y="599"/>
                  <a:pt x="344" y="589"/>
                </a:cubicBezTo>
                <a:lnTo>
                  <a:pt x="213" y="589"/>
                </a:lnTo>
                <a:cubicBezTo>
                  <a:pt x="213" y="625"/>
                  <a:pt x="242" y="655"/>
                  <a:pt x="278" y="65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58" name="Freeform 352"/>
          <p:cNvSpPr/>
          <p:nvPr/>
        </p:nvSpPr>
        <p:spPr>
          <a:xfrm>
            <a:off x="2293920" y="4508640"/>
            <a:ext cx="152280" cy="158760"/>
          </a:xfrm>
          <a:custGeom>
            <a:avLst/>
            <a:gdLst/>
            <a:ahLst/>
            <a:rect l="l" t="t" r="r" b="b"/>
            <a:pathLst>
              <a:path w="572" h="594">
                <a:moveTo>
                  <a:pt x="0" y="322"/>
                </a:moveTo>
                <a:cubicBezTo>
                  <a:pt x="0" y="235"/>
                  <a:pt x="44" y="159"/>
                  <a:pt x="110" y="110"/>
                </a:cubicBezTo>
                <a:cubicBezTo>
                  <a:pt x="126" y="98"/>
                  <a:pt x="157" y="93"/>
                  <a:pt x="170" y="108"/>
                </a:cubicBezTo>
                <a:cubicBezTo>
                  <a:pt x="177" y="117"/>
                  <a:pt x="180" y="128"/>
                  <a:pt x="181" y="139"/>
                </a:cubicBezTo>
                <a:cubicBezTo>
                  <a:pt x="181" y="158"/>
                  <a:pt x="161" y="182"/>
                  <a:pt x="147" y="195"/>
                </a:cubicBezTo>
                <a:cubicBezTo>
                  <a:pt x="114" y="228"/>
                  <a:pt x="93" y="272"/>
                  <a:pt x="93" y="322"/>
                </a:cubicBezTo>
                <a:cubicBezTo>
                  <a:pt x="93" y="427"/>
                  <a:pt x="178" y="506"/>
                  <a:pt x="283" y="506"/>
                </a:cubicBezTo>
                <a:cubicBezTo>
                  <a:pt x="387" y="506"/>
                  <a:pt x="472" y="427"/>
                  <a:pt x="472" y="322"/>
                </a:cubicBezTo>
                <a:cubicBezTo>
                  <a:pt x="472" y="269"/>
                  <a:pt x="452" y="222"/>
                  <a:pt x="418" y="189"/>
                </a:cubicBezTo>
                <a:cubicBezTo>
                  <a:pt x="404" y="176"/>
                  <a:pt x="385" y="151"/>
                  <a:pt x="388" y="132"/>
                </a:cubicBezTo>
                <a:cubicBezTo>
                  <a:pt x="390" y="121"/>
                  <a:pt x="395" y="110"/>
                  <a:pt x="405" y="102"/>
                </a:cubicBezTo>
                <a:cubicBezTo>
                  <a:pt x="421" y="90"/>
                  <a:pt x="452" y="99"/>
                  <a:pt x="467" y="111"/>
                </a:cubicBezTo>
                <a:cubicBezTo>
                  <a:pt x="531" y="160"/>
                  <a:pt x="572" y="236"/>
                  <a:pt x="572" y="322"/>
                </a:cubicBezTo>
                <a:cubicBezTo>
                  <a:pt x="572" y="476"/>
                  <a:pt x="436" y="594"/>
                  <a:pt x="283" y="594"/>
                </a:cubicBezTo>
                <a:cubicBezTo>
                  <a:pt x="129" y="594"/>
                  <a:pt x="0" y="476"/>
                  <a:pt x="0" y="322"/>
                </a:cubicBezTo>
                <a:close/>
                <a:moveTo>
                  <a:pt x="288" y="351"/>
                </a:moveTo>
                <a:cubicBezTo>
                  <a:pt x="269" y="351"/>
                  <a:pt x="242" y="328"/>
                  <a:pt x="242" y="309"/>
                </a:cubicBezTo>
                <a:lnTo>
                  <a:pt x="242" y="43"/>
                </a:lnTo>
                <a:cubicBezTo>
                  <a:pt x="242" y="40"/>
                  <a:pt x="243" y="0"/>
                  <a:pt x="287" y="0"/>
                </a:cubicBezTo>
                <a:cubicBezTo>
                  <a:pt x="306" y="0"/>
                  <a:pt x="331" y="10"/>
                  <a:pt x="331" y="43"/>
                </a:cubicBezTo>
                <a:lnTo>
                  <a:pt x="331" y="309"/>
                </a:lnTo>
                <a:cubicBezTo>
                  <a:pt x="331" y="328"/>
                  <a:pt x="307" y="351"/>
                  <a:pt x="288" y="35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59" name="Freeform 353"/>
          <p:cNvSpPr/>
          <p:nvPr/>
        </p:nvSpPr>
        <p:spPr>
          <a:xfrm>
            <a:off x="7332840" y="2592360"/>
            <a:ext cx="179280" cy="185760"/>
          </a:xfrm>
          <a:custGeom>
            <a:avLst/>
            <a:gdLst/>
            <a:ahLst/>
            <a:rect l="l" t="t" r="r" b="b"/>
            <a:pathLst>
              <a:path w="666" h="692">
                <a:moveTo>
                  <a:pt x="294" y="384"/>
                </a:moveTo>
                <a:lnTo>
                  <a:pt x="69" y="384"/>
                </a:lnTo>
                <a:cubicBezTo>
                  <a:pt x="52" y="384"/>
                  <a:pt x="37" y="399"/>
                  <a:pt x="37" y="417"/>
                </a:cubicBezTo>
                <a:lnTo>
                  <a:pt x="37" y="660"/>
                </a:lnTo>
                <a:cubicBezTo>
                  <a:pt x="37" y="678"/>
                  <a:pt x="52" y="692"/>
                  <a:pt x="69" y="692"/>
                </a:cubicBezTo>
                <a:lnTo>
                  <a:pt x="298" y="692"/>
                </a:lnTo>
                <a:cubicBezTo>
                  <a:pt x="306" y="692"/>
                  <a:pt x="306" y="684"/>
                  <a:pt x="306" y="684"/>
                </a:cubicBezTo>
                <a:lnTo>
                  <a:pt x="306" y="395"/>
                </a:lnTo>
                <a:cubicBezTo>
                  <a:pt x="306" y="395"/>
                  <a:pt x="306" y="384"/>
                  <a:pt x="294" y="384"/>
                </a:cubicBezTo>
                <a:close/>
                <a:moveTo>
                  <a:pt x="409" y="95"/>
                </a:moveTo>
                <a:cubicBezTo>
                  <a:pt x="408" y="96"/>
                  <a:pt x="408" y="98"/>
                  <a:pt x="409" y="98"/>
                </a:cubicBezTo>
                <a:cubicBezTo>
                  <a:pt x="424" y="102"/>
                  <a:pt x="446" y="106"/>
                  <a:pt x="471" y="106"/>
                </a:cubicBezTo>
                <a:cubicBezTo>
                  <a:pt x="483" y="106"/>
                  <a:pt x="493" y="105"/>
                  <a:pt x="502" y="104"/>
                </a:cubicBezTo>
                <a:cubicBezTo>
                  <a:pt x="517" y="101"/>
                  <a:pt x="528" y="96"/>
                  <a:pt x="532" y="90"/>
                </a:cubicBezTo>
                <a:cubicBezTo>
                  <a:pt x="533" y="88"/>
                  <a:pt x="537" y="84"/>
                  <a:pt x="534" y="71"/>
                </a:cubicBezTo>
                <a:cubicBezTo>
                  <a:pt x="531" y="56"/>
                  <a:pt x="526" y="52"/>
                  <a:pt x="510" y="52"/>
                </a:cubicBezTo>
                <a:cubicBezTo>
                  <a:pt x="505" y="52"/>
                  <a:pt x="499" y="52"/>
                  <a:pt x="492" y="54"/>
                </a:cubicBezTo>
                <a:cubicBezTo>
                  <a:pt x="463" y="59"/>
                  <a:pt x="428" y="80"/>
                  <a:pt x="409" y="95"/>
                </a:cubicBezTo>
                <a:close/>
                <a:moveTo>
                  <a:pt x="471" y="158"/>
                </a:moveTo>
                <a:lnTo>
                  <a:pt x="471" y="158"/>
                </a:lnTo>
                <a:cubicBezTo>
                  <a:pt x="446" y="158"/>
                  <a:pt x="420" y="155"/>
                  <a:pt x="398" y="149"/>
                </a:cubicBezTo>
                <a:cubicBezTo>
                  <a:pt x="366" y="140"/>
                  <a:pt x="349" y="127"/>
                  <a:pt x="345" y="108"/>
                </a:cubicBezTo>
                <a:cubicBezTo>
                  <a:pt x="343" y="96"/>
                  <a:pt x="345" y="75"/>
                  <a:pt x="395" y="42"/>
                </a:cubicBezTo>
                <a:cubicBezTo>
                  <a:pt x="424" y="22"/>
                  <a:pt x="456" y="8"/>
                  <a:pt x="482" y="3"/>
                </a:cubicBezTo>
                <a:cubicBezTo>
                  <a:pt x="492" y="1"/>
                  <a:pt x="501" y="0"/>
                  <a:pt x="510" y="0"/>
                </a:cubicBezTo>
                <a:cubicBezTo>
                  <a:pt x="551" y="0"/>
                  <a:pt x="577" y="22"/>
                  <a:pt x="585" y="61"/>
                </a:cubicBezTo>
                <a:cubicBezTo>
                  <a:pt x="589" y="84"/>
                  <a:pt x="586" y="104"/>
                  <a:pt x="575" y="119"/>
                </a:cubicBezTo>
                <a:cubicBezTo>
                  <a:pt x="562" y="137"/>
                  <a:pt x="542" y="149"/>
                  <a:pt x="512" y="155"/>
                </a:cubicBezTo>
                <a:cubicBezTo>
                  <a:pt x="500" y="157"/>
                  <a:pt x="486" y="158"/>
                  <a:pt x="471" y="158"/>
                </a:cubicBezTo>
                <a:close/>
                <a:moveTo>
                  <a:pt x="157" y="52"/>
                </a:moveTo>
                <a:cubicBezTo>
                  <a:pt x="141" y="52"/>
                  <a:pt x="136" y="56"/>
                  <a:pt x="133" y="71"/>
                </a:cubicBezTo>
                <a:cubicBezTo>
                  <a:pt x="130" y="84"/>
                  <a:pt x="133" y="88"/>
                  <a:pt x="134" y="90"/>
                </a:cubicBezTo>
                <a:cubicBezTo>
                  <a:pt x="138" y="96"/>
                  <a:pt x="149" y="101"/>
                  <a:pt x="165" y="104"/>
                </a:cubicBezTo>
                <a:cubicBezTo>
                  <a:pt x="174" y="105"/>
                  <a:pt x="184" y="106"/>
                  <a:pt x="195" y="106"/>
                </a:cubicBezTo>
                <a:cubicBezTo>
                  <a:pt x="220" y="106"/>
                  <a:pt x="242" y="102"/>
                  <a:pt x="257" y="98"/>
                </a:cubicBezTo>
                <a:cubicBezTo>
                  <a:pt x="258" y="98"/>
                  <a:pt x="260" y="97"/>
                  <a:pt x="258" y="96"/>
                </a:cubicBezTo>
                <a:cubicBezTo>
                  <a:pt x="239" y="80"/>
                  <a:pt x="204" y="59"/>
                  <a:pt x="175" y="54"/>
                </a:cubicBezTo>
                <a:cubicBezTo>
                  <a:pt x="168" y="52"/>
                  <a:pt x="162" y="52"/>
                  <a:pt x="157" y="52"/>
                </a:cubicBezTo>
                <a:close/>
                <a:moveTo>
                  <a:pt x="195" y="158"/>
                </a:moveTo>
                <a:cubicBezTo>
                  <a:pt x="181" y="158"/>
                  <a:pt x="167" y="157"/>
                  <a:pt x="155" y="155"/>
                </a:cubicBezTo>
                <a:cubicBezTo>
                  <a:pt x="125" y="149"/>
                  <a:pt x="104" y="137"/>
                  <a:pt x="92" y="119"/>
                </a:cubicBezTo>
                <a:cubicBezTo>
                  <a:pt x="81" y="104"/>
                  <a:pt x="77" y="84"/>
                  <a:pt x="82" y="61"/>
                </a:cubicBezTo>
                <a:cubicBezTo>
                  <a:pt x="89" y="22"/>
                  <a:pt x="116" y="0"/>
                  <a:pt x="157" y="0"/>
                </a:cubicBezTo>
                <a:cubicBezTo>
                  <a:pt x="165" y="0"/>
                  <a:pt x="175" y="1"/>
                  <a:pt x="185" y="3"/>
                </a:cubicBezTo>
                <a:cubicBezTo>
                  <a:pt x="210" y="8"/>
                  <a:pt x="243" y="22"/>
                  <a:pt x="272" y="42"/>
                </a:cubicBezTo>
                <a:cubicBezTo>
                  <a:pt x="322" y="75"/>
                  <a:pt x="324" y="96"/>
                  <a:pt x="322" y="108"/>
                </a:cubicBezTo>
                <a:cubicBezTo>
                  <a:pt x="318" y="127"/>
                  <a:pt x="301" y="140"/>
                  <a:pt x="269" y="149"/>
                </a:cubicBezTo>
                <a:cubicBezTo>
                  <a:pt x="247" y="155"/>
                  <a:pt x="220" y="158"/>
                  <a:pt x="195" y="158"/>
                </a:cubicBezTo>
                <a:close/>
                <a:moveTo>
                  <a:pt x="633" y="182"/>
                </a:moveTo>
                <a:lnTo>
                  <a:pt x="370" y="182"/>
                </a:lnTo>
                <a:cubicBezTo>
                  <a:pt x="360" y="182"/>
                  <a:pt x="360" y="192"/>
                  <a:pt x="360" y="192"/>
                </a:cubicBezTo>
                <a:lnTo>
                  <a:pt x="360" y="339"/>
                </a:lnTo>
                <a:cubicBezTo>
                  <a:pt x="360" y="339"/>
                  <a:pt x="360" y="348"/>
                  <a:pt x="373" y="348"/>
                </a:cubicBezTo>
                <a:lnTo>
                  <a:pt x="633" y="348"/>
                </a:lnTo>
                <a:cubicBezTo>
                  <a:pt x="651" y="348"/>
                  <a:pt x="666" y="333"/>
                  <a:pt x="666" y="316"/>
                </a:cubicBezTo>
                <a:lnTo>
                  <a:pt x="666" y="214"/>
                </a:lnTo>
                <a:cubicBezTo>
                  <a:pt x="666" y="197"/>
                  <a:pt x="651" y="182"/>
                  <a:pt x="633" y="182"/>
                </a:cubicBezTo>
                <a:close/>
                <a:moveTo>
                  <a:pt x="306" y="193"/>
                </a:moveTo>
                <a:cubicBezTo>
                  <a:pt x="306" y="193"/>
                  <a:pt x="306" y="182"/>
                  <a:pt x="295" y="182"/>
                </a:cubicBezTo>
                <a:lnTo>
                  <a:pt x="33" y="182"/>
                </a:lnTo>
                <a:cubicBezTo>
                  <a:pt x="15" y="182"/>
                  <a:pt x="0" y="197"/>
                  <a:pt x="0" y="214"/>
                </a:cubicBezTo>
                <a:lnTo>
                  <a:pt x="0" y="316"/>
                </a:lnTo>
                <a:cubicBezTo>
                  <a:pt x="0" y="333"/>
                  <a:pt x="15" y="348"/>
                  <a:pt x="33" y="348"/>
                </a:cubicBezTo>
                <a:lnTo>
                  <a:pt x="296" y="348"/>
                </a:lnTo>
                <a:cubicBezTo>
                  <a:pt x="306" y="348"/>
                  <a:pt x="306" y="339"/>
                  <a:pt x="306" y="339"/>
                </a:cubicBezTo>
                <a:lnTo>
                  <a:pt x="306" y="193"/>
                </a:lnTo>
                <a:close/>
                <a:moveTo>
                  <a:pt x="597" y="384"/>
                </a:moveTo>
                <a:lnTo>
                  <a:pt x="372" y="384"/>
                </a:lnTo>
                <a:cubicBezTo>
                  <a:pt x="358" y="384"/>
                  <a:pt x="360" y="399"/>
                  <a:pt x="360" y="399"/>
                </a:cubicBezTo>
                <a:lnTo>
                  <a:pt x="360" y="684"/>
                </a:lnTo>
                <a:cubicBezTo>
                  <a:pt x="360" y="684"/>
                  <a:pt x="360" y="692"/>
                  <a:pt x="368" y="692"/>
                </a:cubicBezTo>
                <a:lnTo>
                  <a:pt x="597" y="692"/>
                </a:lnTo>
                <a:cubicBezTo>
                  <a:pt x="614" y="692"/>
                  <a:pt x="629" y="678"/>
                  <a:pt x="629" y="660"/>
                </a:cubicBezTo>
                <a:lnTo>
                  <a:pt x="629" y="417"/>
                </a:lnTo>
                <a:cubicBezTo>
                  <a:pt x="629" y="399"/>
                  <a:pt x="614" y="384"/>
                  <a:pt x="597" y="384"/>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60" name="Freeform 354"/>
          <p:cNvSpPr/>
          <p:nvPr/>
        </p:nvSpPr>
        <p:spPr>
          <a:xfrm>
            <a:off x="9740880" y="4807080"/>
            <a:ext cx="168120" cy="188640"/>
          </a:xfrm>
          <a:custGeom>
            <a:avLst/>
            <a:gdLst/>
            <a:ahLst/>
            <a:rect l="l" t="t" r="r" b="b"/>
            <a:pathLst>
              <a:path w="629" h="710">
                <a:moveTo>
                  <a:pt x="573" y="330"/>
                </a:moveTo>
                <a:cubicBezTo>
                  <a:pt x="604" y="330"/>
                  <a:pt x="628" y="355"/>
                  <a:pt x="628" y="386"/>
                </a:cubicBezTo>
                <a:cubicBezTo>
                  <a:pt x="627" y="417"/>
                  <a:pt x="605" y="444"/>
                  <a:pt x="574" y="443"/>
                </a:cubicBezTo>
                <a:lnTo>
                  <a:pt x="372" y="458"/>
                </a:lnTo>
                <a:cubicBezTo>
                  <a:pt x="372" y="458"/>
                  <a:pt x="411" y="530"/>
                  <a:pt x="405" y="634"/>
                </a:cubicBezTo>
                <a:cubicBezTo>
                  <a:pt x="402" y="703"/>
                  <a:pt x="352" y="710"/>
                  <a:pt x="323" y="708"/>
                </a:cubicBezTo>
                <a:cubicBezTo>
                  <a:pt x="300" y="707"/>
                  <a:pt x="296" y="662"/>
                  <a:pt x="296" y="662"/>
                </a:cubicBezTo>
                <a:lnTo>
                  <a:pt x="296" y="662"/>
                </a:lnTo>
                <a:cubicBezTo>
                  <a:pt x="292" y="634"/>
                  <a:pt x="287" y="609"/>
                  <a:pt x="266" y="562"/>
                </a:cubicBezTo>
                <a:cubicBezTo>
                  <a:pt x="242" y="509"/>
                  <a:pt x="206" y="512"/>
                  <a:pt x="167" y="465"/>
                </a:cubicBezTo>
                <a:cubicBezTo>
                  <a:pt x="160" y="456"/>
                  <a:pt x="151" y="442"/>
                  <a:pt x="142" y="426"/>
                </a:cubicBezTo>
                <a:cubicBezTo>
                  <a:pt x="141" y="425"/>
                  <a:pt x="141" y="424"/>
                  <a:pt x="140" y="422"/>
                </a:cubicBezTo>
                <a:cubicBezTo>
                  <a:pt x="139" y="420"/>
                  <a:pt x="138" y="418"/>
                  <a:pt x="138" y="416"/>
                </a:cubicBezTo>
                <a:cubicBezTo>
                  <a:pt x="136" y="413"/>
                  <a:pt x="135" y="410"/>
                  <a:pt x="133" y="407"/>
                </a:cubicBezTo>
                <a:cubicBezTo>
                  <a:pt x="109" y="380"/>
                  <a:pt x="69" y="381"/>
                  <a:pt x="52" y="380"/>
                </a:cubicBezTo>
                <a:cubicBezTo>
                  <a:pt x="17" y="378"/>
                  <a:pt x="0" y="357"/>
                  <a:pt x="2" y="325"/>
                </a:cubicBezTo>
                <a:lnTo>
                  <a:pt x="14" y="86"/>
                </a:lnTo>
                <a:cubicBezTo>
                  <a:pt x="16" y="50"/>
                  <a:pt x="32" y="38"/>
                  <a:pt x="69" y="40"/>
                </a:cubicBezTo>
                <a:lnTo>
                  <a:pt x="122" y="43"/>
                </a:lnTo>
                <a:cubicBezTo>
                  <a:pt x="148" y="44"/>
                  <a:pt x="169" y="30"/>
                  <a:pt x="201" y="21"/>
                </a:cubicBezTo>
                <a:cubicBezTo>
                  <a:pt x="245" y="8"/>
                  <a:pt x="310" y="0"/>
                  <a:pt x="421" y="6"/>
                </a:cubicBezTo>
                <a:cubicBezTo>
                  <a:pt x="440" y="7"/>
                  <a:pt x="501" y="10"/>
                  <a:pt x="501" y="10"/>
                </a:cubicBezTo>
                <a:cubicBezTo>
                  <a:pt x="519" y="11"/>
                  <a:pt x="533" y="20"/>
                  <a:pt x="544" y="31"/>
                </a:cubicBezTo>
                <a:cubicBezTo>
                  <a:pt x="547" y="35"/>
                  <a:pt x="551" y="41"/>
                  <a:pt x="553" y="52"/>
                </a:cubicBezTo>
                <a:cubicBezTo>
                  <a:pt x="553" y="53"/>
                  <a:pt x="553" y="61"/>
                  <a:pt x="553" y="62"/>
                </a:cubicBezTo>
                <a:cubicBezTo>
                  <a:pt x="552" y="93"/>
                  <a:pt x="533" y="103"/>
                  <a:pt x="522" y="106"/>
                </a:cubicBezTo>
                <a:cubicBezTo>
                  <a:pt x="522" y="106"/>
                  <a:pt x="522" y="107"/>
                  <a:pt x="523" y="107"/>
                </a:cubicBezTo>
                <a:lnTo>
                  <a:pt x="557" y="107"/>
                </a:lnTo>
                <a:cubicBezTo>
                  <a:pt x="587" y="107"/>
                  <a:pt x="616" y="131"/>
                  <a:pt x="614" y="168"/>
                </a:cubicBezTo>
                <a:cubicBezTo>
                  <a:pt x="612" y="198"/>
                  <a:pt x="586" y="219"/>
                  <a:pt x="556" y="219"/>
                </a:cubicBezTo>
                <a:lnTo>
                  <a:pt x="574" y="219"/>
                </a:lnTo>
                <a:cubicBezTo>
                  <a:pt x="604" y="219"/>
                  <a:pt x="629" y="244"/>
                  <a:pt x="629" y="275"/>
                </a:cubicBezTo>
                <a:cubicBezTo>
                  <a:pt x="628" y="306"/>
                  <a:pt x="604" y="330"/>
                  <a:pt x="573" y="33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61" name="Freeform 355"/>
          <p:cNvSpPr/>
          <p:nvPr/>
        </p:nvSpPr>
        <p:spPr>
          <a:xfrm>
            <a:off x="9406080" y="3274920"/>
            <a:ext cx="188640" cy="160560"/>
          </a:xfrm>
          <a:custGeom>
            <a:avLst/>
            <a:gdLst/>
            <a:ahLst/>
            <a:rect l="l" t="t" r="r" b="b"/>
            <a:pathLst>
              <a:path w="708" h="597">
                <a:moveTo>
                  <a:pt x="199" y="498"/>
                </a:moveTo>
                <a:lnTo>
                  <a:pt x="133" y="498"/>
                </a:lnTo>
                <a:cubicBezTo>
                  <a:pt x="114" y="498"/>
                  <a:pt x="99" y="483"/>
                  <a:pt x="99" y="464"/>
                </a:cubicBezTo>
                <a:lnTo>
                  <a:pt x="100" y="398"/>
                </a:lnTo>
                <a:lnTo>
                  <a:pt x="100" y="332"/>
                </a:lnTo>
                <a:cubicBezTo>
                  <a:pt x="100" y="313"/>
                  <a:pt x="114" y="298"/>
                  <a:pt x="133" y="298"/>
                </a:cubicBezTo>
                <a:lnTo>
                  <a:pt x="199" y="298"/>
                </a:lnTo>
                <a:cubicBezTo>
                  <a:pt x="217" y="298"/>
                  <a:pt x="232" y="313"/>
                  <a:pt x="232" y="332"/>
                </a:cubicBezTo>
                <a:lnTo>
                  <a:pt x="232" y="398"/>
                </a:lnTo>
                <a:lnTo>
                  <a:pt x="232" y="464"/>
                </a:lnTo>
                <a:cubicBezTo>
                  <a:pt x="232" y="483"/>
                  <a:pt x="217" y="498"/>
                  <a:pt x="199" y="498"/>
                </a:cubicBezTo>
                <a:close/>
                <a:moveTo>
                  <a:pt x="387" y="498"/>
                </a:moveTo>
                <a:lnTo>
                  <a:pt x="321" y="498"/>
                </a:lnTo>
                <a:cubicBezTo>
                  <a:pt x="302" y="498"/>
                  <a:pt x="288" y="483"/>
                  <a:pt x="288" y="464"/>
                </a:cubicBezTo>
                <a:lnTo>
                  <a:pt x="288" y="398"/>
                </a:lnTo>
                <a:lnTo>
                  <a:pt x="288" y="99"/>
                </a:lnTo>
                <a:lnTo>
                  <a:pt x="288" y="33"/>
                </a:lnTo>
                <a:cubicBezTo>
                  <a:pt x="288" y="15"/>
                  <a:pt x="302" y="0"/>
                  <a:pt x="321" y="0"/>
                </a:cubicBezTo>
                <a:lnTo>
                  <a:pt x="387" y="0"/>
                </a:lnTo>
                <a:cubicBezTo>
                  <a:pt x="405" y="0"/>
                  <a:pt x="420" y="15"/>
                  <a:pt x="420" y="33"/>
                </a:cubicBezTo>
                <a:lnTo>
                  <a:pt x="420" y="99"/>
                </a:lnTo>
                <a:lnTo>
                  <a:pt x="420" y="398"/>
                </a:lnTo>
                <a:lnTo>
                  <a:pt x="420" y="464"/>
                </a:lnTo>
                <a:cubicBezTo>
                  <a:pt x="420" y="483"/>
                  <a:pt x="405" y="498"/>
                  <a:pt x="387" y="498"/>
                </a:cubicBezTo>
                <a:close/>
                <a:moveTo>
                  <a:pt x="608" y="464"/>
                </a:moveTo>
                <a:cubicBezTo>
                  <a:pt x="608" y="483"/>
                  <a:pt x="594" y="498"/>
                  <a:pt x="575" y="498"/>
                </a:cubicBezTo>
                <a:lnTo>
                  <a:pt x="509" y="498"/>
                </a:lnTo>
                <a:cubicBezTo>
                  <a:pt x="490" y="498"/>
                  <a:pt x="476" y="483"/>
                  <a:pt x="476" y="464"/>
                </a:cubicBezTo>
                <a:lnTo>
                  <a:pt x="476" y="232"/>
                </a:lnTo>
                <a:lnTo>
                  <a:pt x="476" y="166"/>
                </a:lnTo>
                <a:cubicBezTo>
                  <a:pt x="476" y="147"/>
                  <a:pt x="490" y="132"/>
                  <a:pt x="509" y="132"/>
                </a:cubicBezTo>
                <a:lnTo>
                  <a:pt x="575" y="132"/>
                </a:lnTo>
                <a:cubicBezTo>
                  <a:pt x="594" y="132"/>
                  <a:pt x="608" y="147"/>
                  <a:pt x="608" y="166"/>
                </a:cubicBezTo>
                <a:lnTo>
                  <a:pt x="608" y="398"/>
                </a:lnTo>
                <a:lnTo>
                  <a:pt x="608" y="464"/>
                </a:lnTo>
                <a:close/>
                <a:moveTo>
                  <a:pt x="680" y="597"/>
                </a:moveTo>
                <a:lnTo>
                  <a:pt x="28" y="597"/>
                </a:lnTo>
                <a:cubicBezTo>
                  <a:pt x="12" y="597"/>
                  <a:pt x="0" y="585"/>
                  <a:pt x="0" y="569"/>
                </a:cubicBezTo>
                <a:lnTo>
                  <a:pt x="0" y="558"/>
                </a:lnTo>
                <a:cubicBezTo>
                  <a:pt x="0" y="543"/>
                  <a:pt x="12" y="531"/>
                  <a:pt x="28" y="531"/>
                </a:cubicBezTo>
                <a:lnTo>
                  <a:pt x="680" y="531"/>
                </a:lnTo>
                <a:cubicBezTo>
                  <a:pt x="696" y="531"/>
                  <a:pt x="708" y="543"/>
                  <a:pt x="708" y="558"/>
                </a:cubicBezTo>
                <a:lnTo>
                  <a:pt x="708" y="569"/>
                </a:lnTo>
                <a:cubicBezTo>
                  <a:pt x="708" y="585"/>
                  <a:pt x="696" y="597"/>
                  <a:pt x="680" y="597"/>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62" name="Freeform 356"/>
          <p:cNvSpPr/>
          <p:nvPr/>
        </p:nvSpPr>
        <p:spPr>
          <a:xfrm>
            <a:off x="9047160" y="3274920"/>
            <a:ext cx="189000" cy="160560"/>
          </a:xfrm>
          <a:custGeom>
            <a:avLst/>
            <a:gdLst/>
            <a:ahLst/>
            <a:rect l="l" t="t" r="r" b="b"/>
            <a:pathLst>
              <a:path w="708" h="597">
                <a:moveTo>
                  <a:pt x="199" y="498"/>
                </a:moveTo>
                <a:lnTo>
                  <a:pt x="132" y="498"/>
                </a:lnTo>
                <a:cubicBezTo>
                  <a:pt x="114" y="498"/>
                  <a:pt x="99" y="483"/>
                  <a:pt x="99" y="464"/>
                </a:cubicBezTo>
                <a:lnTo>
                  <a:pt x="99" y="343"/>
                </a:lnTo>
                <a:cubicBezTo>
                  <a:pt x="99" y="324"/>
                  <a:pt x="114" y="309"/>
                  <a:pt x="132" y="309"/>
                </a:cubicBezTo>
                <a:lnTo>
                  <a:pt x="199" y="309"/>
                </a:lnTo>
                <a:cubicBezTo>
                  <a:pt x="217" y="309"/>
                  <a:pt x="232" y="324"/>
                  <a:pt x="232" y="343"/>
                </a:cubicBezTo>
                <a:lnTo>
                  <a:pt x="232" y="464"/>
                </a:lnTo>
                <a:cubicBezTo>
                  <a:pt x="232" y="483"/>
                  <a:pt x="217" y="498"/>
                  <a:pt x="199" y="498"/>
                </a:cubicBezTo>
                <a:close/>
                <a:moveTo>
                  <a:pt x="387" y="498"/>
                </a:moveTo>
                <a:lnTo>
                  <a:pt x="321" y="498"/>
                </a:lnTo>
                <a:cubicBezTo>
                  <a:pt x="302" y="498"/>
                  <a:pt x="287" y="483"/>
                  <a:pt x="287" y="464"/>
                </a:cubicBezTo>
                <a:lnTo>
                  <a:pt x="287" y="188"/>
                </a:lnTo>
                <a:cubicBezTo>
                  <a:pt x="287" y="169"/>
                  <a:pt x="302" y="155"/>
                  <a:pt x="321" y="155"/>
                </a:cubicBezTo>
                <a:lnTo>
                  <a:pt x="387" y="155"/>
                </a:lnTo>
                <a:cubicBezTo>
                  <a:pt x="405" y="155"/>
                  <a:pt x="420" y="169"/>
                  <a:pt x="420" y="188"/>
                </a:cubicBezTo>
                <a:lnTo>
                  <a:pt x="420" y="464"/>
                </a:lnTo>
                <a:cubicBezTo>
                  <a:pt x="420" y="483"/>
                  <a:pt x="405" y="498"/>
                  <a:pt x="387" y="498"/>
                </a:cubicBezTo>
                <a:close/>
                <a:moveTo>
                  <a:pt x="575" y="498"/>
                </a:moveTo>
                <a:lnTo>
                  <a:pt x="509" y="498"/>
                </a:lnTo>
                <a:cubicBezTo>
                  <a:pt x="490" y="498"/>
                  <a:pt x="475" y="483"/>
                  <a:pt x="475" y="464"/>
                </a:cubicBezTo>
                <a:lnTo>
                  <a:pt x="475" y="33"/>
                </a:lnTo>
                <a:cubicBezTo>
                  <a:pt x="475" y="15"/>
                  <a:pt x="490" y="0"/>
                  <a:pt x="509" y="0"/>
                </a:cubicBezTo>
                <a:lnTo>
                  <a:pt x="575" y="0"/>
                </a:lnTo>
                <a:cubicBezTo>
                  <a:pt x="593" y="0"/>
                  <a:pt x="608" y="15"/>
                  <a:pt x="608" y="33"/>
                </a:cubicBezTo>
                <a:lnTo>
                  <a:pt x="608" y="464"/>
                </a:lnTo>
                <a:cubicBezTo>
                  <a:pt x="608" y="483"/>
                  <a:pt x="593" y="498"/>
                  <a:pt x="575" y="498"/>
                </a:cubicBezTo>
                <a:close/>
                <a:moveTo>
                  <a:pt x="680" y="597"/>
                </a:moveTo>
                <a:lnTo>
                  <a:pt x="27" y="597"/>
                </a:lnTo>
                <a:cubicBezTo>
                  <a:pt x="12" y="597"/>
                  <a:pt x="0" y="585"/>
                  <a:pt x="0" y="569"/>
                </a:cubicBezTo>
                <a:lnTo>
                  <a:pt x="0" y="558"/>
                </a:lnTo>
                <a:cubicBezTo>
                  <a:pt x="0" y="543"/>
                  <a:pt x="12" y="531"/>
                  <a:pt x="27" y="531"/>
                </a:cubicBezTo>
                <a:lnTo>
                  <a:pt x="680" y="531"/>
                </a:lnTo>
                <a:cubicBezTo>
                  <a:pt x="695" y="531"/>
                  <a:pt x="708" y="543"/>
                  <a:pt x="708" y="558"/>
                </a:cubicBezTo>
                <a:lnTo>
                  <a:pt x="708" y="569"/>
                </a:lnTo>
                <a:cubicBezTo>
                  <a:pt x="708" y="585"/>
                  <a:pt x="695" y="597"/>
                  <a:pt x="680" y="597"/>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63" name="Freeform 357"/>
          <p:cNvSpPr/>
          <p:nvPr/>
        </p:nvSpPr>
        <p:spPr>
          <a:xfrm>
            <a:off x="2598840" y="863640"/>
            <a:ext cx="162000" cy="165240"/>
          </a:xfrm>
          <a:custGeom>
            <a:avLst/>
            <a:gdLst/>
            <a:ahLst/>
            <a:rect l="l" t="t" r="r" b="b"/>
            <a:pathLst>
              <a:path w="612" h="612">
                <a:moveTo>
                  <a:pt x="497" y="249"/>
                </a:moveTo>
                <a:lnTo>
                  <a:pt x="497" y="220"/>
                </a:lnTo>
                <a:lnTo>
                  <a:pt x="497" y="115"/>
                </a:lnTo>
                <a:lnTo>
                  <a:pt x="114" y="115"/>
                </a:lnTo>
                <a:lnTo>
                  <a:pt x="114" y="220"/>
                </a:lnTo>
                <a:lnTo>
                  <a:pt x="114" y="249"/>
                </a:lnTo>
                <a:lnTo>
                  <a:pt x="114" y="411"/>
                </a:lnTo>
                <a:lnTo>
                  <a:pt x="497" y="411"/>
                </a:lnTo>
                <a:lnTo>
                  <a:pt x="497" y="249"/>
                </a:lnTo>
                <a:close/>
                <a:moveTo>
                  <a:pt x="583" y="115"/>
                </a:moveTo>
                <a:lnTo>
                  <a:pt x="554" y="115"/>
                </a:lnTo>
                <a:lnTo>
                  <a:pt x="554" y="278"/>
                </a:lnTo>
                <a:lnTo>
                  <a:pt x="554" y="411"/>
                </a:lnTo>
                <a:lnTo>
                  <a:pt x="554" y="440"/>
                </a:lnTo>
                <a:cubicBezTo>
                  <a:pt x="554" y="456"/>
                  <a:pt x="541" y="469"/>
                  <a:pt x="526" y="469"/>
                </a:cubicBezTo>
                <a:lnTo>
                  <a:pt x="375" y="469"/>
                </a:lnTo>
                <a:lnTo>
                  <a:pt x="469" y="563"/>
                </a:lnTo>
                <a:cubicBezTo>
                  <a:pt x="475" y="569"/>
                  <a:pt x="478" y="576"/>
                  <a:pt x="478" y="584"/>
                </a:cubicBezTo>
                <a:cubicBezTo>
                  <a:pt x="478" y="600"/>
                  <a:pt x="465" y="612"/>
                  <a:pt x="449" y="612"/>
                </a:cubicBezTo>
                <a:cubicBezTo>
                  <a:pt x="441" y="612"/>
                  <a:pt x="434" y="609"/>
                  <a:pt x="429" y="604"/>
                </a:cubicBezTo>
                <a:lnTo>
                  <a:pt x="334" y="509"/>
                </a:lnTo>
                <a:lnTo>
                  <a:pt x="334" y="584"/>
                </a:lnTo>
                <a:cubicBezTo>
                  <a:pt x="334" y="600"/>
                  <a:pt x="321" y="612"/>
                  <a:pt x="306" y="612"/>
                </a:cubicBezTo>
                <a:cubicBezTo>
                  <a:pt x="290" y="612"/>
                  <a:pt x="277" y="600"/>
                  <a:pt x="277" y="584"/>
                </a:cubicBezTo>
                <a:lnTo>
                  <a:pt x="277" y="509"/>
                </a:lnTo>
                <a:lnTo>
                  <a:pt x="182" y="604"/>
                </a:lnTo>
                <a:cubicBezTo>
                  <a:pt x="177" y="609"/>
                  <a:pt x="170" y="612"/>
                  <a:pt x="162" y="612"/>
                </a:cubicBezTo>
                <a:cubicBezTo>
                  <a:pt x="146" y="612"/>
                  <a:pt x="133" y="600"/>
                  <a:pt x="133" y="584"/>
                </a:cubicBezTo>
                <a:cubicBezTo>
                  <a:pt x="133" y="576"/>
                  <a:pt x="137" y="569"/>
                  <a:pt x="142" y="563"/>
                </a:cubicBezTo>
                <a:lnTo>
                  <a:pt x="236" y="469"/>
                </a:lnTo>
                <a:lnTo>
                  <a:pt x="86" y="469"/>
                </a:lnTo>
                <a:cubicBezTo>
                  <a:pt x="70" y="469"/>
                  <a:pt x="57" y="456"/>
                  <a:pt x="57" y="440"/>
                </a:cubicBezTo>
                <a:lnTo>
                  <a:pt x="57" y="411"/>
                </a:lnTo>
                <a:lnTo>
                  <a:pt x="57" y="278"/>
                </a:lnTo>
                <a:lnTo>
                  <a:pt x="57" y="115"/>
                </a:lnTo>
                <a:lnTo>
                  <a:pt x="28" y="115"/>
                </a:lnTo>
                <a:cubicBezTo>
                  <a:pt x="12" y="115"/>
                  <a:pt x="0" y="102"/>
                  <a:pt x="0" y="86"/>
                </a:cubicBezTo>
                <a:cubicBezTo>
                  <a:pt x="0" y="70"/>
                  <a:pt x="12" y="57"/>
                  <a:pt x="28" y="57"/>
                </a:cubicBezTo>
                <a:lnTo>
                  <a:pt x="277" y="57"/>
                </a:lnTo>
                <a:lnTo>
                  <a:pt x="277" y="29"/>
                </a:lnTo>
                <a:cubicBezTo>
                  <a:pt x="277" y="13"/>
                  <a:pt x="290" y="0"/>
                  <a:pt x="306" y="0"/>
                </a:cubicBezTo>
                <a:cubicBezTo>
                  <a:pt x="321" y="0"/>
                  <a:pt x="334" y="13"/>
                  <a:pt x="334" y="29"/>
                </a:cubicBezTo>
                <a:lnTo>
                  <a:pt x="334" y="57"/>
                </a:lnTo>
                <a:lnTo>
                  <a:pt x="583" y="57"/>
                </a:lnTo>
                <a:cubicBezTo>
                  <a:pt x="599" y="57"/>
                  <a:pt x="612" y="70"/>
                  <a:pt x="612" y="86"/>
                </a:cubicBezTo>
                <a:cubicBezTo>
                  <a:pt x="612" y="102"/>
                  <a:pt x="599" y="115"/>
                  <a:pt x="583" y="11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64" name="Freeform 358"/>
          <p:cNvSpPr/>
          <p:nvPr/>
        </p:nvSpPr>
        <p:spPr>
          <a:xfrm>
            <a:off x="4865760" y="4802040"/>
            <a:ext cx="163440" cy="198720"/>
          </a:xfrm>
          <a:custGeom>
            <a:avLst/>
            <a:gdLst/>
            <a:ahLst/>
            <a:rect l="l" t="t" r="r" b="b"/>
            <a:pathLst>
              <a:path w="616" h="738">
                <a:moveTo>
                  <a:pt x="139" y="388"/>
                </a:moveTo>
                <a:lnTo>
                  <a:pt x="357" y="385"/>
                </a:lnTo>
                <a:lnTo>
                  <a:pt x="357" y="385"/>
                </a:lnTo>
                <a:cubicBezTo>
                  <a:pt x="369" y="385"/>
                  <a:pt x="380" y="392"/>
                  <a:pt x="386" y="402"/>
                </a:cubicBezTo>
                <a:lnTo>
                  <a:pt x="386" y="402"/>
                </a:lnTo>
                <a:lnTo>
                  <a:pt x="488" y="595"/>
                </a:lnTo>
                <a:lnTo>
                  <a:pt x="543" y="104"/>
                </a:lnTo>
                <a:lnTo>
                  <a:pt x="139" y="388"/>
                </a:lnTo>
                <a:close/>
                <a:moveTo>
                  <a:pt x="615" y="40"/>
                </a:moveTo>
                <a:lnTo>
                  <a:pt x="615" y="40"/>
                </a:lnTo>
                <a:lnTo>
                  <a:pt x="541" y="706"/>
                </a:lnTo>
                <a:cubicBezTo>
                  <a:pt x="539" y="719"/>
                  <a:pt x="530" y="730"/>
                  <a:pt x="517" y="734"/>
                </a:cubicBezTo>
                <a:cubicBezTo>
                  <a:pt x="502" y="738"/>
                  <a:pt x="487" y="731"/>
                  <a:pt x="480" y="718"/>
                </a:cubicBezTo>
                <a:lnTo>
                  <a:pt x="480" y="718"/>
                </a:lnTo>
                <a:lnTo>
                  <a:pt x="338" y="450"/>
                </a:lnTo>
                <a:lnTo>
                  <a:pt x="35" y="455"/>
                </a:lnTo>
                <a:lnTo>
                  <a:pt x="35" y="454"/>
                </a:lnTo>
                <a:cubicBezTo>
                  <a:pt x="21" y="455"/>
                  <a:pt x="7" y="445"/>
                  <a:pt x="3" y="430"/>
                </a:cubicBezTo>
                <a:cubicBezTo>
                  <a:pt x="0" y="417"/>
                  <a:pt x="6" y="403"/>
                  <a:pt x="16" y="396"/>
                </a:cubicBezTo>
                <a:lnTo>
                  <a:pt x="16" y="395"/>
                </a:lnTo>
                <a:lnTo>
                  <a:pt x="565" y="9"/>
                </a:lnTo>
                <a:lnTo>
                  <a:pt x="565" y="9"/>
                </a:lnTo>
                <a:cubicBezTo>
                  <a:pt x="568" y="7"/>
                  <a:pt x="571" y="5"/>
                  <a:pt x="575" y="5"/>
                </a:cubicBezTo>
                <a:cubicBezTo>
                  <a:pt x="593" y="0"/>
                  <a:pt x="610" y="10"/>
                  <a:pt x="615" y="28"/>
                </a:cubicBezTo>
                <a:cubicBezTo>
                  <a:pt x="616" y="32"/>
                  <a:pt x="616" y="36"/>
                  <a:pt x="615" y="4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65" name="Freeform 359"/>
          <p:cNvSpPr/>
          <p:nvPr/>
        </p:nvSpPr>
        <p:spPr>
          <a:xfrm>
            <a:off x="9407520" y="1430280"/>
            <a:ext cx="185760" cy="185760"/>
          </a:xfrm>
          <a:custGeom>
            <a:avLst/>
            <a:gdLst/>
            <a:ahLst/>
            <a:rect l="l" t="t" r="r" b="b"/>
            <a:pathLst>
              <a:path w="698" h="698">
                <a:moveTo>
                  <a:pt x="553" y="513"/>
                </a:moveTo>
                <a:cubicBezTo>
                  <a:pt x="463" y="603"/>
                  <a:pt x="322" y="610"/>
                  <a:pt x="223" y="536"/>
                </a:cubicBezTo>
                <a:lnTo>
                  <a:pt x="78" y="681"/>
                </a:lnTo>
                <a:cubicBezTo>
                  <a:pt x="61" y="698"/>
                  <a:pt x="34" y="698"/>
                  <a:pt x="17" y="681"/>
                </a:cubicBezTo>
                <a:cubicBezTo>
                  <a:pt x="0" y="664"/>
                  <a:pt x="0" y="637"/>
                  <a:pt x="17" y="620"/>
                </a:cubicBezTo>
                <a:lnTo>
                  <a:pt x="162" y="475"/>
                </a:lnTo>
                <a:cubicBezTo>
                  <a:pt x="88" y="376"/>
                  <a:pt x="95" y="235"/>
                  <a:pt x="186" y="145"/>
                </a:cubicBezTo>
                <a:lnTo>
                  <a:pt x="272" y="58"/>
                </a:lnTo>
                <a:lnTo>
                  <a:pt x="334" y="119"/>
                </a:lnTo>
                <a:lnTo>
                  <a:pt x="436" y="17"/>
                </a:lnTo>
                <a:cubicBezTo>
                  <a:pt x="453" y="0"/>
                  <a:pt x="480" y="0"/>
                  <a:pt x="497" y="17"/>
                </a:cubicBezTo>
                <a:cubicBezTo>
                  <a:pt x="514" y="34"/>
                  <a:pt x="514" y="62"/>
                  <a:pt x="497" y="79"/>
                </a:cubicBezTo>
                <a:lnTo>
                  <a:pt x="395" y="181"/>
                </a:lnTo>
                <a:lnTo>
                  <a:pt x="517" y="303"/>
                </a:lnTo>
                <a:lnTo>
                  <a:pt x="620" y="201"/>
                </a:lnTo>
                <a:cubicBezTo>
                  <a:pt x="637" y="184"/>
                  <a:pt x="664" y="184"/>
                  <a:pt x="681" y="201"/>
                </a:cubicBezTo>
                <a:cubicBezTo>
                  <a:pt x="698" y="218"/>
                  <a:pt x="698" y="245"/>
                  <a:pt x="681" y="262"/>
                </a:cubicBezTo>
                <a:lnTo>
                  <a:pt x="579" y="365"/>
                </a:lnTo>
                <a:lnTo>
                  <a:pt x="640" y="426"/>
                </a:lnTo>
                <a:lnTo>
                  <a:pt x="553" y="513"/>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66" name="Freeform 360"/>
          <p:cNvSpPr/>
          <p:nvPr/>
        </p:nvSpPr>
        <p:spPr>
          <a:xfrm>
            <a:off x="8370720" y="2595600"/>
            <a:ext cx="206640" cy="181080"/>
          </a:xfrm>
          <a:custGeom>
            <a:avLst/>
            <a:gdLst/>
            <a:ahLst/>
            <a:rect l="l" t="t" r="r" b="b"/>
            <a:pathLst>
              <a:path w="772" h="676">
                <a:moveTo>
                  <a:pt x="37" y="459"/>
                </a:moveTo>
                <a:cubicBezTo>
                  <a:pt x="42" y="459"/>
                  <a:pt x="46" y="460"/>
                  <a:pt x="50" y="461"/>
                </a:cubicBezTo>
                <a:lnTo>
                  <a:pt x="50" y="461"/>
                </a:lnTo>
                <a:lnTo>
                  <a:pt x="51" y="461"/>
                </a:lnTo>
                <a:cubicBezTo>
                  <a:pt x="51" y="462"/>
                  <a:pt x="51" y="462"/>
                  <a:pt x="51" y="462"/>
                </a:cubicBezTo>
                <a:lnTo>
                  <a:pt x="386" y="600"/>
                </a:lnTo>
                <a:lnTo>
                  <a:pt x="722" y="462"/>
                </a:lnTo>
                <a:cubicBezTo>
                  <a:pt x="722" y="462"/>
                  <a:pt x="722" y="462"/>
                  <a:pt x="722" y="461"/>
                </a:cubicBezTo>
                <a:lnTo>
                  <a:pt x="722" y="461"/>
                </a:lnTo>
                <a:cubicBezTo>
                  <a:pt x="726" y="460"/>
                  <a:pt x="731" y="459"/>
                  <a:pt x="736" y="459"/>
                </a:cubicBezTo>
                <a:cubicBezTo>
                  <a:pt x="756" y="459"/>
                  <a:pt x="772" y="475"/>
                  <a:pt x="772" y="495"/>
                </a:cubicBezTo>
                <a:cubicBezTo>
                  <a:pt x="772" y="510"/>
                  <a:pt x="763" y="523"/>
                  <a:pt x="750" y="528"/>
                </a:cubicBezTo>
                <a:lnTo>
                  <a:pt x="750" y="528"/>
                </a:lnTo>
                <a:lnTo>
                  <a:pt x="400" y="673"/>
                </a:lnTo>
                <a:cubicBezTo>
                  <a:pt x="400" y="673"/>
                  <a:pt x="400" y="673"/>
                  <a:pt x="400" y="673"/>
                </a:cubicBezTo>
                <a:lnTo>
                  <a:pt x="400" y="673"/>
                </a:lnTo>
                <a:cubicBezTo>
                  <a:pt x="396" y="675"/>
                  <a:pt x="391" y="676"/>
                  <a:pt x="386" y="676"/>
                </a:cubicBezTo>
                <a:cubicBezTo>
                  <a:pt x="381" y="676"/>
                  <a:pt x="377" y="675"/>
                  <a:pt x="372" y="673"/>
                </a:cubicBezTo>
                <a:lnTo>
                  <a:pt x="372" y="673"/>
                </a:lnTo>
                <a:lnTo>
                  <a:pt x="372" y="673"/>
                </a:lnTo>
                <a:cubicBezTo>
                  <a:pt x="372" y="673"/>
                  <a:pt x="372" y="673"/>
                  <a:pt x="372" y="673"/>
                </a:cubicBezTo>
                <a:lnTo>
                  <a:pt x="23" y="528"/>
                </a:lnTo>
                <a:cubicBezTo>
                  <a:pt x="10" y="523"/>
                  <a:pt x="0" y="510"/>
                  <a:pt x="0" y="495"/>
                </a:cubicBezTo>
                <a:cubicBezTo>
                  <a:pt x="0" y="475"/>
                  <a:pt x="17" y="459"/>
                  <a:pt x="37" y="459"/>
                </a:cubicBezTo>
                <a:close/>
                <a:moveTo>
                  <a:pt x="750" y="215"/>
                </a:moveTo>
                <a:lnTo>
                  <a:pt x="750" y="215"/>
                </a:lnTo>
                <a:lnTo>
                  <a:pt x="400" y="359"/>
                </a:lnTo>
                <a:cubicBezTo>
                  <a:pt x="400" y="359"/>
                  <a:pt x="400" y="359"/>
                  <a:pt x="400" y="359"/>
                </a:cubicBezTo>
                <a:lnTo>
                  <a:pt x="400" y="359"/>
                </a:lnTo>
                <a:cubicBezTo>
                  <a:pt x="396" y="361"/>
                  <a:pt x="391" y="362"/>
                  <a:pt x="386" y="362"/>
                </a:cubicBezTo>
                <a:cubicBezTo>
                  <a:pt x="381" y="362"/>
                  <a:pt x="377" y="361"/>
                  <a:pt x="372" y="359"/>
                </a:cubicBezTo>
                <a:lnTo>
                  <a:pt x="372" y="359"/>
                </a:lnTo>
                <a:lnTo>
                  <a:pt x="372" y="359"/>
                </a:lnTo>
                <a:cubicBezTo>
                  <a:pt x="372" y="359"/>
                  <a:pt x="372" y="359"/>
                  <a:pt x="372" y="359"/>
                </a:cubicBezTo>
                <a:lnTo>
                  <a:pt x="23" y="215"/>
                </a:lnTo>
                <a:cubicBezTo>
                  <a:pt x="10" y="209"/>
                  <a:pt x="0" y="196"/>
                  <a:pt x="0" y="181"/>
                </a:cubicBezTo>
                <a:cubicBezTo>
                  <a:pt x="0" y="166"/>
                  <a:pt x="10" y="153"/>
                  <a:pt x="23" y="148"/>
                </a:cubicBezTo>
                <a:lnTo>
                  <a:pt x="23" y="148"/>
                </a:lnTo>
                <a:lnTo>
                  <a:pt x="372" y="3"/>
                </a:lnTo>
                <a:cubicBezTo>
                  <a:pt x="372" y="3"/>
                  <a:pt x="372" y="3"/>
                  <a:pt x="372" y="3"/>
                </a:cubicBezTo>
                <a:lnTo>
                  <a:pt x="372" y="3"/>
                </a:lnTo>
                <a:cubicBezTo>
                  <a:pt x="377" y="1"/>
                  <a:pt x="381" y="0"/>
                  <a:pt x="386" y="0"/>
                </a:cubicBezTo>
                <a:cubicBezTo>
                  <a:pt x="391" y="0"/>
                  <a:pt x="396" y="1"/>
                  <a:pt x="400" y="3"/>
                </a:cubicBezTo>
                <a:lnTo>
                  <a:pt x="400" y="3"/>
                </a:lnTo>
                <a:lnTo>
                  <a:pt x="400" y="3"/>
                </a:lnTo>
                <a:cubicBezTo>
                  <a:pt x="400" y="3"/>
                  <a:pt x="400" y="3"/>
                  <a:pt x="400" y="3"/>
                </a:cubicBezTo>
                <a:lnTo>
                  <a:pt x="750" y="148"/>
                </a:lnTo>
                <a:cubicBezTo>
                  <a:pt x="763" y="153"/>
                  <a:pt x="772" y="166"/>
                  <a:pt x="772" y="181"/>
                </a:cubicBezTo>
                <a:cubicBezTo>
                  <a:pt x="772" y="196"/>
                  <a:pt x="763" y="209"/>
                  <a:pt x="750" y="215"/>
                </a:cubicBezTo>
                <a:close/>
                <a:moveTo>
                  <a:pt x="750" y="371"/>
                </a:moveTo>
                <a:lnTo>
                  <a:pt x="750" y="371"/>
                </a:lnTo>
                <a:lnTo>
                  <a:pt x="400" y="516"/>
                </a:lnTo>
                <a:cubicBezTo>
                  <a:pt x="400" y="516"/>
                  <a:pt x="400" y="516"/>
                  <a:pt x="400" y="516"/>
                </a:cubicBezTo>
                <a:lnTo>
                  <a:pt x="400" y="516"/>
                </a:lnTo>
                <a:cubicBezTo>
                  <a:pt x="396" y="518"/>
                  <a:pt x="391" y="519"/>
                  <a:pt x="386" y="519"/>
                </a:cubicBezTo>
                <a:cubicBezTo>
                  <a:pt x="381" y="519"/>
                  <a:pt x="377" y="518"/>
                  <a:pt x="372" y="516"/>
                </a:cubicBezTo>
                <a:lnTo>
                  <a:pt x="372" y="516"/>
                </a:lnTo>
                <a:lnTo>
                  <a:pt x="372" y="516"/>
                </a:lnTo>
                <a:cubicBezTo>
                  <a:pt x="372" y="516"/>
                  <a:pt x="372" y="516"/>
                  <a:pt x="372" y="516"/>
                </a:cubicBezTo>
                <a:lnTo>
                  <a:pt x="23" y="371"/>
                </a:lnTo>
                <a:cubicBezTo>
                  <a:pt x="10" y="366"/>
                  <a:pt x="0" y="353"/>
                  <a:pt x="0" y="338"/>
                </a:cubicBezTo>
                <a:cubicBezTo>
                  <a:pt x="0" y="318"/>
                  <a:pt x="17" y="302"/>
                  <a:pt x="37" y="302"/>
                </a:cubicBezTo>
                <a:cubicBezTo>
                  <a:pt x="42" y="302"/>
                  <a:pt x="46" y="303"/>
                  <a:pt x="50" y="305"/>
                </a:cubicBezTo>
                <a:lnTo>
                  <a:pt x="50" y="305"/>
                </a:lnTo>
                <a:lnTo>
                  <a:pt x="51" y="305"/>
                </a:lnTo>
                <a:cubicBezTo>
                  <a:pt x="51" y="305"/>
                  <a:pt x="51" y="305"/>
                  <a:pt x="51" y="305"/>
                </a:cubicBezTo>
                <a:lnTo>
                  <a:pt x="386" y="444"/>
                </a:lnTo>
                <a:lnTo>
                  <a:pt x="722" y="305"/>
                </a:lnTo>
                <a:cubicBezTo>
                  <a:pt x="722" y="305"/>
                  <a:pt x="722" y="305"/>
                  <a:pt x="722" y="305"/>
                </a:cubicBezTo>
                <a:lnTo>
                  <a:pt x="722" y="305"/>
                </a:lnTo>
                <a:cubicBezTo>
                  <a:pt x="726" y="303"/>
                  <a:pt x="731" y="302"/>
                  <a:pt x="736" y="302"/>
                </a:cubicBezTo>
                <a:cubicBezTo>
                  <a:pt x="756" y="302"/>
                  <a:pt x="772" y="318"/>
                  <a:pt x="772" y="338"/>
                </a:cubicBezTo>
                <a:cubicBezTo>
                  <a:pt x="772" y="353"/>
                  <a:pt x="763" y="366"/>
                  <a:pt x="750" y="37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67" name="Freeform 361"/>
          <p:cNvSpPr/>
          <p:nvPr/>
        </p:nvSpPr>
        <p:spPr>
          <a:xfrm>
            <a:off x="9753480" y="3594240"/>
            <a:ext cx="144720" cy="145800"/>
          </a:xfrm>
          <a:custGeom>
            <a:avLst/>
            <a:gdLst/>
            <a:ahLst/>
            <a:rect l="l" t="t" r="r" b="b"/>
            <a:pathLst>
              <a:path w="545" h="546">
                <a:moveTo>
                  <a:pt x="216" y="245"/>
                </a:moveTo>
                <a:lnTo>
                  <a:pt x="103" y="245"/>
                </a:lnTo>
                <a:cubicBezTo>
                  <a:pt x="87" y="245"/>
                  <a:pt x="75" y="232"/>
                  <a:pt x="75" y="216"/>
                </a:cubicBezTo>
                <a:cubicBezTo>
                  <a:pt x="75" y="201"/>
                  <a:pt x="87" y="188"/>
                  <a:pt x="103" y="188"/>
                </a:cubicBezTo>
                <a:lnTo>
                  <a:pt x="148" y="188"/>
                </a:lnTo>
                <a:lnTo>
                  <a:pt x="7" y="48"/>
                </a:lnTo>
                <a:lnTo>
                  <a:pt x="7" y="48"/>
                </a:lnTo>
                <a:cubicBezTo>
                  <a:pt x="3" y="43"/>
                  <a:pt x="0" y="36"/>
                  <a:pt x="0" y="28"/>
                </a:cubicBezTo>
                <a:cubicBezTo>
                  <a:pt x="0" y="13"/>
                  <a:pt x="12" y="0"/>
                  <a:pt x="28" y="0"/>
                </a:cubicBezTo>
                <a:cubicBezTo>
                  <a:pt x="35" y="0"/>
                  <a:pt x="42" y="3"/>
                  <a:pt x="47" y="8"/>
                </a:cubicBezTo>
                <a:lnTo>
                  <a:pt x="47" y="8"/>
                </a:lnTo>
                <a:lnTo>
                  <a:pt x="188" y="148"/>
                </a:lnTo>
                <a:lnTo>
                  <a:pt x="188" y="104"/>
                </a:lnTo>
                <a:cubicBezTo>
                  <a:pt x="188" y="88"/>
                  <a:pt x="200" y="75"/>
                  <a:pt x="216" y="75"/>
                </a:cubicBezTo>
                <a:cubicBezTo>
                  <a:pt x="231" y="75"/>
                  <a:pt x="244" y="88"/>
                  <a:pt x="244" y="104"/>
                </a:cubicBezTo>
                <a:lnTo>
                  <a:pt x="244" y="216"/>
                </a:lnTo>
                <a:cubicBezTo>
                  <a:pt x="244" y="232"/>
                  <a:pt x="231" y="245"/>
                  <a:pt x="216" y="245"/>
                </a:cubicBezTo>
                <a:close/>
                <a:moveTo>
                  <a:pt x="216" y="470"/>
                </a:moveTo>
                <a:cubicBezTo>
                  <a:pt x="200" y="470"/>
                  <a:pt x="188" y="458"/>
                  <a:pt x="188" y="442"/>
                </a:cubicBezTo>
                <a:lnTo>
                  <a:pt x="188" y="397"/>
                </a:lnTo>
                <a:lnTo>
                  <a:pt x="47" y="538"/>
                </a:lnTo>
                <a:lnTo>
                  <a:pt x="47" y="538"/>
                </a:lnTo>
                <a:cubicBezTo>
                  <a:pt x="42" y="543"/>
                  <a:pt x="35" y="546"/>
                  <a:pt x="28" y="546"/>
                </a:cubicBezTo>
                <a:cubicBezTo>
                  <a:pt x="12" y="546"/>
                  <a:pt x="0" y="533"/>
                  <a:pt x="0" y="517"/>
                </a:cubicBezTo>
                <a:cubicBezTo>
                  <a:pt x="0" y="510"/>
                  <a:pt x="3" y="503"/>
                  <a:pt x="7" y="498"/>
                </a:cubicBezTo>
                <a:lnTo>
                  <a:pt x="7" y="498"/>
                </a:lnTo>
                <a:lnTo>
                  <a:pt x="148" y="357"/>
                </a:lnTo>
                <a:lnTo>
                  <a:pt x="103" y="357"/>
                </a:lnTo>
                <a:cubicBezTo>
                  <a:pt x="87" y="357"/>
                  <a:pt x="75" y="345"/>
                  <a:pt x="75" y="329"/>
                </a:cubicBezTo>
                <a:cubicBezTo>
                  <a:pt x="75" y="314"/>
                  <a:pt x="87" y="301"/>
                  <a:pt x="103" y="301"/>
                </a:cubicBezTo>
                <a:lnTo>
                  <a:pt x="216" y="301"/>
                </a:lnTo>
                <a:cubicBezTo>
                  <a:pt x="231" y="301"/>
                  <a:pt x="244" y="314"/>
                  <a:pt x="244" y="329"/>
                </a:cubicBezTo>
                <a:lnTo>
                  <a:pt x="244" y="442"/>
                </a:lnTo>
                <a:cubicBezTo>
                  <a:pt x="244" y="458"/>
                  <a:pt x="231" y="470"/>
                  <a:pt x="216" y="470"/>
                </a:cubicBezTo>
                <a:close/>
                <a:moveTo>
                  <a:pt x="329" y="301"/>
                </a:moveTo>
                <a:lnTo>
                  <a:pt x="442" y="301"/>
                </a:lnTo>
                <a:cubicBezTo>
                  <a:pt x="457" y="301"/>
                  <a:pt x="470" y="314"/>
                  <a:pt x="470" y="329"/>
                </a:cubicBezTo>
                <a:cubicBezTo>
                  <a:pt x="470" y="345"/>
                  <a:pt x="457" y="357"/>
                  <a:pt x="442" y="357"/>
                </a:cubicBezTo>
                <a:lnTo>
                  <a:pt x="397" y="357"/>
                </a:lnTo>
                <a:lnTo>
                  <a:pt x="537" y="498"/>
                </a:lnTo>
                <a:lnTo>
                  <a:pt x="537" y="498"/>
                </a:lnTo>
                <a:cubicBezTo>
                  <a:pt x="542" y="503"/>
                  <a:pt x="545" y="510"/>
                  <a:pt x="545" y="517"/>
                </a:cubicBezTo>
                <a:cubicBezTo>
                  <a:pt x="545" y="533"/>
                  <a:pt x="532" y="546"/>
                  <a:pt x="517" y="546"/>
                </a:cubicBezTo>
                <a:cubicBezTo>
                  <a:pt x="509" y="546"/>
                  <a:pt x="502" y="543"/>
                  <a:pt x="497" y="538"/>
                </a:cubicBezTo>
                <a:lnTo>
                  <a:pt x="497" y="538"/>
                </a:lnTo>
                <a:lnTo>
                  <a:pt x="357" y="397"/>
                </a:lnTo>
                <a:lnTo>
                  <a:pt x="357" y="442"/>
                </a:lnTo>
                <a:cubicBezTo>
                  <a:pt x="357" y="458"/>
                  <a:pt x="344" y="470"/>
                  <a:pt x="329" y="470"/>
                </a:cubicBezTo>
                <a:cubicBezTo>
                  <a:pt x="313" y="470"/>
                  <a:pt x="300" y="458"/>
                  <a:pt x="300" y="442"/>
                </a:cubicBezTo>
                <a:lnTo>
                  <a:pt x="300" y="329"/>
                </a:lnTo>
                <a:cubicBezTo>
                  <a:pt x="300" y="314"/>
                  <a:pt x="313" y="301"/>
                  <a:pt x="329" y="301"/>
                </a:cubicBezTo>
                <a:close/>
                <a:moveTo>
                  <a:pt x="537" y="48"/>
                </a:moveTo>
                <a:lnTo>
                  <a:pt x="397" y="188"/>
                </a:lnTo>
                <a:lnTo>
                  <a:pt x="442" y="188"/>
                </a:lnTo>
                <a:cubicBezTo>
                  <a:pt x="457" y="188"/>
                  <a:pt x="470" y="201"/>
                  <a:pt x="470" y="216"/>
                </a:cubicBezTo>
                <a:cubicBezTo>
                  <a:pt x="470" y="232"/>
                  <a:pt x="457" y="245"/>
                  <a:pt x="442" y="245"/>
                </a:cubicBezTo>
                <a:lnTo>
                  <a:pt x="329" y="245"/>
                </a:lnTo>
                <a:cubicBezTo>
                  <a:pt x="313" y="245"/>
                  <a:pt x="300" y="232"/>
                  <a:pt x="300" y="216"/>
                </a:cubicBezTo>
                <a:lnTo>
                  <a:pt x="300" y="104"/>
                </a:lnTo>
                <a:cubicBezTo>
                  <a:pt x="300" y="88"/>
                  <a:pt x="313" y="75"/>
                  <a:pt x="329" y="75"/>
                </a:cubicBezTo>
                <a:cubicBezTo>
                  <a:pt x="344" y="75"/>
                  <a:pt x="357" y="88"/>
                  <a:pt x="357" y="104"/>
                </a:cubicBezTo>
                <a:lnTo>
                  <a:pt x="357" y="148"/>
                </a:lnTo>
                <a:lnTo>
                  <a:pt x="497" y="8"/>
                </a:lnTo>
                <a:lnTo>
                  <a:pt x="497" y="8"/>
                </a:lnTo>
                <a:cubicBezTo>
                  <a:pt x="502" y="3"/>
                  <a:pt x="509" y="0"/>
                  <a:pt x="517" y="0"/>
                </a:cubicBezTo>
                <a:cubicBezTo>
                  <a:pt x="532" y="0"/>
                  <a:pt x="545" y="13"/>
                  <a:pt x="545" y="28"/>
                </a:cubicBezTo>
                <a:cubicBezTo>
                  <a:pt x="545" y="36"/>
                  <a:pt x="542" y="43"/>
                  <a:pt x="537" y="48"/>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68" name="Freeform 362"/>
          <p:cNvSpPr/>
          <p:nvPr/>
        </p:nvSpPr>
        <p:spPr>
          <a:xfrm>
            <a:off x="9753480" y="3281400"/>
            <a:ext cx="144720" cy="146160"/>
          </a:xfrm>
          <a:custGeom>
            <a:avLst/>
            <a:gdLst/>
            <a:ahLst/>
            <a:rect l="l" t="t" r="r" b="b"/>
            <a:pathLst>
              <a:path w="545" h="545">
                <a:moveTo>
                  <a:pt x="216" y="244"/>
                </a:moveTo>
                <a:cubicBezTo>
                  <a:pt x="208" y="244"/>
                  <a:pt x="201" y="241"/>
                  <a:pt x="196" y="236"/>
                </a:cubicBezTo>
                <a:lnTo>
                  <a:pt x="196" y="236"/>
                </a:lnTo>
                <a:lnTo>
                  <a:pt x="56" y="96"/>
                </a:lnTo>
                <a:lnTo>
                  <a:pt x="56" y="141"/>
                </a:lnTo>
                <a:cubicBezTo>
                  <a:pt x="56" y="156"/>
                  <a:pt x="43" y="169"/>
                  <a:pt x="28" y="169"/>
                </a:cubicBezTo>
                <a:cubicBezTo>
                  <a:pt x="12" y="169"/>
                  <a:pt x="0" y="156"/>
                  <a:pt x="0" y="141"/>
                </a:cubicBezTo>
                <a:lnTo>
                  <a:pt x="0" y="28"/>
                </a:lnTo>
                <a:cubicBezTo>
                  <a:pt x="0" y="12"/>
                  <a:pt x="12" y="0"/>
                  <a:pt x="28" y="0"/>
                </a:cubicBezTo>
                <a:lnTo>
                  <a:pt x="141" y="0"/>
                </a:lnTo>
                <a:cubicBezTo>
                  <a:pt x="156" y="0"/>
                  <a:pt x="169" y="12"/>
                  <a:pt x="169" y="28"/>
                </a:cubicBezTo>
                <a:cubicBezTo>
                  <a:pt x="169" y="43"/>
                  <a:pt x="156" y="56"/>
                  <a:pt x="141" y="56"/>
                </a:cubicBezTo>
                <a:lnTo>
                  <a:pt x="96" y="56"/>
                </a:lnTo>
                <a:lnTo>
                  <a:pt x="236" y="196"/>
                </a:lnTo>
                <a:lnTo>
                  <a:pt x="236" y="196"/>
                </a:lnTo>
                <a:cubicBezTo>
                  <a:pt x="241" y="202"/>
                  <a:pt x="244" y="208"/>
                  <a:pt x="244" y="216"/>
                </a:cubicBezTo>
                <a:cubicBezTo>
                  <a:pt x="244" y="232"/>
                  <a:pt x="231" y="244"/>
                  <a:pt x="216" y="244"/>
                </a:cubicBezTo>
                <a:close/>
                <a:moveTo>
                  <a:pt x="236" y="349"/>
                </a:moveTo>
                <a:lnTo>
                  <a:pt x="96" y="489"/>
                </a:lnTo>
                <a:lnTo>
                  <a:pt x="141" y="489"/>
                </a:lnTo>
                <a:cubicBezTo>
                  <a:pt x="156" y="489"/>
                  <a:pt x="169" y="501"/>
                  <a:pt x="169" y="517"/>
                </a:cubicBezTo>
                <a:cubicBezTo>
                  <a:pt x="169" y="533"/>
                  <a:pt x="156" y="545"/>
                  <a:pt x="141" y="545"/>
                </a:cubicBezTo>
                <a:lnTo>
                  <a:pt x="28" y="545"/>
                </a:lnTo>
                <a:cubicBezTo>
                  <a:pt x="12" y="545"/>
                  <a:pt x="0" y="533"/>
                  <a:pt x="0" y="517"/>
                </a:cubicBezTo>
                <a:lnTo>
                  <a:pt x="0" y="404"/>
                </a:lnTo>
                <a:cubicBezTo>
                  <a:pt x="0" y="388"/>
                  <a:pt x="12" y="376"/>
                  <a:pt x="28" y="376"/>
                </a:cubicBezTo>
                <a:cubicBezTo>
                  <a:pt x="43" y="376"/>
                  <a:pt x="56" y="388"/>
                  <a:pt x="56" y="404"/>
                </a:cubicBezTo>
                <a:lnTo>
                  <a:pt x="56" y="449"/>
                </a:lnTo>
                <a:lnTo>
                  <a:pt x="196" y="309"/>
                </a:lnTo>
                <a:lnTo>
                  <a:pt x="196" y="309"/>
                </a:lnTo>
                <a:cubicBezTo>
                  <a:pt x="201" y="304"/>
                  <a:pt x="208" y="301"/>
                  <a:pt x="216" y="301"/>
                </a:cubicBezTo>
                <a:cubicBezTo>
                  <a:pt x="231" y="301"/>
                  <a:pt x="244" y="313"/>
                  <a:pt x="244" y="329"/>
                </a:cubicBezTo>
                <a:cubicBezTo>
                  <a:pt x="244" y="336"/>
                  <a:pt x="241" y="343"/>
                  <a:pt x="236" y="348"/>
                </a:cubicBezTo>
                <a:lnTo>
                  <a:pt x="236" y="349"/>
                </a:lnTo>
                <a:close/>
                <a:moveTo>
                  <a:pt x="517" y="169"/>
                </a:moveTo>
                <a:cubicBezTo>
                  <a:pt x="501" y="169"/>
                  <a:pt x="489" y="156"/>
                  <a:pt x="489" y="141"/>
                </a:cubicBezTo>
                <a:lnTo>
                  <a:pt x="489" y="96"/>
                </a:lnTo>
                <a:lnTo>
                  <a:pt x="348" y="236"/>
                </a:lnTo>
                <a:lnTo>
                  <a:pt x="348" y="236"/>
                </a:lnTo>
                <a:cubicBezTo>
                  <a:pt x="343" y="241"/>
                  <a:pt x="336" y="244"/>
                  <a:pt x="329" y="244"/>
                </a:cubicBezTo>
                <a:cubicBezTo>
                  <a:pt x="313" y="244"/>
                  <a:pt x="300" y="232"/>
                  <a:pt x="300" y="216"/>
                </a:cubicBezTo>
                <a:cubicBezTo>
                  <a:pt x="300" y="208"/>
                  <a:pt x="304" y="202"/>
                  <a:pt x="308" y="196"/>
                </a:cubicBezTo>
                <a:lnTo>
                  <a:pt x="308" y="196"/>
                </a:lnTo>
                <a:lnTo>
                  <a:pt x="449" y="56"/>
                </a:lnTo>
                <a:lnTo>
                  <a:pt x="404" y="56"/>
                </a:lnTo>
                <a:cubicBezTo>
                  <a:pt x="388" y="56"/>
                  <a:pt x="376" y="43"/>
                  <a:pt x="376" y="28"/>
                </a:cubicBezTo>
                <a:cubicBezTo>
                  <a:pt x="376" y="12"/>
                  <a:pt x="388" y="0"/>
                  <a:pt x="404" y="0"/>
                </a:cubicBezTo>
                <a:lnTo>
                  <a:pt x="517" y="0"/>
                </a:lnTo>
                <a:cubicBezTo>
                  <a:pt x="532" y="0"/>
                  <a:pt x="545" y="12"/>
                  <a:pt x="545" y="28"/>
                </a:cubicBezTo>
                <a:lnTo>
                  <a:pt x="545" y="141"/>
                </a:lnTo>
                <a:cubicBezTo>
                  <a:pt x="545" y="156"/>
                  <a:pt x="532" y="169"/>
                  <a:pt x="517" y="169"/>
                </a:cubicBezTo>
                <a:close/>
                <a:moveTo>
                  <a:pt x="517" y="545"/>
                </a:moveTo>
                <a:lnTo>
                  <a:pt x="404" y="545"/>
                </a:lnTo>
                <a:cubicBezTo>
                  <a:pt x="388" y="545"/>
                  <a:pt x="376" y="533"/>
                  <a:pt x="376" y="517"/>
                </a:cubicBezTo>
                <a:cubicBezTo>
                  <a:pt x="376" y="501"/>
                  <a:pt x="388" y="489"/>
                  <a:pt x="404" y="489"/>
                </a:cubicBezTo>
                <a:lnTo>
                  <a:pt x="449" y="489"/>
                </a:lnTo>
                <a:lnTo>
                  <a:pt x="308" y="349"/>
                </a:lnTo>
                <a:lnTo>
                  <a:pt x="308" y="348"/>
                </a:lnTo>
                <a:cubicBezTo>
                  <a:pt x="304" y="343"/>
                  <a:pt x="300" y="336"/>
                  <a:pt x="300" y="329"/>
                </a:cubicBezTo>
                <a:cubicBezTo>
                  <a:pt x="300" y="313"/>
                  <a:pt x="313" y="301"/>
                  <a:pt x="329" y="301"/>
                </a:cubicBezTo>
                <a:cubicBezTo>
                  <a:pt x="336" y="301"/>
                  <a:pt x="343" y="304"/>
                  <a:pt x="348" y="309"/>
                </a:cubicBezTo>
                <a:lnTo>
                  <a:pt x="348" y="309"/>
                </a:lnTo>
                <a:lnTo>
                  <a:pt x="489" y="449"/>
                </a:lnTo>
                <a:lnTo>
                  <a:pt x="489" y="404"/>
                </a:lnTo>
                <a:cubicBezTo>
                  <a:pt x="489" y="388"/>
                  <a:pt x="501" y="376"/>
                  <a:pt x="517" y="376"/>
                </a:cubicBezTo>
                <a:cubicBezTo>
                  <a:pt x="532" y="376"/>
                  <a:pt x="545" y="388"/>
                  <a:pt x="545" y="404"/>
                </a:cubicBezTo>
                <a:lnTo>
                  <a:pt x="545" y="517"/>
                </a:lnTo>
                <a:cubicBezTo>
                  <a:pt x="545" y="533"/>
                  <a:pt x="532" y="545"/>
                  <a:pt x="517" y="54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69" name="Freeform 363"/>
          <p:cNvSpPr/>
          <p:nvPr/>
        </p:nvSpPr>
        <p:spPr>
          <a:xfrm>
            <a:off x="9745560" y="2949480"/>
            <a:ext cx="160560" cy="160560"/>
          </a:xfrm>
          <a:custGeom>
            <a:avLst/>
            <a:gdLst/>
            <a:ahLst/>
            <a:rect l="l" t="t" r="r" b="b"/>
            <a:pathLst>
              <a:path w="602" h="602">
                <a:moveTo>
                  <a:pt x="602" y="301"/>
                </a:moveTo>
                <a:cubicBezTo>
                  <a:pt x="602" y="309"/>
                  <a:pt x="599" y="316"/>
                  <a:pt x="593" y="322"/>
                </a:cubicBezTo>
                <a:lnTo>
                  <a:pt x="499" y="406"/>
                </a:lnTo>
                <a:cubicBezTo>
                  <a:pt x="494" y="411"/>
                  <a:pt x="487" y="413"/>
                  <a:pt x="480" y="413"/>
                </a:cubicBezTo>
                <a:cubicBezTo>
                  <a:pt x="464" y="413"/>
                  <a:pt x="452" y="401"/>
                  <a:pt x="452" y="385"/>
                </a:cubicBezTo>
                <a:cubicBezTo>
                  <a:pt x="452" y="377"/>
                  <a:pt x="455" y="369"/>
                  <a:pt x="461" y="364"/>
                </a:cubicBezTo>
                <a:lnTo>
                  <a:pt x="500" y="329"/>
                </a:lnTo>
                <a:lnTo>
                  <a:pt x="329" y="329"/>
                </a:lnTo>
                <a:lnTo>
                  <a:pt x="329" y="500"/>
                </a:lnTo>
                <a:lnTo>
                  <a:pt x="365" y="460"/>
                </a:lnTo>
                <a:cubicBezTo>
                  <a:pt x="370" y="455"/>
                  <a:pt x="378" y="451"/>
                  <a:pt x="386" y="451"/>
                </a:cubicBezTo>
                <a:cubicBezTo>
                  <a:pt x="401" y="451"/>
                  <a:pt x="414" y="464"/>
                  <a:pt x="414" y="479"/>
                </a:cubicBezTo>
                <a:cubicBezTo>
                  <a:pt x="414" y="486"/>
                  <a:pt x="411" y="493"/>
                  <a:pt x="407" y="498"/>
                </a:cubicBezTo>
                <a:lnTo>
                  <a:pt x="322" y="592"/>
                </a:lnTo>
                <a:cubicBezTo>
                  <a:pt x="317" y="598"/>
                  <a:pt x="310" y="602"/>
                  <a:pt x="301" y="602"/>
                </a:cubicBezTo>
                <a:cubicBezTo>
                  <a:pt x="293" y="602"/>
                  <a:pt x="285" y="598"/>
                  <a:pt x="280" y="592"/>
                </a:cubicBezTo>
                <a:lnTo>
                  <a:pt x="196" y="498"/>
                </a:lnTo>
                <a:cubicBezTo>
                  <a:pt x="191" y="493"/>
                  <a:pt x="188" y="487"/>
                  <a:pt x="188" y="479"/>
                </a:cubicBezTo>
                <a:cubicBezTo>
                  <a:pt x="188" y="464"/>
                  <a:pt x="201" y="451"/>
                  <a:pt x="217" y="451"/>
                </a:cubicBezTo>
                <a:cubicBezTo>
                  <a:pt x="225" y="451"/>
                  <a:pt x="232" y="455"/>
                  <a:pt x="238" y="460"/>
                </a:cubicBezTo>
                <a:lnTo>
                  <a:pt x="273" y="500"/>
                </a:lnTo>
                <a:lnTo>
                  <a:pt x="273" y="329"/>
                </a:lnTo>
                <a:lnTo>
                  <a:pt x="102" y="329"/>
                </a:lnTo>
                <a:lnTo>
                  <a:pt x="141" y="364"/>
                </a:lnTo>
                <a:cubicBezTo>
                  <a:pt x="147" y="369"/>
                  <a:pt x="151" y="377"/>
                  <a:pt x="151" y="385"/>
                </a:cubicBezTo>
                <a:cubicBezTo>
                  <a:pt x="151" y="401"/>
                  <a:pt x="138" y="413"/>
                  <a:pt x="123" y="413"/>
                </a:cubicBezTo>
                <a:cubicBezTo>
                  <a:pt x="115" y="413"/>
                  <a:pt x="109" y="411"/>
                  <a:pt x="104" y="406"/>
                </a:cubicBezTo>
                <a:lnTo>
                  <a:pt x="10" y="322"/>
                </a:lnTo>
                <a:cubicBezTo>
                  <a:pt x="4" y="316"/>
                  <a:pt x="0" y="309"/>
                  <a:pt x="0" y="301"/>
                </a:cubicBezTo>
                <a:cubicBezTo>
                  <a:pt x="0" y="292"/>
                  <a:pt x="4" y="285"/>
                  <a:pt x="10" y="280"/>
                </a:cubicBezTo>
                <a:lnTo>
                  <a:pt x="104" y="195"/>
                </a:lnTo>
                <a:cubicBezTo>
                  <a:pt x="109" y="190"/>
                  <a:pt x="115" y="188"/>
                  <a:pt x="123" y="188"/>
                </a:cubicBezTo>
                <a:cubicBezTo>
                  <a:pt x="138" y="188"/>
                  <a:pt x="151" y="200"/>
                  <a:pt x="151" y="216"/>
                </a:cubicBezTo>
                <a:cubicBezTo>
                  <a:pt x="151" y="224"/>
                  <a:pt x="147" y="232"/>
                  <a:pt x="141" y="237"/>
                </a:cubicBezTo>
                <a:lnTo>
                  <a:pt x="102" y="272"/>
                </a:lnTo>
                <a:lnTo>
                  <a:pt x="273" y="272"/>
                </a:lnTo>
                <a:lnTo>
                  <a:pt x="273" y="101"/>
                </a:lnTo>
                <a:lnTo>
                  <a:pt x="238" y="141"/>
                </a:lnTo>
                <a:cubicBezTo>
                  <a:pt x="232" y="147"/>
                  <a:pt x="225" y="150"/>
                  <a:pt x="217" y="150"/>
                </a:cubicBezTo>
                <a:cubicBezTo>
                  <a:pt x="201" y="150"/>
                  <a:pt x="188" y="137"/>
                  <a:pt x="188" y="122"/>
                </a:cubicBezTo>
                <a:cubicBezTo>
                  <a:pt x="188" y="115"/>
                  <a:pt x="191" y="108"/>
                  <a:pt x="196" y="103"/>
                </a:cubicBezTo>
                <a:lnTo>
                  <a:pt x="280" y="9"/>
                </a:lnTo>
                <a:cubicBezTo>
                  <a:pt x="285" y="3"/>
                  <a:pt x="293" y="0"/>
                  <a:pt x="301" y="0"/>
                </a:cubicBezTo>
                <a:cubicBezTo>
                  <a:pt x="310" y="0"/>
                  <a:pt x="317" y="3"/>
                  <a:pt x="322" y="9"/>
                </a:cubicBezTo>
                <a:lnTo>
                  <a:pt x="407" y="103"/>
                </a:lnTo>
                <a:cubicBezTo>
                  <a:pt x="411" y="108"/>
                  <a:pt x="414" y="115"/>
                  <a:pt x="414" y="122"/>
                </a:cubicBezTo>
                <a:cubicBezTo>
                  <a:pt x="414" y="137"/>
                  <a:pt x="401" y="150"/>
                  <a:pt x="386" y="150"/>
                </a:cubicBezTo>
                <a:cubicBezTo>
                  <a:pt x="378" y="150"/>
                  <a:pt x="370" y="147"/>
                  <a:pt x="365" y="141"/>
                </a:cubicBezTo>
                <a:lnTo>
                  <a:pt x="329" y="101"/>
                </a:lnTo>
                <a:lnTo>
                  <a:pt x="329" y="272"/>
                </a:lnTo>
                <a:lnTo>
                  <a:pt x="500" y="272"/>
                </a:lnTo>
                <a:lnTo>
                  <a:pt x="461" y="237"/>
                </a:lnTo>
                <a:cubicBezTo>
                  <a:pt x="455" y="232"/>
                  <a:pt x="452" y="224"/>
                  <a:pt x="452" y="216"/>
                </a:cubicBezTo>
                <a:cubicBezTo>
                  <a:pt x="452" y="200"/>
                  <a:pt x="464" y="188"/>
                  <a:pt x="480" y="188"/>
                </a:cubicBezTo>
                <a:cubicBezTo>
                  <a:pt x="487" y="188"/>
                  <a:pt x="494" y="190"/>
                  <a:pt x="499" y="195"/>
                </a:cubicBezTo>
                <a:lnTo>
                  <a:pt x="593" y="280"/>
                </a:lnTo>
                <a:cubicBezTo>
                  <a:pt x="599" y="285"/>
                  <a:pt x="602" y="292"/>
                  <a:pt x="602" y="30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70" name="Freeform 364"/>
          <p:cNvSpPr/>
          <p:nvPr/>
        </p:nvSpPr>
        <p:spPr>
          <a:xfrm>
            <a:off x="9385200" y="846000"/>
            <a:ext cx="230400" cy="200160"/>
          </a:xfrm>
          <a:custGeom>
            <a:avLst/>
            <a:gdLst/>
            <a:ahLst/>
            <a:rect l="l" t="t" r="r" b="b"/>
            <a:pathLst>
              <a:path w="871" h="749">
                <a:moveTo>
                  <a:pt x="531" y="177"/>
                </a:moveTo>
                <a:cubicBezTo>
                  <a:pt x="520" y="177"/>
                  <a:pt x="510" y="172"/>
                  <a:pt x="502" y="165"/>
                </a:cubicBezTo>
                <a:lnTo>
                  <a:pt x="477" y="139"/>
                </a:lnTo>
                <a:lnTo>
                  <a:pt x="477" y="299"/>
                </a:lnTo>
                <a:lnTo>
                  <a:pt x="477" y="395"/>
                </a:lnTo>
                <a:cubicBezTo>
                  <a:pt x="477" y="417"/>
                  <a:pt x="459" y="435"/>
                  <a:pt x="436" y="435"/>
                </a:cubicBezTo>
                <a:cubicBezTo>
                  <a:pt x="413" y="435"/>
                  <a:pt x="395" y="417"/>
                  <a:pt x="395" y="395"/>
                </a:cubicBezTo>
                <a:lnTo>
                  <a:pt x="395" y="327"/>
                </a:lnTo>
                <a:lnTo>
                  <a:pt x="395" y="139"/>
                </a:lnTo>
                <a:lnTo>
                  <a:pt x="370" y="165"/>
                </a:lnTo>
                <a:cubicBezTo>
                  <a:pt x="362" y="172"/>
                  <a:pt x="352" y="177"/>
                  <a:pt x="341" y="177"/>
                </a:cubicBezTo>
                <a:cubicBezTo>
                  <a:pt x="318" y="177"/>
                  <a:pt x="300" y="159"/>
                  <a:pt x="300" y="136"/>
                </a:cubicBezTo>
                <a:cubicBezTo>
                  <a:pt x="300" y="125"/>
                  <a:pt x="304" y="115"/>
                  <a:pt x="312" y="107"/>
                </a:cubicBezTo>
                <a:lnTo>
                  <a:pt x="407" y="12"/>
                </a:lnTo>
                <a:cubicBezTo>
                  <a:pt x="414" y="5"/>
                  <a:pt x="425" y="0"/>
                  <a:pt x="436" y="0"/>
                </a:cubicBezTo>
                <a:cubicBezTo>
                  <a:pt x="447" y="0"/>
                  <a:pt x="457" y="5"/>
                  <a:pt x="465" y="12"/>
                </a:cubicBezTo>
                <a:lnTo>
                  <a:pt x="560" y="107"/>
                </a:lnTo>
                <a:cubicBezTo>
                  <a:pt x="567" y="115"/>
                  <a:pt x="572" y="125"/>
                  <a:pt x="572" y="136"/>
                </a:cubicBezTo>
                <a:cubicBezTo>
                  <a:pt x="572" y="159"/>
                  <a:pt x="554" y="177"/>
                  <a:pt x="531" y="177"/>
                </a:cubicBezTo>
                <a:close/>
                <a:moveTo>
                  <a:pt x="831" y="749"/>
                </a:moveTo>
                <a:lnTo>
                  <a:pt x="41" y="749"/>
                </a:lnTo>
                <a:cubicBezTo>
                  <a:pt x="19" y="749"/>
                  <a:pt x="0" y="730"/>
                  <a:pt x="0" y="708"/>
                </a:cubicBezTo>
                <a:lnTo>
                  <a:pt x="0" y="449"/>
                </a:lnTo>
                <a:cubicBezTo>
                  <a:pt x="0" y="444"/>
                  <a:pt x="1" y="439"/>
                  <a:pt x="3" y="434"/>
                </a:cubicBezTo>
                <a:lnTo>
                  <a:pt x="112" y="149"/>
                </a:lnTo>
                <a:cubicBezTo>
                  <a:pt x="117" y="134"/>
                  <a:pt x="132" y="122"/>
                  <a:pt x="150" y="122"/>
                </a:cubicBezTo>
                <a:lnTo>
                  <a:pt x="218" y="122"/>
                </a:lnTo>
                <a:lnTo>
                  <a:pt x="260" y="122"/>
                </a:lnTo>
                <a:cubicBezTo>
                  <a:pt x="260" y="127"/>
                  <a:pt x="259" y="131"/>
                  <a:pt x="259" y="136"/>
                </a:cubicBezTo>
                <a:cubicBezTo>
                  <a:pt x="259" y="164"/>
                  <a:pt x="274" y="190"/>
                  <a:pt x="296" y="204"/>
                </a:cubicBezTo>
                <a:lnTo>
                  <a:pt x="218" y="204"/>
                </a:lnTo>
                <a:lnTo>
                  <a:pt x="178" y="204"/>
                </a:lnTo>
                <a:lnTo>
                  <a:pt x="100" y="408"/>
                </a:lnTo>
                <a:lnTo>
                  <a:pt x="205" y="408"/>
                </a:lnTo>
                <a:lnTo>
                  <a:pt x="232" y="408"/>
                </a:lnTo>
                <a:cubicBezTo>
                  <a:pt x="254" y="408"/>
                  <a:pt x="273" y="426"/>
                  <a:pt x="273" y="449"/>
                </a:cubicBezTo>
                <a:lnTo>
                  <a:pt x="273" y="490"/>
                </a:lnTo>
                <a:lnTo>
                  <a:pt x="599" y="490"/>
                </a:lnTo>
                <a:lnTo>
                  <a:pt x="599" y="449"/>
                </a:lnTo>
                <a:cubicBezTo>
                  <a:pt x="599" y="426"/>
                  <a:pt x="617" y="408"/>
                  <a:pt x="640" y="408"/>
                </a:cubicBezTo>
                <a:lnTo>
                  <a:pt x="681" y="408"/>
                </a:lnTo>
                <a:lnTo>
                  <a:pt x="771" y="408"/>
                </a:lnTo>
                <a:lnTo>
                  <a:pt x="694" y="204"/>
                </a:lnTo>
                <a:lnTo>
                  <a:pt x="654" y="204"/>
                </a:lnTo>
                <a:lnTo>
                  <a:pt x="576" y="204"/>
                </a:lnTo>
                <a:cubicBezTo>
                  <a:pt x="598" y="190"/>
                  <a:pt x="613" y="164"/>
                  <a:pt x="613" y="136"/>
                </a:cubicBezTo>
                <a:cubicBezTo>
                  <a:pt x="613" y="131"/>
                  <a:pt x="612" y="127"/>
                  <a:pt x="612" y="122"/>
                </a:cubicBezTo>
                <a:lnTo>
                  <a:pt x="654" y="122"/>
                </a:lnTo>
                <a:lnTo>
                  <a:pt x="722" y="122"/>
                </a:lnTo>
                <a:cubicBezTo>
                  <a:pt x="739" y="122"/>
                  <a:pt x="755" y="134"/>
                  <a:pt x="760" y="149"/>
                </a:cubicBezTo>
                <a:lnTo>
                  <a:pt x="869" y="434"/>
                </a:lnTo>
                <a:cubicBezTo>
                  <a:pt x="871" y="439"/>
                  <a:pt x="871" y="444"/>
                  <a:pt x="871" y="449"/>
                </a:cubicBezTo>
                <a:lnTo>
                  <a:pt x="871" y="708"/>
                </a:lnTo>
                <a:cubicBezTo>
                  <a:pt x="871" y="730"/>
                  <a:pt x="853" y="749"/>
                  <a:pt x="831" y="74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71" name="Freeform 365"/>
          <p:cNvSpPr/>
          <p:nvPr/>
        </p:nvSpPr>
        <p:spPr>
          <a:xfrm>
            <a:off x="9023400" y="846000"/>
            <a:ext cx="233280" cy="200160"/>
          </a:xfrm>
          <a:custGeom>
            <a:avLst/>
            <a:gdLst/>
            <a:ahLst/>
            <a:rect l="l" t="t" r="r" b="b"/>
            <a:pathLst>
              <a:path w="871" h="749">
                <a:moveTo>
                  <a:pt x="572" y="299"/>
                </a:moveTo>
                <a:cubicBezTo>
                  <a:pt x="572" y="311"/>
                  <a:pt x="567" y="321"/>
                  <a:pt x="560" y="328"/>
                </a:cubicBezTo>
                <a:lnTo>
                  <a:pt x="465" y="423"/>
                </a:lnTo>
                <a:cubicBezTo>
                  <a:pt x="457" y="431"/>
                  <a:pt x="447" y="435"/>
                  <a:pt x="436" y="435"/>
                </a:cubicBezTo>
                <a:cubicBezTo>
                  <a:pt x="424" y="435"/>
                  <a:pt x="414" y="431"/>
                  <a:pt x="407" y="423"/>
                </a:cubicBezTo>
                <a:lnTo>
                  <a:pt x="312" y="328"/>
                </a:lnTo>
                <a:cubicBezTo>
                  <a:pt x="304" y="321"/>
                  <a:pt x="300" y="311"/>
                  <a:pt x="300" y="299"/>
                </a:cubicBezTo>
                <a:cubicBezTo>
                  <a:pt x="300" y="277"/>
                  <a:pt x="318" y="259"/>
                  <a:pt x="340" y="259"/>
                </a:cubicBezTo>
                <a:cubicBezTo>
                  <a:pt x="352" y="259"/>
                  <a:pt x="362" y="263"/>
                  <a:pt x="369" y="271"/>
                </a:cubicBezTo>
                <a:lnTo>
                  <a:pt x="395" y="296"/>
                </a:lnTo>
                <a:lnTo>
                  <a:pt x="395" y="150"/>
                </a:lnTo>
                <a:lnTo>
                  <a:pt x="395" y="109"/>
                </a:lnTo>
                <a:lnTo>
                  <a:pt x="395" y="41"/>
                </a:lnTo>
                <a:cubicBezTo>
                  <a:pt x="395" y="18"/>
                  <a:pt x="413" y="0"/>
                  <a:pt x="436" y="0"/>
                </a:cubicBezTo>
                <a:cubicBezTo>
                  <a:pt x="458" y="0"/>
                  <a:pt x="477" y="18"/>
                  <a:pt x="477" y="41"/>
                </a:cubicBezTo>
                <a:lnTo>
                  <a:pt x="477" y="122"/>
                </a:lnTo>
                <a:lnTo>
                  <a:pt x="477" y="136"/>
                </a:lnTo>
                <a:lnTo>
                  <a:pt x="477" y="296"/>
                </a:lnTo>
                <a:lnTo>
                  <a:pt x="502" y="270"/>
                </a:lnTo>
                <a:cubicBezTo>
                  <a:pt x="509" y="263"/>
                  <a:pt x="520" y="259"/>
                  <a:pt x="531" y="259"/>
                </a:cubicBezTo>
                <a:cubicBezTo>
                  <a:pt x="554" y="259"/>
                  <a:pt x="572" y="277"/>
                  <a:pt x="572" y="299"/>
                </a:cubicBezTo>
                <a:close/>
                <a:moveTo>
                  <a:pt x="830" y="749"/>
                </a:moveTo>
                <a:lnTo>
                  <a:pt x="41" y="749"/>
                </a:lnTo>
                <a:cubicBezTo>
                  <a:pt x="18" y="749"/>
                  <a:pt x="0" y="730"/>
                  <a:pt x="0" y="708"/>
                </a:cubicBezTo>
                <a:lnTo>
                  <a:pt x="0" y="449"/>
                </a:lnTo>
                <a:cubicBezTo>
                  <a:pt x="0" y="444"/>
                  <a:pt x="1" y="439"/>
                  <a:pt x="3" y="434"/>
                </a:cubicBezTo>
                <a:lnTo>
                  <a:pt x="111" y="149"/>
                </a:lnTo>
                <a:cubicBezTo>
                  <a:pt x="117" y="134"/>
                  <a:pt x="132" y="122"/>
                  <a:pt x="150" y="122"/>
                </a:cubicBezTo>
                <a:lnTo>
                  <a:pt x="218" y="122"/>
                </a:lnTo>
                <a:lnTo>
                  <a:pt x="354" y="122"/>
                </a:lnTo>
                <a:lnTo>
                  <a:pt x="354" y="150"/>
                </a:lnTo>
                <a:lnTo>
                  <a:pt x="354" y="204"/>
                </a:lnTo>
                <a:lnTo>
                  <a:pt x="218" y="204"/>
                </a:lnTo>
                <a:lnTo>
                  <a:pt x="178" y="204"/>
                </a:lnTo>
                <a:lnTo>
                  <a:pt x="100" y="408"/>
                </a:lnTo>
                <a:lnTo>
                  <a:pt x="192" y="408"/>
                </a:lnTo>
                <a:lnTo>
                  <a:pt x="232" y="408"/>
                </a:lnTo>
                <a:cubicBezTo>
                  <a:pt x="254" y="408"/>
                  <a:pt x="272" y="426"/>
                  <a:pt x="272" y="449"/>
                </a:cubicBezTo>
                <a:lnTo>
                  <a:pt x="272" y="490"/>
                </a:lnTo>
                <a:lnTo>
                  <a:pt x="599" y="490"/>
                </a:lnTo>
                <a:lnTo>
                  <a:pt x="599" y="449"/>
                </a:lnTo>
                <a:cubicBezTo>
                  <a:pt x="599" y="426"/>
                  <a:pt x="617" y="408"/>
                  <a:pt x="640" y="408"/>
                </a:cubicBezTo>
                <a:lnTo>
                  <a:pt x="681" y="408"/>
                </a:lnTo>
                <a:lnTo>
                  <a:pt x="771" y="408"/>
                </a:lnTo>
                <a:lnTo>
                  <a:pt x="693" y="204"/>
                </a:lnTo>
                <a:lnTo>
                  <a:pt x="653" y="204"/>
                </a:lnTo>
                <a:lnTo>
                  <a:pt x="517" y="204"/>
                </a:lnTo>
                <a:lnTo>
                  <a:pt x="517" y="150"/>
                </a:lnTo>
                <a:lnTo>
                  <a:pt x="517" y="122"/>
                </a:lnTo>
                <a:lnTo>
                  <a:pt x="653" y="122"/>
                </a:lnTo>
                <a:lnTo>
                  <a:pt x="722" y="122"/>
                </a:lnTo>
                <a:cubicBezTo>
                  <a:pt x="739" y="122"/>
                  <a:pt x="754" y="134"/>
                  <a:pt x="760" y="149"/>
                </a:cubicBezTo>
                <a:lnTo>
                  <a:pt x="869" y="434"/>
                </a:lnTo>
                <a:cubicBezTo>
                  <a:pt x="870" y="439"/>
                  <a:pt x="871" y="444"/>
                  <a:pt x="871" y="449"/>
                </a:cubicBezTo>
                <a:lnTo>
                  <a:pt x="871" y="708"/>
                </a:lnTo>
                <a:cubicBezTo>
                  <a:pt x="871" y="730"/>
                  <a:pt x="853" y="749"/>
                  <a:pt x="830" y="74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72" name="Freeform 366"/>
          <p:cNvSpPr/>
          <p:nvPr/>
        </p:nvSpPr>
        <p:spPr>
          <a:xfrm>
            <a:off x="8683560" y="863640"/>
            <a:ext cx="231840" cy="166680"/>
          </a:xfrm>
          <a:custGeom>
            <a:avLst/>
            <a:gdLst/>
            <a:ahLst/>
            <a:rect l="l" t="t" r="r" b="b"/>
            <a:pathLst>
              <a:path w="871" h="626">
                <a:moveTo>
                  <a:pt x="693" y="82"/>
                </a:moveTo>
                <a:lnTo>
                  <a:pt x="178" y="82"/>
                </a:lnTo>
                <a:lnTo>
                  <a:pt x="100" y="286"/>
                </a:lnTo>
                <a:lnTo>
                  <a:pt x="231" y="286"/>
                </a:lnTo>
                <a:cubicBezTo>
                  <a:pt x="254" y="286"/>
                  <a:pt x="272" y="304"/>
                  <a:pt x="272" y="327"/>
                </a:cubicBezTo>
                <a:lnTo>
                  <a:pt x="272" y="368"/>
                </a:lnTo>
                <a:lnTo>
                  <a:pt x="599" y="368"/>
                </a:lnTo>
                <a:lnTo>
                  <a:pt x="599" y="327"/>
                </a:lnTo>
                <a:cubicBezTo>
                  <a:pt x="599" y="304"/>
                  <a:pt x="617" y="286"/>
                  <a:pt x="639" y="286"/>
                </a:cubicBezTo>
                <a:lnTo>
                  <a:pt x="771" y="286"/>
                </a:lnTo>
                <a:lnTo>
                  <a:pt x="693" y="82"/>
                </a:lnTo>
                <a:close/>
                <a:moveTo>
                  <a:pt x="871" y="585"/>
                </a:moveTo>
                <a:cubicBezTo>
                  <a:pt x="871" y="608"/>
                  <a:pt x="852" y="626"/>
                  <a:pt x="830" y="626"/>
                </a:cubicBezTo>
                <a:lnTo>
                  <a:pt x="41" y="626"/>
                </a:lnTo>
                <a:cubicBezTo>
                  <a:pt x="18" y="626"/>
                  <a:pt x="0" y="608"/>
                  <a:pt x="0" y="585"/>
                </a:cubicBezTo>
                <a:lnTo>
                  <a:pt x="0" y="327"/>
                </a:lnTo>
                <a:cubicBezTo>
                  <a:pt x="0" y="322"/>
                  <a:pt x="1" y="317"/>
                  <a:pt x="2" y="312"/>
                </a:cubicBezTo>
                <a:lnTo>
                  <a:pt x="2" y="312"/>
                </a:lnTo>
                <a:lnTo>
                  <a:pt x="111" y="26"/>
                </a:lnTo>
                <a:lnTo>
                  <a:pt x="111" y="27"/>
                </a:lnTo>
                <a:cubicBezTo>
                  <a:pt x="117" y="11"/>
                  <a:pt x="132" y="0"/>
                  <a:pt x="149" y="0"/>
                </a:cubicBezTo>
                <a:lnTo>
                  <a:pt x="721" y="0"/>
                </a:lnTo>
                <a:cubicBezTo>
                  <a:pt x="738" y="0"/>
                  <a:pt x="753" y="11"/>
                  <a:pt x="759" y="27"/>
                </a:cubicBezTo>
                <a:lnTo>
                  <a:pt x="759" y="26"/>
                </a:lnTo>
                <a:lnTo>
                  <a:pt x="868" y="312"/>
                </a:lnTo>
                <a:lnTo>
                  <a:pt x="868" y="312"/>
                </a:lnTo>
                <a:cubicBezTo>
                  <a:pt x="870" y="317"/>
                  <a:pt x="871" y="322"/>
                  <a:pt x="871" y="327"/>
                </a:cubicBezTo>
                <a:lnTo>
                  <a:pt x="871" y="585"/>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73" name="Freeform 367"/>
          <p:cNvSpPr/>
          <p:nvPr/>
        </p:nvSpPr>
        <p:spPr>
          <a:xfrm>
            <a:off x="2289240" y="3882960"/>
            <a:ext cx="162000" cy="163440"/>
          </a:xfrm>
          <a:custGeom>
            <a:avLst/>
            <a:gdLst/>
            <a:ahLst/>
            <a:rect l="l" t="t" r="r" b="b"/>
            <a:pathLst>
              <a:path w="604" h="606">
                <a:moveTo>
                  <a:pt x="166" y="358"/>
                </a:moveTo>
                <a:lnTo>
                  <a:pt x="85" y="439"/>
                </a:lnTo>
                <a:cubicBezTo>
                  <a:pt x="63" y="461"/>
                  <a:pt x="63" y="498"/>
                  <a:pt x="85" y="520"/>
                </a:cubicBezTo>
                <a:cubicBezTo>
                  <a:pt x="107" y="543"/>
                  <a:pt x="144" y="543"/>
                  <a:pt x="166" y="520"/>
                </a:cubicBezTo>
                <a:lnTo>
                  <a:pt x="247" y="439"/>
                </a:lnTo>
                <a:cubicBezTo>
                  <a:pt x="248" y="438"/>
                  <a:pt x="248" y="438"/>
                  <a:pt x="249" y="437"/>
                </a:cubicBezTo>
                <a:lnTo>
                  <a:pt x="317" y="369"/>
                </a:lnTo>
                <a:cubicBezTo>
                  <a:pt x="328" y="407"/>
                  <a:pt x="318" y="450"/>
                  <a:pt x="288" y="480"/>
                </a:cubicBezTo>
                <a:lnTo>
                  <a:pt x="207" y="561"/>
                </a:lnTo>
                <a:cubicBezTo>
                  <a:pt x="162" y="606"/>
                  <a:pt x="89" y="606"/>
                  <a:pt x="45" y="561"/>
                </a:cubicBezTo>
                <a:cubicBezTo>
                  <a:pt x="0" y="516"/>
                  <a:pt x="0" y="443"/>
                  <a:pt x="45" y="398"/>
                </a:cubicBezTo>
                <a:lnTo>
                  <a:pt x="126" y="317"/>
                </a:lnTo>
                <a:cubicBezTo>
                  <a:pt x="156" y="287"/>
                  <a:pt x="198" y="277"/>
                  <a:pt x="236" y="287"/>
                </a:cubicBezTo>
                <a:lnTo>
                  <a:pt x="167" y="357"/>
                </a:lnTo>
                <a:cubicBezTo>
                  <a:pt x="167" y="357"/>
                  <a:pt x="166" y="358"/>
                  <a:pt x="166" y="358"/>
                </a:cubicBezTo>
                <a:close/>
                <a:moveTo>
                  <a:pt x="226" y="421"/>
                </a:moveTo>
                <a:lnTo>
                  <a:pt x="226" y="421"/>
                </a:lnTo>
                <a:cubicBezTo>
                  <a:pt x="221" y="426"/>
                  <a:pt x="214" y="430"/>
                  <a:pt x="205" y="430"/>
                </a:cubicBezTo>
                <a:cubicBezTo>
                  <a:pt x="189" y="430"/>
                  <a:pt x="176" y="417"/>
                  <a:pt x="176" y="401"/>
                </a:cubicBezTo>
                <a:cubicBezTo>
                  <a:pt x="176" y="392"/>
                  <a:pt x="180" y="385"/>
                  <a:pt x="186" y="379"/>
                </a:cubicBezTo>
                <a:lnTo>
                  <a:pt x="378" y="187"/>
                </a:lnTo>
                <a:cubicBezTo>
                  <a:pt x="384" y="181"/>
                  <a:pt x="391" y="177"/>
                  <a:pt x="400" y="177"/>
                </a:cubicBezTo>
                <a:cubicBezTo>
                  <a:pt x="416" y="177"/>
                  <a:pt x="429" y="190"/>
                  <a:pt x="429" y="206"/>
                </a:cubicBezTo>
                <a:cubicBezTo>
                  <a:pt x="429" y="214"/>
                  <a:pt x="426" y="222"/>
                  <a:pt x="420" y="227"/>
                </a:cubicBezTo>
                <a:lnTo>
                  <a:pt x="420" y="227"/>
                </a:lnTo>
                <a:lnTo>
                  <a:pt x="226" y="421"/>
                </a:lnTo>
                <a:close/>
                <a:moveTo>
                  <a:pt x="560" y="208"/>
                </a:moveTo>
                <a:lnTo>
                  <a:pt x="479" y="289"/>
                </a:lnTo>
                <a:cubicBezTo>
                  <a:pt x="448" y="319"/>
                  <a:pt x="406" y="329"/>
                  <a:pt x="367" y="319"/>
                </a:cubicBezTo>
                <a:lnTo>
                  <a:pt x="435" y="251"/>
                </a:lnTo>
                <a:cubicBezTo>
                  <a:pt x="436" y="250"/>
                  <a:pt x="437" y="249"/>
                  <a:pt x="438" y="248"/>
                </a:cubicBezTo>
                <a:lnTo>
                  <a:pt x="519" y="167"/>
                </a:lnTo>
                <a:cubicBezTo>
                  <a:pt x="541" y="145"/>
                  <a:pt x="541" y="108"/>
                  <a:pt x="519" y="86"/>
                </a:cubicBezTo>
                <a:cubicBezTo>
                  <a:pt x="497" y="63"/>
                  <a:pt x="460" y="63"/>
                  <a:pt x="438" y="86"/>
                </a:cubicBezTo>
                <a:lnTo>
                  <a:pt x="357" y="167"/>
                </a:lnTo>
                <a:cubicBezTo>
                  <a:pt x="357" y="167"/>
                  <a:pt x="357" y="167"/>
                  <a:pt x="357" y="167"/>
                </a:cubicBezTo>
                <a:lnTo>
                  <a:pt x="357" y="167"/>
                </a:lnTo>
                <a:lnTo>
                  <a:pt x="287" y="237"/>
                </a:lnTo>
                <a:cubicBezTo>
                  <a:pt x="277" y="199"/>
                  <a:pt x="286" y="156"/>
                  <a:pt x="316" y="126"/>
                </a:cubicBezTo>
                <a:lnTo>
                  <a:pt x="397" y="45"/>
                </a:lnTo>
                <a:cubicBezTo>
                  <a:pt x="442" y="0"/>
                  <a:pt x="515" y="0"/>
                  <a:pt x="560" y="45"/>
                </a:cubicBezTo>
                <a:cubicBezTo>
                  <a:pt x="604" y="90"/>
                  <a:pt x="604" y="163"/>
                  <a:pt x="560" y="208"/>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74" name="Freeform 368"/>
          <p:cNvSpPr/>
          <p:nvPr/>
        </p:nvSpPr>
        <p:spPr>
          <a:xfrm>
            <a:off x="8366040" y="3568680"/>
            <a:ext cx="216000" cy="196920"/>
          </a:xfrm>
          <a:custGeom>
            <a:avLst/>
            <a:gdLst/>
            <a:ahLst/>
            <a:rect l="l" t="t" r="r" b="b"/>
            <a:pathLst>
              <a:path w="809" h="734">
                <a:moveTo>
                  <a:pt x="733" y="76"/>
                </a:moveTo>
                <a:lnTo>
                  <a:pt x="75" y="76"/>
                </a:lnTo>
                <a:lnTo>
                  <a:pt x="75" y="544"/>
                </a:lnTo>
                <a:lnTo>
                  <a:pt x="126" y="544"/>
                </a:lnTo>
                <a:lnTo>
                  <a:pt x="164" y="544"/>
                </a:lnTo>
                <a:lnTo>
                  <a:pt x="164" y="604"/>
                </a:lnTo>
                <a:lnTo>
                  <a:pt x="224" y="544"/>
                </a:lnTo>
                <a:lnTo>
                  <a:pt x="328" y="544"/>
                </a:lnTo>
                <a:lnTo>
                  <a:pt x="733" y="544"/>
                </a:lnTo>
                <a:lnTo>
                  <a:pt x="733" y="76"/>
                </a:lnTo>
                <a:close/>
                <a:moveTo>
                  <a:pt x="771" y="620"/>
                </a:moveTo>
                <a:lnTo>
                  <a:pt x="265" y="620"/>
                </a:lnTo>
                <a:lnTo>
                  <a:pt x="256" y="620"/>
                </a:lnTo>
                <a:lnTo>
                  <a:pt x="153" y="722"/>
                </a:lnTo>
                <a:cubicBezTo>
                  <a:pt x="146" y="729"/>
                  <a:pt x="137" y="734"/>
                  <a:pt x="126" y="734"/>
                </a:cubicBezTo>
                <a:cubicBezTo>
                  <a:pt x="126" y="734"/>
                  <a:pt x="126" y="734"/>
                  <a:pt x="126" y="734"/>
                </a:cubicBezTo>
                <a:cubicBezTo>
                  <a:pt x="115" y="733"/>
                  <a:pt x="106" y="729"/>
                  <a:pt x="99" y="722"/>
                </a:cubicBezTo>
                <a:cubicBezTo>
                  <a:pt x="99" y="722"/>
                  <a:pt x="99" y="722"/>
                  <a:pt x="99" y="722"/>
                </a:cubicBezTo>
                <a:cubicBezTo>
                  <a:pt x="97" y="720"/>
                  <a:pt x="96" y="719"/>
                  <a:pt x="95" y="717"/>
                </a:cubicBezTo>
                <a:cubicBezTo>
                  <a:pt x="94" y="716"/>
                  <a:pt x="94" y="715"/>
                  <a:pt x="93" y="714"/>
                </a:cubicBezTo>
                <a:cubicBezTo>
                  <a:pt x="93" y="713"/>
                  <a:pt x="92" y="712"/>
                  <a:pt x="91" y="710"/>
                </a:cubicBezTo>
                <a:cubicBezTo>
                  <a:pt x="91" y="710"/>
                  <a:pt x="91" y="709"/>
                  <a:pt x="90" y="708"/>
                </a:cubicBezTo>
                <a:cubicBezTo>
                  <a:pt x="90" y="707"/>
                  <a:pt x="89" y="705"/>
                  <a:pt x="89" y="703"/>
                </a:cubicBezTo>
                <a:cubicBezTo>
                  <a:pt x="88" y="701"/>
                  <a:pt x="88" y="698"/>
                  <a:pt x="88" y="696"/>
                </a:cubicBezTo>
                <a:lnTo>
                  <a:pt x="88" y="620"/>
                </a:lnTo>
                <a:lnTo>
                  <a:pt x="38" y="620"/>
                </a:lnTo>
                <a:cubicBezTo>
                  <a:pt x="17" y="620"/>
                  <a:pt x="0" y="603"/>
                  <a:pt x="0" y="582"/>
                </a:cubicBezTo>
                <a:lnTo>
                  <a:pt x="0" y="38"/>
                </a:lnTo>
                <a:cubicBezTo>
                  <a:pt x="0" y="17"/>
                  <a:pt x="17" y="0"/>
                  <a:pt x="38" y="0"/>
                </a:cubicBezTo>
                <a:lnTo>
                  <a:pt x="771" y="0"/>
                </a:lnTo>
                <a:cubicBezTo>
                  <a:pt x="792" y="0"/>
                  <a:pt x="809" y="17"/>
                  <a:pt x="809" y="38"/>
                </a:cubicBezTo>
                <a:lnTo>
                  <a:pt x="809" y="582"/>
                </a:lnTo>
                <a:cubicBezTo>
                  <a:pt x="809" y="603"/>
                  <a:pt x="792" y="620"/>
                  <a:pt x="771" y="62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75" name="Freeform 369"/>
          <p:cNvSpPr/>
          <p:nvPr/>
        </p:nvSpPr>
        <p:spPr>
          <a:xfrm>
            <a:off x="9009000" y="1177920"/>
            <a:ext cx="262080" cy="152280"/>
          </a:xfrm>
          <a:custGeom>
            <a:avLst/>
            <a:gdLst/>
            <a:ahLst/>
            <a:rect l="l" t="t" r="r" b="b"/>
            <a:pathLst>
              <a:path w="984" h="574">
                <a:moveTo>
                  <a:pt x="605" y="133"/>
                </a:moveTo>
                <a:cubicBezTo>
                  <a:pt x="574" y="109"/>
                  <a:pt x="536" y="95"/>
                  <a:pt x="494" y="95"/>
                </a:cubicBezTo>
                <a:cubicBezTo>
                  <a:pt x="392" y="95"/>
                  <a:pt x="310" y="177"/>
                  <a:pt x="310" y="279"/>
                </a:cubicBezTo>
                <a:cubicBezTo>
                  <a:pt x="310" y="295"/>
                  <a:pt x="312" y="311"/>
                  <a:pt x="316" y="326"/>
                </a:cubicBezTo>
                <a:lnTo>
                  <a:pt x="156" y="432"/>
                </a:lnTo>
                <a:lnTo>
                  <a:pt x="148" y="438"/>
                </a:lnTo>
                <a:cubicBezTo>
                  <a:pt x="138" y="431"/>
                  <a:pt x="129" y="423"/>
                  <a:pt x="120" y="416"/>
                </a:cubicBezTo>
                <a:cubicBezTo>
                  <a:pt x="82" y="385"/>
                  <a:pt x="45" y="351"/>
                  <a:pt x="13" y="313"/>
                </a:cubicBezTo>
                <a:cubicBezTo>
                  <a:pt x="0" y="297"/>
                  <a:pt x="0" y="277"/>
                  <a:pt x="13" y="260"/>
                </a:cubicBezTo>
                <a:cubicBezTo>
                  <a:pt x="24" y="248"/>
                  <a:pt x="35" y="236"/>
                  <a:pt x="46" y="225"/>
                </a:cubicBezTo>
                <a:cubicBezTo>
                  <a:pt x="107" y="163"/>
                  <a:pt x="178" y="107"/>
                  <a:pt x="254" y="67"/>
                </a:cubicBezTo>
                <a:cubicBezTo>
                  <a:pt x="303" y="41"/>
                  <a:pt x="356" y="21"/>
                  <a:pt x="410" y="11"/>
                </a:cubicBezTo>
                <a:cubicBezTo>
                  <a:pt x="470" y="0"/>
                  <a:pt x="530" y="0"/>
                  <a:pt x="589" y="13"/>
                </a:cubicBezTo>
                <a:cubicBezTo>
                  <a:pt x="634" y="23"/>
                  <a:pt x="676" y="39"/>
                  <a:pt x="717" y="59"/>
                </a:cubicBezTo>
                <a:lnTo>
                  <a:pt x="708" y="64"/>
                </a:lnTo>
                <a:lnTo>
                  <a:pt x="605" y="133"/>
                </a:lnTo>
                <a:close/>
                <a:moveTo>
                  <a:pt x="494" y="187"/>
                </a:moveTo>
                <a:cubicBezTo>
                  <a:pt x="502" y="187"/>
                  <a:pt x="511" y="188"/>
                  <a:pt x="519" y="191"/>
                </a:cubicBezTo>
                <a:lnTo>
                  <a:pt x="402" y="268"/>
                </a:lnTo>
                <a:cubicBezTo>
                  <a:pt x="408" y="223"/>
                  <a:pt x="446" y="187"/>
                  <a:pt x="494" y="187"/>
                </a:cubicBezTo>
                <a:close/>
                <a:moveTo>
                  <a:pt x="897" y="45"/>
                </a:moveTo>
                <a:lnTo>
                  <a:pt x="100" y="566"/>
                </a:lnTo>
                <a:lnTo>
                  <a:pt x="100" y="567"/>
                </a:lnTo>
                <a:cubicBezTo>
                  <a:pt x="96" y="569"/>
                  <a:pt x="92" y="570"/>
                  <a:pt x="87" y="570"/>
                </a:cubicBezTo>
                <a:cubicBezTo>
                  <a:pt x="75" y="570"/>
                  <a:pt x="64" y="560"/>
                  <a:pt x="64" y="547"/>
                </a:cubicBezTo>
                <a:cubicBezTo>
                  <a:pt x="64" y="539"/>
                  <a:pt x="69" y="532"/>
                  <a:pt x="75" y="528"/>
                </a:cubicBezTo>
                <a:lnTo>
                  <a:pt x="872" y="7"/>
                </a:lnTo>
                <a:lnTo>
                  <a:pt x="872" y="7"/>
                </a:lnTo>
                <a:lnTo>
                  <a:pt x="872" y="7"/>
                </a:lnTo>
                <a:cubicBezTo>
                  <a:pt x="876" y="5"/>
                  <a:pt x="880" y="3"/>
                  <a:pt x="885" y="3"/>
                </a:cubicBezTo>
                <a:cubicBezTo>
                  <a:pt x="897" y="3"/>
                  <a:pt x="908" y="13"/>
                  <a:pt x="908" y="26"/>
                </a:cubicBezTo>
                <a:cubicBezTo>
                  <a:pt x="908" y="34"/>
                  <a:pt x="904" y="41"/>
                  <a:pt x="897" y="45"/>
                </a:cubicBezTo>
                <a:close/>
                <a:moveTo>
                  <a:pt x="494" y="371"/>
                </a:moveTo>
                <a:cubicBezTo>
                  <a:pt x="488" y="371"/>
                  <a:pt x="482" y="370"/>
                  <a:pt x="476" y="369"/>
                </a:cubicBezTo>
                <a:lnTo>
                  <a:pt x="584" y="299"/>
                </a:lnTo>
                <a:cubicBezTo>
                  <a:pt x="575" y="340"/>
                  <a:pt x="538" y="371"/>
                  <a:pt x="494" y="371"/>
                </a:cubicBezTo>
                <a:close/>
                <a:moveTo>
                  <a:pt x="984" y="289"/>
                </a:moveTo>
                <a:cubicBezTo>
                  <a:pt x="984" y="289"/>
                  <a:pt x="984" y="290"/>
                  <a:pt x="984" y="290"/>
                </a:cubicBezTo>
                <a:cubicBezTo>
                  <a:pt x="984" y="290"/>
                  <a:pt x="984" y="290"/>
                  <a:pt x="984" y="290"/>
                </a:cubicBezTo>
                <a:cubicBezTo>
                  <a:pt x="984" y="291"/>
                  <a:pt x="984" y="291"/>
                  <a:pt x="984" y="291"/>
                </a:cubicBezTo>
                <a:cubicBezTo>
                  <a:pt x="984" y="292"/>
                  <a:pt x="984" y="292"/>
                  <a:pt x="984" y="292"/>
                </a:cubicBezTo>
                <a:cubicBezTo>
                  <a:pt x="984" y="292"/>
                  <a:pt x="984" y="293"/>
                  <a:pt x="984" y="293"/>
                </a:cubicBezTo>
                <a:cubicBezTo>
                  <a:pt x="983" y="300"/>
                  <a:pt x="979" y="308"/>
                  <a:pt x="974" y="313"/>
                </a:cubicBezTo>
                <a:cubicBezTo>
                  <a:pt x="963" y="326"/>
                  <a:pt x="952" y="337"/>
                  <a:pt x="941" y="349"/>
                </a:cubicBezTo>
                <a:cubicBezTo>
                  <a:pt x="880" y="411"/>
                  <a:pt x="810" y="466"/>
                  <a:pt x="733" y="506"/>
                </a:cubicBezTo>
                <a:cubicBezTo>
                  <a:pt x="684" y="532"/>
                  <a:pt x="631" y="553"/>
                  <a:pt x="577" y="563"/>
                </a:cubicBezTo>
                <a:cubicBezTo>
                  <a:pt x="517" y="574"/>
                  <a:pt x="457" y="573"/>
                  <a:pt x="398" y="560"/>
                </a:cubicBezTo>
                <a:cubicBezTo>
                  <a:pt x="350" y="550"/>
                  <a:pt x="305" y="533"/>
                  <a:pt x="262" y="510"/>
                </a:cubicBezTo>
                <a:lnTo>
                  <a:pt x="264" y="509"/>
                </a:lnTo>
                <a:lnTo>
                  <a:pt x="386" y="428"/>
                </a:lnTo>
                <a:cubicBezTo>
                  <a:pt x="417" y="450"/>
                  <a:pt x="454" y="463"/>
                  <a:pt x="494" y="463"/>
                </a:cubicBezTo>
                <a:cubicBezTo>
                  <a:pt x="595" y="463"/>
                  <a:pt x="678" y="381"/>
                  <a:pt x="678" y="279"/>
                </a:cubicBezTo>
                <a:cubicBezTo>
                  <a:pt x="678" y="266"/>
                  <a:pt x="676" y="252"/>
                  <a:pt x="673" y="240"/>
                </a:cubicBezTo>
                <a:lnTo>
                  <a:pt x="835" y="133"/>
                </a:lnTo>
                <a:cubicBezTo>
                  <a:pt x="846" y="141"/>
                  <a:pt x="857" y="149"/>
                  <a:pt x="867" y="158"/>
                </a:cubicBezTo>
                <a:cubicBezTo>
                  <a:pt x="905" y="189"/>
                  <a:pt x="942" y="222"/>
                  <a:pt x="974" y="260"/>
                </a:cubicBezTo>
                <a:cubicBezTo>
                  <a:pt x="979" y="266"/>
                  <a:pt x="983" y="273"/>
                  <a:pt x="984" y="281"/>
                </a:cubicBezTo>
                <a:cubicBezTo>
                  <a:pt x="984" y="281"/>
                  <a:pt x="984" y="281"/>
                  <a:pt x="984" y="281"/>
                </a:cubicBezTo>
                <a:cubicBezTo>
                  <a:pt x="984" y="281"/>
                  <a:pt x="984" y="282"/>
                  <a:pt x="984" y="282"/>
                </a:cubicBezTo>
                <a:cubicBezTo>
                  <a:pt x="984" y="282"/>
                  <a:pt x="984" y="283"/>
                  <a:pt x="984" y="283"/>
                </a:cubicBezTo>
                <a:cubicBezTo>
                  <a:pt x="984" y="283"/>
                  <a:pt x="984" y="283"/>
                  <a:pt x="984" y="284"/>
                </a:cubicBezTo>
                <a:cubicBezTo>
                  <a:pt x="984" y="284"/>
                  <a:pt x="984" y="284"/>
                  <a:pt x="984" y="285"/>
                </a:cubicBezTo>
                <a:cubicBezTo>
                  <a:pt x="984" y="286"/>
                  <a:pt x="984" y="286"/>
                  <a:pt x="984" y="287"/>
                </a:cubicBezTo>
                <a:cubicBezTo>
                  <a:pt x="984" y="287"/>
                  <a:pt x="984" y="288"/>
                  <a:pt x="984" y="28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76" name="Freeform 370"/>
          <p:cNvSpPr/>
          <p:nvPr/>
        </p:nvSpPr>
        <p:spPr>
          <a:xfrm>
            <a:off x="7304040" y="4487760"/>
            <a:ext cx="238320" cy="198720"/>
          </a:xfrm>
          <a:custGeom>
            <a:avLst/>
            <a:gdLst/>
            <a:ahLst/>
            <a:rect l="l" t="t" r="r" b="b"/>
            <a:pathLst>
              <a:path w="894" h="738">
                <a:moveTo>
                  <a:pt x="754" y="738"/>
                </a:moveTo>
                <a:lnTo>
                  <a:pt x="706" y="690"/>
                </a:lnTo>
                <a:cubicBezTo>
                  <a:pt x="781" y="604"/>
                  <a:pt x="826" y="492"/>
                  <a:pt x="826" y="369"/>
                </a:cubicBezTo>
                <a:cubicBezTo>
                  <a:pt x="826" y="246"/>
                  <a:pt x="781" y="134"/>
                  <a:pt x="706" y="48"/>
                </a:cubicBezTo>
                <a:lnTo>
                  <a:pt x="754" y="0"/>
                </a:lnTo>
                <a:cubicBezTo>
                  <a:pt x="841" y="99"/>
                  <a:pt x="894" y="228"/>
                  <a:pt x="894" y="369"/>
                </a:cubicBezTo>
                <a:cubicBezTo>
                  <a:pt x="894" y="510"/>
                  <a:pt x="841" y="639"/>
                  <a:pt x="754" y="738"/>
                </a:cubicBezTo>
                <a:close/>
                <a:moveTo>
                  <a:pt x="422" y="639"/>
                </a:moveTo>
                <a:cubicBezTo>
                  <a:pt x="411" y="639"/>
                  <a:pt x="400" y="635"/>
                  <a:pt x="392" y="629"/>
                </a:cubicBezTo>
                <a:lnTo>
                  <a:pt x="392" y="629"/>
                </a:lnTo>
                <a:lnTo>
                  <a:pt x="220" y="504"/>
                </a:lnTo>
                <a:lnTo>
                  <a:pt x="51" y="504"/>
                </a:lnTo>
                <a:cubicBezTo>
                  <a:pt x="23" y="504"/>
                  <a:pt x="0" y="481"/>
                  <a:pt x="0" y="453"/>
                </a:cubicBezTo>
                <a:lnTo>
                  <a:pt x="0" y="285"/>
                </a:lnTo>
                <a:cubicBezTo>
                  <a:pt x="0" y="257"/>
                  <a:pt x="23" y="234"/>
                  <a:pt x="51" y="234"/>
                </a:cubicBezTo>
                <a:lnTo>
                  <a:pt x="51" y="234"/>
                </a:lnTo>
                <a:lnTo>
                  <a:pt x="218" y="234"/>
                </a:lnTo>
                <a:lnTo>
                  <a:pt x="390" y="94"/>
                </a:lnTo>
                <a:lnTo>
                  <a:pt x="390" y="94"/>
                </a:lnTo>
                <a:cubicBezTo>
                  <a:pt x="399" y="87"/>
                  <a:pt x="410" y="83"/>
                  <a:pt x="422" y="83"/>
                </a:cubicBezTo>
                <a:cubicBezTo>
                  <a:pt x="450" y="82"/>
                  <a:pt x="472" y="105"/>
                  <a:pt x="472" y="133"/>
                </a:cubicBezTo>
                <a:lnTo>
                  <a:pt x="472" y="285"/>
                </a:lnTo>
                <a:lnTo>
                  <a:pt x="472" y="403"/>
                </a:lnTo>
                <a:lnTo>
                  <a:pt x="472" y="453"/>
                </a:lnTo>
                <a:lnTo>
                  <a:pt x="472" y="504"/>
                </a:lnTo>
                <a:lnTo>
                  <a:pt x="472" y="588"/>
                </a:lnTo>
                <a:cubicBezTo>
                  <a:pt x="472" y="616"/>
                  <a:pt x="450" y="639"/>
                  <a:pt x="422" y="639"/>
                </a:cubicBezTo>
                <a:close/>
                <a:moveTo>
                  <a:pt x="622" y="606"/>
                </a:moveTo>
                <a:lnTo>
                  <a:pt x="574" y="558"/>
                </a:lnTo>
                <a:cubicBezTo>
                  <a:pt x="616" y="506"/>
                  <a:pt x="641" y="441"/>
                  <a:pt x="641" y="369"/>
                </a:cubicBezTo>
                <a:cubicBezTo>
                  <a:pt x="641" y="297"/>
                  <a:pt x="616" y="232"/>
                  <a:pt x="574" y="180"/>
                </a:cubicBezTo>
                <a:lnTo>
                  <a:pt x="622" y="132"/>
                </a:lnTo>
                <a:cubicBezTo>
                  <a:pt x="676" y="196"/>
                  <a:pt x="708" y="279"/>
                  <a:pt x="708" y="369"/>
                </a:cubicBezTo>
                <a:cubicBezTo>
                  <a:pt x="708" y="459"/>
                  <a:pt x="676" y="542"/>
                  <a:pt x="622" y="60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77" name="Freeform 371"/>
          <p:cNvSpPr/>
          <p:nvPr/>
        </p:nvSpPr>
        <p:spPr>
          <a:xfrm>
            <a:off x="7705800" y="4513320"/>
            <a:ext cx="181080" cy="149040"/>
          </a:xfrm>
          <a:custGeom>
            <a:avLst/>
            <a:gdLst/>
            <a:ahLst/>
            <a:rect l="l" t="t" r="r" b="b"/>
            <a:pathLst>
              <a:path w="678" h="558">
                <a:moveTo>
                  <a:pt x="551" y="321"/>
                </a:moveTo>
                <a:lnTo>
                  <a:pt x="551" y="372"/>
                </a:lnTo>
                <a:lnTo>
                  <a:pt x="551" y="423"/>
                </a:lnTo>
                <a:lnTo>
                  <a:pt x="551" y="507"/>
                </a:lnTo>
                <a:cubicBezTo>
                  <a:pt x="551" y="535"/>
                  <a:pt x="528" y="558"/>
                  <a:pt x="500" y="558"/>
                </a:cubicBezTo>
                <a:cubicBezTo>
                  <a:pt x="489" y="558"/>
                  <a:pt x="479" y="554"/>
                  <a:pt x="471" y="548"/>
                </a:cubicBezTo>
                <a:lnTo>
                  <a:pt x="471" y="549"/>
                </a:lnTo>
                <a:lnTo>
                  <a:pt x="298" y="423"/>
                </a:lnTo>
                <a:lnTo>
                  <a:pt x="265" y="423"/>
                </a:lnTo>
                <a:lnTo>
                  <a:pt x="551" y="229"/>
                </a:lnTo>
                <a:lnTo>
                  <a:pt x="551" y="321"/>
                </a:lnTo>
                <a:close/>
                <a:moveTo>
                  <a:pt x="77" y="203"/>
                </a:moveTo>
                <a:cubicBezTo>
                  <a:pt x="77" y="175"/>
                  <a:pt x="100" y="152"/>
                  <a:pt x="128" y="152"/>
                </a:cubicBezTo>
                <a:lnTo>
                  <a:pt x="128" y="152"/>
                </a:lnTo>
                <a:lnTo>
                  <a:pt x="296" y="152"/>
                </a:lnTo>
                <a:lnTo>
                  <a:pt x="468" y="11"/>
                </a:lnTo>
                <a:lnTo>
                  <a:pt x="468" y="12"/>
                </a:lnTo>
                <a:cubicBezTo>
                  <a:pt x="477" y="4"/>
                  <a:pt x="488" y="0"/>
                  <a:pt x="500" y="0"/>
                </a:cubicBezTo>
                <a:cubicBezTo>
                  <a:pt x="527" y="0"/>
                  <a:pt x="548" y="20"/>
                  <a:pt x="551" y="46"/>
                </a:cubicBezTo>
                <a:lnTo>
                  <a:pt x="77" y="366"/>
                </a:lnTo>
                <a:lnTo>
                  <a:pt x="77" y="203"/>
                </a:lnTo>
                <a:close/>
                <a:moveTo>
                  <a:pt x="667" y="90"/>
                </a:moveTo>
                <a:lnTo>
                  <a:pt x="39" y="515"/>
                </a:lnTo>
                <a:cubicBezTo>
                  <a:pt x="35" y="518"/>
                  <a:pt x="30" y="519"/>
                  <a:pt x="25" y="519"/>
                </a:cubicBezTo>
                <a:cubicBezTo>
                  <a:pt x="11" y="519"/>
                  <a:pt x="0" y="508"/>
                  <a:pt x="0" y="494"/>
                </a:cubicBezTo>
                <a:cubicBezTo>
                  <a:pt x="0" y="485"/>
                  <a:pt x="4" y="477"/>
                  <a:pt x="11" y="473"/>
                </a:cubicBezTo>
                <a:lnTo>
                  <a:pt x="638" y="48"/>
                </a:lnTo>
                <a:cubicBezTo>
                  <a:pt x="643" y="46"/>
                  <a:pt x="647" y="44"/>
                  <a:pt x="653" y="44"/>
                </a:cubicBezTo>
                <a:cubicBezTo>
                  <a:pt x="667" y="44"/>
                  <a:pt x="678" y="55"/>
                  <a:pt x="678" y="69"/>
                </a:cubicBezTo>
                <a:cubicBezTo>
                  <a:pt x="678" y="78"/>
                  <a:pt x="674" y="86"/>
                  <a:pt x="667" y="90"/>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78" name="Freeform 372"/>
          <p:cNvSpPr/>
          <p:nvPr/>
        </p:nvSpPr>
        <p:spPr>
          <a:xfrm>
            <a:off x="4199040" y="4564080"/>
            <a:ext cx="195120" cy="47520"/>
          </a:xfrm>
          <a:custGeom>
            <a:avLst/>
            <a:gdLst/>
            <a:ahLst/>
            <a:rect l="l" t="t" r="r" b="b"/>
            <a:pathLst>
              <a:path w="733" h="176">
                <a:moveTo>
                  <a:pt x="88" y="176"/>
                </a:moveTo>
                <a:cubicBezTo>
                  <a:pt x="39" y="176"/>
                  <a:pt x="0" y="137"/>
                  <a:pt x="0" y="88"/>
                </a:cubicBezTo>
                <a:cubicBezTo>
                  <a:pt x="0" y="39"/>
                  <a:pt x="39" y="0"/>
                  <a:pt x="88" y="0"/>
                </a:cubicBezTo>
                <a:cubicBezTo>
                  <a:pt x="136" y="0"/>
                  <a:pt x="176" y="39"/>
                  <a:pt x="176" y="88"/>
                </a:cubicBezTo>
                <a:cubicBezTo>
                  <a:pt x="176" y="137"/>
                  <a:pt x="136" y="176"/>
                  <a:pt x="88" y="176"/>
                </a:cubicBezTo>
                <a:close/>
                <a:moveTo>
                  <a:pt x="366" y="176"/>
                </a:moveTo>
                <a:cubicBezTo>
                  <a:pt x="318" y="176"/>
                  <a:pt x="278" y="137"/>
                  <a:pt x="278" y="88"/>
                </a:cubicBezTo>
                <a:cubicBezTo>
                  <a:pt x="278" y="39"/>
                  <a:pt x="318" y="0"/>
                  <a:pt x="366" y="0"/>
                </a:cubicBezTo>
                <a:cubicBezTo>
                  <a:pt x="415" y="0"/>
                  <a:pt x="454" y="39"/>
                  <a:pt x="454" y="88"/>
                </a:cubicBezTo>
                <a:cubicBezTo>
                  <a:pt x="455" y="137"/>
                  <a:pt x="415" y="176"/>
                  <a:pt x="366" y="176"/>
                </a:cubicBezTo>
                <a:close/>
                <a:moveTo>
                  <a:pt x="645" y="176"/>
                </a:moveTo>
                <a:cubicBezTo>
                  <a:pt x="597" y="176"/>
                  <a:pt x="557" y="137"/>
                  <a:pt x="557" y="88"/>
                </a:cubicBezTo>
                <a:cubicBezTo>
                  <a:pt x="557" y="39"/>
                  <a:pt x="597" y="0"/>
                  <a:pt x="645" y="0"/>
                </a:cubicBezTo>
                <a:cubicBezTo>
                  <a:pt x="694" y="0"/>
                  <a:pt x="733" y="39"/>
                  <a:pt x="733" y="88"/>
                </a:cubicBezTo>
                <a:cubicBezTo>
                  <a:pt x="733" y="137"/>
                  <a:pt x="694" y="176"/>
                  <a:pt x="645" y="176"/>
                </a:cubicBezTo>
                <a:close/>
              </a:path>
            </a:pathLst>
          </a:custGeom>
          <a:solidFill>
            <a:srgbClr val="a6a6a6"/>
          </a:solidFill>
          <a:ln w="0">
            <a:noFill/>
          </a:ln>
        </p:spPr>
        <p:style>
          <a:lnRef idx="0"/>
          <a:fillRef idx="0"/>
          <a:effectRef idx="0"/>
          <a:fontRef idx="minor"/>
        </p:style>
        <p:txBody>
          <a:bodyPr lIns="145800" rIns="145800" tIns="-25200" bIns="-25200" anchor="t">
            <a:noAutofit/>
          </a:bodyPr>
          <a:p>
            <a:endParaRPr b="0" lang="en-US" sz="1800" spc="-1" strike="noStrike">
              <a:solidFill>
                <a:srgbClr val="000000"/>
              </a:solidFill>
              <a:latin typeface="Calibri"/>
            </a:endParaRPr>
          </a:p>
        </p:txBody>
      </p:sp>
      <p:sp>
        <p:nvSpPr>
          <p:cNvPr id="1979" name="Freeform 373"/>
          <p:cNvSpPr/>
          <p:nvPr/>
        </p:nvSpPr>
        <p:spPr>
          <a:xfrm>
            <a:off x="3914640" y="4505400"/>
            <a:ext cx="109800" cy="164880"/>
          </a:xfrm>
          <a:custGeom>
            <a:avLst/>
            <a:gdLst/>
            <a:ahLst/>
            <a:rect l="l" t="t" r="r" b="b"/>
            <a:pathLst>
              <a:path w="412" h="616">
                <a:moveTo>
                  <a:pt x="104" y="616"/>
                </a:moveTo>
                <a:cubicBezTo>
                  <a:pt x="116" y="616"/>
                  <a:pt x="127" y="611"/>
                  <a:pt x="134" y="604"/>
                </a:cubicBezTo>
                <a:lnTo>
                  <a:pt x="134" y="604"/>
                </a:lnTo>
                <a:lnTo>
                  <a:pt x="398" y="340"/>
                </a:lnTo>
                <a:lnTo>
                  <a:pt x="398" y="340"/>
                </a:lnTo>
                <a:cubicBezTo>
                  <a:pt x="407" y="332"/>
                  <a:pt x="412" y="320"/>
                  <a:pt x="412" y="308"/>
                </a:cubicBezTo>
                <a:cubicBezTo>
                  <a:pt x="412" y="308"/>
                  <a:pt x="412" y="308"/>
                  <a:pt x="412" y="308"/>
                </a:cubicBezTo>
                <a:cubicBezTo>
                  <a:pt x="412" y="295"/>
                  <a:pt x="407" y="284"/>
                  <a:pt x="398" y="276"/>
                </a:cubicBezTo>
                <a:lnTo>
                  <a:pt x="398" y="276"/>
                </a:lnTo>
                <a:lnTo>
                  <a:pt x="134" y="12"/>
                </a:lnTo>
                <a:lnTo>
                  <a:pt x="134" y="12"/>
                </a:lnTo>
                <a:cubicBezTo>
                  <a:pt x="126" y="5"/>
                  <a:pt x="116" y="0"/>
                  <a:pt x="104" y="0"/>
                </a:cubicBezTo>
                <a:cubicBezTo>
                  <a:pt x="84" y="0"/>
                  <a:pt x="64" y="0"/>
                  <a:pt x="44" y="0"/>
                </a:cubicBezTo>
                <a:cubicBezTo>
                  <a:pt x="20" y="0"/>
                  <a:pt x="0" y="20"/>
                  <a:pt x="0" y="44"/>
                </a:cubicBezTo>
                <a:cubicBezTo>
                  <a:pt x="0" y="57"/>
                  <a:pt x="6" y="69"/>
                  <a:pt x="16" y="77"/>
                </a:cubicBezTo>
                <a:lnTo>
                  <a:pt x="246" y="308"/>
                </a:lnTo>
                <a:lnTo>
                  <a:pt x="13" y="541"/>
                </a:lnTo>
                <a:lnTo>
                  <a:pt x="13" y="541"/>
                </a:lnTo>
                <a:cubicBezTo>
                  <a:pt x="5" y="549"/>
                  <a:pt x="0" y="560"/>
                  <a:pt x="0" y="572"/>
                </a:cubicBezTo>
                <a:cubicBezTo>
                  <a:pt x="0" y="596"/>
                  <a:pt x="20" y="616"/>
                  <a:pt x="44" y="616"/>
                </a:cubicBezTo>
                <a:cubicBezTo>
                  <a:pt x="64" y="616"/>
                  <a:pt x="84" y="616"/>
                  <a:pt x="104" y="61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80" name="Freeform 374"/>
          <p:cNvSpPr/>
          <p:nvPr/>
        </p:nvSpPr>
        <p:spPr>
          <a:xfrm>
            <a:off x="8383680" y="1982880"/>
            <a:ext cx="179280" cy="195120"/>
          </a:xfrm>
          <a:custGeom>
            <a:avLst/>
            <a:gdLst/>
            <a:ahLst/>
            <a:rect l="l" t="t" r="r" b="b"/>
            <a:pathLst>
              <a:path w="670" h="725">
                <a:moveTo>
                  <a:pt x="252" y="83"/>
                </a:moveTo>
                <a:lnTo>
                  <a:pt x="84" y="83"/>
                </a:lnTo>
                <a:lnTo>
                  <a:pt x="84" y="641"/>
                </a:lnTo>
                <a:lnTo>
                  <a:pt x="252" y="641"/>
                </a:lnTo>
                <a:cubicBezTo>
                  <a:pt x="275" y="641"/>
                  <a:pt x="293" y="660"/>
                  <a:pt x="293" y="683"/>
                </a:cubicBezTo>
                <a:cubicBezTo>
                  <a:pt x="293" y="706"/>
                  <a:pt x="275" y="725"/>
                  <a:pt x="252" y="725"/>
                </a:cubicBezTo>
                <a:lnTo>
                  <a:pt x="42" y="725"/>
                </a:lnTo>
                <a:cubicBezTo>
                  <a:pt x="19" y="725"/>
                  <a:pt x="0" y="706"/>
                  <a:pt x="0" y="683"/>
                </a:cubicBezTo>
                <a:lnTo>
                  <a:pt x="0" y="42"/>
                </a:lnTo>
                <a:cubicBezTo>
                  <a:pt x="0" y="18"/>
                  <a:pt x="19" y="0"/>
                  <a:pt x="42" y="0"/>
                </a:cubicBezTo>
                <a:lnTo>
                  <a:pt x="252" y="0"/>
                </a:lnTo>
                <a:cubicBezTo>
                  <a:pt x="275" y="0"/>
                  <a:pt x="293" y="18"/>
                  <a:pt x="293" y="42"/>
                </a:cubicBezTo>
                <a:cubicBezTo>
                  <a:pt x="293" y="65"/>
                  <a:pt x="275" y="83"/>
                  <a:pt x="252" y="83"/>
                </a:cubicBezTo>
                <a:close/>
                <a:moveTo>
                  <a:pt x="670" y="362"/>
                </a:moveTo>
                <a:cubicBezTo>
                  <a:pt x="670" y="375"/>
                  <a:pt x="665" y="386"/>
                  <a:pt x="656" y="393"/>
                </a:cubicBezTo>
                <a:lnTo>
                  <a:pt x="656" y="393"/>
                </a:lnTo>
                <a:lnTo>
                  <a:pt x="517" y="519"/>
                </a:lnTo>
                <a:cubicBezTo>
                  <a:pt x="509" y="526"/>
                  <a:pt x="499" y="530"/>
                  <a:pt x="489" y="530"/>
                </a:cubicBezTo>
                <a:cubicBezTo>
                  <a:pt x="466" y="530"/>
                  <a:pt x="447" y="511"/>
                  <a:pt x="447" y="488"/>
                </a:cubicBezTo>
                <a:cubicBezTo>
                  <a:pt x="447" y="476"/>
                  <a:pt x="452" y="465"/>
                  <a:pt x="461" y="457"/>
                </a:cubicBezTo>
                <a:lnTo>
                  <a:pt x="519" y="404"/>
                </a:lnTo>
                <a:lnTo>
                  <a:pt x="265" y="404"/>
                </a:lnTo>
                <a:cubicBezTo>
                  <a:pt x="242" y="404"/>
                  <a:pt x="224" y="386"/>
                  <a:pt x="224" y="362"/>
                </a:cubicBezTo>
                <a:cubicBezTo>
                  <a:pt x="224" y="339"/>
                  <a:pt x="242" y="321"/>
                  <a:pt x="265" y="321"/>
                </a:cubicBezTo>
                <a:lnTo>
                  <a:pt x="519" y="321"/>
                </a:lnTo>
                <a:lnTo>
                  <a:pt x="461" y="268"/>
                </a:lnTo>
                <a:cubicBezTo>
                  <a:pt x="452" y="260"/>
                  <a:pt x="447" y="249"/>
                  <a:pt x="447" y="237"/>
                </a:cubicBezTo>
                <a:cubicBezTo>
                  <a:pt x="447" y="214"/>
                  <a:pt x="466" y="195"/>
                  <a:pt x="489" y="195"/>
                </a:cubicBezTo>
                <a:cubicBezTo>
                  <a:pt x="499" y="195"/>
                  <a:pt x="509" y="199"/>
                  <a:pt x="517" y="206"/>
                </a:cubicBezTo>
                <a:lnTo>
                  <a:pt x="656" y="331"/>
                </a:lnTo>
                <a:cubicBezTo>
                  <a:pt x="665" y="339"/>
                  <a:pt x="670" y="350"/>
                  <a:pt x="670" y="36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81" name="Freeform 375"/>
          <p:cNvSpPr/>
          <p:nvPr/>
        </p:nvSpPr>
        <p:spPr>
          <a:xfrm>
            <a:off x="8035920" y="1982880"/>
            <a:ext cx="177840" cy="195120"/>
          </a:xfrm>
          <a:custGeom>
            <a:avLst/>
            <a:gdLst/>
            <a:ahLst/>
            <a:rect l="l" t="t" r="r" b="b"/>
            <a:pathLst>
              <a:path w="670" h="725">
                <a:moveTo>
                  <a:pt x="433" y="332"/>
                </a:moveTo>
                <a:cubicBezTo>
                  <a:pt x="442" y="340"/>
                  <a:pt x="447" y="351"/>
                  <a:pt x="447" y="363"/>
                </a:cubicBezTo>
                <a:cubicBezTo>
                  <a:pt x="447" y="376"/>
                  <a:pt x="442" y="387"/>
                  <a:pt x="433" y="394"/>
                </a:cubicBezTo>
                <a:lnTo>
                  <a:pt x="294" y="520"/>
                </a:lnTo>
                <a:cubicBezTo>
                  <a:pt x="286" y="527"/>
                  <a:pt x="276" y="531"/>
                  <a:pt x="266" y="531"/>
                </a:cubicBezTo>
                <a:cubicBezTo>
                  <a:pt x="242" y="531"/>
                  <a:pt x="224" y="512"/>
                  <a:pt x="224" y="489"/>
                </a:cubicBezTo>
                <a:cubicBezTo>
                  <a:pt x="224" y="477"/>
                  <a:pt x="229" y="465"/>
                  <a:pt x="238" y="458"/>
                </a:cubicBezTo>
                <a:lnTo>
                  <a:pt x="238" y="458"/>
                </a:lnTo>
                <a:lnTo>
                  <a:pt x="296" y="405"/>
                </a:lnTo>
                <a:lnTo>
                  <a:pt x="42" y="405"/>
                </a:lnTo>
                <a:cubicBezTo>
                  <a:pt x="19" y="405"/>
                  <a:pt x="0" y="386"/>
                  <a:pt x="0" y="363"/>
                </a:cubicBezTo>
                <a:cubicBezTo>
                  <a:pt x="0" y="340"/>
                  <a:pt x="19" y="321"/>
                  <a:pt x="42" y="321"/>
                </a:cubicBezTo>
                <a:lnTo>
                  <a:pt x="296" y="321"/>
                </a:lnTo>
                <a:lnTo>
                  <a:pt x="238" y="269"/>
                </a:lnTo>
                <a:cubicBezTo>
                  <a:pt x="229" y="261"/>
                  <a:pt x="224" y="250"/>
                  <a:pt x="224" y="238"/>
                </a:cubicBezTo>
                <a:cubicBezTo>
                  <a:pt x="224" y="215"/>
                  <a:pt x="242" y="196"/>
                  <a:pt x="266" y="196"/>
                </a:cubicBezTo>
                <a:cubicBezTo>
                  <a:pt x="276" y="196"/>
                  <a:pt x="286" y="200"/>
                  <a:pt x="294" y="207"/>
                </a:cubicBezTo>
                <a:lnTo>
                  <a:pt x="433" y="332"/>
                </a:lnTo>
                <a:close/>
                <a:moveTo>
                  <a:pt x="670" y="362"/>
                </a:moveTo>
                <a:lnTo>
                  <a:pt x="670" y="683"/>
                </a:lnTo>
                <a:cubicBezTo>
                  <a:pt x="670" y="706"/>
                  <a:pt x="651" y="725"/>
                  <a:pt x="628" y="725"/>
                </a:cubicBezTo>
                <a:lnTo>
                  <a:pt x="419" y="725"/>
                </a:lnTo>
                <a:cubicBezTo>
                  <a:pt x="396" y="725"/>
                  <a:pt x="377" y="706"/>
                  <a:pt x="377" y="683"/>
                </a:cubicBezTo>
                <a:cubicBezTo>
                  <a:pt x="377" y="660"/>
                  <a:pt x="396" y="641"/>
                  <a:pt x="419" y="641"/>
                </a:cubicBezTo>
                <a:lnTo>
                  <a:pt x="586" y="641"/>
                </a:lnTo>
                <a:lnTo>
                  <a:pt x="586" y="83"/>
                </a:lnTo>
                <a:lnTo>
                  <a:pt x="419" y="83"/>
                </a:lnTo>
                <a:cubicBezTo>
                  <a:pt x="396" y="83"/>
                  <a:pt x="377" y="65"/>
                  <a:pt x="377" y="42"/>
                </a:cubicBezTo>
                <a:cubicBezTo>
                  <a:pt x="377" y="18"/>
                  <a:pt x="396" y="0"/>
                  <a:pt x="419" y="0"/>
                </a:cubicBezTo>
                <a:lnTo>
                  <a:pt x="628" y="0"/>
                </a:lnTo>
                <a:cubicBezTo>
                  <a:pt x="651" y="0"/>
                  <a:pt x="670" y="18"/>
                  <a:pt x="670" y="42"/>
                </a:cubicBezTo>
                <a:lnTo>
                  <a:pt x="670" y="362"/>
                </a:lnTo>
                <a:cubicBezTo>
                  <a:pt x="670" y="362"/>
                  <a:pt x="670" y="362"/>
                  <a:pt x="670" y="362"/>
                </a:cubicBezTo>
                <a:cubicBezTo>
                  <a:pt x="670" y="362"/>
                  <a:pt x="670" y="362"/>
                  <a:pt x="670" y="362"/>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82" name="Freeform 376"/>
          <p:cNvSpPr/>
          <p:nvPr/>
        </p:nvSpPr>
        <p:spPr>
          <a:xfrm>
            <a:off x="6621480" y="4807080"/>
            <a:ext cx="189000" cy="188640"/>
          </a:xfrm>
          <a:custGeom>
            <a:avLst/>
            <a:gdLst/>
            <a:ahLst/>
            <a:rect l="l" t="t" r="r" b="b"/>
            <a:pathLst>
              <a:path w="705" h="705">
                <a:moveTo>
                  <a:pt x="353" y="319"/>
                </a:moveTo>
                <a:cubicBezTo>
                  <a:pt x="334" y="319"/>
                  <a:pt x="320" y="334"/>
                  <a:pt x="320" y="352"/>
                </a:cubicBezTo>
                <a:cubicBezTo>
                  <a:pt x="320" y="370"/>
                  <a:pt x="334" y="385"/>
                  <a:pt x="353" y="385"/>
                </a:cubicBezTo>
                <a:cubicBezTo>
                  <a:pt x="371" y="385"/>
                  <a:pt x="386" y="370"/>
                  <a:pt x="386" y="352"/>
                </a:cubicBezTo>
                <a:cubicBezTo>
                  <a:pt x="386" y="334"/>
                  <a:pt x="371" y="319"/>
                  <a:pt x="353" y="319"/>
                </a:cubicBezTo>
                <a:close/>
                <a:moveTo>
                  <a:pt x="275" y="418"/>
                </a:moveTo>
                <a:lnTo>
                  <a:pt x="176" y="176"/>
                </a:lnTo>
                <a:lnTo>
                  <a:pt x="430" y="275"/>
                </a:lnTo>
                <a:lnTo>
                  <a:pt x="529" y="528"/>
                </a:lnTo>
                <a:lnTo>
                  <a:pt x="275" y="418"/>
                </a:lnTo>
                <a:close/>
                <a:moveTo>
                  <a:pt x="353" y="66"/>
                </a:moveTo>
                <a:cubicBezTo>
                  <a:pt x="194" y="66"/>
                  <a:pt x="66" y="194"/>
                  <a:pt x="66" y="352"/>
                </a:cubicBezTo>
                <a:cubicBezTo>
                  <a:pt x="66" y="510"/>
                  <a:pt x="194" y="639"/>
                  <a:pt x="353" y="639"/>
                </a:cubicBezTo>
                <a:cubicBezTo>
                  <a:pt x="511" y="639"/>
                  <a:pt x="639" y="510"/>
                  <a:pt x="639" y="352"/>
                </a:cubicBezTo>
                <a:cubicBezTo>
                  <a:pt x="639" y="194"/>
                  <a:pt x="511" y="66"/>
                  <a:pt x="353" y="66"/>
                </a:cubicBezTo>
                <a:close/>
                <a:moveTo>
                  <a:pt x="353" y="705"/>
                </a:moveTo>
                <a:cubicBezTo>
                  <a:pt x="158" y="705"/>
                  <a:pt x="0" y="547"/>
                  <a:pt x="0" y="352"/>
                </a:cubicBezTo>
                <a:cubicBezTo>
                  <a:pt x="0" y="157"/>
                  <a:pt x="158" y="0"/>
                  <a:pt x="353" y="0"/>
                </a:cubicBezTo>
                <a:cubicBezTo>
                  <a:pt x="547" y="0"/>
                  <a:pt x="705" y="157"/>
                  <a:pt x="705" y="352"/>
                </a:cubicBezTo>
                <a:cubicBezTo>
                  <a:pt x="705" y="547"/>
                  <a:pt x="547" y="705"/>
                  <a:pt x="353" y="70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83" name="Freeform 377"/>
          <p:cNvSpPr/>
          <p:nvPr/>
        </p:nvSpPr>
        <p:spPr>
          <a:xfrm>
            <a:off x="3846600" y="4780080"/>
            <a:ext cx="244440" cy="244440"/>
          </a:xfrm>
          <a:custGeom>
            <a:avLst/>
            <a:gdLst/>
            <a:ahLst/>
            <a:rect l="l" t="t" r="r" b="b"/>
            <a:pathLst>
              <a:path w="912" h="912">
                <a:moveTo>
                  <a:pt x="456" y="499"/>
                </a:moveTo>
                <a:cubicBezTo>
                  <a:pt x="432" y="499"/>
                  <a:pt x="413" y="480"/>
                  <a:pt x="413" y="456"/>
                </a:cubicBezTo>
                <a:cubicBezTo>
                  <a:pt x="413" y="433"/>
                  <a:pt x="432" y="413"/>
                  <a:pt x="456" y="413"/>
                </a:cubicBezTo>
                <a:cubicBezTo>
                  <a:pt x="480" y="413"/>
                  <a:pt x="499" y="433"/>
                  <a:pt x="499" y="456"/>
                </a:cubicBezTo>
                <a:cubicBezTo>
                  <a:pt x="499" y="480"/>
                  <a:pt x="480" y="499"/>
                  <a:pt x="456" y="499"/>
                </a:cubicBezTo>
                <a:close/>
                <a:moveTo>
                  <a:pt x="656" y="413"/>
                </a:moveTo>
                <a:lnTo>
                  <a:pt x="737" y="413"/>
                </a:lnTo>
                <a:cubicBezTo>
                  <a:pt x="719" y="290"/>
                  <a:pt x="622" y="193"/>
                  <a:pt x="499" y="175"/>
                </a:cubicBezTo>
                <a:lnTo>
                  <a:pt x="499" y="257"/>
                </a:lnTo>
                <a:cubicBezTo>
                  <a:pt x="499" y="280"/>
                  <a:pt x="480" y="299"/>
                  <a:pt x="456" y="299"/>
                </a:cubicBezTo>
                <a:cubicBezTo>
                  <a:pt x="432" y="299"/>
                  <a:pt x="413" y="280"/>
                  <a:pt x="413" y="257"/>
                </a:cubicBezTo>
                <a:lnTo>
                  <a:pt x="413" y="175"/>
                </a:lnTo>
                <a:cubicBezTo>
                  <a:pt x="290" y="193"/>
                  <a:pt x="193" y="290"/>
                  <a:pt x="175" y="413"/>
                </a:cubicBezTo>
                <a:lnTo>
                  <a:pt x="257" y="413"/>
                </a:lnTo>
                <a:cubicBezTo>
                  <a:pt x="280" y="413"/>
                  <a:pt x="299" y="433"/>
                  <a:pt x="299" y="456"/>
                </a:cubicBezTo>
                <a:cubicBezTo>
                  <a:pt x="299" y="480"/>
                  <a:pt x="280" y="499"/>
                  <a:pt x="257" y="499"/>
                </a:cubicBezTo>
                <a:lnTo>
                  <a:pt x="175" y="499"/>
                </a:lnTo>
                <a:cubicBezTo>
                  <a:pt x="193" y="622"/>
                  <a:pt x="290" y="719"/>
                  <a:pt x="413" y="738"/>
                </a:cubicBezTo>
                <a:lnTo>
                  <a:pt x="413" y="656"/>
                </a:lnTo>
                <a:cubicBezTo>
                  <a:pt x="413" y="632"/>
                  <a:pt x="432" y="613"/>
                  <a:pt x="456" y="613"/>
                </a:cubicBezTo>
                <a:cubicBezTo>
                  <a:pt x="480" y="613"/>
                  <a:pt x="499" y="632"/>
                  <a:pt x="499" y="656"/>
                </a:cubicBezTo>
                <a:lnTo>
                  <a:pt x="499" y="738"/>
                </a:lnTo>
                <a:cubicBezTo>
                  <a:pt x="622" y="719"/>
                  <a:pt x="719" y="622"/>
                  <a:pt x="737" y="499"/>
                </a:cubicBezTo>
                <a:lnTo>
                  <a:pt x="656" y="499"/>
                </a:lnTo>
                <a:cubicBezTo>
                  <a:pt x="632" y="499"/>
                  <a:pt x="613" y="480"/>
                  <a:pt x="613" y="456"/>
                </a:cubicBezTo>
                <a:cubicBezTo>
                  <a:pt x="613" y="433"/>
                  <a:pt x="632" y="413"/>
                  <a:pt x="656" y="413"/>
                </a:cubicBezTo>
                <a:close/>
                <a:moveTo>
                  <a:pt x="869" y="499"/>
                </a:moveTo>
                <a:lnTo>
                  <a:pt x="824" y="499"/>
                </a:lnTo>
                <a:cubicBezTo>
                  <a:pt x="804" y="669"/>
                  <a:pt x="669" y="804"/>
                  <a:pt x="499" y="824"/>
                </a:cubicBezTo>
                <a:lnTo>
                  <a:pt x="499" y="869"/>
                </a:lnTo>
                <a:cubicBezTo>
                  <a:pt x="499" y="893"/>
                  <a:pt x="480" y="912"/>
                  <a:pt x="456" y="912"/>
                </a:cubicBezTo>
                <a:cubicBezTo>
                  <a:pt x="432" y="912"/>
                  <a:pt x="413" y="893"/>
                  <a:pt x="413" y="869"/>
                </a:cubicBezTo>
                <a:lnTo>
                  <a:pt x="413" y="824"/>
                </a:lnTo>
                <a:cubicBezTo>
                  <a:pt x="243" y="804"/>
                  <a:pt x="108" y="669"/>
                  <a:pt x="88" y="499"/>
                </a:cubicBezTo>
                <a:lnTo>
                  <a:pt x="43" y="499"/>
                </a:lnTo>
                <a:cubicBezTo>
                  <a:pt x="19" y="499"/>
                  <a:pt x="0" y="480"/>
                  <a:pt x="0" y="456"/>
                </a:cubicBezTo>
                <a:cubicBezTo>
                  <a:pt x="0" y="433"/>
                  <a:pt x="19" y="413"/>
                  <a:pt x="43" y="413"/>
                </a:cubicBezTo>
                <a:lnTo>
                  <a:pt x="88" y="413"/>
                </a:lnTo>
                <a:cubicBezTo>
                  <a:pt x="108" y="243"/>
                  <a:pt x="243" y="108"/>
                  <a:pt x="413" y="89"/>
                </a:cubicBezTo>
                <a:lnTo>
                  <a:pt x="413" y="43"/>
                </a:lnTo>
                <a:cubicBezTo>
                  <a:pt x="413" y="19"/>
                  <a:pt x="432" y="0"/>
                  <a:pt x="456" y="0"/>
                </a:cubicBezTo>
                <a:cubicBezTo>
                  <a:pt x="480" y="0"/>
                  <a:pt x="499" y="19"/>
                  <a:pt x="499" y="43"/>
                </a:cubicBezTo>
                <a:lnTo>
                  <a:pt x="499" y="89"/>
                </a:lnTo>
                <a:cubicBezTo>
                  <a:pt x="669" y="108"/>
                  <a:pt x="804" y="243"/>
                  <a:pt x="824" y="413"/>
                </a:cubicBezTo>
                <a:lnTo>
                  <a:pt x="869" y="413"/>
                </a:lnTo>
                <a:cubicBezTo>
                  <a:pt x="893" y="413"/>
                  <a:pt x="912" y="433"/>
                  <a:pt x="912" y="456"/>
                </a:cubicBezTo>
                <a:cubicBezTo>
                  <a:pt x="912" y="480"/>
                  <a:pt x="893" y="499"/>
                  <a:pt x="869" y="499"/>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84" name="Freeform 378"/>
          <p:cNvSpPr/>
          <p:nvPr/>
        </p:nvSpPr>
        <p:spPr>
          <a:xfrm>
            <a:off x="6299280" y="4811760"/>
            <a:ext cx="122040" cy="181080"/>
          </a:xfrm>
          <a:custGeom>
            <a:avLst/>
            <a:gdLst/>
            <a:ahLst/>
            <a:rect l="l" t="t" r="r" b="b"/>
            <a:pathLst>
              <a:path w="461" h="670">
                <a:moveTo>
                  <a:pt x="450" y="167"/>
                </a:moveTo>
                <a:cubicBezTo>
                  <a:pt x="448" y="158"/>
                  <a:pt x="443" y="148"/>
                  <a:pt x="440" y="140"/>
                </a:cubicBezTo>
                <a:cubicBezTo>
                  <a:pt x="397" y="37"/>
                  <a:pt x="303" y="0"/>
                  <a:pt x="227" y="0"/>
                </a:cubicBezTo>
                <a:cubicBezTo>
                  <a:pt x="126" y="0"/>
                  <a:pt x="15" y="68"/>
                  <a:pt x="0" y="208"/>
                </a:cubicBezTo>
                <a:lnTo>
                  <a:pt x="0" y="237"/>
                </a:lnTo>
                <a:cubicBezTo>
                  <a:pt x="0" y="238"/>
                  <a:pt x="0" y="248"/>
                  <a:pt x="1" y="254"/>
                </a:cubicBezTo>
                <a:cubicBezTo>
                  <a:pt x="9" y="321"/>
                  <a:pt x="62" y="391"/>
                  <a:pt x="101" y="458"/>
                </a:cubicBezTo>
                <a:cubicBezTo>
                  <a:pt x="143" y="530"/>
                  <a:pt x="187" y="600"/>
                  <a:pt x="231" y="670"/>
                </a:cubicBezTo>
                <a:cubicBezTo>
                  <a:pt x="257" y="624"/>
                  <a:pt x="284" y="578"/>
                  <a:pt x="310" y="533"/>
                </a:cubicBezTo>
                <a:cubicBezTo>
                  <a:pt x="318" y="520"/>
                  <a:pt x="326" y="507"/>
                  <a:pt x="333" y="495"/>
                </a:cubicBezTo>
                <a:cubicBezTo>
                  <a:pt x="338" y="486"/>
                  <a:pt x="347" y="478"/>
                  <a:pt x="351" y="470"/>
                </a:cubicBezTo>
                <a:cubicBezTo>
                  <a:pt x="393" y="393"/>
                  <a:pt x="461" y="315"/>
                  <a:pt x="461" y="238"/>
                </a:cubicBezTo>
                <a:lnTo>
                  <a:pt x="461" y="206"/>
                </a:lnTo>
                <a:cubicBezTo>
                  <a:pt x="461" y="198"/>
                  <a:pt x="451" y="169"/>
                  <a:pt x="450" y="167"/>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85" name="Freeform 379"/>
          <p:cNvSpPr/>
          <p:nvPr/>
        </p:nvSpPr>
        <p:spPr>
          <a:xfrm>
            <a:off x="5918040" y="4811760"/>
            <a:ext cx="123840" cy="181080"/>
          </a:xfrm>
          <a:custGeom>
            <a:avLst/>
            <a:gdLst/>
            <a:ahLst/>
            <a:rect l="l" t="t" r="r" b="b"/>
            <a:pathLst>
              <a:path w="462" h="670">
                <a:moveTo>
                  <a:pt x="451" y="167"/>
                </a:moveTo>
                <a:cubicBezTo>
                  <a:pt x="449" y="158"/>
                  <a:pt x="444" y="148"/>
                  <a:pt x="440" y="140"/>
                </a:cubicBezTo>
                <a:cubicBezTo>
                  <a:pt x="398" y="37"/>
                  <a:pt x="304" y="0"/>
                  <a:pt x="228" y="0"/>
                </a:cubicBezTo>
                <a:cubicBezTo>
                  <a:pt x="127" y="0"/>
                  <a:pt x="15" y="68"/>
                  <a:pt x="0" y="208"/>
                </a:cubicBezTo>
                <a:lnTo>
                  <a:pt x="0" y="237"/>
                </a:lnTo>
                <a:cubicBezTo>
                  <a:pt x="0" y="238"/>
                  <a:pt x="1" y="248"/>
                  <a:pt x="1" y="254"/>
                </a:cubicBezTo>
                <a:cubicBezTo>
                  <a:pt x="10" y="321"/>
                  <a:pt x="62" y="391"/>
                  <a:pt x="102" y="458"/>
                </a:cubicBezTo>
                <a:cubicBezTo>
                  <a:pt x="144" y="530"/>
                  <a:pt x="188" y="600"/>
                  <a:pt x="231" y="670"/>
                </a:cubicBezTo>
                <a:cubicBezTo>
                  <a:pt x="258" y="624"/>
                  <a:pt x="285" y="578"/>
                  <a:pt x="311" y="533"/>
                </a:cubicBezTo>
                <a:cubicBezTo>
                  <a:pt x="318" y="520"/>
                  <a:pt x="327" y="507"/>
                  <a:pt x="334" y="495"/>
                </a:cubicBezTo>
                <a:cubicBezTo>
                  <a:pt x="338" y="486"/>
                  <a:pt x="348" y="478"/>
                  <a:pt x="352" y="470"/>
                </a:cubicBezTo>
                <a:cubicBezTo>
                  <a:pt x="394" y="393"/>
                  <a:pt x="462" y="315"/>
                  <a:pt x="462" y="238"/>
                </a:cubicBezTo>
                <a:lnTo>
                  <a:pt x="462" y="206"/>
                </a:lnTo>
                <a:cubicBezTo>
                  <a:pt x="462" y="198"/>
                  <a:pt x="452" y="169"/>
                  <a:pt x="451" y="167"/>
                </a:cubicBezTo>
                <a:close/>
                <a:moveTo>
                  <a:pt x="233" y="174"/>
                </a:moveTo>
                <a:cubicBezTo>
                  <a:pt x="263" y="174"/>
                  <a:pt x="288" y="199"/>
                  <a:pt x="288" y="229"/>
                </a:cubicBezTo>
                <a:cubicBezTo>
                  <a:pt x="288" y="259"/>
                  <a:pt x="263" y="283"/>
                  <a:pt x="233" y="283"/>
                </a:cubicBezTo>
                <a:cubicBezTo>
                  <a:pt x="203" y="283"/>
                  <a:pt x="179" y="259"/>
                  <a:pt x="179" y="229"/>
                </a:cubicBezTo>
                <a:cubicBezTo>
                  <a:pt x="179" y="199"/>
                  <a:pt x="203" y="174"/>
                  <a:pt x="233" y="174"/>
                </a:cubicBezTo>
                <a:close/>
                <a:moveTo>
                  <a:pt x="233" y="61"/>
                </a:moveTo>
                <a:cubicBezTo>
                  <a:pt x="332" y="61"/>
                  <a:pt x="412" y="138"/>
                  <a:pt x="412" y="234"/>
                </a:cubicBezTo>
                <a:cubicBezTo>
                  <a:pt x="412" y="329"/>
                  <a:pt x="332" y="407"/>
                  <a:pt x="233" y="407"/>
                </a:cubicBezTo>
                <a:cubicBezTo>
                  <a:pt x="135" y="407"/>
                  <a:pt x="55" y="329"/>
                  <a:pt x="55" y="234"/>
                </a:cubicBezTo>
                <a:cubicBezTo>
                  <a:pt x="55" y="138"/>
                  <a:pt x="135" y="61"/>
                  <a:pt x="233" y="61"/>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86" name="Freeform 380"/>
          <p:cNvSpPr/>
          <p:nvPr/>
        </p:nvSpPr>
        <p:spPr>
          <a:xfrm>
            <a:off x="3605040" y="4505400"/>
            <a:ext cx="109800" cy="164880"/>
          </a:xfrm>
          <a:custGeom>
            <a:avLst/>
            <a:gdLst/>
            <a:ahLst/>
            <a:rect l="l" t="t" r="r" b="b"/>
            <a:pathLst>
              <a:path w="411" h="616">
                <a:moveTo>
                  <a:pt x="308" y="616"/>
                </a:moveTo>
                <a:cubicBezTo>
                  <a:pt x="296" y="616"/>
                  <a:pt x="285" y="611"/>
                  <a:pt x="277" y="604"/>
                </a:cubicBezTo>
                <a:lnTo>
                  <a:pt x="277" y="604"/>
                </a:lnTo>
                <a:lnTo>
                  <a:pt x="13" y="340"/>
                </a:lnTo>
                <a:lnTo>
                  <a:pt x="13" y="340"/>
                </a:lnTo>
                <a:cubicBezTo>
                  <a:pt x="5" y="332"/>
                  <a:pt x="0" y="320"/>
                  <a:pt x="0" y="308"/>
                </a:cubicBezTo>
                <a:cubicBezTo>
                  <a:pt x="0" y="308"/>
                  <a:pt x="0" y="308"/>
                  <a:pt x="0" y="308"/>
                </a:cubicBezTo>
                <a:cubicBezTo>
                  <a:pt x="0" y="295"/>
                  <a:pt x="5" y="284"/>
                  <a:pt x="13" y="276"/>
                </a:cubicBezTo>
                <a:lnTo>
                  <a:pt x="13" y="276"/>
                </a:lnTo>
                <a:lnTo>
                  <a:pt x="277" y="12"/>
                </a:lnTo>
                <a:lnTo>
                  <a:pt x="277" y="12"/>
                </a:lnTo>
                <a:cubicBezTo>
                  <a:pt x="285" y="5"/>
                  <a:pt x="296" y="0"/>
                  <a:pt x="308" y="0"/>
                </a:cubicBezTo>
                <a:cubicBezTo>
                  <a:pt x="328" y="0"/>
                  <a:pt x="347" y="0"/>
                  <a:pt x="367" y="0"/>
                </a:cubicBezTo>
                <a:cubicBezTo>
                  <a:pt x="392" y="0"/>
                  <a:pt x="411" y="20"/>
                  <a:pt x="411" y="44"/>
                </a:cubicBezTo>
                <a:cubicBezTo>
                  <a:pt x="411" y="57"/>
                  <a:pt x="405" y="69"/>
                  <a:pt x="396" y="77"/>
                </a:cubicBezTo>
                <a:lnTo>
                  <a:pt x="165" y="308"/>
                </a:lnTo>
                <a:lnTo>
                  <a:pt x="399" y="541"/>
                </a:lnTo>
                <a:lnTo>
                  <a:pt x="399" y="541"/>
                </a:lnTo>
                <a:cubicBezTo>
                  <a:pt x="407" y="549"/>
                  <a:pt x="411" y="560"/>
                  <a:pt x="411" y="572"/>
                </a:cubicBezTo>
                <a:cubicBezTo>
                  <a:pt x="411" y="596"/>
                  <a:pt x="392" y="616"/>
                  <a:pt x="367" y="616"/>
                </a:cubicBezTo>
                <a:cubicBezTo>
                  <a:pt x="347" y="616"/>
                  <a:pt x="328" y="616"/>
                  <a:pt x="308" y="616"/>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87" name="Freeform 381"/>
          <p:cNvSpPr/>
          <p:nvPr/>
        </p:nvSpPr>
        <p:spPr>
          <a:xfrm>
            <a:off x="3233880" y="4533840"/>
            <a:ext cx="164880" cy="108000"/>
          </a:xfrm>
          <a:custGeom>
            <a:avLst/>
            <a:gdLst/>
            <a:ahLst/>
            <a:rect l="l" t="t" r="r" b="b"/>
            <a:pathLst>
              <a:path w="616" h="412">
                <a:moveTo>
                  <a:pt x="0" y="308"/>
                </a:moveTo>
                <a:cubicBezTo>
                  <a:pt x="0" y="296"/>
                  <a:pt x="5" y="286"/>
                  <a:pt x="13" y="278"/>
                </a:cubicBezTo>
                <a:lnTo>
                  <a:pt x="13" y="278"/>
                </a:lnTo>
                <a:lnTo>
                  <a:pt x="277" y="14"/>
                </a:lnTo>
                <a:lnTo>
                  <a:pt x="277" y="14"/>
                </a:lnTo>
                <a:cubicBezTo>
                  <a:pt x="285" y="5"/>
                  <a:pt x="296" y="0"/>
                  <a:pt x="308" y="0"/>
                </a:cubicBezTo>
                <a:cubicBezTo>
                  <a:pt x="308" y="0"/>
                  <a:pt x="308" y="0"/>
                  <a:pt x="308" y="0"/>
                </a:cubicBezTo>
                <a:cubicBezTo>
                  <a:pt x="321" y="0"/>
                  <a:pt x="332" y="5"/>
                  <a:pt x="340" y="14"/>
                </a:cubicBezTo>
                <a:lnTo>
                  <a:pt x="340" y="14"/>
                </a:lnTo>
                <a:lnTo>
                  <a:pt x="604" y="278"/>
                </a:lnTo>
                <a:lnTo>
                  <a:pt x="604" y="278"/>
                </a:lnTo>
                <a:cubicBezTo>
                  <a:pt x="612" y="286"/>
                  <a:pt x="616" y="296"/>
                  <a:pt x="616" y="308"/>
                </a:cubicBezTo>
                <a:cubicBezTo>
                  <a:pt x="616" y="328"/>
                  <a:pt x="616" y="348"/>
                  <a:pt x="616" y="368"/>
                </a:cubicBezTo>
                <a:cubicBezTo>
                  <a:pt x="616" y="392"/>
                  <a:pt x="597" y="412"/>
                  <a:pt x="572" y="412"/>
                </a:cubicBezTo>
                <a:cubicBezTo>
                  <a:pt x="559" y="412"/>
                  <a:pt x="547" y="406"/>
                  <a:pt x="539" y="396"/>
                </a:cubicBezTo>
                <a:lnTo>
                  <a:pt x="308" y="166"/>
                </a:lnTo>
                <a:lnTo>
                  <a:pt x="75" y="399"/>
                </a:lnTo>
                <a:lnTo>
                  <a:pt x="75" y="399"/>
                </a:lnTo>
                <a:cubicBezTo>
                  <a:pt x="67" y="407"/>
                  <a:pt x="56" y="412"/>
                  <a:pt x="44" y="412"/>
                </a:cubicBezTo>
                <a:cubicBezTo>
                  <a:pt x="20" y="412"/>
                  <a:pt x="0" y="392"/>
                  <a:pt x="0" y="368"/>
                </a:cubicBezTo>
                <a:cubicBezTo>
                  <a:pt x="0" y="348"/>
                  <a:pt x="0" y="328"/>
                  <a:pt x="0" y="308"/>
                </a:cubicBezTo>
                <a:close/>
              </a:path>
            </a:pathLst>
          </a:custGeom>
          <a:solidFill>
            <a:srgbClr val="a6a6a6"/>
          </a:solidFill>
          <a:ln w="0">
            <a:noFill/>
          </a:ln>
        </p:spPr>
        <p:style>
          <a:lnRef idx="0"/>
          <a:fillRef idx="0"/>
          <a:effectRef idx="0"/>
          <a:fontRef idx="minor"/>
        </p:style>
        <p:txBody>
          <a:bodyPr lIns="145800" rIns="145800" tIns="35280" bIns="35280" anchor="t">
            <a:noAutofit/>
          </a:bodyPr>
          <a:p>
            <a:endParaRPr b="0" lang="en-US" sz="1800" spc="-1" strike="noStrike">
              <a:solidFill>
                <a:srgbClr val="000000"/>
              </a:solidFill>
              <a:latin typeface="Calibri"/>
            </a:endParaRPr>
          </a:p>
        </p:txBody>
      </p:sp>
      <p:sp>
        <p:nvSpPr>
          <p:cNvPr id="1988" name="Freeform 382"/>
          <p:cNvSpPr/>
          <p:nvPr/>
        </p:nvSpPr>
        <p:spPr>
          <a:xfrm>
            <a:off x="2922480" y="4533840"/>
            <a:ext cx="163800" cy="108000"/>
          </a:xfrm>
          <a:custGeom>
            <a:avLst/>
            <a:gdLst/>
            <a:ahLst/>
            <a:rect l="l" t="t" r="r" b="b"/>
            <a:pathLst>
              <a:path w="616" h="412">
                <a:moveTo>
                  <a:pt x="0" y="104"/>
                </a:moveTo>
                <a:cubicBezTo>
                  <a:pt x="0" y="116"/>
                  <a:pt x="5" y="126"/>
                  <a:pt x="13" y="134"/>
                </a:cubicBezTo>
                <a:lnTo>
                  <a:pt x="13" y="134"/>
                </a:lnTo>
                <a:lnTo>
                  <a:pt x="277" y="398"/>
                </a:lnTo>
                <a:lnTo>
                  <a:pt x="277" y="398"/>
                </a:lnTo>
                <a:cubicBezTo>
                  <a:pt x="285" y="407"/>
                  <a:pt x="296" y="412"/>
                  <a:pt x="308" y="412"/>
                </a:cubicBezTo>
                <a:cubicBezTo>
                  <a:pt x="308" y="412"/>
                  <a:pt x="308" y="412"/>
                  <a:pt x="308" y="412"/>
                </a:cubicBezTo>
                <a:cubicBezTo>
                  <a:pt x="321" y="412"/>
                  <a:pt x="332" y="407"/>
                  <a:pt x="340" y="398"/>
                </a:cubicBezTo>
                <a:lnTo>
                  <a:pt x="340" y="398"/>
                </a:lnTo>
                <a:lnTo>
                  <a:pt x="604" y="134"/>
                </a:lnTo>
                <a:lnTo>
                  <a:pt x="604" y="134"/>
                </a:lnTo>
                <a:cubicBezTo>
                  <a:pt x="612" y="126"/>
                  <a:pt x="616" y="116"/>
                  <a:pt x="616" y="104"/>
                </a:cubicBezTo>
                <a:cubicBezTo>
                  <a:pt x="616" y="84"/>
                  <a:pt x="616" y="64"/>
                  <a:pt x="616" y="44"/>
                </a:cubicBezTo>
                <a:cubicBezTo>
                  <a:pt x="616" y="20"/>
                  <a:pt x="597" y="0"/>
                  <a:pt x="572" y="0"/>
                </a:cubicBezTo>
                <a:cubicBezTo>
                  <a:pt x="559" y="0"/>
                  <a:pt x="547" y="6"/>
                  <a:pt x="539" y="16"/>
                </a:cubicBezTo>
                <a:lnTo>
                  <a:pt x="308" y="246"/>
                </a:lnTo>
                <a:lnTo>
                  <a:pt x="75" y="13"/>
                </a:lnTo>
                <a:lnTo>
                  <a:pt x="75" y="13"/>
                </a:lnTo>
                <a:cubicBezTo>
                  <a:pt x="67" y="5"/>
                  <a:pt x="56" y="0"/>
                  <a:pt x="44" y="0"/>
                </a:cubicBezTo>
                <a:cubicBezTo>
                  <a:pt x="20" y="0"/>
                  <a:pt x="0" y="20"/>
                  <a:pt x="0" y="44"/>
                </a:cubicBezTo>
                <a:cubicBezTo>
                  <a:pt x="0" y="64"/>
                  <a:pt x="0" y="84"/>
                  <a:pt x="0" y="104"/>
                </a:cubicBezTo>
                <a:close/>
              </a:path>
            </a:pathLst>
          </a:custGeom>
          <a:solidFill>
            <a:srgbClr val="a6a6a6"/>
          </a:solidFill>
          <a:ln w="0">
            <a:noFill/>
          </a:ln>
        </p:spPr>
        <p:style>
          <a:lnRef idx="0"/>
          <a:fillRef idx="0"/>
          <a:effectRef idx="0"/>
          <a:fontRef idx="minor"/>
        </p:style>
        <p:txBody>
          <a:bodyPr lIns="145800" rIns="145800" tIns="35280" bIns="35280" anchor="t">
            <a:noAutofit/>
          </a:bodyPr>
          <a:p>
            <a:endParaRPr b="0" lang="en-US" sz="1800" spc="-1" strike="noStrike">
              <a:solidFill>
                <a:srgbClr val="000000"/>
              </a:solidFill>
              <a:latin typeface="Calibri"/>
            </a:endParaRPr>
          </a:p>
        </p:txBody>
      </p:sp>
      <p:sp>
        <p:nvSpPr>
          <p:cNvPr id="1989" name="Freeform 383"/>
          <p:cNvSpPr/>
          <p:nvPr/>
        </p:nvSpPr>
        <p:spPr>
          <a:xfrm>
            <a:off x="2589120" y="4497480"/>
            <a:ext cx="181080" cy="180720"/>
          </a:xfrm>
          <a:custGeom>
            <a:avLst/>
            <a:gdLst/>
            <a:ahLst/>
            <a:rect l="l" t="t" r="r" b="b"/>
            <a:pathLst>
              <a:path w="675" h="674">
                <a:moveTo>
                  <a:pt x="0" y="325"/>
                </a:moveTo>
                <a:cubicBezTo>
                  <a:pt x="0" y="301"/>
                  <a:pt x="20" y="281"/>
                  <a:pt x="44" y="281"/>
                </a:cubicBezTo>
                <a:lnTo>
                  <a:pt x="282" y="281"/>
                </a:lnTo>
                <a:lnTo>
                  <a:pt x="282" y="44"/>
                </a:lnTo>
                <a:cubicBezTo>
                  <a:pt x="282" y="19"/>
                  <a:pt x="302" y="0"/>
                  <a:pt x="326" y="0"/>
                </a:cubicBezTo>
                <a:cubicBezTo>
                  <a:pt x="334" y="0"/>
                  <a:pt x="341" y="0"/>
                  <a:pt x="349" y="0"/>
                </a:cubicBezTo>
                <a:cubicBezTo>
                  <a:pt x="374" y="0"/>
                  <a:pt x="393" y="19"/>
                  <a:pt x="393" y="44"/>
                </a:cubicBezTo>
                <a:lnTo>
                  <a:pt x="393" y="281"/>
                </a:lnTo>
                <a:lnTo>
                  <a:pt x="631" y="281"/>
                </a:lnTo>
                <a:cubicBezTo>
                  <a:pt x="655" y="281"/>
                  <a:pt x="675" y="301"/>
                  <a:pt x="675" y="325"/>
                </a:cubicBezTo>
                <a:cubicBezTo>
                  <a:pt x="675" y="333"/>
                  <a:pt x="675" y="341"/>
                  <a:pt x="675" y="349"/>
                </a:cubicBezTo>
                <a:cubicBezTo>
                  <a:pt x="675" y="373"/>
                  <a:pt x="655" y="393"/>
                  <a:pt x="631" y="393"/>
                </a:cubicBezTo>
                <a:lnTo>
                  <a:pt x="393" y="393"/>
                </a:lnTo>
                <a:lnTo>
                  <a:pt x="393" y="630"/>
                </a:lnTo>
                <a:cubicBezTo>
                  <a:pt x="393" y="655"/>
                  <a:pt x="374" y="674"/>
                  <a:pt x="349" y="674"/>
                </a:cubicBezTo>
                <a:cubicBezTo>
                  <a:pt x="341" y="674"/>
                  <a:pt x="334" y="674"/>
                  <a:pt x="326" y="674"/>
                </a:cubicBezTo>
                <a:cubicBezTo>
                  <a:pt x="302" y="674"/>
                  <a:pt x="282" y="655"/>
                  <a:pt x="282" y="630"/>
                </a:cubicBezTo>
                <a:lnTo>
                  <a:pt x="282" y="393"/>
                </a:lnTo>
                <a:lnTo>
                  <a:pt x="44" y="393"/>
                </a:lnTo>
                <a:cubicBezTo>
                  <a:pt x="20" y="393"/>
                  <a:pt x="0" y="373"/>
                  <a:pt x="0" y="349"/>
                </a:cubicBezTo>
                <a:cubicBezTo>
                  <a:pt x="0" y="341"/>
                  <a:pt x="0" y="333"/>
                  <a:pt x="0" y="325"/>
                </a:cubicBez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90" name="Freeform 384"/>
          <p:cNvSpPr/>
          <p:nvPr/>
        </p:nvSpPr>
        <p:spPr>
          <a:xfrm>
            <a:off x="7732800" y="2602080"/>
            <a:ext cx="123840" cy="168120"/>
          </a:xfrm>
          <a:custGeom>
            <a:avLst/>
            <a:gdLst/>
            <a:ahLst/>
            <a:rect l="l" t="t" r="r" b="b"/>
            <a:pathLst>
              <a:path w="462" h="628">
                <a:moveTo>
                  <a:pt x="235" y="345"/>
                </a:moveTo>
                <a:lnTo>
                  <a:pt x="194" y="342"/>
                </a:lnTo>
                <a:lnTo>
                  <a:pt x="158" y="337"/>
                </a:lnTo>
                <a:lnTo>
                  <a:pt x="122" y="332"/>
                </a:lnTo>
                <a:lnTo>
                  <a:pt x="92" y="322"/>
                </a:lnTo>
                <a:lnTo>
                  <a:pt x="63" y="309"/>
                </a:lnTo>
                <a:lnTo>
                  <a:pt x="40" y="296"/>
                </a:lnTo>
                <a:lnTo>
                  <a:pt x="25" y="281"/>
                </a:lnTo>
                <a:lnTo>
                  <a:pt x="12" y="265"/>
                </a:lnTo>
                <a:lnTo>
                  <a:pt x="7" y="265"/>
                </a:lnTo>
                <a:lnTo>
                  <a:pt x="5" y="271"/>
                </a:lnTo>
                <a:lnTo>
                  <a:pt x="0" y="286"/>
                </a:lnTo>
                <a:lnTo>
                  <a:pt x="0" y="314"/>
                </a:lnTo>
                <a:lnTo>
                  <a:pt x="0" y="332"/>
                </a:lnTo>
                <a:lnTo>
                  <a:pt x="0" y="347"/>
                </a:lnTo>
                <a:lnTo>
                  <a:pt x="0" y="357"/>
                </a:lnTo>
                <a:lnTo>
                  <a:pt x="0" y="363"/>
                </a:lnTo>
                <a:lnTo>
                  <a:pt x="0" y="365"/>
                </a:lnTo>
                <a:lnTo>
                  <a:pt x="0" y="368"/>
                </a:lnTo>
                <a:lnTo>
                  <a:pt x="5" y="388"/>
                </a:lnTo>
                <a:lnTo>
                  <a:pt x="20" y="406"/>
                </a:lnTo>
                <a:lnTo>
                  <a:pt x="40" y="424"/>
                </a:lnTo>
                <a:lnTo>
                  <a:pt x="69" y="439"/>
                </a:lnTo>
                <a:lnTo>
                  <a:pt x="102" y="452"/>
                </a:lnTo>
                <a:lnTo>
                  <a:pt x="143" y="460"/>
                </a:lnTo>
                <a:lnTo>
                  <a:pt x="186" y="467"/>
                </a:lnTo>
                <a:lnTo>
                  <a:pt x="235" y="470"/>
                </a:lnTo>
                <a:lnTo>
                  <a:pt x="281" y="467"/>
                </a:lnTo>
                <a:lnTo>
                  <a:pt x="322" y="460"/>
                </a:lnTo>
                <a:lnTo>
                  <a:pt x="360" y="452"/>
                </a:lnTo>
                <a:lnTo>
                  <a:pt x="393" y="439"/>
                </a:lnTo>
                <a:lnTo>
                  <a:pt x="421" y="424"/>
                </a:lnTo>
                <a:lnTo>
                  <a:pt x="444" y="406"/>
                </a:lnTo>
                <a:lnTo>
                  <a:pt x="457" y="388"/>
                </a:lnTo>
                <a:lnTo>
                  <a:pt x="462" y="368"/>
                </a:lnTo>
                <a:lnTo>
                  <a:pt x="462" y="340"/>
                </a:lnTo>
                <a:lnTo>
                  <a:pt x="462" y="322"/>
                </a:lnTo>
                <a:lnTo>
                  <a:pt x="462" y="306"/>
                </a:lnTo>
                <a:lnTo>
                  <a:pt x="462" y="296"/>
                </a:lnTo>
                <a:lnTo>
                  <a:pt x="462" y="291"/>
                </a:lnTo>
                <a:lnTo>
                  <a:pt x="462" y="288"/>
                </a:lnTo>
                <a:lnTo>
                  <a:pt x="462" y="286"/>
                </a:lnTo>
                <a:lnTo>
                  <a:pt x="457" y="271"/>
                </a:lnTo>
                <a:lnTo>
                  <a:pt x="454" y="265"/>
                </a:lnTo>
                <a:lnTo>
                  <a:pt x="449" y="265"/>
                </a:lnTo>
                <a:lnTo>
                  <a:pt x="439" y="281"/>
                </a:lnTo>
                <a:lnTo>
                  <a:pt x="421" y="296"/>
                </a:lnTo>
                <a:lnTo>
                  <a:pt x="401" y="309"/>
                </a:lnTo>
                <a:lnTo>
                  <a:pt x="373" y="322"/>
                </a:lnTo>
                <a:lnTo>
                  <a:pt x="345" y="332"/>
                </a:lnTo>
                <a:lnTo>
                  <a:pt x="309" y="337"/>
                </a:lnTo>
                <a:lnTo>
                  <a:pt x="273" y="342"/>
                </a:lnTo>
                <a:lnTo>
                  <a:pt x="235" y="345"/>
                </a:lnTo>
                <a:close/>
                <a:moveTo>
                  <a:pt x="12" y="84"/>
                </a:moveTo>
                <a:lnTo>
                  <a:pt x="15" y="66"/>
                </a:lnTo>
                <a:lnTo>
                  <a:pt x="28" y="51"/>
                </a:lnTo>
                <a:lnTo>
                  <a:pt x="48" y="38"/>
                </a:lnTo>
                <a:lnTo>
                  <a:pt x="76" y="25"/>
                </a:lnTo>
                <a:lnTo>
                  <a:pt x="109" y="15"/>
                </a:lnTo>
                <a:lnTo>
                  <a:pt x="148" y="7"/>
                </a:lnTo>
                <a:lnTo>
                  <a:pt x="189" y="2"/>
                </a:lnTo>
                <a:lnTo>
                  <a:pt x="235" y="0"/>
                </a:lnTo>
                <a:lnTo>
                  <a:pt x="278" y="2"/>
                </a:lnTo>
                <a:lnTo>
                  <a:pt x="319" y="7"/>
                </a:lnTo>
                <a:lnTo>
                  <a:pt x="357" y="15"/>
                </a:lnTo>
                <a:lnTo>
                  <a:pt x="391" y="25"/>
                </a:lnTo>
                <a:lnTo>
                  <a:pt x="419" y="38"/>
                </a:lnTo>
                <a:lnTo>
                  <a:pt x="439" y="51"/>
                </a:lnTo>
                <a:lnTo>
                  <a:pt x="452" y="66"/>
                </a:lnTo>
                <a:lnTo>
                  <a:pt x="457" y="84"/>
                </a:lnTo>
                <a:lnTo>
                  <a:pt x="452" y="102"/>
                </a:lnTo>
                <a:lnTo>
                  <a:pt x="439" y="117"/>
                </a:lnTo>
                <a:lnTo>
                  <a:pt x="419" y="130"/>
                </a:lnTo>
                <a:lnTo>
                  <a:pt x="391" y="143"/>
                </a:lnTo>
                <a:lnTo>
                  <a:pt x="357" y="153"/>
                </a:lnTo>
                <a:lnTo>
                  <a:pt x="319" y="161"/>
                </a:lnTo>
                <a:lnTo>
                  <a:pt x="278" y="166"/>
                </a:lnTo>
                <a:lnTo>
                  <a:pt x="235" y="168"/>
                </a:lnTo>
                <a:lnTo>
                  <a:pt x="189" y="166"/>
                </a:lnTo>
                <a:lnTo>
                  <a:pt x="148" y="161"/>
                </a:lnTo>
                <a:lnTo>
                  <a:pt x="109" y="153"/>
                </a:lnTo>
                <a:lnTo>
                  <a:pt x="76" y="143"/>
                </a:lnTo>
                <a:lnTo>
                  <a:pt x="48" y="130"/>
                </a:lnTo>
                <a:lnTo>
                  <a:pt x="28" y="117"/>
                </a:lnTo>
                <a:lnTo>
                  <a:pt x="15" y="102"/>
                </a:lnTo>
                <a:lnTo>
                  <a:pt x="12" y="84"/>
                </a:lnTo>
                <a:close/>
                <a:moveTo>
                  <a:pt x="449" y="110"/>
                </a:moveTo>
                <a:lnTo>
                  <a:pt x="444" y="125"/>
                </a:lnTo>
                <a:lnTo>
                  <a:pt x="431" y="140"/>
                </a:lnTo>
                <a:lnTo>
                  <a:pt x="414" y="153"/>
                </a:lnTo>
                <a:lnTo>
                  <a:pt x="385" y="163"/>
                </a:lnTo>
                <a:lnTo>
                  <a:pt x="355" y="171"/>
                </a:lnTo>
                <a:lnTo>
                  <a:pt x="319" y="179"/>
                </a:lnTo>
                <a:lnTo>
                  <a:pt x="278" y="181"/>
                </a:lnTo>
                <a:lnTo>
                  <a:pt x="235" y="184"/>
                </a:lnTo>
                <a:lnTo>
                  <a:pt x="191" y="181"/>
                </a:lnTo>
                <a:lnTo>
                  <a:pt x="148" y="179"/>
                </a:lnTo>
                <a:lnTo>
                  <a:pt x="112" y="171"/>
                </a:lnTo>
                <a:lnTo>
                  <a:pt x="79" y="163"/>
                </a:lnTo>
                <a:lnTo>
                  <a:pt x="51" y="153"/>
                </a:lnTo>
                <a:lnTo>
                  <a:pt x="30" y="140"/>
                </a:lnTo>
                <a:lnTo>
                  <a:pt x="17" y="125"/>
                </a:lnTo>
                <a:lnTo>
                  <a:pt x="12" y="110"/>
                </a:lnTo>
                <a:lnTo>
                  <a:pt x="5" y="122"/>
                </a:lnTo>
                <a:lnTo>
                  <a:pt x="0" y="133"/>
                </a:lnTo>
                <a:lnTo>
                  <a:pt x="0" y="158"/>
                </a:lnTo>
                <a:lnTo>
                  <a:pt x="0" y="179"/>
                </a:lnTo>
                <a:lnTo>
                  <a:pt x="0" y="191"/>
                </a:lnTo>
                <a:lnTo>
                  <a:pt x="0" y="202"/>
                </a:lnTo>
                <a:lnTo>
                  <a:pt x="0" y="207"/>
                </a:lnTo>
                <a:lnTo>
                  <a:pt x="0" y="212"/>
                </a:lnTo>
                <a:lnTo>
                  <a:pt x="0" y="212"/>
                </a:lnTo>
                <a:lnTo>
                  <a:pt x="5" y="232"/>
                </a:lnTo>
                <a:lnTo>
                  <a:pt x="20" y="253"/>
                </a:lnTo>
                <a:lnTo>
                  <a:pt x="40" y="271"/>
                </a:lnTo>
                <a:lnTo>
                  <a:pt x="69" y="286"/>
                </a:lnTo>
                <a:lnTo>
                  <a:pt x="102" y="299"/>
                </a:lnTo>
                <a:lnTo>
                  <a:pt x="143" y="306"/>
                </a:lnTo>
                <a:lnTo>
                  <a:pt x="186" y="314"/>
                </a:lnTo>
                <a:lnTo>
                  <a:pt x="235" y="317"/>
                </a:lnTo>
                <a:lnTo>
                  <a:pt x="281" y="314"/>
                </a:lnTo>
                <a:lnTo>
                  <a:pt x="322" y="306"/>
                </a:lnTo>
                <a:lnTo>
                  <a:pt x="360" y="299"/>
                </a:lnTo>
                <a:lnTo>
                  <a:pt x="393" y="286"/>
                </a:lnTo>
                <a:lnTo>
                  <a:pt x="421" y="271"/>
                </a:lnTo>
                <a:lnTo>
                  <a:pt x="444" y="253"/>
                </a:lnTo>
                <a:lnTo>
                  <a:pt x="457" y="232"/>
                </a:lnTo>
                <a:lnTo>
                  <a:pt x="462" y="212"/>
                </a:lnTo>
                <a:lnTo>
                  <a:pt x="462" y="186"/>
                </a:lnTo>
                <a:lnTo>
                  <a:pt x="462" y="166"/>
                </a:lnTo>
                <a:lnTo>
                  <a:pt x="462" y="150"/>
                </a:lnTo>
                <a:lnTo>
                  <a:pt x="462" y="140"/>
                </a:lnTo>
                <a:lnTo>
                  <a:pt x="462" y="135"/>
                </a:lnTo>
                <a:lnTo>
                  <a:pt x="462" y="133"/>
                </a:lnTo>
                <a:lnTo>
                  <a:pt x="462" y="133"/>
                </a:lnTo>
                <a:lnTo>
                  <a:pt x="457" y="122"/>
                </a:lnTo>
                <a:lnTo>
                  <a:pt x="449" y="110"/>
                </a:lnTo>
                <a:close/>
                <a:moveTo>
                  <a:pt x="235" y="498"/>
                </a:moveTo>
                <a:lnTo>
                  <a:pt x="194" y="495"/>
                </a:lnTo>
                <a:lnTo>
                  <a:pt x="158" y="490"/>
                </a:lnTo>
                <a:lnTo>
                  <a:pt x="122" y="483"/>
                </a:lnTo>
                <a:lnTo>
                  <a:pt x="92" y="475"/>
                </a:lnTo>
                <a:lnTo>
                  <a:pt x="63" y="462"/>
                </a:lnTo>
                <a:lnTo>
                  <a:pt x="40" y="449"/>
                </a:lnTo>
                <a:lnTo>
                  <a:pt x="25" y="434"/>
                </a:lnTo>
                <a:lnTo>
                  <a:pt x="12" y="419"/>
                </a:lnTo>
                <a:lnTo>
                  <a:pt x="5" y="432"/>
                </a:lnTo>
                <a:lnTo>
                  <a:pt x="0" y="439"/>
                </a:lnTo>
                <a:lnTo>
                  <a:pt x="0" y="467"/>
                </a:lnTo>
                <a:lnTo>
                  <a:pt x="0" y="485"/>
                </a:lnTo>
                <a:lnTo>
                  <a:pt x="0" y="501"/>
                </a:lnTo>
                <a:lnTo>
                  <a:pt x="0" y="511"/>
                </a:lnTo>
                <a:lnTo>
                  <a:pt x="0" y="516"/>
                </a:lnTo>
                <a:lnTo>
                  <a:pt x="0" y="518"/>
                </a:lnTo>
                <a:lnTo>
                  <a:pt x="0" y="518"/>
                </a:lnTo>
                <a:lnTo>
                  <a:pt x="5" y="541"/>
                </a:lnTo>
                <a:lnTo>
                  <a:pt x="20" y="562"/>
                </a:lnTo>
                <a:lnTo>
                  <a:pt x="40" y="580"/>
                </a:lnTo>
                <a:lnTo>
                  <a:pt x="69" y="598"/>
                </a:lnTo>
                <a:lnTo>
                  <a:pt x="102" y="610"/>
                </a:lnTo>
                <a:lnTo>
                  <a:pt x="143" y="618"/>
                </a:lnTo>
                <a:lnTo>
                  <a:pt x="186" y="626"/>
                </a:lnTo>
                <a:lnTo>
                  <a:pt x="235" y="628"/>
                </a:lnTo>
                <a:lnTo>
                  <a:pt x="281" y="626"/>
                </a:lnTo>
                <a:lnTo>
                  <a:pt x="322" y="618"/>
                </a:lnTo>
                <a:lnTo>
                  <a:pt x="360" y="610"/>
                </a:lnTo>
                <a:lnTo>
                  <a:pt x="393" y="598"/>
                </a:lnTo>
                <a:lnTo>
                  <a:pt x="421" y="580"/>
                </a:lnTo>
                <a:lnTo>
                  <a:pt x="444" y="562"/>
                </a:lnTo>
                <a:lnTo>
                  <a:pt x="457" y="541"/>
                </a:lnTo>
                <a:lnTo>
                  <a:pt x="462" y="518"/>
                </a:lnTo>
                <a:lnTo>
                  <a:pt x="462" y="493"/>
                </a:lnTo>
                <a:lnTo>
                  <a:pt x="462" y="475"/>
                </a:lnTo>
                <a:lnTo>
                  <a:pt x="462" y="460"/>
                </a:lnTo>
                <a:lnTo>
                  <a:pt x="462" y="449"/>
                </a:lnTo>
                <a:lnTo>
                  <a:pt x="462" y="444"/>
                </a:lnTo>
                <a:lnTo>
                  <a:pt x="462" y="442"/>
                </a:lnTo>
                <a:lnTo>
                  <a:pt x="462" y="439"/>
                </a:lnTo>
                <a:lnTo>
                  <a:pt x="457" y="432"/>
                </a:lnTo>
                <a:lnTo>
                  <a:pt x="449" y="419"/>
                </a:lnTo>
                <a:lnTo>
                  <a:pt x="439" y="434"/>
                </a:lnTo>
                <a:lnTo>
                  <a:pt x="421" y="449"/>
                </a:lnTo>
                <a:lnTo>
                  <a:pt x="401" y="462"/>
                </a:lnTo>
                <a:lnTo>
                  <a:pt x="373" y="475"/>
                </a:lnTo>
                <a:lnTo>
                  <a:pt x="345" y="483"/>
                </a:lnTo>
                <a:lnTo>
                  <a:pt x="309" y="490"/>
                </a:lnTo>
                <a:lnTo>
                  <a:pt x="273" y="495"/>
                </a:lnTo>
                <a:lnTo>
                  <a:pt x="235" y="498"/>
                </a:lnTo>
                <a:close/>
              </a:path>
            </a:pathLst>
          </a:custGeom>
          <a:solidFill>
            <a:srgbClr val="a6a6a6"/>
          </a:solidFill>
          <a:ln w="0">
            <a:noFill/>
          </a:ln>
        </p:spPr>
        <p:style>
          <a:lnRef idx="0"/>
          <a:fillRef idx="0"/>
          <a:effectRef idx="0"/>
          <a:fontRef idx="minor"/>
        </p:style>
        <p:txBody>
          <a:bodyPr lIns="145800" rIns="145800" tIns="72720" bIns="72720" anchor="t">
            <a:noAutofit/>
          </a:bodyPr>
          <a:p>
            <a:endParaRPr b="0" lang="en-US" sz="1800" spc="-1" strike="noStrike">
              <a:solidFill>
                <a:srgbClr val="000000"/>
              </a:solidFill>
              <a:latin typeface="Calibri"/>
            </a:endParaRPr>
          </a:p>
        </p:txBody>
      </p:sp>
      <p:sp>
        <p:nvSpPr>
          <p:cNvPr id="1991" name="Freeform 385"/>
          <p:cNvSpPr/>
          <p:nvPr/>
        </p:nvSpPr>
        <p:spPr>
          <a:xfrm>
            <a:off x="8032680" y="2627280"/>
            <a:ext cx="184320" cy="115920"/>
          </a:xfrm>
          <a:custGeom>
            <a:avLst/>
            <a:gdLst/>
            <a:ahLst/>
            <a:rect l="l" t="t" r="r" b="b"/>
            <a:pathLst>
              <a:path w="685" h="430">
                <a:moveTo>
                  <a:pt x="494" y="163"/>
                </a:moveTo>
                <a:lnTo>
                  <a:pt x="685" y="163"/>
                </a:lnTo>
                <a:lnTo>
                  <a:pt x="546" y="0"/>
                </a:lnTo>
                <a:lnTo>
                  <a:pt x="340" y="0"/>
                </a:lnTo>
                <a:lnTo>
                  <a:pt x="133" y="0"/>
                </a:lnTo>
                <a:lnTo>
                  <a:pt x="0" y="163"/>
                </a:lnTo>
                <a:lnTo>
                  <a:pt x="188" y="163"/>
                </a:lnTo>
                <a:lnTo>
                  <a:pt x="494" y="163"/>
                </a:lnTo>
                <a:close/>
                <a:moveTo>
                  <a:pt x="65" y="346"/>
                </a:moveTo>
                <a:lnTo>
                  <a:pt x="0" y="430"/>
                </a:lnTo>
                <a:lnTo>
                  <a:pt x="188" y="430"/>
                </a:lnTo>
                <a:lnTo>
                  <a:pt x="494" y="430"/>
                </a:lnTo>
                <a:lnTo>
                  <a:pt x="685" y="430"/>
                </a:lnTo>
                <a:lnTo>
                  <a:pt x="612" y="346"/>
                </a:lnTo>
                <a:lnTo>
                  <a:pt x="65" y="346"/>
                </a:lnTo>
                <a:close/>
                <a:moveTo>
                  <a:pt x="65" y="212"/>
                </a:moveTo>
                <a:lnTo>
                  <a:pt x="0" y="291"/>
                </a:lnTo>
                <a:lnTo>
                  <a:pt x="188" y="291"/>
                </a:lnTo>
                <a:lnTo>
                  <a:pt x="494" y="291"/>
                </a:lnTo>
                <a:lnTo>
                  <a:pt x="685" y="291"/>
                </a:lnTo>
                <a:lnTo>
                  <a:pt x="612" y="212"/>
                </a:lnTo>
                <a:lnTo>
                  <a:pt x="65" y="212"/>
                </a:lnTo>
                <a:close/>
              </a:path>
            </a:pathLst>
          </a:custGeom>
          <a:solidFill>
            <a:srgbClr val="a6a6a6"/>
          </a:solidFill>
          <a:ln w="0">
            <a:noFill/>
          </a:ln>
        </p:spPr>
        <p:style>
          <a:lnRef idx="0"/>
          <a:fillRef idx="0"/>
          <a:effectRef idx="0"/>
          <a:fontRef idx="minor"/>
        </p:style>
        <p:txBody>
          <a:bodyPr lIns="145800" rIns="145800" tIns="43200" bIns="432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TextBox 1"/>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
        <p:nvSpPr>
          <p:cNvPr id="1353" name="Rectangle 2"/>
          <p:cNvSpPr/>
          <p:nvPr/>
        </p:nvSpPr>
        <p:spPr>
          <a:xfrm>
            <a:off x="0" y="0"/>
            <a:ext cx="4905360" cy="68580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4" name="TextBox 7"/>
          <p:cNvSpPr/>
          <p:nvPr/>
        </p:nvSpPr>
        <p:spPr>
          <a:xfrm>
            <a:off x="985320" y="646200"/>
            <a:ext cx="29361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Summary</a:t>
            </a:r>
            <a:endParaRPr b="0" lang="en-US" sz="4800" spc="-1" strike="noStrike">
              <a:solidFill>
                <a:srgbClr val="000000"/>
              </a:solidFill>
              <a:latin typeface="Calibri"/>
            </a:endParaRPr>
          </a:p>
        </p:txBody>
      </p:sp>
      <p:sp>
        <p:nvSpPr>
          <p:cNvPr id="1355" name="Rectangle 11"/>
          <p:cNvSpPr/>
          <p:nvPr/>
        </p:nvSpPr>
        <p:spPr>
          <a:xfrm>
            <a:off x="6149880" y="2968560"/>
            <a:ext cx="4130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a:t>
            </a:r>
            <a:r>
              <a:rPr b="0" lang="en-US" sz="1000" spc="-1" strike="noStrike">
                <a:solidFill>
                  <a:srgbClr val="7f7f7f"/>
                </a:solidFill>
                <a:latin typeface="Open Sans"/>
                <a:ea typeface="Open Sans"/>
              </a:rPr>
              <a:t> </a:t>
            </a:r>
            <a:r>
              <a:rPr b="0" lang="id-ID" sz="1000" spc="-1" strike="noStrike">
                <a:solidFill>
                  <a:srgbClr val="7f7f7f"/>
                </a:solidFill>
                <a:latin typeface="Open Sans"/>
                <a:ea typeface="Open Sans"/>
              </a:rPr>
              <a:t>Lorem ipsum dolor sit amet  lacus nulla ac netus nibh aliquet, </a:t>
            </a:r>
            <a:endParaRPr b="0" lang="en-US" sz="1000" spc="-1" strike="noStrike">
              <a:solidFill>
                <a:srgbClr val="000000"/>
              </a:solidFill>
              <a:latin typeface="Calibri"/>
            </a:endParaRPr>
          </a:p>
        </p:txBody>
      </p:sp>
      <p:sp>
        <p:nvSpPr>
          <p:cNvPr id="1356" name="TextBox 12"/>
          <p:cNvSpPr/>
          <p:nvPr/>
        </p:nvSpPr>
        <p:spPr>
          <a:xfrm>
            <a:off x="6138720" y="1870200"/>
            <a:ext cx="1651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Your big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deas typography</a:t>
            </a:r>
            <a:endParaRPr b="0" lang="en-US" sz="1400" spc="-1" strike="noStrike">
              <a:solidFill>
                <a:srgbClr val="000000"/>
              </a:solidFill>
              <a:latin typeface="Calibri"/>
            </a:endParaRPr>
          </a:p>
        </p:txBody>
      </p:sp>
      <p:sp>
        <p:nvSpPr>
          <p:cNvPr id="1357" name="TextBox 13"/>
          <p:cNvSpPr/>
          <p:nvPr/>
        </p:nvSpPr>
        <p:spPr>
          <a:xfrm>
            <a:off x="6447240" y="5365800"/>
            <a:ext cx="2126160" cy="6415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Our Company</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Business Overview</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Competition &amp; Analysis</a:t>
            </a:r>
            <a:endParaRPr b="0" lang="en-US" sz="1200" spc="-1" strike="noStrike">
              <a:solidFill>
                <a:srgbClr val="000000"/>
              </a:solidFill>
              <a:latin typeface="Calibri"/>
            </a:endParaRPr>
          </a:p>
        </p:txBody>
      </p:sp>
      <p:sp>
        <p:nvSpPr>
          <p:cNvPr id="1358" name="Straight Connector 15"/>
          <p:cNvSpPr/>
          <p:nvPr/>
        </p:nvSpPr>
        <p:spPr>
          <a:xfrm>
            <a:off x="6270480" y="5275440"/>
            <a:ext cx="0" cy="826920"/>
          </a:xfrm>
          <a:prstGeom prst="line">
            <a:avLst/>
          </a:prstGeom>
          <a:ln w="28440">
            <a:solidFill>
              <a:srgbClr val="d9efe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2"/>
          <p:cNvSpPr/>
          <p:nvPr/>
        </p:nvSpPr>
        <p:spPr>
          <a:xfrm>
            <a:off x="4876920" y="0"/>
            <a:ext cx="3744720" cy="68580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0" name="TextBox 3"/>
          <p:cNvSpPr/>
          <p:nvPr/>
        </p:nvSpPr>
        <p:spPr>
          <a:xfrm>
            <a:off x="920520" y="2644920"/>
            <a:ext cx="31510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Mission</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Statement</a:t>
            </a:r>
            <a:endParaRPr b="0" lang="en-US" sz="4800" spc="-1" strike="noStrike">
              <a:solidFill>
                <a:srgbClr val="000000"/>
              </a:solidFill>
              <a:latin typeface="Calibri"/>
            </a:endParaRPr>
          </a:p>
        </p:txBody>
      </p:sp>
      <p:sp>
        <p:nvSpPr>
          <p:cNvPr id="1361" name="Rectangle 4"/>
          <p:cNvSpPr/>
          <p:nvPr/>
        </p:nvSpPr>
        <p:spPr>
          <a:xfrm>
            <a:off x="5367240" y="3429000"/>
            <a:ext cx="2633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a:t>
            </a:r>
            <a:r>
              <a:rPr b="0" lang="en-US" sz="1000" spc="-1" strike="noStrike">
                <a:solidFill>
                  <a:srgbClr val="7f7f7f"/>
                </a:solidFill>
                <a:latin typeface="Open Sans"/>
                <a:ea typeface="Open Sans"/>
              </a:rPr>
              <a:t> </a:t>
            </a:r>
            <a:r>
              <a:rPr b="0" lang="id-ID" sz="1000" spc="-1" strike="noStrike">
                <a:solidFill>
                  <a:srgbClr val="7f7f7f"/>
                </a:solidFill>
                <a:latin typeface="Open Sans"/>
                <a:ea typeface="Open Sans"/>
              </a:rPr>
              <a:t>Lorem ipsum dolor sit amet  lacus nulla ac netus nibh aliquet, </a:t>
            </a:r>
            <a:endParaRPr b="0" lang="en-US" sz="1000" spc="-1" strike="noStrike">
              <a:solidFill>
                <a:srgbClr val="000000"/>
              </a:solidFill>
              <a:latin typeface="Calibri"/>
            </a:endParaRPr>
          </a:p>
        </p:txBody>
      </p:sp>
      <p:sp>
        <p:nvSpPr>
          <p:cNvPr id="1362" name="TextBox 5"/>
          <p:cNvSpPr/>
          <p:nvPr/>
        </p:nvSpPr>
        <p:spPr>
          <a:xfrm>
            <a:off x="5361480" y="1905120"/>
            <a:ext cx="1576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Good Ide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Make Everyth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s Bette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0" y="0"/>
            <a:ext cx="4862520" cy="68580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4" name="TextBox 4"/>
          <p:cNvSpPr/>
          <p:nvPr/>
        </p:nvSpPr>
        <p:spPr>
          <a:xfrm>
            <a:off x="920520" y="2644920"/>
            <a:ext cx="31510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Vision</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Statement</a:t>
            </a:r>
            <a:endParaRPr b="0" lang="en-US" sz="4800" spc="-1" strike="noStrike">
              <a:solidFill>
                <a:srgbClr val="000000"/>
              </a:solidFill>
              <a:latin typeface="Calibri"/>
            </a:endParaRPr>
          </a:p>
        </p:txBody>
      </p:sp>
      <p:sp>
        <p:nvSpPr>
          <p:cNvPr id="1365" name="Rectangle 5"/>
          <p:cNvSpPr/>
          <p:nvPr/>
        </p:nvSpPr>
        <p:spPr>
          <a:xfrm>
            <a:off x="8313840" y="3429000"/>
            <a:ext cx="263340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a:t>
            </a:r>
            <a:r>
              <a:rPr b="0" lang="en-US" sz="1000" spc="-1" strike="noStrike">
                <a:solidFill>
                  <a:srgbClr val="7f7f7f"/>
                </a:solidFill>
                <a:latin typeface="Open Sans"/>
                <a:ea typeface="Open Sans"/>
              </a:rPr>
              <a:t> </a:t>
            </a:r>
            <a:r>
              <a:rPr b="0" lang="id-ID" sz="1000" spc="-1" strike="noStrike">
                <a:solidFill>
                  <a:srgbClr val="7f7f7f"/>
                </a:solidFill>
                <a:latin typeface="Open Sans"/>
                <a:ea typeface="Open Sans"/>
              </a:rPr>
              <a:t>Lorem ipsum dolor sit amet  lacus nulla ac netus nibh aliquet, </a:t>
            </a:r>
            <a:endParaRPr b="0" lang="en-US" sz="1000" spc="-1" strike="noStrike">
              <a:solidFill>
                <a:srgbClr val="000000"/>
              </a:solidFill>
              <a:latin typeface="Calibri"/>
            </a:endParaRPr>
          </a:p>
        </p:txBody>
      </p:sp>
      <p:sp>
        <p:nvSpPr>
          <p:cNvPr id="1366" name="TextBox 6"/>
          <p:cNvSpPr/>
          <p:nvPr/>
        </p:nvSpPr>
        <p:spPr>
          <a:xfrm>
            <a:off x="8308080" y="1905120"/>
            <a:ext cx="1576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Good Ide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Make Everyth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s Better</a:t>
            </a:r>
            <a:endParaRPr b="0" lang="en-US" sz="1400" spc="-1" strike="noStrike">
              <a:solidFill>
                <a:srgbClr val="000000"/>
              </a:solidFill>
              <a:latin typeface="Calibri"/>
            </a:endParaRPr>
          </a:p>
        </p:txBody>
      </p:sp>
      <p:sp>
        <p:nvSpPr>
          <p:cNvPr id="1367" name="TextBox 8"/>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2"/>
          <p:cNvSpPr/>
          <p:nvPr/>
        </p:nvSpPr>
        <p:spPr>
          <a:xfrm>
            <a:off x="8373960" y="3429000"/>
            <a:ext cx="3818160" cy="34290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ectangle 5"/>
          <p:cNvSpPr/>
          <p:nvPr/>
        </p:nvSpPr>
        <p:spPr>
          <a:xfrm>
            <a:off x="1608120" y="1714680"/>
            <a:ext cx="52578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a:t>
            </a:r>
            <a:r>
              <a:rPr b="0" lang="en-US" sz="1000" spc="-1" strike="noStrike">
                <a:solidFill>
                  <a:srgbClr val="7f7f7f"/>
                </a:solidFill>
                <a:latin typeface="Open Sans"/>
                <a:ea typeface="Open Sans"/>
              </a:rPr>
              <a:t> </a:t>
            </a:r>
            <a:r>
              <a:rPr b="0" lang="id-ID" sz="1000" spc="-1" strike="noStrike">
                <a:solidFill>
                  <a:srgbClr val="7f7f7f"/>
                </a:solidFill>
                <a:latin typeface="Open Sans"/>
                <a:ea typeface="Open Sans"/>
              </a:rPr>
              <a:t>Lorem ipsum dolor sit amet  lacus nulla ac netus nibh aliquet, </a:t>
            </a:r>
            <a:endParaRPr b="0" lang="en-US" sz="1000" spc="-1" strike="noStrike">
              <a:solidFill>
                <a:srgbClr val="000000"/>
              </a:solidFill>
              <a:latin typeface="Calibri"/>
            </a:endParaRPr>
          </a:p>
        </p:txBody>
      </p:sp>
      <p:sp>
        <p:nvSpPr>
          <p:cNvPr id="1370" name="TextBox 6"/>
          <p:cNvSpPr/>
          <p:nvPr/>
        </p:nvSpPr>
        <p:spPr>
          <a:xfrm>
            <a:off x="1596960" y="849240"/>
            <a:ext cx="1651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Your big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deas typography</a:t>
            </a:r>
            <a:endParaRPr b="0" lang="en-US" sz="1400" spc="-1" strike="noStrike">
              <a:solidFill>
                <a:srgbClr val="000000"/>
              </a:solidFill>
              <a:latin typeface="Calibri"/>
            </a:endParaRPr>
          </a:p>
        </p:txBody>
      </p:sp>
      <p:sp>
        <p:nvSpPr>
          <p:cNvPr id="1371" name="TextBox 7"/>
          <p:cNvSpPr/>
          <p:nvPr/>
        </p:nvSpPr>
        <p:spPr>
          <a:xfrm>
            <a:off x="876600" y="4125960"/>
            <a:ext cx="29088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Our</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Company</a:t>
            </a:r>
            <a:endParaRPr b="0" lang="en-US" sz="4800" spc="-1" strike="noStrike">
              <a:solidFill>
                <a:srgbClr val="000000"/>
              </a:solidFill>
              <a:latin typeface="Calibri"/>
            </a:endParaRPr>
          </a:p>
        </p:txBody>
      </p:sp>
      <p:sp>
        <p:nvSpPr>
          <p:cNvPr id="1372" name="TextBox 8"/>
          <p:cNvSpPr/>
          <p:nvPr/>
        </p:nvSpPr>
        <p:spPr>
          <a:xfrm>
            <a:off x="9219960" y="4910040"/>
            <a:ext cx="2126160" cy="6415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Our Company</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Business Overview</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Competition &amp; Analysis</a:t>
            </a:r>
            <a:endParaRPr b="0" lang="en-US" sz="1200" spc="-1" strike="noStrike">
              <a:solidFill>
                <a:srgbClr val="000000"/>
              </a:solidFill>
              <a:latin typeface="Calibri"/>
            </a:endParaRPr>
          </a:p>
        </p:txBody>
      </p:sp>
      <p:sp>
        <p:nvSpPr>
          <p:cNvPr id="1373" name="Straight Connector 9"/>
          <p:cNvSpPr/>
          <p:nvPr/>
        </p:nvSpPr>
        <p:spPr>
          <a:xfrm>
            <a:off x="9042480" y="2730600"/>
            <a:ext cx="0" cy="2827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2"/>
          <p:cNvSpPr/>
          <p:nvPr/>
        </p:nvSpPr>
        <p:spPr>
          <a:xfrm>
            <a:off x="4521240" y="2928960"/>
            <a:ext cx="1001520" cy="100008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5" name="TextBox 3"/>
          <p:cNvSpPr/>
          <p:nvPr/>
        </p:nvSpPr>
        <p:spPr>
          <a:xfrm>
            <a:off x="6928920" y="708120"/>
            <a:ext cx="29088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Our</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Company</a:t>
            </a:r>
            <a:endParaRPr b="0" lang="en-US" sz="4800" spc="-1" strike="noStrike">
              <a:solidFill>
                <a:srgbClr val="000000"/>
              </a:solidFill>
              <a:latin typeface="Calibri"/>
            </a:endParaRPr>
          </a:p>
        </p:txBody>
      </p:sp>
      <p:sp>
        <p:nvSpPr>
          <p:cNvPr id="1376" name="Rectangle 4"/>
          <p:cNvSpPr/>
          <p:nvPr/>
        </p:nvSpPr>
        <p:spPr>
          <a:xfrm>
            <a:off x="6789600" y="4859280"/>
            <a:ext cx="41292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a:t>
            </a:r>
            <a:r>
              <a:rPr b="0" lang="en-US" sz="1000" spc="-1" strike="noStrike">
                <a:solidFill>
                  <a:srgbClr val="7f7f7f"/>
                </a:solidFill>
                <a:latin typeface="Open Sans"/>
                <a:ea typeface="Open Sans"/>
              </a:rPr>
              <a:t> </a:t>
            </a:r>
            <a:r>
              <a:rPr b="0" lang="id-ID" sz="1000" spc="-1" strike="noStrike">
                <a:solidFill>
                  <a:srgbClr val="7f7f7f"/>
                </a:solidFill>
                <a:latin typeface="Open Sans"/>
                <a:ea typeface="Open Sans"/>
              </a:rPr>
              <a:t>Lorem ipsum dolor sit amet  lacus nulla ac netus nibh aliquet, </a:t>
            </a:r>
            <a:endParaRPr b="0" lang="en-US" sz="1000" spc="-1" strike="noStrike">
              <a:solidFill>
                <a:srgbClr val="000000"/>
              </a:solidFill>
              <a:latin typeface="Calibri"/>
            </a:endParaRPr>
          </a:p>
        </p:txBody>
      </p:sp>
      <p:sp>
        <p:nvSpPr>
          <p:cNvPr id="1377" name="TextBox 5"/>
          <p:cNvSpPr/>
          <p:nvPr/>
        </p:nvSpPr>
        <p:spPr>
          <a:xfrm>
            <a:off x="6783840" y="3929040"/>
            <a:ext cx="1576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Good Ide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Make Everyth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s Better</a:t>
            </a:r>
            <a:endParaRPr b="0" lang="en-US" sz="1400" spc="-1" strike="noStrike">
              <a:solidFill>
                <a:srgbClr val="000000"/>
              </a:solidFill>
              <a:latin typeface="Calibri"/>
            </a:endParaRPr>
          </a:p>
        </p:txBody>
      </p:sp>
      <p:sp>
        <p:nvSpPr>
          <p:cNvPr id="1378" name="TextBox 6"/>
          <p:cNvSpPr/>
          <p:nvPr/>
        </p:nvSpPr>
        <p:spPr>
          <a:xfrm>
            <a:off x="4824000" y="324648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838"/>
                </a:solidFill>
                <a:latin typeface="Open Sans"/>
                <a:ea typeface="Open Sans"/>
              </a:rPr>
              <a:t>MINIMAL_</a:t>
            </a:r>
            <a:endParaRPr b="0" lang="en-US" sz="1400" spc="-1" strike="noStrike">
              <a:solidFill>
                <a:srgbClr val="000000"/>
              </a:solidFill>
              <a:latin typeface="Calibri"/>
            </a:endParaRPr>
          </a:p>
        </p:txBody>
      </p:sp>
      <p:sp>
        <p:nvSpPr>
          <p:cNvPr id="1379" name="TextBox 7"/>
          <p:cNvSpPr/>
          <p:nvPr/>
        </p:nvSpPr>
        <p:spPr>
          <a:xfrm rot="16200000">
            <a:off x="11208240" y="3305880"/>
            <a:ext cx="88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EMPLAT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1"/>
          <p:cNvSpPr/>
          <p:nvPr/>
        </p:nvSpPr>
        <p:spPr>
          <a:xfrm>
            <a:off x="0" y="0"/>
            <a:ext cx="3381480" cy="6858000"/>
          </a:xfrm>
          <a:prstGeom prst="rect">
            <a:avLst/>
          </a:prstGeom>
          <a:solidFill>
            <a:srgbClr val="d9ef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1" name="TextBox 4"/>
          <p:cNvSpPr/>
          <p:nvPr/>
        </p:nvSpPr>
        <p:spPr>
          <a:xfrm>
            <a:off x="1077480" y="5307120"/>
            <a:ext cx="2126160" cy="6415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Our Company</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Business Overview</a:t>
            </a:r>
            <a:endParaRPr b="0" lang="en-US" sz="12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Competition &amp; Analysis</a:t>
            </a:r>
            <a:endParaRPr b="0" lang="en-US" sz="1200" spc="-1" strike="noStrike">
              <a:solidFill>
                <a:srgbClr val="000000"/>
              </a:solidFill>
              <a:latin typeface="Calibri"/>
            </a:endParaRPr>
          </a:p>
        </p:txBody>
      </p:sp>
      <p:sp>
        <p:nvSpPr>
          <p:cNvPr id="1382" name="Rectangle 5"/>
          <p:cNvSpPr/>
          <p:nvPr/>
        </p:nvSpPr>
        <p:spPr>
          <a:xfrm>
            <a:off x="7907400" y="2965320"/>
            <a:ext cx="31082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7f7f7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a:t>
            </a:r>
            <a:endParaRPr b="0" lang="en-US" sz="1000" spc="-1" strike="noStrike">
              <a:solidFill>
                <a:srgbClr val="000000"/>
              </a:solidFill>
              <a:latin typeface="Calibri"/>
            </a:endParaRPr>
          </a:p>
        </p:txBody>
      </p:sp>
      <p:sp>
        <p:nvSpPr>
          <p:cNvPr id="1383" name="TextBox 6"/>
          <p:cNvSpPr/>
          <p:nvPr/>
        </p:nvSpPr>
        <p:spPr>
          <a:xfrm>
            <a:off x="7901640" y="1495440"/>
            <a:ext cx="1576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Good Ide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Make Everything</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b3838"/>
                </a:solidFill>
                <a:latin typeface="Open Sans"/>
                <a:ea typeface="Open Sans"/>
              </a:rPr>
              <a:t>Is Better</a:t>
            </a:r>
            <a:endParaRPr b="0" lang="en-US" sz="1400" spc="-1" strike="noStrike">
              <a:solidFill>
                <a:srgbClr val="000000"/>
              </a:solidFill>
              <a:latin typeface="Calibri"/>
            </a:endParaRPr>
          </a:p>
        </p:txBody>
      </p:sp>
      <p:sp>
        <p:nvSpPr>
          <p:cNvPr id="1384" name="TextBox 9"/>
          <p:cNvSpPr/>
          <p:nvPr/>
        </p:nvSpPr>
        <p:spPr>
          <a:xfrm>
            <a:off x="5461920" y="5214960"/>
            <a:ext cx="3535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838"/>
                </a:solidFill>
                <a:latin typeface="Montserrat SemiBold"/>
              </a:rPr>
              <a:t>Two Picture</a:t>
            </a:r>
            <a:endParaRPr b="0" lang="en-US" sz="4800" spc="-1" strike="noStrike">
              <a:solidFill>
                <a:srgbClr val="000000"/>
              </a:solidFill>
              <a:latin typeface="Calibri"/>
            </a:endParaRPr>
          </a:p>
        </p:txBody>
      </p:sp>
      <p:sp>
        <p:nvSpPr>
          <p:cNvPr id="1385" name="TextBox 16"/>
          <p:cNvSpPr/>
          <p:nvPr/>
        </p:nvSpPr>
        <p:spPr>
          <a:xfrm rot="16200000">
            <a:off x="147960" y="330588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3838"/>
                </a:solidFill>
                <a:latin typeface="Open Sans"/>
                <a:ea typeface="Open Sans"/>
              </a:rPr>
              <a:t>THOR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25T10:09:40Z</dcterms:created>
  <dc:creator>ASUS</dc:creator>
  <dc:description/>
  <dc:language>en-US</dc:language>
  <cp:lastModifiedBy>ASUS</cp:lastModifiedBy>
  <dcterms:modified xsi:type="dcterms:W3CDTF">2020-09-30T03:22:28Z</dcterms:modified>
  <cp:revision>52</cp:revision>
  <dc:subject/>
  <dc:title>PowerPoint Presentation</dc:title>
</cp:coreProperties>
</file>