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D168-9516-4C8B-B094-0D32403C3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CA36-5589-49EA-A42B-ADD9FDA76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0F80-C08B-49B0-B148-E10ED2022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1245-C577-42FC-B635-5A44BC1A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1D7A-23AF-49DA-93E2-70B6F12C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46C8-778F-4B7C-83F8-3BF56137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D727-77E7-4624-A834-520994A3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B082-D98D-41C2-95B8-9A97F24B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5607-7A13-489A-A3F1-45F06B9C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4B84-C1E7-4A4D-8113-A1348A1A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24DD-0A8B-4172-B355-CF1C25F8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E835-0A1F-4102-A9F9-84281B0E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88C8-7C9F-4F2E-AD45-FDED59C0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AAB4-C932-42DC-8ED5-2F35A2BA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DE2A-B5B2-436A-BA2A-C6F7ABA7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04CA-2F21-44EE-AF4B-E6D023D7B8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.png"/><Relationship Id="rId3" Type="http://schemas.openxmlformats.org/officeDocument/2006/relationships/image" Target="../media/image2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.png"/><Relationship Id="rId3" Type="http://schemas.openxmlformats.org/officeDocument/2006/relationships/image" Target="../media/image31.png"/><Relationship Id="rId4" Type="http://schemas.openxmlformats.org/officeDocument/2006/relationships/image" Target="../media/image2.png"/><Relationship Id="rId5" Type="http://schemas.openxmlformats.org/officeDocument/2006/relationships/image" Target="../media/image26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8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0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13" name="Rectangle 2"/>
          <p:cNvSpPr/>
          <p:nvPr/>
        </p:nvSpPr>
        <p:spPr>
          <a:xfrm>
            <a:off x="0" y="4068720"/>
            <a:ext cx="12192120" cy="1492200"/>
          </a:xfrm>
          <a:prstGeom prst="rect">
            <a:avLst/>
          </a:prstGeom>
          <a:solidFill>
            <a:srgbClr val="00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0" y="4071960"/>
            <a:ext cx="117360" cy="1488960"/>
          </a:xfrm>
          <a:prstGeom prst="rect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Box 4"/>
          <p:cNvSpPr/>
          <p:nvPr/>
        </p:nvSpPr>
        <p:spPr>
          <a:xfrm>
            <a:off x="571680" y="4335480"/>
            <a:ext cx="30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ource Sans Pro"/>
              </a:rPr>
              <a:t>Digita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Box 5"/>
          <p:cNvSpPr/>
          <p:nvPr/>
        </p:nvSpPr>
        <p:spPr>
          <a:xfrm>
            <a:off x="571680" y="5043600"/>
            <a:ext cx="42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</a:rPr>
              <a:t>Multipurpose PowerPoint Presentation Temp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50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Circle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15a25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Freeform 53"/>
          <p:cNvSpPr/>
          <p:nvPr/>
        </p:nvSpPr>
        <p:spPr>
          <a:xfrm>
            <a:off x="635040" y="3114720"/>
            <a:ext cx="24382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656d7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Freeform 54"/>
          <p:cNvSpPr/>
          <p:nvPr/>
        </p:nvSpPr>
        <p:spPr>
          <a:xfrm>
            <a:off x="4879800" y="3114720"/>
            <a:ext cx="24386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656d7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Freeform 55"/>
          <p:cNvSpPr/>
          <p:nvPr/>
        </p:nvSpPr>
        <p:spPr>
          <a:xfrm flipV="1">
            <a:off x="2754360" y="1924920"/>
            <a:ext cx="24382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656d7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Freeform 56"/>
          <p:cNvSpPr/>
          <p:nvPr/>
        </p:nvSpPr>
        <p:spPr>
          <a:xfrm>
            <a:off x="9132840" y="3114720"/>
            <a:ext cx="24382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656d7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Freeform 57"/>
          <p:cNvSpPr/>
          <p:nvPr/>
        </p:nvSpPr>
        <p:spPr>
          <a:xfrm flipV="1">
            <a:off x="7007400" y="1924920"/>
            <a:ext cx="24364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656d7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Freeform 58"/>
          <p:cNvSpPr/>
          <p:nvPr/>
        </p:nvSpPr>
        <p:spPr>
          <a:xfrm>
            <a:off x="2754360" y="3114720"/>
            <a:ext cx="24382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8e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Freeform 59"/>
          <p:cNvSpPr/>
          <p:nvPr/>
        </p:nvSpPr>
        <p:spPr>
          <a:xfrm flipV="1">
            <a:off x="628560" y="192492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Freeform 60"/>
          <p:cNvSpPr/>
          <p:nvPr/>
        </p:nvSpPr>
        <p:spPr>
          <a:xfrm>
            <a:off x="7007400" y="3114720"/>
            <a:ext cx="24364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Freeform 61"/>
          <p:cNvSpPr/>
          <p:nvPr/>
        </p:nvSpPr>
        <p:spPr>
          <a:xfrm flipV="1">
            <a:off x="4879800" y="1924920"/>
            <a:ext cx="24386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Freeform 62"/>
          <p:cNvSpPr/>
          <p:nvPr/>
        </p:nvSpPr>
        <p:spPr>
          <a:xfrm flipV="1">
            <a:off x="9132840" y="1924920"/>
            <a:ext cx="24382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8e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7" name="Group 63"/>
          <p:cNvGrpSpPr/>
          <p:nvPr/>
        </p:nvGrpSpPr>
        <p:grpSpPr>
          <a:xfrm>
            <a:off x="1063800" y="2819520"/>
            <a:ext cx="1546200" cy="647640"/>
            <a:chOff x="1063800" y="2819520"/>
            <a:chExt cx="1546200" cy="647640"/>
          </a:xfrm>
        </p:grpSpPr>
        <p:sp>
          <p:nvSpPr>
            <p:cNvPr id="1018" name="Text Placeholder 33"/>
            <p:cNvSpPr/>
            <p:nvPr/>
          </p:nvSpPr>
          <p:spPr>
            <a:xfrm>
              <a:off x="1081440" y="2819520"/>
              <a:ext cx="1519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On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Text Placeholder 32"/>
            <p:cNvSpPr/>
            <p:nvPr/>
          </p:nvSpPr>
          <p:spPr>
            <a:xfrm>
              <a:off x="1063800" y="3052080"/>
              <a:ext cx="154620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0" name="Group 66"/>
          <p:cNvGrpSpPr/>
          <p:nvPr/>
        </p:nvGrpSpPr>
        <p:grpSpPr>
          <a:xfrm>
            <a:off x="3209760" y="2819520"/>
            <a:ext cx="1546560" cy="647640"/>
            <a:chOff x="3209760" y="2819520"/>
            <a:chExt cx="1546560" cy="647640"/>
          </a:xfrm>
        </p:grpSpPr>
        <p:sp>
          <p:nvSpPr>
            <p:cNvPr id="1021" name="Text Placeholder 33"/>
            <p:cNvSpPr/>
            <p:nvPr/>
          </p:nvSpPr>
          <p:spPr>
            <a:xfrm>
              <a:off x="3227400" y="2819520"/>
              <a:ext cx="15195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w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Text Placeholder 32"/>
            <p:cNvSpPr/>
            <p:nvPr/>
          </p:nvSpPr>
          <p:spPr>
            <a:xfrm>
              <a:off x="3209760" y="3052080"/>
              <a:ext cx="154656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3" name="Group 69"/>
          <p:cNvGrpSpPr/>
          <p:nvPr/>
        </p:nvGrpSpPr>
        <p:grpSpPr>
          <a:xfrm>
            <a:off x="5337000" y="2825640"/>
            <a:ext cx="1544760" cy="647640"/>
            <a:chOff x="5337000" y="2825640"/>
            <a:chExt cx="1544760" cy="647640"/>
          </a:xfrm>
        </p:grpSpPr>
        <p:sp>
          <p:nvSpPr>
            <p:cNvPr id="1024" name="Text Placeholder 33"/>
            <p:cNvSpPr/>
            <p:nvPr/>
          </p:nvSpPr>
          <p:spPr>
            <a:xfrm>
              <a:off x="5354640" y="2825640"/>
              <a:ext cx="15177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hre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5" name="Text Placeholder 32"/>
            <p:cNvSpPr/>
            <p:nvPr/>
          </p:nvSpPr>
          <p:spPr>
            <a:xfrm>
              <a:off x="5337000" y="3058200"/>
              <a:ext cx="154476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6" name="Group 72"/>
          <p:cNvGrpSpPr/>
          <p:nvPr/>
        </p:nvGrpSpPr>
        <p:grpSpPr>
          <a:xfrm>
            <a:off x="7488360" y="2819520"/>
            <a:ext cx="1549440" cy="647640"/>
            <a:chOff x="7488360" y="2819520"/>
            <a:chExt cx="1549440" cy="647640"/>
          </a:xfrm>
        </p:grpSpPr>
        <p:sp>
          <p:nvSpPr>
            <p:cNvPr id="1027" name="Text Placeholder 33"/>
            <p:cNvSpPr/>
            <p:nvPr/>
          </p:nvSpPr>
          <p:spPr>
            <a:xfrm>
              <a:off x="7488360" y="2819520"/>
              <a:ext cx="15177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ou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Text Placeholder 32"/>
            <p:cNvSpPr/>
            <p:nvPr/>
          </p:nvSpPr>
          <p:spPr>
            <a:xfrm>
              <a:off x="7492680" y="3052080"/>
              <a:ext cx="154512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9" name="Group 75"/>
          <p:cNvGrpSpPr/>
          <p:nvPr/>
        </p:nvGrpSpPr>
        <p:grpSpPr>
          <a:xfrm>
            <a:off x="9613800" y="2827440"/>
            <a:ext cx="1546200" cy="647640"/>
            <a:chOff x="9613800" y="2827440"/>
            <a:chExt cx="1546200" cy="647640"/>
          </a:xfrm>
        </p:grpSpPr>
        <p:sp>
          <p:nvSpPr>
            <p:cNvPr id="1030" name="Text Placeholder 33"/>
            <p:cNvSpPr/>
            <p:nvPr/>
          </p:nvSpPr>
          <p:spPr>
            <a:xfrm>
              <a:off x="9631440" y="2827440"/>
              <a:ext cx="1519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iv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Text Placeholder 32"/>
            <p:cNvSpPr/>
            <p:nvPr/>
          </p:nvSpPr>
          <p:spPr>
            <a:xfrm>
              <a:off x="9613800" y="3060000"/>
              <a:ext cx="154620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2" name="Group 78"/>
          <p:cNvGrpSpPr/>
          <p:nvPr/>
        </p:nvGrpSpPr>
        <p:grpSpPr>
          <a:xfrm>
            <a:off x="662040" y="4745160"/>
            <a:ext cx="2146320" cy="873000"/>
            <a:chOff x="662040" y="4745160"/>
            <a:chExt cx="2146320" cy="873000"/>
          </a:xfrm>
        </p:grpSpPr>
        <p:sp>
          <p:nvSpPr>
            <p:cNvPr id="1033" name="Oval 79"/>
            <p:cNvSpPr/>
            <p:nvPr/>
          </p:nvSpPr>
          <p:spPr>
            <a:xfrm>
              <a:off x="662040" y="4761720"/>
              <a:ext cx="180000" cy="180000"/>
            </a:xfrm>
            <a:prstGeom prst="ellipse">
              <a:avLst/>
            </a:prstGeom>
            <a:solidFill>
              <a:srgbClr val="f15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Text Placeholder 32"/>
            <p:cNvSpPr/>
            <p:nvPr/>
          </p:nvSpPr>
          <p:spPr>
            <a:xfrm>
              <a:off x="980640" y="4935600"/>
              <a:ext cx="18277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Text Placeholder 33"/>
            <p:cNvSpPr/>
            <p:nvPr/>
          </p:nvSpPr>
          <p:spPr>
            <a:xfrm>
              <a:off x="980640" y="4745160"/>
              <a:ext cx="182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On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6" name="Group 82"/>
          <p:cNvGrpSpPr/>
          <p:nvPr/>
        </p:nvGrpSpPr>
        <p:grpSpPr>
          <a:xfrm>
            <a:off x="2948040" y="4740120"/>
            <a:ext cx="1965240" cy="878040"/>
            <a:chOff x="2948040" y="4740120"/>
            <a:chExt cx="1965240" cy="878040"/>
          </a:xfrm>
        </p:grpSpPr>
        <p:sp>
          <p:nvSpPr>
            <p:cNvPr id="1037" name="Oval 83"/>
            <p:cNvSpPr/>
            <p:nvPr/>
          </p:nvSpPr>
          <p:spPr>
            <a:xfrm>
              <a:off x="2948040" y="4756680"/>
              <a:ext cx="179640" cy="179640"/>
            </a:xfrm>
            <a:prstGeom prst="ellipse">
              <a:avLst/>
            </a:prstGeom>
            <a:solidFill>
              <a:srgbClr val="ff8e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Text Placeholder 32"/>
            <p:cNvSpPr/>
            <p:nvPr/>
          </p:nvSpPr>
          <p:spPr>
            <a:xfrm>
              <a:off x="3266640" y="4930200"/>
              <a:ext cx="164664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Text Placeholder 33"/>
            <p:cNvSpPr/>
            <p:nvPr/>
          </p:nvSpPr>
          <p:spPr>
            <a:xfrm>
              <a:off x="3266640" y="4740120"/>
              <a:ext cx="16466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w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0" name="Group 86"/>
          <p:cNvGrpSpPr/>
          <p:nvPr/>
        </p:nvGrpSpPr>
        <p:grpSpPr>
          <a:xfrm>
            <a:off x="7157880" y="4732200"/>
            <a:ext cx="1974960" cy="879480"/>
            <a:chOff x="7157880" y="4732200"/>
            <a:chExt cx="1974960" cy="879480"/>
          </a:xfrm>
        </p:grpSpPr>
        <p:sp>
          <p:nvSpPr>
            <p:cNvPr id="1041" name="Oval 87"/>
            <p:cNvSpPr/>
            <p:nvPr/>
          </p:nvSpPr>
          <p:spPr>
            <a:xfrm>
              <a:off x="7157880" y="4748760"/>
              <a:ext cx="180000" cy="180000"/>
            </a:xfrm>
            <a:prstGeom prst="ellipse">
              <a:avLst/>
            </a:prstGeom>
            <a:solidFill>
              <a:srgbClr val="f15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Text Placeholder 32"/>
            <p:cNvSpPr/>
            <p:nvPr/>
          </p:nvSpPr>
          <p:spPr>
            <a:xfrm>
              <a:off x="7476480" y="4922640"/>
              <a:ext cx="165636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Text Placeholder 33"/>
            <p:cNvSpPr/>
            <p:nvPr/>
          </p:nvSpPr>
          <p:spPr>
            <a:xfrm>
              <a:off x="7476480" y="4732200"/>
              <a:ext cx="16563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ou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4" name="Group 90"/>
          <p:cNvGrpSpPr/>
          <p:nvPr/>
        </p:nvGrpSpPr>
        <p:grpSpPr>
          <a:xfrm>
            <a:off x="9435960" y="4734000"/>
            <a:ext cx="2021040" cy="861840"/>
            <a:chOff x="9435960" y="4734000"/>
            <a:chExt cx="2021040" cy="861840"/>
          </a:xfrm>
        </p:grpSpPr>
        <p:sp>
          <p:nvSpPr>
            <p:cNvPr id="1045" name="Oval 91"/>
            <p:cNvSpPr/>
            <p:nvPr/>
          </p:nvSpPr>
          <p:spPr>
            <a:xfrm>
              <a:off x="9435960" y="4750560"/>
              <a:ext cx="180000" cy="179640"/>
            </a:xfrm>
            <a:prstGeom prst="ellipse">
              <a:avLst/>
            </a:prstGeom>
            <a:solidFill>
              <a:srgbClr val="ff8e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Text Placeholder 32"/>
            <p:cNvSpPr/>
            <p:nvPr/>
          </p:nvSpPr>
          <p:spPr>
            <a:xfrm>
              <a:off x="9754920" y="4924080"/>
              <a:ext cx="170208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Text Placeholder 33"/>
            <p:cNvSpPr/>
            <p:nvPr/>
          </p:nvSpPr>
          <p:spPr>
            <a:xfrm>
              <a:off x="9754920" y="4734000"/>
              <a:ext cx="17020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iv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8" name="Group 94"/>
          <p:cNvGrpSpPr/>
          <p:nvPr/>
        </p:nvGrpSpPr>
        <p:grpSpPr>
          <a:xfrm>
            <a:off x="5052960" y="4734000"/>
            <a:ext cx="1878120" cy="877680"/>
            <a:chOff x="5052960" y="4734000"/>
            <a:chExt cx="1878120" cy="877680"/>
          </a:xfrm>
        </p:grpSpPr>
        <p:sp>
          <p:nvSpPr>
            <p:cNvPr id="1049" name="Oval 95"/>
            <p:cNvSpPr/>
            <p:nvPr/>
          </p:nvSpPr>
          <p:spPr>
            <a:xfrm>
              <a:off x="5052960" y="4750560"/>
              <a:ext cx="180000" cy="179640"/>
            </a:xfrm>
            <a:prstGeom prst="ellips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Text Placeholder 32"/>
            <p:cNvSpPr/>
            <p:nvPr/>
          </p:nvSpPr>
          <p:spPr>
            <a:xfrm>
              <a:off x="5371920" y="4924080"/>
              <a:ext cx="1559160" cy="6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Text Placeholder 33"/>
            <p:cNvSpPr/>
            <p:nvPr/>
          </p:nvSpPr>
          <p:spPr>
            <a:xfrm>
              <a:off x="5371920" y="4734000"/>
              <a:ext cx="1559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hre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5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3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35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4000"/>
                            </p:stCondLst>
                            <p:childTnLst>
                              <p:par>
                                <p:cTn id="6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0"/>
                            </p:stCondLst>
                            <p:childTnLst>
                              <p:par>
                                <p:cTn id="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5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60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5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70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75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8000"/>
                            </p:stCondLst>
                            <p:childTnLst>
                              <p:par>
                                <p:cTn id="6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85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9000"/>
                            </p:stCondLst>
                            <p:childTnLst>
                              <p:par>
                                <p:cTn id="6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95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154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Arrow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15a25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Freeform 7"/>
          <p:cNvSpPr/>
          <p:nvPr/>
        </p:nvSpPr>
        <p:spPr>
          <a:xfrm>
            <a:off x="6165720" y="2101680"/>
            <a:ext cx="85680" cy="392400"/>
          </a:xfrm>
          <a:custGeom>
            <a:avLst/>
            <a:gdLst/>
            <a:ahLst/>
            <a:rect l="l" t="t" r="r" b="b"/>
            <a:pathLst>
              <a:path w="25" h="116">
                <a:moveTo>
                  <a:pt x="16" y="95"/>
                </a:moveTo>
                <a:cubicBezTo>
                  <a:pt x="12" y="103"/>
                  <a:pt x="7" y="110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7" y="110"/>
                  <a:pt x="12" y="103"/>
                  <a:pt x="16" y="95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1" y="10"/>
                  <a:pt x="19" y="23"/>
                  <a:pt x="23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4" y="43"/>
                  <a:pt x="25" y="48"/>
                  <a:pt x="25" y="52"/>
                </a:cubicBezTo>
                <a:cubicBezTo>
                  <a:pt x="25" y="52"/>
                  <a:pt x="25" y="52"/>
                  <a:pt x="25" y="52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35"/>
                  <a:pt x="16" y="14"/>
                  <a:pt x="0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Freeform 8"/>
          <p:cNvSpPr/>
          <p:nvPr/>
        </p:nvSpPr>
        <p:spPr>
          <a:xfrm>
            <a:off x="6165720" y="2101680"/>
            <a:ext cx="85680" cy="392400"/>
          </a:xfrm>
          <a:custGeom>
            <a:avLst/>
            <a:gdLst/>
            <a:ahLst/>
            <a:rect l="l" t="t" r="r" b="b"/>
            <a:pathLst>
              <a:path w="25" h="116">
                <a:moveTo>
                  <a:pt x="20" y="86"/>
                </a:moveTo>
                <a:cubicBezTo>
                  <a:pt x="16" y="97"/>
                  <a:pt x="9" y="107"/>
                  <a:pt x="1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7" y="110"/>
                  <a:pt x="12" y="103"/>
                  <a:pt x="16" y="95"/>
                </a:cubicBezTo>
                <a:cubicBezTo>
                  <a:pt x="18" y="92"/>
                  <a:pt x="19" y="89"/>
                  <a:pt x="20" y="86"/>
                </a:cubicBezTo>
                <a:moveTo>
                  <a:pt x="25" y="58"/>
                </a:move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moveTo>
                  <a:pt x="25" y="58"/>
                </a:move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moveTo>
                  <a:pt x="25" y="57"/>
                </a:move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moveTo>
                  <a:pt x="25" y="57"/>
                </a:move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moveTo>
                  <a:pt x="25" y="57"/>
                </a:move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moveTo>
                  <a:pt x="25" y="56"/>
                </a:move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6"/>
                </a:cubicBezTo>
                <a:moveTo>
                  <a:pt x="25" y="56"/>
                </a:move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moveTo>
                  <a:pt x="25" y="56"/>
                </a:move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moveTo>
                  <a:pt x="25" y="56"/>
                </a:move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moveTo>
                  <a:pt x="25" y="55"/>
                </a:moveTo>
                <a:cubicBezTo>
                  <a:pt x="25" y="55"/>
                  <a:pt x="25" y="56"/>
                  <a:pt x="25" y="56"/>
                </a:cubicBezTo>
                <a:cubicBezTo>
                  <a:pt x="25" y="56"/>
                  <a:pt x="25" y="55"/>
                  <a:pt x="25" y="55"/>
                </a:cubicBezTo>
                <a:moveTo>
                  <a:pt x="25" y="55"/>
                </a:move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moveTo>
                  <a:pt x="25" y="55"/>
                </a:move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moveTo>
                  <a:pt x="25" y="55"/>
                </a:move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moveTo>
                  <a:pt x="25" y="54"/>
                </a:moveTo>
                <a:cubicBezTo>
                  <a:pt x="25" y="54"/>
                  <a:pt x="25" y="54"/>
                  <a:pt x="25" y="55"/>
                </a:cubicBezTo>
                <a:cubicBezTo>
                  <a:pt x="25" y="54"/>
                  <a:pt x="25" y="54"/>
                  <a:pt x="25" y="54"/>
                </a:cubicBezTo>
                <a:moveTo>
                  <a:pt x="25" y="54"/>
                </a:move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moveTo>
                  <a:pt x="25" y="54"/>
                </a:move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moveTo>
                  <a:pt x="25" y="54"/>
                </a:move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moveTo>
                  <a:pt x="25" y="53"/>
                </a:move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moveTo>
                  <a:pt x="25" y="53"/>
                </a:move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moveTo>
                  <a:pt x="25" y="53"/>
                </a:move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moveTo>
                  <a:pt x="25" y="53"/>
                </a:move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moveTo>
                  <a:pt x="25" y="52"/>
                </a:moveTo>
                <a:cubicBezTo>
                  <a:pt x="25" y="52"/>
                  <a:pt x="25" y="52"/>
                  <a:pt x="25" y="52"/>
                </a:cubicBezTo>
                <a:cubicBezTo>
                  <a:pt x="25" y="52"/>
                  <a:pt x="25" y="52"/>
                  <a:pt x="25" y="52"/>
                </a:cubicBezTo>
                <a:moveTo>
                  <a:pt x="23" y="39"/>
                </a:move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moveTo>
                  <a:pt x="23" y="38"/>
                </a:move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moveTo>
                  <a:pt x="23" y="38"/>
                </a:move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moveTo>
                  <a:pt x="23" y="38"/>
                </a:move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moveTo>
                  <a:pt x="23" y="38"/>
                </a:move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moveTo>
                  <a:pt x="23" y="37"/>
                </a:moveTo>
                <a:cubicBezTo>
                  <a:pt x="23" y="37"/>
                  <a:pt x="23" y="37"/>
                  <a:pt x="23" y="37"/>
                </a:cubicBezTo>
                <a:cubicBezTo>
                  <a:pt x="23" y="37"/>
                  <a:pt x="23" y="37"/>
                  <a:pt x="23" y="37"/>
                </a:cubicBezTo>
                <a:moveTo>
                  <a:pt x="23" y="37"/>
                </a:moveTo>
                <a:cubicBezTo>
                  <a:pt x="23" y="37"/>
                  <a:pt x="23" y="37"/>
                  <a:pt x="23" y="37"/>
                </a:cubicBezTo>
                <a:cubicBezTo>
                  <a:pt x="23" y="37"/>
                  <a:pt x="23" y="37"/>
                  <a:pt x="23" y="37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1" y="10"/>
                  <a:pt x="19" y="23"/>
                  <a:pt x="23" y="37"/>
                </a:cubicBezTo>
                <a:cubicBezTo>
                  <a:pt x="19" y="23"/>
                  <a:pt x="11" y="10"/>
                  <a:pt x="0" y="0"/>
                </a:cubicBezTo>
              </a:path>
            </a:pathLst>
          </a:custGeom>
          <a:solidFill>
            <a:srgbClr val="cfa4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Freeform 10"/>
          <p:cNvSpPr/>
          <p:nvPr/>
        </p:nvSpPr>
        <p:spPr>
          <a:xfrm>
            <a:off x="5337000" y="2031840"/>
            <a:ext cx="270000" cy="265320"/>
          </a:xfrm>
          <a:custGeom>
            <a:avLst/>
            <a:gdLst/>
            <a:ahLst/>
            <a:rect l="l" t="t" r="r" b="b"/>
            <a:pathLst>
              <a:path w="170" h="167">
                <a:moveTo>
                  <a:pt x="0" y="0"/>
                </a:moveTo>
                <a:lnTo>
                  <a:pt x="0" y="0"/>
                </a:lnTo>
                <a:lnTo>
                  <a:pt x="170" y="167"/>
                </a:lnTo>
                <a:lnTo>
                  <a:pt x="170" y="167"/>
                </a:lnTo>
                <a:lnTo>
                  <a:pt x="0" y="0"/>
                </a:lnTo>
                <a:close/>
              </a:path>
            </a:pathLst>
          </a:custGeom>
          <a:solidFill>
            <a:srgbClr val="e4b5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Freeform 11"/>
          <p:cNvSpPr/>
          <p:nvPr/>
        </p:nvSpPr>
        <p:spPr>
          <a:xfrm>
            <a:off x="5337000" y="2031840"/>
            <a:ext cx="270000" cy="265320"/>
          </a:xfrm>
          <a:custGeom>
            <a:avLst/>
            <a:gdLst/>
            <a:ahLst/>
            <a:rect l="l" t="t" r="r" b="b"/>
            <a:pathLst>
              <a:path w="170" h="167">
                <a:moveTo>
                  <a:pt x="0" y="0"/>
                </a:moveTo>
                <a:lnTo>
                  <a:pt x="0" y="0"/>
                </a:lnTo>
                <a:lnTo>
                  <a:pt x="170" y="167"/>
                </a:lnTo>
                <a:lnTo>
                  <a:pt x="170" y="167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Freeform 13"/>
          <p:cNvSpPr/>
          <p:nvPr/>
        </p:nvSpPr>
        <p:spPr>
          <a:xfrm>
            <a:off x="5607000" y="2085840"/>
            <a:ext cx="212760" cy="211320"/>
          </a:xfrm>
          <a:custGeom>
            <a:avLst/>
            <a:gdLst/>
            <a:ahLst/>
            <a:rect l="l" t="t" r="r" b="b"/>
            <a:pathLst>
              <a:path w="63" h="63">
                <a:moveTo>
                  <a:pt x="63" y="0"/>
                </a:moveTo>
                <a:cubicBezTo>
                  <a:pt x="63" y="1"/>
                  <a:pt x="62" y="1"/>
                  <a:pt x="62" y="2"/>
                </a:cubicBezTo>
                <a:cubicBezTo>
                  <a:pt x="50" y="13"/>
                  <a:pt x="50" y="13"/>
                  <a:pt x="50" y="13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3"/>
                  <a:pt x="0" y="63"/>
                  <a:pt x="0" y="63"/>
                </a:cubicBezTo>
                <a:cubicBezTo>
                  <a:pt x="50" y="13"/>
                  <a:pt x="50" y="13"/>
                  <a:pt x="50" y="13"/>
                </a:cubicBezTo>
                <a:cubicBezTo>
                  <a:pt x="62" y="1"/>
                  <a:pt x="62" y="1"/>
                  <a:pt x="62" y="1"/>
                </a:cubicBezTo>
                <a:cubicBezTo>
                  <a:pt x="62" y="1"/>
                  <a:pt x="63" y="1"/>
                  <a:pt x="63" y="0"/>
                </a:cubicBezTo>
              </a:path>
            </a:pathLst>
          </a:custGeom>
          <a:solidFill>
            <a:srgbClr val="bd9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Freeform 14"/>
          <p:cNvSpPr/>
          <p:nvPr/>
        </p:nvSpPr>
        <p:spPr>
          <a:xfrm>
            <a:off x="5337000" y="2297160"/>
            <a:ext cx="270000" cy="266760"/>
          </a:xfrm>
          <a:custGeom>
            <a:avLst/>
            <a:gdLst/>
            <a:ahLst/>
            <a:rect l="l" t="t" r="r" b="b"/>
            <a:pathLst>
              <a:path w="170" h="168">
                <a:moveTo>
                  <a:pt x="170" y="0"/>
                </a:moveTo>
                <a:lnTo>
                  <a:pt x="170" y="0"/>
                </a:lnTo>
                <a:lnTo>
                  <a:pt x="0" y="168"/>
                </a:lnTo>
                <a:lnTo>
                  <a:pt x="0" y="168"/>
                </a:lnTo>
                <a:lnTo>
                  <a:pt x="170" y="0"/>
                </a:lnTo>
                <a:lnTo>
                  <a:pt x="170" y="0"/>
                </a:lnTo>
                <a:close/>
              </a:path>
            </a:pathLst>
          </a:custGeom>
          <a:solidFill>
            <a:srgbClr val="e4b5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Freeform 15"/>
          <p:cNvSpPr/>
          <p:nvPr/>
        </p:nvSpPr>
        <p:spPr>
          <a:xfrm>
            <a:off x="5337000" y="2297160"/>
            <a:ext cx="270000" cy="266760"/>
          </a:xfrm>
          <a:custGeom>
            <a:avLst/>
            <a:gdLst/>
            <a:ahLst/>
            <a:rect l="l" t="t" r="r" b="b"/>
            <a:pathLst>
              <a:path w="170" h="168">
                <a:moveTo>
                  <a:pt x="170" y="0"/>
                </a:moveTo>
                <a:lnTo>
                  <a:pt x="170" y="0"/>
                </a:lnTo>
                <a:lnTo>
                  <a:pt x="0" y="168"/>
                </a:lnTo>
                <a:lnTo>
                  <a:pt x="0" y="168"/>
                </a:lnTo>
                <a:lnTo>
                  <a:pt x="170" y="0"/>
                </a:lnTo>
                <a:lnTo>
                  <a:pt x="17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Freeform 17"/>
          <p:cNvSpPr/>
          <p:nvPr/>
        </p:nvSpPr>
        <p:spPr>
          <a:xfrm>
            <a:off x="5703840" y="2392200"/>
            <a:ext cx="281160" cy="171720"/>
          </a:xfrm>
          <a:custGeom>
            <a:avLst/>
            <a:gdLst/>
            <a:ahLst/>
            <a:rect l="l" t="t" r="r" b="b"/>
            <a:pathLst>
              <a:path w="83" h="51">
                <a:moveTo>
                  <a:pt x="83" y="51"/>
                </a:move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moveTo>
                  <a:pt x="0" y="0"/>
                </a:moveTo>
                <a:cubicBezTo>
                  <a:pt x="21" y="22"/>
                  <a:pt x="21" y="22"/>
                  <a:pt x="21" y="22"/>
                </a:cubicBezTo>
                <a:cubicBezTo>
                  <a:pt x="33" y="34"/>
                  <a:pt x="33" y="34"/>
                  <a:pt x="33" y="34"/>
                </a:cubicBezTo>
                <a:cubicBezTo>
                  <a:pt x="36" y="37"/>
                  <a:pt x="40" y="39"/>
                  <a:pt x="44" y="41"/>
                </a:cubicBezTo>
                <a:cubicBezTo>
                  <a:pt x="40" y="39"/>
                  <a:pt x="36" y="37"/>
                  <a:pt x="33" y="34"/>
                </a:cubicBezTo>
                <a:cubicBezTo>
                  <a:pt x="21" y="22"/>
                  <a:pt x="21" y="22"/>
                  <a:pt x="21" y="22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bd9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Freeform 20"/>
          <p:cNvSpPr/>
          <p:nvPr/>
        </p:nvSpPr>
        <p:spPr>
          <a:xfrm>
            <a:off x="6165720" y="4102200"/>
            <a:ext cx="85680" cy="393480"/>
          </a:xfrm>
          <a:custGeom>
            <a:avLst/>
            <a:gdLst/>
            <a:ahLst/>
            <a:rect l="l" t="t" r="r" b="b"/>
            <a:pathLst>
              <a:path w="25" h="117">
                <a:moveTo>
                  <a:pt x="17" y="95"/>
                </a:moveTo>
                <a:cubicBezTo>
                  <a:pt x="12" y="103"/>
                  <a:pt x="7" y="110"/>
                  <a:pt x="0" y="116"/>
                </a:cubicBezTo>
                <a:cubicBezTo>
                  <a:pt x="0" y="117"/>
                  <a:pt x="0" y="117"/>
                  <a:pt x="0" y="117"/>
                </a:cubicBezTo>
                <a:cubicBezTo>
                  <a:pt x="7" y="110"/>
                  <a:pt x="12" y="103"/>
                  <a:pt x="17" y="95"/>
                </a:cubicBezTo>
                <a:moveTo>
                  <a:pt x="17" y="95"/>
                </a:moveTo>
                <a:cubicBezTo>
                  <a:pt x="17" y="95"/>
                  <a:pt x="17" y="95"/>
                  <a:pt x="17" y="95"/>
                </a:cubicBezTo>
                <a:cubicBezTo>
                  <a:pt x="17" y="95"/>
                  <a:pt x="17" y="95"/>
                  <a:pt x="17" y="95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1" y="10"/>
                  <a:pt x="19" y="23"/>
                  <a:pt x="23" y="37"/>
                </a:cubicBezTo>
                <a:cubicBezTo>
                  <a:pt x="23" y="37"/>
                  <a:pt x="23" y="37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4" y="44"/>
                  <a:pt x="25" y="48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35"/>
                  <a:pt x="16" y="15"/>
                  <a:pt x="0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Freeform 21"/>
          <p:cNvSpPr/>
          <p:nvPr/>
        </p:nvSpPr>
        <p:spPr>
          <a:xfrm>
            <a:off x="6165720" y="4102200"/>
            <a:ext cx="85680" cy="390600"/>
          </a:xfrm>
          <a:custGeom>
            <a:avLst/>
            <a:gdLst/>
            <a:ahLst/>
            <a:rect l="l" t="t" r="r" b="b"/>
            <a:pathLst>
              <a:path w="25" h="116">
                <a:moveTo>
                  <a:pt x="20" y="86"/>
                </a:moveTo>
                <a:cubicBezTo>
                  <a:pt x="16" y="98"/>
                  <a:pt x="9" y="108"/>
                  <a:pt x="1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7" y="110"/>
                  <a:pt x="12" y="103"/>
                  <a:pt x="17" y="95"/>
                </a:cubicBezTo>
                <a:cubicBezTo>
                  <a:pt x="17" y="95"/>
                  <a:pt x="17" y="95"/>
                  <a:pt x="17" y="95"/>
                </a:cubicBezTo>
                <a:cubicBezTo>
                  <a:pt x="17" y="95"/>
                  <a:pt x="17" y="95"/>
                  <a:pt x="17" y="95"/>
                </a:cubicBezTo>
                <a:cubicBezTo>
                  <a:pt x="18" y="92"/>
                  <a:pt x="19" y="89"/>
                  <a:pt x="20" y="86"/>
                </a:cubicBezTo>
                <a:moveTo>
                  <a:pt x="25" y="58"/>
                </a:move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moveTo>
                  <a:pt x="25" y="58"/>
                </a:move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moveTo>
                  <a:pt x="25" y="58"/>
                </a:move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moveTo>
                  <a:pt x="25" y="57"/>
                </a:moveTo>
                <a:cubicBezTo>
                  <a:pt x="25" y="57"/>
                  <a:pt x="25" y="57"/>
                  <a:pt x="25" y="58"/>
                </a:cubicBezTo>
                <a:cubicBezTo>
                  <a:pt x="25" y="57"/>
                  <a:pt x="25" y="57"/>
                  <a:pt x="25" y="57"/>
                </a:cubicBezTo>
                <a:moveTo>
                  <a:pt x="25" y="57"/>
                </a:move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moveTo>
                  <a:pt x="25" y="57"/>
                </a:move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moveTo>
                  <a:pt x="25" y="57"/>
                </a:move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moveTo>
                  <a:pt x="25" y="56"/>
                </a:move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moveTo>
                  <a:pt x="25" y="56"/>
                </a:move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moveTo>
                  <a:pt x="25" y="56"/>
                </a:move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moveTo>
                  <a:pt x="25" y="56"/>
                </a:move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moveTo>
                  <a:pt x="25" y="55"/>
                </a:move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moveTo>
                  <a:pt x="25" y="55"/>
                </a:move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moveTo>
                  <a:pt x="25" y="55"/>
                </a:move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moveTo>
                  <a:pt x="25" y="55"/>
                </a:move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moveTo>
                  <a:pt x="25" y="54"/>
                </a:move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moveTo>
                  <a:pt x="25" y="54"/>
                </a:move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moveTo>
                  <a:pt x="25" y="54"/>
                </a:move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moveTo>
                  <a:pt x="25" y="54"/>
                </a:move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moveTo>
                  <a:pt x="25" y="53"/>
                </a:move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moveTo>
                  <a:pt x="25" y="53"/>
                </a:move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moveTo>
                  <a:pt x="25" y="53"/>
                </a:move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moveTo>
                  <a:pt x="23" y="39"/>
                </a:move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moveTo>
                  <a:pt x="23" y="39"/>
                </a:move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moveTo>
                  <a:pt x="23" y="39"/>
                </a:move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moveTo>
                  <a:pt x="23" y="38"/>
                </a:move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moveTo>
                  <a:pt x="23" y="38"/>
                </a:move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moveTo>
                  <a:pt x="23" y="38"/>
                </a:move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moveTo>
                  <a:pt x="23" y="38"/>
                </a:move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1" y="11"/>
                  <a:pt x="19" y="23"/>
                  <a:pt x="23" y="37"/>
                </a:cubicBezTo>
                <a:cubicBezTo>
                  <a:pt x="19" y="23"/>
                  <a:pt x="11" y="10"/>
                  <a:pt x="0" y="0"/>
                </a:cubicBezTo>
              </a:path>
            </a:pathLst>
          </a:custGeom>
          <a:solidFill>
            <a:srgbClr val="4d9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Freeform 23"/>
          <p:cNvSpPr/>
          <p:nvPr/>
        </p:nvSpPr>
        <p:spPr>
          <a:xfrm>
            <a:off x="5337000" y="4030560"/>
            <a:ext cx="270000" cy="266760"/>
          </a:xfrm>
          <a:custGeom>
            <a:avLst/>
            <a:gdLst/>
            <a:ahLst/>
            <a:rect l="l" t="t" r="r" b="b"/>
            <a:pathLst>
              <a:path w="170" h="168">
                <a:moveTo>
                  <a:pt x="0" y="0"/>
                </a:moveTo>
                <a:lnTo>
                  <a:pt x="0" y="0"/>
                </a:lnTo>
                <a:lnTo>
                  <a:pt x="170" y="168"/>
                </a:lnTo>
                <a:lnTo>
                  <a:pt x="170" y="168"/>
                </a:lnTo>
                <a:lnTo>
                  <a:pt x="0" y="0"/>
                </a:lnTo>
                <a:close/>
              </a:path>
            </a:pathLst>
          </a:custGeom>
          <a:solidFill>
            <a:srgbClr val="53a5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Freeform 24"/>
          <p:cNvSpPr/>
          <p:nvPr/>
        </p:nvSpPr>
        <p:spPr>
          <a:xfrm>
            <a:off x="5337000" y="4030560"/>
            <a:ext cx="270000" cy="266760"/>
          </a:xfrm>
          <a:custGeom>
            <a:avLst/>
            <a:gdLst/>
            <a:ahLst/>
            <a:rect l="l" t="t" r="r" b="b"/>
            <a:pathLst>
              <a:path w="170" h="168">
                <a:moveTo>
                  <a:pt x="0" y="0"/>
                </a:moveTo>
                <a:lnTo>
                  <a:pt x="0" y="0"/>
                </a:lnTo>
                <a:lnTo>
                  <a:pt x="170" y="168"/>
                </a:lnTo>
                <a:lnTo>
                  <a:pt x="170" y="168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Freeform 26"/>
          <p:cNvSpPr/>
          <p:nvPr/>
        </p:nvSpPr>
        <p:spPr>
          <a:xfrm>
            <a:off x="5607000" y="4087800"/>
            <a:ext cx="212760" cy="209520"/>
          </a:xfrm>
          <a:custGeom>
            <a:avLst/>
            <a:gdLst/>
            <a:ahLst/>
            <a:rect l="l" t="t" r="r" b="b"/>
            <a:pathLst>
              <a:path w="63" h="62">
                <a:moveTo>
                  <a:pt x="63" y="0"/>
                </a:moveTo>
                <a:cubicBezTo>
                  <a:pt x="63" y="0"/>
                  <a:pt x="62" y="0"/>
                  <a:pt x="62" y="1"/>
                </a:cubicBezTo>
                <a:cubicBezTo>
                  <a:pt x="50" y="12"/>
                  <a:pt x="50" y="12"/>
                  <a:pt x="50" y="12"/>
                </a:cubicBezTo>
                <a:cubicBezTo>
                  <a:pt x="0" y="62"/>
                  <a:pt x="0" y="62"/>
                  <a:pt x="0" y="62"/>
                </a:cubicBezTo>
                <a:cubicBezTo>
                  <a:pt x="0" y="62"/>
                  <a:pt x="0" y="62"/>
                  <a:pt x="0" y="62"/>
                </a:cubicBezTo>
                <a:cubicBezTo>
                  <a:pt x="50" y="12"/>
                  <a:pt x="50" y="12"/>
                  <a:pt x="50" y="12"/>
                </a:cubicBezTo>
                <a:cubicBezTo>
                  <a:pt x="62" y="1"/>
                  <a:pt x="62" y="1"/>
                  <a:pt x="62" y="1"/>
                </a:cubicBezTo>
                <a:cubicBezTo>
                  <a:pt x="62" y="0"/>
                  <a:pt x="63" y="0"/>
                  <a:pt x="63" y="0"/>
                </a:cubicBezTo>
              </a:path>
            </a:pathLst>
          </a:custGeom>
          <a:solidFill>
            <a:srgbClr val="4989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Freeform 27"/>
          <p:cNvSpPr/>
          <p:nvPr/>
        </p:nvSpPr>
        <p:spPr>
          <a:xfrm>
            <a:off x="5337000" y="4297320"/>
            <a:ext cx="270000" cy="27000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70" y="0"/>
                </a:moveTo>
                <a:lnTo>
                  <a:pt x="170" y="0"/>
                </a:lnTo>
                <a:lnTo>
                  <a:pt x="0" y="170"/>
                </a:lnTo>
                <a:lnTo>
                  <a:pt x="0" y="170"/>
                </a:lnTo>
                <a:lnTo>
                  <a:pt x="170" y="0"/>
                </a:lnTo>
                <a:lnTo>
                  <a:pt x="170" y="0"/>
                </a:lnTo>
                <a:close/>
              </a:path>
            </a:pathLst>
          </a:custGeom>
          <a:solidFill>
            <a:srgbClr val="53a5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Freeform 28"/>
          <p:cNvSpPr/>
          <p:nvPr/>
        </p:nvSpPr>
        <p:spPr>
          <a:xfrm>
            <a:off x="5337000" y="4297320"/>
            <a:ext cx="270000" cy="27000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70" y="0"/>
                </a:moveTo>
                <a:lnTo>
                  <a:pt x="170" y="0"/>
                </a:lnTo>
                <a:lnTo>
                  <a:pt x="0" y="170"/>
                </a:lnTo>
                <a:lnTo>
                  <a:pt x="0" y="170"/>
                </a:lnTo>
                <a:lnTo>
                  <a:pt x="170" y="0"/>
                </a:lnTo>
                <a:lnTo>
                  <a:pt x="17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Freeform 30"/>
          <p:cNvSpPr/>
          <p:nvPr/>
        </p:nvSpPr>
        <p:spPr>
          <a:xfrm>
            <a:off x="5703840" y="4397400"/>
            <a:ext cx="281160" cy="169920"/>
          </a:xfrm>
          <a:custGeom>
            <a:avLst/>
            <a:gdLst/>
            <a:ahLst/>
            <a:rect l="l" t="t" r="r" b="b"/>
            <a:pathLst>
              <a:path w="83" h="50">
                <a:moveTo>
                  <a:pt x="83" y="50"/>
                </a:move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moveTo>
                  <a:pt x="0" y="0"/>
                </a:moveTo>
                <a:cubicBezTo>
                  <a:pt x="21" y="21"/>
                  <a:pt x="21" y="21"/>
                  <a:pt x="21" y="21"/>
                </a:cubicBezTo>
                <a:cubicBezTo>
                  <a:pt x="33" y="32"/>
                  <a:pt x="33" y="32"/>
                  <a:pt x="33" y="32"/>
                </a:cubicBezTo>
                <a:cubicBezTo>
                  <a:pt x="36" y="35"/>
                  <a:pt x="40" y="38"/>
                  <a:pt x="44" y="40"/>
                </a:cubicBezTo>
                <a:cubicBezTo>
                  <a:pt x="40" y="38"/>
                  <a:pt x="36" y="35"/>
                  <a:pt x="33" y="32"/>
                </a:cubicBezTo>
                <a:cubicBezTo>
                  <a:pt x="21" y="21"/>
                  <a:pt x="21" y="21"/>
                  <a:pt x="21" y="2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989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Freeform 33"/>
          <p:cNvSpPr/>
          <p:nvPr/>
        </p:nvSpPr>
        <p:spPr>
          <a:xfrm>
            <a:off x="5946840" y="3103560"/>
            <a:ext cx="85680" cy="195120"/>
          </a:xfrm>
          <a:custGeom>
            <a:avLst/>
            <a:gdLst/>
            <a:ahLst/>
            <a:rect l="l" t="t" r="r" b="b"/>
            <a:pathLst>
              <a:path w="25" h="58">
                <a:moveTo>
                  <a:pt x="25" y="0"/>
                </a:moveTo>
                <a:cubicBezTo>
                  <a:pt x="9" y="14"/>
                  <a:pt x="0" y="35"/>
                  <a:pt x="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2"/>
                  <a:pt x="0" y="52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47"/>
                  <a:pt x="1" y="41"/>
                  <a:pt x="3" y="36"/>
                </a:cubicBezTo>
                <a:cubicBezTo>
                  <a:pt x="3" y="36"/>
                  <a:pt x="3" y="36"/>
                  <a:pt x="3" y="36"/>
                </a:cubicBezTo>
                <a:cubicBezTo>
                  <a:pt x="3" y="36"/>
                  <a:pt x="3" y="36"/>
                  <a:pt x="3" y="36"/>
                </a:cubicBezTo>
                <a:cubicBezTo>
                  <a:pt x="3" y="36"/>
                  <a:pt x="3" y="36"/>
                  <a:pt x="3" y="36"/>
                </a:cubicBezTo>
                <a:cubicBezTo>
                  <a:pt x="3" y="35"/>
                  <a:pt x="3" y="35"/>
                  <a:pt x="3" y="35"/>
                </a:cubicBezTo>
                <a:cubicBezTo>
                  <a:pt x="3" y="35"/>
                  <a:pt x="3" y="35"/>
                  <a:pt x="3" y="35"/>
                </a:cubicBezTo>
                <a:cubicBezTo>
                  <a:pt x="3" y="35"/>
                  <a:pt x="3" y="35"/>
                  <a:pt x="3" y="35"/>
                </a:cubicBezTo>
                <a:cubicBezTo>
                  <a:pt x="3" y="35"/>
                  <a:pt x="3" y="35"/>
                  <a:pt x="3" y="35"/>
                </a:cubicBezTo>
                <a:cubicBezTo>
                  <a:pt x="3" y="35"/>
                  <a:pt x="3" y="35"/>
                  <a:pt x="3" y="35"/>
                </a:cubicBezTo>
                <a:cubicBezTo>
                  <a:pt x="7" y="21"/>
                  <a:pt x="15" y="9"/>
                  <a:pt x="25" y="0"/>
                </a:cubicBezTo>
                <a:cubicBezTo>
                  <a:pt x="25" y="0"/>
                  <a:pt x="25" y="0"/>
                  <a:pt x="25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Freeform 34"/>
          <p:cNvSpPr/>
          <p:nvPr/>
        </p:nvSpPr>
        <p:spPr>
          <a:xfrm>
            <a:off x="5946840" y="3103560"/>
            <a:ext cx="85680" cy="195120"/>
          </a:xfrm>
          <a:custGeom>
            <a:avLst/>
            <a:gdLst/>
            <a:ahLst/>
            <a:rect l="l" t="t" r="r" b="b"/>
            <a:pathLst>
              <a:path w="25" h="58">
                <a:moveTo>
                  <a:pt x="0" y="57"/>
                </a:move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7"/>
                </a:cubicBezTo>
                <a:moveTo>
                  <a:pt x="0" y="57"/>
                </a:move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moveTo>
                  <a:pt x="0" y="57"/>
                </a:move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moveTo>
                  <a:pt x="0" y="57"/>
                </a:move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moveTo>
                  <a:pt x="0" y="56"/>
                </a:moveTo>
                <a:cubicBezTo>
                  <a:pt x="0" y="56"/>
                  <a:pt x="0" y="57"/>
                  <a:pt x="0" y="57"/>
                </a:cubicBezTo>
                <a:cubicBezTo>
                  <a:pt x="0" y="57"/>
                  <a:pt x="0" y="56"/>
                  <a:pt x="0" y="56"/>
                </a:cubicBezTo>
                <a:moveTo>
                  <a:pt x="0" y="56"/>
                </a:move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moveTo>
                  <a:pt x="0" y="56"/>
                </a:move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moveTo>
                  <a:pt x="0" y="56"/>
                </a:move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moveTo>
                  <a:pt x="0" y="55"/>
                </a:moveTo>
                <a:cubicBezTo>
                  <a:pt x="0" y="55"/>
                  <a:pt x="0" y="55"/>
                  <a:pt x="0" y="56"/>
                </a:cubicBezTo>
                <a:cubicBezTo>
                  <a:pt x="0" y="55"/>
                  <a:pt x="0" y="55"/>
                  <a:pt x="0" y="55"/>
                </a:cubicBezTo>
                <a:moveTo>
                  <a:pt x="0" y="55"/>
                </a:move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moveTo>
                  <a:pt x="0" y="55"/>
                </a:move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moveTo>
                  <a:pt x="0" y="55"/>
                </a:move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moveTo>
                  <a:pt x="0" y="53"/>
                </a:move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moveTo>
                  <a:pt x="0" y="53"/>
                </a:move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moveTo>
                  <a:pt x="0" y="53"/>
                </a:move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moveTo>
                  <a:pt x="0" y="53"/>
                </a:move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moveTo>
                  <a:pt x="0" y="52"/>
                </a:moveTo>
                <a:cubicBezTo>
                  <a:pt x="0" y="52"/>
                  <a:pt x="0" y="52"/>
                  <a:pt x="0" y="52"/>
                </a:cubicBezTo>
                <a:cubicBezTo>
                  <a:pt x="0" y="52"/>
                  <a:pt x="0" y="52"/>
                  <a:pt x="0" y="52"/>
                </a:cubicBezTo>
                <a:moveTo>
                  <a:pt x="3" y="36"/>
                </a:moveTo>
                <a:cubicBezTo>
                  <a:pt x="3" y="36"/>
                  <a:pt x="3" y="36"/>
                  <a:pt x="3" y="36"/>
                </a:cubicBezTo>
                <a:cubicBezTo>
                  <a:pt x="3" y="36"/>
                  <a:pt x="3" y="36"/>
                  <a:pt x="3" y="36"/>
                </a:cubicBezTo>
                <a:moveTo>
                  <a:pt x="3" y="36"/>
                </a:moveTo>
                <a:cubicBezTo>
                  <a:pt x="3" y="36"/>
                  <a:pt x="3" y="36"/>
                  <a:pt x="3" y="36"/>
                </a:cubicBezTo>
                <a:cubicBezTo>
                  <a:pt x="3" y="36"/>
                  <a:pt x="3" y="36"/>
                  <a:pt x="3" y="36"/>
                </a:cubicBezTo>
                <a:moveTo>
                  <a:pt x="3" y="35"/>
                </a:moveTo>
                <a:cubicBezTo>
                  <a:pt x="3" y="35"/>
                  <a:pt x="3" y="35"/>
                  <a:pt x="3" y="35"/>
                </a:cubicBezTo>
                <a:cubicBezTo>
                  <a:pt x="3" y="35"/>
                  <a:pt x="3" y="35"/>
                  <a:pt x="3" y="35"/>
                </a:cubicBezTo>
                <a:moveTo>
                  <a:pt x="3" y="35"/>
                </a:moveTo>
                <a:cubicBezTo>
                  <a:pt x="3" y="35"/>
                  <a:pt x="3" y="35"/>
                  <a:pt x="3" y="35"/>
                </a:cubicBezTo>
                <a:cubicBezTo>
                  <a:pt x="3" y="35"/>
                  <a:pt x="3" y="35"/>
                  <a:pt x="3" y="35"/>
                </a:cubicBezTo>
                <a:moveTo>
                  <a:pt x="25" y="0"/>
                </a:moveTo>
                <a:cubicBezTo>
                  <a:pt x="15" y="9"/>
                  <a:pt x="7" y="21"/>
                  <a:pt x="3" y="35"/>
                </a:cubicBezTo>
                <a:cubicBezTo>
                  <a:pt x="7" y="22"/>
                  <a:pt x="14" y="10"/>
                  <a:pt x="24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0"/>
                  <a:pt x="25" y="0"/>
                  <a:pt x="25" y="0"/>
                </a:cubicBezTo>
              </a:path>
            </a:pathLst>
          </a:custGeom>
          <a:solidFill>
            <a:srgbClr val="c14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Freeform 35"/>
          <p:cNvSpPr/>
          <p:nvPr/>
        </p:nvSpPr>
        <p:spPr>
          <a:xfrm>
            <a:off x="5973840" y="3416400"/>
            <a:ext cx="58680" cy="7776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0"/>
                </a:moveTo>
                <a:cubicBezTo>
                  <a:pt x="4" y="9"/>
                  <a:pt x="10" y="16"/>
                  <a:pt x="17" y="23"/>
                </a:cubicBezTo>
                <a:cubicBezTo>
                  <a:pt x="17" y="23"/>
                  <a:pt x="17" y="23"/>
                  <a:pt x="17" y="23"/>
                </a:cubicBezTo>
                <a:cubicBezTo>
                  <a:pt x="10" y="16"/>
                  <a:pt x="4" y="9"/>
                  <a:pt x="0" y="0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2040" bIns="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Freeform 36"/>
          <p:cNvSpPr/>
          <p:nvPr/>
        </p:nvSpPr>
        <p:spPr>
          <a:xfrm>
            <a:off x="5964120" y="3394080"/>
            <a:ext cx="68400" cy="100080"/>
          </a:xfrm>
          <a:custGeom>
            <a:avLst/>
            <a:gdLst/>
            <a:ahLst/>
            <a:rect l="l" t="t" r="r" b="b"/>
            <a:pathLst>
              <a:path w="20" h="30">
                <a:moveTo>
                  <a:pt x="0" y="0"/>
                </a:moveTo>
                <a:cubicBezTo>
                  <a:pt x="1" y="3"/>
                  <a:pt x="2" y="5"/>
                  <a:pt x="3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3" y="7"/>
                  <a:pt x="3" y="7"/>
                </a:cubicBezTo>
                <a:cubicBezTo>
                  <a:pt x="7" y="16"/>
                  <a:pt x="13" y="23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19" y="29"/>
                  <a:pt x="19" y="29"/>
                  <a:pt x="19" y="29"/>
                </a:cubicBezTo>
                <a:cubicBezTo>
                  <a:pt x="11" y="21"/>
                  <a:pt x="4" y="11"/>
                  <a:pt x="0" y="0"/>
                </a:cubicBezTo>
              </a:path>
            </a:pathLst>
          </a:custGeom>
          <a:solidFill>
            <a:srgbClr val="c14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Freeform 38"/>
          <p:cNvSpPr/>
          <p:nvPr/>
        </p:nvSpPr>
        <p:spPr>
          <a:xfrm>
            <a:off x="6591240" y="3029040"/>
            <a:ext cx="270000" cy="26964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70" y="0"/>
                </a:moveTo>
                <a:lnTo>
                  <a:pt x="170" y="0"/>
                </a:lnTo>
                <a:lnTo>
                  <a:pt x="0" y="170"/>
                </a:lnTo>
                <a:lnTo>
                  <a:pt x="0" y="170"/>
                </a:lnTo>
                <a:lnTo>
                  <a:pt x="170" y="0"/>
                </a:lnTo>
                <a:close/>
              </a:path>
            </a:pathLst>
          </a:custGeom>
          <a:solidFill>
            <a:srgbClr val="d54f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Freeform 39"/>
          <p:cNvSpPr/>
          <p:nvPr/>
        </p:nvSpPr>
        <p:spPr>
          <a:xfrm>
            <a:off x="6591240" y="3029040"/>
            <a:ext cx="270000" cy="26964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70" y="0"/>
                </a:moveTo>
                <a:lnTo>
                  <a:pt x="170" y="0"/>
                </a:lnTo>
                <a:lnTo>
                  <a:pt x="0" y="170"/>
                </a:lnTo>
                <a:lnTo>
                  <a:pt x="0" y="170"/>
                </a:lnTo>
                <a:lnTo>
                  <a:pt x="17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Freeform 41"/>
          <p:cNvSpPr/>
          <p:nvPr/>
        </p:nvSpPr>
        <p:spPr>
          <a:xfrm>
            <a:off x="6378480" y="3086280"/>
            <a:ext cx="212760" cy="212400"/>
          </a:xfrm>
          <a:custGeom>
            <a:avLst/>
            <a:gdLst/>
            <a:ahLst/>
            <a:rect l="l" t="t" r="r" b="b"/>
            <a:pathLst>
              <a:path w="63" h="63">
                <a:moveTo>
                  <a:pt x="0" y="0"/>
                </a:moveTo>
                <a:cubicBezTo>
                  <a:pt x="0" y="0"/>
                  <a:pt x="1" y="1"/>
                  <a:pt x="1" y="1"/>
                </a:cubicBezTo>
                <a:cubicBezTo>
                  <a:pt x="13" y="13"/>
                  <a:pt x="13" y="13"/>
                  <a:pt x="13" y="13"/>
                </a:cubicBezTo>
                <a:cubicBezTo>
                  <a:pt x="63" y="63"/>
                  <a:pt x="63" y="63"/>
                  <a:pt x="63" y="63"/>
                </a:cubicBezTo>
                <a:cubicBezTo>
                  <a:pt x="63" y="63"/>
                  <a:pt x="63" y="63"/>
                  <a:pt x="63" y="63"/>
                </a:cubicBezTo>
                <a:cubicBezTo>
                  <a:pt x="13" y="12"/>
                  <a:pt x="13" y="12"/>
                  <a:pt x="13" y="1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0" y="0"/>
                  <a:pt x="0" y="0"/>
                </a:cubicBezTo>
              </a:path>
            </a:pathLst>
          </a:custGeom>
          <a:solidFill>
            <a:srgbClr val="b14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Freeform 42"/>
          <p:cNvSpPr/>
          <p:nvPr/>
        </p:nvSpPr>
        <p:spPr>
          <a:xfrm>
            <a:off x="6591240" y="3298680"/>
            <a:ext cx="270000" cy="266760"/>
          </a:xfrm>
          <a:custGeom>
            <a:avLst/>
            <a:gdLst/>
            <a:ahLst/>
            <a:rect l="l" t="t" r="r" b="b"/>
            <a:pathLst>
              <a:path w="170" h="168">
                <a:moveTo>
                  <a:pt x="0" y="0"/>
                </a:moveTo>
                <a:lnTo>
                  <a:pt x="0" y="0"/>
                </a:lnTo>
                <a:lnTo>
                  <a:pt x="170" y="168"/>
                </a:lnTo>
                <a:lnTo>
                  <a:pt x="170" y="168"/>
                </a:lnTo>
                <a:lnTo>
                  <a:pt x="0" y="0"/>
                </a:lnTo>
                <a:close/>
              </a:path>
            </a:pathLst>
          </a:custGeom>
          <a:solidFill>
            <a:srgbClr val="d54f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Freeform 43"/>
          <p:cNvSpPr/>
          <p:nvPr/>
        </p:nvSpPr>
        <p:spPr>
          <a:xfrm>
            <a:off x="6591240" y="3298680"/>
            <a:ext cx="270000" cy="266760"/>
          </a:xfrm>
          <a:custGeom>
            <a:avLst/>
            <a:gdLst/>
            <a:ahLst/>
            <a:rect l="l" t="t" r="r" b="b"/>
            <a:pathLst>
              <a:path w="170" h="168">
                <a:moveTo>
                  <a:pt x="0" y="0"/>
                </a:moveTo>
                <a:lnTo>
                  <a:pt x="0" y="0"/>
                </a:lnTo>
                <a:lnTo>
                  <a:pt x="170" y="168"/>
                </a:lnTo>
                <a:lnTo>
                  <a:pt x="170" y="168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Freeform 45"/>
          <p:cNvSpPr/>
          <p:nvPr/>
        </p:nvSpPr>
        <p:spPr>
          <a:xfrm>
            <a:off x="6213600" y="3394080"/>
            <a:ext cx="284040" cy="171360"/>
          </a:xfrm>
          <a:custGeom>
            <a:avLst/>
            <a:gdLst/>
            <a:ahLst/>
            <a:rect l="l" t="t" r="r" b="b"/>
            <a:pathLst>
              <a:path w="84" h="51">
                <a:moveTo>
                  <a:pt x="0" y="51"/>
                </a:moveTo>
                <a:cubicBezTo>
                  <a:pt x="0" y="51"/>
                  <a:pt x="0" y="51"/>
                  <a:pt x="0" y="51"/>
                </a:cubicBezTo>
                <a:cubicBezTo>
                  <a:pt x="0" y="51"/>
                  <a:pt x="0" y="51"/>
                  <a:pt x="0" y="51"/>
                </a:cubicBezTo>
                <a:moveTo>
                  <a:pt x="84" y="0"/>
                </a:moveTo>
                <a:cubicBezTo>
                  <a:pt x="62" y="22"/>
                  <a:pt x="62" y="22"/>
                  <a:pt x="62" y="22"/>
                </a:cubicBezTo>
                <a:cubicBezTo>
                  <a:pt x="50" y="33"/>
                  <a:pt x="50" y="33"/>
                  <a:pt x="50" y="33"/>
                </a:cubicBezTo>
                <a:cubicBezTo>
                  <a:pt x="47" y="36"/>
                  <a:pt x="44" y="38"/>
                  <a:pt x="40" y="40"/>
                </a:cubicBezTo>
                <a:cubicBezTo>
                  <a:pt x="44" y="38"/>
                  <a:pt x="47" y="36"/>
                  <a:pt x="50" y="33"/>
                </a:cubicBezTo>
                <a:cubicBezTo>
                  <a:pt x="62" y="22"/>
                  <a:pt x="62" y="22"/>
                  <a:pt x="62" y="22"/>
                </a:cubicBezTo>
                <a:cubicBezTo>
                  <a:pt x="84" y="0"/>
                  <a:pt x="84" y="0"/>
                  <a:pt x="84" y="0"/>
                </a:cubicBezTo>
              </a:path>
            </a:pathLst>
          </a:custGeom>
          <a:solidFill>
            <a:srgbClr val="b14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Freeform 48"/>
          <p:cNvSpPr/>
          <p:nvPr/>
        </p:nvSpPr>
        <p:spPr>
          <a:xfrm>
            <a:off x="5946840" y="5102280"/>
            <a:ext cx="85680" cy="392040"/>
          </a:xfrm>
          <a:custGeom>
            <a:avLst/>
            <a:gdLst/>
            <a:ahLst/>
            <a:rect l="l" t="t" r="r" b="b"/>
            <a:pathLst>
              <a:path w="25" h="116">
                <a:moveTo>
                  <a:pt x="8" y="93"/>
                </a:moveTo>
                <a:cubicBezTo>
                  <a:pt x="12" y="102"/>
                  <a:pt x="18" y="110"/>
                  <a:pt x="25" y="116"/>
                </a:cubicBezTo>
                <a:cubicBezTo>
                  <a:pt x="25" y="116"/>
                  <a:pt x="25" y="116"/>
                  <a:pt x="25" y="116"/>
                </a:cubicBezTo>
                <a:cubicBezTo>
                  <a:pt x="18" y="109"/>
                  <a:pt x="12" y="102"/>
                  <a:pt x="8" y="93"/>
                </a:cubicBezTo>
                <a:moveTo>
                  <a:pt x="8" y="93"/>
                </a:moveTo>
                <a:cubicBezTo>
                  <a:pt x="8" y="93"/>
                  <a:pt x="8" y="93"/>
                  <a:pt x="8" y="93"/>
                </a:cubicBezTo>
                <a:cubicBezTo>
                  <a:pt x="8" y="93"/>
                  <a:pt x="8" y="93"/>
                  <a:pt x="8" y="93"/>
                </a:cubicBezTo>
                <a:moveTo>
                  <a:pt x="25" y="0"/>
                </a:moveTo>
                <a:cubicBezTo>
                  <a:pt x="9" y="14"/>
                  <a:pt x="0" y="35"/>
                  <a:pt x="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47"/>
                  <a:pt x="1" y="40"/>
                  <a:pt x="3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8" y="20"/>
                  <a:pt x="15" y="9"/>
                  <a:pt x="25" y="0"/>
                </a:cubicBezTo>
                <a:cubicBezTo>
                  <a:pt x="25" y="0"/>
                  <a:pt x="25" y="0"/>
                  <a:pt x="25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Freeform 49"/>
          <p:cNvSpPr/>
          <p:nvPr/>
        </p:nvSpPr>
        <p:spPr>
          <a:xfrm>
            <a:off x="5946840" y="5102280"/>
            <a:ext cx="85680" cy="392040"/>
          </a:xfrm>
          <a:custGeom>
            <a:avLst/>
            <a:gdLst/>
            <a:ahLst/>
            <a:rect l="l" t="t" r="r" b="b"/>
            <a:pathLst>
              <a:path w="25" h="116">
                <a:moveTo>
                  <a:pt x="5" y="86"/>
                </a:moveTo>
                <a:cubicBezTo>
                  <a:pt x="6" y="89"/>
                  <a:pt x="7" y="91"/>
                  <a:pt x="8" y="93"/>
                </a:cubicBezTo>
                <a:cubicBezTo>
                  <a:pt x="8" y="93"/>
                  <a:pt x="8" y="93"/>
                  <a:pt x="8" y="93"/>
                </a:cubicBezTo>
                <a:cubicBezTo>
                  <a:pt x="8" y="93"/>
                  <a:pt x="8" y="93"/>
                  <a:pt x="8" y="93"/>
                </a:cubicBezTo>
                <a:cubicBezTo>
                  <a:pt x="12" y="102"/>
                  <a:pt x="18" y="109"/>
                  <a:pt x="25" y="116"/>
                </a:cubicBezTo>
                <a:cubicBezTo>
                  <a:pt x="25" y="116"/>
                  <a:pt x="25" y="116"/>
                  <a:pt x="25" y="116"/>
                </a:cubicBezTo>
                <a:cubicBezTo>
                  <a:pt x="24" y="116"/>
                  <a:pt x="24" y="116"/>
                  <a:pt x="24" y="116"/>
                </a:cubicBezTo>
                <a:cubicBezTo>
                  <a:pt x="16" y="108"/>
                  <a:pt x="9" y="98"/>
                  <a:pt x="5" y="86"/>
                </a:cubicBezTo>
                <a:moveTo>
                  <a:pt x="0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moveTo>
                  <a:pt x="0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moveTo>
                  <a:pt x="0" y="57"/>
                </a:move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moveTo>
                  <a:pt x="0" y="57"/>
                </a:move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moveTo>
                  <a:pt x="0" y="57"/>
                </a:move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moveTo>
                  <a:pt x="0" y="57"/>
                </a:move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moveTo>
                  <a:pt x="0" y="56"/>
                </a:move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moveTo>
                  <a:pt x="0" y="56"/>
                </a:move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moveTo>
                  <a:pt x="0" y="56"/>
                </a:move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moveTo>
                  <a:pt x="0" y="56"/>
                </a:move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moveTo>
                  <a:pt x="0" y="55"/>
                </a:move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moveTo>
                  <a:pt x="0" y="55"/>
                </a:move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moveTo>
                  <a:pt x="0" y="55"/>
                </a:move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moveTo>
                  <a:pt x="0" y="55"/>
                </a:move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moveTo>
                  <a:pt x="0" y="53"/>
                </a:move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moveTo>
                  <a:pt x="0" y="53"/>
                </a:move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moveTo>
                  <a:pt x="3" y="34"/>
                </a:move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moveTo>
                  <a:pt x="3" y="34"/>
                </a:move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moveTo>
                  <a:pt x="3" y="34"/>
                </a:move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moveTo>
                  <a:pt x="4" y="34"/>
                </a:moveTo>
                <a:cubicBezTo>
                  <a:pt x="4" y="34"/>
                  <a:pt x="4" y="34"/>
                  <a:pt x="3" y="34"/>
                </a:cubicBezTo>
                <a:cubicBezTo>
                  <a:pt x="4" y="34"/>
                  <a:pt x="4" y="34"/>
                  <a:pt x="4" y="34"/>
                </a:cubicBezTo>
                <a:moveTo>
                  <a:pt x="4" y="33"/>
                </a:move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moveTo>
                  <a:pt x="4" y="33"/>
                </a:move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moveTo>
                  <a:pt x="4" y="33"/>
                </a:move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moveTo>
                  <a:pt x="4" y="33"/>
                </a:move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moveTo>
                  <a:pt x="25" y="0"/>
                </a:moveTo>
                <a:cubicBezTo>
                  <a:pt x="15" y="9"/>
                  <a:pt x="8" y="20"/>
                  <a:pt x="4" y="33"/>
                </a:cubicBezTo>
                <a:cubicBezTo>
                  <a:pt x="8" y="20"/>
                  <a:pt x="15" y="9"/>
                  <a:pt x="24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0"/>
                  <a:pt x="25" y="0"/>
                  <a:pt x="25" y="0"/>
                </a:cubicBezTo>
              </a:path>
            </a:pathLst>
          </a:custGeom>
          <a:solidFill>
            <a:srgbClr val="8ea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Freeform 51"/>
          <p:cNvSpPr/>
          <p:nvPr/>
        </p:nvSpPr>
        <p:spPr>
          <a:xfrm>
            <a:off x="6591240" y="5032440"/>
            <a:ext cx="270000" cy="266760"/>
          </a:xfrm>
          <a:custGeom>
            <a:avLst/>
            <a:gdLst/>
            <a:ahLst/>
            <a:rect l="l" t="t" r="r" b="b"/>
            <a:pathLst>
              <a:path w="170" h="168">
                <a:moveTo>
                  <a:pt x="170" y="0"/>
                </a:moveTo>
                <a:lnTo>
                  <a:pt x="170" y="0"/>
                </a:lnTo>
                <a:lnTo>
                  <a:pt x="0" y="168"/>
                </a:lnTo>
                <a:lnTo>
                  <a:pt x="0" y="168"/>
                </a:lnTo>
                <a:lnTo>
                  <a:pt x="170" y="0"/>
                </a:lnTo>
                <a:close/>
              </a:path>
            </a:pathLst>
          </a:custGeom>
          <a:solidFill>
            <a:srgbClr val="9bbb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Freeform 52"/>
          <p:cNvSpPr/>
          <p:nvPr/>
        </p:nvSpPr>
        <p:spPr>
          <a:xfrm>
            <a:off x="6591240" y="5032440"/>
            <a:ext cx="270000" cy="266760"/>
          </a:xfrm>
          <a:custGeom>
            <a:avLst/>
            <a:gdLst/>
            <a:ahLst/>
            <a:rect l="l" t="t" r="r" b="b"/>
            <a:pathLst>
              <a:path w="170" h="168">
                <a:moveTo>
                  <a:pt x="170" y="0"/>
                </a:moveTo>
                <a:lnTo>
                  <a:pt x="170" y="0"/>
                </a:lnTo>
                <a:lnTo>
                  <a:pt x="0" y="168"/>
                </a:lnTo>
                <a:lnTo>
                  <a:pt x="0" y="168"/>
                </a:lnTo>
                <a:lnTo>
                  <a:pt x="17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Freeform 54"/>
          <p:cNvSpPr/>
          <p:nvPr/>
        </p:nvSpPr>
        <p:spPr>
          <a:xfrm>
            <a:off x="6378480" y="5086440"/>
            <a:ext cx="212760" cy="212760"/>
          </a:xfrm>
          <a:custGeom>
            <a:avLst/>
            <a:gdLst/>
            <a:ahLst/>
            <a:rect l="l" t="t" r="r" b="b"/>
            <a:pathLst>
              <a:path w="63" h="63">
                <a:moveTo>
                  <a:pt x="0" y="0"/>
                </a:moveTo>
                <a:cubicBezTo>
                  <a:pt x="0" y="1"/>
                  <a:pt x="1" y="1"/>
                  <a:pt x="1" y="1"/>
                </a:cubicBezTo>
                <a:cubicBezTo>
                  <a:pt x="13" y="13"/>
                  <a:pt x="13" y="13"/>
                  <a:pt x="13" y="13"/>
                </a:cubicBezTo>
                <a:cubicBezTo>
                  <a:pt x="63" y="63"/>
                  <a:pt x="63" y="63"/>
                  <a:pt x="63" y="63"/>
                </a:cubicBezTo>
                <a:cubicBezTo>
                  <a:pt x="63" y="63"/>
                  <a:pt x="63" y="63"/>
                  <a:pt x="63" y="63"/>
                </a:cubicBezTo>
                <a:cubicBezTo>
                  <a:pt x="13" y="13"/>
                  <a:pt x="13" y="13"/>
                  <a:pt x="13" y="13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0" y="1"/>
                  <a:pt x="0" y="0"/>
                </a:cubicBezTo>
              </a:path>
            </a:pathLst>
          </a:custGeom>
          <a:solidFill>
            <a:srgbClr val="839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Freeform 55"/>
          <p:cNvSpPr/>
          <p:nvPr/>
        </p:nvSpPr>
        <p:spPr>
          <a:xfrm>
            <a:off x="6591240" y="5299200"/>
            <a:ext cx="270000" cy="268200"/>
          </a:xfrm>
          <a:custGeom>
            <a:avLst/>
            <a:gdLst/>
            <a:ahLst/>
            <a:rect l="l" t="t" r="r" b="b"/>
            <a:pathLst>
              <a:path w="170" h="169">
                <a:moveTo>
                  <a:pt x="0" y="0"/>
                </a:moveTo>
                <a:lnTo>
                  <a:pt x="0" y="0"/>
                </a:lnTo>
                <a:lnTo>
                  <a:pt x="170" y="169"/>
                </a:lnTo>
                <a:lnTo>
                  <a:pt x="170" y="169"/>
                </a:lnTo>
                <a:lnTo>
                  <a:pt x="0" y="0"/>
                </a:lnTo>
                <a:close/>
              </a:path>
            </a:pathLst>
          </a:custGeom>
          <a:solidFill>
            <a:srgbClr val="9bbb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Freeform 56"/>
          <p:cNvSpPr/>
          <p:nvPr/>
        </p:nvSpPr>
        <p:spPr>
          <a:xfrm>
            <a:off x="6591240" y="5299200"/>
            <a:ext cx="270000" cy="268200"/>
          </a:xfrm>
          <a:custGeom>
            <a:avLst/>
            <a:gdLst/>
            <a:ahLst/>
            <a:rect l="l" t="t" r="r" b="b"/>
            <a:pathLst>
              <a:path w="170" h="169">
                <a:moveTo>
                  <a:pt x="0" y="0"/>
                </a:moveTo>
                <a:lnTo>
                  <a:pt x="0" y="0"/>
                </a:lnTo>
                <a:lnTo>
                  <a:pt x="170" y="169"/>
                </a:lnTo>
                <a:lnTo>
                  <a:pt x="170" y="169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Freeform 58"/>
          <p:cNvSpPr/>
          <p:nvPr/>
        </p:nvSpPr>
        <p:spPr>
          <a:xfrm>
            <a:off x="6213600" y="5392800"/>
            <a:ext cx="284040" cy="174600"/>
          </a:xfrm>
          <a:custGeom>
            <a:avLst/>
            <a:gdLst/>
            <a:ahLst/>
            <a:rect l="l" t="t" r="r" b="b"/>
            <a:pathLst>
              <a:path w="84" h="52">
                <a:moveTo>
                  <a:pt x="0" y="52"/>
                </a:moveTo>
                <a:cubicBezTo>
                  <a:pt x="0" y="52"/>
                  <a:pt x="0" y="52"/>
                  <a:pt x="0" y="52"/>
                </a:cubicBezTo>
                <a:cubicBezTo>
                  <a:pt x="0" y="52"/>
                  <a:pt x="0" y="52"/>
                  <a:pt x="0" y="52"/>
                </a:cubicBezTo>
                <a:moveTo>
                  <a:pt x="84" y="0"/>
                </a:moveTo>
                <a:cubicBezTo>
                  <a:pt x="62" y="22"/>
                  <a:pt x="62" y="22"/>
                  <a:pt x="62" y="22"/>
                </a:cubicBezTo>
                <a:cubicBezTo>
                  <a:pt x="50" y="34"/>
                  <a:pt x="50" y="34"/>
                  <a:pt x="50" y="34"/>
                </a:cubicBezTo>
                <a:cubicBezTo>
                  <a:pt x="47" y="36"/>
                  <a:pt x="44" y="39"/>
                  <a:pt x="40" y="41"/>
                </a:cubicBezTo>
                <a:cubicBezTo>
                  <a:pt x="44" y="39"/>
                  <a:pt x="47" y="36"/>
                  <a:pt x="50" y="34"/>
                </a:cubicBezTo>
                <a:cubicBezTo>
                  <a:pt x="62" y="22"/>
                  <a:pt x="62" y="22"/>
                  <a:pt x="62" y="22"/>
                </a:cubicBezTo>
                <a:cubicBezTo>
                  <a:pt x="84" y="0"/>
                  <a:pt x="84" y="0"/>
                  <a:pt x="84" y="0"/>
                </a:cubicBezTo>
              </a:path>
            </a:pathLst>
          </a:custGeom>
          <a:solidFill>
            <a:srgbClr val="839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9" name="Group 144"/>
          <p:cNvGrpSpPr/>
          <p:nvPr/>
        </p:nvGrpSpPr>
        <p:grpSpPr>
          <a:xfrm>
            <a:off x="1263600" y="1746360"/>
            <a:ext cx="2198880" cy="805680"/>
            <a:chOff x="1263600" y="1746360"/>
            <a:chExt cx="2198880" cy="805680"/>
          </a:xfrm>
        </p:grpSpPr>
        <p:sp>
          <p:nvSpPr>
            <p:cNvPr id="1090" name="Rectangle 145"/>
            <p:cNvSpPr/>
            <p:nvPr/>
          </p:nvSpPr>
          <p:spPr>
            <a:xfrm>
              <a:off x="1609560" y="174636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Shape 2778"/>
            <p:cNvSpPr/>
            <p:nvPr/>
          </p:nvSpPr>
          <p:spPr>
            <a:xfrm>
              <a:off x="1263600" y="190224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2" name="Group 147"/>
          <p:cNvGrpSpPr/>
          <p:nvPr/>
        </p:nvGrpSpPr>
        <p:grpSpPr>
          <a:xfrm>
            <a:off x="1252440" y="3686040"/>
            <a:ext cx="2200320" cy="805680"/>
            <a:chOff x="1252440" y="3686040"/>
            <a:chExt cx="2200320" cy="805680"/>
          </a:xfrm>
        </p:grpSpPr>
        <p:sp>
          <p:nvSpPr>
            <p:cNvPr id="1093" name="Rectangle 148"/>
            <p:cNvSpPr/>
            <p:nvPr/>
          </p:nvSpPr>
          <p:spPr>
            <a:xfrm>
              <a:off x="1599840" y="368604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Shape 2748"/>
            <p:cNvSpPr/>
            <p:nvPr/>
          </p:nvSpPr>
          <p:spPr>
            <a:xfrm>
              <a:off x="1252440" y="38131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5" name="Group 150"/>
          <p:cNvGrpSpPr/>
          <p:nvPr/>
        </p:nvGrpSpPr>
        <p:grpSpPr>
          <a:xfrm>
            <a:off x="1263600" y="2716200"/>
            <a:ext cx="2127240" cy="805680"/>
            <a:chOff x="1263600" y="2716200"/>
            <a:chExt cx="2127240" cy="805680"/>
          </a:xfrm>
        </p:grpSpPr>
        <p:sp>
          <p:nvSpPr>
            <p:cNvPr id="1096" name="Rectangle 151"/>
            <p:cNvSpPr/>
            <p:nvPr/>
          </p:nvSpPr>
          <p:spPr>
            <a:xfrm>
              <a:off x="1612440" y="2716200"/>
              <a:ext cx="177840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Shape 2774"/>
            <p:cNvSpPr/>
            <p:nvPr/>
          </p:nvSpPr>
          <p:spPr>
            <a:xfrm>
              <a:off x="1263600" y="286308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8" name="Group 153"/>
          <p:cNvGrpSpPr/>
          <p:nvPr/>
        </p:nvGrpSpPr>
        <p:grpSpPr>
          <a:xfrm>
            <a:off x="1263600" y="4592520"/>
            <a:ext cx="2200320" cy="805680"/>
            <a:chOff x="1263600" y="4592520"/>
            <a:chExt cx="2200320" cy="805680"/>
          </a:xfrm>
        </p:grpSpPr>
        <p:sp>
          <p:nvSpPr>
            <p:cNvPr id="1099" name="Rectangle 158"/>
            <p:cNvSpPr/>
            <p:nvPr/>
          </p:nvSpPr>
          <p:spPr>
            <a:xfrm>
              <a:off x="1611000" y="459252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Shape 2784"/>
            <p:cNvSpPr/>
            <p:nvPr/>
          </p:nvSpPr>
          <p:spPr>
            <a:xfrm>
              <a:off x="1263600" y="47451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1" name="Rectangle 161"/>
          <p:cNvSpPr/>
          <p:nvPr/>
        </p:nvSpPr>
        <p:spPr>
          <a:xfrm>
            <a:off x="8467560" y="2716200"/>
            <a:ext cx="2540160" cy="28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Text Placeholder 33"/>
          <p:cNvSpPr/>
          <p:nvPr/>
        </p:nvSpPr>
        <p:spPr>
          <a:xfrm>
            <a:off x="8588520" y="1746360"/>
            <a:ext cx="2635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AU" sz="1400" spc="-1" strike="noStrike">
                <a:solidFill>
                  <a:srgbClr val="44546a"/>
                </a:solidFill>
                <a:latin typeface="Source Sans Pro"/>
                <a:ea typeface="Open Sans"/>
              </a:rPr>
              <a:t>Steps Data Analys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Text Placeholder 32"/>
          <p:cNvSpPr/>
          <p:nvPr/>
        </p:nvSpPr>
        <p:spPr>
          <a:xfrm>
            <a:off x="8588520" y="2052720"/>
            <a:ext cx="24634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400" spc="-1" strike="noStrike">
                <a:solidFill>
                  <a:srgbClr val="ff8e6c"/>
                </a:solidFill>
                <a:latin typeface="Source Sans Pro"/>
                <a:ea typeface="Open Sans"/>
              </a:rPr>
              <a:t>Process Steps Information Analys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4" name="Group 164"/>
          <p:cNvGrpSpPr/>
          <p:nvPr/>
        </p:nvGrpSpPr>
        <p:grpSpPr>
          <a:xfrm>
            <a:off x="5946840" y="4468680"/>
            <a:ext cx="2104920" cy="1659240"/>
            <a:chOff x="5946840" y="4468680"/>
            <a:chExt cx="2104920" cy="1659240"/>
          </a:xfrm>
        </p:grpSpPr>
        <p:sp>
          <p:nvSpPr>
            <p:cNvPr id="1105" name="Freeform 46"/>
            <p:cNvSpPr/>
            <p:nvPr/>
          </p:nvSpPr>
          <p:spPr>
            <a:xfrm>
              <a:off x="5946840" y="5032440"/>
              <a:ext cx="2104920" cy="534960"/>
            </a:xfrm>
            <a:custGeom>
              <a:avLst/>
              <a:gdLst/>
              <a:ahLst/>
              <a:rect l="l" t="t" r="r" b="b"/>
              <a:pathLst>
                <a:path w="624" h="159">
                  <a:moveTo>
                    <a:pt x="79" y="159"/>
                  </a:moveTo>
                  <a:cubicBezTo>
                    <a:pt x="545" y="159"/>
                    <a:pt x="545" y="159"/>
                    <a:pt x="545" y="159"/>
                  </a:cubicBezTo>
                  <a:cubicBezTo>
                    <a:pt x="589" y="159"/>
                    <a:pt x="624" y="123"/>
                    <a:pt x="624" y="79"/>
                  </a:cubicBezTo>
                  <a:cubicBezTo>
                    <a:pt x="624" y="35"/>
                    <a:pt x="589" y="0"/>
                    <a:pt x="545" y="0"/>
                  </a:cubicBezTo>
                  <a:cubicBezTo>
                    <a:pt x="79" y="0"/>
                    <a:pt x="79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Freeform 47"/>
            <p:cNvSpPr/>
            <p:nvPr/>
          </p:nvSpPr>
          <p:spPr>
            <a:xfrm>
              <a:off x="5946840" y="4468680"/>
              <a:ext cx="1096920" cy="1659240"/>
            </a:xfrm>
            <a:custGeom>
              <a:avLst/>
              <a:gdLst/>
              <a:ahLst/>
              <a:rect l="l" t="t" r="r" b="b"/>
              <a:pathLst>
                <a:path w="325" h="492">
                  <a:moveTo>
                    <a:pt x="0" y="246"/>
                  </a:moveTo>
                  <a:cubicBezTo>
                    <a:pt x="0" y="269"/>
                    <a:pt x="9" y="289"/>
                    <a:pt x="24" y="304"/>
                  </a:cubicBezTo>
                  <a:cubicBezTo>
                    <a:pt x="25" y="304"/>
                    <a:pt x="25" y="304"/>
                    <a:pt x="25" y="304"/>
                  </a:cubicBezTo>
                  <a:cubicBezTo>
                    <a:pt x="182" y="461"/>
                    <a:pt x="182" y="461"/>
                    <a:pt x="182" y="461"/>
                  </a:cubicBezTo>
                  <a:cubicBezTo>
                    <a:pt x="213" y="492"/>
                    <a:pt x="263" y="492"/>
                    <a:pt x="294" y="461"/>
                  </a:cubicBezTo>
                  <a:cubicBezTo>
                    <a:pt x="325" y="430"/>
                    <a:pt x="325" y="380"/>
                    <a:pt x="294" y="349"/>
                  </a:cubicBezTo>
                  <a:cubicBezTo>
                    <a:pt x="191" y="246"/>
                    <a:pt x="191" y="246"/>
                    <a:pt x="191" y="246"/>
                  </a:cubicBezTo>
                  <a:cubicBezTo>
                    <a:pt x="294" y="144"/>
                    <a:pt x="294" y="144"/>
                    <a:pt x="294" y="144"/>
                  </a:cubicBezTo>
                  <a:cubicBezTo>
                    <a:pt x="325" y="113"/>
                    <a:pt x="325" y="62"/>
                    <a:pt x="294" y="31"/>
                  </a:cubicBezTo>
                  <a:cubicBezTo>
                    <a:pt x="263" y="0"/>
                    <a:pt x="213" y="0"/>
                    <a:pt x="182" y="31"/>
                  </a:cubicBezTo>
                  <a:cubicBezTo>
                    <a:pt x="25" y="188"/>
                    <a:pt x="25" y="188"/>
                    <a:pt x="25" y="188"/>
                  </a:cubicBezTo>
                  <a:cubicBezTo>
                    <a:pt x="24" y="188"/>
                    <a:pt x="24" y="188"/>
                    <a:pt x="24" y="188"/>
                  </a:cubicBezTo>
                  <a:cubicBezTo>
                    <a:pt x="9" y="203"/>
                    <a:pt x="0" y="223"/>
                    <a:pt x="0" y="246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Freeform 50"/>
            <p:cNvSpPr/>
            <p:nvPr/>
          </p:nvSpPr>
          <p:spPr>
            <a:xfrm>
              <a:off x="5946840" y="5032440"/>
              <a:ext cx="644400" cy="534960"/>
            </a:xfrm>
            <a:custGeom>
              <a:avLst/>
              <a:gdLst/>
              <a:ahLst/>
              <a:rect l="l" t="t" r="r" b="b"/>
              <a:pathLst>
                <a:path w="191" h="159">
                  <a:moveTo>
                    <a:pt x="79" y="0"/>
                  </a:moveTo>
                  <a:cubicBezTo>
                    <a:pt x="58" y="0"/>
                    <a:pt x="39" y="8"/>
                    <a:pt x="25" y="21"/>
                  </a:cubicBezTo>
                  <a:cubicBezTo>
                    <a:pt x="25" y="21"/>
                    <a:pt x="25" y="21"/>
                    <a:pt x="25" y="21"/>
                  </a:cubicBezTo>
                  <a:cubicBezTo>
                    <a:pt x="25" y="21"/>
                    <a:pt x="25" y="21"/>
                    <a:pt x="25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15" y="30"/>
                    <a:pt x="8" y="41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4"/>
                    <a:pt x="4" y="54"/>
                    <a:pt x="4" y="55"/>
                  </a:cubicBezTo>
                  <a:cubicBezTo>
                    <a:pt x="4" y="55"/>
                    <a:pt x="4" y="55"/>
                    <a:pt x="3" y="55"/>
                  </a:cubicBezTo>
                  <a:cubicBezTo>
                    <a:pt x="3" y="55"/>
                    <a:pt x="3" y="55"/>
                    <a:pt x="3" y="55"/>
                  </a:cubicBezTo>
                  <a:cubicBezTo>
                    <a:pt x="3" y="55"/>
                    <a:pt x="3" y="55"/>
                    <a:pt x="3" y="55"/>
                  </a:cubicBezTo>
                  <a:cubicBezTo>
                    <a:pt x="3" y="55"/>
                    <a:pt x="3" y="55"/>
                    <a:pt x="3" y="55"/>
                  </a:cubicBezTo>
                  <a:cubicBezTo>
                    <a:pt x="3" y="55"/>
                    <a:pt x="3" y="55"/>
                    <a:pt x="3" y="55"/>
                  </a:cubicBezTo>
                  <a:cubicBezTo>
                    <a:pt x="3" y="55"/>
                    <a:pt x="3" y="55"/>
                    <a:pt x="3" y="55"/>
                  </a:cubicBezTo>
                  <a:cubicBezTo>
                    <a:pt x="3" y="55"/>
                    <a:pt x="3" y="55"/>
                    <a:pt x="3" y="55"/>
                  </a:cubicBezTo>
                  <a:cubicBezTo>
                    <a:pt x="1" y="61"/>
                    <a:pt x="0" y="68"/>
                    <a:pt x="0" y="7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74"/>
                    <a:pt x="0" y="74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89"/>
                    <a:pt x="1" y="99"/>
                    <a:pt x="5" y="107"/>
                  </a:cubicBezTo>
                  <a:cubicBezTo>
                    <a:pt x="9" y="119"/>
                    <a:pt x="16" y="129"/>
                    <a:pt x="24" y="137"/>
                  </a:cubicBezTo>
                  <a:cubicBezTo>
                    <a:pt x="25" y="137"/>
                    <a:pt x="25" y="137"/>
                    <a:pt x="25" y="137"/>
                  </a:cubicBezTo>
                  <a:cubicBezTo>
                    <a:pt x="25" y="137"/>
                    <a:pt x="25" y="137"/>
                    <a:pt x="25" y="137"/>
                  </a:cubicBezTo>
                  <a:cubicBezTo>
                    <a:pt x="25" y="137"/>
                    <a:pt x="25" y="137"/>
                    <a:pt x="25" y="137"/>
                  </a:cubicBezTo>
                  <a:cubicBezTo>
                    <a:pt x="39" y="150"/>
                    <a:pt x="58" y="159"/>
                    <a:pt x="79" y="159"/>
                  </a:cubicBezTo>
                  <a:cubicBezTo>
                    <a:pt x="79" y="159"/>
                    <a:pt x="79" y="159"/>
                    <a:pt x="79" y="159"/>
                  </a:cubicBezTo>
                  <a:cubicBezTo>
                    <a:pt x="79" y="159"/>
                    <a:pt x="79" y="159"/>
                    <a:pt x="79" y="159"/>
                  </a:cubicBezTo>
                  <a:cubicBezTo>
                    <a:pt x="94" y="159"/>
                    <a:pt x="107" y="155"/>
                    <a:pt x="119" y="148"/>
                  </a:cubicBezTo>
                  <a:cubicBezTo>
                    <a:pt x="123" y="146"/>
                    <a:pt x="126" y="143"/>
                    <a:pt x="129" y="141"/>
                  </a:cubicBezTo>
                  <a:cubicBezTo>
                    <a:pt x="141" y="129"/>
                    <a:pt x="141" y="129"/>
                    <a:pt x="141" y="129"/>
                  </a:cubicBezTo>
                  <a:cubicBezTo>
                    <a:pt x="163" y="107"/>
                    <a:pt x="163" y="107"/>
                    <a:pt x="163" y="107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41" y="29"/>
                    <a:pt x="141" y="29"/>
                    <a:pt x="141" y="29"/>
                  </a:cubicBezTo>
                  <a:cubicBezTo>
                    <a:pt x="129" y="17"/>
                    <a:pt x="129" y="17"/>
                    <a:pt x="129" y="17"/>
                  </a:cubicBezTo>
                  <a:cubicBezTo>
                    <a:pt x="129" y="17"/>
                    <a:pt x="128" y="17"/>
                    <a:pt x="128" y="16"/>
                  </a:cubicBezTo>
                  <a:cubicBezTo>
                    <a:pt x="114" y="6"/>
                    <a:pt x="97" y="0"/>
                    <a:pt x="79" y="0"/>
                  </a:cubicBezTo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Freeform 53"/>
            <p:cNvSpPr/>
            <p:nvPr/>
          </p:nvSpPr>
          <p:spPr>
            <a:xfrm>
              <a:off x="6213240" y="5032440"/>
              <a:ext cx="647640" cy="266760"/>
            </a:xfrm>
            <a:custGeom>
              <a:avLst/>
              <a:gdLst/>
              <a:ahLst/>
              <a:rect l="l" t="t" r="r" b="b"/>
              <a:pathLst>
                <a:path w="192" h="79">
                  <a:moveTo>
                    <a:pt x="0" y="0"/>
                  </a:moveTo>
                  <a:cubicBezTo>
                    <a:pt x="18" y="0"/>
                    <a:pt x="35" y="6"/>
                    <a:pt x="49" y="16"/>
                  </a:cubicBezTo>
                  <a:cubicBezTo>
                    <a:pt x="49" y="17"/>
                    <a:pt x="50" y="17"/>
                    <a:pt x="50" y="18"/>
                  </a:cubicBezTo>
                  <a:cubicBezTo>
                    <a:pt x="62" y="29"/>
                    <a:pt x="62" y="29"/>
                    <a:pt x="62" y="2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192" y="0"/>
                    <a:pt x="192" y="0"/>
                    <a:pt x="19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Freeform 57"/>
            <p:cNvSpPr/>
            <p:nvPr/>
          </p:nvSpPr>
          <p:spPr>
            <a:xfrm>
              <a:off x="6213240" y="5299200"/>
              <a:ext cx="647640" cy="268200"/>
            </a:xfrm>
            <a:custGeom>
              <a:avLst/>
              <a:gdLst/>
              <a:ahLst/>
              <a:rect l="l" t="t" r="r" b="b"/>
              <a:pathLst>
                <a:path w="192" h="80">
                  <a:moveTo>
                    <a:pt x="112" y="0"/>
                  </a:moveTo>
                  <a:cubicBezTo>
                    <a:pt x="84" y="28"/>
                    <a:pt x="84" y="28"/>
                    <a:pt x="84" y="28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50" y="62"/>
                    <a:pt x="50" y="62"/>
                    <a:pt x="50" y="62"/>
                  </a:cubicBezTo>
                  <a:cubicBezTo>
                    <a:pt x="47" y="64"/>
                    <a:pt x="44" y="67"/>
                    <a:pt x="40" y="69"/>
                  </a:cubicBezTo>
                  <a:cubicBezTo>
                    <a:pt x="28" y="76"/>
                    <a:pt x="15" y="80"/>
                    <a:pt x="0" y="80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92" y="80"/>
                    <a:pt x="192" y="80"/>
                    <a:pt x="192" y="80"/>
                  </a:cubicBezTo>
                  <a:cubicBezTo>
                    <a:pt x="112" y="0"/>
                    <a:pt x="112" y="0"/>
                    <a:pt x="112" y="0"/>
                  </a:cubicBezTo>
                </a:path>
              </a:pathLst>
            </a:cu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Shape 2784"/>
            <p:cNvSpPr/>
            <p:nvPr/>
          </p:nvSpPr>
          <p:spPr>
            <a:xfrm>
              <a:off x="6076080" y="51595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1" name="Group 217"/>
          <p:cNvGrpSpPr/>
          <p:nvPr/>
        </p:nvGrpSpPr>
        <p:grpSpPr>
          <a:xfrm>
            <a:off x="4146480" y="3470400"/>
            <a:ext cx="2104920" cy="1655640"/>
            <a:chOff x="4146480" y="3470400"/>
            <a:chExt cx="2104920" cy="1655640"/>
          </a:xfrm>
        </p:grpSpPr>
        <p:sp>
          <p:nvSpPr>
            <p:cNvPr id="1112" name="Freeform 18"/>
            <p:cNvSpPr/>
            <p:nvPr/>
          </p:nvSpPr>
          <p:spPr>
            <a:xfrm>
              <a:off x="4146480" y="4030560"/>
              <a:ext cx="2104920" cy="536400"/>
            </a:xfrm>
            <a:custGeom>
              <a:avLst/>
              <a:gdLst/>
              <a:ahLst/>
              <a:rect l="l" t="t" r="r" b="b"/>
              <a:pathLst>
                <a:path w="624" h="159">
                  <a:moveTo>
                    <a:pt x="545" y="159"/>
                  </a:moveTo>
                  <a:cubicBezTo>
                    <a:pt x="79" y="159"/>
                    <a:pt x="79" y="159"/>
                    <a:pt x="79" y="159"/>
                  </a:cubicBezTo>
                  <a:cubicBezTo>
                    <a:pt x="35" y="159"/>
                    <a:pt x="0" y="123"/>
                    <a:pt x="0" y="79"/>
                  </a:cubicBezTo>
                  <a:cubicBezTo>
                    <a:pt x="0" y="36"/>
                    <a:pt x="35" y="0"/>
                    <a:pt x="79" y="0"/>
                  </a:cubicBezTo>
                  <a:cubicBezTo>
                    <a:pt x="545" y="0"/>
                    <a:pt x="545" y="0"/>
                    <a:pt x="545" y="0"/>
                  </a:cubicBezTo>
                  <a:cubicBezTo>
                    <a:pt x="589" y="0"/>
                    <a:pt x="624" y="36"/>
                    <a:pt x="624" y="79"/>
                  </a:cubicBezTo>
                  <a:cubicBezTo>
                    <a:pt x="624" y="123"/>
                    <a:pt x="589" y="159"/>
                    <a:pt x="545" y="159"/>
                  </a:cubicBezTo>
                </a:path>
              </a:pathLst>
            </a:custGeom>
            <a:solidFill>
              <a:srgbClr val="56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Freeform 19"/>
            <p:cNvSpPr/>
            <p:nvPr/>
          </p:nvSpPr>
          <p:spPr>
            <a:xfrm>
              <a:off x="5154480" y="3470400"/>
              <a:ext cx="1096920" cy="1655640"/>
            </a:xfrm>
            <a:custGeom>
              <a:avLst/>
              <a:gdLst/>
              <a:ahLst/>
              <a:rect l="l" t="t" r="r" b="b"/>
              <a:pathLst>
                <a:path w="325" h="491">
                  <a:moveTo>
                    <a:pt x="325" y="245"/>
                  </a:moveTo>
                  <a:cubicBezTo>
                    <a:pt x="325" y="268"/>
                    <a:pt x="316" y="289"/>
                    <a:pt x="301" y="303"/>
                  </a:cubicBezTo>
                  <a:cubicBezTo>
                    <a:pt x="300" y="303"/>
                    <a:pt x="300" y="303"/>
                    <a:pt x="300" y="303"/>
                  </a:cubicBezTo>
                  <a:cubicBezTo>
                    <a:pt x="143" y="460"/>
                    <a:pt x="143" y="460"/>
                    <a:pt x="143" y="460"/>
                  </a:cubicBezTo>
                  <a:cubicBezTo>
                    <a:pt x="112" y="491"/>
                    <a:pt x="62" y="491"/>
                    <a:pt x="31" y="460"/>
                  </a:cubicBezTo>
                  <a:cubicBezTo>
                    <a:pt x="0" y="429"/>
                    <a:pt x="0" y="379"/>
                    <a:pt x="31" y="348"/>
                  </a:cubicBezTo>
                  <a:cubicBezTo>
                    <a:pt x="134" y="245"/>
                    <a:pt x="134" y="245"/>
                    <a:pt x="134" y="245"/>
                  </a:cubicBezTo>
                  <a:cubicBezTo>
                    <a:pt x="31" y="143"/>
                    <a:pt x="31" y="143"/>
                    <a:pt x="31" y="143"/>
                  </a:cubicBezTo>
                  <a:cubicBezTo>
                    <a:pt x="0" y="112"/>
                    <a:pt x="0" y="62"/>
                    <a:pt x="31" y="31"/>
                  </a:cubicBezTo>
                  <a:cubicBezTo>
                    <a:pt x="62" y="0"/>
                    <a:pt x="112" y="0"/>
                    <a:pt x="143" y="31"/>
                  </a:cubicBezTo>
                  <a:cubicBezTo>
                    <a:pt x="300" y="188"/>
                    <a:pt x="300" y="188"/>
                    <a:pt x="300" y="188"/>
                  </a:cubicBezTo>
                  <a:cubicBezTo>
                    <a:pt x="301" y="188"/>
                    <a:pt x="301" y="188"/>
                    <a:pt x="301" y="188"/>
                  </a:cubicBezTo>
                  <a:cubicBezTo>
                    <a:pt x="316" y="202"/>
                    <a:pt x="325" y="223"/>
                    <a:pt x="325" y="245"/>
                  </a:cubicBezTo>
                </a:path>
              </a:pathLst>
            </a:custGeom>
            <a:solidFill>
              <a:srgbClr val="56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Freeform 22"/>
            <p:cNvSpPr/>
            <p:nvPr/>
          </p:nvSpPr>
          <p:spPr>
            <a:xfrm>
              <a:off x="5607000" y="4030560"/>
              <a:ext cx="644400" cy="536400"/>
            </a:xfrm>
            <a:custGeom>
              <a:avLst/>
              <a:gdLst/>
              <a:ahLst/>
              <a:rect l="l" t="t" r="r" b="b"/>
              <a:pathLst>
                <a:path w="191" h="159">
                  <a:moveTo>
                    <a:pt x="112" y="0"/>
                  </a:moveTo>
                  <a:cubicBezTo>
                    <a:pt x="94" y="0"/>
                    <a:pt x="77" y="6"/>
                    <a:pt x="63" y="17"/>
                  </a:cubicBezTo>
                  <a:cubicBezTo>
                    <a:pt x="63" y="17"/>
                    <a:pt x="62" y="17"/>
                    <a:pt x="62" y="18"/>
                  </a:cubicBezTo>
                  <a:cubicBezTo>
                    <a:pt x="50" y="29"/>
                    <a:pt x="50" y="29"/>
                    <a:pt x="50" y="2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29" y="109"/>
                    <a:pt x="29" y="109"/>
                    <a:pt x="29" y="109"/>
                  </a:cubicBezTo>
                  <a:cubicBezTo>
                    <a:pt x="50" y="130"/>
                    <a:pt x="50" y="130"/>
                    <a:pt x="50" y="130"/>
                  </a:cubicBezTo>
                  <a:cubicBezTo>
                    <a:pt x="62" y="141"/>
                    <a:pt x="62" y="141"/>
                    <a:pt x="62" y="141"/>
                  </a:cubicBezTo>
                  <a:cubicBezTo>
                    <a:pt x="65" y="144"/>
                    <a:pt x="69" y="147"/>
                    <a:pt x="73" y="149"/>
                  </a:cubicBezTo>
                  <a:cubicBezTo>
                    <a:pt x="85" y="155"/>
                    <a:pt x="98" y="159"/>
                    <a:pt x="112" y="159"/>
                  </a:cubicBezTo>
                  <a:cubicBezTo>
                    <a:pt x="112" y="159"/>
                    <a:pt x="112" y="159"/>
                    <a:pt x="112" y="159"/>
                  </a:cubicBezTo>
                  <a:cubicBezTo>
                    <a:pt x="112" y="159"/>
                    <a:pt x="112" y="159"/>
                    <a:pt x="112" y="159"/>
                  </a:cubicBezTo>
                  <a:cubicBezTo>
                    <a:pt x="133" y="159"/>
                    <a:pt x="152" y="151"/>
                    <a:pt x="166" y="138"/>
                  </a:cubicBezTo>
                  <a:cubicBezTo>
                    <a:pt x="166" y="137"/>
                    <a:pt x="166" y="137"/>
                    <a:pt x="166" y="137"/>
                  </a:cubicBezTo>
                  <a:cubicBezTo>
                    <a:pt x="166" y="137"/>
                    <a:pt x="166" y="137"/>
                    <a:pt x="166" y="137"/>
                  </a:cubicBezTo>
                  <a:cubicBezTo>
                    <a:pt x="167" y="137"/>
                    <a:pt x="167" y="137"/>
                    <a:pt x="167" y="137"/>
                  </a:cubicBezTo>
                  <a:cubicBezTo>
                    <a:pt x="175" y="129"/>
                    <a:pt x="182" y="119"/>
                    <a:pt x="186" y="107"/>
                  </a:cubicBezTo>
                  <a:cubicBezTo>
                    <a:pt x="190" y="99"/>
                    <a:pt x="191" y="8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69"/>
                    <a:pt x="190" y="65"/>
                    <a:pt x="189" y="60"/>
                  </a:cubicBezTo>
                  <a:cubicBezTo>
                    <a:pt x="189" y="60"/>
                    <a:pt x="189" y="60"/>
                    <a:pt x="189" y="60"/>
                  </a:cubicBezTo>
                  <a:cubicBezTo>
                    <a:pt x="189" y="60"/>
                    <a:pt x="189" y="60"/>
                    <a:pt x="189" y="60"/>
                  </a:cubicBezTo>
                  <a:cubicBezTo>
                    <a:pt x="189" y="60"/>
                    <a:pt x="189" y="60"/>
                    <a:pt x="189" y="60"/>
                  </a:cubicBezTo>
                  <a:cubicBezTo>
                    <a:pt x="189" y="60"/>
                    <a:pt x="189" y="60"/>
                    <a:pt x="189" y="60"/>
                  </a:cubicBezTo>
                  <a:cubicBezTo>
                    <a:pt x="189" y="60"/>
                    <a:pt x="189" y="60"/>
                    <a:pt x="189" y="60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8"/>
                    <a:pt x="189" y="58"/>
                    <a:pt x="189" y="58"/>
                  </a:cubicBezTo>
                  <a:cubicBezTo>
                    <a:pt x="185" y="44"/>
                    <a:pt x="177" y="32"/>
                    <a:pt x="167" y="22"/>
                  </a:cubicBezTo>
                  <a:cubicBezTo>
                    <a:pt x="166" y="22"/>
                    <a:pt x="166" y="22"/>
                    <a:pt x="166" y="22"/>
                  </a:cubicBezTo>
                  <a:cubicBezTo>
                    <a:pt x="166" y="21"/>
                    <a:pt x="166" y="21"/>
                    <a:pt x="166" y="21"/>
                  </a:cubicBezTo>
                  <a:cubicBezTo>
                    <a:pt x="166" y="21"/>
                    <a:pt x="166" y="21"/>
                    <a:pt x="166" y="21"/>
                  </a:cubicBezTo>
                  <a:cubicBezTo>
                    <a:pt x="152" y="8"/>
                    <a:pt x="133" y="0"/>
                    <a:pt x="112" y="0"/>
                  </a:cubicBezTo>
                </a:path>
              </a:pathLst>
            </a:custGeom>
            <a:solidFill>
              <a:srgbClr val="2b3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Freeform 25"/>
            <p:cNvSpPr/>
            <p:nvPr/>
          </p:nvSpPr>
          <p:spPr>
            <a:xfrm>
              <a:off x="5337000" y="4030560"/>
              <a:ext cx="647640" cy="266400"/>
            </a:xfrm>
            <a:custGeom>
              <a:avLst/>
              <a:gdLst/>
              <a:ahLst/>
              <a:rect l="l" t="t" r="r" b="b"/>
              <a:pathLst>
                <a:path w="192" h="79">
                  <a:moveTo>
                    <a:pt x="1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130" y="29"/>
                    <a:pt x="130" y="29"/>
                    <a:pt x="130" y="29"/>
                  </a:cubicBezTo>
                  <a:cubicBezTo>
                    <a:pt x="142" y="18"/>
                    <a:pt x="142" y="18"/>
                    <a:pt x="142" y="18"/>
                  </a:cubicBezTo>
                  <a:cubicBezTo>
                    <a:pt x="142" y="17"/>
                    <a:pt x="143" y="17"/>
                    <a:pt x="143" y="17"/>
                  </a:cubicBezTo>
                  <a:cubicBezTo>
                    <a:pt x="157" y="6"/>
                    <a:pt x="174" y="0"/>
                    <a:pt x="192" y="0"/>
                  </a:cubicBezTo>
                </a:path>
              </a:pathLst>
            </a:custGeom>
            <a:solidFill>
              <a:srgbClr val="404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Freeform 29"/>
            <p:cNvSpPr/>
            <p:nvPr/>
          </p:nvSpPr>
          <p:spPr>
            <a:xfrm>
              <a:off x="5337000" y="4297320"/>
              <a:ext cx="647640" cy="269640"/>
            </a:xfrm>
            <a:custGeom>
              <a:avLst/>
              <a:gdLst/>
              <a:ahLst/>
              <a:rect l="l" t="t" r="r" b="b"/>
              <a:pathLst>
                <a:path w="192" h="80">
                  <a:moveTo>
                    <a:pt x="80" y="0"/>
                  </a:moveTo>
                  <a:cubicBezTo>
                    <a:pt x="0" y="80"/>
                    <a:pt x="0" y="80"/>
                    <a:pt x="0" y="80"/>
                  </a:cubicBezTo>
                  <a:cubicBezTo>
                    <a:pt x="192" y="80"/>
                    <a:pt x="192" y="80"/>
                    <a:pt x="192" y="80"/>
                  </a:cubicBezTo>
                  <a:cubicBezTo>
                    <a:pt x="192" y="80"/>
                    <a:pt x="192" y="80"/>
                    <a:pt x="192" y="80"/>
                  </a:cubicBezTo>
                  <a:cubicBezTo>
                    <a:pt x="178" y="80"/>
                    <a:pt x="165" y="76"/>
                    <a:pt x="153" y="70"/>
                  </a:cubicBezTo>
                  <a:cubicBezTo>
                    <a:pt x="149" y="68"/>
                    <a:pt x="145" y="65"/>
                    <a:pt x="142" y="62"/>
                  </a:cubicBezTo>
                  <a:cubicBezTo>
                    <a:pt x="130" y="51"/>
                    <a:pt x="130" y="51"/>
                    <a:pt x="130" y="51"/>
                  </a:cubicBezTo>
                  <a:cubicBezTo>
                    <a:pt x="109" y="30"/>
                    <a:pt x="109" y="30"/>
                    <a:pt x="109" y="30"/>
                  </a:cubicBezTo>
                  <a:cubicBezTo>
                    <a:pt x="80" y="0"/>
                    <a:pt x="80" y="0"/>
                    <a:pt x="80" y="0"/>
                  </a:cubicBezTo>
                </a:path>
              </a:pathLst>
            </a:custGeom>
            <a:solidFill>
              <a:srgbClr val="404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Shape 2748"/>
            <p:cNvSpPr/>
            <p:nvPr/>
          </p:nvSpPr>
          <p:spPr>
            <a:xfrm>
              <a:off x="5858640" y="41385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8" name="Group 224"/>
          <p:cNvGrpSpPr/>
          <p:nvPr/>
        </p:nvGrpSpPr>
        <p:grpSpPr>
          <a:xfrm>
            <a:off x="5946840" y="2470320"/>
            <a:ext cx="2104920" cy="1658880"/>
            <a:chOff x="5946840" y="2470320"/>
            <a:chExt cx="2104920" cy="1658880"/>
          </a:xfrm>
        </p:grpSpPr>
        <p:sp>
          <p:nvSpPr>
            <p:cNvPr id="1119" name="Freeform 31"/>
            <p:cNvSpPr/>
            <p:nvPr/>
          </p:nvSpPr>
          <p:spPr>
            <a:xfrm>
              <a:off x="5946840" y="3029040"/>
              <a:ext cx="2104920" cy="536400"/>
            </a:xfrm>
            <a:custGeom>
              <a:avLst/>
              <a:gdLst/>
              <a:ahLst/>
              <a:rect l="l" t="t" r="r" b="b"/>
              <a:pathLst>
                <a:path w="624" h="159">
                  <a:moveTo>
                    <a:pt x="79" y="159"/>
                  </a:moveTo>
                  <a:cubicBezTo>
                    <a:pt x="545" y="159"/>
                    <a:pt x="545" y="159"/>
                    <a:pt x="545" y="159"/>
                  </a:cubicBezTo>
                  <a:cubicBezTo>
                    <a:pt x="589" y="159"/>
                    <a:pt x="624" y="124"/>
                    <a:pt x="624" y="80"/>
                  </a:cubicBezTo>
                  <a:cubicBezTo>
                    <a:pt x="624" y="36"/>
                    <a:pt x="589" y="0"/>
                    <a:pt x="545" y="0"/>
                  </a:cubicBezTo>
                  <a:cubicBezTo>
                    <a:pt x="79" y="0"/>
                    <a:pt x="79" y="0"/>
                    <a:pt x="79" y="0"/>
                  </a:cubicBezTo>
                  <a:cubicBezTo>
                    <a:pt x="35" y="0"/>
                    <a:pt x="0" y="36"/>
                    <a:pt x="0" y="80"/>
                  </a:cubicBezTo>
                  <a:cubicBezTo>
                    <a:pt x="0" y="124"/>
                    <a:pt x="35" y="159"/>
                    <a:pt x="79" y="159"/>
                  </a:cubicBezTo>
                </a:path>
              </a:pathLst>
            </a:custGeom>
            <a:solidFill>
              <a:srgbClr val="ff8e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Freeform 32"/>
            <p:cNvSpPr/>
            <p:nvPr/>
          </p:nvSpPr>
          <p:spPr>
            <a:xfrm>
              <a:off x="5946840" y="2470320"/>
              <a:ext cx="1096920" cy="1658880"/>
            </a:xfrm>
            <a:custGeom>
              <a:avLst/>
              <a:gdLst/>
              <a:ahLst/>
              <a:rect l="l" t="t" r="r" b="b"/>
              <a:pathLst>
                <a:path w="325" h="492">
                  <a:moveTo>
                    <a:pt x="0" y="246"/>
                  </a:moveTo>
                  <a:cubicBezTo>
                    <a:pt x="0" y="268"/>
                    <a:pt x="9" y="289"/>
                    <a:pt x="24" y="303"/>
                  </a:cubicBezTo>
                  <a:cubicBezTo>
                    <a:pt x="25" y="304"/>
                    <a:pt x="25" y="304"/>
                    <a:pt x="25" y="304"/>
                  </a:cubicBezTo>
                  <a:cubicBezTo>
                    <a:pt x="182" y="461"/>
                    <a:pt x="182" y="461"/>
                    <a:pt x="182" y="461"/>
                  </a:cubicBezTo>
                  <a:cubicBezTo>
                    <a:pt x="213" y="492"/>
                    <a:pt x="263" y="492"/>
                    <a:pt x="294" y="461"/>
                  </a:cubicBezTo>
                  <a:cubicBezTo>
                    <a:pt x="325" y="430"/>
                    <a:pt x="325" y="379"/>
                    <a:pt x="294" y="348"/>
                  </a:cubicBezTo>
                  <a:cubicBezTo>
                    <a:pt x="191" y="246"/>
                    <a:pt x="191" y="246"/>
                    <a:pt x="191" y="246"/>
                  </a:cubicBezTo>
                  <a:cubicBezTo>
                    <a:pt x="294" y="143"/>
                    <a:pt x="294" y="143"/>
                    <a:pt x="294" y="143"/>
                  </a:cubicBezTo>
                  <a:cubicBezTo>
                    <a:pt x="325" y="112"/>
                    <a:pt x="325" y="62"/>
                    <a:pt x="294" y="31"/>
                  </a:cubicBezTo>
                  <a:cubicBezTo>
                    <a:pt x="263" y="0"/>
                    <a:pt x="213" y="0"/>
                    <a:pt x="182" y="31"/>
                  </a:cubicBezTo>
                  <a:cubicBezTo>
                    <a:pt x="25" y="188"/>
                    <a:pt x="25" y="188"/>
                    <a:pt x="25" y="188"/>
                  </a:cubicBezTo>
                  <a:cubicBezTo>
                    <a:pt x="24" y="188"/>
                    <a:pt x="24" y="188"/>
                    <a:pt x="24" y="188"/>
                  </a:cubicBezTo>
                  <a:cubicBezTo>
                    <a:pt x="9" y="203"/>
                    <a:pt x="0" y="223"/>
                    <a:pt x="0" y="246"/>
                  </a:cubicBezTo>
                </a:path>
              </a:pathLst>
            </a:custGeom>
            <a:solidFill>
              <a:srgbClr val="ff8e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Freeform 37"/>
            <p:cNvSpPr/>
            <p:nvPr/>
          </p:nvSpPr>
          <p:spPr>
            <a:xfrm>
              <a:off x="5946840" y="3029040"/>
              <a:ext cx="644400" cy="536400"/>
            </a:xfrm>
            <a:custGeom>
              <a:avLst/>
              <a:gdLst/>
              <a:ahLst/>
              <a:rect l="l" t="t" r="r" b="b"/>
              <a:pathLst>
                <a:path w="191" h="159">
                  <a:moveTo>
                    <a:pt x="79" y="0"/>
                  </a:moveTo>
                  <a:cubicBezTo>
                    <a:pt x="58" y="0"/>
                    <a:pt x="39" y="8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4" y="22"/>
                    <a:pt x="24" y="22"/>
                    <a:pt x="24" y="22"/>
                  </a:cubicBezTo>
                  <a:cubicBezTo>
                    <a:pt x="14" y="32"/>
                    <a:pt x="7" y="44"/>
                    <a:pt x="3" y="57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3" y="57"/>
                    <a:pt x="3" y="58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1" y="63"/>
                    <a:pt x="0" y="69"/>
                    <a:pt x="0" y="7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74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0" y="90"/>
                    <a:pt x="1" y="99"/>
                    <a:pt x="5" y="108"/>
                  </a:cubicBezTo>
                  <a:cubicBezTo>
                    <a:pt x="9" y="119"/>
                    <a:pt x="16" y="129"/>
                    <a:pt x="24" y="137"/>
                  </a:cubicBezTo>
                  <a:cubicBezTo>
                    <a:pt x="25" y="138"/>
                    <a:pt x="25" y="138"/>
                    <a:pt x="25" y="138"/>
                  </a:cubicBezTo>
                  <a:cubicBezTo>
                    <a:pt x="25" y="138"/>
                    <a:pt x="25" y="138"/>
                    <a:pt x="25" y="138"/>
                  </a:cubicBezTo>
                  <a:cubicBezTo>
                    <a:pt x="25" y="138"/>
                    <a:pt x="25" y="138"/>
                    <a:pt x="25" y="138"/>
                  </a:cubicBezTo>
                  <a:cubicBezTo>
                    <a:pt x="39" y="151"/>
                    <a:pt x="58" y="159"/>
                    <a:pt x="79" y="159"/>
                  </a:cubicBezTo>
                  <a:cubicBezTo>
                    <a:pt x="79" y="159"/>
                    <a:pt x="79" y="159"/>
                    <a:pt x="79" y="159"/>
                  </a:cubicBezTo>
                  <a:cubicBezTo>
                    <a:pt x="79" y="159"/>
                    <a:pt x="79" y="159"/>
                    <a:pt x="79" y="159"/>
                  </a:cubicBezTo>
                  <a:cubicBezTo>
                    <a:pt x="94" y="159"/>
                    <a:pt x="107" y="155"/>
                    <a:pt x="119" y="148"/>
                  </a:cubicBezTo>
                  <a:cubicBezTo>
                    <a:pt x="123" y="146"/>
                    <a:pt x="126" y="144"/>
                    <a:pt x="129" y="141"/>
                  </a:cubicBezTo>
                  <a:cubicBezTo>
                    <a:pt x="141" y="130"/>
                    <a:pt x="141" y="130"/>
                    <a:pt x="141" y="130"/>
                  </a:cubicBezTo>
                  <a:cubicBezTo>
                    <a:pt x="163" y="108"/>
                    <a:pt x="163" y="108"/>
                    <a:pt x="163" y="108"/>
                  </a:cubicBezTo>
                  <a:cubicBezTo>
                    <a:pt x="191" y="80"/>
                    <a:pt x="191" y="80"/>
                    <a:pt x="191" y="80"/>
                  </a:cubicBezTo>
                  <a:cubicBezTo>
                    <a:pt x="141" y="30"/>
                    <a:pt x="141" y="30"/>
                    <a:pt x="141" y="30"/>
                  </a:cubicBezTo>
                  <a:cubicBezTo>
                    <a:pt x="129" y="18"/>
                    <a:pt x="129" y="18"/>
                    <a:pt x="129" y="18"/>
                  </a:cubicBezTo>
                  <a:cubicBezTo>
                    <a:pt x="129" y="18"/>
                    <a:pt x="128" y="17"/>
                    <a:pt x="128" y="17"/>
                  </a:cubicBezTo>
                  <a:cubicBezTo>
                    <a:pt x="114" y="7"/>
                    <a:pt x="97" y="0"/>
                    <a:pt x="79" y="0"/>
                  </a:cubicBezTo>
                </a:path>
              </a:pathLst>
            </a:custGeom>
            <a:solidFill>
              <a:srgbClr val="b6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Freeform 40"/>
            <p:cNvSpPr/>
            <p:nvPr/>
          </p:nvSpPr>
          <p:spPr>
            <a:xfrm>
              <a:off x="6213240" y="3029040"/>
              <a:ext cx="647640" cy="269640"/>
            </a:xfrm>
            <a:custGeom>
              <a:avLst/>
              <a:gdLst/>
              <a:ahLst/>
              <a:rect l="l" t="t" r="r" b="b"/>
              <a:pathLst>
                <a:path w="192" h="80">
                  <a:moveTo>
                    <a:pt x="0" y="0"/>
                  </a:moveTo>
                  <a:cubicBezTo>
                    <a:pt x="18" y="0"/>
                    <a:pt x="35" y="7"/>
                    <a:pt x="49" y="17"/>
                  </a:cubicBezTo>
                  <a:cubicBezTo>
                    <a:pt x="49" y="17"/>
                    <a:pt x="50" y="18"/>
                    <a:pt x="50" y="18"/>
                  </a:cubicBezTo>
                  <a:cubicBezTo>
                    <a:pt x="62" y="29"/>
                    <a:pt x="62" y="29"/>
                    <a:pt x="62" y="29"/>
                  </a:cubicBezTo>
                  <a:cubicBezTo>
                    <a:pt x="112" y="80"/>
                    <a:pt x="112" y="80"/>
                    <a:pt x="112" y="80"/>
                  </a:cubicBezTo>
                  <a:cubicBezTo>
                    <a:pt x="112" y="80"/>
                    <a:pt x="112" y="80"/>
                    <a:pt x="112" y="80"/>
                  </a:cubicBezTo>
                  <a:cubicBezTo>
                    <a:pt x="112" y="80"/>
                    <a:pt x="112" y="80"/>
                    <a:pt x="112" y="80"/>
                  </a:cubicBezTo>
                  <a:cubicBezTo>
                    <a:pt x="192" y="0"/>
                    <a:pt x="192" y="0"/>
                    <a:pt x="19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4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Freeform 44"/>
            <p:cNvSpPr/>
            <p:nvPr/>
          </p:nvSpPr>
          <p:spPr>
            <a:xfrm>
              <a:off x="6213240" y="3299040"/>
              <a:ext cx="647640" cy="266400"/>
            </a:xfrm>
            <a:custGeom>
              <a:avLst/>
              <a:gdLst/>
              <a:ahLst/>
              <a:rect l="l" t="t" r="r" b="b"/>
              <a:pathLst>
                <a:path w="192" h="79">
                  <a:moveTo>
                    <a:pt x="112" y="0"/>
                  </a:moveTo>
                  <a:cubicBezTo>
                    <a:pt x="84" y="28"/>
                    <a:pt x="84" y="28"/>
                    <a:pt x="84" y="28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50" y="61"/>
                    <a:pt x="50" y="61"/>
                    <a:pt x="50" y="61"/>
                  </a:cubicBezTo>
                  <a:cubicBezTo>
                    <a:pt x="47" y="64"/>
                    <a:pt x="44" y="66"/>
                    <a:pt x="40" y="68"/>
                  </a:cubicBezTo>
                  <a:cubicBezTo>
                    <a:pt x="28" y="75"/>
                    <a:pt x="15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192" y="79"/>
                    <a:pt x="192" y="79"/>
                    <a:pt x="192" y="79"/>
                  </a:cubicBezTo>
                  <a:cubicBezTo>
                    <a:pt x="112" y="0"/>
                    <a:pt x="112" y="0"/>
                    <a:pt x="112" y="0"/>
                  </a:cubicBezTo>
                </a:path>
              </a:pathLst>
            </a:custGeom>
            <a:solidFill>
              <a:srgbClr val="ff4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Shape 2774"/>
            <p:cNvSpPr/>
            <p:nvPr/>
          </p:nvSpPr>
          <p:spPr>
            <a:xfrm>
              <a:off x="6067080" y="31615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5" name="Group 231"/>
          <p:cNvGrpSpPr/>
          <p:nvPr/>
        </p:nvGrpSpPr>
        <p:grpSpPr>
          <a:xfrm>
            <a:off x="4146480" y="1468440"/>
            <a:ext cx="2104920" cy="1658880"/>
            <a:chOff x="4146480" y="1468440"/>
            <a:chExt cx="2104920" cy="1658880"/>
          </a:xfrm>
        </p:grpSpPr>
        <p:sp>
          <p:nvSpPr>
            <p:cNvPr id="1126" name="Freeform 5"/>
            <p:cNvSpPr/>
            <p:nvPr/>
          </p:nvSpPr>
          <p:spPr>
            <a:xfrm>
              <a:off x="4146480" y="2031840"/>
              <a:ext cx="2104920" cy="531720"/>
            </a:xfrm>
            <a:custGeom>
              <a:avLst/>
              <a:gdLst/>
              <a:ahLst/>
              <a:rect l="l" t="t" r="r" b="b"/>
              <a:pathLst>
                <a:path w="624" h="158">
                  <a:moveTo>
                    <a:pt x="545" y="158"/>
                  </a:moveTo>
                  <a:cubicBezTo>
                    <a:pt x="79" y="158"/>
                    <a:pt x="79" y="158"/>
                    <a:pt x="79" y="158"/>
                  </a:cubicBezTo>
                  <a:cubicBezTo>
                    <a:pt x="35" y="158"/>
                    <a:pt x="0" y="123"/>
                    <a:pt x="0" y="79"/>
                  </a:cubicBezTo>
                  <a:cubicBezTo>
                    <a:pt x="0" y="35"/>
                    <a:pt x="35" y="0"/>
                    <a:pt x="79" y="0"/>
                  </a:cubicBezTo>
                  <a:cubicBezTo>
                    <a:pt x="545" y="0"/>
                    <a:pt x="545" y="0"/>
                    <a:pt x="545" y="0"/>
                  </a:cubicBezTo>
                  <a:cubicBezTo>
                    <a:pt x="589" y="0"/>
                    <a:pt x="624" y="35"/>
                    <a:pt x="624" y="79"/>
                  </a:cubicBezTo>
                  <a:cubicBezTo>
                    <a:pt x="624" y="123"/>
                    <a:pt x="589" y="158"/>
                    <a:pt x="545" y="158"/>
                  </a:cubicBezTo>
                </a:path>
              </a:pathLst>
            </a:custGeom>
            <a:solidFill>
              <a:srgbClr val="f15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Freeform 6"/>
            <p:cNvSpPr/>
            <p:nvPr/>
          </p:nvSpPr>
          <p:spPr>
            <a:xfrm>
              <a:off x="5154480" y="1468440"/>
              <a:ext cx="1096920" cy="1658880"/>
            </a:xfrm>
            <a:custGeom>
              <a:avLst/>
              <a:gdLst/>
              <a:ahLst/>
              <a:rect l="l" t="t" r="r" b="b"/>
              <a:pathLst>
                <a:path w="325" h="492">
                  <a:moveTo>
                    <a:pt x="325" y="246"/>
                  </a:moveTo>
                  <a:cubicBezTo>
                    <a:pt x="325" y="269"/>
                    <a:pt x="316" y="289"/>
                    <a:pt x="301" y="304"/>
                  </a:cubicBezTo>
                  <a:cubicBezTo>
                    <a:pt x="300" y="304"/>
                    <a:pt x="300" y="304"/>
                    <a:pt x="300" y="304"/>
                  </a:cubicBezTo>
                  <a:cubicBezTo>
                    <a:pt x="143" y="461"/>
                    <a:pt x="143" y="461"/>
                    <a:pt x="143" y="461"/>
                  </a:cubicBezTo>
                  <a:cubicBezTo>
                    <a:pt x="112" y="492"/>
                    <a:pt x="62" y="492"/>
                    <a:pt x="31" y="461"/>
                  </a:cubicBezTo>
                  <a:cubicBezTo>
                    <a:pt x="0" y="430"/>
                    <a:pt x="0" y="380"/>
                    <a:pt x="31" y="349"/>
                  </a:cubicBezTo>
                  <a:cubicBezTo>
                    <a:pt x="134" y="246"/>
                    <a:pt x="134" y="246"/>
                    <a:pt x="134" y="246"/>
                  </a:cubicBezTo>
                  <a:cubicBezTo>
                    <a:pt x="31" y="144"/>
                    <a:pt x="31" y="144"/>
                    <a:pt x="31" y="144"/>
                  </a:cubicBezTo>
                  <a:cubicBezTo>
                    <a:pt x="0" y="113"/>
                    <a:pt x="0" y="62"/>
                    <a:pt x="31" y="31"/>
                  </a:cubicBezTo>
                  <a:cubicBezTo>
                    <a:pt x="62" y="0"/>
                    <a:pt x="112" y="0"/>
                    <a:pt x="143" y="31"/>
                  </a:cubicBezTo>
                  <a:cubicBezTo>
                    <a:pt x="300" y="188"/>
                    <a:pt x="300" y="188"/>
                    <a:pt x="300" y="188"/>
                  </a:cubicBezTo>
                  <a:cubicBezTo>
                    <a:pt x="301" y="188"/>
                    <a:pt x="301" y="188"/>
                    <a:pt x="301" y="188"/>
                  </a:cubicBezTo>
                  <a:cubicBezTo>
                    <a:pt x="316" y="203"/>
                    <a:pt x="325" y="223"/>
                    <a:pt x="325" y="246"/>
                  </a:cubicBezTo>
                </a:path>
              </a:pathLst>
            </a:custGeom>
            <a:solidFill>
              <a:srgbClr val="f15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Freeform 9"/>
            <p:cNvSpPr/>
            <p:nvPr/>
          </p:nvSpPr>
          <p:spPr>
            <a:xfrm>
              <a:off x="5607000" y="2031840"/>
              <a:ext cx="644400" cy="531720"/>
            </a:xfrm>
            <a:custGeom>
              <a:avLst/>
              <a:gdLst/>
              <a:ahLst/>
              <a:rect l="l" t="t" r="r" b="b"/>
              <a:pathLst>
                <a:path w="191" h="158">
                  <a:moveTo>
                    <a:pt x="112" y="0"/>
                  </a:moveTo>
                  <a:cubicBezTo>
                    <a:pt x="94" y="0"/>
                    <a:pt x="77" y="6"/>
                    <a:pt x="63" y="16"/>
                  </a:cubicBezTo>
                  <a:cubicBezTo>
                    <a:pt x="63" y="17"/>
                    <a:pt x="62" y="17"/>
                    <a:pt x="62" y="17"/>
                  </a:cubicBezTo>
                  <a:cubicBezTo>
                    <a:pt x="50" y="29"/>
                    <a:pt x="50" y="29"/>
                    <a:pt x="50" y="2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29" y="107"/>
                    <a:pt x="29" y="107"/>
                    <a:pt x="29" y="107"/>
                  </a:cubicBezTo>
                  <a:cubicBezTo>
                    <a:pt x="50" y="129"/>
                    <a:pt x="50" y="129"/>
                    <a:pt x="50" y="129"/>
                  </a:cubicBezTo>
                  <a:cubicBezTo>
                    <a:pt x="62" y="141"/>
                    <a:pt x="62" y="141"/>
                    <a:pt x="62" y="141"/>
                  </a:cubicBezTo>
                  <a:cubicBezTo>
                    <a:pt x="65" y="144"/>
                    <a:pt x="69" y="146"/>
                    <a:pt x="73" y="148"/>
                  </a:cubicBezTo>
                  <a:cubicBezTo>
                    <a:pt x="85" y="155"/>
                    <a:pt x="98" y="158"/>
                    <a:pt x="112" y="158"/>
                  </a:cubicBezTo>
                  <a:cubicBezTo>
                    <a:pt x="112" y="158"/>
                    <a:pt x="112" y="158"/>
                    <a:pt x="112" y="158"/>
                  </a:cubicBezTo>
                  <a:cubicBezTo>
                    <a:pt x="112" y="158"/>
                    <a:pt x="112" y="158"/>
                    <a:pt x="112" y="158"/>
                  </a:cubicBezTo>
                  <a:cubicBezTo>
                    <a:pt x="133" y="158"/>
                    <a:pt x="152" y="150"/>
                    <a:pt x="166" y="137"/>
                  </a:cubicBezTo>
                  <a:cubicBezTo>
                    <a:pt x="166" y="137"/>
                    <a:pt x="166" y="137"/>
                    <a:pt x="166" y="137"/>
                  </a:cubicBezTo>
                  <a:cubicBezTo>
                    <a:pt x="166" y="137"/>
                    <a:pt x="166" y="137"/>
                    <a:pt x="166" y="137"/>
                  </a:cubicBezTo>
                  <a:cubicBezTo>
                    <a:pt x="167" y="137"/>
                    <a:pt x="167" y="137"/>
                    <a:pt x="167" y="137"/>
                  </a:cubicBezTo>
                  <a:cubicBezTo>
                    <a:pt x="175" y="128"/>
                    <a:pt x="182" y="118"/>
                    <a:pt x="186" y="107"/>
                  </a:cubicBezTo>
                  <a:cubicBezTo>
                    <a:pt x="190" y="98"/>
                    <a:pt x="191" y="8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3"/>
                  </a:cubicBezTo>
                  <a:cubicBezTo>
                    <a:pt x="191" y="73"/>
                    <a:pt x="191" y="73"/>
                    <a:pt x="191" y="73"/>
                  </a:cubicBezTo>
                  <a:cubicBezTo>
                    <a:pt x="191" y="69"/>
                    <a:pt x="190" y="64"/>
                    <a:pt x="189" y="60"/>
                  </a:cubicBezTo>
                  <a:cubicBezTo>
                    <a:pt x="189" y="60"/>
                    <a:pt x="189" y="60"/>
                    <a:pt x="189" y="60"/>
                  </a:cubicBezTo>
                  <a:cubicBezTo>
                    <a:pt x="189" y="60"/>
                    <a:pt x="189" y="60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8"/>
                  </a:cubicBezTo>
                  <a:cubicBezTo>
                    <a:pt x="189" y="58"/>
                    <a:pt x="189" y="58"/>
                    <a:pt x="189" y="58"/>
                  </a:cubicBezTo>
                  <a:cubicBezTo>
                    <a:pt x="189" y="58"/>
                    <a:pt x="189" y="58"/>
                    <a:pt x="189" y="58"/>
                  </a:cubicBezTo>
                  <a:cubicBezTo>
                    <a:pt x="189" y="58"/>
                    <a:pt x="189" y="58"/>
                    <a:pt x="189" y="58"/>
                  </a:cubicBezTo>
                  <a:cubicBezTo>
                    <a:pt x="189" y="58"/>
                    <a:pt x="189" y="58"/>
                    <a:pt x="189" y="58"/>
                  </a:cubicBezTo>
                  <a:cubicBezTo>
                    <a:pt x="185" y="44"/>
                    <a:pt x="177" y="31"/>
                    <a:pt x="167" y="21"/>
                  </a:cubicBezTo>
                  <a:cubicBezTo>
                    <a:pt x="166" y="21"/>
                    <a:pt x="166" y="21"/>
                    <a:pt x="166" y="21"/>
                  </a:cubicBezTo>
                  <a:cubicBezTo>
                    <a:pt x="166" y="21"/>
                    <a:pt x="166" y="21"/>
                    <a:pt x="166" y="21"/>
                  </a:cubicBezTo>
                  <a:cubicBezTo>
                    <a:pt x="166" y="21"/>
                    <a:pt x="166" y="21"/>
                    <a:pt x="166" y="21"/>
                  </a:cubicBezTo>
                  <a:cubicBezTo>
                    <a:pt x="152" y="8"/>
                    <a:pt x="133" y="0"/>
                    <a:pt x="112" y="0"/>
                  </a:cubicBezTo>
                </a:path>
              </a:pathLst>
            </a:custGeom>
            <a:solidFill>
              <a:srgbClr val="832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Freeform 12"/>
            <p:cNvSpPr/>
            <p:nvPr/>
          </p:nvSpPr>
          <p:spPr>
            <a:xfrm>
              <a:off x="5337000" y="2031840"/>
              <a:ext cx="647640" cy="264960"/>
            </a:xfrm>
            <a:custGeom>
              <a:avLst/>
              <a:gdLst/>
              <a:ahLst/>
              <a:rect l="l" t="t" r="r" b="b"/>
              <a:pathLst>
                <a:path w="192" h="79">
                  <a:moveTo>
                    <a:pt x="1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130" y="29"/>
                    <a:pt x="130" y="29"/>
                    <a:pt x="130" y="29"/>
                  </a:cubicBezTo>
                  <a:cubicBezTo>
                    <a:pt x="142" y="18"/>
                    <a:pt x="142" y="18"/>
                    <a:pt x="142" y="18"/>
                  </a:cubicBezTo>
                  <a:cubicBezTo>
                    <a:pt x="142" y="17"/>
                    <a:pt x="143" y="17"/>
                    <a:pt x="143" y="16"/>
                  </a:cubicBezTo>
                  <a:cubicBezTo>
                    <a:pt x="157" y="6"/>
                    <a:pt x="174" y="0"/>
                    <a:pt x="192" y="0"/>
                  </a:cubicBezTo>
                </a:path>
              </a:pathLst>
            </a:custGeom>
            <a:solidFill>
              <a:srgbClr val="c43c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16"/>
            <p:cNvSpPr/>
            <p:nvPr/>
          </p:nvSpPr>
          <p:spPr>
            <a:xfrm>
              <a:off x="5337000" y="2297160"/>
              <a:ext cx="647640" cy="266400"/>
            </a:xfrm>
            <a:custGeom>
              <a:avLst/>
              <a:gdLst/>
              <a:ahLst/>
              <a:rect l="l" t="t" r="r" b="b"/>
              <a:pathLst>
                <a:path w="192" h="79">
                  <a:moveTo>
                    <a:pt x="80" y="0"/>
                  </a:moveTo>
                  <a:cubicBezTo>
                    <a:pt x="0" y="79"/>
                    <a:pt x="0" y="79"/>
                    <a:pt x="0" y="79"/>
                  </a:cubicBezTo>
                  <a:cubicBezTo>
                    <a:pt x="192" y="79"/>
                    <a:pt x="192" y="79"/>
                    <a:pt x="192" y="79"/>
                  </a:cubicBezTo>
                  <a:cubicBezTo>
                    <a:pt x="192" y="79"/>
                    <a:pt x="192" y="79"/>
                    <a:pt x="192" y="79"/>
                  </a:cubicBezTo>
                  <a:cubicBezTo>
                    <a:pt x="178" y="79"/>
                    <a:pt x="165" y="76"/>
                    <a:pt x="153" y="69"/>
                  </a:cubicBezTo>
                  <a:cubicBezTo>
                    <a:pt x="149" y="67"/>
                    <a:pt x="145" y="65"/>
                    <a:pt x="142" y="62"/>
                  </a:cubicBezTo>
                  <a:cubicBezTo>
                    <a:pt x="130" y="50"/>
                    <a:pt x="130" y="50"/>
                    <a:pt x="130" y="50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80" y="0"/>
                    <a:pt x="80" y="0"/>
                    <a:pt x="80" y="0"/>
                  </a:cubicBezTo>
                </a:path>
              </a:pathLst>
            </a:custGeom>
            <a:solidFill>
              <a:srgbClr val="c43c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Shape 2778"/>
            <p:cNvSpPr/>
            <p:nvPr/>
          </p:nvSpPr>
          <p:spPr>
            <a:xfrm>
              <a:off x="5858640" y="21556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500"/>
                            </p:stCondLst>
                            <p:childTnLst>
                              <p:par>
                                <p:cTn id="7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4000"/>
                            </p:stCondLst>
                            <p:childTnLst>
                              <p:par>
                                <p:cTn id="7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500"/>
                            </p:stCondLst>
                            <p:childTnLst>
                              <p:par>
                                <p:cTn id="7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4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0"/>
                            </p:stCondLst>
                            <p:childTnLst>
                              <p:par>
                                <p:cTn id="75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8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500"/>
                            </p:stCondLst>
                            <p:childTnLst>
                              <p:par>
                                <p:cTn id="76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2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29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itle 1"/>
          <p:cNvSpPr/>
          <p:nvPr/>
        </p:nvSpPr>
        <p:spPr>
          <a:xfrm>
            <a:off x="560520" y="325800"/>
            <a:ext cx="36525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Airplane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15a25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Freeform 33"/>
          <p:cNvSpPr/>
          <p:nvPr/>
        </p:nvSpPr>
        <p:spPr>
          <a:xfrm>
            <a:off x="-84240" y="2351160"/>
            <a:ext cx="9794880" cy="3583080"/>
          </a:xfrm>
          <a:custGeom>
            <a:avLst/>
            <a:gdLst/>
            <a:ahLst/>
            <a:rect l="l" t="t" r="r" b="b"/>
            <a:pathLst>
              <a:path w="2828" h="1032">
                <a:moveTo>
                  <a:pt x="0" y="856"/>
                </a:moveTo>
                <a:cubicBezTo>
                  <a:pt x="420" y="1032"/>
                  <a:pt x="464" y="536"/>
                  <a:pt x="660" y="540"/>
                </a:cubicBezTo>
                <a:cubicBezTo>
                  <a:pt x="856" y="544"/>
                  <a:pt x="976" y="736"/>
                  <a:pt x="1232" y="720"/>
                </a:cubicBezTo>
                <a:cubicBezTo>
                  <a:pt x="1488" y="704"/>
                  <a:pt x="1508" y="352"/>
                  <a:pt x="1772" y="320"/>
                </a:cubicBezTo>
                <a:cubicBezTo>
                  <a:pt x="2036" y="288"/>
                  <a:pt x="2063" y="491"/>
                  <a:pt x="2315" y="479"/>
                </a:cubicBezTo>
                <a:cubicBezTo>
                  <a:pt x="2567" y="467"/>
                  <a:pt x="2572" y="84"/>
                  <a:pt x="2828" y="0"/>
                </a:cubicBezTo>
              </a:path>
            </a:pathLst>
          </a:cu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6" name="Group 34"/>
          <p:cNvGrpSpPr/>
          <p:nvPr/>
        </p:nvGrpSpPr>
        <p:grpSpPr>
          <a:xfrm>
            <a:off x="1760400" y="3745080"/>
            <a:ext cx="995400" cy="993600"/>
            <a:chOff x="1760400" y="3745080"/>
            <a:chExt cx="995400" cy="993600"/>
          </a:xfrm>
        </p:grpSpPr>
        <p:sp>
          <p:nvSpPr>
            <p:cNvPr id="1137" name="Oval 19"/>
            <p:cNvSpPr/>
            <p:nvPr/>
          </p:nvSpPr>
          <p:spPr>
            <a:xfrm>
              <a:off x="1760400" y="3745080"/>
              <a:ext cx="995400" cy="993600"/>
            </a:xfrm>
            <a:prstGeom prst="ellipse">
              <a:avLst/>
            </a:prstGeom>
            <a:gradFill rotWithShape="0">
              <a:gsLst>
                <a:gs pos="0">
                  <a:srgbClr val="f57050"/>
                </a:gs>
                <a:gs pos="100000">
                  <a:srgbClr val="e5450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Shape 2778"/>
            <p:cNvSpPr/>
            <p:nvPr/>
          </p:nvSpPr>
          <p:spPr>
            <a:xfrm>
              <a:off x="2118600" y="41022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9" name="Group 37"/>
          <p:cNvGrpSpPr/>
          <p:nvPr/>
        </p:nvGrpSpPr>
        <p:grpSpPr>
          <a:xfrm>
            <a:off x="3657600" y="4365720"/>
            <a:ext cx="996840" cy="993600"/>
            <a:chOff x="3657600" y="4365720"/>
            <a:chExt cx="996840" cy="993600"/>
          </a:xfrm>
        </p:grpSpPr>
        <p:sp>
          <p:nvSpPr>
            <p:cNvPr id="1140" name="Oval 19"/>
            <p:cNvSpPr/>
            <p:nvPr/>
          </p:nvSpPr>
          <p:spPr>
            <a:xfrm>
              <a:off x="3657600" y="4365720"/>
              <a:ext cx="996840" cy="993600"/>
            </a:xfrm>
            <a:prstGeom prst="ellipse">
              <a:avLst/>
            </a:prstGeom>
            <a:gradFill rotWithShape="0">
              <a:gsLst>
                <a:gs pos="0">
                  <a:srgbClr val="ff9c80"/>
                </a:gs>
                <a:gs pos="100000">
                  <a:srgbClr val="e5754f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Shape 2774"/>
            <p:cNvSpPr/>
            <p:nvPr/>
          </p:nvSpPr>
          <p:spPr>
            <a:xfrm>
              <a:off x="4030200" y="47246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2" name="Group 40"/>
          <p:cNvGrpSpPr/>
          <p:nvPr/>
        </p:nvGrpSpPr>
        <p:grpSpPr>
          <a:xfrm>
            <a:off x="5556240" y="3009960"/>
            <a:ext cx="996840" cy="993600"/>
            <a:chOff x="5556240" y="3009960"/>
            <a:chExt cx="996840" cy="993600"/>
          </a:xfrm>
        </p:grpSpPr>
        <p:sp>
          <p:nvSpPr>
            <p:cNvPr id="1143" name="Oval 19"/>
            <p:cNvSpPr/>
            <p:nvPr/>
          </p:nvSpPr>
          <p:spPr>
            <a:xfrm>
              <a:off x="5556240" y="3009960"/>
              <a:ext cx="996840" cy="993600"/>
            </a:xfrm>
            <a:prstGeom prst="ellipse">
              <a:avLst/>
            </a:prstGeom>
            <a:gradFill rotWithShape="0">
              <a:gsLst>
                <a:gs pos="0">
                  <a:srgbClr val="6c7a8b"/>
                </a:gs>
                <a:gs pos="100000">
                  <a:srgbClr val="485b71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Shape 2748"/>
            <p:cNvSpPr/>
            <p:nvPr/>
          </p:nvSpPr>
          <p:spPr>
            <a:xfrm>
              <a:off x="5922720" y="33422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5" name="Group 68"/>
          <p:cNvGrpSpPr/>
          <p:nvPr/>
        </p:nvGrpSpPr>
        <p:grpSpPr>
          <a:xfrm>
            <a:off x="7454880" y="3537000"/>
            <a:ext cx="995400" cy="992160"/>
            <a:chOff x="7454880" y="3537000"/>
            <a:chExt cx="995400" cy="992160"/>
          </a:xfrm>
        </p:grpSpPr>
        <p:sp>
          <p:nvSpPr>
            <p:cNvPr id="1146" name="Oval 19"/>
            <p:cNvSpPr/>
            <p:nvPr/>
          </p:nvSpPr>
          <p:spPr>
            <a:xfrm>
              <a:off x="7454880" y="3537000"/>
              <a:ext cx="995400" cy="992160"/>
            </a:xfrm>
            <a:prstGeom prst="ellipse">
              <a:avLst/>
            </a:prstGeom>
            <a:gradFill rotWithShape="0">
              <a:gsLst>
                <a:gs pos="0">
                  <a:srgbClr val="5f6b7c"/>
                </a:gs>
                <a:gs pos="100000">
                  <a:srgbClr val="384961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Shape 2784"/>
            <p:cNvSpPr/>
            <p:nvPr/>
          </p:nvSpPr>
          <p:spPr>
            <a:xfrm>
              <a:off x="7813080" y="389340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8" name="Shape 2587"/>
          <p:cNvSpPr/>
          <p:nvPr/>
        </p:nvSpPr>
        <p:spPr>
          <a:xfrm>
            <a:off x="9656640" y="830160"/>
            <a:ext cx="1589040" cy="158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281" y="19846"/>
                </a:moveTo>
                <a:lnTo>
                  <a:pt x="9413" y="12882"/>
                </a:lnTo>
                <a:lnTo>
                  <a:pt x="19655" y="2640"/>
                </a:lnTo>
                <a:cubicBezTo>
                  <a:pt x="19655" y="2640"/>
                  <a:pt x="12281" y="19846"/>
                  <a:pt x="12281" y="19846"/>
                </a:cubicBezTo>
                <a:close/>
                <a:moveTo>
                  <a:pt x="1755" y="9320"/>
                </a:moveTo>
                <a:lnTo>
                  <a:pt x="18960" y="1945"/>
                </a:lnTo>
                <a:lnTo>
                  <a:pt x="8719" y="12187"/>
                </a:lnTo>
                <a:cubicBezTo>
                  <a:pt x="8719" y="12187"/>
                  <a:pt x="1755" y="9320"/>
                  <a:pt x="1755" y="9320"/>
                </a:cubicBezTo>
                <a:close/>
                <a:moveTo>
                  <a:pt x="21600" y="491"/>
                </a:moveTo>
                <a:cubicBezTo>
                  <a:pt x="21600" y="220"/>
                  <a:pt x="21380" y="0"/>
                  <a:pt x="21109" y="0"/>
                </a:cubicBezTo>
                <a:cubicBezTo>
                  <a:pt x="21034" y="0"/>
                  <a:pt x="20964" y="20"/>
                  <a:pt x="20900" y="52"/>
                </a:cubicBezTo>
                <a:lnTo>
                  <a:pt x="20898" y="48"/>
                </a:lnTo>
                <a:lnTo>
                  <a:pt x="302" y="8875"/>
                </a:lnTo>
                <a:cubicBezTo>
                  <a:pt x="301" y="8875"/>
                  <a:pt x="299" y="8876"/>
                  <a:pt x="297" y="8877"/>
                </a:cubicBezTo>
                <a:lnTo>
                  <a:pt x="280" y="8885"/>
                </a:lnTo>
                <a:lnTo>
                  <a:pt x="281" y="8887"/>
                </a:lnTo>
                <a:cubicBezTo>
                  <a:pt x="116" y="8967"/>
                  <a:pt x="0" y="9132"/>
                  <a:pt x="0" y="9327"/>
                </a:cubicBezTo>
                <a:cubicBezTo>
                  <a:pt x="0" y="9550"/>
                  <a:pt x="151" y="9731"/>
                  <a:pt x="355" y="9791"/>
                </a:cubicBezTo>
                <a:lnTo>
                  <a:pt x="353" y="9799"/>
                </a:lnTo>
                <a:lnTo>
                  <a:pt x="8462" y="13138"/>
                </a:lnTo>
                <a:lnTo>
                  <a:pt x="11801" y="21248"/>
                </a:lnTo>
                <a:lnTo>
                  <a:pt x="11809" y="21245"/>
                </a:lnTo>
                <a:cubicBezTo>
                  <a:pt x="11869" y="21449"/>
                  <a:pt x="12050" y="21600"/>
                  <a:pt x="12273" y="21600"/>
                </a:cubicBezTo>
                <a:cubicBezTo>
                  <a:pt x="12468" y="21600"/>
                  <a:pt x="12634" y="21484"/>
                  <a:pt x="12713" y="21319"/>
                </a:cubicBezTo>
                <a:lnTo>
                  <a:pt x="12716" y="21320"/>
                </a:lnTo>
                <a:lnTo>
                  <a:pt x="12723" y="21303"/>
                </a:lnTo>
                <a:cubicBezTo>
                  <a:pt x="12724" y="21301"/>
                  <a:pt x="12725" y="21300"/>
                  <a:pt x="12725" y="21298"/>
                </a:cubicBezTo>
                <a:lnTo>
                  <a:pt x="21553" y="702"/>
                </a:lnTo>
                <a:lnTo>
                  <a:pt x="21547" y="699"/>
                </a:lnTo>
                <a:cubicBezTo>
                  <a:pt x="21578" y="636"/>
                  <a:pt x="21600" y="567"/>
                  <a:pt x="21600" y="491"/>
                </a:cubicBezTo>
                <a:moveTo>
                  <a:pt x="7855" y="16200"/>
                </a:moveTo>
                <a:cubicBezTo>
                  <a:pt x="7719" y="16200"/>
                  <a:pt x="7596" y="16255"/>
                  <a:pt x="7507" y="16344"/>
                </a:cubicBezTo>
                <a:lnTo>
                  <a:pt x="6035" y="17817"/>
                </a:lnTo>
                <a:cubicBezTo>
                  <a:pt x="5946" y="17905"/>
                  <a:pt x="5891" y="18029"/>
                  <a:pt x="5891" y="18164"/>
                </a:cubicBezTo>
                <a:cubicBezTo>
                  <a:pt x="5891" y="18435"/>
                  <a:pt x="6111" y="18655"/>
                  <a:pt x="6382" y="18655"/>
                </a:cubicBezTo>
                <a:cubicBezTo>
                  <a:pt x="6517" y="18655"/>
                  <a:pt x="6640" y="18600"/>
                  <a:pt x="6729" y="18511"/>
                </a:cubicBezTo>
                <a:lnTo>
                  <a:pt x="8202" y="17038"/>
                </a:lnTo>
                <a:cubicBezTo>
                  <a:pt x="8291" y="16950"/>
                  <a:pt x="8345" y="16827"/>
                  <a:pt x="8345" y="16691"/>
                </a:cubicBezTo>
                <a:cubicBezTo>
                  <a:pt x="8345" y="16420"/>
                  <a:pt x="8126" y="16200"/>
                  <a:pt x="7855" y="16200"/>
                </a:cubicBezTo>
                <a:moveTo>
                  <a:pt x="7855" y="14237"/>
                </a:moveTo>
                <a:cubicBezTo>
                  <a:pt x="7855" y="13966"/>
                  <a:pt x="7635" y="13745"/>
                  <a:pt x="7364" y="13745"/>
                </a:cubicBezTo>
                <a:cubicBezTo>
                  <a:pt x="7228" y="13745"/>
                  <a:pt x="7105" y="13801"/>
                  <a:pt x="7017" y="13889"/>
                </a:cubicBezTo>
                <a:lnTo>
                  <a:pt x="2107" y="18798"/>
                </a:lnTo>
                <a:cubicBezTo>
                  <a:pt x="2019" y="18888"/>
                  <a:pt x="1964" y="19011"/>
                  <a:pt x="1964" y="19145"/>
                </a:cubicBezTo>
                <a:cubicBezTo>
                  <a:pt x="1964" y="19417"/>
                  <a:pt x="2184" y="19636"/>
                  <a:pt x="2455" y="19636"/>
                </a:cubicBezTo>
                <a:cubicBezTo>
                  <a:pt x="2590" y="19636"/>
                  <a:pt x="2713" y="19582"/>
                  <a:pt x="2802" y="19493"/>
                </a:cubicBezTo>
                <a:lnTo>
                  <a:pt x="7711" y="14583"/>
                </a:lnTo>
                <a:cubicBezTo>
                  <a:pt x="7800" y="14495"/>
                  <a:pt x="7855" y="14372"/>
                  <a:pt x="7855" y="14237"/>
                </a:cubicBezTo>
                <a:moveTo>
                  <a:pt x="4765" y="14583"/>
                </a:moveTo>
                <a:lnTo>
                  <a:pt x="5256" y="14093"/>
                </a:lnTo>
                <a:cubicBezTo>
                  <a:pt x="5345" y="14004"/>
                  <a:pt x="5400" y="13881"/>
                  <a:pt x="5400" y="13745"/>
                </a:cubicBezTo>
                <a:cubicBezTo>
                  <a:pt x="5400" y="13475"/>
                  <a:pt x="5180" y="13255"/>
                  <a:pt x="4909" y="13255"/>
                </a:cubicBezTo>
                <a:cubicBezTo>
                  <a:pt x="4774" y="13255"/>
                  <a:pt x="4651" y="13310"/>
                  <a:pt x="4562" y="13398"/>
                </a:cubicBezTo>
                <a:lnTo>
                  <a:pt x="4071" y="13889"/>
                </a:lnTo>
                <a:cubicBezTo>
                  <a:pt x="3982" y="13979"/>
                  <a:pt x="3927" y="14101"/>
                  <a:pt x="3927" y="14237"/>
                </a:cubicBezTo>
                <a:cubicBezTo>
                  <a:pt x="3927" y="14507"/>
                  <a:pt x="4147" y="14727"/>
                  <a:pt x="4418" y="14727"/>
                </a:cubicBezTo>
                <a:cubicBezTo>
                  <a:pt x="4554" y="14727"/>
                  <a:pt x="4676" y="14673"/>
                  <a:pt x="4765" y="14583"/>
                </a:cubicBezTo>
              </a:path>
            </a:pathLst>
          </a:cu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9" name="Group 72"/>
          <p:cNvGrpSpPr/>
          <p:nvPr/>
        </p:nvGrpSpPr>
        <p:grpSpPr>
          <a:xfrm>
            <a:off x="1611360" y="2933640"/>
            <a:ext cx="1573200" cy="628560"/>
            <a:chOff x="1611360" y="2933640"/>
            <a:chExt cx="1573200" cy="628560"/>
          </a:xfrm>
        </p:grpSpPr>
        <p:sp>
          <p:nvSpPr>
            <p:cNvPr id="1150" name="Rectangle 73"/>
            <p:cNvSpPr/>
            <p:nvPr/>
          </p:nvSpPr>
          <p:spPr>
            <a:xfrm>
              <a:off x="1957320" y="2933640"/>
              <a:ext cx="12272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1" name="Shape 2778"/>
            <p:cNvSpPr/>
            <p:nvPr/>
          </p:nvSpPr>
          <p:spPr>
            <a:xfrm>
              <a:off x="1611360" y="30891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2" name="Group 75"/>
          <p:cNvGrpSpPr/>
          <p:nvPr/>
        </p:nvGrpSpPr>
        <p:grpSpPr>
          <a:xfrm>
            <a:off x="3382920" y="5478480"/>
            <a:ext cx="1575000" cy="628560"/>
            <a:chOff x="3382920" y="5478480"/>
            <a:chExt cx="1575000" cy="628560"/>
          </a:xfrm>
        </p:grpSpPr>
        <p:sp>
          <p:nvSpPr>
            <p:cNvPr id="1153" name="Rectangle 76"/>
            <p:cNvSpPr/>
            <p:nvPr/>
          </p:nvSpPr>
          <p:spPr>
            <a:xfrm>
              <a:off x="3730320" y="547848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Shape 2748"/>
            <p:cNvSpPr/>
            <p:nvPr/>
          </p:nvSpPr>
          <p:spPr>
            <a:xfrm>
              <a:off x="3382920" y="560592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5" name="Group 78"/>
          <p:cNvGrpSpPr/>
          <p:nvPr/>
        </p:nvGrpSpPr>
        <p:grpSpPr>
          <a:xfrm>
            <a:off x="5353200" y="4243320"/>
            <a:ext cx="1576080" cy="628560"/>
            <a:chOff x="5353200" y="4243320"/>
            <a:chExt cx="1576080" cy="628560"/>
          </a:xfrm>
        </p:grpSpPr>
        <p:sp>
          <p:nvSpPr>
            <p:cNvPr id="1156" name="Rectangle 79"/>
            <p:cNvSpPr/>
            <p:nvPr/>
          </p:nvSpPr>
          <p:spPr>
            <a:xfrm>
              <a:off x="5701680" y="424332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Shape 2774"/>
            <p:cNvSpPr/>
            <p:nvPr/>
          </p:nvSpPr>
          <p:spPr>
            <a:xfrm>
              <a:off x="5353200" y="439020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8" name="Group 81"/>
          <p:cNvGrpSpPr/>
          <p:nvPr/>
        </p:nvGrpSpPr>
        <p:grpSpPr>
          <a:xfrm>
            <a:off x="7164360" y="2736720"/>
            <a:ext cx="1576440" cy="628560"/>
            <a:chOff x="7164360" y="2736720"/>
            <a:chExt cx="1576440" cy="628560"/>
          </a:xfrm>
        </p:grpSpPr>
        <p:sp>
          <p:nvSpPr>
            <p:cNvPr id="1159" name="Rectangle 82"/>
            <p:cNvSpPr/>
            <p:nvPr/>
          </p:nvSpPr>
          <p:spPr>
            <a:xfrm>
              <a:off x="7512120" y="2736720"/>
              <a:ext cx="1228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Shape 2784"/>
            <p:cNvSpPr/>
            <p:nvPr/>
          </p:nvSpPr>
          <p:spPr>
            <a:xfrm>
              <a:off x="7164360" y="288900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500"/>
                            </p:stCondLst>
                            <p:childTnLst>
                              <p:par>
                                <p:cTn id="7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2500"/>
                            </p:stCondLst>
                            <p:childTnLst>
                              <p:par>
                                <p:cTn id="8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3000"/>
                            </p:stCondLst>
                            <p:childTnLst>
                              <p:par>
                                <p:cTn id="8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64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Arrow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15a25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4" name="Group 72" descr=""/>
          <p:cNvPicPr/>
          <p:nvPr/>
        </p:nvPicPr>
        <p:blipFill>
          <a:blip r:embed="rId1"/>
          <a:stretch/>
        </p:blipFill>
        <p:spPr>
          <a:xfrm>
            <a:off x="8637480" y="1542960"/>
            <a:ext cx="2713320" cy="2541600"/>
          </a:xfrm>
          <a:prstGeom prst="rect">
            <a:avLst/>
          </a:prstGeom>
          <a:ln w="0">
            <a:noFill/>
          </a:ln>
        </p:spPr>
      </p:pic>
      <p:pic>
        <p:nvPicPr>
          <p:cNvPr id="1165" name="Group 84" descr=""/>
          <p:cNvPicPr/>
          <p:nvPr/>
        </p:nvPicPr>
        <p:blipFill>
          <a:blip r:embed="rId2"/>
          <a:stretch/>
        </p:blipFill>
        <p:spPr>
          <a:xfrm>
            <a:off x="6729480" y="3371760"/>
            <a:ext cx="2706480" cy="2548080"/>
          </a:xfrm>
          <a:prstGeom prst="rect">
            <a:avLst/>
          </a:prstGeom>
          <a:ln w="0">
            <a:noFill/>
          </a:ln>
        </p:spPr>
      </p:pic>
      <p:pic>
        <p:nvPicPr>
          <p:cNvPr id="1166" name="Group 90" descr=""/>
          <p:cNvPicPr/>
          <p:nvPr/>
        </p:nvPicPr>
        <p:blipFill>
          <a:blip r:embed="rId3"/>
          <a:stretch/>
        </p:blipFill>
        <p:spPr>
          <a:xfrm>
            <a:off x="4827600" y="1542960"/>
            <a:ext cx="2712960" cy="2541600"/>
          </a:xfrm>
          <a:prstGeom prst="rect">
            <a:avLst/>
          </a:prstGeom>
          <a:ln w="0">
            <a:noFill/>
          </a:ln>
        </p:spPr>
      </p:pic>
      <p:pic>
        <p:nvPicPr>
          <p:cNvPr id="1167" name="Group 96" descr=""/>
          <p:cNvPicPr/>
          <p:nvPr/>
        </p:nvPicPr>
        <p:blipFill>
          <a:blip r:embed="rId4"/>
          <a:stretch/>
        </p:blipFill>
        <p:spPr>
          <a:xfrm>
            <a:off x="2925720" y="3371760"/>
            <a:ext cx="2712960" cy="2548080"/>
          </a:xfrm>
          <a:prstGeom prst="rect">
            <a:avLst/>
          </a:prstGeom>
          <a:ln w="0">
            <a:noFill/>
          </a:ln>
        </p:spPr>
      </p:pic>
      <p:pic>
        <p:nvPicPr>
          <p:cNvPr id="1168" name="Group 102" descr=""/>
          <p:cNvPicPr/>
          <p:nvPr/>
        </p:nvPicPr>
        <p:blipFill>
          <a:blip r:embed="rId5"/>
          <a:stretch/>
        </p:blipFill>
        <p:spPr>
          <a:xfrm>
            <a:off x="1023840" y="1542960"/>
            <a:ext cx="2712960" cy="2541600"/>
          </a:xfrm>
          <a:prstGeom prst="rect">
            <a:avLst/>
          </a:prstGeom>
          <a:ln w="0">
            <a:noFill/>
          </a:ln>
        </p:spPr>
      </p:pic>
      <p:grpSp>
        <p:nvGrpSpPr>
          <p:cNvPr id="1169" name="Group 108"/>
          <p:cNvGrpSpPr/>
          <p:nvPr/>
        </p:nvGrpSpPr>
        <p:grpSpPr>
          <a:xfrm>
            <a:off x="1717560" y="2448000"/>
            <a:ext cx="1125720" cy="1892160"/>
            <a:chOff x="1717560" y="2448000"/>
            <a:chExt cx="1125720" cy="1892160"/>
          </a:xfrm>
        </p:grpSpPr>
        <p:grpSp>
          <p:nvGrpSpPr>
            <p:cNvPr id="1170" name="Group 109"/>
            <p:cNvGrpSpPr/>
            <p:nvPr/>
          </p:nvGrpSpPr>
          <p:grpSpPr>
            <a:xfrm>
              <a:off x="1717560" y="2448000"/>
              <a:ext cx="1125720" cy="1892160"/>
              <a:chOff x="1717560" y="2448000"/>
              <a:chExt cx="1125720" cy="1892160"/>
            </a:xfrm>
          </p:grpSpPr>
          <p:sp>
            <p:nvSpPr>
              <p:cNvPr id="1171" name="Text Placeholder 32"/>
              <p:cNvSpPr/>
              <p:nvPr/>
            </p:nvSpPr>
            <p:spPr>
              <a:xfrm>
                <a:off x="1717560" y="3547440"/>
                <a:ext cx="111240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2" name="Text Placeholder 33"/>
              <p:cNvSpPr/>
              <p:nvPr/>
            </p:nvSpPr>
            <p:spPr>
              <a:xfrm>
                <a:off x="1730880" y="3253320"/>
                <a:ext cx="1112400" cy="18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0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Roboto"/>
                  </a:rPr>
                  <a:t>Atom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3" name="Oval 113"/>
              <p:cNvSpPr/>
              <p:nvPr/>
            </p:nvSpPr>
            <p:spPr>
              <a:xfrm>
                <a:off x="1981080" y="2448000"/>
                <a:ext cx="612000" cy="611640"/>
              </a:xfrm>
              <a:prstGeom prst="ellipse">
                <a:avLst/>
              </a:prstGeom>
              <a:solidFill>
                <a:srgbClr val="f15a25"/>
              </a:solidFill>
              <a:ln w="0">
                <a:noFill/>
              </a:ln>
              <a:effectLst>
                <a:outerShdw dist="50911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74" name="Shape 2778"/>
            <p:cNvSpPr/>
            <p:nvPr/>
          </p:nvSpPr>
          <p:spPr>
            <a:xfrm>
              <a:off x="2153160" y="26150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5" name="Group 114"/>
          <p:cNvGrpSpPr/>
          <p:nvPr/>
        </p:nvGrpSpPr>
        <p:grpSpPr>
          <a:xfrm>
            <a:off x="3652920" y="3246480"/>
            <a:ext cx="1206360" cy="1714320"/>
            <a:chOff x="3652920" y="3246480"/>
            <a:chExt cx="1206360" cy="1714320"/>
          </a:xfrm>
        </p:grpSpPr>
        <p:grpSp>
          <p:nvGrpSpPr>
            <p:cNvPr id="1176" name="Group 115"/>
            <p:cNvGrpSpPr/>
            <p:nvPr/>
          </p:nvGrpSpPr>
          <p:grpSpPr>
            <a:xfrm>
              <a:off x="3652920" y="3246480"/>
              <a:ext cx="1206360" cy="1714320"/>
              <a:chOff x="3652920" y="3246480"/>
              <a:chExt cx="1206360" cy="1714320"/>
            </a:xfrm>
          </p:grpSpPr>
          <p:sp>
            <p:nvSpPr>
              <p:cNvPr id="1177" name="Text Placeholder 32"/>
              <p:cNvSpPr/>
              <p:nvPr/>
            </p:nvSpPr>
            <p:spPr>
              <a:xfrm>
                <a:off x="3652920" y="3540240"/>
                <a:ext cx="120636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8" name="Text Placeholder 33"/>
              <p:cNvSpPr/>
              <p:nvPr/>
            </p:nvSpPr>
            <p:spPr>
              <a:xfrm>
                <a:off x="3652920" y="3246480"/>
                <a:ext cx="1110960" cy="20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Roboto"/>
                  </a:rPr>
                  <a:t>Presentatio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9" name="Oval 119"/>
              <p:cNvSpPr/>
              <p:nvPr/>
            </p:nvSpPr>
            <p:spPr>
              <a:xfrm>
                <a:off x="3864960" y="4349520"/>
                <a:ext cx="610920" cy="611280"/>
              </a:xfrm>
              <a:prstGeom prst="ellipse">
                <a:avLst/>
              </a:prstGeom>
              <a:solidFill>
                <a:srgbClr val="ff8e6c"/>
              </a:solidFill>
              <a:ln w="0">
                <a:noFill/>
              </a:ln>
              <a:effectLst>
                <a:outerShdw dist="50911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80" name="Shape 2774"/>
            <p:cNvSpPr/>
            <p:nvPr/>
          </p:nvSpPr>
          <p:spPr>
            <a:xfrm>
              <a:off x="4047480" y="451548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1" name="Group 120"/>
          <p:cNvGrpSpPr/>
          <p:nvPr/>
        </p:nvGrpSpPr>
        <p:grpSpPr>
          <a:xfrm>
            <a:off x="5508720" y="2448000"/>
            <a:ext cx="1112760" cy="1892160"/>
            <a:chOff x="5508720" y="2448000"/>
            <a:chExt cx="1112760" cy="1892160"/>
          </a:xfrm>
        </p:grpSpPr>
        <p:grpSp>
          <p:nvGrpSpPr>
            <p:cNvPr id="1182" name="Group 121"/>
            <p:cNvGrpSpPr/>
            <p:nvPr/>
          </p:nvGrpSpPr>
          <p:grpSpPr>
            <a:xfrm>
              <a:off x="5508720" y="2448000"/>
              <a:ext cx="1112760" cy="1892160"/>
              <a:chOff x="5508720" y="2448000"/>
              <a:chExt cx="1112760" cy="1892160"/>
            </a:xfrm>
          </p:grpSpPr>
          <p:sp>
            <p:nvSpPr>
              <p:cNvPr id="1183" name="Text Placeholder 32"/>
              <p:cNvSpPr/>
              <p:nvPr/>
            </p:nvSpPr>
            <p:spPr>
              <a:xfrm>
                <a:off x="5508720" y="3568680"/>
                <a:ext cx="1112760" cy="77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8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4" name="Text Placeholder 33"/>
              <p:cNvSpPr/>
              <p:nvPr/>
            </p:nvSpPr>
            <p:spPr>
              <a:xfrm>
                <a:off x="5508720" y="3253320"/>
                <a:ext cx="11127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Roboto"/>
                  </a:rPr>
                  <a:t>Target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5" name="Oval 125"/>
              <p:cNvSpPr/>
              <p:nvPr/>
            </p:nvSpPr>
            <p:spPr>
              <a:xfrm>
                <a:off x="5758920" y="2448000"/>
                <a:ext cx="612000" cy="611640"/>
              </a:xfrm>
              <a:prstGeom prst="ellipse">
                <a:avLst/>
              </a:prstGeom>
              <a:solidFill>
                <a:srgbClr val="44546a"/>
              </a:solidFill>
              <a:ln w="0">
                <a:noFill/>
              </a:ln>
              <a:effectLst>
                <a:outerShdw dist="50911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86" name="Shape 2748"/>
            <p:cNvSpPr/>
            <p:nvPr/>
          </p:nvSpPr>
          <p:spPr>
            <a:xfrm>
              <a:off x="5935680" y="26139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7" name="Group 126"/>
          <p:cNvGrpSpPr/>
          <p:nvPr/>
        </p:nvGrpSpPr>
        <p:grpSpPr>
          <a:xfrm>
            <a:off x="7429680" y="3263760"/>
            <a:ext cx="1136520" cy="1697040"/>
            <a:chOff x="7429680" y="3263760"/>
            <a:chExt cx="1136520" cy="1697040"/>
          </a:xfrm>
        </p:grpSpPr>
        <p:grpSp>
          <p:nvGrpSpPr>
            <p:cNvPr id="1188" name="Group 127"/>
            <p:cNvGrpSpPr/>
            <p:nvPr/>
          </p:nvGrpSpPr>
          <p:grpSpPr>
            <a:xfrm>
              <a:off x="7429680" y="3263760"/>
              <a:ext cx="1136520" cy="1697040"/>
              <a:chOff x="7429680" y="3263760"/>
              <a:chExt cx="1136520" cy="1697040"/>
            </a:xfrm>
          </p:grpSpPr>
          <p:sp>
            <p:nvSpPr>
              <p:cNvPr id="1189" name="Text Placeholder 32"/>
              <p:cNvSpPr/>
              <p:nvPr/>
            </p:nvSpPr>
            <p:spPr>
              <a:xfrm>
                <a:off x="7453080" y="3495240"/>
                <a:ext cx="11131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4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0" name="Text Placeholder 33"/>
              <p:cNvSpPr/>
              <p:nvPr/>
            </p:nvSpPr>
            <p:spPr>
              <a:xfrm>
                <a:off x="7429680" y="3263760"/>
                <a:ext cx="1113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79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Roboto"/>
                  </a:rPr>
                  <a:t>Layer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1" name="Oval 131"/>
              <p:cNvSpPr/>
              <p:nvPr/>
            </p:nvSpPr>
            <p:spPr>
              <a:xfrm>
                <a:off x="7681320" y="4349520"/>
                <a:ext cx="612000" cy="611280"/>
              </a:xfrm>
              <a:prstGeom prst="ellipse">
                <a:avLst/>
              </a:prstGeom>
              <a:solidFill>
                <a:srgbClr val="f15a25"/>
              </a:solidFill>
              <a:ln w="0">
                <a:noFill/>
              </a:ln>
              <a:effectLst>
                <a:outerShdw dist="50911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92" name="Shape 2784"/>
            <p:cNvSpPr/>
            <p:nvPr/>
          </p:nvSpPr>
          <p:spPr>
            <a:xfrm>
              <a:off x="7846200" y="45154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3" name="Group 132"/>
          <p:cNvGrpSpPr/>
          <p:nvPr/>
        </p:nvGrpSpPr>
        <p:grpSpPr>
          <a:xfrm>
            <a:off x="9326520" y="2448000"/>
            <a:ext cx="1181160" cy="1727280"/>
            <a:chOff x="9326520" y="2448000"/>
            <a:chExt cx="1181160" cy="1727280"/>
          </a:xfrm>
        </p:grpSpPr>
        <p:grpSp>
          <p:nvGrpSpPr>
            <p:cNvPr id="1194" name="Group 133"/>
            <p:cNvGrpSpPr/>
            <p:nvPr/>
          </p:nvGrpSpPr>
          <p:grpSpPr>
            <a:xfrm>
              <a:off x="9326520" y="2448000"/>
              <a:ext cx="1181160" cy="1727280"/>
              <a:chOff x="9326520" y="2448000"/>
              <a:chExt cx="1181160" cy="1727280"/>
            </a:xfrm>
          </p:grpSpPr>
          <p:sp>
            <p:nvSpPr>
              <p:cNvPr id="1195" name="Text Placeholder 32"/>
              <p:cNvSpPr/>
              <p:nvPr/>
            </p:nvSpPr>
            <p:spPr>
              <a:xfrm>
                <a:off x="9394920" y="3494880"/>
                <a:ext cx="1112760" cy="68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2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6" name="Text Placeholder 33"/>
              <p:cNvSpPr/>
              <p:nvPr/>
            </p:nvSpPr>
            <p:spPr>
              <a:xfrm>
                <a:off x="9326520" y="3253680"/>
                <a:ext cx="1112760" cy="1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Roboto"/>
                  </a:rPr>
                  <a:t>Video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7" name="Oval 137"/>
              <p:cNvSpPr/>
              <p:nvPr/>
            </p:nvSpPr>
            <p:spPr>
              <a:xfrm>
                <a:off x="9576720" y="2448000"/>
                <a:ext cx="612000" cy="612000"/>
              </a:xfrm>
              <a:prstGeom prst="ellipse">
                <a:avLst/>
              </a:prstGeom>
              <a:solidFill>
                <a:srgbClr val="ff8e6c"/>
              </a:solidFill>
              <a:ln w="0">
                <a:noFill/>
              </a:ln>
              <a:effectLst>
                <a:outerShdw dist="50911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98" name="Shape 2543"/>
            <p:cNvSpPr/>
            <p:nvPr/>
          </p:nvSpPr>
          <p:spPr>
            <a:xfrm>
              <a:off x="9749160" y="26139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2000"/>
                            </p:stCondLst>
                            <p:childTnLst>
                              <p:par>
                                <p:cTn id="8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50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30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500"/>
                            </p:stCondLst>
                            <p:childTnLst>
                              <p:par>
                                <p:cTn id="8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4000"/>
                            </p:stCondLst>
                            <p:childTnLst>
                              <p:par>
                                <p:cTn id="8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4500"/>
                            </p:stCondLst>
                            <p:childTnLst>
                              <p:par>
                                <p:cTn id="8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500"/>
                            </p:stCondLst>
                            <p:childTnLst>
                              <p:par>
                                <p:cTn id="8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88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Steps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15a25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2" name="Group 91" descr=""/>
          <p:cNvPicPr/>
          <p:nvPr/>
        </p:nvPicPr>
        <p:blipFill>
          <a:blip r:embed="rId1"/>
          <a:stretch/>
        </p:blipFill>
        <p:spPr>
          <a:xfrm>
            <a:off x="542880" y="3200400"/>
            <a:ext cx="3406680" cy="993600"/>
          </a:xfrm>
          <a:prstGeom prst="rect">
            <a:avLst/>
          </a:prstGeom>
          <a:ln w="0">
            <a:noFill/>
          </a:ln>
        </p:spPr>
      </p:pic>
      <p:pic>
        <p:nvPicPr>
          <p:cNvPr id="1203" name="Group 95" descr=""/>
          <p:cNvPicPr/>
          <p:nvPr/>
        </p:nvPicPr>
        <p:blipFill>
          <a:blip r:embed="rId2"/>
          <a:stretch/>
        </p:blipFill>
        <p:spPr>
          <a:xfrm>
            <a:off x="3078000" y="3376440"/>
            <a:ext cx="3408480" cy="993960"/>
          </a:xfrm>
          <a:prstGeom prst="rect">
            <a:avLst/>
          </a:prstGeom>
          <a:ln w="0">
            <a:noFill/>
          </a:ln>
        </p:spPr>
      </p:pic>
      <p:sp>
        <p:nvSpPr>
          <p:cNvPr id="1204" name="Content Placeholder 2"/>
          <p:cNvSpPr/>
          <p:nvPr/>
        </p:nvSpPr>
        <p:spPr>
          <a:xfrm>
            <a:off x="907920" y="2117880"/>
            <a:ext cx="25974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Portland franzen bespoke, thundercats farm-to-table tousled asymmetrical pinte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Content Placeholder 2"/>
          <p:cNvSpPr/>
          <p:nvPr/>
        </p:nvSpPr>
        <p:spPr>
          <a:xfrm>
            <a:off x="3405240" y="4308480"/>
            <a:ext cx="25970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Portland franzen bespoke, thundercats farm-to-table tousled asymmetrical pinte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Content Placeholder 2"/>
          <p:cNvSpPr/>
          <p:nvPr/>
        </p:nvSpPr>
        <p:spPr>
          <a:xfrm>
            <a:off x="8688240" y="4257720"/>
            <a:ext cx="25988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Portland franzen bespoke, thundercats farm-to-table tousled asymmetrical pinte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Content Placeholder 2"/>
          <p:cNvSpPr/>
          <p:nvPr/>
        </p:nvSpPr>
        <p:spPr>
          <a:xfrm>
            <a:off x="5986440" y="2089080"/>
            <a:ext cx="25970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Portland franzen bespoke, thundercats farm-to-table tousled asymmetrical pinte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Title 1"/>
          <p:cNvSpPr/>
          <p:nvPr/>
        </p:nvSpPr>
        <p:spPr>
          <a:xfrm>
            <a:off x="1359000" y="4192200"/>
            <a:ext cx="1693800" cy="121932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8e6c"/>
                </a:solidFill>
                <a:latin typeface="Source Sans Pro"/>
                <a:ea typeface="Open Sans"/>
              </a:rPr>
              <a:t>0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Title 1"/>
          <p:cNvSpPr/>
          <p:nvPr/>
        </p:nvSpPr>
        <p:spPr>
          <a:xfrm>
            <a:off x="6445080" y="4192200"/>
            <a:ext cx="1694160" cy="121932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44546a"/>
                </a:solidFill>
                <a:latin typeface="Source Sans Pro"/>
                <a:ea typeface="Open Sans"/>
              </a:rPr>
              <a:t>0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Title 1"/>
          <p:cNvSpPr/>
          <p:nvPr/>
        </p:nvSpPr>
        <p:spPr>
          <a:xfrm>
            <a:off x="3857760" y="1968120"/>
            <a:ext cx="1692000" cy="121932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56687c"/>
                </a:solidFill>
                <a:latin typeface="Source Sans Pro"/>
                <a:ea typeface="Open Sans"/>
              </a:rPr>
              <a:t>0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Title 1"/>
          <p:cNvSpPr/>
          <p:nvPr/>
        </p:nvSpPr>
        <p:spPr>
          <a:xfrm>
            <a:off x="9140760" y="1954080"/>
            <a:ext cx="1693800" cy="121932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15a25"/>
                </a:solidFill>
                <a:latin typeface="Source Sans Pro"/>
                <a:ea typeface="Open Sans"/>
              </a:rPr>
              <a:t>0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2" name="Group 107" descr=""/>
          <p:cNvPicPr/>
          <p:nvPr/>
        </p:nvPicPr>
        <p:blipFill>
          <a:blip r:embed="rId3"/>
          <a:stretch/>
        </p:blipFill>
        <p:spPr>
          <a:xfrm>
            <a:off x="5718240" y="3200400"/>
            <a:ext cx="3406680" cy="993600"/>
          </a:xfrm>
          <a:prstGeom prst="rect">
            <a:avLst/>
          </a:prstGeom>
          <a:ln w="0">
            <a:noFill/>
          </a:ln>
        </p:spPr>
      </p:pic>
      <p:pic>
        <p:nvPicPr>
          <p:cNvPr id="1213" name="Group 111" descr=""/>
          <p:cNvPicPr/>
          <p:nvPr/>
        </p:nvPicPr>
        <p:blipFill>
          <a:blip r:embed="rId4"/>
          <a:stretch/>
        </p:blipFill>
        <p:spPr>
          <a:xfrm>
            <a:off x="8321760" y="3376440"/>
            <a:ext cx="3406680" cy="9939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36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Tree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15a25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7" name="Group 18"/>
          <p:cNvGrpSpPr/>
          <p:nvPr/>
        </p:nvGrpSpPr>
        <p:grpSpPr>
          <a:xfrm>
            <a:off x="6993000" y="1170000"/>
            <a:ext cx="4573080" cy="5344920"/>
            <a:chOff x="6993000" y="1170000"/>
            <a:chExt cx="4573080" cy="5344920"/>
          </a:xfrm>
        </p:grpSpPr>
        <p:sp>
          <p:nvSpPr>
            <p:cNvPr id="1218" name="Freeform 19"/>
            <p:cNvSpPr/>
            <p:nvPr/>
          </p:nvSpPr>
          <p:spPr>
            <a:xfrm>
              <a:off x="10560960" y="2649600"/>
              <a:ext cx="284760" cy="374400"/>
            </a:xfrm>
            <a:custGeom>
              <a:avLst/>
              <a:gdLst/>
              <a:ahLst/>
              <a:rect l="l" t="t" r="r" b="b"/>
              <a:pathLst>
                <a:path w="54" h="71">
                  <a:moveTo>
                    <a:pt x="5" y="33"/>
                  </a:moveTo>
                  <a:cubicBezTo>
                    <a:pt x="0" y="46"/>
                    <a:pt x="4" y="60"/>
                    <a:pt x="14" y="71"/>
                  </a:cubicBezTo>
                  <a:cubicBezTo>
                    <a:pt x="29" y="69"/>
                    <a:pt x="43" y="61"/>
                    <a:pt x="48" y="48"/>
                  </a:cubicBezTo>
                  <a:cubicBezTo>
                    <a:pt x="54" y="35"/>
                    <a:pt x="53" y="10"/>
                    <a:pt x="43" y="0"/>
                  </a:cubicBezTo>
                  <a:cubicBezTo>
                    <a:pt x="27" y="1"/>
                    <a:pt x="10" y="19"/>
                    <a:pt x="5" y="33"/>
                  </a:cubicBezTo>
                  <a:close/>
                </a:path>
              </a:pathLst>
            </a:custGeom>
            <a:solidFill>
              <a:srgbClr val="56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Freeform 20"/>
            <p:cNvSpPr/>
            <p:nvPr/>
          </p:nvSpPr>
          <p:spPr>
            <a:xfrm>
              <a:off x="10217880" y="1740600"/>
              <a:ext cx="289440" cy="369720"/>
            </a:xfrm>
            <a:custGeom>
              <a:avLst/>
              <a:gdLst/>
              <a:ahLst/>
              <a:rect l="l" t="t" r="r" b="b"/>
              <a:pathLst>
                <a:path w="55" h="70">
                  <a:moveTo>
                    <a:pt x="6" y="48"/>
                  </a:moveTo>
                  <a:cubicBezTo>
                    <a:pt x="12" y="61"/>
                    <a:pt x="25" y="69"/>
                    <a:pt x="41" y="70"/>
                  </a:cubicBezTo>
                  <a:cubicBezTo>
                    <a:pt x="51" y="60"/>
                    <a:pt x="55" y="45"/>
                    <a:pt x="49" y="32"/>
                  </a:cubicBezTo>
                  <a:cubicBezTo>
                    <a:pt x="43" y="19"/>
                    <a:pt x="25" y="1"/>
                    <a:pt x="10" y="0"/>
                  </a:cubicBezTo>
                  <a:cubicBezTo>
                    <a:pt x="0" y="11"/>
                    <a:pt x="1" y="35"/>
                    <a:pt x="6" y="48"/>
                  </a:cubicBezTo>
                  <a:close/>
                </a:path>
              </a:pathLst>
            </a:custGeom>
            <a:solidFill>
              <a:srgbClr val="ff8e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0" name="Freeform 21"/>
            <p:cNvSpPr/>
            <p:nvPr/>
          </p:nvSpPr>
          <p:spPr>
            <a:xfrm>
              <a:off x="8414640" y="1744920"/>
              <a:ext cx="269640" cy="396720"/>
            </a:xfrm>
            <a:custGeom>
              <a:avLst/>
              <a:gdLst/>
              <a:ahLst/>
              <a:rect l="l" t="t" r="r" b="b"/>
              <a:pathLst>
                <a:path w="51" h="75">
                  <a:moveTo>
                    <a:pt x="3" y="39"/>
                  </a:moveTo>
                  <a:cubicBezTo>
                    <a:pt x="0" y="53"/>
                    <a:pt x="7" y="66"/>
                    <a:pt x="19" y="75"/>
                  </a:cubicBezTo>
                  <a:cubicBezTo>
                    <a:pt x="34" y="71"/>
                    <a:pt x="45" y="61"/>
                    <a:pt x="48" y="47"/>
                  </a:cubicBezTo>
                  <a:cubicBezTo>
                    <a:pt x="51" y="33"/>
                    <a:pt x="46" y="9"/>
                    <a:pt x="34" y="0"/>
                  </a:cubicBezTo>
                  <a:cubicBezTo>
                    <a:pt x="19" y="4"/>
                    <a:pt x="6" y="25"/>
                    <a:pt x="3" y="39"/>
                  </a:cubicBezTo>
                  <a:close/>
                </a:path>
              </a:pathLst>
            </a:custGeom>
            <a:solidFill>
              <a:srgbClr val="ff8e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1" name="Freeform 22"/>
            <p:cNvSpPr/>
            <p:nvPr/>
          </p:nvSpPr>
          <p:spPr>
            <a:xfrm>
              <a:off x="7211160" y="2291040"/>
              <a:ext cx="416880" cy="252000"/>
            </a:xfrm>
            <a:custGeom>
              <a:avLst/>
              <a:gdLst/>
              <a:ahLst/>
              <a:rect l="l" t="t" r="r" b="b"/>
              <a:pathLst>
                <a:path w="79" h="48">
                  <a:moveTo>
                    <a:pt x="50" y="45"/>
                  </a:moveTo>
                  <a:cubicBezTo>
                    <a:pt x="65" y="42"/>
                    <a:pt x="75" y="31"/>
                    <a:pt x="79" y="17"/>
                  </a:cubicBezTo>
                  <a:cubicBezTo>
                    <a:pt x="69" y="6"/>
                    <a:pt x="54" y="0"/>
                    <a:pt x="39" y="3"/>
                  </a:cubicBezTo>
                  <a:cubicBezTo>
                    <a:pt x="25" y="6"/>
                    <a:pt x="3" y="20"/>
                    <a:pt x="0" y="34"/>
                  </a:cubicBezTo>
                  <a:cubicBezTo>
                    <a:pt x="10" y="45"/>
                    <a:pt x="35" y="48"/>
                    <a:pt x="50" y="45"/>
                  </a:cubicBezTo>
                  <a:close/>
                </a:path>
              </a:pathLst>
            </a:custGeom>
            <a:solidFill>
              <a:srgbClr val="56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2" name="Freeform 23"/>
            <p:cNvSpPr/>
            <p:nvPr/>
          </p:nvSpPr>
          <p:spPr>
            <a:xfrm>
              <a:off x="8875800" y="1413000"/>
              <a:ext cx="385560" cy="27360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31" y="46"/>
                  </a:moveTo>
                  <a:cubicBezTo>
                    <a:pt x="45" y="52"/>
                    <a:pt x="61" y="50"/>
                    <a:pt x="73" y="41"/>
                  </a:cubicBezTo>
                  <a:cubicBezTo>
                    <a:pt x="73" y="27"/>
                    <a:pt x="65" y="14"/>
                    <a:pt x="51" y="8"/>
                  </a:cubicBezTo>
                  <a:cubicBezTo>
                    <a:pt x="38" y="2"/>
                    <a:pt x="12" y="0"/>
                    <a:pt x="0" y="8"/>
                  </a:cubicBezTo>
                  <a:cubicBezTo>
                    <a:pt x="0" y="23"/>
                    <a:pt x="18" y="40"/>
                    <a:pt x="31" y="46"/>
                  </a:cubicBezTo>
                  <a:close/>
                </a:path>
              </a:pathLst>
            </a:custGeom>
            <a:solidFill>
              <a:srgbClr val="ff8e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3" name="Freeform 24"/>
            <p:cNvSpPr/>
            <p:nvPr/>
          </p:nvSpPr>
          <p:spPr>
            <a:xfrm>
              <a:off x="11200680" y="2649600"/>
              <a:ext cx="289440" cy="37440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7" y="48"/>
                  </a:moveTo>
                  <a:cubicBezTo>
                    <a:pt x="12" y="61"/>
                    <a:pt x="26" y="69"/>
                    <a:pt x="41" y="71"/>
                  </a:cubicBezTo>
                  <a:cubicBezTo>
                    <a:pt x="51" y="60"/>
                    <a:pt x="55" y="45"/>
                    <a:pt x="50" y="32"/>
                  </a:cubicBezTo>
                  <a:cubicBezTo>
                    <a:pt x="44" y="19"/>
                    <a:pt x="26" y="1"/>
                    <a:pt x="11" y="0"/>
                  </a:cubicBezTo>
                  <a:cubicBezTo>
                    <a:pt x="0" y="11"/>
                    <a:pt x="1" y="35"/>
                    <a:pt x="7" y="48"/>
                  </a:cubicBezTo>
                  <a:close/>
                </a:path>
              </a:pathLst>
            </a:custGeom>
            <a:solidFill>
              <a:srgbClr val="56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4" name="Freeform 25"/>
            <p:cNvSpPr/>
            <p:nvPr/>
          </p:nvSpPr>
          <p:spPr>
            <a:xfrm>
              <a:off x="7839720" y="3278520"/>
              <a:ext cx="343080" cy="33660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53" y="43"/>
                  </a:moveTo>
                  <a:cubicBezTo>
                    <a:pt x="63" y="32"/>
                    <a:pt x="65" y="17"/>
                    <a:pt x="59" y="4"/>
                  </a:cubicBezTo>
                  <a:cubicBezTo>
                    <a:pt x="44" y="0"/>
                    <a:pt x="28" y="4"/>
                    <a:pt x="18" y="14"/>
                  </a:cubicBezTo>
                  <a:cubicBezTo>
                    <a:pt x="8" y="24"/>
                    <a:pt x="0" y="47"/>
                    <a:pt x="5" y="61"/>
                  </a:cubicBezTo>
                  <a:cubicBezTo>
                    <a:pt x="20" y="64"/>
                    <a:pt x="43" y="53"/>
                    <a:pt x="53" y="43"/>
                  </a:cubicBezTo>
                  <a:close/>
                </a:path>
              </a:pathLst>
            </a:custGeom>
            <a:solidFill>
              <a:srgbClr val="f15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Freeform 26"/>
            <p:cNvSpPr/>
            <p:nvPr/>
          </p:nvSpPr>
          <p:spPr>
            <a:xfrm>
              <a:off x="7153200" y="4609080"/>
              <a:ext cx="4093920" cy="1905840"/>
            </a:xfrm>
            <a:custGeom>
              <a:avLst/>
              <a:gdLst/>
              <a:ahLst/>
              <a:rect l="l" t="t" r="r" b="b"/>
              <a:pathLst>
                <a:path w="775" h="361">
                  <a:moveTo>
                    <a:pt x="388" y="361"/>
                  </a:moveTo>
                  <a:cubicBezTo>
                    <a:pt x="602" y="361"/>
                    <a:pt x="775" y="199"/>
                    <a:pt x="77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99"/>
                    <a:pt x="174" y="361"/>
                    <a:pt x="388" y="361"/>
                  </a:cubicBezTo>
                  <a:close/>
                </a:path>
              </a:pathLst>
            </a:custGeom>
            <a:solidFill>
              <a:srgbClr val="ff8e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Freeform 27"/>
            <p:cNvSpPr/>
            <p:nvPr/>
          </p:nvSpPr>
          <p:spPr>
            <a:xfrm>
              <a:off x="7590240" y="4609080"/>
              <a:ext cx="3224880" cy="1504440"/>
            </a:xfrm>
            <a:custGeom>
              <a:avLst/>
              <a:gdLst/>
              <a:ahLst/>
              <a:rect l="l" t="t" r="r" b="b"/>
              <a:pathLst>
                <a:path w="610" h="285">
                  <a:moveTo>
                    <a:pt x="305" y="285"/>
                  </a:moveTo>
                  <a:cubicBezTo>
                    <a:pt x="474" y="285"/>
                    <a:pt x="610" y="157"/>
                    <a:pt x="61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57"/>
                    <a:pt x="136" y="285"/>
                    <a:pt x="305" y="285"/>
                  </a:cubicBezTo>
                  <a:close/>
                </a:path>
              </a:pathLst>
            </a:custGeom>
            <a:solidFill>
              <a:srgbClr val="d8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Freeform 28"/>
            <p:cNvSpPr/>
            <p:nvPr/>
          </p:nvSpPr>
          <p:spPr>
            <a:xfrm>
              <a:off x="8002440" y="4609080"/>
              <a:ext cx="2399760" cy="1118880"/>
            </a:xfrm>
            <a:custGeom>
              <a:avLst/>
              <a:gdLst/>
              <a:ahLst/>
              <a:rect l="l" t="t" r="r" b="b"/>
              <a:pathLst>
                <a:path w="454" h="212">
                  <a:moveTo>
                    <a:pt x="227" y="212"/>
                  </a:moveTo>
                  <a:cubicBezTo>
                    <a:pt x="352" y="212"/>
                    <a:pt x="454" y="117"/>
                    <a:pt x="45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7"/>
                    <a:pt x="102" y="212"/>
                    <a:pt x="227" y="212"/>
                  </a:cubicBezTo>
                  <a:close/>
                </a:path>
              </a:pathLst>
            </a:custGeom>
            <a:solidFill>
              <a:srgbClr val="56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Freeform 29"/>
            <p:cNvSpPr/>
            <p:nvPr/>
          </p:nvSpPr>
          <p:spPr>
            <a:xfrm>
              <a:off x="6993000" y="1170000"/>
              <a:ext cx="4573080" cy="4145400"/>
            </a:xfrm>
            <a:custGeom>
              <a:avLst/>
              <a:gdLst/>
              <a:ahLst/>
              <a:rect l="l" t="t" r="r" b="b"/>
              <a:pathLst>
                <a:path w="865" h="785">
                  <a:moveTo>
                    <a:pt x="861" y="315"/>
                  </a:moveTo>
                  <a:cubicBezTo>
                    <a:pt x="862" y="314"/>
                    <a:pt x="862" y="314"/>
                    <a:pt x="861" y="315"/>
                  </a:cubicBezTo>
                  <a:cubicBezTo>
                    <a:pt x="861" y="315"/>
                    <a:pt x="861" y="315"/>
                    <a:pt x="861" y="315"/>
                  </a:cubicBezTo>
                  <a:cubicBezTo>
                    <a:pt x="861" y="315"/>
                    <a:pt x="861" y="316"/>
                    <a:pt x="861" y="316"/>
                  </a:cubicBezTo>
                  <a:cubicBezTo>
                    <a:pt x="861" y="317"/>
                    <a:pt x="861" y="318"/>
                    <a:pt x="861" y="318"/>
                  </a:cubicBezTo>
                  <a:cubicBezTo>
                    <a:pt x="861" y="318"/>
                    <a:pt x="861" y="318"/>
                    <a:pt x="861" y="317"/>
                  </a:cubicBezTo>
                  <a:cubicBezTo>
                    <a:pt x="858" y="326"/>
                    <a:pt x="855" y="335"/>
                    <a:pt x="852" y="344"/>
                  </a:cubicBezTo>
                  <a:cubicBezTo>
                    <a:pt x="849" y="352"/>
                    <a:pt x="846" y="358"/>
                    <a:pt x="840" y="364"/>
                  </a:cubicBezTo>
                  <a:cubicBezTo>
                    <a:pt x="839" y="366"/>
                    <a:pt x="836" y="368"/>
                    <a:pt x="835" y="369"/>
                  </a:cubicBezTo>
                  <a:cubicBezTo>
                    <a:pt x="824" y="379"/>
                    <a:pt x="811" y="388"/>
                    <a:pt x="799" y="395"/>
                  </a:cubicBezTo>
                  <a:cubicBezTo>
                    <a:pt x="788" y="401"/>
                    <a:pt x="776" y="404"/>
                    <a:pt x="764" y="404"/>
                  </a:cubicBezTo>
                  <a:cubicBezTo>
                    <a:pt x="746" y="405"/>
                    <a:pt x="727" y="403"/>
                    <a:pt x="708" y="403"/>
                  </a:cubicBezTo>
                  <a:cubicBezTo>
                    <a:pt x="684" y="402"/>
                    <a:pt x="659" y="402"/>
                    <a:pt x="635" y="401"/>
                  </a:cubicBezTo>
                  <a:cubicBezTo>
                    <a:pt x="641" y="396"/>
                    <a:pt x="651" y="394"/>
                    <a:pt x="658" y="392"/>
                  </a:cubicBezTo>
                  <a:cubicBezTo>
                    <a:pt x="668" y="388"/>
                    <a:pt x="678" y="385"/>
                    <a:pt x="686" y="380"/>
                  </a:cubicBezTo>
                  <a:cubicBezTo>
                    <a:pt x="700" y="373"/>
                    <a:pt x="713" y="365"/>
                    <a:pt x="726" y="357"/>
                  </a:cubicBezTo>
                  <a:cubicBezTo>
                    <a:pt x="732" y="354"/>
                    <a:pt x="738" y="350"/>
                    <a:pt x="744" y="347"/>
                  </a:cubicBezTo>
                  <a:cubicBezTo>
                    <a:pt x="749" y="344"/>
                    <a:pt x="755" y="341"/>
                    <a:pt x="759" y="337"/>
                  </a:cubicBezTo>
                  <a:cubicBezTo>
                    <a:pt x="771" y="326"/>
                    <a:pt x="777" y="312"/>
                    <a:pt x="783" y="297"/>
                  </a:cubicBezTo>
                  <a:cubicBezTo>
                    <a:pt x="775" y="310"/>
                    <a:pt x="769" y="324"/>
                    <a:pt x="756" y="334"/>
                  </a:cubicBezTo>
                  <a:cubicBezTo>
                    <a:pt x="750" y="340"/>
                    <a:pt x="738" y="343"/>
                    <a:pt x="731" y="347"/>
                  </a:cubicBezTo>
                  <a:cubicBezTo>
                    <a:pt x="724" y="351"/>
                    <a:pt x="717" y="354"/>
                    <a:pt x="709" y="357"/>
                  </a:cubicBezTo>
                  <a:cubicBezTo>
                    <a:pt x="696" y="362"/>
                    <a:pt x="685" y="369"/>
                    <a:pt x="672" y="373"/>
                  </a:cubicBezTo>
                  <a:cubicBezTo>
                    <a:pt x="659" y="378"/>
                    <a:pt x="644" y="381"/>
                    <a:pt x="631" y="386"/>
                  </a:cubicBezTo>
                  <a:cubicBezTo>
                    <a:pt x="616" y="392"/>
                    <a:pt x="604" y="401"/>
                    <a:pt x="591" y="409"/>
                  </a:cubicBezTo>
                  <a:cubicBezTo>
                    <a:pt x="593" y="400"/>
                    <a:pt x="595" y="385"/>
                    <a:pt x="597" y="378"/>
                  </a:cubicBezTo>
                  <a:cubicBezTo>
                    <a:pt x="599" y="371"/>
                    <a:pt x="602" y="365"/>
                    <a:pt x="605" y="359"/>
                  </a:cubicBezTo>
                  <a:cubicBezTo>
                    <a:pt x="614" y="348"/>
                    <a:pt x="625" y="336"/>
                    <a:pt x="637" y="328"/>
                  </a:cubicBezTo>
                  <a:cubicBezTo>
                    <a:pt x="650" y="320"/>
                    <a:pt x="659" y="311"/>
                    <a:pt x="666" y="299"/>
                  </a:cubicBezTo>
                  <a:cubicBezTo>
                    <a:pt x="668" y="291"/>
                    <a:pt x="670" y="283"/>
                    <a:pt x="670" y="275"/>
                  </a:cubicBezTo>
                  <a:cubicBezTo>
                    <a:pt x="670" y="272"/>
                    <a:pt x="670" y="269"/>
                    <a:pt x="670" y="266"/>
                  </a:cubicBezTo>
                  <a:cubicBezTo>
                    <a:pt x="668" y="255"/>
                    <a:pt x="665" y="243"/>
                    <a:pt x="663" y="231"/>
                  </a:cubicBezTo>
                  <a:cubicBezTo>
                    <a:pt x="664" y="243"/>
                    <a:pt x="665" y="255"/>
                    <a:pt x="666" y="267"/>
                  </a:cubicBezTo>
                  <a:cubicBezTo>
                    <a:pt x="666" y="269"/>
                    <a:pt x="666" y="272"/>
                    <a:pt x="666" y="275"/>
                  </a:cubicBezTo>
                  <a:cubicBezTo>
                    <a:pt x="665" y="289"/>
                    <a:pt x="657" y="301"/>
                    <a:pt x="645" y="311"/>
                  </a:cubicBezTo>
                  <a:cubicBezTo>
                    <a:pt x="635" y="318"/>
                    <a:pt x="624" y="324"/>
                    <a:pt x="613" y="331"/>
                  </a:cubicBezTo>
                  <a:cubicBezTo>
                    <a:pt x="600" y="341"/>
                    <a:pt x="589" y="354"/>
                    <a:pt x="582" y="368"/>
                  </a:cubicBezTo>
                  <a:cubicBezTo>
                    <a:pt x="578" y="376"/>
                    <a:pt x="576" y="384"/>
                    <a:pt x="574" y="392"/>
                  </a:cubicBezTo>
                  <a:cubicBezTo>
                    <a:pt x="572" y="401"/>
                    <a:pt x="568" y="411"/>
                    <a:pt x="565" y="420"/>
                  </a:cubicBezTo>
                  <a:cubicBezTo>
                    <a:pt x="536" y="429"/>
                    <a:pt x="506" y="439"/>
                    <a:pt x="477" y="448"/>
                  </a:cubicBezTo>
                  <a:cubicBezTo>
                    <a:pt x="471" y="450"/>
                    <a:pt x="465" y="452"/>
                    <a:pt x="458" y="454"/>
                  </a:cubicBezTo>
                  <a:cubicBezTo>
                    <a:pt x="453" y="456"/>
                    <a:pt x="447" y="458"/>
                    <a:pt x="443" y="453"/>
                  </a:cubicBezTo>
                  <a:cubicBezTo>
                    <a:pt x="440" y="448"/>
                    <a:pt x="438" y="442"/>
                    <a:pt x="436" y="436"/>
                  </a:cubicBezTo>
                  <a:cubicBezTo>
                    <a:pt x="433" y="429"/>
                    <a:pt x="431" y="423"/>
                    <a:pt x="438" y="416"/>
                  </a:cubicBezTo>
                  <a:cubicBezTo>
                    <a:pt x="443" y="410"/>
                    <a:pt x="449" y="405"/>
                    <a:pt x="455" y="399"/>
                  </a:cubicBezTo>
                  <a:cubicBezTo>
                    <a:pt x="473" y="380"/>
                    <a:pt x="495" y="362"/>
                    <a:pt x="511" y="341"/>
                  </a:cubicBezTo>
                  <a:cubicBezTo>
                    <a:pt x="519" y="330"/>
                    <a:pt x="523" y="318"/>
                    <a:pt x="526" y="305"/>
                  </a:cubicBezTo>
                  <a:cubicBezTo>
                    <a:pt x="545" y="288"/>
                    <a:pt x="564" y="271"/>
                    <a:pt x="583" y="253"/>
                  </a:cubicBezTo>
                  <a:cubicBezTo>
                    <a:pt x="587" y="250"/>
                    <a:pt x="591" y="246"/>
                    <a:pt x="596" y="244"/>
                  </a:cubicBezTo>
                  <a:cubicBezTo>
                    <a:pt x="602" y="241"/>
                    <a:pt x="609" y="240"/>
                    <a:pt x="615" y="239"/>
                  </a:cubicBezTo>
                  <a:cubicBezTo>
                    <a:pt x="622" y="237"/>
                    <a:pt x="629" y="234"/>
                    <a:pt x="636" y="230"/>
                  </a:cubicBezTo>
                  <a:cubicBezTo>
                    <a:pt x="649" y="221"/>
                    <a:pt x="656" y="209"/>
                    <a:pt x="664" y="195"/>
                  </a:cubicBezTo>
                  <a:cubicBezTo>
                    <a:pt x="674" y="176"/>
                    <a:pt x="685" y="157"/>
                    <a:pt x="696" y="138"/>
                  </a:cubicBezTo>
                  <a:cubicBezTo>
                    <a:pt x="681" y="161"/>
                    <a:pt x="667" y="184"/>
                    <a:pt x="651" y="206"/>
                  </a:cubicBezTo>
                  <a:cubicBezTo>
                    <a:pt x="641" y="221"/>
                    <a:pt x="625" y="228"/>
                    <a:pt x="607" y="231"/>
                  </a:cubicBezTo>
                  <a:cubicBezTo>
                    <a:pt x="598" y="233"/>
                    <a:pt x="587" y="236"/>
                    <a:pt x="580" y="241"/>
                  </a:cubicBezTo>
                  <a:cubicBezTo>
                    <a:pt x="580" y="241"/>
                    <a:pt x="580" y="241"/>
                    <a:pt x="580" y="242"/>
                  </a:cubicBezTo>
                  <a:cubicBezTo>
                    <a:pt x="577" y="243"/>
                    <a:pt x="573" y="246"/>
                    <a:pt x="571" y="248"/>
                  </a:cubicBezTo>
                  <a:cubicBezTo>
                    <a:pt x="559" y="257"/>
                    <a:pt x="544" y="275"/>
                    <a:pt x="531" y="278"/>
                  </a:cubicBezTo>
                  <a:cubicBezTo>
                    <a:pt x="533" y="265"/>
                    <a:pt x="539" y="252"/>
                    <a:pt x="539" y="238"/>
                  </a:cubicBezTo>
                  <a:cubicBezTo>
                    <a:pt x="540" y="221"/>
                    <a:pt x="538" y="205"/>
                    <a:pt x="531" y="190"/>
                  </a:cubicBezTo>
                  <a:cubicBezTo>
                    <a:pt x="546" y="174"/>
                    <a:pt x="560" y="159"/>
                    <a:pt x="574" y="144"/>
                  </a:cubicBezTo>
                  <a:cubicBezTo>
                    <a:pt x="586" y="132"/>
                    <a:pt x="599" y="119"/>
                    <a:pt x="607" y="104"/>
                  </a:cubicBezTo>
                  <a:cubicBezTo>
                    <a:pt x="611" y="97"/>
                    <a:pt x="613" y="90"/>
                    <a:pt x="614" y="83"/>
                  </a:cubicBezTo>
                  <a:cubicBezTo>
                    <a:pt x="615" y="70"/>
                    <a:pt x="611" y="60"/>
                    <a:pt x="607" y="48"/>
                  </a:cubicBezTo>
                  <a:cubicBezTo>
                    <a:pt x="602" y="32"/>
                    <a:pt x="597" y="16"/>
                    <a:pt x="592" y="0"/>
                  </a:cubicBezTo>
                  <a:cubicBezTo>
                    <a:pt x="594" y="11"/>
                    <a:pt x="597" y="22"/>
                    <a:pt x="599" y="33"/>
                  </a:cubicBezTo>
                  <a:cubicBezTo>
                    <a:pt x="604" y="52"/>
                    <a:pt x="611" y="70"/>
                    <a:pt x="605" y="89"/>
                  </a:cubicBezTo>
                  <a:cubicBezTo>
                    <a:pt x="605" y="89"/>
                    <a:pt x="605" y="90"/>
                    <a:pt x="605" y="90"/>
                  </a:cubicBezTo>
                  <a:cubicBezTo>
                    <a:pt x="599" y="103"/>
                    <a:pt x="590" y="113"/>
                    <a:pt x="580" y="122"/>
                  </a:cubicBezTo>
                  <a:cubicBezTo>
                    <a:pt x="561" y="139"/>
                    <a:pt x="542" y="156"/>
                    <a:pt x="524" y="173"/>
                  </a:cubicBezTo>
                  <a:cubicBezTo>
                    <a:pt x="522" y="169"/>
                    <a:pt x="519" y="164"/>
                    <a:pt x="517" y="159"/>
                  </a:cubicBezTo>
                  <a:cubicBezTo>
                    <a:pt x="502" y="132"/>
                    <a:pt x="468" y="118"/>
                    <a:pt x="455" y="89"/>
                  </a:cubicBezTo>
                  <a:cubicBezTo>
                    <a:pt x="444" y="66"/>
                    <a:pt x="433" y="43"/>
                    <a:pt x="422" y="19"/>
                  </a:cubicBezTo>
                  <a:cubicBezTo>
                    <a:pt x="432" y="46"/>
                    <a:pt x="441" y="73"/>
                    <a:pt x="453" y="99"/>
                  </a:cubicBezTo>
                  <a:cubicBezTo>
                    <a:pt x="453" y="100"/>
                    <a:pt x="454" y="101"/>
                    <a:pt x="454" y="102"/>
                  </a:cubicBezTo>
                  <a:cubicBezTo>
                    <a:pt x="468" y="125"/>
                    <a:pt x="494" y="140"/>
                    <a:pt x="505" y="164"/>
                  </a:cubicBezTo>
                  <a:cubicBezTo>
                    <a:pt x="510" y="178"/>
                    <a:pt x="515" y="191"/>
                    <a:pt x="520" y="204"/>
                  </a:cubicBezTo>
                  <a:cubicBezTo>
                    <a:pt x="528" y="239"/>
                    <a:pt x="515" y="276"/>
                    <a:pt x="498" y="307"/>
                  </a:cubicBezTo>
                  <a:cubicBezTo>
                    <a:pt x="481" y="339"/>
                    <a:pt x="453" y="363"/>
                    <a:pt x="423" y="385"/>
                  </a:cubicBezTo>
                  <a:cubicBezTo>
                    <a:pt x="420" y="387"/>
                    <a:pt x="417" y="389"/>
                    <a:pt x="413" y="388"/>
                  </a:cubicBezTo>
                  <a:cubicBezTo>
                    <a:pt x="409" y="387"/>
                    <a:pt x="406" y="384"/>
                    <a:pt x="404" y="382"/>
                  </a:cubicBezTo>
                  <a:cubicBezTo>
                    <a:pt x="384" y="360"/>
                    <a:pt x="366" y="340"/>
                    <a:pt x="373" y="311"/>
                  </a:cubicBezTo>
                  <a:cubicBezTo>
                    <a:pt x="375" y="298"/>
                    <a:pt x="381" y="287"/>
                    <a:pt x="387" y="276"/>
                  </a:cubicBezTo>
                  <a:cubicBezTo>
                    <a:pt x="393" y="266"/>
                    <a:pt x="395" y="257"/>
                    <a:pt x="395" y="245"/>
                  </a:cubicBezTo>
                  <a:cubicBezTo>
                    <a:pt x="395" y="233"/>
                    <a:pt x="390" y="220"/>
                    <a:pt x="386" y="208"/>
                  </a:cubicBezTo>
                  <a:cubicBezTo>
                    <a:pt x="384" y="203"/>
                    <a:pt x="382" y="198"/>
                    <a:pt x="381" y="193"/>
                  </a:cubicBezTo>
                  <a:cubicBezTo>
                    <a:pt x="381" y="197"/>
                    <a:pt x="382" y="202"/>
                    <a:pt x="383" y="207"/>
                  </a:cubicBezTo>
                  <a:cubicBezTo>
                    <a:pt x="385" y="219"/>
                    <a:pt x="389" y="232"/>
                    <a:pt x="387" y="245"/>
                  </a:cubicBezTo>
                  <a:cubicBezTo>
                    <a:pt x="386" y="248"/>
                    <a:pt x="385" y="250"/>
                    <a:pt x="385" y="253"/>
                  </a:cubicBezTo>
                  <a:cubicBezTo>
                    <a:pt x="382" y="263"/>
                    <a:pt x="375" y="272"/>
                    <a:pt x="369" y="281"/>
                  </a:cubicBezTo>
                  <a:cubicBezTo>
                    <a:pt x="368" y="283"/>
                    <a:pt x="356" y="262"/>
                    <a:pt x="356" y="260"/>
                  </a:cubicBezTo>
                  <a:cubicBezTo>
                    <a:pt x="352" y="253"/>
                    <a:pt x="349" y="243"/>
                    <a:pt x="344" y="237"/>
                  </a:cubicBezTo>
                  <a:cubicBezTo>
                    <a:pt x="331" y="220"/>
                    <a:pt x="309" y="214"/>
                    <a:pt x="290" y="205"/>
                  </a:cubicBezTo>
                  <a:cubicBezTo>
                    <a:pt x="281" y="200"/>
                    <a:pt x="274" y="195"/>
                    <a:pt x="268" y="187"/>
                  </a:cubicBezTo>
                  <a:cubicBezTo>
                    <a:pt x="260" y="177"/>
                    <a:pt x="254" y="164"/>
                    <a:pt x="247" y="153"/>
                  </a:cubicBezTo>
                  <a:cubicBezTo>
                    <a:pt x="237" y="137"/>
                    <a:pt x="228" y="121"/>
                    <a:pt x="218" y="106"/>
                  </a:cubicBezTo>
                  <a:cubicBezTo>
                    <a:pt x="232" y="132"/>
                    <a:pt x="246" y="159"/>
                    <a:pt x="259" y="186"/>
                  </a:cubicBezTo>
                  <a:cubicBezTo>
                    <a:pt x="266" y="197"/>
                    <a:pt x="273" y="205"/>
                    <a:pt x="285" y="212"/>
                  </a:cubicBezTo>
                  <a:cubicBezTo>
                    <a:pt x="304" y="222"/>
                    <a:pt x="327" y="230"/>
                    <a:pt x="337" y="250"/>
                  </a:cubicBezTo>
                  <a:cubicBezTo>
                    <a:pt x="342" y="258"/>
                    <a:pt x="343" y="267"/>
                    <a:pt x="346" y="276"/>
                  </a:cubicBezTo>
                  <a:cubicBezTo>
                    <a:pt x="349" y="285"/>
                    <a:pt x="355" y="293"/>
                    <a:pt x="354" y="302"/>
                  </a:cubicBezTo>
                  <a:cubicBezTo>
                    <a:pt x="354" y="309"/>
                    <a:pt x="349" y="316"/>
                    <a:pt x="348" y="323"/>
                  </a:cubicBezTo>
                  <a:cubicBezTo>
                    <a:pt x="346" y="330"/>
                    <a:pt x="346" y="338"/>
                    <a:pt x="348" y="345"/>
                  </a:cubicBezTo>
                  <a:cubicBezTo>
                    <a:pt x="350" y="354"/>
                    <a:pt x="353" y="363"/>
                    <a:pt x="359" y="371"/>
                  </a:cubicBezTo>
                  <a:cubicBezTo>
                    <a:pt x="338" y="356"/>
                    <a:pt x="318" y="342"/>
                    <a:pt x="298" y="326"/>
                  </a:cubicBezTo>
                  <a:cubicBezTo>
                    <a:pt x="282" y="312"/>
                    <a:pt x="265" y="298"/>
                    <a:pt x="249" y="285"/>
                  </a:cubicBezTo>
                  <a:cubicBezTo>
                    <a:pt x="234" y="273"/>
                    <a:pt x="215" y="262"/>
                    <a:pt x="206" y="247"/>
                  </a:cubicBezTo>
                  <a:cubicBezTo>
                    <a:pt x="197" y="234"/>
                    <a:pt x="193" y="218"/>
                    <a:pt x="187" y="205"/>
                  </a:cubicBezTo>
                  <a:cubicBezTo>
                    <a:pt x="179" y="187"/>
                    <a:pt x="172" y="169"/>
                    <a:pt x="164" y="152"/>
                  </a:cubicBezTo>
                  <a:cubicBezTo>
                    <a:pt x="168" y="165"/>
                    <a:pt x="172" y="178"/>
                    <a:pt x="176" y="190"/>
                  </a:cubicBezTo>
                  <a:cubicBezTo>
                    <a:pt x="179" y="201"/>
                    <a:pt x="183" y="213"/>
                    <a:pt x="186" y="224"/>
                  </a:cubicBezTo>
                  <a:cubicBezTo>
                    <a:pt x="190" y="236"/>
                    <a:pt x="192" y="248"/>
                    <a:pt x="199" y="258"/>
                  </a:cubicBezTo>
                  <a:cubicBezTo>
                    <a:pt x="188" y="253"/>
                    <a:pt x="177" y="248"/>
                    <a:pt x="166" y="244"/>
                  </a:cubicBezTo>
                  <a:cubicBezTo>
                    <a:pt x="165" y="243"/>
                    <a:pt x="160" y="240"/>
                    <a:pt x="157" y="239"/>
                  </a:cubicBezTo>
                  <a:cubicBezTo>
                    <a:pt x="142" y="226"/>
                    <a:pt x="129" y="212"/>
                    <a:pt x="115" y="199"/>
                  </a:cubicBezTo>
                  <a:cubicBezTo>
                    <a:pt x="126" y="213"/>
                    <a:pt x="137" y="229"/>
                    <a:pt x="151" y="242"/>
                  </a:cubicBezTo>
                  <a:cubicBezTo>
                    <a:pt x="153" y="244"/>
                    <a:pt x="155" y="245"/>
                    <a:pt x="156" y="247"/>
                  </a:cubicBezTo>
                  <a:cubicBezTo>
                    <a:pt x="167" y="254"/>
                    <a:pt x="178" y="260"/>
                    <a:pt x="189" y="267"/>
                  </a:cubicBezTo>
                  <a:cubicBezTo>
                    <a:pt x="203" y="275"/>
                    <a:pt x="216" y="282"/>
                    <a:pt x="229" y="290"/>
                  </a:cubicBezTo>
                  <a:cubicBezTo>
                    <a:pt x="261" y="323"/>
                    <a:pt x="294" y="355"/>
                    <a:pt x="328" y="386"/>
                  </a:cubicBezTo>
                  <a:cubicBezTo>
                    <a:pt x="335" y="391"/>
                    <a:pt x="344" y="398"/>
                    <a:pt x="348" y="405"/>
                  </a:cubicBezTo>
                  <a:cubicBezTo>
                    <a:pt x="350" y="408"/>
                    <a:pt x="351" y="412"/>
                    <a:pt x="353" y="416"/>
                  </a:cubicBezTo>
                  <a:cubicBezTo>
                    <a:pt x="356" y="424"/>
                    <a:pt x="359" y="433"/>
                    <a:pt x="362" y="442"/>
                  </a:cubicBezTo>
                  <a:cubicBezTo>
                    <a:pt x="316" y="418"/>
                    <a:pt x="270" y="395"/>
                    <a:pt x="227" y="369"/>
                  </a:cubicBezTo>
                  <a:cubicBezTo>
                    <a:pt x="221" y="365"/>
                    <a:pt x="217" y="359"/>
                    <a:pt x="214" y="354"/>
                  </a:cubicBezTo>
                  <a:cubicBezTo>
                    <a:pt x="209" y="347"/>
                    <a:pt x="204" y="341"/>
                    <a:pt x="199" y="336"/>
                  </a:cubicBezTo>
                  <a:cubicBezTo>
                    <a:pt x="189" y="327"/>
                    <a:pt x="177" y="319"/>
                    <a:pt x="164" y="314"/>
                  </a:cubicBezTo>
                  <a:cubicBezTo>
                    <a:pt x="150" y="309"/>
                    <a:pt x="134" y="306"/>
                    <a:pt x="119" y="301"/>
                  </a:cubicBezTo>
                  <a:cubicBezTo>
                    <a:pt x="103" y="294"/>
                    <a:pt x="86" y="289"/>
                    <a:pt x="70" y="283"/>
                  </a:cubicBezTo>
                  <a:cubicBezTo>
                    <a:pt x="59" y="280"/>
                    <a:pt x="48" y="277"/>
                    <a:pt x="41" y="269"/>
                  </a:cubicBezTo>
                  <a:cubicBezTo>
                    <a:pt x="33" y="260"/>
                    <a:pt x="27" y="249"/>
                    <a:pt x="21" y="239"/>
                  </a:cubicBezTo>
                  <a:cubicBezTo>
                    <a:pt x="14" y="228"/>
                    <a:pt x="6" y="217"/>
                    <a:pt x="0" y="205"/>
                  </a:cubicBezTo>
                  <a:cubicBezTo>
                    <a:pt x="5" y="216"/>
                    <a:pt x="11" y="226"/>
                    <a:pt x="17" y="236"/>
                  </a:cubicBezTo>
                  <a:cubicBezTo>
                    <a:pt x="23" y="247"/>
                    <a:pt x="28" y="260"/>
                    <a:pt x="37" y="271"/>
                  </a:cubicBezTo>
                  <a:cubicBezTo>
                    <a:pt x="48" y="284"/>
                    <a:pt x="64" y="288"/>
                    <a:pt x="80" y="294"/>
                  </a:cubicBezTo>
                  <a:cubicBezTo>
                    <a:pt x="95" y="300"/>
                    <a:pt x="109" y="306"/>
                    <a:pt x="124" y="312"/>
                  </a:cubicBezTo>
                  <a:cubicBezTo>
                    <a:pt x="138" y="317"/>
                    <a:pt x="152" y="323"/>
                    <a:pt x="166" y="328"/>
                  </a:cubicBezTo>
                  <a:cubicBezTo>
                    <a:pt x="175" y="332"/>
                    <a:pt x="181" y="338"/>
                    <a:pt x="187" y="345"/>
                  </a:cubicBezTo>
                  <a:cubicBezTo>
                    <a:pt x="168" y="336"/>
                    <a:pt x="149" y="338"/>
                    <a:pt x="129" y="339"/>
                  </a:cubicBezTo>
                  <a:cubicBezTo>
                    <a:pt x="116" y="339"/>
                    <a:pt x="102" y="340"/>
                    <a:pt x="89" y="341"/>
                  </a:cubicBezTo>
                  <a:cubicBezTo>
                    <a:pt x="104" y="341"/>
                    <a:pt x="119" y="342"/>
                    <a:pt x="134" y="343"/>
                  </a:cubicBezTo>
                  <a:cubicBezTo>
                    <a:pt x="146" y="343"/>
                    <a:pt x="159" y="343"/>
                    <a:pt x="171" y="348"/>
                  </a:cubicBezTo>
                  <a:cubicBezTo>
                    <a:pt x="176" y="350"/>
                    <a:pt x="180" y="352"/>
                    <a:pt x="184" y="355"/>
                  </a:cubicBezTo>
                  <a:cubicBezTo>
                    <a:pt x="192" y="360"/>
                    <a:pt x="201" y="367"/>
                    <a:pt x="209" y="373"/>
                  </a:cubicBezTo>
                  <a:cubicBezTo>
                    <a:pt x="209" y="373"/>
                    <a:pt x="209" y="373"/>
                    <a:pt x="209" y="373"/>
                  </a:cubicBezTo>
                  <a:cubicBezTo>
                    <a:pt x="173" y="379"/>
                    <a:pt x="138" y="386"/>
                    <a:pt x="102" y="391"/>
                  </a:cubicBezTo>
                  <a:cubicBezTo>
                    <a:pt x="92" y="392"/>
                    <a:pt x="82" y="394"/>
                    <a:pt x="72" y="395"/>
                  </a:cubicBezTo>
                  <a:cubicBezTo>
                    <a:pt x="62" y="397"/>
                    <a:pt x="54" y="400"/>
                    <a:pt x="44" y="402"/>
                  </a:cubicBezTo>
                  <a:cubicBezTo>
                    <a:pt x="29" y="406"/>
                    <a:pt x="14" y="403"/>
                    <a:pt x="0" y="396"/>
                  </a:cubicBezTo>
                  <a:cubicBezTo>
                    <a:pt x="16" y="406"/>
                    <a:pt x="32" y="408"/>
                    <a:pt x="50" y="405"/>
                  </a:cubicBezTo>
                  <a:cubicBezTo>
                    <a:pt x="76" y="401"/>
                    <a:pt x="101" y="398"/>
                    <a:pt x="127" y="395"/>
                  </a:cubicBezTo>
                  <a:cubicBezTo>
                    <a:pt x="151" y="394"/>
                    <a:pt x="175" y="392"/>
                    <a:pt x="199" y="390"/>
                  </a:cubicBezTo>
                  <a:cubicBezTo>
                    <a:pt x="206" y="389"/>
                    <a:pt x="213" y="389"/>
                    <a:pt x="220" y="388"/>
                  </a:cubicBezTo>
                  <a:cubicBezTo>
                    <a:pt x="222" y="388"/>
                    <a:pt x="227" y="388"/>
                    <a:pt x="227" y="387"/>
                  </a:cubicBezTo>
                  <a:cubicBezTo>
                    <a:pt x="275" y="422"/>
                    <a:pt x="326" y="454"/>
                    <a:pt x="376" y="487"/>
                  </a:cubicBezTo>
                  <a:cubicBezTo>
                    <a:pt x="387" y="494"/>
                    <a:pt x="384" y="508"/>
                    <a:pt x="383" y="519"/>
                  </a:cubicBezTo>
                  <a:cubicBezTo>
                    <a:pt x="382" y="535"/>
                    <a:pt x="381" y="551"/>
                    <a:pt x="380" y="567"/>
                  </a:cubicBezTo>
                  <a:cubicBezTo>
                    <a:pt x="379" y="579"/>
                    <a:pt x="379" y="591"/>
                    <a:pt x="378" y="603"/>
                  </a:cubicBezTo>
                  <a:cubicBezTo>
                    <a:pt x="377" y="611"/>
                    <a:pt x="375" y="618"/>
                    <a:pt x="372" y="624"/>
                  </a:cubicBezTo>
                  <a:cubicBezTo>
                    <a:pt x="364" y="641"/>
                    <a:pt x="345" y="651"/>
                    <a:pt x="326" y="651"/>
                  </a:cubicBezTo>
                  <a:cubicBezTo>
                    <a:pt x="275" y="651"/>
                    <a:pt x="275" y="651"/>
                    <a:pt x="275" y="651"/>
                  </a:cubicBezTo>
                  <a:cubicBezTo>
                    <a:pt x="275" y="725"/>
                    <a:pt x="339" y="785"/>
                    <a:pt x="418" y="785"/>
                  </a:cubicBezTo>
                  <a:cubicBezTo>
                    <a:pt x="497" y="785"/>
                    <a:pt x="561" y="725"/>
                    <a:pt x="561" y="651"/>
                  </a:cubicBezTo>
                  <a:cubicBezTo>
                    <a:pt x="501" y="651"/>
                    <a:pt x="501" y="651"/>
                    <a:pt x="501" y="651"/>
                  </a:cubicBezTo>
                  <a:cubicBezTo>
                    <a:pt x="474" y="651"/>
                    <a:pt x="451" y="631"/>
                    <a:pt x="450" y="606"/>
                  </a:cubicBezTo>
                  <a:cubicBezTo>
                    <a:pt x="450" y="604"/>
                    <a:pt x="450" y="603"/>
                    <a:pt x="450" y="601"/>
                  </a:cubicBezTo>
                  <a:cubicBezTo>
                    <a:pt x="451" y="588"/>
                    <a:pt x="452" y="574"/>
                    <a:pt x="453" y="561"/>
                  </a:cubicBezTo>
                  <a:cubicBezTo>
                    <a:pt x="454" y="546"/>
                    <a:pt x="455" y="532"/>
                    <a:pt x="456" y="518"/>
                  </a:cubicBezTo>
                  <a:cubicBezTo>
                    <a:pt x="456" y="515"/>
                    <a:pt x="456" y="512"/>
                    <a:pt x="456" y="509"/>
                  </a:cubicBezTo>
                  <a:cubicBezTo>
                    <a:pt x="457" y="504"/>
                    <a:pt x="455" y="498"/>
                    <a:pt x="456" y="493"/>
                  </a:cubicBezTo>
                  <a:cubicBezTo>
                    <a:pt x="458" y="487"/>
                    <a:pt x="466" y="485"/>
                    <a:pt x="471" y="483"/>
                  </a:cubicBezTo>
                  <a:cubicBezTo>
                    <a:pt x="503" y="470"/>
                    <a:pt x="535" y="457"/>
                    <a:pt x="567" y="444"/>
                  </a:cubicBezTo>
                  <a:cubicBezTo>
                    <a:pt x="574" y="441"/>
                    <a:pt x="581" y="438"/>
                    <a:pt x="588" y="435"/>
                  </a:cubicBezTo>
                  <a:cubicBezTo>
                    <a:pt x="595" y="431"/>
                    <a:pt x="601" y="426"/>
                    <a:pt x="607" y="422"/>
                  </a:cubicBezTo>
                  <a:cubicBezTo>
                    <a:pt x="619" y="414"/>
                    <a:pt x="632" y="417"/>
                    <a:pt x="645" y="416"/>
                  </a:cubicBezTo>
                  <a:cubicBezTo>
                    <a:pt x="658" y="416"/>
                    <a:pt x="671" y="416"/>
                    <a:pt x="684" y="415"/>
                  </a:cubicBezTo>
                  <a:cubicBezTo>
                    <a:pt x="710" y="415"/>
                    <a:pt x="735" y="414"/>
                    <a:pt x="761" y="413"/>
                  </a:cubicBezTo>
                  <a:cubicBezTo>
                    <a:pt x="774" y="413"/>
                    <a:pt x="788" y="411"/>
                    <a:pt x="799" y="403"/>
                  </a:cubicBezTo>
                  <a:cubicBezTo>
                    <a:pt x="813" y="393"/>
                    <a:pt x="828" y="382"/>
                    <a:pt x="841" y="370"/>
                  </a:cubicBezTo>
                  <a:cubicBezTo>
                    <a:pt x="856" y="352"/>
                    <a:pt x="859" y="327"/>
                    <a:pt x="865" y="305"/>
                  </a:cubicBezTo>
                  <a:cubicBezTo>
                    <a:pt x="864" y="308"/>
                    <a:pt x="863" y="312"/>
                    <a:pt x="861" y="315"/>
                  </a:cubicBezTo>
                  <a:close/>
                </a:path>
              </a:pathLst>
            </a:custGeom>
            <a:solidFill>
              <a:srgbClr val="d8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9" name="Group 51"/>
          <p:cNvGrpSpPr/>
          <p:nvPr/>
        </p:nvGrpSpPr>
        <p:grpSpPr>
          <a:xfrm>
            <a:off x="1238400" y="1687680"/>
            <a:ext cx="4384440" cy="1120680"/>
            <a:chOff x="1238400" y="1687680"/>
            <a:chExt cx="4384440" cy="1120680"/>
          </a:xfrm>
        </p:grpSpPr>
        <p:sp>
          <p:nvSpPr>
            <p:cNvPr id="1230" name="Text Placeholder 32"/>
            <p:cNvSpPr/>
            <p:nvPr/>
          </p:nvSpPr>
          <p:spPr>
            <a:xfrm>
              <a:off x="2229480" y="2323080"/>
              <a:ext cx="3393360" cy="4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5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 Light"/>
                  <a:ea typeface="Roboto Light"/>
                </a:rPr>
                <a:t>Hashtag fashion axe fingerstache, everyday carry shoreditch pinterest umami authentic brooklyn YOLO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Text Placeholder 33"/>
            <p:cNvSpPr/>
            <p:nvPr/>
          </p:nvSpPr>
          <p:spPr>
            <a:xfrm>
              <a:off x="2215440" y="2028600"/>
              <a:ext cx="340704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f15a25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Text Placeholder 33"/>
            <p:cNvSpPr/>
            <p:nvPr/>
          </p:nvSpPr>
          <p:spPr>
            <a:xfrm>
              <a:off x="2215440" y="1687680"/>
              <a:ext cx="340704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656d78"/>
                  </a:solidFill>
                  <a:latin typeface="Source Sans Pro"/>
                </a:rPr>
                <a:t>Analysis 0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33" name="Group 55"/>
            <p:cNvGrpSpPr/>
            <p:nvPr/>
          </p:nvGrpSpPr>
          <p:grpSpPr>
            <a:xfrm>
              <a:off x="1238400" y="1728000"/>
              <a:ext cx="699120" cy="698400"/>
              <a:chOff x="1238400" y="1728000"/>
              <a:chExt cx="699120" cy="698400"/>
            </a:xfrm>
          </p:grpSpPr>
          <p:sp>
            <p:nvSpPr>
              <p:cNvPr id="1234" name="Oval 56"/>
              <p:cNvSpPr/>
              <p:nvPr/>
            </p:nvSpPr>
            <p:spPr>
              <a:xfrm>
                <a:off x="1238400" y="1728000"/>
                <a:ext cx="699120" cy="698400"/>
              </a:xfrm>
              <a:prstGeom prst="ellipse">
                <a:avLst/>
              </a:prstGeom>
              <a:solidFill>
                <a:srgbClr val="f15a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5" name="Shape 2540"/>
              <p:cNvSpPr/>
              <p:nvPr/>
            </p:nvSpPr>
            <p:spPr>
              <a:xfrm>
                <a:off x="1448280" y="1937520"/>
                <a:ext cx="279360" cy="27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732" y="6661"/>
                    </a:moveTo>
                    <a:cubicBezTo>
                      <a:pt x="20540" y="6471"/>
                      <a:pt x="20228" y="6473"/>
                      <a:pt x="20038" y="6667"/>
                    </a:cubicBezTo>
                    <a:cubicBezTo>
                      <a:pt x="19903" y="6804"/>
                      <a:pt x="19870" y="7000"/>
                      <a:pt x="19929" y="7171"/>
                    </a:cubicBezTo>
                    <a:lnTo>
                      <a:pt x="19918" y="7175"/>
                    </a:lnTo>
                    <a:cubicBezTo>
                      <a:pt x="20365" y="8298"/>
                      <a:pt x="20618" y="951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7"/>
                      <a:pt x="5378" y="982"/>
                      <a:pt x="10800" y="982"/>
                    </a:cubicBezTo>
                    <a:cubicBezTo>
                      <a:pt x="13575" y="982"/>
                      <a:pt x="16077" y="2136"/>
                      <a:pt x="17862" y="3989"/>
                    </a:cubicBezTo>
                    <a:lnTo>
                      <a:pt x="17868" y="3982"/>
                    </a:lnTo>
                    <a:cubicBezTo>
                      <a:pt x="18062" y="4157"/>
                      <a:pt x="18359" y="4153"/>
                      <a:pt x="18544" y="3965"/>
                    </a:cubicBezTo>
                    <a:cubicBezTo>
                      <a:pt x="18734" y="3771"/>
                      <a:pt x="18732" y="3461"/>
                      <a:pt x="18539" y="3270"/>
                    </a:cubicBezTo>
                    <a:cubicBezTo>
                      <a:pt x="18520" y="3252"/>
                      <a:pt x="18496" y="3244"/>
                      <a:pt x="18476" y="3230"/>
                    </a:cubicBezTo>
                    <a:cubicBezTo>
                      <a:pt x="16521" y="1241"/>
                      <a:pt x="13810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4"/>
                      <a:pt x="4835" y="21600"/>
                      <a:pt x="10800" y="21600"/>
                    </a:cubicBezTo>
                    <a:cubicBezTo>
                      <a:pt x="16765" y="21600"/>
                      <a:pt x="21600" y="16764"/>
                      <a:pt x="21600" y="10800"/>
                    </a:cubicBezTo>
                    <a:cubicBezTo>
                      <a:pt x="21600" y="9412"/>
                      <a:pt x="21329" y="8089"/>
                      <a:pt x="20851" y="6869"/>
                    </a:cubicBezTo>
                    <a:cubicBezTo>
                      <a:pt x="20828" y="6794"/>
                      <a:pt x="20793" y="6721"/>
                      <a:pt x="20732" y="6661"/>
                    </a:cubicBezTo>
                    <a:moveTo>
                      <a:pt x="10792" y="13534"/>
                    </a:moveTo>
                    <a:lnTo>
                      <a:pt x="6238" y="8980"/>
                    </a:lnTo>
                    <a:cubicBezTo>
                      <a:pt x="6149" y="8891"/>
                      <a:pt x="6027" y="8836"/>
                      <a:pt x="5891" y="8836"/>
                    </a:cubicBezTo>
                    <a:cubicBezTo>
                      <a:pt x="5620" y="8836"/>
                      <a:pt x="5400" y="9056"/>
                      <a:pt x="5400" y="9327"/>
                    </a:cubicBezTo>
                    <a:cubicBezTo>
                      <a:pt x="5400" y="9463"/>
                      <a:pt x="5455" y="9585"/>
                      <a:pt x="5544" y="9675"/>
                    </a:cubicBezTo>
                    <a:lnTo>
                      <a:pt x="10453" y="14583"/>
                    </a:lnTo>
                    <a:cubicBezTo>
                      <a:pt x="10542" y="14672"/>
                      <a:pt x="10664" y="14727"/>
                      <a:pt x="10800" y="14727"/>
                    </a:cubicBezTo>
                    <a:cubicBezTo>
                      <a:pt x="10940" y="14727"/>
                      <a:pt x="11064" y="14668"/>
                      <a:pt x="11154" y="14574"/>
                    </a:cubicBezTo>
                    <a:lnTo>
                      <a:pt x="11155" y="14576"/>
                    </a:lnTo>
                    <a:lnTo>
                      <a:pt x="19353" y="5988"/>
                    </a:lnTo>
                    <a:cubicBezTo>
                      <a:pt x="19353" y="5989"/>
                      <a:pt x="19354" y="5990"/>
                      <a:pt x="19354" y="5991"/>
                    </a:cubicBezTo>
                    <a:lnTo>
                      <a:pt x="20055" y="5255"/>
                    </a:lnTo>
                    <a:cubicBezTo>
                      <a:pt x="20055" y="5255"/>
                      <a:pt x="20054" y="5254"/>
                      <a:pt x="20054" y="5253"/>
                    </a:cubicBezTo>
                    <a:lnTo>
                      <a:pt x="21464" y="3775"/>
                    </a:lnTo>
                    <a:lnTo>
                      <a:pt x="21463" y="3774"/>
                    </a:lnTo>
                    <a:cubicBezTo>
                      <a:pt x="21547" y="3686"/>
                      <a:pt x="21600" y="3567"/>
                      <a:pt x="21600" y="3436"/>
                    </a:cubicBezTo>
                    <a:cubicBezTo>
                      <a:pt x="21600" y="3166"/>
                      <a:pt x="21380" y="2945"/>
                      <a:pt x="21109" y="2945"/>
                    </a:cubicBezTo>
                    <a:cubicBezTo>
                      <a:pt x="20969" y="2945"/>
                      <a:pt x="20844" y="3005"/>
                      <a:pt x="20755" y="3099"/>
                    </a:cubicBezTo>
                    <a:lnTo>
                      <a:pt x="20754" y="3097"/>
                    </a:lnTo>
                    <a:lnTo>
                      <a:pt x="19493" y="4419"/>
                    </a:lnTo>
                    <a:cubicBezTo>
                      <a:pt x="19492" y="4418"/>
                      <a:pt x="19491" y="4416"/>
                      <a:pt x="19490" y="4415"/>
                    </a:cubicBezTo>
                    <a:lnTo>
                      <a:pt x="18805" y="5133"/>
                    </a:lnTo>
                    <a:cubicBezTo>
                      <a:pt x="18806" y="5134"/>
                      <a:pt x="18807" y="5136"/>
                      <a:pt x="18807" y="5137"/>
                    </a:cubicBezTo>
                    <a:cubicBezTo>
                      <a:pt x="18807" y="5137"/>
                      <a:pt x="10792" y="13534"/>
                      <a:pt x="10792" y="1353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36" name="Group 58"/>
          <p:cNvGrpSpPr/>
          <p:nvPr/>
        </p:nvGrpSpPr>
        <p:grpSpPr>
          <a:xfrm>
            <a:off x="1238400" y="3251160"/>
            <a:ext cx="4384440" cy="1122480"/>
            <a:chOff x="1238400" y="3251160"/>
            <a:chExt cx="4384440" cy="1122480"/>
          </a:xfrm>
        </p:grpSpPr>
        <p:sp>
          <p:nvSpPr>
            <p:cNvPr id="1237" name="Text Placeholder 32"/>
            <p:cNvSpPr/>
            <p:nvPr/>
          </p:nvSpPr>
          <p:spPr>
            <a:xfrm>
              <a:off x="2229480" y="3887640"/>
              <a:ext cx="33933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5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 Light"/>
                  <a:ea typeface="Roboto Light"/>
                </a:rPr>
                <a:t>Hashtag fashion axe fingerstache, everyday carry shoreditch pinterest umami authentic brooklyn YOLO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Text Placeholder 33"/>
            <p:cNvSpPr/>
            <p:nvPr/>
          </p:nvSpPr>
          <p:spPr>
            <a:xfrm>
              <a:off x="2215440" y="3592800"/>
              <a:ext cx="340704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f15a25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Text Placeholder 33"/>
            <p:cNvSpPr/>
            <p:nvPr/>
          </p:nvSpPr>
          <p:spPr>
            <a:xfrm>
              <a:off x="2215440" y="3251160"/>
              <a:ext cx="340704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656d78"/>
                  </a:solidFill>
                  <a:latin typeface="Source Sans Pro"/>
                </a:rPr>
                <a:t>Analysis 0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40" name="Group 62"/>
            <p:cNvGrpSpPr/>
            <p:nvPr/>
          </p:nvGrpSpPr>
          <p:grpSpPr>
            <a:xfrm>
              <a:off x="1238400" y="3291480"/>
              <a:ext cx="699120" cy="699480"/>
              <a:chOff x="1238400" y="3291480"/>
              <a:chExt cx="699120" cy="699480"/>
            </a:xfrm>
          </p:grpSpPr>
          <p:sp>
            <p:nvSpPr>
              <p:cNvPr id="1241" name="Oval 63"/>
              <p:cNvSpPr/>
              <p:nvPr/>
            </p:nvSpPr>
            <p:spPr>
              <a:xfrm>
                <a:off x="1238400" y="3291480"/>
                <a:ext cx="699120" cy="699480"/>
              </a:xfrm>
              <a:prstGeom prst="ellipse">
                <a:avLst/>
              </a:prstGeom>
              <a:solidFill>
                <a:srgbClr val="ff8e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2" name="Shape 2540"/>
              <p:cNvSpPr/>
              <p:nvPr/>
            </p:nvSpPr>
            <p:spPr>
              <a:xfrm>
                <a:off x="1445040" y="350136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732" y="6661"/>
                    </a:moveTo>
                    <a:cubicBezTo>
                      <a:pt x="20540" y="6471"/>
                      <a:pt x="20228" y="6473"/>
                      <a:pt x="20038" y="6667"/>
                    </a:cubicBezTo>
                    <a:cubicBezTo>
                      <a:pt x="19903" y="6804"/>
                      <a:pt x="19870" y="7000"/>
                      <a:pt x="19929" y="7171"/>
                    </a:cubicBezTo>
                    <a:lnTo>
                      <a:pt x="19918" y="7175"/>
                    </a:lnTo>
                    <a:cubicBezTo>
                      <a:pt x="20365" y="8298"/>
                      <a:pt x="20618" y="951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7"/>
                      <a:pt x="5378" y="982"/>
                      <a:pt x="10800" y="982"/>
                    </a:cubicBezTo>
                    <a:cubicBezTo>
                      <a:pt x="13575" y="982"/>
                      <a:pt x="16077" y="2136"/>
                      <a:pt x="17862" y="3989"/>
                    </a:cubicBezTo>
                    <a:lnTo>
                      <a:pt x="17868" y="3982"/>
                    </a:lnTo>
                    <a:cubicBezTo>
                      <a:pt x="18062" y="4157"/>
                      <a:pt x="18359" y="4153"/>
                      <a:pt x="18544" y="3965"/>
                    </a:cubicBezTo>
                    <a:cubicBezTo>
                      <a:pt x="18734" y="3771"/>
                      <a:pt x="18732" y="3461"/>
                      <a:pt x="18539" y="3270"/>
                    </a:cubicBezTo>
                    <a:cubicBezTo>
                      <a:pt x="18520" y="3252"/>
                      <a:pt x="18496" y="3244"/>
                      <a:pt x="18476" y="3230"/>
                    </a:cubicBezTo>
                    <a:cubicBezTo>
                      <a:pt x="16521" y="1241"/>
                      <a:pt x="13810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4"/>
                      <a:pt x="4835" y="21600"/>
                      <a:pt x="10800" y="21600"/>
                    </a:cubicBezTo>
                    <a:cubicBezTo>
                      <a:pt x="16765" y="21600"/>
                      <a:pt x="21600" y="16764"/>
                      <a:pt x="21600" y="10800"/>
                    </a:cubicBezTo>
                    <a:cubicBezTo>
                      <a:pt x="21600" y="9412"/>
                      <a:pt x="21329" y="8089"/>
                      <a:pt x="20851" y="6869"/>
                    </a:cubicBezTo>
                    <a:cubicBezTo>
                      <a:pt x="20828" y="6794"/>
                      <a:pt x="20793" y="6721"/>
                      <a:pt x="20732" y="6661"/>
                    </a:cubicBezTo>
                    <a:moveTo>
                      <a:pt x="10792" y="13534"/>
                    </a:moveTo>
                    <a:lnTo>
                      <a:pt x="6238" y="8980"/>
                    </a:lnTo>
                    <a:cubicBezTo>
                      <a:pt x="6149" y="8891"/>
                      <a:pt x="6027" y="8836"/>
                      <a:pt x="5891" y="8836"/>
                    </a:cubicBezTo>
                    <a:cubicBezTo>
                      <a:pt x="5620" y="8836"/>
                      <a:pt x="5400" y="9056"/>
                      <a:pt x="5400" y="9327"/>
                    </a:cubicBezTo>
                    <a:cubicBezTo>
                      <a:pt x="5400" y="9463"/>
                      <a:pt x="5455" y="9585"/>
                      <a:pt x="5544" y="9675"/>
                    </a:cubicBezTo>
                    <a:lnTo>
                      <a:pt x="10453" y="14583"/>
                    </a:lnTo>
                    <a:cubicBezTo>
                      <a:pt x="10542" y="14672"/>
                      <a:pt x="10664" y="14727"/>
                      <a:pt x="10800" y="14727"/>
                    </a:cubicBezTo>
                    <a:cubicBezTo>
                      <a:pt x="10940" y="14727"/>
                      <a:pt x="11064" y="14668"/>
                      <a:pt x="11154" y="14574"/>
                    </a:cubicBezTo>
                    <a:lnTo>
                      <a:pt x="11155" y="14576"/>
                    </a:lnTo>
                    <a:lnTo>
                      <a:pt x="19353" y="5988"/>
                    </a:lnTo>
                    <a:cubicBezTo>
                      <a:pt x="19353" y="5989"/>
                      <a:pt x="19354" y="5990"/>
                      <a:pt x="19354" y="5991"/>
                    </a:cubicBezTo>
                    <a:lnTo>
                      <a:pt x="20055" y="5255"/>
                    </a:lnTo>
                    <a:cubicBezTo>
                      <a:pt x="20055" y="5255"/>
                      <a:pt x="20054" y="5254"/>
                      <a:pt x="20054" y="5253"/>
                    </a:cubicBezTo>
                    <a:lnTo>
                      <a:pt x="21464" y="3775"/>
                    </a:lnTo>
                    <a:lnTo>
                      <a:pt x="21463" y="3774"/>
                    </a:lnTo>
                    <a:cubicBezTo>
                      <a:pt x="21547" y="3686"/>
                      <a:pt x="21600" y="3567"/>
                      <a:pt x="21600" y="3436"/>
                    </a:cubicBezTo>
                    <a:cubicBezTo>
                      <a:pt x="21600" y="3166"/>
                      <a:pt x="21380" y="2945"/>
                      <a:pt x="21109" y="2945"/>
                    </a:cubicBezTo>
                    <a:cubicBezTo>
                      <a:pt x="20969" y="2945"/>
                      <a:pt x="20844" y="3005"/>
                      <a:pt x="20755" y="3099"/>
                    </a:cubicBezTo>
                    <a:lnTo>
                      <a:pt x="20754" y="3097"/>
                    </a:lnTo>
                    <a:lnTo>
                      <a:pt x="19493" y="4419"/>
                    </a:lnTo>
                    <a:cubicBezTo>
                      <a:pt x="19492" y="4418"/>
                      <a:pt x="19491" y="4416"/>
                      <a:pt x="19490" y="4415"/>
                    </a:cubicBezTo>
                    <a:lnTo>
                      <a:pt x="18805" y="5133"/>
                    </a:lnTo>
                    <a:cubicBezTo>
                      <a:pt x="18806" y="5134"/>
                      <a:pt x="18807" y="5136"/>
                      <a:pt x="18807" y="5137"/>
                    </a:cubicBezTo>
                    <a:cubicBezTo>
                      <a:pt x="18807" y="5137"/>
                      <a:pt x="10792" y="13534"/>
                      <a:pt x="10792" y="1353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43" name="Group 65"/>
          <p:cNvGrpSpPr/>
          <p:nvPr/>
        </p:nvGrpSpPr>
        <p:grpSpPr>
          <a:xfrm>
            <a:off x="1238400" y="4816440"/>
            <a:ext cx="4384440" cy="1122480"/>
            <a:chOff x="1238400" y="4816440"/>
            <a:chExt cx="4384440" cy="1122480"/>
          </a:xfrm>
        </p:grpSpPr>
        <p:sp>
          <p:nvSpPr>
            <p:cNvPr id="1244" name="Text Placeholder 32"/>
            <p:cNvSpPr/>
            <p:nvPr/>
          </p:nvSpPr>
          <p:spPr>
            <a:xfrm>
              <a:off x="2229480" y="5452920"/>
              <a:ext cx="33933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5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 Light"/>
                  <a:ea typeface="Roboto Light"/>
                </a:rPr>
                <a:t>Hashtag fashion axe fingerstache, everyday carry shoreditch pinterest umami authentic brooklyn YOLO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Text Placeholder 33"/>
            <p:cNvSpPr/>
            <p:nvPr/>
          </p:nvSpPr>
          <p:spPr>
            <a:xfrm>
              <a:off x="2215440" y="5158080"/>
              <a:ext cx="340704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f15a25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Text Placeholder 33"/>
            <p:cNvSpPr/>
            <p:nvPr/>
          </p:nvSpPr>
          <p:spPr>
            <a:xfrm>
              <a:off x="2215440" y="4816440"/>
              <a:ext cx="340704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656d78"/>
                  </a:solidFill>
                  <a:latin typeface="Source Sans Pro"/>
                </a:rPr>
                <a:t>Analysis 0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47" name="Group 69"/>
            <p:cNvGrpSpPr/>
            <p:nvPr/>
          </p:nvGrpSpPr>
          <p:grpSpPr>
            <a:xfrm>
              <a:off x="1238400" y="4856760"/>
              <a:ext cx="699120" cy="699480"/>
              <a:chOff x="1238400" y="4856760"/>
              <a:chExt cx="699120" cy="699480"/>
            </a:xfrm>
          </p:grpSpPr>
          <p:sp>
            <p:nvSpPr>
              <p:cNvPr id="1248" name="Oval 70"/>
              <p:cNvSpPr/>
              <p:nvPr/>
            </p:nvSpPr>
            <p:spPr>
              <a:xfrm>
                <a:off x="1238400" y="4856760"/>
                <a:ext cx="699120" cy="699480"/>
              </a:xfrm>
              <a:prstGeom prst="ellipse">
                <a:avLst/>
              </a:prstGeom>
              <a:solidFill>
                <a:srgbClr val="f15a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9" name="Shape 2540"/>
              <p:cNvSpPr/>
              <p:nvPr/>
            </p:nvSpPr>
            <p:spPr>
              <a:xfrm>
                <a:off x="1443240" y="506664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732" y="6661"/>
                    </a:moveTo>
                    <a:cubicBezTo>
                      <a:pt x="20540" y="6471"/>
                      <a:pt x="20228" y="6473"/>
                      <a:pt x="20038" y="6667"/>
                    </a:cubicBezTo>
                    <a:cubicBezTo>
                      <a:pt x="19903" y="6804"/>
                      <a:pt x="19870" y="7000"/>
                      <a:pt x="19929" y="7171"/>
                    </a:cubicBezTo>
                    <a:lnTo>
                      <a:pt x="19918" y="7175"/>
                    </a:lnTo>
                    <a:cubicBezTo>
                      <a:pt x="20365" y="8298"/>
                      <a:pt x="20618" y="951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7"/>
                      <a:pt x="5378" y="982"/>
                      <a:pt x="10800" y="982"/>
                    </a:cubicBezTo>
                    <a:cubicBezTo>
                      <a:pt x="13575" y="982"/>
                      <a:pt x="16077" y="2136"/>
                      <a:pt x="17862" y="3989"/>
                    </a:cubicBezTo>
                    <a:lnTo>
                      <a:pt x="17868" y="3982"/>
                    </a:lnTo>
                    <a:cubicBezTo>
                      <a:pt x="18062" y="4157"/>
                      <a:pt x="18359" y="4153"/>
                      <a:pt x="18544" y="3965"/>
                    </a:cubicBezTo>
                    <a:cubicBezTo>
                      <a:pt x="18734" y="3771"/>
                      <a:pt x="18732" y="3461"/>
                      <a:pt x="18539" y="3270"/>
                    </a:cubicBezTo>
                    <a:cubicBezTo>
                      <a:pt x="18520" y="3252"/>
                      <a:pt x="18496" y="3244"/>
                      <a:pt x="18476" y="3230"/>
                    </a:cubicBezTo>
                    <a:cubicBezTo>
                      <a:pt x="16521" y="1241"/>
                      <a:pt x="13810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4"/>
                      <a:pt x="4835" y="21600"/>
                      <a:pt x="10800" y="21600"/>
                    </a:cubicBezTo>
                    <a:cubicBezTo>
                      <a:pt x="16765" y="21600"/>
                      <a:pt x="21600" y="16764"/>
                      <a:pt x="21600" y="10800"/>
                    </a:cubicBezTo>
                    <a:cubicBezTo>
                      <a:pt x="21600" y="9412"/>
                      <a:pt x="21329" y="8089"/>
                      <a:pt x="20851" y="6869"/>
                    </a:cubicBezTo>
                    <a:cubicBezTo>
                      <a:pt x="20828" y="6794"/>
                      <a:pt x="20793" y="6721"/>
                      <a:pt x="20732" y="6661"/>
                    </a:cubicBezTo>
                    <a:moveTo>
                      <a:pt x="10792" y="13534"/>
                    </a:moveTo>
                    <a:lnTo>
                      <a:pt x="6238" y="8980"/>
                    </a:lnTo>
                    <a:cubicBezTo>
                      <a:pt x="6149" y="8891"/>
                      <a:pt x="6027" y="8836"/>
                      <a:pt x="5891" y="8836"/>
                    </a:cubicBezTo>
                    <a:cubicBezTo>
                      <a:pt x="5620" y="8836"/>
                      <a:pt x="5400" y="9056"/>
                      <a:pt x="5400" y="9327"/>
                    </a:cubicBezTo>
                    <a:cubicBezTo>
                      <a:pt x="5400" y="9463"/>
                      <a:pt x="5455" y="9585"/>
                      <a:pt x="5544" y="9675"/>
                    </a:cubicBezTo>
                    <a:lnTo>
                      <a:pt x="10453" y="14583"/>
                    </a:lnTo>
                    <a:cubicBezTo>
                      <a:pt x="10542" y="14672"/>
                      <a:pt x="10664" y="14727"/>
                      <a:pt x="10800" y="14727"/>
                    </a:cubicBezTo>
                    <a:cubicBezTo>
                      <a:pt x="10940" y="14727"/>
                      <a:pt x="11064" y="14668"/>
                      <a:pt x="11154" y="14574"/>
                    </a:cubicBezTo>
                    <a:lnTo>
                      <a:pt x="11155" y="14576"/>
                    </a:lnTo>
                    <a:lnTo>
                      <a:pt x="19353" y="5988"/>
                    </a:lnTo>
                    <a:cubicBezTo>
                      <a:pt x="19353" y="5989"/>
                      <a:pt x="19354" y="5990"/>
                      <a:pt x="19354" y="5991"/>
                    </a:cubicBezTo>
                    <a:lnTo>
                      <a:pt x="20055" y="5255"/>
                    </a:lnTo>
                    <a:cubicBezTo>
                      <a:pt x="20055" y="5255"/>
                      <a:pt x="20054" y="5254"/>
                      <a:pt x="20054" y="5253"/>
                    </a:cubicBezTo>
                    <a:lnTo>
                      <a:pt x="21464" y="3775"/>
                    </a:lnTo>
                    <a:lnTo>
                      <a:pt x="21463" y="3774"/>
                    </a:lnTo>
                    <a:cubicBezTo>
                      <a:pt x="21547" y="3686"/>
                      <a:pt x="21600" y="3567"/>
                      <a:pt x="21600" y="3436"/>
                    </a:cubicBezTo>
                    <a:cubicBezTo>
                      <a:pt x="21600" y="3166"/>
                      <a:pt x="21380" y="2945"/>
                      <a:pt x="21109" y="2945"/>
                    </a:cubicBezTo>
                    <a:cubicBezTo>
                      <a:pt x="20969" y="2945"/>
                      <a:pt x="20844" y="3005"/>
                      <a:pt x="20755" y="3099"/>
                    </a:cubicBezTo>
                    <a:lnTo>
                      <a:pt x="20754" y="3097"/>
                    </a:lnTo>
                    <a:lnTo>
                      <a:pt x="19493" y="4419"/>
                    </a:lnTo>
                    <a:cubicBezTo>
                      <a:pt x="19492" y="4418"/>
                      <a:pt x="19491" y="4416"/>
                      <a:pt x="19490" y="4415"/>
                    </a:cubicBezTo>
                    <a:lnTo>
                      <a:pt x="18805" y="5133"/>
                    </a:lnTo>
                    <a:cubicBezTo>
                      <a:pt x="18806" y="5134"/>
                      <a:pt x="18807" y="5136"/>
                      <a:pt x="18807" y="5137"/>
                    </a:cubicBezTo>
                    <a:cubicBezTo>
                      <a:pt x="18807" y="5137"/>
                      <a:pt x="10792" y="13534"/>
                      <a:pt x="10792" y="1353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 advTm="2000">
    <p:fade/>
  </p:transition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0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500"/>
                            </p:stCondLst>
                            <p:childTnLst>
                              <p:par>
                                <p:cTn id="9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2000"/>
                            </p:stCondLst>
                            <p:childTnLst>
                              <p:par>
                                <p:cTn id="9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67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Title 1"/>
          <p:cNvSpPr/>
          <p:nvPr/>
        </p:nvSpPr>
        <p:spPr>
          <a:xfrm>
            <a:off x="560520" y="325800"/>
            <a:ext cx="36525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Creative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15a25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3" name="Group 71"/>
          <p:cNvGrpSpPr/>
          <p:nvPr/>
        </p:nvGrpSpPr>
        <p:grpSpPr>
          <a:xfrm>
            <a:off x="1217520" y="4986360"/>
            <a:ext cx="1467000" cy="806760"/>
            <a:chOff x="1217520" y="4986360"/>
            <a:chExt cx="1467000" cy="806760"/>
          </a:xfrm>
        </p:grpSpPr>
        <p:sp>
          <p:nvSpPr>
            <p:cNvPr id="1254" name="Rectangle 72"/>
            <p:cNvSpPr/>
            <p:nvPr/>
          </p:nvSpPr>
          <p:spPr>
            <a:xfrm>
              <a:off x="1540080" y="4986360"/>
              <a:ext cx="11444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5" name="Shape 2778"/>
            <p:cNvSpPr/>
            <p:nvPr/>
          </p:nvSpPr>
          <p:spPr>
            <a:xfrm>
              <a:off x="1217520" y="5131440"/>
              <a:ext cx="260280" cy="25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6" name="Group 74"/>
          <p:cNvGrpSpPr/>
          <p:nvPr/>
        </p:nvGrpSpPr>
        <p:grpSpPr>
          <a:xfrm>
            <a:off x="2855880" y="4989600"/>
            <a:ext cx="1468440" cy="806760"/>
            <a:chOff x="2855880" y="4989600"/>
            <a:chExt cx="1468440" cy="806760"/>
          </a:xfrm>
        </p:grpSpPr>
        <p:sp>
          <p:nvSpPr>
            <p:cNvPr id="1257" name="Rectangle 75"/>
            <p:cNvSpPr/>
            <p:nvPr/>
          </p:nvSpPr>
          <p:spPr>
            <a:xfrm>
              <a:off x="3179520" y="4989600"/>
              <a:ext cx="11448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8" name="Shape 2748"/>
            <p:cNvSpPr/>
            <p:nvPr/>
          </p:nvSpPr>
          <p:spPr>
            <a:xfrm>
              <a:off x="2855880" y="5108040"/>
              <a:ext cx="260280" cy="25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9" name="Group 77"/>
          <p:cNvGrpSpPr/>
          <p:nvPr/>
        </p:nvGrpSpPr>
        <p:grpSpPr>
          <a:xfrm>
            <a:off x="4552920" y="4989600"/>
            <a:ext cx="1469880" cy="806760"/>
            <a:chOff x="4552920" y="4989600"/>
            <a:chExt cx="1469880" cy="806760"/>
          </a:xfrm>
        </p:grpSpPr>
        <p:sp>
          <p:nvSpPr>
            <p:cNvPr id="1260" name="Rectangle 78"/>
            <p:cNvSpPr/>
            <p:nvPr/>
          </p:nvSpPr>
          <p:spPr>
            <a:xfrm>
              <a:off x="4878000" y="4989600"/>
              <a:ext cx="11448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1" name="Shape 2774"/>
            <p:cNvSpPr/>
            <p:nvPr/>
          </p:nvSpPr>
          <p:spPr>
            <a:xfrm>
              <a:off x="4552920" y="5126400"/>
              <a:ext cx="260280" cy="25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2" name="Group 80"/>
          <p:cNvGrpSpPr/>
          <p:nvPr/>
        </p:nvGrpSpPr>
        <p:grpSpPr>
          <a:xfrm>
            <a:off x="7953480" y="4986360"/>
            <a:ext cx="1468440" cy="806760"/>
            <a:chOff x="7953480" y="4986360"/>
            <a:chExt cx="1468440" cy="806760"/>
          </a:xfrm>
        </p:grpSpPr>
        <p:sp>
          <p:nvSpPr>
            <p:cNvPr id="1263" name="Rectangle 81"/>
            <p:cNvSpPr/>
            <p:nvPr/>
          </p:nvSpPr>
          <p:spPr>
            <a:xfrm>
              <a:off x="8277120" y="4986360"/>
              <a:ext cx="11448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4" name="Shape 2784"/>
            <p:cNvSpPr/>
            <p:nvPr/>
          </p:nvSpPr>
          <p:spPr>
            <a:xfrm>
              <a:off x="7953480" y="5128200"/>
              <a:ext cx="260280" cy="25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5" name="Group 83"/>
          <p:cNvGrpSpPr/>
          <p:nvPr/>
        </p:nvGrpSpPr>
        <p:grpSpPr>
          <a:xfrm>
            <a:off x="6249960" y="4989600"/>
            <a:ext cx="1530360" cy="806760"/>
            <a:chOff x="6249960" y="4989600"/>
            <a:chExt cx="1530360" cy="806760"/>
          </a:xfrm>
        </p:grpSpPr>
        <p:sp>
          <p:nvSpPr>
            <p:cNvPr id="1266" name="Rectangle 84"/>
            <p:cNvSpPr/>
            <p:nvPr/>
          </p:nvSpPr>
          <p:spPr>
            <a:xfrm>
              <a:off x="6635520" y="4989600"/>
              <a:ext cx="11448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7" name="Shape 2543"/>
            <p:cNvSpPr/>
            <p:nvPr/>
          </p:nvSpPr>
          <p:spPr>
            <a:xfrm>
              <a:off x="6249960" y="5112360"/>
              <a:ext cx="260280" cy="26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8" name="Group 86"/>
          <p:cNvGrpSpPr/>
          <p:nvPr/>
        </p:nvGrpSpPr>
        <p:grpSpPr>
          <a:xfrm>
            <a:off x="9593280" y="4986360"/>
            <a:ext cx="1577880" cy="806760"/>
            <a:chOff x="9593280" y="4986360"/>
            <a:chExt cx="1577880" cy="806760"/>
          </a:xfrm>
        </p:grpSpPr>
        <p:sp>
          <p:nvSpPr>
            <p:cNvPr id="1269" name="Rectangle 87"/>
            <p:cNvSpPr/>
            <p:nvPr/>
          </p:nvSpPr>
          <p:spPr>
            <a:xfrm>
              <a:off x="10026000" y="4986360"/>
              <a:ext cx="114516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0" name="Shape 2604"/>
            <p:cNvSpPr/>
            <p:nvPr/>
          </p:nvSpPr>
          <p:spPr>
            <a:xfrm>
              <a:off x="9593280" y="5132520"/>
              <a:ext cx="260280" cy="212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1" name="Group 89"/>
          <p:cNvGrpSpPr/>
          <p:nvPr/>
        </p:nvGrpSpPr>
        <p:grpSpPr>
          <a:xfrm>
            <a:off x="1401840" y="1868040"/>
            <a:ext cx="9391680" cy="3180240"/>
            <a:chOff x="1401840" y="1868040"/>
            <a:chExt cx="9391680" cy="3180240"/>
          </a:xfrm>
        </p:grpSpPr>
        <p:grpSp>
          <p:nvGrpSpPr>
            <p:cNvPr id="1272" name="Group 90"/>
            <p:cNvGrpSpPr/>
            <p:nvPr/>
          </p:nvGrpSpPr>
          <p:grpSpPr>
            <a:xfrm>
              <a:off x="1401840" y="1868040"/>
              <a:ext cx="9391680" cy="3180240"/>
              <a:chOff x="1401840" y="1868040"/>
              <a:chExt cx="9391680" cy="3180240"/>
            </a:xfrm>
          </p:grpSpPr>
          <p:sp>
            <p:nvSpPr>
              <p:cNvPr id="1273" name="Freeform 35"/>
              <p:cNvSpPr/>
              <p:nvPr/>
            </p:nvSpPr>
            <p:spPr>
              <a:xfrm rot="19193400">
                <a:off x="8673480" y="3357360"/>
                <a:ext cx="825480" cy="713880"/>
              </a:xfrm>
              <a:custGeom>
                <a:avLst/>
                <a:gdLst/>
                <a:ahLst/>
                <a:rect l="l" t="t" r="r" b="b"/>
                <a:pathLst>
                  <a:path w="347" h="300">
                    <a:moveTo>
                      <a:pt x="292" y="244"/>
                    </a:moveTo>
                    <a:cubicBezTo>
                      <a:pt x="324" y="124"/>
                      <a:pt x="324" y="124"/>
                      <a:pt x="324" y="124"/>
                    </a:cubicBezTo>
                    <a:cubicBezTo>
                      <a:pt x="347" y="38"/>
                      <a:pt x="347" y="38"/>
                      <a:pt x="347" y="38"/>
                    </a:cubicBezTo>
                    <a:cubicBezTo>
                      <a:pt x="347" y="38"/>
                      <a:pt x="322" y="84"/>
                      <a:pt x="192" y="57"/>
                    </a:cubicBezTo>
                    <a:cubicBezTo>
                      <a:pt x="63" y="29"/>
                      <a:pt x="70" y="0"/>
                      <a:pt x="70" y="0"/>
                    </a:cubicBezTo>
                    <a:cubicBezTo>
                      <a:pt x="56" y="55"/>
                      <a:pt x="56" y="55"/>
                      <a:pt x="56" y="55"/>
                    </a:cubicBezTo>
                    <a:cubicBezTo>
                      <a:pt x="23" y="175"/>
                      <a:pt x="23" y="175"/>
                      <a:pt x="23" y="175"/>
                    </a:cubicBezTo>
                    <a:cubicBezTo>
                      <a:pt x="0" y="262"/>
                      <a:pt x="0" y="262"/>
                      <a:pt x="0" y="262"/>
                    </a:cubicBezTo>
                    <a:cubicBezTo>
                      <a:pt x="0" y="262"/>
                      <a:pt x="21" y="224"/>
                      <a:pt x="153" y="247"/>
                    </a:cubicBezTo>
                    <a:cubicBezTo>
                      <a:pt x="285" y="270"/>
                      <a:pt x="277" y="300"/>
                      <a:pt x="277" y="300"/>
                    </a:cubicBezTo>
                    <a:lnTo>
                      <a:pt x="292" y="244"/>
                    </a:lnTo>
                    <a:close/>
                  </a:path>
                </a:pathLst>
              </a:custGeom>
              <a:solidFill>
                <a:srgbClr val="f15a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4" name="Freeform 32"/>
              <p:cNvSpPr/>
              <p:nvPr/>
            </p:nvSpPr>
            <p:spPr>
              <a:xfrm rot="19193400">
                <a:off x="7233840" y="3172680"/>
                <a:ext cx="715680" cy="826560"/>
              </a:xfrm>
              <a:custGeom>
                <a:avLst/>
                <a:gdLst/>
                <a:ahLst/>
                <a:rect l="l" t="t" r="r" b="b"/>
                <a:pathLst>
                  <a:path w="301" h="347">
                    <a:moveTo>
                      <a:pt x="56" y="55"/>
                    </a:moveTo>
                    <a:cubicBezTo>
                      <a:pt x="176" y="23"/>
                      <a:pt x="176" y="23"/>
                      <a:pt x="176" y="23"/>
                    </a:cubicBezTo>
                    <a:cubicBezTo>
                      <a:pt x="262" y="0"/>
                      <a:pt x="262" y="0"/>
                      <a:pt x="262" y="0"/>
                    </a:cubicBezTo>
                    <a:cubicBezTo>
                      <a:pt x="262" y="0"/>
                      <a:pt x="216" y="25"/>
                      <a:pt x="244" y="155"/>
                    </a:cubicBezTo>
                    <a:cubicBezTo>
                      <a:pt x="271" y="285"/>
                      <a:pt x="301" y="277"/>
                      <a:pt x="301" y="277"/>
                    </a:cubicBezTo>
                    <a:cubicBezTo>
                      <a:pt x="245" y="292"/>
                      <a:pt x="245" y="292"/>
                      <a:pt x="245" y="292"/>
                    </a:cubicBezTo>
                    <a:cubicBezTo>
                      <a:pt x="125" y="324"/>
                      <a:pt x="125" y="324"/>
                      <a:pt x="125" y="324"/>
                    </a:cubicBezTo>
                    <a:cubicBezTo>
                      <a:pt x="39" y="347"/>
                      <a:pt x="39" y="347"/>
                      <a:pt x="39" y="347"/>
                    </a:cubicBezTo>
                    <a:cubicBezTo>
                      <a:pt x="39" y="347"/>
                      <a:pt x="76" y="327"/>
                      <a:pt x="53" y="194"/>
                    </a:cubicBezTo>
                    <a:cubicBezTo>
                      <a:pt x="31" y="62"/>
                      <a:pt x="0" y="70"/>
                      <a:pt x="0" y="70"/>
                    </a:cubicBezTo>
                    <a:lnTo>
                      <a:pt x="56" y="55"/>
                    </a:lnTo>
                    <a:close/>
                  </a:path>
                </a:pathLst>
              </a:custGeom>
              <a:solidFill>
                <a:srgbClr val="445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5" name="Freeform 36"/>
              <p:cNvSpPr/>
              <p:nvPr/>
            </p:nvSpPr>
            <p:spPr>
              <a:xfrm rot="19193400">
                <a:off x="5683680" y="3100320"/>
                <a:ext cx="826920" cy="713880"/>
              </a:xfrm>
              <a:custGeom>
                <a:avLst/>
                <a:gdLst/>
                <a:ahLst/>
                <a:rect l="l" t="t" r="r" b="b"/>
                <a:pathLst>
                  <a:path w="348" h="300">
                    <a:moveTo>
                      <a:pt x="292" y="245"/>
                    </a:moveTo>
                    <a:cubicBezTo>
                      <a:pt x="324" y="124"/>
                      <a:pt x="324" y="124"/>
                      <a:pt x="324" y="124"/>
                    </a:cubicBezTo>
                    <a:cubicBezTo>
                      <a:pt x="348" y="38"/>
                      <a:pt x="348" y="38"/>
                      <a:pt x="348" y="38"/>
                    </a:cubicBezTo>
                    <a:cubicBezTo>
                      <a:pt x="348" y="38"/>
                      <a:pt x="322" y="84"/>
                      <a:pt x="192" y="57"/>
                    </a:cubicBezTo>
                    <a:cubicBezTo>
                      <a:pt x="63" y="29"/>
                      <a:pt x="71" y="0"/>
                      <a:pt x="71" y="0"/>
                    </a:cubicBezTo>
                    <a:cubicBezTo>
                      <a:pt x="56" y="55"/>
                      <a:pt x="56" y="55"/>
                      <a:pt x="56" y="55"/>
                    </a:cubicBezTo>
                    <a:cubicBezTo>
                      <a:pt x="24" y="176"/>
                      <a:pt x="24" y="176"/>
                      <a:pt x="24" y="176"/>
                    </a:cubicBezTo>
                    <a:cubicBezTo>
                      <a:pt x="0" y="262"/>
                      <a:pt x="0" y="262"/>
                      <a:pt x="0" y="262"/>
                    </a:cubicBezTo>
                    <a:cubicBezTo>
                      <a:pt x="0" y="262"/>
                      <a:pt x="21" y="224"/>
                      <a:pt x="153" y="247"/>
                    </a:cubicBezTo>
                    <a:cubicBezTo>
                      <a:pt x="286" y="270"/>
                      <a:pt x="277" y="300"/>
                      <a:pt x="277" y="300"/>
                    </a:cubicBezTo>
                    <a:lnTo>
                      <a:pt x="292" y="245"/>
                    </a:lnTo>
                    <a:close/>
                  </a:path>
                </a:pathLst>
              </a:custGeom>
              <a:solidFill>
                <a:srgbClr val="566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6" name="Freeform 27"/>
              <p:cNvSpPr/>
              <p:nvPr/>
            </p:nvSpPr>
            <p:spPr>
              <a:xfrm rot="19193400">
                <a:off x="4244400" y="2917080"/>
                <a:ext cx="715680" cy="825120"/>
              </a:xfrm>
              <a:custGeom>
                <a:avLst/>
                <a:gdLst/>
                <a:ahLst/>
                <a:rect l="l" t="t" r="r" b="b"/>
                <a:pathLst>
                  <a:path w="301" h="347">
                    <a:moveTo>
                      <a:pt x="56" y="55"/>
                    </a:moveTo>
                    <a:cubicBezTo>
                      <a:pt x="176" y="23"/>
                      <a:pt x="176" y="23"/>
                      <a:pt x="176" y="23"/>
                    </a:cubicBezTo>
                    <a:cubicBezTo>
                      <a:pt x="262" y="0"/>
                      <a:pt x="262" y="0"/>
                      <a:pt x="262" y="0"/>
                    </a:cubicBezTo>
                    <a:cubicBezTo>
                      <a:pt x="262" y="0"/>
                      <a:pt x="216" y="26"/>
                      <a:pt x="244" y="155"/>
                    </a:cubicBezTo>
                    <a:cubicBezTo>
                      <a:pt x="272" y="285"/>
                      <a:pt x="301" y="277"/>
                      <a:pt x="301" y="277"/>
                    </a:cubicBezTo>
                    <a:cubicBezTo>
                      <a:pt x="245" y="292"/>
                      <a:pt x="245" y="292"/>
                      <a:pt x="245" y="292"/>
                    </a:cubicBezTo>
                    <a:cubicBezTo>
                      <a:pt x="125" y="324"/>
                      <a:pt x="125" y="324"/>
                      <a:pt x="125" y="324"/>
                    </a:cubicBezTo>
                    <a:cubicBezTo>
                      <a:pt x="39" y="347"/>
                      <a:pt x="39" y="347"/>
                      <a:pt x="39" y="347"/>
                    </a:cubicBezTo>
                    <a:cubicBezTo>
                      <a:pt x="39" y="347"/>
                      <a:pt x="76" y="327"/>
                      <a:pt x="54" y="194"/>
                    </a:cubicBezTo>
                    <a:cubicBezTo>
                      <a:pt x="31" y="62"/>
                      <a:pt x="0" y="70"/>
                      <a:pt x="0" y="70"/>
                    </a:cubicBezTo>
                    <a:lnTo>
                      <a:pt x="56" y="55"/>
                    </a:lnTo>
                    <a:close/>
                  </a:path>
                </a:pathLst>
              </a:custGeom>
              <a:solidFill>
                <a:srgbClr val="ff8e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7" name="Freeform 24"/>
              <p:cNvSpPr/>
              <p:nvPr/>
            </p:nvSpPr>
            <p:spPr>
              <a:xfrm rot="19193400">
                <a:off x="2696400" y="2844360"/>
                <a:ext cx="825480" cy="713880"/>
              </a:xfrm>
              <a:custGeom>
                <a:avLst/>
                <a:gdLst/>
                <a:ahLst/>
                <a:rect l="l" t="t" r="r" b="b"/>
                <a:pathLst>
                  <a:path w="347" h="300">
                    <a:moveTo>
                      <a:pt x="291" y="245"/>
                    </a:moveTo>
                    <a:cubicBezTo>
                      <a:pt x="324" y="125"/>
                      <a:pt x="324" y="125"/>
                      <a:pt x="324" y="125"/>
                    </a:cubicBezTo>
                    <a:cubicBezTo>
                      <a:pt x="347" y="39"/>
                      <a:pt x="347" y="39"/>
                      <a:pt x="347" y="39"/>
                    </a:cubicBezTo>
                    <a:cubicBezTo>
                      <a:pt x="347" y="39"/>
                      <a:pt x="321" y="85"/>
                      <a:pt x="192" y="57"/>
                    </a:cubicBezTo>
                    <a:cubicBezTo>
                      <a:pt x="62" y="29"/>
                      <a:pt x="70" y="0"/>
                      <a:pt x="70" y="0"/>
                    </a:cubicBezTo>
                    <a:cubicBezTo>
                      <a:pt x="55" y="56"/>
                      <a:pt x="55" y="56"/>
                      <a:pt x="55" y="56"/>
                    </a:cubicBezTo>
                    <a:cubicBezTo>
                      <a:pt x="23" y="176"/>
                      <a:pt x="23" y="176"/>
                      <a:pt x="23" y="176"/>
                    </a:cubicBezTo>
                    <a:cubicBezTo>
                      <a:pt x="0" y="262"/>
                      <a:pt x="0" y="262"/>
                      <a:pt x="0" y="262"/>
                    </a:cubicBezTo>
                    <a:cubicBezTo>
                      <a:pt x="0" y="262"/>
                      <a:pt x="20" y="224"/>
                      <a:pt x="152" y="247"/>
                    </a:cubicBezTo>
                    <a:cubicBezTo>
                      <a:pt x="285" y="270"/>
                      <a:pt x="277" y="300"/>
                      <a:pt x="277" y="300"/>
                    </a:cubicBezTo>
                    <a:lnTo>
                      <a:pt x="291" y="245"/>
                    </a:lnTo>
                    <a:close/>
                  </a:path>
                </a:pathLst>
              </a:custGeom>
              <a:solidFill>
                <a:srgbClr val="f15a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8" name="Oval 20"/>
              <p:cNvSpPr/>
              <p:nvPr/>
            </p:nvSpPr>
            <p:spPr>
              <a:xfrm rot="19193400">
                <a:off x="1668240" y="2963880"/>
                <a:ext cx="1305000" cy="1304280"/>
              </a:xfrm>
              <a:prstGeom prst="ellipse">
                <a:avLst/>
              </a:prstGeom>
              <a:solidFill>
                <a:srgbClr val="f15a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9" name="Oval 21"/>
              <p:cNvSpPr/>
              <p:nvPr/>
            </p:nvSpPr>
            <p:spPr>
              <a:xfrm rot="19193400">
                <a:off x="3244320" y="2134800"/>
                <a:ext cx="1306440" cy="1307520"/>
              </a:xfrm>
              <a:prstGeom prst="ellipse">
                <a:avLst/>
              </a:prstGeom>
              <a:solidFill>
                <a:srgbClr val="ff8e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0" name="Freeform 22"/>
              <p:cNvSpPr/>
              <p:nvPr/>
            </p:nvSpPr>
            <p:spPr>
              <a:xfrm rot="19193400">
                <a:off x="1810440" y="3106800"/>
                <a:ext cx="1020600" cy="1021680"/>
              </a:xfrm>
              <a:custGeom>
                <a:avLst/>
                <a:gdLst/>
                <a:ahLst/>
                <a:rect l="l" t="t" r="r" b="b"/>
                <a:pathLst>
                  <a:path w="429" h="429">
                    <a:moveTo>
                      <a:pt x="353" y="352"/>
                    </a:moveTo>
                    <a:cubicBezTo>
                      <a:pt x="277" y="429"/>
                      <a:pt x="153" y="429"/>
                      <a:pt x="77" y="352"/>
                    </a:cubicBezTo>
                    <a:cubicBezTo>
                      <a:pt x="0" y="276"/>
                      <a:pt x="0" y="152"/>
                      <a:pt x="77" y="76"/>
                    </a:cubicBezTo>
                    <a:cubicBezTo>
                      <a:pt x="153" y="0"/>
                      <a:pt x="277" y="0"/>
                      <a:pt x="353" y="76"/>
                    </a:cubicBezTo>
                    <a:cubicBezTo>
                      <a:pt x="429" y="152"/>
                      <a:pt x="429" y="276"/>
                      <a:pt x="353" y="3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1" name="Freeform 23"/>
              <p:cNvSpPr/>
              <p:nvPr/>
            </p:nvSpPr>
            <p:spPr>
              <a:xfrm rot="19193400">
                <a:off x="3386880" y="2277360"/>
                <a:ext cx="1020600" cy="1021680"/>
              </a:xfrm>
              <a:custGeom>
                <a:avLst/>
                <a:gdLst/>
                <a:ahLst/>
                <a:rect l="l" t="t" r="r" b="b"/>
                <a:pathLst>
                  <a:path w="429" h="429">
                    <a:moveTo>
                      <a:pt x="353" y="352"/>
                    </a:moveTo>
                    <a:cubicBezTo>
                      <a:pt x="276" y="429"/>
                      <a:pt x="153" y="429"/>
                      <a:pt x="76" y="352"/>
                    </a:cubicBezTo>
                    <a:cubicBezTo>
                      <a:pt x="0" y="276"/>
                      <a:pt x="0" y="152"/>
                      <a:pt x="76" y="76"/>
                    </a:cubicBezTo>
                    <a:cubicBezTo>
                      <a:pt x="153" y="0"/>
                      <a:pt x="276" y="0"/>
                      <a:pt x="353" y="76"/>
                    </a:cubicBezTo>
                    <a:cubicBezTo>
                      <a:pt x="429" y="152"/>
                      <a:pt x="429" y="276"/>
                      <a:pt x="353" y="3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2" name="Oval 25"/>
              <p:cNvSpPr/>
              <p:nvPr/>
            </p:nvSpPr>
            <p:spPr>
              <a:xfrm rot="19193400">
                <a:off x="4655880" y="3219840"/>
                <a:ext cx="1306440" cy="1304280"/>
              </a:xfrm>
              <a:prstGeom prst="ellipse">
                <a:avLst/>
              </a:prstGeom>
              <a:solidFill>
                <a:srgbClr val="566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3" name="Freeform 26"/>
              <p:cNvSpPr/>
              <p:nvPr/>
            </p:nvSpPr>
            <p:spPr>
              <a:xfrm rot="19193400">
                <a:off x="4798800" y="3362760"/>
                <a:ext cx="1020600" cy="1018800"/>
              </a:xfrm>
              <a:custGeom>
                <a:avLst/>
                <a:gdLst/>
                <a:ahLst/>
                <a:rect l="l" t="t" r="r" b="b"/>
                <a:pathLst>
                  <a:path w="429" h="428">
                    <a:moveTo>
                      <a:pt x="77" y="76"/>
                    </a:moveTo>
                    <a:cubicBezTo>
                      <a:pt x="0" y="152"/>
                      <a:pt x="0" y="276"/>
                      <a:pt x="77" y="352"/>
                    </a:cubicBezTo>
                    <a:cubicBezTo>
                      <a:pt x="153" y="428"/>
                      <a:pt x="277" y="428"/>
                      <a:pt x="353" y="352"/>
                    </a:cubicBezTo>
                    <a:cubicBezTo>
                      <a:pt x="429" y="276"/>
                      <a:pt x="429" y="152"/>
                      <a:pt x="353" y="76"/>
                    </a:cubicBezTo>
                    <a:cubicBezTo>
                      <a:pt x="277" y="0"/>
                      <a:pt x="153" y="0"/>
                      <a:pt x="77" y="7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4" name="Oval 28"/>
              <p:cNvSpPr/>
              <p:nvPr/>
            </p:nvSpPr>
            <p:spPr>
              <a:xfrm rot="19193400">
                <a:off x="7644600" y="3473640"/>
                <a:ext cx="1306440" cy="1307520"/>
              </a:xfrm>
              <a:prstGeom prst="ellipse">
                <a:avLst/>
              </a:prstGeom>
              <a:solidFill>
                <a:srgbClr val="f15a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5" name="Oval 29"/>
              <p:cNvSpPr/>
              <p:nvPr/>
            </p:nvSpPr>
            <p:spPr>
              <a:xfrm rot="19193400">
                <a:off x="6231960" y="2390400"/>
                <a:ext cx="1306440" cy="1304280"/>
              </a:xfrm>
              <a:prstGeom prst="ellipse">
                <a:avLst/>
              </a:prstGeom>
              <a:solidFill>
                <a:srgbClr val="445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6" name="Freeform 30"/>
              <p:cNvSpPr/>
              <p:nvPr/>
            </p:nvSpPr>
            <p:spPr>
              <a:xfrm rot="19193400">
                <a:off x="7787160" y="3616560"/>
                <a:ext cx="1020600" cy="1021680"/>
              </a:xfrm>
              <a:custGeom>
                <a:avLst/>
                <a:gdLst/>
                <a:ahLst/>
                <a:rect l="l" t="t" r="r" b="b"/>
                <a:pathLst>
                  <a:path w="429" h="429">
                    <a:moveTo>
                      <a:pt x="76" y="77"/>
                    </a:moveTo>
                    <a:cubicBezTo>
                      <a:pt x="0" y="153"/>
                      <a:pt x="0" y="277"/>
                      <a:pt x="76" y="353"/>
                    </a:cubicBezTo>
                    <a:cubicBezTo>
                      <a:pt x="153" y="429"/>
                      <a:pt x="276" y="429"/>
                      <a:pt x="353" y="353"/>
                    </a:cubicBezTo>
                    <a:cubicBezTo>
                      <a:pt x="429" y="277"/>
                      <a:pt x="429" y="153"/>
                      <a:pt x="353" y="77"/>
                    </a:cubicBezTo>
                    <a:cubicBezTo>
                      <a:pt x="276" y="0"/>
                      <a:pt x="153" y="0"/>
                      <a:pt x="76" y="7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7" name="Freeform 31"/>
              <p:cNvSpPr/>
              <p:nvPr/>
            </p:nvSpPr>
            <p:spPr>
              <a:xfrm rot="19193400">
                <a:off x="6374880" y="2533320"/>
                <a:ext cx="1020600" cy="1018800"/>
              </a:xfrm>
              <a:custGeom>
                <a:avLst/>
                <a:gdLst/>
                <a:ahLst/>
                <a:rect l="l" t="t" r="r" b="b"/>
                <a:pathLst>
                  <a:path w="429" h="428">
                    <a:moveTo>
                      <a:pt x="76" y="76"/>
                    </a:moveTo>
                    <a:cubicBezTo>
                      <a:pt x="0" y="152"/>
                      <a:pt x="0" y="276"/>
                      <a:pt x="76" y="352"/>
                    </a:cubicBezTo>
                    <a:cubicBezTo>
                      <a:pt x="152" y="428"/>
                      <a:pt x="276" y="428"/>
                      <a:pt x="352" y="352"/>
                    </a:cubicBezTo>
                    <a:cubicBezTo>
                      <a:pt x="429" y="276"/>
                      <a:pt x="429" y="152"/>
                      <a:pt x="352" y="76"/>
                    </a:cubicBezTo>
                    <a:cubicBezTo>
                      <a:pt x="276" y="0"/>
                      <a:pt x="152" y="0"/>
                      <a:pt x="76" y="7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8" name="Oval 33"/>
              <p:cNvSpPr/>
              <p:nvPr/>
            </p:nvSpPr>
            <p:spPr>
              <a:xfrm rot="19193400">
                <a:off x="9221400" y="2647440"/>
                <a:ext cx="1305000" cy="1304280"/>
              </a:xfrm>
              <a:prstGeom prst="ellipse">
                <a:avLst/>
              </a:prstGeom>
              <a:solidFill>
                <a:srgbClr val="ff8e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9" name="Freeform 34"/>
              <p:cNvSpPr/>
              <p:nvPr/>
            </p:nvSpPr>
            <p:spPr>
              <a:xfrm rot="19193400">
                <a:off x="9363240" y="2787120"/>
                <a:ext cx="1020600" cy="1021680"/>
              </a:xfrm>
              <a:custGeom>
                <a:avLst/>
                <a:gdLst/>
                <a:ahLst/>
                <a:rect l="l" t="t" r="r" b="b"/>
                <a:pathLst>
                  <a:path w="429" h="429">
                    <a:moveTo>
                      <a:pt x="352" y="353"/>
                    </a:moveTo>
                    <a:cubicBezTo>
                      <a:pt x="276" y="429"/>
                      <a:pt x="152" y="429"/>
                      <a:pt x="76" y="353"/>
                    </a:cubicBezTo>
                    <a:cubicBezTo>
                      <a:pt x="0" y="277"/>
                      <a:pt x="0" y="153"/>
                      <a:pt x="76" y="77"/>
                    </a:cubicBezTo>
                    <a:cubicBezTo>
                      <a:pt x="152" y="0"/>
                      <a:pt x="276" y="0"/>
                      <a:pt x="352" y="77"/>
                    </a:cubicBezTo>
                    <a:cubicBezTo>
                      <a:pt x="429" y="153"/>
                      <a:pt x="429" y="277"/>
                      <a:pt x="352" y="3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90" name="Shape 2778"/>
            <p:cNvSpPr/>
            <p:nvPr/>
          </p:nvSpPr>
          <p:spPr>
            <a:xfrm>
              <a:off x="2187720" y="34761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1" name="Shape 2748"/>
            <p:cNvSpPr/>
            <p:nvPr/>
          </p:nvSpPr>
          <p:spPr>
            <a:xfrm>
              <a:off x="3758040" y="26337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2" name="Shape 2774"/>
            <p:cNvSpPr/>
            <p:nvPr/>
          </p:nvSpPr>
          <p:spPr>
            <a:xfrm>
              <a:off x="5169240" y="37551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3" name="Shape 2543"/>
            <p:cNvSpPr/>
            <p:nvPr/>
          </p:nvSpPr>
          <p:spPr>
            <a:xfrm>
              <a:off x="6745680" y="287568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4" name="Shape 2784"/>
            <p:cNvSpPr/>
            <p:nvPr/>
          </p:nvSpPr>
          <p:spPr>
            <a:xfrm>
              <a:off x="8161560" y="398268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5" name="Shape 2604"/>
            <p:cNvSpPr/>
            <p:nvPr/>
          </p:nvSpPr>
          <p:spPr>
            <a:xfrm>
              <a:off x="9731880" y="3150000"/>
              <a:ext cx="279000" cy="22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0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9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42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Title 1"/>
          <p:cNvSpPr/>
          <p:nvPr/>
        </p:nvSpPr>
        <p:spPr>
          <a:xfrm>
            <a:off x="560520" y="325800"/>
            <a:ext cx="36525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Hexagon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15a25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9" name="Group 45"/>
          <p:cNvGrpSpPr/>
          <p:nvPr/>
        </p:nvGrpSpPr>
        <p:grpSpPr>
          <a:xfrm>
            <a:off x="615960" y="1781280"/>
            <a:ext cx="4119480" cy="3898800"/>
            <a:chOff x="615960" y="1781280"/>
            <a:chExt cx="4119480" cy="3898800"/>
          </a:xfrm>
        </p:grpSpPr>
        <p:grpSp>
          <p:nvGrpSpPr>
            <p:cNvPr id="1300" name="Group 46"/>
            <p:cNvGrpSpPr/>
            <p:nvPr/>
          </p:nvGrpSpPr>
          <p:grpSpPr>
            <a:xfrm>
              <a:off x="615960" y="2918520"/>
              <a:ext cx="1791360" cy="1022400"/>
              <a:chOff x="615960" y="2918520"/>
              <a:chExt cx="1791360" cy="1022400"/>
            </a:xfrm>
          </p:grpSpPr>
          <p:sp>
            <p:nvSpPr>
              <p:cNvPr id="1301" name="Shape 728"/>
              <p:cNvSpPr/>
              <p:nvPr/>
            </p:nvSpPr>
            <p:spPr>
              <a:xfrm>
                <a:off x="615960" y="2918520"/>
                <a:ext cx="1791360" cy="1022400"/>
              </a:xfrm>
              <a:custGeom>
                <a:avLst/>
                <a:gdLst/>
                <a:ahLst/>
                <a:rect l="l" t="t" r="r" b="b"/>
                <a:pathLst>
                  <a:path w="21513" h="21600">
                    <a:moveTo>
                      <a:pt x="16064" y="6078"/>
                    </a:moveTo>
                    <a:cubicBezTo>
                      <a:pt x="16238" y="5546"/>
                      <a:pt x="16667" y="5110"/>
                      <a:pt x="17017" y="5110"/>
                    </a:cubicBezTo>
                    <a:lnTo>
                      <a:pt x="19291" y="5110"/>
                    </a:lnTo>
                    <a:cubicBezTo>
                      <a:pt x="19640" y="5110"/>
                      <a:pt x="20069" y="5546"/>
                      <a:pt x="20244" y="6078"/>
                    </a:cubicBezTo>
                    <a:lnTo>
                      <a:pt x="21381" y="9542"/>
                    </a:lnTo>
                    <a:cubicBezTo>
                      <a:pt x="21556" y="10075"/>
                      <a:pt x="21556" y="10946"/>
                      <a:pt x="21381" y="11478"/>
                    </a:cubicBezTo>
                    <a:lnTo>
                      <a:pt x="20244" y="14942"/>
                    </a:lnTo>
                    <a:cubicBezTo>
                      <a:pt x="20069" y="15474"/>
                      <a:pt x="19640" y="15910"/>
                      <a:pt x="19291" y="15910"/>
                    </a:cubicBezTo>
                    <a:lnTo>
                      <a:pt x="17017" y="15910"/>
                    </a:lnTo>
                    <a:cubicBezTo>
                      <a:pt x="16667" y="15910"/>
                      <a:pt x="16238" y="15474"/>
                      <a:pt x="16064" y="14942"/>
                    </a:cubicBezTo>
                    <a:lnTo>
                      <a:pt x="15429" y="13010"/>
                    </a:lnTo>
                    <a:cubicBezTo>
                      <a:pt x="15254" y="12477"/>
                      <a:pt x="14825" y="12042"/>
                      <a:pt x="14476" y="12042"/>
                    </a:cubicBezTo>
                    <a:lnTo>
                      <a:pt x="14221" y="12042"/>
                    </a:lnTo>
                    <a:cubicBezTo>
                      <a:pt x="13872" y="12042"/>
                      <a:pt x="13443" y="12477"/>
                      <a:pt x="13268" y="13010"/>
                    </a:cubicBezTo>
                    <a:lnTo>
                      <a:pt x="10766" y="20632"/>
                    </a:lnTo>
                    <a:cubicBezTo>
                      <a:pt x="10591" y="21164"/>
                      <a:pt x="10162" y="21600"/>
                      <a:pt x="9813" y="21600"/>
                    </a:cubicBezTo>
                    <a:lnTo>
                      <a:pt x="3994" y="21600"/>
                    </a:lnTo>
                    <a:cubicBezTo>
                      <a:pt x="3644" y="21600"/>
                      <a:pt x="3215" y="21164"/>
                      <a:pt x="3040" y="20632"/>
                    </a:cubicBezTo>
                    <a:lnTo>
                      <a:pt x="131" y="11768"/>
                    </a:lnTo>
                    <a:cubicBezTo>
                      <a:pt x="-44" y="11235"/>
                      <a:pt x="-44" y="10364"/>
                      <a:pt x="131" y="9832"/>
                    </a:cubicBezTo>
                    <a:lnTo>
                      <a:pt x="3040" y="968"/>
                    </a:lnTo>
                    <a:cubicBezTo>
                      <a:pt x="3215" y="436"/>
                      <a:pt x="3644" y="0"/>
                      <a:pt x="3994" y="0"/>
                    </a:cubicBezTo>
                    <a:lnTo>
                      <a:pt x="9813" y="0"/>
                    </a:lnTo>
                    <a:cubicBezTo>
                      <a:pt x="10162" y="0"/>
                      <a:pt x="10591" y="436"/>
                      <a:pt x="10766" y="968"/>
                    </a:cubicBezTo>
                    <a:lnTo>
                      <a:pt x="13268" y="8590"/>
                    </a:lnTo>
                    <a:cubicBezTo>
                      <a:pt x="13443" y="9123"/>
                      <a:pt x="13872" y="9558"/>
                      <a:pt x="14221" y="9558"/>
                    </a:cubicBezTo>
                    <a:lnTo>
                      <a:pt x="14286" y="9558"/>
                    </a:lnTo>
                    <a:cubicBezTo>
                      <a:pt x="14635" y="9558"/>
                      <a:pt x="15064" y="9123"/>
                      <a:pt x="15239" y="8590"/>
                    </a:cubicBezTo>
                    <a:cubicBezTo>
                      <a:pt x="15239" y="8590"/>
                      <a:pt x="16064" y="6078"/>
                      <a:pt x="16064" y="6078"/>
                    </a:cubicBezTo>
                    <a:close/>
                  </a:path>
                </a:pathLst>
              </a:custGeom>
              <a:solidFill>
                <a:srgbClr val="ff8e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800" rIns="378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2" name="Shape 2778"/>
              <p:cNvSpPr/>
              <p:nvPr/>
            </p:nvSpPr>
            <p:spPr>
              <a:xfrm>
                <a:off x="1031760" y="328932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7481" y="12956"/>
                    </a:moveTo>
                    <a:cubicBezTo>
                      <a:pt x="17070" y="12258"/>
                      <a:pt x="16576" y="11533"/>
                      <a:pt x="16011" y="10795"/>
                    </a:cubicBezTo>
                    <a:cubicBezTo>
                      <a:pt x="16573" y="10063"/>
                      <a:pt x="17072" y="9339"/>
                      <a:pt x="17481" y="8644"/>
                    </a:cubicBezTo>
                    <a:cubicBezTo>
                      <a:pt x="19410" y="9181"/>
                      <a:pt x="20618" y="9948"/>
                      <a:pt x="20618" y="10800"/>
                    </a:cubicBezTo>
                    <a:cubicBezTo>
                      <a:pt x="20618" y="11652"/>
                      <a:pt x="19410" y="12419"/>
                      <a:pt x="17481" y="12956"/>
                    </a:cubicBezTo>
                    <a:moveTo>
                      <a:pt x="17742" y="17743"/>
                    </a:moveTo>
                    <a:cubicBezTo>
                      <a:pt x="17140" y="18345"/>
                      <a:pt x="15740" y="18028"/>
                      <a:pt x="13996" y="17045"/>
                    </a:cubicBezTo>
                    <a:cubicBezTo>
                      <a:pt x="14198" y="16261"/>
                      <a:pt x="14365" y="15406"/>
                      <a:pt x="14487" y="14488"/>
                    </a:cubicBezTo>
                    <a:cubicBezTo>
                      <a:pt x="15405" y="14366"/>
                      <a:pt x="16261" y="14198"/>
                      <a:pt x="17044" y="13996"/>
                    </a:cubicBezTo>
                    <a:cubicBezTo>
                      <a:pt x="18028" y="15740"/>
                      <a:pt x="18345" y="17140"/>
                      <a:pt x="17742" y="17743"/>
                    </a:cubicBezTo>
                    <a:moveTo>
                      <a:pt x="15404" y="11561"/>
                    </a:moveTo>
                    <a:cubicBezTo>
                      <a:pt x="15837" y="12119"/>
                      <a:pt x="16219" y="12662"/>
                      <a:pt x="16554" y="13185"/>
                    </a:cubicBezTo>
                    <a:cubicBezTo>
                      <a:pt x="15950" y="13317"/>
                      <a:pt x="15295" y="13429"/>
                      <a:pt x="14597" y="13517"/>
                    </a:cubicBezTo>
                    <a:cubicBezTo>
                      <a:pt x="14631" y="13155"/>
                      <a:pt x="14655" y="12784"/>
                      <a:pt x="14677" y="12409"/>
                    </a:cubicBezTo>
                    <a:cubicBezTo>
                      <a:pt x="14930" y="12127"/>
                      <a:pt x="15170" y="11844"/>
                      <a:pt x="15404" y="11561"/>
                    </a:cubicBezTo>
                    <a:moveTo>
                      <a:pt x="15402" y="10032"/>
                    </a:moveTo>
                    <a:cubicBezTo>
                      <a:pt x="15170" y="9752"/>
                      <a:pt x="14928" y="9471"/>
                      <a:pt x="14677" y="9191"/>
                    </a:cubicBezTo>
                    <a:cubicBezTo>
                      <a:pt x="14655" y="8817"/>
                      <a:pt x="14631" y="8445"/>
                      <a:pt x="14597" y="8084"/>
                    </a:cubicBezTo>
                    <a:cubicBezTo>
                      <a:pt x="15295" y="8171"/>
                      <a:pt x="15950" y="8283"/>
                      <a:pt x="16554" y="8415"/>
                    </a:cubicBezTo>
                    <a:cubicBezTo>
                      <a:pt x="16221" y="8935"/>
                      <a:pt x="15832" y="9478"/>
                      <a:pt x="15402" y="10032"/>
                    </a:cubicBezTo>
                    <a:moveTo>
                      <a:pt x="17742" y="3857"/>
                    </a:moveTo>
                    <a:cubicBezTo>
                      <a:pt x="18345" y="4460"/>
                      <a:pt x="18028" y="5860"/>
                      <a:pt x="17044" y="7604"/>
                    </a:cubicBezTo>
                    <a:cubicBezTo>
                      <a:pt x="16261" y="7402"/>
                      <a:pt x="15405" y="7234"/>
                      <a:pt x="14487" y="7112"/>
                    </a:cubicBezTo>
                    <a:cubicBezTo>
                      <a:pt x="14365" y="6194"/>
                      <a:pt x="14198" y="5339"/>
                      <a:pt x="13996" y="4555"/>
                    </a:cubicBezTo>
                    <a:cubicBezTo>
                      <a:pt x="15740" y="3572"/>
                      <a:pt x="17140" y="3255"/>
                      <a:pt x="17742" y="3857"/>
                    </a:cubicBezTo>
                    <a:moveTo>
                      <a:pt x="13718" y="12012"/>
                    </a:moveTo>
                    <a:cubicBezTo>
                      <a:pt x="13448" y="12303"/>
                      <a:pt x="13172" y="12593"/>
                      <a:pt x="12882" y="12883"/>
                    </a:cubicBezTo>
                    <a:cubicBezTo>
                      <a:pt x="12593" y="13172"/>
                      <a:pt x="12303" y="13449"/>
                      <a:pt x="12012" y="13719"/>
                    </a:cubicBezTo>
                    <a:cubicBezTo>
                      <a:pt x="11614" y="13733"/>
                      <a:pt x="11212" y="13745"/>
                      <a:pt x="10800" y="13745"/>
                    </a:cubicBezTo>
                    <a:cubicBezTo>
                      <a:pt x="10387" y="13745"/>
                      <a:pt x="9985" y="13733"/>
                      <a:pt x="9587" y="13719"/>
                    </a:cubicBezTo>
                    <a:cubicBezTo>
                      <a:pt x="9297" y="13449"/>
                      <a:pt x="9006" y="13172"/>
                      <a:pt x="8717" y="12883"/>
                    </a:cubicBezTo>
                    <a:cubicBezTo>
                      <a:pt x="8428" y="12593"/>
                      <a:pt x="8152" y="12303"/>
                      <a:pt x="7881" y="12012"/>
                    </a:cubicBezTo>
                    <a:cubicBezTo>
                      <a:pt x="7866" y="11614"/>
                      <a:pt x="7855" y="11212"/>
                      <a:pt x="7855" y="10800"/>
                    </a:cubicBezTo>
                    <a:cubicBezTo>
                      <a:pt x="7855" y="10388"/>
                      <a:pt x="7866" y="9986"/>
                      <a:pt x="7881" y="9587"/>
                    </a:cubicBezTo>
                    <a:cubicBezTo>
                      <a:pt x="8152" y="9297"/>
                      <a:pt x="8428" y="9007"/>
                      <a:pt x="8717" y="8717"/>
                    </a:cubicBezTo>
                    <a:cubicBezTo>
                      <a:pt x="9006" y="8428"/>
                      <a:pt x="9297" y="8151"/>
                      <a:pt x="9587" y="7881"/>
                    </a:cubicBezTo>
                    <a:cubicBezTo>
                      <a:pt x="9985" y="7867"/>
                      <a:pt x="10387" y="7855"/>
                      <a:pt x="10800" y="7855"/>
                    </a:cubicBezTo>
                    <a:cubicBezTo>
                      <a:pt x="11212" y="7855"/>
                      <a:pt x="11614" y="7867"/>
                      <a:pt x="12012" y="7881"/>
                    </a:cubicBezTo>
                    <a:cubicBezTo>
                      <a:pt x="12303" y="8151"/>
                      <a:pt x="12593" y="8428"/>
                      <a:pt x="12882" y="8717"/>
                    </a:cubicBezTo>
                    <a:cubicBezTo>
                      <a:pt x="13172" y="9007"/>
                      <a:pt x="13448" y="9297"/>
                      <a:pt x="13718" y="9587"/>
                    </a:cubicBezTo>
                    <a:cubicBezTo>
                      <a:pt x="13733" y="9986"/>
                      <a:pt x="13745" y="10388"/>
                      <a:pt x="13745" y="10800"/>
                    </a:cubicBezTo>
                    <a:cubicBezTo>
                      <a:pt x="13745" y="11212"/>
                      <a:pt x="13733" y="11614"/>
                      <a:pt x="13718" y="12012"/>
                    </a:cubicBezTo>
                    <a:moveTo>
                      <a:pt x="13185" y="16555"/>
                    </a:moveTo>
                    <a:cubicBezTo>
                      <a:pt x="12662" y="16219"/>
                      <a:pt x="12120" y="15837"/>
                      <a:pt x="11561" y="15404"/>
                    </a:cubicBezTo>
                    <a:cubicBezTo>
                      <a:pt x="11844" y="15170"/>
                      <a:pt x="12127" y="14931"/>
                      <a:pt x="12409" y="14677"/>
                    </a:cubicBezTo>
                    <a:cubicBezTo>
                      <a:pt x="12783" y="14655"/>
                      <a:pt x="13155" y="14631"/>
                      <a:pt x="13517" y="14597"/>
                    </a:cubicBezTo>
                    <a:cubicBezTo>
                      <a:pt x="13429" y="15295"/>
                      <a:pt x="13316" y="15950"/>
                      <a:pt x="13185" y="16555"/>
                    </a:cubicBezTo>
                    <a:moveTo>
                      <a:pt x="10800" y="20618"/>
                    </a:moveTo>
                    <a:cubicBezTo>
                      <a:pt x="9948" y="20618"/>
                      <a:pt x="9181" y="19410"/>
                      <a:pt x="8643" y="17481"/>
                    </a:cubicBezTo>
                    <a:cubicBezTo>
                      <a:pt x="9339" y="17072"/>
                      <a:pt x="10062" y="16573"/>
                      <a:pt x="10795" y="16011"/>
                    </a:cubicBezTo>
                    <a:cubicBezTo>
                      <a:pt x="11532" y="16576"/>
                      <a:pt x="12258" y="17070"/>
                      <a:pt x="12957" y="17481"/>
                    </a:cubicBezTo>
                    <a:cubicBezTo>
                      <a:pt x="12419" y="19410"/>
                      <a:pt x="11652" y="20618"/>
                      <a:pt x="10800" y="20618"/>
                    </a:cubicBezTo>
                    <a:moveTo>
                      <a:pt x="8083" y="14597"/>
                    </a:moveTo>
                    <a:cubicBezTo>
                      <a:pt x="8445" y="14631"/>
                      <a:pt x="8816" y="14655"/>
                      <a:pt x="9190" y="14677"/>
                    </a:cubicBezTo>
                    <a:cubicBezTo>
                      <a:pt x="9471" y="14929"/>
                      <a:pt x="9751" y="15170"/>
                      <a:pt x="10032" y="15403"/>
                    </a:cubicBezTo>
                    <a:cubicBezTo>
                      <a:pt x="9478" y="15832"/>
                      <a:pt x="8935" y="16221"/>
                      <a:pt x="8415" y="16555"/>
                    </a:cubicBezTo>
                    <a:cubicBezTo>
                      <a:pt x="8283" y="15950"/>
                      <a:pt x="8171" y="15295"/>
                      <a:pt x="8083" y="14597"/>
                    </a:cubicBezTo>
                    <a:moveTo>
                      <a:pt x="8415" y="5045"/>
                    </a:moveTo>
                    <a:cubicBezTo>
                      <a:pt x="8938" y="5381"/>
                      <a:pt x="9480" y="5762"/>
                      <a:pt x="10038" y="6196"/>
                    </a:cubicBezTo>
                    <a:cubicBezTo>
                      <a:pt x="9756" y="6430"/>
                      <a:pt x="9473" y="6670"/>
                      <a:pt x="9190" y="6924"/>
                    </a:cubicBezTo>
                    <a:cubicBezTo>
                      <a:pt x="8816" y="6945"/>
                      <a:pt x="8445" y="6969"/>
                      <a:pt x="8083" y="7003"/>
                    </a:cubicBezTo>
                    <a:cubicBezTo>
                      <a:pt x="8171" y="6305"/>
                      <a:pt x="8283" y="5650"/>
                      <a:pt x="8415" y="5045"/>
                    </a:cubicBezTo>
                    <a:moveTo>
                      <a:pt x="10800" y="982"/>
                    </a:moveTo>
                    <a:cubicBezTo>
                      <a:pt x="11652" y="982"/>
                      <a:pt x="12419" y="2191"/>
                      <a:pt x="12957" y="4119"/>
                    </a:cubicBezTo>
                    <a:cubicBezTo>
                      <a:pt x="12261" y="4528"/>
                      <a:pt x="11537" y="5027"/>
                      <a:pt x="10804" y="5589"/>
                    </a:cubicBezTo>
                    <a:cubicBezTo>
                      <a:pt x="10067" y="5024"/>
                      <a:pt x="9341" y="4530"/>
                      <a:pt x="8643" y="4119"/>
                    </a:cubicBezTo>
                    <a:cubicBezTo>
                      <a:pt x="9181" y="2191"/>
                      <a:pt x="9948" y="982"/>
                      <a:pt x="10800" y="982"/>
                    </a:cubicBezTo>
                    <a:moveTo>
                      <a:pt x="13517" y="7003"/>
                    </a:moveTo>
                    <a:cubicBezTo>
                      <a:pt x="13155" y="6969"/>
                      <a:pt x="12783" y="6945"/>
                      <a:pt x="12409" y="6924"/>
                    </a:cubicBezTo>
                    <a:cubicBezTo>
                      <a:pt x="12129" y="6671"/>
                      <a:pt x="11848" y="6430"/>
                      <a:pt x="11568" y="6198"/>
                    </a:cubicBezTo>
                    <a:cubicBezTo>
                      <a:pt x="12122" y="5768"/>
                      <a:pt x="12665" y="5379"/>
                      <a:pt x="13185" y="5045"/>
                    </a:cubicBezTo>
                    <a:cubicBezTo>
                      <a:pt x="13316" y="5650"/>
                      <a:pt x="13429" y="6305"/>
                      <a:pt x="13517" y="7003"/>
                    </a:cubicBezTo>
                    <a:moveTo>
                      <a:pt x="7112" y="7112"/>
                    </a:moveTo>
                    <a:cubicBezTo>
                      <a:pt x="6194" y="7234"/>
                      <a:pt x="5339" y="7402"/>
                      <a:pt x="4555" y="7604"/>
                    </a:cubicBezTo>
                    <a:cubicBezTo>
                      <a:pt x="3572" y="5860"/>
                      <a:pt x="3255" y="4460"/>
                      <a:pt x="3858" y="3857"/>
                    </a:cubicBezTo>
                    <a:cubicBezTo>
                      <a:pt x="4460" y="3255"/>
                      <a:pt x="5860" y="3572"/>
                      <a:pt x="7604" y="4555"/>
                    </a:cubicBezTo>
                    <a:cubicBezTo>
                      <a:pt x="7402" y="5339"/>
                      <a:pt x="7234" y="6194"/>
                      <a:pt x="7112" y="7112"/>
                    </a:cubicBezTo>
                    <a:moveTo>
                      <a:pt x="3858" y="17743"/>
                    </a:moveTo>
                    <a:cubicBezTo>
                      <a:pt x="3255" y="17140"/>
                      <a:pt x="3572" y="15740"/>
                      <a:pt x="4555" y="13996"/>
                    </a:cubicBezTo>
                    <a:cubicBezTo>
                      <a:pt x="5339" y="14198"/>
                      <a:pt x="6194" y="14366"/>
                      <a:pt x="7112" y="14488"/>
                    </a:cubicBezTo>
                    <a:cubicBezTo>
                      <a:pt x="7234" y="15406"/>
                      <a:pt x="7402" y="16261"/>
                      <a:pt x="7604" y="17045"/>
                    </a:cubicBezTo>
                    <a:cubicBezTo>
                      <a:pt x="5860" y="18028"/>
                      <a:pt x="4460" y="18345"/>
                      <a:pt x="3858" y="17743"/>
                    </a:cubicBezTo>
                    <a:moveTo>
                      <a:pt x="7003" y="13517"/>
                    </a:moveTo>
                    <a:cubicBezTo>
                      <a:pt x="6305" y="13429"/>
                      <a:pt x="5650" y="13317"/>
                      <a:pt x="5045" y="13185"/>
                    </a:cubicBezTo>
                    <a:cubicBezTo>
                      <a:pt x="5379" y="12665"/>
                      <a:pt x="5768" y="12122"/>
                      <a:pt x="6197" y="11568"/>
                    </a:cubicBezTo>
                    <a:cubicBezTo>
                      <a:pt x="6429" y="11848"/>
                      <a:pt x="6671" y="12129"/>
                      <a:pt x="6923" y="12409"/>
                    </a:cubicBezTo>
                    <a:cubicBezTo>
                      <a:pt x="6944" y="12784"/>
                      <a:pt x="6968" y="13155"/>
                      <a:pt x="7003" y="13517"/>
                    </a:cubicBezTo>
                    <a:moveTo>
                      <a:pt x="6923" y="9191"/>
                    </a:moveTo>
                    <a:cubicBezTo>
                      <a:pt x="6669" y="9473"/>
                      <a:pt x="6429" y="9756"/>
                      <a:pt x="6196" y="10039"/>
                    </a:cubicBezTo>
                    <a:cubicBezTo>
                      <a:pt x="5763" y="9481"/>
                      <a:pt x="5381" y="8938"/>
                      <a:pt x="5045" y="8415"/>
                    </a:cubicBezTo>
                    <a:cubicBezTo>
                      <a:pt x="5650" y="8283"/>
                      <a:pt x="6305" y="8171"/>
                      <a:pt x="7003" y="8084"/>
                    </a:cubicBezTo>
                    <a:cubicBezTo>
                      <a:pt x="6968" y="8445"/>
                      <a:pt x="6944" y="8816"/>
                      <a:pt x="6923" y="9191"/>
                    </a:cubicBezTo>
                    <a:moveTo>
                      <a:pt x="982" y="10800"/>
                    </a:moveTo>
                    <a:cubicBezTo>
                      <a:pt x="982" y="9948"/>
                      <a:pt x="2190" y="9181"/>
                      <a:pt x="4119" y="8644"/>
                    </a:cubicBezTo>
                    <a:cubicBezTo>
                      <a:pt x="4530" y="9342"/>
                      <a:pt x="5023" y="10067"/>
                      <a:pt x="5588" y="10805"/>
                    </a:cubicBezTo>
                    <a:cubicBezTo>
                      <a:pt x="5027" y="11537"/>
                      <a:pt x="4528" y="12262"/>
                      <a:pt x="4119" y="12956"/>
                    </a:cubicBezTo>
                    <a:cubicBezTo>
                      <a:pt x="2190" y="12419"/>
                      <a:pt x="982" y="11652"/>
                      <a:pt x="982" y="10800"/>
                    </a:cubicBezTo>
                    <a:moveTo>
                      <a:pt x="21600" y="10800"/>
                    </a:moveTo>
                    <a:cubicBezTo>
                      <a:pt x="21600" y="9624"/>
                      <a:pt x="20173" y="8571"/>
                      <a:pt x="17918" y="7853"/>
                    </a:cubicBezTo>
                    <a:cubicBezTo>
                      <a:pt x="19002" y="5750"/>
                      <a:pt x="19269" y="3995"/>
                      <a:pt x="18437" y="3163"/>
                    </a:cubicBezTo>
                    <a:cubicBezTo>
                      <a:pt x="17605" y="2332"/>
                      <a:pt x="15850" y="2598"/>
                      <a:pt x="13748" y="3682"/>
                    </a:cubicBezTo>
                    <a:cubicBezTo>
                      <a:pt x="13029" y="1427"/>
                      <a:pt x="11976" y="0"/>
                      <a:pt x="10800" y="0"/>
                    </a:cubicBezTo>
                    <a:cubicBezTo>
                      <a:pt x="9623" y="0"/>
                      <a:pt x="8571" y="1427"/>
                      <a:pt x="7852" y="3682"/>
                    </a:cubicBezTo>
                    <a:cubicBezTo>
                      <a:pt x="5750" y="2598"/>
                      <a:pt x="3995" y="2332"/>
                      <a:pt x="3163" y="3163"/>
                    </a:cubicBezTo>
                    <a:cubicBezTo>
                      <a:pt x="2331" y="3995"/>
                      <a:pt x="2598" y="5750"/>
                      <a:pt x="3682" y="7853"/>
                    </a:cubicBezTo>
                    <a:cubicBezTo>
                      <a:pt x="1426" y="8571"/>
                      <a:pt x="0" y="9624"/>
                      <a:pt x="0" y="10800"/>
                    </a:cubicBezTo>
                    <a:cubicBezTo>
                      <a:pt x="0" y="11976"/>
                      <a:pt x="1426" y="13029"/>
                      <a:pt x="3682" y="13748"/>
                    </a:cubicBezTo>
                    <a:cubicBezTo>
                      <a:pt x="2598" y="15851"/>
                      <a:pt x="2331" y="17605"/>
                      <a:pt x="3163" y="18437"/>
                    </a:cubicBezTo>
                    <a:cubicBezTo>
                      <a:pt x="3995" y="19268"/>
                      <a:pt x="5750" y="19002"/>
                      <a:pt x="7852" y="17918"/>
                    </a:cubicBezTo>
                    <a:cubicBezTo>
                      <a:pt x="8571" y="20173"/>
                      <a:pt x="9623" y="21600"/>
                      <a:pt x="10800" y="21600"/>
                    </a:cubicBezTo>
                    <a:cubicBezTo>
                      <a:pt x="11976" y="21600"/>
                      <a:pt x="13029" y="20173"/>
                      <a:pt x="13748" y="17918"/>
                    </a:cubicBezTo>
                    <a:cubicBezTo>
                      <a:pt x="15850" y="19002"/>
                      <a:pt x="17605" y="19268"/>
                      <a:pt x="18437" y="18437"/>
                    </a:cubicBezTo>
                    <a:cubicBezTo>
                      <a:pt x="19269" y="17605"/>
                      <a:pt x="19002" y="15851"/>
                      <a:pt x="17918" y="13748"/>
                    </a:cubicBezTo>
                    <a:cubicBezTo>
                      <a:pt x="20173" y="13029"/>
                      <a:pt x="21600" y="11976"/>
                      <a:pt x="21600" y="10800"/>
                    </a:cubicBezTo>
                    <a:moveTo>
                      <a:pt x="10800" y="9818"/>
                    </a:moveTo>
                    <a:cubicBezTo>
                      <a:pt x="10258" y="9818"/>
                      <a:pt x="9818" y="10258"/>
                      <a:pt x="9818" y="10800"/>
                    </a:cubicBezTo>
                    <a:cubicBezTo>
                      <a:pt x="9818" y="11342"/>
                      <a:pt x="10258" y="11782"/>
                      <a:pt x="10800" y="11782"/>
                    </a:cubicBezTo>
                    <a:cubicBezTo>
                      <a:pt x="11342" y="11782"/>
                      <a:pt x="11782" y="11342"/>
                      <a:pt x="11782" y="10800"/>
                    </a:cubicBezTo>
                    <a:cubicBezTo>
                      <a:pt x="11782" y="10258"/>
                      <a:pt x="11342" y="9818"/>
                      <a:pt x="10800" y="98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03" name="Group 47"/>
            <p:cNvGrpSpPr/>
            <p:nvPr/>
          </p:nvGrpSpPr>
          <p:grpSpPr>
            <a:xfrm>
              <a:off x="1620360" y="1781280"/>
              <a:ext cx="1334880" cy="1571040"/>
              <a:chOff x="1620360" y="1781280"/>
              <a:chExt cx="1334880" cy="1571040"/>
            </a:xfrm>
          </p:grpSpPr>
          <p:sp>
            <p:nvSpPr>
              <p:cNvPr id="1304" name="Shape 727"/>
              <p:cNvSpPr/>
              <p:nvPr/>
            </p:nvSpPr>
            <p:spPr>
              <a:xfrm>
                <a:off x="1620360" y="1781280"/>
                <a:ext cx="1334880" cy="1571040"/>
              </a:xfrm>
              <a:custGeom>
                <a:avLst/>
                <a:gdLst/>
                <a:ahLst/>
                <a:rect l="l" t="t" r="r" b="b"/>
                <a:pathLst>
                  <a:path w="21483" h="21600">
                    <a:moveTo>
                      <a:pt x="18505" y="14572"/>
                    </a:moveTo>
                    <a:cubicBezTo>
                      <a:pt x="18974" y="14572"/>
                      <a:pt x="19549" y="14855"/>
                      <a:pt x="19783" y="15202"/>
                    </a:cubicBezTo>
                    <a:lnTo>
                      <a:pt x="21307" y="17456"/>
                    </a:lnTo>
                    <a:cubicBezTo>
                      <a:pt x="21541" y="17802"/>
                      <a:pt x="21541" y="18369"/>
                      <a:pt x="21307" y="18716"/>
                    </a:cubicBezTo>
                    <a:lnTo>
                      <a:pt x="19783" y="20970"/>
                    </a:lnTo>
                    <a:cubicBezTo>
                      <a:pt x="19549" y="21317"/>
                      <a:pt x="18974" y="21600"/>
                      <a:pt x="18505" y="21600"/>
                    </a:cubicBezTo>
                    <a:lnTo>
                      <a:pt x="15458" y="21600"/>
                    </a:lnTo>
                    <a:cubicBezTo>
                      <a:pt x="14989" y="21600"/>
                      <a:pt x="14414" y="21317"/>
                      <a:pt x="14180" y="20970"/>
                    </a:cubicBezTo>
                    <a:lnTo>
                      <a:pt x="12656" y="18716"/>
                    </a:lnTo>
                    <a:cubicBezTo>
                      <a:pt x="12422" y="18369"/>
                      <a:pt x="12422" y="17802"/>
                      <a:pt x="12656" y="17456"/>
                    </a:cubicBezTo>
                    <a:lnTo>
                      <a:pt x="13507" y="16198"/>
                    </a:lnTo>
                    <a:cubicBezTo>
                      <a:pt x="13741" y="15852"/>
                      <a:pt x="13741" y="15285"/>
                      <a:pt x="13506" y="14939"/>
                    </a:cubicBezTo>
                    <a:lnTo>
                      <a:pt x="13336" y="14686"/>
                    </a:lnTo>
                    <a:cubicBezTo>
                      <a:pt x="13102" y="14340"/>
                      <a:pt x="12527" y="14056"/>
                      <a:pt x="12059" y="14056"/>
                    </a:cubicBezTo>
                    <a:lnTo>
                      <a:pt x="5352" y="14056"/>
                    </a:lnTo>
                    <a:cubicBezTo>
                      <a:pt x="4884" y="14056"/>
                      <a:pt x="4309" y="13773"/>
                      <a:pt x="4075" y="13426"/>
                    </a:cubicBezTo>
                    <a:lnTo>
                      <a:pt x="175" y="7658"/>
                    </a:lnTo>
                    <a:cubicBezTo>
                      <a:pt x="-59" y="7312"/>
                      <a:pt x="-59" y="6745"/>
                      <a:pt x="175" y="6398"/>
                    </a:cubicBezTo>
                    <a:lnTo>
                      <a:pt x="4075" y="630"/>
                    </a:lnTo>
                    <a:cubicBezTo>
                      <a:pt x="4309" y="283"/>
                      <a:pt x="4884" y="0"/>
                      <a:pt x="5352" y="0"/>
                    </a:cubicBezTo>
                    <a:lnTo>
                      <a:pt x="13151" y="0"/>
                    </a:lnTo>
                    <a:cubicBezTo>
                      <a:pt x="13619" y="0"/>
                      <a:pt x="14194" y="283"/>
                      <a:pt x="14429" y="630"/>
                    </a:cubicBezTo>
                    <a:lnTo>
                      <a:pt x="18328" y="6398"/>
                    </a:lnTo>
                    <a:cubicBezTo>
                      <a:pt x="18562" y="6745"/>
                      <a:pt x="18562" y="7312"/>
                      <a:pt x="18328" y="7658"/>
                    </a:cubicBezTo>
                    <a:lnTo>
                      <a:pt x="14975" y="12618"/>
                    </a:lnTo>
                    <a:cubicBezTo>
                      <a:pt x="14741" y="12965"/>
                      <a:pt x="14741" y="13532"/>
                      <a:pt x="14975" y="13878"/>
                    </a:cubicBezTo>
                    <a:lnTo>
                      <a:pt x="15018" y="13942"/>
                    </a:lnTo>
                    <a:cubicBezTo>
                      <a:pt x="15252" y="14288"/>
                      <a:pt x="15827" y="14572"/>
                      <a:pt x="16295" y="14572"/>
                    </a:cubicBezTo>
                    <a:cubicBezTo>
                      <a:pt x="16295" y="14572"/>
                      <a:pt x="18505" y="14572"/>
                      <a:pt x="18505" y="14572"/>
                    </a:cubicBezTo>
                    <a:close/>
                  </a:path>
                </a:pathLst>
              </a:custGeom>
              <a:solidFill>
                <a:srgbClr val="f15a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800" rIns="378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Shape 2748"/>
              <p:cNvSpPr/>
              <p:nvPr/>
            </p:nvSpPr>
            <p:spPr>
              <a:xfrm>
                <a:off x="2028600" y="213912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7"/>
                      <a:pt x="5377" y="982"/>
                      <a:pt x="10800" y="982"/>
                    </a:cubicBezTo>
                    <a:cubicBezTo>
                      <a:pt x="16223" y="982"/>
                      <a:pt x="20618" y="5377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8280" y="18579"/>
                    </a:moveTo>
                    <a:cubicBezTo>
                      <a:pt x="20323" y="16614"/>
                      <a:pt x="21600" y="1385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3859"/>
                      <a:pt x="1277" y="16614"/>
                      <a:pt x="3320" y="18579"/>
                    </a:cubicBezTo>
                    <a:lnTo>
                      <a:pt x="2107" y="20762"/>
                    </a:lnTo>
                    <a:cubicBezTo>
                      <a:pt x="2019" y="20851"/>
                      <a:pt x="1964" y="20974"/>
                      <a:pt x="1964" y="21109"/>
                    </a:cubicBezTo>
                    <a:cubicBezTo>
                      <a:pt x="1964" y="21380"/>
                      <a:pt x="2184" y="21600"/>
                      <a:pt x="2455" y="21600"/>
                    </a:cubicBezTo>
                    <a:cubicBezTo>
                      <a:pt x="2590" y="21600"/>
                      <a:pt x="2713" y="21545"/>
                      <a:pt x="2802" y="21456"/>
                    </a:cubicBezTo>
                    <a:cubicBezTo>
                      <a:pt x="2858" y="21400"/>
                      <a:pt x="2894" y="21327"/>
                      <a:pt x="2917" y="21248"/>
                    </a:cubicBezTo>
                    <a:lnTo>
                      <a:pt x="4044" y="19219"/>
                    </a:lnTo>
                    <a:cubicBezTo>
                      <a:pt x="5895" y="20706"/>
                      <a:pt x="8242" y="21600"/>
                      <a:pt x="10800" y="21600"/>
                    </a:cubicBezTo>
                    <a:cubicBezTo>
                      <a:pt x="13358" y="21600"/>
                      <a:pt x="15705" y="20706"/>
                      <a:pt x="17555" y="19219"/>
                    </a:cubicBezTo>
                    <a:lnTo>
                      <a:pt x="18683" y="21248"/>
                    </a:lnTo>
                    <a:cubicBezTo>
                      <a:pt x="18743" y="21450"/>
                      <a:pt x="18923" y="21600"/>
                      <a:pt x="19145" y="21600"/>
                    </a:cubicBezTo>
                    <a:cubicBezTo>
                      <a:pt x="19416" y="21600"/>
                      <a:pt x="19636" y="21380"/>
                      <a:pt x="19636" y="21109"/>
                    </a:cubicBezTo>
                    <a:cubicBezTo>
                      <a:pt x="19636" y="20974"/>
                      <a:pt x="19581" y="20851"/>
                      <a:pt x="19493" y="20762"/>
                    </a:cubicBezTo>
                    <a:cubicBezTo>
                      <a:pt x="19493" y="20762"/>
                      <a:pt x="18280" y="18579"/>
                      <a:pt x="18280" y="18579"/>
                    </a:cubicBezTo>
                    <a:close/>
                    <a:moveTo>
                      <a:pt x="10800" y="16691"/>
                    </a:moveTo>
                    <a:cubicBezTo>
                      <a:pt x="7547" y="16691"/>
                      <a:pt x="4909" y="14053"/>
                      <a:pt x="4909" y="10800"/>
                    </a:cubicBezTo>
                    <a:cubicBezTo>
                      <a:pt x="4909" y="7547"/>
                      <a:pt x="7547" y="4909"/>
                      <a:pt x="10800" y="4909"/>
                    </a:cubicBezTo>
                    <a:cubicBezTo>
                      <a:pt x="14053" y="4909"/>
                      <a:pt x="16691" y="7547"/>
                      <a:pt x="16691" y="10800"/>
                    </a:cubicBezTo>
                    <a:cubicBezTo>
                      <a:pt x="16691" y="14053"/>
                      <a:pt x="14053" y="16691"/>
                      <a:pt x="10800" y="16691"/>
                    </a:cubicBezTo>
                    <a:moveTo>
                      <a:pt x="10800" y="3927"/>
                    </a:moveTo>
                    <a:cubicBezTo>
                      <a:pt x="7004" y="3927"/>
                      <a:pt x="3927" y="7004"/>
                      <a:pt x="3927" y="10800"/>
                    </a:cubicBezTo>
                    <a:cubicBezTo>
                      <a:pt x="3927" y="14596"/>
                      <a:pt x="7004" y="17673"/>
                      <a:pt x="10800" y="17673"/>
                    </a:cubicBezTo>
                    <a:cubicBezTo>
                      <a:pt x="14596" y="17673"/>
                      <a:pt x="17673" y="14596"/>
                      <a:pt x="17673" y="10800"/>
                    </a:cubicBezTo>
                    <a:cubicBezTo>
                      <a:pt x="17673" y="7004"/>
                      <a:pt x="14596" y="3927"/>
                      <a:pt x="10800" y="3927"/>
                    </a:cubicBezTo>
                    <a:moveTo>
                      <a:pt x="10800" y="12764"/>
                    </a:move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moveTo>
                      <a:pt x="10800" y="7855"/>
                    </a:moveTo>
                    <a:cubicBezTo>
                      <a:pt x="9173" y="7855"/>
                      <a:pt x="7855" y="9173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7" y="13745"/>
                      <a:pt x="13745" y="12427"/>
                      <a:pt x="13745" y="10800"/>
                    </a:cubicBezTo>
                    <a:cubicBezTo>
                      <a:pt x="13745" y="9173"/>
                      <a:pt x="12427" y="7855"/>
                      <a:pt x="10800" y="785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06" name="Group 48"/>
            <p:cNvGrpSpPr/>
            <p:nvPr/>
          </p:nvGrpSpPr>
          <p:grpSpPr>
            <a:xfrm>
              <a:off x="2944080" y="2086920"/>
              <a:ext cx="1311120" cy="1585080"/>
              <a:chOff x="2944080" y="2086920"/>
              <a:chExt cx="1311120" cy="1585080"/>
            </a:xfrm>
          </p:grpSpPr>
          <p:sp>
            <p:nvSpPr>
              <p:cNvPr id="1307" name="Shape 732"/>
              <p:cNvSpPr/>
              <p:nvPr/>
            </p:nvSpPr>
            <p:spPr>
              <a:xfrm>
                <a:off x="2944080" y="2086920"/>
                <a:ext cx="1311120" cy="1585080"/>
              </a:xfrm>
              <a:custGeom>
                <a:avLst/>
                <a:gdLst/>
                <a:ahLst/>
                <a:rect l="l" t="t" r="r" b="b"/>
                <a:pathLst>
                  <a:path w="21481" h="21600">
                    <a:moveTo>
                      <a:pt x="8985" y="17492"/>
                    </a:moveTo>
                    <a:cubicBezTo>
                      <a:pt x="9223" y="17835"/>
                      <a:pt x="9223" y="18397"/>
                      <a:pt x="8985" y="18741"/>
                    </a:cubicBezTo>
                    <a:lnTo>
                      <a:pt x="7433" y="20976"/>
                    </a:lnTo>
                    <a:cubicBezTo>
                      <a:pt x="7195" y="21319"/>
                      <a:pt x="6610" y="21600"/>
                      <a:pt x="6133" y="21600"/>
                    </a:cubicBezTo>
                    <a:lnTo>
                      <a:pt x="3030" y="21600"/>
                    </a:lnTo>
                    <a:cubicBezTo>
                      <a:pt x="2553" y="21600"/>
                      <a:pt x="1968" y="21319"/>
                      <a:pt x="1730" y="20976"/>
                    </a:cubicBezTo>
                    <a:lnTo>
                      <a:pt x="178" y="18741"/>
                    </a:lnTo>
                    <a:cubicBezTo>
                      <a:pt x="-60" y="18397"/>
                      <a:pt x="-60" y="17835"/>
                      <a:pt x="178" y="17492"/>
                    </a:cubicBezTo>
                    <a:lnTo>
                      <a:pt x="1730" y="15257"/>
                    </a:lnTo>
                    <a:cubicBezTo>
                      <a:pt x="1968" y="14914"/>
                      <a:pt x="2553" y="14633"/>
                      <a:pt x="3030" y="14633"/>
                    </a:cubicBezTo>
                    <a:lnTo>
                      <a:pt x="4761" y="14633"/>
                    </a:lnTo>
                    <a:cubicBezTo>
                      <a:pt x="5238" y="14633"/>
                      <a:pt x="5823" y="14352"/>
                      <a:pt x="6062" y="14008"/>
                    </a:cubicBezTo>
                    <a:lnTo>
                      <a:pt x="6235" y="13758"/>
                    </a:lnTo>
                    <a:cubicBezTo>
                      <a:pt x="6474" y="13415"/>
                      <a:pt x="6474" y="12853"/>
                      <a:pt x="6235" y="12509"/>
                    </a:cubicBezTo>
                    <a:lnTo>
                      <a:pt x="2822" y="7592"/>
                    </a:lnTo>
                    <a:cubicBezTo>
                      <a:pt x="2583" y="7248"/>
                      <a:pt x="2583" y="6686"/>
                      <a:pt x="2822" y="6343"/>
                    </a:cubicBezTo>
                    <a:lnTo>
                      <a:pt x="6791" y="624"/>
                    </a:lnTo>
                    <a:cubicBezTo>
                      <a:pt x="7030" y="281"/>
                      <a:pt x="7615" y="0"/>
                      <a:pt x="8092" y="0"/>
                    </a:cubicBezTo>
                    <a:lnTo>
                      <a:pt x="16032" y="0"/>
                    </a:lnTo>
                    <a:cubicBezTo>
                      <a:pt x="16508" y="0"/>
                      <a:pt x="17094" y="281"/>
                      <a:pt x="17332" y="625"/>
                    </a:cubicBezTo>
                    <a:lnTo>
                      <a:pt x="21302" y="6343"/>
                    </a:lnTo>
                    <a:cubicBezTo>
                      <a:pt x="21540" y="6686"/>
                      <a:pt x="21540" y="7248"/>
                      <a:pt x="21302" y="7592"/>
                    </a:cubicBezTo>
                    <a:lnTo>
                      <a:pt x="17332" y="13310"/>
                    </a:lnTo>
                    <a:cubicBezTo>
                      <a:pt x="17093" y="13654"/>
                      <a:pt x="16508" y="13935"/>
                      <a:pt x="16031" y="13935"/>
                    </a:cubicBezTo>
                    <a:lnTo>
                      <a:pt x="9204" y="13935"/>
                    </a:lnTo>
                    <a:cubicBezTo>
                      <a:pt x="8727" y="13935"/>
                      <a:pt x="8142" y="14216"/>
                      <a:pt x="7904" y="14559"/>
                    </a:cubicBezTo>
                    <a:lnTo>
                      <a:pt x="7860" y="14622"/>
                    </a:lnTo>
                    <a:cubicBezTo>
                      <a:pt x="7621" y="14966"/>
                      <a:pt x="7621" y="15528"/>
                      <a:pt x="7860" y="15871"/>
                    </a:cubicBezTo>
                    <a:cubicBezTo>
                      <a:pt x="7860" y="15871"/>
                      <a:pt x="8985" y="17492"/>
                      <a:pt x="8985" y="17492"/>
                    </a:cubicBezTo>
                    <a:close/>
                  </a:path>
                </a:pathLst>
              </a:custGeom>
              <a:solidFill>
                <a:srgbClr val="ff8e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800" rIns="378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8" name="Shape 2774"/>
              <p:cNvSpPr/>
              <p:nvPr/>
            </p:nvSpPr>
            <p:spPr>
              <a:xfrm>
                <a:off x="3560400" y="244836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618" y="2945"/>
                    </a:moveTo>
                    <a:lnTo>
                      <a:pt x="982" y="2945"/>
                    </a:lnTo>
                    <a:lnTo>
                      <a:pt x="982" y="1964"/>
                    </a:lnTo>
                    <a:lnTo>
                      <a:pt x="20618" y="1964"/>
                    </a:lnTo>
                    <a:cubicBezTo>
                      <a:pt x="20618" y="1964"/>
                      <a:pt x="20618" y="2945"/>
                      <a:pt x="20618" y="2945"/>
                    </a:cubicBezTo>
                    <a:close/>
                    <a:moveTo>
                      <a:pt x="19636" y="15709"/>
                    </a:moveTo>
                    <a:lnTo>
                      <a:pt x="1964" y="15709"/>
                    </a:lnTo>
                    <a:lnTo>
                      <a:pt x="1964" y="3927"/>
                    </a:lnTo>
                    <a:lnTo>
                      <a:pt x="19636" y="3927"/>
                    </a:lnTo>
                    <a:cubicBezTo>
                      <a:pt x="19636" y="3927"/>
                      <a:pt x="19636" y="15709"/>
                      <a:pt x="19636" y="15709"/>
                    </a:cubicBezTo>
                    <a:close/>
                    <a:moveTo>
                      <a:pt x="20618" y="982"/>
                    </a:moveTo>
                    <a:lnTo>
                      <a:pt x="11782" y="982"/>
                    </a:lnTo>
                    <a:cubicBezTo>
                      <a:pt x="11782" y="440"/>
                      <a:pt x="11342" y="0"/>
                      <a:pt x="10800" y="0"/>
                    </a:cubicBezTo>
                    <a:cubicBezTo>
                      <a:pt x="10257" y="0"/>
                      <a:pt x="9818" y="440"/>
                      <a:pt x="9818" y="982"/>
                    </a:cubicBezTo>
                    <a:lnTo>
                      <a:pt x="982" y="982"/>
                    </a:lnTo>
                    <a:cubicBezTo>
                      <a:pt x="439" y="982"/>
                      <a:pt x="0" y="1422"/>
                      <a:pt x="0" y="1964"/>
                    </a:cubicBezTo>
                    <a:lnTo>
                      <a:pt x="0" y="2945"/>
                    </a:lnTo>
                    <a:cubicBezTo>
                      <a:pt x="0" y="3488"/>
                      <a:pt x="439" y="3927"/>
                      <a:pt x="982" y="3927"/>
                    </a:cubicBezTo>
                    <a:lnTo>
                      <a:pt x="982" y="15709"/>
                    </a:lnTo>
                    <a:cubicBezTo>
                      <a:pt x="982" y="16252"/>
                      <a:pt x="1421" y="16691"/>
                      <a:pt x="1964" y="16691"/>
                    </a:cubicBezTo>
                    <a:lnTo>
                      <a:pt x="10309" y="16691"/>
                    </a:lnTo>
                    <a:lnTo>
                      <a:pt x="10309" y="17960"/>
                    </a:lnTo>
                    <a:lnTo>
                      <a:pt x="7507" y="20762"/>
                    </a:lnTo>
                    <a:cubicBezTo>
                      <a:pt x="7419" y="20851"/>
                      <a:pt x="7364" y="20974"/>
                      <a:pt x="7364" y="21109"/>
                    </a:cubicBezTo>
                    <a:cubicBezTo>
                      <a:pt x="7364" y="21380"/>
                      <a:pt x="7583" y="21600"/>
                      <a:pt x="7855" y="21600"/>
                    </a:cubicBezTo>
                    <a:cubicBezTo>
                      <a:pt x="7990" y="21600"/>
                      <a:pt x="8113" y="21545"/>
                      <a:pt x="8202" y="21456"/>
                    </a:cubicBezTo>
                    <a:lnTo>
                      <a:pt x="10800" y="18858"/>
                    </a:lnTo>
                    <a:lnTo>
                      <a:pt x="13398" y="21456"/>
                    </a:lnTo>
                    <a:cubicBezTo>
                      <a:pt x="13488" y="21545"/>
                      <a:pt x="13610" y="21600"/>
                      <a:pt x="13745" y="21600"/>
                    </a:cubicBezTo>
                    <a:cubicBezTo>
                      <a:pt x="14017" y="21600"/>
                      <a:pt x="14236" y="21380"/>
                      <a:pt x="14236" y="21109"/>
                    </a:cubicBezTo>
                    <a:cubicBezTo>
                      <a:pt x="14236" y="20974"/>
                      <a:pt x="14182" y="20851"/>
                      <a:pt x="14093" y="20762"/>
                    </a:cubicBezTo>
                    <a:lnTo>
                      <a:pt x="11291" y="17960"/>
                    </a:lnTo>
                    <a:lnTo>
                      <a:pt x="11291" y="16691"/>
                    </a:lnTo>
                    <a:lnTo>
                      <a:pt x="19636" y="16691"/>
                    </a:lnTo>
                    <a:cubicBezTo>
                      <a:pt x="20178" y="16691"/>
                      <a:pt x="20618" y="16252"/>
                      <a:pt x="20618" y="15709"/>
                    </a:cubicBezTo>
                    <a:lnTo>
                      <a:pt x="20618" y="3927"/>
                    </a:lnTo>
                    <a:cubicBezTo>
                      <a:pt x="21160" y="3927"/>
                      <a:pt x="21600" y="3488"/>
                      <a:pt x="21600" y="2945"/>
                    </a:cubicBezTo>
                    <a:lnTo>
                      <a:pt x="21600" y="1964"/>
                    </a:lnTo>
                    <a:cubicBezTo>
                      <a:pt x="21600" y="1422"/>
                      <a:pt x="21160" y="982"/>
                      <a:pt x="20618" y="982"/>
                    </a:cubicBezTo>
                    <a:moveTo>
                      <a:pt x="16200" y="5891"/>
                    </a:moveTo>
                    <a:cubicBezTo>
                      <a:pt x="16471" y="5891"/>
                      <a:pt x="16691" y="6111"/>
                      <a:pt x="16691" y="6382"/>
                    </a:cubicBezTo>
                    <a:cubicBezTo>
                      <a:pt x="16691" y="6653"/>
                      <a:pt x="16471" y="6873"/>
                      <a:pt x="16200" y="6873"/>
                    </a:cubicBezTo>
                    <a:cubicBezTo>
                      <a:pt x="15929" y="6873"/>
                      <a:pt x="15709" y="6653"/>
                      <a:pt x="15709" y="6382"/>
                    </a:cubicBezTo>
                    <a:cubicBezTo>
                      <a:pt x="15709" y="6111"/>
                      <a:pt x="15929" y="5891"/>
                      <a:pt x="16200" y="5891"/>
                    </a:cubicBezTo>
                    <a:moveTo>
                      <a:pt x="16200" y="7855"/>
                    </a:moveTo>
                    <a:cubicBezTo>
                      <a:pt x="17013" y="7855"/>
                      <a:pt x="17673" y="7196"/>
                      <a:pt x="17673" y="6382"/>
                    </a:cubicBezTo>
                    <a:cubicBezTo>
                      <a:pt x="17673" y="5569"/>
                      <a:pt x="17013" y="4909"/>
                      <a:pt x="16200" y="4909"/>
                    </a:cubicBezTo>
                    <a:cubicBezTo>
                      <a:pt x="15387" y="4909"/>
                      <a:pt x="14727" y="5569"/>
                      <a:pt x="14727" y="6382"/>
                    </a:cubicBezTo>
                    <a:cubicBezTo>
                      <a:pt x="14727" y="7196"/>
                      <a:pt x="15387" y="7855"/>
                      <a:pt x="16200" y="7855"/>
                    </a:cubicBezTo>
                    <a:moveTo>
                      <a:pt x="8422" y="8135"/>
                    </a:moveTo>
                    <a:lnTo>
                      <a:pt x="11926" y="11638"/>
                    </a:lnTo>
                    <a:cubicBezTo>
                      <a:pt x="12015" y="11727"/>
                      <a:pt x="12138" y="11782"/>
                      <a:pt x="12273" y="11782"/>
                    </a:cubicBezTo>
                    <a:cubicBezTo>
                      <a:pt x="12408" y="11782"/>
                      <a:pt x="12531" y="11727"/>
                      <a:pt x="12620" y="11638"/>
                    </a:cubicBezTo>
                    <a:lnTo>
                      <a:pt x="14183" y="10075"/>
                    </a:lnTo>
                    <a:lnTo>
                      <a:pt x="16200" y="12764"/>
                    </a:lnTo>
                    <a:lnTo>
                      <a:pt x="5336" y="12764"/>
                    </a:lnTo>
                    <a:cubicBezTo>
                      <a:pt x="5336" y="12764"/>
                      <a:pt x="8422" y="8135"/>
                      <a:pt x="8422" y="8135"/>
                    </a:cubicBezTo>
                    <a:close/>
                    <a:moveTo>
                      <a:pt x="4418" y="13745"/>
                    </a:moveTo>
                    <a:lnTo>
                      <a:pt x="17182" y="13745"/>
                    </a:lnTo>
                    <a:cubicBezTo>
                      <a:pt x="17453" y="13745"/>
                      <a:pt x="17673" y="13526"/>
                      <a:pt x="17673" y="13255"/>
                    </a:cubicBezTo>
                    <a:cubicBezTo>
                      <a:pt x="17673" y="13144"/>
                      <a:pt x="17630" y="13047"/>
                      <a:pt x="17568" y="12965"/>
                    </a:cubicBezTo>
                    <a:lnTo>
                      <a:pt x="17575" y="12960"/>
                    </a:lnTo>
                    <a:lnTo>
                      <a:pt x="14629" y="9033"/>
                    </a:lnTo>
                    <a:lnTo>
                      <a:pt x="14622" y="9038"/>
                    </a:lnTo>
                    <a:cubicBezTo>
                      <a:pt x="14533" y="8919"/>
                      <a:pt x="14397" y="8836"/>
                      <a:pt x="14236" y="8836"/>
                    </a:cubicBezTo>
                    <a:cubicBezTo>
                      <a:pt x="14101" y="8836"/>
                      <a:pt x="13978" y="8891"/>
                      <a:pt x="13889" y="8980"/>
                    </a:cubicBezTo>
                    <a:lnTo>
                      <a:pt x="12273" y="10597"/>
                    </a:lnTo>
                    <a:lnTo>
                      <a:pt x="8693" y="7017"/>
                    </a:lnTo>
                    <a:cubicBezTo>
                      <a:pt x="8604" y="6928"/>
                      <a:pt x="8481" y="6873"/>
                      <a:pt x="8345" y="6873"/>
                    </a:cubicBezTo>
                    <a:cubicBezTo>
                      <a:pt x="8175" y="6873"/>
                      <a:pt x="8033" y="6965"/>
                      <a:pt x="7945" y="7097"/>
                    </a:cubicBezTo>
                    <a:lnTo>
                      <a:pt x="7937" y="7091"/>
                    </a:lnTo>
                    <a:lnTo>
                      <a:pt x="4010" y="12982"/>
                    </a:lnTo>
                    <a:lnTo>
                      <a:pt x="4017" y="12988"/>
                    </a:lnTo>
                    <a:cubicBezTo>
                      <a:pt x="3965" y="13066"/>
                      <a:pt x="3927" y="13154"/>
                      <a:pt x="3927" y="13255"/>
                    </a:cubicBezTo>
                    <a:cubicBezTo>
                      <a:pt x="3927" y="13526"/>
                      <a:pt x="4147" y="13745"/>
                      <a:pt x="4418" y="1374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09" name="Group 49"/>
            <p:cNvGrpSpPr/>
            <p:nvPr/>
          </p:nvGrpSpPr>
          <p:grpSpPr>
            <a:xfrm>
              <a:off x="2944080" y="3523680"/>
              <a:ext cx="1791360" cy="1022400"/>
              <a:chOff x="2944080" y="3523680"/>
              <a:chExt cx="1791360" cy="1022400"/>
            </a:xfrm>
          </p:grpSpPr>
          <p:sp>
            <p:nvSpPr>
              <p:cNvPr id="1310" name="Shape 731"/>
              <p:cNvSpPr/>
              <p:nvPr/>
            </p:nvSpPr>
            <p:spPr>
              <a:xfrm>
                <a:off x="2944080" y="3523680"/>
                <a:ext cx="1791360" cy="1022400"/>
              </a:xfrm>
              <a:custGeom>
                <a:avLst/>
                <a:gdLst/>
                <a:ahLst/>
                <a:rect l="l" t="t" r="r" b="b"/>
                <a:pathLst>
                  <a:path w="21513" h="21600">
                    <a:moveTo>
                      <a:pt x="5448" y="15522"/>
                    </a:moveTo>
                    <a:cubicBezTo>
                      <a:pt x="5274" y="16055"/>
                      <a:pt x="4845" y="16490"/>
                      <a:pt x="4495" y="16490"/>
                    </a:cubicBezTo>
                    <a:lnTo>
                      <a:pt x="2221" y="16490"/>
                    </a:lnTo>
                    <a:cubicBezTo>
                      <a:pt x="1871" y="16490"/>
                      <a:pt x="1443" y="16054"/>
                      <a:pt x="1268" y="15522"/>
                    </a:cubicBezTo>
                    <a:lnTo>
                      <a:pt x="131" y="12058"/>
                    </a:lnTo>
                    <a:cubicBezTo>
                      <a:pt x="-44" y="11526"/>
                      <a:pt x="-44" y="10655"/>
                      <a:pt x="131" y="10122"/>
                    </a:cubicBezTo>
                    <a:lnTo>
                      <a:pt x="1268" y="6658"/>
                    </a:lnTo>
                    <a:cubicBezTo>
                      <a:pt x="1443" y="6126"/>
                      <a:pt x="1872" y="5690"/>
                      <a:pt x="2221" y="5690"/>
                    </a:cubicBezTo>
                    <a:lnTo>
                      <a:pt x="4495" y="5690"/>
                    </a:lnTo>
                    <a:cubicBezTo>
                      <a:pt x="4845" y="5690"/>
                      <a:pt x="5273" y="6126"/>
                      <a:pt x="5448" y="6658"/>
                    </a:cubicBezTo>
                    <a:lnTo>
                      <a:pt x="6083" y="8591"/>
                    </a:lnTo>
                    <a:cubicBezTo>
                      <a:pt x="6258" y="9123"/>
                      <a:pt x="6686" y="9559"/>
                      <a:pt x="7036" y="9558"/>
                    </a:cubicBezTo>
                    <a:lnTo>
                      <a:pt x="7291" y="9558"/>
                    </a:lnTo>
                    <a:cubicBezTo>
                      <a:pt x="7640" y="9558"/>
                      <a:pt x="8069" y="9123"/>
                      <a:pt x="8244" y="8590"/>
                    </a:cubicBezTo>
                    <a:lnTo>
                      <a:pt x="10746" y="968"/>
                    </a:lnTo>
                    <a:cubicBezTo>
                      <a:pt x="10921" y="436"/>
                      <a:pt x="11350" y="0"/>
                      <a:pt x="11699" y="0"/>
                    </a:cubicBezTo>
                    <a:lnTo>
                      <a:pt x="17518" y="0"/>
                    </a:lnTo>
                    <a:cubicBezTo>
                      <a:pt x="17868" y="0"/>
                      <a:pt x="18297" y="436"/>
                      <a:pt x="18472" y="968"/>
                    </a:cubicBezTo>
                    <a:lnTo>
                      <a:pt x="21381" y="9832"/>
                    </a:lnTo>
                    <a:cubicBezTo>
                      <a:pt x="21556" y="10365"/>
                      <a:pt x="21556" y="11236"/>
                      <a:pt x="21381" y="11768"/>
                    </a:cubicBezTo>
                    <a:lnTo>
                      <a:pt x="18472" y="20632"/>
                    </a:lnTo>
                    <a:cubicBezTo>
                      <a:pt x="18297" y="21164"/>
                      <a:pt x="17868" y="21600"/>
                      <a:pt x="17518" y="21600"/>
                    </a:cubicBezTo>
                    <a:lnTo>
                      <a:pt x="11699" y="21600"/>
                    </a:lnTo>
                    <a:cubicBezTo>
                      <a:pt x="11350" y="21600"/>
                      <a:pt x="10921" y="21164"/>
                      <a:pt x="10746" y="20632"/>
                    </a:cubicBezTo>
                    <a:lnTo>
                      <a:pt x="8244" y="13010"/>
                    </a:lnTo>
                    <a:cubicBezTo>
                      <a:pt x="8069" y="12477"/>
                      <a:pt x="7640" y="12042"/>
                      <a:pt x="7290" y="12042"/>
                    </a:cubicBezTo>
                    <a:lnTo>
                      <a:pt x="7226" y="12042"/>
                    </a:lnTo>
                    <a:cubicBezTo>
                      <a:pt x="6877" y="12042"/>
                      <a:pt x="6448" y="12477"/>
                      <a:pt x="6273" y="13010"/>
                    </a:cubicBezTo>
                    <a:cubicBezTo>
                      <a:pt x="6273" y="13010"/>
                      <a:pt x="5448" y="15522"/>
                      <a:pt x="5448" y="15522"/>
                    </a:cubicBezTo>
                    <a:close/>
                  </a:path>
                </a:pathLst>
              </a:custGeom>
              <a:solidFill>
                <a:srgbClr val="566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800" rIns="378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1" name="Shape 2784"/>
              <p:cNvSpPr/>
              <p:nvPr/>
            </p:nvSpPr>
            <p:spPr>
              <a:xfrm>
                <a:off x="4012560" y="389520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353" y="11229"/>
                    </a:moveTo>
                    <a:lnTo>
                      <a:pt x="20356" y="11234"/>
                    </a:lnTo>
                    <a:lnTo>
                      <a:pt x="11029" y="16143"/>
                    </a:lnTo>
                    <a:lnTo>
                      <a:pt x="11026" y="16138"/>
                    </a:lnTo>
                    <a:cubicBezTo>
                      <a:pt x="10957" y="16174"/>
                      <a:pt x="10883" y="16200"/>
                      <a:pt x="10800" y="16200"/>
                    </a:cubicBezTo>
                    <a:cubicBezTo>
                      <a:pt x="10717" y="16200"/>
                      <a:pt x="10643" y="16174"/>
                      <a:pt x="10574" y="16138"/>
                    </a:cubicBezTo>
                    <a:lnTo>
                      <a:pt x="10571" y="16143"/>
                    </a:lnTo>
                    <a:lnTo>
                      <a:pt x="1244" y="11234"/>
                    </a:lnTo>
                    <a:lnTo>
                      <a:pt x="1247" y="11229"/>
                    </a:lnTo>
                    <a:cubicBezTo>
                      <a:pt x="1091" y="11147"/>
                      <a:pt x="982" y="10988"/>
                      <a:pt x="982" y="10800"/>
                    </a:cubicBezTo>
                    <a:cubicBezTo>
                      <a:pt x="982" y="10612"/>
                      <a:pt x="1091" y="10453"/>
                      <a:pt x="1247" y="10371"/>
                    </a:cubicBezTo>
                    <a:lnTo>
                      <a:pt x="1244" y="10366"/>
                    </a:lnTo>
                    <a:lnTo>
                      <a:pt x="3562" y="9146"/>
                    </a:lnTo>
                    <a:lnTo>
                      <a:pt x="10113" y="12594"/>
                    </a:lnTo>
                    <a:lnTo>
                      <a:pt x="10117" y="12588"/>
                    </a:lnTo>
                    <a:cubicBezTo>
                      <a:pt x="10322" y="12697"/>
                      <a:pt x="10552" y="12764"/>
                      <a:pt x="10800" y="12764"/>
                    </a:cubicBezTo>
                    <a:cubicBezTo>
                      <a:pt x="11048" y="12764"/>
                      <a:pt x="11278" y="12697"/>
                      <a:pt x="11483" y="12588"/>
                    </a:cubicBezTo>
                    <a:lnTo>
                      <a:pt x="11486" y="12594"/>
                    </a:lnTo>
                    <a:lnTo>
                      <a:pt x="18038" y="9146"/>
                    </a:lnTo>
                    <a:lnTo>
                      <a:pt x="20356" y="10366"/>
                    </a:lnTo>
                    <a:lnTo>
                      <a:pt x="20353" y="10371"/>
                    </a:lnTo>
                    <a:cubicBezTo>
                      <a:pt x="20509" y="10453"/>
                      <a:pt x="20618" y="10612"/>
                      <a:pt x="20618" y="10800"/>
                    </a:cubicBezTo>
                    <a:cubicBezTo>
                      <a:pt x="20618" y="10988"/>
                      <a:pt x="20509" y="11147"/>
                      <a:pt x="20353" y="11229"/>
                    </a:cubicBezTo>
                    <a:moveTo>
                      <a:pt x="20356" y="14784"/>
                    </a:moveTo>
                    <a:lnTo>
                      <a:pt x="20353" y="14790"/>
                    </a:lnTo>
                    <a:cubicBezTo>
                      <a:pt x="20509" y="14872"/>
                      <a:pt x="20618" y="15030"/>
                      <a:pt x="20618" y="15218"/>
                    </a:cubicBezTo>
                    <a:cubicBezTo>
                      <a:pt x="20618" y="15407"/>
                      <a:pt x="20509" y="15565"/>
                      <a:pt x="20353" y="15647"/>
                    </a:cubicBezTo>
                    <a:lnTo>
                      <a:pt x="20356" y="15653"/>
                    </a:lnTo>
                    <a:lnTo>
                      <a:pt x="11029" y="20562"/>
                    </a:lnTo>
                    <a:lnTo>
                      <a:pt x="11026" y="20556"/>
                    </a:lnTo>
                    <a:cubicBezTo>
                      <a:pt x="10957" y="20592"/>
                      <a:pt x="10883" y="20618"/>
                      <a:pt x="10800" y="20618"/>
                    </a:cubicBezTo>
                    <a:cubicBezTo>
                      <a:pt x="10717" y="20618"/>
                      <a:pt x="10643" y="20592"/>
                      <a:pt x="10574" y="20556"/>
                    </a:cubicBezTo>
                    <a:lnTo>
                      <a:pt x="10571" y="20562"/>
                    </a:lnTo>
                    <a:lnTo>
                      <a:pt x="1244" y="15653"/>
                    </a:lnTo>
                    <a:lnTo>
                      <a:pt x="1247" y="15647"/>
                    </a:lnTo>
                    <a:cubicBezTo>
                      <a:pt x="1091" y="15565"/>
                      <a:pt x="982" y="15407"/>
                      <a:pt x="982" y="15218"/>
                    </a:cubicBezTo>
                    <a:cubicBezTo>
                      <a:pt x="982" y="15030"/>
                      <a:pt x="1091" y="14872"/>
                      <a:pt x="1247" y="14790"/>
                    </a:cubicBezTo>
                    <a:lnTo>
                      <a:pt x="1244" y="14784"/>
                    </a:lnTo>
                    <a:lnTo>
                      <a:pt x="3562" y="13564"/>
                    </a:lnTo>
                    <a:lnTo>
                      <a:pt x="10113" y="17012"/>
                    </a:lnTo>
                    <a:lnTo>
                      <a:pt x="10117" y="17006"/>
                    </a:lnTo>
                    <a:cubicBezTo>
                      <a:pt x="10322" y="17115"/>
                      <a:pt x="10552" y="17182"/>
                      <a:pt x="10800" y="17182"/>
                    </a:cubicBezTo>
                    <a:cubicBezTo>
                      <a:pt x="11048" y="17182"/>
                      <a:pt x="11278" y="17115"/>
                      <a:pt x="11483" y="17006"/>
                    </a:cubicBezTo>
                    <a:lnTo>
                      <a:pt x="11486" y="17012"/>
                    </a:lnTo>
                    <a:lnTo>
                      <a:pt x="18038" y="13564"/>
                    </a:lnTo>
                    <a:cubicBezTo>
                      <a:pt x="18038" y="13564"/>
                      <a:pt x="20356" y="14784"/>
                      <a:pt x="20356" y="14784"/>
                    </a:cubicBezTo>
                    <a:close/>
                    <a:moveTo>
                      <a:pt x="1244" y="6816"/>
                    </a:moveTo>
                    <a:lnTo>
                      <a:pt x="1247" y="6811"/>
                    </a:lnTo>
                    <a:cubicBezTo>
                      <a:pt x="1091" y="6728"/>
                      <a:pt x="982" y="6570"/>
                      <a:pt x="982" y="6382"/>
                    </a:cubicBezTo>
                    <a:cubicBezTo>
                      <a:pt x="982" y="6194"/>
                      <a:pt x="1091" y="6035"/>
                      <a:pt x="1247" y="5953"/>
                    </a:cubicBezTo>
                    <a:lnTo>
                      <a:pt x="1244" y="5947"/>
                    </a:lnTo>
                    <a:lnTo>
                      <a:pt x="10571" y="1038"/>
                    </a:lnTo>
                    <a:lnTo>
                      <a:pt x="10574" y="1044"/>
                    </a:lnTo>
                    <a:cubicBezTo>
                      <a:pt x="10643" y="1008"/>
                      <a:pt x="10717" y="982"/>
                      <a:pt x="10800" y="982"/>
                    </a:cubicBezTo>
                    <a:cubicBezTo>
                      <a:pt x="10883" y="982"/>
                      <a:pt x="10957" y="1008"/>
                      <a:pt x="11026" y="1044"/>
                    </a:cubicBezTo>
                    <a:lnTo>
                      <a:pt x="11029" y="1038"/>
                    </a:lnTo>
                    <a:lnTo>
                      <a:pt x="20356" y="5947"/>
                    </a:lnTo>
                    <a:lnTo>
                      <a:pt x="20353" y="5953"/>
                    </a:lnTo>
                    <a:cubicBezTo>
                      <a:pt x="20509" y="6035"/>
                      <a:pt x="20618" y="6194"/>
                      <a:pt x="20618" y="6382"/>
                    </a:cubicBezTo>
                    <a:cubicBezTo>
                      <a:pt x="20618" y="6570"/>
                      <a:pt x="20509" y="6728"/>
                      <a:pt x="20353" y="6811"/>
                    </a:cubicBezTo>
                    <a:lnTo>
                      <a:pt x="20356" y="6816"/>
                    </a:lnTo>
                    <a:lnTo>
                      <a:pt x="11029" y="11725"/>
                    </a:lnTo>
                    <a:lnTo>
                      <a:pt x="11026" y="11720"/>
                    </a:lnTo>
                    <a:cubicBezTo>
                      <a:pt x="10957" y="11756"/>
                      <a:pt x="10883" y="11782"/>
                      <a:pt x="10800" y="11782"/>
                    </a:cubicBezTo>
                    <a:cubicBezTo>
                      <a:pt x="10717" y="11782"/>
                      <a:pt x="10643" y="11756"/>
                      <a:pt x="10574" y="11720"/>
                    </a:cubicBezTo>
                    <a:lnTo>
                      <a:pt x="10571" y="11725"/>
                    </a:lnTo>
                    <a:cubicBezTo>
                      <a:pt x="10571" y="11725"/>
                      <a:pt x="1244" y="6816"/>
                      <a:pt x="1244" y="6816"/>
                    </a:cubicBezTo>
                    <a:close/>
                    <a:moveTo>
                      <a:pt x="21600" y="10800"/>
                    </a:moveTo>
                    <a:cubicBezTo>
                      <a:pt x="21600" y="10234"/>
                      <a:pt x="21278" y="9749"/>
                      <a:pt x="20810" y="9503"/>
                    </a:cubicBezTo>
                    <a:lnTo>
                      <a:pt x="20813" y="9497"/>
                    </a:lnTo>
                    <a:lnTo>
                      <a:pt x="19092" y="8591"/>
                    </a:lnTo>
                    <a:lnTo>
                      <a:pt x="20813" y="7685"/>
                    </a:lnTo>
                    <a:lnTo>
                      <a:pt x="20810" y="7679"/>
                    </a:lnTo>
                    <a:cubicBezTo>
                      <a:pt x="21278" y="7433"/>
                      <a:pt x="21600" y="6948"/>
                      <a:pt x="21600" y="6382"/>
                    </a:cubicBezTo>
                    <a:cubicBezTo>
                      <a:pt x="21600" y="5816"/>
                      <a:pt x="21278" y="5331"/>
                      <a:pt x="20810" y="5085"/>
                    </a:cubicBezTo>
                    <a:lnTo>
                      <a:pt x="20813" y="5079"/>
                    </a:lnTo>
                    <a:lnTo>
                      <a:pt x="11486" y="170"/>
                    </a:lnTo>
                    <a:lnTo>
                      <a:pt x="11483" y="175"/>
                    </a:lnTo>
                    <a:cubicBezTo>
                      <a:pt x="11278" y="67"/>
                      <a:pt x="11048" y="0"/>
                      <a:pt x="10800" y="0"/>
                    </a:cubicBezTo>
                    <a:cubicBezTo>
                      <a:pt x="10552" y="0"/>
                      <a:pt x="10322" y="67"/>
                      <a:pt x="10117" y="175"/>
                    </a:cubicBezTo>
                    <a:lnTo>
                      <a:pt x="10113" y="170"/>
                    </a:lnTo>
                    <a:lnTo>
                      <a:pt x="786" y="5079"/>
                    </a:lnTo>
                    <a:lnTo>
                      <a:pt x="790" y="5085"/>
                    </a:lnTo>
                    <a:cubicBezTo>
                      <a:pt x="322" y="5331"/>
                      <a:pt x="0" y="5816"/>
                      <a:pt x="0" y="6382"/>
                    </a:cubicBezTo>
                    <a:cubicBezTo>
                      <a:pt x="0" y="6948"/>
                      <a:pt x="322" y="7433"/>
                      <a:pt x="790" y="7679"/>
                    </a:cubicBezTo>
                    <a:lnTo>
                      <a:pt x="786" y="7685"/>
                    </a:lnTo>
                    <a:lnTo>
                      <a:pt x="2508" y="8591"/>
                    </a:lnTo>
                    <a:lnTo>
                      <a:pt x="786" y="9497"/>
                    </a:lnTo>
                    <a:lnTo>
                      <a:pt x="790" y="9503"/>
                    </a:lnTo>
                    <a:cubicBezTo>
                      <a:pt x="322" y="9749"/>
                      <a:pt x="0" y="10234"/>
                      <a:pt x="0" y="10800"/>
                    </a:cubicBezTo>
                    <a:cubicBezTo>
                      <a:pt x="0" y="11366"/>
                      <a:pt x="322" y="11851"/>
                      <a:pt x="790" y="12097"/>
                    </a:cubicBezTo>
                    <a:lnTo>
                      <a:pt x="786" y="12103"/>
                    </a:lnTo>
                    <a:lnTo>
                      <a:pt x="2508" y="13009"/>
                    </a:lnTo>
                    <a:lnTo>
                      <a:pt x="786" y="13915"/>
                    </a:lnTo>
                    <a:lnTo>
                      <a:pt x="790" y="13921"/>
                    </a:lnTo>
                    <a:cubicBezTo>
                      <a:pt x="322" y="14167"/>
                      <a:pt x="0" y="14652"/>
                      <a:pt x="0" y="15218"/>
                    </a:cubicBezTo>
                    <a:cubicBezTo>
                      <a:pt x="0" y="15784"/>
                      <a:pt x="322" y="16269"/>
                      <a:pt x="790" y="16515"/>
                    </a:cubicBezTo>
                    <a:lnTo>
                      <a:pt x="786" y="16521"/>
                    </a:lnTo>
                    <a:lnTo>
                      <a:pt x="10113" y="21430"/>
                    </a:lnTo>
                    <a:lnTo>
                      <a:pt x="10117" y="21425"/>
                    </a:lnTo>
                    <a:cubicBezTo>
                      <a:pt x="10322" y="21533"/>
                      <a:pt x="10552" y="21600"/>
                      <a:pt x="10800" y="21600"/>
                    </a:cubicBezTo>
                    <a:cubicBezTo>
                      <a:pt x="11048" y="21600"/>
                      <a:pt x="11278" y="21533"/>
                      <a:pt x="11483" y="21425"/>
                    </a:cubicBezTo>
                    <a:lnTo>
                      <a:pt x="11486" y="21430"/>
                    </a:lnTo>
                    <a:lnTo>
                      <a:pt x="20813" y="16521"/>
                    </a:lnTo>
                    <a:lnTo>
                      <a:pt x="20810" y="16515"/>
                    </a:lnTo>
                    <a:cubicBezTo>
                      <a:pt x="21278" y="16269"/>
                      <a:pt x="21600" y="15784"/>
                      <a:pt x="21600" y="15218"/>
                    </a:cubicBezTo>
                    <a:cubicBezTo>
                      <a:pt x="21600" y="14652"/>
                      <a:pt x="21278" y="14167"/>
                      <a:pt x="20810" y="13921"/>
                    </a:cubicBezTo>
                    <a:lnTo>
                      <a:pt x="20813" y="13915"/>
                    </a:lnTo>
                    <a:lnTo>
                      <a:pt x="19092" y="13009"/>
                    </a:lnTo>
                    <a:lnTo>
                      <a:pt x="20813" y="12103"/>
                    </a:lnTo>
                    <a:lnTo>
                      <a:pt x="20810" y="12097"/>
                    </a:lnTo>
                    <a:cubicBezTo>
                      <a:pt x="21278" y="11851"/>
                      <a:pt x="21600" y="11366"/>
                      <a:pt x="21600" y="1080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12" name="Group 50"/>
            <p:cNvGrpSpPr/>
            <p:nvPr/>
          </p:nvGrpSpPr>
          <p:grpSpPr>
            <a:xfrm>
              <a:off x="2398680" y="4109040"/>
              <a:ext cx="1334880" cy="1571040"/>
              <a:chOff x="2398680" y="4109040"/>
              <a:chExt cx="1334880" cy="1571040"/>
            </a:xfrm>
          </p:grpSpPr>
          <p:sp>
            <p:nvSpPr>
              <p:cNvPr id="1313" name="Shape 730"/>
              <p:cNvSpPr/>
              <p:nvPr/>
            </p:nvSpPr>
            <p:spPr>
              <a:xfrm>
                <a:off x="2398680" y="4109040"/>
                <a:ext cx="1334880" cy="1571040"/>
              </a:xfrm>
              <a:custGeom>
                <a:avLst/>
                <a:gdLst/>
                <a:ahLst/>
                <a:rect l="l" t="t" r="r" b="b"/>
                <a:pathLst>
                  <a:path w="21483" h="21600">
                    <a:moveTo>
                      <a:pt x="2976" y="7028"/>
                    </a:moveTo>
                    <a:cubicBezTo>
                      <a:pt x="2508" y="7028"/>
                      <a:pt x="1933" y="6745"/>
                      <a:pt x="1699" y="6398"/>
                    </a:cubicBezTo>
                    <a:lnTo>
                      <a:pt x="175" y="4144"/>
                    </a:lnTo>
                    <a:cubicBezTo>
                      <a:pt x="-59" y="3797"/>
                      <a:pt x="-59" y="3231"/>
                      <a:pt x="175" y="2884"/>
                    </a:cubicBezTo>
                    <a:lnTo>
                      <a:pt x="1699" y="630"/>
                    </a:lnTo>
                    <a:cubicBezTo>
                      <a:pt x="1933" y="283"/>
                      <a:pt x="2508" y="0"/>
                      <a:pt x="2977" y="0"/>
                    </a:cubicBezTo>
                    <a:lnTo>
                      <a:pt x="6024" y="0"/>
                    </a:lnTo>
                    <a:cubicBezTo>
                      <a:pt x="6493" y="0"/>
                      <a:pt x="7068" y="283"/>
                      <a:pt x="7302" y="630"/>
                    </a:cubicBezTo>
                    <a:lnTo>
                      <a:pt x="8826" y="2884"/>
                    </a:lnTo>
                    <a:cubicBezTo>
                      <a:pt x="9060" y="3230"/>
                      <a:pt x="9060" y="3797"/>
                      <a:pt x="8826" y="4144"/>
                    </a:cubicBezTo>
                    <a:lnTo>
                      <a:pt x="7975" y="5402"/>
                    </a:lnTo>
                    <a:cubicBezTo>
                      <a:pt x="7741" y="5748"/>
                      <a:pt x="7741" y="6315"/>
                      <a:pt x="7976" y="6661"/>
                    </a:cubicBezTo>
                    <a:lnTo>
                      <a:pt x="8146" y="6914"/>
                    </a:lnTo>
                    <a:cubicBezTo>
                      <a:pt x="8380" y="7260"/>
                      <a:pt x="8955" y="7544"/>
                      <a:pt x="9424" y="7544"/>
                    </a:cubicBezTo>
                    <a:lnTo>
                      <a:pt x="16130" y="7544"/>
                    </a:lnTo>
                    <a:cubicBezTo>
                      <a:pt x="16598" y="7544"/>
                      <a:pt x="17173" y="7827"/>
                      <a:pt x="17407" y="8174"/>
                    </a:cubicBezTo>
                    <a:lnTo>
                      <a:pt x="21307" y="13942"/>
                    </a:lnTo>
                    <a:cubicBezTo>
                      <a:pt x="21541" y="14288"/>
                      <a:pt x="21541" y="14855"/>
                      <a:pt x="21307" y="15202"/>
                    </a:cubicBezTo>
                    <a:lnTo>
                      <a:pt x="17407" y="20970"/>
                    </a:lnTo>
                    <a:cubicBezTo>
                      <a:pt x="17173" y="21317"/>
                      <a:pt x="16598" y="21600"/>
                      <a:pt x="16130" y="21600"/>
                    </a:cubicBezTo>
                    <a:lnTo>
                      <a:pt x="8331" y="21600"/>
                    </a:lnTo>
                    <a:cubicBezTo>
                      <a:pt x="7863" y="21600"/>
                      <a:pt x="7288" y="21317"/>
                      <a:pt x="7054" y="20970"/>
                    </a:cubicBezTo>
                    <a:lnTo>
                      <a:pt x="3154" y="15202"/>
                    </a:lnTo>
                    <a:cubicBezTo>
                      <a:pt x="2920" y="14855"/>
                      <a:pt x="2920" y="14288"/>
                      <a:pt x="3154" y="13942"/>
                    </a:cubicBezTo>
                    <a:lnTo>
                      <a:pt x="6507" y="8982"/>
                    </a:lnTo>
                    <a:cubicBezTo>
                      <a:pt x="6742" y="8635"/>
                      <a:pt x="6742" y="8068"/>
                      <a:pt x="6507" y="7722"/>
                    </a:cubicBezTo>
                    <a:lnTo>
                      <a:pt x="6464" y="7658"/>
                    </a:lnTo>
                    <a:cubicBezTo>
                      <a:pt x="6230" y="7312"/>
                      <a:pt x="5655" y="7028"/>
                      <a:pt x="5187" y="7028"/>
                    </a:cubicBezTo>
                    <a:cubicBezTo>
                      <a:pt x="5187" y="7028"/>
                      <a:pt x="2976" y="7028"/>
                      <a:pt x="2976" y="7028"/>
                    </a:cubicBezTo>
                    <a:close/>
                  </a:path>
                </a:pathLst>
              </a:custGeom>
              <a:solidFill>
                <a:srgbClr val="445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800" rIns="378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Shape 2604"/>
              <p:cNvSpPr/>
              <p:nvPr/>
            </p:nvSpPr>
            <p:spPr>
              <a:xfrm>
                <a:off x="3016800" y="5073840"/>
                <a:ext cx="279360" cy="22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618" y="9600"/>
                    </a:moveTo>
                    <a:lnTo>
                      <a:pt x="17673" y="9600"/>
                    </a:lnTo>
                    <a:lnTo>
                      <a:pt x="17673" y="8400"/>
                    </a:lnTo>
                    <a:cubicBezTo>
                      <a:pt x="17673" y="7738"/>
                      <a:pt x="17233" y="7200"/>
                      <a:pt x="16691" y="7200"/>
                    </a:cubicBezTo>
                    <a:lnTo>
                      <a:pt x="14727" y="7200"/>
                    </a:lnTo>
                    <a:cubicBezTo>
                      <a:pt x="14186" y="7200"/>
                      <a:pt x="13745" y="7738"/>
                      <a:pt x="13745" y="8400"/>
                    </a:cubicBezTo>
                    <a:lnTo>
                      <a:pt x="13745" y="9600"/>
                    </a:lnTo>
                    <a:lnTo>
                      <a:pt x="7855" y="9600"/>
                    </a:lnTo>
                    <a:lnTo>
                      <a:pt x="7855" y="8400"/>
                    </a:lnTo>
                    <a:cubicBezTo>
                      <a:pt x="7855" y="7738"/>
                      <a:pt x="7414" y="7200"/>
                      <a:pt x="6873" y="7200"/>
                    </a:cubicBezTo>
                    <a:lnTo>
                      <a:pt x="4909" y="7200"/>
                    </a:lnTo>
                    <a:cubicBezTo>
                      <a:pt x="4367" y="7200"/>
                      <a:pt x="3927" y="7738"/>
                      <a:pt x="3927" y="8400"/>
                    </a:cubicBezTo>
                    <a:lnTo>
                      <a:pt x="3927" y="9600"/>
                    </a:lnTo>
                    <a:lnTo>
                      <a:pt x="982" y="9600"/>
                    </a:lnTo>
                    <a:lnTo>
                      <a:pt x="982" y="3601"/>
                    </a:lnTo>
                    <a:lnTo>
                      <a:pt x="20618" y="3601"/>
                    </a:lnTo>
                    <a:cubicBezTo>
                      <a:pt x="20618" y="3601"/>
                      <a:pt x="20618" y="9600"/>
                      <a:pt x="20618" y="9600"/>
                    </a:cubicBezTo>
                    <a:close/>
                    <a:moveTo>
                      <a:pt x="14727" y="8400"/>
                    </a:moveTo>
                    <a:lnTo>
                      <a:pt x="16691" y="8400"/>
                    </a:lnTo>
                    <a:lnTo>
                      <a:pt x="16691" y="12001"/>
                    </a:lnTo>
                    <a:lnTo>
                      <a:pt x="14727" y="12001"/>
                    </a:lnTo>
                    <a:cubicBezTo>
                      <a:pt x="14727" y="12001"/>
                      <a:pt x="14727" y="8400"/>
                      <a:pt x="14727" y="8400"/>
                    </a:cubicBezTo>
                    <a:close/>
                    <a:moveTo>
                      <a:pt x="4909" y="8400"/>
                    </a:moveTo>
                    <a:lnTo>
                      <a:pt x="6873" y="8400"/>
                    </a:lnTo>
                    <a:lnTo>
                      <a:pt x="6873" y="12001"/>
                    </a:lnTo>
                    <a:lnTo>
                      <a:pt x="4909" y="12001"/>
                    </a:lnTo>
                    <a:cubicBezTo>
                      <a:pt x="4909" y="12001"/>
                      <a:pt x="4909" y="8400"/>
                      <a:pt x="4909" y="8400"/>
                    </a:cubicBezTo>
                    <a:close/>
                    <a:moveTo>
                      <a:pt x="19636" y="20400"/>
                    </a:moveTo>
                    <a:lnTo>
                      <a:pt x="1964" y="20400"/>
                    </a:lnTo>
                    <a:lnTo>
                      <a:pt x="1964" y="10800"/>
                    </a:lnTo>
                    <a:lnTo>
                      <a:pt x="3927" y="10800"/>
                    </a:lnTo>
                    <a:lnTo>
                      <a:pt x="3927" y="12001"/>
                    </a:lnTo>
                    <a:cubicBezTo>
                      <a:pt x="3927" y="12662"/>
                      <a:pt x="4367" y="13200"/>
                      <a:pt x="4909" y="13200"/>
                    </a:cubicBezTo>
                    <a:lnTo>
                      <a:pt x="6873" y="13200"/>
                    </a:lnTo>
                    <a:cubicBezTo>
                      <a:pt x="7414" y="13200"/>
                      <a:pt x="7855" y="12662"/>
                      <a:pt x="7855" y="12001"/>
                    </a:cubicBezTo>
                    <a:lnTo>
                      <a:pt x="7855" y="10800"/>
                    </a:lnTo>
                    <a:lnTo>
                      <a:pt x="13745" y="10800"/>
                    </a:lnTo>
                    <a:lnTo>
                      <a:pt x="13745" y="12001"/>
                    </a:lnTo>
                    <a:cubicBezTo>
                      <a:pt x="13745" y="12662"/>
                      <a:pt x="14186" y="13200"/>
                      <a:pt x="14727" y="13200"/>
                    </a:cubicBezTo>
                    <a:lnTo>
                      <a:pt x="16691" y="13200"/>
                    </a:lnTo>
                    <a:cubicBezTo>
                      <a:pt x="17233" y="13200"/>
                      <a:pt x="17673" y="12662"/>
                      <a:pt x="17673" y="12001"/>
                    </a:cubicBezTo>
                    <a:lnTo>
                      <a:pt x="17673" y="10800"/>
                    </a:lnTo>
                    <a:lnTo>
                      <a:pt x="19636" y="10800"/>
                    </a:lnTo>
                    <a:cubicBezTo>
                      <a:pt x="19636" y="10800"/>
                      <a:pt x="19636" y="20400"/>
                      <a:pt x="19636" y="20400"/>
                    </a:cubicBezTo>
                    <a:close/>
                    <a:moveTo>
                      <a:pt x="8836" y="1200"/>
                    </a:moveTo>
                    <a:lnTo>
                      <a:pt x="12764" y="1200"/>
                    </a:lnTo>
                    <a:cubicBezTo>
                      <a:pt x="13305" y="1200"/>
                      <a:pt x="13745" y="1738"/>
                      <a:pt x="13745" y="2400"/>
                    </a:cubicBezTo>
                    <a:lnTo>
                      <a:pt x="7855" y="2400"/>
                    </a:lnTo>
                    <a:cubicBezTo>
                      <a:pt x="7855" y="1738"/>
                      <a:pt x="8295" y="1200"/>
                      <a:pt x="8836" y="1200"/>
                    </a:cubicBezTo>
                    <a:moveTo>
                      <a:pt x="20618" y="2400"/>
                    </a:moveTo>
                    <a:lnTo>
                      <a:pt x="14727" y="2400"/>
                    </a:lnTo>
                    <a:cubicBezTo>
                      <a:pt x="14727" y="1075"/>
                      <a:pt x="13848" y="0"/>
                      <a:pt x="12764" y="0"/>
                    </a:cubicBezTo>
                    <a:lnTo>
                      <a:pt x="8836" y="0"/>
                    </a:lnTo>
                    <a:cubicBezTo>
                      <a:pt x="7752" y="0"/>
                      <a:pt x="6873" y="1075"/>
                      <a:pt x="6873" y="2400"/>
                    </a:cubicBezTo>
                    <a:lnTo>
                      <a:pt x="982" y="2400"/>
                    </a:lnTo>
                    <a:cubicBezTo>
                      <a:pt x="440" y="2400"/>
                      <a:pt x="0" y="2938"/>
                      <a:pt x="0" y="3601"/>
                    </a:cubicBezTo>
                    <a:lnTo>
                      <a:pt x="0" y="9600"/>
                    </a:lnTo>
                    <a:cubicBezTo>
                      <a:pt x="0" y="10262"/>
                      <a:pt x="440" y="10800"/>
                      <a:pt x="982" y="10800"/>
                    </a:cubicBezTo>
                    <a:lnTo>
                      <a:pt x="982" y="20400"/>
                    </a:lnTo>
                    <a:cubicBezTo>
                      <a:pt x="982" y="21062"/>
                      <a:pt x="1422" y="21600"/>
                      <a:pt x="1964" y="21600"/>
                    </a:cubicBezTo>
                    <a:lnTo>
                      <a:pt x="19636" y="21600"/>
                    </a:lnTo>
                    <a:cubicBezTo>
                      <a:pt x="20178" y="21600"/>
                      <a:pt x="20618" y="21062"/>
                      <a:pt x="20618" y="20400"/>
                    </a:cubicBezTo>
                    <a:lnTo>
                      <a:pt x="20618" y="10800"/>
                    </a:lnTo>
                    <a:cubicBezTo>
                      <a:pt x="21160" y="10800"/>
                      <a:pt x="21600" y="10262"/>
                      <a:pt x="21600" y="9600"/>
                    </a:cubicBezTo>
                    <a:lnTo>
                      <a:pt x="21600" y="3601"/>
                    </a:lnTo>
                    <a:cubicBezTo>
                      <a:pt x="21600" y="2938"/>
                      <a:pt x="21160" y="2400"/>
                      <a:pt x="20618" y="240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15" name="Group 51"/>
            <p:cNvGrpSpPr/>
            <p:nvPr/>
          </p:nvGrpSpPr>
          <p:grpSpPr>
            <a:xfrm>
              <a:off x="1101240" y="3789720"/>
              <a:ext cx="1311120" cy="1585080"/>
              <a:chOff x="1101240" y="3789720"/>
              <a:chExt cx="1311120" cy="1585080"/>
            </a:xfrm>
          </p:grpSpPr>
          <p:sp>
            <p:nvSpPr>
              <p:cNvPr id="1316" name="Shape 729"/>
              <p:cNvSpPr/>
              <p:nvPr/>
            </p:nvSpPr>
            <p:spPr>
              <a:xfrm>
                <a:off x="1101240" y="3789720"/>
                <a:ext cx="1311120" cy="1585080"/>
              </a:xfrm>
              <a:custGeom>
                <a:avLst/>
                <a:gdLst/>
                <a:ahLst/>
                <a:rect l="l" t="t" r="r" b="b"/>
                <a:pathLst>
                  <a:path w="21481" h="21600">
                    <a:moveTo>
                      <a:pt x="12495" y="4108"/>
                    </a:moveTo>
                    <a:cubicBezTo>
                      <a:pt x="12257" y="3765"/>
                      <a:pt x="12257" y="3203"/>
                      <a:pt x="12495" y="2859"/>
                    </a:cubicBezTo>
                    <a:lnTo>
                      <a:pt x="14046" y="624"/>
                    </a:lnTo>
                    <a:cubicBezTo>
                      <a:pt x="14285" y="281"/>
                      <a:pt x="14870" y="0"/>
                      <a:pt x="15347" y="0"/>
                    </a:cubicBezTo>
                    <a:lnTo>
                      <a:pt x="18450" y="0"/>
                    </a:lnTo>
                    <a:cubicBezTo>
                      <a:pt x="18927" y="0"/>
                      <a:pt x="19512" y="281"/>
                      <a:pt x="19750" y="624"/>
                    </a:cubicBezTo>
                    <a:lnTo>
                      <a:pt x="21302" y="2859"/>
                    </a:lnTo>
                    <a:cubicBezTo>
                      <a:pt x="21540" y="3203"/>
                      <a:pt x="21540" y="3765"/>
                      <a:pt x="21302" y="4108"/>
                    </a:cubicBezTo>
                    <a:lnTo>
                      <a:pt x="19750" y="6343"/>
                    </a:lnTo>
                    <a:cubicBezTo>
                      <a:pt x="19512" y="6686"/>
                      <a:pt x="18927" y="6967"/>
                      <a:pt x="18450" y="6967"/>
                    </a:cubicBezTo>
                    <a:lnTo>
                      <a:pt x="16719" y="6967"/>
                    </a:lnTo>
                    <a:cubicBezTo>
                      <a:pt x="16242" y="6967"/>
                      <a:pt x="15657" y="7248"/>
                      <a:pt x="15418" y="7592"/>
                    </a:cubicBezTo>
                    <a:lnTo>
                      <a:pt x="15245" y="7842"/>
                    </a:lnTo>
                    <a:cubicBezTo>
                      <a:pt x="15006" y="8185"/>
                      <a:pt x="15006" y="8747"/>
                      <a:pt x="15245" y="9091"/>
                    </a:cubicBezTo>
                    <a:lnTo>
                      <a:pt x="18658" y="14008"/>
                    </a:lnTo>
                    <a:cubicBezTo>
                      <a:pt x="18897" y="14352"/>
                      <a:pt x="18897" y="14914"/>
                      <a:pt x="18658" y="15257"/>
                    </a:cubicBezTo>
                    <a:lnTo>
                      <a:pt x="14689" y="20976"/>
                    </a:lnTo>
                    <a:cubicBezTo>
                      <a:pt x="14450" y="21319"/>
                      <a:pt x="13865" y="21600"/>
                      <a:pt x="13388" y="21600"/>
                    </a:cubicBezTo>
                    <a:lnTo>
                      <a:pt x="5449" y="21600"/>
                    </a:lnTo>
                    <a:cubicBezTo>
                      <a:pt x="4972" y="21600"/>
                      <a:pt x="4387" y="21319"/>
                      <a:pt x="4148" y="20975"/>
                    </a:cubicBezTo>
                    <a:lnTo>
                      <a:pt x="178" y="15257"/>
                    </a:lnTo>
                    <a:cubicBezTo>
                      <a:pt x="-60" y="14914"/>
                      <a:pt x="-60" y="14352"/>
                      <a:pt x="178" y="14008"/>
                    </a:cubicBezTo>
                    <a:lnTo>
                      <a:pt x="4148" y="8290"/>
                    </a:lnTo>
                    <a:cubicBezTo>
                      <a:pt x="4387" y="7946"/>
                      <a:pt x="4972" y="7665"/>
                      <a:pt x="5449" y="7665"/>
                    </a:cubicBezTo>
                    <a:lnTo>
                      <a:pt x="12276" y="7665"/>
                    </a:lnTo>
                    <a:cubicBezTo>
                      <a:pt x="12753" y="7665"/>
                      <a:pt x="13338" y="7384"/>
                      <a:pt x="13576" y="7041"/>
                    </a:cubicBezTo>
                    <a:lnTo>
                      <a:pt x="13620" y="6978"/>
                    </a:lnTo>
                    <a:cubicBezTo>
                      <a:pt x="13859" y="6634"/>
                      <a:pt x="13859" y="6072"/>
                      <a:pt x="13620" y="5729"/>
                    </a:cubicBezTo>
                    <a:cubicBezTo>
                      <a:pt x="13620" y="5729"/>
                      <a:pt x="12495" y="4108"/>
                      <a:pt x="12495" y="4108"/>
                    </a:cubicBezTo>
                    <a:close/>
                  </a:path>
                </a:pathLst>
              </a:custGeom>
              <a:solidFill>
                <a:srgbClr val="f15a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800" rIns="378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7" name="Shape 2543"/>
              <p:cNvSpPr/>
              <p:nvPr/>
            </p:nvSpPr>
            <p:spPr>
              <a:xfrm>
                <a:off x="1524960" y="475632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709" y="18655"/>
                    </a:moveTo>
                    <a:lnTo>
                      <a:pt x="14727" y="18655"/>
                    </a:lnTo>
                    <a:lnTo>
                      <a:pt x="14727" y="19636"/>
                    </a:lnTo>
                    <a:lnTo>
                      <a:pt x="15709" y="19636"/>
                    </a:lnTo>
                    <a:cubicBezTo>
                      <a:pt x="15709" y="19636"/>
                      <a:pt x="15709" y="18655"/>
                      <a:pt x="15709" y="18655"/>
                    </a:cubicBezTo>
                    <a:close/>
                    <a:moveTo>
                      <a:pt x="15709" y="14727"/>
                    </a:moveTo>
                    <a:lnTo>
                      <a:pt x="14727" y="14727"/>
                    </a:lnTo>
                    <a:lnTo>
                      <a:pt x="14727" y="15709"/>
                    </a:lnTo>
                    <a:lnTo>
                      <a:pt x="15709" y="15709"/>
                    </a:lnTo>
                    <a:cubicBezTo>
                      <a:pt x="15709" y="15709"/>
                      <a:pt x="15709" y="14727"/>
                      <a:pt x="15709" y="14727"/>
                    </a:cubicBezTo>
                    <a:close/>
                    <a:moveTo>
                      <a:pt x="14727" y="10800"/>
                    </a:moveTo>
                    <a:lnTo>
                      <a:pt x="15709" y="10800"/>
                    </a:lnTo>
                    <a:lnTo>
                      <a:pt x="15709" y="9818"/>
                    </a:lnTo>
                    <a:lnTo>
                      <a:pt x="14727" y="9818"/>
                    </a:lnTo>
                    <a:cubicBezTo>
                      <a:pt x="14727" y="9818"/>
                      <a:pt x="14727" y="10800"/>
                      <a:pt x="14727" y="10800"/>
                    </a:cubicBezTo>
                    <a:close/>
                    <a:moveTo>
                      <a:pt x="15709" y="16691"/>
                    </a:moveTo>
                    <a:lnTo>
                      <a:pt x="14727" y="16691"/>
                    </a:lnTo>
                    <a:lnTo>
                      <a:pt x="14727" y="17673"/>
                    </a:lnTo>
                    <a:lnTo>
                      <a:pt x="15709" y="17673"/>
                    </a:lnTo>
                    <a:cubicBezTo>
                      <a:pt x="15709" y="17673"/>
                      <a:pt x="15709" y="16691"/>
                      <a:pt x="15709" y="16691"/>
                    </a:cubicBezTo>
                    <a:close/>
                    <a:moveTo>
                      <a:pt x="14727" y="8836"/>
                    </a:moveTo>
                    <a:lnTo>
                      <a:pt x="15709" y="8836"/>
                    </a:lnTo>
                    <a:lnTo>
                      <a:pt x="15709" y="7855"/>
                    </a:lnTo>
                    <a:lnTo>
                      <a:pt x="14727" y="7855"/>
                    </a:lnTo>
                    <a:cubicBezTo>
                      <a:pt x="14727" y="7855"/>
                      <a:pt x="14727" y="8836"/>
                      <a:pt x="14727" y="8836"/>
                    </a:cubicBezTo>
                    <a:close/>
                    <a:moveTo>
                      <a:pt x="19636" y="0"/>
                    </a:moveTo>
                    <a:lnTo>
                      <a:pt x="5891" y="0"/>
                    </a:lnTo>
                    <a:cubicBezTo>
                      <a:pt x="4806" y="0"/>
                      <a:pt x="3927" y="879"/>
                      <a:pt x="3927" y="1964"/>
                    </a:cubicBezTo>
                    <a:lnTo>
                      <a:pt x="3927" y="2455"/>
                    </a:lnTo>
                    <a:cubicBezTo>
                      <a:pt x="3927" y="2726"/>
                      <a:pt x="4147" y="2945"/>
                      <a:pt x="4418" y="2945"/>
                    </a:cubicBezTo>
                    <a:cubicBezTo>
                      <a:pt x="4690" y="2945"/>
                      <a:pt x="4909" y="2726"/>
                      <a:pt x="4909" y="2455"/>
                    </a:cubicBezTo>
                    <a:lnTo>
                      <a:pt x="4909" y="1964"/>
                    </a:lnTo>
                    <a:cubicBezTo>
                      <a:pt x="4909" y="1422"/>
                      <a:pt x="5349" y="982"/>
                      <a:pt x="5891" y="982"/>
                    </a:cubicBezTo>
                    <a:lnTo>
                      <a:pt x="19636" y="982"/>
                    </a:lnTo>
                    <a:cubicBezTo>
                      <a:pt x="20178" y="982"/>
                      <a:pt x="20618" y="1422"/>
                      <a:pt x="20618" y="1964"/>
                    </a:cubicBezTo>
                    <a:lnTo>
                      <a:pt x="20618" y="15709"/>
                    </a:lnTo>
                    <a:cubicBezTo>
                      <a:pt x="20618" y="16251"/>
                      <a:pt x="20178" y="16691"/>
                      <a:pt x="19636" y="16691"/>
                    </a:cubicBezTo>
                    <a:lnTo>
                      <a:pt x="19145" y="16691"/>
                    </a:lnTo>
                    <a:cubicBezTo>
                      <a:pt x="18874" y="16691"/>
                      <a:pt x="18655" y="16911"/>
                      <a:pt x="18655" y="17182"/>
                    </a:cubicBezTo>
                    <a:cubicBezTo>
                      <a:pt x="18655" y="17453"/>
                      <a:pt x="18874" y="17673"/>
                      <a:pt x="19145" y="17673"/>
                    </a:cubicBezTo>
                    <a:lnTo>
                      <a:pt x="19636" y="17673"/>
                    </a:lnTo>
                    <a:cubicBezTo>
                      <a:pt x="20721" y="17673"/>
                      <a:pt x="21600" y="16794"/>
                      <a:pt x="21600" y="15709"/>
                    </a:cubicBezTo>
                    <a:lnTo>
                      <a:pt x="21600" y="1964"/>
                    </a:lnTo>
                    <a:cubicBezTo>
                      <a:pt x="21600" y="879"/>
                      <a:pt x="20721" y="0"/>
                      <a:pt x="19636" y="0"/>
                    </a:cubicBezTo>
                    <a:moveTo>
                      <a:pt x="14727" y="6873"/>
                    </a:moveTo>
                    <a:lnTo>
                      <a:pt x="15709" y="6873"/>
                    </a:lnTo>
                    <a:lnTo>
                      <a:pt x="15709" y="5891"/>
                    </a:lnTo>
                    <a:lnTo>
                      <a:pt x="14727" y="5891"/>
                    </a:lnTo>
                    <a:cubicBezTo>
                      <a:pt x="14727" y="5891"/>
                      <a:pt x="14727" y="6873"/>
                      <a:pt x="14727" y="6873"/>
                    </a:cubicBezTo>
                    <a:close/>
                    <a:moveTo>
                      <a:pt x="16691" y="12273"/>
                    </a:moveTo>
                    <a:lnTo>
                      <a:pt x="13745" y="12273"/>
                    </a:lnTo>
                    <a:lnTo>
                      <a:pt x="13745" y="4909"/>
                    </a:lnTo>
                    <a:lnTo>
                      <a:pt x="15709" y="4909"/>
                    </a:lnTo>
                    <a:cubicBezTo>
                      <a:pt x="16251" y="4909"/>
                      <a:pt x="16691" y="5349"/>
                      <a:pt x="16691" y="5891"/>
                    </a:cubicBezTo>
                    <a:cubicBezTo>
                      <a:pt x="16691" y="5891"/>
                      <a:pt x="16691" y="12273"/>
                      <a:pt x="16691" y="12273"/>
                    </a:cubicBezTo>
                    <a:close/>
                    <a:moveTo>
                      <a:pt x="16691" y="19636"/>
                    </a:moveTo>
                    <a:cubicBezTo>
                      <a:pt x="16691" y="20178"/>
                      <a:pt x="16251" y="20618"/>
                      <a:pt x="15709" y="20618"/>
                    </a:cubicBezTo>
                    <a:lnTo>
                      <a:pt x="13745" y="20618"/>
                    </a:lnTo>
                    <a:lnTo>
                      <a:pt x="13745" y="13255"/>
                    </a:lnTo>
                    <a:lnTo>
                      <a:pt x="16691" y="13255"/>
                    </a:lnTo>
                    <a:cubicBezTo>
                      <a:pt x="16691" y="13255"/>
                      <a:pt x="16691" y="19636"/>
                      <a:pt x="16691" y="19636"/>
                    </a:cubicBezTo>
                    <a:close/>
                    <a:moveTo>
                      <a:pt x="12764" y="12273"/>
                    </a:moveTo>
                    <a:lnTo>
                      <a:pt x="4909" y="12273"/>
                    </a:lnTo>
                    <a:lnTo>
                      <a:pt x="4909" y="4909"/>
                    </a:lnTo>
                    <a:lnTo>
                      <a:pt x="12764" y="4909"/>
                    </a:lnTo>
                    <a:cubicBezTo>
                      <a:pt x="12764" y="4909"/>
                      <a:pt x="12764" y="12273"/>
                      <a:pt x="12764" y="12273"/>
                    </a:cubicBezTo>
                    <a:close/>
                    <a:moveTo>
                      <a:pt x="12764" y="20618"/>
                    </a:moveTo>
                    <a:lnTo>
                      <a:pt x="4909" y="20618"/>
                    </a:lnTo>
                    <a:lnTo>
                      <a:pt x="4909" y="13255"/>
                    </a:lnTo>
                    <a:lnTo>
                      <a:pt x="12764" y="13255"/>
                    </a:lnTo>
                    <a:cubicBezTo>
                      <a:pt x="12764" y="13255"/>
                      <a:pt x="12764" y="20618"/>
                      <a:pt x="12764" y="20618"/>
                    </a:cubicBezTo>
                    <a:close/>
                    <a:moveTo>
                      <a:pt x="3927" y="12273"/>
                    </a:moveTo>
                    <a:lnTo>
                      <a:pt x="982" y="12273"/>
                    </a:lnTo>
                    <a:lnTo>
                      <a:pt x="982" y="5891"/>
                    </a:lnTo>
                    <a:cubicBezTo>
                      <a:pt x="982" y="5349"/>
                      <a:pt x="1422" y="4909"/>
                      <a:pt x="1964" y="4909"/>
                    </a:cubicBezTo>
                    <a:lnTo>
                      <a:pt x="3927" y="4909"/>
                    </a:lnTo>
                    <a:cubicBezTo>
                      <a:pt x="3927" y="4909"/>
                      <a:pt x="3927" y="12273"/>
                      <a:pt x="3927" y="12273"/>
                    </a:cubicBezTo>
                    <a:close/>
                    <a:moveTo>
                      <a:pt x="3927" y="20618"/>
                    </a:moveTo>
                    <a:lnTo>
                      <a:pt x="1964" y="20618"/>
                    </a:lnTo>
                    <a:cubicBezTo>
                      <a:pt x="1422" y="20618"/>
                      <a:pt x="982" y="20178"/>
                      <a:pt x="982" y="19636"/>
                    </a:cubicBezTo>
                    <a:lnTo>
                      <a:pt x="982" y="13255"/>
                    </a:lnTo>
                    <a:lnTo>
                      <a:pt x="3927" y="13255"/>
                    </a:lnTo>
                    <a:cubicBezTo>
                      <a:pt x="3927" y="13255"/>
                      <a:pt x="3927" y="20618"/>
                      <a:pt x="3927" y="20618"/>
                    </a:cubicBezTo>
                    <a:close/>
                    <a:moveTo>
                      <a:pt x="15709" y="3927"/>
                    </a:moveTo>
                    <a:lnTo>
                      <a:pt x="1964" y="3927"/>
                    </a:lnTo>
                    <a:cubicBezTo>
                      <a:pt x="879" y="3927"/>
                      <a:pt x="0" y="4806"/>
                      <a:pt x="0" y="5891"/>
                    </a:cubicBezTo>
                    <a:lnTo>
                      <a:pt x="0" y="19636"/>
                    </a:lnTo>
                    <a:cubicBezTo>
                      <a:pt x="0" y="20721"/>
                      <a:pt x="879" y="21600"/>
                      <a:pt x="1964" y="21600"/>
                    </a:cubicBezTo>
                    <a:lnTo>
                      <a:pt x="15709" y="21600"/>
                    </a:lnTo>
                    <a:cubicBezTo>
                      <a:pt x="16794" y="21600"/>
                      <a:pt x="17673" y="20721"/>
                      <a:pt x="17673" y="19636"/>
                    </a:cubicBezTo>
                    <a:lnTo>
                      <a:pt x="17673" y="5891"/>
                    </a:lnTo>
                    <a:cubicBezTo>
                      <a:pt x="17673" y="4806"/>
                      <a:pt x="16794" y="3927"/>
                      <a:pt x="15709" y="3927"/>
                    </a:cubicBezTo>
                    <a:moveTo>
                      <a:pt x="1964" y="8836"/>
                    </a:moveTo>
                    <a:lnTo>
                      <a:pt x="2945" y="8836"/>
                    </a:lnTo>
                    <a:lnTo>
                      <a:pt x="2945" y="7855"/>
                    </a:lnTo>
                    <a:lnTo>
                      <a:pt x="1964" y="7855"/>
                    </a:lnTo>
                    <a:cubicBezTo>
                      <a:pt x="1964" y="7855"/>
                      <a:pt x="1964" y="8836"/>
                      <a:pt x="1964" y="8836"/>
                    </a:cubicBezTo>
                    <a:close/>
                    <a:moveTo>
                      <a:pt x="1964" y="10800"/>
                    </a:moveTo>
                    <a:lnTo>
                      <a:pt x="2945" y="10800"/>
                    </a:lnTo>
                    <a:lnTo>
                      <a:pt x="2945" y="9818"/>
                    </a:lnTo>
                    <a:lnTo>
                      <a:pt x="1964" y="9818"/>
                    </a:lnTo>
                    <a:cubicBezTo>
                      <a:pt x="1964" y="9818"/>
                      <a:pt x="1964" y="10800"/>
                      <a:pt x="1964" y="10800"/>
                    </a:cubicBezTo>
                    <a:close/>
                    <a:moveTo>
                      <a:pt x="2945" y="16691"/>
                    </a:moveTo>
                    <a:lnTo>
                      <a:pt x="1964" y="16691"/>
                    </a:lnTo>
                    <a:lnTo>
                      <a:pt x="1964" y="17673"/>
                    </a:lnTo>
                    <a:lnTo>
                      <a:pt x="2945" y="17673"/>
                    </a:lnTo>
                    <a:cubicBezTo>
                      <a:pt x="2945" y="17673"/>
                      <a:pt x="2945" y="16691"/>
                      <a:pt x="2945" y="16691"/>
                    </a:cubicBezTo>
                    <a:close/>
                    <a:moveTo>
                      <a:pt x="1964" y="6873"/>
                    </a:moveTo>
                    <a:lnTo>
                      <a:pt x="2945" y="6873"/>
                    </a:lnTo>
                    <a:lnTo>
                      <a:pt x="2945" y="5891"/>
                    </a:lnTo>
                    <a:lnTo>
                      <a:pt x="1964" y="5891"/>
                    </a:lnTo>
                    <a:cubicBezTo>
                      <a:pt x="1964" y="5891"/>
                      <a:pt x="1964" y="6873"/>
                      <a:pt x="1964" y="6873"/>
                    </a:cubicBezTo>
                    <a:close/>
                    <a:moveTo>
                      <a:pt x="2945" y="14727"/>
                    </a:moveTo>
                    <a:lnTo>
                      <a:pt x="1964" y="14727"/>
                    </a:lnTo>
                    <a:lnTo>
                      <a:pt x="1964" y="15709"/>
                    </a:lnTo>
                    <a:lnTo>
                      <a:pt x="2945" y="15709"/>
                    </a:lnTo>
                    <a:cubicBezTo>
                      <a:pt x="2945" y="15709"/>
                      <a:pt x="2945" y="14727"/>
                      <a:pt x="2945" y="14727"/>
                    </a:cubicBezTo>
                    <a:close/>
                    <a:moveTo>
                      <a:pt x="2945" y="18655"/>
                    </a:moveTo>
                    <a:lnTo>
                      <a:pt x="1964" y="18655"/>
                    </a:lnTo>
                    <a:lnTo>
                      <a:pt x="1964" y="19636"/>
                    </a:lnTo>
                    <a:lnTo>
                      <a:pt x="2945" y="19636"/>
                    </a:lnTo>
                    <a:cubicBezTo>
                      <a:pt x="2945" y="19636"/>
                      <a:pt x="2945" y="18655"/>
                      <a:pt x="2945" y="1865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318" name="TextBox 64"/>
          <p:cNvSpPr/>
          <p:nvPr/>
        </p:nvSpPr>
        <p:spPr>
          <a:xfrm>
            <a:off x="6005520" y="1914480"/>
            <a:ext cx="49878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The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details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 are </a:t>
            </a:r>
            <a:r>
              <a:rPr b="0" i="1" lang="en-US" sz="2800" spc="-1" strike="noStrike">
                <a:solidFill>
                  <a:srgbClr val="44546a"/>
                </a:solidFill>
                <a:latin typeface="Source Sans Pro"/>
              </a:rPr>
              <a:t>not the 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details. They make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the design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TextBox 65"/>
          <p:cNvSpPr/>
          <p:nvPr/>
        </p:nvSpPr>
        <p:spPr>
          <a:xfrm>
            <a:off x="6008760" y="2792520"/>
            <a:ext cx="4314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15a25"/>
                </a:solidFill>
                <a:latin typeface="Source Sans Pro ExtraLight"/>
              </a:rPr>
              <a:t>Bicycle rights +1 actually shoreditch, vinyl fixie small batch pop-u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0" name="Group 66"/>
          <p:cNvGrpSpPr/>
          <p:nvPr/>
        </p:nvGrpSpPr>
        <p:grpSpPr>
          <a:xfrm>
            <a:off x="6173640" y="4108320"/>
            <a:ext cx="1573200" cy="628560"/>
            <a:chOff x="6173640" y="4108320"/>
            <a:chExt cx="1573200" cy="628560"/>
          </a:xfrm>
        </p:grpSpPr>
        <p:sp>
          <p:nvSpPr>
            <p:cNvPr id="1321" name="Rectangle 67"/>
            <p:cNvSpPr/>
            <p:nvPr/>
          </p:nvSpPr>
          <p:spPr>
            <a:xfrm>
              <a:off x="6519600" y="4108320"/>
              <a:ext cx="12272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2" name="Shape 2778"/>
            <p:cNvSpPr/>
            <p:nvPr/>
          </p:nvSpPr>
          <p:spPr>
            <a:xfrm>
              <a:off x="6173640" y="426384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3" name="Group 69"/>
          <p:cNvGrpSpPr/>
          <p:nvPr/>
        </p:nvGrpSpPr>
        <p:grpSpPr>
          <a:xfrm>
            <a:off x="6175440" y="3117960"/>
            <a:ext cx="1574640" cy="628560"/>
            <a:chOff x="6175440" y="3117960"/>
            <a:chExt cx="1574640" cy="628560"/>
          </a:xfrm>
        </p:grpSpPr>
        <p:sp>
          <p:nvSpPr>
            <p:cNvPr id="1324" name="Rectangle 70"/>
            <p:cNvSpPr/>
            <p:nvPr/>
          </p:nvSpPr>
          <p:spPr>
            <a:xfrm>
              <a:off x="6522840" y="3117960"/>
              <a:ext cx="12272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5" name="Shape 2748"/>
            <p:cNvSpPr/>
            <p:nvPr/>
          </p:nvSpPr>
          <p:spPr>
            <a:xfrm>
              <a:off x="6175440" y="324504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6" name="Group 72"/>
          <p:cNvGrpSpPr/>
          <p:nvPr/>
        </p:nvGrpSpPr>
        <p:grpSpPr>
          <a:xfrm>
            <a:off x="8661240" y="3117960"/>
            <a:ext cx="1576440" cy="628560"/>
            <a:chOff x="8661240" y="3117960"/>
            <a:chExt cx="1576440" cy="628560"/>
          </a:xfrm>
        </p:grpSpPr>
        <p:sp>
          <p:nvSpPr>
            <p:cNvPr id="1327" name="Rectangle 73"/>
            <p:cNvSpPr/>
            <p:nvPr/>
          </p:nvSpPr>
          <p:spPr>
            <a:xfrm>
              <a:off x="9009720" y="3117960"/>
              <a:ext cx="12279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8" name="Shape 2774"/>
            <p:cNvSpPr/>
            <p:nvPr/>
          </p:nvSpPr>
          <p:spPr>
            <a:xfrm>
              <a:off x="8661240" y="326484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9" name="Group 75"/>
          <p:cNvGrpSpPr/>
          <p:nvPr/>
        </p:nvGrpSpPr>
        <p:grpSpPr>
          <a:xfrm>
            <a:off x="8661240" y="4087800"/>
            <a:ext cx="1575000" cy="628560"/>
            <a:chOff x="8661240" y="4087800"/>
            <a:chExt cx="1575000" cy="628560"/>
          </a:xfrm>
        </p:grpSpPr>
        <p:sp>
          <p:nvSpPr>
            <p:cNvPr id="1330" name="Rectangle 76"/>
            <p:cNvSpPr/>
            <p:nvPr/>
          </p:nvSpPr>
          <p:spPr>
            <a:xfrm>
              <a:off x="9008640" y="408780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1" name="Shape 2784"/>
            <p:cNvSpPr/>
            <p:nvPr/>
          </p:nvSpPr>
          <p:spPr>
            <a:xfrm>
              <a:off x="8661240" y="42400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2" name="Group 78"/>
          <p:cNvGrpSpPr/>
          <p:nvPr/>
        </p:nvGrpSpPr>
        <p:grpSpPr>
          <a:xfrm>
            <a:off x="6173640" y="5099040"/>
            <a:ext cx="1641600" cy="628560"/>
            <a:chOff x="6173640" y="5099040"/>
            <a:chExt cx="1641600" cy="628560"/>
          </a:xfrm>
        </p:grpSpPr>
        <p:sp>
          <p:nvSpPr>
            <p:cNvPr id="1333" name="Rectangle 79"/>
            <p:cNvSpPr/>
            <p:nvPr/>
          </p:nvSpPr>
          <p:spPr>
            <a:xfrm>
              <a:off x="6587280" y="5099040"/>
              <a:ext cx="12279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4" name="Shape 2543"/>
            <p:cNvSpPr/>
            <p:nvPr/>
          </p:nvSpPr>
          <p:spPr>
            <a:xfrm>
              <a:off x="6173640" y="523044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5" name="Group 81"/>
          <p:cNvGrpSpPr/>
          <p:nvPr/>
        </p:nvGrpSpPr>
        <p:grpSpPr>
          <a:xfrm>
            <a:off x="8661240" y="5052960"/>
            <a:ext cx="1589400" cy="628560"/>
            <a:chOff x="8661240" y="5052960"/>
            <a:chExt cx="1589400" cy="628560"/>
          </a:xfrm>
        </p:grpSpPr>
        <p:sp>
          <p:nvSpPr>
            <p:cNvPr id="1336" name="Rectangle 82"/>
            <p:cNvSpPr/>
            <p:nvPr/>
          </p:nvSpPr>
          <p:spPr>
            <a:xfrm>
              <a:off x="9022320" y="5052960"/>
              <a:ext cx="122832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7" name="Shape 2604"/>
            <p:cNvSpPr/>
            <p:nvPr/>
          </p:nvSpPr>
          <p:spPr>
            <a:xfrm>
              <a:off x="8661240" y="5208840"/>
              <a:ext cx="279360" cy="228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0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7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53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Title 1"/>
          <p:cNvSpPr/>
          <p:nvPr/>
        </p:nvSpPr>
        <p:spPr>
          <a:xfrm>
            <a:off x="560520" y="325800"/>
            <a:ext cx="36525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Bar Data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15a25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Round Same Side Corner Rectangle 84"/>
          <p:cNvSpPr/>
          <p:nvPr/>
        </p:nvSpPr>
        <p:spPr>
          <a:xfrm>
            <a:off x="2941560" y="1604880"/>
            <a:ext cx="507960" cy="3149640"/>
          </a:xfrm>
          <a:custGeom>
            <a:avLst/>
            <a:gdLst>
              <a:gd name="textAreaLeft" fmla="*/ 74160 w 507960"/>
              <a:gd name="textAreaRight" fmla="*/ 433800 w 507960"/>
              <a:gd name="textAreaTop" fmla="*/ 74160 h 3149640"/>
              <a:gd name="textAreaBottom" fmla="*/ 3075480 h 3149640"/>
            </a:gdLst>
            <a:ahLst/>
            <a:rect l="textAreaLeft" t="textAreaTop" r="textAreaRight" b="textAreaBottom"/>
            <a:pathLst>
              <a:path w="21600" h="133853">
                <a:moveTo>
                  <a:pt x="10800" y="0"/>
                </a:moveTo>
                <a:arcTo wR="10800" hR="10800" stAng="16200000" swAng="-5400000"/>
                <a:lnTo>
                  <a:pt x="0" y="123053"/>
                </a:lnTo>
                <a:arcTo wR="10800" hR="10800" stAng="10800000" swAng="-5400000"/>
                <a:lnTo>
                  <a:pt x="10800" y="13385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5f6b7c"/>
              </a:gs>
              <a:gs pos="100000">
                <a:srgbClr val="384961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2" name="Group 117"/>
          <p:cNvGrpSpPr/>
          <p:nvPr/>
        </p:nvGrpSpPr>
        <p:grpSpPr>
          <a:xfrm>
            <a:off x="568440" y="4989600"/>
            <a:ext cx="4516200" cy="434880"/>
            <a:chOff x="568440" y="4989600"/>
            <a:chExt cx="4516200" cy="434880"/>
          </a:xfrm>
        </p:grpSpPr>
        <p:sp>
          <p:nvSpPr>
            <p:cNvPr id="1343" name="Straight Connector 58"/>
            <p:cNvSpPr/>
            <p:nvPr/>
          </p:nvSpPr>
          <p:spPr>
            <a:xfrm>
              <a:off x="638640" y="5056560"/>
              <a:ext cx="4348080" cy="1800"/>
            </a:xfrm>
            <a:prstGeom prst="line">
              <a:avLst/>
            </a:prstGeom>
            <a:ln w="12600">
              <a:solidFill>
                <a:srgbClr val="ccccca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4" name="Oval 59"/>
            <p:cNvSpPr/>
            <p:nvPr/>
          </p:nvSpPr>
          <p:spPr>
            <a:xfrm>
              <a:off x="828360" y="4989600"/>
              <a:ext cx="127800" cy="128160"/>
            </a:xfrm>
            <a:prstGeom prst="ellipse">
              <a:avLst/>
            </a:prstGeom>
            <a:gradFill rotWithShape="0">
              <a:gsLst>
                <a:gs pos="0">
                  <a:srgbClr val="f57050"/>
                </a:gs>
                <a:gs pos="100000">
                  <a:srgbClr val="e5450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5" name="Oval 60"/>
            <p:cNvSpPr/>
            <p:nvPr/>
          </p:nvSpPr>
          <p:spPr>
            <a:xfrm>
              <a:off x="1596600" y="4989600"/>
              <a:ext cx="127800" cy="128160"/>
            </a:xfrm>
            <a:prstGeom prst="ellipse">
              <a:avLst/>
            </a:prstGeom>
            <a:gradFill rotWithShape="0">
              <a:gsLst>
                <a:gs pos="0">
                  <a:srgbClr val="ff9c80"/>
                </a:gs>
                <a:gs pos="100000">
                  <a:srgbClr val="e5754f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6" name="Oval 61"/>
            <p:cNvSpPr/>
            <p:nvPr/>
          </p:nvSpPr>
          <p:spPr>
            <a:xfrm>
              <a:off x="2364480" y="4989600"/>
              <a:ext cx="127800" cy="128160"/>
            </a:xfrm>
            <a:prstGeom prst="ellipse">
              <a:avLst/>
            </a:prstGeom>
            <a:gradFill rotWithShape="0">
              <a:gsLst>
                <a:gs pos="0">
                  <a:srgbClr val="6c7a8b"/>
                </a:gs>
                <a:gs pos="100000">
                  <a:srgbClr val="485b71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7" name="Oval 62"/>
            <p:cNvSpPr/>
            <p:nvPr/>
          </p:nvSpPr>
          <p:spPr>
            <a:xfrm>
              <a:off x="3132720" y="4989600"/>
              <a:ext cx="127800" cy="128160"/>
            </a:xfrm>
            <a:prstGeom prst="ellipse">
              <a:avLst/>
            </a:prstGeom>
            <a:gradFill rotWithShape="0">
              <a:gsLst>
                <a:gs pos="0">
                  <a:srgbClr val="5f6b7c"/>
                </a:gs>
                <a:gs pos="100000">
                  <a:srgbClr val="384961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8" name="Oval 63"/>
            <p:cNvSpPr/>
            <p:nvPr/>
          </p:nvSpPr>
          <p:spPr>
            <a:xfrm>
              <a:off x="3900600" y="4989600"/>
              <a:ext cx="127800" cy="128160"/>
            </a:xfrm>
            <a:prstGeom prst="ellipse">
              <a:avLst/>
            </a:prstGeom>
            <a:gradFill rotWithShape="0">
              <a:gsLst>
                <a:gs pos="0">
                  <a:srgbClr val="f57050"/>
                </a:gs>
                <a:gs pos="100000">
                  <a:srgbClr val="e5450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9" name="Oval 64"/>
            <p:cNvSpPr/>
            <p:nvPr/>
          </p:nvSpPr>
          <p:spPr>
            <a:xfrm>
              <a:off x="4668840" y="4989600"/>
              <a:ext cx="127800" cy="128160"/>
            </a:xfrm>
            <a:prstGeom prst="ellipse">
              <a:avLst/>
            </a:prstGeom>
            <a:gradFill rotWithShape="0">
              <a:gsLst>
                <a:gs pos="0">
                  <a:srgbClr val="ff9c80"/>
                </a:gs>
                <a:gs pos="100000">
                  <a:srgbClr val="e5754f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0" name="Text Placeholder 3"/>
            <p:cNvSpPr/>
            <p:nvPr/>
          </p:nvSpPr>
          <p:spPr>
            <a:xfrm>
              <a:off x="568440" y="5211000"/>
              <a:ext cx="66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1400" spc="-1" strike="noStrike">
                  <a:solidFill>
                    <a:srgbClr val="656d78"/>
                  </a:solidFill>
                  <a:latin typeface="Source Sans Pro"/>
                  <a:ea typeface="Roboto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Text Placeholder 3"/>
            <p:cNvSpPr/>
            <p:nvPr/>
          </p:nvSpPr>
          <p:spPr>
            <a:xfrm>
              <a:off x="1337760" y="5211000"/>
              <a:ext cx="66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1400" spc="-1" strike="noStrike">
                  <a:solidFill>
                    <a:srgbClr val="656d78"/>
                  </a:solidFill>
                  <a:latin typeface="Source Sans Pro"/>
                  <a:ea typeface="Roboto"/>
                </a:rPr>
                <a:t>2008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Text Placeholder 3"/>
            <p:cNvSpPr/>
            <p:nvPr/>
          </p:nvSpPr>
          <p:spPr>
            <a:xfrm>
              <a:off x="2107080" y="5211000"/>
              <a:ext cx="66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1400" spc="-1" strike="noStrike">
                  <a:solidFill>
                    <a:srgbClr val="656d78"/>
                  </a:solidFill>
                  <a:latin typeface="Source Sans Pro"/>
                  <a:ea typeface="Roboto"/>
                </a:rPr>
                <a:t>2010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Text Placeholder 3"/>
            <p:cNvSpPr/>
            <p:nvPr/>
          </p:nvSpPr>
          <p:spPr>
            <a:xfrm>
              <a:off x="2876400" y="5211000"/>
              <a:ext cx="66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1400" spc="-1" strike="noStrike">
                  <a:solidFill>
                    <a:srgbClr val="656d78"/>
                  </a:solidFill>
                  <a:latin typeface="Source Sans Pro"/>
                  <a:ea typeface="Roboto"/>
                </a:rPr>
                <a:t>201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4" name="Text Placeholder 3"/>
            <p:cNvSpPr/>
            <p:nvPr/>
          </p:nvSpPr>
          <p:spPr>
            <a:xfrm>
              <a:off x="3645720" y="5211000"/>
              <a:ext cx="66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1400" spc="-1" strike="noStrike">
                  <a:solidFill>
                    <a:srgbClr val="656d78"/>
                  </a:solidFill>
                  <a:latin typeface="Source Sans Pro"/>
                  <a:ea typeface="Roboto"/>
                </a:rPr>
                <a:t>2014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5" name="Text Placeholder 3"/>
            <p:cNvSpPr/>
            <p:nvPr/>
          </p:nvSpPr>
          <p:spPr>
            <a:xfrm>
              <a:off x="4415040" y="5211000"/>
              <a:ext cx="66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1400" spc="-1" strike="noStrike">
                  <a:solidFill>
                    <a:srgbClr val="656d78"/>
                  </a:solidFill>
                  <a:latin typeface="Source Sans Pro"/>
                  <a:ea typeface="Roboto"/>
                </a:rPr>
                <a:t>2015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6" name="Round Same Side Corner Rectangle 75"/>
          <p:cNvSpPr/>
          <p:nvPr/>
        </p:nvSpPr>
        <p:spPr>
          <a:xfrm>
            <a:off x="638280" y="3686040"/>
            <a:ext cx="507960" cy="1068480"/>
          </a:xfrm>
          <a:custGeom>
            <a:avLst/>
            <a:gdLst>
              <a:gd name="textAreaLeft" fmla="*/ 74160 w 507960"/>
              <a:gd name="textAreaRight" fmla="*/ 433800 w 507960"/>
              <a:gd name="textAreaTop" fmla="*/ 74160 h 1068480"/>
              <a:gd name="textAreaBottom" fmla="*/ 994320 h 1068480"/>
            </a:gdLst>
            <a:ahLst/>
            <a:rect l="textAreaLeft" t="textAreaTop" r="textAreaRight" b="textAreaBottom"/>
            <a:pathLst>
              <a:path w="21600" h="45418">
                <a:moveTo>
                  <a:pt x="10800" y="0"/>
                </a:moveTo>
                <a:arcTo wR="10800" hR="10800" stAng="16200000" swAng="-5400000"/>
                <a:lnTo>
                  <a:pt x="0" y="34618"/>
                </a:lnTo>
                <a:arcTo wR="10800" hR="10800" stAng="10800000" swAng="-5400000"/>
                <a:lnTo>
                  <a:pt x="10800" y="4541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57050"/>
              </a:gs>
              <a:gs pos="100000">
                <a:srgbClr val="e5450b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Round Same Side Corner Rectangle 78"/>
          <p:cNvSpPr/>
          <p:nvPr/>
        </p:nvSpPr>
        <p:spPr>
          <a:xfrm>
            <a:off x="1406520" y="2824200"/>
            <a:ext cx="507960" cy="1930320"/>
          </a:xfrm>
          <a:custGeom>
            <a:avLst/>
            <a:gdLst>
              <a:gd name="textAreaLeft" fmla="*/ 74160 w 507960"/>
              <a:gd name="textAreaRight" fmla="*/ 433800 w 507960"/>
              <a:gd name="textAreaTop" fmla="*/ 74160 h 1930320"/>
              <a:gd name="textAreaBottom" fmla="*/ 1856160 h 1930320"/>
            </a:gdLst>
            <a:ahLst/>
            <a:rect l="textAreaLeft" t="textAreaTop" r="textAreaRight" b="textAreaBottom"/>
            <a:pathLst>
              <a:path w="21600" h="82040">
                <a:moveTo>
                  <a:pt x="10800" y="0"/>
                </a:moveTo>
                <a:arcTo wR="10800" hR="10800" stAng="16200000" swAng="-5400000"/>
                <a:lnTo>
                  <a:pt x="0" y="71240"/>
                </a:lnTo>
                <a:arcTo wR="10800" hR="10800" stAng="10800000" swAng="-5400000"/>
                <a:lnTo>
                  <a:pt x="10800" y="8204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9c80"/>
              </a:gs>
              <a:gs pos="100000">
                <a:srgbClr val="e5754f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Round Same Side Corner Rectangle 81"/>
          <p:cNvSpPr/>
          <p:nvPr/>
        </p:nvSpPr>
        <p:spPr>
          <a:xfrm>
            <a:off x="2174760" y="2417760"/>
            <a:ext cx="507960" cy="2336760"/>
          </a:xfrm>
          <a:custGeom>
            <a:avLst/>
            <a:gdLst>
              <a:gd name="textAreaLeft" fmla="*/ 74160 w 507960"/>
              <a:gd name="textAreaRight" fmla="*/ 433800 w 507960"/>
              <a:gd name="textAreaTop" fmla="*/ 74160 h 2336760"/>
              <a:gd name="textAreaBottom" fmla="*/ 2262600 h 2336760"/>
            </a:gdLst>
            <a:ahLst/>
            <a:rect l="textAreaLeft" t="textAreaTop" r="textAreaRight" b="textAreaBottom"/>
            <a:pathLst>
              <a:path w="21600" h="99311">
                <a:moveTo>
                  <a:pt x="10800" y="0"/>
                </a:moveTo>
                <a:arcTo wR="10800" hR="10800" stAng="16200000" swAng="-5400000"/>
                <a:lnTo>
                  <a:pt x="0" y="88511"/>
                </a:lnTo>
                <a:arcTo wR="10800" hR="10800" stAng="10800000" swAng="-5400000"/>
                <a:lnTo>
                  <a:pt x="10800" y="993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6c7a8b"/>
              </a:gs>
              <a:gs pos="100000">
                <a:srgbClr val="485b71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Round Same Side Corner Rectangle 87"/>
          <p:cNvSpPr/>
          <p:nvPr/>
        </p:nvSpPr>
        <p:spPr>
          <a:xfrm>
            <a:off x="3710160" y="3267000"/>
            <a:ext cx="507960" cy="1487520"/>
          </a:xfrm>
          <a:custGeom>
            <a:avLst/>
            <a:gdLst>
              <a:gd name="textAreaLeft" fmla="*/ 74160 w 507960"/>
              <a:gd name="textAreaRight" fmla="*/ 433800 w 507960"/>
              <a:gd name="textAreaTop" fmla="*/ 74160 h 1487520"/>
              <a:gd name="textAreaBottom" fmla="*/ 1413360 h 1487520"/>
            </a:gdLst>
            <a:ahLst/>
            <a:rect l="textAreaLeft" t="textAreaTop" r="textAreaRight" b="textAreaBottom"/>
            <a:pathLst>
              <a:path w="21600" h="63224">
                <a:moveTo>
                  <a:pt x="10800" y="0"/>
                </a:moveTo>
                <a:arcTo wR="10800" hR="10800" stAng="16200000" swAng="-5400000"/>
                <a:lnTo>
                  <a:pt x="0" y="52424"/>
                </a:lnTo>
                <a:arcTo wR="10800" hR="10800" stAng="10800000" swAng="-5400000"/>
                <a:lnTo>
                  <a:pt x="10800" y="6322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57050"/>
              </a:gs>
              <a:gs pos="100000">
                <a:srgbClr val="e5450b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Round Same Side Corner Rectangle 90"/>
          <p:cNvSpPr/>
          <p:nvPr/>
        </p:nvSpPr>
        <p:spPr>
          <a:xfrm>
            <a:off x="4478400" y="2824200"/>
            <a:ext cx="507960" cy="1930320"/>
          </a:xfrm>
          <a:custGeom>
            <a:avLst/>
            <a:gdLst>
              <a:gd name="textAreaLeft" fmla="*/ 74160 w 507960"/>
              <a:gd name="textAreaRight" fmla="*/ 433800 w 507960"/>
              <a:gd name="textAreaTop" fmla="*/ 74160 h 1930320"/>
              <a:gd name="textAreaBottom" fmla="*/ 1856160 h 1930320"/>
            </a:gdLst>
            <a:ahLst/>
            <a:rect l="textAreaLeft" t="textAreaTop" r="textAreaRight" b="textAreaBottom"/>
            <a:pathLst>
              <a:path w="21600" h="82040">
                <a:moveTo>
                  <a:pt x="10800" y="0"/>
                </a:moveTo>
                <a:arcTo wR="10800" hR="10800" stAng="16200000" swAng="-5400000"/>
                <a:lnTo>
                  <a:pt x="0" y="71240"/>
                </a:lnTo>
                <a:arcTo wR="10800" hR="10800" stAng="10800000" swAng="-5400000"/>
                <a:lnTo>
                  <a:pt x="10800" y="8204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9c80"/>
              </a:gs>
              <a:gs pos="100000">
                <a:srgbClr val="e5754f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1" name="Group 76"/>
          <p:cNvGrpSpPr/>
          <p:nvPr/>
        </p:nvGrpSpPr>
        <p:grpSpPr>
          <a:xfrm>
            <a:off x="8999640" y="3191040"/>
            <a:ext cx="2952720" cy="706680"/>
            <a:chOff x="8999640" y="3191040"/>
            <a:chExt cx="2952720" cy="706680"/>
          </a:xfrm>
        </p:grpSpPr>
        <p:grpSp>
          <p:nvGrpSpPr>
            <p:cNvPr id="1362" name="Group 77"/>
            <p:cNvGrpSpPr/>
            <p:nvPr/>
          </p:nvGrpSpPr>
          <p:grpSpPr>
            <a:xfrm>
              <a:off x="8999640" y="3191040"/>
              <a:ext cx="2952720" cy="706680"/>
              <a:chOff x="8999640" y="3191040"/>
              <a:chExt cx="2952720" cy="706680"/>
            </a:xfrm>
          </p:grpSpPr>
          <p:sp>
            <p:nvSpPr>
              <p:cNvPr id="1363" name="Rounded Rectangle 79"/>
              <p:cNvSpPr/>
              <p:nvPr/>
            </p:nvSpPr>
            <p:spPr>
              <a:xfrm>
                <a:off x="8999640" y="3241080"/>
                <a:ext cx="616320" cy="617400"/>
              </a:xfrm>
              <a:custGeom>
                <a:avLst/>
                <a:gdLst>
                  <a:gd name="textAreaLeft" fmla="*/ 90000 w 616320"/>
                  <a:gd name="textAreaRight" fmla="*/ 526320 w 616320"/>
                  <a:gd name="textAreaTop" fmla="*/ 90000 h 617400"/>
                  <a:gd name="textAreaBottom" fmla="*/ 527400 h 617400"/>
                </a:gdLst>
                <a:ahLst/>
                <a:rect l="textAreaLeft" t="textAreaTop" r="textAreaRight" b="textAreaBottom"/>
                <a:pathLst>
                  <a:path w="21600" h="21638">
                    <a:moveTo>
                      <a:pt x="10800" y="0"/>
                    </a:moveTo>
                    <a:arcTo wR="10800" hR="10800" stAng="16200000" swAng="-5400000"/>
                    <a:lnTo>
                      <a:pt x="0" y="10838"/>
                    </a:lnTo>
                    <a:arcTo wR="10800" hR="10800" stAng="10800000" swAng="-5400000"/>
                    <a:lnTo>
                      <a:pt x="10800" y="21638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57050"/>
                  </a:gs>
                  <a:gs pos="100000">
                    <a:srgbClr val="e5450b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4" name="Rectangle 80"/>
              <p:cNvSpPr/>
              <p:nvPr/>
            </p:nvSpPr>
            <p:spPr>
              <a:xfrm>
                <a:off x="9906480" y="3191040"/>
                <a:ext cx="2045880" cy="70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656d78"/>
                    </a:solidFill>
                    <a:latin typeface="Source Sans Pro"/>
                  </a:rPr>
                  <a:t>Pictures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65" name="Shape 2563"/>
            <p:cNvSpPr/>
            <p:nvPr/>
          </p:nvSpPr>
          <p:spPr>
            <a:xfrm>
              <a:off x="9168120" y="340452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2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4354" y="17673"/>
                  </a:moveTo>
                  <a:lnTo>
                    <a:pt x="7369" y="13149"/>
                  </a:lnTo>
                  <a:lnTo>
                    <a:pt x="8875" y="15407"/>
                  </a:lnTo>
                  <a:cubicBezTo>
                    <a:pt x="8949" y="15584"/>
                    <a:pt x="9123" y="15709"/>
                    <a:pt x="9327" y="15709"/>
                  </a:cubicBezTo>
                  <a:cubicBezTo>
                    <a:pt x="9463" y="15709"/>
                    <a:pt x="9586" y="15655"/>
                    <a:pt x="9674" y="15565"/>
                  </a:cubicBezTo>
                  <a:lnTo>
                    <a:pt x="11198" y="14042"/>
                  </a:lnTo>
                  <a:lnTo>
                    <a:pt x="13376" y="17673"/>
                  </a:lnTo>
                  <a:cubicBezTo>
                    <a:pt x="13376" y="17673"/>
                    <a:pt x="4354" y="17673"/>
                    <a:pt x="4354" y="17673"/>
                  </a:cubicBezTo>
                  <a:close/>
                  <a:moveTo>
                    <a:pt x="14692" y="17982"/>
                  </a:moveTo>
                  <a:lnTo>
                    <a:pt x="14690" y="17977"/>
                  </a:lnTo>
                  <a:cubicBezTo>
                    <a:pt x="14685" y="17967"/>
                    <a:pt x="14677" y="17959"/>
                    <a:pt x="14673" y="17949"/>
                  </a:cubicBezTo>
                  <a:lnTo>
                    <a:pt x="11747" y="13073"/>
                  </a:lnTo>
                  <a:lnTo>
                    <a:pt x="11745" y="13073"/>
                  </a:lnTo>
                  <a:cubicBezTo>
                    <a:pt x="11673" y="12892"/>
                    <a:pt x="11498" y="12764"/>
                    <a:pt x="11291" y="12764"/>
                  </a:cubicBezTo>
                  <a:cubicBezTo>
                    <a:pt x="11155" y="12764"/>
                    <a:pt x="11033" y="12819"/>
                    <a:pt x="10944" y="12908"/>
                  </a:cubicBezTo>
                  <a:lnTo>
                    <a:pt x="9397" y="14454"/>
                  </a:lnTo>
                  <a:lnTo>
                    <a:pt x="7816" y="12084"/>
                  </a:lnTo>
                  <a:cubicBezTo>
                    <a:pt x="7742" y="11907"/>
                    <a:pt x="7568" y="11782"/>
                    <a:pt x="7364" y="11782"/>
                  </a:cubicBezTo>
                  <a:cubicBezTo>
                    <a:pt x="7193" y="11782"/>
                    <a:pt x="7051" y="11874"/>
                    <a:pt x="6963" y="12006"/>
                  </a:cubicBezTo>
                  <a:lnTo>
                    <a:pt x="6955" y="12000"/>
                  </a:lnTo>
                  <a:lnTo>
                    <a:pt x="3028" y="17891"/>
                  </a:lnTo>
                  <a:lnTo>
                    <a:pt x="3036" y="17897"/>
                  </a:lnTo>
                  <a:cubicBezTo>
                    <a:pt x="2983" y="17974"/>
                    <a:pt x="2945" y="18063"/>
                    <a:pt x="2945" y="18164"/>
                  </a:cubicBezTo>
                  <a:cubicBezTo>
                    <a:pt x="2945" y="18435"/>
                    <a:pt x="3165" y="18655"/>
                    <a:pt x="3436" y="18655"/>
                  </a:cubicBezTo>
                  <a:lnTo>
                    <a:pt x="14236" y="18655"/>
                  </a:lnTo>
                  <a:cubicBezTo>
                    <a:pt x="14508" y="18655"/>
                    <a:pt x="14727" y="18435"/>
                    <a:pt x="14727" y="18164"/>
                  </a:cubicBezTo>
                  <a:cubicBezTo>
                    <a:pt x="14727" y="18099"/>
                    <a:pt x="14713" y="18039"/>
                    <a:pt x="14691" y="17983"/>
                  </a:cubicBezTo>
                  <a:cubicBezTo>
                    <a:pt x="14691" y="17983"/>
                    <a:pt x="14692" y="17982"/>
                    <a:pt x="14692" y="17982"/>
                  </a:cubicBezTo>
                  <a:close/>
                  <a:moveTo>
                    <a:pt x="4909" y="7855"/>
                  </a:moveTo>
                  <a:cubicBezTo>
                    <a:pt x="5451" y="7855"/>
                    <a:pt x="5891" y="8295"/>
                    <a:pt x="5891" y="8836"/>
                  </a:cubicBezTo>
                  <a:cubicBezTo>
                    <a:pt x="5891" y="9379"/>
                    <a:pt x="5451" y="9818"/>
                    <a:pt x="4909" y="9818"/>
                  </a:cubicBezTo>
                  <a:cubicBezTo>
                    <a:pt x="4367" y="9818"/>
                    <a:pt x="3927" y="9379"/>
                    <a:pt x="3927" y="8836"/>
                  </a:cubicBezTo>
                  <a:cubicBezTo>
                    <a:pt x="3927" y="8295"/>
                    <a:pt x="4367" y="7855"/>
                    <a:pt x="4909" y="7855"/>
                  </a:cubicBezTo>
                  <a:moveTo>
                    <a:pt x="4909" y="10800"/>
                  </a:moveTo>
                  <a:cubicBezTo>
                    <a:pt x="5994" y="10800"/>
                    <a:pt x="6873" y="9921"/>
                    <a:pt x="6873" y="8836"/>
                  </a:cubicBezTo>
                  <a:cubicBezTo>
                    <a:pt x="6873" y="7752"/>
                    <a:pt x="5994" y="6873"/>
                    <a:pt x="4909" y="6873"/>
                  </a:cubicBezTo>
                  <a:cubicBezTo>
                    <a:pt x="3825" y="6873"/>
                    <a:pt x="2945" y="7752"/>
                    <a:pt x="2945" y="8836"/>
                  </a:cubicBezTo>
                  <a:cubicBezTo>
                    <a:pt x="2945" y="9921"/>
                    <a:pt x="3825" y="10800"/>
                    <a:pt x="4909" y="10800"/>
                  </a:cubicBezTo>
                  <a:moveTo>
                    <a:pt x="16691" y="19636"/>
                  </a:moveTo>
                  <a:cubicBezTo>
                    <a:pt x="16691" y="20179"/>
                    <a:pt x="16251" y="20619"/>
                    <a:pt x="15709" y="20619"/>
                  </a:cubicBezTo>
                  <a:lnTo>
                    <a:pt x="1964" y="20619"/>
                  </a:lnTo>
                  <a:cubicBezTo>
                    <a:pt x="1422" y="20619"/>
                    <a:pt x="982" y="20179"/>
                    <a:pt x="982" y="19636"/>
                  </a:cubicBez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9636"/>
                    <a:pt x="16691" y="19636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6" name="Group 81"/>
          <p:cNvGrpSpPr/>
          <p:nvPr/>
        </p:nvGrpSpPr>
        <p:grpSpPr>
          <a:xfrm>
            <a:off x="8999640" y="2095560"/>
            <a:ext cx="2952720" cy="706680"/>
            <a:chOff x="8999640" y="2095560"/>
            <a:chExt cx="2952720" cy="706680"/>
          </a:xfrm>
        </p:grpSpPr>
        <p:grpSp>
          <p:nvGrpSpPr>
            <p:cNvPr id="1367" name="Group 82"/>
            <p:cNvGrpSpPr/>
            <p:nvPr/>
          </p:nvGrpSpPr>
          <p:grpSpPr>
            <a:xfrm>
              <a:off x="8999640" y="2095560"/>
              <a:ext cx="2952720" cy="706680"/>
              <a:chOff x="8999640" y="2095560"/>
              <a:chExt cx="2952720" cy="706680"/>
            </a:xfrm>
          </p:grpSpPr>
          <p:sp>
            <p:nvSpPr>
              <p:cNvPr id="1368" name="Rounded Rectangle 84"/>
              <p:cNvSpPr/>
              <p:nvPr/>
            </p:nvSpPr>
            <p:spPr>
              <a:xfrm>
                <a:off x="8999640" y="2145600"/>
                <a:ext cx="616320" cy="617400"/>
              </a:xfrm>
              <a:custGeom>
                <a:avLst/>
                <a:gdLst>
                  <a:gd name="textAreaLeft" fmla="*/ 90000 w 616320"/>
                  <a:gd name="textAreaRight" fmla="*/ 526320 w 616320"/>
                  <a:gd name="textAreaTop" fmla="*/ 90000 h 617400"/>
                  <a:gd name="textAreaBottom" fmla="*/ 527400 h 617400"/>
                </a:gdLst>
                <a:ahLst/>
                <a:rect l="textAreaLeft" t="textAreaTop" r="textAreaRight" b="textAreaBottom"/>
                <a:pathLst>
                  <a:path w="21600" h="21638">
                    <a:moveTo>
                      <a:pt x="10800" y="0"/>
                    </a:moveTo>
                    <a:arcTo wR="10800" hR="10800" stAng="16200000" swAng="-5400000"/>
                    <a:lnTo>
                      <a:pt x="0" y="10838"/>
                    </a:lnTo>
                    <a:arcTo wR="10800" hR="10800" stAng="10800000" swAng="-5400000"/>
                    <a:lnTo>
                      <a:pt x="10800" y="21638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5f6b7c"/>
                  </a:gs>
                  <a:gs pos="100000">
                    <a:srgbClr val="384961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9" name="Rectangle 85"/>
              <p:cNvSpPr/>
              <p:nvPr/>
            </p:nvSpPr>
            <p:spPr>
              <a:xfrm>
                <a:off x="9906480" y="2095560"/>
                <a:ext cx="2045880" cy="70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656d78"/>
                    </a:solidFill>
                    <a:latin typeface="Source Sans Pro"/>
                  </a:rPr>
                  <a:t>Box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70" name="Shape 2570"/>
            <p:cNvSpPr/>
            <p:nvPr/>
          </p:nvSpPr>
          <p:spPr>
            <a:xfrm>
              <a:off x="9168120" y="2307960"/>
              <a:ext cx="279000" cy="273240"/>
            </a:xfrm>
            <a:custGeom>
              <a:avLst/>
              <a:gdLst/>
              <a:ahLst/>
              <a:rect l="l" t="t" r="r" b="b"/>
              <a:pathLst>
                <a:path w="21600" h="21319">
                  <a:moveTo>
                    <a:pt x="7530" y="4197"/>
                  </a:moveTo>
                  <a:lnTo>
                    <a:pt x="6680" y="3701"/>
                  </a:lnTo>
                  <a:lnTo>
                    <a:pt x="6189" y="4560"/>
                  </a:lnTo>
                  <a:lnTo>
                    <a:pt x="7040" y="5056"/>
                  </a:lnTo>
                  <a:cubicBezTo>
                    <a:pt x="7040" y="5056"/>
                    <a:pt x="7530" y="4197"/>
                    <a:pt x="7530" y="4197"/>
                  </a:cubicBezTo>
                  <a:close/>
                  <a:moveTo>
                    <a:pt x="8512" y="2479"/>
                  </a:moveTo>
                  <a:lnTo>
                    <a:pt x="7662" y="1984"/>
                  </a:lnTo>
                  <a:lnTo>
                    <a:pt x="7171" y="2843"/>
                  </a:lnTo>
                  <a:lnTo>
                    <a:pt x="8021" y="3339"/>
                  </a:lnTo>
                  <a:cubicBezTo>
                    <a:pt x="8021" y="3339"/>
                    <a:pt x="8512" y="2479"/>
                    <a:pt x="8512" y="2479"/>
                  </a:cubicBezTo>
                  <a:close/>
                  <a:moveTo>
                    <a:pt x="20618" y="8428"/>
                  </a:moveTo>
                  <a:lnTo>
                    <a:pt x="982" y="8428"/>
                  </a:lnTo>
                  <a:lnTo>
                    <a:pt x="982" y="6445"/>
                  </a:lnTo>
                  <a:lnTo>
                    <a:pt x="20618" y="6445"/>
                  </a:lnTo>
                  <a:cubicBezTo>
                    <a:pt x="20618" y="6445"/>
                    <a:pt x="20618" y="8428"/>
                    <a:pt x="20618" y="8428"/>
                  </a:cubicBezTo>
                  <a:close/>
                  <a:moveTo>
                    <a:pt x="18655" y="20327"/>
                  </a:moveTo>
                  <a:lnTo>
                    <a:pt x="2945" y="20327"/>
                  </a:lnTo>
                  <a:lnTo>
                    <a:pt x="2945" y="9420"/>
                  </a:lnTo>
                  <a:lnTo>
                    <a:pt x="18655" y="9420"/>
                  </a:lnTo>
                  <a:cubicBezTo>
                    <a:pt x="18655" y="9420"/>
                    <a:pt x="18655" y="20327"/>
                    <a:pt x="18655" y="20327"/>
                  </a:cubicBezTo>
                  <a:close/>
                  <a:moveTo>
                    <a:pt x="6811" y="1488"/>
                  </a:moveTo>
                  <a:cubicBezTo>
                    <a:pt x="7083" y="1014"/>
                    <a:pt x="7683" y="851"/>
                    <a:pt x="8153" y="1125"/>
                  </a:cubicBezTo>
                  <a:lnTo>
                    <a:pt x="9854" y="2117"/>
                  </a:lnTo>
                  <a:lnTo>
                    <a:pt x="7946" y="5454"/>
                  </a:lnTo>
                  <a:lnTo>
                    <a:pt x="5759" y="5454"/>
                  </a:lnTo>
                  <a:lnTo>
                    <a:pt x="5698" y="5419"/>
                  </a:lnTo>
                  <a:lnTo>
                    <a:pt x="5678" y="5454"/>
                  </a:lnTo>
                  <a:lnTo>
                    <a:pt x="4545" y="5454"/>
                  </a:lnTo>
                  <a:cubicBezTo>
                    <a:pt x="4545" y="5454"/>
                    <a:pt x="6811" y="1488"/>
                    <a:pt x="6811" y="1488"/>
                  </a:cubicBezTo>
                  <a:close/>
                  <a:moveTo>
                    <a:pt x="15577" y="5454"/>
                  </a:moveTo>
                  <a:lnTo>
                    <a:pt x="9079" y="5454"/>
                  </a:lnTo>
                  <a:lnTo>
                    <a:pt x="10704" y="2612"/>
                  </a:lnTo>
                  <a:cubicBezTo>
                    <a:pt x="10704" y="2612"/>
                    <a:pt x="15577" y="5454"/>
                    <a:pt x="15577" y="5454"/>
                  </a:cubicBezTo>
                  <a:close/>
                  <a:moveTo>
                    <a:pt x="15930" y="2759"/>
                  </a:moveTo>
                  <a:cubicBezTo>
                    <a:pt x="16454" y="2617"/>
                    <a:pt x="16991" y="2931"/>
                    <a:pt x="17132" y="3460"/>
                  </a:cubicBezTo>
                  <a:lnTo>
                    <a:pt x="17661" y="5454"/>
                  </a:lnTo>
                  <a:lnTo>
                    <a:pt x="17540" y="5454"/>
                  </a:lnTo>
                  <a:lnTo>
                    <a:pt x="16279" y="4718"/>
                  </a:lnTo>
                  <a:lnTo>
                    <a:pt x="16438" y="4674"/>
                  </a:lnTo>
                  <a:lnTo>
                    <a:pt x="16184" y="3716"/>
                  </a:lnTo>
                  <a:lnTo>
                    <a:pt x="15236" y="3973"/>
                  </a:lnTo>
                  <a:lnTo>
                    <a:pt x="15279" y="4135"/>
                  </a:lnTo>
                  <a:lnTo>
                    <a:pt x="14076" y="3434"/>
                  </a:lnTo>
                  <a:lnTo>
                    <a:pt x="14033" y="3272"/>
                  </a:lnTo>
                  <a:cubicBezTo>
                    <a:pt x="14033" y="3272"/>
                    <a:pt x="15930" y="2759"/>
                    <a:pt x="15930" y="2759"/>
                  </a:cubicBezTo>
                  <a:close/>
                  <a:moveTo>
                    <a:pt x="20618" y="5454"/>
                  </a:moveTo>
                  <a:lnTo>
                    <a:pt x="18678" y="5454"/>
                  </a:lnTo>
                  <a:lnTo>
                    <a:pt x="18081" y="3203"/>
                  </a:lnTo>
                  <a:cubicBezTo>
                    <a:pt x="17800" y="2145"/>
                    <a:pt x="16724" y="1518"/>
                    <a:pt x="15676" y="1801"/>
                  </a:cubicBezTo>
                  <a:lnTo>
                    <a:pt x="12671" y="2615"/>
                  </a:lnTo>
                  <a:lnTo>
                    <a:pt x="8644" y="266"/>
                  </a:lnTo>
                  <a:cubicBezTo>
                    <a:pt x="7704" y="-281"/>
                    <a:pt x="6504" y="44"/>
                    <a:pt x="5961" y="992"/>
                  </a:cubicBezTo>
                  <a:lnTo>
                    <a:pt x="3410" y="5454"/>
                  </a:lnTo>
                  <a:lnTo>
                    <a:pt x="982" y="5454"/>
                  </a:lnTo>
                  <a:cubicBezTo>
                    <a:pt x="440" y="5454"/>
                    <a:pt x="0" y="5898"/>
                    <a:pt x="0" y="6445"/>
                  </a:cubicBezTo>
                  <a:lnTo>
                    <a:pt x="0" y="8428"/>
                  </a:lnTo>
                  <a:cubicBezTo>
                    <a:pt x="0" y="8977"/>
                    <a:pt x="440" y="9420"/>
                    <a:pt x="982" y="9420"/>
                  </a:cubicBezTo>
                  <a:lnTo>
                    <a:pt x="1964" y="9420"/>
                  </a:lnTo>
                  <a:lnTo>
                    <a:pt x="1964" y="20327"/>
                  </a:lnTo>
                  <a:cubicBezTo>
                    <a:pt x="1964" y="20875"/>
                    <a:pt x="2403" y="21319"/>
                    <a:pt x="2945" y="21319"/>
                  </a:cubicBezTo>
                  <a:lnTo>
                    <a:pt x="18655" y="21319"/>
                  </a:lnTo>
                  <a:cubicBezTo>
                    <a:pt x="19197" y="21319"/>
                    <a:pt x="19636" y="20875"/>
                    <a:pt x="19636" y="20327"/>
                  </a:cubicBezTo>
                  <a:lnTo>
                    <a:pt x="19636" y="9420"/>
                  </a:lnTo>
                  <a:lnTo>
                    <a:pt x="20618" y="9420"/>
                  </a:lnTo>
                  <a:cubicBezTo>
                    <a:pt x="21160" y="9420"/>
                    <a:pt x="21600" y="8977"/>
                    <a:pt x="21600" y="8428"/>
                  </a:cubicBezTo>
                  <a:lnTo>
                    <a:pt x="21600" y="6445"/>
                  </a:lnTo>
                  <a:cubicBezTo>
                    <a:pt x="21600" y="5898"/>
                    <a:pt x="21160" y="5454"/>
                    <a:pt x="20618" y="5454"/>
                  </a:cubicBezTo>
                  <a:moveTo>
                    <a:pt x="7855" y="12395"/>
                  </a:moveTo>
                  <a:lnTo>
                    <a:pt x="13745" y="12395"/>
                  </a:lnTo>
                  <a:lnTo>
                    <a:pt x="13745" y="13386"/>
                  </a:lnTo>
                  <a:lnTo>
                    <a:pt x="7855" y="13386"/>
                  </a:lnTo>
                  <a:cubicBezTo>
                    <a:pt x="7855" y="13386"/>
                    <a:pt x="7855" y="12395"/>
                    <a:pt x="7855" y="12395"/>
                  </a:cubicBezTo>
                  <a:close/>
                  <a:moveTo>
                    <a:pt x="7855" y="14378"/>
                  </a:moveTo>
                  <a:lnTo>
                    <a:pt x="13745" y="14378"/>
                  </a:lnTo>
                  <a:cubicBezTo>
                    <a:pt x="14288" y="14378"/>
                    <a:pt x="14727" y="13934"/>
                    <a:pt x="14727" y="13386"/>
                  </a:cubicBezTo>
                  <a:lnTo>
                    <a:pt x="14727" y="12395"/>
                  </a:lnTo>
                  <a:cubicBezTo>
                    <a:pt x="14727" y="11847"/>
                    <a:pt x="14288" y="11403"/>
                    <a:pt x="13745" y="11403"/>
                  </a:cubicBezTo>
                  <a:lnTo>
                    <a:pt x="7855" y="11403"/>
                  </a:lnTo>
                  <a:cubicBezTo>
                    <a:pt x="7312" y="11403"/>
                    <a:pt x="6873" y="11847"/>
                    <a:pt x="6873" y="12395"/>
                  </a:cubicBezTo>
                  <a:lnTo>
                    <a:pt x="6873" y="13386"/>
                  </a:lnTo>
                  <a:cubicBezTo>
                    <a:pt x="6873" y="13934"/>
                    <a:pt x="7312" y="14378"/>
                    <a:pt x="7855" y="143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1" name="Group 86"/>
          <p:cNvGrpSpPr/>
          <p:nvPr/>
        </p:nvGrpSpPr>
        <p:grpSpPr>
          <a:xfrm>
            <a:off x="5865840" y="3178080"/>
            <a:ext cx="2949480" cy="706680"/>
            <a:chOff x="5865840" y="3178080"/>
            <a:chExt cx="2949480" cy="706680"/>
          </a:xfrm>
        </p:grpSpPr>
        <p:grpSp>
          <p:nvGrpSpPr>
            <p:cNvPr id="1372" name="Group 87"/>
            <p:cNvGrpSpPr/>
            <p:nvPr/>
          </p:nvGrpSpPr>
          <p:grpSpPr>
            <a:xfrm>
              <a:off x="5865840" y="3178080"/>
              <a:ext cx="2949480" cy="706680"/>
              <a:chOff x="5865840" y="3178080"/>
              <a:chExt cx="2949480" cy="706680"/>
            </a:xfrm>
          </p:grpSpPr>
          <p:sp>
            <p:nvSpPr>
              <p:cNvPr id="1373" name="Rounded Rectangle 89"/>
              <p:cNvSpPr/>
              <p:nvPr/>
            </p:nvSpPr>
            <p:spPr>
              <a:xfrm>
                <a:off x="5865840" y="3249360"/>
                <a:ext cx="616680" cy="61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9c80"/>
                  </a:gs>
                  <a:gs pos="100000">
                    <a:srgbClr val="e5754f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4" name="Rectangle 90"/>
              <p:cNvSpPr/>
              <p:nvPr/>
            </p:nvSpPr>
            <p:spPr>
              <a:xfrm>
                <a:off x="6773400" y="3178080"/>
                <a:ext cx="2041920" cy="70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656d78"/>
                    </a:solidFill>
                    <a:latin typeface="Source Sans Pro"/>
                  </a:rPr>
                  <a:t>Settings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75" name="Shape 2590"/>
            <p:cNvSpPr/>
            <p:nvPr/>
          </p:nvSpPr>
          <p:spPr>
            <a:xfrm>
              <a:off x="6034320" y="341784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19636"/>
                  </a:moveTo>
                  <a:cubicBezTo>
                    <a:pt x="20618" y="20178"/>
                    <a:pt x="20178" y="20619"/>
                    <a:pt x="19636" y="20619"/>
                  </a:cubicBezTo>
                  <a:lnTo>
                    <a:pt x="1964" y="20619"/>
                  </a:lnTo>
                  <a:cubicBezTo>
                    <a:pt x="1422" y="20619"/>
                    <a:pt x="982" y="20178"/>
                    <a:pt x="982" y="19636"/>
                  </a:cubicBezTo>
                  <a:lnTo>
                    <a:pt x="982" y="1964"/>
                  </a:lnTo>
                  <a:cubicBezTo>
                    <a:pt x="982" y="1422"/>
                    <a:pt x="1422" y="982"/>
                    <a:pt x="1964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cubicBezTo>
                    <a:pt x="20618" y="1964"/>
                    <a:pt x="20618" y="19636"/>
                    <a:pt x="20618" y="19636"/>
                  </a:cubicBezTo>
                  <a:close/>
                  <a:moveTo>
                    <a:pt x="19636" y="0"/>
                  </a:moveTo>
                  <a:lnTo>
                    <a:pt x="1964" y="0"/>
                  </a:lnTo>
                  <a:cubicBezTo>
                    <a:pt x="879" y="0"/>
                    <a:pt x="0" y="879"/>
                    <a:pt x="0" y="1964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9636" y="21600"/>
                  </a:lnTo>
                  <a:cubicBezTo>
                    <a:pt x="20721" y="21600"/>
                    <a:pt x="21600" y="20721"/>
                    <a:pt x="21600" y="19636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7855" y="6382"/>
                  </a:moveTo>
                  <a:cubicBezTo>
                    <a:pt x="7313" y="6382"/>
                    <a:pt x="6873" y="5943"/>
                    <a:pt x="6873" y="5400"/>
                  </a:cubicBezTo>
                  <a:cubicBezTo>
                    <a:pt x="6873" y="4858"/>
                    <a:pt x="7313" y="4418"/>
                    <a:pt x="7855" y="4418"/>
                  </a:cubicBezTo>
                  <a:cubicBezTo>
                    <a:pt x="8396" y="4418"/>
                    <a:pt x="8836" y="4858"/>
                    <a:pt x="8836" y="5400"/>
                  </a:cubicBezTo>
                  <a:cubicBezTo>
                    <a:pt x="8836" y="5943"/>
                    <a:pt x="8396" y="6382"/>
                    <a:pt x="7855" y="6382"/>
                  </a:cubicBezTo>
                  <a:moveTo>
                    <a:pt x="18164" y="4909"/>
                  </a:moveTo>
                  <a:lnTo>
                    <a:pt x="9749" y="4909"/>
                  </a:lnTo>
                  <a:cubicBezTo>
                    <a:pt x="9530" y="4064"/>
                    <a:pt x="8768" y="3436"/>
                    <a:pt x="7855" y="3436"/>
                  </a:cubicBezTo>
                  <a:cubicBezTo>
                    <a:pt x="6941" y="3436"/>
                    <a:pt x="6180" y="4064"/>
                    <a:pt x="5960" y="4909"/>
                  </a:cubicBezTo>
                  <a:lnTo>
                    <a:pt x="3436" y="4909"/>
                  </a:lnTo>
                  <a:cubicBezTo>
                    <a:pt x="3165" y="4909"/>
                    <a:pt x="2945" y="5129"/>
                    <a:pt x="2945" y="5400"/>
                  </a:cubicBezTo>
                  <a:cubicBezTo>
                    <a:pt x="2945" y="5672"/>
                    <a:pt x="3165" y="5891"/>
                    <a:pt x="3436" y="5891"/>
                  </a:cubicBezTo>
                  <a:lnTo>
                    <a:pt x="5960" y="5891"/>
                  </a:lnTo>
                  <a:cubicBezTo>
                    <a:pt x="6180" y="6737"/>
                    <a:pt x="6941" y="7364"/>
                    <a:pt x="7855" y="7364"/>
                  </a:cubicBezTo>
                  <a:cubicBezTo>
                    <a:pt x="8768" y="7364"/>
                    <a:pt x="9530" y="6737"/>
                    <a:pt x="9749" y="5891"/>
                  </a:cubicBezTo>
                  <a:lnTo>
                    <a:pt x="18164" y="5891"/>
                  </a:lnTo>
                  <a:cubicBezTo>
                    <a:pt x="18435" y="5891"/>
                    <a:pt x="18655" y="5672"/>
                    <a:pt x="18655" y="5400"/>
                  </a:cubicBezTo>
                  <a:cubicBezTo>
                    <a:pt x="18655" y="5129"/>
                    <a:pt x="18435" y="4909"/>
                    <a:pt x="18164" y="4909"/>
                  </a:cubicBezTo>
                  <a:moveTo>
                    <a:pt x="14727" y="11782"/>
                  </a:moveTo>
                  <a:cubicBezTo>
                    <a:pt x="14186" y="11782"/>
                    <a:pt x="13745" y="11342"/>
                    <a:pt x="13745" y="10800"/>
                  </a:cubicBezTo>
                  <a:cubicBezTo>
                    <a:pt x="13745" y="10258"/>
                    <a:pt x="14186" y="9818"/>
                    <a:pt x="14727" y="9818"/>
                  </a:cubicBezTo>
                  <a:cubicBezTo>
                    <a:pt x="15269" y="9818"/>
                    <a:pt x="15709" y="10258"/>
                    <a:pt x="15709" y="10800"/>
                  </a:cubicBezTo>
                  <a:cubicBezTo>
                    <a:pt x="15709" y="11342"/>
                    <a:pt x="15269" y="11782"/>
                    <a:pt x="14727" y="11782"/>
                  </a:cubicBezTo>
                  <a:moveTo>
                    <a:pt x="18164" y="10310"/>
                  </a:moveTo>
                  <a:lnTo>
                    <a:pt x="16621" y="10310"/>
                  </a:lnTo>
                  <a:cubicBezTo>
                    <a:pt x="16402" y="9464"/>
                    <a:pt x="15641" y="8836"/>
                    <a:pt x="14727" y="8836"/>
                  </a:cubicBezTo>
                  <a:cubicBezTo>
                    <a:pt x="13814" y="8836"/>
                    <a:pt x="13052" y="9464"/>
                    <a:pt x="12833" y="10310"/>
                  </a:cubicBezTo>
                  <a:lnTo>
                    <a:pt x="3436" y="10310"/>
                  </a:lnTo>
                  <a:cubicBezTo>
                    <a:pt x="3165" y="10310"/>
                    <a:pt x="2945" y="10529"/>
                    <a:pt x="2945" y="10800"/>
                  </a:cubicBezTo>
                  <a:cubicBezTo>
                    <a:pt x="2945" y="11072"/>
                    <a:pt x="3165" y="11291"/>
                    <a:pt x="3436" y="11291"/>
                  </a:cubicBezTo>
                  <a:lnTo>
                    <a:pt x="12833" y="11291"/>
                  </a:lnTo>
                  <a:cubicBezTo>
                    <a:pt x="13052" y="12137"/>
                    <a:pt x="13814" y="12764"/>
                    <a:pt x="14727" y="12764"/>
                  </a:cubicBezTo>
                  <a:cubicBezTo>
                    <a:pt x="15641" y="12764"/>
                    <a:pt x="16402" y="12137"/>
                    <a:pt x="16621" y="11291"/>
                  </a:cubicBezTo>
                  <a:lnTo>
                    <a:pt x="18164" y="11291"/>
                  </a:lnTo>
                  <a:cubicBezTo>
                    <a:pt x="18435" y="11291"/>
                    <a:pt x="18655" y="11072"/>
                    <a:pt x="18655" y="10800"/>
                  </a:cubicBezTo>
                  <a:cubicBezTo>
                    <a:pt x="18655" y="10529"/>
                    <a:pt x="18435" y="10310"/>
                    <a:pt x="18164" y="10310"/>
                  </a:cubicBezTo>
                  <a:moveTo>
                    <a:pt x="9818" y="17182"/>
                  </a:moveTo>
                  <a:cubicBezTo>
                    <a:pt x="9276" y="17182"/>
                    <a:pt x="8836" y="16743"/>
                    <a:pt x="8836" y="16200"/>
                  </a:cubicBezTo>
                  <a:cubicBezTo>
                    <a:pt x="8836" y="15658"/>
                    <a:pt x="9276" y="15218"/>
                    <a:pt x="9818" y="15218"/>
                  </a:cubicBezTo>
                  <a:cubicBezTo>
                    <a:pt x="10360" y="15218"/>
                    <a:pt x="10800" y="15658"/>
                    <a:pt x="10800" y="16200"/>
                  </a:cubicBezTo>
                  <a:cubicBezTo>
                    <a:pt x="10800" y="16743"/>
                    <a:pt x="10360" y="17182"/>
                    <a:pt x="9818" y="17182"/>
                  </a:cubicBezTo>
                  <a:moveTo>
                    <a:pt x="18164" y="15709"/>
                  </a:moveTo>
                  <a:lnTo>
                    <a:pt x="11712" y="15709"/>
                  </a:lnTo>
                  <a:cubicBezTo>
                    <a:pt x="11493" y="14863"/>
                    <a:pt x="10732" y="14237"/>
                    <a:pt x="9818" y="14237"/>
                  </a:cubicBezTo>
                  <a:cubicBezTo>
                    <a:pt x="8904" y="14237"/>
                    <a:pt x="8143" y="14863"/>
                    <a:pt x="7924" y="15709"/>
                  </a:cubicBezTo>
                  <a:lnTo>
                    <a:pt x="3436" y="15709"/>
                  </a:lnTo>
                  <a:cubicBezTo>
                    <a:pt x="3165" y="15709"/>
                    <a:pt x="2945" y="15929"/>
                    <a:pt x="2945" y="16200"/>
                  </a:cubicBezTo>
                  <a:cubicBezTo>
                    <a:pt x="2945" y="16472"/>
                    <a:pt x="3165" y="16691"/>
                    <a:pt x="3436" y="16691"/>
                  </a:cubicBezTo>
                  <a:lnTo>
                    <a:pt x="7924" y="16691"/>
                  </a:lnTo>
                  <a:cubicBezTo>
                    <a:pt x="8143" y="17537"/>
                    <a:pt x="8904" y="18164"/>
                    <a:pt x="9818" y="18164"/>
                  </a:cubicBezTo>
                  <a:cubicBezTo>
                    <a:pt x="10732" y="18164"/>
                    <a:pt x="11493" y="17537"/>
                    <a:pt x="11712" y="16691"/>
                  </a:cubicBezTo>
                  <a:lnTo>
                    <a:pt x="18164" y="16691"/>
                  </a:lnTo>
                  <a:cubicBezTo>
                    <a:pt x="18435" y="16691"/>
                    <a:pt x="18655" y="16472"/>
                    <a:pt x="18655" y="16200"/>
                  </a:cubicBezTo>
                  <a:cubicBezTo>
                    <a:pt x="18655" y="15929"/>
                    <a:pt x="18435" y="15709"/>
                    <a:pt x="18164" y="1570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6" name="Group 91"/>
          <p:cNvGrpSpPr/>
          <p:nvPr/>
        </p:nvGrpSpPr>
        <p:grpSpPr>
          <a:xfrm>
            <a:off x="8999640" y="4397400"/>
            <a:ext cx="2952720" cy="706680"/>
            <a:chOff x="8999640" y="4397400"/>
            <a:chExt cx="2952720" cy="706680"/>
          </a:xfrm>
        </p:grpSpPr>
        <p:grpSp>
          <p:nvGrpSpPr>
            <p:cNvPr id="1377" name="Group 92"/>
            <p:cNvGrpSpPr/>
            <p:nvPr/>
          </p:nvGrpSpPr>
          <p:grpSpPr>
            <a:xfrm>
              <a:off x="8999640" y="4397400"/>
              <a:ext cx="2952720" cy="706680"/>
              <a:chOff x="8999640" y="4397400"/>
              <a:chExt cx="2952720" cy="706680"/>
            </a:xfrm>
          </p:grpSpPr>
          <p:sp>
            <p:nvSpPr>
              <p:cNvPr id="1378" name="Rounded Rectangle 94"/>
              <p:cNvSpPr/>
              <p:nvPr/>
            </p:nvSpPr>
            <p:spPr>
              <a:xfrm>
                <a:off x="8999640" y="4447080"/>
                <a:ext cx="616320" cy="61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9c80"/>
                  </a:gs>
                  <a:gs pos="100000">
                    <a:srgbClr val="e5754f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9" name="Rectangle 95"/>
              <p:cNvSpPr/>
              <p:nvPr/>
            </p:nvSpPr>
            <p:spPr>
              <a:xfrm>
                <a:off x="9906480" y="4397400"/>
                <a:ext cx="2045880" cy="70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656d78"/>
                    </a:solidFill>
                    <a:latin typeface="Source Sans Pro"/>
                  </a:rPr>
                  <a:t>Briefcase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0" name="Shape 2603"/>
            <p:cNvSpPr/>
            <p:nvPr/>
          </p:nvSpPr>
          <p:spPr>
            <a:xfrm>
              <a:off x="9168120" y="4640760"/>
              <a:ext cx="27900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691" y="20520"/>
                  </a:moveTo>
                  <a:lnTo>
                    <a:pt x="14727" y="20520"/>
                  </a:lnTo>
                  <a:lnTo>
                    <a:pt x="14727" y="18360"/>
                  </a:lnTo>
                  <a:cubicBezTo>
                    <a:pt x="14999" y="18360"/>
                    <a:pt x="15218" y="18119"/>
                    <a:pt x="15218" y="17820"/>
                  </a:cubicBezTo>
                  <a:cubicBezTo>
                    <a:pt x="15218" y="17522"/>
                    <a:pt x="14999" y="17280"/>
                    <a:pt x="14727" y="17280"/>
                  </a:cubicBezTo>
                  <a:lnTo>
                    <a:pt x="14727" y="7560"/>
                  </a:lnTo>
                  <a:lnTo>
                    <a:pt x="16691" y="7560"/>
                  </a:lnTo>
                  <a:cubicBezTo>
                    <a:pt x="16691" y="7560"/>
                    <a:pt x="16691" y="20520"/>
                    <a:pt x="16691" y="20520"/>
                  </a:cubicBezTo>
                  <a:close/>
                  <a:moveTo>
                    <a:pt x="13745" y="17280"/>
                  </a:moveTo>
                  <a:cubicBezTo>
                    <a:pt x="13474" y="17280"/>
                    <a:pt x="13255" y="17522"/>
                    <a:pt x="13255" y="17820"/>
                  </a:cubicBezTo>
                  <a:cubicBezTo>
                    <a:pt x="13255" y="18119"/>
                    <a:pt x="13474" y="18360"/>
                    <a:pt x="13745" y="18360"/>
                  </a:cubicBezTo>
                  <a:lnTo>
                    <a:pt x="13745" y="20520"/>
                  </a:lnTo>
                  <a:lnTo>
                    <a:pt x="3927" y="20520"/>
                  </a:lnTo>
                  <a:lnTo>
                    <a:pt x="3927" y="18360"/>
                  </a:lnTo>
                  <a:cubicBezTo>
                    <a:pt x="4199" y="18360"/>
                    <a:pt x="4418" y="18119"/>
                    <a:pt x="4418" y="17820"/>
                  </a:cubicBezTo>
                  <a:cubicBezTo>
                    <a:pt x="4418" y="17522"/>
                    <a:pt x="4199" y="17280"/>
                    <a:pt x="3927" y="17280"/>
                  </a:cubicBezTo>
                  <a:lnTo>
                    <a:pt x="3927" y="7560"/>
                  </a:lnTo>
                  <a:lnTo>
                    <a:pt x="13745" y="7560"/>
                  </a:lnTo>
                  <a:cubicBezTo>
                    <a:pt x="13745" y="7560"/>
                    <a:pt x="13745" y="17280"/>
                    <a:pt x="13745" y="17280"/>
                  </a:cubicBezTo>
                  <a:close/>
                  <a:moveTo>
                    <a:pt x="2945" y="17280"/>
                  </a:moveTo>
                  <a:cubicBezTo>
                    <a:pt x="2674" y="17280"/>
                    <a:pt x="2455" y="17522"/>
                    <a:pt x="2455" y="17820"/>
                  </a:cubicBezTo>
                  <a:cubicBezTo>
                    <a:pt x="2455" y="18119"/>
                    <a:pt x="2674" y="18360"/>
                    <a:pt x="2945" y="18360"/>
                  </a:cubicBezTo>
                  <a:lnTo>
                    <a:pt x="2945" y="20520"/>
                  </a:lnTo>
                  <a:lnTo>
                    <a:pt x="982" y="20520"/>
                  </a:lnTo>
                  <a:lnTo>
                    <a:pt x="982" y="7560"/>
                  </a:lnTo>
                  <a:lnTo>
                    <a:pt x="2945" y="7560"/>
                  </a:lnTo>
                  <a:cubicBezTo>
                    <a:pt x="2945" y="7560"/>
                    <a:pt x="2945" y="17280"/>
                    <a:pt x="2945" y="17280"/>
                  </a:cubicBezTo>
                  <a:close/>
                  <a:moveTo>
                    <a:pt x="7855" y="5400"/>
                  </a:moveTo>
                  <a:lnTo>
                    <a:pt x="9818" y="5400"/>
                  </a:lnTo>
                  <a:cubicBezTo>
                    <a:pt x="10360" y="5400"/>
                    <a:pt x="10800" y="5884"/>
                    <a:pt x="10800" y="6481"/>
                  </a:cubicBezTo>
                  <a:lnTo>
                    <a:pt x="6873" y="6481"/>
                  </a:lnTo>
                  <a:cubicBezTo>
                    <a:pt x="6873" y="5884"/>
                    <a:pt x="7313" y="5400"/>
                    <a:pt x="7855" y="5400"/>
                  </a:cubicBezTo>
                  <a:moveTo>
                    <a:pt x="16691" y="6481"/>
                  </a:moveTo>
                  <a:lnTo>
                    <a:pt x="11782" y="6481"/>
                  </a:lnTo>
                  <a:cubicBezTo>
                    <a:pt x="11782" y="5287"/>
                    <a:pt x="10903" y="4321"/>
                    <a:pt x="9818" y="4321"/>
                  </a:cubicBezTo>
                  <a:lnTo>
                    <a:pt x="7855" y="4321"/>
                  </a:lnTo>
                  <a:cubicBezTo>
                    <a:pt x="6770" y="4321"/>
                    <a:pt x="5891" y="5287"/>
                    <a:pt x="5891" y="6481"/>
                  </a:cubicBezTo>
                  <a:lnTo>
                    <a:pt x="982" y="6481"/>
                  </a:lnTo>
                  <a:cubicBezTo>
                    <a:pt x="440" y="6481"/>
                    <a:pt x="0" y="6964"/>
                    <a:pt x="0" y="7560"/>
                  </a:cubicBezTo>
                  <a:lnTo>
                    <a:pt x="0" y="20520"/>
                  </a:lnTo>
                  <a:cubicBezTo>
                    <a:pt x="0" y="21116"/>
                    <a:pt x="440" y="21600"/>
                    <a:pt x="982" y="21600"/>
                  </a:cubicBezTo>
                  <a:lnTo>
                    <a:pt x="16691" y="21600"/>
                  </a:lnTo>
                  <a:cubicBezTo>
                    <a:pt x="17233" y="21600"/>
                    <a:pt x="17673" y="21116"/>
                    <a:pt x="17673" y="20520"/>
                  </a:cubicBezTo>
                  <a:lnTo>
                    <a:pt x="17673" y="7560"/>
                  </a:lnTo>
                  <a:cubicBezTo>
                    <a:pt x="17673" y="6964"/>
                    <a:pt x="17233" y="6481"/>
                    <a:pt x="16691" y="6481"/>
                  </a:cubicBezTo>
                  <a:moveTo>
                    <a:pt x="10800" y="2161"/>
                  </a:moveTo>
                  <a:cubicBezTo>
                    <a:pt x="10800" y="1564"/>
                    <a:pt x="11240" y="1080"/>
                    <a:pt x="11782" y="1080"/>
                  </a:cubicBezTo>
                  <a:lnTo>
                    <a:pt x="13745" y="1080"/>
                  </a:lnTo>
                  <a:cubicBezTo>
                    <a:pt x="14287" y="1080"/>
                    <a:pt x="14727" y="1564"/>
                    <a:pt x="14727" y="2161"/>
                  </a:cubicBezTo>
                  <a:cubicBezTo>
                    <a:pt x="14727" y="2161"/>
                    <a:pt x="10800" y="2161"/>
                    <a:pt x="10800" y="2161"/>
                  </a:cubicBezTo>
                  <a:close/>
                  <a:moveTo>
                    <a:pt x="20618" y="2161"/>
                  </a:moveTo>
                  <a:lnTo>
                    <a:pt x="15709" y="2161"/>
                  </a:lnTo>
                  <a:cubicBezTo>
                    <a:pt x="15709" y="967"/>
                    <a:pt x="14830" y="0"/>
                    <a:pt x="13745" y="0"/>
                  </a:cubicBezTo>
                  <a:lnTo>
                    <a:pt x="11782" y="0"/>
                  </a:lnTo>
                  <a:cubicBezTo>
                    <a:pt x="10697" y="0"/>
                    <a:pt x="9818" y="967"/>
                    <a:pt x="9818" y="2161"/>
                  </a:cubicBezTo>
                  <a:lnTo>
                    <a:pt x="4909" y="2161"/>
                  </a:lnTo>
                  <a:cubicBezTo>
                    <a:pt x="4367" y="2161"/>
                    <a:pt x="3927" y="2644"/>
                    <a:pt x="3927" y="3240"/>
                  </a:cubicBezTo>
                  <a:lnTo>
                    <a:pt x="3927" y="4860"/>
                  </a:lnTo>
                  <a:cubicBezTo>
                    <a:pt x="3927" y="5159"/>
                    <a:pt x="4147" y="5400"/>
                    <a:pt x="4418" y="5400"/>
                  </a:cubicBezTo>
                  <a:cubicBezTo>
                    <a:pt x="4690" y="5400"/>
                    <a:pt x="4909" y="5159"/>
                    <a:pt x="4909" y="4860"/>
                  </a:cubicBezTo>
                  <a:lnTo>
                    <a:pt x="4909" y="3240"/>
                  </a:lnTo>
                  <a:lnTo>
                    <a:pt x="20618" y="3240"/>
                  </a:lnTo>
                  <a:lnTo>
                    <a:pt x="20618" y="16201"/>
                  </a:lnTo>
                  <a:lnTo>
                    <a:pt x="19145" y="16201"/>
                  </a:lnTo>
                  <a:cubicBezTo>
                    <a:pt x="18874" y="16201"/>
                    <a:pt x="18655" y="16442"/>
                    <a:pt x="18655" y="16740"/>
                  </a:cubicBezTo>
                  <a:cubicBezTo>
                    <a:pt x="18655" y="17039"/>
                    <a:pt x="18874" y="17280"/>
                    <a:pt x="19145" y="17280"/>
                  </a:cubicBezTo>
                  <a:lnTo>
                    <a:pt x="20618" y="17280"/>
                  </a:lnTo>
                  <a:cubicBezTo>
                    <a:pt x="21160" y="17280"/>
                    <a:pt x="21600" y="16796"/>
                    <a:pt x="21600" y="16201"/>
                  </a:cubicBezTo>
                  <a:lnTo>
                    <a:pt x="21600" y="3240"/>
                  </a:lnTo>
                  <a:cubicBezTo>
                    <a:pt x="21600" y="2644"/>
                    <a:pt x="21160" y="2161"/>
                    <a:pt x="20618" y="2161"/>
                  </a:cubicBezTo>
                  <a:moveTo>
                    <a:pt x="5400" y="11881"/>
                  </a:moveTo>
                  <a:lnTo>
                    <a:pt x="6382" y="11881"/>
                  </a:lnTo>
                  <a:cubicBezTo>
                    <a:pt x="6653" y="11881"/>
                    <a:pt x="6873" y="11639"/>
                    <a:pt x="6873" y="11341"/>
                  </a:cubicBezTo>
                  <a:cubicBezTo>
                    <a:pt x="6873" y="11042"/>
                    <a:pt x="6653" y="10800"/>
                    <a:pt x="6382" y="10800"/>
                  </a:cubicBezTo>
                  <a:lnTo>
                    <a:pt x="5400" y="10800"/>
                  </a:lnTo>
                  <a:cubicBezTo>
                    <a:pt x="5129" y="10800"/>
                    <a:pt x="4909" y="11042"/>
                    <a:pt x="4909" y="11341"/>
                  </a:cubicBezTo>
                  <a:cubicBezTo>
                    <a:pt x="4909" y="11639"/>
                    <a:pt x="5129" y="11881"/>
                    <a:pt x="5400" y="11881"/>
                  </a:cubicBezTo>
                  <a:moveTo>
                    <a:pt x="5400" y="9720"/>
                  </a:moveTo>
                  <a:lnTo>
                    <a:pt x="8345" y="9720"/>
                  </a:lnTo>
                  <a:cubicBezTo>
                    <a:pt x="8617" y="9720"/>
                    <a:pt x="8836" y="9479"/>
                    <a:pt x="8836" y="9181"/>
                  </a:cubicBezTo>
                  <a:cubicBezTo>
                    <a:pt x="8836" y="8882"/>
                    <a:pt x="8617" y="8640"/>
                    <a:pt x="8345" y="8640"/>
                  </a:cubicBezTo>
                  <a:lnTo>
                    <a:pt x="5400" y="8640"/>
                  </a:lnTo>
                  <a:cubicBezTo>
                    <a:pt x="5129" y="8640"/>
                    <a:pt x="4909" y="8882"/>
                    <a:pt x="4909" y="9181"/>
                  </a:cubicBezTo>
                  <a:cubicBezTo>
                    <a:pt x="4909" y="9479"/>
                    <a:pt x="5129" y="9720"/>
                    <a:pt x="5400" y="97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1" name="Group 96"/>
          <p:cNvGrpSpPr/>
          <p:nvPr/>
        </p:nvGrpSpPr>
        <p:grpSpPr>
          <a:xfrm>
            <a:off x="5865840" y="2095560"/>
            <a:ext cx="2949480" cy="706680"/>
            <a:chOff x="5865840" y="2095560"/>
            <a:chExt cx="2949480" cy="706680"/>
          </a:xfrm>
        </p:grpSpPr>
        <p:grpSp>
          <p:nvGrpSpPr>
            <p:cNvPr id="1382" name="Group 97"/>
            <p:cNvGrpSpPr/>
            <p:nvPr/>
          </p:nvGrpSpPr>
          <p:grpSpPr>
            <a:xfrm>
              <a:off x="5865840" y="2095560"/>
              <a:ext cx="2949480" cy="706680"/>
              <a:chOff x="5865840" y="2095560"/>
              <a:chExt cx="2949480" cy="706680"/>
            </a:xfrm>
          </p:grpSpPr>
          <p:sp>
            <p:nvSpPr>
              <p:cNvPr id="1383" name="Rounded Rectangle 99"/>
              <p:cNvSpPr/>
              <p:nvPr/>
            </p:nvSpPr>
            <p:spPr>
              <a:xfrm>
                <a:off x="5865840" y="2153520"/>
                <a:ext cx="616680" cy="617400"/>
              </a:xfrm>
              <a:custGeom>
                <a:avLst/>
                <a:gdLst>
                  <a:gd name="textAreaLeft" fmla="*/ 90360 w 616680"/>
                  <a:gd name="textAreaRight" fmla="*/ 526320 w 616680"/>
                  <a:gd name="textAreaTop" fmla="*/ 90360 h 617400"/>
                  <a:gd name="textAreaBottom" fmla="*/ 527040 h 617400"/>
                </a:gdLst>
                <a:ahLst/>
                <a:rect l="textAreaLeft" t="textAreaTop" r="textAreaRight" b="textAreaBottom"/>
                <a:pathLst>
                  <a:path w="21600" h="21625">
                    <a:moveTo>
                      <a:pt x="10800" y="0"/>
                    </a:moveTo>
                    <a:arcTo wR="10800" hR="10800" stAng="16200000" swAng="-5400000"/>
                    <a:lnTo>
                      <a:pt x="0" y="10825"/>
                    </a:lnTo>
                    <a:arcTo wR="10800" hR="10800" stAng="10800000" swAng="-5400000"/>
                    <a:lnTo>
                      <a:pt x="10800" y="21625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57050"/>
                  </a:gs>
                  <a:gs pos="100000">
                    <a:srgbClr val="e5450b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4" name="Rectangle 100"/>
              <p:cNvSpPr/>
              <p:nvPr/>
            </p:nvSpPr>
            <p:spPr>
              <a:xfrm>
                <a:off x="6773400" y="2095560"/>
                <a:ext cx="2041920" cy="70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656d78"/>
                    </a:solidFill>
                    <a:latin typeface="Source Sans Pro"/>
                  </a:rPr>
                  <a:t>Gift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5" name="Shape 2620"/>
            <p:cNvSpPr/>
            <p:nvPr/>
          </p:nvSpPr>
          <p:spPr>
            <a:xfrm>
              <a:off x="6034320" y="2327040"/>
              <a:ext cx="279360" cy="254160"/>
            </a:xfrm>
            <a:custGeom>
              <a:avLst/>
              <a:gdLst/>
              <a:ahLst/>
              <a:rect l="l" t="t" r="r" b="b"/>
              <a:pathLst>
                <a:path w="21600" h="21144">
                  <a:moveTo>
                    <a:pt x="20618" y="7406"/>
                  </a:moveTo>
                  <a:lnTo>
                    <a:pt x="13580" y="7406"/>
                  </a:lnTo>
                  <a:cubicBezTo>
                    <a:pt x="13156" y="6803"/>
                    <a:pt x="12718" y="6095"/>
                    <a:pt x="12319" y="5293"/>
                  </a:cubicBezTo>
                  <a:lnTo>
                    <a:pt x="20618" y="5293"/>
                  </a:lnTo>
                  <a:cubicBezTo>
                    <a:pt x="20618" y="5293"/>
                    <a:pt x="20618" y="7406"/>
                    <a:pt x="20618" y="7406"/>
                  </a:cubicBezTo>
                  <a:close/>
                  <a:moveTo>
                    <a:pt x="19636" y="13747"/>
                  </a:moveTo>
                  <a:lnTo>
                    <a:pt x="11291" y="13747"/>
                  </a:lnTo>
                  <a:lnTo>
                    <a:pt x="11291" y="8463"/>
                  </a:lnTo>
                  <a:lnTo>
                    <a:pt x="13090" y="8463"/>
                  </a:lnTo>
                  <a:cubicBezTo>
                    <a:pt x="14022" y="9712"/>
                    <a:pt x="14815" y="10437"/>
                    <a:pt x="14882" y="10497"/>
                  </a:cubicBezTo>
                  <a:cubicBezTo>
                    <a:pt x="15009" y="10610"/>
                    <a:pt x="15174" y="10644"/>
                    <a:pt x="15323" y="10601"/>
                  </a:cubicBezTo>
                  <a:cubicBezTo>
                    <a:pt x="15418" y="10574"/>
                    <a:pt x="15505" y="10516"/>
                    <a:pt x="15573" y="10429"/>
                  </a:cubicBezTo>
                  <a:cubicBezTo>
                    <a:pt x="15746" y="10205"/>
                    <a:pt x="15718" y="9871"/>
                    <a:pt x="15510" y="9684"/>
                  </a:cubicBezTo>
                  <a:cubicBezTo>
                    <a:pt x="15498" y="9674"/>
                    <a:pt x="15023" y="9238"/>
                    <a:pt x="14383" y="8463"/>
                  </a:cubicBezTo>
                  <a:lnTo>
                    <a:pt x="19636" y="8463"/>
                  </a:lnTo>
                  <a:cubicBezTo>
                    <a:pt x="19636" y="8463"/>
                    <a:pt x="19636" y="13747"/>
                    <a:pt x="19636" y="13747"/>
                  </a:cubicBezTo>
                  <a:close/>
                  <a:moveTo>
                    <a:pt x="19636" y="20087"/>
                  </a:moveTo>
                  <a:lnTo>
                    <a:pt x="11291" y="20087"/>
                  </a:lnTo>
                  <a:lnTo>
                    <a:pt x="11291" y="14803"/>
                  </a:lnTo>
                  <a:lnTo>
                    <a:pt x="19636" y="14803"/>
                  </a:lnTo>
                  <a:cubicBezTo>
                    <a:pt x="19636" y="14803"/>
                    <a:pt x="19636" y="20087"/>
                    <a:pt x="19636" y="20087"/>
                  </a:cubicBezTo>
                  <a:close/>
                  <a:moveTo>
                    <a:pt x="11291" y="5461"/>
                  </a:moveTo>
                  <a:cubicBezTo>
                    <a:pt x="11626" y="6178"/>
                    <a:pt x="11991" y="6828"/>
                    <a:pt x="12360" y="7406"/>
                  </a:cubicBezTo>
                  <a:lnTo>
                    <a:pt x="11291" y="7406"/>
                  </a:lnTo>
                  <a:cubicBezTo>
                    <a:pt x="11291" y="7406"/>
                    <a:pt x="11291" y="5461"/>
                    <a:pt x="11291" y="5461"/>
                  </a:cubicBezTo>
                  <a:close/>
                  <a:moveTo>
                    <a:pt x="12871" y="1481"/>
                  </a:moveTo>
                  <a:cubicBezTo>
                    <a:pt x="14045" y="751"/>
                    <a:pt x="15436" y="979"/>
                    <a:pt x="15979" y="1990"/>
                  </a:cubicBezTo>
                  <a:cubicBezTo>
                    <a:pt x="16343" y="2668"/>
                    <a:pt x="16223" y="3523"/>
                    <a:pt x="15755" y="4236"/>
                  </a:cubicBezTo>
                  <a:lnTo>
                    <a:pt x="11845" y="4236"/>
                  </a:lnTo>
                  <a:cubicBezTo>
                    <a:pt x="11740" y="3975"/>
                    <a:pt x="11641" y="3708"/>
                    <a:pt x="11550" y="3432"/>
                  </a:cubicBezTo>
                  <a:cubicBezTo>
                    <a:pt x="11653" y="2691"/>
                    <a:pt x="12120" y="1947"/>
                    <a:pt x="12871" y="1481"/>
                  </a:cubicBezTo>
                  <a:moveTo>
                    <a:pt x="10309" y="7406"/>
                  </a:moveTo>
                  <a:lnTo>
                    <a:pt x="9224" y="7406"/>
                  </a:lnTo>
                  <a:cubicBezTo>
                    <a:pt x="9600" y="6819"/>
                    <a:pt x="9970" y="6158"/>
                    <a:pt x="10309" y="5429"/>
                  </a:cubicBezTo>
                  <a:cubicBezTo>
                    <a:pt x="10309" y="5429"/>
                    <a:pt x="10309" y="7406"/>
                    <a:pt x="10309" y="7406"/>
                  </a:cubicBezTo>
                  <a:close/>
                  <a:moveTo>
                    <a:pt x="10309" y="13747"/>
                  </a:moveTo>
                  <a:lnTo>
                    <a:pt x="1964" y="13747"/>
                  </a:lnTo>
                  <a:lnTo>
                    <a:pt x="1964" y="8463"/>
                  </a:lnTo>
                  <a:lnTo>
                    <a:pt x="7202" y="8463"/>
                  </a:lnTo>
                  <a:cubicBezTo>
                    <a:pt x="6563" y="9238"/>
                    <a:pt x="6087" y="9674"/>
                    <a:pt x="6075" y="9684"/>
                  </a:cubicBezTo>
                  <a:cubicBezTo>
                    <a:pt x="5867" y="9871"/>
                    <a:pt x="5839" y="10205"/>
                    <a:pt x="6012" y="10429"/>
                  </a:cubicBezTo>
                  <a:cubicBezTo>
                    <a:pt x="6080" y="10516"/>
                    <a:pt x="6167" y="10574"/>
                    <a:pt x="6261" y="10601"/>
                  </a:cubicBezTo>
                  <a:cubicBezTo>
                    <a:pt x="6411" y="10644"/>
                    <a:pt x="6575" y="10610"/>
                    <a:pt x="6703" y="10497"/>
                  </a:cubicBezTo>
                  <a:cubicBezTo>
                    <a:pt x="6770" y="10437"/>
                    <a:pt x="7563" y="9712"/>
                    <a:pt x="8495" y="8463"/>
                  </a:cubicBezTo>
                  <a:lnTo>
                    <a:pt x="10309" y="8463"/>
                  </a:lnTo>
                  <a:cubicBezTo>
                    <a:pt x="10309" y="8463"/>
                    <a:pt x="10309" y="13747"/>
                    <a:pt x="10309" y="13747"/>
                  </a:cubicBezTo>
                  <a:close/>
                  <a:moveTo>
                    <a:pt x="10309" y="20087"/>
                  </a:moveTo>
                  <a:lnTo>
                    <a:pt x="1964" y="20087"/>
                  </a:lnTo>
                  <a:lnTo>
                    <a:pt x="1964" y="14803"/>
                  </a:lnTo>
                  <a:lnTo>
                    <a:pt x="10309" y="14803"/>
                  </a:lnTo>
                  <a:cubicBezTo>
                    <a:pt x="10309" y="14803"/>
                    <a:pt x="10309" y="20087"/>
                    <a:pt x="10309" y="20087"/>
                  </a:cubicBezTo>
                  <a:close/>
                  <a:moveTo>
                    <a:pt x="982" y="7406"/>
                  </a:moveTo>
                  <a:lnTo>
                    <a:pt x="982" y="5293"/>
                  </a:lnTo>
                  <a:lnTo>
                    <a:pt x="9266" y="5293"/>
                  </a:lnTo>
                  <a:cubicBezTo>
                    <a:pt x="8867" y="6095"/>
                    <a:pt x="8429" y="6803"/>
                    <a:pt x="8005" y="7406"/>
                  </a:cubicBezTo>
                  <a:cubicBezTo>
                    <a:pt x="8005" y="7406"/>
                    <a:pt x="982" y="7406"/>
                    <a:pt x="982" y="7406"/>
                  </a:cubicBezTo>
                  <a:close/>
                  <a:moveTo>
                    <a:pt x="5606" y="1990"/>
                  </a:moveTo>
                  <a:cubicBezTo>
                    <a:pt x="6148" y="980"/>
                    <a:pt x="7540" y="751"/>
                    <a:pt x="8714" y="1481"/>
                  </a:cubicBezTo>
                  <a:cubicBezTo>
                    <a:pt x="9465" y="1948"/>
                    <a:pt x="9931" y="2692"/>
                    <a:pt x="10035" y="3433"/>
                  </a:cubicBezTo>
                  <a:cubicBezTo>
                    <a:pt x="9944" y="3708"/>
                    <a:pt x="9845" y="3975"/>
                    <a:pt x="9740" y="4236"/>
                  </a:cubicBezTo>
                  <a:lnTo>
                    <a:pt x="5830" y="4236"/>
                  </a:lnTo>
                  <a:cubicBezTo>
                    <a:pt x="5362" y="3523"/>
                    <a:pt x="5242" y="2668"/>
                    <a:pt x="5606" y="1990"/>
                  </a:cubicBezTo>
                  <a:moveTo>
                    <a:pt x="20618" y="4236"/>
                  </a:moveTo>
                  <a:lnTo>
                    <a:pt x="16874" y="4236"/>
                  </a:lnTo>
                  <a:cubicBezTo>
                    <a:pt x="17259" y="3325"/>
                    <a:pt x="17284" y="2310"/>
                    <a:pt x="16829" y="1461"/>
                  </a:cubicBezTo>
                  <a:cubicBezTo>
                    <a:pt x="16015" y="-54"/>
                    <a:pt x="14024" y="-456"/>
                    <a:pt x="12380" y="565"/>
                  </a:cubicBezTo>
                  <a:cubicBezTo>
                    <a:pt x="11747" y="959"/>
                    <a:pt x="11277" y="1511"/>
                    <a:pt x="10965" y="2122"/>
                  </a:cubicBezTo>
                  <a:cubicBezTo>
                    <a:pt x="10949" y="2115"/>
                    <a:pt x="10937" y="2103"/>
                    <a:pt x="10920" y="2098"/>
                  </a:cubicBezTo>
                  <a:cubicBezTo>
                    <a:pt x="10909" y="2095"/>
                    <a:pt x="10899" y="2097"/>
                    <a:pt x="10888" y="2095"/>
                  </a:cubicBezTo>
                  <a:cubicBezTo>
                    <a:pt x="10861" y="2089"/>
                    <a:pt x="10834" y="2089"/>
                    <a:pt x="10806" y="2088"/>
                  </a:cubicBezTo>
                  <a:cubicBezTo>
                    <a:pt x="10782" y="2089"/>
                    <a:pt x="10759" y="2089"/>
                    <a:pt x="10735" y="2093"/>
                  </a:cubicBezTo>
                  <a:cubicBezTo>
                    <a:pt x="10712" y="2096"/>
                    <a:pt x="10689" y="2090"/>
                    <a:pt x="10665" y="2098"/>
                  </a:cubicBezTo>
                  <a:cubicBezTo>
                    <a:pt x="10648" y="2103"/>
                    <a:pt x="10636" y="2115"/>
                    <a:pt x="10620" y="2122"/>
                  </a:cubicBezTo>
                  <a:cubicBezTo>
                    <a:pt x="10307" y="1511"/>
                    <a:pt x="9837" y="959"/>
                    <a:pt x="9205" y="566"/>
                  </a:cubicBezTo>
                  <a:cubicBezTo>
                    <a:pt x="7561" y="-456"/>
                    <a:pt x="5569" y="-54"/>
                    <a:pt x="4755" y="1461"/>
                  </a:cubicBezTo>
                  <a:cubicBezTo>
                    <a:pt x="4301" y="2310"/>
                    <a:pt x="4325" y="3325"/>
                    <a:pt x="4711" y="4236"/>
                  </a:cubicBezTo>
                  <a:lnTo>
                    <a:pt x="982" y="4236"/>
                  </a:lnTo>
                  <a:cubicBezTo>
                    <a:pt x="440" y="4236"/>
                    <a:pt x="0" y="4709"/>
                    <a:pt x="0" y="5293"/>
                  </a:cubicBezTo>
                  <a:lnTo>
                    <a:pt x="0" y="7406"/>
                  </a:lnTo>
                  <a:cubicBezTo>
                    <a:pt x="0" y="7990"/>
                    <a:pt x="440" y="8463"/>
                    <a:pt x="982" y="8463"/>
                  </a:cubicBezTo>
                  <a:lnTo>
                    <a:pt x="982" y="20087"/>
                  </a:lnTo>
                  <a:cubicBezTo>
                    <a:pt x="982" y="20671"/>
                    <a:pt x="1422" y="21144"/>
                    <a:pt x="1964" y="21144"/>
                  </a:cubicBezTo>
                  <a:lnTo>
                    <a:pt x="19636" y="21144"/>
                  </a:lnTo>
                  <a:cubicBezTo>
                    <a:pt x="20178" y="21144"/>
                    <a:pt x="20618" y="20671"/>
                    <a:pt x="20618" y="20087"/>
                  </a:cubicBezTo>
                  <a:lnTo>
                    <a:pt x="20618" y="8463"/>
                  </a:lnTo>
                  <a:cubicBezTo>
                    <a:pt x="21160" y="8463"/>
                    <a:pt x="21600" y="7990"/>
                    <a:pt x="21600" y="7406"/>
                  </a:cubicBezTo>
                  <a:lnTo>
                    <a:pt x="21600" y="5293"/>
                  </a:lnTo>
                  <a:cubicBezTo>
                    <a:pt x="21600" y="4709"/>
                    <a:pt x="21160" y="4236"/>
                    <a:pt x="20618" y="42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6" name="Group 101"/>
          <p:cNvGrpSpPr/>
          <p:nvPr/>
        </p:nvGrpSpPr>
        <p:grpSpPr>
          <a:xfrm>
            <a:off x="5865840" y="4397400"/>
            <a:ext cx="2949480" cy="706680"/>
            <a:chOff x="5865840" y="4397400"/>
            <a:chExt cx="2949480" cy="706680"/>
          </a:xfrm>
        </p:grpSpPr>
        <p:grpSp>
          <p:nvGrpSpPr>
            <p:cNvPr id="1387" name="Group 102"/>
            <p:cNvGrpSpPr/>
            <p:nvPr/>
          </p:nvGrpSpPr>
          <p:grpSpPr>
            <a:xfrm>
              <a:off x="5865840" y="4397400"/>
              <a:ext cx="2949480" cy="706680"/>
              <a:chOff x="5865840" y="4397400"/>
              <a:chExt cx="2949480" cy="706680"/>
            </a:xfrm>
          </p:grpSpPr>
          <p:sp>
            <p:nvSpPr>
              <p:cNvPr id="1388" name="Rounded Rectangle 104"/>
              <p:cNvSpPr/>
              <p:nvPr/>
            </p:nvSpPr>
            <p:spPr>
              <a:xfrm>
                <a:off x="5865840" y="4455000"/>
                <a:ext cx="616680" cy="61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c7a8b"/>
                  </a:gs>
                  <a:gs pos="100000">
                    <a:srgbClr val="485b71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9" name="Rectangle 105"/>
              <p:cNvSpPr/>
              <p:nvPr/>
            </p:nvSpPr>
            <p:spPr>
              <a:xfrm>
                <a:off x="6773400" y="4397400"/>
                <a:ext cx="2041920" cy="70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656d78"/>
                    </a:solidFill>
                    <a:latin typeface="Source Sans Pro"/>
                  </a:rPr>
                  <a:t>Calendar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90" name="Shape 2622"/>
            <p:cNvSpPr/>
            <p:nvPr/>
          </p:nvSpPr>
          <p:spPr>
            <a:xfrm>
              <a:off x="6034320" y="461520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579" y="17044"/>
                  </a:moveTo>
                  <a:cubicBezTo>
                    <a:pt x="9428" y="17174"/>
                    <a:pt x="9252" y="17274"/>
                    <a:pt x="9050" y="17344"/>
                  </a:cubicBezTo>
                  <a:cubicBezTo>
                    <a:pt x="8849" y="17415"/>
                    <a:pt x="8636" y="17450"/>
                    <a:pt x="8413" y="17450"/>
                  </a:cubicBezTo>
                  <a:cubicBezTo>
                    <a:pt x="7887" y="17450"/>
                    <a:pt x="7488" y="17288"/>
                    <a:pt x="7214" y="16966"/>
                  </a:cubicBezTo>
                  <a:cubicBezTo>
                    <a:pt x="6941" y="16644"/>
                    <a:pt x="6797" y="16226"/>
                    <a:pt x="6782" y="15715"/>
                  </a:cubicBezTo>
                  <a:lnTo>
                    <a:pt x="5864" y="15715"/>
                  </a:lnTo>
                  <a:cubicBezTo>
                    <a:pt x="5857" y="16122"/>
                    <a:pt x="5913" y="16486"/>
                    <a:pt x="6032" y="16805"/>
                  </a:cubicBezTo>
                  <a:cubicBezTo>
                    <a:pt x="6151" y="17123"/>
                    <a:pt x="6321" y="17393"/>
                    <a:pt x="6545" y="17611"/>
                  </a:cubicBezTo>
                  <a:cubicBezTo>
                    <a:pt x="6767" y="17830"/>
                    <a:pt x="7038" y="17995"/>
                    <a:pt x="7355" y="18106"/>
                  </a:cubicBezTo>
                  <a:cubicBezTo>
                    <a:pt x="7671" y="18218"/>
                    <a:pt x="8024" y="18273"/>
                    <a:pt x="8413" y="18273"/>
                  </a:cubicBezTo>
                  <a:cubicBezTo>
                    <a:pt x="8773" y="18273"/>
                    <a:pt x="9113" y="18223"/>
                    <a:pt x="9434" y="18123"/>
                  </a:cubicBezTo>
                  <a:cubicBezTo>
                    <a:pt x="9754" y="18023"/>
                    <a:pt x="10033" y="17873"/>
                    <a:pt x="10271" y="17672"/>
                  </a:cubicBezTo>
                  <a:cubicBezTo>
                    <a:pt x="10509" y="17472"/>
                    <a:pt x="10697" y="17222"/>
                    <a:pt x="10837" y="16922"/>
                  </a:cubicBezTo>
                  <a:cubicBezTo>
                    <a:pt x="10978" y="16621"/>
                    <a:pt x="11048" y="16275"/>
                    <a:pt x="11048" y="15881"/>
                  </a:cubicBezTo>
                  <a:cubicBezTo>
                    <a:pt x="11048" y="15407"/>
                    <a:pt x="10935" y="14995"/>
                    <a:pt x="10708" y="14646"/>
                  </a:cubicBezTo>
                  <a:cubicBezTo>
                    <a:pt x="10481" y="14298"/>
                    <a:pt x="10134" y="14072"/>
                    <a:pt x="9666" y="13968"/>
                  </a:cubicBezTo>
                  <a:lnTo>
                    <a:pt x="9666" y="13946"/>
                  </a:lnTo>
                  <a:cubicBezTo>
                    <a:pt x="9968" y="13805"/>
                    <a:pt x="10220" y="13597"/>
                    <a:pt x="10422" y="13323"/>
                  </a:cubicBezTo>
                  <a:cubicBezTo>
                    <a:pt x="10624" y="13048"/>
                    <a:pt x="10724" y="12734"/>
                    <a:pt x="10724" y="12377"/>
                  </a:cubicBezTo>
                  <a:cubicBezTo>
                    <a:pt x="10724" y="12014"/>
                    <a:pt x="10665" y="11698"/>
                    <a:pt x="10546" y="11432"/>
                  </a:cubicBezTo>
                  <a:cubicBezTo>
                    <a:pt x="10427" y="11165"/>
                    <a:pt x="10263" y="10946"/>
                    <a:pt x="10055" y="10776"/>
                  </a:cubicBezTo>
                  <a:cubicBezTo>
                    <a:pt x="9846" y="10605"/>
                    <a:pt x="9599" y="10477"/>
                    <a:pt x="9315" y="10392"/>
                  </a:cubicBezTo>
                  <a:cubicBezTo>
                    <a:pt x="9030" y="10306"/>
                    <a:pt x="8722" y="10264"/>
                    <a:pt x="8391" y="10264"/>
                  </a:cubicBezTo>
                  <a:cubicBezTo>
                    <a:pt x="8010" y="10264"/>
                    <a:pt x="7673" y="10326"/>
                    <a:pt x="7382" y="10453"/>
                  </a:cubicBezTo>
                  <a:cubicBezTo>
                    <a:pt x="7090" y="10579"/>
                    <a:pt x="6847" y="10753"/>
                    <a:pt x="6653" y="10976"/>
                  </a:cubicBezTo>
                  <a:cubicBezTo>
                    <a:pt x="6459" y="11198"/>
                    <a:pt x="6309" y="11466"/>
                    <a:pt x="6204" y="11777"/>
                  </a:cubicBezTo>
                  <a:cubicBezTo>
                    <a:pt x="6100" y="12088"/>
                    <a:pt x="6040" y="12433"/>
                    <a:pt x="6026" y="12811"/>
                  </a:cubicBezTo>
                  <a:lnTo>
                    <a:pt x="6944" y="12811"/>
                  </a:lnTo>
                  <a:cubicBezTo>
                    <a:pt x="6944" y="12581"/>
                    <a:pt x="6972" y="12363"/>
                    <a:pt x="7031" y="12155"/>
                  </a:cubicBezTo>
                  <a:cubicBezTo>
                    <a:pt x="7088" y="11947"/>
                    <a:pt x="7177" y="11766"/>
                    <a:pt x="7296" y="11610"/>
                  </a:cubicBezTo>
                  <a:cubicBezTo>
                    <a:pt x="7414" y="11454"/>
                    <a:pt x="7565" y="11330"/>
                    <a:pt x="7749" y="11237"/>
                  </a:cubicBezTo>
                  <a:cubicBezTo>
                    <a:pt x="7932" y="11144"/>
                    <a:pt x="8147" y="11098"/>
                    <a:pt x="8391" y="11098"/>
                  </a:cubicBezTo>
                  <a:cubicBezTo>
                    <a:pt x="8780" y="11098"/>
                    <a:pt x="9104" y="11204"/>
                    <a:pt x="9364" y="11415"/>
                  </a:cubicBezTo>
                  <a:cubicBezTo>
                    <a:pt x="9623" y="11627"/>
                    <a:pt x="9752" y="11943"/>
                    <a:pt x="9752" y="12366"/>
                  </a:cubicBezTo>
                  <a:cubicBezTo>
                    <a:pt x="9752" y="12574"/>
                    <a:pt x="9713" y="12759"/>
                    <a:pt x="9634" y="12922"/>
                  </a:cubicBezTo>
                  <a:cubicBezTo>
                    <a:pt x="9554" y="13086"/>
                    <a:pt x="9448" y="13221"/>
                    <a:pt x="9315" y="13329"/>
                  </a:cubicBezTo>
                  <a:cubicBezTo>
                    <a:pt x="9182" y="13436"/>
                    <a:pt x="9027" y="13517"/>
                    <a:pt x="8851" y="13574"/>
                  </a:cubicBezTo>
                  <a:cubicBezTo>
                    <a:pt x="8674" y="13629"/>
                    <a:pt x="8488" y="13657"/>
                    <a:pt x="8294" y="13657"/>
                  </a:cubicBezTo>
                  <a:lnTo>
                    <a:pt x="7992" y="13657"/>
                  </a:lnTo>
                  <a:cubicBezTo>
                    <a:pt x="7963" y="13657"/>
                    <a:pt x="7930" y="13653"/>
                    <a:pt x="7895" y="13645"/>
                  </a:cubicBezTo>
                  <a:lnTo>
                    <a:pt x="7895" y="14447"/>
                  </a:lnTo>
                  <a:cubicBezTo>
                    <a:pt x="8067" y="14424"/>
                    <a:pt x="8251" y="14413"/>
                    <a:pt x="8445" y="14413"/>
                  </a:cubicBezTo>
                  <a:cubicBezTo>
                    <a:pt x="8676" y="14413"/>
                    <a:pt x="8890" y="14444"/>
                    <a:pt x="9088" y="14507"/>
                  </a:cubicBezTo>
                  <a:cubicBezTo>
                    <a:pt x="9286" y="14571"/>
                    <a:pt x="9457" y="14667"/>
                    <a:pt x="9601" y="14797"/>
                  </a:cubicBezTo>
                  <a:cubicBezTo>
                    <a:pt x="9745" y="14927"/>
                    <a:pt x="9860" y="15086"/>
                    <a:pt x="9947" y="15275"/>
                  </a:cubicBezTo>
                  <a:cubicBezTo>
                    <a:pt x="10033" y="15464"/>
                    <a:pt x="10076" y="15682"/>
                    <a:pt x="10076" y="15926"/>
                  </a:cubicBezTo>
                  <a:cubicBezTo>
                    <a:pt x="10076" y="16163"/>
                    <a:pt x="10031" y="16377"/>
                    <a:pt x="9941" y="16565"/>
                  </a:cubicBezTo>
                  <a:cubicBezTo>
                    <a:pt x="9851" y="16754"/>
                    <a:pt x="9731" y="16914"/>
                    <a:pt x="9579" y="17044"/>
                  </a:cubicBezTo>
                  <a:moveTo>
                    <a:pt x="14257" y="18151"/>
                  </a:moveTo>
                  <a:lnTo>
                    <a:pt x="15175" y="18151"/>
                  </a:lnTo>
                  <a:lnTo>
                    <a:pt x="15175" y="10264"/>
                  </a:lnTo>
                  <a:lnTo>
                    <a:pt x="14473" y="10264"/>
                  </a:lnTo>
                  <a:cubicBezTo>
                    <a:pt x="14422" y="10561"/>
                    <a:pt x="14329" y="10805"/>
                    <a:pt x="14192" y="10998"/>
                  </a:cubicBezTo>
                  <a:cubicBezTo>
                    <a:pt x="14055" y="11191"/>
                    <a:pt x="13888" y="11343"/>
                    <a:pt x="13690" y="11454"/>
                  </a:cubicBezTo>
                  <a:cubicBezTo>
                    <a:pt x="13492" y="11565"/>
                    <a:pt x="13271" y="11641"/>
                    <a:pt x="13026" y="11682"/>
                  </a:cubicBezTo>
                  <a:cubicBezTo>
                    <a:pt x="12781" y="11723"/>
                    <a:pt x="12529" y="11743"/>
                    <a:pt x="12270" y="11743"/>
                  </a:cubicBezTo>
                  <a:lnTo>
                    <a:pt x="12270" y="12499"/>
                  </a:lnTo>
                  <a:lnTo>
                    <a:pt x="14257" y="12499"/>
                  </a:lnTo>
                  <a:cubicBezTo>
                    <a:pt x="14257" y="12499"/>
                    <a:pt x="14257" y="18151"/>
                    <a:pt x="14257" y="18151"/>
                  </a:cubicBezTo>
                  <a:close/>
                  <a:moveTo>
                    <a:pt x="20618" y="6873"/>
                  </a:moveTo>
                  <a:lnTo>
                    <a:pt x="982" y="6873"/>
                  </a:lnTo>
                  <a:lnTo>
                    <a:pt x="982" y="3928"/>
                  </a:lnTo>
                  <a:cubicBezTo>
                    <a:pt x="982" y="3385"/>
                    <a:pt x="1421" y="2945"/>
                    <a:pt x="1964" y="2945"/>
                  </a:cubicBezTo>
                  <a:lnTo>
                    <a:pt x="3927" y="2945"/>
                  </a:lnTo>
                  <a:lnTo>
                    <a:pt x="3927" y="4418"/>
                  </a:lnTo>
                  <a:cubicBezTo>
                    <a:pt x="3927" y="4690"/>
                    <a:pt x="4147" y="4909"/>
                    <a:pt x="4418" y="4909"/>
                  </a:cubicBezTo>
                  <a:cubicBezTo>
                    <a:pt x="4690" y="4909"/>
                    <a:pt x="4909" y="4690"/>
                    <a:pt x="4909" y="4418"/>
                  </a:cubicBezTo>
                  <a:lnTo>
                    <a:pt x="4909" y="2945"/>
                  </a:lnTo>
                  <a:lnTo>
                    <a:pt x="16691" y="2945"/>
                  </a:lnTo>
                  <a:lnTo>
                    <a:pt x="16691" y="4418"/>
                  </a:lnTo>
                  <a:cubicBezTo>
                    <a:pt x="16691" y="4690"/>
                    <a:pt x="16910" y="4909"/>
                    <a:pt x="17182" y="4909"/>
                  </a:cubicBezTo>
                  <a:cubicBezTo>
                    <a:pt x="17453" y="4909"/>
                    <a:pt x="17673" y="4690"/>
                    <a:pt x="17673" y="4418"/>
                  </a:cubicBezTo>
                  <a:lnTo>
                    <a:pt x="17673" y="2945"/>
                  </a:lnTo>
                  <a:lnTo>
                    <a:pt x="19636" y="2945"/>
                  </a:lnTo>
                  <a:cubicBezTo>
                    <a:pt x="20179" y="2945"/>
                    <a:pt x="20618" y="3385"/>
                    <a:pt x="20618" y="3928"/>
                  </a:cubicBezTo>
                  <a:cubicBezTo>
                    <a:pt x="20618" y="3928"/>
                    <a:pt x="20618" y="6873"/>
                    <a:pt x="20618" y="6873"/>
                  </a:cubicBezTo>
                  <a:close/>
                  <a:moveTo>
                    <a:pt x="20618" y="19636"/>
                  </a:moveTo>
                  <a:cubicBezTo>
                    <a:pt x="20618" y="20179"/>
                    <a:pt x="20179" y="20618"/>
                    <a:pt x="19636" y="20618"/>
                  </a:cubicBezTo>
                  <a:lnTo>
                    <a:pt x="1964" y="20618"/>
                  </a:lnTo>
                  <a:cubicBezTo>
                    <a:pt x="1421" y="20618"/>
                    <a:pt x="982" y="20179"/>
                    <a:pt x="982" y="19636"/>
                  </a:cubicBezTo>
                  <a:lnTo>
                    <a:pt x="982" y="7855"/>
                  </a:lnTo>
                  <a:lnTo>
                    <a:pt x="20618" y="7855"/>
                  </a:lnTo>
                  <a:cubicBezTo>
                    <a:pt x="20618" y="7855"/>
                    <a:pt x="20618" y="19636"/>
                    <a:pt x="20618" y="19636"/>
                  </a:cubicBezTo>
                  <a:close/>
                  <a:moveTo>
                    <a:pt x="19636" y="1964"/>
                  </a:moveTo>
                  <a:lnTo>
                    <a:pt x="17673" y="1964"/>
                  </a:lnTo>
                  <a:lnTo>
                    <a:pt x="17673" y="491"/>
                  </a:lnTo>
                  <a:cubicBezTo>
                    <a:pt x="17673" y="220"/>
                    <a:pt x="17453" y="0"/>
                    <a:pt x="17182" y="0"/>
                  </a:cubicBezTo>
                  <a:cubicBezTo>
                    <a:pt x="16910" y="0"/>
                    <a:pt x="16691" y="220"/>
                    <a:pt x="16691" y="491"/>
                  </a:cubicBezTo>
                  <a:lnTo>
                    <a:pt x="16691" y="1964"/>
                  </a:lnTo>
                  <a:lnTo>
                    <a:pt x="4909" y="1964"/>
                  </a:lnTo>
                  <a:lnTo>
                    <a:pt x="4909" y="491"/>
                  </a:lnTo>
                  <a:cubicBezTo>
                    <a:pt x="4909" y="220"/>
                    <a:pt x="4690" y="0"/>
                    <a:pt x="4418" y="0"/>
                  </a:cubicBezTo>
                  <a:cubicBezTo>
                    <a:pt x="4147" y="0"/>
                    <a:pt x="3927" y="220"/>
                    <a:pt x="3927" y="491"/>
                  </a:cubicBezTo>
                  <a:lnTo>
                    <a:pt x="3927" y="1964"/>
                  </a:lnTo>
                  <a:lnTo>
                    <a:pt x="1964" y="1964"/>
                  </a:lnTo>
                  <a:cubicBezTo>
                    <a:pt x="879" y="1964"/>
                    <a:pt x="0" y="2843"/>
                    <a:pt x="0" y="3928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9636" y="21600"/>
                  </a:lnTo>
                  <a:cubicBezTo>
                    <a:pt x="20721" y="21600"/>
                    <a:pt x="21600" y="20721"/>
                    <a:pt x="21600" y="19636"/>
                  </a:cubicBezTo>
                  <a:lnTo>
                    <a:pt x="21600" y="3928"/>
                  </a:lnTo>
                  <a:cubicBezTo>
                    <a:pt x="21600" y="2843"/>
                    <a:pt x="20721" y="1964"/>
                    <a:pt x="19636" y="196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0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4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9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4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4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Rectangle 48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Title 1"/>
          <p:cNvSpPr/>
          <p:nvPr/>
        </p:nvSpPr>
        <p:spPr>
          <a:xfrm>
            <a:off x="560520" y="325800"/>
            <a:ext cx="4725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Running Man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15a25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4" name="Group 51" descr=""/>
          <p:cNvPicPr/>
          <p:nvPr/>
        </p:nvPicPr>
        <p:blipFill>
          <a:blip r:embed="rId1"/>
          <a:stretch/>
        </p:blipFill>
        <p:spPr>
          <a:xfrm>
            <a:off x="-66600" y="1901880"/>
            <a:ext cx="6338880" cy="4029120"/>
          </a:xfrm>
          <a:prstGeom prst="rect">
            <a:avLst/>
          </a:prstGeom>
          <a:ln w="0">
            <a:noFill/>
          </a:ln>
        </p:spPr>
      </p:pic>
      <p:sp>
        <p:nvSpPr>
          <p:cNvPr id="1395" name="TextBox 68"/>
          <p:cNvSpPr/>
          <p:nvPr/>
        </p:nvSpPr>
        <p:spPr>
          <a:xfrm>
            <a:off x="6621480" y="1876320"/>
            <a:ext cx="49878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The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details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 are </a:t>
            </a:r>
            <a:r>
              <a:rPr b="0" i="1" lang="en-US" sz="2800" spc="-1" strike="noStrike">
                <a:solidFill>
                  <a:srgbClr val="44546a"/>
                </a:solidFill>
                <a:latin typeface="Source Sans Pro"/>
              </a:rPr>
              <a:t>not the 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details. They make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the design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Rectangle 69"/>
          <p:cNvSpPr/>
          <p:nvPr/>
        </p:nvSpPr>
        <p:spPr>
          <a:xfrm>
            <a:off x="6621480" y="2836800"/>
            <a:ext cx="48639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</a:t>
            </a:r>
            <a:r>
              <a:rPr b="1" lang="en-US" sz="1200" spc="-1" strike="noStrike">
                <a:solidFill>
                  <a:srgbClr val="44546a"/>
                </a:solidFill>
                <a:latin typeface="Source Sans Pro Light"/>
              </a:rPr>
              <a:t>ic </a:t>
            </a: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7" name="Group 70"/>
          <p:cNvGrpSpPr/>
          <p:nvPr/>
        </p:nvGrpSpPr>
        <p:grpSpPr>
          <a:xfrm>
            <a:off x="6707160" y="4159080"/>
            <a:ext cx="276120" cy="276480"/>
            <a:chOff x="6707160" y="4159080"/>
            <a:chExt cx="276120" cy="276480"/>
          </a:xfrm>
        </p:grpSpPr>
        <p:sp>
          <p:nvSpPr>
            <p:cNvPr id="1398" name="Oval 8"/>
            <p:cNvSpPr/>
            <p:nvPr/>
          </p:nvSpPr>
          <p:spPr>
            <a:xfrm>
              <a:off x="6707160" y="4159080"/>
              <a:ext cx="276120" cy="276480"/>
            </a:xfrm>
            <a:prstGeom prst="ellipse">
              <a:avLst/>
            </a:prstGeom>
            <a:noFill/>
            <a:ln cap="rnd" w="17640">
              <a:solidFill>
                <a:srgbClr val="f15a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9" name="Freeform 9"/>
            <p:cNvSpPr/>
            <p:nvPr/>
          </p:nvSpPr>
          <p:spPr>
            <a:xfrm>
              <a:off x="6773760" y="4249800"/>
              <a:ext cx="142560" cy="95040"/>
            </a:xfrm>
            <a:custGeom>
              <a:avLst/>
              <a:gdLst/>
              <a:ahLst/>
              <a:rect l="l" t="t" r="r" b="b"/>
              <a:pathLst>
                <a:path w="156" h="104">
                  <a:moveTo>
                    <a:pt x="0" y="45"/>
                  </a:moveTo>
                  <a:lnTo>
                    <a:pt x="60" y="104"/>
                  </a:lnTo>
                  <a:lnTo>
                    <a:pt x="156" y="0"/>
                  </a:lnTo>
                </a:path>
              </a:pathLst>
            </a:custGeom>
            <a:noFill/>
            <a:ln cap="rnd" w="17640">
              <a:solidFill>
                <a:srgbClr val="f15a2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0" name="Group 73"/>
          <p:cNvGrpSpPr/>
          <p:nvPr/>
        </p:nvGrpSpPr>
        <p:grpSpPr>
          <a:xfrm>
            <a:off x="6707160" y="4611600"/>
            <a:ext cx="276120" cy="276480"/>
            <a:chOff x="6707160" y="4611600"/>
            <a:chExt cx="276120" cy="276480"/>
          </a:xfrm>
        </p:grpSpPr>
        <p:sp>
          <p:nvSpPr>
            <p:cNvPr id="1401" name="Oval 8"/>
            <p:cNvSpPr/>
            <p:nvPr/>
          </p:nvSpPr>
          <p:spPr>
            <a:xfrm>
              <a:off x="6707160" y="4611600"/>
              <a:ext cx="276120" cy="276480"/>
            </a:xfrm>
            <a:prstGeom prst="ellipse">
              <a:avLst/>
            </a:prstGeom>
            <a:noFill/>
            <a:ln cap="rnd" w="17640">
              <a:solidFill>
                <a:srgbClr val="f15a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2" name="Freeform 9"/>
            <p:cNvSpPr/>
            <p:nvPr/>
          </p:nvSpPr>
          <p:spPr>
            <a:xfrm>
              <a:off x="6773760" y="4702320"/>
              <a:ext cx="142560" cy="95040"/>
            </a:xfrm>
            <a:custGeom>
              <a:avLst/>
              <a:gdLst/>
              <a:ahLst/>
              <a:rect l="l" t="t" r="r" b="b"/>
              <a:pathLst>
                <a:path w="156" h="104">
                  <a:moveTo>
                    <a:pt x="0" y="45"/>
                  </a:moveTo>
                  <a:lnTo>
                    <a:pt x="60" y="104"/>
                  </a:lnTo>
                  <a:lnTo>
                    <a:pt x="156" y="0"/>
                  </a:lnTo>
                </a:path>
              </a:pathLst>
            </a:custGeom>
            <a:noFill/>
            <a:ln cap="rnd" w="17640">
              <a:solidFill>
                <a:srgbClr val="f15a2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3" name="Rectangle 76"/>
          <p:cNvSpPr/>
          <p:nvPr/>
        </p:nvSpPr>
        <p:spPr>
          <a:xfrm>
            <a:off x="6796800" y="4130640"/>
            <a:ext cx="3751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Rectangle 77"/>
          <p:cNvSpPr/>
          <p:nvPr/>
        </p:nvSpPr>
        <p:spPr>
          <a:xfrm>
            <a:off x="6796800" y="4584600"/>
            <a:ext cx="3751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5" name="Group 78"/>
          <p:cNvGrpSpPr/>
          <p:nvPr/>
        </p:nvGrpSpPr>
        <p:grpSpPr>
          <a:xfrm>
            <a:off x="6707160" y="5070600"/>
            <a:ext cx="276120" cy="276120"/>
            <a:chOff x="6707160" y="5070600"/>
            <a:chExt cx="276120" cy="276120"/>
          </a:xfrm>
        </p:grpSpPr>
        <p:sp>
          <p:nvSpPr>
            <p:cNvPr id="1406" name="Oval 8"/>
            <p:cNvSpPr/>
            <p:nvPr/>
          </p:nvSpPr>
          <p:spPr>
            <a:xfrm>
              <a:off x="6707160" y="5070600"/>
              <a:ext cx="276120" cy="276120"/>
            </a:xfrm>
            <a:prstGeom prst="ellipse">
              <a:avLst/>
            </a:prstGeom>
            <a:noFill/>
            <a:ln cap="rnd" w="17640">
              <a:solidFill>
                <a:srgbClr val="f15a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7" name="Freeform 9"/>
            <p:cNvSpPr/>
            <p:nvPr/>
          </p:nvSpPr>
          <p:spPr>
            <a:xfrm>
              <a:off x="6773760" y="5160960"/>
              <a:ext cx="142560" cy="95040"/>
            </a:xfrm>
            <a:custGeom>
              <a:avLst/>
              <a:gdLst/>
              <a:ahLst/>
              <a:rect l="l" t="t" r="r" b="b"/>
              <a:pathLst>
                <a:path w="156" h="104">
                  <a:moveTo>
                    <a:pt x="0" y="45"/>
                  </a:moveTo>
                  <a:lnTo>
                    <a:pt x="60" y="104"/>
                  </a:lnTo>
                  <a:lnTo>
                    <a:pt x="156" y="0"/>
                  </a:lnTo>
                </a:path>
              </a:pathLst>
            </a:custGeom>
            <a:noFill/>
            <a:ln cap="rnd" w="17640">
              <a:solidFill>
                <a:srgbClr val="f15a2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8" name="Rectangle 81"/>
          <p:cNvSpPr/>
          <p:nvPr/>
        </p:nvSpPr>
        <p:spPr>
          <a:xfrm>
            <a:off x="6796800" y="5037120"/>
            <a:ext cx="3751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Straight Connector 22"/>
          <p:cNvSpPr/>
          <p:nvPr/>
        </p:nvSpPr>
        <p:spPr>
          <a:xfrm>
            <a:off x="1022400" y="3865680"/>
            <a:ext cx="525240" cy="0"/>
          </a:xfrm>
          <a:prstGeom prst="line">
            <a:avLst/>
          </a:prstGeom>
          <a:ln w="25560">
            <a:solidFill>
              <a:srgbClr val="d9d9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Oval 13"/>
          <p:cNvSpPr/>
          <p:nvPr/>
        </p:nvSpPr>
        <p:spPr>
          <a:xfrm>
            <a:off x="747720" y="3727440"/>
            <a:ext cx="274680" cy="274680"/>
          </a:xfrm>
          <a:prstGeom prst="ellipse">
            <a:avLst/>
          </a:prstGeom>
          <a:gradFill rotWithShape="0">
            <a:gsLst>
              <a:gs pos="0">
                <a:srgbClr val="f57050"/>
              </a:gs>
              <a:gs pos="100000">
                <a:srgbClr val="e5450b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Rectangle 38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  <a:ea typeface="Open Sans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15a25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traight Connector 42"/>
          <p:cNvSpPr/>
          <p:nvPr/>
        </p:nvSpPr>
        <p:spPr>
          <a:xfrm>
            <a:off x="10588680" y="3859200"/>
            <a:ext cx="876240" cy="0"/>
          </a:xfrm>
          <a:prstGeom prst="line">
            <a:avLst/>
          </a:prstGeom>
          <a:ln w="25560">
            <a:solidFill>
              <a:srgbClr val="d9d9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traight Connector 43"/>
          <p:cNvSpPr/>
          <p:nvPr/>
        </p:nvSpPr>
        <p:spPr>
          <a:xfrm>
            <a:off x="8661240" y="3859200"/>
            <a:ext cx="1003320" cy="0"/>
          </a:xfrm>
          <a:prstGeom prst="line">
            <a:avLst/>
          </a:prstGeom>
          <a:ln w="25560">
            <a:solidFill>
              <a:srgbClr val="d9d9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traight Connector 44"/>
          <p:cNvSpPr/>
          <p:nvPr/>
        </p:nvSpPr>
        <p:spPr>
          <a:xfrm flipV="1">
            <a:off x="6558120" y="3859200"/>
            <a:ext cx="1179360" cy="6480"/>
          </a:xfrm>
          <a:prstGeom prst="line">
            <a:avLst/>
          </a:prstGeom>
          <a:ln w="25560">
            <a:solidFill>
              <a:srgbClr val="d9d9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traight Connector 47"/>
          <p:cNvSpPr/>
          <p:nvPr/>
        </p:nvSpPr>
        <p:spPr>
          <a:xfrm>
            <a:off x="4398840" y="3865680"/>
            <a:ext cx="1235160" cy="0"/>
          </a:xfrm>
          <a:prstGeom prst="line">
            <a:avLst/>
          </a:prstGeom>
          <a:ln w="25560">
            <a:solidFill>
              <a:srgbClr val="d9d9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traight Connector 48"/>
          <p:cNvSpPr/>
          <p:nvPr/>
        </p:nvSpPr>
        <p:spPr>
          <a:xfrm>
            <a:off x="2471760" y="3865680"/>
            <a:ext cx="1003320" cy="0"/>
          </a:xfrm>
          <a:prstGeom prst="line">
            <a:avLst/>
          </a:prstGeom>
          <a:ln w="25560">
            <a:solidFill>
              <a:srgbClr val="d9d9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Oval 51"/>
          <p:cNvSpPr/>
          <p:nvPr/>
        </p:nvSpPr>
        <p:spPr>
          <a:xfrm>
            <a:off x="11464920" y="3722760"/>
            <a:ext cx="274680" cy="274680"/>
          </a:xfrm>
          <a:prstGeom prst="ellipse">
            <a:avLst/>
          </a:prstGeom>
          <a:gradFill rotWithShape="0">
            <a:gsLst>
              <a:gs pos="0">
                <a:srgbClr val="f57050"/>
              </a:gs>
              <a:gs pos="100000">
                <a:srgbClr val="e5450b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Rectangle 66"/>
          <p:cNvSpPr/>
          <p:nvPr/>
        </p:nvSpPr>
        <p:spPr>
          <a:xfrm>
            <a:off x="1146240" y="5238720"/>
            <a:ext cx="17128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Rectangle 67"/>
          <p:cNvSpPr/>
          <p:nvPr/>
        </p:nvSpPr>
        <p:spPr>
          <a:xfrm>
            <a:off x="3062160" y="1919160"/>
            <a:ext cx="1714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68"/>
          <p:cNvSpPr/>
          <p:nvPr/>
        </p:nvSpPr>
        <p:spPr>
          <a:xfrm>
            <a:off x="5238720" y="5238720"/>
            <a:ext cx="1714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Rectangle 69"/>
          <p:cNvSpPr/>
          <p:nvPr/>
        </p:nvSpPr>
        <p:spPr>
          <a:xfrm>
            <a:off x="7129440" y="1928880"/>
            <a:ext cx="21067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Rectangle 70"/>
          <p:cNvSpPr/>
          <p:nvPr/>
        </p:nvSpPr>
        <p:spPr>
          <a:xfrm>
            <a:off x="9277200" y="5126040"/>
            <a:ext cx="17132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3" name="Group 4"/>
          <p:cNvGrpSpPr/>
          <p:nvPr/>
        </p:nvGrpSpPr>
        <p:grpSpPr>
          <a:xfrm>
            <a:off x="5634000" y="3403440"/>
            <a:ext cx="924120" cy="924120"/>
            <a:chOff x="5634000" y="3403440"/>
            <a:chExt cx="924120" cy="924120"/>
          </a:xfrm>
        </p:grpSpPr>
        <p:grpSp>
          <p:nvGrpSpPr>
            <p:cNvPr id="734" name="Group 75"/>
            <p:cNvGrpSpPr/>
            <p:nvPr/>
          </p:nvGrpSpPr>
          <p:grpSpPr>
            <a:xfrm>
              <a:off x="5634000" y="3403440"/>
              <a:ext cx="924120" cy="924120"/>
              <a:chOff x="5634000" y="3403440"/>
              <a:chExt cx="924120" cy="924120"/>
            </a:xfrm>
          </p:grpSpPr>
          <p:sp>
            <p:nvSpPr>
              <p:cNvPr id="735" name="Oval 76"/>
              <p:cNvSpPr/>
              <p:nvPr/>
            </p:nvSpPr>
            <p:spPr>
              <a:xfrm>
                <a:off x="5634000" y="3403440"/>
                <a:ext cx="924120" cy="924120"/>
              </a:xfrm>
              <a:prstGeom prst="ellipse">
                <a:avLst/>
              </a:prstGeom>
              <a:noFill/>
              <a:ln w="9360">
                <a:solidFill>
                  <a:srgbClr val="f15a25"/>
                </a:solidFill>
                <a:miter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6" name="Oval 77"/>
              <p:cNvSpPr/>
              <p:nvPr/>
            </p:nvSpPr>
            <p:spPr>
              <a:xfrm>
                <a:off x="5718240" y="3484440"/>
                <a:ext cx="755280" cy="762120"/>
              </a:xfrm>
              <a:prstGeom prst="ellipse">
                <a:avLst/>
              </a:prstGeom>
              <a:gradFill rotWithShape="0">
                <a:gsLst>
                  <a:gs pos="0">
                    <a:srgbClr val="f57050"/>
                  </a:gs>
                  <a:gs pos="100000">
                    <a:srgbClr val="e5450b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7" name="Shape 2547"/>
            <p:cNvSpPr/>
            <p:nvPr/>
          </p:nvSpPr>
          <p:spPr>
            <a:xfrm>
              <a:off x="5956200" y="37263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073" y="17379"/>
                  </a:moveTo>
                  <a:lnTo>
                    <a:pt x="15643" y="14949"/>
                  </a:lnTo>
                  <a:cubicBezTo>
                    <a:pt x="16600" y="13832"/>
                    <a:pt x="17182" y="12386"/>
                    <a:pt x="17182" y="10800"/>
                  </a:cubicBezTo>
                  <a:cubicBezTo>
                    <a:pt x="17182" y="9214"/>
                    <a:pt x="16600" y="7767"/>
                    <a:pt x="15643" y="6651"/>
                  </a:cubicBezTo>
                  <a:lnTo>
                    <a:pt x="18073" y="4221"/>
                  </a:lnTo>
                  <a:cubicBezTo>
                    <a:pt x="19649" y="5963"/>
                    <a:pt x="20618" y="8266"/>
                    <a:pt x="20618" y="10800"/>
                  </a:cubicBezTo>
                  <a:cubicBezTo>
                    <a:pt x="20618" y="13335"/>
                    <a:pt x="19649" y="15637"/>
                    <a:pt x="18073" y="17379"/>
                  </a:cubicBezTo>
                  <a:moveTo>
                    <a:pt x="10800" y="20619"/>
                  </a:moveTo>
                  <a:cubicBezTo>
                    <a:pt x="8265" y="20619"/>
                    <a:pt x="5963" y="19650"/>
                    <a:pt x="4221" y="18073"/>
                  </a:cubicBezTo>
                  <a:lnTo>
                    <a:pt x="6651" y="15643"/>
                  </a:lnTo>
                  <a:cubicBezTo>
                    <a:pt x="7767" y="16600"/>
                    <a:pt x="9214" y="17182"/>
                    <a:pt x="10800" y="17182"/>
                  </a:cubicBezTo>
                  <a:cubicBezTo>
                    <a:pt x="12386" y="17182"/>
                    <a:pt x="13833" y="16600"/>
                    <a:pt x="14949" y="15643"/>
                  </a:cubicBezTo>
                  <a:lnTo>
                    <a:pt x="17379" y="18073"/>
                  </a:lnTo>
                  <a:cubicBezTo>
                    <a:pt x="15637" y="19650"/>
                    <a:pt x="13334" y="20619"/>
                    <a:pt x="10800" y="20619"/>
                  </a:cubicBezTo>
                  <a:moveTo>
                    <a:pt x="982" y="10800"/>
                  </a:moveTo>
                  <a:cubicBezTo>
                    <a:pt x="982" y="8266"/>
                    <a:pt x="1950" y="5963"/>
                    <a:pt x="3527" y="4221"/>
                  </a:cubicBezTo>
                  <a:lnTo>
                    <a:pt x="5957" y="6651"/>
                  </a:lnTo>
                  <a:cubicBezTo>
                    <a:pt x="4999" y="7767"/>
                    <a:pt x="4418" y="9214"/>
                    <a:pt x="4418" y="10800"/>
                  </a:cubicBezTo>
                  <a:cubicBezTo>
                    <a:pt x="4418" y="12386"/>
                    <a:pt x="4999" y="13832"/>
                    <a:pt x="5957" y="14949"/>
                  </a:cubicBezTo>
                  <a:lnTo>
                    <a:pt x="3527" y="17379"/>
                  </a:lnTo>
                  <a:cubicBezTo>
                    <a:pt x="1950" y="15637"/>
                    <a:pt x="982" y="13335"/>
                    <a:pt x="982" y="10800"/>
                  </a:cubicBezTo>
                  <a:moveTo>
                    <a:pt x="16200" y="10800"/>
                  </a:moveTo>
                  <a:cubicBezTo>
                    <a:pt x="16200" y="13782"/>
                    <a:pt x="13782" y="16200"/>
                    <a:pt x="10800" y="16200"/>
                  </a:cubicBezTo>
                  <a:cubicBezTo>
                    <a:pt x="7817" y="16200"/>
                    <a:pt x="5400" y="13782"/>
                    <a:pt x="5400" y="10800"/>
                  </a:cubicBez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400"/>
                    <a:pt x="16200" y="7817"/>
                    <a:pt x="16200" y="10800"/>
                  </a:cubicBezTo>
                  <a:moveTo>
                    <a:pt x="10800" y="982"/>
                  </a:moveTo>
                  <a:cubicBezTo>
                    <a:pt x="13334" y="982"/>
                    <a:pt x="15637" y="1950"/>
                    <a:pt x="17379" y="3527"/>
                  </a:cubicBezTo>
                  <a:lnTo>
                    <a:pt x="14949" y="5957"/>
                  </a:lnTo>
                  <a:cubicBezTo>
                    <a:pt x="13832" y="4999"/>
                    <a:pt x="12386" y="4418"/>
                    <a:pt x="10800" y="4418"/>
                  </a:cubicBezTo>
                  <a:cubicBezTo>
                    <a:pt x="9214" y="4418"/>
                    <a:pt x="7767" y="4999"/>
                    <a:pt x="6651" y="5957"/>
                  </a:cubicBezTo>
                  <a:lnTo>
                    <a:pt x="4221" y="3527"/>
                  </a:lnTo>
                  <a:cubicBezTo>
                    <a:pt x="5963" y="1950"/>
                    <a:pt x="8265" y="982"/>
                    <a:pt x="10800" y="982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8" name="Group 6"/>
          <p:cNvGrpSpPr/>
          <p:nvPr/>
        </p:nvGrpSpPr>
        <p:grpSpPr>
          <a:xfrm>
            <a:off x="9664560" y="3397320"/>
            <a:ext cx="924120" cy="923760"/>
            <a:chOff x="9664560" y="3397320"/>
            <a:chExt cx="924120" cy="923760"/>
          </a:xfrm>
        </p:grpSpPr>
        <p:grpSp>
          <p:nvGrpSpPr>
            <p:cNvPr id="739" name="Group 83"/>
            <p:cNvGrpSpPr/>
            <p:nvPr/>
          </p:nvGrpSpPr>
          <p:grpSpPr>
            <a:xfrm>
              <a:off x="9664560" y="3397320"/>
              <a:ext cx="924120" cy="923760"/>
              <a:chOff x="9664560" y="3397320"/>
              <a:chExt cx="924120" cy="923760"/>
            </a:xfrm>
          </p:grpSpPr>
          <p:sp>
            <p:nvSpPr>
              <p:cNvPr id="740" name="Oval 84"/>
              <p:cNvSpPr/>
              <p:nvPr/>
            </p:nvSpPr>
            <p:spPr>
              <a:xfrm>
                <a:off x="9664560" y="3397320"/>
                <a:ext cx="924120" cy="923760"/>
              </a:xfrm>
              <a:prstGeom prst="ellipse">
                <a:avLst/>
              </a:prstGeom>
              <a:noFill/>
              <a:ln w="9360">
                <a:solidFill>
                  <a:srgbClr val="ff8e6c"/>
                </a:solidFill>
                <a:miter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Oval 85"/>
              <p:cNvSpPr/>
              <p:nvPr/>
            </p:nvSpPr>
            <p:spPr>
              <a:xfrm>
                <a:off x="9748800" y="3478320"/>
                <a:ext cx="755280" cy="761760"/>
              </a:xfrm>
              <a:prstGeom prst="ellipse">
                <a:avLst/>
              </a:prstGeom>
              <a:gradFill rotWithShape="0">
                <a:gsLst>
                  <a:gs pos="0">
                    <a:srgbClr val="ff9c80"/>
                  </a:gs>
                  <a:gs pos="100000">
                    <a:srgbClr val="e5754f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2" name="Shape 2592"/>
            <p:cNvSpPr/>
            <p:nvPr/>
          </p:nvSpPr>
          <p:spPr>
            <a:xfrm>
              <a:off x="9993600" y="37256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12012"/>
                  </a:moveTo>
                  <a:cubicBezTo>
                    <a:pt x="20614" y="12014"/>
                    <a:pt x="20611" y="12016"/>
                    <a:pt x="20607" y="12016"/>
                  </a:cubicBezTo>
                  <a:lnTo>
                    <a:pt x="19602" y="12268"/>
                  </a:lnTo>
                  <a:cubicBezTo>
                    <a:pt x="19256" y="12354"/>
                    <a:pt x="18984" y="12622"/>
                    <a:pt x="18892" y="12966"/>
                  </a:cubicBezTo>
                  <a:cubicBezTo>
                    <a:pt x="18703" y="13672"/>
                    <a:pt x="18421" y="14352"/>
                    <a:pt x="18053" y="14986"/>
                  </a:cubicBezTo>
                  <a:cubicBezTo>
                    <a:pt x="17873" y="15295"/>
                    <a:pt x="17876" y="15677"/>
                    <a:pt x="18060" y="15984"/>
                  </a:cubicBezTo>
                  <a:lnTo>
                    <a:pt x="18601" y="16885"/>
                  </a:lnTo>
                  <a:lnTo>
                    <a:pt x="16886" y="18600"/>
                  </a:lnTo>
                  <a:cubicBezTo>
                    <a:pt x="16882" y="18598"/>
                    <a:pt x="16878" y="18597"/>
                    <a:pt x="16875" y="18595"/>
                  </a:cubicBezTo>
                  <a:lnTo>
                    <a:pt x="15978" y="18057"/>
                  </a:lnTo>
                  <a:cubicBezTo>
                    <a:pt x="15822" y="17964"/>
                    <a:pt x="15648" y="17917"/>
                    <a:pt x="15473" y="17917"/>
                  </a:cubicBezTo>
                  <a:cubicBezTo>
                    <a:pt x="15304" y="17917"/>
                    <a:pt x="15134" y="17961"/>
                    <a:pt x="14982" y="18049"/>
                  </a:cubicBezTo>
                  <a:cubicBezTo>
                    <a:pt x="14348" y="18415"/>
                    <a:pt x="13671" y="18696"/>
                    <a:pt x="12968" y="18884"/>
                  </a:cubicBezTo>
                  <a:cubicBezTo>
                    <a:pt x="12624" y="18976"/>
                    <a:pt x="12356" y="19248"/>
                    <a:pt x="12269" y="19594"/>
                  </a:cubicBezTo>
                  <a:lnTo>
                    <a:pt x="12016" y="20607"/>
                  </a:lnTo>
                  <a:cubicBezTo>
                    <a:pt x="12015" y="20611"/>
                    <a:pt x="12014" y="20614"/>
                    <a:pt x="12012" y="20619"/>
                  </a:cubicBezTo>
                  <a:lnTo>
                    <a:pt x="9587" y="20619"/>
                  </a:lnTo>
                  <a:lnTo>
                    <a:pt x="9331" y="19594"/>
                  </a:lnTo>
                  <a:cubicBezTo>
                    <a:pt x="9244" y="19248"/>
                    <a:pt x="8976" y="18976"/>
                    <a:pt x="8632" y="18884"/>
                  </a:cubicBezTo>
                  <a:cubicBezTo>
                    <a:pt x="7929" y="18696"/>
                    <a:pt x="7252" y="18415"/>
                    <a:pt x="6617" y="18049"/>
                  </a:cubicBezTo>
                  <a:cubicBezTo>
                    <a:pt x="6465" y="17961"/>
                    <a:pt x="6296" y="17917"/>
                    <a:pt x="6127" y="17917"/>
                  </a:cubicBezTo>
                  <a:cubicBezTo>
                    <a:pt x="5951" y="17917"/>
                    <a:pt x="5777" y="17964"/>
                    <a:pt x="5621" y="18057"/>
                  </a:cubicBezTo>
                  <a:lnTo>
                    <a:pt x="4725" y="18595"/>
                  </a:lnTo>
                  <a:cubicBezTo>
                    <a:pt x="4722" y="18597"/>
                    <a:pt x="4718" y="18598"/>
                    <a:pt x="4714" y="18600"/>
                  </a:cubicBezTo>
                  <a:lnTo>
                    <a:pt x="3000" y="16885"/>
                  </a:lnTo>
                  <a:lnTo>
                    <a:pt x="3540" y="15984"/>
                  </a:lnTo>
                  <a:cubicBezTo>
                    <a:pt x="3724" y="15677"/>
                    <a:pt x="3727" y="15295"/>
                    <a:pt x="3548" y="14986"/>
                  </a:cubicBezTo>
                  <a:cubicBezTo>
                    <a:pt x="3179" y="14351"/>
                    <a:pt x="2897" y="13672"/>
                    <a:pt x="2708" y="12966"/>
                  </a:cubicBezTo>
                  <a:cubicBezTo>
                    <a:pt x="2616" y="12622"/>
                    <a:pt x="2343" y="12354"/>
                    <a:pt x="1998" y="12268"/>
                  </a:cubicBezTo>
                  <a:lnTo>
                    <a:pt x="993" y="12016"/>
                  </a:lnTo>
                  <a:cubicBezTo>
                    <a:pt x="989" y="12016"/>
                    <a:pt x="986" y="12014"/>
                    <a:pt x="982" y="12012"/>
                  </a:cubicBezTo>
                  <a:lnTo>
                    <a:pt x="982" y="9587"/>
                  </a:lnTo>
                  <a:lnTo>
                    <a:pt x="1998" y="9333"/>
                  </a:lnTo>
                  <a:cubicBezTo>
                    <a:pt x="2343" y="9246"/>
                    <a:pt x="2616" y="8979"/>
                    <a:pt x="2708" y="8634"/>
                  </a:cubicBezTo>
                  <a:cubicBezTo>
                    <a:pt x="2897" y="7929"/>
                    <a:pt x="3179" y="7249"/>
                    <a:pt x="3548" y="6615"/>
                  </a:cubicBezTo>
                  <a:cubicBezTo>
                    <a:pt x="3727" y="6305"/>
                    <a:pt x="3724" y="5923"/>
                    <a:pt x="3540" y="5617"/>
                  </a:cubicBezTo>
                  <a:lnTo>
                    <a:pt x="3005" y="4725"/>
                  </a:lnTo>
                  <a:cubicBezTo>
                    <a:pt x="3004" y="4722"/>
                    <a:pt x="3002" y="4719"/>
                    <a:pt x="3000" y="4715"/>
                  </a:cubicBezTo>
                  <a:lnTo>
                    <a:pt x="4715" y="3000"/>
                  </a:lnTo>
                  <a:lnTo>
                    <a:pt x="5621" y="3543"/>
                  </a:lnTo>
                  <a:cubicBezTo>
                    <a:pt x="5777" y="3637"/>
                    <a:pt x="5951" y="3683"/>
                    <a:pt x="6127" y="3683"/>
                  </a:cubicBezTo>
                  <a:cubicBezTo>
                    <a:pt x="6296" y="3683"/>
                    <a:pt x="6465" y="3639"/>
                    <a:pt x="6618" y="3552"/>
                  </a:cubicBezTo>
                  <a:cubicBezTo>
                    <a:pt x="7251" y="3185"/>
                    <a:pt x="7929" y="2904"/>
                    <a:pt x="8632" y="2717"/>
                  </a:cubicBezTo>
                  <a:cubicBezTo>
                    <a:pt x="8976" y="2624"/>
                    <a:pt x="9244" y="2352"/>
                    <a:pt x="9331" y="2006"/>
                  </a:cubicBezTo>
                  <a:lnTo>
                    <a:pt x="9587" y="982"/>
                  </a:lnTo>
                  <a:lnTo>
                    <a:pt x="12012" y="982"/>
                  </a:lnTo>
                  <a:cubicBezTo>
                    <a:pt x="12014" y="986"/>
                    <a:pt x="12015" y="989"/>
                    <a:pt x="12016" y="993"/>
                  </a:cubicBezTo>
                  <a:lnTo>
                    <a:pt x="12269" y="2006"/>
                  </a:lnTo>
                  <a:cubicBezTo>
                    <a:pt x="12356" y="2352"/>
                    <a:pt x="12624" y="2624"/>
                    <a:pt x="12968" y="2717"/>
                  </a:cubicBezTo>
                  <a:cubicBezTo>
                    <a:pt x="13671" y="2904"/>
                    <a:pt x="14348" y="3185"/>
                    <a:pt x="14982" y="3552"/>
                  </a:cubicBezTo>
                  <a:cubicBezTo>
                    <a:pt x="15134" y="3639"/>
                    <a:pt x="15304" y="3683"/>
                    <a:pt x="15473" y="3683"/>
                  </a:cubicBezTo>
                  <a:cubicBezTo>
                    <a:pt x="15648" y="3683"/>
                    <a:pt x="15822" y="3637"/>
                    <a:pt x="15978" y="3543"/>
                  </a:cubicBezTo>
                  <a:lnTo>
                    <a:pt x="16884" y="3000"/>
                  </a:lnTo>
                  <a:lnTo>
                    <a:pt x="18600" y="4715"/>
                  </a:lnTo>
                  <a:cubicBezTo>
                    <a:pt x="18598" y="4719"/>
                    <a:pt x="18597" y="4722"/>
                    <a:pt x="18595" y="4725"/>
                  </a:cubicBezTo>
                  <a:lnTo>
                    <a:pt x="18060" y="5616"/>
                  </a:lnTo>
                  <a:cubicBezTo>
                    <a:pt x="17876" y="5923"/>
                    <a:pt x="17873" y="6305"/>
                    <a:pt x="18053" y="6615"/>
                  </a:cubicBezTo>
                  <a:cubicBezTo>
                    <a:pt x="18421" y="7249"/>
                    <a:pt x="18703" y="7928"/>
                    <a:pt x="18892" y="8634"/>
                  </a:cubicBezTo>
                  <a:cubicBezTo>
                    <a:pt x="18984" y="8979"/>
                    <a:pt x="19256" y="9246"/>
                    <a:pt x="19602" y="9333"/>
                  </a:cubicBezTo>
                  <a:lnTo>
                    <a:pt x="20618" y="9587"/>
                  </a:lnTo>
                  <a:cubicBezTo>
                    <a:pt x="20618" y="9587"/>
                    <a:pt x="20618" y="12012"/>
                    <a:pt x="20618" y="12012"/>
                  </a:cubicBezTo>
                  <a:close/>
                  <a:moveTo>
                    <a:pt x="20880" y="8641"/>
                  </a:moveTo>
                  <a:lnTo>
                    <a:pt x="19841" y="8380"/>
                  </a:lnTo>
                  <a:cubicBezTo>
                    <a:pt x="19626" y="7580"/>
                    <a:pt x="19308" y="6822"/>
                    <a:pt x="18902" y="6122"/>
                  </a:cubicBezTo>
                  <a:lnTo>
                    <a:pt x="19455" y="5200"/>
                  </a:lnTo>
                  <a:cubicBezTo>
                    <a:pt x="19625" y="4871"/>
                    <a:pt x="19736" y="4463"/>
                    <a:pt x="19455" y="4182"/>
                  </a:cubicBezTo>
                  <a:lnTo>
                    <a:pt x="17419" y="2145"/>
                  </a:lnTo>
                  <a:cubicBezTo>
                    <a:pt x="17292" y="2019"/>
                    <a:pt x="17136" y="1968"/>
                    <a:pt x="16975" y="1968"/>
                  </a:cubicBezTo>
                  <a:cubicBezTo>
                    <a:pt x="16778" y="1968"/>
                    <a:pt x="16572" y="2043"/>
                    <a:pt x="16400" y="2145"/>
                  </a:cubicBezTo>
                  <a:lnTo>
                    <a:pt x="15473" y="2701"/>
                  </a:lnTo>
                  <a:cubicBezTo>
                    <a:pt x="14775" y="2298"/>
                    <a:pt x="14020" y="1982"/>
                    <a:pt x="13222" y="1768"/>
                  </a:cubicBezTo>
                  <a:lnTo>
                    <a:pt x="12960" y="720"/>
                  </a:lnTo>
                  <a:cubicBezTo>
                    <a:pt x="12848" y="367"/>
                    <a:pt x="12638" y="0"/>
                    <a:pt x="12240" y="0"/>
                  </a:cubicBezTo>
                  <a:lnTo>
                    <a:pt x="9360" y="0"/>
                  </a:lnTo>
                  <a:cubicBezTo>
                    <a:pt x="8962" y="0"/>
                    <a:pt x="8730" y="367"/>
                    <a:pt x="8640" y="720"/>
                  </a:cubicBezTo>
                  <a:lnTo>
                    <a:pt x="8378" y="1768"/>
                  </a:lnTo>
                  <a:cubicBezTo>
                    <a:pt x="7580" y="1982"/>
                    <a:pt x="6825" y="2298"/>
                    <a:pt x="6127" y="2701"/>
                  </a:cubicBezTo>
                  <a:lnTo>
                    <a:pt x="5200" y="2145"/>
                  </a:lnTo>
                  <a:cubicBezTo>
                    <a:pt x="5028" y="2043"/>
                    <a:pt x="4822" y="1968"/>
                    <a:pt x="4625" y="1968"/>
                  </a:cubicBezTo>
                  <a:cubicBezTo>
                    <a:pt x="4464" y="1968"/>
                    <a:pt x="4308" y="2019"/>
                    <a:pt x="4181" y="2145"/>
                  </a:cubicBezTo>
                  <a:lnTo>
                    <a:pt x="2145" y="4182"/>
                  </a:lnTo>
                  <a:cubicBezTo>
                    <a:pt x="1864" y="4463"/>
                    <a:pt x="1975" y="4871"/>
                    <a:pt x="2145" y="5200"/>
                  </a:cubicBezTo>
                  <a:lnTo>
                    <a:pt x="2698" y="6122"/>
                  </a:lnTo>
                  <a:cubicBezTo>
                    <a:pt x="2292" y="6822"/>
                    <a:pt x="1973" y="7580"/>
                    <a:pt x="1759" y="8380"/>
                  </a:cubicBezTo>
                  <a:lnTo>
                    <a:pt x="720" y="8641"/>
                  </a:lnTo>
                  <a:cubicBezTo>
                    <a:pt x="367" y="8730"/>
                    <a:pt x="0" y="8962"/>
                    <a:pt x="0" y="9361"/>
                  </a:cubicBezTo>
                  <a:lnTo>
                    <a:pt x="0" y="12240"/>
                  </a:lnTo>
                  <a:cubicBezTo>
                    <a:pt x="0" y="12638"/>
                    <a:pt x="367" y="12848"/>
                    <a:pt x="720" y="12960"/>
                  </a:cubicBezTo>
                  <a:lnTo>
                    <a:pt x="1759" y="13220"/>
                  </a:lnTo>
                  <a:cubicBezTo>
                    <a:pt x="1973" y="14021"/>
                    <a:pt x="2292" y="14778"/>
                    <a:pt x="2698" y="15479"/>
                  </a:cubicBezTo>
                  <a:lnTo>
                    <a:pt x="2145" y="16400"/>
                  </a:lnTo>
                  <a:cubicBezTo>
                    <a:pt x="1959" y="16713"/>
                    <a:pt x="1864" y="17137"/>
                    <a:pt x="2145" y="17419"/>
                  </a:cubicBezTo>
                  <a:lnTo>
                    <a:pt x="4181" y="19455"/>
                  </a:lnTo>
                  <a:cubicBezTo>
                    <a:pt x="4305" y="19579"/>
                    <a:pt x="4454" y="19627"/>
                    <a:pt x="4610" y="19627"/>
                  </a:cubicBezTo>
                  <a:cubicBezTo>
                    <a:pt x="4807" y="19627"/>
                    <a:pt x="5016" y="19550"/>
                    <a:pt x="5200" y="19455"/>
                  </a:cubicBezTo>
                  <a:lnTo>
                    <a:pt x="6127" y="18899"/>
                  </a:lnTo>
                  <a:cubicBezTo>
                    <a:pt x="6825" y="19302"/>
                    <a:pt x="7580" y="19619"/>
                    <a:pt x="8378" y="19832"/>
                  </a:cubicBezTo>
                  <a:lnTo>
                    <a:pt x="8640" y="20880"/>
                  </a:lnTo>
                  <a:cubicBezTo>
                    <a:pt x="8730" y="21233"/>
                    <a:pt x="8962" y="21600"/>
                    <a:pt x="9360" y="21600"/>
                  </a:cubicBezTo>
                  <a:lnTo>
                    <a:pt x="12240" y="21600"/>
                  </a:lnTo>
                  <a:cubicBezTo>
                    <a:pt x="12638" y="21600"/>
                    <a:pt x="12848" y="21233"/>
                    <a:pt x="12960" y="20880"/>
                  </a:cubicBezTo>
                  <a:lnTo>
                    <a:pt x="13222" y="19832"/>
                  </a:lnTo>
                  <a:cubicBezTo>
                    <a:pt x="14020" y="19619"/>
                    <a:pt x="14775" y="19302"/>
                    <a:pt x="15473" y="18899"/>
                  </a:cubicBezTo>
                  <a:lnTo>
                    <a:pt x="16400" y="19455"/>
                  </a:lnTo>
                  <a:cubicBezTo>
                    <a:pt x="16584" y="19550"/>
                    <a:pt x="16793" y="19627"/>
                    <a:pt x="16990" y="19627"/>
                  </a:cubicBezTo>
                  <a:cubicBezTo>
                    <a:pt x="17146" y="19627"/>
                    <a:pt x="17294" y="19579"/>
                    <a:pt x="17419" y="19455"/>
                  </a:cubicBezTo>
                  <a:lnTo>
                    <a:pt x="19455" y="17419"/>
                  </a:lnTo>
                  <a:cubicBezTo>
                    <a:pt x="19736" y="17137"/>
                    <a:pt x="19641" y="16713"/>
                    <a:pt x="19455" y="16400"/>
                  </a:cubicBezTo>
                  <a:lnTo>
                    <a:pt x="18902" y="15479"/>
                  </a:lnTo>
                  <a:cubicBezTo>
                    <a:pt x="19308" y="14778"/>
                    <a:pt x="19626" y="14021"/>
                    <a:pt x="19841" y="13220"/>
                  </a:cubicBezTo>
                  <a:lnTo>
                    <a:pt x="20880" y="12960"/>
                  </a:lnTo>
                  <a:cubicBezTo>
                    <a:pt x="21233" y="12848"/>
                    <a:pt x="21600" y="12638"/>
                    <a:pt x="21600" y="12240"/>
                  </a:cubicBezTo>
                  <a:lnTo>
                    <a:pt x="21600" y="9361"/>
                  </a:lnTo>
                  <a:cubicBezTo>
                    <a:pt x="21600" y="8962"/>
                    <a:pt x="21233" y="8730"/>
                    <a:pt x="20880" y="8641"/>
                  </a:cubicBezTo>
                  <a:moveTo>
                    <a:pt x="15709" y="10800"/>
                  </a:moveTo>
                  <a:cubicBezTo>
                    <a:pt x="15709" y="13346"/>
                    <a:pt x="13771" y="15438"/>
                    <a:pt x="11291" y="15685"/>
                  </a:cubicBezTo>
                  <a:lnTo>
                    <a:pt x="11291" y="12694"/>
                  </a:lnTo>
                  <a:cubicBezTo>
                    <a:pt x="12137" y="12476"/>
                    <a:pt x="12764" y="11714"/>
                    <a:pt x="12764" y="10800"/>
                  </a:cubicBezTo>
                  <a:cubicBezTo>
                    <a:pt x="12764" y="10630"/>
                    <a:pt x="12735" y="10468"/>
                    <a:pt x="12694" y="10310"/>
                  </a:cubicBezTo>
                  <a:lnTo>
                    <a:pt x="15308" y="8857"/>
                  </a:lnTo>
                  <a:cubicBezTo>
                    <a:pt x="15565" y="9453"/>
                    <a:pt x="15709" y="10110"/>
                    <a:pt x="15709" y="10800"/>
                  </a:cubicBezTo>
                  <a:moveTo>
                    <a:pt x="9818" y="10800"/>
                  </a:moveTo>
                  <a:cubicBezTo>
                    <a:pt x="9818" y="10258"/>
                    <a:pt x="10258" y="9818"/>
                    <a:pt x="10800" y="9818"/>
                  </a:cubicBezTo>
                  <a:cubicBezTo>
                    <a:pt x="11342" y="9818"/>
                    <a:pt x="11782" y="10258"/>
                    <a:pt x="11782" y="10800"/>
                  </a:cubicBezTo>
                  <a:cubicBezTo>
                    <a:pt x="11782" y="11342"/>
                    <a:pt x="11342" y="11782"/>
                    <a:pt x="10800" y="11782"/>
                  </a:cubicBezTo>
                  <a:cubicBezTo>
                    <a:pt x="10258" y="11782"/>
                    <a:pt x="9818" y="11342"/>
                    <a:pt x="9818" y="10800"/>
                  </a:cubicBezTo>
                  <a:moveTo>
                    <a:pt x="10309" y="15685"/>
                  </a:moveTo>
                  <a:cubicBezTo>
                    <a:pt x="7829" y="15438"/>
                    <a:pt x="5891" y="13346"/>
                    <a:pt x="5891" y="10800"/>
                  </a:cubicBezTo>
                  <a:cubicBezTo>
                    <a:pt x="5891" y="10110"/>
                    <a:pt x="6035" y="9453"/>
                    <a:pt x="6292" y="8857"/>
                  </a:cubicBezTo>
                  <a:lnTo>
                    <a:pt x="8906" y="10310"/>
                  </a:lnTo>
                  <a:cubicBezTo>
                    <a:pt x="8865" y="10468"/>
                    <a:pt x="8836" y="10630"/>
                    <a:pt x="8836" y="10800"/>
                  </a:cubicBezTo>
                  <a:cubicBezTo>
                    <a:pt x="8836" y="11714"/>
                    <a:pt x="9463" y="12476"/>
                    <a:pt x="10309" y="12694"/>
                  </a:cubicBezTo>
                  <a:cubicBezTo>
                    <a:pt x="10309" y="12694"/>
                    <a:pt x="10309" y="15685"/>
                    <a:pt x="10309" y="15685"/>
                  </a:cubicBezTo>
                  <a:close/>
                  <a:moveTo>
                    <a:pt x="10800" y="5891"/>
                  </a:moveTo>
                  <a:cubicBezTo>
                    <a:pt x="12470" y="5891"/>
                    <a:pt x="13942" y="6727"/>
                    <a:pt x="14829" y="8000"/>
                  </a:cubicBezTo>
                  <a:lnTo>
                    <a:pt x="12220" y="9450"/>
                  </a:lnTo>
                  <a:cubicBezTo>
                    <a:pt x="11862" y="9074"/>
                    <a:pt x="11360" y="8836"/>
                    <a:pt x="10800" y="8836"/>
                  </a:cubicBezTo>
                  <a:cubicBezTo>
                    <a:pt x="10240" y="8836"/>
                    <a:pt x="9738" y="9074"/>
                    <a:pt x="9380" y="9450"/>
                  </a:cubicBezTo>
                  <a:lnTo>
                    <a:pt x="6771" y="8000"/>
                  </a:lnTo>
                  <a:cubicBezTo>
                    <a:pt x="7658" y="6727"/>
                    <a:pt x="9130" y="5891"/>
                    <a:pt x="10800" y="5891"/>
                  </a:cubicBezTo>
                  <a:moveTo>
                    <a:pt x="10800" y="4909"/>
                  </a:moveTo>
                  <a:cubicBezTo>
                    <a:pt x="7547" y="4909"/>
                    <a:pt x="4909" y="7547"/>
                    <a:pt x="4909" y="10800"/>
                  </a:cubicBezTo>
                  <a:cubicBezTo>
                    <a:pt x="4909" y="14054"/>
                    <a:pt x="7547" y="16691"/>
                    <a:pt x="10800" y="16691"/>
                  </a:cubicBezTo>
                  <a:cubicBezTo>
                    <a:pt x="14053" y="16691"/>
                    <a:pt x="16691" y="14054"/>
                    <a:pt x="16691" y="10800"/>
                  </a:cubicBezTo>
                  <a:cubicBezTo>
                    <a:pt x="16691" y="7547"/>
                    <a:pt x="14053" y="4909"/>
                    <a:pt x="10800" y="490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3" name="Group 3"/>
          <p:cNvGrpSpPr/>
          <p:nvPr/>
        </p:nvGrpSpPr>
        <p:grpSpPr>
          <a:xfrm>
            <a:off x="3475080" y="3403440"/>
            <a:ext cx="923760" cy="924120"/>
            <a:chOff x="3475080" y="3403440"/>
            <a:chExt cx="923760" cy="924120"/>
          </a:xfrm>
        </p:grpSpPr>
        <p:grpSp>
          <p:nvGrpSpPr>
            <p:cNvPr id="744" name="Group 71"/>
            <p:cNvGrpSpPr/>
            <p:nvPr/>
          </p:nvGrpSpPr>
          <p:grpSpPr>
            <a:xfrm>
              <a:off x="3475080" y="3403440"/>
              <a:ext cx="923760" cy="924120"/>
              <a:chOff x="3475080" y="3403440"/>
              <a:chExt cx="923760" cy="924120"/>
            </a:xfrm>
          </p:grpSpPr>
          <p:sp>
            <p:nvSpPr>
              <p:cNvPr id="745" name="Oval 72"/>
              <p:cNvSpPr/>
              <p:nvPr/>
            </p:nvSpPr>
            <p:spPr>
              <a:xfrm>
                <a:off x="3475080" y="3403440"/>
                <a:ext cx="923760" cy="924120"/>
              </a:xfrm>
              <a:prstGeom prst="ellipse">
                <a:avLst/>
              </a:prstGeom>
              <a:noFill/>
              <a:ln w="9360">
                <a:solidFill>
                  <a:srgbClr val="7a818b"/>
                </a:solidFill>
                <a:miter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Oval 73"/>
              <p:cNvSpPr/>
              <p:nvPr/>
            </p:nvSpPr>
            <p:spPr>
              <a:xfrm>
                <a:off x="3559320" y="3484440"/>
                <a:ext cx="754920" cy="762120"/>
              </a:xfrm>
              <a:prstGeom prst="ellipse">
                <a:avLst/>
              </a:prstGeom>
              <a:gradFill rotWithShape="0">
                <a:gsLst>
                  <a:gs pos="0">
                    <a:srgbClr val="6c7a8b"/>
                  </a:gs>
                  <a:gs pos="100000">
                    <a:srgbClr val="485b71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Rectangle 74"/>
              <p:cNvSpPr/>
              <p:nvPr/>
            </p:nvSpPr>
            <p:spPr>
              <a:xfrm>
                <a:off x="3651120" y="3598200"/>
                <a:ext cx="18468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8" name="Shape 2619"/>
            <p:cNvSpPr/>
            <p:nvPr/>
          </p:nvSpPr>
          <p:spPr>
            <a:xfrm>
              <a:off x="3796200" y="37263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583">
                  <a:moveTo>
                    <a:pt x="12364" y="11941"/>
                  </a:moveTo>
                  <a:lnTo>
                    <a:pt x="13062" y="14033"/>
                  </a:lnTo>
                  <a:lnTo>
                    <a:pt x="11365" y="12790"/>
                  </a:lnTo>
                  <a:lnTo>
                    <a:pt x="10785" y="12365"/>
                  </a:lnTo>
                  <a:lnTo>
                    <a:pt x="10205" y="12790"/>
                  </a:lnTo>
                  <a:lnTo>
                    <a:pt x="8508" y="14033"/>
                  </a:lnTo>
                  <a:lnTo>
                    <a:pt x="9206" y="11941"/>
                  </a:lnTo>
                  <a:lnTo>
                    <a:pt x="9426" y="11282"/>
                  </a:lnTo>
                  <a:lnTo>
                    <a:pt x="8877" y="10856"/>
                  </a:lnTo>
                  <a:lnTo>
                    <a:pt x="7511" y="9794"/>
                  </a:lnTo>
                  <a:lnTo>
                    <a:pt x="9790" y="9794"/>
                  </a:lnTo>
                  <a:lnTo>
                    <a:pt x="10030" y="9160"/>
                  </a:lnTo>
                  <a:lnTo>
                    <a:pt x="10785" y="7162"/>
                  </a:lnTo>
                  <a:lnTo>
                    <a:pt x="11540" y="9160"/>
                  </a:lnTo>
                  <a:lnTo>
                    <a:pt x="11779" y="9794"/>
                  </a:lnTo>
                  <a:lnTo>
                    <a:pt x="14059" y="9794"/>
                  </a:lnTo>
                  <a:lnTo>
                    <a:pt x="12692" y="10856"/>
                  </a:lnTo>
                  <a:lnTo>
                    <a:pt x="12144" y="11282"/>
                  </a:lnTo>
                  <a:cubicBezTo>
                    <a:pt x="12144" y="11282"/>
                    <a:pt x="12364" y="11941"/>
                    <a:pt x="12364" y="11941"/>
                  </a:cubicBezTo>
                  <a:close/>
                  <a:moveTo>
                    <a:pt x="12458" y="8813"/>
                  </a:moveTo>
                  <a:lnTo>
                    <a:pt x="10785" y="4384"/>
                  </a:lnTo>
                  <a:lnTo>
                    <a:pt x="9111" y="8813"/>
                  </a:lnTo>
                  <a:lnTo>
                    <a:pt x="4649" y="8813"/>
                  </a:lnTo>
                  <a:lnTo>
                    <a:pt x="8275" y="11631"/>
                  </a:lnTo>
                  <a:lnTo>
                    <a:pt x="6601" y="16647"/>
                  </a:lnTo>
                  <a:lnTo>
                    <a:pt x="10785" y="13582"/>
                  </a:lnTo>
                  <a:lnTo>
                    <a:pt x="14969" y="16647"/>
                  </a:lnTo>
                  <a:lnTo>
                    <a:pt x="13295" y="11631"/>
                  </a:lnTo>
                  <a:lnTo>
                    <a:pt x="16921" y="8813"/>
                  </a:lnTo>
                  <a:cubicBezTo>
                    <a:pt x="16921" y="8813"/>
                    <a:pt x="12458" y="8813"/>
                    <a:pt x="12458" y="8813"/>
                  </a:cubicBezTo>
                  <a:close/>
                  <a:moveTo>
                    <a:pt x="10800" y="20592"/>
                  </a:moveTo>
                  <a:cubicBezTo>
                    <a:pt x="9796" y="20381"/>
                    <a:pt x="982" y="17399"/>
                    <a:pt x="982" y="12263"/>
                  </a:cubicBezTo>
                  <a:cubicBezTo>
                    <a:pt x="982" y="7469"/>
                    <a:pt x="2322" y="2919"/>
                    <a:pt x="2778" y="1179"/>
                  </a:cubicBezTo>
                  <a:cubicBezTo>
                    <a:pt x="4022" y="1719"/>
                    <a:pt x="7232" y="2943"/>
                    <a:pt x="10800" y="2943"/>
                  </a:cubicBezTo>
                  <a:cubicBezTo>
                    <a:pt x="14368" y="2943"/>
                    <a:pt x="17579" y="1719"/>
                    <a:pt x="18823" y="1179"/>
                  </a:cubicBezTo>
                  <a:cubicBezTo>
                    <a:pt x="19278" y="2918"/>
                    <a:pt x="20618" y="7466"/>
                    <a:pt x="20618" y="12263"/>
                  </a:cubicBezTo>
                  <a:cubicBezTo>
                    <a:pt x="20618" y="17393"/>
                    <a:pt x="11803" y="20381"/>
                    <a:pt x="10800" y="20592"/>
                  </a:cubicBezTo>
                  <a:moveTo>
                    <a:pt x="19618" y="356"/>
                  </a:moveTo>
                  <a:cubicBezTo>
                    <a:pt x="19577" y="216"/>
                    <a:pt x="19477" y="101"/>
                    <a:pt x="19343" y="42"/>
                  </a:cubicBezTo>
                  <a:cubicBezTo>
                    <a:pt x="19210" y="-17"/>
                    <a:pt x="19057" y="-13"/>
                    <a:pt x="18926" y="52"/>
                  </a:cubicBezTo>
                  <a:cubicBezTo>
                    <a:pt x="18888" y="71"/>
                    <a:pt x="15053" y="1962"/>
                    <a:pt x="10800" y="1962"/>
                  </a:cubicBezTo>
                  <a:cubicBezTo>
                    <a:pt x="6556" y="1962"/>
                    <a:pt x="2712" y="71"/>
                    <a:pt x="2674" y="52"/>
                  </a:cubicBezTo>
                  <a:cubicBezTo>
                    <a:pt x="2543" y="-13"/>
                    <a:pt x="2391" y="-17"/>
                    <a:pt x="2257" y="42"/>
                  </a:cubicBezTo>
                  <a:cubicBezTo>
                    <a:pt x="2124" y="101"/>
                    <a:pt x="2023" y="216"/>
                    <a:pt x="1983" y="356"/>
                  </a:cubicBezTo>
                  <a:cubicBezTo>
                    <a:pt x="1963" y="426"/>
                    <a:pt x="0" y="6376"/>
                    <a:pt x="0" y="12263"/>
                  </a:cubicBezTo>
                  <a:cubicBezTo>
                    <a:pt x="0" y="18484"/>
                    <a:pt x="10271" y="21491"/>
                    <a:pt x="10708" y="21575"/>
                  </a:cubicBezTo>
                  <a:cubicBezTo>
                    <a:pt x="10739" y="21580"/>
                    <a:pt x="10770" y="21583"/>
                    <a:pt x="10800" y="21583"/>
                  </a:cubicBezTo>
                  <a:cubicBezTo>
                    <a:pt x="10831" y="21583"/>
                    <a:pt x="10862" y="21580"/>
                    <a:pt x="10892" y="21575"/>
                  </a:cubicBezTo>
                  <a:cubicBezTo>
                    <a:pt x="11329" y="21491"/>
                    <a:pt x="21600" y="18484"/>
                    <a:pt x="21600" y="12263"/>
                  </a:cubicBezTo>
                  <a:cubicBezTo>
                    <a:pt x="21600" y="6376"/>
                    <a:pt x="19637" y="426"/>
                    <a:pt x="19618" y="3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9" name="Group 5"/>
          <p:cNvGrpSpPr/>
          <p:nvPr/>
        </p:nvGrpSpPr>
        <p:grpSpPr>
          <a:xfrm>
            <a:off x="7737480" y="3397320"/>
            <a:ext cx="923760" cy="923760"/>
            <a:chOff x="7737480" y="3397320"/>
            <a:chExt cx="923760" cy="923760"/>
          </a:xfrm>
        </p:grpSpPr>
        <p:grpSp>
          <p:nvGrpSpPr>
            <p:cNvPr id="750" name="Group 79"/>
            <p:cNvGrpSpPr/>
            <p:nvPr/>
          </p:nvGrpSpPr>
          <p:grpSpPr>
            <a:xfrm>
              <a:off x="7737480" y="3397320"/>
              <a:ext cx="923760" cy="923760"/>
              <a:chOff x="7737480" y="3397320"/>
              <a:chExt cx="923760" cy="923760"/>
            </a:xfrm>
          </p:grpSpPr>
          <p:sp>
            <p:nvSpPr>
              <p:cNvPr id="751" name="Oval 80"/>
              <p:cNvSpPr/>
              <p:nvPr/>
            </p:nvSpPr>
            <p:spPr>
              <a:xfrm>
                <a:off x="7737480" y="3397320"/>
                <a:ext cx="923760" cy="923760"/>
              </a:xfrm>
              <a:prstGeom prst="ellipse">
                <a:avLst/>
              </a:prstGeom>
              <a:noFill/>
              <a:ln w="9360">
                <a:solidFill>
                  <a:srgbClr val="586579"/>
                </a:solidFill>
                <a:miter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Oval 81"/>
              <p:cNvSpPr/>
              <p:nvPr/>
            </p:nvSpPr>
            <p:spPr>
              <a:xfrm>
                <a:off x="7821720" y="3478320"/>
                <a:ext cx="754920" cy="761760"/>
              </a:xfrm>
              <a:prstGeom prst="ellipse">
                <a:avLst/>
              </a:prstGeom>
              <a:gradFill rotWithShape="0">
                <a:gsLst>
                  <a:gs pos="0">
                    <a:srgbClr val="6c7a8b"/>
                  </a:gs>
                  <a:gs pos="100000">
                    <a:srgbClr val="485b71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3" name="Shape 2620"/>
            <p:cNvSpPr/>
            <p:nvPr/>
          </p:nvSpPr>
          <p:spPr>
            <a:xfrm>
              <a:off x="8059680" y="372564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144">
                  <a:moveTo>
                    <a:pt x="20618" y="7406"/>
                  </a:moveTo>
                  <a:lnTo>
                    <a:pt x="13580" y="7406"/>
                  </a:lnTo>
                  <a:cubicBezTo>
                    <a:pt x="13156" y="6803"/>
                    <a:pt x="12718" y="6095"/>
                    <a:pt x="12319" y="5293"/>
                  </a:cubicBezTo>
                  <a:lnTo>
                    <a:pt x="20618" y="5293"/>
                  </a:lnTo>
                  <a:cubicBezTo>
                    <a:pt x="20618" y="5293"/>
                    <a:pt x="20618" y="7406"/>
                    <a:pt x="20618" y="7406"/>
                  </a:cubicBezTo>
                  <a:close/>
                  <a:moveTo>
                    <a:pt x="19636" y="13747"/>
                  </a:moveTo>
                  <a:lnTo>
                    <a:pt x="11291" y="13747"/>
                  </a:lnTo>
                  <a:lnTo>
                    <a:pt x="11291" y="8463"/>
                  </a:lnTo>
                  <a:lnTo>
                    <a:pt x="13090" y="8463"/>
                  </a:lnTo>
                  <a:cubicBezTo>
                    <a:pt x="14022" y="9712"/>
                    <a:pt x="14815" y="10437"/>
                    <a:pt x="14882" y="10497"/>
                  </a:cubicBezTo>
                  <a:cubicBezTo>
                    <a:pt x="15009" y="10610"/>
                    <a:pt x="15174" y="10644"/>
                    <a:pt x="15323" y="10601"/>
                  </a:cubicBezTo>
                  <a:cubicBezTo>
                    <a:pt x="15418" y="10574"/>
                    <a:pt x="15505" y="10516"/>
                    <a:pt x="15573" y="10429"/>
                  </a:cubicBezTo>
                  <a:cubicBezTo>
                    <a:pt x="15746" y="10205"/>
                    <a:pt x="15718" y="9871"/>
                    <a:pt x="15510" y="9684"/>
                  </a:cubicBezTo>
                  <a:cubicBezTo>
                    <a:pt x="15498" y="9674"/>
                    <a:pt x="15023" y="9238"/>
                    <a:pt x="14383" y="8463"/>
                  </a:cubicBezTo>
                  <a:lnTo>
                    <a:pt x="19636" y="8463"/>
                  </a:lnTo>
                  <a:cubicBezTo>
                    <a:pt x="19636" y="8463"/>
                    <a:pt x="19636" y="13747"/>
                    <a:pt x="19636" y="13747"/>
                  </a:cubicBezTo>
                  <a:close/>
                  <a:moveTo>
                    <a:pt x="19636" y="20087"/>
                  </a:moveTo>
                  <a:lnTo>
                    <a:pt x="11291" y="20087"/>
                  </a:lnTo>
                  <a:lnTo>
                    <a:pt x="11291" y="14803"/>
                  </a:lnTo>
                  <a:lnTo>
                    <a:pt x="19636" y="14803"/>
                  </a:lnTo>
                  <a:cubicBezTo>
                    <a:pt x="19636" y="14803"/>
                    <a:pt x="19636" y="20087"/>
                    <a:pt x="19636" y="20087"/>
                  </a:cubicBezTo>
                  <a:close/>
                  <a:moveTo>
                    <a:pt x="11291" y="5461"/>
                  </a:moveTo>
                  <a:cubicBezTo>
                    <a:pt x="11626" y="6178"/>
                    <a:pt x="11991" y="6828"/>
                    <a:pt x="12360" y="7406"/>
                  </a:cubicBezTo>
                  <a:lnTo>
                    <a:pt x="11291" y="7406"/>
                  </a:lnTo>
                  <a:cubicBezTo>
                    <a:pt x="11291" y="7406"/>
                    <a:pt x="11291" y="5461"/>
                    <a:pt x="11291" y="5461"/>
                  </a:cubicBezTo>
                  <a:close/>
                  <a:moveTo>
                    <a:pt x="12871" y="1481"/>
                  </a:moveTo>
                  <a:cubicBezTo>
                    <a:pt x="14045" y="751"/>
                    <a:pt x="15436" y="979"/>
                    <a:pt x="15979" y="1990"/>
                  </a:cubicBezTo>
                  <a:cubicBezTo>
                    <a:pt x="16343" y="2668"/>
                    <a:pt x="16223" y="3523"/>
                    <a:pt x="15755" y="4236"/>
                  </a:cubicBezTo>
                  <a:lnTo>
                    <a:pt x="11845" y="4236"/>
                  </a:lnTo>
                  <a:cubicBezTo>
                    <a:pt x="11740" y="3975"/>
                    <a:pt x="11641" y="3708"/>
                    <a:pt x="11550" y="3432"/>
                  </a:cubicBezTo>
                  <a:cubicBezTo>
                    <a:pt x="11653" y="2691"/>
                    <a:pt x="12120" y="1947"/>
                    <a:pt x="12871" y="1481"/>
                  </a:cubicBezTo>
                  <a:moveTo>
                    <a:pt x="10309" y="7406"/>
                  </a:moveTo>
                  <a:lnTo>
                    <a:pt x="9224" y="7406"/>
                  </a:lnTo>
                  <a:cubicBezTo>
                    <a:pt x="9600" y="6819"/>
                    <a:pt x="9970" y="6158"/>
                    <a:pt x="10309" y="5429"/>
                  </a:cubicBezTo>
                  <a:cubicBezTo>
                    <a:pt x="10309" y="5429"/>
                    <a:pt x="10309" y="7406"/>
                    <a:pt x="10309" y="7406"/>
                  </a:cubicBezTo>
                  <a:close/>
                  <a:moveTo>
                    <a:pt x="10309" y="13747"/>
                  </a:moveTo>
                  <a:lnTo>
                    <a:pt x="1964" y="13747"/>
                  </a:lnTo>
                  <a:lnTo>
                    <a:pt x="1964" y="8463"/>
                  </a:lnTo>
                  <a:lnTo>
                    <a:pt x="7202" y="8463"/>
                  </a:lnTo>
                  <a:cubicBezTo>
                    <a:pt x="6563" y="9238"/>
                    <a:pt x="6087" y="9674"/>
                    <a:pt x="6075" y="9684"/>
                  </a:cubicBezTo>
                  <a:cubicBezTo>
                    <a:pt x="5867" y="9871"/>
                    <a:pt x="5839" y="10205"/>
                    <a:pt x="6012" y="10429"/>
                  </a:cubicBezTo>
                  <a:cubicBezTo>
                    <a:pt x="6080" y="10516"/>
                    <a:pt x="6167" y="10574"/>
                    <a:pt x="6261" y="10601"/>
                  </a:cubicBezTo>
                  <a:cubicBezTo>
                    <a:pt x="6411" y="10644"/>
                    <a:pt x="6575" y="10610"/>
                    <a:pt x="6703" y="10497"/>
                  </a:cubicBezTo>
                  <a:cubicBezTo>
                    <a:pt x="6770" y="10437"/>
                    <a:pt x="7563" y="9712"/>
                    <a:pt x="8495" y="8463"/>
                  </a:cubicBezTo>
                  <a:lnTo>
                    <a:pt x="10309" y="8463"/>
                  </a:lnTo>
                  <a:cubicBezTo>
                    <a:pt x="10309" y="8463"/>
                    <a:pt x="10309" y="13747"/>
                    <a:pt x="10309" y="13747"/>
                  </a:cubicBezTo>
                  <a:close/>
                  <a:moveTo>
                    <a:pt x="10309" y="20087"/>
                  </a:moveTo>
                  <a:lnTo>
                    <a:pt x="1964" y="20087"/>
                  </a:lnTo>
                  <a:lnTo>
                    <a:pt x="1964" y="14803"/>
                  </a:lnTo>
                  <a:lnTo>
                    <a:pt x="10309" y="14803"/>
                  </a:lnTo>
                  <a:cubicBezTo>
                    <a:pt x="10309" y="14803"/>
                    <a:pt x="10309" y="20087"/>
                    <a:pt x="10309" y="20087"/>
                  </a:cubicBezTo>
                  <a:close/>
                  <a:moveTo>
                    <a:pt x="982" y="7406"/>
                  </a:moveTo>
                  <a:lnTo>
                    <a:pt x="982" y="5293"/>
                  </a:lnTo>
                  <a:lnTo>
                    <a:pt x="9266" y="5293"/>
                  </a:lnTo>
                  <a:cubicBezTo>
                    <a:pt x="8867" y="6095"/>
                    <a:pt x="8429" y="6803"/>
                    <a:pt x="8005" y="7406"/>
                  </a:cubicBezTo>
                  <a:cubicBezTo>
                    <a:pt x="8005" y="7406"/>
                    <a:pt x="982" y="7406"/>
                    <a:pt x="982" y="7406"/>
                  </a:cubicBezTo>
                  <a:close/>
                  <a:moveTo>
                    <a:pt x="5606" y="1990"/>
                  </a:moveTo>
                  <a:cubicBezTo>
                    <a:pt x="6148" y="980"/>
                    <a:pt x="7540" y="751"/>
                    <a:pt x="8714" y="1481"/>
                  </a:cubicBezTo>
                  <a:cubicBezTo>
                    <a:pt x="9465" y="1948"/>
                    <a:pt x="9931" y="2692"/>
                    <a:pt x="10035" y="3433"/>
                  </a:cubicBezTo>
                  <a:cubicBezTo>
                    <a:pt x="9944" y="3708"/>
                    <a:pt x="9845" y="3975"/>
                    <a:pt x="9740" y="4236"/>
                  </a:cubicBezTo>
                  <a:lnTo>
                    <a:pt x="5830" y="4236"/>
                  </a:lnTo>
                  <a:cubicBezTo>
                    <a:pt x="5362" y="3523"/>
                    <a:pt x="5242" y="2668"/>
                    <a:pt x="5606" y="1990"/>
                  </a:cubicBezTo>
                  <a:moveTo>
                    <a:pt x="20618" y="4236"/>
                  </a:moveTo>
                  <a:lnTo>
                    <a:pt x="16874" y="4236"/>
                  </a:lnTo>
                  <a:cubicBezTo>
                    <a:pt x="17259" y="3325"/>
                    <a:pt x="17284" y="2310"/>
                    <a:pt x="16829" y="1461"/>
                  </a:cubicBezTo>
                  <a:cubicBezTo>
                    <a:pt x="16015" y="-54"/>
                    <a:pt x="14024" y="-456"/>
                    <a:pt x="12380" y="565"/>
                  </a:cubicBezTo>
                  <a:cubicBezTo>
                    <a:pt x="11747" y="959"/>
                    <a:pt x="11277" y="1511"/>
                    <a:pt x="10965" y="2122"/>
                  </a:cubicBezTo>
                  <a:cubicBezTo>
                    <a:pt x="10949" y="2115"/>
                    <a:pt x="10937" y="2103"/>
                    <a:pt x="10920" y="2098"/>
                  </a:cubicBezTo>
                  <a:cubicBezTo>
                    <a:pt x="10909" y="2095"/>
                    <a:pt x="10899" y="2097"/>
                    <a:pt x="10888" y="2095"/>
                  </a:cubicBezTo>
                  <a:cubicBezTo>
                    <a:pt x="10861" y="2089"/>
                    <a:pt x="10834" y="2089"/>
                    <a:pt x="10806" y="2088"/>
                  </a:cubicBezTo>
                  <a:cubicBezTo>
                    <a:pt x="10782" y="2089"/>
                    <a:pt x="10759" y="2089"/>
                    <a:pt x="10735" y="2093"/>
                  </a:cubicBezTo>
                  <a:cubicBezTo>
                    <a:pt x="10712" y="2096"/>
                    <a:pt x="10689" y="2090"/>
                    <a:pt x="10665" y="2098"/>
                  </a:cubicBezTo>
                  <a:cubicBezTo>
                    <a:pt x="10648" y="2103"/>
                    <a:pt x="10636" y="2115"/>
                    <a:pt x="10620" y="2122"/>
                  </a:cubicBezTo>
                  <a:cubicBezTo>
                    <a:pt x="10307" y="1511"/>
                    <a:pt x="9837" y="959"/>
                    <a:pt x="9205" y="566"/>
                  </a:cubicBezTo>
                  <a:cubicBezTo>
                    <a:pt x="7561" y="-456"/>
                    <a:pt x="5569" y="-54"/>
                    <a:pt x="4755" y="1461"/>
                  </a:cubicBezTo>
                  <a:cubicBezTo>
                    <a:pt x="4301" y="2310"/>
                    <a:pt x="4325" y="3325"/>
                    <a:pt x="4711" y="4236"/>
                  </a:cubicBezTo>
                  <a:lnTo>
                    <a:pt x="982" y="4236"/>
                  </a:lnTo>
                  <a:cubicBezTo>
                    <a:pt x="440" y="4236"/>
                    <a:pt x="0" y="4709"/>
                    <a:pt x="0" y="5293"/>
                  </a:cubicBezTo>
                  <a:lnTo>
                    <a:pt x="0" y="7406"/>
                  </a:lnTo>
                  <a:cubicBezTo>
                    <a:pt x="0" y="7990"/>
                    <a:pt x="440" y="8463"/>
                    <a:pt x="982" y="8463"/>
                  </a:cubicBezTo>
                  <a:lnTo>
                    <a:pt x="982" y="20087"/>
                  </a:lnTo>
                  <a:cubicBezTo>
                    <a:pt x="982" y="20671"/>
                    <a:pt x="1422" y="21144"/>
                    <a:pt x="1964" y="21144"/>
                  </a:cubicBezTo>
                  <a:lnTo>
                    <a:pt x="19636" y="21144"/>
                  </a:lnTo>
                  <a:cubicBezTo>
                    <a:pt x="20178" y="21144"/>
                    <a:pt x="20618" y="20671"/>
                    <a:pt x="20618" y="20087"/>
                  </a:cubicBezTo>
                  <a:lnTo>
                    <a:pt x="20618" y="8463"/>
                  </a:lnTo>
                  <a:cubicBezTo>
                    <a:pt x="21160" y="8463"/>
                    <a:pt x="21600" y="7990"/>
                    <a:pt x="21600" y="7406"/>
                  </a:cubicBezTo>
                  <a:lnTo>
                    <a:pt x="21600" y="5293"/>
                  </a:lnTo>
                  <a:cubicBezTo>
                    <a:pt x="21600" y="4709"/>
                    <a:pt x="21160" y="4236"/>
                    <a:pt x="20618" y="42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4" name="Group 2"/>
          <p:cNvGrpSpPr/>
          <p:nvPr/>
        </p:nvGrpSpPr>
        <p:grpSpPr>
          <a:xfrm>
            <a:off x="1547640" y="3403440"/>
            <a:ext cx="924120" cy="924120"/>
            <a:chOff x="1547640" y="3403440"/>
            <a:chExt cx="924120" cy="924120"/>
          </a:xfrm>
        </p:grpSpPr>
        <p:grpSp>
          <p:nvGrpSpPr>
            <p:cNvPr id="755" name="Group 1"/>
            <p:cNvGrpSpPr/>
            <p:nvPr/>
          </p:nvGrpSpPr>
          <p:grpSpPr>
            <a:xfrm>
              <a:off x="1547640" y="3403440"/>
              <a:ext cx="924120" cy="924120"/>
              <a:chOff x="1547640" y="3403440"/>
              <a:chExt cx="924120" cy="924120"/>
            </a:xfrm>
          </p:grpSpPr>
          <p:sp>
            <p:nvSpPr>
              <p:cNvPr id="756" name="Oval 24"/>
              <p:cNvSpPr/>
              <p:nvPr/>
            </p:nvSpPr>
            <p:spPr>
              <a:xfrm>
                <a:off x="1547640" y="3403440"/>
                <a:ext cx="924120" cy="924120"/>
              </a:xfrm>
              <a:prstGeom prst="ellipse">
                <a:avLst/>
              </a:prstGeom>
              <a:noFill/>
              <a:ln w="9360">
                <a:solidFill>
                  <a:srgbClr val="ff8e6c"/>
                </a:solidFill>
                <a:miter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Oval 25"/>
              <p:cNvSpPr/>
              <p:nvPr/>
            </p:nvSpPr>
            <p:spPr>
              <a:xfrm>
                <a:off x="1631880" y="3484440"/>
                <a:ext cx="755280" cy="762120"/>
              </a:xfrm>
              <a:prstGeom prst="ellipse">
                <a:avLst/>
              </a:prstGeom>
              <a:gradFill rotWithShape="0">
                <a:gsLst>
                  <a:gs pos="0">
                    <a:srgbClr val="ff9c80"/>
                  </a:gs>
                  <a:gs pos="100000">
                    <a:srgbClr val="e5754f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Rectangle 61"/>
              <p:cNvSpPr/>
              <p:nvPr/>
            </p:nvSpPr>
            <p:spPr>
              <a:xfrm>
                <a:off x="1761840" y="3614400"/>
                <a:ext cx="1846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9" name="Shape 2564"/>
            <p:cNvSpPr/>
            <p:nvPr/>
          </p:nvSpPr>
          <p:spPr>
            <a:xfrm>
              <a:off x="1868760" y="37177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818" y="10800"/>
                  </a:moveTo>
                  <a:lnTo>
                    <a:pt x="11782" y="10800"/>
                  </a:lnTo>
                  <a:lnTo>
                    <a:pt x="11782" y="12764"/>
                  </a:lnTo>
                  <a:lnTo>
                    <a:pt x="9818" y="12764"/>
                  </a:lnTo>
                  <a:cubicBezTo>
                    <a:pt x="9818" y="12764"/>
                    <a:pt x="9818" y="10800"/>
                    <a:pt x="9818" y="10800"/>
                  </a:cubicBezTo>
                  <a:close/>
                  <a:moveTo>
                    <a:pt x="9327" y="13745"/>
                  </a:moveTo>
                  <a:lnTo>
                    <a:pt x="12273" y="13745"/>
                  </a:lnTo>
                  <a:cubicBezTo>
                    <a:pt x="12544" y="13745"/>
                    <a:pt x="12764" y="13526"/>
                    <a:pt x="12764" y="13255"/>
                  </a:cubicBezTo>
                  <a:lnTo>
                    <a:pt x="12764" y="10309"/>
                  </a:lnTo>
                  <a:cubicBezTo>
                    <a:pt x="12764" y="10038"/>
                    <a:pt x="12544" y="9818"/>
                    <a:pt x="12273" y="9818"/>
                  </a:cubicBezTo>
                  <a:lnTo>
                    <a:pt x="9327" y="9818"/>
                  </a:lnTo>
                  <a:cubicBezTo>
                    <a:pt x="9056" y="9818"/>
                    <a:pt x="8836" y="10038"/>
                    <a:pt x="8836" y="10309"/>
                  </a:cubicBezTo>
                  <a:lnTo>
                    <a:pt x="8836" y="13255"/>
                  </a:lnTo>
                  <a:cubicBezTo>
                    <a:pt x="8836" y="13526"/>
                    <a:pt x="9056" y="13745"/>
                    <a:pt x="9327" y="13745"/>
                  </a:cubicBezTo>
                  <a:moveTo>
                    <a:pt x="14727" y="15709"/>
                  </a:moveTo>
                  <a:lnTo>
                    <a:pt x="16691" y="15709"/>
                  </a:lnTo>
                  <a:lnTo>
                    <a:pt x="16691" y="17673"/>
                  </a:lnTo>
                  <a:lnTo>
                    <a:pt x="14727" y="17673"/>
                  </a:lnTo>
                  <a:cubicBezTo>
                    <a:pt x="14727" y="17673"/>
                    <a:pt x="14727" y="15709"/>
                    <a:pt x="14727" y="15709"/>
                  </a:cubicBezTo>
                  <a:close/>
                  <a:moveTo>
                    <a:pt x="14236" y="18655"/>
                  </a:moveTo>
                  <a:lnTo>
                    <a:pt x="17182" y="18655"/>
                  </a:lnTo>
                  <a:cubicBezTo>
                    <a:pt x="17453" y="18655"/>
                    <a:pt x="17673" y="18435"/>
                    <a:pt x="17673" y="18164"/>
                  </a:cubicBezTo>
                  <a:lnTo>
                    <a:pt x="17673" y="15218"/>
                  </a:lnTo>
                  <a:cubicBezTo>
                    <a:pt x="17673" y="14947"/>
                    <a:pt x="17453" y="14727"/>
                    <a:pt x="17182" y="14727"/>
                  </a:cubicBezTo>
                  <a:lnTo>
                    <a:pt x="14236" y="14727"/>
                  </a:lnTo>
                  <a:cubicBezTo>
                    <a:pt x="13965" y="14727"/>
                    <a:pt x="13745" y="14947"/>
                    <a:pt x="13745" y="15218"/>
                  </a:cubicBezTo>
                  <a:lnTo>
                    <a:pt x="13745" y="18164"/>
                  </a:lnTo>
                  <a:cubicBezTo>
                    <a:pt x="13745" y="18435"/>
                    <a:pt x="13965" y="18655"/>
                    <a:pt x="14236" y="18655"/>
                  </a:cubicBezTo>
                  <a:moveTo>
                    <a:pt x="9818" y="5891"/>
                  </a:moveTo>
                  <a:lnTo>
                    <a:pt x="11782" y="5891"/>
                  </a:lnTo>
                  <a:lnTo>
                    <a:pt x="11782" y="7855"/>
                  </a:lnTo>
                  <a:lnTo>
                    <a:pt x="9818" y="7855"/>
                  </a:lnTo>
                  <a:cubicBezTo>
                    <a:pt x="9818" y="7855"/>
                    <a:pt x="9818" y="5891"/>
                    <a:pt x="9818" y="5891"/>
                  </a:cubicBezTo>
                  <a:close/>
                  <a:moveTo>
                    <a:pt x="9327" y="8836"/>
                  </a:moveTo>
                  <a:lnTo>
                    <a:pt x="12273" y="8836"/>
                  </a:lnTo>
                  <a:cubicBezTo>
                    <a:pt x="12544" y="8836"/>
                    <a:pt x="12764" y="8617"/>
                    <a:pt x="12764" y="8345"/>
                  </a:cubicBezTo>
                  <a:lnTo>
                    <a:pt x="12764" y="5400"/>
                  </a:lnTo>
                  <a:cubicBezTo>
                    <a:pt x="12764" y="5129"/>
                    <a:pt x="12544" y="4909"/>
                    <a:pt x="12273" y="4909"/>
                  </a:cubicBezTo>
                  <a:lnTo>
                    <a:pt x="9327" y="4909"/>
                  </a:lnTo>
                  <a:cubicBezTo>
                    <a:pt x="9056" y="4909"/>
                    <a:pt x="8836" y="5129"/>
                    <a:pt x="8836" y="5400"/>
                  </a:cubicBezTo>
                  <a:lnTo>
                    <a:pt x="8836" y="8345"/>
                  </a:lnTo>
                  <a:cubicBezTo>
                    <a:pt x="8836" y="8617"/>
                    <a:pt x="9056" y="8836"/>
                    <a:pt x="9327" y="8836"/>
                  </a:cubicBezTo>
                  <a:moveTo>
                    <a:pt x="4909" y="15709"/>
                  </a:moveTo>
                  <a:lnTo>
                    <a:pt x="6873" y="15709"/>
                  </a:lnTo>
                  <a:lnTo>
                    <a:pt x="6873" y="17673"/>
                  </a:lnTo>
                  <a:lnTo>
                    <a:pt x="4909" y="17673"/>
                  </a:lnTo>
                  <a:cubicBezTo>
                    <a:pt x="4909" y="17673"/>
                    <a:pt x="4909" y="15709"/>
                    <a:pt x="4909" y="15709"/>
                  </a:cubicBezTo>
                  <a:close/>
                  <a:moveTo>
                    <a:pt x="4418" y="18655"/>
                  </a:moveTo>
                  <a:lnTo>
                    <a:pt x="7364" y="18655"/>
                  </a:lnTo>
                  <a:cubicBezTo>
                    <a:pt x="7635" y="18655"/>
                    <a:pt x="7855" y="18435"/>
                    <a:pt x="7855" y="18164"/>
                  </a:cubicBezTo>
                  <a:lnTo>
                    <a:pt x="7855" y="15218"/>
                  </a:lnTo>
                  <a:cubicBezTo>
                    <a:pt x="7855" y="14947"/>
                    <a:pt x="7635" y="14727"/>
                    <a:pt x="7364" y="14727"/>
                  </a:cubicBezTo>
                  <a:lnTo>
                    <a:pt x="4418" y="14727"/>
                  </a:lnTo>
                  <a:cubicBezTo>
                    <a:pt x="4147" y="14727"/>
                    <a:pt x="3927" y="14947"/>
                    <a:pt x="3927" y="15218"/>
                  </a:cubicBezTo>
                  <a:lnTo>
                    <a:pt x="3927" y="18164"/>
                  </a:lnTo>
                  <a:cubicBezTo>
                    <a:pt x="3927" y="18435"/>
                    <a:pt x="4147" y="18655"/>
                    <a:pt x="4418" y="18655"/>
                  </a:cubicBezTo>
                  <a:moveTo>
                    <a:pt x="14727" y="10800"/>
                  </a:moveTo>
                  <a:lnTo>
                    <a:pt x="16691" y="10800"/>
                  </a:lnTo>
                  <a:lnTo>
                    <a:pt x="16691" y="12764"/>
                  </a:lnTo>
                  <a:lnTo>
                    <a:pt x="14727" y="12764"/>
                  </a:lnTo>
                  <a:cubicBezTo>
                    <a:pt x="14727" y="12764"/>
                    <a:pt x="14727" y="10800"/>
                    <a:pt x="14727" y="10800"/>
                  </a:cubicBezTo>
                  <a:close/>
                  <a:moveTo>
                    <a:pt x="14236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lnTo>
                    <a:pt x="17673" y="10309"/>
                  </a:lnTo>
                  <a:cubicBezTo>
                    <a:pt x="17673" y="10038"/>
                    <a:pt x="17453" y="9818"/>
                    <a:pt x="17182" y="9818"/>
                  </a:cubicBezTo>
                  <a:lnTo>
                    <a:pt x="14236" y="9818"/>
                  </a:lnTo>
                  <a:cubicBezTo>
                    <a:pt x="13965" y="9818"/>
                    <a:pt x="13745" y="10038"/>
                    <a:pt x="13745" y="10309"/>
                  </a:cubicBezTo>
                  <a:lnTo>
                    <a:pt x="13745" y="13255"/>
                  </a:lnTo>
                  <a:cubicBezTo>
                    <a:pt x="13745" y="13526"/>
                    <a:pt x="13965" y="13745"/>
                    <a:pt x="14236" y="13745"/>
                  </a:cubicBezTo>
                  <a:moveTo>
                    <a:pt x="4909" y="10800"/>
                  </a:moveTo>
                  <a:lnTo>
                    <a:pt x="6873" y="10800"/>
                  </a:lnTo>
                  <a:lnTo>
                    <a:pt x="6873" y="12764"/>
                  </a:lnTo>
                  <a:lnTo>
                    <a:pt x="4909" y="12764"/>
                  </a:lnTo>
                  <a:cubicBezTo>
                    <a:pt x="4909" y="12764"/>
                    <a:pt x="4909" y="10800"/>
                    <a:pt x="4909" y="10800"/>
                  </a:cubicBezTo>
                  <a:close/>
                  <a:moveTo>
                    <a:pt x="4418" y="13745"/>
                  </a:moveTo>
                  <a:lnTo>
                    <a:pt x="7364" y="13745"/>
                  </a:lnTo>
                  <a:cubicBezTo>
                    <a:pt x="7635" y="13745"/>
                    <a:pt x="7855" y="13526"/>
                    <a:pt x="7855" y="13255"/>
                  </a:cubicBezTo>
                  <a:lnTo>
                    <a:pt x="7855" y="10309"/>
                  </a:lnTo>
                  <a:cubicBezTo>
                    <a:pt x="7855" y="10038"/>
                    <a:pt x="7635" y="9818"/>
                    <a:pt x="7364" y="9818"/>
                  </a:cubicBezTo>
                  <a:lnTo>
                    <a:pt x="4418" y="9818"/>
                  </a:lnTo>
                  <a:cubicBezTo>
                    <a:pt x="4147" y="9818"/>
                    <a:pt x="3927" y="10038"/>
                    <a:pt x="3927" y="10309"/>
                  </a:cubicBezTo>
                  <a:lnTo>
                    <a:pt x="3927" y="13255"/>
                  </a:lnTo>
                  <a:cubicBezTo>
                    <a:pt x="3927" y="13526"/>
                    <a:pt x="4147" y="13745"/>
                    <a:pt x="4418" y="13745"/>
                  </a:cubicBezTo>
                  <a:moveTo>
                    <a:pt x="4909" y="5891"/>
                  </a:moveTo>
                  <a:lnTo>
                    <a:pt x="6873" y="5891"/>
                  </a:lnTo>
                  <a:lnTo>
                    <a:pt x="6873" y="7855"/>
                  </a:lnTo>
                  <a:lnTo>
                    <a:pt x="4909" y="7855"/>
                  </a:lnTo>
                  <a:cubicBezTo>
                    <a:pt x="4909" y="7855"/>
                    <a:pt x="4909" y="5891"/>
                    <a:pt x="4909" y="5891"/>
                  </a:cubicBezTo>
                  <a:close/>
                  <a:moveTo>
                    <a:pt x="4418" y="8836"/>
                  </a:moveTo>
                  <a:lnTo>
                    <a:pt x="7364" y="8836"/>
                  </a:lnTo>
                  <a:cubicBezTo>
                    <a:pt x="7635" y="8836"/>
                    <a:pt x="7855" y="8617"/>
                    <a:pt x="7855" y="8345"/>
                  </a:cubicBezTo>
                  <a:lnTo>
                    <a:pt x="7855" y="5400"/>
                  </a:lnTo>
                  <a:cubicBezTo>
                    <a:pt x="7855" y="5129"/>
                    <a:pt x="7635" y="4909"/>
                    <a:pt x="7364" y="4909"/>
                  </a:cubicBezTo>
                  <a:lnTo>
                    <a:pt x="4418" y="4909"/>
                  </a:lnTo>
                  <a:cubicBezTo>
                    <a:pt x="4147" y="4909"/>
                    <a:pt x="3927" y="5129"/>
                    <a:pt x="3927" y="5400"/>
                  </a:cubicBezTo>
                  <a:lnTo>
                    <a:pt x="3927" y="8345"/>
                  </a:lnTo>
                  <a:cubicBezTo>
                    <a:pt x="3927" y="8617"/>
                    <a:pt x="4147" y="8836"/>
                    <a:pt x="4418" y="8836"/>
                  </a:cubicBezTo>
                  <a:moveTo>
                    <a:pt x="14727" y="5891"/>
                  </a:moveTo>
                  <a:lnTo>
                    <a:pt x="16691" y="5891"/>
                  </a:lnTo>
                  <a:lnTo>
                    <a:pt x="16691" y="7855"/>
                  </a:lnTo>
                  <a:lnTo>
                    <a:pt x="14727" y="7855"/>
                  </a:lnTo>
                  <a:cubicBezTo>
                    <a:pt x="14727" y="7855"/>
                    <a:pt x="14727" y="5891"/>
                    <a:pt x="14727" y="5891"/>
                  </a:cubicBezTo>
                  <a:close/>
                  <a:moveTo>
                    <a:pt x="14236" y="8836"/>
                  </a:moveTo>
                  <a:lnTo>
                    <a:pt x="17182" y="8836"/>
                  </a:lnTo>
                  <a:cubicBezTo>
                    <a:pt x="17453" y="8836"/>
                    <a:pt x="17673" y="8617"/>
                    <a:pt x="17673" y="8345"/>
                  </a:cubicBezTo>
                  <a:lnTo>
                    <a:pt x="17673" y="5400"/>
                  </a:lnTo>
                  <a:cubicBezTo>
                    <a:pt x="17673" y="5129"/>
                    <a:pt x="17453" y="4909"/>
                    <a:pt x="17182" y="4909"/>
                  </a:cubicBezTo>
                  <a:lnTo>
                    <a:pt x="14236" y="4909"/>
                  </a:lnTo>
                  <a:cubicBezTo>
                    <a:pt x="13965" y="4909"/>
                    <a:pt x="13745" y="5129"/>
                    <a:pt x="13745" y="5400"/>
                  </a:cubicBezTo>
                  <a:lnTo>
                    <a:pt x="13745" y="8345"/>
                  </a:lnTo>
                  <a:cubicBezTo>
                    <a:pt x="13745" y="8617"/>
                    <a:pt x="13965" y="8836"/>
                    <a:pt x="14236" y="8836"/>
                  </a:cubicBezTo>
                  <a:moveTo>
                    <a:pt x="19636" y="1964"/>
                  </a:moveTo>
                  <a:lnTo>
                    <a:pt x="1964" y="1964"/>
                  </a:lnTo>
                  <a:lnTo>
                    <a:pt x="1964" y="982"/>
                  </a:lnTo>
                  <a:lnTo>
                    <a:pt x="19636" y="982"/>
                  </a:lnTo>
                  <a:cubicBezTo>
                    <a:pt x="19636" y="982"/>
                    <a:pt x="19636" y="1964"/>
                    <a:pt x="19636" y="1964"/>
                  </a:cubicBezTo>
                  <a:close/>
                  <a:moveTo>
                    <a:pt x="19636" y="20618"/>
                  </a:moveTo>
                  <a:lnTo>
                    <a:pt x="12764" y="20618"/>
                  </a:lnTo>
                  <a:lnTo>
                    <a:pt x="12764" y="15218"/>
                  </a:lnTo>
                  <a:cubicBezTo>
                    <a:pt x="12764" y="14947"/>
                    <a:pt x="12544" y="14727"/>
                    <a:pt x="12273" y="14727"/>
                  </a:cubicBezTo>
                  <a:lnTo>
                    <a:pt x="9327" y="14727"/>
                  </a:lnTo>
                  <a:cubicBezTo>
                    <a:pt x="9056" y="14727"/>
                    <a:pt x="8836" y="14947"/>
                    <a:pt x="8836" y="15218"/>
                  </a:cubicBezTo>
                  <a:lnTo>
                    <a:pt x="8836" y="20618"/>
                  </a:lnTo>
                  <a:lnTo>
                    <a:pt x="1964" y="20618"/>
                  </a:lnTo>
                  <a:lnTo>
                    <a:pt x="1964" y="2945"/>
                  </a:lnTo>
                  <a:lnTo>
                    <a:pt x="19636" y="2945"/>
                  </a:lnTo>
                  <a:cubicBezTo>
                    <a:pt x="19636" y="2945"/>
                    <a:pt x="19636" y="20618"/>
                    <a:pt x="19636" y="20618"/>
                  </a:cubicBezTo>
                  <a:close/>
                  <a:moveTo>
                    <a:pt x="11782" y="20618"/>
                  </a:moveTo>
                  <a:lnTo>
                    <a:pt x="9818" y="20618"/>
                  </a:lnTo>
                  <a:lnTo>
                    <a:pt x="9818" y="15709"/>
                  </a:lnTo>
                  <a:lnTo>
                    <a:pt x="11782" y="15709"/>
                  </a:lnTo>
                  <a:cubicBezTo>
                    <a:pt x="11782" y="15709"/>
                    <a:pt x="11782" y="20618"/>
                    <a:pt x="11782" y="20618"/>
                  </a:cubicBezTo>
                  <a:close/>
                  <a:moveTo>
                    <a:pt x="21109" y="1964"/>
                  </a:moveTo>
                  <a:lnTo>
                    <a:pt x="20618" y="1964"/>
                  </a:lnTo>
                  <a:lnTo>
                    <a:pt x="20618" y="491"/>
                  </a:lnTo>
                  <a:cubicBezTo>
                    <a:pt x="20618" y="220"/>
                    <a:pt x="20399" y="0"/>
                    <a:pt x="20127" y="0"/>
                  </a:cubicBezTo>
                  <a:lnTo>
                    <a:pt x="1473" y="0"/>
                  </a:lnTo>
                  <a:cubicBezTo>
                    <a:pt x="1201" y="0"/>
                    <a:pt x="982" y="220"/>
                    <a:pt x="982" y="491"/>
                  </a:cubicBezTo>
                  <a:lnTo>
                    <a:pt x="982" y="1964"/>
                  </a:lnTo>
                  <a:lnTo>
                    <a:pt x="491" y="1964"/>
                  </a:lnTo>
                  <a:cubicBezTo>
                    <a:pt x="220" y="1964"/>
                    <a:pt x="0" y="2184"/>
                    <a:pt x="0" y="2455"/>
                  </a:cubicBezTo>
                  <a:cubicBezTo>
                    <a:pt x="0" y="2726"/>
                    <a:pt x="220" y="2945"/>
                    <a:pt x="491" y="2945"/>
                  </a:cubicBezTo>
                  <a:lnTo>
                    <a:pt x="982" y="2945"/>
                  </a:lnTo>
                  <a:lnTo>
                    <a:pt x="982" y="21109"/>
                  </a:lnTo>
                  <a:cubicBezTo>
                    <a:pt x="982" y="21381"/>
                    <a:pt x="1201" y="21600"/>
                    <a:pt x="1473" y="21600"/>
                  </a:cubicBezTo>
                  <a:lnTo>
                    <a:pt x="20127" y="21600"/>
                  </a:lnTo>
                  <a:cubicBezTo>
                    <a:pt x="20399" y="21600"/>
                    <a:pt x="20618" y="21381"/>
                    <a:pt x="20618" y="21109"/>
                  </a:cubicBezTo>
                  <a:lnTo>
                    <a:pt x="20618" y="2945"/>
                  </a:lnTo>
                  <a:lnTo>
                    <a:pt x="21109" y="2945"/>
                  </a:lnTo>
                  <a:cubicBezTo>
                    <a:pt x="21380" y="2945"/>
                    <a:pt x="21600" y="2726"/>
                    <a:pt x="21600" y="2455"/>
                  </a:cubicBezTo>
                  <a:cubicBezTo>
                    <a:pt x="21600" y="2184"/>
                    <a:pt x="21380" y="1964"/>
                    <a:pt x="21109" y="196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0" name="Straight Connector 87"/>
          <p:cNvSpPr/>
          <p:nvPr/>
        </p:nvSpPr>
        <p:spPr>
          <a:xfrm flipV="1">
            <a:off x="3924360" y="2609640"/>
            <a:ext cx="0" cy="787320"/>
          </a:xfrm>
          <a:prstGeom prst="line">
            <a:avLst/>
          </a:prstGeom>
          <a:ln w="19080">
            <a:solidFill>
              <a:srgbClr val="46576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traight Connector 88"/>
          <p:cNvSpPr/>
          <p:nvPr/>
        </p:nvSpPr>
        <p:spPr>
          <a:xfrm flipV="1">
            <a:off x="2001960" y="4338360"/>
            <a:ext cx="0" cy="787320"/>
          </a:xfrm>
          <a:prstGeom prst="line">
            <a:avLst/>
          </a:prstGeom>
          <a:ln w="19080">
            <a:solidFill>
              <a:srgbClr val="ff8e6c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Straight Connector 89"/>
          <p:cNvSpPr/>
          <p:nvPr/>
        </p:nvSpPr>
        <p:spPr>
          <a:xfrm flipV="1">
            <a:off x="6095880" y="4338360"/>
            <a:ext cx="0" cy="787320"/>
          </a:xfrm>
          <a:prstGeom prst="line">
            <a:avLst/>
          </a:prstGeom>
          <a:ln w="19080">
            <a:solidFill>
              <a:srgbClr val="f15a25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traight Connector 90"/>
          <p:cNvSpPr/>
          <p:nvPr/>
        </p:nvSpPr>
        <p:spPr>
          <a:xfrm flipV="1">
            <a:off x="8186760" y="2609640"/>
            <a:ext cx="0" cy="787320"/>
          </a:xfrm>
          <a:prstGeom prst="line">
            <a:avLst/>
          </a:prstGeom>
          <a:ln w="19080">
            <a:solidFill>
              <a:srgbClr val="46576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traight Connector 91"/>
          <p:cNvSpPr/>
          <p:nvPr/>
        </p:nvSpPr>
        <p:spPr>
          <a:xfrm flipV="1">
            <a:off x="10134720" y="4320720"/>
            <a:ext cx="0" cy="787320"/>
          </a:xfrm>
          <a:prstGeom prst="line">
            <a:avLst/>
          </a:prstGeom>
          <a:ln w="19080">
            <a:solidFill>
              <a:srgbClr val="ff8e6c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00"/>
                            </p:stCondLst>
                            <p:childTnLst>
                              <p:par>
                                <p:cTn id="8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5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9000"/>
                            </p:stCondLst>
                            <p:childTnLst>
                              <p:par>
                                <p:cTn id="10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9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Rectangle 58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Title 1"/>
          <p:cNvSpPr/>
          <p:nvPr/>
        </p:nvSpPr>
        <p:spPr>
          <a:xfrm>
            <a:off x="560520" y="709560"/>
            <a:ext cx="47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Analysis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15a25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Rectangle 61"/>
          <p:cNvSpPr/>
          <p:nvPr/>
        </p:nvSpPr>
        <p:spPr>
          <a:xfrm>
            <a:off x="1230480" y="4199040"/>
            <a:ext cx="9753480" cy="63360"/>
          </a:xfrm>
          <a:prstGeom prst="rect">
            <a:avLst/>
          </a:prstGeom>
          <a:solidFill>
            <a:srgbClr val="c43c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Freeform 62"/>
          <p:cNvSpPr/>
          <p:nvPr/>
        </p:nvSpPr>
        <p:spPr>
          <a:xfrm>
            <a:off x="1509840" y="4105440"/>
            <a:ext cx="763560" cy="936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Freeform 6"/>
          <p:cNvSpPr/>
          <p:nvPr/>
        </p:nvSpPr>
        <p:spPr>
          <a:xfrm>
            <a:off x="2273400" y="3968640"/>
            <a:ext cx="765000" cy="2304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ff8e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Freeform 6"/>
          <p:cNvSpPr/>
          <p:nvPr/>
        </p:nvSpPr>
        <p:spPr>
          <a:xfrm>
            <a:off x="3038400" y="3871800"/>
            <a:ext cx="763560" cy="32724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566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Freeform 6"/>
          <p:cNvSpPr/>
          <p:nvPr/>
        </p:nvSpPr>
        <p:spPr>
          <a:xfrm>
            <a:off x="3801960" y="3703680"/>
            <a:ext cx="765360" cy="4953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Freeform 66"/>
          <p:cNvSpPr/>
          <p:nvPr/>
        </p:nvSpPr>
        <p:spPr>
          <a:xfrm>
            <a:off x="4567320" y="3559320"/>
            <a:ext cx="763560" cy="63972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Freeform 6"/>
          <p:cNvSpPr/>
          <p:nvPr/>
        </p:nvSpPr>
        <p:spPr>
          <a:xfrm>
            <a:off x="5330880" y="3398760"/>
            <a:ext cx="765000" cy="8002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ff8e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Freeform 6"/>
          <p:cNvSpPr/>
          <p:nvPr/>
        </p:nvSpPr>
        <p:spPr>
          <a:xfrm>
            <a:off x="6095880" y="3286080"/>
            <a:ext cx="765360" cy="9129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Freeform 6"/>
          <p:cNvSpPr/>
          <p:nvPr/>
        </p:nvSpPr>
        <p:spPr>
          <a:xfrm>
            <a:off x="6861240" y="3029040"/>
            <a:ext cx="763560" cy="11700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ff8e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Freeform 6"/>
          <p:cNvSpPr/>
          <p:nvPr/>
        </p:nvSpPr>
        <p:spPr>
          <a:xfrm>
            <a:off x="7624800" y="2774880"/>
            <a:ext cx="765000" cy="14241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566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Freeform 6"/>
          <p:cNvSpPr/>
          <p:nvPr/>
        </p:nvSpPr>
        <p:spPr>
          <a:xfrm>
            <a:off x="8389800" y="2435400"/>
            <a:ext cx="763560" cy="176364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Freeform 6"/>
          <p:cNvSpPr/>
          <p:nvPr/>
        </p:nvSpPr>
        <p:spPr>
          <a:xfrm>
            <a:off x="9153360" y="2081160"/>
            <a:ext cx="765360" cy="21178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Freeform 6"/>
          <p:cNvSpPr/>
          <p:nvPr/>
        </p:nvSpPr>
        <p:spPr>
          <a:xfrm>
            <a:off x="9918720" y="1744560"/>
            <a:ext cx="763560" cy="24544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ff8e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5" name="Group 74" descr=""/>
          <p:cNvPicPr/>
          <p:nvPr/>
        </p:nvPicPr>
        <p:blipFill>
          <a:blip r:embed="rId1"/>
          <a:stretch/>
        </p:blipFill>
        <p:spPr>
          <a:xfrm>
            <a:off x="1657440" y="3352680"/>
            <a:ext cx="463320" cy="554040"/>
          </a:xfrm>
          <a:prstGeom prst="rect">
            <a:avLst/>
          </a:prstGeom>
          <a:ln w="0">
            <a:noFill/>
          </a:ln>
        </p:spPr>
      </p:pic>
      <p:grpSp>
        <p:nvGrpSpPr>
          <p:cNvPr id="1426" name="Group 77"/>
          <p:cNvGrpSpPr/>
          <p:nvPr/>
        </p:nvGrpSpPr>
        <p:grpSpPr>
          <a:xfrm>
            <a:off x="9975960" y="876600"/>
            <a:ext cx="648720" cy="649080"/>
            <a:chOff x="9975960" y="876600"/>
            <a:chExt cx="648720" cy="649080"/>
          </a:xfrm>
        </p:grpSpPr>
        <p:sp>
          <p:nvSpPr>
            <p:cNvPr id="1427" name="Teardrop 78"/>
            <p:cNvSpPr/>
            <p:nvPr/>
          </p:nvSpPr>
          <p:spPr>
            <a:xfrm rot="8100000">
              <a:off x="10070640" y="971640"/>
              <a:ext cx="459000" cy="458640"/>
            </a:xfrm>
            <a:custGeom>
              <a:avLst/>
              <a:gdLst/>
              <a:ahLst/>
              <a:rect l="l" t="t" r="r" b="b"/>
              <a:pathLst>
                <a:path w="458437" h="458438">
                  <a:moveTo>
                    <a:pt x="0" y="229219"/>
                  </a:moveTo>
                  <a:cubicBezTo>
                    <a:pt x="0" y="102625"/>
                    <a:pt x="102625" y="0"/>
                    <a:pt x="229219" y="0"/>
                  </a:cubicBezTo>
                  <a:lnTo>
                    <a:pt x="458437" y="0"/>
                  </a:lnTo>
                  <a:lnTo>
                    <a:pt x="458437" y="229219"/>
                  </a:lnTo>
                  <a:cubicBezTo>
                    <a:pt x="458437" y="355813"/>
                    <a:pt x="355812" y="458438"/>
                    <a:pt x="229218" y="458438"/>
                  </a:cubicBezTo>
                  <a:cubicBezTo>
                    <a:pt x="102624" y="458438"/>
                    <a:pt x="-1" y="355813"/>
                    <a:pt x="-1" y="229219"/>
                  </a:cubicBezTo>
                  <a:lnTo>
                    <a:pt x="0" y="229219"/>
                  </a:lnTo>
                  <a:close/>
                </a:path>
              </a:pathLst>
            </a:custGeom>
            <a:solidFill>
              <a:srgbClr val="ff8e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8" name="TextBox 79"/>
            <p:cNvSpPr/>
            <p:nvPr/>
          </p:nvSpPr>
          <p:spPr>
            <a:xfrm>
              <a:off x="10099440" y="1040760"/>
              <a:ext cx="40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8K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9" name="Oval 80"/>
          <p:cNvSpPr/>
          <p:nvPr/>
        </p:nvSpPr>
        <p:spPr>
          <a:xfrm>
            <a:off x="1260360" y="1797120"/>
            <a:ext cx="179640" cy="179280"/>
          </a:xfrm>
          <a:prstGeom prst="ellipse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Rectangle 81"/>
          <p:cNvSpPr/>
          <p:nvPr/>
        </p:nvSpPr>
        <p:spPr>
          <a:xfrm>
            <a:off x="1449360" y="1676520"/>
            <a:ext cx="6637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</a:t>
            </a:r>
            <a:r>
              <a:rPr b="1" lang="en-US" sz="1200" spc="-1" strike="noStrike">
                <a:solidFill>
                  <a:srgbClr val="44546a"/>
                </a:solidFill>
                <a:latin typeface="Source Sans Pro Light"/>
              </a:rPr>
              <a:t>ic </a:t>
            </a: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1" name="Group 82"/>
          <p:cNvGrpSpPr/>
          <p:nvPr/>
        </p:nvGrpSpPr>
        <p:grpSpPr>
          <a:xfrm>
            <a:off x="1230480" y="4805280"/>
            <a:ext cx="1963440" cy="797040"/>
            <a:chOff x="1230480" y="4805280"/>
            <a:chExt cx="1963440" cy="797040"/>
          </a:xfrm>
        </p:grpSpPr>
        <p:sp>
          <p:nvSpPr>
            <p:cNvPr id="1432" name="Oval 83"/>
            <p:cNvSpPr/>
            <p:nvPr/>
          </p:nvSpPr>
          <p:spPr>
            <a:xfrm>
              <a:off x="1230480" y="4820400"/>
              <a:ext cx="164520" cy="164160"/>
            </a:xfrm>
            <a:prstGeom prst="ellipse">
              <a:avLst/>
            </a:prstGeom>
            <a:solidFill>
              <a:srgbClr val="f15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3" name="Text Placeholder 32"/>
            <p:cNvSpPr/>
            <p:nvPr/>
          </p:nvSpPr>
          <p:spPr>
            <a:xfrm>
              <a:off x="1522080" y="4979160"/>
              <a:ext cx="1671840" cy="6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7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4" name="Text Placeholder 33"/>
            <p:cNvSpPr/>
            <p:nvPr/>
          </p:nvSpPr>
          <p:spPr>
            <a:xfrm>
              <a:off x="1522080" y="4805280"/>
              <a:ext cx="16718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On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5" name="Group 86"/>
          <p:cNvGrpSpPr/>
          <p:nvPr/>
        </p:nvGrpSpPr>
        <p:grpSpPr>
          <a:xfrm>
            <a:off x="3321000" y="4799160"/>
            <a:ext cx="1800360" cy="803160"/>
            <a:chOff x="3321000" y="4799160"/>
            <a:chExt cx="1800360" cy="803160"/>
          </a:xfrm>
        </p:grpSpPr>
        <p:sp>
          <p:nvSpPr>
            <p:cNvPr id="1436" name="Oval 87"/>
            <p:cNvSpPr/>
            <p:nvPr/>
          </p:nvSpPr>
          <p:spPr>
            <a:xfrm>
              <a:off x="3321000" y="4814280"/>
              <a:ext cx="164520" cy="164520"/>
            </a:xfrm>
            <a:prstGeom prst="ellipse">
              <a:avLst/>
            </a:prstGeom>
            <a:solidFill>
              <a:srgbClr val="ff8e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7" name="Text Placeholder 32"/>
            <p:cNvSpPr/>
            <p:nvPr/>
          </p:nvSpPr>
          <p:spPr>
            <a:xfrm>
              <a:off x="3612960" y="4973040"/>
              <a:ext cx="1508400" cy="6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8" name="Text Placeholder 33"/>
            <p:cNvSpPr/>
            <p:nvPr/>
          </p:nvSpPr>
          <p:spPr>
            <a:xfrm>
              <a:off x="3612960" y="4799160"/>
              <a:ext cx="15084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w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9" name="Group 90"/>
          <p:cNvGrpSpPr/>
          <p:nvPr/>
        </p:nvGrpSpPr>
        <p:grpSpPr>
          <a:xfrm>
            <a:off x="7174080" y="4792680"/>
            <a:ext cx="1806480" cy="804960"/>
            <a:chOff x="7174080" y="4792680"/>
            <a:chExt cx="1806480" cy="804960"/>
          </a:xfrm>
        </p:grpSpPr>
        <p:sp>
          <p:nvSpPr>
            <p:cNvPr id="1440" name="Oval 91"/>
            <p:cNvSpPr/>
            <p:nvPr/>
          </p:nvSpPr>
          <p:spPr>
            <a:xfrm>
              <a:off x="7174080" y="4807800"/>
              <a:ext cx="164520" cy="164520"/>
            </a:xfrm>
            <a:prstGeom prst="ellipse">
              <a:avLst/>
            </a:prstGeom>
            <a:solidFill>
              <a:srgbClr val="f15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1" name="Text Placeholder 32"/>
            <p:cNvSpPr/>
            <p:nvPr/>
          </p:nvSpPr>
          <p:spPr>
            <a:xfrm>
              <a:off x="7465680" y="4966920"/>
              <a:ext cx="151488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2" name="Text Placeholder 33"/>
            <p:cNvSpPr/>
            <p:nvPr/>
          </p:nvSpPr>
          <p:spPr>
            <a:xfrm>
              <a:off x="7465680" y="4792680"/>
              <a:ext cx="1514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ou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3" name="Group 94"/>
          <p:cNvGrpSpPr/>
          <p:nvPr/>
        </p:nvGrpSpPr>
        <p:grpSpPr>
          <a:xfrm>
            <a:off x="9258480" y="4792680"/>
            <a:ext cx="1847520" cy="789120"/>
            <a:chOff x="9258480" y="4792680"/>
            <a:chExt cx="1847520" cy="789120"/>
          </a:xfrm>
        </p:grpSpPr>
        <p:sp>
          <p:nvSpPr>
            <p:cNvPr id="1444" name="Oval 95"/>
            <p:cNvSpPr/>
            <p:nvPr/>
          </p:nvSpPr>
          <p:spPr>
            <a:xfrm>
              <a:off x="9258480" y="4807800"/>
              <a:ext cx="164520" cy="164520"/>
            </a:xfrm>
            <a:prstGeom prst="ellipse">
              <a:avLst/>
            </a:prstGeom>
            <a:solidFill>
              <a:srgbClr val="ff8e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5" name="Text Placeholder 32"/>
            <p:cNvSpPr/>
            <p:nvPr/>
          </p:nvSpPr>
          <p:spPr>
            <a:xfrm>
              <a:off x="9550080" y="4966920"/>
              <a:ext cx="155592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4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6" name="Text Placeholder 33"/>
            <p:cNvSpPr/>
            <p:nvPr/>
          </p:nvSpPr>
          <p:spPr>
            <a:xfrm>
              <a:off x="9550080" y="4792680"/>
              <a:ext cx="155592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iv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7" name="Group 98"/>
          <p:cNvGrpSpPr/>
          <p:nvPr/>
        </p:nvGrpSpPr>
        <p:grpSpPr>
          <a:xfrm>
            <a:off x="5248440" y="4792680"/>
            <a:ext cx="1798560" cy="804960"/>
            <a:chOff x="5248440" y="4792680"/>
            <a:chExt cx="1798560" cy="804960"/>
          </a:xfrm>
        </p:grpSpPr>
        <p:sp>
          <p:nvSpPr>
            <p:cNvPr id="1448" name="Oval 99"/>
            <p:cNvSpPr/>
            <p:nvPr/>
          </p:nvSpPr>
          <p:spPr>
            <a:xfrm>
              <a:off x="5248440" y="4807800"/>
              <a:ext cx="164520" cy="164880"/>
            </a:xfrm>
            <a:prstGeom prst="ellips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9" name="Text Placeholder 32"/>
            <p:cNvSpPr/>
            <p:nvPr/>
          </p:nvSpPr>
          <p:spPr>
            <a:xfrm>
              <a:off x="5540040" y="4966920"/>
              <a:ext cx="150696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0" name="Text Placeholder 33"/>
            <p:cNvSpPr/>
            <p:nvPr/>
          </p:nvSpPr>
          <p:spPr>
            <a:xfrm>
              <a:off x="5540040" y="4792680"/>
              <a:ext cx="142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hre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0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2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500"/>
                            </p:stCondLst>
                            <p:childTnLst>
                              <p:par>
                                <p:cTn id="1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6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3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7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0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4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8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2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6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4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6500"/>
                            </p:stCondLst>
                            <p:childTnLst>
                              <p:par>
                                <p:cTn id="1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8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2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6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4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7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8500"/>
                            </p:stCondLst>
                            <p:childTnLst>
                              <p:par>
                                <p:cTn id="13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9500"/>
                            </p:stCondLst>
                            <p:childTnLst>
                              <p:par>
                                <p:cTn id="13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Picture 2" descr=""/>
          <p:cNvPicPr/>
          <p:nvPr/>
        </p:nvPicPr>
        <p:blipFill>
          <a:blip r:embed="rId1"/>
          <a:stretch/>
        </p:blipFill>
        <p:spPr>
          <a:xfrm>
            <a:off x="898560" y="1809720"/>
            <a:ext cx="4087800" cy="5332320"/>
          </a:xfrm>
          <a:prstGeom prst="rect">
            <a:avLst/>
          </a:prstGeom>
          <a:ln w="0">
            <a:noFill/>
          </a:ln>
          <a:effectLst>
            <a:outerShdw dist="254049" dir="2700000" blurRad="0" rotWithShape="0">
              <a:srgbClr val="000000">
                <a:alpha val="15000"/>
              </a:srgbClr>
            </a:outerShdw>
          </a:effectLst>
        </p:spPr>
      </p:pic>
      <p:pic>
        <p:nvPicPr>
          <p:cNvPr id="1452" name="" descr=""/>
          <p:cNvPicPr/>
          <p:nvPr/>
        </p:nvPicPr>
        <p:blipFill>
          <a:blip r:embed="rId2"/>
          <a:stretch/>
        </p:blipFill>
        <p:spPr>
          <a:xfrm>
            <a:off x="2533320" y="2419200"/>
            <a:ext cx="1755720" cy="3106800"/>
          </a:xfrm>
          <a:prstGeom prst="rect">
            <a:avLst/>
          </a:prstGeom>
          <a:ln w="0">
            <a:noFill/>
          </a:ln>
        </p:spPr>
      </p:pic>
      <p:sp>
        <p:nvSpPr>
          <p:cNvPr id="1453" name="Rectangle 17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Title 1"/>
          <p:cNvSpPr/>
          <p:nvPr/>
        </p:nvSpPr>
        <p:spPr>
          <a:xfrm>
            <a:off x="560520" y="709560"/>
            <a:ext cx="47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Phone Hand Mo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15a25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TextBox 25"/>
          <p:cNvSpPr/>
          <p:nvPr/>
        </p:nvSpPr>
        <p:spPr>
          <a:xfrm>
            <a:off x="7021440" y="2108160"/>
            <a:ext cx="498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Rectangle 26"/>
          <p:cNvSpPr/>
          <p:nvPr/>
        </p:nvSpPr>
        <p:spPr>
          <a:xfrm>
            <a:off x="7021440" y="3068640"/>
            <a:ext cx="48657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8" name="Group 27"/>
          <p:cNvGrpSpPr/>
          <p:nvPr/>
        </p:nvGrpSpPr>
        <p:grpSpPr>
          <a:xfrm>
            <a:off x="7122960" y="4384800"/>
            <a:ext cx="1715040" cy="573120"/>
            <a:chOff x="7122960" y="4384800"/>
            <a:chExt cx="1715040" cy="573120"/>
          </a:xfrm>
        </p:grpSpPr>
        <p:sp>
          <p:nvSpPr>
            <p:cNvPr id="1459" name="Oval 28"/>
            <p:cNvSpPr/>
            <p:nvPr/>
          </p:nvSpPr>
          <p:spPr>
            <a:xfrm>
              <a:off x="7122960" y="441000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f57050"/>
                </a:gs>
                <a:gs pos="100000">
                  <a:srgbClr val="e5450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0" name="TextBox 29"/>
            <p:cNvSpPr/>
            <p:nvPr/>
          </p:nvSpPr>
          <p:spPr>
            <a:xfrm>
              <a:off x="7764120" y="438480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2.888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1" name="Rectangle 30"/>
            <p:cNvSpPr/>
            <p:nvPr/>
          </p:nvSpPr>
          <p:spPr>
            <a:xfrm>
              <a:off x="7860600" y="476640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2" name="Shape 2614"/>
            <p:cNvSpPr/>
            <p:nvPr/>
          </p:nvSpPr>
          <p:spPr>
            <a:xfrm>
              <a:off x="7253640" y="456048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3" name="Group 32"/>
          <p:cNvGrpSpPr/>
          <p:nvPr/>
        </p:nvGrpSpPr>
        <p:grpSpPr>
          <a:xfrm>
            <a:off x="9069480" y="4406760"/>
            <a:ext cx="1714680" cy="574920"/>
            <a:chOff x="9069480" y="4406760"/>
            <a:chExt cx="1714680" cy="574920"/>
          </a:xfrm>
        </p:grpSpPr>
        <p:sp>
          <p:nvSpPr>
            <p:cNvPr id="1464" name="Oval 42"/>
            <p:cNvSpPr/>
            <p:nvPr/>
          </p:nvSpPr>
          <p:spPr>
            <a:xfrm>
              <a:off x="9069480" y="4431960"/>
              <a:ext cx="548280" cy="549720"/>
            </a:xfrm>
            <a:prstGeom prst="ellipse">
              <a:avLst/>
            </a:prstGeom>
            <a:gradFill rotWithShape="0">
              <a:gsLst>
                <a:gs pos="0">
                  <a:srgbClr val="ff9c80"/>
                </a:gs>
                <a:gs pos="100000">
                  <a:srgbClr val="e5754f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5" name="TextBox 43"/>
            <p:cNvSpPr/>
            <p:nvPr/>
          </p:nvSpPr>
          <p:spPr>
            <a:xfrm>
              <a:off x="9710280" y="44067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1.074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6" name="Rectangle 44"/>
            <p:cNvSpPr/>
            <p:nvPr/>
          </p:nvSpPr>
          <p:spPr>
            <a:xfrm>
              <a:off x="9806400" y="477900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7" name="Shape 2615"/>
            <p:cNvSpPr/>
            <p:nvPr/>
          </p:nvSpPr>
          <p:spPr>
            <a:xfrm>
              <a:off x="9203760" y="456264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0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9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500"/>
                            </p:stCondLst>
                            <p:childTnLst>
                              <p:par>
                                <p:cTn id="1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3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6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Picture 22" descr=""/>
          <p:cNvPicPr/>
          <p:nvPr/>
        </p:nvPicPr>
        <p:blipFill>
          <a:blip r:embed="rId1"/>
          <a:stretch/>
        </p:blipFill>
        <p:spPr>
          <a:xfrm>
            <a:off x="606600" y="2028960"/>
            <a:ext cx="2084040" cy="4278240"/>
          </a:xfrm>
          <a:prstGeom prst="rect">
            <a:avLst/>
          </a:prstGeom>
          <a:ln w="0">
            <a:noFill/>
          </a:ln>
        </p:spPr>
      </p:pic>
      <p:pic>
        <p:nvPicPr>
          <p:cNvPr id="1469" name="" descr=""/>
          <p:cNvPicPr/>
          <p:nvPr/>
        </p:nvPicPr>
        <p:blipFill>
          <a:blip r:embed="rId2"/>
          <a:stretch/>
        </p:blipFill>
        <p:spPr>
          <a:xfrm>
            <a:off x="747360" y="2538360"/>
            <a:ext cx="1801800" cy="3200400"/>
          </a:xfrm>
          <a:prstGeom prst="rect">
            <a:avLst/>
          </a:prstGeom>
          <a:ln w="0">
            <a:noFill/>
          </a:ln>
        </p:spPr>
      </p:pic>
      <p:pic>
        <p:nvPicPr>
          <p:cNvPr id="1470" name="" descr=""/>
          <p:cNvPicPr/>
          <p:nvPr/>
        </p:nvPicPr>
        <p:blipFill>
          <a:blip r:embed="rId3"/>
          <a:stretch/>
        </p:blipFill>
        <p:spPr>
          <a:xfrm>
            <a:off x="2900160" y="2516040"/>
            <a:ext cx="1801800" cy="320040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71" name="" descr=""/>
          <p:cNvPicPr/>
          <p:nvPr/>
        </p:nvPicPr>
        <p:blipFill>
          <a:blip r:embed="rId4"/>
          <a:stretch/>
        </p:blipFill>
        <p:spPr>
          <a:xfrm>
            <a:off x="4858920" y="2516040"/>
            <a:ext cx="1801800" cy="320040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472" name="Rectangle 19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Title 1"/>
          <p:cNvSpPr/>
          <p:nvPr/>
        </p:nvSpPr>
        <p:spPr>
          <a:xfrm>
            <a:off x="560520" y="709560"/>
            <a:ext cx="47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Phone Mo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15a25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TextBox 34"/>
          <p:cNvSpPr/>
          <p:nvPr/>
        </p:nvSpPr>
        <p:spPr>
          <a:xfrm>
            <a:off x="7091280" y="2438280"/>
            <a:ext cx="498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Rectangle 35"/>
          <p:cNvSpPr/>
          <p:nvPr/>
        </p:nvSpPr>
        <p:spPr>
          <a:xfrm>
            <a:off x="7091280" y="3398760"/>
            <a:ext cx="486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7" name="Group 36"/>
          <p:cNvGrpSpPr/>
          <p:nvPr/>
        </p:nvGrpSpPr>
        <p:grpSpPr>
          <a:xfrm>
            <a:off x="7122960" y="4630680"/>
            <a:ext cx="1715040" cy="573120"/>
            <a:chOff x="7122960" y="4630680"/>
            <a:chExt cx="1715040" cy="573120"/>
          </a:xfrm>
        </p:grpSpPr>
        <p:sp>
          <p:nvSpPr>
            <p:cNvPr id="1478" name="Oval 37"/>
            <p:cNvSpPr/>
            <p:nvPr/>
          </p:nvSpPr>
          <p:spPr>
            <a:xfrm>
              <a:off x="7122960" y="465588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f57050"/>
                </a:gs>
                <a:gs pos="100000">
                  <a:srgbClr val="e5450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9" name="TextBox 38"/>
            <p:cNvSpPr/>
            <p:nvPr/>
          </p:nvSpPr>
          <p:spPr>
            <a:xfrm>
              <a:off x="7764120" y="463068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2.888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0" name="Rectangle 39"/>
            <p:cNvSpPr/>
            <p:nvPr/>
          </p:nvSpPr>
          <p:spPr>
            <a:xfrm>
              <a:off x="7860600" y="501228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1" name="Shape 2614"/>
            <p:cNvSpPr/>
            <p:nvPr/>
          </p:nvSpPr>
          <p:spPr>
            <a:xfrm>
              <a:off x="7253640" y="48063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2" name="Group 41"/>
          <p:cNvGrpSpPr/>
          <p:nvPr/>
        </p:nvGrpSpPr>
        <p:grpSpPr>
          <a:xfrm>
            <a:off x="9069480" y="4653000"/>
            <a:ext cx="1714680" cy="574560"/>
            <a:chOff x="9069480" y="4653000"/>
            <a:chExt cx="1714680" cy="574560"/>
          </a:xfrm>
        </p:grpSpPr>
        <p:sp>
          <p:nvSpPr>
            <p:cNvPr id="1483" name="Oval 45"/>
            <p:cNvSpPr/>
            <p:nvPr/>
          </p:nvSpPr>
          <p:spPr>
            <a:xfrm>
              <a:off x="9069480" y="4678200"/>
              <a:ext cx="548280" cy="549360"/>
            </a:xfrm>
            <a:prstGeom prst="ellipse">
              <a:avLst/>
            </a:prstGeom>
            <a:gradFill rotWithShape="0">
              <a:gsLst>
                <a:gs pos="0">
                  <a:srgbClr val="ff9c80"/>
                </a:gs>
                <a:gs pos="100000">
                  <a:srgbClr val="e5754f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4" name="TextBox 46"/>
            <p:cNvSpPr/>
            <p:nvPr/>
          </p:nvSpPr>
          <p:spPr>
            <a:xfrm>
              <a:off x="9710280" y="465300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1.074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5" name="Rectangle 47"/>
            <p:cNvSpPr/>
            <p:nvPr/>
          </p:nvSpPr>
          <p:spPr>
            <a:xfrm>
              <a:off x="9806400" y="502488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6" name="Shape 2615"/>
            <p:cNvSpPr/>
            <p:nvPr/>
          </p:nvSpPr>
          <p:spPr>
            <a:xfrm>
              <a:off x="9203760" y="480852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0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5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9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2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Picture 41" descr=""/>
          <p:cNvPicPr/>
          <p:nvPr/>
        </p:nvPicPr>
        <p:blipFill>
          <a:blip r:embed="rId1"/>
          <a:stretch/>
        </p:blipFill>
        <p:spPr>
          <a:xfrm>
            <a:off x="-969840" y="1852560"/>
            <a:ext cx="5459400" cy="4761000"/>
          </a:xfrm>
          <a:prstGeom prst="rect">
            <a:avLst/>
          </a:prstGeom>
          <a:ln w="0">
            <a:noFill/>
          </a:ln>
        </p:spPr>
      </p:pic>
      <p:pic>
        <p:nvPicPr>
          <p:cNvPr id="1488" name="" descr=""/>
          <p:cNvPicPr/>
          <p:nvPr/>
        </p:nvPicPr>
        <p:blipFill>
          <a:blip r:embed="rId2"/>
          <a:stretch/>
        </p:blipFill>
        <p:spPr>
          <a:xfrm>
            <a:off x="-736920" y="2133360"/>
            <a:ext cx="4986360" cy="2819160"/>
          </a:xfrm>
          <a:prstGeom prst="rect">
            <a:avLst/>
          </a:prstGeom>
          <a:ln w="0">
            <a:noFill/>
          </a:ln>
        </p:spPr>
      </p:pic>
      <p:sp>
        <p:nvSpPr>
          <p:cNvPr id="1489" name="Rectangle 15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Title 1"/>
          <p:cNvSpPr/>
          <p:nvPr/>
        </p:nvSpPr>
        <p:spPr>
          <a:xfrm>
            <a:off x="560520" y="709560"/>
            <a:ext cx="47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Screen Mo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15a25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TextBox 30"/>
          <p:cNvSpPr/>
          <p:nvPr/>
        </p:nvSpPr>
        <p:spPr>
          <a:xfrm>
            <a:off x="6018120" y="2171880"/>
            <a:ext cx="49881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8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Rectangle 31"/>
          <p:cNvSpPr/>
          <p:nvPr/>
        </p:nvSpPr>
        <p:spPr>
          <a:xfrm>
            <a:off x="6018120" y="3132000"/>
            <a:ext cx="486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4" name="Group 32"/>
          <p:cNvGrpSpPr/>
          <p:nvPr/>
        </p:nvGrpSpPr>
        <p:grpSpPr>
          <a:xfrm>
            <a:off x="6103800" y="4452840"/>
            <a:ext cx="276480" cy="276480"/>
            <a:chOff x="6103800" y="4452840"/>
            <a:chExt cx="276480" cy="276480"/>
          </a:xfrm>
        </p:grpSpPr>
        <p:sp>
          <p:nvSpPr>
            <p:cNvPr id="1495" name="Oval 8"/>
            <p:cNvSpPr/>
            <p:nvPr/>
          </p:nvSpPr>
          <p:spPr>
            <a:xfrm>
              <a:off x="6103800" y="4452840"/>
              <a:ext cx="276480" cy="276480"/>
            </a:xfrm>
            <a:prstGeom prst="ellipse">
              <a:avLst/>
            </a:prstGeom>
            <a:noFill/>
            <a:ln cap="rnd" w="17640">
              <a:solidFill>
                <a:srgbClr val="ffbb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6" name="Freeform 9"/>
            <p:cNvSpPr/>
            <p:nvPr/>
          </p:nvSpPr>
          <p:spPr>
            <a:xfrm>
              <a:off x="6170400" y="4543560"/>
              <a:ext cx="142920" cy="95040"/>
            </a:xfrm>
            <a:custGeom>
              <a:avLst/>
              <a:gdLst/>
              <a:ahLst/>
              <a:rect l="l" t="t" r="r" b="b"/>
              <a:pathLst>
                <a:path w="156" h="104">
                  <a:moveTo>
                    <a:pt x="0" y="45"/>
                  </a:moveTo>
                  <a:lnTo>
                    <a:pt x="60" y="104"/>
                  </a:lnTo>
                  <a:lnTo>
                    <a:pt x="156" y="0"/>
                  </a:lnTo>
                </a:path>
              </a:pathLst>
            </a:custGeom>
            <a:noFill/>
            <a:ln cap="rnd" w="17640">
              <a:solidFill>
                <a:srgbClr val="ffbb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7" name="Group 35"/>
          <p:cNvGrpSpPr/>
          <p:nvPr/>
        </p:nvGrpSpPr>
        <p:grpSpPr>
          <a:xfrm>
            <a:off x="6103800" y="4906800"/>
            <a:ext cx="276480" cy="276480"/>
            <a:chOff x="6103800" y="4906800"/>
            <a:chExt cx="276480" cy="276480"/>
          </a:xfrm>
        </p:grpSpPr>
        <p:sp>
          <p:nvSpPr>
            <p:cNvPr id="1498" name="Oval 8"/>
            <p:cNvSpPr/>
            <p:nvPr/>
          </p:nvSpPr>
          <p:spPr>
            <a:xfrm>
              <a:off x="6103800" y="4906800"/>
              <a:ext cx="276480" cy="276480"/>
            </a:xfrm>
            <a:prstGeom prst="ellipse">
              <a:avLst/>
            </a:prstGeom>
            <a:noFill/>
            <a:ln cap="rnd" w="17640">
              <a:solidFill>
                <a:srgbClr val="ffbb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9" name="Freeform 9"/>
            <p:cNvSpPr/>
            <p:nvPr/>
          </p:nvSpPr>
          <p:spPr>
            <a:xfrm>
              <a:off x="6170400" y="4997520"/>
              <a:ext cx="142920" cy="95040"/>
            </a:xfrm>
            <a:custGeom>
              <a:avLst/>
              <a:gdLst/>
              <a:ahLst/>
              <a:rect l="l" t="t" r="r" b="b"/>
              <a:pathLst>
                <a:path w="156" h="104">
                  <a:moveTo>
                    <a:pt x="0" y="45"/>
                  </a:moveTo>
                  <a:lnTo>
                    <a:pt x="60" y="104"/>
                  </a:lnTo>
                  <a:lnTo>
                    <a:pt x="156" y="0"/>
                  </a:lnTo>
                </a:path>
              </a:pathLst>
            </a:custGeom>
            <a:noFill/>
            <a:ln cap="rnd" w="17640">
              <a:solidFill>
                <a:srgbClr val="ffbb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0" name="Rectangle 38"/>
          <p:cNvSpPr/>
          <p:nvPr/>
        </p:nvSpPr>
        <p:spPr>
          <a:xfrm>
            <a:off x="6193440" y="4425840"/>
            <a:ext cx="3751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Rectangle 39"/>
          <p:cNvSpPr/>
          <p:nvPr/>
        </p:nvSpPr>
        <p:spPr>
          <a:xfrm>
            <a:off x="6193440" y="4878360"/>
            <a:ext cx="3751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0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3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0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7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0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2" name="Picture 6" descr=""/>
          <p:cNvPicPr/>
          <p:nvPr/>
        </p:nvPicPr>
        <p:blipFill>
          <a:blip r:embed="rId1"/>
          <a:stretch/>
        </p:blipFill>
        <p:spPr>
          <a:xfrm>
            <a:off x="6010200" y="1951200"/>
            <a:ext cx="2908440" cy="4113000"/>
          </a:xfrm>
          <a:prstGeom prst="rect">
            <a:avLst/>
          </a:prstGeom>
          <a:ln w="0">
            <a:noFill/>
          </a:ln>
        </p:spPr>
      </p:pic>
      <p:pic>
        <p:nvPicPr>
          <p:cNvPr id="1503" name="" descr=""/>
          <p:cNvPicPr/>
          <p:nvPr/>
        </p:nvPicPr>
        <p:blipFill>
          <a:blip r:embed="rId2"/>
          <a:stretch/>
        </p:blipFill>
        <p:spPr>
          <a:xfrm>
            <a:off x="6283440" y="2393640"/>
            <a:ext cx="2379600" cy="321156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7" descr=""/>
          <p:cNvPicPr/>
          <p:nvPr/>
        </p:nvPicPr>
        <p:blipFill>
          <a:blip r:embed="rId3"/>
          <a:stretch/>
        </p:blipFill>
        <p:spPr>
          <a:xfrm>
            <a:off x="7832880" y="2087640"/>
            <a:ext cx="2906640" cy="4113000"/>
          </a:xfrm>
          <a:prstGeom prst="rect">
            <a:avLst/>
          </a:prstGeom>
          <a:ln w="0">
            <a:noFill/>
          </a:ln>
        </p:spPr>
      </p:pic>
      <p:pic>
        <p:nvPicPr>
          <p:cNvPr id="1505" name="" descr=""/>
          <p:cNvPicPr/>
          <p:nvPr/>
        </p:nvPicPr>
        <p:blipFill>
          <a:blip r:embed="rId4"/>
          <a:stretch/>
        </p:blipFill>
        <p:spPr>
          <a:xfrm>
            <a:off x="8102520" y="2509560"/>
            <a:ext cx="2379600" cy="3211560"/>
          </a:xfrm>
          <a:prstGeom prst="rect">
            <a:avLst/>
          </a:prstGeom>
          <a:ln w="0">
            <a:noFill/>
          </a:ln>
        </p:spPr>
      </p:pic>
      <p:sp>
        <p:nvSpPr>
          <p:cNvPr id="1506" name="Rectangle 19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Title 1"/>
          <p:cNvSpPr/>
          <p:nvPr/>
        </p:nvSpPr>
        <p:spPr>
          <a:xfrm>
            <a:off x="560520" y="709560"/>
            <a:ext cx="47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Tablet Mo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15a25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TextBox 36"/>
          <p:cNvSpPr/>
          <p:nvPr/>
        </p:nvSpPr>
        <p:spPr>
          <a:xfrm>
            <a:off x="501480" y="2448000"/>
            <a:ext cx="498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Rectangle 37"/>
          <p:cNvSpPr/>
          <p:nvPr/>
        </p:nvSpPr>
        <p:spPr>
          <a:xfrm>
            <a:off x="501480" y="3406680"/>
            <a:ext cx="48657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1" name="Group 38"/>
          <p:cNvGrpSpPr/>
          <p:nvPr/>
        </p:nvGrpSpPr>
        <p:grpSpPr>
          <a:xfrm>
            <a:off x="622440" y="4608360"/>
            <a:ext cx="1714680" cy="573120"/>
            <a:chOff x="622440" y="4608360"/>
            <a:chExt cx="1714680" cy="573120"/>
          </a:xfrm>
        </p:grpSpPr>
        <p:sp>
          <p:nvSpPr>
            <p:cNvPr id="1512" name="Oval 39"/>
            <p:cNvSpPr/>
            <p:nvPr/>
          </p:nvSpPr>
          <p:spPr>
            <a:xfrm>
              <a:off x="622440" y="463356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f57050"/>
                </a:gs>
                <a:gs pos="100000">
                  <a:srgbClr val="e5450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3" name="TextBox 40"/>
            <p:cNvSpPr/>
            <p:nvPr/>
          </p:nvSpPr>
          <p:spPr>
            <a:xfrm>
              <a:off x="1263240" y="46083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2.888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4" name="Rectangle 41"/>
            <p:cNvSpPr/>
            <p:nvPr/>
          </p:nvSpPr>
          <p:spPr>
            <a:xfrm>
              <a:off x="1359720" y="498996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5" name="Shape 2614"/>
            <p:cNvSpPr/>
            <p:nvPr/>
          </p:nvSpPr>
          <p:spPr>
            <a:xfrm>
              <a:off x="753120" y="478404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6" name="Group 43"/>
          <p:cNvGrpSpPr/>
          <p:nvPr/>
        </p:nvGrpSpPr>
        <p:grpSpPr>
          <a:xfrm>
            <a:off x="2568600" y="4630680"/>
            <a:ext cx="1714680" cy="574560"/>
            <a:chOff x="2568600" y="4630680"/>
            <a:chExt cx="1714680" cy="574560"/>
          </a:xfrm>
        </p:grpSpPr>
        <p:sp>
          <p:nvSpPr>
            <p:cNvPr id="1517" name="Oval 44"/>
            <p:cNvSpPr/>
            <p:nvPr/>
          </p:nvSpPr>
          <p:spPr>
            <a:xfrm>
              <a:off x="2568600" y="4655880"/>
              <a:ext cx="548280" cy="549360"/>
            </a:xfrm>
            <a:prstGeom prst="ellipse">
              <a:avLst/>
            </a:prstGeom>
            <a:gradFill rotWithShape="0">
              <a:gsLst>
                <a:gs pos="0">
                  <a:srgbClr val="ff9c80"/>
                </a:gs>
                <a:gs pos="100000">
                  <a:srgbClr val="e5754f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8" name="TextBox 45"/>
            <p:cNvSpPr/>
            <p:nvPr/>
          </p:nvSpPr>
          <p:spPr>
            <a:xfrm>
              <a:off x="3209400" y="463068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1.074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9" name="Rectangle 46"/>
            <p:cNvSpPr/>
            <p:nvPr/>
          </p:nvSpPr>
          <p:spPr>
            <a:xfrm>
              <a:off x="3305520" y="50025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0" name="Shape 2615"/>
            <p:cNvSpPr/>
            <p:nvPr/>
          </p:nvSpPr>
          <p:spPr>
            <a:xfrm>
              <a:off x="2702880" y="478620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0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500"/>
                            </p:stCondLst>
                            <p:childTnLst>
                              <p:par>
                                <p:cTn id="1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8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1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Picture 32" descr=""/>
          <p:cNvPicPr/>
          <p:nvPr/>
        </p:nvPicPr>
        <p:blipFill>
          <a:blip r:embed="rId1"/>
          <a:stretch/>
        </p:blipFill>
        <p:spPr>
          <a:xfrm>
            <a:off x="-974880" y="1957320"/>
            <a:ext cx="5378760" cy="3527640"/>
          </a:xfrm>
          <a:prstGeom prst="rect">
            <a:avLst/>
          </a:prstGeom>
          <a:ln w="0">
            <a:noFill/>
          </a:ln>
        </p:spPr>
      </p:pic>
      <p:pic>
        <p:nvPicPr>
          <p:cNvPr id="1522" name="" descr=""/>
          <p:cNvPicPr/>
          <p:nvPr/>
        </p:nvPicPr>
        <p:blipFill>
          <a:blip r:embed="rId2"/>
          <a:stretch/>
        </p:blipFill>
        <p:spPr>
          <a:xfrm>
            <a:off x="-338400" y="2287440"/>
            <a:ext cx="4173480" cy="2873520"/>
          </a:xfrm>
          <a:prstGeom prst="rect">
            <a:avLst/>
          </a:prstGeom>
          <a:ln w="0">
            <a:noFill/>
          </a:ln>
        </p:spPr>
      </p:pic>
      <p:pic>
        <p:nvPicPr>
          <p:cNvPr id="1523" name="Picture 33" descr=""/>
          <p:cNvPicPr/>
          <p:nvPr/>
        </p:nvPicPr>
        <p:blipFill>
          <a:blip r:embed="rId3"/>
          <a:stretch/>
        </p:blipFill>
        <p:spPr>
          <a:xfrm>
            <a:off x="3240000" y="3384720"/>
            <a:ext cx="1231920" cy="2603160"/>
          </a:xfrm>
          <a:prstGeom prst="rect">
            <a:avLst/>
          </a:prstGeom>
          <a:ln w="0">
            <a:noFill/>
          </a:ln>
        </p:spPr>
      </p:pic>
      <p:pic>
        <p:nvPicPr>
          <p:cNvPr id="1524" name="" descr=""/>
          <p:cNvPicPr/>
          <p:nvPr/>
        </p:nvPicPr>
        <p:blipFill>
          <a:blip r:embed="rId4"/>
          <a:stretch/>
        </p:blipFill>
        <p:spPr>
          <a:xfrm>
            <a:off x="3335040" y="3695400"/>
            <a:ext cx="1041480" cy="1947960"/>
          </a:xfrm>
          <a:prstGeom prst="rect">
            <a:avLst/>
          </a:prstGeom>
          <a:ln w="0">
            <a:noFill/>
          </a:ln>
        </p:spPr>
      </p:pic>
      <p:sp>
        <p:nvSpPr>
          <p:cNvPr id="1525" name="Rectangle 19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Title 1"/>
          <p:cNvSpPr/>
          <p:nvPr/>
        </p:nvSpPr>
        <p:spPr>
          <a:xfrm>
            <a:off x="560520" y="709560"/>
            <a:ext cx="47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Tablet &amp; Phone Mo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15a25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TextBox 38"/>
          <p:cNvSpPr/>
          <p:nvPr/>
        </p:nvSpPr>
        <p:spPr>
          <a:xfrm>
            <a:off x="6016680" y="2478240"/>
            <a:ext cx="4987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Rectangle 39"/>
          <p:cNvSpPr/>
          <p:nvPr/>
        </p:nvSpPr>
        <p:spPr>
          <a:xfrm>
            <a:off x="6016680" y="3438360"/>
            <a:ext cx="48639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0" name="Group 40"/>
          <p:cNvGrpSpPr/>
          <p:nvPr/>
        </p:nvGrpSpPr>
        <p:grpSpPr>
          <a:xfrm>
            <a:off x="6122880" y="4735440"/>
            <a:ext cx="1715040" cy="574920"/>
            <a:chOff x="6122880" y="4735440"/>
            <a:chExt cx="1715040" cy="574920"/>
          </a:xfrm>
        </p:grpSpPr>
        <p:sp>
          <p:nvSpPr>
            <p:cNvPr id="1531" name="Oval 41"/>
            <p:cNvSpPr/>
            <p:nvPr/>
          </p:nvSpPr>
          <p:spPr>
            <a:xfrm>
              <a:off x="6122880" y="4760640"/>
              <a:ext cx="548280" cy="549720"/>
            </a:xfrm>
            <a:prstGeom prst="ellipse">
              <a:avLst/>
            </a:prstGeom>
            <a:gradFill rotWithShape="0">
              <a:gsLst>
                <a:gs pos="0">
                  <a:srgbClr val="f57050"/>
                </a:gs>
                <a:gs pos="100000">
                  <a:srgbClr val="e5450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2" name="TextBox 42"/>
            <p:cNvSpPr/>
            <p:nvPr/>
          </p:nvSpPr>
          <p:spPr>
            <a:xfrm>
              <a:off x="6764040" y="473544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2.888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3" name="Rectangle 43"/>
            <p:cNvSpPr/>
            <p:nvPr/>
          </p:nvSpPr>
          <p:spPr>
            <a:xfrm>
              <a:off x="6860520" y="511812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4" name="Shape 2614"/>
            <p:cNvSpPr/>
            <p:nvPr/>
          </p:nvSpPr>
          <p:spPr>
            <a:xfrm>
              <a:off x="6253560" y="491184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5" name="Group 45"/>
          <p:cNvGrpSpPr/>
          <p:nvPr/>
        </p:nvGrpSpPr>
        <p:grpSpPr>
          <a:xfrm>
            <a:off x="8069400" y="4759200"/>
            <a:ext cx="1714680" cy="573120"/>
            <a:chOff x="8069400" y="4759200"/>
            <a:chExt cx="1714680" cy="573120"/>
          </a:xfrm>
        </p:grpSpPr>
        <p:sp>
          <p:nvSpPr>
            <p:cNvPr id="1536" name="Oval 46"/>
            <p:cNvSpPr/>
            <p:nvPr/>
          </p:nvSpPr>
          <p:spPr>
            <a:xfrm>
              <a:off x="8069400" y="478440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ff9c80"/>
                </a:gs>
                <a:gs pos="100000">
                  <a:srgbClr val="e5754f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7" name="TextBox 47"/>
            <p:cNvSpPr/>
            <p:nvPr/>
          </p:nvSpPr>
          <p:spPr>
            <a:xfrm>
              <a:off x="8710200" y="475920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1.074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8" name="Rectangle 48"/>
            <p:cNvSpPr/>
            <p:nvPr/>
          </p:nvSpPr>
          <p:spPr>
            <a:xfrm>
              <a:off x="8806320" y="51303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9" name="Shape 2615"/>
            <p:cNvSpPr/>
            <p:nvPr/>
          </p:nvSpPr>
          <p:spPr>
            <a:xfrm>
              <a:off x="8203680" y="49143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491" dur="indefinite" restart="never" nodeType="tmRoot">
          <p:childTnLst>
            <p:seq>
              <p:cTn id="1492" dur="indefinite" nodeType="mainSeq">
                <p:childTnLst>
                  <p:par>
                    <p:cTn id="1493" fill="hold">
                      <p:stCondLst>
                        <p:cond delay="0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7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1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0" name="Picture 56" descr=""/>
          <p:cNvPicPr/>
          <p:nvPr/>
        </p:nvPicPr>
        <p:blipFill>
          <a:blip r:embed="rId1"/>
          <a:stretch/>
        </p:blipFill>
        <p:spPr>
          <a:xfrm>
            <a:off x="507960" y="1967040"/>
            <a:ext cx="5372280" cy="3690720"/>
          </a:xfrm>
          <a:prstGeom prst="rect">
            <a:avLst/>
          </a:prstGeom>
          <a:ln w="0">
            <a:noFill/>
          </a:ln>
        </p:spPr>
      </p:pic>
      <p:pic>
        <p:nvPicPr>
          <p:cNvPr id="1541" name="" descr=""/>
          <p:cNvPicPr/>
          <p:nvPr/>
        </p:nvPicPr>
        <p:blipFill>
          <a:blip r:embed="rId2"/>
          <a:stretch/>
        </p:blipFill>
        <p:spPr>
          <a:xfrm>
            <a:off x="1335240" y="2738160"/>
            <a:ext cx="3690720" cy="2157480"/>
          </a:xfrm>
          <a:prstGeom prst="rect">
            <a:avLst/>
          </a:prstGeom>
          <a:ln w="0">
            <a:noFill/>
          </a:ln>
        </p:spPr>
      </p:pic>
      <p:pic>
        <p:nvPicPr>
          <p:cNvPr id="1542" name="Picture 57" descr=""/>
          <p:cNvPicPr/>
          <p:nvPr/>
        </p:nvPicPr>
        <p:blipFill>
          <a:blip r:embed="rId3"/>
          <a:stretch/>
        </p:blipFill>
        <p:spPr>
          <a:xfrm>
            <a:off x="3832200" y="3218040"/>
            <a:ext cx="3406680" cy="2225520"/>
          </a:xfrm>
          <a:prstGeom prst="rect">
            <a:avLst/>
          </a:prstGeom>
          <a:ln w="0">
            <a:noFill/>
          </a:ln>
        </p:spPr>
      </p:pic>
      <p:pic>
        <p:nvPicPr>
          <p:cNvPr id="1543" name="" descr=""/>
          <p:cNvPicPr/>
          <p:nvPr/>
        </p:nvPicPr>
        <p:blipFill>
          <a:blip r:embed="rId4"/>
          <a:stretch/>
        </p:blipFill>
        <p:spPr>
          <a:xfrm>
            <a:off x="4208040" y="3438360"/>
            <a:ext cx="2660760" cy="1811520"/>
          </a:xfrm>
          <a:prstGeom prst="rect">
            <a:avLst/>
          </a:prstGeom>
          <a:ln w="0">
            <a:noFill/>
          </a:ln>
        </p:spPr>
      </p:pic>
      <p:pic>
        <p:nvPicPr>
          <p:cNvPr id="1544" name="Picture 58" descr=""/>
          <p:cNvPicPr/>
          <p:nvPr/>
        </p:nvPicPr>
        <p:blipFill>
          <a:blip r:embed="rId5"/>
          <a:stretch/>
        </p:blipFill>
        <p:spPr>
          <a:xfrm>
            <a:off x="3436920" y="4008600"/>
            <a:ext cx="833400" cy="1774800"/>
          </a:xfrm>
          <a:prstGeom prst="rect">
            <a:avLst/>
          </a:prstGeom>
          <a:ln w="0">
            <a:noFill/>
          </a:ln>
        </p:spPr>
      </p:pic>
      <p:pic>
        <p:nvPicPr>
          <p:cNvPr id="1545" name="" descr=""/>
          <p:cNvPicPr/>
          <p:nvPr/>
        </p:nvPicPr>
        <p:blipFill>
          <a:blip r:embed="rId6"/>
          <a:stretch/>
        </p:blipFill>
        <p:spPr>
          <a:xfrm>
            <a:off x="3507840" y="4230720"/>
            <a:ext cx="698760" cy="1309680"/>
          </a:xfrm>
          <a:prstGeom prst="rect">
            <a:avLst/>
          </a:prstGeom>
          <a:ln w="0">
            <a:noFill/>
          </a:ln>
        </p:spPr>
      </p:pic>
      <p:sp>
        <p:nvSpPr>
          <p:cNvPr id="1546" name="Rectangle 23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Title 1"/>
          <p:cNvSpPr/>
          <p:nvPr/>
        </p:nvSpPr>
        <p:spPr>
          <a:xfrm>
            <a:off x="560520" y="325800"/>
            <a:ext cx="5535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Laptop, Tablet &amp; Phone Mo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15a25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TextBox 38"/>
          <p:cNvSpPr/>
          <p:nvPr/>
        </p:nvSpPr>
        <p:spPr>
          <a:xfrm>
            <a:off x="7472520" y="2527200"/>
            <a:ext cx="411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0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0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0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0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0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0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Rectangle 39"/>
          <p:cNvSpPr/>
          <p:nvPr/>
        </p:nvSpPr>
        <p:spPr>
          <a:xfrm>
            <a:off x="7472520" y="3289320"/>
            <a:ext cx="41893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1" name="Group 40"/>
          <p:cNvGrpSpPr/>
          <p:nvPr/>
        </p:nvGrpSpPr>
        <p:grpSpPr>
          <a:xfrm>
            <a:off x="7561440" y="4299120"/>
            <a:ext cx="1715760" cy="572760"/>
            <a:chOff x="7561440" y="4299120"/>
            <a:chExt cx="1715760" cy="572760"/>
          </a:xfrm>
        </p:grpSpPr>
        <p:sp>
          <p:nvSpPr>
            <p:cNvPr id="1552" name="Oval 41"/>
            <p:cNvSpPr/>
            <p:nvPr/>
          </p:nvSpPr>
          <p:spPr>
            <a:xfrm>
              <a:off x="7561440" y="4324320"/>
              <a:ext cx="548640" cy="547560"/>
            </a:xfrm>
            <a:prstGeom prst="ellipse">
              <a:avLst/>
            </a:prstGeom>
            <a:gradFill rotWithShape="0">
              <a:gsLst>
                <a:gs pos="0">
                  <a:srgbClr val="f57050"/>
                </a:gs>
                <a:gs pos="100000">
                  <a:srgbClr val="e5450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TextBox 42"/>
            <p:cNvSpPr/>
            <p:nvPr/>
          </p:nvSpPr>
          <p:spPr>
            <a:xfrm>
              <a:off x="8203320" y="429912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2.888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Rectangle 43"/>
            <p:cNvSpPr/>
            <p:nvPr/>
          </p:nvSpPr>
          <p:spPr>
            <a:xfrm>
              <a:off x="8299800" y="468036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5" name="Shape 2614"/>
            <p:cNvSpPr/>
            <p:nvPr/>
          </p:nvSpPr>
          <p:spPr>
            <a:xfrm>
              <a:off x="7692120" y="4474800"/>
              <a:ext cx="279360" cy="27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6" name="Group 45"/>
          <p:cNvGrpSpPr/>
          <p:nvPr/>
        </p:nvGrpSpPr>
        <p:grpSpPr>
          <a:xfrm>
            <a:off x="9507600" y="4321080"/>
            <a:ext cx="1716120" cy="574920"/>
            <a:chOff x="9507600" y="4321080"/>
            <a:chExt cx="1716120" cy="574920"/>
          </a:xfrm>
        </p:grpSpPr>
        <p:sp>
          <p:nvSpPr>
            <p:cNvPr id="1557" name="Oval 46"/>
            <p:cNvSpPr/>
            <p:nvPr/>
          </p:nvSpPr>
          <p:spPr>
            <a:xfrm>
              <a:off x="9507600" y="4346280"/>
              <a:ext cx="549000" cy="549720"/>
            </a:xfrm>
            <a:prstGeom prst="ellipse">
              <a:avLst/>
            </a:prstGeom>
            <a:gradFill rotWithShape="0">
              <a:gsLst>
                <a:gs pos="0">
                  <a:srgbClr val="ff9c80"/>
                </a:gs>
                <a:gs pos="100000">
                  <a:srgbClr val="e5754f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8" name="TextBox 47"/>
            <p:cNvSpPr/>
            <p:nvPr/>
          </p:nvSpPr>
          <p:spPr>
            <a:xfrm>
              <a:off x="10149840" y="432108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1.074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Rectangle 48"/>
            <p:cNvSpPr/>
            <p:nvPr/>
          </p:nvSpPr>
          <p:spPr>
            <a:xfrm>
              <a:off x="10245960" y="469332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0" name="Shape 2615"/>
            <p:cNvSpPr/>
            <p:nvPr/>
          </p:nvSpPr>
          <p:spPr>
            <a:xfrm>
              <a:off x="9642240" y="44769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532" dur="indefinite" restart="never" nodeType="tmRoot">
          <p:childTnLst>
            <p:seq>
              <p:cTn id="1533" dur="indefinite" nodeType="mainSeq">
                <p:childTnLst>
                  <p:par>
                    <p:cTn id="1534" fill="hold">
                      <p:stCondLst>
                        <p:cond delay="0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8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500"/>
                            </p:stCondLst>
                            <p:childTnLst>
                              <p:par>
                                <p:cTn id="1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2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5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8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1" name="Picture 35" descr=""/>
          <p:cNvPicPr/>
          <p:nvPr/>
        </p:nvPicPr>
        <p:blipFill>
          <a:blip r:embed="rId1"/>
          <a:stretch/>
        </p:blipFill>
        <p:spPr>
          <a:xfrm>
            <a:off x="6058080" y="2195640"/>
            <a:ext cx="2570040" cy="5475240"/>
          </a:xfrm>
          <a:prstGeom prst="rect">
            <a:avLst/>
          </a:prstGeom>
          <a:ln w="0">
            <a:noFill/>
          </a:ln>
          <a:effectLst>
            <a:outerShdw dist="254049" dir="2700000" blurRad="0" rotWithShape="0">
              <a:srgbClr val="000000">
                <a:alpha val="10000"/>
              </a:srgbClr>
            </a:outerShdw>
          </a:effectLst>
        </p:spPr>
      </p:pic>
      <p:pic>
        <p:nvPicPr>
          <p:cNvPr id="1562" name="Picture 36" descr=""/>
          <p:cNvPicPr/>
          <p:nvPr/>
        </p:nvPicPr>
        <p:blipFill>
          <a:blip r:embed="rId2"/>
          <a:stretch/>
        </p:blipFill>
        <p:spPr>
          <a:xfrm>
            <a:off x="9050400" y="-684360"/>
            <a:ext cx="2570040" cy="5475600"/>
          </a:xfrm>
          <a:prstGeom prst="rect">
            <a:avLst/>
          </a:prstGeom>
          <a:ln w="0">
            <a:noFill/>
          </a:ln>
          <a:effectLst>
            <a:outerShdw dist="254049" dir="2700000" blurRad="0" rotWithShape="0">
              <a:srgbClr val="000000">
                <a:alpha val="10000"/>
              </a:srgbClr>
            </a:outerShdw>
          </a:effectLst>
        </p:spPr>
      </p:pic>
      <p:pic>
        <p:nvPicPr>
          <p:cNvPr id="1563" name="" descr=""/>
          <p:cNvPicPr/>
          <p:nvPr/>
        </p:nvPicPr>
        <p:blipFill>
          <a:blip r:embed="rId3"/>
          <a:stretch/>
        </p:blipFill>
        <p:spPr>
          <a:xfrm>
            <a:off x="6232320" y="2838240"/>
            <a:ext cx="2222280" cy="4111560"/>
          </a:xfrm>
          <a:prstGeom prst="rect">
            <a:avLst/>
          </a:prstGeom>
          <a:ln w="0">
            <a:noFill/>
          </a:ln>
        </p:spPr>
      </p:pic>
      <p:pic>
        <p:nvPicPr>
          <p:cNvPr id="1564" name="" descr=""/>
          <p:cNvPicPr/>
          <p:nvPr/>
        </p:nvPicPr>
        <p:blipFill>
          <a:blip r:embed="rId4"/>
          <a:stretch/>
        </p:blipFill>
        <p:spPr>
          <a:xfrm>
            <a:off x="9224640" y="-35280"/>
            <a:ext cx="2220840" cy="4110120"/>
          </a:xfrm>
          <a:prstGeom prst="rect">
            <a:avLst/>
          </a:prstGeom>
          <a:ln w="0">
            <a:noFill/>
          </a:ln>
        </p:spPr>
      </p:pic>
      <p:sp>
        <p:nvSpPr>
          <p:cNvPr id="1565" name="Rectangle 33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Title 1"/>
          <p:cNvSpPr/>
          <p:nvPr/>
        </p:nvSpPr>
        <p:spPr>
          <a:xfrm>
            <a:off x="560520" y="709560"/>
            <a:ext cx="47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Phone Mo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15a25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TextBox 38"/>
          <p:cNvSpPr/>
          <p:nvPr/>
        </p:nvSpPr>
        <p:spPr>
          <a:xfrm>
            <a:off x="517680" y="2475000"/>
            <a:ext cx="411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0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0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0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0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0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0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Rectangle 39"/>
          <p:cNvSpPr/>
          <p:nvPr/>
        </p:nvSpPr>
        <p:spPr>
          <a:xfrm>
            <a:off x="517680" y="3236760"/>
            <a:ext cx="41893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0" name="Group 40"/>
          <p:cNvGrpSpPr/>
          <p:nvPr/>
        </p:nvGrpSpPr>
        <p:grpSpPr>
          <a:xfrm>
            <a:off x="622440" y="4260960"/>
            <a:ext cx="1714680" cy="574560"/>
            <a:chOff x="622440" y="4260960"/>
            <a:chExt cx="1714680" cy="574560"/>
          </a:xfrm>
        </p:grpSpPr>
        <p:sp>
          <p:nvSpPr>
            <p:cNvPr id="1571" name="Oval 41"/>
            <p:cNvSpPr/>
            <p:nvPr/>
          </p:nvSpPr>
          <p:spPr>
            <a:xfrm>
              <a:off x="622440" y="4286160"/>
              <a:ext cx="548280" cy="549360"/>
            </a:xfrm>
            <a:prstGeom prst="ellipse">
              <a:avLst/>
            </a:prstGeom>
            <a:gradFill rotWithShape="0">
              <a:gsLst>
                <a:gs pos="0">
                  <a:srgbClr val="f57050"/>
                </a:gs>
                <a:gs pos="100000">
                  <a:srgbClr val="e5450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2" name="TextBox 42"/>
            <p:cNvSpPr/>
            <p:nvPr/>
          </p:nvSpPr>
          <p:spPr>
            <a:xfrm>
              <a:off x="1263240" y="42609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2.888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3" name="Rectangle 43"/>
            <p:cNvSpPr/>
            <p:nvPr/>
          </p:nvSpPr>
          <p:spPr>
            <a:xfrm>
              <a:off x="1359720" y="464364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4" name="Shape 2614"/>
            <p:cNvSpPr/>
            <p:nvPr/>
          </p:nvSpPr>
          <p:spPr>
            <a:xfrm>
              <a:off x="753120" y="443736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5" name="Group 45"/>
          <p:cNvGrpSpPr/>
          <p:nvPr/>
        </p:nvGrpSpPr>
        <p:grpSpPr>
          <a:xfrm>
            <a:off x="2568600" y="4282920"/>
            <a:ext cx="1714680" cy="574920"/>
            <a:chOff x="2568600" y="4282920"/>
            <a:chExt cx="1714680" cy="574920"/>
          </a:xfrm>
        </p:grpSpPr>
        <p:sp>
          <p:nvSpPr>
            <p:cNvPr id="1576" name="Oval 46"/>
            <p:cNvSpPr/>
            <p:nvPr/>
          </p:nvSpPr>
          <p:spPr>
            <a:xfrm>
              <a:off x="2568600" y="4308120"/>
              <a:ext cx="548280" cy="549720"/>
            </a:xfrm>
            <a:prstGeom prst="ellipse">
              <a:avLst/>
            </a:prstGeom>
            <a:gradFill rotWithShape="0">
              <a:gsLst>
                <a:gs pos="0">
                  <a:srgbClr val="ff9c80"/>
                </a:gs>
                <a:gs pos="100000">
                  <a:srgbClr val="e5754f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7" name="TextBox 47"/>
            <p:cNvSpPr/>
            <p:nvPr/>
          </p:nvSpPr>
          <p:spPr>
            <a:xfrm>
              <a:off x="3209400" y="428292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1.074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8" name="Rectangle 48"/>
            <p:cNvSpPr/>
            <p:nvPr/>
          </p:nvSpPr>
          <p:spPr>
            <a:xfrm>
              <a:off x="3305520" y="46551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9" name="Shape 2615"/>
            <p:cNvSpPr/>
            <p:nvPr/>
          </p:nvSpPr>
          <p:spPr>
            <a:xfrm>
              <a:off x="2702880" y="443880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fill="hold">
                      <p:stCondLst>
                        <p:cond delay="0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4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500"/>
                            </p:stCondLst>
                            <p:childTnLst>
                              <p:par>
                                <p:cTn id="1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8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1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0" name="Picture 3" descr=""/>
          <p:cNvPicPr/>
          <p:nvPr/>
        </p:nvPicPr>
        <p:blipFill>
          <a:blip r:embed="rId1"/>
          <a:stretch/>
        </p:blipFill>
        <p:spPr>
          <a:xfrm>
            <a:off x="5543640" y="2077920"/>
            <a:ext cx="4092480" cy="5789880"/>
          </a:xfrm>
          <a:prstGeom prst="rect">
            <a:avLst/>
          </a:prstGeom>
          <a:ln w="0">
            <a:noFill/>
          </a:ln>
        </p:spPr>
      </p:pic>
      <p:pic>
        <p:nvPicPr>
          <p:cNvPr id="1581" name="Picture 4" descr=""/>
          <p:cNvPicPr/>
          <p:nvPr/>
        </p:nvPicPr>
        <p:blipFill>
          <a:blip r:embed="rId2"/>
          <a:stretch/>
        </p:blipFill>
        <p:spPr>
          <a:xfrm>
            <a:off x="9526680" y="-792000"/>
            <a:ext cx="4091040" cy="5789520"/>
          </a:xfrm>
          <a:prstGeom prst="rect">
            <a:avLst/>
          </a:prstGeom>
          <a:ln w="0">
            <a:noFill/>
          </a:ln>
        </p:spPr>
      </p:pic>
      <p:pic>
        <p:nvPicPr>
          <p:cNvPr id="1582" name="" descr=""/>
          <p:cNvPicPr/>
          <p:nvPr/>
        </p:nvPicPr>
        <p:blipFill>
          <a:blip r:embed="rId3"/>
          <a:stretch/>
        </p:blipFill>
        <p:spPr>
          <a:xfrm>
            <a:off x="5935320" y="2695320"/>
            <a:ext cx="3343320" cy="4492440"/>
          </a:xfrm>
          <a:prstGeom prst="rect">
            <a:avLst/>
          </a:prstGeom>
          <a:ln w="0">
            <a:noFill/>
          </a:ln>
        </p:spPr>
      </p:pic>
      <p:pic>
        <p:nvPicPr>
          <p:cNvPr id="1583" name="" descr=""/>
          <p:cNvPicPr/>
          <p:nvPr/>
        </p:nvPicPr>
        <p:blipFill>
          <a:blip r:embed="rId4"/>
          <a:stretch/>
        </p:blipFill>
        <p:spPr>
          <a:xfrm>
            <a:off x="9916920" y="-177840"/>
            <a:ext cx="3344760" cy="4494240"/>
          </a:xfrm>
          <a:prstGeom prst="rect">
            <a:avLst/>
          </a:prstGeom>
          <a:ln w="0">
            <a:noFill/>
          </a:ln>
        </p:spPr>
      </p:pic>
      <p:sp>
        <p:nvSpPr>
          <p:cNvPr id="1584" name="Rectangle 18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Title 1"/>
          <p:cNvSpPr/>
          <p:nvPr/>
        </p:nvSpPr>
        <p:spPr>
          <a:xfrm>
            <a:off x="560520" y="709560"/>
            <a:ext cx="47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Tablet Mo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15a25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TextBox 32"/>
          <p:cNvSpPr/>
          <p:nvPr/>
        </p:nvSpPr>
        <p:spPr>
          <a:xfrm>
            <a:off x="531720" y="2171880"/>
            <a:ext cx="49881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8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Rectangle 33"/>
          <p:cNvSpPr/>
          <p:nvPr/>
        </p:nvSpPr>
        <p:spPr>
          <a:xfrm>
            <a:off x="531720" y="3132000"/>
            <a:ext cx="486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9" name="Group 34"/>
          <p:cNvGrpSpPr/>
          <p:nvPr/>
        </p:nvGrpSpPr>
        <p:grpSpPr>
          <a:xfrm>
            <a:off x="617400" y="4452840"/>
            <a:ext cx="276480" cy="276480"/>
            <a:chOff x="617400" y="4452840"/>
            <a:chExt cx="276480" cy="276480"/>
          </a:xfrm>
        </p:grpSpPr>
        <p:sp>
          <p:nvSpPr>
            <p:cNvPr id="1590" name="Oval 35"/>
            <p:cNvSpPr/>
            <p:nvPr/>
          </p:nvSpPr>
          <p:spPr>
            <a:xfrm>
              <a:off x="617400" y="4452840"/>
              <a:ext cx="276480" cy="276480"/>
            </a:xfrm>
            <a:prstGeom prst="ellipse">
              <a:avLst/>
            </a:prstGeom>
            <a:noFill/>
            <a:ln cap="rnd" w="17640">
              <a:solidFill>
                <a:srgbClr val="ffbb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1" name="Freeform 36"/>
            <p:cNvSpPr/>
            <p:nvPr/>
          </p:nvSpPr>
          <p:spPr>
            <a:xfrm>
              <a:off x="684000" y="4543560"/>
              <a:ext cx="142920" cy="95040"/>
            </a:xfrm>
            <a:custGeom>
              <a:avLst/>
              <a:gdLst/>
              <a:ahLst/>
              <a:rect l="l" t="t" r="r" b="b"/>
              <a:pathLst>
                <a:path w="156" h="104">
                  <a:moveTo>
                    <a:pt x="0" y="45"/>
                  </a:moveTo>
                  <a:lnTo>
                    <a:pt x="60" y="104"/>
                  </a:lnTo>
                  <a:lnTo>
                    <a:pt x="156" y="0"/>
                  </a:lnTo>
                </a:path>
              </a:pathLst>
            </a:custGeom>
            <a:noFill/>
            <a:ln cap="rnd" w="17640">
              <a:solidFill>
                <a:srgbClr val="ffbb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2" name="Group 37"/>
          <p:cNvGrpSpPr/>
          <p:nvPr/>
        </p:nvGrpSpPr>
        <p:grpSpPr>
          <a:xfrm>
            <a:off x="617400" y="4906800"/>
            <a:ext cx="276480" cy="276480"/>
            <a:chOff x="617400" y="4906800"/>
            <a:chExt cx="276480" cy="276480"/>
          </a:xfrm>
        </p:grpSpPr>
        <p:sp>
          <p:nvSpPr>
            <p:cNvPr id="1593" name="Oval 8"/>
            <p:cNvSpPr/>
            <p:nvPr/>
          </p:nvSpPr>
          <p:spPr>
            <a:xfrm>
              <a:off x="617400" y="4906800"/>
              <a:ext cx="276480" cy="276480"/>
            </a:xfrm>
            <a:prstGeom prst="ellipse">
              <a:avLst/>
            </a:prstGeom>
            <a:noFill/>
            <a:ln cap="rnd" w="17640">
              <a:solidFill>
                <a:srgbClr val="ffbb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4" name="Freeform 9"/>
            <p:cNvSpPr/>
            <p:nvPr/>
          </p:nvSpPr>
          <p:spPr>
            <a:xfrm>
              <a:off x="684000" y="4997520"/>
              <a:ext cx="142920" cy="95040"/>
            </a:xfrm>
            <a:custGeom>
              <a:avLst/>
              <a:gdLst/>
              <a:ahLst/>
              <a:rect l="l" t="t" r="r" b="b"/>
              <a:pathLst>
                <a:path w="156" h="104">
                  <a:moveTo>
                    <a:pt x="0" y="45"/>
                  </a:moveTo>
                  <a:lnTo>
                    <a:pt x="60" y="104"/>
                  </a:lnTo>
                  <a:lnTo>
                    <a:pt x="156" y="0"/>
                  </a:lnTo>
                </a:path>
              </a:pathLst>
            </a:custGeom>
            <a:noFill/>
            <a:ln cap="rnd" w="17640">
              <a:solidFill>
                <a:srgbClr val="ffbb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5" name="Rectangle 40"/>
          <p:cNvSpPr/>
          <p:nvPr/>
        </p:nvSpPr>
        <p:spPr>
          <a:xfrm>
            <a:off x="707040" y="4425840"/>
            <a:ext cx="3751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Rectangle 41"/>
          <p:cNvSpPr/>
          <p:nvPr/>
        </p:nvSpPr>
        <p:spPr>
          <a:xfrm>
            <a:off x="707040" y="4878360"/>
            <a:ext cx="3751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621" dur="indefinite" restart="never" nodeType="tmRoot">
          <p:childTnLst>
            <p:seq>
              <p:cTn id="1622" dur="indefinite" nodeType="mainSeq">
                <p:childTnLst>
                  <p:par>
                    <p:cTn id="1623" fill="hold">
                      <p:stCondLst>
                        <p:cond delay="0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500"/>
                            </p:stCondLst>
                            <p:childTnLst>
                              <p:par>
                                <p:cTn id="1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1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4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4500"/>
                            </p:stCondLst>
                            <p:childTnLst>
                              <p:par>
                                <p:cTn id="1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7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598" name="Rectangle 2"/>
          <p:cNvSpPr/>
          <p:nvPr/>
        </p:nvSpPr>
        <p:spPr>
          <a:xfrm>
            <a:off x="0" y="0"/>
            <a:ext cx="444816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Rectangle 6"/>
          <p:cNvSpPr/>
          <p:nvPr/>
        </p:nvSpPr>
        <p:spPr>
          <a:xfrm>
            <a:off x="135000" y="1098720"/>
            <a:ext cx="3711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ource Sans Pro"/>
                <a:ea typeface="Open Sans"/>
              </a:rPr>
              <a:t>Address: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Open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  <a:ea typeface="Open Sans"/>
              </a:rPr>
              <a:t>Street 9890, New Something 1234, Coun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Rectangle 9"/>
          <p:cNvSpPr/>
          <p:nvPr/>
        </p:nvSpPr>
        <p:spPr>
          <a:xfrm>
            <a:off x="0" y="0"/>
            <a:ext cx="123840" cy="6858000"/>
          </a:xfrm>
          <a:prstGeom prst="rect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Rectangle 10"/>
          <p:cNvSpPr/>
          <p:nvPr/>
        </p:nvSpPr>
        <p:spPr>
          <a:xfrm>
            <a:off x="120600" y="3144960"/>
            <a:ext cx="3711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ource Sans Pro"/>
                <a:ea typeface="Open Sans"/>
              </a:rPr>
              <a:t>Phone Numbe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  <a:ea typeface="Open Sans"/>
              </a:rPr>
              <a:t>+ 1 800 559 65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Rectangle 11"/>
          <p:cNvSpPr/>
          <p:nvPr/>
        </p:nvSpPr>
        <p:spPr>
          <a:xfrm>
            <a:off x="135000" y="5278320"/>
            <a:ext cx="3711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ource Sans Pro"/>
                <a:ea typeface="Open Sans"/>
              </a:rPr>
              <a:t>Email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  <a:ea typeface="Open Sans"/>
              </a:rPr>
              <a:t>digital@hotmail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Rectangle 13"/>
          <p:cNvSpPr/>
          <p:nvPr/>
        </p:nvSpPr>
        <p:spPr>
          <a:xfrm>
            <a:off x="6095880" y="2619360"/>
            <a:ext cx="6096240" cy="1490760"/>
          </a:xfrm>
          <a:prstGeom prst="rect">
            <a:avLst/>
          </a:prstGeom>
          <a:solidFill>
            <a:srgbClr val="00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Rectangle 14"/>
          <p:cNvSpPr/>
          <p:nvPr/>
        </p:nvSpPr>
        <p:spPr>
          <a:xfrm>
            <a:off x="12074400" y="2620800"/>
            <a:ext cx="117720" cy="1489320"/>
          </a:xfrm>
          <a:prstGeom prst="rect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TextBox 15"/>
          <p:cNvSpPr/>
          <p:nvPr/>
        </p:nvSpPr>
        <p:spPr>
          <a:xfrm>
            <a:off x="8691480" y="2819520"/>
            <a:ext cx="300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ource Sans Pro"/>
              </a:rPr>
              <a:t>Digita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TextBox 16"/>
          <p:cNvSpPr/>
          <p:nvPr/>
        </p:nvSpPr>
        <p:spPr>
          <a:xfrm>
            <a:off x="7383600" y="3581280"/>
            <a:ext cx="42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</a:rPr>
              <a:t>Multipurpose PowerPoint Presentation Temp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7" name="Group 19"/>
          <p:cNvGrpSpPr/>
          <p:nvPr/>
        </p:nvGrpSpPr>
        <p:grpSpPr>
          <a:xfrm>
            <a:off x="3986280" y="898560"/>
            <a:ext cx="923760" cy="923760"/>
            <a:chOff x="3986280" y="898560"/>
            <a:chExt cx="923760" cy="923760"/>
          </a:xfrm>
        </p:grpSpPr>
        <p:sp>
          <p:nvSpPr>
            <p:cNvPr id="1608" name="Oval 3"/>
            <p:cNvSpPr/>
            <p:nvPr/>
          </p:nvSpPr>
          <p:spPr>
            <a:xfrm>
              <a:off x="3986280" y="898560"/>
              <a:ext cx="923760" cy="923760"/>
            </a:xfrm>
            <a:prstGeom prst="ellipse">
              <a:avLst/>
            </a:prstGeom>
            <a:gradFill rotWithShape="0">
              <a:gsLst>
                <a:gs pos="0">
                  <a:srgbClr val="f57050"/>
                </a:gs>
                <a:gs pos="100000">
                  <a:srgbClr val="e5450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Shape 2946"/>
            <p:cNvSpPr/>
            <p:nvPr/>
          </p:nvSpPr>
          <p:spPr>
            <a:xfrm>
              <a:off x="4308480" y="12207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595" y="9980"/>
                  </a:moveTo>
                  <a:cubicBezTo>
                    <a:pt x="19587" y="9894"/>
                    <a:pt x="19575" y="9811"/>
                    <a:pt x="19565" y="9726"/>
                  </a:cubicBezTo>
                  <a:cubicBezTo>
                    <a:pt x="19542" y="9539"/>
                    <a:pt x="19514" y="9355"/>
                    <a:pt x="19480" y="9172"/>
                  </a:cubicBezTo>
                  <a:cubicBezTo>
                    <a:pt x="19463" y="9078"/>
                    <a:pt x="19444" y="8986"/>
                    <a:pt x="19424" y="8893"/>
                  </a:cubicBezTo>
                  <a:cubicBezTo>
                    <a:pt x="19384" y="8712"/>
                    <a:pt x="19337" y="8533"/>
                    <a:pt x="19286" y="8356"/>
                  </a:cubicBezTo>
                  <a:cubicBezTo>
                    <a:pt x="19263" y="8276"/>
                    <a:pt x="19244" y="8195"/>
                    <a:pt x="19218" y="8116"/>
                  </a:cubicBezTo>
                  <a:cubicBezTo>
                    <a:pt x="19143" y="7879"/>
                    <a:pt x="19057" y="7646"/>
                    <a:pt x="18963" y="7418"/>
                  </a:cubicBezTo>
                  <a:cubicBezTo>
                    <a:pt x="18923" y="7321"/>
                    <a:pt x="18876" y="7229"/>
                    <a:pt x="18833" y="7134"/>
                  </a:cubicBezTo>
                  <a:cubicBezTo>
                    <a:pt x="18771" y="6999"/>
                    <a:pt x="18708" y="6865"/>
                    <a:pt x="18640" y="6734"/>
                  </a:cubicBezTo>
                  <a:cubicBezTo>
                    <a:pt x="18580" y="6618"/>
                    <a:pt x="18516" y="6504"/>
                    <a:pt x="18450" y="6391"/>
                  </a:cubicBezTo>
                  <a:cubicBezTo>
                    <a:pt x="18392" y="6291"/>
                    <a:pt x="18331" y="6192"/>
                    <a:pt x="18269" y="6094"/>
                  </a:cubicBezTo>
                  <a:cubicBezTo>
                    <a:pt x="18192" y="5971"/>
                    <a:pt x="18114" y="5849"/>
                    <a:pt x="18031" y="5731"/>
                  </a:cubicBezTo>
                  <a:cubicBezTo>
                    <a:pt x="17986" y="5667"/>
                    <a:pt x="17936" y="5605"/>
                    <a:pt x="17889" y="5541"/>
                  </a:cubicBezTo>
                  <a:cubicBezTo>
                    <a:pt x="17544" y="5080"/>
                    <a:pt x="17159" y="4651"/>
                    <a:pt x="16732" y="4265"/>
                  </a:cubicBezTo>
                  <a:cubicBezTo>
                    <a:pt x="16705" y="4241"/>
                    <a:pt x="16679" y="4216"/>
                    <a:pt x="16652" y="4192"/>
                  </a:cubicBezTo>
                  <a:cubicBezTo>
                    <a:pt x="16499" y="4058"/>
                    <a:pt x="16343" y="3927"/>
                    <a:pt x="16181" y="3803"/>
                  </a:cubicBezTo>
                  <a:cubicBezTo>
                    <a:pt x="16173" y="3796"/>
                    <a:pt x="16165" y="3790"/>
                    <a:pt x="16156" y="3784"/>
                  </a:cubicBezTo>
                  <a:cubicBezTo>
                    <a:pt x="15459" y="3252"/>
                    <a:pt x="14680" y="2821"/>
                    <a:pt x="13842" y="2513"/>
                  </a:cubicBezTo>
                  <a:cubicBezTo>
                    <a:pt x="13592" y="2912"/>
                    <a:pt x="13337" y="3420"/>
                    <a:pt x="13040" y="3590"/>
                  </a:cubicBezTo>
                  <a:cubicBezTo>
                    <a:pt x="12610" y="3835"/>
                    <a:pt x="12641" y="4817"/>
                    <a:pt x="13469" y="4725"/>
                  </a:cubicBezTo>
                  <a:cubicBezTo>
                    <a:pt x="13469" y="4725"/>
                    <a:pt x="13224" y="4970"/>
                    <a:pt x="13469" y="5860"/>
                  </a:cubicBezTo>
                  <a:cubicBezTo>
                    <a:pt x="13715" y="6750"/>
                    <a:pt x="14126" y="6943"/>
                    <a:pt x="15341" y="6443"/>
                  </a:cubicBezTo>
                  <a:cubicBezTo>
                    <a:pt x="15862" y="6228"/>
                    <a:pt x="16258" y="6340"/>
                    <a:pt x="16200" y="6873"/>
                  </a:cubicBezTo>
                  <a:cubicBezTo>
                    <a:pt x="16077" y="8008"/>
                    <a:pt x="15202" y="7960"/>
                    <a:pt x="15862" y="9788"/>
                  </a:cubicBezTo>
                  <a:cubicBezTo>
                    <a:pt x="16261" y="10892"/>
                    <a:pt x="17243" y="11322"/>
                    <a:pt x="17611" y="12181"/>
                  </a:cubicBezTo>
                  <a:cubicBezTo>
                    <a:pt x="17814" y="12653"/>
                    <a:pt x="18591" y="13088"/>
                    <a:pt x="19250" y="13384"/>
                  </a:cubicBezTo>
                  <a:cubicBezTo>
                    <a:pt x="19321" y="13153"/>
                    <a:pt x="19380" y="12917"/>
                    <a:pt x="19432" y="12677"/>
                  </a:cubicBezTo>
                  <a:cubicBezTo>
                    <a:pt x="19452" y="12587"/>
                    <a:pt x="19467" y="12494"/>
                    <a:pt x="19484" y="12402"/>
                  </a:cubicBezTo>
                  <a:cubicBezTo>
                    <a:pt x="19517" y="12224"/>
                    <a:pt x="19545" y="12044"/>
                    <a:pt x="19566" y="11862"/>
                  </a:cubicBezTo>
                  <a:cubicBezTo>
                    <a:pt x="19576" y="11776"/>
                    <a:pt x="19588" y="11691"/>
                    <a:pt x="19596" y="11604"/>
                  </a:cubicBezTo>
                  <a:cubicBezTo>
                    <a:pt x="19620" y="11340"/>
                    <a:pt x="19636" y="11072"/>
                    <a:pt x="19636" y="10800"/>
                  </a:cubicBezTo>
                  <a:cubicBezTo>
                    <a:pt x="19636" y="10523"/>
                    <a:pt x="19620" y="10250"/>
                    <a:pt x="19595" y="9980"/>
                  </a:cubicBezTo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6223"/>
                    <a:pt x="1622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8407" y="9726"/>
                  </a:moveTo>
                  <a:cubicBezTo>
                    <a:pt x="8468" y="9020"/>
                    <a:pt x="9603" y="8284"/>
                    <a:pt x="10370" y="7947"/>
                  </a:cubicBezTo>
                  <a:cubicBezTo>
                    <a:pt x="11137" y="7609"/>
                    <a:pt x="11843" y="7486"/>
                    <a:pt x="11751" y="6903"/>
                  </a:cubicBezTo>
                  <a:cubicBezTo>
                    <a:pt x="11659" y="6320"/>
                    <a:pt x="11444" y="5891"/>
                    <a:pt x="10248" y="5891"/>
                  </a:cubicBezTo>
                  <a:cubicBezTo>
                    <a:pt x="9051" y="5891"/>
                    <a:pt x="9573" y="7486"/>
                    <a:pt x="8591" y="6535"/>
                  </a:cubicBezTo>
                  <a:cubicBezTo>
                    <a:pt x="7609" y="5584"/>
                    <a:pt x="8805" y="5830"/>
                    <a:pt x="9296" y="5615"/>
                  </a:cubicBezTo>
                  <a:cubicBezTo>
                    <a:pt x="9787" y="5400"/>
                    <a:pt x="10278" y="4510"/>
                    <a:pt x="9419" y="4449"/>
                  </a:cubicBezTo>
                  <a:cubicBezTo>
                    <a:pt x="8560" y="4388"/>
                    <a:pt x="8744" y="4817"/>
                    <a:pt x="8069" y="4572"/>
                  </a:cubicBezTo>
                  <a:cubicBezTo>
                    <a:pt x="7394" y="4326"/>
                    <a:pt x="7087" y="5431"/>
                    <a:pt x="6658" y="5277"/>
                  </a:cubicBezTo>
                  <a:cubicBezTo>
                    <a:pt x="6373" y="5176"/>
                    <a:pt x="5613" y="4605"/>
                    <a:pt x="5110" y="4044"/>
                  </a:cubicBezTo>
                  <a:cubicBezTo>
                    <a:pt x="4094" y="4900"/>
                    <a:pt x="3277" y="5982"/>
                    <a:pt x="2729" y="7212"/>
                  </a:cubicBezTo>
                  <a:cubicBezTo>
                    <a:pt x="2875" y="8862"/>
                    <a:pt x="3774" y="9726"/>
                    <a:pt x="3774" y="9726"/>
                  </a:cubicBezTo>
                  <a:cubicBezTo>
                    <a:pt x="3774" y="9726"/>
                    <a:pt x="4234" y="10800"/>
                    <a:pt x="6995" y="12119"/>
                  </a:cubicBezTo>
                  <a:cubicBezTo>
                    <a:pt x="6995" y="12119"/>
                    <a:pt x="7517" y="12150"/>
                    <a:pt x="6903" y="11536"/>
                  </a:cubicBezTo>
                  <a:cubicBezTo>
                    <a:pt x="6290" y="10923"/>
                    <a:pt x="5615" y="10156"/>
                    <a:pt x="6382" y="9757"/>
                  </a:cubicBezTo>
                  <a:cubicBezTo>
                    <a:pt x="7149" y="9358"/>
                    <a:pt x="7364" y="9389"/>
                    <a:pt x="7548" y="10125"/>
                  </a:cubicBezTo>
                  <a:cubicBezTo>
                    <a:pt x="7732" y="10861"/>
                    <a:pt x="8345" y="10432"/>
                    <a:pt x="8407" y="9726"/>
                  </a:cubicBezTo>
                  <a:moveTo>
                    <a:pt x="16246" y="12871"/>
                  </a:moveTo>
                  <a:cubicBezTo>
                    <a:pt x="15893" y="13086"/>
                    <a:pt x="15908" y="13561"/>
                    <a:pt x="16200" y="13822"/>
                  </a:cubicBezTo>
                  <a:cubicBezTo>
                    <a:pt x="16491" y="14083"/>
                    <a:pt x="17074" y="14420"/>
                    <a:pt x="17258" y="13822"/>
                  </a:cubicBezTo>
                  <a:cubicBezTo>
                    <a:pt x="17442" y="13224"/>
                    <a:pt x="16599" y="12656"/>
                    <a:pt x="16246" y="12871"/>
                  </a:cubicBezTo>
                  <a:moveTo>
                    <a:pt x="12027" y="12948"/>
                  </a:moveTo>
                  <a:cubicBezTo>
                    <a:pt x="10984" y="12058"/>
                    <a:pt x="11107" y="11659"/>
                    <a:pt x="9787" y="11659"/>
                  </a:cubicBezTo>
                  <a:cubicBezTo>
                    <a:pt x="8468" y="11659"/>
                    <a:pt x="7640" y="11966"/>
                    <a:pt x="7977" y="13807"/>
                  </a:cubicBezTo>
                  <a:cubicBezTo>
                    <a:pt x="8315" y="15648"/>
                    <a:pt x="9296" y="14819"/>
                    <a:pt x="9205" y="16231"/>
                  </a:cubicBezTo>
                  <a:cubicBezTo>
                    <a:pt x="9112" y="17642"/>
                    <a:pt x="9450" y="17949"/>
                    <a:pt x="9665" y="18286"/>
                  </a:cubicBezTo>
                  <a:cubicBezTo>
                    <a:pt x="9880" y="18624"/>
                    <a:pt x="10524" y="19606"/>
                    <a:pt x="10769" y="18225"/>
                  </a:cubicBezTo>
                  <a:cubicBezTo>
                    <a:pt x="11015" y="16844"/>
                    <a:pt x="11475" y="16077"/>
                    <a:pt x="11996" y="15402"/>
                  </a:cubicBezTo>
                  <a:cubicBezTo>
                    <a:pt x="12518" y="14727"/>
                    <a:pt x="13070" y="13837"/>
                    <a:pt x="12027" y="129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0" name="Group 22"/>
          <p:cNvGrpSpPr/>
          <p:nvPr/>
        </p:nvGrpSpPr>
        <p:grpSpPr>
          <a:xfrm>
            <a:off x="4000680" y="2933640"/>
            <a:ext cx="923760" cy="924120"/>
            <a:chOff x="4000680" y="2933640"/>
            <a:chExt cx="923760" cy="924120"/>
          </a:xfrm>
        </p:grpSpPr>
        <p:sp>
          <p:nvSpPr>
            <p:cNvPr id="1611" name="Oval 5"/>
            <p:cNvSpPr/>
            <p:nvPr/>
          </p:nvSpPr>
          <p:spPr>
            <a:xfrm>
              <a:off x="4000680" y="2933640"/>
              <a:ext cx="923760" cy="924120"/>
            </a:xfrm>
            <a:prstGeom prst="ellipse">
              <a:avLst/>
            </a:prstGeom>
            <a:gradFill rotWithShape="0">
              <a:gsLst>
                <a:gs pos="0">
                  <a:srgbClr val="f57050"/>
                </a:gs>
                <a:gs pos="100000">
                  <a:srgbClr val="e5450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2" name="Shape 2629"/>
            <p:cNvSpPr/>
            <p:nvPr/>
          </p:nvSpPr>
          <p:spPr>
            <a:xfrm>
              <a:off x="4308480" y="32659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441" y="20618"/>
                  </a:moveTo>
                  <a:cubicBezTo>
                    <a:pt x="15826" y="20618"/>
                    <a:pt x="15226" y="20482"/>
                    <a:pt x="14660" y="20214"/>
                  </a:cubicBezTo>
                  <a:cubicBezTo>
                    <a:pt x="14607" y="20189"/>
                    <a:pt x="14552" y="20170"/>
                    <a:pt x="14497" y="20155"/>
                  </a:cubicBezTo>
                  <a:cubicBezTo>
                    <a:pt x="8918" y="17308"/>
                    <a:pt x="4295" y="12685"/>
                    <a:pt x="1448" y="7105"/>
                  </a:cubicBezTo>
                  <a:cubicBezTo>
                    <a:pt x="1432" y="7048"/>
                    <a:pt x="1412" y="6991"/>
                    <a:pt x="1386" y="6936"/>
                  </a:cubicBezTo>
                  <a:cubicBezTo>
                    <a:pt x="1117" y="6369"/>
                    <a:pt x="982" y="5770"/>
                    <a:pt x="982" y="5155"/>
                  </a:cubicBezTo>
                  <a:cubicBezTo>
                    <a:pt x="982" y="2774"/>
                    <a:pt x="3066" y="982"/>
                    <a:pt x="4417" y="982"/>
                  </a:cubicBezTo>
                  <a:cubicBezTo>
                    <a:pt x="4594" y="982"/>
                    <a:pt x="4711" y="1072"/>
                    <a:pt x="4764" y="1126"/>
                  </a:cubicBezTo>
                  <a:cubicBezTo>
                    <a:pt x="4776" y="1139"/>
                    <a:pt x="4798" y="1164"/>
                    <a:pt x="4831" y="1216"/>
                  </a:cubicBezTo>
                  <a:cubicBezTo>
                    <a:pt x="4848" y="1244"/>
                    <a:pt x="4867" y="1271"/>
                    <a:pt x="4887" y="1297"/>
                  </a:cubicBezTo>
                  <a:lnTo>
                    <a:pt x="8118" y="5453"/>
                  </a:lnTo>
                  <a:cubicBezTo>
                    <a:pt x="8143" y="5485"/>
                    <a:pt x="8170" y="5515"/>
                    <a:pt x="8199" y="5544"/>
                  </a:cubicBezTo>
                  <a:cubicBezTo>
                    <a:pt x="8253" y="5598"/>
                    <a:pt x="8343" y="5715"/>
                    <a:pt x="8343" y="5891"/>
                  </a:cubicBezTo>
                  <a:cubicBezTo>
                    <a:pt x="8343" y="5978"/>
                    <a:pt x="8319" y="6060"/>
                    <a:pt x="8272" y="6135"/>
                  </a:cubicBezTo>
                  <a:lnTo>
                    <a:pt x="7178" y="7221"/>
                  </a:lnTo>
                  <a:cubicBezTo>
                    <a:pt x="7173" y="7226"/>
                    <a:pt x="7168" y="7231"/>
                    <a:pt x="7163" y="7236"/>
                  </a:cubicBezTo>
                  <a:cubicBezTo>
                    <a:pt x="6767" y="7609"/>
                    <a:pt x="6541" y="8126"/>
                    <a:pt x="6541" y="8668"/>
                  </a:cubicBezTo>
                  <a:cubicBezTo>
                    <a:pt x="6541" y="9175"/>
                    <a:pt x="6738" y="9658"/>
                    <a:pt x="7080" y="10020"/>
                  </a:cubicBezTo>
                  <a:cubicBezTo>
                    <a:pt x="7092" y="10040"/>
                    <a:pt x="7105" y="10059"/>
                    <a:pt x="7119" y="10078"/>
                  </a:cubicBezTo>
                  <a:cubicBezTo>
                    <a:pt x="8325" y="11745"/>
                    <a:pt x="9807" y="13222"/>
                    <a:pt x="11525" y="14469"/>
                  </a:cubicBezTo>
                  <a:cubicBezTo>
                    <a:pt x="11538" y="14478"/>
                    <a:pt x="11551" y="14487"/>
                    <a:pt x="11565" y="14496"/>
                  </a:cubicBezTo>
                  <a:cubicBezTo>
                    <a:pt x="11928" y="14844"/>
                    <a:pt x="12414" y="15045"/>
                    <a:pt x="12924" y="15045"/>
                  </a:cubicBezTo>
                  <a:cubicBezTo>
                    <a:pt x="13436" y="15045"/>
                    <a:pt x="13930" y="14840"/>
                    <a:pt x="14297" y="14479"/>
                  </a:cubicBezTo>
                  <a:cubicBezTo>
                    <a:pt x="14316" y="14463"/>
                    <a:pt x="14335" y="14446"/>
                    <a:pt x="14352" y="14427"/>
                  </a:cubicBezTo>
                  <a:lnTo>
                    <a:pt x="15451" y="13320"/>
                  </a:lnTo>
                  <a:cubicBezTo>
                    <a:pt x="15529" y="13271"/>
                    <a:pt x="15611" y="13247"/>
                    <a:pt x="15697" y="13247"/>
                  </a:cubicBezTo>
                  <a:cubicBezTo>
                    <a:pt x="15874" y="13247"/>
                    <a:pt x="15990" y="13337"/>
                    <a:pt x="16044" y="13391"/>
                  </a:cubicBezTo>
                  <a:cubicBezTo>
                    <a:pt x="16073" y="13420"/>
                    <a:pt x="16103" y="13447"/>
                    <a:pt x="16135" y="13472"/>
                  </a:cubicBezTo>
                  <a:lnTo>
                    <a:pt x="20291" y="16704"/>
                  </a:lnTo>
                  <a:cubicBezTo>
                    <a:pt x="20317" y="16725"/>
                    <a:pt x="20345" y="16744"/>
                    <a:pt x="20374" y="16762"/>
                  </a:cubicBezTo>
                  <a:cubicBezTo>
                    <a:pt x="20426" y="16795"/>
                    <a:pt x="20449" y="16816"/>
                    <a:pt x="20461" y="16827"/>
                  </a:cubicBezTo>
                  <a:cubicBezTo>
                    <a:pt x="20515" y="16881"/>
                    <a:pt x="20605" y="16997"/>
                    <a:pt x="20605" y="17174"/>
                  </a:cubicBezTo>
                  <a:cubicBezTo>
                    <a:pt x="20605" y="17207"/>
                    <a:pt x="20606" y="17240"/>
                    <a:pt x="20610" y="17273"/>
                  </a:cubicBezTo>
                  <a:cubicBezTo>
                    <a:pt x="20533" y="18625"/>
                    <a:pt x="18769" y="20618"/>
                    <a:pt x="16441" y="20618"/>
                  </a:cubicBezTo>
                  <a:moveTo>
                    <a:pt x="21586" y="17174"/>
                  </a:moveTo>
                  <a:cubicBezTo>
                    <a:pt x="21586" y="16768"/>
                    <a:pt x="21421" y="16399"/>
                    <a:pt x="21155" y="16133"/>
                  </a:cubicBezTo>
                  <a:cubicBezTo>
                    <a:pt x="21077" y="16054"/>
                    <a:pt x="20988" y="15988"/>
                    <a:pt x="20893" y="15929"/>
                  </a:cubicBezTo>
                  <a:lnTo>
                    <a:pt x="16738" y="12697"/>
                  </a:lnTo>
                  <a:cubicBezTo>
                    <a:pt x="16471" y="12430"/>
                    <a:pt x="16104" y="12265"/>
                    <a:pt x="15697" y="12265"/>
                  </a:cubicBezTo>
                  <a:cubicBezTo>
                    <a:pt x="15364" y="12265"/>
                    <a:pt x="15060" y="12380"/>
                    <a:pt x="14815" y="12567"/>
                  </a:cubicBezTo>
                  <a:lnTo>
                    <a:pt x="13655" y="13736"/>
                  </a:lnTo>
                  <a:lnTo>
                    <a:pt x="13652" y="13733"/>
                  </a:lnTo>
                  <a:cubicBezTo>
                    <a:pt x="13473" y="13934"/>
                    <a:pt x="13214" y="14063"/>
                    <a:pt x="12924" y="14063"/>
                  </a:cubicBezTo>
                  <a:cubicBezTo>
                    <a:pt x="12592" y="14063"/>
                    <a:pt x="12300" y="13897"/>
                    <a:pt x="12122" y="13645"/>
                  </a:cubicBezTo>
                  <a:cubicBezTo>
                    <a:pt x="12116" y="13654"/>
                    <a:pt x="12107" y="13663"/>
                    <a:pt x="12101" y="13674"/>
                  </a:cubicBezTo>
                  <a:cubicBezTo>
                    <a:pt x="10497" y="12510"/>
                    <a:pt x="9076" y="11108"/>
                    <a:pt x="7914" y="9502"/>
                  </a:cubicBezTo>
                  <a:cubicBezTo>
                    <a:pt x="7925" y="9495"/>
                    <a:pt x="7935" y="9486"/>
                    <a:pt x="7947" y="9479"/>
                  </a:cubicBezTo>
                  <a:cubicBezTo>
                    <a:pt x="7691" y="9299"/>
                    <a:pt x="7523" y="9004"/>
                    <a:pt x="7523" y="8668"/>
                  </a:cubicBezTo>
                  <a:cubicBezTo>
                    <a:pt x="7523" y="8367"/>
                    <a:pt x="7659" y="8101"/>
                    <a:pt x="7871" y="7920"/>
                  </a:cubicBezTo>
                  <a:lnTo>
                    <a:pt x="7870" y="7918"/>
                  </a:lnTo>
                  <a:lnTo>
                    <a:pt x="9023" y="6773"/>
                  </a:lnTo>
                  <a:cubicBezTo>
                    <a:pt x="9211" y="6528"/>
                    <a:pt x="9325" y="6224"/>
                    <a:pt x="9325" y="5891"/>
                  </a:cubicBezTo>
                  <a:cubicBezTo>
                    <a:pt x="9325" y="5485"/>
                    <a:pt x="9160" y="5116"/>
                    <a:pt x="8893" y="4850"/>
                  </a:cubicBezTo>
                  <a:lnTo>
                    <a:pt x="5662" y="693"/>
                  </a:lnTo>
                  <a:cubicBezTo>
                    <a:pt x="5603" y="599"/>
                    <a:pt x="5537" y="510"/>
                    <a:pt x="5458" y="432"/>
                  </a:cubicBezTo>
                  <a:cubicBezTo>
                    <a:pt x="5191" y="165"/>
                    <a:pt x="4823" y="0"/>
                    <a:pt x="4417" y="0"/>
                  </a:cubicBezTo>
                  <a:cubicBezTo>
                    <a:pt x="2454" y="0"/>
                    <a:pt x="0" y="2308"/>
                    <a:pt x="0" y="5155"/>
                  </a:cubicBezTo>
                  <a:cubicBezTo>
                    <a:pt x="0" y="5943"/>
                    <a:pt x="183" y="6688"/>
                    <a:pt x="499" y="7356"/>
                  </a:cubicBezTo>
                  <a:lnTo>
                    <a:pt x="482" y="7373"/>
                  </a:lnTo>
                  <a:cubicBezTo>
                    <a:pt x="3435" y="13255"/>
                    <a:pt x="8343" y="18164"/>
                    <a:pt x="14224" y="21117"/>
                  </a:cubicBezTo>
                  <a:lnTo>
                    <a:pt x="14240" y="21101"/>
                  </a:lnTo>
                  <a:cubicBezTo>
                    <a:pt x="14908" y="21418"/>
                    <a:pt x="15652" y="21600"/>
                    <a:pt x="16441" y="21600"/>
                  </a:cubicBezTo>
                  <a:cubicBezTo>
                    <a:pt x="19287" y="21600"/>
                    <a:pt x="21594" y="19145"/>
                    <a:pt x="21594" y="17182"/>
                  </a:cubicBezTo>
                  <a:cubicBezTo>
                    <a:pt x="21594" y="17179"/>
                    <a:pt x="21594" y="17177"/>
                    <a:pt x="21594" y="17174"/>
                  </a:cubicBezTo>
                  <a:cubicBezTo>
                    <a:pt x="21594" y="17174"/>
                    <a:pt x="21586" y="17174"/>
                    <a:pt x="21586" y="17174"/>
                  </a:cubicBezTo>
                  <a:close/>
                  <a:moveTo>
                    <a:pt x="11785" y="10800"/>
                  </a:moveTo>
                  <a:cubicBezTo>
                    <a:pt x="12326" y="10800"/>
                    <a:pt x="12766" y="10360"/>
                    <a:pt x="12766" y="9819"/>
                  </a:cubicBezTo>
                  <a:cubicBezTo>
                    <a:pt x="12766" y="9276"/>
                    <a:pt x="12326" y="8836"/>
                    <a:pt x="11785" y="8836"/>
                  </a:cubicBezTo>
                  <a:cubicBezTo>
                    <a:pt x="11242" y="8836"/>
                    <a:pt x="10803" y="9276"/>
                    <a:pt x="10803" y="9819"/>
                  </a:cubicBezTo>
                  <a:cubicBezTo>
                    <a:pt x="10803" y="10360"/>
                    <a:pt x="11242" y="10800"/>
                    <a:pt x="11785" y="10800"/>
                  </a:cubicBezTo>
                  <a:moveTo>
                    <a:pt x="11785" y="5891"/>
                  </a:moveTo>
                  <a:cubicBezTo>
                    <a:pt x="13953" y="5891"/>
                    <a:pt x="15711" y="7649"/>
                    <a:pt x="15711" y="9819"/>
                  </a:cubicBezTo>
                  <a:cubicBezTo>
                    <a:pt x="15711" y="10090"/>
                    <a:pt x="15930" y="10309"/>
                    <a:pt x="16201" y="10309"/>
                  </a:cubicBezTo>
                  <a:cubicBezTo>
                    <a:pt x="16472" y="10309"/>
                    <a:pt x="16692" y="10090"/>
                    <a:pt x="16692" y="9819"/>
                  </a:cubicBezTo>
                  <a:cubicBezTo>
                    <a:pt x="16692" y="7107"/>
                    <a:pt x="14495" y="4909"/>
                    <a:pt x="11785" y="4909"/>
                  </a:cubicBezTo>
                  <a:cubicBezTo>
                    <a:pt x="11513" y="4909"/>
                    <a:pt x="11294" y="5129"/>
                    <a:pt x="11294" y="5400"/>
                  </a:cubicBezTo>
                  <a:cubicBezTo>
                    <a:pt x="11294" y="5672"/>
                    <a:pt x="11513" y="5891"/>
                    <a:pt x="11785" y="5891"/>
                  </a:cubicBezTo>
                  <a:moveTo>
                    <a:pt x="11785" y="982"/>
                  </a:moveTo>
                  <a:cubicBezTo>
                    <a:pt x="16663" y="982"/>
                    <a:pt x="20618" y="4939"/>
                    <a:pt x="20618" y="9819"/>
                  </a:cubicBezTo>
                  <a:cubicBezTo>
                    <a:pt x="20618" y="10090"/>
                    <a:pt x="20838" y="10309"/>
                    <a:pt x="21109" y="10309"/>
                  </a:cubicBezTo>
                  <a:cubicBezTo>
                    <a:pt x="21380" y="10309"/>
                    <a:pt x="21600" y="10090"/>
                    <a:pt x="21600" y="9819"/>
                  </a:cubicBezTo>
                  <a:cubicBezTo>
                    <a:pt x="21600" y="4396"/>
                    <a:pt x="17206" y="0"/>
                    <a:pt x="11785" y="0"/>
                  </a:cubicBezTo>
                  <a:cubicBezTo>
                    <a:pt x="11513" y="0"/>
                    <a:pt x="11294" y="220"/>
                    <a:pt x="11294" y="491"/>
                  </a:cubicBezTo>
                  <a:cubicBezTo>
                    <a:pt x="11294" y="762"/>
                    <a:pt x="11513" y="982"/>
                    <a:pt x="11785" y="98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3" name="Group 24"/>
          <p:cNvGrpSpPr/>
          <p:nvPr/>
        </p:nvGrpSpPr>
        <p:grpSpPr>
          <a:xfrm>
            <a:off x="3986280" y="5078520"/>
            <a:ext cx="923760" cy="923760"/>
            <a:chOff x="3986280" y="5078520"/>
            <a:chExt cx="923760" cy="923760"/>
          </a:xfrm>
        </p:grpSpPr>
        <p:sp>
          <p:nvSpPr>
            <p:cNvPr id="1614" name="Oval 4"/>
            <p:cNvSpPr/>
            <p:nvPr/>
          </p:nvSpPr>
          <p:spPr>
            <a:xfrm>
              <a:off x="3986280" y="5078520"/>
              <a:ext cx="923760" cy="923760"/>
            </a:xfrm>
            <a:prstGeom prst="ellipse">
              <a:avLst/>
            </a:prstGeom>
            <a:gradFill rotWithShape="0">
              <a:gsLst>
                <a:gs pos="0">
                  <a:srgbClr val="f57050"/>
                </a:gs>
                <a:gs pos="100000">
                  <a:srgbClr val="e5450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5" name="Shape 2553"/>
            <p:cNvSpPr/>
            <p:nvPr/>
          </p:nvSpPr>
          <p:spPr>
            <a:xfrm>
              <a:off x="4322880" y="541332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8100"/>
                  </a:moveTo>
                  <a:cubicBezTo>
                    <a:pt x="14896" y="8100"/>
                    <a:pt x="14236" y="8826"/>
                    <a:pt x="14236" y="9720"/>
                  </a:cubicBezTo>
                  <a:cubicBezTo>
                    <a:pt x="14236" y="10615"/>
                    <a:pt x="14896" y="11340"/>
                    <a:pt x="15709" y="11340"/>
                  </a:cubicBezTo>
                  <a:cubicBezTo>
                    <a:pt x="16522" y="11340"/>
                    <a:pt x="17182" y="10615"/>
                    <a:pt x="17182" y="9720"/>
                  </a:cubicBezTo>
                  <a:cubicBezTo>
                    <a:pt x="17182" y="8826"/>
                    <a:pt x="16522" y="8100"/>
                    <a:pt x="15709" y="8100"/>
                  </a:cubicBezTo>
                  <a:moveTo>
                    <a:pt x="10800" y="18360"/>
                  </a:moveTo>
                  <a:cubicBezTo>
                    <a:pt x="9864" y="18360"/>
                    <a:pt x="8922" y="18237"/>
                    <a:pt x="7998" y="17995"/>
                  </a:cubicBezTo>
                  <a:cubicBezTo>
                    <a:pt x="7923" y="17975"/>
                    <a:pt x="7846" y="17965"/>
                    <a:pt x="7770" y="17965"/>
                  </a:cubicBezTo>
                  <a:cubicBezTo>
                    <a:pt x="7646" y="17965"/>
                    <a:pt x="7522" y="17991"/>
                    <a:pt x="7406" y="18043"/>
                  </a:cubicBezTo>
                  <a:lnTo>
                    <a:pt x="3352" y="19826"/>
                  </a:lnTo>
                  <a:lnTo>
                    <a:pt x="4013" y="16735"/>
                  </a:lnTo>
                  <a:cubicBezTo>
                    <a:pt x="4098" y="16339"/>
                    <a:pt x="3972" y="15924"/>
                    <a:pt x="3689" y="15662"/>
                  </a:cubicBezTo>
                  <a:cubicBezTo>
                    <a:pt x="1944" y="14045"/>
                    <a:pt x="982" y="11934"/>
                    <a:pt x="982" y="9720"/>
                  </a:cubicBezTo>
                  <a:cubicBezTo>
                    <a:pt x="982" y="4956"/>
                    <a:pt x="5387" y="1080"/>
                    <a:pt x="10800" y="1080"/>
                  </a:cubicBezTo>
                  <a:cubicBezTo>
                    <a:pt x="16214" y="1080"/>
                    <a:pt x="20618" y="4956"/>
                    <a:pt x="20618" y="9720"/>
                  </a:cubicBezTo>
                  <a:cubicBezTo>
                    <a:pt x="20618" y="14484"/>
                    <a:pt x="16214" y="18360"/>
                    <a:pt x="10800" y="18360"/>
                  </a:cubicBezTo>
                  <a:moveTo>
                    <a:pt x="10800" y="0"/>
                  </a:moveTo>
                  <a:cubicBezTo>
                    <a:pt x="4835" y="0"/>
                    <a:pt x="0" y="4352"/>
                    <a:pt x="0" y="9720"/>
                  </a:cubicBezTo>
                  <a:cubicBezTo>
                    <a:pt x="0" y="12353"/>
                    <a:pt x="1168" y="14738"/>
                    <a:pt x="3057" y="16488"/>
                  </a:cubicBezTo>
                  <a:lnTo>
                    <a:pt x="1964" y="21600"/>
                  </a:lnTo>
                  <a:lnTo>
                    <a:pt x="7770" y="19046"/>
                  </a:lnTo>
                  <a:cubicBezTo>
                    <a:pt x="8732" y="19298"/>
                    <a:pt x="9747" y="19440"/>
                    <a:pt x="10800" y="19440"/>
                  </a:cubicBezTo>
                  <a:cubicBezTo>
                    <a:pt x="16765" y="19440"/>
                    <a:pt x="21600" y="15089"/>
                    <a:pt x="21600" y="9720"/>
                  </a:cubicBezTo>
                  <a:cubicBezTo>
                    <a:pt x="21600" y="4352"/>
                    <a:pt x="16765" y="0"/>
                    <a:pt x="10800" y="0"/>
                  </a:cubicBezTo>
                  <a:moveTo>
                    <a:pt x="10800" y="8100"/>
                  </a:moveTo>
                  <a:cubicBezTo>
                    <a:pt x="9987" y="8100"/>
                    <a:pt x="9327" y="8826"/>
                    <a:pt x="9327" y="9720"/>
                  </a:cubicBezTo>
                  <a:cubicBezTo>
                    <a:pt x="9327" y="10615"/>
                    <a:pt x="9987" y="11340"/>
                    <a:pt x="10800" y="11340"/>
                  </a:cubicBezTo>
                  <a:cubicBezTo>
                    <a:pt x="11613" y="11340"/>
                    <a:pt x="12273" y="10615"/>
                    <a:pt x="12273" y="9720"/>
                  </a:cubicBezTo>
                  <a:cubicBezTo>
                    <a:pt x="12273" y="8826"/>
                    <a:pt x="11613" y="8100"/>
                    <a:pt x="10800" y="8100"/>
                  </a:cubicBezTo>
                  <a:moveTo>
                    <a:pt x="5891" y="8100"/>
                  </a:moveTo>
                  <a:cubicBezTo>
                    <a:pt x="5078" y="8100"/>
                    <a:pt x="4418" y="8826"/>
                    <a:pt x="4418" y="9720"/>
                  </a:cubicBezTo>
                  <a:cubicBezTo>
                    <a:pt x="4418" y="10615"/>
                    <a:pt x="5078" y="11340"/>
                    <a:pt x="5891" y="11340"/>
                  </a:cubicBezTo>
                  <a:cubicBezTo>
                    <a:pt x="6704" y="11340"/>
                    <a:pt x="7364" y="10615"/>
                    <a:pt x="7364" y="9720"/>
                  </a:cubicBezTo>
                  <a:cubicBezTo>
                    <a:pt x="7364" y="8826"/>
                    <a:pt x="6704" y="8100"/>
                    <a:pt x="5891" y="81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675" dur="indefinite" restart="never" nodeType="tmRoot">
          <p:childTnLst>
            <p:seq>
              <p:cTn id="1676" dur="indefinite" nodeType="mainSeq">
                <p:childTnLst>
                  <p:par>
                    <p:cTn id="1677" fill="hold">
                      <p:stCondLst>
                        <p:cond delay="0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1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500"/>
                            </p:stCondLst>
                            <p:childTnLst>
                              <p:par>
                                <p:cTn id="168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1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4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0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3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9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2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9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3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6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2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  <a:ea typeface="Open Sans"/>
              </a:rPr>
              <a:t>M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15a25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Rectangle 5"/>
          <p:cNvSpPr/>
          <p:nvPr/>
        </p:nvSpPr>
        <p:spPr>
          <a:xfrm>
            <a:off x="6143760" y="2620800"/>
            <a:ext cx="6095880" cy="1492560"/>
          </a:xfrm>
          <a:prstGeom prst="rect">
            <a:avLst/>
          </a:prstGeom>
          <a:solidFill>
            <a:srgbClr val="00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itle 13"/>
          <p:cNvSpPr/>
          <p:nvPr/>
        </p:nvSpPr>
        <p:spPr>
          <a:xfrm>
            <a:off x="7896240" y="2895480"/>
            <a:ext cx="362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ource Sans Pro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Source Sans Pro"/>
              </a:rPr>
              <a:t>details</a:t>
            </a:r>
            <a:r>
              <a:rPr b="0" lang="en-US" sz="2400" spc="-1" strike="noStrike">
                <a:solidFill>
                  <a:srgbClr val="ffffff"/>
                </a:solidFill>
                <a:latin typeface="Source Sans Pro"/>
              </a:rPr>
              <a:t> are </a:t>
            </a:r>
            <a:r>
              <a:rPr b="0" i="1" lang="en-US" sz="2400" spc="-1" strike="noStrike">
                <a:solidFill>
                  <a:srgbClr val="ffffff"/>
                </a:solidFill>
                <a:latin typeface="Source Sans Pro"/>
              </a:rPr>
              <a:t>not the </a:t>
            </a:r>
            <a:r>
              <a:rPr b="0" lang="en-US" sz="2400" spc="-1" strike="noStrike">
                <a:solidFill>
                  <a:srgbClr val="ffffff"/>
                </a:solidFill>
                <a:latin typeface="Source Sans Pro"/>
              </a:rPr>
              <a:t>details. They make </a:t>
            </a:r>
            <a:r>
              <a:rPr b="1" lang="en-US" sz="2400" spc="-1" strike="noStrike">
                <a:solidFill>
                  <a:srgbClr val="ffffff"/>
                </a:solidFill>
                <a:latin typeface="Source Sans Pro"/>
              </a:rPr>
              <a:t>the design</a:t>
            </a:r>
            <a:r>
              <a:rPr b="0" lang="en-US" sz="2400" spc="-1" strike="noStrike">
                <a:solidFill>
                  <a:srgbClr val="ffffff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Rectangle 7"/>
          <p:cNvSpPr/>
          <p:nvPr/>
        </p:nvSpPr>
        <p:spPr>
          <a:xfrm>
            <a:off x="12074400" y="2620800"/>
            <a:ext cx="117720" cy="1489320"/>
          </a:xfrm>
          <a:prstGeom prst="rect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Content Placeholder 2"/>
          <p:cNvSpPr/>
          <p:nvPr/>
        </p:nvSpPr>
        <p:spPr>
          <a:xfrm>
            <a:off x="560520" y="5303880"/>
            <a:ext cx="110505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/>
          </a:bodyPr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17" name="Rectangle 2"/>
          <p:cNvSpPr/>
          <p:nvPr/>
        </p:nvSpPr>
        <p:spPr>
          <a:xfrm>
            <a:off x="0" y="4068720"/>
            <a:ext cx="12192120" cy="1492200"/>
          </a:xfrm>
          <a:prstGeom prst="rect">
            <a:avLst/>
          </a:prstGeom>
          <a:solidFill>
            <a:srgbClr val="00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Rectangle 3"/>
          <p:cNvSpPr/>
          <p:nvPr/>
        </p:nvSpPr>
        <p:spPr>
          <a:xfrm>
            <a:off x="0" y="4071960"/>
            <a:ext cx="117360" cy="1488960"/>
          </a:xfrm>
          <a:prstGeom prst="rect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TextBox 4"/>
          <p:cNvSpPr/>
          <p:nvPr/>
        </p:nvSpPr>
        <p:spPr>
          <a:xfrm>
            <a:off x="571680" y="4335480"/>
            <a:ext cx="573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ource Sans Pro"/>
              </a:rPr>
              <a:t>Thanks For Watch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TextBox 5"/>
          <p:cNvSpPr/>
          <p:nvPr/>
        </p:nvSpPr>
        <p:spPr>
          <a:xfrm>
            <a:off x="571680" y="5043600"/>
            <a:ext cx="42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</a:rPr>
              <a:t>Have a nice day </a:t>
            </a:r>
            <a:r>
              <a:rPr b="0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727" dur="indefinite" restart="never" nodeType="tmRoot">
          <p:childTnLst>
            <p:seq>
              <p:cTn id="1728" dur="indefinite" nodeType="mainSeq">
                <p:childTnLst>
                  <p:par>
                    <p:cTn id="1729" fill="hold">
                      <p:stCondLst>
                        <p:cond delay="0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3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6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500"/>
                            </p:stCondLst>
                            <p:childTnLst>
                              <p:par>
                                <p:cTn id="17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0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3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5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  <a:ea typeface="Open Sans"/>
              </a:rPr>
              <a:t>Meet Our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15a25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Freeform 8"/>
          <p:cNvSpPr/>
          <p:nvPr/>
        </p:nvSpPr>
        <p:spPr>
          <a:xfrm>
            <a:off x="1461960" y="1897200"/>
            <a:ext cx="2013120" cy="2011320"/>
          </a:xfrm>
          <a:custGeom>
            <a:avLst/>
            <a:gdLst/>
            <a:ahLst/>
            <a:rect l="l" t="t" r="r" b="b"/>
            <a:pathLst>
              <a:path w="657" h="657">
                <a:moveTo>
                  <a:pt x="329" y="657"/>
                </a:moveTo>
                <a:cubicBezTo>
                  <a:pt x="329" y="657"/>
                  <a:pt x="329" y="657"/>
                  <a:pt x="329" y="657"/>
                </a:cubicBezTo>
                <a:cubicBezTo>
                  <a:pt x="314" y="657"/>
                  <a:pt x="300" y="656"/>
                  <a:pt x="286" y="654"/>
                </a:cubicBezTo>
                <a:cubicBezTo>
                  <a:pt x="283" y="654"/>
                  <a:pt x="281" y="651"/>
                  <a:pt x="281" y="648"/>
                </a:cubicBezTo>
                <a:cubicBezTo>
                  <a:pt x="282" y="646"/>
                  <a:pt x="284" y="643"/>
                  <a:pt x="287" y="644"/>
                </a:cubicBezTo>
                <a:cubicBezTo>
                  <a:pt x="301" y="646"/>
                  <a:pt x="315" y="646"/>
                  <a:pt x="329" y="646"/>
                </a:cubicBezTo>
                <a:cubicBezTo>
                  <a:pt x="332" y="646"/>
                  <a:pt x="334" y="649"/>
                  <a:pt x="334" y="652"/>
                </a:cubicBezTo>
                <a:cubicBezTo>
                  <a:pt x="334" y="655"/>
                  <a:pt x="332" y="657"/>
                  <a:pt x="329" y="657"/>
                </a:cubicBezTo>
                <a:close/>
                <a:moveTo>
                  <a:pt x="371" y="654"/>
                </a:moveTo>
                <a:cubicBezTo>
                  <a:pt x="368" y="654"/>
                  <a:pt x="366" y="652"/>
                  <a:pt x="366" y="650"/>
                </a:cubicBezTo>
                <a:cubicBezTo>
                  <a:pt x="365" y="647"/>
                  <a:pt x="367" y="644"/>
                  <a:pt x="370" y="644"/>
                </a:cubicBezTo>
                <a:cubicBezTo>
                  <a:pt x="384" y="642"/>
                  <a:pt x="398" y="639"/>
                  <a:pt x="411" y="636"/>
                </a:cubicBezTo>
                <a:cubicBezTo>
                  <a:pt x="414" y="635"/>
                  <a:pt x="417" y="637"/>
                  <a:pt x="418" y="639"/>
                </a:cubicBezTo>
                <a:cubicBezTo>
                  <a:pt x="418" y="642"/>
                  <a:pt x="417" y="645"/>
                  <a:pt x="414" y="646"/>
                </a:cubicBezTo>
                <a:cubicBezTo>
                  <a:pt x="400" y="650"/>
                  <a:pt x="386" y="652"/>
                  <a:pt x="372" y="654"/>
                </a:cubicBezTo>
                <a:lnTo>
                  <a:pt x="371" y="654"/>
                </a:lnTo>
                <a:close/>
                <a:moveTo>
                  <a:pt x="245" y="646"/>
                </a:moveTo>
                <a:cubicBezTo>
                  <a:pt x="245" y="646"/>
                  <a:pt x="244" y="646"/>
                  <a:pt x="244" y="646"/>
                </a:cubicBezTo>
                <a:cubicBezTo>
                  <a:pt x="230" y="642"/>
                  <a:pt x="216" y="638"/>
                  <a:pt x="203" y="632"/>
                </a:cubicBezTo>
                <a:cubicBezTo>
                  <a:pt x="200" y="631"/>
                  <a:pt x="199" y="628"/>
                  <a:pt x="200" y="625"/>
                </a:cubicBezTo>
                <a:cubicBezTo>
                  <a:pt x="201" y="623"/>
                  <a:pt x="204" y="621"/>
                  <a:pt x="207" y="622"/>
                </a:cubicBezTo>
                <a:cubicBezTo>
                  <a:pt x="220" y="628"/>
                  <a:pt x="233" y="632"/>
                  <a:pt x="247" y="636"/>
                </a:cubicBezTo>
                <a:cubicBezTo>
                  <a:pt x="249" y="637"/>
                  <a:pt x="251" y="639"/>
                  <a:pt x="250" y="642"/>
                </a:cubicBezTo>
                <a:cubicBezTo>
                  <a:pt x="250" y="645"/>
                  <a:pt x="248" y="646"/>
                  <a:pt x="245" y="646"/>
                </a:cubicBezTo>
                <a:close/>
                <a:moveTo>
                  <a:pt x="453" y="633"/>
                </a:moveTo>
                <a:cubicBezTo>
                  <a:pt x="450" y="633"/>
                  <a:pt x="449" y="631"/>
                  <a:pt x="448" y="629"/>
                </a:cubicBezTo>
                <a:cubicBezTo>
                  <a:pt x="447" y="627"/>
                  <a:pt x="448" y="623"/>
                  <a:pt x="451" y="622"/>
                </a:cubicBezTo>
                <a:cubicBezTo>
                  <a:pt x="463" y="617"/>
                  <a:pt x="476" y="611"/>
                  <a:pt x="488" y="604"/>
                </a:cubicBezTo>
                <a:cubicBezTo>
                  <a:pt x="490" y="602"/>
                  <a:pt x="494" y="603"/>
                  <a:pt x="495" y="606"/>
                </a:cubicBezTo>
                <a:cubicBezTo>
                  <a:pt x="496" y="608"/>
                  <a:pt x="496" y="612"/>
                  <a:pt x="493" y="613"/>
                </a:cubicBezTo>
                <a:cubicBezTo>
                  <a:pt x="481" y="620"/>
                  <a:pt x="468" y="627"/>
                  <a:pt x="455" y="632"/>
                </a:cubicBezTo>
                <a:cubicBezTo>
                  <a:pt x="454" y="632"/>
                  <a:pt x="453" y="633"/>
                  <a:pt x="453" y="633"/>
                </a:cubicBezTo>
                <a:close/>
                <a:moveTo>
                  <a:pt x="167" y="614"/>
                </a:moveTo>
                <a:cubicBezTo>
                  <a:pt x="166" y="614"/>
                  <a:pt x="165" y="614"/>
                  <a:pt x="165" y="613"/>
                </a:cubicBezTo>
                <a:cubicBezTo>
                  <a:pt x="152" y="606"/>
                  <a:pt x="140" y="598"/>
                  <a:pt x="129" y="589"/>
                </a:cubicBezTo>
                <a:cubicBezTo>
                  <a:pt x="127" y="588"/>
                  <a:pt x="126" y="584"/>
                  <a:pt x="128" y="582"/>
                </a:cubicBezTo>
                <a:cubicBezTo>
                  <a:pt x="130" y="580"/>
                  <a:pt x="133" y="579"/>
                  <a:pt x="135" y="581"/>
                </a:cubicBezTo>
                <a:cubicBezTo>
                  <a:pt x="146" y="589"/>
                  <a:pt x="158" y="597"/>
                  <a:pt x="170" y="604"/>
                </a:cubicBezTo>
                <a:cubicBezTo>
                  <a:pt x="172" y="606"/>
                  <a:pt x="173" y="609"/>
                  <a:pt x="172" y="611"/>
                </a:cubicBezTo>
                <a:cubicBezTo>
                  <a:pt x="171" y="613"/>
                  <a:pt x="169" y="614"/>
                  <a:pt x="167" y="614"/>
                </a:cubicBezTo>
                <a:close/>
                <a:moveTo>
                  <a:pt x="526" y="590"/>
                </a:moveTo>
                <a:cubicBezTo>
                  <a:pt x="524" y="590"/>
                  <a:pt x="522" y="590"/>
                  <a:pt x="521" y="588"/>
                </a:cubicBezTo>
                <a:cubicBezTo>
                  <a:pt x="520" y="586"/>
                  <a:pt x="520" y="583"/>
                  <a:pt x="522" y="581"/>
                </a:cubicBezTo>
                <a:cubicBezTo>
                  <a:pt x="533" y="572"/>
                  <a:pt x="544" y="563"/>
                  <a:pt x="554" y="553"/>
                </a:cubicBezTo>
                <a:cubicBezTo>
                  <a:pt x="556" y="551"/>
                  <a:pt x="559" y="551"/>
                  <a:pt x="561" y="553"/>
                </a:cubicBezTo>
                <a:cubicBezTo>
                  <a:pt x="563" y="555"/>
                  <a:pt x="563" y="559"/>
                  <a:pt x="561" y="561"/>
                </a:cubicBezTo>
                <a:cubicBezTo>
                  <a:pt x="551" y="571"/>
                  <a:pt x="540" y="580"/>
                  <a:pt x="529" y="589"/>
                </a:cubicBezTo>
                <a:cubicBezTo>
                  <a:pt x="528" y="590"/>
                  <a:pt x="527" y="590"/>
                  <a:pt x="526" y="590"/>
                </a:cubicBezTo>
                <a:close/>
                <a:moveTo>
                  <a:pt x="100" y="563"/>
                </a:moveTo>
                <a:cubicBezTo>
                  <a:pt x="99" y="563"/>
                  <a:pt x="98" y="562"/>
                  <a:pt x="97" y="561"/>
                </a:cubicBezTo>
                <a:cubicBezTo>
                  <a:pt x="86" y="551"/>
                  <a:pt x="77" y="540"/>
                  <a:pt x="68" y="529"/>
                </a:cubicBezTo>
                <a:cubicBezTo>
                  <a:pt x="66" y="526"/>
                  <a:pt x="67" y="523"/>
                  <a:pt x="69" y="521"/>
                </a:cubicBezTo>
                <a:cubicBezTo>
                  <a:pt x="71" y="520"/>
                  <a:pt x="75" y="520"/>
                  <a:pt x="77" y="522"/>
                </a:cubicBezTo>
                <a:cubicBezTo>
                  <a:pt x="85" y="533"/>
                  <a:pt x="94" y="544"/>
                  <a:pt x="104" y="554"/>
                </a:cubicBezTo>
                <a:cubicBezTo>
                  <a:pt x="106" y="556"/>
                  <a:pt x="106" y="559"/>
                  <a:pt x="104" y="561"/>
                </a:cubicBezTo>
                <a:cubicBezTo>
                  <a:pt x="103" y="562"/>
                  <a:pt x="102" y="563"/>
                  <a:pt x="100" y="563"/>
                </a:cubicBezTo>
                <a:close/>
                <a:moveTo>
                  <a:pt x="585" y="531"/>
                </a:moveTo>
                <a:cubicBezTo>
                  <a:pt x="584" y="531"/>
                  <a:pt x="583" y="530"/>
                  <a:pt x="582" y="529"/>
                </a:cubicBezTo>
                <a:cubicBezTo>
                  <a:pt x="580" y="528"/>
                  <a:pt x="579" y="524"/>
                  <a:pt x="581" y="522"/>
                </a:cubicBezTo>
                <a:cubicBezTo>
                  <a:pt x="589" y="511"/>
                  <a:pt x="597" y="499"/>
                  <a:pt x="604" y="488"/>
                </a:cubicBezTo>
                <a:cubicBezTo>
                  <a:pt x="606" y="485"/>
                  <a:pt x="609" y="484"/>
                  <a:pt x="611" y="486"/>
                </a:cubicBezTo>
                <a:cubicBezTo>
                  <a:pt x="614" y="487"/>
                  <a:pt x="615" y="490"/>
                  <a:pt x="613" y="493"/>
                </a:cubicBezTo>
                <a:cubicBezTo>
                  <a:pt x="606" y="505"/>
                  <a:pt x="598" y="517"/>
                  <a:pt x="589" y="529"/>
                </a:cubicBezTo>
                <a:cubicBezTo>
                  <a:pt x="588" y="530"/>
                  <a:pt x="587" y="531"/>
                  <a:pt x="585" y="531"/>
                </a:cubicBezTo>
                <a:close/>
                <a:moveTo>
                  <a:pt x="49" y="496"/>
                </a:moveTo>
                <a:cubicBezTo>
                  <a:pt x="47" y="496"/>
                  <a:pt x="45" y="495"/>
                  <a:pt x="44" y="493"/>
                </a:cubicBezTo>
                <a:cubicBezTo>
                  <a:pt x="37" y="481"/>
                  <a:pt x="31" y="468"/>
                  <a:pt x="25" y="455"/>
                </a:cubicBezTo>
                <a:cubicBezTo>
                  <a:pt x="24" y="452"/>
                  <a:pt x="25" y="449"/>
                  <a:pt x="28" y="448"/>
                </a:cubicBezTo>
                <a:cubicBezTo>
                  <a:pt x="31" y="447"/>
                  <a:pt x="34" y="448"/>
                  <a:pt x="35" y="451"/>
                </a:cubicBezTo>
                <a:cubicBezTo>
                  <a:pt x="40" y="463"/>
                  <a:pt x="46" y="476"/>
                  <a:pt x="53" y="488"/>
                </a:cubicBezTo>
                <a:cubicBezTo>
                  <a:pt x="55" y="490"/>
                  <a:pt x="54" y="494"/>
                  <a:pt x="51" y="495"/>
                </a:cubicBezTo>
                <a:cubicBezTo>
                  <a:pt x="51" y="495"/>
                  <a:pt x="50" y="496"/>
                  <a:pt x="49" y="496"/>
                </a:cubicBezTo>
                <a:close/>
                <a:moveTo>
                  <a:pt x="627" y="458"/>
                </a:moveTo>
                <a:cubicBezTo>
                  <a:pt x="627" y="458"/>
                  <a:pt x="626" y="457"/>
                  <a:pt x="625" y="457"/>
                </a:cubicBezTo>
                <a:cubicBezTo>
                  <a:pt x="623" y="456"/>
                  <a:pt x="621" y="453"/>
                  <a:pt x="623" y="450"/>
                </a:cubicBezTo>
                <a:cubicBezTo>
                  <a:pt x="628" y="437"/>
                  <a:pt x="632" y="424"/>
                  <a:pt x="636" y="411"/>
                </a:cubicBezTo>
                <a:cubicBezTo>
                  <a:pt x="637" y="408"/>
                  <a:pt x="640" y="406"/>
                  <a:pt x="642" y="407"/>
                </a:cubicBezTo>
                <a:cubicBezTo>
                  <a:pt x="645" y="408"/>
                  <a:pt x="647" y="411"/>
                  <a:pt x="646" y="414"/>
                </a:cubicBezTo>
                <a:cubicBezTo>
                  <a:pt x="642" y="427"/>
                  <a:pt x="638" y="441"/>
                  <a:pt x="632" y="454"/>
                </a:cubicBezTo>
                <a:cubicBezTo>
                  <a:pt x="631" y="456"/>
                  <a:pt x="630" y="458"/>
                  <a:pt x="627" y="458"/>
                </a:cubicBezTo>
                <a:close/>
                <a:moveTo>
                  <a:pt x="16" y="418"/>
                </a:moveTo>
                <a:cubicBezTo>
                  <a:pt x="14" y="418"/>
                  <a:pt x="12" y="416"/>
                  <a:pt x="11" y="414"/>
                </a:cubicBezTo>
                <a:cubicBezTo>
                  <a:pt x="8" y="400"/>
                  <a:pt x="5" y="386"/>
                  <a:pt x="3" y="372"/>
                </a:cubicBezTo>
                <a:cubicBezTo>
                  <a:pt x="3" y="369"/>
                  <a:pt x="5" y="366"/>
                  <a:pt x="8" y="366"/>
                </a:cubicBezTo>
                <a:cubicBezTo>
                  <a:pt x="10" y="365"/>
                  <a:pt x="13" y="367"/>
                  <a:pt x="13" y="370"/>
                </a:cubicBezTo>
                <a:cubicBezTo>
                  <a:pt x="15" y="384"/>
                  <a:pt x="18" y="398"/>
                  <a:pt x="22" y="411"/>
                </a:cubicBezTo>
                <a:cubicBezTo>
                  <a:pt x="22" y="414"/>
                  <a:pt x="21" y="417"/>
                  <a:pt x="18" y="418"/>
                </a:cubicBezTo>
                <a:cubicBezTo>
                  <a:pt x="17" y="418"/>
                  <a:pt x="17" y="418"/>
                  <a:pt x="16" y="418"/>
                </a:cubicBezTo>
                <a:close/>
                <a:moveTo>
                  <a:pt x="649" y="376"/>
                </a:moveTo>
                <a:cubicBezTo>
                  <a:pt x="649" y="376"/>
                  <a:pt x="649" y="376"/>
                  <a:pt x="649" y="376"/>
                </a:cubicBezTo>
                <a:cubicBezTo>
                  <a:pt x="646" y="376"/>
                  <a:pt x="644" y="373"/>
                  <a:pt x="644" y="370"/>
                </a:cubicBezTo>
                <a:cubicBezTo>
                  <a:pt x="646" y="356"/>
                  <a:pt x="647" y="342"/>
                  <a:pt x="647" y="329"/>
                </a:cubicBezTo>
                <a:cubicBezTo>
                  <a:pt x="647" y="328"/>
                  <a:pt x="647" y="328"/>
                  <a:pt x="647" y="328"/>
                </a:cubicBezTo>
                <a:cubicBezTo>
                  <a:pt x="647" y="325"/>
                  <a:pt x="649" y="322"/>
                  <a:pt x="652" y="322"/>
                </a:cubicBezTo>
                <a:cubicBezTo>
                  <a:pt x="655" y="322"/>
                  <a:pt x="657" y="325"/>
                  <a:pt x="657" y="328"/>
                </a:cubicBezTo>
                <a:cubicBezTo>
                  <a:pt x="657" y="329"/>
                  <a:pt x="657" y="329"/>
                  <a:pt x="657" y="329"/>
                </a:cubicBezTo>
                <a:cubicBezTo>
                  <a:pt x="657" y="343"/>
                  <a:pt x="656" y="357"/>
                  <a:pt x="654" y="371"/>
                </a:cubicBezTo>
                <a:cubicBezTo>
                  <a:pt x="654" y="374"/>
                  <a:pt x="652" y="376"/>
                  <a:pt x="649" y="376"/>
                </a:cubicBezTo>
                <a:close/>
                <a:moveTo>
                  <a:pt x="5" y="334"/>
                </a:moveTo>
                <a:cubicBezTo>
                  <a:pt x="2" y="334"/>
                  <a:pt x="0" y="332"/>
                  <a:pt x="0" y="329"/>
                </a:cubicBezTo>
                <a:cubicBezTo>
                  <a:pt x="0" y="329"/>
                  <a:pt x="0" y="329"/>
                  <a:pt x="0" y="329"/>
                </a:cubicBezTo>
                <a:cubicBezTo>
                  <a:pt x="0" y="314"/>
                  <a:pt x="1" y="300"/>
                  <a:pt x="3" y="286"/>
                </a:cubicBezTo>
                <a:cubicBezTo>
                  <a:pt x="3" y="283"/>
                  <a:pt x="6" y="281"/>
                  <a:pt x="9" y="281"/>
                </a:cubicBezTo>
                <a:cubicBezTo>
                  <a:pt x="12" y="282"/>
                  <a:pt x="14" y="284"/>
                  <a:pt x="13" y="287"/>
                </a:cubicBezTo>
                <a:cubicBezTo>
                  <a:pt x="12" y="301"/>
                  <a:pt x="11" y="315"/>
                  <a:pt x="11" y="329"/>
                </a:cubicBezTo>
                <a:cubicBezTo>
                  <a:pt x="11" y="329"/>
                  <a:pt x="11" y="329"/>
                  <a:pt x="11" y="329"/>
                </a:cubicBezTo>
                <a:cubicBezTo>
                  <a:pt x="11" y="332"/>
                  <a:pt x="8" y="334"/>
                  <a:pt x="5" y="334"/>
                </a:cubicBezTo>
                <a:close/>
                <a:moveTo>
                  <a:pt x="649" y="291"/>
                </a:moveTo>
                <a:cubicBezTo>
                  <a:pt x="647" y="291"/>
                  <a:pt x="644" y="289"/>
                  <a:pt x="644" y="286"/>
                </a:cubicBezTo>
                <a:cubicBezTo>
                  <a:pt x="642" y="273"/>
                  <a:pt x="639" y="259"/>
                  <a:pt x="636" y="246"/>
                </a:cubicBezTo>
                <a:cubicBezTo>
                  <a:pt x="635" y="243"/>
                  <a:pt x="637" y="240"/>
                  <a:pt x="639" y="239"/>
                </a:cubicBezTo>
                <a:cubicBezTo>
                  <a:pt x="642" y="238"/>
                  <a:pt x="645" y="240"/>
                  <a:pt x="646" y="243"/>
                </a:cubicBezTo>
                <a:cubicBezTo>
                  <a:pt x="650" y="257"/>
                  <a:pt x="652" y="271"/>
                  <a:pt x="654" y="285"/>
                </a:cubicBezTo>
                <a:cubicBezTo>
                  <a:pt x="655" y="288"/>
                  <a:pt x="653" y="290"/>
                  <a:pt x="650" y="291"/>
                </a:cubicBezTo>
                <a:lnTo>
                  <a:pt x="649" y="291"/>
                </a:lnTo>
                <a:close/>
                <a:moveTo>
                  <a:pt x="16" y="251"/>
                </a:moveTo>
                <a:cubicBezTo>
                  <a:pt x="16" y="251"/>
                  <a:pt x="15" y="250"/>
                  <a:pt x="15" y="250"/>
                </a:cubicBezTo>
                <a:cubicBezTo>
                  <a:pt x="12" y="250"/>
                  <a:pt x="10" y="247"/>
                  <a:pt x="11" y="244"/>
                </a:cubicBezTo>
                <a:cubicBezTo>
                  <a:pt x="15" y="230"/>
                  <a:pt x="19" y="216"/>
                  <a:pt x="25" y="203"/>
                </a:cubicBezTo>
                <a:cubicBezTo>
                  <a:pt x="26" y="200"/>
                  <a:pt x="29" y="199"/>
                  <a:pt x="32" y="200"/>
                </a:cubicBezTo>
                <a:cubicBezTo>
                  <a:pt x="35" y="201"/>
                  <a:pt x="36" y="204"/>
                  <a:pt x="35" y="207"/>
                </a:cubicBezTo>
                <a:cubicBezTo>
                  <a:pt x="29" y="220"/>
                  <a:pt x="25" y="233"/>
                  <a:pt x="21" y="247"/>
                </a:cubicBezTo>
                <a:cubicBezTo>
                  <a:pt x="21" y="249"/>
                  <a:pt x="19" y="251"/>
                  <a:pt x="16" y="251"/>
                </a:cubicBezTo>
                <a:close/>
                <a:moveTo>
                  <a:pt x="627" y="209"/>
                </a:moveTo>
                <a:cubicBezTo>
                  <a:pt x="625" y="209"/>
                  <a:pt x="623" y="208"/>
                  <a:pt x="622" y="206"/>
                </a:cubicBezTo>
                <a:cubicBezTo>
                  <a:pt x="617" y="193"/>
                  <a:pt x="611" y="181"/>
                  <a:pt x="604" y="169"/>
                </a:cubicBezTo>
                <a:cubicBezTo>
                  <a:pt x="602" y="166"/>
                  <a:pt x="603" y="163"/>
                  <a:pt x="606" y="162"/>
                </a:cubicBezTo>
                <a:cubicBezTo>
                  <a:pt x="608" y="160"/>
                  <a:pt x="611" y="161"/>
                  <a:pt x="613" y="164"/>
                </a:cubicBezTo>
                <a:cubicBezTo>
                  <a:pt x="620" y="176"/>
                  <a:pt x="627" y="189"/>
                  <a:pt x="632" y="202"/>
                </a:cubicBezTo>
                <a:cubicBezTo>
                  <a:pt x="633" y="205"/>
                  <a:pt x="632" y="208"/>
                  <a:pt x="629" y="209"/>
                </a:cubicBezTo>
                <a:cubicBezTo>
                  <a:pt x="629" y="209"/>
                  <a:pt x="628" y="209"/>
                  <a:pt x="627" y="209"/>
                </a:cubicBezTo>
                <a:close/>
                <a:moveTo>
                  <a:pt x="48" y="173"/>
                </a:moveTo>
                <a:cubicBezTo>
                  <a:pt x="48" y="173"/>
                  <a:pt x="47" y="172"/>
                  <a:pt x="46" y="172"/>
                </a:cubicBezTo>
                <a:cubicBezTo>
                  <a:pt x="43" y="170"/>
                  <a:pt x="42" y="167"/>
                  <a:pt x="44" y="165"/>
                </a:cubicBezTo>
                <a:cubicBezTo>
                  <a:pt x="51" y="152"/>
                  <a:pt x="59" y="140"/>
                  <a:pt x="68" y="129"/>
                </a:cubicBezTo>
                <a:cubicBezTo>
                  <a:pt x="70" y="126"/>
                  <a:pt x="73" y="126"/>
                  <a:pt x="75" y="128"/>
                </a:cubicBezTo>
                <a:cubicBezTo>
                  <a:pt x="78" y="130"/>
                  <a:pt x="78" y="133"/>
                  <a:pt x="76" y="135"/>
                </a:cubicBezTo>
                <a:cubicBezTo>
                  <a:pt x="68" y="146"/>
                  <a:pt x="60" y="158"/>
                  <a:pt x="53" y="170"/>
                </a:cubicBezTo>
                <a:cubicBezTo>
                  <a:pt x="52" y="172"/>
                  <a:pt x="50" y="173"/>
                  <a:pt x="48" y="173"/>
                </a:cubicBezTo>
                <a:close/>
                <a:moveTo>
                  <a:pt x="585" y="137"/>
                </a:moveTo>
                <a:cubicBezTo>
                  <a:pt x="583" y="137"/>
                  <a:pt x="582" y="136"/>
                  <a:pt x="581" y="134"/>
                </a:cubicBezTo>
                <a:cubicBezTo>
                  <a:pt x="572" y="124"/>
                  <a:pt x="563" y="113"/>
                  <a:pt x="553" y="103"/>
                </a:cubicBezTo>
                <a:cubicBezTo>
                  <a:pt x="551" y="101"/>
                  <a:pt x="551" y="98"/>
                  <a:pt x="553" y="96"/>
                </a:cubicBezTo>
                <a:cubicBezTo>
                  <a:pt x="555" y="94"/>
                  <a:pt x="559" y="94"/>
                  <a:pt x="561" y="96"/>
                </a:cubicBezTo>
                <a:cubicBezTo>
                  <a:pt x="571" y="106"/>
                  <a:pt x="580" y="117"/>
                  <a:pt x="589" y="128"/>
                </a:cubicBezTo>
                <a:cubicBezTo>
                  <a:pt x="591" y="130"/>
                  <a:pt x="590" y="134"/>
                  <a:pt x="588" y="135"/>
                </a:cubicBezTo>
                <a:cubicBezTo>
                  <a:pt x="587" y="136"/>
                  <a:pt x="586" y="137"/>
                  <a:pt x="585" y="137"/>
                </a:cubicBezTo>
                <a:close/>
                <a:moveTo>
                  <a:pt x="100" y="106"/>
                </a:moveTo>
                <a:cubicBezTo>
                  <a:pt x="98" y="106"/>
                  <a:pt x="97" y="105"/>
                  <a:pt x="96" y="104"/>
                </a:cubicBezTo>
                <a:cubicBezTo>
                  <a:pt x="94" y="102"/>
                  <a:pt x="94" y="99"/>
                  <a:pt x="96" y="96"/>
                </a:cubicBezTo>
                <a:cubicBezTo>
                  <a:pt x="106" y="86"/>
                  <a:pt x="117" y="77"/>
                  <a:pt x="128" y="68"/>
                </a:cubicBezTo>
                <a:cubicBezTo>
                  <a:pt x="131" y="66"/>
                  <a:pt x="134" y="67"/>
                  <a:pt x="136" y="69"/>
                </a:cubicBezTo>
                <a:cubicBezTo>
                  <a:pt x="138" y="71"/>
                  <a:pt x="137" y="75"/>
                  <a:pt x="135" y="76"/>
                </a:cubicBezTo>
                <a:cubicBezTo>
                  <a:pt x="124" y="85"/>
                  <a:pt x="113" y="94"/>
                  <a:pt x="104" y="104"/>
                </a:cubicBezTo>
                <a:cubicBezTo>
                  <a:pt x="103" y="105"/>
                  <a:pt x="101" y="106"/>
                  <a:pt x="100" y="106"/>
                </a:cubicBezTo>
                <a:close/>
                <a:moveTo>
                  <a:pt x="525" y="77"/>
                </a:moveTo>
                <a:cubicBezTo>
                  <a:pt x="524" y="77"/>
                  <a:pt x="523" y="77"/>
                  <a:pt x="522" y="76"/>
                </a:cubicBezTo>
                <a:cubicBezTo>
                  <a:pt x="511" y="67"/>
                  <a:pt x="499" y="60"/>
                  <a:pt x="487" y="53"/>
                </a:cubicBezTo>
                <a:cubicBezTo>
                  <a:pt x="485" y="51"/>
                  <a:pt x="484" y="48"/>
                  <a:pt x="485" y="46"/>
                </a:cubicBezTo>
                <a:cubicBezTo>
                  <a:pt x="487" y="43"/>
                  <a:pt x="490" y="42"/>
                  <a:pt x="492" y="44"/>
                </a:cubicBezTo>
                <a:cubicBezTo>
                  <a:pt x="505" y="51"/>
                  <a:pt x="517" y="59"/>
                  <a:pt x="528" y="67"/>
                </a:cubicBezTo>
                <a:cubicBezTo>
                  <a:pt x="531" y="69"/>
                  <a:pt x="531" y="73"/>
                  <a:pt x="529" y="75"/>
                </a:cubicBezTo>
                <a:cubicBezTo>
                  <a:pt x="528" y="76"/>
                  <a:pt x="527" y="77"/>
                  <a:pt x="525" y="77"/>
                </a:cubicBezTo>
                <a:close/>
                <a:moveTo>
                  <a:pt x="167" y="54"/>
                </a:moveTo>
                <a:cubicBezTo>
                  <a:pt x="165" y="54"/>
                  <a:pt x="163" y="53"/>
                  <a:pt x="162" y="51"/>
                </a:cubicBezTo>
                <a:cubicBezTo>
                  <a:pt x="161" y="49"/>
                  <a:pt x="161" y="46"/>
                  <a:pt x="164" y="44"/>
                </a:cubicBezTo>
                <a:cubicBezTo>
                  <a:pt x="176" y="37"/>
                  <a:pt x="189" y="31"/>
                  <a:pt x="202" y="25"/>
                </a:cubicBezTo>
                <a:cubicBezTo>
                  <a:pt x="205" y="24"/>
                  <a:pt x="208" y="25"/>
                  <a:pt x="209" y="28"/>
                </a:cubicBezTo>
                <a:cubicBezTo>
                  <a:pt x="211" y="31"/>
                  <a:pt x="209" y="34"/>
                  <a:pt x="207" y="35"/>
                </a:cubicBezTo>
                <a:cubicBezTo>
                  <a:pt x="194" y="40"/>
                  <a:pt x="181" y="46"/>
                  <a:pt x="169" y="53"/>
                </a:cubicBezTo>
                <a:cubicBezTo>
                  <a:pt x="168" y="54"/>
                  <a:pt x="168" y="54"/>
                  <a:pt x="167" y="54"/>
                </a:cubicBezTo>
                <a:close/>
                <a:moveTo>
                  <a:pt x="452" y="35"/>
                </a:moveTo>
                <a:cubicBezTo>
                  <a:pt x="451" y="35"/>
                  <a:pt x="451" y="35"/>
                  <a:pt x="450" y="34"/>
                </a:cubicBezTo>
                <a:cubicBezTo>
                  <a:pt x="437" y="29"/>
                  <a:pt x="424" y="25"/>
                  <a:pt x="410" y="21"/>
                </a:cubicBezTo>
                <a:cubicBezTo>
                  <a:pt x="408" y="20"/>
                  <a:pt x="406" y="18"/>
                  <a:pt x="407" y="15"/>
                </a:cubicBezTo>
                <a:cubicBezTo>
                  <a:pt x="407" y="12"/>
                  <a:pt x="410" y="10"/>
                  <a:pt x="413" y="11"/>
                </a:cubicBezTo>
                <a:cubicBezTo>
                  <a:pt x="427" y="15"/>
                  <a:pt x="441" y="19"/>
                  <a:pt x="454" y="25"/>
                </a:cubicBezTo>
                <a:cubicBezTo>
                  <a:pt x="457" y="26"/>
                  <a:pt x="458" y="29"/>
                  <a:pt x="457" y="32"/>
                </a:cubicBezTo>
                <a:cubicBezTo>
                  <a:pt x="456" y="34"/>
                  <a:pt x="454" y="35"/>
                  <a:pt x="452" y="35"/>
                </a:cubicBezTo>
                <a:close/>
                <a:moveTo>
                  <a:pt x="244" y="22"/>
                </a:moveTo>
                <a:cubicBezTo>
                  <a:pt x="242" y="22"/>
                  <a:pt x="240" y="20"/>
                  <a:pt x="239" y="18"/>
                </a:cubicBezTo>
                <a:cubicBezTo>
                  <a:pt x="239" y="15"/>
                  <a:pt x="240" y="12"/>
                  <a:pt x="243" y="11"/>
                </a:cubicBezTo>
                <a:cubicBezTo>
                  <a:pt x="257" y="8"/>
                  <a:pt x="271" y="5"/>
                  <a:pt x="285" y="3"/>
                </a:cubicBezTo>
                <a:cubicBezTo>
                  <a:pt x="288" y="2"/>
                  <a:pt x="291" y="4"/>
                  <a:pt x="291" y="7"/>
                </a:cubicBezTo>
                <a:cubicBezTo>
                  <a:pt x="292" y="10"/>
                  <a:pt x="290" y="13"/>
                  <a:pt x="287" y="13"/>
                </a:cubicBezTo>
                <a:cubicBezTo>
                  <a:pt x="273" y="15"/>
                  <a:pt x="259" y="18"/>
                  <a:pt x="246" y="21"/>
                </a:cubicBezTo>
                <a:cubicBezTo>
                  <a:pt x="245" y="22"/>
                  <a:pt x="245" y="22"/>
                  <a:pt x="244" y="22"/>
                </a:cubicBezTo>
                <a:close/>
                <a:moveTo>
                  <a:pt x="370" y="13"/>
                </a:moveTo>
                <a:cubicBezTo>
                  <a:pt x="370" y="13"/>
                  <a:pt x="370" y="13"/>
                  <a:pt x="370" y="13"/>
                </a:cubicBezTo>
                <a:cubicBezTo>
                  <a:pt x="356" y="11"/>
                  <a:pt x="342" y="11"/>
                  <a:pt x="329" y="11"/>
                </a:cubicBezTo>
                <a:cubicBezTo>
                  <a:pt x="328" y="11"/>
                  <a:pt x="328" y="11"/>
                  <a:pt x="328" y="11"/>
                </a:cubicBezTo>
                <a:cubicBezTo>
                  <a:pt x="325" y="11"/>
                  <a:pt x="323" y="8"/>
                  <a:pt x="323" y="5"/>
                </a:cubicBezTo>
                <a:cubicBezTo>
                  <a:pt x="323" y="2"/>
                  <a:pt x="325" y="0"/>
                  <a:pt x="328" y="0"/>
                </a:cubicBezTo>
                <a:cubicBezTo>
                  <a:pt x="329" y="0"/>
                  <a:pt x="329" y="0"/>
                  <a:pt x="329" y="0"/>
                </a:cubicBezTo>
                <a:cubicBezTo>
                  <a:pt x="343" y="0"/>
                  <a:pt x="357" y="1"/>
                  <a:pt x="371" y="3"/>
                </a:cubicBezTo>
                <a:cubicBezTo>
                  <a:pt x="374" y="3"/>
                  <a:pt x="376" y="6"/>
                  <a:pt x="376" y="9"/>
                </a:cubicBezTo>
                <a:cubicBezTo>
                  <a:pt x="375" y="11"/>
                  <a:pt x="373" y="13"/>
                  <a:pt x="370" y="13"/>
                </a:cubicBezTo>
                <a:close/>
              </a:path>
            </a:pathLst>
          </a:custGeom>
          <a:solidFill>
            <a:srgbClr val="f15a25"/>
          </a:solidFill>
          <a:ln w="9360">
            <a:solidFill>
              <a:srgbClr val="f15a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6" name="Group 64"/>
          <p:cNvGrpSpPr/>
          <p:nvPr/>
        </p:nvGrpSpPr>
        <p:grpSpPr>
          <a:xfrm>
            <a:off x="1433520" y="4030560"/>
            <a:ext cx="2084400" cy="1533600"/>
            <a:chOff x="1433520" y="4030560"/>
            <a:chExt cx="2084400" cy="1533600"/>
          </a:xfrm>
        </p:grpSpPr>
        <p:sp>
          <p:nvSpPr>
            <p:cNvPr id="777" name="Text Placeholder 22"/>
            <p:cNvSpPr/>
            <p:nvPr/>
          </p:nvSpPr>
          <p:spPr>
            <a:xfrm>
              <a:off x="1573920" y="4030560"/>
              <a:ext cx="182016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4546a"/>
                  </a:solidFill>
                  <a:latin typeface="Source Sans Pro"/>
                </a:rPr>
                <a:t>Ben Do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Text Placeholder 23"/>
            <p:cNvSpPr/>
            <p:nvPr/>
          </p:nvSpPr>
          <p:spPr>
            <a:xfrm>
              <a:off x="1573920" y="4320720"/>
              <a:ext cx="1820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4546a"/>
                  </a:solidFill>
                  <a:latin typeface="Source Sans Pro Light"/>
                  <a:ea typeface="Open Sans Semibold"/>
                </a:rPr>
                <a:t>Leader Develop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Text Placeholder 24"/>
            <p:cNvSpPr/>
            <p:nvPr/>
          </p:nvSpPr>
          <p:spPr>
            <a:xfrm>
              <a:off x="1433520" y="4731840"/>
              <a:ext cx="208440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Etsy plaid narwhal fixie tofu, gastropub ennui ethical schlitz disrupt lomo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Straight Connector 12"/>
            <p:cNvSpPr/>
            <p:nvPr/>
          </p:nvSpPr>
          <p:spPr>
            <a:xfrm>
              <a:off x="2255400" y="4661640"/>
              <a:ext cx="457200" cy="0"/>
            </a:xfrm>
            <a:prstGeom prst="line">
              <a:avLst/>
            </a:prstGeom>
            <a:ln w="57240">
              <a:solidFill>
                <a:srgbClr val="f15a2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1" name="Freeform 8"/>
          <p:cNvSpPr/>
          <p:nvPr/>
        </p:nvSpPr>
        <p:spPr>
          <a:xfrm>
            <a:off x="3971880" y="1897200"/>
            <a:ext cx="2011320" cy="2011320"/>
          </a:xfrm>
          <a:custGeom>
            <a:avLst/>
            <a:gdLst/>
            <a:ahLst/>
            <a:rect l="l" t="t" r="r" b="b"/>
            <a:pathLst>
              <a:path w="657" h="657">
                <a:moveTo>
                  <a:pt x="329" y="657"/>
                </a:moveTo>
                <a:cubicBezTo>
                  <a:pt x="329" y="657"/>
                  <a:pt x="329" y="657"/>
                  <a:pt x="329" y="657"/>
                </a:cubicBezTo>
                <a:cubicBezTo>
                  <a:pt x="314" y="657"/>
                  <a:pt x="300" y="656"/>
                  <a:pt x="286" y="654"/>
                </a:cubicBezTo>
                <a:cubicBezTo>
                  <a:pt x="283" y="654"/>
                  <a:pt x="281" y="651"/>
                  <a:pt x="281" y="648"/>
                </a:cubicBezTo>
                <a:cubicBezTo>
                  <a:pt x="282" y="646"/>
                  <a:pt x="284" y="643"/>
                  <a:pt x="287" y="644"/>
                </a:cubicBezTo>
                <a:cubicBezTo>
                  <a:pt x="301" y="646"/>
                  <a:pt x="315" y="646"/>
                  <a:pt x="329" y="646"/>
                </a:cubicBezTo>
                <a:cubicBezTo>
                  <a:pt x="332" y="646"/>
                  <a:pt x="334" y="649"/>
                  <a:pt x="334" y="652"/>
                </a:cubicBezTo>
                <a:cubicBezTo>
                  <a:pt x="334" y="655"/>
                  <a:pt x="332" y="657"/>
                  <a:pt x="329" y="657"/>
                </a:cubicBezTo>
                <a:close/>
                <a:moveTo>
                  <a:pt x="371" y="654"/>
                </a:moveTo>
                <a:cubicBezTo>
                  <a:pt x="368" y="654"/>
                  <a:pt x="366" y="652"/>
                  <a:pt x="366" y="650"/>
                </a:cubicBezTo>
                <a:cubicBezTo>
                  <a:pt x="365" y="647"/>
                  <a:pt x="367" y="644"/>
                  <a:pt x="370" y="644"/>
                </a:cubicBezTo>
                <a:cubicBezTo>
                  <a:pt x="384" y="642"/>
                  <a:pt x="398" y="639"/>
                  <a:pt x="411" y="636"/>
                </a:cubicBezTo>
                <a:cubicBezTo>
                  <a:pt x="414" y="635"/>
                  <a:pt x="417" y="637"/>
                  <a:pt x="418" y="639"/>
                </a:cubicBezTo>
                <a:cubicBezTo>
                  <a:pt x="418" y="642"/>
                  <a:pt x="417" y="645"/>
                  <a:pt x="414" y="646"/>
                </a:cubicBezTo>
                <a:cubicBezTo>
                  <a:pt x="400" y="650"/>
                  <a:pt x="386" y="652"/>
                  <a:pt x="372" y="654"/>
                </a:cubicBezTo>
                <a:lnTo>
                  <a:pt x="371" y="654"/>
                </a:lnTo>
                <a:close/>
                <a:moveTo>
                  <a:pt x="245" y="646"/>
                </a:moveTo>
                <a:cubicBezTo>
                  <a:pt x="245" y="646"/>
                  <a:pt x="244" y="646"/>
                  <a:pt x="244" y="646"/>
                </a:cubicBezTo>
                <a:cubicBezTo>
                  <a:pt x="230" y="642"/>
                  <a:pt x="216" y="638"/>
                  <a:pt x="203" y="632"/>
                </a:cubicBezTo>
                <a:cubicBezTo>
                  <a:pt x="200" y="631"/>
                  <a:pt x="199" y="628"/>
                  <a:pt x="200" y="625"/>
                </a:cubicBezTo>
                <a:cubicBezTo>
                  <a:pt x="201" y="623"/>
                  <a:pt x="204" y="621"/>
                  <a:pt x="207" y="622"/>
                </a:cubicBezTo>
                <a:cubicBezTo>
                  <a:pt x="220" y="628"/>
                  <a:pt x="233" y="632"/>
                  <a:pt x="247" y="636"/>
                </a:cubicBezTo>
                <a:cubicBezTo>
                  <a:pt x="249" y="637"/>
                  <a:pt x="251" y="639"/>
                  <a:pt x="250" y="642"/>
                </a:cubicBezTo>
                <a:cubicBezTo>
                  <a:pt x="250" y="645"/>
                  <a:pt x="248" y="646"/>
                  <a:pt x="245" y="646"/>
                </a:cubicBezTo>
                <a:close/>
                <a:moveTo>
                  <a:pt x="453" y="633"/>
                </a:moveTo>
                <a:cubicBezTo>
                  <a:pt x="450" y="633"/>
                  <a:pt x="449" y="631"/>
                  <a:pt x="448" y="629"/>
                </a:cubicBezTo>
                <a:cubicBezTo>
                  <a:pt x="447" y="627"/>
                  <a:pt x="448" y="623"/>
                  <a:pt x="451" y="622"/>
                </a:cubicBezTo>
                <a:cubicBezTo>
                  <a:pt x="463" y="617"/>
                  <a:pt x="476" y="611"/>
                  <a:pt x="488" y="604"/>
                </a:cubicBezTo>
                <a:cubicBezTo>
                  <a:pt x="490" y="602"/>
                  <a:pt x="494" y="603"/>
                  <a:pt x="495" y="606"/>
                </a:cubicBezTo>
                <a:cubicBezTo>
                  <a:pt x="496" y="608"/>
                  <a:pt x="496" y="612"/>
                  <a:pt x="493" y="613"/>
                </a:cubicBezTo>
                <a:cubicBezTo>
                  <a:pt x="481" y="620"/>
                  <a:pt x="468" y="627"/>
                  <a:pt x="455" y="632"/>
                </a:cubicBezTo>
                <a:cubicBezTo>
                  <a:pt x="454" y="632"/>
                  <a:pt x="453" y="633"/>
                  <a:pt x="453" y="633"/>
                </a:cubicBezTo>
                <a:close/>
                <a:moveTo>
                  <a:pt x="167" y="614"/>
                </a:moveTo>
                <a:cubicBezTo>
                  <a:pt x="166" y="614"/>
                  <a:pt x="165" y="614"/>
                  <a:pt x="165" y="613"/>
                </a:cubicBezTo>
                <a:cubicBezTo>
                  <a:pt x="152" y="606"/>
                  <a:pt x="140" y="598"/>
                  <a:pt x="129" y="589"/>
                </a:cubicBezTo>
                <a:cubicBezTo>
                  <a:pt x="127" y="588"/>
                  <a:pt x="126" y="584"/>
                  <a:pt x="128" y="582"/>
                </a:cubicBezTo>
                <a:cubicBezTo>
                  <a:pt x="130" y="580"/>
                  <a:pt x="133" y="579"/>
                  <a:pt x="135" y="581"/>
                </a:cubicBezTo>
                <a:cubicBezTo>
                  <a:pt x="146" y="589"/>
                  <a:pt x="158" y="597"/>
                  <a:pt x="170" y="604"/>
                </a:cubicBezTo>
                <a:cubicBezTo>
                  <a:pt x="172" y="606"/>
                  <a:pt x="173" y="609"/>
                  <a:pt x="172" y="611"/>
                </a:cubicBezTo>
                <a:cubicBezTo>
                  <a:pt x="171" y="613"/>
                  <a:pt x="169" y="614"/>
                  <a:pt x="167" y="614"/>
                </a:cubicBezTo>
                <a:close/>
                <a:moveTo>
                  <a:pt x="526" y="590"/>
                </a:moveTo>
                <a:cubicBezTo>
                  <a:pt x="524" y="590"/>
                  <a:pt x="522" y="590"/>
                  <a:pt x="521" y="588"/>
                </a:cubicBezTo>
                <a:cubicBezTo>
                  <a:pt x="520" y="586"/>
                  <a:pt x="520" y="583"/>
                  <a:pt x="522" y="581"/>
                </a:cubicBezTo>
                <a:cubicBezTo>
                  <a:pt x="533" y="572"/>
                  <a:pt x="544" y="563"/>
                  <a:pt x="554" y="553"/>
                </a:cubicBezTo>
                <a:cubicBezTo>
                  <a:pt x="556" y="551"/>
                  <a:pt x="559" y="551"/>
                  <a:pt x="561" y="553"/>
                </a:cubicBezTo>
                <a:cubicBezTo>
                  <a:pt x="563" y="555"/>
                  <a:pt x="563" y="559"/>
                  <a:pt x="561" y="561"/>
                </a:cubicBezTo>
                <a:cubicBezTo>
                  <a:pt x="551" y="571"/>
                  <a:pt x="540" y="580"/>
                  <a:pt x="529" y="589"/>
                </a:cubicBezTo>
                <a:cubicBezTo>
                  <a:pt x="528" y="590"/>
                  <a:pt x="527" y="590"/>
                  <a:pt x="526" y="590"/>
                </a:cubicBezTo>
                <a:close/>
                <a:moveTo>
                  <a:pt x="100" y="563"/>
                </a:moveTo>
                <a:cubicBezTo>
                  <a:pt x="99" y="563"/>
                  <a:pt x="98" y="562"/>
                  <a:pt x="97" y="561"/>
                </a:cubicBezTo>
                <a:cubicBezTo>
                  <a:pt x="86" y="551"/>
                  <a:pt x="77" y="540"/>
                  <a:pt x="68" y="529"/>
                </a:cubicBezTo>
                <a:cubicBezTo>
                  <a:pt x="66" y="526"/>
                  <a:pt x="67" y="523"/>
                  <a:pt x="69" y="521"/>
                </a:cubicBezTo>
                <a:cubicBezTo>
                  <a:pt x="71" y="520"/>
                  <a:pt x="75" y="520"/>
                  <a:pt x="77" y="522"/>
                </a:cubicBezTo>
                <a:cubicBezTo>
                  <a:pt x="85" y="533"/>
                  <a:pt x="94" y="544"/>
                  <a:pt x="104" y="554"/>
                </a:cubicBezTo>
                <a:cubicBezTo>
                  <a:pt x="106" y="556"/>
                  <a:pt x="106" y="559"/>
                  <a:pt x="104" y="561"/>
                </a:cubicBezTo>
                <a:cubicBezTo>
                  <a:pt x="103" y="562"/>
                  <a:pt x="102" y="563"/>
                  <a:pt x="100" y="563"/>
                </a:cubicBezTo>
                <a:close/>
                <a:moveTo>
                  <a:pt x="585" y="531"/>
                </a:moveTo>
                <a:cubicBezTo>
                  <a:pt x="584" y="531"/>
                  <a:pt x="583" y="530"/>
                  <a:pt x="582" y="529"/>
                </a:cubicBezTo>
                <a:cubicBezTo>
                  <a:pt x="580" y="528"/>
                  <a:pt x="579" y="524"/>
                  <a:pt x="581" y="522"/>
                </a:cubicBezTo>
                <a:cubicBezTo>
                  <a:pt x="589" y="511"/>
                  <a:pt x="597" y="499"/>
                  <a:pt x="604" y="488"/>
                </a:cubicBezTo>
                <a:cubicBezTo>
                  <a:pt x="606" y="485"/>
                  <a:pt x="609" y="484"/>
                  <a:pt x="611" y="486"/>
                </a:cubicBezTo>
                <a:cubicBezTo>
                  <a:pt x="614" y="487"/>
                  <a:pt x="615" y="490"/>
                  <a:pt x="613" y="493"/>
                </a:cubicBezTo>
                <a:cubicBezTo>
                  <a:pt x="606" y="505"/>
                  <a:pt x="598" y="517"/>
                  <a:pt x="589" y="529"/>
                </a:cubicBezTo>
                <a:cubicBezTo>
                  <a:pt x="588" y="530"/>
                  <a:pt x="587" y="531"/>
                  <a:pt x="585" y="531"/>
                </a:cubicBezTo>
                <a:close/>
                <a:moveTo>
                  <a:pt x="49" y="496"/>
                </a:moveTo>
                <a:cubicBezTo>
                  <a:pt x="47" y="496"/>
                  <a:pt x="45" y="495"/>
                  <a:pt x="44" y="493"/>
                </a:cubicBezTo>
                <a:cubicBezTo>
                  <a:pt x="37" y="481"/>
                  <a:pt x="31" y="468"/>
                  <a:pt x="25" y="455"/>
                </a:cubicBezTo>
                <a:cubicBezTo>
                  <a:pt x="24" y="452"/>
                  <a:pt x="25" y="449"/>
                  <a:pt x="28" y="448"/>
                </a:cubicBezTo>
                <a:cubicBezTo>
                  <a:pt x="31" y="447"/>
                  <a:pt x="34" y="448"/>
                  <a:pt x="35" y="451"/>
                </a:cubicBezTo>
                <a:cubicBezTo>
                  <a:pt x="40" y="463"/>
                  <a:pt x="46" y="476"/>
                  <a:pt x="53" y="488"/>
                </a:cubicBezTo>
                <a:cubicBezTo>
                  <a:pt x="55" y="490"/>
                  <a:pt x="54" y="494"/>
                  <a:pt x="51" y="495"/>
                </a:cubicBezTo>
                <a:cubicBezTo>
                  <a:pt x="51" y="495"/>
                  <a:pt x="50" y="496"/>
                  <a:pt x="49" y="496"/>
                </a:cubicBezTo>
                <a:close/>
                <a:moveTo>
                  <a:pt x="627" y="458"/>
                </a:moveTo>
                <a:cubicBezTo>
                  <a:pt x="627" y="458"/>
                  <a:pt x="626" y="457"/>
                  <a:pt x="625" y="457"/>
                </a:cubicBezTo>
                <a:cubicBezTo>
                  <a:pt x="623" y="456"/>
                  <a:pt x="621" y="453"/>
                  <a:pt x="623" y="450"/>
                </a:cubicBezTo>
                <a:cubicBezTo>
                  <a:pt x="628" y="437"/>
                  <a:pt x="632" y="424"/>
                  <a:pt x="636" y="411"/>
                </a:cubicBezTo>
                <a:cubicBezTo>
                  <a:pt x="637" y="408"/>
                  <a:pt x="640" y="406"/>
                  <a:pt x="642" y="407"/>
                </a:cubicBezTo>
                <a:cubicBezTo>
                  <a:pt x="645" y="408"/>
                  <a:pt x="647" y="411"/>
                  <a:pt x="646" y="414"/>
                </a:cubicBezTo>
                <a:cubicBezTo>
                  <a:pt x="642" y="427"/>
                  <a:pt x="638" y="441"/>
                  <a:pt x="632" y="454"/>
                </a:cubicBezTo>
                <a:cubicBezTo>
                  <a:pt x="631" y="456"/>
                  <a:pt x="630" y="458"/>
                  <a:pt x="627" y="458"/>
                </a:cubicBezTo>
                <a:close/>
                <a:moveTo>
                  <a:pt x="16" y="418"/>
                </a:moveTo>
                <a:cubicBezTo>
                  <a:pt x="14" y="418"/>
                  <a:pt x="12" y="416"/>
                  <a:pt x="11" y="414"/>
                </a:cubicBezTo>
                <a:cubicBezTo>
                  <a:pt x="8" y="400"/>
                  <a:pt x="5" y="386"/>
                  <a:pt x="3" y="372"/>
                </a:cubicBezTo>
                <a:cubicBezTo>
                  <a:pt x="3" y="369"/>
                  <a:pt x="5" y="366"/>
                  <a:pt x="8" y="366"/>
                </a:cubicBezTo>
                <a:cubicBezTo>
                  <a:pt x="10" y="365"/>
                  <a:pt x="13" y="367"/>
                  <a:pt x="13" y="370"/>
                </a:cubicBezTo>
                <a:cubicBezTo>
                  <a:pt x="15" y="384"/>
                  <a:pt x="18" y="398"/>
                  <a:pt x="22" y="411"/>
                </a:cubicBezTo>
                <a:cubicBezTo>
                  <a:pt x="22" y="414"/>
                  <a:pt x="21" y="417"/>
                  <a:pt x="18" y="418"/>
                </a:cubicBezTo>
                <a:cubicBezTo>
                  <a:pt x="17" y="418"/>
                  <a:pt x="17" y="418"/>
                  <a:pt x="16" y="418"/>
                </a:cubicBezTo>
                <a:close/>
                <a:moveTo>
                  <a:pt x="649" y="376"/>
                </a:moveTo>
                <a:cubicBezTo>
                  <a:pt x="649" y="376"/>
                  <a:pt x="649" y="376"/>
                  <a:pt x="649" y="376"/>
                </a:cubicBezTo>
                <a:cubicBezTo>
                  <a:pt x="646" y="376"/>
                  <a:pt x="644" y="373"/>
                  <a:pt x="644" y="370"/>
                </a:cubicBezTo>
                <a:cubicBezTo>
                  <a:pt x="646" y="356"/>
                  <a:pt x="647" y="342"/>
                  <a:pt x="647" y="329"/>
                </a:cubicBezTo>
                <a:cubicBezTo>
                  <a:pt x="647" y="328"/>
                  <a:pt x="647" y="328"/>
                  <a:pt x="647" y="328"/>
                </a:cubicBezTo>
                <a:cubicBezTo>
                  <a:pt x="647" y="325"/>
                  <a:pt x="649" y="322"/>
                  <a:pt x="652" y="322"/>
                </a:cubicBezTo>
                <a:cubicBezTo>
                  <a:pt x="655" y="322"/>
                  <a:pt x="657" y="325"/>
                  <a:pt x="657" y="328"/>
                </a:cubicBezTo>
                <a:cubicBezTo>
                  <a:pt x="657" y="329"/>
                  <a:pt x="657" y="329"/>
                  <a:pt x="657" y="329"/>
                </a:cubicBezTo>
                <a:cubicBezTo>
                  <a:pt x="657" y="343"/>
                  <a:pt x="656" y="357"/>
                  <a:pt x="654" y="371"/>
                </a:cubicBezTo>
                <a:cubicBezTo>
                  <a:pt x="654" y="374"/>
                  <a:pt x="652" y="376"/>
                  <a:pt x="649" y="376"/>
                </a:cubicBezTo>
                <a:close/>
                <a:moveTo>
                  <a:pt x="5" y="334"/>
                </a:moveTo>
                <a:cubicBezTo>
                  <a:pt x="2" y="334"/>
                  <a:pt x="0" y="332"/>
                  <a:pt x="0" y="329"/>
                </a:cubicBezTo>
                <a:cubicBezTo>
                  <a:pt x="0" y="329"/>
                  <a:pt x="0" y="329"/>
                  <a:pt x="0" y="329"/>
                </a:cubicBezTo>
                <a:cubicBezTo>
                  <a:pt x="0" y="314"/>
                  <a:pt x="1" y="300"/>
                  <a:pt x="3" y="286"/>
                </a:cubicBezTo>
                <a:cubicBezTo>
                  <a:pt x="3" y="283"/>
                  <a:pt x="6" y="281"/>
                  <a:pt x="9" y="281"/>
                </a:cubicBezTo>
                <a:cubicBezTo>
                  <a:pt x="12" y="282"/>
                  <a:pt x="14" y="284"/>
                  <a:pt x="13" y="287"/>
                </a:cubicBezTo>
                <a:cubicBezTo>
                  <a:pt x="12" y="301"/>
                  <a:pt x="11" y="315"/>
                  <a:pt x="11" y="329"/>
                </a:cubicBezTo>
                <a:cubicBezTo>
                  <a:pt x="11" y="329"/>
                  <a:pt x="11" y="329"/>
                  <a:pt x="11" y="329"/>
                </a:cubicBezTo>
                <a:cubicBezTo>
                  <a:pt x="11" y="332"/>
                  <a:pt x="8" y="334"/>
                  <a:pt x="5" y="334"/>
                </a:cubicBezTo>
                <a:close/>
                <a:moveTo>
                  <a:pt x="649" y="291"/>
                </a:moveTo>
                <a:cubicBezTo>
                  <a:pt x="647" y="291"/>
                  <a:pt x="644" y="289"/>
                  <a:pt x="644" y="286"/>
                </a:cubicBezTo>
                <a:cubicBezTo>
                  <a:pt x="642" y="273"/>
                  <a:pt x="639" y="259"/>
                  <a:pt x="636" y="246"/>
                </a:cubicBezTo>
                <a:cubicBezTo>
                  <a:pt x="635" y="243"/>
                  <a:pt x="637" y="240"/>
                  <a:pt x="639" y="239"/>
                </a:cubicBezTo>
                <a:cubicBezTo>
                  <a:pt x="642" y="238"/>
                  <a:pt x="645" y="240"/>
                  <a:pt x="646" y="243"/>
                </a:cubicBezTo>
                <a:cubicBezTo>
                  <a:pt x="650" y="257"/>
                  <a:pt x="652" y="271"/>
                  <a:pt x="654" y="285"/>
                </a:cubicBezTo>
                <a:cubicBezTo>
                  <a:pt x="655" y="288"/>
                  <a:pt x="653" y="290"/>
                  <a:pt x="650" y="291"/>
                </a:cubicBezTo>
                <a:lnTo>
                  <a:pt x="649" y="291"/>
                </a:lnTo>
                <a:close/>
                <a:moveTo>
                  <a:pt x="16" y="251"/>
                </a:moveTo>
                <a:cubicBezTo>
                  <a:pt x="16" y="251"/>
                  <a:pt x="15" y="250"/>
                  <a:pt x="15" y="250"/>
                </a:cubicBezTo>
                <a:cubicBezTo>
                  <a:pt x="12" y="250"/>
                  <a:pt x="10" y="247"/>
                  <a:pt x="11" y="244"/>
                </a:cubicBezTo>
                <a:cubicBezTo>
                  <a:pt x="15" y="230"/>
                  <a:pt x="19" y="216"/>
                  <a:pt x="25" y="203"/>
                </a:cubicBezTo>
                <a:cubicBezTo>
                  <a:pt x="26" y="200"/>
                  <a:pt x="29" y="199"/>
                  <a:pt x="32" y="200"/>
                </a:cubicBezTo>
                <a:cubicBezTo>
                  <a:pt x="35" y="201"/>
                  <a:pt x="36" y="204"/>
                  <a:pt x="35" y="207"/>
                </a:cubicBezTo>
                <a:cubicBezTo>
                  <a:pt x="29" y="220"/>
                  <a:pt x="25" y="233"/>
                  <a:pt x="21" y="247"/>
                </a:cubicBezTo>
                <a:cubicBezTo>
                  <a:pt x="21" y="249"/>
                  <a:pt x="19" y="251"/>
                  <a:pt x="16" y="251"/>
                </a:cubicBezTo>
                <a:close/>
                <a:moveTo>
                  <a:pt x="627" y="209"/>
                </a:moveTo>
                <a:cubicBezTo>
                  <a:pt x="625" y="209"/>
                  <a:pt x="623" y="208"/>
                  <a:pt x="622" y="206"/>
                </a:cubicBezTo>
                <a:cubicBezTo>
                  <a:pt x="617" y="193"/>
                  <a:pt x="611" y="181"/>
                  <a:pt x="604" y="169"/>
                </a:cubicBezTo>
                <a:cubicBezTo>
                  <a:pt x="602" y="166"/>
                  <a:pt x="603" y="163"/>
                  <a:pt x="606" y="162"/>
                </a:cubicBezTo>
                <a:cubicBezTo>
                  <a:pt x="608" y="160"/>
                  <a:pt x="611" y="161"/>
                  <a:pt x="613" y="164"/>
                </a:cubicBezTo>
                <a:cubicBezTo>
                  <a:pt x="620" y="176"/>
                  <a:pt x="627" y="189"/>
                  <a:pt x="632" y="202"/>
                </a:cubicBezTo>
                <a:cubicBezTo>
                  <a:pt x="633" y="205"/>
                  <a:pt x="632" y="208"/>
                  <a:pt x="629" y="209"/>
                </a:cubicBezTo>
                <a:cubicBezTo>
                  <a:pt x="629" y="209"/>
                  <a:pt x="628" y="209"/>
                  <a:pt x="627" y="209"/>
                </a:cubicBezTo>
                <a:close/>
                <a:moveTo>
                  <a:pt x="48" y="173"/>
                </a:moveTo>
                <a:cubicBezTo>
                  <a:pt x="48" y="173"/>
                  <a:pt x="47" y="172"/>
                  <a:pt x="46" y="172"/>
                </a:cubicBezTo>
                <a:cubicBezTo>
                  <a:pt x="43" y="170"/>
                  <a:pt x="42" y="167"/>
                  <a:pt x="44" y="165"/>
                </a:cubicBezTo>
                <a:cubicBezTo>
                  <a:pt x="51" y="152"/>
                  <a:pt x="59" y="140"/>
                  <a:pt x="68" y="129"/>
                </a:cubicBezTo>
                <a:cubicBezTo>
                  <a:pt x="70" y="126"/>
                  <a:pt x="73" y="126"/>
                  <a:pt x="75" y="128"/>
                </a:cubicBezTo>
                <a:cubicBezTo>
                  <a:pt x="78" y="130"/>
                  <a:pt x="78" y="133"/>
                  <a:pt x="76" y="135"/>
                </a:cubicBezTo>
                <a:cubicBezTo>
                  <a:pt x="68" y="146"/>
                  <a:pt x="60" y="158"/>
                  <a:pt x="53" y="170"/>
                </a:cubicBezTo>
                <a:cubicBezTo>
                  <a:pt x="52" y="172"/>
                  <a:pt x="50" y="173"/>
                  <a:pt x="48" y="173"/>
                </a:cubicBezTo>
                <a:close/>
                <a:moveTo>
                  <a:pt x="585" y="137"/>
                </a:moveTo>
                <a:cubicBezTo>
                  <a:pt x="583" y="137"/>
                  <a:pt x="582" y="136"/>
                  <a:pt x="581" y="134"/>
                </a:cubicBezTo>
                <a:cubicBezTo>
                  <a:pt x="572" y="124"/>
                  <a:pt x="563" y="113"/>
                  <a:pt x="553" y="103"/>
                </a:cubicBezTo>
                <a:cubicBezTo>
                  <a:pt x="551" y="101"/>
                  <a:pt x="551" y="98"/>
                  <a:pt x="553" y="96"/>
                </a:cubicBezTo>
                <a:cubicBezTo>
                  <a:pt x="555" y="94"/>
                  <a:pt x="559" y="94"/>
                  <a:pt x="561" y="96"/>
                </a:cubicBezTo>
                <a:cubicBezTo>
                  <a:pt x="571" y="106"/>
                  <a:pt x="580" y="117"/>
                  <a:pt x="589" y="128"/>
                </a:cubicBezTo>
                <a:cubicBezTo>
                  <a:pt x="591" y="130"/>
                  <a:pt x="590" y="134"/>
                  <a:pt x="588" y="135"/>
                </a:cubicBezTo>
                <a:cubicBezTo>
                  <a:pt x="587" y="136"/>
                  <a:pt x="586" y="137"/>
                  <a:pt x="585" y="137"/>
                </a:cubicBezTo>
                <a:close/>
                <a:moveTo>
                  <a:pt x="100" y="106"/>
                </a:moveTo>
                <a:cubicBezTo>
                  <a:pt x="98" y="106"/>
                  <a:pt x="97" y="105"/>
                  <a:pt x="96" y="104"/>
                </a:cubicBezTo>
                <a:cubicBezTo>
                  <a:pt x="94" y="102"/>
                  <a:pt x="94" y="99"/>
                  <a:pt x="96" y="96"/>
                </a:cubicBezTo>
                <a:cubicBezTo>
                  <a:pt x="106" y="86"/>
                  <a:pt x="117" y="77"/>
                  <a:pt x="128" y="68"/>
                </a:cubicBezTo>
                <a:cubicBezTo>
                  <a:pt x="131" y="66"/>
                  <a:pt x="134" y="67"/>
                  <a:pt x="136" y="69"/>
                </a:cubicBezTo>
                <a:cubicBezTo>
                  <a:pt x="138" y="71"/>
                  <a:pt x="137" y="75"/>
                  <a:pt x="135" y="76"/>
                </a:cubicBezTo>
                <a:cubicBezTo>
                  <a:pt x="124" y="85"/>
                  <a:pt x="113" y="94"/>
                  <a:pt x="104" y="104"/>
                </a:cubicBezTo>
                <a:cubicBezTo>
                  <a:pt x="103" y="105"/>
                  <a:pt x="101" y="106"/>
                  <a:pt x="100" y="106"/>
                </a:cubicBezTo>
                <a:close/>
                <a:moveTo>
                  <a:pt x="525" y="77"/>
                </a:moveTo>
                <a:cubicBezTo>
                  <a:pt x="524" y="77"/>
                  <a:pt x="523" y="77"/>
                  <a:pt x="522" y="76"/>
                </a:cubicBezTo>
                <a:cubicBezTo>
                  <a:pt x="511" y="67"/>
                  <a:pt x="499" y="60"/>
                  <a:pt x="487" y="53"/>
                </a:cubicBezTo>
                <a:cubicBezTo>
                  <a:pt x="485" y="51"/>
                  <a:pt x="484" y="48"/>
                  <a:pt x="485" y="46"/>
                </a:cubicBezTo>
                <a:cubicBezTo>
                  <a:pt x="487" y="43"/>
                  <a:pt x="490" y="42"/>
                  <a:pt x="492" y="44"/>
                </a:cubicBezTo>
                <a:cubicBezTo>
                  <a:pt x="505" y="51"/>
                  <a:pt x="517" y="59"/>
                  <a:pt x="528" y="67"/>
                </a:cubicBezTo>
                <a:cubicBezTo>
                  <a:pt x="531" y="69"/>
                  <a:pt x="531" y="73"/>
                  <a:pt x="529" y="75"/>
                </a:cubicBezTo>
                <a:cubicBezTo>
                  <a:pt x="528" y="76"/>
                  <a:pt x="527" y="77"/>
                  <a:pt x="525" y="77"/>
                </a:cubicBezTo>
                <a:close/>
                <a:moveTo>
                  <a:pt x="167" y="54"/>
                </a:moveTo>
                <a:cubicBezTo>
                  <a:pt x="165" y="54"/>
                  <a:pt x="163" y="53"/>
                  <a:pt x="162" y="51"/>
                </a:cubicBezTo>
                <a:cubicBezTo>
                  <a:pt x="161" y="49"/>
                  <a:pt x="161" y="46"/>
                  <a:pt x="164" y="44"/>
                </a:cubicBezTo>
                <a:cubicBezTo>
                  <a:pt x="176" y="37"/>
                  <a:pt x="189" y="31"/>
                  <a:pt x="202" y="25"/>
                </a:cubicBezTo>
                <a:cubicBezTo>
                  <a:pt x="205" y="24"/>
                  <a:pt x="208" y="25"/>
                  <a:pt x="209" y="28"/>
                </a:cubicBezTo>
                <a:cubicBezTo>
                  <a:pt x="211" y="31"/>
                  <a:pt x="209" y="34"/>
                  <a:pt x="207" y="35"/>
                </a:cubicBezTo>
                <a:cubicBezTo>
                  <a:pt x="194" y="40"/>
                  <a:pt x="181" y="46"/>
                  <a:pt x="169" y="53"/>
                </a:cubicBezTo>
                <a:cubicBezTo>
                  <a:pt x="168" y="54"/>
                  <a:pt x="168" y="54"/>
                  <a:pt x="167" y="54"/>
                </a:cubicBezTo>
                <a:close/>
                <a:moveTo>
                  <a:pt x="452" y="35"/>
                </a:moveTo>
                <a:cubicBezTo>
                  <a:pt x="451" y="35"/>
                  <a:pt x="451" y="35"/>
                  <a:pt x="450" y="34"/>
                </a:cubicBezTo>
                <a:cubicBezTo>
                  <a:pt x="437" y="29"/>
                  <a:pt x="424" y="25"/>
                  <a:pt x="410" y="21"/>
                </a:cubicBezTo>
                <a:cubicBezTo>
                  <a:pt x="408" y="20"/>
                  <a:pt x="406" y="18"/>
                  <a:pt x="407" y="15"/>
                </a:cubicBezTo>
                <a:cubicBezTo>
                  <a:pt x="407" y="12"/>
                  <a:pt x="410" y="10"/>
                  <a:pt x="413" y="11"/>
                </a:cubicBezTo>
                <a:cubicBezTo>
                  <a:pt x="427" y="15"/>
                  <a:pt x="441" y="19"/>
                  <a:pt x="454" y="25"/>
                </a:cubicBezTo>
                <a:cubicBezTo>
                  <a:pt x="457" y="26"/>
                  <a:pt x="458" y="29"/>
                  <a:pt x="457" y="32"/>
                </a:cubicBezTo>
                <a:cubicBezTo>
                  <a:pt x="456" y="34"/>
                  <a:pt x="454" y="35"/>
                  <a:pt x="452" y="35"/>
                </a:cubicBezTo>
                <a:close/>
                <a:moveTo>
                  <a:pt x="244" y="22"/>
                </a:moveTo>
                <a:cubicBezTo>
                  <a:pt x="242" y="22"/>
                  <a:pt x="240" y="20"/>
                  <a:pt x="239" y="18"/>
                </a:cubicBezTo>
                <a:cubicBezTo>
                  <a:pt x="239" y="15"/>
                  <a:pt x="240" y="12"/>
                  <a:pt x="243" y="11"/>
                </a:cubicBezTo>
                <a:cubicBezTo>
                  <a:pt x="257" y="8"/>
                  <a:pt x="271" y="5"/>
                  <a:pt x="285" y="3"/>
                </a:cubicBezTo>
                <a:cubicBezTo>
                  <a:pt x="288" y="2"/>
                  <a:pt x="291" y="4"/>
                  <a:pt x="291" y="7"/>
                </a:cubicBezTo>
                <a:cubicBezTo>
                  <a:pt x="292" y="10"/>
                  <a:pt x="290" y="13"/>
                  <a:pt x="287" y="13"/>
                </a:cubicBezTo>
                <a:cubicBezTo>
                  <a:pt x="273" y="15"/>
                  <a:pt x="259" y="18"/>
                  <a:pt x="246" y="21"/>
                </a:cubicBezTo>
                <a:cubicBezTo>
                  <a:pt x="245" y="22"/>
                  <a:pt x="245" y="22"/>
                  <a:pt x="244" y="22"/>
                </a:cubicBezTo>
                <a:close/>
                <a:moveTo>
                  <a:pt x="370" y="13"/>
                </a:moveTo>
                <a:cubicBezTo>
                  <a:pt x="370" y="13"/>
                  <a:pt x="370" y="13"/>
                  <a:pt x="370" y="13"/>
                </a:cubicBezTo>
                <a:cubicBezTo>
                  <a:pt x="356" y="11"/>
                  <a:pt x="342" y="11"/>
                  <a:pt x="329" y="11"/>
                </a:cubicBezTo>
                <a:cubicBezTo>
                  <a:pt x="328" y="11"/>
                  <a:pt x="328" y="11"/>
                  <a:pt x="328" y="11"/>
                </a:cubicBezTo>
                <a:cubicBezTo>
                  <a:pt x="325" y="11"/>
                  <a:pt x="323" y="8"/>
                  <a:pt x="323" y="5"/>
                </a:cubicBezTo>
                <a:cubicBezTo>
                  <a:pt x="323" y="2"/>
                  <a:pt x="325" y="0"/>
                  <a:pt x="328" y="0"/>
                </a:cubicBezTo>
                <a:cubicBezTo>
                  <a:pt x="329" y="0"/>
                  <a:pt x="329" y="0"/>
                  <a:pt x="329" y="0"/>
                </a:cubicBezTo>
                <a:cubicBezTo>
                  <a:pt x="343" y="0"/>
                  <a:pt x="357" y="1"/>
                  <a:pt x="371" y="3"/>
                </a:cubicBezTo>
                <a:cubicBezTo>
                  <a:pt x="374" y="3"/>
                  <a:pt x="376" y="6"/>
                  <a:pt x="376" y="9"/>
                </a:cubicBezTo>
                <a:cubicBezTo>
                  <a:pt x="375" y="11"/>
                  <a:pt x="373" y="13"/>
                  <a:pt x="370" y="13"/>
                </a:cubicBezTo>
                <a:close/>
              </a:path>
            </a:pathLst>
          </a:custGeom>
          <a:solidFill>
            <a:srgbClr val="f15a25"/>
          </a:solidFill>
          <a:ln w="9360">
            <a:solidFill>
              <a:srgbClr val="f15a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Freeform 8"/>
          <p:cNvSpPr/>
          <p:nvPr/>
        </p:nvSpPr>
        <p:spPr>
          <a:xfrm>
            <a:off x="6399360" y="1898640"/>
            <a:ext cx="2011320" cy="2011320"/>
          </a:xfrm>
          <a:custGeom>
            <a:avLst/>
            <a:gdLst/>
            <a:ahLst/>
            <a:rect l="l" t="t" r="r" b="b"/>
            <a:pathLst>
              <a:path w="657" h="657">
                <a:moveTo>
                  <a:pt x="329" y="657"/>
                </a:moveTo>
                <a:cubicBezTo>
                  <a:pt x="329" y="657"/>
                  <a:pt x="329" y="657"/>
                  <a:pt x="329" y="657"/>
                </a:cubicBezTo>
                <a:cubicBezTo>
                  <a:pt x="314" y="657"/>
                  <a:pt x="300" y="656"/>
                  <a:pt x="286" y="654"/>
                </a:cubicBezTo>
                <a:cubicBezTo>
                  <a:pt x="283" y="654"/>
                  <a:pt x="281" y="651"/>
                  <a:pt x="281" y="648"/>
                </a:cubicBezTo>
                <a:cubicBezTo>
                  <a:pt x="282" y="646"/>
                  <a:pt x="284" y="643"/>
                  <a:pt x="287" y="644"/>
                </a:cubicBezTo>
                <a:cubicBezTo>
                  <a:pt x="301" y="646"/>
                  <a:pt x="315" y="646"/>
                  <a:pt x="329" y="646"/>
                </a:cubicBezTo>
                <a:cubicBezTo>
                  <a:pt x="332" y="646"/>
                  <a:pt x="334" y="649"/>
                  <a:pt x="334" y="652"/>
                </a:cubicBezTo>
                <a:cubicBezTo>
                  <a:pt x="334" y="655"/>
                  <a:pt x="332" y="657"/>
                  <a:pt x="329" y="657"/>
                </a:cubicBezTo>
                <a:close/>
                <a:moveTo>
                  <a:pt x="371" y="654"/>
                </a:moveTo>
                <a:cubicBezTo>
                  <a:pt x="368" y="654"/>
                  <a:pt x="366" y="652"/>
                  <a:pt x="366" y="650"/>
                </a:cubicBezTo>
                <a:cubicBezTo>
                  <a:pt x="365" y="647"/>
                  <a:pt x="367" y="644"/>
                  <a:pt x="370" y="644"/>
                </a:cubicBezTo>
                <a:cubicBezTo>
                  <a:pt x="384" y="642"/>
                  <a:pt x="398" y="639"/>
                  <a:pt x="411" y="636"/>
                </a:cubicBezTo>
                <a:cubicBezTo>
                  <a:pt x="414" y="635"/>
                  <a:pt x="417" y="637"/>
                  <a:pt x="418" y="639"/>
                </a:cubicBezTo>
                <a:cubicBezTo>
                  <a:pt x="418" y="642"/>
                  <a:pt x="417" y="645"/>
                  <a:pt x="414" y="646"/>
                </a:cubicBezTo>
                <a:cubicBezTo>
                  <a:pt x="400" y="650"/>
                  <a:pt x="386" y="652"/>
                  <a:pt x="372" y="654"/>
                </a:cubicBezTo>
                <a:lnTo>
                  <a:pt x="371" y="654"/>
                </a:lnTo>
                <a:close/>
                <a:moveTo>
                  <a:pt x="245" y="646"/>
                </a:moveTo>
                <a:cubicBezTo>
                  <a:pt x="245" y="646"/>
                  <a:pt x="244" y="646"/>
                  <a:pt x="244" y="646"/>
                </a:cubicBezTo>
                <a:cubicBezTo>
                  <a:pt x="230" y="642"/>
                  <a:pt x="216" y="638"/>
                  <a:pt x="203" y="632"/>
                </a:cubicBezTo>
                <a:cubicBezTo>
                  <a:pt x="200" y="631"/>
                  <a:pt x="199" y="628"/>
                  <a:pt x="200" y="625"/>
                </a:cubicBezTo>
                <a:cubicBezTo>
                  <a:pt x="201" y="623"/>
                  <a:pt x="204" y="621"/>
                  <a:pt x="207" y="622"/>
                </a:cubicBezTo>
                <a:cubicBezTo>
                  <a:pt x="220" y="628"/>
                  <a:pt x="233" y="632"/>
                  <a:pt x="247" y="636"/>
                </a:cubicBezTo>
                <a:cubicBezTo>
                  <a:pt x="249" y="637"/>
                  <a:pt x="251" y="639"/>
                  <a:pt x="250" y="642"/>
                </a:cubicBezTo>
                <a:cubicBezTo>
                  <a:pt x="250" y="645"/>
                  <a:pt x="248" y="646"/>
                  <a:pt x="245" y="646"/>
                </a:cubicBezTo>
                <a:close/>
                <a:moveTo>
                  <a:pt x="453" y="633"/>
                </a:moveTo>
                <a:cubicBezTo>
                  <a:pt x="450" y="633"/>
                  <a:pt x="449" y="631"/>
                  <a:pt x="448" y="629"/>
                </a:cubicBezTo>
                <a:cubicBezTo>
                  <a:pt x="447" y="627"/>
                  <a:pt x="448" y="623"/>
                  <a:pt x="451" y="622"/>
                </a:cubicBezTo>
                <a:cubicBezTo>
                  <a:pt x="463" y="617"/>
                  <a:pt x="476" y="611"/>
                  <a:pt x="488" y="604"/>
                </a:cubicBezTo>
                <a:cubicBezTo>
                  <a:pt x="490" y="602"/>
                  <a:pt x="494" y="603"/>
                  <a:pt x="495" y="606"/>
                </a:cubicBezTo>
                <a:cubicBezTo>
                  <a:pt x="496" y="608"/>
                  <a:pt x="496" y="612"/>
                  <a:pt x="493" y="613"/>
                </a:cubicBezTo>
                <a:cubicBezTo>
                  <a:pt x="481" y="620"/>
                  <a:pt x="468" y="627"/>
                  <a:pt x="455" y="632"/>
                </a:cubicBezTo>
                <a:cubicBezTo>
                  <a:pt x="454" y="632"/>
                  <a:pt x="453" y="633"/>
                  <a:pt x="453" y="633"/>
                </a:cubicBezTo>
                <a:close/>
                <a:moveTo>
                  <a:pt x="167" y="614"/>
                </a:moveTo>
                <a:cubicBezTo>
                  <a:pt x="166" y="614"/>
                  <a:pt x="165" y="614"/>
                  <a:pt x="165" y="613"/>
                </a:cubicBezTo>
                <a:cubicBezTo>
                  <a:pt x="152" y="606"/>
                  <a:pt x="140" y="598"/>
                  <a:pt x="129" y="589"/>
                </a:cubicBezTo>
                <a:cubicBezTo>
                  <a:pt x="127" y="588"/>
                  <a:pt x="126" y="584"/>
                  <a:pt x="128" y="582"/>
                </a:cubicBezTo>
                <a:cubicBezTo>
                  <a:pt x="130" y="580"/>
                  <a:pt x="133" y="579"/>
                  <a:pt x="135" y="581"/>
                </a:cubicBezTo>
                <a:cubicBezTo>
                  <a:pt x="146" y="589"/>
                  <a:pt x="158" y="597"/>
                  <a:pt x="170" y="604"/>
                </a:cubicBezTo>
                <a:cubicBezTo>
                  <a:pt x="172" y="606"/>
                  <a:pt x="173" y="609"/>
                  <a:pt x="172" y="611"/>
                </a:cubicBezTo>
                <a:cubicBezTo>
                  <a:pt x="171" y="613"/>
                  <a:pt x="169" y="614"/>
                  <a:pt x="167" y="614"/>
                </a:cubicBezTo>
                <a:close/>
                <a:moveTo>
                  <a:pt x="526" y="590"/>
                </a:moveTo>
                <a:cubicBezTo>
                  <a:pt x="524" y="590"/>
                  <a:pt x="522" y="590"/>
                  <a:pt x="521" y="588"/>
                </a:cubicBezTo>
                <a:cubicBezTo>
                  <a:pt x="520" y="586"/>
                  <a:pt x="520" y="583"/>
                  <a:pt x="522" y="581"/>
                </a:cubicBezTo>
                <a:cubicBezTo>
                  <a:pt x="533" y="572"/>
                  <a:pt x="544" y="563"/>
                  <a:pt x="554" y="553"/>
                </a:cubicBezTo>
                <a:cubicBezTo>
                  <a:pt x="556" y="551"/>
                  <a:pt x="559" y="551"/>
                  <a:pt x="561" y="553"/>
                </a:cubicBezTo>
                <a:cubicBezTo>
                  <a:pt x="563" y="555"/>
                  <a:pt x="563" y="559"/>
                  <a:pt x="561" y="561"/>
                </a:cubicBezTo>
                <a:cubicBezTo>
                  <a:pt x="551" y="571"/>
                  <a:pt x="540" y="580"/>
                  <a:pt x="529" y="589"/>
                </a:cubicBezTo>
                <a:cubicBezTo>
                  <a:pt x="528" y="590"/>
                  <a:pt x="527" y="590"/>
                  <a:pt x="526" y="590"/>
                </a:cubicBezTo>
                <a:close/>
                <a:moveTo>
                  <a:pt x="100" y="563"/>
                </a:moveTo>
                <a:cubicBezTo>
                  <a:pt x="99" y="563"/>
                  <a:pt x="98" y="562"/>
                  <a:pt x="97" y="561"/>
                </a:cubicBezTo>
                <a:cubicBezTo>
                  <a:pt x="86" y="551"/>
                  <a:pt x="77" y="540"/>
                  <a:pt x="68" y="529"/>
                </a:cubicBezTo>
                <a:cubicBezTo>
                  <a:pt x="66" y="526"/>
                  <a:pt x="67" y="523"/>
                  <a:pt x="69" y="521"/>
                </a:cubicBezTo>
                <a:cubicBezTo>
                  <a:pt x="71" y="520"/>
                  <a:pt x="75" y="520"/>
                  <a:pt x="77" y="522"/>
                </a:cubicBezTo>
                <a:cubicBezTo>
                  <a:pt x="85" y="533"/>
                  <a:pt x="94" y="544"/>
                  <a:pt x="104" y="554"/>
                </a:cubicBezTo>
                <a:cubicBezTo>
                  <a:pt x="106" y="556"/>
                  <a:pt x="106" y="559"/>
                  <a:pt x="104" y="561"/>
                </a:cubicBezTo>
                <a:cubicBezTo>
                  <a:pt x="103" y="562"/>
                  <a:pt x="102" y="563"/>
                  <a:pt x="100" y="563"/>
                </a:cubicBezTo>
                <a:close/>
                <a:moveTo>
                  <a:pt x="585" y="531"/>
                </a:moveTo>
                <a:cubicBezTo>
                  <a:pt x="584" y="531"/>
                  <a:pt x="583" y="530"/>
                  <a:pt x="582" y="529"/>
                </a:cubicBezTo>
                <a:cubicBezTo>
                  <a:pt x="580" y="528"/>
                  <a:pt x="579" y="524"/>
                  <a:pt x="581" y="522"/>
                </a:cubicBezTo>
                <a:cubicBezTo>
                  <a:pt x="589" y="511"/>
                  <a:pt x="597" y="499"/>
                  <a:pt x="604" y="488"/>
                </a:cubicBezTo>
                <a:cubicBezTo>
                  <a:pt x="606" y="485"/>
                  <a:pt x="609" y="484"/>
                  <a:pt x="611" y="486"/>
                </a:cubicBezTo>
                <a:cubicBezTo>
                  <a:pt x="614" y="487"/>
                  <a:pt x="615" y="490"/>
                  <a:pt x="613" y="493"/>
                </a:cubicBezTo>
                <a:cubicBezTo>
                  <a:pt x="606" y="505"/>
                  <a:pt x="598" y="517"/>
                  <a:pt x="589" y="529"/>
                </a:cubicBezTo>
                <a:cubicBezTo>
                  <a:pt x="588" y="530"/>
                  <a:pt x="587" y="531"/>
                  <a:pt x="585" y="531"/>
                </a:cubicBezTo>
                <a:close/>
                <a:moveTo>
                  <a:pt x="49" y="496"/>
                </a:moveTo>
                <a:cubicBezTo>
                  <a:pt x="47" y="496"/>
                  <a:pt x="45" y="495"/>
                  <a:pt x="44" y="493"/>
                </a:cubicBezTo>
                <a:cubicBezTo>
                  <a:pt x="37" y="481"/>
                  <a:pt x="31" y="468"/>
                  <a:pt x="25" y="455"/>
                </a:cubicBezTo>
                <a:cubicBezTo>
                  <a:pt x="24" y="452"/>
                  <a:pt x="25" y="449"/>
                  <a:pt x="28" y="448"/>
                </a:cubicBezTo>
                <a:cubicBezTo>
                  <a:pt x="31" y="447"/>
                  <a:pt x="34" y="448"/>
                  <a:pt x="35" y="451"/>
                </a:cubicBezTo>
                <a:cubicBezTo>
                  <a:pt x="40" y="463"/>
                  <a:pt x="46" y="476"/>
                  <a:pt x="53" y="488"/>
                </a:cubicBezTo>
                <a:cubicBezTo>
                  <a:pt x="55" y="490"/>
                  <a:pt x="54" y="494"/>
                  <a:pt x="51" y="495"/>
                </a:cubicBezTo>
                <a:cubicBezTo>
                  <a:pt x="51" y="495"/>
                  <a:pt x="50" y="496"/>
                  <a:pt x="49" y="496"/>
                </a:cubicBezTo>
                <a:close/>
                <a:moveTo>
                  <a:pt x="627" y="458"/>
                </a:moveTo>
                <a:cubicBezTo>
                  <a:pt x="627" y="458"/>
                  <a:pt x="626" y="457"/>
                  <a:pt x="625" y="457"/>
                </a:cubicBezTo>
                <a:cubicBezTo>
                  <a:pt x="623" y="456"/>
                  <a:pt x="621" y="453"/>
                  <a:pt x="623" y="450"/>
                </a:cubicBezTo>
                <a:cubicBezTo>
                  <a:pt x="628" y="437"/>
                  <a:pt x="632" y="424"/>
                  <a:pt x="636" y="411"/>
                </a:cubicBezTo>
                <a:cubicBezTo>
                  <a:pt x="637" y="408"/>
                  <a:pt x="640" y="406"/>
                  <a:pt x="642" y="407"/>
                </a:cubicBezTo>
                <a:cubicBezTo>
                  <a:pt x="645" y="408"/>
                  <a:pt x="647" y="411"/>
                  <a:pt x="646" y="414"/>
                </a:cubicBezTo>
                <a:cubicBezTo>
                  <a:pt x="642" y="427"/>
                  <a:pt x="638" y="441"/>
                  <a:pt x="632" y="454"/>
                </a:cubicBezTo>
                <a:cubicBezTo>
                  <a:pt x="631" y="456"/>
                  <a:pt x="630" y="458"/>
                  <a:pt x="627" y="458"/>
                </a:cubicBezTo>
                <a:close/>
                <a:moveTo>
                  <a:pt x="16" y="418"/>
                </a:moveTo>
                <a:cubicBezTo>
                  <a:pt x="14" y="418"/>
                  <a:pt x="12" y="416"/>
                  <a:pt x="11" y="414"/>
                </a:cubicBezTo>
                <a:cubicBezTo>
                  <a:pt x="8" y="400"/>
                  <a:pt x="5" y="386"/>
                  <a:pt x="3" y="372"/>
                </a:cubicBezTo>
                <a:cubicBezTo>
                  <a:pt x="3" y="369"/>
                  <a:pt x="5" y="366"/>
                  <a:pt x="8" y="366"/>
                </a:cubicBezTo>
                <a:cubicBezTo>
                  <a:pt x="10" y="365"/>
                  <a:pt x="13" y="367"/>
                  <a:pt x="13" y="370"/>
                </a:cubicBezTo>
                <a:cubicBezTo>
                  <a:pt x="15" y="384"/>
                  <a:pt x="18" y="398"/>
                  <a:pt x="22" y="411"/>
                </a:cubicBezTo>
                <a:cubicBezTo>
                  <a:pt x="22" y="414"/>
                  <a:pt x="21" y="417"/>
                  <a:pt x="18" y="418"/>
                </a:cubicBezTo>
                <a:cubicBezTo>
                  <a:pt x="17" y="418"/>
                  <a:pt x="17" y="418"/>
                  <a:pt x="16" y="418"/>
                </a:cubicBezTo>
                <a:close/>
                <a:moveTo>
                  <a:pt x="649" y="376"/>
                </a:moveTo>
                <a:cubicBezTo>
                  <a:pt x="649" y="376"/>
                  <a:pt x="649" y="376"/>
                  <a:pt x="649" y="376"/>
                </a:cubicBezTo>
                <a:cubicBezTo>
                  <a:pt x="646" y="376"/>
                  <a:pt x="644" y="373"/>
                  <a:pt x="644" y="370"/>
                </a:cubicBezTo>
                <a:cubicBezTo>
                  <a:pt x="646" y="356"/>
                  <a:pt x="647" y="342"/>
                  <a:pt x="647" y="329"/>
                </a:cubicBezTo>
                <a:cubicBezTo>
                  <a:pt x="647" y="328"/>
                  <a:pt x="647" y="328"/>
                  <a:pt x="647" y="328"/>
                </a:cubicBezTo>
                <a:cubicBezTo>
                  <a:pt x="647" y="325"/>
                  <a:pt x="649" y="322"/>
                  <a:pt x="652" y="322"/>
                </a:cubicBezTo>
                <a:cubicBezTo>
                  <a:pt x="655" y="322"/>
                  <a:pt x="657" y="325"/>
                  <a:pt x="657" y="328"/>
                </a:cubicBezTo>
                <a:cubicBezTo>
                  <a:pt x="657" y="329"/>
                  <a:pt x="657" y="329"/>
                  <a:pt x="657" y="329"/>
                </a:cubicBezTo>
                <a:cubicBezTo>
                  <a:pt x="657" y="343"/>
                  <a:pt x="656" y="357"/>
                  <a:pt x="654" y="371"/>
                </a:cubicBezTo>
                <a:cubicBezTo>
                  <a:pt x="654" y="374"/>
                  <a:pt x="652" y="376"/>
                  <a:pt x="649" y="376"/>
                </a:cubicBezTo>
                <a:close/>
                <a:moveTo>
                  <a:pt x="5" y="334"/>
                </a:moveTo>
                <a:cubicBezTo>
                  <a:pt x="2" y="334"/>
                  <a:pt x="0" y="332"/>
                  <a:pt x="0" y="329"/>
                </a:cubicBezTo>
                <a:cubicBezTo>
                  <a:pt x="0" y="329"/>
                  <a:pt x="0" y="329"/>
                  <a:pt x="0" y="329"/>
                </a:cubicBezTo>
                <a:cubicBezTo>
                  <a:pt x="0" y="314"/>
                  <a:pt x="1" y="300"/>
                  <a:pt x="3" y="286"/>
                </a:cubicBezTo>
                <a:cubicBezTo>
                  <a:pt x="3" y="283"/>
                  <a:pt x="6" y="281"/>
                  <a:pt x="9" y="281"/>
                </a:cubicBezTo>
                <a:cubicBezTo>
                  <a:pt x="12" y="282"/>
                  <a:pt x="14" y="284"/>
                  <a:pt x="13" y="287"/>
                </a:cubicBezTo>
                <a:cubicBezTo>
                  <a:pt x="12" y="301"/>
                  <a:pt x="11" y="315"/>
                  <a:pt x="11" y="329"/>
                </a:cubicBezTo>
                <a:cubicBezTo>
                  <a:pt x="11" y="329"/>
                  <a:pt x="11" y="329"/>
                  <a:pt x="11" y="329"/>
                </a:cubicBezTo>
                <a:cubicBezTo>
                  <a:pt x="11" y="332"/>
                  <a:pt x="8" y="334"/>
                  <a:pt x="5" y="334"/>
                </a:cubicBezTo>
                <a:close/>
                <a:moveTo>
                  <a:pt x="649" y="291"/>
                </a:moveTo>
                <a:cubicBezTo>
                  <a:pt x="647" y="291"/>
                  <a:pt x="644" y="289"/>
                  <a:pt x="644" y="286"/>
                </a:cubicBezTo>
                <a:cubicBezTo>
                  <a:pt x="642" y="273"/>
                  <a:pt x="639" y="259"/>
                  <a:pt x="636" y="246"/>
                </a:cubicBezTo>
                <a:cubicBezTo>
                  <a:pt x="635" y="243"/>
                  <a:pt x="637" y="240"/>
                  <a:pt x="639" y="239"/>
                </a:cubicBezTo>
                <a:cubicBezTo>
                  <a:pt x="642" y="238"/>
                  <a:pt x="645" y="240"/>
                  <a:pt x="646" y="243"/>
                </a:cubicBezTo>
                <a:cubicBezTo>
                  <a:pt x="650" y="257"/>
                  <a:pt x="652" y="271"/>
                  <a:pt x="654" y="285"/>
                </a:cubicBezTo>
                <a:cubicBezTo>
                  <a:pt x="655" y="288"/>
                  <a:pt x="653" y="290"/>
                  <a:pt x="650" y="291"/>
                </a:cubicBezTo>
                <a:lnTo>
                  <a:pt x="649" y="291"/>
                </a:lnTo>
                <a:close/>
                <a:moveTo>
                  <a:pt x="16" y="251"/>
                </a:moveTo>
                <a:cubicBezTo>
                  <a:pt x="16" y="251"/>
                  <a:pt x="15" y="250"/>
                  <a:pt x="15" y="250"/>
                </a:cubicBezTo>
                <a:cubicBezTo>
                  <a:pt x="12" y="250"/>
                  <a:pt x="10" y="247"/>
                  <a:pt x="11" y="244"/>
                </a:cubicBezTo>
                <a:cubicBezTo>
                  <a:pt x="15" y="230"/>
                  <a:pt x="19" y="216"/>
                  <a:pt x="25" y="203"/>
                </a:cubicBezTo>
                <a:cubicBezTo>
                  <a:pt x="26" y="200"/>
                  <a:pt x="29" y="199"/>
                  <a:pt x="32" y="200"/>
                </a:cubicBezTo>
                <a:cubicBezTo>
                  <a:pt x="35" y="201"/>
                  <a:pt x="36" y="204"/>
                  <a:pt x="35" y="207"/>
                </a:cubicBezTo>
                <a:cubicBezTo>
                  <a:pt x="29" y="220"/>
                  <a:pt x="25" y="233"/>
                  <a:pt x="21" y="247"/>
                </a:cubicBezTo>
                <a:cubicBezTo>
                  <a:pt x="21" y="249"/>
                  <a:pt x="19" y="251"/>
                  <a:pt x="16" y="251"/>
                </a:cubicBezTo>
                <a:close/>
                <a:moveTo>
                  <a:pt x="627" y="209"/>
                </a:moveTo>
                <a:cubicBezTo>
                  <a:pt x="625" y="209"/>
                  <a:pt x="623" y="208"/>
                  <a:pt x="622" y="206"/>
                </a:cubicBezTo>
                <a:cubicBezTo>
                  <a:pt x="617" y="193"/>
                  <a:pt x="611" y="181"/>
                  <a:pt x="604" y="169"/>
                </a:cubicBezTo>
                <a:cubicBezTo>
                  <a:pt x="602" y="166"/>
                  <a:pt x="603" y="163"/>
                  <a:pt x="606" y="162"/>
                </a:cubicBezTo>
                <a:cubicBezTo>
                  <a:pt x="608" y="160"/>
                  <a:pt x="611" y="161"/>
                  <a:pt x="613" y="164"/>
                </a:cubicBezTo>
                <a:cubicBezTo>
                  <a:pt x="620" y="176"/>
                  <a:pt x="627" y="189"/>
                  <a:pt x="632" y="202"/>
                </a:cubicBezTo>
                <a:cubicBezTo>
                  <a:pt x="633" y="205"/>
                  <a:pt x="632" y="208"/>
                  <a:pt x="629" y="209"/>
                </a:cubicBezTo>
                <a:cubicBezTo>
                  <a:pt x="629" y="209"/>
                  <a:pt x="628" y="209"/>
                  <a:pt x="627" y="209"/>
                </a:cubicBezTo>
                <a:close/>
                <a:moveTo>
                  <a:pt x="48" y="173"/>
                </a:moveTo>
                <a:cubicBezTo>
                  <a:pt x="48" y="173"/>
                  <a:pt x="47" y="172"/>
                  <a:pt x="46" y="172"/>
                </a:cubicBezTo>
                <a:cubicBezTo>
                  <a:pt x="43" y="170"/>
                  <a:pt x="42" y="167"/>
                  <a:pt x="44" y="165"/>
                </a:cubicBezTo>
                <a:cubicBezTo>
                  <a:pt x="51" y="152"/>
                  <a:pt x="59" y="140"/>
                  <a:pt x="68" y="129"/>
                </a:cubicBezTo>
                <a:cubicBezTo>
                  <a:pt x="70" y="126"/>
                  <a:pt x="73" y="126"/>
                  <a:pt x="75" y="128"/>
                </a:cubicBezTo>
                <a:cubicBezTo>
                  <a:pt x="78" y="130"/>
                  <a:pt x="78" y="133"/>
                  <a:pt x="76" y="135"/>
                </a:cubicBezTo>
                <a:cubicBezTo>
                  <a:pt x="68" y="146"/>
                  <a:pt x="60" y="158"/>
                  <a:pt x="53" y="170"/>
                </a:cubicBezTo>
                <a:cubicBezTo>
                  <a:pt x="52" y="172"/>
                  <a:pt x="50" y="173"/>
                  <a:pt x="48" y="173"/>
                </a:cubicBezTo>
                <a:close/>
                <a:moveTo>
                  <a:pt x="585" y="137"/>
                </a:moveTo>
                <a:cubicBezTo>
                  <a:pt x="583" y="137"/>
                  <a:pt x="582" y="136"/>
                  <a:pt x="581" y="134"/>
                </a:cubicBezTo>
                <a:cubicBezTo>
                  <a:pt x="572" y="124"/>
                  <a:pt x="563" y="113"/>
                  <a:pt x="553" y="103"/>
                </a:cubicBezTo>
                <a:cubicBezTo>
                  <a:pt x="551" y="101"/>
                  <a:pt x="551" y="98"/>
                  <a:pt x="553" y="96"/>
                </a:cubicBezTo>
                <a:cubicBezTo>
                  <a:pt x="555" y="94"/>
                  <a:pt x="559" y="94"/>
                  <a:pt x="561" y="96"/>
                </a:cubicBezTo>
                <a:cubicBezTo>
                  <a:pt x="571" y="106"/>
                  <a:pt x="580" y="117"/>
                  <a:pt x="589" y="128"/>
                </a:cubicBezTo>
                <a:cubicBezTo>
                  <a:pt x="591" y="130"/>
                  <a:pt x="590" y="134"/>
                  <a:pt x="588" y="135"/>
                </a:cubicBezTo>
                <a:cubicBezTo>
                  <a:pt x="587" y="136"/>
                  <a:pt x="586" y="137"/>
                  <a:pt x="585" y="137"/>
                </a:cubicBezTo>
                <a:close/>
                <a:moveTo>
                  <a:pt x="100" y="106"/>
                </a:moveTo>
                <a:cubicBezTo>
                  <a:pt x="98" y="106"/>
                  <a:pt x="97" y="105"/>
                  <a:pt x="96" y="104"/>
                </a:cubicBezTo>
                <a:cubicBezTo>
                  <a:pt x="94" y="102"/>
                  <a:pt x="94" y="99"/>
                  <a:pt x="96" y="96"/>
                </a:cubicBezTo>
                <a:cubicBezTo>
                  <a:pt x="106" y="86"/>
                  <a:pt x="117" y="77"/>
                  <a:pt x="128" y="68"/>
                </a:cubicBezTo>
                <a:cubicBezTo>
                  <a:pt x="131" y="66"/>
                  <a:pt x="134" y="67"/>
                  <a:pt x="136" y="69"/>
                </a:cubicBezTo>
                <a:cubicBezTo>
                  <a:pt x="138" y="71"/>
                  <a:pt x="137" y="75"/>
                  <a:pt x="135" y="76"/>
                </a:cubicBezTo>
                <a:cubicBezTo>
                  <a:pt x="124" y="85"/>
                  <a:pt x="113" y="94"/>
                  <a:pt x="104" y="104"/>
                </a:cubicBezTo>
                <a:cubicBezTo>
                  <a:pt x="103" y="105"/>
                  <a:pt x="101" y="106"/>
                  <a:pt x="100" y="106"/>
                </a:cubicBezTo>
                <a:close/>
                <a:moveTo>
                  <a:pt x="525" y="77"/>
                </a:moveTo>
                <a:cubicBezTo>
                  <a:pt x="524" y="77"/>
                  <a:pt x="523" y="77"/>
                  <a:pt x="522" y="76"/>
                </a:cubicBezTo>
                <a:cubicBezTo>
                  <a:pt x="511" y="67"/>
                  <a:pt x="499" y="60"/>
                  <a:pt x="487" y="53"/>
                </a:cubicBezTo>
                <a:cubicBezTo>
                  <a:pt x="485" y="51"/>
                  <a:pt x="484" y="48"/>
                  <a:pt x="485" y="46"/>
                </a:cubicBezTo>
                <a:cubicBezTo>
                  <a:pt x="487" y="43"/>
                  <a:pt x="490" y="42"/>
                  <a:pt x="492" y="44"/>
                </a:cubicBezTo>
                <a:cubicBezTo>
                  <a:pt x="505" y="51"/>
                  <a:pt x="517" y="59"/>
                  <a:pt x="528" y="67"/>
                </a:cubicBezTo>
                <a:cubicBezTo>
                  <a:pt x="531" y="69"/>
                  <a:pt x="531" y="73"/>
                  <a:pt x="529" y="75"/>
                </a:cubicBezTo>
                <a:cubicBezTo>
                  <a:pt x="528" y="76"/>
                  <a:pt x="527" y="77"/>
                  <a:pt x="525" y="77"/>
                </a:cubicBezTo>
                <a:close/>
                <a:moveTo>
                  <a:pt x="167" y="54"/>
                </a:moveTo>
                <a:cubicBezTo>
                  <a:pt x="165" y="54"/>
                  <a:pt x="163" y="53"/>
                  <a:pt x="162" y="51"/>
                </a:cubicBezTo>
                <a:cubicBezTo>
                  <a:pt x="161" y="49"/>
                  <a:pt x="161" y="46"/>
                  <a:pt x="164" y="44"/>
                </a:cubicBezTo>
                <a:cubicBezTo>
                  <a:pt x="176" y="37"/>
                  <a:pt x="189" y="31"/>
                  <a:pt x="202" y="25"/>
                </a:cubicBezTo>
                <a:cubicBezTo>
                  <a:pt x="205" y="24"/>
                  <a:pt x="208" y="25"/>
                  <a:pt x="209" y="28"/>
                </a:cubicBezTo>
                <a:cubicBezTo>
                  <a:pt x="211" y="31"/>
                  <a:pt x="209" y="34"/>
                  <a:pt x="207" y="35"/>
                </a:cubicBezTo>
                <a:cubicBezTo>
                  <a:pt x="194" y="40"/>
                  <a:pt x="181" y="46"/>
                  <a:pt x="169" y="53"/>
                </a:cubicBezTo>
                <a:cubicBezTo>
                  <a:pt x="168" y="54"/>
                  <a:pt x="168" y="54"/>
                  <a:pt x="167" y="54"/>
                </a:cubicBezTo>
                <a:close/>
                <a:moveTo>
                  <a:pt x="452" y="35"/>
                </a:moveTo>
                <a:cubicBezTo>
                  <a:pt x="451" y="35"/>
                  <a:pt x="451" y="35"/>
                  <a:pt x="450" y="34"/>
                </a:cubicBezTo>
                <a:cubicBezTo>
                  <a:pt x="437" y="29"/>
                  <a:pt x="424" y="25"/>
                  <a:pt x="410" y="21"/>
                </a:cubicBezTo>
                <a:cubicBezTo>
                  <a:pt x="408" y="20"/>
                  <a:pt x="406" y="18"/>
                  <a:pt x="407" y="15"/>
                </a:cubicBezTo>
                <a:cubicBezTo>
                  <a:pt x="407" y="12"/>
                  <a:pt x="410" y="10"/>
                  <a:pt x="413" y="11"/>
                </a:cubicBezTo>
                <a:cubicBezTo>
                  <a:pt x="427" y="15"/>
                  <a:pt x="441" y="19"/>
                  <a:pt x="454" y="25"/>
                </a:cubicBezTo>
                <a:cubicBezTo>
                  <a:pt x="457" y="26"/>
                  <a:pt x="458" y="29"/>
                  <a:pt x="457" y="32"/>
                </a:cubicBezTo>
                <a:cubicBezTo>
                  <a:pt x="456" y="34"/>
                  <a:pt x="454" y="35"/>
                  <a:pt x="452" y="35"/>
                </a:cubicBezTo>
                <a:close/>
                <a:moveTo>
                  <a:pt x="244" y="22"/>
                </a:moveTo>
                <a:cubicBezTo>
                  <a:pt x="242" y="22"/>
                  <a:pt x="240" y="20"/>
                  <a:pt x="239" y="18"/>
                </a:cubicBezTo>
                <a:cubicBezTo>
                  <a:pt x="239" y="15"/>
                  <a:pt x="240" y="12"/>
                  <a:pt x="243" y="11"/>
                </a:cubicBezTo>
                <a:cubicBezTo>
                  <a:pt x="257" y="8"/>
                  <a:pt x="271" y="5"/>
                  <a:pt x="285" y="3"/>
                </a:cubicBezTo>
                <a:cubicBezTo>
                  <a:pt x="288" y="2"/>
                  <a:pt x="291" y="4"/>
                  <a:pt x="291" y="7"/>
                </a:cubicBezTo>
                <a:cubicBezTo>
                  <a:pt x="292" y="10"/>
                  <a:pt x="290" y="13"/>
                  <a:pt x="287" y="13"/>
                </a:cubicBezTo>
                <a:cubicBezTo>
                  <a:pt x="273" y="15"/>
                  <a:pt x="259" y="18"/>
                  <a:pt x="246" y="21"/>
                </a:cubicBezTo>
                <a:cubicBezTo>
                  <a:pt x="245" y="22"/>
                  <a:pt x="245" y="22"/>
                  <a:pt x="244" y="22"/>
                </a:cubicBezTo>
                <a:close/>
                <a:moveTo>
                  <a:pt x="370" y="13"/>
                </a:moveTo>
                <a:cubicBezTo>
                  <a:pt x="370" y="13"/>
                  <a:pt x="370" y="13"/>
                  <a:pt x="370" y="13"/>
                </a:cubicBezTo>
                <a:cubicBezTo>
                  <a:pt x="356" y="11"/>
                  <a:pt x="342" y="11"/>
                  <a:pt x="329" y="11"/>
                </a:cubicBezTo>
                <a:cubicBezTo>
                  <a:pt x="328" y="11"/>
                  <a:pt x="328" y="11"/>
                  <a:pt x="328" y="11"/>
                </a:cubicBezTo>
                <a:cubicBezTo>
                  <a:pt x="325" y="11"/>
                  <a:pt x="323" y="8"/>
                  <a:pt x="323" y="5"/>
                </a:cubicBezTo>
                <a:cubicBezTo>
                  <a:pt x="323" y="2"/>
                  <a:pt x="325" y="0"/>
                  <a:pt x="328" y="0"/>
                </a:cubicBezTo>
                <a:cubicBezTo>
                  <a:pt x="329" y="0"/>
                  <a:pt x="329" y="0"/>
                  <a:pt x="329" y="0"/>
                </a:cubicBezTo>
                <a:cubicBezTo>
                  <a:pt x="343" y="0"/>
                  <a:pt x="357" y="1"/>
                  <a:pt x="371" y="3"/>
                </a:cubicBezTo>
                <a:cubicBezTo>
                  <a:pt x="374" y="3"/>
                  <a:pt x="376" y="6"/>
                  <a:pt x="376" y="9"/>
                </a:cubicBezTo>
                <a:cubicBezTo>
                  <a:pt x="375" y="11"/>
                  <a:pt x="373" y="13"/>
                  <a:pt x="370" y="13"/>
                </a:cubicBezTo>
                <a:close/>
              </a:path>
            </a:pathLst>
          </a:custGeom>
          <a:solidFill>
            <a:srgbClr val="f15a25"/>
          </a:solidFill>
          <a:ln w="9360">
            <a:solidFill>
              <a:srgbClr val="f15a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8"/>
          <p:cNvSpPr/>
          <p:nvPr/>
        </p:nvSpPr>
        <p:spPr>
          <a:xfrm>
            <a:off x="8907480" y="1897200"/>
            <a:ext cx="2011320" cy="2011320"/>
          </a:xfrm>
          <a:custGeom>
            <a:avLst/>
            <a:gdLst/>
            <a:ahLst/>
            <a:rect l="l" t="t" r="r" b="b"/>
            <a:pathLst>
              <a:path w="657" h="657">
                <a:moveTo>
                  <a:pt x="329" y="657"/>
                </a:moveTo>
                <a:cubicBezTo>
                  <a:pt x="329" y="657"/>
                  <a:pt x="329" y="657"/>
                  <a:pt x="329" y="657"/>
                </a:cubicBezTo>
                <a:cubicBezTo>
                  <a:pt x="314" y="657"/>
                  <a:pt x="300" y="656"/>
                  <a:pt x="286" y="654"/>
                </a:cubicBezTo>
                <a:cubicBezTo>
                  <a:pt x="283" y="654"/>
                  <a:pt x="281" y="651"/>
                  <a:pt x="281" y="648"/>
                </a:cubicBezTo>
                <a:cubicBezTo>
                  <a:pt x="282" y="646"/>
                  <a:pt x="284" y="643"/>
                  <a:pt x="287" y="644"/>
                </a:cubicBezTo>
                <a:cubicBezTo>
                  <a:pt x="301" y="646"/>
                  <a:pt x="315" y="646"/>
                  <a:pt x="329" y="646"/>
                </a:cubicBezTo>
                <a:cubicBezTo>
                  <a:pt x="332" y="646"/>
                  <a:pt x="334" y="649"/>
                  <a:pt x="334" y="652"/>
                </a:cubicBezTo>
                <a:cubicBezTo>
                  <a:pt x="334" y="655"/>
                  <a:pt x="332" y="657"/>
                  <a:pt x="329" y="657"/>
                </a:cubicBezTo>
                <a:close/>
                <a:moveTo>
                  <a:pt x="371" y="654"/>
                </a:moveTo>
                <a:cubicBezTo>
                  <a:pt x="368" y="654"/>
                  <a:pt x="366" y="652"/>
                  <a:pt x="366" y="650"/>
                </a:cubicBezTo>
                <a:cubicBezTo>
                  <a:pt x="365" y="647"/>
                  <a:pt x="367" y="644"/>
                  <a:pt x="370" y="644"/>
                </a:cubicBezTo>
                <a:cubicBezTo>
                  <a:pt x="384" y="642"/>
                  <a:pt x="398" y="639"/>
                  <a:pt x="411" y="636"/>
                </a:cubicBezTo>
                <a:cubicBezTo>
                  <a:pt x="414" y="635"/>
                  <a:pt x="417" y="637"/>
                  <a:pt x="418" y="639"/>
                </a:cubicBezTo>
                <a:cubicBezTo>
                  <a:pt x="418" y="642"/>
                  <a:pt x="417" y="645"/>
                  <a:pt x="414" y="646"/>
                </a:cubicBezTo>
                <a:cubicBezTo>
                  <a:pt x="400" y="650"/>
                  <a:pt x="386" y="652"/>
                  <a:pt x="372" y="654"/>
                </a:cubicBezTo>
                <a:lnTo>
                  <a:pt x="371" y="654"/>
                </a:lnTo>
                <a:close/>
                <a:moveTo>
                  <a:pt x="245" y="646"/>
                </a:moveTo>
                <a:cubicBezTo>
                  <a:pt x="245" y="646"/>
                  <a:pt x="244" y="646"/>
                  <a:pt x="244" y="646"/>
                </a:cubicBezTo>
                <a:cubicBezTo>
                  <a:pt x="230" y="642"/>
                  <a:pt x="216" y="638"/>
                  <a:pt x="203" y="632"/>
                </a:cubicBezTo>
                <a:cubicBezTo>
                  <a:pt x="200" y="631"/>
                  <a:pt x="199" y="628"/>
                  <a:pt x="200" y="625"/>
                </a:cubicBezTo>
                <a:cubicBezTo>
                  <a:pt x="201" y="623"/>
                  <a:pt x="204" y="621"/>
                  <a:pt x="207" y="622"/>
                </a:cubicBezTo>
                <a:cubicBezTo>
                  <a:pt x="220" y="628"/>
                  <a:pt x="233" y="632"/>
                  <a:pt x="247" y="636"/>
                </a:cubicBezTo>
                <a:cubicBezTo>
                  <a:pt x="249" y="637"/>
                  <a:pt x="251" y="639"/>
                  <a:pt x="250" y="642"/>
                </a:cubicBezTo>
                <a:cubicBezTo>
                  <a:pt x="250" y="645"/>
                  <a:pt x="248" y="646"/>
                  <a:pt x="245" y="646"/>
                </a:cubicBezTo>
                <a:close/>
                <a:moveTo>
                  <a:pt x="453" y="633"/>
                </a:moveTo>
                <a:cubicBezTo>
                  <a:pt x="450" y="633"/>
                  <a:pt x="449" y="631"/>
                  <a:pt x="448" y="629"/>
                </a:cubicBezTo>
                <a:cubicBezTo>
                  <a:pt x="447" y="627"/>
                  <a:pt x="448" y="623"/>
                  <a:pt x="451" y="622"/>
                </a:cubicBezTo>
                <a:cubicBezTo>
                  <a:pt x="463" y="617"/>
                  <a:pt x="476" y="611"/>
                  <a:pt x="488" y="604"/>
                </a:cubicBezTo>
                <a:cubicBezTo>
                  <a:pt x="490" y="602"/>
                  <a:pt x="494" y="603"/>
                  <a:pt x="495" y="606"/>
                </a:cubicBezTo>
                <a:cubicBezTo>
                  <a:pt x="496" y="608"/>
                  <a:pt x="496" y="612"/>
                  <a:pt x="493" y="613"/>
                </a:cubicBezTo>
                <a:cubicBezTo>
                  <a:pt x="481" y="620"/>
                  <a:pt x="468" y="627"/>
                  <a:pt x="455" y="632"/>
                </a:cubicBezTo>
                <a:cubicBezTo>
                  <a:pt x="454" y="632"/>
                  <a:pt x="453" y="633"/>
                  <a:pt x="453" y="633"/>
                </a:cubicBezTo>
                <a:close/>
                <a:moveTo>
                  <a:pt x="167" y="614"/>
                </a:moveTo>
                <a:cubicBezTo>
                  <a:pt x="166" y="614"/>
                  <a:pt x="165" y="614"/>
                  <a:pt x="165" y="613"/>
                </a:cubicBezTo>
                <a:cubicBezTo>
                  <a:pt x="152" y="606"/>
                  <a:pt x="140" y="598"/>
                  <a:pt x="129" y="589"/>
                </a:cubicBezTo>
                <a:cubicBezTo>
                  <a:pt x="127" y="588"/>
                  <a:pt x="126" y="584"/>
                  <a:pt x="128" y="582"/>
                </a:cubicBezTo>
                <a:cubicBezTo>
                  <a:pt x="130" y="580"/>
                  <a:pt x="133" y="579"/>
                  <a:pt x="135" y="581"/>
                </a:cubicBezTo>
                <a:cubicBezTo>
                  <a:pt x="146" y="589"/>
                  <a:pt x="158" y="597"/>
                  <a:pt x="170" y="604"/>
                </a:cubicBezTo>
                <a:cubicBezTo>
                  <a:pt x="172" y="606"/>
                  <a:pt x="173" y="609"/>
                  <a:pt x="172" y="611"/>
                </a:cubicBezTo>
                <a:cubicBezTo>
                  <a:pt x="171" y="613"/>
                  <a:pt x="169" y="614"/>
                  <a:pt x="167" y="614"/>
                </a:cubicBezTo>
                <a:close/>
                <a:moveTo>
                  <a:pt x="526" y="590"/>
                </a:moveTo>
                <a:cubicBezTo>
                  <a:pt x="524" y="590"/>
                  <a:pt x="522" y="590"/>
                  <a:pt x="521" y="588"/>
                </a:cubicBezTo>
                <a:cubicBezTo>
                  <a:pt x="520" y="586"/>
                  <a:pt x="520" y="583"/>
                  <a:pt x="522" y="581"/>
                </a:cubicBezTo>
                <a:cubicBezTo>
                  <a:pt x="533" y="572"/>
                  <a:pt x="544" y="563"/>
                  <a:pt x="554" y="553"/>
                </a:cubicBezTo>
                <a:cubicBezTo>
                  <a:pt x="556" y="551"/>
                  <a:pt x="559" y="551"/>
                  <a:pt x="561" y="553"/>
                </a:cubicBezTo>
                <a:cubicBezTo>
                  <a:pt x="563" y="555"/>
                  <a:pt x="563" y="559"/>
                  <a:pt x="561" y="561"/>
                </a:cubicBezTo>
                <a:cubicBezTo>
                  <a:pt x="551" y="571"/>
                  <a:pt x="540" y="580"/>
                  <a:pt x="529" y="589"/>
                </a:cubicBezTo>
                <a:cubicBezTo>
                  <a:pt x="528" y="590"/>
                  <a:pt x="527" y="590"/>
                  <a:pt x="526" y="590"/>
                </a:cubicBezTo>
                <a:close/>
                <a:moveTo>
                  <a:pt x="100" y="563"/>
                </a:moveTo>
                <a:cubicBezTo>
                  <a:pt x="99" y="563"/>
                  <a:pt x="98" y="562"/>
                  <a:pt x="97" y="561"/>
                </a:cubicBezTo>
                <a:cubicBezTo>
                  <a:pt x="86" y="551"/>
                  <a:pt x="77" y="540"/>
                  <a:pt x="68" y="529"/>
                </a:cubicBezTo>
                <a:cubicBezTo>
                  <a:pt x="66" y="526"/>
                  <a:pt x="67" y="523"/>
                  <a:pt x="69" y="521"/>
                </a:cubicBezTo>
                <a:cubicBezTo>
                  <a:pt x="71" y="520"/>
                  <a:pt x="75" y="520"/>
                  <a:pt x="77" y="522"/>
                </a:cubicBezTo>
                <a:cubicBezTo>
                  <a:pt x="85" y="533"/>
                  <a:pt x="94" y="544"/>
                  <a:pt x="104" y="554"/>
                </a:cubicBezTo>
                <a:cubicBezTo>
                  <a:pt x="106" y="556"/>
                  <a:pt x="106" y="559"/>
                  <a:pt x="104" y="561"/>
                </a:cubicBezTo>
                <a:cubicBezTo>
                  <a:pt x="103" y="562"/>
                  <a:pt x="102" y="563"/>
                  <a:pt x="100" y="563"/>
                </a:cubicBezTo>
                <a:close/>
                <a:moveTo>
                  <a:pt x="585" y="531"/>
                </a:moveTo>
                <a:cubicBezTo>
                  <a:pt x="584" y="531"/>
                  <a:pt x="583" y="530"/>
                  <a:pt x="582" y="529"/>
                </a:cubicBezTo>
                <a:cubicBezTo>
                  <a:pt x="580" y="528"/>
                  <a:pt x="579" y="524"/>
                  <a:pt x="581" y="522"/>
                </a:cubicBezTo>
                <a:cubicBezTo>
                  <a:pt x="589" y="511"/>
                  <a:pt x="597" y="499"/>
                  <a:pt x="604" y="488"/>
                </a:cubicBezTo>
                <a:cubicBezTo>
                  <a:pt x="606" y="485"/>
                  <a:pt x="609" y="484"/>
                  <a:pt x="611" y="486"/>
                </a:cubicBezTo>
                <a:cubicBezTo>
                  <a:pt x="614" y="487"/>
                  <a:pt x="615" y="490"/>
                  <a:pt x="613" y="493"/>
                </a:cubicBezTo>
                <a:cubicBezTo>
                  <a:pt x="606" y="505"/>
                  <a:pt x="598" y="517"/>
                  <a:pt x="589" y="529"/>
                </a:cubicBezTo>
                <a:cubicBezTo>
                  <a:pt x="588" y="530"/>
                  <a:pt x="587" y="531"/>
                  <a:pt x="585" y="531"/>
                </a:cubicBezTo>
                <a:close/>
                <a:moveTo>
                  <a:pt x="49" y="496"/>
                </a:moveTo>
                <a:cubicBezTo>
                  <a:pt x="47" y="496"/>
                  <a:pt x="45" y="495"/>
                  <a:pt x="44" y="493"/>
                </a:cubicBezTo>
                <a:cubicBezTo>
                  <a:pt x="37" y="481"/>
                  <a:pt x="31" y="468"/>
                  <a:pt x="25" y="455"/>
                </a:cubicBezTo>
                <a:cubicBezTo>
                  <a:pt x="24" y="452"/>
                  <a:pt x="25" y="449"/>
                  <a:pt x="28" y="448"/>
                </a:cubicBezTo>
                <a:cubicBezTo>
                  <a:pt x="31" y="447"/>
                  <a:pt x="34" y="448"/>
                  <a:pt x="35" y="451"/>
                </a:cubicBezTo>
                <a:cubicBezTo>
                  <a:pt x="40" y="463"/>
                  <a:pt x="46" y="476"/>
                  <a:pt x="53" y="488"/>
                </a:cubicBezTo>
                <a:cubicBezTo>
                  <a:pt x="55" y="490"/>
                  <a:pt x="54" y="494"/>
                  <a:pt x="51" y="495"/>
                </a:cubicBezTo>
                <a:cubicBezTo>
                  <a:pt x="51" y="495"/>
                  <a:pt x="50" y="496"/>
                  <a:pt x="49" y="496"/>
                </a:cubicBezTo>
                <a:close/>
                <a:moveTo>
                  <a:pt x="627" y="458"/>
                </a:moveTo>
                <a:cubicBezTo>
                  <a:pt x="627" y="458"/>
                  <a:pt x="626" y="457"/>
                  <a:pt x="625" y="457"/>
                </a:cubicBezTo>
                <a:cubicBezTo>
                  <a:pt x="623" y="456"/>
                  <a:pt x="621" y="453"/>
                  <a:pt x="623" y="450"/>
                </a:cubicBezTo>
                <a:cubicBezTo>
                  <a:pt x="628" y="437"/>
                  <a:pt x="632" y="424"/>
                  <a:pt x="636" y="411"/>
                </a:cubicBezTo>
                <a:cubicBezTo>
                  <a:pt x="637" y="408"/>
                  <a:pt x="640" y="406"/>
                  <a:pt x="642" y="407"/>
                </a:cubicBezTo>
                <a:cubicBezTo>
                  <a:pt x="645" y="408"/>
                  <a:pt x="647" y="411"/>
                  <a:pt x="646" y="414"/>
                </a:cubicBezTo>
                <a:cubicBezTo>
                  <a:pt x="642" y="427"/>
                  <a:pt x="638" y="441"/>
                  <a:pt x="632" y="454"/>
                </a:cubicBezTo>
                <a:cubicBezTo>
                  <a:pt x="631" y="456"/>
                  <a:pt x="630" y="458"/>
                  <a:pt x="627" y="458"/>
                </a:cubicBezTo>
                <a:close/>
                <a:moveTo>
                  <a:pt x="16" y="418"/>
                </a:moveTo>
                <a:cubicBezTo>
                  <a:pt x="14" y="418"/>
                  <a:pt x="12" y="416"/>
                  <a:pt x="11" y="414"/>
                </a:cubicBezTo>
                <a:cubicBezTo>
                  <a:pt x="8" y="400"/>
                  <a:pt x="5" y="386"/>
                  <a:pt x="3" y="372"/>
                </a:cubicBezTo>
                <a:cubicBezTo>
                  <a:pt x="3" y="369"/>
                  <a:pt x="5" y="366"/>
                  <a:pt x="8" y="366"/>
                </a:cubicBezTo>
                <a:cubicBezTo>
                  <a:pt x="10" y="365"/>
                  <a:pt x="13" y="367"/>
                  <a:pt x="13" y="370"/>
                </a:cubicBezTo>
                <a:cubicBezTo>
                  <a:pt x="15" y="384"/>
                  <a:pt x="18" y="398"/>
                  <a:pt x="22" y="411"/>
                </a:cubicBezTo>
                <a:cubicBezTo>
                  <a:pt x="22" y="414"/>
                  <a:pt x="21" y="417"/>
                  <a:pt x="18" y="418"/>
                </a:cubicBezTo>
                <a:cubicBezTo>
                  <a:pt x="17" y="418"/>
                  <a:pt x="17" y="418"/>
                  <a:pt x="16" y="418"/>
                </a:cubicBezTo>
                <a:close/>
                <a:moveTo>
                  <a:pt x="649" y="376"/>
                </a:moveTo>
                <a:cubicBezTo>
                  <a:pt x="649" y="376"/>
                  <a:pt x="649" y="376"/>
                  <a:pt x="649" y="376"/>
                </a:cubicBezTo>
                <a:cubicBezTo>
                  <a:pt x="646" y="376"/>
                  <a:pt x="644" y="373"/>
                  <a:pt x="644" y="370"/>
                </a:cubicBezTo>
                <a:cubicBezTo>
                  <a:pt x="646" y="356"/>
                  <a:pt x="647" y="342"/>
                  <a:pt x="647" y="329"/>
                </a:cubicBezTo>
                <a:cubicBezTo>
                  <a:pt x="647" y="328"/>
                  <a:pt x="647" y="328"/>
                  <a:pt x="647" y="328"/>
                </a:cubicBezTo>
                <a:cubicBezTo>
                  <a:pt x="647" y="325"/>
                  <a:pt x="649" y="322"/>
                  <a:pt x="652" y="322"/>
                </a:cubicBezTo>
                <a:cubicBezTo>
                  <a:pt x="655" y="322"/>
                  <a:pt x="657" y="325"/>
                  <a:pt x="657" y="328"/>
                </a:cubicBezTo>
                <a:cubicBezTo>
                  <a:pt x="657" y="329"/>
                  <a:pt x="657" y="329"/>
                  <a:pt x="657" y="329"/>
                </a:cubicBezTo>
                <a:cubicBezTo>
                  <a:pt x="657" y="343"/>
                  <a:pt x="656" y="357"/>
                  <a:pt x="654" y="371"/>
                </a:cubicBezTo>
                <a:cubicBezTo>
                  <a:pt x="654" y="374"/>
                  <a:pt x="652" y="376"/>
                  <a:pt x="649" y="376"/>
                </a:cubicBezTo>
                <a:close/>
                <a:moveTo>
                  <a:pt x="5" y="334"/>
                </a:moveTo>
                <a:cubicBezTo>
                  <a:pt x="2" y="334"/>
                  <a:pt x="0" y="332"/>
                  <a:pt x="0" y="329"/>
                </a:cubicBezTo>
                <a:cubicBezTo>
                  <a:pt x="0" y="329"/>
                  <a:pt x="0" y="329"/>
                  <a:pt x="0" y="329"/>
                </a:cubicBezTo>
                <a:cubicBezTo>
                  <a:pt x="0" y="314"/>
                  <a:pt x="1" y="300"/>
                  <a:pt x="3" y="286"/>
                </a:cubicBezTo>
                <a:cubicBezTo>
                  <a:pt x="3" y="283"/>
                  <a:pt x="6" y="281"/>
                  <a:pt x="9" y="281"/>
                </a:cubicBezTo>
                <a:cubicBezTo>
                  <a:pt x="12" y="282"/>
                  <a:pt x="14" y="284"/>
                  <a:pt x="13" y="287"/>
                </a:cubicBezTo>
                <a:cubicBezTo>
                  <a:pt x="12" y="301"/>
                  <a:pt x="11" y="315"/>
                  <a:pt x="11" y="329"/>
                </a:cubicBezTo>
                <a:cubicBezTo>
                  <a:pt x="11" y="329"/>
                  <a:pt x="11" y="329"/>
                  <a:pt x="11" y="329"/>
                </a:cubicBezTo>
                <a:cubicBezTo>
                  <a:pt x="11" y="332"/>
                  <a:pt x="8" y="334"/>
                  <a:pt x="5" y="334"/>
                </a:cubicBezTo>
                <a:close/>
                <a:moveTo>
                  <a:pt x="649" y="291"/>
                </a:moveTo>
                <a:cubicBezTo>
                  <a:pt x="647" y="291"/>
                  <a:pt x="644" y="289"/>
                  <a:pt x="644" y="286"/>
                </a:cubicBezTo>
                <a:cubicBezTo>
                  <a:pt x="642" y="273"/>
                  <a:pt x="639" y="259"/>
                  <a:pt x="636" y="246"/>
                </a:cubicBezTo>
                <a:cubicBezTo>
                  <a:pt x="635" y="243"/>
                  <a:pt x="637" y="240"/>
                  <a:pt x="639" y="239"/>
                </a:cubicBezTo>
                <a:cubicBezTo>
                  <a:pt x="642" y="238"/>
                  <a:pt x="645" y="240"/>
                  <a:pt x="646" y="243"/>
                </a:cubicBezTo>
                <a:cubicBezTo>
                  <a:pt x="650" y="257"/>
                  <a:pt x="652" y="271"/>
                  <a:pt x="654" y="285"/>
                </a:cubicBezTo>
                <a:cubicBezTo>
                  <a:pt x="655" y="288"/>
                  <a:pt x="653" y="290"/>
                  <a:pt x="650" y="291"/>
                </a:cubicBezTo>
                <a:lnTo>
                  <a:pt x="649" y="291"/>
                </a:lnTo>
                <a:close/>
                <a:moveTo>
                  <a:pt x="16" y="251"/>
                </a:moveTo>
                <a:cubicBezTo>
                  <a:pt x="16" y="251"/>
                  <a:pt x="15" y="250"/>
                  <a:pt x="15" y="250"/>
                </a:cubicBezTo>
                <a:cubicBezTo>
                  <a:pt x="12" y="250"/>
                  <a:pt x="10" y="247"/>
                  <a:pt x="11" y="244"/>
                </a:cubicBezTo>
                <a:cubicBezTo>
                  <a:pt x="15" y="230"/>
                  <a:pt x="19" y="216"/>
                  <a:pt x="25" y="203"/>
                </a:cubicBezTo>
                <a:cubicBezTo>
                  <a:pt x="26" y="200"/>
                  <a:pt x="29" y="199"/>
                  <a:pt x="32" y="200"/>
                </a:cubicBezTo>
                <a:cubicBezTo>
                  <a:pt x="35" y="201"/>
                  <a:pt x="36" y="204"/>
                  <a:pt x="35" y="207"/>
                </a:cubicBezTo>
                <a:cubicBezTo>
                  <a:pt x="29" y="220"/>
                  <a:pt x="25" y="233"/>
                  <a:pt x="21" y="247"/>
                </a:cubicBezTo>
                <a:cubicBezTo>
                  <a:pt x="21" y="249"/>
                  <a:pt x="19" y="251"/>
                  <a:pt x="16" y="251"/>
                </a:cubicBezTo>
                <a:close/>
                <a:moveTo>
                  <a:pt x="627" y="209"/>
                </a:moveTo>
                <a:cubicBezTo>
                  <a:pt x="625" y="209"/>
                  <a:pt x="623" y="208"/>
                  <a:pt x="622" y="206"/>
                </a:cubicBezTo>
                <a:cubicBezTo>
                  <a:pt x="617" y="193"/>
                  <a:pt x="611" y="181"/>
                  <a:pt x="604" y="169"/>
                </a:cubicBezTo>
                <a:cubicBezTo>
                  <a:pt x="602" y="166"/>
                  <a:pt x="603" y="163"/>
                  <a:pt x="606" y="162"/>
                </a:cubicBezTo>
                <a:cubicBezTo>
                  <a:pt x="608" y="160"/>
                  <a:pt x="611" y="161"/>
                  <a:pt x="613" y="164"/>
                </a:cubicBezTo>
                <a:cubicBezTo>
                  <a:pt x="620" y="176"/>
                  <a:pt x="627" y="189"/>
                  <a:pt x="632" y="202"/>
                </a:cubicBezTo>
                <a:cubicBezTo>
                  <a:pt x="633" y="205"/>
                  <a:pt x="632" y="208"/>
                  <a:pt x="629" y="209"/>
                </a:cubicBezTo>
                <a:cubicBezTo>
                  <a:pt x="629" y="209"/>
                  <a:pt x="628" y="209"/>
                  <a:pt x="627" y="209"/>
                </a:cubicBezTo>
                <a:close/>
                <a:moveTo>
                  <a:pt x="48" y="173"/>
                </a:moveTo>
                <a:cubicBezTo>
                  <a:pt x="48" y="173"/>
                  <a:pt x="47" y="172"/>
                  <a:pt x="46" y="172"/>
                </a:cubicBezTo>
                <a:cubicBezTo>
                  <a:pt x="43" y="170"/>
                  <a:pt x="42" y="167"/>
                  <a:pt x="44" y="165"/>
                </a:cubicBezTo>
                <a:cubicBezTo>
                  <a:pt x="51" y="152"/>
                  <a:pt x="59" y="140"/>
                  <a:pt x="68" y="129"/>
                </a:cubicBezTo>
                <a:cubicBezTo>
                  <a:pt x="70" y="126"/>
                  <a:pt x="73" y="126"/>
                  <a:pt x="75" y="128"/>
                </a:cubicBezTo>
                <a:cubicBezTo>
                  <a:pt x="78" y="130"/>
                  <a:pt x="78" y="133"/>
                  <a:pt x="76" y="135"/>
                </a:cubicBezTo>
                <a:cubicBezTo>
                  <a:pt x="68" y="146"/>
                  <a:pt x="60" y="158"/>
                  <a:pt x="53" y="170"/>
                </a:cubicBezTo>
                <a:cubicBezTo>
                  <a:pt x="52" y="172"/>
                  <a:pt x="50" y="173"/>
                  <a:pt x="48" y="173"/>
                </a:cubicBezTo>
                <a:close/>
                <a:moveTo>
                  <a:pt x="585" y="137"/>
                </a:moveTo>
                <a:cubicBezTo>
                  <a:pt x="583" y="137"/>
                  <a:pt x="582" y="136"/>
                  <a:pt x="581" y="134"/>
                </a:cubicBezTo>
                <a:cubicBezTo>
                  <a:pt x="572" y="124"/>
                  <a:pt x="563" y="113"/>
                  <a:pt x="553" y="103"/>
                </a:cubicBezTo>
                <a:cubicBezTo>
                  <a:pt x="551" y="101"/>
                  <a:pt x="551" y="98"/>
                  <a:pt x="553" y="96"/>
                </a:cubicBezTo>
                <a:cubicBezTo>
                  <a:pt x="555" y="94"/>
                  <a:pt x="559" y="94"/>
                  <a:pt x="561" y="96"/>
                </a:cubicBezTo>
                <a:cubicBezTo>
                  <a:pt x="571" y="106"/>
                  <a:pt x="580" y="117"/>
                  <a:pt x="589" y="128"/>
                </a:cubicBezTo>
                <a:cubicBezTo>
                  <a:pt x="591" y="130"/>
                  <a:pt x="590" y="134"/>
                  <a:pt x="588" y="135"/>
                </a:cubicBezTo>
                <a:cubicBezTo>
                  <a:pt x="587" y="136"/>
                  <a:pt x="586" y="137"/>
                  <a:pt x="585" y="137"/>
                </a:cubicBezTo>
                <a:close/>
                <a:moveTo>
                  <a:pt x="100" y="106"/>
                </a:moveTo>
                <a:cubicBezTo>
                  <a:pt x="98" y="106"/>
                  <a:pt x="97" y="105"/>
                  <a:pt x="96" y="104"/>
                </a:cubicBezTo>
                <a:cubicBezTo>
                  <a:pt x="94" y="102"/>
                  <a:pt x="94" y="99"/>
                  <a:pt x="96" y="96"/>
                </a:cubicBezTo>
                <a:cubicBezTo>
                  <a:pt x="106" y="86"/>
                  <a:pt x="117" y="77"/>
                  <a:pt x="128" y="68"/>
                </a:cubicBezTo>
                <a:cubicBezTo>
                  <a:pt x="131" y="66"/>
                  <a:pt x="134" y="67"/>
                  <a:pt x="136" y="69"/>
                </a:cubicBezTo>
                <a:cubicBezTo>
                  <a:pt x="138" y="71"/>
                  <a:pt x="137" y="75"/>
                  <a:pt x="135" y="76"/>
                </a:cubicBezTo>
                <a:cubicBezTo>
                  <a:pt x="124" y="85"/>
                  <a:pt x="113" y="94"/>
                  <a:pt x="104" y="104"/>
                </a:cubicBezTo>
                <a:cubicBezTo>
                  <a:pt x="103" y="105"/>
                  <a:pt x="101" y="106"/>
                  <a:pt x="100" y="106"/>
                </a:cubicBezTo>
                <a:close/>
                <a:moveTo>
                  <a:pt x="525" y="77"/>
                </a:moveTo>
                <a:cubicBezTo>
                  <a:pt x="524" y="77"/>
                  <a:pt x="523" y="77"/>
                  <a:pt x="522" y="76"/>
                </a:cubicBezTo>
                <a:cubicBezTo>
                  <a:pt x="511" y="67"/>
                  <a:pt x="499" y="60"/>
                  <a:pt x="487" y="53"/>
                </a:cubicBezTo>
                <a:cubicBezTo>
                  <a:pt x="485" y="51"/>
                  <a:pt x="484" y="48"/>
                  <a:pt x="485" y="46"/>
                </a:cubicBezTo>
                <a:cubicBezTo>
                  <a:pt x="487" y="43"/>
                  <a:pt x="490" y="42"/>
                  <a:pt x="492" y="44"/>
                </a:cubicBezTo>
                <a:cubicBezTo>
                  <a:pt x="505" y="51"/>
                  <a:pt x="517" y="59"/>
                  <a:pt x="528" y="67"/>
                </a:cubicBezTo>
                <a:cubicBezTo>
                  <a:pt x="531" y="69"/>
                  <a:pt x="531" y="73"/>
                  <a:pt x="529" y="75"/>
                </a:cubicBezTo>
                <a:cubicBezTo>
                  <a:pt x="528" y="76"/>
                  <a:pt x="527" y="77"/>
                  <a:pt x="525" y="77"/>
                </a:cubicBezTo>
                <a:close/>
                <a:moveTo>
                  <a:pt x="167" y="54"/>
                </a:moveTo>
                <a:cubicBezTo>
                  <a:pt x="165" y="54"/>
                  <a:pt x="163" y="53"/>
                  <a:pt x="162" y="51"/>
                </a:cubicBezTo>
                <a:cubicBezTo>
                  <a:pt x="161" y="49"/>
                  <a:pt x="161" y="46"/>
                  <a:pt x="164" y="44"/>
                </a:cubicBezTo>
                <a:cubicBezTo>
                  <a:pt x="176" y="37"/>
                  <a:pt x="189" y="31"/>
                  <a:pt x="202" y="25"/>
                </a:cubicBezTo>
                <a:cubicBezTo>
                  <a:pt x="205" y="24"/>
                  <a:pt x="208" y="25"/>
                  <a:pt x="209" y="28"/>
                </a:cubicBezTo>
                <a:cubicBezTo>
                  <a:pt x="211" y="31"/>
                  <a:pt x="209" y="34"/>
                  <a:pt x="207" y="35"/>
                </a:cubicBezTo>
                <a:cubicBezTo>
                  <a:pt x="194" y="40"/>
                  <a:pt x="181" y="46"/>
                  <a:pt x="169" y="53"/>
                </a:cubicBezTo>
                <a:cubicBezTo>
                  <a:pt x="168" y="54"/>
                  <a:pt x="168" y="54"/>
                  <a:pt x="167" y="54"/>
                </a:cubicBezTo>
                <a:close/>
                <a:moveTo>
                  <a:pt x="452" y="35"/>
                </a:moveTo>
                <a:cubicBezTo>
                  <a:pt x="451" y="35"/>
                  <a:pt x="451" y="35"/>
                  <a:pt x="450" y="34"/>
                </a:cubicBezTo>
                <a:cubicBezTo>
                  <a:pt x="437" y="29"/>
                  <a:pt x="424" y="25"/>
                  <a:pt x="410" y="21"/>
                </a:cubicBezTo>
                <a:cubicBezTo>
                  <a:pt x="408" y="20"/>
                  <a:pt x="406" y="18"/>
                  <a:pt x="407" y="15"/>
                </a:cubicBezTo>
                <a:cubicBezTo>
                  <a:pt x="407" y="12"/>
                  <a:pt x="410" y="10"/>
                  <a:pt x="413" y="11"/>
                </a:cubicBezTo>
                <a:cubicBezTo>
                  <a:pt x="427" y="15"/>
                  <a:pt x="441" y="19"/>
                  <a:pt x="454" y="25"/>
                </a:cubicBezTo>
                <a:cubicBezTo>
                  <a:pt x="457" y="26"/>
                  <a:pt x="458" y="29"/>
                  <a:pt x="457" y="32"/>
                </a:cubicBezTo>
                <a:cubicBezTo>
                  <a:pt x="456" y="34"/>
                  <a:pt x="454" y="35"/>
                  <a:pt x="452" y="35"/>
                </a:cubicBezTo>
                <a:close/>
                <a:moveTo>
                  <a:pt x="244" y="22"/>
                </a:moveTo>
                <a:cubicBezTo>
                  <a:pt x="242" y="22"/>
                  <a:pt x="240" y="20"/>
                  <a:pt x="239" y="18"/>
                </a:cubicBezTo>
                <a:cubicBezTo>
                  <a:pt x="239" y="15"/>
                  <a:pt x="240" y="12"/>
                  <a:pt x="243" y="11"/>
                </a:cubicBezTo>
                <a:cubicBezTo>
                  <a:pt x="257" y="8"/>
                  <a:pt x="271" y="5"/>
                  <a:pt x="285" y="3"/>
                </a:cubicBezTo>
                <a:cubicBezTo>
                  <a:pt x="288" y="2"/>
                  <a:pt x="291" y="4"/>
                  <a:pt x="291" y="7"/>
                </a:cubicBezTo>
                <a:cubicBezTo>
                  <a:pt x="292" y="10"/>
                  <a:pt x="290" y="13"/>
                  <a:pt x="287" y="13"/>
                </a:cubicBezTo>
                <a:cubicBezTo>
                  <a:pt x="273" y="15"/>
                  <a:pt x="259" y="18"/>
                  <a:pt x="246" y="21"/>
                </a:cubicBezTo>
                <a:cubicBezTo>
                  <a:pt x="245" y="22"/>
                  <a:pt x="245" y="22"/>
                  <a:pt x="244" y="22"/>
                </a:cubicBezTo>
                <a:close/>
                <a:moveTo>
                  <a:pt x="370" y="13"/>
                </a:moveTo>
                <a:cubicBezTo>
                  <a:pt x="370" y="13"/>
                  <a:pt x="370" y="13"/>
                  <a:pt x="370" y="13"/>
                </a:cubicBezTo>
                <a:cubicBezTo>
                  <a:pt x="356" y="11"/>
                  <a:pt x="342" y="11"/>
                  <a:pt x="329" y="11"/>
                </a:cubicBezTo>
                <a:cubicBezTo>
                  <a:pt x="328" y="11"/>
                  <a:pt x="328" y="11"/>
                  <a:pt x="328" y="11"/>
                </a:cubicBezTo>
                <a:cubicBezTo>
                  <a:pt x="325" y="11"/>
                  <a:pt x="323" y="8"/>
                  <a:pt x="323" y="5"/>
                </a:cubicBezTo>
                <a:cubicBezTo>
                  <a:pt x="323" y="2"/>
                  <a:pt x="325" y="0"/>
                  <a:pt x="328" y="0"/>
                </a:cubicBezTo>
                <a:cubicBezTo>
                  <a:pt x="329" y="0"/>
                  <a:pt x="329" y="0"/>
                  <a:pt x="329" y="0"/>
                </a:cubicBezTo>
                <a:cubicBezTo>
                  <a:pt x="343" y="0"/>
                  <a:pt x="357" y="1"/>
                  <a:pt x="371" y="3"/>
                </a:cubicBezTo>
                <a:cubicBezTo>
                  <a:pt x="374" y="3"/>
                  <a:pt x="376" y="6"/>
                  <a:pt x="376" y="9"/>
                </a:cubicBezTo>
                <a:cubicBezTo>
                  <a:pt x="375" y="11"/>
                  <a:pt x="373" y="13"/>
                  <a:pt x="370" y="13"/>
                </a:cubicBezTo>
                <a:close/>
              </a:path>
            </a:pathLst>
          </a:custGeom>
          <a:solidFill>
            <a:srgbClr val="f15a25"/>
          </a:solidFill>
          <a:ln w="9360">
            <a:solidFill>
              <a:srgbClr val="f15a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4" name="Group 65"/>
          <p:cNvGrpSpPr/>
          <p:nvPr/>
        </p:nvGrpSpPr>
        <p:grpSpPr>
          <a:xfrm>
            <a:off x="3881520" y="4030560"/>
            <a:ext cx="2082600" cy="1533600"/>
            <a:chOff x="3881520" y="4030560"/>
            <a:chExt cx="2082600" cy="1533600"/>
          </a:xfrm>
        </p:grpSpPr>
        <p:sp>
          <p:nvSpPr>
            <p:cNvPr id="785" name="Text Placeholder 12"/>
            <p:cNvSpPr/>
            <p:nvPr/>
          </p:nvSpPr>
          <p:spPr>
            <a:xfrm>
              <a:off x="4048560" y="4030560"/>
              <a:ext cx="181836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4546a"/>
                  </a:solidFill>
                  <a:latin typeface="Source Sans Pro"/>
                </a:rPr>
                <a:t>Sarah Hylan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Text Placeholder 13"/>
            <p:cNvSpPr/>
            <p:nvPr/>
          </p:nvSpPr>
          <p:spPr>
            <a:xfrm>
              <a:off x="4048560" y="4320720"/>
              <a:ext cx="1818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4546a"/>
                  </a:solidFill>
                  <a:latin typeface="Source Sans Pro Light"/>
                  <a:ea typeface="Open Sans Semibold"/>
                </a:rPr>
                <a:t>Web Develop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Straight Connector 22"/>
            <p:cNvSpPr/>
            <p:nvPr/>
          </p:nvSpPr>
          <p:spPr>
            <a:xfrm>
              <a:off x="4729320" y="4661640"/>
              <a:ext cx="456840" cy="0"/>
            </a:xfrm>
            <a:prstGeom prst="line">
              <a:avLst/>
            </a:prstGeom>
            <a:ln w="57240">
              <a:solidFill>
                <a:srgbClr val="f15a2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Text Placeholder 24"/>
            <p:cNvSpPr/>
            <p:nvPr/>
          </p:nvSpPr>
          <p:spPr>
            <a:xfrm>
              <a:off x="3881520" y="4748040"/>
              <a:ext cx="208260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Etsy plaid narwhal fixie tofu, gastropub ennui ethical schlitz disrupt lomo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9" name="Group 66"/>
          <p:cNvGrpSpPr/>
          <p:nvPr/>
        </p:nvGrpSpPr>
        <p:grpSpPr>
          <a:xfrm>
            <a:off x="6399360" y="4030560"/>
            <a:ext cx="2082600" cy="1617840"/>
            <a:chOff x="6399360" y="4030560"/>
            <a:chExt cx="2082600" cy="1617840"/>
          </a:xfrm>
        </p:grpSpPr>
        <p:sp>
          <p:nvSpPr>
            <p:cNvPr id="790" name="Text Placeholder 15"/>
            <p:cNvSpPr/>
            <p:nvPr/>
          </p:nvSpPr>
          <p:spPr>
            <a:xfrm>
              <a:off x="6523200" y="4030560"/>
              <a:ext cx="181836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4546a"/>
                  </a:solidFill>
                  <a:latin typeface="Source Sans Pro"/>
                </a:rPr>
                <a:t>Allen Fend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Text Placeholder 16"/>
            <p:cNvSpPr/>
            <p:nvPr/>
          </p:nvSpPr>
          <p:spPr>
            <a:xfrm>
              <a:off x="6523200" y="4321080"/>
              <a:ext cx="1818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4546a"/>
                  </a:solidFill>
                  <a:latin typeface="Source Sans Pro Light"/>
                  <a:ea typeface="Open Sans Semibold"/>
                </a:rPr>
                <a:t>Graphic Design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Straight Connector 30"/>
            <p:cNvSpPr/>
            <p:nvPr/>
          </p:nvSpPr>
          <p:spPr>
            <a:xfrm>
              <a:off x="7203960" y="4662000"/>
              <a:ext cx="456840" cy="0"/>
            </a:xfrm>
            <a:prstGeom prst="line">
              <a:avLst/>
            </a:prstGeom>
            <a:ln w="57240">
              <a:solidFill>
                <a:srgbClr val="f15a2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Text Placeholder 24"/>
            <p:cNvSpPr/>
            <p:nvPr/>
          </p:nvSpPr>
          <p:spPr>
            <a:xfrm>
              <a:off x="6399360" y="4748040"/>
              <a:ext cx="2082600" cy="9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algn="ctr">
                <a:lnSpc>
                  <a:spcPct val="1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Etsy plaid narwhal fixie tofu, gastropub ennui ethical schlitz disrupt lomo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4" name="Group 67"/>
          <p:cNvGrpSpPr/>
          <p:nvPr/>
        </p:nvGrpSpPr>
        <p:grpSpPr>
          <a:xfrm>
            <a:off x="8872560" y="4030560"/>
            <a:ext cx="2084400" cy="1617840"/>
            <a:chOff x="8872560" y="4030560"/>
            <a:chExt cx="2084400" cy="1617840"/>
          </a:xfrm>
        </p:grpSpPr>
        <p:sp>
          <p:nvSpPr>
            <p:cNvPr id="795" name="Text Placeholder 18"/>
            <p:cNvSpPr/>
            <p:nvPr/>
          </p:nvSpPr>
          <p:spPr>
            <a:xfrm>
              <a:off x="8996400" y="4030560"/>
              <a:ext cx="182016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4546a"/>
                  </a:solidFill>
                  <a:latin typeface="Source Sans Pro"/>
                </a:rPr>
                <a:t>Cheryl Do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Text Placeholder 19"/>
            <p:cNvSpPr/>
            <p:nvPr/>
          </p:nvSpPr>
          <p:spPr>
            <a:xfrm>
              <a:off x="8996400" y="4321080"/>
              <a:ext cx="1820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4546a"/>
                  </a:solidFill>
                  <a:latin typeface="Source Sans Pro Light"/>
                  <a:ea typeface="Open Sans Semibold"/>
                </a:rPr>
                <a:t>Directo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Straight Connector 38"/>
            <p:cNvSpPr/>
            <p:nvPr/>
          </p:nvSpPr>
          <p:spPr>
            <a:xfrm>
              <a:off x="9677520" y="4662000"/>
              <a:ext cx="457200" cy="0"/>
            </a:xfrm>
            <a:prstGeom prst="line">
              <a:avLst/>
            </a:prstGeom>
            <a:ln w="57240">
              <a:solidFill>
                <a:srgbClr val="f15a2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Text Placeholder 24"/>
            <p:cNvSpPr/>
            <p:nvPr/>
          </p:nvSpPr>
          <p:spPr>
            <a:xfrm>
              <a:off x="8872560" y="4748040"/>
              <a:ext cx="2084400" cy="9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algn="ctr">
                <a:lnSpc>
                  <a:spcPct val="1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Etsy plaid narwhal fixie tofu, gastropub ennui ethical schlitz disrupt lomo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9" name="Group 68"/>
          <p:cNvGrpSpPr/>
          <p:nvPr/>
        </p:nvGrpSpPr>
        <p:grpSpPr>
          <a:xfrm>
            <a:off x="1836720" y="5649840"/>
            <a:ext cx="1203480" cy="282600"/>
            <a:chOff x="1836720" y="5649840"/>
            <a:chExt cx="1203480" cy="282600"/>
          </a:xfrm>
        </p:grpSpPr>
        <p:sp>
          <p:nvSpPr>
            <p:cNvPr id="800" name="Shape 2859"/>
            <p:cNvSpPr/>
            <p:nvPr/>
          </p:nvSpPr>
          <p:spPr>
            <a:xfrm>
              <a:off x="2462400" y="5652360"/>
              <a:ext cx="279000" cy="28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moveTo>
                    <a:pt x="15929" y="7018"/>
                  </a:moveTo>
                  <a:cubicBezTo>
                    <a:pt x="15539" y="7246"/>
                    <a:pt x="15108" y="7411"/>
                    <a:pt x="14650" y="7500"/>
                  </a:cubicBezTo>
                  <a:cubicBezTo>
                    <a:pt x="14282" y="7114"/>
                    <a:pt x="13759" y="6874"/>
                    <a:pt x="13179" y="6874"/>
                  </a:cubicBezTo>
                  <a:cubicBezTo>
                    <a:pt x="12067" y="6874"/>
                    <a:pt x="11165" y="7762"/>
                    <a:pt x="11165" y="8856"/>
                  </a:cubicBezTo>
                  <a:cubicBezTo>
                    <a:pt x="11165" y="9011"/>
                    <a:pt x="11183" y="9162"/>
                    <a:pt x="11217" y="9308"/>
                  </a:cubicBezTo>
                  <a:cubicBezTo>
                    <a:pt x="9543" y="9225"/>
                    <a:pt x="8059" y="8436"/>
                    <a:pt x="7065" y="7236"/>
                  </a:cubicBezTo>
                  <a:cubicBezTo>
                    <a:pt x="6892" y="7530"/>
                    <a:pt x="6793" y="7869"/>
                    <a:pt x="6793" y="8233"/>
                  </a:cubicBezTo>
                  <a:cubicBezTo>
                    <a:pt x="6793" y="8921"/>
                    <a:pt x="7148" y="9528"/>
                    <a:pt x="7689" y="9883"/>
                  </a:cubicBezTo>
                  <a:cubicBezTo>
                    <a:pt x="7359" y="9873"/>
                    <a:pt x="7048" y="9784"/>
                    <a:pt x="6776" y="9635"/>
                  </a:cubicBezTo>
                  <a:cubicBezTo>
                    <a:pt x="6776" y="9644"/>
                    <a:pt x="6776" y="9651"/>
                    <a:pt x="6776" y="9660"/>
                  </a:cubicBezTo>
                  <a:cubicBezTo>
                    <a:pt x="6776" y="10621"/>
                    <a:pt x="7471" y="11422"/>
                    <a:pt x="8392" y="11604"/>
                  </a:cubicBezTo>
                  <a:cubicBezTo>
                    <a:pt x="8223" y="11650"/>
                    <a:pt x="8045" y="11673"/>
                    <a:pt x="7861" y="11673"/>
                  </a:cubicBezTo>
                  <a:cubicBezTo>
                    <a:pt x="7732" y="11673"/>
                    <a:pt x="7605" y="11661"/>
                    <a:pt x="7483" y="11638"/>
                  </a:cubicBezTo>
                  <a:cubicBezTo>
                    <a:pt x="7739" y="12426"/>
                    <a:pt x="8483" y="12999"/>
                    <a:pt x="9364" y="13015"/>
                  </a:cubicBezTo>
                  <a:cubicBezTo>
                    <a:pt x="8674" y="13547"/>
                    <a:pt x="7806" y="13863"/>
                    <a:pt x="6862" y="13863"/>
                  </a:cubicBezTo>
                  <a:cubicBezTo>
                    <a:pt x="6699" y="13863"/>
                    <a:pt x="6540" y="13855"/>
                    <a:pt x="6382" y="13837"/>
                  </a:cubicBezTo>
                  <a:cubicBezTo>
                    <a:pt x="7274" y="14398"/>
                    <a:pt x="8332" y="14727"/>
                    <a:pt x="9470" y="14727"/>
                  </a:cubicBezTo>
                  <a:cubicBezTo>
                    <a:pt x="13175" y="14727"/>
                    <a:pt x="15201" y="11706"/>
                    <a:pt x="15201" y="9086"/>
                  </a:cubicBezTo>
                  <a:cubicBezTo>
                    <a:pt x="15201" y="9000"/>
                    <a:pt x="15199" y="8915"/>
                    <a:pt x="15195" y="8830"/>
                  </a:cubicBezTo>
                  <a:cubicBezTo>
                    <a:pt x="15588" y="8550"/>
                    <a:pt x="15930" y="8201"/>
                    <a:pt x="16200" y="7804"/>
                  </a:cubicBezTo>
                  <a:cubicBezTo>
                    <a:pt x="15839" y="7961"/>
                    <a:pt x="15451" y="8067"/>
                    <a:pt x="15043" y="8115"/>
                  </a:cubicBezTo>
                  <a:cubicBezTo>
                    <a:pt x="15459" y="7870"/>
                    <a:pt x="15778" y="7482"/>
                    <a:pt x="15929" y="7018"/>
                  </a:cubicBezTo>
                </a:path>
              </a:pathLst>
            </a:custGeom>
            <a:solidFill>
              <a:srgbClr val="f15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Shape 2860"/>
            <p:cNvSpPr/>
            <p:nvPr/>
          </p:nvSpPr>
          <p:spPr>
            <a:xfrm>
              <a:off x="1836720" y="5650560"/>
              <a:ext cx="279000" cy="28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776" y="8468"/>
                  </a:moveTo>
                  <a:cubicBezTo>
                    <a:pt x="11776" y="8071"/>
                    <a:pt x="11817" y="7858"/>
                    <a:pt x="12428" y="7858"/>
                  </a:cubicBezTo>
                  <a:lnTo>
                    <a:pt x="13244" y="7858"/>
                  </a:lnTo>
                  <a:lnTo>
                    <a:pt x="13244" y="6381"/>
                  </a:lnTo>
                  <a:lnTo>
                    <a:pt x="11938" y="6381"/>
                  </a:lnTo>
                  <a:cubicBezTo>
                    <a:pt x="10369" y="6381"/>
                    <a:pt x="9816" y="7120"/>
                    <a:pt x="9816" y="8363"/>
                  </a:cubicBezTo>
                  <a:lnTo>
                    <a:pt x="9816" y="9322"/>
                  </a:lnTo>
                  <a:lnTo>
                    <a:pt x="8837" y="9322"/>
                  </a:lnTo>
                  <a:lnTo>
                    <a:pt x="8837" y="10800"/>
                  </a:lnTo>
                  <a:lnTo>
                    <a:pt x="9816" y="10800"/>
                  </a:lnTo>
                  <a:lnTo>
                    <a:pt x="9816" y="15219"/>
                  </a:lnTo>
                  <a:lnTo>
                    <a:pt x="11774" y="15219"/>
                  </a:lnTo>
                  <a:lnTo>
                    <a:pt x="11774" y="10800"/>
                  </a:lnTo>
                  <a:lnTo>
                    <a:pt x="13081" y="10800"/>
                  </a:lnTo>
                  <a:lnTo>
                    <a:pt x="13254" y="9322"/>
                  </a:lnTo>
                  <a:lnTo>
                    <a:pt x="11774" y="9322"/>
                  </a:lnTo>
                  <a:cubicBezTo>
                    <a:pt x="11774" y="9322"/>
                    <a:pt x="11776" y="8468"/>
                    <a:pt x="11776" y="8468"/>
                  </a:cubicBezTo>
                  <a:close/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15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Shape 2861"/>
            <p:cNvSpPr/>
            <p:nvPr/>
          </p:nvSpPr>
          <p:spPr>
            <a:xfrm>
              <a:off x="2761200" y="5649840"/>
              <a:ext cx="279000" cy="28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324" y="12090"/>
                  </a:moveTo>
                  <a:cubicBezTo>
                    <a:pt x="14019" y="12090"/>
                    <a:pt x="14019" y="12428"/>
                    <a:pt x="14019" y="12428"/>
                  </a:cubicBezTo>
                  <a:lnTo>
                    <a:pt x="14019" y="12863"/>
                  </a:lnTo>
                  <a:lnTo>
                    <a:pt x="14628" y="12863"/>
                  </a:lnTo>
                  <a:lnTo>
                    <a:pt x="14628" y="12428"/>
                  </a:lnTo>
                  <a:cubicBezTo>
                    <a:pt x="14628" y="12428"/>
                    <a:pt x="14628" y="12090"/>
                    <a:pt x="14324" y="12090"/>
                  </a:cubicBezTo>
                  <a:moveTo>
                    <a:pt x="15287" y="12380"/>
                  </a:moveTo>
                  <a:lnTo>
                    <a:pt x="15287" y="13348"/>
                  </a:lnTo>
                  <a:lnTo>
                    <a:pt x="14019" y="13348"/>
                  </a:lnTo>
                  <a:lnTo>
                    <a:pt x="14019" y="14072"/>
                  </a:lnTo>
                  <a:cubicBezTo>
                    <a:pt x="14019" y="14072"/>
                    <a:pt x="14019" y="14411"/>
                    <a:pt x="14324" y="14411"/>
                  </a:cubicBezTo>
                  <a:cubicBezTo>
                    <a:pt x="14628" y="14411"/>
                    <a:pt x="14628" y="14072"/>
                    <a:pt x="14628" y="14072"/>
                  </a:cubicBezTo>
                  <a:lnTo>
                    <a:pt x="14628" y="13734"/>
                  </a:lnTo>
                  <a:lnTo>
                    <a:pt x="15287" y="13734"/>
                  </a:lnTo>
                  <a:lnTo>
                    <a:pt x="15287" y="14266"/>
                  </a:lnTo>
                  <a:cubicBezTo>
                    <a:pt x="15287" y="14266"/>
                    <a:pt x="15186" y="14943"/>
                    <a:pt x="14375" y="14943"/>
                  </a:cubicBezTo>
                  <a:cubicBezTo>
                    <a:pt x="13564" y="14943"/>
                    <a:pt x="13411" y="14266"/>
                    <a:pt x="13411" y="14266"/>
                  </a:cubicBezTo>
                  <a:lnTo>
                    <a:pt x="13411" y="12380"/>
                  </a:lnTo>
                  <a:cubicBezTo>
                    <a:pt x="13411" y="12380"/>
                    <a:pt x="13411" y="11558"/>
                    <a:pt x="14375" y="11558"/>
                  </a:cubicBezTo>
                  <a:cubicBezTo>
                    <a:pt x="15338" y="11558"/>
                    <a:pt x="15287" y="12380"/>
                    <a:pt x="15287" y="12380"/>
                  </a:cubicBezTo>
                  <a:moveTo>
                    <a:pt x="12904" y="14169"/>
                  </a:moveTo>
                  <a:cubicBezTo>
                    <a:pt x="12904" y="14169"/>
                    <a:pt x="12904" y="14943"/>
                    <a:pt x="12347" y="14943"/>
                  </a:cubicBezTo>
                  <a:cubicBezTo>
                    <a:pt x="12005" y="14943"/>
                    <a:pt x="11798" y="14762"/>
                    <a:pt x="11687" y="14621"/>
                  </a:cubicBezTo>
                  <a:lnTo>
                    <a:pt x="11687" y="14895"/>
                  </a:lnTo>
                  <a:lnTo>
                    <a:pt x="11028" y="14895"/>
                  </a:lnTo>
                  <a:lnTo>
                    <a:pt x="11028" y="10446"/>
                  </a:lnTo>
                  <a:lnTo>
                    <a:pt x="11687" y="10446"/>
                  </a:lnTo>
                  <a:lnTo>
                    <a:pt x="11687" y="11888"/>
                  </a:lnTo>
                  <a:cubicBezTo>
                    <a:pt x="11788" y="11782"/>
                    <a:pt x="12036" y="11558"/>
                    <a:pt x="12347" y="11558"/>
                  </a:cubicBezTo>
                  <a:cubicBezTo>
                    <a:pt x="12752" y="11558"/>
                    <a:pt x="12904" y="11896"/>
                    <a:pt x="12904" y="12332"/>
                  </a:cubicBezTo>
                  <a:cubicBezTo>
                    <a:pt x="12904" y="12332"/>
                    <a:pt x="12904" y="14169"/>
                    <a:pt x="12904" y="14169"/>
                  </a:cubicBezTo>
                  <a:close/>
                  <a:moveTo>
                    <a:pt x="10521" y="14895"/>
                  </a:moveTo>
                  <a:lnTo>
                    <a:pt x="9913" y="14895"/>
                  </a:lnTo>
                  <a:lnTo>
                    <a:pt x="9913" y="14605"/>
                  </a:lnTo>
                  <a:cubicBezTo>
                    <a:pt x="9913" y="14605"/>
                    <a:pt x="9558" y="14943"/>
                    <a:pt x="9152" y="14943"/>
                  </a:cubicBezTo>
                  <a:cubicBezTo>
                    <a:pt x="8747" y="14943"/>
                    <a:pt x="8696" y="14556"/>
                    <a:pt x="8696" y="14556"/>
                  </a:cubicBezTo>
                  <a:lnTo>
                    <a:pt x="8696" y="11558"/>
                  </a:lnTo>
                  <a:lnTo>
                    <a:pt x="9304" y="11558"/>
                  </a:lnTo>
                  <a:lnTo>
                    <a:pt x="9304" y="14362"/>
                  </a:lnTo>
                  <a:cubicBezTo>
                    <a:pt x="9304" y="14362"/>
                    <a:pt x="9304" y="14508"/>
                    <a:pt x="9507" y="14508"/>
                  </a:cubicBezTo>
                  <a:cubicBezTo>
                    <a:pt x="9710" y="14508"/>
                    <a:pt x="9913" y="14266"/>
                    <a:pt x="9913" y="14266"/>
                  </a:cubicBezTo>
                  <a:lnTo>
                    <a:pt x="9913" y="11558"/>
                  </a:lnTo>
                  <a:lnTo>
                    <a:pt x="10521" y="11558"/>
                  </a:lnTo>
                  <a:cubicBezTo>
                    <a:pt x="10521" y="11558"/>
                    <a:pt x="10521" y="14895"/>
                    <a:pt x="10521" y="14895"/>
                  </a:cubicBezTo>
                  <a:close/>
                  <a:moveTo>
                    <a:pt x="8595" y="11074"/>
                  </a:moveTo>
                  <a:lnTo>
                    <a:pt x="7834" y="11074"/>
                  </a:lnTo>
                  <a:lnTo>
                    <a:pt x="7834" y="14895"/>
                  </a:lnTo>
                  <a:lnTo>
                    <a:pt x="7124" y="14895"/>
                  </a:lnTo>
                  <a:lnTo>
                    <a:pt x="7124" y="11074"/>
                  </a:lnTo>
                  <a:lnTo>
                    <a:pt x="6363" y="11074"/>
                  </a:lnTo>
                  <a:lnTo>
                    <a:pt x="6363" y="10446"/>
                  </a:lnTo>
                  <a:lnTo>
                    <a:pt x="8595" y="10446"/>
                  </a:lnTo>
                  <a:cubicBezTo>
                    <a:pt x="8595" y="10446"/>
                    <a:pt x="8595" y="11074"/>
                    <a:pt x="8595" y="11074"/>
                  </a:cubicBezTo>
                  <a:close/>
                  <a:moveTo>
                    <a:pt x="14527" y="9430"/>
                  </a:moveTo>
                  <a:cubicBezTo>
                    <a:pt x="14527" y="9430"/>
                    <a:pt x="12667" y="9334"/>
                    <a:pt x="10800" y="9334"/>
                  </a:cubicBezTo>
                  <a:cubicBezTo>
                    <a:pt x="8940" y="9334"/>
                    <a:pt x="7074" y="9430"/>
                    <a:pt x="7074" y="9430"/>
                  </a:cubicBezTo>
                  <a:cubicBezTo>
                    <a:pt x="6233" y="9430"/>
                    <a:pt x="5552" y="10080"/>
                    <a:pt x="5552" y="10881"/>
                  </a:cubicBezTo>
                  <a:cubicBezTo>
                    <a:pt x="5552" y="10881"/>
                    <a:pt x="5400" y="11822"/>
                    <a:pt x="5400" y="12767"/>
                  </a:cubicBezTo>
                  <a:cubicBezTo>
                    <a:pt x="5400" y="13708"/>
                    <a:pt x="5552" y="14652"/>
                    <a:pt x="5552" y="14652"/>
                  </a:cubicBezTo>
                  <a:cubicBezTo>
                    <a:pt x="5552" y="15454"/>
                    <a:pt x="6233" y="16103"/>
                    <a:pt x="7074" y="16103"/>
                  </a:cubicBezTo>
                  <a:cubicBezTo>
                    <a:pt x="7074" y="16103"/>
                    <a:pt x="8905" y="16200"/>
                    <a:pt x="10800" y="16200"/>
                  </a:cubicBezTo>
                  <a:cubicBezTo>
                    <a:pt x="12630" y="16200"/>
                    <a:pt x="14527" y="16103"/>
                    <a:pt x="14527" y="16103"/>
                  </a:cubicBezTo>
                  <a:cubicBezTo>
                    <a:pt x="15367" y="16103"/>
                    <a:pt x="16048" y="15454"/>
                    <a:pt x="16048" y="14652"/>
                  </a:cubicBezTo>
                  <a:cubicBezTo>
                    <a:pt x="16048" y="14652"/>
                    <a:pt x="16200" y="13700"/>
                    <a:pt x="16200" y="12767"/>
                  </a:cubicBezTo>
                  <a:cubicBezTo>
                    <a:pt x="16200" y="11814"/>
                    <a:pt x="16048" y="10881"/>
                    <a:pt x="16048" y="10881"/>
                  </a:cubicBezTo>
                  <a:cubicBezTo>
                    <a:pt x="16048" y="10080"/>
                    <a:pt x="15367" y="9430"/>
                    <a:pt x="14527" y="9430"/>
                  </a:cubicBezTo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moveTo>
                    <a:pt x="11992" y="12090"/>
                  </a:moveTo>
                  <a:cubicBezTo>
                    <a:pt x="11860" y="12090"/>
                    <a:pt x="11757" y="12168"/>
                    <a:pt x="11687" y="12243"/>
                  </a:cubicBezTo>
                  <a:lnTo>
                    <a:pt x="11687" y="14276"/>
                  </a:lnTo>
                  <a:cubicBezTo>
                    <a:pt x="11751" y="14345"/>
                    <a:pt x="11847" y="14411"/>
                    <a:pt x="11992" y="14411"/>
                  </a:cubicBezTo>
                  <a:cubicBezTo>
                    <a:pt x="12296" y="14411"/>
                    <a:pt x="12296" y="14072"/>
                    <a:pt x="12296" y="14072"/>
                  </a:cubicBezTo>
                  <a:lnTo>
                    <a:pt x="12296" y="12428"/>
                  </a:lnTo>
                  <a:cubicBezTo>
                    <a:pt x="12296" y="12428"/>
                    <a:pt x="12245" y="12090"/>
                    <a:pt x="11992" y="12090"/>
                  </a:cubicBezTo>
                  <a:moveTo>
                    <a:pt x="7986" y="8751"/>
                  </a:moveTo>
                  <a:lnTo>
                    <a:pt x="8696" y="8751"/>
                  </a:lnTo>
                  <a:lnTo>
                    <a:pt x="8696" y="7188"/>
                  </a:lnTo>
                  <a:lnTo>
                    <a:pt x="9507" y="4970"/>
                  </a:lnTo>
                  <a:lnTo>
                    <a:pt x="8848" y="4970"/>
                  </a:lnTo>
                  <a:lnTo>
                    <a:pt x="8341" y="6433"/>
                  </a:lnTo>
                  <a:lnTo>
                    <a:pt x="7834" y="4970"/>
                  </a:lnTo>
                  <a:lnTo>
                    <a:pt x="7124" y="4970"/>
                  </a:lnTo>
                  <a:lnTo>
                    <a:pt x="7986" y="7188"/>
                  </a:lnTo>
                  <a:cubicBezTo>
                    <a:pt x="7986" y="7188"/>
                    <a:pt x="7986" y="8751"/>
                    <a:pt x="7986" y="8751"/>
                  </a:cubicBezTo>
                  <a:close/>
                  <a:moveTo>
                    <a:pt x="12397" y="8801"/>
                  </a:moveTo>
                  <a:cubicBezTo>
                    <a:pt x="12802" y="8801"/>
                    <a:pt x="13158" y="8449"/>
                    <a:pt x="13158" y="8449"/>
                  </a:cubicBezTo>
                  <a:lnTo>
                    <a:pt x="13158" y="8751"/>
                  </a:lnTo>
                  <a:lnTo>
                    <a:pt x="13766" y="8751"/>
                  </a:lnTo>
                  <a:lnTo>
                    <a:pt x="13766" y="5878"/>
                  </a:lnTo>
                  <a:lnTo>
                    <a:pt x="13158" y="5878"/>
                  </a:lnTo>
                  <a:lnTo>
                    <a:pt x="13158" y="8096"/>
                  </a:lnTo>
                  <a:cubicBezTo>
                    <a:pt x="13158" y="8096"/>
                    <a:pt x="12955" y="8348"/>
                    <a:pt x="12752" y="8348"/>
                  </a:cubicBezTo>
                  <a:cubicBezTo>
                    <a:pt x="12549" y="8348"/>
                    <a:pt x="12549" y="8196"/>
                    <a:pt x="12549" y="8196"/>
                  </a:cubicBezTo>
                  <a:lnTo>
                    <a:pt x="12549" y="5878"/>
                  </a:lnTo>
                  <a:lnTo>
                    <a:pt x="11941" y="5878"/>
                  </a:lnTo>
                  <a:lnTo>
                    <a:pt x="11941" y="8398"/>
                  </a:lnTo>
                  <a:cubicBezTo>
                    <a:pt x="11941" y="8398"/>
                    <a:pt x="11992" y="8801"/>
                    <a:pt x="12397" y="8801"/>
                  </a:cubicBezTo>
                  <a:moveTo>
                    <a:pt x="10166" y="6634"/>
                  </a:moveTo>
                  <a:cubicBezTo>
                    <a:pt x="10166" y="6467"/>
                    <a:pt x="10302" y="6332"/>
                    <a:pt x="10470" y="6332"/>
                  </a:cubicBezTo>
                  <a:cubicBezTo>
                    <a:pt x="10639" y="6332"/>
                    <a:pt x="10775" y="6467"/>
                    <a:pt x="10775" y="6634"/>
                  </a:cubicBezTo>
                  <a:lnTo>
                    <a:pt x="10775" y="8045"/>
                  </a:lnTo>
                  <a:cubicBezTo>
                    <a:pt x="10775" y="8212"/>
                    <a:pt x="10639" y="8348"/>
                    <a:pt x="10470" y="8348"/>
                  </a:cubicBezTo>
                  <a:cubicBezTo>
                    <a:pt x="10302" y="8348"/>
                    <a:pt x="10166" y="8212"/>
                    <a:pt x="10166" y="8045"/>
                  </a:cubicBezTo>
                  <a:cubicBezTo>
                    <a:pt x="10166" y="8045"/>
                    <a:pt x="10166" y="6634"/>
                    <a:pt x="10166" y="6634"/>
                  </a:cubicBezTo>
                  <a:close/>
                  <a:moveTo>
                    <a:pt x="10369" y="8801"/>
                  </a:moveTo>
                  <a:lnTo>
                    <a:pt x="10572" y="8801"/>
                  </a:lnTo>
                  <a:cubicBezTo>
                    <a:pt x="11020" y="8801"/>
                    <a:pt x="11383" y="8440"/>
                    <a:pt x="11383" y="7995"/>
                  </a:cubicBezTo>
                  <a:lnTo>
                    <a:pt x="11383" y="6684"/>
                  </a:lnTo>
                  <a:cubicBezTo>
                    <a:pt x="11383" y="6239"/>
                    <a:pt x="11020" y="5878"/>
                    <a:pt x="10572" y="5878"/>
                  </a:cubicBezTo>
                  <a:lnTo>
                    <a:pt x="10369" y="5878"/>
                  </a:lnTo>
                  <a:cubicBezTo>
                    <a:pt x="9921" y="5878"/>
                    <a:pt x="9558" y="6239"/>
                    <a:pt x="9558" y="6684"/>
                  </a:cubicBezTo>
                  <a:lnTo>
                    <a:pt x="9558" y="7995"/>
                  </a:lnTo>
                  <a:cubicBezTo>
                    <a:pt x="9558" y="8440"/>
                    <a:pt x="9921" y="8801"/>
                    <a:pt x="10369" y="8801"/>
                  </a:cubicBezTo>
                </a:path>
              </a:pathLst>
            </a:custGeom>
            <a:solidFill>
              <a:srgbClr val="f15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Shape 2864"/>
            <p:cNvSpPr/>
            <p:nvPr/>
          </p:nvSpPr>
          <p:spPr>
            <a:xfrm>
              <a:off x="2154240" y="5649840"/>
              <a:ext cx="279000" cy="28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725" y="7359"/>
                  </a:moveTo>
                  <a:lnTo>
                    <a:pt x="13743" y="7359"/>
                  </a:lnTo>
                  <a:lnTo>
                    <a:pt x="13743" y="8833"/>
                  </a:lnTo>
                  <a:lnTo>
                    <a:pt x="12265" y="8833"/>
                  </a:lnTo>
                  <a:lnTo>
                    <a:pt x="12265" y="9816"/>
                  </a:lnTo>
                  <a:lnTo>
                    <a:pt x="13743" y="9816"/>
                  </a:lnTo>
                  <a:lnTo>
                    <a:pt x="13743" y="11283"/>
                  </a:lnTo>
                  <a:lnTo>
                    <a:pt x="14725" y="11283"/>
                  </a:lnTo>
                  <a:lnTo>
                    <a:pt x="14725" y="9816"/>
                  </a:lnTo>
                  <a:lnTo>
                    <a:pt x="16205" y="9816"/>
                  </a:lnTo>
                  <a:lnTo>
                    <a:pt x="16205" y="8833"/>
                  </a:lnTo>
                  <a:lnTo>
                    <a:pt x="14725" y="8833"/>
                  </a:lnTo>
                  <a:cubicBezTo>
                    <a:pt x="14725" y="8833"/>
                    <a:pt x="14725" y="7359"/>
                    <a:pt x="14725" y="7359"/>
                  </a:cubicBezTo>
                  <a:close/>
                  <a:moveTo>
                    <a:pt x="9321" y="13946"/>
                  </a:moveTo>
                  <a:cubicBezTo>
                    <a:pt x="8620" y="13946"/>
                    <a:pt x="8071" y="13495"/>
                    <a:pt x="8071" y="12919"/>
                  </a:cubicBezTo>
                  <a:cubicBezTo>
                    <a:pt x="8071" y="12392"/>
                    <a:pt x="8713" y="11929"/>
                    <a:pt x="9446" y="11929"/>
                  </a:cubicBezTo>
                  <a:lnTo>
                    <a:pt x="9446" y="11723"/>
                  </a:lnTo>
                  <a:lnTo>
                    <a:pt x="9447" y="11723"/>
                  </a:lnTo>
                  <a:lnTo>
                    <a:pt x="9465" y="11929"/>
                  </a:lnTo>
                  <a:cubicBezTo>
                    <a:pt x="9624" y="11930"/>
                    <a:pt x="9777" y="11954"/>
                    <a:pt x="9922" y="12000"/>
                  </a:cubicBezTo>
                  <a:lnTo>
                    <a:pt x="10067" y="12104"/>
                  </a:lnTo>
                  <a:cubicBezTo>
                    <a:pt x="10440" y="12371"/>
                    <a:pt x="10637" y="12521"/>
                    <a:pt x="10695" y="12764"/>
                  </a:cubicBezTo>
                  <a:cubicBezTo>
                    <a:pt x="10710" y="12827"/>
                    <a:pt x="10717" y="12891"/>
                    <a:pt x="10717" y="12954"/>
                  </a:cubicBezTo>
                  <a:cubicBezTo>
                    <a:pt x="10717" y="13612"/>
                    <a:pt x="10247" y="13946"/>
                    <a:pt x="9321" y="13946"/>
                  </a:cubicBezTo>
                  <a:moveTo>
                    <a:pt x="8542" y="8739"/>
                  </a:moveTo>
                  <a:cubicBezTo>
                    <a:pt x="8495" y="8362"/>
                    <a:pt x="8574" y="8014"/>
                    <a:pt x="8754" y="7806"/>
                  </a:cubicBezTo>
                  <a:cubicBezTo>
                    <a:pt x="8864" y="7680"/>
                    <a:pt x="9006" y="7613"/>
                    <a:pt x="9164" y="7613"/>
                  </a:cubicBezTo>
                  <a:lnTo>
                    <a:pt x="9164" y="7409"/>
                  </a:lnTo>
                  <a:lnTo>
                    <a:pt x="9182" y="7613"/>
                  </a:lnTo>
                  <a:cubicBezTo>
                    <a:pt x="9653" y="7628"/>
                    <a:pt x="10105" y="8185"/>
                    <a:pt x="10189" y="8855"/>
                  </a:cubicBezTo>
                  <a:cubicBezTo>
                    <a:pt x="10237" y="9239"/>
                    <a:pt x="10155" y="9596"/>
                    <a:pt x="9970" y="9809"/>
                  </a:cubicBezTo>
                  <a:cubicBezTo>
                    <a:pt x="9860" y="9935"/>
                    <a:pt x="9722" y="10002"/>
                    <a:pt x="9550" y="10001"/>
                  </a:cubicBezTo>
                  <a:lnTo>
                    <a:pt x="9549" y="10001"/>
                  </a:lnTo>
                  <a:cubicBezTo>
                    <a:pt x="9087" y="9988"/>
                    <a:pt x="8626" y="9409"/>
                    <a:pt x="8542" y="8739"/>
                  </a:cubicBezTo>
                  <a:moveTo>
                    <a:pt x="10838" y="11196"/>
                  </a:moveTo>
                  <a:cubicBezTo>
                    <a:pt x="10586" y="11009"/>
                    <a:pt x="10351" y="10732"/>
                    <a:pt x="10342" y="10646"/>
                  </a:cubicBezTo>
                  <a:cubicBezTo>
                    <a:pt x="10342" y="10499"/>
                    <a:pt x="10342" y="10431"/>
                    <a:pt x="10689" y="10148"/>
                  </a:cubicBezTo>
                  <a:cubicBezTo>
                    <a:pt x="11138" y="9780"/>
                    <a:pt x="11386" y="9295"/>
                    <a:pt x="11386" y="8784"/>
                  </a:cubicBezTo>
                  <a:cubicBezTo>
                    <a:pt x="11386" y="8342"/>
                    <a:pt x="11262" y="7947"/>
                    <a:pt x="11050" y="7659"/>
                  </a:cubicBezTo>
                  <a:lnTo>
                    <a:pt x="11238" y="7659"/>
                  </a:lnTo>
                  <a:lnTo>
                    <a:pt x="12276" y="6873"/>
                  </a:lnTo>
                  <a:lnTo>
                    <a:pt x="9463" y="6873"/>
                  </a:lnTo>
                  <a:cubicBezTo>
                    <a:pt x="8335" y="6873"/>
                    <a:pt x="7345" y="7759"/>
                    <a:pt x="7345" y="8769"/>
                  </a:cubicBezTo>
                  <a:cubicBezTo>
                    <a:pt x="7345" y="9812"/>
                    <a:pt x="8109" y="10605"/>
                    <a:pt x="9137" y="10648"/>
                  </a:cubicBezTo>
                  <a:cubicBezTo>
                    <a:pt x="9121" y="10722"/>
                    <a:pt x="9113" y="10795"/>
                    <a:pt x="9113" y="10868"/>
                  </a:cubicBezTo>
                  <a:cubicBezTo>
                    <a:pt x="9113" y="11018"/>
                    <a:pt x="9147" y="11162"/>
                    <a:pt x="9216" y="11300"/>
                  </a:cubicBezTo>
                  <a:cubicBezTo>
                    <a:pt x="7943" y="11309"/>
                    <a:pt x="6870" y="12161"/>
                    <a:pt x="6870" y="13167"/>
                  </a:cubicBezTo>
                  <a:cubicBezTo>
                    <a:pt x="6870" y="14071"/>
                    <a:pt x="7903" y="14727"/>
                    <a:pt x="9325" y="14727"/>
                  </a:cubicBezTo>
                  <a:cubicBezTo>
                    <a:pt x="10861" y="14727"/>
                    <a:pt x="11690" y="13766"/>
                    <a:pt x="11690" y="12860"/>
                  </a:cubicBezTo>
                  <a:cubicBezTo>
                    <a:pt x="11690" y="12108"/>
                    <a:pt x="11459" y="11656"/>
                    <a:pt x="10838" y="11196"/>
                  </a:cubicBezTo>
                  <a:moveTo>
                    <a:pt x="10800" y="20618"/>
                  </a:move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8"/>
                    <a:pt x="5378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5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15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4" name="Group 69"/>
          <p:cNvGrpSpPr/>
          <p:nvPr/>
        </p:nvGrpSpPr>
        <p:grpSpPr>
          <a:xfrm>
            <a:off x="4327560" y="5649840"/>
            <a:ext cx="1204920" cy="282600"/>
            <a:chOff x="4327560" y="5649840"/>
            <a:chExt cx="1204920" cy="282600"/>
          </a:xfrm>
        </p:grpSpPr>
        <p:sp>
          <p:nvSpPr>
            <p:cNvPr id="805" name="Shape 2859"/>
            <p:cNvSpPr/>
            <p:nvPr/>
          </p:nvSpPr>
          <p:spPr>
            <a:xfrm>
              <a:off x="4953960" y="5652360"/>
              <a:ext cx="279360" cy="28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moveTo>
                    <a:pt x="15929" y="7018"/>
                  </a:moveTo>
                  <a:cubicBezTo>
                    <a:pt x="15539" y="7246"/>
                    <a:pt x="15108" y="7411"/>
                    <a:pt x="14650" y="7500"/>
                  </a:cubicBezTo>
                  <a:cubicBezTo>
                    <a:pt x="14282" y="7114"/>
                    <a:pt x="13759" y="6874"/>
                    <a:pt x="13179" y="6874"/>
                  </a:cubicBezTo>
                  <a:cubicBezTo>
                    <a:pt x="12067" y="6874"/>
                    <a:pt x="11165" y="7762"/>
                    <a:pt x="11165" y="8856"/>
                  </a:cubicBezTo>
                  <a:cubicBezTo>
                    <a:pt x="11165" y="9011"/>
                    <a:pt x="11183" y="9162"/>
                    <a:pt x="11217" y="9308"/>
                  </a:cubicBezTo>
                  <a:cubicBezTo>
                    <a:pt x="9543" y="9225"/>
                    <a:pt x="8059" y="8436"/>
                    <a:pt x="7065" y="7236"/>
                  </a:cubicBezTo>
                  <a:cubicBezTo>
                    <a:pt x="6892" y="7530"/>
                    <a:pt x="6793" y="7869"/>
                    <a:pt x="6793" y="8233"/>
                  </a:cubicBezTo>
                  <a:cubicBezTo>
                    <a:pt x="6793" y="8921"/>
                    <a:pt x="7148" y="9528"/>
                    <a:pt x="7689" y="9883"/>
                  </a:cubicBezTo>
                  <a:cubicBezTo>
                    <a:pt x="7359" y="9873"/>
                    <a:pt x="7048" y="9784"/>
                    <a:pt x="6776" y="9635"/>
                  </a:cubicBezTo>
                  <a:cubicBezTo>
                    <a:pt x="6776" y="9644"/>
                    <a:pt x="6776" y="9651"/>
                    <a:pt x="6776" y="9660"/>
                  </a:cubicBezTo>
                  <a:cubicBezTo>
                    <a:pt x="6776" y="10621"/>
                    <a:pt x="7471" y="11422"/>
                    <a:pt x="8392" y="11604"/>
                  </a:cubicBezTo>
                  <a:cubicBezTo>
                    <a:pt x="8223" y="11650"/>
                    <a:pt x="8045" y="11673"/>
                    <a:pt x="7861" y="11673"/>
                  </a:cubicBezTo>
                  <a:cubicBezTo>
                    <a:pt x="7732" y="11673"/>
                    <a:pt x="7605" y="11661"/>
                    <a:pt x="7483" y="11638"/>
                  </a:cubicBezTo>
                  <a:cubicBezTo>
                    <a:pt x="7739" y="12426"/>
                    <a:pt x="8483" y="12999"/>
                    <a:pt x="9364" y="13015"/>
                  </a:cubicBezTo>
                  <a:cubicBezTo>
                    <a:pt x="8674" y="13547"/>
                    <a:pt x="7806" y="13863"/>
                    <a:pt x="6862" y="13863"/>
                  </a:cubicBezTo>
                  <a:cubicBezTo>
                    <a:pt x="6699" y="13863"/>
                    <a:pt x="6540" y="13855"/>
                    <a:pt x="6382" y="13837"/>
                  </a:cubicBezTo>
                  <a:cubicBezTo>
                    <a:pt x="7274" y="14398"/>
                    <a:pt x="8332" y="14727"/>
                    <a:pt x="9470" y="14727"/>
                  </a:cubicBezTo>
                  <a:cubicBezTo>
                    <a:pt x="13175" y="14727"/>
                    <a:pt x="15201" y="11706"/>
                    <a:pt x="15201" y="9086"/>
                  </a:cubicBezTo>
                  <a:cubicBezTo>
                    <a:pt x="15201" y="9000"/>
                    <a:pt x="15199" y="8915"/>
                    <a:pt x="15195" y="8830"/>
                  </a:cubicBezTo>
                  <a:cubicBezTo>
                    <a:pt x="15588" y="8550"/>
                    <a:pt x="15930" y="8201"/>
                    <a:pt x="16200" y="7804"/>
                  </a:cubicBezTo>
                  <a:cubicBezTo>
                    <a:pt x="15839" y="7961"/>
                    <a:pt x="15451" y="8067"/>
                    <a:pt x="15043" y="8115"/>
                  </a:cubicBezTo>
                  <a:cubicBezTo>
                    <a:pt x="15459" y="7870"/>
                    <a:pt x="15778" y="7482"/>
                    <a:pt x="15929" y="7018"/>
                  </a:cubicBezTo>
                </a:path>
              </a:pathLst>
            </a:custGeom>
            <a:solidFill>
              <a:srgbClr val="f15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Shape 2860"/>
            <p:cNvSpPr/>
            <p:nvPr/>
          </p:nvSpPr>
          <p:spPr>
            <a:xfrm>
              <a:off x="4327560" y="5650560"/>
              <a:ext cx="279360" cy="28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776" y="8468"/>
                  </a:moveTo>
                  <a:cubicBezTo>
                    <a:pt x="11776" y="8071"/>
                    <a:pt x="11817" y="7858"/>
                    <a:pt x="12428" y="7858"/>
                  </a:cubicBezTo>
                  <a:lnTo>
                    <a:pt x="13244" y="7858"/>
                  </a:lnTo>
                  <a:lnTo>
                    <a:pt x="13244" y="6381"/>
                  </a:lnTo>
                  <a:lnTo>
                    <a:pt x="11938" y="6381"/>
                  </a:lnTo>
                  <a:cubicBezTo>
                    <a:pt x="10369" y="6381"/>
                    <a:pt x="9816" y="7120"/>
                    <a:pt x="9816" y="8363"/>
                  </a:cubicBezTo>
                  <a:lnTo>
                    <a:pt x="9816" y="9322"/>
                  </a:lnTo>
                  <a:lnTo>
                    <a:pt x="8837" y="9322"/>
                  </a:lnTo>
                  <a:lnTo>
                    <a:pt x="8837" y="10800"/>
                  </a:lnTo>
                  <a:lnTo>
                    <a:pt x="9816" y="10800"/>
                  </a:lnTo>
                  <a:lnTo>
                    <a:pt x="9816" y="15219"/>
                  </a:lnTo>
                  <a:lnTo>
                    <a:pt x="11774" y="15219"/>
                  </a:lnTo>
                  <a:lnTo>
                    <a:pt x="11774" y="10800"/>
                  </a:lnTo>
                  <a:lnTo>
                    <a:pt x="13081" y="10800"/>
                  </a:lnTo>
                  <a:lnTo>
                    <a:pt x="13254" y="9322"/>
                  </a:lnTo>
                  <a:lnTo>
                    <a:pt x="11774" y="9322"/>
                  </a:lnTo>
                  <a:cubicBezTo>
                    <a:pt x="11774" y="9322"/>
                    <a:pt x="11776" y="8468"/>
                    <a:pt x="11776" y="8468"/>
                  </a:cubicBezTo>
                  <a:close/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15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Shape 2861"/>
            <p:cNvSpPr/>
            <p:nvPr/>
          </p:nvSpPr>
          <p:spPr>
            <a:xfrm>
              <a:off x="5253120" y="5649840"/>
              <a:ext cx="279360" cy="28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324" y="12090"/>
                  </a:moveTo>
                  <a:cubicBezTo>
                    <a:pt x="14019" y="12090"/>
                    <a:pt x="14019" y="12428"/>
                    <a:pt x="14019" y="12428"/>
                  </a:cubicBezTo>
                  <a:lnTo>
                    <a:pt x="14019" y="12863"/>
                  </a:lnTo>
                  <a:lnTo>
                    <a:pt x="14628" y="12863"/>
                  </a:lnTo>
                  <a:lnTo>
                    <a:pt x="14628" y="12428"/>
                  </a:lnTo>
                  <a:cubicBezTo>
                    <a:pt x="14628" y="12428"/>
                    <a:pt x="14628" y="12090"/>
                    <a:pt x="14324" y="12090"/>
                  </a:cubicBezTo>
                  <a:moveTo>
                    <a:pt x="15287" y="12380"/>
                  </a:moveTo>
                  <a:lnTo>
                    <a:pt x="15287" y="13348"/>
                  </a:lnTo>
                  <a:lnTo>
                    <a:pt x="14019" y="13348"/>
                  </a:lnTo>
                  <a:lnTo>
                    <a:pt x="14019" y="14072"/>
                  </a:lnTo>
                  <a:cubicBezTo>
                    <a:pt x="14019" y="14072"/>
                    <a:pt x="14019" y="14411"/>
                    <a:pt x="14324" y="14411"/>
                  </a:cubicBezTo>
                  <a:cubicBezTo>
                    <a:pt x="14628" y="14411"/>
                    <a:pt x="14628" y="14072"/>
                    <a:pt x="14628" y="14072"/>
                  </a:cubicBezTo>
                  <a:lnTo>
                    <a:pt x="14628" y="13734"/>
                  </a:lnTo>
                  <a:lnTo>
                    <a:pt x="15287" y="13734"/>
                  </a:lnTo>
                  <a:lnTo>
                    <a:pt x="15287" y="14266"/>
                  </a:lnTo>
                  <a:cubicBezTo>
                    <a:pt x="15287" y="14266"/>
                    <a:pt x="15186" y="14943"/>
                    <a:pt x="14375" y="14943"/>
                  </a:cubicBezTo>
                  <a:cubicBezTo>
                    <a:pt x="13564" y="14943"/>
                    <a:pt x="13411" y="14266"/>
                    <a:pt x="13411" y="14266"/>
                  </a:cubicBezTo>
                  <a:lnTo>
                    <a:pt x="13411" y="12380"/>
                  </a:lnTo>
                  <a:cubicBezTo>
                    <a:pt x="13411" y="12380"/>
                    <a:pt x="13411" y="11558"/>
                    <a:pt x="14375" y="11558"/>
                  </a:cubicBezTo>
                  <a:cubicBezTo>
                    <a:pt x="15338" y="11558"/>
                    <a:pt x="15287" y="12380"/>
                    <a:pt x="15287" y="12380"/>
                  </a:cubicBezTo>
                  <a:moveTo>
                    <a:pt x="12904" y="14169"/>
                  </a:moveTo>
                  <a:cubicBezTo>
                    <a:pt x="12904" y="14169"/>
                    <a:pt x="12904" y="14943"/>
                    <a:pt x="12347" y="14943"/>
                  </a:cubicBezTo>
                  <a:cubicBezTo>
                    <a:pt x="12005" y="14943"/>
                    <a:pt x="11798" y="14762"/>
                    <a:pt x="11687" y="14621"/>
                  </a:cubicBezTo>
                  <a:lnTo>
                    <a:pt x="11687" y="14895"/>
                  </a:lnTo>
                  <a:lnTo>
                    <a:pt x="11028" y="14895"/>
                  </a:lnTo>
                  <a:lnTo>
                    <a:pt x="11028" y="10446"/>
                  </a:lnTo>
                  <a:lnTo>
                    <a:pt x="11687" y="10446"/>
                  </a:lnTo>
                  <a:lnTo>
                    <a:pt x="11687" y="11888"/>
                  </a:lnTo>
                  <a:cubicBezTo>
                    <a:pt x="11788" y="11782"/>
                    <a:pt x="12036" y="11558"/>
                    <a:pt x="12347" y="11558"/>
                  </a:cubicBezTo>
                  <a:cubicBezTo>
                    <a:pt x="12752" y="11558"/>
                    <a:pt x="12904" y="11896"/>
                    <a:pt x="12904" y="12332"/>
                  </a:cubicBezTo>
                  <a:cubicBezTo>
                    <a:pt x="12904" y="12332"/>
                    <a:pt x="12904" y="14169"/>
                    <a:pt x="12904" y="14169"/>
                  </a:cubicBezTo>
                  <a:close/>
                  <a:moveTo>
                    <a:pt x="10521" y="14895"/>
                  </a:moveTo>
                  <a:lnTo>
                    <a:pt x="9913" y="14895"/>
                  </a:lnTo>
                  <a:lnTo>
                    <a:pt x="9913" y="14605"/>
                  </a:lnTo>
                  <a:cubicBezTo>
                    <a:pt x="9913" y="14605"/>
                    <a:pt x="9558" y="14943"/>
                    <a:pt x="9152" y="14943"/>
                  </a:cubicBezTo>
                  <a:cubicBezTo>
                    <a:pt x="8747" y="14943"/>
                    <a:pt x="8696" y="14556"/>
                    <a:pt x="8696" y="14556"/>
                  </a:cubicBezTo>
                  <a:lnTo>
                    <a:pt x="8696" y="11558"/>
                  </a:lnTo>
                  <a:lnTo>
                    <a:pt x="9304" y="11558"/>
                  </a:lnTo>
                  <a:lnTo>
                    <a:pt x="9304" y="14362"/>
                  </a:lnTo>
                  <a:cubicBezTo>
                    <a:pt x="9304" y="14362"/>
                    <a:pt x="9304" y="14508"/>
                    <a:pt x="9507" y="14508"/>
                  </a:cubicBezTo>
                  <a:cubicBezTo>
                    <a:pt x="9710" y="14508"/>
                    <a:pt x="9913" y="14266"/>
                    <a:pt x="9913" y="14266"/>
                  </a:cubicBezTo>
                  <a:lnTo>
                    <a:pt x="9913" y="11558"/>
                  </a:lnTo>
                  <a:lnTo>
                    <a:pt x="10521" y="11558"/>
                  </a:lnTo>
                  <a:cubicBezTo>
                    <a:pt x="10521" y="11558"/>
                    <a:pt x="10521" y="14895"/>
                    <a:pt x="10521" y="14895"/>
                  </a:cubicBezTo>
                  <a:close/>
                  <a:moveTo>
                    <a:pt x="8595" y="11074"/>
                  </a:moveTo>
                  <a:lnTo>
                    <a:pt x="7834" y="11074"/>
                  </a:lnTo>
                  <a:lnTo>
                    <a:pt x="7834" y="14895"/>
                  </a:lnTo>
                  <a:lnTo>
                    <a:pt x="7124" y="14895"/>
                  </a:lnTo>
                  <a:lnTo>
                    <a:pt x="7124" y="11074"/>
                  </a:lnTo>
                  <a:lnTo>
                    <a:pt x="6363" y="11074"/>
                  </a:lnTo>
                  <a:lnTo>
                    <a:pt x="6363" y="10446"/>
                  </a:lnTo>
                  <a:lnTo>
                    <a:pt x="8595" y="10446"/>
                  </a:lnTo>
                  <a:cubicBezTo>
                    <a:pt x="8595" y="10446"/>
                    <a:pt x="8595" y="11074"/>
                    <a:pt x="8595" y="11074"/>
                  </a:cubicBezTo>
                  <a:close/>
                  <a:moveTo>
                    <a:pt x="14527" y="9430"/>
                  </a:moveTo>
                  <a:cubicBezTo>
                    <a:pt x="14527" y="9430"/>
                    <a:pt x="12667" y="9334"/>
                    <a:pt x="10800" y="9334"/>
                  </a:cubicBezTo>
                  <a:cubicBezTo>
                    <a:pt x="8940" y="9334"/>
                    <a:pt x="7074" y="9430"/>
                    <a:pt x="7074" y="9430"/>
                  </a:cubicBezTo>
                  <a:cubicBezTo>
                    <a:pt x="6233" y="9430"/>
                    <a:pt x="5552" y="10080"/>
                    <a:pt x="5552" y="10881"/>
                  </a:cubicBezTo>
                  <a:cubicBezTo>
                    <a:pt x="5552" y="10881"/>
                    <a:pt x="5400" y="11822"/>
                    <a:pt x="5400" y="12767"/>
                  </a:cubicBezTo>
                  <a:cubicBezTo>
                    <a:pt x="5400" y="13708"/>
                    <a:pt x="5552" y="14652"/>
                    <a:pt x="5552" y="14652"/>
                  </a:cubicBezTo>
                  <a:cubicBezTo>
                    <a:pt x="5552" y="15454"/>
                    <a:pt x="6233" y="16103"/>
                    <a:pt x="7074" y="16103"/>
                  </a:cubicBezTo>
                  <a:cubicBezTo>
                    <a:pt x="7074" y="16103"/>
                    <a:pt x="8905" y="16200"/>
                    <a:pt x="10800" y="16200"/>
                  </a:cubicBezTo>
                  <a:cubicBezTo>
                    <a:pt x="12630" y="16200"/>
                    <a:pt x="14527" y="16103"/>
                    <a:pt x="14527" y="16103"/>
                  </a:cubicBezTo>
                  <a:cubicBezTo>
                    <a:pt x="15367" y="16103"/>
                    <a:pt x="16048" y="15454"/>
                    <a:pt x="16048" y="14652"/>
                  </a:cubicBezTo>
                  <a:cubicBezTo>
                    <a:pt x="16048" y="14652"/>
                    <a:pt x="16200" y="13700"/>
                    <a:pt x="16200" y="12767"/>
                  </a:cubicBezTo>
                  <a:cubicBezTo>
                    <a:pt x="16200" y="11814"/>
                    <a:pt x="16048" y="10881"/>
                    <a:pt x="16048" y="10881"/>
                  </a:cubicBezTo>
                  <a:cubicBezTo>
                    <a:pt x="16048" y="10080"/>
                    <a:pt x="15367" y="9430"/>
                    <a:pt x="14527" y="9430"/>
                  </a:cubicBezTo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moveTo>
                    <a:pt x="11992" y="12090"/>
                  </a:moveTo>
                  <a:cubicBezTo>
                    <a:pt x="11860" y="12090"/>
                    <a:pt x="11757" y="12168"/>
                    <a:pt x="11687" y="12243"/>
                  </a:cubicBezTo>
                  <a:lnTo>
                    <a:pt x="11687" y="14276"/>
                  </a:lnTo>
                  <a:cubicBezTo>
                    <a:pt x="11751" y="14345"/>
                    <a:pt x="11847" y="14411"/>
                    <a:pt x="11992" y="14411"/>
                  </a:cubicBezTo>
                  <a:cubicBezTo>
                    <a:pt x="12296" y="14411"/>
                    <a:pt x="12296" y="14072"/>
                    <a:pt x="12296" y="14072"/>
                  </a:cubicBezTo>
                  <a:lnTo>
                    <a:pt x="12296" y="12428"/>
                  </a:lnTo>
                  <a:cubicBezTo>
                    <a:pt x="12296" y="12428"/>
                    <a:pt x="12245" y="12090"/>
                    <a:pt x="11992" y="12090"/>
                  </a:cubicBezTo>
                  <a:moveTo>
                    <a:pt x="7986" y="8751"/>
                  </a:moveTo>
                  <a:lnTo>
                    <a:pt x="8696" y="8751"/>
                  </a:lnTo>
                  <a:lnTo>
                    <a:pt x="8696" y="7188"/>
                  </a:lnTo>
                  <a:lnTo>
                    <a:pt x="9507" y="4970"/>
                  </a:lnTo>
                  <a:lnTo>
                    <a:pt x="8848" y="4970"/>
                  </a:lnTo>
                  <a:lnTo>
                    <a:pt x="8341" y="6433"/>
                  </a:lnTo>
                  <a:lnTo>
                    <a:pt x="7834" y="4970"/>
                  </a:lnTo>
                  <a:lnTo>
                    <a:pt x="7124" y="4970"/>
                  </a:lnTo>
                  <a:lnTo>
                    <a:pt x="7986" y="7188"/>
                  </a:lnTo>
                  <a:cubicBezTo>
                    <a:pt x="7986" y="7188"/>
                    <a:pt x="7986" y="8751"/>
                    <a:pt x="7986" y="8751"/>
                  </a:cubicBezTo>
                  <a:close/>
                  <a:moveTo>
                    <a:pt x="12397" y="8801"/>
                  </a:moveTo>
                  <a:cubicBezTo>
                    <a:pt x="12802" y="8801"/>
                    <a:pt x="13158" y="8449"/>
                    <a:pt x="13158" y="8449"/>
                  </a:cubicBezTo>
                  <a:lnTo>
                    <a:pt x="13158" y="8751"/>
                  </a:lnTo>
                  <a:lnTo>
                    <a:pt x="13766" y="8751"/>
                  </a:lnTo>
                  <a:lnTo>
                    <a:pt x="13766" y="5878"/>
                  </a:lnTo>
                  <a:lnTo>
                    <a:pt x="13158" y="5878"/>
                  </a:lnTo>
                  <a:lnTo>
                    <a:pt x="13158" y="8096"/>
                  </a:lnTo>
                  <a:cubicBezTo>
                    <a:pt x="13158" y="8096"/>
                    <a:pt x="12955" y="8348"/>
                    <a:pt x="12752" y="8348"/>
                  </a:cubicBezTo>
                  <a:cubicBezTo>
                    <a:pt x="12549" y="8348"/>
                    <a:pt x="12549" y="8196"/>
                    <a:pt x="12549" y="8196"/>
                  </a:cubicBezTo>
                  <a:lnTo>
                    <a:pt x="12549" y="5878"/>
                  </a:lnTo>
                  <a:lnTo>
                    <a:pt x="11941" y="5878"/>
                  </a:lnTo>
                  <a:lnTo>
                    <a:pt x="11941" y="8398"/>
                  </a:lnTo>
                  <a:cubicBezTo>
                    <a:pt x="11941" y="8398"/>
                    <a:pt x="11992" y="8801"/>
                    <a:pt x="12397" y="8801"/>
                  </a:cubicBezTo>
                  <a:moveTo>
                    <a:pt x="10166" y="6634"/>
                  </a:moveTo>
                  <a:cubicBezTo>
                    <a:pt x="10166" y="6467"/>
                    <a:pt x="10302" y="6332"/>
                    <a:pt x="10470" y="6332"/>
                  </a:cubicBezTo>
                  <a:cubicBezTo>
                    <a:pt x="10639" y="6332"/>
                    <a:pt x="10775" y="6467"/>
                    <a:pt x="10775" y="6634"/>
                  </a:cubicBezTo>
                  <a:lnTo>
                    <a:pt x="10775" y="8045"/>
                  </a:lnTo>
                  <a:cubicBezTo>
                    <a:pt x="10775" y="8212"/>
                    <a:pt x="10639" y="8348"/>
                    <a:pt x="10470" y="8348"/>
                  </a:cubicBezTo>
                  <a:cubicBezTo>
                    <a:pt x="10302" y="8348"/>
                    <a:pt x="10166" y="8212"/>
                    <a:pt x="10166" y="8045"/>
                  </a:cubicBezTo>
                  <a:cubicBezTo>
                    <a:pt x="10166" y="8045"/>
                    <a:pt x="10166" y="6634"/>
                    <a:pt x="10166" y="6634"/>
                  </a:cubicBezTo>
                  <a:close/>
                  <a:moveTo>
                    <a:pt x="10369" y="8801"/>
                  </a:moveTo>
                  <a:lnTo>
                    <a:pt x="10572" y="8801"/>
                  </a:lnTo>
                  <a:cubicBezTo>
                    <a:pt x="11020" y="8801"/>
                    <a:pt x="11383" y="8440"/>
                    <a:pt x="11383" y="7995"/>
                  </a:cubicBezTo>
                  <a:lnTo>
                    <a:pt x="11383" y="6684"/>
                  </a:lnTo>
                  <a:cubicBezTo>
                    <a:pt x="11383" y="6239"/>
                    <a:pt x="11020" y="5878"/>
                    <a:pt x="10572" y="5878"/>
                  </a:cubicBezTo>
                  <a:lnTo>
                    <a:pt x="10369" y="5878"/>
                  </a:lnTo>
                  <a:cubicBezTo>
                    <a:pt x="9921" y="5878"/>
                    <a:pt x="9558" y="6239"/>
                    <a:pt x="9558" y="6684"/>
                  </a:cubicBezTo>
                  <a:lnTo>
                    <a:pt x="9558" y="7995"/>
                  </a:lnTo>
                  <a:cubicBezTo>
                    <a:pt x="9558" y="8440"/>
                    <a:pt x="9921" y="8801"/>
                    <a:pt x="10369" y="8801"/>
                  </a:cubicBezTo>
                </a:path>
              </a:pathLst>
            </a:custGeom>
            <a:solidFill>
              <a:srgbClr val="f15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Shape 2864"/>
            <p:cNvSpPr/>
            <p:nvPr/>
          </p:nvSpPr>
          <p:spPr>
            <a:xfrm>
              <a:off x="4645440" y="5649840"/>
              <a:ext cx="279360" cy="28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725" y="7359"/>
                  </a:moveTo>
                  <a:lnTo>
                    <a:pt x="13743" y="7359"/>
                  </a:lnTo>
                  <a:lnTo>
                    <a:pt x="13743" y="8833"/>
                  </a:lnTo>
                  <a:lnTo>
                    <a:pt x="12265" y="8833"/>
                  </a:lnTo>
                  <a:lnTo>
                    <a:pt x="12265" y="9816"/>
                  </a:lnTo>
                  <a:lnTo>
                    <a:pt x="13743" y="9816"/>
                  </a:lnTo>
                  <a:lnTo>
                    <a:pt x="13743" y="11283"/>
                  </a:lnTo>
                  <a:lnTo>
                    <a:pt x="14725" y="11283"/>
                  </a:lnTo>
                  <a:lnTo>
                    <a:pt x="14725" y="9816"/>
                  </a:lnTo>
                  <a:lnTo>
                    <a:pt x="16205" y="9816"/>
                  </a:lnTo>
                  <a:lnTo>
                    <a:pt x="16205" y="8833"/>
                  </a:lnTo>
                  <a:lnTo>
                    <a:pt x="14725" y="8833"/>
                  </a:lnTo>
                  <a:cubicBezTo>
                    <a:pt x="14725" y="8833"/>
                    <a:pt x="14725" y="7359"/>
                    <a:pt x="14725" y="7359"/>
                  </a:cubicBezTo>
                  <a:close/>
                  <a:moveTo>
                    <a:pt x="9321" y="13946"/>
                  </a:moveTo>
                  <a:cubicBezTo>
                    <a:pt x="8620" y="13946"/>
                    <a:pt x="8071" y="13495"/>
                    <a:pt x="8071" y="12919"/>
                  </a:cubicBezTo>
                  <a:cubicBezTo>
                    <a:pt x="8071" y="12392"/>
                    <a:pt x="8713" y="11929"/>
                    <a:pt x="9446" y="11929"/>
                  </a:cubicBezTo>
                  <a:lnTo>
                    <a:pt x="9446" y="11723"/>
                  </a:lnTo>
                  <a:lnTo>
                    <a:pt x="9447" y="11723"/>
                  </a:lnTo>
                  <a:lnTo>
                    <a:pt x="9465" y="11929"/>
                  </a:lnTo>
                  <a:cubicBezTo>
                    <a:pt x="9624" y="11930"/>
                    <a:pt x="9777" y="11954"/>
                    <a:pt x="9922" y="12000"/>
                  </a:cubicBezTo>
                  <a:lnTo>
                    <a:pt x="10067" y="12104"/>
                  </a:lnTo>
                  <a:cubicBezTo>
                    <a:pt x="10440" y="12371"/>
                    <a:pt x="10637" y="12521"/>
                    <a:pt x="10695" y="12764"/>
                  </a:cubicBezTo>
                  <a:cubicBezTo>
                    <a:pt x="10710" y="12827"/>
                    <a:pt x="10717" y="12891"/>
                    <a:pt x="10717" y="12954"/>
                  </a:cubicBezTo>
                  <a:cubicBezTo>
                    <a:pt x="10717" y="13612"/>
                    <a:pt x="10247" y="13946"/>
                    <a:pt x="9321" y="13946"/>
                  </a:cubicBezTo>
                  <a:moveTo>
                    <a:pt x="8542" y="8739"/>
                  </a:moveTo>
                  <a:cubicBezTo>
                    <a:pt x="8495" y="8362"/>
                    <a:pt x="8574" y="8014"/>
                    <a:pt x="8754" y="7806"/>
                  </a:cubicBezTo>
                  <a:cubicBezTo>
                    <a:pt x="8864" y="7680"/>
                    <a:pt x="9006" y="7613"/>
                    <a:pt x="9164" y="7613"/>
                  </a:cubicBezTo>
                  <a:lnTo>
                    <a:pt x="9164" y="7409"/>
                  </a:lnTo>
                  <a:lnTo>
                    <a:pt x="9182" y="7613"/>
                  </a:lnTo>
                  <a:cubicBezTo>
                    <a:pt x="9653" y="7628"/>
                    <a:pt x="10105" y="8185"/>
                    <a:pt x="10189" y="8855"/>
                  </a:cubicBezTo>
                  <a:cubicBezTo>
                    <a:pt x="10237" y="9239"/>
                    <a:pt x="10155" y="9596"/>
                    <a:pt x="9970" y="9809"/>
                  </a:cubicBezTo>
                  <a:cubicBezTo>
                    <a:pt x="9860" y="9935"/>
                    <a:pt x="9722" y="10002"/>
                    <a:pt x="9550" y="10001"/>
                  </a:cubicBezTo>
                  <a:lnTo>
                    <a:pt x="9549" y="10001"/>
                  </a:lnTo>
                  <a:cubicBezTo>
                    <a:pt x="9087" y="9988"/>
                    <a:pt x="8626" y="9409"/>
                    <a:pt x="8542" y="8739"/>
                  </a:cubicBezTo>
                  <a:moveTo>
                    <a:pt x="10838" y="11196"/>
                  </a:moveTo>
                  <a:cubicBezTo>
                    <a:pt x="10586" y="11009"/>
                    <a:pt x="10351" y="10732"/>
                    <a:pt x="10342" y="10646"/>
                  </a:cubicBezTo>
                  <a:cubicBezTo>
                    <a:pt x="10342" y="10499"/>
                    <a:pt x="10342" y="10431"/>
                    <a:pt x="10689" y="10148"/>
                  </a:cubicBezTo>
                  <a:cubicBezTo>
                    <a:pt x="11138" y="9780"/>
                    <a:pt x="11386" y="9295"/>
                    <a:pt x="11386" y="8784"/>
                  </a:cubicBezTo>
                  <a:cubicBezTo>
                    <a:pt x="11386" y="8342"/>
                    <a:pt x="11262" y="7947"/>
                    <a:pt x="11050" y="7659"/>
                  </a:cubicBezTo>
                  <a:lnTo>
                    <a:pt x="11238" y="7659"/>
                  </a:lnTo>
                  <a:lnTo>
                    <a:pt x="12276" y="6873"/>
                  </a:lnTo>
                  <a:lnTo>
                    <a:pt x="9463" y="6873"/>
                  </a:lnTo>
                  <a:cubicBezTo>
                    <a:pt x="8335" y="6873"/>
                    <a:pt x="7345" y="7759"/>
                    <a:pt x="7345" y="8769"/>
                  </a:cubicBezTo>
                  <a:cubicBezTo>
                    <a:pt x="7345" y="9812"/>
                    <a:pt x="8109" y="10605"/>
                    <a:pt x="9137" y="10648"/>
                  </a:cubicBezTo>
                  <a:cubicBezTo>
                    <a:pt x="9121" y="10722"/>
                    <a:pt x="9113" y="10795"/>
                    <a:pt x="9113" y="10868"/>
                  </a:cubicBezTo>
                  <a:cubicBezTo>
                    <a:pt x="9113" y="11018"/>
                    <a:pt x="9147" y="11162"/>
                    <a:pt x="9216" y="11300"/>
                  </a:cubicBezTo>
                  <a:cubicBezTo>
                    <a:pt x="7943" y="11309"/>
                    <a:pt x="6870" y="12161"/>
                    <a:pt x="6870" y="13167"/>
                  </a:cubicBezTo>
                  <a:cubicBezTo>
                    <a:pt x="6870" y="14071"/>
                    <a:pt x="7903" y="14727"/>
                    <a:pt x="9325" y="14727"/>
                  </a:cubicBezTo>
                  <a:cubicBezTo>
                    <a:pt x="10861" y="14727"/>
                    <a:pt x="11690" y="13766"/>
                    <a:pt x="11690" y="12860"/>
                  </a:cubicBezTo>
                  <a:cubicBezTo>
                    <a:pt x="11690" y="12108"/>
                    <a:pt x="11459" y="11656"/>
                    <a:pt x="10838" y="11196"/>
                  </a:cubicBezTo>
                  <a:moveTo>
                    <a:pt x="10800" y="20618"/>
                  </a:move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8"/>
                    <a:pt x="5378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5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15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9" name="Group 70"/>
          <p:cNvGrpSpPr/>
          <p:nvPr/>
        </p:nvGrpSpPr>
        <p:grpSpPr>
          <a:xfrm>
            <a:off x="6875640" y="5648400"/>
            <a:ext cx="1203120" cy="280800"/>
            <a:chOff x="6875640" y="5648400"/>
            <a:chExt cx="1203120" cy="280800"/>
          </a:xfrm>
        </p:grpSpPr>
        <p:sp>
          <p:nvSpPr>
            <p:cNvPr id="810" name="Shape 2859"/>
            <p:cNvSpPr/>
            <p:nvPr/>
          </p:nvSpPr>
          <p:spPr>
            <a:xfrm>
              <a:off x="7500960" y="5650920"/>
              <a:ext cx="27900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moveTo>
                    <a:pt x="15929" y="7018"/>
                  </a:moveTo>
                  <a:cubicBezTo>
                    <a:pt x="15539" y="7246"/>
                    <a:pt x="15108" y="7411"/>
                    <a:pt x="14650" y="7500"/>
                  </a:cubicBezTo>
                  <a:cubicBezTo>
                    <a:pt x="14282" y="7114"/>
                    <a:pt x="13759" y="6874"/>
                    <a:pt x="13179" y="6874"/>
                  </a:cubicBezTo>
                  <a:cubicBezTo>
                    <a:pt x="12067" y="6874"/>
                    <a:pt x="11165" y="7762"/>
                    <a:pt x="11165" y="8856"/>
                  </a:cubicBezTo>
                  <a:cubicBezTo>
                    <a:pt x="11165" y="9011"/>
                    <a:pt x="11183" y="9162"/>
                    <a:pt x="11217" y="9308"/>
                  </a:cubicBezTo>
                  <a:cubicBezTo>
                    <a:pt x="9543" y="9225"/>
                    <a:pt x="8059" y="8436"/>
                    <a:pt x="7065" y="7236"/>
                  </a:cubicBezTo>
                  <a:cubicBezTo>
                    <a:pt x="6892" y="7530"/>
                    <a:pt x="6793" y="7869"/>
                    <a:pt x="6793" y="8233"/>
                  </a:cubicBezTo>
                  <a:cubicBezTo>
                    <a:pt x="6793" y="8921"/>
                    <a:pt x="7148" y="9528"/>
                    <a:pt x="7689" y="9883"/>
                  </a:cubicBezTo>
                  <a:cubicBezTo>
                    <a:pt x="7359" y="9873"/>
                    <a:pt x="7048" y="9784"/>
                    <a:pt x="6776" y="9635"/>
                  </a:cubicBezTo>
                  <a:cubicBezTo>
                    <a:pt x="6776" y="9644"/>
                    <a:pt x="6776" y="9651"/>
                    <a:pt x="6776" y="9660"/>
                  </a:cubicBezTo>
                  <a:cubicBezTo>
                    <a:pt x="6776" y="10621"/>
                    <a:pt x="7471" y="11422"/>
                    <a:pt x="8392" y="11604"/>
                  </a:cubicBezTo>
                  <a:cubicBezTo>
                    <a:pt x="8223" y="11650"/>
                    <a:pt x="8045" y="11673"/>
                    <a:pt x="7861" y="11673"/>
                  </a:cubicBezTo>
                  <a:cubicBezTo>
                    <a:pt x="7732" y="11673"/>
                    <a:pt x="7605" y="11661"/>
                    <a:pt x="7483" y="11638"/>
                  </a:cubicBezTo>
                  <a:cubicBezTo>
                    <a:pt x="7739" y="12426"/>
                    <a:pt x="8483" y="12999"/>
                    <a:pt x="9364" y="13015"/>
                  </a:cubicBezTo>
                  <a:cubicBezTo>
                    <a:pt x="8674" y="13547"/>
                    <a:pt x="7806" y="13863"/>
                    <a:pt x="6862" y="13863"/>
                  </a:cubicBezTo>
                  <a:cubicBezTo>
                    <a:pt x="6699" y="13863"/>
                    <a:pt x="6540" y="13855"/>
                    <a:pt x="6382" y="13837"/>
                  </a:cubicBezTo>
                  <a:cubicBezTo>
                    <a:pt x="7274" y="14398"/>
                    <a:pt x="8332" y="14727"/>
                    <a:pt x="9470" y="14727"/>
                  </a:cubicBezTo>
                  <a:cubicBezTo>
                    <a:pt x="13175" y="14727"/>
                    <a:pt x="15201" y="11706"/>
                    <a:pt x="15201" y="9086"/>
                  </a:cubicBezTo>
                  <a:cubicBezTo>
                    <a:pt x="15201" y="9000"/>
                    <a:pt x="15199" y="8915"/>
                    <a:pt x="15195" y="8830"/>
                  </a:cubicBezTo>
                  <a:cubicBezTo>
                    <a:pt x="15588" y="8550"/>
                    <a:pt x="15930" y="8201"/>
                    <a:pt x="16200" y="7804"/>
                  </a:cubicBezTo>
                  <a:cubicBezTo>
                    <a:pt x="15839" y="7961"/>
                    <a:pt x="15451" y="8067"/>
                    <a:pt x="15043" y="8115"/>
                  </a:cubicBezTo>
                  <a:cubicBezTo>
                    <a:pt x="15459" y="7870"/>
                    <a:pt x="15778" y="7482"/>
                    <a:pt x="15929" y="7018"/>
                  </a:cubicBezTo>
                </a:path>
              </a:pathLst>
            </a:custGeom>
            <a:solidFill>
              <a:srgbClr val="f15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Shape 2860"/>
            <p:cNvSpPr/>
            <p:nvPr/>
          </p:nvSpPr>
          <p:spPr>
            <a:xfrm>
              <a:off x="6875640" y="5649120"/>
              <a:ext cx="27900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776" y="8468"/>
                  </a:moveTo>
                  <a:cubicBezTo>
                    <a:pt x="11776" y="8071"/>
                    <a:pt x="11817" y="7858"/>
                    <a:pt x="12428" y="7858"/>
                  </a:cubicBezTo>
                  <a:lnTo>
                    <a:pt x="13244" y="7858"/>
                  </a:lnTo>
                  <a:lnTo>
                    <a:pt x="13244" y="6381"/>
                  </a:lnTo>
                  <a:lnTo>
                    <a:pt x="11938" y="6381"/>
                  </a:lnTo>
                  <a:cubicBezTo>
                    <a:pt x="10369" y="6381"/>
                    <a:pt x="9816" y="7120"/>
                    <a:pt x="9816" y="8363"/>
                  </a:cubicBezTo>
                  <a:lnTo>
                    <a:pt x="9816" y="9322"/>
                  </a:lnTo>
                  <a:lnTo>
                    <a:pt x="8837" y="9322"/>
                  </a:lnTo>
                  <a:lnTo>
                    <a:pt x="8837" y="10800"/>
                  </a:lnTo>
                  <a:lnTo>
                    <a:pt x="9816" y="10800"/>
                  </a:lnTo>
                  <a:lnTo>
                    <a:pt x="9816" y="15219"/>
                  </a:lnTo>
                  <a:lnTo>
                    <a:pt x="11774" y="15219"/>
                  </a:lnTo>
                  <a:lnTo>
                    <a:pt x="11774" y="10800"/>
                  </a:lnTo>
                  <a:lnTo>
                    <a:pt x="13081" y="10800"/>
                  </a:lnTo>
                  <a:lnTo>
                    <a:pt x="13254" y="9322"/>
                  </a:lnTo>
                  <a:lnTo>
                    <a:pt x="11774" y="9322"/>
                  </a:lnTo>
                  <a:cubicBezTo>
                    <a:pt x="11774" y="9322"/>
                    <a:pt x="11776" y="8468"/>
                    <a:pt x="11776" y="8468"/>
                  </a:cubicBezTo>
                  <a:close/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15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Shape 2861"/>
            <p:cNvSpPr/>
            <p:nvPr/>
          </p:nvSpPr>
          <p:spPr>
            <a:xfrm>
              <a:off x="7799760" y="5648400"/>
              <a:ext cx="27900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324" y="12090"/>
                  </a:moveTo>
                  <a:cubicBezTo>
                    <a:pt x="14019" y="12090"/>
                    <a:pt x="14019" y="12428"/>
                    <a:pt x="14019" y="12428"/>
                  </a:cubicBezTo>
                  <a:lnTo>
                    <a:pt x="14019" y="12863"/>
                  </a:lnTo>
                  <a:lnTo>
                    <a:pt x="14628" y="12863"/>
                  </a:lnTo>
                  <a:lnTo>
                    <a:pt x="14628" y="12428"/>
                  </a:lnTo>
                  <a:cubicBezTo>
                    <a:pt x="14628" y="12428"/>
                    <a:pt x="14628" y="12090"/>
                    <a:pt x="14324" y="12090"/>
                  </a:cubicBezTo>
                  <a:moveTo>
                    <a:pt x="15287" y="12380"/>
                  </a:moveTo>
                  <a:lnTo>
                    <a:pt x="15287" y="13348"/>
                  </a:lnTo>
                  <a:lnTo>
                    <a:pt x="14019" y="13348"/>
                  </a:lnTo>
                  <a:lnTo>
                    <a:pt x="14019" y="14072"/>
                  </a:lnTo>
                  <a:cubicBezTo>
                    <a:pt x="14019" y="14072"/>
                    <a:pt x="14019" y="14411"/>
                    <a:pt x="14324" y="14411"/>
                  </a:cubicBezTo>
                  <a:cubicBezTo>
                    <a:pt x="14628" y="14411"/>
                    <a:pt x="14628" y="14072"/>
                    <a:pt x="14628" y="14072"/>
                  </a:cubicBezTo>
                  <a:lnTo>
                    <a:pt x="14628" y="13734"/>
                  </a:lnTo>
                  <a:lnTo>
                    <a:pt x="15287" y="13734"/>
                  </a:lnTo>
                  <a:lnTo>
                    <a:pt x="15287" y="14266"/>
                  </a:lnTo>
                  <a:cubicBezTo>
                    <a:pt x="15287" y="14266"/>
                    <a:pt x="15186" y="14943"/>
                    <a:pt x="14375" y="14943"/>
                  </a:cubicBezTo>
                  <a:cubicBezTo>
                    <a:pt x="13564" y="14943"/>
                    <a:pt x="13411" y="14266"/>
                    <a:pt x="13411" y="14266"/>
                  </a:cubicBezTo>
                  <a:lnTo>
                    <a:pt x="13411" y="12380"/>
                  </a:lnTo>
                  <a:cubicBezTo>
                    <a:pt x="13411" y="12380"/>
                    <a:pt x="13411" y="11558"/>
                    <a:pt x="14375" y="11558"/>
                  </a:cubicBezTo>
                  <a:cubicBezTo>
                    <a:pt x="15338" y="11558"/>
                    <a:pt x="15287" y="12380"/>
                    <a:pt x="15287" y="12380"/>
                  </a:cubicBezTo>
                  <a:moveTo>
                    <a:pt x="12904" y="14169"/>
                  </a:moveTo>
                  <a:cubicBezTo>
                    <a:pt x="12904" y="14169"/>
                    <a:pt x="12904" y="14943"/>
                    <a:pt x="12347" y="14943"/>
                  </a:cubicBezTo>
                  <a:cubicBezTo>
                    <a:pt x="12005" y="14943"/>
                    <a:pt x="11798" y="14762"/>
                    <a:pt x="11687" y="14621"/>
                  </a:cubicBezTo>
                  <a:lnTo>
                    <a:pt x="11687" y="14895"/>
                  </a:lnTo>
                  <a:lnTo>
                    <a:pt x="11028" y="14895"/>
                  </a:lnTo>
                  <a:lnTo>
                    <a:pt x="11028" y="10446"/>
                  </a:lnTo>
                  <a:lnTo>
                    <a:pt x="11687" y="10446"/>
                  </a:lnTo>
                  <a:lnTo>
                    <a:pt x="11687" y="11888"/>
                  </a:lnTo>
                  <a:cubicBezTo>
                    <a:pt x="11788" y="11782"/>
                    <a:pt x="12036" y="11558"/>
                    <a:pt x="12347" y="11558"/>
                  </a:cubicBezTo>
                  <a:cubicBezTo>
                    <a:pt x="12752" y="11558"/>
                    <a:pt x="12904" y="11896"/>
                    <a:pt x="12904" y="12332"/>
                  </a:cubicBezTo>
                  <a:cubicBezTo>
                    <a:pt x="12904" y="12332"/>
                    <a:pt x="12904" y="14169"/>
                    <a:pt x="12904" y="14169"/>
                  </a:cubicBezTo>
                  <a:close/>
                  <a:moveTo>
                    <a:pt x="10521" y="14895"/>
                  </a:moveTo>
                  <a:lnTo>
                    <a:pt x="9913" y="14895"/>
                  </a:lnTo>
                  <a:lnTo>
                    <a:pt x="9913" y="14605"/>
                  </a:lnTo>
                  <a:cubicBezTo>
                    <a:pt x="9913" y="14605"/>
                    <a:pt x="9558" y="14943"/>
                    <a:pt x="9152" y="14943"/>
                  </a:cubicBezTo>
                  <a:cubicBezTo>
                    <a:pt x="8747" y="14943"/>
                    <a:pt x="8696" y="14556"/>
                    <a:pt x="8696" y="14556"/>
                  </a:cubicBezTo>
                  <a:lnTo>
                    <a:pt x="8696" y="11558"/>
                  </a:lnTo>
                  <a:lnTo>
                    <a:pt x="9304" y="11558"/>
                  </a:lnTo>
                  <a:lnTo>
                    <a:pt x="9304" y="14362"/>
                  </a:lnTo>
                  <a:cubicBezTo>
                    <a:pt x="9304" y="14362"/>
                    <a:pt x="9304" y="14508"/>
                    <a:pt x="9507" y="14508"/>
                  </a:cubicBezTo>
                  <a:cubicBezTo>
                    <a:pt x="9710" y="14508"/>
                    <a:pt x="9913" y="14266"/>
                    <a:pt x="9913" y="14266"/>
                  </a:cubicBezTo>
                  <a:lnTo>
                    <a:pt x="9913" y="11558"/>
                  </a:lnTo>
                  <a:lnTo>
                    <a:pt x="10521" y="11558"/>
                  </a:lnTo>
                  <a:cubicBezTo>
                    <a:pt x="10521" y="11558"/>
                    <a:pt x="10521" y="14895"/>
                    <a:pt x="10521" y="14895"/>
                  </a:cubicBezTo>
                  <a:close/>
                  <a:moveTo>
                    <a:pt x="8595" y="11074"/>
                  </a:moveTo>
                  <a:lnTo>
                    <a:pt x="7834" y="11074"/>
                  </a:lnTo>
                  <a:lnTo>
                    <a:pt x="7834" y="14895"/>
                  </a:lnTo>
                  <a:lnTo>
                    <a:pt x="7124" y="14895"/>
                  </a:lnTo>
                  <a:lnTo>
                    <a:pt x="7124" y="11074"/>
                  </a:lnTo>
                  <a:lnTo>
                    <a:pt x="6363" y="11074"/>
                  </a:lnTo>
                  <a:lnTo>
                    <a:pt x="6363" y="10446"/>
                  </a:lnTo>
                  <a:lnTo>
                    <a:pt x="8595" y="10446"/>
                  </a:lnTo>
                  <a:cubicBezTo>
                    <a:pt x="8595" y="10446"/>
                    <a:pt x="8595" y="11074"/>
                    <a:pt x="8595" y="11074"/>
                  </a:cubicBezTo>
                  <a:close/>
                  <a:moveTo>
                    <a:pt x="14527" y="9430"/>
                  </a:moveTo>
                  <a:cubicBezTo>
                    <a:pt x="14527" y="9430"/>
                    <a:pt x="12667" y="9334"/>
                    <a:pt x="10800" y="9334"/>
                  </a:cubicBezTo>
                  <a:cubicBezTo>
                    <a:pt x="8940" y="9334"/>
                    <a:pt x="7074" y="9430"/>
                    <a:pt x="7074" y="9430"/>
                  </a:cubicBezTo>
                  <a:cubicBezTo>
                    <a:pt x="6233" y="9430"/>
                    <a:pt x="5552" y="10080"/>
                    <a:pt x="5552" y="10881"/>
                  </a:cubicBezTo>
                  <a:cubicBezTo>
                    <a:pt x="5552" y="10881"/>
                    <a:pt x="5400" y="11822"/>
                    <a:pt x="5400" y="12767"/>
                  </a:cubicBezTo>
                  <a:cubicBezTo>
                    <a:pt x="5400" y="13708"/>
                    <a:pt x="5552" y="14652"/>
                    <a:pt x="5552" y="14652"/>
                  </a:cubicBezTo>
                  <a:cubicBezTo>
                    <a:pt x="5552" y="15454"/>
                    <a:pt x="6233" y="16103"/>
                    <a:pt x="7074" y="16103"/>
                  </a:cubicBezTo>
                  <a:cubicBezTo>
                    <a:pt x="7074" y="16103"/>
                    <a:pt x="8905" y="16200"/>
                    <a:pt x="10800" y="16200"/>
                  </a:cubicBezTo>
                  <a:cubicBezTo>
                    <a:pt x="12630" y="16200"/>
                    <a:pt x="14527" y="16103"/>
                    <a:pt x="14527" y="16103"/>
                  </a:cubicBezTo>
                  <a:cubicBezTo>
                    <a:pt x="15367" y="16103"/>
                    <a:pt x="16048" y="15454"/>
                    <a:pt x="16048" y="14652"/>
                  </a:cubicBezTo>
                  <a:cubicBezTo>
                    <a:pt x="16048" y="14652"/>
                    <a:pt x="16200" y="13700"/>
                    <a:pt x="16200" y="12767"/>
                  </a:cubicBezTo>
                  <a:cubicBezTo>
                    <a:pt x="16200" y="11814"/>
                    <a:pt x="16048" y="10881"/>
                    <a:pt x="16048" y="10881"/>
                  </a:cubicBezTo>
                  <a:cubicBezTo>
                    <a:pt x="16048" y="10080"/>
                    <a:pt x="15367" y="9430"/>
                    <a:pt x="14527" y="9430"/>
                  </a:cubicBezTo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moveTo>
                    <a:pt x="11992" y="12090"/>
                  </a:moveTo>
                  <a:cubicBezTo>
                    <a:pt x="11860" y="12090"/>
                    <a:pt x="11757" y="12168"/>
                    <a:pt x="11687" y="12243"/>
                  </a:cubicBezTo>
                  <a:lnTo>
                    <a:pt x="11687" y="14276"/>
                  </a:lnTo>
                  <a:cubicBezTo>
                    <a:pt x="11751" y="14345"/>
                    <a:pt x="11847" y="14411"/>
                    <a:pt x="11992" y="14411"/>
                  </a:cubicBezTo>
                  <a:cubicBezTo>
                    <a:pt x="12296" y="14411"/>
                    <a:pt x="12296" y="14072"/>
                    <a:pt x="12296" y="14072"/>
                  </a:cubicBezTo>
                  <a:lnTo>
                    <a:pt x="12296" y="12428"/>
                  </a:lnTo>
                  <a:cubicBezTo>
                    <a:pt x="12296" y="12428"/>
                    <a:pt x="12245" y="12090"/>
                    <a:pt x="11992" y="12090"/>
                  </a:cubicBezTo>
                  <a:moveTo>
                    <a:pt x="7986" y="8751"/>
                  </a:moveTo>
                  <a:lnTo>
                    <a:pt x="8696" y="8751"/>
                  </a:lnTo>
                  <a:lnTo>
                    <a:pt x="8696" y="7188"/>
                  </a:lnTo>
                  <a:lnTo>
                    <a:pt x="9507" y="4970"/>
                  </a:lnTo>
                  <a:lnTo>
                    <a:pt x="8848" y="4970"/>
                  </a:lnTo>
                  <a:lnTo>
                    <a:pt x="8341" y="6433"/>
                  </a:lnTo>
                  <a:lnTo>
                    <a:pt x="7834" y="4970"/>
                  </a:lnTo>
                  <a:lnTo>
                    <a:pt x="7124" y="4970"/>
                  </a:lnTo>
                  <a:lnTo>
                    <a:pt x="7986" y="7188"/>
                  </a:lnTo>
                  <a:cubicBezTo>
                    <a:pt x="7986" y="7188"/>
                    <a:pt x="7986" y="8751"/>
                    <a:pt x="7986" y="8751"/>
                  </a:cubicBezTo>
                  <a:close/>
                  <a:moveTo>
                    <a:pt x="12397" y="8801"/>
                  </a:moveTo>
                  <a:cubicBezTo>
                    <a:pt x="12802" y="8801"/>
                    <a:pt x="13158" y="8449"/>
                    <a:pt x="13158" y="8449"/>
                  </a:cubicBezTo>
                  <a:lnTo>
                    <a:pt x="13158" y="8751"/>
                  </a:lnTo>
                  <a:lnTo>
                    <a:pt x="13766" y="8751"/>
                  </a:lnTo>
                  <a:lnTo>
                    <a:pt x="13766" y="5878"/>
                  </a:lnTo>
                  <a:lnTo>
                    <a:pt x="13158" y="5878"/>
                  </a:lnTo>
                  <a:lnTo>
                    <a:pt x="13158" y="8096"/>
                  </a:lnTo>
                  <a:cubicBezTo>
                    <a:pt x="13158" y="8096"/>
                    <a:pt x="12955" y="8348"/>
                    <a:pt x="12752" y="8348"/>
                  </a:cubicBezTo>
                  <a:cubicBezTo>
                    <a:pt x="12549" y="8348"/>
                    <a:pt x="12549" y="8196"/>
                    <a:pt x="12549" y="8196"/>
                  </a:cubicBezTo>
                  <a:lnTo>
                    <a:pt x="12549" y="5878"/>
                  </a:lnTo>
                  <a:lnTo>
                    <a:pt x="11941" y="5878"/>
                  </a:lnTo>
                  <a:lnTo>
                    <a:pt x="11941" y="8398"/>
                  </a:lnTo>
                  <a:cubicBezTo>
                    <a:pt x="11941" y="8398"/>
                    <a:pt x="11992" y="8801"/>
                    <a:pt x="12397" y="8801"/>
                  </a:cubicBezTo>
                  <a:moveTo>
                    <a:pt x="10166" y="6634"/>
                  </a:moveTo>
                  <a:cubicBezTo>
                    <a:pt x="10166" y="6467"/>
                    <a:pt x="10302" y="6332"/>
                    <a:pt x="10470" y="6332"/>
                  </a:cubicBezTo>
                  <a:cubicBezTo>
                    <a:pt x="10639" y="6332"/>
                    <a:pt x="10775" y="6467"/>
                    <a:pt x="10775" y="6634"/>
                  </a:cubicBezTo>
                  <a:lnTo>
                    <a:pt x="10775" y="8045"/>
                  </a:lnTo>
                  <a:cubicBezTo>
                    <a:pt x="10775" y="8212"/>
                    <a:pt x="10639" y="8348"/>
                    <a:pt x="10470" y="8348"/>
                  </a:cubicBezTo>
                  <a:cubicBezTo>
                    <a:pt x="10302" y="8348"/>
                    <a:pt x="10166" y="8212"/>
                    <a:pt x="10166" y="8045"/>
                  </a:cubicBezTo>
                  <a:cubicBezTo>
                    <a:pt x="10166" y="8045"/>
                    <a:pt x="10166" y="6634"/>
                    <a:pt x="10166" y="6634"/>
                  </a:cubicBezTo>
                  <a:close/>
                  <a:moveTo>
                    <a:pt x="10369" y="8801"/>
                  </a:moveTo>
                  <a:lnTo>
                    <a:pt x="10572" y="8801"/>
                  </a:lnTo>
                  <a:cubicBezTo>
                    <a:pt x="11020" y="8801"/>
                    <a:pt x="11383" y="8440"/>
                    <a:pt x="11383" y="7995"/>
                  </a:cubicBezTo>
                  <a:lnTo>
                    <a:pt x="11383" y="6684"/>
                  </a:lnTo>
                  <a:cubicBezTo>
                    <a:pt x="11383" y="6239"/>
                    <a:pt x="11020" y="5878"/>
                    <a:pt x="10572" y="5878"/>
                  </a:cubicBezTo>
                  <a:lnTo>
                    <a:pt x="10369" y="5878"/>
                  </a:lnTo>
                  <a:cubicBezTo>
                    <a:pt x="9921" y="5878"/>
                    <a:pt x="9558" y="6239"/>
                    <a:pt x="9558" y="6684"/>
                  </a:cubicBezTo>
                  <a:lnTo>
                    <a:pt x="9558" y="7995"/>
                  </a:lnTo>
                  <a:cubicBezTo>
                    <a:pt x="9558" y="8440"/>
                    <a:pt x="9921" y="8801"/>
                    <a:pt x="10369" y="8801"/>
                  </a:cubicBezTo>
                </a:path>
              </a:pathLst>
            </a:custGeom>
            <a:solidFill>
              <a:srgbClr val="f15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Shape 2864"/>
            <p:cNvSpPr/>
            <p:nvPr/>
          </p:nvSpPr>
          <p:spPr>
            <a:xfrm>
              <a:off x="7193160" y="5648400"/>
              <a:ext cx="27900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725" y="7359"/>
                  </a:moveTo>
                  <a:lnTo>
                    <a:pt x="13743" y="7359"/>
                  </a:lnTo>
                  <a:lnTo>
                    <a:pt x="13743" y="8833"/>
                  </a:lnTo>
                  <a:lnTo>
                    <a:pt x="12265" y="8833"/>
                  </a:lnTo>
                  <a:lnTo>
                    <a:pt x="12265" y="9816"/>
                  </a:lnTo>
                  <a:lnTo>
                    <a:pt x="13743" y="9816"/>
                  </a:lnTo>
                  <a:lnTo>
                    <a:pt x="13743" y="11283"/>
                  </a:lnTo>
                  <a:lnTo>
                    <a:pt x="14725" y="11283"/>
                  </a:lnTo>
                  <a:lnTo>
                    <a:pt x="14725" y="9816"/>
                  </a:lnTo>
                  <a:lnTo>
                    <a:pt x="16205" y="9816"/>
                  </a:lnTo>
                  <a:lnTo>
                    <a:pt x="16205" y="8833"/>
                  </a:lnTo>
                  <a:lnTo>
                    <a:pt x="14725" y="8833"/>
                  </a:lnTo>
                  <a:cubicBezTo>
                    <a:pt x="14725" y="8833"/>
                    <a:pt x="14725" y="7359"/>
                    <a:pt x="14725" y="7359"/>
                  </a:cubicBezTo>
                  <a:close/>
                  <a:moveTo>
                    <a:pt x="9321" y="13946"/>
                  </a:moveTo>
                  <a:cubicBezTo>
                    <a:pt x="8620" y="13946"/>
                    <a:pt x="8071" y="13495"/>
                    <a:pt x="8071" y="12919"/>
                  </a:cubicBezTo>
                  <a:cubicBezTo>
                    <a:pt x="8071" y="12392"/>
                    <a:pt x="8713" y="11929"/>
                    <a:pt x="9446" y="11929"/>
                  </a:cubicBezTo>
                  <a:lnTo>
                    <a:pt x="9446" y="11723"/>
                  </a:lnTo>
                  <a:lnTo>
                    <a:pt x="9447" y="11723"/>
                  </a:lnTo>
                  <a:lnTo>
                    <a:pt x="9465" y="11929"/>
                  </a:lnTo>
                  <a:cubicBezTo>
                    <a:pt x="9624" y="11930"/>
                    <a:pt x="9777" y="11954"/>
                    <a:pt x="9922" y="12000"/>
                  </a:cubicBezTo>
                  <a:lnTo>
                    <a:pt x="10067" y="12104"/>
                  </a:lnTo>
                  <a:cubicBezTo>
                    <a:pt x="10440" y="12371"/>
                    <a:pt x="10637" y="12521"/>
                    <a:pt x="10695" y="12764"/>
                  </a:cubicBezTo>
                  <a:cubicBezTo>
                    <a:pt x="10710" y="12827"/>
                    <a:pt x="10717" y="12891"/>
                    <a:pt x="10717" y="12954"/>
                  </a:cubicBezTo>
                  <a:cubicBezTo>
                    <a:pt x="10717" y="13612"/>
                    <a:pt x="10247" y="13946"/>
                    <a:pt x="9321" y="13946"/>
                  </a:cubicBezTo>
                  <a:moveTo>
                    <a:pt x="8542" y="8739"/>
                  </a:moveTo>
                  <a:cubicBezTo>
                    <a:pt x="8495" y="8362"/>
                    <a:pt x="8574" y="8014"/>
                    <a:pt x="8754" y="7806"/>
                  </a:cubicBezTo>
                  <a:cubicBezTo>
                    <a:pt x="8864" y="7680"/>
                    <a:pt x="9006" y="7613"/>
                    <a:pt x="9164" y="7613"/>
                  </a:cubicBezTo>
                  <a:lnTo>
                    <a:pt x="9164" y="7409"/>
                  </a:lnTo>
                  <a:lnTo>
                    <a:pt x="9182" y="7613"/>
                  </a:lnTo>
                  <a:cubicBezTo>
                    <a:pt x="9653" y="7628"/>
                    <a:pt x="10105" y="8185"/>
                    <a:pt x="10189" y="8855"/>
                  </a:cubicBezTo>
                  <a:cubicBezTo>
                    <a:pt x="10237" y="9239"/>
                    <a:pt x="10155" y="9596"/>
                    <a:pt x="9970" y="9809"/>
                  </a:cubicBezTo>
                  <a:cubicBezTo>
                    <a:pt x="9860" y="9935"/>
                    <a:pt x="9722" y="10002"/>
                    <a:pt x="9550" y="10001"/>
                  </a:cubicBezTo>
                  <a:lnTo>
                    <a:pt x="9549" y="10001"/>
                  </a:lnTo>
                  <a:cubicBezTo>
                    <a:pt x="9087" y="9988"/>
                    <a:pt x="8626" y="9409"/>
                    <a:pt x="8542" y="8739"/>
                  </a:cubicBezTo>
                  <a:moveTo>
                    <a:pt x="10838" y="11196"/>
                  </a:moveTo>
                  <a:cubicBezTo>
                    <a:pt x="10586" y="11009"/>
                    <a:pt x="10351" y="10732"/>
                    <a:pt x="10342" y="10646"/>
                  </a:cubicBezTo>
                  <a:cubicBezTo>
                    <a:pt x="10342" y="10499"/>
                    <a:pt x="10342" y="10431"/>
                    <a:pt x="10689" y="10148"/>
                  </a:cubicBezTo>
                  <a:cubicBezTo>
                    <a:pt x="11138" y="9780"/>
                    <a:pt x="11386" y="9295"/>
                    <a:pt x="11386" y="8784"/>
                  </a:cubicBezTo>
                  <a:cubicBezTo>
                    <a:pt x="11386" y="8342"/>
                    <a:pt x="11262" y="7947"/>
                    <a:pt x="11050" y="7659"/>
                  </a:cubicBezTo>
                  <a:lnTo>
                    <a:pt x="11238" y="7659"/>
                  </a:lnTo>
                  <a:lnTo>
                    <a:pt x="12276" y="6873"/>
                  </a:lnTo>
                  <a:lnTo>
                    <a:pt x="9463" y="6873"/>
                  </a:lnTo>
                  <a:cubicBezTo>
                    <a:pt x="8335" y="6873"/>
                    <a:pt x="7345" y="7759"/>
                    <a:pt x="7345" y="8769"/>
                  </a:cubicBezTo>
                  <a:cubicBezTo>
                    <a:pt x="7345" y="9812"/>
                    <a:pt x="8109" y="10605"/>
                    <a:pt x="9137" y="10648"/>
                  </a:cubicBezTo>
                  <a:cubicBezTo>
                    <a:pt x="9121" y="10722"/>
                    <a:pt x="9113" y="10795"/>
                    <a:pt x="9113" y="10868"/>
                  </a:cubicBezTo>
                  <a:cubicBezTo>
                    <a:pt x="9113" y="11018"/>
                    <a:pt x="9147" y="11162"/>
                    <a:pt x="9216" y="11300"/>
                  </a:cubicBezTo>
                  <a:cubicBezTo>
                    <a:pt x="7943" y="11309"/>
                    <a:pt x="6870" y="12161"/>
                    <a:pt x="6870" y="13167"/>
                  </a:cubicBezTo>
                  <a:cubicBezTo>
                    <a:pt x="6870" y="14071"/>
                    <a:pt x="7903" y="14727"/>
                    <a:pt x="9325" y="14727"/>
                  </a:cubicBezTo>
                  <a:cubicBezTo>
                    <a:pt x="10861" y="14727"/>
                    <a:pt x="11690" y="13766"/>
                    <a:pt x="11690" y="12860"/>
                  </a:cubicBezTo>
                  <a:cubicBezTo>
                    <a:pt x="11690" y="12108"/>
                    <a:pt x="11459" y="11656"/>
                    <a:pt x="10838" y="11196"/>
                  </a:cubicBezTo>
                  <a:moveTo>
                    <a:pt x="10800" y="20618"/>
                  </a:move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8"/>
                    <a:pt x="5378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5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15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4" name="Group 71"/>
          <p:cNvGrpSpPr/>
          <p:nvPr/>
        </p:nvGrpSpPr>
        <p:grpSpPr>
          <a:xfrm>
            <a:off x="9310680" y="5648400"/>
            <a:ext cx="1204920" cy="280800"/>
            <a:chOff x="9310680" y="5648400"/>
            <a:chExt cx="1204920" cy="280800"/>
          </a:xfrm>
        </p:grpSpPr>
        <p:sp>
          <p:nvSpPr>
            <p:cNvPr id="815" name="Shape 2859"/>
            <p:cNvSpPr/>
            <p:nvPr/>
          </p:nvSpPr>
          <p:spPr>
            <a:xfrm>
              <a:off x="9937080" y="5650920"/>
              <a:ext cx="27936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moveTo>
                    <a:pt x="15929" y="7018"/>
                  </a:moveTo>
                  <a:cubicBezTo>
                    <a:pt x="15539" y="7246"/>
                    <a:pt x="15108" y="7411"/>
                    <a:pt x="14650" y="7500"/>
                  </a:cubicBezTo>
                  <a:cubicBezTo>
                    <a:pt x="14282" y="7114"/>
                    <a:pt x="13759" y="6874"/>
                    <a:pt x="13179" y="6874"/>
                  </a:cubicBezTo>
                  <a:cubicBezTo>
                    <a:pt x="12067" y="6874"/>
                    <a:pt x="11165" y="7762"/>
                    <a:pt x="11165" y="8856"/>
                  </a:cubicBezTo>
                  <a:cubicBezTo>
                    <a:pt x="11165" y="9011"/>
                    <a:pt x="11183" y="9162"/>
                    <a:pt x="11217" y="9308"/>
                  </a:cubicBezTo>
                  <a:cubicBezTo>
                    <a:pt x="9543" y="9225"/>
                    <a:pt x="8059" y="8436"/>
                    <a:pt x="7065" y="7236"/>
                  </a:cubicBezTo>
                  <a:cubicBezTo>
                    <a:pt x="6892" y="7530"/>
                    <a:pt x="6793" y="7869"/>
                    <a:pt x="6793" y="8233"/>
                  </a:cubicBezTo>
                  <a:cubicBezTo>
                    <a:pt x="6793" y="8921"/>
                    <a:pt x="7148" y="9528"/>
                    <a:pt x="7689" y="9883"/>
                  </a:cubicBezTo>
                  <a:cubicBezTo>
                    <a:pt x="7359" y="9873"/>
                    <a:pt x="7048" y="9784"/>
                    <a:pt x="6776" y="9635"/>
                  </a:cubicBezTo>
                  <a:cubicBezTo>
                    <a:pt x="6776" y="9644"/>
                    <a:pt x="6776" y="9651"/>
                    <a:pt x="6776" y="9660"/>
                  </a:cubicBezTo>
                  <a:cubicBezTo>
                    <a:pt x="6776" y="10621"/>
                    <a:pt x="7471" y="11422"/>
                    <a:pt x="8392" y="11604"/>
                  </a:cubicBezTo>
                  <a:cubicBezTo>
                    <a:pt x="8223" y="11650"/>
                    <a:pt x="8045" y="11673"/>
                    <a:pt x="7861" y="11673"/>
                  </a:cubicBezTo>
                  <a:cubicBezTo>
                    <a:pt x="7732" y="11673"/>
                    <a:pt x="7605" y="11661"/>
                    <a:pt x="7483" y="11638"/>
                  </a:cubicBezTo>
                  <a:cubicBezTo>
                    <a:pt x="7739" y="12426"/>
                    <a:pt x="8483" y="12999"/>
                    <a:pt x="9364" y="13015"/>
                  </a:cubicBezTo>
                  <a:cubicBezTo>
                    <a:pt x="8674" y="13547"/>
                    <a:pt x="7806" y="13863"/>
                    <a:pt x="6862" y="13863"/>
                  </a:cubicBezTo>
                  <a:cubicBezTo>
                    <a:pt x="6699" y="13863"/>
                    <a:pt x="6540" y="13855"/>
                    <a:pt x="6382" y="13837"/>
                  </a:cubicBezTo>
                  <a:cubicBezTo>
                    <a:pt x="7274" y="14398"/>
                    <a:pt x="8332" y="14727"/>
                    <a:pt x="9470" y="14727"/>
                  </a:cubicBezTo>
                  <a:cubicBezTo>
                    <a:pt x="13175" y="14727"/>
                    <a:pt x="15201" y="11706"/>
                    <a:pt x="15201" y="9086"/>
                  </a:cubicBezTo>
                  <a:cubicBezTo>
                    <a:pt x="15201" y="9000"/>
                    <a:pt x="15199" y="8915"/>
                    <a:pt x="15195" y="8830"/>
                  </a:cubicBezTo>
                  <a:cubicBezTo>
                    <a:pt x="15588" y="8550"/>
                    <a:pt x="15930" y="8201"/>
                    <a:pt x="16200" y="7804"/>
                  </a:cubicBezTo>
                  <a:cubicBezTo>
                    <a:pt x="15839" y="7961"/>
                    <a:pt x="15451" y="8067"/>
                    <a:pt x="15043" y="8115"/>
                  </a:cubicBezTo>
                  <a:cubicBezTo>
                    <a:pt x="15459" y="7870"/>
                    <a:pt x="15778" y="7482"/>
                    <a:pt x="15929" y="7018"/>
                  </a:cubicBezTo>
                </a:path>
              </a:pathLst>
            </a:custGeom>
            <a:solidFill>
              <a:srgbClr val="f15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Shape 2860"/>
            <p:cNvSpPr/>
            <p:nvPr/>
          </p:nvSpPr>
          <p:spPr>
            <a:xfrm>
              <a:off x="9310680" y="5649120"/>
              <a:ext cx="27936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776" y="8468"/>
                  </a:moveTo>
                  <a:cubicBezTo>
                    <a:pt x="11776" y="8071"/>
                    <a:pt x="11817" y="7858"/>
                    <a:pt x="12428" y="7858"/>
                  </a:cubicBezTo>
                  <a:lnTo>
                    <a:pt x="13244" y="7858"/>
                  </a:lnTo>
                  <a:lnTo>
                    <a:pt x="13244" y="6381"/>
                  </a:lnTo>
                  <a:lnTo>
                    <a:pt x="11938" y="6381"/>
                  </a:lnTo>
                  <a:cubicBezTo>
                    <a:pt x="10369" y="6381"/>
                    <a:pt x="9816" y="7120"/>
                    <a:pt x="9816" y="8363"/>
                  </a:cubicBezTo>
                  <a:lnTo>
                    <a:pt x="9816" y="9322"/>
                  </a:lnTo>
                  <a:lnTo>
                    <a:pt x="8837" y="9322"/>
                  </a:lnTo>
                  <a:lnTo>
                    <a:pt x="8837" y="10800"/>
                  </a:lnTo>
                  <a:lnTo>
                    <a:pt x="9816" y="10800"/>
                  </a:lnTo>
                  <a:lnTo>
                    <a:pt x="9816" y="15219"/>
                  </a:lnTo>
                  <a:lnTo>
                    <a:pt x="11774" y="15219"/>
                  </a:lnTo>
                  <a:lnTo>
                    <a:pt x="11774" y="10800"/>
                  </a:lnTo>
                  <a:lnTo>
                    <a:pt x="13081" y="10800"/>
                  </a:lnTo>
                  <a:lnTo>
                    <a:pt x="13254" y="9322"/>
                  </a:lnTo>
                  <a:lnTo>
                    <a:pt x="11774" y="9322"/>
                  </a:lnTo>
                  <a:cubicBezTo>
                    <a:pt x="11774" y="9322"/>
                    <a:pt x="11776" y="8468"/>
                    <a:pt x="11776" y="8468"/>
                  </a:cubicBezTo>
                  <a:close/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15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Shape 2861"/>
            <p:cNvSpPr/>
            <p:nvPr/>
          </p:nvSpPr>
          <p:spPr>
            <a:xfrm>
              <a:off x="10236240" y="5648400"/>
              <a:ext cx="27936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324" y="12090"/>
                  </a:moveTo>
                  <a:cubicBezTo>
                    <a:pt x="14019" y="12090"/>
                    <a:pt x="14019" y="12428"/>
                    <a:pt x="14019" y="12428"/>
                  </a:cubicBezTo>
                  <a:lnTo>
                    <a:pt x="14019" y="12863"/>
                  </a:lnTo>
                  <a:lnTo>
                    <a:pt x="14628" y="12863"/>
                  </a:lnTo>
                  <a:lnTo>
                    <a:pt x="14628" y="12428"/>
                  </a:lnTo>
                  <a:cubicBezTo>
                    <a:pt x="14628" y="12428"/>
                    <a:pt x="14628" y="12090"/>
                    <a:pt x="14324" y="12090"/>
                  </a:cubicBezTo>
                  <a:moveTo>
                    <a:pt x="15287" y="12380"/>
                  </a:moveTo>
                  <a:lnTo>
                    <a:pt x="15287" y="13348"/>
                  </a:lnTo>
                  <a:lnTo>
                    <a:pt x="14019" y="13348"/>
                  </a:lnTo>
                  <a:lnTo>
                    <a:pt x="14019" y="14072"/>
                  </a:lnTo>
                  <a:cubicBezTo>
                    <a:pt x="14019" y="14072"/>
                    <a:pt x="14019" y="14411"/>
                    <a:pt x="14324" y="14411"/>
                  </a:cubicBezTo>
                  <a:cubicBezTo>
                    <a:pt x="14628" y="14411"/>
                    <a:pt x="14628" y="14072"/>
                    <a:pt x="14628" y="14072"/>
                  </a:cubicBezTo>
                  <a:lnTo>
                    <a:pt x="14628" y="13734"/>
                  </a:lnTo>
                  <a:lnTo>
                    <a:pt x="15287" y="13734"/>
                  </a:lnTo>
                  <a:lnTo>
                    <a:pt x="15287" y="14266"/>
                  </a:lnTo>
                  <a:cubicBezTo>
                    <a:pt x="15287" y="14266"/>
                    <a:pt x="15186" y="14943"/>
                    <a:pt x="14375" y="14943"/>
                  </a:cubicBezTo>
                  <a:cubicBezTo>
                    <a:pt x="13564" y="14943"/>
                    <a:pt x="13411" y="14266"/>
                    <a:pt x="13411" y="14266"/>
                  </a:cubicBezTo>
                  <a:lnTo>
                    <a:pt x="13411" y="12380"/>
                  </a:lnTo>
                  <a:cubicBezTo>
                    <a:pt x="13411" y="12380"/>
                    <a:pt x="13411" y="11558"/>
                    <a:pt x="14375" y="11558"/>
                  </a:cubicBezTo>
                  <a:cubicBezTo>
                    <a:pt x="15338" y="11558"/>
                    <a:pt x="15287" y="12380"/>
                    <a:pt x="15287" y="12380"/>
                  </a:cubicBezTo>
                  <a:moveTo>
                    <a:pt x="12904" y="14169"/>
                  </a:moveTo>
                  <a:cubicBezTo>
                    <a:pt x="12904" y="14169"/>
                    <a:pt x="12904" y="14943"/>
                    <a:pt x="12347" y="14943"/>
                  </a:cubicBezTo>
                  <a:cubicBezTo>
                    <a:pt x="12005" y="14943"/>
                    <a:pt x="11798" y="14762"/>
                    <a:pt x="11687" y="14621"/>
                  </a:cubicBezTo>
                  <a:lnTo>
                    <a:pt x="11687" y="14895"/>
                  </a:lnTo>
                  <a:lnTo>
                    <a:pt x="11028" y="14895"/>
                  </a:lnTo>
                  <a:lnTo>
                    <a:pt x="11028" y="10446"/>
                  </a:lnTo>
                  <a:lnTo>
                    <a:pt x="11687" y="10446"/>
                  </a:lnTo>
                  <a:lnTo>
                    <a:pt x="11687" y="11888"/>
                  </a:lnTo>
                  <a:cubicBezTo>
                    <a:pt x="11788" y="11782"/>
                    <a:pt x="12036" y="11558"/>
                    <a:pt x="12347" y="11558"/>
                  </a:cubicBezTo>
                  <a:cubicBezTo>
                    <a:pt x="12752" y="11558"/>
                    <a:pt x="12904" y="11896"/>
                    <a:pt x="12904" y="12332"/>
                  </a:cubicBezTo>
                  <a:cubicBezTo>
                    <a:pt x="12904" y="12332"/>
                    <a:pt x="12904" y="14169"/>
                    <a:pt x="12904" y="14169"/>
                  </a:cubicBezTo>
                  <a:close/>
                  <a:moveTo>
                    <a:pt x="10521" y="14895"/>
                  </a:moveTo>
                  <a:lnTo>
                    <a:pt x="9913" y="14895"/>
                  </a:lnTo>
                  <a:lnTo>
                    <a:pt x="9913" y="14605"/>
                  </a:lnTo>
                  <a:cubicBezTo>
                    <a:pt x="9913" y="14605"/>
                    <a:pt x="9558" y="14943"/>
                    <a:pt x="9152" y="14943"/>
                  </a:cubicBezTo>
                  <a:cubicBezTo>
                    <a:pt x="8747" y="14943"/>
                    <a:pt x="8696" y="14556"/>
                    <a:pt x="8696" y="14556"/>
                  </a:cubicBezTo>
                  <a:lnTo>
                    <a:pt x="8696" y="11558"/>
                  </a:lnTo>
                  <a:lnTo>
                    <a:pt x="9304" y="11558"/>
                  </a:lnTo>
                  <a:lnTo>
                    <a:pt x="9304" y="14362"/>
                  </a:lnTo>
                  <a:cubicBezTo>
                    <a:pt x="9304" y="14362"/>
                    <a:pt x="9304" y="14508"/>
                    <a:pt x="9507" y="14508"/>
                  </a:cubicBezTo>
                  <a:cubicBezTo>
                    <a:pt x="9710" y="14508"/>
                    <a:pt x="9913" y="14266"/>
                    <a:pt x="9913" y="14266"/>
                  </a:cubicBezTo>
                  <a:lnTo>
                    <a:pt x="9913" y="11558"/>
                  </a:lnTo>
                  <a:lnTo>
                    <a:pt x="10521" y="11558"/>
                  </a:lnTo>
                  <a:cubicBezTo>
                    <a:pt x="10521" y="11558"/>
                    <a:pt x="10521" y="14895"/>
                    <a:pt x="10521" y="14895"/>
                  </a:cubicBezTo>
                  <a:close/>
                  <a:moveTo>
                    <a:pt x="8595" y="11074"/>
                  </a:moveTo>
                  <a:lnTo>
                    <a:pt x="7834" y="11074"/>
                  </a:lnTo>
                  <a:lnTo>
                    <a:pt x="7834" y="14895"/>
                  </a:lnTo>
                  <a:lnTo>
                    <a:pt x="7124" y="14895"/>
                  </a:lnTo>
                  <a:lnTo>
                    <a:pt x="7124" y="11074"/>
                  </a:lnTo>
                  <a:lnTo>
                    <a:pt x="6363" y="11074"/>
                  </a:lnTo>
                  <a:lnTo>
                    <a:pt x="6363" y="10446"/>
                  </a:lnTo>
                  <a:lnTo>
                    <a:pt x="8595" y="10446"/>
                  </a:lnTo>
                  <a:cubicBezTo>
                    <a:pt x="8595" y="10446"/>
                    <a:pt x="8595" y="11074"/>
                    <a:pt x="8595" y="11074"/>
                  </a:cubicBezTo>
                  <a:close/>
                  <a:moveTo>
                    <a:pt x="14527" y="9430"/>
                  </a:moveTo>
                  <a:cubicBezTo>
                    <a:pt x="14527" y="9430"/>
                    <a:pt x="12667" y="9334"/>
                    <a:pt x="10800" y="9334"/>
                  </a:cubicBezTo>
                  <a:cubicBezTo>
                    <a:pt x="8940" y="9334"/>
                    <a:pt x="7074" y="9430"/>
                    <a:pt x="7074" y="9430"/>
                  </a:cubicBezTo>
                  <a:cubicBezTo>
                    <a:pt x="6233" y="9430"/>
                    <a:pt x="5552" y="10080"/>
                    <a:pt x="5552" y="10881"/>
                  </a:cubicBezTo>
                  <a:cubicBezTo>
                    <a:pt x="5552" y="10881"/>
                    <a:pt x="5400" y="11822"/>
                    <a:pt x="5400" y="12767"/>
                  </a:cubicBezTo>
                  <a:cubicBezTo>
                    <a:pt x="5400" y="13708"/>
                    <a:pt x="5552" y="14652"/>
                    <a:pt x="5552" y="14652"/>
                  </a:cubicBezTo>
                  <a:cubicBezTo>
                    <a:pt x="5552" y="15454"/>
                    <a:pt x="6233" y="16103"/>
                    <a:pt x="7074" y="16103"/>
                  </a:cubicBezTo>
                  <a:cubicBezTo>
                    <a:pt x="7074" y="16103"/>
                    <a:pt x="8905" y="16200"/>
                    <a:pt x="10800" y="16200"/>
                  </a:cubicBezTo>
                  <a:cubicBezTo>
                    <a:pt x="12630" y="16200"/>
                    <a:pt x="14527" y="16103"/>
                    <a:pt x="14527" y="16103"/>
                  </a:cubicBezTo>
                  <a:cubicBezTo>
                    <a:pt x="15367" y="16103"/>
                    <a:pt x="16048" y="15454"/>
                    <a:pt x="16048" y="14652"/>
                  </a:cubicBezTo>
                  <a:cubicBezTo>
                    <a:pt x="16048" y="14652"/>
                    <a:pt x="16200" y="13700"/>
                    <a:pt x="16200" y="12767"/>
                  </a:cubicBezTo>
                  <a:cubicBezTo>
                    <a:pt x="16200" y="11814"/>
                    <a:pt x="16048" y="10881"/>
                    <a:pt x="16048" y="10881"/>
                  </a:cubicBezTo>
                  <a:cubicBezTo>
                    <a:pt x="16048" y="10080"/>
                    <a:pt x="15367" y="9430"/>
                    <a:pt x="14527" y="9430"/>
                  </a:cubicBezTo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moveTo>
                    <a:pt x="11992" y="12090"/>
                  </a:moveTo>
                  <a:cubicBezTo>
                    <a:pt x="11860" y="12090"/>
                    <a:pt x="11757" y="12168"/>
                    <a:pt x="11687" y="12243"/>
                  </a:cubicBezTo>
                  <a:lnTo>
                    <a:pt x="11687" y="14276"/>
                  </a:lnTo>
                  <a:cubicBezTo>
                    <a:pt x="11751" y="14345"/>
                    <a:pt x="11847" y="14411"/>
                    <a:pt x="11992" y="14411"/>
                  </a:cubicBezTo>
                  <a:cubicBezTo>
                    <a:pt x="12296" y="14411"/>
                    <a:pt x="12296" y="14072"/>
                    <a:pt x="12296" y="14072"/>
                  </a:cubicBezTo>
                  <a:lnTo>
                    <a:pt x="12296" y="12428"/>
                  </a:lnTo>
                  <a:cubicBezTo>
                    <a:pt x="12296" y="12428"/>
                    <a:pt x="12245" y="12090"/>
                    <a:pt x="11992" y="12090"/>
                  </a:cubicBezTo>
                  <a:moveTo>
                    <a:pt x="7986" y="8751"/>
                  </a:moveTo>
                  <a:lnTo>
                    <a:pt x="8696" y="8751"/>
                  </a:lnTo>
                  <a:lnTo>
                    <a:pt x="8696" y="7188"/>
                  </a:lnTo>
                  <a:lnTo>
                    <a:pt x="9507" y="4970"/>
                  </a:lnTo>
                  <a:lnTo>
                    <a:pt x="8848" y="4970"/>
                  </a:lnTo>
                  <a:lnTo>
                    <a:pt x="8341" y="6433"/>
                  </a:lnTo>
                  <a:lnTo>
                    <a:pt x="7834" y="4970"/>
                  </a:lnTo>
                  <a:lnTo>
                    <a:pt x="7124" y="4970"/>
                  </a:lnTo>
                  <a:lnTo>
                    <a:pt x="7986" y="7188"/>
                  </a:lnTo>
                  <a:cubicBezTo>
                    <a:pt x="7986" y="7188"/>
                    <a:pt x="7986" y="8751"/>
                    <a:pt x="7986" y="8751"/>
                  </a:cubicBezTo>
                  <a:close/>
                  <a:moveTo>
                    <a:pt x="12397" y="8801"/>
                  </a:moveTo>
                  <a:cubicBezTo>
                    <a:pt x="12802" y="8801"/>
                    <a:pt x="13158" y="8449"/>
                    <a:pt x="13158" y="8449"/>
                  </a:cubicBezTo>
                  <a:lnTo>
                    <a:pt x="13158" y="8751"/>
                  </a:lnTo>
                  <a:lnTo>
                    <a:pt x="13766" y="8751"/>
                  </a:lnTo>
                  <a:lnTo>
                    <a:pt x="13766" y="5878"/>
                  </a:lnTo>
                  <a:lnTo>
                    <a:pt x="13158" y="5878"/>
                  </a:lnTo>
                  <a:lnTo>
                    <a:pt x="13158" y="8096"/>
                  </a:lnTo>
                  <a:cubicBezTo>
                    <a:pt x="13158" y="8096"/>
                    <a:pt x="12955" y="8348"/>
                    <a:pt x="12752" y="8348"/>
                  </a:cubicBezTo>
                  <a:cubicBezTo>
                    <a:pt x="12549" y="8348"/>
                    <a:pt x="12549" y="8196"/>
                    <a:pt x="12549" y="8196"/>
                  </a:cubicBezTo>
                  <a:lnTo>
                    <a:pt x="12549" y="5878"/>
                  </a:lnTo>
                  <a:lnTo>
                    <a:pt x="11941" y="5878"/>
                  </a:lnTo>
                  <a:lnTo>
                    <a:pt x="11941" y="8398"/>
                  </a:lnTo>
                  <a:cubicBezTo>
                    <a:pt x="11941" y="8398"/>
                    <a:pt x="11992" y="8801"/>
                    <a:pt x="12397" y="8801"/>
                  </a:cubicBezTo>
                  <a:moveTo>
                    <a:pt x="10166" y="6634"/>
                  </a:moveTo>
                  <a:cubicBezTo>
                    <a:pt x="10166" y="6467"/>
                    <a:pt x="10302" y="6332"/>
                    <a:pt x="10470" y="6332"/>
                  </a:cubicBezTo>
                  <a:cubicBezTo>
                    <a:pt x="10639" y="6332"/>
                    <a:pt x="10775" y="6467"/>
                    <a:pt x="10775" y="6634"/>
                  </a:cubicBezTo>
                  <a:lnTo>
                    <a:pt x="10775" y="8045"/>
                  </a:lnTo>
                  <a:cubicBezTo>
                    <a:pt x="10775" y="8212"/>
                    <a:pt x="10639" y="8348"/>
                    <a:pt x="10470" y="8348"/>
                  </a:cubicBezTo>
                  <a:cubicBezTo>
                    <a:pt x="10302" y="8348"/>
                    <a:pt x="10166" y="8212"/>
                    <a:pt x="10166" y="8045"/>
                  </a:cubicBezTo>
                  <a:cubicBezTo>
                    <a:pt x="10166" y="8045"/>
                    <a:pt x="10166" y="6634"/>
                    <a:pt x="10166" y="6634"/>
                  </a:cubicBezTo>
                  <a:close/>
                  <a:moveTo>
                    <a:pt x="10369" y="8801"/>
                  </a:moveTo>
                  <a:lnTo>
                    <a:pt x="10572" y="8801"/>
                  </a:lnTo>
                  <a:cubicBezTo>
                    <a:pt x="11020" y="8801"/>
                    <a:pt x="11383" y="8440"/>
                    <a:pt x="11383" y="7995"/>
                  </a:cubicBezTo>
                  <a:lnTo>
                    <a:pt x="11383" y="6684"/>
                  </a:lnTo>
                  <a:cubicBezTo>
                    <a:pt x="11383" y="6239"/>
                    <a:pt x="11020" y="5878"/>
                    <a:pt x="10572" y="5878"/>
                  </a:cubicBezTo>
                  <a:lnTo>
                    <a:pt x="10369" y="5878"/>
                  </a:lnTo>
                  <a:cubicBezTo>
                    <a:pt x="9921" y="5878"/>
                    <a:pt x="9558" y="6239"/>
                    <a:pt x="9558" y="6684"/>
                  </a:cubicBezTo>
                  <a:lnTo>
                    <a:pt x="9558" y="7995"/>
                  </a:lnTo>
                  <a:cubicBezTo>
                    <a:pt x="9558" y="8440"/>
                    <a:pt x="9921" y="8801"/>
                    <a:pt x="10369" y="8801"/>
                  </a:cubicBezTo>
                </a:path>
              </a:pathLst>
            </a:custGeom>
            <a:solidFill>
              <a:srgbClr val="f15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Shape 2864"/>
            <p:cNvSpPr/>
            <p:nvPr/>
          </p:nvSpPr>
          <p:spPr>
            <a:xfrm>
              <a:off x="9628560" y="5648400"/>
              <a:ext cx="27936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725" y="7359"/>
                  </a:moveTo>
                  <a:lnTo>
                    <a:pt x="13743" y="7359"/>
                  </a:lnTo>
                  <a:lnTo>
                    <a:pt x="13743" y="8833"/>
                  </a:lnTo>
                  <a:lnTo>
                    <a:pt x="12265" y="8833"/>
                  </a:lnTo>
                  <a:lnTo>
                    <a:pt x="12265" y="9816"/>
                  </a:lnTo>
                  <a:lnTo>
                    <a:pt x="13743" y="9816"/>
                  </a:lnTo>
                  <a:lnTo>
                    <a:pt x="13743" y="11283"/>
                  </a:lnTo>
                  <a:lnTo>
                    <a:pt x="14725" y="11283"/>
                  </a:lnTo>
                  <a:lnTo>
                    <a:pt x="14725" y="9816"/>
                  </a:lnTo>
                  <a:lnTo>
                    <a:pt x="16205" y="9816"/>
                  </a:lnTo>
                  <a:lnTo>
                    <a:pt x="16205" y="8833"/>
                  </a:lnTo>
                  <a:lnTo>
                    <a:pt x="14725" y="8833"/>
                  </a:lnTo>
                  <a:cubicBezTo>
                    <a:pt x="14725" y="8833"/>
                    <a:pt x="14725" y="7359"/>
                    <a:pt x="14725" y="7359"/>
                  </a:cubicBezTo>
                  <a:close/>
                  <a:moveTo>
                    <a:pt x="9321" y="13946"/>
                  </a:moveTo>
                  <a:cubicBezTo>
                    <a:pt x="8620" y="13946"/>
                    <a:pt x="8071" y="13495"/>
                    <a:pt x="8071" y="12919"/>
                  </a:cubicBezTo>
                  <a:cubicBezTo>
                    <a:pt x="8071" y="12392"/>
                    <a:pt x="8713" y="11929"/>
                    <a:pt x="9446" y="11929"/>
                  </a:cubicBezTo>
                  <a:lnTo>
                    <a:pt x="9446" y="11723"/>
                  </a:lnTo>
                  <a:lnTo>
                    <a:pt x="9447" y="11723"/>
                  </a:lnTo>
                  <a:lnTo>
                    <a:pt x="9465" y="11929"/>
                  </a:lnTo>
                  <a:cubicBezTo>
                    <a:pt x="9624" y="11930"/>
                    <a:pt x="9777" y="11954"/>
                    <a:pt x="9922" y="12000"/>
                  </a:cubicBezTo>
                  <a:lnTo>
                    <a:pt x="10067" y="12104"/>
                  </a:lnTo>
                  <a:cubicBezTo>
                    <a:pt x="10440" y="12371"/>
                    <a:pt x="10637" y="12521"/>
                    <a:pt x="10695" y="12764"/>
                  </a:cubicBezTo>
                  <a:cubicBezTo>
                    <a:pt x="10710" y="12827"/>
                    <a:pt x="10717" y="12891"/>
                    <a:pt x="10717" y="12954"/>
                  </a:cubicBezTo>
                  <a:cubicBezTo>
                    <a:pt x="10717" y="13612"/>
                    <a:pt x="10247" y="13946"/>
                    <a:pt x="9321" y="13946"/>
                  </a:cubicBezTo>
                  <a:moveTo>
                    <a:pt x="8542" y="8739"/>
                  </a:moveTo>
                  <a:cubicBezTo>
                    <a:pt x="8495" y="8362"/>
                    <a:pt x="8574" y="8014"/>
                    <a:pt x="8754" y="7806"/>
                  </a:cubicBezTo>
                  <a:cubicBezTo>
                    <a:pt x="8864" y="7680"/>
                    <a:pt x="9006" y="7613"/>
                    <a:pt x="9164" y="7613"/>
                  </a:cubicBezTo>
                  <a:lnTo>
                    <a:pt x="9164" y="7409"/>
                  </a:lnTo>
                  <a:lnTo>
                    <a:pt x="9182" y="7613"/>
                  </a:lnTo>
                  <a:cubicBezTo>
                    <a:pt x="9653" y="7628"/>
                    <a:pt x="10105" y="8185"/>
                    <a:pt x="10189" y="8855"/>
                  </a:cubicBezTo>
                  <a:cubicBezTo>
                    <a:pt x="10237" y="9239"/>
                    <a:pt x="10155" y="9596"/>
                    <a:pt x="9970" y="9809"/>
                  </a:cubicBezTo>
                  <a:cubicBezTo>
                    <a:pt x="9860" y="9935"/>
                    <a:pt x="9722" y="10002"/>
                    <a:pt x="9550" y="10001"/>
                  </a:cubicBezTo>
                  <a:lnTo>
                    <a:pt x="9549" y="10001"/>
                  </a:lnTo>
                  <a:cubicBezTo>
                    <a:pt x="9087" y="9988"/>
                    <a:pt x="8626" y="9409"/>
                    <a:pt x="8542" y="8739"/>
                  </a:cubicBezTo>
                  <a:moveTo>
                    <a:pt x="10838" y="11196"/>
                  </a:moveTo>
                  <a:cubicBezTo>
                    <a:pt x="10586" y="11009"/>
                    <a:pt x="10351" y="10732"/>
                    <a:pt x="10342" y="10646"/>
                  </a:cubicBezTo>
                  <a:cubicBezTo>
                    <a:pt x="10342" y="10499"/>
                    <a:pt x="10342" y="10431"/>
                    <a:pt x="10689" y="10148"/>
                  </a:cubicBezTo>
                  <a:cubicBezTo>
                    <a:pt x="11138" y="9780"/>
                    <a:pt x="11386" y="9295"/>
                    <a:pt x="11386" y="8784"/>
                  </a:cubicBezTo>
                  <a:cubicBezTo>
                    <a:pt x="11386" y="8342"/>
                    <a:pt x="11262" y="7947"/>
                    <a:pt x="11050" y="7659"/>
                  </a:cubicBezTo>
                  <a:lnTo>
                    <a:pt x="11238" y="7659"/>
                  </a:lnTo>
                  <a:lnTo>
                    <a:pt x="12276" y="6873"/>
                  </a:lnTo>
                  <a:lnTo>
                    <a:pt x="9463" y="6873"/>
                  </a:lnTo>
                  <a:cubicBezTo>
                    <a:pt x="8335" y="6873"/>
                    <a:pt x="7345" y="7759"/>
                    <a:pt x="7345" y="8769"/>
                  </a:cubicBezTo>
                  <a:cubicBezTo>
                    <a:pt x="7345" y="9812"/>
                    <a:pt x="8109" y="10605"/>
                    <a:pt x="9137" y="10648"/>
                  </a:cubicBezTo>
                  <a:cubicBezTo>
                    <a:pt x="9121" y="10722"/>
                    <a:pt x="9113" y="10795"/>
                    <a:pt x="9113" y="10868"/>
                  </a:cubicBezTo>
                  <a:cubicBezTo>
                    <a:pt x="9113" y="11018"/>
                    <a:pt x="9147" y="11162"/>
                    <a:pt x="9216" y="11300"/>
                  </a:cubicBezTo>
                  <a:cubicBezTo>
                    <a:pt x="7943" y="11309"/>
                    <a:pt x="6870" y="12161"/>
                    <a:pt x="6870" y="13167"/>
                  </a:cubicBezTo>
                  <a:cubicBezTo>
                    <a:pt x="6870" y="14071"/>
                    <a:pt x="7903" y="14727"/>
                    <a:pt x="9325" y="14727"/>
                  </a:cubicBezTo>
                  <a:cubicBezTo>
                    <a:pt x="10861" y="14727"/>
                    <a:pt x="11690" y="13766"/>
                    <a:pt x="11690" y="12860"/>
                  </a:cubicBezTo>
                  <a:cubicBezTo>
                    <a:pt x="11690" y="12108"/>
                    <a:pt x="11459" y="11656"/>
                    <a:pt x="10838" y="11196"/>
                  </a:cubicBezTo>
                  <a:moveTo>
                    <a:pt x="10800" y="20618"/>
                  </a:move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8"/>
                    <a:pt x="5378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5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15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3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500"/>
                            </p:stCondLst>
                            <p:childTnLst>
                              <p:par>
                                <p:cTn id="20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7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1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2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500"/>
                            </p:stCondLst>
                            <p:childTnLst>
                              <p:par>
                                <p:cTn id="2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2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Our Headquar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15a25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Box 6"/>
          <p:cNvSpPr/>
          <p:nvPr/>
        </p:nvSpPr>
        <p:spPr>
          <a:xfrm>
            <a:off x="620640" y="5249880"/>
            <a:ext cx="109648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44000" tIns="46800" bIns="360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35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Circle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15a25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Arc 38"/>
          <p:cNvSpPr/>
          <p:nvPr/>
        </p:nvSpPr>
        <p:spPr>
          <a:xfrm>
            <a:off x="1523880" y="2567160"/>
            <a:ext cx="1828800" cy="1828800"/>
          </a:xfrm>
          <a:custGeom>
            <a:avLst/>
            <a:gdLst/>
            <a:ahLst/>
            <a:rect l="l" t="t" r="r" b="b"/>
            <a:pathLst>
              <a:path stroke="0" w="1828800" h="1828800">
                <a:moveTo>
                  <a:pt x="52" y="924126"/>
                </a:moveTo>
                <a:cubicBezTo>
                  <a:pt x="-3435" y="596302"/>
                  <a:pt x="168846" y="291698"/>
                  <a:pt x="451596" y="125768"/>
                </a:cubicBezTo>
                <a:cubicBezTo>
                  <a:pt x="734346" y="-40162"/>
                  <a:pt x="1084290" y="-42024"/>
                  <a:pt x="1368789" y="120890"/>
                </a:cubicBezTo>
                <a:cubicBezTo>
                  <a:pt x="1653288" y="283803"/>
                  <a:pt x="1828800" y="586557"/>
                  <a:pt x="1828800" y="914400"/>
                </a:cubicBezTo>
                <a:lnTo>
                  <a:pt x="914400" y="914400"/>
                </a:lnTo>
                <a:lnTo>
                  <a:pt x="52" y="924126"/>
                </a:lnTo>
                <a:close/>
              </a:path>
              <a:path fill="none" w="1828800" h="1828800">
                <a:moveTo>
                  <a:pt x="52" y="924126"/>
                </a:moveTo>
                <a:cubicBezTo>
                  <a:pt x="-3435" y="596302"/>
                  <a:pt x="168846" y="291698"/>
                  <a:pt x="451596" y="125768"/>
                </a:cubicBezTo>
                <a:cubicBezTo>
                  <a:pt x="734346" y="-40162"/>
                  <a:pt x="1084290" y="-42024"/>
                  <a:pt x="1368789" y="120890"/>
                </a:cubicBezTo>
                <a:cubicBezTo>
                  <a:pt x="1653288" y="283803"/>
                  <a:pt x="1828800" y="586557"/>
                  <a:pt x="1828800" y="914400"/>
                </a:cubicBezTo>
              </a:path>
            </a:pathLst>
          </a:custGeom>
          <a:noFill/>
          <a:ln cap="rnd" w="63360">
            <a:solidFill>
              <a:srgbClr val="44546a"/>
            </a:solidFill>
            <a:miter/>
            <a:headEnd len="med" type="triangle" w="med"/>
          </a:ln>
          <a:effectLst>
            <a:outerShdw dist="101823" dir="2700000" blurRad="0" rotWithShape="0">
              <a:srgbClr val="000000">
                <a:alpha val="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Arc 39"/>
          <p:cNvSpPr/>
          <p:nvPr/>
        </p:nvSpPr>
        <p:spPr>
          <a:xfrm>
            <a:off x="3352680" y="2567160"/>
            <a:ext cx="1828800" cy="1828800"/>
          </a:xfrm>
          <a:custGeom>
            <a:avLst/>
            <a:gdLst/>
            <a:ahLst/>
            <a:rect l="l" t="t" r="r" b="b"/>
            <a:pathLst>
              <a:path stroke="0" w="1828800" h="1828800">
                <a:moveTo>
                  <a:pt x="583" y="881763"/>
                </a:moveTo>
                <a:cubicBezTo>
                  <a:pt x="18381" y="383434"/>
                  <a:pt x="432154" y="-8755"/>
                  <a:pt x="930721" y="145"/>
                </a:cubicBezTo>
                <a:cubicBezTo>
                  <a:pt x="1429288" y="9045"/>
                  <a:pt x="1828800" y="415753"/>
                  <a:pt x="1828800" y="914399"/>
                </a:cubicBezTo>
                <a:lnTo>
                  <a:pt x="914400" y="914400"/>
                </a:lnTo>
                <a:lnTo>
                  <a:pt x="583" y="881763"/>
                </a:lnTo>
                <a:close/>
              </a:path>
              <a:path fill="none" w="1828800" h="1828800">
                <a:moveTo>
                  <a:pt x="583" y="881763"/>
                </a:moveTo>
                <a:cubicBezTo>
                  <a:pt x="18381" y="383434"/>
                  <a:pt x="432154" y="-8755"/>
                  <a:pt x="930721" y="145"/>
                </a:cubicBezTo>
                <a:cubicBezTo>
                  <a:pt x="1429288" y="9045"/>
                  <a:pt x="1828800" y="415753"/>
                  <a:pt x="1828800" y="914399"/>
                </a:cubicBezTo>
              </a:path>
            </a:pathLst>
          </a:custGeom>
          <a:noFill/>
          <a:ln cap="rnd" w="63360">
            <a:solidFill>
              <a:srgbClr val="44546a"/>
            </a:solidFill>
            <a:miter/>
          </a:ln>
          <a:effectLst>
            <a:outerShdw dist="101823" dir="2700000" blurRad="0" rotWithShape="0">
              <a:srgbClr val="000000">
                <a:alpha val="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Arc 40"/>
          <p:cNvSpPr/>
          <p:nvPr/>
        </p:nvSpPr>
        <p:spPr>
          <a:xfrm>
            <a:off x="5181480" y="2567160"/>
            <a:ext cx="1828800" cy="1828800"/>
          </a:xfrm>
          <a:custGeom>
            <a:avLst/>
            <a:gdLst/>
            <a:ahLst/>
            <a:rect l="l" t="t" r="r" b="b"/>
            <a:pathLst>
              <a:path stroke="0" w="1828800" h="1828800">
                <a:moveTo>
                  <a:pt x="259" y="892634"/>
                </a:moveTo>
                <a:cubicBezTo>
                  <a:pt x="12179" y="392012"/>
                  <a:pt x="424555" y="-5896"/>
                  <a:pt x="925284" y="65"/>
                </a:cubicBezTo>
                <a:cubicBezTo>
                  <a:pt x="1426012" y="6025"/>
                  <a:pt x="1828800" y="413636"/>
                  <a:pt x="1828800" y="914400"/>
                </a:cubicBezTo>
                <a:lnTo>
                  <a:pt x="914400" y="914400"/>
                </a:lnTo>
                <a:lnTo>
                  <a:pt x="259" y="892634"/>
                </a:lnTo>
                <a:close/>
              </a:path>
              <a:path fill="none" w="1828800" h="1828800">
                <a:moveTo>
                  <a:pt x="259" y="892634"/>
                </a:moveTo>
                <a:cubicBezTo>
                  <a:pt x="12179" y="392012"/>
                  <a:pt x="424555" y="-5896"/>
                  <a:pt x="925284" y="65"/>
                </a:cubicBezTo>
                <a:cubicBezTo>
                  <a:pt x="1426012" y="6025"/>
                  <a:pt x="1828800" y="413636"/>
                  <a:pt x="1828800" y="914400"/>
                </a:cubicBezTo>
              </a:path>
            </a:pathLst>
          </a:custGeom>
          <a:noFill/>
          <a:ln cap="rnd" w="63360">
            <a:solidFill>
              <a:srgbClr val="44546a"/>
            </a:solidFill>
            <a:miter/>
          </a:ln>
          <a:effectLst>
            <a:outerShdw dist="101823" dir="2700000" blurRad="0" rotWithShape="0">
              <a:srgbClr val="000000">
                <a:alpha val="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Arc 41"/>
          <p:cNvSpPr/>
          <p:nvPr/>
        </p:nvSpPr>
        <p:spPr>
          <a:xfrm>
            <a:off x="7010280" y="2567160"/>
            <a:ext cx="1828800" cy="1828800"/>
          </a:xfrm>
          <a:custGeom>
            <a:avLst/>
            <a:gdLst/>
            <a:ahLst/>
            <a:rect l="l" t="t" r="r" b="b"/>
            <a:pathLst>
              <a:path stroke="0" w="1828800" h="1828800">
                <a:moveTo>
                  <a:pt x="62" y="903769"/>
                </a:moveTo>
                <a:cubicBezTo>
                  <a:pt x="5909" y="400869"/>
                  <a:pt x="416790" y="-2908"/>
                  <a:pt x="919716" y="16"/>
                </a:cubicBezTo>
                <a:cubicBezTo>
                  <a:pt x="1422642" y="2940"/>
                  <a:pt x="1828800" y="411466"/>
                  <a:pt x="1828800" y="914401"/>
                </a:cubicBezTo>
                <a:lnTo>
                  <a:pt x="914400" y="914400"/>
                </a:lnTo>
                <a:lnTo>
                  <a:pt x="62" y="903769"/>
                </a:lnTo>
                <a:close/>
              </a:path>
              <a:path fill="none" w="1828800" h="1828800">
                <a:moveTo>
                  <a:pt x="62" y="903769"/>
                </a:moveTo>
                <a:cubicBezTo>
                  <a:pt x="5909" y="400869"/>
                  <a:pt x="416790" y="-2908"/>
                  <a:pt x="919716" y="16"/>
                </a:cubicBezTo>
                <a:cubicBezTo>
                  <a:pt x="1422642" y="2940"/>
                  <a:pt x="1828800" y="411466"/>
                  <a:pt x="1828800" y="914401"/>
                </a:cubicBezTo>
              </a:path>
            </a:pathLst>
          </a:custGeom>
          <a:noFill/>
          <a:ln cap="rnd" w="63360">
            <a:solidFill>
              <a:srgbClr val="44546a"/>
            </a:solidFill>
            <a:miter/>
          </a:ln>
          <a:effectLst>
            <a:outerShdw dist="101823" dir="2700000" blurRad="0" rotWithShape="0">
              <a:srgbClr val="000000">
                <a:alpha val="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Arc 42"/>
          <p:cNvSpPr/>
          <p:nvPr/>
        </p:nvSpPr>
        <p:spPr>
          <a:xfrm>
            <a:off x="8839080" y="2567160"/>
            <a:ext cx="1828800" cy="1828800"/>
          </a:xfrm>
          <a:custGeom>
            <a:avLst/>
            <a:gdLst/>
            <a:ahLst/>
            <a:rect l="l" t="t" r="r" b="b"/>
            <a:pathLst>
              <a:path stroke="0" w="1828800" h="1828800">
                <a:moveTo>
                  <a:pt x="0" y="914400"/>
                </a:moveTo>
                <a:cubicBezTo>
                  <a:pt x="0" y="409391"/>
                  <a:pt x="409391" y="0"/>
                  <a:pt x="914400" y="0"/>
                </a:cubicBezTo>
                <a:cubicBezTo>
                  <a:pt x="1419409" y="0"/>
                  <a:pt x="1828800" y="409391"/>
                  <a:pt x="1828800" y="914400"/>
                </a:cubicBezTo>
                <a:lnTo>
                  <a:pt x="914400" y="914400"/>
                </a:lnTo>
                <a:lnTo>
                  <a:pt x="0" y="914400"/>
                </a:lnTo>
                <a:close/>
              </a:path>
              <a:path fill="none" w="1828800" h="1828800">
                <a:moveTo>
                  <a:pt x="0" y="914400"/>
                </a:moveTo>
                <a:cubicBezTo>
                  <a:pt x="0" y="409391"/>
                  <a:pt x="409391" y="0"/>
                  <a:pt x="914400" y="0"/>
                </a:cubicBezTo>
                <a:cubicBezTo>
                  <a:pt x="1419409" y="0"/>
                  <a:pt x="1828800" y="409391"/>
                  <a:pt x="1828800" y="914400"/>
                </a:cubicBezTo>
              </a:path>
            </a:pathLst>
          </a:custGeom>
          <a:noFill/>
          <a:ln cap="rnd" w="63360">
            <a:solidFill>
              <a:srgbClr val="44546a"/>
            </a:solidFill>
            <a:miter/>
            <a:tailEnd len="med" type="triangle" w="med"/>
          </a:ln>
          <a:effectLst>
            <a:outerShdw dist="101823" dir="2700000" blurRad="0" rotWithShape="0">
              <a:srgbClr val="000000">
                <a:alpha val="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Rectangle 43"/>
          <p:cNvSpPr/>
          <p:nvPr/>
        </p:nvSpPr>
        <p:spPr>
          <a:xfrm>
            <a:off x="1498680" y="4314960"/>
            <a:ext cx="18795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4546a"/>
                </a:solidFill>
                <a:latin typeface="Source Sans Pro"/>
                <a:ea typeface="Roboto"/>
              </a:rPr>
              <a:t>Year 20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Etsy plaid narwhal fixie tofu, gastropub ennui ethical schlitz disrupt lom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44"/>
          <p:cNvSpPr/>
          <p:nvPr/>
        </p:nvSpPr>
        <p:spPr>
          <a:xfrm>
            <a:off x="3327480" y="4314960"/>
            <a:ext cx="18795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4546a"/>
                </a:solidFill>
                <a:latin typeface="Source Sans Pro"/>
                <a:ea typeface="Roboto"/>
              </a:rPr>
              <a:t>Year 201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Etsy plaid narwhal fixie tofu, gastropub ennui ethical schlitz disrupt lom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Rectangle 45"/>
          <p:cNvSpPr/>
          <p:nvPr/>
        </p:nvSpPr>
        <p:spPr>
          <a:xfrm>
            <a:off x="5156280" y="4314960"/>
            <a:ext cx="18795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4546a"/>
                </a:solidFill>
                <a:latin typeface="Source Sans Pro"/>
                <a:ea typeface="Roboto"/>
              </a:rPr>
              <a:t>Year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Etsy plaid narwhal fixie tofu, gastropub ennui ethical schlitz disrupt lom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Rectangle 46"/>
          <p:cNvSpPr/>
          <p:nvPr/>
        </p:nvSpPr>
        <p:spPr>
          <a:xfrm>
            <a:off x="6985080" y="4314960"/>
            <a:ext cx="18795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4546a"/>
                </a:solidFill>
                <a:latin typeface="Source Sans Pro"/>
                <a:ea typeface="Roboto"/>
              </a:rPr>
              <a:t>Year 201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Etsy plaid narwhal fixie tofu, gastropub ennui ethical schlitz disrupt lom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Rectangle 47"/>
          <p:cNvSpPr/>
          <p:nvPr/>
        </p:nvSpPr>
        <p:spPr>
          <a:xfrm>
            <a:off x="8813880" y="4314960"/>
            <a:ext cx="18795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4546a"/>
                </a:solidFill>
                <a:latin typeface="Source Sans Pro"/>
                <a:ea typeface="Roboto"/>
              </a:rPr>
              <a:t>Year 201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Etsy plaid narwhal fixie tofu, gastropub ennui ethical schlitz disrupt lom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Box 48"/>
          <p:cNvSpPr/>
          <p:nvPr/>
        </p:nvSpPr>
        <p:spPr>
          <a:xfrm>
            <a:off x="2085840" y="1984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546a"/>
                </a:solidFill>
                <a:latin typeface="Source Sans Pro"/>
                <a:ea typeface="Roboto Condensed Light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Box 49"/>
          <p:cNvSpPr/>
          <p:nvPr/>
        </p:nvSpPr>
        <p:spPr>
          <a:xfrm>
            <a:off x="3914640" y="1984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546a"/>
                </a:solidFill>
                <a:latin typeface="Source Sans Pro"/>
                <a:ea typeface="Roboto Condensed Light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TextBox 50"/>
          <p:cNvSpPr/>
          <p:nvPr/>
        </p:nvSpPr>
        <p:spPr>
          <a:xfrm>
            <a:off x="5743440" y="1984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546a"/>
                </a:solidFill>
                <a:latin typeface="Source Sans Pro"/>
                <a:ea typeface="Roboto Condensed Light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Box 51"/>
          <p:cNvSpPr/>
          <p:nvPr/>
        </p:nvSpPr>
        <p:spPr>
          <a:xfrm>
            <a:off x="7572240" y="1996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546a"/>
                </a:solidFill>
                <a:latin typeface="Source Sans Pro"/>
                <a:ea typeface="Roboto Condensed Light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52"/>
          <p:cNvSpPr/>
          <p:nvPr/>
        </p:nvSpPr>
        <p:spPr>
          <a:xfrm>
            <a:off x="9401040" y="1996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546a"/>
                </a:solidFill>
                <a:latin typeface="Source Sans Pro"/>
                <a:ea typeface="Roboto Condensed Light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1" name="Group 53"/>
          <p:cNvGrpSpPr/>
          <p:nvPr/>
        </p:nvGrpSpPr>
        <p:grpSpPr>
          <a:xfrm>
            <a:off x="1981080" y="2971800"/>
            <a:ext cx="914400" cy="914400"/>
            <a:chOff x="1981080" y="2971800"/>
            <a:chExt cx="914400" cy="914400"/>
          </a:xfrm>
        </p:grpSpPr>
        <p:sp>
          <p:nvSpPr>
            <p:cNvPr id="842" name="Oval 54"/>
            <p:cNvSpPr/>
            <p:nvPr/>
          </p:nvSpPr>
          <p:spPr>
            <a:xfrm>
              <a:off x="1981080" y="297180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f57050"/>
                </a:gs>
                <a:gs pos="100000">
                  <a:srgbClr val="e5450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Shape 2544"/>
            <p:cNvSpPr/>
            <p:nvPr/>
          </p:nvSpPr>
          <p:spPr>
            <a:xfrm>
              <a:off x="2298600" y="33012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836" y="8255"/>
                  </a:moveTo>
                  <a:lnTo>
                    <a:pt x="12837" y="10800"/>
                  </a:lnTo>
                  <a:lnTo>
                    <a:pt x="8836" y="13345"/>
                  </a:lnTo>
                  <a:cubicBezTo>
                    <a:pt x="8836" y="13345"/>
                    <a:pt x="8836" y="8255"/>
                    <a:pt x="8836" y="8255"/>
                  </a:cubicBezTo>
                  <a:close/>
                  <a:moveTo>
                    <a:pt x="8345" y="14727"/>
                  </a:moveTo>
                  <a:cubicBezTo>
                    <a:pt x="8461" y="14727"/>
                    <a:pt x="8564" y="14681"/>
                    <a:pt x="8647" y="14614"/>
                  </a:cubicBezTo>
                  <a:lnTo>
                    <a:pt x="8652" y="14620"/>
                  </a:lnTo>
                  <a:lnTo>
                    <a:pt x="14052" y="11184"/>
                  </a:lnTo>
                  <a:lnTo>
                    <a:pt x="14047" y="11178"/>
                  </a:lnTo>
                  <a:cubicBezTo>
                    <a:pt x="14160" y="11088"/>
                    <a:pt x="14236" y="10955"/>
                    <a:pt x="14236" y="10800"/>
                  </a:cubicBezTo>
                  <a:cubicBezTo>
                    <a:pt x="14236" y="10645"/>
                    <a:pt x="14160" y="10512"/>
                    <a:pt x="14047" y="10422"/>
                  </a:cubicBezTo>
                  <a:lnTo>
                    <a:pt x="14052" y="10417"/>
                  </a:lnTo>
                  <a:lnTo>
                    <a:pt x="8652" y="6980"/>
                  </a:lnTo>
                  <a:lnTo>
                    <a:pt x="8647" y="6986"/>
                  </a:lnTo>
                  <a:cubicBezTo>
                    <a:pt x="8564" y="6919"/>
                    <a:pt x="8461" y="6873"/>
                    <a:pt x="8345" y="6873"/>
                  </a:cubicBezTo>
                  <a:cubicBezTo>
                    <a:pt x="8074" y="6873"/>
                    <a:pt x="7855" y="7093"/>
                    <a:pt x="7855" y="7364"/>
                  </a:cubicBezTo>
                  <a:lnTo>
                    <a:pt x="7855" y="14236"/>
                  </a:lnTo>
                  <a:cubicBezTo>
                    <a:pt x="7855" y="14507"/>
                    <a:pt x="8074" y="14727"/>
                    <a:pt x="8345" y="14727"/>
                  </a:cubicBezTo>
                  <a:moveTo>
                    <a:pt x="19636" y="18655"/>
                  </a:moveTo>
                  <a:lnTo>
                    <a:pt x="18655" y="18655"/>
                  </a:lnTo>
                  <a:lnTo>
                    <a:pt x="18655" y="19636"/>
                  </a:lnTo>
                  <a:lnTo>
                    <a:pt x="19636" y="19636"/>
                  </a:lnTo>
                  <a:cubicBezTo>
                    <a:pt x="19636" y="19636"/>
                    <a:pt x="19636" y="18655"/>
                    <a:pt x="19636" y="18655"/>
                  </a:cubicBezTo>
                  <a:close/>
                  <a:moveTo>
                    <a:pt x="19636" y="14727"/>
                  </a:moveTo>
                  <a:lnTo>
                    <a:pt x="18655" y="14727"/>
                  </a:lnTo>
                  <a:lnTo>
                    <a:pt x="18655" y="15709"/>
                  </a:lnTo>
                  <a:lnTo>
                    <a:pt x="19636" y="15709"/>
                  </a:lnTo>
                  <a:cubicBezTo>
                    <a:pt x="19636" y="15709"/>
                    <a:pt x="19636" y="14727"/>
                    <a:pt x="19636" y="14727"/>
                  </a:cubicBezTo>
                  <a:close/>
                  <a:moveTo>
                    <a:pt x="19636" y="12764"/>
                  </a:moveTo>
                  <a:lnTo>
                    <a:pt x="18655" y="12764"/>
                  </a:lnTo>
                  <a:lnTo>
                    <a:pt x="18655" y="13745"/>
                  </a:lnTo>
                  <a:lnTo>
                    <a:pt x="19636" y="13745"/>
                  </a:lnTo>
                  <a:cubicBezTo>
                    <a:pt x="19636" y="13745"/>
                    <a:pt x="19636" y="12764"/>
                    <a:pt x="19636" y="12764"/>
                  </a:cubicBezTo>
                  <a:close/>
                  <a:moveTo>
                    <a:pt x="19636" y="16691"/>
                  </a:moveTo>
                  <a:lnTo>
                    <a:pt x="18655" y="16691"/>
                  </a:lnTo>
                  <a:lnTo>
                    <a:pt x="18655" y="17673"/>
                  </a:lnTo>
                  <a:lnTo>
                    <a:pt x="19636" y="17673"/>
                  </a:lnTo>
                  <a:cubicBezTo>
                    <a:pt x="19636" y="17673"/>
                    <a:pt x="19636" y="16691"/>
                    <a:pt x="19636" y="16691"/>
                  </a:cubicBezTo>
                  <a:close/>
                  <a:moveTo>
                    <a:pt x="18655" y="2945"/>
                  </a:moveTo>
                  <a:lnTo>
                    <a:pt x="19636" y="2945"/>
                  </a:lnTo>
                  <a:lnTo>
                    <a:pt x="19636" y="1964"/>
                  </a:lnTo>
                  <a:lnTo>
                    <a:pt x="18655" y="1964"/>
                  </a:lnTo>
                  <a:cubicBezTo>
                    <a:pt x="18655" y="1964"/>
                    <a:pt x="18655" y="2945"/>
                    <a:pt x="18655" y="2945"/>
                  </a:cubicBezTo>
                  <a:close/>
                  <a:moveTo>
                    <a:pt x="20618" y="10309"/>
                  </a:moveTo>
                  <a:lnTo>
                    <a:pt x="17673" y="10309"/>
                  </a:lnTo>
                  <a:lnTo>
                    <a:pt x="17673" y="982"/>
                  </a:lnTo>
                  <a:lnTo>
                    <a:pt x="19636" y="982"/>
                  </a:lnTo>
                  <a:cubicBezTo>
                    <a:pt x="20178" y="982"/>
                    <a:pt x="20618" y="1421"/>
                    <a:pt x="20618" y="1964"/>
                  </a:cubicBezTo>
                  <a:cubicBezTo>
                    <a:pt x="20618" y="1964"/>
                    <a:pt x="20618" y="10309"/>
                    <a:pt x="20618" y="10309"/>
                  </a:cubicBezTo>
                  <a:close/>
                  <a:moveTo>
                    <a:pt x="20618" y="19636"/>
                  </a:moveTo>
                  <a:cubicBezTo>
                    <a:pt x="20618" y="20178"/>
                    <a:pt x="20178" y="20618"/>
                    <a:pt x="19636" y="20618"/>
                  </a:cubicBezTo>
                  <a:lnTo>
                    <a:pt x="17673" y="20618"/>
                  </a:lnTo>
                  <a:lnTo>
                    <a:pt x="17673" y="11291"/>
                  </a:lnTo>
                  <a:lnTo>
                    <a:pt x="20618" y="11291"/>
                  </a:lnTo>
                  <a:cubicBezTo>
                    <a:pt x="20618" y="11291"/>
                    <a:pt x="20618" y="19636"/>
                    <a:pt x="20618" y="19636"/>
                  </a:cubicBezTo>
                  <a:close/>
                  <a:moveTo>
                    <a:pt x="16691" y="20618"/>
                  </a:moveTo>
                  <a:lnTo>
                    <a:pt x="4909" y="20618"/>
                  </a:lnTo>
                  <a:lnTo>
                    <a:pt x="4909" y="982"/>
                  </a:lnTo>
                  <a:lnTo>
                    <a:pt x="16691" y="982"/>
                  </a:lnTo>
                  <a:cubicBezTo>
                    <a:pt x="16691" y="982"/>
                    <a:pt x="16691" y="20618"/>
                    <a:pt x="16691" y="20618"/>
                  </a:cubicBezTo>
                  <a:close/>
                  <a:moveTo>
                    <a:pt x="3927" y="10309"/>
                  </a:moveTo>
                  <a:lnTo>
                    <a:pt x="982" y="10309"/>
                  </a:lnTo>
                  <a:lnTo>
                    <a:pt x="982" y="1964"/>
                  </a:lnTo>
                  <a:cubicBezTo>
                    <a:pt x="982" y="1421"/>
                    <a:pt x="1422" y="982"/>
                    <a:pt x="1964" y="982"/>
                  </a:cubicBezTo>
                  <a:lnTo>
                    <a:pt x="3927" y="982"/>
                  </a:lnTo>
                  <a:cubicBezTo>
                    <a:pt x="3927" y="982"/>
                    <a:pt x="3927" y="10309"/>
                    <a:pt x="3927" y="10309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1291"/>
                  </a:lnTo>
                  <a:lnTo>
                    <a:pt x="3927" y="11291"/>
                  </a:lnTo>
                  <a:cubicBezTo>
                    <a:pt x="3927" y="11291"/>
                    <a:pt x="3927" y="20618"/>
                    <a:pt x="3927" y="20618"/>
                  </a:cubicBezTo>
                  <a:close/>
                  <a:moveTo>
                    <a:pt x="19636" y="0"/>
                  </a:moveTo>
                  <a:lnTo>
                    <a:pt x="1964" y="0"/>
                  </a:lnTo>
                  <a:cubicBezTo>
                    <a:pt x="879" y="0"/>
                    <a:pt x="0" y="879"/>
                    <a:pt x="0" y="1964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9636" y="21600"/>
                  </a:lnTo>
                  <a:cubicBezTo>
                    <a:pt x="20721" y="21600"/>
                    <a:pt x="21600" y="20721"/>
                    <a:pt x="21600" y="19636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8655" y="8836"/>
                  </a:moveTo>
                  <a:lnTo>
                    <a:pt x="19636" y="8836"/>
                  </a:lnTo>
                  <a:lnTo>
                    <a:pt x="19636" y="7855"/>
                  </a:lnTo>
                  <a:lnTo>
                    <a:pt x="18655" y="7855"/>
                  </a:lnTo>
                  <a:cubicBezTo>
                    <a:pt x="18655" y="7855"/>
                    <a:pt x="18655" y="8836"/>
                    <a:pt x="18655" y="8836"/>
                  </a:cubicBezTo>
                  <a:close/>
                  <a:moveTo>
                    <a:pt x="18655" y="6873"/>
                  </a:moveTo>
                  <a:lnTo>
                    <a:pt x="19636" y="6873"/>
                  </a:lnTo>
                  <a:lnTo>
                    <a:pt x="19636" y="5891"/>
                  </a:lnTo>
                  <a:lnTo>
                    <a:pt x="18655" y="5891"/>
                  </a:lnTo>
                  <a:cubicBezTo>
                    <a:pt x="18655" y="5891"/>
                    <a:pt x="18655" y="6873"/>
                    <a:pt x="18655" y="6873"/>
                  </a:cubicBezTo>
                  <a:close/>
                  <a:moveTo>
                    <a:pt x="18655" y="4909"/>
                  </a:moveTo>
                  <a:lnTo>
                    <a:pt x="19636" y="4909"/>
                  </a:lnTo>
                  <a:lnTo>
                    <a:pt x="19636" y="3927"/>
                  </a:lnTo>
                  <a:lnTo>
                    <a:pt x="18655" y="3927"/>
                  </a:lnTo>
                  <a:cubicBezTo>
                    <a:pt x="18655" y="3927"/>
                    <a:pt x="18655" y="4909"/>
                    <a:pt x="18655" y="4909"/>
                  </a:cubicBezTo>
                  <a:close/>
                  <a:moveTo>
                    <a:pt x="1964" y="2945"/>
                  </a:moveTo>
                  <a:lnTo>
                    <a:pt x="2945" y="2945"/>
                  </a:lnTo>
                  <a:lnTo>
                    <a:pt x="2945" y="1964"/>
                  </a:lnTo>
                  <a:lnTo>
                    <a:pt x="1964" y="1964"/>
                  </a:lnTo>
                  <a:cubicBezTo>
                    <a:pt x="1964" y="1964"/>
                    <a:pt x="1964" y="2945"/>
                    <a:pt x="1964" y="2945"/>
                  </a:cubicBezTo>
                  <a:close/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2945" y="12764"/>
                  </a:moveTo>
                  <a:lnTo>
                    <a:pt x="1964" y="12764"/>
                  </a:lnTo>
                  <a:lnTo>
                    <a:pt x="1964" y="13745"/>
                  </a:lnTo>
                  <a:lnTo>
                    <a:pt x="2945" y="13745"/>
                  </a:lnTo>
                  <a:cubicBezTo>
                    <a:pt x="2945" y="13745"/>
                    <a:pt x="2945" y="12764"/>
                    <a:pt x="2945" y="12764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1964" y="4909"/>
                  </a:moveTo>
                  <a:lnTo>
                    <a:pt x="2945" y="4909"/>
                  </a:lnTo>
                  <a:lnTo>
                    <a:pt x="2945" y="3927"/>
                  </a:lnTo>
                  <a:lnTo>
                    <a:pt x="1964" y="3927"/>
                  </a:lnTo>
                  <a:cubicBezTo>
                    <a:pt x="1964" y="3927"/>
                    <a:pt x="1964" y="4909"/>
                    <a:pt x="1964" y="49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4" name="Group 56"/>
          <p:cNvGrpSpPr/>
          <p:nvPr/>
        </p:nvGrpSpPr>
        <p:grpSpPr>
          <a:xfrm>
            <a:off x="3809880" y="2971800"/>
            <a:ext cx="914400" cy="914400"/>
            <a:chOff x="3809880" y="2971800"/>
            <a:chExt cx="914400" cy="914400"/>
          </a:xfrm>
        </p:grpSpPr>
        <p:sp>
          <p:nvSpPr>
            <p:cNvPr id="845" name="Oval 57"/>
            <p:cNvSpPr/>
            <p:nvPr/>
          </p:nvSpPr>
          <p:spPr>
            <a:xfrm>
              <a:off x="3809880" y="297180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ff9c80"/>
                </a:gs>
                <a:gs pos="100000">
                  <a:srgbClr val="e5754f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Shape 2617"/>
            <p:cNvSpPr/>
            <p:nvPr/>
          </p:nvSpPr>
          <p:spPr>
            <a:xfrm>
              <a:off x="4127400" y="3301200"/>
              <a:ext cx="279360" cy="22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457" y="20400"/>
                  </a:moveTo>
                  <a:cubicBezTo>
                    <a:pt x="4686" y="18711"/>
                    <a:pt x="5897" y="18036"/>
                    <a:pt x="7134" y="17493"/>
                  </a:cubicBezTo>
                  <a:lnTo>
                    <a:pt x="7173" y="17477"/>
                  </a:lnTo>
                  <a:cubicBezTo>
                    <a:pt x="8055" y="17190"/>
                    <a:pt x="9626" y="16039"/>
                    <a:pt x="9626" y="13569"/>
                  </a:cubicBezTo>
                  <a:cubicBezTo>
                    <a:pt x="9626" y="11474"/>
                    <a:pt x="8932" y="10452"/>
                    <a:pt x="8558" y="9902"/>
                  </a:cubicBezTo>
                  <a:cubicBezTo>
                    <a:pt x="8484" y="9791"/>
                    <a:pt x="8394" y="9649"/>
                    <a:pt x="8414" y="9680"/>
                  </a:cubicBezTo>
                  <a:cubicBezTo>
                    <a:pt x="8384" y="9599"/>
                    <a:pt x="8237" y="9129"/>
                    <a:pt x="8449" y="8035"/>
                  </a:cubicBezTo>
                  <a:cubicBezTo>
                    <a:pt x="8549" y="7522"/>
                    <a:pt x="8380" y="7241"/>
                    <a:pt x="8380" y="7241"/>
                  </a:cubicBezTo>
                  <a:cubicBezTo>
                    <a:pt x="8112" y="6505"/>
                    <a:pt x="7614" y="5133"/>
                    <a:pt x="7988" y="4025"/>
                  </a:cubicBezTo>
                  <a:cubicBezTo>
                    <a:pt x="8490" y="2492"/>
                    <a:pt x="8935" y="2190"/>
                    <a:pt x="9741" y="1747"/>
                  </a:cubicBezTo>
                  <a:cubicBezTo>
                    <a:pt x="9788" y="1721"/>
                    <a:pt x="9834" y="1691"/>
                    <a:pt x="9877" y="1657"/>
                  </a:cubicBezTo>
                  <a:cubicBezTo>
                    <a:pt x="10029" y="1535"/>
                    <a:pt x="10674" y="1200"/>
                    <a:pt x="11403" y="1200"/>
                  </a:cubicBezTo>
                  <a:cubicBezTo>
                    <a:pt x="11768" y="1200"/>
                    <a:pt x="12075" y="1285"/>
                    <a:pt x="12318" y="1454"/>
                  </a:cubicBezTo>
                  <a:cubicBezTo>
                    <a:pt x="12610" y="1655"/>
                    <a:pt x="12890" y="2039"/>
                    <a:pt x="13313" y="3271"/>
                  </a:cubicBezTo>
                  <a:cubicBezTo>
                    <a:pt x="14101" y="5469"/>
                    <a:pt x="13602" y="6698"/>
                    <a:pt x="13350" y="7124"/>
                  </a:cubicBezTo>
                  <a:cubicBezTo>
                    <a:pt x="13183" y="7407"/>
                    <a:pt x="13126" y="7764"/>
                    <a:pt x="13191" y="8102"/>
                  </a:cubicBezTo>
                  <a:cubicBezTo>
                    <a:pt x="13386" y="9109"/>
                    <a:pt x="13260" y="9534"/>
                    <a:pt x="13227" y="9619"/>
                  </a:cubicBezTo>
                  <a:cubicBezTo>
                    <a:pt x="13219" y="9631"/>
                    <a:pt x="13101" y="9814"/>
                    <a:pt x="13041" y="9902"/>
                  </a:cubicBezTo>
                  <a:cubicBezTo>
                    <a:pt x="12668" y="10452"/>
                    <a:pt x="11973" y="11474"/>
                    <a:pt x="11973" y="13569"/>
                  </a:cubicBezTo>
                  <a:cubicBezTo>
                    <a:pt x="11973" y="16039"/>
                    <a:pt x="13545" y="17190"/>
                    <a:pt x="14427" y="17477"/>
                  </a:cubicBezTo>
                  <a:lnTo>
                    <a:pt x="14466" y="17493"/>
                  </a:lnTo>
                  <a:cubicBezTo>
                    <a:pt x="15703" y="18036"/>
                    <a:pt x="16914" y="18711"/>
                    <a:pt x="17143" y="20400"/>
                  </a:cubicBezTo>
                  <a:cubicBezTo>
                    <a:pt x="17143" y="20400"/>
                    <a:pt x="4457" y="20400"/>
                    <a:pt x="4457" y="20400"/>
                  </a:cubicBezTo>
                  <a:close/>
                  <a:moveTo>
                    <a:pt x="14715" y="16328"/>
                  </a:moveTo>
                  <a:cubicBezTo>
                    <a:pt x="14715" y="16328"/>
                    <a:pt x="12955" y="15815"/>
                    <a:pt x="12955" y="13569"/>
                  </a:cubicBezTo>
                  <a:cubicBezTo>
                    <a:pt x="12955" y="11596"/>
                    <a:pt x="13678" y="10901"/>
                    <a:pt x="13957" y="10421"/>
                  </a:cubicBezTo>
                  <a:cubicBezTo>
                    <a:pt x="13957" y="10421"/>
                    <a:pt x="14531" y="9807"/>
                    <a:pt x="14146" y="7826"/>
                  </a:cubicBezTo>
                  <a:cubicBezTo>
                    <a:pt x="14787" y="6740"/>
                    <a:pt x="14995" y="4972"/>
                    <a:pt x="14211" y="2789"/>
                  </a:cubicBezTo>
                  <a:cubicBezTo>
                    <a:pt x="13774" y="1514"/>
                    <a:pt x="13389" y="815"/>
                    <a:pt x="12801" y="409"/>
                  </a:cubicBezTo>
                  <a:cubicBezTo>
                    <a:pt x="12370" y="110"/>
                    <a:pt x="11880" y="0"/>
                    <a:pt x="11403" y="0"/>
                  </a:cubicBezTo>
                  <a:cubicBezTo>
                    <a:pt x="10516" y="0"/>
                    <a:pt x="9675" y="384"/>
                    <a:pt x="9339" y="653"/>
                  </a:cubicBezTo>
                  <a:cubicBezTo>
                    <a:pt x="8357" y="1192"/>
                    <a:pt x="7697" y="1688"/>
                    <a:pt x="7077" y="3579"/>
                  </a:cubicBezTo>
                  <a:cubicBezTo>
                    <a:pt x="6540" y="5168"/>
                    <a:pt x="7179" y="6892"/>
                    <a:pt x="7494" y="7758"/>
                  </a:cubicBezTo>
                  <a:cubicBezTo>
                    <a:pt x="7110" y="9740"/>
                    <a:pt x="7642" y="10421"/>
                    <a:pt x="7642" y="10421"/>
                  </a:cubicBezTo>
                  <a:cubicBezTo>
                    <a:pt x="7922" y="10901"/>
                    <a:pt x="8644" y="11596"/>
                    <a:pt x="8644" y="13569"/>
                  </a:cubicBezTo>
                  <a:cubicBezTo>
                    <a:pt x="8644" y="15815"/>
                    <a:pt x="6885" y="16328"/>
                    <a:pt x="6885" y="16328"/>
                  </a:cubicBezTo>
                  <a:cubicBezTo>
                    <a:pt x="5768" y="16819"/>
                    <a:pt x="3436" y="17760"/>
                    <a:pt x="3436" y="21000"/>
                  </a:cubicBezTo>
                  <a:cubicBezTo>
                    <a:pt x="3436" y="21000"/>
                    <a:pt x="3436" y="21600"/>
                    <a:pt x="3927" y="21600"/>
                  </a:cubicBezTo>
                  <a:lnTo>
                    <a:pt x="17673" y="21600"/>
                  </a:lnTo>
                  <a:cubicBezTo>
                    <a:pt x="18164" y="21600"/>
                    <a:pt x="18164" y="21000"/>
                    <a:pt x="18164" y="21000"/>
                  </a:cubicBezTo>
                  <a:cubicBezTo>
                    <a:pt x="18164" y="17760"/>
                    <a:pt x="15832" y="16819"/>
                    <a:pt x="14715" y="16328"/>
                  </a:cubicBezTo>
                  <a:moveTo>
                    <a:pt x="19516" y="15006"/>
                  </a:moveTo>
                  <a:cubicBezTo>
                    <a:pt x="19516" y="15006"/>
                    <a:pt x="18416" y="14701"/>
                    <a:pt x="18416" y="12954"/>
                  </a:cubicBezTo>
                  <a:cubicBezTo>
                    <a:pt x="18416" y="11419"/>
                    <a:pt x="18794" y="10879"/>
                    <a:pt x="19017" y="10506"/>
                  </a:cubicBezTo>
                  <a:cubicBezTo>
                    <a:pt x="19017" y="10506"/>
                    <a:pt x="19443" y="9975"/>
                    <a:pt x="19136" y="8435"/>
                  </a:cubicBezTo>
                  <a:cubicBezTo>
                    <a:pt x="19388" y="7760"/>
                    <a:pt x="19900" y="6419"/>
                    <a:pt x="19470" y="5184"/>
                  </a:cubicBezTo>
                  <a:cubicBezTo>
                    <a:pt x="18974" y="3714"/>
                    <a:pt x="18645" y="3327"/>
                    <a:pt x="17860" y="2908"/>
                  </a:cubicBezTo>
                  <a:cubicBezTo>
                    <a:pt x="17591" y="2699"/>
                    <a:pt x="16918" y="2400"/>
                    <a:pt x="16208" y="2400"/>
                  </a:cubicBezTo>
                  <a:cubicBezTo>
                    <a:pt x="15873" y="2400"/>
                    <a:pt x="15531" y="2473"/>
                    <a:pt x="15218" y="2647"/>
                  </a:cubicBezTo>
                  <a:cubicBezTo>
                    <a:pt x="15343" y="3035"/>
                    <a:pt x="15449" y="3420"/>
                    <a:pt x="15525" y="3799"/>
                  </a:cubicBezTo>
                  <a:cubicBezTo>
                    <a:pt x="15537" y="3790"/>
                    <a:pt x="15550" y="3779"/>
                    <a:pt x="15563" y="3770"/>
                  </a:cubicBezTo>
                  <a:cubicBezTo>
                    <a:pt x="15730" y="3657"/>
                    <a:pt x="15948" y="3600"/>
                    <a:pt x="16208" y="3600"/>
                  </a:cubicBezTo>
                  <a:cubicBezTo>
                    <a:pt x="16716" y="3600"/>
                    <a:pt x="17211" y="3825"/>
                    <a:pt x="17332" y="3919"/>
                  </a:cubicBezTo>
                  <a:cubicBezTo>
                    <a:pt x="17375" y="3953"/>
                    <a:pt x="17421" y="3983"/>
                    <a:pt x="17467" y="4008"/>
                  </a:cubicBezTo>
                  <a:cubicBezTo>
                    <a:pt x="17950" y="4265"/>
                    <a:pt x="18131" y="4362"/>
                    <a:pt x="18562" y="5641"/>
                  </a:cubicBezTo>
                  <a:cubicBezTo>
                    <a:pt x="18822" y="6387"/>
                    <a:pt x="18452" y="7378"/>
                    <a:pt x="18253" y="7911"/>
                  </a:cubicBezTo>
                  <a:cubicBezTo>
                    <a:pt x="18161" y="8156"/>
                    <a:pt x="18130" y="8457"/>
                    <a:pt x="18182" y="8718"/>
                  </a:cubicBezTo>
                  <a:cubicBezTo>
                    <a:pt x="18316" y="9392"/>
                    <a:pt x="18254" y="9706"/>
                    <a:pt x="18232" y="9784"/>
                  </a:cubicBezTo>
                  <a:cubicBezTo>
                    <a:pt x="18230" y="9788"/>
                    <a:pt x="18227" y="9793"/>
                    <a:pt x="18224" y="9798"/>
                  </a:cubicBezTo>
                  <a:lnTo>
                    <a:pt x="18191" y="9853"/>
                  </a:lnTo>
                  <a:cubicBezTo>
                    <a:pt x="17926" y="10290"/>
                    <a:pt x="17434" y="11106"/>
                    <a:pt x="17434" y="12954"/>
                  </a:cubicBezTo>
                  <a:cubicBezTo>
                    <a:pt x="17434" y="15019"/>
                    <a:pt x="18570" y="15933"/>
                    <a:pt x="19229" y="16155"/>
                  </a:cubicBezTo>
                  <a:cubicBezTo>
                    <a:pt x="19856" y="16429"/>
                    <a:pt x="20435" y="16859"/>
                    <a:pt x="20582" y="17999"/>
                  </a:cubicBezTo>
                  <a:lnTo>
                    <a:pt x="18459" y="18000"/>
                  </a:lnTo>
                  <a:cubicBezTo>
                    <a:pt x="18647" y="18353"/>
                    <a:pt x="18802" y="18755"/>
                    <a:pt x="18920" y="19200"/>
                  </a:cubicBezTo>
                  <a:lnTo>
                    <a:pt x="21109" y="19199"/>
                  </a:lnTo>
                  <a:cubicBezTo>
                    <a:pt x="21600" y="19199"/>
                    <a:pt x="21600" y="18599"/>
                    <a:pt x="21600" y="18599"/>
                  </a:cubicBezTo>
                  <a:cubicBezTo>
                    <a:pt x="21600" y="16199"/>
                    <a:pt x="20410" y="15388"/>
                    <a:pt x="19516" y="15006"/>
                  </a:cubicBezTo>
                  <a:moveTo>
                    <a:pt x="2371" y="16155"/>
                  </a:moveTo>
                  <a:cubicBezTo>
                    <a:pt x="3030" y="15933"/>
                    <a:pt x="4166" y="15019"/>
                    <a:pt x="4166" y="12954"/>
                  </a:cubicBezTo>
                  <a:cubicBezTo>
                    <a:pt x="4166" y="11106"/>
                    <a:pt x="3673" y="10290"/>
                    <a:pt x="3409" y="9853"/>
                  </a:cubicBezTo>
                  <a:lnTo>
                    <a:pt x="3376" y="9798"/>
                  </a:lnTo>
                  <a:cubicBezTo>
                    <a:pt x="3373" y="9793"/>
                    <a:pt x="3370" y="9788"/>
                    <a:pt x="3367" y="9784"/>
                  </a:cubicBezTo>
                  <a:cubicBezTo>
                    <a:pt x="3346" y="9706"/>
                    <a:pt x="3283" y="9392"/>
                    <a:pt x="3418" y="8718"/>
                  </a:cubicBezTo>
                  <a:cubicBezTo>
                    <a:pt x="3470" y="8457"/>
                    <a:pt x="3439" y="8156"/>
                    <a:pt x="3347" y="7911"/>
                  </a:cubicBezTo>
                  <a:cubicBezTo>
                    <a:pt x="3148" y="7378"/>
                    <a:pt x="2778" y="6387"/>
                    <a:pt x="3038" y="5641"/>
                  </a:cubicBezTo>
                  <a:cubicBezTo>
                    <a:pt x="3469" y="4362"/>
                    <a:pt x="3649" y="4265"/>
                    <a:pt x="4133" y="4008"/>
                  </a:cubicBezTo>
                  <a:cubicBezTo>
                    <a:pt x="4180" y="3983"/>
                    <a:pt x="4225" y="3953"/>
                    <a:pt x="4268" y="3919"/>
                  </a:cubicBezTo>
                  <a:cubicBezTo>
                    <a:pt x="4389" y="3825"/>
                    <a:pt x="4884" y="3600"/>
                    <a:pt x="5392" y="3600"/>
                  </a:cubicBezTo>
                  <a:cubicBezTo>
                    <a:pt x="5636" y="3600"/>
                    <a:pt x="5839" y="3655"/>
                    <a:pt x="6002" y="3755"/>
                  </a:cubicBezTo>
                  <a:cubicBezTo>
                    <a:pt x="6045" y="3548"/>
                    <a:pt x="6096" y="3341"/>
                    <a:pt x="6165" y="3134"/>
                  </a:cubicBezTo>
                  <a:cubicBezTo>
                    <a:pt x="6225" y="2950"/>
                    <a:pt x="6289" y="2793"/>
                    <a:pt x="6351" y="2630"/>
                  </a:cubicBezTo>
                  <a:cubicBezTo>
                    <a:pt x="6046" y="2468"/>
                    <a:pt x="5716" y="2400"/>
                    <a:pt x="5392" y="2400"/>
                  </a:cubicBezTo>
                  <a:cubicBezTo>
                    <a:pt x="4682" y="2400"/>
                    <a:pt x="4009" y="2699"/>
                    <a:pt x="3740" y="2908"/>
                  </a:cubicBezTo>
                  <a:cubicBezTo>
                    <a:pt x="2955" y="3327"/>
                    <a:pt x="2625" y="3714"/>
                    <a:pt x="2130" y="5184"/>
                  </a:cubicBezTo>
                  <a:cubicBezTo>
                    <a:pt x="1700" y="6419"/>
                    <a:pt x="2212" y="7760"/>
                    <a:pt x="2464" y="8435"/>
                  </a:cubicBezTo>
                  <a:cubicBezTo>
                    <a:pt x="2156" y="9975"/>
                    <a:pt x="2583" y="10506"/>
                    <a:pt x="2583" y="10506"/>
                  </a:cubicBezTo>
                  <a:cubicBezTo>
                    <a:pt x="2806" y="10879"/>
                    <a:pt x="3185" y="11419"/>
                    <a:pt x="3185" y="12954"/>
                  </a:cubicBezTo>
                  <a:cubicBezTo>
                    <a:pt x="3185" y="14701"/>
                    <a:pt x="2084" y="15006"/>
                    <a:pt x="2084" y="15006"/>
                  </a:cubicBezTo>
                  <a:cubicBezTo>
                    <a:pt x="1191" y="15388"/>
                    <a:pt x="0" y="16199"/>
                    <a:pt x="0" y="18599"/>
                  </a:cubicBezTo>
                  <a:cubicBezTo>
                    <a:pt x="0" y="18599"/>
                    <a:pt x="0" y="19199"/>
                    <a:pt x="491" y="19199"/>
                  </a:cubicBezTo>
                  <a:lnTo>
                    <a:pt x="2680" y="19200"/>
                  </a:lnTo>
                  <a:cubicBezTo>
                    <a:pt x="2798" y="18755"/>
                    <a:pt x="2952" y="18353"/>
                    <a:pt x="3141" y="18000"/>
                  </a:cubicBezTo>
                  <a:lnTo>
                    <a:pt x="1018" y="17999"/>
                  </a:lnTo>
                  <a:cubicBezTo>
                    <a:pt x="1165" y="16859"/>
                    <a:pt x="1744" y="16429"/>
                    <a:pt x="2371" y="161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7" name="Group 59"/>
          <p:cNvGrpSpPr/>
          <p:nvPr/>
        </p:nvGrpSpPr>
        <p:grpSpPr>
          <a:xfrm>
            <a:off x="5638680" y="2971800"/>
            <a:ext cx="914400" cy="914400"/>
            <a:chOff x="5638680" y="2971800"/>
            <a:chExt cx="914400" cy="914400"/>
          </a:xfrm>
        </p:grpSpPr>
        <p:sp>
          <p:nvSpPr>
            <p:cNvPr id="848" name="Oval 60"/>
            <p:cNvSpPr/>
            <p:nvPr/>
          </p:nvSpPr>
          <p:spPr>
            <a:xfrm>
              <a:off x="5638680" y="297180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6c7a8b"/>
                </a:gs>
                <a:gs pos="100000">
                  <a:srgbClr val="485b71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Shape 2619"/>
            <p:cNvSpPr/>
            <p:nvPr/>
          </p:nvSpPr>
          <p:spPr>
            <a:xfrm>
              <a:off x="5961600" y="33069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583">
                  <a:moveTo>
                    <a:pt x="12364" y="11941"/>
                  </a:moveTo>
                  <a:lnTo>
                    <a:pt x="13062" y="14033"/>
                  </a:lnTo>
                  <a:lnTo>
                    <a:pt x="11365" y="12790"/>
                  </a:lnTo>
                  <a:lnTo>
                    <a:pt x="10785" y="12365"/>
                  </a:lnTo>
                  <a:lnTo>
                    <a:pt x="10205" y="12790"/>
                  </a:lnTo>
                  <a:lnTo>
                    <a:pt x="8508" y="14033"/>
                  </a:lnTo>
                  <a:lnTo>
                    <a:pt x="9206" y="11941"/>
                  </a:lnTo>
                  <a:lnTo>
                    <a:pt x="9426" y="11282"/>
                  </a:lnTo>
                  <a:lnTo>
                    <a:pt x="8877" y="10856"/>
                  </a:lnTo>
                  <a:lnTo>
                    <a:pt x="7511" y="9794"/>
                  </a:lnTo>
                  <a:lnTo>
                    <a:pt x="9790" y="9794"/>
                  </a:lnTo>
                  <a:lnTo>
                    <a:pt x="10030" y="9160"/>
                  </a:lnTo>
                  <a:lnTo>
                    <a:pt x="10785" y="7162"/>
                  </a:lnTo>
                  <a:lnTo>
                    <a:pt x="11540" y="9160"/>
                  </a:lnTo>
                  <a:lnTo>
                    <a:pt x="11779" y="9794"/>
                  </a:lnTo>
                  <a:lnTo>
                    <a:pt x="14059" y="9794"/>
                  </a:lnTo>
                  <a:lnTo>
                    <a:pt x="12692" y="10856"/>
                  </a:lnTo>
                  <a:lnTo>
                    <a:pt x="12144" y="11282"/>
                  </a:lnTo>
                  <a:cubicBezTo>
                    <a:pt x="12144" y="11282"/>
                    <a:pt x="12364" y="11941"/>
                    <a:pt x="12364" y="11941"/>
                  </a:cubicBezTo>
                  <a:close/>
                  <a:moveTo>
                    <a:pt x="12458" y="8813"/>
                  </a:moveTo>
                  <a:lnTo>
                    <a:pt x="10785" y="4384"/>
                  </a:lnTo>
                  <a:lnTo>
                    <a:pt x="9111" y="8813"/>
                  </a:lnTo>
                  <a:lnTo>
                    <a:pt x="4649" y="8813"/>
                  </a:lnTo>
                  <a:lnTo>
                    <a:pt x="8275" y="11631"/>
                  </a:lnTo>
                  <a:lnTo>
                    <a:pt x="6601" y="16647"/>
                  </a:lnTo>
                  <a:lnTo>
                    <a:pt x="10785" y="13582"/>
                  </a:lnTo>
                  <a:lnTo>
                    <a:pt x="14969" y="16647"/>
                  </a:lnTo>
                  <a:lnTo>
                    <a:pt x="13295" y="11631"/>
                  </a:lnTo>
                  <a:lnTo>
                    <a:pt x="16921" y="8813"/>
                  </a:lnTo>
                  <a:cubicBezTo>
                    <a:pt x="16921" y="8813"/>
                    <a:pt x="12458" y="8813"/>
                    <a:pt x="12458" y="8813"/>
                  </a:cubicBezTo>
                  <a:close/>
                  <a:moveTo>
                    <a:pt x="10800" y="20592"/>
                  </a:moveTo>
                  <a:cubicBezTo>
                    <a:pt x="9796" y="20381"/>
                    <a:pt x="982" y="17399"/>
                    <a:pt x="982" y="12263"/>
                  </a:cubicBezTo>
                  <a:cubicBezTo>
                    <a:pt x="982" y="7469"/>
                    <a:pt x="2322" y="2919"/>
                    <a:pt x="2778" y="1179"/>
                  </a:cubicBezTo>
                  <a:cubicBezTo>
                    <a:pt x="4022" y="1719"/>
                    <a:pt x="7232" y="2943"/>
                    <a:pt x="10800" y="2943"/>
                  </a:cubicBezTo>
                  <a:cubicBezTo>
                    <a:pt x="14368" y="2943"/>
                    <a:pt x="17579" y="1719"/>
                    <a:pt x="18823" y="1179"/>
                  </a:cubicBezTo>
                  <a:cubicBezTo>
                    <a:pt x="19278" y="2918"/>
                    <a:pt x="20618" y="7466"/>
                    <a:pt x="20618" y="12263"/>
                  </a:cubicBezTo>
                  <a:cubicBezTo>
                    <a:pt x="20618" y="17393"/>
                    <a:pt x="11803" y="20381"/>
                    <a:pt x="10800" y="20592"/>
                  </a:cubicBezTo>
                  <a:moveTo>
                    <a:pt x="19618" y="356"/>
                  </a:moveTo>
                  <a:cubicBezTo>
                    <a:pt x="19577" y="216"/>
                    <a:pt x="19477" y="101"/>
                    <a:pt x="19343" y="42"/>
                  </a:cubicBezTo>
                  <a:cubicBezTo>
                    <a:pt x="19210" y="-17"/>
                    <a:pt x="19057" y="-13"/>
                    <a:pt x="18926" y="52"/>
                  </a:cubicBezTo>
                  <a:cubicBezTo>
                    <a:pt x="18888" y="71"/>
                    <a:pt x="15053" y="1962"/>
                    <a:pt x="10800" y="1962"/>
                  </a:cubicBezTo>
                  <a:cubicBezTo>
                    <a:pt x="6556" y="1962"/>
                    <a:pt x="2712" y="71"/>
                    <a:pt x="2674" y="52"/>
                  </a:cubicBezTo>
                  <a:cubicBezTo>
                    <a:pt x="2543" y="-13"/>
                    <a:pt x="2391" y="-17"/>
                    <a:pt x="2257" y="42"/>
                  </a:cubicBezTo>
                  <a:cubicBezTo>
                    <a:pt x="2124" y="101"/>
                    <a:pt x="2023" y="216"/>
                    <a:pt x="1983" y="356"/>
                  </a:cubicBezTo>
                  <a:cubicBezTo>
                    <a:pt x="1963" y="426"/>
                    <a:pt x="0" y="6376"/>
                    <a:pt x="0" y="12263"/>
                  </a:cubicBezTo>
                  <a:cubicBezTo>
                    <a:pt x="0" y="18484"/>
                    <a:pt x="10271" y="21491"/>
                    <a:pt x="10708" y="21575"/>
                  </a:cubicBezTo>
                  <a:cubicBezTo>
                    <a:pt x="10739" y="21580"/>
                    <a:pt x="10770" y="21583"/>
                    <a:pt x="10800" y="21583"/>
                  </a:cubicBezTo>
                  <a:cubicBezTo>
                    <a:pt x="10831" y="21583"/>
                    <a:pt x="10862" y="21580"/>
                    <a:pt x="10892" y="21575"/>
                  </a:cubicBezTo>
                  <a:cubicBezTo>
                    <a:pt x="11329" y="21491"/>
                    <a:pt x="21600" y="18484"/>
                    <a:pt x="21600" y="12263"/>
                  </a:cubicBezTo>
                  <a:cubicBezTo>
                    <a:pt x="21600" y="6376"/>
                    <a:pt x="19637" y="426"/>
                    <a:pt x="19618" y="3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0" name="Group 62"/>
          <p:cNvGrpSpPr/>
          <p:nvPr/>
        </p:nvGrpSpPr>
        <p:grpSpPr>
          <a:xfrm>
            <a:off x="7467480" y="2971800"/>
            <a:ext cx="914400" cy="914400"/>
            <a:chOff x="7467480" y="2971800"/>
            <a:chExt cx="914400" cy="914400"/>
          </a:xfrm>
        </p:grpSpPr>
        <p:sp>
          <p:nvSpPr>
            <p:cNvPr id="851" name="Oval 63"/>
            <p:cNvSpPr/>
            <p:nvPr/>
          </p:nvSpPr>
          <p:spPr>
            <a:xfrm>
              <a:off x="7467480" y="297180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5f6b7c"/>
                </a:gs>
                <a:gs pos="100000">
                  <a:srgbClr val="384961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Shape 2620"/>
            <p:cNvSpPr/>
            <p:nvPr/>
          </p:nvSpPr>
          <p:spPr>
            <a:xfrm>
              <a:off x="7797600" y="327420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144">
                  <a:moveTo>
                    <a:pt x="20618" y="7406"/>
                  </a:moveTo>
                  <a:lnTo>
                    <a:pt x="13580" y="7406"/>
                  </a:lnTo>
                  <a:cubicBezTo>
                    <a:pt x="13156" y="6803"/>
                    <a:pt x="12718" y="6095"/>
                    <a:pt x="12319" y="5293"/>
                  </a:cubicBezTo>
                  <a:lnTo>
                    <a:pt x="20618" y="5293"/>
                  </a:lnTo>
                  <a:cubicBezTo>
                    <a:pt x="20618" y="5293"/>
                    <a:pt x="20618" y="7406"/>
                    <a:pt x="20618" y="7406"/>
                  </a:cubicBezTo>
                  <a:close/>
                  <a:moveTo>
                    <a:pt x="19636" y="13747"/>
                  </a:moveTo>
                  <a:lnTo>
                    <a:pt x="11291" y="13747"/>
                  </a:lnTo>
                  <a:lnTo>
                    <a:pt x="11291" y="8463"/>
                  </a:lnTo>
                  <a:lnTo>
                    <a:pt x="13090" y="8463"/>
                  </a:lnTo>
                  <a:cubicBezTo>
                    <a:pt x="14022" y="9712"/>
                    <a:pt x="14815" y="10437"/>
                    <a:pt x="14882" y="10497"/>
                  </a:cubicBezTo>
                  <a:cubicBezTo>
                    <a:pt x="15009" y="10610"/>
                    <a:pt x="15174" y="10644"/>
                    <a:pt x="15323" y="10601"/>
                  </a:cubicBezTo>
                  <a:cubicBezTo>
                    <a:pt x="15418" y="10574"/>
                    <a:pt x="15505" y="10516"/>
                    <a:pt x="15573" y="10429"/>
                  </a:cubicBezTo>
                  <a:cubicBezTo>
                    <a:pt x="15746" y="10205"/>
                    <a:pt x="15718" y="9871"/>
                    <a:pt x="15510" y="9684"/>
                  </a:cubicBezTo>
                  <a:cubicBezTo>
                    <a:pt x="15498" y="9674"/>
                    <a:pt x="15023" y="9238"/>
                    <a:pt x="14383" y="8463"/>
                  </a:cubicBezTo>
                  <a:lnTo>
                    <a:pt x="19636" y="8463"/>
                  </a:lnTo>
                  <a:cubicBezTo>
                    <a:pt x="19636" y="8463"/>
                    <a:pt x="19636" y="13747"/>
                    <a:pt x="19636" y="13747"/>
                  </a:cubicBezTo>
                  <a:close/>
                  <a:moveTo>
                    <a:pt x="19636" y="20087"/>
                  </a:moveTo>
                  <a:lnTo>
                    <a:pt x="11291" y="20087"/>
                  </a:lnTo>
                  <a:lnTo>
                    <a:pt x="11291" y="14803"/>
                  </a:lnTo>
                  <a:lnTo>
                    <a:pt x="19636" y="14803"/>
                  </a:lnTo>
                  <a:cubicBezTo>
                    <a:pt x="19636" y="14803"/>
                    <a:pt x="19636" y="20087"/>
                    <a:pt x="19636" y="20087"/>
                  </a:cubicBezTo>
                  <a:close/>
                  <a:moveTo>
                    <a:pt x="11291" y="5461"/>
                  </a:moveTo>
                  <a:cubicBezTo>
                    <a:pt x="11626" y="6178"/>
                    <a:pt x="11991" y="6828"/>
                    <a:pt x="12360" y="7406"/>
                  </a:cubicBezTo>
                  <a:lnTo>
                    <a:pt x="11291" y="7406"/>
                  </a:lnTo>
                  <a:cubicBezTo>
                    <a:pt x="11291" y="7406"/>
                    <a:pt x="11291" y="5461"/>
                    <a:pt x="11291" y="5461"/>
                  </a:cubicBezTo>
                  <a:close/>
                  <a:moveTo>
                    <a:pt x="12871" y="1481"/>
                  </a:moveTo>
                  <a:cubicBezTo>
                    <a:pt x="14045" y="751"/>
                    <a:pt x="15436" y="979"/>
                    <a:pt x="15979" y="1990"/>
                  </a:cubicBezTo>
                  <a:cubicBezTo>
                    <a:pt x="16343" y="2668"/>
                    <a:pt x="16223" y="3523"/>
                    <a:pt x="15755" y="4236"/>
                  </a:cubicBezTo>
                  <a:lnTo>
                    <a:pt x="11845" y="4236"/>
                  </a:lnTo>
                  <a:cubicBezTo>
                    <a:pt x="11740" y="3975"/>
                    <a:pt x="11641" y="3708"/>
                    <a:pt x="11550" y="3432"/>
                  </a:cubicBezTo>
                  <a:cubicBezTo>
                    <a:pt x="11653" y="2691"/>
                    <a:pt x="12120" y="1947"/>
                    <a:pt x="12871" y="1481"/>
                  </a:cubicBezTo>
                  <a:moveTo>
                    <a:pt x="10309" y="7406"/>
                  </a:moveTo>
                  <a:lnTo>
                    <a:pt x="9224" y="7406"/>
                  </a:lnTo>
                  <a:cubicBezTo>
                    <a:pt x="9600" y="6819"/>
                    <a:pt x="9970" y="6158"/>
                    <a:pt x="10309" y="5429"/>
                  </a:cubicBezTo>
                  <a:cubicBezTo>
                    <a:pt x="10309" y="5429"/>
                    <a:pt x="10309" y="7406"/>
                    <a:pt x="10309" y="7406"/>
                  </a:cubicBezTo>
                  <a:close/>
                  <a:moveTo>
                    <a:pt x="10309" y="13747"/>
                  </a:moveTo>
                  <a:lnTo>
                    <a:pt x="1964" y="13747"/>
                  </a:lnTo>
                  <a:lnTo>
                    <a:pt x="1964" y="8463"/>
                  </a:lnTo>
                  <a:lnTo>
                    <a:pt x="7202" y="8463"/>
                  </a:lnTo>
                  <a:cubicBezTo>
                    <a:pt x="6563" y="9238"/>
                    <a:pt x="6087" y="9674"/>
                    <a:pt x="6075" y="9684"/>
                  </a:cubicBezTo>
                  <a:cubicBezTo>
                    <a:pt x="5867" y="9871"/>
                    <a:pt x="5839" y="10205"/>
                    <a:pt x="6012" y="10429"/>
                  </a:cubicBezTo>
                  <a:cubicBezTo>
                    <a:pt x="6080" y="10516"/>
                    <a:pt x="6167" y="10574"/>
                    <a:pt x="6261" y="10601"/>
                  </a:cubicBezTo>
                  <a:cubicBezTo>
                    <a:pt x="6411" y="10644"/>
                    <a:pt x="6575" y="10610"/>
                    <a:pt x="6703" y="10497"/>
                  </a:cubicBezTo>
                  <a:cubicBezTo>
                    <a:pt x="6770" y="10437"/>
                    <a:pt x="7563" y="9712"/>
                    <a:pt x="8495" y="8463"/>
                  </a:cubicBezTo>
                  <a:lnTo>
                    <a:pt x="10309" y="8463"/>
                  </a:lnTo>
                  <a:cubicBezTo>
                    <a:pt x="10309" y="8463"/>
                    <a:pt x="10309" y="13747"/>
                    <a:pt x="10309" y="13747"/>
                  </a:cubicBezTo>
                  <a:close/>
                  <a:moveTo>
                    <a:pt x="10309" y="20087"/>
                  </a:moveTo>
                  <a:lnTo>
                    <a:pt x="1964" y="20087"/>
                  </a:lnTo>
                  <a:lnTo>
                    <a:pt x="1964" y="14803"/>
                  </a:lnTo>
                  <a:lnTo>
                    <a:pt x="10309" y="14803"/>
                  </a:lnTo>
                  <a:cubicBezTo>
                    <a:pt x="10309" y="14803"/>
                    <a:pt x="10309" y="20087"/>
                    <a:pt x="10309" y="20087"/>
                  </a:cubicBezTo>
                  <a:close/>
                  <a:moveTo>
                    <a:pt x="982" y="7406"/>
                  </a:moveTo>
                  <a:lnTo>
                    <a:pt x="982" y="5293"/>
                  </a:lnTo>
                  <a:lnTo>
                    <a:pt x="9266" y="5293"/>
                  </a:lnTo>
                  <a:cubicBezTo>
                    <a:pt x="8867" y="6095"/>
                    <a:pt x="8429" y="6803"/>
                    <a:pt x="8005" y="7406"/>
                  </a:cubicBezTo>
                  <a:cubicBezTo>
                    <a:pt x="8005" y="7406"/>
                    <a:pt x="982" y="7406"/>
                    <a:pt x="982" y="7406"/>
                  </a:cubicBezTo>
                  <a:close/>
                  <a:moveTo>
                    <a:pt x="5606" y="1990"/>
                  </a:moveTo>
                  <a:cubicBezTo>
                    <a:pt x="6148" y="980"/>
                    <a:pt x="7540" y="751"/>
                    <a:pt x="8714" y="1481"/>
                  </a:cubicBezTo>
                  <a:cubicBezTo>
                    <a:pt x="9465" y="1948"/>
                    <a:pt x="9931" y="2692"/>
                    <a:pt x="10035" y="3433"/>
                  </a:cubicBezTo>
                  <a:cubicBezTo>
                    <a:pt x="9944" y="3708"/>
                    <a:pt x="9845" y="3975"/>
                    <a:pt x="9740" y="4236"/>
                  </a:cubicBezTo>
                  <a:lnTo>
                    <a:pt x="5830" y="4236"/>
                  </a:lnTo>
                  <a:cubicBezTo>
                    <a:pt x="5362" y="3523"/>
                    <a:pt x="5242" y="2668"/>
                    <a:pt x="5606" y="1990"/>
                  </a:cubicBezTo>
                  <a:moveTo>
                    <a:pt x="20618" y="4236"/>
                  </a:moveTo>
                  <a:lnTo>
                    <a:pt x="16874" y="4236"/>
                  </a:lnTo>
                  <a:cubicBezTo>
                    <a:pt x="17259" y="3325"/>
                    <a:pt x="17284" y="2310"/>
                    <a:pt x="16829" y="1461"/>
                  </a:cubicBezTo>
                  <a:cubicBezTo>
                    <a:pt x="16015" y="-54"/>
                    <a:pt x="14024" y="-456"/>
                    <a:pt x="12380" y="565"/>
                  </a:cubicBezTo>
                  <a:cubicBezTo>
                    <a:pt x="11747" y="959"/>
                    <a:pt x="11277" y="1511"/>
                    <a:pt x="10965" y="2122"/>
                  </a:cubicBezTo>
                  <a:cubicBezTo>
                    <a:pt x="10949" y="2115"/>
                    <a:pt x="10937" y="2103"/>
                    <a:pt x="10920" y="2098"/>
                  </a:cubicBezTo>
                  <a:cubicBezTo>
                    <a:pt x="10909" y="2095"/>
                    <a:pt x="10899" y="2097"/>
                    <a:pt x="10888" y="2095"/>
                  </a:cubicBezTo>
                  <a:cubicBezTo>
                    <a:pt x="10861" y="2089"/>
                    <a:pt x="10834" y="2089"/>
                    <a:pt x="10806" y="2088"/>
                  </a:cubicBezTo>
                  <a:cubicBezTo>
                    <a:pt x="10782" y="2089"/>
                    <a:pt x="10759" y="2089"/>
                    <a:pt x="10735" y="2093"/>
                  </a:cubicBezTo>
                  <a:cubicBezTo>
                    <a:pt x="10712" y="2096"/>
                    <a:pt x="10689" y="2090"/>
                    <a:pt x="10665" y="2098"/>
                  </a:cubicBezTo>
                  <a:cubicBezTo>
                    <a:pt x="10648" y="2103"/>
                    <a:pt x="10636" y="2115"/>
                    <a:pt x="10620" y="2122"/>
                  </a:cubicBezTo>
                  <a:cubicBezTo>
                    <a:pt x="10307" y="1511"/>
                    <a:pt x="9837" y="959"/>
                    <a:pt x="9205" y="566"/>
                  </a:cubicBezTo>
                  <a:cubicBezTo>
                    <a:pt x="7561" y="-456"/>
                    <a:pt x="5569" y="-54"/>
                    <a:pt x="4755" y="1461"/>
                  </a:cubicBezTo>
                  <a:cubicBezTo>
                    <a:pt x="4301" y="2310"/>
                    <a:pt x="4325" y="3325"/>
                    <a:pt x="4711" y="4236"/>
                  </a:cubicBezTo>
                  <a:lnTo>
                    <a:pt x="982" y="4236"/>
                  </a:lnTo>
                  <a:cubicBezTo>
                    <a:pt x="440" y="4236"/>
                    <a:pt x="0" y="4709"/>
                    <a:pt x="0" y="5293"/>
                  </a:cubicBezTo>
                  <a:lnTo>
                    <a:pt x="0" y="7406"/>
                  </a:lnTo>
                  <a:cubicBezTo>
                    <a:pt x="0" y="7990"/>
                    <a:pt x="440" y="8463"/>
                    <a:pt x="982" y="8463"/>
                  </a:cubicBezTo>
                  <a:lnTo>
                    <a:pt x="982" y="20087"/>
                  </a:lnTo>
                  <a:cubicBezTo>
                    <a:pt x="982" y="20671"/>
                    <a:pt x="1422" y="21144"/>
                    <a:pt x="1964" y="21144"/>
                  </a:cubicBezTo>
                  <a:lnTo>
                    <a:pt x="19636" y="21144"/>
                  </a:lnTo>
                  <a:cubicBezTo>
                    <a:pt x="20178" y="21144"/>
                    <a:pt x="20618" y="20671"/>
                    <a:pt x="20618" y="20087"/>
                  </a:cubicBezTo>
                  <a:lnTo>
                    <a:pt x="20618" y="8463"/>
                  </a:lnTo>
                  <a:cubicBezTo>
                    <a:pt x="21160" y="8463"/>
                    <a:pt x="21600" y="7990"/>
                    <a:pt x="21600" y="7406"/>
                  </a:cubicBezTo>
                  <a:lnTo>
                    <a:pt x="21600" y="5293"/>
                  </a:lnTo>
                  <a:cubicBezTo>
                    <a:pt x="21600" y="4709"/>
                    <a:pt x="21160" y="4236"/>
                    <a:pt x="20618" y="42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3" name="Group 65"/>
          <p:cNvGrpSpPr/>
          <p:nvPr/>
        </p:nvGrpSpPr>
        <p:grpSpPr>
          <a:xfrm>
            <a:off x="9296280" y="2971800"/>
            <a:ext cx="914400" cy="914400"/>
            <a:chOff x="9296280" y="2971800"/>
            <a:chExt cx="914400" cy="914400"/>
          </a:xfrm>
        </p:grpSpPr>
        <p:sp>
          <p:nvSpPr>
            <p:cNvPr id="854" name="Oval 66"/>
            <p:cNvSpPr/>
            <p:nvPr/>
          </p:nvSpPr>
          <p:spPr>
            <a:xfrm>
              <a:off x="9296280" y="297180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f57050"/>
                </a:gs>
                <a:gs pos="100000">
                  <a:srgbClr val="e5450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Shape 2622"/>
            <p:cNvSpPr/>
            <p:nvPr/>
          </p:nvSpPr>
          <p:spPr>
            <a:xfrm>
              <a:off x="9613800" y="33012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579" y="17044"/>
                  </a:moveTo>
                  <a:cubicBezTo>
                    <a:pt x="9428" y="17174"/>
                    <a:pt x="9252" y="17274"/>
                    <a:pt x="9050" y="17344"/>
                  </a:cubicBezTo>
                  <a:cubicBezTo>
                    <a:pt x="8849" y="17415"/>
                    <a:pt x="8636" y="17450"/>
                    <a:pt x="8413" y="17450"/>
                  </a:cubicBezTo>
                  <a:cubicBezTo>
                    <a:pt x="7887" y="17450"/>
                    <a:pt x="7488" y="17288"/>
                    <a:pt x="7214" y="16966"/>
                  </a:cubicBezTo>
                  <a:cubicBezTo>
                    <a:pt x="6941" y="16644"/>
                    <a:pt x="6797" y="16226"/>
                    <a:pt x="6782" y="15715"/>
                  </a:cubicBezTo>
                  <a:lnTo>
                    <a:pt x="5864" y="15715"/>
                  </a:lnTo>
                  <a:cubicBezTo>
                    <a:pt x="5857" y="16122"/>
                    <a:pt x="5913" y="16486"/>
                    <a:pt x="6032" y="16805"/>
                  </a:cubicBezTo>
                  <a:cubicBezTo>
                    <a:pt x="6151" y="17123"/>
                    <a:pt x="6321" y="17393"/>
                    <a:pt x="6545" y="17611"/>
                  </a:cubicBezTo>
                  <a:cubicBezTo>
                    <a:pt x="6767" y="17830"/>
                    <a:pt x="7038" y="17995"/>
                    <a:pt x="7355" y="18106"/>
                  </a:cubicBezTo>
                  <a:cubicBezTo>
                    <a:pt x="7671" y="18218"/>
                    <a:pt x="8024" y="18273"/>
                    <a:pt x="8413" y="18273"/>
                  </a:cubicBezTo>
                  <a:cubicBezTo>
                    <a:pt x="8773" y="18273"/>
                    <a:pt x="9113" y="18223"/>
                    <a:pt x="9434" y="18123"/>
                  </a:cubicBezTo>
                  <a:cubicBezTo>
                    <a:pt x="9754" y="18023"/>
                    <a:pt x="10033" y="17873"/>
                    <a:pt x="10271" y="17672"/>
                  </a:cubicBezTo>
                  <a:cubicBezTo>
                    <a:pt x="10509" y="17472"/>
                    <a:pt x="10697" y="17222"/>
                    <a:pt x="10837" y="16922"/>
                  </a:cubicBezTo>
                  <a:cubicBezTo>
                    <a:pt x="10978" y="16621"/>
                    <a:pt x="11048" y="16275"/>
                    <a:pt x="11048" y="15881"/>
                  </a:cubicBezTo>
                  <a:cubicBezTo>
                    <a:pt x="11048" y="15407"/>
                    <a:pt x="10935" y="14995"/>
                    <a:pt x="10708" y="14646"/>
                  </a:cubicBezTo>
                  <a:cubicBezTo>
                    <a:pt x="10481" y="14298"/>
                    <a:pt x="10134" y="14072"/>
                    <a:pt x="9666" y="13968"/>
                  </a:cubicBezTo>
                  <a:lnTo>
                    <a:pt x="9666" y="13946"/>
                  </a:lnTo>
                  <a:cubicBezTo>
                    <a:pt x="9968" y="13805"/>
                    <a:pt x="10220" y="13597"/>
                    <a:pt x="10422" y="13323"/>
                  </a:cubicBezTo>
                  <a:cubicBezTo>
                    <a:pt x="10624" y="13048"/>
                    <a:pt x="10724" y="12734"/>
                    <a:pt x="10724" y="12377"/>
                  </a:cubicBezTo>
                  <a:cubicBezTo>
                    <a:pt x="10724" y="12014"/>
                    <a:pt x="10665" y="11698"/>
                    <a:pt x="10546" y="11432"/>
                  </a:cubicBezTo>
                  <a:cubicBezTo>
                    <a:pt x="10427" y="11165"/>
                    <a:pt x="10263" y="10946"/>
                    <a:pt x="10055" y="10776"/>
                  </a:cubicBezTo>
                  <a:cubicBezTo>
                    <a:pt x="9846" y="10605"/>
                    <a:pt x="9599" y="10477"/>
                    <a:pt x="9315" y="10392"/>
                  </a:cubicBezTo>
                  <a:cubicBezTo>
                    <a:pt x="9030" y="10306"/>
                    <a:pt x="8722" y="10264"/>
                    <a:pt x="8391" y="10264"/>
                  </a:cubicBezTo>
                  <a:cubicBezTo>
                    <a:pt x="8010" y="10264"/>
                    <a:pt x="7673" y="10326"/>
                    <a:pt x="7382" y="10453"/>
                  </a:cubicBezTo>
                  <a:cubicBezTo>
                    <a:pt x="7090" y="10579"/>
                    <a:pt x="6847" y="10753"/>
                    <a:pt x="6653" y="10976"/>
                  </a:cubicBezTo>
                  <a:cubicBezTo>
                    <a:pt x="6459" y="11198"/>
                    <a:pt x="6309" y="11466"/>
                    <a:pt x="6204" y="11777"/>
                  </a:cubicBezTo>
                  <a:cubicBezTo>
                    <a:pt x="6100" y="12088"/>
                    <a:pt x="6040" y="12433"/>
                    <a:pt x="6026" y="12811"/>
                  </a:cubicBezTo>
                  <a:lnTo>
                    <a:pt x="6944" y="12811"/>
                  </a:lnTo>
                  <a:cubicBezTo>
                    <a:pt x="6944" y="12581"/>
                    <a:pt x="6972" y="12363"/>
                    <a:pt x="7031" y="12155"/>
                  </a:cubicBezTo>
                  <a:cubicBezTo>
                    <a:pt x="7088" y="11947"/>
                    <a:pt x="7177" y="11766"/>
                    <a:pt x="7296" y="11610"/>
                  </a:cubicBezTo>
                  <a:cubicBezTo>
                    <a:pt x="7414" y="11454"/>
                    <a:pt x="7565" y="11330"/>
                    <a:pt x="7749" y="11237"/>
                  </a:cubicBezTo>
                  <a:cubicBezTo>
                    <a:pt x="7932" y="11144"/>
                    <a:pt x="8147" y="11098"/>
                    <a:pt x="8391" y="11098"/>
                  </a:cubicBezTo>
                  <a:cubicBezTo>
                    <a:pt x="8780" y="11098"/>
                    <a:pt x="9104" y="11204"/>
                    <a:pt x="9364" y="11415"/>
                  </a:cubicBezTo>
                  <a:cubicBezTo>
                    <a:pt x="9623" y="11627"/>
                    <a:pt x="9752" y="11943"/>
                    <a:pt x="9752" y="12366"/>
                  </a:cubicBezTo>
                  <a:cubicBezTo>
                    <a:pt x="9752" y="12574"/>
                    <a:pt x="9713" y="12759"/>
                    <a:pt x="9634" y="12922"/>
                  </a:cubicBezTo>
                  <a:cubicBezTo>
                    <a:pt x="9554" y="13086"/>
                    <a:pt x="9448" y="13221"/>
                    <a:pt x="9315" y="13329"/>
                  </a:cubicBezTo>
                  <a:cubicBezTo>
                    <a:pt x="9182" y="13436"/>
                    <a:pt x="9027" y="13517"/>
                    <a:pt x="8851" y="13574"/>
                  </a:cubicBezTo>
                  <a:cubicBezTo>
                    <a:pt x="8674" y="13629"/>
                    <a:pt x="8488" y="13657"/>
                    <a:pt x="8294" y="13657"/>
                  </a:cubicBezTo>
                  <a:lnTo>
                    <a:pt x="7992" y="13657"/>
                  </a:lnTo>
                  <a:cubicBezTo>
                    <a:pt x="7963" y="13657"/>
                    <a:pt x="7930" y="13653"/>
                    <a:pt x="7895" y="13645"/>
                  </a:cubicBezTo>
                  <a:lnTo>
                    <a:pt x="7895" y="14447"/>
                  </a:lnTo>
                  <a:cubicBezTo>
                    <a:pt x="8067" y="14424"/>
                    <a:pt x="8251" y="14413"/>
                    <a:pt x="8445" y="14413"/>
                  </a:cubicBezTo>
                  <a:cubicBezTo>
                    <a:pt x="8676" y="14413"/>
                    <a:pt x="8890" y="14444"/>
                    <a:pt x="9088" y="14507"/>
                  </a:cubicBezTo>
                  <a:cubicBezTo>
                    <a:pt x="9286" y="14571"/>
                    <a:pt x="9457" y="14667"/>
                    <a:pt x="9601" y="14797"/>
                  </a:cubicBezTo>
                  <a:cubicBezTo>
                    <a:pt x="9745" y="14927"/>
                    <a:pt x="9860" y="15086"/>
                    <a:pt x="9947" y="15275"/>
                  </a:cubicBezTo>
                  <a:cubicBezTo>
                    <a:pt x="10033" y="15464"/>
                    <a:pt x="10076" y="15682"/>
                    <a:pt x="10076" y="15926"/>
                  </a:cubicBezTo>
                  <a:cubicBezTo>
                    <a:pt x="10076" y="16163"/>
                    <a:pt x="10031" y="16377"/>
                    <a:pt x="9941" y="16565"/>
                  </a:cubicBezTo>
                  <a:cubicBezTo>
                    <a:pt x="9851" y="16754"/>
                    <a:pt x="9731" y="16914"/>
                    <a:pt x="9579" y="17044"/>
                  </a:cubicBezTo>
                  <a:moveTo>
                    <a:pt x="14257" y="18151"/>
                  </a:moveTo>
                  <a:lnTo>
                    <a:pt x="15175" y="18151"/>
                  </a:lnTo>
                  <a:lnTo>
                    <a:pt x="15175" y="10264"/>
                  </a:lnTo>
                  <a:lnTo>
                    <a:pt x="14473" y="10264"/>
                  </a:lnTo>
                  <a:cubicBezTo>
                    <a:pt x="14422" y="10561"/>
                    <a:pt x="14329" y="10805"/>
                    <a:pt x="14192" y="10998"/>
                  </a:cubicBezTo>
                  <a:cubicBezTo>
                    <a:pt x="14055" y="11191"/>
                    <a:pt x="13888" y="11343"/>
                    <a:pt x="13690" y="11454"/>
                  </a:cubicBezTo>
                  <a:cubicBezTo>
                    <a:pt x="13492" y="11565"/>
                    <a:pt x="13271" y="11641"/>
                    <a:pt x="13026" y="11682"/>
                  </a:cubicBezTo>
                  <a:cubicBezTo>
                    <a:pt x="12781" y="11723"/>
                    <a:pt x="12529" y="11743"/>
                    <a:pt x="12270" y="11743"/>
                  </a:cubicBezTo>
                  <a:lnTo>
                    <a:pt x="12270" y="12499"/>
                  </a:lnTo>
                  <a:lnTo>
                    <a:pt x="14257" y="12499"/>
                  </a:lnTo>
                  <a:cubicBezTo>
                    <a:pt x="14257" y="12499"/>
                    <a:pt x="14257" y="18151"/>
                    <a:pt x="14257" y="18151"/>
                  </a:cubicBezTo>
                  <a:close/>
                  <a:moveTo>
                    <a:pt x="20618" y="6873"/>
                  </a:moveTo>
                  <a:lnTo>
                    <a:pt x="982" y="6873"/>
                  </a:lnTo>
                  <a:lnTo>
                    <a:pt x="982" y="3928"/>
                  </a:lnTo>
                  <a:cubicBezTo>
                    <a:pt x="982" y="3385"/>
                    <a:pt x="1421" y="2945"/>
                    <a:pt x="1964" y="2945"/>
                  </a:cubicBezTo>
                  <a:lnTo>
                    <a:pt x="3927" y="2945"/>
                  </a:lnTo>
                  <a:lnTo>
                    <a:pt x="3927" y="4418"/>
                  </a:lnTo>
                  <a:cubicBezTo>
                    <a:pt x="3927" y="4690"/>
                    <a:pt x="4147" y="4909"/>
                    <a:pt x="4418" y="4909"/>
                  </a:cubicBezTo>
                  <a:cubicBezTo>
                    <a:pt x="4690" y="4909"/>
                    <a:pt x="4909" y="4690"/>
                    <a:pt x="4909" y="4418"/>
                  </a:cubicBezTo>
                  <a:lnTo>
                    <a:pt x="4909" y="2945"/>
                  </a:lnTo>
                  <a:lnTo>
                    <a:pt x="16691" y="2945"/>
                  </a:lnTo>
                  <a:lnTo>
                    <a:pt x="16691" y="4418"/>
                  </a:lnTo>
                  <a:cubicBezTo>
                    <a:pt x="16691" y="4690"/>
                    <a:pt x="16910" y="4909"/>
                    <a:pt x="17182" y="4909"/>
                  </a:cubicBezTo>
                  <a:cubicBezTo>
                    <a:pt x="17453" y="4909"/>
                    <a:pt x="17673" y="4690"/>
                    <a:pt x="17673" y="4418"/>
                  </a:cubicBezTo>
                  <a:lnTo>
                    <a:pt x="17673" y="2945"/>
                  </a:lnTo>
                  <a:lnTo>
                    <a:pt x="19636" y="2945"/>
                  </a:lnTo>
                  <a:cubicBezTo>
                    <a:pt x="20179" y="2945"/>
                    <a:pt x="20618" y="3385"/>
                    <a:pt x="20618" y="3928"/>
                  </a:cubicBezTo>
                  <a:cubicBezTo>
                    <a:pt x="20618" y="3928"/>
                    <a:pt x="20618" y="6873"/>
                    <a:pt x="20618" y="6873"/>
                  </a:cubicBezTo>
                  <a:close/>
                  <a:moveTo>
                    <a:pt x="20618" y="19636"/>
                  </a:moveTo>
                  <a:cubicBezTo>
                    <a:pt x="20618" y="20179"/>
                    <a:pt x="20179" y="20618"/>
                    <a:pt x="19636" y="20618"/>
                  </a:cubicBezTo>
                  <a:lnTo>
                    <a:pt x="1964" y="20618"/>
                  </a:lnTo>
                  <a:cubicBezTo>
                    <a:pt x="1421" y="20618"/>
                    <a:pt x="982" y="20179"/>
                    <a:pt x="982" y="19636"/>
                  </a:cubicBezTo>
                  <a:lnTo>
                    <a:pt x="982" y="7855"/>
                  </a:lnTo>
                  <a:lnTo>
                    <a:pt x="20618" y="7855"/>
                  </a:lnTo>
                  <a:cubicBezTo>
                    <a:pt x="20618" y="7855"/>
                    <a:pt x="20618" y="19636"/>
                    <a:pt x="20618" y="19636"/>
                  </a:cubicBezTo>
                  <a:close/>
                  <a:moveTo>
                    <a:pt x="19636" y="1964"/>
                  </a:moveTo>
                  <a:lnTo>
                    <a:pt x="17673" y="1964"/>
                  </a:lnTo>
                  <a:lnTo>
                    <a:pt x="17673" y="491"/>
                  </a:lnTo>
                  <a:cubicBezTo>
                    <a:pt x="17673" y="220"/>
                    <a:pt x="17453" y="0"/>
                    <a:pt x="17182" y="0"/>
                  </a:cubicBezTo>
                  <a:cubicBezTo>
                    <a:pt x="16910" y="0"/>
                    <a:pt x="16691" y="220"/>
                    <a:pt x="16691" y="491"/>
                  </a:cubicBezTo>
                  <a:lnTo>
                    <a:pt x="16691" y="1964"/>
                  </a:lnTo>
                  <a:lnTo>
                    <a:pt x="4909" y="1964"/>
                  </a:lnTo>
                  <a:lnTo>
                    <a:pt x="4909" y="491"/>
                  </a:lnTo>
                  <a:cubicBezTo>
                    <a:pt x="4909" y="220"/>
                    <a:pt x="4690" y="0"/>
                    <a:pt x="4418" y="0"/>
                  </a:cubicBezTo>
                  <a:cubicBezTo>
                    <a:pt x="4147" y="0"/>
                    <a:pt x="3927" y="220"/>
                    <a:pt x="3927" y="491"/>
                  </a:cubicBezTo>
                  <a:lnTo>
                    <a:pt x="3927" y="1964"/>
                  </a:lnTo>
                  <a:lnTo>
                    <a:pt x="1964" y="1964"/>
                  </a:lnTo>
                  <a:cubicBezTo>
                    <a:pt x="879" y="1964"/>
                    <a:pt x="0" y="2843"/>
                    <a:pt x="0" y="3928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9636" y="21600"/>
                  </a:lnTo>
                  <a:cubicBezTo>
                    <a:pt x="20721" y="21600"/>
                    <a:pt x="21600" y="20721"/>
                    <a:pt x="21600" y="19636"/>
                  </a:cubicBezTo>
                  <a:lnTo>
                    <a:pt x="21600" y="3928"/>
                  </a:lnTo>
                  <a:cubicBezTo>
                    <a:pt x="21600" y="2843"/>
                    <a:pt x="20721" y="1964"/>
                    <a:pt x="19636" y="196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500"/>
                            </p:stCondLst>
                            <p:childTnLst>
                              <p:par>
                                <p:cTn id="29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31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50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500"/>
                            </p:stCondLst>
                            <p:childTnLst>
                              <p:par>
                                <p:cTn id="33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8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9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9500"/>
                            </p:stCondLst>
                            <p:childTnLst>
                              <p:par>
                                <p:cTn id="35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61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Wave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15a25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ie 64"/>
          <p:cNvSpPr/>
          <p:nvPr/>
        </p:nvSpPr>
        <p:spPr>
          <a:xfrm flipH="1">
            <a:off x="2440080" y="2806560"/>
            <a:ext cx="930240" cy="932040"/>
          </a:xfrm>
          <a:custGeom>
            <a:avLst/>
            <a:gdLst/>
            <a:ahLst/>
            <a:rect l="l" t="t" r="r" b="b"/>
            <a:pathLst>
              <a:path w="931116" h="931115">
                <a:moveTo>
                  <a:pt x="0" y="931115"/>
                </a:moveTo>
                <a:cubicBezTo>
                  <a:pt x="0" y="416874"/>
                  <a:pt x="416875" y="0"/>
                  <a:pt x="931116" y="0"/>
                </a:cubicBezTo>
                <a:lnTo>
                  <a:pt x="931116" y="931115"/>
                </a:lnTo>
                <a:lnTo>
                  <a:pt x="0" y="931115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ie 65"/>
          <p:cNvSpPr/>
          <p:nvPr/>
        </p:nvSpPr>
        <p:spPr>
          <a:xfrm flipH="1" rot="5400000">
            <a:off x="3405960" y="3773160"/>
            <a:ext cx="931680" cy="932040"/>
          </a:xfrm>
          <a:custGeom>
            <a:avLst/>
            <a:gdLst/>
            <a:ahLst/>
            <a:rect l="l" t="t" r="r" b="b"/>
            <a:pathLst>
              <a:path w="931116" h="931115">
                <a:moveTo>
                  <a:pt x="0" y="931115"/>
                </a:moveTo>
                <a:cubicBezTo>
                  <a:pt x="0" y="416874"/>
                  <a:pt x="416875" y="0"/>
                  <a:pt x="931116" y="0"/>
                </a:cubicBezTo>
                <a:lnTo>
                  <a:pt x="931116" y="931115"/>
                </a:lnTo>
                <a:lnTo>
                  <a:pt x="0" y="931115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ie 66"/>
          <p:cNvSpPr/>
          <p:nvPr/>
        </p:nvSpPr>
        <p:spPr>
          <a:xfrm flipH="1">
            <a:off x="4375080" y="2806560"/>
            <a:ext cx="930240" cy="932040"/>
          </a:xfrm>
          <a:custGeom>
            <a:avLst/>
            <a:gdLst/>
            <a:ahLst/>
            <a:rect l="l" t="t" r="r" b="b"/>
            <a:pathLst>
              <a:path w="931116" h="931115">
                <a:moveTo>
                  <a:pt x="0" y="931115"/>
                </a:moveTo>
                <a:cubicBezTo>
                  <a:pt x="0" y="416874"/>
                  <a:pt x="416875" y="0"/>
                  <a:pt x="931116" y="0"/>
                </a:cubicBezTo>
                <a:lnTo>
                  <a:pt x="931116" y="931115"/>
                </a:lnTo>
                <a:lnTo>
                  <a:pt x="0" y="931115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ie 67"/>
          <p:cNvSpPr/>
          <p:nvPr/>
        </p:nvSpPr>
        <p:spPr>
          <a:xfrm flipH="1" rot="5400000">
            <a:off x="5342040" y="3773520"/>
            <a:ext cx="931680" cy="931680"/>
          </a:xfrm>
          <a:custGeom>
            <a:avLst/>
            <a:gdLst/>
            <a:ahLst/>
            <a:rect l="l" t="t" r="r" b="b"/>
            <a:pathLst>
              <a:path w="931116" h="931115">
                <a:moveTo>
                  <a:pt x="0" y="931115"/>
                </a:moveTo>
                <a:cubicBezTo>
                  <a:pt x="0" y="416874"/>
                  <a:pt x="416875" y="0"/>
                  <a:pt x="931116" y="0"/>
                </a:cubicBezTo>
                <a:lnTo>
                  <a:pt x="931116" y="931115"/>
                </a:lnTo>
                <a:lnTo>
                  <a:pt x="0" y="931115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ie 68"/>
          <p:cNvSpPr/>
          <p:nvPr/>
        </p:nvSpPr>
        <p:spPr>
          <a:xfrm flipH="1">
            <a:off x="6310440" y="2806560"/>
            <a:ext cx="930240" cy="932040"/>
          </a:xfrm>
          <a:custGeom>
            <a:avLst/>
            <a:gdLst/>
            <a:ahLst/>
            <a:rect l="l" t="t" r="r" b="b"/>
            <a:pathLst>
              <a:path w="931116" h="931115">
                <a:moveTo>
                  <a:pt x="0" y="931115"/>
                </a:moveTo>
                <a:cubicBezTo>
                  <a:pt x="0" y="416874"/>
                  <a:pt x="416875" y="0"/>
                  <a:pt x="931116" y="0"/>
                </a:cubicBezTo>
                <a:lnTo>
                  <a:pt x="931116" y="931115"/>
                </a:lnTo>
                <a:lnTo>
                  <a:pt x="0" y="931115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ie 69"/>
          <p:cNvSpPr/>
          <p:nvPr/>
        </p:nvSpPr>
        <p:spPr>
          <a:xfrm flipH="1" rot="5400000">
            <a:off x="7276320" y="3773160"/>
            <a:ext cx="931680" cy="932040"/>
          </a:xfrm>
          <a:custGeom>
            <a:avLst/>
            <a:gdLst/>
            <a:ahLst/>
            <a:rect l="l" t="t" r="r" b="b"/>
            <a:pathLst>
              <a:path w="931116" h="931115">
                <a:moveTo>
                  <a:pt x="0" y="931115"/>
                </a:moveTo>
                <a:cubicBezTo>
                  <a:pt x="0" y="416874"/>
                  <a:pt x="416875" y="0"/>
                  <a:pt x="931116" y="0"/>
                </a:cubicBezTo>
                <a:lnTo>
                  <a:pt x="931116" y="931115"/>
                </a:lnTo>
                <a:lnTo>
                  <a:pt x="0" y="931115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ie 70"/>
          <p:cNvSpPr/>
          <p:nvPr/>
        </p:nvSpPr>
        <p:spPr>
          <a:xfrm flipH="1">
            <a:off x="8245440" y="2806560"/>
            <a:ext cx="930240" cy="932040"/>
          </a:xfrm>
          <a:custGeom>
            <a:avLst/>
            <a:gdLst/>
            <a:ahLst/>
            <a:rect l="l" t="t" r="r" b="b"/>
            <a:pathLst>
              <a:path w="931116" h="931115">
                <a:moveTo>
                  <a:pt x="0" y="931115"/>
                </a:moveTo>
                <a:cubicBezTo>
                  <a:pt x="0" y="416874"/>
                  <a:pt x="416875" y="0"/>
                  <a:pt x="931116" y="0"/>
                </a:cubicBezTo>
                <a:lnTo>
                  <a:pt x="931116" y="931115"/>
                </a:lnTo>
                <a:lnTo>
                  <a:pt x="0" y="931115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ie 71"/>
          <p:cNvSpPr/>
          <p:nvPr/>
        </p:nvSpPr>
        <p:spPr>
          <a:xfrm flipH="1" rot="5400000">
            <a:off x="9212400" y="3773520"/>
            <a:ext cx="931680" cy="931680"/>
          </a:xfrm>
          <a:custGeom>
            <a:avLst/>
            <a:gdLst/>
            <a:ahLst/>
            <a:rect l="l" t="t" r="r" b="b"/>
            <a:pathLst>
              <a:path w="931116" h="931115">
                <a:moveTo>
                  <a:pt x="0" y="931115"/>
                </a:moveTo>
                <a:cubicBezTo>
                  <a:pt x="0" y="416874"/>
                  <a:pt x="416875" y="0"/>
                  <a:pt x="931116" y="0"/>
                </a:cubicBezTo>
                <a:lnTo>
                  <a:pt x="931116" y="931115"/>
                </a:lnTo>
                <a:lnTo>
                  <a:pt x="0" y="931115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7" name="Group 72" descr=""/>
          <p:cNvPicPr/>
          <p:nvPr/>
        </p:nvPicPr>
        <p:blipFill>
          <a:blip r:embed="rId1"/>
          <a:stretch/>
        </p:blipFill>
        <p:spPr>
          <a:xfrm>
            <a:off x="1474920" y="2682720"/>
            <a:ext cx="927000" cy="1054080"/>
          </a:xfrm>
          <a:prstGeom prst="rect">
            <a:avLst/>
          </a:prstGeom>
          <a:ln w="0">
            <a:noFill/>
          </a:ln>
        </p:spPr>
      </p:pic>
      <p:pic>
        <p:nvPicPr>
          <p:cNvPr id="868" name="Group 75" descr=""/>
          <p:cNvPicPr/>
          <p:nvPr/>
        </p:nvPicPr>
        <p:blipFill>
          <a:blip r:embed="rId2"/>
          <a:stretch/>
        </p:blipFill>
        <p:spPr>
          <a:xfrm>
            <a:off x="3408480" y="2682720"/>
            <a:ext cx="931680" cy="1054080"/>
          </a:xfrm>
          <a:prstGeom prst="rect">
            <a:avLst/>
          </a:prstGeom>
          <a:ln w="0">
            <a:noFill/>
          </a:ln>
        </p:spPr>
      </p:pic>
      <p:pic>
        <p:nvPicPr>
          <p:cNvPr id="869" name="Group 78" descr=""/>
          <p:cNvPicPr/>
          <p:nvPr/>
        </p:nvPicPr>
        <p:blipFill>
          <a:blip r:embed="rId3"/>
          <a:stretch/>
        </p:blipFill>
        <p:spPr>
          <a:xfrm>
            <a:off x="5340240" y="2682720"/>
            <a:ext cx="932040" cy="1054080"/>
          </a:xfrm>
          <a:prstGeom prst="rect">
            <a:avLst/>
          </a:prstGeom>
          <a:ln w="0">
            <a:noFill/>
          </a:ln>
        </p:spPr>
      </p:pic>
      <p:pic>
        <p:nvPicPr>
          <p:cNvPr id="870" name="Group 81" descr=""/>
          <p:cNvPicPr/>
          <p:nvPr/>
        </p:nvPicPr>
        <p:blipFill>
          <a:blip r:embed="rId4"/>
          <a:stretch/>
        </p:blipFill>
        <p:spPr>
          <a:xfrm>
            <a:off x="7278840" y="2682720"/>
            <a:ext cx="931680" cy="1054080"/>
          </a:xfrm>
          <a:prstGeom prst="rect">
            <a:avLst/>
          </a:prstGeom>
          <a:ln w="0">
            <a:noFill/>
          </a:ln>
        </p:spPr>
      </p:pic>
      <p:pic>
        <p:nvPicPr>
          <p:cNvPr id="871" name="Group 84" descr=""/>
          <p:cNvPicPr/>
          <p:nvPr/>
        </p:nvPicPr>
        <p:blipFill>
          <a:blip r:embed="rId5"/>
          <a:stretch/>
        </p:blipFill>
        <p:spPr>
          <a:xfrm>
            <a:off x="2438280" y="3773520"/>
            <a:ext cx="933480" cy="1060560"/>
          </a:xfrm>
          <a:prstGeom prst="rect">
            <a:avLst/>
          </a:prstGeom>
          <a:ln w="0">
            <a:noFill/>
          </a:ln>
        </p:spPr>
      </p:pic>
      <p:pic>
        <p:nvPicPr>
          <p:cNvPr id="872" name="Group 87" descr=""/>
          <p:cNvPicPr/>
          <p:nvPr/>
        </p:nvPicPr>
        <p:blipFill>
          <a:blip r:embed="rId6"/>
          <a:stretch/>
        </p:blipFill>
        <p:spPr>
          <a:xfrm>
            <a:off x="4376880" y="3773520"/>
            <a:ext cx="927000" cy="1060560"/>
          </a:xfrm>
          <a:prstGeom prst="rect">
            <a:avLst/>
          </a:prstGeom>
          <a:ln w="0">
            <a:noFill/>
          </a:ln>
        </p:spPr>
      </p:pic>
      <p:pic>
        <p:nvPicPr>
          <p:cNvPr id="873" name="Group 90" descr=""/>
          <p:cNvPicPr/>
          <p:nvPr/>
        </p:nvPicPr>
        <p:blipFill>
          <a:blip r:embed="rId7"/>
          <a:stretch/>
        </p:blipFill>
        <p:spPr>
          <a:xfrm>
            <a:off x="6308640" y="3773520"/>
            <a:ext cx="933480" cy="1060560"/>
          </a:xfrm>
          <a:prstGeom prst="rect">
            <a:avLst/>
          </a:prstGeom>
          <a:ln w="0">
            <a:noFill/>
          </a:ln>
        </p:spPr>
      </p:pic>
      <p:pic>
        <p:nvPicPr>
          <p:cNvPr id="874" name="Group 93" descr=""/>
          <p:cNvPicPr/>
          <p:nvPr/>
        </p:nvPicPr>
        <p:blipFill>
          <a:blip r:embed="rId8"/>
          <a:stretch/>
        </p:blipFill>
        <p:spPr>
          <a:xfrm>
            <a:off x="8248680" y="3773520"/>
            <a:ext cx="925560" cy="1060560"/>
          </a:xfrm>
          <a:prstGeom prst="rect">
            <a:avLst/>
          </a:prstGeom>
          <a:ln w="0">
            <a:noFill/>
          </a:ln>
        </p:spPr>
      </p:pic>
      <p:grpSp>
        <p:nvGrpSpPr>
          <p:cNvPr id="875" name="Group 96"/>
          <p:cNvGrpSpPr/>
          <p:nvPr/>
        </p:nvGrpSpPr>
        <p:grpSpPr>
          <a:xfrm>
            <a:off x="2193840" y="1687680"/>
            <a:ext cx="1575000" cy="628560"/>
            <a:chOff x="2193840" y="1687680"/>
            <a:chExt cx="1575000" cy="628560"/>
          </a:xfrm>
        </p:grpSpPr>
        <p:sp>
          <p:nvSpPr>
            <p:cNvPr id="876" name="Rectangle 97"/>
            <p:cNvSpPr/>
            <p:nvPr/>
          </p:nvSpPr>
          <p:spPr>
            <a:xfrm>
              <a:off x="2540160" y="1687680"/>
              <a:ext cx="1228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Shape 2778"/>
            <p:cNvSpPr/>
            <p:nvPr/>
          </p:nvSpPr>
          <p:spPr>
            <a:xfrm>
              <a:off x="2193840" y="18435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8" name="Group 99"/>
          <p:cNvGrpSpPr/>
          <p:nvPr/>
        </p:nvGrpSpPr>
        <p:grpSpPr>
          <a:xfrm>
            <a:off x="4129200" y="1695600"/>
            <a:ext cx="1576440" cy="628560"/>
            <a:chOff x="4129200" y="1695600"/>
            <a:chExt cx="1576440" cy="628560"/>
          </a:xfrm>
        </p:grpSpPr>
        <p:sp>
          <p:nvSpPr>
            <p:cNvPr id="879" name="Rectangle 100"/>
            <p:cNvSpPr/>
            <p:nvPr/>
          </p:nvSpPr>
          <p:spPr>
            <a:xfrm>
              <a:off x="4476960" y="1695600"/>
              <a:ext cx="1228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Shape 2748"/>
            <p:cNvSpPr/>
            <p:nvPr/>
          </p:nvSpPr>
          <p:spPr>
            <a:xfrm>
              <a:off x="4129200" y="18226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1" name="Group 102"/>
          <p:cNvGrpSpPr/>
          <p:nvPr/>
        </p:nvGrpSpPr>
        <p:grpSpPr>
          <a:xfrm>
            <a:off x="6064200" y="1695600"/>
            <a:ext cx="1576440" cy="628560"/>
            <a:chOff x="6064200" y="1695600"/>
            <a:chExt cx="1576440" cy="628560"/>
          </a:xfrm>
        </p:grpSpPr>
        <p:sp>
          <p:nvSpPr>
            <p:cNvPr id="882" name="Rectangle 103"/>
            <p:cNvSpPr/>
            <p:nvPr/>
          </p:nvSpPr>
          <p:spPr>
            <a:xfrm>
              <a:off x="6412680" y="1695600"/>
              <a:ext cx="12279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Shape 2774"/>
            <p:cNvSpPr/>
            <p:nvPr/>
          </p:nvSpPr>
          <p:spPr>
            <a:xfrm>
              <a:off x="6064200" y="18424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4" name="Group 105"/>
          <p:cNvGrpSpPr/>
          <p:nvPr/>
        </p:nvGrpSpPr>
        <p:grpSpPr>
          <a:xfrm>
            <a:off x="8002440" y="1695600"/>
            <a:ext cx="1575000" cy="628560"/>
            <a:chOff x="8002440" y="1695600"/>
            <a:chExt cx="1575000" cy="628560"/>
          </a:xfrm>
        </p:grpSpPr>
        <p:sp>
          <p:nvSpPr>
            <p:cNvPr id="885" name="Rectangle 106"/>
            <p:cNvSpPr/>
            <p:nvPr/>
          </p:nvSpPr>
          <p:spPr>
            <a:xfrm>
              <a:off x="8349840" y="169560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Shape 2784"/>
            <p:cNvSpPr/>
            <p:nvPr/>
          </p:nvSpPr>
          <p:spPr>
            <a:xfrm>
              <a:off x="8002440" y="18478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7" name="Group 108"/>
          <p:cNvGrpSpPr/>
          <p:nvPr/>
        </p:nvGrpSpPr>
        <p:grpSpPr>
          <a:xfrm>
            <a:off x="3162240" y="5133960"/>
            <a:ext cx="1600200" cy="628560"/>
            <a:chOff x="3162240" y="5133960"/>
            <a:chExt cx="1600200" cy="628560"/>
          </a:xfrm>
        </p:grpSpPr>
        <p:sp>
          <p:nvSpPr>
            <p:cNvPr id="888" name="Rectangle 109"/>
            <p:cNvSpPr/>
            <p:nvPr/>
          </p:nvSpPr>
          <p:spPr>
            <a:xfrm>
              <a:off x="3534480" y="5133960"/>
              <a:ext cx="12279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Shape 2554"/>
            <p:cNvSpPr/>
            <p:nvPr/>
          </p:nvSpPr>
          <p:spPr>
            <a:xfrm>
              <a:off x="3162240" y="5266440"/>
              <a:ext cx="279360" cy="25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55" y="18900"/>
                  </a:moveTo>
                  <a:cubicBezTo>
                    <a:pt x="7279" y="18900"/>
                    <a:pt x="6684" y="18827"/>
                    <a:pt x="6086" y="18683"/>
                  </a:cubicBezTo>
                  <a:cubicBezTo>
                    <a:pt x="6017" y="18666"/>
                    <a:pt x="5946" y="18658"/>
                    <a:pt x="5876" y="18658"/>
                  </a:cubicBezTo>
                  <a:cubicBezTo>
                    <a:pt x="5756" y="18658"/>
                    <a:pt x="5636" y="18682"/>
                    <a:pt x="5523" y="18729"/>
                  </a:cubicBezTo>
                  <a:lnTo>
                    <a:pt x="2957" y="19815"/>
                  </a:lnTo>
                  <a:lnTo>
                    <a:pt x="3365" y="18243"/>
                  </a:lnTo>
                  <a:cubicBezTo>
                    <a:pt x="3474" y="17827"/>
                    <a:pt x="3345" y="17380"/>
                    <a:pt x="3039" y="17108"/>
                  </a:cubicBezTo>
                  <a:cubicBezTo>
                    <a:pt x="1712" y="15926"/>
                    <a:pt x="982" y="14358"/>
                    <a:pt x="982" y="12690"/>
                  </a:cubicBezTo>
                  <a:cubicBezTo>
                    <a:pt x="982" y="9266"/>
                    <a:pt x="4065" y="6480"/>
                    <a:pt x="7855" y="6480"/>
                  </a:cubicBezTo>
                  <a:cubicBezTo>
                    <a:pt x="11644" y="6480"/>
                    <a:pt x="14727" y="9266"/>
                    <a:pt x="14727" y="12690"/>
                  </a:cubicBezTo>
                  <a:cubicBezTo>
                    <a:pt x="14727" y="16114"/>
                    <a:pt x="11644" y="18900"/>
                    <a:pt x="7855" y="18900"/>
                  </a:cubicBezTo>
                  <a:moveTo>
                    <a:pt x="7855" y="5400"/>
                  </a:moveTo>
                  <a:cubicBezTo>
                    <a:pt x="3517" y="5400"/>
                    <a:pt x="0" y="8664"/>
                    <a:pt x="0" y="12690"/>
                  </a:cubicBezTo>
                  <a:cubicBezTo>
                    <a:pt x="0" y="14758"/>
                    <a:pt x="932" y="16620"/>
                    <a:pt x="2422" y="17947"/>
                  </a:cubicBezTo>
                  <a:lnTo>
                    <a:pt x="1473" y="21600"/>
                  </a:lnTo>
                  <a:lnTo>
                    <a:pt x="5876" y="19738"/>
                  </a:lnTo>
                  <a:cubicBezTo>
                    <a:pt x="6509" y="19891"/>
                    <a:pt x="7169" y="19980"/>
                    <a:pt x="7855" y="19980"/>
                  </a:cubicBezTo>
                  <a:cubicBezTo>
                    <a:pt x="12192" y="19980"/>
                    <a:pt x="15709" y="16716"/>
                    <a:pt x="15709" y="12690"/>
                  </a:cubicBezTo>
                  <a:cubicBezTo>
                    <a:pt x="15709" y="8664"/>
                    <a:pt x="12192" y="5400"/>
                    <a:pt x="7855" y="5400"/>
                  </a:cubicBezTo>
                  <a:moveTo>
                    <a:pt x="21600" y="7290"/>
                  </a:moveTo>
                  <a:cubicBezTo>
                    <a:pt x="21600" y="3264"/>
                    <a:pt x="18084" y="0"/>
                    <a:pt x="13745" y="0"/>
                  </a:cubicBezTo>
                  <a:cubicBezTo>
                    <a:pt x="10506" y="0"/>
                    <a:pt x="7725" y="1821"/>
                    <a:pt x="6525" y="4422"/>
                  </a:cubicBezTo>
                  <a:cubicBezTo>
                    <a:pt x="6912" y="4367"/>
                    <a:pt x="7306" y="4332"/>
                    <a:pt x="7708" y="4326"/>
                  </a:cubicBezTo>
                  <a:cubicBezTo>
                    <a:pt x="8875" y="2394"/>
                    <a:pt x="11143" y="1080"/>
                    <a:pt x="13745" y="1080"/>
                  </a:cubicBezTo>
                  <a:cubicBezTo>
                    <a:pt x="17535" y="1080"/>
                    <a:pt x="20618" y="3866"/>
                    <a:pt x="20618" y="7290"/>
                  </a:cubicBezTo>
                  <a:cubicBezTo>
                    <a:pt x="20618" y="8958"/>
                    <a:pt x="19888" y="10526"/>
                    <a:pt x="18561" y="11707"/>
                  </a:cubicBezTo>
                  <a:cubicBezTo>
                    <a:pt x="18255" y="11980"/>
                    <a:pt x="18126" y="12428"/>
                    <a:pt x="18234" y="12843"/>
                  </a:cubicBezTo>
                  <a:lnTo>
                    <a:pt x="18643" y="14415"/>
                  </a:lnTo>
                  <a:lnTo>
                    <a:pt x="16613" y="13556"/>
                  </a:lnTo>
                  <a:cubicBezTo>
                    <a:pt x="16573" y="13922"/>
                    <a:pt x="16500" y="14278"/>
                    <a:pt x="16411" y="14628"/>
                  </a:cubicBezTo>
                  <a:lnTo>
                    <a:pt x="20127" y="16200"/>
                  </a:lnTo>
                  <a:lnTo>
                    <a:pt x="19178" y="12547"/>
                  </a:lnTo>
                  <a:cubicBezTo>
                    <a:pt x="20669" y="11220"/>
                    <a:pt x="21600" y="9358"/>
                    <a:pt x="21600" y="729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0" name="Group 111"/>
          <p:cNvGrpSpPr/>
          <p:nvPr/>
        </p:nvGrpSpPr>
        <p:grpSpPr>
          <a:xfrm>
            <a:off x="5108400" y="5133960"/>
            <a:ext cx="1640160" cy="628560"/>
            <a:chOff x="5108400" y="5133960"/>
            <a:chExt cx="1640160" cy="628560"/>
          </a:xfrm>
        </p:grpSpPr>
        <p:sp>
          <p:nvSpPr>
            <p:cNvPr id="891" name="Rectangle 112"/>
            <p:cNvSpPr/>
            <p:nvPr/>
          </p:nvSpPr>
          <p:spPr>
            <a:xfrm>
              <a:off x="5521680" y="5133960"/>
              <a:ext cx="12268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Shape 2543"/>
            <p:cNvSpPr/>
            <p:nvPr/>
          </p:nvSpPr>
          <p:spPr>
            <a:xfrm>
              <a:off x="5108400" y="526572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3" name="Group 114"/>
          <p:cNvGrpSpPr/>
          <p:nvPr/>
        </p:nvGrpSpPr>
        <p:grpSpPr>
          <a:xfrm>
            <a:off x="7032600" y="5133960"/>
            <a:ext cx="1703520" cy="628560"/>
            <a:chOff x="7032600" y="5133960"/>
            <a:chExt cx="1703520" cy="628560"/>
          </a:xfrm>
        </p:grpSpPr>
        <p:sp>
          <p:nvSpPr>
            <p:cNvPr id="894" name="Rectangle 115"/>
            <p:cNvSpPr/>
            <p:nvPr/>
          </p:nvSpPr>
          <p:spPr>
            <a:xfrm>
              <a:off x="7508880" y="5133960"/>
              <a:ext cx="12272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Shape 2588"/>
            <p:cNvSpPr/>
            <p:nvPr/>
          </p:nvSpPr>
          <p:spPr>
            <a:xfrm>
              <a:off x="7032600" y="5298120"/>
              <a:ext cx="279000" cy="25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82" y="12420"/>
                  </a:moveTo>
                  <a:cubicBezTo>
                    <a:pt x="16368" y="12420"/>
                    <a:pt x="15709" y="11694"/>
                    <a:pt x="15709" y="10800"/>
                  </a:cubicBezTo>
                  <a:cubicBezTo>
                    <a:pt x="15709" y="9906"/>
                    <a:pt x="16368" y="9180"/>
                    <a:pt x="17182" y="9180"/>
                  </a:cubicBezTo>
                  <a:cubicBezTo>
                    <a:pt x="17995" y="9180"/>
                    <a:pt x="18655" y="9906"/>
                    <a:pt x="18655" y="10800"/>
                  </a:cubicBezTo>
                  <a:cubicBezTo>
                    <a:pt x="18655" y="11694"/>
                    <a:pt x="17995" y="12420"/>
                    <a:pt x="17182" y="12420"/>
                  </a:cubicBezTo>
                  <a:moveTo>
                    <a:pt x="21109" y="10260"/>
                  </a:moveTo>
                  <a:lnTo>
                    <a:pt x="19587" y="10260"/>
                  </a:lnTo>
                  <a:cubicBezTo>
                    <a:pt x="19360" y="9028"/>
                    <a:pt x="18369" y="8100"/>
                    <a:pt x="17182" y="8100"/>
                  </a:cubicBezTo>
                  <a:cubicBezTo>
                    <a:pt x="15994" y="8100"/>
                    <a:pt x="15004" y="9028"/>
                    <a:pt x="14777" y="10260"/>
                  </a:cubicBezTo>
                  <a:lnTo>
                    <a:pt x="491" y="10260"/>
                  </a:lnTo>
                  <a:cubicBezTo>
                    <a:pt x="220" y="10260"/>
                    <a:pt x="0" y="10502"/>
                    <a:pt x="0" y="10800"/>
                  </a:cubicBezTo>
                  <a:cubicBezTo>
                    <a:pt x="0" y="11098"/>
                    <a:pt x="220" y="11340"/>
                    <a:pt x="491" y="11340"/>
                  </a:cubicBezTo>
                  <a:lnTo>
                    <a:pt x="14777" y="11340"/>
                  </a:lnTo>
                  <a:cubicBezTo>
                    <a:pt x="15004" y="12572"/>
                    <a:pt x="15994" y="13500"/>
                    <a:pt x="17182" y="13500"/>
                  </a:cubicBezTo>
                  <a:cubicBezTo>
                    <a:pt x="18369" y="13500"/>
                    <a:pt x="19360" y="12572"/>
                    <a:pt x="19587" y="11340"/>
                  </a:cubicBezTo>
                  <a:lnTo>
                    <a:pt x="21109" y="11340"/>
                  </a:lnTo>
                  <a:cubicBezTo>
                    <a:pt x="21380" y="11340"/>
                    <a:pt x="21600" y="11098"/>
                    <a:pt x="21600" y="10800"/>
                  </a:cubicBezTo>
                  <a:cubicBezTo>
                    <a:pt x="21600" y="10502"/>
                    <a:pt x="21380" y="10260"/>
                    <a:pt x="21109" y="10260"/>
                  </a:cubicBezTo>
                  <a:moveTo>
                    <a:pt x="5400" y="1080"/>
                  </a:moveTo>
                  <a:cubicBezTo>
                    <a:pt x="6214" y="1080"/>
                    <a:pt x="6873" y="1806"/>
                    <a:pt x="6873" y="2700"/>
                  </a:cubicBezTo>
                  <a:cubicBezTo>
                    <a:pt x="6873" y="3595"/>
                    <a:pt x="6214" y="4320"/>
                    <a:pt x="5400" y="4320"/>
                  </a:cubicBezTo>
                  <a:cubicBezTo>
                    <a:pt x="4586" y="4320"/>
                    <a:pt x="3927" y="3595"/>
                    <a:pt x="3927" y="2700"/>
                  </a:cubicBezTo>
                  <a:cubicBezTo>
                    <a:pt x="3927" y="1806"/>
                    <a:pt x="4586" y="1080"/>
                    <a:pt x="5400" y="1080"/>
                  </a:cubicBezTo>
                  <a:moveTo>
                    <a:pt x="491" y="3240"/>
                  </a:moveTo>
                  <a:lnTo>
                    <a:pt x="2995" y="3240"/>
                  </a:lnTo>
                  <a:cubicBezTo>
                    <a:pt x="3222" y="4472"/>
                    <a:pt x="4213" y="5400"/>
                    <a:pt x="5400" y="5400"/>
                  </a:cubicBezTo>
                  <a:cubicBezTo>
                    <a:pt x="6587" y="5400"/>
                    <a:pt x="7578" y="4472"/>
                    <a:pt x="7805" y="3240"/>
                  </a:cubicBezTo>
                  <a:lnTo>
                    <a:pt x="21109" y="3240"/>
                  </a:lnTo>
                  <a:cubicBezTo>
                    <a:pt x="21380" y="3240"/>
                    <a:pt x="21600" y="2999"/>
                    <a:pt x="21600" y="2700"/>
                  </a:cubicBezTo>
                  <a:cubicBezTo>
                    <a:pt x="21600" y="2402"/>
                    <a:pt x="21380" y="2160"/>
                    <a:pt x="21109" y="2160"/>
                  </a:cubicBezTo>
                  <a:lnTo>
                    <a:pt x="7805" y="2160"/>
                  </a:lnTo>
                  <a:cubicBezTo>
                    <a:pt x="7578" y="928"/>
                    <a:pt x="6587" y="0"/>
                    <a:pt x="5400" y="0"/>
                  </a:cubicBezTo>
                  <a:cubicBezTo>
                    <a:pt x="4213" y="0"/>
                    <a:pt x="3222" y="928"/>
                    <a:pt x="2995" y="2160"/>
                  </a:cubicBezTo>
                  <a:lnTo>
                    <a:pt x="491" y="2160"/>
                  </a:lnTo>
                  <a:cubicBezTo>
                    <a:pt x="220" y="2160"/>
                    <a:pt x="0" y="2402"/>
                    <a:pt x="0" y="2700"/>
                  </a:cubicBezTo>
                  <a:cubicBezTo>
                    <a:pt x="0" y="2999"/>
                    <a:pt x="220" y="3240"/>
                    <a:pt x="491" y="3240"/>
                  </a:cubicBezTo>
                  <a:moveTo>
                    <a:pt x="9327" y="20519"/>
                  </a:moveTo>
                  <a:cubicBezTo>
                    <a:pt x="8514" y="20519"/>
                    <a:pt x="7855" y="19794"/>
                    <a:pt x="7855" y="18899"/>
                  </a:cubicBezTo>
                  <a:cubicBezTo>
                    <a:pt x="7855" y="18005"/>
                    <a:pt x="8514" y="17279"/>
                    <a:pt x="9327" y="17279"/>
                  </a:cubicBezTo>
                  <a:cubicBezTo>
                    <a:pt x="10141" y="17279"/>
                    <a:pt x="10800" y="18005"/>
                    <a:pt x="10800" y="18899"/>
                  </a:cubicBezTo>
                  <a:cubicBezTo>
                    <a:pt x="10800" y="19794"/>
                    <a:pt x="10141" y="20519"/>
                    <a:pt x="9327" y="20519"/>
                  </a:cubicBezTo>
                  <a:moveTo>
                    <a:pt x="21109" y="18359"/>
                  </a:moveTo>
                  <a:lnTo>
                    <a:pt x="11732" y="18359"/>
                  </a:lnTo>
                  <a:cubicBezTo>
                    <a:pt x="11505" y="17127"/>
                    <a:pt x="10515" y="16199"/>
                    <a:pt x="9327" y="16199"/>
                  </a:cubicBezTo>
                  <a:cubicBezTo>
                    <a:pt x="8140" y="16199"/>
                    <a:pt x="7150" y="17127"/>
                    <a:pt x="6922" y="18359"/>
                  </a:cubicBezTo>
                  <a:lnTo>
                    <a:pt x="491" y="18359"/>
                  </a:lnTo>
                  <a:cubicBezTo>
                    <a:pt x="220" y="18359"/>
                    <a:pt x="0" y="18601"/>
                    <a:pt x="0" y="18899"/>
                  </a:cubicBezTo>
                  <a:cubicBezTo>
                    <a:pt x="0" y="19198"/>
                    <a:pt x="220" y="19439"/>
                    <a:pt x="491" y="19439"/>
                  </a:cubicBezTo>
                  <a:lnTo>
                    <a:pt x="6922" y="19439"/>
                  </a:lnTo>
                  <a:cubicBezTo>
                    <a:pt x="7150" y="20672"/>
                    <a:pt x="8140" y="21600"/>
                    <a:pt x="9327" y="21600"/>
                  </a:cubicBezTo>
                  <a:cubicBezTo>
                    <a:pt x="10515" y="21600"/>
                    <a:pt x="11505" y="20672"/>
                    <a:pt x="11732" y="19439"/>
                  </a:cubicBezTo>
                  <a:lnTo>
                    <a:pt x="21109" y="19439"/>
                  </a:lnTo>
                  <a:cubicBezTo>
                    <a:pt x="21380" y="19439"/>
                    <a:pt x="21600" y="19198"/>
                    <a:pt x="21600" y="18899"/>
                  </a:cubicBezTo>
                  <a:cubicBezTo>
                    <a:pt x="21600" y="18601"/>
                    <a:pt x="21380" y="18359"/>
                    <a:pt x="21109" y="18359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6" name="Group 117"/>
          <p:cNvGrpSpPr/>
          <p:nvPr/>
        </p:nvGrpSpPr>
        <p:grpSpPr>
          <a:xfrm>
            <a:off x="8962920" y="5133960"/>
            <a:ext cx="1757520" cy="628560"/>
            <a:chOff x="8962920" y="5133960"/>
            <a:chExt cx="1757520" cy="628560"/>
          </a:xfrm>
        </p:grpSpPr>
        <p:sp>
          <p:nvSpPr>
            <p:cNvPr id="897" name="Rectangle 118"/>
            <p:cNvSpPr/>
            <p:nvPr/>
          </p:nvSpPr>
          <p:spPr>
            <a:xfrm>
              <a:off x="9491760" y="5133960"/>
              <a:ext cx="1228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Shape 2604"/>
            <p:cNvSpPr/>
            <p:nvPr/>
          </p:nvSpPr>
          <p:spPr>
            <a:xfrm>
              <a:off x="8962920" y="5291280"/>
              <a:ext cx="279360" cy="228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0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500"/>
                            </p:stCondLst>
                            <p:childTnLst>
                              <p:par>
                                <p:cTn id="4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59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Brain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15a25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2" name="Group 62"/>
          <p:cNvGrpSpPr/>
          <p:nvPr/>
        </p:nvGrpSpPr>
        <p:grpSpPr>
          <a:xfrm>
            <a:off x="2011320" y="1954080"/>
            <a:ext cx="1620720" cy="2603520"/>
            <a:chOff x="2011320" y="1954080"/>
            <a:chExt cx="1620720" cy="2603520"/>
          </a:xfrm>
        </p:grpSpPr>
        <p:sp>
          <p:nvSpPr>
            <p:cNvPr id="903" name="Shape 2437"/>
            <p:cNvSpPr/>
            <p:nvPr/>
          </p:nvSpPr>
          <p:spPr>
            <a:xfrm>
              <a:off x="2285280" y="1954080"/>
              <a:ext cx="869760" cy="923400"/>
            </a:xfrm>
            <a:custGeom>
              <a:avLst/>
              <a:gdLst/>
              <a:ahLst/>
              <a:rect l="l" t="t" r="r" b="b"/>
              <a:pathLst>
                <a:path w="21443" h="20601">
                  <a:moveTo>
                    <a:pt x="21209" y="13590"/>
                  </a:moveTo>
                  <a:cubicBezTo>
                    <a:pt x="20817" y="14511"/>
                    <a:pt x="19800" y="14935"/>
                    <a:pt x="18783" y="14581"/>
                  </a:cubicBezTo>
                  <a:cubicBezTo>
                    <a:pt x="18235" y="14440"/>
                    <a:pt x="17922" y="14015"/>
                    <a:pt x="17687" y="13590"/>
                  </a:cubicBezTo>
                  <a:cubicBezTo>
                    <a:pt x="17609" y="13307"/>
                    <a:pt x="17296" y="13094"/>
                    <a:pt x="16983" y="12952"/>
                  </a:cubicBezTo>
                  <a:cubicBezTo>
                    <a:pt x="16670" y="12882"/>
                    <a:pt x="16357" y="13023"/>
                    <a:pt x="16200" y="13307"/>
                  </a:cubicBezTo>
                  <a:cubicBezTo>
                    <a:pt x="13148" y="20601"/>
                    <a:pt x="13148" y="20601"/>
                    <a:pt x="13148" y="20601"/>
                  </a:cubicBezTo>
                  <a:cubicBezTo>
                    <a:pt x="7826" y="14794"/>
                    <a:pt x="7826" y="14794"/>
                    <a:pt x="7826" y="14794"/>
                  </a:cubicBezTo>
                  <a:cubicBezTo>
                    <a:pt x="7904" y="14794"/>
                    <a:pt x="7904" y="14794"/>
                    <a:pt x="7904" y="14794"/>
                  </a:cubicBezTo>
                  <a:cubicBezTo>
                    <a:pt x="8687" y="14865"/>
                    <a:pt x="9470" y="14723"/>
                    <a:pt x="10096" y="14227"/>
                  </a:cubicBezTo>
                  <a:cubicBezTo>
                    <a:pt x="11270" y="13377"/>
                    <a:pt x="11426" y="11819"/>
                    <a:pt x="10487" y="10828"/>
                  </a:cubicBezTo>
                  <a:cubicBezTo>
                    <a:pt x="9548" y="9766"/>
                    <a:pt x="7826" y="9624"/>
                    <a:pt x="6652" y="10474"/>
                  </a:cubicBezTo>
                  <a:cubicBezTo>
                    <a:pt x="6026" y="10899"/>
                    <a:pt x="5713" y="11536"/>
                    <a:pt x="5713" y="12244"/>
                  </a:cubicBezTo>
                  <a:cubicBezTo>
                    <a:pt x="5635" y="12315"/>
                    <a:pt x="5635" y="12315"/>
                    <a:pt x="5635" y="12315"/>
                  </a:cubicBezTo>
                  <a:cubicBezTo>
                    <a:pt x="0" y="6083"/>
                    <a:pt x="0" y="6083"/>
                    <a:pt x="0" y="6083"/>
                  </a:cubicBezTo>
                  <a:cubicBezTo>
                    <a:pt x="1252" y="4525"/>
                    <a:pt x="2739" y="3321"/>
                    <a:pt x="3835" y="2542"/>
                  </a:cubicBezTo>
                  <a:cubicBezTo>
                    <a:pt x="6574" y="701"/>
                    <a:pt x="14557" y="-999"/>
                    <a:pt x="21443" y="701"/>
                  </a:cubicBezTo>
                  <a:cubicBezTo>
                    <a:pt x="17217" y="10828"/>
                    <a:pt x="17217" y="10828"/>
                    <a:pt x="17217" y="10828"/>
                  </a:cubicBezTo>
                  <a:cubicBezTo>
                    <a:pt x="17217" y="10828"/>
                    <a:pt x="17217" y="10828"/>
                    <a:pt x="17217" y="10828"/>
                  </a:cubicBezTo>
                  <a:cubicBezTo>
                    <a:pt x="17139" y="11111"/>
                    <a:pt x="17296" y="11465"/>
                    <a:pt x="17609" y="11536"/>
                  </a:cubicBezTo>
                  <a:cubicBezTo>
                    <a:pt x="17922" y="11678"/>
                    <a:pt x="18313" y="11678"/>
                    <a:pt x="18548" y="11536"/>
                  </a:cubicBezTo>
                  <a:cubicBezTo>
                    <a:pt x="19017" y="11253"/>
                    <a:pt x="19565" y="11253"/>
                    <a:pt x="20113" y="11394"/>
                  </a:cubicBezTo>
                  <a:cubicBezTo>
                    <a:pt x="21052" y="11749"/>
                    <a:pt x="21600" y="12740"/>
                    <a:pt x="21209" y="13590"/>
                  </a:cubicBezTo>
                  <a:close/>
                </a:path>
              </a:pathLst>
            </a:custGeom>
            <a:solidFill>
              <a:srgbClr val="f15a2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Shape 2438"/>
            <p:cNvSpPr/>
            <p:nvPr/>
          </p:nvSpPr>
          <p:spPr>
            <a:xfrm>
              <a:off x="2850480" y="1994760"/>
              <a:ext cx="781560" cy="1023120"/>
            </a:xfrm>
            <a:custGeom>
              <a:avLst/>
              <a:gdLst/>
              <a:ahLst/>
              <a:rect l="l" t="t" r="r" b="b"/>
              <a:pathLst>
                <a:path w="21441" h="21485">
                  <a:moveTo>
                    <a:pt x="21426" y="13667"/>
                  </a:moveTo>
                  <a:cubicBezTo>
                    <a:pt x="21339" y="14533"/>
                    <a:pt x="21252" y="15400"/>
                    <a:pt x="20990" y="16133"/>
                  </a:cubicBezTo>
                  <a:cubicBezTo>
                    <a:pt x="12716" y="17200"/>
                    <a:pt x="12716" y="17200"/>
                    <a:pt x="12716" y="17200"/>
                  </a:cubicBezTo>
                  <a:cubicBezTo>
                    <a:pt x="12281" y="17267"/>
                    <a:pt x="12106" y="17533"/>
                    <a:pt x="12106" y="17800"/>
                  </a:cubicBezTo>
                  <a:cubicBezTo>
                    <a:pt x="12194" y="18133"/>
                    <a:pt x="12368" y="18333"/>
                    <a:pt x="12716" y="18533"/>
                  </a:cubicBezTo>
                  <a:cubicBezTo>
                    <a:pt x="13239" y="18733"/>
                    <a:pt x="13587" y="19133"/>
                    <a:pt x="13674" y="19600"/>
                  </a:cubicBezTo>
                  <a:cubicBezTo>
                    <a:pt x="13848" y="20467"/>
                    <a:pt x="13065" y="21267"/>
                    <a:pt x="11932" y="21467"/>
                  </a:cubicBezTo>
                  <a:cubicBezTo>
                    <a:pt x="10800" y="21600"/>
                    <a:pt x="9755" y="21000"/>
                    <a:pt x="9581" y="20133"/>
                  </a:cubicBezTo>
                  <a:cubicBezTo>
                    <a:pt x="9494" y="19667"/>
                    <a:pt x="9668" y="19200"/>
                    <a:pt x="10016" y="18867"/>
                  </a:cubicBezTo>
                  <a:cubicBezTo>
                    <a:pt x="10277" y="18600"/>
                    <a:pt x="10365" y="18333"/>
                    <a:pt x="10277" y="18067"/>
                  </a:cubicBezTo>
                  <a:cubicBezTo>
                    <a:pt x="10277" y="17733"/>
                    <a:pt x="9929" y="17600"/>
                    <a:pt x="9494" y="17600"/>
                  </a:cubicBezTo>
                  <a:cubicBezTo>
                    <a:pt x="9494" y="17600"/>
                    <a:pt x="9494" y="17600"/>
                    <a:pt x="9494" y="17600"/>
                  </a:cubicBezTo>
                  <a:cubicBezTo>
                    <a:pt x="0" y="18800"/>
                    <a:pt x="0" y="18800"/>
                    <a:pt x="0" y="18800"/>
                  </a:cubicBezTo>
                  <a:cubicBezTo>
                    <a:pt x="3310" y="12133"/>
                    <a:pt x="3310" y="12133"/>
                    <a:pt x="3310" y="12133"/>
                  </a:cubicBezTo>
                  <a:cubicBezTo>
                    <a:pt x="3310" y="12133"/>
                    <a:pt x="3310" y="12200"/>
                    <a:pt x="3310" y="12200"/>
                  </a:cubicBezTo>
                  <a:cubicBezTo>
                    <a:pt x="3658" y="12800"/>
                    <a:pt x="4268" y="13267"/>
                    <a:pt x="5052" y="13533"/>
                  </a:cubicBezTo>
                  <a:cubicBezTo>
                    <a:pt x="6619" y="14000"/>
                    <a:pt x="8361" y="13400"/>
                    <a:pt x="8971" y="12200"/>
                  </a:cubicBezTo>
                  <a:cubicBezTo>
                    <a:pt x="9581" y="11000"/>
                    <a:pt x="8797" y="9667"/>
                    <a:pt x="7229" y="9200"/>
                  </a:cubicBezTo>
                  <a:cubicBezTo>
                    <a:pt x="6445" y="9000"/>
                    <a:pt x="5487" y="9067"/>
                    <a:pt x="4703" y="9333"/>
                  </a:cubicBezTo>
                  <a:cubicBezTo>
                    <a:pt x="4703" y="9333"/>
                    <a:pt x="4703" y="9333"/>
                    <a:pt x="4703" y="9400"/>
                  </a:cubicBezTo>
                  <a:cubicBezTo>
                    <a:pt x="9319" y="0"/>
                    <a:pt x="9319" y="0"/>
                    <a:pt x="9319" y="0"/>
                  </a:cubicBezTo>
                  <a:cubicBezTo>
                    <a:pt x="10277" y="267"/>
                    <a:pt x="11235" y="533"/>
                    <a:pt x="12106" y="933"/>
                  </a:cubicBezTo>
                  <a:cubicBezTo>
                    <a:pt x="20381" y="4200"/>
                    <a:pt x="21600" y="8733"/>
                    <a:pt x="21426" y="13667"/>
                  </a:cubicBezTo>
                  <a:close/>
                </a:path>
              </a:pathLst>
            </a:custGeom>
            <a:solidFill>
              <a:srgbClr val="f15a25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Shape 2439"/>
            <p:cNvSpPr/>
            <p:nvPr/>
          </p:nvSpPr>
          <p:spPr>
            <a:xfrm>
              <a:off x="2034720" y="2255040"/>
              <a:ext cx="758520" cy="76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110" y="19636"/>
                  </a:moveTo>
                  <a:cubicBezTo>
                    <a:pt x="12653" y="18922"/>
                    <a:pt x="12924" y="18030"/>
                    <a:pt x="12743" y="17137"/>
                  </a:cubicBezTo>
                  <a:cubicBezTo>
                    <a:pt x="12472" y="15441"/>
                    <a:pt x="10845" y="14281"/>
                    <a:pt x="9218" y="14638"/>
                  </a:cubicBezTo>
                  <a:cubicBezTo>
                    <a:pt x="7501" y="14906"/>
                    <a:pt x="6326" y="16423"/>
                    <a:pt x="6597" y="18119"/>
                  </a:cubicBezTo>
                  <a:cubicBezTo>
                    <a:pt x="6778" y="19012"/>
                    <a:pt x="7321" y="19815"/>
                    <a:pt x="8044" y="20261"/>
                  </a:cubicBezTo>
                  <a:cubicBezTo>
                    <a:pt x="8044" y="20261"/>
                    <a:pt x="8134" y="20261"/>
                    <a:pt x="8134" y="20261"/>
                  </a:cubicBezTo>
                  <a:cubicBezTo>
                    <a:pt x="0" y="21600"/>
                    <a:pt x="0" y="21600"/>
                    <a:pt x="0" y="21600"/>
                  </a:cubicBezTo>
                  <a:cubicBezTo>
                    <a:pt x="181" y="21154"/>
                    <a:pt x="542" y="20618"/>
                    <a:pt x="904" y="20083"/>
                  </a:cubicBezTo>
                  <a:cubicBezTo>
                    <a:pt x="1175" y="19547"/>
                    <a:pt x="3254" y="16512"/>
                    <a:pt x="4248" y="14995"/>
                  </a:cubicBezTo>
                  <a:cubicBezTo>
                    <a:pt x="4609" y="14460"/>
                    <a:pt x="4700" y="13835"/>
                    <a:pt x="4519" y="13299"/>
                  </a:cubicBezTo>
                  <a:cubicBezTo>
                    <a:pt x="2802" y="7944"/>
                    <a:pt x="4338" y="3392"/>
                    <a:pt x="6597" y="0"/>
                  </a:cubicBezTo>
                  <a:cubicBezTo>
                    <a:pt x="13105" y="7944"/>
                    <a:pt x="13105" y="7944"/>
                    <a:pt x="13105" y="7944"/>
                  </a:cubicBezTo>
                  <a:cubicBezTo>
                    <a:pt x="13376" y="8212"/>
                    <a:pt x="13828" y="8301"/>
                    <a:pt x="14189" y="8033"/>
                  </a:cubicBezTo>
                  <a:cubicBezTo>
                    <a:pt x="14460" y="7765"/>
                    <a:pt x="14641" y="7408"/>
                    <a:pt x="14641" y="7051"/>
                  </a:cubicBezTo>
                  <a:cubicBezTo>
                    <a:pt x="14641" y="6426"/>
                    <a:pt x="14912" y="5891"/>
                    <a:pt x="15454" y="5445"/>
                  </a:cubicBezTo>
                  <a:cubicBezTo>
                    <a:pt x="16358" y="4731"/>
                    <a:pt x="17714" y="4820"/>
                    <a:pt x="18527" y="5712"/>
                  </a:cubicBezTo>
                  <a:cubicBezTo>
                    <a:pt x="19250" y="6694"/>
                    <a:pt x="19069" y="8033"/>
                    <a:pt x="18166" y="8747"/>
                  </a:cubicBezTo>
                  <a:cubicBezTo>
                    <a:pt x="17714" y="9193"/>
                    <a:pt x="17081" y="9283"/>
                    <a:pt x="16449" y="9193"/>
                  </a:cubicBezTo>
                  <a:cubicBezTo>
                    <a:pt x="16087" y="9104"/>
                    <a:pt x="15635" y="9283"/>
                    <a:pt x="15364" y="9461"/>
                  </a:cubicBezTo>
                  <a:cubicBezTo>
                    <a:pt x="15093" y="9729"/>
                    <a:pt x="15003" y="10175"/>
                    <a:pt x="15274" y="10443"/>
                  </a:cubicBezTo>
                  <a:cubicBezTo>
                    <a:pt x="21600" y="18119"/>
                    <a:pt x="21600" y="18119"/>
                    <a:pt x="21600" y="18119"/>
                  </a:cubicBezTo>
                  <a:cubicBezTo>
                    <a:pt x="12020" y="19636"/>
                    <a:pt x="12020" y="19636"/>
                    <a:pt x="12020" y="19636"/>
                  </a:cubicBezTo>
                  <a:cubicBezTo>
                    <a:pt x="12110" y="19636"/>
                    <a:pt x="12110" y="19636"/>
                    <a:pt x="12110" y="19636"/>
                  </a:cubicBezTo>
                  <a:close/>
                </a:path>
              </a:pathLst>
            </a:custGeom>
            <a:solidFill>
              <a:srgbClr val="f15a2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Shape 2440"/>
            <p:cNvSpPr/>
            <p:nvPr/>
          </p:nvSpPr>
          <p:spPr>
            <a:xfrm>
              <a:off x="2011320" y="2806560"/>
              <a:ext cx="788400" cy="852480"/>
            </a:xfrm>
            <a:custGeom>
              <a:avLst/>
              <a:gdLst/>
              <a:ahLst/>
              <a:rect l="l" t="t" r="r" b="b"/>
              <a:pathLst>
                <a:path w="21374" h="21094">
                  <a:moveTo>
                    <a:pt x="21374" y="3085"/>
                  </a:moveTo>
                  <a:cubicBezTo>
                    <a:pt x="18104" y="10940"/>
                    <a:pt x="18104" y="10940"/>
                    <a:pt x="18104" y="10940"/>
                  </a:cubicBezTo>
                  <a:cubicBezTo>
                    <a:pt x="18104" y="10940"/>
                    <a:pt x="18104" y="10940"/>
                    <a:pt x="18018" y="10940"/>
                  </a:cubicBezTo>
                  <a:cubicBezTo>
                    <a:pt x="17760" y="10154"/>
                    <a:pt x="17157" y="9605"/>
                    <a:pt x="16297" y="9290"/>
                  </a:cubicBezTo>
                  <a:cubicBezTo>
                    <a:pt x="14834" y="8819"/>
                    <a:pt x="13113" y="9526"/>
                    <a:pt x="12510" y="10940"/>
                  </a:cubicBezTo>
                  <a:cubicBezTo>
                    <a:pt x="11908" y="12275"/>
                    <a:pt x="12682" y="13846"/>
                    <a:pt x="14231" y="14396"/>
                  </a:cubicBezTo>
                  <a:cubicBezTo>
                    <a:pt x="15006" y="14710"/>
                    <a:pt x="15952" y="14632"/>
                    <a:pt x="16641" y="14239"/>
                  </a:cubicBezTo>
                  <a:cubicBezTo>
                    <a:pt x="16727" y="14239"/>
                    <a:pt x="16727" y="14239"/>
                    <a:pt x="16727" y="14239"/>
                  </a:cubicBezTo>
                  <a:cubicBezTo>
                    <a:pt x="14231" y="20365"/>
                    <a:pt x="14231" y="20365"/>
                    <a:pt x="14231" y="20365"/>
                  </a:cubicBezTo>
                  <a:cubicBezTo>
                    <a:pt x="9412" y="21465"/>
                    <a:pt x="6745" y="20994"/>
                    <a:pt x="6745" y="20994"/>
                  </a:cubicBezTo>
                  <a:cubicBezTo>
                    <a:pt x="5023" y="20837"/>
                    <a:pt x="3991" y="19030"/>
                    <a:pt x="4163" y="17852"/>
                  </a:cubicBezTo>
                  <a:cubicBezTo>
                    <a:pt x="4421" y="16595"/>
                    <a:pt x="4507" y="16045"/>
                    <a:pt x="3733" y="15496"/>
                  </a:cubicBezTo>
                  <a:cubicBezTo>
                    <a:pt x="3044" y="15024"/>
                    <a:pt x="3044" y="14396"/>
                    <a:pt x="3388" y="14160"/>
                  </a:cubicBezTo>
                  <a:cubicBezTo>
                    <a:pt x="3733" y="13925"/>
                    <a:pt x="4937" y="13453"/>
                    <a:pt x="4937" y="13453"/>
                  </a:cubicBezTo>
                  <a:cubicBezTo>
                    <a:pt x="4937" y="13453"/>
                    <a:pt x="4077" y="12904"/>
                    <a:pt x="3560" y="12746"/>
                  </a:cubicBezTo>
                  <a:cubicBezTo>
                    <a:pt x="3044" y="12511"/>
                    <a:pt x="2786" y="11725"/>
                    <a:pt x="3044" y="11254"/>
                  </a:cubicBezTo>
                  <a:cubicBezTo>
                    <a:pt x="3302" y="10783"/>
                    <a:pt x="3388" y="9605"/>
                    <a:pt x="3388" y="9605"/>
                  </a:cubicBezTo>
                  <a:cubicBezTo>
                    <a:pt x="3388" y="9605"/>
                    <a:pt x="2184" y="9055"/>
                    <a:pt x="893" y="8426"/>
                  </a:cubicBezTo>
                  <a:cubicBezTo>
                    <a:pt x="32" y="8034"/>
                    <a:pt x="-226" y="7405"/>
                    <a:pt x="204" y="6306"/>
                  </a:cubicBezTo>
                  <a:cubicBezTo>
                    <a:pt x="8810" y="4970"/>
                    <a:pt x="8810" y="4970"/>
                    <a:pt x="8810" y="4970"/>
                  </a:cubicBezTo>
                  <a:cubicBezTo>
                    <a:pt x="9154" y="4970"/>
                    <a:pt x="9412" y="4656"/>
                    <a:pt x="9412" y="4264"/>
                  </a:cubicBezTo>
                  <a:cubicBezTo>
                    <a:pt x="9326" y="3949"/>
                    <a:pt x="9068" y="3635"/>
                    <a:pt x="8810" y="3478"/>
                  </a:cubicBezTo>
                  <a:cubicBezTo>
                    <a:pt x="8294" y="3164"/>
                    <a:pt x="7949" y="2771"/>
                    <a:pt x="7863" y="2143"/>
                  </a:cubicBezTo>
                  <a:cubicBezTo>
                    <a:pt x="7605" y="1122"/>
                    <a:pt x="8380" y="179"/>
                    <a:pt x="9498" y="22"/>
                  </a:cubicBezTo>
                  <a:cubicBezTo>
                    <a:pt x="10617" y="-135"/>
                    <a:pt x="11736" y="572"/>
                    <a:pt x="11908" y="1593"/>
                  </a:cubicBezTo>
                  <a:cubicBezTo>
                    <a:pt x="11994" y="2143"/>
                    <a:pt x="11822" y="2693"/>
                    <a:pt x="11478" y="3085"/>
                  </a:cubicBezTo>
                  <a:cubicBezTo>
                    <a:pt x="11219" y="3321"/>
                    <a:pt x="11133" y="3714"/>
                    <a:pt x="11133" y="4028"/>
                  </a:cubicBezTo>
                  <a:cubicBezTo>
                    <a:pt x="11219" y="4342"/>
                    <a:pt x="11564" y="4578"/>
                    <a:pt x="11994" y="4499"/>
                  </a:cubicBezTo>
                  <a:lnTo>
                    <a:pt x="21374" y="3085"/>
                  </a:lnTo>
                  <a:close/>
                </a:path>
              </a:pathLst>
            </a:custGeom>
            <a:solidFill>
              <a:srgbClr val="f15a25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Shape 2441"/>
            <p:cNvSpPr/>
            <p:nvPr/>
          </p:nvSpPr>
          <p:spPr>
            <a:xfrm>
              <a:off x="2498760" y="2944080"/>
              <a:ext cx="888120" cy="1000080"/>
            </a:xfrm>
            <a:custGeom>
              <a:avLst/>
              <a:gdLst/>
              <a:ahLst/>
              <a:rect l="l" t="t" r="r" b="b"/>
              <a:pathLst>
                <a:path w="21352" h="21600">
                  <a:moveTo>
                    <a:pt x="21352" y="14743"/>
                  </a:moveTo>
                  <a:cubicBezTo>
                    <a:pt x="21352" y="17006"/>
                    <a:pt x="21352" y="19680"/>
                    <a:pt x="21352" y="19680"/>
                  </a:cubicBezTo>
                  <a:cubicBezTo>
                    <a:pt x="21352" y="19680"/>
                    <a:pt x="18375" y="21600"/>
                    <a:pt x="11201" y="21600"/>
                  </a:cubicBezTo>
                  <a:cubicBezTo>
                    <a:pt x="4026" y="21600"/>
                    <a:pt x="1050" y="19680"/>
                    <a:pt x="1050" y="19680"/>
                  </a:cubicBezTo>
                  <a:cubicBezTo>
                    <a:pt x="1050" y="16526"/>
                    <a:pt x="1050" y="16526"/>
                    <a:pt x="1050" y="16526"/>
                  </a:cubicBezTo>
                  <a:cubicBezTo>
                    <a:pt x="3950" y="9463"/>
                    <a:pt x="3950" y="9463"/>
                    <a:pt x="3950" y="9463"/>
                  </a:cubicBezTo>
                  <a:cubicBezTo>
                    <a:pt x="4103" y="9189"/>
                    <a:pt x="3950" y="8914"/>
                    <a:pt x="3645" y="8777"/>
                  </a:cubicBezTo>
                  <a:cubicBezTo>
                    <a:pt x="3339" y="8709"/>
                    <a:pt x="2958" y="8709"/>
                    <a:pt x="2652" y="8846"/>
                  </a:cubicBezTo>
                  <a:cubicBezTo>
                    <a:pt x="2271" y="9051"/>
                    <a:pt x="1660" y="9120"/>
                    <a:pt x="1202" y="8914"/>
                  </a:cubicBezTo>
                  <a:cubicBezTo>
                    <a:pt x="210" y="8640"/>
                    <a:pt x="-248" y="7680"/>
                    <a:pt x="134" y="6789"/>
                  </a:cubicBezTo>
                  <a:cubicBezTo>
                    <a:pt x="439" y="5966"/>
                    <a:pt x="1507" y="5554"/>
                    <a:pt x="2500" y="5829"/>
                  </a:cubicBezTo>
                  <a:cubicBezTo>
                    <a:pt x="2958" y="6034"/>
                    <a:pt x="3339" y="6377"/>
                    <a:pt x="3568" y="6789"/>
                  </a:cubicBezTo>
                  <a:cubicBezTo>
                    <a:pt x="3645" y="7063"/>
                    <a:pt x="3874" y="7337"/>
                    <a:pt x="4179" y="7406"/>
                  </a:cubicBezTo>
                  <a:cubicBezTo>
                    <a:pt x="4484" y="7543"/>
                    <a:pt x="4866" y="7406"/>
                    <a:pt x="5018" y="7131"/>
                  </a:cubicBezTo>
                  <a:cubicBezTo>
                    <a:pt x="7995" y="0"/>
                    <a:pt x="7995" y="0"/>
                    <a:pt x="7995" y="0"/>
                  </a:cubicBezTo>
                  <a:cubicBezTo>
                    <a:pt x="13109" y="5691"/>
                    <a:pt x="13109" y="5691"/>
                    <a:pt x="13109" y="5691"/>
                  </a:cubicBezTo>
                  <a:cubicBezTo>
                    <a:pt x="13109" y="5691"/>
                    <a:pt x="13109" y="5691"/>
                    <a:pt x="13033" y="5691"/>
                  </a:cubicBezTo>
                  <a:cubicBezTo>
                    <a:pt x="12346" y="5554"/>
                    <a:pt x="11582" y="5760"/>
                    <a:pt x="10972" y="6171"/>
                  </a:cubicBezTo>
                  <a:cubicBezTo>
                    <a:pt x="9827" y="6994"/>
                    <a:pt x="9674" y="8503"/>
                    <a:pt x="10590" y="9531"/>
                  </a:cubicBezTo>
                  <a:cubicBezTo>
                    <a:pt x="11506" y="10560"/>
                    <a:pt x="13185" y="10697"/>
                    <a:pt x="14330" y="9874"/>
                  </a:cubicBezTo>
                  <a:cubicBezTo>
                    <a:pt x="14864" y="9394"/>
                    <a:pt x="15246" y="8777"/>
                    <a:pt x="15246" y="8091"/>
                  </a:cubicBezTo>
                  <a:cubicBezTo>
                    <a:pt x="15246" y="8091"/>
                    <a:pt x="15246" y="8023"/>
                    <a:pt x="15246" y="8023"/>
                  </a:cubicBezTo>
                  <a:lnTo>
                    <a:pt x="21352" y="14743"/>
                  </a:lnTo>
                  <a:close/>
                </a:path>
              </a:pathLst>
            </a:custGeom>
            <a:solidFill>
              <a:srgbClr val="f15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Shape 2442"/>
            <p:cNvSpPr/>
            <p:nvPr/>
          </p:nvSpPr>
          <p:spPr>
            <a:xfrm>
              <a:off x="2856960" y="2801160"/>
              <a:ext cx="752400" cy="771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506" y="4089"/>
                    <a:pt x="18501" y="6844"/>
                    <a:pt x="17316" y="8978"/>
                  </a:cubicBezTo>
                  <a:cubicBezTo>
                    <a:pt x="15767" y="11822"/>
                    <a:pt x="15220" y="17333"/>
                    <a:pt x="15220" y="19822"/>
                  </a:cubicBezTo>
                  <a:cubicBezTo>
                    <a:pt x="15220" y="21600"/>
                    <a:pt x="15220" y="21600"/>
                    <a:pt x="15220" y="21600"/>
                  </a:cubicBezTo>
                  <a:cubicBezTo>
                    <a:pt x="8476" y="13600"/>
                    <a:pt x="8476" y="13600"/>
                    <a:pt x="8476" y="13600"/>
                  </a:cubicBezTo>
                  <a:cubicBezTo>
                    <a:pt x="8294" y="13244"/>
                    <a:pt x="7838" y="13244"/>
                    <a:pt x="7473" y="13511"/>
                  </a:cubicBezTo>
                  <a:cubicBezTo>
                    <a:pt x="7200" y="13689"/>
                    <a:pt x="7018" y="14044"/>
                    <a:pt x="7018" y="14489"/>
                  </a:cubicBezTo>
                  <a:cubicBezTo>
                    <a:pt x="6927" y="15022"/>
                    <a:pt x="6744" y="15644"/>
                    <a:pt x="6197" y="16089"/>
                  </a:cubicBezTo>
                  <a:cubicBezTo>
                    <a:pt x="5286" y="16800"/>
                    <a:pt x="3919" y="16622"/>
                    <a:pt x="3099" y="15733"/>
                  </a:cubicBezTo>
                  <a:cubicBezTo>
                    <a:pt x="2370" y="14844"/>
                    <a:pt x="2461" y="13511"/>
                    <a:pt x="3463" y="12711"/>
                  </a:cubicBezTo>
                  <a:cubicBezTo>
                    <a:pt x="3919" y="12356"/>
                    <a:pt x="4557" y="12178"/>
                    <a:pt x="5195" y="12267"/>
                  </a:cubicBezTo>
                  <a:cubicBezTo>
                    <a:pt x="5559" y="12356"/>
                    <a:pt x="5924" y="12267"/>
                    <a:pt x="6289" y="12000"/>
                  </a:cubicBezTo>
                  <a:cubicBezTo>
                    <a:pt x="6562" y="11733"/>
                    <a:pt x="6653" y="11289"/>
                    <a:pt x="6380" y="11022"/>
                  </a:cubicBezTo>
                  <a:cubicBezTo>
                    <a:pt x="0" y="3378"/>
                    <a:pt x="0" y="3378"/>
                    <a:pt x="0" y="3378"/>
                  </a:cubicBezTo>
                  <a:cubicBezTo>
                    <a:pt x="9570" y="1867"/>
                    <a:pt x="9570" y="1867"/>
                    <a:pt x="9570" y="1867"/>
                  </a:cubicBezTo>
                  <a:cubicBezTo>
                    <a:pt x="9570" y="1867"/>
                    <a:pt x="9570" y="1956"/>
                    <a:pt x="9570" y="1956"/>
                  </a:cubicBezTo>
                  <a:cubicBezTo>
                    <a:pt x="9023" y="2667"/>
                    <a:pt x="8749" y="3556"/>
                    <a:pt x="8841" y="4356"/>
                  </a:cubicBezTo>
                  <a:cubicBezTo>
                    <a:pt x="9205" y="6044"/>
                    <a:pt x="10754" y="7200"/>
                    <a:pt x="12486" y="6933"/>
                  </a:cubicBezTo>
                  <a:cubicBezTo>
                    <a:pt x="14218" y="6667"/>
                    <a:pt x="15403" y="5067"/>
                    <a:pt x="15129" y="3378"/>
                  </a:cubicBezTo>
                  <a:cubicBezTo>
                    <a:pt x="14947" y="2489"/>
                    <a:pt x="14400" y="1778"/>
                    <a:pt x="13671" y="1333"/>
                  </a:cubicBezTo>
                  <a:cubicBezTo>
                    <a:pt x="13580" y="1244"/>
                    <a:pt x="13580" y="1244"/>
                    <a:pt x="13580" y="1244"/>
                  </a:cubicBezTo>
                  <a:lnTo>
                    <a:pt x="21600" y="0"/>
                  </a:lnTo>
                  <a:close/>
                </a:path>
              </a:pathLst>
            </a:custGeom>
            <a:solidFill>
              <a:srgbClr val="f15a25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Shape 2461"/>
            <p:cNvSpPr/>
            <p:nvPr/>
          </p:nvSpPr>
          <p:spPr>
            <a:xfrm>
              <a:off x="2668320" y="4087080"/>
              <a:ext cx="595080" cy="181800"/>
            </a:xfrm>
            <a:custGeom>
              <a:avLst/>
              <a:gdLst/>
              <a:ahLst/>
              <a:rect l="l" t="t" r="r" b="b"/>
              <a:pathLst>
                <a:path w="21421" h="20625">
                  <a:moveTo>
                    <a:pt x="20731" y="15"/>
                  </a:moveTo>
                  <a:cubicBezTo>
                    <a:pt x="20617" y="15"/>
                    <a:pt x="20502" y="15"/>
                    <a:pt x="20388" y="375"/>
                  </a:cubicBezTo>
                  <a:cubicBezTo>
                    <a:pt x="12274" y="15135"/>
                    <a:pt x="12274" y="15135"/>
                    <a:pt x="12274" y="15135"/>
                  </a:cubicBezTo>
                  <a:cubicBezTo>
                    <a:pt x="11245" y="16935"/>
                    <a:pt x="10102" y="16935"/>
                    <a:pt x="9074" y="15135"/>
                  </a:cubicBezTo>
                  <a:cubicBezTo>
                    <a:pt x="960" y="375"/>
                    <a:pt x="960" y="375"/>
                    <a:pt x="960" y="375"/>
                  </a:cubicBezTo>
                  <a:cubicBezTo>
                    <a:pt x="731" y="-345"/>
                    <a:pt x="274" y="15"/>
                    <a:pt x="45" y="1095"/>
                  </a:cubicBezTo>
                  <a:cubicBezTo>
                    <a:pt x="-69" y="2175"/>
                    <a:pt x="45" y="3255"/>
                    <a:pt x="274" y="3975"/>
                  </a:cubicBezTo>
                  <a:cubicBezTo>
                    <a:pt x="8388" y="18735"/>
                    <a:pt x="8388" y="18735"/>
                    <a:pt x="8388" y="18735"/>
                  </a:cubicBezTo>
                  <a:cubicBezTo>
                    <a:pt x="9760" y="21255"/>
                    <a:pt x="11588" y="21255"/>
                    <a:pt x="12960" y="18735"/>
                  </a:cubicBezTo>
                  <a:cubicBezTo>
                    <a:pt x="21074" y="3975"/>
                    <a:pt x="21074" y="3975"/>
                    <a:pt x="21074" y="3975"/>
                  </a:cubicBezTo>
                  <a:cubicBezTo>
                    <a:pt x="21417" y="3255"/>
                    <a:pt x="21531" y="2175"/>
                    <a:pt x="21302" y="1095"/>
                  </a:cubicBezTo>
                  <a:cubicBezTo>
                    <a:pt x="21188" y="375"/>
                    <a:pt x="20960" y="15"/>
                    <a:pt x="20731" y="15"/>
                  </a:cubicBezTo>
                  <a:close/>
                </a:path>
              </a:pathLst>
            </a:custGeom>
            <a:solidFill>
              <a:srgbClr val="f15a2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Shape 2462"/>
            <p:cNvSpPr/>
            <p:nvPr/>
          </p:nvSpPr>
          <p:spPr>
            <a:xfrm>
              <a:off x="2668320" y="4230000"/>
              <a:ext cx="595080" cy="181800"/>
            </a:xfrm>
            <a:custGeom>
              <a:avLst/>
              <a:gdLst/>
              <a:ahLst/>
              <a:rect l="l" t="t" r="r" b="b"/>
              <a:pathLst>
                <a:path w="21421" h="20625">
                  <a:moveTo>
                    <a:pt x="20731" y="15"/>
                  </a:moveTo>
                  <a:cubicBezTo>
                    <a:pt x="20617" y="15"/>
                    <a:pt x="20502" y="375"/>
                    <a:pt x="20388" y="375"/>
                  </a:cubicBezTo>
                  <a:cubicBezTo>
                    <a:pt x="12274" y="15135"/>
                    <a:pt x="12274" y="15135"/>
                    <a:pt x="12274" y="15135"/>
                  </a:cubicBezTo>
                  <a:cubicBezTo>
                    <a:pt x="11245" y="16935"/>
                    <a:pt x="10102" y="16935"/>
                    <a:pt x="9074" y="15135"/>
                  </a:cubicBezTo>
                  <a:cubicBezTo>
                    <a:pt x="960" y="375"/>
                    <a:pt x="960" y="375"/>
                    <a:pt x="960" y="375"/>
                  </a:cubicBezTo>
                  <a:cubicBezTo>
                    <a:pt x="731" y="-345"/>
                    <a:pt x="274" y="15"/>
                    <a:pt x="45" y="1095"/>
                  </a:cubicBezTo>
                  <a:cubicBezTo>
                    <a:pt x="-69" y="2175"/>
                    <a:pt x="45" y="3615"/>
                    <a:pt x="274" y="4335"/>
                  </a:cubicBezTo>
                  <a:cubicBezTo>
                    <a:pt x="8388" y="18735"/>
                    <a:pt x="8388" y="18735"/>
                    <a:pt x="8388" y="18735"/>
                  </a:cubicBezTo>
                  <a:cubicBezTo>
                    <a:pt x="9760" y="21255"/>
                    <a:pt x="11588" y="21255"/>
                    <a:pt x="12960" y="18735"/>
                  </a:cubicBezTo>
                  <a:cubicBezTo>
                    <a:pt x="21074" y="4335"/>
                    <a:pt x="21074" y="4335"/>
                    <a:pt x="21074" y="4335"/>
                  </a:cubicBezTo>
                  <a:cubicBezTo>
                    <a:pt x="21417" y="3615"/>
                    <a:pt x="21531" y="2175"/>
                    <a:pt x="21302" y="1095"/>
                  </a:cubicBezTo>
                  <a:cubicBezTo>
                    <a:pt x="21188" y="375"/>
                    <a:pt x="20960" y="15"/>
                    <a:pt x="20731" y="15"/>
                  </a:cubicBezTo>
                  <a:close/>
                </a:path>
              </a:pathLst>
            </a:custGeom>
            <a:solidFill>
              <a:srgbClr val="f15a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Shape 2463"/>
            <p:cNvSpPr/>
            <p:nvPr/>
          </p:nvSpPr>
          <p:spPr>
            <a:xfrm>
              <a:off x="2668320" y="4374720"/>
              <a:ext cx="595080" cy="182880"/>
            </a:xfrm>
            <a:custGeom>
              <a:avLst/>
              <a:gdLst/>
              <a:ahLst/>
              <a:rect l="l" t="t" r="r" b="b"/>
              <a:pathLst>
                <a:path w="21421" h="20745">
                  <a:moveTo>
                    <a:pt x="20731" y="135"/>
                  </a:moveTo>
                  <a:cubicBezTo>
                    <a:pt x="20617" y="135"/>
                    <a:pt x="20502" y="135"/>
                    <a:pt x="20388" y="135"/>
                  </a:cubicBezTo>
                  <a:cubicBezTo>
                    <a:pt x="12274" y="14895"/>
                    <a:pt x="12274" y="14895"/>
                    <a:pt x="12274" y="14895"/>
                  </a:cubicBezTo>
                  <a:cubicBezTo>
                    <a:pt x="11245" y="16695"/>
                    <a:pt x="10102" y="16695"/>
                    <a:pt x="9074" y="14895"/>
                  </a:cubicBezTo>
                  <a:cubicBezTo>
                    <a:pt x="960" y="135"/>
                    <a:pt x="960" y="135"/>
                    <a:pt x="960" y="135"/>
                  </a:cubicBezTo>
                  <a:cubicBezTo>
                    <a:pt x="731" y="-225"/>
                    <a:pt x="274" y="135"/>
                    <a:pt x="45" y="1215"/>
                  </a:cubicBezTo>
                  <a:cubicBezTo>
                    <a:pt x="-69" y="2295"/>
                    <a:pt x="45" y="3375"/>
                    <a:pt x="274" y="4095"/>
                  </a:cubicBezTo>
                  <a:cubicBezTo>
                    <a:pt x="8388" y="18855"/>
                    <a:pt x="8388" y="18855"/>
                    <a:pt x="8388" y="18855"/>
                  </a:cubicBezTo>
                  <a:cubicBezTo>
                    <a:pt x="9760" y="21375"/>
                    <a:pt x="11588" y="21375"/>
                    <a:pt x="12960" y="18855"/>
                  </a:cubicBezTo>
                  <a:cubicBezTo>
                    <a:pt x="21074" y="4095"/>
                    <a:pt x="21074" y="4095"/>
                    <a:pt x="21074" y="4095"/>
                  </a:cubicBezTo>
                  <a:cubicBezTo>
                    <a:pt x="21417" y="3375"/>
                    <a:pt x="21531" y="2295"/>
                    <a:pt x="21302" y="1215"/>
                  </a:cubicBezTo>
                  <a:cubicBezTo>
                    <a:pt x="21188" y="495"/>
                    <a:pt x="20960" y="135"/>
                    <a:pt x="20731" y="135"/>
                  </a:cubicBezTo>
                  <a:close/>
                </a:path>
              </a:pathLst>
            </a:custGeom>
            <a:solidFill>
              <a:srgbClr val="f15a2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2" name="Group 72"/>
          <p:cNvGrpSpPr/>
          <p:nvPr/>
        </p:nvGrpSpPr>
        <p:grpSpPr>
          <a:xfrm>
            <a:off x="4043520" y="1954080"/>
            <a:ext cx="1620720" cy="2603520"/>
            <a:chOff x="4043520" y="1954080"/>
            <a:chExt cx="1620720" cy="2603520"/>
          </a:xfrm>
        </p:grpSpPr>
        <p:sp>
          <p:nvSpPr>
            <p:cNvPr id="913" name="Shape 2443"/>
            <p:cNvSpPr/>
            <p:nvPr/>
          </p:nvSpPr>
          <p:spPr>
            <a:xfrm>
              <a:off x="4318920" y="1954080"/>
              <a:ext cx="870480" cy="923400"/>
            </a:xfrm>
            <a:custGeom>
              <a:avLst/>
              <a:gdLst/>
              <a:ahLst/>
              <a:rect l="l" t="t" r="r" b="b"/>
              <a:pathLst>
                <a:path w="21521" h="20601">
                  <a:moveTo>
                    <a:pt x="21286" y="13590"/>
                  </a:moveTo>
                  <a:cubicBezTo>
                    <a:pt x="20893" y="14511"/>
                    <a:pt x="19793" y="14935"/>
                    <a:pt x="18851" y="14581"/>
                  </a:cubicBezTo>
                  <a:cubicBezTo>
                    <a:pt x="18301" y="14440"/>
                    <a:pt x="17908" y="14015"/>
                    <a:pt x="17751" y="13590"/>
                  </a:cubicBezTo>
                  <a:cubicBezTo>
                    <a:pt x="17594" y="13307"/>
                    <a:pt x="17359" y="13094"/>
                    <a:pt x="17044" y="12952"/>
                  </a:cubicBezTo>
                  <a:cubicBezTo>
                    <a:pt x="16730" y="12882"/>
                    <a:pt x="16337" y="13023"/>
                    <a:pt x="16259" y="13307"/>
                  </a:cubicBezTo>
                  <a:cubicBezTo>
                    <a:pt x="13196" y="20601"/>
                    <a:pt x="13196" y="20601"/>
                    <a:pt x="13196" y="20601"/>
                  </a:cubicBezTo>
                  <a:cubicBezTo>
                    <a:pt x="7855" y="14794"/>
                    <a:pt x="7855" y="14794"/>
                    <a:pt x="7855" y="14794"/>
                  </a:cubicBezTo>
                  <a:cubicBezTo>
                    <a:pt x="7855" y="14794"/>
                    <a:pt x="7933" y="14794"/>
                    <a:pt x="7933" y="14794"/>
                  </a:cubicBezTo>
                  <a:cubicBezTo>
                    <a:pt x="8719" y="14865"/>
                    <a:pt x="9504" y="14723"/>
                    <a:pt x="10132" y="14227"/>
                  </a:cubicBezTo>
                  <a:cubicBezTo>
                    <a:pt x="11232" y="13377"/>
                    <a:pt x="11389" y="11819"/>
                    <a:pt x="10447" y="10828"/>
                  </a:cubicBezTo>
                  <a:cubicBezTo>
                    <a:pt x="9504" y="9766"/>
                    <a:pt x="7776" y="9624"/>
                    <a:pt x="6676" y="10474"/>
                  </a:cubicBezTo>
                  <a:cubicBezTo>
                    <a:pt x="6048" y="10899"/>
                    <a:pt x="5655" y="11536"/>
                    <a:pt x="5655" y="12244"/>
                  </a:cubicBezTo>
                  <a:cubicBezTo>
                    <a:pt x="5655" y="12315"/>
                    <a:pt x="5655" y="12315"/>
                    <a:pt x="5655" y="12315"/>
                  </a:cubicBezTo>
                  <a:cubicBezTo>
                    <a:pt x="0" y="6083"/>
                    <a:pt x="0" y="6083"/>
                    <a:pt x="0" y="6083"/>
                  </a:cubicBezTo>
                  <a:cubicBezTo>
                    <a:pt x="1257" y="4525"/>
                    <a:pt x="2671" y="3321"/>
                    <a:pt x="3849" y="2542"/>
                  </a:cubicBezTo>
                  <a:cubicBezTo>
                    <a:pt x="6519" y="701"/>
                    <a:pt x="14609" y="-999"/>
                    <a:pt x="21521" y="701"/>
                  </a:cubicBezTo>
                  <a:cubicBezTo>
                    <a:pt x="17280" y="10828"/>
                    <a:pt x="17280" y="10828"/>
                    <a:pt x="17280" y="10828"/>
                  </a:cubicBezTo>
                  <a:cubicBezTo>
                    <a:pt x="17280" y="10828"/>
                    <a:pt x="17280" y="10828"/>
                    <a:pt x="17280" y="10828"/>
                  </a:cubicBezTo>
                  <a:cubicBezTo>
                    <a:pt x="17123" y="11111"/>
                    <a:pt x="17280" y="11465"/>
                    <a:pt x="17673" y="11536"/>
                  </a:cubicBezTo>
                  <a:cubicBezTo>
                    <a:pt x="17987" y="11678"/>
                    <a:pt x="18301" y="11678"/>
                    <a:pt x="18615" y="11536"/>
                  </a:cubicBezTo>
                  <a:cubicBezTo>
                    <a:pt x="19087" y="11253"/>
                    <a:pt x="19636" y="11253"/>
                    <a:pt x="20186" y="11394"/>
                  </a:cubicBezTo>
                  <a:cubicBezTo>
                    <a:pt x="21129" y="11749"/>
                    <a:pt x="21600" y="12740"/>
                    <a:pt x="21286" y="13590"/>
                  </a:cubicBezTo>
                  <a:close/>
                </a:path>
              </a:pathLst>
            </a:custGeom>
            <a:solidFill>
              <a:srgbClr val="ff8e6c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Shape 2444"/>
            <p:cNvSpPr/>
            <p:nvPr/>
          </p:nvSpPr>
          <p:spPr>
            <a:xfrm>
              <a:off x="4884480" y="1994760"/>
              <a:ext cx="779760" cy="1023120"/>
            </a:xfrm>
            <a:custGeom>
              <a:avLst/>
              <a:gdLst/>
              <a:ahLst/>
              <a:rect l="l" t="t" r="r" b="b"/>
              <a:pathLst>
                <a:path w="21369" h="21485">
                  <a:moveTo>
                    <a:pt x="21339" y="13667"/>
                  </a:moveTo>
                  <a:cubicBezTo>
                    <a:pt x="21339" y="14533"/>
                    <a:pt x="21165" y="15400"/>
                    <a:pt x="20990" y="16133"/>
                  </a:cubicBezTo>
                  <a:cubicBezTo>
                    <a:pt x="12629" y="17200"/>
                    <a:pt x="12629" y="17200"/>
                    <a:pt x="12629" y="17200"/>
                  </a:cubicBezTo>
                  <a:cubicBezTo>
                    <a:pt x="12281" y="17267"/>
                    <a:pt x="12019" y="17533"/>
                    <a:pt x="12106" y="17800"/>
                  </a:cubicBezTo>
                  <a:cubicBezTo>
                    <a:pt x="12194" y="18133"/>
                    <a:pt x="12368" y="18333"/>
                    <a:pt x="12716" y="18533"/>
                  </a:cubicBezTo>
                  <a:cubicBezTo>
                    <a:pt x="13152" y="18733"/>
                    <a:pt x="13587" y="19133"/>
                    <a:pt x="13674" y="19600"/>
                  </a:cubicBezTo>
                  <a:cubicBezTo>
                    <a:pt x="13848" y="20467"/>
                    <a:pt x="13065" y="21267"/>
                    <a:pt x="11932" y="21467"/>
                  </a:cubicBezTo>
                  <a:cubicBezTo>
                    <a:pt x="10800" y="21600"/>
                    <a:pt x="9755" y="21000"/>
                    <a:pt x="9581" y="20133"/>
                  </a:cubicBezTo>
                  <a:cubicBezTo>
                    <a:pt x="9406" y="19667"/>
                    <a:pt x="9581" y="19200"/>
                    <a:pt x="10016" y="18867"/>
                  </a:cubicBezTo>
                  <a:cubicBezTo>
                    <a:pt x="10190" y="18600"/>
                    <a:pt x="10365" y="18333"/>
                    <a:pt x="10277" y="18067"/>
                  </a:cubicBezTo>
                  <a:cubicBezTo>
                    <a:pt x="10190" y="17733"/>
                    <a:pt x="9842" y="17600"/>
                    <a:pt x="9494" y="17600"/>
                  </a:cubicBezTo>
                  <a:cubicBezTo>
                    <a:pt x="9494" y="17600"/>
                    <a:pt x="9494" y="17600"/>
                    <a:pt x="9494" y="17600"/>
                  </a:cubicBezTo>
                  <a:cubicBezTo>
                    <a:pt x="0" y="18800"/>
                    <a:pt x="0" y="18800"/>
                    <a:pt x="0" y="18800"/>
                  </a:cubicBezTo>
                  <a:cubicBezTo>
                    <a:pt x="3223" y="12133"/>
                    <a:pt x="3223" y="12133"/>
                    <a:pt x="3223" y="12133"/>
                  </a:cubicBezTo>
                  <a:cubicBezTo>
                    <a:pt x="3310" y="12133"/>
                    <a:pt x="3310" y="12200"/>
                    <a:pt x="3310" y="12200"/>
                  </a:cubicBezTo>
                  <a:cubicBezTo>
                    <a:pt x="3571" y="12800"/>
                    <a:pt x="4268" y="13267"/>
                    <a:pt x="5052" y="13533"/>
                  </a:cubicBezTo>
                  <a:cubicBezTo>
                    <a:pt x="6619" y="14000"/>
                    <a:pt x="8361" y="13400"/>
                    <a:pt x="8971" y="12200"/>
                  </a:cubicBezTo>
                  <a:cubicBezTo>
                    <a:pt x="9494" y="11000"/>
                    <a:pt x="8710" y="9667"/>
                    <a:pt x="7142" y="9200"/>
                  </a:cubicBezTo>
                  <a:cubicBezTo>
                    <a:pt x="6358" y="9000"/>
                    <a:pt x="5487" y="9067"/>
                    <a:pt x="4703" y="9333"/>
                  </a:cubicBezTo>
                  <a:cubicBezTo>
                    <a:pt x="4703" y="9333"/>
                    <a:pt x="4616" y="9333"/>
                    <a:pt x="4616" y="9400"/>
                  </a:cubicBezTo>
                  <a:cubicBezTo>
                    <a:pt x="9232" y="0"/>
                    <a:pt x="9232" y="0"/>
                    <a:pt x="9232" y="0"/>
                  </a:cubicBezTo>
                  <a:cubicBezTo>
                    <a:pt x="10190" y="267"/>
                    <a:pt x="11235" y="533"/>
                    <a:pt x="12106" y="933"/>
                  </a:cubicBezTo>
                  <a:cubicBezTo>
                    <a:pt x="20294" y="4200"/>
                    <a:pt x="21600" y="8733"/>
                    <a:pt x="21339" y="13667"/>
                  </a:cubicBezTo>
                  <a:close/>
                </a:path>
              </a:pathLst>
            </a:custGeom>
            <a:solidFill>
              <a:srgbClr val="ff8e6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Shape 2445"/>
            <p:cNvSpPr/>
            <p:nvPr/>
          </p:nvSpPr>
          <p:spPr>
            <a:xfrm>
              <a:off x="4064760" y="2255040"/>
              <a:ext cx="762480" cy="76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150" y="19636"/>
                  </a:moveTo>
                  <a:cubicBezTo>
                    <a:pt x="12690" y="18922"/>
                    <a:pt x="12960" y="18030"/>
                    <a:pt x="12780" y="17137"/>
                  </a:cubicBezTo>
                  <a:cubicBezTo>
                    <a:pt x="12510" y="15441"/>
                    <a:pt x="10890" y="14281"/>
                    <a:pt x="9180" y="14638"/>
                  </a:cubicBezTo>
                  <a:cubicBezTo>
                    <a:pt x="7560" y="14906"/>
                    <a:pt x="6390" y="16423"/>
                    <a:pt x="6660" y="18119"/>
                  </a:cubicBezTo>
                  <a:cubicBezTo>
                    <a:pt x="6750" y="19012"/>
                    <a:pt x="7290" y="19815"/>
                    <a:pt x="8100" y="20261"/>
                  </a:cubicBezTo>
                  <a:cubicBezTo>
                    <a:pt x="8100" y="20261"/>
                    <a:pt x="8100" y="20261"/>
                    <a:pt x="8100" y="20261"/>
                  </a:cubicBezTo>
                  <a:cubicBezTo>
                    <a:pt x="0" y="21600"/>
                    <a:pt x="0" y="21600"/>
                    <a:pt x="0" y="21600"/>
                  </a:cubicBezTo>
                  <a:cubicBezTo>
                    <a:pt x="270" y="21154"/>
                    <a:pt x="540" y="20618"/>
                    <a:pt x="900" y="20083"/>
                  </a:cubicBezTo>
                  <a:cubicBezTo>
                    <a:pt x="1260" y="19547"/>
                    <a:pt x="3330" y="16512"/>
                    <a:pt x="4320" y="14995"/>
                  </a:cubicBezTo>
                  <a:cubicBezTo>
                    <a:pt x="4590" y="14460"/>
                    <a:pt x="4680" y="13835"/>
                    <a:pt x="4500" y="13299"/>
                  </a:cubicBezTo>
                  <a:cubicBezTo>
                    <a:pt x="2880" y="7944"/>
                    <a:pt x="4320" y="3392"/>
                    <a:pt x="6570" y="0"/>
                  </a:cubicBezTo>
                  <a:cubicBezTo>
                    <a:pt x="13140" y="7944"/>
                    <a:pt x="13140" y="7944"/>
                    <a:pt x="13140" y="7944"/>
                  </a:cubicBezTo>
                  <a:cubicBezTo>
                    <a:pt x="13410" y="8212"/>
                    <a:pt x="13860" y="8301"/>
                    <a:pt x="14130" y="8033"/>
                  </a:cubicBezTo>
                  <a:cubicBezTo>
                    <a:pt x="14490" y="7765"/>
                    <a:pt x="14670" y="7408"/>
                    <a:pt x="14670" y="7051"/>
                  </a:cubicBezTo>
                  <a:cubicBezTo>
                    <a:pt x="14670" y="6426"/>
                    <a:pt x="14940" y="5891"/>
                    <a:pt x="15390" y="5445"/>
                  </a:cubicBezTo>
                  <a:cubicBezTo>
                    <a:pt x="16380" y="4731"/>
                    <a:pt x="17730" y="4820"/>
                    <a:pt x="18450" y="5712"/>
                  </a:cubicBezTo>
                  <a:cubicBezTo>
                    <a:pt x="19260" y="6694"/>
                    <a:pt x="19080" y="8033"/>
                    <a:pt x="18180" y="8747"/>
                  </a:cubicBezTo>
                  <a:cubicBezTo>
                    <a:pt x="17640" y="9193"/>
                    <a:pt x="17010" y="9283"/>
                    <a:pt x="16470" y="9193"/>
                  </a:cubicBezTo>
                  <a:cubicBezTo>
                    <a:pt x="16020" y="9104"/>
                    <a:pt x="15660" y="9283"/>
                    <a:pt x="15390" y="9461"/>
                  </a:cubicBezTo>
                  <a:cubicBezTo>
                    <a:pt x="15030" y="9729"/>
                    <a:pt x="15030" y="10175"/>
                    <a:pt x="15300" y="10443"/>
                  </a:cubicBezTo>
                  <a:cubicBezTo>
                    <a:pt x="21600" y="18119"/>
                    <a:pt x="21600" y="18119"/>
                    <a:pt x="21600" y="18119"/>
                  </a:cubicBezTo>
                  <a:cubicBezTo>
                    <a:pt x="12060" y="19636"/>
                    <a:pt x="12060" y="19636"/>
                    <a:pt x="12060" y="19636"/>
                  </a:cubicBezTo>
                  <a:cubicBezTo>
                    <a:pt x="12060" y="19636"/>
                    <a:pt x="12060" y="19636"/>
                    <a:pt x="12150" y="19636"/>
                  </a:cubicBezTo>
                  <a:close/>
                </a:path>
              </a:pathLst>
            </a:custGeom>
            <a:solidFill>
              <a:srgbClr val="ff8e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Shape 2446"/>
            <p:cNvSpPr/>
            <p:nvPr/>
          </p:nvSpPr>
          <p:spPr>
            <a:xfrm>
              <a:off x="4043520" y="2806560"/>
              <a:ext cx="786960" cy="852480"/>
            </a:xfrm>
            <a:custGeom>
              <a:avLst/>
              <a:gdLst/>
              <a:ahLst/>
              <a:rect l="l" t="t" r="r" b="b"/>
              <a:pathLst>
                <a:path w="21403" h="21094">
                  <a:moveTo>
                    <a:pt x="21403" y="3085"/>
                  </a:moveTo>
                  <a:cubicBezTo>
                    <a:pt x="18206" y="10940"/>
                    <a:pt x="18206" y="10940"/>
                    <a:pt x="18206" y="10940"/>
                  </a:cubicBezTo>
                  <a:cubicBezTo>
                    <a:pt x="18120" y="10940"/>
                    <a:pt x="18120" y="10940"/>
                    <a:pt x="18120" y="10940"/>
                  </a:cubicBezTo>
                  <a:cubicBezTo>
                    <a:pt x="17861" y="10154"/>
                    <a:pt x="17169" y="9605"/>
                    <a:pt x="16392" y="9290"/>
                  </a:cubicBezTo>
                  <a:cubicBezTo>
                    <a:pt x="14837" y="8819"/>
                    <a:pt x="13109" y="9526"/>
                    <a:pt x="12504" y="10940"/>
                  </a:cubicBezTo>
                  <a:cubicBezTo>
                    <a:pt x="11985" y="12275"/>
                    <a:pt x="12763" y="13846"/>
                    <a:pt x="14318" y="14396"/>
                  </a:cubicBezTo>
                  <a:cubicBezTo>
                    <a:pt x="15096" y="14710"/>
                    <a:pt x="15960" y="14632"/>
                    <a:pt x="16737" y="14239"/>
                  </a:cubicBezTo>
                  <a:cubicBezTo>
                    <a:pt x="16737" y="14239"/>
                    <a:pt x="16824" y="14239"/>
                    <a:pt x="16824" y="14239"/>
                  </a:cubicBezTo>
                  <a:cubicBezTo>
                    <a:pt x="14318" y="20365"/>
                    <a:pt x="14318" y="20365"/>
                    <a:pt x="14318" y="20365"/>
                  </a:cubicBezTo>
                  <a:cubicBezTo>
                    <a:pt x="9480" y="21465"/>
                    <a:pt x="6801" y="20994"/>
                    <a:pt x="6801" y="20994"/>
                  </a:cubicBezTo>
                  <a:cubicBezTo>
                    <a:pt x="5073" y="20837"/>
                    <a:pt x="3950" y="19030"/>
                    <a:pt x="4209" y="17852"/>
                  </a:cubicBezTo>
                  <a:cubicBezTo>
                    <a:pt x="4382" y="16595"/>
                    <a:pt x="4469" y="16045"/>
                    <a:pt x="3777" y="15496"/>
                  </a:cubicBezTo>
                  <a:cubicBezTo>
                    <a:pt x="3000" y="15024"/>
                    <a:pt x="3000" y="14396"/>
                    <a:pt x="3432" y="14160"/>
                  </a:cubicBezTo>
                  <a:cubicBezTo>
                    <a:pt x="3777" y="13925"/>
                    <a:pt x="4987" y="13453"/>
                    <a:pt x="4987" y="13453"/>
                  </a:cubicBezTo>
                  <a:cubicBezTo>
                    <a:pt x="4987" y="13453"/>
                    <a:pt x="4037" y="12904"/>
                    <a:pt x="3518" y="12746"/>
                  </a:cubicBezTo>
                  <a:cubicBezTo>
                    <a:pt x="3000" y="12511"/>
                    <a:pt x="2741" y="11725"/>
                    <a:pt x="3000" y="11254"/>
                  </a:cubicBezTo>
                  <a:cubicBezTo>
                    <a:pt x="3345" y="10783"/>
                    <a:pt x="3432" y="9605"/>
                    <a:pt x="3432" y="9605"/>
                  </a:cubicBezTo>
                  <a:cubicBezTo>
                    <a:pt x="3432" y="9605"/>
                    <a:pt x="2222" y="9055"/>
                    <a:pt x="926" y="8426"/>
                  </a:cubicBezTo>
                  <a:cubicBezTo>
                    <a:pt x="62" y="8034"/>
                    <a:pt x="-197" y="7405"/>
                    <a:pt x="149" y="6306"/>
                  </a:cubicBezTo>
                  <a:cubicBezTo>
                    <a:pt x="8875" y="4970"/>
                    <a:pt x="8875" y="4970"/>
                    <a:pt x="8875" y="4970"/>
                  </a:cubicBezTo>
                  <a:cubicBezTo>
                    <a:pt x="9221" y="4970"/>
                    <a:pt x="9480" y="4656"/>
                    <a:pt x="9393" y="4264"/>
                  </a:cubicBezTo>
                  <a:cubicBezTo>
                    <a:pt x="9307" y="3949"/>
                    <a:pt x="9134" y="3635"/>
                    <a:pt x="8789" y="3478"/>
                  </a:cubicBezTo>
                  <a:cubicBezTo>
                    <a:pt x="8357" y="3164"/>
                    <a:pt x="7925" y="2771"/>
                    <a:pt x="7838" y="2143"/>
                  </a:cubicBezTo>
                  <a:cubicBezTo>
                    <a:pt x="7665" y="1122"/>
                    <a:pt x="8443" y="179"/>
                    <a:pt x="9566" y="22"/>
                  </a:cubicBezTo>
                  <a:cubicBezTo>
                    <a:pt x="10689" y="-135"/>
                    <a:pt x="11726" y="572"/>
                    <a:pt x="11985" y="1593"/>
                  </a:cubicBezTo>
                  <a:cubicBezTo>
                    <a:pt x="12072" y="2143"/>
                    <a:pt x="11899" y="2693"/>
                    <a:pt x="11467" y="3085"/>
                  </a:cubicBezTo>
                  <a:cubicBezTo>
                    <a:pt x="11294" y="3321"/>
                    <a:pt x="11121" y="3714"/>
                    <a:pt x="11208" y="4028"/>
                  </a:cubicBezTo>
                  <a:cubicBezTo>
                    <a:pt x="11294" y="4342"/>
                    <a:pt x="11640" y="4578"/>
                    <a:pt x="11985" y="4499"/>
                  </a:cubicBezTo>
                  <a:lnTo>
                    <a:pt x="21403" y="3085"/>
                  </a:lnTo>
                  <a:close/>
                </a:path>
              </a:pathLst>
            </a:custGeom>
            <a:solidFill>
              <a:srgbClr val="ff8e6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Shape 2447"/>
            <p:cNvSpPr/>
            <p:nvPr/>
          </p:nvSpPr>
          <p:spPr>
            <a:xfrm>
              <a:off x="4530960" y="2944080"/>
              <a:ext cx="890640" cy="1000080"/>
            </a:xfrm>
            <a:custGeom>
              <a:avLst/>
              <a:gdLst/>
              <a:ahLst/>
              <a:rect l="l" t="t" r="r" b="b"/>
              <a:pathLst>
                <a:path w="21389" h="21600">
                  <a:moveTo>
                    <a:pt x="21389" y="14743"/>
                  </a:moveTo>
                  <a:cubicBezTo>
                    <a:pt x="21389" y="17006"/>
                    <a:pt x="21389" y="19680"/>
                    <a:pt x="21389" y="19680"/>
                  </a:cubicBezTo>
                  <a:cubicBezTo>
                    <a:pt x="21389" y="19680"/>
                    <a:pt x="18412" y="21600"/>
                    <a:pt x="11238" y="21600"/>
                  </a:cubicBezTo>
                  <a:cubicBezTo>
                    <a:pt x="4063" y="21600"/>
                    <a:pt x="1010" y="19680"/>
                    <a:pt x="1010" y="19680"/>
                  </a:cubicBezTo>
                  <a:cubicBezTo>
                    <a:pt x="1010" y="16526"/>
                    <a:pt x="1010" y="16526"/>
                    <a:pt x="1010" y="16526"/>
                  </a:cubicBezTo>
                  <a:cubicBezTo>
                    <a:pt x="3987" y="9463"/>
                    <a:pt x="3987" y="9463"/>
                    <a:pt x="3987" y="9463"/>
                  </a:cubicBezTo>
                  <a:cubicBezTo>
                    <a:pt x="4140" y="9189"/>
                    <a:pt x="3987" y="8914"/>
                    <a:pt x="3605" y="8777"/>
                  </a:cubicBezTo>
                  <a:cubicBezTo>
                    <a:pt x="3300" y="8709"/>
                    <a:pt x="2995" y="8709"/>
                    <a:pt x="2689" y="8846"/>
                  </a:cubicBezTo>
                  <a:cubicBezTo>
                    <a:pt x="2231" y="9051"/>
                    <a:pt x="1697" y="9120"/>
                    <a:pt x="1163" y="8914"/>
                  </a:cubicBezTo>
                  <a:cubicBezTo>
                    <a:pt x="247" y="8640"/>
                    <a:pt x="-211" y="7680"/>
                    <a:pt x="94" y="6789"/>
                  </a:cubicBezTo>
                  <a:cubicBezTo>
                    <a:pt x="476" y="5966"/>
                    <a:pt x="1544" y="5554"/>
                    <a:pt x="2460" y="5829"/>
                  </a:cubicBezTo>
                  <a:cubicBezTo>
                    <a:pt x="2995" y="6034"/>
                    <a:pt x="3376" y="6377"/>
                    <a:pt x="3529" y="6789"/>
                  </a:cubicBezTo>
                  <a:cubicBezTo>
                    <a:pt x="3682" y="7063"/>
                    <a:pt x="3911" y="7337"/>
                    <a:pt x="4216" y="7406"/>
                  </a:cubicBezTo>
                  <a:cubicBezTo>
                    <a:pt x="4521" y="7543"/>
                    <a:pt x="4903" y="7406"/>
                    <a:pt x="4979" y="7131"/>
                  </a:cubicBezTo>
                  <a:cubicBezTo>
                    <a:pt x="7956" y="0"/>
                    <a:pt x="7956" y="0"/>
                    <a:pt x="7956" y="0"/>
                  </a:cubicBezTo>
                  <a:cubicBezTo>
                    <a:pt x="13146" y="5691"/>
                    <a:pt x="13146" y="5691"/>
                    <a:pt x="13146" y="5691"/>
                  </a:cubicBezTo>
                  <a:cubicBezTo>
                    <a:pt x="13146" y="5691"/>
                    <a:pt x="13070" y="5691"/>
                    <a:pt x="13070" y="5691"/>
                  </a:cubicBezTo>
                  <a:cubicBezTo>
                    <a:pt x="12306" y="5554"/>
                    <a:pt x="11543" y="5760"/>
                    <a:pt x="11009" y="6171"/>
                  </a:cubicBezTo>
                  <a:cubicBezTo>
                    <a:pt x="9864" y="6994"/>
                    <a:pt x="9711" y="8503"/>
                    <a:pt x="10627" y="9531"/>
                  </a:cubicBezTo>
                  <a:cubicBezTo>
                    <a:pt x="11543" y="10560"/>
                    <a:pt x="13222" y="10697"/>
                    <a:pt x="14291" y="9874"/>
                  </a:cubicBezTo>
                  <a:cubicBezTo>
                    <a:pt x="14901" y="9394"/>
                    <a:pt x="15283" y="8777"/>
                    <a:pt x="15283" y="8091"/>
                  </a:cubicBezTo>
                  <a:cubicBezTo>
                    <a:pt x="15283" y="8091"/>
                    <a:pt x="15283" y="8023"/>
                    <a:pt x="15283" y="8023"/>
                  </a:cubicBezTo>
                  <a:lnTo>
                    <a:pt x="21389" y="14743"/>
                  </a:lnTo>
                  <a:close/>
                </a:path>
              </a:pathLst>
            </a:custGeom>
            <a:solidFill>
              <a:srgbClr val="ff8e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Shape 2448"/>
            <p:cNvSpPr/>
            <p:nvPr/>
          </p:nvSpPr>
          <p:spPr>
            <a:xfrm>
              <a:off x="4887720" y="2801160"/>
              <a:ext cx="756360" cy="771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511" y="4089"/>
                    <a:pt x="18424" y="6844"/>
                    <a:pt x="17334" y="8978"/>
                  </a:cubicBezTo>
                  <a:cubicBezTo>
                    <a:pt x="15792" y="11822"/>
                    <a:pt x="15247" y="17333"/>
                    <a:pt x="15247" y="19822"/>
                  </a:cubicBezTo>
                  <a:cubicBezTo>
                    <a:pt x="15247" y="21600"/>
                    <a:pt x="15247" y="21600"/>
                    <a:pt x="15247" y="21600"/>
                  </a:cubicBezTo>
                  <a:cubicBezTo>
                    <a:pt x="8531" y="13600"/>
                    <a:pt x="8531" y="13600"/>
                    <a:pt x="8531" y="13600"/>
                  </a:cubicBezTo>
                  <a:cubicBezTo>
                    <a:pt x="8259" y="13244"/>
                    <a:pt x="7805" y="13244"/>
                    <a:pt x="7533" y="13511"/>
                  </a:cubicBezTo>
                  <a:cubicBezTo>
                    <a:pt x="7170" y="13689"/>
                    <a:pt x="6988" y="14044"/>
                    <a:pt x="6988" y="14489"/>
                  </a:cubicBezTo>
                  <a:cubicBezTo>
                    <a:pt x="6988" y="15022"/>
                    <a:pt x="6716" y="15644"/>
                    <a:pt x="6262" y="16089"/>
                  </a:cubicBezTo>
                  <a:cubicBezTo>
                    <a:pt x="5264" y="16800"/>
                    <a:pt x="3903" y="16622"/>
                    <a:pt x="3176" y="15733"/>
                  </a:cubicBezTo>
                  <a:cubicBezTo>
                    <a:pt x="2360" y="14844"/>
                    <a:pt x="2541" y="13511"/>
                    <a:pt x="3449" y="12711"/>
                  </a:cubicBezTo>
                  <a:cubicBezTo>
                    <a:pt x="3993" y="12356"/>
                    <a:pt x="4629" y="12178"/>
                    <a:pt x="5173" y="12267"/>
                  </a:cubicBezTo>
                  <a:cubicBezTo>
                    <a:pt x="5627" y="12356"/>
                    <a:pt x="5990" y="12267"/>
                    <a:pt x="6262" y="12000"/>
                  </a:cubicBezTo>
                  <a:cubicBezTo>
                    <a:pt x="6625" y="11733"/>
                    <a:pt x="6625" y="11289"/>
                    <a:pt x="6353" y="11022"/>
                  </a:cubicBezTo>
                  <a:cubicBezTo>
                    <a:pt x="0" y="3378"/>
                    <a:pt x="0" y="3378"/>
                    <a:pt x="0" y="3378"/>
                  </a:cubicBezTo>
                  <a:cubicBezTo>
                    <a:pt x="9620" y="1867"/>
                    <a:pt x="9620" y="1867"/>
                    <a:pt x="9620" y="1867"/>
                  </a:cubicBezTo>
                  <a:cubicBezTo>
                    <a:pt x="9620" y="1867"/>
                    <a:pt x="9620" y="1956"/>
                    <a:pt x="9529" y="1956"/>
                  </a:cubicBezTo>
                  <a:cubicBezTo>
                    <a:pt x="8985" y="2667"/>
                    <a:pt x="8713" y="3556"/>
                    <a:pt x="8894" y="4356"/>
                  </a:cubicBezTo>
                  <a:cubicBezTo>
                    <a:pt x="9166" y="6044"/>
                    <a:pt x="10800" y="7200"/>
                    <a:pt x="12524" y="6933"/>
                  </a:cubicBezTo>
                  <a:cubicBezTo>
                    <a:pt x="14249" y="6667"/>
                    <a:pt x="15338" y="5067"/>
                    <a:pt x="15066" y="3378"/>
                  </a:cubicBezTo>
                  <a:cubicBezTo>
                    <a:pt x="14975" y="2489"/>
                    <a:pt x="14430" y="1778"/>
                    <a:pt x="13613" y="1333"/>
                  </a:cubicBezTo>
                  <a:cubicBezTo>
                    <a:pt x="13613" y="1244"/>
                    <a:pt x="13613" y="1244"/>
                    <a:pt x="13613" y="1244"/>
                  </a:cubicBezTo>
                  <a:lnTo>
                    <a:pt x="21600" y="0"/>
                  </a:lnTo>
                  <a:close/>
                </a:path>
              </a:pathLst>
            </a:custGeom>
            <a:solidFill>
              <a:srgbClr val="ff8e6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Shape 2464"/>
            <p:cNvSpPr/>
            <p:nvPr/>
          </p:nvSpPr>
          <p:spPr>
            <a:xfrm>
              <a:off x="4700160" y="4087080"/>
              <a:ext cx="595440" cy="181800"/>
            </a:xfrm>
            <a:custGeom>
              <a:avLst/>
              <a:gdLst/>
              <a:ahLst/>
              <a:rect l="l" t="t" r="r" b="b"/>
              <a:pathLst>
                <a:path w="21419" h="20625">
                  <a:moveTo>
                    <a:pt x="20690" y="15"/>
                  </a:moveTo>
                  <a:cubicBezTo>
                    <a:pt x="20576" y="15"/>
                    <a:pt x="20461" y="15"/>
                    <a:pt x="20347" y="375"/>
                  </a:cubicBezTo>
                  <a:cubicBezTo>
                    <a:pt x="12347" y="15135"/>
                    <a:pt x="12347" y="15135"/>
                    <a:pt x="12347" y="15135"/>
                  </a:cubicBezTo>
                  <a:cubicBezTo>
                    <a:pt x="11319" y="16935"/>
                    <a:pt x="10061" y="16935"/>
                    <a:pt x="9147" y="15135"/>
                  </a:cubicBezTo>
                  <a:cubicBezTo>
                    <a:pt x="1033" y="375"/>
                    <a:pt x="1033" y="375"/>
                    <a:pt x="1033" y="375"/>
                  </a:cubicBezTo>
                  <a:cubicBezTo>
                    <a:pt x="690" y="-345"/>
                    <a:pt x="233" y="15"/>
                    <a:pt x="119" y="1095"/>
                  </a:cubicBezTo>
                  <a:cubicBezTo>
                    <a:pt x="-110" y="2175"/>
                    <a:pt x="4" y="3255"/>
                    <a:pt x="347" y="3975"/>
                  </a:cubicBezTo>
                  <a:cubicBezTo>
                    <a:pt x="8461" y="18735"/>
                    <a:pt x="8461" y="18735"/>
                    <a:pt x="8461" y="18735"/>
                  </a:cubicBezTo>
                  <a:cubicBezTo>
                    <a:pt x="9833" y="21255"/>
                    <a:pt x="11547" y="21255"/>
                    <a:pt x="13033" y="18735"/>
                  </a:cubicBezTo>
                  <a:cubicBezTo>
                    <a:pt x="21033" y="3975"/>
                    <a:pt x="21033" y="3975"/>
                    <a:pt x="21033" y="3975"/>
                  </a:cubicBezTo>
                  <a:cubicBezTo>
                    <a:pt x="21376" y="3255"/>
                    <a:pt x="21490" y="2175"/>
                    <a:pt x="21376" y="1095"/>
                  </a:cubicBezTo>
                  <a:cubicBezTo>
                    <a:pt x="21147" y="375"/>
                    <a:pt x="20919" y="15"/>
                    <a:pt x="20690" y="15"/>
                  </a:cubicBezTo>
                  <a:close/>
                </a:path>
              </a:pathLst>
            </a:custGeom>
            <a:solidFill>
              <a:srgbClr val="ff8e6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Shape 2465"/>
            <p:cNvSpPr/>
            <p:nvPr/>
          </p:nvSpPr>
          <p:spPr>
            <a:xfrm>
              <a:off x="4700160" y="4230000"/>
              <a:ext cx="595440" cy="181800"/>
            </a:xfrm>
            <a:custGeom>
              <a:avLst/>
              <a:gdLst/>
              <a:ahLst/>
              <a:rect l="l" t="t" r="r" b="b"/>
              <a:pathLst>
                <a:path w="21419" h="20625">
                  <a:moveTo>
                    <a:pt x="20690" y="15"/>
                  </a:moveTo>
                  <a:cubicBezTo>
                    <a:pt x="20576" y="15"/>
                    <a:pt x="20461" y="375"/>
                    <a:pt x="20347" y="375"/>
                  </a:cubicBezTo>
                  <a:cubicBezTo>
                    <a:pt x="12347" y="15135"/>
                    <a:pt x="12347" y="15135"/>
                    <a:pt x="12347" y="15135"/>
                  </a:cubicBezTo>
                  <a:cubicBezTo>
                    <a:pt x="11319" y="16935"/>
                    <a:pt x="10061" y="16935"/>
                    <a:pt x="9147" y="15135"/>
                  </a:cubicBezTo>
                  <a:cubicBezTo>
                    <a:pt x="1033" y="375"/>
                    <a:pt x="1033" y="375"/>
                    <a:pt x="1033" y="375"/>
                  </a:cubicBezTo>
                  <a:cubicBezTo>
                    <a:pt x="690" y="-345"/>
                    <a:pt x="233" y="15"/>
                    <a:pt x="119" y="1095"/>
                  </a:cubicBezTo>
                  <a:cubicBezTo>
                    <a:pt x="-110" y="2175"/>
                    <a:pt x="4" y="3615"/>
                    <a:pt x="347" y="4335"/>
                  </a:cubicBezTo>
                  <a:cubicBezTo>
                    <a:pt x="8461" y="18735"/>
                    <a:pt x="8461" y="18735"/>
                    <a:pt x="8461" y="18735"/>
                  </a:cubicBezTo>
                  <a:cubicBezTo>
                    <a:pt x="9833" y="21255"/>
                    <a:pt x="11547" y="21255"/>
                    <a:pt x="13033" y="18735"/>
                  </a:cubicBezTo>
                  <a:cubicBezTo>
                    <a:pt x="21033" y="4335"/>
                    <a:pt x="21033" y="4335"/>
                    <a:pt x="21033" y="4335"/>
                  </a:cubicBezTo>
                  <a:cubicBezTo>
                    <a:pt x="21376" y="3615"/>
                    <a:pt x="21490" y="2175"/>
                    <a:pt x="21376" y="1095"/>
                  </a:cubicBezTo>
                  <a:cubicBezTo>
                    <a:pt x="21147" y="375"/>
                    <a:pt x="20919" y="15"/>
                    <a:pt x="20690" y="15"/>
                  </a:cubicBezTo>
                  <a:close/>
                </a:path>
              </a:pathLst>
            </a:custGeom>
            <a:solidFill>
              <a:srgbClr val="ff8e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Shape 2466"/>
            <p:cNvSpPr/>
            <p:nvPr/>
          </p:nvSpPr>
          <p:spPr>
            <a:xfrm>
              <a:off x="4700160" y="4374720"/>
              <a:ext cx="595440" cy="182880"/>
            </a:xfrm>
            <a:custGeom>
              <a:avLst/>
              <a:gdLst/>
              <a:ahLst/>
              <a:rect l="l" t="t" r="r" b="b"/>
              <a:pathLst>
                <a:path w="21419" h="20745">
                  <a:moveTo>
                    <a:pt x="20690" y="135"/>
                  </a:moveTo>
                  <a:cubicBezTo>
                    <a:pt x="20576" y="135"/>
                    <a:pt x="20461" y="135"/>
                    <a:pt x="20347" y="135"/>
                  </a:cubicBezTo>
                  <a:cubicBezTo>
                    <a:pt x="12347" y="14895"/>
                    <a:pt x="12347" y="14895"/>
                    <a:pt x="12347" y="14895"/>
                  </a:cubicBezTo>
                  <a:cubicBezTo>
                    <a:pt x="11319" y="16695"/>
                    <a:pt x="10061" y="16695"/>
                    <a:pt x="9147" y="14895"/>
                  </a:cubicBezTo>
                  <a:cubicBezTo>
                    <a:pt x="1033" y="135"/>
                    <a:pt x="1033" y="135"/>
                    <a:pt x="1033" y="135"/>
                  </a:cubicBezTo>
                  <a:cubicBezTo>
                    <a:pt x="690" y="-225"/>
                    <a:pt x="233" y="135"/>
                    <a:pt x="119" y="1215"/>
                  </a:cubicBezTo>
                  <a:cubicBezTo>
                    <a:pt x="-110" y="2295"/>
                    <a:pt x="4" y="3375"/>
                    <a:pt x="347" y="4095"/>
                  </a:cubicBezTo>
                  <a:cubicBezTo>
                    <a:pt x="8461" y="18855"/>
                    <a:pt x="8461" y="18855"/>
                    <a:pt x="8461" y="18855"/>
                  </a:cubicBezTo>
                  <a:cubicBezTo>
                    <a:pt x="9833" y="21375"/>
                    <a:pt x="11547" y="21375"/>
                    <a:pt x="13033" y="18855"/>
                  </a:cubicBezTo>
                  <a:cubicBezTo>
                    <a:pt x="21033" y="4095"/>
                    <a:pt x="21033" y="4095"/>
                    <a:pt x="21033" y="4095"/>
                  </a:cubicBezTo>
                  <a:cubicBezTo>
                    <a:pt x="21376" y="3375"/>
                    <a:pt x="21490" y="2295"/>
                    <a:pt x="21376" y="1215"/>
                  </a:cubicBezTo>
                  <a:cubicBezTo>
                    <a:pt x="21147" y="495"/>
                    <a:pt x="20919" y="135"/>
                    <a:pt x="20690" y="135"/>
                  </a:cubicBezTo>
                  <a:close/>
                </a:path>
              </a:pathLst>
            </a:custGeom>
            <a:solidFill>
              <a:srgbClr val="ff8e6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2" name="Group 82"/>
          <p:cNvGrpSpPr/>
          <p:nvPr/>
        </p:nvGrpSpPr>
        <p:grpSpPr>
          <a:xfrm>
            <a:off x="6076800" y="1954080"/>
            <a:ext cx="1621080" cy="2603520"/>
            <a:chOff x="6076800" y="1954080"/>
            <a:chExt cx="1621080" cy="2603520"/>
          </a:xfrm>
        </p:grpSpPr>
        <p:sp>
          <p:nvSpPr>
            <p:cNvPr id="923" name="Shape 2449"/>
            <p:cNvSpPr/>
            <p:nvPr/>
          </p:nvSpPr>
          <p:spPr>
            <a:xfrm>
              <a:off x="6350760" y="1954080"/>
              <a:ext cx="873360" cy="923400"/>
            </a:xfrm>
            <a:custGeom>
              <a:avLst/>
              <a:gdLst/>
              <a:ahLst/>
              <a:rect l="l" t="t" r="r" b="b"/>
              <a:pathLst>
                <a:path w="21522" h="20601">
                  <a:moveTo>
                    <a:pt x="21209" y="13590"/>
                  </a:moveTo>
                  <a:cubicBezTo>
                    <a:pt x="20896" y="14511"/>
                    <a:pt x="19800" y="14935"/>
                    <a:pt x="18783" y="14581"/>
                  </a:cubicBezTo>
                  <a:cubicBezTo>
                    <a:pt x="18313" y="14440"/>
                    <a:pt x="17922" y="14015"/>
                    <a:pt x="17687" y="13590"/>
                  </a:cubicBezTo>
                  <a:cubicBezTo>
                    <a:pt x="17609" y="13307"/>
                    <a:pt x="17374" y="13094"/>
                    <a:pt x="17061" y="12952"/>
                  </a:cubicBezTo>
                  <a:cubicBezTo>
                    <a:pt x="16748" y="12882"/>
                    <a:pt x="16357" y="13023"/>
                    <a:pt x="16278" y="13307"/>
                  </a:cubicBezTo>
                  <a:cubicBezTo>
                    <a:pt x="13148" y="20601"/>
                    <a:pt x="13148" y="20601"/>
                    <a:pt x="13148" y="20601"/>
                  </a:cubicBezTo>
                  <a:cubicBezTo>
                    <a:pt x="7904" y="14794"/>
                    <a:pt x="7904" y="14794"/>
                    <a:pt x="7904" y="14794"/>
                  </a:cubicBezTo>
                  <a:cubicBezTo>
                    <a:pt x="7904" y="14794"/>
                    <a:pt x="7904" y="14794"/>
                    <a:pt x="7983" y="14794"/>
                  </a:cubicBezTo>
                  <a:cubicBezTo>
                    <a:pt x="8687" y="14865"/>
                    <a:pt x="9470" y="14723"/>
                    <a:pt x="10096" y="14227"/>
                  </a:cubicBezTo>
                  <a:cubicBezTo>
                    <a:pt x="11270" y="13377"/>
                    <a:pt x="11426" y="11819"/>
                    <a:pt x="10487" y="10828"/>
                  </a:cubicBezTo>
                  <a:cubicBezTo>
                    <a:pt x="9548" y="9766"/>
                    <a:pt x="7826" y="9624"/>
                    <a:pt x="6652" y="10474"/>
                  </a:cubicBezTo>
                  <a:cubicBezTo>
                    <a:pt x="6104" y="10899"/>
                    <a:pt x="5713" y="11536"/>
                    <a:pt x="5713" y="12244"/>
                  </a:cubicBezTo>
                  <a:cubicBezTo>
                    <a:pt x="5713" y="12315"/>
                    <a:pt x="5713" y="12315"/>
                    <a:pt x="5713" y="12315"/>
                  </a:cubicBezTo>
                  <a:cubicBezTo>
                    <a:pt x="0" y="6083"/>
                    <a:pt x="0" y="6083"/>
                    <a:pt x="0" y="6083"/>
                  </a:cubicBezTo>
                  <a:cubicBezTo>
                    <a:pt x="1252" y="4525"/>
                    <a:pt x="2739" y="3321"/>
                    <a:pt x="3835" y="2542"/>
                  </a:cubicBezTo>
                  <a:cubicBezTo>
                    <a:pt x="6574" y="701"/>
                    <a:pt x="14635" y="-999"/>
                    <a:pt x="21522" y="701"/>
                  </a:cubicBezTo>
                  <a:cubicBezTo>
                    <a:pt x="17296" y="10828"/>
                    <a:pt x="17296" y="10828"/>
                    <a:pt x="17296" y="10828"/>
                  </a:cubicBezTo>
                  <a:cubicBezTo>
                    <a:pt x="17296" y="10828"/>
                    <a:pt x="17296" y="10828"/>
                    <a:pt x="17296" y="10828"/>
                  </a:cubicBezTo>
                  <a:cubicBezTo>
                    <a:pt x="17139" y="11111"/>
                    <a:pt x="17296" y="11465"/>
                    <a:pt x="17609" y="11536"/>
                  </a:cubicBezTo>
                  <a:cubicBezTo>
                    <a:pt x="17922" y="11678"/>
                    <a:pt x="18313" y="11678"/>
                    <a:pt x="18626" y="11536"/>
                  </a:cubicBezTo>
                  <a:cubicBezTo>
                    <a:pt x="19017" y="11253"/>
                    <a:pt x="19643" y="11253"/>
                    <a:pt x="20113" y="11394"/>
                  </a:cubicBezTo>
                  <a:cubicBezTo>
                    <a:pt x="21130" y="11749"/>
                    <a:pt x="21600" y="12740"/>
                    <a:pt x="21209" y="13590"/>
                  </a:cubicBezTo>
                  <a:close/>
                </a:path>
              </a:pathLst>
            </a:custGeom>
            <a:solidFill>
              <a:srgbClr val="56687c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Shape 2450"/>
            <p:cNvSpPr/>
            <p:nvPr/>
          </p:nvSpPr>
          <p:spPr>
            <a:xfrm>
              <a:off x="6916320" y="1994760"/>
              <a:ext cx="781560" cy="1023120"/>
            </a:xfrm>
            <a:custGeom>
              <a:avLst/>
              <a:gdLst/>
              <a:ahLst/>
              <a:rect l="l" t="t" r="r" b="b"/>
              <a:pathLst>
                <a:path w="21441" h="21485">
                  <a:moveTo>
                    <a:pt x="21426" y="13667"/>
                  </a:moveTo>
                  <a:cubicBezTo>
                    <a:pt x="21339" y="14533"/>
                    <a:pt x="21252" y="15400"/>
                    <a:pt x="21077" y="16133"/>
                  </a:cubicBezTo>
                  <a:cubicBezTo>
                    <a:pt x="12716" y="17200"/>
                    <a:pt x="12716" y="17200"/>
                    <a:pt x="12716" y="17200"/>
                  </a:cubicBezTo>
                  <a:cubicBezTo>
                    <a:pt x="12368" y="17267"/>
                    <a:pt x="12106" y="17533"/>
                    <a:pt x="12194" y="17800"/>
                  </a:cubicBezTo>
                  <a:cubicBezTo>
                    <a:pt x="12194" y="18133"/>
                    <a:pt x="12455" y="18333"/>
                    <a:pt x="12716" y="18533"/>
                  </a:cubicBezTo>
                  <a:cubicBezTo>
                    <a:pt x="13239" y="18733"/>
                    <a:pt x="13587" y="19133"/>
                    <a:pt x="13674" y="19600"/>
                  </a:cubicBezTo>
                  <a:cubicBezTo>
                    <a:pt x="13935" y="20467"/>
                    <a:pt x="13152" y="21267"/>
                    <a:pt x="12019" y="21467"/>
                  </a:cubicBezTo>
                  <a:cubicBezTo>
                    <a:pt x="10887" y="21600"/>
                    <a:pt x="9755" y="21000"/>
                    <a:pt x="9581" y="20133"/>
                  </a:cubicBezTo>
                  <a:cubicBezTo>
                    <a:pt x="9494" y="19667"/>
                    <a:pt x="9668" y="19200"/>
                    <a:pt x="10016" y="18867"/>
                  </a:cubicBezTo>
                  <a:cubicBezTo>
                    <a:pt x="10277" y="18600"/>
                    <a:pt x="10365" y="18333"/>
                    <a:pt x="10365" y="18067"/>
                  </a:cubicBezTo>
                  <a:cubicBezTo>
                    <a:pt x="10277" y="17733"/>
                    <a:pt x="9929" y="17600"/>
                    <a:pt x="9581" y="17600"/>
                  </a:cubicBezTo>
                  <a:cubicBezTo>
                    <a:pt x="9581" y="17600"/>
                    <a:pt x="9581" y="17600"/>
                    <a:pt x="9494" y="17600"/>
                  </a:cubicBezTo>
                  <a:cubicBezTo>
                    <a:pt x="0" y="18800"/>
                    <a:pt x="0" y="18800"/>
                    <a:pt x="0" y="18800"/>
                  </a:cubicBezTo>
                  <a:cubicBezTo>
                    <a:pt x="3310" y="12133"/>
                    <a:pt x="3310" y="12133"/>
                    <a:pt x="3310" y="12133"/>
                  </a:cubicBezTo>
                  <a:cubicBezTo>
                    <a:pt x="3310" y="12133"/>
                    <a:pt x="3310" y="12200"/>
                    <a:pt x="3397" y="12200"/>
                  </a:cubicBezTo>
                  <a:cubicBezTo>
                    <a:pt x="3658" y="12800"/>
                    <a:pt x="4268" y="13267"/>
                    <a:pt x="5139" y="13533"/>
                  </a:cubicBezTo>
                  <a:cubicBezTo>
                    <a:pt x="6706" y="14000"/>
                    <a:pt x="8361" y="13400"/>
                    <a:pt x="8971" y="12200"/>
                  </a:cubicBezTo>
                  <a:cubicBezTo>
                    <a:pt x="9581" y="11000"/>
                    <a:pt x="8797" y="9667"/>
                    <a:pt x="7229" y="9200"/>
                  </a:cubicBezTo>
                  <a:cubicBezTo>
                    <a:pt x="6445" y="9000"/>
                    <a:pt x="5487" y="9067"/>
                    <a:pt x="4790" y="9333"/>
                  </a:cubicBezTo>
                  <a:cubicBezTo>
                    <a:pt x="4703" y="9333"/>
                    <a:pt x="4703" y="9333"/>
                    <a:pt x="4703" y="9400"/>
                  </a:cubicBezTo>
                  <a:cubicBezTo>
                    <a:pt x="9319" y="0"/>
                    <a:pt x="9319" y="0"/>
                    <a:pt x="9319" y="0"/>
                  </a:cubicBezTo>
                  <a:cubicBezTo>
                    <a:pt x="10277" y="267"/>
                    <a:pt x="11235" y="533"/>
                    <a:pt x="12194" y="933"/>
                  </a:cubicBezTo>
                  <a:cubicBezTo>
                    <a:pt x="20381" y="4200"/>
                    <a:pt x="21600" y="8733"/>
                    <a:pt x="21426" y="13667"/>
                  </a:cubicBezTo>
                  <a:close/>
                </a:path>
              </a:pathLst>
            </a:custGeom>
            <a:solidFill>
              <a:srgbClr val="56687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Shape 2451"/>
            <p:cNvSpPr/>
            <p:nvPr/>
          </p:nvSpPr>
          <p:spPr>
            <a:xfrm>
              <a:off x="6099840" y="2255040"/>
              <a:ext cx="758880" cy="76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110" y="19636"/>
                  </a:moveTo>
                  <a:cubicBezTo>
                    <a:pt x="12743" y="18922"/>
                    <a:pt x="12924" y="18030"/>
                    <a:pt x="12833" y="17137"/>
                  </a:cubicBezTo>
                  <a:cubicBezTo>
                    <a:pt x="12562" y="15441"/>
                    <a:pt x="10936" y="14281"/>
                    <a:pt x="9218" y="14638"/>
                  </a:cubicBezTo>
                  <a:cubicBezTo>
                    <a:pt x="7501" y="14906"/>
                    <a:pt x="6326" y="16423"/>
                    <a:pt x="6597" y="18119"/>
                  </a:cubicBezTo>
                  <a:cubicBezTo>
                    <a:pt x="6778" y="19012"/>
                    <a:pt x="7321" y="19815"/>
                    <a:pt x="8044" y="20261"/>
                  </a:cubicBezTo>
                  <a:cubicBezTo>
                    <a:pt x="8134" y="20261"/>
                    <a:pt x="8134" y="20261"/>
                    <a:pt x="8134" y="20261"/>
                  </a:cubicBezTo>
                  <a:cubicBezTo>
                    <a:pt x="0" y="21600"/>
                    <a:pt x="0" y="21600"/>
                    <a:pt x="0" y="21600"/>
                  </a:cubicBezTo>
                  <a:cubicBezTo>
                    <a:pt x="271" y="21154"/>
                    <a:pt x="542" y="20618"/>
                    <a:pt x="904" y="20083"/>
                  </a:cubicBezTo>
                  <a:cubicBezTo>
                    <a:pt x="1265" y="19547"/>
                    <a:pt x="3254" y="16512"/>
                    <a:pt x="4248" y="14995"/>
                  </a:cubicBezTo>
                  <a:cubicBezTo>
                    <a:pt x="4609" y="14460"/>
                    <a:pt x="4700" y="13835"/>
                    <a:pt x="4519" y="13299"/>
                  </a:cubicBezTo>
                  <a:cubicBezTo>
                    <a:pt x="2802" y="7944"/>
                    <a:pt x="4338" y="3392"/>
                    <a:pt x="6597" y="0"/>
                  </a:cubicBezTo>
                  <a:cubicBezTo>
                    <a:pt x="13195" y="7944"/>
                    <a:pt x="13195" y="7944"/>
                    <a:pt x="13195" y="7944"/>
                  </a:cubicBezTo>
                  <a:cubicBezTo>
                    <a:pt x="13376" y="8212"/>
                    <a:pt x="13828" y="8301"/>
                    <a:pt x="14189" y="8033"/>
                  </a:cubicBezTo>
                  <a:cubicBezTo>
                    <a:pt x="14460" y="7765"/>
                    <a:pt x="14641" y="7408"/>
                    <a:pt x="14641" y="7051"/>
                  </a:cubicBezTo>
                  <a:cubicBezTo>
                    <a:pt x="14731" y="6426"/>
                    <a:pt x="15003" y="5891"/>
                    <a:pt x="15454" y="5445"/>
                  </a:cubicBezTo>
                  <a:cubicBezTo>
                    <a:pt x="16358" y="4731"/>
                    <a:pt x="17714" y="4820"/>
                    <a:pt x="18527" y="5712"/>
                  </a:cubicBezTo>
                  <a:cubicBezTo>
                    <a:pt x="19250" y="6694"/>
                    <a:pt x="19160" y="8033"/>
                    <a:pt x="18166" y="8747"/>
                  </a:cubicBezTo>
                  <a:cubicBezTo>
                    <a:pt x="17714" y="9193"/>
                    <a:pt x="17081" y="9283"/>
                    <a:pt x="16449" y="9193"/>
                  </a:cubicBezTo>
                  <a:cubicBezTo>
                    <a:pt x="16087" y="9104"/>
                    <a:pt x="15726" y="9283"/>
                    <a:pt x="15364" y="9461"/>
                  </a:cubicBezTo>
                  <a:cubicBezTo>
                    <a:pt x="15093" y="9729"/>
                    <a:pt x="15003" y="10175"/>
                    <a:pt x="15274" y="10443"/>
                  </a:cubicBezTo>
                  <a:cubicBezTo>
                    <a:pt x="21600" y="18119"/>
                    <a:pt x="21600" y="18119"/>
                    <a:pt x="21600" y="18119"/>
                  </a:cubicBezTo>
                  <a:cubicBezTo>
                    <a:pt x="12110" y="19636"/>
                    <a:pt x="12110" y="19636"/>
                    <a:pt x="12110" y="19636"/>
                  </a:cubicBezTo>
                  <a:cubicBezTo>
                    <a:pt x="12110" y="19636"/>
                    <a:pt x="12110" y="19636"/>
                    <a:pt x="12110" y="19636"/>
                  </a:cubicBezTo>
                  <a:close/>
                </a:path>
              </a:pathLst>
            </a:custGeom>
            <a:solidFill>
              <a:srgbClr val="56687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Shape 2452"/>
            <p:cNvSpPr/>
            <p:nvPr/>
          </p:nvSpPr>
          <p:spPr>
            <a:xfrm>
              <a:off x="6076800" y="2806560"/>
              <a:ext cx="788400" cy="852480"/>
            </a:xfrm>
            <a:custGeom>
              <a:avLst/>
              <a:gdLst/>
              <a:ahLst/>
              <a:rect l="l" t="t" r="r" b="b"/>
              <a:pathLst>
                <a:path w="21371" h="21094">
                  <a:moveTo>
                    <a:pt x="21371" y="3085"/>
                  </a:moveTo>
                  <a:cubicBezTo>
                    <a:pt x="18101" y="10940"/>
                    <a:pt x="18101" y="10940"/>
                    <a:pt x="18101" y="10940"/>
                  </a:cubicBezTo>
                  <a:cubicBezTo>
                    <a:pt x="18101" y="10940"/>
                    <a:pt x="18101" y="10940"/>
                    <a:pt x="18101" y="10940"/>
                  </a:cubicBezTo>
                  <a:cubicBezTo>
                    <a:pt x="17757" y="10154"/>
                    <a:pt x="17154" y="9605"/>
                    <a:pt x="16380" y="9290"/>
                  </a:cubicBezTo>
                  <a:cubicBezTo>
                    <a:pt x="14831" y="8819"/>
                    <a:pt x="13110" y="9526"/>
                    <a:pt x="12507" y="10940"/>
                  </a:cubicBezTo>
                  <a:cubicBezTo>
                    <a:pt x="11905" y="12275"/>
                    <a:pt x="12679" y="13846"/>
                    <a:pt x="14228" y="14396"/>
                  </a:cubicBezTo>
                  <a:cubicBezTo>
                    <a:pt x="15089" y="14710"/>
                    <a:pt x="15949" y="14632"/>
                    <a:pt x="16724" y="14239"/>
                  </a:cubicBezTo>
                  <a:cubicBezTo>
                    <a:pt x="16724" y="14239"/>
                    <a:pt x="16724" y="14239"/>
                    <a:pt x="16810" y="14239"/>
                  </a:cubicBezTo>
                  <a:cubicBezTo>
                    <a:pt x="14228" y="20365"/>
                    <a:pt x="14228" y="20365"/>
                    <a:pt x="14228" y="20365"/>
                  </a:cubicBezTo>
                  <a:cubicBezTo>
                    <a:pt x="9495" y="21465"/>
                    <a:pt x="6742" y="20994"/>
                    <a:pt x="6742" y="20994"/>
                  </a:cubicBezTo>
                  <a:cubicBezTo>
                    <a:pt x="5020" y="20837"/>
                    <a:pt x="3988" y="19030"/>
                    <a:pt x="4160" y="17852"/>
                  </a:cubicBezTo>
                  <a:cubicBezTo>
                    <a:pt x="4418" y="16595"/>
                    <a:pt x="4504" y="16045"/>
                    <a:pt x="3730" y="15496"/>
                  </a:cubicBezTo>
                  <a:cubicBezTo>
                    <a:pt x="3041" y="15024"/>
                    <a:pt x="3041" y="14396"/>
                    <a:pt x="3385" y="14160"/>
                  </a:cubicBezTo>
                  <a:cubicBezTo>
                    <a:pt x="3730" y="13925"/>
                    <a:pt x="4934" y="13453"/>
                    <a:pt x="4934" y="13453"/>
                  </a:cubicBezTo>
                  <a:cubicBezTo>
                    <a:pt x="4934" y="13453"/>
                    <a:pt x="4074" y="12904"/>
                    <a:pt x="3557" y="12746"/>
                  </a:cubicBezTo>
                  <a:cubicBezTo>
                    <a:pt x="3041" y="12511"/>
                    <a:pt x="2783" y="11725"/>
                    <a:pt x="3041" y="11254"/>
                  </a:cubicBezTo>
                  <a:cubicBezTo>
                    <a:pt x="3299" y="10783"/>
                    <a:pt x="3385" y="9605"/>
                    <a:pt x="3385" y="9605"/>
                  </a:cubicBezTo>
                  <a:cubicBezTo>
                    <a:pt x="3385" y="9605"/>
                    <a:pt x="2267" y="9055"/>
                    <a:pt x="976" y="8426"/>
                  </a:cubicBezTo>
                  <a:cubicBezTo>
                    <a:pt x="29" y="8034"/>
                    <a:pt x="-229" y="7405"/>
                    <a:pt x="201" y="6306"/>
                  </a:cubicBezTo>
                  <a:cubicBezTo>
                    <a:pt x="8807" y="4970"/>
                    <a:pt x="8807" y="4970"/>
                    <a:pt x="8807" y="4970"/>
                  </a:cubicBezTo>
                  <a:cubicBezTo>
                    <a:pt x="9237" y="4970"/>
                    <a:pt x="9409" y="4656"/>
                    <a:pt x="9409" y="4264"/>
                  </a:cubicBezTo>
                  <a:cubicBezTo>
                    <a:pt x="9323" y="3949"/>
                    <a:pt x="9151" y="3635"/>
                    <a:pt x="8807" y="3478"/>
                  </a:cubicBezTo>
                  <a:cubicBezTo>
                    <a:pt x="8291" y="3164"/>
                    <a:pt x="7946" y="2771"/>
                    <a:pt x="7860" y="2143"/>
                  </a:cubicBezTo>
                  <a:cubicBezTo>
                    <a:pt x="7688" y="1122"/>
                    <a:pt x="8463" y="179"/>
                    <a:pt x="9581" y="22"/>
                  </a:cubicBezTo>
                  <a:cubicBezTo>
                    <a:pt x="10700" y="-135"/>
                    <a:pt x="11733" y="572"/>
                    <a:pt x="11905" y="1593"/>
                  </a:cubicBezTo>
                  <a:cubicBezTo>
                    <a:pt x="11991" y="2143"/>
                    <a:pt x="11819" y="2693"/>
                    <a:pt x="11475" y="3085"/>
                  </a:cubicBezTo>
                  <a:cubicBezTo>
                    <a:pt x="11216" y="3321"/>
                    <a:pt x="11130" y="3714"/>
                    <a:pt x="11216" y="4028"/>
                  </a:cubicBezTo>
                  <a:cubicBezTo>
                    <a:pt x="11216" y="4342"/>
                    <a:pt x="11647" y="4578"/>
                    <a:pt x="11991" y="4499"/>
                  </a:cubicBezTo>
                  <a:lnTo>
                    <a:pt x="21371" y="3085"/>
                  </a:lnTo>
                  <a:close/>
                </a:path>
              </a:pathLst>
            </a:custGeom>
            <a:solidFill>
              <a:srgbClr val="56687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Shape 2453"/>
            <p:cNvSpPr/>
            <p:nvPr/>
          </p:nvSpPr>
          <p:spPr>
            <a:xfrm>
              <a:off x="6564960" y="2944080"/>
              <a:ext cx="891000" cy="1000080"/>
            </a:xfrm>
            <a:custGeom>
              <a:avLst/>
              <a:gdLst/>
              <a:ahLst/>
              <a:rect l="l" t="t" r="r" b="b"/>
              <a:pathLst>
                <a:path w="21344" h="21600">
                  <a:moveTo>
                    <a:pt x="21344" y="14743"/>
                  </a:moveTo>
                  <a:cubicBezTo>
                    <a:pt x="21344" y="17006"/>
                    <a:pt x="21344" y="19680"/>
                    <a:pt x="21344" y="19680"/>
                  </a:cubicBezTo>
                  <a:cubicBezTo>
                    <a:pt x="21344" y="19680"/>
                    <a:pt x="18302" y="21600"/>
                    <a:pt x="11152" y="21600"/>
                  </a:cubicBezTo>
                  <a:cubicBezTo>
                    <a:pt x="4003" y="21600"/>
                    <a:pt x="1037" y="19680"/>
                    <a:pt x="1037" y="19680"/>
                  </a:cubicBezTo>
                  <a:cubicBezTo>
                    <a:pt x="1037" y="16526"/>
                    <a:pt x="1037" y="16526"/>
                    <a:pt x="1037" y="16526"/>
                  </a:cubicBezTo>
                  <a:cubicBezTo>
                    <a:pt x="4003" y="9463"/>
                    <a:pt x="4003" y="9463"/>
                    <a:pt x="4003" y="9463"/>
                  </a:cubicBezTo>
                  <a:cubicBezTo>
                    <a:pt x="4079" y="9189"/>
                    <a:pt x="3927" y="8914"/>
                    <a:pt x="3623" y="8777"/>
                  </a:cubicBezTo>
                  <a:cubicBezTo>
                    <a:pt x="3319" y="8709"/>
                    <a:pt x="3014" y="8709"/>
                    <a:pt x="2710" y="8846"/>
                  </a:cubicBezTo>
                  <a:cubicBezTo>
                    <a:pt x="2254" y="9051"/>
                    <a:pt x="1721" y="9120"/>
                    <a:pt x="1189" y="8914"/>
                  </a:cubicBezTo>
                  <a:cubicBezTo>
                    <a:pt x="276" y="8640"/>
                    <a:pt x="-256" y="7680"/>
                    <a:pt x="124" y="6789"/>
                  </a:cubicBezTo>
                  <a:cubicBezTo>
                    <a:pt x="505" y="5966"/>
                    <a:pt x="1493" y="5554"/>
                    <a:pt x="2482" y="5829"/>
                  </a:cubicBezTo>
                  <a:cubicBezTo>
                    <a:pt x="3014" y="6034"/>
                    <a:pt x="3395" y="6377"/>
                    <a:pt x="3547" y="6789"/>
                  </a:cubicBezTo>
                  <a:cubicBezTo>
                    <a:pt x="3623" y="7063"/>
                    <a:pt x="3927" y="7337"/>
                    <a:pt x="4231" y="7406"/>
                  </a:cubicBezTo>
                  <a:cubicBezTo>
                    <a:pt x="4536" y="7543"/>
                    <a:pt x="4840" y="7406"/>
                    <a:pt x="4992" y="7131"/>
                  </a:cubicBezTo>
                  <a:cubicBezTo>
                    <a:pt x="7958" y="0"/>
                    <a:pt x="7958" y="0"/>
                    <a:pt x="7958" y="0"/>
                  </a:cubicBezTo>
                  <a:cubicBezTo>
                    <a:pt x="13130" y="5691"/>
                    <a:pt x="13130" y="5691"/>
                    <a:pt x="13130" y="5691"/>
                  </a:cubicBezTo>
                  <a:cubicBezTo>
                    <a:pt x="13054" y="5691"/>
                    <a:pt x="13054" y="5691"/>
                    <a:pt x="13054" y="5691"/>
                  </a:cubicBezTo>
                  <a:cubicBezTo>
                    <a:pt x="12293" y="5554"/>
                    <a:pt x="11533" y="5760"/>
                    <a:pt x="10924" y="6171"/>
                  </a:cubicBezTo>
                  <a:cubicBezTo>
                    <a:pt x="9783" y="6994"/>
                    <a:pt x="9631" y="8503"/>
                    <a:pt x="10544" y="9531"/>
                  </a:cubicBezTo>
                  <a:cubicBezTo>
                    <a:pt x="11457" y="10560"/>
                    <a:pt x="13130" y="10697"/>
                    <a:pt x="14271" y="9874"/>
                  </a:cubicBezTo>
                  <a:cubicBezTo>
                    <a:pt x="14879" y="9394"/>
                    <a:pt x="15183" y="8777"/>
                    <a:pt x="15259" y="8091"/>
                  </a:cubicBezTo>
                  <a:cubicBezTo>
                    <a:pt x="15259" y="8091"/>
                    <a:pt x="15259" y="8023"/>
                    <a:pt x="15259" y="8023"/>
                  </a:cubicBezTo>
                  <a:lnTo>
                    <a:pt x="21344" y="14743"/>
                  </a:lnTo>
                  <a:close/>
                </a:path>
              </a:pathLst>
            </a:custGeom>
            <a:solidFill>
              <a:srgbClr val="56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Shape 2454"/>
            <p:cNvSpPr/>
            <p:nvPr/>
          </p:nvSpPr>
          <p:spPr>
            <a:xfrm>
              <a:off x="6922440" y="2801160"/>
              <a:ext cx="752400" cy="771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597" y="4089"/>
                    <a:pt x="18501" y="6844"/>
                    <a:pt x="17316" y="8978"/>
                  </a:cubicBezTo>
                  <a:cubicBezTo>
                    <a:pt x="15858" y="11822"/>
                    <a:pt x="15311" y="17333"/>
                    <a:pt x="15311" y="19822"/>
                  </a:cubicBezTo>
                  <a:cubicBezTo>
                    <a:pt x="15311" y="21600"/>
                    <a:pt x="15311" y="21600"/>
                    <a:pt x="15311" y="21600"/>
                  </a:cubicBezTo>
                  <a:cubicBezTo>
                    <a:pt x="8567" y="13600"/>
                    <a:pt x="8567" y="13600"/>
                    <a:pt x="8567" y="13600"/>
                  </a:cubicBezTo>
                  <a:cubicBezTo>
                    <a:pt x="8294" y="13244"/>
                    <a:pt x="7838" y="13244"/>
                    <a:pt x="7473" y="13511"/>
                  </a:cubicBezTo>
                  <a:cubicBezTo>
                    <a:pt x="7200" y="13689"/>
                    <a:pt x="7018" y="14044"/>
                    <a:pt x="7018" y="14489"/>
                  </a:cubicBezTo>
                  <a:cubicBezTo>
                    <a:pt x="7018" y="15022"/>
                    <a:pt x="6744" y="15644"/>
                    <a:pt x="6197" y="16089"/>
                  </a:cubicBezTo>
                  <a:cubicBezTo>
                    <a:pt x="5286" y="16800"/>
                    <a:pt x="3919" y="16622"/>
                    <a:pt x="3099" y="15733"/>
                  </a:cubicBezTo>
                  <a:cubicBezTo>
                    <a:pt x="2370" y="14844"/>
                    <a:pt x="2552" y="13511"/>
                    <a:pt x="3463" y="12711"/>
                  </a:cubicBezTo>
                  <a:cubicBezTo>
                    <a:pt x="3919" y="12356"/>
                    <a:pt x="4557" y="12178"/>
                    <a:pt x="5195" y="12267"/>
                  </a:cubicBezTo>
                  <a:cubicBezTo>
                    <a:pt x="5559" y="12356"/>
                    <a:pt x="6015" y="12267"/>
                    <a:pt x="6289" y="12000"/>
                  </a:cubicBezTo>
                  <a:cubicBezTo>
                    <a:pt x="6562" y="11733"/>
                    <a:pt x="6653" y="11289"/>
                    <a:pt x="6380" y="11022"/>
                  </a:cubicBezTo>
                  <a:cubicBezTo>
                    <a:pt x="0" y="3378"/>
                    <a:pt x="0" y="3378"/>
                    <a:pt x="0" y="3378"/>
                  </a:cubicBezTo>
                  <a:cubicBezTo>
                    <a:pt x="9661" y="1867"/>
                    <a:pt x="9661" y="1867"/>
                    <a:pt x="9661" y="1867"/>
                  </a:cubicBezTo>
                  <a:cubicBezTo>
                    <a:pt x="9570" y="1867"/>
                    <a:pt x="9570" y="1956"/>
                    <a:pt x="9570" y="1956"/>
                  </a:cubicBezTo>
                  <a:cubicBezTo>
                    <a:pt x="9023" y="2667"/>
                    <a:pt x="8749" y="3556"/>
                    <a:pt x="8932" y="4356"/>
                  </a:cubicBezTo>
                  <a:cubicBezTo>
                    <a:pt x="9205" y="6044"/>
                    <a:pt x="10846" y="7200"/>
                    <a:pt x="12486" y="6933"/>
                  </a:cubicBezTo>
                  <a:cubicBezTo>
                    <a:pt x="14218" y="6667"/>
                    <a:pt x="15403" y="5067"/>
                    <a:pt x="15129" y="3378"/>
                  </a:cubicBezTo>
                  <a:cubicBezTo>
                    <a:pt x="14947" y="2489"/>
                    <a:pt x="14400" y="1778"/>
                    <a:pt x="13671" y="1333"/>
                  </a:cubicBezTo>
                  <a:cubicBezTo>
                    <a:pt x="13671" y="1244"/>
                    <a:pt x="13580" y="1244"/>
                    <a:pt x="13580" y="1244"/>
                  </a:cubicBezTo>
                  <a:lnTo>
                    <a:pt x="21600" y="0"/>
                  </a:lnTo>
                  <a:close/>
                </a:path>
              </a:pathLst>
            </a:custGeom>
            <a:solidFill>
              <a:srgbClr val="56687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Shape 2467"/>
            <p:cNvSpPr/>
            <p:nvPr/>
          </p:nvSpPr>
          <p:spPr>
            <a:xfrm>
              <a:off x="6733800" y="4087080"/>
              <a:ext cx="595080" cy="181800"/>
            </a:xfrm>
            <a:custGeom>
              <a:avLst/>
              <a:gdLst/>
              <a:ahLst/>
              <a:rect l="l" t="t" r="r" b="b"/>
              <a:pathLst>
                <a:path w="21419" h="20625">
                  <a:moveTo>
                    <a:pt x="20729" y="15"/>
                  </a:moveTo>
                  <a:cubicBezTo>
                    <a:pt x="20615" y="15"/>
                    <a:pt x="20500" y="15"/>
                    <a:pt x="20386" y="375"/>
                  </a:cubicBezTo>
                  <a:cubicBezTo>
                    <a:pt x="12272" y="15135"/>
                    <a:pt x="12272" y="15135"/>
                    <a:pt x="12272" y="15135"/>
                  </a:cubicBezTo>
                  <a:cubicBezTo>
                    <a:pt x="11358" y="16935"/>
                    <a:pt x="10100" y="16935"/>
                    <a:pt x="9072" y="15135"/>
                  </a:cubicBezTo>
                  <a:cubicBezTo>
                    <a:pt x="1072" y="375"/>
                    <a:pt x="1072" y="375"/>
                    <a:pt x="1072" y="375"/>
                  </a:cubicBezTo>
                  <a:cubicBezTo>
                    <a:pt x="729" y="-345"/>
                    <a:pt x="272" y="15"/>
                    <a:pt x="43" y="1095"/>
                  </a:cubicBezTo>
                  <a:cubicBezTo>
                    <a:pt x="-71" y="2175"/>
                    <a:pt x="43" y="3255"/>
                    <a:pt x="386" y="3975"/>
                  </a:cubicBezTo>
                  <a:cubicBezTo>
                    <a:pt x="8386" y="18735"/>
                    <a:pt x="8386" y="18735"/>
                    <a:pt x="8386" y="18735"/>
                  </a:cubicBezTo>
                  <a:cubicBezTo>
                    <a:pt x="9872" y="21255"/>
                    <a:pt x="11586" y="21255"/>
                    <a:pt x="12958" y="18735"/>
                  </a:cubicBezTo>
                  <a:cubicBezTo>
                    <a:pt x="21072" y="3975"/>
                    <a:pt x="21072" y="3975"/>
                    <a:pt x="21072" y="3975"/>
                  </a:cubicBezTo>
                  <a:cubicBezTo>
                    <a:pt x="21415" y="3255"/>
                    <a:pt x="21529" y="2175"/>
                    <a:pt x="21300" y="1095"/>
                  </a:cubicBezTo>
                  <a:cubicBezTo>
                    <a:pt x="21186" y="375"/>
                    <a:pt x="20958" y="15"/>
                    <a:pt x="20729" y="15"/>
                  </a:cubicBezTo>
                  <a:close/>
                </a:path>
              </a:pathLst>
            </a:custGeom>
            <a:solidFill>
              <a:srgbClr val="5668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Shape 2468"/>
            <p:cNvSpPr/>
            <p:nvPr/>
          </p:nvSpPr>
          <p:spPr>
            <a:xfrm>
              <a:off x="6733800" y="4230000"/>
              <a:ext cx="595080" cy="181800"/>
            </a:xfrm>
            <a:custGeom>
              <a:avLst/>
              <a:gdLst/>
              <a:ahLst/>
              <a:rect l="l" t="t" r="r" b="b"/>
              <a:pathLst>
                <a:path w="21419" h="20625">
                  <a:moveTo>
                    <a:pt x="20729" y="15"/>
                  </a:moveTo>
                  <a:cubicBezTo>
                    <a:pt x="20615" y="15"/>
                    <a:pt x="20500" y="375"/>
                    <a:pt x="20386" y="375"/>
                  </a:cubicBezTo>
                  <a:cubicBezTo>
                    <a:pt x="12272" y="15135"/>
                    <a:pt x="12272" y="15135"/>
                    <a:pt x="12272" y="15135"/>
                  </a:cubicBezTo>
                  <a:cubicBezTo>
                    <a:pt x="11358" y="16935"/>
                    <a:pt x="10100" y="16935"/>
                    <a:pt x="9072" y="15135"/>
                  </a:cubicBezTo>
                  <a:cubicBezTo>
                    <a:pt x="1072" y="375"/>
                    <a:pt x="1072" y="375"/>
                    <a:pt x="1072" y="375"/>
                  </a:cubicBezTo>
                  <a:cubicBezTo>
                    <a:pt x="729" y="-345"/>
                    <a:pt x="272" y="15"/>
                    <a:pt x="43" y="1095"/>
                  </a:cubicBezTo>
                  <a:cubicBezTo>
                    <a:pt x="-71" y="2175"/>
                    <a:pt x="43" y="3615"/>
                    <a:pt x="386" y="4335"/>
                  </a:cubicBezTo>
                  <a:cubicBezTo>
                    <a:pt x="8386" y="18735"/>
                    <a:pt x="8386" y="18735"/>
                    <a:pt x="8386" y="18735"/>
                  </a:cubicBezTo>
                  <a:cubicBezTo>
                    <a:pt x="9872" y="21255"/>
                    <a:pt x="11586" y="21255"/>
                    <a:pt x="12958" y="18735"/>
                  </a:cubicBezTo>
                  <a:cubicBezTo>
                    <a:pt x="21072" y="4335"/>
                    <a:pt x="21072" y="4335"/>
                    <a:pt x="21072" y="4335"/>
                  </a:cubicBezTo>
                  <a:cubicBezTo>
                    <a:pt x="21415" y="3615"/>
                    <a:pt x="21529" y="2175"/>
                    <a:pt x="21300" y="1095"/>
                  </a:cubicBezTo>
                  <a:cubicBezTo>
                    <a:pt x="21186" y="375"/>
                    <a:pt x="20958" y="15"/>
                    <a:pt x="20729" y="15"/>
                  </a:cubicBezTo>
                  <a:close/>
                </a:path>
              </a:pathLst>
            </a:custGeom>
            <a:solidFill>
              <a:srgbClr val="5668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Shape 2469"/>
            <p:cNvSpPr/>
            <p:nvPr/>
          </p:nvSpPr>
          <p:spPr>
            <a:xfrm>
              <a:off x="6733800" y="4374720"/>
              <a:ext cx="595080" cy="182880"/>
            </a:xfrm>
            <a:custGeom>
              <a:avLst/>
              <a:gdLst/>
              <a:ahLst/>
              <a:rect l="l" t="t" r="r" b="b"/>
              <a:pathLst>
                <a:path w="21419" h="20745">
                  <a:moveTo>
                    <a:pt x="20729" y="135"/>
                  </a:moveTo>
                  <a:cubicBezTo>
                    <a:pt x="20615" y="135"/>
                    <a:pt x="20500" y="135"/>
                    <a:pt x="20386" y="135"/>
                  </a:cubicBezTo>
                  <a:cubicBezTo>
                    <a:pt x="12272" y="14895"/>
                    <a:pt x="12272" y="14895"/>
                    <a:pt x="12272" y="14895"/>
                  </a:cubicBezTo>
                  <a:cubicBezTo>
                    <a:pt x="11358" y="16695"/>
                    <a:pt x="10100" y="16695"/>
                    <a:pt x="9072" y="14895"/>
                  </a:cubicBezTo>
                  <a:cubicBezTo>
                    <a:pt x="1072" y="135"/>
                    <a:pt x="1072" y="135"/>
                    <a:pt x="1072" y="135"/>
                  </a:cubicBezTo>
                  <a:cubicBezTo>
                    <a:pt x="729" y="-225"/>
                    <a:pt x="272" y="135"/>
                    <a:pt x="43" y="1215"/>
                  </a:cubicBezTo>
                  <a:cubicBezTo>
                    <a:pt x="-71" y="2295"/>
                    <a:pt x="43" y="3375"/>
                    <a:pt x="386" y="4095"/>
                  </a:cubicBezTo>
                  <a:cubicBezTo>
                    <a:pt x="8386" y="18855"/>
                    <a:pt x="8386" y="18855"/>
                    <a:pt x="8386" y="18855"/>
                  </a:cubicBezTo>
                  <a:cubicBezTo>
                    <a:pt x="9872" y="21375"/>
                    <a:pt x="11586" y="21375"/>
                    <a:pt x="12958" y="18855"/>
                  </a:cubicBezTo>
                  <a:cubicBezTo>
                    <a:pt x="21072" y="4095"/>
                    <a:pt x="21072" y="4095"/>
                    <a:pt x="21072" y="4095"/>
                  </a:cubicBezTo>
                  <a:cubicBezTo>
                    <a:pt x="21415" y="3375"/>
                    <a:pt x="21529" y="2295"/>
                    <a:pt x="21300" y="1215"/>
                  </a:cubicBezTo>
                  <a:cubicBezTo>
                    <a:pt x="21186" y="495"/>
                    <a:pt x="20958" y="135"/>
                    <a:pt x="20729" y="135"/>
                  </a:cubicBezTo>
                  <a:close/>
                </a:path>
              </a:pathLst>
            </a:custGeom>
            <a:solidFill>
              <a:srgbClr val="5668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2" name="Group 92"/>
          <p:cNvGrpSpPr/>
          <p:nvPr/>
        </p:nvGrpSpPr>
        <p:grpSpPr>
          <a:xfrm>
            <a:off x="8112240" y="1954080"/>
            <a:ext cx="1617480" cy="2603520"/>
            <a:chOff x="8112240" y="1954080"/>
            <a:chExt cx="1617480" cy="2603520"/>
          </a:xfrm>
        </p:grpSpPr>
        <p:sp>
          <p:nvSpPr>
            <p:cNvPr id="933" name="Shape 2455"/>
            <p:cNvSpPr/>
            <p:nvPr/>
          </p:nvSpPr>
          <p:spPr>
            <a:xfrm>
              <a:off x="8384760" y="1954080"/>
              <a:ext cx="870480" cy="923400"/>
            </a:xfrm>
            <a:custGeom>
              <a:avLst/>
              <a:gdLst/>
              <a:ahLst/>
              <a:rect l="l" t="t" r="r" b="b"/>
              <a:pathLst>
                <a:path w="21443" h="20601">
                  <a:moveTo>
                    <a:pt x="21209" y="13590"/>
                  </a:moveTo>
                  <a:cubicBezTo>
                    <a:pt x="20817" y="14511"/>
                    <a:pt x="19722" y="14935"/>
                    <a:pt x="18783" y="14581"/>
                  </a:cubicBezTo>
                  <a:cubicBezTo>
                    <a:pt x="18235" y="14440"/>
                    <a:pt x="17843" y="14015"/>
                    <a:pt x="17687" y="13590"/>
                  </a:cubicBezTo>
                  <a:cubicBezTo>
                    <a:pt x="17609" y="13307"/>
                    <a:pt x="17296" y="13094"/>
                    <a:pt x="16983" y="12952"/>
                  </a:cubicBezTo>
                  <a:cubicBezTo>
                    <a:pt x="16670" y="12882"/>
                    <a:pt x="16357" y="13023"/>
                    <a:pt x="16200" y="13307"/>
                  </a:cubicBezTo>
                  <a:cubicBezTo>
                    <a:pt x="13148" y="20601"/>
                    <a:pt x="13148" y="20601"/>
                    <a:pt x="13148" y="20601"/>
                  </a:cubicBezTo>
                  <a:cubicBezTo>
                    <a:pt x="7826" y="14794"/>
                    <a:pt x="7826" y="14794"/>
                    <a:pt x="7826" y="14794"/>
                  </a:cubicBezTo>
                  <a:cubicBezTo>
                    <a:pt x="7904" y="14794"/>
                    <a:pt x="7904" y="14794"/>
                    <a:pt x="7904" y="14794"/>
                  </a:cubicBezTo>
                  <a:cubicBezTo>
                    <a:pt x="8687" y="14865"/>
                    <a:pt x="9470" y="14723"/>
                    <a:pt x="10096" y="14227"/>
                  </a:cubicBezTo>
                  <a:cubicBezTo>
                    <a:pt x="11270" y="13377"/>
                    <a:pt x="11426" y="11819"/>
                    <a:pt x="10487" y="10828"/>
                  </a:cubicBezTo>
                  <a:cubicBezTo>
                    <a:pt x="9548" y="9766"/>
                    <a:pt x="7826" y="9624"/>
                    <a:pt x="6652" y="10474"/>
                  </a:cubicBezTo>
                  <a:cubicBezTo>
                    <a:pt x="6026" y="10899"/>
                    <a:pt x="5713" y="11536"/>
                    <a:pt x="5635" y="12244"/>
                  </a:cubicBezTo>
                  <a:cubicBezTo>
                    <a:pt x="5635" y="12315"/>
                    <a:pt x="5635" y="12315"/>
                    <a:pt x="5635" y="12315"/>
                  </a:cubicBezTo>
                  <a:cubicBezTo>
                    <a:pt x="0" y="6083"/>
                    <a:pt x="0" y="6083"/>
                    <a:pt x="0" y="6083"/>
                  </a:cubicBezTo>
                  <a:cubicBezTo>
                    <a:pt x="1252" y="4525"/>
                    <a:pt x="2661" y="3321"/>
                    <a:pt x="3835" y="2542"/>
                  </a:cubicBezTo>
                  <a:cubicBezTo>
                    <a:pt x="6574" y="701"/>
                    <a:pt x="14557" y="-999"/>
                    <a:pt x="21443" y="701"/>
                  </a:cubicBezTo>
                  <a:cubicBezTo>
                    <a:pt x="17217" y="10828"/>
                    <a:pt x="17217" y="10828"/>
                    <a:pt x="17217" y="10828"/>
                  </a:cubicBezTo>
                  <a:cubicBezTo>
                    <a:pt x="17217" y="10828"/>
                    <a:pt x="17217" y="10828"/>
                    <a:pt x="17217" y="10828"/>
                  </a:cubicBezTo>
                  <a:cubicBezTo>
                    <a:pt x="17139" y="11111"/>
                    <a:pt x="17296" y="11465"/>
                    <a:pt x="17609" y="11536"/>
                  </a:cubicBezTo>
                  <a:cubicBezTo>
                    <a:pt x="17922" y="11678"/>
                    <a:pt x="18235" y="11678"/>
                    <a:pt x="18548" y="11536"/>
                  </a:cubicBezTo>
                  <a:cubicBezTo>
                    <a:pt x="19017" y="11253"/>
                    <a:pt x="19565" y="11253"/>
                    <a:pt x="20113" y="11394"/>
                  </a:cubicBezTo>
                  <a:cubicBezTo>
                    <a:pt x="21052" y="11749"/>
                    <a:pt x="21600" y="12740"/>
                    <a:pt x="21209" y="13590"/>
                  </a:cubicBezTo>
                  <a:close/>
                </a:path>
              </a:pathLst>
            </a:custGeom>
            <a:solidFill>
              <a:srgbClr val="56687c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Shape 2456"/>
            <p:cNvSpPr/>
            <p:nvPr/>
          </p:nvSpPr>
          <p:spPr>
            <a:xfrm>
              <a:off x="8950320" y="1994760"/>
              <a:ext cx="779400" cy="1023120"/>
            </a:xfrm>
            <a:custGeom>
              <a:avLst/>
              <a:gdLst/>
              <a:ahLst/>
              <a:rect l="l" t="t" r="r" b="b"/>
              <a:pathLst>
                <a:path w="21370" h="21485">
                  <a:moveTo>
                    <a:pt x="21339" y="13667"/>
                  </a:moveTo>
                  <a:cubicBezTo>
                    <a:pt x="21339" y="14533"/>
                    <a:pt x="21252" y="15400"/>
                    <a:pt x="20990" y="16133"/>
                  </a:cubicBezTo>
                  <a:cubicBezTo>
                    <a:pt x="12716" y="17200"/>
                    <a:pt x="12716" y="17200"/>
                    <a:pt x="12716" y="17200"/>
                  </a:cubicBezTo>
                  <a:cubicBezTo>
                    <a:pt x="12281" y="17267"/>
                    <a:pt x="12019" y="17533"/>
                    <a:pt x="12106" y="17800"/>
                  </a:cubicBezTo>
                  <a:cubicBezTo>
                    <a:pt x="12194" y="18133"/>
                    <a:pt x="12368" y="18333"/>
                    <a:pt x="12716" y="18533"/>
                  </a:cubicBezTo>
                  <a:cubicBezTo>
                    <a:pt x="13239" y="18733"/>
                    <a:pt x="13587" y="19133"/>
                    <a:pt x="13674" y="19600"/>
                  </a:cubicBezTo>
                  <a:cubicBezTo>
                    <a:pt x="13848" y="20467"/>
                    <a:pt x="13065" y="21267"/>
                    <a:pt x="11932" y="21467"/>
                  </a:cubicBezTo>
                  <a:cubicBezTo>
                    <a:pt x="10800" y="21600"/>
                    <a:pt x="9755" y="21000"/>
                    <a:pt x="9581" y="20133"/>
                  </a:cubicBezTo>
                  <a:cubicBezTo>
                    <a:pt x="9494" y="19667"/>
                    <a:pt x="9668" y="19200"/>
                    <a:pt x="10016" y="18867"/>
                  </a:cubicBezTo>
                  <a:cubicBezTo>
                    <a:pt x="10277" y="18600"/>
                    <a:pt x="10365" y="18333"/>
                    <a:pt x="10277" y="18067"/>
                  </a:cubicBezTo>
                  <a:cubicBezTo>
                    <a:pt x="10190" y="17733"/>
                    <a:pt x="9842" y="17600"/>
                    <a:pt x="9494" y="17600"/>
                  </a:cubicBezTo>
                  <a:cubicBezTo>
                    <a:pt x="9494" y="17600"/>
                    <a:pt x="9494" y="17600"/>
                    <a:pt x="9494" y="17600"/>
                  </a:cubicBezTo>
                  <a:cubicBezTo>
                    <a:pt x="0" y="18800"/>
                    <a:pt x="0" y="18800"/>
                    <a:pt x="0" y="18800"/>
                  </a:cubicBezTo>
                  <a:cubicBezTo>
                    <a:pt x="3310" y="12133"/>
                    <a:pt x="3310" y="12133"/>
                    <a:pt x="3310" y="12133"/>
                  </a:cubicBezTo>
                  <a:cubicBezTo>
                    <a:pt x="3310" y="12133"/>
                    <a:pt x="3310" y="12200"/>
                    <a:pt x="3310" y="12200"/>
                  </a:cubicBezTo>
                  <a:cubicBezTo>
                    <a:pt x="3658" y="12800"/>
                    <a:pt x="4268" y="13267"/>
                    <a:pt x="5052" y="13533"/>
                  </a:cubicBezTo>
                  <a:cubicBezTo>
                    <a:pt x="6619" y="14000"/>
                    <a:pt x="8361" y="13400"/>
                    <a:pt x="8971" y="12200"/>
                  </a:cubicBezTo>
                  <a:cubicBezTo>
                    <a:pt x="9581" y="11000"/>
                    <a:pt x="8797" y="9667"/>
                    <a:pt x="7229" y="9200"/>
                  </a:cubicBezTo>
                  <a:cubicBezTo>
                    <a:pt x="6358" y="9000"/>
                    <a:pt x="5487" y="9067"/>
                    <a:pt x="4703" y="9333"/>
                  </a:cubicBezTo>
                  <a:cubicBezTo>
                    <a:pt x="4703" y="9333"/>
                    <a:pt x="4703" y="9333"/>
                    <a:pt x="4616" y="9400"/>
                  </a:cubicBezTo>
                  <a:cubicBezTo>
                    <a:pt x="9232" y="0"/>
                    <a:pt x="9232" y="0"/>
                    <a:pt x="9232" y="0"/>
                  </a:cubicBezTo>
                  <a:cubicBezTo>
                    <a:pt x="10277" y="267"/>
                    <a:pt x="11235" y="533"/>
                    <a:pt x="12106" y="933"/>
                  </a:cubicBezTo>
                  <a:cubicBezTo>
                    <a:pt x="20381" y="4200"/>
                    <a:pt x="21600" y="8733"/>
                    <a:pt x="21339" y="13667"/>
                  </a:cubicBezTo>
                  <a:close/>
                </a:path>
              </a:pathLst>
            </a:custGeom>
            <a:solidFill>
              <a:srgbClr val="56687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Shape 2457"/>
            <p:cNvSpPr/>
            <p:nvPr/>
          </p:nvSpPr>
          <p:spPr>
            <a:xfrm>
              <a:off x="8135640" y="2255040"/>
              <a:ext cx="757440" cy="76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110" y="19636"/>
                  </a:moveTo>
                  <a:cubicBezTo>
                    <a:pt x="12653" y="18922"/>
                    <a:pt x="12924" y="18030"/>
                    <a:pt x="12743" y="17137"/>
                  </a:cubicBezTo>
                  <a:cubicBezTo>
                    <a:pt x="12472" y="15441"/>
                    <a:pt x="10845" y="14281"/>
                    <a:pt x="9218" y="14638"/>
                  </a:cubicBezTo>
                  <a:cubicBezTo>
                    <a:pt x="7501" y="14906"/>
                    <a:pt x="6326" y="16423"/>
                    <a:pt x="6597" y="18119"/>
                  </a:cubicBezTo>
                  <a:cubicBezTo>
                    <a:pt x="6778" y="19012"/>
                    <a:pt x="7230" y="19815"/>
                    <a:pt x="8044" y="20261"/>
                  </a:cubicBezTo>
                  <a:cubicBezTo>
                    <a:pt x="8044" y="20261"/>
                    <a:pt x="8044" y="20261"/>
                    <a:pt x="8134" y="20261"/>
                  </a:cubicBezTo>
                  <a:cubicBezTo>
                    <a:pt x="0" y="21600"/>
                    <a:pt x="0" y="21600"/>
                    <a:pt x="0" y="21600"/>
                  </a:cubicBezTo>
                  <a:cubicBezTo>
                    <a:pt x="181" y="21154"/>
                    <a:pt x="542" y="20618"/>
                    <a:pt x="904" y="20083"/>
                  </a:cubicBezTo>
                  <a:cubicBezTo>
                    <a:pt x="1175" y="19547"/>
                    <a:pt x="3254" y="16512"/>
                    <a:pt x="4248" y="14995"/>
                  </a:cubicBezTo>
                  <a:cubicBezTo>
                    <a:pt x="4519" y="14460"/>
                    <a:pt x="4609" y="13835"/>
                    <a:pt x="4428" y="13299"/>
                  </a:cubicBezTo>
                  <a:cubicBezTo>
                    <a:pt x="2802" y="7944"/>
                    <a:pt x="4338" y="3392"/>
                    <a:pt x="6597" y="0"/>
                  </a:cubicBezTo>
                  <a:cubicBezTo>
                    <a:pt x="13105" y="7944"/>
                    <a:pt x="13105" y="7944"/>
                    <a:pt x="13105" y="7944"/>
                  </a:cubicBezTo>
                  <a:cubicBezTo>
                    <a:pt x="13376" y="8212"/>
                    <a:pt x="13828" y="8301"/>
                    <a:pt x="14099" y="8033"/>
                  </a:cubicBezTo>
                  <a:cubicBezTo>
                    <a:pt x="14460" y="7765"/>
                    <a:pt x="14641" y="7408"/>
                    <a:pt x="14641" y="7051"/>
                  </a:cubicBezTo>
                  <a:cubicBezTo>
                    <a:pt x="14641" y="6426"/>
                    <a:pt x="14912" y="5891"/>
                    <a:pt x="15454" y="5445"/>
                  </a:cubicBezTo>
                  <a:cubicBezTo>
                    <a:pt x="16358" y="4731"/>
                    <a:pt x="17714" y="4820"/>
                    <a:pt x="18437" y="5712"/>
                  </a:cubicBezTo>
                  <a:cubicBezTo>
                    <a:pt x="19250" y="6694"/>
                    <a:pt x="19069" y="8033"/>
                    <a:pt x="18166" y="8747"/>
                  </a:cubicBezTo>
                  <a:cubicBezTo>
                    <a:pt x="17714" y="9193"/>
                    <a:pt x="17081" y="9283"/>
                    <a:pt x="16449" y="9193"/>
                  </a:cubicBezTo>
                  <a:cubicBezTo>
                    <a:pt x="16087" y="9104"/>
                    <a:pt x="15635" y="9283"/>
                    <a:pt x="15364" y="9461"/>
                  </a:cubicBezTo>
                  <a:cubicBezTo>
                    <a:pt x="15093" y="9729"/>
                    <a:pt x="15003" y="10175"/>
                    <a:pt x="15274" y="10443"/>
                  </a:cubicBezTo>
                  <a:cubicBezTo>
                    <a:pt x="21600" y="18119"/>
                    <a:pt x="21600" y="18119"/>
                    <a:pt x="21600" y="18119"/>
                  </a:cubicBezTo>
                  <a:cubicBezTo>
                    <a:pt x="12020" y="19636"/>
                    <a:pt x="12020" y="19636"/>
                    <a:pt x="12020" y="19636"/>
                  </a:cubicBezTo>
                  <a:cubicBezTo>
                    <a:pt x="12020" y="19636"/>
                    <a:pt x="12110" y="19636"/>
                    <a:pt x="12110" y="19636"/>
                  </a:cubicBezTo>
                  <a:close/>
                </a:path>
              </a:pathLst>
            </a:custGeom>
            <a:solidFill>
              <a:srgbClr val="56687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Shape 2458"/>
            <p:cNvSpPr/>
            <p:nvPr/>
          </p:nvSpPr>
          <p:spPr>
            <a:xfrm>
              <a:off x="8112240" y="2806560"/>
              <a:ext cx="787320" cy="852480"/>
            </a:xfrm>
            <a:custGeom>
              <a:avLst/>
              <a:gdLst/>
              <a:ahLst/>
              <a:rect l="l" t="t" r="r" b="b"/>
              <a:pathLst>
                <a:path w="21374" h="21094">
                  <a:moveTo>
                    <a:pt x="21374" y="3085"/>
                  </a:moveTo>
                  <a:cubicBezTo>
                    <a:pt x="18104" y="10940"/>
                    <a:pt x="18104" y="10940"/>
                    <a:pt x="18104" y="10940"/>
                  </a:cubicBezTo>
                  <a:cubicBezTo>
                    <a:pt x="18104" y="10940"/>
                    <a:pt x="18018" y="10940"/>
                    <a:pt x="18018" y="10940"/>
                  </a:cubicBezTo>
                  <a:cubicBezTo>
                    <a:pt x="17760" y="10154"/>
                    <a:pt x="17157" y="9605"/>
                    <a:pt x="16297" y="9290"/>
                  </a:cubicBezTo>
                  <a:cubicBezTo>
                    <a:pt x="14748" y="8819"/>
                    <a:pt x="13027" y="9526"/>
                    <a:pt x="12510" y="10940"/>
                  </a:cubicBezTo>
                  <a:cubicBezTo>
                    <a:pt x="11908" y="12275"/>
                    <a:pt x="12682" y="13846"/>
                    <a:pt x="14231" y="14396"/>
                  </a:cubicBezTo>
                  <a:cubicBezTo>
                    <a:pt x="15006" y="14710"/>
                    <a:pt x="15952" y="14632"/>
                    <a:pt x="16641" y="14239"/>
                  </a:cubicBezTo>
                  <a:cubicBezTo>
                    <a:pt x="16727" y="14239"/>
                    <a:pt x="16727" y="14239"/>
                    <a:pt x="16727" y="14239"/>
                  </a:cubicBezTo>
                  <a:cubicBezTo>
                    <a:pt x="14231" y="20365"/>
                    <a:pt x="14231" y="20365"/>
                    <a:pt x="14231" y="20365"/>
                  </a:cubicBezTo>
                  <a:cubicBezTo>
                    <a:pt x="9412" y="21465"/>
                    <a:pt x="6745" y="20994"/>
                    <a:pt x="6745" y="20994"/>
                  </a:cubicBezTo>
                  <a:cubicBezTo>
                    <a:pt x="5023" y="20837"/>
                    <a:pt x="3991" y="19030"/>
                    <a:pt x="4163" y="17852"/>
                  </a:cubicBezTo>
                  <a:cubicBezTo>
                    <a:pt x="4421" y="16595"/>
                    <a:pt x="4421" y="16045"/>
                    <a:pt x="3733" y="15496"/>
                  </a:cubicBezTo>
                  <a:cubicBezTo>
                    <a:pt x="3044" y="15024"/>
                    <a:pt x="3044" y="14396"/>
                    <a:pt x="3388" y="14160"/>
                  </a:cubicBezTo>
                  <a:cubicBezTo>
                    <a:pt x="3733" y="13925"/>
                    <a:pt x="4937" y="13453"/>
                    <a:pt x="4937" y="13453"/>
                  </a:cubicBezTo>
                  <a:cubicBezTo>
                    <a:pt x="4937" y="13453"/>
                    <a:pt x="3991" y="12904"/>
                    <a:pt x="3560" y="12746"/>
                  </a:cubicBezTo>
                  <a:cubicBezTo>
                    <a:pt x="3044" y="12511"/>
                    <a:pt x="2700" y="11725"/>
                    <a:pt x="3044" y="11254"/>
                  </a:cubicBezTo>
                  <a:cubicBezTo>
                    <a:pt x="3302" y="10783"/>
                    <a:pt x="3388" y="9605"/>
                    <a:pt x="3388" y="9605"/>
                  </a:cubicBezTo>
                  <a:cubicBezTo>
                    <a:pt x="3388" y="9605"/>
                    <a:pt x="2184" y="9055"/>
                    <a:pt x="893" y="8426"/>
                  </a:cubicBezTo>
                  <a:cubicBezTo>
                    <a:pt x="32" y="8034"/>
                    <a:pt x="-226" y="7405"/>
                    <a:pt x="204" y="6306"/>
                  </a:cubicBezTo>
                  <a:cubicBezTo>
                    <a:pt x="8810" y="4970"/>
                    <a:pt x="8810" y="4970"/>
                    <a:pt x="8810" y="4970"/>
                  </a:cubicBezTo>
                  <a:cubicBezTo>
                    <a:pt x="9154" y="4970"/>
                    <a:pt x="9412" y="4656"/>
                    <a:pt x="9326" y="4264"/>
                  </a:cubicBezTo>
                  <a:cubicBezTo>
                    <a:pt x="9326" y="3949"/>
                    <a:pt x="9068" y="3635"/>
                    <a:pt x="8810" y="3478"/>
                  </a:cubicBezTo>
                  <a:cubicBezTo>
                    <a:pt x="8294" y="3164"/>
                    <a:pt x="7949" y="2771"/>
                    <a:pt x="7863" y="2143"/>
                  </a:cubicBezTo>
                  <a:cubicBezTo>
                    <a:pt x="7605" y="1122"/>
                    <a:pt x="8380" y="179"/>
                    <a:pt x="9498" y="22"/>
                  </a:cubicBezTo>
                  <a:cubicBezTo>
                    <a:pt x="10617" y="-135"/>
                    <a:pt x="11736" y="572"/>
                    <a:pt x="11908" y="1593"/>
                  </a:cubicBezTo>
                  <a:cubicBezTo>
                    <a:pt x="11994" y="2143"/>
                    <a:pt x="11822" y="2693"/>
                    <a:pt x="11478" y="3085"/>
                  </a:cubicBezTo>
                  <a:cubicBezTo>
                    <a:pt x="11219" y="3321"/>
                    <a:pt x="11133" y="3714"/>
                    <a:pt x="11133" y="4028"/>
                  </a:cubicBezTo>
                  <a:cubicBezTo>
                    <a:pt x="11219" y="4342"/>
                    <a:pt x="11564" y="4578"/>
                    <a:pt x="11908" y="4499"/>
                  </a:cubicBezTo>
                  <a:lnTo>
                    <a:pt x="21374" y="3085"/>
                  </a:lnTo>
                  <a:close/>
                </a:path>
              </a:pathLst>
            </a:custGeom>
            <a:solidFill>
              <a:srgbClr val="56687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Shape 2459"/>
            <p:cNvSpPr/>
            <p:nvPr/>
          </p:nvSpPr>
          <p:spPr>
            <a:xfrm>
              <a:off x="8598600" y="2944080"/>
              <a:ext cx="888480" cy="1000080"/>
            </a:xfrm>
            <a:custGeom>
              <a:avLst/>
              <a:gdLst/>
              <a:ahLst/>
              <a:rect l="l" t="t" r="r" b="b"/>
              <a:pathLst>
                <a:path w="21352" h="21600">
                  <a:moveTo>
                    <a:pt x="21352" y="14743"/>
                  </a:moveTo>
                  <a:cubicBezTo>
                    <a:pt x="21352" y="17006"/>
                    <a:pt x="21352" y="19680"/>
                    <a:pt x="21352" y="19680"/>
                  </a:cubicBezTo>
                  <a:cubicBezTo>
                    <a:pt x="21352" y="19680"/>
                    <a:pt x="18375" y="21600"/>
                    <a:pt x="11201" y="21600"/>
                  </a:cubicBezTo>
                  <a:cubicBezTo>
                    <a:pt x="4026" y="21600"/>
                    <a:pt x="973" y="19680"/>
                    <a:pt x="973" y="19680"/>
                  </a:cubicBezTo>
                  <a:cubicBezTo>
                    <a:pt x="973" y="16526"/>
                    <a:pt x="973" y="16526"/>
                    <a:pt x="973" y="16526"/>
                  </a:cubicBezTo>
                  <a:cubicBezTo>
                    <a:pt x="3950" y="9463"/>
                    <a:pt x="3950" y="9463"/>
                    <a:pt x="3950" y="9463"/>
                  </a:cubicBezTo>
                  <a:cubicBezTo>
                    <a:pt x="4103" y="9189"/>
                    <a:pt x="3950" y="8914"/>
                    <a:pt x="3645" y="8777"/>
                  </a:cubicBezTo>
                  <a:cubicBezTo>
                    <a:pt x="3339" y="8709"/>
                    <a:pt x="2958" y="8709"/>
                    <a:pt x="2652" y="8846"/>
                  </a:cubicBezTo>
                  <a:cubicBezTo>
                    <a:pt x="2194" y="9051"/>
                    <a:pt x="1660" y="9120"/>
                    <a:pt x="1202" y="8914"/>
                  </a:cubicBezTo>
                  <a:cubicBezTo>
                    <a:pt x="210" y="8640"/>
                    <a:pt x="-248" y="7680"/>
                    <a:pt x="134" y="6789"/>
                  </a:cubicBezTo>
                  <a:cubicBezTo>
                    <a:pt x="439" y="5966"/>
                    <a:pt x="1507" y="5554"/>
                    <a:pt x="2423" y="5829"/>
                  </a:cubicBezTo>
                  <a:cubicBezTo>
                    <a:pt x="2958" y="6034"/>
                    <a:pt x="3339" y="6377"/>
                    <a:pt x="3492" y="6789"/>
                  </a:cubicBezTo>
                  <a:cubicBezTo>
                    <a:pt x="3645" y="7063"/>
                    <a:pt x="3874" y="7337"/>
                    <a:pt x="4179" y="7406"/>
                  </a:cubicBezTo>
                  <a:cubicBezTo>
                    <a:pt x="4484" y="7543"/>
                    <a:pt x="4866" y="7406"/>
                    <a:pt x="4942" y="7131"/>
                  </a:cubicBezTo>
                  <a:cubicBezTo>
                    <a:pt x="7919" y="0"/>
                    <a:pt x="7919" y="0"/>
                    <a:pt x="7919" y="0"/>
                  </a:cubicBezTo>
                  <a:cubicBezTo>
                    <a:pt x="13109" y="5691"/>
                    <a:pt x="13109" y="5691"/>
                    <a:pt x="13109" y="5691"/>
                  </a:cubicBezTo>
                  <a:cubicBezTo>
                    <a:pt x="13109" y="5691"/>
                    <a:pt x="13109" y="5691"/>
                    <a:pt x="13033" y="5691"/>
                  </a:cubicBezTo>
                  <a:cubicBezTo>
                    <a:pt x="12346" y="5554"/>
                    <a:pt x="11506" y="5760"/>
                    <a:pt x="10972" y="6171"/>
                  </a:cubicBezTo>
                  <a:cubicBezTo>
                    <a:pt x="9827" y="6994"/>
                    <a:pt x="9674" y="8503"/>
                    <a:pt x="10590" y="9531"/>
                  </a:cubicBezTo>
                  <a:cubicBezTo>
                    <a:pt x="11506" y="10560"/>
                    <a:pt x="13185" y="10697"/>
                    <a:pt x="14330" y="9874"/>
                  </a:cubicBezTo>
                  <a:cubicBezTo>
                    <a:pt x="14864" y="9394"/>
                    <a:pt x="15246" y="8777"/>
                    <a:pt x="15246" y="8091"/>
                  </a:cubicBezTo>
                  <a:cubicBezTo>
                    <a:pt x="15246" y="8091"/>
                    <a:pt x="15246" y="8023"/>
                    <a:pt x="15246" y="8023"/>
                  </a:cubicBezTo>
                  <a:lnTo>
                    <a:pt x="21352" y="14743"/>
                  </a:lnTo>
                  <a:close/>
                </a:path>
              </a:pathLst>
            </a:custGeom>
            <a:solidFill>
              <a:srgbClr val="56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Shape 2460"/>
            <p:cNvSpPr/>
            <p:nvPr/>
          </p:nvSpPr>
          <p:spPr>
            <a:xfrm>
              <a:off x="8956800" y="2801160"/>
              <a:ext cx="752760" cy="771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506" y="4089"/>
                    <a:pt x="18501" y="6844"/>
                    <a:pt x="17316" y="8978"/>
                  </a:cubicBezTo>
                  <a:cubicBezTo>
                    <a:pt x="15767" y="11822"/>
                    <a:pt x="15220" y="17333"/>
                    <a:pt x="15220" y="19822"/>
                  </a:cubicBezTo>
                  <a:cubicBezTo>
                    <a:pt x="15220" y="21600"/>
                    <a:pt x="15220" y="21600"/>
                    <a:pt x="15220" y="21600"/>
                  </a:cubicBezTo>
                  <a:cubicBezTo>
                    <a:pt x="8476" y="13600"/>
                    <a:pt x="8476" y="13600"/>
                    <a:pt x="8476" y="13600"/>
                  </a:cubicBezTo>
                  <a:cubicBezTo>
                    <a:pt x="8203" y="13244"/>
                    <a:pt x="7838" y="13244"/>
                    <a:pt x="7473" y="13511"/>
                  </a:cubicBezTo>
                  <a:cubicBezTo>
                    <a:pt x="7200" y="13689"/>
                    <a:pt x="7018" y="14044"/>
                    <a:pt x="7018" y="14489"/>
                  </a:cubicBezTo>
                  <a:cubicBezTo>
                    <a:pt x="6927" y="15022"/>
                    <a:pt x="6653" y="15644"/>
                    <a:pt x="6197" y="16089"/>
                  </a:cubicBezTo>
                  <a:cubicBezTo>
                    <a:pt x="5286" y="16800"/>
                    <a:pt x="3919" y="16622"/>
                    <a:pt x="3099" y="15733"/>
                  </a:cubicBezTo>
                  <a:cubicBezTo>
                    <a:pt x="2370" y="14844"/>
                    <a:pt x="2461" y="13511"/>
                    <a:pt x="3372" y="12711"/>
                  </a:cubicBezTo>
                  <a:cubicBezTo>
                    <a:pt x="3919" y="12356"/>
                    <a:pt x="4557" y="12178"/>
                    <a:pt x="5195" y="12267"/>
                  </a:cubicBezTo>
                  <a:cubicBezTo>
                    <a:pt x="5559" y="12356"/>
                    <a:pt x="5924" y="12267"/>
                    <a:pt x="6289" y="12000"/>
                  </a:cubicBezTo>
                  <a:cubicBezTo>
                    <a:pt x="6562" y="11733"/>
                    <a:pt x="6562" y="11289"/>
                    <a:pt x="6380" y="11022"/>
                  </a:cubicBezTo>
                  <a:cubicBezTo>
                    <a:pt x="0" y="3378"/>
                    <a:pt x="0" y="3378"/>
                    <a:pt x="0" y="3378"/>
                  </a:cubicBezTo>
                  <a:cubicBezTo>
                    <a:pt x="9570" y="1867"/>
                    <a:pt x="9570" y="1867"/>
                    <a:pt x="9570" y="1867"/>
                  </a:cubicBezTo>
                  <a:cubicBezTo>
                    <a:pt x="9570" y="1867"/>
                    <a:pt x="9570" y="1956"/>
                    <a:pt x="9570" y="1956"/>
                  </a:cubicBezTo>
                  <a:cubicBezTo>
                    <a:pt x="8932" y="2667"/>
                    <a:pt x="8749" y="3556"/>
                    <a:pt x="8841" y="4356"/>
                  </a:cubicBezTo>
                  <a:cubicBezTo>
                    <a:pt x="9114" y="6044"/>
                    <a:pt x="10754" y="7200"/>
                    <a:pt x="12486" y="6933"/>
                  </a:cubicBezTo>
                  <a:cubicBezTo>
                    <a:pt x="14218" y="6667"/>
                    <a:pt x="15403" y="5067"/>
                    <a:pt x="15129" y="3378"/>
                  </a:cubicBezTo>
                  <a:cubicBezTo>
                    <a:pt x="14947" y="2489"/>
                    <a:pt x="14400" y="1778"/>
                    <a:pt x="13671" y="1333"/>
                  </a:cubicBezTo>
                  <a:cubicBezTo>
                    <a:pt x="13580" y="1244"/>
                    <a:pt x="13580" y="1244"/>
                    <a:pt x="13580" y="1244"/>
                  </a:cubicBezTo>
                  <a:lnTo>
                    <a:pt x="21600" y="0"/>
                  </a:lnTo>
                  <a:close/>
                </a:path>
              </a:pathLst>
            </a:custGeom>
            <a:solidFill>
              <a:srgbClr val="56687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Shape 2470"/>
            <p:cNvSpPr/>
            <p:nvPr/>
          </p:nvSpPr>
          <p:spPr>
            <a:xfrm>
              <a:off x="8766000" y="4087080"/>
              <a:ext cx="595440" cy="181800"/>
            </a:xfrm>
            <a:custGeom>
              <a:avLst/>
              <a:gdLst/>
              <a:ahLst/>
              <a:rect l="l" t="t" r="r" b="b"/>
              <a:pathLst>
                <a:path w="21421" h="20625">
                  <a:moveTo>
                    <a:pt x="20804" y="15"/>
                  </a:moveTo>
                  <a:cubicBezTo>
                    <a:pt x="20690" y="15"/>
                    <a:pt x="20576" y="15"/>
                    <a:pt x="20461" y="375"/>
                  </a:cubicBezTo>
                  <a:cubicBezTo>
                    <a:pt x="12347" y="15135"/>
                    <a:pt x="12347" y="15135"/>
                    <a:pt x="12347" y="15135"/>
                  </a:cubicBezTo>
                  <a:cubicBezTo>
                    <a:pt x="11319" y="16935"/>
                    <a:pt x="10176" y="16935"/>
                    <a:pt x="9147" y="15135"/>
                  </a:cubicBezTo>
                  <a:cubicBezTo>
                    <a:pt x="1033" y="375"/>
                    <a:pt x="1033" y="375"/>
                    <a:pt x="1033" y="375"/>
                  </a:cubicBezTo>
                  <a:cubicBezTo>
                    <a:pt x="690" y="-345"/>
                    <a:pt x="347" y="15"/>
                    <a:pt x="119" y="1095"/>
                  </a:cubicBezTo>
                  <a:cubicBezTo>
                    <a:pt x="-110" y="2175"/>
                    <a:pt x="4" y="3255"/>
                    <a:pt x="347" y="3975"/>
                  </a:cubicBezTo>
                  <a:cubicBezTo>
                    <a:pt x="8461" y="18735"/>
                    <a:pt x="8461" y="18735"/>
                    <a:pt x="8461" y="18735"/>
                  </a:cubicBezTo>
                  <a:cubicBezTo>
                    <a:pt x="9833" y="21255"/>
                    <a:pt x="11661" y="21255"/>
                    <a:pt x="13033" y="18735"/>
                  </a:cubicBezTo>
                  <a:cubicBezTo>
                    <a:pt x="21147" y="3975"/>
                    <a:pt x="21147" y="3975"/>
                    <a:pt x="21147" y="3975"/>
                  </a:cubicBezTo>
                  <a:cubicBezTo>
                    <a:pt x="21376" y="3255"/>
                    <a:pt x="21490" y="2175"/>
                    <a:pt x="21376" y="1095"/>
                  </a:cubicBezTo>
                  <a:cubicBezTo>
                    <a:pt x="21261" y="375"/>
                    <a:pt x="21033" y="15"/>
                    <a:pt x="20804" y="15"/>
                  </a:cubicBezTo>
                  <a:close/>
                </a:path>
              </a:pathLst>
            </a:custGeom>
            <a:solidFill>
              <a:srgbClr val="5668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Shape 2471"/>
            <p:cNvSpPr/>
            <p:nvPr/>
          </p:nvSpPr>
          <p:spPr>
            <a:xfrm>
              <a:off x="8766000" y="4230000"/>
              <a:ext cx="595440" cy="181800"/>
            </a:xfrm>
            <a:custGeom>
              <a:avLst/>
              <a:gdLst/>
              <a:ahLst/>
              <a:rect l="l" t="t" r="r" b="b"/>
              <a:pathLst>
                <a:path w="21421" h="20625">
                  <a:moveTo>
                    <a:pt x="20804" y="15"/>
                  </a:moveTo>
                  <a:cubicBezTo>
                    <a:pt x="20690" y="15"/>
                    <a:pt x="20576" y="375"/>
                    <a:pt x="20461" y="375"/>
                  </a:cubicBezTo>
                  <a:cubicBezTo>
                    <a:pt x="12347" y="15135"/>
                    <a:pt x="12347" y="15135"/>
                    <a:pt x="12347" y="15135"/>
                  </a:cubicBezTo>
                  <a:cubicBezTo>
                    <a:pt x="11319" y="16935"/>
                    <a:pt x="10176" y="16935"/>
                    <a:pt x="9147" y="15135"/>
                  </a:cubicBezTo>
                  <a:cubicBezTo>
                    <a:pt x="1033" y="375"/>
                    <a:pt x="1033" y="375"/>
                    <a:pt x="1033" y="375"/>
                  </a:cubicBezTo>
                  <a:cubicBezTo>
                    <a:pt x="690" y="-345"/>
                    <a:pt x="347" y="15"/>
                    <a:pt x="119" y="1095"/>
                  </a:cubicBezTo>
                  <a:cubicBezTo>
                    <a:pt x="-110" y="2175"/>
                    <a:pt x="4" y="3615"/>
                    <a:pt x="347" y="4335"/>
                  </a:cubicBezTo>
                  <a:cubicBezTo>
                    <a:pt x="8461" y="18735"/>
                    <a:pt x="8461" y="18735"/>
                    <a:pt x="8461" y="18735"/>
                  </a:cubicBezTo>
                  <a:cubicBezTo>
                    <a:pt x="9833" y="21255"/>
                    <a:pt x="11661" y="21255"/>
                    <a:pt x="13033" y="18735"/>
                  </a:cubicBezTo>
                  <a:cubicBezTo>
                    <a:pt x="21147" y="4335"/>
                    <a:pt x="21147" y="4335"/>
                    <a:pt x="21147" y="4335"/>
                  </a:cubicBezTo>
                  <a:cubicBezTo>
                    <a:pt x="21376" y="3615"/>
                    <a:pt x="21490" y="2175"/>
                    <a:pt x="21376" y="1095"/>
                  </a:cubicBezTo>
                  <a:cubicBezTo>
                    <a:pt x="21261" y="375"/>
                    <a:pt x="21033" y="15"/>
                    <a:pt x="20804" y="15"/>
                  </a:cubicBezTo>
                  <a:close/>
                </a:path>
              </a:pathLst>
            </a:custGeom>
            <a:solidFill>
              <a:srgbClr val="5668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Shape 2472"/>
            <p:cNvSpPr/>
            <p:nvPr/>
          </p:nvSpPr>
          <p:spPr>
            <a:xfrm>
              <a:off x="8766000" y="4374720"/>
              <a:ext cx="595440" cy="182880"/>
            </a:xfrm>
            <a:custGeom>
              <a:avLst/>
              <a:gdLst/>
              <a:ahLst/>
              <a:rect l="l" t="t" r="r" b="b"/>
              <a:pathLst>
                <a:path w="21421" h="20745">
                  <a:moveTo>
                    <a:pt x="20804" y="135"/>
                  </a:moveTo>
                  <a:cubicBezTo>
                    <a:pt x="20690" y="135"/>
                    <a:pt x="20576" y="135"/>
                    <a:pt x="20461" y="135"/>
                  </a:cubicBezTo>
                  <a:cubicBezTo>
                    <a:pt x="12347" y="14895"/>
                    <a:pt x="12347" y="14895"/>
                    <a:pt x="12347" y="14895"/>
                  </a:cubicBezTo>
                  <a:cubicBezTo>
                    <a:pt x="11319" y="16695"/>
                    <a:pt x="10176" y="16695"/>
                    <a:pt x="9147" y="14895"/>
                  </a:cubicBezTo>
                  <a:cubicBezTo>
                    <a:pt x="1033" y="135"/>
                    <a:pt x="1033" y="135"/>
                    <a:pt x="1033" y="135"/>
                  </a:cubicBezTo>
                  <a:cubicBezTo>
                    <a:pt x="690" y="-225"/>
                    <a:pt x="347" y="135"/>
                    <a:pt x="119" y="1215"/>
                  </a:cubicBezTo>
                  <a:cubicBezTo>
                    <a:pt x="-110" y="2295"/>
                    <a:pt x="4" y="3375"/>
                    <a:pt x="347" y="4095"/>
                  </a:cubicBezTo>
                  <a:cubicBezTo>
                    <a:pt x="8461" y="18855"/>
                    <a:pt x="8461" y="18855"/>
                    <a:pt x="8461" y="18855"/>
                  </a:cubicBezTo>
                  <a:cubicBezTo>
                    <a:pt x="9833" y="21375"/>
                    <a:pt x="11661" y="21375"/>
                    <a:pt x="13033" y="18855"/>
                  </a:cubicBezTo>
                  <a:cubicBezTo>
                    <a:pt x="21147" y="4095"/>
                    <a:pt x="21147" y="4095"/>
                    <a:pt x="21147" y="4095"/>
                  </a:cubicBezTo>
                  <a:cubicBezTo>
                    <a:pt x="21376" y="3375"/>
                    <a:pt x="21490" y="2295"/>
                    <a:pt x="21376" y="1215"/>
                  </a:cubicBezTo>
                  <a:cubicBezTo>
                    <a:pt x="21261" y="495"/>
                    <a:pt x="21033" y="135"/>
                    <a:pt x="20804" y="135"/>
                  </a:cubicBezTo>
                  <a:close/>
                </a:path>
              </a:pathLst>
            </a:custGeom>
            <a:solidFill>
              <a:srgbClr val="5668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2" name="Group 102"/>
          <p:cNvGrpSpPr/>
          <p:nvPr/>
        </p:nvGrpSpPr>
        <p:grpSpPr>
          <a:xfrm>
            <a:off x="2006640" y="4818240"/>
            <a:ext cx="1574640" cy="628560"/>
            <a:chOff x="2006640" y="4818240"/>
            <a:chExt cx="1574640" cy="628560"/>
          </a:xfrm>
        </p:grpSpPr>
        <p:sp>
          <p:nvSpPr>
            <p:cNvPr id="943" name="Rectangle 103"/>
            <p:cNvSpPr/>
            <p:nvPr/>
          </p:nvSpPr>
          <p:spPr>
            <a:xfrm>
              <a:off x="2352960" y="4818240"/>
              <a:ext cx="122832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Shape 2778"/>
            <p:cNvSpPr/>
            <p:nvPr/>
          </p:nvSpPr>
          <p:spPr>
            <a:xfrm>
              <a:off x="2006640" y="497412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5" name="Group 105"/>
          <p:cNvGrpSpPr/>
          <p:nvPr/>
        </p:nvGrpSpPr>
        <p:grpSpPr>
          <a:xfrm>
            <a:off x="8275680" y="4770360"/>
            <a:ext cx="1576440" cy="628560"/>
            <a:chOff x="8275680" y="4770360"/>
            <a:chExt cx="1576440" cy="628560"/>
          </a:xfrm>
        </p:grpSpPr>
        <p:sp>
          <p:nvSpPr>
            <p:cNvPr id="946" name="Rectangle 106"/>
            <p:cNvSpPr/>
            <p:nvPr/>
          </p:nvSpPr>
          <p:spPr>
            <a:xfrm>
              <a:off x="8624160" y="4770360"/>
              <a:ext cx="12279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Shape 2774"/>
            <p:cNvSpPr/>
            <p:nvPr/>
          </p:nvSpPr>
          <p:spPr>
            <a:xfrm>
              <a:off x="8275680" y="491760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8" name="Group 108"/>
          <p:cNvGrpSpPr/>
          <p:nvPr/>
        </p:nvGrpSpPr>
        <p:grpSpPr>
          <a:xfrm>
            <a:off x="4176720" y="4818240"/>
            <a:ext cx="1641600" cy="628560"/>
            <a:chOff x="4176720" y="4818240"/>
            <a:chExt cx="1641600" cy="628560"/>
          </a:xfrm>
        </p:grpSpPr>
        <p:sp>
          <p:nvSpPr>
            <p:cNvPr id="949" name="Rectangle 109"/>
            <p:cNvSpPr/>
            <p:nvPr/>
          </p:nvSpPr>
          <p:spPr>
            <a:xfrm>
              <a:off x="4590360" y="4818240"/>
              <a:ext cx="12279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Shape 2543"/>
            <p:cNvSpPr/>
            <p:nvPr/>
          </p:nvSpPr>
          <p:spPr>
            <a:xfrm>
              <a:off x="4176720" y="494964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1" name="Group 111"/>
          <p:cNvGrpSpPr/>
          <p:nvPr/>
        </p:nvGrpSpPr>
        <p:grpSpPr>
          <a:xfrm>
            <a:off x="6181560" y="4773600"/>
            <a:ext cx="1705320" cy="628560"/>
            <a:chOff x="6181560" y="4773600"/>
            <a:chExt cx="1705320" cy="628560"/>
          </a:xfrm>
        </p:grpSpPr>
        <p:sp>
          <p:nvSpPr>
            <p:cNvPr id="952" name="Rectangle 112"/>
            <p:cNvSpPr/>
            <p:nvPr/>
          </p:nvSpPr>
          <p:spPr>
            <a:xfrm>
              <a:off x="6658200" y="4773600"/>
              <a:ext cx="1228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Shape 2588"/>
            <p:cNvSpPr/>
            <p:nvPr/>
          </p:nvSpPr>
          <p:spPr>
            <a:xfrm>
              <a:off x="6181560" y="493704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82" y="12420"/>
                  </a:moveTo>
                  <a:cubicBezTo>
                    <a:pt x="16368" y="12420"/>
                    <a:pt x="15709" y="11694"/>
                    <a:pt x="15709" y="10800"/>
                  </a:cubicBezTo>
                  <a:cubicBezTo>
                    <a:pt x="15709" y="9906"/>
                    <a:pt x="16368" y="9180"/>
                    <a:pt x="17182" y="9180"/>
                  </a:cubicBezTo>
                  <a:cubicBezTo>
                    <a:pt x="17995" y="9180"/>
                    <a:pt x="18655" y="9906"/>
                    <a:pt x="18655" y="10800"/>
                  </a:cubicBezTo>
                  <a:cubicBezTo>
                    <a:pt x="18655" y="11694"/>
                    <a:pt x="17995" y="12420"/>
                    <a:pt x="17182" y="12420"/>
                  </a:cubicBezTo>
                  <a:moveTo>
                    <a:pt x="21109" y="10260"/>
                  </a:moveTo>
                  <a:lnTo>
                    <a:pt x="19587" y="10260"/>
                  </a:lnTo>
                  <a:cubicBezTo>
                    <a:pt x="19360" y="9028"/>
                    <a:pt x="18369" y="8100"/>
                    <a:pt x="17182" y="8100"/>
                  </a:cubicBezTo>
                  <a:cubicBezTo>
                    <a:pt x="15994" y="8100"/>
                    <a:pt x="15004" y="9028"/>
                    <a:pt x="14777" y="10260"/>
                  </a:cubicBezTo>
                  <a:lnTo>
                    <a:pt x="491" y="10260"/>
                  </a:lnTo>
                  <a:cubicBezTo>
                    <a:pt x="220" y="10260"/>
                    <a:pt x="0" y="10502"/>
                    <a:pt x="0" y="10800"/>
                  </a:cubicBezTo>
                  <a:cubicBezTo>
                    <a:pt x="0" y="11098"/>
                    <a:pt x="220" y="11340"/>
                    <a:pt x="491" y="11340"/>
                  </a:cubicBezTo>
                  <a:lnTo>
                    <a:pt x="14777" y="11340"/>
                  </a:lnTo>
                  <a:cubicBezTo>
                    <a:pt x="15004" y="12572"/>
                    <a:pt x="15994" y="13500"/>
                    <a:pt x="17182" y="13500"/>
                  </a:cubicBezTo>
                  <a:cubicBezTo>
                    <a:pt x="18369" y="13500"/>
                    <a:pt x="19360" y="12572"/>
                    <a:pt x="19587" y="11340"/>
                  </a:cubicBezTo>
                  <a:lnTo>
                    <a:pt x="21109" y="11340"/>
                  </a:lnTo>
                  <a:cubicBezTo>
                    <a:pt x="21380" y="11340"/>
                    <a:pt x="21600" y="11098"/>
                    <a:pt x="21600" y="10800"/>
                  </a:cubicBezTo>
                  <a:cubicBezTo>
                    <a:pt x="21600" y="10502"/>
                    <a:pt x="21380" y="10260"/>
                    <a:pt x="21109" y="10260"/>
                  </a:cubicBezTo>
                  <a:moveTo>
                    <a:pt x="5400" y="1080"/>
                  </a:moveTo>
                  <a:cubicBezTo>
                    <a:pt x="6214" y="1080"/>
                    <a:pt x="6873" y="1806"/>
                    <a:pt x="6873" y="2700"/>
                  </a:cubicBezTo>
                  <a:cubicBezTo>
                    <a:pt x="6873" y="3595"/>
                    <a:pt x="6214" y="4320"/>
                    <a:pt x="5400" y="4320"/>
                  </a:cubicBezTo>
                  <a:cubicBezTo>
                    <a:pt x="4586" y="4320"/>
                    <a:pt x="3927" y="3595"/>
                    <a:pt x="3927" y="2700"/>
                  </a:cubicBezTo>
                  <a:cubicBezTo>
                    <a:pt x="3927" y="1806"/>
                    <a:pt x="4586" y="1080"/>
                    <a:pt x="5400" y="1080"/>
                  </a:cubicBezTo>
                  <a:moveTo>
                    <a:pt x="491" y="3240"/>
                  </a:moveTo>
                  <a:lnTo>
                    <a:pt x="2995" y="3240"/>
                  </a:lnTo>
                  <a:cubicBezTo>
                    <a:pt x="3222" y="4472"/>
                    <a:pt x="4213" y="5400"/>
                    <a:pt x="5400" y="5400"/>
                  </a:cubicBezTo>
                  <a:cubicBezTo>
                    <a:pt x="6587" y="5400"/>
                    <a:pt x="7578" y="4472"/>
                    <a:pt x="7805" y="3240"/>
                  </a:cubicBezTo>
                  <a:lnTo>
                    <a:pt x="21109" y="3240"/>
                  </a:lnTo>
                  <a:cubicBezTo>
                    <a:pt x="21380" y="3240"/>
                    <a:pt x="21600" y="2999"/>
                    <a:pt x="21600" y="2700"/>
                  </a:cubicBezTo>
                  <a:cubicBezTo>
                    <a:pt x="21600" y="2402"/>
                    <a:pt x="21380" y="2160"/>
                    <a:pt x="21109" y="2160"/>
                  </a:cubicBezTo>
                  <a:lnTo>
                    <a:pt x="7805" y="2160"/>
                  </a:lnTo>
                  <a:cubicBezTo>
                    <a:pt x="7578" y="928"/>
                    <a:pt x="6587" y="0"/>
                    <a:pt x="5400" y="0"/>
                  </a:cubicBezTo>
                  <a:cubicBezTo>
                    <a:pt x="4213" y="0"/>
                    <a:pt x="3222" y="928"/>
                    <a:pt x="2995" y="2160"/>
                  </a:cubicBezTo>
                  <a:lnTo>
                    <a:pt x="491" y="2160"/>
                  </a:lnTo>
                  <a:cubicBezTo>
                    <a:pt x="220" y="2160"/>
                    <a:pt x="0" y="2402"/>
                    <a:pt x="0" y="2700"/>
                  </a:cubicBezTo>
                  <a:cubicBezTo>
                    <a:pt x="0" y="2999"/>
                    <a:pt x="220" y="3240"/>
                    <a:pt x="491" y="3240"/>
                  </a:cubicBezTo>
                  <a:moveTo>
                    <a:pt x="9327" y="20519"/>
                  </a:moveTo>
                  <a:cubicBezTo>
                    <a:pt x="8514" y="20519"/>
                    <a:pt x="7855" y="19794"/>
                    <a:pt x="7855" y="18899"/>
                  </a:cubicBezTo>
                  <a:cubicBezTo>
                    <a:pt x="7855" y="18005"/>
                    <a:pt x="8514" y="17279"/>
                    <a:pt x="9327" y="17279"/>
                  </a:cubicBezTo>
                  <a:cubicBezTo>
                    <a:pt x="10141" y="17279"/>
                    <a:pt x="10800" y="18005"/>
                    <a:pt x="10800" y="18899"/>
                  </a:cubicBezTo>
                  <a:cubicBezTo>
                    <a:pt x="10800" y="19794"/>
                    <a:pt x="10141" y="20519"/>
                    <a:pt x="9327" y="20519"/>
                  </a:cubicBezTo>
                  <a:moveTo>
                    <a:pt x="21109" y="18359"/>
                  </a:moveTo>
                  <a:lnTo>
                    <a:pt x="11732" y="18359"/>
                  </a:lnTo>
                  <a:cubicBezTo>
                    <a:pt x="11505" y="17127"/>
                    <a:pt x="10515" y="16199"/>
                    <a:pt x="9327" y="16199"/>
                  </a:cubicBezTo>
                  <a:cubicBezTo>
                    <a:pt x="8140" y="16199"/>
                    <a:pt x="7150" y="17127"/>
                    <a:pt x="6922" y="18359"/>
                  </a:cubicBezTo>
                  <a:lnTo>
                    <a:pt x="491" y="18359"/>
                  </a:lnTo>
                  <a:cubicBezTo>
                    <a:pt x="220" y="18359"/>
                    <a:pt x="0" y="18601"/>
                    <a:pt x="0" y="18899"/>
                  </a:cubicBezTo>
                  <a:cubicBezTo>
                    <a:pt x="0" y="19198"/>
                    <a:pt x="220" y="19439"/>
                    <a:pt x="491" y="19439"/>
                  </a:cubicBezTo>
                  <a:lnTo>
                    <a:pt x="6922" y="19439"/>
                  </a:lnTo>
                  <a:cubicBezTo>
                    <a:pt x="7150" y="20672"/>
                    <a:pt x="8140" y="21600"/>
                    <a:pt x="9327" y="21600"/>
                  </a:cubicBezTo>
                  <a:cubicBezTo>
                    <a:pt x="10515" y="21600"/>
                    <a:pt x="11505" y="20672"/>
                    <a:pt x="11732" y="19439"/>
                  </a:cubicBezTo>
                  <a:lnTo>
                    <a:pt x="21109" y="19439"/>
                  </a:lnTo>
                  <a:cubicBezTo>
                    <a:pt x="21380" y="19439"/>
                    <a:pt x="21600" y="19198"/>
                    <a:pt x="21600" y="18899"/>
                  </a:cubicBezTo>
                  <a:cubicBezTo>
                    <a:pt x="21600" y="18601"/>
                    <a:pt x="21380" y="18359"/>
                    <a:pt x="21109" y="18359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148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15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Box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15a25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7" name="Group 151"/>
          <p:cNvGrpSpPr/>
          <p:nvPr/>
        </p:nvGrpSpPr>
        <p:grpSpPr>
          <a:xfrm>
            <a:off x="0" y="3998880"/>
            <a:ext cx="12371400" cy="128520"/>
            <a:chOff x="0" y="3998880"/>
            <a:chExt cx="12371400" cy="128520"/>
          </a:xfrm>
        </p:grpSpPr>
        <p:sp>
          <p:nvSpPr>
            <p:cNvPr id="958" name="Rectangle 152"/>
            <p:cNvSpPr/>
            <p:nvPr/>
          </p:nvSpPr>
          <p:spPr>
            <a:xfrm>
              <a:off x="1603800" y="3998880"/>
              <a:ext cx="2094120" cy="128520"/>
            </a:xfrm>
            <a:prstGeom prst="rect">
              <a:avLst/>
            </a:prstGeom>
            <a:solidFill>
              <a:srgbClr val="ff8e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Rectangle 153"/>
            <p:cNvSpPr/>
            <p:nvPr/>
          </p:nvSpPr>
          <p:spPr>
            <a:xfrm>
              <a:off x="3698280" y="3998880"/>
              <a:ext cx="2133720" cy="128520"/>
            </a:xfrm>
            <a:prstGeom prst="rect">
              <a:avLst/>
            </a:prstGeom>
            <a:solidFill>
              <a:srgbClr val="56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Rectangle 154"/>
            <p:cNvSpPr/>
            <p:nvPr/>
          </p:nvSpPr>
          <p:spPr>
            <a:xfrm>
              <a:off x="5827320" y="3998880"/>
              <a:ext cx="2067120" cy="128520"/>
            </a:xfrm>
            <a:prstGeom prst="rect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Rectangle 155"/>
            <p:cNvSpPr/>
            <p:nvPr/>
          </p:nvSpPr>
          <p:spPr>
            <a:xfrm>
              <a:off x="7882560" y="3998880"/>
              <a:ext cx="2140560" cy="128520"/>
            </a:xfrm>
            <a:prstGeom prst="rect">
              <a:avLst/>
            </a:prstGeom>
            <a:solidFill>
              <a:srgbClr val="f15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Rectangle 156"/>
            <p:cNvSpPr/>
            <p:nvPr/>
          </p:nvSpPr>
          <p:spPr>
            <a:xfrm>
              <a:off x="0" y="3998880"/>
              <a:ext cx="1603800" cy="128520"/>
            </a:xfrm>
            <a:prstGeom prst="rect">
              <a:avLst/>
            </a:prstGeom>
            <a:solidFill>
              <a:srgbClr val="f15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Rectangle 157"/>
            <p:cNvSpPr/>
            <p:nvPr/>
          </p:nvSpPr>
          <p:spPr>
            <a:xfrm>
              <a:off x="10023480" y="3998880"/>
              <a:ext cx="2347920" cy="128520"/>
            </a:xfrm>
            <a:prstGeom prst="rect">
              <a:avLst/>
            </a:prstGeom>
            <a:solidFill>
              <a:srgbClr val="f15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4" name="Content Placeholder 2"/>
          <p:cNvSpPr/>
          <p:nvPr/>
        </p:nvSpPr>
        <p:spPr>
          <a:xfrm>
            <a:off x="793800" y="4479840"/>
            <a:ext cx="2127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 fontScale="94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56d78"/>
                </a:solidFill>
                <a:latin typeface="Source Sans Pro"/>
                <a:ea typeface="Open Sans"/>
              </a:rPr>
              <a:t>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Content Placeholder 2"/>
          <p:cNvSpPr/>
          <p:nvPr/>
        </p:nvSpPr>
        <p:spPr>
          <a:xfrm>
            <a:off x="2948040" y="4479840"/>
            <a:ext cx="20700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 fontScale="94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56d78"/>
                </a:solidFill>
                <a:latin typeface="Source Sans Pro"/>
                <a:ea typeface="Open Sans"/>
              </a:rPr>
              <a:t>TAR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Content Placeholder 2"/>
          <p:cNvSpPr/>
          <p:nvPr/>
        </p:nvSpPr>
        <p:spPr>
          <a:xfrm>
            <a:off x="5040360" y="4484520"/>
            <a:ext cx="21765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 fontScale="94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56d78"/>
                </a:solidFill>
                <a:latin typeface="Source Sans Pro"/>
                <a:ea typeface="Open Sans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Content Placeholder 2"/>
          <p:cNvSpPr/>
          <p:nvPr/>
        </p:nvSpPr>
        <p:spPr>
          <a:xfrm>
            <a:off x="7115040" y="4475160"/>
            <a:ext cx="2124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 fontScale="94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56d78"/>
                </a:solidFill>
                <a:latin typeface="Source Sans Pro"/>
                <a:ea typeface="Open Sans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Content Placeholder 2"/>
          <p:cNvSpPr/>
          <p:nvPr/>
        </p:nvSpPr>
        <p:spPr>
          <a:xfrm>
            <a:off x="9232920" y="4475160"/>
            <a:ext cx="2081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 fontScale="94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56d78"/>
                </a:solidFill>
                <a:latin typeface="Source Sans Pro"/>
                <a:ea typeface="Open Sans"/>
              </a:rPr>
              <a:t>LAY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9" name="Group 163"/>
          <p:cNvGrpSpPr/>
          <p:nvPr/>
        </p:nvGrpSpPr>
        <p:grpSpPr>
          <a:xfrm>
            <a:off x="1217520" y="1984320"/>
            <a:ext cx="1305000" cy="2340000"/>
            <a:chOff x="1217520" y="1984320"/>
            <a:chExt cx="1305000" cy="2340000"/>
          </a:xfrm>
        </p:grpSpPr>
        <p:grpSp>
          <p:nvGrpSpPr>
            <p:cNvPr id="970" name="Group 164"/>
            <p:cNvGrpSpPr/>
            <p:nvPr/>
          </p:nvGrpSpPr>
          <p:grpSpPr>
            <a:xfrm>
              <a:off x="1217520" y="1984320"/>
              <a:ext cx="1305000" cy="2340000"/>
              <a:chOff x="1217520" y="1984320"/>
              <a:chExt cx="1305000" cy="2340000"/>
            </a:xfrm>
          </p:grpSpPr>
          <p:grpSp>
            <p:nvGrpSpPr>
              <p:cNvPr id="971" name="Group 166"/>
              <p:cNvGrpSpPr/>
              <p:nvPr/>
            </p:nvGrpSpPr>
            <p:grpSpPr>
              <a:xfrm>
                <a:off x="1217520" y="1984320"/>
                <a:ext cx="1305000" cy="1802160"/>
                <a:chOff x="1217520" y="1984320"/>
                <a:chExt cx="1305000" cy="1802160"/>
              </a:xfrm>
            </p:grpSpPr>
            <p:sp>
              <p:nvSpPr>
                <p:cNvPr id="972" name="等腰三角形 51"/>
                <p:cNvSpPr/>
                <p:nvPr/>
              </p:nvSpPr>
              <p:spPr>
                <a:xfrm flipV="1">
                  <a:off x="1217520" y="2823120"/>
                  <a:ext cx="1305000" cy="963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15a25"/>
                    </a:gs>
                    <a:gs pos="100000">
                      <a:srgbClr val="ddd9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973" name="矩形 5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34880" y="1984320"/>
                  <a:ext cx="1079640" cy="1266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74" name="Rounded Rectangle 167"/>
              <p:cNvSpPr/>
              <p:nvPr/>
            </p:nvSpPr>
            <p:spPr>
              <a:xfrm>
                <a:off x="1558800" y="3738600"/>
                <a:ext cx="586080" cy="585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57050"/>
                  </a:gs>
                  <a:gs pos="100000">
                    <a:srgbClr val="e5450b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75" name="Shape 2778"/>
            <p:cNvSpPr/>
            <p:nvPr/>
          </p:nvSpPr>
          <p:spPr>
            <a:xfrm>
              <a:off x="1718640" y="388260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6" name="Group 170"/>
          <p:cNvGrpSpPr/>
          <p:nvPr/>
        </p:nvGrpSpPr>
        <p:grpSpPr>
          <a:xfrm>
            <a:off x="3325680" y="1984320"/>
            <a:ext cx="1305000" cy="2392560"/>
            <a:chOff x="3325680" y="1984320"/>
            <a:chExt cx="1305000" cy="2392560"/>
          </a:xfrm>
        </p:grpSpPr>
        <p:grpSp>
          <p:nvGrpSpPr>
            <p:cNvPr id="977" name="Group 171"/>
            <p:cNvGrpSpPr/>
            <p:nvPr/>
          </p:nvGrpSpPr>
          <p:grpSpPr>
            <a:xfrm>
              <a:off x="3325680" y="1984320"/>
              <a:ext cx="1305000" cy="2392560"/>
              <a:chOff x="3325680" y="1984320"/>
              <a:chExt cx="1305000" cy="2392560"/>
            </a:xfrm>
          </p:grpSpPr>
          <p:grpSp>
            <p:nvGrpSpPr>
              <p:cNvPr id="978" name="Group 173"/>
              <p:cNvGrpSpPr/>
              <p:nvPr/>
            </p:nvGrpSpPr>
            <p:grpSpPr>
              <a:xfrm>
                <a:off x="3325680" y="1984320"/>
                <a:ext cx="1305000" cy="1815120"/>
                <a:chOff x="3325680" y="1984320"/>
                <a:chExt cx="1305000" cy="1815120"/>
              </a:xfrm>
            </p:grpSpPr>
            <p:sp>
              <p:nvSpPr>
                <p:cNvPr id="979" name="等腰三角形 51"/>
                <p:cNvSpPr/>
                <p:nvPr/>
              </p:nvSpPr>
              <p:spPr>
                <a:xfrm flipV="1">
                  <a:off x="3325680" y="2828880"/>
                  <a:ext cx="1305000" cy="9702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8e6c"/>
                    </a:gs>
                    <a:gs pos="100000">
                      <a:srgbClr val="ddd9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980" name="矩形 5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443400" y="1984320"/>
                  <a:ext cx="1079640" cy="1272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1" name="Rounded Rectangle 174"/>
              <p:cNvSpPr/>
              <p:nvPr/>
            </p:nvSpPr>
            <p:spPr>
              <a:xfrm>
                <a:off x="3677760" y="3786840"/>
                <a:ext cx="586080" cy="590040"/>
              </a:xfrm>
              <a:custGeom>
                <a:avLst/>
                <a:gdLst>
                  <a:gd name="textAreaLeft" fmla="*/ 28440 w 586080"/>
                  <a:gd name="textAreaRight" fmla="*/ 557640 w 586080"/>
                  <a:gd name="textAreaTop" fmla="*/ 28440 h 590040"/>
                  <a:gd name="textAreaBottom" fmla="*/ 561600 h 590040"/>
                </a:gdLst>
                <a:ahLst/>
                <a:rect l="textAreaLeft" t="textAreaTop" r="textAreaRight" b="textAreaBottom"/>
                <a:pathLst>
                  <a:path w="21600" h="21746">
                    <a:moveTo>
                      <a:pt x="3600" y="0"/>
                    </a:moveTo>
                    <a:arcTo wR="3600" hR="3600" stAng="16200000" swAng="-5400000"/>
                    <a:lnTo>
                      <a:pt x="0" y="18146"/>
                    </a:lnTo>
                    <a:arcTo wR="3600" hR="3600" stAng="10800000" swAng="-5400000"/>
                    <a:lnTo>
                      <a:pt x="18000" y="2174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57050"/>
                  </a:gs>
                  <a:gs pos="100000">
                    <a:srgbClr val="e5450b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82" name="Shape 2748"/>
            <p:cNvSpPr/>
            <p:nvPr/>
          </p:nvSpPr>
          <p:spPr>
            <a:xfrm>
              <a:off x="3838320" y="39229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3" name="Group 177"/>
          <p:cNvGrpSpPr/>
          <p:nvPr/>
        </p:nvGrpSpPr>
        <p:grpSpPr>
          <a:xfrm>
            <a:off x="5451480" y="1984320"/>
            <a:ext cx="1305000" cy="2332080"/>
            <a:chOff x="5451480" y="1984320"/>
            <a:chExt cx="1305000" cy="2332080"/>
          </a:xfrm>
        </p:grpSpPr>
        <p:grpSp>
          <p:nvGrpSpPr>
            <p:cNvPr id="984" name="Group 178"/>
            <p:cNvGrpSpPr/>
            <p:nvPr/>
          </p:nvGrpSpPr>
          <p:grpSpPr>
            <a:xfrm>
              <a:off x="5451480" y="1984320"/>
              <a:ext cx="1305000" cy="2332080"/>
              <a:chOff x="5451480" y="1984320"/>
              <a:chExt cx="1305000" cy="2332080"/>
            </a:xfrm>
          </p:grpSpPr>
          <p:grpSp>
            <p:nvGrpSpPr>
              <p:cNvPr id="985" name="Group 180"/>
              <p:cNvGrpSpPr/>
              <p:nvPr/>
            </p:nvGrpSpPr>
            <p:grpSpPr>
              <a:xfrm>
                <a:off x="5451480" y="1984320"/>
                <a:ext cx="1305000" cy="1794600"/>
                <a:chOff x="5451480" y="1984320"/>
                <a:chExt cx="1305000" cy="1794600"/>
              </a:xfrm>
            </p:grpSpPr>
            <p:sp>
              <p:nvSpPr>
                <p:cNvPr id="986" name="等腰三角形 51"/>
                <p:cNvSpPr/>
                <p:nvPr/>
              </p:nvSpPr>
              <p:spPr>
                <a:xfrm flipV="1">
                  <a:off x="5451480" y="2819880"/>
                  <a:ext cx="1305000" cy="95868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6687c"/>
                    </a:gs>
                    <a:gs pos="100000">
                      <a:srgbClr val="ddd9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987" name="矩形 5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571000" y="1984320"/>
                  <a:ext cx="1079640" cy="1260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8" name="Rounded Rectangle 181"/>
              <p:cNvSpPr/>
              <p:nvPr/>
            </p:nvSpPr>
            <p:spPr>
              <a:xfrm>
                <a:off x="5803200" y="3733200"/>
                <a:ext cx="586080" cy="583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6c7a8b"/>
                  </a:gs>
                  <a:gs pos="100000">
                    <a:srgbClr val="485b71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89" name="Shape 2543"/>
            <p:cNvSpPr/>
            <p:nvPr/>
          </p:nvSpPr>
          <p:spPr>
            <a:xfrm>
              <a:off x="5981040" y="38793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0" name="Group 184"/>
          <p:cNvGrpSpPr/>
          <p:nvPr/>
        </p:nvGrpSpPr>
        <p:grpSpPr>
          <a:xfrm>
            <a:off x="7521480" y="1984320"/>
            <a:ext cx="1305000" cy="2340000"/>
            <a:chOff x="7521480" y="1984320"/>
            <a:chExt cx="1305000" cy="2340000"/>
          </a:xfrm>
        </p:grpSpPr>
        <p:grpSp>
          <p:nvGrpSpPr>
            <p:cNvPr id="991" name="Group 185"/>
            <p:cNvGrpSpPr/>
            <p:nvPr/>
          </p:nvGrpSpPr>
          <p:grpSpPr>
            <a:xfrm>
              <a:off x="7521480" y="1984320"/>
              <a:ext cx="1305000" cy="2340000"/>
              <a:chOff x="7521480" y="1984320"/>
              <a:chExt cx="1305000" cy="2340000"/>
            </a:xfrm>
          </p:grpSpPr>
          <p:grpSp>
            <p:nvGrpSpPr>
              <p:cNvPr id="992" name="Group 187"/>
              <p:cNvGrpSpPr/>
              <p:nvPr/>
            </p:nvGrpSpPr>
            <p:grpSpPr>
              <a:xfrm>
                <a:off x="7521480" y="1984320"/>
                <a:ext cx="1305000" cy="1802160"/>
                <a:chOff x="7521480" y="1984320"/>
                <a:chExt cx="1305000" cy="1802160"/>
              </a:xfrm>
            </p:grpSpPr>
            <p:sp>
              <p:nvSpPr>
                <p:cNvPr id="993" name="等腰三角形 51"/>
                <p:cNvSpPr/>
                <p:nvPr/>
              </p:nvSpPr>
              <p:spPr>
                <a:xfrm flipV="1">
                  <a:off x="7521480" y="2823120"/>
                  <a:ext cx="1305000" cy="963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44546a"/>
                    </a:gs>
                    <a:gs pos="100000">
                      <a:srgbClr val="ddd9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994" name="矩形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637760" y="1984320"/>
                  <a:ext cx="1079640" cy="1266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95" name="Rounded Rectangle 188"/>
              <p:cNvSpPr/>
              <p:nvPr/>
            </p:nvSpPr>
            <p:spPr>
              <a:xfrm>
                <a:off x="7888680" y="3738600"/>
                <a:ext cx="586080" cy="585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f6b7c"/>
                  </a:gs>
                  <a:gs pos="100000">
                    <a:srgbClr val="384961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96" name="Shape 2774"/>
            <p:cNvSpPr/>
            <p:nvPr/>
          </p:nvSpPr>
          <p:spPr>
            <a:xfrm>
              <a:off x="8050680" y="389196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7" name="Group 191"/>
          <p:cNvGrpSpPr/>
          <p:nvPr/>
        </p:nvGrpSpPr>
        <p:grpSpPr>
          <a:xfrm>
            <a:off x="9647280" y="1984320"/>
            <a:ext cx="1303200" cy="2340000"/>
            <a:chOff x="9647280" y="1984320"/>
            <a:chExt cx="1303200" cy="2340000"/>
          </a:xfrm>
        </p:grpSpPr>
        <p:grpSp>
          <p:nvGrpSpPr>
            <p:cNvPr id="998" name="Group 192"/>
            <p:cNvGrpSpPr/>
            <p:nvPr/>
          </p:nvGrpSpPr>
          <p:grpSpPr>
            <a:xfrm>
              <a:off x="9647280" y="1984320"/>
              <a:ext cx="1303200" cy="2340000"/>
              <a:chOff x="9647280" y="1984320"/>
              <a:chExt cx="1303200" cy="2340000"/>
            </a:xfrm>
          </p:grpSpPr>
          <p:grpSp>
            <p:nvGrpSpPr>
              <p:cNvPr id="999" name="Group 194"/>
              <p:cNvGrpSpPr/>
              <p:nvPr/>
            </p:nvGrpSpPr>
            <p:grpSpPr>
              <a:xfrm>
                <a:off x="9647280" y="1984320"/>
                <a:ext cx="1303200" cy="1802160"/>
                <a:chOff x="9647280" y="1984320"/>
                <a:chExt cx="1303200" cy="1802160"/>
              </a:xfrm>
            </p:grpSpPr>
            <p:sp>
              <p:nvSpPr>
                <p:cNvPr id="1000" name="等腰三角形 51"/>
                <p:cNvSpPr/>
                <p:nvPr/>
              </p:nvSpPr>
              <p:spPr>
                <a:xfrm flipV="1">
                  <a:off x="9647280" y="2823120"/>
                  <a:ext cx="1303200" cy="963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15a25"/>
                    </a:gs>
                    <a:gs pos="100000">
                      <a:srgbClr val="ddd9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1001" name="矩形 5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766080" y="1984320"/>
                  <a:ext cx="1078200" cy="1266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2" name="Rounded Rectangle 195"/>
              <p:cNvSpPr/>
              <p:nvPr/>
            </p:nvSpPr>
            <p:spPr>
              <a:xfrm>
                <a:off x="10012320" y="3738600"/>
                <a:ext cx="585360" cy="585720"/>
              </a:xfrm>
              <a:custGeom>
                <a:avLst/>
                <a:gdLst>
                  <a:gd name="textAreaLeft" fmla="*/ 28440 w 585360"/>
                  <a:gd name="textAreaRight" fmla="*/ 556920 w 585360"/>
                  <a:gd name="textAreaTop" fmla="*/ 28440 h 585720"/>
                  <a:gd name="textAreaBottom" fmla="*/ 557280 h 5857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3600" y="0"/>
                    </a:moveTo>
                    <a:arcTo wR="3600" hR="3600" stAng="16200000" swAng="-5400000"/>
                    <a:lnTo>
                      <a:pt x="0" y="18013"/>
                    </a:lnTo>
                    <a:arcTo wR="3600" hR="3600" stAng="10800000" swAng="-5400000"/>
                    <a:lnTo>
                      <a:pt x="18000" y="216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57050"/>
                  </a:gs>
                  <a:gs pos="100000">
                    <a:srgbClr val="e5450b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3" name="Shape 2784"/>
            <p:cNvSpPr/>
            <p:nvPr/>
          </p:nvSpPr>
          <p:spPr>
            <a:xfrm>
              <a:off x="10159200" y="387900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500"/>
                            </p:stCondLst>
                            <p:childTnLst>
                              <p:par>
                                <p:cTn id="5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4500"/>
                            </p:stCondLst>
                            <p:childTnLst>
                              <p:par>
                                <p:cTn id="5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500"/>
                            </p:stCondLst>
                            <p:childTnLst>
                              <p:par>
                                <p:cTn id="5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3T16:21:40Z</dcterms:created>
  <dc:creator>Sandra</dc:creator>
  <dc:description/>
  <dc:language>en-US</dc:language>
  <cp:lastModifiedBy>Sandra</cp:lastModifiedBy>
  <dcterms:modified xsi:type="dcterms:W3CDTF">2016-12-21T10:54:58Z</dcterms:modified>
  <cp:revision>95</cp:revision>
  <dc:subject/>
  <dc:title>PowerPoint Presentation</dc:title>
</cp:coreProperties>
</file>